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8832-A8F6-4DEA-A33B-01FBADD7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A7F1-A0AC-4F7E-99BA-2E3D83A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310E-DE6F-49CE-9AE6-66FD36D9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C082-2027-4187-A925-A2A7B726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E4B8-5C48-4DCB-8FF9-21157B50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DF5-6B67-4101-AAD2-C530A765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13C4-BDCB-4F3F-8EFD-EABB79D1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6159-0B73-4C59-97E3-08314B7C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F6B-FE6F-440E-84EC-8653A3C0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2E2D-5E90-43BF-8954-7E89FA84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1075-A74E-4FE3-9936-64842EA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E26A-CC67-4C25-B6C1-F761B056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C9F-9CC2-4730-8D60-58799EC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FAD8-4EDE-44B9-B786-0FB636F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39C0-C980-434D-A3F7-403E67AE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2542-613E-4382-B422-8EE30EBE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DB47-9C4C-4DE2-A9D9-9B2CB232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51F1-CAAD-49C5-A967-324A270D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3F0F-F819-4F0F-A932-AFB12F92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6335-80EA-435B-BC19-049B6A1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3520-EF1C-4400-9825-80E3C2FD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B49F-B42F-45FF-8E35-6728A1E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6A49-4239-4199-BC51-22C955D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91A3-F652-4D83-A5E1-B058D0E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4B8C-9C7F-4346-A6AD-3FE416C8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21" name="Picture 4" descr="blueicao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0" y="0"/>
            <a:ext cx="152388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11B-56E9-4125-ACD5-7E494F5DA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c/Satellite_modem_block_diagram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97800" cy="39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s-PE" sz="48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800"/>
            </a:br>
            <a:r>
              <a:rPr b="1" lang="es-PE" sz="4800" spc="-1" strike="noStrike" u="sng">
                <a:solidFill>
                  <a:srgbClr val="dfdef6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s-PE" sz="4400" spc="-1" strike="noStrike">
                <a:solidFill>
                  <a:srgbClr val="ccccff"/>
                </a:solidFill>
                <a:latin typeface="Arial"/>
              </a:rPr>
              <a:t>Red de Comunicaciones Fijas</a:t>
            </a:r>
            <a:br>
              <a:rPr sz="4400"/>
            </a:br>
            <a:r>
              <a:rPr b="1" lang="es-PE" sz="4400" spc="-1" strike="noStrike">
                <a:solidFill>
                  <a:srgbClr val="ccccff"/>
                </a:solidFill>
                <a:latin typeface="Arial"/>
              </a:rPr>
              <a:t>Regional</a:t>
            </a:r>
            <a:br>
              <a:rPr sz="4400"/>
            </a:br>
            <a:br>
              <a:rPr sz="4400"/>
            </a:br>
            <a:r>
              <a:rPr b="1" lang="es-PE" sz="4400" spc="-1" strike="noStrike">
                <a:solidFill>
                  <a:srgbClr val="ffcc00"/>
                </a:solidFill>
                <a:latin typeface="Arial"/>
              </a:rPr>
              <a:t>Tecnologías de Red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4360" y="580500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dfdef6"/>
                </a:solidFill>
                <a:latin typeface="Arial"/>
              </a:rPr>
              <a:t>Luis Ale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dfdef6"/>
                </a:solidFill>
                <a:latin typeface="Arial"/>
              </a:rPr>
              <a:t>Administrador de la REDD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fdef6"/>
                </a:solidFill>
                <a:latin typeface="Arial"/>
              </a:rPr>
              <a:t>Lima, </a:t>
            </a:r>
            <a:r>
              <a:rPr b="0" lang="es-PE" sz="1800" spc="-1" strike="noStrike">
                <a:solidFill>
                  <a:srgbClr val="dfdef6"/>
                </a:solidFill>
                <a:latin typeface="Arial"/>
              </a:rPr>
              <a:t>Perú - Marzo</a:t>
            </a:r>
            <a:r>
              <a:rPr b="0" lang="pt-BR" sz="1800" spc="-1" strike="noStrike">
                <a:solidFill>
                  <a:srgbClr val="dfdef6"/>
                </a:solidFill>
                <a:latin typeface="Arial"/>
              </a:rPr>
              <a:t>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2189160"/>
            <a:ext cx="8280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tegra enrutamiento, conmutación de paquetes y transporte mediante el etiquetado (labeled) de los paquete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iseñado para soportar encapsulamiento de diferentes  protocolos de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envío (forward) de paquetes está basado en la información etiqueta (label) la cual contiene la dirección destino así como CoS y Q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o se examina el contenido de los paqu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1891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apa 2 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5280" y="3011400"/>
            <a:ext cx="8424720" cy="27226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8245440" y="55198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ff"/>
                </a:solidFill>
                <a:latin typeface="Verdana"/>
              </a:rPr>
              <a:t>Cis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834920" y="1125000"/>
            <a:ext cx="108378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119664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1891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24840" cy="51040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466560" y="6524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lcatel-Luc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47640" y="4869000"/>
            <a:ext cx="57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8360" y="2189160"/>
            <a:ext cx="828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Aplicacione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nicast/Multicast IP 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raffic Engineering (TE) para análisis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Service (Q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VPN (Virtu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vate Network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ectividad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nel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 de Capa 2: FR, 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HDLC/PPP, Eth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V P N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360" y="227664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Basado en establecimiento de ‘túneles’ (tunnels) para crear ‘canales’ virtu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rotegido con técnicas de encriptación empleando protocolos de seguridad como IPSec (Internet Protocol Security) ó S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uede implementarse sobre redes púb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MPLS, 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904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76000" y="249228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acuerdo al domini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FDMA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Division Multiple Access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MA (Time Division Multiple A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MA (Code Division Multiple Access/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acuerdo al tipo de asign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PAMA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ent Assignment Multiple Access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 (Demand Assignment Multiple A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403280" y="1773000"/>
            <a:ext cx="69724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3512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70036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28400" y="1052640"/>
            <a:ext cx="84294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857160" y="171468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066680" y="1916280"/>
            <a:ext cx="7220160" cy="463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07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76000" y="2349000"/>
            <a:ext cx="7667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base a los tipos de acceso descritos se obtie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squemas combinados como FDMA – TDMA / DA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l cual es empleado en la REDDI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FDMA ó MF,  porque se emplean varias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portadoras en diferentes frecu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DMA, porque cada portadora tiene ‘slots’ que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se acceden en el dominio del tiem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AMA ó BoD, porque cada ‘slot’ es asignado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por demanda. También puede emplearse PAM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03280" y="1628640"/>
            <a:ext cx="697248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90400" y="907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76000" y="2349000"/>
            <a:ext cx="7667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ambién se clasifican los accesos de acuerdo al 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salida (Outbound) / entrada (Inbound) del N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DM / TDMA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la salida se emplea multiplex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el tiempo hacia todos los nodos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la red y en la entrada se tiene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cceso múltiple de algunos n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DMA / TDM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anto en la salida como en la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trada se tiene acceso múltiple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hacia o desde los nodos que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requieren establecer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03280" y="1628640"/>
            <a:ext cx="697248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90400" y="907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755640" y="1628640"/>
            <a:ext cx="697248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Técnicas de Mod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File:Satellite modem block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8049960" cy="26766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250920" y="22050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principal función de la modulación es transformar la ‘información’ (IR) en una señal de radio para transmisión y junto con la codificación determinar el ancho de banda (BW) a ocupar en el satél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2129400" y="89532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Cobertura geográf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7" descr="po00005_c"/>
          <p:cNvPicPr/>
          <p:nvPr/>
        </p:nvPicPr>
        <p:blipFill>
          <a:blip r:embed="rId1"/>
          <a:stretch/>
        </p:blipFill>
        <p:spPr>
          <a:xfrm>
            <a:off x="2050920" y="1644480"/>
            <a:ext cx="5545440" cy="501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55640" y="1196640"/>
            <a:ext cx="69724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Esquemas de Mod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1844640"/>
            <a:ext cx="889308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-Phase  Shift Ke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bit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i-Phase Shift Ke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bits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al-Phase Shift Ke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bits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Q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Quadrature Amplitude Mod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bits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1844640"/>
            <a:ext cx="838836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codificación está directamente asociada a técnicas de corrección de errores las cuales son esenciales en las comunicaciones satelit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bido principalmente a la potencia limitada de los satélites y al bajo nivel de C/N que llega a la estación recept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codificación FEC (Forward Error Correction) es un sistema de control de errores que añade en la transmisión una redundancia ‘artificial’ a un tren de datos para corregir en la recepción errores originados por el medio, ruido e inter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5640" y="1844640"/>
            <a:ext cx="83883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ipos de codificación FEC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Algebraic ó Block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volutional 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(con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Sequential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Viterbi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de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catenated 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, combina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squemas de codificación: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Block +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volut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urbo Coding,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entre los más eficiente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n la actualidad junto con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LD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5640" y="1844640"/>
            <a:ext cx="838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187280" y="2060640"/>
          <a:ext cx="69120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9120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8360" y="1844640"/>
            <a:ext cx="838836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ipos de codificación FEC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LDPC (Low Density Parity Check),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ódigo lineal de corrección de errore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 alta eficiencia empleado en el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stándar DVB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Adaptive 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, permite adaptación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lexible de los parámetros de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ransmisión a las condiciones de la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cepción (Ejm.: ‘fading’). Empleado en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estándar DVB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2048040"/>
            <a:ext cx="8604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FEC 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ntre los más usados se tien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volutional (Viterbi):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1/2, 2/3, 3/4, 5/6, 7/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Reed Solomon (RS):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188/204,  216/2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urbo: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1/3, 2/5, 1/2, 2/3, 3/4, 5/6, 6/7, 7/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LDPC: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1/4, 1/3, 2/5, 1/2, 3/5, 3/4, 5/6, 8/9, 9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     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Information Rate</a:t>
            </a: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1916280"/>
            <a:ext cx="86043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Fórmul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IR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SR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FEC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x (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1- OH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IR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Informa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SR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Symbol Rate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Bau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Modulation Factor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BPSK=1, QPSK=2,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8PSK=3, 16QAM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FEC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urbo Code Rate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 ó (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Viterbi Rate x RS Rate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OH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DMA OverHead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incluyendo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guard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IR , m&amp;FEC, Eb/No, Power, Bandwid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1916280"/>
            <a:ext cx="860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95280" y="2060640"/>
          <a:ext cx="8353440" cy="4165560"/>
        </p:xfrm>
        <a:graphic>
          <a:graphicData uri="http://schemas.openxmlformats.org/drawingml/2006/table">
            <a:tbl>
              <a:tblPr/>
              <a:tblGrid>
                <a:gridCol w="1103400"/>
                <a:gridCol w="1417680"/>
                <a:gridCol w="1150920"/>
                <a:gridCol w="1368360"/>
                <a:gridCol w="1368360"/>
                <a:gridCol w="1944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Modulation and FEC rate and FEC coding method</a:t>
                      </a:r>
                      <a:r>
                        <a:rPr b="0" lang="en-GB" sz="10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Minimum threshold Eb/No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(BER=10E-8)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Information rat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bit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Symbol rate.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per information bit rat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(*)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Occupied bandwidth Hz at   -10 dB points.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1.19 times the symbol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Allocated bandwidth Hz (suggested carrier to carrier spacing)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1.35 times the symbol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1/2 rate FEC Viterb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2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1/2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 Vit&amp;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9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21/44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3/4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3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7/8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4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-PSK 3/4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7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-QAM 3/4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1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-QAM 7/8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2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"/>
          <p:cNvSpPr/>
          <p:nvPr/>
        </p:nvSpPr>
        <p:spPr>
          <a:xfrm>
            <a:off x="395280" y="6308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*) No incluye O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IR , m&amp;FEC, Eb/No, Power, Bandwid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8360" y="2133720"/>
            <a:ext cx="8207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sideraciones en la selección del tipo de modulación, FEC y del S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/L EIRP y G/T (satélite) en cada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odo de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b/No requerido en condiciones operativa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(incluyendo atenuación por lluv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/S EIRP requerido en cada nodo de la 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umplimiento de BW(sat) &lt; = D/L(s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916280"/>
            <a:ext cx="860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opología de la red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0036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714320" y="4187520"/>
            <a:ext cx="697212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Malla (Mes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Estrella (St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Anillo (R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Híbrida (Hybri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16000" y="220500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Determinada por los requerimientos de comunicaciones de los nodos de la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000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Medios de transmisió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70036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32000" y="4149360"/>
            <a:ext cx="69724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Terr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Mix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9640" y="2205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riterios técnicos, económicos y de administración determinan el medio más conveniente a emplea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1844640"/>
            <a:ext cx="856908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dios comúnmente usados en redes terrest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ar trenzado de cob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S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 coaxial (CAT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Microondas (P-P, LMDS, WiM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ra óptica (Broadband Trun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844640"/>
            <a:ext cx="810072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os primeros tres medios son principalmente empleados para el acceso local, también denominado como acceso de la ‘última milla’ (last mile) a una red. En algunos casos se emplea también acceso com fi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cable de fibra óptica es comúnmente empleado como medio de transporte de alta capacidad sirviendo como columna vertebral de transmisión (backbone) de un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1628640"/>
            <a:ext cx="82803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establecimiento de una red terrestre regional implica el uso del medio de fibra óptica como ‘backbone’ para conectar a los nodos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arrendamiento o compra de capacidad en ‘fibra oscura’ (sin modulación o transmisión sobre fibra) a los operadores internacionales no sería viable por el costo en inversión de equipos de transmisión versus capa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arrendamiento de circuitos ‘clear channel’ (sin protocolo) sobre fibra no está siendo ofrecido por los operadores público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1628640"/>
            <a:ext cx="82803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or otro lado, las velocidades de acceso a Internet en los últimos años se ha venido incrementando y por el contrario los costos de acceso han venido disminuyendo.  Parámetros a tener en cuenta para la evaluación del servicio de acceso a Inter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tardo o lat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Velocidades mínimas upload/down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Valor de ‘oversubscription’ (1:N)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5600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Redes Privada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2189160"/>
            <a:ext cx="82803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Siguien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o anterior, la implementación de una red privada terrestre regional estaría basada en el servicio y tecnología de un operador público regional para redes priv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ecnologías más empleadas por lo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operadores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de telecomun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MPLS (MultiProtocol Label Swit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VPN (Virtual Private Net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2:07:54Z</dcterms:created>
  <dc:creator>Luis Alejos</dc:creator>
  <dc:description/>
  <dc:language>en-US</dc:language>
  <cp:lastModifiedBy>Luis Alejos</cp:lastModifiedBy>
  <dcterms:modified xsi:type="dcterms:W3CDTF">2011-03-10T18:55:57Z</dcterms:modified>
  <cp:revision>109</cp:revision>
  <dc:subject/>
  <dc:title>SH 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chivedDocumentsProperties">
    <vt:lpwstr>9642</vt:lpwstr>
  </property>
  <property fmtid="{D5CDD505-2E9C-101B-9397-08002B2CF9AE}" pid="3" name="Category">
    <vt:lpwstr>12</vt:lpwstr>
  </property>
  <property fmtid="{D5CDD505-2E9C-101B-9397-08002B2CF9AE}" pid="4" name="DocumentName">
    <vt:lpwstr>Tecnologías_Redes.pps</vt:lpwstr>
  </property>
  <property fmtid="{D5CDD505-2E9C-101B-9397-08002B2CF9AE}" pid="5" name="Language">
    <vt:lpwstr>Spanish</vt:lpwstr>
  </property>
  <property fmtid="{D5CDD505-2E9C-101B-9397-08002B2CF9AE}" pid="6" name="LongTitle">
    <vt:lpwstr>SH01 Red de comunicaciones fija regional - Tecnología de redes</vt:lpwstr>
  </property>
  <property fmtid="{D5CDD505-2E9C-101B-9397-08002B2CF9AE}" pid="7" name="Presenter">
    <vt:lpwstr>Secretaría</vt:lpwstr>
  </property>
  <property fmtid="{D5CDD505-2E9C-101B-9397-08002B2CF9AE}" pid="8" name="Revised">
    <vt:lpwstr>0</vt:lpwstr>
  </property>
  <property fmtid="{D5CDD505-2E9C-101B-9397-08002B2CF9AE}" pid="9" name="Title1">
    <vt:lpwstr>.</vt:lpwstr>
  </property>
  <property fmtid="{D5CDD505-2E9C-101B-9397-08002B2CF9AE}" pid="10" name="Title2">
    <vt:lpwstr>.</vt:lpwstr>
  </property>
  <property fmtid="{D5CDD505-2E9C-101B-9397-08002B2CF9AE}" pid="11" name="WorkflowCreationPath">
    <vt:lpwstr>f4ee43e6-5d50-4592-8054-dac6973e101c,4;f4ee43e6-5d50-4592-8054-dac6973e101c,4;f4ee43e6-5d50-4592-8054-dac6973e101c,5;f4ee43e6-5d50-4592-8054-dac6973e101c,5;f4ee43e6-5d50-4592-8054-dac6973e101c,5;f4ee43e6-5d50-4592-8054-dac6973e101c,5;f4ee43e6-5d50-4592-80</vt:lpwstr>
  </property>
  <property fmtid="{D5CDD505-2E9C-101B-9397-08002B2CF9AE}" pid="12" name="a">
    <vt:lpwstr>582</vt:lpwstr>
  </property>
  <property fmtid="{D5CDD505-2E9C-101B-9397-08002B2CF9AE}" pid="13" name="aaa">
    <vt:lpwstr>1</vt:lpwstr>
  </property>
  <property fmtid="{D5CDD505-2E9C-101B-9397-08002B2CF9AE}" pid="14" name="acro">
    <vt:lpwstr>REDDIG14</vt:lpwstr>
  </property>
  <property fmtid="{D5CDD505-2E9C-101B-9397-08002B2CF9AE}" pid="15" name="cat">
    <vt:lpwstr>13. Presentation</vt:lpwstr>
  </property>
</Properties>
</file>