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17C9-3588-455F-83D7-D73F08E8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3602-BDFC-4927-8245-0F679AC3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279F-DBF2-4B1A-ADEE-24B97B94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ABD2-CC7D-4DFD-A189-BE89218D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192B-630D-4923-A59C-8FE81E53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9487-5012-4CEF-A0D0-2857BB44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A3B3-B01F-43C2-AF32-024B9207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BDE4-FA13-483D-B3B8-981939C6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216F-B5E0-4B0B-95F9-14CEBC64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FD99-5A4B-4CCA-8366-2BDEC001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9096-B275-498A-91BD-29B35429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8B36-EC23-4C4F-A91D-98DBE551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5AEF-4E01-4F9B-AE04-34912BA5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5FDD-7BDB-466B-9495-8466CB57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0CBF-E7E8-493F-BCEE-ECD40547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39B7-A945-4B58-8D33-89F49009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C6F4-10F0-4F82-8BAD-5FBDF6CE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3810-5B2E-4E17-9250-40FEE9E1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F539-BE6A-4EEA-B776-256A06C3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93C6-B71A-40AF-AC6B-1F9E6F6E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04FE-5A02-4B53-9EB1-8FB97EFB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F243-C567-48DE-9651-931BEA5B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2868-9741-43D9-9692-D4A123FC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2F9D-B615-426E-A166-F0C0C25D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5988-3A43-4FB9-A1DA-A5FA6D45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221" name="Picture 4" descr="blueicao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0" y="0"/>
            <a:ext cx="152388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3577-1A53-434E-A767-84EBA00135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c/Satellite_modem_block_diagram.pn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497800" cy="39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s-PE" sz="48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800"/>
            </a:br>
            <a:r>
              <a:rPr b="1" lang="es-PE" sz="4800" spc="-1" strike="noStrike" u="sng">
                <a:solidFill>
                  <a:srgbClr val="dfdef6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lang="es-PE" sz="4400" spc="-1" strike="noStrike">
                <a:solidFill>
                  <a:srgbClr val="ccccff"/>
                </a:solidFill>
                <a:latin typeface="Arial"/>
              </a:rPr>
              <a:t>Red de Comunicaciones Fijas</a:t>
            </a:r>
            <a:br>
              <a:rPr sz="4400"/>
            </a:br>
            <a:r>
              <a:rPr b="1" lang="es-PE" sz="4400" spc="-1" strike="noStrike">
                <a:solidFill>
                  <a:srgbClr val="ccccff"/>
                </a:solidFill>
                <a:latin typeface="Arial"/>
              </a:rPr>
              <a:t>Regional</a:t>
            </a:r>
            <a:br>
              <a:rPr sz="4400"/>
            </a:br>
            <a:br>
              <a:rPr sz="4400"/>
            </a:br>
            <a:r>
              <a:rPr b="1" lang="es-PE" sz="4400" spc="-1" strike="noStrike">
                <a:solidFill>
                  <a:srgbClr val="ffcc00"/>
                </a:solidFill>
                <a:latin typeface="Arial"/>
              </a:rPr>
              <a:t>Tecnologías de Red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84360" y="580500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dfdef6"/>
                </a:solidFill>
                <a:latin typeface="Arial"/>
              </a:rPr>
              <a:t>Luis Alej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dfdef6"/>
                </a:solidFill>
                <a:latin typeface="Arial"/>
              </a:rPr>
              <a:t>Administrador de la REDD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dfdef6"/>
                </a:solidFill>
                <a:latin typeface="Arial"/>
              </a:rPr>
              <a:t>Lima, </a:t>
            </a:r>
            <a:r>
              <a:rPr b="0" lang="es-PE" sz="1800" spc="-1" strike="noStrike">
                <a:solidFill>
                  <a:srgbClr val="dfdef6"/>
                </a:solidFill>
                <a:latin typeface="Arial"/>
              </a:rPr>
              <a:t>Perú - Marzo</a:t>
            </a:r>
            <a:r>
              <a:rPr b="0" lang="pt-BR" sz="1800" spc="-1" strike="noStrike">
                <a:solidFill>
                  <a:srgbClr val="dfdef6"/>
                </a:solidFill>
                <a:latin typeface="Arial"/>
              </a:rPr>
              <a:t>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M P L 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8360" y="2189160"/>
            <a:ext cx="8280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tegra enrutamiento, conmutación de paquetes y transporte mediante el etiquetado (labeled) de los paquete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iseñado para soportar encapsulamiento de diferentes  protocolos de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envío (forward) de paquetes está basado en la información etiqueta (label) la cual contiene la dirección destino así como CoS y Q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o se examina el contenido de los paqu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M P L 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21891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apa 2 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95280" y="3011400"/>
            <a:ext cx="8424720" cy="27226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8245440" y="551988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ff"/>
                </a:solidFill>
                <a:latin typeface="Verdana"/>
              </a:rPr>
              <a:t>Cis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834920" y="1125000"/>
            <a:ext cx="108378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M P L 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119664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21891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124840" cy="51040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466560" y="652464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ccff"/>
                </a:solidFill>
                <a:latin typeface="Arial"/>
              </a:rPr>
              <a:t>Alcatel-Luc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47640" y="4869000"/>
            <a:ext cx="576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M P L 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8360" y="2189160"/>
            <a:ext cx="8280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Aplicaciones princip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Unicast/Multicast IP 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raffic Engineering (TE) para análisis t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Service (Q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VPN (Virtu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vate Network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onectividad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nel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 de Capa 2: FR, 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HDLC/PPP, Eth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V P N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8360" y="2276640"/>
            <a:ext cx="8280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Basado en establecimiento de ‘túneles’ (tunnels) para crear ‘canales’ virtu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rotegido con técnicas de encriptación empleando protocolos de seguridad como IPSec (Internet Protocol Security) ó S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uede implementarse sobre redes públ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MPLS, 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904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76000" y="2492280"/>
            <a:ext cx="76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e acuerdo al domini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FDMA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Division Multiple Access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MA (Time Division Multiple Ac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MA (Code Division Multiple Access/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e acuerdo al tipo de asign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PAMA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ent Assignment Multiple Access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 (Demand Assignment Multiple Acc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403280" y="1773000"/>
            <a:ext cx="69724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1" lang="es-PE" sz="3600" spc="-1" strike="noStrike">
                <a:solidFill>
                  <a:srgbClr val="ccccff"/>
                </a:solidFill>
                <a:latin typeface="Arial"/>
              </a:rPr>
              <a:t>Acceso al 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16000" y="22050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3512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700360" y="2216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28400" y="1052640"/>
            <a:ext cx="84294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1" lang="es-PE" sz="36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1" lang="es-PE" sz="36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1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1" lang="es-PE" sz="3600" spc="-1" strike="noStrike">
                <a:solidFill>
                  <a:srgbClr val="ccccff"/>
                </a:solidFill>
                <a:latin typeface="Arial"/>
              </a:rPr>
              <a:t>Acceso al 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857160" y="171468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066680" y="1916280"/>
            <a:ext cx="7220160" cy="463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079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76000" y="2349000"/>
            <a:ext cx="7667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 base a los tipos de acceso descritos se obtie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squemas combinados como FDMA – TDMA / DA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l cual es empleado en la REDDI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FDMA ó MF,  porque se emplean varias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portadoras en diferentes frecu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DMA, porque cada portadora tiene ‘slots’ que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se acceden en el dominio del tiem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AMA ó BoD, porque cada ‘slot’ es asignado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por demanda. También puede emplearse PAM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03280" y="1628640"/>
            <a:ext cx="697248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1" lang="es-PE" sz="3600" spc="-1" strike="noStrike">
                <a:solidFill>
                  <a:srgbClr val="ccccff"/>
                </a:solidFill>
                <a:latin typeface="Arial"/>
              </a:rPr>
              <a:t>Acceso al 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16000" y="22050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90400" y="9079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76000" y="2349000"/>
            <a:ext cx="7667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ambién se clasifican los accesos de acuerdo al 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e salida (Outbound) / entrada (Inbound) del N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DM / TDMA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 la salida se emplea multiplex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 el tiempo hacia todos los nodos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de la red y en la entrada se tiene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acceso múltiple de algunos n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DMA / TDMA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tanto en la salida como en la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entrada se tiene acceso múltiple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hacia o desde los nodos que 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requieren establecer comun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03280" y="1628640"/>
            <a:ext cx="697248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1" lang="es-PE" sz="3600" spc="-1" strike="noStrike">
                <a:solidFill>
                  <a:srgbClr val="ccccff"/>
                </a:solidFill>
                <a:latin typeface="Arial"/>
              </a:rPr>
              <a:t>Acceso al 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16000" y="22050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90400" y="9079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755640" y="1628640"/>
            <a:ext cx="697248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Técnicas de Modu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16000" y="22050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Picture 2" descr="File:Satellite modem block diagra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8049960" cy="26766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250920" y="22050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principal función de la modulación es transformar la ‘información’ (IR) en una señal de radio para transmisión y junto con la codificación determinar el ancho de banda (BW) a ocupar en el satél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2129400" y="895320"/>
            <a:ext cx="531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Cobertura geográf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7" descr="po00005_c"/>
          <p:cNvPicPr/>
          <p:nvPr/>
        </p:nvPicPr>
        <p:blipFill>
          <a:blip r:embed="rId1"/>
          <a:stretch/>
        </p:blipFill>
        <p:spPr>
          <a:xfrm>
            <a:off x="2050920" y="1644480"/>
            <a:ext cx="5545440" cy="501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55640" y="1196640"/>
            <a:ext cx="69724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Esquemas de Modul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0920" y="1844640"/>
            <a:ext cx="8893080" cy="48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-Phase  Shift Ke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bit por símb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dri-Phase Shift Ke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bits por símb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al-Phase Shift Ke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bits por símb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Q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 Quadrature Amplitude Mod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bits por símbo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8360" y="1844640"/>
            <a:ext cx="838836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codificación está directamente asociada a técnicas de corrección de errores las cuales son esenciales en las comunicaciones satelit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ebido principalmente a la potencia limitada de los satélites y al bajo nivel de C/N que llega a la estación recept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codificación FEC (Forward Error Correction) es un sistema de control de errores que añade en la transmisión una redundancia ‘artificial’ a un tren de datos para corregir en la recepción errores originados por el medio, ruido e inter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55640" y="1844640"/>
            <a:ext cx="838836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ipos de codificación FEC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Algebraic ó Block 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Convolutional Cod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(con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Sequential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Viterbi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decod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Concatenated Cod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, combina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squemas de codificación: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Block +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Convolut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Turbo Coding,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entre los más eficientes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n la actualidad junto con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LD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55640" y="1844640"/>
            <a:ext cx="838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187280" y="2060640"/>
          <a:ext cx="69120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60640"/>
                    <a:ext cx="69120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68360" y="1844640"/>
            <a:ext cx="838836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ipos de codificación FEC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LDPC (Low Density Parity Check),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ódigo lineal de corrección de errores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e alta eficiencia empleado en el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stándar DVB-S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Adaptive Coding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, permite adaptación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lexible de los parámetros de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ransmisión a las condiciones de la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cepción (Ejm.: ‘fading’). Empleado en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estándar DVB-S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Codificación y Corrección de Erro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2048040"/>
            <a:ext cx="8604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FEC R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ntre los más usados se tien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Convolutional (Viterbi):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1/2, 2/3, 3/4, 5/6, 7/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Reed Solomon (RS):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188/204,  216/2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Turbo: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1/3, 2/5, 1/2, 2/3, 3/4, 5/6, 6/7, 7/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LDPC: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1/4, 1/3, 2/5, 1/2, 3/5, 3/4, 5/6, 8/9, 9/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                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Information Rate</a:t>
            </a: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1916280"/>
            <a:ext cx="860436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Fórmul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IR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SR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FEC</a:t>
            </a:r>
            <a:r>
              <a:rPr b="1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x (</a:t>
            </a:r>
            <a:r>
              <a:rPr b="1" lang="es-PE" sz="2800" spc="-1" strike="noStrike">
                <a:solidFill>
                  <a:srgbClr val="ff9900"/>
                </a:solidFill>
                <a:latin typeface="Arial"/>
              </a:rPr>
              <a:t>1- OH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IR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Informat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SR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Symbol Rate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Baud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 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Modulation Factor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BPSK=1, QPSK=2,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8PSK=3, 16QAM=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FEC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Turbo Code Rate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 ó (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Viterbi Rate x RS Rate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9900"/>
                </a:solidFill>
                <a:latin typeface="Arial"/>
              </a:rPr>
              <a:t>OH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TDMA OverHead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incluyendo </a:t>
            </a:r>
            <a:r>
              <a:rPr b="0" i="1" lang="es-PE" sz="2800" spc="-1" strike="noStrike">
                <a:solidFill>
                  <a:srgbClr val="ffffff"/>
                </a:solidFill>
                <a:latin typeface="Arial"/>
              </a:rPr>
              <a:t>guard b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IR , m&amp;FEC, Eb/No, Power, Bandwid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68360" y="2205000"/>
            <a:ext cx="820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1916280"/>
            <a:ext cx="860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95280" y="2060640"/>
          <a:ext cx="8353440" cy="4165560"/>
        </p:xfrm>
        <a:graphic>
          <a:graphicData uri="http://schemas.openxmlformats.org/drawingml/2006/table">
            <a:tbl>
              <a:tblPr/>
              <a:tblGrid>
                <a:gridCol w="1103400"/>
                <a:gridCol w="1417680"/>
                <a:gridCol w="1150920"/>
                <a:gridCol w="1368360"/>
                <a:gridCol w="1368360"/>
                <a:gridCol w="1944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Modulation and FEC rate and FEC coding method</a:t>
                      </a:r>
                      <a:r>
                        <a:rPr b="0" lang="en-GB" sz="10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Minimum threshold Eb/No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(BER=10E-8)</a:t>
                      </a:r>
                      <a:br>
                        <a:rPr sz="1200"/>
                      </a:b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Information rate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bit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Symbol rate.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per information bit rate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(*)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Occupied bandwidth Hz at   -10 dB points.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1.19 times the symbol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Allocated bandwidth Hz (suggested carrier to carrier spacing)</a:t>
                      </a:r>
                      <a:br>
                        <a:rPr sz="1200"/>
                      </a:br>
                      <a:r>
                        <a:rPr b="0" lang="en-GB" sz="12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1.35 times the symbol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1/2 rate FEC Viterb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2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1/2 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C Vit&amp;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9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4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21/44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1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4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3/4 rate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3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PSK 7/8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4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-PSK 3/4 rate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7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-QAM 3/4 rate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1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-QAM 7/8 rate FEC Turb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2 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e1e1"/>
                      </a:solidFill>
                    </a:lnL>
                    <a:lnR w="5760">
                      <a:solidFill>
                        <a:srgbClr val="e1e1e1"/>
                      </a:solidFill>
                    </a:lnR>
                    <a:lnT w="5760">
                      <a:solidFill>
                        <a:srgbClr val="e1e1e1"/>
                      </a:solidFill>
                    </a:lnT>
                    <a:lnB w="5760">
                      <a:solidFill>
                        <a:srgbClr val="e1e1e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"/>
          <p:cNvSpPr/>
          <p:nvPr/>
        </p:nvSpPr>
        <p:spPr>
          <a:xfrm>
            <a:off x="395280" y="6308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*) No incluye O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9040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 Satelital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94920" y="1196640"/>
            <a:ext cx="84978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 </a:t>
            </a:r>
            <a:r>
              <a:rPr b="0" lang="es-PE" sz="3600" spc="-1" strike="noStrike">
                <a:solidFill>
                  <a:srgbClr val="ccccff"/>
                </a:solidFill>
                <a:latin typeface="Arial"/>
              </a:rPr>
              <a:t>IR , m&amp;FEC, Eb/No, Power, Bandwid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8360" y="2133720"/>
            <a:ext cx="8207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onsideraciones en la selección del tipo de modulación, FEC y del S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D/L EIRP y G/T (satélite) en cada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odo de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b/No requerido en condiciones operativas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(incluyendo atenuación por lluv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/S EIRP requerido en cada nodo de la 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Cumplimiento de BW(sat) &lt; = D/L(s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042920" y="22050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1916280"/>
            <a:ext cx="860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opología de la red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00360" y="2216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714320" y="4187520"/>
            <a:ext cx="697212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Malla (Mes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Estrella (Sta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Anillo (R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Híbrida (Hybri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16000" y="2205000"/>
            <a:ext cx="75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Determinada por los requerimientos de comunicaciones de los nodos de la 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000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Medios de transmisió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700360" y="2216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132000" y="4149360"/>
            <a:ext cx="69724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Satél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Terres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Mix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9640" y="2205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riterios técnicos, económicos y de administración determinan el medio más conveniente a emplea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7636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1280" y="1844640"/>
            <a:ext cx="856908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dios comúnmente usados en redes terrest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ar trenzado de cob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S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ble coaxial (CAT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Microondas (P-P, LMDS, WiM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5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bra óptica (Broadband Trun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636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1844640"/>
            <a:ext cx="810072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os primeros tres medios son principalmente empleados para el acceso local, también denominado como acceso de la ‘última milla’ (last mile) a una red. En algunos casos se emplea también acceso com fib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cable de fibra óptica es comúnmente empleado como medio de transporte de alta capacidad sirviendo como columna vertebral de transmisión (backbone) de un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636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8360" y="1628640"/>
            <a:ext cx="828036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establecimiento de una red terrestre regional implica el uso del medio de fibra óptica como ‘backbone’ para conectar a los nodos de l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arrendamiento o compra de capacidad en ‘fibra oscura’ (sin modulación o transmisión sobre fibra) a los operadores internacionales no sería viable por el costo en inversión de equipos de transmisión versus capa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El arrendamiento de circuitos ‘clear channel’ (sin protocolo) sobre fibra no está siendo ofrecido por los operadores públicos intern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76360" y="1628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1628640"/>
            <a:ext cx="828036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Por otro lado, las velocidades de acceso a Internet en los últimos años se ha venido incrementando y por el contrario los costos de acceso han venido disminuyendo.  Parámetros a tener en cuenta para la evaluación del servicio de acceso a Interne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tardo o lat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Velocidades mínimas upload/down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Valor de ‘oversubscription’ (1:N)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22400" y="90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PE" sz="4000" spc="-1" strike="noStrike">
                <a:solidFill>
                  <a:srgbClr val="ffcc00"/>
                </a:solidFill>
                <a:latin typeface="Arial"/>
              </a:rPr>
              <a:t>Tecnologías Terrestre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56000" y="112500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Redes Privadas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94920" y="1341360"/>
            <a:ext cx="8497800" cy="35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2189160"/>
            <a:ext cx="82803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Siguien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lo anterior, la implementación de una red privada terrestre regional estaría basada en el servicio y tecnología de un operador público regional para redes priv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Tecnologías más empleadas por los 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operadores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 de telecomunic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MPLS (MultiProtocol Label Switc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VPN (Virtual Private Networ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2:07:54Z</dcterms:created>
  <dc:creator>Luis Alejos</dc:creator>
  <dc:description/>
  <dc:language>en-US</dc:language>
  <cp:lastModifiedBy>Luis Alejos</cp:lastModifiedBy>
  <dcterms:modified xsi:type="dcterms:W3CDTF">2011-03-10T18:55:57Z</dcterms:modified>
  <cp:revision>109</cp:revision>
  <dc:subject/>
  <dc:title>SH 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chivedDocumentsProperties">
    <vt:lpwstr>9642</vt:lpwstr>
  </property>
  <property fmtid="{D5CDD505-2E9C-101B-9397-08002B2CF9AE}" pid="3" name="Category">
    <vt:lpwstr>12</vt:lpwstr>
  </property>
  <property fmtid="{D5CDD505-2E9C-101B-9397-08002B2CF9AE}" pid="4" name="DocumentName">
    <vt:lpwstr>Tecnologías_Redes.pps</vt:lpwstr>
  </property>
  <property fmtid="{D5CDD505-2E9C-101B-9397-08002B2CF9AE}" pid="5" name="Language">
    <vt:lpwstr>Spanish</vt:lpwstr>
  </property>
  <property fmtid="{D5CDD505-2E9C-101B-9397-08002B2CF9AE}" pid="6" name="LongTitle">
    <vt:lpwstr>SH01 Red de comunicaciones fija regional - Tecnología de redes</vt:lpwstr>
  </property>
  <property fmtid="{D5CDD505-2E9C-101B-9397-08002B2CF9AE}" pid="7" name="Presenter">
    <vt:lpwstr>Secretaría</vt:lpwstr>
  </property>
  <property fmtid="{D5CDD505-2E9C-101B-9397-08002B2CF9AE}" pid="8" name="Revised">
    <vt:lpwstr>0</vt:lpwstr>
  </property>
  <property fmtid="{D5CDD505-2E9C-101B-9397-08002B2CF9AE}" pid="9" name="Title1">
    <vt:lpwstr>.</vt:lpwstr>
  </property>
  <property fmtid="{D5CDD505-2E9C-101B-9397-08002B2CF9AE}" pid="10" name="Title2">
    <vt:lpwstr>.</vt:lpwstr>
  </property>
  <property fmtid="{D5CDD505-2E9C-101B-9397-08002B2CF9AE}" pid="11" name="WorkflowCreationPath">
    <vt:lpwstr>f4ee43e6-5d50-4592-8054-dac6973e101c,4;f4ee43e6-5d50-4592-8054-dac6973e101c,4;f4ee43e6-5d50-4592-8054-dac6973e101c,5;f4ee43e6-5d50-4592-8054-dac6973e101c,5;f4ee43e6-5d50-4592-8054-dac6973e101c,5;f4ee43e6-5d50-4592-8054-dac6973e101c,5;f4ee43e6-5d50-4592-80</vt:lpwstr>
  </property>
  <property fmtid="{D5CDD505-2E9C-101B-9397-08002B2CF9AE}" pid="12" name="a">
    <vt:lpwstr>582</vt:lpwstr>
  </property>
  <property fmtid="{D5CDD505-2E9C-101B-9397-08002B2CF9AE}" pid="13" name="aaa">
    <vt:lpwstr>1</vt:lpwstr>
  </property>
  <property fmtid="{D5CDD505-2E9C-101B-9397-08002B2CF9AE}" pid="14" name="acro">
    <vt:lpwstr>REDDIG14</vt:lpwstr>
  </property>
  <property fmtid="{D5CDD505-2E9C-101B-9397-08002B2CF9AE}" pid="15" name="cat">
    <vt:lpwstr>13. Presentation</vt:lpwstr>
  </property>
</Properties>
</file>