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A45-EEF7-471D-B4B6-1353067C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9BE2-F4BA-4179-A379-7568F8BD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335-F44A-49D4-A7EE-20345C4D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45C-28B2-43E2-9F88-BC78E720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1A190-0F91-4D7F-9592-8CAA4380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11ED5-FB07-442A-8FC4-317B4614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85FC7-9A94-47E4-8526-9332F0FB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8A49F-144D-4057-96FF-AA68C5D7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E32E2-802E-4275-AEC3-57EF721E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65239-75FA-4CDC-8E47-7A3E1111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C39E8-EB3A-4A16-A867-D35020A3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E4F-F51F-434F-BFD7-6F628038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BFC9E-9DA9-45D5-95F3-C895D527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EAE81-B59B-4F05-8828-7AA1EE9E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1A80F-52D8-480F-9EC7-BDA22B3B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24238-C8E8-472F-A07D-23761FAC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E8274-789E-426F-ADCB-A2633519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734-A318-4CCF-B49A-827EEE7B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890-B838-48E6-97B6-862CBC51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FE8-3292-4AE8-BAD3-9D982EDC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05E-1539-48B2-BB54-ACD39ACE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D538-6F7A-40F3-B19B-78F2B648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430-70BB-467B-898C-F0A538EE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A126-40B2-43A4-943C-5706EA72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78EE-C265-4E75-BFAD-E224417A2D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617A-DAFD-4053-98E7-8723A50E14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VIATION IN TRANSITION:CHALLENGES AND OPPORTUNITIES OF LIBERALISATION</a:t>
            </a:r>
            <a:br>
              <a:rPr sz="4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SA’S EXPERI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R TRANSPORT LIBERAZATION PROGRAMME OF COMESA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28600" y="18288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the COMESA Treaty Article 87(3) a, c, d, e, g and I which provide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ption of common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eralization of air transport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monization of civil aviation reg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monization of airport facilitation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of CNS/ATM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monization  and co-ordination safety oversight and security program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GULATIONS FOR THE IMPLEMENTATION OF LIBERALISATION OF AIR TRANSPORT SERVICES – LEGAL NOTICE No. 2 OF 1999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0" y="259092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ulgated by Council in May 1999 and came into force October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opted a two phase implementation schedule and time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232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e 1  October 1999 – October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232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e 2  October 2000 – October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LEGAL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TICE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 No.2   --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’D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SE 1 (OCT 1999- OCT 2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movement of cargo and non-schd p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movement of schd pax up to 2 daily frequencies per city p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desig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ion of capacity/equipment restr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freedom traffic limited to 30% on sectors with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amp;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eedom services and unlimited on sectors without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amp;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eedom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LEGAL NOTICE No.2  ..cont’d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720" indent="-396720"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SE 2 (OCT 2000 – OCT 200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84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FOR FREE MOVEMENT OF INTRA-COMESA AIR TRANSPORT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TATUS OF IMPLEMENTATION OF LEGAL NOTICE No.2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20574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6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SA AIR TRANSPORT REGULATORY BOARD (ATRB) WAS ESTABLISHED -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6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ELVE MEMBER STATES HAVE IMPLEMENTED: BURUNDI, DJIBOUTI, EGYPT, ERITRIA, ETHIOPIA, KENYA, MADAGASCAR, RWANDA, UGANDA, SUDAN, ZAMBIA &amp; ZIMBAB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6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STATES EXPRESSED DIFFICULITIES  IN IMPLEMENTING AND WERE ALLOWED TO SEEK DERO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WAY FORWARD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TIES IN THE AREAS OF HARMONISATION, MONITORING AND PROTECTION OF CONSUMER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ITUTIONAL AND MONITORING MECHAN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ESA AIR TRANSPORT POLI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ING PROVI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ANDUM FOR COURT OF JUSTICE AND TRIBU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CITY BUILDING IN STAKE 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UMER PROTECTION REG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ULATORY HARMONIS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ORPORATION OF COUNCIL REGULATIONS INTO NATIONAL LEGAL AND ADMINISTRATIVE 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AND PROGRAMME TO COVER AVIATION SAFETY AND SECUR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IMPACT OF PHASE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0" y="20574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OF FLIGHT FREQUENCES BETWEEN CITY P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TION IN FARES DUE TO COMP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AIRLINE CO-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REVENUE TO AIRPORTS AND ATS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CONSUMER CHOICE DUE TO NEW AIRLINES ENTERING THE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-OPERATION WITH OTHER REC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A IS ALREADY WORKING JOINTY WITH EAC &amp; SADC ON COMPETION REG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A IS ALREADY EXPLORING WAYS TO CO-OPERATE WITH OTHER RECS: CEMAC, CENSAD, ECOWAS,IGAD, IOC, MRU, UMA, UEMOA,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IN CONCLUSION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wait a second for an animation of air links in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P OF COMES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5486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HISTORY OF COMES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58&amp;1960 – Meetings of Independent African States agreed to promote economic co-operation amongst themselves to combat fragmented economies and small market siz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65 – UNECA ministerial meeting in Lusaka, Zambia recommended creation of Economic Community of Eastern and Southern African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1 – Treaty establishing Preferential Trade Area (PTA) was signed. Treaty envisioned transformation of PTA into a Common Market in ten ye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2 – PTA Treaty was ratifi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STORY OF COMESA .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t’d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1920" y="14479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3 – Treaty establishing COMESA sig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4 – COMESA Treaty rat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integration in Eastern and Southern Africa is a logical systematic step by step process from Preferential Trade Area to a Common Market and then an Economic Commun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7816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MESA VIS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4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ttain a fully integrated internationally competitive regional economic community with high standards of living of its people and where goods, services, capital and labour move freely across b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769608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IMS AND OBJECTIVES OF COMES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ttain sustainable growth and development of the member s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promote joint development in all fields of economic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o-operate in the creation of an enabling environment for foreign, cross-border and domestic inves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o-operate in the promotion of peace, security and stability among member 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o-operate in strengthening the relations between COMESA and the rest of th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ontribute towards the establishment, progress and realization of the objectives of the African Economic Commun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238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DECISSION MAKING PROCESS OF COMES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51920" y="17521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cil of Mini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A Court Of Jus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tee of Governors of Central B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-Governmental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Committees(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ltative Committee of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ari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ESA IN CONTINENTAL CONTEX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TA/COMESA established under the auspices of Lagos Plan of Action and Final Act of Lagos which seek to establish African Economic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A like other RECs is building of African Economic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A Air Transport Liberalization Programme in line with Abuja Treaty(1994) – Articles 61 and 8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YAMOUSSOUKRO DECIS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moussoukro Decision based on Abuja Treaty and came into force 12 August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moussoukro Decision provides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al of restrictions on traffic rights including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ee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ation of tariffs without government appr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desig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a for market access for eligible air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 for safety an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5T16:18:39Z</dcterms:created>
  <dc:creator>AIR TRANSPORT</dc:creator>
  <dc:description/>
  <dc:language>en-US</dc:language>
  <cp:lastModifiedBy>Administrator</cp:lastModifiedBy>
  <dcterms:modified xsi:type="dcterms:W3CDTF">2003-03-22T14:11:06Z</dcterms:modified>
  <cp:revision>37</cp:revision>
  <dc:subject/>
  <dc:title>Slide 1</dc:title>
</cp:coreProperties>
</file>