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B7D8-E910-4054-B25B-AA4238EB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5D12-3904-49F1-86AA-2F8A250B5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8733-810D-4B95-9DA9-6BD7DC3CD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03D9-09A6-4358-871E-B47A298FB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265CC5-56BA-4E3D-B532-956E6C19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8A1F5A-54B7-4B0C-8E5A-EE0F6BCD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C2882-A79A-435F-9139-D4009DFF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980AB-2962-4968-9A39-DD1F59F7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52BF52-5E12-4596-89ED-2C40DB7F2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68513F-4548-4577-A8D4-69D094CF8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4034A-E805-42AC-9CE5-115C6F50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8316-F161-4178-9A80-215D2E165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32672-1973-4DE1-8FE8-7F1BD442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4320AF-56BC-4B97-995F-85351BAF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0B99B1-7263-4775-B9BC-A20D979E8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15035-70CC-4682-BC6F-75F3B354E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3556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99880" y="34290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7160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3556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699880" y="43448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66C947-01C7-4FE0-A3BE-83AB1EC3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37F7-9EEA-4FB4-A05E-A1B9C48E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6528-3BAE-475B-93D6-A437C136A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698A-02D8-4C00-9D2F-094A8DAF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1447920"/>
            <a:ext cx="82296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78CE-424D-4006-8EA8-E3208D00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BFAA-88AE-49E3-9E22-7B312DB9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51560" y="43448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F2B9-0A68-40E6-8454-D271ADCD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4290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3448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F5A6-9FCA-487B-99BA-7D988347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52DF-B15F-4F48-AEF3-A8588AC76EF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F352-A886-40D8-95E3-BFA28BA069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VIATION IN TRANSITION:CHALLENGES AND OPPORTUNITIES OF LIBERALISATION</a:t>
            </a:r>
            <a:br>
              <a:rPr sz="4800"/>
            </a:b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MESA’S EXPERIEN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IR TRANSPORT LIBERAZATION PROGRAMME OF COMESA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228600" y="1828800"/>
            <a:ext cx="9144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1000" indent="-3510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sed on the COMESA Treaty Article 87(3) a, c, d, e, g and I which provide fo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option of common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beralization of air transport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monization of civil aviation reg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monization of airport facilitation proced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lementation of CNS/ATM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6120" indent="-351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rmonization  and co-ordination safety oversight and security program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GULATIONS FOR THE IMPLEMENTATION OF LIBERALISATION OF AIR TRANSPORT SERVICES – LEGAL NOTICE No. 2 OF 1999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0" y="2590920"/>
            <a:ext cx="9144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1000" indent="-35100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mulgated by Council in May 1999 and came into force October 1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opted a two phase implementation schedule and time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232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e 1  October 1999 – October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22320" indent="-4572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e 2  October 2000 – October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LEGAL 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OTICE</a:t>
            </a: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 No.2   --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ONT’D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9144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1000" indent="-3510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SE 1 (OCT 1999- OCT 200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movement of cargo and non-schd p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 movement of schd pax up to 2 daily frequencies per city pai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ltiple design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imination of capacity/equipment restri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freedom traffic limited to 30% on sectors with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amp;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eedom services and unlimited on sectors without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&amp; 4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eedom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LEGAL NOTICE No.2  ..cont’d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0" y="23623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720" indent="-396720"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ASE 2 (OCT 2000 – OCT 200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68400" indent="-4572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VIDES FOR FREE MOVEMENT OF INTRA-COMESA AIR TRANSPORT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67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TATUS OF IMPLEMENTATION OF LEGAL NOTICE No.2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0" y="20574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6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SA AIR TRANSPORT REGULATORY BOARD (ATRB) WAS ESTABLISHED - 19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6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WELVE MEMBER STATES HAVE IMPLEMENTED: BURUNDI, DJIBOUTI, EGYPT, ERITRIA, ETHIOPIA, KENYA, MADAGASCAR, RWANDA, UGANDA, SUDAN, ZAMBIA &amp; ZIMBABW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6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STATES EXPRESSED DIFFICULITIES  IN IMPLEMENTING AND WERE ALLOWED TO SEEK DERO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WAY FORWARD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0" y="1523880"/>
            <a:ext cx="91440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1000" indent="-35100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ITIES IN THE AREAS OF HARMONISATION, MONITORING AND PROTECTION OF CONSUMERS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TITUTIONAL AND MONITORING MECHANIS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ESA AIR TRANSPORT POLI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LEMENTING PROVIS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ANDUM FOR COURT OF JUSTICE AND TRIBU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PACITY BUILDING IN STAKE 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UMER PROTECTION REGU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GULATORY HARMONIS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61840" indent="-3967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ORPORATION OF COUNCIL REGULATIONS INTO NATIONAL LEGAL AND ADMINISTRATIVE PROCED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AND PROGRAMME TO COVER AVIATION SAFETY AND SECURIT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0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IMPACT OF PHASE 1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0" y="2057400"/>
            <a:ext cx="9144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1000" indent="-351000"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OF FLIGHT FREQUENCES BETWEEN CITY PAI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TION IN FARES DUE TO COMPE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IN AIRLINE CO-OP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IN REVENUE TO AIRPORTS AND ATS PROVID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REASE IN CONSUMER CHOICE DUE TO NEW AIRLINES ENTERING THE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-OPERATION WITH OTHER REC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A IS ALREADY WORKING JOINTY WITH EAC &amp; SADC ON COMPETION REGUL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A IS ALREADY EXPLORING WAYS TO CO-OPERATE WITH OTHER RECS: CEMAC, CENSAD, ECOWAS,IGAD, IOC, MRU, UMA, UEMOA, et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543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IN CONCLUSION</a:t>
            </a:r>
            <a:br>
              <a:rPr sz="5400"/>
            </a:b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wait a second for an animation of air links in Afr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P OF COMESA</a:t>
            </a:r>
            <a:endParaRPr b="0" lang="en-US" sz="2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1752480"/>
            <a:ext cx="6400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2057400" y="914400"/>
            <a:ext cx="5486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HISTORY OF COMES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560" y="15238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58&amp;1960 – Meetings of Independent African States agreed to promote economic co-operation amongst themselves to combat fragmented economies and small market siz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65 – UNECA ministerial meeting in Lusaka, Zambia recommended creation of Economic Community of Eastern and Southern African Sta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1 – Treaty establishing Preferential Trade Area (PTA) was signed. Treaty envisioned transformation of PTA into a Common Market in ten ye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-396720">
              <a:lnSpc>
                <a:spcPct val="8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82 – PTA Treaty was ratifi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6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162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ISTORY OF COMESA ..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nt’d</a:t>
            </a:r>
            <a:endParaRPr b="0" lang="en-US" sz="2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51920" y="1447920"/>
            <a:ext cx="89917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1000" indent="-351000"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3 – Treaty establishing COMESA sign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994 – COMESA Treaty ratif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spcBef>
                <a:spcPts val="700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omic integration in Eastern and Southern Africa is a logical systematic step by step process from Preferential Trade Area to a Common Market and then an Economic Commun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510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8800" y="228600"/>
            <a:ext cx="67816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MESA VIS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85440" y="2133720"/>
            <a:ext cx="80773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 attain a fully integrated internationally competitive regional economic community with high standards of living of its people and where goods, services, capital and labour move freely across bor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920" y="151920"/>
            <a:ext cx="769608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579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AIMS AND OBJECTIVES OF COMES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0" y="2285640"/>
            <a:ext cx="9144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1000" indent="-3510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attain sustainable growth and development of the member s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promote joint development in all fields of economic ac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o-operate in the creation of an enabling environment for foreign, cross-border and domestic invest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o-operate in the promotion of peace, security and stability among member 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o-operate in strengthening the relations between COMESA and the rest of the wor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4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contribute towards the establishment, progress and realization of the objectives of the African Economic Commun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5100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2388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DECISSION MAKING PROCESS OF COMESA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51920" y="1752120"/>
            <a:ext cx="8991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ho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ncil of Mini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A Court Of Just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ittee of Governors of Central Ban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-Governmental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Committees(12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ultative Committee of Busin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retari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99840" y="0"/>
            <a:ext cx="75438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ESA IN CONTINENTAL CONTEXT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0" y="19051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1000" indent="-3510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TA/COMESA established under the auspices of Lagos Plan of Action and Final Act of Lagos which seek to establish African Economic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A like other RECs is building of African Economic Commun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lnSpc>
                <a:spcPct val="9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ESA Air Transport Liberalization Programme in line with Abuja Treaty(1994) – Articles 61 and 8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10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69608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YAMOUSSOUKRO DECISION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0" y="1904760"/>
            <a:ext cx="91440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51000" indent="-35100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moussoukro Decision based on Abuja Treaty and came into force 12 August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000" indent="-351000">
              <a:spcBef>
                <a:spcPts val="601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amoussoukro Decision provides f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val of restrictions on traffic rights including 5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reed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ation of tariffs without government approv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 design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a for market access for eligible air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0820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ndards for safety and secu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1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5T16:18:39Z</dcterms:created>
  <dc:creator>AIR TRANSPORT</dc:creator>
  <dc:description/>
  <dc:language>en-US</dc:language>
  <cp:lastModifiedBy>Administrator</cp:lastModifiedBy>
  <dcterms:modified xsi:type="dcterms:W3CDTF">2003-03-22T14:11:06Z</dcterms:modified>
  <cp:revision>37</cp:revision>
  <dc:subject/>
  <dc:title>Slide 1</dc:title>
</cp:coreProperties>
</file>