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E8D-7A38-4ED8-9D13-6BD52B171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A8AB-D3A0-4569-B167-75CE8C76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E2A6-BE96-4FCA-AC94-D6B06C7D1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91F0-723B-40FF-A4F2-ED99DEAFC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7A16E0-4719-4112-8B94-FCF89976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FB4F7-F252-41A0-BB46-A7E388F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81AEAF-0F7B-490F-8CBE-704CC6C44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8A6E9-1456-4419-A54C-DA8D993B2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A390F6-FF89-4385-B420-72158112B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DE168-BFA0-49C1-8208-C0B23124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2CE038-FB72-4A82-ACEB-DD588A782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1AB-CBCD-4D3D-B777-160697C15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A41E4E-51CE-47C1-B1D5-8B8308388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A3BAC0-1F81-49EF-80BC-8C4F5E24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CCE527-1860-4F00-8CEE-8351EC97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9E3AA-4C9B-4E9B-9B52-73341082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E88541-D31D-41BE-B180-DB75DA7D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E6F-670F-4FA5-A497-2A8AB0EF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C8FF-B4EB-42D9-B255-E33E1CE26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0F13C-A8D2-4A7D-BFB6-8931BD8A6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68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CDC-EC24-4AB0-9280-FE6E6BB0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BEF6-639D-4326-A457-ABE54CB3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FAC5-695D-49FF-B0F0-7979DC03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0CF3-DD85-42A6-AC18-915D93AE3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5.jpe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B7929-F958-4C3C-B6EE-BEB95B3EDA68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" name="" descr=""/>
          <p:cNvPicPr/>
          <p:nvPr/>
        </p:nvPicPr>
        <p:blipFill>
          <a:blip r:embed="rId9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26" name="" descr=""/>
          <p:cNvPicPr/>
          <p:nvPr/>
        </p:nvPicPr>
        <p:blipFill>
          <a:blip r:embed="rId10"/>
          <a:stretch/>
        </p:blipFill>
        <p:spPr>
          <a:xfrm>
            <a:off x="6527880" y="0"/>
            <a:ext cx="2616120" cy="97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4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8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70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7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A41DB-CE80-488B-8D9B-F72183CB41CF}" type="slidenum"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9144000" cy="914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527880" y="0"/>
            <a:ext cx="2616120" cy="97776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800" spc="-1" strike="noStrike">
                <a:solidFill>
                  <a:srgbClr val="e3e3ff"/>
                </a:solidFill>
                <a:latin typeface="Arial"/>
              </a:rPr>
              <a:t>status quo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in Global Aviation Regulation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viation in Transition: Challenges &amp; Opportunities of Liber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ichard Jan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stitute of Air &amp; Space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Faculty of La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cGill Univers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rch 23,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-US bilateral becomes basis for multilateral agre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ical mass achieved for shift to G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F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ac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tional trea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and differential treatment for developing countries (long phase-in if they want i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3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al competiti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U.S. discretionary antitrust immunity regime could be abandoned if foreign ownership and control were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ada’s special “avoidable cost” pricing test and proposed Transport Ministry merger review become unnecessary if foreign competition is allow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not to effect chang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-22860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arties agree that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following airline 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y be regarded as possible unfair competitive practices which may merit closer examin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) charging fares and rates on routes at levels which are,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in the aggregate, insufficient to cover the cos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providing the services to which they relat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) the addition of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excessi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pacity or frequency of servic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are sustained rather than temporary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have a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serious negative economic eff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n, or cause significant damage to, another airlin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) the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practic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 question reflect an apparent intent or have the probable effect, of crippling, excluding or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driving another airline from the marke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; 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) behaviour indicating an abuse of dominant position on the rou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2895480"/>
            <a:ext cx="4800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What’s wrong? Most are sinne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40520" y="3143160"/>
            <a:ext cx="210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Measured how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91160" y="3444840"/>
            <a:ext cx="15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560200" y="39942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 Prote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74000" y="480060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ractice? Protection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697520" y="509112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iven opening of markets for foreign competition, current general framework competition regimes would be largely adequate to address mergers and abuse of domin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Us between Competition Authorities are reasonable stopgap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TO now has a working group on trade and competition polic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hree absurdities can be scrapped sequentially –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ownership and control,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lateralism,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ff505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pecial competition ru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etition safeguards should not be seen as a condition precedent to reforming ownership and contr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4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final though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reaucracy defends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tatus 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long after the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qu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has lost its statu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urence Pe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he Peter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4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A useful definit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ffff99"/>
                </a:solidFill>
                <a:latin typeface="Arial"/>
              </a:rPr>
              <a:t>Status qu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you know, that is Latin for “the mess we’re in.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Mother Theresa, 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Ronald Reagan, 198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n Agenda for Sanity in a Basket Case Sector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and control restrictions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principal place of business &amp; regulatory control of AOC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bilateralism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multilateralism and migrate hard rights to the G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US" sz="3200" spc="-1" strike="noStrike">
                <a:solidFill>
                  <a:srgbClr val="ff5050"/>
                </a:solidFill>
                <a:latin typeface="Arial"/>
              </a:rPr>
              <a:t>scrap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toral domestic competition rules – </a:t>
            </a:r>
            <a:r>
              <a:rPr b="0" lang="en-US" sz="3200" spc="-1" strike="noStrike">
                <a:solidFill>
                  <a:srgbClr val="ffff99"/>
                </a:solidFill>
                <a:latin typeface="Arial"/>
              </a:rPr>
              <a:t>substitute general, eventually WTO-based, competition discipli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8001000" cy="4776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672280" y="2286000"/>
            <a:ext cx="25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63416"/>
                </a:solidFill>
                <a:latin typeface="Arial"/>
              </a:rPr>
              <a:t>STA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rot="16200000">
            <a:off x="1571040" y="39150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wnership &amp;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3095280" y="414396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ateral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6200000">
            <a:off x="4656960" y="3953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etition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According to Mr. Bisignani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wnership and control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tatus qu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a significant impediment to airline restructuring and sound management of global networ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Im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Wave goodbye to the flag carri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Can still control flags of conveni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S carriers need an end to restrictions even more tha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For the CRAF – or foreign crews – to be invoked as deal breakers is for the tail to wag the do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7"/>
          <a:stretch/>
        </p:blipFill>
        <p:spPr>
          <a:xfrm>
            <a:off x="5867280" y="308916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8"/>
          <a:stretch/>
        </p:blipFill>
        <p:spPr>
          <a:xfrm>
            <a:off x="6705720" y="3086280"/>
            <a:ext cx="1143000" cy="7617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9"/>
          <a:stretch/>
        </p:blipFill>
        <p:spPr>
          <a:xfrm>
            <a:off x="7924680" y="3089160"/>
            <a:ext cx="127980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9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evt="end">
                                        <p:tn val="108"/>
                                      </p:cond>
                                    </p:stCondLst>
                                  </p:cTn>
                                  <p:tgtEl>
                                    <p:spTgt spid="1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to effect change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tries should implement the ICAO Secretariat proposal in bilater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uropean Commission should secure a clear negotiation mand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-US negotiations should conclude in an agreement that scraps ownership and control restrictions and is open for signature by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99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Absurdity #2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lateralis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rcRect l="0" t="0" r="0" b="48049"/>
          <a:stretch/>
        </p:blipFill>
        <p:spPr>
          <a:xfrm>
            <a:off x="1066680" y="2971800"/>
            <a:ext cx="6566040" cy="29638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Scrapping the </a:t>
            </a:r>
            <a:r>
              <a:rPr b="0" i="1" lang="en-US" sz="4000" spc="-1" strike="noStrike">
                <a:solidFill>
                  <a:srgbClr val="e3e3ff"/>
                </a:solidFill>
                <a:latin typeface="Arial"/>
              </a:rPr>
              <a:t>status quo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n if ownership and control restrictions were scrapped, the patchwork of bilateralism would distort inves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657600" y="3505320"/>
            <a:ext cx="1676520" cy="304560"/>
          </a:xfrm>
          <a:prstGeom prst="leftRightArrow">
            <a:avLst>
              <a:gd name="adj1" fmla="val 50000"/>
              <a:gd name="adj2" fmla="val 109585"/>
            </a:avLst>
          </a:prstGeom>
          <a:solidFill>
            <a:srgbClr val="ff505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48120" y="4495680"/>
            <a:ext cx="2743200" cy="381240"/>
          </a:xfrm>
          <a:prstGeom prst="leftRightArrow">
            <a:avLst>
              <a:gd name="adj1" fmla="val 50000"/>
              <a:gd name="adj2" fmla="val 143243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14:29:28Z</dcterms:created>
  <dc:creator>**</dc:creator>
  <dc:description/>
  <dc:language>en-US</dc:language>
  <cp:lastModifiedBy>Administrator</cp:lastModifiedBy>
  <dcterms:modified xsi:type="dcterms:W3CDTF">2003-03-23T13:25:12Z</dcterms:modified>
  <cp:revision>10</cp:revision>
  <dc:subject/>
  <dc:title>Competition Safeguards, not Protection for Competi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