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1D1-A521-461D-BE27-220A243E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6AD-A4A5-49C3-8C68-0D52254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864-755C-4083-B98C-8220AE0F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9B6-4E3D-452A-A02D-F7EAD875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EC16E-871D-4F9E-9CF2-CEF9D2B4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30FEA-6FC2-4916-9FBB-8206D36B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AF725-EB1B-40B8-A6DC-76D5516D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579DE-A73B-498D-AA0E-31B9F0DC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2BA63-F7BA-443D-910C-FEC673F1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05B73-523B-4DFF-9531-EF57C08B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55CE3-91B8-4A1E-B505-2467645B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AAE-EC1E-40AA-95B5-96F2E1E8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92AF6-362F-4CE1-84FB-ED8F0574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DD18C-A874-4C14-89EF-4B94607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61909-3A37-496E-8176-308190EA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C8289-406E-4D8B-8E57-632E41CA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79E00-EE0B-4B3E-AD5A-35DB4ACA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D48-4183-4E55-97A5-530BD7A6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143-13B6-476F-A891-6A2892F6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E34-AE64-4AF2-9E2F-092FDE96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691-EF5D-43B2-977D-5074B439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F3D-9FC6-40EC-B490-5D99803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0AD-1B2F-4AF4-A5AE-8C4D5BE9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A49-39B3-460E-ADB1-6B26DFA5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B212-41A1-4136-80D6-3BE6DAE87788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9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26" name="" descr=""/>
          <p:cNvPicPr/>
          <p:nvPr/>
        </p:nvPicPr>
        <p:blipFill>
          <a:blip r:embed="rId10"/>
          <a:stretch/>
        </p:blipFill>
        <p:spPr>
          <a:xfrm>
            <a:off x="6527880" y="0"/>
            <a:ext cx="26161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9870-C626-49C5-B1BC-C8C38D3399D0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527880" y="0"/>
            <a:ext cx="2616120" cy="977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crapping the </a:t>
            </a:r>
            <a:r>
              <a:rPr b="0" i="1" lang="en-US" sz="4800" spc="-1" strike="noStrike">
                <a:solidFill>
                  <a:srgbClr val="e3e3ff"/>
                </a:solidFill>
                <a:latin typeface="Arial"/>
              </a:rPr>
              <a:t>status quo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in Global Aviation Regulatio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iation in Transition: Challenges &amp; Opportunities of Liber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ichard Ja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stitute of Air &amp; Space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aculty of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cGill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rch 23,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effect cha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-US bilateral becomes basis for multilateral agre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mass achieved for shift to G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F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and differential treatment for developing countries (long phase-in if they want 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bsurdity #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oral competition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rapping the </a:t>
            </a:r>
            <a:r>
              <a:rPr b="0" i="1" lang="en-US" sz="4000" spc="-1" strike="noStrike">
                <a:solidFill>
                  <a:srgbClr val="e3e3ff"/>
                </a:solidFill>
                <a:latin typeface="Arial"/>
              </a:rPr>
              <a:t>status qu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discretionary antitrust immunity regime could be abandoned if foreign ownership and control were allo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special “avoidable cost” pricing test and proposed Transport Ministry merger review become unnecessary if foreign competition is allo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not to effect chang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rties agree that the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following airline pract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be regarded as possible unfair competitive practices which may merit closer examin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charging fares and rates on routes at levels which are,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in the aggregate, insufficient to cover the co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providing the services to which they rela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the addition of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excess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pacity or frequency of servi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the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pract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question are sustained rather than tempora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) the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pract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question have a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serious negative economic eff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, or cause significant damage to, another airlin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) the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pract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question reflect an apparent intent or have the probable effect, of crippling, excluding or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driving another airline from the mark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) behaviour indicating an abuse of dominant position on the rou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895480"/>
            <a:ext cx="480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What’s wrong? Most are sinne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40520" y="31431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Measured h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91160" y="3444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practi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0200" y="399420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practice? Protectio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4000" y="480060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practice? Protectio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7520" y="50911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effect cha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opening of markets for foreign competition, current general framework competition regimes would be largely adequate to address mergers and abuse of dom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s between Competition Authorities are reasonable stopgap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TO now has a working group on trade and competition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ree absurdities can be scrapped sequentially –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505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wnership and control,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505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lateralism,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505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al competition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safeguards should not be seen as a condition precedent to reforming ownership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 final though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eaucracy defends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tus qu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ng after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lost its st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rence P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eter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 useful defini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99"/>
                </a:solidFill>
                <a:latin typeface="Arial"/>
              </a:rPr>
              <a:t>Status qu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you know, that is Latin for “the mess we’re in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ther Theresa, 19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onald Reagan, 19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 Agenda for Sanity in a Basket Case Secto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c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ership and control restrictions –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bstitute principal place of business &amp; regulatory control of AO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c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lateralism –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bstitute multilateralism and migrate hard rights to the G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cra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oral domestic competition rules –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bstitute general, eventually WTO-based, competition discip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477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72280" y="22860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Arial"/>
              </a:rPr>
              <a:t>STAG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571040" y="39150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wnership &amp;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095280" y="414396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ateral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4656960" y="3953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etition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ccording to Mr. Bisignan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bsurdity #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ership and control restr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rapping the </a:t>
            </a:r>
            <a:r>
              <a:rPr b="0" i="1" lang="en-US" sz="4000" spc="-1" strike="noStrike">
                <a:solidFill>
                  <a:srgbClr val="e3e3ff"/>
                </a:solidFill>
                <a:latin typeface="Arial"/>
              </a:rPr>
              <a:t>status qu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tus q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significant impediment to airline restructuring and sound management of global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ave goodbye to the flag carri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n still control flags of conven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 carriers need an end to restrictions even more tha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r the CRAF – or foreign crews – to be invoked as deal breakers is for the tail to wag the d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5867280" y="30891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705720" y="308628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7924680" y="3089160"/>
            <a:ext cx="1279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effect chang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should implement the ICAO Secretariat proposal in bilat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pean Commission should secure a clear negotiation man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-US negotiations should conclude in an agreement that scraps ownership and control restrictions and is open for signature by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bsurdity #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ter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0" r="0" b="48049"/>
          <a:stretch/>
        </p:blipFill>
        <p:spPr>
          <a:xfrm>
            <a:off x="1066680" y="2971800"/>
            <a:ext cx="6566040" cy="29638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rapping the </a:t>
            </a:r>
            <a:r>
              <a:rPr b="0" i="1" lang="en-US" sz="4000" spc="-1" strike="noStrike">
                <a:solidFill>
                  <a:srgbClr val="e3e3ff"/>
                </a:solidFill>
                <a:latin typeface="Arial"/>
              </a:rPr>
              <a:t>status qu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ownership and control restrictions were scrapped, the patchwork of bilateralism would distort inves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3505320"/>
            <a:ext cx="1676520" cy="304560"/>
          </a:xfrm>
          <a:prstGeom prst="leftRightArrow">
            <a:avLst>
              <a:gd name="adj1" fmla="val 50000"/>
              <a:gd name="adj2" fmla="val 109585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2743200" cy="381240"/>
          </a:xfrm>
          <a:prstGeom prst="leftRightArrow">
            <a:avLst>
              <a:gd name="adj1" fmla="val 50000"/>
              <a:gd name="adj2" fmla="val 14324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4:29:28Z</dcterms:created>
  <dc:creator>**</dc:creator>
  <dc:description/>
  <dc:language>en-US</dc:language>
  <cp:lastModifiedBy>Administrator</cp:lastModifiedBy>
  <dcterms:modified xsi:type="dcterms:W3CDTF">2003-03-23T13:25:12Z</dcterms:modified>
  <cp:revision>10</cp:revision>
  <dc:subject/>
  <dc:title>Competition Safeguards, not Protection for Competi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