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F021-057E-4161-9596-8A90D339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46A4-4D46-47E6-970F-CF62992E4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739-4B60-419C-9049-0B205A74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AA0-A7D5-4EE4-ABB4-644C232A7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2A64-282D-4E7B-82EC-AE882D99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32F88-CCCB-4B1D-913F-CA801250C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7BF9-0ECB-4202-B7DE-CF605A4D9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457AE-35C5-4F2E-A6F4-DECC1EEE5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2573-99E8-4601-8070-04E815FF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18751-887B-424E-B5E8-8817CE86B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47911-4E95-4E96-84D1-39E49A50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81AD-40AE-47F3-8D40-7F6CF530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1675A-C830-4792-B862-3E0C7E5E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7E99-A860-448E-A3DE-0C2563A0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83F3-305B-40DF-B7DC-C7DF5DD7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70DE1-B3B3-4D7D-A7E2-28357E09D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44915-F32C-4397-BC1A-E8D542E3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B42B-BD10-416B-8FC2-950B37C9B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EDE2-4C5F-4A75-9EFC-635903EAE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779-B095-4D82-AB5E-6CD4646C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6EC2-DEC6-4C42-9CE0-900F23CB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4EB6-BA5E-49FC-B705-7E8D5B2F5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6970-82E9-438B-B83B-CA43659C1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7E04-BD0E-4F67-8E78-57E2F783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603C-6DC1-43B1-A3DD-50062F06C87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" bIns="-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F8348-ACB1-4FCF-9450-01DC51AA3F61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Arial Narrow"/>
              </a:rPr>
              <a:t>The view of aviation labou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2285640" y="4114440"/>
            <a:ext cx="6629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hane Enr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viation Secret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ational Transport Workers' Fede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overcome prejudices about aviation un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echo the central role of labour in the economic futur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present a positive vision on behalf of aviation labour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Our objective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conomic stability, sustainability and orderly growth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right of all nations and stakeholders to shape their air service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intenance of a dynamic link between safety and securit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mart regulation for a changing industry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bcbcb"/>
                </a:solidFill>
                <a:latin typeface="Times New Roman"/>
              </a:rPr>
              <a:t>International Transport Workers’ Federation</a:t>
            </a:r>
            <a:endParaRPr b="0" lang="en-US" sz="32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2971800" y="41148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www.itf.org.u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aviation@itf.org.uk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ITF</dc:creator>
  <dc:description/>
  <dc:language>en-US</dc:language>
  <cp:lastModifiedBy>jgd</cp:lastModifiedBy>
  <dcterms:modified xsi:type="dcterms:W3CDTF">2003-03-23T15:52:55Z</dcterms:modified>
  <cp:revision>7</cp:revision>
  <dc:subject/>
  <dc:title>General</dc:title>
</cp:coreProperties>
</file>