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D01-C534-48E8-8C69-B1962C3D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555-B8DC-4811-861D-FF254837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73A-F563-481D-B58D-D4593830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F00-9E7C-4037-AEED-4A11854D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425-BD05-4E35-BE67-74A9AB37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45A3-B36B-40D6-8DC0-A6606B3E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B53B-2330-4B6D-AEF3-49630FAD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2D2D-0CE1-45AE-A23D-8663C1F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F505-B866-474D-B734-5024359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39B-89A7-4788-8B8D-3F8E68EF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3F01-11BC-4B48-A418-3DDCDD2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1A9-53E3-4B02-BC28-D6D163ED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2055-745F-4CEA-86FE-918E3C1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A785-C443-4853-BD32-B21296D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10D-7A60-4AB6-B4EE-258FCD6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893F-AE49-49DD-8F85-E9236B9E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498-F3FB-4CBA-922A-7B2503D8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222-2FF3-402F-981D-B7555A04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EB8-F99A-4679-853A-FED8A00B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CD5-C0D8-470B-B9D4-724E8242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DCB-963A-43AC-BC19-F6D5FB1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AAC-CC9E-4133-8DBC-4BED41D6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E10-556D-4FBD-BE56-CF117AA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D49-7201-4012-8C77-A19EF29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B8B3-E43A-4DCD-9FF5-14F5E03D8A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3889-318C-4445-8C13-B8120B568A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 Narrow"/>
              </a:rPr>
              <a:t>The view of aviation labou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5640" y="41144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ne Enr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iation Secret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Transport Workers' Fed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overcome prejudices about aviation u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echo the central role of labour in the economic fu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present a positive vision on behalf of aviation lab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stability, sustainability and orderly grow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of all nations and stakeholders to shape their air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tenance of a dynamic link between safety and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 regulation for a changing indu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nternational Transport Workers’ Federa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71800" y="41148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ww.itf.org.u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viation@itf.org.u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ITF</dc:creator>
  <dc:description/>
  <dc:language>en-US</dc:language>
  <cp:lastModifiedBy>jgd</cp:lastModifiedBy>
  <dcterms:modified xsi:type="dcterms:W3CDTF">2003-03-23T15:52:55Z</dcterms:modified>
  <cp:revision>7</cp:revision>
  <dc:subject/>
  <dc:title>General</dc:title>
</cp:coreProperties>
</file>