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386513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3480" y="204480"/>
            <a:ext cx="907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afd00"/>
              </a:buClr>
              <a:buFont typeface="CommonBullets" charset="2"/>
              <a:buChar char="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fafd00"/>
              </a:buClr>
              <a:buFont typeface="CommonBullets" charset="2"/>
              <a:buChar char="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afd00"/>
              </a:buClr>
              <a:buFont typeface="CommonBullets" charset="2"/>
              <a:buChar char="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afd00"/>
              </a:buClr>
              <a:buFont typeface="CommonBullets" charset="2"/>
              <a:buChar char="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CommonBullets" charset="2"/>
              <a:buChar char="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CommonBullets" charset="2"/>
              <a:buChar char="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3480" y="204480"/>
            <a:ext cx="907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894800" y="6008760"/>
            <a:ext cx="1048320" cy="610920"/>
            <a:chOff x="7894800" y="6008760"/>
            <a:chExt cx="1048320" cy="610920"/>
          </a:xfrm>
        </p:grpSpPr>
        <p:sp>
          <p:nvSpPr>
            <p:cNvPr id="3" name=""/>
            <p:cNvSpPr/>
            <p:nvPr/>
          </p:nvSpPr>
          <p:spPr>
            <a:xfrm>
              <a:off x="7894800" y="6130080"/>
              <a:ext cx="977400" cy="488160"/>
            </a:xfrm>
            <a:custGeom>
              <a:avLst/>
              <a:gdLst/>
              <a:ahLst/>
              <a:rect l="l" t="t" r="r" b="b"/>
              <a:pathLst>
                <a:path w="1082" h="480">
                  <a:moveTo>
                    <a:pt x="0" y="479"/>
                  </a:moveTo>
                  <a:lnTo>
                    <a:pt x="894" y="0"/>
                  </a:lnTo>
                  <a:lnTo>
                    <a:pt x="912" y="0"/>
                  </a:lnTo>
                  <a:lnTo>
                    <a:pt x="929" y="0"/>
                  </a:lnTo>
                  <a:lnTo>
                    <a:pt x="944" y="0"/>
                  </a:lnTo>
                  <a:lnTo>
                    <a:pt x="958" y="0"/>
                  </a:lnTo>
                  <a:lnTo>
                    <a:pt x="972" y="0"/>
                  </a:lnTo>
                  <a:lnTo>
                    <a:pt x="986" y="0"/>
                  </a:lnTo>
                  <a:lnTo>
                    <a:pt x="999" y="0"/>
                  </a:lnTo>
                  <a:lnTo>
                    <a:pt x="1013" y="0"/>
                  </a:lnTo>
                  <a:lnTo>
                    <a:pt x="1028" y="0"/>
                  </a:lnTo>
                  <a:lnTo>
                    <a:pt x="1044" y="0"/>
                  </a:lnTo>
                  <a:lnTo>
                    <a:pt x="1061" y="0"/>
                  </a:lnTo>
                  <a:lnTo>
                    <a:pt x="1081" y="0"/>
                  </a:lnTo>
                  <a:lnTo>
                    <a:pt x="707" y="479"/>
                  </a:lnTo>
                  <a:lnTo>
                    <a:pt x="539" y="479"/>
                  </a:lnTo>
                  <a:lnTo>
                    <a:pt x="612" y="382"/>
                  </a:lnTo>
                  <a:lnTo>
                    <a:pt x="347" y="382"/>
                  </a:lnTo>
                  <a:lnTo>
                    <a:pt x="168" y="479"/>
                  </a:lnTo>
                  <a:lnTo>
                    <a:pt x="0" y="479"/>
                  </a:lnTo>
                  <a:lnTo>
                    <a:pt x="0" y="479"/>
                  </a:lnTo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7b7b7b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477280" y="6008760"/>
              <a:ext cx="465840" cy="375120"/>
              <a:chOff x="8477280" y="6008760"/>
              <a:chExt cx="465840" cy="375120"/>
            </a:xfrm>
          </p:grpSpPr>
          <p:sp>
            <p:nvSpPr>
              <p:cNvPr id="5" name=""/>
              <p:cNvSpPr/>
              <p:nvPr/>
            </p:nvSpPr>
            <p:spPr>
              <a:xfrm>
                <a:off x="8734320" y="6144840"/>
                <a:ext cx="44280" cy="180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38" y="0"/>
                    </a:moveTo>
                    <a:lnTo>
                      <a:pt x="46" y="1"/>
                    </a:lnTo>
                    <a:lnTo>
                      <a:pt x="48" y="4"/>
                    </a:lnTo>
                    <a:lnTo>
                      <a:pt x="44" y="9"/>
                    </a:lnTo>
                    <a:lnTo>
                      <a:pt x="34" y="14"/>
                    </a:lnTo>
                    <a:lnTo>
                      <a:pt x="22" y="17"/>
                    </a:lnTo>
                    <a:lnTo>
                      <a:pt x="11" y="18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4" y="9"/>
                    </a:lnTo>
                    <a:lnTo>
                      <a:pt x="14" y="4"/>
                    </a:lnTo>
                    <a:lnTo>
                      <a:pt x="27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  <a:effectLst>
                <a:outerShdw dist="255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683920" y="618840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38" y="0"/>
                    </a:moveTo>
                    <a:lnTo>
                      <a:pt x="46" y="1"/>
                    </a:lnTo>
                    <a:lnTo>
                      <a:pt x="48" y="4"/>
                    </a:lnTo>
                    <a:lnTo>
                      <a:pt x="44" y="9"/>
                    </a:lnTo>
                    <a:lnTo>
                      <a:pt x="34" y="14"/>
                    </a:lnTo>
                    <a:lnTo>
                      <a:pt x="22" y="17"/>
                    </a:lnTo>
                    <a:lnTo>
                      <a:pt x="11" y="18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4" y="9"/>
                    </a:lnTo>
                    <a:lnTo>
                      <a:pt x="14" y="4"/>
                    </a:lnTo>
                    <a:lnTo>
                      <a:pt x="27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279f"/>
              </a:solidFill>
              <a:ln w="0">
                <a:noFill/>
              </a:ln>
              <a:effectLst>
                <a:outerShdw dist="255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8477280" y="6233400"/>
                <a:ext cx="198000" cy="150480"/>
                <a:chOff x="8477280" y="6233400"/>
                <a:chExt cx="198000" cy="15048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630640" y="6233400"/>
                  <a:ext cx="44640" cy="18360"/>
                </a:xfrm>
                <a:custGeom>
                  <a:avLst/>
                  <a:gdLst/>
                  <a:ahLst/>
                  <a:rect l="l" t="t" r="r" b="b"/>
                  <a:pathLst>
                    <a:path w="49" h="19">
                      <a:moveTo>
                        <a:pt x="38" y="0"/>
                      </a:moveTo>
                      <a:lnTo>
                        <a:pt x="47" y="1"/>
                      </a:lnTo>
                      <a:lnTo>
                        <a:pt x="48" y="5"/>
                      </a:lnTo>
                      <a:lnTo>
                        <a:pt x="44" y="9"/>
                      </a:lnTo>
                      <a:lnTo>
                        <a:pt x="34" y="13"/>
                      </a:lnTo>
                      <a:lnTo>
                        <a:pt x="22" y="17"/>
                      </a:lnTo>
                      <a:lnTo>
                        <a:pt x="11" y="18"/>
                      </a:lnTo>
                      <a:lnTo>
                        <a:pt x="2" y="17"/>
                      </a:lnTo>
                      <a:lnTo>
                        <a:pt x="0" y="13"/>
                      </a:lnTo>
                      <a:lnTo>
                        <a:pt x="4" y="9"/>
                      </a:lnTo>
                      <a:lnTo>
                        <a:pt x="14" y="5"/>
                      </a:lnTo>
                      <a:lnTo>
                        <a:pt x="27" y="1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  <a:effectLst>
                  <a:outerShdw dist="2556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579160" y="6276960"/>
                  <a:ext cx="45720" cy="18000"/>
                </a:xfrm>
                <a:custGeom>
                  <a:avLst/>
                  <a:gdLst/>
                  <a:ahLst/>
                  <a:rect l="l" t="t" r="r" b="b"/>
                  <a:pathLst>
                    <a:path w="50" h="19">
                      <a:moveTo>
                        <a:pt x="38" y="0"/>
                      </a:moveTo>
                      <a:lnTo>
                        <a:pt x="47" y="1"/>
                      </a:lnTo>
                      <a:lnTo>
                        <a:pt x="49" y="4"/>
                      </a:lnTo>
                      <a:lnTo>
                        <a:pt x="45" y="9"/>
                      </a:lnTo>
                      <a:lnTo>
                        <a:pt x="35" y="14"/>
                      </a:lnTo>
                      <a:lnTo>
                        <a:pt x="22" y="17"/>
                      </a:lnTo>
                      <a:lnTo>
                        <a:pt x="11" y="18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4" y="9"/>
                      </a:lnTo>
                      <a:lnTo>
                        <a:pt x="14" y="4"/>
                      </a:lnTo>
                      <a:lnTo>
                        <a:pt x="27" y="1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  <a:effectLst>
                  <a:outerShdw dist="2556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8528760" y="6321960"/>
                  <a:ext cx="44280" cy="18000"/>
                </a:xfrm>
                <a:custGeom>
                  <a:avLst/>
                  <a:gdLst/>
                  <a:ahLst/>
                  <a:rect l="l" t="t" r="r" b="b"/>
                  <a:pathLst>
                    <a:path w="50" h="19">
                      <a:moveTo>
                        <a:pt x="38" y="0"/>
                      </a:moveTo>
                      <a:lnTo>
                        <a:pt x="47" y="1"/>
                      </a:lnTo>
                      <a:lnTo>
                        <a:pt x="49" y="4"/>
                      </a:lnTo>
                      <a:lnTo>
                        <a:pt x="45" y="9"/>
                      </a:lnTo>
                      <a:lnTo>
                        <a:pt x="35" y="14"/>
                      </a:lnTo>
                      <a:lnTo>
                        <a:pt x="22" y="17"/>
                      </a:lnTo>
                      <a:lnTo>
                        <a:pt x="11" y="18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4" y="9"/>
                      </a:lnTo>
                      <a:lnTo>
                        <a:pt x="14" y="4"/>
                      </a:lnTo>
                      <a:lnTo>
                        <a:pt x="27" y="1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  <a:effectLst>
                  <a:outerShdw dist="2556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477280" y="6365520"/>
                  <a:ext cx="43200" cy="18360"/>
                </a:xfrm>
                <a:custGeom>
                  <a:avLst/>
                  <a:gdLst/>
                  <a:ahLst/>
                  <a:rect l="l" t="t" r="r" b="b"/>
                  <a:pathLst>
                    <a:path w="49" h="19">
                      <a:moveTo>
                        <a:pt x="37" y="0"/>
                      </a:moveTo>
                      <a:lnTo>
                        <a:pt x="46" y="1"/>
                      </a:lnTo>
                      <a:lnTo>
                        <a:pt x="48" y="4"/>
                      </a:lnTo>
                      <a:lnTo>
                        <a:pt x="44" y="9"/>
                      </a:lnTo>
                      <a:lnTo>
                        <a:pt x="34" y="14"/>
                      </a:lnTo>
                      <a:lnTo>
                        <a:pt x="21" y="17"/>
                      </a:lnTo>
                      <a:lnTo>
                        <a:pt x="10" y="18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4" y="9"/>
                      </a:lnTo>
                      <a:lnTo>
                        <a:pt x="14" y="4"/>
                      </a:lnTo>
                      <a:lnTo>
                        <a:pt x="26" y="1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  <a:effectLst>
                  <a:outerShdw dist="2556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8796600" y="609588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7" y="0"/>
                    </a:moveTo>
                    <a:lnTo>
                      <a:pt x="45" y="1"/>
                    </a:lnTo>
                    <a:lnTo>
                      <a:pt x="47" y="5"/>
                    </a:lnTo>
                    <a:lnTo>
                      <a:pt x="43" y="10"/>
                    </a:lnTo>
                    <a:lnTo>
                      <a:pt x="34" y="15"/>
                    </a:lnTo>
                    <a:lnTo>
                      <a:pt x="22" y="18"/>
                    </a:lnTo>
                    <a:lnTo>
                      <a:pt x="10" y="19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26" y="1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255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48440" y="605196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38" y="0"/>
                    </a:moveTo>
                    <a:lnTo>
                      <a:pt x="46" y="1"/>
                    </a:lnTo>
                    <a:lnTo>
                      <a:pt x="48" y="4"/>
                    </a:lnTo>
                    <a:lnTo>
                      <a:pt x="44" y="10"/>
                    </a:lnTo>
                    <a:lnTo>
                      <a:pt x="34" y="14"/>
                    </a:lnTo>
                    <a:lnTo>
                      <a:pt x="22" y="18"/>
                    </a:lnTo>
                    <a:lnTo>
                      <a:pt x="10" y="19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14" y="4"/>
                    </a:lnTo>
                    <a:lnTo>
                      <a:pt x="27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255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898840" y="600876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38" y="0"/>
                    </a:moveTo>
                    <a:lnTo>
                      <a:pt x="46" y="1"/>
                    </a:lnTo>
                    <a:lnTo>
                      <a:pt x="48" y="4"/>
                    </a:lnTo>
                    <a:lnTo>
                      <a:pt x="44" y="9"/>
                    </a:lnTo>
                    <a:lnTo>
                      <a:pt x="34" y="14"/>
                    </a:lnTo>
                    <a:lnTo>
                      <a:pt x="22" y="17"/>
                    </a:lnTo>
                    <a:lnTo>
                      <a:pt x="10" y="18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4" y="9"/>
                    </a:lnTo>
                    <a:lnTo>
                      <a:pt x="14" y="4"/>
                    </a:lnTo>
                    <a:lnTo>
                      <a:pt x="27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255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" name=""/>
            <p:cNvSpPr/>
            <p:nvPr/>
          </p:nvSpPr>
          <p:spPr>
            <a:xfrm>
              <a:off x="7898040" y="6368400"/>
              <a:ext cx="244080" cy="249840"/>
            </a:xfrm>
            <a:custGeom>
              <a:avLst/>
              <a:gdLst/>
              <a:ahLst/>
              <a:rect l="l" t="t" r="r" b="b"/>
              <a:pathLst>
                <a:path w="390" h="354">
                  <a:moveTo>
                    <a:pt x="135" y="192"/>
                  </a:moveTo>
                  <a:lnTo>
                    <a:pt x="135" y="291"/>
                  </a:lnTo>
                  <a:lnTo>
                    <a:pt x="135" y="308"/>
                  </a:lnTo>
                  <a:lnTo>
                    <a:pt x="136" y="320"/>
                  </a:lnTo>
                  <a:lnTo>
                    <a:pt x="138" y="327"/>
                  </a:lnTo>
                  <a:lnTo>
                    <a:pt x="141" y="332"/>
                  </a:lnTo>
                  <a:lnTo>
                    <a:pt x="146" y="336"/>
                  </a:lnTo>
                  <a:lnTo>
                    <a:pt x="151" y="339"/>
                  </a:lnTo>
                  <a:lnTo>
                    <a:pt x="159" y="341"/>
                  </a:lnTo>
                  <a:lnTo>
                    <a:pt x="170" y="343"/>
                  </a:lnTo>
                  <a:lnTo>
                    <a:pt x="185" y="344"/>
                  </a:lnTo>
                  <a:lnTo>
                    <a:pt x="185" y="353"/>
                  </a:lnTo>
                  <a:lnTo>
                    <a:pt x="0" y="353"/>
                  </a:lnTo>
                  <a:lnTo>
                    <a:pt x="0" y="344"/>
                  </a:lnTo>
                  <a:lnTo>
                    <a:pt x="15" y="343"/>
                  </a:lnTo>
                  <a:lnTo>
                    <a:pt x="26" y="341"/>
                  </a:lnTo>
                  <a:lnTo>
                    <a:pt x="34" y="339"/>
                  </a:lnTo>
                  <a:lnTo>
                    <a:pt x="39" y="336"/>
                  </a:lnTo>
                  <a:lnTo>
                    <a:pt x="43" y="332"/>
                  </a:lnTo>
                  <a:lnTo>
                    <a:pt x="46" y="327"/>
                  </a:lnTo>
                  <a:lnTo>
                    <a:pt x="48" y="320"/>
                  </a:lnTo>
                  <a:lnTo>
                    <a:pt x="50" y="308"/>
                  </a:lnTo>
                  <a:lnTo>
                    <a:pt x="50" y="291"/>
                  </a:lnTo>
                  <a:lnTo>
                    <a:pt x="50" y="62"/>
                  </a:lnTo>
                  <a:lnTo>
                    <a:pt x="50" y="45"/>
                  </a:lnTo>
                  <a:lnTo>
                    <a:pt x="48" y="33"/>
                  </a:lnTo>
                  <a:lnTo>
                    <a:pt x="46" y="26"/>
                  </a:lnTo>
                  <a:lnTo>
                    <a:pt x="43" y="21"/>
                  </a:lnTo>
                  <a:lnTo>
                    <a:pt x="39" y="17"/>
                  </a:lnTo>
                  <a:lnTo>
                    <a:pt x="34" y="14"/>
                  </a:lnTo>
                  <a:lnTo>
                    <a:pt x="26" y="12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81" y="0"/>
                  </a:lnTo>
                  <a:lnTo>
                    <a:pt x="193" y="0"/>
                  </a:lnTo>
                  <a:lnTo>
                    <a:pt x="204" y="1"/>
                  </a:lnTo>
                  <a:lnTo>
                    <a:pt x="215" y="2"/>
                  </a:lnTo>
                  <a:lnTo>
                    <a:pt x="225" y="2"/>
                  </a:lnTo>
                  <a:lnTo>
                    <a:pt x="234" y="3"/>
                  </a:lnTo>
                  <a:lnTo>
                    <a:pt x="243" y="4"/>
                  </a:lnTo>
                  <a:lnTo>
                    <a:pt x="250" y="6"/>
                  </a:lnTo>
                  <a:lnTo>
                    <a:pt x="257" y="7"/>
                  </a:lnTo>
                  <a:lnTo>
                    <a:pt x="264" y="9"/>
                  </a:lnTo>
                  <a:lnTo>
                    <a:pt x="274" y="12"/>
                  </a:lnTo>
                  <a:lnTo>
                    <a:pt x="283" y="16"/>
                  </a:lnTo>
                  <a:lnTo>
                    <a:pt x="291" y="21"/>
                  </a:lnTo>
                  <a:lnTo>
                    <a:pt x="299" y="27"/>
                  </a:lnTo>
                  <a:lnTo>
                    <a:pt x="307" y="34"/>
                  </a:lnTo>
                  <a:lnTo>
                    <a:pt x="313" y="42"/>
                  </a:lnTo>
                  <a:lnTo>
                    <a:pt x="319" y="50"/>
                  </a:lnTo>
                  <a:lnTo>
                    <a:pt x="324" y="58"/>
                  </a:lnTo>
                  <a:lnTo>
                    <a:pt x="328" y="68"/>
                  </a:lnTo>
                  <a:lnTo>
                    <a:pt x="331" y="77"/>
                  </a:lnTo>
                  <a:lnTo>
                    <a:pt x="332" y="87"/>
                  </a:lnTo>
                  <a:lnTo>
                    <a:pt x="333" y="97"/>
                  </a:lnTo>
                  <a:lnTo>
                    <a:pt x="332" y="108"/>
                  </a:lnTo>
                  <a:lnTo>
                    <a:pt x="330" y="119"/>
                  </a:lnTo>
                  <a:lnTo>
                    <a:pt x="327" y="128"/>
                  </a:lnTo>
                  <a:lnTo>
                    <a:pt x="323" y="138"/>
                  </a:lnTo>
                  <a:lnTo>
                    <a:pt x="318" y="146"/>
                  </a:lnTo>
                  <a:lnTo>
                    <a:pt x="312" y="154"/>
                  </a:lnTo>
                  <a:lnTo>
                    <a:pt x="304" y="162"/>
                  </a:lnTo>
                  <a:lnTo>
                    <a:pt x="296" y="168"/>
                  </a:lnTo>
                  <a:lnTo>
                    <a:pt x="287" y="174"/>
                  </a:lnTo>
                  <a:lnTo>
                    <a:pt x="277" y="178"/>
                  </a:lnTo>
                  <a:lnTo>
                    <a:pt x="265" y="183"/>
                  </a:lnTo>
                  <a:lnTo>
                    <a:pt x="253" y="186"/>
                  </a:lnTo>
                  <a:lnTo>
                    <a:pt x="339" y="306"/>
                  </a:lnTo>
                  <a:lnTo>
                    <a:pt x="350" y="319"/>
                  </a:lnTo>
                  <a:lnTo>
                    <a:pt x="358" y="329"/>
                  </a:lnTo>
                  <a:lnTo>
                    <a:pt x="363" y="335"/>
                  </a:lnTo>
                  <a:lnTo>
                    <a:pt x="371" y="339"/>
                  </a:lnTo>
                  <a:lnTo>
                    <a:pt x="380" y="342"/>
                  </a:lnTo>
                  <a:lnTo>
                    <a:pt x="389" y="344"/>
                  </a:lnTo>
                  <a:lnTo>
                    <a:pt x="389" y="353"/>
                  </a:lnTo>
                  <a:lnTo>
                    <a:pt x="275" y="353"/>
                  </a:lnTo>
                  <a:lnTo>
                    <a:pt x="159" y="192"/>
                  </a:lnTo>
                  <a:lnTo>
                    <a:pt x="135" y="192"/>
                  </a:lnTo>
                  <a:lnTo>
                    <a:pt x="135" y="19"/>
                  </a:lnTo>
                  <a:lnTo>
                    <a:pt x="135" y="174"/>
                  </a:lnTo>
                  <a:lnTo>
                    <a:pt x="150" y="174"/>
                  </a:lnTo>
                  <a:lnTo>
                    <a:pt x="164" y="173"/>
                  </a:lnTo>
                  <a:lnTo>
                    <a:pt x="177" y="173"/>
                  </a:lnTo>
                  <a:lnTo>
                    <a:pt x="188" y="171"/>
                  </a:lnTo>
                  <a:lnTo>
                    <a:pt x="197" y="170"/>
                  </a:lnTo>
                  <a:lnTo>
                    <a:pt x="205" y="167"/>
                  </a:lnTo>
                  <a:lnTo>
                    <a:pt x="217" y="161"/>
                  </a:lnTo>
                  <a:lnTo>
                    <a:pt x="227" y="154"/>
                  </a:lnTo>
                  <a:lnTo>
                    <a:pt x="234" y="143"/>
                  </a:lnTo>
                  <a:lnTo>
                    <a:pt x="239" y="134"/>
                  </a:lnTo>
                  <a:lnTo>
                    <a:pt x="242" y="123"/>
                  </a:lnTo>
                  <a:lnTo>
                    <a:pt x="244" y="111"/>
                  </a:lnTo>
                  <a:lnTo>
                    <a:pt x="245" y="98"/>
                  </a:lnTo>
                  <a:lnTo>
                    <a:pt x="244" y="85"/>
                  </a:lnTo>
                  <a:lnTo>
                    <a:pt x="243" y="73"/>
                  </a:lnTo>
                  <a:lnTo>
                    <a:pt x="240" y="63"/>
                  </a:lnTo>
                  <a:lnTo>
                    <a:pt x="236" y="54"/>
                  </a:lnTo>
                  <a:lnTo>
                    <a:pt x="232" y="45"/>
                  </a:lnTo>
                  <a:lnTo>
                    <a:pt x="226" y="38"/>
                  </a:lnTo>
                  <a:lnTo>
                    <a:pt x="219" y="32"/>
                  </a:lnTo>
                  <a:lnTo>
                    <a:pt x="210" y="28"/>
                  </a:lnTo>
                  <a:lnTo>
                    <a:pt x="200" y="24"/>
                  </a:lnTo>
                  <a:lnTo>
                    <a:pt x="189" y="21"/>
                  </a:lnTo>
                  <a:lnTo>
                    <a:pt x="177" y="19"/>
                  </a:lnTo>
                  <a:lnTo>
                    <a:pt x="163" y="19"/>
                  </a:lnTo>
                  <a:lnTo>
                    <a:pt x="135" y="19"/>
                  </a:lnTo>
                  <a:lnTo>
                    <a:pt x="135" y="192"/>
                  </a:lnTo>
                </a:path>
              </a:pathLst>
            </a:custGeom>
            <a:gradFill rotWithShape="0">
              <a:gsLst>
                <a:gs pos="0">
                  <a:srgbClr val="134bff"/>
                </a:gs>
                <a:gs pos="100000">
                  <a:srgbClr val="7ea9fe"/>
                </a:gs>
              </a:gsLst>
              <a:lin ang="81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59920" y="6369480"/>
              <a:ext cx="227520" cy="250200"/>
            </a:xfrm>
            <a:custGeom>
              <a:avLst/>
              <a:gdLst/>
              <a:ahLst/>
              <a:rect l="l" t="t" r="r" b="b"/>
              <a:pathLst>
                <a:path w="365" h="355">
                  <a:moveTo>
                    <a:pt x="0" y="353"/>
                  </a:moveTo>
                  <a:lnTo>
                    <a:pt x="0" y="345"/>
                  </a:lnTo>
                  <a:lnTo>
                    <a:pt x="12" y="345"/>
                  </a:lnTo>
                  <a:lnTo>
                    <a:pt x="22" y="344"/>
                  </a:lnTo>
                  <a:lnTo>
                    <a:pt x="30" y="342"/>
                  </a:lnTo>
                  <a:lnTo>
                    <a:pt x="36" y="340"/>
                  </a:lnTo>
                  <a:lnTo>
                    <a:pt x="41" y="336"/>
                  </a:lnTo>
                  <a:lnTo>
                    <a:pt x="45" y="332"/>
                  </a:lnTo>
                  <a:lnTo>
                    <a:pt x="49" y="326"/>
                  </a:lnTo>
                  <a:lnTo>
                    <a:pt x="50" y="320"/>
                  </a:lnTo>
                  <a:lnTo>
                    <a:pt x="51" y="309"/>
                  </a:lnTo>
                  <a:lnTo>
                    <a:pt x="51" y="294"/>
                  </a:lnTo>
                  <a:lnTo>
                    <a:pt x="51" y="61"/>
                  </a:lnTo>
                  <a:lnTo>
                    <a:pt x="50" y="45"/>
                  </a:lnTo>
                  <a:lnTo>
                    <a:pt x="50" y="33"/>
                  </a:lnTo>
                  <a:lnTo>
                    <a:pt x="48" y="27"/>
                  </a:lnTo>
                  <a:lnTo>
                    <a:pt x="45" y="22"/>
                  </a:lnTo>
                  <a:lnTo>
                    <a:pt x="41" y="18"/>
                  </a:lnTo>
                  <a:lnTo>
                    <a:pt x="36" y="15"/>
                  </a:lnTo>
                  <a:lnTo>
                    <a:pt x="29" y="12"/>
                  </a:lnTo>
                  <a:lnTo>
                    <a:pt x="21" y="10"/>
                  </a:lnTo>
                  <a:lnTo>
                    <a:pt x="1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" y="0"/>
                  </a:lnTo>
                  <a:lnTo>
                    <a:pt x="173" y="0"/>
                  </a:lnTo>
                  <a:lnTo>
                    <a:pt x="185" y="1"/>
                  </a:lnTo>
                  <a:lnTo>
                    <a:pt x="195" y="1"/>
                  </a:lnTo>
                  <a:lnTo>
                    <a:pt x="206" y="2"/>
                  </a:lnTo>
                  <a:lnTo>
                    <a:pt x="215" y="4"/>
                  </a:lnTo>
                  <a:lnTo>
                    <a:pt x="225" y="5"/>
                  </a:lnTo>
                  <a:lnTo>
                    <a:pt x="234" y="7"/>
                  </a:lnTo>
                  <a:lnTo>
                    <a:pt x="243" y="9"/>
                  </a:lnTo>
                  <a:lnTo>
                    <a:pt x="251" y="12"/>
                  </a:lnTo>
                  <a:lnTo>
                    <a:pt x="259" y="14"/>
                  </a:lnTo>
                  <a:lnTo>
                    <a:pt x="266" y="17"/>
                  </a:lnTo>
                  <a:lnTo>
                    <a:pt x="276" y="22"/>
                  </a:lnTo>
                  <a:lnTo>
                    <a:pt x="284" y="27"/>
                  </a:lnTo>
                  <a:lnTo>
                    <a:pt x="293" y="32"/>
                  </a:lnTo>
                  <a:lnTo>
                    <a:pt x="301" y="38"/>
                  </a:lnTo>
                  <a:lnTo>
                    <a:pt x="309" y="44"/>
                  </a:lnTo>
                  <a:lnTo>
                    <a:pt x="316" y="50"/>
                  </a:lnTo>
                  <a:lnTo>
                    <a:pt x="322" y="57"/>
                  </a:lnTo>
                  <a:lnTo>
                    <a:pt x="328" y="65"/>
                  </a:lnTo>
                  <a:lnTo>
                    <a:pt x="334" y="73"/>
                  </a:lnTo>
                  <a:lnTo>
                    <a:pt x="339" y="81"/>
                  </a:lnTo>
                  <a:lnTo>
                    <a:pt x="344" y="90"/>
                  </a:lnTo>
                  <a:lnTo>
                    <a:pt x="348" y="99"/>
                  </a:lnTo>
                  <a:lnTo>
                    <a:pt x="352" y="108"/>
                  </a:lnTo>
                  <a:lnTo>
                    <a:pt x="355" y="117"/>
                  </a:lnTo>
                  <a:lnTo>
                    <a:pt x="358" y="127"/>
                  </a:lnTo>
                  <a:lnTo>
                    <a:pt x="360" y="137"/>
                  </a:lnTo>
                  <a:lnTo>
                    <a:pt x="362" y="147"/>
                  </a:lnTo>
                  <a:lnTo>
                    <a:pt x="363" y="157"/>
                  </a:lnTo>
                  <a:lnTo>
                    <a:pt x="364" y="167"/>
                  </a:lnTo>
                  <a:lnTo>
                    <a:pt x="363" y="178"/>
                  </a:lnTo>
                  <a:lnTo>
                    <a:pt x="364" y="189"/>
                  </a:lnTo>
                  <a:lnTo>
                    <a:pt x="363" y="199"/>
                  </a:lnTo>
                  <a:lnTo>
                    <a:pt x="362" y="209"/>
                  </a:lnTo>
                  <a:lnTo>
                    <a:pt x="360" y="219"/>
                  </a:lnTo>
                  <a:lnTo>
                    <a:pt x="358" y="229"/>
                  </a:lnTo>
                  <a:lnTo>
                    <a:pt x="355" y="238"/>
                  </a:lnTo>
                  <a:lnTo>
                    <a:pt x="352" y="247"/>
                  </a:lnTo>
                  <a:lnTo>
                    <a:pt x="348" y="257"/>
                  </a:lnTo>
                  <a:lnTo>
                    <a:pt x="343" y="267"/>
                  </a:lnTo>
                  <a:lnTo>
                    <a:pt x="338" y="276"/>
                  </a:lnTo>
                  <a:lnTo>
                    <a:pt x="332" y="284"/>
                  </a:lnTo>
                  <a:lnTo>
                    <a:pt x="327" y="292"/>
                  </a:lnTo>
                  <a:lnTo>
                    <a:pt x="320" y="299"/>
                  </a:lnTo>
                  <a:lnTo>
                    <a:pt x="312" y="307"/>
                  </a:lnTo>
                  <a:lnTo>
                    <a:pt x="304" y="314"/>
                  </a:lnTo>
                  <a:lnTo>
                    <a:pt x="295" y="321"/>
                  </a:lnTo>
                  <a:lnTo>
                    <a:pt x="285" y="327"/>
                  </a:lnTo>
                  <a:lnTo>
                    <a:pt x="275" y="332"/>
                  </a:lnTo>
                  <a:lnTo>
                    <a:pt x="267" y="336"/>
                  </a:lnTo>
                  <a:lnTo>
                    <a:pt x="257" y="339"/>
                  </a:lnTo>
                  <a:lnTo>
                    <a:pt x="247" y="343"/>
                  </a:lnTo>
                  <a:lnTo>
                    <a:pt x="236" y="346"/>
                  </a:lnTo>
                  <a:lnTo>
                    <a:pt x="225" y="349"/>
                  </a:lnTo>
                  <a:lnTo>
                    <a:pt x="213" y="351"/>
                  </a:lnTo>
                  <a:lnTo>
                    <a:pt x="204" y="352"/>
                  </a:lnTo>
                  <a:lnTo>
                    <a:pt x="192" y="353"/>
                  </a:lnTo>
                  <a:lnTo>
                    <a:pt x="178" y="354"/>
                  </a:lnTo>
                  <a:lnTo>
                    <a:pt x="162" y="353"/>
                  </a:lnTo>
                  <a:lnTo>
                    <a:pt x="0" y="353"/>
                  </a:lnTo>
                  <a:lnTo>
                    <a:pt x="138" y="20"/>
                  </a:lnTo>
                  <a:lnTo>
                    <a:pt x="138" y="296"/>
                  </a:lnTo>
                  <a:lnTo>
                    <a:pt x="138" y="309"/>
                  </a:lnTo>
                  <a:lnTo>
                    <a:pt x="139" y="318"/>
                  </a:lnTo>
                  <a:lnTo>
                    <a:pt x="140" y="323"/>
                  </a:lnTo>
                  <a:lnTo>
                    <a:pt x="142" y="326"/>
                  </a:lnTo>
                  <a:lnTo>
                    <a:pt x="144" y="329"/>
                  </a:lnTo>
                  <a:lnTo>
                    <a:pt x="147" y="331"/>
                  </a:lnTo>
                  <a:lnTo>
                    <a:pt x="153" y="333"/>
                  </a:lnTo>
                  <a:lnTo>
                    <a:pt x="160" y="334"/>
                  </a:lnTo>
                  <a:lnTo>
                    <a:pt x="168" y="335"/>
                  </a:lnTo>
                  <a:lnTo>
                    <a:pt x="179" y="334"/>
                  </a:lnTo>
                  <a:lnTo>
                    <a:pt x="189" y="333"/>
                  </a:lnTo>
                  <a:lnTo>
                    <a:pt x="198" y="331"/>
                  </a:lnTo>
                  <a:lnTo>
                    <a:pt x="207" y="327"/>
                  </a:lnTo>
                  <a:lnTo>
                    <a:pt x="215" y="323"/>
                  </a:lnTo>
                  <a:lnTo>
                    <a:pt x="223" y="318"/>
                  </a:lnTo>
                  <a:lnTo>
                    <a:pt x="230" y="312"/>
                  </a:lnTo>
                  <a:lnTo>
                    <a:pt x="236" y="305"/>
                  </a:lnTo>
                  <a:lnTo>
                    <a:pt x="240" y="299"/>
                  </a:lnTo>
                  <a:lnTo>
                    <a:pt x="244" y="293"/>
                  </a:lnTo>
                  <a:lnTo>
                    <a:pt x="248" y="286"/>
                  </a:lnTo>
                  <a:lnTo>
                    <a:pt x="252" y="278"/>
                  </a:lnTo>
                  <a:lnTo>
                    <a:pt x="255" y="271"/>
                  </a:lnTo>
                  <a:lnTo>
                    <a:pt x="258" y="262"/>
                  </a:lnTo>
                  <a:lnTo>
                    <a:pt x="260" y="254"/>
                  </a:lnTo>
                  <a:lnTo>
                    <a:pt x="262" y="245"/>
                  </a:lnTo>
                  <a:lnTo>
                    <a:pt x="264" y="235"/>
                  </a:lnTo>
                  <a:lnTo>
                    <a:pt x="265" y="225"/>
                  </a:lnTo>
                  <a:lnTo>
                    <a:pt x="266" y="214"/>
                  </a:lnTo>
                  <a:lnTo>
                    <a:pt x="267" y="203"/>
                  </a:lnTo>
                  <a:lnTo>
                    <a:pt x="268" y="192"/>
                  </a:lnTo>
                  <a:lnTo>
                    <a:pt x="268" y="180"/>
                  </a:lnTo>
                  <a:lnTo>
                    <a:pt x="268" y="168"/>
                  </a:lnTo>
                  <a:lnTo>
                    <a:pt x="267" y="156"/>
                  </a:lnTo>
                  <a:lnTo>
                    <a:pt x="266" y="145"/>
                  </a:lnTo>
                  <a:lnTo>
                    <a:pt x="265" y="134"/>
                  </a:lnTo>
                  <a:lnTo>
                    <a:pt x="263" y="124"/>
                  </a:lnTo>
                  <a:lnTo>
                    <a:pt x="262" y="114"/>
                  </a:lnTo>
                  <a:lnTo>
                    <a:pt x="259" y="105"/>
                  </a:lnTo>
                  <a:lnTo>
                    <a:pt x="256" y="96"/>
                  </a:lnTo>
                  <a:lnTo>
                    <a:pt x="253" y="87"/>
                  </a:lnTo>
                  <a:lnTo>
                    <a:pt x="250" y="79"/>
                  </a:lnTo>
                  <a:lnTo>
                    <a:pt x="246" y="71"/>
                  </a:lnTo>
                  <a:lnTo>
                    <a:pt x="240" y="61"/>
                  </a:lnTo>
                  <a:lnTo>
                    <a:pt x="233" y="52"/>
                  </a:lnTo>
                  <a:lnTo>
                    <a:pt x="226" y="45"/>
                  </a:lnTo>
                  <a:lnTo>
                    <a:pt x="219" y="38"/>
                  </a:lnTo>
                  <a:lnTo>
                    <a:pt x="210" y="32"/>
                  </a:lnTo>
                  <a:lnTo>
                    <a:pt x="202" y="28"/>
                  </a:lnTo>
                  <a:lnTo>
                    <a:pt x="194" y="25"/>
                  </a:lnTo>
                  <a:lnTo>
                    <a:pt x="186" y="24"/>
                  </a:lnTo>
                  <a:lnTo>
                    <a:pt x="176" y="22"/>
                  </a:lnTo>
                  <a:lnTo>
                    <a:pt x="165" y="21"/>
                  </a:lnTo>
                  <a:lnTo>
                    <a:pt x="152" y="20"/>
                  </a:lnTo>
                  <a:lnTo>
                    <a:pt x="138" y="20"/>
                  </a:lnTo>
                  <a:lnTo>
                    <a:pt x="0" y="353"/>
                  </a:lnTo>
                </a:path>
              </a:pathLst>
            </a:custGeom>
            <a:gradFill rotWithShape="0">
              <a:gsLst>
                <a:gs pos="0">
                  <a:srgbClr val="134bff"/>
                </a:gs>
                <a:gs pos="100000">
                  <a:srgbClr val="7ea9fe"/>
                </a:gs>
              </a:gsLst>
              <a:lin ang="81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"/>
          <p:cNvSpPr/>
          <p:nvPr/>
        </p:nvSpPr>
        <p:spPr>
          <a:xfrm>
            <a:off x="7744320" y="6621480"/>
            <a:ext cx="138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Times New Roman"/>
              </a:rPr>
              <a:t>© 2003 Professor R Dogani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" name=""/>
          <p:cNvGraphicFramePr/>
          <p:nvPr/>
        </p:nvGraphicFramePr>
        <p:xfrm>
          <a:off x="0" y="0"/>
          <a:ext cx="3476520" cy="210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47652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382760"/>
            <a:ext cx="9077400" cy="15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3200" spc="-1" strike="noStrike">
                <a:solidFill>
                  <a:srgbClr val="fafd00"/>
                </a:solidFill>
                <a:latin typeface="Arial"/>
              </a:rPr>
              <a:t>LIBERALISATION : </a:t>
            </a:r>
            <a:br>
              <a:rPr sz="3200"/>
            </a:br>
            <a:r>
              <a:rPr b="1" i="1" lang="en-GB" sz="3200" spc="-1" strike="noStrike">
                <a:solidFill>
                  <a:srgbClr val="fafd00"/>
                </a:solidFill>
                <a:latin typeface="Arial"/>
              </a:rPr>
              <a:t>Past Experience and Future Steps 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795760"/>
            <a:ext cx="91440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fessor Rigas Doga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Rigas Doganis &amp; Assoc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isiting Professor, Cranfield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3960" y="341280"/>
            <a:ext cx="181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2320" y="56707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Narrow"/>
              </a:rPr>
              <a:t>Aviation in Transi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 Narrow"/>
              </a:rPr>
              <a:t>Challenges &amp; Opportunities of Liberalis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33800" y="262080"/>
            <a:ext cx="3787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 Narrow"/>
              </a:rPr>
              <a:t>Montreal 22-23 March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769680"/>
            <a:ext cx="907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EUROPEAN UNION’S THIRD AVIATION PACKAGE</a:t>
            </a:r>
            <a:br>
              <a:rPr sz="2800"/>
            </a:b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from 1</a:t>
            </a:r>
            <a:r>
              <a:rPr b="1" i="1" lang="en-US" sz="2800" spc="-1" strike="noStrike" baseline="30000">
                <a:solidFill>
                  <a:srgbClr val="fafd00"/>
                </a:solidFill>
                <a:latin typeface="Arial"/>
              </a:rPr>
              <a:t>st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January 1993 – completed April 1997</a:t>
            </a:r>
            <a:endParaRPr b="1" i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08760" y="246240"/>
            <a:ext cx="168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7040" y="2354400"/>
            <a:ext cx="735804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ree pricing regime for tarif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only “ex-post double disapproval” for fully flexible f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pen market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i.e. all EU airlines have rights to fly between any two EU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riteria for operators’ licences harmon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owners can be from any EU state, I.e. nationality rule abandoned (e.g. Virgin Express in Belgium is UK own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hanges apply equally to scheduled and cha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826920"/>
            <a:ext cx="9077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US ‘Open Market’ and post-1991 ‘Open Skies’ </a:t>
            </a:r>
            <a:br>
              <a:rPr sz="2800"/>
            </a:b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Air Services Agreements</a:t>
            </a:r>
            <a:endParaRPr b="1" i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8520" y="247680"/>
            <a:ext cx="137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79600" y="2003400"/>
          <a:ext cx="7837200" cy="3994200"/>
        </p:xfrm>
        <a:graphic>
          <a:graphicData uri="http://schemas.openxmlformats.org/drawingml/2006/table">
            <a:tbl>
              <a:tblPr/>
              <a:tblGrid>
                <a:gridCol w="1552320"/>
                <a:gridCol w="3513240"/>
                <a:gridCol w="318960"/>
                <a:gridCol w="2452680"/>
              </a:tblGrid>
              <a:tr h="33336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978-1991 Open Market bilater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Post-1991 Open Skies bilater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rowSpan="5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Market Ac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med number of points in each sta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Unlimi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Unlimited Fifth Freed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ny with unlimited Fifth Freed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mestic Cabotage not allow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venth Freedom not gran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pen Charter Ac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 rowSpan="2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Design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ubstantial ownership and effective control by nationals of designating s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frequency or capacity 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Tariff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uble disappro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Free Pric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2076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Code-sha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t part of bilat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Code-sharing permitted</a:t>
                      </a:r>
                      <a:r>
                        <a:rPr b="1" lang="en-US" sz="1600" spc="-1" strike="noStrike">
                          <a:solidFill>
                            <a:srgbClr val="bf0775"/>
                          </a:solidFill>
                          <a:latin typeface="Arial Narrow"/>
                        </a:rPr>
                        <a:t>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812880" y="6154560"/>
            <a:ext cx="70689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fafd00"/>
                </a:solidFill>
                <a:latin typeface="Arial"/>
              </a:rPr>
              <a:t>Source: Rigas Doganis ‘The Airline Business in the 21</a:t>
            </a:r>
            <a:r>
              <a:rPr b="0" i="1" lang="en-GB" sz="1600" spc="-1" strike="noStrike" baseline="30000">
                <a:solidFill>
                  <a:srgbClr val="fafd00"/>
                </a:solidFill>
                <a:latin typeface="Arial"/>
              </a:rPr>
              <a:t>st</a:t>
            </a:r>
            <a:r>
              <a:rPr b="0" i="1" lang="en-GB" sz="1600" spc="-1" strike="noStrike">
                <a:solidFill>
                  <a:srgbClr val="fafd00"/>
                </a:solidFill>
                <a:latin typeface="Arial"/>
              </a:rPr>
              <a:t> Century’, </a:t>
            </a:r>
            <a:r>
              <a:rPr b="0" i="1" lang="en-GB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fafd00"/>
                </a:solidFill>
                <a:latin typeface="Arial"/>
              </a:rPr>
              <a:t>Routledge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960120"/>
            <a:ext cx="890280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What ‘Open Skies’ does </a:t>
            </a:r>
            <a:r>
              <a:rPr b="1" i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not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 do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87120" y="1690560"/>
            <a:ext cx="6923160" cy="44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raffic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No 7</a:t>
            </a:r>
            <a:r>
              <a:rPr b="1" lang="en-US" sz="2000" spc="-1" strike="noStrike" baseline="30000">
                <a:solidFill>
                  <a:srgbClr val="8cf4ea"/>
                </a:solidFill>
                <a:latin typeface="Arial Narrow"/>
              </a:rPr>
              <a:t>th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 free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No domestic cabo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ationality/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Still “substantial ownership and effectiv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Some states do not allow over 25% of foreign ownership (e.g. US, Cana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ti-competitiv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No provision for dealing with this uniform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tectionist measures conti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State subsidies, Chapter II (US)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Government traffic limited to national 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carrier 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(e.g. U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8cf4ea"/>
                </a:solidFill>
                <a:latin typeface="Arial Narrow"/>
              </a:rPr>
              <a:t>US does not permit US carriers to wet lease from non-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9280" y="566640"/>
            <a:ext cx="1727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480" y="668160"/>
            <a:ext cx="907704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Liberalisation has been spreading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58760" y="1327320"/>
            <a:ext cx="7446960" cy="478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BU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* Most states have mix of air services agre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raditional (most widespre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Open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Open Skies (least comm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* New Regulations spreading and becoming extra-terri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ompetition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Merger controls (In EU and U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Passenger rights (e.g. denied boarding compens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afety oversight (ICAO,KAO, FAA, E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nvironmental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AND HAS NOT IMPROVED PROFI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8280" y="0"/>
            <a:ext cx="2379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120" y="595080"/>
            <a:ext cx="911052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Liberalisation has not improved profitability</a:t>
            </a:r>
            <a:endParaRPr b="1" i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43080" y="1163520"/>
          <a:ext cx="749448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1163520"/>
                    <a:ext cx="7494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672920" y="6121440"/>
            <a:ext cx="62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CAO World’s Airlines: Profit as a % of Total Reven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31120" y="0"/>
            <a:ext cx="181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667800"/>
            <a:ext cx="907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To Improve International Airline Profitability</a:t>
            </a:r>
            <a:br>
              <a:rPr sz="3200"/>
            </a:b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Need to:</a:t>
            </a:r>
            <a:endParaRPr b="1" i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751"/>
              </a:spcAft>
              <a:buClr>
                <a:srgbClr val="fafd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 access to world-wide capital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751"/>
              </a:spcAft>
              <a:buClr>
                <a:srgbClr val="fafd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debt finance – use more equity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751"/>
              </a:spcAft>
              <a:buClr>
                <a:srgbClr val="fafd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 over-capacity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ouraging cross-border consoli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ing airlines to f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 of capacity in thin mar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First step is to relax nationality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42120" y="0"/>
            <a:ext cx="201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480" y="727200"/>
            <a:ext cx="9077040" cy="62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DRAWBACKS OF NATIONALITY RULE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3920" y="1385640"/>
            <a:ext cx="7547040" cy="46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es airlines full access to capital mar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et most airlines grossly undercapitali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cross-border mergers/airline conso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vents lower costs, integrated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iances are poor substitute and not sustai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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orts airline marke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mits market access of more dynamic air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courages state subsidies/bailou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scourages designation by smaller states of foreign-owned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ri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ourages smaller ‘flag’ carriers to overextend net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 self-destruct (the Sabena syndro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 Narrow"/>
              </a:rPr>
              <a:t>Resul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 Narrow"/>
              </a:rPr>
              <a:t>Airline industry uniquely national not global – unlike all other s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2120" y="231840"/>
            <a:ext cx="190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740880"/>
            <a:ext cx="9077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Previous action through ICAO</a:t>
            </a:r>
            <a:br>
              <a:rPr sz="3200"/>
            </a:b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9960" y="1589040"/>
            <a:ext cx="6908760" cy="47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1789"/>
              </a:spcAft>
              <a:buClr>
                <a:srgbClr val="fafd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CAO Assembly (resolution A24 – 12) has accepted 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‘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Community of Interest’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concep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825"/>
              </a:spcAft>
              <a:buClr>
                <a:srgbClr val="fafd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994 Air Transport Conference recommende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550"/>
              </a:spcBef>
              <a:spcAft>
                <a:spcPts val="178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designate any airline substantially           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owned and effectively controlled by 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nationals of any States parties to an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agre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550"/>
              </a:spcBef>
              <a:spcAft>
                <a:spcPts val="825"/>
              </a:spcAft>
              <a:buClr>
                <a:srgbClr val="fafd00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997 Air Transport Regulation Panel (ATRP/9-4) recommende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‘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principle place of business and 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permanent residence plus strong link with 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fafd00"/>
                </a:solidFill>
                <a:latin typeface="Arial"/>
              </a:rPr>
              <a:t>designating state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131760"/>
            <a:ext cx="1558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654120"/>
            <a:ext cx="907740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NATIONALITY/OWNERSHIP RULE BY-PASSED</a:t>
            </a:r>
            <a:endParaRPr b="1" i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5320" y="1459080"/>
            <a:ext cx="78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rlines with multi-national ownership (e.g. SAS, Gulf Airways, Air Afriq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munity of Interest” concept urges states to accept designation by one developing state of an airline owned by another within same economic grouping (e.g. BW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rter carriers Monarch (Swiss-owned) and Britannia (Canadian then German ow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al place of business concept” (used by Hong Kong in its AS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5000"/>
              </a:lnSpc>
              <a:spcBef>
                <a:spcPts val="1874"/>
              </a:spcBef>
              <a:buClr>
                <a:srgbClr val="fafd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bandoned for intra-EU services (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ackage 199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5000"/>
              </a:lnSpc>
              <a:spcBef>
                <a:spcPts val="18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5000"/>
              </a:lnSpc>
              <a:spcBef>
                <a:spcPts val="22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i.e. Nationality rule not sacrosa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3840" y="0"/>
            <a:ext cx="1828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771120"/>
            <a:ext cx="907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Governments may choose to ignore ownership issue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8440" y="190800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erolineas Argentin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(91% Spanish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owned in 19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abena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(49% owned but effectively controlled by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wissai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ri Lanka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(40% owned but effectively controlled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y Emirates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ld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as given its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eedo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ghts to Sri Lank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i.e. Nationality articles are permi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88280" y="246240"/>
            <a:ext cx="169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240" y="641520"/>
            <a:ext cx="9077400" cy="82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SUPPLY CONDITIONS IN TRADITIONAL BILATERALISM</a:t>
            </a:r>
            <a:endParaRPr b="1" i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21440" y="174600"/>
            <a:ext cx="2111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87280" y="1511280"/>
          <a:ext cx="6694560" cy="5346720"/>
        </p:xfrm>
        <a:graphic>
          <a:graphicData uri="http://schemas.openxmlformats.org/drawingml/2006/table">
            <a:tbl>
              <a:tblPr/>
              <a:tblGrid>
                <a:gridCol w="2108520"/>
                <a:gridCol w="1268280"/>
                <a:gridCol w="3317760"/>
              </a:tblGrid>
              <a:tr h="36324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THE “BILATERAL BOND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6960">
                <a:tc rowSpan="2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MARKET ENTRY or AC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led b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AFFIC RIGH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points serv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3</a:t>
                      </a:r>
                      <a:r>
                        <a:rPr b="0" lang="en-GB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rd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/4</a:t>
                      </a:r>
                      <a:r>
                        <a:rPr b="0" lang="en-GB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th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or 5</a:t>
                      </a:r>
                      <a:r>
                        <a:rPr b="0" lang="en-GB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th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freedo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No 7</a:t>
                      </a:r>
                      <a:r>
                        <a:rPr b="0" lang="en-GB" sz="16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th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freed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No domestic cabot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No charter righ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TIONALITY R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SIGN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Normally single or double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Most states only have one air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xit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ifficu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TE SUBSID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TIONALITY RU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APTER 11 (in U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OUTPUT (i.e. capacit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led b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A capacity sharing/contr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ter-airline pooling agree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led b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ATA tariffs con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ter-airline agree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240" y="696600"/>
            <a:ext cx="907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</a:rPr>
              <a:t>Nationality rule could be </a:t>
            </a:r>
            <a:br>
              <a:rPr sz="3600"/>
            </a:br>
            <a:r>
              <a:rPr b="1" i="1" lang="en-US" sz="3600" spc="-1" strike="noStrike">
                <a:solidFill>
                  <a:srgbClr val="fafd00"/>
                </a:solidFill>
                <a:latin typeface="Arial"/>
              </a:rPr>
              <a:t>progressively abandoned</a:t>
            </a:r>
            <a:endParaRPr b="1" i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7440" y="2111400"/>
            <a:ext cx="6909120" cy="37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d with – “principle place of business” or by “any Community carrier”  (in Euro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 thr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Union – European Court D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Enlargement (17 to 27 st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AO 2003 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SzPct val="5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aterally or regio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APEC or Yamoussouk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 even TCA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84880" y="246240"/>
            <a:ext cx="161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5760" y="988560"/>
            <a:ext cx="859788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 Narrow"/>
              </a:rPr>
              <a:t>OUTSTANDING REGULATORY ISSUE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2880" y="1836720"/>
            <a:ext cx="779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3200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xing ownership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200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ing domestic cabotage in major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200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onising competition rules as alliances expand and/or airlines merge/consoli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3360" y="406440"/>
            <a:ext cx="1422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44720" y="1596960"/>
            <a:ext cx="740232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laxing nationality rule will help but will not ensure long-term profitability 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Real yields continue to decl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Real costs do not decline fast enoug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ad factors too l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 Narrow"/>
              </a:rPr>
              <a:t>Tackle inherent over-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 Narrow"/>
              </a:rPr>
              <a:t>Rethink the full service business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42120" y="262080"/>
            <a:ext cx="219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85960" y="1076400"/>
            <a:ext cx="7721640" cy="45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afd00"/>
                </a:solidFill>
                <a:latin typeface="Arial Narrow"/>
              </a:rPr>
              <a:t>For more discussion of the airline industry’s problems and prospects se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The Airline Business in the 21</a:t>
            </a:r>
            <a:r>
              <a:rPr b="1" i="1" lang="en-GB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igas Dogan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200" spc="-1" strike="noStrike">
                <a:solidFill>
                  <a:srgbClr val="fafd00"/>
                </a:solidFill>
                <a:latin typeface="Arial Narrow"/>
              </a:rPr>
              <a:t>Publishe</a:t>
            </a:r>
            <a:r>
              <a:rPr b="1" lang="en-GB" sz="2200" spc="-1" strike="noStrike">
                <a:solidFill>
                  <a:srgbClr val="fafd00"/>
                </a:solidFill>
                <a:latin typeface="Arial Narrow"/>
              </a:rPr>
              <a:t>r: Routled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200" spc="-1" strike="noStrike">
                <a:solidFill>
                  <a:srgbClr val="fafd00"/>
                </a:solidFill>
                <a:latin typeface="Arial Narrow"/>
              </a:rPr>
              <a:t>Available from</a:t>
            </a:r>
            <a:r>
              <a:rPr b="1" lang="en-GB" sz="2200" spc="-1" strike="noStrike">
                <a:solidFill>
                  <a:srgbClr val="fafd00"/>
                </a:solidFill>
                <a:latin typeface="Arial Narrow"/>
              </a:rPr>
              <a:t>: Amazon.com or amazon.co.u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47040" y="303120"/>
            <a:ext cx="1466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828360"/>
            <a:ext cx="907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</a:rPr>
              <a:t>The two phases of </a:t>
            </a:r>
            <a:br>
              <a:rPr sz="3600"/>
            </a:br>
            <a:r>
              <a:rPr b="1" i="1" lang="en-US" sz="3600" spc="-1" strike="noStrike">
                <a:solidFill>
                  <a:srgbClr val="fafd00"/>
                </a:solidFill>
                <a:latin typeface="Arial"/>
              </a:rPr>
              <a:t>post-1978 liberalisation</a:t>
            </a:r>
            <a:endParaRPr b="1" i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4320" y="2742840"/>
            <a:ext cx="6908760" cy="314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MARKETS”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8-19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ARDS “OPEN SKIES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19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9600" y="0"/>
            <a:ext cx="228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94360" y="434880"/>
            <a:ext cx="187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31840" y="868320"/>
            <a:ext cx="69804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1: “Open Markets” Phas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1978-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335320"/>
            <a:ext cx="698004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w liberal US bilaterals (after 197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eralised intra-European bilaterals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from 198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wo European liberalisation packages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1987 and 19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Asia national regulations relaxed: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, Asiana, Eva Air fly internation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523800"/>
            <a:ext cx="9077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TRADITIONAL AND POST-1978 ‘OPEN MARKET’ </a:t>
            </a:r>
            <a:br>
              <a:rPr sz="2200"/>
            </a:b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BILATERALS COMPARED</a:t>
            </a: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0"/>
            <a:ext cx="1792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31760" y="1792440"/>
          <a:ext cx="7429680" cy="3887640"/>
        </p:xfrm>
        <a:graphic>
          <a:graphicData uri="http://schemas.openxmlformats.org/drawingml/2006/table">
            <a:tbl>
              <a:tblPr/>
              <a:tblGrid>
                <a:gridCol w="2303640"/>
                <a:gridCol w="2301840"/>
                <a:gridCol w="2824200"/>
              </a:tblGrid>
              <a:tr h="33228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adi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New ‘open market’ bilater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 rowSpan="3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MARKET AC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nly to points speci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Increased</a:t>
                      </a: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number of point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or open ac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mited Fifth Freedoms granted – more in US bilater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Generally more Fifth Freedom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, especially in US bilater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arter rights not inclu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Charters inclu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DESIGN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ingle – some multiple in US bilater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Mult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irflines  ‘substantially owned and effectively controlled’  by own nation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087560" y="5892840"/>
            <a:ext cx="61689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*While US bilaterals gave US airlines rights from any point in USA, foreign airlines restricted to a handful of US po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3480" y="552240"/>
            <a:ext cx="907704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TRADITIONAL AND POST-1978 ‘OPEN MARKET’ </a:t>
            </a:r>
            <a:br>
              <a:rPr sz="2200"/>
            </a:b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BILATERALS COMPARED</a:t>
            </a: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11800" y="0"/>
            <a:ext cx="217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4 (cont’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57320" y="1596960"/>
          <a:ext cx="6908760" cy="412596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</a:tblGrid>
              <a:tr h="40572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Open Market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828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CAPA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pacity agreed or shared 50: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capacity/frequency controls in liberals, but subject to revie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No frequency or capacity contr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232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TARIF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uble approval by both govern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 be agreed using IATA proced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Arial Narrow"/>
                        </a:rPr>
                        <a:t>Double disappro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ATA tariffs often flouted (especially in Asi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407960" y="5921280"/>
            <a:ext cx="60231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03400" y="5935680"/>
            <a:ext cx="69372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fafd00"/>
                </a:solidFill>
                <a:latin typeface="Arial"/>
              </a:rPr>
              <a:t>Source: Rigas Doganis, ‘Flying Off Course: the Economics of International </a:t>
            </a:r>
            <a:r>
              <a:rPr b="0" i="1" lang="en-GB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fafd00"/>
                </a:solidFill>
                <a:latin typeface="Arial"/>
              </a:rPr>
              <a:t>Airlines’, Third Edition, Routledge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01440"/>
            <a:ext cx="9077400" cy="99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UK – SINGAPORE BILATERAL July 1989 </a:t>
            </a:r>
            <a:br>
              <a:rPr sz="2800"/>
            </a:b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(example of “Open Market” ASA)</a:t>
            </a:r>
            <a:endParaRPr b="1" i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ultiple desig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ouble disapproval on f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apacity controlled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wo daily to London (for each count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ree/week to Manchester (for each count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 Narrow"/>
              </a:rPr>
              <a:t>i.e. 17 per week by 1993-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 Narrow"/>
              </a:rPr>
              <a:t>then to 21 week as traffic in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ingapore full 5th freedom to London but not bey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K may hub in Singap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p to 20 x 747 week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 50 smaller airc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crease frequencies Singapore – Hong K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20840"/>
            <a:ext cx="1828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40" y="580680"/>
            <a:ext cx="907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2: Towards “Open Skies”,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1991-2003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endParaRPr b="1" i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“Open Skies” Bilaterals (after 19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pean Third Package (Jan 199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onal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    Yamoussoukro II (199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EC (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S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7760" y="0"/>
            <a:ext cx="1712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xhibi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240" y="771120"/>
            <a:ext cx="9077400" cy="13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 Narrow"/>
                <a:ea typeface="Arial"/>
              </a:rPr>
              <a:t>NEW US “OPEN SKIES” BILATERALS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Times New Roman"/>
              </a:rPr>
              <a:t> AFTER</a:t>
            </a:r>
            <a:r>
              <a:rPr b="1" i="1" lang="en-US" sz="3200" spc="-1" strike="noStrike">
                <a:solidFill>
                  <a:srgbClr val="fafd00"/>
                </a:solidFill>
                <a:latin typeface="Arial Narrow"/>
                <a:ea typeface="Arial"/>
              </a:rPr>
              <a:t> 1991</a:t>
            </a:r>
            <a:br>
              <a:rPr sz="3200"/>
            </a:b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Times New Roman"/>
              </a:rPr>
              <a:t>(almost 60* signed by end 2002)</a:t>
            </a:r>
            <a:endParaRPr b="1" i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15760" y="2216160"/>
            <a:ext cx="7515000" cy="36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85000"/>
              </a:lnSpc>
              <a:spcBef>
                <a:spcPts val="1125"/>
              </a:spcBef>
              <a:spcAft>
                <a:spcPts val="1250"/>
              </a:spcAft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ree pricing for passengers and car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1125"/>
              </a:spcBef>
              <a:spcAft>
                <a:spcPts val="1250"/>
              </a:spcAft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capacity or routing restr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1125"/>
              </a:spcBef>
              <a:spcAft>
                <a:spcPts val="1250"/>
              </a:spcAft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cess to any point in each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1125"/>
              </a:spcBef>
              <a:spcAft>
                <a:spcPts val="1250"/>
              </a:spcAft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limited fifth Freedom ri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pen code-sharing opportunities with third countries having similar ri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5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5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* But only 19 involve competitive mar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e.g. Netherlands-USA (1992) or Singapore-US (1997) but 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 with UK or Ja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90600"/>
            <a:ext cx="17845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xhibi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30T10:12:12Z</dcterms:created>
  <dc:creator>Active Graphics 01234 740257</dc:creator>
  <dc:description/>
  <dc:language>en-US</dc:language>
  <cp:lastModifiedBy>PC0314 ICAO</cp:lastModifiedBy>
  <cp:lastPrinted>1998-10-14T17:19:21Z</cp:lastPrinted>
  <dcterms:modified xsi:type="dcterms:W3CDTF">2003-03-20T19:26:32Z</dcterms:modified>
  <cp:revision>300</cp:revision>
  <dc:subject/>
  <dc:title>Beyond the Crisis: San Diego</dc:title>
</cp:coreProperties>
</file>