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902825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9336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04800" y="4389120"/>
            <a:ext cx="5673600" cy="455436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ldImg"/>
          </p:nvPr>
        </p:nvSpPr>
        <p:spPr>
          <a:xfrm>
            <a:off x="601560" y="210600"/>
            <a:ext cx="5685120" cy="39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3"/>
          </p:nvPr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3732BC-AD9B-47BE-81DF-0ED339AD06CF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"/>
          <p:cNvSpPr txBox="1"/>
          <p:nvPr/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619DBAA-EAAC-4828-81C8-216633CC3D0D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body"/>
          </p:nvPr>
        </p:nvSpPr>
        <p:spPr>
          <a:xfrm>
            <a:off x="604800" y="4389120"/>
            <a:ext cx="5673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 type="sldImg"/>
          </p:nvPr>
        </p:nvSpPr>
        <p:spPr>
          <a:xfrm>
            <a:off x="600120" y="210960"/>
            <a:ext cx="5686560" cy="3937320"/>
          </a:xfrm>
          <a:prstGeom prst="rect">
            <a:avLst/>
          </a:prstGeom>
          <a:ln w="0">
            <a:noFill/>
          </a:ln>
        </p:spPr>
      </p:sp>
      <p:sp>
        <p:nvSpPr>
          <p:cNvPr id="1022" name=""/>
          <p:cNvSpPr/>
          <p:nvPr/>
        </p:nvSpPr>
        <p:spPr>
          <a:xfrm>
            <a:off x="606600" y="4638240"/>
            <a:ext cx="5618160" cy="9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ooz Allen Hamilton Standard Color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lors should be used in the color pairs whenever possible. Do not mix and match colors, use pairs together as shown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lack, White and Gray can be used with any of the other colors.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3" name=""/>
          <p:cNvSpPr/>
          <p:nvPr/>
        </p:nvSpPr>
        <p:spPr>
          <a:xfrm>
            <a:off x="685800" y="6632640"/>
            <a:ext cx="681120" cy="685800"/>
          </a:xfrm>
          <a:prstGeom prst="rect">
            <a:avLst/>
          </a:prstGeom>
          <a:solidFill>
            <a:srgbClr val="36015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4" name=""/>
          <p:cNvSpPr/>
          <p:nvPr/>
        </p:nvSpPr>
        <p:spPr>
          <a:xfrm>
            <a:off x="1028880" y="7122960"/>
            <a:ext cx="688680" cy="689040"/>
          </a:xfrm>
          <a:prstGeom prst="rect">
            <a:avLst/>
          </a:prstGeom>
          <a:solidFill>
            <a:srgbClr val="f2050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5" name=""/>
          <p:cNvSpPr/>
          <p:nvPr/>
        </p:nvSpPr>
        <p:spPr>
          <a:xfrm>
            <a:off x="1882800" y="6632640"/>
            <a:ext cx="687240" cy="685800"/>
          </a:xfrm>
          <a:prstGeom prst="rect">
            <a:avLst/>
          </a:prstGeom>
          <a:solidFill>
            <a:srgbClr val="0f431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6" name=""/>
          <p:cNvSpPr/>
          <p:nvPr/>
        </p:nvSpPr>
        <p:spPr>
          <a:xfrm>
            <a:off x="2239920" y="7122960"/>
            <a:ext cx="687600" cy="689040"/>
          </a:xfrm>
          <a:prstGeom prst="rect">
            <a:avLst/>
          </a:prstGeom>
          <a:solidFill>
            <a:srgbClr val="e8f4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7" name=""/>
          <p:cNvSpPr/>
          <p:nvPr/>
        </p:nvSpPr>
        <p:spPr>
          <a:xfrm>
            <a:off x="3141720" y="6632640"/>
            <a:ext cx="690480" cy="685800"/>
          </a:xfrm>
          <a:prstGeom prst="rect">
            <a:avLst/>
          </a:prstGeom>
          <a:solidFill>
            <a:srgbClr val="0b1f6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8" name=""/>
          <p:cNvSpPr/>
          <p:nvPr/>
        </p:nvSpPr>
        <p:spPr>
          <a:xfrm>
            <a:off x="3479760" y="7122960"/>
            <a:ext cx="689040" cy="689040"/>
          </a:xfrm>
          <a:prstGeom prst="rect">
            <a:avLst/>
          </a:prstGeom>
          <a:solidFill>
            <a:srgbClr val="7ecc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9" name=""/>
          <p:cNvSpPr/>
          <p:nvPr/>
        </p:nvSpPr>
        <p:spPr>
          <a:xfrm>
            <a:off x="5543640" y="6632640"/>
            <a:ext cx="684000" cy="685800"/>
          </a:xfrm>
          <a:prstGeom prst="rect">
            <a:avLst/>
          </a:prstGeom>
          <a:solidFill>
            <a:srgbClr val="9e9e9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0" name=""/>
          <p:cNvSpPr/>
          <p:nvPr/>
        </p:nvSpPr>
        <p:spPr>
          <a:xfrm>
            <a:off x="4343400" y="6632640"/>
            <a:ext cx="687240" cy="6858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1" name=""/>
          <p:cNvSpPr/>
          <p:nvPr/>
        </p:nvSpPr>
        <p:spPr>
          <a:xfrm>
            <a:off x="4680000" y="7122960"/>
            <a:ext cx="684000" cy="68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2" name=""/>
          <p:cNvSpPr/>
          <p:nvPr/>
        </p:nvSpPr>
        <p:spPr>
          <a:xfrm>
            <a:off x="714240" y="5752080"/>
            <a:ext cx="7635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urpl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7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3" name=""/>
          <p:cNvSpPr/>
          <p:nvPr/>
        </p:nvSpPr>
        <p:spPr>
          <a:xfrm>
            <a:off x="1887480" y="5752080"/>
            <a:ext cx="766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een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4" name=""/>
          <p:cNvSpPr/>
          <p:nvPr/>
        </p:nvSpPr>
        <p:spPr>
          <a:xfrm>
            <a:off x="3159000" y="5752080"/>
            <a:ext cx="7653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u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2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5" name=""/>
          <p:cNvSpPr/>
          <p:nvPr/>
        </p:nvSpPr>
        <p:spPr>
          <a:xfrm>
            <a:off x="4361040" y="6360480"/>
            <a:ext cx="76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lack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6" name=""/>
          <p:cNvSpPr/>
          <p:nvPr/>
        </p:nvSpPr>
        <p:spPr>
          <a:xfrm>
            <a:off x="5533920" y="5873760"/>
            <a:ext cx="7686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Cool Gray 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8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7" name=""/>
          <p:cNvSpPr/>
          <p:nvPr/>
        </p:nvSpPr>
        <p:spPr>
          <a:xfrm>
            <a:off x="1062000" y="7880400"/>
            <a:ext cx="77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d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8" name=""/>
          <p:cNvSpPr/>
          <p:nvPr/>
        </p:nvSpPr>
        <p:spPr>
          <a:xfrm>
            <a:off x="2238480" y="7880400"/>
            <a:ext cx="7682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Yellow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3965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2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9" name=""/>
          <p:cNvSpPr/>
          <p:nvPr/>
        </p:nvSpPr>
        <p:spPr>
          <a:xfrm>
            <a:off x="3511440" y="7880400"/>
            <a:ext cx="7668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qua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ntone 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4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9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0" name=""/>
          <p:cNvSpPr/>
          <p:nvPr/>
        </p:nvSpPr>
        <p:spPr>
          <a:xfrm>
            <a:off x="4714920" y="7880400"/>
            <a:ext cx="76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hite 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"/>
          <p:cNvSpPr txBox="1"/>
          <p:nvPr/>
        </p:nvSpPr>
        <p:spPr>
          <a:xfrm>
            <a:off x="6660720" y="9053640"/>
            <a:ext cx="228600" cy="14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E3F3D18-E321-4A6E-9539-A27CEED7C34E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600120" y="208080"/>
            <a:ext cx="5643360" cy="390816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608040" y="4389480"/>
            <a:ext cx="5672160" cy="455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86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11400" y="152388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86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11400" y="3713400"/>
            <a:ext cx="28213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380520"/>
            <a:ext cx="898524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76080" y="371340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76080" y="1523880"/>
            <a:ext cx="427608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13400"/>
            <a:ext cx="8763120" cy="199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-235080">
              <a:spcBef>
                <a:spcPts val="200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spcBef>
                <a:spcPts val="20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278080" indent="11160">
              <a:spcBef>
                <a:spcPts val="2001"/>
              </a:spcBef>
              <a:buClr>
                <a:srgbClr val="0b1f65"/>
              </a:buClr>
              <a:buSzPct val="75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403360">
              <a:spcBef>
                <a:spcPts val="2001"/>
              </a:spcBef>
              <a:buClr>
                <a:srgbClr val="0b1f65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517840">
              <a:spcBef>
                <a:spcPts val="2001"/>
              </a:spcBef>
              <a:buClr>
                <a:srgbClr val="000000"/>
              </a:buClr>
              <a:buSzPct val="40000"/>
              <a:buFont typeface="Arial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88A76-D5F1-4A7B-8352-8DEC0FE3C1F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75840" y="6714720"/>
            <a:ext cx="1593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PUS1747-0126-011303v1.pp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99840" y="12189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93320" y="6715080"/>
            <a:ext cx="52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A92B-2C4B-43C8-A984-54B6B07E185F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2"/>
          </p:nvPr>
        </p:nvSpPr>
        <p:spPr>
          <a:xfrm>
            <a:off x="375840" y="6714720"/>
            <a:ext cx="36828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7" name=""/>
          <p:cNvSpPr/>
          <p:nvPr/>
        </p:nvSpPr>
        <p:spPr>
          <a:xfrm>
            <a:off x="1422360" y="1905120"/>
            <a:ext cx="0" cy="457200"/>
          </a:xfrm>
          <a:prstGeom prst="line">
            <a:avLst/>
          </a:prstGeom>
          <a:ln w="763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9902880" cy="5302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169040" y="6237360"/>
            <a:ext cx="2733840" cy="465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738760" y="4094280"/>
            <a:ext cx="2509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1920960" y="1523880"/>
            <a:ext cx="633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"/>
          <p:cNvSpPr/>
          <p:nvPr/>
        </p:nvSpPr>
        <p:spPr>
          <a:xfrm>
            <a:off x="1920960" y="2133720"/>
            <a:ext cx="63849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 New Operating Paradigm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"/>
          <p:cNvSpPr/>
          <p:nvPr/>
        </p:nvSpPr>
        <p:spPr>
          <a:xfrm>
            <a:off x="1609560" y="1523880"/>
            <a:ext cx="0" cy="1905120"/>
          </a:xfrm>
          <a:prstGeom prst="line">
            <a:avLst/>
          </a:prstGeom>
          <a:ln w="101520">
            <a:solidFill>
              <a:srgbClr val="0b1f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4" name=""/>
          <p:cNvGrpSpPr/>
          <p:nvPr/>
        </p:nvGrpSpPr>
        <p:grpSpPr>
          <a:xfrm>
            <a:off x="3384720" y="2374920"/>
            <a:ext cx="3043080" cy="461520"/>
            <a:chOff x="3384720" y="2374920"/>
            <a:chExt cx="3043080" cy="461520"/>
          </a:xfrm>
        </p:grpSpPr>
        <p:sp>
          <p:nvSpPr>
            <p:cNvPr id="995" name=""/>
            <p:cNvSpPr/>
            <p:nvPr/>
          </p:nvSpPr>
          <p:spPr>
            <a:xfrm>
              <a:off x="3408480" y="2394000"/>
              <a:ext cx="3019320" cy="442440"/>
            </a:xfrm>
            <a:custGeom>
              <a:avLst/>
              <a:gdLst/>
              <a:ahLst/>
              <a:rect l="l" t="t" r="r" b="b"/>
              <a:pathLst>
                <a:path w="3805" h="683">
                  <a:moveTo>
                    <a:pt x="0" y="342"/>
                  </a:moveTo>
                  <a:lnTo>
                    <a:pt x="357" y="683"/>
                  </a:lnTo>
                  <a:lnTo>
                    <a:pt x="357" y="528"/>
                  </a:lnTo>
                  <a:lnTo>
                    <a:pt x="3448" y="528"/>
                  </a:lnTo>
                  <a:lnTo>
                    <a:pt x="3448" y="683"/>
                  </a:lnTo>
                  <a:lnTo>
                    <a:pt x="3805" y="342"/>
                  </a:lnTo>
                  <a:lnTo>
                    <a:pt x="3448" y="0"/>
                  </a:lnTo>
                  <a:lnTo>
                    <a:pt x="3448" y="155"/>
                  </a:lnTo>
                  <a:lnTo>
                    <a:pt x="357" y="155"/>
                  </a:lnTo>
                  <a:lnTo>
                    <a:pt x="357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384720" y="2374920"/>
              <a:ext cx="3019320" cy="442440"/>
            </a:xfrm>
            <a:custGeom>
              <a:avLst/>
              <a:gdLst/>
              <a:ahLst/>
              <a:rect l="l" t="t" r="r" b="b"/>
              <a:pathLst>
                <a:path w="3804" h="684">
                  <a:moveTo>
                    <a:pt x="0" y="342"/>
                  </a:moveTo>
                  <a:lnTo>
                    <a:pt x="356" y="684"/>
                  </a:lnTo>
                  <a:lnTo>
                    <a:pt x="356" y="529"/>
                  </a:lnTo>
                  <a:lnTo>
                    <a:pt x="3447" y="529"/>
                  </a:lnTo>
                  <a:lnTo>
                    <a:pt x="3447" y="684"/>
                  </a:lnTo>
                  <a:lnTo>
                    <a:pt x="3804" y="342"/>
                  </a:lnTo>
                  <a:lnTo>
                    <a:pt x="3447" y="0"/>
                  </a:lnTo>
                  <a:lnTo>
                    <a:pt x="3447" y="155"/>
                  </a:lnTo>
                  <a:lnTo>
                    <a:pt x="356" y="155"/>
                  </a:lnTo>
                  <a:lnTo>
                    <a:pt x="356" y="0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6377040" y="3416400"/>
            <a:ext cx="1564920" cy="1449000"/>
            <a:chOff x="6377040" y="3416400"/>
            <a:chExt cx="1564920" cy="1449000"/>
          </a:xfrm>
        </p:grpSpPr>
        <p:sp>
          <p:nvSpPr>
            <p:cNvPr id="998" name=""/>
            <p:cNvSpPr/>
            <p:nvPr/>
          </p:nvSpPr>
          <p:spPr>
            <a:xfrm>
              <a:off x="6396480" y="3436200"/>
              <a:ext cx="1545480" cy="1429200"/>
            </a:xfrm>
            <a:custGeom>
              <a:avLst/>
              <a:gdLst/>
              <a:ahLst/>
              <a:rect l="l" t="t" r="r" b="b"/>
              <a:pathLst>
                <a:path w="2166" h="2137">
                  <a:moveTo>
                    <a:pt x="44" y="2083"/>
                  </a:moveTo>
                  <a:lnTo>
                    <a:pt x="477" y="2137"/>
                  </a:lnTo>
                  <a:lnTo>
                    <a:pt x="369" y="2026"/>
                  </a:lnTo>
                  <a:lnTo>
                    <a:pt x="2057" y="377"/>
                  </a:lnTo>
                  <a:lnTo>
                    <a:pt x="2166" y="488"/>
                  </a:lnTo>
                  <a:lnTo>
                    <a:pt x="2122" y="54"/>
                  </a:lnTo>
                  <a:lnTo>
                    <a:pt x="1689" y="0"/>
                  </a:lnTo>
                  <a:lnTo>
                    <a:pt x="1797" y="111"/>
                  </a:lnTo>
                  <a:lnTo>
                    <a:pt x="109" y="1760"/>
                  </a:lnTo>
                  <a:lnTo>
                    <a:pt x="0" y="1649"/>
                  </a:lnTo>
                  <a:lnTo>
                    <a:pt x="44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377040" y="3416400"/>
              <a:ext cx="1543320" cy="1430280"/>
            </a:xfrm>
            <a:custGeom>
              <a:avLst/>
              <a:gdLst/>
              <a:ahLst/>
              <a:rect l="l" t="t" r="r" b="b"/>
              <a:pathLst>
                <a:path w="2167" h="2137">
                  <a:moveTo>
                    <a:pt x="45" y="2083"/>
                  </a:moveTo>
                  <a:lnTo>
                    <a:pt x="477" y="2137"/>
                  </a:lnTo>
                  <a:lnTo>
                    <a:pt x="370" y="2026"/>
                  </a:lnTo>
                  <a:lnTo>
                    <a:pt x="2058" y="377"/>
                  </a:lnTo>
                  <a:lnTo>
                    <a:pt x="2167" y="488"/>
                  </a:lnTo>
                  <a:lnTo>
                    <a:pt x="2122" y="54"/>
                  </a:lnTo>
                  <a:lnTo>
                    <a:pt x="1690" y="0"/>
                  </a:lnTo>
                  <a:lnTo>
                    <a:pt x="1797" y="111"/>
                  </a:lnTo>
                  <a:lnTo>
                    <a:pt x="109" y="1760"/>
                  </a:lnTo>
                  <a:lnTo>
                    <a:pt x="0" y="1649"/>
                  </a:lnTo>
                  <a:lnTo>
                    <a:pt x="45" y="2083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000" name=""/>
          <p:cNvGrpSpPr/>
          <p:nvPr/>
        </p:nvGrpSpPr>
        <p:grpSpPr>
          <a:xfrm>
            <a:off x="1898640" y="3362400"/>
            <a:ext cx="1564920" cy="1577520"/>
            <a:chOff x="1898640" y="3362400"/>
            <a:chExt cx="1564920" cy="1577520"/>
          </a:xfrm>
        </p:grpSpPr>
        <p:sp>
          <p:nvSpPr>
            <p:cNvPr id="1001" name=""/>
            <p:cNvSpPr/>
            <p:nvPr/>
          </p:nvSpPr>
          <p:spPr>
            <a:xfrm>
              <a:off x="1919880" y="3384360"/>
              <a:ext cx="1543680" cy="1555560"/>
            </a:xfrm>
            <a:custGeom>
              <a:avLst/>
              <a:gdLst/>
              <a:ahLst/>
              <a:rect l="l" t="t" r="r" b="b"/>
              <a:pathLst>
                <a:path w="2167" h="2136">
                  <a:moveTo>
                    <a:pt x="2122" y="2083"/>
                  </a:moveTo>
                  <a:lnTo>
                    <a:pt x="1690" y="2136"/>
                  </a:lnTo>
                  <a:lnTo>
                    <a:pt x="1797" y="2025"/>
                  </a:lnTo>
                  <a:lnTo>
                    <a:pt x="109" y="377"/>
                  </a:lnTo>
                  <a:lnTo>
                    <a:pt x="0" y="487"/>
                  </a:lnTo>
                  <a:lnTo>
                    <a:pt x="44" y="53"/>
                  </a:lnTo>
                  <a:lnTo>
                    <a:pt x="477" y="0"/>
                  </a:lnTo>
                  <a:lnTo>
                    <a:pt x="370" y="110"/>
                  </a:lnTo>
                  <a:lnTo>
                    <a:pt x="2058" y="1759"/>
                  </a:lnTo>
                  <a:lnTo>
                    <a:pt x="2167" y="1648"/>
                  </a:lnTo>
                  <a:lnTo>
                    <a:pt x="2122" y="20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898640" y="3362400"/>
              <a:ext cx="1545480" cy="1555920"/>
            </a:xfrm>
            <a:custGeom>
              <a:avLst/>
              <a:gdLst/>
              <a:ahLst/>
              <a:rect l="l" t="t" r="r" b="b"/>
              <a:pathLst>
                <a:path w="2166" h="2137">
                  <a:moveTo>
                    <a:pt x="2122" y="2083"/>
                  </a:moveTo>
                  <a:lnTo>
                    <a:pt x="1689" y="2137"/>
                  </a:lnTo>
                  <a:lnTo>
                    <a:pt x="1796" y="2026"/>
                  </a:lnTo>
                  <a:lnTo>
                    <a:pt x="109" y="377"/>
                  </a:lnTo>
                  <a:lnTo>
                    <a:pt x="0" y="488"/>
                  </a:lnTo>
                  <a:lnTo>
                    <a:pt x="44" y="54"/>
                  </a:lnTo>
                  <a:lnTo>
                    <a:pt x="476" y="0"/>
                  </a:lnTo>
                  <a:lnTo>
                    <a:pt x="369" y="111"/>
                  </a:lnTo>
                  <a:lnTo>
                    <a:pt x="2057" y="1760"/>
                  </a:lnTo>
                  <a:lnTo>
                    <a:pt x="2166" y="1649"/>
                  </a:lnTo>
                  <a:lnTo>
                    <a:pt x="2122" y="2083"/>
                  </a:lnTo>
                  <a:close/>
                </a:path>
              </a:pathLst>
            </a:custGeom>
            <a:solidFill>
              <a:srgbClr val="b72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003" name=""/>
          <p:cNvSpPr/>
          <p:nvPr/>
        </p:nvSpPr>
        <p:spPr>
          <a:xfrm>
            <a:off x="4037040" y="3232080"/>
            <a:ext cx="233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er Cos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iated Servic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3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abil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4" name=""/>
          <p:cNvSpPr/>
          <p:nvPr/>
        </p:nvSpPr>
        <p:spPr>
          <a:xfrm>
            <a:off x="609480" y="1541520"/>
            <a:ext cx="2719440" cy="172872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dom hubbing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proved asset productiv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TAT and handling complex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ter trade-off between efficient operation and optimum connectivity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5" name=""/>
          <p:cNvSpPr/>
          <p:nvPr/>
        </p:nvSpPr>
        <p:spPr>
          <a:xfrm>
            <a:off x="915840" y="1585800"/>
            <a:ext cx="2108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Restructure Network / Hub Operations to Remove Scheduling Constraint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Below the Wing Processes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6" name=""/>
          <p:cNvSpPr/>
          <p:nvPr/>
        </p:nvSpPr>
        <p:spPr>
          <a:xfrm>
            <a:off x="4267080" y="19940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complexity, increase pac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7" name=""/>
          <p:cNvSpPr/>
          <p:nvPr/>
        </p:nvSpPr>
        <p:spPr>
          <a:xfrm>
            <a:off x="3630600" y="4060800"/>
            <a:ext cx="2617920" cy="17287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service levels where needed or expected (local vs. connectivity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w-cost service levels where possible (high-value vs. low-value customers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8" name=""/>
          <p:cNvSpPr/>
          <p:nvPr/>
        </p:nvSpPr>
        <p:spPr>
          <a:xfrm>
            <a:off x="3913200" y="4164120"/>
            <a:ext cx="21081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reate Separate Business Systems for Distinct Customer Segments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Product Differentiation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9" name=""/>
          <p:cNvSpPr/>
          <p:nvPr/>
        </p:nvSpPr>
        <p:spPr>
          <a:xfrm>
            <a:off x="6540480" y="1541520"/>
            <a:ext cx="2718000" cy="17287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arate simple from complicated tasks; apply tailored process stream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uce low-value interactions with staff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marL="117360" indent="-117360">
              <a:lnSpc>
                <a:spcPct val="100000"/>
              </a:lnSpc>
              <a:spcBef>
                <a:spcPts val="2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plify reservation, ticketing, check-in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0" name=""/>
          <p:cNvSpPr/>
          <p:nvPr/>
        </p:nvSpPr>
        <p:spPr>
          <a:xfrm>
            <a:off x="6792840" y="1631880"/>
            <a:ext cx="22622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implify Customer Interface at the Airport and in Distribu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“Above the Wing Processes”)</a:t>
            </a:r>
            <a:endParaRPr b="0" lang="en-US" sz="1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1" name=""/>
          <p:cNvSpPr/>
          <p:nvPr/>
        </p:nvSpPr>
        <p:spPr>
          <a:xfrm>
            <a:off x="6502320" y="35654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hieve pure business stream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2" name=""/>
          <p:cNvSpPr/>
          <p:nvPr/>
        </p:nvSpPr>
        <p:spPr>
          <a:xfrm>
            <a:off x="2031840" y="3565440"/>
            <a:ext cx="1320840" cy="1193760"/>
          </a:xfrm>
          <a:prstGeom prst="ellipse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vide specialized services and appropriate schedule qualitie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w business model may emerge that closes 70-80% of the cost gap and re-establishes product differenti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 new industry structure may emerge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or the next crisis will be a repeat on steroi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849240" y="1384200"/>
            <a:ext cx="3711600" cy="4143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w Business Mod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6" name=""/>
          <p:cNvSpPr/>
          <p:nvPr/>
        </p:nvSpPr>
        <p:spPr>
          <a:xfrm>
            <a:off x="849240" y="1798560"/>
            <a:ext cx="3711600" cy="41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-3 new network based carriers emerge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 or 2 random hubs each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ny centers of mass a la SWA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eater focus on non-stop service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 low costs carriers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arriers that perform two mission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eed for limited number of random hub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int to point flying in business and smaller marke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7" name=""/>
          <p:cNvSpPr/>
          <p:nvPr/>
        </p:nvSpPr>
        <p:spPr>
          <a:xfrm>
            <a:off x="5497560" y="1384200"/>
            <a:ext cx="3673440" cy="41760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cremental Evolutio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8" name=""/>
          <p:cNvSpPr/>
          <p:nvPr/>
        </p:nvSpPr>
        <p:spPr>
          <a:xfrm>
            <a:off x="5497560" y="1801800"/>
            <a:ext cx="3673440" cy="4178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twork carriers stick to current business model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d share loss to LCC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st subs fail again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operators take over larger proportions of network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lvl="1" marL="474840" indent="-2304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-2 low cost carriers succeed by continent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onal carriers pick up failing routes, remain more focused on fee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marL="235080" indent="-2350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 crisis is an amplification of current on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ooz Allen Hamilt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ding strategy and technology consulting fi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000 employees, $2.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nded in 19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r clients in air transport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overnments, airports, air navigation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, logistics, GDSs, travel agencies, equipment and 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global team: USA, Europe, Asia, Latin America,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8520" indent="-218520">
              <a:spcBef>
                <a:spcPts val="2251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eadt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y, operational restructuring, organizational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s design and implementation sup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25160" indent="-205200">
              <a:lnSpc>
                <a:spcPct val="90000"/>
              </a:lnSpc>
              <a:spcBef>
                <a:spcPts val="901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icy and regulatory ad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rline crisis is unprecedented – current price levels appear consistent with long term trend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437680" y="4437000"/>
            <a:ext cx="1274760" cy="1060560"/>
          </a:xfrm>
          <a:custGeom>
            <a:avLst/>
            <a:gdLst/>
            <a:ahLst/>
            <a:rect l="l" t="t" r="r" b="b"/>
            <a:pathLst>
              <a:path w="1022" h="633">
                <a:moveTo>
                  <a:pt x="591" y="6"/>
                </a:moveTo>
                <a:cubicBezTo>
                  <a:pt x="534" y="6"/>
                  <a:pt x="511" y="25"/>
                  <a:pt x="486" y="40"/>
                </a:cubicBezTo>
                <a:cubicBezTo>
                  <a:pt x="469" y="27"/>
                  <a:pt x="427" y="0"/>
                  <a:pt x="372" y="4"/>
                </a:cubicBezTo>
                <a:cubicBezTo>
                  <a:pt x="317" y="7"/>
                  <a:pt x="286" y="27"/>
                  <a:pt x="274" y="51"/>
                </a:cubicBezTo>
                <a:cubicBezTo>
                  <a:pt x="217" y="34"/>
                  <a:pt x="160" y="54"/>
                  <a:pt x="129" y="76"/>
                </a:cubicBezTo>
                <a:cubicBezTo>
                  <a:pt x="98" y="99"/>
                  <a:pt x="88" y="141"/>
                  <a:pt x="97" y="181"/>
                </a:cubicBezTo>
                <a:cubicBezTo>
                  <a:pt x="24" y="206"/>
                  <a:pt x="0" y="244"/>
                  <a:pt x="7" y="309"/>
                </a:cubicBezTo>
                <a:cubicBezTo>
                  <a:pt x="14" y="374"/>
                  <a:pt x="69" y="407"/>
                  <a:pt x="102" y="414"/>
                </a:cubicBezTo>
                <a:cubicBezTo>
                  <a:pt x="82" y="452"/>
                  <a:pt x="76" y="489"/>
                  <a:pt x="112" y="524"/>
                </a:cubicBezTo>
                <a:cubicBezTo>
                  <a:pt x="147" y="559"/>
                  <a:pt x="187" y="562"/>
                  <a:pt x="217" y="562"/>
                </a:cubicBezTo>
                <a:cubicBezTo>
                  <a:pt x="224" y="579"/>
                  <a:pt x="241" y="597"/>
                  <a:pt x="307" y="614"/>
                </a:cubicBezTo>
                <a:cubicBezTo>
                  <a:pt x="373" y="632"/>
                  <a:pt x="436" y="609"/>
                  <a:pt x="454" y="602"/>
                </a:cubicBezTo>
                <a:cubicBezTo>
                  <a:pt x="468" y="622"/>
                  <a:pt x="528" y="633"/>
                  <a:pt x="583" y="632"/>
                </a:cubicBezTo>
                <a:cubicBezTo>
                  <a:pt x="638" y="630"/>
                  <a:pt x="657" y="619"/>
                  <a:pt x="679" y="602"/>
                </a:cubicBezTo>
                <a:cubicBezTo>
                  <a:pt x="721" y="614"/>
                  <a:pt x="781" y="617"/>
                  <a:pt x="832" y="584"/>
                </a:cubicBezTo>
                <a:cubicBezTo>
                  <a:pt x="883" y="552"/>
                  <a:pt x="892" y="537"/>
                  <a:pt x="900" y="497"/>
                </a:cubicBezTo>
                <a:cubicBezTo>
                  <a:pt x="979" y="482"/>
                  <a:pt x="1002" y="443"/>
                  <a:pt x="1012" y="404"/>
                </a:cubicBezTo>
                <a:cubicBezTo>
                  <a:pt x="1022" y="374"/>
                  <a:pt x="997" y="281"/>
                  <a:pt x="959" y="266"/>
                </a:cubicBezTo>
                <a:cubicBezTo>
                  <a:pt x="974" y="229"/>
                  <a:pt x="962" y="187"/>
                  <a:pt x="949" y="162"/>
                </a:cubicBezTo>
                <a:cubicBezTo>
                  <a:pt x="936" y="137"/>
                  <a:pt x="884" y="108"/>
                  <a:pt x="842" y="109"/>
                </a:cubicBezTo>
                <a:cubicBezTo>
                  <a:pt x="838" y="80"/>
                  <a:pt x="821" y="60"/>
                  <a:pt x="799" y="49"/>
                </a:cubicBezTo>
                <a:cubicBezTo>
                  <a:pt x="777" y="38"/>
                  <a:pt x="729" y="34"/>
                  <a:pt x="707" y="51"/>
                </a:cubicBezTo>
                <a:cubicBezTo>
                  <a:pt x="692" y="29"/>
                  <a:pt x="647" y="6"/>
                  <a:pt x="591" y="6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"/>
          <p:cNvSpPr/>
          <p:nvPr/>
        </p:nvSpPr>
        <p:spPr>
          <a:xfrm>
            <a:off x="7513560" y="3252960"/>
            <a:ext cx="1190880" cy="1172880"/>
          </a:xfrm>
          <a:prstGeom prst="flowChartConnector">
            <a:avLst/>
          </a:prstGeom>
          <a:solidFill>
            <a:srgbClr val="7ecc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985680" y="1901880"/>
          <a:ext cx="7734600" cy="34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1901880"/>
                    <a:ext cx="7734600" cy="34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16200000">
            <a:off x="-738720" y="3169800"/>
            <a:ext cx="2943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nts Per Available Seat Mile(c/ASM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Adjusted To 2001 Dollars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2" name=""/>
          <p:cNvSpPr/>
          <p:nvPr/>
        </p:nvSpPr>
        <p:spPr>
          <a:xfrm>
            <a:off x="5243400" y="2306520"/>
            <a:ext cx="20829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>
            <a:off x="5384880" y="2436840"/>
            <a:ext cx="22392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5384880" y="2646360"/>
            <a:ext cx="223920" cy="0"/>
          </a:xfrm>
          <a:prstGeom prst="line">
            <a:avLst/>
          </a:prstGeom>
          <a:ln w="28440">
            <a:solidFill>
              <a:srgbClr val="b72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"/>
          <p:cNvSpPr/>
          <p:nvPr/>
        </p:nvSpPr>
        <p:spPr>
          <a:xfrm>
            <a:off x="3106800" y="1474200"/>
            <a:ext cx="33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it Revenue and Cost Trend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.S. Industry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"/>
          <p:cNvSpPr/>
          <p:nvPr/>
        </p:nvSpPr>
        <p:spPr>
          <a:xfrm>
            <a:off x="2038320" y="3962520"/>
            <a:ext cx="1049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M declin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M declin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7" name=""/>
          <p:cNvSpPr/>
          <p:nvPr/>
        </p:nvSpPr>
        <p:spPr>
          <a:xfrm>
            <a:off x="2886120" y="3962520"/>
            <a:ext cx="123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–1992: 1.5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79–1992: 1.8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"/>
          <p:cNvSpPr/>
          <p:nvPr/>
        </p:nvSpPr>
        <p:spPr>
          <a:xfrm>
            <a:off x="5587920" y="3962520"/>
            <a:ext cx="893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SM increas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SM increase: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"/>
          <p:cNvSpPr/>
          <p:nvPr/>
        </p:nvSpPr>
        <p:spPr>
          <a:xfrm>
            <a:off x="6489720" y="4114800"/>
            <a:ext cx="1241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3–1998: -1.0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993–1998: +0.6%pa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"/>
          <p:cNvSpPr/>
          <p:nvPr/>
        </p:nvSpPr>
        <p:spPr>
          <a:xfrm>
            <a:off x="990720" y="5635080"/>
            <a:ext cx="8569080" cy="2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     CASM reduction Q3 2002 somewhat overstated due to accounting effects 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Company Financial Statements, Back Associates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186680" y="1677960"/>
            <a:ext cx="1544400" cy="717120"/>
            <a:chOff x="7186680" y="1677960"/>
            <a:chExt cx="1544400" cy="717120"/>
          </a:xfrm>
        </p:grpSpPr>
        <p:sp>
          <p:nvSpPr>
            <p:cNvPr id="112" name=""/>
            <p:cNvSpPr/>
            <p:nvPr/>
          </p:nvSpPr>
          <p:spPr>
            <a:xfrm>
              <a:off x="7186680" y="1677960"/>
              <a:ext cx="1544400" cy="709920"/>
            </a:xfrm>
            <a:custGeom>
              <a:avLst/>
              <a:gdLst/>
              <a:ahLst/>
              <a:rect l="l" t="t" r="r" b="b"/>
              <a:pathLst>
                <a:path w="1022" h="633">
                  <a:moveTo>
                    <a:pt x="591" y="6"/>
                  </a:moveTo>
                  <a:cubicBezTo>
                    <a:pt x="534" y="6"/>
                    <a:pt x="511" y="25"/>
                    <a:pt x="486" y="40"/>
                  </a:cubicBezTo>
                  <a:cubicBezTo>
                    <a:pt x="469" y="27"/>
                    <a:pt x="427" y="0"/>
                    <a:pt x="372" y="4"/>
                  </a:cubicBezTo>
                  <a:cubicBezTo>
                    <a:pt x="317" y="7"/>
                    <a:pt x="286" y="27"/>
                    <a:pt x="274" y="51"/>
                  </a:cubicBezTo>
                  <a:cubicBezTo>
                    <a:pt x="217" y="34"/>
                    <a:pt x="160" y="54"/>
                    <a:pt x="129" y="76"/>
                  </a:cubicBezTo>
                  <a:cubicBezTo>
                    <a:pt x="98" y="99"/>
                    <a:pt x="88" y="141"/>
                    <a:pt x="97" y="181"/>
                  </a:cubicBezTo>
                  <a:cubicBezTo>
                    <a:pt x="24" y="206"/>
                    <a:pt x="0" y="244"/>
                    <a:pt x="7" y="309"/>
                  </a:cubicBezTo>
                  <a:cubicBezTo>
                    <a:pt x="14" y="374"/>
                    <a:pt x="69" y="407"/>
                    <a:pt x="102" y="414"/>
                  </a:cubicBezTo>
                  <a:cubicBezTo>
                    <a:pt x="82" y="452"/>
                    <a:pt x="76" y="489"/>
                    <a:pt x="112" y="524"/>
                  </a:cubicBezTo>
                  <a:cubicBezTo>
                    <a:pt x="147" y="559"/>
                    <a:pt x="187" y="562"/>
                    <a:pt x="217" y="562"/>
                  </a:cubicBezTo>
                  <a:cubicBezTo>
                    <a:pt x="224" y="579"/>
                    <a:pt x="241" y="597"/>
                    <a:pt x="307" y="614"/>
                  </a:cubicBezTo>
                  <a:cubicBezTo>
                    <a:pt x="373" y="632"/>
                    <a:pt x="436" y="609"/>
                    <a:pt x="454" y="602"/>
                  </a:cubicBezTo>
                  <a:cubicBezTo>
                    <a:pt x="468" y="622"/>
                    <a:pt x="528" y="633"/>
                    <a:pt x="583" y="632"/>
                  </a:cubicBezTo>
                  <a:cubicBezTo>
                    <a:pt x="638" y="630"/>
                    <a:pt x="657" y="619"/>
                    <a:pt x="679" y="602"/>
                  </a:cubicBezTo>
                  <a:cubicBezTo>
                    <a:pt x="721" y="614"/>
                    <a:pt x="781" y="617"/>
                    <a:pt x="832" y="584"/>
                  </a:cubicBezTo>
                  <a:cubicBezTo>
                    <a:pt x="883" y="552"/>
                    <a:pt x="892" y="537"/>
                    <a:pt x="900" y="497"/>
                  </a:cubicBezTo>
                  <a:cubicBezTo>
                    <a:pt x="979" y="482"/>
                    <a:pt x="1002" y="443"/>
                    <a:pt x="1012" y="404"/>
                  </a:cubicBezTo>
                  <a:cubicBezTo>
                    <a:pt x="1022" y="374"/>
                    <a:pt x="997" y="281"/>
                    <a:pt x="959" y="266"/>
                  </a:cubicBezTo>
                  <a:cubicBezTo>
                    <a:pt x="974" y="229"/>
                    <a:pt x="962" y="187"/>
                    <a:pt x="949" y="162"/>
                  </a:cubicBezTo>
                  <a:cubicBezTo>
                    <a:pt x="936" y="137"/>
                    <a:pt x="884" y="108"/>
                    <a:pt x="842" y="109"/>
                  </a:cubicBezTo>
                  <a:cubicBezTo>
                    <a:pt x="838" y="80"/>
                    <a:pt x="821" y="60"/>
                    <a:pt x="799" y="49"/>
                  </a:cubicBezTo>
                  <a:cubicBezTo>
                    <a:pt x="777" y="38"/>
                    <a:pt x="729" y="34"/>
                    <a:pt x="707" y="51"/>
                  </a:cubicBezTo>
                  <a:cubicBezTo>
                    <a:pt x="692" y="29"/>
                    <a:pt x="647" y="6"/>
                    <a:pt x="591" y="6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386840" y="1692000"/>
              <a:ext cx="1158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Arial"/>
                </a:rPr>
                <a:t>Unprecedented cost-revenue gap, started before 9-11</a:t>
              </a:r>
              <a:endParaRPr b="0" lang="en-US" sz="10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7713720" y="2484360"/>
            <a:ext cx="547560" cy="500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"/>
          <p:cNvSpPr/>
          <p:nvPr/>
        </p:nvSpPr>
        <p:spPr>
          <a:xfrm>
            <a:off x="3433680" y="3327480"/>
            <a:ext cx="4991040" cy="779400"/>
          </a:xfrm>
          <a:prstGeom prst="line">
            <a:avLst/>
          </a:prstGeom>
          <a:ln w="28440">
            <a:solidFill>
              <a:srgbClr val="00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6" name=""/>
          <p:cNvSpPr/>
          <p:nvPr/>
        </p:nvSpPr>
        <p:spPr>
          <a:xfrm>
            <a:off x="8659800" y="4650480"/>
            <a:ext cx="873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Risk  that revenues will revert to “old” trend lin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"/>
          <p:cNvSpPr/>
          <p:nvPr/>
        </p:nvSpPr>
        <p:spPr>
          <a:xfrm flipH="1" flipV="1">
            <a:off x="8427960" y="4132440"/>
            <a:ext cx="279360" cy="49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8" name=""/>
          <p:cNvSpPr/>
          <p:nvPr/>
        </p:nvSpPr>
        <p:spPr>
          <a:xfrm>
            <a:off x="5673600" y="2292480"/>
            <a:ext cx="1667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"/>
          <p:cNvSpPr/>
          <p:nvPr/>
        </p:nvSpPr>
        <p:spPr>
          <a:xfrm>
            <a:off x="5648400" y="2303640"/>
            <a:ext cx="172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Revenue (RASM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0" name=""/>
          <p:cNvSpPr/>
          <p:nvPr/>
        </p:nvSpPr>
        <p:spPr>
          <a:xfrm>
            <a:off x="5635800" y="2517840"/>
            <a:ext cx="172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it Cost (CASM)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514840" y="1758960"/>
            <a:ext cx="3972240" cy="26820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ow Cost Carrier Potenti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paradigm shift between point-to-point and network business models is far from ov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513400" y="2033640"/>
            <a:ext cx="3975120" cy="3363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557680" y="2020680"/>
            <a:ext cx="3772080" cy="32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35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w Cost Carriers (LCCs) can conservatively participate in 70% of the US mark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CCs now participate in 43% of O&amp;D mar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49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gnificant growth potential rema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stern U.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breadth in existing stronghol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220680">
              <a:lnSpc>
                <a:spcPct val="100000"/>
              </a:lnSpc>
              <a:spcBef>
                <a:spcPts val="349"/>
              </a:spcBef>
              <a:buClr>
                <a:srgbClr val="0b1f65"/>
              </a:buClr>
              <a:buSzPct val="7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d depth in O&amp;Ds currently ser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98680" y="5415120"/>
            <a:ext cx="1881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6-18% Small City Market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"/>
          <p:cNvSpPr/>
          <p:nvPr/>
        </p:nvSpPr>
        <p:spPr>
          <a:xfrm>
            <a:off x="479520" y="4589640"/>
            <a:ext cx="145404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"/>
          <p:cNvSpPr/>
          <p:nvPr/>
        </p:nvSpPr>
        <p:spPr>
          <a:xfrm>
            <a:off x="1933560" y="2168640"/>
            <a:ext cx="125568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n-Stop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Service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Availab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"/>
          <p:cNvSpPr/>
          <p:nvPr/>
        </p:nvSpPr>
        <p:spPr>
          <a:xfrm>
            <a:off x="3186000" y="2168640"/>
            <a:ext cx="100656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n-Stop Service</a:t>
            </a:r>
            <a:br>
              <a:rPr sz="1000"/>
            </a:b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Not Available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9" name=""/>
          <p:cNvSpPr/>
          <p:nvPr/>
        </p:nvSpPr>
        <p:spPr>
          <a:xfrm>
            <a:off x="4186080" y="2168640"/>
            <a:ext cx="806760" cy="515880"/>
          </a:xfrm>
          <a:prstGeom prst="rect">
            <a:avLst/>
          </a:prstGeom>
          <a:solidFill>
            <a:srgbClr val="00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0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"/>
          <p:cNvSpPr/>
          <p:nvPr/>
        </p:nvSpPr>
        <p:spPr>
          <a:xfrm>
            <a:off x="1933560" y="268452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"/>
          <p:cNvSpPr/>
          <p:nvPr/>
        </p:nvSpPr>
        <p:spPr>
          <a:xfrm>
            <a:off x="3186000" y="268452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"/>
          <p:cNvSpPr/>
          <p:nvPr/>
        </p:nvSpPr>
        <p:spPr>
          <a:xfrm>
            <a:off x="4186080" y="268452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3" name=""/>
          <p:cNvSpPr/>
          <p:nvPr/>
        </p:nvSpPr>
        <p:spPr>
          <a:xfrm>
            <a:off x="479520" y="268452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jor Hub C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"/>
          <p:cNvSpPr/>
          <p:nvPr/>
        </p:nvSpPr>
        <p:spPr>
          <a:xfrm>
            <a:off x="1933560" y="3065400"/>
            <a:ext cx="1255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"/>
          <p:cNvSpPr/>
          <p:nvPr/>
        </p:nvSpPr>
        <p:spPr>
          <a:xfrm>
            <a:off x="3186000" y="3065400"/>
            <a:ext cx="1006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"/>
          <p:cNvSpPr/>
          <p:nvPr/>
        </p:nvSpPr>
        <p:spPr>
          <a:xfrm>
            <a:off x="4186080" y="3065400"/>
            <a:ext cx="806760" cy="381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7" name=""/>
          <p:cNvSpPr/>
          <p:nvPr/>
        </p:nvSpPr>
        <p:spPr>
          <a:xfrm>
            <a:off x="479520" y="3065400"/>
            <a:ext cx="1454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inor Hub Citi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"/>
          <p:cNvSpPr/>
          <p:nvPr/>
        </p:nvSpPr>
        <p:spPr>
          <a:xfrm>
            <a:off x="1933560" y="344664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"/>
          <p:cNvSpPr/>
          <p:nvPr/>
        </p:nvSpPr>
        <p:spPr>
          <a:xfrm>
            <a:off x="3186000" y="344664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0" name=""/>
          <p:cNvSpPr/>
          <p:nvPr/>
        </p:nvSpPr>
        <p:spPr>
          <a:xfrm>
            <a:off x="4186080" y="344664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"/>
          <p:cNvSpPr/>
          <p:nvPr/>
        </p:nvSpPr>
        <p:spPr>
          <a:xfrm>
            <a:off x="479520" y="344664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Large Non-Hub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"/>
          <p:cNvSpPr/>
          <p:nvPr/>
        </p:nvSpPr>
        <p:spPr>
          <a:xfrm>
            <a:off x="1933560" y="3827520"/>
            <a:ext cx="125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"/>
          <p:cNvSpPr/>
          <p:nvPr/>
        </p:nvSpPr>
        <p:spPr>
          <a:xfrm>
            <a:off x="3186000" y="3827520"/>
            <a:ext cx="10065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"/>
          <p:cNvSpPr/>
          <p:nvPr/>
        </p:nvSpPr>
        <p:spPr>
          <a:xfrm>
            <a:off x="4186080" y="382752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5" name=""/>
          <p:cNvSpPr/>
          <p:nvPr/>
        </p:nvSpPr>
        <p:spPr>
          <a:xfrm>
            <a:off x="479520" y="3827520"/>
            <a:ext cx="1454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WA Connectio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"/>
          <p:cNvSpPr/>
          <p:nvPr/>
        </p:nvSpPr>
        <p:spPr>
          <a:xfrm>
            <a:off x="1933560" y="4208400"/>
            <a:ext cx="12556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"/>
          <p:cNvSpPr/>
          <p:nvPr/>
        </p:nvSpPr>
        <p:spPr>
          <a:xfrm>
            <a:off x="3186000" y="4208400"/>
            <a:ext cx="10065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4208400"/>
            <a:ext cx="806760" cy="38124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"/>
          <p:cNvSpPr/>
          <p:nvPr/>
        </p:nvSpPr>
        <p:spPr>
          <a:xfrm>
            <a:off x="479520" y="4208400"/>
            <a:ext cx="14540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"/>
          <p:cNvSpPr/>
          <p:nvPr/>
        </p:nvSpPr>
        <p:spPr>
          <a:xfrm>
            <a:off x="1933560" y="4589640"/>
            <a:ext cx="125568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78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"/>
          <p:cNvSpPr/>
          <p:nvPr/>
        </p:nvSpPr>
        <p:spPr>
          <a:xfrm>
            <a:off x="3186000" y="4589640"/>
            <a:ext cx="10065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54864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2" name=""/>
          <p:cNvSpPr/>
          <p:nvPr/>
        </p:nvSpPr>
        <p:spPr>
          <a:xfrm>
            <a:off x="4186080" y="4589640"/>
            <a:ext cx="806760" cy="380880"/>
          </a:xfrm>
          <a:prstGeom prst="rect">
            <a:avLst/>
          </a:prstGeom>
          <a:solidFill>
            <a:srgbClr val="e2e1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27432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"/>
          <p:cNvSpPr/>
          <p:nvPr/>
        </p:nvSpPr>
        <p:spPr>
          <a:xfrm>
            <a:off x="1984320" y="1524600"/>
            <a:ext cx="27590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.S. Domestic Market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O&amp;D Passenger Trips Y200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2456640" y="4600440"/>
            <a:ext cx="222480" cy="1197000"/>
          </a:xfrm>
          <a:custGeom>
            <a:avLst/>
            <a:gdLst>
              <a:gd name="textAreaLeft" fmla="*/ 0 w 222480"/>
              <a:gd name="textAreaRight" fmla="*/ 80280 w 222480"/>
              <a:gd name="textAreaTop" fmla="*/ 30960 h 1197000"/>
              <a:gd name="textAreaBottom" fmla="*/ 1166040 h 1197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6"/>
                </a:lnTo>
                <a:cubicBezTo>
                  <a:pt x="10800" y="9606"/>
                  <a:pt x="16200" y="10506"/>
                  <a:pt x="21600" y="10506"/>
                </a:cubicBezTo>
                <a:cubicBezTo>
                  <a:pt x="16200" y="10506"/>
                  <a:pt x="10800" y="11406"/>
                  <a:pt x="10800" y="123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3591720" y="4696920"/>
            <a:ext cx="209520" cy="995040"/>
          </a:xfrm>
          <a:custGeom>
            <a:avLst/>
            <a:gdLst>
              <a:gd name="textAreaLeft" fmla="*/ 0 w 209520"/>
              <a:gd name="textAreaRight" fmla="*/ 75600 w 209520"/>
              <a:gd name="textAreaTop" fmla="*/ 25920 h 995040"/>
              <a:gd name="textAreaBottom" fmla="*/ 969120 h 995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706"/>
                </a:lnTo>
                <a:cubicBezTo>
                  <a:pt x="10800" y="9606"/>
                  <a:pt x="16200" y="10506"/>
                  <a:pt x="21600" y="10506"/>
                </a:cubicBezTo>
                <a:cubicBezTo>
                  <a:pt x="16200" y="10506"/>
                  <a:pt x="10800" y="11406"/>
                  <a:pt x="10800" y="1230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6" name=""/>
          <p:cNvSpPr/>
          <p:nvPr/>
        </p:nvSpPr>
        <p:spPr>
          <a:xfrm>
            <a:off x="1239840" y="5400720"/>
            <a:ext cx="187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~ 10% Over 2,000 Mile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"/>
          <p:cNvSpPr/>
          <p:nvPr/>
        </p:nvSpPr>
        <p:spPr>
          <a:xfrm>
            <a:off x="5129280" y="3360600"/>
            <a:ext cx="201600" cy="2383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fundamental threat to hub and spoke carriers lies in price realization 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951640" y="1381680"/>
            <a:ext cx="275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erage Yield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in Hub Markets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"/>
          <p:cNvSpPr/>
          <p:nvPr/>
        </p:nvSpPr>
        <p:spPr>
          <a:xfrm>
            <a:off x="660240" y="3098160"/>
            <a:ext cx="58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/AS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35120" y="1722600"/>
            <a:ext cx="5392440" cy="3194640"/>
            <a:chOff x="1635120" y="1722600"/>
            <a:chExt cx="5392440" cy="3194640"/>
          </a:xfrm>
        </p:grpSpPr>
        <p:sp>
          <p:nvSpPr>
            <p:cNvPr id="162" name=""/>
            <p:cNvSpPr/>
            <p:nvPr/>
          </p:nvSpPr>
          <p:spPr>
            <a:xfrm>
              <a:off x="1679400" y="1722600"/>
              <a:ext cx="1800" cy="31492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35120" y="48718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35120" y="43434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635120" y="38242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35120" y="329724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35120" y="27684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635120" y="225108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35120" y="1722600"/>
              <a:ext cx="4428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9400" y="4871880"/>
              <a:ext cx="5346720" cy="108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1679400" y="4871520"/>
              <a:ext cx="180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750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3821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88376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5954760" y="4871520"/>
              <a:ext cx="180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7026120" y="4871520"/>
              <a:ext cx="1440" cy="4572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27480" y="2184120"/>
              <a:ext cx="104760" cy="263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532240" y="2447640"/>
              <a:ext cx="113400" cy="217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645640" y="2665080"/>
              <a:ext cx="104760" cy="1792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750760" y="2844720"/>
              <a:ext cx="104760" cy="1504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855520" y="2995560"/>
              <a:ext cx="102600" cy="121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958480" y="3117600"/>
              <a:ext cx="113400" cy="1029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71880" y="3220920"/>
              <a:ext cx="104760" cy="946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176640" y="3315960"/>
              <a:ext cx="104760" cy="838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81760" y="3400200"/>
              <a:ext cx="104760" cy="759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86520" y="3476520"/>
              <a:ext cx="111600" cy="64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98480" y="3541680"/>
              <a:ext cx="104760" cy="565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03240" y="3598560"/>
              <a:ext cx="104760" cy="55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08000" y="3654360"/>
              <a:ext cx="113400" cy="47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21760" y="3701880"/>
              <a:ext cx="104760" cy="471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926520" y="3749400"/>
              <a:ext cx="104760" cy="378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1280" y="3787560"/>
              <a:ext cx="102600" cy="36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34240" y="3824280"/>
              <a:ext cx="113400" cy="37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247640" y="3862080"/>
              <a:ext cx="10476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352400" y="3890880"/>
              <a:ext cx="104760" cy="28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457520" y="3919320"/>
              <a:ext cx="11340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0920" y="3948120"/>
              <a:ext cx="102960" cy="262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674240" y="3974760"/>
              <a:ext cx="104760" cy="2844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79000" y="400356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83760" y="4022640"/>
              <a:ext cx="11340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97520" y="4041720"/>
              <a:ext cx="104760" cy="2808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02280" y="4070160"/>
              <a:ext cx="1029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205600" y="4089240"/>
              <a:ext cx="113400" cy="169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319000" y="410652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423760" y="4125600"/>
              <a:ext cx="104760" cy="9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28880" y="4135320"/>
              <a:ext cx="10476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33640" y="4154400"/>
              <a:ext cx="113400" cy="1872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47040" y="4173480"/>
              <a:ext cx="102600" cy="900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850000" y="4182840"/>
              <a:ext cx="104760" cy="9360"/>
            </a:xfrm>
            <a:prstGeom prst="line">
              <a:avLst/>
            </a:prstGeom>
            <a:ln w="7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27480" y="2655720"/>
              <a:ext cx="104760" cy="2156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532240" y="2871720"/>
              <a:ext cx="113400" cy="1695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2645640" y="3041640"/>
              <a:ext cx="104760" cy="1407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750760" y="3182760"/>
              <a:ext cx="104760" cy="1141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55520" y="3297240"/>
              <a:ext cx="102600" cy="1026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958480" y="3400200"/>
              <a:ext cx="113400" cy="838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71880" y="3484440"/>
              <a:ext cx="104760" cy="759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76640" y="3560760"/>
              <a:ext cx="104760" cy="662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281760" y="3627360"/>
              <a:ext cx="104760" cy="64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86520" y="3692520"/>
              <a:ext cx="111600" cy="471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498480" y="3740040"/>
              <a:ext cx="104760" cy="550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603240" y="379548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708000" y="3833640"/>
              <a:ext cx="11340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21760" y="387180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6520" y="3909960"/>
              <a:ext cx="104760" cy="378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31280" y="3948120"/>
              <a:ext cx="102600" cy="262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34240" y="3974760"/>
              <a:ext cx="113400" cy="284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47640" y="4003560"/>
              <a:ext cx="104760" cy="280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352400" y="4032000"/>
              <a:ext cx="104760" cy="2844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57520" y="406080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70920" y="4079880"/>
              <a:ext cx="102960" cy="183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74240" y="4098600"/>
              <a:ext cx="104760" cy="1728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79000" y="411624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83760" y="413532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997520" y="415440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02280" y="4173480"/>
              <a:ext cx="1029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05600" y="4192560"/>
              <a:ext cx="1134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19000" y="4211640"/>
              <a:ext cx="104760" cy="90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423760" y="4221000"/>
              <a:ext cx="10476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528880" y="4240080"/>
              <a:ext cx="104760" cy="900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33640" y="4249440"/>
              <a:ext cx="113400" cy="75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747040" y="4257360"/>
              <a:ext cx="102600" cy="1872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850000" y="4276440"/>
              <a:ext cx="104760" cy="9360"/>
            </a:xfrm>
            <a:prstGeom prst="line">
              <a:avLst/>
            </a:prstGeom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427480" y="3297240"/>
              <a:ext cx="104760" cy="1216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32240" y="3419280"/>
              <a:ext cx="113400" cy="932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45640" y="3512880"/>
              <a:ext cx="104760" cy="759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750760" y="3589200"/>
              <a:ext cx="104760" cy="64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855520" y="3654360"/>
              <a:ext cx="102600" cy="662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958480" y="3720960"/>
              <a:ext cx="113400" cy="471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071880" y="3768480"/>
              <a:ext cx="104760" cy="45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76640" y="3814560"/>
              <a:ext cx="10476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81760" y="3852720"/>
              <a:ext cx="10476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386520" y="3890880"/>
              <a:ext cx="111600" cy="378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498480" y="3929040"/>
              <a:ext cx="104760" cy="266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03240" y="3956040"/>
              <a:ext cx="104760" cy="280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08000" y="3984480"/>
              <a:ext cx="113400" cy="280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21760" y="4012920"/>
              <a:ext cx="1047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26520" y="4032000"/>
              <a:ext cx="104760" cy="2844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031280" y="4060800"/>
              <a:ext cx="10260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34240" y="4079880"/>
              <a:ext cx="113400" cy="18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47640" y="4098600"/>
              <a:ext cx="104760" cy="1728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52400" y="411624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57520" y="4125600"/>
              <a:ext cx="11340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570920" y="4144680"/>
              <a:ext cx="1029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674240" y="416376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79000" y="4173480"/>
              <a:ext cx="104760" cy="1872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83760" y="4192560"/>
              <a:ext cx="11340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97520" y="420192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02280" y="4211640"/>
              <a:ext cx="102960" cy="18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05600" y="4230360"/>
              <a:ext cx="11340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319000" y="424008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23760" y="4249440"/>
              <a:ext cx="104760" cy="75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528880" y="4257360"/>
              <a:ext cx="10476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633640" y="4267080"/>
              <a:ext cx="11340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747040" y="4276440"/>
              <a:ext cx="102600" cy="936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850000" y="4286160"/>
              <a:ext cx="104760" cy="9000"/>
            </a:xfrm>
            <a:prstGeom prst="line">
              <a:avLst/>
            </a:prstGeom>
            <a:ln w="7920">
              <a:solidFill>
                <a:srgbClr val="3d97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7480" y="3268440"/>
              <a:ext cx="104760" cy="1602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532240" y="3429000"/>
              <a:ext cx="113400" cy="1216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645640" y="3551040"/>
              <a:ext cx="104760" cy="1029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50760" y="3654360"/>
              <a:ext cx="104760" cy="853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55520" y="3740040"/>
              <a:ext cx="102600" cy="741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958480" y="3814560"/>
              <a:ext cx="113400" cy="662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071880" y="3881160"/>
              <a:ext cx="104760" cy="568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176640" y="3938400"/>
              <a:ext cx="104760" cy="45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281760" y="3984480"/>
              <a:ext cx="104760" cy="37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386520" y="4022640"/>
              <a:ext cx="111600" cy="471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98480" y="4070160"/>
              <a:ext cx="1047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03240" y="4098600"/>
              <a:ext cx="104760" cy="36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708000" y="4135320"/>
              <a:ext cx="11340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21760" y="416376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926520" y="4182840"/>
              <a:ext cx="1047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31280" y="4211640"/>
              <a:ext cx="102600" cy="18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134240" y="4230360"/>
              <a:ext cx="1134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247640" y="425736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2400" y="427644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457520" y="4295520"/>
              <a:ext cx="11340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570920" y="4305240"/>
              <a:ext cx="1029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74240" y="432432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79000" y="4343400"/>
              <a:ext cx="10476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883760" y="4352760"/>
              <a:ext cx="1134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97520" y="4362120"/>
              <a:ext cx="104760" cy="1872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102280" y="4381200"/>
              <a:ext cx="1029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205600" y="4390920"/>
              <a:ext cx="1134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19000" y="4400280"/>
              <a:ext cx="1047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23760" y="4410000"/>
              <a:ext cx="104760" cy="75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28880" y="4417920"/>
              <a:ext cx="10476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633640" y="4427280"/>
              <a:ext cx="11340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747040" y="4437000"/>
              <a:ext cx="102600" cy="9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850000" y="4446360"/>
              <a:ext cx="104760" cy="936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27480" y="3673440"/>
              <a:ext cx="104760" cy="853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532240" y="3759120"/>
              <a:ext cx="113400" cy="741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45640" y="3833640"/>
              <a:ext cx="104760" cy="568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50760" y="3890880"/>
              <a:ext cx="104760" cy="568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855520" y="3948120"/>
              <a:ext cx="102600" cy="45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958480" y="3993840"/>
              <a:ext cx="113400" cy="378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071880" y="4032000"/>
              <a:ext cx="104760" cy="378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176640" y="4070160"/>
              <a:ext cx="1047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281760" y="4098600"/>
              <a:ext cx="1047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86520" y="4125600"/>
              <a:ext cx="1116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498480" y="415440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03240" y="417348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708000" y="4192560"/>
              <a:ext cx="11340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21760" y="4211640"/>
              <a:ext cx="104760" cy="18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926520" y="423036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31280" y="4249440"/>
              <a:ext cx="102600" cy="17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134240" y="426708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247640" y="4276440"/>
              <a:ext cx="1047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52400" y="429552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57520" y="430524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570920" y="4314600"/>
              <a:ext cx="102960" cy="1872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674240" y="433368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9000" y="4343400"/>
              <a:ext cx="1047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83760" y="4352760"/>
              <a:ext cx="1134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97520" y="436212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02280" y="4371840"/>
              <a:ext cx="1029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205600" y="4381200"/>
              <a:ext cx="11340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319000" y="4390920"/>
              <a:ext cx="10476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423760" y="4400280"/>
              <a:ext cx="10476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528880" y="4400280"/>
              <a:ext cx="104760" cy="93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633640" y="4410000"/>
              <a:ext cx="113400" cy="756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747040" y="4417920"/>
              <a:ext cx="102600" cy="900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850000" y="4427280"/>
              <a:ext cx="10476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401560" y="215568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6320" y="241920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19720" y="26366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24480" y="281592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827800" y="296676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932920" y="308916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046320" y="31921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51080" y="3287520"/>
              <a:ext cx="51120" cy="5508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55840" y="337176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9160" y="344772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72560" y="3512880"/>
              <a:ext cx="5292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577680" y="35701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682440" y="3627360"/>
              <a:ext cx="51120" cy="5508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5840" y="3673440"/>
              <a:ext cx="51120" cy="5652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900600" y="372096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003560" y="3759120"/>
              <a:ext cx="53280" cy="550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08680" y="379548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222080" y="38336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26840" y="386208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31600" y="389088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62" name=""/>
          <p:cNvGrpSpPr/>
          <p:nvPr/>
        </p:nvGrpSpPr>
        <p:grpSpPr>
          <a:xfrm>
            <a:off x="2394000" y="2627280"/>
            <a:ext cx="3587040" cy="1773000"/>
            <a:chOff x="2394000" y="2627280"/>
            <a:chExt cx="3587040" cy="1773000"/>
          </a:xfrm>
        </p:grpSpPr>
        <p:sp>
          <p:nvSpPr>
            <p:cNvPr id="363" name=""/>
            <p:cNvSpPr/>
            <p:nvPr/>
          </p:nvSpPr>
          <p:spPr>
            <a:xfrm>
              <a:off x="4544640" y="391932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18"/>
                  </a:lnTo>
                  <a:lnTo>
                    <a:pt x="16" y="35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649400" y="394812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754160" y="3974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859280" y="399384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72680" y="401292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77440" y="404172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180760" y="406080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8"/>
                  </a:lnTo>
                  <a:lnTo>
                    <a:pt x="15" y="35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294160" y="407988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99280" y="4098600"/>
              <a:ext cx="511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17"/>
                  </a:lnTo>
                  <a:lnTo>
                    <a:pt x="15" y="35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04040" y="410652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08800" y="412560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720400" y="414468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18"/>
                  </a:lnTo>
                  <a:lnTo>
                    <a:pt x="16" y="36"/>
                  </a:lnTo>
                  <a:lnTo>
                    <a:pt x="0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825160" y="415440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929920" y="4163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18"/>
                  </a:lnTo>
                  <a:lnTo>
                    <a:pt x="15" y="36"/>
                  </a:lnTo>
                  <a:lnTo>
                    <a:pt x="0" y="1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ff"/>
            </a:solidFill>
            <a:ln w="7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02280" y="2627280"/>
              <a:ext cx="4320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507400" y="2844720"/>
              <a:ext cx="4320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620800" y="3014640"/>
              <a:ext cx="4320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725560" y="3155760"/>
              <a:ext cx="4320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828880" y="326844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933640" y="337176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7040" y="345744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152160" y="353196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56920" y="359856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360240" y="3663720"/>
              <a:ext cx="4428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473640" y="3711240"/>
              <a:ext cx="4428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8400" y="376848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83520" y="380520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796920" y="384300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01680" y="388116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04640" y="391932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09400" y="3948120"/>
              <a:ext cx="4320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22800" y="3974760"/>
              <a:ext cx="4320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327920" y="4003560"/>
              <a:ext cx="4320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432680" y="4032000"/>
              <a:ext cx="4320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44640" y="4051080"/>
              <a:ext cx="446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649400" y="407016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54160" y="408924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859280" y="410652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972680" y="412560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077440" y="414468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180760" y="4163760"/>
              <a:ext cx="4428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294160" y="418284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99280" y="4192560"/>
              <a:ext cx="42840" cy="475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4040" y="4211640"/>
              <a:ext cx="42840" cy="4572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08800" y="4221000"/>
              <a:ext cx="428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20400" y="423036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825160" y="4249440"/>
              <a:ext cx="44640" cy="460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929920" y="4257360"/>
              <a:ext cx="42840" cy="47880"/>
            </a:xfrm>
            <a:prstGeom prst="rect">
              <a:avLst/>
            </a:prstGeom>
            <a:solidFill>
              <a:srgbClr val="ff00ff"/>
            </a:solidFill>
            <a:ln w="792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02280" y="326844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507400" y="339084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620800" y="3484440"/>
              <a:ext cx="5184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725560" y="3560760"/>
              <a:ext cx="5184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828880" y="362736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933640" y="3692520"/>
              <a:ext cx="53280" cy="5688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7040" y="374004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52160" y="378756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256920" y="382428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60240" y="3862080"/>
              <a:ext cx="5292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473640" y="3900240"/>
              <a:ext cx="5292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578400" y="392904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683520" y="395604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796920" y="39844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01680" y="40035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004640" y="403200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109400" y="4051080"/>
              <a:ext cx="5328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222800" y="407016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27920" y="4089240"/>
              <a:ext cx="5184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32680" y="4098600"/>
              <a:ext cx="5184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44640" y="411624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6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649400" y="413532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54160" y="41446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859280" y="416376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972680" y="4173480"/>
              <a:ext cx="51120" cy="5688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77440" y="418284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180760" y="420192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94160" y="4211640"/>
              <a:ext cx="52920" cy="5544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5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99280" y="422100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04040" y="4230360"/>
              <a:ext cx="51120" cy="5580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08800" y="4240080"/>
              <a:ext cx="51120" cy="5544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5" y="0"/>
                  </a:moveTo>
                  <a:lnTo>
                    <a:pt x="30" y="35"/>
                  </a:lnTo>
                  <a:lnTo>
                    <a:pt x="0" y="3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720400" y="4249440"/>
              <a:ext cx="53280" cy="5580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16" y="0"/>
                  </a:moveTo>
                  <a:lnTo>
                    <a:pt x="31" y="35"/>
                  </a:lnTo>
                  <a:lnTo>
                    <a:pt x="0" y="35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825160" y="4257360"/>
              <a:ext cx="53280" cy="57240"/>
            </a:xfrm>
            <a:custGeom>
              <a:avLst/>
              <a:gdLst/>
              <a:ahLst/>
              <a:rect l="l" t="t" r="r" b="b"/>
              <a:pathLst>
                <a:path w="31" h="36">
                  <a:moveTo>
                    <a:pt x="15" y="0"/>
                  </a:moveTo>
                  <a:lnTo>
                    <a:pt x="31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5929920" y="4267080"/>
              <a:ext cx="51120" cy="57240"/>
            </a:xfrm>
            <a:custGeom>
              <a:avLst/>
              <a:gdLst/>
              <a:ahLst/>
              <a:rect l="l" t="t" r="r" b="b"/>
              <a:pathLst>
                <a:path w="30" h="36">
                  <a:moveTo>
                    <a:pt x="15" y="0"/>
                  </a:moveTo>
                  <a:lnTo>
                    <a:pt x="30" y="36"/>
                  </a:lnTo>
                  <a:lnTo>
                    <a:pt x="0" y="3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d97af"/>
            </a:solidFill>
            <a:ln w="7920">
              <a:solidFill>
                <a:srgbClr val="3d97a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94000" y="32302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2402280" y="32396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28560" y="32684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2402280" y="3268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49" name=""/>
            <p:cNvSpPr/>
            <p:nvPr/>
          </p:nvSpPr>
          <p:spPr>
            <a:xfrm flipV="1">
              <a:off x="2428560" y="32396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498760" y="339084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 flipV="1">
              <a:off x="2507400" y="340020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533320" y="34290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2507400" y="342900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2533320" y="34002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612160" y="351288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 flipV="1">
              <a:off x="2620800" y="35222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646720" y="3551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2620800" y="35510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>
              <a:off x="2646720" y="35222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16920" y="3617640"/>
              <a:ext cx="774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 flipV="1">
              <a:off x="2725560" y="362700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51840" y="3654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2725560" y="365436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2751840" y="36270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820240" y="37018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 flipV="1">
              <a:off x="2828880" y="371124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56600" y="3740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828880" y="374004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856600" y="37112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925000" y="377820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 flipV="1">
              <a:off x="2933280" y="37872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59560" y="38145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2933280" y="38145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2959560" y="3787200"/>
              <a:ext cx="273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38760" y="3843000"/>
              <a:ext cx="7884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 flipV="1">
              <a:off x="3046680" y="3852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72960" y="38811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8" name=""/>
            <p:cNvSpPr/>
            <p:nvPr/>
          </p:nvSpPr>
          <p:spPr>
            <a:xfrm flipH="1">
              <a:off x="3046680" y="38811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79" name=""/>
            <p:cNvSpPr/>
            <p:nvPr/>
          </p:nvSpPr>
          <p:spPr>
            <a:xfrm flipV="1">
              <a:off x="3072960" y="3852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143520" y="3900240"/>
              <a:ext cx="770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1" name=""/>
            <p:cNvSpPr/>
            <p:nvPr/>
          </p:nvSpPr>
          <p:spPr>
            <a:xfrm flipH="1" flipV="1">
              <a:off x="3151800" y="39096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177720" y="39384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3151800" y="39384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3177720" y="39096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248280" y="394812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 flipV="1">
              <a:off x="3256560" y="39556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282840" y="39844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3256560" y="39844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89" name=""/>
            <p:cNvSpPr/>
            <p:nvPr/>
          </p:nvSpPr>
          <p:spPr>
            <a:xfrm flipV="1">
              <a:off x="3282840" y="39556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351600" y="3984480"/>
              <a:ext cx="7848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 flipV="1">
              <a:off x="3359880" y="39938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87600" y="40226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3359880" y="40226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3387600" y="3993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465000" y="4032000"/>
              <a:ext cx="7848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 flipV="1">
              <a:off x="3473280" y="4041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499560" y="40701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3473280" y="40701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499560" y="40413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70120" y="406080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 flipV="1">
              <a:off x="3578040" y="40698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604320" y="40986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3578040" y="40986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3604320" y="40698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674880" y="4098600"/>
              <a:ext cx="770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 flipV="1">
              <a:off x="3683160" y="4106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09080" y="4135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3683160" y="4135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3709080" y="4106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88280" y="4125600"/>
              <a:ext cx="7704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 flipV="1">
              <a:off x="3796560" y="4134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22480" y="41637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796560" y="41637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4" name=""/>
            <p:cNvSpPr/>
            <p:nvPr/>
          </p:nvSpPr>
          <p:spPr>
            <a:xfrm flipV="1">
              <a:off x="3822480" y="4134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91240" y="41446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901320" y="4154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92760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390132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3927600" y="41540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996000" y="41734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 flipV="1">
              <a:off x="4004640" y="418284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32360" y="42116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>
              <a:off x="4004640" y="421164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4032360" y="41828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01120" y="41925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 flipV="1">
              <a:off x="4109040" y="42015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135320" y="4230360"/>
              <a:ext cx="273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4109040" y="423036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4135320" y="42015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214520" y="4221000"/>
              <a:ext cx="7884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 flipV="1">
              <a:off x="4222440" y="423000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48720" y="425736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4222440" y="425736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4" name=""/>
            <p:cNvSpPr/>
            <p:nvPr/>
          </p:nvSpPr>
          <p:spPr>
            <a:xfrm flipV="1">
              <a:off x="4248720" y="423000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319280" y="4240080"/>
              <a:ext cx="774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4327560" y="4249080"/>
              <a:ext cx="2556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53480" y="4276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4327560" y="427644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4353480" y="4249080"/>
              <a:ext cx="25920" cy="270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24040" y="4257360"/>
              <a:ext cx="77400" cy="8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 flipV="1">
              <a:off x="4432320" y="42667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58600" y="429552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4432320" y="4295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4458600" y="426672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536000" y="426708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 flipV="1">
              <a:off x="4544280" y="4276440"/>
              <a:ext cx="2700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572000" y="4305240"/>
              <a:ext cx="2592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544280" y="430524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4572000" y="4276440"/>
              <a:ext cx="2592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40760" y="428616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 flipV="1">
              <a:off x="4649040" y="429552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75320" y="432432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4649040" y="43243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4675320" y="4295520"/>
              <a:ext cx="273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45880" y="430524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flipV="1">
              <a:off x="4753800" y="43146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780080" y="43434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4753800" y="43434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4780080" y="4314600"/>
              <a:ext cx="25560" cy="2880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850640" y="4314600"/>
              <a:ext cx="770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 flipV="1">
              <a:off x="4858920" y="43239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884840" y="43527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2394000" y="3637080"/>
            <a:ext cx="3606480" cy="866160"/>
            <a:chOff x="2394000" y="3637080"/>
            <a:chExt cx="3606480" cy="866160"/>
          </a:xfrm>
        </p:grpSpPr>
        <p:sp>
          <p:nvSpPr>
            <p:cNvPr id="564" name=""/>
            <p:cNvSpPr/>
            <p:nvPr/>
          </p:nvSpPr>
          <p:spPr>
            <a:xfrm flipH="1">
              <a:off x="485892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4884840" y="43243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964040" y="4324320"/>
              <a:ext cx="770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 flipV="1">
              <a:off x="4972320" y="43336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998240" y="43621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4972320" y="43621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4998240" y="43336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67000" y="434340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 flipV="1">
              <a:off x="507708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3360" y="43812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5077080" y="438120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5103360" y="435276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71760" y="43527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 flipV="1">
              <a:off x="5180400" y="43617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206680" y="4390920"/>
              <a:ext cx="270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518040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5206680" y="4361760"/>
              <a:ext cx="2700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285520" y="436212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5293800" y="437184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320080" y="4400280"/>
              <a:ext cx="2700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529380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5320080" y="4371840"/>
              <a:ext cx="2700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90640" y="437184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5398920" y="43808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42484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89" name=""/>
            <p:cNvSpPr/>
            <p:nvPr/>
          </p:nvSpPr>
          <p:spPr>
            <a:xfrm flipH="1">
              <a:off x="539892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424840" y="438084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495400" y="438120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flipV="1">
              <a:off x="550368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52960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550368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5529600" y="439092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5598360" y="439092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560844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634720" y="44272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>
              <a:off x="5608440" y="442728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634720" y="440028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711760" y="44002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flipV="1">
              <a:off x="5720400" y="4410000"/>
              <a:ext cx="273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48120" y="443700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5720400" y="4437000"/>
              <a:ext cx="273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5748120" y="4410000"/>
              <a:ext cx="25560" cy="266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816520" y="441000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5824800" y="441792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851080" y="4446360"/>
              <a:ext cx="273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5824800" y="444636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5851080" y="4417920"/>
              <a:ext cx="273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921640" y="441792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5929560" y="44269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55840" y="44560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4" name=""/>
            <p:cNvSpPr/>
            <p:nvPr/>
          </p:nvSpPr>
          <p:spPr>
            <a:xfrm flipH="1">
              <a:off x="5929560" y="4456080"/>
              <a:ext cx="25560" cy="2808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5" name=""/>
            <p:cNvSpPr/>
            <p:nvPr/>
          </p:nvSpPr>
          <p:spPr>
            <a:xfrm flipV="1">
              <a:off x="5955840" y="4426920"/>
              <a:ext cx="25560" cy="28440"/>
            </a:xfrm>
            <a:prstGeom prst="line">
              <a:avLst/>
            </a:prstGeom>
            <a:ln w="7920">
              <a:solidFill>
                <a:srgbClr val="b72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394000" y="36370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 flipV="1">
              <a:off x="2402280" y="364428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428560" y="367344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2402280" y="36734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2428560" y="364428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2428560" y="364428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28560" y="36734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498760" y="3720960"/>
              <a:ext cx="7740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2507400" y="372996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533320" y="37591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2507400" y="375912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533320" y="372996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2533320" y="372996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533320" y="375912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612160" y="379548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1" name=""/>
            <p:cNvSpPr/>
            <p:nvPr/>
          </p:nvSpPr>
          <p:spPr>
            <a:xfrm flipH="1" flipV="1">
              <a:off x="2620800" y="380520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646720" y="3833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3" name=""/>
            <p:cNvSpPr/>
            <p:nvPr/>
          </p:nvSpPr>
          <p:spPr>
            <a:xfrm flipH="1">
              <a:off x="2620800" y="38336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2646720" y="38052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2646720" y="38052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46720" y="38336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2716920" y="385272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 flipV="1">
              <a:off x="2725560" y="386172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751840" y="38908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2725560" y="389088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2751840" y="38617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2751840" y="386172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751840" y="389088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820240" y="390996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flipV="1">
              <a:off x="2828880" y="3918960"/>
              <a:ext cx="273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2856600" y="3948120"/>
              <a:ext cx="2556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828880" y="3948120"/>
              <a:ext cx="2736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2856600" y="391896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2856600" y="391896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856600" y="3948120"/>
              <a:ext cx="1440" cy="262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925000" y="395604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 flipV="1">
              <a:off x="2933280" y="39654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959560" y="3993840"/>
              <a:ext cx="273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2933280" y="39938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2959560" y="396540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2959560" y="396540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959560" y="399384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038760" y="3993840"/>
              <a:ext cx="7884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 flipV="1">
              <a:off x="3046680" y="4003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072960" y="40320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046680" y="40320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3072960" y="4003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3" name=""/>
            <p:cNvSpPr/>
            <p:nvPr/>
          </p:nvSpPr>
          <p:spPr>
            <a:xfrm flipV="1">
              <a:off x="3072960" y="40035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072960" y="40320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43520" y="4032000"/>
              <a:ext cx="770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3151800" y="40417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7772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>
              <a:off x="315180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3177720" y="40417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3177720" y="404172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77720" y="4070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248280" y="4060800"/>
              <a:ext cx="770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325656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8248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325656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3282480" y="40701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3282480" y="4070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82480" y="409860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51600" y="4089240"/>
              <a:ext cx="7848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flipV="1">
              <a:off x="3359880" y="4098600"/>
              <a:ext cx="270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87600" y="41256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3359880" y="412560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387600" y="409860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3387600" y="409860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387600" y="41256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465000" y="4116240"/>
              <a:ext cx="7848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3473280" y="41252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499560" y="415440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3473280" y="41544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3499560" y="412524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3499560" y="412524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499560" y="41544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570120" y="4135320"/>
              <a:ext cx="7848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 flipV="1">
              <a:off x="3578040" y="41443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04320" y="41734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3578040" y="41734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7" name=""/>
            <p:cNvSpPr/>
            <p:nvPr/>
          </p:nvSpPr>
          <p:spPr>
            <a:xfrm flipV="1">
              <a:off x="3604320" y="41443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3604320" y="414432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604320" y="417348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674880" y="4154400"/>
              <a:ext cx="770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3683160" y="41634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09080" y="4192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3683160" y="419256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4" name=""/>
            <p:cNvSpPr/>
            <p:nvPr/>
          </p:nvSpPr>
          <p:spPr>
            <a:xfrm flipV="1">
              <a:off x="3709080" y="416340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3709080" y="416340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09080" y="419256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788280" y="4173480"/>
              <a:ext cx="770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8" name=""/>
            <p:cNvSpPr/>
            <p:nvPr/>
          </p:nvSpPr>
          <p:spPr>
            <a:xfrm flipH="1" flipV="1">
              <a:off x="3796560" y="41824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22480" y="4211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796560" y="42116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1" name=""/>
            <p:cNvSpPr/>
            <p:nvPr/>
          </p:nvSpPr>
          <p:spPr>
            <a:xfrm flipV="1">
              <a:off x="3822480" y="41824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3822480" y="4182480"/>
              <a:ext cx="144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822480" y="421164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91240" y="419256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3901320" y="42019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27600" y="423036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>
              <a:off x="3901320" y="423036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3927600" y="420192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3927600" y="420192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927600" y="4230360"/>
              <a:ext cx="144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3996000" y="4211640"/>
              <a:ext cx="78840" cy="8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 flipV="1">
              <a:off x="4004640" y="422100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032360" y="424944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4" name=""/>
            <p:cNvSpPr/>
            <p:nvPr/>
          </p:nvSpPr>
          <p:spPr>
            <a:xfrm flipH="1">
              <a:off x="4004640" y="4249440"/>
              <a:ext cx="273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4032360" y="422100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4032360" y="4221000"/>
              <a:ext cx="144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032360" y="4249440"/>
              <a:ext cx="144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100760" y="423036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 flipV="1">
              <a:off x="4109040" y="424008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135320" y="4267080"/>
              <a:ext cx="273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1" name=""/>
            <p:cNvSpPr/>
            <p:nvPr/>
          </p:nvSpPr>
          <p:spPr>
            <a:xfrm flipH="1">
              <a:off x="4109040" y="42670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135320" y="4240080"/>
              <a:ext cx="273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4135320" y="424008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135320" y="426708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214520" y="4240080"/>
              <a:ext cx="788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4222440" y="4249440"/>
              <a:ext cx="2556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248720" y="427644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4222440" y="427644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4248720" y="4249440"/>
              <a:ext cx="2592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0" name=""/>
            <p:cNvSpPr/>
            <p:nvPr/>
          </p:nvSpPr>
          <p:spPr>
            <a:xfrm flipV="1">
              <a:off x="4248720" y="4249440"/>
              <a:ext cx="1800" cy="266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248720" y="427644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9280" y="4257360"/>
              <a:ext cx="77400" cy="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 flipV="1">
              <a:off x="4327560" y="426708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53480" y="429552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>
              <a:off x="4327560" y="429552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6" name=""/>
            <p:cNvSpPr/>
            <p:nvPr/>
          </p:nvSpPr>
          <p:spPr>
            <a:xfrm flipV="1">
              <a:off x="4353480" y="426708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4353480" y="426708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353480" y="429552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24040" y="4267080"/>
              <a:ext cx="7740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 flipV="1">
              <a:off x="4432320" y="4276080"/>
              <a:ext cx="2556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58240" y="430524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432320" y="4305240"/>
              <a:ext cx="2556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4458240" y="427608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458240" y="427608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458240" y="430524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536000" y="427644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 flipV="1">
              <a:off x="4544280" y="4286160"/>
              <a:ext cx="270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572000" y="4314600"/>
              <a:ext cx="2592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4544280" y="4314600"/>
              <a:ext cx="270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4572000" y="4286160"/>
              <a:ext cx="2592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4572000" y="4286160"/>
              <a:ext cx="1800" cy="2808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572000" y="4314600"/>
              <a:ext cx="1800" cy="28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640760" y="4295520"/>
              <a:ext cx="78840" cy="8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764" name=""/>
          <p:cNvSpPr/>
          <p:nvPr/>
        </p:nvSpPr>
        <p:spPr>
          <a:xfrm flipH="1" flipV="1">
            <a:off x="4647960" y="43052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5" name=""/>
          <p:cNvSpPr/>
          <p:nvPr/>
        </p:nvSpPr>
        <p:spPr>
          <a:xfrm>
            <a:off x="4675320" y="4334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4647960" y="4334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4675320" y="43052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4675320" y="43052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69" name=""/>
          <p:cNvSpPr/>
          <p:nvPr/>
        </p:nvSpPr>
        <p:spPr>
          <a:xfrm>
            <a:off x="4675320" y="43340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0" name=""/>
          <p:cNvSpPr/>
          <p:nvPr/>
        </p:nvSpPr>
        <p:spPr>
          <a:xfrm>
            <a:off x="4745160" y="4305240"/>
            <a:ext cx="7920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1" name=""/>
          <p:cNvSpPr/>
          <p:nvPr/>
        </p:nvSpPr>
        <p:spPr>
          <a:xfrm flipH="1" flipV="1">
            <a:off x="4752720" y="431460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2" name=""/>
          <p:cNvSpPr/>
          <p:nvPr/>
        </p:nvSpPr>
        <p:spPr>
          <a:xfrm>
            <a:off x="4780080" y="43434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3" name=""/>
          <p:cNvSpPr/>
          <p:nvPr/>
        </p:nvSpPr>
        <p:spPr>
          <a:xfrm flipH="1">
            <a:off x="4752720" y="434340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780080" y="43146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4780080" y="431460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6" name=""/>
          <p:cNvSpPr/>
          <p:nvPr/>
        </p:nvSpPr>
        <p:spPr>
          <a:xfrm>
            <a:off x="4780080" y="434340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7" name=""/>
          <p:cNvSpPr/>
          <p:nvPr/>
        </p:nvSpPr>
        <p:spPr>
          <a:xfrm>
            <a:off x="4849920" y="4314960"/>
            <a:ext cx="7776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8" name=""/>
          <p:cNvSpPr/>
          <p:nvPr/>
        </p:nvSpPr>
        <p:spPr>
          <a:xfrm flipH="1" flipV="1">
            <a:off x="4858920" y="432396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9" name=""/>
          <p:cNvSpPr/>
          <p:nvPr/>
        </p:nvSpPr>
        <p:spPr>
          <a:xfrm>
            <a:off x="4884840" y="435276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0" name=""/>
          <p:cNvSpPr/>
          <p:nvPr/>
        </p:nvSpPr>
        <p:spPr>
          <a:xfrm flipH="1">
            <a:off x="4858920" y="435276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4884840" y="432396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4884840" y="432396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3" name=""/>
          <p:cNvSpPr/>
          <p:nvPr/>
        </p:nvSpPr>
        <p:spPr>
          <a:xfrm>
            <a:off x="4884840" y="435276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4" name=""/>
          <p:cNvSpPr/>
          <p:nvPr/>
        </p:nvSpPr>
        <p:spPr>
          <a:xfrm>
            <a:off x="4964040" y="4324320"/>
            <a:ext cx="76320" cy="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5" name=""/>
          <p:cNvSpPr/>
          <p:nvPr/>
        </p:nvSpPr>
        <p:spPr>
          <a:xfrm flipH="1" flipV="1">
            <a:off x="4971600" y="433368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6" name=""/>
          <p:cNvSpPr/>
          <p:nvPr/>
        </p:nvSpPr>
        <p:spPr>
          <a:xfrm>
            <a:off x="4997520" y="436248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7" name=""/>
          <p:cNvSpPr/>
          <p:nvPr/>
        </p:nvSpPr>
        <p:spPr>
          <a:xfrm flipH="1">
            <a:off x="4971600" y="436248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997520" y="433368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997520" y="433368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0" name=""/>
          <p:cNvSpPr/>
          <p:nvPr/>
        </p:nvSpPr>
        <p:spPr>
          <a:xfrm>
            <a:off x="4997520" y="436248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1" name=""/>
          <p:cNvSpPr/>
          <p:nvPr/>
        </p:nvSpPr>
        <p:spPr>
          <a:xfrm>
            <a:off x="5067360" y="4334040"/>
            <a:ext cx="77760" cy="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2" name=""/>
          <p:cNvSpPr/>
          <p:nvPr/>
        </p:nvSpPr>
        <p:spPr>
          <a:xfrm flipH="1" flipV="1">
            <a:off x="5076360" y="43430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3" name=""/>
          <p:cNvSpPr/>
          <p:nvPr/>
        </p:nvSpPr>
        <p:spPr>
          <a:xfrm>
            <a:off x="5102280" y="437184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4" name=""/>
          <p:cNvSpPr/>
          <p:nvPr/>
        </p:nvSpPr>
        <p:spPr>
          <a:xfrm flipH="1">
            <a:off x="507636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5102280" y="43430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102280" y="43430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7" name=""/>
          <p:cNvSpPr/>
          <p:nvPr/>
        </p:nvSpPr>
        <p:spPr>
          <a:xfrm>
            <a:off x="510228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8" name=""/>
          <p:cNvSpPr/>
          <p:nvPr/>
        </p:nvSpPr>
        <p:spPr>
          <a:xfrm>
            <a:off x="5172120" y="434340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5180040" y="435276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0" name=""/>
          <p:cNvSpPr/>
          <p:nvPr/>
        </p:nvSpPr>
        <p:spPr>
          <a:xfrm>
            <a:off x="5205240" y="4381560"/>
            <a:ext cx="28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5180040" y="438156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2" name=""/>
          <p:cNvSpPr/>
          <p:nvPr/>
        </p:nvSpPr>
        <p:spPr>
          <a:xfrm flipV="1">
            <a:off x="5205240" y="4352760"/>
            <a:ext cx="288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3" name=""/>
          <p:cNvSpPr/>
          <p:nvPr/>
        </p:nvSpPr>
        <p:spPr>
          <a:xfrm flipV="1">
            <a:off x="5205240" y="4352760"/>
            <a:ext cx="18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4" name=""/>
          <p:cNvSpPr/>
          <p:nvPr/>
        </p:nvSpPr>
        <p:spPr>
          <a:xfrm>
            <a:off x="5205240" y="4381560"/>
            <a:ext cx="1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5" name=""/>
          <p:cNvSpPr/>
          <p:nvPr/>
        </p:nvSpPr>
        <p:spPr>
          <a:xfrm>
            <a:off x="5284800" y="4352760"/>
            <a:ext cx="79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6" name=""/>
          <p:cNvSpPr/>
          <p:nvPr/>
        </p:nvSpPr>
        <p:spPr>
          <a:xfrm flipH="1" flipV="1">
            <a:off x="5293800" y="436212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7" name=""/>
          <p:cNvSpPr/>
          <p:nvPr/>
        </p:nvSpPr>
        <p:spPr>
          <a:xfrm>
            <a:off x="5319720" y="439092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8" name=""/>
          <p:cNvSpPr/>
          <p:nvPr/>
        </p:nvSpPr>
        <p:spPr>
          <a:xfrm flipH="1">
            <a:off x="5293800" y="439092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5319720" y="436212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5319720" y="436212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1" name=""/>
          <p:cNvSpPr/>
          <p:nvPr/>
        </p:nvSpPr>
        <p:spPr>
          <a:xfrm>
            <a:off x="5319720" y="439092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2" name=""/>
          <p:cNvSpPr/>
          <p:nvPr/>
        </p:nvSpPr>
        <p:spPr>
          <a:xfrm>
            <a:off x="5389560" y="436248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3" name=""/>
          <p:cNvSpPr/>
          <p:nvPr/>
        </p:nvSpPr>
        <p:spPr>
          <a:xfrm flipH="1" flipV="1">
            <a:off x="539856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4" name=""/>
          <p:cNvSpPr/>
          <p:nvPr/>
        </p:nvSpPr>
        <p:spPr>
          <a:xfrm>
            <a:off x="542448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539856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6" name=""/>
          <p:cNvSpPr/>
          <p:nvPr/>
        </p:nvSpPr>
        <p:spPr>
          <a:xfrm flipV="1">
            <a:off x="542448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7" name=""/>
          <p:cNvSpPr/>
          <p:nvPr/>
        </p:nvSpPr>
        <p:spPr>
          <a:xfrm flipV="1">
            <a:off x="542448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8" name=""/>
          <p:cNvSpPr/>
          <p:nvPr/>
        </p:nvSpPr>
        <p:spPr>
          <a:xfrm>
            <a:off x="5424480" y="440064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9" name=""/>
          <p:cNvSpPr/>
          <p:nvPr/>
        </p:nvSpPr>
        <p:spPr>
          <a:xfrm>
            <a:off x="5494320" y="436248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5504040" y="4371840"/>
            <a:ext cx="252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1" name=""/>
          <p:cNvSpPr/>
          <p:nvPr/>
        </p:nvSpPr>
        <p:spPr>
          <a:xfrm>
            <a:off x="5529240" y="440064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5504040" y="4400640"/>
            <a:ext cx="252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5529240" y="4371840"/>
            <a:ext cx="2556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4" name=""/>
          <p:cNvSpPr/>
          <p:nvPr/>
        </p:nvSpPr>
        <p:spPr>
          <a:xfrm flipV="1">
            <a:off x="5529240" y="4371840"/>
            <a:ext cx="14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5" name=""/>
          <p:cNvSpPr/>
          <p:nvPr/>
        </p:nvSpPr>
        <p:spPr>
          <a:xfrm>
            <a:off x="5529240" y="440064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6" name=""/>
          <p:cNvSpPr/>
          <p:nvPr/>
        </p:nvSpPr>
        <p:spPr>
          <a:xfrm>
            <a:off x="5597640" y="4371840"/>
            <a:ext cx="7920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7" name=""/>
          <p:cNvSpPr/>
          <p:nvPr/>
        </p:nvSpPr>
        <p:spPr>
          <a:xfrm flipH="1" flipV="1">
            <a:off x="5608800" y="4381200"/>
            <a:ext cx="252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8" name=""/>
          <p:cNvSpPr/>
          <p:nvPr/>
        </p:nvSpPr>
        <p:spPr>
          <a:xfrm>
            <a:off x="5634000" y="441000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5608800" y="4410000"/>
            <a:ext cx="252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0" name=""/>
          <p:cNvSpPr/>
          <p:nvPr/>
        </p:nvSpPr>
        <p:spPr>
          <a:xfrm flipV="1">
            <a:off x="5634000" y="438120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634000" y="4381200"/>
            <a:ext cx="18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2" name=""/>
          <p:cNvSpPr/>
          <p:nvPr/>
        </p:nvSpPr>
        <p:spPr>
          <a:xfrm>
            <a:off x="5634000" y="4410000"/>
            <a:ext cx="18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3" name=""/>
          <p:cNvSpPr/>
          <p:nvPr/>
        </p:nvSpPr>
        <p:spPr>
          <a:xfrm>
            <a:off x="5711760" y="4381560"/>
            <a:ext cx="777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4" name=""/>
          <p:cNvSpPr/>
          <p:nvPr/>
        </p:nvSpPr>
        <p:spPr>
          <a:xfrm flipH="1" flipV="1">
            <a:off x="5719320" y="439056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5" name=""/>
          <p:cNvSpPr/>
          <p:nvPr/>
        </p:nvSpPr>
        <p:spPr>
          <a:xfrm>
            <a:off x="5746680" y="441792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6" name=""/>
          <p:cNvSpPr/>
          <p:nvPr/>
        </p:nvSpPr>
        <p:spPr>
          <a:xfrm flipH="1">
            <a:off x="5719320" y="4417920"/>
            <a:ext cx="2700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7" name=""/>
          <p:cNvSpPr/>
          <p:nvPr/>
        </p:nvSpPr>
        <p:spPr>
          <a:xfrm flipV="1">
            <a:off x="5746680" y="439056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8" name=""/>
          <p:cNvSpPr/>
          <p:nvPr/>
        </p:nvSpPr>
        <p:spPr>
          <a:xfrm flipV="1">
            <a:off x="5746680" y="4390560"/>
            <a:ext cx="32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9" name=""/>
          <p:cNvSpPr/>
          <p:nvPr/>
        </p:nvSpPr>
        <p:spPr>
          <a:xfrm>
            <a:off x="5746680" y="4417920"/>
            <a:ext cx="3240" cy="288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0" name=""/>
          <p:cNvSpPr/>
          <p:nvPr/>
        </p:nvSpPr>
        <p:spPr>
          <a:xfrm>
            <a:off x="5816520" y="4390920"/>
            <a:ext cx="795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1" name=""/>
          <p:cNvSpPr/>
          <p:nvPr/>
        </p:nvSpPr>
        <p:spPr>
          <a:xfrm flipH="1" flipV="1">
            <a:off x="5824080" y="440028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2" name=""/>
          <p:cNvSpPr/>
          <p:nvPr/>
        </p:nvSpPr>
        <p:spPr>
          <a:xfrm>
            <a:off x="5850000" y="4427640"/>
            <a:ext cx="28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824080" y="44276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4" name=""/>
          <p:cNvSpPr/>
          <p:nvPr/>
        </p:nvSpPr>
        <p:spPr>
          <a:xfrm flipV="1">
            <a:off x="5850000" y="4400280"/>
            <a:ext cx="28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5" name=""/>
          <p:cNvSpPr/>
          <p:nvPr/>
        </p:nvSpPr>
        <p:spPr>
          <a:xfrm flipV="1">
            <a:off x="5850000" y="4400280"/>
            <a:ext cx="14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6" name=""/>
          <p:cNvSpPr/>
          <p:nvPr/>
        </p:nvSpPr>
        <p:spPr>
          <a:xfrm>
            <a:off x="5850000" y="4427640"/>
            <a:ext cx="14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7" name=""/>
          <p:cNvSpPr/>
          <p:nvPr/>
        </p:nvSpPr>
        <p:spPr>
          <a:xfrm>
            <a:off x="5921280" y="4390920"/>
            <a:ext cx="7956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8" name=""/>
          <p:cNvSpPr/>
          <p:nvPr/>
        </p:nvSpPr>
        <p:spPr>
          <a:xfrm flipH="1" flipV="1">
            <a:off x="5928840" y="4400280"/>
            <a:ext cx="2556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9" name=""/>
          <p:cNvSpPr/>
          <p:nvPr/>
        </p:nvSpPr>
        <p:spPr>
          <a:xfrm>
            <a:off x="5954760" y="4427640"/>
            <a:ext cx="2700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0" name=""/>
          <p:cNvSpPr/>
          <p:nvPr/>
        </p:nvSpPr>
        <p:spPr>
          <a:xfrm flipH="1">
            <a:off x="5928840" y="4427640"/>
            <a:ext cx="2556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5954760" y="4400280"/>
            <a:ext cx="2700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5954760" y="4400280"/>
            <a:ext cx="3240" cy="2700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3" name=""/>
          <p:cNvSpPr/>
          <p:nvPr/>
        </p:nvSpPr>
        <p:spPr>
          <a:xfrm>
            <a:off x="5954760" y="4427640"/>
            <a:ext cx="3240" cy="28440"/>
          </a:xfrm>
          <a:prstGeom prst="line">
            <a:avLst/>
          </a:prstGeom>
          <a:ln w="79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4" name=""/>
          <p:cNvSpPr/>
          <p:nvPr/>
        </p:nvSpPr>
        <p:spPr>
          <a:xfrm>
            <a:off x="1477800" y="4786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5" name=""/>
          <p:cNvSpPr/>
          <p:nvPr/>
        </p:nvSpPr>
        <p:spPr>
          <a:xfrm>
            <a:off x="1396080" y="4257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6" name=""/>
          <p:cNvSpPr/>
          <p:nvPr/>
        </p:nvSpPr>
        <p:spPr>
          <a:xfrm>
            <a:off x="1396080" y="3740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7" name=""/>
          <p:cNvSpPr/>
          <p:nvPr/>
        </p:nvSpPr>
        <p:spPr>
          <a:xfrm>
            <a:off x="1396080" y="3211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8" name=""/>
          <p:cNvSpPr/>
          <p:nvPr/>
        </p:nvSpPr>
        <p:spPr>
          <a:xfrm>
            <a:off x="1396080" y="2684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59" name=""/>
          <p:cNvSpPr/>
          <p:nvPr/>
        </p:nvSpPr>
        <p:spPr>
          <a:xfrm>
            <a:off x="1396080" y="216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0" name=""/>
          <p:cNvSpPr/>
          <p:nvPr/>
        </p:nvSpPr>
        <p:spPr>
          <a:xfrm>
            <a:off x="1396080" y="1636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1" name=""/>
          <p:cNvSpPr/>
          <p:nvPr/>
        </p:nvSpPr>
        <p:spPr>
          <a:xfrm>
            <a:off x="1669680" y="5003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2" name=""/>
          <p:cNvSpPr/>
          <p:nvPr/>
        </p:nvSpPr>
        <p:spPr>
          <a:xfrm>
            <a:off x="2656080" y="50036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3" name=""/>
          <p:cNvSpPr/>
          <p:nvPr/>
        </p:nvSpPr>
        <p:spPr>
          <a:xfrm>
            <a:off x="368172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4" name=""/>
          <p:cNvSpPr/>
          <p:nvPr/>
        </p:nvSpPr>
        <p:spPr>
          <a:xfrm>
            <a:off x="474372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5" name=""/>
          <p:cNvSpPr/>
          <p:nvPr/>
        </p:nvSpPr>
        <p:spPr>
          <a:xfrm>
            <a:off x="581544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6" name=""/>
          <p:cNvSpPr/>
          <p:nvPr/>
        </p:nvSpPr>
        <p:spPr>
          <a:xfrm>
            <a:off x="6886080" y="500364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7" name=""/>
          <p:cNvSpPr/>
          <p:nvPr/>
        </p:nvSpPr>
        <p:spPr>
          <a:xfrm>
            <a:off x="2128680" y="182268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No SWA preserv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8" name=""/>
          <p:cNvSpPr/>
          <p:nvPr/>
        </p:nvSpPr>
        <p:spPr>
          <a:xfrm>
            <a:off x="1682640" y="2286000"/>
            <a:ext cx="8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SWA conn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69" name=""/>
          <p:cNvSpPr/>
          <p:nvPr/>
        </p:nvSpPr>
        <p:spPr>
          <a:xfrm>
            <a:off x="1635120" y="2688840"/>
            <a:ext cx="79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A Yield SWA direct competition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0" name=""/>
          <p:cNvSpPr/>
          <p:nvPr/>
        </p:nvSpPr>
        <p:spPr>
          <a:xfrm>
            <a:off x="2152800" y="39164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 Yield non-stop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1" name=""/>
          <p:cNvSpPr/>
          <p:nvPr/>
        </p:nvSpPr>
        <p:spPr>
          <a:xfrm>
            <a:off x="1612800" y="3272040"/>
            <a:ext cx="7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 Yield connec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2" name=""/>
          <p:cNvSpPr/>
          <p:nvPr/>
        </p:nvSpPr>
        <p:spPr>
          <a:xfrm>
            <a:off x="1501560" y="5532480"/>
            <a:ext cx="38977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  (1)  Revenue per revenue passenger mile, including PFC and taxe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2) OA: Other Airlin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 DOT Y.2000 data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3" name=""/>
          <p:cNvSpPr/>
          <p:nvPr/>
        </p:nvSpPr>
        <p:spPr>
          <a:xfrm>
            <a:off x="6647040" y="2239920"/>
            <a:ext cx="2676240" cy="1022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221400" indent="-22140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 non-stop competition reduces OA yields 25%-35%          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marL="221400" indent="-221400">
              <a:lnSpc>
                <a:spcPct val="100000"/>
              </a:lnSpc>
              <a:spcBef>
                <a:spcPts val="1500"/>
              </a:spcBef>
              <a:buClr>
                <a:srgbClr val="0b1f65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A one-stop competition reduces OA yields 15-20%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4" name=""/>
          <p:cNvSpPr/>
          <p:nvPr/>
        </p:nvSpPr>
        <p:spPr>
          <a:xfrm>
            <a:off x="2374920" y="2971800"/>
            <a:ext cx="457200" cy="63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5" name=""/>
          <p:cNvSpPr/>
          <p:nvPr/>
        </p:nvSpPr>
        <p:spPr>
          <a:xfrm>
            <a:off x="2298600" y="3505320"/>
            <a:ext cx="4320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76" name=""/>
          <p:cNvSpPr/>
          <p:nvPr/>
        </p:nvSpPr>
        <p:spPr>
          <a:xfrm>
            <a:off x="4176000" y="5186520"/>
            <a:ext cx="64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7" name=""/>
          <p:cNvGraphicFramePr/>
          <p:nvPr/>
        </p:nvGraphicFramePr>
        <p:xfrm>
          <a:off x="1892160" y="2063880"/>
          <a:ext cx="6289920" cy="354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2160" y="2063880"/>
                    <a:ext cx="628992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situation is complicated by an excess of hub capacity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3926880" y="1511280"/>
            <a:ext cx="2122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ravel Structure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assenger Trips, Y2000)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1" name=""/>
          <p:cNvSpPr/>
          <p:nvPr/>
        </p:nvSpPr>
        <p:spPr>
          <a:xfrm>
            <a:off x="1195560" y="5942520"/>
            <a:ext cx="17046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U.S. DOT,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2" name=""/>
          <p:cNvSpPr/>
          <p:nvPr/>
        </p:nvSpPr>
        <p:spPr>
          <a:xfrm>
            <a:off x="2610000" y="2298600"/>
            <a:ext cx="6919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ternational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3" name=""/>
          <p:cNvSpPr/>
          <p:nvPr/>
        </p:nvSpPr>
        <p:spPr>
          <a:xfrm>
            <a:off x="2647800" y="3683160"/>
            <a:ext cx="692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omestic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4" name=""/>
          <p:cNvSpPr/>
          <p:nvPr/>
        </p:nvSpPr>
        <p:spPr>
          <a:xfrm>
            <a:off x="4400640" y="468936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o Non-Stop Service Available 22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5" name=""/>
          <p:cNvSpPr/>
          <p:nvPr/>
        </p:nvSpPr>
        <p:spPr>
          <a:xfrm>
            <a:off x="4400640" y="426888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adequate Non-Stop Service 10%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6" name=""/>
          <p:cNvSpPr/>
          <p:nvPr/>
        </p:nvSpPr>
        <p:spPr>
          <a:xfrm>
            <a:off x="4400640" y="407664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ther Connections  9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7" name=""/>
          <p:cNvSpPr/>
          <p:nvPr/>
        </p:nvSpPr>
        <p:spPr>
          <a:xfrm>
            <a:off x="4413240" y="205740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nect In USA 3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8" name=""/>
          <p:cNvSpPr/>
          <p:nvPr/>
        </p:nvSpPr>
        <p:spPr>
          <a:xfrm>
            <a:off x="6483240" y="2355840"/>
            <a:ext cx="130176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70% Do Not Connect in U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9" name=""/>
          <p:cNvSpPr/>
          <p:nvPr/>
        </p:nvSpPr>
        <p:spPr>
          <a:xfrm>
            <a:off x="6483240" y="320040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60% of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estic Trips Are Non-Stop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0" name=""/>
          <p:cNvSpPr/>
          <p:nvPr/>
        </p:nvSpPr>
        <p:spPr>
          <a:xfrm>
            <a:off x="6737400" y="4521240"/>
            <a:ext cx="130176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1" name=""/>
          <p:cNvSpPr/>
          <p:nvPr/>
        </p:nvSpPr>
        <p:spPr>
          <a:xfrm>
            <a:off x="5778360" y="4133880"/>
            <a:ext cx="184320" cy="933480"/>
          </a:xfrm>
          <a:custGeom>
            <a:avLst/>
            <a:gdLst>
              <a:gd name="textAreaLeft" fmla="*/ 0 w 184320"/>
              <a:gd name="textAreaRight" fmla="*/ 66600 w 184320"/>
              <a:gd name="textAreaTop" fmla="*/ 24120 h 933480"/>
              <a:gd name="textAreaBottom" fmla="*/ 909360 h 933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2" name=""/>
          <p:cNvSpPr/>
          <p:nvPr/>
        </p:nvSpPr>
        <p:spPr>
          <a:xfrm>
            <a:off x="5947200" y="4352040"/>
            <a:ext cx="1111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urrent Domestic 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Connections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~4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3" name=""/>
          <p:cNvSpPr/>
          <p:nvPr/>
        </p:nvSpPr>
        <p:spPr>
          <a:xfrm>
            <a:off x="5715000" y="4127400"/>
            <a:ext cx="771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4" name=""/>
          <p:cNvSpPr/>
          <p:nvPr/>
        </p:nvSpPr>
        <p:spPr>
          <a:xfrm>
            <a:off x="3619440" y="211788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5" name=""/>
          <p:cNvSpPr/>
          <p:nvPr/>
        </p:nvSpPr>
        <p:spPr>
          <a:xfrm>
            <a:off x="5708520" y="2301840"/>
            <a:ext cx="7970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6" name=""/>
          <p:cNvSpPr/>
          <p:nvPr/>
        </p:nvSpPr>
        <p:spPr>
          <a:xfrm>
            <a:off x="1890720" y="1955880"/>
            <a:ext cx="395280" cy="30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7" name=""/>
          <p:cNvSpPr/>
          <p:nvPr/>
        </p:nvSpPr>
        <p:spPr>
          <a:xfrm>
            <a:off x="1104840" y="2146320"/>
            <a:ext cx="94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110 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&amp;D PA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8" name=""/>
          <p:cNvSpPr/>
          <p:nvPr/>
        </p:nvSpPr>
        <p:spPr>
          <a:xfrm>
            <a:off x="1069920" y="3594240"/>
            <a:ext cx="996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~410 M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&amp;D  PAX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9" name=""/>
          <p:cNvSpPr/>
          <p:nvPr/>
        </p:nvSpPr>
        <p:spPr>
          <a:xfrm>
            <a:off x="1219320" y="2739960"/>
            <a:ext cx="7162560" cy="0"/>
          </a:xfrm>
          <a:prstGeom prst="line">
            <a:avLst/>
          </a:prstGeom>
          <a:ln w="9360">
            <a:solidFill>
              <a:srgbClr val="b72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sulting in an unsustainable revenue positions at hub-and-spoke carri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1917720" y="1692360"/>
            <a:ext cx="190512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gree Of Price Sensitivity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2" name=""/>
          <p:cNvSpPr/>
          <p:nvPr/>
        </p:nvSpPr>
        <p:spPr>
          <a:xfrm>
            <a:off x="1917720" y="22255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w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ooses airline, travels on business or rich personal travel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3" name=""/>
          <p:cNvSpPr/>
          <p:nvPr/>
        </p:nvSpPr>
        <p:spPr>
          <a:xfrm>
            <a:off x="3822840" y="1692360"/>
            <a:ext cx="190476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on-Stop Passenger Fl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4" name=""/>
          <p:cNvSpPr/>
          <p:nvPr/>
        </p:nvSpPr>
        <p:spPr>
          <a:xfrm>
            <a:off x="3822840" y="2225520"/>
            <a:ext cx="190476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% - 30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5" name=""/>
          <p:cNvSpPr/>
          <p:nvPr/>
        </p:nvSpPr>
        <p:spPr>
          <a:xfrm>
            <a:off x="5727600" y="1692360"/>
            <a:ext cx="1905120" cy="533160"/>
          </a:xfrm>
          <a:prstGeom prst="rect">
            <a:avLst/>
          </a:prstGeom>
          <a:solidFill>
            <a:srgbClr val="0166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necting Passenger Flight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6" name=""/>
          <p:cNvSpPr/>
          <p:nvPr/>
        </p:nvSpPr>
        <p:spPr>
          <a:xfrm>
            <a:off x="5727600" y="22255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7" name=""/>
          <p:cNvSpPr/>
          <p:nvPr/>
        </p:nvSpPr>
        <p:spPr>
          <a:xfrm>
            <a:off x="1917720" y="3216240"/>
            <a:ext cx="1905120" cy="89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um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poration is principal decision maker, drives bargain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8" name=""/>
          <p:cNvSpPr/>
          <p:nvPr/>
        </p:nvSpPr>
        <p:spPr>
          <a:xfrm>
            <a:off x="3822840" y="3216240"/>
            <a:ext cx="1904760" cy="892080"/>
          </a:xfrm>
          <a:prstGeom prst="rect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9" name=""/>
          <p:cNvSpPr/>
          <p:nvPr/>
        </p:nvSpPr>
        <p:spPr>
          <a:xfrm>
            <a:off x="5727600" y="3216240"/>
            <a:ext cx="1905120" cy="892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0" name=""/>
          <p:cNvSpPr/>
          <p:nvPr/>
        </p:nvSpPr>
        <p:spPr>
          <a:xfrm>
            <a:off x="1917720" y="4108320"/>
            <a:ext cx="19051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igh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ly leisure travel and price sensitive business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1" name=""/>
          <p:cNvSpPr/>
          <p:nvPr/>
        </p:nvSpPr>
        <p:spPr>
          <a:xfrm>
            <a:off x="3822840" y="4108320"/>
            <a:ext cx="190476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2" name=""/>
          <p:cNvSpPr/>
          <p:nvPr/>
        </p:nvSpPr>
        <p:spPr>
          <a:xfrm>
            <a:off x="5727600" y="4108320"/>
            <a:ext cx="1905120" cy="990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% - 15% revenu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3" name=""/>
          <p:cNvSpPr/>
          <p:nvPr/>
        </p:nvSpPr>
        <p:spPr>
          <a:xfrm rot="5400000">
            <a:off x="4584600" y="436536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4" name=""/>
          <p:cNvSpPr/>
          <p:nvPr/>
        </p:nvSpPr>
        <p:spPr>
          <a:xfrm>
            <a:off x="3538440" y="5356800"/>
            <a:ext cx="23162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nerally Product Advant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ignificantly Higher Yields (Without LCC Price Impact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5" name=""/>
          <p:cNvSpPr/>
          <p:nvPr/>
        </p:nvSpPr>
        <p:spPr>
          <a:xfrm rot="5400000">
            <a:off x="6573600" y="4389480"/>
            <a:ext cx="237960" cy="1780920"/>
          </a:xfrm>
          <a:custGeom>
            <a:avLst/>
            <a:gdLst>
              <a:gd name="textAreaLeft" fmla="*/ 0 w 237960"/>
              <a:gd name="textAreaRight" fmla="*/ 86040 w 237960"/>
              <a:gd name="textAreaTop" fmla="*/ 46440 h 1780920"/>
              <a:gd name="textAreaBottom" fmla="*/ 1734480 h 178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6" name=""/>
          <p:cNvSpPr/>
          <p:nvPr/>
        </p:nvSpPr>
        <p:spPr>
          <a:xfrm>
            <a:off x="6000840" y="5439600"/>
            <a:ext cx="138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duct Parity Or Disadvantage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7" name=""/>
          <p:cNvSpPr/>
          <p:nvPr/>
        </p:nvSpPr>
        <p:spPr>
          <a:xfrm>
            <a:off x="1865160" y="5746680"/>
            <a:ext cx="227160" cy="195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8" name=""/>
          <p:cNvSpPr/>
          <p:nvPr/>
        </p:nvSpPr>
        <p:spPr>
          <a:xfrm>
            <a:off x="1865160" y="5445000"/>
            <a:ext cx="227160" cy="195480"/>
          </a:xfrm>
          <a:prstGeom prst="rect">
            <a:avLst/>
          </a:prstGeom>
          <a:solidFill>
            <a:srgbClr val="ecece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19" name=""/>
          <p:cNvSpPr/>
          <p:nvPr/>
        </p:nvSpPr>
        <p:spPr>
          <a:xfrm>
            <a:off x="2172600" y="5428080"/>
            <a:ext cx="1242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Moderately Vulnerabl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0" name=""/>
          <p:cNvSpPr/>
          <p:nvPr/>
        </p:nvSpPr>
        <p:spPr>
          <a:xfrm>
            <a:off x="2176200" y="5728320"/>
            <a:ext cx="642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Vulnerable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1" name=""/>
          <p:cNvSpPr/>
          <p:nvPr/>
        </p:nvSpPr>
        <p:spPr>
          <a:xfrm>
            <a:off x="2127240" y="1376280"/>
            <a:ext cx="5234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titive Composition: Typical Mainline Carrier, Pre-Crash</a:t>
            </a:r>
            <a:endParaRPr b="0" lang="en-US" sz="1400" spc="-1" strike="noStrike">
              <a:solidFill>
                <a:srgbClr val="000000"/>
              </a:solidFill>
              <a:latin typeface="Book Antiqua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5746680" y="2255760"/>
            <a:ext cx="1881360" cy="957240"/>
            <a:chOff x="5746680" y="2255760"/>
            <a:chExt cx="1881360" cy="957240"/>
          </a:xfrm>
        </p:grpSpPr>
        <p:sp>
          <p:nvSpPr>
            <p:cNvPr id="923" name=""/>
            <p:cNvSpPr/>
            <p:nvPr/>
          </p:nvSpPr>
          <p:spPr>
            <a:xfrm>
              <a:off x="5746680" y="2255760"/>
              <a:ext cx="1881360" cy="9572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746680" y="2255760"/>
              <a:ext cx="1279080" cy="95724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0f0f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% - 25% of revenue</a:t>
              </a:r>
              <a:endParaRPr b="0" lang="en-US" sz="12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5" name=""/>
          <p:cNvGraphicFramePr/>
          <p:nvPr/>
        </p:nvGraphicFramePr>
        <p:xfrm>
          <a:off x="1919160" y="1792440"/>
          <a:ext cx="6034320" cy="365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19160" y="1792440"/>
                    <a:ext cx="6034320" cy="365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7" name=""/>
          <p:cNvSpPr/>
          <p:nvPr/>
        </p:nvSpPr>
        <p:spPr>
          <a:xfrm>
            <a:off x="6991200" y="4362840"/>
            <a:ext cx="546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ritanni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8" name=""/>
          <p:cNvSpPr/>
          <p:nvPr/>
        </p:nvSpPr>
        <p:spPr>
          <a:xfrm>
            <a:off x="4592520" y="5446800"/>
            <a:ext cx="1521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verage Stage Length (miles)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9" name=""/>
          <p:cNvSpPr/>
          <p:nvPr/>
        </p:nvSpPr>
        <p:spPr>
          <a:xfrm rot="16200000">
            <a:off x="1230840" y="3352320"/>
            <a:ext cx="64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ents / ASM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0" name=""/>
          <p:cNvSpPr/>
          <p:nvPr/>
        </p:nvSpPr>
        <p:spPr>
          <a:xfrm>
            <a:off x="3871440" y="1359000"/>
            <a:ext cx="2010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SM Versus Stage Length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000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twork carriers have a huge cost gap vs LCC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6537240" y="6005880"/>
            <a:ext cx="344484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3" name=""/>
          <p:cNvSpPr/>
          <p:nvPr/>
        </p:nvSpPr>
        <p:spPr>
          <a:xfrm>
            <a:off x="3365640" y="3733920"/>
            <a:ext cx="1049040" cy="561960"/>
          </a:xfrm>
          <a:custGeom>
            <a:avLst/>
            <a:gdLst/>
            <a:ahLst/>
            <a:rect l="l" t="t" r="r" b="b"/>
            <a:pathLst>
              <a:path w="936" h="354">
                <a:moveTo>
                  <a:pt x="936" y="354"/>
                </a:moveTo>
                <a:cubicBezTo>
                  <a:pt x="809" y="332"/>
                  <a:pt x="683" y="310"/>
                  <a:pt x="564" y="276"/>
                </a:cubicBezTo>
                <a:cubicBezTo>
                  <a:pt x="445" y="242"/>
                  <a:pt x="316" y="196"/>
                  <a:pt x="222" y="150"/>
                </a:cubicBezTo>
                <a:cubicBezTo>
                  <a:pt x="128" y="104"/>
                  <a:pt x="37" y="25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4" name=""/>
          <p:cNvSpPr/>
          <p:nvPr/>
        </p:nvSpPr>
        <p:spPr>
          <a:xfrm>
            <a:off x="4051440" y="3137040"/>
            <a:ext cx="3484440" cy="930240"/>
          </a:xfrm>
          <a:custGeom>
            <a:avLst/>
            <a:gdLst/>
            <a:ahLst/>
            <a:rect l="l" t="t" r="r" b="b"/>
            <a:pathLst>
              <a:path w="2328" h="528">
                <a:moveTo>
                  <a:pt x="2328" y="528"/>
                </a:moveTo>
                <a:cubicBezTo>
                  <a:pt x="2096" y="508"/>
                  <a:pt x="1865" y="489"/>
                  <a:pt x="1632" y="456"/>
                </a:cubicBezTo>
                <a:cubicBezTo>
                  <a:pt x="1399" y="423"/>
                  <a:pt x="1124" y="371"/>
                  <a:pt x="928" y="328"/>
                </a:cubicBezTo>
                <a:cubicBezTo>
                  <a:pt x="732" y="285"/>
                  <a:pt x="611" y="255"/>
                  <a:pt x="456" y="200"/>
                </a:cubicBezTo>
                <a:cubicBezTo>
                  <a:pt x="301" y="145"/>
                  <a:pt x="76" y="33"/>
                  <a:pt x="0" y="0"/>
                </a:cubicBezTo>
              </a:path>
            </a:pathLst>
          </a:custGeom>
          <a:noFill/>
          <a:ln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5" name=""/>
          <p:cNvSpPr/>
          <p:nvPr/>
        </p:nvSpPr>
        <p:spPr>
          <a:xfrm>
            <a:off x="5757840" y="328356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6" name=""/>
          <p:cNvSpPr/>
          <p:nvPr/>
        </p:nvSpPr>
        <p:spPr>
          <a:xfrm>
            <a:off x="3427560" y="34448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asyJe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7" name=""/>
          <p:cNvSpPr/>
          <p:nvPr/>
        </p:nvSpPr>
        <p:spPr>
          <a:xfrm>
            <a:off x="4773600" y="310392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H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8" name=""/>
          <p:cNvSpPr/>
          <p:nvPr/>
        </p:nvSpPr>
        <p:spPr>
          <a:xfrm>
            <a:off x="5366520" y="305496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9" name=""/>
          <p:cNvSpPr/>
          <p:nvPr/>
        </p:nvSpPr>
        <p:spPr>
          <a:xfrm>
            <a:off x="6232320" y="3283560"/>
            <a:ext cx="232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L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0" name=""/>
          <p:cNvSpPr/>
          <p:nvPr/>
        </p:nvSpPr>
        <p:spPr>
          <a:xfrm>
            <a:off x="4511520" y="3529440"/>
            <a:ext cx="200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B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1" name=""/>
          <p:cNvSpPr/>
          <p:nvPr/>
        </p:nvSpPr>
        <p:spPr>
          <a:xfrm>
            <a:off x="3091320" y="3966120"/>
            <a:ext cx="488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yanair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2" name=""/>
          <p:cNvSpPr/>
          <p:nvPr/>
        </p:nvSpPr>
        <p:spPr>
          <a:xfrm>
            <a:off x="3660120" y="214992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K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3" name=""/>
          <p:cNvSpPr/>
          <p:nvPr/>
        </p:nvSpPr>
        <p:spPr>
          <a:xfrm>
            <a:off x="3681360" y="4136040"/>
            <a:ext cx="35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W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4" name=""/>
          <p:cNvSpPr/>
          <p:nvPr/>
        </p:nvSpPr>
        <p:spPr>
          <a:xfrm>
            <a:off x="5604480" y="4113720"/>
            <a:ext cx="31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5" name=""/>
          <p:cNvSpPr/>
          <p:nvPr/>
        </p:nvSpPr>
        <p:spPr>
          <a:xfrm>
            <a:off x="4968720" y="356904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6" name=""/>
          <p:cNvSpPr/>
          <p:nvPr/>
        </p:nvSpPr>
        <p:spPr>
          <a:xfrm>
            <a:off x="5986440" y="3532680"/>
            <a:ext cx="244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7" name=""/>
          <p:cNvSpPr/>
          <p:nvPr/>
        </p:nvSpPr>
        <p:spPr>
          <a:xfrm>
            <a:off x="5249880" y="3910680"/>
            <a:ext cx="401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W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8" name=""/>
          <p:cNvSpPr/>
          <p:nvPr/>
        </p:nvSpPr>
        <p:spPr>
          <a:xfrm>
            <a:off x="5388120" y="3675600"/>
            <a:ext cx="28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W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9" name=""/>
          <p:cNvSpPr/>
          <p:nvPr/>
        </p:nvSpPr>
        <p:spPr>
          <a:xfrm>
            <a:off x="4826880" y="394560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L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0" name=""/>
          <p:cNvSpPr/>
          <p:nvPr/>
        </p:nvSpPr>
        <p:spPr>
          <a:xfrm>
            <a:off x="6061320" y="3872520"/>
            <a:ext cx="262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1" name=""/>
          <p:cNvSpPr/>
          <p:nvPr/>
        </p:nvSpPr>
        <p:spPr>
          <a:xfrm>
            <a:off x="4272120" y="312300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2" name=""/>
          <p:cNvSpPr/>
          <p:nvPr/>
        </p:nvSpPr>
        <p:spPr>
          <a:xfrm>
            <a:off x="5908680" y="3612240"/>
            <a:ext cx="250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A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3" name=""/>
          <p:cNvSpPr/>
          <p:nvPr/>
        </p:nvSpPr>
        <p:spPr>
          <a:xfrm>
            <a:off x="4776840" y="3764520"/>
            <a:ext cx="27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W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4" name=""/>
          <p:cNvSpPr/>
          <p:nvPr/>
        </p:nvSpPr>
        <p:spPr>
          <a:xfrm>
            <a:off x="4263840" y="3853440"/>
            <a:ext cx="30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irT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5048280" y="3900600"/>
            <a:ext cx="142920" cy="12384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6" name=""/>
          <p:cNvSpPr/>
          <p:nvPr/>
        </p:nvSpPr>
        <p:spPr>
          <a:xfrm>
            <a:off x="4583160" y="2954880"/>
            <a:ext cx="238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Z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5002200" y="3849480"/>
            <a:ext cx="192240" cy="219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24840" bIns="-24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8" name=""/>
          <p:cNvSpPr/>
          <p:nvPr/>
        </p:nvSpPr>
        <p:spPr>
          <a:xfrm>
            <a:off x="3841920" y="3700440"/>
            <a:ext cx="209520" cy="21276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59" name=""/>
          <p:cNvSpPr/>
          <p:nvPr/>
        </p:nvSpPr>
        <p:spPr>
          <a:xfrm>
            <a:off x="4098960" y="3903840"/>
            <a:ext cx="171360" cy="6012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13320" bIns="13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0" name=""/>
          <p:cNvSpPr/>
          <p:nvPr/>
        </p:nvSpPr>
        <p:spPr>
          <a:xfrm>
            <a:off x="2041560" y="5679000"/>
            <a:ext cx="4624200" cy="1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Source:  BAH Analysis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1" name=""/>
          <p:cNvGraphicFramePr/>
          <p:nvPr/>
        </p:nvGraphicFramePr>
        <p:xfrm>
          <a:off x="1244520" y="1955880"/>
          <a:ext cx="7137360" cy="360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44520" y="1955880"/>
                    <a:ext cx="713736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Title"/>
          <p:cNvSpPr/>
          <p:nvPr/>
        </p:nvSpPr>
        <p:spPr>
          <a:xfrm>
            <a:off x="2378880" y="1406520"/>
            <a:ext cx="51534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rivers Of Unit Cost Differen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.S. Network Carriers and SWA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737-300: Stage Length, Seat Density and Factor Cost Adjusted, Y2000)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4" name=""/>
          <p:cNvSpPr/>
          <p:nvPr/>
        </p:nvSpPr>
        <p:spPr>
          <a:xfrm>
            <a:off x="838080" y="222876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/ASM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5" name=""/>
          <p:cNvSpPr/>
          <p:nvPr/>
        </p:nvSpPr>
        <p:spPr>
          <a:xfrm>
            <a:off x="1650960" y="204804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.2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6" name=""/>
          <p:cNvSpPr/>
          <p:nvPr/>
        </p:nvSpPr>
        <p:spPr>
          <a:xfrm>
            <a:off x="2449440" y="2301840"/>
            <a:ext cx="50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7" name=""/>
          <p:cNvSpPr/>
          <p:nvPr/>
        </p:nvSpPr>
        <p:spPr>
          <a:xfrm>
            <a:off x="3836880" y="2629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8" name=""/>
          <p:cNvSpPr/>
          <p:nvPr/>
        </p:nvSpPr>
        <p:spPr>
          <a:xfrm>
            <a:off x="5257800" y="3041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9" name=""/>
          <p:cNvSpPr/>
          <p:nvPr/>
        </p:nvSpPr>
        <p:spPr>
          <a:xfrm>
            <a:off x="6647040" y="49118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0" name=""/>
          <p:cNvSpPr/>
          <p:nvPr/>
        </p:nvSpPr>
        <p:spPr>
          <a:xfrm>
            <a:off x="8240760" y="2309760"/>
            <a:ext cx="0" cy="267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1" name=""/>
          <p:cNvSpPr/>
          <p:nvPr/>
        </p:nvSpPr>
        <p:spPr>
          <a:xfrm>
            <a:off x="3819600" y="2300400"/>
            <a:ext cx="442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2" name=""/>
          <p:cNvSpPr/>
          <p:nvPr/>
        </p:nvSpPr>
        <p:spPr>
          <a:xfrm>
            <a:off x="3059280" y="2065320"/>
            <a:ext cx="706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3" name=""/>
          <p:cNvSpPr/>
          <p:nvPr/>
        </p:nvSpPr>
        <p:spPr>
          <a:xfrm>
            <a:off x="4456080" y="238428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4" name=""/>
          <p:cNvSpPr/>
          <p:nvPr/>
        </p:nvSpPr>
        <p:spPr>
          <a:xfrm>
            <a:off x="5870520" y="279072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5" name=""/>
          <p:cNvSpPr/>
          <p:nvPr/>
        </p:nvSpPr>
        <p:spPr>
          <a:xfrm>
            <a:off x="7250040" y="4656240"/>
            <a:ext cx="708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%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6" name=""/>
          <p:cNvSpPr/>
          <p:nvPr/>
        </p:nvSpPr>
        <p:spPr>
          <a:xfrm>
            <a:off x="6664320" y="303840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chedul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7" name=""/>
          <p:cNvSpPr/>
          <p:nvPr/>
        </p:nvSpPr>
        <p:spPr>
          <a:xfrm>
            <a:off x="6664320" y="359424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cess &amp; Pace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8" name=""/>
          <p:cNvSpPr/>
          <p:nvPr/>
        </p:nvSpPr>
        <p:spPr>
          <a:xfrm>
            <a:off x="6664320" y="4284720"/>
            <a:ext cx="95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Distribution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9" name=""/>
          <p:cNvSpPr/>
          <p:nvPr/>
        </p:nvSpPr>
        <p:spPr>
          <a:xfrm>
            <a:off x="6664320" y="4616280"/>
            <a:ext cx="404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rill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0" name=""/>
          <p:cNvSpPr/>
          <p:nvPr/>
        </p:nvSpPr>
        <p:spPr>
          <a:xfrm>
            <a:off x="6664320" y="4751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1" name=""/>
          <p:cNvSpPr/>
          <p:nvPr/>
        </p:nvSpPr>
        <p:spPr>
          <a:xfrm>
            <a:off x="7883640" y="5059440"/>
            <a:ext cx="7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seline</a:t>
            </a:r>
            <a:br>
              <a:rPr sz="900"/>
            </a:b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SWA)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2" name=""/>
          <p:cNvSpPr/>
          <p:nvPr/>
        </p:nvSpPr>
        <p:spPr>
          <a:xfrm>
            <a:off x="7980480" y="3521160"/>
            <a:ext cx="504720" cy="257040"/>
          </a:xfrm>
          <a:prstGeom prst="ellipse">
            <a:avLst/>
          </a:prstGeom>
          <a:solidFill>
            <a:srgbClr val="b72c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-50%</a:t>
            </a:r>
            <a:endParaRPr b="0" lang="en-US" sz="1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985240" cy="8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ch of this cost differential is a result of production model choices, not fril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177840" y="5938920"/>
            <a:ext cx="407340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Note: Average Airline based on Delta, United, and US Airways </a:t>
            </a:r>
            <a:endParaRPr b="0" lang="en-US" sz="9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5" name=""/>
          <p:cNvSpPr/>
          <p:nvPr/>
        </p:nvSpPr>
        <p:spPr>
          <a:xfrm>
            <a:off x="2482560" y="2455920"/>
            <a:ext cx="21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G&amp;A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6" name=""/>
          <p:cNvSpPr/>
          <p:nvPr/>
        </p:nvSpPr>
        <p:spPr>
          <a:xfrm>
            <a:off x="2482920" y="2747880"/>
            <a:ext cx="665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Sales and Re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7" name=""/>
          <p:cNvSpPr/>
          <p:nvPr/>
        </p:nvSpPr>
        <p:spPr>
          <a:xfrm>
            <a:off x="2482920" y="2317680"/>
            <a:ext cx="315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8" name=""/>
          <p:cNvSpPr/>
          <p:nvPr/>
        </p:nvSpPr>
        <p:spPr>
          <a:xfrm>
            <a:off x="2484000" y="3238560"/>
            <a:ext cx="1180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ax, Bag, Cargo Handling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9" name=""/>
          <p:cNvSpPr/>
          <p:nvPr/>
        </p:nvSpPr>
        <p:spPr>
          <a:xfrm>
            <a:off x="2482200" y="3703680"/>
            <a:ext cx="777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wnership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0" name=""/>
          <p:cNvSpPr/>
          <p:nvPr/>
        </p:nvSpPr>
        <p:spPr>
          <a:xfrm>
            <a:off x="2482560" y="4373640"/>
            <a:ext cx="875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Maintenance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1" name=""/>
          <p:cNvSpPr/>
          <p:nvPr/>
        </p:nvSpPr>
        <p:spPr>
          <a:xfrm>
            <a:off x="2481840" y="4600440"/>
            <a:ext cx="489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Fuel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2" name=""/>
          <p:cNvSpPr/>
          <p:nvPr/>
        </p:nvSpPr>
        <p:spPr>
          <a:xfrm>
            <a:off x="2481120" y="4815000"/>
            <a:ext cx="491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ilot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93" name=""/>
          <p:cNvSpPr/>
          <p:nvPr/>
        </p:nvSpPr>
        <p:spPr>
          <a:xfrm>
            <a:off x="2483280" y="405144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Onboard Costs</a:t>
            </a:r>
            <a:endParaRPr b="0" lang="en-US" sz="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RPUS1747-0126-011303v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7:39:42Z</dcterms:created>
  <dc:creator>BA&amp;H User</dc:creator>
  <dc:description/>
  <dc:language>en-US</dc:language>
  <cp:lastModifiedBy>Tom Hansson</cp:lastModifiedBy>
  <cp:lastPrinted>2002-12-16T11:31:46Z</cp:lastPrinted>
  <dcterms:modified xsi:type="dcterms:W3CDTF">2003-03-30T14:58:12Z</dcterms:modified>
  <cp:revision>180</cp:revision>
  <dc:subject/>
  <dc:title>No Slide Title</dc:title>
</cp:coreProperties>
</file>