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55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1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89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55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1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916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55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21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89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55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21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916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830592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2" marL="1000080" indent="-199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3" marL="1432080" indent="-200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4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5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6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8001000" cy="0"/>
          </a:xfrm>
          <a:prstGeom prst="line">
            <a:avLst/>
          </a:prstGeom>
          <a:ln w="38160">
            <a:solidFill>
              <a:srgbClr val="0258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5862600" y="631800"/>
            <a:ext cx="29718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258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934320" y="632448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25892"/>
                </a:solidFill>
                <a:latin typeface="Verdana"/>
              </a:rPr>
              <a:t> </a:t>
            </a:r>
            <a:r>
              <a:rPr b="1" lang="fr-FR" sz="1000" spc="-1" strike="noStrike">
                <a:solidFill>
                  <a:srgbClr val="025892"/>
                </a:solidFill>
                <a:latin typeface="Verdana"/>
              </a:rPr>
              <a:t>slide </a:t>
            </a:r>
            <a:fld id="{5C523608-7BC9-43B0-95D7-14FF84712537}" type="slidenum">
              <a:rPr b="1" lang="fr-FR" sz="1000" spc="-1" strike="noStrike">
                <a:solidFill>
                  <a:srgbClr val="02589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55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867280" y="6429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25892"/>
                </a:solidFill>
                <a:latin typeface="Verdana"/>
              </a:rPr>
              <a:t>Montreal – March 200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895480"/>
            <a:ext cx="9144000" cy="7632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1640" y="5641920"/>
            <a:ext cx="3511440" cy="106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8440" y="3962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8001000" cy="228600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395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5892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2589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ctr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ctr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14120" algn="ctr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139680" algn="ctr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111240" algn="ctr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11124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11124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Infrastructure Development</a:t>
            </a:r>
            <a:br>
              <a:rPr sz="3200"/>
            </a:b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Physical &amp; Environmental Constraints</a:t>
            </a:r>
            <a:br>
              <a:rPr sz="3200"/>
            </a:b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Dr Philippe Rochat</a:t>
            </a:r>
            <a:br>
              <a:rPr sz="3200"/>
            </a:br>
            <a:endParaRPr b="0" lang="en-US" sz="3200" spc="-1" strike="noStrike">
              <a:solidFill>
                <a:srgbClr val="02589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CAO Seminar on Liberaliz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Montreal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22-23 March 200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1142640"/>
            <a:ext cx="791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w initial re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2360" y="2133720"/>
            <a:ext cx="7916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iberalisation has put a growing pressure on infrastructure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Need for more runways and for a less fragmented airspace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Infrastructure tends to lag a few years behind capac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iberalisation is not the only cause of congestion &amp; delays. But it has accelerated and </a:t>
            </a:r>
            <a:r>
              <a:rPr b="1" i="1" lang="en-US" sz="2000" spc="-1" strike="noStrike">
                <a:solidFill>
                  <a:srgbClr val="014675"/>
                </a:solidFill>
                <a:latin typeface="Verdana"/>
              </a:rPr>
              <a:t>crystallised </a:t>
            </a: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constrai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1" marL="6858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8920" y="1219320"/>
            <a:ext cx="791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physical to environment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Physical constraints have been overtaken by environmental ones where capacity is most needed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Not the result of increased noise, but mainly the expression of a reduced tolerance in airport vicin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When airport development has to be balanced with environmental constraints, capacity gains can be writen off ! 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438200"/>
            <a:ext cx="8255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he role of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8920" y="2971440"/>
            <a:ext cx="791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No fatality ! Ways and means do exist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Most governements are actively looking for extra capacity to safisfy mobility requireme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The industry expects special efforts from States towards CNS/ATM progressive implementation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14675"/>
                </a:solidFill>
                <a:latin typeface="Verdana"/>
              </a:rPr>
              <a:t>Balanced Approach</a:t>
            </a: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 to tackle airport environmental constrai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371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-us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360" y="28191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ack of proper land-use planning &amp; management in most cases…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eads to the construction of new airports before existing facilities are fully used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hould noise nuisance be concentrated or distributed ?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3820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logue with airport neighb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10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relationship has focussed so far on environmental issue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4675"/>
                </a:solidFill>
                <a:latin typeface="Verdana"/>
              </a:rPr>
              <a:t>Sustainable Development </a:t>
            </a: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calls for a proper balance between economic, social and environmental aspec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hould lead to broaden the local dialogue sor that neighbors don not only share the negative, but also the positive contributions of aviation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modal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Ground access to airports through dedicated train links improves service, capacity and air qual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4675"/>
                </a:solidFill>
                <a:latin typeface="Verdana"/>
              </a:rPr>
              <a:t>High Speed Train </a:t>
            </a: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links have started to complement air transport and to absorb part of the growth: up to 10-15%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Intermodality requires a cultural revolution in both sectors…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question of physical &amp; environmental constraints is a major issue beyond the current crisi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It requires to be addressede in a fully coordinated way by infrastructure providers, users, manufacturers and regulator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Working together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2520" y="5492880"/>
            <a:ext cx="2749680" cy="83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438280"/>
            <a:ext cx="9144000" cy="7632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© ATAG 2002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www.atag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2:41:39Z</dcterms:created>
  <dc:creator>Barton</dc:creator>
  <dc:description/>
  <dc:language>en-US</dc:language>
  <cp:lastModifiedBy>Administrator</cp:lastModifiedBy>
  <dcterms:modified xsi:type="dcterms:W3CDTF">2003-03-22T21:11:12Z</dcterms:modified>
  <cp:revision>119</cp:revision>
  <dc:subject/>
  <dc:title>No Slide Title</dc:title>
</cp:coreProperties>
</file>