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18920" y="43419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576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955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21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189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955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21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18920" y="1438200"/>
            <a:ext cx="79167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576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18920" y="43419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576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955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2120" y="25905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189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955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2120" y="4341960"/>
            <a:ext cx="25488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8920" y="1438200"/>
            <a:ext cx="791676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Bef>
                <a:spcPts val="4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5760" y="43419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5760" y="2590560"/>
            <a:ext cx="38631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18920" y="4341960"/>
            <a:ext cx="79167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8305920" cy="838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Click to edit the outline text format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1" marL="685800" indent="-2286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econd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2" marL="1000080" indent="-19980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Third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3" marL="1432080" indent="-2001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4" marL="1905120" indent="-1875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5" marL="1905120" indent="-1875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6" marL="1905120" indent="-1875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0" y="838080"/>
            <a:ext cx="8001000" cy="0"/>
          </a:xfrm>
          <a:prstGeom prst="line">
            <a:avLst/>
          </a:prstGeom>
          <a:ln w="38160">
            <a:solidFill>
              <a:srgbClr val="0258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5862600" y="631800"/>
            <a:ext cx="2971800" cy="304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258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"/>
          <p:cNvSpPr/>
          <p:nvPr/>
        </p:nvSpPr>
        <p:spPr>
          <a:xfrm>
            <a:off x="6934320" y="6324480"/>
            <a:ext cx="18288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25892"/>
                </a:solidFill>
                <a:latin typeface="Verdana"/>
              </a:rPr>
              <a:t> </a:t>
            </a:r>
            <a:r>
              <a:rPr b="1" lang="fr-FR" sz="1000" spc="-1" strike="noStrike">
                <a:solidFill>
                  <a:srgbClr val="025892"/>
                </a:solidFill>
                <a:latin typeface="Verdana"/>
              </a:rPr>
              <a:t>slide </a:t>
            </a:r>
            <a:fld id="{404C1EAB-655C-49ED-A2BA-76ED610B3E35}" type="slidenum">
              <a:rPr b="1" lang="fr-FR" sz="1000" spc="-1" strike="noStrike">
                <a:solidFill>
                  <a:srgbClr val="025892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52280" y="228600"/>
            <a:ext cx="1828800" cy="5526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867280" y="642960"/>
            <a:ext cx="297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25892"/>
                </a:solidFill>
                <a:latin typeface="Verdana"/>
              </a:rPr>
              <a:t>Montreal – March 200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9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895480"/>
            <a:ext cx="9144000" cy="76320"/>
          </a:xfrm>
          <a:prstGeom prst="rect">
            <a:avLst/>
          </a:prstGeom>
          <a:solidFill>
            <a:srgbClr val="0258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041640" y="5641920"/>
            <a:ext cx="3511440" cy="1063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68440" y="3962520"/>
            <a:ext cx="8001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304920"/>
            <a:ext cx="8001000" cy="2286000"/>
          </a:xfrm>
          <a:prstGeom prst="rect">
            <a:avLst/>
          </a:prstGeom>
          <a:solidFill>
            <a:srgbClr val="0258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2560" y="3957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5892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25892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 algn="ctr">
              <a:lnSpc>
                <a:spcPct val="13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457200" algn="ctr">
              <a:lnSpc>
                <a:spcPct val="13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-114120" algn="ctr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139680" algn="ctr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111240" algn="ctr">
              <a:lnSpc>
                <a:spcPct val="13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11124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111240">
              <a:spcBef>
                <a:spcPts val="349"/>
              </a:spcBef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3809880"/>
            <a:ext cx="8458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25892"/>
                </a:solidFill>
                <a:latin typeface="Verdana"/>
              </a:rPr>
              <a:t>Infrastructure Development</a:t>
            </a:r>
            <a:br>
              <a:rPr sz="3200"/>
            </a:br>
            <a:r>
              <a:rPr b="0" lang="fr-FR" sz="3200" spc="-1" strike="noStrike">
                <a:solidFill>
                  <a:srgbClr val="025892"/>
                </a:solidFill>
                <a:latin typeface="Verdana"/>
              </a:rPr>
              <a:t>Physical &amp; Environmental Constraints</a:t>
            </a:r>
            <a:br>
              <a:rPr sz="3200"/>
            </a:br>
            <a:r>
              <a:rPr b="0" lang="fr-FR" sz="3200" spc="-1" strike="noStrike">
                <a:solidFill>
                  <a:srgbClr val="025892"/>
                </a:solidFill>
                <a:latin typeface="Verdana"/>
              </a:rPr>
              <a:t>Dr Philippe Rochat</a:t>
            </a:r>
            <a:br>
              <a:rPr sz="3200"/>
            </a:br>
            <a:endParaRPr b="0" lang="en-US" sz="3200" spc="-1" strike="noStrike">
              <a:solidFill>
                <a:srgbClr val="02589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4568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ICAO Seminar on Liberalization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Montreal 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Verdana"/>
              </a:rPr>
              <a:t>22-23 March 2003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228600" indent="0" algn="ctr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8920" y="1142640"/>
            <a:ext cx="7916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few initial remar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2360" y="2133720"/>
            <a:ext cx="79167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Liberalisation has put a growing pressure on infrastructure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Need for more runways and for a less fragmented airspace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Infrastructure tends to lag a few years behind capacity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Liberalisation is not the only cause of congestion &amp; delays. But it has accelerated and </a:t>
            </a:r>
            <a:r>
              <a:rPr b="1" i="1" lang="en-US" sz="2000" spc="-1" strike="noStrike">
                <a:solidFill>
                  <a:srgbClr val="014675"/>
                </a:solidFill>
                <a:latin typeface="Verdana"/>
              </a:rPr>
              <a:t>crystallised </a:t>
            </a: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the constraint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lvl="1" marL="68580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8920" y="1219320"/>
            <a:ext cx="79167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physical to environmental constra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2590560"/>
            <a:ext cx="85341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Physical constraints have been overtaken by environmental ones where capacity is most needed !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Not the result of increased noise, but mainly the expression of a reduced tolerance in airport vicinity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When airport development has to be balanced with environmental constraints, capacity gains can be writen off ! 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1438200"/>
            <a:ext cx="8255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How to reduce physical/environmental constraints ?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The role of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18920" y="2971440"/>
            <a:ext cx="79167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No fatality ! Ways and means do exist !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Most governements are actively looking for extra capacity to safisfy mobility requirement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The industry expects special efforts from States towards CNS/ATM progressive implementation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14675"/>
                </a:solidFill>
                <a:latin typeface="Verdana"/>
              </a:rPr>
              <a:t>Balanced Approach</a:t>
            </a: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 to tackle airport environmental constraint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137160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reduce physical/environmental constraints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nd-use pla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2360" y="28191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Lack of proper land-use planning &amp; management in most cases…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Leads to the construction of new airports before existing facilities are fully used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hould noise nuisance be concentrated or distributed ?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438200"/>
            <a:ext cx="91440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ow to reduce physical/environmental constraints 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alogue with airport neighbo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160" y="2743200"/>
            <a:ext cx="81025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The relationship has focussed so far on environmental issue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4675"/>
                </a:solidFill>
                <a:latin typeface="Verdana"/>
              </a:rPr>
              <a:t>Sustainable Development </a:t>
            </a: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calls for a proper balance between economic, social and environmental aspect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Should lead to broaden the local dialogue sor that neighbors don not only share the negative, but also the positive contributions of aviation !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1371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How to reduce physical/environmental constraints ?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Intermodal Solu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4675"/>
                </a:solidFill>
                <a:latin typeface="Verdana"/>
              </a:rPr>
              <a:t>Ground access to airports through dedicated train links improves service, capacity and air quality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14675"/>
                </a:solidFill>
                <a:latin typeface="Verdana"/>
              </a:rPr>
              <a:t>High Speed Train </a:t>
            </a:r>
            <a:r>
              <a:rPr b="1" lang="en-GB" sz="2000" spc="-1" strike="noStrike">
                <a:solidFill>
                  <a:srgbClr val="014675"/>
                </a:solidFill>
                <a:latin typeface="Verdana"/>
              </a:rPr>
              <a:t>links have started to complement air transport and to absorb part of the growth: up to 10-15%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14675"/>
                </a:solidFill>
                <a:latin typeface="Verdana"/>
              </a:rPr>
              <a:t>Intermodality requires a cultural revolution in both sectors…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8920" y="1438200"/>
            <a:ext cx="79167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lu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8920" y="2590560"/>
            <a:ext cx="79167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The question of physical &amp; environmental constraints is a major issue beyond the current crisi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It requires to be addressede in a fully coordinated way by infrastructure providers, users, manufacturers and regulators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  <a:p>
            <a:pPr marL="228600" indent="-228600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14675"/>
                </a:solidFill>
                <a:latin typeface="Verdana"/>
              </a:rPr>
              <a:t>Working together !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422520" y="5492880"/>
            <a:ext cx="2749680" cy="831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438280"/>
            <a:ext cx="9144000" cy="76320"/>
          </a:xfrm>
          <a:prstGeom prst="rect">
            <a:avLst/>
          </a:prstGeom>
          <a:solidFill>
            <a:srgbClr val="0258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85800" y="41144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 algn="ctr">
              <a:lnSpc>
                <a:spcPct val="130000"/>
              </a:lnSpc>
              <a:spcBef>
                <a:spcPts val="499"/>
              </a:spcBef>
              <a:buClr>
                <a:srgbClr val="014675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14675"/>
                </a:solidFill>
                <a:latin typeface="Verdana"/>
              </a:rPr>
              <a:t>© ATAG 2002</a:t>
            </a:r>
            <a:endParaRPr b="1" lang="en-US" sz="2000" spc="-1" strike="noStrike">
              <a:solidFill>
                <a:srgbClr val="014675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719280" y="1294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www.atag.or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7T12:41:39Z</dcterms:created>
  <dc:creator>Barton</dc:creator>
  <dc:description/>
  <dc:language>en-US</dc:language>
  <cp:lastModifiedBy>Administrator</cp:lastModifiedBy>
  <dcterms:modified xsi:type="dcterms:W3CDTF">2003-03-22T21:11:12Z</dcterms:modified>
  <cp:revision>119</cp:revision>
  <dc:subject/>
  <dc:title>No Slide Title</dc:title>
</cp:coreProperties>
</file>