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3520" y="38721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3520" y="38721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50560" y="38721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5960" y="15235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8400" y="152352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33520" y="38721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5960" y="38721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98400" y="3872160"/>
            <a:ext cx="264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3520" y="38721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50560" y="387216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0560" y="1523520"/>
            <a:ext cx="40158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3520" y="3872160"/>
            <a:ext cx="8229600" cy="2144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lvl="1" marL="743040" indent="-285840">
              <a:buClr>
                <a:srgbClr val="5f5f5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lvl="2" marL="1143000" indent="-228600">
              <a:buClr>
                <a:srgbClr val="5f5f5f"/>
              </a:buClr>
              <a:buSzPct val="62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lvl="3" marL="1600200" indent="-228600">
              <a:buClr>
                <a:srgbClr val="5f5f5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lvl="4" marL="2057400" indent="-228600">
              <a:buClr>
                <a:srgbClr val="5f5f5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lvl="5" marL="20574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lvl="6" marL="2057400" indent="-228600"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396720" y="304920"/>
            <a:ext cx="1459080" cy="1028520"/>
          </a:xfrm>
          <a:prstGeom prst="rect">
            <a:avLst/>
          </a:prstGeom>
          <a:ln w="0">
            <a:noFill/>
          </a:ln>
        </p:spPr>
      </p:pic>
      <p:grpSp>
        <p:nvGrpSpPr>
          <p:cNvPr id="2" name=""/>
          <p:cNvGrpSpPr/>
          <p:nvPr/>
        </p:nvGrpSpPr>
        <p:grpSpPr>
          <a:xfrm>
            <a:off x="525600" y="1371600"/>
            <a:ext cx="8173800" cy="4876920"/>
            <a:chOff x="525600" y="1371600"/>
            <a:chExt cx="8173800" cy="4876920"/>
          </a:xfrm>
        </p:grpSpPr>
        <p:sp>
          <p:nvSpPr>
            <p:cNvPr id="3" name=""/>
            <p:cNvSpPr/>
            <p:nvPr/>
          </p:nvSpPr>
          <p:spPr>
            <a:xfrm>
              <a:off x="525600" y="1371600"/>
              <a:ext cx="8173800" cy="0"/>
            </a:xfrm>
            <a:prstGeom prst="line">
              <a:avLst/>
            </a:prstGeom>
            <a:ln w="507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25600" y="6248520"/>
              <a:ext cx="8173800" cy="0"/>
            </a:xfrm>
            <a:prstGeom prst="line">
              <a:avLst/>
            </a:prstGeom>
            <a:ln w="50760">
              <a:solidFill>
                <a:srgbClr val="063de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828800" y="457200"/>
            <a:ext cx="6934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uropean Commiss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ate-General for Energy and 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20120" y="6172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ff"/>
                </a:solidFill>
                <a:latin typeface="Times New Roman"/>
              </a:rPr>
              <a:t>n° </a:t>
            </a:r>
            <a:fld id="{D4D0553C-9BF4-4A77-8CBD-3112044D7DF9}" type="slidenum">
              <a:rPr b="0" lang="fr-FR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33520" y="617220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March 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824120" y="985680"/>
            <a:ext cx="5572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TConf/5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8487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ir Transport Liberalisation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uilding the European market and its global effect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What about the dang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The key issue is preserving safety standard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The EU has been careful to develop safety in parallel with liberalisation, so that we can be sure that standards are respected by everyone. 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It must be clear who oversees safety and standards must not be relaxed.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But safety also should not become an excuse to preserve the status quo.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EU hopes for ATConf/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520" y="24379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Recognise the need to start unblocking investment in the industry and give airlines new opportunitie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Endorse flexibility towards the application of existing agreement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Endorse flexibility towards revising agreements  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The “Community of interest” developed by ICAO should be recognised and applied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This is all ICAO and Chicago compatible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ne of the EU’s success sto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520" y="2743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The EU air transport market is a visible success - EU citizens are experiencing the benefits directly: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More routes flown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More competition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More people travelling 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Lower fares - in economy clas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ut no “big bang” </a:t>
            </a:r>
            <a:br>
              <a:rPr sz="4400"/>
            </a:b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beralisation in Europe was measured and caref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2666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More than simple removal of market access barrier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A strong commitment to safety 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Careful transition over some year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Period of restructuring for air carrier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Protection of essential, but thin public service route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A level playing field and competition rule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23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Process still continu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5000"/>
          </a:bodyPr>
          <a:p>
            <a:pPr marL="291600" indent="-29160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Liberalisation complete in 1997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291600" indent="-29160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But integration process continues with new rules and the regional market itself continues to grow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291600" indent="-29160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15 EU Member State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291600" indent="-29160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3 more members via European Economic Area 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291600" indent="-29160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EU-Swiss agreement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291600" indent="-29160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10 new Member States on the way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291600" indent="-29160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More states likely to become associated.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291600" indent="-29160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30 plus countries within a few years.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But still some effects missing…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Little change in structure of industry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Flag carriers still divided along national line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No real development of multinational airlines in EU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Successful companies limited in their opportunities for expansion 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Capital does not flow completely freely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Scope for </a:t>
            </a: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international competition limited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wnership and Control ru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25905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The EU’s internal market is limited by the ownership and control rules used in international aviation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Like all participants in international aviation, our partners have the ultimate say over internal investment policy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Contrast with other sectors of the economy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ime to complete the 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EU citizens have a right to establish companies throughout the Community 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EU citizens and their companies have a right to non discrimination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-3430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The EU now wants to give its air transport industry its freedoms and right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447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EU must now seek ch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Issue is legal not just a political aspiration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35880" indent="-3358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It must work with partners on new approache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35880" indent="-3358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The EU must seek more flexible designation clauses that recognise the existence of Community air carrier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35880" indent="-3358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It must seek market access for more European carriers in bilateral agreements with other state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35880" indent="-33588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If EU airlines want to use their rights under the Treaty, we will have to seek to secure those rights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ny would benefit from change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benefits would not just accrue to the E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-31896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Air carriers in other countries have greater difficulties to access capital than EU carriers 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-31896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There are lots of unused traffic rights and under-served markets world-wide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-318960">
              <a:buClr>
                <a:srgbClr val="5f5f5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3de8"/>
                </a:solidFill>
                <a:latin typeface="Times New Roman"/>
              </a:rPr>
              <a:t>Limitations on ownership and control keep small carriers small - a more flexible approach would let many countries build stronger air transport industries with outside help.</a:t>
            </a: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  <a:p>
            <a:pPr marL="3189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3de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15:22:14Z</dcterms:created>
  <dc:creator>Francis Morgan</dc:creator>
  <dc:description/>
  <dc:language>en-US</dc:language>
  <cp:lastModifiedBy>Administrator</cp:lastModifiedBy>
  <cp:lastPrinted>2003-03-20T19:25:09Z</cp:lastPrinted>
  <dcterms:modified xsi:type="dcterms:W3CDTF">2003-03-22T14:12:22Z</dcterms:modified>
  <cp:revision>6</cp:revision>
  <dc:subject/>
  <dc:title>Air Transport Liberalisation: Building a regional market and its global effects </dc:title>
</cp:coreProperties>
</file>