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1" marL="743040" indent="-285840">
              <a:buClr>
                <a:srgbClr val="5f5f5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2" marL="1143000" indent="-228600">
              <a:buClr>
                <a:srgbClr val="5f5f5f"/>
              </a:buClr>
              <a:buSzPct val="62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3" marL="1600200" indent="-228600"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4" marL="2057400" indent="-228600"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96720" y="304920"/>
            <a:ext cx="1459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25600" y="1371600"/>
            <a:ext cx="8173800" cy="4876920"/>
            <a:chOff x="525600" y="1371600"/>
            <a:chExt cx="8173800" cy="4876920"/>
          </a:xfrm>
        </p:grpSpPr>
        <p:sp>
          <p:nvSpPr>
            <p:cNvPr id="3" name=""/>
            <p:cNvSpPr/>
            <p:nvPr/>
          </p:nvSpPr>
          <p:spPr>
            <a:xfrm>
              <a:off x="525600" y="1371600"/>
              <a:ext cx="8173800" cy="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600" y="6248520"/>
              <a:ext cx="8173800" cy="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82880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ate-General for Energy and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012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Times New Roman"/>
              </a:rPr>
              <a:t>n° </a:t>
            </a:r>
            <a:fld id="{4E88260D-770F-40B7-B0E7-CCAE58404D1F}" type="slidenum">
              <a:rPr b="0" lang="fr-FR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4120" y="98568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TConf/5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ir Transport Liberalisation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ing the European market and its global effe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about the dang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key issue is preserving safety standard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 has been careful to develop safety in parallel with liberalisation, so that we can be sure that standards are respected by everyone.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t must be clear who oversees safety and standards must not be relaxed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But safety also should not become an excuse to preserve the status quo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U hopes for ATConf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Recognise the need to start unblocking investment in the industry and give airlines new opportuniti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ndorse flexibility towards the application of existing agreement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ndorse flexibility towards revising agreements 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“Community of interest” developed by ICAO should be recognised and applied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is is all ICAO and Chicago compatible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e of the EU’s succes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 air transport market is a visible success - EU citizens are experiencing the benefits directly: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routes flow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competitio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people travelling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ower fares - in economy clas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t no “big bang” 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beralisation in Europe was measured and car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than simple removal of market access barrier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A strong commitment to safety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Careful transition over some year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Period of restructuring for air carrier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Protection of essential, but thin public service rout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A level playing field and competition rul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cess still continu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iberalisation complete in 1997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But integration process continues with new rules and the regional market itself continues to grow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15 EU Member Stat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3 more members via European Economic Area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U-Swiss agreemen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10 new Member States on the wa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states likely to become associated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30 plus countries within a few years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t still some effects missing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ittle change in structure of industr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Flag carriers still divided along national lin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No real development of multinational airlines in EU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Successful companies limited in their opportunities for expansion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Capital does not flow completely freel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Scope for </a:t>
            </a: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nternational competition limited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wnership and Control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’s internal market is limited by the ownership and control rules used in international aviatio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ike all participants in international aviation, our partners have the ultimate say over internal investment polic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Contrast with other sectors of the econom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ime to complete th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U citizens have a right to establish companies throughout the Community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U citizens and their companies have a right to non discriminatio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 now wants to give its air transport industry its freedoms and right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EU must now seek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ssue is legal not just a political aspiratio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t must work with partners on new approach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 must seek more flexible designation clauses that recognise the existence of Community air carrier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t must seek market access for more European carriers in bilateral agreements with other stat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f EU airlines want to use their rights under the Treaty, we will have to seek to secure those right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y would benefit from chang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enefits would not just accrue to the 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-31896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Air carriers in other countries have greater difficulties to access capital than EU carriers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-31896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re are lots of unused traffic rights and under-served markets world-wide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-31896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imitations on ownership and control keep small carriers small - a more flexible approach would let many countries build stronger air transport industries with outside help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5:22:14Z</dcterms:created>
  <dc:creator>Francis Morgan</dc:creator>
  <dc:description/>
  <dc:language>en-US</dc:language>
  <cp:lastModifiedBy>Administrator</cp:lastModifiedBy>
  <cp:lastPrinted>2003-03-20T19:25:09Z</cp:lastPrinted>
  <dcterms:modified xsi:type="dcterms:W3CDTF">2003-03-22T14:12:22Z</dcterms:modified>
  <cp:revision>6</cp:revision>
  <dc:subject/>
  <dc:title>Air Transport Liberalisation: Building a regional market and its global effects </dc:title>
</cp:coreProperties>
</file>