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5775" cy="9658350"/>
  <p:custShowLst>
    <p:custShow name="Custom Show 1" id="0">
      <p:sldLst>
        <p:sld r:id="rId3"/>
        <p:sld r:id="rId5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82720" y="685800"/>
            <a:ext cx="7404120" cy="5583240"/>
            <a:chOff x="882720" y="685800"/>
            <a:chExt cx="7404120" cy="5583240"/>
          </a:xfrm>
        </p:grpSpPr>
        <p:sp>
          <p:nvSpPr>
            <p:cNvPr id="1" name=""/>
            <p:cNvSpPr/>
            <p:nvPr/>
          </p:nvSpPr>
          <p:spPr>
            <a:xfrm>
              <a:off x="882720" y="685800"/>
              <a:ext cx="7404120" cy="500544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gradFill rotWithShape="0">
              <a:gsLst>
                <a:gs pos="0">
                  <a:srgbClr val="212176"/>
                </a:gs>
                <a:gs pos="100000">
                  <a:srgbClr val="3232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68400" y="771480"/>
              <a:ext cx="7219800" cy="483732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gradFill rotWithShape="0">
              <a:gsLst>
                <a:gs pos="0">
                  <a:srgbClr val="212176"/>
                </a:gs>
                <a:gs pos="100000">
                  <a:srgbClr val="3232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7080" y="2222640"/>
              <a:ext cx="2125800" cy="255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3b3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1280" y="3902040"/>
              <a:ext cx="201600" cy="51444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3b3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67120" y="5675400"/>
              <a:ext cx="401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800" spc="-1" strike="noStrike">
                  <a:solidFill>
                    <a:srgbClr val="3232b4"/>
                  </a:solidFill>
                  <a:latin typeface="Swis721 Blk BT"/>
                </a:rPr>
                <a:t>AFRICAN AVIATION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871720" y="5519880"/>
              <a:ext cx="392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3232b4"/>
                  </a:solidFill>
                  <a:latin typeface="Swis721 Md BT"/>
                </a:rPr>
                <a:t>c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95480" y="5735520"/>
              <a:ext cx="401760" cy="414360"/>
            </a:xfrm>
            <a:prstGeom prst="ellipse">
              <a:avLst/>
            </a:prstGeom>
            <a:noFill/>
            <a:ln w="19080">
              <a:solidFill>
                <a:srgbClr val="3232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Swis721 BT"/>
              </a:rPr>
              <a:t>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Swis721 BT"/>
              </a:rPr>
              <a:t>AVIATION IN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wis721 BT"/>
              </a:rPr>
              <a:t>CHALLENGES &amp; OPPORTUNITIES OF LIBE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22</a:t>
            </a:r>
            <a:r>
              <a:rPr b="1" lang="en-GB" sz="2100" spc="-1" strike="noStrike" baseline="30000">
                <a:solidFill>
                  <a:srgbClr val="ffffff"/>
                </a:solidFill>
                <a:latin typeface="Swis721 BT"/>
              </a:rPr>
              <a:t>nd </a:t>
            </a: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– 23</a:t>
            </a:r>
            <a:r>
              <a:rPr b="1" lang="en-GB" sz="2100" spc="-1" strike="noStrike" baseline="30000">
                <a:solidFill>
                  <a:srgbClr val="ffffff"/>
                </a:solidFill>
                <a:latin typeface="Swis721 BT"/>
              </a:rPr>
              <a:t>rd</a:t>
            </a: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 March, 2003  -  Montreal, Can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PRIOR TO THE 5</a:t>
            </a:r>
            <a:r>
              <a:rPr b="1" lang="en-GB" sz="2500" spc="-1" strike="noStrike" baseline="30000">
                <a:solidFill>
                  <a:srgbClr val="ffff00"/>
                </a:solidFill>
                <a:latin typeface="Swis721 BT"/>
              </a:rPr>
              <a:t>TH</a:t>
            </a: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 ICA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WORLDWIDE AIR TRANSPORT CONFER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wis721 BT"/>
              </a:rPr>
              <a:t>Presentatio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Swis721 BT"/>
              </a:rPr>
              <a:t>Nick Fadug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wis721 BT"/>
              </a:rPr>
              <a:t>CEO, African Aviation Service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Swis721 BT"/>
              </a:rPr>
              <a:t>Publisher, AFRICAN AVIATION 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3352680"/>
            <a:ext cx="2057400" cy="1556280"/>
            <a:chOff x="3429000" y="3352680"/>
            <a:chExt cx="2057400" cy="1556280"/>
          </a:xfrm>
        </p:grpSpPr>
        <p:sp>
          <p:nvSpPr>
            <p:cNvPr id="46" name=""/>
            <p:cNvSpPr/>
            <p:nvPr/>
          </p:nvSpPr>
          <p:spPr>
            <a:xfrm>
              <a:off x="3429000" y="3352680"/>
              <a:ext cx="2057400" cy="139068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2760" y="3376440"/>
              <a:ext cx="2006640" cy="13449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94040" y="3780000"/>
              <a:ext cx="590760" cy="7110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29000" y="4246560"/>
              <a:ext cx="55800" cy="14292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56280" y="4745160"/>
              <a:ext cx="105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33720" y="4708440"/>
              <a:ext cx="26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06800" y="4768920"/>
              <a:ext cx="88920" cy="921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52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1419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Obstacles &amp; Dile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1844640"/>
            <a:ext cx="62294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Some African Governments Are Reluc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o Cede Control to Truly Autonom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National Civil Aviation Author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Who Will Benefit Most From Liberalisation in Africa - African Airlines or Foreign Carrier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Can A Developing Country Promote ‘Open Skies’ &amp; Still Protect its Own Airline Industr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64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1419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frican Position on Libe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1844640"/>
            <a:ext cx="62294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t Must Be Consistent With the Yamoussouk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Decision of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Foreign Investment – National Legis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Should Determine the Level of Su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nvest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arket Access Should Continue to Be 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on Bilateral and Multilateral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ust Be F air Competition &amp; Safeguar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76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12193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frican Position on Airline 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600200"/>
            <a:ext cx="6705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frican Governments Should Require Prior Authorisation &amp; Verification of Any Franchise Agre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Franchising Between African Carriers Should Be Authorised Subject To The Airlines Meeting the Designation &amp; Eligibility Criteria of The Yamoussoukro D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ird Party Franchising Should Not Be Supported As it Adversely Impacts Competitive Position of African Carr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88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4778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High Operating &amp; Capit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8000" y="2114640"/>
            <a:ext cx="71942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nsurance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High Premiu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viation Fuel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Up to 50%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ease Rates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15%-30% Hig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 Navigation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ost 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Handling Fees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Very Expen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aintenance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ittle Co-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9760" y="6095880"/>
            <a:ext cx="22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wis721 BT"/>
              </a:rPr>
              <a:t>Source: The World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01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14320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Internal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6600" y="2070000"/>
            <a:ext cx="6532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ainly Small Domestic Air Traffic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ow Load F ac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Higher Operating Costs than Other Reg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Government-Regulated Air F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Political Interference in Airline Decision-M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anagement Instability &amp; Lack of Continu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13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17654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External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416320"/>
            <a:ext cx="723924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 Transport Liberalisation &amp; Globalis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ncreasing Competition from Larger Foreign Carr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World Bank/IMF  Strictures on Government Subsidies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o National Flag-Carr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25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0" y="1365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External Pressur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04156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African Market is Dominated by European Air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- BA, Lufthansa, Air France, KLM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Asian Airlines Are Now Showing Greater Interest i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- Especially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Threat By European Charter Airlines - Countries at Risk: Egyp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Namibia, Kenya, South Africa, Mauritius, Tunisia, Morocco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North American Airlines Have Minimal Presence i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Swis721 BT"/>
              </a:rPr>
              <a:t>- Previous Attempts by USAfrica Airways &amp; World Airway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37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17654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Cape Tow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2416320"/>
            <a:ext cx="72392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Gives Aircraft Lessors and Lenders the ability to repossess  their assets worldwide in the event of defau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Provides Aircraft Collateral Assur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60 Day Repossession / With Support of Gover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Should Expand The Sources of Asset-based Fin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49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12952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irline Industry – Key Regulator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914480"/>
            <a:ext cx="746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line Ownership &amp; Control – Local or Foreig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line Market Access – Free for Al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line Product Dis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Fair Competition Versus Protectio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e Provision of Essential Air Transport Services V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o National Economic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61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0" y="129528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irline Growth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914480"/>
            <a:ext cx="746748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Strategic Investment By Foreign Airline Partner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Kenya Airways / KL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line Franchising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BA/Comair, South Africa; BA/Regional Air, Keny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ow-Cost Carriers – Kulula.com, South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Joint Ventures – Royal Air Maroc/Air Senegal Interna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80880"/>
            <a:ext cx="91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Swis721 Blk BT"/>
              </a:rPr>
              <a:t>AFRICAN AVIATION SERVICES LT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56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1554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Company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56480" y="2098800"/>
            <a:ext cx="5583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1. </a:t>
            </a:r>
            <a:r>
              <a:rPr b="0" lang="en-GB" sz="2800" spc="-1" strike="noStrike">
                <a:solidFill>
                  <a:srgbClr val="ffffff"/>
                </a:solidFill>
                <a:latin typeface="Franklin Gothic Demi"/>
              </a:rPr>
              <a:t>Aviation Publishing</a:t>
            </a: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2. </a:t>
            </a:r>
            <a:r>
              <a:rPr b="0" lang="en-GB" sz="2800" spc="-1" strike="noStrike">
                <a:solidFill>
                  <a:srgbClr val="ffffff"/>
                </a:solidFill>
                <a:latin typeface="Franklin Gothic Demi"/>
              </a:rPr>
              <a:t>Aviation Conferences</a:t>
            </a: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3. </a:t>
            </a:r>
            <a:r>
              <a:rPr b="0" lang="en-GB" sz="2800" spc="-1" strike="noStrike">
                <a:solidFill>
                  <a:srgbClr val="ffffff"/>
                </a:solidFill>
                <a:latin typeface="Franklin Gothic Demi"/>
              </a:rPr>
              <a:t>Aviation Consult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Swis721 BT"/>
              </a:rPr>
              <a:t>With A Special Emphas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Swis721 Md BT"/>
              </a:rPr>
              <a:t>* Aviation 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Swis721 Md BT"/>
              </a:rPr>
              <a:t>* Aircraft Leasing &amp;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Swis721 Md BT"/>
              </a:rPr>
              <a:t>* Aviation Safety &amp;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273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16002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235240"/>
            <a:ext cx="708660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frica Has Made Some Headway in Implementing A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ransport Liberalisation, But Still Has Much To Achie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 Transport Liberalisation in Africa Must Directly Benefit The African Aviation Indus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228600"/>
            <a:ext cx="914400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Swis721 BT"/>
              </a:rPr>
              <a:t>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Swis721 BT"/>
              </a:rPr>
              <a:t>AVIATION IN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wis721 BT"/>
              </a:rPr>
              <a:t>CHALLENGES &amp; OPPORTUNITIES OF LIBE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22</a:t>
            </a:r>
            <a:r>
              <a:rPr b="1" lang="en-GB" sz="2100" spc="-1" strike="noStrike" baseline="30000">
                <a:solidFill>
                  <a:srgbClr val="ffffff"/>
                </a:solidFill>
                <a:latin typeface="Swis721 BT"/>
              </a:rPr>
              <a:t>nd </a:t>
            </a: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– 23</a:t>
            </a:r>
            <a:r>
              <a:rPr b="1" lang="en-GB" sz="2100" spc="-1" strike="noStrike" baseline="30000">
                <a:solidFill>
                  <a:srgbClr val="ffffff"/>
                </a:solidFill>
                <a:latin typeface="Swis721 BT"/>
              </a:rPr>
              <a:t>rd</a:t>
            </a:r>
            <a:r>
              <a:rPr b="1" lang="en-GB" sz="2100" spc="-1" strike="noStrike">
                <a:solidFill>
                  <a:srgbClr val="ffffff"/>
                </a:solidFill>
                <a:latin typeface="Swis721 BT"/>
              </a:rPr>
              <a:t> March, 2003  -  Montreal, Can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PRIOR TO THE 5</a:t>
            </a:r>
            <a:r>
              <a:rPr b="1" lang="en-GB" sz="2500" spc="-1" strike="noStrike" baseline="30000">
                <a:solidFill>
                  <a:srgbClr val="ffff00"/>
                </a:solidFill>
                <a:latin typeface="Swis721 BT"/>
              </a:rPr>
              <a:t>TH</a:t>
            </a: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 ICA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Swis721 BT"/>
              </a:rPr>
              <a:t>WORLDWIDE AIR TRANSPORT CONFER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wis721 BT"/>
              </a:rPr>
              <a:t>Presentatio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wis721 BT"/>
              </a:rPr>
              <a:t>Nick Fadug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wis721 BT"/>
              </a:rPr>
              <a:t>Email:     </a:t>
            </a:r>
            <a:r>
              <a:rPr b="1" lang="en-GB" sz="2400" spc="-1" strike="noStrike">
                <a:solidFill>
                  <a:srgbClr val="ffffff"/>
                </a:solidFill>
                <a:latin typeface="Swis721 BT"/>
              </a:rPr>
              <a:t>nickfadugba@africanaviati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429000" y="3352680"/>
            <a:ext cx="2057400" cy="1556280"/>
            <a:chOff x="3429000" y="3352680"/>
            <a:chExt cx="2057400" cy="1556280"/>
          </a:xfrm>
        </p:grpSpPr>
        <p:sp>
          <p:nvSpPr>
            <p:cNvPr id="284" name=""/>
            <p:cNvSpPr/>
            <p:nvPr/>
          </p:nvSpPr>
          <p:spPr>
            <a:xfrm>
              <a:off x="3429000" y="3352680"/>
              <a:ext cx="2057400" cy="139068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2760" y="3376440"/>
              <a:ext cx="2006640" cy="13449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4040" y="3780000"/>
              <a:ext cx="590760" cy="7110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29000" y="4246560"/>
              <a:ext cx="55800" cy="14292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56280" y="4745160"/>
              <a:ext cx="105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3720" y="4708440"/>
              <a:ext cx="26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06800" y="4768920"/>
              <a:ext cx="88920" cy="9216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63720"/>
            <a:ext cx="9144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Swis721 BT"/>
              </a:rPr>
              <a:t>MAXI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19520"/>
            <a:ext cx="75438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Swis721 BT"/>
              </a:rPr>
              <a:t>‘</a:t>
            </a:r>
            <a:r>
              <a:rPr b="0" lang="en-GB" sz="3100" spc="-1" strike="noStrike">
                <a:solidFill>
                  <a:srgbClr val="ffffff"/>
                </a:solidFill>
                <a:latin typeface="Swis721 BT"/>
              </a:rPr>
              <a:t>Aviation Can Be A Vital Catalyst Fo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Swis721 BT"/>
              </a:rPr>
              <a:t>Africa’s Economic &amp; Social Development’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ffffff"/>
                </a:solidFill>
                <a:latin typeface="Swis721 BT"/>
              </a:rPr>
              <a:t>- Company raison d'et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70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80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15890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ir Transport Libe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4960" y="2274840"/>
            <a:ext cx="736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The Underlying Theme of the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Swis721 BT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ICAO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Air Transport Conference is Not </a:t>
            </a: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Swis721 BT"/>
              </a:rPr>
              <a:t>WHETHER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Liberalise but </a:t>
            </a: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Swis721 BT"/>
              </a:rPr>
              <a:t>HOW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wis721 BT"/>
              </a:rPr>
              <a:t>Liberalisation is said to be Inev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92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0" y="15890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frica’s Share of Global Air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040" y="2313000"/>
            <a:ext cx="6945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oday, African Airlines have only an approximat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2% Market Share of Global Air Traff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f International Air Transport is further Liberali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Will Africa’s Global Market Share b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ncreased or be Reduc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04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15890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Challenges &amp; Opportunities of Libe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" y="2313000"/>
            <a:ext cx="83084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Further Air Transport Liberalisation could provi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several benefits, such as enhanced air travel, econom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rade and tourism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But the Key Challenges are: How Air Transport Liberalis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can be Structured and Implemented so as to en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at African airlines are not disadvantaged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put out business and their staff put out of wor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16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58904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frica: Socio-Economic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" y="2313000"/>
            <a:ext cx="73659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arge &amp; Growing Po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ainly Small &amp; Weak National Econom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ow Per Capita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Little Disposable Income for Air Travel &amp; Tourism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Political Instability &amp; Conflicts in Several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28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1419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Key Challenges Facing Regulators in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773360"/>
            <a:ext cx="604692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mplementing &amp; Monitoring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1999 Yamoussoukro Decision 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Air Transport Liberalisation in Af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Providing Effective Aviation Safety Overs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Ensuring Equitable Economic Reg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Harmonising Civil Aviation Reg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Enhancing Aviation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Funding Modern Aviation Facilities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Expanding Aviation Training &amp; Edu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808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Swis721 Blk BT"/>
              </a:rPr>
              <a:t>AFRICAN A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43800" y="5610240"/>
            <a:ext cx="1414440" cy="1090440"/>
            <a:chOff x="7543800" y="5610240"/>
            <a:chExt cx="1414440" cy="1090440"/>
          </a:xfrm>
        </p:grpSpPr>
        <p:sp>
          <p:nvSpPr>
            <p:cNvPr id="140" name=""/>
            <p:cNvSpPr/>
            <p:nvPr/>
          </p:nvSpPr>
          <p:spPr>
            <a:xfrm>
              <a:off x="7543800" y="5610240"/>
              <a:ext cx="1414440" cy="955800"/>
            </a:xfrm>
            <a:custGeom>
              <a:avLst/>
              <a:gdLst/>
              <a:ahLst/>
              <a:rect l="l" t="t" r="r" b="b"/>
              <a:pathLst>
                <a:path w="1131" h="766">
                  <a:moveTo>
                    <a:pt x="301" y="766"/>
                  </a:move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9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97" y="764"/>
                  </a:lnTo>
                  <a:lnTo>
                    <a:pt x="297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4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6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2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4" y="760"/>
                  </a:lnTo>
                  <a:lnTo>
                    <a:pt x="292" y="758"/>
                  </a:lnTo>
                  <a:lnTo>
                    <a:pt x="292" y="758"/>
                  </a:lnTo>
                  <a:lnTo>
                    <a:pt x="290" y="757"/>
                  </a:lnTo>
                  <a:lnTo>
                    <a:pt x="290" y="755"/>
                  </a:lnTo>
                  <a:lnTo>
                    <a:pt x="290" y="755"/>
                  </a:lnTo>
                  <a:lnTo>
                    <a:pt x="288" y="753"/>
                  </a:lnTo>
                  <a:lnTo>
                    <a:pt x="288" y="751"/>
                  </a:lnTo>
                  <a:lnTo>
                    <a:pt x="286" y="751"/>
                  </a:lnTo>
                  <a:lnTo>
                    <a:pt x="286" y="751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9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6" y="747"/>
                  </a:lnTo>
                  <a:lnTo>
                    <a:pt x="284" y="747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5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4" y="743"/>
                  </a:lnTo>
                  <a:lnTo>
                    <a:pt x="282" y="743"/>
                  </a:lnTo>
                  <a:lnTo>
                    <a:pt x="282" y="743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41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9"/>
                  </a:lnTo>
                  <a:lnTo>
                    <a:pt x="282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7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5"/>
                  </a:lnTo>
                  <a:lnTo>
                    <a:pt x="280" y="733"/>
                  </a:lnTo>
                  <a:lnTo>
                    <a:pt x="280" y="733"/>
                  </a:lnTo>
                  <a:lnTo>
                    <a:pt x="278" y="733"/>
                  </a:lnTo>
                  <a:lnTo>
                    <a:pt x="278" y="733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8" y="730"/>
                  </a:lnTo>
                  <a:lnTo>
                    <a:pt x="276" y="730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8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6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6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4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2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4" y="720"/>
                  </a:lnTo>
                  <a:lnTo>
                    <a:pt x="273" y="718"/>
                  </a:lnTo>
                  <a:lnTo>
                    <a:pt x="273" y="716"/>
                  </a:lnTo>
                  <a:lnTo>
                    <a:pt x="273" y="714"/>
                  </a:lnTo>
                  <a:lnTo>
                    <a:pt x="273" y="714"/>
                  </a:lnTo>
                  <a:lnTo>
                    <a:pt x="271" y="712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10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71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9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7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9" y="705"/>
                  </a:lnTo>
                  <a:lnTo>
                    <a:pt x="267" y="703"/>
                  </a:lnTo>
                  <a:lnTo>
                    <a:pt x="267" y="703"/>
                  </a:lnTo>
                  <a:lnTo>
                    <a:pt x="267" y="701"/>
                  </a:lnTo>
                  <a:lnTo>
                    <a:pt x="267" y="701"/>
                  </a:lnTo>
                  <a:lnTo>
                    <a:pt x="267" y="699"/>
                  </a:lnTo>
                  <a:lnTo>
                    <a:pt x="267" y="699"/>
                  </a:lnTo>
                  <a:lnTo>
                    <a:pt x="265" y="699"/>
                  </a:lnTo>
                  <a:lnTo>
                    <a:pt x="265" y="697"/>
                  </a:lnTo>
                  <a:lnTo>
                    <a:pt x="265" y="697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5"/>
                  </a:lnTo>
                  <a:lnTo>
                    <a:pt x="265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3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3" y="691"/>
                  </a:lnTo>
                  <a:lnTo>
                    <a:pt x="261" y="689"/>
                  </a:lnTo>
                  <a:lnTo>
                    <a:pt x="261" y="687"/>
                  </a:lnTo>
                  <a:lnTo>
                    <a:pt x="259" y="684"/>
                  </a:lnTo>
                  <a:lnTo>
                    <a:pt x="259" y="682"/>
                  </a:lnTo>
                  <a:lnTo>
                    <a:pt x="257" y="680"/>
                  </a:lnTo>
                  <a:lnTo>
                    <a:pt x="257" y="678"/>
                  </a:lnTo>
                  <a:lnTo>
                    <a:pt x="255" y="674"/>
                  </a:lnTo>
                  <a:lnTo>
                    <a:pt x="255" y="672"/>
                  </a:lnTo>
                  <a:lnTo>
                    <a:pt x="253" y="668"/>
                  </a:lnTo>
                  <a:lnTo>
                    <a:pt x="253" y="666"/>
                  </a:lnTo>
                  <a:lnTo>
                    <a:pt x="251" y="662"/>
                  </a:lnTo>
                  <a:lnTo>
                    <a:pt x="249" y="660"/>
                  </a:lnTo>
                  <a:lnTo>
                    <a:pt x="249" y="657"/>
                  </a:lnTo>
                  <a:lnTo>
                    <a:pt x="248" y="655"/>
                  </a:lnTo>
                  <a:lnTo>
                    <a:pt x="248" y="651"/>
                  </a:lnTo>
                  <a:lnTo>
                    <a:pt x="246" y="649"/>
                  </a:lnTo>
                  <a:lnTo>
                    <a:pt x="246" y="649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7"/>
                  </a:lnTo>
                  <a:lnTo>
                    <a:pt x="246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5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3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4" y="641"/>
                  </a:lnTo>
                  <a:lnTo>
                    <a:pt x="242" y="641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9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7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2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6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4"/>
                  </a:lnTo>
                  <a:lnTo>
                    <a:pt x="240" y="632"/>
                  </a:lnTo>
                  <a:lnTo>
                    <a:pt x="238" y="630"/>
                  </a:lnTo>
                  <a:lnTo>
                    <a:pt x="238" y="628"/>
                  </a:lnTo>
                  <a:lnTo>
                    <a:pt x="238" y="626"/>
                  </a:lnTo>
                  <a:lnTo>
                    <a:pt x="236" y="624"/>
                  </a:lnTo>
                  <a:lnTo>
                    <a:pt x="236" y="622"/>
                  </a:lnTo>
                  <a:lnTo>
                    <a:pt x="234" y="620"/>
                  </a:lnTo>
                  <a:lnTo>
                    <a:pt x="234" y="618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4" y="616"/>
                  </a:lnTo>
                  <a:lnTo>
                    <a:pt x="232" y="614"/>
                  </a:lnTo>
                  <a:lnTo>
                    <a:pt x="232" y="612"/>
                  </a:lnTo>
                  <a:lnTo>
                    <a:pt x="232" y="611"/>
                  </a:lnTo>
                  <a:lnTo>
                    <a:pt x="230" y="609"/>
                  </a:lnTo>
                  <a:lnTo>
                    <a:pt x="230" y="607"/>
                  </a:lnTo>
                  <a:lnTo>
                    <a:pt x="230" y="605"/>
                  </a:lnTo>
                  <a:lnTo>
                    <a:pt x="228" y="603"/>
                  </a:lnTo>
                  <a:lnTo>
                    <a:pt x="228" y="601"/>
                  </a:lnTo>
                  <a:lnTo>
                    <a:pt x="226" y="597"/>
                  </a:lnTo>
                  <a:lnTo>
                    <a:pt x="224" y="591"/>
                  </a:lnTo>
                  <a:lnTo>
                    <a:pt x="223" y="586"/>
                  </a:lnTo>
                  <a:lnTo>
                    <a:pt x="221" y="582"/>
                  </a:lnTo>
                  <a:lnTo>
                    <a:pt x="219" y="576"/>
                  </a:lnTo>
                  <a:lnTo>
                    <a:pt x="217" y="570"/>
                  </a:lnTo>
                  <a:lnTo>
                    <a:pt x="215" y="566"/>
                  </a:lnTo>
                  <a:lnTo>
                    <a:pt x="213" y="561"/>
                  </a:lnTo>
                  <a:lnTo>
                    <a:pt x="213" y="561"/>
                  </a:lnTo>
                  <a:lnTo>
                    <a:pt x="213" y="559"/>
                  </a:lnTo>
                  <a:lnTo>
                    <a:pt x="211" y="559"/>
                  </a:lnTo>
                  <a:lnTo>
                    <a:pt x="211" y="557"/>
                  </a:lnTo>
                  <a:lnTo>
                    <a:pt x="211" y="557"/>
                  </a:lnTo>
                  <a:lnTo>
                    <a:pt x="211" y="555"/>
                  </a:lnTo>
                  <a:lnTo>
                    <a:pt x="211" y="555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3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51"/>
                  </a:lnTo>
                  <a:lnTo>
                    <a:pt x="209" y="549"/>
                  </a:lnTo>
                  <a:lnTo>
                    <a:pt x="209" y="549"/>
                  </a:lnTo>
                  <a:lnTo>
                    <a:pt x="207" y="547"/>
                  </a:lnTo>
                  <a:lnTo>
                    <a:pt x="207" y="545"/>
                  </a:lnTo>
                  <a:lnTo>
                    <a:pt x="207" y="543"/>
                  </a:lnTo>
                  <a:lnTo>
                    <a:pt x="205" y="541"/>
                  </a:lnTo>
                  <a:lnTo>
                    <a:pt x="205" y="539"/>
                  </a:lnTo>
                  <a:lnTo>
                    <a:pt x="203" y="538"/>
                  </a:lnTo>
                  <a:lnTo>
                    <a:pt x="203" y="536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3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4"/>
                  </a:lnTo>
                  <a:lnTo>
                    <a:pt x="201" y="532"/>
                  </a:lnTo>
                  <a:lnTo>
                    <a:pt x="201" y="532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201" y="530"/>
                  </a:lnTo>
                  <a:lnTo>
                    <a:pt x="199" y="528"/>
                  </a:lnTo>
                  <a:lnTo>
                    <a:pt x="199" y="528"/>
                  </a:lnTo>
                  <a:lnTo>
                    <a:pt x="199" y="526"/>
                  </a:lnTo>
                  <a:lnTo>
                    <a:pt x="199" y="526"/>
                  </a:lnTo>
                  <a:lnTo>
                    <a:pt x="199" y="524"/>
                  </a:lnTo>
                  <a:lnTo>
                    <a:pt x="198" y="524"/>
                  </a:lnTo>
                  <a:lnTo>
                    <a:pt x="198" y="522"/>
                  </a:lnTo>
                  <a:lnTo>
                    <a:pt x="198" y="522"/>
                  </a:lnTo>
                  <a:lnTo>
                    <a:pt x="198" y="520"/>
                  </a:lnTo>
                  <a:lnTo>
                    <a:pt x="198" y="520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8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6" y="516"/>
                  </a:lnTo>
                  <a:lnTo>
                    <a:pt x="194" y="514"/>
                  </a:lnTo>
                  <a:lnTo>
                    <a:pt x="194" y="511"/>
                  </a:lnTo>
                  <a:lnTo>
                    <a:pt x="192" y="509"/>
                  </a:lnTo>
                  <a:lnTo>
                    <a:pt x="192" y="507"/>
                  </a:lnTo>
                  <a:lnTo>
                    <a:pt x="190" y="505"/>
                  </a:lnTo>
                  <a:lnTo>
                    <a:pt x="190" y="501"/>
                  </a:lnTo>
                  <a:lnTo>
                    <a:pt x="188" y="499"/>
                  </a:lnTo>
                  <a:lnTo>
                    <a:pt x="188" y="497"/>
                  </a:lnTo>
                  <a:lnTo>
                    <a:pt x="186" y="495"/>
                  </a:lnTo>
                  <a:lnTo>
                    <a:pt x="186" y="493"/>
                  </a:lnTo>
                  <a:lnTo>
                    <a:pt x="186" y="491"/>
                  </a:lnTo>
                  <a:lnTo>
                    <a:pt x="184" y="490"/>
                  </a:lnTo>
                  <a:lnTo>
                    <a:pt x="184" y="488"/>
                  </a:lnTo>
                  <a:lnTo>
                    <a:pt x="184" y="486"/>
                  </a:lnTo>
                  <a:lnTo>
                    <a:pt x="182" y="484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2"/>
                  </a:lnTo>
                  <a:lnTo>
                    <a:pt x="182" y="480"/>
                  </a:lnTo>
                  <a:lnTo>
                    <a:pt x="180" y="480"/>
                  </a:lnTo>
                  <a:lnTo>
                    <a:pt x="180" y="478"/>
                  </a:lnTo>
                  <a:lnTo>
                    <a:pt x="180" y="478"/>
                  </a:lnTo>
                  <a:lnTo>
                    <a:pt x="180" y="476"/>
                  </a:lnTo>
                  <a:lnTo>
                    <a:pt x="178" y="476"/>
                  </a:lnTo>
                  <a:lnTo>
                    <a:pt x="178" y="474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76" y="470"/>
                  </a:lnTo>
                  <a:lnTo>
                    <a:pt x="176" y="470"/>
                  </a:lnTo>
                  <a:lnTo>
                    <a:pt x="176" y="468"/>
                  </a:lnTo>
                  <a:lnTo>
                    <a:pt x="176" y="466"/>
                  </a:lnTo>
                  <a:lnTo>
                    <a:pt x="175" y="465"/>
                  </a:lnTo>
                  <a:lnTo>
                    <a:pt x="175" y="465"/>
                  </a:lnTo>
                  <a:lnTo>
                    <a:pt x="175" y="463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61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9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3" y="457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5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3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71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51"/>
                  </a:lnTo>
                  <a:lnTo>
                    <a:pt x="169" y="449"/>
                  </a:lnTo>
                  <a:lnTo>
                    <a:pt x="169" y="447"/>
                  </a:lnTo>
                  <a:lnTo>
                    <a:pt x="167" y="445"/>
                  </a:lnTo>
                  <a:lnTo>
                    <a:pt x="167" y="445"/>
                  </a:lnTo>
                  <a:lnTo>
                    <a:pt x="167" y="443"/>
                  </a:lnTo>
                  <a:lnTo>
                    <a:pt x="167" y="441"/>
                  </a:lnTo>
                  <a:lnTo>
                    <a:pt x="165" y="440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5" y="438"/>
                  </a:lnTo>
                  <a:lnTo>
                    <a:pt x="163" y="434"/>
                  </a:lnTo>
                  <a:lnTo>
                    <a:pt x="161" y="432"/>
                  </a:lnTo>
                  <a:lnTo>
                    <a:pt x="161" y="428"/>
                  </a:lnTo>
                  <a:lnTo>
                    <a:pt x="159" y="424"/>
                  </a:lnTo>
                  <a:lnTo>
                    <a:pt x="159" y="422"/>
                  </a:lnTo>
                  <a:lnTo>
                    <a:pt x="157" y="418"/>
                  </a:lnTo>
                  <a:lnTo>
                    <a:pt x="155" y="417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5" y="413"/>
                  </a:lnTo>
                  <a:lnTo>
                    <a:pt x="153" y="413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11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3" y="409"/>
                  </a:lnTo>
                  <a:lnTo>
                    <a:pt x="151" y="407"/>
                  </a:lnTo>
                  <a:lnTo>
                    <a:pt x="151" y="405"/>
                  </a:lnTo>
                  <a:lnTo>
                    <a:pt x="151" y="405"/>
                  </a:lnTo>
                  <a:lnTo>
                    <a:pt x="151" y="403"/>
                  </a:lnTo>
                  <a:lnTo>
                    <a:pt x="150" y="401"/>
                  </a:lnTo>
                  <a:lnTo>
                    <a:pt x="150" y="401"/>
                  </a:lnTo>
                  <a:lnTo>
                    <a:pt x="150" y="399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50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7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5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8" y="393"/>
                  </a:lnTo>
                  <a:lnTo>
                    <a:pt x="146" y="392"/>
                  </a:lnTo>
                  <a:lnTo>
                    <a:pt x="146" y="390"/>
                  </a:lnTo>
                  <a:lnTo>
                    <a:pt x="146" y="390"/>
                  </a:lnTo>
                  <a:lnTo>
                    <a:pt x="144" y="388"/>
                  </a:lnTo>
                  <a:lnTo>
                    <a:pt x="144" y="386"/>
                  </a:lnTo>
                  <a:lnTo>
                    <a:pt x="144" y="384"/>
                  </a:lnTo>
                  <a:lnTo>
                    <a:pt x="144" y="384"/>
                  </a:lnTo>
                  <a:lnTo>
                    <a:pt x="142" y="382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42" y="378"/>
                  </a:lnTo>
                  <a:lnTo>
                    <a:pt x="140" y="378"/>
                  </a:lnTo>
                  <a:lnTo>
                    <a:pt x="140" y="376"/>
                  </a:lnTo>
                  <a:lnTo>
                    <a:pt x="140" y="376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4"/>
                  </a:lnTo>
                  <a:lnTo>
                    <a:pt x="140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2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70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8" y="369"/>
                  </a:lnTo>
                  <a:lnTo>
                    <a:pt x="136" y="367"/>
                  </a:lnTo>
                  <a:lnTo>
                    <a:pt x="136" y="365"/>
                  </a:lnTo>
                  <a:lnTo>
                    <a:pt x="134" y="361"/>
                  </a:lnTo>
                  <a:lnTo>
                    <a:pt x="134" y="359"/>
                  </a:lnTo>
                  <a:lnTo>
                    <a:pt x="132" y="357"/>
                  </a:lnTo>
                  <a:lnTo>
                    <a:pt x="132" y="355"/>
                  </a:lnTo>
                  <a:lnTo>
                    <a:pt x="130" y="353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30" y="349"/>
                  </a:lnTo>
                  <a:lnTo>
                    <a:pt x="128" y="349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5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8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4"/>
                  </a:lnTo>
                  <a:lnTo>
                    <a:pt x="126" y="342"/>
                  </a:lnTo>
                  <a:lnTo>
                    <a:pt x="126" y="342"/>
                  </a:lnTo>
                  <a:lnTo>
                    <a:pt x="126" y="340"/>
                  </a:lnTo>
                  <a:lnTo>
                    <a:pt x="126" y="340"/>
                  </a:lnTo>
                  <a:lnTo>
                    <a:pt x="125" y="338"/>
                  </a:lnTo>
                  <a:lnTo>
                    <a:pt x="125" y="338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5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4"/>
                  </a:lnTo>
                  <a:lnTo>
                    <a:pt x="123" y="332"/>
                  </a:lnTo>
                  <a:lnTo>
                    <a:pt x="123" y="332"/>
                  </a:lnTo>
                  <a:lnTo>
                    <a:pt x="123" y="330"/>
                  </a:lnTo>
                  <a:lnTo>
                    <a:pt x="123" y="330"/>
                  </a:lnTo>
                  <a:lnTo>
                    <a:pt x="121" y="328"/>
                  </a:lnTo>
                  <a:lnTo>
                    <a:pt x="121" y="328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6"/>
                  </a:lnTo>
                  <a:lnTo>
                    <a:pt x="121" y="324"/>
                  </a:lnTo>
                  <a:lnTo>
                    <a:pt x="119" y="324"/>
                  </a:lnTo>
                  <a:lnTo>
                    <a:pt x="119" y="324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2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9" y="320"/>
                  </a:lnTo>
                  <a:lnTo>
                    <a:pt x="117" y="319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5" y="315"/>
                  </a:lnTo>
                  <a:lnTo>
                    <a:pt x="115" y="313"/>
                  </a:lnTo>
                  <a:lnTo>
                    <a:pt x="115" y="311"/>
                  </a:lnTo>
                  <a:lnTo>
                    <a:pt x="115" y="311"/>
                  </a:lnTo>
                  <a:lnTo>
                    <a:pt x="113" y="309"/>
                  </a:lnTo>
                  <a:lnTo>
                    <a:pt x="113" y="307"/>
                  </a:lnTo>
                  <a:lnTo>
                    <a:pt x="113" y="307"/>
                  </a:lnTo>
                  <a:lnTo>
                    <a:pt x="113" y="305"/>
                  </a:lnTo>
                  <a:lnTo>
                    <a:pt x="113" y="305"/>
                  </a:lnTo>
                  <a:lnTo>
                    <a:pt x="111" y="305"/>
                  </a:lnTo>
                  <a:lnTo>
                    <a:pt x="111" y="303"/>
                  </a:lnTo>
                  <a:lnTo>
                    <a:pt x="111" y="303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301"/>
                  </a:lnTo>
                  <a:lnTo>
                    <a:pt x="111" y="299"/>
                  </a:lnTo>
                  <a:lnTo>
                    <a:pt x="111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9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7"/>
                  </a:lnTo>
                  <a:lnTo>
                    <a:pt x="109" y="296"/>
                  </a:lnTo>
                  <a:lnTo>
                    <a:pt x="109" y="296"/>
                  </a:lnTo>
                  <a:lnTo>
                    <a:pt x="107" y="294"/>
                  </a:lnTo>
                  <a:lnTo>
                    <a:pt x="107" y="294"/>
                  </a:lnTo>
                  <a:lnTo>
                    <a:pt x="107" y="292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5" y="288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5" y="286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4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2"/>
                  </a:lnTo>
                  <a:lnTo>
                    <a:pt x="103" y="280"/>
                  </a:lnTo>
                  <a:lnTo>
                    <a:pt x="102" y="280"/>
                  </a:lnTo>
                  <a:lnTo>
                    <a:pt x="102" y="278"/>
                  </a:lnTo>
                  <a:lnTo>
                    <a:pt x="102" y="276"/>
                  </a:lnTo>
                  <a:lnTo>
                    <a:pt x="100" y="274"/>
                  </a:lnTo>
                  <a:lnTo>
                    <a:pt x="100" y="272"/>
                  </a:lnTo>
                  <a:lnTo>
                    <a:pt x="100" y="271"/>
                  </a:lnTo>
                  <a:lnTo>
                    <a:pt x="98" y="269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7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5"/>
                  </a:lnTo>
                  <a:lnTo>
                    <a:pt x="96" y="263"/>
                  </a:lnTo>
                  <a:lnTo>
                    <a:pt x="96" y="263"/>
                  </a:lnTo>
                  <a:lnTo>
                    <a:pt x="96" y="261"/>
                  </a:lnTo>
                  <a:lnTo>
                    <a:pt x="96" y="261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94" y="257"/>
                  </a:lnTo>
                  <a:lnTo>
                    <a:pt x="94" y="255"/>
                  </a:lnTo>
                  <a:lnTo>
                    <a:pt x="92" y="253"/>
                  </a:lnTo>
                  <a:lnTo>
                    <a:pt x="92" y="253"/>
                  </a:lnTo>
                  <a:lnTo>
                    <a:pt x="92" y="251"/>
                  </a:lnTo>
                  <a:lnTo>
                    <a:pt x="90" y="249"/>
                  </a:lnTo>
                  <a:lnTo>
                    <a:pt x="90" y="247"/>
                  </a:lnTo>
                  <a:lnTo>
                    <a:pt x="90" y="246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4"/>
                  </a:lnTo>
                  <a:lnTo>
                    <a:pt x="88" y="242"/>
                  </a:lnTo>
                  <a:lnTo>
                    <a:pt x="88" y="242"/>
                  </a:lnTo>
                  <a:lnTo>
                    <a:pt x="86" y="240"/>
                  </a:lnTo>
                  <a:lnTo>
                    <a:pt x="86" y="240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8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4" y="232"/>
                  </a:lnTo>
                  <a:lnTo>
                    <a:pt x="82" y="230"/>
                  </a:lnTo>
                  <a:lnTo>
                    <a:pt x="82" y="228"/>
                  </a:lnTo>
                  <a:lnTo>
                    <a:pt x="82" y="226"/>
                  </a:lnTo>
                  <a:lnTo>
                    <a:pt x="80" y="224"/>
                  </a:lnTo>
                  <a:lnTo>
                    <a:pt x="80" y="223"/>
                  </a:lnTo>
                  <a:lnTo>
                    <a:pt x="80" y="221"/>
                  </a:lnTo>
                  <a:lnTo>
                    <a:pt x="78" y="219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7" y="217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5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3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7" y="211"/>
                  </a:lnTo>
                  <a:lnTo>
                    <a:pt x="75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3" y="203"/>
                  </a:lnTo>
                  <a:lnTo>
                    <a:pt x="73" y="201"/>
                  </a:lnTo>
                  <a:lnTo>
                    <a:pt x="71" y="199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8"/>
                  </a:lnTo>
                  <a:lnTo>
                    <a:pt x="71" y="196"/>
                  </a:lnTo>
                  <a:lnTo>
                    <a:pt x="71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4"/>
                  </a:lnTo>
                  <a:lnTo>
                    <a:pt x="69" y="192"/>
                  </a:lnTo>
                  <a:lnTo>
                    <a:pt x="69" y="192"/>
                  </a:lnTo>
                  <a:lnTo>
                    <a:pt x="67" y="190"/>
                  </a:lnTo>
                  <a:lnTo>
                    <a:pt x="67" y="188"/>
                  </a:lnTo>
                  <a:lnTo>
                    <a:pt x="67" y="186"/>
                  </a:lnTo>
                  <a:lnTo>
                    <a:pt x="65" y="184"/>
                  </a:lnTo>
                  <a:lnTo>
                    <a:pt x="65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3" y="178"/>
                  </a:lnTo>
                  <a:lnTo>
                    <a:pt x="63" y="178"/>
                  </a:lnTo>
                  <a:lnTo>
                    <a:pt x="63" y="176"/>
                  </a:lnTo>
                  <a:lnTo>
                    <a:pt x="63" y="176"/>
                  </a:lnTo>
                  <a:lnTo>
                    <a:pt x="61" y="174"/>
                  </a:lnTo>
                  <a:lnTo>
                    <a:pt x="61" y="174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61" y="173"/>
                  </a:lnTo>
                  <a:lnTo>
                    <a:pt x="59" y="171"/>
                  </a:lnTo>
                  <a:lnTo>
                    <a:pt x="59" y="169"/>
                  </a:lnTo>
                  <a:lnTo>
                    <a:pt x="59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5" y="159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5" y="157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1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50"/>
                  </a:lnTo>
                  <a:lnTo>
                    <a:pt x="52" y="148"/>
                  </a:lnTo>
                  <a:lnTo>
                    <a:pt x="52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50" y="142"/>
                  </a:lnTo>
                  <a:lnTo>
                    <a:pt x="48" y="140"/>
                  </a:lnTo>
                  <a:lnTo>
                    <a:pt x="48" y="138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4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4" y="130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2" y="125"/>
                  </a:lnTo>
                  <a:lnTo>
                    <a:pt x="42" y="123"/>
                  </a:lnTo>
                  <a:lnTo>
                    <a:pt x="40" y="121"/>
                  </a:lnTo>
                  <a:lnTo>
                    <a:pt x="40" y="119"/>
                  </a:lnTo>
                  <a:lnTo>
                    <a:pt x="40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9" y="86"/>
                  </a:lnTo>
                  <a:lnTo>
                    <a:pt x="27" y="86"/>
                  </a:lnTo>
                  <a:lnTo>
                    <a:pt x="27" y="84"/>
                  </a:lnTo>
                  <a:lnTo>
                    <a:pt x="27" y="82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11" y="44"/>
                  </a:lnTo>
                  <a:lnTo>
                    <a:pt x="9" y="42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42" y="2"/>
                  </a:lnTo>
                  <a:lnTo>
                    <a:pt x="73" y="2"/>
                  </a:lnTo>
                  <a:lnTo>
                    <a:pt x="105" y="2"/>
                  </a:lnTo>
                  <a:lnTo>
                    <a:pt x="136" y="2"/>
                  </a:lnTo>
                  <a:lnTo>
                    <a:pt x="169" y="2"/>
                  </a:lnTo>
                  <a:lnTo>
                    <a:pt x="201" y="2"/>
                  </a:lnTo>
                  <a:lnTo>
                    <a:pt x="232" y="2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3" y="2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78" y="5"/>
                  </a:lnTo>
                  <a:lnTo>
                    <a:pt x="278" y="5"/>
                  </a:lnTo>
                  <a:lnTo>
                    <a:pt x="280" y="5"/>
                  </a:lnTo>
                  <a:lnTo>
                    <a:pt x="280" y="5"/>
                  </a:lnTo>
                  <a:lnTo>
                    <a:pt x="282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4" y="9"/>
                  </a:lnTo>
                  <a:lnTo>
                    <a:pt x="286" y="9"/>
                  </a:lnTo>
                  <a:lnTo>
                    <a:pt x="286" y="9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88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1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4" y="15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7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299" y="21"/>
                  </a:lnTo>
                  <a:lnTo>
                    <a:pt x="301" y="23"/>
                  </a:lnTo>
                  <a:lnTo>
                    <a:pt x="303" y="25"/>
                  </a:lnTo>
                  <a:lnTo>
                    <a:pt x="303" y="27"/>
                  </a:lnTo>
                  <a:lnTo>
                    <a:pt x="305" y="27"/>
                  </a:lnTo>
                  <a:lnTo>
                    <a:pt x="307" y="28"/>
                  </a:lnTo>
                  <a:lnTo>
                    <a:pt x="309" y="30"/>
                  </a:lnTo>
                  <a:lnTo>
                    <a:pt x="309" y="32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1" y="34"/>
                  </a:lnTo>
                  <a:lnTo>
                    <a:pt x="313" y="34"/>
                  </a:lnTo>
                  <a:lnTo>
                    <a:pt x="313" y="34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3" y="36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38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7" y="40"/>
                  </a:lnTo>
                  <a:lnTo>
                    <a:pt x="319" y="40"/>
                  </a:lnTo>
                  <a:lnTo>
                    <a:pt x="319" y="40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19" y="42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1" y="44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24" y="46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24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0"/>
                  </a:lnTo>
                  <a:lnTo>
                    <a:pt x="326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2"/>
                  </a:lnTo>
                  <a:lnTo>
                    <a:pt x="328" y="53"/>
                  </a:lnTo>
                  <a:lnTo>
                    <a:pt x="330" y="53"/>
                  </a:lnTo>
                  <a:lnTo>
                    <a:pt x="330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2" y="55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4" y="57"/>
                  </a:lnTo>
                  <a:lnTo>
                    <a:pt x="336" y="59"/>
                  </a:lnTo>
                  <a:lnTo>
                    <a:pt x="336" y="59"/>
                  </a:lnTo>
                  <a:lnTo>
                    <a:pt x="336" y="61"/>
                  </a:lnTo>
                  <a:lnTo>
                    <a:pt x="338" y="61"/>
                  </a:lnTo>
                  <a:lnTo>
                    <a:pt x="338" y="63"/>
                  </a:lnTo>
                  <a:lnTo>
                    <a:pt x="338" y="63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2" y="67"/>
                  </a:lnTo>
                  <a:lnTo>
                    <a:pt x="342" y="67"/>
                  </a:lnTo>
                  <a:lnTo>
                    <a:pt x="344" y="67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4" y="69"/>
                  </a:lnTo>
                  <a:lnTo>
                    <a:pt x="346" y="69"/>
                  </a:lnTo>
                  <a:lnTo>
                    <a:pt x="346" y="69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6" y="71"/>
                  </a:lnTo>
                  <a:lnTo>
                    <a:pt x="347" y="73"/>
                  </a:lnTo>
                  <a:lnTo>
                    <a:pt x="349" y="73"/>
                  </a:lnTo>
                  <a:lnTo>
                    <a:pt x="349" y="75"/>
                  </a:lnTo>
                  <a:lnTo>
                    <a:pt x="351" y="77"/>
                  </a:lnTo>
                  <a:lnTo>
                    <a:pt x="351" y="77"/>
                  </a:lnTo>
                  <a:lnTo>
                    <a:pt x="353" y="78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2"/>
                  </a:lnTo>
                  <a:lnTo>
                    <a:pt x="357" y="84"/>
                  </a:lnTo>
                  <a:lnTo>
                    <a:pt x="359" y="84"/>
                  </a:lnTo>
                  <a:lnTo>
                    <a:pt x="359" y="84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61" y="88"/>
                  </a:lnTo>
                  <a:lnTo>
                    <a:pt x="363" y="88"/>
                  </a:lnTo>
                  <a:lnTo>
                    <a:pt x="363" y="88"/>
                  </a:lnTo>
                  <a:lnTo>
                    <a:pt x="365" y="90"/>
                  </a:lnTo>
                  <a:lnTo>
                    <a:pt x="365" y="90"/>
                  </a:lnTo>
                  <a:lnTo>
                    <a:pt x="365" y="92"/>
                  </a:lnTo>
                  <a:lnTo>
                    <a:pt x="367" y="92"/>
                  </a:lnTo>
                  <a:lnTo>
                    <a:pt x="367" y="94"/>
                  </a:lnTo>
                  <a:lnTo>
                    <a:pt x="367" y="94"/>
                  </a:lnTo>
                  <a:lnTo>
                    <a:pt x="369" y="94"/>
                  </a:lnTo>
                  <a:lnTo>
                    <a:pt x="369" y="96"/>
                  </a:lnTo>
                  <a:lnTo>
                    <a:pt x="369" y="96"/>
                  </a:lnTo>
                  <a:lnTo>
                    <a:pt x="370" y="96"/>
                  </a:lnTo>
                  <a:lnTo>
                    <a:pt x="370" y="98"/>
                  </a:lnTo>
                  <a:lnTo>
                    <a:pt x="370" y="98"/>
                  </a:lnTo>
                  <a:lnTo>
                    <a:pt x="372" y="9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74" y="100"/>
                  </a:lnTo>
                  <a:lnTo>
                    <a:pt x="374" y="100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4" y="101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1"/>
                  </a:lnTo>
                  <a:lnTo>
                    <a:pt x="384" y="113"/>
                  </a:lnTo>
                  <a:lnTo>
                    <a:pt x="384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3"/>
                  </a:lnTo>
                  <a:lnTo>
                    <a:pt x="386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5"/>
                  </a:lnTo>
                  <a:lnTo>
                    <a:pt x="388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0" y="117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19"/>
                  </a:lnTo>
                  <a:lnTo>
                    <a:pt x="392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1"/>
                  </a:lnTo>
                  <a:lnTo>
                    <a:pt x="394" y="123"/>
                  </a:lnTo>
                  <a:lnTo>
                    <a:pt x="394" y="123"/>
                  </a:lnTo>
                  <a:lnTo>
                    <a:pt x="395" y="123"/>
                  </a:lnTo>
                  <a:lnTo>
                    <a:pt x="395" y="123"/>
                  </a:lnTo>
                  <a:lnTo>
                    <a:pt x="395" y="125"/>
                  </a:lnTo>
                  <a:lnTo>
                    <a:pt x="397" y="125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99" y="126"/>
                  </a:lnTo>
                  <a:lnTo>
                    <a:pt x="399" y="128"/>
                  </a:lnTo>
                  <a:lnTo>
                    <a:pt x="401" y="128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1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0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3" y="132"/>
                  </a:lnTo>
                  <a:lnTo>
                    <a:pt x="405" y="132"/>
                  </a:lnTo>
                  <a:lnTo>
                    <a:pt x="405" y="132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5" y="134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7" y="136"/>
                  </a:lnTo>
                  <a:lnTo>
                    <a:pt x="409" y="138"/>
                  </a:lnTo>
                  <a:lnTo>
                    <a:pt x="409" y="138"/>
                  </a:lnTo>
                  <a:lnTo>
                    <a:pt x="411" y="138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1" y="140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2"/>
                  </a:lnTo>
                  <a:lnTo>
                    <a:pt x="413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4"/>
                  </a:lnTo>
                  <a:lnTo>
                    <a:pt x="415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6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19" y="148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0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0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1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24" y="155"/>
                  </a:lnTo>
                  <a:lnTo>
                    <a:pt x="426" y="155"/>
                  </a:lnTo>
                  <a:lnTo>
                    <a:pt x="426" y="155"/>
                  </a:lnTo>
                  <a:lnTo>
                    <a:pt x="426" y="157"/>
                  </a:lnTo>
                  <a:lnTo>
                    <a:pt x="428" y="157"/>
                  </a:lnTo>
                  <a:lnTo>
                    <a:pt x="428" y="159"/>
                  </a:lnTo>
                  <a:lnTo>
                    <a:pt x="430" y="159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2" y="163"/>
                  </a:lnTo>
                  <a:lnTo>
                    <a:pt x="434" y="163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4" y="165"/>
                  </a:lnTo>
                  <a:lnTo>
                    <a:pt x="436" y="165"/>
                  </a:lnTo>
                  <a:lnTo>
                    <a:pt x="436" y="165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6" y="167"/>
                  </a:lnTo>
                  <a:lnTo>
                    <a:pt x="438" y="167"/>
                  </a:lnTo>
                  <a:lnTo>
                    <a:pt x="438" y="169"/>
                  </a:lnTo>
                  <a:lnTo>
                    <a:pt x="440" y="169"/>
                  </a:lnTo>
                  <a:lnTo>
                    <a:pt x="440" y="171"/>
                  </a:lnTo>
                  <a:lnTo>
                    <a:pt x="442" y="173"/>
                  </a:lnTo>
                  <a:lnTo>
                    <a:pt x="442" y="173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6"/>
                  </a:lnTo>
                  <a:lnTo>
                    <a:pt x="445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7" y="178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49" y="180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1" y="182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4"/>
                  </a:lnTo>
                  <a:lnTo>
                    <a:pt x="453" y="186"/>
                  </a:lnTo>
                  <a:lnTo>
                    <a:pt x="455" y="186"/>
                  </a:lnTo>
                  <a:lnTo>
                    <a:pt x="455" y="186"/>
                  </a:lnTo>
                  <a:lnTo>
                    <a:pt x="455" y="188"/>
                  </a:lnTo>
                  <a:lnTo>
                    <a:pt x="455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88"/>
                  </a:lnTo>
                  <a:lnTo>
                    <a:pt x="457" y="190"/>
                  </a:lnTo>
                  <a:lnTo>
                    <a:pt x="457" y="190"/>
                  </a:lnTo>
                  <a:lnTo>
                    <a:pt x="459" y="190"/>
                  </a:lnTo>
                  <a:lnTo>
                    <a:pt x="459" y="190"/>
                  </a:lnTo>
                  <a:lnTo>
                    <a:pt x="459" y="192"/>
                  </a:lnTo>
                  <a:lnTo>
                    <a:pt x="461" y="192"/>
                  </a:lnTo>
                  <a:lnTo>
                    <a:pt x="461" y="194"/>
                  </a:lnTo>
                  <a:lnTo>
                    <a:pt x="463" y="194"/>
                  </a:lnTo>
                  <a:lnTo>
                    <a:pt x="463" y="194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3" y="196"/>
                  </a:lnTo>
                  <a:lnTo>
                    <a:pt x="465" y="196"/>
                  </a:lnTo>
                  <a:lnTo>
                    <a:pt x="465" y="196"/>
                  </a:lnTo>
                  <a:lnTo>
                    <a:pt x="465" y="198"/>
                  </a:lnTo>
                  <a:lnTo>
                    <a:pt x="467" y="199"/>
                  </a:lnTo>
                  <a:lnTo>
                    <a:pt x="468" y="199"/>
                  </a:lnTo>
                  <a:lnTo>
                    <a:pt x="468" y="201"/>
                  </a:lnTo>
                  <a:lnTo>
                    <a:pt x="470" y="203"/>
                  </a:lnTo>
                  <a:lnTo>
                    <a:pt x="472" y="205"/>
                  </a:lnTo>
                  <a:lnTo>
                    <a:pt x="474" y="205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4" y="207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6" y="209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78" y="211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0" y="213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2" y="215"/>
                  </a:lnTo>
                  <a:lnTo>
                    <a:pt x="484" y="217"/>
                  </a:lnTo>
                  <a:lnTo>
                    <a:pt x="484" y="217"/>
                  </a:lnTo>
                  <a:lnTo>
                    <a:pt x="484" y="219"/>
                  </a:lnTo>
                  <a:lnTo>
                    <a:pt x="486" y="219"/>
                  </a:lnTo>
                  <a:lnTo>
                    <a:pt x="486" y="219"/>
                  </a:lnTo>
                  <a:lnTo>
                    <a:pt x="486" y="221"/>
                  </a:lnTo>
                  <a:lnTo>
                    <a:pt x="488" y="221"/>
                  </a:lnTo>
                  <a:lnTo>
                    <a:pt x="488" y="223"/>
                  </a:lnTo>
                  <a:lnTo>
                    <a:pt x="490" y="223"/>
                  </a:lnTo>
                  <a:lnTo>
                    <a:pt x="490" y="224"/>
                  </a:lnTo>
                  <a:lnTo>
                    <a:pt x="492" y="224"/>
                  </a:lnTo>
                  <a:lnTo>
                    <a:pt x="492" y="226"/>
                  </a:lnTo>
                  <a:lnTo>
                    <a:pt x="492" y="226"/>
                  </a:lnTo>
                  <a:lnTo>
                    <a:pt x="493" y="226"/>
                  </a:lnTo>
                  <a:lnTo>
                    <a:pt x="493" y="228"/>
                  </a:lnTo>
                  <a:lnTo>
                    <a:pt x="495" y="228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5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0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7" y="232"/>
                  </a:lnTo>
                  <a:lnTo>
                    <a:pt x="499" y="232"/>
                  </a:lnTo>
                  <a:lnTo>
                    <a:pt x="499" y="234"/>
                  </a:lnTo>
                  <a:lnTo>
                    <a:pt x="499" y="234"/>
                  </a:lnTo>
                  <a:lnTo>
                    <a:pt x="501" y="234"/>
                  </a:lnTo>
                  <a:lnTo>
                    <a:pt x="501" y="236"/>
                  </a:lnTo>
                  <a:lnTo>
                    <a:pt x="501" y="236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38"/>
                  </a:lnTo>
                  <a:lnTo>
                    <a:pt x="503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5" y="240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2"/>
                  </a:lnTo>
                  <a:lnTo>
                    <a:pt x="507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09" y="244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1" y="246"/>
                  </a:lnTo>
                  <a:lnTo>
                    <a:pt x="513" y="247"/>
                  </a:lnTo>
                  <a:lnTo>
                    <a:pt x="513" y="249"/>
                  </a:lnTo>
                  <a:lnTo>
                    <a:pt x="515" y="249"/>
                  </a:lnTo>
                  <a:lnTo>
                    <a:pt x="517" y="251"/>
                  </a:lnTo>
                  <a:lnTo>
                    <a:pt x="517" y="253"/>
                  </a:lnTo>
                  <a:lnTo>
                    <a:pt x="518" y="253"/>
                  </a:lnTo>
                  <a:lnTo>
                    <a:pt x="520" y="255"/>
                  </a:lnTo>
                  <a:lnTo>
                    <a:pt x="520" y="257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2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59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4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1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6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3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28" y="265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0" y="267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2" y="269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4" y="271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6" y="272"/>
                  </a:lnTo>
                  <a:lnTo>
                    <a:pt x="538" y="272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38" y="274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78"/>
                  </a:lnTo>
                  <a:lnTo>
                    <a:pt x="541" y="280"/>
                  </a:lnTo>
                  <a:lnTo>
                    <a:pt x="543" y="280"/>
                  </a:lnTo>
                  <a:lnTo>
                    <a:pt x="543" y="280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3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2"/>
                  </a:lnTo>
                  <a:lnTo>
                    <a:pt x="545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4"/>
                  </a:lnTo>
                  <a:lnTo>
                    <a:pt x="547" y="286"/>
                  </a:lnTo>
                  <a:lnTo>
                    <a:pt x="547" y="286"/>
                  </a:lnTo>
                  <a:lnTo>
                    <a:pt x="549" y="286"/>
                  </a:lnTo>
                  <a:lnTo>
                    <a:pt x="549" y="286"/>
                  </a:lnTo>
                  <a:lnTo>
                    <a:pt x="549" y="288"/>
                  </a:lnTo>
                  <a:lnTo>
                    <a:pt x="549" y="288"/>
                  </a:lnTo>
                  <a:lnTo>
                    <a:pt x="551" y="288"/>
                  </a:lnTo>
                  <a:lnTo>
                    <a:pt x="551" y="290"/>
                  </a:lnTo>
                  <a:lnTo>
                    <a:pt x="551" y="290"/>
                  </a:lnTo>
                  <a:lnTo>
                    <a:pt x="553" y="290"/>
                  </a:lnTo>
                  <a:lnTo>
                    <a:pt x="553" y="292"/>
                  </a:lnTo>
                  <a:lnTo>
                    <a:pt x="553" y="292"/>
                  </a:lnTo>
                  <a:lnTo>
                    <a:pt x="555" y="292"/>
                  </a:lnTo>
                  <a:lnTo>
                    <a:pt x="555" y="294"/>
                  </a:lnTo>
                  <a:lnTo>
                    <a:pt x="555" y="294"/>
                  </a:lnTo>
                  <a:lnTo>
                    <a:pt x="557" y="294"/>
                  </a:lnTo>
                  <a:lnTo>
                    <a:pt x="557" y="296"/>
                  </a:lnTo>
                  <a:lnTo>
                    <a:pt x="557" y="296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59" y="297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1" y="299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3" y="301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3"/>
                  </a:lnTo>
                  <a:lnTo>
                    <a:pt x="565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6" y="305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7"/>
                  </a:lnTo>
                  <a:lnTo>
                    <a:pt x="568" y="309"/>
                  </a:lnTo>
                  <a:lnTo>
                    <a:pt x="570" y="309"/>
                  </a:lnTo>
                  <a:lnTo>
                    <a:pt x="570" y="309"/>
                  </a:lnTo>
                  <a:lnTo>
                    <a:pt x="57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72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3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4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5"/>
                  </a:lnTo>
                  <a:lnTo>
                    <a:pt x="576" y="317"/>
                  </a:lnTo>
                  <a:lnTo>
                    <a:pt x="576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7"/>
                  </a:lnTo>
                  <a:lnTo>
                    <a:pt x="578" y="319"/>
                  </a:lnTo>
                  <a:lnTo>
                    <a:pt x="578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19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0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4" y="322"/>
                  </a:lnTo>
                  <a:lnTo>
                    <a:pt x="584" y="322"/>
                  </a:lnTo>
                  <a:lnTo>
                    <a:pt x="584" y="324"/>
                  </a:lnTo>
                  <a:lnTo>
                    <a:pt x="586" y="324"/>
                  </a:lnTo>
                  <a:lnTo>
                    <a:pt x="586" y="326"/>
                  </a:lnTo>
                  <a:lnTo>
                    <a:pt x="586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6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88" y="328"/>
                  </a:lnTo>
                  <a:lnTo>
                    <a:pt x="590" y="328"/>
                  </a:lnTo>
                  <a:lnTo>
                    <a:pt x="590" y="330"/>
                  </a:lnTo>
                  <a:lnTo>
                    <a:pt x="590" y="330"/>
                  </a:lnTo>
                  <a:lnTo>
                    <a:pt x="591" y="332"/>
                  </a:lnTo>
                  <a:lnTo>
                    <a:pt x="591" y="332"/>
                  </a:lnTo>
                  <a:lnTo>
                    <a:pt x="593" y="334"/>
                  </a:lnTo>
                  <a:lnTo>
                    <a:pt x="595" y="334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6"/>
                  </a:lnTo>
                  <a:lnTo>
                    <a:pt x="595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38"/>
                  </a:lnTo>
                  <a:lnTo>
                    <a:pt x="597" y="340"/>
                  </a:lnTo>
                  <a:lnTo>
                    <a:pt x="599" y="340"/>
                  </a:lnTo>
                  <a:lnTo>
                    <a:pt x="599" y="340"/>
                  </a:lnTo>
                  <a:lnTo>
                    <a:pt x="599" y="342"/>
                  </a:lnTo>
                  <a:lnTo>
                    <a:pt x="601" y="342"/>
                  </a:lnTo>
                  <a:lnTo>
                    <a:pt x="601" y="342"/>
                  </a:lnTo>
                  <a:lnTo>
                    <a:pt x="601" y="344"/>
                  </a:lnTo>
                  <a:lnTo>
                    <a:pt x="603" y="344"/>
                  </a:lnTo>
                  <a:lnTo>
                    <a:pt x="603" y="344"/>
                  </a:lnTo>
                  <a:lnTo>
                    <a:pt x="603" y="345"/>
                  </a:lnTo>
                  <a:lnTo>
                    <a:pt x="603" y="345"/>
                  </a:lnTo>
                  <a:lnTo>
                    <a:pt x="605" y="345"/>
                  </a:lnTo>
                  <a:lnTo>
                    <a:pt x="605" y="345"/>
                  </a:lnTo>
                  <a:lnTo>
                    <a:pt x="605" y="347"/>
                  </a:lnTo>
                  <a:lnTo>
                    <a:pt x="605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7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7" y="349"/>
                  </a:lnTo>
                  <a:lnTo>
                    <a:pt x="609" y="351"/>
                  </a:lnTo>
                  <a:lnTo>
                    <a:pt x="611" y="353"/>
                  </a:lnTo>
                  <a:lnTo>
                    <a:pt x="613" y="355"/>
                  </a:lnTo>
                  <a:lnTo>
                    <a:pt x="614" y="357"/>
                  </a:lnTo>
                  <a:lnTo>
                    <a:pt x="616" y="359"/>
                  </a:lnTo>
                  <a:lnTo>
                    <a:pt x="618" y="361"/>
                  </a:lnTo>
                  <a:lnTo>
                    <a:pt x="620" y="363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2" y="365"/>
                  </a:lnTo>
                  <a:lnTo>
                    <a:pt x="624" y="365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7"/>
                  </a:lnTo>
                  <a:lnTo>
                    <a:pt x="624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6" y="369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0"/>
                  </a:lnTo>
                  <a:lnTo>
                    <a:pt x="628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2"/>
                  </a:lnTo>
                  <a:lnTo>
                    <a:pt x="630" y="374"/>
                  </a:lnTo>
                  <a:lnTo>
                    <a:pt x="630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4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2" y="376"/>
                  </a:lnTo>
                  <a:lnTo>
                    <a:pt x="634" y="376"/>
                  </a:lnTo>
                  <a:lnTo>
                    <a:pt x="634" y="378"/>
                  </a:lnTo>
                  <a:lnTo>
                    <a:pt x="636" y="378"/>
                  </a:lnTo>
                  <a:lnTo>
                    <a:pt x="636" y="378"/>
                  </a:lnTo>
                  <a:lnTo>
                    <a:pt x="636" y="380"/>
                  </a:lnTo>
                  <a:lnTo>
                    <a:pt x="638" y="380"/>
                  </a:lnTo>
                  <a:lnTo>
                    <a:pt x="638" y="382"/>
                  </a:lnTo>
                  <a:lnTo>
                    <a:pt x="638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2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39" y="384"/>
                  </a:lnTo>
                  <a:lnTo>
                    <a:pt x="641" y="384"/>
                  </a:lnTo>
                  <a:lnTo>
                    <a:pt x="641" y="386"/>
                  </a:lnTo>
                  <a:lnTo>
                    <a:pt x="641" y="386"/>
                  </a:lnTo>
                  <a:lnTo>
                    <a:pt x="643" y="388"/>
                  </a:lnTo>
                  <a:lnTo>
                    <a:pt x="643" y="388"/>
                  </a:lnTo>
                  <a:lnTo>
                    <a:pt x="645" y="390"/>
                  </a:lnTo>
                  <a:lnTo>
                    <a:pt x="645" y="390"/>
                  </a:lnTo>
                  <a:lnTo>
                    <a:pt x="647" y="390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2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7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3"/>
                  </a:lnTo>
                  <a:lnTo>
                    <a:pt x="649" y="395"/>
                  </a:lnTo>
                  <a:lnTo>
                    <a:pt x="651" y="395"/>
                  </a:lnTo>
                  <a:lnTo>
                    <a:pt x="651" y="395"/>
                  </a:lnTo>
                  <a:lnTo>
                    <a:pt x="651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3" y="397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399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5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1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7" y="403"/>
                  </a:lnTo>
                  <a:lnTo>
                    <a:pt x="659" y="403"/>
                  </a:lnTo>
                  <a:lnTo>
                    <a:pt x="659" y="405"/>
                  </a:lnTo>
                  <a:lnTo>
                    <a:pt x="661" y="407"/>
                  </a:lnTo>
                  <a:lnTo>
                    <a:pt x="663" y="409"/>
                  </a:lnTo>
                  <a:lnTo>
                    <a:pt x="664" y="409"/>
                  </a:lnTo>
                  <a:lnTo>
                    <a:pt x="666" y="411"/>
                  </a:lnTo>
                  <a:lnTo>
                    <a:pt x="666" y="413"/>
                  </a:lnTo>
                  <a:lnTo>
                    <a:pt x="668" y="415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70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18"/>
                  </a:lnTo>
                  <a:lnTo>
                    <a:pt x="672" y="420"/>
                  </a:lnTo>
                  <a:lnTo>
                    <a:pt x="674" y="420"/>
                  </a:lnTo>
                  <a:lnTo>
                    <a:pt x="674" y="420"/>
                  </a:lnTo>
                  <a:lnTo>
                    <a:pt x="674" y="422"/>
                  </a:lnTo>
                  <a:lnTo>
                    <a:pt x="676" y="422"/>
                  </a:lnTo>
                  <a:lnTo>
                    <a:pt x="676" y="422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4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78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6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0" y="428"/>
                  </a:lnTo>
                  <a:lnTo>
                    <a:pt x="682" y="428"/>
                  </a:lnTo>
                  <a:lnTo>
                    <a:pt x="682" y="428"/>
                  </a:lnTo>
                  <a:lnTo>
                    <a:pt x="682" y="430"/>
                  </a:lnTo>
                  <a:lnTo>
                    <a:pt x="684" y="430"/>
                  </a:lnTo>
                  <a:lnTo>
                    <a:pt x="684" y="430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4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89" y="438"/>
                  </a:lnTo>
                  <a:lnTo>
                    <a:pt x="689" y="438"/>
                  </a:lnTo>
                  <a:lnTo>
                    <a:pt x="691" y="438"/>
                  </a:lnTo>
                  <a:lnTo>
                    <a:pt x="691" y="440"/>
                  </a:lnTo>
                  <a:lnTo>
                    <a:pt x="691" y="440"/>
                  </a:lnTo>
                  <a:lnTo>
                    <a:pt x="693" y="440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1"/>
                  </a:lnTo>
                  <a:lnTo>
                    <a:pt x="693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5" y="443"/>
                  </a:lnTo>
                  <a:lnTo>
                    <a:pt x="697" y="443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5"/>
                  </a:lnTo>
                  <a:lnTo>
                    <a:pt x="697" y="447"/>
                  </a:lnTo>
                  <a:lnTo>
                    <a:pt x="699" y="447"/>
                  </a:lnTo>
                  <a:lnTo>
                    <a:pt x="699" y="447"/>
                  </a:lnTo>
                  <a:lnTo>
                    <a:pt x="699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1" y="449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1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3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3"/>
                  </a:lnTo>
                  <a:lnTo>
                    <a:pt x="705" y="455"/>
                  </a:lnTo>
                  <a:lnTo>
                    <a:pt x="705" y="455"/>
                  </a:lnTo>
                  <a:lnTo>
                    <a:pt x="707" y="455"/>
                  </a:lnTo>
                  <a:lnTo>
                    <a:pt x="707" y="455"/>
                  </a:lnTo>
                  <a:lnTo>
                    <a:pt x="707" y="457"/>
                  </a:lnTo>
                  <a:lnTo>
                    <a:pt x="707" y="457"/>
                  </a:lnTo>
                  <a:lnTo>
                    <a:pt x="709" y="459"/>
                  </a:lnTo>
                  <a:lnTo>
                    <a:pt x="711" y="461"/>
                  </a:lnTo>
                  <a:lnTo>
                    <a:pt x="712" y="463"/>
                  </a:lnTo>
                  <a:lnTo>
                    <a:pt x="714" y="465"/>
                  </a:lnTo>
                  <a:lnTo>
                    <a:pt x="716" y="466"/>
                  </a:lnTo>
                  <a:lnTo>
                    <a:pt x="718" y="468"/>
                  </a:lnTo>
                  <a:lnTo>
                    <a:pt x="722" y="470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4" y="474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6"/>
                  </a:lnTo>
                  <a:lnTo>
                    <a:pt x="726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78"/>
                  </a:lnTo>
                  <a:lnTo>
                    <a:pt x="728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0" y="480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2" y="482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4" y="484"/>
                  </a:lnTo>
                  <a:lnTo>
                    <a:pt x="736" y="486"/>
                  </a:lnTo>
                  <a:lnTo>
                    <a:pt x="736" y="486"/>
                  </a:lnTo>
                  <a:lnTo>
                    <a:pt x="736" y="488"/>
                  </a:lnTo>
                  <a:lnTo>
                    <a:pt x="737" y="488"/>
                  </a:lnTo>
                  <a:lnTo>
                    <a:pt x="737" y="488"/>
                  </a:lnTo>
                  <a:lnTo>
                    <a:pt x="737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0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39" y="491"/>
                  </a:lnTo>
                  <a:lnTo>
                    <a:pt x="741" y="491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3" y="493"/>
                  </a:lnTo>
                  <a:lnTo>
                    <a:pt x="743" y="495"/>
                  </a:lnTo>
                  <a:lnTo>
                    <a:pt x="745" y="495"/>
                  </a:lnTo>
                  <a:lnTo>
                    <a:pt x="745" y="497"/>
                  </a:lnTo>
                  <a:lnTo>
                    <a:pt x="747" y="497"/>
                  </a:lnTo>
                  <a:lnTo>
                    <a:pt x="747" y="499"/>
                  </a:lnTo>
                  <a:lnTo>
                    <a:pt x="749" y="499"/>
                  </a:lnTo>
                  <a:lnTo>
                    <a:pt x="749" y="499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49" y="501"/>
                  </a:lnTo>
                  <a:lnTo>
                    <a:pt x="751" y="501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1" y="503"/>
                  </a:lnTo>
                  <a:lnTo>
                    <a:pt x="753" y="505"/>
                  </a:lnTo>
                  <a:lnTo>
                    <a:pt x="753" y="505"/>
                  </a:lnTo>
                  <a:lnTo>
                    <a:pt x="755" y="507"/>
                  </a:lnTo>
                  <a:lnTo>
                    <a:pt x="757" y="509"/>
                  </a:lnTo>
                  <a:lnTo>
                    <a:pt x="757" y="509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1" y="513"/>
                  </a:lnTo>
                  <a:lnTo>
                    <a:pt x="762" y="513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4"/>
                  </a:lnTo>
                  <a:lnTo>
                    <a:pt x="762" y="516"/>
                  </a:lnTo>
                  <a:lnTo>
                    <a:pt x="764" y="516"/>
                  </a:lnTo>
                  <a:lnTo>
                    <a:pt x="764" y="518"/>
                  </a:lnTo>
                  <a:lnTo>
                    <a:pt x="766" y="518"/>
                  </a:lnTo>
                  <a:lnTo>
                    <a:pt x="768" y="520"/>
                  </a:lnTo>
                  <a:lnTo>
                    <a:pt x="768" y="520"/>
                  </a:lnTo>
                  <a:lnTo>
                    <a:pt x="770" y="522"/>
                  </a:lnTo>
                  <a:lnTo>
                    <a:pt x="770" y="524"/>
                  </a:lnTo>
                  <a:lnTo>
                    <a:pt x="772" y="524"/>
                  </a:lnTo>
                  <a:lnTo>
                    <a:pt x="772" y="524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6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4" y="528"/>
                  </a:lnTo>
                  <a:lnTo>
                    <a:pt x="776" y="528"/>
                  </a:lnTo>
                  <a:lnTo>
                    <a:pt x="776" y="528"/>
                  </a:lnTo>
                  <a:lnTo>
                    <a:pt x="776" y="530"/>
                  </a:lnTo>
                  <a:lnTo>
                    <a:pt x="778" y="530"/>
                  </a:lnTo>
                  <a:lnTo>
                    <a:pt x="778" y="532"/>
                  </a:lnTo>
                  <a:lnTo>
                    <a:pt x="780" y="532"/>
                  </a:lnTo>
                  <a:lnTo>
                    <a:pt x="780" y="534"/>
                  </a:lnTo>
                  <a:lnTo>
                    <a:pt x="782" y="534"/>
                  </a:lnTo>
                  <a:lnTo>
                    <a:pt x="782" y="536"/>
                  </a:lnTo>
                  <a:lnTo>
                    <a:pt x="784" y="536"/>
                  </a:lnTo>
                  <a:lnTo>
                    <a:pt x="784" y="536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4" y="538"/>
                  </a:lnTo>
                  <a:lnTo>
                    <a:pt x="785" y="538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5" y="539"/>
                  </a:lnTo>
                  <a:lnTo>
                    <a:pt x="787" y="539"/>
                  </a:lnTo>
                  <a:lnTo>
                    <a:pt x="787" y="539"/>
                  </a:lnTo>
                  <a:lnTo>
                    <a:pt x="787" y="541"/>
                  </a:lnTo>
                  <a:lnTo>
                    <a:pt x="789" y="543"/>
                  </a:lnTo>
                  <a:lnTo>
                    <a:pt x="791" y="545"/>
                  </a:lnTo>
                  <a:lnTo>
                    <a:pt x="793" y="547"/>
                  </a:lnTo>
                  <a:lnTo>
                    <a:pt x="793" y="547"/>
                  </a:lnTo>
                  <a:lnTo>
                    <a:pt x="795" y="549"/>
                  </a:lnTo>
                  <a:lnTo>
                    <a:pt x="797" y="551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3"/>
                  </a:lnTo>
                  <a:lnTo>
                    <a:pt x="799" y="555"/>
                  </a:lnTo>
                  <a:lnTo>
                    <a:pt x="799" y="555"/>
                  </a:lnTo>
                  <a:lnTo>
                    <a:pt x="801" y="555"/>
                  </a:lnTo>
                  <a:lnTo>
                    <a:pt x="801" y="555"/>
                  </a:lnTo>
                  <a:lnTo>
                    <a:pt x="801" y="557"/>
                  </a:lnTo>
                  <a:lnTo>
                    <a:pt x="803" y="557"/>
                  </a:lnTo>
                  <a:lnTo>
                    <a:pt x="803" y="557"/>
                  </a:lnTo>
                  <a:lnTo>
                    <a:pt x="803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59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5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1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7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3"/>
                  </a:lnTo>
                  <a:lnTo>
                    <a:pt x="809" y="564"/>
                  </a:lnTo>
                  <a:lnTo>
                    <a:pt x="809" y="564"/>
                  </a:lnTo>
                  <a:lnTo>
                    <a:pt x="810" y="564"/>
                  </a:lnTo>
                  <a:lnTo>
                    <a:pt x="810" y="564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0" y="566"/>
                  </a:lnTo>
                  <a:lnTo>
                    <a:pt x="812" y="566"/>
                  </a:lnTo>
                  <a:lnTo>
                    <a:pt x="812" y="566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2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68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4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0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6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2"/>
                  </a:lnTo>
                  <a:lnTo>
                    <a:pt x="818" y="574"/>
                  </a:lnTo>
                  <a:lnTo>
                    <a:pt x="820" y="574"/>
                  </a:lnTo>
                  <a:lnTo>
                    <a:pt x="820" y="574"/>
                  </a:lnTo>
                  <a:lnTo>
                    <a:pt x="820" y="576"/>
                  </a:lnTo>
                  <a:lnTo>
                    <a:pt x="822" y="576"/>
                  </a:lnTo>
                  <a:lnTo>
                    <a:pt x="822" y="576"/>
                  </a:lnTo>
                  <a:lnTo>
                    <a:pt x="822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4" y="578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6" y="580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28" y="582"/>
                  </a:lnTo>
                  <a:lnTo>
                    <a:pt x="830" y="582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0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4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2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6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4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7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5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7" y="589"/>
                  </a:lnTo>
                  <a:lnTo>
                    <a:pt x="839" y="591"/>
                  </a:lnTo>
                  <a:lnTo>
                    <a:pt x="839" y="591"/>
                  </a:lnTo>
                  <a:lnTo>
                    <a:pt x="841" y="593"/>
                  </a:lnTo>
                  <a:lnTo>
                    <a:pt x="843" y="595"/>
                  </a:lnTo>
                  <a:lnTo>
                    <a:pt x="845" y="597"/>
                  </a:lnTo>
                  <a:lnTo>
                    <a:pt x="845" y="597"/>
                  </a:lnTo>
                  <a:lnTo>
                    <a:pt x="847" y="599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49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1"/>
                  </a:lnTo>
                  <a:lnTo>
                    <a:pt x="851" y="603"/>
                  </a:lnTo>
                  <a:lnTo>
                    <a:pt x="851" y="603"/>
                  </a:lnTo>
                  <a:lnTo>
                    <a:pt x="853" y="603"/>
                  </a:lnTo>
                  <a:lnTo>
                    <a:pt x="853" y="603"/>
                  </a:lnTo>
                  <a:lnTo>
                    <a:pt x="855" y="605"/>
                  </a:lnTo>
                  <a:lnTo>
                    <a:pt x="855" y="605"/>
                  </a:lnTo>
                  <a:lnTo>
                    <a:pt x="857" y="607"/>
                  </a:lnTo>
                  <a:lnTo>
                    <a:pt x="857" y="607"/>
                  </a:lnTo>
                  <a:lnTo>
                    <a:pt x="858" y="607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58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09"/>
                  </a:lnTo>
                  <a:lnTo>
                    <a:pt x="860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2" y="611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4" y="612"/>
                  </a:lnTo>
                  <a:lnTo>
                    <a:pt x="866" y="612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6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4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68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6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0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2" y="618"/>
                  </a:lnTo>
                  <a:lnTo>
                    <a:pt x="874" y="618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4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0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6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2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78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0" y="624"/>
                  </a:lnTo>
                  <a:lnTo>
                    <a:pt x="882" y="624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2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6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3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28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5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7" y="630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89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2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1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3" y="634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5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6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7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7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899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1" y="639"/>
                  </a:lnTo>
                  <a:lnTo>
                    <a:pt x="903" y="639"/>
                  </a:lnTo>
                  <a:lnTo>
                    <a:pt x="903" y="641"/>
                  </a:lnTo>
                  <a:lnTo>
                    <a:pt x="903" y="641"/>
                  </a:lnTo>
                  <a:lnTo>
                    <a:pt x="905" y="641"/>
                  </a:lnTo>
                  <a:lnTo>
                    <a:pt x="905" y="641"/>
                  </a:lnTo>
                  <a:lnTo>
                    <a:pt x="905" y="643"/>
                  </a:lnTo>
                  <a:lnTo>
                    <a:pt x="907" y="643"/>
                  </a:lnTo>
                  <a:lnTo>
                    <a:pt x="907" y="643"/>
                  </a:lnTo>
                  <a:lnTo>
                    <a:pt x="908" y="645"/>
                  </a:lnTo>
                  <a:lnTo>
                    <a:pt x="908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5"/>
                  </a:lnTo>
                  <a:lnTo>
                    <a:pt x="910" y="647"/>
                  </a:lnTo>
                  <a:lnTo>
                    <a:pt x="910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2" y="647"/>
                  </a:lnTo>
                  <a:lnTo>
                    <a:pt x="914" y="647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4" y="649"/>
                  </a:lnTo>
                  <a:lnTo>
                    <a:pt x="916" y="649"/>
                  </a:lnTo>
                  <a:lnTo>
                    <a:pt x="916" y="649"/>
                  </a:lnTo>
                  <a:lnTo>
                    <a:pt x="916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18" y="651"/>
                  </a:lnTo>
                  <a:lnTo>
                    <a:pt x="920" y="651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0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3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2" y="655"/>
                  </a:lnTo>
                  <a:lnTo>
                    <a:pt x="924" y="655"/>
                  </a:lnTo>
                  <a:lnTo>
                    <a:pt x="926" y="655"/>
                  </a:lnTo>
                  <a:lnTo>
                    <a:pt x="926" y="657"/>
                  </a:lnTo>
                  <a:lnTo>
                    <a:pt x="928" y="657"/>
                  </a:lnTo>
                  <a:lnTo>
                    <a:pt x="928" y="657"/>
                  </a:lnTo>
                  <a:lnTo>
                    <a:pt x="930" y="659"/>
                  </a:lnTo>
                  <a:lnTo>
                    <a:pt x="930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59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2" y="660"/>
                  </a:lnTo>
                  <a:lnTo>
                    <a:pt x="933" y="660"/>
                  </a:lnTo>
                  <a:lnTo>
                    <a:pt x="935" y="662"/>
                  </a:lnTo>
                  <a:lnTo>
                    <a:pt x="937" y="662"/>
                  </a:lnTo>
                  <a:lnTo>
                    <a:pt x="939" y="664"/>
                  </a:lnTo>
                  <a:lnTo>
                    <a:pt x="941" y="666"/>
                  </a:lnTo>
                  <a:lnTo>
                    <a:pt x="943" y="666"/>
                  </a:lnTo>
                  <a:lnTo>
                    <a:pt x="945" y="668"/>
                  </a:lnTo>
                  <a:lnTo>
                    <a:pt x="947" y="668"/>
                  </a:lnTo>
                  <a:lnTo>
                    <a:pt x="947" y="668"/>
                  </a:lnTo>
                  <a:lnTo>
                    <a:pt x="947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49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0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3" y="672"/>
                  </a:lnTo>
                  <a:lnTo>
                    <a:pt x="955" y="672"/>
                  </a:lnTo>
                  <a:lnTo>
                    <a:pt x="955" y="674"/>
                  </a:lnTo>
                  <a:lnTo>
                    <a:pt x="955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6" y="674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58" y="676"/>
                  </a:lnTo>
                  <a:lnTo>
                    <a:pt x="960" y="676"/>
                  </a:lnTo>
                  <a:lnTo>
                    <a:pt x="960" y="676"/>
                  </a:lnTo>
                  <a:lnTo>
                    <a:pt x="960" y="678"/>
                  </a:lnTo>
                  <a:lnTo>
                    <a:pt x="962" y="678"/>
                  </a:lnTo>
                  <a:lnTo>
                    <a:pt x="962" y="678"/>
                  </a:lnTo>
                  <a:lnTo>
                    <a:pt x="964" y="680"/>
                  </a:lnTo>
                  <a:lnTo>
                    <a:pt x="966" y="680"/>
                  </a:lnTo>
                  <a:lnTo>
                    <a:pt x="966" y="680"/>
                  </a:lnTo>
                  <a:lnTo>
                    <a:pt x="968" y="680"/>
                  </a:lnTo>
                  <a:lnTo>
                    <a:pt x="968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0" y="682"/>
                  </a:lnTo>
                  <a:lnTo>
                    <a:pt x="972" y="682"/>
                  </a:lnTo>
                  <a:lnTo>
                    <a:pt x="972" y="684"/>
                  </a:lnTo>
                  <a:lnTo>
                    <a:pt x="972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4" y="684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6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78" y="685"/>
                  </a:lnTo>
                  <a:lnTo>
                    <a:pt x="980" y="685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0" y="687"/>
                  </a:lnTo>
                  <a:lnTo>
                    <a:pt x="981" y="687"/>
                  </a:lnTo>
                  <a:lnTo>
                    <a:pt x="983" y="689"/>
                  </a:lnTo>
                  <a:lnTo>
                    <a:pt x="987" y="691"/>
                  </a:lnTo>
                  <a:lnTo>
                    <a:pt x="989" y="691"/>
                  </a:lnTo>
                  <a:lnTo>
                    <a:pt x="991" y="693"/>
                  </a:lnTo>
                  <a:lnTo>
                    <a:pt x="993" y="695"/>
                  </a:lnTo>
                  <a:lnTo>
                    <a:pt x="997" y="695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999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1" y="697"/>
                  </a:lnTo>
                  <a:lnTo>
                    <a:pt x="1003" y="699"/>
                  </a:lnTo>
                  <a:lnTo>
                    <a:pt x="1003" y="699"/>
                  </a:lnTo>
                  <a:lnTo>
                    <a:pt x="1005" y="699"/>
                  </a:lnTo>
                  <a:lnTo>
                    <a:pt x="1006" y="701"/>
                  </a:lnTo>
                  <a:lnTo>
                    <a:pt x="1006" y="701"/>
                  </a:lnTo>
                  <a:lnTo>
                    <a:pt x="1008" y="701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0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2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3"/>
                  </a:lnTo>
                  <a:lnTo>
                    <a:pt x="1014" y="705"/>
                  </a:lnTo>
                  <a:lnTo>
                    <a:pt x="1014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6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5"/>
                  </a:lnTo>
                  <a:lnTo>
                    <a:pt x="1018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0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2" y="707"/>
                  </a:lnTo>
                  <a:lnTo>
                    <a:pt x="1024" y="709"/>
                  </a:lnTo>
                  <a:lnTo>
                    <a:pt x="1028" y="709"/>
                  </a:lnTo>
                  <a:lnTo>
                    <a:pt x="1029" y="710"/>
                  </a:lnTo>
                  <a:lnTo>
                    <a:pt x="1031" y="710"/>
                  </a:lnTo>
                  <a:lnTo>
                    <a:pt x="1033" y="712"/>
                  </a:lnTo>
                  <a:lnTo>
                    <a:pt x="1037" y="712"/>
                  </a:lnTo>
                  <a:lnTo>
                    <a:pt x="1039" y="714"/>
                  </a:lnTo>
                  <a:lnTo>
                    <a:pt x="1041" y="714"/>
                  </a:lnTo>
                  <a:lnTo>
                    <a:pt x="1041" y="714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1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3" y="716"/>
                  </a:lnTo>
                  <a:lnTo>
                    <a:pt x="1045" y="716"/>
                  </a:lnTo>
                  <a:lnTo>
                    <a:pt x="1047" y="718"/>
                  </a:lnTo>
                  <a:lnTo>
                    <a:pt x="1049" y="718"/>
                  </a:lnTo>
                  <a:lnTo>
                    <a:pt x="1051" y="718"/>
                  </a:lnTo>
                  <a:lnTo>
                    <a:pt x="1051" y="720"/>
                  </a:lnTo>
                  <a:lnTo>
                    <a:pt x="1053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4" y="720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6" y="722"/>
                  </a:lnTo>
                  <a:lnTo>
                    <a:pt x="1058" y="722"/>
                  </a:lnTo>
                  <a:lnTo>
                    <a:pt x="1058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2"/>
                  </a:lnTo>
                  <a:lnTo>
                    <a:pt x="1060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2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4" y="724"/>
                  </a:lnTo>
                  <a:lnTo>
                    <a:pt x="1066" y="724"/>
                  </a:lnTo>
                  <a:lnTo>
                    <a:pt x="1066" y="726"/>
                  </a:lnTo>
                  <a:lnTo>
                    <a:pt x="1068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0" y="726"/>
                  </a:lnTo>
                  <a:lnTo>
                    <a:pt x="1072" y="726"/>
                  </a:lnTo>
                  <a:lnTo>
                    <a:pt x="1072" y="726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2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4" y="728"/>
                  </a:lnTo>
                  <a:lnTo>
                    <a:pt x="1076" y="728"/>
                  </a:lnTo>
                  <a:lnTo>
                    <a:pt x="1076" y="728"/>
                  </a:lnTo>
                  <a:lnTo>
                    <a:pt x="1078" y="728"/>
                  </a:lnTo>
                  <a:lnTo>
                    <a:pt x="1078" y="730"/>
                  </a:lnTo>
                  <a:lnTo>
                    <a:pt x="1078" y="730"/>
                  </a:lnTo>
                  <a:lnTo>
                    <a:pt x="1079" y="730"/>
                  </a:lnTo>
                  <a:lnTo>
                    <a:pt x="1083" y="730"/>
                  </a:lnTo>
                  <a:lnTo>
                    <a:pt x="1087" y="732"/>
                  </a:lnTo>
                  <a:lnTo>
                    <a:pt x="1091" y="732"/>
                  </a:lnTo>
                  <a:lnTo>
                    <a:pt x="1095" y="733"/>
                  </a:lnTo>
                  <a:lnTo>
                    <a:pt x="1099" y="733"/>
                  </a:lnTo>
                  <a:lnTo>
                    <a:pt x="1102" y="735"/>
                  </a:lnTo>
                  <a:lnTo>
                    <a:pt x="1106" y="735"/>
                  </a:lnTo>
                  <a:lnTo>
                    <a:pt x="1110" y="737"/>
                  </a:lnTo>
                  <a:lnTo>
                    <a:pt x="1112" y="737"/>
                  </a:lnTo>
                  <a:lnTo>
                    <a:pt x="1112" y="737"/>
                  </a:lnTo>
                  <a:lnTo>
                    <a:pt x="1114" y="737"/>
                  </a:lnTo>
                  <a:lnTo>
                    <a:pt x="1114" y="737"/>
                  </a:lnTo>
                  <a:lnTo>
                    <a:pt x="1116" y="739"/>
                  </a:lnTo>
                  <a:lnTo>
                    <a:pt x="1118" y="739"/>
                  </a:lnTo>
                  <a:lnTo>
                    <a:pt x="1118" y="739"/>
                  </a:lnTo>
                  <a:lnTo>
                    <a:pt x="1120" y="739"/>
                  </a:lnTo>
                  <a:lnTo>
                    <a:pt x="1120" y="739"/>
                  </a:lnTo>
                  <a:lnTo>
                    <a:pt x="1122" y="739"/>
                  </a:lnTo>
                  <a:lnTo>
                    <a:pt x="1122" y="741"/>
                  </a:lnTo>
                  <a:lnTo>
                    <a:pt x="1122" y="741"/>
                  </a:lnTo>
                  <a:lnTo>
                    <a:pt x="1124" y="741"/>
                  </a:lnTo>
                  <a:lnTo>
                    <a:pt x="1124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1"/>
                  </a:lnTo>
                  <a:lnTo>
                    <a:pt x="1126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3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5"/>
                  </a:lnTo>
                  <a:lnTo>
                    <a:pt x="1127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7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49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29" y="751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3"/>
                  </a:lnTo>
                  <a:lnTo>
                    <a:pt x="1131" y="755"/>
                  </a:lnTo>
                  <a:lnTo>
                    <a:pt x="1131" y="755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7"/>
                  </a:lnTo>
                  <a:lnTo>
                    <a:pt x="1131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58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0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9" y="762"/>
                  </a:lnTo>
                  <a:lnTo>
                    <a:pt x="1124" y="764"/>
                  </a:lnTo>
                  <a:lnTo>
                    <a:pt x="301" y="7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9640" y="5626080"/>
              <a:ext cx="1379520" cy="925560"/>
            </a:xfrm>
            <a:custGeom>
              <a:avLst/>
              <a:gdLst/>
              <a:ahLst/>
              <a:rect l="l" t="t" r="r" b="b"/>
              <a:pathLst>
                <a:path w="1103" h="742">
                  <a:moveTo>
                    <a:pt x="292" y="742"/>
                  </a:move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2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2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90" y="740"/>
                  </a:lnTo>
                  <a:lnTo>
                    <a:pt x="288" y="740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8" y="738"/>
                  </a:lnTo>
                  <a:lnTo>
                    <a:pt x="286" y="736"/>
                  </a:lnTo>
                  <a:lnTo>
                    <a:pt x="286" y="736"/>
                  </a:lnTo>
                  <a:lnTo>
                    <a:pt x="286" y="734"/>
                  </a:lnTo>
                  <a:lnTo>
                    <a:pt x="286" y="734"/>
                  </a:lnTo>
                  <a:lnTo>
                    <a:pt x="284" y="734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4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30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8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3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6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4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81" y="722"/>
                  </a:lnTo>
                  <a:lnTo>
                    <a:pt x="279" y="722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20"/>
                  </a:lnTo>
                  <a:lnTo>
                    <a:pt x="279" y="719"/>
                  </a:lnTo>
                  <a:lnTo>
                    <a:pt x="279" y="719"/>
                  </a:lnTo>
                  <a:lnTo>
                    <a:pt x="279" y="717"/>
                  </a:lnTo>
                  <a:lnTo>
                    <a:pt x="277" y="717"/>
                  </a:lnTo>
                  <a:lnTo>
                    <a:pt x="277" y="717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5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7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3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11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9"/>
                  </a:lnTo>
                  <a:lnTo>
                    <a:pt x="275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7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5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3" y="703"/>
                  </a:lnTo>
                  <a:lnTo>
                    <a:pt x="271" y="703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701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9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71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7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6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4"/>
                  </a:lnTo>
                  <a:lnTo>
                    <a:pt x="269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2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90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7" y="688"/>
                  </a:lnTo>
                  <a:lnTo>
                    <a:pt x="265" y="688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6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4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5" y="682"/>
                  </a:lnTo>
                  <a:lnTo>
                    <a:pt x="263" y="682"/>
                  </a:lnTo>
                  <a:lnTo>
                    <a:pt x="263" y="682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80"/>
                  </a:lnTo>
                  <a:lnTo>
                    <a:pt x="263" y="678"/>
                  </a:lnTo>
                  <a:lnTo>
                    <a:pt x="261" y="676"/>
                  </a:lnTo>
                  <a:lnTo>
                    <a:pt x="261" y="674"/>
                  </a:lnTo>
                  <a:lnTo>
                    <a:pt x="261" y="674"/>
                  </a:lnTo>
                  <a:lnTo>
                    <a:pt x="260" y="672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71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60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9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7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8" y="665"/>
                  </a:lnTo>
                  <a:lnTo>
                    <a:pt x="256" y="665"/>
                  </a:lnTo>
                  <a:lnTo>
                    <a:pt x="256" y="665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3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61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6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9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7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4" y="655"/>
                  </a:lnTo>
                  <a:lnTo>
                    <a:pt x="252" y="655"/>
                  </a:lnTo>
                  <a:lnTo>
                    <a:pt x="252" y="655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3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51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2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9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7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6"/>
                  </a:lnTo>
                  <a:lnTo>
                    <a:pt x="250" y="644"/>
                  </a:lnTo>
                  <a:lnTo>
                    <a:pt x="248" y="644"/>
                  </a:lnTo>
                  <a:lnTo>
                    <a:pt x="248" y="642"/>
                  </a:lnTo>
                  <a:lnTo>
                    <a:pt x="248" y="642"/>
                  </a:lnTo>
                  <a:lnTo>
                    <a:pt x="248" y="640"/>
                  </a:lnTo>
                  <a:lnTo>
                    <a:pt x="248" y="640"/>
                  </a:lnTo>
                  <a:lnTo>
                    <a:pt x="246" y="638"/>
                  </a:lnTo>
                  <a:lnTo>
                    <a:pt x="246" y="638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6"/>
                  </a:lnTo>
                  <a:lnTo>
                    <a:pt x="246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4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2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4" y="630"/>
                  </a:lnTo>
                  <a:lnTo>
                    <a:pt x="242" y="630"/>
                  </a:lnTo>
                  <a:lnTo>
                    <a:pt x="242" y="630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8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6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2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4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3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21"/>
                  </a:lnTo>
                  <a:lnTo>
                    <a:pt x="240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9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7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8" y="615"/>
                  </a:lnTo>
                  <a:lnTo>
                    <a:pt x="236" y="615"/>
                  </a:lnTo>
                  <a:lnTo>
                    <a:pt x="236" y="615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3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11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6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9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7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5"/>
                  </a:lnTo>
                  <a:lnTo>
                    <a:pt x="235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3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601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3" y="599"/>
                  </a:lnTo>
                  <a:lnTo>
                    <a:pt x="231" y="599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8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6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31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4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2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90"/>
                  </a:lnTo>
                  <a:lnTo>
                    <a:pt x="229" y="588"/>
                  </a:lnTo>
                  <a:lnTo>
                    <a:pt x="229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8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6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7" y="584"/>
                  </a:lnTo>
                  <a:lnTo>
                    <a:pt x="225" y="584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2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80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5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8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6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4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3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3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71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21" y="569"/>
                  </a:lnTo>
                  <a:lnTo>
                    <a:pt x="219" y="569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7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5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9" y="563"/>
                  </a:lnTo>
                  <a:lnTo>
                    <a:pt x="217" y="563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61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9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7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5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5" y="553"/>
                  </a:lnTo>
                  <a:lnTo>
                    <a:pt x="213" y="553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1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50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3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8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6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4"/>
                  </a:lnTo>
                  <a:lnTo>
                    <a:pt x="211" y="542"/>
                  </a:lnTo>
                  <a:lnTo>
                    <a:pt x="211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2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40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10" y="538"/>
                  </a:lnTo>
                  <a:lnTo>
                    <a:pt x="208" y="538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6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4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2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30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06" y="526"/>
                  </a:lnTo>
                  <a:lnTo>
                    <a:pt x="204" y="526"/>
                  </a:lnTo>
                  <a:lnTo>
                    <a:pt x="204" y="526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5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4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3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21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9"/>
                  </a:lnTo>
                  <a:lnTo>
                    <a:pt x="202" y="517"/>
                  </a:lnTo>
                  <a:lnTo>
                    <a:pt x="202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5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200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3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11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8" y="507"/>
                  </a:lnTo>
                  <a:lnTo>
                    <a:pt x="198" y="507"/>
                  </a:lnTo>
                  <a:lnTo>
                    <a:pt x="196" y="507"/>
                  </a:lnTo>
                  <a:lnTo>
                    <a:pt x="196" y="507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5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6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3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1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500"/>
                  </a:lnTo>
                  <a:lnTo>
                    <a:pt x="194" y="498"/>
                  </a:lnTo>
                  <a:lnTo>
                    <a:pt x="194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8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6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2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4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2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90" y="490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8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4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2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86" y="478"/>
                  </a:lnTo>
                  <a:lnTo>
                    <a:pt x="186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8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7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5" y="475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3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71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3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9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7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81" y="465"/>
                  </a:lnTo>
                  <a:lnTo>
                    <a:pt x="179" y="465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3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61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9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9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7"/>
                  </a:lnTo>
                  <a:lnTo>
                    <a:pt x="177" y="455"/>
                  </a:lnTo>
                  <a:lnTo>
                    <a:pt x="177" y="455"/>
                  </a:lnTo>
                  <a:lnTo>
                    <a:pt x="175" y="455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3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2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5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50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8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6"/>
                  </a:lnTo>
                  <a:lnTo>
                    <a:pt x="173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4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2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71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40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8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6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9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4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2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7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30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8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7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5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3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3" y="421"/>
                  </a:lnTo>
                  <a:lnTo>
                    <a:pt x="162" y="421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9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7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2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5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3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60" y="411"/>
                  </a:lnTo>
                  <a:lnTo>
                    <a:pt x="158" y="411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9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7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8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5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4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2"/>
                  </a:lnTo>
                  <a:lnTo>
                    <a:pt x="156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400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8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4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6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4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2"/>
                  </a:lnTo>
                  <a:lnTo>
                    <a:pt x="152" y="390"/>
                  </a:lnTo>
                  <a:lnTo>
                    <a:pt x="150" y="390"/>
                  </a:lnTo>
                  <a:lnTo>
                    <a:pt x="150" y="390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8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50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6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2"/>
                  </a:lnTo>
                  <a:lnTo>
                    <a:pt x="148" y="380"/>
                  </a:lnTo>
                  <a:lnTo>
                    <a:pt x="148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80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9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6" y="377"/>
                  </a:lnTo>
                  <a:lnTo>
                    <a:pt x="144" y="375"/>
                  </a:lnTo>
                  <a:lnTo>
                    <a:pt x="144" y="373"/>
                  </a:lnTo>
                  <a:lnTo>
                    <a:pt x="144" y="373"/>
                  </a:lnTo>
                  <a:lnTo>
                    <a:pt x="142" y="371"/>
                  </a:lnTo>
                  <a:lnTo>
                    <a:pt x="142" y="369"/>
                  </a:lnTo>
                  <a:lnTo>
                    <a:pt x="142" y="369"/>
                  </a:lnTo>
                  <a:lnTo>
                    <a:pt x="142" y="367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5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3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61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9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8" y="357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6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4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7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2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50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8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5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6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4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2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8"/>
                  </a:lnTo>
                  <a:lnTo>
                    <a:pt x="131" y="336"/>
                  </a:lnTo>
                  <a:lnTo>
                    <a:pt x="131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4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9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2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31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9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7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7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5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5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3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21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9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3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7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5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21" y="313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11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9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7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6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4"/>
                  </a:lnTo>
                  <a:lnTo>
                    <a:pt x="117" y="302"/>
                  </a:lnTo>
                  <a:lnTo>
                    <a:pt x="115" y="302"/>
                  </a:lnTo>
                  <a:lnTo>
                    <a:pt x="115" y="302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5" y="300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8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6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3" y="294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2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90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6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10" y="284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3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81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8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9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7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5"/>
                  </a:lnTo>
                  <a:lnTo>
                    <a:pt x="106" y="273"/>
                  </a:lnTo>
                  <a:lnTo>
                    <a:pt x="106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3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71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9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7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5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2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3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100" y="259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6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8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4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6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4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2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2" y="240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90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4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3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31"/>
                  </a:lnTo>
                  <a:lnTo>
                    <a:pt x="89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7" y="229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7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7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5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3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5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9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7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3" y="215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8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6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2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7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200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8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6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5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4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2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3" y="190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71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5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3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81"/>
                  </a:lnTo>
                  <a:lnTo>
                    <a:pt x="69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9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7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9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7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5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1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60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4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8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6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7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5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3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9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7"/>
                  </a:lnTo>
                  <a:lnTo>
                    <a:pt x="48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5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21"/>
                  </a:lnTo>
                  <a:lnTo>
                    <a:pt x="46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4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6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4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2"/>
                  </a:lnTo>
                  <a:lnTo>
                    <a:pt x="39" y="100"/>
                  </a:lnTo>
                  <a:lnTo>
                    <a:pt x="39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37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5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4" y="0"/>
                  </a:lnTo>
                  <a:lnTo>
                    <a:pt x="125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9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0" y="2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1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5" y="6"/>
                  </a:lnTo>
                  <a:lnTo>
                    <a:pt x="267" y="6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7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71" y="10"/>
                  </a:lnTo>
                  <a:lnTo>
                    <a:pt x="273" y="12"/>
                  </a:lnTo>
                  <a:lnTo>
                    <a:pt x="275" y="14"/>
                  </a:lnTo>
                  <a:lnTo>
                    <a:pt x="277" y="15"/>
                  </a:lnTo>
                  <a:lnTo>
                    <a:pt x="279" y="17"/>
                  </a:lnTo>
                  <a:lnTo>
                    <a:pt x="279" y="19"/>
                  </a:lnTo>
                  <a:lnTo>
                    <a:pt x="281" y="19"/>
                  </a:lnTo>
                  <a:lnTo>
                    <a:pt x="283" y="21"/>
                  </a:lnTo>
                  <a:lnTo>
                    <a:pt x="283" y="21"/>
                  </a:lnTo>
                  <a:lnTo>
                    <a:pt x="283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86" y="25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88" y="27"/>
                  </a:lnTo>
                  <a:lnTo>
                    <a:pt x="288" y="29"/>
                  </a:lnTo>
                  <a:lnTo>
                    <a:pt x="288" y="29"/>
                  </a:lnTo>
                  <a:lnTo>
                    <a:pt x="290" y="29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0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1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2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3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4" y="35"/>
                  </a:lnTo>
                  <a:lnTo>
                    <a:pt x="296" y="35"/>
                  </a:lnTo>
                  <a:lnTo>
                    <a:pt x="296" y="37"/>
                  </a:lnTo>
                  <a:lnTo>
                    <a:pt x="298" y="37"/>
                  </a:lnTo>
                  <a:lnTo>
                    <a:pt x="298" y="39"/>
                  </a:lnTo>
                  <a:lnTo>
                    <a:pt x="300" y="39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8" y="48"/>
                  </a:lnTo>
                  <a:lnTo>
                    <a:pt x="309" y="50"/>
                  </a:lnTo>
                  <a:lnTo>
                    <a:pt x="311" y="52"/>
                  </a:lnTo>
                  <a:lnTo>
                    <a:pt x="313" y="54"/>
                  </a:lnTo>
                  <a:lnTo>
                    <a:pt x="315" y="56"/>
                  </a:lnTo>
                  <a:lnTo>
                    <a:pt x="317" y="58"/>
                  </a:lnTo>
                  <a:lnTo>
                    <a:pt x="319" y="60"/>
                  </a:lnTo>
                  <a:lnTo>
                    <a:pt x="319" y="62"/>
                  </a:lnTo>
                  <a:lnTo>
                    <a:pt x="319" y="62"/>
                  </a:lnTo>
                  <a:lnTo>
                    <a:pt x="321" y="62"/>
                  </a:lnTo>
                  <a:lnTo>
                    <a:pt x="321" y="62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1" y="64"/>
                  </a:lnTo>
                  <a:lnTo>
                    <a:pt x="323" y="64"/>
                  </a:lnTo>
                  <a:lnTo>
                    <a:pt x="323" y="65"/>
                  </a:lnTo>
                  <a:lnTo>
                    <a:pt x="325" y="65"/>
                  </a:lnTo>
                  <a:lnTo>
                    <a:pt x="325" y="67"/>
                  </a:lnTo>
                  <a:lnTo>
                    <a:pt x="325" y="67"/>
                  </a:lnTo>
                  <a:lnTo>
                    <a:pt x="327" y="67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29" y="71"/>
                  </a:lnTo>
                  <a:lnTo>
                    <a:pt x="331" y="71"/>
                  </a:lnTo>
                  <a:lnTo>
                    <a:pt x="331" y="71"/>
                  </a:lnTo>
                  <a:lnTo>
                    <a:pt x="331" y="73"/>
                  </a:lnTo>
                  <a:lnTo>
                    <a:pt x="331" y="73"/>
                  </a:lnTo>
                  <a:lnTo>
                    <a:pt x="333" y="75"/>
                  </a:lnTo>
                  <a:lnTo>
                    <a:pt x="333" y="75"/>
                  </a:lnTo>
                  <a:lnTo>
                    <a:pt x="334" y="77"/>
                  </a:lnTo>
                  <a:lnTo>
                    <a:pt x="336" y="79"/>
                  </a:lnTo>
                  <a:lnTo>
                    <a:pt x="336" y="79"/>
                  </a:lnTo>
                  <a:lnTo>
                    <a:pt x="338" y="81"/>
                  </a:lnTo>
                  <a:lnTo>
                    <a:pt x="338" y="81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4" y="87"/>
                  </a:lnTo>
                  <a:lnTo>
                    <a:pt x="346" y="88"/>
                  </a:lnTo>
                  <a:lnTo>
                    <a:pt x="346" y="90"/>
                  </a:lnTo>
                  <a:lnTo>
                    <a:pt x="348" y="92"/>
                  </a:lnTo>
                  <a:lnTo>
                    <a:pt x="350" y="92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4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2" y="96"/>
                  </a:lnTo>
                  <a:lnTo>
                    <a:pt x="354" y="96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6" y="100"/>
                  </a:lnTo>
                  <a:lnTo>
                    <a:pt x="357" y="100"/>
                  </a:lnTo>
                  <a:lnTo>
                    <a:pt x="357" y="102"/>
                  </a:lnTo>
                  <a:lnTo>
                    <a:pt x="359" y="102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59" y="104"/>
                  </a:lnTo>
                  <a:lnTo>
                    <a:pt x="361" y="104"/>
                  </a:lnTo>
                  <a:lnTo>
                    <a:pt x="361" y="104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1" y="106"/>
                  </a:lnTo>
                  <a:lnTo>
                    <a:pt x="363" y="106"/>
                  </a:lnTo>
                  <a:lnTo>
                    <a:pt x="363" y="108"/>
                  </a:lnTo>
                  <a:lnTo>
                    <a:pt x="363" y="108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5" y="110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7" y="112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3"/>
                  </a:lnTo>
                  <a:lnTo>
                    <a:pt x="369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5"/>
                  </a:lnTo>
                  <a:lnTo>
                    <a:pt x="371" y="117"/>
                  </a:lnTo>
                  <a:lnTo>
                    <a:pt x="373" y="117"/>
                  </a:lnTo>
                  <a:lnTo>
                    <a:pt x="373" y="117"/>
                  </a:lnTo>
                  <a:lnTo>
                    <a:pt x="373" y="119"/>
                  </a:lnTo>
                  <a:lnTo>
                    <a:pt x="375" y="119"/>
                  </a:lnTo>
                  <a:lnTo>
                    <a:pt x="375" y="119"/>
                  </a:lnTo>
                  <a:lnTo>
                    <a:pt x="375" y="121"/>
                  </a:lnTo>
                  <a:lnTo>
                    <a:pt x="377" y="121"/>
                  </a:lnTo>
                  <a:lnTo>
                    <a:pt x="379" y="123"/>
                  </a:lnTo>
                  <a:lnTo>
                    <a:pt x="379" y="125"/>
                  </a:lnTo>
                  <a:lnTo>
                    <a:pt x="381" y="127"/>
                  </a:lnTo>
                  <a:lnTo>
                    <a:pt x="382" y="127"/>
                  </a:lnTo>
                  <a:lnTo>
                    <a:pt x="382" y="129"/>
                  </a:lnTo>
                  <a:lnTo>
                    <a:pt x="384" y="131"/>
                  </a:lnTo>
                  <a:lnTo>
                    <a:pt x="386" y="131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8" y="133"/>
                  </a:lnTo>
                  <a:lnTo>
                    <a:pt x="388" y="133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88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5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0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7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2" y="138"/>
                  </a:lnTo>
                  <a:lnTo>
                    <a:pt x="394" y="138"/>
                  </a:lnTo>
                  <a:lnTo>
                    <a:pt x="394" y="140"/>
                  </a:lnTo>
                  <a:lnTo>
                    <a:pt x="394" y="140"/>
                  </a:lnTo>
                  <a:lnTo>
                    <a:pt x="396" y="140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98" y="142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398" y="144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6"/>
                  </a:lnTo>
                  <a:lnTo>
                    <a:pt x="400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48"/>
                  </a:lnTo>
                  <a:lnTo>
                    <a:pt x="402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0"/>
                  </a:lnTo>
                  <a:lnTo>
                    <a:pt x="404" y="152"/>
                  </a:lnTo>
                  <a:lnTo>
                    <a:pt x="406" y="152"/>
                  </a:lnTo>
                  <a:lnTo>
                    <a:pt x="406" y="152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7" y="154"/>
                  </a:lnTo>
                  <a:lnTo>
                    <a:pt x="409" y="156"/>
                  </a:lnTo>
                  <a:lnTo>
                    <a:pt x="409" y="156"/>
                  </a:lnTo>
                  <a:lnTo>
                    <a:pt x="409" y="158"/>
                  </a:lnTo>
                  <a:lnTo>
                    <a:pt x="411" y="158"/>
                  </a:lnTo>
                  <a:lnTo>
                    <a:pt x="411" y="158"/>
                  </a:lnTo>
                  <a:lnTo>
                    <a:pt x="411" y="160"/>
                  </a:lnTo>
                  <a:lnTo>
                    <a:pt x="413" y="160"/>
                  </a:lnTo>
                  <a:lnTo>
                    <a:pt x="413" y="161"/>
                  </a:lnTo>
                  <a:lnTo>
                    <a:pt x="415" y="161"/>
                  </a:lnTo>
                  <a:lnTo>
                    <a:pt x="415" y="161"/>
                  </a:lnTo>
                  <a:lnTo>
                    <a:pt x="415" y="163"/>
                  </a:lnTo>
                  <a:lnTo>
                    <a:pt x="417" y="163"/>
                  </a:lnTo>
                  <a:lnTo>
                    <a:pt x="417" y="163"/>
                  </a:lnTo>
                  <a:lnTo>
                    <a:pt x="417" y="165"/>
                  </a:lnTo>
                  <a:lnTo>
                    <a:pt x="419" y="165"/>
                  </a:lnTo>
                  <a:lnTo>
                    <a:pt x="419" y="165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19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7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1" y="169"/>
                  </a:lnTo>
                  <a:lnTo>
                    <a:pt x="423" y="171"/>
                  </a:lnTo>
                  <a:lnTo>
                    <a:pt x="425" y="171"/>
                  </a:lnTo>
                  <a:lnTo>
                    <a:pt x="425" y="173"/>
                  </a:lnTo>
                  <a:lnTo>
                    <a:pt x="427" y="175"/>
                  </a:lnTo>
                  <a:lnTo>
                    <a:pt x="427" y="175"/>
                  </a:lnTo>
                  <a:lnTo>
                    <a:pt x="429" y="177"/>
                  </a:lnTo>
                  <a:lnTo>
                    <a:pt x="430" y="177"/>
                  </a:lnTo>
                  <a:lnTo>
                    <a:pt x="430" y="177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0" y="179"/>
                  </a:lnTo>
                  <a:lnTo>
                    <a:pt x="432" y="179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1"/>
                  </a:lnTo>
                  <a:lnTo>
                    <a:pt x="432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4" y="183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6" y="185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38" y="186"/>
                  </a:lnTo>
                  <a:lnTo>
                    <a:pt x="440" y="188"/>
                  </a:lnTo>
                  <a:lnTo>
                    <a:pt x="440" y="188"/>
                  </a:lnTo>
                  <a:lnTo>
                    <a:pt x="440" y="190"/>
                  </a:lnTo>
                  <a:lnTo>
                    <a:pt x="442" y="190"/>
                  </a:lnTo>
                  <a:lnTo>
                    <a:pt x="442" y="190"/>
                  </a:lnTo>
                  <a:lnTo>
                    <a:pt x="442" y="192"/>
                  </a:lnTo>
                  <a:lnTo>
                    <a:pt x="444" y="192"/>
                  </a:lnTo>
                  <a:lnTo>
                    <a:pt x="444" y="194"/>
                  </a:lnTo>
                  <a:lnTo>
                    <a:pt x="446" y="194"/>
                  </a:lnTo>
                  <a:lnTo>
                    <a:pt x="446" y="194"/>
                  </a:lnTo>
                  <a:lnTo>
                    <a:pt x="446" y="196"/>
                  </a:lnTo>
                  <a:lnTo>
                    <a:pt x="448" y="196"/>
                  </a:lnTo>
                  <a:lnTo>
                    <a:pt x="448" y="196"/>
                  </a:lnTo>
                  <a:lnTo>
                    <a:pt x="448" y="198"/>
                  </a:lnTo>
                  <a:lnTo>
                    <a:pt x="450" y="198"/>
                  </a:lnTo>
                  <a:lnTo>
                    <a:pt x="450" y="198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0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0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2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2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4" y="204"/>
                  </a:lnTo>
                  <a:lnTo>
                    <a:pt x="455" y="204"/>
                  </a:lnTo>
                  <a:lnTo>
                    <a:pt x="455" y="206"/>
                  </a:lnTo>
                  <a:lnTo>
                    <a:pt x="455" y="206"/>
                  </a:lnTo>
                  <a:lnTo>
                    <a:pt x="457" y="206"/>
                  </a:lnTo>
                  <a:lnTo>
                    <a:pt x="457" y="208"/>
                  </a:lnTo>
                  <a:lnTo>
                    <a:pt x="457" y="208"/>
                  </a:lnTo>
                  <a:lnTo>
                    <a:pt x="459" y="208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59" y="210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1"/>
                  </a:lnTo>
                  <a:lnTo>
                    <a:pt x="461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3" y="213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5" y="215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7" y="217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19"/>
                  </a:lnTo>
                  <a:lnTo>
                    <a:pt x="469" y="221"/>
                  </a:lnTo>
                  <a:lnTo>
                    <a:pt x="469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1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1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3"/>
                  </a:lnTo>
                  <a:lnTo>
                    <a:pt x="473" y="225"/>
                  </a:lnTo>
                  <a:lnTo>
                    <a:pt x="473" y="225"/>
                  </a:lnTo>
                  <a:lnTo>
                    <a:pt x="475" y="225"/>
                  </a:lnTo>
                  <a:lnTo>
                    <a:pt x="475" y="225"/>
                  </a:lnTo>
                  <a:lnTo>
                    <a:pt x="475" y="227"/>
                  </a:lnTo>
                  <a:lnTo>
                    <a:pt x="475" y="227"/>
                  </a:lnTo>
                  <a:lnTo>
                    <a:pt x="477" y="227"/>
                  </a:lnTo>
                  <a:lnTo>
                    <a:pt x="477" y="229"/>
                  </a:lnTo>
                  <a:lnTo>
                    <a:pt x="479" y="229"/>
                  </a:lnTo>
                  <a:lnTo>
                    <a:pt x="479" y="231"/>
                  </a:lnTo>
                  <a:lnTo>
                    <a:pt x="479" y="231"/>
                  </a:lnTo>
                  <a:lnTo>
                    <a:pt x="480" y="231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0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3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2" y="234"/>
                  </a:lnTo>
                  <a:lnTo>
                    <a:pt x="484" y="234"/>
                  </a:lnTo>
                  <a:lnTo>
                    <a:pt x="484" y="234"/>
                  </a:lnTo>
                  <a:lnTo>
                    <a:pt x="484" y="236"/>
                  </a:lnTo>
                  <a:lnTo>
                    <a:pt x="484" y="236"/>
                  </a:lnTo>
                  <a:lnTo>
                    <a:pt x="486" y="236"/>
                  </a:lnTo>
                  <a:lnTo>
                    <a:pt x="486" y="238"/>
                  </a:lnTo>
                  <a:lnTo>
                    <a:pt x="486" y="238"/>
                  </a:lnTo>
                  <a:lnTo>
                    <a:pt x="488" y="238"/>
                  </a:lnTo>
                  <a:lnTo>
                    <a:pt x="488" y="240"/>
                  </a:lnTo>
                  <a:lnTo>
                    <a:pt x="488" y="240"/>
                  </a:lnTo>
                  <a:lnTo>
                    <a:pt x="490" y="240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2"/>
                  </a:lnTo>
                  <a:lnTo>
                    <a:pt x="490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4"/>
                  </a:lnTo>
                  <a:lnTo>
                    <a:pt x="492" y="246"/>
                  </a:lnTo>
                  <a:lnTo>
                    <a:pt x="492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6"/>
                  </a:lnTo>
                  <a:lnTo>
                    <a:pt x="494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50"/>
                  </a:lnTo>
                  <a:lnTo>
                    <a:pt x="498" y="250"/>
                  </a:lnTo>
                  <a:lnTo>
                    <a:pt x="498" y="250"/>
                  </a:lnTo>
                  <a:lnTo>
                    <a:pt x="498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2"/>
                  </a:lnTo>
                  <a:lnTo>
                    <a:pt x="500" y="254"/>
                  </a:lnTo>
                  <a:lnTo>
                    <a:pt x="500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4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2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6"/>
                  </a:lnTo>
                  <a:lnTo>
                    <a:pt x="504" y="258"/>
                  </a:lnTo>
                  <a:lnTo>
                    <a:pt x="504" y="258"/>
                  </a:lnTo>
                  <a:lnTo>
                    <a:pt x="505" y="258"/>
                  </a:lnTo>
                  <a:lnTo>
                    <a:pt x="505" y="258"/>
                  </a:lnTo>
                  <a:lnTo>
                    <a:pt x="505" y="259"/>
                  </a:lnTo>
                  <a:lnTo>
                    <a:pt x="505" y="259"/>
                  </a:lnTo>
                  <a:lnTo>
                    <a:pt x="507" y="259"/>
                  </a:lnTo>
                  <a:lnTo>
                    <a:pt x="507" y="261"/>
                  </a:lnTo>
                  <a:lnTo>
                    <a:pt x="507" y="261"/>
                  </a:lnTo>
                  <a:lnTo>
                    <a:pt x="509" y="261"/>
                  </a:lnTo>
                  <a:lnTo>
                    <a:pt x="509" y="263"/>
                  </a:lnTo>
                  <a:lnTo>
                    <a:pt x="509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3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1" y="265"/>
                  </a:lnTo>
                  <a:lnTo>
                    <a:pt x="513" y="265"/>
                  </a:lnTo>
                  <a:lnTo>
                    <a:pt x="513" y="267"/>
                  </a:lnTo>
                  <a:lnTo>
                    <a:pt x="515" y="269"/>
                  </a:lnTo>
                  <a:lnTo>
                    <a:pt x="517" y="269"/>
                  </a:lnTo>
                  <a:lnTo>
                    <a:pt x="517" y="271"/>
                  </a:lnTo>
                  <a:lnTo>
                    <a:pt x="519" y="273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1" y="275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7"/>
                  </a:lnTo>
                  <a:lnTo>
                    <a:pt x="523" y="279"/>
                  </a:lnTo>
                  <a:lnTo>
                    <a:pt x="525" y="279"/>
                  </a:lnTo>
                  <a:lnTo>
                    <a:pt x="527" y="281"/>
                  </a:lnTo>
                  <a:lnTo>
                    <a:pt x="527" y="281"/>
                  </a:lnTo>
                  <a:lnTo>
                    <a:pt x="528" y="283"/>
                  </a:lnTo>
                  <a:lnTo>
                    <a:pt x="528" y="283"/>
                  </a:lnTo>
                  <a:lnTo>
                    <a:pt x="530" y="284"/>
                  </a:lnTo>
                  <a:lnTo>
                    <a:pt x="530" y="286"/>
                  </a:lnTo>
                  <a:lnTo>
                    <a:pt x="530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6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2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88"/>
                  </a:lnTo>
                  <a:lnTo>
                    <a:pt x="534" y="290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6" y="290"/>
                  </a:lnTo>
                  <a:lnTo>
                    <a:pt x="536" y="292"/>
                  </a:lnTo>
                  <a:lnTo>
                    <a:pt x="536" y="292"/>
                  </a:lnTo>
                  <a:lnTo>
                    <a:pt x="538" y="292"/>
                  </a:lnTo>
                  <a:lnTo>
                    <a:pt x="538" y="294"/>
                  </a:lnTo>
                  <a:lnTo>
                    <a:pt x="538" y="294"/>
                  </a:lnTo>
                  <a:lnTo>
                    <a:pt x="540" y="294"/>
                  </a:lnTo>
                  <a:lnTo>
                    <a:pt x="540" y="296"/>
                  </a:lnTo>
                  <a:lnTo>
                    <a:pt x="540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6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2" y="298"/>
                  </a:lnTo>
                  <a:lnTo>
                    <a:pt x="544" y="300"/>
                  </a:lnTo>
                  <a:lnTo>
                    <a:pt x="544" y="300"/>
                  </a:lnTo>
                  <a:lnTo>
                    <a:pt x="546" y="302"/>
                  </a:lnTo>
                  <a:lnTo>
                    <a:pt x="548" y="304"/>
                  </a:lnTo>
                  <a:lnTo>
                    <a:pt x="550" y="306"/>
                  </a:lnTo>
                  <a:lnTo>
                    <a:pt x="550" y="306"/>
                  </a:lnTo>
                  <a:lnTo>
                    <a:pt x="552" y="307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09"/>
                  </a:lnTo>
                  <a:lnTo>
                    <a:pt x="553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1"/>
                  </a:lnTo>
                  <a:lnTo>
                    <a:pt x="555" y="313"/>
                  </a:lnTo>
                  <a:lnTo>
                    <a:pt x="557" y="313"/>
                  </a:lnTo>
                  <a:lnTo>
                    <a:pt x="557" y="313"/>
                  </a:lnTo>
                  <a:lnTo>
                    <a:pt x="557" y="315"/>
                  </a:lnTo>
                  <a:lnTo>
                    <a:pt x="559" y="315"/>
                  </a:lnTo>
                  <a:lnTo>
                    <a:pt x="559" y="315"/>
                  </a:lnTo>
                  <a:lnTo>
                    <a:pt x="559" y="317"/>
                  </a:lnTo>
                  <a:lnTo>
                    <a:pt x="561" y="317"/>
                  </a:lnTo>
                  <a:lnTo>
                    <a:pt x="561" y="317"/>
                  </a:lnTo>
                  <a:lnTo>
                    <a:pt x="561" y="319"/>
                  </a:lnTo>
                  <a:lnTo>
                    <a:pt x="563" y="319"/>
                  </a:lnTo>
                  <a:lnTo>
                    <a:pt x="563" y="319"/>
                  </a:lnTo>
                  <a:lnTo>
                    <a:pt x="563" y="321"/>
                  </a:lnTo>
                  <a:lnTo>
                    <a:pt x="563" y="321"/>
                  </a:lnTo>
                  <a:lnTo>
                    <a:pt x="565" y="321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5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3"/>
                  </a:lnTo>
                  <a:lnTo>
                    <a:pt x="567" y="325"/>
                  </a:lnTo>
                  <a:lnTo>
                    <a:pt x="569" y="325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571" y="327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1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29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3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1"/>
                  </a:lnTo>
                  <a:lnTo>
                    <a:pt x="575" y="332"/>
                  </a:lnTo>
                  <a:lnTo>
                    <a:pt x="577" y="334"/>
                  </a:lnTo>
                  <a:lnTo>
                    <a:pt x="577" y="334"/>
                  </a:lnTo>
                  <a:lnTo>
                    <a:pt x="578" y="336"/>
                  </a:lnTo>
                  <a:lnTo>
                    <a:pt x="578" y="336"/>
                  </a:lnTo>
                  <a:lnTo>
                    <a:pt x="580" y="338"/>
                  </a:lnTo>
                  <a:lnTo>
                    <a:pt x="580" y="338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2" y="340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2"/>
                  </a:lnTo>
                  <a:lnTo>
                    <a:pt x="584" y="344"/>
                  </a:lnTo>
                  <a:lnTo>
                    <a:pt x="584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4"/>
                  </a:lnTo>
                  <a:lnTo>
                    <a:pt x="586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6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88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48"/>
                  </a:lnTo>
                  <a:lnTo>
                    <a:pt x="590" y="350"/>
                  </a:lnTo>
                  <a:lnTo>
                    <a:pt x="590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0"/>
                  </a:lnTo>
                  <a:lnTo>
                    <a:pt x="592" y="352"/>
                  </a:lnTo>
                  <a:lnTo>
                    <a:pt x="592" y="352"/>
                  </a:lnTo>
                  <a:lnTo>
                    <a:pt x="594" y="354"/>
                  </a:lnTo>
                  <a:lnTo>
                    <a:pt x="594" y="354"/>
                  </a:lnTo>
                  <a:lnTo>
                    <a:pt x="596" y="354"/>
                  </a:lnTo>
                  <a:lnTo>
                    <a:pt x="596" y="356"/>
                  </a:lnTo>
                  <a:lnTo>
                    <a:pt x="598" y="356"/>
                  </a:lnTo>
                  <a:lnTo>
                    <a:pt x="598" y="357"/>
                  </a:lnTo>
                  <a:lnTo>
                    <a:pt x="598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7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1" y="361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3" y="363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5"/>
                  </a:lnTo>
                  <a:lnTo>
                    <a:pt x="605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7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09" y="369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11" y="373"/>
                  </a:lnTo>
                  <a:lnTo>
                    <a:pt x="613" y="373"/>
                  </a:lnTo>
                  <a:lnTo>
                    <a:pt x="613" y="373"/>
                  </a:lnTo>
                  <a:lnTo>
                    <a:pt x="615" y="375"/>
                  </a:lnTo>
                  <a:lnTo>
                    <a:pt x="615" y="375"/>
                  </a:lnTo>
                  <a:lnTo>
                    <a:pt x="615" y="377"/>
                  </a:lnTo>
                  <a:lnTo>
                    <a:pt x="617" y="377"/>
                  </a:lnTo>
                  <a:lnTo>
                    <a:pt x="617" y="379"/>
                  </a:lnTo>
                  <a:lnTo>
                    <a:pt x="617" y="379"/>
                  </a:lnTo>
                  <a:lnTo>
                    <a:pt x="619" y="379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19" y="380"/>
                  </a:lnTo>
                  <a:lnTo>
                    <a:pt x="621" y="380"/>
                  </a:lnTo>
                  <a:lnTo>
                    <a:pt x="621" y="380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1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2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3" y="384"/>
                  </a:lnTo>
                  <a:lnTo>
                    <a:pt x="625" y="384"/>
                  </a:lnTo>
                  <a:lnTo>
                    <a:pt x="625" y="384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5" y="386"/>
                  </a:lnTo>
                  <a:lnTo>
                    <a:pt x="626" y="386"/>
                  </a:lnTo>
                  <a:lnTo>
                    <a:pt x="626" y="386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6" y="388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28" y="390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0" y="392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4"/>
                  </a:lnTo>
                  <a:lnTo>
                    <a:pt x="632" y="396"/>
                  </a:lnTo>
                  <a:lnTo>
                    <a:pt x="634" y="396"/>
                  </a:lnTo>
                  <a:lnTo>
                    <a:pt x="634" y="396"/>
                  </a:lnTo>
                  <a:lnTo>
                    <a:pt x="634" y="398"/>
                  </a:lnTo>
                  <a:lnTo>
                    <a:pt x="636" y="398"/>
                  </a:lnTo>
                  <a:lnTo>
                    <a:pt x="636" y="398"/>
                  </a:lnTo>
                  <a:lnTo>
                    <a:pt x="636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0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38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2"/>
                  </a:lnTo>
                  <a:lnTo>
                    <a:pt x="640" y="404"/>
                  </a:lnTo>
                  <a:lnTo>
                    <a:pt x="640" y="404"/>
                  </a:lnTo>
                  <a:lnTo>
                    <a:pt x="642" y="404"/>
                  </a:lnTo>
                  <a:lnTo>
                    <a:pt x="642" y="404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2" y="405"/>
                  </a:lnTo>
                  <a:lnTo>
                    <a:pt x="644" y="405"/>
                  </a:lnTo>
                  <a:lnTo>
                    <a:pt x="644" y="407"/>
                  </a:lnTo>
                  <a:lnTo>
                    <a:pt x="644" y="407"/>
                  </a:lnTo>
                  <a:lnTo>
                    <a:pt x="646" y="407"/>
                  </a:lnTo>
                  <a:lnTo>
                    <a:pt x="646" y="407"/>
                  </a:lnTo>
                  <a:lnTo>
                    <a:pt x="646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09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48" y="411"/>
                  </a:lnTo>
                  <a:lnTo>
                    <a:pt x="651" y="415"/>
                  </a:lnTo>
                  <a:lnTo>
                    <a:pt x="653" y="417"/>
                  </a:lnTo>
                  <a:lnTo>
                    <a:pt x="655" y="421"/>
                  </a:lnTo>
                  <a:lnTo>
                    <a:pt x="659" y="423"/>
                  </a:lnTo>
                  <a:lnTo>
                    <a:pt x="661" y="427"/>
                  </a:lnTo>
                  <a:lnTo>
                    <a:pt x="665" y="428"/>
                  </a:lnTo>
                  <a:lnTo>
                    <a:pt x="667" y="432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4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1" y="436"/>
                  </a:lnTo>
                  <a:lnTo>
                    <a:pt x="673" y="436"/>
                  </a:lnTo>
                  <a:lnTo>
                    <a:pt x="673" y="436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3" y="438"/>
                  </a:lnTo>
                  <a:lnTo>
                    <a:pt x="675" y="438"/>
                  </a:lnTo>
                  <a:lnTo>
                    <a:pt x="675" y="440"/>
                  </a:lnTo>
                  <a:lnTo>
                    <a:pt x="675" y="440"/>
                  </a:lnTo>
                  <a:lnTo>
                    <a:pt x="676" y="440"/>
                  </a:lnTo>
                  <a:lnTo>
                    <a:pt x="676" y="442"/>
                  </a:lnTo>
                  <a:lnTo>
                    <a:pt x="676" y="442"/>
                  </a:lnTo>
                  <a:lnTo>
                    <a:pt x="678" y="442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78" y="444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6"/>
                  </a:lnTo>
                  <a:lnTo>
                    <a:pt x="680" y="448"/>
                  </a:lnTo>
                  <a:lnTo>
                    <a:pt x="682" y="448"/>
                  </a:lnTo>
                  <a:lnTo>
                    <a:pt x="682" y="448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4" y="450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86" y="453"/>
                  </a:lnTo>
                  <a:lnTo>
                    <a:pt x="686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3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88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5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0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7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2" y="459"/>
                  </a:lnTo>
                  <a:lnTo>
                    <a:pt x="694" y="459"/>
                  </a:lnTo>
                  <a:lnTo>
                    <a:pt x="694" y="459"/>
                  </a:lnTo>
                  <a:lnTo>
                    <a:pt x="694" y="461"/>
                  </a:lnTo>
                  <a:lnTo>
                    <a:pt x="694" y="461"/>
                  </a:lnTo>
                  <a:lnTo>
                    <a:pt x="696" y="461"/>
                  </a:lnTo>
                  <a:lnTo>
                    <a:pt x="696" y="463"/>
                  </a:lnTo>
                  <a:lnTo>
                    <a:pt x="696" y="463"/>
                  </a:lnTo>
                  <a:lnTo>
                    <a:pt x="698" y="463"/>
                  </a:lnTo>
                  <a:lnTo>
                    <a:pt x="698" y="465"/>
                  </a:lnTo>
                  <a:lnTo>
                    <a:pt x="699" y="465"/>
                  </a:lnTo>
                  <a:lnTo>
                    <a:pt x="699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7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1" y="469"/>
                  </a:lnTo>
                  <a:lnTo>
                    <a:pt x="703" y="469"/>
                  </a:lnTo>
                  <a:lnTo>
                    <a:pt x="703" y="469"/>
                  </a:lnTo>
                  <a:lnTo>
                    <a:pt x="703" y="471"/>
                  </a:lnTo>
                  <a:lnTo>
                    <a:pt x="703" y="471"/>
                  </a:lnTo>
                  <a:lnTo>
                    <a:pt x="705" y="473"/>
                  </a:lnTo>
                  <a:lnTo>
                    <a:pt x="707" y="475"/>
                  </a:lnTo>
                  <a:lnTo>
                    <a:pt x="711" y="478"/>
                  </a:lnTo>
                  <a:lnTo>
                    <a:pt x="713" y="480"/>
                  </a:lnTo>
                  <a:lnTo>
                    <a:pt x="715" y="482"/>
                  </a:lnTo>
                  <a:lnTo>
                    <a:pt x="717" y="486"/>
                  </a:lnTo>
                  <a:lnTo>
                    <a:pt x="721" y="488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0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3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2"/>
                  </a:lnTo>
                  <a:lnTo>
                    <a:pt x="724" y="494"/>
                  </a:lnTo>
                  <a:lnTo>
                    <a:pt x="724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4"/>
                  </a:lnTo>
                  <a:lnTo>
                    <a:pt x="726" y="496"/>
                  </a:lnTo>
                  <a:lnTo>
                    <a:pt x="726" y="496"/>
                  </a:lnTo>
                  <a:lnTo>
                    <a:pt x="730" y="498"/>
                  </a:lnTo>
                  <a:lnTo>
                    <a:pt x="732" y="501"/>
                  </a:lnTo>
                  <a:lnTo>
                    <a:pt x="734" y="503"/>
                  </a:lnTo>
                  <a:lnTo>
                    <a:pt x="738" y="505"/>
                  </a:lnTo>
                  <a:lnTo>
                    <a:pt x="740" y="509"/>
                  </a:lnTo>
                  <a:lnTo>
                    <a:pt x="742" y="511"/>
                  </a:lnTo>
                  <a:lnTo>
                    <a:pt x="746" y="515"/>
                  </a:lnTo>
                  <a:lnTo>
                    <a:pt x="748" y="517"/>
                  </a:lnTo>
                  <a:lnTo>
                    <a:pt x="748" y="517"/>
                  </a:lnTo>
                  <a:lnTo>
                    <a:pt x="748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19"/>
                  </a:lnTo>
                  <a:lnTo>
                    <a:pt x="749" y="521"/>
                  </a:lnTo>
                  <a:lnTo>
                    <a:pt x="751" y="521"/>
                  </a:lnTo>
                  <a:lnTo>
                    <a:pt x="751" y="523"/>
                  </a:lnTo>
                  <a:lnTo>
                    <a:pt x="753" y="523"/>
                  </a:lnTo>
                  <a:lnTo>
                    <a:pt x="755" y="525"/>
                  </a:lnTo>
                  <a:lnTo>
                    <a:pt x="755" y="525"/>
                  </a:lnTo>
                  <a:lnTo>
                    <a:pt x="757" y="526"/>
                  </a:lnTo>
                  <a:lnTo>
                    <a:pt x="757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28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59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0"/>
                  </a:lnTo>
                  <a:lnTo>
                    <a:pt x="761" y="532"/>
                  </a:lnTo>
                  <a:lnTo>
                    <a:pt x="761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2"/>
                  </a:lnTo>
                  <a:lnTo>
                    <a:pt x="763" y="534"/>
                  </a:lnTo>
                  <a:lnTo>
                    <a:pt x="763" y="534"/>
                  </a:lnTo>
                  <a:lnTo>
                    <a:pt x="765" y="534"/>
                  </a:lnTo>
                  <a:lnTo>
                    <a:pt x="765" y="536"/>
                  </a:lnTo>
                  <a:lnTo>
                    <a:pt x="767" y="536"/>
                  </a:lnTo>
                  <a:lnTo>
                    <a:pt x="767" y="538"/>
                  </a:lnTo>
                  <a:lnTo>
                    <a:pt x="769" y="540"/>
                  </a:lnTo>
                  <a:lnTo>
                    <a:pt x="771" y="540"/>
                  </a:lnTo>
                  <a:lnTo>
                    <a:pt x="771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2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2" y="544"/>
                  </a:lnTo>
                  <a:lnTo>
                    <a:pt x="774" y="544"/>
                  </a:lnTo>
                  <a:lnTo>
                    <a:pt x="774" y="544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4" y="546"/>
                  </a:lnTo>
                  <a:lnTo>
                    <a:pt x="776" y="546"/>
                  </a:lnTo>
                  <a:lnTo>
                    <a:pt x="776" y="546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6" y="548"/>
                  </a:lnTo>
                  <a:lnTo>
                    <a:pt x="778" y="548"/>
                  </a:lnTo>
                  <a:lnTo>
                    <a:pt x="778" y="550"/>
                  </a:lnTo>
                  <a:lnTo>
                    <a:pt x="778" y="550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0" y="551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3"/>
                  </a:lnTo>
                  <a:lnTo>
                    <a:pt x="782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5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4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7"/>
                  </a:lnTo>
                  <a:lnTo>
                    <a:pt x="786" y="559"/>
                  </a:lnTo>
                  <a:lnTo>
                    <a:pt x="786" y="559"/>
                  </a:lnTo>
                  <a:lnTo>
                    <a:pt x="788" y="559"/>
                  </a:lnTo>
                  <a:lnTo>
                    <a:pt x="790" y="561"/>
                  </a:lnTo>
                  <a:lnTo>
                    <a:pt x="790" y="561"/>
                  </a:lnTo>
                  <a:lnTo>
                    <a:pt x="792" y="563"/>
                  </a:lnTo>
                  <a:lnTo>
                    <a:pt x="792" y="565"/>
                  </a:lnTo>
                  <a:lnTo>
                    <a:pt x="794" y="565"/>
                  </a:lnTo>
                  <a:lnTo>
                    <a:pt x="796" y="567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6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7" y="569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799" y="571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1" y="573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3" y="574"/>
                  </a:lnTo>
                  <a:lnTo>
                    <a:pt x="805" y="576"/>
                  </a:lnTo>
                  <a:lnTo>
                    <a:pt x="805" y="576"/>
                  </a:lnTo>
                  <a:lnTo>
                    <a:pt x="807" y="576"/>
                  </a:lnTo>
                  <a:lnTo>
                    <a:pt x="807" y="578"/>
                  </a:lnTo>
                  <a:lnTo>
                    <a:pt x="807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78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09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0"/>
                  </a:lnTo>
                  <a:lnTo>
                    <a:pt x="811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2"/>
                  </a:lnTo>
                  <a:lnTo>
                    <a:pt x="813" y="584"/>
                  </a:lnTo>
                  <a:lnTo>
                    <a:pt x="815" y="584"/>
                  </a:lnTo>
                  <a:lnTo>
                    <a:pt x="815" y="584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5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7" y="586"/>
                  </a:lnTo>
                  <a:lnTo>
                    <a:pt x="819" y="588"/>
                  </a:lnTo>
                  <a:lnTo>
                    <a:pt x="819" y="588"/>
                  </a:lnTo>
                  <a:lnTo>
                    <a:pt x="821" y="588"/>
                  </a:lnTo>
                  <a:lnTo>
                    <a:pt x="821" y="590"/>
                  </a:lnTo>
                  <a:lnTo>
                    <a:pt x="821" y="590"/>
                  </a:lnTo>
                  <a:lnTo>
                    <a:pt x="822" y="590"/>
                  </a:lnTo>
                  <a:lnTo>
                    <a:pt x="822" y="592"/>
                  </a:lnTo>
                  <a:lnTo>
                    <a:pt x="822" y="592"/>
                  </a:lnTo>
                  <a:lnTo>
                    <a:pt x="824" y="592"/>
                  </a:lnTo>
                  <a:lnTo>
                    <a:pt x="824" y="594"/>
                  </a:lnTo>
                  <a:lnTo>
                    <a:pt x="826" y="594"/>
                  </a:lnTo>
                  <a:lnTo>
                    <a:pt x="826" y="596"/>
                  </a:lnTo>
                  <a:lnTo>
                    <a:pt x="828" y="596"/>
                  </a:lnTo>
                  <a:lnTo>
                    <a:pt x="828" y="596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0" y="598"/>
                  </a:lnTo>
                  <a:lnTo>
                    <a:pt x="832" y="598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2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599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4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1"/>
                  </a:lnTo>
                  <a:lnTo>
                    <a:pt x="836" y="603"/>
                  </a:lnTo>
                  <a:lnTo>
                    <a:pt x="836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3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38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0" y="605"/>
                  </a:lnTo>
                  <a:lnTo>
                    <a:pt x="842" y="605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2" y="607"/>
                  </a:lnTo>
                  <a:lnTo>
                    <a:pt x="844" y="609"/>
                  </a:lnTo>
                  <a:lnTo>
                    <a:pt x="845" y="609"/>
                  </a:lnTo>
                  <a:lnTo>
                    <a:pt x="845" y="611"/>
                  </a:lnTo>
                  <a:lnTo>
                    <a:pt x="847" y="611"/>
                  </a:lnTo>
                  <a:lnTo>
                    <a:pt x="849" y="613"/>
                  </a:lnTo>
                  <a:lnTo>
                    <a:pt x="849" y="613"/>
                  </a:lnTo>
                  <a:lnTo>
                    <a:pt x="851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5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3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7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5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7" y="619"/>
                  </a:lnTo>
                  <a:lnTo>
                    <a:pt x="859" y="619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59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1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1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3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3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5" y="624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7" y="626"/>
                  </a:lnTo>
                  <a:lnTo>
                    <a:pt x="869" y="626"/>
                  </a:lnTo>
                  <a:lnTo>
                    <a:pt x="869" y="626"/>
                  </a:lnTo>
                  <a:lnTo>
                    <a:pt x="869" y="628"/>
                  </a:lnTo>
                  <a:lnTo>
                    <a:pt x="869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0" y="628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4" y="630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2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6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78" y="634"/>
                  </a:lnTo>
                  <a:lnTo>
                    <a:pt x="880" y="634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0" y="636"/>
                  </a:lnTo>
                  <a:lnTo>
                    <a:pt x="882" y="636"/>
                  </a:lnTo>
                  <a:lnTo>
                    <a:pt x="882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4" y="638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6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0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88" y="642"/>
                  </a:lnTo>
                  <a:lnTo>
                    <a:pt x="890" y="642"/>
                  </a:lnTo>
                  <a:lnTo>
                    <a:pt x="890" y="642"/>
                  </a:lnTo>
                  <a:lnTo>
                    <a:pt x="890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2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4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4" y="646"/>
                  </a:lnTo>
                  <a:lnTo>
                    <a:pt x="895" y="646"/>
                  </a:lnTo>
                  <a:lnTo>
                    <a:pt x="897" y="647"/>
                  </a:lnTo>
                  <a:lnTo>
                    <a:pt x="899" y="649"/>
                  </a:lnTo>
                  <a:lnTo>
                    <a:pt x="901" y="649"/>
                  </a:lnTo>
                  <a:lnTo>
                    <a:pt x="903" y="651"/>
                  </a:lnTo>
                  <a:lnTo>
                    <a:pt x="905" y="653"/>
                  </a:lnTo>
                  <a:lnTo>
                    <a:pt x="907" y="653"/>
                  </a:lnTo>
                  <a:lnTo>
                    <a:pt x="909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5"/>
                  </a:lnTo>
                  <a:lnTo>
                    <a:pt x="911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3" y="657"/>
                  </a:lnTo>
                  <a:lnTo>
                    <a:pt x="915" y="657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5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7" y="659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19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1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0" y="663"/>
                  </a:lnTo>
                  <a:lnTo>
                    <a:pt x="924" y="665"/>
                  </a:lnTo>
                  <a:lnTo>
                    <a:pt x="926" y="665"/>
                  </a:lnTo>
                  <a:lnTo>
                    <a:pt x="930" y="667"/>
                  </a:lnTo>
                  <a:lnTo>
                    <a:pt x="932" y="669"/>
                  </a:lnTo>
                  <a:lnTo>
                    <a:pt x="936" y="671"/>
                  </a:lnTo>
                  <a:lnTo>
                    <a:pt x="938" y="672"/>
                  </a:lnTo>
                  <a:lnTo>
                    <a:pt x="940" y="674"/>
                  </a:lnTo>
                  <a:lnTo>
                    <a:pt x="943" y="674"/>
                  </a:lnTo>
                  <a:lnTo>
                    <a:pt x="943" y="676"/>
                  </a:lnTo>
                  <a:lnTo>
                    <a:pt x="945" y="676"/>
                  </a:lnTo>
                  <a:lnTo>
                    <a:pt x="945" y="676"/>
                  </a:lnTo>
                  <a:lnTo>
                    <a:pt x="947" y="676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49" y="678"/>
                  </a:lnTo>
                  <a:lnTo>
                    <a:pt x="951" y="680"/>
                  </a:lnTo>
                  <a:lnTo>
                    <a:pt x="951" y="680"/>
                  </a:lnTo>
                  <a:lnTo>
                    <a:pt x="953" y="680"/>
                  </a:lnTo>
                  <a:lnTo>
                    <a:pt x="953" y="680"/>
                  </a:lnTo>
                  <a:lnTo>
                    <a:pt x="955" y="682"/>
                  </a:lnTo>
                  <a:lnTo>
                    <a:pt x="955" y="682"/>
                  </a:lnTo>
                  <a:lnTo>
                    <a:pt x="957" y="682"/>
                  </a:lnTo>
                  <a:lnTo>
                    <a:pt x="959" y="682"/>
                  </a:lnTo>
                  <a:lnTo>
                    <a:pt x="959" y="682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59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1" y="684"/>
                  </a:lnTo>
                  <a:lnTo>
                    <a:pt x="963" y="684"/>
                  </a:lnTo>
                  <a:lnTo>
                    <a:pt x="963" y="684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3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5" y="686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7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68" y="688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0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2" y="690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4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6" y="692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78" y="694"/>
                  </a:lnTo>
                  <a:lnTo>
                    <a:pt x="980" y="694"/>
                  </a:lnTo>
                  <a:lnTo>
                    <a:pt x="980" y="694"/>
                  </a:lnTo>
                  <a:lnTo>
                    <a:pt x="982" y="694"/>
                  </a:lnTo>
                  <a:lnTo>
                    <a:pt x="982" y="696"/>
                  </a:lnTo>
                  <a:lnTo>
                    <a:pt x="982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4" y="696"/>
                  </a:lnTo>
                  <a:lnTo>
                    <a:pt x="986" y="696"/>
                  </a:lnTo>
                  <a:lnTo>
                    <a:pt x="986" y="697"/>
                  </a:lnTo>
                  <a:lnTo>
                    <a:pt x="986" y="697"/>
                  </a:lnTo>
                  <a:lnTo>
                    <a:pt x="990" y="697"/>
                  </a:lnTo>
                  <a:lnTo>
                    <a:pt x="992" y="699"/>
                  </a:lnTo>
                  <a:lnTo>
                    <a:pt x="993" y="701"/>
                  </a:lnTo>
                  <a:lnTo>
                    <a:pt x="997" y="701"/>
                  </a:lnTo>
                  <a:lnTo>
                    <a:pt x="999" y="703"/>
                  </a:lnTo>
                  <a:lnTo>
                    <a:pt x="1001" y="705"/>
                  </a:lnTo>
                  <a:lnTo>
                    <a:pt x="1005" y="705"/>
                  </a:lnTo>
                  <a:lnTo>
                    <a:pt x="1007" y="707"/>
                  </a:lnTo>
                  <a:lnTo>
                    <a:pt x="1007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7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1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3" y="709"/>
                  </a:lnTo>
                  <a:lnTo>
                    <a:pt x="1015" y="709"/>
                  </a:lnTo>
                  <a:lnTo>
                    <a:pt x="1016" y="711"/>
                  </a:lnTo>
                  <a:lnTo>
                    <a:pt x="1018" y="711"/>
                  </a:lnTo>
                  <a:lnTo>
                    <a:pt x="1018" y="711"/>
                  </a:lnTo>
                  <a:lnTo>
                    <a:pt x="1020" y="713"/>
                  </a:lnTo>
                  <a:lnTo>
                    <a:pt x="1022" y="713"/>
                  </a:lnTo>
                  <a:lnTo>
                    <a:pt x="1024" y="713"/>
                  </a:lnTo>
                  <a:lnTo>
                    <a:pt x="1024" y="713"/>
                  </a:lnTo>
                  <a:lnTo>
                    <a:pt x="1024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6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28" y="715"/>
                  </a:lnTo>
                  <a:lnTo>
                    <a:pt x="1030" y="717"/>
                  </a:lnTo>
                  <a:lnTo>
                    <a:pt x="1030" y="717"/>
                  </a:lnTo>
                  <a:lnTo>
                    <a:pt x="1032" y="717"/>
                  </a:lnTo>
                  <a:lnTo>
                    <a:pt x="1032" y="717"/>
                  </a:lnTo>
                  <a:lnTo>
                    <a:pt x="1034" y="717"/>
                  </a:lnTo>
                  <a:lnTo>
                    <a:pt x="1034" y="717"/>
                  </a:lnTo>
                  <a:lnTo>
                    <a:pt x="1036" y="719"/>
                  </a:lnTo>
                  <a:lnTo>
                    <a:pt x="1036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38" y="719"/>
                  </a:lnTo>
                  <a:lnTo>
                    <a:pt x="1040" y="719"/>
                  </a:lnTo>
                  <a:lnTo>
                    <a:pt x="1040" y="720"/>
                  </a:lnTo>
                  <a:lnTo>
                    <a:pt x="1041" y="720"/>
                  </a:lnTo>
                  <a:lnTo>
                    <a:pt x="1043" y="720"/>
                  </a:lnTo>
                  <a:lnTo>
                    <a:pt x="1043" y="720"/>
                  </a:lnTo>
                  <a:lnTo>
                    <a:pt x="1045" y="722"/>
                  </a:lnTo>
                  <a:lnTo>
                    <a:pt x="1047" y="722"/>
                  </a:lnTo>
                  <a:lnTo>
                    <a:pt x="1049" y="722"/>
                  </a:lnTo>
                  <a:lnTo>
                    <a:pt x="1051" y="724"/>
                  </a:lnTo>
                  <a:lnTo>
                    <a:pt x="1053" y="724"/>
                  </a:lnTo>
                  <a:lnTo>
                    <a:pt x="1055" y="724"/>
                  </a:lnTo>
                  <a:lnTo>
                    <a:pt x="1055" y="726"/>
                  </a:lnTo>
                  <a:lnTo>
                    <a:pt x="1055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7" y="726"/>
                  </a:lnTo>
                  <a:lnTo>
                    <a:pt x="1059" y="726"/>
                  </a:lnTo>
                  <a:lnTo>
                    <a:pt x="1063" y="728"/>
                  </a:lnTo>
                  <a:lnTo>
                    <a:pt x="1066" y="728"/>
                  </a:lnTo>
                  <a:lnTo>
                    <a:pt x="1070" y="730"/>
                  </a:lnTo>
                  <a:lnTo>
                    <a:pt x="1074" y="730"/>
                  </a:lnTo>
                  <a:lnTo>
                    <a:pt x="1078" y="732"/>
                  </a:lnTo>
                  <a:lnTo>
                    <a:pt x="1082" y="732"/>
                  </a:lnTo>
                  <a:lnTo>
                    <a:pt x="1086" y="734"/>
                  </a:lnTo>
                  <a:lnTo>
                    <a:pt x="1089" y="734"/>
                  </a:lnTo>
                  <a:lnTo>
                    <a:pt x="1089" y="734"/>
                  </a:lnTo>
                  <a:lnTo>
                    <a:pt x="1091" y="736"/>
                  </a:lnTo>
                  <a:lnTo>
                    <a:pt x="1093" y="736"/>
                  </a:lnTo>
                  <a:lnTo>
                    <a:pt x="1095" y="736"/>
                  </a:lnTo>
                  <a:lnTo>
                    <a:pt x="1097" y="736"/>
                  </a:lnTo>
                  <a:lnTo>
                    <a:pt x="1099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1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38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3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101" y="740"/>
                  </a:lnTo>
                  <a:lnTo>
                    <a:pt x="1001" y="740"/>
                  </a:lnTo>
                  <a:lnTo>
                    <a:pt x="899" y="740"/>
                  </a:lnTo>
                  <a:lnTo>
                    <a:pt x="797" y="740"/>
                  </a:lnTo>
                  <a:lnTo>
                    <a:pt x="698" y="740"/>
                  </a:lnTo>
                  <a:lnTo>
                    <a:pt x="596" y="742"/>
                  </a:lnTo>
                  <a:lnTo>
                    <a:pt x="494" y="742"/>
                  </a:lnTo>
                  <a:lnTo>
                    <a:pt x="394" y="742"/>
                  </a:lnTo>
                  <a:lnTo>
                    <a:pt x="292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94720" y="5904000"/>
              <a:ext cx="406440" cy="48888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189" y="392"/>
                  </a:move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9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5" y="390"/>
                  </a:lnTo>
                  <a:lnTo>
                    <a:pt x="183" y="390"/>
                  </a:lnTo>
                  <a:lnTo>
                    <a:pt x="183" y="390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3" y="388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6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4"/>
                  </a:lnTo>
                  <a:lnTo>
                    <a:pt x="181" y="382"/>
                  </a:lnTo>
                  <a:lnTo>
                    <a:pt x="179" y="382"/>
                  </a:lnTo>
                  <a:lnTo>
                    <a:pt x="179" y="380"/>
                  </a:lnTo>
                  <a:lnTo>
                    <a:pt x="179" y="380"/>
                  </a:lnTo>
                  <a:lnTo>
                    <a:pt x="179" y="378"/>
                  </a:lnTo>
                  <a:lnTo>
                    <a:pt x="179" y="378"/>
                  </a:lnTo>
                  <a:lnTo>
                    <a:pt x="179" y="376"/>
                  </a:lnTo>
                  <a:lnTo>
                    <a:pt x="179" y="376"/>
                  </a:lnTo>
                  <a:lnTo>
                    <a:pt x="179" y="375"/>
                  </a:lnTo>
                  <a:lnTo>
                    <a:pt x="179" y="375"/>
                  </a:lnTo>
                  <a:lnTo>
                    <a:pt x="179" y="373"/>
                  </a:lnTo>
                  <a:lnTo>
                    <a:pt x="177" y="373"/>
                  </a:lnTo>
                  <a:lnTo>
                    <a:pt x="177" y="371"/>
                  </a:lnTo>
                  <a:lnTo>
                    <a:pt x="177" y="371"/>
                  </a:lnTo>
                  <a:lnTo>
                    <a:pt x="177" y="369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5" y="367"/>
                  </a:lnTo>
                  <a:lnTo>
                    <a:pt x="173" y="365"/>
                  </a:lnTo>
                  <a:lnTo>
                    <a:pt x="173" y="365"/>
                  </a:lnTo>
                  <a:lnTo>
                    <a:pt x="171" y="363"/>
                  </a:lnTo>
                  <a:lnTo>
                    <a:pt x="171" y="363"/>
                  </a:lnTo>
                  <a:lnTo>
                    <a:pt x="171" y="361"/>
                  </a:lnTo>
                  <a:lnTo>
                    <a:pt x="169" y="361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9" y="359"/>
                  </a:lnTo>
                  <a:lnTo>
                    <a:pt x="168" y="359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7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8" y="353"/>
                  </a:lnTo>
                  <a:lnTo>
                    <a:pt x="166" y="350"/>
                  </a:lnTo>
                  <a:lnTo>
                    <a:pt x="166" y="348"/>
                  </a:lnTo>
                  <a:lnTo>
                    <a:pt x="166" y="346"/>
                  </a:lnTo>
                  <a:lnTo>
                    <a:pt x="164" y="342"/>
                  </a:lnTo>
                  <a:lnTo>
                    <a:pt x="164" y="340"/>
                  </a:lnTo>
                  <a:lnTo>
                    <a:pt x="164" y="336"/>
                  </a:lnTo>
                  <a:lnTo>
                    <a:pt x="162" y="334"/>
                  </a:lnTo>
                  <a:lnTo>
                    <a:pt x="162" y="330"/>
                  </a:lnTo>
                  <a:lnTo>
                    <a:pt x="162" y="330"/>
                  </a:lnTo>
                  <a:lnTo>
                    <a:pt x="162" y="328"/>
                  </a:lnTo>
                  <a:lnTo>
                    <a:pt x="160" y="327"/>
                  </a:lnTo>
                  <a:lnTo>
                    <a:pt x="160" y="327"/>
                  </a:lnTo>
                  <a:lnTo>
                    <a:pt x="160" y="325"/>
                  </a:lnTo>
                  <a:lnTo>
                    <a:pt x="160" y="323"/>
                  </a:lnTo>
                  <a:lnTo>
                    <a:pt x="158" y="323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21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8" y="319"/>
                  </a:lnTo>
                  <a:lnTo>
                    <a:pt x="156" y="319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7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6" y="315"/>
                  </a:lnTo>
                  <a:lnTo>
                    <a:pt x="154" y="315"/>
                  </a:lnTo>
                  <a:lnTo>
                    <a:pt x="154" y="313"/>
                  </a:lnTo>
                  <a:lnTo>
                    <a:pt x="154" y="313"/>
                  </a:lnTo>
                  <a:lnTo>
                    <a:pt x="152" y="313"/>
                  </a:lnTo>
                  <a:lnTo>
                    <a:pt x="152" y="311"/>
                  </a:lnTo>
                  <a:lnTo>
                    <a:pt x="152" y="311"/>
                  </a:lnTo>
                  <a:lnTo>
                    <a:pt x="150" y="309"/>
                  </a:lnTo>
                  <a:lnTo>
                    <a:pt x="150" y="309"/>
                  </a:lnTo>
                  <a:lnTo>
                    <a:pt x="150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7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5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3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2"/>
                  </a:lnTo>
                  <a:lnTo>
                    <a:pt x="148" y="300"/>
                  </a:lnTo>
                  <a:lnTo>
                    <a:pt x="148" y="298"/>
                  </a:lnTo>
                  <a:lnTo>
                    <a:pt x="148" y="298"/>
                  </a:lnTo>
                  <a:lnTo>
                    <a:pt x="148" y="296"/>
                  </a:lnTo>
                  <a:lnTo>
                    <a:pt x="148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8" y="288"/>
                  </a:lnTo>
                  <a:lnTo>
                    <a:pt x="148" y="286"/>
                  </a:lnTo>
                  <a:lnTo>
                    <a:pt x="148" y="284"/>
                  </a:lnTo>
                  <a:lnTo>
                    <a:pt x="148" y="282"/>
                  </a:lnTo>
                  <a:lnTo>
                    <a:pt x="148" y="280"/>
                  </a:lnTo>
                  <a:lnTo>
                    <a:pt x="148" y="278"/>
                  </a:lnTo>
                  <a:lnTo>
                    <a:pt x="150" y="278"/>
                  </a:lnTo>
                  <a:lnTo>
                    <a:pt x="150" y="277"/>
                  </a:lnTo>
                  <a:lnTo>
                    <a:pt x="150" y="275"/>
                  </a:lnTo>
                  <a:lnTo>
                    <a:pt x="152" y="273"/>
                  </a:lnTo>
                  <a:lnTo>
                    <a:pt x="152" y="271"/>
                  </a:lnTo>
                  <a:lnTo>
                    <a:pt x="152" y="269"/>
                  </a:lnTo>
                  <a:lnTo>
                    <a:pt x="152" y="267"/>
                  </a:lnTo>
                  <a:lnTo>
                    <a:pt x="152" y="265"/>
                  </a:lnTo>
                  <a:lnTo>
                    <a:pt x="152" y="263"/>
                  </a:lnTo>
                  <a:lnTo>
                    <a:pt x="152" y="261"/>
                  </a:lnTo>
                  <a:lnTo>
                    <a:pt x="152" y="259"/>
                  </a:lnTo>
                  <a:lnTo>
                    <a:pt x="152" y="257"/>
                  </a:lnTo>
                  <a:lnTo>
                    <a:pt x="150" y="257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5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4"/>
                  </a:lnTo>
                  <a:lnTo>
                    <a:pt x="150" y="252"/>
                  </a:lnTo>
                  <a:lnTo>
                    <a:pt x="150" y="252"/>
                  </a:lnTo>
                  <a:lnTo>
                    <a:pt x="150" y="250"/>
                  </a:lnTo>
                  <a:lnTo>
                    <a:pt x="150" y="250"/>
                  </a:lnTo>
                  <a:lnTo>
                    <a:pt x="150" y="248"/>
                  </a:lnTo>
                  <a:lnTo>
                    <a:pt x="150" y="248"/>
                  </a:lnTo>
                  <a:lnTo>
                    <a:pt x="150" y="246"/>
                  </a:lnTo>
                  <a:lnTo>
                    <a:pt x="148" y="246"/>
                  </a:lnTo>
                  <a:lnTo>
                    <a:pt x="148" y="244"/>
                  </a:lnTo>
                  <a:lnTo>
                    <a:pt x="148" y="244"/>
                  </a:lnTo>
                  <a:lnTo>
                    <a:pt x="148" y="242"/>
                  </a:lnTo>
                  <a:lnTo>
                    <a:pt x="148" y="240"/>
                  </a:lnTo>
                  <a:lnTo>
                    <a:pt x="146" y="240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5" y="236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4"/>
                  </a:lnTo>
                  <a:lnTo>
                    <a:pt x="145" y="232"/>
                  </a:lnTo>
                  <a:lnTo>
                    <a:pt x="145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2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30"/>
                  </a:lnTo>
                  <a:lnTo>
                    <a:pt x="143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9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41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7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7" y="223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9"/>
                  </a:lnTo>
                  <a:lnTo>
                    <a:pt x="133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7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31" y="215"/>
                  </a:lnTo>
                  <a:lnTo>
                    <a:pt x="129" y="215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3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11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5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4"/>
                  </a:lnTo>
                  <a:lnTo>
                    <a:pt x="129" y="202"/>
                  </a:lnTo>
                  <a:lnTo>
                    <a:pt x="131" y="202"/>
                  </a:lnTo>
                  <a:lnTo>
                    <a:pt x="131" y="200"/>
                  </a:lnTo>
                  <a:lnTo>
                    <a:pt x="131" y="200"/>
                  </a:lnTo>
                  <a:lnTo>
                    <a:pt x="131" y="198"/>
                  </a:lnTo>
                  <a:lnTo>
                    <a:pt x="131" y="198"/>
                  </a:lnTo>
                  <a:lnTo>
                    <a:pt x="131" y="196"/>
                  </a:lnTo>
                  <a:lnTo>
                    <a:pt x="131" y="196"/>
                  </a:lnTo>
                  <a:lnTo>
                    <a:pt x="131" y="194"/>
                  </a:lnTo>
                  <a:lnTo>
                    <a:pt x="131" y="194"/>
                  </a:lnTo>
                  <a:lnTo>
                    <a:pt x="129" y="194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2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90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8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3" y="186"/>
                  </a:lnTo>
                  <a:lnTo>
                    <a:pt x="123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0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8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6" y="186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12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10" y="181"/>
                  </a:lnTo>
                  <a:lnTo>
                    <a:pt x="110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81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79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4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0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5" y="177"/>
                  </a:lnTo>
                  <a:lnTo>
                    <a:pt x="95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3" y="177"/>
                  </a:lnTo>
                  <a:lnTo>
                    <a:pt x="91" y="177"/>
                  </a:lnTo>
                  <a:lnTo>
                    <a:pt x="91" y="179"/>
                  </a:lnTo>
                  <a:lnTo>
                    <a:pt x="91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5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2"/>
                  </a:lnTo>
                  <a:lnTo>
                    <a:pt x="83" y="184"/>
                  </a:lnTo>
                  <a:lnTo>
                    <a:pt x="83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81" y="184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5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3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70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64" y="186"/>
                  </a:lnTo>
                  <a:lnTo>
                    <a:pt x="64" y="186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0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8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50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47" y="192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90"/>
                  </a:lnTo>
                  <a:lnTo>
                    <a:pt x="45" y="188"/>
                  </a:lnTo>
                  <a:lnTo>
                    <a:pt x="45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3" y="188"/>
                  </a:lnTo>
                  <a:lnTo>
                    <a:pt x="41" y="186"/>
                  </a:lnTo>
                  <a:lnTo>
                    <a:pt x="39" y="184"/>
                  </a:lnTo>
                  <a:lnTo>
                    <a:pt x="37" y="184"/>
                  </a:lnTo>
                  <a:lnTo>
                    <a:pt x="35" y="182"/>
                  </a:lnTo>
                  <a:lnTo>
                    <a:pt x="35" y="181"/>
                  </a:lnTo>
                  <a:lnTo>
                    <a:pt x="33" y="179"/>
                  </a:lnTo>
                  <a:lnTo>
                    <a:pt x="31" y="179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9" y="177"/>
                  </a:lnTo>
                  <a:lnTo>
                    <a:pt x="27" y="177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5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9"/>
                  </a:lnTo>
                  <a:lnTo>
                    <a:pt x="22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8" y="163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4" y="159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7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4"/>
                  </a:lnTo>
                  <a:lnTo>
                    <a:pt x="8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50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21"/>
                  </a:lnTo>
                  <a:lnTo>
                    <a:pt x="2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5" y="56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81" y="8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2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8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1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7" y="15"/>
                  </a:lnTo>
                  <a:lnTo>
                    <a:pt x="127" y="17"/>
                  </a:lnTo>
                  <a:lnTo>
                    <a:pt x="127" y="17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7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3" y="21"/>
                  </a:lnTo>
                  <a:lnTo>
                    <a:pt x="143" y="23"/>
                  </a:lnTo>
                  <a:lnTo>
                    <a:pt x="143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6" y="23"/>
                  </a:lnTo>
                  <a:lnTo>
                    <a:pt x="146" y="25"/>
                  </a:lnTo>
                  <a:lnTo>
                    <a:pt x="146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8" y="27"/>
                  </a:lnTo>
                  <a:lnTo>
                    <a:pt x="150" y="27"/>
                  </a:lnTo>
                  <a:lnTo>
                    <a:pt x="150" y="27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0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29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1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4" y="33"/>
                  </a:lnTo>
                  <a:lnTo>
                    <a:pt x="156" y="33"/>
                  </a:lnTo>
                  <a:lnTo>
                    <a:pt x="158" y="33"/>
                  </a:lnTo>
                  <a:lnTo>
                    <a:pt x="158" y="33"/>
                  </a:lnTo>
                  <a:lnTo>
                    <a:pt x="160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4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9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7"/>
                  </a:lnTo>
                  <a:lnTo>
                    <a:pt x="166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69" y="23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1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3" y="21"/>
                  </a:lnTo>
                  <a:lnTo>
                    <a:pt x="175" y="21"/>
                  </a:lnTo>
                  <a:lnTo>
                    <a:pt x="177" y="21"/>
                  </a:lnTo>
                  <a:lnTo>
                    <a:pt x="177" y="21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81" y="21"/>
                  </a:lnTo>
                  <a:lnTo>
                    <a:pt x="181" y="21"/>
                  </a:lnTo>
                  <a:lnTo>
                    <a:pt x="183" y="21"/>
                  </a:lnTo>
                  <a:lnTo>
                    <a:pt x="183" y="21"/>
                  </a:lnTo>
                  <a:lnTo>
                    <a:pt x="185" y="21"/>
                  </a:lnTo>
                  <a:lnTo>
                    <a:pt x="185" y="21"/>
                  </a:lnTo>
                  <a:lnTo>
                    <a:pt x="187" y="21"/>
                  </a:lnTo>
                  <a:lnTo>
                    <a:pt x="187" y="23"/>
                  </a:lnTo>
                  <a:lnTo>
                    <a:pt x="189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1" y="23"/>
                  </a:lnTo>
                  <a:lnTo>
                    <a:pt x="193" y="23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8" y="27"/>
                  </a:lnTo>
                  <a:lnTo>
                    <a:pt x="198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0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0" y="29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0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6" y="27"/>
                  </a:lnTo>
                  <a:lnTo>
                    <a:pt x="218" y="25"/>
                  </a:lnTo>
                  <a:lnTo>
                    <a:pt x="218" y="25"/>
                  </a:lnTo>
                  <a:lnTo>
                    <a:pt x="219" y="25"/>
                  </a:lnTo>
                  <a:lnTo>
                    <a:pt x="219" y="25"/>
                  </a:lnTo>
                  <a:lnTo>
                    <a:pt x="221" y="25"/>
                  </a:lnTo>
                  <a:lnTo>
                    <a:pt x="223" y="25"/>
                  </a:lnTo>
                  <a:lnTo>
                    <a:pt x="223" y="25"/>
                  </a:lnTo>
                  <a:lnTo>
                    <a:pt x="225" y="25"/>
                  </a:lnTo>
                  <a:lnTo>
                    <a:pt x="225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7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29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3" y="25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7"/>
                  </a:lnTo>
                  <a:lnTo>
                    <a:pt x="233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29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1"/>
                  </a:lnTo>
                  <a:lnTo>
                    <a:pt x="235" y="33"/>
                  </a:lnTo>
                  <a:lnTo>
                    <a:pt x="235" y="36"/>
                  </a:lnTo>
                  <a:lnTo>
                    <a:pt x="235" y="38"/>
                  </a:lnTo>
                  <a:lnTo>
                    <a:pt x="235" y="42"/>
                  </a:lnTo>
                  <a:lnTo>
                    <a:pt x="235" y="44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5" y="56"/>
                  </a:lnTo>
                  <a:lnTo>
                    <a:pt x="235" y="56"/>
                  </a:lnTo>
                  <a:lnTo>
                    <a:pt x="237" y="56"/>
                  </a:lnTo>
                  <a:lnTo>
                    <a:pt x="237" y="56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58"/>
                  </a:lnTo>
                  <a:lnTo>
                    <a:pt x="237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0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1" y="61"/>
                  </a:lnTo>
                  <a:lnTo>
                    <a:pt x="242" y="61"/>
                  </a:lnTo>
                  <a:lnTo>
                    <a:pt x="242" y="61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2" y="63"/>
                  </a:lnTo>
                  <a:lnTo>
                    <a:pt x="244" y="63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5"/>
                  </a:lnTo>
                  <a:lnTo>
                    <a:pt x="244" y="67"/>
                  </a:lnTo>
                  <a:lnTo>
                    <a:pt x="246" y="67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6" y="73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7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1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6"/>
                  </a:lnTo>
                  <a:lnTo>
                    <a:pt x="252" y="86"/>
                  </a:lnTo>
                  <a:lnTo>
                    <a:pt x="252" y="88"/>
                  </a:lnTo>
                  <a:lnTo>
                    <a:pt x="254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4" y="92"/>
                  </a:lnTo>
                  <a:lnTo>
                    <a:pt x="256" y="92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6" y="94"/>
                  </a:lnTo>
                  <a:lnTo>
                    <a:pt x="258" y="94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8" y="98"/>
                  </a:lnTo>
                  <a:lnTo>
                    <a:pt x="258" y="98"/>
                  </a:lnTo>
                  <a:lnTo>
                    <a:pt x="260" y="98"/>
                  </a:lnTo>
                  <a:lnTo>
                    <a:pt x="260" y="98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0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8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6" y="111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3"/>
                  </a:lnTo>
                  <a:lnTo>
                    <a:pt x="267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5"/>
                  </a:lnTo>
                  <a:lnTo>
                    <a:pt x="269" y="117"/>
                  </a:lnTo>
                  <a:lnTo>
                    <a:pt x="271" y="117"/>
                  </a:lnTo>
                  <a:lnTo>
                    <a:pt x="273" y="117"/>
                  </a:lnTo>
                  <a:lnTo>
                    <a:pt x="275" y="119"/>
                  </a:lnTo>
                  <a:lnTo>
                    <a:pt x="275" y="119"/>
                  </a:lnTo>
                  <a:lnTo>
                    <a:pt x="277" y="121"/>
                  </a:lnTo>
                  <a:lnTo>
                    <a:pt x="279" y="121"/>
                  </a:lnTo>
                  <a:lnTo>
                    <a:pt x="281" y="121"/>
                  </a:lnTo>
                  <a:lnTo>
                    <a:pt x="281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3"/>
                  </a:lnTo>
                  <a:lnTo>
                    <a:pt x="283" y="125"/>
                  </a:lnTo>
                  <a:lnTo>
                    <a:pt x="283" y="125"/>
                  </a:lnTo>
                  <a:lnTo>
                    <a:pt x="285" y="125"/>
                  </a:lnTo>
                  <a:lnTo>
                    <a:pt x="285" y="125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5" y="129"/>
                  </a:lnTo>
                  <a:lnTo>
                    <a:pt x="287" y="131"/>
                  </a:lnTo>
                  <a:lnTo>
                    <a:pt x="287" y="131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7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89" y="136"/>
                  </a:lnTo>
                  <a:lnTo>
                    <a:pt x="291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6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298" y="136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0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2" y="134"/>
                  </a:lnTo>
                  <a:lnTo>
                    <a:pt x="304" y="134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8" y="133"/>
                  </a:lnTo>
                  <a:lnTo>
                    <a:pt x="308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2" y="131"/>
                  </a:lnTo>
                  <a:lnTo>
                    <a:pt x="314" y="131"/>
                  </a:lnTo>
                  <a:lnTo>
                    <a:pt x="314" y="131"/>
                  </a:lnTo>
                  <a:lnTo>
                    <a:pt x="316" y="131"/>
                  </a:lnTo>
                  <a:lnTo>
                    <a:pt x="316" y="129"/>
                  </a:lnTo>
                  <a:lnTo>
                    <a:pt x="316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7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19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1" y="129"/>
                  </a:lnTo>
                  <a:lnTo>
                    <a:pt x="323" y="129"/>
                  </a:lnTo>
                  <a:lnTo>
                    <a:pt x="323" y="129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1"/>
                  </a:lnTo>
                  <a:lnTo>
                    <a:pt x="323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5" y="133"/>
                  </a:lnTo>
                  <a:lnTo>
                    <a:pt x="323" y="133"/>
                  </a:lnTo>
                  <a:lnTo>
                    <a:pt x="323" y="133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4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3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19" y="138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0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2"/>
                  </a:lnTo>
                  <a:lnTo>
                    <a:pt x="319" y="144"/>
                  </a:lnTo>
                  <a:lnTo>
                    <a:pt x="319" y="144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7" y="150"/>
                  </a:lnTo>
                  <a:lnTo>
                    <a:pt x="317" y="152"/>
                  </a:lnTo>
                  <a:lnTo>
                    <a:pt x="317" y="152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4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6"/>
                  </a:lnTo>
                  <a:lnTo>
                    <a:pt x="317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6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59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3"/>
                  </a:lnTo>
                  <a:lnTo>
                    <a:pt x="312" y="165"/>
                  </a:lnTo>
                  <a:lnTo>
                    <a:pt x="312" y="165"/>
                  </a:lnTo>
                  <a:lnTo>
                    <a:pt x="310" y="165"/>
                  </a:lnTo>
                  <a:lnTo>
                    <a:pt x="310" y="167"/>
                  </a:lnTo>
                  <a:lnTo>
                    <a:pt x="310" y="167"/>
                  </a:lnTo>
                  <a:lnTo>
                    <a:pt x="308" y="169"/>
                  </a:lnTo>
                  <a:lnTo>
                    <a:pt x="308" y="169"/>
                  </a:lnTo>
                  <a:lnTo>
                    <a:pt x="308" y="171"/>
                  </a:lnTo>
                  <a:lnTo>
                    <a:pt x="306" y="171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5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4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1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8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4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6"/>
                  </a:lnTo>
                  <a:lnTo>
                    <a:pt x="296" y="188"/>
                  </a:lnTo>
                  <a:lnTo>
                    <a:pt x="296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0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1" y="192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4"/>
                  </a:lnTo>
                  <a:lnTo>
                    <a:pt x="291" y="196"/>
                  </a:lnTo>
                  <a:lnTo>
                    <a:pt x="291" y="196"/>
                  </a:lnTo>
                  <a:lnTo>
                    <a:pt x="289" y="196"/>
                  </a:lnTo>
                  <a:lnTo>
                    <a:pt x="289" y="196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9" y="198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0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5" y="202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5" y="204"/>
                  </a:lnTo>
                  <a:lnTo>
                    <a:pt x="283" y="204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5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3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7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81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09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9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3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7" y="215"/>
                  </a:lnTo>
                  <a:lnTo>
                    <a:pt x="275" y="215"/>
                  </a:lnTo>
                  <a:lnTo>
                    <a:pt x="275" y="215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5" y="217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19"/>
                  </a:lnTo>
                  <a:lnTo>
                    <a:pt x="273" y="221"/>
                  </a:lnTo>
                  <a:lnTo>
                    <a:pt x="273" y="221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3"/>
                  </a:lnTo>
                  <a:lnTo>
                    <a:pt x="273" y="225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7"/>
                  </a:lnTo>
                  <a:lnTo>
                    <a:pt x="273" y="229"/>
                  </a:lnTo>
                  <a:lnTo>
                    <a:pt x="273" y="229"/>
                  </a:lnTo>
                  <a:lnTo>
                    <a:pt x="273" y="230"/>
                  </a:lnTo>
                  <a:lnTo>
                    <a:pt x="273" y="230"/>
                  </a:lnTo>
                  <a:lnTo>
                    <a:pt x="273" y="232"/>
                  </a:lnTo>
                  <a:lnTo>
                    <a:pt x="273" y="232"/>
                  </a:lnTo>
                  <a:lnTo>
                    <a:pt x="273" y="234"/>
                  </a:lnTo>
                  <a:lnTo>
                    <a:pt x="273" y="236"/>
                  </a:lnTo>
                  <a:lnTo>
                    <a:pt x="273" y="236"/>
                  </a:lnTo>
                  <a:lnTo>
                    <a:pt x="273" y="238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0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2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5" y="244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6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48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7" y="250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2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4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79" y="255"/>
                  </a:lnTo>
                  <a:lnTo>
                    <a:pt x="281" y="257"/>
                  </a:lnTo>
                  <a:lnTo>
                    <a:pt x="281" y="257"/>
                  </a:lnTo>
                  <a:lnTo>
                    <a:pt x="281" y="259"/>
                  </a:lnTo>
                  <a:lnTo>
                    <a:pt x="281" y="259"/>
                  </a:lnTo>
                  <a:lnTo>
                    <a:pt x="281" y="261"/>
                  </a:lnTo>
                  <a:lnTo>
                    <a:pt x="281" y="261"/>
                  </a:lnTo>
                  <a:lnTo>
                    <a:pt x="281" y="263"/>
                  </a:lnTo>
                  <a:lnTo>
                    <a:pt x="281" y="263"/>
                  </a:lnTo>
                  <a:lnTo>
                    <a:pt x="281" y="265"/>
                  </a:lnTo>
                  <a:lnTo>
                    <a:pt x="281" y="265"/>
                  </a:lnTo>
                  <a:lnTo>
                    <a:pt x="281" y="267"/>
                  </a:lnTo>
                  <a:lnTo>
                    <a:pt x="281" y="269"/>
                  </a:lnTo>
                  <a:lnTo>
                    <a:pt x="281" y="269"/>
                  </a:lnTo>
                  <a:lnTo>
                    <a:pt x="281" y="271"/>
                  </a:lnTo>
                  <a:lnTo>
                    <a:pt x="281" y="271"/>
                  </a:lnTo>
                  <a:lnTo>
                    <a:pt x="281" y="273"/>
                  </a:lnTo>
                  <a:lnTo>
                    <a:pt x="281" y="275"/>
                  </a:lnTo>
                  <a:lnTo>
                    <a:pt x="281" y="275"/>
                  </a:lnTo>
                  <a:lnTo>
                    <a:pt x="281" y="277"/>
                  </a:lnTo>
                  <a:lnTo>
                    <a:pt x="281" y="277"/>
                  </a:lnTo>
                  <a:lnTo>
                    <a:pt x="279" y="278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2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7" y="284"/>
                  </a:lnTo>
                  <a:lnTo>
                    <a:pt x="275" y="286"/>
                  </a:lnTo>
                  <a:lnTo>
                    <a:pt x="275" y="286"/>
                  </a:lnTo>
                  <a:lnTo>
                    <a:pt x="273" y="288"/>
                  </a:lnTo>
                  <a:lnTo>
                    <a:pt x="271" y="288"/>
                  </a:lnTo>
                  <a:lnTo>
                    <a:pt x="271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0"/>
                  </a:lnTo>
                  <a:lnTo>
                    <a:pt x="269" y="292"/>
                  </a:lnTo>
                  <a:lnTo>
                    <a:pt x="269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7" y="292"/>
                  </a:lnTo>
                  <a:lnTo>
                    <a:pt x="266" y="292"/>
                  </a:lnTo>
                  <a:lnTo>
                    <a:pt x="266" y="294"/>
                  </a:lnTo>
                  <a:lnTo>
                    <a:pt x="264" y="294"/>
                  </a:lnTo>
                  <a:lnTo>
                    <a:pt x="264" y="296"/>
                  </a:lnTo>
                  <a:lnTo>
                    <a:pt x="264" y="296"/>
                  </a:lnTo>
                  <a:lnTo>
                    <a:pt x="262" y="298"/>
                  </a:lnTo>
                  <a:lnTo>
                    <a:pt x="262" y="298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60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8" y="303"/>
                  </a:lnTo>
                  <a:lnTo>
                    <a:pt x="256" y="303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5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7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09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6" y="311"/>
                  </a:lnTo>
                  <a:lnTo>
                    <a:pt x="258" y="311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3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5"/>
                  </a:lnTo>
                  <a:lnTo>
                    <a:pt x="258" y="317"/>
                  </a:lnTo>
                  <a:lnTo>
                    <a:pt x="258" y="319"/>
                  </a:lnTo>
                  <a:lnTo>
                    <a:pt x="258" y="319"/>
                  </a:lnTo>
                  <a:lnTo>
                    <a:pt x="258" y="321"/>
                  </a:lnTo>
                  <a:lnTo>
                    <a:pt x="258" y="323"/>
                  </a:lnTo>
                  <a:lnTo>
                    <a:pt x="258" y="323"/>
                  </a:lnTo>
                  <a:lnTo>
                    <a:pt x="258" y="325"/>
                  </a:lnTo>
                  <a:lnTo>
                    <a:pt x="258" y="325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8" y="327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6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0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4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2"/>
                  </a:lnTo>
                  <a:lnTo>
                    <a:pt x="252" y="334"/>
                  </a:lnTo>
                  <a:lnTo>
                    <a:pt x="252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4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50" y="336"/>
                  </a:lnTo>
                  <a:lnTo>
                    <a:pt x="248" y="336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38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0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2"/>
                  </a:lnTo>
                  <a:lnTo>
                    <a:pt x="248" y="344"/>
                  </a:lnTo>
                  <a:lnTo>
                    <a:pt x="248" y="346"/>
                  </a:lnTo>
                  <a:lnTo>
                    <a:pt x="248" y="346"/>
                  </a:lnTo>
                  <a:lnTo>
                    <a:pt x="246" y="348"/>
                  </a:lnTo>
                  <a:lnTo>
                    <a:pt x="246" y="350"/>
                  </a:lnTo>
                  <a:lnTo>
                    <a:pt x="246" y="350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1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3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5"/>
                  </a:lnTo>
                  <a:lnTo>
                    <a:pt x="246" y="357"/>
                  </a:lnTo>
                  <a:lnTo>
                    <a:pt x="246" y="357"/>
                  </a:lnTo>
                  <a:lnTo>
                    <a:pt x="244" y="357"/>
                  </a:lnTo>
                  <a:lnTo>
                    <a:pt x="244" y="357"/>
                  </a:lnTo>
                  <a:lnTo>
                    <a:pt x="244" y="359"/>
                  </a:lnTo>
                  <a:lnTo>
                    <a:pt x="242" y="359"/>
                  </a:lnTo>
                  <a:lnTo>
                    <a:pt x="242" y="361"/>
                  </a:lnTo>
                  <a:lnTo>
                    <a:pt x="242" y="361"/>
                  </a:lnTo>
                  <a:lnTo>
                    <a:pt x="241" y="363"/>
                  </a:lnTo>
                  <a:lnTo>
                    <a:pt x="241" y="363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9" y="365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37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69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5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1"/>
                  </a:lnTo>
                  <a:lnTo>
                    <a:pt x="233" y="373"/>
                  </a:lnTo>
                  <a:lnTo>
                    <a:pt x="231" y="373"/>
                  </a:lnTo>
                  <a:lnTo>
                    <a:pt x="229" y="375"/>
                  </a:lnTo>
                  <a:lnTo>
                    <a:pt x="229" y="376"/>
                  </a:lnTo>
                  <a:lnTo>
                    <a:pt x="227" y="376"/>
                  </a:lnTo>
                  <a:lnTo>
                    <a:pt x="225" y="378"/>
                  </a:lnTo>
                  <a:lnTo>
                    <a:pt x="225" y="380"/>
                  </a:lnTo>
                  <a:lnTo>
                    <a:pt x="223" y="382"/>
                  </a:lnTo>
                  <a:lnTo>
                    <a:pt x="223" y="382"/>
                  </a:lnTo>
                  <a:lnTo>
                    <a:pt x="221" y="382"/>
                  </a:lnTo>
                  <a:lnTo>
                    <a:pt x="221" y="382"/>
                  </a:lnTo>
                  <a:lnTo>
                    <a:pt x="221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9" y="384"/>
                  </a:lnTo>
                  <a:lnTo>
                    <a:pt x="218" y="386"/>
                  </a:lnTo>
                  <a:lnTo>
                    <a:pt x="218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4" y="386"/>
                  </a:lnTo>
                  <a:lnTo>
                    <a:pt x="212" y="386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8"/>
                  </a:lnTo>
                  <a:lnTo>
                    <a:pt x="206" y="388"/>
                  </a:lnTo>
                  <a:lnTo>
                    <a:pt x="204" y="388"/>
                  </a:lnTo>
                  <a:lnTo>
                    <a:pt x="200" y="390"/>
                  </a:lnTo>
                  <a:lnTo>
                    <a:pt x="198" y="390"/>
                  </a:lnTo>
                  <a:lnTo>
                    <a:pt x="196" y="390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4" y="392"/>
                  </a:lnTo>
                  <a:lnTo>
                    <a:pt x="193" y="392"/>
                  </a:lnTo>
                  <a:lnTo>
                    <a:pt x="193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91" y="392"/>
                  </a:lnTo>
                  <a:lnTo>
                    <a:pt x="18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63000" y="6224760"/>
              <a:ext cx="38160" cy="98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8" y="79"/>
                  </a:moveTo>
                  <a:lnTo>
                    <a:pt x="8" y="79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2" y="62"/>
                  </a:lnTo>
                  <a:lnTo>
                    <a:pt x="22" y="64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8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6480" y="6567480"/>
              <a:ext cx="73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ffffff"/>
                  </a:solidFill>
                  <a:latin typeface="Swis721 Blk BT"/>
                </a:rPr>
                <a:t>AFRICAN AV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61320" y="6515280"/>
              <a:ext cx="18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ff"/>
                  </a:solidFill>
                  <a:latin typeface="Swis721 Md BT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0520" y="6583320"/>
              <a:ext cx="61920" cy="63720"/>
            </a:xfrm>
            <a:prstGeom prst="ellipse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141912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wis721 BT"/>
              </a:rPr>
              <a:t>Air Transport Liberalisation in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1844640"/>
            <a:ext cx="74901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s Any Progress Being Ma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Yes, Slowly but Steadi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anks to the Efforts of Organisations Lik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e UN Economic Commission for Africa ( E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The AU, The African Civil Aviation Commission (AFCA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ICAO, COMESA, SADC, ECOWAS &amp; AFRAA, 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SzPct val="75000"/>
              <a:buFont typeface="Swis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Notably, Some African Governments Have B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Swis721 BT"/>
              </a:rPr>
              <a:t>More Supportive Than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0314 ICAO</cp:lastModifiedBy>
  <dcterms:modified xsi:type="dcterms:W3CDTF">2003-03-26T15:04:45Z</dcterms:modified>
  <cp:revision>119</cp:revision>
  <dc:subject/>
  <dc:title>PowerPoint Presentation</dc:title>
</cp:coreProperties>
</file>