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6586560" cy="454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08960" cy="2398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04920" y="3998520"/>
            <a:ext cx="8508960" cy="2398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6586560" cy="454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4152240" cy="2398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240" y="1371600"/>
            <a:ext cx="4152240" cy="2398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98520"/>
            <a:ext cx="4152240" cy="2398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5240" y="3998520"/>
            <a:ext cx="4152240" cy="2398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6586560" cy="454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2739600" cy="2398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82040" y="1371600"/>
            <a:ext cx="2739600" cy="2398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58800" y="1371600"/>
            <a:ext cx="2739600" cy="2398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04920" y="3998520"/>
            <a:ext cx="2739600" cy="2398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82040" y="3998520"/>
            <a:ext cx="2739600" cy="2398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58800" y="3998520"/>
            <a:ext cx="2739600" cy="2398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6586560" cy="454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04920" y="1371600"/>
            <a:ext cx="850896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6586560" cy="454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08960" cy="5029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6586560" cy="454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4152240" cy="5029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5240" y="1371600"/>
            <a:ext cx="4152240" cy="5029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6586560" cy="454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4ff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04920" y="380880"/>
            <a:ext cx="6586560" cy="210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6586560" cy="454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4152240" cy="2398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240" y="1371600"/>
            <a:ext cx="4152240" cy="5029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04920" y="3998520"/>
            <a:ext cx="4152240" cy="2398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6586560" cy="454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4152240" cy="5029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371600"/>
            <a:ext cx="4152240" cy="2398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5240" y="3998520"/>
            <a:ext cx="4152240" cy="2398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6586560" cy="454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4152240" cy="2398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371600"/>
            <a:ext cx="4152240" cy="2398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998520"/>
            <a:ext cx="8508960" cy="2398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371600"/>
            <a:ext cx="8508960" cy="5029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4572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22212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1468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04920" y="380880"/>
            <a:ext cx="6586560" cy="454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14ff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Safeguards and Sustainability of Air Services – Protection for Whom, From Whom?</a:t>
            </a:r>
            <a:endParaRPr b="1" lang="en-US" sz="2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r. Peter P. Belobab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ordia University and M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ch 200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24"/>
              </a:spcBef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001000" cy="454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Sustainability, Not Protection of the Status Quo</a:t>
            </a:r>
            <a:endParaRPr b="1" lang="en-US" sz="2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08960" cy="5029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4572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ry real need for sustainable air services must not be used as an excuse to prolong inefficienc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222120">
              <a:spcAft>
                <a:spcPts val="56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ed for national flag carriers, fear of losing air services often cited as reasons for government protec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222120">
              <a:spcAft>
                <a:spcPts val="56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t, highly regulated national flag carriers have been among the most poorly managed and least efficient airlines in the worl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222120">
              <a:spcAft>
                <a:spcPts val="56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riences throughout the world have demonstrated how open market conditions ultimately lead to sustainability and efficien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balance between effective safeguards and unnecessary protection is required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222120">
              <a:spcAft>
                <a:spcPts val="56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ognize that many essential air services can and will be provided by more efficient carriers, given reduced regulatory constrai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222120">
              <a:spcAft>
                <a:spcPts val="56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nobody’s long-term interest to support and protect inefficient air carriers – emphasis should be on sustainability AND efficien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7772400" cy="45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Deregulated, Not Fully Competitive Open Markets</a:t>
            </a:r>
            <a:endParaRPr b="1" lang="en-US" sz="2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0896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ce US deregulation, pressure for less government control over airline markets has spread worldwid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56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result of the perceived overall success of US deregulation and other experiences in Canada, Australia, Europe and elsew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regulation ha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meant totally free compet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56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ave freedom to airlines to choose routes, frequencies, and prices in domestic markets with less government interven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56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t, operational and safety regulations remain, through airline certification, crew training requirements, maintenance standards, et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56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lateral agreements still limit access to international marke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56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wnership restrictions limit ability of airlines to raise foreign capit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56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 airlines still required to operate certain “essential air services”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56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regulations govern CRS/GDS distribution channel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45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US Deregulation Experience Generally Positive </a:t>
            </a:r>
            <a:endParaRPr b="1" lang="en-US" sz="2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0896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all benefits have been clearly demonstrated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222120">
              <a:spcAft>
                <a:spcPts val="56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 domestic air travel more than doubled in first ten years of deregulation, a growth rate well above pre-deregulation tim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222120">
              <a:spcAft>
                <a:spcPts val="56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verage real (inflation adjusted) air fares continue to decline toda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222120">
              <a:spcAft>
                <a:spcPts val="56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velopment of some very successful new low-fare carriers, with rapid growth in recent years (e.g., Southwest, AirTran, JetBlu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222120">
              <a:spcAft>
                <a:spcPts val="56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 statistical evidence of reduced airline safe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t some parties have suffered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222120">
              <a:spcAft>
                <a:spcPts val="56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 unions experienced reduced power, jobs and wa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222120">
              <a:spcAft>
                <a:spcPts val="56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eater disparities in fares paid by business and leisure travel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222120">
              <a:spcAft>
                <a:spcPts val="56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ll cities saw commuter airlines replace larger je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222120">
              <a:spcAft>
                <a:spcPts val="56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fit volatility and bankruptcies raise questions about airline investment and sustainability of traditional airline opera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6586560" cy="45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Changed Competition Under Deregulation</a:t>
            </a:r>
            <a:endParaRPr b="1" lang="en-US" sz="2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0896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removal of economic regulations has added new dimensions to airline competitive strategi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56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t cutting and productivity improv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56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conomies of scale in operations to reduce unit co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56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ce competition and revenue management to increase reven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56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marketing and distribution pr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56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reased network coverage and market domin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ite simply, airline managers now actually have to make management decisions and trade-off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56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contrast to regulated times when government control ensured price increases to cover increased operating cost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56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irline management” was relatively easy under government regulation and subsidization of flag carrie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6586560" cy="454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The March Towards Global Liberalization</a:t>
            </a:r>
            <a:endParaRPr b="1" lang="en-US" sz="2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0896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572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verall success of the US experiment has led other countries to deregulate domestic airline market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222120">
              <a:spcAft>
                <a:spcPts val="56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stralia and Canada were among first to follo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222120">
              <a:spcAft>
                <a:spcPts val="56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apan, Brazil, United Kingdom loosened restri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222120">
              <a:spcAft>
                <a:spcPts val="56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uropean Union has also moved toward “open skies”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hough differences exist, many similar impacts have been observed in deregulation outside the U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222120">
              <a:spcAft>
                <a:spcPts val="56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entrants with lower costs and fares, that face stiff competition and potentially predatory practices from incumbent airl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222120">
              <a:spcAft>
                <a:spcPts val="56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tential for volatility and destructive competition arises, especially in periods of reduced demand and excess capac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222120">
              <a:spcAft>
                <a:spcPts val="56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ent dramatic shifts in airline industry have begun to shift momentum of change to low-cost, low-fare new entran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6586560" cy="454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Protection of New Entrant Airlines</a:t>
            </a:r>
            <a:endParaRPr b="1" lang="en-US" sz="2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08960" cy="5029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4572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efforts by new entrants to compete were in effectively rebuffed by larger incumbent airlin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222120">
              <a:spcAft>
                <a:spcPts val="56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cumbents had significant advantages of frequency, network coverage, service quality, and frequent flyer progra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222120">
              <a:spcAft>
                <a:spcPts val="56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venue management systems allowed incumbents to match new entrant’s fares while limiting revenue dilution, offering better val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ggressive responses by incumbents in some cases raised questions of “unfair” competi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222120">
              <a:spcAft>
                <a:spcPts val="56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er fares and/or increased capacity to drive out new entra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222120">
              <a:spcAft>
                <a:spcPts val="56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tentially predatory actions, subsidized by revenues from other parts of incumbent’s netwo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222120">
              <a:spcAft>
                <a:spcPts val="56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arding of gates and/or slots to prevent new entry and growt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d to serious policy discussion for “re-regulation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7315200" cy="454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The Remarkable Growth of Low Fare Carriers</a:t>
            </a:r>
            <a:endParaRPr b="1" lang="en-US" sz="2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08960" cy="5029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4572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ent conditions favorable for low-fare airlin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222120">
              <a:spcAft>
                <a:spcPts val="56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ss business travel overall; reduced willingness to pay for premium services; reduced quality of traditional airl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222120">
              <a:spcAft>
                <a:spcPts val="56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re stable demand for price-sensitive leisure travel, primarily in high density point-to-point marke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222120">
              <a:spcAft>
                <a:spcPts val="56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reater awareness of low-fare options through internet channels, and growing acceptance of “alternative” air travel serv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w-fare carriers now threaten viability of traditional network airlin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222120">
              <a:spcAft>
                <a:spcPts val="56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are of US domestic passengers flown by low-fare carriers increased to 20% in 2002, from 16% in 2000 and only 5.5% in 199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222120">
              <a:spcAft>
                <a:spcPts val="56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rgest low-fare carriers increased both capacity and traffic in 2002, in sharp contrast to most traditional network airl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0"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0"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6586560" cy="454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Who Needs Protection Now?</a:t>
            </a:r>
            <a:endParaRPr b="1" lang="en-US" sz="2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08960" cy="5029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9000"/>
          </a:bodyPr>
          <a:p>
            <a:pPr marL="452520" indent="-226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North America and Europe, legacy airlines now face unprecedented operating loss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219600">
              <a:spcAft>
                <a:spcPts val="56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jor airlines are looking for new “business models” to respond to changed environment and to compete with low-fare airl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219600">
              <a:spcAft>
                <a:spcPts val="56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w-fare competition, combined with Internet distribution and inability to support revenue differentials mean no pricing structure alone can return legacy airlines to profita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219600">
              <a:spcAft>
                <a:spcPts val="56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 2 decades of deregulation, US Major airlines now finally face the reality that their cost structures are simply unsustainable in a competitive environ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2520" indent="-22608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tection for new entrants has become moo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219600">
              <a:spcAft>
                <a:spcPts val="56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thwest, JetBlue, RyanAir and EasyJet are among most profitable airlines in the world, while legacy airlines declare bankrupt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219600">
              <a:spcAft>
                <a:spcPts val="56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vernment intervention to protect legacy airlines now a possibilit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6586560" cy="454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4ffb"/>
                </a:solidFill>
                <a:latin typeface="Arial"/>
              </a:rPr>
              <a:t>When  Is Protection Warranted?</a:t>
            </a:r>
            <a:endParaRPr b="1" lang="en-US" sz="2400" spc="-1" strike="noStrike">
              <a:solidFill>
                <a:srgbClr val="114f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08960" cy="50292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4572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vernment intervention to “protect” airline services might be warranted in limited cas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222120">
              <a:spcAft>
                <a:spcPts val="56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stainability of airlines and assurance of air services in developing count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222120">
              <a:spcAft>
                <a:spcPts val="56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re tourism-supported economies depend on air servic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222120">
              <a:spcAft>
                <a:spcPts val="56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olated or remote communities requiring air services for movement of population and goo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222120">
              <a:spcAft>
                <a:spcPts val="56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der conditions of catastrophic national/global events or w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228600">
              <a:spcBef>
                <a:spcPts val="751"/>
              </a:spcBef>
              <a:spcAft>
                <a:spcPts val="75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ven in these situations, not clear that inefficient air carriers should be supported or protected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222120">
              <a:spcAft>
                <a:spcPts val="56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vernment regulations and (even worse) financial support inevitably cause market distortions and inefficienc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222120">
              <a:spcAft>
                <a:spcPts val="561"/>
              </a:spcAft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most situations, development of new services, by new airlines, with more efficient operating models will ultimately fill any voi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31T13:25:09Z</dcterms:created>
  <dc:creator>Jennie</dc:creator>
  <dc:description/>
  <dc:language>en-US</dc:language>
  <cp:lastModifiedBy>jgd</cp:lastModifiedBy>
  <cp:lastPrinted>2001-09-19T15:08:48Z</cp:lastPrinted>
  <dcterms:modified xsi:type="dcterms:W3CDTF">2003-03-23T14:02:37Z</dcterms:modified>
  <cp:revision>135</cp:revision>
  <dc:subject/>
  <dc:title>Sample of Regular Powerpoint Viewgraph Pages Following</dc:title>
</cp:coreProperties>
</file>