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672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2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572-2E67-42CC-8FD9-AF492612A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ED17-0E16-404A-A465-C2AA2E31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88E1-7E0E-44FD-8D6B-328CB697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1C41-BA9F-46F2-8B5A-72D02059F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9701-7FBF-4396-8CCC-E9750C2A2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8D72A-8A63-4DFA-ACD7-798C34C1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D9EF-AE02-45D4-890B-5A470FDA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C4C6-0E46-48E4-AE0C-950B1083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4259-5D86-4002-825A-4442BB3D6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5B459-EE21-45EF-9418-F13473941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7C0-BE5F-4EFB-834D-35768C0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E4CC-07D4-468C-9C2C-5B156C7A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43E3E-8BBA-40EC-B0C1-5BC956D69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C615-063B-40AC-A2A9-D3AC171C1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B368-AFDD-4DCE-8721-AF3B3266C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1C5E-2F1A-4327-A0E5-4382F2C4C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A6AA-34B9-4D34-A795-8D89F060A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F0E9-F12F-4D8D-9454-3F1546110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74DF-B0E1-4D6E-A389-D036E50E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2AC8-317E-4AEF-86FE-B70D952A9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760A-0B4D-4144-B42C-7267578CE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0413-C4F1-49FD-8459-F8393498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FEDE-5C61-4C28-BB4A-D701A107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5414-613E-446C-8D03-4D16494B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AC5F-F139-4323-865D-343337885C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044" r="0" b="0"/>
          <a:stretch/>
        </p:blipFill>
        <p:spPr>
          <a:xfrm>
            <a:off x="0" y="1428840"/>
            <a:ext cx="9144000" cy="4819680"/>
          </a:xfrm>
          <a:prstGeom prst="rect">
            <a:avLst/>
          </a:prstGeom>
          <a:ln w="0">
            <a:noFill/>
          </a:ln>
        </p:spPr>
      </p:pic>
      <p:grpSp>
        <p:nvGrpSpPr>
          <p:cNvPr id="6" name=""/>
          <p:cNvGrpSpPr/>
          <p:nvPr/>
        </p:nvGrpSpPr>
        <p:grpSpPr>
          <a:xfrm>
            <a:off x="0" y="685800"/>
            <a:ext cx="9153360" cy="730080"/>
            <a:chOff x="0" y="685800"/>
            <a:chExt cx="9153360" cy="730080"/>
          </a:xfrm>
        </p:grpSpPr>
        <p:sp>
          <p:nvSpPr>
            <p:cNvPr id="7" name=""/>
            <p:cNvSpPr/>
            <p:nvPr/>
          </p:nvSpPr>
          <p:spPr>
            <a:xfrm>
              <a:off x="9360" y="685800"/>
              <a:ext cx="9144000" cy="726480"/>
            </a:xfrm>
            <a:prstGeom prst="rect">
              <a:avLst/>
            </a:prstGeom>
            <a:solidFill>
              <a:srgbClr val="4848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9360" y="11001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360" y="115092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360" y="12016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360" y="12520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9360" y="13028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9360" y="13550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360" y="7952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360" y="84564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360" y="89640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360" y="9471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360" y="100476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104940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360" y="693720"/>
              <a:ext cx="914400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9360" y="744480"/>
              <a:ext cx="9144000" cy="0"/>
            </a:xfrm>
            <a:prstGeom prst="line">
              <a:avLst/>
            </a:prstGeom>
            <a:ln w="1908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0" y="1415880"/>
              <a:ext cx="9144000" cy="0"/>
            </a:xfrm>
            <a:prstGeom prst="line">
              <a:avLst/>
            </a:prstGeom>
            <a:ln w="1908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" name="" descr="Civil Aviation Authority Logo"/>
          <p:cNvPicPr/>
          <p:nvPr/>
        </p:nvPicPr>
        <p:blipFill>
          <a:blip r:embed="rId3"/>
          <a:stretch/>
        </p:blipFill>
        <p:spPr>
          <a:xfrm>
            <a:off x="0" y="0"/>
            <a:ext cx="990720" cy="53964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4"/>
          <a:stretch/>
        </p:blipFill>
        <p:spPr>
          <a:xfrm>
            <a:off x="8229600" y="0"/>
            <a:ext cx="9144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E39A5-C50B-4FB0-9C6A-BC8793DA69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rcRect l="0" t="18393" r="14165" b="1740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04800" y="2376360"/>
            <a:ext cx="7940880" cy="173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Times New Roman"/>
              </a:rPr>
              <a:t>Safeguards and Sustainability to the Liberalization of Air Transpo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727280" y="927000"/>
            <a:ext cx="578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O 5th Worldwide Air Transport Confer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CAO Headquarters, Montre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90720" y="4267080"/>
            <a:ext cx="7230960" cy="265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2b2b2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mbrose Akando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Managing Director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2b2b2"/>
                </a:solidFill>
                <a:latin typeface="Arial"/>
              </a:rPr>
              <a:t>Civil Aviation Authority, Ug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Times New Roman"/>
              </a:rPr>
              <a:t>23 March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Civil Aviation Authority Logo"/>
          <p:cNvPicPr/>
          <p:nvPr/>
        </p:nvPicPr>
        <p:blipFill>
          <a:blip r:embed="rId1"/>
          <a:stretch/>
        </p:blipFill>
        <p:spPr>
          <a:xfrm>
            <a:off x="0" y="0"/>
            <a:ext cx="1523880" cy="847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496280" y="0"/>
            <a:ext cx="1647720" cy="971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50F7-D38C-4713-8340-AA127ED2F76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8284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of cross-border airline serv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oyalty payment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multiple designatio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liberalization of cargo servic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al of capacity restriction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x exemptions on foreign airlin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ation of selected countryside aerodromes as international entry/exit points to promote tourism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iberalization in Uga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89DB-CC5E-4D4E-9E97-26D4EDE6A5A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7521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ation of COMESA Legal Notice No.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option of the Yamoussoukro Declaration of 1999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estrictions on foreign ownership in national carr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lition of requirement for substantial owner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42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Liberalization in Uganda cont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E1F9-B10C-47C3-ABEE-883424F4DD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ocati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00 º 02’ 26”.93 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2 º 26’ 25”.95 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titud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782 ft  AM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in runway(17/35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 3658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Entebbe International Air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4A36-1958-4795-BF59-09E9A52BEA3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1143000" y="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         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Aerial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AFE-60F0-43ED-891A-54C8AB7F14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AFFIC THROUGH ENTEBBE INT. AIR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04920" y="1371600"/>
          <a:ext cx="883908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839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BB6C-BD83-45F3-9E3A-7492C78226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TRAFFIC THROUGH ENTEBBE INT. AIRPORT Con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676520"/>
          <a:ext cx="8229600" cy="4876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22960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AE29-3A0F-4E1F-BB17-C0C16A7D5FD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Times New Roman"/>
              </a:rPr>
              <a:t>TRAFFIC FORECASTS 2002/2003 TO 2007/200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0" y="1600200"/>
          <a:ext cx="9144000" cy="50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914400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8488-28F8-4615-AA4C-38B94C79A50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ce of National airline means continued state participation in Air Transpor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 Transport bears with it significant economic, social, political and strategic advantages that should not  be delegated to foreign carri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carriers only provide commercially viable services yet air transport often goes beyond commercial bound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stained participation of states will guarantee availability of services that are in nation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380880" y="615960"/>
            <a:ext cx="84297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National against Foreign-Owned Air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9E42-0046-457B-8DD0-CF77636F8FF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501480"/>
          <a:ext cx="9144000" cy="635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63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905120" y="0"/>
            <a:ext cx="5638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Uganda’s Wildlife Endow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630-2AD4-4EEC-8667-CEA4ADC1AE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lthy and fair competition brings about improved service provision to the benefit of the industry and consum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on survival strategies such as cost cutting, code sharing, franchising etc. cannot assure the survival being sough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ulation prevents competition from causing severe market distortions to the detriment of consum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ition without regulation is not a sufficient safeguard for Air Transport sustain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etition and Sustain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ADBF-AE89-4308-B5A3-D3D387ECE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Presentation ma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52280" y="1447920"/>
            <a:ext cx="152640" cy="4952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800600" y="1523880"/>
            <a:ext cx="404820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oreign investment in National Airl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stained participation of all in International Air Transp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de of Conduc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spute Resolu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ICAO’s R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9240" y="1541520"/>
            <a:ext cx="4352760" cy="39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ackgroun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tate participation in Int. Air Transp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beralization in Ugand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National against Foreign-owned Airlin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2056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ompetition &amp; Sustainability of National Airlin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24280" y="1447920"/>
            <a:ext cx="152640" cy="4952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72EC-08DF-47B1-9A50-3BA21404C5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feguards must rationally and realistically address disparities relating to level of development, size and location of states including their air carriers to guarantee sustainability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out tailored safeguards, developing country national carriers simply can’t survive in a  liberalization enviro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 examples on the African continent serve to vindicate this fa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ise of Uganda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ise of Zambia Air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nt sale of Air Tanzania to South African Airw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763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mpetition and Sustainability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517A-6749-492D-8D67-1B2C995844E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3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4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240" y="152388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much needed yet scarce capital financ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ever, foreign ownership has implications on designation and authorization of carrier; under the BASA regime. (Substantial ownership &amp; effective control claus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eign ownership creates opportunities as well as regulatory challeng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gulatory Challeng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ilitate progress of liberalization proces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able airlines take advantage of cross-border capital financing opportuniti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void creation of flags of convenie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1218960" y="655200"/>
            <a:ext cx="79246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Foreign Investment in National Airli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F727-07C5-4E63-8460-8FE57543E2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3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6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9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360" y="1828440"/>
            <a:ext cx="9448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‘Equality of opportunity’ principle should not only be observed but should also be achieved irrespective of extent of liberalization and level of competi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feguards-Create a healthy and fair compet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rline alliances should be cautiously regulated to avoid reducing competition;- right of choice by the consu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access should be open, provided the capacity offered by each airline is matched by market potential or size to   avoid capacity dumping or predation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cing mechanism should remain flexible so that airlines are free to vary their prices within authorized marg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0" y="806760"/>
            <a:ext cx="91440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Sustained participation for all in Int. Air Trans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9926-30C1-44EA-BED6-E2D84E92D7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8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acceptable code of conduct should be developed to provide common understanding of what is acceptable and what is no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type of code will help minimize disput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Code of Condu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0D54-83B0-41E3-95DE-9D17A5EE1EC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4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is need to agree on a dispute resolution mechanism to help settle disputes between contracting stat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form of arbitration will be necessary for disputes that cannot be amicably resolv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380880" y="584280"/>
            <a:ext cx="8429760" cy="7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Dispute Re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43D8-54CD-4569-AC8B-21ABAF5D22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4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560" y="167652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te should be paid to ICAO for its role in ensuring the orderly development of International Air Transpo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ssues that need to be addressed by ICAO inclu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duct a study on the effects of franchi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a code of conduct that will govern healthy competition among carrier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ommend the nature and form of arbitration and procedures to be followed in resolving disputes between members sta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380880" y="594360"/>
            <a:ext cx="84297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ICAO’s R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17BC-249F-491E-93FD-E6C53CC7EA0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Times New Roman"/>
              </a:rPr>
              <a:t>Conclu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with Safeguards is beneficial for the development of Global Air Transport indus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lobal aviation industry is in transition, with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hallenges and Opportunities of Liberaliz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equiring our concerted effort; which is why the ICAO 5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ldwide Air Transport Conference is very relevant and timel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3910-CF4C-4C4B-848C-32B71CFD47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Civil Aviation Autho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7238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.O Box 5536 Kampala, Ug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el: 256- 41-320516/9, 3213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ax: 256-41-3214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-mail :   aakandonda@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viation@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bsite:  www.caa.co.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1447920"/>
            <a:ext cx="5790960" cy="0"/>
          </a:xfrm>
          <a:prstGeom prst="line">
            <a:avLst/>
          </a:prstGeom>
          <a:ln w="63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586728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o maintain the Highest Standards of Safety and Service in Civil Avi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4920" y="533412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Times New Roman"/>
              </a:rPr>
              <a:t>CAA Uganda, Mission Sta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DBA-492A-441D-A9EE-C63503FD45B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523520" y="1294920"/>
            <a:ext cx="71629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1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600" spc="-1" strike="noStrike">
                <a:solidFill>
                  <a:srgbClr val="000000"/>
                </a:solidFill>
                <a:latin typeface="Times New Roman"/>
              </a:rPr>
              <a:t>?         ?</a:t>
            </a:r>
            <a:endParaRPr b="0" lang="en-US" sz="1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9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11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76520" y="563868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Rockwell Extra Bold"/>
              </a:rPr>
              <a:t>             </a:t>
            </a:r>
            <a:r>
              <a:rPr b="1" lang="en-US" sz="3600" spc="-1" strike="noStrike">
                <a:solidFill>
                  <a:srgbClr val="3333cc"/>
                </a:solidFill>
                <a:latin typeface="Rockwell Extra Bold"/>
              </a:rPr>
              <a:t>THANK YOU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8174-FF89-414F-A0FF-7CF820BEB7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2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9" dur="2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5715000" cy="5867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 flipH="1" flipV="1">
            <a:off x="5562360" y="3428640"/>
            <a:ext cx="2361960" cy="1066680"/>
          </a:xfrm>
          <a:prstGeom prst="line">
            <a:avLst/>
          </a:prstGeom>
          <a:ln w="57240">
            <a:solidFill>
              <a:srgbClr val="3333cc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Location Of Uga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9C75-8B59-4C6F-AF5A-9B37B2663C3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ccff"/>
                </a:solidFill>
                <a:latin typeface="Times New Roman"/>
              </a:rPr>
              <a:t>Uganda Country Prof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 lo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ategically located on the conti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all-year clim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mbient temperature  -(18° - 29°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in Fall                      -50-2000mm p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pul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5 mill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ze- total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241,038 sq. km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197,097 sq. km (La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3BBF-FDED-4A4C-9589-05443C1F24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8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8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8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8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orm to industry based on Government, Regional and International recommendation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tes now more open to liberalization after  consensus reached at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Worldwide Air Transport Conference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is being implemented at national and regional lev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frican Union, SADC, COMESA, EAC etc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ental level liberalization program based on Yamoussoukro Decision of 19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Background to liber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D587-9F49-4C32-99E1-5F07C2502C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514600" y="59436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MESA, SADC, EAC Member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COMESA Map"/>
          <p:cNvPicPr/>
          <p:nvPr/>
        </p:nvPicPr>
        <p:blipFill>
          <a:blip r:embed="rId1"/>
          <a:stretch/>
        </p:blipFill>
        <p:spPr>
          <a:xfrm>
            <a:off x="1752480" y="533520"/>
            <a:ext cx="7391520" cy="60865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3200400"/>
            <a:ext cx="3657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OMESA  20 Countr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SADC        14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EAC             3 Cou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30DA-E0A6-492A-90C4-CD22554F3E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beralization process is progressing well and brought new opportunities and challenges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aviation international agencies e.g. WTO with its GATS, have picked interest in Air Transport Managemen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s are in place to review GATS Annex on Air Transport Services to extend its cove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0" y="4906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0" lang="en-US" sz="4400" spc="-1" strike="noStrike">
                <a:solidFill>
                  <a:srgbClr val="ccccff"/>
                </a:solidFill>
                <a:latin typeface="Times New Roman"/>
              </a:rPr>
              <a:t>Background to liberalization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E83-35B2-47A9-9E8A-7F2EC6D142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1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-360" y="3124080"/>
            <a:ext cx="8458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ital 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the desired/expected outcomes of liberalization be assu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it necessary to have safeguards or is competition a sufficient safeguar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National carriers survive without safeguards in liberalized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80880" y="655200"/>
            <a:ext cx="87631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tate participation in Int. Air Trans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79440" y="1413000"/>
            <a:ext cx="6950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2952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vening of the 5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CAO Worldwide is timely. It should further position ICAO as the legitimate agency to steer Civil Aviation to new heigh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D09C-330F-4114-AF16-E73AA750EC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a state allow its national airline(s) to collapse and expect the foreign-owned airlines to provide the services need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sustainability of carriers and assurance of services be achieved in a liberalized environ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es it matter if a state has no national airlin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380880" y="655200"/>
            <a:ext cx="84297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ccff"/>
                </a:solidFill>
                <a:latin typeface="Times New Roman"/>
              </a:rPr>
              <a:t>State participation cont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F301-C359-4137-B79F-404A514EA30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6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9" dur="5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8T08:42:28Z</dcterms:created>
  <dc:creator>MO W</dc:creator>
  <dc:description/>
  <dc:language>en-US</dc:language>
  <cp:lastModifiedBy>PC0314 ICAO</cp:lastModifiedBy>
  <dcterms:modified xsi:type="dcterms:W3CDTF">2003-03-21T17:20:21Z</dcterms:modified>
  <cp:revision>54</cp:revision>
  <dc:subject/>
  <dc:title>PowerPoint Presentation</dc:title>
</cp:coreProperties>
</file>