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B7A-43B1-4F05-AB27-F9199B9B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D594-9D88-4CFE-A9A4-0059BD93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48A-7073-4BAB-BC90-DE4977C7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907-9A9A-4B7A-84FF-E58106C5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6AEF-9CA5-4E7B-8427-4F83D4D2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7C47-2997-4C7F-A64B-F88D723A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F4F3-A15F-4CC2-9C2E-4C16274A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F69E-A8C1-4463-B73A-3C4BD139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A1D2-24AA-4F84-A378-462328DA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1EAB-BA91-4F12-B856-02AD0976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A3A0-D2AC-46F2-A2FE-9AECA778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6068-AFF2-4B13-8D3C-87064E68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F744-5641-42E3-B0A1-C471AA0D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D67C-8224-497D-83BE-EDBD0D04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3101-902A-4226-BCA4-DC6176F9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ABE5-C79D-462D-81C1-8E8E8A0D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7A2C-8111-431A-87B4-2EC3A40F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1966-FAB0-4B3F-88A2-D37B0BB5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65F7-4313-4125-ADDB-DC21D0EF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17AD-F489-4C23-B95F-739A62AC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4461-0662-49B8-981D-E4EF0339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3AF1-4BCB-4090-AA31-57179F87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A462-8406-4B6B-AC10-BBA495AB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49B-C761-4313-981D-E7DE0FAD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60DD-0E7D-4229-898D-952C92B8D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044" r="0" b="0"/>
          <a:stretch/>
        </p:blipFill>
        <p:spPr>
          <a:xfrm>
            <a:off x="0" y="1428840"/>
            <a:ext cx="9144000" cy="481968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0" y="685800"/>
            <a:ext cx="9153360" cy="730080"/>
            <a:chOff x="0" y="685800"/>
            <a:chExt cx="9153360" cy="730080"/>
          </a:xfrm>
        </p:grpSpPr>
        <p:sp>
          <p:nvSpPr>
            <p:cNvPr id="7" name=""/>
            <p:cNvSpPr/>
            <p:nvPr/>
          </p:nvSpPr>
          <p:spPr>
            <a:xfrm>
              <a:off x="9360" y="685800"/>
              <a:ext cx="9144000" cy="726480"/>
            </a:xfrm>
            <a:prstGeom prst="rect">
              <a:avLst/>
            </a:prstGeom>
            <a:solidFill>
              <a:srgbClr val="48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360" y="110016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360" y="115092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360" y="120168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360" y="125208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9360" y="130284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360" y="135504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360" y="79524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360" y="84564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360" y="89640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360" y="94716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360" y="100476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104940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360" y="693720"/>
              <a:ext cx="914400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360" y="74448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1415880"/>
              <a:ext cx="914400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" name="" descr="Civil Aviation Authority Logo"/>
          <p:cNvPicPr/>
          <p:nvPr/>
        </p:nvPicPr>
        <p:blipFill>
          <a:blip r:embed="rId3"/>
          <a:stretch/>
        </p:blipFill>
        <p:spPr>
          <a:xfrm>
            <a:off x="0" y="0"/>
            <a:ext cx="990720" cy="539640"/>
          </a:xfrm>
          <a:prstGeom prst="rect">
            <a:avLst/>
          </a:prstGeom>
          <a:ln w="0">
            <a:noFill/>
          </a:ln>
        </p:spPr>
      </p:pic>
      <p:pic>
        <p:nvPicPr>
          <p:cNvPr id="24" name="" descr=""/>
          <p:cNvPicPr/>
          <p:nvPr/>
        </p:nvPicPr>
        <p:blipFill>
          <a:blip r:embed="rId4"/>
          <a:stretch/>
        </p:blipFill>
        <p:spPr>
          <a:xfrm>
            <a:off x="8229600" y="0"/>
            <a:ext cx="9144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323E-E679-4A62-8425-5D3A9BFF9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0" t="18393" r="14165" b="174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4800" y="2376360"/>
            <a:ext cx="7940880" cy="173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Safeguards and Sustainability to the Liberalization of Air Trans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27280" y="927000"/>
            <a:ext cx="578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CAO 5th Worldwide Air Transport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CAO Headquarters, Mont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4267080"/>
            <a:ext cx="7230960" cy="265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brose Akando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Managing Directo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Civil Aviation Authority, Ug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23 March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Civil Aviation Authority Logo"/>
          <p:cNvPicPr/>
          <p:nvPr/>
        </p:nvPicPr>
        <p:blipFill>
          <a:blip r:embed="rId1"/>
          <a:stretch/>
        </p:blipFill>
        <p:spPr>
          <a:xfrm>
            <a:off x="0" y="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496280" y="0"/>
            <a:ext cx="16477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CFFD-F0C6-463F-A4B6-EE1E16D034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eralization of cross-border airline serv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lition of royalty payment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ion of multiple designat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liberalization of cargo serv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apacity restriction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 exemptions on foreign airlin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ation of selected countryside aerodromes as international entry/exit points to promote tourism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80880" y="584280"/>
            <a:ext cx="842976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Liberalization in Ug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953-BFAC-4605-816A-0CDE5FAE2E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of COMESA Legal Notice No.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ion of the Yamoussoukro Declaration of 199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lition of restrictions on foreign ownership in national carr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lition of requirement for substantial ownersh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380880" y="594360"/>
            <a:ext cx="8429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Liberalization in Uganda con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AC79-2EC6-4B16-B298-DD9B8CF564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ca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00 º 02’ 26”.93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32 º 26’ 25”.95 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titud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3782 ft  AM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n runway(17/35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3658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Entebbe International Air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1F72-CAA8-4F46-A7B4-A7351FC26A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43000" y="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erial 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05F-90D0-4B1A-B564-BDE77F12A5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TRAFFIC THROUGH ENTEBBE INT. AIR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04920" y="1371600"/>
          <a:ext cx="883908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8390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821-CEFF-45DF-A30B-2DBF8A6398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TRAFFIC THROUGH ENTEBBE INT. AIRPORT Co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676520"/>
          <a:ext cx="822960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2296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87C3-FF78-4BFF-B2B4-C98C41883E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TRAFFIC FORECASTS 2002/2003 TO 2007/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600200"/>
          <a:ext cx="9144000" cy="50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E9F-DE0B-462E-AD24-6E1B82A8F5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ce of National airline means continued state participation in Air Transpor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 Transport bears with it significant economic, social, political and strategic advantages that should not  be delegated to foreign carrier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carriers only provide commercially viable services yet air transport often goes beyond commercial bound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tained participation of states will guarantee availability of services that are in nation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380880" y="615960"/>
            <a:ext cx="84297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National against Foreign-Owned Air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24DB-C7E3-4201-A9A2-2E36947152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501480"/>
          <a:ext cx="9144000" cy="635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1480"/>
                    <a:ext cx="9144000" cy="63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905120" y="0"/>
            <a:ext cx="5638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ganda’s Wildlife Endow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C936-51F2-43AA-BCB3-0F0E01D874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lthy and fair competition brings about improved service provision to the benefit of the industry and consumer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ition survival strategies such as cost cutting, code sharing, franchising etc. cannot assure the survival being sough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ion prevents competition from causing severe market distortions to the detriment of consumer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ition without regulation is not a sufficient safeguard for Air Transport sustainabil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80880" y="584280"/>
            <a:ext cx="842976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Competition and Sustain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0CD-F4CB-4A70-8413-C43CBF2F24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Presentation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1523880"/>
            <a:ext cx="404820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reign investment in National Airli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stained participation of all in International Air Transpor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of Conduc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2056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spute Resolu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2056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CAO’s R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9240" y="1541520"/>
            <a:ext cx="435276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ackgrou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e participation in Int. Air Transpor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iberalization in Ugand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2056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ational against Foreign-owned Airli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2056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etition &amp; Sustainability of National Airli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1447920"/>
            <a:ext cx="152640" cy="4952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7CE-B41E-46F9-AC09-5659826113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guards must rationally and realistically address disparities relating to level of development, size and location of states including their air carriers to guarantee sustainabil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ailored safeguards, developing country national carriers simply can’t survive in a  liberalization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 examples on the African continent serve to vindicate this 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ise of Uganda Air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ise of Zambia Air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sale of Air Tanzania to South African Air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380880" y="59436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Competition and Sustainabilit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598-6CA6-48ED-9601-EB64558A83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much needed yet scarce capital financ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foreign ownership has implications on designation and authorization of carrier; under the BASA regime. (Substantial ownership &amp; effective control clau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ownership creates opportunities as well as regulatory challen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ulatory Challen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 progress of liberalization proc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 airlines take advantage of cross-border capital financing opportuniti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creation of flags of conven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218960" y="655200"/>
            <a:ext cx="7924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Foreign Investment in National Air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1B3-7479-4E99-94B0-B28A52778F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360" y="1828440"/>
            <a:ext cx="9448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‘Equality of opportunity’ principle should not only be observed but should also be achieved irrespective of extent of liberalization and level of compet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feguards-Create a healthy and fair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line alliances should be cautiously regulated to avoid reducing competition;- right of choice by the consu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access should be open, provided the capacity offered by each airline is matched by market potential or size to   avoid capacity dumping or preda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ing mechanism should remain flexible so that airlines are free to vary their prices within authorized marg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0" y="80676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Sustained participation for all in Int. Air Tran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EDA4-3150-4F8D-88C7-47B7C2D7C7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cceptable code of conduct should be developed to provide common understanding of what is acceptable and what is no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ype of code will help minimize dispu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380880" y="584280"/>
            <a:ext cx="842976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Code of Con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630-0BCC-4D81-A4FC-943340818E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eed to agree on a dispute resolution mechanism to help settle disputes between contracting st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form of arbitration will be necessary for disputes that cannot be amicably resol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380880" y="584280"/>
            <a:ext cx="842976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Disput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45A4-3300-4D29-B7C2-FEAD2C88F9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bute should be paid to ICAO for its role in ensuring the orderly development of International Air Transpo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sues that need to be addressed by ICAO inclu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 a study on the effects of franchis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 a code of conduct that will govern healthy competition among carrier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 the nature and form of arbitration and procedures to be followed in resolving disputes between members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380880" y="594360"/>
            <a:ext cx="8429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ICAO’s R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E56-BF7B-4D08-9955-C3587B4D1D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Times New Roman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eralization with Safeguards is beneficial for the development of Global Air Transport indus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lobal aviation industry is in transition, with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allenges and Opportunities of Liberal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quiring our concerted effort; which is why the ICAO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rldwide Air Transport Conference is very relevant and tim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5056-0EBB-47B4-9FC2-B8D7921FD7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Civil Aviation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238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.O Box 5536 Kampala, Ug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: 256- 41-320516/9, 3213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x: 256-41-32145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-mail :   aakandonda@caa.co.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iation@caa.co.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bsite:  www.caa.co.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1447920"/>
            <a:ext cx="579096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58672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o maintain the Highest Standards of Safety and Service in Civil A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53341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CAA Uganda, Mission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4332-4F7A-4D84-9B29-F0D9A07640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523520" y="1294920"/>
            <a:ext cx="71629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600" spc="-1" strike="noStrike">
                <a:solidFill>
                  <a:srgbClr val="000000"/>
                </a:solidFill>
                <a:latin typeface="Times New Roman"/>
              </a:rPr>
              <a:t>?         ?</a:t>
            </a:r>
            <a:endParaRPr b="0" lang="en-US" sz="1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9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1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5638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Rockwell Extra Bold"/>
              </a:rPr>
              <a:t>             </a:t>
            </a:r>
            <a:r>
              <a:rPr b="1" lang="en-US" sz="3600" spc="-1" strike="noStrike">
                <a:solidFill>
                  <a:srgbClr val="3333cc"/>
                </a:solidFill>
                <a:latin typeface="Rockwell Extra Bold"/>
              </a:rPr>
              <a:t>THANK YO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FDD-9A6A-4FB1-BEEF-0477DBA778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9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71500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 flipH="1" flipV="1">
            <a:off x="5562360" y="3428640"/>
            <a:ext cx="2361960" cy="106668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ocation Of Ug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1B9-63EB-4CF0-A19C-C9F4645E9B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Uganda Country Pro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 lo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ically located on the conti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all-year cli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bient temperature  -(18° - 29°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n Fall                      -50-2000mm 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25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- total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241,038 sq. km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197,097 sq. km (La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147-103B-433A-B3FC-19FAE4B7AD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orm to industry based on Government, Regional and International recommendation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s now more open to liberalization after  consensus reached at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rldwide Air Transport Conferen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is being implemented at national and regional lev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rican Union, SADC, COMESA, EAC etc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ental level liberalization program based on Yamoussoukro Decision of 1999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0" y="4906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Background to liber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CC5-02FF-4B4D-9A45-526B2B0526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14600" y="59436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ESA, SADC, EAC Me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COMESA Map"/>
          <p:cNvPicPr/>
          <p:nvPr/>
        </p:nvPicPr>
        <p:blipFill>
          <a:blip r:embed="rId1"/>
          <a:stretch/>
        </p:blipFill>
        <p:spPr>
          <a:xfrm>
            <a:off x="1752480" y="533520"/>
            <a:ext cx="7391520" cy="6086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3200400"/>
            <a:ext cx="365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OMESA  20 Count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ADC        14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AC             3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48D4-4D11-4277-B8F2-C0E136377E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eralization process is progressing well and brought new opportunities and challeng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aviation international agencies e.g. WTO with its GATS, have picked interest in Air Transport Managemen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 are in place to review GATS Annex on Air Transport Services to extend its cover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4906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Background to liberalizati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710-0112-462C-A2C8-64F2AF6A31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360" y="31240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l Ques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the desired/expected outcomes of liberalization be assu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necessary to have safeguards or is competition a sufficient safegua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National carriers survive without safeguards in liberalized environ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80880" y="655200"/>
            <a:ext cx="876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State participation in Int. Air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9440" y="1413000"/>
            <a:ext cx="695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295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ning of the 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CAO Worldwide is timely. It should further position ICAO as the legitimate agency to steer Civil Aviation to new heigh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D341-6C4B-4CE3-BBE0-D13B91F868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a state allow its national airline(s) to collapse and expect the foreign-owned airlines to provide the services 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sustainability of carriers and assurance of services be achieved in a liberalized environ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it matter if a state has no national airli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380880" y="655200"/>
            <a:ext cx="842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State participation cont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FEE-8E8A-4BA1-AB3B-3BAFD874E8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08:42:28Z</dcterms:created>
  <dc:creator>MO W</dc:creator>
  <dc:description/>
  <dc:language>en-US</dc:language>
  <cp:lastModifiedBy>PC0314 ICAO</cp:lastModifiedBy>
  <dcterms:modified xsi:type="dcterms:W3CDTF">2003-03-21T17:20:21Z</dcterms:modified>
  <cp:revision>54</cp:revision>
  <dc:subject/>
  <dc:title>PowerPoint Presentation</dc:title>
</cp:coreProperties>
</file>