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31F-AC8C-480B-A47D-825A9CF4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982-B6C6-46E3-878C-DBF79022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4187-4760-433E-8CB4-E07BF0D2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F31-EF56-4DDC-9472-5612B03F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4B5-59A3-454F-A048-EFF7AAA2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6C37-BE28-4307-AEA9-29AD7658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643-F6BE-4A78-908D-B8C47640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DEED-9DE5-415D-8268-B874DAD9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242-7F2B-4B47-A85F-C14DDB69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0375-F0D3-4A3C-9C78-69B6966A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D00-29E5-49AC-88C3-2181E8BE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2C8C-3ABF-4878-8581-F2A036D8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13C0-48B8-458E-8931-3AFF49073532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5724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4760" y="1728720"/>
            <a:ext cx="605304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762120" y="1219320"/>
            <a:ext cx="7696080" cy="3753000"/>
            <a:chOff x="762120" y="1219320"/>
            <a:chExt cx="7696080" cy="3753000"/>
          </a:xfrm>
        </p:grpSpPr>
        <p:sp>
          <p:nvSpPr>
            <p:cNvPr id="123" name=""/>
            <p:cNvSpPr/>
            <p:nvPr/>
          </p:nvSpPr>
          <p:spPr>
            <a:xfrm>
              <a:off x="762120" y="1219320"/>
              <a:ext cx="769608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2. CONOCIMIENTO Y EXPERIENCIA EN EL ÁMBITO AERONÁUTIC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xperiencia práctica en el manejo del lenguaje técnico aeronáutico (fraseologí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xperiencia mínima de 2 años en comunicaciones radio-telefónicas aeronáutic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71640" y="344340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71640" y="435456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762120" y="1219320"/>
            <a:ext cx="7696080" cy="2838240"/>
            <a:chOff x="762120" y="1219320"/>
            <a:chExt cx="7696080" cy="2838240"/>
          </a:xfrm>
        </p:grpSpPr>
        <p:sp>
          <p:nvSpPr>
            <p:cNvPr id="130" name=""/>
            <p:cNvSpPr/>
            <p:nvPr/>
          </p:nvSpPr>
          <p:spPr>
            <a:xfrm>
              <a:off x="762120" y="1219320"/>
              <a:ext cx="769608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3.   INTEGRIDAD Y SÓLIDOS VALORES ÉTI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apacidad de juicio crítico obje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mparcialidad en la toma de decisio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71640" y="314172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71640" y="375768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grpSp>
        <p:nvGrpSpPr>
          <p:cNvPr id="136" name=""/>
          <p:cNvGrpSpPr/>
          <p:nvPr/>
        </p:nvGrpSpPr>
        <p:grpSpPr>
          <a:xfrm>
            <a:off x="762120" y="1219320"/>
            <a:ext cx="7696080" cy="4940640"/>
            <a:chOff x="762120" y="1219320"/>
            <a:chExt cx="7696080" cy="4940640"/>
          </a:xfrm>
        </p:grpSpPr>
        <p:sp>
          <p:nvSpPr>
            <p:cNvPr id="137" name=""/>
            <p:cNvSpPr/>
            <p:nvPr/>
          </p:nvSpPr>
          <p:spPr>
            <a:xfrm>
              <a:off x="762120" y="1219320"/>
              <a:ext cx="7696080" cy="49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V </a:t>
              </a: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PROGRAMA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CAPACITACIÓN EVALUA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  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         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TEM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La evalu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erfil del evalu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aracterísticas del evalu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Ética y val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valuaciones tradiciona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valuación de competencia lingüísti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onceptos y antecedentes OAC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71640" y="3097080"/>
              <a:ext cx="214200" cy="21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71640" y="354816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71640" y="492300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71640" y="400212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68400" y="4449600"/>
              <a:ext cx="214200" cy="21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71640" y="537228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71640" y="5832360"/>
              <a:ext cx="214200" cy="21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762120" y="1260360"/>
            <a:ext cx="7696080" cy="47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enguaje aeronáutico (Inglés Técnico Aeronáuti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Terminología de operaciones aeronáu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lfabeto aeronáutico foné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ocabulario de la terminología meteorológ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ocabulario de las partes de una aeron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ocabulario de operaciones terrestres y aeropuer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ocabulario de seguridad oper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Lenguaje común entre piloto y controlador de tráfico aér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Las 250 frases de cuatro palabras más utiliz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 algn="just"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Fraseolog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71640" y="1727280"/>
            <a:ext cx="21420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0880" y="2286000"/>
            <a:ext cx="6096240" cy="23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istema de diagnóstico ASPA/A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istema de captura de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rocedimiento del diagnó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0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plicación prác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2895480"/>
            <a:ext cx="214200" cy="21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3352680"/>
            <a:ext cx="214200" cy="21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3809880"/>
            <a:ext cx="214200" cy="21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4267080"/>
            <a:ext cx="214200" cy="21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752480" y="2803680"/>
            <a:ext cx="56912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ILOTOS ENTREVIS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e entrevistaron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eroMexic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5 pilo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Mexican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4 pilo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eromar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3 pilo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lick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2 pilo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Seminario ASPA-OACI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5 Pilo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Total       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9 pilo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39640" y="1219320"/>
            <a:ext cx="8209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imes New Roman"/>
              </a:rPr>
              <a:t>VI </a:t>
            </a:r>
            <a:r>
              <a:rPr b="1" lang="es-MX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PRUEBA PIL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Se llevó a cabo el procedimiento para la sesión de diagnós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5791320"/>
            <a:ext cx="464832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2120" y="1219320"/>
            <a:ext cx="769608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imes New Roman"/>
              </a:rPr>
              <a:t>VII </a:t>
            </a:r>
            <a:r>
              <a:rPr b="1" lang="es-MX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a prueba piloto cumplió el propósito para la que fue instrumentada, arrojando sugerencias y observaciones que serán atendidas y que en efecto enriquecen el proceso e instrumento de medi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l sistema diseñado por el Comité ASPA / Alas de América, demostró su viabilidad en la obtención de la información requerida (validez), y en la uniformidad del procedimiento para su aplicación (confiabilidad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a confidencialidad, el procedimiento de la entrevista y la actitud del evaluador, generaron tranquilidad y confianza en los participa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1976400"/>
            <a:ext cx="21420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3498840"/>
            <a:ext cx="21420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5014800"/>
            <a:ext cx="214200" cy="214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62120" y="1219320"/>
            <a:ext cx="7696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a mayoría de los participantes solicitaron conocer el resultado de la entrevista. Se les informó que este ejercicio era sólo una prueba piloto. Los evaluadores no proporcionaron resultado algu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os resultados globales obtenidos fuer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ivel 6 : 7 pilo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ivel 5 : 5 pilo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ivel 4:  5 pilo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ivel 3:  2 Pilo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240" indent="-4698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lgunos pilotos manifestaron una sincera preocupación por la nueva normatividad  OACI y agradecieron que se estén realizando estas ac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1914480"/>
            <a:ext cx="21420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71640" y="3432240"/>
            <a:ext cx="21420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5572080"/>
            <a:ext cx="214200" cy="214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4119480"/>
            <a:ext cx="141120" cy="141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4411800"/>
            <a:ext cx="141120" cy="14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79640" y="4727520"/>
            <a:ext cx="141120" cy="141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029200"/>
            <a:ext cx="141480" cy="14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762120" y="1219320"/>
            <a:ext cx="7543800" cy="4696200"/>
            <a:chOff x="762120" y="1219320"/>
            <a:chExt cx="7543800" cy="4696200"/>
          </a:xfrm>
        </p:grpSpPr>
        <p:sp>
          <p:nvSpPr>
            <p:cNvPr id="186" name=""/>
            <p:cNvSpPr/>
            <p:nvPr/>
          </p:nvSpPr>
          <p:spPr>
            <a:xfrm>
              <a:off x="762120" y="1219320"/>
              <a:ext cx="7410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0000"/>
                  </a:solidFill>
                  <a:latin typeface="Times New Roman"/>
                </a:rPr>
                <a:t>VIII </a:t>
              </a:r>
              <a:r>
                <a:rPr b="1" lang="es-MX" sz="24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UNIVERSO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APLIC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43280" y="2543040"/>
              <a:ext cx="546264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Aeroméxico</a:t>
              </a:r>
              <a:r>
                <a:rPr b="1" lang="es-MX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82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Mexicana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81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Click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10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Aerolitoral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25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Aeromar </a:t>
              </a:r>
              <a:r>
                <a:rPr b="1" lang="es-MX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0000"/>
                  </a:solidFill>
                  <a:latin typeface="Arial"/>
                  <a:ea typeface="Arial Unicode MS"/>
                </a:rPr>
                <a:t>TOTAL:  </a:t>
              </a:r>
              <a:r>
                <a:rPr b="1" lang="es-MX" sz="2000" spc="-1" strike="noStrike">
                  <a:solidFill>
                    <a:srgbClr val="ff0000"/>
                  </a:solidFill>
                  <a:latin typeface="Arial"/>
                  <a:ea typeface="Arial Unicode MS"/>
                </a:rPr>
                <a:t>	</a:t>
              </a:r>
              <a:r>
                <a:rPr b="1" lang="es-MX" sz="2000" spc="-1" strike="noStrike">
                  <a:solidFill>
                    <a:srgbClr val="ff0000"/>
                  </a:solidFill>
                  <a:latin typeface="Arial"/>
                  <a:ea typeface="Arial Unicode MS"/>
                </a:rPr>
                <a:t>            2103 pilo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71640" y="5516640"/>
              <a:ext cx="705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empo aproximado por evaluación: 30 minuto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71640" y="4221000"/>
              <a:ext cx="35290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62120" y="1219320"/>
            <a:ext cx="74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imes New Roman"/>
              </a:rPr>
              <a:t>IX </a:t>
            </a:r>
            <a:r>
              <a:rPr b="1" lang="es-MX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SE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44720" y="1773360"/>
          <a:ext cx="7054560" cy="4635360"/>
        </p:xfrm>
        <a:graphic>
          <a:graphicData uri="http://schemas.openxmlformats.org/drawingml/2006/table">
            <a:tbl>
              <a:tblPr/>
              <a:tblGrid>
                <a:gridCol w="1763640"/>
                <a:gridCol w="1763640"/>
                <a:gridCol w="1763640"/>
                <a:gridCol w="1763640"/>
              </a:tblGrid>
              <a:tr h="57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E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ÓDUL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ÍO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VALU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6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de marzo al 31 de ma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as de Amé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de marzo al 31 de ma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la de Reservas Me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de marzo al 31 de ma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terr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de marzo al 28 de ma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adalaja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de mayo al 19  de ma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éri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de marzo al 28 de abr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0" t="44747" r="16667" b="0"/>
          <a:stretch/>
        </p:blipFill>
        <p:spPr>
          <a:xfrm>
            <a:off x="228600" y="6172200"/>
            <a:ext cx="8686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251316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0066"/>
                </a:solidFill>
                <a:latin typeface="Arial"/>
                <a:ea typeface="Times New Roman"/>
              </a:rPr>
              <a:t>SEMINARIO REGIONAL OACI/ASP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0066"/>
                </a:solidFill>
                <a:latin typeface="Arial"/>
                <a:ea typeface="Times New Roman"/>
              </a:rPr>
              <a:t>SOBRE SISTEMAS DE GESTIÓN DE L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600" spc="-1" strike="noStrike">
                <a:solidFill>
                  <a:srgbClr val="000066"/>
                </a:solidFill>
                <a:latin typeface="Arial"/>
                <a:ea typeface="Times New Roman"/>
              </a:rPr>
              <a:t>SEGURIDAD OPERACIONAL (SM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ETODOLOGÍA DE DIAGNÓSTIC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OMPETENCIA LINGÜ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LAS DE AMÉRICA / AS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1528920" y="1712880"/>
          <a:ext cx="6084720" cy="343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8920" y="1712880"/>
                    <a:ext cx="6084720" cy="34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762120" y="1143000"/>
            <a:ext cx="7772400" cy="5108400"/>
            <a:chOff x="762120" y="1143000"/>
            <a:chExt cx="7772400" cy="5108400"/>
          </a:xfrm>
        </p:grpSpPr>
        <p:sp>
          <p:nvSpPr>
            <p:cNvPr id="52" name=""/>
            <p:cNvSpPr/>
            <p:nvPr/>
          </p:nvSpPr>
          <p:spPr>
            <a:xfrm>
              <a:off x="762120" y="1143000"/>
              <a:ext cx="7772400" cy="51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</a:t>
              </a:r>
              <a:r>
                <a:rPr b="1" lang="es-MX" sz="32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</a:t>
              </a:r>
              <a:r>
                <a:rPr b="1" lang="es-MX" sz="2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ANTECEDENTES</a:t>
              </a:r>
              <a:r>
                <a:rPr b="1" lang="es-MX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onsejo de Alas de América del 6 de Septiembre de 2004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Participación de Alas de América en el Comité Técnico de Implementación de la Competencia Lingüística de la Dirección General de Aeronáutica Civi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Valoración de opciones de sistemas de evaluación ya existent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onvicción de la necesidad de diseñar una metodología de diagnóstico específicamente orientada a determinar el nivel de dominio del idioma en el ámbito aeronáutico en el contexto de las radio comunicacion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6920" y="2317680"/>
              <a:ext cx="214560" cy="21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6920" y="2924280"/>
              <a:ext cx="21456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33400" y="414036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26920" y="5065560"/>
              <a:ext cx="214560" cy="21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762120" y="1143000"/>
            <a:ext cx="7772400" cy="5268240"/>
            <a:chOff x="762120" y="1143000"/>
            <a:chExt cx="7772400" cy="5268240"/>
          </a:xfrm>
        </p:grpSpPr>
        <p:sp>
          <p:nvSpPr>
            <p:cNvPr id="61" name=""/>
            <p:cNvSpPr/>
            <p:nvPr/>
          </p:nvSpPr>
          <p:spPr>
            <a:xfrm>
              <a:off x="762120" y="1143000"/>
              <a:ext cx="7772400" cy="52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I</a:t>
              </a:r>
              <a:r>
                <a:rPr b="1" lang="es-MX" sz="32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</a:t>
              </a:r>
              <a:r>
                <a:rPr b="1" lang="es-MX" sz="2400" spc="-1" strike="noStrike">
                  <a:solidFill>
                    <a:srgbClr val="000066"/>
                  </a:solidFill>
                  <a:latin typeface="Arial"/>
                  <a:ea typeface="Times New Roman"/>
                </a:rPr>
                <a:t>COMITÉ ASPA / ALAS</a:t>
              </a:r>
              <a:r>
                <a:rPr b="1" lang="es-MX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reado a iniciativa de la Secretaría de Asuntos Técnicos de ASPA, comenzó a sesionar en junio de 2005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Integrado por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Asuntos técnicos de ASP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olegio de Pilo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Grupo Mexicana / Cli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Grupo AeroMéxico / AeroLitor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Aerom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Propósit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Diseñar un instrumento de medición apegado a los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riterios del manual de la OACI que permita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diagnosticar preliminarmente la competencia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lingüística de los piloto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3400" y="504036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3400" y="311940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5200" y="229716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76360" y="3462480"/>
              <a:ext cx="14148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77800" y="3736800"/>
              <a:ext cx="141480" cy="141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76360" y="4013280"/>
              <a:ext cx="14148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77800" y="4284720"/>
              <a:ext cx="14148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77800" y="4562640"/>
              <a:ext cx="14148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grpSp>
        <p:nvGrpSpPr>
          <p:cNvPr id="73" name=""/>
          <p:cNvGrpSpPr/>
          <p:nvPr/>
        </p:nvGrpSpPr>
        <p:grpSpPr>
          <a:xfrm>
            <a:off x="762120" y="1143000"/>
            <a:ext cx="7772400" cy="5369040"/>
            <a:chOff x="762120" y="1143000"/>
            <a:chExt cx="7772400" cy="5369040"/>
          </a:xfrm>
        </p:grpSpPr>
        <p:sp>
          <p:nvSpPr>
            <p:cNvPr id="74" name=""/>
            <p:cNvSpPr/>
            <p:nvPr/>
          </p:nvSpPr>
          <p:spPr>
            <a:xfrm>
              <a:off x="762120" y="1143000"/>
              <a:ext cx="7772400" cy="53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RITERIOS RECTORES DEL COMITÉ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1828800" indent="-457200" algn="just">
                <a:lnSpc>
                  <a:spcPct val="9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VALIDEZ: Que mida efectivamente lo que pretende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1828800" indent="-457200" algn="just">
                <a:lnSpc>
                  <a:spcPct val="9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                 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medi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1828800" indent="-457200" algn="just">
                <a:lnSpc>
                  <a:spcPct val="9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1828800" indent="-457200" algn="just">
                <a:lnSpc>
                  <a:spcPct val="9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CONFIABILIDAD: Que arroje resultados uniform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1828800" indent="-457200" algn="just">
                <a:lnSpc>
                  <a:spcPct val="9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y consistent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Diseño de un instrumento de diagnóstico específico que integre la experiencia, la sensibilidad y los conocimientos respecto del desempeño del piloto aviador, desde el punto de vista de la propia función del aviador y de los contextos en que se desarrolla; con el apoyo técnico, metodológico y didáctico que aporta la estructura del Centro de Capacitación Alas de Améric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982880" y="2722680"/>
              <a:ext cx="14112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5200" y="210672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82880" y="3560760"/>
              <a:ext cx="141120" cy="141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9880" y="430380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762120" y="3213000"/>
            <a:ext cx="7772400" cy="657000"/>
            <a:chOff x="762120" y="3213000"/>
            <a:chExt cx="7772400" cy="657000"/>
          </a:xfrm>
        </p:grpSpPr>
        <p:sp>
          <p:nvSpPr>
            <p:cNvPr id="83" name=""/>
            <p:cNvSpPr/>
            <p:nvPr/>
          </p:nvSpPr>
          <p:spPr>
            <a:xfrm>
              <a:off x="762120" y="3213000"/>
              <a:ext cx="777240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onfidencialidad: Los resultados individuales serán manejados con estricta reserva sólo por ASP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5200" y="329256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762120" y="1219320"/>
            <a:ext cx="7696080" cy="5033520"/>
            <a:chOff x="762120" y="1219320"/>
            <a:chExt cx="7696080" cy="5033520"/>
          </a:xfrm>
        </p:grpSpPr>
        <p:sp>
          <p:nvSpPr>
            <p:cNvPr id="89" name=""/>
            <p:cNvSpPr/>
            <p:nvPr/>
          </p:nvSpPr>
          <p:spPr>
            <a:xfrm>
              <a:off x="762120" y="1219320"/>
              <a:ext cx="7696080" cy="50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0000"/>
                  </a:solidFill>
                  <a:latin typeface="Times New Roman"/>
                </a:rPr>
                <a:t>III </a:t>
              </a:r>
              <a:r>
                <a:rPr b="1" lang="es-MX" sz="24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OBJETIVOS</a:t>
              </a:r>
              <a:r>
                <a:rPr b="1" lang="es-MX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iagnosticar el nivel global de dominio del Idioma Inglés de los pilotos afiliados a ASPA, de acuerdo a los requerimientos de la OACI, para determinar estadísticamente los niveles actuales de competencia lingüístic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Propiciar la toma de conciencia individual de cada uno de los pilotos, respecto a su nivel de competencia lingüístic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on base en los resultados estadísticos adquiridos en el diagnóstico, fundamentar la estrategia y logística de capacitación, que permita alcanzar el nivel requerido por la OACI, para aquellos pilotos que aún no lo posee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71640" y="1989000"/>
              <a:ext cx="214200" cy="21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71640" y="3798720"/>
              <a:ext cx="214200" cy="21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71640" y="5014800"/>
              <a:ext cx="214200" cy="21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476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PROCES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DE LA METODOLOGÍ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 rot="11044200">
            <a:off x="2274480" y="1636560"/>
            <a:ext cx="4594320" cy="4594320"/>
          </a:xfrm>
          <a:custGeom>
            <a:avLst/>
            <a:gdLst>
              <a:gd name="textAreaLeft" fmla="*/ 0 w 4594320"/>
              <a:gd name="textAreaRight" fmla="*/ 4594680 w 4594320"/>
              <a:gd name="textAreaTop" fmla="*/ 0 h 4594320"/>
              <a:gd name="textAreaBottom" fmla="*/ 4594680 h 4594320"/>
            </a:gdLst>
            <a:ahLst/>
            <a:rect l="textAreaLeft" t="textAreaTop" r="textAreaRight" b="textAreaBottom"/>
            <a:pathLst>
              <a:path w="21600" h="21600">
                <a:moveTo>
                  <a:pt x="1641" y="14036"/>
                </a:moveTo>
                <a:arcTo wR="-9714" hR="-9714" stAng="9632576" swAng="-18113405"/>
                <a:lnTo>
                  <a:pt x="19234" y="17546"/>
                </a:lnTo>
                <a:arcTo wR="10800" hR="10800" stAng="2319172" swAng="18113405"/>
                <a:lnTo>
                  <a:pt x="23529" y="6303"/>
                </a:lnTo>
                <a:lnTo>
                  <a:pt x="21551" y="10441"/>
                </a:lnTo>
                <a:lnTo>
                  <a:pt x="17413" y="8464"/>
                </a:lnTo>
                <a:close/>
              </a:path>
            </a:pathLst>
          </a:custGeom>
          <a:solidFill>
            <a:srgbClr val="000066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78800" y="2276640"/>
            <a:ext cx="301068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ores integ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440" y="4908600"/>
            <a:ext cx="2592360" cy="70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ción con niveles O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808960" y="3048120"/>
            <a:ext cx="1873800" cy="167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nun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cabul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uide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ren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a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5137200"/>
            <a:ext cx="3048120" cy="61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ementos de m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e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8040" y="3429000"/>
            <a:ext cx="289332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gnóstico Indiv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1480" y="2362320"/>
            <a:ext cx="176400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ual O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86520" y="3400560"/>
            <a:ext cx="141120" cy="14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84720" y="3608280"/>
            <a:ext cx="141480" cy="141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4720" y="3811680"/>
            <a:ext cx="141480" cy="14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84720" y="4027320"/>
            <a:ext cx="141480" cy="141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4720" y="4243320"/>
            <a:ext cx="141480" cy="141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84720" y="4452840"/>
            <a:ext cx="141480" cy="141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10160" y="5538960"/>
            <a:ext cx="141480" cy="141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315200" y="331920"/>
            <a:ext cx="1523880" cy="1420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57200" y="512640"/>
            <a:ext cx="1882800" cy="105732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762120" y="1219320"/>
            <a:ext cx="7696080" cy="4118760"/>
            <a:chOff x="762120" y="1219320"/>
            <a:chExt cx="7696080" cy="4118760"/>
          </a:xfrm>
        </p:grpSpPr>
        <p:sp>
          <p:nvSpPr>
            <p:cNvPr id="115" name=""/>
            <p:cNvSpPr/>
            <p:nvPr/>
          </p:nvSpPr>
          <p:spPr>
            <a:xfrm>
              <a:off x="762120" y="1219320"/>
              <a:ext cx="7696080" cy="41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s-MX" sz="2400" spc="-1" strike="noStrike">
                  <a:solidFill>
                    <a:srgbClr val="ff0000"/>
                  </a:solidFill>
                  <a:latin typeface="Times New Roman"/>
                </a:rPr>
                <a:t>IV</a:t>
              </a: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s-MX" sz="24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PERFIL DEL EVALUADOR</a:t>
              </a:r>
              <a:r>
                <a:rPr b="1" lang="es-MX" sz="2000" spc="-1" strike="noStrike">
                  <a:solidFill>
                    <a:srgbClr val="000066"/>
                  </a:solidFill>
                  <a:latin typeface="Arial"/>
                  <a:ea typeface="Arial Unicode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OMINIO DEL IDIOMA INGLÉ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Diploma de Maestro (Teacher’s Diplom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Certificación Internac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60240" indent="-4698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Experiencia mínima de 5 años en los procesos de enseñanza – evaluación del idioma inglés como segunda lengu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71640" y="319104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71640" y="380700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71640" y="440064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5:10:20Z</dcterms:created>
  <dc:creator>diseño</dc:creator>
  <dc:description/>
  <dc:language>en-US</dc:language>
  <cp:lastModifiedBy>Claudia López Pérez</cp:lastModifiedBy>
  <dcterms:modified xsi:type="dcterms:W3CDTF">2006-03-27T14:06:22Z</dcterms:modified>
  <cp:revision>131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21800.00000000</vt:lpwstr>
  </property>
  <property fmtid="{D5CDD505-2E9C-101B-9397-08002B2CF9AE}" pid="5" name="Year">
    <vt:lpwstr>2006</vt:lpwstr>
  </property>
</Properties>
</file>