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90A-9F36-4969-9C59-7C25AC6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36-5F11-4E67-8EC3-D1E0905E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DE1-B3E0-4C23-BDB4-757BA419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6D4-50D0-4DE0-8232-FFD4441E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6FF-FB3A-4E44-9406-93B20B5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2BD-A7F0-4453-A347-2D3BA765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5EB-7F8B-48ED-9EAC-B8AD4284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EA1-24A9-4149-AFC9-54B368D9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57D-0EBE-48EA-BAFD-827B4BA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427-7371-4B6F-85F0-4DC3520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2B5-E790-4CDF-8C5D-FB051CB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F69-66E6-469C-96B3-CE81712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578-E761-4284-8587-36DD0591AE4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4760" y="1728720"/>
            <a:ext cx="6053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762120" y="1219320"/>
            <a:ext cx="7696080" cy="3753000"/>
            <a:chOff x="762120" y="1219320"/>
            <a:chExt cx="7696080" cy="3753000"/>
          </a:xfrm>
        </p:grpSpPr>
        <p:sp>
          <p:nvSpPr>
            <p:cNvPr id="123" name=""/>
            <p:cNvSpPr/>
            <p:nvPr/>
          </p:nvSpPr>
          <p:spPr>
            <a:xfrm>
              <a:off x="762120" y="1219320"/>
              <a:ext cx="76960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. CONOCIMIENTO Y EXPERIENCIA EN EL ÁMBITO AERONÁUTIC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práctica en el manejo del lenguaje técnico aeronáutico (fraseologí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mínima de 2 años en comunicaciones radio-telefónicas aeronáut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1640" y="34434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1640" y="43545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62120" y="1219320"/>
            <a:ext cx="7696080" cy="2838240"/>
            <a:chOff x="762120" y="1219320"/>
            <a:chExt cx="7696080" cy="2838240"/>
          </a:xfrm>
        </p:grpSpPr>
        <p:sp>
          <p:nvSpPr>
            <p:cNvPr id="130" name=""/>
            <p:cNvSpPr/>
            <p:nvPr/>
          </p:nvSpPr>
          <p:spPr>
            <a:xfrm>
              <a:off x="762120" y="1219320"/>
              <a:ext cx="76960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.   INTEGRIDAD Y SÓLIDOS VALORES ÉT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pacidad de juicio crítico obje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mparcialidad en la toma de decis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71640" y="31417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1640" y="37576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762120" y="1219320"/>
            <a:ext cx="7696080" cy="4940640"/>
            <a:chOff x="762120" y="1219320"/>
            <a:chExt cx="7696080" cy="4940640"/>
          </a:xfrm>
        </p:grpSpPr>
        <p:sp>
          <p:nvSpPr>
            <p:cNvPr id="137" name=""/>
            <p:cNvSpPr/>
            <p:nvPr/>
          </p:nvSpPr>
          <p:spPr>
            <a:xfrm>
              <a:off x="762120" y="1219320"/>
              <a:ext cx="7696080" cy="49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PROGRAM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CAPACITACIÓN EVALU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 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TE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a evalu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fil del evalu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racterísticas del evalu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Ética y 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aluaciones tradici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aluación de competencia lingüís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ceptos y antecedentes OA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09708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1640" y="35481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1640" y="49230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1640" y="40021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68400" y="44496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53722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640" y="583236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2120" y="1260360"/>
            <a:ext cx="769608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aeronáutico (Inglés Técnico Aeronáu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erminología de operaciones aeronáu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lfabeto aeronáutico foné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la terminología meteor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las partes de una aeron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operaciones terrestres y aero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seguridad 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común entre piloto y controlador de tráfico aé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as 250 frases de cuatro palabras más uti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ase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7272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2286000"/>
            <a:ext cx="60962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 de diagnóstico ASPA/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 de captura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cedimiento del 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ción prác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8954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3526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8098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2670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2803680"/>
            <a:ext cx="569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ILOTOS ENTREVI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 entrevistaron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Mex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xica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ma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ic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minario ASPA-OACI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otal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9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1219320"/>
            <a:ext cx="820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VI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RUEBA 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e llevó a cabo el procedimiento para la sesión de diagnós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5791320"/>
            <a:ext cx="4648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1219320"/>
            <a:ext cx="7696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VII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prueba piloto cumplió el propósito para la que fue instrumentada, arrojando sugerencias y observaciones que serán atendidas y que en efecto enriquecen el proceso e instrumento de med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l sistema diseñado por el Comité ASPA / Alas de América, demostró su viabilidad en la obtención de la información requerida (validez), y en la uniformidad del procedimiento para su aplicación (confiabilid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confidencialidad, el procedimiento de la entrevista y la actitud del evaluador, generaron tranquilidad y confianza en los particip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97640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49884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01480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1219320"/>
            <a:ext cx="7696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mayoría de los participantes solicitaron conocer el resultado de la entrevista. Se les informó que este ejercicio era sólo una prueba piloto. Los evaluadores no proporcionaron resultado alg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os resultados globales obtenidos fuer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6 : 7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5 : 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4:  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3:  2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lgunos pilotos manifestaron una sincera preocupación por la nueva normatividad  OACI y agradecieron que se estén realizando est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144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43224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5720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119480"/>
            <a:ext cx="14112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4411800"/>
            <a:ext cx="14112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4727520"/>
            <a:ext cx="14112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02920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762120" y="1219320"/>
            <a:ext cx="7543800" cy="4696200"/>
            <a:chOff x="762120" y="1219320"/>
            <a:chExt cx="7543800" cy="4696200"/>
          </a:xfrm>
        </p:grpSpPr>
        <p:sp>
          <p:nvSpPr>
            <p:cNvPr id="186" name=""/>
            <p:cNvSpPr/>
            <p:nvPr/>
          </p:nvSpPr>
          <p:spPr>
            <a:xfrm>
              <a:off x="762120" y="1219320"/>
              <a:ext cx="741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VIII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UNIVERSO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PL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3280" y="2543040"/>
              <a:ext cx="54626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méxico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Mexican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Click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litoral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mar 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TOTAL:  </a:t>
              </a: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           2103 pilo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71640" y="5516640"/>
              <a:ext cx="70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empo aproximado por evaluación: 30 minu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1640" y="4221000"/>
              <a:ext cx="3529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120" y="121932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IX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S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4720" y="1773360"/>
          <a:ext cx="7054560" cy="46353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364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ÓDU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Í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ALU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s de Am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a de Reservas Me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err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marzo al 28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dalaj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e mayo al 19 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marzo al 28 de ab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44747" r="16667" b="0"/>
          <a:stretch/>
        </p:blipFill>
        <p:spPr>
          <a:xfrm>
            <a:off x="228600" y="6172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251316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EMINARIO REGIONAL OACI/AS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OBRE SISTEMAS DE GESTIÓN DE 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EGURIDAD OPERACIONAL (S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ODOLOGÍA DE DIAGNÓSTIC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ETENCIA LINGÜ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AS DE AMÉRICA / AS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8920" y="1712880"/>
          <a:ext cx="608472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712880"/>
                    <a:ext cx="608472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62120" y="1143000"/>
            <a:ext cx="7772400" cy="5108400"/>
            <a:chOff x="762120" y="1143000"/>
            <a:chExt cx="7772400" cy="5108400"/>
          </a:xfrm>
        </p:grpSpPr>
        <p:sp>
          <p:nvSpPr>
            <p:cNvPr id="52" name=""/>
            <p:cNvSpPr/>
            <p:nvPr/>
          </p:nvSpPr>
          <p:spPr>
            <a:xfrm>
              <a:off x="762120" y="1143000"/>
              <a:ext cx="7772400" cy="51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s-MX" sz="3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ANTECEDENTES</a:t>
              </a:r>
              <a:r>
                <a:rPr b="1" lang="es-MX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sejo de Alas de América del 6 de Septiembre de 200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articipación de Alas de América en el Comité Técnico de Implementación de la Competencia Lingüística de la Dirección General de Aeronáutica Civi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Valoración de opciones de sistemas de evaluación ya existent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nvicción de la necesidad de diseñar una metodología de diagnóstico específicamente orientada a determinar el nivel de dominio del idioma en el ámbito aeronáutico en el contexto de las radio comunicacion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6920" y="2317680"/>
              <a:ext cx="21456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6920" y="2924280"/>
              <a:ext cx="21456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3400" y="414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6920" y="5065560"/>
              <a:ext cx="21456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62120" y="1143000"/>
            <a:ext cx="7772400" cy="5268240"/>
            <a:chOff x="762120" y="1143000"/>
            <a:chExt cx="7772400" cy="5268240"/>
          </a:xfrm>
        </p:grpSpPr>
        <p:sp>
          <p:nvSpPr>
            <p:cNvPr id="61" name=""/>
            <p:cNvSpPr/>
            <p:nvPr/>
          </p:nvSpPr>
          <p:spPr>
            <a:xfrm>
              <a:off x="762120" y="1143000"/>
              <a:ext cx="7772400" cy="52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I</a:t>
              </a:r>
              <a:r>
                <a:rPr b="1" lang="es-MX" sz="3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OMITÉ ASPA / ALAS</a:t>
              </a:r>
              <a:r>
                <a:rPr b="1" lang="es-MX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reado a iniciativa de la Secretaría de Asuntos Técnicos de ASPA, comenzó a sesionar en junio de 200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egrado po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suntos técnicos de AS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legio de Pilo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Grupo Mexicana / Cli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Grupo AeroMéxico / AeroLit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erom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ropósit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señar un instrumento de medición apegado a los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riterios del manual de la OACI que permita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agnosticar preliminarmente la competencia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ingüística de los pilo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3400" y="504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3400" y="31194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200" y="22971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76360" y="346248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7800" y="3736800"/>
              <a:ext cx="14148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6360" y="401328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7800" y="428472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77800" y="456264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762120" y="1143000"/>
            <a:ext cx="7772400" cy="5369040"/>
            <a:chOff x="762120" y="1143000"/>
            <a:chExt cx="7772400" cy="5369040"/>
          </a:xfrm>
        </p:grpSpPr>
        <p:sp>
          <p:nvSpPr>
            <p:cNvPr id="74" name=""/>
            <p:cNvSpPr/>
            <p:nvPr/>
          </p:nvSpPr>
          <p:spPr>
            <a:xfrm>
              <a:off x="762120" y="1143000"/>
              <a:ext cx="7772400" cy="53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RITERIOS RECTORES DEL COMITÉ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ALIDEZ: Que mida efectivamente lo que pretende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           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edi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NFIABILIDAD: Que arroje resultados uniform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y consistent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seño de un instrumento de diagnóstico específico que integre la experiencia, la sensibilidad y los conocimientos respecto del desempeño del piloto aviador, desde el punto de vista de la propia función del aviador y de los contextos en que se desarrolla; con el apoyo técnico, metodológico y didáctico que aporta la estructura del Centro de Capacitación Alas de Amér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2880" y="2722680"/>
              <a:ext cx="1411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21067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2880" y="3560760"/>
              <a:ext cx="1411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9880" y="43038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62120" y="3213000"/>
            <a:ext cx="7772400" cy="657000"/>
            <a:chOff x="762120" y="3213000"/>
            <a:chExt cx="7772400" cy="657000"/>
          </a:xfrm>
        </p:grpSpPr>
        <p:sp>
          <p:nvSpPr>
            <p:cNvPr id="83" name=""/>
            <p:cNvSpPr/>
            <p:nvPr/>
          </p:nvSpPr>
          <p:spPr>
            <a:xfrm>
              <a:off x="762120" y="3213000"/>
              <a:ext cx="77724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fidencialidad: Los resultados individuales serán manejados con estricta reserva sólo por ASP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5200" y="32925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762120" y="1219320"/>
            <a:ext cx="7696080" cy="5033520"/>
            <a:chOff x="762120" y="1219320"/>
            <a:chExt cx="7696080" cy="5033520"/>
          </a:xfrm>
        </p:grpSpPr>
        <p:sp>
          <p:nvSpPr>
            <p:cNvPr id="89" name=""/>
            <p:cNvSpPr/>
            <p:nvPr/>
          </p:nvSpPr>
          <p:spPr>
            <a:xfrm>
              <a:off x="762120" y="1219320"/>
              <a:ext cx="7696080" cy="50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III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OBJETIVOS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agnosticar el nivel global de dominio del Idioma Inglés de los pilotos afiliados a ASPA, de acuerdo a los requerimientos de la OACI, para determinar estadísticamente los niveles actuales de competencia lingü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piciar la toma de conciencia individual de cada uno de los pilotos, respecto a su nivel de competencia lingü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 base en los resultados estadísticos adquiridos en el diagnóstico, fundamentar la estrategia y logística de capacitación, que permita alcanzar el nivel requerido por la OACI, para aquellos pilotos que aún no lo pose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1640" y="19890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1640" y="379872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1640" y="50148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476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ROCE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DE LA METODOLOGÍ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1044200">
            <a:off x="2274480" y="1636560"/>
            <a:ext cx="4594320" cy="4594320"/>
          </a:xfrm>
          <a:custGeom>
            <a:avLst/>
            <a:gdLst>
              <a:gd name="textAreaLeft" fmla="*/ 0 w 4594320"/>
              <a:gd name="textAreaRight" fmla="*/ 4594680 w 4594320"/>
              <a:gd name="textAreaTop" fmla="*/ 0 h 4594320"/>
              <a:gd name="textAreaBottom" fmla="*/ 4594680 h 4594320"/>
            </a:gdLst>
            <a:ahLst/>
            <a:rect l="textAreaLeft" t="textAreaTop" r="textAreaRight" b="textAreaBottom"/>
            <a:pathLst>
              <a:path w="21600" h="21600">
                <a:moveTo>
                  <a:pt x="1641" y="14036"/>
                </a:moveTo>
                <a:arcTo wR="-9714" hR="-9714" stAng="9632576" swAng="-18113405"/>
                <a:lnTo>
                  <a:pt x="19234" y="17546"/>
                </a:lnTo>
                <a:arcTo wR="10800" hR="10800" stAng="2319172" swAng="18113405"/>
                <a:lnTo>
                  <a:pt x="23529" y="6303"/>
                </a:lnTo>
                <a:lnTo>
                  <a:pt x="21551" y="10441"/>
                </a:lnTo>
                <a:lnTo>
                  <a:pt x="17413" y="8464"/>
                </a:lnTo>
                <a:close/>
              </a:path>
            </a:pathLst>
          </a:custGeom>
          <a:solidFill>
            <a:srgbClr val="00006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78800" y="2276640"/>
            <a:ext cx="301068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ores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440" y="4908600"/>
            <a:ext cx="2592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ón con niveles O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8960" y="3048120"/>
            <a:ext cx="1873800" cy="167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nu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cabu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137200"/>
            <a:ext cx="3048120" cy="61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mentos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8040" y="3429000"/>
            <a:ext cx="28933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óstico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1480" y="2362320"/>
            <a:ext cx="17640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O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6520" y="3400560"/>
            <a:ext cx="14112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360828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81168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402732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24332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45284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10160" y="553896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2120" y="1219320"/>
            <a:ext cx="7696080" cy="4118760"/>
            <a:chOff x="762120" y="1219320"/>
            <a:chExt cx="7696080" cy="4118760"/>
          </a:xfrm>
        </p:grpSpPr>
        <p:sp>
          <p:nvSpPr>
            <p:cNvPr id="115" name=""/>
            <p:cNvSpPr/>
            <p:nvPr/>
          </p:nvSpPr>
          <p:spPr>
            <a:xfrm>
              <a:off x="762120" y="1219320"/>
              <a:ext cx="7696080" cy="41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IV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PERFIL DEL EVALUADOR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OMINIO DEL IDIOMA INGLÉ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ploma de Maestro (Teacher’s Diplom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ertificación Interna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mínima de 5 años en los procesos de enseñanza – evaluación del idioma inglés como segunda lengu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71640" y="3191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1640" y="38070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1640" y="44006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0:20Z</dcterms:created>
  <dc:creator>diseño</dc:creator>
  <dc:description/>
  <dc:language>en-US</dc:language>
  <cp:lastModifiedBy>Claudia López Pérez</cp:lastModifiedBy>
  <dcterms:modified xsi:type="dcterms:W3CDTF">2006-03-27T14:06:22Z</dcterms:modified>
  <cp:revision>13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800.00000000</vt:lpwstr>
  </property>
  <property fmtid="{D5CDD505-2E9C-101B-9397-08002B2CF9AE}" pid="5" name="Year">
    <vt:lpwstr>2006</vt:lpwstr>
  </property>
</Properties>
</file>