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330-4D6C-4104-967E-4D2B62AC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91A5-653A-433A-B38D-CDE9170F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B30-AD00-47EC-B61A-28D948E6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946-43DC-4679-876A-13656FF0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51E7-8926-499C-89AD-27571563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6C5-6BF2-42F3-8CAE-5F93E92C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9E2-6A47-42BF-91AA-9E08F7DD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8863-418D-4466-B14A-58F7F56BF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5AC-5576-46FD-94BC-EAE8F29A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77FD-CBAD-4174-A10E-FBCAF6EF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1670-6A92-4DE5-83C6-D40358CB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0F21-1DD0-4F19-A994-D3C7830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7CC1-623A-4C84-A1B3-9641FFDD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52280" y="1658880"/>
            <a:ext cx="8883720" cy="4509720"/>
            <a:chOff x="152280" y="1658880"/>
            <a:chExt cx="8883720" cy="4509720"/>
          </a:xfrm>
        </p:grpSpPr>
        <p:grpSp>
          <p:nvGrpSpPr>
            <p:cNvPr id="42" name=""/>
            <p:cNvGrpSpPr/>
            <p:nvPr/>
          </p:nvGrpSpPr>
          <p:grpSpPr>
            <a:xfrm>
              <a:off x="1676520" y="2782800"/>
              <a:ext cx="1600200" cy="3385800"/>
              <a:chOff x="1676520" y="2782800"/>
              <a:chExt cx="1600200" cy="3385800"/>
            </a:xfrm>
          </p:grpSpPr>
          <p:sp>
            <p:nvSpPr>
              <p:cNvPr id="43" name=""/>
              <p:cNvSpPr/>
              <p:nvPr/>
            </p:nvSpPr>
            <p:spPr>
              <a:xfrm>
                <a:off x="1676520" y="2782800"/>
                <a:ext cx="1600200" cy="302112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Should never occur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 Rounded MT Bold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 Rounded MT Bold"/>
                  </a:rPr>
                  <a:t>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ffffff"/>
                    </a:solidFill>
                    <a:latin typeface="Arial Rounded MT Bold"/>
                  </a:rPr>
                  <a:t> 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676520" y="5537160"/>
                <a:ext cx="160020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&lt;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3276720" y="2782800"/>
              <a:ext cx="1676160" cy="3385800"/>
              <a:chOff x="3276720" y="2782800"/>
              <a:chExt cx="1676160" cy="3385800"/>
            </a:xfrm>
          </p:grpSpPr>
          <p:sp>
            <p:nvSpPr>
              <p:cNvPr id="46" name=""/>
              <p:cNvSpPr/>
              <p:nvPr/>
            </p:nvSpPr>
            <p:spPr>
              <a:xfrm>
                <a:off x="3276720" y="2782800"/>
                <a:ext cx="1676160" cy="3096000"/>
              </a:xfrm>
              <a:prstGeom prst="rect">
                <a:avLst/>
              </a:prstGeom>
              <a:solidFill>
                <a:srgbClr val="00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Unlikely to occu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3276720" y="5537160"/>
                <a:ext cx="167616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7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952880" y="2782800"/>
              <a:ext cx="1447920" cy="3385800"/>
              <a:chOff x="4952880" y="2782800"/>
              <a:chExt cx="1447920" cy="3385800"/>
            </a:xfrm>
          </p:grpSpPr>
          <p:sp>
            <p:nvSpPr>
              <p:cNvPr id="49" name=""/>
              <p:cNvSpPr/>
              <p:nvPr/>
            </p:nvSpPr>
            <p:spPr>
              <a:xfrm>
                <a:off x="4952880" y="2782800"/>
                <a:ext cx="1447920" cy="3040560"/>
              </a:xfrm>
              <a:prstGeom prst="rect">
                <a:avLst/>
              </a:prstGeom>
              <a:solidFill>
                <a:srgbClr val="ff99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Could occur some tim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952880" y="5537160"/>
                <a:ext cx="144792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5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7856640" y="2782800"/>
              <a:ext cx="1179000" cy="3385800"/>
              <a:chOff x="7856640" y="2782800"/>
              <a:chExt cx="1179000" cy="3385800"/>
            </a:xfrm>
          </p:grpSpPr>
          <p:sp>
            <p:nvSpPr>
              <p:cNvPr id="52" name=""/>
              <p:cNvSpPr/>
              <p:nvPr/>
            </p:nvSpPr>
            <p:spPr>
              <a:xfrm>
                <a:off x="7856640" y="2782800"/>
                <a:ext cx="1179000" cy="30160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Could occur frequently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Rounded MT Bold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56640" y="5537160"/>
                <a:ext cx="117900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3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 Rounded MT Bold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152280" y="1670040"/>
              <a:ext cx="1540080" cy="4387320"/>
              <a:chOff x="152280" y="1670040"/>
              <a:chExt cx="1540080" cy="4387320"/>
            </a:xfrm>
          </p:grpSpPr>
          <p:sp>
            <p:nvSpPr>
              <p:cNvPr id="55" name=""/>
              <p:cNvSpPr/>
              <p:nvPr/>
            </p:nvSpPr>
            <p:spPr>
              <a:xfrm>
                <a:off x="152280" y="2782800"/>
                <a:ext cx="1524240" cy="2855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Qualit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 Rounded MT Bold"/>
                  </a:rPr>
                  <a:t>        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52280" y="5537160"/>
                <a:ext cx="1524240" cy="520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Quantitative: Operations</a:t>
                </a:r>
                <a:r>
                  <a:rPr b="1" lang="en-US" sz="1400" spc="-1" strike="noStrike">
                    <a:solidFill>
                      <a:srgbClr val="000066"/>
                    </a:solidFill>
                    <a:latin typeface="Arial Rounded MT Bold"/>
                  </a:rPr>
                  <a:t>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9280" y="1670040"/>
                <a:ext cx="1513080" cy="924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 Rounded MT Bold"/>
                  </a:rPr>
                  <a:t>Definition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400800" y="2782800"/>
              <a:ext cx="1447920" cy="3385800"/>
              <a:chOff x="6400800" y="2782800"/>
              <a:chExt cx="1447920" cy="3385800"/>
            </a:xfrm>
          </p:grpSpPr>
          <p:sp>
            <p:nvSpPr>
              <p:cNvPr id="59" name=""/>
              <p:cNvSpPr/>
              <p:nvPr/>
            </p:nvSpPr>
            <p:spPr>
              <a:xfrm>
                <a:off x="6400800" y="2782800"/>
                <a:ext cx="1447920" cy="285444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 Rounded MT Bold"/>
                  </a:rPr>
                  <a:t>Could occur several tim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400800" y="5537160"/>
                <a:ext cx="1447920" cy="6314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3</a:t>
                </a:r>
                <a:r>
                  <a:rPr b="1" lang="en-US" sz="1400" spc="-1" strike="noStrike">
                    <a:solidFill>
                      <a:srgbClr val="800000"/>
                    </a:solidFill>
                    <a:latin typeface="Arial Rounded MT Bold"/>
                  </a:rPr>
                  <a:t> a 10</a:t>
                </a:r>
                <a:r>
                  <a:rPr b="1" lang="en-US" sz="1400" spc="-1" strike="noStrike" baseline="30000">
                    <a:solidFill>
                      <a:srgbClr val="800000"/>
                    </a:solidFill>
                    <a:latin typeface="Arial Rounded MT Bold"/>
                  </a:rPr>
                  <a:t>-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1676520" y="1658880"/>
              <a:ext cx="7359480" cy="1236240"/>
              <a:chOff x="1676520" y="1658880"/>
              <a:chExt cx="7359480" cy="1236240"/>
            </a:xfrm>
          </p:grpSpPr>
          <p:sp>
            <p:nvSpPr>
              <p:cNvPr id="62" name=""/>
              <p:cNvSpPr/>
              <p:nvPr/>
            </p:nvSpPr>
            <p:spPr>
              <a:xfrm>
                <a:off x="7856640" y="2109600"/>
                <a:ext cx="1179360" cy="785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Freq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676520" y="1658880"/>
                <a:ext cx="731520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Probability of occurr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76520" y="2098440"/>
                <a:ext cx="177300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remely unlike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301920" y="2098440"/>
                <a:ext cx="1650960" cy="6426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remely 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32360" y="2103480"/>
                <a:ext cx="1463760" cy="7855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372360" y="2103480"/>
                <a:ext cx="151272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Reas. like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"/>
          <p:cNvSpPr/>
          <p:nvPr/>
        </p:nvSpPr>
        <p:spPr>
          <a:xfrm>
            <a:off x="900000" y="52380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man Old Style"/>
              </a:rPr>
              <a:t>Workshop on SMS for Airports -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179280" y="1876320"/>
            <a:ext cx="8713800" cy="3603960"/>
            <a:chOff x="179280" y="1876320"/>
            <a:chExt cx="8713800" cy="3603960"/>
          </a:xfrm>
        </p:grpSpPr>
        <p:sp>
          <p:nvSpPr>
            <p:cNvPr id="70" name=""/>
            <p:cNvSpPr/>
            <p:nvPr/>
          </p:nvSpPr>
          <p:spPr>
            <a:xfrm>
              <a:off x="3348000" y="1876320"/>
              <a:ext cx="2543040" cy="475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Severity level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79280" y="2522520"/>
              <a:ext cx="2089080" cy="2957760"/>
              <a:chOff x="179280" y="2522520"/>
              <a:chExt cx="2089080" cy="2957760"/>
            </a:xfrm>
          </p:grpSpPr>
          <p:sp>
            <p:nvSpPr>
              <p:cNvPr id="72" name=""/>
              <p:cNvSpPr/>
              <p:nvPr/>
            </p:nvSpPr>
            <p:spPr>
              <a:xfrm>
                <a:off x="179280" y="2522520"/>
                <a:ext cx="2089080" cy="10778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Severi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79280" y="375084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Low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79280" y="418284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Moderat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179280" y="461448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Dangerou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9280" y="5051160"/>
                <a:ext cx="208908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800000"/>
                    </a:solidFill>
                    <a:latin typeface="Bookman Old Style"/>
                  </a:rPr>
                  <a:t>Catastrophic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2266920" y="3751200"/>
              <a:ext cx="2232000" cy="1729080"/>
              <a:chOff x="2266920" y="3751200"/>
              <a:chExt cx="2232000" cy="1729080"/>
            </a:xfrm>
          </p:grpSpPr>
          <p:sp>
            <p:nvSpPr>
              <p:cNvPr id="78" name=""/>
              <p:cNvSpPr/>
              <p:nvPr/>
            </p:nvSpPr>
            <p:spPr>
              <a:xfrm>
                <a:off x="2266920" y="3751200"/>
                <a:ext cx="2232000" cy="429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Lack of skil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266920" y="4182840"/>
                <a:ext cx="2232000" cy="4291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Minor injur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66920" y="4614480"/>
                <a:ext cx="2232000" cy="4291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Serious injur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266920" y="5051160"/>
                <a:ext cx="2232000" cy="429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00"/>
                    </a:solidFill>
                    <a:latin typeface="Bookman Old Style"/>
                  </a:rPr>
                  <a:t>Death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4498920" y="3751200"/>
              <a:ext cx="2449440" cy="1729080"/>
              <a:chOff x="4498920" y="3751200"/>
              <a:chExt cx="2449440" cy="1729080"/>
            </a:xfrm>
          </p:grpSpPr>
          <p:sp>
            <p:nvSpPr>
              <p:cNvPr id="83" name=""/>
              <p:cNvSpPr/>
              <p:nvPr/>
            </p:nvSpPr>
            <p:spPr>
              <a:xfrm>
                <a:off x="4498920" y="3751200"/>
                <a:ext cx="2449440" cy="4291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Inoperabilit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498920" y="4182840"/>
                <a:ext cx="2449440" cy="42912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Partial dam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98920" y="4614480"/>
                <a:ext cx="2449440" cy="42912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Serious dam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498920" y="5051160"/>
                <a:ext cx="2448000" cy="42912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3300"/>
                    </a:solidFill>
                    <a:latin typeface="Bookman Old Style"/>
                  </a:rPr>
                  <a:t>Unrec. damag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48360" y="3751200"/>
              <a:ext cx="1944720" cy="1729080"/>
              <a:chOff x="6948360" y="3751200"/>
              <a:chExt cx="1944720" cy="1729080"/>
            </a:xfrm>
          </p:grpSpPr>
          <p:sp>
            <p:nvSpPr>
              <p:cNvPr id="88" name=""/>
              <p:cNvSpPr/>
              <p:nvPr/>
            </p:nvSpPr>
            <p:spPr>
              <a:xfrm>
                <a:off x="6948360" y="3751200"/>
                <a:ext cx="1944720" cy="42912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Short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948360" y="4182840"/>
                <a:ext cx="1944720" cy="42912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Temporary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48360" y="4614480"/>
                <a:ext cx="1944720" cy="429120"/>
              </a:xfrm>
              <a:prstGeom prst="rect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Lo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948360" y="5051160"/>
                <a:ext cx="1944720" cy="42912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cc0066"/>
                    </a:solidFill>
                    <a:latin typeface="Bookman Old Style"/>
                  </a:rPr>
                  <a:t>----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2266920" y="2522520"/>
              <a:ext cx="6626160" cy="1375560"/>
              <a:chOff x="2266920" y="2522520"/>
              <a:chExt cx="6626160" cy="1375560"/>
            </a:xfrm>
          </p:grpSpPr>
          <p:sp>
            <p:nvSpPr>
              <p:cNvPr id="93" name=""/>
              <p:cNvSpPr/>
              <p:nvPr/>
            </p:nvSpPr>
            <p:spPr>
              <a:xfrm>
                <a:off x="2268360" y="2522520"/>
                <a:ext cx="6624720" cy="429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Within the scope of: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66920" y="2959200"/>
                <a:ext cx="2232000" cy="93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Peopl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00720" y="2959200"/>
                <a:ext cx="2447640" cy="938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Materia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948360" y="2959200"/>
                <a:ext cx="1944720" cy="764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66"/>
                    </a:solidFill>
                    <a:latin typeface="Bookman Old Style"/>
                  </a:rPr>
                  <a:t>Time of exposure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"/>
          <p:cNvSpPr/>
          <p:nvPr/>
        </p:nvSpPr>
        <p:spPr>
          <a:xfrm>
            <a:off x="900000" y="450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man Old Style"/>
              </a:rPr>
              <a:t>Workshop on SMS for Airports -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200520" y="2111400"/>
            <a:ext cx="8638560" cy="3263040"/>
            <a:chOff x="200520" y="2111400"/>
            <a:chExt cx="8638560" cy="3263040"/>
          </a:xfrm>
        </p:grpSpPr>
        <p:grpSp>
          <p:nvGrpSpPr>
            <p:cNvPr id="99" name=""/>
            <p:cNvGrpSpPr/>
            <p:nvPr/>
          </p:nvGrpSpPr>
          <p:grpSpPr>
            <a:xfrm>
              <a:off x="200520" y="3785040"/>
              <a:ext cx="1780560" cy="1589400"/>
              <a:chOff x="200520" y="3785040"/>
              <a:chExt cx="1780560" cy="1589400"/>
            </a:xfrm>
          </p:grpSpPr>
          <p:sp>
            <p:nvSpPr>
              <p:cNvPr id="100" name=""/>
              <p:cNvSpPr/>
              <p:nvPr/>
            </p:nvSpPr>
            <p:spPr>
              <a:xfrm>
                <a:off x="533520" y="378936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Catas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33520" y="417024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Danger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3520" y="455112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Moder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33520" y="4932360"/>
                <a:ext cx="144756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Lo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180200">
                <a:off x="-404280" y="4395600"/>
                <a:ext cx="158724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Severit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1981080" y="3697560"/>
              <a:ext cx="6858000" cy="412560"/>
              <a:chOff x="1981080" y="3697560"/>
              <a:chExt cx="6858000" cy="412560"/>
            </a:xfrm>
          </p:grpSpPr>
          <p:sp>
            <p:nvSpPr>
              <p:cNvPr id="106" name=""/>
              <p:cNvSpPr/>
              <p:nvPr/>
            </p:nvSpPr>
            <p:spPr>
              <a:xfrm>
                <a:off x="1981080" y="3741840"/>
                <a:ext cx="152424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05320" y="3714840"/>
                <a:ext cx="167616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181480" y="371484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553080" y="369756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924680" y="3714840"/>
                <a:ext cx="9144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981080" y="4102200"/>
              <a:ext cx="6858000" cy="420840"/>
              <a:chOff x="1981080" y="4102200"/>
              <a:chExt cx="6858000" cy="420840"/>
            </a:xfrm>
          </p:grpSpPr>
          <p:sp>
            <p:nvSpPr>
              <p:cNvPr id="112" name=""/>
              <p:cNvSpPr/>
              <p:nvPr/>
            </p:nvSpPr>
            <p:spPr>
              <a:xfrm>
                <a:off x="1981080" y="4154760"/>
                <a:ext cx="152424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505320" y="4154760"/>
                <a:ext cx="167616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181480" y="415476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553080" y="4131000"/>
                <a:ext cx="13716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cep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924680" y="4102200"/>
                <a:ext cx="914400" cy="368280"/>
              </a:xfrm>
              <a:prstGeom prst="rect">
                <a:avLst/>
              </a:prstGeom>
              <a:solidFill>
                <a:srgbClr val="ff3300"/>
              </a:solidFill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Una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1981080" y="4535640"/>
              <a:ext cx="6858000" cy="368280"/>
              <a:chOff x="1981080" y="4535640"/>
              <a:chExt cx="6858000" cy="368280"/>
            </a:xfrm>
          </p:grpSpPr>
          <p:sp>
            <p:nvSpPr>
              <p:cNvPr id="118" name=""/>
              <p:cNvSpPr/>
              <p:nvPr/>
            </p:nvSpPr>
            <p:spPr>
              <a:xfrm>
                <a:off x="1981080" y="4535640"/>
                <a:ext cx="152424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05320" y="4535640"/>
                <a:ext cx="167616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81480" y="4535640"/>
                <a:ext cx="13716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553080" y="4535640"/>
                <a:ext cx="13716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24680" y="4535640"/>
                <a:ext cx="9144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1981080" y="4916520"/>
              <a:ext cx="6858000" cy="368280"/>
              <a:chOff x="1981080" y="4916520"/>
              <a:chExt cx="6858000" cy="368280"/>
            </a:xfrm>
          </p:grpSpPr>
          <p:sp>
            <p:nvSpPr>
              <p:cNvPr id="124" name=""/>
              <p:cNvSpPr/>
              <p:nvPr/>
            </p:nvSpPr>
            <p:spPr>
              <a:xfrm>
                <a:off x="1981080" y="4916520"/>
                <a:ext cx="152424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505320" y="4916520"/>
                <a:ext cx="167616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ab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81480" y="4916520"/>
                <a:ext cx="137160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53080" y="4916520"/>
                <a:ext cx="1371600" cy="368280"/>
              </a:xfrm>
              <a:prstGeom prst="rect">
                <a:avLst/>
              </a:prstGeom>
              <a:solidFill>
                <a:srgbClr val="009900"/>
              </a:solidFill>
              <a:ln w="381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Accep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924680" y="4916520"/>
                <a:ext cx="914400" cy="368280"/>
              </a:xfrm>
              <a:prstGeom prst="rect">
                <a:avLst/>
              </a:prstGeom>
              <a:solidFill>
                <a:srgbClr val="ffff00"/>
              </a:solidFill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 Rounded MT Bold"/>
                  </a:rPr>
                  <a:t>Rev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590920" y="2111400"/>
              <a:ext cx="3886200" cy="42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Arial Rounded MT Bold"/>
                </a:rPr>
                <a:t>Risk analysis matri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1981080" y="2935440"/>
              <a:ext cx="6858000" cy="743040"/>
              <a:chOff x="1981080" y="2935440"/>
              <a:chExt cx="6858000" cy="743040"/>
            </a:xfrm>
          </p:grpSpPr>
          <p:sp>
            <p:nvSpPr>
              <p:cNvPr id="131" name=""/>
              <p:cNvSpPr/>
              <p:nvPr/>
            </p:nvSpPr>
            <p:spPr>
              <a:xfrm>
                <a:off x="1981080" y="2935440"/>
                <a:ext cx="685800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Probability of occurre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981080" y="3310200"/>
                <a:ext cx="15112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. unli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12000" y="3310200"/>
                <a:ext cx="10270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Freq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29200" y="3310200"/>
                <a:ext cx="15238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505320" y="3310200"/>
                <a:ext cx="166212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Ext. remo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16720" y="3310200"/>
                <a:ext cx="1295280" cy="368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 Rounded MT Bold"/>
                  </a:rPr>
                  <a:t>Rea. </a:t>
                </a:r>
                <a:r>
                  <a:rPr b="1" lang="en-US" sz="1800" spc="-1" strike="noStrike">
                    <a:solidFill>
                      <a:srgbClr val="000066"/>
                    </a:solidFill>
                    <a:latin typeface="Arial Rounded MT Bold"/>
                  </a:rPr>
                  <a:t>lik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900000" y="450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Bookman Old Style"/>
              </a:rPr>
              <a:t>Workshop on SMS for Airports - </a:t>
            </a:r>
            <a:r>
              <a:rPr b="1" lang="en-US" sz="2400" spc="-1" strike="noStrike">
                <a:solidFill>
                  <a:srgbClr val="ff0000"/>
                </a:solidFill>
                <a:latin typeface="Bookman Old Style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4:59:53Z</dcterms:created>
  <dc:creator>SAM Office</dc:creator>
  <dc:description/>
  <dc:language>en-US</dc:language>
  <cp:lastModifiedBy>Claudia López Pérez</cp:lastModifiedBy>
  <dcterms:modified xsi:type="dcterms:W3CDTF">2006-03-27T14:05:04Z</dcterms:modified>
  <cp:revision>3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1600.00000000</vt:lpwstr>
  </property>
  <property fmtid="{D5CDD505-2E9C-101B-9397-08002B2CF9AE}" pid="5" name="Year">
    <vt:lpwstr>2006</vt:lpwstr>
  </property>
</Properties>
</file>