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26F-B26E-4C5F-B643-B336BCAE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60E-6D8C-4751-B316-7C6524C2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BAB-0DCC-4459-9345-7A2DC1D6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264-3786-453A-B411-154DAA32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DB4-3327-4EA8-BEE2-2266D8FE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536-C2C7-43F1-AF7F-E7CA73A5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9B8-5E38-4246-9D06-053FF970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8D6-B7EA-41D4-8101-650B5D53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7EE-7A6A-4853-952F-3E42266C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A22-BC62-4912-B6B5-3B1B7322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16A-2E0B-4A8A-AEA1-F2F7793A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342-70A5-487F-A49A-D354F1A8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6595-FF6C-4B98-9217-350A4FDBA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1658880"/>
            <a:ext cx="8883720" cy="4509720"/>
            <a:chOff x="152280" y="1658880"/>
            <a:chExt cx="8883720" cy="4509720"/>
          </a:xfrm>
        </p:grpSpPr>
        <p:grpSp>
          <p:nvGrpSpPr>
            <p:cNvPr id="42" name=""/>
            <p:cNvGrpSpPr/>
            <p:nvPr/>
          </p:nvGrpSpPr>
          <p:grpSpPr>
            <a:xfrm>
              <a:off x="1676520" y="2782800"/>
              <a:ext cx="1600200" cy="3385800"/>
              <a:chOff x="1676520" y="2782800"/>
              <a:chExt cx="1600200" cy="3385800"/>
            </a:xfrm>
          </p:grpSpPr>
          <p:sp>
            <p:nvSpPr>
              <p:cNvPr id="43" name=""/>
              <p:cNvSpPr/>
              <p:nvPr/>
            </p:nvSpPr>
            <p:spPr>
              <a:xfrm>
                <a:off x="1676520" y="2782800"/>
                <a:ext cx="1600200" cy="3021120"/>
              </a:xfrm>
              <a:prstGeom prst="rect">
                <a:avLst/>
              </a:prstGeom>
              <a:solidFill>
                <a:srgbClr val="00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Rounded MT Bold"/>
                  </a:rPr>
                  <a:t>Should never occu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 Rounded MT Bold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 Rounded MT Bold"/>
                  </a:rPr>
                  <a:t>  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 Rounded MT Bold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676520" y="5537160"/>
                <a:ext cx="1600200" cy="63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&lt; 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3276720" y="2782800"/>
              <a:ext cx="1676160" cy="3385800"/>
              <a:chOff x="3276720" y="2782800"/>
              <a:chExt cx="1676160" cy="3385800"/>
            </a:xfrm>
          </p:grpSpPr>
          <p:sp>
            <p:nvSpPr>
              <p:cNvPr id="46" name=""/>
              <p:cNvSpPr/>
              <p:nvPr/>
            </p:nvSpPr>
            <p:spPr>
              <a:xfrm>
                <a:off x="3276720" y="2782800"/>
                <a:ext cx="1676160" cy="30960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Rounded MT Bold"/>
                  </a:rPr>
                  <a:t>Unlikely to occu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276720" y="5537160"/>
                <a:ext cx="1676160" cy="63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7</a:t>
                </a: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 a 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952880" y="2782800"/>
              <a:ext cx="1447920" cy="3385800"/>
              <a:chOff x="4952880" y="2782800"/>
              <a:chExt cx="1447920" cy="3385800"/>
            </a:xfrm>
          </p:grpSpPr>
          <p:sp>
            <p:nvSpPr>
              <p:cNvPr id="49" name=""/>
              <p:cNvSpPr/>
              <p:nvPr/>
            </p:nvSpPr>
            <p:spPr>
              <a:xfrm>
                <a:off x="4952880" y="2782800"/>
                <a:ext cx="1447920" cy="30405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Rounded MT Bold"/>
                  </a:rPr>
                  <a:t>Could occur some ti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952880" y="5537160"/>
                <a:ext cx="1447920" cy="63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5</a:t>
                </a: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 a 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7856640" y="2782800"/>
              <a:ext cx="1179000" cy="3385800"/>
              <a:chOff x="7856640" y="2782800"/>
              <a:chExt cx="1179000" cy="3385800"/>
            </a:xfrm>
          </p:grpSpPr>
          <p:sp>
            <p:nvSpPr>
              <p:cNvPr id="52" name=""/>
              <p:cNvSpPr/>
              <p:nvPr/>
            </p:nvSpPr>
            <p:spPr>
              <a:xfrm>
                <a:off x="7856640" y="2782800"/>
                <a:ext cx="1179000" cy="30160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Rounded MT Bold"/>
                  </a:rPr>
                  <a:t>Could occur frequently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56640" y="5537160"/>
                <a:ext cx="1179000" cy="63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1 a 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3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 Rounded MT Bold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152280" y="1670040"/>
              <a:ext cx="1540080" cy="4387320"/>
              <a:chOff x="152280" y="1670040"/>
              <a:chExt cx="1540080" cy="4387320"/>
            </a:xfrm>
          </p:grpSpPr>
          <p:sp>
            <p:nvSpPr>
              <p:cNvPr id="55" name=""/>
              <p:cNvSpPr/>
              <p:nvPr/>
            </p:nvSpPr>
            <p:spPr>
              <a:xfrm>
                <a:off x="152280" y="2782800"/>
                <a:ext cx="1524240" cy="2855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Qualit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 Rounded MT Bold"/>
                  </a:rPr>
                  <a:t>   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52280" y="5537160"/>
                <a:ext cx="1524240" cy="520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Quantitative: Operations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 Rounded MT Bold"/>
                  </a:rPr>
                  <a:t>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9280" y="1670040"/>
                <a:ext cx="1513080" cy="924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 Rounded MT Bold"/>
                  </a:rPr>
                  <a:t>Definitio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6400800" y="2782800"/>
              <a:ext cx="1447920" cy="3385800"/>
              <a:chOff x="6400800" y="2782800"/>
              <a:chExt cx="1447920" cy="3385800"/>
            </a:xfrm>
          </p:grpSpPr>
          <p:sp>
            <p:nvSpPr>
              <p:cNvPr id="59" name=""/>
              <p:cNvSpPr/>
              <p:nvPr/>
            </p:nvSpPr>
            <p:spPr>
              <a:xfrm>
                <a:off x="6400800" y="2782800"/>
                <a:ext cx="1447920" cy="28544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Rounded MT Bold"/>
                  </a:rPr>
                  <a:t>Could occur several tim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400800" y="5537160"/>
                <a:ext cx="1447920" cy="63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3</a:t>
                </a: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 a 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676520" y="1658880"/>
              <a:ext cx="7359480" cy="1236240"/>
              <a:chOff x="1676520" y="1658880"/>
              <a:chExt cx="7359480" cy="1236240"/>
            </a:xfrm>
          </p:grpSpPr>
          <p:sp>
            <p:nvSpPr>
              <p:cNvPr id="62" name=""/>
              <p:cNvSpPr/>
              <p:nvPr/>
            </p:nvSpPr>
            <p:spPr>
              <a:xfrm>
                <a:off x="7856640" y="2109600"/>
                <a:ext cx="1179360" cy="785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Freq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676520" y="1658880"/>
                <a:ext cx="731520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Probability of occurren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76520" y="2098440"/>
                <a:ext cx="17730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Extremely unlikel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301920" y="2098440"/>
                <a:ext cx="165096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Extremely remo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32360" y="2103480"/>
                <a:ext cx="1463760" cy="785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Remo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372360" y="2103480"/>
                <a:ext cx="151272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Reas. likel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900000" y="5238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ookman Old Style"/>
              </a:rPr>
              <a:t>Workshop on SMS for Airports - 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79280" y="1876320"/>
            <a:ext cx="8713800" cy="3603960"/>
            <a:chOff x="179280" y="1876320"/>
            <a:chExt cx="8713800" cy="3603960"/>
          </a:xfrm>
        </p:grpSpPr>
        <p:sp>
          <p:nvSpPr>
            <p:cNvPr id="70" name=""/>
            <p:cNvSpPr/>
            <p:nvPr/>
          </p:nvSpPr>
          <p:spPr>
            <a:xfrm>
              <a:off x="3348000" y="1876320"/>
              <a:ext cx="254304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Severity leve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79280" y="2522520"/>
              <a:ext cx="2089080" cy="2957760"/>
              <a:chOff x="179280" y="2522520"/>
              <a:chExt cx="2089080" cy="2957760"/>
            </a:xfrm>
          </p:grpSpPr>
          <p:sp>
            <p:nvSpPr>
              <p:cNvPr id="72" name=""/>
              <p:cNvSpPr/>
              <p:nvPr/>
            </p:nvSpPr>
            <p:spPr>
              <a:xfrm>
                <a:off x="179280" y="2522520"/>
                <a:ext cx="2089080" cy="107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800000"/>
                    </a:solidFill>
                    <a:latin typeface="Bookman Old Style"/>
                  </a:rPr>
                  <a:t>Severit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9280" y="3750840"/>
                <a:ext cx="2089080" cy="42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800000"/>
                    </a:solidFill>
                    <a:latin typeface="Bookman Old Style"/>
                  </a:rPr>
                  <a:t>Low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79280" y="4182840"/>
                <a:ext cx="2089080" cy="42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800000"/>
                    </a:solidFill>
                    <a:latin typeface="Bookman Old Style"/>
                  </a:rPr>
                  <a:t>Moder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79280" y="4614480"/>
                <a:ext cx="2089080" cy="42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800000"/>
                    </a:solidFill>
                    <a:latin typeface="Bookman Old Style"/>
                  </a:rPr>
                  <a:t>Dangerou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79280" y="5051160"/>
                <a:ext cx="2089080" cy="42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800000"/>
                    </a:solidFill>
                    <a:latin typeface="Bookman Old Style"/>
                  </a:rPr>
                  <a:t>Catastrophi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266920" y="3751200"/>
              <a:ext cx="2232000" cy="1729080"/>
              <a:chOff x="2266920" y="3751200"/>
              <a:chExt cx="2232000" cy="1729080"/>
            </a:xfrm>
          </p:grpSpPr>
          <p:sp>
            <p:nvSpPr>
              <p:cNvPr id="78" name=""/>
              <p:cNvSpPr/>
              <p:nvPr/>
            </p:nvSpPr>
            <p:spPr>
              <a:xfrm>
                <a:off x="2266920" y="3751200"/>
                <a:ext cx="2232000" cy="429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00"/>
                    </a:solidFill>
                    <a:latin typeface="Bookman Old Style"/>
                  </a:rPr>
                  <a:t>Lack of skil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66920" y="4182840"/>
                <a:ext cx="2232000" cy="429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00"/>
                    </a:solidFill>
                    <a:latin typeface="Bookman Old Style"/>
                  </a:rPr>
                  <a:t>Minor injur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266920" y="4614480"/>
                <a:ext cx="2232000" cy="4291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00"/>
                    </a:solidFill>
                    <a:latin typeface="Bookman Old Style"/>
                  </a:rPr>
                  <a:t>Serious injur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66920" y="5051160"/>
                <a:ext cx="2232000" cy="4291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00"/>
                    </a:solidFill>
                    <a:latin typeface="Bookman Old Style"/>
                  </a:rPr>
                  <a:t>Death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4498920" y="3751200"/>
              <a:ext cx="2449440" cy="1729080"/>
              <a:chOff x="4498920" y="3751200"/>
              <a:chExt cx="2449440" cy="1729080"/>
            </a:xfrm>
          </p:grpSpPr>
          <p:sp>
            <p:nvSpPr>
              <p:cNvPr id="83" name=""/>
              <p:cNvSpPr/>
              <p:nvPr/>
            </p:nvSpPr>
            <p:spPr>
              <a:xfrm>
                <a:off x="4498920" y="3751200"/>
                <a:ext cx="2449440" cy="4291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3300"/>
                    </a:solidFill>
                    <a:latin typeface="Bookman Old Style"/>
                  </a:rPr>
                  <a:t>Inoperabilit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498920" y="4182840"/>
                <a:ext cx="2449440" cy="4291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3300"/>
                    </a:solidFill>
                    <a:latin typeface="Bookman Old Style"/>
                  </a:rPr>
                  <a:t>Partial damag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98920" y="4614480"/>
                <a:ext cx="2449440" cy="4291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3300"/>
                    </a:solidFill>
                    <a:latin typeface="Bookman Old Style"/>
                  </a:rPr>
                  <a:t>Serious damag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98920" y="5051160"/>
                <a:ext cx="2448000" cy="4291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3300"/>
                    </a:solidFill>
                    <a:latin typeface="Bookman Old Style"/>
                  </a:rPr>
                  <a:t>Unrec. damag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48360" y="3751200"/>
              <a:ext cx="1944720" cy="1729080"/>
              <a:chOff x="6948360" y="3751200"/>
              <a:chExt cx="1944720" cy="1729080"/>
            </a:xfrm>
          </p:grpSpPr>
          <p:sp>
            <p:nvSpPr>
              <p:cNvPr id="88" name=""/>
              <p:cNvSpPr/>
              <p:nvPr/>
            </p:nvSpPr>
            <p:spPr>
              <a:xfrm>
                <a:off x="6948360" y="3751200"/>
                <a:ext cx="1944720" cy="4291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66"/>
                    </a:solidFill>
                    <a:latin typeface="Bookman Old Style"/>
                  </a:rPr>
                  <a:t>Shor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948360" y="4182840"/>
                <a:ext cx="1944720" cy="4291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66"/>
                    </a:solidFill>
                    <a:latin typeface="Bookman Old Style"/>
                  </a:rPr>
                  <a:t>Temporar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8360" y="4614480"/>
                <a:ext cx="1944720" cy="4291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66"/>
                    </a:solidFill>
                    <a:latin typeface="Bookman Old Style"/>
                  </a:rPr>
                  <a:t>Lo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948360" y="5051160"/>
                <a:ext cx="1944720" cy="4291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66"/>
                    </a:solidFill>
                    <a:latin typeface="Bookman Old Style"/>
                  </a:rPr>
                  <a:t>---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266920" y="2522520"/>
              <a:ext cx="6626160" cy="1375560"/>
              <a:chOff x="2266920" y="2522520"/>
              <a:chExt cx="6626160" cy="1375560"/>
            </a:xfrm>
          </p:grpSpPr>
          <p:sp>
            <p:nvSpPr>
              <p:cNvPr id="93" name=""/>
              <p:cNvSpPr/>
              <p:nvPr/>
            </p:nvSpPr>
            <p:spPr>
              <a:xfrm>
                <a:off x="2268360" y="2522520"/>
                <a:ext cx="6624720" cy="42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66"/>
                    </a:solidFill>
                    <a:latin typeface="Bookman Old Style"/>
                  </a:rPr>
                  <a:t>Within the scope of: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66920" y="2959200"/>
                <a:ext cx="2232000" cy="938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66"/>
                    </a:solidFill>
                    <a:latin typeface="Bookman Old Style"/>
                  </a:rPr>
                  <a:t>Peopl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00720" y="2959200"/>
                <a:ext cx="2447640" cy="938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66"/>
                    </a:solidFill>
                    <a:latin typeface="Bookman Old Style"/>
                  </a:rPr>
                  <a:t>Materia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948360" y="2959200"/>
                <a:ext cx="1944720" cy="764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66"/>
                    </a:solidFill>
                    <a:latin typeface="Bookman Old Style"/>
                  </a:rPr>
                  <a:t>Time of exposur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0000" y="450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ookman Old Style"/>
              </a:rPr>
              <a:t>Workshop on SMS for Airports - 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200520" y="2111400"/>
            <a:ext cx="8638560" cy="3263040"/>
            <a:chOff x="200520" y="2111400"/>
            <a:chExt cx="8638560" cy="3263040"/>
          </a:xfrm>
        </p:grpSpPr>
        <p:grpSp>
          <p:nvGrpSpPr>
            <p:cNvPr id="99" name=""/>
            <p:cNvGrpSpPr/>
            <p:nvPr/>
          </p:nvGrpSpPr>
          <p:grpSpPr>
            <a:xfrm>
              <a:off x="200520" y="3785040"/>
              <a:ext cx="1780560" cy="1589400"/>
              <a:chOff x="200520" y="3785040"/>
              <a:chExt cx="1780560" cy="15894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520" y="3789360"/>
                <a:ext cx="144756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Catas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3520" y="4170240"/>
                <a:ext cx="144756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Danger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520" y="4551120"/>
                <a:ext cx="144756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Moder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520" y="4932360"/>
                <a:ext cx="144756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L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6180200">
                <a:off x="-404280" y="4395600"/>
                <a:ext cx="158724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Sever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1981080" y="3697560"/>
              <a:ext cx="6858000" cy="412560"/>
              <a:chOff x="1981080" y="3697560"/>
              <a:chExt cx="6858000" cy="412560"/>
            </a:xfrm>
          </p:grpSpPr>
          <p:sp>
            <p:nvSpPr>
              <p:cNvPr id="106" name=""/>
              <p:cNvSpPr/>
              <p:nvPr/>
            </p:nvSpPr>
            <p:spPr>
              <a:xfrm>
                <a:off x="1981080" y="3741840"/>
                <a:ext cx="152424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05320" y="3714840"/>
                <a:ext cx="167616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cep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181480" y="3714840"/>
                <a:ext cx="137160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cep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53080" y="3697560"/>
                <a:ext cx="137160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cep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24680" y="3714840"/>
                <a:ext cx="91440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981080" y="4102200"/>
              <a:ext cx="6858000" cy="420840"/>
              <a:chOff x="1981080" y="4102200"/>
              <a:chExt cx="6858000" cy="420840"/>
            </a:xfrm>
          </p:grpSpPr>
          <p:sp>
            <p:nvSpPr>
              <p:cNvPr id="112" name=""/>
              <p:cNvSpPr/>
              <p:nvPr/>
            </p:nvSpPr>
            <p:spPr>
              <a:xfrm>
                <a:off x="1981080" y="4154760"/>
                <a:ext cx="152424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05320" y="4154760"/>
                <a:ext cx="167616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181480" y="4154760"/>
                <a:ext cx="137160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cep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53080" y="4131000"/>
                <a:ext cx="137160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cep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924680" y="4102200"/>
                <a:ext cx="91440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981080" y="4535640"/>
              <a:ext cx="6858000" cy="368280"/>
              <a:chOff x="1981080" y="4535640"/>
              <a:chExt cx="6858000" cy="368280"/>
            </a:xfrm>
          </p:grpSpPr>
          <p:sp>
            <p:nvSpPr>
              <p:cNvPr id="118" name=""/>
              <p:cNvSpPr/>
              <p:nvPr/>
            </p:nvSpPr>
            <p:spPr>
              <a:xfrm>
                <a:off x="1981080" y="4535640"/>
                <a:ext cx="1524240" cy="368280"/>
              </a:xfrm>
              <a:prstGeom prst="rect">
                <a:avLst/>
              </a:prstGeom>
              <a:solidFill>
                <a:srgbClr val="0099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Accepta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05320" y="4535640"/>
                <a:ext cx="167616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81480" y="4535640"/>
                <a:ext cx="137160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553080" y="4535640"/>
                <a:ext cx="137160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24680" y="4535640"/>
                <a:ext cx="91440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81080" y="4916520"/>
              <a:ext cx="6858000" cy="368280"/>
              <a:chOff x="1981080" y="4916520"/>
              <a:chExt cx="6858000" cy="368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81080" y="4916520"/>
                <a:ext cx="1524240" cy="368280"/>
              </a:xfrm>
              <a:prstGeom prst="rect">
                <a:avLst/>
              </a:prstGeom>
              <a:solidFill>
                <a:srgbClr val="0099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Accepta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05320" y="4916520"/>
                <a:ext cx="1676160" cy="368280"/>
              </a:xfrm>
              <a:prstGeom prst="rect">
                <a:avLst/>
              </a:prstGeom>
              <a:solidFill>
                <a:srgbClr val="0099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Accepta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81480" y="4916520"/>
                <a:ext cx="1371600" cy="368280"/>
              </a:xfrm>
              <a:prstGeom prst="rect">
                <a:avLst/>
              </a:prstGeom>
              <a:solidFill>
                <a:srgbClr val="0099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Accep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53080" y="4916520"/>
                <a:ext cx="1371600" cy="368280"/>
              </a:xfrm>
              <a:prstGeom prst="rect">
                <a:avLst/>
              </a:prstGeom>
              <a:solidFill>
                <a:srgbClr val="0099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Accep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924680" y="4916520"/>
                <a:ext cx="91440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590920" y="2111400"/>
              <a:ext cx="388620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Risk analysis matri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981080" y="2935440"/>
              <a:ext cx="6858000" cy="743040"/>
              <a:chOff x="1981080" y="2935440"/>
              <a:chExt cx="6858000" cy="743040"/>
            </a:xfrm>
          </p:grpSpPr>
          <p:sp>
            <p:nvSpPr>
              <p:cNvPr id="131" name=""/>
              <p:cNvSpPr/>
              <p:nvPr/>
            </p:nvSpPr>
            <p:spPr>
              <a:xfrm>
                <a:off x="1981080" y="2935440"/>
                <a:ext cx="685800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Probability of occurren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81080" y="3310200"/>
                <a:ext cx="151128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Ext. unlik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12000" y="3310200"/>
                <a:ext cx="102708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Freq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29200" y="331020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Remo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05320" y="3310200"/>
                <a:ext cx="166212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Ext. remo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16720" y="3310200"/>
                <a:ext cx="129528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 Rounded MT Bold"/>
                  </a:rPr>
                  <a:t>Rea.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lik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900000" y="450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ookman Old Style"/>
              </a:rPr>
              <a:t>Workshop on SMS for Airports - 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4:59:53Z</dcterms:created>
  <dc:creator>SAM Office</dc:creator>
  <dc:description/>
  <dc:language>en-US</dc:language>
  <cp:lastModifiedBy>Claudia López Pérez</cp:lastModifiedBy>
  <dcterms:modified xsi:type="dcterms:W3CDTF">2006-03-27T14:05:04Z</dcterms:modified>
  <cp:revision>3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1600.00000000</vt:lpwstr>
  </property>
  <property fmtid="{D5CDD505-2E9C-101B-9397-08002B2CF9AE}" pid="5" name="Year">
    <vt:lpwstr>2006</vt:lpwstr>
  </property>
</Properties>
</file>