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331-1353-4FB1-8F82-9616D20D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A38-5B1A-46CE-987B-02709EED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D53-AAE5-464B-AA6F-B665B7FF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4C5-E518-4664-B1AB-35E51064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39F-5602-455C-98E1-894B06CA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76A-9B35-459A-A0E4-0FCD72CD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C94-13ED-4850-935B-92A18EA4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61C-BE51-4081-AA6C-5E0D36A0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189-35C1-48F9-82CD-ED500418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602-3AFB-471C-AEDD-E23B2E5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F53-5FB0-41DF-8209-4F3EEC9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598-44A3-47F2-8554-11982876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E8EE-436A-4716-BD18-5CC93ED78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7720" y="2997360"/>
            <a:ext cx="117000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 Bold"/>
              </a:rPr>
              <a:t>S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844640" y="3484440"/>
            <a:ext cx="5456160" cy="1081800"/>
            <a:chOff x="1844640" y="3484440"/>
            <a:chExt cx="5456160" cy="1081800"/>
          </a:xfrm>
        </p:grpSpPr>
        <p:sp>
          <p:nvSpPr>
            <p:cNvPr id="167" name=""/>
            <p:cNvSpPr/>
            <p:nvPr/>
          </p:nvSpPr>
          <p:spPr>
            <a:xfrm>
              <a:off x="1844640" y="3801960"/>
              <a:ext cx="5456160" cy="76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 Rounded MT Bold"/>
                </a:rPr>
                <a:t>Requirement for any modern busin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48444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72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28600" y="17524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afety Management Systems (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8360" y="4286160"/>
            <a:ext cx="8351280" cy="1401120"/>
            <a:chOff x="468360" y="4286160"/>
            <a:chExt cx="8351280" cy="1401120"/>
          </a:xfrm>
        </p:grpSpPr>
        <p:sp>
          <p:nvSpPr>
            <p:cNvPr id="177" name=""/>
            <p:cNvSpPr/>
            <p:nvPr/>
          </p:nvSpPr>
          <p:spPr>
            <a:xfrm>
              <a:off x="4642920" y="428616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360" y="4587840"/>
              <a:ext cx="8351280" cy="1099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It consists in a set of coherent policies (integrated and documented), procedures and practices for effectively managing the safe operation of any busin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66880" y="2773440"/>
            <a:ext cx="3810240" cy="5716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 Rounded MT Bold"/>
              </a:rPr>
              <a:t>A complete SMS shoul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251240"/>
            <a:ext cx="2735280" cy="158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 Rounded MT Bold"/>
              </a:rPr>
              <a:t>Integrate security, healthy/labor safety and safe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4251240"/>
            <a:ext cx="3886200" cy="196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Encompass safety issues applicable to the public in general and all the people involved in the 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85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8600" y="17524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afety Management Systems (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133720" y="3352680"/>
            <a:ext cx="4419360" cy="914400"/>
            <a:chOff x="2133720" y="3352680"/>
            <a:chExt cx="4419360" cy="914400"/>
          </a:xfrm>
        </p:grpSpPr>
        <p:sp>
          <p:nvSpPr>
            <p:cNvPr id="190" name=""/>
            <p:cNvSpPr/>
            <p:nvPr/>
          </p:nvSpPr>
          <p:spPr>
            <a:xfrm>
              <a:off x="2133720" y="3809880"/>
              <a:ext cx="4419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33720" y="38098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53080" y="38098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0" y="33526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76520" y="2112840"/>
            <a:ext cx="5900760" cy="1218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 Rounded MT Bold"/>
              </a:rPr>
              <a:t>ICAO: SMS is a system for managing aerodrome safety, which should inclu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3280" y="3344760"/>
            <a:ext cx="3646440" cy="84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Organizational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5410080"/>
            <a:ext cx="365760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Responsi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4038480"/>
            <a:ext cx="365760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6073920"/>
            <a:ext cx="365760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724280"/>
            <a:ext cx="365760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Provis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048120"/>
            <a:ext cx="3962520" cy="373356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0" y="4114800"/>
            <a:ext cx="3962520" cy="1589400"/>
            <a:chOff x="4572000" y="4114800"/>
            <a:chExt cx="3962520" cy="1589400"/>
          </a:xfrm>
        </p:grpSpPr>
        <p:sp>
          <p:nvSpPr>
            <p:cNvPr id="203" name=""/>
            <p:cNvSpPr/>
            <p:nvPr/>
          </p:nvSpPr>
          <p:spPr>
            <a:xfrm>
              <a:off x="5635800" y="4114800"/>
              <a:ext cx="2898720" cy="158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For implementing safety policies by aerodrome operato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2000" y="4876920"/>
              <a:ext cx="10666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207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28600" y="152388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afety Management Systems for Air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2354400"/>
            <a:ext cx="650700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 Rounded MT Bold"/>
              </a:rPr>
              <a:t>Main objective of a SMS: To comply with the relevant standards/regul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2440" y="4952880"/>
            <a:ext cx="3784320" cy="1465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Organizational and human aspects of an aerodrome 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35720" y="5013360"/>
            <a:ext cx="2465280" cy="57168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Rounded MT Bold"/>
              </a:rPr>
              <a:t>The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143000" y="3916440"/>
            <a:ext cx="2743200" cy="1036440"/>
            <a:chOff x="1143000" y="3916440"/>
            <a:chExt cx="2743200" cy="1036440"/>
          </a:xfrm>
        </p:grpSpPr>
        <p:sp>
          <p:nvSpPr>
            <p:cNvPr id="216" name=""/>
            <p:cNvSpPr/>
            <p:nvPr/>
          </p:nvSpPr>
          <p:spPr>
            <a:xfrm>
              <a:off x="1143000" y="3916440"/>
              <a:ext cx="27432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MS focuses on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4600" y="4419720"/>
              <a:ext cx="0" cy="533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800600" y="3956040"/>
            <a:ext cx="3962520" cy="1057320"/>
            <a:chOff x="4800600" y="3956040"/>
            <a:chExt cx="3962520" cy="1057320"/>
          </a:xfrm>
        </p:grpSpPr>
        <p:sp>
          <p:nvSpPr>
            <p:cNvPr id="219" name=""/>
            <p:cNvSpPr/>
            <p:nvPr/>
          </p:nvSpPr>
          <p:spPr>
            <a:xfrm>
              <a:off x="4800600" y="3956040"/>
              <a:ext cx="396252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a50021"/>
                  </a:solidFill>
                  <a:latin typeface="Arial Rounded MT Bold"/>
                </a:rPr>
                <a:t>Quality systems focus on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1680" y="4437000"/>
              <a:ext cx="22320" cy="576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223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28600" y="1600200"/>
            <a:ext cx="67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afety Management Systems for Air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304920"/>
            <a:ext cx="7543800" cy="620964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2971800"/>
            <a:ext cx="1369800" cy="9082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Rounded MT Bold"/>
              </a:rPr>
              <a:t>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1676520"/>
            <a:ext cx="1066680" cy="916920"/>
          </a:xfrm>
          <a:prstGeom prst="rect">
            <a:avLst/>
          </a:prstGeom>
          <a:solidFill>
            <a:srgbClr val="00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itial data colle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4387680"/>
            <a:ext cx="106668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vail.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1981080"/>
            <a:ext cx="13716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Policy (Philo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4235400"/>
            <a:ext cx="13716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Definition of re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2809800"/>
            <a:ext cx="1676520" cy="1284840"/>
          </a:xfrm>
          <a:prstGeom prst="flowChartSort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Rounded MT Bold"/>
              </a:rPr>
              <a:t>ACTIV O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3578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Rounded MT Bold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722160"/>
            <a:ext cx="24382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 Rounded MT Bold"/>
              </a:rPr>
              <a:t>Notification for hazard, risk &amp; actions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6140520"/>
            <a:ext cx="220968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 Rounded MT Bold"/>
              </a:rPr>
              <a:t>Evaluation of system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760320"/>
            <a:ext cx="10666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Rounded MT Bold"/>
              </a:rPr>
              <a:t>Doc./ data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112840"/>
            <a:ext cx="762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Rounded MT Bold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4724280"/>
            <a:ext cx="182880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Rounded MT Bold"/>
              </a:rPr>
              <a:t>Audit of the operation &amp; evaluation of inc./acc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73720" y="5052960"/>
            <a:ext cx="1698480" cy="916920"/>
          </a:xfrm>
          <a:prstGeom prst="rect">
            <a:avLst/>
          </a:prstGeom>
          <a:solidFill>
            <a:srgbClr val="ffcc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Investigate &amp; adjust acti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5073480"/>
            <a:ext cx="169884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Training/ Qua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087720"/>
            <a:ext cx="152856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Rounded MT Bold"/>
              </a:rPr>
              <a:t>Risk manag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610480" y="1143000"/>
            <a:ext cx="381240" cy="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5334120"/>
            <a:ext cx="685800" cy="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01480"/>
            <a:ext cx="2971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 Rounded MT Bold"/>
              </a:rPr>
              <a:t>Environment:</a:t>
            </a:r>
            <a:r>
              <a:rPr b="1" i="1" lang="en-US" sz="1600" spc="-1" strike="noStrike">
                <a:solidFill>
                  <a:srgbClr val="9900cc"/>
                </a:solidFill>
                <a:latin typeface="Arial Rounded MT Bold"/>
              </a:rPr>
              <a:t>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Arial Rounded MT Bold"/>
              </a:rPr>
              <a:t>AEROD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886200"/>
            <a:ext cx="0" cy="25909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6477120"/>
            <a:ext cx="2666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332320" y="1676520"/>
            <a:ext cx="1800" cy="4363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25146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1219320"/>
            <a:ext cx="30492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2320" y="3962520"/>
            <a:ext cx="1800" cy="3808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745160"/>
            <a:ext cx="0" cy="2840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885840" y="5389560"/>
            <a:ext cx="609480" cy="20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91520" y="5943600"/>
            <a:ext cx="0" cy="533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1676520"/>
            <a:ext cx="0" cy="30477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2646360"/>
            <a:ext cx="1440" cy="1600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3408480"/>
            <a:ext cx="457200" cy="20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114800" y="3409560"/>
            <a:ext cx="415800" cy="190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2590920"/>
            <a:ext cx="152640" cy="1828800"/>
            <a:chOff x="609480" y="2590920"/>
            <a:chExt cx="152640" cy="1828800"/>
          </a:xfrm>
        </p:grpSpPr>
        <p:sp>
          <p:nvSpPr>
            <p:cNvPr id="260" name=""/>
            <p:cNvSpPr/>
            <p:nvPr/>
          </p:nvSpPr>
          <p:spPr>
            <a:xfrm>
              <a:off x="609480" y="2590920"/>
              <a:ext cx="0" cy="1828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3429000"/>
              <a:ext cx="152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048120" y="5715000"/>
            <a:ext cx="0" cy="76212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304920"/>
            <a:ext cx="0" cy="38088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4120" y="3049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5410080"/>
            <a:ext cx="761760" cy="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525880" y="64533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68720" y="3933720"/>
            <a:ext cx="1834920" cy="612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Rounded MT Bold"/>
              </a:rPr>
              <a:t>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003640" y="2200320"/>
            <a:ext cx="3988080" cy="1733040"/>
            <a:chOff x="5003640" y="2200320"/>
            <a:chExt cx="3988080" cy="1733040"/>
          </a:xfrm>
        </p:grpSpPr>
        <p:sp>
          <p:nvSpPr>
            <p:cNvPr id="271" name=""/>
            <p:cNvSpPr/>
            <p:nvPr/>
          </p:nvSpPr>
          <p:spPr>
            <a:xfrm>
              <a:off x="7115040" y="2200320"/>
              <a:ext cx="187668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200" spc="-1" strike="noStrike">
                  <a:solidFill>
                    <a:srgbClr val="00cc99"/>
                  </a:solidFill>
                  <a:latin typeface="Arial Rounded MT Bold"/>
                </a:rPr>
                <a:t>Polic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003640" y="2742840"/>
              <a:ext cx="2616480" cy="119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572000" y="1905120"/>
            <a:ext cx="2362320" cy="2028600"/>
            <a:chOff x="4572000" y="1905120"/>
            <a:chExt cx="2362320" cy="2028600"/>
          </a:xfrm>
        </p:grpSpPr>
        <p:sp>
          <p:nvSpPr>
            <p:cNvPr id="274" name=""/>
            <p:cNvSpPr/>
            <p:nvPr/>
          </p:nvSpPr>
          <p:spPr>
            <a:xfrm>
              <a:off x="4956120" y="1905120"/>
              <a:ext cx="19782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200" spc="-1" strike="noStrike">
                  <a:solidFill>
                    <a:srgbClr val="993300"/>
                  </a:solidFill>
                  <a:latin typeface="Arial Rounded MT Bold"/>
                </a:rPr>
                <a:t>Defin. of respon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572000" y="2971800"/>
              <a:ext cx="1143000" cy="961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24200" y="1905120"/>
            <a:ext cx="1976400" cy="2028600"/>
            <a:chOff x="2824200" y="1905120"/>
            <a:chExt cx="1976400" cy="2028600"/>
          </a:xfrm>
        </p:grpSpPr>
        <p:sp>
          <p:nvSpPr>
            <p:cNvPr id="277" name=""/>
            <p:cNvSpPr/>
            <p:nvPr/>
          </p:nvSpPr>
          <p:spPr>
            <a:xfrm>
              <a:off x="2824200" y="1905120"/>
              <a:ext cx="19764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cc"/>
                  </a:solidFill>
                  <a:latin typeface="Arial Rounded MT Bold"/>
                </a:rPr>
                <a:t>Risk manag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3809880" y="2971800"/>
              <a:ext cx="401760" cy="961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52280" y="2133720"/>
            <a:ext cx="3195720" cy="1800000"/>
            <a:chOff x="152280" y="2133720"/>
            <a:chExt cx="3195720" cy="1800000"/>
          </a:xfrm>
        </p:grpSpPr>
        <p:sp>
          <p:nvSpPr>
            <p:cNvPr id="280" name=""/>
            <p:cNvSpPr/>
            <p:nvPr/>
          </p:nvSpPr>
          <p:spPr>
            <a:xfrm>
              <a:off x="152280" y="2133720"/>
              <a:ext cx="25146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200" spc="-1" strike="noStrike">
                  <a:solidFill>
                    <a:srgbClr val="808000"/>
                  </a:solidFill>
                  <a:latin typeface="Arial Rounded MT Bold"/>
                </a:rPr>
                <a:t>Inv./adjust. Activ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362320" y="2971800"/>
              <a:ext cx="985680" cy="961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4920" y="3327480"/>
            <a:ext cx="2895480" cy="1554480"/>
            <a:chOff x="304920" y="3327480"/>
            <a:chExt cx="2895480" cy="1554480"/>
          </a:xfrm>
        </p:grpSpPr>
        <p:sp>
          <p:nvSpPr>
            <p:cNvPr id="283" name=""/>
            <p:cNvSpPr/>
            <p:nvPr/>
          </p:nvSpPr>
          <p:spPr>
            <a:xfrm>
              <a:off x="304920" y="3327480"/>
              <a:ext cx="210348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ff33"/>
                  </a:solidFill>
                  <a:latin typeface="Arial Rounded MT Bold"/>
                </a:rPr>
                <a:t>Training/ qualificat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362320" y="3886200"/>
              <a:ext cx="83808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52280" y="4559400"/>
            <a:ext cx="3195360" cy="1554480"/>
            <a:chOff x="152280" y="4559400"/>
            <a:chExt cx="3195360" cy="1554480"/>
          </a:xfrm>
        </p:grpSpPr>
        <p:sp>
          <p:nvSpPr>
            <p:cNvPr id="286" name=""/>
            <p:cNvSpPr/>
            <p:nvPr/>
          </p:nvSpPr>
          <p:spPr>
            <a:xfrm>
              <a:off x="152280" y="4559400"/>
              <a:ext cx="289584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99ff"/>
                  </a:solidFill>
                  <a:latin typeface="Arial Rounded MT Bold"/>
                </a:rPr>
                <a:t>Documentat./ data contro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895120" y="4581360"/>
              <a:ext cx="452520" cy="295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29200" y="3714840"/>
            <a:ext cx="3936960" cy="1080360"/>
            <a:chOff x="5029200" y="3714840"/>
            <a:chExt cx="3936960" cy="1080360"/>
          </a:xfrm>
        </p:grpSpPr>
        <p:sp>
          <p:nvSpPr>
            <p:cNvPr id="289" name=""/>
            <p:cNvSpPr/>
            <p:nvPr/>
          </p:nvSpPr>
          <p:spPr>
            <a:xfrm>
              <a:off x="5562720" y="3714840"/>
              <a:ext cx="340344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Evaluat. of system opera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029200" y="419112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80880" y="-152280"/>
            <a:ext cx="8514000" cy="1225440"/>
            <a:chOff x="380880" y="-152280"/>
            <a:chExt cx="8514000" cy="1225440"/>
          </a:xfrm>
        </p:grpSpPr>
        <p:sp>
          <p:nvSpPr>
            <p:cNvPr id="292" name=""/>
            <p:cNvSpPr/>
            <p:nvPr/>
          </p:nvSpPr>
          <p:spPr>
            <a:xfrm>
              <a:off x="380880" y="-1522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71640" y="10000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2000" y="10731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28600" y="12952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289240" y="4572000"/>
            <a:ext cx="3578040" cy="1868400"/>
            <a:chOff x="2289240" y="4572000"/>
            <a:chExt cx="3578040" cy="1868400"/>
          </a:xfrm>
        </p:grpSpPr>
        <p:sp>
          <p:nvSpPr>
            <p:cNvPr id="297" name=""/>
            <p:cNvSpPr/>
            <p:nvPr/>
          </p:nvSpPr>
          <p:spPr>
            <a:xfrm>
              <a:off x="2289240" y="5489640"/>
              <a:ext cx="3578040" cy="950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d60093"/>
                  </a:solidFill>
                  <a:latin typeface="Arial Rounded MT Bold"/>
                </a:rPr>
                <a:t>Notif. for hazards, risks, actions tak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8480" y="4572000"/>
              <a:ext cx="0" cy="914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75200" y="4508640"/>
            <a:ext cx="4060800" cy="1455480"/>
            <a:chOff x="4975200" y="4508640"/>
            <a:chExt cx="4060800" cy="1455480"/>
          </a:xfrm>
        </p:grpSpPr>
        <p:sp>
          <p:nvSpPr>
            <p:cNvPr id="300" name=""/>
            <p:cNvSpPr/>
            <p:nvPr/>
          </p:nvSpPr>
          <p:spPr>
            <a:xfrm>
              <a:off x="5757840" y="5013360"/>
              <a:ext cx="3278160" cy="950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 Rounded MT Bold"/>
                </a:rPr>
                <a:t>Operation audit - accid./incid. Eval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4975200" y="4508640"/>
              <a:ext cx="782640" cy="90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22760" y="2133720"/>
            <a:ext cx="14968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Arial Rounded MT Bold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95520" y="4468680"/>
            <a:ext cx="21718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Arial Rounded MT Bold"/>
              </a:rPr>
              <a:t>Particip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5589720"/>
            <a:ext cx="26366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enior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43720" y="5589720"/>
            <a:ext cx="22860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All the staf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80880" y="-152280"/>
            <a:ext cx="8514000" cy="1225440"/>
            <a:chOff x="380880" y="-152280"/>
            <a:chExt cx="8514000" cy="1225440"/>
          </a:xfrm>
        </p:grpSpPr>
        <p:sp>
          <p:nvSpPr>
            <p:cNvPr id="309" name=""/>
            <p:cNvSpPr/>
            <p:nvPr/>
          </p:nvSpPr>
          <p:spPr>
            <a:xfrm>
              <a:off x="380880" y="-1522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71640" y="10000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32000" y="10731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276720" y="2565360"/>
            <a:ext cx="2476440" cy="756360"/>
            <a:chOff x="3276720" y="2565360"/>
            <a:chExt cx="2476440" cy="756360"/>
          </a:xfrm>
        </p:grpSpPr>
        <p:sp>
          <p:nvSpPr>
            <p:cNvPr id="314" name=""/>
            <p:cNvSpPr/>
            <p:nvPr/>
          </p:nvSpPr>
          <p:spPr>
            <a:xfrm>
              <a:off x="3276720" y="2892600"/>
              <a:ext cx="247644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d60093"/>
                  </a:solidFill>
                  <a:latin typeface="Arial Rounded MT Bold"/>
                </a:rPr>
                <a:t>Set objective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00720" y="2565360"/>
              <a:ext cx="0" cy="358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484360" y="3357720"/>
            <a:ext cx="4038840" cy="1091160"/>
            <a:chOff x="2484360" y="3357720"/>
            <a:chExt cx="4038840" cy="1091160"/>
          </a:xfrm>
        </p:grpSpPr>
        <p:sp>
          <p:nvSpPr>
            <p:cNvPr id="317" name=""/>
            <p:cNvSpPr/>
            <p:nvPr/>
          </p:nvSpPr>
          <p:spPr>
            <a:xfrm>
              <a:off x="2484360" y="3684600"/>
              <a:ext cx="403884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d60093"/>
                  </a:solidFill>
                  <a:latin typeface="Arial Rounded MT Bold"/>
                </a:rPr>
                <a:t>Indicate how to reach them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0720" y="3357720"/>
              <a:ext cx="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236680" y="4941720"/>
            <a:ext cx="4496040" cy="648000"/>
            <a:chOff x="2236680" y="4941720"/>
            <a:chExt cx="4496040" cy="648000"/>
          </a:xfrm>
        </p:grpSpPr>
        <p:sp>
          <p:nvSpPr>
            <p:cNvPr id="320" name=""/>
            <p:cNvSpPr/>
            <p:nvPr/>
          </p:nvSpPr>
          <p:spPr>
            <a:xfrm>
              <a:off x="4500720" y="4941720"/>
              <a:ext cx="0" cy="32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36680" y="5229360"/>
              <a:ext cx="44960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68360" y="5267160"/>
              <a:ext cx="0" cy="32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32720" y="5229360"/>
              <a:ext cx="0" cy="322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40120" y="2131920"/>
            <a:ext cx="137952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Arial Rounded MT Bold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76760" y="4508640"/>
            <a:ext cx="1450800" cy="5716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C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36680" y="5087880"/>
            <a:ext cx="4554360" cy="1365480"/>
            <a:chOff x="2236680" y="5087880"/>
            <a:chExt cx="4554360" cy="1365480"/>
          </a:xfrm>
        </p:grpSpPr>
        <p:sp>
          <p:nvSpPr>
            <p:cNvPr id="329" name=""/>
            <p:cNvSpPr/>
            <p:nvPr/>
          </p:nvSpPr>
          <p:spPr>
            <a:xfrm>
              <a:off x="2236680" y="5545080"/>
              <a:ext cx="4554360" cy="908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Rounded MT Bold"/>
                </a:rPr>
                <a:t>Facilitating information on safety among sta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05040" y="50878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24000" y="4078440"/>
            <a:ext cx="3419280" cy="1426320"/>
            <a:chOff x="324000" y="4078440"/>
            <a:chExt cx="3419280" cy="1426320"/>
          </a:xfrm>
        </p:grpSpPr>
        <p:sp>
          <p:nvSpPr>
            <p:cNvPr id="332" name=""/>
            <p:cNvSpPr/>
            <p:nvPr/>
          </p:nvSpPr>
          <p:spPr>
            <a:xfrm>
              <a:off x="324000" y="4078440"/>
              <a:ext cx="3038400" cy="1426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Rounded MT Bold"/>
                </a:rPr>
                <a:t>Training for staff/ contra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362400" y="4783320"/>
              <a:ext cx="380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267160" y="4089240"/>
            <a:ext cx="3581280" cy="1769400"/>
            <a:chOff x="5267160" y="4089240"/>
            <a:chExt cx="3581280" cy="1769400"/>
          </a:xfrm>
        </p:grpSpPr>
        <p:sp>
          <p:nvSpPr>
            <p:cNvPr id="335" name=""/>
            <p:cNvSpPr/>
            <p:nvPr/>
          </p:nvSpPr>
          <p:spPr>
            <a:xfrm>
              <a:off x="5638680" y="4089240"/>
              <a:ext cx="3209760" cy="1769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 Rounded MT Bold"/>
                </a:rPr>
                <a:t>Adequate resources to operate the adm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67160" y="4782960"/>
              <a:ext cx="380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338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28600" y="2563920"/>
            <a:ext cx="8686800" cy="760680"/>
            <a:chOff x="228600" y="2563920"/>
            <a:chExt cx="8686800" cy="760680"/>
          </a:xfrm>
        </p:grpSpPr>
        <p:sp>
          <p:nvSpPr>
            <p:cNvPr id="343" name=""/>
            <p:cNvSpPr/>
            <p:nvPr/>
          </p:nvSpPr>
          <p:spPr>
            <a:xfrm>
              <a:off x="228600" y="2895480"/>
              <a:ext cx="868680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How the senior manager shows commitment with the SM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00720" y="256392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060640"/>
            <a:ext cx="1379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Arial Rounded MT Bold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2666880"/>
            <a:ext cx="47246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Function of aerodrom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209680" y="3048120"/>
            <a:ext cx="4724640" cy="1014840"/>
            <a:chOff x="2209680" y="3048120"/>
            <a:chExt cx="4724640" cy="1014840"/>
          </a:xfrm>
        </p:grpSpPr>
        <p:sp>
          <p:nvSpPr>
            <p:cNvPr id="350" name=""/>
            <p:cNvSpPr/>
            <p:nvPr/>
          </p:nvSpPr>
          <p:spPr>
            <a:xfrm>
              <a:off x="2209680" y="3633840"/>
              <a:ext cx="472464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 Rounded MT Bold"/>
                </a:rPr>
                <a:t>1 responsible for each are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72000" y="304812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209680" y="4038480"/>
            <a:ext cx="4724640" cy="2379600"/>
            <a:chOff x="2209680" y="4038480"/>
            <a:chExt cx="4724640" cy="2379600"/>
          </a:xfrm>
        </p:grpSpPr>
        <p:sp>
          <p:nvSpPr>
            <p:cNvPr id="353" name=""/>
            <p:cNvSpPr/>
            <p:nvPr/>
          </p:nvSpPr>
          <p:spPr>
            <a:xfrm>
              <a:off x="2209680" y="4648320"/>
              <a:ext cx="4724640" cy="1769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Lighting, maintenance, contractors, external agents (consultants, material providers, stockholders, airlines, etc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4038480"/>
              <a:ext cx="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356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2276640"/>
            <a:ext cx="389700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993300"/>
                </a:solidFill>
                <a:latin typeface="Arial Rounded MT Bold"/>
              </a:rPr>
              <a:t>Definition of respo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4653000"/>
            <a:ext cx="49528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afety offic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981080" y="3467160"/>
            <a:ext cx="5105520" cy="1185840"/>
            <a:chOff x="1981080" y="3467160"/>
            <a:chExt cx="5105520" cy="1185840"/>
          </a:xfrm>
        </p:grpSpPr>
        <p:sp>
          <p:nvSpPr>
            <p:cNvPr id="365" name=""/>
            <p:cNvSpPr/>
            <p:nvPr/>
          </p:nvSpPr>
          <p:spPr>
            <a:xfrm>
              <a:off x="1981080" y="3467160"/>
              <a:ext cx="510552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Just one responsible for the aerodrom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267080"/>
              <a:ext cx="0" cy="385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209680" y="5084640"/>
            <a:ext cx="4724640" cy="861120"/>
            <a:chOff x="2209680" y="5084640"/>
            <a:chExt cx="4724640" cy="861120"/>
          </a:xfrm>
        </p:grpSpPr>
        <p:sp>
          <p:nvSpPr>
            <p:cNvPr id="368" name=""/>
            <p:cNvSpPr/>
            <p:nvPr/>
          </p:nvSpPr>
          <p:spPr>
            <a:xfrm>
              <a:off x="2209680" y="5516640"/>
              <a:ext cx="472464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000066"/>
                  </a:solidFill>
                  <a:uFillTx/>
                  <a:latin typeface="Arial Rounded MT Bold"/>
                </a:rPr>
                <a:t>Most report directly to the CE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0" y="5084640"/>
              <a:ext cx="0" cy="432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371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2920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6984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4640" y="2171880"/>
            <a:ext cx="38973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Arial Rounded MT Bold"/>
              </a:rPr>
              <a:t>Definition of respo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3213000"/>
            <a:ext cx="2895480" cy="108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Co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4581360"/>
            <a:ext cx="20574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 Rounded MT Bold"/>
              </a:rPr>
              <a:t>Safety offi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4589640"/>
            <a:ext cx="236232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 Rounded MT Bold"/>
              </a:rPr>
              <a:t>C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5737320"/>
            <a:ext cx="3505320" cy="606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espo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90920" y="3751200"/>
            <a:ext cx="3886200" cy="2057400"/>
            <a:chOff x="2590920" y="3751200"/>
            <a:chExt cx="3886200" cy="205740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3405240" y="3827160"/>
              <a:ext cx="23097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590920" y="3751200"/>
              <a:ext cx="3886200" cy="20574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386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6984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14880" y="3962520"/>
            <a:ext cx="251460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Safety committ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308320" y="2971800"/>
            <a:ext cx="4495680" cy="990720"/>
            <a:chOff x="2308320" y="2971800"/>
            <a:chExt cx="4495680" cy="990720"/>
          </a:xfrm>
        </p:grpSpPr>
        <p:sp>
          <p:nvSpPr>
            <p:cNvPr id="394" name=""/>
            <p:cNvSpPr/>
            <p:nvPr/>
          </p:nvSpPr>
          <p:spPr>
            <a:xfrm>
              <a:off x="2308320" y="2971800"/>
              <a:ext cx="449568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Function of the aerodrome siz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2000" y="3429000"/>
              <a:ext cx="0" cy="53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990720" y="4343400"/>
            <a:ext cx="2590560" cy="1505520"/>
            <a:chOff x="990720" y="4343400"/>
            <a:chExt cx="2590560" cy="1505520"/>
          </a:xfrm>
        </p:grpSpPr>
        <p:sp>
          <p:nvSpPr>
            <p:cNvPr id="397" name=""/>
            <p:cNvSpPr/>
            <p:nvPr/>
          </p:nvSpPr>
          <p:spPr>
            <a:xfrm>
              <a:off x="990720" y="5084640"/>
              <a:ext cx="259056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 Rounded MT Bold"/>
                </a:rPr>
                <a:t>Presided by the safety offic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6000" y="4343400"/>
              <a:ext cx="99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86000" y="4343400"/>
              <a:ext cx="0" cy="74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638680" y="4343400"/>
            <a:ext cx="2438640" cy="1505520"/>
            <a:chOff x="5638680" y="4343400"/>
            <a:chExt cx="2438640" cy="1505520"/>
          </a:xfrm>
        </p:grpSpPr>
        <p:sp>
          <p:nvSpPr>
            <p:cNvPr id="401" name=""/>
            <p:cNvSpPr/>
            <p:nvPr/>
          </p:nvSpPr>
          <p:spPr>
            <a:xfrm>
              <a:off x="5638680" y="5084640"/>
              <a:ext cx="243864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 Rounded MT Bold"/>
                </a:rPr>
                <a:t>Regular meeting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67280" y="4343400"/>
              <a:ext cx="1009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77080" y="4343400"/>
              <a:ext cx="0" cy="74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05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2880" y="2100240"/>
            <a:ext cx="38973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993300"/>
                </a:solidFill>
                <a:latin typeface="Arial Rounded MT Bold"/>
              </a:rPr>
              <a:t>Definition of respo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1800" y="2106720"/>
            <a:ext cx="2783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4495680"/>
            <a:ext cx="39621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Identify hazard and manage/control 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463920" y="5181480"/>
            <a:ext cx="2216160" cy="1289520"/>
            <a:chOff x="3463920" y="5181480"/>
            <a:chExt cx="2216160" cy="1289520"/>
          </a:xfrm>
        </p:grpSpPr>
        <p:sp>
          <p:nvSpPr>
            <p:cNvPr id="415" name=""/>
            <p:cNvSpPr/>
            <p:nvPr/>
          </p:nvSpPr>
          <p:spPr>
            <a:xfrm>
              <a:off x="3463920" y="5613480"/>
              <a:ext cx="2216160" cy="857520"/>
            </a:xfrm>
            <a:prstGeom prst="flowChartDecision">
              <a:avLst/>
            </a:prstGeom>
            <a:solidFill>
              <a:srgbClr val="ff33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 Rounded MT Bold"/>
                </a:rPr>
                <a:t>How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72000" y="51814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19480" y="2209680"/>
            <a:ext cx="905040" cy="2210040"/>
            <a:chOff x="4119480" y="2209680"/>
            <a:chExt cx="905040" cy="221004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4119480" y="2209680"/>
              <a:ext cx="905040" cy="17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572000" y="396252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21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4040" y="2498760"/>
            <a:ext cx="3352680" cy="25909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27360" y="3809880"/>
            <a:ext cx="3124080" cy="2590920"/>
          </a:xfrm>
          <a:prstGeom prst="ellipse">
            <a:avLst/>
          </a:prstGeom>
          <a:noFill/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3360" y="3809880"/>
            <a:ext cx="3124080" cy="2590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41960" y="45464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99120" y="418608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517212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35280" y="411480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32120" y="3032280"/>
            <a:ext cx="167796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ff00ff"/>
                </a:solidFill>
                <a:latin typeface="Arial Rounded MT Bold"/>
              </a:rPr>
              <a:t>Peo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0040" y="5105520"/>
            <a:ext cx="183024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ffff00"/>
                </a:solidFill>
                <a:latin typeface="Arial Rounded MT Bold"/>
              </a:rPr>
              <a:t>Equip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0920" y="5105520"/>
            <a:ext cx="1835280" cy="429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33cccc"/>
                </a:solidFill>
                <a:latin typeface="Arial Rounded MT Bold"/>
              </a:rPr>
              <a:t>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38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60360" y="2104920"/>
            <a:ext cx="27860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6880" y="2895480"/>
            <a:ext cx="38102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Hazard ident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826920" y="4149720"/>
            <a:ext cx="3200400" cy="2226600"/>
            <a:chOff x="826920" y="4149720"/>
            <a:chExt cx="3200400" cy="2226600"/>
          </a:xfrm>
        </p:grpSpPr>
        <p:sp>
          <p:nvSpPr>
            <p:cNvPr id="447" name=""/>
            <p:cNvSpPr/>
            <p:nvPr/>
          </p:nvSpPr>
          <p:spPr>
            <a:xfrm>
              <a:off x="826920" y="5276880"/>
              <a:ext cx="3200400" cy="1099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Arial Rounded MT Bold"/>
                </a:rPr>
                <a:t>Example: lack or bad management of bird/wildlife hazar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60440" y="4149720"/>
              <a:ext cx="213372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Arial Rounded MT Bold"/>
                </a:rPr>
                <a:t>Well defin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7120" y="465948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105520" y="4145040"/>
            <a:ext cx="3200400" cy="1915200"/>
            <a:chOff x="5105520" y="4145040"/>
            <a:chExt cx="3200400" cy="1915200"/>
          </a:xfrm>
        </p:grpSpPr>
        <p:sp>
          <p:nvSpPr>
            <p:cNvPr id="451" name=""/>
            <p:cNvSpPr/>
            <p:nvPr/>
          </p:nvSpPr>
          <p:spPr>
            <a:xfrm>
              <a:off x="5486400" y="4145040"/>
              <a:ext cx="24382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Subt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05520" y="5295960"/>
              <a:ext cx="320040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Example: Staff without experi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05720" y="464832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438280" y="3376440"/>
            <a:ext cx="4267440" cy="762120"/>
            <a:chOff x="2438280" y="3376440"/>
            <a:chExt cx="4267440" cy="762120"/>
          </a:xfrm>
        </p:grpSpPr>
        <p:sp>
          <p:nvSpPr>
            <p:cNvPr id="455" name=""/>
            <p:cNvSpPr/>
            <p:nvPr/>
          </p:nvSpPr>
          <p:spPr>
            <a:xfrm>
              <a:off x="4583160" y="3376440"/>
              <a:ext cx="0" cy="38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438280" y="375768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705720" y="375768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8280" y="3757680"/>
              <a:ext cx="4267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60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61800" y="2106720"/>
            <a:ext cx="2783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68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621240" y="3657600"/>
            <a:ext cx="23191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867280" y="2425680"/>
            <a:ext cx="2301840" cy="1290240"/>
            <a:chOff x="5867280" y="2425680"/>
            <a:chExt cx="2301840" cy="1290240"/>
          </a:xfrm>
        </p:grpSpPr>
        <p:sp>
          <p:nvSpPr>
            <p:cNvPr id="474" name=""/>
            <p:cNvSpPr/>
            <p:nvPr/>
          </p:nvSpPr>
          <p:spPr>
            <a:xfrm>
              <a:off x="6172200" y="2425680"/>
              <a:ext cx="199692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Rounded MT Bold"/>
                </a:rPr>
                <a:t>Identify hazar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867280" y="3284280"/>
              <a:ext cx="53028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84360" y="2438280"/>
            <a:ext cx="2972880" cy="1218960"/>
            <a:chOff x="684360" y="2438280"/>
            <a:chExt cx="2972880" cy="1218960"/>
          </a:xfrm>
        </p:grpSpPr>
        <p:sp>
          <p:nvSpPr>
            <p:cNvPr id="477" name=""/>
            <p:cNvSpPr/>
            <p:nvPr/>
          </p:nvSpPr>
          <p:spPr>
            <a:xfrm>
              <a:off x="684360" y="2438280"/>
              <a:ext cx="282096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Evaluate risk poten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3047760" y="3352320"/>
              <a:ext cx="60948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38080" y="4648320"/>
            <a:ext cx="2819160" cy="1384920"/>
            <a:chOff x="838080" y="4648320"/>
            <a:chExt cx="2819160" cy="1384920"/>
          </a:xfrm>
        </p:grpSpPr>
        <p:sp>
          <p:nvSpPr>
            <p:cNvPr id="480" name=""/>
            <p:cNvSpPr/>
            <p:nvPr/>
          </p:nvSpPr>
          <p:spPr>
            <a:xfrm>
              <a:off x="838080" y="4952880"/>
              <a:ext cx="27432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Judge risks tolerability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047760" y="4648320"/>
              <a:ext cx="60948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029200" y="4641840"/>
            <a:ext cx="3139920" cy="1391400"/>
            <a:chOff x="5029200" y="4641840"/>
            <a:chExt cx="3139920" cy="1391400"/>
          </a:xfrm>
        </p:grpSpPr>
        <p:sp>
          <p:nvSpPr>
            <p:cNvPr id="483" name=""/>
            <p:cNvSpPr/>
            <p:nvPr/>
          </p:nvSpPr>
          <p:spPr>
            <a:xfrm>
              <a:off x="5029200" y="4952880"/>
              <a:ext cx="313992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 Rounded MT Bold"/>
                </a:rPr>
                <a:t>Hierarchy of risks poten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9840" y="4641840"/>
              <a:ext cx="380880" cy="371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09680" y="2903400"/>
            <a:ext cx="47246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Rounded MT Bold"/>
              </a:rPr>
              <a:t>How to evaluate risks potenti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0720" y="5916600"/>
            <a:ext cx="72388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Risk = f(time, cost, difficulty to avoid the risks, et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916360" y="3384720"/>
            <a:ext cx="3241440" cy="881280"/>
            <a:chOff x="2916360" y="3384720"/>
            <a:chExt cx="3241440" cy="881280"/>
          </a:xfrm>
        </p:grpSpPr>
        <p:sp>
          <p:nvSpPr>
            <p:cNvPr id="490" name=""/>
            <p:cNvSpPr/>
            <p:nvPr/>
          </p:nvSpPr>
          <p:spPr>
            <a:xfrm>
              <a:off x="2916360" y="3684600"/>
              <a:ext cx="324144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 Rounded MT Bold"/>
                </a:rPr>
                <a:t>RISK = f(P,S,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72000" y="3384720"/>
              <a:ext cx="0" cy="299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195640" y="4260960"/>
            <a:ext cx="4800600" cy="1299240"/>
            <a:chOff x="2195640" y="4260960"/>
            <a:chExt cx="4800600" cy="1299240"/>
          </a:xfrm>
        </p:grpSpPr>
        <p:sp>
          <p:nvSpPr>
            <p:cNvPr id="493" name=""/>
            <p:cNvSpPr/>
            <p:nvPr/>
          </p:nvSpPr>
          <p:spPr>
            <a:xfrm>
              <a:off x="2195640" y="4621320"/>
              <a:ext cx="4800600" cy="93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Arial Rounded MT Bold"/>
                </a:rPr>
                <a:t>P = probability of occurrenc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Arial Rounded MT Bold"/>
                </a:rPr>
                <a:t>S = severity of the consequenc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0" y="426096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96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709560" y="2106720"/>
            <a:ext cx="27828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2719440"/>
            <a:ext cx="746784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Hazard identification &amp; risk evaluation are not 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80000" y="4776840"/>
            <a:ext cx="147780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 Rounded MT Bold"/>
              </a:rPr>
              <a:t>Dep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257800" y="3403440"/>
            <a:ext cx="3581280" cy="1554480"/>
            <a:chOff x="5257800" y="3403440"/>
            <a:chExt cx="3581280" cy="1554480"/>
          </a:xfrm>
        </p:grpSpPr>
        <p:sp>
          <p:nvSpPr>
            <p:cNvPr id="506" name=""/>
            <p:cNvSpPr/>
            <p:nvPr/>
          </p:nvSpPr>
          <p:spPr>
            <a:xfrm>
              <a:off x="6330960" y="3403440"/>
              <a:ext cx="250812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Change in the organiz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257800" y="4114440"/>
              <a:ext cx="1143000" cy="68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124080" y="3409920"/>
            <a:ext cx="2895840" cy="1390320"/>
            <a:chOff x="3124080" y="3409920"/>
            <a:chExt cx="2895840" cy="1390320"/>
          </a:xfrm>
        </p:grpSpPr>
        <p:sp>
          <p:nvSpPr>
            <p:cNvPr id="509" name=""/>
            <p:cNvSpPr/>
            <p:nvPr/>
          </p:nvSpPr>
          <p:spPr>
            <a:xfrm>
              <a:off x="3124080" y="3409920"/>
              <a:ext cx="289584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New equipm. or faci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572000" y="4495320"/>
              <a:ext cx="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81120" y="3403440"/>
            <a:ext cx="3098520" cy="1554480"/>
            <a:chOff x="681120" y="3403440"/>
            <a:chExt cx="3098520" cy="1554480"/>
          </a:xfrm>
        </p:grpSpPr>
        <p:sp>
          <p:nvSpPr>
            <p:cNvPr id="512" name=""/>
            <p:cNvSpPr/>
            <p:nvPr/>
          </p:nvSpPr>
          <p:spPr>
            <a:xfrm>
              <a:off x="681120" y="3403440"/>
              <a:ext cx="213840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Equip. deactiva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2590560" y="4266720"/>
              <a:ext cx="1189080" cy="530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80880" y="4775040"/>
            <a:ext cx="3398760" cy="1080360"/>
            <a:chOff x="380880" y="4775040"/>
            <a:chExt cx="3398760" cy="1080360"/>
          </a:xfrm>
        </p:grpSpPr>
        <p:sp>
          <p:nvSpPr>
            <p:cNvPr id="515" name=""/>
            <p:cNvSpPr/>
            <p:nvPr/>
          </p:nvSpPr>
          <p:spPr>
            <a:xfrm>
              <a:off x="380880" y="4775040"/>
              <a:ext cx="302256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New proc. or proc. revie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352320" y="5229360"/>
              <a:ext cx="427320" cy="104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409920" y="5229360"/>
            <a:ext cx="2303640" cy="1337400"/>
            <a:chOff x="3409920" y="5229360"/>
            <a:chExt cx="2303640" cy="1337400"/>
          </a:xfrm>
        </p:grpSpPr>
        <p:sp>
          <p:nvSpPr>
            <p:cNvPr id="518" name=""/>
            <p:cNvSpPr/>
            <p:nvPr/>
          </p:nvSpPr>
          <p:spPr>
            <a:xfrm>
              <a:off x="3409920" y="5486400"/>
              <a:ext cx="230364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Personnel ro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72000" y="5229360"/>
              <a:ext cx="0" cy="257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257800" y="4781520"/>
            <a:ext cx="2971800" cy="1554480"/>
            <a:chOff x="5257800" y="4781520"/>
            <a:chExt cx="2971800" cy="1554480"/>
          </a:xfrm>
        </p:grpSpPr>
        <p:sp>
          <p:nvSpPr>
            <p:cNvPr id="521" name=""/>
            <p:cNvSpPr/>
            <p:nvPr/>
          </p:nvSpPr>
          <p:spPr>
            <a:xfrm>
              <a:off x="5872320" y="4781520"/>
              <a:ext cx="235728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Legislation vari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57800" y="5181480"/>
              <a:ext cx="609480" cy="15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524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68280" y="2106720"/>
            <a:ext cx="27687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676520" y="2708280"/>
            <a:ext cx="1600200" cy="3385800"/>
            <a:chOff x="1676520" y="2708280"/>
            <a:chExt cx="1600200" cy="3385800"/>
          </a:xfrm>
        </p:grpSpPr>
        <p:sp>
          <p:nvSpPr>
            <p:cNvPr id="532" name=""/>
            <p:cNvSpPr/>
            <p:nvPr/>
          </p:nvSpPr>
          <p:spPr>
            <a:xfrm>
              <a:off x="1676520" y="2708280"/>
              <a:ext cx="1600200" cy="302112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Should never occur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Rounded MT Bold"/>
                </a:rPr>
                <a:t>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 Rounded MT Bold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76520" y="5462640"/>
              <a:ext cx="160020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&lt;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76720" y="2708280"/>
            <a:ext cx="1676160" cy="3385800"/>
            <a:chOff x="3276720" y="2708280"/>
            <a:chExt cx="1676160" cy="3385800"/>
          </a:xfrm>
        </p:grpSpPr>
        <p:sp>
          <p:nvSpPr>
            <p:cNvPr id="535" name=""/>
            <p:cNvSpPr/>
            <p:nvPr/>
          </p:nvSpPr>
          <p:spPr>
            <a:xfrm>
              <a:off x="3276720" y="2708280"/>
              <a:ext cx="1676160" cy="309600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Unlikely to occ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5462640"/>
              <a:ext cx="167616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7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 a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952880" y="2708280"/>
            <a:ext cx="1447920" cy="3385800"/>
            <a:chOff x="4952880" y="2708280"/>
            <a:chExt cx="1447920" cy="3385800"/>
          </a:xfrm>
        </p:grpSpPr>
        <p:sp>
          <p:nvSpPr>
            <p:cNvPr id="538" name=""/>
            <p:cNvSpPr/>
            <p:nvPr/>
          </p:nvSpPr>
          <p:spPr>
            <a:xfrm>
              <a:off x="4952880" y="2708280"/>
              <a:ext cx="1447920" cy="3040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Could occur some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52880" y="5462640"/>
              <a:ext cx="144792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5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 a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856640" y="2708280"/>
            <a:ext cx="1179000" cy="3385800"/>
            <a:chOff x="7856640" y="2708280"/>
            <a:chExt cx="1179000" cy="3385800"/>
          </a:xfrm>
        </p:grpSpPr>
        <p:sp>
          <p:nvSpPr>
            <p:cNvPr id="541" name=""/>
            <p:cNvSpPr/>
            <p:nvPr/>
          </p:nvSpPr>
          <p:spPr>
            <a:xfrm>
              <a:off x="7856640" y="2708280"/>
              <a:ext cx="1179000" cy="30160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Could occur frequentl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56640" y="5462640"/>
              <a:ext cx="117900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1 a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3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95280" y="-171360"/>
            <a:ext cx="8513640" cy="1225440"/>
            <a:chOff x="395280" y="-171360"/>
            <a:chExt cx="8513640" cy="1225440"/>
          </a:xfrm>
        </p:grpSpPr>
        <p:sp>
          <p:nvSpPr>
            <p:cNvPr id="544" name=""/>
            <p:cNvSpPr/>
            <p:nvPr/>
          </p:nvSpPr>
          <p:spPr>
            <a:xfrm>
              <a:off x="395280" y="-17136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5680" y="98100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46040" y="105408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52280" y="1595520"/>
            <a:ext cx="1540080" cy="4387320"/>
            <a:chOff x="152280" y="1595520"/>
            <a:chExt cx="1540080" cy="4387320"/>
          </a:xfrm>
        </p:grpSpPr>
        <p:sp>
          <p:nvSpPr>
            <p:cNvPr id="548" name=""/>
            <p:cNvSpPr/>
            <p:nvPr/>
          </p:nvSpPr>
          <p:spPr>
            <a:xfrm>
              <a:off x="152280" y="2708280"/>
              <a:ext cx="1524240" cy="2855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Qualit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 Rounded MT Bold"/>
                </a:rPr>
                <a:t>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2280" y="5462640"/>
              <a:ext cx="152424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Quantitative: Operations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 Rounded MT Bold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9280" y="1595520"/>
              <a:ext cx="1513080" cy="924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Rounded MT Bold"/>
                </a:rPr>
                <a:t>Defini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400800" y="2708280"/>
            <a:ext cx="1447920" cy="3385800"/>
            <a:chOff x="6400800" y="2708280"/>
            <a:chExt cx="1447920" cy="3385800"/>
          </a:xfrm>
        </p:grpSpPr>
        <p:sp>
          <p:nvSpPr>
            <p:cNvPr id="552" name=""/>
            <p:cNvSpPr/>
            <p:nvPr/>
          </p:nvSpPr>
          <p:spPr>
            <a:xfrm>
              <a:off x="6400800" y="2708280"/>
              <a:ext cx="1447920" cy="28544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Could occur several ti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00800" y="5462640"/>
              <a:ext cx="144792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3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 a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676520" y="1584360"/>
            <a:ext cx="7359480" cy="1236240"/>
            <a:chOff x="1676520" y="1584360"/>
            <a:chExt cx="7359480" cy="1236240"/>
          </a:xfrm>
        </p:grpSpPr>
        <p:sp>
          <p:nvSpPr>
            <p:cNvPr id="555" name=""/>
            <p:cNvSpPr/>
            <p:nvPr/>
          </p:nvSpPr>
          <p:spPr>
            <a:xfrm>
              <a:off x="7856640" y="2035080"/>
              <a:ext cx="1179360" cy="785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Freq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520" y="1584360"/>
              <a:ext cx="731520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Probability of occur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76520" y="2023920"/>
              <a:ext cx="177300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Extremely unlike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301920" y="2023920"/>
              <a:ext cx="16509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Extremely 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32360" y="2028960"/>
              <a:ext cx="1463760" cy="785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72360" y="2028960"/>
              <a:ext cx="151272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Reasonab. like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40360" y="2752560"/>
            <a:ext cx="2844720" cy="6062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Catastroph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140360" y="3618000"/>
            <a:ext cx="2844720" cy="606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Danger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40360" y="4495680"/>
            <a:ext cx="2844720" cy="6062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Mod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40360" y="5345280"/>
            <a:ext cx="2844720" cy="60624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568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1800" y="2081160"/>
            <a:ext cx="2783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25320" y="2637000"/>
            <a:ext cx="3586320" cy="3313080"/>
            <a:chOff x="625320" y="2637000"/>
            <a:chExt cx="3586320" cy="3313080"/>
          </a:xfrm>
        </p:grpSpPr>
        <p:sp>
          <p:nvSpPr>
            <p:cNvPr id="574" name=""/>
            <p:cNvSpPr/>
            <p:nvPr/>
          </p:nvSpPr>
          <p:spPr>
            <a:xfrm>
              <a:off x="625320" y="3902040"/>
              <a:ext cx="250668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everity (Consequence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67280" y="2637000"/>
              <a:ext cx="144360" cy="3313080"/>
            </a:xfrm>
            <a:custGeom>
              <a:avLst/>
              <a:gdLst>
                <a:gd name="textAreaLeft" fmla="*/ 42480 w 144360"/>
                <a:gd name="textAreaRight" fmla="*/ 144360 w 144360"/>
                <a:gd name="textAreaTop" fmla="*/ 137880 h 3313080"/>
                <a:gd name="textAreaBottom" fmla="*/ 3175200 h 33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32000" y="4292640"/>
              <a:ext cx="93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22096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Bookman Old Style"/>
              </a:rPr>
              <a:t>“</a:t>
            </a:r>
            <a:r>
              <a:rPr b="1" lang="es-PE" sz="3600" spc="-1" strike="noStrike">
                <a:solidFill>
                  <a:srgbClr val="ffff00"/>
                </a:solidFill>
                <a:latin typeface="Bookman Old Style"/>
              </a:rPr>
              <a:t>Airport Safety Management Systems Implementatio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49568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b2b2b2"/>
                </a:solidFill>
                <a:latin typeface="Arial Rounded MT Bold"/>
              </a:rPr>
              <a:t>Dr. S.H. Cardoso,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b2b2b2"/>
                </a:solidFill>
                <a:latin typeface="Arial Rounded MT Bold"/>
              </a:rPr>
              <a:t>Aga  Regional Officer – ICAO/L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943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ffffff"/>
                </a:solidFill>
                <a:latin typeface="Arial Rounded MT Bold"/>
              </a:rPr>
              <a:t>Mexico, 16 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2532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ICAO/ASPA REGIONAL SEMINAR ON SAFETY MANAGEMENT SYSTEMS (SM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551440" y="6284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48000" y="2668680"/>
            <a:ext cx="254304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everity lev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581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9560" y="1830240"/>
            <a:ext cx="27828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79280" y="3314880"/>
            <a:ext cx="2089080" cy="2957760"/>
            <a:chOff x="179280" y="3314880"/>
            <a:chExt cx="2089080" cy="2957760"/>
          </a:xfrm>
        </p:grpSpPr>
        <p:sp>
          <p:nvSpPr>
            <p:cNvPr id="587" name=""/>
            <p:cNvSpPr/>
            <p:nvPr/>
          </p:nvSpPr>
          <p:spPr>
            <a:xfrm>
              <a:off x="179280" y="3314880"/>
              <a:ext cx="2089080" cy="1077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Sever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9280" y="4543200"/>
              <a:ext cx="20890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Lo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280" y="4975200"/>
              <a:ext cx="20890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Mode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280" y="5406840"/>
              <a:ext cx="20890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Dangero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9280" y="5843520"/>
              <a:ext cx="20890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Catastrophi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266920" y="4543560"/>
            <a:ext cx="2232000" cy="1729080"/>
            <a:chOff x="2266920" y="4543560"/>
            <a:chExt cx="2232000" cy="1729080"/>
          </a:xfrm>
        </p:grpSpPr>
        <p:sp>
          <p:nvSpPr>
            <p:cNvPr id="593" name=""/>
            <p:cNvSpPr/>
            <p:nvPr/>
          </p:nvSpPr>
          <p:spPr>
            <a:xfrm>
              <a:off x="2266920" y="4543560"/>
              <a:ext cx="2232000" cy="429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Bookman Old Style"/>
                </a:rPr>
                <a:t>Lack of ski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66920" y="4975200"/>
              <a:ext cx="2232000" cy="429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Bookman Old Style"/>
                </a:rPr>
                <a:t>Minor inju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66920" y="5406840"/>
              <a:ext cx="2232000" cy="429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Bookman Old Style"/>
                </a:rPr>
                <a:t>Serious inju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66920" y="5843520"/>
              <a:ext cx="2232000" cy="429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Bookman Old Style"/>
                </a:rPr>
                <a:t>Deat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498920" y="4543560"/>
            <a:ext cx="2449440" cy="1729080"/>
            <a:chOff x="4498920" y="4543560"/>
            <a:chExt cx="2449440" cy="1729080"/>
          </a:xfrm>
        </p:grpSpPr>
        <p:sp>
          <p:nvSpPr>
            <p:cNvPr id="598" name=""/>
            <p:cNvSpPr/>
            <p:nvPr/>
          </p:nvSpPr>
          <p:spPr>
            <a:xfrm>
              <a:off x="4498920" y="4543560"/>
              <a:ext cx="2449440" cy="429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Bookman Old Style"/>
                </a:rPr>
                <a:t>Inoperabi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98920" y="4975200"/>
              <a:ext cx="2449440" cy="429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Bookman Old Style"/>
                </a:rPr>
                <a:t>Partial dama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8920" y="5406840"/>
              <a:ext cx="2449440" cy="429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Bookman Old Style"/>
                </a:rPr>
                <a:t>Serious dama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98920" y="5843520"/>
              <a:ext cx="2448000" cy="429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Bookman Old Style"/>
                </a:rPr>
                <a:t>Unrec. dama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948360" y="4543560"/>
            <a:ext cx="1944720" cy="1729080"/>
            <a:chOff x="6948360" y="4543560"/>
            <a:chExt cx="1944720" cy="1729080"/>
          </a:xfrm>
        </p:grpSpPr>
        <p:sp>
          <p:nvSpPr>
            <p:cNvPr id="603" name=""/>
            <p:cNvSpPr/>
            <p:nvPr/>
          </p:nvSpPr>
          <p:spPr>
            <a:xfrm>
              <a:off x="6948360" y="4543560"/>
              <a:ext cx="1944720" cy="429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66"/>
                  </a:solidFill>
                  <a:latin typeface="Bookman Old Style"/>
                </a:rPr>
                <a:t>Shor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48360" y="4975200"/>
              <a:ext cx="1944720" cy="4291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66"/>
                  </a:solidFill>
                  <a:latin typeface="Bookman Old Style"/>
                </a:rPr>
                <a:t>Tempora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48360" y="5406840"/>
              <a:ext cx="1944720" cy="429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66"/>
                  </a:solidFill>
                  <a:latin typeface="Bookman Old Style"/>
                </a:rPr>
                <a:t>Lo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48360" y="5843520"/>
              <a:ext cx="1944720" cy="429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66"/>
                  </a:solidFill>
                  <a:latin typeface="Bookman Old Style"/>
                </a:rPr>
                <a:t>---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266920" y="3314880"/>
            <a:ext cx="6626160" cy="1375560"/>
            <a:chOff x="2266920" y="3314880"/>
            <a:chExt cx="6626160" cy="1375560"/>
          </a:xfrm>
        </p:grpSpPr>
        <p:sp>
          <p:nvSpPr>
            <p:cNvPr id="608" name=""/>
            <p:cNvSpPr/>
            <p:nvPr/>
          </p:nvSpPr>
          <p:spPr>
            <a:xfrm>
              <a:off x="2268360" y="3314880"/>
              <a:ext cx="662472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Within the scope of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66920" y="3751560"/>
              <a:ext cx="2232000" cy="93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Peop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00720" y="3751560"/>
              <a:ext cx="2447640" cy="93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Mater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48360" y="3751560"/>
              <a:ext cx="194472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Time of exposu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00520" y="4507200"/>
            <a:ext cx="1780560" cy="1589400"/>
            <a:chOff x="200520" y="4507200"/>
            <a:chExt cx="1780560" cy="1589400"/>
          </a:xfrm>
        </p:grpSpPr>
        <p:sp>
          <p:nvSpPr>
            <p:cNvPr id="615" name=""/>
            <p:cNvSpPr/>
            <p:nvPr/>
          </p:nvSpPr>
          <p:spPr>
            <a:xfrm>
              <a:off x="533520" y="4511520"/>
              <a:ext cx="144756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Catas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3520" y="4892400"/>
              <a:ext cx="144756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Danger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520" y="5273280"/>
              <a:ext cx="144756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Mode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5654520"/>
              <a:ext cx="144756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180200">
              <a:off x="-404280" y="5117760"/>
              <a:ext cx="158724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Seve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981080" y="4419720"/>
            <a:ext cx="6858000" cy="412560"/>
            <a:chOff x="1981080" y="4419720"/>
            <a:chExt cx="6858000" cy="412560"/>
          </a:xfrm>
        </p:grpSpPr>
        <p:sp>
          <p:nvSpPr>
            <p:cNvPr id="621" name=""/>
            <p:cNvSpPr/>
            <p:nvPr/>
          </p:nvSpPr>
          <p:spPr>
            <a:xfrm>
              <a:off x="1981080" y="4464000"/>
              <a:ext cx="152424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05320" y="4437000"/>
              <a:ext cx="167616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81480" y="4437000"/>
              <a:ext cx="13716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53080" y="4419720"/>
              <a:ext cx="13716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24680" y="4437000"/>
              <a:ext cx="9144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981080" y="4824360"/>
            <a:ext cx="6858000" cy="420840"/>
            <a:chOff x="1981080" y="4824360"/>
            <a:chExt cx="6858000" cy="420840"/>
          </a:xfrm>
        </p:grpSpPr>
        <p:sp>
          <p:nvSpPr>
            <p:cNvPr id="627" name=""/>
            <p:cNvSpPr/>
            <p:nvPr/>
          </p:nvSpPr>
          <p:spPr>
            <a:xfrm>
              <a:off x="1981080" y="4876920"/>
              <a:ext cx="152424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05320" y="4876920"/>
              <a:ext cx="167616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81480" y="4876920"/>
              <a:ext cx="13716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53080" y="4853160"/>
              <a:ext cx="13716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924680" y="4824360"/>
              <a:ext cx="9144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981080" y="5257800"/>
            <a:ext cx="6858000" cy="368280"/>
            <a:chOff x="1981080" y="5257800"/>
            <a:chExt cx="6858000" cy="368280"/>
          </a:xfrm>
        </p:grpSpPr>
        <p:sp>
          <p:nvSpPr>
            <p:cNvPr id="633" name=""/>
            <p:cNvSpPr/>
            <p:nvPr/>
          </p:nvSpPr>
          <p:spPr>
            <a:xfrm>
              <a:off x="1981080" y="5257800"/>
              <a:ext cx="152424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05320" y="5257800"/>
              <a:ext cx="167616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181480" y="5257800"/>
              <a:ext cx="137160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553080" y="5257800"/>
              <a:ext cx="137160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24680" y="5257800"/>
              <a:ext cx="91440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981080" y="5638680"/>
            <a:ext cx="6858000" cy="368280"/>
            <a:chOff x="1981080" y="5638680"/>
            <a:chExt cx="6858000" cy="368280"/>
          </a:xfrm>
        </p:grpSpPr>
        <p:sp>
          <p:nvSpPr>
            <p:cNvPr id="639" name=""/>
            <p:cNvSpPr/>
            <p:nvPr/>
          </p:nvSpPr>
          <p:spPr>
            <a:xfrm>
              <a:off x="1981080" y="5638680"/>
              <a:ext cx="152424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05320" y="5638680"/>
              <a:ext cx="167616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81480" y="5638680"/>
              <a:ext cx="137160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53080" y="5638680"/>
              <a:ext cx="137160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24680" y="5638680"/>
              <a:ext cx="91440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590920" y="2833560"/>
            <a:ext cx="3886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analysis matr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646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1800" y="2081160"/>
            <a:ext cx="2783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981080" y="3657600"/>
            <a:ext cx="6858000" cy="743040"/>
            <a:chOff x="1981080" y="3657600"/>
            <a:chExt cx="6858000" cy="743040"/>
          </a:xfrm>
        </p:grpSpPr>
        <p:sp>
          <p:nvSpPr>
            <p:cNvPr id="652" name=""/>
            <p:cNvSpPr/>
            <p:nvPr/>
          </p:nvSpPr>
          <p:spPr>
            <a:xfrm>
              <a:off x="1981080" y="3657600"/>
              <a:ext cx="685800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Probability of occur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81080" y="4032360"/>
              <a:ext cx="15112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Ext. unlik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12000" y="4032360"/>
              <a:ext cx="10270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Freq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29200" y="4032360"/>
              <a:ext cx="15238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05320" y="4032360"/>
              <a:ext cx="166212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Ext. 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16720" y="4032360"/>
              <a:ext cx="12952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 Rounded MT Bold"/>
                </a:rPr>
                <a:t>Reas.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lik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48120" y="2514600"/>
            <a:ext cx="3047760" cy="36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Identify haz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4734000"/>
            <a:ext cx="2286000" cy="128484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Arial Rounded MT Bold"/>
              </a:rPr>
              <a:t>Risk is Toler.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219320" y="5181480"/>
            <a:ext cx="2438280" cy="1189080"/>
            <a:chOff x="1219320" y="5181480"/>
            <a:chExt cx="2438280" cy="1189080"/>
          </a:xfrm>
        </p:grpSpPr>
        <p:sp>
          <p:nvSpPr>
            <p:cNvPr id="663" name=""/>
            <p:cNvSpPr/>
            <p:nvPr/>
          </p:nvSpPr>
          <p:spPr>
            <a:xfrm>
              <a:off x="2133720" y="5181480"/>
              <a:ext cx="609480" cy="3682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19320" y="6002280"/>
              <a:ext cx="2438280" cy="3682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Accept r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742840" y="5334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38280" y="5562720"/>
              <a:ext cx="0" cy="425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486400" y="5181480"/>
            <a:ext cx="2438280" cy="1449000"/>
            <a:chOff x="5486400" y="5181480"/>
            <a:chExt cx="2438280" cy="1449000"/>
          </a:xfrm>
        </p:grpSpPr>
        <p:sp>
          <p:nvSpPr>
            <p:cNvPr id="668" name=""/>
            <p:cNvSpPr/>
            <p:nvPr/>
          </p:nvSpPr>
          <p:spPr>
            <a:xfrm>
              <a:off x="6400800" y="5181480"/>
              <a:ext cx="609480" cy="368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 Rounded MT Bold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86400" y="5987880"/>
              <a:ext cx="2438280" cy="642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 Rounded MT Bold"/>
                </a:rPr>
                <a:t>Reduce risk to accep.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5714640" y="5334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05720" y="5562720"/>
              <a:ext cx="0" cy="425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352680" y="4052880"/>
            <a:ext cx="2438640" cy="671400"/>
            <a:chOff x="3352680" y="4052880"/>
            <a:chExt cx="2438640" cy="671400"/>
          </a:xfrm>
        </p:grpSpPr>
        <p:sp>
          <p:nvSpPr>
            <p:cNvPr id="673" name=""/>
            <p:cNvSpPr/>
            <p:nvPr/>
          </p:nvSpPr>
          <p:spPr>
            <a:xfrm>
              <a:off x="3352680" y="4052880"/>
              <a:ext cx="243864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 Rounded MT Bold"/>
                </a:rPr>
                <a:t>Estimate r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72000" y="441972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0880" y="3519360"/>
            <a:ext cx="2971800" cy="671760"/>
            <a:chOff x="380880" y="3519360"/>
            <a:chExt cx="2971800" cy="671760"/>
          </a:xfrm>
        </p:grpSpPr>
        <p:sp>
          <p:nvSpPr>
            <p:cNvPr id="676" name=""/>
            <p:cNvSpPr/>
            <p:nvPr/>
          </p:nvSpPr>
          <p:spPr>
            <a:xfrm>
              <a:off x="380880" y="3519360"/>
              <a:ext cx="243864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Check seve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600200" y="419112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791320" y="3519360"/>
            <a:ext cx="2971800" cy="671760"/>
            <a:chOff x="5791320" y="3519360"/>
            <a:chExt cx="2971800" cy="671760"/>
          </a:xfrm>
        </p:grpSpPr>
        <p:sp>
          <p:nvSpPr>
            <p:cNvPr id="680" name=""/>
            <p:cNvSpPr/>
            <p:nvPr/>
          </p:nvSpPr>
          <p:spPr>
            <a:xfrm>
              <a:off x="6324480" y="3519360"/>
              <a:ext cx="243864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Check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43800" y="38862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791320" y="419112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600200" y="2895480"/>
            <a:ext cx="5943600" cy="609840"/>
            <a:chOff x="1600200" y="2895480"/>
            <a:chExt cx="5943600" cy="609840"/>
          </a:xfrm>
        </p:grpSpPr>
        <p:sp>
          <p:nvSpPr>
            <p:cNvPr id="684" name=""/>
            <p:cNvSpPr/>
            <p:nvPr/>
          </p:nvSpPr>
          <p:spPr>
            <a:xfrm>
              <a:off x="4572000" y="289548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00200" y="3200400"/>
              <a:ext cx="5943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00200" y="32004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43800" y="32004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689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228600" y="13413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6720" y="1900080"/>
            <a:ext cx="27860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500"/>
                            </p:stCondLst>
                            <p:childTnLst>
                              <p:par>
                                <p:cTn id="1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24000" y="2060640"/>
            <a:ext cx="52642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00"/>
                </a:solidFill>
                <a:latin typeface="Arial Rounded MT Bold"/>
              </a:rPr>
              <a:t>Investigation &amp; adjustment of a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280" y="2952720"/>
            <a:ext cx="24350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BRAINSTORM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3633840"/>
            <a:ext cx="835344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tandards/procedures formal review: Auditing checking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1280" y="4403880"/>
            <a:ext cx="518472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Inquiries/Questionnaires with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11280" y="5157720"/>
            <a:ext cx="79930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afety evaluation, External/internal technical insp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5916600"/>
            <a:ext cx="44654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ystem of confidential rep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703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28600" y="13413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500"/>
                            </p:stCondLst>
                            <p:childTnLst>
                              <p:par>
                                <p:cTn id="1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"/>
                            </p:stCondLst>
                            <p:childTnLst>
                              <p:par>
                                <p:cTn id="14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372360" y="3181320"/>
            <a:ext cx="990360" cy="3200400"/>
            <a:chOff x="6372360" y="3181320"/>
            <a:chExt cx="990360" cy="3200400"/>
          </a:xfrm>
        </p:grpSpPr>
        <p:sp>
          <p:nvSpPr>
            <p:cNvPr id="710" name=""/>
            <p:cNvSpPr/>
            <p:nvPr/>
          </p:nvSpPr>
          <p:spPr>
            <a:xfrm flipV="1">
              <a:off x="6372360" y="3181320"/>
              <a:ext cx="0" cy="3200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24640" y="5989680"/>
              <a:ext cx="838080" cy="368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23200" y="3400560"/>
              <a:ext cx="83808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790640" y="3181320"/>
            <a:ext cx="981000" cy="3201840"/>
            <a:chOff x="1790640" y="3181320"/>
            <a:chExt cx="981000" cy="3201840"/>
          </a:xfrm>
        </p:grpSpPr>
        <p:sp>
          <p:nvSpPr>
            <p:cNvPr id="714" name=""/>
            <p:cNvSpPr/>
            <p:nvPr/>
          </p:nvSpPr>
          <p:spPr>
            <a:xfrm>
              <a:off x="2771640" y="3181320"/>
              <a:ext cx="0" cy="3200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90640" y="6014880"/>
              <a:ext cx="838080" cy="368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90640" y="3422520"/>
              <a:ext cx="83808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809880" y="2684520"/>
            <a:ext cx="152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523880" y="2701800"/>
            <a:ext cx="2210040" cy="368280"/>
            <a:chOff x="1523880" y="2701800"/>
            <a:chExt cx="2210040" cy="368280"/>
          </a:xfrm>
        </p:grpSpPr>
        <p:sp>
          <p:nvSpPr>
            <p:cNvPr id="719" name=""/>
            <p:cNvSpPr/>
            <p:nvPr/>
          </p:nvSpPr>
          <p:spPr>
            <a:xfrm>
              <a:off x="1523880" y="2701800"/>
              <a:ext cx="129564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roba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95480" y="2819520"/>
              <a:ext cx="838440" cy="152280"/>
            </a:xfrm>
            <a:prstGeom prst="leftRightArrow">
              <a:avLst>
                <a:gd name="adj1" fmla="val 50000"/>
                <a:gd name="adj2" fmla="val 109608"/>
              </a:avLst>
            </a:prstGeom>
            <a:solidFill>
              <a:srgbClr val="00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410080" y="2701800"/>
            <a:ext cx="2210040" cy="368280"/>
            <a:chOff x="5410080" y="2701800"/>
            <a:chExt cx="2210040" cy="368280"/>
          </a:xfrm>
        </p:grpSpPr>
        <p:sp>
          <p:nvSpPr>
            <p:cNvPr id="722" name=""/>
            <p:cNvSpPr/>
            <p:nvPr/>
          </p:nvSpPr>
          <p:spPr>
            <a:xfrm>
              <a:off x="6324480" y="2701800"/>
              <a:ext cx="129564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eve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10080" y="2819520"/>
              <a:ext cx="838440" cy="152280"/>
            </a:xfrm>
            <a:prstGeom prst="leftRightArrow">
              <a:avLst>
                <a:gd name="adj1" fmla="val 50000"/>
                <a:gd name="adj2" fmla="val 109608"/>
              </a:avLst>
            </a:prstGeom>
            <a:solidFill>
              <a:srgbClr val="00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725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00080" y="1828800"/>
            <a:ext cx="52642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00"/>
                </a:solidFill>
                <a:latin typeface="Arial Rounded MT Bold"/>
              </a:rPr>
              <a:t>Investigation &amp; adjustment of a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916000" y="3141720"/>
            <a:ext cx="3276360" cy="3239640"/>
            <a:chOff x="2916000" y="3141720"/>
            <a:chExt cx="3276360" cy="3239640"/>
          </a:xfrm>
        </p:grpSpPr>
        <p:sp>
          <p:nvSpPr>
            <p:cNvPr id="731" name=""/>
            <p:cNvSpPr/>
            <p:nvPr/>
          </p:nvSpPr>
          <p:spPr>
            <a:xfrm rot="10800000">
              <a:off x="2916000" y="3141720"/>
              <a:ext cx="3276360" cy="3239640"/>
            </a:xfrm>
            <a:prstGeom prst="flowChartMerg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69640" y="6368760"/>
              <a:ext cx="31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77640" y="4352760"/>
              <a:ext cx="11523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30000" y="5648040"/>
              <a:ext cx="24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90360" y="5000400"/>
              <a:ext cx="17269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3995640" y="3716280"/>
            <a:ext cx="11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Insig.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48040" y="4292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 Rounded MT Bold"/>
              </a:rPr>
              <a:t>Reg. acce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59120" y="5084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 Rounded MT Bold"/>
              </a:rPr>
              <a:t>Reg. toler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7720" y="5805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Rounded MT Bold"/>
              </a:rPr>
              <a:t>Unacceptabl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0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70280" y="1955880"/>
            <a:ext cx="32860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Arial Rounded MT Bold"/>
              </a:rPr>
              <a:t>Training/Qual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93800" y="2637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SMS is responsible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70160" y="4365720"/>
            <a:ext cx="500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Training/Qualification frequen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70160" y="497988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New employ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370160" y="321300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knowledge of the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70160" y="5556240"/>
            <a:ext cx="65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Introduction of new technologies/equip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0160" y="3789360"/>
            <a:ext cx="42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Each one´s r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70160" y="613260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Minimum curricul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751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0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11280" y="1989000"/>
            <a:ext cx="41799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 Rounded MT Bold"/>
              </a:rPr>
              <a:t>Documentation/Data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26000" y="4114800"/>
            <a:ext cx="990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26000" y="5234040"/>
            <a:ext cx="990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80880" y="5195880"/>
            <a:ext cx="3355920" cy="429120"/>
            <a:chOff x="380880" y="5195880"/>
            <a:chExt cx="3355920" cy="429120"/>
          </a:xfrm>
        </p:grpSpPr>
        <p:sp>
          <p:nvSpPr>
            <p:cNvPr id="761" name=""/>
            <p:cNvSpPr/>
            <p:nvPr/>
          </p:nvSpPr>
          <p:spPr>
            <a:xfrm>
              <a:off x="380880" y="5195880"/>
              <a:ext cx="282276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Large aerodro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203640" y="5445000"/>
              <a:ext cx="533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4716360" y="5195880"/>
            <a:ext cx="3240360" cy="429120"/>
            <a:chOff x="4716360" y="5195880"/>
            <a:chExt cx="3240360" cy="429120"/>
          </a:xfrm>
        </p:grpSpPr>
        <p:sp>
          <p:nvSpPr>
            <p:cNvPr id="764" name=""/>
            <p:cNvSpPr/>
            <p:nvPr/>
          </p:nvSpPr>
          <p:spPr>
            <a:xfrm>
              <a:off x="5183280" y="5195880"/>
              <a:ext cx="277344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Independent SM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16360" y="5432400"/>
              <a:ext cx="432000" cy="12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395280" y="-171360"/>
            <a:ext cx="8513640" cy="1225440"/>
            <a:chOff x="395280" y="-171360"/>
            <a:chExt cx="8513640" cy="1225440"/>
          </a:xfrm>
        </p:grpSpPr>
        <p:sp>
          <p:nvSpPr>
            <p:cNvPr id="767" name=""/>
            <p:cNvSpPr/>
            <p:nvPr/>
          </p:nvSpPr>
          <p:spPr>
            <a:xfrm>
              <a:off x="395280" y="-17136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85680" y="98100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46040" y="105408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95280" y="4043520"/>
            <a:ext cx="3240000" cy="429120"/>
            <a:chOff x="395280" y="4043520"/>
            <a:chExt cx="3240000" cy="429120"/>
          </a:xfrm>
        </p:grpSpPr>
        <p:sp>
          <p:nvSpPr>
            <p:cNvPr id="772" name=""/>
            <p:cNvSpPr/>
            <p:nvPr/>
          </p:nvSpPr>
          <p:spPr>
            <a:xfrm>
              <a:off x="395280" y="4043520"/>
              <a:ext cx="280836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9900"/>
                  </a:solidFill>
                  <a:latin typeface="Arial Rounded MT Bold"/>
                </a:rPr>
                <a:t>Small aerodro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03640" y="4292640"/>
              <a:ext cx="431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716360" y="4043520"/>
            <a:ext cx="4176720" cy="764280"/>
            <a:chOff x="4716360" y="4043520"/>
            <a:chExt cx="4176720" cy="764280"/>
          </a:xfrm>
        </p:grpSpPr>
        <p:sp>
          <p:nvSpPr>
            <p:cNvPr id="775" name=""/>
            <p:cNvSpPr/>
            <p:nvPr/>
          </p:nvSpPr>
          <p:spPr>
            <a:xfrm>
              <a:off x="5170320" y="4043520"/>
              <a:ext cx="372276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600"/>
                  </a:solidFill>
                  <a:latin typeface="Arial Rounded MT Bold"/>
                </a:rPr>
                <a:t>In the aerodrome manu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16360" y="4292640"/>
              <a:ext cx="43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340000" y="2421000"/>
            <a:ext cx="4335480" cy="860760"/>
            <a:chOff x="2340000" y="2421000"/>
            <a:chExt cx="4335480" cy="860760"/>
          </a:xfrm>
        </p:grpSpPr>
        <p:sp>
          <p:nvSpPr>
            <p:cNvPr id="778" name=""/>
            <p:cNvSpPr/>
            <p:nvPr/>
          </p:nvSpPr>
          <p:spPr>
            <a:xfrm>
              <a:off x="2340000" y="2852640"/>
              <a:ext cx="43354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Update/distribute docum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00720" y="2421000"/>
              <a:ext cx="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0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"/>
                            </p:stCondLst>
                            <p:childTnLst>
                              <p:par>
                                <p:cTn id="1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50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12880" y="2895480"/>
            <a:ext cx="73594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hould clearly indicate how the manual is updated in accordance with the variation of the reg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19520" y="4014720"/>
            <a:ext cx="35049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Reliable process f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22200" y="5029200"/>
            <a:ext cx="3745080" cy="109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egistration of: audit, technical inspections &amp; special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05520" y="5029200"/>
            <a:ext cx="33526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Easy recuperation of this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209680" y="4419720"/>
            <a:ext cx="4572000" cy="609480"/>
            <a:chOff x="2209680" y="4419720"/>
            <a:chExt cx="4572000" cy="609480"/>
          </a:xfrm>
        </p:grpSpPr>
        <p:sp>
          <p:nvSpPr>
            <p:cNvPr id="787" name=""/>
            <p:cNvSpPr/>
            <p:nvPr/>
          </p:nvSpPr>
          <p:spPr>
            <a:xfrm>
              <a:off x="2209680" y="4724280"/>
              <a:ext cx="457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0" y="4419720"/>
              <a:ext cx="0" cy="304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09680" y="4724280"/>
              <a:ext cx="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81680" y="4724280"/>
              <a:ext cx="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95280" y="-171360"/>
            <a:ext cx="8513640" cy="1225440"/>
            <a:chOff x="395280" y="-171360"/>
            <a:chExt cx="8513640" cy="1225440"/>
          </a:xfrm>
        </p:grpSpPr>
        <p:sp>
          <p:nvSpPr>
            <p:cNvPr id="792" name=""/>
            <p:cNvSpPr/>
            <p:nvPr/>
          </p:nvSpPr>
          <p:spPr>
            <a:xfrm>
              <a:off x="395280" y="-17136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85680" y="98100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46040" y="105408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411280" y="2100240"/>
            <a:ext cx="4179960" cy="824040"/>
            <a:chOff x="2411280" y="2100240"/>
            <a:chExt cx="4179960" cy="824040"/>
          </a:xfrm>
        </p:grpSpPr>
        <p:sp>
          <p:nvSpPr>
            <p:cNvPr id="797" name=""/>
            <p:cNvSpPr/>
            <p:nvPr/>
          </p:nvSpPr>
          <p:spPr>
            <a:xfrm>
              <a:off x="2411280" y="2100240"/>
              <a:ext cx="417996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99ff"/>
                  </a:solidFill>
                  <a:latin typeface="Arial Rounded MT Bold"/>
                </a:rPr>
                <a:t>Documentation/Data contro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00720" y="256392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0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00"/>
                            </p:stCondLst>
                            <p:childTnLst>
                              <p:par>
                                <p:cTn id="1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500"/>
                            </p:stCondLst>
                            <p:childTnLst>
                              <p:par>
                                <p:cTn id="1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50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947960" y="2997360"/>
            <a:ext cx="52164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MS needs continuous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9880" y="4876920"/>
            <a:ext cx="177012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REP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580000" y="4076640"/>
            <a:ext cx="2737080" cy="1080360"/>
            <a:chOff x="5580000" y="4076640"/>
            <a:chExt cx="2737080" cy="1080360"/>
          </a:xfrm>
        </p:grpSpPr>
        <p:sp>
          <p:nvSpPr>
            <p:cNvPr id="804" name=""/>
            <p:cNvSpPr/>
            <p:nvPr/>
          </p:nvSpPr>
          <p:spPr>
            <a:xfrm>
              <a:off x="6326280" y="4076640"/>
              <a:ext cx="19908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Impar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5580000" y="4394160"/>
              <a:ext cx="744480" cy="449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50920" y="4076640"/>
            <a:ext cx="3558960" cy="1080360"/>
            <a:chOff x="250920" y="4076640"/>
            <a:chExt cx="3558960" cy="1080360"/>
          </a:xfrm>
        </p:grpSpPr>
        <p:sp>
          <p:nvSpPr>
            <p:cNvPr id="807" name=""/>
            <p:cNvSpPr/>
            <p:nvPr/>
          </p:nvSpPr>
          <p:spPr>
            <a:xfrm>
              <a:off x="250920" y="4076640"/>
              <a:ext cx="264456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Confiden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2895480" y="4394160"/>
              <a:ext cx="91440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85800" y="5257800"/>
            <a:ext cx="3124080" cy="1203120"/>
            <a:chOff x="685800" y="5257800"/>
            <a:chExt cx="3124080" cy="1203120"/>
          </a:xfrm>
        </p:grpSpPr>
        <p:sp>
          <p:nvSpPr>
            <p:cNvPr id="810" name=""/>
            <p:cNvSpPr/>
            <p:nvPr/>
          </p:nvSpPr>
          <p:spPr>
            <a:xfrm>
              <a:off x="685800" y="5854680"/>
              <a:ext cx="217008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Easy us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843280" y="5257800"/>
              <a:ext cx="966600" cy="835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5508720" y="5300640"/>
            <a:ext cx="2492280" cy="1160280"/>
            <a:chOff x="5508720" y="5300640"/>
            <a:chExt cx="2492280" cy="1160280"/>
          </a:xfrm>
        </p:grpSpPr>
        <p:sp>
          <p:nvSpPr>
            <p:cNvPr id="813" name=""/>
            <p:cNvSpPr/>
            <p:nvPr/>
          </p:nvSpPr>
          <p:spPr>
            <a:xfrm>
              <a:off x="6365880" y="5854680"/>
              <a:ext cx="163512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imp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08720" y="5300640"/>
              <a:ext cx="892080" cy="795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395280" y="0"/>
            <a:ext cx="8513640" cy="1225440"/>
            <a:chOff x="395280" y="0"/>
            <a:chExt cx="8513640" cy="1225440"/>
          </a:xfrm>
        </p:grpSpPr>
        <p:sp>
          <p:nvSpPr>
            <p:cNvPr id="816" name=""/>
            <p:cNvSpPr/>
            <p:nvPr/>
          </p:nvSpPr>
          <p:spPr>
            <a:xfrm>
              <a:off x="395280" y="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85680" y="115236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6040" y="122544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28600" y="13161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430280" y="2171880"/>
            <a:ext cx="6310440" cy="825480"/>
            <a:chOff x="1430280" y="2171880"/>
            <a:chExt cx="6310440" cy="825480"/>
          </a:xfrm>
        </p:grpSpPr>
        <p:sp>
          <p:nvSpPr>
            <p:cNvPr id="821" name=""/>
            <p:cNvSpPr/>
            <p:nvPr/>
          </p:nvSpPr>
          <p:spPr>
            <a:xfrm>
              <a:off x="1430280" y="2171880"/>
              <a:ext cx="631044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d60093"/>
                  </a:solidFill>
                  <a:latin typeface="Arial Rounded MT Bold"/>
                </a:rPr>
                <a:t>Notification of hazards, risks &amp; actions tak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263700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0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5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4360" y="2171880"/>
            <a:ext cx="60483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 Rounded MT Bold"/>
              </a:rPr>
              <a:t>Safety audit - Accident/incident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733920" y="4430880"/>
            <a:ext cx="1676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AUD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80880" y="3213000"/>
            <a:ext cx="3353040" cy="1217880"/>
            <a:chOff x="380880" y="3213000"/>
            <a:chExt cx="3353040" cy="1217880"/>
          </a:xfrm>
        </p:grpSpPr>
        <p:sp>
          <p:nvSpPr>
            <p:cNvPr id="828" name=""/>
            <p:cNvSpPr/>
            <p:nvPr/>
          </p:nvSpPr>
          <p:spPr>
            <a:xfrm>
              <a:off x="380880" y="3213000"/>
              <a:ext cx="304812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Contracto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3059280" y="3673440"/>
              <a:ext cx="674640" cy="757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57200" y="4811400"/>
            <a:ext cx="3276720" cy="1601280"/>
            <a:chOff x="457200" y="4811400"/>
            <a:chExt cx="3276720" cy="1601280"/>
          </a:xfrm>
        </p:grpSpPr>
        <p:sp>
          <p:nvSpPr>
            <p:cNvPr id="831" name=""/>
            <p:cNvSpPr/>
            <p:nvPr/>
          </p:nvSpPr>
          <p:spPr>
            <a:xfrm>
              <a:off x="457200" y="5332320"/>
              <a:ext cx="262908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Accid./incid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843280" y="4811400"/>
              <a:ext cx="890640" cy="662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5364000" y="4863960"/>
            <a:ext cx="3246480" cy="1089000"/>
            <a:chOff x="5364000" y="4863960"/>
            <a:chExt cx="3246480" cy="1089000"/>
          </a:xfrm>
        </p:grpSpPr>
        <p:sp>
          <p:nvSpPr>
            <p:cNvPr id="834" name=""/>
            <p:cNvSpPr/>
            <p:nvPr/>
          </p:nvSpPr>
          <p:spPr>
            <a:xfrm>
              <a:off x="5791320" y="5346720"/>
              <a:ext cx="281916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Consulta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64000" y="4863960"/>
              <a:ext cx="64800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410080" y="3213000"/>
            <a:ext cx="3354480" cy="1217520"/>
            <a:chOff x="5410080" y="3213000"/>
            <a:chExt cx="3354480" cy="1217520"/>
          </a:xfrm>
        </p:grpSpPr>
        <p:sp>
          <p:nvSpPr>
            <p:cNvPr id="837" name=""/>
            <p:cNvSpPr/>
            <p:nvPr/>
          </p:nvSpPr>
          <p:spPr>
            <a:xfrm flipV="1">
              <a:off x="5410080" y="3744720"/>
              <a:ext cx="530280" cy="68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86400" y="3213000"/>
              <a:ext cx="327816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Procedu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95280" y="0"/>
            <a:ext cx="8513640" cy="1225440"/>
            <a:chOff x="395280" y="0"/>
            <a:chExt cx="8513640" cy="1225440"/>
          </a:xfrm>
        </p:grpSpPr>
        <p:sp>
          <p:nvSpPr>
            <p:cNvPr id="840" name=""/>
            <p:cNvSpPr/>
            <p:nvPr/>
          </p:nvSpPr>
          <p:spPr>
            <a:xfrm>
              <a:off x="395280" y="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85680" y="115236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46040" y="122544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228600" y="138744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0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752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29912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afety Management Systems for Air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1814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59092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What are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97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3492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4606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afety Management Systems (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60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4360" y="2205000"/>
            <a:ext cx="42782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System operation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91320" y="5484960"/>
            <a:ext cx="19238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Evalu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66680" y="5484960"/>
            <a:ext cx="22194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Revi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4246560"/>
            <a:ext cx="28576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SMS be regular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905120" y="3454560"/>
            <a:ext cx="5333760" cy="785520"/>
            <a:chOff x="1905120" y="3454560"/>
            <a:chExt cx="5333760" cy="785520"/>
          </a:xfrm>
        </p:grpSpPr>
        <p:sp>
          <p:nvSpPr>
            <p:cNvPr id="851" name=""/>
            <p:cNvSpPr/>
            <p:nvPr/>
          </p:nvSpPr>
          <p:spPr>
            <a:xfrm>
              <a:off x="1905120" y="3454560"/>
              <a:ext cx="533376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Aerodrome CEO must assure tha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72000" y="385920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2209680" y="4722840"/>
            <a:ext cx="4572000" cy="762120"/>
            <a:chOff x="2209680" y="4722840"/>
            <a:chExt cx="4572000" cy="762120"/>
          </a:xfrm>
        </p:grpSpPr>
        <p:sp>
          <p:nvSpPr>
            <p:cNvPr id="854" name=""/>
            <p:cNvSpPr/>
            <p:nvPr/>
          </p:nvSpPr>
          <p:spPr>
            <a:xfrm>
              <a:off x="2209680" y="5104080"/>
              <a:ext cx="457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09680" y="510408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81680" y="510408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72000" y="4722840"/>
              <a:ext cx="0" cy="38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859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228600" y="1459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500"/>
                            </p:stCondLst>
                            <p:childTnLst>
                              <p:par>
                                <p:cTn id="17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86000" y="4307040"/>
            <a:ext cx="4572000" cy="76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 Bold"/>
              </a:rPr>
              <a:t>Regular, structured and systematic rev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1979640" y="3468600"/>
            <a:ext cx="5113440" cy="846360"/>
            <a:chOff x="1979640" y="3468600"/>
            <a:chExt cx="5113440" cy="846360"/>
          </a:xfrm>
        </p:grpSpPr>
        <p:sp>
          <p:nvSpPr>
            <p:cNvPr id="867" name=""/>
            <p:cNvSpPr/>
            <p:nvPr/>
          </p:nvSpPr>
          <p:spPr>
            <a:xfrm>
              <a:off x="1979640" y="3468600"/>
              <a:ext cx="5113440" cy="4291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Rounded MT Bold"/>
                </a:rPr>
                <a:t>SMS effectiviness is evaluated by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72000" y="3933720"/>
              <a:ext cx="0" cy="38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870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654120" y="2225520"/>
            <a:ext cx="4205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System operation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28600" y="1459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878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2236680" y="2170080"/>
            <a:ext cx="4422960" cy="57168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 Bold"/>
              </a:rPr>
              <a:t>System operation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" y="1459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619280" y="3284280"/>
            <a:ext cx="6378480" cy="2592720"/>
            <a:chOff x="1619280" y="3284280"/>
            <a:chExt cx="6378480" cy="2592720"/>
          </a:xfrm>
        </p:grpSpPr>
        <p:sp>
          <p:nvSpPr>
            <p:cNvPr id="884" name=""/>
            <p:cNvSpPr/>
            <p:nvPr/>
          </p:nvSpPr>
          <p:spPr>
            <a:xfrm flipV="1">
              <a:off x="1619280" y="3284280"/>
              <a:ext cx="0" cy="259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19280" y="5877000"/>
              <a:ext cx="6378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 rot="16200000">
            <a:off x="-199800" y="3881520"/>
            <a:ext cx="253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Performance (achiev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-2310840" y="3142080"/>
            <a:ext cx="7920360" cy="15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900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90070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-2236320" y="4724280"/>
            <a:ext cx="77716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880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88044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508720" y="364968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man Old Style"/>
              </a:rPr>
              <a:t>Upward tr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649520" y="4514760"/>
            <a:ext cx="6307200" cy="429120"/>
            <a:chOff x="1649520" y="4514760"/>
            <a:chExt cx="6307200" cy="429120"/>
          </a:xfrm>
        </p:grpSpPr>
        <p:sp>
          <p:nvSpPr>
            <p:cNvPr id="891" name=""/>
            <p:cNvSpPr/>
            <p:nvPr/>
          </p:nvSpPr>
          <p:spPr>
            <a:xfrm>
              <a:off x="1649520" y="4724280"/>
              <a:ext cx="3889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508720" y="4514760"/>
              <a:ext cx="244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Constant trend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5508720" y="5234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ookman Old Style"/>
              </a:rPr>
              <a:t>Downward tre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4360" y="588168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T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500"/>
                            </p:stCondLst>
                            <p:childTnLst>
                              <p:par>
                                <p:cTn id="1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0" y="0"/>
            <a:ext cx="9144000" cy="6949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38080" y="2514600"/>
            <a:ext cx="265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What ar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080" y="3197160"/>
            <a:ext cx="28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Whole optim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3882960"/>
            <a:ext cx="337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Imput, process,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38080" y="4568760"/>
            <a:ext cx="61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SMS: safety, security, labor &amp; health safe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38080" y="5232240"/>
            <a:ext cx="301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SMS: 9 sub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55144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903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384120" y="1700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0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500"/>
                            </p:stCondLst>
                            <p:childTnLst>
                              <p:par>
                                <p:cTn id="18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0" y="0"/>
            <a:ext cx="9144000" cy="6949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38080" y="4419720"/>
            <a:ext cx="308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Safety officer &lt;&gt; C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38080" y="2590920"/>
            <a:ext cx="74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Policy/philosophy: objectives and how to reach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38080" y="5029200"/>
            <a:ext cx="186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Risk = f(P,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200400"/>
            <a:ext cx="495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SMS responsible: aerodrome CE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8080" y="3809880"/>
            <a:ext cx="53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Participation: high managers/all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55144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5699160"/>
            <a:ext cx="40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Adjust risk to tolerabl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916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4120" y="1773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fill="hold">
                      <p:stCondLst>
                        <p:cond delay="0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500"/>
                            </p:stCondLst>
                            <p:childTnLst>
                              <p:par>
                                <p:cTn id="18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00"/>
                            </p:stCondLst>
                            <p:childTnLst>
                              <p:par>
                                <p:cTn id="19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6949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52280" y="1981080"/>
            <a:ext cx="8839440" cy="2101320"/>
          </a:xfrm>
          <a:custGeom>
            <a:avLst/>
            <a:gdLst>
              <a:gd name="textAreaLeft" fmla="*/ 0 w 8839440"/>
              <a:gd name="textAreaRight" fmla="*/ 8839800 w 8839440"/>
              <a:gd name="textAreaTop" fmla="*/ 272160 h 2101320"/>
              <a:gd name="textAreaBottom" fmla="*/ 1829160 h 2101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I EL PROBLEMA TIENE SOLUCION, NO CALENTE LA CABEZA PORQUE TIENE SOLUCION.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I EL PROBLEMA NO TIENE SOLUCION NO CALIENTE LA CABEZA PORQUE NO TIENE SOLUCIO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09480" y="4724280"/>
            <a:ext cx="3429000" cy="990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Chinese pro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55144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925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500"/>
                            </p:stCondLst>
                            <p:childTnLst>
                              <p:par>
                                <p:cTn id="19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-3492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54440" y="2565360"/>
            <a:ext cx="3047760" cy="1371600"/>
            <a:chOff x="2854440" y="2565360"/>
            <a:chExt cx="3047760" cy="1371600"/>
          </a:xfrm>
        </p:grpSpPr>
        <p:sp>
          <p:nvSpPr>
            <p:cNvPr id="66" name=""/>
            <p:cNvSpPr/>
            <p:nvPr/>
          </p:nvSpPr>
          <p:spPr>
            <a:xfrm>
              <a:off x="2854440" y="2565360"/>
              <a:ext cx="3047760" cy="764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Man-Machine Interac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78320" y="332748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357720" y="4089240"/>
            <a:ext cx="2011320" cy="109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Decision Making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52680" y="5156280"/>
            <a:ext cx="3867120" cy="1851480"/>
            <a:chOff x="2452680" y="5156280"/>
            <a:chExt cx="3867120" cy="1851480"/>
          </a:xfrm>
        </p:grpSpPr>
        <p:sp>
          <p:nvSpPr>
            <p:cNvPr id="70" name=""/>
            <p:cNvSpPr/>
            <p:nvPr/>
          </p:nvSpPr>
          <p:spPr>
            <a:xfrm>
              <a:off x="2452680" y="5745240"/>
              <a:ext cx="3867120" cy="126252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Arial Rounded MT Bold"/>
                </a:rPr>
                <a:t>Whole Optimiz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8320" y="515628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444640" y="4041720"/>
            <a:ext cx="3204000" cy="846360"/>
            <a:chOff x="5444640" y="4041720"/>
            <a:chExt cx="3204000" cy="846360"/>
          </a:xfrm>
        </p:grpSpPr>
        <p:sp>
          <p:nvSpPr>
            <p:cNvPr id="73" name=""/>
            <p:cNvSpPr/>
            <p:nvPr/>
          </p:nvSpPr>
          <p:spPr>
            <a:xfrm>
              <a:off x="6219720" y="4041720"/>
              <a:ext cx="2428920" cy="8463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Reliable Inform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444640" y="4546440"/>
              <a:ext cx="7621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31720" y="4303800"/>
            <a:ext cx="2855880" cy="475200"/>
            <a:chOff x="531720" y="4303800"/>
            <a:chExt cx="2855880" cy="475200"/>
          </a:xfrm>
        </p:grpSpPr>
        <p:sp>
          <p:nvSpPr>
            <p:cNvPr id="76" name=""/>
            <p:cNvSpPr/>
            <p:nvPr/>
          </p:nvSpPr>
          <p:spPr>
            <a:xfrm>
              <a:off x="531720" y="4303800"/>
              <a:ext cx="2095560" cy="4752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Technolog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625840" y="4546440"/>
              <a:ext cx="761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28600" y="1752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80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182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What are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8195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Post-Industrial Soci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6576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Not only to organize, but to produce with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479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How to organize for making decisions or inform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773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91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24160" y="4486320"/>
            <a:ext cx="2079360" cy="606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5203800"/>
            <a:ext cx="3322440" cy="108036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 Rounded MT Bold"/>
              </a:rPr>
              <a:t>Conversion mecha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20500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 Rounded MT Bold"/>
              </a:rPr>
              <a:t>A set of interconnected parts or “any conceptual or physical entity composed by interrelated, interactive or interdependent part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3480" y="4800600"/>
            <a:ext cx="1218960" cy="175248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3886200"/>
            <a:ext cx="1219320" cy="17524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5736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What are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03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638680" y="6138720"/>
            <a:ext cx="2079720" cy="60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7880"/>
            <a:ext cx="152388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95640" y="2781360"/>
            <a:ext cx="6508800" cy="764280"/>
            <a:chOff x="2195640" y="2781360"/>
            <a:chExt cx="6508800" cy="764280"/>
          </a:xfrm>
        </p:grpSpPr>
        <p:sp>
          <p:nvSpPr>
            <p:cNvPr id="111" name=""/>
            <p:cNvSpPr/>
            <p:nvPr/>
          </p:nvSpPr>
          <p:spPr>
            <a:xfrm>
              <a:off x="2724480" y="2781360"/>
              <a:ext cx="5979960" cy="76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Demands, Requests, Requirements/Need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5640" y="300528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4360" y="3860640"/>
            <a:ext cx="1523880" cy="429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22640" y="3827520"/>
            <a:ext cx="2806200" cy="429120"/>
            <a:chOff x="2222640" y="3827520"/>
            <a:chExt cx="2806200" cy="429120"/>
          </a:xfrm>
        </p:grpSpPr>
        <p:sp>
          <p:nvSpPr>
            <p:cNvPr id="115" name=""/>
            <p:cNvSpPr/>
            <p:nvPr/>
          </p:nvSpPr>
          <p:spPr>
            <a:xfrm>
              <a:off x="2644200" y="3827520"/>
              <a:ext cx="2384640" cy="429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ystem (own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2640" y="4071960"/>
              <a:ext cx="415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5800" y="5268960"/>
            <a:ext cx="1523880" cy="429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09680" y="4941720"/>
            <a:ext cx="5315040" cy="1099440"/>
            <a:chOff x="2209680" y="4941720"/>
            <a:chExt cx="5315040" cy="1099440"/>
          </a:xfrm>
        </p:grpSpPr>
        <p:sp>
          <p:nvSpPr>
            <p:cNvPr id="119" name=""/>
            <p:cNvSpPr/>
            <p:nvPr/>
          </p:nvSpPr>
          <p:spPr>
            <a:xfrm>
              <a:off x="2728800" y="4941720"/>
              <a:ext cx="4795920" cy="1099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Political decisions, Guidance, Goods/Services, Generated strategies, Alternatives, etc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551196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22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28600" y="175248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What are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552880" y="63244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978360"/>
            <a:ext cx="17524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66680" y="3962520"/>
            <a:ext cx="2667240" cy="459720"/>
            <a:chOff x="1066680" y="3962520"/>
            <a:chExt cx="2667240" cy="459720"/>
          </a:xfrm>
        </p:grpSpPr>
        <p:sp>
          <p:nvSpPr>
            <p:cNvPr id="130" name=""/>
            <p:cNvSpPr/>
            <p:nvPr/>
          </p:nvSpPr>
          <p:spPr>
            <a:xfrm>
              <a:off x="1066680" y="3962520"/>
              <a:ext cx="182880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Rounded MT Bold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4191120"/>
              <a:ext cx="83844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733920" y="3978360"/>
            <a:ext cx="2666880" cy="459720"/>
            <a:chOff x="3733920" y="3978360"/>
            <a:chExt cx="2666880" cy="459720"/>
          </a:xfrm>
        </p:grpSpPr>
        <p:sp>
          <p:nvSpPr>
            <p:cNvPr id="133" name=""/>
            <p:cNvSpPr/>
            <p:nvPr/>
          </p:nvSpPr>
          <p:spPr>
            <a:xfrm>
              <a:off x="3733920" y="3978360"/>
              <a:ext cx="182880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4191120"/>
              <a:ext cx="83808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95880" y="4495680"/>
            <a:ext cx="1143000" cy="533520"/>
            <a:chOff x="6095880" y="4495680"/>
            <a:chExt cx="1143000" cy="533520"/>
          </a:xfrm>
        </p:grpSpPr>
        <p:sp>
          <p:nvSpPr>
            <p:cNvPr id="136" name=""/>
            <p:cNvSpPr/>
            <p:nvPr/>
          </p:nvSpPr>
          <p:spPr>
            <a:xfrm>
              <a:off x="7238880" y="4495680"/>
              <a:ext cx="0" cy="5335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5029200"/>
              <a:ext cx="11430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981080" y="4419720"/>
            <a:ext cx="1219320" cy="609480"/>
            <a:chOff x="1981080" y="4419720"/>
            <a:chExt cx="1219320" cy="609480"/>
          </a:xfrm>
        </p:grpSpPr>
        <p:sp>
          <p:nvSpPr>
            <p:cNvPr id="139" name=""/>
            <p:cNvSpPr/>
            <p:nvPr/>
          </p:nvSpPr>
          <p:spPr>
            <a:xfrm>
              <a:off x="1981080" y="4419720"/>
              <a:ext cx="0" cy="6094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1080" y="5029200"/>
              <a:ext cx="12193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39640" y="2421000"/>
            <a:ext cx="8077320" cy="37062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486400" y="3048120"/>
            <a:ext cx="2819520" cy="914400"/>
            <a:chOff x="5486400" y="3048120"/>
            <a:chExt cx="2819520" cy="914400"/>
          </a:xfrm>
        </p:grpSpPr>
        <p:sp>
          <p:nvSpPr>
            <p:cNvPr id="143" name=""/>
            <p:cNvSpPr/>
            <p:nvPr/>
          </p:nvSpPr>
          <p:spPr>
            <a:xfrm>
              <a:off x="6400800" y="3048120"/>
              <a:ext cx="1905120" cy="4291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 Rounded MT Bold"/>
                </a:rPr>
                <a:t>Constra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6400" y="3200400"/>
              <a:ext cx="9144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38880" y="3505320"/>
              <a:ext cx="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81080" y="3048120"/>
            <a:ext cx="3505320" cy="914400"/>
            <a:chOff x="1981080" y="3048120"/>
            <a:chExt cx="3505320" cy="914400"/>
          </a:xfrm>
        </p:grpSpPr>
        <p:sp>
          <p:nvSpPr>
            <p:cNvPr id="147" name=""/>
            <p:cNvSpPr/>
            <p:nvPr/>
          </p:nvSpPr>
          <p:spPr>
            <a:xfrm>
              <a:off x="3733920" y="3048120"/>
              <a:ext cx="1752480" cy="42912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 Rounded MT Bold"/>
                </a:rPr>
                <a:t>Contro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981080" y="3200040"/>
              <a:ext cx="0" cy="7621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1080" y="3200400"/>
              <a:ext cx="175284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8320" y="3505320"/>
              <a:ext cx="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00400" y="4495680"/>
            <a:ext cx="2895480" cy="786600"/>
            <a:chOff x="3200400" y="4495680"/>
            <a:chExt cx="2895480" cy="786600"/>
          </a:xfrm>
        </p:grpSpPr>
        <p:sp>
          <p:nvSpPr>
            <p:cNvPr id="152" name=""/>
            <p:cNvSpPr/>
            <p:nvPr/>
          </p:nvSpPr>
          <p:spPr>
            <a:xfrm>
              <a:off x="3200400" y="4853160"/>
              <a:ext cx="2895480" cy="4291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600"/>
                  </a:solidFill>
                  <a:latin typeface="Arial Rounded MT Bold"/>
                </a:rPr>
                <a:t>Feedbac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495680"/>
              <a:ext cx="0" cy="3812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178680" y="5562720"/>
            <a:ext cx="2209680" cy="429120"/>
          </a:xfrm>
          <a:prstGeom prst="rect">
            <a:avLst/>
          </a:prstGeom>
          <a:solidFill>
            <a:srgbClr val="99cc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ccff"/>
                </a:solidFill>
                <a:latin typeface="Arial Rounded MT Bold"/>
              </a:rPr>
              <a:t>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1981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6248520"/>
            <a:ext cx="236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-545760" y="4125600"/>
            <a:ext cx="167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7988760" y="4151880"/>
            <a:ext cx="172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698920" y="4005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61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8600" y="152388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What are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8:34:08Z</dcterms:created>
  <dc:creator>SAM Office</dc:creator>
  <dc:description/>
  <dc:language>en-US</dc:language>
  <cp:lastModifiedBy>Claudia López Pérez</cp:lastModifiedBy>
  <dcterms:modified xsi:type="dcterms:W3CDTF">2006-03-27T14:03:12Z</dcterms:modified>
  <cp:revision>235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1300.00000000</vt:lpwstr>
  </property>
  <property fmtid="{D5CDD505-2E9C-101B-9397-08002B2CF9AE}" pid="5" name="Year">
    <vt:lpwstr>2006</vt:lpwstr>
  </property>
</Properties>
</file>