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26.png" ContentType="image/png"/>
  <Override PartName="/ppt/media/image17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F98-4333-46F1-9D2A-43362F34F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9F5-2F52-40E0-ADA7-0CFDE549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F77-F6D7-43BE-AD38-F8680A3F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6F0-8419-47B1-A498-92A2C7765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DA60-C11B-4552-B419-5FEF7759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B65-A1F9-432E-B291-0BBEA63B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A4DF-E1FB-4962-9490-810A4529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692E-AAC8-47FB-B3BA-7AC77E3A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513B-A405-4A5B-A9B7-E9482C46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6F08-D093-4BD3-B8CF-9C0A2E0C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9EDC-7C58-43B7-A423-BAADB79B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D545-B5C2-471E-9393-02C73B96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F405-3A99-422A-89CD-4C673A9E1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6.jpeg"/><Relationship Id="rId5" Type="http://schemas.openxmlformats.org/officeDocument/2006/relationships/image" Target="../media/image11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image" Target="../media/image15.jpeg"/><Relationship Id="rId5" Type="http://schemas.openxmlformats.org/officeDocument/2006/relationships/image" Target="../media/image4.jpeg"/><Relationship Id="rId6" Type="http://schemas.openxmlformats.org/officeDocument/2006/relationships/image" Target="../media/image13.jpeg"/><Relationship Id="rId7" Type="http://schemas.openxmlformats.org/officeDocument/2006/relationships/image" Target="../media/image15.jpeg"/><Relationship Id="rId8" Type="http://schemas.openxmlformats.org/officeDocument/2006/relationships/image" Target="../media/image4.jpeg"/><Relationship Id="rId9" Type="http://schemas.openxmlformats.org/officeDocument/2006/relationships/image" Target="../media/image13.jpeg"/><Relationship Id="rId10" Type="http://schemas.openxmlformats.org/officeDocument/2006/relationships/image" Target="../media/image15.jpeg"/><Relationship Id="rId11" Type="http://schemas.openxmlformats.org/officeDocument/2006/relationships/image" Target="../media/image4.jpeg"/><Relationship Id="rId12" Type="http://schemas.openxmlformats.org/officeDocument/2006/relationships/image" Target="../media/image13.jpe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jpeg"/><Relationship Id="rId3" Type="http://schemas.openxmlformats.org/officeDocument/2006/relationships/image" Target="../media/image13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50920" y="3141720"/>
            <a:ext cx="2235240" cy="5716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680" y="5208480"/>
            <a:ext cx="2184480" cy="5716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 Rounded MT Bold"/>
              </a:rPr>
              <a:t>QU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11280" y="3429000"/>
            <a:ext cx="13226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743280" y="2666880"/>
            <a:ext cx="5172120" cy="1455480"/>
            <a:chOff x="3743280" y="2666880"/>
            <a:chExt cx="5172120" cy="1455480"/>
          </a:xfrm>
        </p:grpSpPr>
        <p:sp>
          <p:nvSpPr>
            <p:cNvPr id="136" name=""/>
            <p:cNvSpPr/>
            <p:nvPr/>
          </p:nvSpPr>
          <p:spPr>
            <a:xfrm>
              <a:off x="3743280" y="2666880"/>
              <a:ext cx="5172120" cy="1455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Rounded MT Bold"/>
                </a:rPr>
                <a:t>REQUIRES TIME TO PROVOKE CHANGES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 Rounded MT Bold"/>
                </a:rPr>
                <a:t>           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 Rounded MT Bold"/>
                </a:rPr>
                <a:t>IF YOU DO NOT HAVE AVAILABLE TIME, DO NOT INITIATE THE PROGRAM</a:t>
              </a:r>
              <a:r>
                <a:rPr b="1" lang="en-US" sz="2000" spc="-1" strike="noStrike">
                  <a:solidFill>
                    <a:srgbClr val="a50021"/>
                  </a:solidFill>
                  <a:latin typeface="Arial Rounded MT Bold"/>
                </a:rPr>
                <a:t>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0080" y="3200400"/>
              <a:ext cx="381240" cy="82440"/>
            </a:xfrm>
            <a:prstGeom prst="rightArrow">
              <a:avLst>
                <a:gd name="adj1" fmla="val 50000"/>
                <a:gd name="adj2" fmla="val 115611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736800" y="4724280"/>
            <a:ext cx="5102280" cy="1455480"/>
            <a:chOff x="3736800" y="4724280"/>
            <a:chExt cx="5102280" cy="1455480"/>
          </a:xfrm>
        </p:grpSpPr>
        <p:sp>
          <p:nvSpPr>
            <p:cNvPr id="139" name=""/>
            <p:cNvSpPr/>
            <p:nvPr/>
          </p:nvSpPr>
          <p:spPr>
            <a:xfrm>
              <a:off x="3736800" y="4724280"/>
              <a:ext cx="5102280" cy="1455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Rounded MT Bold"/>
                </a:rPr>
                <a:t>NEEDS LEADERSHIP TO PROVOKE CHANGES</a:t>
              </a:r>
              <a:r>
                <a:rPr b="1" lang="en-US" sz="2000" spc="-1" strike="noStrike">
                  <a:solidFill>
                    <a:srgbClr val="006600"/>
                  </a:solidFill>
                  <a:latin typeface="Arial Rounded MT Bold"/>
                </a:rPr>
                <a:t>           </a:t>
              </a:r>
              <a:r>
                <a:rPr b="1" lang="en-US" sz="2000" spc="-1" strike="noStrike">
                  <a:solidFill>
                    <a:srgbClr val="800000"/>
                  </a:solidFill>
                  <a:latin typeface="Arial Rounded MT Bold"/>
                </a:rPr>
                <a:t>IF YOU ARE NOT AVAILABLE FOR THIS, DO NOT INITIATE THE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000" y="5257800"/>
              <a:ext cx="380880" cy="76320"/>
            </a:xfrm>
            <a:prstGeom prst="rightArrow">
              <a:avLst>
                <a:gd name="adj1" fmla="val 50000"/>
                <a:gd name="adj2" fmla="val 124764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411280" y="5445000"/>
            <a:ext cx="13226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44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28600" y="198108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952880" y="2073240"/>
            <a:ext cx="2514600" cy="259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3521160"/>
            <a:ext cx="2514600" cy="259056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521160"/>
            <a:ext cx="2514600" cy="2590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41306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37400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488304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374004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2743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IGH A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705720" y="46530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468792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OPE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9440" y="3503520"/>
            <a:ext cx="2492280" cy="13442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THREE PARTNERS FOR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4191120"/>
            <a:ext cx="9907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6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28600" y="198108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000"/>
                            </p:stCondLst>
                            <p:childTnLst>
                              <p:par>
                                <p:cTn id="4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952880" y="2073240"/>
            <a:ext cx="2514600" cy="259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3521160"/>
            <a:ext cx="2514600" cy="259056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521160"/>
            <a:ext cx="2514600" cy="2590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Rounded MT Bold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1306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3740040"/>
            <a:ext cx="3808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488304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0080" y="3740040"/>
            <a:ext cx="381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2720" y="2743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472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NVI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4632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3503520"/>
            <a:ext cx="2489400" cy="13442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 Rounded MT Bold"/>
              </a:rPr>
              <a:t>SOURCES OF 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4191120"/>
            <a:ext cx="9907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82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28600" y="198108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3711600"/>
            <a:ext cx="3024360" cy="14263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66"/>
                </a:solidFill>
                <a:latin typeface="Arial Rounded MT Bold"/>
              </a:rPr>
              <a:t>“</a:t>
            </a:r>
            <a:r>
              <a:rPr b="1" lang="es-PE" sz="2000" spc="-1" strike="noStrike">
                <a:solidFill>
                  <a:srgbClr val="000066"/>
                </a:solidFill>
                <a:latin typeface="Arial Rounded MT Bold"/>
              </a:rPr>
              <a:t>HARDWARE” (EQUIPMENTS,MATERIA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8160" y="4245120"/>
            <a:ext cx="3021120" cy="1426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“</a:t>
            </a: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UMANWARE” (HUMAN EL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9080" y="5175360"/>
            <a:ext cx="3020760" cy="1426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6633"/>
                </a:solidFill>
                <a:latin typeface="Arial Rounded MT Bold"/>
              </a:rPr>
              <a:t>“</a:t>
            </a:r>
            <a:r>
              <a:rPr b="1" lang="en-US" sz="2000" spc="-1" strike="noStrike">
                <a:solidFill>
                  <a:srgbClr val="996633"/>
                </a:solidFill>
                <a:latin typeface="Arial Rounded MT Bold"/>
              </a:rPr>
              <a:t>SOFTWARE” (METHODS, PROCEDU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47640" y="29242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THREE ELEMENTS IN MODERN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9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28600" y="191628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29200" y="630864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2280" y="4940280"/>
            <a:ext cx="1905120" cy="91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MATERIALS ENERGY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3920" y="4406760"/>
            <a:ext cx="106668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Rounded MT Bold"/>
              </a:rPr>
              <a:t>H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 Rounded MT Bold"/>
              </a:rPr>
              <a:t>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48320" y="4406760"/>
            <a:ext cx="106668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Rounded MT Bold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 Rounded MT Bold"/>
              </a:rPr>
              <a:t>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245200"/>
            <a:ext cx="106668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HU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57400" y="539748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38320" y="4352760"/>
            <a:ext cx="1409760" cy="52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4863960"/>
            <a:ext cx="0" cy="1143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6006960"/>
            <a:ext cx="1067040" cy="368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64000" y="4221000"/>
            <a:ext cx="2286000" cy="22860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5397480"/>
            <a:ext cx="18288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34040" y="4383000"/>
            <a:ext cx="1409760" cy="5202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OU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4894200"/>
            <a:ext cx="0" cy="11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6006960"/>
            <a:ext cx="1676160" cy="6426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</a:rPr>
              <a:t>PRODUCTS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48560" y="5127480"/>
            <a:ext cx="1314360" cy="4906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 Rounded MT Bold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395360" y="3110040"/>
            <a:ext cx="2230560" cy="1220760"/>
            <a:chOff x="1395360" y="3110040"/>
            <a:chExt cx="2230560" cy="1220760"/>
          </a:xfrm>
        </p:grpSpPr>
        <p:sp>
          <p:nvSpPr>
            <p:cNvPr id="213" name=""/>
            <p:cNvSpPr/>
            <p:nvPr/>
          </p:nvSpPr>
          <p:spPr>
            <a:xfrm>
              <a:off x="1395360" y="3110040"/>
              <a:ext cx="2230560" cy="614880"/>
            </a:xfrm>
            <a:prstGeom prst="cloudCallout">
              <a:avLst>
                <a:gd name="adj1" fmla="val -43759"/>
                <a:gd name="adj2" fmla="val 70712"/>
              </a:avLst>
            </a:prstGeom>
            <a:noFill/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Rounded MT Bold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417680" y="3882960"/>
              <a:ext cx="1201680" cy="447840"/>
            </a:xfrm>
            <a:custGeom>
              <a:avLst/>
              <a:gdLst/>
              <a:ahLst/>
              <a:rect l="l" t="t" r="r" b="b"/>
              <a:pathLst>
                <a:path w="757" h="282">
                  <a:moveTo>
                    <a:pt x="49" y="0"/>
                  </a:moveTo>
                  <a:cubicBezTo>
                    <a:pt x="43" y="8"/>
                    <a:pt x="38" y="17"/>
                    <a:pt x="31" y="24"/>
                  </a:cubicBezTo>
                  <a:cubicBezTo>
                    <a:pt x="26" y="29"/>
                    <a:pt x="15" y="29"/>
                    <a:pt x="13" y="36"/>
                  </a:cubicBezTo>
                  <a:cubicBezTo>
                    <a:pt x="0" y="76"/>
                    <a:pt x="64" y="86"/>
                    <a:pt x="85" y="90"/>
                  </a:cubicBezTo>
                  <a:cubicBezTo>
                    <a:pt x="120" y="125"/>
                    <a:pt x="96" y="129"/>
                    <a:pt x="151" y="138"/>
                  </a:cubicBezTo>
                  <a:cubicBezTo>
                    <a:pt x="180" y="157"/>
                    <a:pt x="216" y="145"/>
                    <a:pt x="253" y="150"/>
                  </a:cubicBezTo>
                  <a:cubicBezTo>
                    <a:pt x="272" y="156"/>
                    <a:pt x="294" y="154"/>
                    <a:pt x="313" y="162"/>
                  </a:cubicBezTo>
                  <a:cubicBezTo>
                    <a:pt x="321" y="165"/>
                    <a:pt x="324" y="175"/>
                    <a:pt x="331" y="180"/>
                  </a:cubicBezTo>
                  <a:cubicBezTo>
                    <a:pt x="347" y="194"/>
                    <a:pt x="367" y="198"/>
                    <a:pt x="385" y="210"/>
                  </a:cubicBezTo>
                  <a:cubicBezTo>
                    <a:pt x="429" y="203"/>
                    <a:pt x="465" y="194"/>
                    <a:pt x="505" y="174"/>
                  </a:cubicBezTo>
                  <a:cubicBezTo>
                    <a:pt x="517" y="178"/>
                    <a:pt x="538" y="174"/>
                    <a:pt x="541" y="186"/>
                  </a:cubicBezTo>
                  <a:cubicBezTo>
                    <a:pt x="544" y="197"/>
                    <a:pt x="547" y="220"/>
                    <a:pt x="559" y="228"/>
                  </a:cubicBezTo>
                  <a:cubicBezTo>
                    <a:pt x="579" y="240"/>
                    <a:pt x="604" y="240"/>
                    <a:pt x="625" y="246"/>
                  </a:cubicBezTo>
                  <a:cubicBezTo>
                    <a:pt x="739" y="279"/>
                    <a:pt x="617" y="252"/>
                    <a:pt x="739" y="276"/>
                  </a:cubicBezTo>
                  <a:cubicBezTo>
                    <a:pt x="745" y="277"/>
                    <a:pt x="757" y="282"/>
                    <a:pt x="757" y="282"/>
                  </a:cubicBezTo>
                </a:path>
              </a:pathLst>
            </a:custGeom>
            <a:noFill/>
            <a:ln w="572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6400800" y="3035160"/>
            <a:ext cx="2359080" cy="1084680"/>
          </a:xfrm>
          <a:prstGeom prst="cloudCallout">
            <a:avLst>
              <a:gd name="adj1" fmla="val -44097"/>
              <a:gd name="adj2" fmla="val 70171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VALUE OR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3040" y="2463840"/>
            <a:ext cx="5435640" cy="53136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OW HUMAN ORGANIZATIONS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19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28600" y="1773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500"/>
                            </p:stCondLst>
                            <p:childTnLst>
                              <p:par>
                                <p:cTn id="6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000"/>
                            </p:stCondLst>
                            <p:childTnLst>
                              <p:par>
                                <p:cTn id="6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4000"/>
                            </p:stCondLst>
                            <p:childTnLst>
                              <p:par>
                                <p:cTn id="6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0"/>
                            </p:stCondLst>
                            <p:childTnLst>
                              <p:par>
                                <p:cTn id="6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000"/>
                            </p:stCondLst>
                            <p:childTnLst>
                              <p:par>
                                <p:cTn id="6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000"/>
                            </p:stCondLst>
                            <p:childTnLst>
                              <p:par>
                                <p:cTn id="7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0"/>
                            </p:stCondLst>
                            <p:childTnLst>
                              <p:par>
                                <p:cTn id="7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6000"/>
                            </p:stCondLst>
                            <p:childTnLst>
                              <p:par>
                                <p:cTn id="7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50920" y="2562120"/>
            <a:ext cx="7473960" cy="61236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CONCEPT OF PRODUCTIVITY OR EFFIC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365720"/>
            <a:ext cx="76960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ODUCTIVITY =</a:t>
            </a: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 Rounded MT Bold"/>
              </a:rPr>
              <a:t>PRODUCED VALUE/CONSUMED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3573360"/>
            <a:ext cx="480060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ODUCTIVITY</a:t>
            </a: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=</a:t>
            </a: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OUTPUT/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5157720"/>
            <a:ext cx="480060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ODUCTIVITY =</a:t>
            </a: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9900cc"/>
                </a:solidFill>
                <a:latin typeface="Arial Rounded MT Bold"/>
              </a:rPr>
              <a:t>QUALITY/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5927760"/>
            <a:ext cx="48006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ODUCTIVITY =</a:t>
            </a: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EARNINGS/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3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8600" y="1773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0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164040" y="3936960"/>
            <a:ext cx="2879640" cy="13442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OW TO IMPROVE PRODUCTIVITY OR EFFICENC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4720" y="2736720"/>
            <a:ext cx="3024360" cy="994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“HARD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662440" y="2736720"/>
            <a:ext cx="302436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 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“SOFT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71880" y="5708520"/>
            <a:ext cx="3024000" cy="142560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 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“HUMAN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043680" y="3580920"/>
            <a:ext cx="304560" cy="3812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2918880" y="3580920"/>
            <a:ext cx="304920" cy="38124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5760" y="5257800"/>
            <a:ext cx="0" cy="45720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4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228600" y="1773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4080" y="2736720"/>
            <a:ext cx="2970000" cy="9946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“HARD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4080" y="4187880"/>
            <a:ext cx="2970000" cy="994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 “SOFT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4080" y="5591160"/>
            <a:ext cx="304488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ING </a:t>
            </a: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“HUMAN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2819520"/>
            <a:ext cx="373356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NVESTMENTS (ARE THERE AVAILABLE RESOURC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91120" y="3965400"/>
            <a:ext cx="4495680" cy="1313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NLY WAY, IMPROVING PEOPLE. FURTHEMORE, IT DEPENDS ON THE “HUMANWARE”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91120" y="5870520"/>
            <a:ext cx="464796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INCORPORATION OF KNOWLED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4080" y="320040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4651200"/>
            <a:ext cx="106704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00400" y="6095880"/>
            <a:ext cx="990720" cy="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6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28600" y="1773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629200" y="6356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000"/>
                            </p:stCondLst>
                            <p:childTnLst>
                              <p:par>
                                <p:cTn id="8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1000"/>
                            </p:stCondLst>
                            <p:childTnLst>
                              <p:par>
                                <p:cTn id="8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05120" y="3124080"/>
            <a:ext cx="53337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WHY DO COMPANIES/AGENCIES EXI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3984480"/>
            <a:ext cx="35049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O ATTEND TH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401920" y="4822920"/>
            <a:ext cx="4303800" cy="79704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FURTHER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5943600"/>
            <a:ext cx="731520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CONTINUOUS SEARCH FOR QUALITY &amp; CLI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0" y="3581280"/>
            <a:ext cx="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556272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0" y="441972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7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0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1000"/>
                            </p:stCondLst>
                            <p:childTnLst>
                              <p:par>
                                <p:cTn id="9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500"/>
                            </p:stCondLst>
                            <p:childTnLst>
                              <p:par>
                                <p:cTn id="91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"/>
                            </p:stCondLst>
                            <p:childTnLst>
                              <p:par>
                                <p:cTn id="9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314880" y="2971800"/>
            <a:ext cx="259056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Rounded MT Bold"/>
              </a:rPr>
              <a:t>NEEDS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14680" y="3809880"/>
            <a:ext cx="57909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NE MUST LOOK FOR BETTER, SAFER &amp; RAPID SERVICES/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4975200"/>
            <a:ext cx="6134400" cy="1406880"/>
          </a:xfrm>
          <a:prstGeom prst="flowChartDecision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OW TO OBTAIN THI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19240" y="6194520"/>
            <a:ext cx="518184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Rounded MT Bold"/>
              </a:rPr>
              <a:t>QUALITY ADMINISTR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10160" y="342900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10160" y="457200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10160" y="571500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289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500"/>
                            </p:stCondLst>
                            <p:childTnLst>
                              <p:par>
                                <p:cTn id="9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5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29200" y="61722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8600" y="3755880"/>
            <a:ext cx="15238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POLI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57400" y="3733920"/>
            <a:ext cx="198108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95680" y="2666880"/>
            <a:ext cx="1981440" cy="703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495680" y="3581280"/>
            <a:ext cx="198144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ORGANI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95680" y="4800600"/>
            <a:ext cx="198144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934320" y="3718080"/>
            <a:ext cx="1981080" cy="703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34320" y="4784760"/>
            <a:ext cx="198108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4320" y="5851440"/>
            <a:ext cx="1981080" cy="703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AUD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52480" y="4114800"/>
            <a:ext cx="30492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038480" y="3048120"/>
            <a:ext cx="457200" cy="2133360"/>
            <a:chOff x="4038480" y="3048120"/>
            <a:chExt cx="457200" cy="2133360"/>
          </a:xfrm>
        </p:grpSpPr>
        <p:sp>
          <p:nvSpPr>
            <p:cNvPr id="304" name=""/>
            <p:cNvSpPr/>
            <p:nvPr/>
          </p:nvSpPr>
          <p:spPr>
            <a:xfrm>
              <a:off x="4267080" y="3048120"/>
              <a:ext cx="0" cy="2133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267080" y="304812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267080" y="396252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411480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67080" y="5181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477120" y="4114800"/>
            <a:ext cx="457200" cy="2133720"/>
            <a:chOff x="6477120" y="4114800"/>
            <a:chExt cx="457200" cy="2133720"/>
          </a:xfrm>
        </p:grpSpPr>
        <p:sp>
          <p:nvSpPr>
            <p:cNvPr id="310" name=""/>
            <p:cNvSpPr/>
            <p:nvPr/>
          </p:nvSpPr>
          <p:spPr>
            <a:xfrm>
              <a:off x="6705720" y="4114800"/>
              <a:ext cx="0" cy="213372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05720" y="4114800"/>
              <a:ext cx="228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05720" y="5181480"/>
              <a:ext cx="228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05720" y="6248520"/>
              <a:ext cx="228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477120" y="5181480"/>
              <a:ext cx="22860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228600" y="5486400"/>
            <a:ext cx="228600" cy="434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5546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IGH A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09480" y="617220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CHIEF OF S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28600" y="6099120"/>
            <a:ext cx="228600" cy="434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2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621280" y="645336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5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2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3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28600" y="2819520"/>
            <a:ext cx="15238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POLI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52480" y="3200400"/>
            <a:ext cx="6098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362320" y="2819520"/>
            <a:ext cx="46479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MUST CLEARLY ESTABLISH COMMITMENT OF HIGH AD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3887640"/>
            <a:ext cx="3729240" cy="1426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STABLISH GOALS TO REACH THE CLI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990720" y="5641920"/>
            <a:ext cx="342720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GUARANTEE USER 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05520" y="5619600"/>
            <a:ext cx="3423960" cy="994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VERYBODY’S PARTICIP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876920" y="3887640"/>
            <a:ext cx="3809880" cy="142632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NTIRE PRODUCT/SERVICE LIFE 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3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6" dur="indefinite" restart="never" nodeType="tmRoot">
          <p:childTnLst>
            <p:seq>
              <p:cTn id="1057" dur="indefinite" nodeType="mainSeq">
                <p:childTnLst>
                  <p:par>
                    <p:cTn id="1058" fill="hold">
                      <p:stCondLst>
                        <p:cond delay="0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3733920" y="326088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4724280"/>
            <a:ext cx="4724280" cy="100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Rounded MT Bold"/>
              </a:rPr>
              <a:t>ESTABLISHED BY THE HIGH ADM IN ACCORDANCE WITH THE QUALITY POLI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4038480"/>
            <a:ext cx="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4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0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48120" y="2975040"/>
            <a:ext cx="2666880" cy="25905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30440" y="3368520"/>
            <a:ext cx="2077920" cy="9378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95480" y="4957920"/>
            <a:ext cx="4876920" cy="1426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ALLOWS THE HIGH ADM TO REACH THE QUALITY POLITICS &amp;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5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fill="hold">
                      <p:stCondLst>
                        <p:cond delay="0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03200" y="2978280"/>
            <a:ext cx="2081160" cy="937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52680" y="3051000"/>
            <a:ext cx="41385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TO WORK WELL, HIGH ADM SHOULD DE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" y="4346640"/>
            <a:ext cx="2654280" cy="563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34120" y="5946840"/>
            <a:ext cx="3416040" cy="5637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RESPON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4956120"/>
            <a:ext cx="2654280" cy="9946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HAIN OF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3429000"/>
            <a:ext cx="914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68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28600" y="191628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9" dur="indefinite" restart="never" nodeType="tmRoot">
          <p:childTnLst>
            <p:seq>
              <p:cTn id="1170" dur="indefinite" nodeType="mainSeq">
                <p:childTnLst>
                  <p:par>
                    <p:cTn id="1171" fill="hold">
                      <p:stCondLst>
                        <p:cond delay="0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833400" y="2747880"/>
            <a:ext cx="2084400" cy="937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822400"/>
            <a:ext cx="413892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TO WORK WELL, MANAGERS SHOULD DEF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0040" y="4191120"/>
            <a:ext cx="431784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WORKING AREA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0040" y="5867280"/>
            <a:ext cx="6629400" cy="703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NNUAL PLAN FOR IMPROVING THE MANGEMENT (FUTURE VI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70040" y="4876920"/>
            <a:ext cx="604044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PERATOR EDUCATION &amp; TRAINING TO UNDERSTAND THE STANDAR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903400" y="3200400"/>
            <a:ext cx="9144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8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0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2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500"/>
                            </p:stCondLst>
                            <p:childTnLst>
                              <p:par>
                                <p:cTn id="125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04920" y="274320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514600" y="2666880"/>
            <a:ext cx="6248520" cy="1752840"/>
          </a:xfrm>
          <a:prstGeom prst="wedgeEllipseCallout">
            <a:avLst>
              <a:gd name="adj1" fmla="val -43750"/>
              <a:gd name="adj2" fmla="val 84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TS OBJECTIVE IS TO CONFIRM IF ALL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ACTIVITIES ARE BE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NDUCTED AS PLAN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4800600"/>
            <a:ext cx="5029200" cy="1828800"/>
          </a:xfrm>
          <a:custGeom>
            <a:avLst/>
            <a:gdLst>
              <a:gd name="textAreaLeft" fmla="*/ 0 w 5029200"/>
              <a:gd name="textAreaRight" fmla="*/ 5029560 w 5029200"/>
              <a:gd name="textAreaTop" fmla="*/ 236880 h 1828800"/>
              <a:gd name="textAreaBottom" fmla="*/ 1591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DVANCED STAGE OF A COMPANY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/AGENCY THAT HAS PRACTIC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EFFECTIVE QUALITY CONTROL 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LL THE PROJECTS/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39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500"/>
                            </p:stCondLst>
                            <p:childTnLst>
                              <p:par>
                                <p:cTn id="12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304920" y="274320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AS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657600" y="2743200"/>
            <a:ext cx="1828800" cy="703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HASES/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51640" y="3276720"/>
            <a:ext cx="0" cy="2286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04920" y="4898880"/>
            <a:ext cx="190476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Rounded MT Bold"/>
              </a:rPr>
              <a:t>INSP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5562720"/>
            <a:ext cx="281916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PRO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6194520"/>
            <a:ext cx="647676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NEW PRODUCTS/PROCEDURES &amp; CLIENT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715000" y="5067360"/>
            <a:ext cx="2971800" cy="495360"/>
            <a:chOff x="5715000" y="5067360"/>
            <a:chExt cx="2971800" cy="495360"/>
          </a:xfrm>
        </p:grpSpPr>
        <p:sp>
          <p:nvSpPr>
            <p:cNvPr id="403" name=""/>
            <p:cNvSpPr/>
            <p:nvPr/>
          </p:nvSpPr>
          <p:spPr>
            <a:xfrm>
              <a:off x="5715000" y="5067360"/>
              <a:ext cx="1447920" cy="4953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62920" y="5067360"/>
              <a:ext cx="914400" cy="4953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77320" y="5067360"/>
              <a:ext cx="609480" cy="4953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715000" y="4419720"/>
            <a:ext cx="2971800" cy="495360"/>
            <a:chOff x="5715000" y="4419720"/>
            <a:chExt cx="2971800" cy="495360"/>
          </a:xfrm>
        </p:grpSpPr>
        <p:sp>
          <p:nvSpPr>
            <p:cNvPr id="407" name=""/>
            <p:cNvSpPr/>
            <p:nvPr/>
          </p:nvSpPr>
          <p:spPr>
            <a:xfrm>
              <a:off x="5715000" y="4419720"/>
              <a:ext cx="914400" cy="4953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29400" y="4419720"/>
              <a:ext cx="1447920" cy="4953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077320" y="4419720"/>
              <a:ext cx="609480" cy="4953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715000" y="3772080"/>
            <a:ext cx="2971800" cy="495000"/>
            <a:chOff x="5715000" y="3772080"/>
            <a:chExt cx="2971800" cy="495000"/>
          </a:xfrm>
        </p:grpSpPr>
        <p:sp>
          <p:nvSpPr>
            <p:cNvPr id="411" name=""/>
            <p:cNvSpPr/>
            <p:nvPr/>
          </p:nvSpPr>
          <p:spPr>
            <a:xfrm>
              <a:off x="5715000" y="3772080"/>
              <a:ext cx="609480" cy="4950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24480" y="3772080"/>
              <a:ext cx="914400" cy="4950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8880" y="3772080"/>
              <a:ext cx="1447920" cy="4950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152280" y="432756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ORI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17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0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500"/>
                            </p:stCondLst>
                            <p:childTnLst>
                              <p:par>
                                <p:cTn id="12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19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500"/>
                            </p:stCondLst>
                            <p:childTnLst>
                              <p:par>
                                <p:cTn id="1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8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500"/>
                            </p:stCondLst>
                            <p:childTnLst>
                              <p:par>
                                <p:cTn id="13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304920" y="289548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QUALITY PL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3080" y="4118040"/>
            <a:ext cx="2435040" cy="5637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GO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3889440"/>
            <a:ext cx="2819520" cy="994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FOR EACH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5183280"/>
            <a:ext cx="3581280" cy="14263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NEW TECHNOL., MATERIALS, PROC., EQUI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5391000"/>
            <a:ext cx="2819520" cy="994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PERATOR H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326280" y="3867120"/>
            <a:ext cx="2435040" cy="99468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FUTURE 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3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0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500"/>
                            </p:stCondLst>
                            <p:childTnLst>
                              <p:par>
                                <p:cTn id="13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28600" y="2895480"/>
            <a:ext cx="198108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AUD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80000" y="2924280"/>
            <a:ext cx="4798800" cy="185724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CTIVITIES IN ACCORDANCE WITH  THE OBJECTIVES OF THE QUALITY SYST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6360" y="4818240"/>
            <a:ext cx="4799160" cy="14263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RESENT SITUATION REACHES THE ADEQUATE LEV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4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228600" y="1773360"/>
            <a:ext cx="815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1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63760" y="76320"/>
            <a:ext cx="4721400" cy="3834000"/>
          </a:xfrm>
          <a:prstGeom prst="irregularSeal1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BURN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1854360"/>
            <a:ext cx="64627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Discovered in 1974 by an 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309420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Work is not recog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3703680"/>
            <a:ext cx="81392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Looses the will to go to work or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431316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Aggressive with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492300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Weak relationship th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553248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Headaches, pains, madnes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614196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The person looses th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484360"/>
            <a:ext cx="623412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Like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9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5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3429000" y="3083040"/>
            <a:ext cx="2666880" cy="25905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528920" y="3494160"/>
            <a:ext cx="2560320" cy="93780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Rounded MT Bold"/>
              </a:rPr>
              <a:t>HUMAN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81280" y="5068800"/>
            <a:ext cx="434340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IS BASED ON HUMA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5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0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8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200400" y="2819520"/>
            <a:ext cx="2438280" cy="990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ELF LEAR. PRO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943600" y="2895480"/>
            <a:ext cx="304812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NT. FORMAL 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5810400"/>
            <a:ext cx="3429000" cy="895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ECH. ASSIST. (OTHER ORGAN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2280" y="2971800"/>
            <a:ext cx="274644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NTACT W/ CON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91360" y="5791320"/>
            <a:ext cx="270036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IRING WELL EDU.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5791320"/>
            <a:ext cx="243828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RAINING IN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971800" y="4267080"/>
            <a:ext cx="3352680" cy="134424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OW TO BRING KNOWLEDGE TO THE ORGANIZ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6324480" y="3809880"/>
            <a:ext cx="45720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2437920" y="3809880"/>
            <a:ext cx="83844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3809880"/>
            <a:ext cx="304560" cy="457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2286000" y="5409720"/>
            <a:ext cx="838080" cy="3812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5410080"/>
            <a:ext cx="83808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572000" y="5410080"/>
            <a:ext cx="304920" cy="3812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7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AIRPORT SERVICE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670240" y="63817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7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500"/>
                            </p:stCondLst>
                            <p:childTnLst>
                              <p:par>
                                <p:cTn id="14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133720" y="3141720"/>
            <a:ext cx="4663800" cy="134424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OMPETITIVITY CONCEPT IN COMPANIES IS THE SAME FOR DIFFERENT STATES (AIRPOR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547640" y="5300640"/>
            <a:ext cx="5904000" cy="1166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HIGH QUALITY SERVICES WITH LOW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95680" y="4508640"/>
            <a:ext cx="0" cy="761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8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0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85800" y="3276720"/>
            <a:ext cx="3276720" cy="93780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HE RESULTS OF YOUR WOR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410080" y="3352680"/>
            <a:ext cx="27432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MUST MEAN MUCH FOR YOUR 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" y="5181480"/>
            <a:ext cx="3257640" cy="93780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QUALITY IS BASICALL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10080" y="5257800"/>
            <a:ext cx="27432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EDUCATION &amp;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995640" y="3716280"/>
            <a:ext cx="1447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62520" y="5638680"/>
            <a:ext cx="1447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49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0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500"/>
                            </p:stCondLst>
                            <p:childTnLst>
                              <p:par>
                                <p:cTn id="16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0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1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5867280" y="5181480"/>
            <a:ext cx="762120" cy="990720"/>
          </a:xfrm>
          <a:custGeom>
            <a:avLst/>
            <a:gdLst>
              <a:gd name="textAreaLeft" fmla="*/ 0 w 762120"/>
              <a:gd name="textAreaRight" fmla="*/ 762480 w 7621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3920" y="4648320"/>
            <a:ext cx="761760" cy="990360"/>
          </a:xfrm>
          <a:custGeom>
            <a:avLst/>
            <a:gdLst>
              <a:gd name="textAreaLeft" fmla="*/ 0 w 761760"/>
              <a:gd name="textAreaRight" fmla="*/ 762120 w 7617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66680" y="3276720"/>
            <a:ext cx="2819520" cy="93780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MPANIES OR ORGANIZ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410080" y="3375000"/>
            <a:ext cx="274320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TO SATISFY THE HUMAN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4800600"/>
            <a:ext cx="304812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 Rounded MT Bold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657600" y="5334120"/>
            <a:ext cx="243828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 Rounded MT Bold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3733920"/>
            <a:ext cx="15238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715000" y="5915160"/>
            <a:ext cx="257976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Rounded MT Bold"/>
              </a:rPr>
              <a:t>DO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08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0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48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6620040" y="2286000"/>
            <a:ext cx="221904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MENTAL HEALTH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05720" y="3733920"/>
            <a:ext cx="21333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BASIC NEEDS ATT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4800600"/>
            <a:ext cx="21333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BASIC NEEDS NOT AT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3200400"/>
            <a:ext cx="0" cy="275112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85760" y="3352680"/>
            <a:ext cx="4307040" cy="2468520"/>
          </a:xfrm>
          <a:custGeom>
            <a:avLst/>
            <a:gdLst/>
            <a:ahLst/>
            <a:rect l="l" t="t" r="r" b="b"/>
            <a:pathLst>
              <a:path w="2713" h="1555">
                <a:moveTo>
                  <a:pt x="0" y="1385"/>
                </a:moveTo>
                <a:cubicBezTo>
                  <a:pt x="16" y="1381"/>
                  <a:pt x="32" y="1373"/>
                  <a:pt x="48" y="1373"/>
                </a:cubicBezTo>
                <a:cubicBezTo>
                  <a:pt x="61" y="1373"/>
                  <a:pt x="71" y="1386"/>
                  <a:pt x="84" y="1385"/>
                </a:cubicBezTo>
                <a:cubicBezTo>
                  <a:pt x="109" y="1382"/>
                  <a:pt x="132" y="1369"/>
                  <a:pt x="156" y="1361"/>
                </a:cubicBezTo>
                <a:cubicBezTo>
                  <a:pt x="168" y="1357"/>
                  <a:pt x="192" y="1349"/>
                  <a:pt x="192" y="1349"/>
                </a:cubicBezTo>
                <a:cubicBezTo>
                  <a:pt x="213" y="1432"/>
                  <a:pt x="184" y="1385"/>
                  <a:pt x="240" y="1385"/>
                </a:cubicBezTo>
                <a:cubicBezTo>
                  <a:pt x="256" y="1385"/>
                  <a:pt x="272" y="1393"/>
                  <a:pt x="288" y="1397"/>
                </a:cubicBezTo>
                <a:cubicBezTo>
                  <a:pt x="303" y="1305"/>
                  <a:pt x="318" y="1212"/>
                  <a:pt x="336" y="1121"/>
                </a:cubicBezTo>
                <a:cubicBezTo>
                  <a:pt x="357" y="893"/>
                  <a:pt x="361" y="664"/>
                  <a:pt x="384" y="437"/>
                </a:cubicBezTo>
                <a:cubicBezTo>
                  <a:pt x="392" y="357"/>
                  <a:pt x="403" y="275"/>
                  <a:pt x="420" y="197"/>
                </a:cubicBezTo>
                <a:cubicBezTo>
                  <a:pt x="429" y="156"/>
                  <a:pt x="456" y="77"/>
                  <a:pt x="456" y="77"/>
                </a:cubicBezTo>
                <a:cubicBezTo>
                  <a:pt x="477" y="140"/>
                  <a:pt x="461" y="102"/>
                  <a:pt x="516" y="185"/>
                </a:cubicBezTo>
                <a:cubicBezTo>
                  <a:pt x="516" y="185"/>
                  <a:pt x="546" y="275"/>
                  <a:pt x="552" y="293"/>
                </a:cubicBezTo>
                <a:cubicBezTo>
                  <a:pt x="584" y="389"/>
                  <a:pt x="610" y="481"/>
                  <a:pt x="624" y="581"/>
                </a:cubicBezTo>
                <a:cubicBezTo>
                  <a:pt x="628" y="865"/>
                  <a:pt x="616" y="1150"/>
                  <a:pt x="636" y="1433"/>
                </a:cubicBezTo>
                <a:cubicBezTo>
                  <a:pt x="637" y="1449"/>
                  <a:pt x="669" y="1451"/>
                  <a:pt x="684" y="1445"/>
                </a:cubicBezTo>
                <a:cubicBezTo>
                  <a:pt x="696" y="1440"/>
                  <a:pt x="687" y="1418"/>
                  <a:pt x="696" y="1409"/>
                </a:cubicBezTo>
                <a:cubicBezTo>
                  <a:pt x="705" y="1400"/>
                  <a:pt x="720" y="1401"/>
                  <a:pt x="732" y="1397"/>
                </a:cubicBezTo>
                <a:cubicBezTo>
                  <a:pt x="736" y="1409"/>
                  <a:pt x="732" y="1430"/>
                  <a:pt x="744" y="1433"/>
                </a:cubicBezTo>
                <a:cubicBezTo>
                  <a:pt x="757" y="1436"/>
                  <a:pt x="813" y="1376"/>
                  <a:pt x="816" y="1373"/>
                </a:cubicBezTo>
                <a:cubicBezTo>
                  <a:pt x="824" y="1385"/>
                  <a:pt x="827" y="1404"/>
                  <a:pt x="840" y="1409"/>
                </a:cubicBezTo>
                <a:cubicBezTo>
                  <a:pt x="852" y="1414"/>
                  <a:pt x="875" y="1410"/>
                  <a:pt x="876" y="1397"/>
                </a:cubicBezTo>
                <a:cubicBezTo>
                  <a:pt x="884" y="1321"/>
                  <a:pt x="868" y="1245"/>
                  <a:pt x="864" y="1169"/>
                </a:cubicBezTo>
                <a:cubicBezTo>
                  <a:pt x="868" y="833"/>
                  <a:pt x="868" y="497"/>
                  <a:pt x="876" y="161"/>
                </a:cubicBezTo>
                <a:cubicBezTo>
                  <a:pt x="876" y="148"/>
                  <a:pt x="879" y="116"/>
                  <a:pt x="888" y="125"/>
                </a:cubicBezTo>
                <a:cubicBezTo>
                  <a:pt x="907" y="144"/>
                  <a:pt x="925" y="237"/>
                  <a:pt x="936" y="269"/>
                </a:cubicBezTo>
                <a:cubicBezTo>
                  <a:pt x="964" y="353"/>
                  <a:pt x="992" y="437"/>
                  <a:pt x="1020" y="521"/>
                </a:cubicBezTo>
                <a:cubicBezTo>
                  <a:pt x="1045" y="597"/>
                  <a:pt x="1043" y="674"/>
                  <a:pt x="1068" y="749"/>
                </a:cubicBezTo>
                <a:cubicBezTo>
                  <a:pt x="1074" y="806"/>
                  <a:pt x="1090" y="937"/>
                  <a:pt x="1092" y="989"/>
                </a:cubicBezTo>
                <a:cubicBezTo>
                  <a:pt x="1111" y="1409"/>
                  <a:pt x="1030" y="1274"/>
                  <a:pt x="1128" y="1421"/>
                </a:cubicBezTo>
                <a:cubicBezTo>
                  <a:pt x="1134" y="1415"/>
                  <a:pt x="1177" y="1361"/>
                  <a:pt x="1200" y="1373"/>
                </a:cubicBezTo>
                <a:cubicBezTo>
                  <a:pt x="1211" y="1379"/>
                  <a:pt x="1208" y="1397"/>
                  <a:pt x="1212" y="1409"/>
                </a:cubicBezTo>
                <a:cubicBezTo>
                  <a:pt x="1287" y="1384"/>
                  <a:pt x="1283" y="1415"/>
                  <a:pt x="1296" y="1481"/>
                </a:cubicBezTo>
                <a:cubicBezTo>
                  <a:pt x="1297" y="1478"/>
                  <a:pt x="1319" y="1402"/>
                  <a:pt x="1332" y="1409"/>
                </a:cubicBezTo>
                <a:cubicBezTo>
                  <a:pt x="1358" y="1422"/>
                  <a:pt x="1380" y="1481"/>
                  <a:pt x="1380" y="1481"/>
                </a:cubicBezTo>
                <a:cubicBezTo>
                  <a:pt x="1384" y="1469"/>
                  <a:pt x="1380" y="1448"/>
                  <a:pt x="1392" y="1445"/>
                </a:cubicBezTo>
                <a:cubicBezTo>
                  <a:pt x="1406" y="1442"/>
                  <a:pt x="1426" y="1483"/>
                  <a:pt x="1428" y="1469"/>
                </a:cubicBezTo>
                <a:cubicBezTo>
                  <a:pt x="1445" y="1362"/>
                  <a:pt x="1435" y="1253"/>
                  <a:pt x="1440" y="1145"/>
                </a:cubicBezTo>
                <a:cubicBezTo>
                  <a:pt x="1447" y="989"/>
                  <a:pt x="1456" y="833"/>
                  <a:pt x="1464" y="677"/>
                </a:cubicBezTo>
                <a:cubicBezTo>
                  <a:pt x="1467" y="554"/>
                  <a:pt x="1425" y="0"/>
                  <a:pt x="1488" y="221"/>
                </a:cubicBezTo>
                <a:cubicBezTo>
                  <a:pt x="1493" y="237"/>
                  <a:pt x="1494" y="254"/>
                  <a:pt x="1500" y="269"/>
                </a:cubicBezTo>
                <a:cubicBezTo>
                  <a:pt x="1506" y="286"/>
                  <a:pt x="1516" y="301"/>
                  <a:pt x="1524" y="317"/>
                </a:cubicBezTo>
                <a:cubicBezTo>
                  <a:pt x="1542" y="426"/>
                  <a:pt x="1557" y="534"/>
                  <a:pt x="1584" y="641"/>
                </a:cubicBezTo>
                <a:cubicBezTo>
                  <a:pt x="1595" y="836"/>
                  <a:pt x="1606" y="1026"/>
                  <a:pt x="1644" y="1217"/>
                </a:cubicBezTo>
                <a:cubicBezTo>
                  <a:pt x="1648" y="1261"/>
                  <a:pt x="1652" y="1305"/>
                  <a:pt x="1656" y="1349"/>
                </a:cubicBezTo>
                <a:cubicBezTo>
                  <a:pt x="1660" y="1385"/>
                  <a:pt x="1645" y="1429"/>
                  <a:pt x="1668" y="1457"/>
                </a:cubicBezTo>
                <a:cubicBezTo>
                  <a:pt x="1680" y="1473"/>
                  <a:pt x="1690" y="1423"/>
                  <a:pt x="1704" y="1409"/>
                </a:cubicBezTo>
                <a:cubicBezTo>
                  <a:pt x="1714" y="1399"/>
                  <a:pt x="1728" y="1393"/>
                  <a:pt x="1740" y="1385"/>
                </a:cubicBezTo>
                <a:cubicBezTo>
                  <a:pt x="1744" y="1397"/>
                  <a:pt x="1749" y="1409"/>
                  <a:pt x="1752" y="1421"/>
                </a:cubicBezTo>
                <a:cubicBezTo>
                  <a:pt x="1757" y="1441"/>
                  <a:pt x="1750" y="1467"/>
                  <a:pt x="1764" y="1481"/>
                </a:cubicBezTo>
                <a:cubicBezTo>
                  <a:pt x="1773" y="1490"/>
                  <a:pt x="1767" y="1454"/>
                  <a:pt x="1776" y="1445"/>
                </a:cubicBezTo>
                <a:cubicBezTo>
                  <a:pt x="1785" y="1436"/>
                  <a:pt x="1800" y="1437"/>
                  <a:pt x="1812" y="1433"/>
                </a:cubicBezTo>
                <a:cubicBezTo>
                  <a:pt x="1820" y="1445"/>
                  <a:pt x="1823" y="1464"/>
                  <a:pt x="1836" y="1469"/>
                </a:cubicBezTo>
                <a:cubicBezTo>
                  <a:pt x="1871" y="1483"/>
                  <a:pt x="1882" y="1433"/>
                  <a:pt x="1896" y="1421"/>
                </a:cubicBezTo>
                <a:cubicBezTo>
                  <a:pt x="1906" y="1413"/>
                  <a:pt x="1920" y="1413"/>
                  <a:pt x="1932" y="1409"/>
                </a:cubicBezTo>
                <a:cubicBezTo>
                  <a:pt x="1992" y="1429"/>
                  <a:pt x="1968" y="1449"/>
                  <a:pt x="2028" y="1469"/>
                </a:cubicBezTo>
                <a:cubicBezTo>
                  <a:pt x="2060" y="1421"/>
                  <a:pt x="2066" y="1367"/>
                  <a:pt x="2088" y="1313"/>
                </a:cubicBezTo>
                <a:cubicBezTo>
                  <a:pt x="2079" y="1138"/>
                  <a:pt x="2064" y="987"/>
                  <a:pt x="2016" y="821"/>
                </a:cubicBezTo>
                <a:cubicBezTo>
                  <a:pt x="1997" y="611"/>
                  <a:pt x="1985" y="459"/>
                  <a:pt x="2004" y="233"/>
                </a:cubicBezTo>
                <a:cubicBezTo>
                  <a:pt x="2006" y="208"/>
                  <a:pt x="2028" y="161"/>
                  <a:pt x="2028" y="161"/>
                </a:cubicBezTo>
                <a:cubicBezTo>
                  <a:pt x="2082" y="324"/>
                  <a:pt x="2130" y="487"/>
                  <a:pt x="2172" y="653"/>
                </a:cubicBezTo>
                <a:cubicBezTo>
                  <a:pt x="2208" y="799"/>
                  <a:pt x="2259" y="938"/>
                  <a:pt x="2292" y="1085"/>
                </a:cubicBezTo>
                <a:cubicBezTo>
                  <a:pt x="2296" y="1169"/>
                  <a:pt x="2298" y="1253"/>
                  <a:pt x="2304" y="1337"/>
                </a:cubicBezTo>
                <a:cubicBezTo>
                  <a:pt x="2306" y="1361"/>
                  <a:pt x="2310" y="1385"/>
                  <a:pt x="2316" y="1409"/>
                </a:cubicBezTo>
                <a:cubicBezTo>
                  <a:pt x="2322" y="1434"/>
                  <a:pt x="2340" y="1481"/>
                  <a:pt x="2340" y="1481"/>
                </a:cubicBezTo>
                <a:cubicBezTo>
                  <a:pt x="2360" y="1477"/>
                  <a:pt x="2382" y="1460"/>
                  <a:pt x="2400" y="1469"/>
                </a:cubicBezTo>
                <a:cubicBezTo>
                  <a:pt x="2421" y="1479"/>
                  <a:pt x="2414" y="1520"/>
                  <a:pt x="2436" y="1529"/>
                </a:cubicBezTo>
                <a:cubicBezTo>
                  <a:pt x="2450" y="1534"/>
                  <a:pt x="2471" y="1461"/>
                  <a:pt x="2472" y="1457"/>
                </a:cubicBezTo>
                <a:cubicBezTo>
                  <a:pt x="2523" y="1534"/>
                  <a:pt x="2503" y="1555"/>
                  <a:pt x="2556" y="1493"/>
                </a:cubicBezTo>
                <a:cubicBezTo>
                  <a:pt x="2569" y="1478"/>
                  <a:pt x="2580" y="1461"/>
                  <a:pt x="2592" y="1445"/>
                </a:cubicBezTo>
                <a:cubicBezTo>
                  <a:pt x="2608" y="1461"/>
                  <a:pt x="2627" y="1475"/>
                  <a:pt x="2640" y="1493"/>
                </a:cubicBezTo>
                <a:cubicBezTo>
                  <a:pt x="2647" y="1503"/>
                  <a:pt x="2646" y="1540"/>
                  <a:pt x="2652" y="1529"/>
                </a:cubicBezTo>
                <a:cubicBezTo>
                  <a:pt x="2668" y="1496"/>
                  <a:pt x="2664" y="1456"/>
                  <a:pt x="2676" y="1421"/>
                </a:cubicBezTo>
                <a:cubicBezTo>
                  <a:pt x="2681" y="1407"/>
                  <a:pt x="2692" y="1397"/>
                  <a:pt x="2700" y="1385"/>
                </a:cubicBezTo>
                <a:cubicBezTo>
                  <a:pt x="2713" y="1437"/>
                  <a:pt x="2712" y="1417"/>
                  <a:pt x="2712" y="1445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3962520"/>
            <a:ext cx="5029200" cy="0"/>
          </a:xfrm>
          <a:prstGeom prst="line">
            <a:avLst/>
          </a:prstGeom>
          <a:ln w="7632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19920" y="5889600"/>
            <a:ext cx="283032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ADEQ. FOR MENTAL PATH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9240" y="2612880"/>
            <a:ext cx="221904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ATISF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14400" y="4648320"/>
            <a:ext cx="80010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19240" y="6019920"/>
            <a:ext cx="2600280" cy="3988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NO SATISF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809880" y="3123720"/>
            <a:ext cx="533520" cy="838440"/>
          </a:xfrm>
          <a:prstGeom prst="line">
            <a:avLst/>
          </a:prstGeom>
          <a:ln w="38160">
            <a:solidFill>
              <a:srgbClr val="00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343400" y="2689200"/>
            <a:ext cx="1828800" cy="5205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Rounded MT Bold"/>
              </a:rPr>
              <a:t>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400800" y="4114800"/>
            <a:ext cx="0" cy="533520"/>
          </a:xfrm>
          <a:prstGeom prst="line">
            <a:avLst/>
          </a:prstGeom>
          <a:ln w="7632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4648320"/>
            <a:ext cx="0" cy="5331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696080" y="3047760"/>
            <a:ext cx="0" cy="609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696080" y="5562720"/>
            <a:ext cx="0" cy="304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31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228600" y="191628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629200" y="6356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4" dur="indefinite" restart="never" nodeType="tmRoot">
          <p:childTnLst>
            <p:seq>
              <p:cTn id="1695" dur="indefinite" nodeType="mainSeq">
                <p:childTnLst>
                  <p:par>
                    <p:cTn id="1696" fill="hold">
                      <p:stCondLst>
                        <p:cond delay="0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fill="hold">
                      <p:stCondLst>
                        <p:cond delay="indefinite"/>
                      </p:stCondLst>
                      <p:childTnLst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fill="hold">
                      <p:stCondLst>
                        <p:cond delay="indefinite"/>
                      </p:stCondLst>
                      <p:childTnLst>
                        <p:par>
                          <p:cTn id="1757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6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1" fill="hold">
                            <p:stCondLst>
                              <p:cond delay="500"/>
                            </p:stCondLst>
                            <p:childTnLst>
                              <p:par>
                                <p:cTn id="17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547640" y="4670280"/>
            <a:ext cx="221940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ATISFACTION MORE FREQU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517920" y="3451320"/>
            <a:ext cx="2133720" cy="100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TATE OF MENTAL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4920" y="5867280"/>
            <a:ext cx="1904760" cy="703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BASIC NEED ATTEN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539040" y="2060640"/>
            <a:ext cx="2209680" cy="126252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Rounded MT Bold"/>
              </a:rPr>
              <a:t>HIGH M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2771640" y="3357360"/>
            <a:ext cx="5185080" cy="316692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4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28600" y="155736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6" dur="indefinite" restart="never" nodeType="tmRoot">
          <p:childTnLst>
            <p:seq>
              <p:cTn id="1787" dur="indefinite" nodeType="mainSeq">
                <p:childTnLst>
                  <p:par>
                    <p:cTn id="1788" fill="hold">
                      <p:stCondLst>
                        <p:cond delay="0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905120" y="3124080"/>
            <a:ext cx="533376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ONE PERSON MAY BE SATISFIED TODAY, BUT NOT TOMO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05120" y="5562720"/>
            <a:ext cx="5333760" cy="703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MEASUREMENTS SHOULD REFLECT THE GROUP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4343400"/>
            <a:ext cx="4800600" cy="797040"/>
          </a:xfrm>
          <a:prstGeom prst="diamond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FURTHERM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0" y="3886200"/>
            <a:ext cx="0" cy="457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0" y="5105520"/>
            <a:ext cx="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5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228600" y="186372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0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3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3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447920" y="2917800"/>
            <a:ext cx="4724280" cy="100872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IN TOTAL QUALITY CONTROL, THE CHIEF SHOULD CONTROL THE MORALE OF 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562720" y="5280120"/>
            <a:ext cx="2209680" cy="131364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VISIT TO DOCTORS  COMPLAINTS  SUGG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590920" y="4441680"/>
            <a:ext cx="2438280" cy="100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Rounded MT Bold"/>
              </a:rPr>
              <a:t>HOW TO MEASURE THE MORALE LEVE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809880" y="3984480"/>
            <a:ext cx="0" cy="43524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809880" y="5508720"/>
            <a:ext cx="1752840" cy="457200"/>
            <a:chOff x="3809880" y="5508720"/>
            <a:chExt cx="1752840" cy="457200"/>
          </a:xfrm>
        </p:grpSpPr>
        <p:sp>
          <p:nvSpPr>
            <p:cNvPr id="565" name=""/>
            <p:cNvSpPr/>
            <p:nvPr/>
          </p:nvSpPr>
          <p:spPr>
            <a:xfrm>
              <a:off x="3809880" y="5508720"/>
              <a:ext cx="0" cy="4572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09880" y="5965920"/>
              <a:ext cx="175284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69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28600" y="186372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0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500"/>
                            </p:stCondLst>
                            <p:childTnLst>
                              <p:par>
                                <p:cTn id="18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500"/>
                            </p:stCondLst>
                            <p:childTnLst>
                              <p:par>
                                <p:cTn id="187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8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669960" y="4797360"/>
            <a:ext cx="3962520" cy="100872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HIEF TAKES CARE FOR ACOMPLILSHMENT OF THE TEAM BASIC N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632480" y="4408560"/>
            <a:ext cx="3917880" cy="1830960"/>
            <a:chOff x="4632480" y="4408560"/>
            <a:chExt cx="3917880" cy="1830960"/>
          </a:xfrm>
        </p:grpSpPr>
        <p:sp>
          <p:nvSpPr>
            <p:cNvPr id="576" name=""/>
            <p:cNvSpPr/>
            <p:nvPr/>
          </p:nvSpPr>
          <p:spPr>
            <a:xfrm>
              <a:off x="6156360" y="4408560"/>
              <a:ext cx="2394000" cy="1830960"/>
            </a:xfrm>
            <a:prstGeom prst="bevel">
              <a:avLst>
                <a:gd name="adj" fmla="val 12500"/>
              </a:avLst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00"/>
                  </a:solidFill>
                  <a:latin typeface="Arial Rounded MT Bold"/>
                </a:rPr>
                <a:t>IT KEEPS HIGH MORA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32480" y="5308560"/>
              <a:ext cx="152388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8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228600" y="186372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517680" y="3197160"/>
            <a:ext cx="4267080" cy="1600200"/>
            <a:chOff x="517680" y="3197160"/>
            <a:chExt cx="4267080" cy="1600200"/>
          </a:xfrm>
        </p:grpSpPr>
        <p:sp>
          <p:nvSpPr>
            <p:cNvPr id="585" name=""/>
            <p:cNvSpPr/>
            <p:nvPr/>
          </p:nvSpPr>
          <p:spPr>
            <a:xfrm>
              <a:off x="517680" y="3197160"/>
              <a:ext cx="4267080" cy="1008720"/>
            </a:xfrm>
            <a:prstGeom prst="rect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00"/>
                  </a:solidFill>
                  <a:latin typeface="Arial Rounded MT Bold"/>
                </a:rPr>
                <a:t>CHIEF MUST CREATE ENVIRONMENT WHERE EVERYBODY WANTS TO BE 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27280" y="4221000"/>
              <a:ext cx="0" cy="5763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8629200" y="6284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0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9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1" fill="hold">
                            <p:stCondLst>
                              <p:cond delay="500"/>
                            </p:stCondLst>
                            <p:childTnLst>
                              <p:par>
                                <p:cTn id="19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4" fill="hold">
                            <p:stCondLst>
                              <p:cond delay="500"/>
                            </p:stCondLst>
                            <p:childTnLst>
                              <p:par>
                                <p:cTn id="190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95240" y="2286000"/>
            <a:ext cx="785664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Expectancy is not at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95240" y="3200400"/>
            <a:ext cx="793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The person looses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95240" y="4140360"/>
            <a:ext cx="7932960" cy="509400"/>
            <a:chOff x="795240" y="4140360"/>
            <a:chExt cx="7932960" cy="509400"/>
          </a:xfrm>
        </p:grpSpPr>
        <p:sp>
          <p:nvSpPr>
            <p:cNvPr id="60" name=""/>
            <p:cNvSpPr/>
            <p:nvPr/>
          </p:nvSpPr>
          <p:spPr>
            <a:xfrm>
              <a:off x="795240" y="4140360"/>
              <a:ext cx="793296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 Rounded MT Bold"/>
                </a:rPr>
                <a:t>As a consequence                          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Arial Rounded MT Bold"/>
                </a:rPr>
                <a:t>FRUST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384800" y="4398840"/>
              <a:ext cx="79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362320" y="214200"/>
            <a:ext cx="5108400" cy="2068200"/>
          </a:xfrm>
          <a:prstGeom prst="irregularSeal1">
            <a:avLst/>
          </a:prstGeom>
          <a:solidFill>
            <a:srgbClr val="cc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BURN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95240" y="5029200"/>
            <a:ext cx="7932960" cy="509400"/>
            <a:chOff x="795240" y="5029200"/>
            <a:chExt cx="7932960" cy="509400"/>
          </a:xfrm>
        </p:grpSpPr>
        <p:sp>
          <p:nvSpPr>
            <p:cNvPr id="64" name=""/>
            <p:cNvSpPr/>
            <p:nvPr/>
          </p:nvSpPr>
          <p:spPr>
            <a:xfrm>
              <a:off x="795240" y="5029200"/>
              <a:ext cx="793296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Rounded MT Bold"/>
                </a:rPr>
                <a:t>Frustration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 Rounded MT Bold"/>
                </a:rPr>
                <a:t> leads to                        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Arial Rounded MT Bold"/>
                </a:rPr>
                <a:t>BURN 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70600" y="5334120"/>
              <a:ext cx="79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95240" y="5913360"/>
            <a:ext cx="7932960" cy="509400"/>
            <a:chOff x="795240" y="5913360"/>
            <a:chExt cx="7932960" cy="509400"/>
          </a:xfrm>
        </p:grpSpPr>
        <p:sp>
          <p:nvSpPr>
            <p:cNvPr id="67" name=""/>
            <p:cNvSpPr/>
            <p:nvPr/>
          </p:nvSpPr>
          <p:spPr>
            <a:xfrm>
              <a:off x="795240" y="5913360"/>
              <a:ext cx="793296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 Rounded MT Bold"/>
                </a:rPr>
                <a:t>BURN OUT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 Rounded MT Bold"/>
                </a:rPr>
                <a:t>, If not treated               </a:t>
              </a:r>
              <a:r>
                <a:rPr b="1" lang="en-US" sz="2400" spc="-1" strike="noStrike" u="sng">
                  <a:solidFill>
                    <a:srgbClr val="ff3300"/>
                  </a:solidFill>
                  <a:uFillTx/>
                  <a:latin typeface="Arial Rounded MT Bold"/>
                </a:rPr>
                <a:t>DE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27800" y="6172200"/>
              <a:ext cx="7966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3200400" y="3578400"/>
            <a:ext cx="2733840" cy="99468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 Rounded MT Bold"/>
              </a:rPr>
              <a:t>NOT BY CAMPA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4920" y="2743200"/>
            <a:ext cx="2840040" cy="69408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Rounded MT Bold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85800" y="4648320"/>
            <a:ext cx="3273480" cy="18572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BASED ON CONTINUOUS MORALE 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181480" y="4648320"/>
            <a:ext cx="3273480" cy="185724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HIEF MANAGE, MEASURE &amp; CONTROL MO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594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228600" y="186372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fill="hold">
                      <p:stCondLst>
                        <p:cond delay="0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500"/>
                            </p:stCondLst>
                            <p:childTnLst>
                              <p:par>
                                <p:cTn id="19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9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52280" y="6095880"/>
            <a:ext cx="18288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 Rounded MT Bold"/>
              </a:rPr>
              <a:t>SELF AC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68120" y="4746600"/>
            <a:ext cx="1828800" cy="3988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Rounded MT Bold"/>
              </a:rPr>
              <a:t>SOC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2280" y="5432400"/>
            <a:ext cx="1997280" cy="3988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SELF ESTE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2280" y="4060800"/>
            <a:ext cx="1828800" cy="398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2280" y="3375000"/>
            <a:ext cx="2514600" cy="3988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HYSI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0920" y="2565360"/>
            <a:ext cx="5867280" cy="398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CALE OF BASIC HUMAN NEEDS (MAS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718080" y="3375000"/>
            <a:ext cx="4267080" cy="3988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LIVING, CLOTHING, FOOD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743200" y="5432400"/>
            <a:ext cx="5257800" cy="39888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SELF CONFICENCE, INDEPEN., RE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489480" y="4060800"/>
            <a:ext cx="5410080" cy="39888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FAMILY PROTECT., HOME &amp; JOB STA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71800" y="4746600"/>
            <a:ext cx="5715000" cy="3988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Rounded MT Bold"/>
              </a:rPr>
              <a:t>ACCEPT. FEEL, PART OF GROUP, FRI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422440" y="6134040"/>
            <a:ext cx="6553440" cy="38340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3300"/>
                </a:solidFill>
                <a:latin typeface="Arial Rounded MT Bold"/>
              </a:rPr>
              <a:t>OWN POT REAL, SELF DEVEL, CREAT, SELF-EXP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65240" y="6324480"/>
            <a:ext cx="4572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133720" y="5638680"/>
            <a:ext cx="609480" cy="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81080" y="4952880"/>
            <a:ext cx="99072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65240" y="4267080"/>
            <a:ext cx="152424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66880" y="3581280"/>
            <a:ext cx="106704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617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228600" y="1773360"/>
            <a:ext cx="62150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629200" y="64278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fill="hold">
                      <p:stCondLst>
                        <p:cond delay="0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6" fill="hold">
                            <p:stCondLst>
                              <p:cond delay="500"/>
                            </p:stCondLst>
                            <p:childTnLst>
                              <p:par>
                                <p:cTn id="19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68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"/>
                            </p:stCondLst>
                            <p:childTnLst>
                              <p:par>
                                <p:cTn id="19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85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9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500"/>
                            </p:stCondLst>
                            <p:childTnLst>
                              <p:par>
                                <p:cTn id="20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5430960" y="3070080"/>
            <a:ext cx="1143000" cy="703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ELF ACH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498920" y="4441680"/>
            <a:ext cx="2895480" cy="398880"/>
          </a:xfrm>
          <a:prstGeom prst="rect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 Rounded MT Bold"/>
              </a:rPr>
              <a:t>SOCI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859280" y="3908520"/>
            <a:ext cx="2225880" cy="39888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33"/>
                </a:solidFill>
                <a:latin typeface="Arial Rounded MT Bold"/>
              </a:rPr>
              <a:t>SELF ESTE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40360" y="4975200"/>
            <a:ext cx="3657600" cy="3988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 Rounded MT Bold"/>
              </a:rPr>
              <a:t>SAF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30760" y="5508720"/>
            <a:ext cx="4343400" cy="3988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PHYSIO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419640" y="2133720"/>
            <a:ext cx="5105160" cy="388620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042920" y="234936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HUMAN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059280" y="6095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SCALE OF BASIC HUMAN NEEDS (MASL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632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3419640" y="2133360"/>
            <a:ext cx="0" cy="38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629200" y="6356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0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3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7" fill="hold">
                            <p:stCondLst>
                              <p:cond delay="500"/>
                            </p:stCondLst>
                            <p:childTnLst>
                              <p:par>
                                <p:cTn id="2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500"/>
                            </p:stCondLst>
                            <p:childTnLst>
                              <p:par>
                                <p:cTn id="204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500"/>
                            </p:stCondLst>
                            <p:childTnLst>
                              <p:par>
                                <p:cTn id="208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3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2176560" y="4162320"/>
            <a:ext cx="457200" cy="498240"/>
            <a:chOff x="2176560" y="4162320"/>
            <a:chExt cx="457200" cy="498240"/>
          </a:xfrm>
        </p:grpSpPr>
        <p:sp>
          <p:nvSpPr>
            <p:cNvPr id="639" name=""/>
            <p:cNvSpPr/>
            <p:nvPr/>
          </p:nvSpPr>
          <p:spPr>
            <a:xfrm>
              <a:off x="2235240" y="4181400"/>
              <a:ext cx="338040" cy="457200"/>
            </a:xfrm>
            <a:custGeom>
              <a:avLst/>
              <a:gdLst/>
              <a:ahLst/>
              <a:rect l="l" t="t" r="r" b="b"/>
              <a:pathLst>
                <a:path w="213" h="288">
                  <a:moveTo>
                    <a:pt x="0" y="216"/>
                  </a:moveTo>
                  <a:lnTo>
                    <a:pt x="53" y="216"/>
                  </a:lnTo>
                  <a:lnTo>
                    <a:pt x="53" y="0"/>
                  </a:lnTo>
                  <a:lnTo>
                    <a:pt x="160" y="0"/>
                  </a:lnTo>
                  <a:lnTo>
                    <a:pt x="160" y="216"/>
                  </a:lnTo>
                  <a:lnTo>
                    <a:pt x="213" y="216"/>
                  </a:lnTo>
                  <a:lnTo>
                    <a:pt x="107" y="288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76560" y="4162320"/>
              <a:ext cx="457200" cy="498240"/>
            </a:xfrm>
            <a:custGeom>
              <a:avLst/>
              <a:gdLst/>
              <a:ahLst/>
              <a:rect l="l" t="t" r="r" b="b"/>
              <a:pathLst>
                <a:path w="288" h="314">
                  <a:moveTo>
                    <a:pt x="90" y="240"/>
                  </a:moveTo>
                  <a:lnTo>
                    <a:pt x="101" y="240"/>
                  </a:lnTo>
                  <a:lnTo>
                    <a:pt x="101" y="228"/>
                  </a:lnTo>
                  <a:lnTo>
                    <a:pt x="101" y="12"/>
                  </a:lnTo>
                  <a:lnTo>
                    <a:pt x="90" y="12"/>
                  </a:lnTo>
                  <a:lnTo>
                    <a:pt x="90" y="24"/>
                  </a:lnTo>
                  <a:lnTo>
                    <a:pt x="197" y="24"/>
                  </a:lnTo>
                  <a:lnTo>
                    <a:pt x="197" y="12"/>
                  </a:lnTo>
                  <a:lnTo>
                    <a:pt x="186" y="12"/>
                  </a:lnTo>
                  <a:lnTo>
                    <a:pt x="186" y="228"/>
                  </a:lnTo>
                  <a:lnTo>
                    <a:pt x="186" y="240"/>
                  </a:lnTo>
                  <a:lnTo>
                    <a:pt x="197" y="240"/>
                  </a:lnTo>
                  <a:lnTo>
                    <a:pt x="250" y="240"/>
                  </a:lnTo>
                  <a:lnTo>
                    <a:pt x="250" y="228"/>
                  </a:lnTo>
                  <a:lnTo>
                    <a:pt x="245" y="218"/>
                  </a:lnTo>
                  <a:lnTo>
                    <a:pt x="138" y="290"/>
                  </a:lnTo>
                  <a:lnTo>
                    <a:pt x="144" y="300"/>
                  </a:lnTo>
                  <a:lnTo>
                    <a:pt x="149" y="290"/>
                  </a:lnTo>
                  <a:lnTo>
                    <a:pt x="42" y="218"/>
                  </a:lnTo>
                  <a:lnTo>
                    <a:pt x="37" y="228"/>
                  </a:lnTo>
                  <a:lnTo>
                    <a:pt x="37" y="240"/>
                  </a:lnTo>
                  <a:lnTo>
                    <a:pt x="90" y="240"/>
                  </a:lnTo>
                  <a:close/>
                  <a:moveTo>
                    <a:pt x="37" y="216"/>
                  </a:moveTo>
                  <a:lnTo>
                    <a:pt x="0" y="216"/>
                  </a:lnTo>
                  <a:lnTo>
                    <a:pt x="32" y="238"/>
                  </a:lnTo>
                  <a:lnTo>
                    <a:pt x="138" y="310"/>
                  </a:lnTo>
                  <a:lnTo>
                    <a:pt x="144" y="314"/>
                  </a:lnTo>
                  <a:lnTo>
                    <a:pt x="149" y="310"/>
                  </a:lnTo>
                  <a:lnTo>
                    <a:pt x="256" y="238"/>
                  </a:lnTo>
                  <a:lnTo>
                    <a:pt x="288" y="216"/>
                  </a:lnTo>
                  <a:lnTo>
                    <a:pt x="250" y="216"/>
                  </a:lnTo>
                  <a:lnTo>
                    <a:pt x="197" y="216"/>
                  </a:lnTo>
                  <a:lnTo>
                    <a:pt x="197" y="228"/>
                  </a:lnTo>
                  <a:lnTo>
                    <a:pt x="208" y="228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197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80" y="12"/>
                  </a:lnTo>
                  <a:lnTo>
                    <a:pt x="80" y="228"/>
                  </a:lnTo>
                  <a:lnTo>
                    <a:pt x="90" y="228"/>
                  </a:lnTo>
                  <a:lnTo>
                    <a:pt x="90" y="216"/>
                  </a:lnTo>
                  <a:lnTo>
                    <a:pt x="37" y="21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1473120" y="5105520"/>
            <a:ext cx="987480" cy="1514520"/>
            <a:chOff x="1473120" y="5105520"/>
            <a:chExt cx="987480" cy="1514520"/>
          </a:xfrm>
        </p:grpSpPr>
        <p:sp>
          <p:nvSpPr>
            <p:cNvPr id="642" name=""/>
            <p:cNvSpPr/>
            <p:nvPr/>
          </p:nvSpPr>
          <p:spPr>
            <a:xfrm>
              <a:off x="1490760" y="5121000"/>
              <a:ext cx="947520" cy="1465200"/>
            </a:xfrm>
            <a:custGeom>
              <a:avLst/>
              <a:gdLst/>
              <a:ahLst/>
              <a:rect l="l" t="t" r="r" b="b"/>
              <a:pathLst>
                <a:path w="597" h="1128">
                  <a:moveTo>
                    <a:pt x="597" y="0"/>
                  </a:moveTo>
                  <a:lnTo>
                    <a:pt x="537" y="2"/>
                  </a:lnTo>
                  <a:lnTo>
                    <a:pt x="476" y="8"/>
                  </a:lnTo>
                  <a:lnTo>
                    <a:pt x="419" y="18"/>
                  </a:lnTo>
                  <a:lnTo>
                    <a:pt x="364" y="32"/>
                  </a:lnTo>
                  <a:lnTo>
                    <a:pt x="313" y="48"/>
                  </a:lnTo>
                  <a:lnTo>
                    <a:pt x="263" y="68"/>
                  </a:lnTo>
                  <a:lnTo>
                    <a:pt x="217" y="92"/>
                  </a:lnTo>
                  <a:lnTo>
                    <a:pt x="174" y="118"/>
                  </a:lnTo>
                  <a:lnTo>
                    <a:pt x="137" y="146"/>
                  </a:lnTo>
                  <a:lnTo>
                    <a:pt x="101" y="178"/>
                  </a:lnTo>
                  <a:lnTo>
                    <a:pt x="71" y="212"/>
                  </a:lnTo>
                  <a:lnTo>
                    <a:pt x="46" y="246"/>
                  </a:lnTo>
                  <a:lnTo>
                    <a:pt x="26" y="284"/>
                  </a:lnTo>
                  <a:lnTo>
                    <a:pt x="12" y="322"/>
                  </a:lnTo>
                  <a:lnTo>
                    <a:pt x="3" y="362"/>
                  </a:lnTo>
                  <a:lnTo>
                    <a:pt x="0" y="404"/>
                  </a:lnTo>
                  <a:lnTo>
                    <a:pt x="0" y="634"/>
                  </a:lnTo>
                  <a:lnTo>
                    <a:pt x="1" y="666"/>
                  </a:lnTo>
                  <a:lnTo>
                    <a:pt x="7" y="696"/>
                  </a:lnTo>
                  <a:lnTo>
                    <a:pt x="16" y="728"/>
                  </a:lnTo>
                  <a:lnTo>
                    <a:pt x="28" y="758"/>
                  </a:lnTo>
                  <a:lnTo>
                    <a:pt x="44" y="786"/>
                  </a:lnTo>
                  <a:lnTo>
                    <a:pt x="64" y="814"/>
                  </a:lnTo>
                  <a:lnTo>
                    <a:pt x="85" y="840"/>
                  </a:lnTo>
                  <a:lnTo>
                    <a:pt x="110" y="866"/>
                  </a:lnTo>
                  <a:lnTo>
                    <a:pt x="137" y="890"/>
                  </a:lnTo>
                  <a:lnTo>
                    <a:pt x="167" y="914"/>
                  </a:lnTo>
                  <a:lnTo>
                    <a:pt x="201" y="934"/>
                  </a:lnTo>
                  <a:lnTo>
                    <a:pt x="236" y="954"/>
                  </a:lnTo>
                  <a:lnTo>
                    <a:pt x="273" y="972"/>
                  </a:lnTo>
                  <a:lnTo>
                    <a:pt x="313" y="988"/>
                  </a:lnTo>
                  <a:lnTo>
                    <a:pt x="353" y="1002"/>
                  </a:lnTo>
                  <a:lnTo>
                    <a:pt x="398" y="1014"/>
                  </a:lnTo>
                  <a:lnTo>
                    <a:pt x="398" y="1128"/>
                  </a:lnTo>
                  <a:lnTo>
                    <a:pt x="597" y="922"/>
                  </a:lnTo>
                  <a:lnTo>
                    <a:pt x="398" y="668"/>
                  </a:lnTo>
                  <a:lnTo>
                    <a:pt x="398" y="784"/>
                  </a:lnTo>
                  <a:lnTo>
                    <a:pt x="332" y="766"/>
                  </a:lnTo>
                  <a:lnTo>
                    <a:pt x="272" y="742"/>
                  </a:lnTo>
                  <a:lnTo>
                    <a:pt x="215" y="714"/>
                  </a:lnTo>
                  <a:lnTo>
                    <a:pt x="165" y="682"/>
                  </a:lnTo>
                  <a:lnTo>
                    <a:pt x="119" y="646"/>
                  </a:lnTo>
                  <a:lnTo>
                    <a:pt x="81" y="606"/>
                  </a:lnTo>
                  <a:lnTo>
                    <a:pt x="64" y="584"/>
                  </a:lnTo>
                  <a:lnTo>
                    <a:pt x="49" y="564"/>
                  </a:lnTo>
                  <a:lnTo>
                    <a:pt x="35" y="542"/>
                  </a:lnTo>
                  <a:lnTo>
                    <a:pt x="25" y="518"/>
                  </a:lnTo>
                  <a:lnTo>
                    <a:pt x="25" y="518"/>
                  </a:lnTo>
                  <a:lnTo>
                    <a:pt x="41" y="486"/>
                  </a:lnTo>
                  <a:lnTo>
                    <a:pt x="60" y="456"/>
                  </a:lnTo>
                  <a:lnTo>
                    <a:pt x="83" y="428"/>
                  </a:lnTo>
                  <a:lnTo>
                    <a:pt x="108" y="402"/>
                  </a:lnTo>
                  <a:lnTo>
                    <a:pt x="137" y="376"/>
                  </a:lnTo>
                  <a:lnTo>
                    <a:pt x="169" y="352"/>
                  </a:lnTo>
                  <a:lnTo>
                    <a:pt x="202" y="330"/>
                  </a:lnTo>
                  <a:lnTo>
                    <a:pt x="240" y="310"/>
                  </a:lnTo>
                  <a:lnTo>
                    <a:pt x="279" y="292"/>
                  </a:lnTo>
                  <a:lnTo>
                    <a:pt x="320" y="276"/>
                  </a:lnTo>
                  <a:lnTo>
                    <a:pt x="362" y="262"/>
                  </a:lnTo>
                  <a:lnTo>
                    <a:pt x="407" y="252"/>
                  </a:lnTo>
                  <a:lnTo>
                    <a:pt x="453" y="242"/>
                  </a:lnTo>
                  <a:lnTo>
                    <a:pt x="499" y="236"/>
                  </a:lnTo>
                  <a:lnTo>
                    <a:pt x="547" y="232"/>
                  </a:lnTo>
                  <a:lnTo>
                    <a:pt x="597" y="230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90760" y="5121000"/>
              <a:ext cx="947520" cy="672840"/>
            </a:xfrm>
            <a:custGeom>
              <a:avLst/>
              <a:gdLst/>
              <a:ahLst/>
              <a:rect l="l" t="t" r="r" b="b"/>
              <a:pathLst>
                <a:path w="597" h="518">
                  <a:moveTo>
                    <a:pt x="597" y="0"/>
                  </a:moveTo>
                  <a:lnTo>
                    <a:pt x="537" y="2"/>
                  </a:lnTo>
                  <a:lnTo>
                    <a:pt x="476" y="8"/>
                  </a:lnTo>
                  <a:lnTo>
                    <a:pt x="419" y="18"/>
                  </a:lnTo>
                  <a:lnTo>
                    <a:pt x="364" y="32"/>
                  </a:lnTo>
                  <a:lnTo>
                    <a:pt x="313" y="48"/>
                  </a:lnTo>
                  <a:lnTo>
                    <a:pt x="263" y="68"/>
                  </a:lnTo>
                  <a:lnTo>
                    <a:pt x="217" y="92"/>
                  </a:lnTo>
                  <a:lnTo>
                    <a:pt x="174" y="118"/>
                  </a:lnTo>
                  <a:lnTo>
                    <a:pt x="137" y="146"/>
                  </a:lnTo>
                  <a:lnTo>
                    <a:pt x="101" y="178"/>
                  </a:lnTo>
                  <a:lnTo>
                    <a:pt x="71" y="212"/>
                  </a:lnTo>
                  <a:lnTo>
                    <a:pt x="46" y="246"/>
                  </a:lnTo>
                  <a:lnTo>
                    <a:pt x="26" y="284"/>
                  </a:lnTo>
                  <a:lnTo>
                    <a:pt x="12" y="322"/>
                  </a:lnTo>
                  <a:lnTo>
                    <a:pt x="3" y="362"/>
                  </a:lnTo>
                  <a:lnTo>
                    <a:pt x="0" y="404"/>
                  </a:lnTo>
                  <a:lnTo>
                    <a:pt x="1" y="432"/>
                  </a:lnTo>
                  <a:lnTo>
                    <a:pt x="7" y="462"/>
                  </a:lnTo>
                  <a:lnTo>
                    <a:pt x="14" y="490"/>
                  </a:lnTo>
                  <a:lnTo>
                    <a:pt x="25" y="518"/>
                  </a:lnTo>
                  <a:lnTo>
                    <a:pt x="25" y="518"/>
                  </a:lnTo>
                  <a:lnTo>
                    <a:pt x="41" y="486"/>
                  </a:lnTo>
                  <a:lnTo>
                    <a:pt x="60" y="456"/>
                  </a:lnTo>
                  <a:lnTo>
                    <a:pt x="83" y="428"/>
                  </a:lnTo>
                  <a:lnTo>
                    <a:pt x="108" y="402"/>
                  </a:lnTo>
                  <a:lnTo>
                    <a:pt x="137" y="376"/>
                  </a:lnTo>
                  <a:lnTo>
                    <a:pt x="169" y="352"/>
                  </a:lnTo>
                  <a:lnTo>
                    <a:pt x="202" y="330"/>
                  </a:lnTo>
                  <a:lnTo>
                    <a:pt x="240" y="310"/>
                  </a:lnTo>
                  <a:lnTo>
                    <a:pt x="279" y="292"/>
                  </a:lnTo>
                  <a:lnTo>
                    <a:pt x="320" y="276"/>
                  </a:lnTo>
                  <a:lnTo>
                    <a:pt x="362" y="262"/>
                  </a:lnTo>
                  <a:lnTo>
                    <a:pt x="407" y="252"/>
                  </a:lnTo>
                  <a:lnTo>
                    <a:pt x="453" y="242"/>
                  </a:lnTo>
                  <a:lnTo>
                    <a:pt x="499" y="236"/>
                  </a:lnTo>
                  <a:lnTo>
                    <a:pt x="547" y="232"/>
                  </a:lnTo>
                  <a:lnTo>
                    <a:pt x="597" y="230"/>
                  </a:lnTo>
                  <a:lnTo>
                    <a:pt x="597" y="0"/>
                  </a:lnTo>
                  <a:close/>
                </a:path>
              </a:pathLst>
            </a:custGeom>
            <a:solidFill>
              <a:srgbClr val="cdcdcd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73120" y="5105520"/>
              <a:ext cx="987480" cy="1514520"/>
            </a:xfrm>
            <a:custGeom>
              <a:avLst/>
              <a:gdLst/>
              <a:ahLst/>
              <a:rect l="l" t="t" r="r" b="b"/>
              <a:pathLst>
                <a:path w="622" h="1166">
                  <a:moveTo>
                    <a:pt x="548" y="2"/>
                  </a:moveTo>
                  <a:lnTo>
                    <a:pt x="487" y="8"/>
                  </a:lnTo>
                  <a:lnTo>
                    <a:pt x="430" y="18"/>
                  </a:lnTo>
                  <a:lnTo>
                    <a:pt x="425" y="20"/>
                  </a:lnTo>
                  <a:lnTo>
                    <a:pt x="372" y="32"/>
                  </a:lnTo>
                  <a:lnTo>
                    <a:pt x="318" y="50"/>
                  </a:lnTo>
                  <a:lnTo>
                    <a:pt x="268" y="70"/>
                  </a:lnTo>
                  <a:lnTo>
                    <a:pt x="224" y="94"/>
                  </a:lnTo>
                  <a:lnTo>
                    <a:pt x="181" y="120"/>
                  </a:lnTo>
                  <a:lnTo>
                    <a:pt x="142" y="148"/>
                  </a:lnTo>
                  <a:lnTo>
                    <a:pt x="139" y="150"/>
                  </a:lnTo>
                  <a:lnTo>
                    <a:pt x="105" y="180"/>
                  </a:lnTo>
                  <a:lnTo>
                    <a:pt x="75" y="214"/>
                  </a:lnTo>
                  <a:lnTo>
                    <a:pt x="50" y="250"/>
                  </a:lnTo>
                  <a:lnTo>
                    <a:pt x="30" y="286"/>
                  </a:lnTo>
                  <a:lnTo>
                    <a:pt x="14" y="326"/>
                  </a:lnTo>
                  <a:lnTo>
                    <a:pt x="12" y="334"/>
                  </a:lnTo>
                  <a:lnTo>
                    <a:pt x="4" y="374"/>
                  </a:lnTo>
                  <a:lnTo>
                    <a:pt x="0" y="416"/>
                  </a:lnTo>
                  <a:lnTo>
                    <a:pt x="0" y="646"/>
                  </a:lnTo>
                  <a:lnTo>
                    <a:pt x="2" y="678"/>
                  </a:lnTo>
                  <a:lnTo>
                    <a:pt x="7" y="708"/>
                  </a:lnTo>
                  <a:lnTo>
                    <a:pt x="16" y="740"/>
                  </a:lnTo>
                  <a:lnTo>
                    <a:pt x="20" y="748"/>
                  </a:lnTo>
                  <a:lnTo>
                    <a:pt x="32" y="778"/>
                  </a:lnTo>
                  <a:lnTo>
                    <a:pt x="46" y="806"/>
                  </a:lnTo>
                  <a:lnTo>
                    <a:pt x="66" y="834"/>
                  </a:lnTo>
                  <a:lnTo>
                    <a:pt x="87" y="862"/>
                  </a:lnTo>
                  <a:lnTo>
                    <a:pt x="112" y="888"/>
                  </a:lnTo>
                  <a:lnTo>
                    <a:pt x="140" y="912"/>
                  </a:lnTo>
                  <a:lnTo>
                    <a:pt x="171" y="934"/>
                  </a:lnTo>
                  <a:lnTo>
                    <a:pt x="174" y="936"/>
                  </a:lnTo>
                  <a:lnTo>
                    <a:pt x="206" y="958"/>
                  </a:lnTo>
                  <a:lnTo>
                    <a:pt x="242" y="978"/>
                  </a:lnTo>
                  <a:lnTo>
                    <a:pt x="279" y="996"/>
                  </a:lnTo>
                  <a:lnTo>
                    <a:pt x="318" y="1012"/>
                  </a:lnTo>
                  <a:lnTo>
                    <a:pt x="361" y="1026"/>
                  </a:lnTo>
                  <a:lnTo>
                    <a:pt x="407" y="1038"/>
                  </a:lnTo>
                  <a:lnTo>
                    <a:pt x="409" y="1026"/>
                  </a:lnTo>
                  <a:lnTo>
                    <a:pt x="398" y="1026"/>
                  </a:lnTo>
                  <a:lnTo>
                    <a:pt x="398" y="1140"/>
                  </a:lnTo>
                  <a:lnTo>
                    <a:pt x="398" y="1166"/>
                  </a:lnTo>
                  <a:lnTo>
                    <a:pt x="416" y="1150"/>
                  </a:lnTo>
                  <a:lnTo>
                    <a:pt x="615" y="944"/>
                  </a:lnTo>
                  <a:lnTo>
                    <a:pt x="622" y="934"/>
                  </a:lnTo>
                  <a:lnTo>
                    <a:pt x="615" y="926"/>
                  </a:lnTo>
                  <a:lnTo>
                    <a:pt x="416" y="672"/>
                  </a:lnTo>
                  <a:lnTo>
                    <a:pt x="398" y="648"/>
                  </a:lnTo>
                  <a:lnTo>
                    <a:pt x="398" y="680"/>
                  </a:lnTo>
                  <a:lnTo>
                    <a:pt x="398" y="796"/>
                  </a:lnTo>
                  <a:lnTo>
                    <a:pt x="409" y="796"/>
                  </a:lnTo>
                  <a:lnTo>
                    <a:pt x="411" y="784"/>
                  </a:lnTo>
                  <a:lnTo>
                    <a:pt x="348" y="766"/>
                  </a:lnTo>
                  <a:lnTo>
                    <a:pt x="286" y="742"/>
                  </a:lnTo>
                  <a:lnTo>
                    <a:pt x="231" y="714"/>
                  </a:lnTo>
                  <a:lnTo>
                    <a:pt x="180" y="682"/>
                  </a:lnTo>
                  <a:lnTo>
                    <a:pt x="176" y="694"/>
                  </a:lnTo>
                  <a:lnTo>
                    <a:pt x="183" y="684"/>
                  </a:lnTo>
                  <a:lnTo>
                    <a:pt x="139" y="648"/>
                  </a:lnTo>
                  <a:lnTo>
                    <a:pt x="100" y="608"/>
                  </a:lnTo>
                  <a:lnTo>
                    <a:pt x="84" y="588"/>
                  </a:lnTo>
                  <a:lnTo>
                    <a:pt x="68" y="566"/>
                  </a:lnTo>
                  <a:lnTo>
                    <a:pt x="55" y="544"/>
                  </a:lnTo>
                  <a:lnTo>
                    <a:pt x="44" y="524"/>
                  </a:lnTo>
                  <a:lnTo>
                    <a:pt x="36" y="530"/>
                  </a:lnTo>
                  <a:lnTo>
                    <a:pt x="44" y="536"/>
                  </a:lnTo>
                  <a:lnTo>
                    <a:pt x="59" y="508"/>
                  </a:lnTo>
                  <a:lnTo>
                    <a:pt x="78" y="478"/>
                  </a:lnTo>
                  <a:lnTo>
                    <a:pt x="101" y="450"/>
                  </a:lnTo>
                  <a:lnTo>
                    <a:pt x="128" y="422"/>
                  </a:lnTo>
                  <a:lnTo>
                    <a:pt x="156" y="396"/>
                  </a:lnTo>
                  <a:lnTo>
                    <a:pt x="188" y="374"/>
                  </a:lnTo>
                  <a:lnTo>
                    <a:pt x="180" y="364"/>
                  </a:lnTo>
                  <a:lnTo>
                    <a:pt x="185" y="376"/>
                  </a:lnTo>
                  <a:lnTo>
                    <a:pt x="219" y="354"/>
                  </a:lnTo>
                  <a:lnTo>
                    <a:pt x="254" y="334"/>
                  </a:lnTo>
                  <a:lnTo>
                    <a:pt x="293" y="316"/>
                  </a:lnTo>
                  <a:lnTo>
                    <a:pt x="334" y="300"/>
                  </a:lnTo>
                  <a:lnTo>
                    <a:pt x="377" y="286"/>
                  </a:lnTo>
                  <a:lnTo>
                    <a:pt x="421" y="274"/>
                  </a:lnTo>
                  <a:lnTo>
                    <a:pt x="418" y="264"/>
                  </a:lnTo>
                  <a:lnTo>
                    <a:pt x="418" y="276"/>
                  </a:lnTo>
                  <a:lnTo>
                    <a:pt x="464" y="266"/>
                  </a:lnTo>
                  <a:lnTo>
                    <a:pt x="510" y="260"/>
                  </a:lnTo>
                  <a:lnTo>
                    <a:pt x="558" y="256"/>
                  </a:lnTo>
                  <a:lnTo>
                    <a:pt x="608" y="254"/>
                  </a:lnTo>
                  <a:lnTo>
                    <a:pt x="619" y="254"/>
                  </a:lnTo>
                  <a:lnTo>
                    <a:pt x="619" y="242"/>
                  </a:lnTo>
                  <a:lnTo>
                    <a:pt x="619" y="12"/>
                  </a:lnTo>
                  <a:lnTo>
                    <a:pt x="619" y="0"/>
                  </a:lnTo>
                  <a:lnTo>
                    <a:pt x="608" y="0"/>
                  </a:lnTo>
                  <a:lnTo>
                    <a:pt x="548" y="2"/>
                  </a:lnTo>
                  <a:close/>
                  <a:moveTo>
                    <a:pt x="608" y="24"/>
                  </a:moveTo>
                  <a:lnTo>
                    <a:pt x="608" y="12"/>
                  </a:lnTo>
                  <a:lnTo>
                    <a:pt x="597" y="12"/>
                  </a:lnTo>
                  <a:lnTo>
                    <a:pt x="597" y="242"/>
                  </a:lnTo>
                  <a:lnTo>
                    <a:pt x="608" y="242"/>
                  </a:lnTo>
                  <a:lnTo>
                    <a:pt x="608" y="230"/>
                  </a:lnTo>
                  <a:lnTo>
                    <a:pt x="558" y="232"/>
                  </a:lnTo>
                  <a:lnTo>
                    <a:pt x="510" y="236"/>
                  </a:lnTo>
                  <a:lnTo>
                    <a:pt x="464" y="242"/>
                  </a:lnTo>
                  <a:lnTo>
                    <a:pt x="418" y="252"/>
                  </a:lnTo>
                  <a:lnTo>
                    <a:pt x="412" y="252"/>
                  </a:lnTo>
                  <a:lnTo>
                    <a:pt x="368" y="264"/>
                  </a:lnTo>
                  <a:lnTo>
                    <a:pt x="325" y="278"/>
                  </a:lnTo>
                  <a:lnTo>
                    <a:pt x="284" y="294"/>
                  </a:lnTo>
                  <a:lnTo>
                    <a:pt x="245" y="312"/>
                  </a:lnTo>
                  <a:lnTo>
                    <a:pt x="210" y="332"/>
                  </a:lnTo>
                  <a:lnTo>
                    <a:pt x="176" y="354"/>
                  </a:lnTo>
                  <a:lnTo>
                    <a:pt x="172" y="356"/>
                  </a:lnTo>
                  <a:lnTo>
                    <a:pt x="140" y="378"/>
                  </a:lnTo>
                  <a:lnTo>
                    <a:pt x="112" y="404"/>
                  </a:lnTo>
                  <a:lnTo>
                    <a:pt x="85" y="432"/>
                  </a:lnTo>
                  <a:lnTo>
                    <a:pt x="62" y="460"/>
                  </a:lnTo>
                  <a:lnTo>
                    <a:pt x="43" y="490"/>
                  </a:lnTo>
                  <a:lnTo>
                    <a:pt x="28" y="524"/>
                  </a:lnTo>
                  <a:lnTo>
                    <a:pt x="25" y="530"/>
                  </a:lnTo>
                  <a:lnTo>
                    <a:pt x="28" y="536"/>
                  </a:lnTo>
                  <a:lnTo>
                    <a:pt x="39" y="562"/>
                  </a:lnTo>
                  <a:lnTo>
                    <a:pt x="52" y="584"/>
                  </a:lnTo>
                  <a:lnTo>
                    <a:pt x="68" y="606"/>
                  </a:lnTo>
                  <a:lnTo>
                    <a:pt x="84" y="626"/>
                  </a:lnTo>
                  <a:lnTo>
                    <a:pt x="123" y="666"/>
                  </a:lnTo>
                  <a:lnTo>
                    <a:pt x="167" y="702"/>
                  </a:lnTo>
                  <a:lnTo>
                    <a:pt x="171" y="704"/>
                  </a:lnTo>
                  <a:lnTo>
                    <a:pt x="222" y="736"/>
                  </a:lnTo>
                  <a:lnTo>
                    <a:pt x="277" y="764"/>
                  </a:lnTo>
                  <a:lnTo>
                    <a:pt x="340" y="788"/>
                  </a:lnTo>
                  <a:lnTo>
                    <a:pt x="407" y="808"/>
                  </a:lnTo>
                  <a:lnTo>
                    <a:pt x="420" y="812"/>
                  </a:lnTo>
                  <a:lnTo>
                    <a:pt x="420" y="796"/>
                  </a:lnTo>
                  <a:lnTo>
                    <a:pt x="420" y="680"/>
                  </a:lnTo>
                  <a:lnTo>
                    <a:pt x="409" y="680"/>
                  </a:lnTo>
                  <a:lnTo>
                    <a:pt x="402" y="690"/>
                  </a:lnTo>
                  <a:lnTo>
                    <a:pt x="601" y="944"/>
                  </a:lnTo>
                  <a:lnTo>
                    <a:pt x="608" y="934"/>
                  </a:lnTo>
                  <a:lnTo>
                    <a:pt x="603" y="926"/>
                  </a:lnTo>
                  <a:lnTo>
                    <a:pt x="404" y="1132"/>
                  </a:lnTo>
                  <a:lnTo>
                    <a:pt x="409" y="1140"/>
                  </a:lnTo>
                  <a:lnTo>
                    <a:pt x="420" y="1140"/>
                  </a:lnTo>
                  <a:lnTo>
                    <a:pt x="420" y="1026"/>
                  </a:lnTo>
                  <a:lnTo>
                    <a:pt x="420" y="1016"/>
                  </a:lnTo>
                  <a:lnTo>
                    <a:pt x="411" y="1014"/>
                  </a:lnTo>
                  <a:lnTo>
                    <a:pt x="370" y="1004"/>
                  </a:lnTo>
                  <a:lnTo>
                    <a:pt x="327" y="990"/>
                  </a:lnTo>
                  <a:lnTo>
                    <a:pt x="288" y="974"/>
                  </a:lnTo>
                  <a:lnTo>
                    <a:pt x="251" y="956"/>
                  </a:lnTo>
                  <a:lnTo>
                    <a:pt x="215" y="936"/>
                  </a:lnTo>
                  <a:lnTo>
                    <a:pt x="183" y="914"/>
                  </a:lnTo>
                  <a:lnTo>
                    <a:pt x="178" y="926"/>
                  </a:lnTo>
                  <a:lnTo>
                    <a:pt x="187" y="916"/>
                  </a:lnTo>
                  <a:lnTo>
                    <a:pt x="156" y="894"/>
                  </a:lnTo>
                  <a:lnTo>
                    <a:pt x="128" y="870"/>
                  </a:lnTo>
                  <a:lnTo>
                    <a:pt x="103" y="844"/>
                  </a:lnTo>
                  <a:lnTo>
                    <a:pt x="82" y="816"/>
                  </a:lnTo>
                  <a:lnTo>
                    <a:pt x="62" y="788"/>
                  </a:lnTo>
                  <a:lnTo>
                    <a:pt x="48" y="760"/>
                  </a:lnTo>
                  <a:lnTo>
                    <a:pt x="36" y="730"/>
                  </a:lnTo>
                  <a:lnTo>
                    <a:pt x="27" y="740"/>
                  </a:lnTo>
                  <a:lnTo>
                    <a:pt x="37" y="740"/>
                  </a:lnTo>
                  <a:lnTo>
                    <a:pt x="28" y="708"/>
                  </a:lnTo>
                  <a:lnTo>
                    <a:pt x="23" y="678"/>
                  </a:lnTo>
                  <a:lnTo>
                    <a:pt x="21" y="646"/>
                  </a:lnTo>
                  <a:lnTo>
                    <a:pt x="21" y="416"/>
                  </a:lnTo>
                  <a:lnTo>
                    <a:pt x="25" y="374"/>
                  </a:lnTo>
                  <a:lnTo>
                    <a:pt x="34" y="334"/>
                  </a:lnTo>
                  <a:lnTo>
                    <a:pt x="23" y="334"/>
                  </a:lnTo>
                  <a:lnTo>
                    <a:pt x="30" y="344"/>
                  </a:lnTo>
                  <a:lnTo>
                    <a:pt x="46" y="304"/>
                  </a:lnTo>
                  <a:lnTo>
                    <a:pt x="66" y="268"/>
                  </a:lnTo>
                  <a:lnTo>
                    <a:pt x="91" y="232"/>
                  </a:lnTo>
                  <a:lnTo>
                    <a:pt x="121" y="198"/>
                  </a:lnTo>
                  <a:lnTo>
                    <a:pt x="155" y="168"/>
                  </a:lnTo>
                  <a:lnTo>
                    <a:pt x="148" y="158"/>
                  </a:lnTo>
                  <a:lnTo>
                    <a:pt x="151" y="170"/>
                  </a:lnTo>
                  <a:lnTo>
                    <a:pt x="190" y="142"/>
                  </a:lnTo>
                  <a:lnTo>
                    <a:pt x="233" y="116"/>
                  </a:lnTo>
                  <a:lnTo>
                    <a:pt x="277" y="92"/>
                  </a:lnTo>
                  <a:lnTo>
                    <a:pt x="327" y="72"/>
                  </a:lnTo>
                  <a:lnTo>
                    <a:pt x="380" y="54"/>
                  </a:lnTo>
                  <a:lnTo>
                    <a:pt x="434" y="42"/>
                  </a:lnTo>
                  <a:lnTo>
                    <a:pt x="430" y="30"/>
                  </a:lnTo>
                  <a:lnTo>
                    <a:pt x="430" y="42"/>
                  </a:lnTo>
                  <a:lnTo>
                    <a:pt x="487" y="32"/>
                  </a:lnTo>
                  <a:lnTo>
                    <a:pt x="548" y="26"/>
                  </a:lnTo>
                  <a:lnTo>
                    <a:pt x="608" y="2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73120" y="5645520"/>
              <a:ext cx="69840" cy="155520"/>
            </a:xfrm>
            <a:custGeom>
              <a:avLst/>
              <a:gdLst/>
              <a:ahLst/>
              <a:rect l="l" t="t" r="r" b="b"/>
              <a:pathLst>
                <a:path w="44" h="120">
                  <a:moveTo>
                    <a:pt x="21" y="0"/>
                  </a:moveTo>
                  <a:lnTo>
                    <a:pt x="0" y="0"/>
                  </a:lnTo>
                  <a:lnTo>
                    <a:pt x="2" y="28"/>
                  </a:lnTo>
                  <a:lnTo>
                    <a:pt x="7" y="58"/>
                  </a:lnTo>
                  <a:lnTo>
                    <a:pt x="14" y="86"/>
                  </a:lnTo>
                  <a:lnTo>
                    <a:pt x="18" y="96"/>
                  </a:lnTo>
                  <a:lnTo>
                    <a:pt x="28" y="120"/>
                  </a:lnTo>
                  <a:lnTo>
                    <a:pt x="44" y="108"/>
                  </a:lnTo>
                  <a:lnTo>
                    <a:pt x="34" y="78"/>
                  </a:lnTo>
                  <a:lnTo>
                    <a:pt x="25" y="86"/>
                  </a:lnTo>
                  <a:lnTo>
                    <a:pt x="36" y="86"/>
                  </a:lnTo>
                  <a:lnTo>
                    <a:pt x="28" y="58"/>
                  </a:lnTo>
                  <a:lnTo>
                    <a:pt x="23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6443640" y="4162320"/>
            <a:ext cx="457200" cy="498240"/>
            <a:chOff x="6443640" y="4162320"/>
            <a:chExt cx="457200" cy="498240"/>
          </a:xfrm>
        </p:grpSpPr>
        <p:sp>
          <p:nvSpPr>
            <p:cNvPr id="647" name=""/>
            <p:cNvSpPr/>
            <p:nvPr/>
          </p:nvSpPr>
          <p:spPr>
            <a:xfrm>
              <a:off x="6502320" y="4181400"/>
              <a:ext cx="338040" cy="457200"/>
            </a:xfrm>
            <a:custGeom>
              <a:avLst/>
              <a:gdLst/>
              <a:ahLst/>
              <a:rect l="l" t="t" r="r" b="b"/>
              <a:pathLst>
                <a:path w="213" h="288">
                  <a:moveTo>
                    <a:pt x="0" y="216"/>
                  </a:moveTo>
                  <a:lnTo>
                    <a:pt x="53" y="216"/>
                  </a:lnTo>
                  <a:lnTo>
                    <a:pt x="53" y="0"/>
                  </a:lnTo>
                  <a:lnTo>
                    <a:pt x="160" y="0"/>
                  </a:lnTo>
                  <a:lnTo>
                    <a:pt x="160" y="216"/>
                  </a:lnTo>
                  <a:lnTo>
                    <a:pt x="213" y="216"/>
                  </a:lnTo>
                  <a:lnTo>
                    <a:pt x="107" y="288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443640" y="4162320"/>
              <a:ext cx="457200" cy="498240"/>
            </a:xfrm>
            <a:custGeom>
              <a:avLst/>
              <a:gdLst/>
              <a:ahLst/>
              <a:rect l="l" t="t" r="r" b="b"/>
              <a:pathLst>
                <a:path w="288" h="314">
                  <a:moveTo>
                    <a:pt x="90" y="240"/>
                  </a:moveTo>
                  <a:lnTo>
                    <a:pt x="101" y="240"/>
                  </a:lnTo>
                  <a:lnTo>
                    <a:pt x="101" y="228"/>
                  </a:lnTo>
                  <a:lnTo>
                    <a:pt x="101" y="12"/>
                  </a:lnTo>
                  <a:lnTo>
                    <a:pt x="90" y="12"/>
                  </a:lnTo>
                  <a:lnTo>
                    <a:pt x="90" y="24"/>
                  </a:lnTo>
                  <a:lnTo>
                    <a:pt x="197" y="24"/>
                  </a:lnTo>
                  <a:lnTo>
                    <a:pt x="197" y="12"/>
                  </a:lnTo>
                  <a:lnTo>
                    <a:pt x="186" y="12"/>
                  </a:lnTo>
                  <a:lnTo>
                    <a:pt x="186" y="228"/>
                  </a:lnTo>
                  <a:lnTo>
                    <a:pt x="186" y="240"/>
                  </a:lnTo>
                  <a:lnTo>
                    <a:pt x="197" y="240"/>
                  </a:lnTo>
                  <a:lnTo>
                    <a:pt x="250" y="240"/>
                  </a:lnTo>
                  <a:lnTo>
                    <a:pt x="250" y="228"/>
                  </a:lnTo>
                  <a:lnTo>
                    <a:pt x="245" y="218"/>
                  </a:lnTo>
                  <a:lnTo>
                    <a:pt x="138" y="290"/>
                  </a:lnTo>
                  <a:lnTo>
                    <a:pt x="144" y="300"/>
                  </a:lnTo>
                  <a:lnTo>
                    <a:pt x="149" y="290"/>
                  </a:lnTo>
                  <a:lnTo>
                    <a:pt x="42" y="218"/>
                  </a:lnTo>
                  <a:lnTo>
                    <a:pt x="37" y="228"/>
                  </a:lnTo>
                  <a:lnTo>
                    <a:pt x="37" y="240"/>
                  </a:lnTo>
                  <a:lnTo>
                    <a:pt x="90" y="240"/>
                  </a:lnTo>
                  <a:close/>
                  <a:moveTo>
                    <a:pt x="37" y="216"/>
                  </a:moveTo>
                  <a:lnTo>
                    <a:pt x="0" y="216"/>
                  </a:lnTo>
                  <a:lnTo>
                    <a:pt x="32" y="238"/>
                  </a:lnTo>
                  <a:lnTo>
                    <a:pt x="138" y="310"/>
                  </a:lnTo>
                  <a:lnTo>
                    <a:pt x="144" y="314"/>
                  </a:lnTo>
                  <a:lnTo>
                    <a:pt x="149" y="310"/>
                  </a:lnTo>
                  <a:lnTo>
                    <a:pt x="256" y="238"/>
                  </a:lnTo>
                  <a:lnTo>
                    <a:pt x="288" y="216"/>
                  </a:lnTo>
                  <a:lnTo>
                    <a:pt x="250" y="216"/>
                  </a:lnTo>
                  <a:lnTo>
                    <a:pt x="197" y="216"/>
                  </a:lnTo>
                  <a:lnTo>
                    <a:pt x="197" y="228"/>
                  </a:lnTo>
                  <a:lnTo>
                    <a:pt x="208" y="228"/>
                  </a:lnTo>
                  <a:lnTo>
                    <a:pt x="208" y="12"/>
                  </a:lnTo>
                  <a:lnTo>
                    <a:pt x="208" y="0"/>
                  </a:lnTo>
                  <a:lnTo>
                    <a:pt x="197" y="0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80" y="12"/>
                  </a:lnTo>
                  <a:lnTo>
                    <a:pt x="80" y="228"/>
                  </a:lnTo>
                  <a:lnTo>
                    <a:pt x="90" y="228"/>
                  </a:lnTo>
                  <a:lnTo>
                    <a:pt x="90" y="216"/>
                  </a:lnTo>
                  <a:lnTo>
                    <a:pt x="37" y="216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629400" y="5105520"/>
            <a:ext cx="852480" cy="1600200"/>
            <a:chOff x="6629400" y="5105520"/>
            <a:chExt cx="852480" cy="1600200"/>
          </a:xfrm>
        </p:grpSpPr>
        <p:sp>
          <p:nvSpPr>
            <p:cNvPr id="650" name=""/>
            <p:cNvSpPr/>
            <p:nvPr/>
          </p:nvSpPr>
          <p:spPr>
            <a:xfrm>
              <a:off x="6651720" y="5121000"/>
              <a:ext cx="812520" cy="1542240"/>
            </a:xfrm>
            <a:custGeom>
              <a:avLst/>
              <a:gdLst/>
              <a:ahLst/>
              <a:rect l="l" t="t" r="r" b="b"/>
              <a:pathLst>
                <a:path w="512" h="1176">
                  <a:moveTo>
                    <a:pt x="0" y="0"/>
                  </a:moveTo>
                  <a:lnTo>
                    <a:pt x="52" y="2"/>
                  </a:lnTo>
                  <a:lnTo>
                    <a:pt x="103" y="8"/>
                  </a:lnTo>
                  <a:lnTo>
                    <a:pt x="153" y="18"/>
                  </a:lnTo>
                  <a:lnTo>
                    <a:pt x="199" y="34"/>
                  </a:lnTo>
                  <a:lnTo>
                    <a:pt x="244" y="50"/>
                  </a:lnTo>
                  <a:lnTo>
                    <a:pt x="286" y="72"/>
                  </a:lnTo>
                  <a:lnTo>
                    <a:pt x="325" y="96"/>
                  </a:lnTo>
                  <a:lnTo>
                    <a:pt x="363" y="124"/>
                  </a:lnTo>
                  <a:lnTo>
                    <a:pt x="395" y="152"/>
                  </a:lnTo>
                  <a:lnTo>
                    <a:pt x="425" y="186"/>
                  </a:lnTo>
                  <a:lnTo>
                    <a:pt x="450" y="220"/>
                  </a:lnTo>
                  <a:lnTo>
                    <a:pt x="471" y="256"/>
                  </a:lnTo>
                  <a:lnTo>
                    <a:pt x="489" y="296"/>
                  </a:lnTo>
                  <a:lnTo>
                    <a:pt x="501" y="336"/>
                  </a:lnTo>
                  <a:lnTo>
                    <a:pt x="510" y="378"/>
                  </a:lnTo>
                  <a:lnTo>
                    <a:pt x="512" y="420"/>
                  </a:lnTo>
                  <a:lnTo>
                    <a:pt x="512" y="660"/>
                  </a:lnTo>
                  <a:lnTo>
                    <a:pt x="510" y="694"/>
                  </a:lnTo>
                  <a:lnTo>
                    <a:pt x="505" y="726"/>
                  </a:lnTo>
                  <a:lnTo>
                    <a:pt x="498" y="758"/>
                  </a:lnTo>
                  <a:lnTo>
                    <a:pt x="487" y="788"/>
                  </a:lnTo>
                  <a:lnTo>
                    <a:pt x="475" y="818"/>
                  </a:lnTo>
                  <a:lnTo>
                    <a:pt x="459" y="848"/>
                  </a:lnTo>
                  <a:lnTo>
                    <a:pt x="439" y="876"/>
                  </a:lnTo>
                  <a:lnTo>
                    <a:pt x="418" y="902"/>
                  </a:lnTo>
                  <a:lnTo>
                    <a:pt x="395" y="928"/>
                  </a:lnTo>
                  <a:lnTo>
                    <a:pt x="368" y="952"/>
                  </a:lnTo>
                  <a:lnTo>
                    <a:pt x="341" y="974"/>
                  </a:lnTo>
                  <a:lnTo>
                    <a:pt x="311" y="994"/>
                  </a:lnTo>
                  <a:lnTo>
                    <a:pt x="277" y="1012"/>
                  </a:lnTo>
                  <a:lnTo>
                    <a:pt x="244" y="1030"/>
                  </a:lnTo>
                  <a:lnTo>
                    <a:pt x="208" y="1044"/>
                  </a:lnTo>
                  <a:lnTo>
                    <a:pt x="171" y="1056"/>
                  </a:lnTo>
                  <a:lnTo>
                    <a:pt x="171" y="1176"/>
                  </a:lnTo>
                  <a:lnTo>
                    <a:pt x="0" y="960"/>
                  </a:lnTo>
                  <a:lnTo>
                    <a:pt x="171" y="696"/>
                  </a:lnTo>
                  <a:lnTo>
                    <a:pt x="171" y="816"/>
                  </a:lnTo>
                  <a:lnTo>
                    <a:pt x="228" y="796"/>
                  </a:lnTo>
                  <a:lnTo>
                    <a:pt x="279" y="772"/>
                  </a:lnTo>
                  <a:lnTo>
                    <a:pt x="327" y="744"/>
                  </a:lnTo>
                  <a:lnTo>
                    <a:pt x="372" y="710"/>
                  </a:lnTo>
                  <a:lnTo>
                    <a:pt x="411" y="672"/>
                  </a:lnTo>
                  <a:lnTo>
                    <a:pt x="443" y="632"/>
                  </a:lnTo>
                  <a:lnTo>
                    <a:pt x="469" y="586"/>
                  </a:lnTo>
                  <a:lnTo>
                    <a:pt x="491" y="540"/>
                  </a:lnTo>
                  <a:lnTo>
                    <a:pt x="491" y="540"/>
                  </a:lnTo>
                  <a:lnTo>
                    <a:pt x="476" y="508"/>
                  </a:lnTo>
                  <a:lnTo>
                    <a:pt x="460" y="476"/>
                  </a:lnTo>
                  <a:lnTo>
                    <a:pt x="441" y="446"/>
                  </a:lnTo>
                  <a:lnTo>
                    <a:pt x="420" y="418"/>
                  </a:lnTo>
                  <a:lnTo>
                    <a:pt x="395" y="392"/>
                  </a:lnTo>
                  <a:lnTo>
                    <a:pt x="366" y="366"/>
                  </a:lnTo>
                  <a:lnTo>
                    <a:pt x="338" y="344"/>
                  </a:lnTo>
                  <a:lnTo>
                    <a:pt x="306" y="324"/>
                  </a:lnTo>
                  <a:lnTo>
                    <a:pt x="272" y="304"/>
                  </a:lnTo>
                  <a:lnTo>
                    <a:pt x="238" y="288"/>
                  </a:lnTo>
                  <a:lnTo>
                    <a:pt x="201" y="274"/>
                  </a:lnTo>
                  <a:lnTo>
                    <a:pt x="164" y="262"/>
                  </a:lnTo>
                  <a:lnTo>
                    <a:pt x="124" y="252"/>
                  </a:lnTo>
                  <a:lnTo>
                    <a:pt x="84" y="246"/>
                  </a:lnTo>
                  <a:lnTo>
                    <a:pt x="43" y="242"/>
                  </a:lnTo>
                  <a:lnTo>
                    <a:pt x="0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51720" y="5121000"/>
              <a:ext cx="812520" cy="865440"/>
            </a:xfrm>
            <a:custGeom>
              <a:avLst/>
              <a:gdLst/>
              <a:ahLst/>
              <a:rect l="l" t="t" r="r" b="b"/>
              <a:pathLst>
                <a:path w="512" h="660">
                  <a:moveTo>
                    <a:pt x="0" y="0"/>
                  </a:moveTo>
                  <a:lnTo>
                    <a:pt x="52" y="2"/>
                  </a:lnTo>
                  <a:lnTo>
                    <a:pt x="103" y="8"/>
                  </a:lnTo>
                  <a:lnTo>
                    <a:pt x="153" y="18"/>
                  </a:lnTo>
                  <a:lnTo>
                    <a:pt x="199" y="34"/>
                  </a:lnTo>
                  <a:lnTo>
                    <a:pt x="244" y="50"/>
                  </a:lnTo>
                  <a:lnTo>
                    <a:pt x="286" y="72"/>
                  </a:lnTo>
                  <a:lnTo>
                    <a:pt x="325" y="96"/>
                  </a:lnTo>
                  <a:lnTo>
                    <a:pt x="363" y="124"/>
                  </a:lnTo>
                  <a:lnTo>
                    <a:pt x="395" y="152"/>
                  </a:lnTo>
                  <a:lnTo>
                    <a:pt x="425" y="186"/>
                  </a:lnTo>
                  <a:lnTo>
                    <a:pt x="450" y="220"/>
                  </a:lnTo>
                  <a:lnTo>
                    <a:pt x="471" y="256"/>
                  </a:lnTo>
                  <a:lnTo>
                    <a:pt x="489" y="296"/>
                  </a:lnTo>
                  <a:lnTo>
                    <a:pt x="501" y="336"/>
                  </a:lnTo>
                  <a:lnTo>
                    <a:pt x="510" y="378"/>
                  </a:lnTo>
                  <a:lnTo>
                    <a:pt x="512" y="420"/>
                  </a:lnTo>
                  <a:lnTo>
                    <a:pt x="512" y="660"/>
                  </a:lnTo>
                  <a:lnTo>
                    <a:pt x="510" y="618"/>
                  </a:lnTo>
                  <a:lnTo>
                    <a:pt x="501" y="576"/>
                  </a:lnTo>
                  <a:lnTo>
                    <a:pt x="489" y="536"/>
                  </a:lnTo>
                  <a:lnTo>
                    <a:pt x="471" y="496"/>
                  </a:lnTo>
                  <a:lnTo>
                    <a:pt x="450" y="460"/>
                  </a:lnTo>
                  <a:lnTo>
                    <a:pt x="425" y="426"/>
                  </a:lnTo>
                  <a:lnTo>
                    <a:pt x="395" y="392"/>
                  </a:lnTo>
                  <a:lnTo>
                    <a:pt x="363" y="364"/>
                  </a:lnTo>
                  <a:lnTo>
                    <a:pt x="325" y="336"/>
                  </a:lnTo>
                  <a:lnTo>
                    <a:pt x="286" y="312"/>
                  </a:lnTo>
                  <a:lnTo>
                    <a:pt x="244" y="290"/>
                  </a:lnTo>
                  <a:lnTo>
                    <a:pt x="199" y="274"/>
                  </a:lnTo>
                  <a:lnTo>
                    <a:pt x="153" y="258"/>
                  </a:lnTo>
                  <a:lnTo>
                    <a:pt x="103" y="248"/>
                  </a:lnTo>
                  <a:lnTo>
                    <a:pt x="52" y="242"/>
                  </a:lnTo>
                  <a:lnTo>
                    <a:pt x="0" y="2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cdcd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629400" y="5105520"/>
              <a:ext cx="852480" cy="1600200"/>
            </a:xfrm>
            <a:custGeom>
              <a:avLst/>
              <a:gdLst/>
              <a:ahLst/>
              <a:rect l="l" t="t" r="r" b="b"/>
              <a:pathLst>
                <a:path w="537" h="1220">
                  <a:moveTo>
                    <a:pt x="66" y="26"/>
                  </a:moveTo>
                  <a:lnTo>
                    <a:pt x="117" y="32"/>
                  </a:lnTo>
                  <a:lnTo>
                    <a:pt x="167" y="42"/>
                  </a:lnTo>
                  <a:lnTo>
                    <a:pt x="167" y="30"/>
                  </a:lnTo>
                  <a:lnTo>
                    <a:pt x="162" y="42"/>
                  </a:lnTo>
                  <a:lnTo>
                    <a:pt x="210" y="56"/>
                  </a:lnTo>
                  <a:lnTo>
                    <a:pt x="254" y="74"/>
                  </a:lnTo>
                  <a:lnTo>
                    <a:pt x="297" y="94"/>
                  </a:lnTo>
                  <a:lnTo>
                    <a:pt x="336" y="118"/>
                  </a:lnTo>
                  <a:lnTo>
                    <a:pt x="371" y="146"/>
                  </a:lnTo>
                  <a:lnTo>
                    <a:pt x="377" y="136"/>
                  </a:lnTo>
                  <a:lnTo>
                    <a:pt x="368" y="144"/>
                  </a:lnTo>
                  <a:lnTo>
                    <a:pt x="402" y="174"/>
                  </a:lnTo>
                  <a:lnTo>
                    <a:pt x="430" y="206"/>
                  </a:lnTo>
                  <a:lnTo>
                    <a:pt x="457" y="240"/>
                  </a:lnTo>
                  <a:lnTo>
                    <a:pt x="478" y="278"/>
                  </a:lnTo>
                  <a:lnTo>
                    <a:pt x="496" y="316"/>
                  </a:lnTo>
                  <a:lnTo>
                    <a:pt x="503" y="308"/>
                  </a:lnTo>
                  <a:lnTo>
                    <a:pt x="492" y="308"/>
                  </a:lnTo>
                  <a:lnTo>
                    <a:pt x="505" y="348"/>
                  </a:lnTo>
                  <a:lnTo>
                    <a:pt x="514" y="390"/>
                  </a:lnTo>
                  <a:lnTo>
                    <a:pt x="515" y="432"/>
                  </a:lnTo>
                  <a:lnTo>
                    <a:pt x="515" y="672"/>
                  </a:lnTo>
                  <a:lnTo>
                    <a:pt x="514" y="706"/>
                  </a:lnTo>
                  <a:lnTo>
                    <a:pt x="508" y="738"/>
                  </a:lnTo>
                  <a:lnTo>
                    <a:pt x="501" y="770"/>
                  </a:lnTo>
                  <a:lnTo>
                    <a:pt x="490" y="800"/>
                  </a:lnTo>
                  <a:lnTo>
                    <a:pt x="501" y="800"/>
                  </a:lnTo>
                  <a:lnTo>
                    <a:pt x="494" y="792"/>
                  </a:lnTo>
                  <a:lnTo>
                    <a:pt x="480" y="822"/>
                  </a:lnTo>
                  <a:lnTo>
                    <a:pt x="464" y="850"/>
                  </a:lnTo>
                  <a:lnTo>
                    <a:pt x="446" y="878"/>
                  </a:lnTo>
                  <a:lnTo>
                    <a:pt x="425" y="906"/>
                  </a:lnTo>
                  <a:lnTo>
                    <a:pt x="400" y="930"/>
                  </a:lnTo>
                  <a:lnTo>
                    <a:pt x="375" y="954"/>
                  </a:lnTo>
                  <a:lnTo>
                    <a:pt x="346" y="976"/>
                  </a:lnTo>
                  <a:lnTo>
                    <a:pt x="355" y="986"/>
                  </a:lnTo>
                  <a:lnTo>
                    <a:pt x="350" y="974"/>
                  </a:lnTo>
                  <a:lnTo>
                    <a:pt x="320" y="994"/>
                  </a:lnTo>
                  <a:lnTo>
                    <a:pt x="288" y="1014"/>
                  </a:lnTo>
                  <a:lnTo>
                    <a:pt x="254" y="1030"/>
                  </a:lnTo>
                  <a:lnTo>
                    <a:pt x="218" y="1044"/>
                  </a:lnTo>
                  <a:lnTo>
                    <a:pt x="183" y="1058"/>
                  </a:lnTo>
                  <a:lnTo>
                    <a:pt x="174" y="1060"/>
                  </a:lnTo>
                  <a:lnTo>
                    <a:pt x="174" y="1068"/>
                  </a:lnTo>
                  <a:lnTo>
                    <a:pt x="174" y="1188"/>
                  </a:lnTo>
                  <a:lnTo>
                    <a:pt x="185" y="1188"/>
                  </a:lnTo>
                  <a:lnTo>
                    <a:pt x="192" y="1180"/>
                  </a:lnTo>
                  <a:lnTo>
                    <a:pt x="21" y="964"/>
                  </a:lnTo>
                  <a:lnTo>
                    <a:pt x="14" y="972"/>
                  </a:lnTo>
                  <a:lnTo>
                    <a:pt x="21" y="982"/>
                  </a:lnTo>
                  <a:lnTo>
                    <a:pt x="192" y="718"/>
                  </a:lnTo>
                  <a:lnTo>
                    <a:pt x="185" y="708"/>
                  </a:lnTo>
                  <a:lnTo>
                    <a:pt x="174" y="708"/>
                  </a:lnTo>
                  <a:lnTo>
                    <a:pt x="174" y="828"/>
                  </a:lnTo>
                  <a:lnTo>
                    <a:pt x="174" y="844"/>
                  </a:lnTo>
                  <a:lnTo>
                    <a:pt x="188" y="840"/>
                  </a:lnTo>
                  <a:lnTo>
                    <a:pt x="245" y="820"/>
                  </a:lnTo>
                  <a:lnTo>
                    <a:pt x="298" y="796"/>
                  </a:lnTo>
                  <a:lnTo>
                    <a:pt x="346" y="766"/>
                  </a:lnTo>
                  <a:lnTo>
                    <a:pt x="350" y="764"/>
                  </a:lnTo>
                  <a:lnTo>
                    <a:pt x="393" y="730"/>
                  </a:lnTo>
                  <a:lnTo>
                    <a:pt x="432" y="694"/>
                  </a:lnTo>
                  <a:lnTo>
                    <a:pt x="466" y="652"/>
                  </a:lnTo>
                  <a:lnTo>
                    <a:pt x="492" y="608"/>
                  </a:lnTo>
                  <a:lnTo>
                    <a:pt x="494" y="598"/>
                  </a:lnTo>
                  <a:lnTo>
                    <a:pt x="514" y="556"/>
                  </a:lnTo>
                  <a:lnTo>
                    <a:pt x="515" y="552"/>
                  </a:lnTo>
                  <a:lnTo>
                    <a:pt x="514" y="548"/>
                  </a:lnTo>
                  <a:lnTo>
                    <a:pt x="501" y="520"/>
                  </a:lnTo>
                  <a:lnTo>
                    <a:pt x="499" y="510"/>
                  </a:lnTo>
                  <a:lnTo>
                    <a:pt x="483" y="480"/>
                  </a:lnTo>
                  <a:lnTo>
                    <a:pt x="464" y="450"/>
                  </a:lnTo>
                  <a:lnTo>
                    <a:pt x="441" y="422"/>
                  </a:lnTo>
                  <a:lnTo>
                    <a:pt x="416" y="394"/>
                  </a:lnTo>
                  <a:lnTo>
                    <a:pt x="389" y="370"/>
                  </a:lnTo>
                  <a:lnTo>
                    <a:pt x="359" y="348"/>
                  </a:lnTo>
                  <a:lnTo>
                    <a:pt x="355" y="346"/>
                  </a:lnTo>
                  <a:lnTo>
                    <a:pt x="325" y="324"/>
                  </a:lnTo>
                  <a:lnTo>
                    <a:pt x="291" y="306"/>
                  </a:lnTo>
                  <a:lnTo>
                    <a:pt x="256" y="290"/>
                  </a:lnTo>
                  <a:lnTo>
                    <a:pt x="220" y="274"/>
                  </a:lnTo>
                  <a:lnTo>
                    <a:pt x="181" y="262"/>
                  </a:lnTo>
                  <a:lnTo>
                    <a:pt x="142" y="254"/>
                  </a:lnTo>
                  <a:lnTo>
                    <a:pt x="138" y="252"/>
                  </a:lnTo>
                  <a:lnTo>
                    <a:pt x="98" y="246"/>
                  </a:lnTo>
                  <a:lnTo>
                    <a:pt x="57" y="242"/>
                  </a:lnTo>
                  <a:lnTo>
                    <a:pt x="14" y="240"/>
                  </a:lnTo>
                  <a:lnTo>
                    <a:pt x="14" y="252"/>
                  </a:lnTo>
                  <a:lnTo>
                    <a:pt x="25" y="252"/>
                  </a:lnTo>
                  <a:lnTo>
                    <a:pt x="25" y="12"/>
                  </a:lnTo>
                  <a:lnTo>
                    <a:pt x="14" y="12"/>
                  </a:lnTo>
                  <a:lnTo>
                    <a:pt x="14" y="24"/>
                  </a:lnTo>
                  <a:lnTo>
                    <a:pt x="66" y="26"/>
                  </a:lnTo>
                  <a:close/>
                  <a:moveTo>
                    <a:pt x="14" y="0"/>
                  </a:moveTo>
                  <a:lnTo>
                    <a:pt x="3" y="0"/>
                  </a:lnTo>
                  <a:lnTo>
                    <a:pt x="3" y="12"/>
                  </a:lnTo>
                  <a:lnTo>
                    <a:pt x="3" y="252"/>
                  </a:lnTo>
                  <a:lnTo>
                    <a:pt x="3" y="264"/>
                  </a:lnTo>
                  <a:lnTo>
                    <a:pt x="14" y="264"/>
                  </a:lnTo>
                  <a:lnTo>
                    <a:pt x="57" y="266"/>
                  </a:lnTo>
                  <a:lnTo>
                    <a:pt x="98" y="270"/>
                  </a:lnTo>
                  <a:lnTo>
                    <a:pt x="138" y="276"/>
                  </a:lnTo>
                  <a:lnTo>
                    <a:pt x="138" y="264"/>
                  </a:lnTo>
                  <a:lnTo>
                    <a:pt x="133" y="276"/>
                  </a:lnTo>
                  <a:lnTo>
                    <a:pt x="172" y="284"/>
                  </a:lnTo>
                  <a:lnTo>
                    <a:pt x="211" y="296"/>
                  </a:lnTo>
                  <a:lnTo>
                    <a:pt x="247" y="312"/>
                  </a:lnTo>
                  <a:lnTo>
                    <a:pt x="282" y="328"/>
                  </a:lnTo>
                  <a:lnTo>
                    <a:pt x="316" y="346"/>
                  </a:lnTo>
                  <a:lnTo>
                    <a:pt x="346" y="368"/>
                  </a:lnTo>
                  <a:lnTo>
                    <a:pt x="352" y="356"/>
                  </a:lnTo>
                  <a:lnTo>
                    <a:pt x="343" y="366"/>
                  </a:lnTo>
                  <a:lnTo>
                    <a:pt x="373" y="388"/>
                  </a:lnTo>
                  <a:lnTo>
                    <a:pt x="400" y="412"/>
                  </a:lnTo>
                  <a:lnTo>
                    <a:pt x="425" y="440"/>
                  </a:lnTo>
                  <a:lnTo>
                    <a:pt x="448" y="468"/>
                  </a:lnTo>
                  <a:lnTo>
                    <a:pt x="467" y="498"/>
                  </a:lnTo>
                  <a:lnTo>
                    <a:pt x="483" y="528"/>
                  </a:lnTo>
                  <a:lnTo>
                    <a:pt x="490" y="520"/>
                  </a:lnTo>
                  <a:lnTo>
                    <a:pt x="480" y="520"/>
                  </a:lnTo>
                  <a:lnTo>
                    <a:pt x="496" y="556"/>
                  </a:lnTo>
                  <a:lnTo>
                    <a:pt x="505" y="552"/>
                  </a:lnTo>
                  <a:lnTo>
                    <a:pt x="496" y="548"/>
                  </a:lnTo>
                  <a:lnTo>
                    <a:pt x="473" y="598"/>
                  </a:lnTo>
                  <a:lnTo>
                    <a:pt x="483" y="598"/>
                  </a:lnTo>
                  <a:lnTo>
                    <a:pt x="476" y="590"/>
                  </a:lnTo>
                  <a:lnTo>
                    <a:pt x="450" y="634"/>
                  </a:lnTo>
                  <a:lnTo>
                    <a:pt x="416" y="676"/>
                  </a:lnTo>
                  <a:lnTo>
                    <a:pt x="377" y="712"/>
                  </a:lnTo>
                  <a:lnTo>
                    <a:pt x="334" y="746"/>
                  </a:lnTo>
                  <a:lnTo>
                    <a:pt x="341" y="756"/>
                  </a:lnTo>
                  <a:lnTo>
                    <a:pt x="338" y="744"/>
                  </a:lnTo>
                  <a:lnTo>
                    <a:pt x="290" y="774"/>
                  </a:lnTo>
                  <a:lnTo>
                    <a:pt x="236" y="798"/>
                  </a:lnTo>
                  <a:lnTo>
                    <a:pt x="183" y="818"/>
                  </a:lnTo>
                  <a:lnTo>
                    <a:pt x="185" y="828"/>
                  </a:lnTo>
                  <a:lnTo>
                    <a:pt x="195" y="828"/>
                  </a:lnTo>
                  <a:lnTo>
                    <a:pt x="195" y="708"/>
                  </a:lnTo>
                  <a:lnTo>
                    <a:pt x="195" y="672"/>
                  </a:lnTo>
                  <a:lnTo>
                    <a:pt x="178" y="700"/>
                  </a:lnTo>
                  <a:lnTo>
                    <a:pt x="7" y="964"/>
                  </a:lnTo>
                  <a:lnTo>
                    <a:pt x="0" y="974"/>
                  </a:lnTo>
                  <a:lnTo>
                    <a:pt x="7" y="982"/>
                  </a:lnTo>
                  <a:lnTo>
                    <a:pt x="178" y="1198"/>
                  </a:lnTo>
                  <a:lnTo>
                    <a:pt x="195" y="1220"/>
                  </a:lnTo>
                  <a:lnTo>
                    <a:pt x="195" y="1188"/>
                  </a:lnTo>
                  <a:lnTo>
                    <a:pt x="195" y="1068"/>
                  </a:lnTo>
                  <a:lnTo>
                    <a:pt x="185" y="1068"/>
                  </a:lnTo>
                  <a:lnTo>
                    <a:pt x="188" y="1080"/>
                  </a:lnTo>
                  <a:lnTo>
                    <a:pt x="227" y="1066"/>
                  </a:lnTo>
                  <a:lnTo>
                    <a:pt x="263" y="1052"/>
                  </a:lnTo>
                  <a:lnTo>
                    <a:pt x="297" y="1036"/>
                  </a:lnTo>
                  <a:lnTo>
                    <a:pt x="329" y="1016"/>
                  </a:lnTo>
                  <a:lnTo>
                    <a:pt x="359" y="996"/>
                  </a:lnTo>
                  <a:lnTo>
                    <a:pt x="362" y="994"/>
                  </a:lnTo>
                  <a:lnTo>
                    <a:pt x="391" y="972"/>
                  </a:lnTo>
                  <a:lnTo>
                    <a:pt x="416" y="948"/>
                  </a:lnTo>
                  <a:lnTo>
                    <a:pt x="441" y="924"/>
                  </a:lnTo>
                  <a:lnTo>
                    <a:pt x="462" y="896"/>
                  </a:lnTo>
                  <a:lnTo>
                    <a:pt x="480" y="868"/>
                  </a:lnTo>
                  <a:lnTo>
                    <a:pt x="496" y="840"/>
                  </a:lnTo>
                  <a:lnTo>
                    <a:pt x="510" y="810"/>
                  </a:lnTo>
                  <a:lnTo>
                    <a:pt x="512" y="800"/>
                  </a:lnTo>
                  <a:lnTo>
                    <a:pt x="512" y="800"/>
                  </a:lnTo>
                  <a:lnTo>
                    <a:pt x="522" y="770"/>
                  </a:lnTo>
                  <a:lnTo>
                    <a:pt x="530" y="738"/>
                  </a:lnTo>
                  <a:lnTo>
                    <a:pt x="535" y="706"/>
                  </a:lnTo>
                  <a:lnTo>
                    <a:pt x="537" y="672"/>
                  </a:lnTo>
                  <a:lnTo>
                    <a:pt x="537" y="432"/>
                  </a:lnTo>
                  <a:lnTo>
                    <a:pt x="535" y="390"/>
                  </a:lnTo>
                  <a:lnTo>
                    <a:pt x="526" y="348"/>
                  </a:lnTo>
                  <a:lnTo>
                    <a:pt x="514" y="308"/>
                  </a:lnTo>
                  <a:lnTo>
                    <a:pt x="512" y="298"/>
                  </a:lnTo>
                  <a:lnTo>
                    <a:pt x="494" y="260"/>
                  </a:lnTo>
                  <a:lnTo>
                    <a:pt x="473" y="222"/>
                  </a:lnTo>
                  <a:lnTo>
                    <a:pt x="446" y="188"/>
                  </a:lnTo>
                  <a:lnTo>
                    <a:pt x="418" y="156"/>
                  </a:lnTo>
                  <a:lnTo>
                    <a:pt x="384" y="126"/>
                  </a:lnTo>
                  <a:lnTo>
                    <a:pt x="380" y="124"/>
                  </a:lnTo>
                  <a:lnTo>
                    <a:pt x="345" y="96"/>
                  </a:lnTo>
                  <a:lnTo>
                    <a:pt x="306" y="72"/>
                  </a:lnTo>
                  <a:lnTo>
                    <a:pt x="263" y="52"/>
                  </a:lnTo>
                  <a:lnTo>
                    <a:pt x="218" y="34"/>
                  </a:lnTo>
                  <a:lnTo>
                    <a:pt x="170" y="20"/>
                  </a:lnTo>
                  <a:lnTo>
                    <a:pt x="167" y="18"/>
                  </a:lnTo>
                  <a:lnTo>
                    <a:pt x="117" y="8"/>
                  </a:lnTo>
                  <a:lnTo>
                    <a:pt x="66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416720" y="5824080"/>
              <a:ext cx="65160" cy="162360"/>
            </a:xfrm>
            <a:custGeom>
              <a:avLst/>
              <a:gdLst/>
              <a:ahLst/>
              <a:rect l="l" t="t" r="r" b="b"/>
              <a:pathLst>
                <a:path w="41" h="124">
                  <a:moveTo>
                    <a:pt x="19" y="124"/>
                  </a:moveTo>
                  <a:lnTo>
                    <a:pt x="41" y="124"/>
                  </a:lnTo>
                  <a:lnTo>
                    <a:pt x="39" y="94"/>
                  </a:lnTo>
                  <a:lnTo>
                    <a:pt x="35" y="64"/>
                  </a:lnTo>
                  <a:lnTo>
                    <a:pt x="28" y="34"/>
                  </a:lnTo>
                  <a:lnTo>
                    <a:pt x="26" y="24"/>
                  </a:lnTo>
                  <a:lnTo>
                    <a:pt x="18" y="0"/>
                  </a:lnTo>
                  <a:lnTo>
                    <a:pt x="0" y="10"/>
                  </a:lnTo>
                  <a:lnTo>
                    <a:pt x="10" y="42"/>
                  </a:lnTo>
                  <a:lnTo>
                    <a:pt x="18" y="34"/>
                  </a:lnTo>
                  <a:lnTo>
                    <a:pt x="7" y="34"/>
                  </a:lnTo>
                  <a:lnTo>
                    <a:pt x="14" y="64"/>
                  </a:lnTo>
                  <a:lnTo>
                    <a:pt x="18" y="94"/>
                  </a:lnTo>
                  <a:lnTo>
                    <a:pt x="19" y="124"/>
                  </a:lnTo>
                  <a:close/>
                </a:path>
              </a:pathLst>
            </a:custGeom>
            <a:solidFill>
              <a:srgbClr val="cc3300"/>
            </a:solid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2514600" y="5931000"/>
            <a:ext cx="4038480" cy="720720"/>
          </a:xfrm>
          <a:prstGeom prst="ellipse">
            <a:avLst/>
          </a:prstGeom>
          <a:solidFill>
            <a:srgbClr val="ffffff"/>
          </a:solidFill>
          <a:ln w="176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 Rounded MT Bold"/>
              </a:rPr>
              <a:t>PERFORMA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35040" y="2421000"/>
            <a:ext cx="3505320" cy="693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 Rounded MT Bold"/>
              </a:rPr>
              <a:t>HUMAN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648240"/>
            <a:ext cx="304812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3648240"/>
            <a:ext cx="434340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SITUATION/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4629240"/>
            <a:ext cx="4038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INTERNAL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648320" y="4638600"/>
            <a:ext cx="4038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EXTERNAL MO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662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5" dur="indefinite" restart="never" nodeType="tmRoot">
          <p:childTnLst>
            <p:seq>
              <p:cTn id="2086" dur="indefinite" nodeType="mainSeq">
                <p:childTnLst>
                  <p:par>
                    <p:cTn id="2087" fill="hold">
                      <p:stCondLst>
                        <p:cond delay="0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500"/>
                            </p:stCondLst>
                            <p:childTnLst>
                              <p:par>
                                <p:cTn id="20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1" fill="hold">
                            <p:stCondLst>
                              <p:cond delay="500"/>
                            </p:stCondLst>
                            <p:childTnLst>
                              <p:par>
                                <p:cTn id="21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2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3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258840" y="2743200"/>
            <a:ext cx="2941560" cy="99468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 Rounded MT Bold"/>
              </a:rPr>
              <a:t>LACK OF ALER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33720" y="3654360"/>
            <a:ext cx="2971800" cy="994680"/>
          </a:xfrm>
          <a:prstGeom prst="ellipse">
            <a:avLst/>
          </a:prstGeom>
          <a:solidFill>
            <a:srgbClr val="ff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OMMUNIC.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038480" y="4572000"/>
            <a:ext cx="2895840" cy="563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GOOD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943600" y="5486400"/>
            <a:ext cx="2819520" cy="994680"/>
          </a:xfrm>
          <a:prstGeom prst="ellipse">
            <a:avLst/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 Rounded MT Bold"/>
              </a:rPr>
              <a:t>CHECKING EQUIP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068720" y="2749680"/>
            <a:ext cx="2941560" cy="951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cc0099"/>
                </a:solidFill>
                <a:latin typeface="Arial Rounded MT Bold"/>
              </a:rPr>
              <a:t>YOUR MEMORY (NO THRUST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97520" y="3654360"/>
            <a:ext cx="2941560" cy="994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 Rounded MT Bold"/>
              </a:rPr>
              <a:t>STRESS, FATIGUE, ET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4572000"/>
            <a:ext cx="2971800" cy="994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</a:rPr>
              <a:t>STANDARD  PROCED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819520" y="5635800"/>
            <a:ext cx="2971800" cy="994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Rounded MT Bold"/>
              </a:rPr>
              <a:t>CHECK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21337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678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1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6156360" y="1406520"/>
            <a:ext cx="2736720" cy="937800"/>
            <a:chOff x="6156360" y="1406520"/>
            <a:chExt cx="2736720" cy="937800"/>
          </a:xfrm>
        </p:grpSpPr>
        <p:sp>
          <p:nvSpPr>
            <p:cNvPr id="683" name=""/>
            <p:cNvSpPr/>
            <p:nvPr/>
          </p:nvSpPr>
          <p:spPr>
            <a:xfrm>
              <a:off x="7112160" y="1406520"/>
              <a:ext cx="1780920" cy="937800"/>
            </a:xfrm>
            <a:prstGeom prst="bevel">
              <a:avLst>
                <a:gd name="adj" fmla="val 12500"/>
              </a:avLst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 Rounded MT Bold"/>
                </a:rPr>
                <a:t>HUMAN FAC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156360" y="1916280"/>
              <a:ext cx="9349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8629200" y="6284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9" dur="indefinite" restart="never" nodeType="tmRoot">
          <p:childTnLst>
            <p:seq>
              <p:cTn id="2140" dur="indefinite" nodeType="mainSeq">
                <p:childTnLst>
                  <p:par>
                    <p:cTn id="2141" fill="hold">
                      <p:stCondLst>
                        <p:cond delay="0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4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6" fill="hold">
                            <p:stCondLst>
                              <p:cond delay="500"/>
                            </p:stCondLst>
                            <p:childTnLst>
                              <p:par>
                                <p:cTn id="2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500"/>
                            </p:stCondLst>
                            <p:childTnLst>
                              <p:par>
                                <p:cTn id="21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0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7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8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3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4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455760" y="2666880"/>
            <a:ext cx="1780920" cy="937800"/>
          </a:xfrm>
          <a:prstGeom prst="bevel">
            <a:avLst>
              <a:gd name="adj" fmla="val 12500"/>
            </a:avLst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4560" y="3124080"/>
            <a:ext cx="838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22640" y="2768760"/>
            <a:ext cx="2058840" cy="703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EDUCATION &amp;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18120" y="2590920"/>
            <a:ext cx="2745000" cy="1008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OMMUNICATION PROCESS OF KNOWLED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180040" y="3124080"/>
            <a:ext cx="8380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71760" y="4898880"/>
            <a:ext cx="2743200" cy="7038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OMMUNIC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314360" y="4038480"/>
            <a:ext cx="303552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CURRICUL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353200" y="4038480"/>
            <a:ext cx="249552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INST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32080" y="5991120"/>
            <a:ext cx="3035520" cy="5637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914560" y="4648320"/>
            <a:ext cx="457200" cy="3045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6114960" y="4647960"/>
            <a:ext cx="457200" cy="2286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743360" y="5638680"/>
            <a:ext cx="0" cy="3049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0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629200" y="628488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2" dur="indefinite" restart="never" nodeType="tmRoot">
          <p:childTnLst>
            <p:seq>
              <p:cTn id="2223" dur="indefinite" nodeType="mainSeq">
                <p:childTnLst>
                  <p:par>
                    <p:cTn id="2224" fill="hold">
                      <p:stCondLst>
                        <p:cond delay="0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8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2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3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4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3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5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6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0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5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6705720" y="3886200"/>
            <a:ext cx="2209680" cy="1008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APPLICATION OF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8600" y="4060800"/>
            <a:ext cx="2057400" cy="703800"/>
          </a:xfrm>
          <a:prstGeom prst="rect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OURCE OF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90920" y="3908520"/>
            <a:ext cx="2209680" cy="10087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 Rounded MT Bold"/>
              </a:rPr>
              <a:t>SELECTED KNOWLEDGE (CURRICUL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38480" y="5181480"/>
            <a:ext cx="2743200" cy="9946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NVIRON. EDUC./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038480" y="2743200"/>
            <a:ext cx="2743200" cy="994680"/>
          </a:xfrm>
          <a:prstGeom prst="ellipse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 Rounded MT Bold"/>
              </a:rPr>
              <a:t>INSTRUCTOR (QUALIFI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505320" y="3429000"/>
            <a:ext cx="685800" cy="4572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505320" y="4952880"/>
            <a:ext cx="761760" cy="4572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286000" y="4419720"/>
            <a:ext cx="3049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6172200" y="4952520"/>
            <a:ext cx="533520" cy="3049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172200" y="3657600"/>
            <a:ext cx="533520" cy="22860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05120" y="640080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Rounded MT Bold"/>
              </a:rPr>
              <a:t>KNOWLEDGE COMMUNIC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18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>
            <a:off x="228600" y="1628640"/>
            <a:ext cx="6072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6" dur="indefinite" restart="never" nodeType="tmRoot">
          <p:childTnLst>
            <p:seq>
              <p:cTn id="2307" dur="indefinite" nodeType="mainSeq">
                <p:childTnLst>
                  <p:par>
                    <p:cTn id="2308" fill="hold">
                      <p:stCondLst>
                        <p:cond delay="0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3" fill="hold">
                            <p:stCondLst>
                              <p:cond delay="500"/>
                            </p:stCondLst>
                            <p:childTnLst>
                              <p:par>
                                <p:cTn id="2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8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5500"/>
                            </p:stCondLst>
                            <p:childTnLst>
                              <p:par>
                                <p:cTn id="239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304920" y="2844720"/>
            <a:ext cx="446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IS CULTURAL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04920" y="3527280"/>
            <a:ext cx="5562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PARTNERS: ADM, OPER,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4213080"/>
            <a:ext cx="701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OURCES OF HUMAN FACTORS: HUM, MACH, ENV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4898880"/>
            <a:ext cx="6095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“</a:t>
            </a: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HARDWARE”, “HUMANWARE”, “SOFTWAR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920" y="5584680"/>
            <a:ext cx="7543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800000"/>
                </a:solidFill>
                <a:latin typeface="Arial Rounded MT Bold"/>
              </a:rPr>
              <a:t>HUMAN ORGANIZATIONS vs PRODUCTIVITY, 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30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"/>
          <p:cNvSpPr/>
          <p:nvPr/>
        </p:nvSpPr>
        <p:spPr>
          <a:xfrm>
            <a:off x="228600" y="1844640"/>
            <a:ext cx="3672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0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00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500"/>
                            </p:stCondLst>
                            <p:childTnLst>
                              <p:par>
                                <p:cTn id="24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304920" y="2637000"/>
            <a:ext cx="4460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IMPROVEMENT HUMAN ORGAN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04920" y="3319560"/>
            <a:ext cx="6705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MPANIES/AGENCIES, TO ATTEND THE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5354640"/>
            <a:ext cx="6476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SATISFACTION, MOTIVATION, HUMAN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3983040"/>
            <a:ext cx="6095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POLITICS, HIGH ADM COMMIT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4668840"/>
            <a:ext cx="8076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QUALITY ASSURANCE, ALL IS IN ACCORDANCE AS PLAN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986440"/>
            <a:ext cx="716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EDUCATION &amp; TRAINING, COMMUNICA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43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228600" y="1844640"/>
            <a:ext cx="3672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5" dur="indefinite" restart="never" nodeType="tmRoot">
          <p:childTnLst>
            <p:seq>
              <p:cTn id="2446" dur="indefinite" nodeType="mainSeq">
                <p:childTnLst>
                  <p:par>
                    <p:cTn id="2447" fill="hold">
                      <p:stCondLst>
                        <p:cond delay="0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2" fill="hold">
                            <p:stCondLst>
                              <p:cond delay="500"/>
                            </p:stCondLst>
                            <p:childTnLst>
                              <p:par>
                                <p:cTn id="2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5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6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3303720" cy="28000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3303360" cy="6285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685800" y="3809880"/>
            <a:ext cx="6332400" cy="38916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4" dur="indefinite" restart="never" nodeType="tmRoot">
          <p:childTnLst>
            <p:seq>
              <p:cTn id="2505" dur="indefinite" nodeType="mainSeq">
                <p:childTnLst>
                  <p:par>
                    <p:cTn id="2506" fill="hold">
                      <p:stCondLst>
                        <p:cond delay="0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200400" y="6172200"/>
            <a:ext cx="2438280" cy="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6010200"/>
            <a:ext cx="28195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 Rounded MT Bold"/>
              </a:rPr>
              <a:t>Boss mu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5915160"/>
            <a:ext cx="3352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Observe 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1413000"/>
            <a:ext cx="2743200" cy="11912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Stress the quality of his/her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0080" y="3013200"/>
            <a:ext cx="4113000" cy="222300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 Rounded MT Bold"/>
              </a:rPr>
              <a:t>MOTIVAT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00400" y="152280"/>
            <a:ext cx="2743200" cy="8254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PROFESSIONAL 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43440" y="5410080"/>
            <a:ext cx="1390680" cy="1371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4495680" y="5181120"/>
            <a:ext cx="0" cy="304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4495680" y="2590920"/>
            <a:ext cx="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990720"/>
            <a:ext cx="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29200" y="6356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0" y="175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2857680" cy="330372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1600200" y="4267080"/>
            <a:ext cx="5954760" cy="34308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2" dur="indefinite" restart="never" nodeType="tmRoot">
          <p:childTnLst>
            <p:seq>
              <p:cTn id="2513" dur="indefinite" nodeType="mainSeq">
                <p:childTnLst>
                  <p:par>
                    <p:cTn id="2514" fill="hold">
                      <p:stCondLst>
                        <p:cond delay="0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9" dur="5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2819520" y="762120"/>
            <a:ext cx="3349440" cy="226368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6183360" cy="38916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0" dur="indefinite" restart="never" nodeType="tmRoot">
          <p:childTnLst>
            <p:seq>
              <p:cTn id="2521" dur="indefinite" nodeType="mainSeq">
                <p:childTnLst>
                  <p:par>
                    <p:cTn id="2522" fill="hold">
                      <p:stCondLst>
                        <p:cond delay="0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6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7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3965400" cy="297180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2"/>
          <a:stretch/>
        </p:blipFill>
        <p:spPr>
          <a:xfrm>
            <a:off x="1447920" y="4572000"/>
            <a:ext cx="6092640" cy="343080"/>
          </a:xfrm>
          <a:prstGeom prst="rect">
            <a:avLst/>
          </a:prstGeom>
          <a:ln w="0">
            <a:noFill/>
          </a:ln>
        </p:spPr>
      </p:pic>
      <p:sp>
        <p:nvSpPr>
          <p:cNvPr id="76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8" dur="indefinite" restart="never" nodeType="tmRoot">
          <p:childTnLst>
            <p:seq>
              <p:cTn id="2529" dur="indefinite" nodeType="mainSeq">
                <p:childTnLst>
                  <p:par>
                    <p:cTn id="2530" fill="hold">
                      <p:stCondLst>
                        <p:cond delay="0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165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tretch/>
        </p:blipFill>
        <p:spPr>
          <a:xfrm>
            <a:off x="1600200" y="838080"/>
            <a:ext cx="6000840" cy="349740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4068720" cy="137160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fill="hold">
                      <p:stCondLst>
                        <p:cond delay="0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762120" y="1828800"/>
            <a:ext cx="7619760" cy="3276720"/>
          </a:xfrm>
          <a:prstGeom prst="cloudCallout">
            <a:avLst>
              <a:gd name="adj1" fmla="val -25935"/>
              <a:gd name="adj2" fmla="val -34643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Black"/>
              </a:rPr>
              <a:t>THE DIFFICULTY IS NOT TO CREATE NEW IDEAS BUT HOW TO GET RID OF THE OLD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819520" y="5181480"/>
            <a:ext cx="3429000" cy="990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MAYNARD KEY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Rounded MT Bold"/>
              </a:rPr>
              <a:t>(ECONOM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777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4" dur="indefinite" restart="never" nodeType="tmRoot">
          <p:childTnLst>
            <p:seq>
              <p:cTn id="2545" dur="indefinite" nodeType="mainSeq">
                <p:childTnLst>
                  <p:par>
                    <p:cTn id="2546" fill="hold">
                      <p:stCondLst>
                        <p:cond delay="0"/>
                      </p:stCondLst>
                      <p:childTnLst>
                        <p:par>
                          <p:cTn id="2547" fill="hold">
                            <p:stCondLst>
                              <p:cond delay="0"/>
                            </p:stCondLst>
                            <p:childTnLst>
                              <p:par>
                                <p:cTn id="254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53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0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2209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Bookman Old Style"/>
              </a:rPr>
              <a:t>“</a:t>
            </a:r>
            <a:r>
              <a:rPr b="1" lang="en-US" sz="3600" spc="-1" strike="noStrike">
                <a:solidFill>
                  <a:srgbClr val="800000"/>
                </a:solidFill>
                <a:latin typeface="Bookman Old Style"/>
              </a:rPr>
              <a:t>QUALITY CONCEPTS/HUMAN FACTORS APPLIED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Bookman Old Style"/>
              </a:rPr>
              <a:t>SMS IN AIRPORTS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495680"/>
            <a:ext cx="586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66"/>
                </a:solidFill>
                <a:latin typeface="Arial Rounded MT Bold"/>
              </a:rPr>
              <a:t>Dr. S.H. Cardoso,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66"/>
                </a:solidFill>
                <a:latin typeface="Arial Rounded MT Bold"/>
              </a:rPr>
              <a:t>AGA REGIONAL OFFICER – ICAO/L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5943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66"/>
                </a:solidFill>
                <a:latin typeface="Arial Rounded MT Bold"/>
              </a:rPr>
              <a:t>Mexico, 16 March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Bookman Old Style"/>
              </a:rPr>
              <a:t>ICAO/ASPA REGIONAL SEMINAR ON SAFETY MANAGEMENT SYSTEMS (S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1844640"/>
            <a:ext cx="35701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789360"/>
            <a:ext cx="815976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QUALITY CONCEPTS/QUALITY AS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816440"/>
            <a:ext cx="673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MANAGING HUMA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2835360"/>
            <a:ext cx="49975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HUMAN ORGANIZATIONS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807160"/>
            <a:ext cx="367200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95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84464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6600" y="5564160"/>
            <a:ext cx="2823840" cy="576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Rounded MT Bold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6440" y="5338800"/>
            <a:ext cx="2665440" cy="104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 Rounded MT Bold"/>
              </a:rPr>
              <a:t>HUMAN FA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62520" y="5334120"/>
          <a:ext cx="1322280" cy="14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5334120"/>
                    <a:ext cx="132228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429000" y="5715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571500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2514600"/>
            <a:ext cx="8686800" cy="2209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3689280"/>
            <a:ext cx="3089160" cy="563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BUSI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3486240"/>
            <a:ext cx="2971800" cy="994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 Rounded MT Bold"/>
              </a:rPr>
              <a:t>COMMERCIAL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47840" y="2670120"/>
            <a:ext cx="2719440" cy="64980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800000"/>
                </a:solidFill>
                <a:latin typeface="Arial Rounded MT Bold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4648320"/>
            <a:ext cx="533520" cy="685800"/>
          </a:xfrm>
          <a:prstGeom prst="upArrow">
            <a:avLst>
              <a:gd name="adj1" fmla="val 50000"/>
              <a:gd name="adj2" fmla="val 321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634000">
            <a:off x="5719320" y="3186000"/>
            <a:ext cx="838440" cy="304920"/>
          </a:xfrm>
          <a:prstGeom prst="leftRightArrow">
            <a:avLst>
              <a:gd name="adj1" fmla="val 50000"/>
              <a:gd name="adj2" fmla="val 54739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7979400">
            <a:off x="2476080" y="3238200"/>
            <a:ext cx="838080" cy="304920"/>
          </a:xfrm>
          <a:prstGeom prst="leftRightArrow">
            <a:avLst>
              <a:gd name="adj1" fmla="val 50000"/>
              <a:gd name="adj2" fmla="val 54716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809880"/>
            <a:ext cx="2590560" cy="304920"/>
          </a:xfrm>
          <a:prstGeom prst="leftRightArrow">
            <a:avLst>
              <a:gd name="adj1" fmla="val 50000"/>
              <a:gd name="adj2" fmla="val 169131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16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79520" y="2901960"/>
            <a:ext cx="4453200" cy="110052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QUALITY IS CULTURAL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57640" y="4694400"/>
            <a:ext cx="3144960" cy="11667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IT NEEDS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1800" y="4697280"/>
            <a:ext cx="3868920" cy="11667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 Rounded MT Bold"/>
              </a:rPr>
              <a:t>IT NEEDS TIME (5 TO 10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514240" y="4038480"/>
            <a:ext cx="205740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038480"/>
            <a:ext cx="2133720" cy="685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920" y="30240"/>
            <a:ext cx="9072720" cy="6796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50920" y="115920"/>
            <a:ext cx="8642160" cy="1152360"/>
            <a:chOff x="250920" y="115920"/>
            <a:chExt cx="8642160" cy="1152360"/>
          </a:xfrm>
        </p:grpSpPr>
        <p:sp>
          <p:nvSpPr>
            <p:cNvPr id="127" name=""/>
            <p:cNvSpPr/>
            <p:nvPr/>
          </p:nvSpPr>
          <p:spPr>
            <a:xfrm>
              <a:off x="684360" y="1197000"/>
              <a:ext cx="4464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71640" y="1268280"/>
              <a:ext cx="45370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0920" y="115920"/>
              <a:ext cx="864216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3100" spc="-1" strike="noStrike">
                  <a:solidFill>
                    <a:srgbClr val="800000"/>
                  </a:solidFill>
                  <a:latin typeface="Bookman Old Style"/>
                </a:rPr>
                <a:t>QUALITY CONCEPTS/HUMAN FACTORS APPLIED TO SMS IN AIRPORTS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28600" y="1981080"/>
            <a:ext cx="34066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r>
              <a:rPr b="1" lang="es-PE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s-PE" sz="2400" spc="-1" strike="noStrike">
                <a:solidFill>
                  <a:srgbClr val="000066"/>
                </a:solidFill>
                <a:latin typeface="Arial Rounded MT Bold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629200" y="62485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Wingdings"/>
                <a:ea typeface="Wing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8:34:08Z</dcterms:created>
  <dc:creator>SAM Office</dc:creator>
  <dc:description/>
  <dc:language>en-US</dc:language>
  <cp:lastModifiedBy>Claudia López Pérez</cp:lastModifiedBy>
  <dcterms:modified xsi:type="dcterms:W3CDTF">2006-03-27T14:01:50Z</dcterms:modified>
  <cp:revision>81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1100.00000000</vt:lpwstr>
  </property>
  <property fmtid="{D5CDD505-2E9C-101B-9397-08002B2CF9AE}" pid="5" name="Year">
    <vt:lpwstr>2006</vt:lpwstr>
  </property>
</Properties>
</file>