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8D1F-83EF-4B03-9750-54A84DA6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5FA-5A2A-42AC-B6AE-6776806F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588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6E4-75E8-427D-A664-9728BDF6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06F-4366-4C84-B83F-510CB3A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1ED-A64A-4C44-8342-763070AE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5D4-09CF-4451-AD3A-C873CF76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0004-4B44-4FB5-AD05-55AFBC8D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A70-1C3D-4A49-9180-04CE7E5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5CB-6EB6-48C8-92A4-61B0872C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2A2-EE8A-4227-B902-2A7C748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B4E0-E536-4569-A1AF-051DDA4A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CC05-3928-49C4-AB4C-716CE435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156-B13B-45B3-834E-7AE91F3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ECB-04CF-4C66-9550-9D503FE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D7FB-3074-49C2-B56D-37E5852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726-E379-4A5C-8914-59D6949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A3BF-CBE8-40BC-801B-ABE70AF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C71C-FA1D-47CE-9AF7-9434F1B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0B9-EF88-4E5D-9885-0F114B7C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994-4211-45A2-B167-F3BD1A25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F4D-E197-4086-B72E-95127EB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579-A68C-4AC2-A9FA-2A511C7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C6D-1885-4C1C-832D-73413BF9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78B-99C2-434B-8770-70C3727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5DA-8EAD-4DB9-A025-AC19C97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5ED-FCF0-4741-BAA2-41845C1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BF1E-2DF1-470F-803E-91A215B63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5535-7A74-4418-988C-03DD42D5B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theodora.com/maps/new/guatemala_maps.html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1152360" cy="636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39640" y="5734080"/>
            <a:ext cx="111132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rcRect l="0" t="3499" r="0" b="6998"/>
          <a:stretch/>
        </p:blipFill>
        <p:spPr>
          <a:xfrm>
            <a:off x="534960" y="1557360"/>
            <a:ext cx="1012680" cy="60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39640" y="263700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539640" y="472428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5084640"/>
            <a:ext cx="3310200" cy="100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3564000" y="0"/>
            <a:ext cx="357192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VALUACIÓN DE ESCUE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STITUCIONES DE ENSEÑANZA DEL INGLES EN DONDE SE DESARROLLARÁN LOS PROGRAMAS DE CAPACITAC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uzzle1"/>
          <p:cNvSpPr/>
          <p:nvPr/>
        </p:nvSpPr>
        <p:spPr>
          <a:xfrm>
            <a:off x="6156360" y="1989000"/>
            <a:ext cx="2424240" cy="14493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0661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LABORACION Y PRESENTACION DE INFOR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FORMES PARA LAS AUTORIDADES DE AERONAUTICA CIVIL Y LOS OPERADO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035000" cy="1297080"/>
          </a:xfrm>
          <a:prstGeom prst="rect">
            <a:avLst/>
          </a:prstGeom>
          <a:ln w="0">
            <a:noFill/>
          </a:ln>
        </p:spPr>
      </p:pic>
      <p:sp>
        <p:nvSpPr>
          <p:cNvPr id="139" name="Puzzle1"/>
          <p:cNvSpPr/>
          <p:nvPr/>
        </p:nvSpPr>
        <p:spPr>
          <a:xfrm>
            <a:off x="6732720" y="1547640"/>
            <a:ext cx="2423880" cy="14497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8850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2707920"/>
            <a:ext cx="8642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APACITAC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N INSTITUCIONES DE ENSEÑANZA QUE HAN SIDO PREVIAMENTE SELECCIONADAS SE DESARROLLARAN PROGRAMAS DE ENTRENAMIENTO O MEJORA DEL IDIOMA INGLES, HACIENDO ENFASIS EN LOS ASPECTOS DE FRASEOLOGIA E INGLES SIMP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43" name="Puzzle3"/>
          <p:cNvSpPr/>
          <p:nvPr/>
        </p:nvSpPr>
        <p:spPr>
          <a:xfrm>
            <a:off x="7012080" y="1390680"/>
            <a:ext cx="1376280" cy="1751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uzzle1"/>
          <p:cNvSpPr/>
          <p:nvPr/>
        </p:nvSpPr>
        <p:spPr>
          <a:xfrm>
            <a:off x="5291280" y="1916280"/>
            <a:ext cx="2274840" cy="1214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5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59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24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PROGRESO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uzzle3"/>
          <p:cNvSpPr/>
          <p:nvPr/>
        </p:nvSpPr>
        <p:spPr>
          <a:xfrm>
            <a:off x="7684920" y="1557360"/>
            <a:ext cx="1279800" cy="1800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uzzle1"/>
          <p:cNvSpPr/>
          <p:nvPr/>
        </p:nvSpPr>
        <p:spPr>
          <a:xfrm>
            <a:off x="6084720" y="2097000"/>
            <a:ext cx="2114640" cy="12495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4360" y="3703680"/>
            <a:ext cx="7848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5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5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667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86425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ONTROL DE CALIDAD 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LOS PROGRAMAS DE CAPACIT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SE IMPLEMENTARA UN SISTEMA DE CONTROL DE CALIDAD EN LOS PROGRAMAS DE CAPACITACIÓN CON AUDITORIAS PERIÓDICAS A LAS INSTITUCIONES DE ENSEÑANZA QUE HAYAN IMPLEMENTADO NUESTRO PROGRA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109000" y="0"/>
            <a:ext cx="1035000" cy="1297080"/>
          </a:xfrm>
          <a:prstGeom prst="rect">
            <a:avLst/>
          </a:prstGeom>
          <a:ln w="0">
            <a:noFill/>
          </a:ln>
        </p:spPr>
      </p:pic>
      <p:sp>
        <p:nvSpPr>
          <p:cNvPr id="154" name="Puzzle3"/>
          <p:cNvSpPr/>
          <p:nvPr/>
        </p:nvSpPr>
        <p:spPr>
          <a:xfrm>
            <a:off x="7500960" y="1557360"/>
            <a:ext cx="1247760" cy="15112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uzzle1"/>
          <p:cNvSpPr/>
          <p:nvPr/>
        </p:nvSpPr>
        <p:spPr>
          <a:xfrm>
            <a:off x="5940360" y="2009880"/>
            <a:ext cx="2062080" cy="10494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5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665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TAPA DE CERTIFIC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CERTIFICACION DE NIVEL DE COMPETENCIA LINGÜÍSTICA DE TODO EL PERSONAL AERONÁUTIC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OTORGAMIENTO DE CERTIFICADO Y MODIFICACION DE LA LIC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110440" y="0"/>
            <a:ext cx="1033560" cy="1295280"/>
          </a:xfrm>
          <a:prstGeom prst="rect">
            <a:avLst/>
          </a:prstGeom>
          <a:ln w="0">
            <a:noFill/>
          </a:ln>
        </p:spPr>
      </p:pic>
      <p:sp>
        <p:nvSpPr>
          <p:cNvPr id="159" name="Puzzle4"/>
          <p:cNvSpPr/>
          <p:nvPr/>
        </p:nvSpPr>
        <p:spPr>
          <a:xfrm>
            <a:off x="7120080" y="3638520"/>
            <a:ext cx="1039680" cy="1735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3333cc"/>
                </a:solidFill>
                <a:latin typeface="Arial"/>
              </a:rPr>
              <a:t>CERTIFICACIO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67640" y="2565360"/>
            <a:ext cx="2376360" cy="1488960"/>
            <a:chOff x="6767640" y="2565360"/>
            <a:chExt cx="2376360" cy="1488960"/>
          </a:xfrm>
        </p:grpSpPr>
        <p:sp>
          <p:nvSpPr>
            <p:cNvPr id="161" name="Puzzle3"/>
            <p:cNvSpPr/>
            <p:nvPr/>
          </p:nvSpPr>
          <p:spPr>
            <a:xfrm>
              <a:off x="8087400" y="2565360"/>
              <a:ext cx="1056600" cy="14889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Puzzle1"/>
            <p:cNvSpPr/>
            <p:nvPr/>
          </p:nvSpPr>
          <p:spPr>
            <a:xfrm>
              <a:off x="6767640" y="3012480"/>
              <a:ext cx="1745640" cy="10335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665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RECURRE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SE EFECTUARAN CURSOS DE RECURRENCIA EN LA COMPETENCIA LINGÜÍSTICA Y SE REALIZARAN EVALUACIONES PARA CERTIFICAR LA COMPE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341360"/>
          </a:xfrm>
          <a:prstGeom prst="rect">
            <a:avLst/>
          </a:prstGeom>
          <a:ln w="0">
            <a:noFill/>
          </a:ln>
        </p:spPr>
      </p:pic>
      <p:sp>
        <p:nvSpPr>
          <p:cNvPr id="166" name="Puzzle3"/>
          <p:cNvSpPr/>
          <p:nvPr/>
        </p:nvSpPr>
        <p:spPr>
          <a:xfrm>
            <a:off x="7799400" y="3284640"/>
            <a:ext cx="968400" cy="1184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uzzle2"/>
          <p:cNvSpPr/>
          <p:nvPr/>
        </p:nvSpPr>
        <p:spPr>
          <a:xfrm>
            <a:off x="7516800" y="4137120"/>
            <a:ext cx="1592280" cy="10890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uzzle4"/>
          <p:cNvSpPr/>
          <p:nvPr/>
        </p:nvSpPr>
        <p:spPr>
          <a:xfrm>
            <a:off x="6910560" y="4137120"/>
            <a:ext cx="954000" cy="13795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uzzle1"/>
          <p:cNvSpPr/>
          <p:nvPr/>
        </p:nvSpPr>
        <p:spPr>
          <a:xfrm>
            <a:off x="6588000" y="3639960"/>
            <a:ext cx="1602000" cy="8208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5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RECURR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341360"/>
          </a:xfrm>
          <a:prstGeom prst="rect">
            <a:avLst/>
          </a:prstGeom>
          <a:ln w="0">
            <a:noFill/>
          </a:ln>
        </p:spPr>
      </p:pic>
      <p:sp>
        <p:nvSpPr>
          <p:cNvPr id="173" name="Puzzle3"/>
          <p:cNvSpPr/>
          <p:nvPr/>
        </p:nvSpPr>
        <p:spPr>
          <a:xfrm>
            <a:off x="7655040" y="4510080"/>
            <a:ext cx="968400" cy="11844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uzzle2"/>
          <p:cNvSpPr/>
          <p:nvPr/>
        </p:nvSpPr>
        <p:spPr>
          <a:xfrm>
            <a:off x="7372440" y="5362560"/>
            <a:ext cx="1592280" cy="10890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uzzle4"/>
          <p:cNvSpPr/>
          <p:nvPr/>
        </p:nvSpPr>
        <p:spPr>
          <a:xfrm>
            <a:off x="6765840" y="5362560"/>
            <a:ext cx="954000" cy="13795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uzzle1"/>
          <p:cNvSpPr/>
          <p:nvPr/>
        </p:nvSpPr>
        <p:spPr>
          <a:xfrm>
            <a:off x="6443640" y="4865760"/>
            <a:ext cx="1601640" cy="8208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7561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5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5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60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Arial"/>
              </a:rPr>
              <a:t>ESTRATEGIAS DE IMPLEMEN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REGIONALIZAR EL PROGRA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STANDARIZACION DE EVALUACIONES Y CAPACI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INFORMACION A OPERADORES, ESCUELAS E INSTITUTOS DE FORMACION AERONAU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CAPACITACION DEL PERSONAL INVOLUCR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31320" y="0"/>
            <a:ext cx="1012680" cy="12682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5975280" y="1916280"/>
            <a:ext cx="3168720" cy="3384000"/>
            <a:chOff x="5975280" y="1916280"/>
            <a:chExt cx="3168720" cy="3384000"/>
          </a:xfrm>
        </p:grpSpPr>
        <p:sp>
          <p:nvSpPr>
            <p:cNvPr id="182" name="Puzzle4"/>
            <p:cNvSpPr/>
            <p:nvPr/>
          </p:nvSpPr>
          <p:spPr>
            <a:xfrm>
              <a:off x="6381360" y="3209760"/>
              <a:ext cx="1198080" cy="2090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3333cc"/>
                  </a:solidFill>
                  <a:latin typeface="Arial"/>
                </a:rPr>
                <a:t>CERTIFICAC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75280" y="1916280"/>
              <a:ext cx="3168720" cy="2944440"/>
              <a:chOff x="5975280" y="1916280"/>
              <a:chExt cx="3168720" cy="2944440"/>
            </a:xfrm>
          </p:grpSpPr>
          <p:sp>
            <p:nvSpPr>
              <p:cNvPr id="184" name="Puzzle3"/>
              <p:cNvSpPr/>
              <p:nvPr/>
            </p:nvSpPr>
            <p:spPr>
              <a:xfrm>
                <a:off x="7497000" y="1916280"/>
                <a:ext cx="1218240" cy="17946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3333cc"/>
                    </a:solidFill>
                    <a:latin typeface="Arial"/>
                  </a:rPr>
                  <a:t>CAPACITACION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Puzzle2"/>
              <p:cNvSpPr/>
              <p:nvPr/>
            </p:nvSpPr>
            <p:spPr>
              <a:xfrm>
                <a:off x="7142400" y="3209760"/>
                <a:ext cx="2001600" cy="165096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RECURRENCIA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Puzzle1"/>
              <p:cNvSpPr/>
              <p:nvPr/>
            </p:nvSpPr>
            <p:spPr>
              <a:xfrm>
                <a:off x="5975280" y="2455560"/>
                <a:ext cx="2012760" cy="12456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DIAGNOSTICO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5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60847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ONCLU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RATEGIAS REGIONALES AYUDAN A REDUCION DE COST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CUERDOS DE COOPERACION EXPEDITAN LOS RESULT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VOLUCRAMIENTO DEL PERSONAL TECNICO ES INDISPENS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975280" y="1916280"/>
            <a:ext cx="3168720" cy="3384000"/>
            <a:chOff x="5975280" y="1916280"/>
            <a:chExt cx="3168720" cy="3384000"/>
          </a:xfrm>
        </p:grpSpPr>
        <p:sp>
          <p:nvSpPr>
            <p:cNvPr id="191" name="Puzzle4"/>
            <p:cNvSpPr/>
            <p:nvPr/>
          </p:nvSpPr>
          <p:spPr>
            <a:xfrm>
              <a:off x="6381360" y="3209760"/>
              <a:ext cx="1198080" cy="2090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3333cc"/>
                  </a:solidFill>
                  <a:latin typeface="Arial"/>
                </a:rPr>
                <a:t>CERTIFICAC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975280" y="1916280"/>
              <a:ext cx="3168720" cy="2944440"/>
              <a:chOff x="5975280" y="1916280"/>
              <a:chExt cx="3168720" cy="2944440"/>
            </a:xfrm>
          </p:grpSpPr>
          <p:sp>
            <p:nvSpPr>
              <p:cNvPr id="193" name="Puzzle3"/>
              <p:cNvSpPr/>
              <p:nvPr/>
            </p:nvSpPr>
            <p:spPr>
              <a:xfrm>
                <a:off x="7497000" y="1916280"/>
                <a:ext cx="1218240" cy="17946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3333cc"/>
                    </a:solidFill>
                    <a:latin typeface="Arial"/>
                  </a:rPr>
                  <a:t>CAPACITACION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Puzzle2"/>
              <p:cNvSpPr/>
              <p:nvPr/>
            </p:nvSpPr>
            <p:spPr>
              <a:xfrm>
                <a:off x="7142400" y="3209760"/>
                <a:ext cx="2001600" cy="165096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RECURRENCIA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Puzzle1"/>
              <p:cNvSpPr/>
              <p:nvPr/>
            </p:nvSpPr>
            <p:spPr>
              <a:xfrm>
                <a:off x="5975280" y="2455560"/>
                <a:ext cx="2012760" cy="12456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DIAGNOSTICO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5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INICIO DEL PROYECTO REG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OBJETIVO ESPECIF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ETAPAS DEL PROYEC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ESTRATEGIAS DE IMPLEMENTAC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0" spc="-1" strike="noStrike">
                <a:solidFill>
                  <a:srgbClr val="ffff00"/>
                </a:solidFill>
                <a:latin typeface="Perpetua Titling MT"/>
              </a:rPr>
              <a:t>GRACIAS!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5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r>
              <a:rPr b="0" lang="es-E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OBJETIVO ESPECIF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LOGRAR QUE EL PERSONAL AERONAUTICO DE LA REGION CENTROAMERICANA ALCANCE COMO MINIMO EL NIVEL OPERATIVO  ESTABLECIDO POR OACI PARA EL DIA 28 DE FEBRERO DEL AÑO 200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pic>
        <p:nvPicPr>
          <p:cNvPr id="103" name="centroamerica" descr=""/>
          <p:cNvPicPr/>
          <p:nvPr/>
        </p:nvPicPr>
        <p:blipFill>
          <a:blip r:embed="rId3"/>
          <a:srcRect l="3968" t="5979" r="38171" b="16656"/>
          <a:stretch/>
        </p:blipFill>
        <p:spPr>
          <a:xfrm>
            <a:off x="6227640" y="1700280"/>
            <a:ext cx="1800360" cy="15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r>
              <a:rPr b="0" lang="es-E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244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1484280"/>
            <a:ext cx="1584360" cy="1008000"/>
          </a:xfrm>
          <a:prstGeom prst="wedgeRectCallout">
            <a:avLst>
              <a:gd name="adj1" fmla="val -106314"/>
              <a:gd name="adj2" fmla="val 93148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PILOTOS, CONTROLADORES  Y DESPACHA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712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5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383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381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uzzle3"/>
          <p:cNvSpPr/>
          <p:nvPr/>
        </p:nvSpPr>
        <p:spPr>
          <a:xfrm>
            <a:off x="4067280" y="1916280"/>
            <a:ext cx="1728720" cy="2398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uzzle2"/>
          <p:cNvSpPr/>
          <p:nvPr/>
        </p:nvSpPr>
        <p:spPr>
          <a:xfrm>
            <a:off x="3564000" y="3645000"/>
            <a:ext cx="2840040" cy="22064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uzzle4"/>
          <p:cNvSpPr/>
          <p:nvPr/>
        </p:nvSpPr>
        <p:spPr>
          <a:xfrm>
            <a:off x="2484360" y="3645000"/>
            <a:ext cx="1700280" cy="27939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CER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uzzle1"/>
          <p:cNvSpPr/>
          <p:nvPr/>
        </p:nvSpPr>
        <p:spPr>
          <a:xfrm>
            <a:off x="1908000" y="2637000"/>
            <a:ext cx="2856240" cy="16650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5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5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5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2491920"/>
            <a:ext cx="864216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DIAGNOSTICO: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FASES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QUIPO DE DESARROLL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VALUACION DEL PERSONAL AERONAUTI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VALUACION DE ESCUEL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LABORACION Y PRESENTACION DE INFORM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260280"/>
            <a:ext cx="75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19" name="Puzzle1"/>
          <p:cNvSpPr/>
          <p:nvPr/>
        </p:nvSpPr>
        <p:spPr>
          <a:xfrm>
            <a:off x="5724360" y="1773360"/>
            <a:ext cx="2856240" cy="16650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04640"/>
            <a:ext cx="75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2491920"/>
            <a:ext cx="8642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QUIPO DE DESARRO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A INTEGRADO POR PERSONAL TECNICO AERONAUTICO DE LA REGIAN Y POR UN EXPERTO LINGÜI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E EQUIPO SERA EL ENCARGADO DE REALIZAR EL DIAGNOSTICO, EL CONTROL DE CALIDAD EN LA CAPACITACION Y LA ETAPA DE RECURR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uzzle1"/>
          <p:cNvSpPr/>
          <p:nvPr/>
        </p:nvSpPr>
        <p:spPr>
          <a:xfrm>
            <a:off x="5748480" y="1557360"/>
            <a:ext cx="2855880" cy="16653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62658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VALUACION DEL PERSONAL AERONAU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L EQUIPO DE DESARROLLO EVALUARA AL PERSONAL TECNICO AERONAUTICO USANDO EL “ALP TEST” DE FAA QUE HA SIDO DESARROLLADO SIGUIENDO LOS CRITERIOS DE OA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27" name="Puzzle1"/>
          <p:cNvSpPr/>
          <p:nvPr/>
        </p:nvSpPr>
        <p:spPr>
          <a:xfrm>
            <a:off x="6804000" y="2997360"/>
            <a:ext cx="2232000" cy="12236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5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5280" y="1801800"/>
            <a:ext cx="6551640" cy="4795920"/>
          </a:xfrm>
          <a:prstGeom prst="rect">
            <a:avLst/>
          </a:prstGeom>
          <a:ln w="0">
            <a:noFill/>
          </a:ln>
        </p:spPr>
      </p:pic>
      <p:sp>
        <p:nvSpPr>
          <p:cNvPr id="131" name="Puzzle1"/>
          <p:cNvSpPr/>
          <p:nvPr/>
        </p:nvSpPr>
        <p:spPr>
          <a:xfrm>
            <a:off x="7164360" y="3635280"/>
            <a:ext cx="1776600" cy="1162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5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3:09:44Z</dcterms:created>
  <dc:creator>mantillak</dc:creator>
  <dc:description/>
  <cp:keywords/>
  <dc:language>en-US</dc:language>
  <cp:lastModifiedBy>Claudia López Pérez</cp:lastModifiedBy>
  <dcterms:modified xsi:type="dcterms:W3CDTF">2006-03-27T13:58:43Z</dcterms:modified>
  <cp:revision>24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800.00000000</vt:lpwstr>
  </property>
  <property fmtid="{D5CDD505-2E9C-101B-9397-08002B2CF9AE}" pid="5" name="Year">
    <vt:lpwstr>2006</vt:lpwstr>
  </property>
  <property fmtid="{D5CDD505-2E9C-101B-9397-08002B2CF9AE}" pid="6" name="_TemplateID">
    <vt:lpwstr>TC011408031033</vt:lpwstr>
  </property>
</Properties>
</file>