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585A-6FC8-45F8-A9C8-43DFB7C8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FB5E3-BFE4-47CB-B848-FADD9ED96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7680" y="687240"/>
            <a:ext cx="456588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47A3-75DE-456B-9FA3-CA098BB8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179-6B95-4AB5-ABB1-8C94D67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59DF-FAD5-400A-AB46-6A8D2B614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4E07-D3CD-451A-80C4-4CA5D069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9DA5-6447-4C89-9DED-E0185F13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9515-E709-4876-8F90-1E1F19D9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19CE-93E0-4CB8-9EE2-98FEAAC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3EF6-290D-407B-8740-31E168DD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B2BB-AE45-4D01-9308-9507C9D4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1931-443E-408D-AFC1-5CD5801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9CC5-253D-4C4B-8320-6C41439F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29C-AC9E-4B05-B220-75248EBB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CC13-BDAF-47D7-B29C-038E9771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A987-7F85-41F0-81EF-E6252196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E891-BE5D-48D1-BA5D-6FF43564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484C-161C-4408-A0C1-A88F15A8B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69992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292280"/>
            <a:ext cx="27824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EB8-0BB0-4BE7-955A-5F2EBDDC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638-6AFF-498C-9B88-9C839D63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E7E1-5D92-4415-98B7-C6E8F1B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E6D-8C50-42AC-B7D9-A1D44680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15920"/>
            <a:ext cx="864216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F7F8-9313-4290-97EC-FEB01EB4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1442-5BE4-43C0-AE7E-D46AD3E9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29228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6DEA-F002-40A2-A058-E55BE8AE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99920"/>
            <a:ext cx="42170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292280"/>
            <a:ext cx="86421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DCC2-8F68-49EE-9132-4BCC54ED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699920"/>
            <a:ext cx="86421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4CA0-1973-49CF-BAEA-693D5FBB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EA05-ED13-42AD-B5D9-F29C735F9B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http://www.theodora.com/maps/new/guatemala_maps.html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68360" y="3645000"/>
            <a:ext cx="1152360" cy="636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39640" y="5734080"/>
            <a:ext cx="111132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rcRect l="0" t="3499" r="0" b="6998"/>
          <a:stretch/>
        </p:blipFill>
        <p:spPr>
          <a:xfrm>
            <a:off x="534960" y="1557360"/>
            <a:ext cx="1012680" cy="608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539640" y="263700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539640" y="4724280"/>
            <a:ext cx="1079640" cy="63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9"/>
          <a:stretch/>
        </p:blipFill>
        <p:spPr>
          <a:xfrm>
            <a:off x="3635280" y="5084640"/>
            <a:ext cx="3310200" cy="100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0"/>
          <a:stretch/>
        </p:blipFill>
        <p:spPr>
          <a:xfrm>
            <a:off x="3564000" y="0"/>
            <a:ext cx="3571920" cy="4483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299700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VALUACIÓN DE ESCUELA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STITUCIONES DE ENSEÑANZA DEL INGLES EN DONDE SE DESARROLLARÁN LOS PROGRAMAS DE CAPACITACIO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uzzle1"/>
          <p:cNvSpPr/>
          <p:nvPr/>
        </p:nvSpPr>
        <p:spPr>
          <a:xfrm>
            <a:off x="6156360" y="1989000"/>
            <a:ext cx="2424240" cy="14493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550"/>
                            </p:stCondLst>
                            <p:childTnLst>
                              <p:par>
                                <p:cTn id="2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06616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LABORACION Y PRESENTACION DE INFORM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FORMES PARA LAS AUTORIDADES DE AERONAUTICA CIVIL Y LOS OPERADOR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885080" y="0"/>
            <a:ext cx="1035000" cy="1297080"/>
          </a:xfrm>
          <a:prstGeom prst="rect">
            <a:avLst/>
          </a:prstGeom>
          <a:ln w="0">
            <a:noFill/>
          </a:ln>
        </p:spPr>
      </p:pic>
      <p:sp>
        <p:nvSpPr>
          <p:cNvPr id="139" name="Puzzle1"/>
          <p:cNvSpPr/>
          <p:nvPr/>
        </p:nvSpPr>
        <p:spPr>
          <a:xfrm>
            <a:off x="6732720" y="1547640"/>
            <a:ext cx="2423880" cy="144972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0"/>
                            </p:stCondLst>
                            <p:childTnLst>
                              <p:par>
                                <p:cTn id="2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8850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8920" y="2707920"/>
            <a:ext cx="86425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APACITAC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N INSTITUCIONES DE ENSEÑANZA QUE HAN SIDO PREVIAMENTE SELECCIONADAS SE DESARROLLARAN PROGRAMAS DE ENTRENAMIENTO O MEJORA DEL IDIOMA INGLES, HACIENDO ENFASIS EN LOS ASPECTOS DE FRASEOLOGIA E INGLES SIMP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43" name="Puzzle3"/>
          <p:cNvSpPr/>
          <p:nvPr/>
        </p:nvSpPr>
        <p:spPr>
          <a:xfrm>
            <a:off x="7012080" y="1390680"/>
            <a:ext cx="1376280" cy="1751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uzzle1"/>
          <p:cNvSpPr/>
          <p:nvPr/>
        </p:nvSpPr>
        <p:spPr>
          <a:xfrm>
            <a:off x="5291280" y="1916280"/>
            <a:ext cx="2274840" cy="12142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50"/>
                            </p:stCondLst>
                            <p:childTnLst>
                              <p:par>
                                <p:cTn id="2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5963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95280" y="2492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PROGRESO DE APRENDIZA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uzzle3"/>
          <p:cNvSpPr/>
          <p:nvPr/>
        </p:nvSpPr>
        <p:spPr>
          <a:xfrm>
            <a:off x="7684920" y="1557360"/>
            <a:ext cx="1279800" cy="180036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uzzle1"/>
          <p:cNvSpPr/>
          <p:nvPr/>
        </p:nvSpPr>
        <p:spPr>
          <a:xfrm>
            <a:off x="6084720" y="2097000"/>
            <a:ext cx="2114640" cy="12495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684360" y="3703680"/>
            <a:ext cx="7848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50"/>
                            </p:stCondLst>
                            <p:childTnLst>
                              <p:par>
                                <p:cTn id="2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5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7667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2491920"/>
            <a:ext cx="86425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ONTROL DE CALIDAD 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LOS PROGRAMAS DE CAPACIT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SE IMPLEMENTARA UN SISTEMA DE CONTROL DE CALIDAD EN LOS PROGRAMAS DE CAPACITACIÓN CON AUDITORIAS PERIÓDICAS A LAS INSTITUCIONES DE ENSEÑANZA QUE HAYAN IMPLEMENTADO NUESTRO PROGRAM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109000" y="0"/>
            <a:ext cx="1035000" cy="1297080"/>
          </a:xfrm>
          <a:prstGeom prst="rect">
            <a:avLst/>
          </a:prstGeom>
          <a:ln w="0">
            <a:noFill/>
          </a:ln>
        </p:spPr>
      </p:pic>
      <p:sp>
        <p:nvSpPr>
          <p:cNvPr id="154" name="Puzzle3"/>
          <p:cNvSpPr/>
          <p:nvPr/>
        </p:nvSpPr>
        <p:spPr>
          <a:xfrm>
            <a:off x="7500960" y="1557360"/>
            <a:ext cx="1247760" cy="15112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uzzle1"/>
          <p:cNvSpPr/>
          <p:nvPr/>
        </p:nvSpPr>
        <p:spPr>
          <a:xfrm>
            <a:off x="5940360" y="2009880"/>
            <a:ext cx="2062080" cy="10494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50"/>
                            </p:stCondLst>
                            <p:childTnLst>
                              <p:par>
                                <p:cTn id="2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989000"/>
            <a:ext cx="6659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TAPA DE CERTIFICACIÓ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CERTIFICACION DE NIVEL DE COMPETENCIA LINGÜÍSTICA DE TODO EL PERSONAL AERONÁUTIC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OTORGAMIENTO DE CERTIFICADO Y MODIFICACION DE LA LIC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110440" y="0"/>
            <a:ext cx="1033560" cy="1295280"/>
          </a:xfrm>
          <a:prstGeom prst="rect">
            <a:avLst/>
          </a:prstGeom>
          <a:ln w="0">
            <a:noFill/>
          </a:ln>
        </p:spPr>
      </p:pic>
      <p:sp>
        <p:nvSpPr>
          <p:cNvPr id="159" name="Puzzle4"/>
          <p:cNvSpPr/>
          <p:nvPr/>
        </p:nvSpPr>
        <p:spPr>
          <a:xfrm>
            <a:off x="7120080" y="3638520"/>
            <a:ext cx="1039680" cy="173520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" spc="-1" strike="noStrike">
                <a:solidFill>
                  <a:srgbClr val="3333cc"/>
                </a:solidFill>
                <a:latin typeface="Arial"/>
              </a:rPr>
              <a:t>CERTIFICACIO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767640" y="2565360"/>
            <a:ext cx="2376360" cy="1488960"/>
            <a:chOff x="6767640" y="2565360"/>
            <a:chExt cx="2376360" cy="1488960"/>
          </a:xfrm>
        </p:grpSpPr>
        <p:sp>
          <p:nvSpPr>
            <p:cNvPr id="161" name="Puzzle3"/>
            <p:cNvSpPr/>
            <p:nvPr/>
          </p:nvSpPr>
          <p:spPr>
            <a:xfrm>
              <a:off x="8087400" y="2565360"/>
              <a:ext cx="1056600" cy="148896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Puzzle1"/>
            <p:cNvSpPr/>
            <p:nvPr/>
          </p:nvSpPr>
          <p:spPr>
            <a:xfrm>
              <a:off x="6767640" y="3012480"/>
              <a:ext cx="1745640" cy="10335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50"/>
                            </p:stCondLst>
                            <p:childTnLst>
                              <p:par>
                                <p:cTn id="2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360" y="1773000"/>
            <a:ext cx="665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RECURRENC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SE EFECTUARAN CURSOS DE RECURRENCIA EN LA COMPETENCIA LINGÜÍSTICA Y SE REALIZARAN EVALUACIONES PARA CERTIFICAR LA COMPET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341360"/>
          </a:xfrm>
          <a:prstGeom prst="rect">
            <a:avLst/>
          </a:prstGeom>
          <a:ln w="0">
            <a:noFill/>
          </a:ln>
        </p:spPr>
      </p:pic>
      <p:sp>
        <p:nvSpPr>
          <p:cNvPr id="166" name="Puzzle3"/>
          <p:cNvSpPr/>
          <p:nvPr/>
        </p:nvSpPr>
        <p:spPr>
          <a:xfrm>
            <a:off x="7799400" y="3284640"/>
            <a:ext cx="968400" cy="118404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uzzle2"/>
          <p:cNvSpPr/>
          <p:nvPr/>
        </p:nvSpPr>
        <p:spPr>
          <a:xfrm>
            <a:off x="7516800" y="4137120"/>
            <a:ext cx="1592280" cy="10890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uzzle4"/>
          <p:cNvSpPr/>
          <p:nvPr/>
        </p:nvSpPr>
        <p:spPr>
          <a:xfrm>
            <a:off x="6910560" y="4137120"/>
            <a:ext cx="954000" cy="13795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uzzle1"/>
          <p:cNvSpPr/>
          <p:nvPr/>
        </p:nvSpPr>
        <p:spPr>
          <a:xfrm>
            <a:off x="6588000" y="3639960"/>
            <a:ext cx="1602000" cy="8208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5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42447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RECURRENC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341360"/>
          </a:xfrm>
          <a:prstGeom prst="rect">
            <a:avLst/>
          </a:prstGeom>
          <a:ln w="0">
            <a:noFill/>
          </a:ln>
        </p:spPr>
      </p:pic>
      <p:sp>
        <p:nvSpPr>
          <p:cNvPr id="173" name="Puzzle3"/>
          <p:cNvSpPr/>
          <p:nvPr/>
        </p:nvSpPr>
        <p:spPr>
          <a:xfrm>
            <a:off x="7655040" y="4510080"/>
            <a:ext cx="968400" cy="118440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uzzle2"/>
          <p:cNvSpPr/>
          <p:nvPr/>
        </p:nvSpPr>
        <p:spPr>
          <a:xfrm>
            <a:off x="7372440" y="5362560"/>
            <a:ext cx="1592280" cy="108900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uzzle4"/>
          <p:cNvSpPr/>
          <p:nvPr/>
        </p:nvSpPr>
        <p:spPr>
          <a:xfrm>
            <a:off x="6765840" y="5362560"/>
            <a:ext cx="954000" cy="137952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uzzle1"/>
          <p:cNvSpPr/>
          <p:nvPr/>
        </p:nvSpPr>
        <p:spPr>
          <a:xfrm>
            <a:off x="6443640" y="4865760"/>
            <a:ext cx="1601640" cy="8208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2565360"/>
            <a:ext cx="7561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5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55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604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33"/>
                </a:solidFill>
                <a:latin typeface="Arial"/>
              </a:rPr>
              <a:t>ESTRATEGIAS DE IMPLEMEN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REGIONALIZAR EL PROGRAM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STANDARIZACION DE EVALUACIONES Y CAPACI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INFORMACION A OPERADORES, ESCUELAS E INSTITUTOS DE FORMACION AERONAUTICA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CAPACITACION DEL PERSONAL INVOLUCRAD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131320" y="0"/>
            <a:ext cx="1012680" cy="1268280"/>
          </a:xfrm>
          <a:prstGeom prst="rect">
            <a:avLst/>
          </a:prstGeom>
          <a:ln w="0">
            <a:noFill/>
          </a:ln>
        </p:spPr>
      </p:pic>
      <p:grpSp>
        <p:nvGrpSpPr>
          <p:cNvPr id="181" name=""/>
          <p:cNvGrpSpPr/>
          <p:nvPr/>
        </p:nvGrpSpPr>
        <p:grpSpPr>
          <a:xfrm>
            <a:off x="5975280" y="1916280"/>
            <a:ext cx="3168720" cy="3384000"/>
            <a:chOff x="5975280" y="1916280"/>
            <a:chExt cx="3168720" cy="3384000"/>
          </a:xfrm>
        </p:grpSpPr>
        <p:sp>
          <p:nvSpPr>
            <p:cNvPr id="182" name="Puzzle4"/>
            <p:cNvSpPr/>
            <p:nvPr/>
          </p:nvSpPr>
          <p:spPr>
            <a:xfrm>
              <a:off x="6381360" y="3209760"/>
              <a:ext cx="1198080" cy="2090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3333cc"/>
                  </a:solidFill>
                  <a:latin typeface="Arial"/>
                </a:rPr>
                <a:t>CERTIFICAC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5975280" y="1916280"/>
              <a:ext cx="3168720" cy="2944440"/>
              <a:chOff x="5975280" y="1916280"/>
              <a:chExt cx="3168720" cy="2944440"/>
            </a:xfrm>
          </p:grpSpPr>
          <p:sp>
            <p:nvSpPr>
              <p:cNvPr id="184" name="Puzzle3"/>
              <p:cNvSpPr/>
              <p:nvPr/>
            </p:nvSpPr>
            <p:spPr>
              <a:xfrm>
                <a:off x="7497000" y="1916280"/>
                <a:ext cx="1218240" cy="17946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3333cc"/>
                    </a:solidFill>
                    <a:latin typeface="Arial"/>
                  </a:rPr>
                  <a:t>CAPACITACION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Puzzle2"/>
              <p:cNvSpPr/>
              <p:nvPr/>
            </p:nvSpPr>
            <p:spPr>
              <a:xfrm>
                <a:off x="7142400" y="3209760"/>
                <a:ext cx="2001600" cy="165096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RECURRENCIA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Puzzle1"/>
              <p:cNvSpPr/>
              <p:nvPr/>
            </p:nvSpPr>
            <p:spPr>
              <a:xfrm>
                <a:off x="5975280" y="2455560"/>
                <a:ext cx="2012760" cy="12456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DIAGNOSTICO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50"/>
                            </p:stCondLst>
                            <p:childTnLst>
                              <p:par>
                                <p:cTn id="3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6084720" cy="41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CONCLU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RATEGIAS REGIONALES AYUDAN A REDUCION DE COST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CUERDOS DE COOPERACION EXPEDITAN LOS RESULT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INVOLUCRAMIENTO DEL PERSONAL TECNICO ES INDISPENSAB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5975280" y="1916280"/>
            <a:ext cx="3168720" cy="3384000"/>
            <a:chOff x="5975280" y="1916280"/>
            <a:chExt cx="3168720" cy="3384000"/>
          </a:xfrm>
        </p:grpSpPr>
        <p:sp>
          <p:nvSpPr>
            <p:cNvPr id="191" name="Puzzle4"/>
            <p:cNvSpPr/>
            <p:nvPr/>
          </p:nvSpPr>
          <p:spPr>
            <a:xfrm>
              <a:off x="6381360" y="3209760"/>
              <a:ext cx="1198080" cy="209052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3333cc"/>
                  </a:solidFill>
                  <a:latin typeface="Arial"/>
                </a:rPr>
                <a:t>CERTIFICACION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975280" y="1916280"/>
              <a:ext cx="3168720" cy="2944440"/>
              <a:chOff x="5975280" y="1916280"/>
              <a:chExt cx="3168720" cy="2944440"/>
            </a:xfrm>
          </p:grpSpPr>
          <p:sp>
            <p:nvSpPr>
              <p:cNvPr id="193" name="Puzzle3"/>
              <p:cNvSpPr/>
              <p:nvPr/>
            </p:nvSpPr>
            <p:spPr>
              <a:xfrm>
                <a:off x="7497000" y="1916280"/>
                <a:ext cx="1218240" cy="179460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700" spc="-1" strike="noStrike">
                    <a:solidFill>
                      <a:srgbClr val="3333cc"/>
                    </a:solidFill>
                    <a:latin typeface="Arial"/>
                  </a:rPr>
                  <a:t>CAPACITACION</a:t>
                </a:r>
                <a:endParaRPr b="0" lang="en-US" sz="7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Puzzle2"/>
              <p:cNvSpPr/>
              <p:nvPr/>
            </p:nvSpPr>
            <p:spPr>
              <a:xfrm>
                <a:off x="7142400" y="3209760"/>
                <a:ext cx="2001600" cy="165096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RECURRENCIA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Puzzle1"/>
              <p:cNvSpPr/>
              <p:nvPr/>
            </p:nvSpPr>
            <p:spPr>
              <a:xfrm>
                <a:off x="5975280" y="2455560"/>
                <a:ext cx="2012760" cy="12456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3333cc"/>
                    </a:solidFill>
                    <a:latin typeface="Arial"/>
                  </a:rPr>
                  <a:t>DIAGNOSTICO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50"/>
                            </p:stCondLst>
                            <p:childTnLst>
                              <p:par>
                                <p:cTn id="3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9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INICIO DEL PROYECTO REGION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OBJETIVO ESPECIF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ETAPAS DEL PROYEC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ESTRATEGIAS DE IMPLEMENTAC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Verdana"/>
              </a:rPr>
              <a:t>CONCLUS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074080" y="0"/>
            <a:ext cx="1069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707920"/>
            <a:ext cx="9144000" cy="64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0" spc="-1" strike="noStrike">
                <a:solidFill>
                  <a:srgbClr val="ffff00"/>
                </a:solidFill>
                <a:latin typeface="Perpetua Titling MT"/>
              </a:rPr>
              <a:t>GRACIAS!</a:t>
            </a:r>
            <a:endParaRPr b="0" lang="en-US" sz="1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8072280" y="0"/>
            <a:ext cx="10717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50"/>
                            </p:stCondLst>
                            <p:childTnLst>
                              <p:par>
                                <p:cTn id="340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8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7489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r>
              <a:rPr b="0" lang="es-E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2565360"/>
            <a:ext cx="864216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OBJETIVO ESPECIFICO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LOGRAR QUE EL PERSONAL AERONAUTICO DE LA REGION CENTROAMERICANA ALCANCE COMO MINIMO EL NIVEL OPERATIVO  ESTABLECIDO POR OACI PARA EL DIA 28 DE FEBRERO DEL AÑO 2008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pic>
        <p:nvPicPr>
          <p:cNvPr id="103" name="centroamerica" descr=""/>
          <p:cNvPicPr/>
          <p:nvPr/>
        </p:nvPicPr>
        <p:blipFill>
          <a:blip r:embed="rId3"/>
          <a:srcRect l="3968" t="5979" r="38171" b="16656"/>
          <a:stretch/>
        </p:blipFill>
        <p:spPr>
          <a:xfrm>
            <a:off x="6227640" y="1700280"/>
            <a:ext cx="1800360" cy="15955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50"/>
                            </p:stCondLst>
                            <p:childTnLst>
                              <p:par>
                                <p:cTn id="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r>
              <a:rPr b="0" lang="es-ES" sz="40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42447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ALC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1484280"/>
            <a:ext cx="1584360" cy="1008000"/>
          </a:xfrm>
          <a:prstGeom prst="wedgeRectCallout">
            <a:avLst>
              <a:gd name="adj1" fmla="val -106314"/>
              <a:gd name="adj2" fmla="val 93148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 Narrow"/>
              </a:rPr>
              <a:t>PILOTOS, CONTROLADORES  Y DESPACHAD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971640" y="2997360"/>
            <a:ext cx="712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55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5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383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3816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IMPLEMENTAC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uzzle3"/>
          <p:cNvSpPr/>
          <p:nvPr/>
        </p:nvSpPr>
        <p:spPr>
          <a:xfrm>
            <a:off x="4067280" y="1916280"/>
            <a:ext cx="1728720" cy="2398680"/>
          </a:xfrm>
          <a:prstGeom prst="pie">
            <a:avLst/>
          </a:prstGeom>
          <a:solidFill>
            <a:srgbClr val="ffbe7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CAPACIT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uzzle2"/>
          <p:cNvSpPr/>
          <p:nvPr/>
        </p:nvSpPr>
        <p:spPr>
          <a:xfrm>
            <a:off x="3564000" y="3645000"/>
            <a:ext cx="2840040" cy="2206440"/>
          </a:xfrm>
          <a:prstGeom prst="pie">
            <a:avLst/>
          </a:prstGeom>
          <a:solidFill>
            <a:srgbClr val="ff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RECUR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uzzle4"/>
          <p:cNvSpPr/>
          <p:nvPr/>
        </p:nvSpPr>
        <p:spPr>
          <a:xfrm>
            <a:off x="2484360" y="3645000"/>
            <a:ext cx="1700280" cy="2793960"/>
          </a:xfrm>
          <a:prstGeom prst="pie">
            <a:avLst/>
          </a:prstGeom>
          <a:solidFill>
            <a:srgbClr val="d8ebb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CERTIFICAC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uzzle1"/>
          <p:cNvSpPr/>
          <p:nvPr/>
        </p:nvSpPr>
        <p:spPr>
          <a:xfrm>
            <a:off x="1908000" y="2637000"/>
            <a:ext cx="2856240" cy="16650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5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50"/>
                            </p:stCondLst>
                            <p:childTnLst>
                              <p:par>
                                <p:cTn id="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5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50"/>
                            </p:stCondLst>
                            <p:childTnLst>
                              <p:par>
                                <p:cTn id="1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2491920"/>
            <a:ext cx="864216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DIAGNOSTICO: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FASES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QUIPO DE DESARROLL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VALUACION DEL PERSONAL AERONAUTICO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VALUACION DE ESCUELA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ELABORACION Y PRESENTACION DE INFORM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-360" y="260280"/>
            <a:ext cx="75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19" name="Puzzle1"/>
          <p:cNvSpPr/>
          <p:nvPr/>
        </p:nvSpPr>
        <p:spPr>
          <a:xfrm>
            <a:off x="5724360" y="1773360"/>
            <a:ext cx="2856240" cy="166500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50"/>
                            </p:stCondLst>
                            <p:childTnLst>
                              <p:par>
                                <p:cTn id="1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404640"/>
            <a:ext cx="759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2491920"/>
            <a:ext cx="8642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QUIPO DE DESARROL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A INTEGRADO POR PERSONAL TECNICO AERONAUTICO DE LA REGIAN Y POR UN EXPERTO LINGÜIST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STE EQUIPO SERA EL ENCARGADO DE REALIZAR EL DIAGNOSTICO, EL CONTROL DE CALIDAD EN LA CAPACITACION Y LA ETAPA DE RECURRENCI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uzzle1"/>
          <p:cNvSpPr/>
          <p:nvPr/>
        </p:nvSpPr>
        <p:spPr>
          <a:xfrm>
            <a:off x="5748480" y="1557360"/>
            <a:ext cx="2855880" cy="166536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cc"/>
                </a:solidFill>
                <a:latin typeface="Arial"/>
              </a:rPr>
              <a:t>DIANOST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5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62658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"/>
              </a:rPr>
              <a:t>EVALUACION DEL PERSONAL AERONAUTIC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66ff33"/>
                </a:solidFill>
                <a:latin typeface="Arial"/>
              </a:rPr>
              <a:t>EL EQUIPO DE DESARROLLO EVALUARA AL PERSONAL TECNICO AERONAUTICO USANDO EL “ALP TEST” DE FAA QUE HA SIDO DESARROLLADO SIGUIENDO LOS CRITERIOS DE OAC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774072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sp>
        <p:nvSpPr>
          <p:cNvPr id="127" name="Puzzle1"/>
          <p:cNvSpPr/>
          <p:nvPr/>
        </p:nvSpPr>
        <p:spPr>
          <a:xfrm>
            <a:off x="6804000" y="2997360"/>
            <a:ext cx="2232000" cy="122364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50"/>
                            </p:stCondLst>
                            <p:childTnLst>
                              <p:par>
                                <p:cTn id="1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"/>
              </a:rPr>
              <a:t>COMPETENCIA LINGUISTIC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970760" y="0"/>
            <a:ext cx="1173240" cy="1341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95280" y="1801800"/>
            <a:ext cx="6551640" cy="4795920"/>
          </a:xfrm>
          <a:prstGeom prst="rect">
            <a:avLst/>
          </a:prstGeom>
          <a:ln w="0">
            <a:noFill/>
          </a:ln>
        </p:spPr>
      </p:pic>
      <p:sp>
        <p:nvSpPr>
          <p:cNvPr id="131" name="Puzzle1"/>
          <p:cNvSpPr/>
          <p:nvPr/>
        </p:nvSpPr>
        <p:spPr>
          <a:xfrm>
            <a:off x="7164360" y="3635280"/>
            <a:ext cx="1776600" cy="1162080"/>
          </a:xfrm>
          <a:prstGeom prst="pi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3333cc"/>
                </a:solidFill>
                <a:latin typeface="Arial"/>
              </a:rPr>
              <a:t>DIAGNOSTICO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5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23:09:44Z</dcterms:created>
  <dc:creator>mantillak</dc:creator>
  <dc:description/>
  <cp:keywords/>
  <dc:language>en-US</dc:language>
  <cp:lastModifiedBy>Claudia López Pérez</cp:lastModifiedBy>
  <dcterms:modified xsi:type="dcterms:W3CDTF">2006-03-27T13:58:43Z</dcterms:modified>
  <cp:revision>24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800.00000000</vt:lpwstr>
  </property>
  <property fmtid="{D5CDD505-2E9C-101B-9397-08002B2CF9AE}" pid="5" name="Year">
    <vt:lpwstr>2006</vt:lpwstr>
  </property>
  <property fmtid="{D5CDD505-2E9C-101B-9397-08002B2CF9AE}" pid="6" name="_TemplateID">
    <vt:lpwstr>TC011408031033</vt:lpwstr>
  </property>
</Properties>
</file>