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8.wmf" ContentType="image/x-wmf"/>
  <Override PartName="/ppt/media/image25.png" ContentType="image/png"/>
  <Override PartName="/ppt/media/image19.jpeg" ContentType="image/jpeg"/>
  <Override PartName="/ppt/media/image3.png" ContentType="image/png"/>
  <Override PartName="/ppt/media/image26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11.gif" ContentType="image/gif"/>
  <Override PartName="/ppt/media/image6.png" ContentType="image/png"/>
  <Override PartName="/ppt/media/LASER.WAV" ContentType="audio/x-wav"/>
  <Override PartName="/ppt/media/image7.wmf" ContentType="image/x-wmf"/>
  <Override PartName="/ppt/media/image9.png" ContentType="image/png"/>
  <Override PartName="/ppt/media/image8.wmf" ContentType="image/x-wmf"/>
  <Override PartName="/ppt/media/image10.gif" ContentType="image/gif"/>
  <Override PartName="/ppt/media/image16.png" ContentType="image/png"/>
  <Override PartName="/ppt/media/image13.gif" ContentType="image/gif"/>
  <Override PartName="/ppt/media/image17.jpeg" ContentType="image/jpeg"/>
  <Override PartName="/ppt/media/image12.gif" ContentType="image/gif"/>
  <Override PartName="/ppt/media/image2.jpeg" ContentType="image/jpeg"/>
  <Override PartName="/ppt/media/image24.png" ContentType="image/png"/>
  <Override PartName="/ppt/media/image31.jpeg" ContentType="image/jpeg"/>
  <Override PartName="/ppt/media/image14.gif" ContentType="image/gif"/>
  <Override PartName="/ppt/media/image5.jpeg" ContentType="image/jpeg"/>
  <Override PartName="/ppt/media/image15.gif" ContentType="image/gif"/>
  <Override PartName="/ppt/media/image18.jpeg" ContentType="image/jpeg"/>
  <Override PartName="/ppt/media/image1.png" ContentType="image/png"/>
  <Override PartName="/ppt/media/image29.wmf" ContentType="image/x-wmf"/>
  <Override PartName="/ppt/media/image21.jpeg" ContentType="image/jpeg"/>
  <Override PartName="/ppt/media/image20.jpeg" ContentType="image/jpeg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9A1A-A929-4D2E-8281-D3C6E085B63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91F8-77E5-4662-B64C-BEDE14CF554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8FA6-5DDD-43F1-BCDF-5E1036AC99A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ldImg"/>
          </p:nvPr>
        </p:nvSpPr>
        <p:spPr>
          <a:xfrm>
            <a:off x="932040" y="743040"/>
            <a:ext cx="4933800" cy="3700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 txBox="1"/>
          <p:nvPr/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02C3-0670-47B6-8FA8-46C5DEEB887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 txBox="1"/>
          <p:nvPr/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708120" y="754200"/>
            <a:ext cx="5249880" cy="393696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D8113-19FD-49A0-9017-60131DE78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167DE-A4E1-440E-A1B7-B1C084BB9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5698-A782-453E-8164-4BF134E87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4E20-B69E-4423-ACF8-773349BCAA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87B8A-2F5C-4E90-B365-392400FDBF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3FAF8-E42C-418B-A716-4FF8689779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A6A2EA-449A-47E5-A005-0965A4C5F0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4CEDD-CCEB-4479-849C-DE0DCED88F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EE81F-8342-4B0A-ACA5-AA0FAC7A10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61D93-CA55-4CF1-8335-DA2830A101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DADF9-9145-41EF-9980-CC033EE96C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246B3-F544-476D-BD24-EC8699DD9B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520D6-C4B3-421C-8740-AE31BD3B92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CD006-1F3D-4E99-9EA9-6A5A8D784A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6EF60-85BA-4F1C-883D-D0B9B1C597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8AE5A-81DC-4DB9-9557-DD4741E062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FD180A-BCC7-44AA-8C6E-5F5838AE87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43E7C-5024-4D9F-897A-BE219F66E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E5A64-8293-466D-8165-A5BDDBFA6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FD524-83A2-4805-9B5B-3525113C4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B6015-406A-4015-9144-807025EA64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D36C-4B9B-4F4C-85A3-19512DC08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888E8-ACC9-4C86-A31C-E777AF0FC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53597-5CEE-43F9-9117-11A7C6AC0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6440-7209-4137-B102-8DF946782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rcRect l="0" t="0" r="4321" b="94127"/>
          <a:stretch/>
        </p:blipFill>
        <p:spPr>
          <a:xfrm>
            <a:off x="0" y="6454800"/>
            <a:ext cx="9144000" cy="40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0" y="1440"/>
          <a:ext cx="9144000" cy="93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1440"/>
                    <a:ext cx="914400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D364-2BB8-45EE-B6E8-2A06A85AB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0" t="0" r="4321" b="94127"/>
          <a:stretch/>
        </p:blipFill>
        <p:spPr>
          <a:xfrm>
            <a:off x="0" y="6454800"/>
            <a:ext cx="9144000" cy="403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-36360" y="-12600"/>
          <a:ext cx="9180360" cy="99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36360" y="-12600"/>
                    <a:ext cx="91803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4360" y="2708280"/>
            <a:ext cx="4248000" cy="30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lementación del Sistema Integrado de Gestión de COCESNA (SIG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Calidad, Seguridad, Factores Humanos y Medio Ambient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xpositor: Lic. Karim Álva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3527280" cy="3025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761240" cy="11638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RPORACIÓN CENTROAMERICANA DE SERVICIOS DE NAVEGACIÓN AÉREA (COCES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000" y="2289240"/>
            <a:ext cx="7761240" cy="4269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Organismo Internacional de Integración Centroamerican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2560" y="5697360"/>
            <a:ext cx="7761240" cy="68436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ICAO/ASPA Regional Seminar on Safety Management System (S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ffffff"/>
                </a:solidFill>
                <a:latin typeface="Arial"/>
              </a:rPr>
              <a:t>México, D.F. 14 al 16 de Marzo de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718240" y="1844640"/>
            <a:ext cx="339084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341360"/>
            <a:ext cx="4535280" cy="4608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rigen y Alc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STEMA INTEGR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GEST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E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SI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08000" y="1773360"/>
            <a:ext cx="8964720" cy="482436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98560" y="2637000"/>
            <a:ext cx="2521080" cy="1439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30200" y="292428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eguridad (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637000"/>
            <a:ext cx="2521080" cy="1439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274644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rotección al 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14560" y="4365720"/>
            <a:ext cx="2520720" cy="14396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16000" y="1197000"/>
            <a:ext cx="734364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LGUNOS REQUERIMIENTOS EN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4221000"/>
            <a:ext cx="2521080" cy="1440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42200" y="4581360"/>
            <a:ext cx="165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Gestión de Ries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3284640"/>
            <a:ext cx="2520720" cy="14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2560" y="3718080"/>
            <a:ext cx="16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Mejorar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5013360"/>
            <a:ext cx="2521080" cy="1440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46200" y="48448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5157720"/>
            <a:ext cx="16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SC, CRM, T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0920" y="1917720"/>
            <a:ext cx="2521080" cy="122400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24360" y="220500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6 SI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50920" y="801720"/>
            <a:ext cx="8642160" cy="11912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¿SE PODRÁ IMPLEMENTAR EFICAZ Y EFICIENTEMENTE UN SMS SI EXISTE LA SIGUIENTE GESTIÓN ORGANIZACIONAL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2060640"/>
            <a:ext cx="8785440" cy="448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) Organización Vertical y gestionada según organigrama.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) Inadecuado Sistema de Comunicación (Vertical/Horizontal)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) Donde los empleados trabajan lo necesario para que no los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despidan y la organización los remunera / gestiona lo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necesario para que no renuncien (inadecuado clima laboral).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) No existe la cultura de trabajo en equipo.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) Carencia de conciencia en cuanto al compromiso de la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segu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04000" y="4110120"/>
            <a:ext cx="165744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1197000"/>
            <a:ext cx="799128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RESPUESTA DE COCESNA PARA CUMPLIR LOS MÚLTIPLES REQUERIMIENTOS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4094280"/>
            <a:ext cx="1657080" cy="180036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actore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200" y="4076640"/>
            <a:ext cx="1657080" cy="157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4076640"/>
            <a:ext cx="1657440" cy="157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55640" y="2565360"/>
            <a:ext cx="7777080" cy="459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STEMA INTEGRADO DE GESTIÓN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997360"/>
            <a:ext cx="0" cy="718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47640" y="3716280"/>
            <a:ext cx="619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3716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3716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51640" y="3716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740720" y="371628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2032200" cy="3810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4000" y="1136520"/>
            <a:ext cx="8137440" cy="1068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023920" cy="3794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572000" y="2349360"/>
            <a:ext cx="2011320" cy="3772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838920" y="2658960"/>
            <a:ext cx="1601640" cy="30020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877080" y="2349360"/>
            <a:ext cx="1582560" cy="271440"/>
          </a:xfrm>
          <a:prstGeom prst="rect">
            <a:avLst/>
          </a:pr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000" spc="-1" strike="noStrike">
                <a:solidFill>
                  <a:srgbClr val="202062"/>
                </a:solidFill>
                <a:latin typeface="Eras Bold ITC"/>
              </a:rPr>
              <a:t>Unidades de Dire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000" spc="-1" strike="noStrike">
                <a:solidFill>
                  <a:srgbClr val="202062"/>
                </a:solidFill>
                <a:latin typeface="Eras Bold ITC"/>
              </a:rPr>
              <a:t>y Apoy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020000" y="5661000"/>
            <a:ext cx="136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UD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1" name=""/>
          <p:cNvSpPr/>
          <p:nvPr/>
        </p:nvSpPr>
        <p:spPr>
          <a:xfrm>
            <a:off x="6877080" y="2637000"/>
            <a:ext cx="15825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03280" y="1018800"/>
            <a:ext cx="6840720" cy="617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laneación Estratégica – PMEC (2005 –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1925640"/>
            <a:ext cx="8785440" cy="1143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Integrado de Gestión de COCESNA (SIGC) a certificarse bajo NORMA ISO 9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68360" y="1681200"/>
            <a:ext cx="0" cy="24444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46040" y="3789360"/>
            <a:ext cx="7086600" cy="2718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Servicios Tránsito Aéreo (ATS - ACN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Servicios de Información Aeronáutica (AIS - ACN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Seguridad Aeronáutica / Safety - Security (ACS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Capacitación / Instrucción (ICCA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Desarrollo de Sistemas de Información (GTM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Gestión de Mantenimiento Técnico (GMP - ACN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700" spc="-1" strike="noStrike">
                <a:solidFill>
                  <a:srgbClr val="000000"/>
                </a:solidFill>
                <a:latin typeface="Arial"/>
              </a:rPr>
              <a:t>Inspección y Evaluación (I&amp;E - ACN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70080" y="3213000"/>
            <a:ext cx="7047000" cy="36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ios Operativos que conforma el Alcance del SIG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3403440"/>
            <a:ext cx="457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08720" y="1679400"/>
            <a:ext cx="0" cy="2448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6920" y="30686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4920" y="2646360"/>
            <a:ext cx="1752480" cy="2209680"/>
          </a:xfrm>
          <a:prstGeom prst="vertic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stem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 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692360" y="3589200"/>
            <a:ext cx="228600" cy="381240"/>
            <a:chOff x="1692360" y="3589200"/>
            <a:chExt cx="228600" cy="381240"/>
          </a:xfrm>
        </p:grpSpPr>
        <p:sp>
          <p:nvSpPr>
            <p:cNvPr id="202" name=""/>
            <p:cNvSpPr/>
            <p:nvPr/>
          </p:nvSpPr>
          <p:spPr>
            <a:xfrm>
              <a:off x="1768680" y="3589200"/>
              <a:ext cx="75960" cy="38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92360" y="3741840"/>
              <a:ext cx="2286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151760" y="3665520"/>
            <a:ext cx="228600" cy="228600"/>
            <a:chOff x="7151760" y="3665520"/>
            <a:chExt cx="228600" cy="228600"/>
          </a:xfrm>
        </p:grpSpPr>
        <p:sp>
          <p:nvSpPr>
            <p:cNvPr id="205" name=""/>
            <p:cNvSpPr/>
            <p:nvPr/>
          </p:nvSpPr>
          <p:spPr>
            <a:xfrm>
              <a:off x="7151760" y="3665520"/>
              <a:ext cx="228600" cy="75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51760" y="3817800"/>
              <a:ext cx="22860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708360" y="2641680"/>
            <a:ext cx="1752480" cy="220968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140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Sistema d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Gestió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mbien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360" y="510840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53000" y="5084640"/>
            <a:ext cx="174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83520" y="2060640"/>
            <a:ext cx="1752480" cy="3529080"/>
          </a:xfrm>
          <a:prstGeom prst="verticalScroll">
            <a:avLst>
              <a:gd name="adj" fmla="val 12500"/>
            </a:avLst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iste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ntegr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Gest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CES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35280" y="2641680"/>
            <a:ext cx="1752480" cy="2209680"/>
          </a:xfrm>
          <a:prstGeom prst="verticalScroll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H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8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stema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guridad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alu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cupac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bo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564000" y="3618000"/>
            <a:ext cx="228600" cy="380880"/>
            <a:chOff x="3564000" y="3618000"/>
            <a:chExt cx="228600" cy="380880"/>
          </a:xfrm>
        </p:grpSpPr>
        <p:sp>
          <p:nvSpPr>
            <p:cNvPr id="213" name=""/>
            <p:cNvSpPr/>
            <p:nvPr/>
          </p:nvSpPr>
          <p:spPr>
            <a:xfrm>
              <a:off x="3640320" y="3618000"/>
              <a:ext cx="759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64000" y="3770280"/>
              <a:ext cx="228600" cy="75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160360" y="5084640"/>
            <a:ext cx="11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Segur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641680"/>
            <a:ext cx="1752480" cy="2209680"/>
          </a:xfrm>
          <a:prstGeom prst="vertic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OTR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NORM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APLICABL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364000" y="3618000"/>
            <a:ext cx="228600" cy="380880"/>
            <a:chOff x="5364000" y="3618000"/>
            <a:chExt cx="228600" cy="380880"/>
          </a:xfrm>
        </p:grpSpPr>
        <p:sp>
          <p:nvSpPr>
            <p:cNvPr id="218" name=""/>
            <p:cNvSpPr/>
            <p:nvPr/>
          </p:nvSpPr>
          <p:spPr>
            <a:xfrm>
              <a:off x="5440320" y="3618000"/>
              <a:ext cx="75960" cy="380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64000" y="3770280"/>
              <a:ext cx="228600" cy="75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11280" y="1052640"/>
            <a:ext cx="7812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SISTEMA INTEGRADO DE GESTIÓN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Arial"/>
              </a:rPr>
              <a:t>(CALIDAD, SEGURIDAD, FACTORES HUMANOS y MEDIO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5370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lan Maestro Estratégico de COCESNA (PMEC 2005-200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 ISO 9001: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 OHSAS 18001:1999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 ISO 14001:2004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Buenas Prácticas de la Indust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s / Recomendaciones OAC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istema de Gestión de la Seguridad (DOC. OACI 985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istema de Gestión de Factores Humanos                          (Doc 9683 –AN/950 de FH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rco legal y regulatorio aplica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tiva para el área de gestión de mantenimiento técnic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rmativa para el área informática (ISO 17799,  CM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42920" y="1006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MARCO NORMATIVO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79280" y="1295280"/>
            <a:ext cx="8785440" cy="693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PRINCIPIOS DE CALIDAD SEGÚN LA NORMA ISO 9000 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Y QUE SOPORTAN / COMPLEMENTA EL SMS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-711720" y="3772440"/>
            <a:ext cx="2808360" cy="8254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foque al Usuario y/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222840" y="3955320"/>
            <a:ext cx="2808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1193040" y="3770640"/>
            <a:ext cx="2808360" cy="825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ticipación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2312280" y="3770640"/>
            <a:ext cx="2808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foque de 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3503160" y="3587760"/>
            <a:ext cx="280836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foque de Sistema para la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4505760" y="3953520"/>
            <a:ext cx="280836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ejora Contin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5519160" y="3589560"/>
            <a:ext cx="280836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oma de Decisiones Basada en Hech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6887520" y="3589560"/>
            <a:ext cx="2808360" cy="11912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laciones Beneficiosas con Prove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4360" y="2421000"/>
            <a:ext cx="763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1928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08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32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0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48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31708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989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50920" y="1987560"/>
            <a:ext cx="8642160" cy="3889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de administración y estilo de trabajo cuya metodología y atributos permitan incrementar la satisfacción del usuario / cliente y la eficiencia personal y organizacional, generando una cultura orientada a la calidad, seguridad y la excelencia en el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Orientación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 y Seguridad de la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 y Seguridad del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1280" y="1006560"/>
            <a:ext cx="7812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SISTEMA INTEGRADO DE GEST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280" y="1773000"/>
            <a:ext cx="820908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cribir el Sistema Integrado de Gestión COCESNA, SIGC (Calidad, Seguridad, Factores Humanos y Medio Ambiente) y sus beneficios en la prestación de servicios para el desarrollo de la aviación civ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esentar el SIGC como un sistema integral a nivel corporativo para implementar el SMS en COCES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r a conocer el SIGC como un sistema de gestión para facilitar el permanente cumplimiento del Programa de Auditorias OACI, FAA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ulgar el alcance del SIGC y planes de certificación bajo la norma ISO 9001:2000 e integración de otras normativ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98100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79280" y="1835280"/>
            <a:ext cx="8569440" cy="447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crementar la excelencia del servicio, generando valor al cliente, especialmente en el personal en conta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crementar la eficiencia  (mejoramiento de procesos y disminución de errore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crementar los niveles de seguridad, salud ocupacional y clima laboral para generar un mejor entorno de trabajo, mediante una correcta administración de los Factores Huma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enerar las bases para el mejoramiento continuo y el desarrollo sustentable de COCES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200" spc="-1" strike="noStrike">
                <a:solidFill>
                  <a:srgbClr val="000000"/>
                </a:solidFill>
                <a:latin typeface="Arial"/>
              </a:rPr>
              <a:t>Cumplir con los requerimientos de la OACI y los Estados Miembros de COCES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120" indent="-4572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42920" y="1006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 GENERALES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SISTEMA INTEGRADO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102120" y="51847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187280" y="1787400"/>
            <a:ext cx="6624720" cy="4810320"/>
            <a:chOff x="1187280" y="1787400"/>
            <a:chExt cx="6624720" cy="4810320"/>
          </a:xfrm>
        </p:grpSpPr>
        <p:sp>
          <p:nvSpPr>
            <p:cNvPr id="248" name=""/>
            <p:cNvSpPr/>
            <p:nvPr/>
          </p:nvSpPr>
          <p:spPr>
            <a:xfrm>
              <a:off x="3201840" y="2594520"/>
              <a:ext cx="2892600" cy="2649600"/>
            </a:xfrm>
            <a:custGeom>
              <a:avLst/>
              <a:gdLst/>
              <a:ahLst/>
              <a:rect l="l" t="t" r="r" b="b"/>
              <a:pathLst>
                <a:path w="1822" h="1694">
                  <a:moveTo>
                    <a:pt x="911" y="0"/>
                  </a:moveTo>
                  <a:lnTo>
                    <a:pt x="0" y="1694"/>
                  </a:lnTo>
                  <a:lnTo>
                    <a:pt x="1822" y="1694"/>
                  </a:lnTo>
                  <a:lnTo>
                    <a:pt x="911" y="0"/>
                  </a:lnTo>
                  <a:close/>
                </a:path>
              </a:pathLst>
            </a:custGeom>
            <a:solidFill>
              <a:srgbClr val="ffffff"/>
            </a:solidFill>
            <a:ln w="22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18120" y="3931920"/>
              <a:ext cx="777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Cl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62960" y="3931920"/>
              <a:ext cx="192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30440" y="4221360"/>
              <a:ext cx="694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Par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9520" y="4510800"/>
              <a:ext cx="1261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Interes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67040" y="2594520"/>
              <a:ext cx="1627200" cy="46728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0240" y="2707200"/>
              <a:ext cx="1119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Segur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11280" y="5000400"/>
              <a:ext cx="1627200" cy="735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52560" y="5149080"/>
              <a:ext cx="107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Eficienc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22800" y="5000400"/>
              <a:ext cx="1446120" cy="73512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36720" y="5135040"/>
              <a:ext cx="864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185e"/>
                  </a:solidFill>
                  <a:latin typeface="Times New Roman"/>
                </a:rPr>
                <a:t>Calid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87280" y="1787400"/>
              <a:ext cx="6624720" cy="4810320"/>
            </a:xfrm>
            <a:prstGeom prst="ellipse">
              <a:avLst/>
            </a:prstGeom>
            <a:noFill/>
            <a:ln w="68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27240" y="5707440"/>
              <a:ext cx="334332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0040" y="5817240"/>
              <a:ext cx="2961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8185e"/>
                  </a:solidFill>
                  <a:latin typeface="Times New Roman"/>
                </a:rPr>
                <a:t>Factores Humano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65440" y="1965600"/>
              <a:ext cx="3638520" cy="64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86840" y="2075400"/>
              <a:ext cx="32468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18185e"/>
                  </a:solidFill>
                  <a:latin typeface="Times New Roman"/>
                </a:rPr>
                <a:t>Gestión Operacional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042920" y="1006560"/>
            <a:ext cx="7380360" cy="62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SISTEMA INTEGRADO DE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09760" y="2251080"/>
            <a:ext cx="505584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a5"/>
                </a:solidFill>
                <a:latin typeface="Tahoma"/>
              </a:rPr>
              <a:t>    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Cumplimiento  de requisitos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     </a:t>
            </a: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(regulaciones, procedimientos,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estándares, expectativas de l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      </a:t>
            </a:r>
            <a:r>
              <a:rPr b="0" lang="es-ES" sz="2000" spc="-1" strike="noStrike">
                <a:solidFill>
                  <a:srgbClr val="2929a5"/>
                </a:solidFill>
                <a:latin typeface="Tahoma"/>
              </a:rPr>
              <a:t>clientes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):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       </a:t>
            </a:r>
            <a:r>
              <a:rPr b="1" lang="es-ES" sz="2000" spc="-1" strike="noStrike" u="sng">
                <a:solidFill>
                  <a:srgbClr val="006666"/>
                </a:solidFill>
                <a:uFillTx/>
                <a:latin typeface="Tahoma"/>
              </a:rPr>
              <a:t>EVITAR DEF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600" y="5132520"/>
            <a:ext cx="504000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929a5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Control de procesos,   disminución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de  errores, mejor aprovecha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de los recurs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33"/>
                </a:solidFill>
                <a:latin typeface="Tahoma"/>
              </a:rPr>
              <a:t>   </a:t>
            </a:r>
            <a:r>
              <a:rPr b="1" lang="es-ES" sz="2000" spc="-1" strike="noStrike" u="sng">
                <a:solidFill>
                  <a:srgbClr val="33cc33"/>
                </a:solidFill>
                <a:uFillTx/>
                <a:latin typeface="Tahoma"/>
              </a:rPr>
              <a:t>EVITAR DERRO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68920" y="2637000"/>
            <a:ext cx="45720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292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68920" y="4008600"/>
            <a:ext cx="45720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292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8920" y="5380200"/>
            <a:ext cx="457200" cy="99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2929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57960" y="4083120"/>
            <a:ext cx="2514600" cy="990360"/>
          </a:xfrm>
          <a:prstGeom prst="rect">
            <a:avLst/>
          </a:prstGeom>
          <a:solidFill>
            <a:srgbClr val="ff66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a5"/>
                </a:solidFill>
                <a:latin typeface="Tahoma"/>
              </a:rPr>
              <a:t>Segu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57960" y="2571840"/>
            <a:ext cx="2514600" cy="99036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2929a5"/>
                </a:solidFill>
                <a:latin typeface="Tahoma"/>
              </a:rPr>
              <a:t>Calida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357960" y="5460840"/>
            <a:ext cx="25146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2929a5"/>
                </a:solidFill>
                <a:latin typeface="Tahoma"/>
              </a:rPr>
              <a:t>Eficienci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40320" y="1701720"/>
            <a:ext cx="262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 u="sng">
                <a:solidFill>
                  <a:srgbClr val="2929a5"/>
                </a:solidFill>
                <a:uFillTx/>
                <a:latin typeface="Tahoma"/>
              </a:rPr>
              <a:t>Result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1480" y="4008600"/>
            <a:ext cx="506412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a5"/>
                </a:solidFill>
                <a:latin typeface="Tahoma"/>
              </a:rPr>
              <a:t>   </a:t>
            </a:r>
            <a:r>
              <a:rPr b="1" lang="es-ES" sz="2000" spc="-1" strike="noStrike">
                <a:solidFill>
                  <a:srgbClr val="2929a5"/>
                </a:solidFill>
                <a:latin typeface="Tahoma"/>
              </a:rPr>
              <a:t>Prevención y control   de riesg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Tahoma"/>
              </a:rPr>
              <a:t>     </a:t>
            </a:r>
            <a:r>
              <a:rPr b="1" lang="es-ES" sz="2000" spc="-1" strike="noStrike" u="sng">
                <a:solidFill>
                  <a:srgbClr val="ff9900"/>
                </a:solidFill>
                <a:uFillTx/>
                <a:latin typeface="Tahoma"/>
              </a:rPr>
              <a:t>EVITAR D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73200" y="1701720"/>
            <a:ext cx="2624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 u="sng">
                <a:solidFill>
                  <a:srgbClr val="2929a5"/>
                </a:solidFill>
                <a:uFillTx/>
                <a:latin typeface="Tahoma"/>
              </a:rPr>
              <a:t>Proces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42920" y="1006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 DE LA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588000" y="1844640"/>
            <a:ext cx="2592360" cy="3816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68360" y="1341360"/>
            <a:ext cx="6191280" cy="5183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9144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¿Qué está haciendo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OCESNA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ara implementar el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MS a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ivel corporativo y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particularmente </a:t>
            </a:r>
            <a:br>
              <a:rPr sz="3200"/>
            </a:b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en A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STEMA INTEGR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GEST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ESNA (SI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11280" y="1195560"/>
            <a:ext cx="792144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PREMISAS DEL SISTEMA INTEGRADO DE </a:t>
            </a:r>
            <a:br>
              <a:rPr sz="2400"/>
            </a:b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GESTIÓN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800" spc="-1" strike="noStrike">
                <a:solidFill>
                  <a:srgbClr val="ffffff"/>
                </a:solidFill>
                <a:latin typeface="Arial"/>
              </a:rPr>
              <a:t>(CALIDAD, </a:t>
            </a:r>
            <a:r>
              <a:rPr b="1" lang="es-HN" sz="1800" spc="-1" strike="noStrike">
                <a:solidFill>
                  <a:srgbClr val="cc3300"/>
                </a:solidFill>
                <a:latin typeface="Arial"/>
              </a:rPr>
              <a:t>SEGURIDAD</a:t>
            </a:r>
            <a:r>
              <a:rPr b="1" lang="es-HN" sz="1800" spc="-1" strike="noStrike">
                <a:solidFill>
                  <a:srgbClr val="ffffff"/>
                </a:solidFill>
                <a:latin typeface="Arial"/>
              </a:rPr>
              <a:t>, FACTORES HUMANOS y MEDIO AMBI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-894600" y="4242600"/>
            <a:ext cx="280836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inanc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-202320" y="4242600"/>
            <a:ext cx="280836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ste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484560" y="4239360"/>
            <a:ext cx="280836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sté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1591920" y="3873600"/>
            <a:ext cx="2808360" cy="11912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ticipativo y/o responsabilización a todo n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964600" y="4056480"/>
            <a:ext cx="280836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o debe ser pun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4010400" y="4241160"/>
            <a:ext cx="28080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ltura Proa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5274720" y="3876840"/>
            <a:ext cx="2808360" cy="119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onalizado a cada proceso de la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6350400" y="4242600"/>
            <a:ext cx="2808360" cy="459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an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4360" y="2708280"/>
            <a:ext cx="792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436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2256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2764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43564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8800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1200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7180920" y="4058280"/>
            <a:ext cx="280800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unicación y Trabajo en Equ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604360" y="27082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539640" y="1955880"/>
            <a:ext cx="8229600" cy="752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sencia de daños como resultante de una operación orientada a la prevención y control de riesg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06200" y="3081240"/>
            <a:ext cx="424980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20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gestión de la seguridad se refiere a evitar daños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09720" y="3081240"/>
            <a:ext cx="4487040" cy="2288520"/>
          </a:xfrm>
          <a:prstGeom prst="rect">
            <a:avLst/>
          </a:prstGeom>
          <a:solidFill>
            <a:srgbClr val="00cc99"/>
          </a:solidFill>
          <a:ln w="9360">
            <a:solidFill>
              <a:srgbClr val="2020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bi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rrores y fallas en la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las prácticas ope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fermedades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42920" y="979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03280" y="5661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resumen la aplicación del Modelo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3059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Seguridad y </a:t>
            </a:r>
            <a:br>
              <a:rPr sz="3200"/>
            </a:b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Arial"/>
              </a:rPr>
              <a:t>Medio Ambi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2560" y="1793880"/>
            <a:ext cx="9024480" cy="4664520"/>
            <a:chOff x="52560" y="1793880"/>
            <a:chExt cx="9024480" cy="4664520"/>
          </a:xfrm>
        </p:grpSpPr>
        <p:cxnSp>
          <p:nvCxnSpPr>
            <p:cNvPr id="307" name="_s449541"/>
            <p:cNvCxnSpPr>
              <a:stCxn id="308" idx="0"/>
              <a:endCxn id="309" idx="2"/>
            </p:cNvCxnSpPr>
            <p:nvPr/>
          </p:nvCxnSpPr>
          <p:spPr>
            <a:xfrm flipV="1" rot="16200000">
              <a:off x="3319200" y="4178880"/>
              <a:ext cx="448920" cy="2944800"/>
            </a:xfrm>
            <a:prstGeom prst="bentConnector3">
              <a:avLst>
                <a:gd name="adj1" fmla="val 342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0" name="_s449542"/>
            <p:cNvCxnSpPr>
              <a:stCxn id="311" idx="1"/>
              <a:endCxn id="312" idx="2"/>
            </p:cNvCxnSpPr>
            <p:nvPr/>
          </p:nvCxnSpPr>
          <p:spPr>
            <a:xfrm rot="10800000">
              <a:off x="4396680" y="2682000"/>
              <a:ext cx="396360" cy="747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3" name="_s449543"/>
            <p:cNvCxnSpPr>
              <a:stCxn id="314" idx="0"/>
              <a:endCxn id="312" idx="2"/>
            </p:cNvCxnSpPr>
            <p:nvPr/>
          </p:nvCxnSpPr>
          <p:spPr>
            <a:xfrm flipV="1" rot="16200000">
              <a:off x="4327560" y="2751120"/>
              <a:ext cx="1899000" cy="1760400"/>
            </a:xfrm>
            <a:prstGeom prst="bentConnector3">
              <a:avLst>
                <a:gd name="adj1" fmla="val 172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5" name="_s449544"/>
            <p:cNvCxnSpPr>
              <a:stCxn id="316" idx="0"/>
              <a:endCxn id="309" idx="2"/>
            </p:cNvCxnSpPr>
            <p:nvPr/>
          </p:nvCxnSpPr>
          <p:spPr>
            <a:xfrm flipV="1" rot="16200000">
              <a:off x="2310480" y="5187600"/>
              <a:ext cx="423000" cy="901800"/>
            </a:xfrm>
            <a:prstGeom prst="bentConnector3">
              <a:avLst>
                <a:gd name="adj1" fmla="val 270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7" name="_s449545"/>
            <p:cNvCxnSpPr>
              <a:stCxn id="318" idx="3"/>
              <a:endCxn id="312" idx="2"/>
            </p:cNvCxnSpPr>
            <p:nvPr/>
          </p:nvCxnSpPr>
          <p:spPr>
            <a:xfrm flipV="1">
              <a:off x="4238640" y="2682000"/>
              <a:ext cx="158760" cy="747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9" name="_s449546"/>
            <p:cNvCxnSpPr>
              <a:stCxn id="320" idx="0"/>
              <a:endCxn id="309" idx="2"/>
            </p:cNvCxnSpPr>
            <p:nvPr/>
          </p:nvCxnSpPr>
          <p:spPr>
            <a:xfrm flipH="1" flipV="1" rot="5400000">
              <a:off x="1289160" y="5067000"/>
              <a:ext cx="423000" cy="1143000"/>
            </a:xfrm>
            <a:prstGeom prst="bentConnector3">
              <a:avLst>
                <a:gd name="adj1" fmla="val 270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1" name="_s449547"/>
            <p:cNvCxnSpPr>
              <a:stCxn id="322" idx="0"/>
              <a:endCxn id="312" idx="2"/>
            </p:cNvCxnSpPr>
            <p:nvPr/>
          </p:nvCxnSpPr>
          <p:spPr>
            <a:xfrm flipV="1" rot="16200000">
              <a:off x="5349240" y="1729440"/>
              <a:ext cx="1899000" cy="3803760"/>
            </a:xfrm>
            <a:prstGeom prst="bentConnector3">
              <a:avLst>
                <a:gd name="adj1" fmla="val 172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3" name="_s449548"/>
            <p:cNvCxnSpPr>
              <a:stCxn id="324" idx="0"/>
              <a:endCxn id="312" idx="2"/>
            </p:cNvCxnSpPr>
            <p:nvPr/>
          </p:nvCxnSpPr>
          <p:spPr>
            <a:xfrm flipH="1" flipV="1" rot="5400000">
              <a:off x="3306960" y="3490560"/>
              <a:ext cx="1899000" cy="282240"/>
            </a:xfrm>
            <a:prstGeom prst="bentConnector3">
              <a:avLst>
                <a:gd name="adj1" fmla="val 179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5" name="_s449549"/>
            <p:cNvCxnSpPr>
              <a:stCxn id="309" idx="0"/>
              <a:endCxn id="312" idx="2"/>
            </p:cNvCxnSpPr>
            <p:nvPr/>
          </p:nvCxnSpPr>
          <p:spPr>
            <a:xfrm flipH="1" flipV="1" rot="5400000">
              <a:off x="2284560" y="2468880"/>
              <a:ext cx="1899000" cy="2325600"/>
            </a:xfrm>
            <a:prstGeom prst="bentConnector3">
              <a:avLst>
                <a:gd name="adj1" fmla="val 179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2" name="_s449550"/>
            <p:cNvSpPr/>
            <p:nvPr/>
          </p:nvSpPr>
          <p:spPr>
            <a:xfrm>
              <a:off x="3281400" y="1793880"/>
              <a:ext cx="2232360" cy="888840"/>
            </a:xfrm>
            <a:prstGeom prst="roundRect">
              <a:avLst>
                <a:gd name="adj" fmla="val 16667"/>
              </a:avLst>
            </a:prstGeom>
            <a:solidFill>
              <a:srgbClr val="996633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SEGUR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Times New Roman"/>
                </a:rPr>
                <a:t>MEDIO 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_s449551"/>
            <p:cNvSpPr/>
            <p:nvPr/>
          </p:nvSpPr>
          <p:spPr>
            <a:xfrm>
              <a:off x="1195200" y="4581000"/>
              <a:ext cx="1751400" cy="846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egurida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Fís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_s449552"/>
            <p:cNvSpPr/>
            <p:nvPr/>
          </p:nvSpPr>
          <p:spPr>
            <a:xfrm>
              <a:off x="3238920" y="4581000"/>
              <a:ext cx="1751040" cy="846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egurida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Oper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_s449553"/>
            <p:cNvSpPr/>
            <p:nvPr/>
          </p:nvSpPr>
          <p:spPr>
            <a:xfrm>
              <a:off x="7323840" y="4581000"/>
              <a:ext cx="1753200" cy="846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560" rIns="756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Medi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Ambi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_s449554"/>
            <p:cNvSpPr/>
            <p:nvPr/>
          </p:nvSpPr>
          <p:spPr>
            <a:xfrm>
              <a:off x="52560" y="5850360"/>
              <a:ext cx="1751400" cy="580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840" rIns="15840" tIns="7920" bIns="7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eguridad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_s449555"/>
            <p:cNvSpPr/>
            <p:nvPr/>
          </p:nvSpPr>
          <p:spPr>
            <a:xfrm>
              <a:off x="2489760" y="3067920"/>
              <a:ext cx="1748880" cy="721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2680" rIns="22680" tIns="11520" bIns="11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Public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_s449556"/>
            <p:cNvSpPr/>
            <p:nvPr/>
          </p:nvSpPr>
          <p:spPr>
            <a:xfrm>
              <a:off x="2096280" y="5850360"/>
              <a:ext cx="1751040" cy="5806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26640" tIns="13320" bIns="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egur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Instala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_s449557"/>
            <p:cNvSpPr/>
            <p:nvPr/>
          </p:nvSpPr>
          <p:spPr>
            <a:xfrm>
              <a:off x="5282280" y="4581000"/>
              <a:ext cx="1747080" cy="8467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5200" bIns="252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Salud Ocupacio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imes New Roman"/>
                </a:rPr>
                <a:t>y Medicina Labor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_s449558"/>
            <p:cNvSpPr/>
            <p:nvPr/>
          </p:nvSpPr>
          <p:spPr>
            <a:xfrm>
              <a:off x="4793040" y="3067920"/>
              <a:ext cx="1749600" cy="72108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320" rIns="7632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Factores Hum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_s449559"/>
            <p:cNvSpPr/>
            <p:nvPr/>
          </p:nvSpPr>
          <p:spPr>
            <a:xfrm>
              <a:off x="4139640" y="5876280"/>
              <a:ext cx="1751400" cy="5821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54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Segurida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Aeroportua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372360" y="1125360"/>
            <a:ext cx="2520720" cy="863640"/>
          </a:xfrm>
          <a:prstGeom prst="rect">
            <a:avLst/>
          </a:prstGeom>
          <a:solidFill>
            <a:srgbClr val="ccff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ecurity &amp; Safe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"/>
          <p:cNvGrpSpPr/>
          <p:nvPr/>
        </p:nvGrpSpPr>
        <p:grpSpPr>
          <a:xfrm>
            <a:off x="487440" y="3284280"/>
            <a:ext cx="7175160" cy="2852640"/>
            <a:chOff x="487440" y="3284280"/>
            <a:chExt cx="7175160" cy="2852640"/>
          </a:xfrm>
        </p:grpSpPr>
        <p:grpSp>
          <p:nvGrpSpPr>
            <p:cNvPr id="328" name=""/>
            <p:cNvGrpSpPr/>
            <p:nvPr/>
          </p:nvGrpSpPr>
          <p:grpSpPr>
            <a:xfrm>
              <a:off x="973800" y="3396600"/>
              <a:ext cx="5778000" cy="2677320"/>
              <a:chOff x="973800" y="3396600"/>
              <a:chExt cx="5778000" cy="26773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4200120" y="4128120"/>
                <a:ext cx="377280" cy="153720"/>
                <a:chOff x="4200120" y="4128120"/>
                <a:chExt cx="377280" cy="15372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316400" y="4187880"/>
                  <a:ext cx="261000" cy="280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200120" y="4128120"/>
                  <a:ext cx="120960" cy="153720"/>
                </a:xfrm>
                <a:custGeom>
                  <a:avLst/>
                  <a:gdLst/>
                  <a:ahLst/>
                  <a:rect l="l" t="t" r="r" b="b"/>
                  <a:pathLst>
                    <a:path w="77" h="77">
                      <a:moveTo>
                        <a:pt x="77" y="0"/>
                      </a:moveTo>
                      <a:lnTo>
                        <a:pt x="0" y="37"/>
                      </a:lnTo>
                      <a:lnTo>
                        <a:pt x="77" y="77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4445640" y="5901840"/>
                <a:ext cx="261000" cy="172080"/>
                <a:chOff x="4445640" y="5901840"/>
                <a:chExt cx="261000" cy="1720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445640" y="5956200"/>
                  <a:ext cx="160560" cy="11772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0" y="47"/>
                      </a:moveTo>
                      <a:lnTo>
                        <a:pt x="8" y="59"/>
                      </a:lnTo>
                      <a:lnTo>
                        <a:pt x="102" y="12"/>
                      </a:lnTo>
                      <a:lnTo>
                        <a:pt x="94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569840" y="5901840"/>
                  <a:ext cx="136800" cy="138240"/>
                </a:xfrm>
                <a:custGeom>
                  <a:avLst/>
                  <a:gdLst/>
                  <a:ahLst/>
                  <a:rect l="l" t="t" r="r" b="b"/>
                  <a:pathLst>
                    <a:path w="87" h="69">
                      <a:moveTo>
                        <a:pt x="35" y="69"/>
                      </a:moveTo>
                      <a:lnTo>
                        <a:pt x="87" y="0"/>
                      </a:lnTo>
                      <a:lnTo>
                        <a:pt x="0" y="0"/>
                      </a:lnTo>
                      <a:lnTo>
                        <a:pt x="35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1031760" y="5886000"/>
                <a:ext cx="324000" cy="187920"/>
                <a:chOff x="1031760" y="5886000"/>
                <a:chExt cx="324000" cy="1879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1137240" y="5946120"/>
                  <a:ext cx="218520" cy="127800"/>
                </a:xfrm>
                <a:custGeom>
                  <a:avLst/>
                  <a:gdLst/>
                  <a:ahLst/>
                  <a:rect l="l" t="t" r="r" b="b"/>
                  <a:pathLst>
                    <a:path w="139" h="64">
                      <a:moveTo>
                        <a:pt x="134" y="64"/>
                      </a:moveTo>
                      <a:lnTo>
                        <a:pt x="139" y="52"/>
                      </a:lnTo>
                      <a:lnTo>
                        <a:pt x="7" y="0"/>
                      </a:lnTo>
                      <a:lnTo>
                        <a:pt x="0" y="12"/>
                      </a:lnTo>
                      <a:lnTo>
                        <a:pt x="134" y="6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031760" y="5886000"/>
                  <a:ext cx="140040" cy="144360"/>
                </a:xfrm>
                <a:custGeom>
                  <a:avLst/>
                  <a:gdLst/>
                  <a:ahLst/>
                  <a:rect l="l" t="t" r="r" b="b"/>
                  <a:pathLst>
                    <a:path w="89" h="72">
                      <a:moveTo>
                        <a:pt x="89" y="0"/>
                      </a:moveTo>
                      <a:lnTo>
                        <a:pt x="0" y="8"/>
                      </a:lnTo>
                      <a:lnTo>
                        <a:pt x="59" y="7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2357640" y="5092560"/>
                <a:ext cx="199440" cy="252360"/>
                <a:chOff x="2357640" y="5092560"/>
                <a:chExt cx="199440" cy="25236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2357640" y="5190480"/>
                  <a:ext cx="125640" cy="154440"/>
                </a:xfrm>
                <a:custGeom>
                  <a:avLst/>
                  <a:gdLst/>
                  <a:ahLst/>
                  <a:rect l="l" t="t" r="r" b="b"/>
                  <a:pathLst>
                    <a:path w="80" h="77">
                      <a:moveTo>
                        <a:pt x="0" y="67"/>
                      </a:moveTo>
                      <a:lnTo>
                        <a:pt x="10" y="77"/>
                      </a:lnTo>
                      <a:lnTo>
                        <a:pt x="80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425320" y="5092560"/>
                  <a:ext cx="131760" cy="1677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57" y="84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973800" y="3396600"/>
                <a:ext cx="121320" cy="402480"/>
                <a:chOff x="973800" y="3396600"/>
                <a:chExt cx="121320" cy="4024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1020960" y="3546720"/>
                  <a:ext cx="21600" cy="2523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973800" y="3396600"/>
                  <a:ext cx="121320" cy="154440"/>
                </a:xfrm>
                <a:custGeom>
                  <a:avLst/>
                  <a:gdLst/>
                  <a:ahLst/>
                  <a:rect l="l" t="t" r="r" b="b"/>
                  <a:pathLst>
                    <a:path w="77" h="77">
                      <a:moveTo>
                        <a:pt x="77" y="77"/>
                      </a:moveTo>
                      <a:lnTo>
                        <a:pt x="37" y="0"/>
                      </a:lnTo>
                      <a:lnTo>
                        <a:pt x="0" y="77"/>
                      </a:lnTo>
                      <a:lnTo>
                        <a:pt x="77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552360" y="4739760"/>
                <a:ext cx="199440" cy="251640"/>
                <a:chOff x="6552360" y="4739760"/>
                <a:chExt cx="199440" cy="2516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552360" y="4739760"/>
                  <a:ext cx="125640" cy="15768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10" y="0"/>
                      </a:moveTo>
                      <a:lnTo>
                        <a:pt x="0" y="10"/>
                      </a:lnTo>
                      <a:lnTo>
                        <a:pt x="67" y="79"/>
                      </a:lnTo>
                      <a:lnTo>
                        <a:pt x="80" y="6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618240" y="4827600"/>
                  <a:ext cx="133560" cy="163800"/>
                </a:xfrm>
                <a:custGeom>
                  <a:avLst/>
                  <a:gdLst/>
                  <a:ahLst/>
                  <a:rect l="l" t="t" r="r" b="b"/>
                  <a:pathLst>
                    <a:path w="85" h="82">
                      <a:moveTo>
                        <a:pt x="0" y="55"/>
                      </a:moveTo>
                      <a:lnTo>
                        <a:pt x="85" y="82"/>
                      </a:lnTo>
                      <a:lnTo>
                        <a:pt x="57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641520" y="3721320"/>
              <a:ext cx="6937200" cy="1647720"/>
              <a:chOff x="641520" y="3721320"/>
              <a:chExt cx="6937200" cy="164772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5018760" y="5216760"/>
                <a:ext cx="257760" cy="152280"/>
                <a:chOff x="5018760" y="5216760"/>
                <a:chExt cx="257760" cy="1522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018760" y="5274720"/>
                  <a:ext cx="144720" cy="75960"/>
                </a:xfrm>
                <a:custGeom>
                  <a:avLst/>
                  <a:gdLst/>
                  <a:ahLst/>
                  <a:rect l="l" t="t" r="r" b="b"/>
                  <a:pathLst>
                    <a:path w="92" h="38">
                      <a:moveTo>
                        <a:pt x="0" y="23"/>
                      </a:moveTo>
                      <a:lnTo>
                        <a:pt x="5" y="38"/>
                      </a:lnTo>
                      <a:lnTo>
                        <a:pt x="92" y="15"/>
                      </a:lnTo>
                      <a:lnTo>
                        <a:pt x="9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144760" y="5216760"/>
                  <a:ext cx="131760" cy="152280"/>
                </a:xfrm>
                <a:custGeom>
                  <a:avLst/>
                  <a:gdLst/>
                  <a:ahLst/>
                  <a:rect l="l" t="t" r="r" b="b"/>
                  <a:pathLst>
                    <a:path w="84" h="76">
                      <a:moveTo>
                        <a:pt x="17" y="76"/>
                      </a:moveTo>
                      <a:lnTo>
                        <a:pt x="84" y="19"/>
                      </a:lnTo>
                      <a:lnTo>
                        <a:pt x="0" y="0"/>
                      </a:lnTo>
                      <a:lnTo>
                        <a:pt x="17" y="7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899240" y="3879360"/>
                <a:ext cx="197640" cy="331920"/>
                <a:chOff x="4899240" y="3879360"/>
                <a:chExt cx="197640" cy="3319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957200" y="3993120"/>
                  <a:ext cx="139680" cy="218160"/>
                </a:xfrm>
                <a:custGeom>
                  <a:avLst/>
                  <a:gdLst/>
                  <a:ahLst/>
                  <a:rect l="l" t="t" r="r" b="b"/>
                  <a:pathLst>
                    <a:path w="89" h="109">
                      <a:moveTo>
                        <a:pt x="77" y="109"/>
                      </a:moveTo>
                      <a:lnTo>
                        <a:pt x="89" y="10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77" y="10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899240" y="3879360"/>
                  <a:ext cx="119160" cy="174240"/>
                </a:xfrm>
                <a:custGeom>
                  <a:avLst/>
                  <a:gdLst/>
                  <a:ahLst/>
                  <a:rect l="l" t="t" r="r" b="b"/>
                  <a:pathLst>
                    <a:path w="76" h="87">
                      <a:moveTo>
                        <a:pt x="76" y="40"/>
                      </a:moveTo>
                      <a:lnTo>
                        <a:pt x="0" y="0"/>
                      </a:lnTo>
                      <a:lnTo>
                        <a:pt x="14" y="87"/>
                      </a:lnTo>
                      <a:lnTo>
                        <a:pt x="76" y="4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2982960" y="4921920"/>
                <a:ext cx="136440" cy="332280"/>
                <a:chOff x="2982960" y="4921920"/>
                <a:chExt cx="136440" cy="33228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2982960" y="4921920"/>
                  <a:ext cx="92520" cy="204120"/>
                </a:xfrm>
                <a:custGeom>
                  <a:avLst/>
                  <a:gdLst/>
                  <a:ahLst/>
                  <a:rect l="l" t="t" r="r" b="b"/>
                  <a:pathLst>
                    <a:path w="59" h="102">
                      <a:moveTo>
                        <a:pt x="12" y="0"/>
                      </a:moveTo>
                      <a:lnTo>
                        <a:pt x="0" y="8"/>
                      </a:lnTo>
                      <a:lnTo>
                        <a:pt x="47" y="102"/>
                      </a:lnTo>
                      <a:lnTo>
                        <a:pt x="59" y="9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3009600" y="5082120"/>
                  <a:ext cx="109800" cy="172080"/>
                </a:xfrm>
                <a:custGeom>
                  <a:avLst/>
                  <a:gdLst/>
                  <a:ahLst/>
                  <a:rect l="l" t="t" r="r" b="b"/>
                  <a:pathLst>
                    <a:path w="70" h="86">
                      <a:moveTo>
                        <a:pt x="0" y="34"/>
                      </a:moveTo>
                      <a:lnTo>
                        <a:pt x="70" y="86"/>
                      </a:lnTo>
                      <a:lnTo>
                        <a:pt x="70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627000" y="3789360"/>
                <a:ext cx="326880" cy="411840"/>
                <a:chOff x="3627000" y="3789360"/>
                <a:chExt cx="326880" cy="4118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704040" y="3789360"/>
                  <a:ext cx="249840" cy="318240"/>
                </a:xfrm>
                <a:custGeom>
                  <a:avLst/>
                  <a:gdLst/>
                  <a:ahLst/>
                  <a:rect l="l" t="t" r="r" b="b"/>
                  <a:pathLst>
                    <a:path w="159" h="159">
                      <a:moveTo>
                        <a:pt x="159" y="10"/>
                      </a:moveTo>
                      <a:lnTo>
                        <a:pt x="149" y="0"/>
                      </a:lnTo>
                      <a:lnTo>
                        <a:pt x="0" y="149"/>
                      </a:lnTo>
                      <a:lnTo>
                        <a:pt x="10" y="159"/>
                      </a:lnTo>
                      <a:lnTo>
                        <a:pt x="159" y="1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627000" y="4037040"/>
                  <a:ext cx="13176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30" y="0"/>
                      </a:moveTo>
                      <a:lnTo>
                        <a:pt x="0" y="82"/>
                      </a:lnTo>
                      <a:lnTo>
                        <a:pt x="84" y="55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641520" y="4921920"/>
                <a:ext cx="136080" cy="332280"/>
                <a:chOff x="641520" y="4921920"/>
                <a:chExt cx="136080" cy="33228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641520" y="4921920"/>
                  <a:ext cx="93960" cy="204120"/>
                </a:xfrm>
                <a:custGeom>
                  <a:avLst/>
                  <a:gdLst/>
                  <a:ahLst/>
                  <a:rect l="l" t="t" r="r" b="b"/>
                  <a:pathLst>
                    <a:path w="60" h="102">
                      <a:moveTo>
                        <a:pt x="13" y="0"/>
                      </a:moveTo>
                      <a:lnTo>
                        <a:pt x="0" y="8"/>
                      </a:lnTo>
                      <a:lnTo>
                        <a:pt x="47" y="102"/>
                      </a:lnTo>
                      <a:lnTo>
                        <a:pt x="60" y="95"/>
                      </a:lnTo>
                      <a:lnTo>
                        <a:pt x="13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69600" y="5082120"/>
                  <a:ext cx="108000" cy="172080"/>
                </a:xfrm>
                <a:custGeom>
                  <a:avLst/>
                  <a:gdLst/>
                  <a:ahLst/>
                  <a:rect l="l" t="t" r="r" b="b"/>
                  <a:pathLst>
                    <a:path w="69" h="86">
                      <a:moveTo>
                        <a:pt x="0" y="34"/>
                      </a:moveTo>
                      <a:lnTo>
                        <a:pt x="69" y="86"/>
                      </a:lnTo>
                      <a:lnTo>
                        <a:pt x="69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1153080" y="3721320"/>
                <a:ext cx="198000" cy="252000"/>
                <a:chOff x="1153080" y="3721320"/>
                <a:chExt cx="198000" cy="2520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1153080" y="3815280"/>
                  <a:ext cx="12384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7"/>
                      </a:moveTo>
                      <a:lnTo>
                        <a:pt x="10" y="79"/>
                      </a:lnTo>
                      <a:lnTo>
                        <a:pt x="79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218960" y="3721320"/>
                  <a:ext cx="132120" cy="162000"/>
                </a:xfrm>
                <a:custGeom>
                  <a:avLst/>
                  <a:gdLst/>
                  <a:ahLst/>
                  <a:rect l="l" t="t" r="r" b="b"/>
                  <a:pathLst>
                    <a:path w="84" h="81">
                      <a:moveTo>
                        <a:pt x="57" y="81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1850400" y="4759560"/>
                <a:ext cx="199800" cy="252000"/>
                <a:chOff x="1850400" y="4759560"/>
                <a:chExt cx="199800" cy="2520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850400" y="4759560"/>
                  <a:ext cx="125640" cy="15804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67" y="79"/>
                      </a:lnTo>
                      <a:lnTo>
                        <a:pt x="80" y="6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916640" y="4847400"/>
                  <a:ext cx="133560" cy="164160"/>
                </a:xfrm>
                <a:custGeom>
                  <a:avLst/>
                  <a:gdLst/>
                  <a:ahLst/>
                  <a:rect l="l" t="t" r="r" b="b"/>
                  <a:pathLst>
                    <a:path w="85" h="82">
                      <a:moveTo>
                        <a:pt x="0" y="55"/>
                      </a:moveTo>
                      <a:lnTo>
                        <a:pt x="85" y="82"/>
                      </a:lnTo>
                      <a:lnTo>
                        <a:pt x="57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7259760" y="4655520"/>
                <a:ext cx="318960" cy="187560"/>
                <a:chOff x="7259760" y="4655520"/>
                <a:chExt cx="318960" cy="18756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7364880" y="4655520"/>
                  <a:ext cx="213840" cy="131760"/>
                </a:xfrm>
                <a:custGeom>
                  <a:avLst/>
                  <a:gdLst/>
                  <a:ahLst/>
                  <a:rect l="l" t="t" r="r" b="b"/>
                  <a:pathLst>
                    <a:path w="136" h="66">
                      <a:moveTo>
                        <a:pt x="136" y="14"/>
                      </a:moveTo>
                      <a:lnTo>
                        <a:pt x="131" y="0"/>
                      </a:lnTo>
                      <a:lnTo>
                        <a:pt x="0" y="52"/>
                      </a:lnTo>
                      <a:lnTo>
                        <a:pt x="5" y="66"/>
                      </a:lnTo>
                      <a:lnTo>
                        <a:pt x="136" y="1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7259760" y="4699440"/>
                  <a:ext cx="135000" cy="143640"/>
                </a:xfrm>
                <a:custGeom>
                  <a:avLst/>
                  <a:gdLst/>
                  <a:ahLst/>
                  <a:rect l="l" t="t" r="r" b="b"/>
                  <a:pathLst>
                    <a:path w="86" h="72">
                      <a:moveTo>
                        <a:pt x="57" y="0"/>
                      </a:moveTo>
                      <a:lnTo>
                        <a:pt x="0" y="64"/>
                      </a:lnTo>
                      <a:lnTo>
                        <a:pt x="86" y="7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" name=""/>
            <p:cNvGrpSpPr/>
            <p:nvPr/>
          </p:nvGrpSpPr>
          <p:grpSpPr>
            <a:xfrm>
              <a:off x="588240" y="3352680"/>
              <a:ext cx="6990480" cy="2721240"/>
              <a:chOff x="588240" y="3352680"/>
              <a:chExt cx="6990480" cy="272124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4645800" y="4451040"/>
                <a:ext cx="253080" cy="153720"/>
                <a:chOff x="4645800" y="4451040"/>
                <a:chExt cx="253080" cy="15372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645800" y="4510800"/>
                  <a:ext cx="131760" cy="298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772880" y="4451040"/>
                  <a:ext cx="126000" cy="153720"/>
                </a:xfrm>
                <a:custGeom>
                  <a:avLst/>
                  <a:gdLst/>
                  <a:ahLst/>
                  <a:rect l="l" t="t" r="r" b="b"/>
                  <a:pathLst>
                    <a:path w="80" h="77">
                      <a:moveTo>
                        <a:pt x="0" y="77"/>
                      </a:moveTo>
                      <a:lnTo>
                        <a:pt x="80" y="37"/>
                      </a:lnTo>
                      <a:lnTo>
                        <a:pt x="0" y="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060080" y="5493240"/>
                <a:ext cx="150840" cy="411840"/>
                <a:chOff x="4060080" y="5493240"/>
                <a:chExt cx="150840" cy="4118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060080" y="5633280"/>
                  <a:ext cx="105480" cy="271800"/>
                </a:xfrm>
                <a:custGeom>
                  <a:avLst/>
                  <a:gdLst/>
                  <a:ahLst/>
                  <a:rect l="l" t="t" r="r" b="b"/>
                  <a:pathLst>
                    <a:path w="67" h="136">
                      <a:moveTo>
                        <a:pt x="0" y="131"/>
                      </a:moveTo>
                      <a:lnTo>
                        <a:pt x="15" y="136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099320" y="5493240"/>
                  <a:ext cx="111600" cy="180000"/>
                </a:xfrm>
                <a:custGeom>
                  <a:avLst/>
                  <a:gdLst/>
                  <a:ahLst/>
                  <a:rect l="l" t="t" r="r" b="b"/>
                  <a:pathLst>
                    <a:path w="71" h="90">
                      <a:moveTo>
                        <a:pt x="71" y="90"/>
                      </a:moveTo>
                      <a:lnTo>
                        <a:pt x="64" y="0"/>
                      </a:lnTo>
                      <a:lnTo>
                        <a:pt x="0" y="60"/>
                      </a:lnTo>
                      <a:lnTo>
                        <a:pt x="71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88240" y="5653800"/>
                <a:ext cx="200880" cy="406440"/>
                <a:chOff x="588240" y="5653800"/>
                <a:chExt cx="200880" cy="4064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38280" y="5653800"/>
                  <a:ext cx="150840" cy="288360"/>
                </a:xfrm>
                <a:custGeom>
                  <a:avLst/>
                  <a:gdLst/>
                  <a:ahLst/>
                  <a:rect l="l" t="t" r="r" b="b"/>
                  <a:pathLst>
                    <a:path w="96" h="144">
                      <a:moveTo>
                        <a:pt x="96" y="7"/>
                      </a:moveTo>
                      <a:lnTo>
                        <a:pt x="84" y="0"/>
                      </a:lnTo>
                      <a:lnTo>
                        <a:pt x="0" y="136"/>
                      </a:lnTo>
                      <a:lnTo>
                        <a:pt x="12" y="144"/>
                      </a:lnTo>
                      <a:lnTo>
                        <a:pt x="96" y="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88240" y="5886000"/>
                  <a:ext cx="116280" cy="174240"/>
                </a:xfrm>
                <a:custGeom>
                  <a:avLst/>
                  <a:gdLst/>
                  <a:ahLst/>
                  <a:rect l="l" t="t" r="r" b="b"/>
                  <a:pathLst>
                    <a:path w="74" h="87">
                      <a:moveTo>
                        <a:pt x="7" y="0"/>
                      </a:moveTo>
                      <a:lnTo>
                        <a:pt x="0" y="87"/>
                      </a:lnTo>
                      <a:lnTo>
                        <a:pt x="74" y="4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2104200" y="5901840"/>
                <a:ext cx="261000" cy="172080"/>
                <a:chOff x="2104200" y="5901840"/>
                <a:chExt cx="261000" cy="1720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2104200" y="5956200"/>
                  <a:ext cx="160560" cy="11772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0" y="47"/>
                      </a:moveTo>
                      <a:lnTo>
                        <a:pt x="8" y="59"/>
                      </a:lnTo>
                      <a:lnTo>
                        <a:pt x="102" y="12"/>
                      </a:lnTo>
                      <a:lnTo>
                        <a:pt x="95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230200" y="5901840"/>
                  <a:ext cx="135000" cy="138240"/>
                </a:xfrm>
                <a:custGeom>
                  <a:avLst/>
                  <a:gdLst/>
                  <a:ahLst/>
                  <a:rect l="l" t="t" r="r" b="b"/>
                  <a:pathLst>
                    <a:path w="86" h="69">
                      <a:moveTo>
                        <a:pt x="34" y="69"/>
                      </a:moveTo>
                      <a:lnTo>
                        <a:pt x="86" y="0"/>
                      </a:lnTo>
                      <a:lnTo>
                        <a:pt x="0" y="0"/>
                      </a:lnTo>
                      <a:lnTo>
                        <a:pt x="34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2557800" y="3540960"/>
                <a:ext cx="319320" cy="194040"/>
                <a:chOff x="2557800" y="3540960"/>
                <a:chExt cx="319320" cy="1940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2663280" y="3600720"/>
                  <a:ext cx="213840" cy="134280"/>
                </a:xfrm>
                <a:custGeom>
                  <a:avLst/>
                  <a:gdLst/>
                  <a:ahLst/>
                  <a:rect l="l" t="t" r="r" b="b"/>
                  <a:pathLst>
                    <a:path w="136" h="67">
                      <a:moveTo>
                        <a:pt x="131" y="67"/>
                      </a:moveTo>
                      <a:lnTo>
                        <a:pt x="136" y="52"/>
                      </a:lnTo>
                      <a:lnTo>
                        <a:pt x="5" y="0"/>
                      </a:lnTo>
                      <a:lnTo>
                        <a:pt x="0" y="15"/>
                      </a:lnTo>
                      <a:lnTo>
                        <a:pt x="131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557800" y="3540960"/>
                  <a:ext cx="136800" cy="150120"/>
                </a:xfrm>
                <a:custGeom>
                  <a:avLst/>
                  <a:gdLst/>
                  <a:ahLst/>
                  <a:rect l="l" t="t" r="r" b="b"/>
                  <a:pathLst>
                    <a:path w="87" h="75">
                      <a:moveTo>
                        <a:pt x="87" y="0"/>
                      </a:moveTo>
                      <a:lnTo>
                        <a:pt x="0" y="8"/>
                      </a:lnTo>
                      <a:lnTo>
                        <a:pt x="57" y="75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348560" y="3352680"/>
                <a:ext cx="318960" cy="147960"/>
                <a:chOff x="1348560" y="3352680"/>
                <a:chExt cx="318960" cy="1479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348560" y="3412800"/>
                  <a:ext cx="205560" cy="79560"/>
                </a:xfrm>
                <a:custGeom>
                  <a:avLst/>
                  <a:gdLst/>
                  <a:ahLst/>
                  <a:rect l="l" t="t" r="r" b="b"/>
                  <a:pathLst>
                    <a:path w="131" h="40">
                      <a:moveTo>
                        <a:pt x="0" y="25"/>
                      </a:moveTo>
                      <a:lnTo>
                        <a:pt x="2" y="40"/>
                      </a:lnTo>
                      <a:lnTo>
                        <a:pt x="131" y="15"/>
                      </a:lnTo>
                      <a:lnTo>
                        <a:pt x="129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535760" y="3352680"/>
                  <a:ext cx="131760" cy="147960"/>
                </a:xfrm>
                <a:custGeom>
                  <a:avLst/>
                  <a:gdLst/>
                  <a:ahLst/>
                  <a:rect l="l" t="t" r="r" b="b"/>
                  <a:pathLst>
                    <a:path w="84" h="74">
                      <a:moveTo>
                        <a:pt x="15" y="74"/>
                      </a:moveTo>
                      <a:lnTo>
                        <a:pt x="84" y="22"/>
                      </a:lnTo>
                      <a:lnTo>
                        <a:pt x="0" y="0"/>
                      </a:lnTo>
                      <a:lnTo>
                        <a:pt x="15" y="7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1153440" y="5012640"/>
                <a:ext cx="198000" cy="251280"/>
                <a:chOff x="1153440" y="5012640"/>
                <a:chExt cx="198000" cy="2512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153440" y="5106240"/>
                  <a:ext cx="123840" cy="15768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9"/>
                      </a:moveTo>
                      <a:lnTo>
                        <a:pt x="10" y="79"/>
                      </a:lnTo>
                      <a:lnTo>
                        <a:pt x="79" y="12"/>
                      </a:lnTo>
                      <a:lnTo>
                        <a:pt x="67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219320" y="5012640"/>
                  <a:ext cx="132120" cy="1638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57" y="82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259760" y="3526920"/>
                <a:ext cx="318960" cy="187200"/>
                <a:chOff x="7259760" y="3526920"/>
                <a:chExt cx="318960" cy="1872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7364880" y="3580560"/>
                  <a:ext cx="213840" cy="133560"/>
                </a:xfrm>
                <a:custGeom>
                  <a:avLst/>
                  <a:gdLst/>
                  <a:ahLst/>
                  <a:rect l="l" t="t" r="r" b="b"/>
                  <a:pathLst>
                    <a:path w="136" h="67">
                      <a:moveTo>
                        <a:pt x="131" y="67"/>
                      </a:moveTo>
                      <a:lnTo>
                        <a:pt x="136" y="52"/>
                      </a:lnTo>
                      <a:lnTo>
                        <a:pt x="5" y="0"/>
                      </a:lnTo>
                      <a:lnTo>
                        <a:pt x="0" y="15"/>
                      </a:lnTo>
                      <a:lnTo>
                        <a:pt x="131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7259760" y="3526920"/>
                  <a:ext cx="135000" cy="143640"/>
                </a:xfrm>
                <a:custGeom>
                  <a:avLst/>
                  <a:gdLst/>
                  <a:ahLst/>
                  <a:rect l="l" t="t" r="r" b="b"/>
                  <a:pathLst>
                    <a:path w="86" h="72">
                      <a:moveTo>
                        <a:pt x="86" y="0"/>
                      </a:moveTo>
                      <a:lnTo>
                        <a:pt x="0" y="5"/>
                      </a:lnTo>
                      <a:lnTo>
                        <a:pt x="57" y="72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5855040" y="4992120"/>
                <a:ext cx="198000" cy="252360"/>
                <a:chOff x="5855040" y="4992120"/>
                <a:chExt cx="198000" cy="2523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5855040" y="5086440"/>
                  <a:ext cx="12420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70"/>
                      </a:moveTo>
                      <a:lnTo>
                        <a:pt x="10" y="79"/>
                      </a:lnTo>
                      <a:lnTo>
                        <a:pt x="79" y="13"/>
                      </a:lnTo>
                      <a:lnTo>
                        <a:pt x="67" y="0"/>
                      </a:lnTo>
                      <a:lnTo>
                        <a:pt x="0" y="7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5921280" y="4992120"/>
                  <a:ext cx="13176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57" y="82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0" name=""/>
            <p:cNvGrpSpPr/>
            <p:nvPr/>
          </p:nvGrpSpPr>
          <p:grpSpPr>
            <a:xfrm>
              <a:off x="638640" y="3331800"/>
              <a:ext cx="6604200" cy="2724480"/>
              <a:chOff x="638640" y="3331800"/>
              <a:chExt cx="6604200" cy="2724480"/>
            </a:xfrm>
          </p:grpSpPr>
          <p:grpSp>
            <p:nvGrpSpPr>
              <p:cNvPr id="401" name=""/>
              <p:cNvGrpSpPr/>
              <p:nvPr/>
            </p:nvGrpSpPr>
            <p:grpSpPr>
              <a:xfrm>
                <a:off x="4300560" y="3556080"/>
                <a:ext cx="199440" cy="252360"/>
                <a:chOff x="4300560" y="3556080"/>
                <a:chExt cx="199440" cy="25236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4300560" y="3650040"/>
                  <a:ext cx="125640" cy="15840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0" y="69"/>
                      </a:moveTo>
                      <a:lnTo>
                        <a:pt x="13" y="79"/>
                      </a:lnTo>
                      <a:lnTo>
                        <a:pt x="80" y="12"/>
                      </a:lnTo>
                      <a:lnTo>
                        <a:pt x="70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371480" y="3556080"/>
                  <a:ext cx="128520" cy="16848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5" y="84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883400" y="3540240"/>
                <a:ext cx="318960" cy="194040"/>
                <a:chOff x="4883400" y="3540240"/>
                <a:chExt cx="318960" cy="1940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988520" y="3600000"/>
                  <a:ext cx="213840" cy="134280"/>
                </a:xfrm>
                <a:custGeom>
                  <a:avLst/>
                  <a:gdLst/>
                  <a:ahLst/>
                  <a:rect l="l" t="t" r="r" b="b"/>
                  <a:pathLst>
                    <a:path w="136" h="67">
                      <a:moveTo>
                        <a:pt x="131" y="67"/>
                      </a:moveTo>
                      <a:lnTo>
                        <a:pt x="136" y="52"/>
                      </a:lnTo>
                      <a:lnTo>
                        <a:pt x="4" y="0"/>
                      </a:lnTo>
                      <a:lnTo>
                        <a:pt x="0" y="15"/>
                      </a:lnTo>
                      <a:lnTo>
                        <a:pt x="131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883400" y="3540240"/>
                  <a:ext cx="135000" cy="150120"/>
                </a:xfrm>
                <a:custGeom>
                  <a:avLst/>
                  <a:gdLst/>
                  <a:ahLst/>
                  <a:rect l="l" t="t" r="r" b="b"/>
                  <a:pathLst>
                    <a:path w="86" h="75">
                      <a:moveTo>
                        <a:pt x="86" y="0"/>
                      </a:moveTo>
                      <a:lnTo>
                        <a:pt x="0" y="8"/>
                      </a:lnTo>
                      <a:lnTo>
                        <a:pt x="57" y="75"/>
                      </a:lnTo>
                      <a:lnTo>
                        <a:pt x="86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3478680" y="5012280"/>
                <a:ext cx="198000" cy="252000"/>
                <a:chOff x="3478680" y="5012280"/>
                <a:chExt cx="198000" cy="2520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3478680" y="5106240"/>
                  <a:ext cx="12420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9"/>
                      </a:moveTo>
                      <a:lnTo>
                        <a:pt x="9" y="79"/>
                      </a:lnTo>
                      <a:lnTo>
                        <a:pt x="79" y="12"/>
                      </a:lnTo>
                      <a:lnTo>
                        <a:pt x="66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3544560" y="5012280"/>
                  <a:ext cx="132120" cy="1638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57" y="82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4944600" y="5658120"/>
                <a:ext cx="136080" cy="328320"/>
                <a:chOff x="4944600" y="5658120"/>
                <a:chExt cx="136080" cy="32832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4988160" y="5788080"/>
                  <a:ext cx="92520" cy="198360"/>
                </a:xfrm>
                <a:custGeom>
                  <a:avLst/>
                  <a:gdLst/>
                  <a:ahLst/>
                  <a:rect l="l" t="t" r="r" b="b"/>
                  <a:pathLst>
                    <a:path w="59" h="99">
                      <a:moveTo>
                        <a:pt x="47" y="99"/>
                      </a:moveTo>
                      <a:lnTo>
                        <a:pt x="59" y="94"/>
                      </a:lnTo>
                      <a:lnTo>
                        <a:pt x="12" y="0"/>
                      </a:lnTo>
                      <a:lnTo>
                        <a:pt x="0" y="5"/>
                      </a:lnTo>
                      <a:lnTo>
                        <a:pt x="47" y="9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944600" y="5658120"/>
                  <a:ext cx="109440" cy="173880"/>
                </a:xfrm>
                <a:custGeom>
                  <a:avLst/>
                  <a:gdLst/>
                  <a:ahLst/>
                  <a:rect l="l" t="t" r="r" b="b"/>
                  <a:pathLst>
                    <a:path w="70" h="87">
                      <a:moveTo>
                        <a:pt x="70" y="52"/>
                      </a:move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70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299040" y="3395880"/>
                <a:ext cx="119880" cy="402480"/>
                <a:chOff x="3299040" y="3395880"/>
                <a:chExt cx="119880" cy="40248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344400" y="3546000"/>
                  <a:ext cx="23760" cy="2523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299040" y="3395880"/>
                  <a:ext cx="119880" cy="154440"/>
                </a:xfrm>
                <a:custGeom>
                  <a:avLst/>
                  <a:gdLst/>
                  <a:ahLst/>
                  <a:rect l="l" t="t" r="r" b="b"/>
                  <a:pathLst>
                    <a:path w="76" h="77">
                      <a:moveTo>
                        <a:pt x="76" y="77"/>
                      </a:moveTo>
                      <a:lnTo>
                        <a:pt x="37" y="0"/>
                      </a:lnTo>
                      <a:lnTo>
                        <a:pt x="0" y="77"/>
                      </a:lnTo>
                      <a:lnTo>
                        <a:pt x="76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2541960" y="3879000"/>
                <a:ext cx="198000" cy="331920"/>
                <a:chOff x="2541960" y="3879000"/>
                <a:chExt cx="198000" cy="33192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2600280" y="3992760"/>
                  <a:ext cx="139680" cy="218160"/>
                </a:xfrm>
                <a:custGeom>
                  <a:avLst/>
                  <a:gdLst/>
                  <a:ahLst/>
                  <a:rect l="l" t="t" r="r" b="b"/>
                  <a:pathLst>
                    <a:path w="89" h="109">
                      <a:moveTo>
                        <a:pt x="77" y="109"/>
                      </a:moveTo>
                      <a:lnTo>
                        <a:pt x="89" y="101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77" y="10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541960" y="3879000"/>
                  <a:ext cx="120960" cy="174240"/>
                </a:xfrm>
                <a:custGeom>
                  <a:avLst/>
                  <a:gdLst/>
                  <a:ahLst/>
                  <a:rect l="l" t="t" r="r" b="b"/>
                  <a:pathLst>
                    <a:path w="77" h="87">
                      <a:moveTo>
                        <a:pt x="77" y="40"/>
                      </a:moveTo>
                      <a:lnTo>
                        <a:pt x="0" y="0"/>
                      </a:lnTo>
                      <a:lnTo>
                        <a:pt x="15" y="87"/>
                      </a:lnTo>
                      <a:lnTo>
                        <a:pt x="77" y="4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834920" y="4759560"/>
                <a:ext cx="199440" cy="252000"/>
                <a:chOff x="1834920" y="4759560"/>
                <a:chExt cx="199440" cy="2520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834920" y="4759560"/>
                  <a:ext cx="125640" cy="15804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67" y="79"/>
                      </a:lnTo>
                      <a:lnTo>
                        <a:pt x="80" y="6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01160" y="4847400"/>
                  <a:ext cx="133200" cy="164160"/>
                </a:xfrm>
                <a:custGeom>
                  <a:avLst/>
                  <a:gdLst/>
                  <a:ahLst/>
                  <a:rect l="l" t="t" r="r" b="b"/>
                  <a:pathLst>
                    <a:path w="85" h="82">
                      <a:moveTo>
                        <a:pt x="0" y="55"/>
                      </a:moveTo>
                      <a:lnTo>
                        <a:pt x="85" y="82"/>
                      </a:lnTo>
                      <a:lnTo>
                        <a:pt x="57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38640" y="4281840"/>
                <a:ext cx="134640" cy="252360"/>
                <a:chOff x="638640" y="4281840"/>
                <a:chExt cx="134640" cy="2523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91920" y="4400280"/>
                  <a:ext cx="81360" cy="13392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40" y="67"/>
                      </a:moveTo>
                      <a:lnTo>
                        <a:pt x="52" y="60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4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38640" y="4281840"/>
                  <a:ext cx="115920" cy="178560"/>
                </a:xfrm>
                <a:custGeom>
                  <a:avLst/>
                  <a:gdLst/>
                  <a:ahLst/>
                  <a:rect l="l" t="t" r="r" b="b"/>
                  <a:pathLst>
                    <a:path w="74" h="89">
                      <a:moveTo>
                        <a:pt x="74" y="44"/>
                      </a:moveTo>
                      <a:lnTo>
                        <a:pt x="0" y="0"/>
                      </a:lnTo>
                      <a:lnTo>
                        <a:pt x="10" y="89"/>
                      </a:lnTo>
                      <a:lnTo>
                        <a:pt x="74" y="4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6789960" y="5882040"/>
                <a:ext cx="260640" cy="174240"/>
                <a:chOff x="6789960" y="5882040"/>
                <a:chExt cx="260640" cy="1742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6789960" y="5936040"/>
                  <a:ext cx="160200" cy="120240"/>
                </a:xfrm>
                <a:custGeom>
                  <a:avLst/>
                  <a:gdLst/>
                  <a:ahLst/>
                  <a:rect l="l" t="t" r="r" b="b"/>
                  <a:pathLst>
                    <a:path w="102" h="60">
                      <a:moveTo>
                        <a:pt x="0" y="47"/>
                      </a:moveTo>
                      <a:lnTo>
                        <a:pt x="8" y="60"/>
                      </a:lnTo>
                      <a:lnTo>
                        <a:pt x="102" y="12"/>
                      </a:lnTo>
                      <a:lnTo>
                        <a:pt x="94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915600" y="5882040"/>
                  <a:ext cx="135000" cy="138600"/>
                </a:xfrm>
                <a:custGeom>
                  <a:avLst/>
                  <a:gdLst/>
                  <a:ahLst/>
                  <a:rect l="l" t="t" r="r" b="b"/>
                  <a:pathLst>
                    <a:path w="86" h="69">
                      <a:moveTo>
                        <a:pt x="34" y="69"/>
                      </a:moveTo>
                      <a:lnTo>
                        <a:pt x="86" y="0"/>
                      </a:lnTo>
                      <a:lnTo>
                        <a:pt x="0" y="0"/>
                      </a:lnTo>
                      <a:lnTo>
                        <a:pt x="34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662520" y="3536280"/>
                <a:ext cx="197640" cy="252360"/>
                <a:chOff x="6662520" y="3536280"/>
                <a:chExt cx="197640" cy="25236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662520" y="3630240"/>
                  <a:ext cx="123840" cy="15840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9"/>
                      </a:moveTo>
                      <a:lnTo>
                        <a:pt x="12" y="79"/>
                      </a:lnTo>
                      <a:lnTo>
                        <a:pt x="79" y="12"/>
                      </a:lnTo>
                      <a:lnTo>
                        <a:pt x="69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731640" y="3536280"/>
                  <a:ext cx="128520" cy="16776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5" y="84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6989760" y="4430520"/>
                <a:ext cx="253080" cy="153720"/>
                <a:chOff x="6989760" y="4430520"/>
                <a:chExt cx="253080" cy="1537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989760" y="4490280"/>
                  <a:ext cx="131760" cy="298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116840" y="4430520"/>
                  <a:ext cx="126000" cy="153720"/>
                </a:xfrm>
                <a:custGeom>
                  <a:avLst/>
                  <a:gdLst/>
                  <a:ahLst/>
                  <a:rect l="l" t="t" r="r" b="b"/>
                  <a:pathLst>
                    <a:path w="80" h="77">
                      <a:moveTo>
                        <a:pt x="0" y="77"/>
                      </a:moveTo>
                      <a:lnTo>
                        <a:pt x="80" y="37"/>
                      </a:lnTo>
                      <a:lnTo>
                        <a:pt x="0" y="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5339520" y="4262040"/>
                <a:ext cx="135000" cy="252360"/>
                <a:chOff x="5339520" y="4262040"/>
                <a:chExt cx="135000" cy="25236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392440" y="4380480"/>
                  <a:ext cx="82080" cy="13392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40" y="67"/>
                      </a:moveTo>
                      <a:lnTo>
                        <a:pt x="52" y="60"/>
                      </a:lnTo>
                      <a:lnTo>
                        <a:pt x="13" y="0"/>
                      </a:lnTo>
                      <a:lnTo>
                        <a:pt x="0" y="10"/>
                      </a:lnTo>
                      <a:lnTo>
                        <a:pt x="4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5339520" y="4262040"/>
                  <a:ext cx="116280" cy="178560"/>
                </a:xfrm>
                <a:custGeom>
                  <a:avLst/>
                  <a:gdLst/>
                  <a:ahLst/>
                  <a:rect l="l" t="t" r="r" b="b"/>
                  <a:pathLst>
                    <a:path w="74" h="89">
                      <a:moveTo>
                        <a:pt x="74" y="44"/>
                      </a:moveTo>
                      <a:lnTo>
                        <a:pt x="0" y="0"/>
                      </a:lnTo>
                      <a:lnTo>
                        <a:pt x="9" y="89"/>
                      </a:lnTo>
                      <a:lnTo>
                        <a:pt x="74" y="4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033960" y="3331800"/>
                <a:ext cx="318960" cy="150120"/>
                <a:chOff x="6033960" y="3331800"/>
                <a:chExt cx="318960" cy="15012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6033960" y="3391920"/>
                  <a:ext cx="205920" cy="79920"/>
                </a:xfrm>
                <a:custGeom>
                  <a:avLst/>
                  <a:gdLst/>
                  <a:ahLst/>
                  <a:rect l="l" t="t" r="r" b="b"/>
                  <a:pathLst>
                    <a:path w="131" h="40">
                      <a:moveTo>
                        <a:pt x="0" y="25"/>
                      </a:moveTo>
                      <a:lnTo>
                        <a:pt x="2" y="40"/>
                      </a:lnTo>
                      <a:lnTo>
                        <a:pt x="131" y="15"/>
                      </a:lnTo>
                      <a:lnTo>
                        <a:pt x="128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221160" y="3331800"/>
                  <a:ext cx="131760" cy="150120"/>
                </a:xfrm>
                <a:custGeom>
                  <a:avLst/>
                  <a:gdLst/>
                  <a:ahLst/>
                  <a:rect l="l" t="t" r="r" b="b"/>
                  <a:pathLst>
                    <a:path w="84" h="75">
                      <a:moveTo>
                        <a:pt x="14" y="75"/>
                      </a:moveTo>
                      <a:lnTo>
                        <a:pt x="84" y="23"/>
                      </a:lnTo>
                      <a:lnTo>
                        <a:pt x="0" y="0"/>
                      </a:lnTo>
                      <a:lnTo>
                        <a:pt x="14" y="7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0" name=""/>
            <p:cNvGrpSpPr/>
            <p:nvPr/>
          </p:nvGrpSpPr>
          <p:grpSpPr>
            <a:xfrm>
              <a:off x="1016280" y="3352680"/>
              <a:ext cx="6425280" cy="2721240"/>
              <a:chOff x="1016280" y="3352680"/>
              <a:chExt cx="6425280" cy="2721240"/>
            </a:xfrm>
          </p:grpSpPr>
          <p:grpSp>
            <p:nvGrpSpPr>
              <p:cNvPr id="441" name=""/>
              <p:cNvGrpSpPr/>
              <p:nvPr/>
            </p:nvGrpSpPr>
            <p:grpSpPr>
              <a:xfrm>
                <a:off x="4430160" y="5901840"/>
                <a:ext cx="261000" cy="172080"/>
                <a:chOff x="4430160" y="5901840"/>
                <a:chExt cx="261000" cy="17208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430160" y="5956200"/>
                  <a:ext cx="160560" cy="117720"/>
                </a:xfrm>
                <a:custGeom>
                  <a:avLst/>
                  <a:gdLst/>
                  <a:ahLst/>
                  <a:rect l="l" t="t" r="r" b="b"/>
                  <a:pathLst>
                    <a:path w="102" h="59">
                      <a:moveTo>
                        <a:pt x="0" y="47"/>
                      </a:moveTo>
                      <a:lnTo>
                        <a:pt x="8" y="59"/>
                      </a:lnTo>
                      <a:lnTo>
                        <a:pt x="102" y="12"/>
                      </a:lnTo>
                      <a:lnTo>
                        <a:pt x="94" y="0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554360" y="5901840"/>
                  <a:ext cx="136800" cy="138240"/>
                </a:xfrm>
                <a:custGeom>
                  <a:avLst/>
                  <a:gdLst/>
                  <a:ahLst/>
                  <a:rect l="l" t="t" r="r" b="b"/>
                  <a:pathLst>
                    <a:path w="87" h="69">
                      <a:moveTo>
                        <a:pt x="35" y="69"/>
                      </a:moveTo>
                      <a:lnTo>
                        <a:pt x="87" y="0"/>
                      </a:lnTo>
                      <a:lnTo>
                        <a:pt x="0" y="0"/>
                      </a:lnTo>
                      <a:lnTo>
                        <a:pt x="35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3672720" y="3352680"/>
                <a:ext cx="320400" cy="147960"/>
                <a:chOff x="3672720" y="3352680"/>
                <a:chExt cx="320400" cy="1479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3672720" y="3412800"/>
                  <a:ext cx="207360" cy="79560"/>
                </a:xfrm>
                <a:custGeom>
                  <a:avLst/>
                  <a:gdLst/>
                  <a:ahLst/>
                  <a:rect l="l" t="t" r="r" b="b"/>
                  <a:pathLst>
                    <a:path w="132" h="40">
                      <a:moveTo>
                        <a:pt x="0" y="25"/>
                      </a:moveTo>
                      <a:lnTo>
                        <a:pt x="3" y="40"/>
                      </a:lnTo>
                      <a:lnTo>
                        <a:pt x="132" y="15"/>
                      </a:lnTo>
                      <a:lnTo>
                        <a:pt x="129" y="0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859560" y="3352680"/>
                  <a:ext cx="133560" cy="147960"/>
                </a:xfrm>
                <a:custGeom>
                  <a:avLst/>
                  <a:gdLst/>
                  <a:ahLst/>
                  <a:rect l="l" t="t" r="r" b="b"/>
                  <a:pathLst>
                    <a:path w="85" h="74">
                      <a:moveTo>
                        <a:pt x="15" y="74"/>
                      </a:moveTo>
                      <a:lnTo>
                        <a:pt x="85" y="22"/>
                      </a:lnTo>
                      <a:lnTo>
                        <a:pt x="0" y="0"/>
                      </a:lnTo>
                      <a:lnTo>
                        <a:pt x="15" y="7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883760" y="4673520"/>
                <a:ext cx="318960" cy="190080"/>
                <a:chOff x="4883760" y="4673520"/>
                <a:chExt cx="318960" cy="1900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988880" y="4673520"/>
                  <a:ext cx="213840" cy="134280"/>
                </a:xfrm>
                <a:custGeom>
                  <a:avLst/>
                  <a:gdLst/>
                  <a:ahLst/>
                  <a:rect l="l" t="t" r="r" b="b"/>
                  <a:pathLst>
                    <a:path w="136" h="67">
                      <a:moveTo>
                        <a:pt x="136" y="15"/>
                      </a:moveTo>
                      <a:lnTo>
                        <a:pt x="131" y="0"/>
                      </a:lnTo>
                      <a:lnTo>
                        <a:pt x="0" y="52"/>
                      </a:lnTo>
                      <a:lnTo>
                        <a:pt x="4" y="67"/>
                      </a:lnTo>
                      <a:lnTo>
                        <a:pt x="136" y="1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883760" y="4719600"/>
                  <a:ext cx="135000" cy="144000"/>
                </a:xfrm>
                <a:custGeom>
                  <a:avLst/>
                  <a:gdLst/>
                  <a:ahLst/>
                  <a:rect l="l" t="t" r="r" b="b"/>
                  <a:pathLst>
                    <a:path w="86" h="72">
                      <a:moveTo>
                        <a:pt x="57" y="0"/>
                      </a:moveTo>
                      <a:lnTo>
                        <a:pt x="0" y="64"/>
                      </a:lnTo>
                      <a:lnTo>
                        <a:pt x="86" y="7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3040920" y="3879720"/>
                <a:ext cx="194760" cy="173880"/>
                <a:chOff x="3040920" y="3879720"/>
                <a:chExt cx="194760" cy="1738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133800" y="3949560"/>
                  <a:ext cx="1018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52">
                      <a:moveTo>
                        <a:pt x="57" y="52"/>
                      </a:moveTo>
                      <a:lnTo>
                        <a:pt x="65" y="39"/>
                      </a:lnTo>
                      <a:lnTo>
                        <a:pt x="8" y="0"/>
                      </a:lnTo>
                      <a:lnTo>
                        <a:pt x="0" y="14"/>
                      </a:lnTo>
                      <a:lnTo>
                        <a:pt x="57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040920" y="3879720"/>
                  <a:ext cx="136800" cy="15408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87" y="12"/>
                      </a:moveTo>
                      <a:lnTo>
                        <a:pt x="0" y="0"/>
                      </a:lnTo>
                      <a:lnTo>
                        <a:pt x="45" y="77"/>
                      </a:lnTo>
                      <a:lnTo>
                        <a:pt x="87" y="1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3040920" y="3879720"/>
                <a:ext cx="194760" cy="173880"/>
                <a:chOff x="3040920" y="3879720"/>
                <a:chExt cx="194760" cy="1738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3133800" y="3949560"/>
                  <a:ext cx="101880" cy="104040"/>
                </a:xfrm>
                <a:custGeom>
                  <a:avLst/>
                  <a:gdLst/>
                  <a:ahLst/>
                  <a:rect l="l" t="t" r="r" b="b"/>
                  <a:pathLst>
                    <a:path w="65" h="52">
                      <a:moveTo>
                        <a:pt x="57" y="52"/>
                      </a:moveTo>
                      <a:lnTo>
                        <a:pt x="65" y="39"/>
                      </a:lnTo>
                      <a:lnTo>
                        <a:pt x="8" y="0"/>
                      </a:lnTo>
                      <a:lnTo>
                        <a:pt x="0" y="14"/>
                      </a:lnTo>
                      <a:lnTo>
                        <a:pt x="57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040920" y="3879720"/>
                  <a:ext cx="136800" cy="15408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87" y="12"/>
                      </a:moveTo>
                      <a:lnTo>
                        <a:pt x="0" y="0"/>
                      </a:lnTo>
                      <a:lnTo>
                        <a:pt x="45" y="77"/>
                      </a:lnTo>
                      <a:lnTo>
                        <a:pt x="87" y="1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1137600" y="3721680"/>
                <a:ext cx="198000" cy="251280"/>
                <a:chOff x="1137600" y="3721680"/>
                <a:chExt cx="198000" cy="251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1137600" y="3815280"/>
                  <a:ext cx="123840" cy="15768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7"/>
                      </a:moveTo>
                      <a:lnTo>
                        <a:pt x="10" y="79"/>
                      </a:lnTo>
                      <a:lnTo>
                        <a:pt x="79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03480" y="3721680"/>
                  <a:ext cx="132120" cy="162000"/>
                </a:xfrm>
                <a:custGeom>
                  <a:avLst/>
                  <a:gdLst/>
                  <a:ahLst/>
                  <a:rect l="l" t="t" r="r" b="b"/>
                  <a:pathLst>
                    <a:path w="84" h="81">
                      <a:moveTo>
                        <a:pt x="57" y="81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702800" y="5493240"/>
                <a:ext cx="152280" cy="411840"/>
                <a:chOff x="1702800" y="5493240"/>
                <a:chExt cx="152280" cy="4118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1702800" y="5633280"/>
                  <a:ext cx="105480" cy="271800"/>
                </a:xfrm>
                <a:custGeom>
                  <a:avLst/>
                  <a:gdLst/>
                  <a:ahLst/>
                  <a:rect l="l" t="t" r="r" b="b"/>
                  <a:pathLst>
                    <a:path w="67" h="136">
                      <a:moveTo>
                        <a:pt x="0" y="131"/>
                      </a:moveTo>
                      <a:lnTo>
                        <a:pt x="15" y="136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741680" y="5493240"/>
                  <a:ext cx="113400" cy="180000"/>
                </a:xfrm>
                <a:custGeom>
                  <a:avLst/>
                  <a:gdLst/>
                  <a:ahLst/>
                  <a:rect l="l" t="t" r="r" b="b"/>
                  <a:pathLst>
                    <a:path w="72" h="90">
                      <a:moveTo>
                        <a:pt x="72" y="90"/>
                      </a:moveTo>
                      <a:lnTo>
                        <a:pt x="64" y="0"/>
                      </a:lnTo>
                      <a:lnTo>
                        <a:pt x="0" y="60"/>
                      </a:lnTo>
                      <a:lnTo>
                        <a:pt x="72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1137600" y="5012640"/>
                <a:ext cx="198000" cy="251280"/>
                <a:chOff x="1137600" y="5012640"/>
                <a:chExt cx="198000" cy="2512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137600" y="5106240"/>
                  <a:ext cx="123840" cy="15768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9"/>
                      </a:moveTo>
                      <a:lnTo>
                        <a:pt x="10" y="79"/>
                      </a:lnTo>
                      <a:lnTo>
                        <a:pt x="79" y="12"/>
                      </a:lnTo>
                      <a:lnTo>
                        <a:pt x="67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203480" y="5012640"/>
                  <a:ext cx="132120" cy="16380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57" y="82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1269720" y="3789720"/>
                <a:ext cx="327240" cy="411840"/>
                <a:chOff x="1269720" y="3789720"/>
                <a:chExt cx="327240" cy="4118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1348560" y="3789720"/>
                  <a:ext cx="248400" cy="318240"/>
                </a:xfrm>
                <a:custGeom>
                  <a:avLst/>
                  <a:gdLst/>
                  <a:ahLst/>
                  <a:rect l="l" t="t" r="r" b="b"/>
                  <a:pathLst>
                    <a:path w="158" h="159">
                      <a:moveTo>
                        <a:pt x="158" y="10"/>
                      </a:moveTo>
                      <a:lnTo>
                        <a:pt x="148" y="0"/>
                      </a:lnTo>
                      <a:lnTo>
                        <a:pt x="0" y="149"/>
                      </a:lnTo>
                      <a:lnTo>
                        <a:pt x="10" y="159"/>
                      </a:lnTo>
                      <a:lnTo>
                        <a:pt x="158" y="1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269720" y="4037400"/>
                  <a:ext cx="13212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30" y="0"/>
                      </a:moveTo>
                      <a:lnTo>
                        <a:pt x="0" y="82"/>
                      </a:lnTo>
                      <a:lnTo>
                        <a:pt x="84" y="55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016280" y="5553360"/>
                <a:ext cx="319320" cy="149760"/>
                <a:chOff x="1016280" y="5553360"/>
                <a:chExt cx="319320" cy="14976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016280" y="5563080"/>
                  <a:ext cx="202680" cy="79920"/>
                </a:xfrm>
                <a:custGeom>
                  <a:avLst/>
                  <a:gdLst/>
                  <a:ahLst/>
                  <a:rect l="l" t="t" r="r" b="b"/>
                  <a:pathLst>
                    <a:path w="129" h="40">
                      <a:moveTo>
                        <a:pt x="2" y="0"/>
                      </a:moveTo>
                      <a:lnTo>
                        <a:pt x="0" y="15"/>
                      </a:lnTo>
                      <a:lnTo>
                        <a:pt x="126" y="40"/>
                      </a:lnTo>
                      <a:lnTo>
                        <a:pt x="129" y="2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203480" y="5553360"/>
                  <a:ext cx="132120" cy="149760"/>
                </a:xfrm>
                <a:custGeom>
                  <a:avLst/>
                  <a:gdLst/>
                  <a:ahLst/>
                  <a:rect l="l" t="t" r="r" b="b"/>
                  <a:pathLst>
                    <a:path w="84" h="75">
                      <a:moveTo>
                        <a:pt x="0" y="75"/>
                      </a:moveTo>
                      <a:lnTo>
                        <a:pt x="84" y="52"/>
                      </a:lnTo>
                      <a:lnTo>
                        <a:pt x="15" y="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702800" y="5493240"/>
                <a:ext cx="152280" cy="411840"/>
                <a:chOff x="1702800" y="5493240"/>
                <a:chExt cx="152280" cy="41184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702800" y="5633280"/>
                  <a:ext cx="105480" cy="271800"/>
                </a:xfrm>
                <a:custGeom>
                  <a:avLst/>
                  <a:gdLst/>
                  <a:ahLst/>
                  <a:rect l="l" t="t" r="r" b="b"/>
                  <a:pathLst>
                    <a:path w="67" h="136">
                      <a:moveTo>
                        <a:pt x="0" y="131"/>
                      </a:moveTo>
                      <a:lnTo>
                        <a:pt x="15" y="136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741680" y="5493240"/>
                  <a:ext cx="113400" cy="180000"/>
                </a:xfrm>
                <a:custGeom>
                  <a:avLst/>
                  <a:gdLst/>
                  <a:ahLst/>
                  <a:rect l="l" t="t" r="r" b="b"/>
                  <a:pathLst>
                    <a:path w="72" h="90">
                      <a:moveTo>
                        <a:pt x="72" y="90"/>
                      </a:moveTo>
                      <a:lnTo>
                        <a:pt x="64" y="0"/>
                      </a:lnTo>
                      <a:lnTo>
                        <a:pt x="0" y="60"/>
                      </a:lnTo>
                      <a:lnTo>
                        <a:pt x="72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5839200" y="3701520"/>
                <a:ext cx="198000" cy="251280"/>
                <a:chOff x="5839200" y="3701520"/>
                <a:chExt cx="198000" cy="25128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5839200" y="3795120"/>
                  <a:ext cx="124200" cy="15768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7"/>
                      </a:moveTo>
                      <a:lnTo>
                        <a:pt x="10" y="79"/>
                      </a:lnTo>
                      <a:lnTo>
                        <a:pt x="79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905440" y="3701520"/>
                  <a:ext cx="131760" cy="162000"/>
                </a:xfrm>
                <a:custGeom>
                  <a:avLst/>
                  <a:gdLst/>
                  <a:ahLst/>
                  <a:rect l="l" t="t" r="r" b="b"/>
                  <a:pathLst>
                    <a:path w="84" h="81">
                      <a:moveTo>
                        <a:pt x="57" y="81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5264640" y="3378960"/>
                <a:ext cx="199440" cy="251280"/>
                <a:chOff x="5264640" y="3378960"/>
                <a:chExt cx="199440" cy="25128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5264640" y="3472560"/>
                  <a:ext cx="125640" cy="15768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0" y="67"/>
                      </a:moveTo>
                      <a:lnTo>
                        <a:pt x="13" y="79"/>
                      </a:lnTo>
                      <a:lnTo>
                        <a:pt x="80" y="10"/>
                      </a:lnTo>
                      <a:lnTo>
                        <a:pt x="70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335200" y="3378960"/>
                  <a:ext cx="128880" cy="162000"/>
                </a:xfrm>
                <a:custGeom>
                  <a:avLst/>
                  <a:gdLst/>
                  <a:ahLst/>
                  <a:rect l="l" t="t" r="r" b="b"/>
                  <a:pathLst>
                    <a:path w="82" h="81">
                      <a:moveTo>
                        <a:pt x="55" y="81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404400" y="5475240"/>
                <a:ext cx="152280" cy="410400"/>
                <a:chOff x="6404400" y="5475240"/>
                <a:chExt cx="152280" cy="41040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404400" y="5613120"/>
                  <a:ext cx="105120" cy="272520"/>
                </a:xfrm>
                <a:custGeom>
                  <a:avLst/>
                  <a:gdLst/>
                  <a:ahLst/>
                  <a:rect l="l" t="t" r="r" b="b"/>
                  <a:pathLst>
                    <a:path w="67" h="136">
                      <a:moveTo>
                        <a:pt x="0" y="131"/>
                      </a:moveTo>
                      <a:lnTo>
                        <a:pt x="15" y="136"/>
                      </a:lnTo>
                      <a:lnTo>
                        <a:pt x="67" y="5"/>
                      </a:lnTo>
                      <a:lnTo>
                        <a:pt x="52" y="0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443640" y="5475240"/>
                  <a:ext cx="113040" cy="178200"/>
                </a:xfrm>
                <a:custGeom>
                  <a:avLst/>
                  <a:gdLst/>
                  <a:ahLst/>
                  <a:rect l="l" t="t" r="r" b="b"/>
                  <a:pathLst>
                    <a:path w="72" h="89">
                      <a:moveTo>
                        <a:pt x="72" y="89"/>
                      </a:moveTo>
                      <a:lnTo>
                        <a:pt x="64" y="0"/>
                      </a:lnTo>
                      <a:lnTo>
                        <a:pt x="0" y="59"/>
                      </a:lnTo>
                      <a:lnTo>
                        <a:pt x="72" y="8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7305480" y="5637600"/>
                <a:ext cx="136080" cy="328680"/>
                <a:chOff x="7305480" y="5637600"/>
                <a:chExt cx="136080" cy="32868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7349040" y="5767920"/>
                  <a:ext cx="92520" cy="198360"/>
                </a:xfrm>
                <a:custGeom>
                  <a:avLst/>
                  <a:gdLst/>
                  <a:ahLst/>
                  <a:rect l="l" t="t" r="r" b="b"/>
                  <a:pathLst>
                    <a:path w="59" h="99">
                      <a:moveTo>
                        <a:pt x="47" y="99"/>
                      </a:moveTo>
                      <a:lnTo>
                        <a:pt x="59" y="94"/>
                      </a:lnTo>
                      <a:lnTo>
                        <a:pt x="12" y="0"/>
                      </a:lnTo>
                      <a:lnTo>
                        <a:pt x="0" y="5"/>
                      </a:lnTo>
                      <a:lnTo>
                        <a:pt x="47" y="9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7305480" y="5637600"/>
                  <a:ext cx="109440" cy="174240"/>
                </a:xfrm>
                <a:custGeom>
                  <a:avLst/>
                  <a:gdLst/>
                  <a:ahLst/>
                  <a:rect l="l" t="t" r="r" b="b"/>
                  <a:pathLst>
                    <a:path w="70" h="87">
                      <a:moveTo>
                        <a:pt x="70" y="52"/>
                      </a:move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70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6" name=""/>
            <p:cNvGrpSpPr/>
            <p:nvPr/>
          </p:nvGrpSpPr>
          <p:grpSpPr>
            <a:xfrm>
              <a:off x="1278000" y="3396600"/>
              <a:ext cx="5981040" cy="2662560"/>
              <a:chOff x="1278000" y="3396600"/>
              <a:chExt cx="5981040" cy="266256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2928240" y="5653080"/>
                <a:ext cx="202680" cy="406080"/>
                <a:chOff x="2928240" y="5653080"/>
                <a:chExt cx="202680" cy="40608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2978280" y="5653080"/>
                  <a:ext cx="152640" cy="288000"/>
                </a:xfrm>
                <a:custGeom>
                  <a:avLst/>
                  <a:gdLst/>
                  <a:ahLst/>
                  <a:rect l="l" t="t" r="r" b="b"/>
                  <a:pathLst>
                    <a:path w="97" h="144">
                      <a:moveTo>
                        <a:pt x="97" y="7"/>
                      </a:moveTo>
                      <a:lnTo>
                        <a:pt x="85" y="0"/>
                      </a:lnTo>
                      <a:lnTo>
                        <a:pt x="0" y="136"/>
                      </a:lnTo>
                      <a:lnTo>
                        <a:pt x="13" y="144"/>
                      </a:lnTo>
                      <a:lnTo>
                        <a:pt x="97" y="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928240" y="5884920"/>
                  <a:ext cx="117720" cy="17424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8" y="0"/>
                      </a:moveTo>
                      <a:lnTo>
                        <a:pt x="0" y="87"/>
                      </a:lnTo>
                      <a:lnTo>
                        <a:pt x="75" y="4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2920320" y="3396600"/>
                <a:ext cx="199440" cy="253800"/>
                <a:chOff x="2920320" y="3396600"/>
                <a:chExt cx="199440" cy="2538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2920320" y="3492720"/>
                  <a:ext cx="125280" cy="157680"/>
                </a:xfrm>
                <a:custGeom>
                  <a:avLst/>
                  <a:gdLst/>
                  <a:ahLst/>
                  <a:rect l="l" t="t" r="r" b="b"/>
                  <a:pathLst>
                    <a:path w="80" h="79">
                      <a:moveTo>
                        <a:pt x="0" y="66"/>
                      </a:moveTo>
                      <a:lnTo>
                        <a:pt x="13" y="79"/>
                      </a:lnTo>
                      <a:lnTo>
                        <a:pt x="80" y="9"/>
                      </a:lnTo>
                      <a:lnTo>
                        <a:pt x="70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990880" y="3396600"/>
                  <a:ext cx="128880" cy="16416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54" y="82"/>
                      </a:moveTo>
                      <a:lnTo>
                        <a:pt x="82" y="0"/>
                      </a:lnTo>
                      <a:lnTo>
                        <a:pt x="0" y="28"/>
                      </a:lnTo>
                      <a:lnTo>
                        <a:pt x="54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1278000" y="4599000"/>
                <a:ext cx="136440" cy="248040"/>
                <a:chOff x="1278000" y="4599000"/>
                <a:chExt cx="136440" cy="24804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1278000" y="4599000"/>
                  <a:ext cx="81720" cy="13428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12" y="0"/>
                      </a:moveTo>
                      <a:lnTo>
                        <a:pt x="0" y="8"/>
                      </a:lnTo>
                      <a:lnTo>
                        <a:pt x="40" y="67"/>
                      </a:lnTo>
                      <a:lnTo>
                        <a:pt x="52" y="5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293480" y="4672800"/>
                  <a:ext cx="120960" cy="174240"/>
                </a:xfrm>
                <a:custGeom>
                  <a:avLst/>
                  <a:gdLst/>
                  <a:ahLst/>
                  <a:rect l="l" t="t" r="r" b="b"/>
                  <a:pathLst>
                    <a:path w="77" h="87">
                      <a:moveTo>
                        <a:pt x="0" y="45"/>
                      </a:moveTo>
                      <a:lnTo>
                        <a:pt x="77" y="87"/>
                      </a:lnTo>
                      <a:lnTo>
                        <a:pt x="67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2304360" y="4450680"/>
                <a:ext cx="253080" cy="153360"/>
                <a:chOff x="2304360" y="4450680"/>
                <a:chExt cx="253080" cy="15336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304360" y="4510440"/>
                  <a:ext cx="132120" cy="298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433240" y="4450680"/>
                  <a:ext cx="124200" cy="153360"/>
                </a:xfrm>
                <a:custGeom>
                  <a:avLst/>
                  <a:gdLst/>
                  <a:ahLst/>
                  <a:rect l="l" t="t" r="r" b="b"/>
                  <a:pathLst>
                    <a:path w="79" h="77">
                      <a:moveTo>
                        <a:pt x="0" y="77"/>
                      </a:moveTo>
                      <a:lnTo>
                        <a:pt x="79" y="37"/>
                      </a:lnTo>
                      <a:lnTo>
                        <a:pt x="0" y="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5979600" y="4578840"/>
                <a:ext cx="136080" cy="247680"/>
                <a:chOff x="5979600" y="4578840"/>
                <a:chExt cx="136080" cy="24768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5979600" y="4578840"/>
                  <a:ext cx="81360" cy="13428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12" y="0"/>
                      </a:moveTo>
                      <a:lnTo>
                        <a:pt x="0" y="8"/>
                      </a:lnTo>
                      <a:lnTo>
                        <a:pt x="40" y="67"/>
                      </a:lnTo>
                      <a:lnTo>
                        <a:pt x="52" y="5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995080" y="4654800"/>
                  <a:ext cx="120600" cy="171720"/>
                </a:xfrm>
                <a:custGeom>
                  <a:avLst/>
                  <a:gdLst/>
                  <a:ahLst/>
                  <a:rect l="l" t="t" r="r" b="b"/>
                  <a:pathLst>
                    <a:path w="77" h="86">
                      <a:moveTo>
                        <a:pt x="0" y="44"/>
                      </a:moveTo>
                      <a:lnTo>
                        <a:pt x="77" y="86"/>
                      </a:lnTo>
                      <a:lnTo>
                        <a:pt x="67" y="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7059600" y="5072040"/>
                <a:ext cx="199440" cy="251640"/>
                <a:chOff x="7059600" y="5072040"/>
                <a:chExt cx="199440" cy="251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7059600" y="5169960"/>
                  <a:ext cx="125640" cy="153720"/>
                </a:xfrm>
                <a:custGeom>
                  <a:avLst/>
                  <a:gdLst/>
                  <a:ahLst/>
                  <a:rect l="l" t="t" r="r" b="b"/>
                  <a:pathLst>
                    <a:path w="80" h="77">
                      <a:moveTo>
                        <a:pt x="0" y="67"/>
                      </a:moveTo>
                      <a:lnTo>
                        <a:pt x="10" y="77"/>
                      </a:lnTo>
                      <a:lnTo>
                        <a:pt x="80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7125480" y="5072040"/>
                  <a:ext cx="133560" cy="167760"/>
                </a:xfrm>
                <a:custGeom>
                  <a:avLst/>
                  <a:gdLst/>
                  <a:ahLst/>
                  <a:rect l="l" t="t" r="r" b="b"/>
                  <a:pathLst>
                    <a:path w="85" h="84">
                      <a:moveTo>
                        <a:pt x="57" y="84"/>
                      </a:moveTo>
                      <a:lnTo>
                        <a:pt x="85" y="0"/>
                      </a:lnTo>
                      <a:lnTo>
                        <a:pt x="0" y="27"/>
                      </a:lnTo>
                      <a:lnTo>
                        <a:pt x="57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6560640" y="4107960"/>
                <a:ext cx="379080" cy="153360"/>
                <a:chOff x="6560640" y="4107960"/>
                <a:chExt cx="379080" cy="15336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6678720" y="4167720"/>
                  <a:ext cx="261000" cy="280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560640" y="4107960"/>
                  <a:ext cx="121320" cy="153360"/>
                </a:xfrm>
                <a:custGeom>
                  <a:avLst/>
                  <a:gdLst/>
                  <a:ahLst/>
                  <a:rect l="l" t="t" r="r" b="b"/>
                  <a:pathLst>
                    <a:path w="77" h="77">
                      <a:moveTo>
                        <a:pt x="77" y="0"/>
                      </a:moveTo>
                      <a:lnTo>
                        <a:pt x="0" y="37"/>
                      </a:lnTo>
                      <a:lnTo>
                        <a:pt x="77" y="77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5417640" y="3859560"/>
                <a:ext cx="194400" cy="173880"/>
                <a:chOff x="5417640" y="3859560"/>
                <a:chExt cx="194400" cy="17388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5511600" y="3929400"/>
                  <a:ext cx="100440" cy="104040"/>
                </a:xfrm>
                <a:custGeom>
                  <a:avLst/>
                  <a:gdLst/>
                  <a:ahLst/>
                  <a:rect l="l" t="t" r="r" b="b"/>
                  <a:pathLst>
                    <a:path w="64" h="52">
                      <a:moveTo>
                        <a:pt x="57" y="52"/>
                      </a:moveTo>
                      <a:lnTo>
                        <a:pt x="64" y="39"/>
                      </a:lnTo>
                      <a:lnTo>
                        <a:pt x="7" y="0"/>
                      </a:lnTo>
                      <a:lnTo>
                        <a:pt x="0" y="15"/>
                      </a:lnTo>
                      <a:lnTo>
                        <a:pt x="57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417640" y="3859560"/>
                  <a:ext cx="136440" cy="15408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87" y="12"/>
                      </a:moveTo>
                      <a:lnTo>
                        <a:pt x="0" y="0"/>
                      </a:lnTo>
                      <a:lnTo>
                        <a:pt x="45" y="77"/>
                      </a:lnTo>
                      <a:lnTo>
                        <a:pt x="87" y="1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1" name=""/>
            <p:cNvGrpSpPr/>
            <p:nvPr/>
          </p:nvGrpSpPr>
          <p:grpSpPr>
            <a:xfrm>
              <a:off x="579960" y="3378960"/>
              <a:ext cx="6877080" cy="2606760"/>
              <a:chOff x="579960" y="3378960"/>
              <a:chExt cx="6877080" cy="2606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3618720" y="4599360"/>
                <a:ext cx="136080" cy="248040"/>
                <a:chOff x="3618720" y="4599360"/>
                <a:chExt cx="136080" cy="2480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618720" y="4599360"/>
                  <a:ext cx="81360" cy="13428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12" y="0"/>
                      </a:moveTo>
                      <a:lnTo>
                        <a:pt x="0" y="8"/>
                      </a:lnTo>
                      <a:lnTo>
                        <a:pt x="39" y="67"/>
                      </a:lnTo>
                      <a:lnTo>
                        <a:pt x="52" y="57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634200" y="4673160"/>
                  <a:ext cx="120600" cy="174240"/>
                </a:xfrm>
                <a:custGeom>
                  <a:avLst/>
                  <a:gdLst/>
                  <a:ahLst/>
                  <a:rect l="l" t="t" r="r" b="b"/>
                  <a:pathLst>
                    <a:path w="77" h="87">
                      <a:moveTo>
                        <a:pt x="0" y="45"/>
                      </a:moveTo>
                      <a:lnTo>
                        <a:pt x="77" y="87"/>
                      </a:lnTo>
                      <a:lnTo>
                        <a:pt x="67" y="0"/>
                      </a:lnTo>
                      <a:lnTo>
                        <a:pt x="0" y="4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4191840" y="4759560"/>
                <a:ext cx="197640" cy="252000"/>
                <a:chOff x="4191840" y="4759560"/>
                <a:chExt cx="197640" cy="25200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4191840" y="4759560"/>
                  <a:ext cx="12384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67" y="79"/>
                      </a:lnTo>
                      <a:lnTo>
                        <a:pt x="79" y="6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4257720" y="4847400"/>
                  <a:ext cx="13176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55"/>
                      </a:moveTo>
                      <a:lnTo>
                        <a:pt x="84" y="82"/>
                      </a:lnTo>
                      <a:lnTo>
                        <a:pt x="57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1976400" y="3556800"/>
                <a:ext cx="198000" cy="252360"/>
                <a:chOff x="1976400" y="3556800"/>
                <a:chExt cx="198000" cy="2523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1976400" y="3650760"/>
                  <a:ext cx="124200" cy="15840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9"/>
                      </a:moveTo>
                      <a:lnTo>
                        <a:pt x="12" y="79"/>
                      </a:lnTo>
                      <a:lnTo>
                        <a:pt x="79" y="12"/>
                      </a:lnTo>
                      <a:lnTo>
                        <a:pt x="69" y="0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045520" y="3556800"/>
                  <a:ext cx="128880" cy="16848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5" y="84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9960" y="3396600"/>
                <a:ext cx="197640" cy="254160"/>
                <a:chOff x="579960" y="3396600"/>
                <a:chExt cx="197640" cy="254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79960" y="3492720"/>
                  <a:ext cx="12384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6"/>
                      </a:moveTo>
                      <a:lnTo>
                        <a:pt x="12" y="79"/>
                      </a:lnTo>
                      <a:lnTo>
                        <a:pt x="79" y="9"/>
                      </a:lnTo>
                      <a:lnTo>
                        <a:pt x="69" y="0"/>
                      </a:lnTo>
                      <a:lnTo>
                        <a:pt x="0" y="6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49080" y="3396600"/>
                  <a:ext cx="128520" cy="164160"/>
                </a:xfrm>
                <a:custGeom>
                  <a:avLst/>
                  <a:gdLst/>
                  <a:ahLst/>
                  <a:rect l="l" t="t" r="r" b="b"/>
                  <a:pathLst>
                    <a:path w="82" h="82">
                      <a:moveTo>
                        <a:pt x="55" y="82"/>
                      </a:moveTo>
                      <a:lnTo>
                        <a:pt x="82" y="0"/>
                      </a:lnTo>
                      <a:lnTo>
                        <a:pt x="0" y="28"/>
                      </a:lnTo>
                      <a:lnTo>
                        <a:pt x="55" y="8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618640" y="5657760"/>
                <a:ext cx="136440" cy="327960"/>
                <a:chOff x="2618640" y="5657760"/>
                <a:chExt cx="136440" cy="3279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662560" y="5787360"/>
                  <a:ext cx="92520" cy="198360"/>
                </a:xfrm>
                <a:custGeom>
                  <a:avLst/>
                  <a:gdLst/>
                  <a:ahLst/>
                  <a:rect l="l" t="t" r="r" b="b"/>
                  <a:pathLst>
                    <a:path w="59" h="99">
                      <a:moveTo>
                        <a:pt x="47" y="99"/>
                      </a:moveTo>
                      <a:lnTo>
                        <a:pt x="59" y="94"/>
                      </a:lnTo>
                      <a:lnTo>
                        <a:pt x="12" y="0"/>
                      </a:lnTo>
                      <a:lnTo>
                        <a:pt x="0" y="5"/>
                      </a:lnTo>
                      <a:lnTo>
                        <a:pt x="47" y="9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618640" y="5657760"/>
                  <a:ext cx="109800" cy="173520"/>
                </a:xfrm>
                <a:custGeom>
                  <a:avLst/>
                  <a:gdLst/>
                  <a:ahLst/>
                  <a:rect l="l" t="t" r="r" b="b"/>
                  <a:pathLst>
                    <a:path w="70" h="87">
                      <a:moveTo>
                        <a:pt x="70" y="52"/>
                      </a:moveTo>
                      <a:lnTo>
                        <a:pt x="0" y="0"/>
                      </a:lnTo>
                      <a:lnTo>
                        <a:pt x="0" y="87"/>
                      </a:lnTo>
                      <a:lnTo>
                        <a:pt x="70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14960" y="3879720"/>
                <a:ext cx="194760" cy="173880"/>
                <a:chOff x="714960" y="3879720"/>
                <a:chExt cx="194760" cy="17388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809280" y="3949560"/>
                  <a:ext cx="100440" cy="104040"/>
                </a:xfrm>
                <a:custGeom>
                  <a:avLst/>
                  <a:gdLst/>
                  <a:ahLst/>
                  <a:rect l="l" t="t" r="r" b="b"/>
                  <a:pathLst>
                    <a:path w="64" h="52">
                      <a:moveTo>
                        <a:pt x="57" y="52"/>
                      </a:moveTo>
                      <a:lnTo>
                        <a:pt x="64" y="39"/>
                      </a:lnTo>
                      <a:lnTo>
                        <a:pt x="7" y="0"/>
                      </a:lnTo>
                      <a:lnTo>
                        <a:pt x="0" y="14"/>
                      </a:lnTo>
                      <a:lnTo>
                        <a:pt x="57" y="5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14960" y="3879720"/>
                  <a:ext cx="136800" cy="154080"/>
                </a:xfrm>
                <a:custGeom>
                  <a:avLst/>
                  <a:gdLst/>
                  <a:ahLst/>
                  <a:rect l="l" t="t" r="r" b="b"/>
                  <a:pathLst>
                    <a:path w="87" h="77">
                      <a:moveTo>
                        <a:pt x="87" y="12"/>
                      </a:moveTo>
                      <a:lnTo>
                        <a:pt x="0" y="0"/>
                      </a:lnTo>
                      <a:lnTo>
                        <a:pt x="45" y="77"/>
                      </a:lnTo>
                      <a:lnTo>
                        <a:pt x="87" y="12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7259040" y="3859560"/>
                <a:ext cx="198000" cy="331920"/>
                <a:chOff x="7259040" y="3859560"/>
                <a:chExt cx="198000" cy="3319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7317000" y="3973320"/>
                  <a:ext cx="140040" cy="218160"/>
                </a:xfrm>
                <a:custGeom>
                  <a:avLst/>
                  <a:gdLst/>
                  <a:ahLst/>
                  <a:rect l="l" t="t" r="r" b="b"/>
                  <a:pathLst>
                    <a:path w="89" h="109">
                      <a:moveTo>
                        <a:pt x="77" y="109"/>
                      </a:moveTo>
                      <a:lnTo>
                        <a:pt x="89" y="102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77" y="109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7259040" y="3859560"/>
                  <a:ext cx="120600" cy="174240"/>
                </a:xfrm>
                <a:custGeom>
                  <a:avLst/>
                  <a:gdLst/>
                  <a:ahLst/>
                  <a:rect l="l" t="t" r="r" b="b"/>
                  <a:pathLst>
                    <a:path w="77" h="87">
                      <a:moveTo>
                        <a:pt x="77" y="40"/>
                      </a:moveTo>
                      <a:lnTo>
                        <a:pt x="0" y="0"/>
                      </a:lnTo>
                      <a:lnTo>
                        <a:pt x="15" y="87"/>
                      </a:lnTo>
                      <a:lnTo>
                        <a:pt x="77" y="4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5342760" y="4902120"/>
                <a:ext cx="136440" cy="334080"/>
                <a:chOff x="5342760" y="4902120"/>
                <a:chExt cx="136440" cy="3340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5342760" y="4902120"/>
                  <a:ext cx="94320" cy="204120"/>
                </a:xfrm>
                <a:custGeom>
                  <a:avLst/>
                  <a:gdLst/>
                  <a:ahLst/>
                  <a:rect l="l" t="t" r="r" b="b"/>
                  <a:pathLst>
                    <a:path w="60" h="102">
                      <a:moveTo>
                        <a:pt x="12" y="0"/>
                      </a:moveTo>
                      <a:lnTo>
                        <a:pt x="0" y="8"/>
                      </a:lnTo>
                      <a:lnTo>
                        <a:pt x="47" y="102"/>
                      </a:lnTo>
                      <a:lnTo>
                        <a:pt x="60" y="95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369400" y="5062320"/>
                  <a:ext cx="109800" cy="173880"/>
                </a:xfrm>
                <a:custGeom>
                  <a:avLst/>
                  <a:gdLst/>
                  <a:ahLst/>
                  <a:rect l="l" t="t" r="r" b="b"/>
                  <a:pathLst>
                    <a:path w="70" h="87">
                      <a:moveTo>
                        <a:pt x="0" y="34"/>
                      </a:moveTo>
                      <a:lnTo>
                        <a:pt x="70" y="87"/>
                      </a:lnTo>
                      <a:lnTo>
                        <a:pt x="70" y="0"/>
                      </a:lnTo>
                      <a:lnTo>
                        <a:pt x="0" y="3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675040" y="3378960"/>
                <a:ext cx="120960" cy="400320"/>
                <a:chOff x="5675040" y="3378960"/>
                <a:chExt cx="120960" cy="4003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720400" y="3526920"/>
                  <a:ext cx="23400" cy="25236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675040" y="3378960"/>
                  <a:ext cx="120960" cy="151920"/>
                </a:xfrm>
                <a:custGeom>
                  <a:avLst/>
                  <a:gdLst/>
                  <a:ahLst/>
                  <a:rect l="l" t="t" r="r" b="b"/>
                  <a:pathLst>
                    <a:path w="77" h="76">
                      <a:moveTo>
                        <a:pt x="77" y="76"/>
                      </a:moveTo>
                      <a:lnTo>
                        <a:pt x="37" y="0"/>
                      </a:lnTo>
                      <a:lnTo>
                        <a:pt x="0" y="76"/>
                      </a:lnTo>
                      <a:lnTo>
                        <a:pt x="77" y="7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9" name=""/>
            <p:cNvGrpSpPr/>
            <p:nvPr/>
          </p:nvGrpSpPr>
          <p:grpSpPr>
            <a:xfrm>
              <a:off x="770760" y="3769920"/>
              <a:ext cx="6866280" cy="1581120"/>
              <a:chOff x="770760" y="3769920"/>
              <a:chExt cx="6866280" cy="1581120"/>
            </a:xfrm>
          </p:grpSpPr>
          <p:grpSp>
            <p:nvGrpSpPr>
              <p:cNvPr id="540" name=""/>
              <p:cNvGrpSpPr/>
              <p:nvPr/>
            </p:nvGrpSpPr>
            <p:grpSpPr>
              <a:xfrm>
                <a:off x="3112200" y="4525200"/>
                <a:ext cx="197640" cy="252360"/>
                <a:chOff x="3112200" y="4525200"/>
                <a:chExt cx="197640" cy="252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112200" y="4624920"/>
                  <a:ext cx="123840" cy="152640"/>
                </a:xfrm>
                <a:custGeom>
                  <a:avLst/>
                  <a:gdLst/>
                  <a:ahLst/>
                  <a:rect l="l" t="t" r="r" b="b"/>
                  <a:pathLst>
                    <a:path w="79" h="76">
                      <a:moveTo>
                        <a:pt x="0" y="67"/>
                      </a:moveTo>
                      <a:lnTo>
                        <a:pt x="12" y="76"/>
                      </a:lnTo>
                      <a:lnTo>
                        <a:pt x="79" y="10"/>
                      </a:lnTo>
                      <a:lnTo>
                        <a:pt x="69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181320" y="4525200"/>
                  <a:ext cx="128520" cy="16776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5" y="84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4699440" y="5092920"/>
                <a:ext cx="199440" cy="252360"/>
                <a:chOff x="4699440" y="5092920"/>
                <a:chExt cx="199440" cy="25236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4699440" y="5190840"/>
                  <a:ext cx="125280" cy="154440"/>
                </a:xfrm>
                <a:custGeom>
                  <a:avLst/>
                  <a:gdLst/>
                  <a:ahLst/>
                  <a:rect l="l" t="t" r="r" b="b"/>
                  <a:pathLst>
                    <a:path w="80" h="77">
                      <a:moveTo>
                        <a:pt x="0" y="67"/>
                      </a:moveTo>
                      <a:lnTo>
                        <a:pt x="10" y="77"/>
                      </a:lnTo>
                      <a:lnTo>
                        <a:pt x="80" y="10"/>
                      </a:lnTo>
                      <a:lnTo>
                        <a:pt x="67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765320" y="5092920"/>
                  <a:ext cx="133560" cy="167760"/>
                </a:xfrm>
                <a:custGeom>
                  <a:avLst/>
                  <a:gdLst/>
                  <a:ahLst/>
                  <a:rect l="l" t="t" r="r" b="b"/>
                  <a:pathLst>
                    <a:path w="85" h="84">
                      <a:moveTo>
                        <a:pt x="57" y="84"/>
                      </a:moveTo>
                      <a:lnTo>
                        <a:pt x="85" y="0"/>
                      </a:lnTo>
                      <a:lnTo>
                        <a:pt x="0" y="27"/>
                      </a:lnTo>
                      <a:lnTo>
                        <a:pt x="57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770760" y="4525200"/>
                <a:ext cx="198000" cy="252360"/>
                <a:chOff x="770760" y="4525200"/>
                <a:chExt cx="198000" cy="25236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770760" y="4624920"/>
                  <a:ext cx="124200" cy="152640"/>
                </a:xfrm>
                <a:custGeom>
                  <a:avLst/>
                  <a:gdLst/>
                  <a:ahLst/>
                  <a:rect l="l" t="t" r="r" b="b"/>
                  <a:pathLst>
                    <a:path w="79" h="76">
                      <a:moveTo>
                        <a:pt x="0" y="67"/>
                      </a:moveTo>
                      <a:lnTo>
                        <a:pt x="12" y="76"/>
                      </a:lnTo>
                      <a:lnTo>
                        <a:pt x="79" y="10"/>
                      </a:lnTo>
                      <a:lnTo>
                        <a:pt x="69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841680" y="4525200"/>
                  <a:ext cx="127080" cy="167760"/>
                </a:xfrm>
                <a:custGeom>
                  <a:avLst/>
                  <a:gdLst/>
                  <a:ahLst/>
                  <a:rect l="l" t="t" r="r" b="b"/>
                  <a:pathLst>
                    <a:path w="81" h="84">
                      <a:moveTo>
                        <a:pt x="54" y="84"/>
                      </a:moveTo>
                      <a:lnTo>
                        <a:pt x="81" y="0"/>
                      </a:lnTo>
                      <a:lnTo>
                        <a:pt x="0" y="27"/>
                      </a:lnTo>
                      <a:lnTo>
                        <a:pt x="54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1859040" y="4128480"/>
                <a:ext cx="378720" cy="153720"/>
                <a:chOff x="1859040" y="4128480"/>
                <a:chExt cx="378720" cy="1537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1976760" y="4188240"/>
                  <a:ext cx="261000" cy="28080"/>
                </a:xfrm>
                <a:prstGeom prst="rect">
                  <a:avLst/>
                </a:prstGeom>
                <a:solidFill>
                  <a:srgbClr val="3333cc"/>
                </a:solidFill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859040" y="4128480"/>
                  <a:ext cx="120960" cy="153720"/>
                </a:xfrm>
                <a:custGeom>
                  <a:avLst/>
                  <a:gdLst/>
                  <a:ahLst/>
                  <a:rect l="l" t="t" r="r" b="b"/>
                  <a:pathLst>
                    <a:path w="77" h="77">
                      <a:moveTo>
                        <a:pt x="77" y="0"/>
                      </a:moveTo>
                      <a:lnTo>
                        <a:pt x="0" y="37"/>
                      </a:lnTo>
                      <a:lnTo>
                        <a:pt x="77" y="77"/>
                      </a:lnTo>
                      <a:lnTo>
                        <a:pt x="7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7380720" y="5196960"/>
                <a:ext cx="256320" cy="154080"/>
                <a:chOff x="7380720" y="5196960"/>
                <a:chExt cx="256320" cy="1540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7380720" y="5254920"/>
                  <a:ext cx="143280" cy="75960"/>
                </a:xfrm>
                <a:custGeom>
                  <a:avLst/>
                  <a:gdLst/>
                  <a:ahLst/>
                  <a:rect l="l" t="t" r="r" b="b"/>
                  <a:pathLst>
                    <a:path w="91" h="38">
                      <a:moveTo>
                        <a:pt x="0" y="23"/>
                      </a:moveTo>
                      <a:lnTo>
                        <a:pt x="5" y="38"/>
                      </a:lnTo>
                      <a:lnTo>
                        <a:pt x="91" y="15"/>
                      </a:lnTo>
                      <a:lnTo>
                        <a:pt x="8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7505280" y="5196960"/>
                  <a:ext cx="131760" cy="154080"/>
                </a:xfrm>
                <a:custGeom>
                  <a:avLst/>
                  <a:gdLst/>
                  <a:ahLst/>
                  <a:rect l="l" t="t" r="r" b="b"/>
                  <a:pathLst>
                    <a:path w="84" h="77">
                      <a:moveTo>
                        <a:pt x="17" y="77"/>
                      </a:moveTo>
                      <a:lnTo>
                        <a:pt x="84" y="20"/>
                      </a:lnTo>
                      <a:lnTo>
                        <a:pt x="0" y="0"/>
                      </a:lnTo>
                      <a:lnTo>
                        <a:pt x="17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5987520" y="3769920"/>
                <a:ext cx="326880" cy="411840"/>
                <a:chOff x="5987520" y="3769920"/>
                <a:chExt cx="326880" cy="4118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064560" y="3769920"/>
                  <a:ext cx="249840" cy="318240"/>
                </a:xfrm>
                <a:custGeom>
                  <a:avLst/>
                  <a:gdLst/>
                  <a:ahLst/>
                  <a:rect l="l" t="t" r="r" b="b"/>
                  <a:pathLst>
                    <a:path w="159" h="159">
                      <a:moveTo>
                        <a:pt x="159" y="10"/>
                      </a:moveTo>
                      <a:lnTo>
                        <a:pt x="149" y="0"/>
                      </a:lnTo>
                      <a:lnTo>
                        <a:pt x="0" y="149"/>
                      </a:lnTo>
                      <a:lnTo>
                        <a:pt x="10" y="159"/>
                      </a:lnTo>
                      <a:lnTo>
                        <a:pt x="159" y="1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987520" y="4017600"/>
                  <a:ext cx="13176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30" y="0"/>
                      </a:moveTo>
                      <a:lnTo>
                        <a:pt x="0" y="82"/>
                      </a:lnTo>
                      <a:lnTo>
                        <a:pt x="84" y="55"/>
                      </a:lnTo>
                      <a:lnTo>
                        <a:pt x="3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8" name=""/>
            <p:cNvSpPr/>
            <p:nvPr/>
          </p:nvSpPr>
          <p:spPr>
            <a:xfrm>
              <a:off x="4548240" y="4275000"/>
              <a:ext cx="68652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09240" y="5172840"/>
              <a:ext cx="1080" cy="96408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74240" y="4930200"/>
              <a:ext cx="623160" cy="1479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3344040" y="3304080"/>
              <a:ext cx="881280" cy="9007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90440" y="4113360"/>
              <a:ext cx="1393200" cy="399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611240" y="5574960"/>
              <a:ext cx="437760" cy="5616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 flipV="1">
              <a:off x="4600080" y="3378600"/>
              <a:ext cx="264240" cy="9054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4540320" y="4268520"/>
              <a:ext cx="1080" cy="5817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041360" y="3952440"/>
              <a:ext cx="75240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33440" y="3553200"/>
              <a:ext cx="1080" cy="8798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3269520" y="4362840"/>
              <a:ext cx="388800" cy="6318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228920" y="4517640"/>
              <a:ext cx="308160" cy="468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77440" y="5004720"/>
              <a:ext cx="689760" cy="18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3019320" y="5407560"/>
              <a:ext cx="316080" cy="7293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526200" y="5004360"/>
              <a:ext cx="191880" cy="4806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828880" y="3303720"/>
              <a:ext cx="443520" cy="56844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4099320" y="5327640"/>
              <a:ext cx="253440" cy="8092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2828880" y="4194720"/>
              <a:ext cx="506520" cy="6447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43520" y="5730120"/>
              <a:ext cx="765360" cy="46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732560" y="3713040"/>
              <a:ext cx="569880" cy="1594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4794120" y="4274640"/>
              <a:ext cx="320760" cy="6498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4098960" y="4761720"/>
              <a:ext cx="63000" cy="565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4225680" y="4761720"/>
              <a:ext cx="314640" cy="565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162680" y="5814360"/>
              <a:ext cx="631080" cy="79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4923000" y="5247360"/>
              <a:ext cx="379440" cy="8049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4732560" y="5004720"/>
              <a:ext cx="316080" cy="64512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3589200" y="4035240"/>
              <a:ext cx="382680" cy="2394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272760" y="3468600"/>
              <a:ext cx="316080" cy="40392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65000" y="3304080"/>
              <a:ext cx="314640" cy="4089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08240" y="4275000"/>
              <a:ext cx="68652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67440" y="5172840"/>
              <a:ext cx="1440" cy="96408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72480" y="5327640"/>
              <a:ext cx="686160" cy="14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7440" y="5247360"/>
              <a:ext cx="1072080" cy="3146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1002240" y="3304080"/>
              <a:ext cx="881640" cy="9007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50440" y="4113360"/>
              <a:ext cx="1391760" cy="399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69800" y="5574960"/>
              <a:ext cx="437760" cy="5616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2269800" y="4913280"/>
              <a:ext cx="54720" cy="66168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2258640" y="3378600"/>
              <a:ext cx="264240" cy="9054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2200680" y="4268520"/>
              <a:ext cx="1080" cy="5817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99920" y="3952440"/>
              <a:ext cx="75384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693440" y="3553200"/>
              <a:ext cx="1440" cy="8798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927720" y="4362840"/>
              <a:ext cx="390600" cy="6318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36000" y="5004720"/>
              <a:ext cx="689760" cy="18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677880" y="5407560"/>
              <a:ext cx="316080" cy="7293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616680" y="4682160"/>
              <a:ext cx="253440" cy="72504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1185120" y="5004360"/>
              <a:ext cx="191880" cy="4806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487440" y="3303720"/>
              <a:ext cx="443880" cy="56844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1759680" y="5327640"/>
              <a:ext cx="253440" cy="8092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487440" y="4194720"/>
              <a:ext cx="506880" cy="6447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03880" y="5730120"/>
              <a:ext cx="763200" cy="46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740520" y="3548160"/>
              <a:ext cx="382680" cy="5652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391120" y="3713040"/>
              <a:ext cx="569880" cy="1594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2454120" y="4274640"/>
              <a:ext cx="319320" cy="6498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1884240" y="4761720"/>
              <a:ext cx="316080" cy="565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1820880" y="5814360"/>
              <a:ext cx="632880" cy="79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2581560" y="5247360"/>
              <a:ext cx="379440" cy="8049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77880" y="5004720"/>
              <a:ext cx="316080" cy="18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1247760" y="4035240"/>
              <a:ext cx="382680" cy="2394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931320" y="3468600"/>
              <a:ext cx="316080" cy="40392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123560" y="3304080"/>
              <a:ext cx="314640" cy="4089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910560" y="4255560"/>
              <a:ext cx="68616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69400" y="5153040"/>
              <a:ext cx="1080" cy="96408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34760" y="4910400"/>
              <a:ext cx="623160" cy="1479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74080" y="5307840"/>
              <a:ext cx="686520" cy="14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189400" y="5229720"/>
              <a:ext cx="1072080" cy="3128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704200" y="3284280"/>
              <a:ext cx="881280" cy="8989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50600" y="4093920"/>
              <a:ext cx="1393200" cy="399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971760" y="5555520"/>
              <a:ext cx="437400" cy="56160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971760" y="4893840"/>
              <a:ext cx="54720" cy="6613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6960240" y="3360600"/>
              <a:ext cx="263880" cy="9039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902280" y="4248720"/>
              <a:ext cx="1440" cy="5817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01520" y="3931200"/>
              <a:ext cx="753840" cy="50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393600" y="3533400"/>
              <a:ext cx="1440" cy="8798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589080" y="4496760"/>
              <a:ext cx="308160" cy="612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6261120" y="4507920"/>
              <a:ext cx="327240" cy="63036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637960" y="4983480"/>
              <a:ext cx="689760" cy="3240"/>
            </a:xfrm>
            <a:prstGeom prst="line">
              <a:avLst/>
            </a:prstGeom>
            <a:ln w="11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5379480" y="5387760"/>
              <a:ext cx="316440" cy="7293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5318280" y="4660920"/>
              <a:ext cx="253440" cy="7264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5189400" y="3284640"/>
              <a:ext cx="443520" cy="56664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461640" y="5307840"/>
              <a:ext cx="253440" cy="80928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5442840" y="5387760"/>
              <a:ext cx="253440" cy="5652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04400" y="5710320"/>
              <a:ext cx="765000" cy="324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 flipV="1">
              <a:off x="5442840" y="3528720"/>
              <a:ext cx="382320" cy="56520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092720" y="3693600"/>
              <a:ext cx="569880" cy="157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7155720" y="4255200"/>
              <a:ext cx="319680" cy="6483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 flipV="1">
              <a:off x="6461640" y="4741920"/>
              <a:ext cx="61200" cy="565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585840" y="4741920"/>
              <a:ext cx="316080" cy="565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6522840" y="5794560"/>
              <a:ext cx="632520" cy="795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flipV="1">
              <a:off x="7283160" y="5229360"/>
              <a:ext cx="379080" cy="8031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092720" y="4983120"/>
              <a:ext cx="316080" cy="64692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5633280" y="3448440"/>
              <a:ext cx="316440" cy="40212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25160" y="3284640"/>
              <a:ext cx="314640" cy="408960"/>
            </a:xfrm>
            <a:prstGeom prst="line">
              <a:avLst/>
            </a:prstGeom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2557800" y="3721320"/>
              <a:ext cx="4400280" cy="2352960"/>
              <a:chOff x="2557800" y="3721320"/>
              <a:chExt cx="4400280" cy="235296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3373560" y="5886360"/>
                <a:ext cx="322200" cy="187920"/>
                <a:chOff x="3373560" y="5886360"/>
                <a:chExt cx="322200" cy="18792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478680" y="5946480"/>
                  <a:ext cx="217080" cy="127800"/>
                </a:xfrm>
                <a:custGeom>
                  <a:avLst/>
                  <a:gdLst/>
                  <a:ahLst/>
                  <a:rect l="l" t="t" r="r" b="b"/>
                  <a:pathLst>
                    <a:path w="138" h="64">
                      <a:moveTo>
                        <a:pt x="133" y="64"/>
                      </a:moveTo>
                      <a:lnTo>
                        <a:pt x="138" y="52"/>
                      </a:lnTo>
                      <a:lnTo>
                        <a:pt x="7" y="0"/>
                      </a:lnTo>
                      <a:lnTo>
                        <a:pt x="0" y="12"/>
                      </a:lnTo>
                      <a:lnTo>
                        <a:pt x="133" y="6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373560" y="5886360"/>
                  <a:ext cx="139680" cy="144360"/>
                </a:xfrm>
                <a:custGeom>
                  <a:avLst/>
                  <a:gdLst/>
                  <a:ahLst/>
                  <a:rect l="l" t="t" r="r" b="b"/>
                  <a:pathLst>
                    <a:path w="89" h="72">
                      <a:moveTo>
                        <a:pt x="89" y="0"/>
                      </a:moveTo>
                      <a:lnTo>
                        <a:pt x="0" y="8"/>
                      </a:lnTo>
                      <a:lnTo>
                        <a:pt x="59" y="7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3494520" y="3721320"/>
                <a:ext cx="198000" cy="251280"/>
                <a:chOff x="3494520" y="3721320"/>
                <a:chExt cx="198000" cy="25128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3494520" y="3814920"/>
                  <a:ext cx="124200" cy="15768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0" y="67"/>
                      </a:moveTo>
                      <a:lnTo>
                        <a:pt x="9" y="79"/>
                      </a:lnTo>
                      <a:lnTo>
                        <a:pt x="79" y="10"/>
                      </a:lnTo>
                      <a:lnTo>
                        <a:pt x="66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3560400" y="3721320"/>
                  <a:ext cx="132120" cy="162000"/>
                </a:xfrm>
                <a:custGeom>
                  <a:avLst/>
                  <a:gdLst/>
                  <a:ahLst/>
                  <a:rect l="l" t="t" r="r" b="b"/>
                  <a:pathLst>
                    <a:path w="84" h="81">
                      <a:moveTo>
                        <a:pt x="57" y="81"/>
                      </a:moveTo>
                      <a:lnTo>
                        <a:pt x="84" y="0"/>
                      </a:lnTo>
                      <a:lnTo>
                        <a:pt x="0" y="27"/>
                      </a:lnTo>
                      <a:lnTo>
                        <a:pt x="57" y="8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2993760" y="4282200"/>
                <a:ext cx="136440" cy="252360"/>
                <a:chOff x="2993760" y="4282200"/>
                <a:chExt cx="136440" cy="25236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3048480" y="4400640"/>
                  <a:ext cx="81720" cy="133920"/>
                </a:xfrm>
                <a:custGeom>
                  <a:avLst/>
                  <a:gdLst/>
                  <a:ahLst/>
                  <a:rect l="l" t="t" r="r" b="b"/>
                  <a:pathLst>
                    <a:path w="52" h="67">
                      <a:moveTo>
                        <a:pt x="40" y="67"/>
                      </a:moveTo>
                      <a:lnTo>
                        <a:pt x="52" y="60"/>
                      </a:lnTo>
                      <a:lnTo>
                        <a:pt x="12" y="0"/>
                      </a:lnTo>
                      <a:lnTo>
                        <a:pt x="0" y="10"/>
                      </a:lnTo>
                      <a:lnTo>
                        <a:pt x="4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993760" y="4282200"/>
                  <a:ext cx="117720" cy="178560"/>
                </a:xfrm>
                <a:custGeom>
                  <a:avLst/>
                  <a:gdLst/>
                  <a:ahLst/>
                  <a:rect l="l" t="t" r="r" b="b"/>
                  <a:pathLst>
                    <a:path w="75" h="89">
                      <a:moveTo>
                        <a:pt x="75" y="44"/>
                      </a:moveTo>
                      <a:lnTo>
                        <a:pt x="0" y="0"/>
                      </a:lnTo>
                      <a:lnTo>
                        <a:pt x="10" y="89"/>
                      </a:lnTo>
                      <a:lnTo>
                        <a:pt x="75" y="4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3373560" y="5553720"/>
                <a:ext cx="318960" cy="150120"/>
                <a:chOff x="3373560" y="5553720"/>
                <a:chExt cx="318960" cy="15012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3373560" y="5563440"/>
                  <a:ext cx="202680" cy="80280"/>
                </a:xfrm>
                <a:custGeom>
                  <a:avLst/>
                  <a:gdLst/>
                  <a:ahLst/>
                  <a:rect l="l" t="t" r="r" b="b"/>
                  <a:pathLst>
                    <a:path w="129" h="40">
                      <a:moveTo>
                        <a:pt x="2" y="0"/>
                      </a:moveTo>
                      <a:lnTo>
                        <a:pt x="0" y="15"/>
                      </a:lnTo>
                      <a:lnTo>
                        <a:pt x="126" y="40"/>
                      </a:lnTo>
                      <a:lnTo>
                        <a:pt x="129" y="2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560400" y="5553720"/>
                  <a:ext cx="132120" cy="150120"/>
                </a:xfrm>
                <a:custGeom>
                  <a:avLst/>
                  <a:gdLst/>
                  <a:ahLst/>
                  <a:rect l="l" t="t" r="r" b="b"/>
                  <a:pathLst>
                    <a:path w="84" h="75">
                      <a:moveTo>
                        <a:pt x="0" y="75"/>
                      </a:moveTo>
                      <a:lnTo>
                        <a:pt x="84" y="52"/>
                      </a:lnTo>
                      <a:lnTo>
                        <a:pt x="15" y="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2679120" y="5216760"/>
                <a:ext cx="256320" cy="152280"/>
                <a:chOff x="2679120" y="5216760"/>
                <a:chExt cx="256320" cy="1522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2679120" y="5274720"/>
                  <a:ext cx="142920" cy="75960"/>
                </a:xfrm>
                <a:custGeom>
                  <a:avLst/>
                  <a:gdLst/>
                  <a:ahLst/>
                  <a:rect l="l" t="t" r="r" b="b"/>
                  <a:pathLst>
                    <a:path w="91" h="38">
                      <a:moveTo>
                        <a:pt x="0" y="23"/>
                      </a:moveTo>
                      <a:lnTo>
                        <a:pt x="5" y="38"/>
                      </a:lnTo>
                      <a:lnTo>
                        <a:pt x="91" y="15"/>
                      </a:lnTo>
                      <a:lnTo>
                        <a:pt x="89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803320" y="5216760"/>
                  <a:ext cx="132120" cy="152280"/>
                </a:xfrm>
                <a:custGeom>
                  <a:avLst/>
                  <a:gdLst/>
                  <a:ahLst/>
                  <a:rect l="l" t="t" r="r" b="b"/>
                  <a:pathLst>
                    <a:path w="84" h="76">
                      <a:moveTo>
                        <a:pt x="17" y="76"/>
                      </a:moveTo>
                      <a:lnTo>
                        <a:pt x="84" y="19"/>
                      </a:lnTo>
                      <a:lnTo>
                        <a:pt x="0" y="0"/>
                      </a:lnTo>
                      <a:lnTo>
                        <a:pt x="17" y="7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2557800" y="4673160"/>
                <a:ext cx="319320" cy="190080"/>
                <a:chOff x="2557800" y="4673160"/>
                <a:chExt cx="319320" cy="19008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2663280" y="4673160"/>
                  <a:ext cx="213840" cy="134280"/>
                </a:xfrm>
                <a:custGeom>
                  <a:avLst/>
                  <a:gdLst/>
                  <a:ahLst/>
                  <a:rect l="l" t="t" r="r" b="b"/>
                  <a:pathLst>
                    <a:path w="136" h="67">
                      <a:moveTo>
                        <a:pt x="136" y="15"/>
                      </a:moveTo>
                      <a:lnTo>
                        <a:pt x="131" y="0"/>
                      </a:lnTo>
                      <a:lnTo>
                        <a:pt x="0" y="52"/>
                      </a:lnTo>
                      <a:lnTo>
                        <a:pt x="5" y="67"/>
                      </a:lnTo>
                      <a:lnTo>
                        <a:pt x="136" y="1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557800" y="4719240"/>
                  <a:ext cx="136800" cy="144000"/>
                </a:xfrm>
                <a:custGeom>
                  <a:avLst/>
                  <a:gdLst/>
                  <a:ahLst/>
                  <a:rect l="l" t="t" r="r" b="b"/>
                  <a:pathLst>
                    <a:path w="87" h="72">
                      <a:moveTo>
                        <a:pt x="57" y="0"/>
                      </a:moveTo>
                      <a:lnTo>
                        <a:pt x="0" y="64"/>
                      </a:lnTo>
                      <a:lnTo>
                        <a:pt x="87" y="72"/>
                      </a:lnTo>
                      <a:lnTo>
                        <a:pt x="57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472360" y="4505040"/>
                <a:ext cx="197640" cy="254160"/>
                <a:chOff x="5472360" y="4505040"/>
                <a:chExt cx="197640" cy="25416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5472360" y="4604760"/>
                  <a:ext cx="123840" cy="154440"/>
                </a:xfrm>
                <a:custGeom>
                  <a:avLst/>
                  <a:gdLst/>
                  <a:ahLst/>
                  <a:rect l="l" t="t" r="r" b="b"/>
                  <a:pathLst>
                    <a:path w="79" h="77">
                      <a:moveTo>
                        <a:pt x="0" y="67"/>
                      </a:moveTo>
                      <a:lnTo>
                        <a:pt x="12" y="77"/>
                      </a:lnTo>
                      <a:lnTo>
                        <a:pt x="79" y="10"/>
                      </a:lnTo>
                      <a:lnTo>
                        <a:pt x="69" y="0"/>
                      </a:lnTo>
                      <a:lnTo>
                        <a:pt x="0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541480" y="4505040"/>
                  <a:ext cx="128520" cy="16776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5" y="84"/>
                      </a:moveTo>
                      <a:lnTo>
                        <a:pt x="82" y="0"/>
                      </a:lnTo>
                      <a:lnTo>
                        <a:pt x="0" y="27"/>
                      </a:lnTo>
                      <a:lnTo>
                        <a:pt x="55" y="84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288040" y="5634000"/>
                <a:ext cx="202680" cy="406440"/>
                <a:chOff x="5288040" y="5634000"/>
                <a:chExt cx="202680" cy="4064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339520" y="5634000"/>
                  <a:ext cx="151200" cy="288360"/>
                </a:xfrm>
                <a:custGeom>
                  <a:avLst/>
                  <a:gdLst/>
                  <a:ahLst/>
                  <a:rect l="l" t="t" r="r" b="b"/>
                  <a:pathLst>
                    <a:path w="96" h="144">
                      <a:moveTo>
                        <a:pt x="96" y="7"/>
                      </a:moveTo>
                      <a:lnTo>
                        <a:pt x="84" y="0"/>
                      </a:lnTo>
                      <a:lnTo>
                        <a:pt x="0" y="136"/>
                      </a:lnTo>
                      <a:lnTo>
                        <a:pt x="12" y="144"/>
                      </a:lnTo>
                      <a:lnTo>
                        <a:pt x="96" y="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288040" y="5866200"/>
                  <a:ext cx="118080" cy="174240"/>
                </a:xfrm>
                <a:custGeom>
                  <a:avLst/>
                  <a:gdLst/>
                  <a:ahLst/>
                  <a:rect l="l" t="t" r="r" b="b"/>
                  <a:pathLst>
                    <a:path w="75" h="87">
                      <a:moveTo>
                        <a:pt x="8" y="0"/>
                      </a:moveTo>
                      <a:lnTo>
                        <a:pt x="0" y="87"/>
                      </a:lnTo>
                      <a:lnTo>
                        <a:pt x="75" y="40"/>
                      </a:lnTo>
                      <a:lnTo>
                        <a:pt x="8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733720" y="5866560"/>
                <a:ext cx="323640" cy="194040"/>
                <a:chOff x="5733720" y="5866560"/>
                <a:chExt cx="323640" cy="19404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838840" y="5926320"/>
                  <a:ext cx="218520" cy="134280"/>
                </a:xfrm>
                <a:custGeom>
                  <a:avLst/>
                  <a:gdLst/>
                  <a:ahLst/>
                  <a:rect l="l" t="t" r="r" b="b"/>
                  <a:pathLst>
                    <a:path w="139" h="67">
                      <a:moveTo>
                        <a:pt x="134" y="67"/>
                      </a:moveTo>
                      <a:lnTo>
                        <a:pt x="139" y="52"/>
                      </a:lnTo>
                      <a:lnTo>
                        <a:pt x="7" y="0"/>
                      </a:lnTo>
                      <a:lnTo>
                        <a:pt x="0" y="12"/>
                      </a:lnTo>
                      <a:lnTo>
                        <a:pt x="134" y="6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733720" y="5866560"/>
                  <a:ext cx="139680" cy="144360"/>
                </a:xfrm>
                <a:custGeom>
                  <a:avLst/>
                  <a:gdLst/>
                  <a:ahLst/>
                  <a:rect l="l" t="t" r="r" b="b"/>
                  <a:pathLst>
                    <a:path w="89" h="72">
                      <a:moveTo>
                        <a:pt x="89" y="0"/>
                      </a:moveTo>
                      <a:lnTo>
                        <a:pt x="0" y="8"/>
                      </a:lnTo>
                      <a:lnTo>
                        <a:pt x="59" y="72"/>
                      </a:lnTo>
                      <a:lnTo>
                        <a:pt x="89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5733720" y="5533560"/>
                <a:ext cx="318960" cy="154080"/>
                <a:chOff x="5733720" y="5533560"/>
                <a:chExt cx="318960" cy="1540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5733720" y="5543280"/>
                  <a:ext cx="202680" cy="80280"/>
                </a:xfrm>
                <a:custGeom>
                  <a:avLst/>
                  <a:gdLst/>
                  <a:ahLst/>
                  <a:rect l="l" t="t" r="r" b="b"/>
                  <a:pathLst>
                    <a:path w="129" h="40">
                      <a:moveTo>
                        <a:pt x="2" y="0"/>
                      </a:moveTo>
                      <a:lnTo>
                        <a:pt x="0" y="15"/>
                      </a:lnTo>
                      <a:lnTo>
                        <a:pt x="126" y="40"/>
                      </a:lnTo>
                      <a:lnTo>
                        <a:pt x="129" y="25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920920" y="5533560"/>
                  <a:ext cx="131760" cy="154080"/>
                </a:xfrm>
                <a:custGeom>
                  <a:avLst/>
                  <a:gdLst/>
                  <a:ahLst/>
                  <a:rect l="l" t="t" r="r" b="b"/>
                  <a:pathLst>
                    <a:path w="84" h="77">
                      <a:moveTo>
                        <a:pt x="0" y="77"/>
                      </a:moveTo>
                      <a:lnTo>
                        <a:pt x="84" y="52"/>
                      </a:lnTo>
                      <a:lnTo>
                        <a:pt x="15" y="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6760080" y="5513400"/>
                <a:ext cx="198000" cy="252000"/>
                <a:chOff x="6760080" y="5513400"/>
                <a:chExt cx="198000" cy="2520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6760080" y="5513400"/>
                  <a:ext cx="124200" cy="158040"/>
                </a:xfrm>
                <a:custGeom>
                  <a:avLst/>
                  <a:gdLst/>
                  <a:ahLst/>
                  <a:rect l="l" t="t" r="r" b="b"/>
                  <a:pathLst>
                    <a:path w="79" h="79">
                      <a:moveTo>
                        <a:pt x="10" y="0"/>
                      </a:moveTo>
                      <a:lnTo>
                        <a:pt x="0" y="9"/>
                      </a:lnTo>
                      <a:lnTo>
                        <a:pt x="67" y="79"/>
                      </a:lnTo>
                      <a:lnTo>
                        <a:pt x="79" y="69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6825960" y="5601240"/>
                  <a:ext cx="132120" cy="164160"/>
                </a:xfrm>
                <a:custGeom>
                  <a:avLst/>
                  <a:gdLst/>
                  <a:ahLst/>
                  <a:rect l="l" t="t" r="r" b="b"/>
                  <a:pathLst>
                    <a:path w="84" h="82">
                      <a:moveTo>
                        <a:pt x="0" y="55"/>
                      </a:moveTo>
                      <a:lnTo>
                        <a:pt x="84" y="82"/>
                      </a:lnTo>
                      <a:lnTo>
                        <a:pt x="57" y="0"/>
                      </a:lnTo>
                      <a:lnTo>
                        <a:pt x="0" y="5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84" name=""/>
          <p:cNvSpPr/>
          <p:nvPr/>
        </p:nvSpPr>
        <p:spPr>
          <a:xfrm>
            <a:off x="2293920" y="2927520"/>
            <a:ext cx="2933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293920" y="2935440"/>
            <a:ext cx="28717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287440" y="2935440"/>
            <a:ext cx="22561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72160" y="29275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57200" y="3300480"/>
            <a:ext cx="7280280" cy="2864880"/>
            <a:chOff x="457200" y="3300480"/>
            <a:chExt cx="7280280" cy="2864880"/>
          </a:xfrm>
        </p:grpSpPr>
        <p:sp>
          <p:nvSpPr>
            <p:cNvPr id="689" name=""/>
            <p:cNvSpPr/>
            <p:nvPr/>
          </p:nvSpPr>
          <p:spPr>
            <a:xfrm>
              <a:off x="457200" y="3300480"/>
              <a:ext cx="7280280" cy="285732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031760" y="3300480"/>
              <a:ext cx="922320" cy="898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504720" y="3300480"/>
              <a:ext cx="460440" cy="568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62080" y="3300480"/>
              <a:ext cx="331920" cy="407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1031760" y="3300480"/>
              <a:ext cx="922320" cy="898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504720" y="3300480"/>
              <a:ext cx="460440" cy="568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62080" y="3300480"/>
              <a:ext cx="331920" cy="407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504720" y="3378240"/>
              <a:ext cx="2573280" cy="2756880"/>
              <a:chOff x="504720" y="3378240"/>
              <a:chExt cx="2573280" cy="2756880"/>
            </a:xfrm>
          </p:grpSpPr>
          <p:sp>
            <p:nvSpPr>
              <p:cNvPr id="697" name=""/>
              <p:cNvSpPr/>
              <p:nvPr/>
            </p:nvSpPr>
            <p:spPr>
              <a:xfrm>
                <a:off x="2292120" y="4276800"/>
                <a:ext cx="71136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628640" y="5167440"/>
                <a:ext cx="1440" cy="967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7120" y="4929840"/>
                <a:ext cx="644400" cy="145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628640" y="5329080"/>
                <a:ext cx="7174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04720" y="5245200"/>
                <a:ext cx="1109520" cy="3211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64840" y="4115160"/>
                <a:ext cx="1449360" cy="398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360520" y="5582520"/>
                <a:ext cx="45396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360520" y="4913280"/>
                <a:ext cx="54000" cy="660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 flipV="1">
                <a:off x="2346120" y="3378240"/>
                <a:ext cx="277920" cy="90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285640" y="4268520"/>
                <a:ext cx="1800" cy="583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292120" y="4852080"/>
                <a:ext cx="122400" cy="61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763640" y="3945240"/>
                <a:ext cx="7855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757160" y="3546360"/>
                <a:ext cx="1440" cy="883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958320" y="4360680"/>
                <a:ext cx="40644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960200" y="4514400"/>
                <a:ext cx="31932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1613880" y="4522320"/>
                <a:ext cx="345960" cy="63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964800" y="5005800"/>
                <a:ext cx="71784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699840" y="5404320"/>
                <a:ext cx="331920" cy="7304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 flipV="1">
                <a:off x="633240" y="4676040"/>
                <a:ext cx="263520" cy="7286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1228320" y="5005800"/>
                <a:ext cx="196920" cy="484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1825560" y="5328720"/>
                <a:ext cx="263520" cy="8060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504720" y="4192920"/>
                <a:ext cx="527040" cy="6444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761760" y="5404680"/>
                <a:ext cx="27000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28360" y="5736240"/>
                <a:ext cx="8002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 flipV="1">
                <a:off x="761400" y="3546000"/>
                <a:ext cx="399960" cy="560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489040" y="3708000"/>
                <a:ext cx="588960" cy="1612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2549160" y="427644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 flipV="1">
                <a:off x="1825200" y="4760280"/>
                <a:ext cx="6012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1954080" y="4760280"/>
                <a:ext cx="33156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1892160" y="5812200"/>
                <a:ext cx="657000" cy="84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>
                <a:off x="2685600" y="5245200"/>
                <a:ext cx="392040" cy="812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2489040" y="5005800"/>
                <a:ext cx="325440" cy="6444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99840" y="5005800"/>
                <a:ext cx="33192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1296720" y="4031280"/>
                <a:ext cx="392040" cy="245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964800" y="3462120"/>
                <a:ext cx="325440" cy="407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292120" y="4276800"/>
                <a:ext cx="71136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628640" y="5167440"/>
                <a:ext cx="1440" cy="967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427120" y="4929840"/>
                <a:ext cx="644400" cy="145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628640" y="5329080"/>
                <a:ext cx="7174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4720" y="5245200"/>
                <a:ext cx="1109520" cy="3211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64840" y="4115160"/>
                <a:ext cx="1449360" cy="398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360520" y="5582520"/>
                <a:ext cx="45396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2360520" y="4913280"/>
                <a:ext cx="54000" cy="660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 flipV="1">
                <a:off x="2346120" y="3378240"/>
                <a:ext cx="277920" cy="90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2285640" y="4268520"/>
                <a:ext cx="1800" cy="583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292120" y="4852080"/>
                <a:ext cx="122400" cy="61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63640" y="3945240"/>
                <a:ext cx="7855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57160" y="3546360"/>
                <a:ext cx="1440" cy="883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958320" y="4360680"/>
                <a:ext cx="40644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1960200" y="4514400"/>
                <a:ext cx="31932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1613880" y="4522320"/>
                <a:ext cx="345960" cy="63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964800" y="5005800"/>
                <a:ext cx="71784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99840" y="5404320"/>
                <a:ext cx="331920" cy="7304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 flipV="1">
                <a:off x="633240" y="4676040"/>
                <a:ext cx="263520" cy="7286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1228320" y="5005800"/>
                <a:ext cx="196920" cy="484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1825560" y="5328720"/>
                <a:ext cx="263520" cy="8060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504720" y="4192920"/>
                <a:ext cx="527040" cy="6444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61760" y="5404680"/>
                <a:ext cx="27000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8360" y="5736240"/>
                <a:ext cx="8002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 flipV="1">
                <a:off x="761400" y="3546000"/>
                <a:ext cx="399960" cy="560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489040" y="3708000"/>
                <a:ext cx="588960" cy="1612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2549160" y="427644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 flipV="1">
                <a:off x="1825200" y="4760280"/>
                <a:ext cx="6012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1954080" y="4760280"/>
                <a:ext cx="33156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1892160" y="5812200"/>
                <a:ext cx="657000" cy="84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flipV="1">
                <a:off x="2685600" y="5245200"/>
                <a:ext cx="392040" cy="812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2489040" y="5005800"/>
                <a:ext cx="325440" cy="6444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99840" y="5005800"/>
                <a:ext cx="33192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1296720" y="4031280"/>
                <a:ext cx="392040" cy="245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964800" y="3462120"/>
                <a:ext cx="325440" cy="407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639360" y="3861360"/>
                <a:ext cx="304920" cy="153000"/>
                <a:chOff x="639360" y="3861360"/>
                <a:chExt cx="304920" cy="15300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639360" y="393876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809280" y="386136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537840" y="4237920"/>
                <a:ext cx="304920" cy="145080"/>
                <a:chOff x="537840" y="4237920"/>
                <a:chExt cx="304920" cy="14508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537840" y="430740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07760" y="4237920"/>
                  <a:ext cx="135000" cy="145080"/>
                </a:xfrm>
                <a:custGeom>
                  <a:avLst/>
                  <a:gdLst/>
                  <a:ahLst/>
                  <a:rect l="l" t="t" r="r" b="b"/>
                  <a:pathLst>
                    <a:path w="85" h="90">
                      <a:moveTo>
                        <a:pt x="0" y="90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2387520" y="4461120"/>
                <a:ext cx="298440" cy="153000"/>
                <a:chOff x="2387520" y="4461120"/>
                <a:chExt cx="298440" cy="15300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2387520" y="4530600"/>
                  <a:ext cx="1681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549160" y="4461120"/>
                  <a:ext cx="1368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6" name=""/>
              <p:cNvGrpSpPr/>
              <p:nvPr/>
            </p:nvGrpSpPr>
            <p:grpSpPr>
              <a:xfrm>
                <a:off x="1249200" y="4606560"/>
                <a:ext cx="304560" cy="153000"/>
                <a:chOff x="1249200" y="4606560"/>
                <a:chExt cx="304560" cy="15300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249200" y="46836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411200" y="4606560"/>
                  <a:ext cx="14256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9" name=""/>
              <p:cNvGrpSpPr/>
              <p:nvPr/>
            </p:nvGrpSpPr>
            <p:grpSpPr>
              <a:xfrm>
                <a:off x="2549160" y="3462480"/>
                <a:ext cx="304920" cy="153000"/>
                <a:chOff x="2549160" y="3462480"/>
                <a:chExt cx="304920" cy="15300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2549160" y="3539520"/>
                  <a:ext cx="1764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2719080" y="346248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2" name=""/>
              <p:cNvGrpSpPr/>
              <p:nvPr/>
            </p:nvGrpSpPr>
            <p:grpSpPr>
              <a:xfrm>
                <a:off x="1960200" y="4115160"/>
                <a:ext cx="311400" cy="153000"/>
                <a:chOff x="1960200" y="4115160"/>
                <a:chExt cx="311400" cy="153000"/>
              </a:xfrm>
            </p:grpSpPr>
            <p:sp>
              <p:nvSpPr>
                <p:cNvPr id="783" name=""/>
                <p:cNvSpPr/>
                <p:nvPr/>
              </p:nvSpPr>
              <p:spPr>
                <a:xfrm>
                  <a:off x="1960200" y="418464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130120" y="411516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" name=""/>
              <p:cNvGrpSpPr/>
              <p:nvPr/>
            </p:nvGrpSpPr>
            <p:grpSpPr>
              <a:xfrm>
                <a:off x="2062080" y="4983120"/>
                <a:ext cx="311040" cy="153000"/>
                <a:chOff x="2062080" y="4983120"/>
                <a:chExt cx="311040" cy="153000"/>
              </a:xfrm>
            </p:grpSpPr>
            <p:sp>
              <p:nvSpPr>
                <p:cNvPr id="786" name=""/>
                <p:cNvSpPr/>
                <p:nvPr/>
              </p:nvSpPr>
              <p:spPr>
                <a:xfrm>
                  <a:off x="2062080" y="505872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231640" y="498312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2062080" y="5605200"/>
                <a:ext cx="311040" cy="153000"/>
                <a:chOff x="2062080" y="5605200"/>
                <a:chExt cx="311040" cy="15300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2062080" y="56808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231640" y="560520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1" name=""/>
              <p:cNvGrpSpPr/>
              <p:nvPr/>
            </p:nvGrpSpPr>
            <p:grpSpPr>
              <a:xfrm>
                <a:off x="2115720" y="5951160"/>
                <a:ext cx="304920" cy="153000"/>
                <a:chOff x="2115720" y="5951160"/>
                <a:chExt cx="304920" cy="153000"/>
              </a:xfrm>
            </p:grpSpPr>
            <p:sp>
              <p:nvSpPr>
                <p:cNvPr id="792" name=""/>
                <p:cNvSpPr/>
                <p:nvPr/>
              </p:nvSpPr>
              <p:spPr>
                <a:xfrm>
                  <a:off x="2115720" y="6026760"/>
                  <a:ext cx="169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279520" y="5951160"/>
                  <a:ext cx="14112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2671560" y="3984120"/>
                <a:ext cx="304920" cy="153000"/>
                <a:chOff x="2671560" y="3984120"/>
                <a:chExt cx="304920" cy="15300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2671560" y="406152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2841480" y="39841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7" name=""/>
              <p:cNvGrpSpPr/>
              <p:nvPr/>
            </p:nvGrpSpPr>
            <p:grpSpPr>
              <a:xfrm>
                <a:off x="2671560" y="4737600"/>
                <a:ext cx="304920" cy="153000"/>
                <a:chOff x="2671560" y="4737600"/>
                <a:chExt cx="304920" cy="153000"/>
              </a:xfrm>
            </p:grpSpPr>
            <p:sp>
              <p:nvSpPr>
                <p:cNvPr id="798" name=""/>
                <p:cNvSpPr/>
                <p:nvPr/>
              </p:nvSpPr>
              <p:spPr>
                <a:xfrm>
                  <a:off x="2671560" y="48132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2841480" y="473760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2773080" y="5229000"/>
                <a:ext cx="304920" cy="152640"/>
                <a:chOff x="2773080" y="5229000"/>
                <a:chExt cx="304920" cy="15264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2773080" y="5306040"/>
                  <a:ext cx="1764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943000" y="5229000"/>
                  <a:ext cx="135000" cy="15264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2570040" y="5605200"/>
                <a:ext cx="304560" cy="153000"/>
                <a:chOff x="2570040" y="5605200"/>
                <a:chExt cx="304560" cy="1530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2570040" y="56808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2739960" y="5605200"/>
                  <a:ext cx="13464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371240" y="3853440"/>
                <a:ext cx="304920" cy="153000"/>
                <a:chOff x="1371240" y="3853440"/>
                <a:chExt cx="304920" cy="15300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371240" y="3930480"/>
                  <a:ext cx="16848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533240" y="385344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5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1384200" y="4207320"/>
                <a:ext cx="304560" cy="152640"/>
                <a:chOff x="1384200" y="4207320"/>
                <a:chExt cx="304560" cy="15264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1384200" y="428436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1553760" y="4207320"/>
                  <a:ext cx="135000" cy="15264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1892160" y="4752000"/>
                <a:ext cx="304560" cy="146520"/>
                <a:chOff x="1892160" y="4752000"/>
                <a:chExt cx="304560" cy="14652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1892160" y="4821120"/>
                  <a:ext cx="169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2055600" y="4752000"/>
                  <a:ext cx="141120" cy="146520"/>
                </a:xfrm>
                <a:custGeom>
                  <a:avLst/>
                  <a:gdLst/>
                  <a:ahLst/>
                  <a:rect l="l" t="t" r="r" b="b"/>
                  <a:pathLst>
                    <a:path w="89" h="91">
                      <a:moveTo>
                        <a:pt x="0" y="91"/>
                      </a:moveTo>
                      <a:lnTo>
                        <a:pt x="89" y="43"/>
                      </a:lnTo>
                      <a:lnTo>
                        <a:pt x="0" y="0"/>
                      </a:lnTo>
                      <a:lnTo>
                        <a:pt x="0" y="91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5" name=""/>
              <p:cNvGrpSpPr/>
              <p:nvPr/>
            </p:nvGrpSpPr>
            <p:grpSpPr>
              <a:xfrm>
                <a:off x="1655640" y="5105880"/>
                <a:ext cx="304560" cy="153000"/>
                <a:chOff x="1655640" y="5105880"/>
                <a:chExt cx="304560" cy="153000"/>
              </a:xfrm>
            </p:grpSpPr>
            <p:sp>
              <p:nvSpPr>
                <p:cNvPr id="816" name=""/>
                <p:cNvSpPr/>
                <p:nvPr/>
              </p:nvSpPr>
              <p:spPr>
                <a:xfrm>
                  <a:off x="1655640" y="518328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1825560" y="5105880"/>
                  <a:ext cx="13464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8" name=""/>
              <p:cNvGrpSpPr/>
              <p:nvPr/>
            </p:nvGrpSpPr>
            <p:grpSpPr>
              <a:xfrm>
                <a:off x="1669680" y="5474520"/>
                <a:ext cx="311400" cy="153000"/>
                <a:chOff x="1669680" y="5474520"/>
                <a:chExt cx="311400" cy="153000"/>
              </a:xfrm>
            </p:grpSpPr>
            <p:sp>
              <p:nvSpPr>
                <p:cNvPr id="819" name=""/>
                <p:cNvSpPr/>
                <p:nvPr/>
              </p:nvSpPr>
              <p:spPr>
                <a:xfrm>
                  <a:off x="1669680" y="5551560"/>
                  <a:ext cx="1746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1838160" y="547452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1060200" y="5558400"/>
                <a:ext cx="304920" cy="153000"/>
                <a:chOff x="1060200" y="5558400"/>
                <a:chExt cx="304920" cy="15300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1060200" y="5635800"/>
                  <a:ext cx="1746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228320" y="5558400"/>
                  <a:ext cx="1368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537840" y="5482440"/>
                <a:ext cx="304920" cy="153000"/>
                <a:chOff x="537840" y="5482440"/>
                <a:chExt cx="304920" cy="15300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537840" y="555804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707760" y="54824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1045800" y="5859000"/>
                <a:ext cx="304920" cy="153000"/>
                <a:chOff x="1045800" y="5859000"/>
                <a:chExt cx="304920" cy="15300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1045800" y="5927040"/>
                  <a:ext cx="169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1207800" y="58590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0" name=""/>
              <p:cNvGrpSpPr/>
              <p:nvPr/>
            </p:nvGrpSpPr>
            <p:grpSpPr>
              <a:xfrm>
                <a:off x="1960200" y="3607920"/>
                <a:ext cx="311400" cy="152640"/>
                <a:chOff x="1960200" y="3607920"/>
                <a:chExt cx="311400" cy="152640"/>
              </a:xfrm>
            </p:grpSpPr>
            <p:sp>
              <p:nvSpPr>
                <p:cNvPr id="831" name=""/>
                <p:cNvSpPr/>
                <p:nvPr/>
              </p:nvSpPr>
              <p:spPr>
                <a:xfrm>
                  <a:off x="1960200" y="3684960"/>
                  <a:ext cx="1764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2130120" y="3607920"/>
                  <a:ext cx="141480" cy="15264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5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755280" y="4545000"/>
                <a:ext cx="304920" cy="145080"/>
                <a:chOff x="755280" y="4545000"/>
                <a:chExt cx="304920" cy="14508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755280" y="4614480"/>
                  <a:ext cx="1746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923760" y="4545000"/>
                  <a:ext cx="136440" cy="14508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90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6" name=""/>
              <p:cNvGrpSpPr/>
              <p:nvPr/>
            </p:nvGrpSpPr>
            <p:grpSpPr>
              <a:xfrm>
                <a:off x="504720" y="3423600"/>
                <a:ext cx="304560" cy="153000"/>
                <a:chOff x="504720" y="3423600"/>
                <a:chExt cx="304560" cy="153000"/>
              </a:xfrm>
            </p:grpSpPr>
            <p:sp>
              <p:nvSpPr>
                <p:cNvPr id="837" name=""/>
                <p:cNvSpPr/>
                <p:nvPr/>
              </p:nvSpPr>
              <p:spPr>
                <a:xfrm>
                  <a:off x="504720" y="349272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66360" y="34236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911160" y="3462480"/>
                <a:ext cx="304560" cy="153000"/>
                <a:chOff x="911160" y="3462480"/>
                <a:chExt cx="304560" cy="15300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911160" y="353952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1079280" y="346248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1114200" y="3693240"/>
                <a:ext cx="297000" cy="153000"/>
                <a:chOff x="1114200" y="3693240"/>
                <a:chExt cx="297000" cy="15300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114200" y="3760920"/>
                  <a:ext cx="1681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276200" y="36932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1452240" y="3378240"/>
                <a:ext cx="304920" cy="153000"/>
                <a:chOff x="1452240" y="3378240"/>
                <a:chExt cx="304920" cy="15300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452240" y="345420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622160" y="33782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923760" y="5105880"/>
                <a:ext cx="311040" cy="153000"/>
                <a:chOff x="923760" y="5105880"/>
                <a:chExt cx="311040" cy="15300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923760" y="518328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093680" y="5105880"/>
                  <a:ext cx="14112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1" name=""/>
              <p:cNvGrpSpPr/>
              <p:nvPr/>
            </p:nvGrpSpPr>
            <p:grpSpPr>
              <a:xfrm>
                <a:off x="1249200" y="5290200"/>
                <a:ext cx="304560" cy="153000"/>
                <a:chOff x="1249200" y="5290200"/>
                <a:chExt cx="304560" cy="153000"/>
              </a:xfrm>
            </p:grpSpPr>
            <p:sp>
              <p:nvSpPr>
                <p:cNvPr id="852" name=""/>
                <p:cNvSpPr/>
                <p:nvPr/>
              </p:nvSpPr>
              <p:spPr>
                <a:xfrm>
                  <a:off x="1249200" y="536760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1411200" y="5290200"/>
                  <a:ext cx="14256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4" name=""/>
              <p:cNvGrpSpPr/>
              <p:nvPr/>
            </p:nvGrpSpPr>
            <p:grpSpPr>
              <a:xfrm>
                <a:off x="504720" y="5022000"/>
                <a:ext cx="304560" cy="153000"/>
                <a:chOff x="504720" y="5022000"/>
                <a:chExt cx="304560" cy="153000"/>
              </a:xfrm>
            </p:grpSpPr>
            <p:sp>
              <p:nvSpPr>
                <p:cNvPr id="855" name=""/>
                <p:cNvSpPr/>
                <p:nvPr/>
              </p:nvSpPr>
              <p:spPr>
                <a:xfrm>
                  <a:off x="504720" y="50976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66360" y="50220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7" name=""/>
            <p:cNvGrpSpPr/>
            <p:nvPr/>
          </p:nvGrpSpPr>
          <p:grpSpPr>
            <a:xfrm>
              <a:off x="5116680" y="3330000"/>
              <a:ext cx="2574720" cy="2835360"/>
              <a:chOff x="5116680" y="3330000"/>
              <a:chExt cx="2574720" cy="2835360"/>
            </a:xfrm>
          </p:grpSpPr>
          <p:sp>
            <p:nvSpPr>
              <p:cNvPr id="858" name=""/>
              <p:cNvSpPr/>
              <p:nvPr/>
            </p:nvSpPr>
            <p:spPr>
              <a:xfrm>
                <a:off x="6905880" y="4306680"/>
                <a:ext cx="71100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34120" y="5205600"/>
                <a:ext cx="7920" cy="959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034400" y="4959720"/>
                <a:ext cx="649080" cy="145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42040" y="5358960"/>
                <a:ext cx="71784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116680" y="5274720"/>
                <a:ext cx="1111320" cy="321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5645160" y="3330360"/>
                <a:ext cx="920880" cy="898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178600" y="4145040"/>
                <a:ext cx="1449360" cy="3909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966000" y="5612760"/>
                <a:ext cx="46044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V="1">
                <a:off x="6966000" y="4943160"/>
                <a:ext cx="54000" cy="669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 flipV="1">
                <a:off x="6959520" y="3407400"/>
                <a:ext cx="277560" cy="90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6897960" y="4298400"/>
                <a:ext cx="1440" cy="583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905880" y="4882320"/>
                <a:ext cx="114120" cy="61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377040" y="3975480"/>
                <a:ext cx="7858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370920" y="3576240"/>
                <a:ext cx="1440" cy="883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5570280" y="4390560"/>
                <a:ext cx="40644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573960" y="4544280"/>
                <a:ext cx="31752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>
                <a:off x="6227640" y="4552200"/>
                <a:ext cx="345960" cy="63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577120" y="5035680"/>
                <a:ext cx="71892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5313600" y="5434560"/>
                <a:ext cx="331560" cy="7304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5245200" y="4705560"/>
                <a:ext cx="264960" cy="7290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5842080" y="5035320"/>
                <a:ext cx="196920" cy="484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5116680" y="3330000"/>
                <a:ext cx="46044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6437520" y="5358960"/>
                <a:ext cx="264960" cy="80640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V="1">
                <a:off x="5116680" y="4222440"/>
                <a:ext cx="52848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5373720" y="5434920"/>
                <a:ext cx="27144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442120" y="5766480"/>
                <a:ext cx="79200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 flipV="1">
                <a:off x="5373360" y="3575880"/>
                <a:ext cx="399960" cy="560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094520" y="3737880"/>
                <a:ext cx="596880" cy="1616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7162920" y="430632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 flipV="1">
                <a:off x="6437520" y="4789440"/>
                <a:ext cx="6192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6566040" y="4789440"/>
                <a:ext cx="33192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6499440" y="5842080"/>
                <a:ext cx="663480" cy="84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 flipV="1">
                <a:off x="7291080" y="5274720"/>
                <a:ext cx="399960" cy="812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7094520" y="503532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313600" y="5035680"/>
                <a:ext cx="33156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5902560" y="4061160"/>
                <a:ext cx="399960" cy="245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V="1">
                <a:off x="5577120" y="3492000"/>
                <a:ext cx="325440" cy="407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773680" y="3330360"/>
                <a:ext cx="331920" cy="407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905880" y="4306680"/>
                <a:ext cx="71100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234120" y="5205600"/>
                <a:ext cx="7920" cy="959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034400" y="4959720"/>
                <a:ext cx="649080" cy="145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242040" y="5358960"/>
                <a:ext cx="71784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116680" y="5274720"/>
                <a:ext cx="1111320" cy="321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5645160" y="3330360"/>
                <a:ext cx="920880" cy="898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178600" y="4145040"/>
                <a:ext cx="1449360" cy="3909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966000" y="5612760"/>
                <a:ext cx="46044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6966000" y="4943160"/>
                <a:ext cx="54000" cy="669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flipV="1">
                <a:off x="6959520" y="3407400"/>
                <a:ext cx="277560" cy="90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V="1">
                <a:off x="6897960" y="4298400"/>
                <a:ext cx="1440" cy="583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905880" y="4882320"/>
                <a:ext cx="114120" cy="61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377040" y="3975480"/>
                <a:ext cx="7858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370920" y="3576240"/>
                <a:ext cx="1440" cy="883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5570280" y="4390560"/>
                <a:ext cx="40644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573960" y="4544280"/>
                <a:ext cx="31752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>
                <a:off x="6227640" y="4552200"/>
                <a:ext cx="345960" cy="636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577120" y="5035680"/>
                <a:ext cx="71892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V="1">
                <a:off x="5313600" y="5434560"/>
                <a:ext cx="331560" cy="73044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flipV="1">
                <a:off x="5245200" y="4705560"/>
                <a:ext cx="264960" cy="7290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V="1">
                <a:off x="5842080" y="5035320"/>
                <a:ext cx="196920" cy="484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5116680" y="3330000"/>
                <a:ext cx="46044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6437520" y="5358960"/>
                <a:ext cx="264960" cy="80640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5116680" y="4222440"/>
                <a:ext cx="52848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5373720" y="5434920"/>
                <a:ext cx="27144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442120" y="5766480"/>
                <a:ext cx="79200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flipV="1">
                <a:off x="5373360" y="3575880"/>
                <a:ext cx="399960" cy="560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7094520" y="3737880"/>
                <a:ext cx="596880" cy="1616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7162920" y="430632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 flipV="1">
                <a:off x="6437520" y="4789440"/>
                <a:ext cx="6192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6566040" y="4789440"/>
                <a:ext cx="331920" cy="569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6499440" y="5842080"/>
                <a:ext cx="663480" cy="84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 flipV="1">
                <a:off x="7291080" y="5274720"/>
                <a:ext cx="399960" cy="812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7094520" y="5035320"/>
                <a:ext cx="331920" cy="644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313600" y="5035680"/>
                <a:ext cx="33156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5902560" y="4061160"/>
                <a:ext cx="399960" cy="245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5577120" y="3492000"/>
                <a:ext cx="325440" cy="407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773680" y="3330360"/>
                <a:ext cx="331920" cy="4075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4" name=""/>
              <p:cNvGrpSpPr/>
              <p:nvPr/>
            </p:nvGrpSpPr>
            <p:grpSpPr>
              <a:xfrm>
                <a:off x="5253120" y="3891240"/>
                <a:ext cx="304920" cy="153000"/>
                <a:chOff x="5253120" y="3891240"/>
                <a:chExt cx="304920" cy="15300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5253120" y="3968280"/>
                  <a:ext cx="1764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421600" y="389124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5151600" y="4267800"/>
                <a:ext cx="304920" cy="153000"/>
                <a:chOff x="5151600" y="4267800"/>
                <a:chExt cx="304920" cy="15300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5151600" y="433728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5319720" y="4267800"/>
                  <a:ext cx="1368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6993000" y="4491000"/>
                <a:ext cx="304920" cy="153000"/>
                <a:chOff x="6993000" y="4491000"/>
                <a:chExt cx="304920" cy="15300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6993000" y="456660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7162920" y="449100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5862600" y="4636440"/>
                <a:ext cx="304920" cy="152640"/>
                <a:chOff x="5862600" y="4636440"/>
                <a:chExt cx="304920" cy="15264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5862600" y="4713480"/>
                  <a:ext cx="16848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024600" y="4636440"/>
                  <a:ext cx="142920" cy="15264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7162920" y="3492000"/>
                <a:ext cx="304920" cy="153000"/>
                <a:chOff x="7162920" y="3492000"/>
                <a:chExt cx="304920" cy="15300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7162920" y="35694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7331040" y="3492000"/>
                  <a:ext cx="1368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6573960" y="4145040"/>
                <a:ext cx="311040" cy="145080"/>
                <a:chOff x="6573960" y="4145040"/>
                <a:chExt cx="311040" cy="14508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6573960" y="421452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742080" y="4145040"/>
                  <a:ext cx="142920" cy="145080"/>
                </a:xfrm>
                <a:custGeom>
                  <a:avLst/>
                  <a:gdLst/>
                  <a:ahLst/>
                  <a:rect l="l" t="t" r="r" b="b"/>
                  <a:pathLst>
                    <a:path w="90" h="90">
                      <a:moveTo>
                        <a:pt x="0" y="90"/>
                      </a:moveTo>
                      <a:lnTo>
                        <a:pt x="90" y="43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6675480" y="5013000"/>
                <a:ext cx="297000" cy="153000"/>
                <a:chOff x="6675480" y="5013000"/>
                <a:chExt cx="297000" cy="15300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6675480" y="5088600"/>
                  <a:ext cx="16848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837480" y="501300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5" name=""/>
              <p:cNvGrpSpPr/>
              <p:nvPr/>
            </p:nvGrpSpPr>
            <p:grpSpPr>
              <a:xfrm>
                <a:off x="6675480" y="5635440"/>
                <a:ext cx="297000" cy="153000"/>
                <a:chOff x="6675480" y="5635440"/>
                <a:chExt cx="297000" cy="15300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6675480" y="5711040"/>
                  <a:ext cx="16848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837480" y="56354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6721560" y="5987880"/>
                <a:ext cx="312840" cy="153000"/>
                <a:chOff x="6721560" y="5987880"/>
                <a:chExt cx="312840" cy="15300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6721560" y="606528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891480" y="598788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7285320" y="4014360"/>
                <a:ext cx="304560" cy="153000"/>
                <a:chOff x="7285320" y="4014360"/>
                <a:chExt cx="304560" cy="15300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7285320" y="40914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453440" y="401436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7285320" y="4767480"/>
                <a:ext cx="304560" cy="153000"/>
                <a:chOff x="7285320" y="4767480"/>
                <a:chExt cx="304560" cy="15300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7285320" y="48366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7453440" y="476748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7386840" y="5258520"/>
                <a:ext cx="304560" cy="153000"/>
                <a:chOff x="7386840" y="5258520"/>
                <a:chExt cx="304560" cy="15300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7386840" y="533592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7554960" y="525852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7183440" y="5635440"/>
                <a:ext cx="304920" cy="153000"/>
                <a:chOff x="7183440" y="5635440"/>
                <a:chExt cx="304920" cy="15300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7183440" y="571104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7351920" y="563544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5977080" y="3883320"/>
                <a:ext cx="311040" cy="154440"/>
                <a:chOff x="5977080" y="3883320"/>
                <a:chExt cx="311040" cy="15444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5977080" y="396036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147000" y="3883320"/>
                  <a:ext cx="141120" cy="154440"/>
                </a:xfrm>
                <a:custGeom>
                  <a:avLst/>
                  <a:gdLst/>
                  <a:ahLst/>
                  <a:rect l="l" t="t" r="r" b="b"/>
                  <a:pathLst>
                    <a:path w="89" h="96">
                      <a:moveTo>
                        <a:pt x="0" y="96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5997600" y="4237200"/>
                <a:ext cx="304920" cy="153000"/>
                <a:chOff x="5997600" y="4237200"/>
                <a:chExt cx="304920" cy="15300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5997600" y="4314600"/>
                  <a:ext cx="169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159600" y="42372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6499440" y="4775400"/>
                <a:ext cx="311040" cy="153000"/>
                <a:chOff x="6499440" y="4775400"/>
                <a:chExt cx="311040" cy="15300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6499440" y="485100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667560" y="47754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6269040" y="5135760"/>
                <a:ext cx="304920" cy="153000"/>
                <a:chOff x="6269040" y="5135760"/>
                <a:chExt cx="304920" cy="15300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6269040" y="521316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6437520" y="513576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6282000" y="5504760"/>
                <a:ext cx="311040" cy="152640"/>
                <a:chOff x="6282000" y="5504760"/>
                <a:chExt cx="311040" cy="15264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6282000" y="55818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451560" y="5504760"/>
                  <a:ext cx="141480" cy="15264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5672160" y="5588640"/>
                <a:ext cx="304920" cy="153000"/>
                <a:chOff x="5672160" y="5588640"/>
                <a:chExt cx="304920" cy="15300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5672160" y="566604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842080" y="55886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5151600" y="5512680"/>
                <a:ext cx="304920" cy="153000"/>
                <a:chOff x="5151600" y="5512680"/>
                <a:chExt cx="304920" cy="15300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5151600" y="558828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319720" y="5512680"/>
                  <a:ext cx="13680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5651640" y="5889240"/>
                <a:ext cx="312840" cy="153000"/>
                <a:chOff x="5651640" y="5889240"/>
                <a:chExt cx="312840" cy="15300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5651640" y="595692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821560" y="588924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6573960" y="3637440"/>
                <a:ext cx="311040" cy="153000"/>
                <a:chOff x="6573960" y="3637440"/>
                <a:chExt cx="311040" cy="15300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6573960" y="371484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742080" y="363744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5367600" y="4574880"/>
                <a:ext cx="304560" cy="153000"/>
                <a:chOff x="5367600" y="4574880"/>
                <a:chExt cx="304560" cy="15300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5367600" y="4644360"/>
                  <a:ext cx="1760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537160" y="457488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5116680" y="3453480"/>
                <a:ext cx="304920" cy="153000"/>
                <a:chOff x="5116680" y="3453480"/>
                <a:chExt cx="304920" cy="15300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5116680" y="3522600"/>
                  <a:ext cx="169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280120" y="345348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5523120" y="3492000"/>
                <a:ext cx="304560" cy="153000"/>
                <a:chOff x="5523120" y="3492000"/>
                <a:chExt cx="304560" cy="15300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5523120" y="356940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693040" y="3492000"/>
                  <a:ext cx="13464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5726160" y="3723120"/>
                <a:ext cx="298440" cy="145080"/>
                <a:chOff x="5726160" y="3723120"/>
                <a:chExt cx="298440" cy="14508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5726160" y="3790800"/>
                  <a:ext cx="169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5889600" y="3723120"/>
                  <a:ext cx="135000" cy="145080"/>
                </a:xfrm>
                <a:custGeom>
                  <a:avLst/>
                  <a:gdLst/>
                  <a:ahLst/>
                  <a:rect l="l" t="t" r="r" b="b"/>
                  <a:pathLst>
                    <a:path w="85" h="90">
                      <a:moveTo>
                        <a:pt x="0" y="90"/>
                      </a:moveTo>
                      <a:lnTo>
                        <a:pt x="85" y="42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6066000" y="3416040"/>
                <a:ext cx="304920" cy="145080"/>
                <a:chOff x="6066000" y="3416040"/>
                <a:chExt cx="304920" cy="14508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6066000" y="3483720"/>
                  <a:ext cx="1760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234120" y="3416040"/>
                  <a:ext cx="136800" cy="14508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90"/>
                      </a:moveTo>
                      <a:lnTo>
                        <a:pt x="86" y="42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5537160" y="5135760"/>
                <a:ext cx="311400" cy="153000"/>
                <a:chOff x="5537160" y="5135760"/>
                <a:chExt cx="311400" cy="15300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5537160" y="5213160"/>
                  <a:ext cx="1764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5705640" y="513576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8" name=""/>
              <p:cNvGrpSpPr/>
              <p:nvPr/>
            </p:nvGrpSpPr>
            <p:grpSpPr>
              <a:xfrm>
                <a:off x="5862600" y="5320080"/>
                <a:ext cx="304920" cy="153000"/>
                <a:chOff x="5862600" y="5320080"/>
                <a:chExt cx="304920" cy="153000"/>
              </a:xfrm>
            </p:grpSpPr>
            <p:sp>
              <p:nvSpPr>
                <p:cNvPr id="1019" name=""/>
                <p:cNvSpPr/>
                <p:nvPr/>
              </p:nvSpPr>
              <p:spPr>
                <a:xfrm>
                  <a:off x="5862600" y="5397480"/>
                  <a:ext cx="16848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024600" y="532008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1" name=""/>
              <p:cNvGrpSpPr/>
              <p:nvPr/>
            </p:nvGrpSpPr>
            <p:grpSpPr>
              <a:xfrm>
                <a:off x="5116680" y="5051880"/>
                <a:ext cx="304920" cy="153000"/>
                <a:chOff x="5116680" y="5051880"/>
                <a:chExt cx="304920" cy="15300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5116680" y="5127480"/>
                  <a:ext cx="169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280120" y="505188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4" name=""/>
            <p:cNvGrpSpPr/>
            <p:nvPr/>
          </p:nvGrpSpPr>
          <p:grpSpPr>
            <a:xfrm>
              <a:off x="2874960" y="3330360"/>
              <a:ext cx="2289240" cy="2742840"/>
              <a:chOff x="2874960" y="3330360"/>
              <a:chExt cx="2289240" cy="2742840"/>
            </a:xfrm>
          </p:grpSpPr>
          <p:sp>
            <p:nvSpPr>
              <p:cNvPr id="1025" name=""/>
              <p:cNvSpPr/>
              <p:nvPr/>
            </p:nvSpPr>
            <p:spPr>
              <a:xfrm>
                <a:off x="4467240" y="4267800"/>
                <a:ext cx="63684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876840" y="5135760"/>
                <a:ext cx="1440" cy="937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581720" y="4905000"/>
                <a:ext cx="576360" cy="138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876840" y="5289480"/>
                <a:ext cx="6382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2874960" y="5213520"/>
                <a:ext cx="995400" cy="3070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3355920" y="3330360"/>
                <a:ext cx="812880" cy="8683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2935440" y="4114080"/>
                <a:ext cx="1281240" cy="384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527720" y="5526720"/>
                <a:ext cx="399960" cy="54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4527720" y="4890240"/>
                <a:ext cx="41400" cy="63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 flipV="1">
                <a:off x="4515120" y="3399480"/>
                <a:ext cx="242640" cy="875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4459320" y="4259880"/>
                <a:ext cx="180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4467240" y="4828680"/>
                <a:ext cx="101880" cy="61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992760" y="3952440"/>
                <a:ext cx="69696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992760" y="3576240"/>
                <a:ext cx="1440" cy="844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3281040" y="4359960"/>
                <a:ext cx="358920" cy="606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175280" y="4505400"/>
                <a:ext cx="2779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3870000" y="4513320"/>
                <a:ext cx="298440" cy="614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295800" y="4974120"/>
                <a:ext cx="6364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3057480" y="5366880"/>
                <a:ext cx="292320" cy="70632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 flipV="1">
                <a:off x="2997000" y="4658400"/>
                <a:ext cx="230040" cy="7081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3517920" y="4974120"/>
                <a:ext cx="176400" cy="4687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2874960" y="3330360"/>
                <a:ext cx="412920" cy="54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4052880" y="5289120"/>
                <a:ext cx="230400" cy="78372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V="1">
                <a:off x="2874960" y="4191840"/>
                <a:ext cx="474840" cy="628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111480" y="5366520"/>
                <a:ext cx="23832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165480" y="5680440"/>
                <a:ext cx="7048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 flipV="1">
                <a:off x="3111120" y="3561120"/>
                <a:ext cx="35244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635720" y="3723120"/>
                <a:ext cx="528480" cy="153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4697640" y="4267440"/>
                <a:ext cx="29052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 flipV="1">
                <a:off x="4046760" y="4744440"/>
                <a:ext cx="61920" cy="544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V="1">
                <a:off x="4168800" y="4744440"/>
                <a:ext cx="290520" cy="544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 flipV="1">
                <a:off x="4108680" y="5758200"/>
                <a:ext cx="581040" cy="75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 flipV="1">
                <a:off x="4811400" y="5204880"/>
                <a:ext cx="352440" cy="790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4635720" y="4973760"/>
                <a:ext cx="29196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057480" y="4974120"/>
                <a:ext cx="2923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3579840" y="4038120"/>
                <a:ext cx="352440" cy="2293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3287880" y="3483360"/>
                <a:ext cx="291960" cy="392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463920" y="3330360"/>
                <a:ext cx="292320" cy="392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467240" y="4267800"/>
                <a:ext cx="636840" cy="7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876840" y="5135760"/>
                <a:ext cx="1440" cy="937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1720" y="4905000"/>
                <a:ext cx="576360" cy="138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876840" y="5289480"/>
                <a:ext cx="638280" cy="14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874960" y="5213520"/>
                <a:ext cx="995400" cy="3070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3355920" y="3330360"/>
                <a:ext cx="812880" cy="8683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35440" y="4114080"/>
                <a:ext cx="1281240" cy="3848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527720" y="5526720"/>
                <a:ext cx="399960" cy="54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4527720" y="4890240"/>
                <a:ext cx="41400" cy="63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 flipV="1">
                <a:off x="4515120" y="3399480"/>
                <a:ext cx="242640" cy="8758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4459320" y="4259880"/>
                <a:ext cx="1800" cy="568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67240" y="4828680"/>
                <a:ext cx="101880" cy="61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992760" y="3952440"/>
                <a:ext cx="69696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992760" y="3576240"/>
                <a:ext cx="1440" cy="8449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3281040" y="4359960"/>
                <a:ext cx="358920" cy="60624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175280" y="4505400"/>
                <a:ext cx="2779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3870000" y="4513320"/>
                <a:ext cx="298440" cy="6141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3295800" y="4974120"/>
                <a:ext cx="6364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3057480" y="5366880"/>
                <a:ext cx="292320" cy="70632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H="1" flipV="1">
                <a:off x="2997000" y="4658400"/>
                <a:ext cx="230040" cy="7081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3517920" y="4974120"/>
                <a:ext cx="176400" cy="4687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V="1">
                <a:off x="2874960" y="3330360"/>
                <a:ext cx="412920" cy="5464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4052880" y="5289120"/>
                <a:ext cx="230400" cy="783720"/>
              </a:xfrm>
              <a:prstGeom prst="line">
                <a:avLst/>
              </a:prstGeom>
              <a:ln w="64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V="1">
                <a:off x="2874960" y="4191840"/>
                <a:ext cx="474840" cy="6285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3111480" y="5366520"/>
                <a:ext cx="23832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3165480" y="5680440"/>
                <a:ext cx="70488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 flipV="1">
                <a:off x="3111120" y="3561120"/>
                <a:ext cx="352440" cy="552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635720" y="3723120"/>
                <a:ext cx="528480" cy="153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4697640" y="4267440"/>
                <a:ext cx="29052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 flipV="1">
                <a:off x="4046760" y="4744440"/>
                <a:ext cx="61920" cy="544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4168800" y="4744440"/>
                <a:ext cx="290520" cy="54468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4108680" y="5758200"/>
                <a:ext cx="581040" cy="756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 flipV="1">
                <a:off x="4811400" y="5204880"/>
                <a:ext cx="352440" cy="7902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4635720" y="4973760"/>
                <a:ext cx="291960" cy="6303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057480" y="4974120"/>
                <a:ext cx="292320" cy="180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3579840" y="4038120"/>
                <a:ext cx="352440" cy="22932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V="1">
                <a:off x="3287880" y="3483360"/>
                <a:ext cx="291960" cy="392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463920" y="3330360"/>
                <a:ext cx="292320" cy="392760"/>
              </a:xfrm>
              <a:prstGeom prst="line">
                <a:avLst/>
              </a:prstGeom>
              <a:ln w="144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1" name=""/>
              <p:cNvGrpSpPr/>
              <p:nvPr/>
            </p:nvGrpSpPr>
            <p:grpSpPr>
              <a:xfrm>
                <a:off x="2997360" y="3868560"/>
                <a:ext cx="277920" cy="153000"/>
                <a:chOff x="2997360" y="3868560"/>
                <a:chExt cx="277920" cy="1530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2997360" y="3944160"/>
                  <a:ext cx="1411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3132360" y="386856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2908440" y="4228920"/>
                <a:ext cx="271440" cy="153000"/>
                <a:chOff x="2908440" y="4228920"/>
                <a:chExt cx="271440" cy="1530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2908440" y="430632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3044880" y="42289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4548240" y="4452120"/>
                <a:ext cx="271440" cy="145080"/>
                <a:chOff x="4548240" y="4452120"/>
                <a:chExt cx="271440" cy="1450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548240" y="4521240"/>
                  <a:ext cx="1350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676760" y="4452120"/>
                  <a:ext cx="142920" cy="145080"/>
                </a:xfrm>
                <a:custGeom>
                  <a:avLst/>
                  <a:gdLst/>
                  <a:ahLst/>
                  <a:rect l="l" t="t" r="r" b="b"/>
                  <a:pathLst>
                    <a:path w="90" h="90">
                      <a:moveTo>
                        <a:pt x="0" y="90"/>
                      </a:moveTo>
                      <a:lnTo>
                        <a:pt x="90" y="43"/>
                      </a:lnTo>
                      <a:lnTo>
                        <a:pt x="0" y="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538800" y="4591080"/>
                <a:ext cx="277560" cy="153000"/>
                <a:chOff x="3538800" y="4591080"/>
                <a:chExt cx="277560" cy="1530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3538800" y="4666680"/>
                  <a:ext cx="14256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673440" y="459108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4697640" y="3483720"/>
                <a:ext cx="269640" cy="153000"/>
                <a:chOff x="4697640" y="3483720"/>
                <a:chExt cx="269640" cy="1530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4697640" y="3561120"/>
                  <a:ext cx="13500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826160" y="3483720"/>
                  <a:ext cx="14112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175280" y="4106160"/>
                <a:ext cx="264960" cy="153000"/>
                <a:chOff x="4175280" y="4106160"/>
                <a:chExt cx="264960" cy="1530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4175280" y="4183560"/>
                  <a:ext cx="1364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303800" y="410616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5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4256280" y="4951440"/>
                <a:ext cx="271440" cy="153000"/>
                <a:chOff x="4256280" y="4951440"/>
                <a:chExt cx="271440" cy="1530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4256280" y="502740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392720" y="49514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4256280" y="5557680"/>
                <a:ext cx="271440" cy="153000"/>
                <a:chOff x="4256280" y="5557680"/>
                <a:chExt cx="271440" cy="1530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4256280" y="562716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392720" y="555768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4303800" y="5895720"/>
                <a:ext cx="271440" cy="153000"/>
                <a:chOff x="4303800" y="5895720"/>
                <a:chExt cx="271440" cy="1530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4303800" y="5972760"/>
                  <a:ext cx="142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440240" y="58957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4799160" y="3991320"/>
                <a:ext cx="270000" cy="153000"/>
                <a:chOff x="4799160" y="3991320"/>
                <a:chExt cx="270000" cy="1530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799160" y="4068720"/>
                  <a:ext cx="1411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934160" y="39913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4799160" y="4713840"/>
                <a:ext cx="270000" cy="153000"/>
                <a:chOff x="4799160" y="4713840"/>
                <a:chExt cx="270000" cy="1530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4799160" y="4789440"/>
                  <a:ext cx="1411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934160" y="471384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892760" y="5197320"/>
                <a:ext cx="271440" cy="153000"/>
                <a:chOff x="4892760" y="5197320"/>
                <a:chExt cx="271440" cy="1530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4892760" y="5274360"/>
                  <a:ext cx="13644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023080" y="5197320"/>
                  <a:ext cx="14112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4710240" y="5557680"/>
                <a:ext cx="271440" cy="153000"/>
                <a:chOff x="4710240" y="5557680"/>
                <a:chExt cx="271440" cy="1530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4710240" y="562716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846680" y="555768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3640320" y="3860640"/>
                <a:ext cx="277920" cy="153000"/>
                <a:chOff x="3640320" y="3860640"/>
                <a:chExt cx="277920" cy="1530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3640320" y="393804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3775320" y="386064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52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3660840" y="4206600"/>
                <a:ext cx="271440" cy="152640"/>
                <a:chOff x="3660840" y="4206600"/>
                <a:chExt cx="271440" cy="15264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3660840" y="4283640"/>
                  <a:ext cx="1350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3789360" y="4206600"/>
                  <a:ext cx="142920" cy="15264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4108680" y="4728600"/>
                <a:ext cx="269640" cy="153000"/>
                <a:chOff x="4108680" y="4728600"/>
                <a:chExt cx="269640" cy="1530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108680" y="4806000"/>
                  <a:ext cx="1411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243680" y="4728600"/>
                  <a:ext cx="13464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3905280" y="5074560"/>
                <a:ext cx="270000" cy="153000"/>
                <a:chOff x="3905280" y="5074560"/>
                <a:chExt cx="270000" cy="1530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3905280" y="5151600"/>
                  <a:ext cx="13500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033800" y="5074560"/>
                  <a:ext cx="141480" cy="153000"/>
                </a:xfrm>
                <a:custGeom>
                  <a:avLst/>
                  <a:gdLst/>
                  <a:ahLst/>
                  <a:rect l="l" t="t" r="r" b="b"/>
                  <a:pathLst>
                    <a:path w="89" h="95">
                      <a:moveTo>
                        <a:pt x="0" y="95"/>
                      </a:moveTo>
                      <a:lnTo>
                        <a:pt x="89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3911760" y="5434920"/>
                <a:ext cx="270000" cy="153000"/>
                <a:chOff x="3911760" y="5434920"/>
                <a:chExt cx="270000" cy="1530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3911760" y="5504400"/>
                  <a:ext cx="1411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046760" y="54349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3368880" y="5512680"/>
                <a:ext cx="271440" cy="153000"/>
                <a:chOff x="3368880" y="5512680"/>
                <a:chExt cx="271440" cy="1530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3368880" y="558828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505320" y="551268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2908440" y="5434920"/>
                <a:ext cx="271440" cy="153000"/>
                <a:chOff x="2908440" y="5434920"/>
                <a:chExt cx="271440" cy="1530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2908440" y="550440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3044880" y="54349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3362400" y="5797080"/>
                <a:ext cx="271440" cy="153000"/>
                <a:chOff x="3362400" y="5797080"/>
                <a:chExt cx="271440" cy="1530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3362400" y="5872680"/>
                  <a:ext cx="1364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490920" y="579708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4" name=""/>
              <p:cNvGrpSpPr/>
              <p:nvPr/>
            </p:nvGrpSpPr>
            <p:grpSpPr>
              <a:xfrm>
                <a:off x="4175280" y="3630960"/>
                <a:ext cx="264960" cy="153000"/>
                <a:chOff x="4175280" y="3630960"/>
                <a:chExt cx="264960" cy="153000"/>
              </a:xfrm>
            </p:grpSpPr>
            <p:sp>
              <p:nvSpPr>
                <p:cNvPr id="1165" name=""/>
                <p:cNvSpPr/>
                <p:nvPr/>
              </p:nvSpPr>
              <p:spPr>
                <a:xfrm>
                  <a:off x="4175280" y="3706560"/>
                  <a:ext cx="1364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303800" y="363096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7" name=""/>
              <p:cNvGrpSpPr/>
              <p:nvPr/>
            </p:nvGrpSpPr>
            <p:grpSpPr>
              <a:xfrm>
                <a:off x="3098880" y="4529880"/>
                <a:ext cx="277920" cy="152640"/>
                <a:chOff x="3098880" y="4529880"/>
                <a:chExt cx="277920" cy="152640"/>
              </a:xfrm>
            </p:grpSpPr>
            <p:sp>
              <p:nvSpPr>
                <p:cNvPr id="1168" name=""/>
                <p:cNvSpPr/>
                <p:nvPr/>
              </p:nvSpPr>
              <p:spPr>
                <a:xfrm>
                  <a:off x="3098880" y="4605480"/>
                  <a:ext cx="14148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3233880" y="4529880"/>
                  <a:ext cx="142920" cy="15264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0" name=""/>
              <p:cNvGrpSpPr/>
              <p:nvPr/>
            </p:nvGrpSpPr>
            <p:grpSpPr>
              <a:xfrm>
                <a:off x="2874960" y="3446640"/>
                <a:ext cx="271440" cy="153000"/>
                <a:chOff x="2874960" y="3446640"/>
                <a:chExt cx="271440" cy="15300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2874960" y="3514320"/>
                  <a:ext cx="142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009960" y="344664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3240360" y="3483720"/>
                <a:ext cx="271440" cy="153000"/>
                <a:chOff x="3240360" y="3483720"/>
                <a:chExt cx="271440" cy="15300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3240360" y="3561120"/>
                  <a:ext cx="1364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3368880" y="348372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3416400" y="3706920"/>
                <a:ext cx="271440" cy="153000"/>
                <a:chOff x="3416400" y="3706920"/>
                <a:chExt cx="271440" cy="15300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3416400" y="378432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3552840" y="3706920"/>
                  <a:ext cx="135000" cy="153000"/>
                </a:xfrm>
                <a:custGeom>
                  <a:avLst/>
                  <a:gdLst/>
                  <a:ahLst/>
                  <a:rect l="l" t="t" r="r" b="b"/>
                  <a:pathLst>
                    <a:path w="85" h="95">
                      <a:moveTo>
                        <a:pt x="0" y="95"/>
                      </a:moveTo>
                      <a:lnTo>
                        <a:pt x="85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9" name=""/>
              <p:cNvGrpSpPr/>
              <p:nvPr/>
            </p:nvGrpSpPr>
            <p:grpSpPr>
              <a:xfrm>
                <a:off x="3714840" y="3399840"/>
                <a:ext cx="271440" cy="153000"/>
                <a:chOff x="3714840" y="3399840"/>
                <a:chExt cx="271440" cy="153000"/>
              </a:xfrm>
            </p:grpSpPr>
            <p:sp>
              <p:nvSpPr>
                <p:cNvPr id="1180" name=""/>
                <p:cNvSpPr/>
                <p:nvPr/>
              </p:nvSpPr>
              <p:spPr>
                <a:xfrm>
                  <a:off x="3714840" y="347724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3849840" y="339984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8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3254400" y="5066640"/>
                <a:ext cx="271440" cy="152640"/>
                <a:chOff x="3254400" y="5066640"/>
                <a:chExt cx="271440" cy="15264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3254400" y="5143680"/>
                  <a:ext cx="142920" cy="180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3389400" y="5066640"/>
                  <a:ext cx="136440" cy="15264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5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5" name=""/>
              <p:cNvGrpSpPr/>
              <p:nvPr/>
            </p:nvGrpSpPr>
            <p:grpSpPr>
              <a:xfrm>
                <a:off x="3538800" y="5250600"/>
                <a:ext cx="271440" cy="153000"/>
                <a:chOff x="3538800" y="5250600"/>
                <a:chExt cx="271440" cy="153000"/>
              </a:xfrm>
            </p:grpSpPr>
            <p:sp>
              <p:nvSpPr>
                <p:cNvPr id="1186" name=""/>
                <p:cNvSpPr/>
                <p:nvPr/>
              </p:nvSpPr>
              <p:spPr>
                <a:xfrm>
                  <a:off x="3538800" y="5320080"/>
                  <a:ext cx="13464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3667320" y="5250600"/>
                  <a:ext cx="142920" cy="153000"/>
                </a:xfrm>
                <a:custGeom>
                  <a:avLst/>
                  <a:gdLst/>
                  <a:ahLst/>
                  <a:rect l="l" t="t" r="r" b="b"/>
                  <a:pathLst>
                    <a:path w="90" h="95">
                      <a:moveTo>
                        <a:pt x="0" y="95"/>
                      </a:moveTo>
                      <a:lnTo>
                        <a:pt x="90" y="43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8" name=""/>
              <p:cNvGrpSpPr/>
              <p:nvPr/>
            </p:nvGrpSpPr>
            <p:grpSpPr>
              <a:xfrm>
                <a:off x="2874960" y="4990320"/>
                <a:ext cx="271440" cy="153000"/>
                <a:chOff x="2874960" y="4990320"/>
                <a:chExt cx="271440" cy="153000"/>
              </a:xfrm>
            </p:grpSpPr>
            <p:sp>
              <p:nvSpPr>
                <p:cNvPr id="1189" name=""/>
                <p:cNvSpPr/>
                <p:nvPr/>
              </p:nvSpPr>
              <p:spPr>
                <a:xfrm>
                  <a:off x="2874960" y="5066280"/>
                  <a:ext cx="142920" cy="1440"/>
                </a:xfrm>
                <a:prstGeom prst="line">
                  <a:avLst/>
                </a:prstGeom>
                <a:ln w="144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3009960" y="4990320"/>
                  <a:ext cx="136440" cy="153000"/>
                </a:xfrm>
                <a:custGeom>
                  <a:avLst/>
                  <a:gdLst/>
                  <a:ahLst/>
                  <a:rect l="l" t="t" r="r" b="b"/>
                  <a:pathLst>
                    <a:path w="86" h="95">
                      <a:moveTo>
                        <a:pt x="0" y="95"/>
                      </a:moveTo>
                      <a:lnTo>
                        <a:pt x="86" y="47"/>
                      </a:lnTo>
                      <a:lnTo>
                        <a:pt x="0" y="0"/>
                      </a:lnTo>
                      <a:lnTo>
                        <a:pt x="0" y="95"/>
                      </a:lnTo>
                      <a:close/>
                    </a:path>
                  </a:pathLst>
                </a:custGeom>
                <a:solidFill>
                  <a:srgbClr val="3333cc"/>
                </a:solidFill>
                <a:ln w="1440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91" name=""/>
          <p:cNvSpPr/>
          <p:nvPr/>
        </p:nvSpPr>
        <p:spPr>
          <a:xfrm>
            <a:off x="2590920" y="2919240"/>
            <a:ext cx="387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Procesos de la Or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2" name=""/>
          <p:cNvGrpSpPr/>
          <p:nvPr/>
        </p:nvGrpSpPr>
        <p:grpSpPr>
          <a:xfrm>
            <a:off x="7696080" y="4060800"/>
            <a:ext cx="1143000" cy="1184400"/>
            <a:chOff x="7696080" y="4060800"/>
            <a:chExt cx="1143000" cy="1184400"/>
          </a:xfrm>
        </p:grpSpPr>
        <p:sp>
          <p:nvSpPr>
            <p:cNvPr id="1193" name=""/>
            <p:cNvSpPr/>
            <p:nvPr/>
          </p:nvSpPr>
          <p:spPr>
            <a:xfrm>
              <a:off x="7797600" y="40608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696080" y="4213080"/>
              <a:ext cx="114300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Objeti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Propósi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457200" y="2157480"/>
            <a:ext cx="8001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800000"/>
                </a:solidFill>
                <a:latin typeface="Arial Narrow"/>
                <a:ea typeface="Arial"/>
              </a:rPr>
              <a:t>Alineamiento organiz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57200" y="981000"/>
            <a:ext cx="8291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Tahoma"/>
              </a:rPr>
              <a:t>Modelo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Tahoma"/>
              </a:rPr>
              <a:t>Gestión de Calidad y Seguridad</a:t>
            </a:r>
            <a:r>
              <a:rPr b="1" lang="es-ES_tradnl" sz="4000" spc="-1" strike="noStrike">
                <a:solidFill>
                  <a:srgbClr val="cc0000"/>
                </a:solidFill>
                <a:latin typeface="Times New Roman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57200" y="3300480"/>
            <a:ext cx="7278840" cy="2836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"/>
          <p:cNvSpPr/>
          <p:nvPr/>
        </p:nvSpPr>
        <p:spPr>
          <a:xfrm>
            <a:off x="684360" y="2205000"/>
            <a:ext cx="2232000" cy="45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0920" y="1052640"/>
            <a:ext cx="8640720" cy="93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ESTRUCTURA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(Calidad, Seguridad, Factores Humanos y Medio Amb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763640" y="2997360"/>
            <a:ext cx="2232000" cy="4597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844720" y="3824280"/>
            <a:ext cx="2232000" cy="4597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924360" y="4616280"/>
            <a:ext cx="23032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Proced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076720" y="5408640"/>
            <a:ext cx="223200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Instru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156360" y="6165720"/>
            <a:ext cx="2232000" cy="4597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rot="5400000">
            <a:off x="1043280" y="2851560"/>
            <a:ext cx="792000" cy="505080"/>
          </a:xfrm>
          <a:custGeom>
            <a:avLst/>
            <a:gdLst>
              <a:gd name="textAreaLeft" fmla="*/ 263880 w 792000"/>
              <a:gd name="textAreaRight" fmla="*/ 678600 w 792000"/>
              <a:gd name="textAreaTop" fmla="*/ 290880 h 505080"/>
              <a:gd name="textAreaBottom" fmla="*/ 43272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rot="5400000">
            <a:off x="2122920" y="3643920"/>
            <a:ext cx="792360" cy="504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290880 h 504720"/>
              <a:gd name="textAreaBottom" fmla="*/ 4323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rot="5400000">
            <a:off x="3202920" y="4509360"/>
            <a:ext cx="792000" cy="504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290880 h 504720"/>
              <a:gd name="textAreaBottom" fmla="*/ 4323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rot="5400000">
            <a:off x="4283640" y="5301360"/>
            <a:ext cx="792360" cy="504720"/>
          </a:xfrm>
          <a:custGeom>
            <a:avLst/>
            <a:gdLst>
              <a:gd name="textAreaLeft" fmla="*/ 264240 w 792360"/>
              <a:gd name="textAreaRight" fmla="*/ 678600 w 792360"/>
              <a:gd name="textAreaTop" fmla="*/ 290880 h 504720"/>
              <a:gd name="textAreaBottom" fmla="*/ 4323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rot="5400000">
            <a:off x="5436360" y="6093720"/>
            <a:ext cx="792000" cy="504720"/>
          </a:xfrm>
          <a:custGeom>
            <a:avLst/>
            <a:gdLst>
              <a:gd name="textAreaLeft" fmla="*/ 263880 w 792000"/>
              <a:gd name="textAreaRight" fmla="*/ 678600 w 792000"/>
              <a:gd name="textAreaTop" fmla="*/ 290880 h 504720"/>
              <a:gd name="textAreaBottom" fmla="*/ 4323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rot="18904800">
            <a:off x="6000480" y="836280"/>
            <a:ext cx="1098360" cy="6531120"/>
          </a:xfrm>
          <a:custGeom>
            <a:avLst/>
            <a:gdLst>
              <a:gd name="textAreaLeft" fmla="*/ 0 w 1098360"/>
              <a:gd name="textAreaRight" fmla="*/ 396720 w 1098360"/>
              <a:gd name="textAreaTop" fmla="*/ 345960 h 6531120"/>
              <a:gd name="textAreaBottom" fmla="*/ 6185160 h 653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829"/>
                  <a:pt x="10800" y="3658"/>
                </a:cubicBezTo>
                <a:lnTo>
                  <a:pt x="10800" y="6643"/>
                </a:lnTo>
                <a:cubicBezTo>
                  <a:pt x="10800" y="8472"/>
                  <a:pt x="16200" y="10301"/>
                  <a:pt x="21600" y="10301"/>
                </a:cubicBezTo>
                <a:cubicBezTo>
                  <a:pt x="16200" y="10301"/>
                  <a:pt x="10800" y="12130"/>
                  <a:pt x="10800" y="13959"/>
                </a:cubicBezTo>
                <a:lnTo>
                  <a:pt x="10800" y="17942"/>
                </a:lnTo>
                <a:cubicBezTo>
                  <a:pt x="10800" y="197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877080" y="2276640"/>
            <a:ext cx="2087640" cy="1739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SO 9001: Calidad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ISO 14001: Medio Ambiente</a:t>
            </a:r>
            <a:br>
              <a:rPr sz="1800"/>
            </a:b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OHSAS 18001 Seguridad y Salud Ocup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2" name=""/>
          <p:cNvGraphicFramePr/>
          <p:nvPr/>
        </p:nvGraphicFramePr>
        <p:xfrm>
          <a:off x="3240" y="1052640"/>
          <a:ext cx="9105840" cy="51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052640"/>
                    <a:ext cx="9105840" cy="5165640"/>
                  </a:xfrm>
                  <a:prstGeom prst="rect">
                    <a:avLst/>
                  </a:prstGeom>
                  <a:ln w="936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280" y="1989000"/>
            <a:ext cx="8209080" cy="4392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stema Integrado de Gestión de COCESNA (SIG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ntecedentes y ámbito de acción de COCES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rigen y alcance del SI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¿Qué está haciendo COCESNA para implementar el SMS a nivel corporativo y particularmente en A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vances en desarrollar e implementar el SI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105264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NTENIDO DE LA 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"/>
          <p:cNvSpPr/>
          <p:nvPr/>
        </p:nvSpPr>
        <p:spPr>
          <a:xfrm>
            <a:off x="663480" y="2205000"/>
            <a:ext cx="7869240" cy="30200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Arial"/>
              </a:rPr>
              <a:t>En COCESNA nos comprometemos a prestar con calidad y seguridad los servicios y productos requeridos por los usuarios, clientes y partes interesadas de acuerdo a la normativa aplicable, desarrollando al personal, eliminando o minimizando los riesgos para la seguridad y salud ocupacional, y mejorando continuamente nuestros procesos en la búsqueda permanente de la excelencia y segu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900000" y="119700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POLÍTICA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68360" y="5373720"/>
            <a:ext cx="82090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Nota: Esta política la definió la alta dirección de COCESNA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–firmada-, la cual se ha comunicado y debe ser entendida por todo el personal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539640" y="1981080"/>
            <a:ext cx="8183520" cy="390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0000cc"/>
                </a:solidFill>
                <a:uFillTx/>
                <a:latin typeface="Arial"/>
              </a:rPr>
              <a:t>Seguridad Aeronáu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Times New Roman"/>
              </a:rPr>
              <a:t>Fortalecer permanentemente la seguridad en la prestación de servicios y productos, sustentado en una adecuada gestión de riesgos, salud ocupacional, calidad, excelencia y mejoramiento continuo de los proces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0000cc"/>
                </a:solidFill>
                <a:uFillTx/>
                <a:latin typeface="Arial"/>
              </a:rPr>
              <a:t>Satisfacción del Usuario /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Times New Roman"/>
              </a:rPr>
              <a:t>Satisfacer a nuestros usuarios, clientes y partes interesadas en el cumplimiento de sus requisitos según la normativa aplicable, siendo proactivos, innovadores y agregando valor en identificar y atender sus neces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042920" y="1006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 CORPORATIVOS DES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LA PERSPECTIVA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539640" y="1905120"/>
            <a:ext cx="8183520" cy="4269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0000cc"/>
                </a:solidFill>
                <a:uFillTx/>
                <a:latin typeface="Arial"/>
              </a:rPr>
              <a:t>Autosostenibilidad Financi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400" spc="-1" strike="noStrike">
                <a:solidFill>
                  <a:srgbClr val="000000"/>
                </a:solidFill>
                <a:latin typeface="Times New Roman"/>
              </a:rPr>
              <a:t>Asegurar la autosostenibilidad financiera y permanenci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 la organización</a:t>
            </a:r>
            <a:r>
              <a:rPr b="0" lang="es-HN" sz="2400" spc="-1" strike="noStrike">
                <a:solidFill>
                  <a:srgbClr val="000000"/>
                </a:solidFill>
                <a:latin typeface="Times New Roman"/>
              </a:rPr>
              <a:t> a través de la administración del riesgo, efectividad, eficiencia y dinamismo en la gestión, siendo capaces de evolucionar proactivamente en un entorno cambiante y competitivo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cc"/>
                </a:solidFill>
                <a:uFillTx/>
                <a:latin typeface="Arial"/>
              </a:rPr>
              <a:t>Satisfacción d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sarrollar continuamente las competencias, responsabilidad, liderazgo, motivación, compromiso, seguridad y salud ocupacional del personal, para el logro de sus metas profesionales y objetivos organizaciona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042920" y="1006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 CORPORATIVOS DES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LA PERSPECTIVA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479520" y="2349360"/>
            <a:ext cx="8183520" cy="228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 u="sng">
                <a:solidFill>
                  <a:srgbClr val="0000cc"/>
                </a:solidFill>
                <a:uFillTx/>
                <a:latin typeface="Arial"/>
              </a:rPr>
              <a:t>Contribuir al Desarrollo de la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ntribuir al desarrollo de los Estados Miembros, aviación civil y partes interesadas mediante una  adecuada gestión de calidad, seguridad, salud ocupacional y excelencia, actuando con responsabilidad social corporativa, fomentando relaciones mutuamente beneficiosas y respetando el medio ambien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1042920" y="1195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OBJETIVOS CORPORATIVOS DES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LA PERSPECTIVA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1681560" y="2205000"/>
            <a:ext cx="5576400" cy="3575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5200" bIns="25200" anchor="t" anchorCtr="1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Identificando Amenaz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Analizando el  Ries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Tahoma"/>
              </a:rPr>
              <a:t>Controlando el Ries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o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educ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ti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li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971640" y="112392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¿CÓMO COCESNA GESTIONA LA SEGUR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5" name=""/>
          <p:cNvGrpSpPr/>
          <p:nvPr/>
        </p:nvGrpSpPr>
        <p:grpSpPr>
          <a:xfrm>
            <a:off x="304920" y="6523200"/>
            <a:ext cx="6095880" cy="508680"/>
            <a:chOff x="304920" y="6523200"/>
            <a:chExt cx="6095880" cy="508680"/>
          </a:xfrm>
        </p:grpSpPr>
        <p:sp>
          <p:nvSpPr>
            <p:cNvPr id="1226" name=""/>
            <p:cNvSpPr/>
            <p:nvPr/>
          </p:nvSpPr>
          <p:spPr>
            <a:xfrm>
              <a:off x="2743200" y="6588000"/>
              <a:ext cx="36576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04920" y="6523200"/>
              <a:ext cx="198108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4798440" y="180504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04920" y="1854360"/>
            <a:ext cx="4038480" cy="2438280"/>
          </a:xfrm>
          <a:custGeom>
            <a:avLst/>
            <a:gdLst>
              <a:gd name="textAreaLeft" fmla="*/ 921960 w 4038480"/>
              <a:gd name="textAreaRight" fmla="*/ 3116520 w 4038480"/>
              <a:gd name="textAreaTop" fmla="*/ 556560 h 2438280"/>
              <a:gd name="textAreaBottom" fmla="*/ 18817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ab0f4"/>
              </a:gs>
              <a:gs pos="100000">
                <a:srgbClr val="063de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ies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925880" y="1782720"/>
            <a:ext cx="4038840" cy="2438280"/>
          </a:xfrm>
          <a:custGeom>
            <a:avLst/>
            <a:gdLst>
              <a:gd name="textAreaLeft" fmla="*/ 921960 w 4038840"/>
              <a:gd name="textAreaRight" fmla="*/ 3116880 w 4038840"/>
              <a:gd name="textAreaTop" fmla="*/ 556560 h 2438280"/>
              <a:gd name="textAreaBottom" fmla="*/ 18817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e9898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ies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195640" y="4073400"/>
            <a:ext cx="4038480" cy="2438640"/>
          </a:xfrm>
          <a:custGeom>
            <a:avLst/>
            <a:gdLst>
              <a:gd name="textAreaLeft" fmla="*/ 921960 w 4038480"/>
              <a:gd name="textAreaRight" fmla="*/ 3116520 w 4038480"/>
              <a:gd name="textAreaTop" fmla="*/ 556560 h 2438640"/>
              <a:gd name="textAreaBottom" fmla="*/ 18820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8cb98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Riesg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ahoma"/>
              </a:rPr>
              <a:t>Medio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2271960" y="4226040"/>
            <a:ext cx="4054320" cy="2058840"/>
            <a:chOff x="2271960" y="4226040"/>
            <a:chExt cx="4054320" cy="2058840"/>
          </a:xfrm>
        </p:grpSpPr>
        <p:sp>
          <p:nvSpPr>
            <p:cNvPr id="1233" name=""/>
            <p:cNvSpPr/>
            <p:nvPr/>
          </p:nvSpPr>
          <p:spPr>
            <a:xfrm>
              <a:off x="2971800" y="4226040"/>
              <a:ext cx="3354480" cy="2058840"/>
            </a:xfrm>
            <a:custGeom>
              <a:avLst/>
              <a:gdLst/>
              <a:ahLst/>
              <a:rect l="l" t="t" r="r" b="b"/>
              <a:pathLst>
                <a:path w="2112" h="1296">
                  <a:moveTo>
                    <a:pt x="0" y="0"/>
                  </a:moveTo>
                  <a:lnTo>
                    <a:pt x="0" y="1296"/>
                  </a:lnTo>
                  <a:lnTo>
                    <a:pt x="2112" y="1296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276720" y="4530960"/>
              <a:ext cx="2666880" cy="1447560"/>
            </a:xfrm>
            <a:custGeom>
              <a:avLst/>
              <a:gdLst/>
              <a:ahLst/>
              <a:rect l="l" t="t" r="r" b="b"/>
              <a:pathLst>
                <a:path w="1680" h="912">
                  <a:moveTo>
                    <a:pt x="0" y="0"/>
                  </a:moveTo>
                  <a:cubicBezTo>
                    <a:pt x="48" y="110"/>
                    <a:pt x="8" y="508"/>
                    <a:pt x="288" y="660"/>
                  </a:cubicBezTo>
                  <a:cubicBezTo>
                    <a:pt x="568" y="812"/>
                    <a:pt x="1390" y="860"/>
                    <a:pt x="1680" y="912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271960" y="4370400"/>
              <a:ext cx="6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942160" y="581832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150480" y="2090880"/>
            <a:ext cx="4048560" cy="2058840"/>
            <a:chOff x="150480" y="2090880"/>
            <a:chExt cx="4048560" cy="2058840"/>
          </a:xfrm>
        </p:grpSpPr>
        <p:sp>
          <p:nvSpPr>
            <p:cNvPr id="1238" name=""/>
            <p:cNvSpPr/>
            <p:nvPr/>
          </p:nvSpPr>
          <p:spPr>
            <a:xfrm>
              <a:off x="844560" y="2090880"/>
              <a:ext cx="3354480" cy="2058840"/>
            </a:xfrm>
            <a:custGeom>
              <a:avLst/>
              <a:gdLst/>
              <a:ahLst/>
              <a:rect l="l" t="t" r="r" b="b"/>
              <a:pathLst>
                <a:path w="2112" h="1296">
                  <a:moveTo>
                    <a:pt x="0" y="0"/>
                  </a:moveTo>
                  <a:lnTo>
                    <a:pt x="0" y="1296"/>
                  </a:lnTo>
                  <a:lnTo>
                    <a:pt x="2112" y="1296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149480" y="2395800"/>
              <a:ext cx="2666880" cy="1447560"/>
            </a:xfrm>
            <a:custGeom>
              <a:avLst/>
              <a:gdLst/>
              <a:ahLst/>
              <a:rect l="l" t="t" r="r" b="b"/>
              <a:pathLst>
                <a:path w="1680" h="912">
                  <a:moveTo>
                    <a:pt x="0" y="0"/>
                  </a:moveTo>
                  <a:cubicBezTo>
                    <a:pt x="48" y="110"/>
                    <a:pt x="8" y="508"/>
                    <a:pt x="288" y="660"/>
                  </a:cubicBezTo>
                  <a:cubicBezTo>
                    <a:pt x="568" y="812"/>
                    <a:pt x="1390" y="860"/>
                    <a:pt x="1680" y="912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50480" y="223524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814920" y="368316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4739040" y="2162160"/>
            <a:ext cx="4032000" cy="2058840"/>
            <a:chOff x="4739040" y="2162160"/>
            <a:chExt cx="4032000" cy="2058840"/>
          </a:xfrm>
        </p:grpSpPr>
        <p:sp>
          <p:nvSpPr>
            <p:cNvPr id="1243" name=""/>
            <p:cNvSpPr/>
            <p:nvPr/>
          </p:nvSpPr>
          <p:spPr>
            <a:xfrm>
              <a:off x="5416560" y="2162160"/>
              <a:ext cx="3354480" cy="2058840"/>
            </a:xfrm>
            <a:custGeom>
              <a:avLst/>
              <a:gdLst/>
              <a:ahLst/>
              <a:rect l="l" t="t" r="r" b="b"/>
              <a:pathLst>
                <a:path w="2112" h="1296">
                  <a:moveTo>
                    <a:pt x="0" y="0"/>
                  </a:moveTo>
                  <a:lnTo>
                    <a:pt x="0" y="1296"/>
                  </a:lnTo>
                  <a:lnTo>
                    <a:pt x="2112" y="1296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1480" y="2467080"/>
              <a:ext cx="2666880" cy="1447560"/>
            </a:xfrm>
            <a:custGeom>
              <a:avLst/>
              <a:gdLst/>
              <a:ahLst/>
              <a:rect l="l" t="t" r="r" b="b"/>
              <a:pathLst>
                <a:path w="1680" h="912">
                  <a:moveTo>
                    <a:pt x="0" y="0"/>
                  </a:moveTo>
                  <a:cubicBezTo>
                    <a:pt x="48" y="110"/>
                    <a:pt x="8" y="508"/>
                    <a:pt x="288" y="660"/>
                  </a:cubicBezTo>
                  <a:cubicBezTo>
                    <a:pt x="568" y="812"/>
                    <a:pt x="1390" y="860"/>
                    <a:pt x="1680" y="912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739040" y="230652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8386920" y="375444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Tahoma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971640" y="97956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Qué Riesgos Controlamos en el SIGC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516720" y="4724280"/>
            <a:ext cx="237636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fraestructura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020000" y="3357720"/>
            <a:ext cx="72072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0" name=""/>
          <p:cNvGrpSpPr/>
          <p:nvPr/>
        </p:nvGrpSpPr>
        <p:grpSpPr>
          <a:xfrm>
            <a:off x="5409720" y="2336400"/>
            <a:ext cx="3164040" cy="2336760"/>
            <a:chOff x="5409720" y="2336400"/>
            <a:chExt cx="3164040" cy="2336760"/>
          </a:xfrm>
        </p:grpSpPr>
        <p:sp>
          <p:nvSpPr>
            <p:cNvPr id="1251" name=""/>
            <p:cNvSpPr/>
            <p:nvPr/>
          </p:nvSpPr>
          <p:spPr>
            <a:xfrm rot="10800000">
              <a:off x="8219880" y="2336400"/>
              <a:ext cx="353880" cy="2336760"/>
            </a:xfrm>
            <a:custGeom>
              <a:avLst/>
              <a:gdLst/>
              <a:ahLst/>
              <a:rect l="l" t="t" r="r" b="b"/>
              <a:pathLst>
                <a:path w="223" h="1472">
                  <a:moveTo>
                    <a:pt x="0" y="1471"/>
                  </a:moveTo>
                  <a:lnTo>
                    <a:pt x="0" y="0"/>
                  </a:lnTo>
                  <a:lnTo>
                    <a:pt x="222" y="0"/>
                  </a:lnTo>
                  <a:lnTo>
                    <a:pt x="222" y="1471"/>
                  </a:lnTo>
                  <a:lnTo>
                    <a:pt x="0" y="1471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0800000">
              <a:off x="6492600" y="2336400"/>
              <a:ext cx="297000" cy="2336760"/>
            </a:xfrm>
            <a:custGeom>
              <a:avLst/>
              <a:gdLst/>
              <a:ahLst/>
              <a:rect l="l" t="t" r="r" b="b"/>
              <a:pathLst>
                <a:path w="187" h="1472">
                  <a:moveTo>
                    <a:pt x="186" y="0"/>
                  </a:moveTo>
                  <a:lnTo>
                    <a:pt x="186" y="1471"/>
                  </a:lnTo>
                  <a:lnTo>
                    <a:pt x="0" y="1471"/>
                  </a:lnTo>
                  <a:lnTo>
                    <a:pt x="0" y="0"/>
                  </a:lnTo>
                  <a:lnTo>
                    <a:pt x="186" y="0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0800000">
              <a:off x="5409720" y="2336040"/>
              <a:ext cx="2811600" cy="2336760"/>
            </a:xfrm>
            <a:custGeom>
              <a:avLst/>
              <a:gdLst/>
              <a:ahLst/>
              <a:rect l="l" t="t" r="r" b="b"/>
              <a:pathLst>
                <a:path w="1771" h="1472">
                  <a:moveTo>
                    <a:pt x="1087" y="1471"/>
                  </a:moveTo>
                  <a:lnTo>
                    <a:pt x="1770" y="742"/>
                  </a:lnTo>
                  <a:lnTo>
                    <a:pt x="1087" y="0"/>
                  </a:lnTo>
                  <a:lnTo>
                    <a:pt x="1087" y="354"/>
                  </a:lnTo>
                  <a:lnTo>
                    <a:pt x="0" y="0"/>
                  </a:lnTo>
                  <a:lnTo>
                    <a:pt x="0" y="1471"/>
                  </a:lnTo>
                  <a:lnTo>
                    <a:pt x="1087" y="1106"/>
                  </a:lnTo>
                  <a:lnTo>
                    <a:pt x="1087" y="1471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5257800" y="3098880"/>
            <a:ext cx="3365640" cy="81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Pasa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800280" y="2489040"/>
            <a:ext cx="3771720" cy="86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84360" y="2489040"/>
            <a:ext cx="4032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Tahoma"/>
              </a:rPr>
              <a:t>SEGURIDAD: ESFUERZO INDIV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120" y="3860640"/>
            <a:ext cx="3771720" cy="863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952560" y="3860640"/>
            <a:ext cx="3276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3e00"/>
                </a:solidFill>
                <a:latin typeface="Tahoma"/>
              </a:rPr>
              <a:t>PROCESO REA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971640" y="105264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OLUCIÓN DE LA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3708360" y="1712880"/>
            <a:ext cx="5040360" cy="1068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26920" y="5877000"/>
            <a:ext cx="7993080" cy="749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708360" y="2849400"/>
            <a:ext cx="5111640" cy="825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708360" y="3786120"/>
            <a:ext cx="5111640" cy="1155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748040" y="1857240"/>
            <a:ext cx="3276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b2b5c"/>
                </a:solidFill>
                <a:latin typeface="Tahoma"/>
              </a:rPr>
              <a:t>LA SEGURIDAD NO ES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851280" y="2878200"/>
            <a:ext cx="4859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b2b5c"/>
                </a:solidFill>
                <a:latin typeface="Tahoma"/>
              </a:rPr>
              <a:t>FOCALIZADA EN LA GESTIÓN DE FACTORES HUM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3708360" y="3830760"/>
            <a:ext cx="51116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b2b5c"/>
                </a:solidFill>
                <a:latin typeface="Tahoma"/>
              </a:rPr>
              <a:t>RELACIONADA CON ASPECTOS HUMANOS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116000" y="5789520"/>
            <a:ext cx="734364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b2b5c"/>
                </a:solidFill>
                <a:latin typeface="Tahoma"/>
              </a:rPr>
              <a:t>PROCESO PROACTIVO COMO PARTE DE LA ESTRATEGIA DE NEGO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781440" y="5013360"/>
            <a:ext cx="5111640" cy="7999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3365fb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781440" y="5019840"/>
            <a:ext cx="49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b2b5c"/>
                </a:solidFill>
                <a:latin typeface="Tahoma"/>
              </a:rPr>
              <a:t>RESULTADO DE LA GESTIÓN MEDIANTE PREV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250920" y="1628640"/>
            <a:ext cx="3163320" cy="2336760"/>
            <a:chOff x="250920" y="1628640"/>
            <a:chExt cx="3163320" cy="2336760"/>
          </a:xfrm>
        </p:grpSpPr>
        <p:sp>
          <p:nvSpPr>
            <p:cNvPr id="1271" name=""/>
            <p:cNvSpPr/>
            <p:nvPr/>
          </p:nvSpPr>
          <p:spPr>
            <a:xfrm>
              <a:off x="250920" y="1628640"/>
              <a:ext cx="353520" cy="2336760"/>
            </a:xfrm>
            <a:custGeom>
              <a:avLst/>
              <a:gdLst/>
              <a:ahLst/>
              <a:rect l="l" t="t" r="r" b="b"/>
              <a:pathLst>
                <a:path w="223" h="1472">
                  <a:moveTo>
                    <a:pt x="0" y="1471"/>
                  </a:moveTo>
                  <a:lnTo>
                    <a:pt x="0" y="0"/>
                  </a:lnTo>
                  <a:lnTo>
                    <a:pt x="222" y="0"/>
                  </a:lnTo>
                  <a:lnTo>
                    <a:pt x="222" y="1471"/>
                  </a:lnTo>
                  <a:lnTo>
                    <a:pt x="0" y="1471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034720" y="1628640"/>
              <a:ext cx="296640" cy="2336760"/>
            </a:xfrm>
            <a:custGeom>
              <a:avLst/>
              <a:gdLst/>
              <a:ahLst/>
              <a:rect l="l" t="t" r="r" b="b"/>
              <a:pathLst>
                <a:path w="187" h="1472">
                  <a:moveTo>
                    <a:pt x="186" y="0"/>
                  </a:moveTo>
                  <a:lnTo>
                    <a:pt x="186" y="1471"/>
                  </a:lnTo>
                  <a:lnTo>
                    <a:pt x="0" y="1471"/>
                  </a:lnTo>
                  <a:lnTo>
                    <a:pt x="0" y="0"/>
                  </a:lnTo>
                  <a:lnTo>
                    <a:pt x="186" y="0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03000" y="1628640"/>
              <a:ext cx="2811240" cy="2336760"/>
            </a:xfrm>
            <a:custGeom>
              <a:avLst/>
              <a:gdLst/>
              <a:ahLst/>
              <a:rect l="l" t="t" r="r" b="b"/>
              <a:pathLst>
                <a:path w="1771" h="1472">
                  <a:moveTo>
                    <a:pt x="1087" y="1471"/>
                  </a:moveTo>
                  <a:lnTo>
                    <a:pt x="1770" y="742"/>
                  </a:lnTo>
                  <a:lnTo>
                    <a:pt x="1087" y="0"/>
                  </a:lnTo>
                  <a:lnTo>
                    <a:pt x="1087" y="354"/>
                  </a:lnTo>
                  <a:lnTo>
                    <a:pt x="0" y="0"/>
                  </a:lnTo>
                  <a:lnTo>
                    <a:pt x="0" y="1471"/>
                  </a:lnTo>
                  <a:lnTo>
                    <a:pt x="1087" y="1106"/>
                  </a:lnTo>
                  <a:lnTo>
                    <a:pt x="1087" y="1471"/>
                  </a:lnTo>
                </a:path>
              </a:pathLst>
            </a:custGeom>
            <a:solidFill>
              <a:srgbClr val="d8d8d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179280" y="2400480"/>
            <a:ext cx="3365640" cy="81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Futur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395280" y="4076640"/>
            <a:ext cx="302436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CESNA se está orientando hacia este enfoque de la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152360" y="83664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OLUCIÓN DE LA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 rot="1538400">
            <a:off x="2714400" y="1744560"/>
            <a:ext cx="4319280" cy="26877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380880" y="1957320"/>
            <a:ext cx="2347920" cy="1282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2e8a"/>
                </a:solidFill>
                <a:latin typeface="Tahoma"/>
              </a:rPr>
              <a:t>Error Humano y Actos Inseg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607080" y="1839960"/>
            <a:ext cx="2286000" cy="1282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2e8a"/>
                </a:solidFill>
                <a:latin typeface="Tahoma"/>
              </a:rPr>
              <a:t>Entorno y Condiciones Inseg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3203640" y="22734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Accidentes, Inc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Eventos Inseg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367360" y="4311720"/>
            <a:ext cx="4504320" cy="703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Cons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e2e8a"/>
                </a:solidFill>
                <a:latin typeface="Tahoma"/>
              </a:rPr>
              <a:t>( Daños: Humanos, Economicos, 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3371400" y="5226120"/>
            <a:ext cx="2469600" cy="1557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2e8a"/>
                </a:solidFill>
                <a:latin typeface="Tahoma"/>
              </a:rPr>
              <a:t>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2e8a"/>
                </a:solidFill>
                <a:latin typeface="Tahoma"/>
              </a:rPr>
              <a:t>Person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2e8a"/>
                </a:solidFill>
                <a:latin typeface="Tahoma"/>
              </a:rPr>
              <a:t>Hardware,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2e8a"/>
                </a:solidFill>
                <a:latin typeface="Tahoma"/>
              </a:rPr>
              <a:t>Econom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2e8a"/>
                </a:solidFill>
                <a:latin typeface="Tahoma"/>
              </a:rPr>
              <a:t>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72000" y="500544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4572000" y="4091040"/>
            <a:ext cx="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rot="19918800">
            <a:off x="1476360" y="302400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190080 h 1066680"/>
              <a:gd name="textAreaBottom" fmla="*/ 75600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2" stAng="-5400000" swAng="-5400000"/>
                <a:lnTo>
                  <a:pt x="0" y="11456"/>
                </a:lnTo>
                <a:arcTo wR="21600" hR="7702" stAng="10800000" swAng="-2714512"/>
                <a:lnTo>
                  <a:pt x="14400" y="21160"/>
                </a:lnTo>
                <a:lnTo>
                  <a:pt x="21600" y="17280"/>
                </a:lnTo>
                <a:lnTo>
                  <a:pt x="14400" y="12520"/>
                </a:lnTo>
                <a:lnTo>
                  <a:pt x="14400" y="14963"/>
                </a:lnTo>
                <a:arcTo wR="21600" hR="7702" stAng="8085488" swAng="2407310"/>
                <a:lnTo>
                  <a:pt x="651" y="9579"/>
                </a:lnTo>
                <a:arcTo wR="21600" hR="7702" stAng="-10492798" swAng="5092798"/>
                <a:close/>
              </a:path>
              <a:path fill="darkenLess" w="21600" h="21600">
                <a:moveTo>
                  <a:pt x="21600" y="0"/>
                </a:moveTo>
                <a:arcTo wR="21600" hR="7702" stAng="-5400000" swAng="-5400000"/>
                <a:lnTo>
                  <a:pt x="0" y="7702"/>
                </a:lnTo>
                <a:arcTo wR="21600" hR="7702" stAng="10800000" swAng="-307202"/>
                <a:lnTo>
                  <a:pt x="651" y="9579"/>
                </a:lnTo>
                <a:arcTo wR="21600" hR="7702" stAng="-10492798" swAng="5092798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 flipH="1" rot="1995600">
            <a:off x="7713360" y="3244320"/>
            <a:ext cx="304920" cy="1067400"/>
          </a:xfrm>
          <a:custGeom>
            <a:avLst/>
            <a:gdLst>
              <a:gd name="textAreaLeft" fmla="*/ 40680 w 304920"/>
              <a:gd name="textAreaRight" fmla="*/ 264240 w 304920"/>
              <a:gd name="textAreaTop" fmla="*/ 190080 h 1067400"/>
              <a:gd name="textAreaBottom" fmla="*/ 756360 h 106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702" stAng="-5400000" swAng="-5400000"/>
                <a:lnTo>
                  <a:pt x="0" y="11456"/>
                </a:lnTo>
                <a:arcTo wR="21600" hR="7702" stAng="10800000" swAng="-2714512"/>
                <a:lnTo>
                  <a:pt x="14400" y="21160"/>
                </a:lnTo>
                <a:lnTo>
                  <a:pt x="21600" y="17280"/>
                </a:lnTo>
                <a:lnTo>
                  <a:pt x="14400" y="12520"/>
                </a:lnTo>
                <a:lnTo>
                  <a:pt x="14400" y="14963"/>
                </a:lnTo>
                <a:arcTo wR="21600" hR="7702" stAng="8085488" swAng="2407310"/>
                <a:lnTo>
                  <a:pt x="651" y="9579"/>
                </a:lnTo>
                <a:arcTo wR="21600" hR="7702" stAng="-10492798" swAng="5092798"/>
                <a:close/>
              </a:path>
              <a:path fill="darkenLess" w="21600" h="21600">
                <a:moveTo>
                  <a:pt x="21600" y="0"/>
                </a:moveTo>
                <a:arcTo wR="21600" hR="7702" stAng="-5400000" swAng="-5400000"/>
                <a:lnTo>
                  <a:pt x="0" y="7702"/>
                </a:lnTo>
                <a:arcTo wR="21600" hR="7702" stAng="10800000" swAng="-307202"/>
                <a:lnTo>
                  <a:pt x="651" y="9579"/>
                </a:lnTo>
                <a:arcTo wR="21600" hR="7702" stAng="-10492798" swAng="5092798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867400" y="1328760"/>
            <a:ext cx="351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2e2e8a"/>
                </a:solidFill>
                <a:latin typeface="Tahoma"/>
              </a:rPr>
              <a:t>Cadena de Ev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611280" y="620640"/>
            <a:ext cx="7812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CIDENTES, INCIDENTES, EVENTOS INSEGU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6600" y="2590920"/>
            <a:ext cx="2849760" cy="1774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AU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Falla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Falla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451320" y="2590920"/>
            <a:ext cx="205740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In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Even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Inseg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81840" y="2590920"/>
            <a:ext cx="2971800" cy="1752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F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ér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Materia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de Confianz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100" spc="-1" strike="noStrike">
                <a:solidFill>
                  <a:srgbClr val="000066"/>
                </a:solidFill>
                <a:latin typeface="Tahoma"/>
              </a:rPr>
              <a:t>de Confiablida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62440" y="32767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de6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5548320" y="327672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de6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971640" y="1123920"/>
            <a:ext cx="738036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GURIDAD: CAUSA – EF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9280" y="1341360"/>
            <a:ext cx="4753080" cy="4608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ntecedentes 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Ámbito de acción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COCES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003640" y="1341360"/>
          <a:ext cx="3818160" cy="46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341360"/>
                    <a:ext cx="3818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1763640" y="2819520"/>
            <a:ext cx="2503440" cy="1833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DAÑ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DEF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DERRO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5181480" y="2805120"/>
            <a:ext cx="2133720" cy="1905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PÉRDI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$$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495680" y="342900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de60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971640" y="1125360"/>
            <a:ext cx="7380360" cy="72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LLAS DE LA 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/>
          <p:nvPr/>
        </p:nvSpPr>
        <p:spPr>
          <a:xfrm>
            <a:off x="1692360" y="2509920"/>
            <a:ext cx="1888920" cy="161604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352680" y="1824120"/>
            <a:ext cx="2024280" cy="1530360"/>
          </a:xfrm>
          <a:prstGeom prst="ellipse">
            <a:avLst/>
          </a:pr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548160" y="2189160"/>
            <a:ext cx="163188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Medición y Contro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202360" y="2509920"/>
            <a:ext cx="2178000" cy="161604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5114880" y="2908440"/>
            <a:ext cx="2373480" cy="70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Capacitación y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267160" y="4186080"/>
            <a:ext cx="2257560" cy="161640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362400" y="5040360"/>
            <a:ext cx="2227320" cy="1701720"/>
          </a:xfrm>
          <a:prstGeom prst="ellipse">
            <a:avLst/>
          </a:prstGeom>
          <a:solidFill>
            <a:srgbClr val="00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849320" y="3119400"/>
            <a:ext cx="1600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Comic Sans MS"/>
              </a:rPr>
              <a:t>Interf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619280" y="4173480"/>
            <a:ext cx="1982880" cy="1616040"/>
          </a:xfrm>
          <a:prstGeom prst="ellipse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403280" y="4708440"/>
            <a:ext cx="228600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Cul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214960" y="4492800"/>
            <a:ext cx="2309760" cy="86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Estructura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Respons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492360" y="5500800"/>
            <a:ext cx="2046600" cy="100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Comic Sans MS"/>
              </a:rPr>
              <a:t>Procesos y Proced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419640" y="3413160"/>
            <a:ext cx="2016000" cy="151128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08080"/>
                </a:solidFill>
                <a:latin typeface="Tahoma"/>
              </a:rPr>
              <a:t>Políticas/</a:t>
            </a:r>
            <a:r>
              <a:rPr b="1" lang="es-ES_tradnl" sz="24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Tahoma"/>
              </a:rPr>
              <a:t>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95280" y="981000"/>
            <a:ext cx="85694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EMENTOS DEL SISTEMA DE GESTIÓN DE 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#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8A69-0FD0-4701-9FD5-64AE766D97C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529272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Mapa de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4" name=""/>
          <p:cNvGrpSpPr/>
          <p:nvPr/>
        </p:nvGrpSpPr>
        <p:grpSpPr>
          <a:xfrm>
            <a:off x="373680" y="1917720"/>
            <a:ext cx="4952880" cy="3887640"/>
            <a:chOff x="373680" y="1917720"/>
            <a:chExt cx="4952880" cy="3887640"/>
          </a:xfrm>
        </p:grpSpPr>
        <p:sp>
          <p:nvSpPr>
            <p:cNvPr id="1315" name=""/>
            <p:cNvSpPr/>
            <p:nvPr/>
          </p:nvSpPr>
          <p:spPr>
            <a:xfrm>
              <a:off x="630360" y="1917720"/>
              <a:ext cx="4392360" cy="151128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OS OPERA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076640"/>
              <a:ext cx="4392360" cy="1728720"/>
            </a:xfrm>
            <a:prstGeom prst="rect">
              <a:avLst/>
            </a:prstGeom>
            <a:solidFill>
              <a:srgbClr val="ffcc6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OS DE APOY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Y 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7" name=""/>
            <p:cNvCxnSpPr>
              <a:stCxn id="1315" idx="1"/>
              <a:endCxn id="1316" idx="1"/>
            </p:cNvCxnSpPr>
            <p:nvPr/>
          </p:nvCxnSpPr>
          <p:spPr>
            <a:xfrm flipH="1" flipV="1" rot="10800000">
              <a:off x="610920" y="2672280"/>
              <a:ext cx="2160" cy="226908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8" name=""/>
            <p:cNvCxnSpPr>
              <a:stCxn id="1316" idx="3"/>
              <a:endCxn id="1315" idx="3"/>
            </p:cNvCxnSpPr>
            <p:nvPr/>
          </p:nvCxnSpPr>
          <p:spPr>
            <a:xfrm flipV="1">
              <a:off x="5041440" y="2672640"/>
              <a:ext cx="2520" cy="2269080"/>
            </a:xfrm>
            <a:prstGeom prst="bentConnector3">
              <a:avLst>
                <a:gd name="adj1" fmla="val 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19" name=""/>
          <p:cNvSpPr/>
          <p:nvPr/>
        </p:nvSpPr>
        <p:spPr>
          <a:xfrm>
            <a:off x="5508720" y="1341360"/>
            <a:ext cx="3311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Mapas de Proceso muestran la interrelación entre los procesos del sistema de gest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clasifican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pa de Procesos Operativ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- procesos que agregan valor a la gestión para cumplir con los requerimientos del cl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apa de Procesos de Apoy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- procesos que facilitan, apoyan y controlan los procesos opera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26920" y="5300640"/>
            <a:ext cx="1944720" cy="368280"/>
          </a:xfrm>
          <a:prstGeom prst="rect">
            <a:avLst/>
          </a:prstGeom>
          <a:noFill/>
          <a:ln cap="rnd" w="572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2e2e8a"/>
                </a:solidFill>
                <a:latin typeface="Tahoma"/>
              </a:rPr>
              <a:t>Procesos 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1" name=""/>
          <p:cNvGraphicFramePr/>
          <p:nvPr/>
        </p:nvGraphicFramePr>
        <p:xfrm>
          <a:off x="-36360" y="907920"/>
          <a:ext cx="9180360" cy="602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907920"/>
                    <a:ext cx="9180360" cy="602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MAPA DE PROCESOS OPERATIVOS DE COCES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(NIVEL 1 - COCES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MAPA DE PROCESOS OPERATIVOS DE COCES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(NIVEL 2 - AC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5" name=""/>
          <p:cNvGraphicFramePr/>
          <p:nvPr/>
        </p:nvGraphicFramePr>
        <p:xfrm>
          <a:off x="-36360" y="981000"/>
          <a:ext cx="9180360" cy="58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981000"/>
                    <a:ext cx="9180360" cy="58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7" name=""/>
          <p:cNvGraphicFramePr/>
          <p:nvPr/>
        </p:nvGraphicFramePr>
        <p:xfrm>
          <a:off x="750960" y="987480"/>
          <a:ext cx="7708680" cy="546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0960" y="987480"/>
                    <a:ext cx="770868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9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MAPA DE PROCESOS OPERATIVOS DE COCES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(NIVEL 3 – A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"/>
          <p:cNvSpPr/>
          <p:nvPr/>
        </p:nvSpPr>
        <p:spPr>
          <a:xfrm>
            <a:off x="71280" y="1052640"/>
            <a:ext cx="889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CESNA DOCUMENTA PROCESOS (C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50920" y="1773360"/>
            <a:ext cx="784836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) Nombre del Proceso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) Objetivo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3) Dueño del Proce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50920" y="3141720"/>
            <a:ext cx="7848360" cy="2288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4) Producto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) Cliente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6) Actividade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) Insumo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8) Proveedore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9) Recur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50920" y="5589720"/>
            <a:ext cx="7848360" cy="11912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) Registros:                            13) Criterios de Éxito: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1) Documentos:                       14) Indicador de Gestión: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2) Contr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8317080" y="1916280"/>
            <a:ext cx="215640" cy="4608360"/>
          </a:xfrm>
          <a:custGeom>
            <a:avLst/>
            <a:gdLst>
              <a:gd name="textAreaLeft" fmla="*/ 0 w 215640"/>
              <a:gd name="textAreaRight" fmla="*/ 77760 w 21564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8604360" y="2924280"/>
            <a:ext cx="431640" cy="265428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71280" y="1052640"/>
            <a:ext cx="8893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CESNA DOCUMENTA PROCESOS (SEGUR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50920" y="1773360"/>
            <a:ext cx="784836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) Nombre del Proceso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2) Objetivo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3) Dueño del Proce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50920" y="3141720"/>
            <a:ext cx="7848360" cy="2288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4) Factor: </a:t>
            </a:r>
            <a:r>
              <a:rPr b="0" lang="es-MX" sz="2400" spc="-1" strike="noStrike">
                <a:solidFill>
                  <a:srgbClr val="cc3300"/>
                </a:solidFill>
                <a:latin typeface="Times New Roman"/>
              </a:rPr>
              <a:t>a) Infraestructura,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996633"/>
                </a:solidFill>
                <a:latin typeface="Times New Roman"/>
              </a:rPr>
              <a:t>b) Personas,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c) Información</a:t>
            </a:r>
            <a:br>
              <a:rPr sz="2400"/>
            </a:br>
            <a:r>
              <a:rPr b="0" lang="es-MX" sz="2400" spc="-1" strike="noStrike">
                <a:solidFill>
                  <a:srgbClr val="3333cc"/>
                </a:solidFill>
                <a:latin typeface="Times New Roman"/>
              </a:rPr>
              <a:t>                </a:t>
            </a:r>
            <a:r>
              <a:rPr b="0" lang="es-MX" sz="2400" spc="-1" strike="noStrike">
                <a:solidFill>
                  <a:srgbClr val="660033"/>
                </a:solidFill>
                <a:latin typeface="Times New Roman"/>
              </a:rPr>
              <a:t>d) Medio Ambiente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5) Amenaza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6) Riesgos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7) Impacto: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8) Probabilidad de Ocurrencia:           9) Accion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50920" y="5589720"/>
            <a:ext cx="7848360" cy="11912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0) Registros:                            13) Criterios de Éxito: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1) Documentos:                       14) Indicador de Gestión: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12) Contr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8317080" y="1916280"/>
            <a:ext cx="215640" cy="4608360"/>
          </a:xfrm>
          <a:custGeom>
            <a:avLst/>
            <a:gdLst>
              <a:gd name="textAreaLeft" fmla="*/ 0 w 215640"/>
              <a:gd name="textAreaRight" fmla="*/ 77760 w 215640"/>
              <a:gd name="textAreaTop" fmla="*/ 119880 h 4608360"/>
              <a:gd name="textAreaBottom" fmla="*/ 4488480 h 46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8604360" y="2565360"/>
            <a:ext cx="431640" cy="33858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/>
          <p:nvPr/>
        </p:nvSpPr>
        <p:spPr>
          <a:xfrm>
            <a:off x="755640" y="984240"/>
            <a:ext cx="77058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¿CÓMO MEDIR EL DESEMPEÑO / RESULT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050920" y="1773360"/>
            <a:ext cx="5256360" cy="165564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50000">
                <a:srgbClr val="ffff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uadr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Mando Integral </a:t>
            </a:r>
            <a:br>
              <a:rPr sz="2400"/>
            </a:b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(BALANCE SCORE CA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79280" y="3716280"/>
            <a:ext cx="4248360" cy="2952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Tahoma"/>
              </a:rPr>
              <a:t>Plan Maestro Estratégico </a:t>
            </a:r>
            <a:br>
              <a:rPr sz="1800"/>
            </a:br>
            <a:r>
              <a:rPr b="1" lang="es-MX" sz="1800" spc="-1" strike="noStrike" u="sng">
                <a:solidFill>
                  <a:srgbClr val="000000"/>
                </a:solidFill>
                <a:uFillTx/>
                <a:latin typeface="Tahoma"/>
              </a:rPr>
              <a:t>(2005 – 20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erspectiv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inanci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Proceso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Formación y Crec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645080" y="3932280"/>
            <a:ext cx="4248000" cy="936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Tahoma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643280" y="5156280"/>
            <a:ext cx="4248360" cy="122544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Tahoma"/>
              </a:rPr>
              <a:t>Segur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(Infraestructura, Persona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formación y Medio Ambient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H="1">
            <a:off x="2050920" y="3141720"/>
            <a:ext cx="648000" cy="5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27640" y="3284640"/>
            <a:ext cx="505080" cy="57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40360" y="3429000"/>
            <a:ext cx="647640" cy="194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539640" y="1700280"/>
            <a:ext cx="8064720" cy="4822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492360" y="2995560"/>
            <a:ext cx="215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443480" y="1987560"/>
            <a:ext cx="2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010040" y="2252520"/>
            <a:ext cx="108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IG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348000" y="3068640"/>
            <a:ext cx="24480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ual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guridad y Me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218040" y="3924360"/>
            <a:ext cx="2665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ual de Proces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43280" y="3787920"/>
            <a:ext cx="34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075120" y="4743360"/>
            <a:ext cx="2665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nuales Especí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146400" y="5348160"/>
            <a:ext cx="2665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gistros (Int. o Ext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619280" y="522756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187280" y="5803920"/>
            <a:ext cx="684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116000" y="5981760"/>
            <a:ext cx="26654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Otros Documentos In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291280" y="5981760"/>
            <a:ext cx="2665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ocument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572000" y="58039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52800" y="457992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843280" y="3787920"/>
            <a:ext cx="3457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619280" y="522756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144440" y="5803920"/>
            <a:ext cx="684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572000" y="580392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152800" y="457992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419640" y="3067200"/>
            <a:ext cx="230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771640" y="3859200"/>
            <a:ext cx="360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547640" y="5299200"/>
            <a:ext cx="604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087560" y="5875200"/>
            <a:ext cx="69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0" y="587520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2124000" y="4651200"/>
            <a:ext cx="489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>
            <a:hlinkClick r:id="rId1" action="ppaction://hlinksldjump"/>
          </p:cNvPr>
          <p:cNvSpPr/>
          <p:nvPr/>
        </p:nvSpPr>
        <p:spPr>
          <a:xfrm>
            <a:off x="5003640" y="2635200"/>
            <a:ext cx="289080" cy="287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>
            <a:hlinkClick r:id="rId2" action="ppaction://hlinksldjump"/>
          </p:cNvPr>
          <p:cNvSpPr/>
          <p:nvPr/>
        </p:nvSpPr>
        <p:spPr>
          <a:xfrm>
            <a:off x="5508720" y="3211560"/>
            <a:ext cx="431640" cy="503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>
            <a:hlinkClick r:id="rId3" action="ppaction://hlinksldjump"/>
          </p:cNvPr>
          <p:cNvSpPr/>
          <p:nvPr/>
        </p:nvSpPr>
        <p:spPr>
          <a:xfrm>
            <a:off x="5867280" y="3932280"/>
            <a:ext cx="505080" cy="5745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>
            <a:hlinkClick r:id="rId4" action="ppaction://hlinksldjump"/>
          </p:cNvPr>
          <p:cNvSpPr/>
          <p:nvPr/>
        </p:nvSpPr>
        <p:spPr>
          <a:xfrm>
            <a:off x="5724360" y="4722840"/>
            <a:ext cx="1152720" cy="4334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>
            <a:hlinkClick r:id="rId5" action="ppaction://hlinksldjump"/>
          </p:cNvPr>
          <p:cNvSpPr/>
          <p:nvPr/>
        </p:nvSpPr>
        <p:spPr>
          <a:xfrm>
            <a:off x="3635280" y="5948280"/>
            <a:ext cx="793800" cy="503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>
            <a:hlinkClick r:id="rId6" action="ppaction://hlinksldjump"/>
          </p:cNvPr>
          <p:cNvSpPr/>
          <p:nvPr/>
        </p:nvSpPr>
        <p:spPr>
          <a:xfrm>
            <a:off x="4716360" y="6019920"/>
            <a:ext cx="289080" cy="287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>
            <a:hlinkClick r:id="rId7" action="ppaction://hlinksldjump"/>
          </p:cNvPr>
          <p:cNvSpPr/>
          <p:nvPr/>
        </p:nvSpPr>
        <p:spPr>
          <a:xfrm>
            <a:off x="4643280" y="5948280"/>
            <a:ext cx="793800" cy="503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 rot="2304000">
            <a:off x="1488600" y="558720"/>
            <a:ext cx="1150920" cy="6140520"/>
          </a:xfrm>
          <a:custGeom>
            <a:avLst/>
            <a:gdLst>
              <a:gd name="textAreaLeft" fmla="*/ 735480 w 1150920"/>
              <a:gd name="textAreaRight" fmla="*/ 1151280 w 1150920"/>
              <a:gd name="textAreaTop" fmla="*/ 159840 h 6140520"/>
              <a:gd name="textAreaBottom" fmla="*/ 5980680 h 614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9"/>
                </a:lnTo>
                <a:cubicBezTo>
                  <a:pt x="10800" y="9839"/>
                  <a:pt x="5400" y="10739"/>
                  <a:pt x="0" y="10739"/>
                </a:cubicBezTo>
                <a:cubicBezTo>
                  <a:pt x="5400" y="10739"/>
                  <a:pt x="10800" y="11639"/>
                  <a:pt x="10800" y="1253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08000" y="227664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ocumentos Internos de COCES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459480" y="299736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Documentos Externos de COCES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6" name=""/>
          <p:cNvCxnSpPr>
            <a:endCxn id="1387" idx="3"/>
          </p:cNvCxnSpPr>
          <p:nvPr/>
        </p:nvCxnSpPr>
        <p:spPr>
          <a:xfrm flipH="1" rot="16200000">
            <a:off x="6947640" y="4605120"/>
            <a:ext cx="2372400" cy="397800"/>
          </a:xfrm>
          <a:prstGeom prst="curvedConnector5">
            <a:avLst>
              <a:gd name="adj1" fmla="val 46107"/>
              <a:gd name="adj2" fmla="val 78713"/>
              <a:gd name="adj3" fmla="val 4610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7" name=""/>
          <p:cNvSpPr/>
          <p:nvPr/>
        </p:nvSpPr>
        <p:spPr>
          <a:xfrm>
            <a:off x="8148600" y="580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8101080" y="6093000"/>
            <a:ext cx="71280" cy="71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357800" y="1062000"/>
            <a:ext cx="475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structura Documentación COCE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979560"/>
            <a:ext cx="7848720" cy="649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GÉNESIS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1844640"/>
            <a:ext cx="7848360" cy="3889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CESNA, es creada por los Estados Centroamericanos, para dar cumplimiento a sus compromisos y obligaciones, contraídos como signatarios del Convenio sobre Aviación Civil Internacional (Chicago, 194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"/>
          <p:cNvSpPr/>
          <p:nvPr/>
        </p:nvSpPr>
        <p:spPr>
          <a:xfrm>
            <a:off x="179280" y="1341360"/>
            <a:ext cx="4753080" cy="4608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VANCES EN 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 u="sng">
                <a:solidFill>
                  <a:srgbClr val="ffffff"/>
                </a:solidFill>
                <a:uFillTx/>
                <a:latin typeface="Arial"/>
              </a:rPr>
              <a:t>DES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RROLLO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200" spc="-1" strike="noStrike" u="sng">
                <a:solidFill>
                  <a:srgbClr val="ffffff"/>
                </a:solidFill>
                <a:uFillTx/>
                <a:latin typeface="Arial"/>
              </a:rPr>
              <a:t>IMPL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ME</a:t>
            </a:r>
            <a:r>
              <a:rPr b="1" lang="es-HN" sz="3200" spc="-1" strike="noStrike" u="sng">
                <a:solidFill>
                  <a:srgbClr val="ffffff"/>
                </a:solidFill>
                <a:uFillTx/>
                <a:latin typeface="Arial"/>
              </a:rPr>
              <a:t>NTACI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STEMA INTEGR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GEST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E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SI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1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1446120" y="5943600"/>
            <a:ext cx="243864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NÁLISIS Y ADEC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2589120" y="5059440"/>
            <a:ext cx="2438640" cy="642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LANIFICACIÓN Y DEFINI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046320" y="4175280"/>
            <a:ext cx="243864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DOCUMENTACIÓN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037040" y="3213000"/>
            <a:ext cx="24382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MPLEMENTACIÓN  PROCEDI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332320" y="2409840"/>
            <a:ext cx="243864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UDITORÍA DE GEST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94440" y="1811160"/>
            <a:ext cx="243828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ERT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rot="16213800">
            <a:off x="-1566000" y="3877200"/>
            <a:ext cx="4726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COMUNICACIÓN Y CAPACI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9" name=""/>
          <p:cNvCxnSpPr>
            <a:stCxn id="1394" idx="3"/>
            <a:endCxn id="1395" idx="3"/>
          </p:cNvCxnSpPr>
          <p:nvPr/>
        </p:nvCxnSpPr>
        <p:spPr>
          <a:xfrm flipV="1">
            <a:off x="5484600" y="3537720"/>
            <a:ext cx="991080" cy="963000"/>
          </a:xfrm>
          <a:prstGeom prst="bentConnector3">
            <a:avLst>
              <a:gd name="adj1" fmla="val 123074"/>
            </a:avLst>
          </a:prstGeom>
          <a:ln w="255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1400" name=""/>
          <p:cNvCxnSpPr>
            <a:stCxn id="1395" idx="1"/>
            <a:endCxn id="1396" idx="1"/>
          </p:cNvCxnSpPr>
          <p:nvPr/>
        </p:nvCxnSpPr>
        <p:spPr>
          <a:xfrm flipH="1" rot="10800000">
            <a:off x="4036680" y="2734560"/>
            <a:ext cx="1296000" cy="803880"/>
          </a:xfrm>
          <a:prstGeom prst="bentConnector3">
            <a:avLst>
              <a:gd name="adj1" fmla="val -17643"/>
            </a:avLst>
          </a:prstGeom>
          <a:ln w="255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1401" name=""/>
          <p:cNvCxnSpPr>
            <a:stCxn id="1396" idx="3"/>
            <a:endCxn id="1397" idx="3"/>
          </p:cNvCxnSpPr>
          <p:nvPr/>
        </p:nvCxnSpPr>
        <p:spPr>
          <a:xfrm flipV="1">
            <a:off x="7770960" y="1999800"/>
            <a:ext cx="762480" cy="735840"/>
          </a:xfrm>
          <a:prstGeom prst="bentConnector3">
            <a:avLst>
              <a:gd name="adj1" fmla="val 129995"/>
            </a:avLst>
          </a:prstGeom>
          <a:ln w="255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1402" name=""/>
          <p:cNvCxnSpPr>
            <a:stCxn id="1392" idx="3"/>
            <a:endCxn id="1393" idx="3"/>
          </p:cNvCxnSpPr>
          <p:nvPr/>
        </p:nvCxnSpPr>
        <p:spPr>
          <a:xfrm flipV="1">
            <a:off x="3884400" y="5368680"/>
            <a:ext cx="1143720" cy="886320"/>
          </a:xfrm>
          <a:prstGeom prst="bentConnector3">
            <a:avLst>
              <a:gd name="adj1" fmla="val 119993"/>
            </a:avLst>
          </a:prstGeom>
          <a:ln w="9360">
            <a:solidFill>
              <a:srgbClr val="00cc99"/>
            </a:solidFill>
            <a:miter/>
            <a:tailEnd len="med" type="triangle" w="med"/>
          </a:ln>
        </p:spPr>
      </p:cxnSp>
      <p:cxnSp>
        <p:nvCxnSpPr>
          <p:cNvPr id="1403" name=""/>
          <p:cNvCxnSpPr>
            <a:stCxn id="1393" idx="1"/>
            <a:endCxn id="1394" idx="1"/>
          </p:cNvCxnSpPr>
          <p:nvPr/>
        </p:nvCxnSpPr>
        <p:spPr>
          <a:xfrm flipH="1" rot="10800000">
            <a:off x="2588760" y="4494960"/>
            <a:ext cx="457920" cy="885240"/>
          </a:xfrm>
          <a:prstGeom prst="bentConnector3">
            <a:avLst>
              <a:gd name="adj1" fmla="val -49960"/>
            </a:avLst>
          </a:prstGeom>
          <a:ln w="936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1404" name=""/>
          <p:cNvSpPr/>
          <p:nvPr/>
        </p:nvSpPr>
        <p:spPr>
          <a:xfrm>
            <a:off x="977760" y="2558880"/>
            <a:ext cx="4357800" cy="223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992160" y="3706920"/>
            <a:ext cx="304812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992160" y="4324320"/>
            <a:ext cx="20574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992160" y="5543640"/>
            <a:ext cx="160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992160" y="6229440"/>
            <a:ext cx="457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900000" y="907920"/>
            <a:ext cx="77058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PROGRAMA DE ETAPAS DE EJEC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6732720" y="6237360"/>
            <a:ext cx="358560" cy="216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732720" y="5661000"/>
            <a:ext cx="358560" cy="21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732720" y="5084640"/>
            <a:ext cx="35856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091280" y="5011560"/>
            <a:ext cx="15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tapas por realiz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091280" y="5564160"/>
            <a:ext cx="20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tapas en realiz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091280" y="62499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tapas realiz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6" name=""/>
          <p:cNvGrpSpPr/>
          <p:nvPr/>
        </p:nvGrpSpPr>
        <p:grpSpPr>
          <a:xfrm>
            <a:off x="537840" y="1557360"/>
            <a:ext cx="8007480" cy="4931640"/>
            <a:chOff x="537840" y="1557360"/>
            <a:chExt cx="8007480" cy="4931640"/>
          </a:xfrm>
        </p:grpSpPr>
        <p:sp>
          <p:nvSpPr>
            <p:cNvPr id="1417" name=""/>
            <p:cNvSpPr/>
            <p:nvPr/>
          </p:nvSpPr>
          <p:spPr>
            <a:xfrm>
              <a:off x="539640" y="2100240"/>
              <a:ext cx="7943760" cy="436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58360" y="2690640"/>
              <a:ext cx="792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58360" y="3681360"/>
              <a:ext cx="79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58360" y="4214880"/>
              <a:ext cx="79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58360" y="4824360"/>
              <a:ext cx="79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39640" y="5948280"/>
              <a:ext cx="79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36860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63960" y="2119320"/>
              <a:ext cx="0" cy="434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41440" y="2701800"/>
              <a:ext cx="159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Diagnóstico 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Marco Normativ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37840" y="4254480"/>
              <a:ext cx="168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Documentación d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39640" y="3186000"/>
              <a:ext cx="794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41080" y="3178080"/>
              <a:ext cx="143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Definiciones d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Sistema y Pla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49360" y="5968800"/>
              <a:ext cx="171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Preparación para 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Certificació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51160" y="5445000"/>
              <a:ext cx="1192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Auditoría  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Gest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9360" y="4873680"/>
              <a:ext cx="1521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Implantación de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Siste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40720" y="365436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Comunicación 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58360" y="5396040"/>
              <a:ext cx="79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87324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33972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0656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29212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358960" y="210024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89248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42600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5916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51176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988040" y="2119320"/>
              <a:ext cx="0" cy="43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0120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ff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96316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ff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46788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ff00"/>
                  </a:solidFill>
                  <a:latin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01076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ff00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48704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ff00"/>
                  </a:solidFill>
                  <a:latin typeface="Times New Roman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96332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515920" y="2292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03000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6525360" y="22827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067880" y="22827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563240" y="22827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8058240" y="228276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c3cb4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310840" y="2824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812320" y="28368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345840" y="33037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345840" y="38178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88720" y="38275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374720" y="38275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318840" y="438948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845880" y="438948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350600" y="440856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814280" y="440856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338080" y="440856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871600" y="439884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830120" y="497988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334840" y="49705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917680" y="49705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441480" y="49705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26840" y="498456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998840" y="6064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470360" y="6064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955920" y="55609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441480" y="55609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860440" y="556092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292120" y="1604880"/>
              <a:ext cx="6191280" cy="49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534560" y="1557360"/>
              <a:ext cx="110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c3cb4"/>
                  </a:solidFill>
                  <a:latin typeface="Times New Roman"/>
                </a:rPr>
                <a:t>Me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801000" y="2109600"/>
              <a:ext cx="122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3c3cb4"/>
                  </a:solidFill>
                  <a:latin typeface="Times New Roman"/>
                </a:rPr>
                <a:t>Etap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837880" y="329868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843000" y="3298680"/>
              <a:ext cx="1843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83012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333cc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822120" y="498456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ff00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495560" y="555948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28588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86188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6696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95132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87024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446240" y="3832200"/>
              <a:ext cx="546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3c3cb4"/>
                  </a:solidFill>
                  <a:latin typeface="Times New Roman"/>
                </a:rPr>
                <a:t>XXX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755640" y="984240"/>
            <a:ext cx="770580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RONOGRAMA DE IMPLEMENTACIÓN DEL SIG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79280" y="1341360"/>
            <a:ext cx="4753080" cy="46087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STEMA INTEGRA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 GEST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CES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SI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4032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95280" y="1946160"/>
            <a:ext cx="8353440" cy="3794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SIGC es una respuesta efectiva e integral de parte de COCESNA para cumplir los requisitos de la industri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SIGC se constituye en un modelo que puede ser replicable a otras partes interesadas de la industria de la avi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l SIGC contempla una gestión integral de la CALIDAD (ISO 9001), SEGURIDAD (OHSAS 18001/DOC.9859), FACTORES HUMANOS (DOC. 9683) y MEDIO AMBIENTE (ISO 14001) a nivel corporativo de COCESNA en las áreas de Navegación Aérea (ACNA), Seguridad (ACSA) y Capacitación Aeronáutica (ICCAE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55640" y="1052640"/>
            <a:ext cx="770580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"/>
          <p:cNvSpPr/>
          <p:nvPr/>
        </p:nvSpPr>
        <p:spPr>
          <a:xfrm>
            <a:off x="380880" y="1844640"/>
            <a:ext cx="8305920" cy="424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. El SIGC constituye en un sistema que permite a COCESNA el cumplir programas de auditorias de OACI, FAA y entes certific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. COCESNA no puede crecer y desarrollarse únicamente a nivel tecnológico, sino que paralelamente debe evolucionar y contar con un modelo de gestión moderno orientado a resultados concretos de CALIDAD, SEGURIDAD y EFICIENCIA, donde el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ERSON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sea el principal activo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479840" y="6060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84360" y="1052640"/>
            <a:ext cx="77054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66"/>
              </a:gs>
              <a:gs pos="50000">
                <a:srgbClr val="3333cc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/>
          </p:nvPr>
        </p:nvSpPr>
        <p:spPr>
          <a:xfrm>
            <a:off x="609480" y="1268280"/>
            <a:ext cx="7848720" cy="4903920"/>
          </a:xfrm>
          <a:prstGeom prst="rect">
            <a:avLst/>
          </a:prstGeom>
          <a:solidFill>
            <a:srgbClr val="cf0e30"/>
          </a:solidFill>
          <a:ln w="7632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No se puede hacer el trabajo de </a:t>
            </a:r>
            <a:r>
              <a:rPr b="0" lang="es-ES" sz="5400" spc="-1" strike="noStrike" u="sng">
                <a:solidFill>
                  <a:srgbClr val="ffffff"/>
                </a:solidFill>
                <a:uFillTx/>
                <a:latin typeface="Arial"/>
              </a:rPr>
              <a:t>hoy</a:t>
            </a: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, con métodos de </a:t>
            </a:r>
            <a:r>
              <a:rPr b="0" lang="es-ES" sz="5400" spc="-1" strike="noStrike" u="sng">
                <a:solidFill>
                  <a:srgbClr val="ffffff"/>
                </a:solidFill>
                <a:uFillTx/>
                <a:latin typeface="Arial"/>
              </a:rPr>
              <a:t>ayer</a:t>
            </a: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, y esperar permanecer en el negocio </a:t>
            </a:r>
            <a:r>
              <a:rPr b="0" lang="es-ES" sz="5400" spc="-1" strike="noStrike" u="sng">
                <a:solidFill>
                  <a:srgbClr val="ffffff"/>
                </a:solidFill>
                <a:uFillTx/>
                <a:latin typeface="Arial"/>
              </a:rPr>
              <a:t>mañana</a:t>
            </a:r>
            <a:r>
              <a:rPr b="0" lang="es-ES" sz="5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0"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75" fill="hold"/>
                                        <p:tgtEl>
                                          <p:spTgt spid="1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3527280" cy="3025800"/>
          </a:xfrm>
          <a:prstGeom prst="rect">
            <a:avLst/>
          </a:prstGeom>
          <a:ln w="0">
            <a:noFill/>
          </a:ln>
        </p:spPr>
      </p:pic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7761240" cy="11638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400" spc="-1" strike="noStrike">
                <a:solidFill>
                  <a:srgbClr val="ffffff"/>
                </a:solidFill>
                <a:latin typeface="Arial"/>
              </a:rPr>
              <a:t>CORPORACIÓN CENTROAMERICANA DE SERVICIOS DE NAVEGACIÓN AÉREA (COCES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684000" y="2289240"/>
            <a:ext cx="7761240" cy="42696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Organismo Internacional de Integración Centroamerican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682560" y="5697360"/>
            <a:ext cx="7761240" cy="684360"/>
          </a:xfrm>
          <a:prstGeom prst="rect">
            <a:avLst/>
          </a:prstGeom>
          <a:solidFill>
            <a:srgbClr val="00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ffff"/>
                </a:solidFill>
                <a:latin typeface="Arial"/>
              </a:rPr>
              <a:t>ICAO/ASPA Regional Seminar on Safety Management System (S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ffffff"/>
                </a:solidFill>
                <a:latin typeface="Arial"/>
              </a:rPr>
              <a:t>México, D.F. 14 al 16 de Marzo de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84360" y="2708280"/>
            <a:ext cx="4248000" cy="30157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mplementación del Sistema Integrado de Gestión de COCESNA (SIGC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Calidad, Seguridad, Factores Humanos y Medio Ambient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Expositor: Lic. Karim Álvar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4191120" y="1523880"/>
          <a:ext cx="462096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46209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3" name=""/>
          <p:cNvGrpSpPr/>
          <p:nvPr/>
        </p:nvGrpSpPr>
        <p:grpSpPr>
          <a:xfrm>
            <a:off x="395280" y="1628640"/>
            <a:ext cx="4208400" cy="3743640"/>
            <a:chOff x="395280" y="1628640"/>
            <a:chExt cx="4208400" cy="3743640"/>
          </a:xfrm>
        </p:grpSpPr>
        <p:graphicFrame>
          <p:nvGraphicFramePr>
            <p:cNvPr id="114" name=""/>
            <p:cNvGraphicFramePr/>
            <p:nvPr/>
          </p:nvGraphicFramePr>
          <p:xfrm>
            <a:off x="395280" y="1628640"/>
            <a:ext cx="4208400" cy="374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5280" y="1628640"/>
                      <a:ext cx="4208400" cy="374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6" name=""/>
            <p:cNvSpPr/>
            <p:nvPr/>
          </p:nvSpPr>
          <p:spPr>
            <a:xfrm>
              <a:off x="395280" y="1628640"/>
              <a:ext cx="4208400" cy="3743640"/>
            </a:xfrm>
            <a:prstGeom prst="roundRect">
              <a:avLst>
                <a:gd name="adj" fmla="val 42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622760" y="2674800"/>
            <a:ext cx="2127240" cy="497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02240" y="1636560"/>
            <a:ext cx="2502000" cy="3733560"/>
            <a:chOff x="4602240" y="1636560"/>
            <a:chExt cx="2502000" cy="3733560"/>
          </a:xfrm>
        </p:grpSpPr>
        <p:sp>
          <p:nvSpPr>
            <p:cNvPr id="119" name=""/>
            <p:cNvSpPr/>
            <p:nvPr/>
          </p:nvSpPr>
          <p:spPr>
            <a:xfrm>
              <a:off x="6748560" y="3171960"/>
              <a:ext cx="355320" cy="313920"/>
            </a:xfrm>
            <a:prstGeom prst="roundRect">
              <a:avLst>
                <a:gd name="adj" fmla="val 505"/>
              </a:avLst>
            </a:prstGeom>
            <a:noFill/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02240" y="1636560"/>
              <a:ext cx="2502000" cy="15339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602240" y="3484440"/>
              <a:ext cx="2502000" cy="1885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602240" y="3484080"/>
              <a:ext cx="2146320" cy="6562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395280" y="5510160"/>
            <a:ext cx="8353440" cy="687960"/>
            <a:chOff x="395280" y="5510160"/>
            <a:chExt cx="8353440" cy="687960"/>
          </a:xfrm>
        </p:grpSpPr>
        <p:sp>
          <p:nvSpPr>
            <p:cNvPr id="124" name=""/>
            <p:cNvSpPr/>
            <p:nvPr/>
          </p:nvSpPr>
          <p:spPr>
            <a:xfrm>
              <a:off x="395280" y="5541840"/>
              <a:ext cx="8353440" cy="623880"/>
            </a:xfrm>
            <a:prstGeom prst="roundRect">
              <a:avLst>
                <a:gd name="adj" fmla="val 25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5280" y="5510160"/>
              <a:ext cx="835344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Los Estados Miembros de COCESNA son: Costa Rica, El Salvador, Guatemala, Honduras y Nicaragua, quienes firmaron el Convenio Constitutivo el 26 de febrero de 1960.  Belice se adhirió al Convenio el 01 de octubre de 1996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95280" y="1628640"/>
            <a:ext cx="8424720" cy="4824720"/>
          </a:xfrm>
          <a:prstGeom prst="roundRect">
            <a:avLst>
              <a:gd name="adj" fmla="val 3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762120" y="950760"/>
            <a:ext cx="7993080" cy="649080"/>
            <a:chOff x="762120" y="950760"/>
            <a:chExt cx="7993080" cy="649080"/>
          </a:xfrm>
        </p:grpSpPr>
        <p:sp>
          <p:nvSpPr>
            <p:cNvPr id="128" name=""/>
            <p:cNvSpPr/>
            <p:nvPr/>
          </p:nvSpPr>
          <p:spPr>
            <a:xfrm>
              <a:off x="762120" y="950760"/>
              <a:ext cx="7993080" cy="649080"/>
            </a:xfrm>
            <a:prstGeom prst="roundRect">
              <a:avLst>
                <a:gd name="adj" fmla="val 241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62120" y="1059120"/>
              <a:ext cx="7993080" cy="4338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ESTADOS MIEMBROS DE COCES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538360" y="1479600"/>
            <a:ext cx="5562000" cy="5333760"/>
            <a:chOff x="2538360" y="1479600"/>
            <a:chExt cx="5562000" cy="533376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2776320" y="1698120"/>
              <a:ext cx="5293080" cy="51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2538360" y="2301840"/>
              <a:ext cx="117792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4961160" y="1479600"/>
              <a:ext cx="1153800" cy="82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6923160" y="5489640"/>
              <a:ext cx="117720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3461760" y="3638880"/>
              <a:ext cx="117720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5307480" y="2918880"/>
              <a:ext cx="1177920" cy="77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6115320" y="4152600"/>
              <a:ext cx="1177920" cy="77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"/>
          <p:cNvGrpSpPr/>
          <p:nvPr/>
        </p:nvGrpSpPr>
        <p:grpSpPr>
          <a:xfrm>
            <a:off x="177840" y="1000800"/>
            <a:ext cx="3457440" cy="773640"/>
            <a:chOff x="177840" y="1000800"/>
            <a:chExt cx="3457440" cy="773640"/>
          </a:xfrm>
        </p:grpSpPr>
        <p:sp>
          <p:nvSpPr>
            <p:cNvPr id="139" name=""/>
            <p:cNvSpPr/>
            <p:nvPr/>
          </p:nvSpPr>
          <p:spPr>
            <a:xfrm>
              <a:off x="177840" y="1045440"/>
              <a:ext cx="3457440" cy="684000"/>
            </a:xfrm>
            <a:prstGeom prst="roundRect">
              <a:avLst>
                <a:gd name="adj" fmla="val 241"/>
              </a:avLst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7840" y="1000800"/>
              <a:ext cx="3457440" cy="7736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"/>
                </a:rPr>
                <a:t>ESTADOS MIEMBROS DE COCES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52280" y="5105520"/>
            <a:ext cx="5486400" cy="9471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UN EJEMPLO DE INTEGRACIÓN REG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5000" y="1676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3954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441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Salv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5560" y="23954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35920" y="4267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67560" y="5127480"/>
            <a:ext cx="157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a  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75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1685880"/>
            <a:ext cx="7488360" cy="45514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rtalecer la Aviación Civil Internacional mediante la prestación de servicios de navegación aérea, seguridad y capacitación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eronáutica, así como otros afines, en los Estados Miembros y demás interesados, caracterizándonos por la seguridad, calidad, eficiencia,  eficacia y ética en nuestros servicios, utilizando tecnología de punta y nuestro potencial humano como principal ventaja competitiv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979560"/>
            <a:ext cx="7486920" cy="649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MISIÓN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71640" y="1050840"/>
            <a:ext cx="7488000" cy="6494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VISIÓN DE COCES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828800"/>
            <a:ext cx="7488000" cy="4032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er el Organismo Internacional modelo de Integración Centroamericana </a:t>
            </a:r>
            <a:r>
              <a:rPr b="1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que fortalezca</a:t>
            </a:r>
            <a:r>
              <a:rPr b="1" i="1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aviación civil regional dentro del contexto mundial, consolidando el desarrollo integral de Centroamérica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4:22:28Z</dcterms:created>
  <dc:creator>COCESNA</dc:creator>
  <dc:description/>
  <dc:language>en-US</dc:language>
  <cp:lastModifiedBy>Claudia López Pérez</cp:lastModifiedBy>
  <dcterms:modified xsi:type="dcterms:W3CDTF">2006-03-27T13:58:00Z</dcterms:modified>
  <cp:revision>440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700.00000000</vt:lpwstr>
  </property>
  <property fmtid="{D5CDD505-2E9C-101B-9397-08002B2CF9AE}" pid="5" name="Year">
    <vt:lpwstr>2006</vt:lpwstr>
  </property>
</Properties>
</file>