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A3D5-42BD-4B25-B853-02D86FC55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01D7-430C-4C87-BB4C-55F9A9A45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3D17-33D6-4A9F-BC50-D8AE93EEF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18EA-ECF1-47C0-92BF-CF22FB947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D6BCE9-E3D8-4D4D-8595-D62B5C31E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5DCC0C-95A5-4F68-B862-2AAED86C2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23CBDA-000C-410C-99DE-63AAD1586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67924F-D94F-4E92-9F9B-AA7B74BBC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5D709B-59EF-4C38-8716-6367B7FF4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D25493-A8FB-4519-92B1-1932BCB24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868AD8-719B-4E85-95C6-98158C40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2645-F6A0-42ED-B493-82EFEC7CD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118D64-3F34-4368-B202-293A037B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E894A0-66AF-4092-BABE-16F3A865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549A66-B14A-47D8-861D-9420E72FF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12D733-64B1-44F3-A36B-90A86C37E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864F51-954B-4E6F-BB17-7E528A35D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1E50-9F18-44ED-9634-ADA4F449D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81F1-A424-4097-9945-2461A2F56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67AF-F235-4F32-BFDD-60C20BA0D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CC37-70AD-4267-B640-B1A94F467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88AE-F251-4547-8BC6-B3ECF4BF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CE21-2DAF-40C4-AE6B-FF71DB34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F504-7150-4CE3-A3D7-458865AE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E0999-9169-4238-BCC9-C1D1319C2DB4}" type="slidenum"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45B53-A745-45F7-B07E-FAB76A4EF86B}" type="slidenum"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carlosbarrera57@yahoo.com.mx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so.ch/iso/en/ISOOnline.frontpage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920" y="5300280"/>
            <a:ext cx="86421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Antique Olive"/>
                <a:ea typeface="Times New Roman"/>
              </a:rPr>
              <a:t>SISTEMA DE GESTION DE LA CALIDAD BAJO</a:t>
            </a:r>
            <a:br>
              <a:rPr sz="2400"/>
            </a:br>
            <a:r>
              <a:rPr b="1" i="1" lang="es-ES" sz="2400" spc="-1" strike="noStrike">
                <a:solidFill>
                  <a:srgbClr val="ffff00"/>
                </a:solidFill>
                <a:latin typeface="Antique Olive"/>
                <a:ea typeface="Times New Roman"/>
              </a:rPr>
              <a:t> LA NORMA ISO </a:t>
            </a:r>
            <a:r>
              <a:rPr b="1" i="1" lang="es-MX" sz="2400" spc="-1" strike="noStrike">
                <a:solidFill>
                  <a:srgbClr val="ffff00"/>
                </a:solidFill>
                <a:latin typeface="Antique Olive"/>
                <a:ea typeface="Times New Roman"/>
              </a:rPr>
              <a:t>– </a:t>
            </a:r>
            <a:r>
              <a:rPr b="1" i="1" lang="es-ES" sz="2400" spc="-1" strike="noStrike">
                <a:solidFill>
                  <a:srgbClr val="ffff00"/>
                </a:solidFill>
                <a:latin typeface="Antique Olive"/>
                <a:ea typeface="Times New Roman"/>
              </a:rPr>
              <a:t>900I</a:t>
            </a:r>
            <a:r>
              <a:rPr b="1" i="1" lang="es-MX" sz="2400" spc="-1" strike="noStrike">
                <a:solidFill>
                  <a:srgbClr val="ffff00"/>
                </a:solidFill>
                <a:latin typeface="Antique Olive"/>
                <a:ea typeface="Times New Roman"/>
              </a:rPr>
              <a:t>:2000</a:t>
            </a:r>
            <a:br>
              <a:rPr sz="2400"/>
            </a:br>
            <a:br>
              <a:rPr sz="2400"/>
            </a:br>
            <a:r>
              <a:rPr b="1" i="1" lang="es-MX" sz="2400" spc="-1" strike="noStrike">
                <a:solidFill>
                  <a:srgbClr val="ffff00"/>
                </a:solidFill>
                <a:latin typeface="Antique Olive"/>
                <a:ea typeface="Times New Roman"/>
              </a:rPr>
              <a:t>carlosbarrera57@yahoo.com.m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50920" y="189000"/>
          <a:ext cx="4195800" cy="391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89000"/>
                    <a:ext cx="4195800" cy="39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556000" y="1341360"/>
            <a:ext cx="6408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 Unicode MS"/>
              </a:rPr>
              <a:t>Ing. Juan Carlos Barrera Mendie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 Unicode MS"/>
              </a:rPr>
              <a:t>Auditor Interno  de Sistemas de Gestión de la Cal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 Unicode MS"/>
              </a:rPr>
              <a:t>Bajo la Norma ISO:9001-2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 Unicode MS"/>
              </a:rPr>
              <a:t>Marzo 20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00"/>
                </a:solidFill>
                <a:latin typeface="Tahoma"/>
              </a:rPr>
              <a:t>Contenido de la Norma ISO 9001:2000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ff33"/>
                </a:solidFill>
                <a:latin typeface="Tahoma"/>
              </a:rPr>
              <a:t>Continua…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33"/>
                </a:solidFill>
                <a:latin typeface="Tahoma"/>
              </a:rPr>
              <a:t>5 Responsabilidad de la direcció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66ff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ff33"/>
                </a:solidFill>
                <a:latin typeface="Tahoma"/>
                <a:ea typeface="Times New Roman"/>
              </a:rPr>
              <a:t>5.5 </a:t>
            </a: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Responsabilidad, autoridad y comunic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0033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5.5.1 Responsabilidad y autorida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0033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5.5.2 Representante de la direc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0033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5.5.3 Comunicación intern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00"/>
                </a:solidFill>
                <a:latin typeface="Tahoma"/>
              </a:rPr>
              <a:t>Contenido de la Norma ISO 9001:2000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ff33"/>
                </a:solidFill>
                <a:latin typeface="Tahoma"/>
              </a:rPr>
              <a:t>Continua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33"/>
                </a:solidFill>
                <a:latin typeface="Tahoma"/>
              </a:rPr>
              <a:t>5 Responsabilidad de la direcció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66ff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5.6 Revisión por la direc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5.6.1 Gener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5.6.2 Revisión de datos de entrad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5.6.3    Revisión de datos de salid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00"/>
                </a:solidFill>
                <a:latin typeface="Tahoma"/>
              </a:rPr>
              <a:t>Contenido de la Norma ISO 9001:2000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33"/>
                </a:solidFill>
                <a:latin typeface="Tahoma"/>
              </a:rPr>
              <a:t>6 Gestión de los recurs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66ff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6.1 Provisión de recurs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66ff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6.2 Recursos Human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6.2.1 Gener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ff33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6.2.2 Competencia, concientización y formación.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33"/>
              </a:buClr>
              <a:buSzPct val="6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6.3 Infraestructur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66ff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6.4 Ambiente de trabajo</a:t>
            </a:r>
            <a:r>
              <a:rPr b="0" lang="es-ES_tradnl" sz="24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00"/>
                </a:solidFill>
                <a:latin typeface="Tahoma"/>
              </a:rPr>
              <a:t>Contenido de la Norma ISO 9001:2000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33"/>
                </a:solidFill>
                <a:latin typeface="Tahoma"/>
              </a:rPr>
              <a:t>7 Realización del produc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94360" indent="-228600">
              <a:lnSpc>
                <a:spcPct val="110000"/>
              </a:lnSpc>
              <a:spcBef>
                <a:spcPts val="601"/>
              </a:spcBef>
              <a:buClr>
                <a:srgbClr val="66ff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7.1 Planeación de la realización del  produc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594360" indent="-228600">
              <a:lnSpc>
                <a:spcPct val="110000"/>
              </a:lnSpc>
              <a:spcBef>
                <a:spcPts val="601"/>
              </a:spcBef>
              <a:buClr>
                <a:srgbClr val="66ff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7.2 Procesos relacionados con el client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7.2.1 Determinación de requerimientos. </a:t>
            </a: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                      </a:t>
            </a: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relacionados con el produc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7.2.2 Revisión de requerimientos. </a:t>
            </a: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         </a:t>
            </a: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relacionados con el  produc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7.2.3  Comunicación con el cliente.</a:t>
            </a:r>
            <a:r>
              <a:rPr b="0" lang="es-MX" sz="3000" spc="-1" strike="noStrike">
                <a:solidFill>
                  <a:srgbClr val="66ff33"/>
                </a:solidFill>
                <a:latin typeface="Tahoma"/>
              </a:rPr>
              <a:t>                                                                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9144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6ff33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9144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6ff33"/>
                </a:solidFill>
                <a:latin typeface="Tahoma"/>
              </a:rPr>
              <a:t>                                                                                    </a:t>
            </a:r>
            <a:r>
              <a:rPr b="0" lang="es-MX" sz="2000" spc="-1" strike="noStrike">
                <a:solidFill>
                  <a:srgbClr val="66ff33"/>
                </a:solidFill>
                <a:latin typeface="Tahoma"/>
              </a:rPr>
              <a:t>continúa…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00"/>
                </a:solidFill>
                <a:latin typeface="Tahoma"/>
              </a:rPr>
              <a:t>Contenido de la Norma ISO 9001:2000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66ff33"/>
                </a:solidFill>
                <a:latin typeface="Tahoma"/>
              </a:rPr>
              <a:t>Continua…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ff33"/>
                </a:solidFill>
                <a:latin typeface="Tahoma"/>
              </a:rPr>
              <a:t>7 Realización del product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66ff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ff33"/>
                </a:solidFill>
                <a:latin typeface="Tahoma"/>
              </a:rPr>
              <a:t>7.3 Diseño y desarroll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ff33"/>
                </a:solidFill>
                <a:latin typeface="Tahoma"/>
              </a:rPr>
              <a:t>7.3.1 Planeación del diseño y desarroll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ff33"/>
                </a:solidFill>
                <a:latin typeface="Tahoma"/>
              </a:rPr>
              <a:t>7.3.2 Datos de entrada del diseño y desarroll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ff33"/>
                </a:solidFill>
                <a:latin typeface="Tahoma"/>
              </a:rPr>
              <a:t>7.3.3 Datos de salida del diseño y desarrollo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ff33"/>
                </a:solidFill>
                <a:latin typeface="Tahoma"/>
              </a:rPr>
              <a:t>7.3.4 Revisión del diseño y desarrollo.</a:t>
            </a:r>
            <a:r>
              <a:rPr b="0" lang="es-ES_tradnl" sz="2500" spc="-1" strike="noStrike">
                <a:solidFill>
                  <a:srgbClr val="66ff33"/>
                </a:solidFill>
                <a:latin typeface="Tahoma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ff33"/>
                </a:solidFill>
                <a:latin typeface="Tahoma"/>
              </a:rPr>
              <a:t>7.3.5 Verificación del diseño y desarroll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ff33"/>
                </a:solidFill>
                <a:latin typeface="Tahoma"/>
              </a:rPr>
              <a:t>7.3.6 Validación del diseño y desarroll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ff33"/>
                </a:solidFill>
                <a:latin typeface="Tahoma"/>
              </a:rPr>
              <a:t>7.3.7 Control de cambios de diseño y desarroll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6ff33"/>
                </a:solidFill>
                <a:latin typeface="Tahoma"/>
              </a:rPr>
              <a:t>                                                                                  </a:t>
            </a:r>
            <a:r>
              <a:rPr b="0" lang="es-MX" sz="1800" spc="-1" strike="noStrike">
                <a:solidFill>
                  <a:srgbClr val="66ff33"/>
                </a:solidFill>
                <a:latin typeface="Tahoma"/>
              </a:rPr>
              <a:t>continua..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00"/>
                </a:solidFill>
                <a:latin typeface="Tahoma"/>
              </a:rPr>
              <a:t>Contenido de la Norma ISO 9001:2000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ff33"/>
                </a:solidFill>
                <a:latin typeface="Tahoma"/>
              </a:rPr>
              <a:t>Continua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33"/>
                </a:solidFill>
                <a:latin typeface="Tahoma"/>
              </a:rPr>
              <a:t>7 Realización del product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7.4 Compr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7.4.1 Proceso de compr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7.4.2 Información de compra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7.4.3 Verificación del producto adquirid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                                                                     </a:t>
            </a:r>
            <a:r>
              <a:rPr b="0" lang="es-ES_tradnl" sz="2000" spc="-1" strike="noStrike">
                <a:solidFill>
                  <a:srgbClr val="66ff33"/>
                </a:solidFill>
                <a:latin typeface="Tahoma"/>
              </a:rPr>
              <a:t>continúa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00"/>
                </a:solidFill>
                <a:latin typeface="Tahoma"/>
              </a:rPr>
              <a:t>Contenido de la Norma ISO 9001:2000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ff33"/>
                </a:solidFill>
                <a:latin typeface="Tahoma"/>
              </a:rPr>
              <a:t>Continua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33"/>
                </a:solidFill>
                <a:latin typeface="Tahoma"/>
              </a:rPr>
              <a:t>7 Realización del product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7.5 Provisión de producción y servici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1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7.5.1 Control de la provisión del producto y </a:t>
            </a: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     servici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1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7.5.2 Validación de los procesos para la </a:t>
            </a: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     provisión de producción y servici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1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7.5.3 Identificación y Trazabilida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1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7.5.4 Propiedad del client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1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7.5.5 Conservación del produc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130000"/>
              </a:lnSpc>
              <a:spcBef>
                <a:spcPts val="601"/>
              </a:spcBef>
              <a:buClr>
                <a:srgbClr val="66ff33"/>
              </a:buClr>
              <a:buSzPct val="8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7.6 Control de dispositivos de monitoreo y medi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00"/>
                </a:solidFill>
                <a:latin typeface="Tahoma"/>
              </a:rPr>
              <a:t>Contenido de la Norma ISO 9001:2000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ff33"/>
                </a:solidFill>
                <a:latin typeface="Tahoma"/>
              </a:rPr>
              <a:t>8 Medición, análisis y mejo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66ff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ff33"/>
                </a:solidFill>
                <a:latin typeface="Tahoma"/>
              </a:rPr>
              <a:t>8.1 Gener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601"/>
              </a:spcBef>
              <a:buClr>
                <a:srgbClr val="66ff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ff33"/>
                </a:solidFill>
                <a:latin typeface="Tahoma"/>
              </a:rPr>
              <a:t>8.2 Monitoreo y medici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ff33"/>
                </a:solidFill>
                <a:latin typeface="Tahoma"/>
              </a:rPr>
              <a:t>8.2.1 Satisfacción del client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ff33"/>
                </a:solidFill>
                <a:latin typeface="Tahoma"/>
              </a:rPr>
              <a:t>8.2.2 Auditoría intern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ff33"/>
                </a:solidFill>
                <a:latin typeface="Tahoma"/>
              </a:rPr>
              <a:t>8.2.3 Monitoreo y medición de proces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ff33"/>
                </a:solidFill>
                <a:latin typeface="Tahoma"/>
              </a:rPr>
              <a:t>8.2.4 Monitoreo y medición del product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ff33"/>
                </a:solidFill>
                <a:latin typeface="Tahoma"/>
              </a:rPr>
              <a:t>                                                                     </a:t>
            </a:r>
            <a:r>
              <a:rPr b="0" lang="es-ES_tradnl" sz="1800" spc="-1" strike="noStrike">
                <a:solidFill>
                  <a:srgbClr val="66ff33"/>
                </a:solidFill>
                <a:latin typeface="Tahoma"/>
              </a:rPr>
              <a:t>continúa..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00"/>
                </a:solidFill>
                <a:latin typeface="Tahoma"/>
              </a:rPr>
              <a:t>Contenido de la Norma ISO 9001:2000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ff33"/>
                </a:solidFill>
                <a:latin typeface="Tahoma"/>
              </a:rPr>
              <a:t>Continua..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ff33"/>
                </a:solidFill>
                <a:latin typeface="Tahoma"/>
              </a:rPr>
              <a:t>8 Medición, análisis y mejo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8.3 Control del producto no conform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lnSpc>
                <a:spcPct val="110000"/>
              </a:lnSpc>
              <a:spcBef>
                <a:spcPts val="601"/>
              </a:spcBef>
              <a:buClr>
                <a:srgbClr val="66ff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8.4 Análisis de dat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39000" indent="-245520">
              <a:lnSpc>
                <a:spcPct val="110000"/>
              </a:lnSpc>
              <a:spcBef>
                <a:spcPts val="601"/>
              </a:spcBef>
              <a:buClr>
                <a:srgbClr val="66ff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8.5 Mejor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828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8.5.1 Mejora continu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828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8.5.2 Acción correctiv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828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8.5.3 Acción preventiv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66ff33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or su aten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CI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s-MX" sz="1600" spc="-1" strike="noStrike" u="sng">
                <a:solidFill>
                  <a:srgbClr val="ffcc00"/>
                </a:solidFill>
                <a:uFillTx/>
                <a:latin typeface="Antique Olive"/>
                <a:ea typeface="Times New Roman"/>
                <a:hlinkClick r:id="rId2"/>
              </a:rPr>
              <a:t>carlosbarrera57@yahoo.com.mx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ffff00"/>
                </a:solidFill>
                <a:latin typeface="Antique Olive"/>
                <a:ea typeface="Times New Roman"/>
              </a:rPr>
              <a:t>	</a:t>
            </a:r>
            <a:r>
              <a:rPr b="1" i="1" lang="es-MX" sz="1600" spc="-1" strike="noStrike">
                <a:solidFill>
                  <a:srgbClr val="ffff00"/>
                </a:solidFill>
                <a:latin typeface="Antique Olive"/>
                <a:ea typeface="Times New Roman"/>
              </a:rPr>
              <a:t>044 55 2858 7909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3"/>
          <a:stretch/>
        </p:blipFill>
        <p:spPr>
          <a:xfrm>
            <a:off x="4140360" y="1434960"/>
            <a:ext cx="4546440" cy="454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33520" y="990720"/>
            <a:ext cx="7391160" cy="5715000"/>
          </a:xfrm>
          <a:prstGeom prst="donut">
            <a:avLst>
              <a:gd name="adj" fmla="val 25000"/>
            </a:avLst>
          </a:prstGeom>
          <a:solidFill>
            <a:srgbClr val="00ccff"/>
          </a:solidFill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c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99"/>
                </a:solidFill>
                <a:latin typeface="Arial Rounded MT Bold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209320" y="1143000"/>
            <a:ext cx="4115160" cy="1447920"/>
            <a:chOff x="2209320" y="1143000"/>
            <a:chExt cx="4115160" cy="1447920"/>
          </a:xfrm>
        </p:grpSpPr>
        <p:sp>
          <p:nvSpPr>
            <p:cNvPr id="89" name=""/>
            <p:cNvSpPr/>
            <p:nvPr/>
          </p:nvSpPr>
          <p:spPr>
            <a:xfrm flipH="1" flipV="1">
              <a:off x="2209320" y="1523880"/>
              <a:ext cx="1143000" cy="10670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5029200" y="1523880"/>
              <a:ext cx="1295280" cy="99072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615760" y="1143000"/>
              <a:ext cx="3490200" cy="89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ff"/>
                  </a:solidFill>
                  <a:latin typeface="Arial Rounded MT Bold"/>
                </a:rPr>
                <a:t>Organización enfocad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ff"/>
                  </a:solidFill>
                  <a:latin typeface="Arial Rounded MT Bold"/>
                </a:rPr>
                <a:t>al Client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5867280" y="3683160"/>
            <a:ext cx="1891800" cy="1476000"/>
            <a:chOff x="5867280" y="3683160"/>
            <a:chExt cx="1891800" cy="1476000"/>
          </a:xfrm>
        </p:grpSpPr>
        <p:sp>
          <p:nvSpPr>
            <p:cNvPr id="93" name=""/>
            <p:cNvSpPr/>
            <p:nvPr/>
          </p:nvSpPr>
          <p:spPr>
            <a:xfrm flipH="1" flipV="1">
              <a:off x="5867280" y="4320720"/>
              <a:ext cx="1524240" cy="8384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311160" y="3683160"/>
              <a:ext cx="14479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ff"/>
                  </a:solidFill>
                  <a:latin typeface="Arial Rounded MT Bold"/>
                </a:rPr>
                <a:t>Enfoque 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ff"/>
                  </a:solidFill>
                  <a:latin typeface="Arial Rounded MT Bold"/>
                </a:rPr>
                <a:t> </a:t>
              </a:r>
              <a:r>
                <a:rPr b="1" lang="es-MX" sz="2000" spc="-1" strike="noStrike">
                  <a:solidFill>
                    <a:srgbClr val="0000ff"/>
                  </a:solidFill>
                  <a:latin typeface="Arial Rounded MT Bold"/>
                </a:rPr>
                <a:t>proceso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676160" y="4800600"/>
            <a:ext cx="4245840" cy="1508400"/>
            <a:chOff x="1676160" y="4800600"/>
            <a:chExt cx="4245840" cy="1508400"/>
          </a:xfrm>
        </p:grpSpPr>
        <p:sp>
          <p:nvSpPr>
            <p:cNvPr id="96" name=""/>
            <p:cNvSpPr/>
            <p:nvPr/>
          </p:nvSpPr>
          <p:spPr>
            <a:xfrm flipH="1">
              <a:off x="1676160" y="4800600"/>
              <a:ext cx="1143000" cy="11430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788560" y="5178600"/>
              <a:ext cx="313344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ff"/>
                  </a:solidFill>
                  <a:latin typeface="Arial Rounded MT Bold"/>
                </a:rPr>
                <a:t>Relacion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ff"/>
                  </a:solidFill>
                  <a:latin typeface="Arial Rounded MT Bold"/>
                </a:rPr>
                <a:t>Mutuamente benéfica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ff"/>
                  </a:solidFill>
                  <a:latin typeface="Arial Rounded MT Bold"/>
                </a:rPr>
                <a:t> </a:t>
              </a:r>
              <a:r>
                <a:rPr b="1" lang="es-MX" sz="2000" spc="-1" strike="noStrike">
                  <a:solidFill>
                    <a:srgbClr val="0000ff"/>
                  </a:solidFill>
                  <a:latin typeface="Arial Rounded MT Bold"/>
                </a:rPr>
                <a:t>con proveedor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1141560" y="2181240"/>
            <a:ext cx="1344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ff"/>
                </a:solidFill>
                <a:latin typeface="Arial Rounded MT Bold"/>
              </a:rPr>
              <a:t>Mejor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ff"/>
                </a:solidFill>
                <a:latin typeface="Arial Rounded MT Bold"/>
              </a:rPr>
              <a:t>Continu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5193720" y="2181240"/>
            <a:ext cx="2730960" cy="1378080"/>
            <a:chOff x="5193720" y="2181240"/>
            <a:chExt cx="2730960" cy="1378080"/>
          </a:xfrm>
        </p:grpSpPr>
        <p:sp>
          <p:nvSpPr>
            <p:cNvPr id="100" name=""/>
            <p:cNvSpPr/>
            <p:nvPr/>
          </p:nvSpPr>
          <p:spPr>
            <a:xfrm>
              <a:off x="5193720" y="2181240"/>
              <a:ext cx="23958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ff"/>
                  </a:solidFill>
                  <a:latin typeface="Arial Rounded MT Bold"/>
                </a:rPr>
                <a:t>Gestión enfocad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ff"/>
                  </a:solidFill>
                  <a:latin typeface="Arial Rounded MT Bold"/>
                </a:rPr>
                <a:t> </a:t>
              </a:r>
              <a:r>
                <a:rPr b="1" lang="es-MX" sz="2000" spc="-1" strike="noStrike">
                  <a:solidFill>
                    <a:srgbClr val="0000ff"/>
                  </a:solidFill>
                  <a:latin typeface="Arial Rounded MT Bold"/>
                </a:rPr>
                <a:t>a sistema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095880" y="3559320"/>
              <a:ext cx="182880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38280" y="2111400"/>
            <a:ext cx="3733920" cy="2362320"/>
          </a:xfrm>
          <a:prstGeom prst="triangle">
            <a:avLst>
              <a:gd name="adj" fmla="val 50000"/>
            </a:avLst>
          </a:prstGeom>
          <a:solidFill>
            <a:srgbClr val="ccff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s-MX" sz="2400" spc="-1" strike="noStrike">
                <a:solidFill>
                  <a:srgbClr val="0000ff"/>
                </a:solidFill>
                <a:latin typeface="Arial Rounded MT Bold"/>
              </a:rPr>
              <a:t>Lideraz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Arial Rounded MT Bold"/>
              </a:rPr>
              <a:t>Participació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Arial Rounded MT Bold"/>
              </a:rPr>
              <a:t>del pers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81280" y="3178080"/>
            <a:ext cx="1371600" cy="5558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84360" y="260280"/>
            <a:ext cx="769608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eb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e917"/>
                </a:solidFill>
                <a:latin typeface="Arial Unicode MS"/>
              </a:rPr>
              <a:t>Principios de Gestión de Cal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533520" y="3635280"/>
            <a:ext cx="1904760" cy="2004120"/>
            <a:chOff x="533520" y="3635280"/>
            <a:chExt cx="1904760" cy="2004120"/>
          </a:xfrm>
        </p:grpSpPr>
        <p:sp>
          <p:nvSpPr>
            <p:cNvPr id="106" name=""/>
            <p:cNvSpPr/>
            <p:nvPr/>
          </p:nvSpPr>
          <p:spPr>
            <a:xfrm flipH="1">
              <a:off x="533520" y="3635280"/>
              <a:ext cx="182880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33520" y="3657600"/>
              <a:ext cx="1904760" cy="198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ff"/>
                  </a:solidFill>
                  <a:latin typeface="Arial Rounded MT Bold"/>
                </a:rPr>
                <a:t>Enfoque para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ff"/>
                  </a:solidFill>
                  <a:latin typeface="Arial Rounded MT Bold"/>
                </a:rPr>
                <a:t>        </a:t>
              </a:r>
              <a:r>
                <a:rPr b="1" lang="es-MX" sz="2000" spc="-1" strike="noStrike">
                  <a:solidFill>
                    <a:srgbClr val="0000ff"/>
                  </a:solidFill>
                  <a:latin typeface="Arial Rounded MT Bold"/>
                </a:rPr>
                <a:t>La toma de decisiones              Basada en hecho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514600" y="4473720"/>
            <a:ext cx="3581280" cy="45468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e917"/>
                </a:solidFill>
                <a:latin typeface="Arial Rounded MT Bold"/>
              </a:rPr>
              <a:t>Familia ISO 9000: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3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"/>
          <p:cNvGraphicFramePr/>
          <p:nvPr/>
        </p:nvGraphicFramePr>
        <p:xfrm>
          <a:off x="1828800" y="1066680"/>
          <a:ext cx="5707080" cy="450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1066680"/>
                    <a:ext cx="5707080" cy="45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979640" y="333360"/>
            <a:ext cx="51814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eb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ffe917"/>
                </a:solidFill>
                <a:latin typeface="Arial Unicode MS"/>
              </a:rPr>
              <a:t>4. Sistema de Cal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1131840"/>
            <a:ext cx="84438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s-ES_tradnl" sz="2000" spc="-1" strike="noStrike">
                <a:solidFill>
                  <a:srgbClr val="ffff00"/>
                </a:solidFill>
                <a:latin typeface="Arial Unicode MS"/>
              </a:rPr>
              <a:t>El sistema de calidad se debe Establecer, Documentar, Implantar en forma efectiv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832040" y="6114960"/>
            <a:ext cx="4897440" cy="590400"/>
            <a:chOff x="1832040" y="6114960"/>
            <a:chExt cx="4897440" cy="590400"/>
          </a:xfrm>
        </p:grpSpPr>
        <p:sp>
          <p:nvSpPr>
            <p:cNvPr id="112" name=""/>
            <p:cNvSpPr/>
            <p:nvPr/>
          </p:nvSpPr>
          <p:spPr>
            <a:xfrm>
              <a:off x="1832040" y="6114960"/>
              <a:ext cx="4897440" cy="590400"/>
            </a:xfrm>
            <a:prstGeom prst="triangle">
              <a:avLst>
                <a:gd name="adj" fmla="val 49986"/>
              </a:avLst>
            </a:prstGeom>
            <a:solidFill>
              <a:srgbClr val="ffeb85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132000" y="6300720"/>
              <a:ext cx="291492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87240"/>
                  <a:tab algn="l" pos="1374840"/>
                  <a:tab algn="l" pos="2062080"/>
                  <a:tab algn="l" pos="2749680"/>
                  <a:tab algn="l" pos="3436920"/>
                  <a:tab algn="l" pos="4124160"/>
                  <a:tab algn="l" pos="4811760"/>
                  <a:tab algn="l" pos="5499000"/>
                  <a:tab algn="l" pos="6186600"/>
                  <a:tab algn="l" pos="6873840"/>
                  <a:tab algn="l" pos="7561440"/>
                  <a:tab algn="l" pos="8248680"/>
                  <a:tab algn="l" pos="8935920"/>
                  <a:tab algn="l" pos="9623520"/>
                  <a:tab algn="l" pos="10310760"/>
                </a:tabLst>
              </a:pPr>
              <a:r>
                <a:rPr b="0" lang="es-ES_tradnl" sz="1900" spc="-1" strike="noStrike">
                  <a:solidFill>
                    <a:srgbClr val="0000ff"/>
                  </a:solidFill>
                  <a:latin typeface="Arial Unicode MS"/>
                </a:rPr>
                <a:t>Planes de Calidad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2247840" y="2230560"/>
            <a:ext cx="0" cy="3222360"/>
          </a:xfrm>
          <a:prstGeom prst="line">
            <a:avLst/>
          </a:prstGeom>
          <a:ln w="19080">
            <a:solidFill>
              <a:srgbClr val="ffe917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448080" y="2560680"/>
            <a:ext cx="1508040" cy="1107000"/>
            <a:chOff x="3448080" y="2560680"/>
            <a:chExt cx="1508040" cy="1107000"/>
          </a:xfrm>
        </p:grpSpPr>
        <p:sp>
          <p:nvSpPr>
            <p:cNvPr id="116" name=""/>
            <p:cNvSpPr/>
            <p:nvPr/>
          </p:nvSpPr>
          <p:spPr>
            <a:xfrm>
              <a:off x="3448080" y="3638520"/>
              <a:ext cx="150804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747960" y="2560680"/>
              <a:ext cx="905400" cy="110700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9560"/>
                  <a:tab algn="l" pos="879480"/>
                  <a:tab algn="l" pos="1319040"/>
                  <a:tab algn="l" pos="1758960"/>
                  <a:tab algn="l" pos="2198520"/>
                  <a:tab algn="l" pos="2638440"/>
                  <a:tab algn="l" pos="3078000"/>
                  <a:tab algn="l" pos="3517920"/>
                  <a:tab algn="l" pos="3957480"/>
                  <a:tab algn="l" pos="4397400"/>
                  <a:tab algn="l" pos="4836960"/>
                  <a:tab algn="l" pos="5276880"/>
                  <a:tab algn="l" pos="5716440"/>
                  <a:tab algn="l" pos="6156360"/>
                  <a:tab algn="l" pos="6595920"/>
                  <a:tab algn="l" pos="7035840"/>
                  <a:tab algn="l" pos="7475400"/>
                  <a:tab algn="l" pos="7915320"/>
                  <a:tab algn="l" pos="8354880"/>
                  <a:tab algn="l" pos="87948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39560"/>
                  <a:tab algn="l" pos="879480"/>
                  <a:tab algn="l" pos="1319040"/>
                  <a:tab algn="l" pos="1758960"/>
                  <a:tab algn="l" pos="2198520"/>
                  <a:tab algn="l" pos="2638440"/>
                  <a:tab algn="l" pos="3078000"/>
                  <a:tab algn="l" pos="3517920"/>
                  <a:tab algn="l" pos="3957480"/>
                  <a:tab algn="l" pos="4397400"/>
                  <a:tab algn="l" pos="4836960"/>
                  <a:tab algn="l" pos="5276880"/>
                  <a:tab algn="l" pos="5716440"/>
                  <a:tab algn="l" pos="6156360"/>
                  <a:tab algn="l" pos="6595920"/>
                  <a:tab algn="l" pos="7035840"/>
                  <a:tab algn="l" pos="7475400"/>
                  <a:tab algn="l" pos="7915320"/>
                  <a:tab algn="l" pos="8354880"/>
                  <a:tab algn="l" pos="8794800"/>
                </a:tabLst>
              </a:pPr>
              <a:r>
                <a:rPr b="0" lang="es-ES_tradnl" sz="1700" spc="-1" strike="noStrike">
                  <a:solidFill>
                    <a:srgbClr val="00ccff"/>
                  </a:solidFill>
                  <a:latin typeface="Arial Unicode MS"/>
                </a:rPr>
                <a:t>Manual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39560"/>
                  <a:tab algn="l" pos="879480"/>
                  <a:tab algn="l" pos="1319040"/>
                  <a:tab algn="l" pos="1758960"/>
                  <a:tab algn="l" pos="2198520"/>
                  <a:tab algn="l" pos="2638440"/>
                  <a:tab algn="l" pos="3078000"/>
                  <a:tab algn="l" pos="3517920"/>
                  <a:tab algn="l" pos="3957480"/>
                  <a:tab algn="l" pos="4397400"/>
                  <a:tab algn="l" pos="4836960"/>
                  <a:tab algn="l" pos="5276880"/>
                  <a:tab algn="l" pos="5716440"/>
                  <a:tab algn="l" pos="6156360"/>
                  <a:tab algn="l" pos="6595920"/>
                  <a:tab algn="l" pos="7035840"/>
                  <a:tab algn="l" pos="7475400"/>
                  <a:tab algn="l" pos="7915320"/>
                  <a:tab algn="l" pos="8354880"/>
                  <a:tab algn="l" pos="8794800"/>
                </a:tabLst>
              </a:pPr>
              <a:r>
                <a:rPr b="0" lang="es-ES_tradnl" sz="1700" spc="-1" strike="noStrike">
                  <a:solidFill>
                    <a:srgbClr val="00ccff"/>
                  </a:solidFill>
                  <a:latin typeface="Arial Unicode MS"/>
                </a:rPr>
                <a:t>de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39560"/>
                  <a:tab algn="l" pos="879480"/>
                  <a:tab algn="l" pos="1319040"/>
                  <a:tab algn="l" pos="1758960"/>
                  <a:tab algn="l" pos="2198520"/>
                  <a:tab algn="l" pos="2638440"/>
                  <a:tab algn="l" pos="3078000"/>
                  <a:tab algn="l" pos="3517920"/>
                  <a:tab algn="l" pos="3957480"/>
                  <a:tab algn="l" pos="4397400"/>
                  <a:tab algn="l" pos="4836960"/>
                  <a:tab algn="l" pos="5276880"/>
                  <a:tab algn="l" pos="5716440"/>
                  <a:tab algn="l" pos="6156360"/>
                  <a:tab algn="l" pos="6595920"/>
                  <a:tab algn="l" pos="7035840"/>
                  <a:tab algn="l" pos="7475400"/>
                  <a:tab algn="l" pos="7915320"/>
                  <a:tab algn="l" pos="8354880"/>
                  <a:tab algn="l" pos="8794800"/>
                </a:tabLst>
              </a:pPr>
              <a:r>
                <a:rPr b="0" lang="es-ES_tradnl" sz="1700" spc="-1" strike="noStrike">
                  <a:solidFill>
                    <a:srgbClr val="00ccff"/>
                  </a:solidFill>
                  <a:latin typeface="Arial Unicode MS"/>
                </a:rPr>
                <a:t>Calidad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3070080" y="3854520"/>
            <a:ext cx="2273400" cy="511200"/>
            <a:chOff x="3070080" y="3854520"/>
            <a:chExt cx="2273400" cy="511200"/>
          </a:xfrm>
        </p:grpSpPr>
        <p:sp>
          <p:nvSpPr>
            <p:cNvPr id="119" name=""/>
            <p:cNvSpPr/>
            <p:nvPr/>
          </p:nvSpPr>
          <p:spPr>
            <a:xfrm>
              <a:off x="3070080" y="4365720"/>
              <a:ext cx="2273400" cy="0"/>
            </a:xfrm>
            <a:prstGeom prst="line">
              <a:avLst/>
            </a:prstGeom>
            <a:ln w="19080">
              <a:solidFill>
                <a:srgbClr val="000099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334320" y="3854520"/>
              <a:ext cx="1781640" cy="31356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9560"/>
                  <a:tab algn="l" pos="879480"/>
                  <a:tab algn="l" pos="1319040"/>
                  <a:tab algn="l" pos="1758960"/>
                  <a:tab algn="l" pos="2198520"/>
                  <a:tab algn="l" pos="2638440"/>
                  <a:tab algn="l" pos="3078000"/>
                  <a:tab algn="l" pos="3517920"/>
                  <a:tab algn="l" pos="3957480"/>
                  <a:tab algn="l" pos="4397400"/>
                  <a:tab algn="l" pos="4836960"/>
                  <a:tab algn="l" pos="5276880"/>
                  <a:tab algn="l" pos="5716440"/>
                  <a:tab algn="l" pos="6156360"/>
                  <a:tab algn="l" pos="6595920"/>
                  <a:tab algn="l" pos="7035840"/>
                  <a:tab algn="l" pos="7475400"/>
                  <a:tab algn="l" pos="7915320"/>
                  <a:tab algn="l" pos="8354880"/>
                  <a:tab algn="l" pos="87948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HandelGothic BT"/>
                </a:rPr>
                <a:t> </a:t>
              </a:r>
              <a:r>
                <a:rPr b="1" lang="es-ES_tradnl" sz="1600" spc="-1" strike="noStrike">
                  <a:solidFill>
                    <a:srgbClr val="ffe917"/>
                  </a:solidFill>
                  <a:latin typeface="Arial Unicode MS"/>
                </a:rPr>
                <a:t>Procedimiento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2720880" y="4568760"/>
            <a:ext cx="2957760" cy="492120"/>
            <a:chOff x="2720880" y="4568760"/>
            <a:chExt cx="2957760" cy="492120"/>
          </a:xfrm>
        </p:grpSpPr>
        <p:sp>
          <p:nvSpPr>
            <p:cNvPr id="122" name=""/>
            <p:cNvSpPr/>
            <p:nvPr/>
          </p:nvSpPr>
          <p:spPr>
            <a:xfrm>
              <a:off x="2720880" y="5060880"/>
              <a:ext cx="295776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29440" y="4568760"/>
              <a:ext cx="1391760" cy="329400"/>
            </a:xfrm>
            <a:prstGeom prst="rect">
              <a:avLst/>
            </a:prstGeom>
            <a:noFill/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9560"/>
                  <a:tab algn="l" pos="879480"/>
                  <a:tab algn="l" pos="1319040"/>
                  <a:tab algn="l" pos="1758960"/>
                  <a:tab algn="l" pos="2198520"/>
                  <a:tab algn="l" pos="2638440"/>
                  <a:tab algn="l" pos="3078000"/>
                  <a:tab algn="l" pos="3517920"/>
                  <a:tab algn="l" pos="3957480"/>
                  <a:tab algn="l" pos="4397400"/>
                  <a:tab algn="l" pos="4836960"/>
                  <a:tab algn="l" pos="5276880"/>
                  <a:tab algn="l" pos="5716440"/>
                  <a:tab algn="l" pos="6156360"/>
                  <a:tab algn="l" pos="6595920"/>
                  <a:tab algn="l" pos="7035840"/>
                  <a:tab algn="l" pos="7475400"/>
                  <a:tab algn="l" pos="7915320"/>
                  <a:tab algn="l" pos="8354880"/>
                  <a:tab algn="l" pos="8794800"/>
                </a:tabLst>
              </a:pPr>
              <a:r>
                <a:rPr b="1" lang="es-ES_tradnl" sz="1700" spc="-1" strike="noStrike">
                  <a:solidFill>
                    <a:srgbClr val="ffffff"/>
                  </a:solidFill>
                  <a:latin typeface="HandelGothic BT"/>
                </a:rPr>
                <a:t> </a:t>
              </a:r>
              <a:r>
                <a:rPr b="0" lang="es-ES_tradnl" sz="1700" spc="-1" strike="noStrike">
                  <a:solidFill>
                    <a:srgbClr val="00c600"/>
                  </a:solidFill>
                  <a:latin typeface="Arial Unicode MS"/>
                </a:rPr>
                <a:t>Instructivos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4255920" y="5097600"/>
            <a:ext cx="1442520" cy="911160"/>
            <a:chOff x="4255920" y="5097600"/>
            <a:chExt cx="1442520" cy="911160"/>
          </a:xfrm>
        </p:grpSpPr>
        <p:sp>
          <p:nvSpPr>
            <p:cNvPr id="125" name=""/>
            <p:cNvSpPr/>
            <p:nvPr/>
          </p:nvSpPr>
          <p:spPr>
            <a:xfrm>
              <a:off x="4255920" y="5097600"/>
              <a:ext cx="0" cy="911160"/>
            </a:xfrm>
            <a:prstGeom prst="line">
              <a:avLst/>
            </a:prstGeom>
            <a:ln w="28440">
              <a:solidFill>
                <a:srgbClr val="ffe9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64640" y="5218200"/>
              <a:ext cx="1333800" cy="58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840" rIns="69840" tIns="34920" bIns="349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39560"/>
                  <a:tab algn="l" pos="879480"/>
                  <a:tab algn="l" pos="1319040"/>
                  <a:tab algn="l" pos="1758960"/>
                  <a:tab algn="l" pos="2198520"/>
                  <a:tab algn="l" pos="2638440"/>
                  <a:tab algn="l" pos="3078000"/>
                  <a:tab algn="l" pos="3517920"/>
                  <a:tab algn="l" pos="3957480"/>
                  <a:tab algn="l" pos="4397400"/>
                  <a:tab algn="l" pos="4836960"/>
                  <a:tab algn="l" pos="5276880"/>
                  <a:tab algn="l" pos="5716440"/>
                  <a:tab algn="l" pos="6156360"/>
                  <a:tab algn="l" pos="6595920"/>
                  <a:tab algn="l" pos="7035840"/>
                  <a:tab algn="l" pos="7475400"/>
                  <a:tab algn="l" pos="7915320"/>
                  <a:tab algn="l" pos="8354880"/>
                  <a:tab algn="l" pos="8794800"/>
                </a:tabLst>
              </a:pPr>
              <a:r>
                <a:rPr b="1" lang="es-ES_tradnl" sz="1700" spc="-1" strike="noStrike">
                  <a:solidFill>
                    <a:srgbClr val="ffffff"/>
                  </a:solidFill>
                  <a:latin typeface="HandelGothic BT"/>
                </a:rPr>
                <a:t> </a:t>
              </a:r>
              <a:r>
                <a:rPr b="0" lang="es-ES_tradnl" sz="1700" spc="-1" strike="noStrike">
                  <a:solidFill>
                    <a:srgbClr val="ff9933"/>
                  </a:solidFill>
                  <a:latin typeface="Arial Unicode MS"/>
                </a:rPr>
                <a:t>Formatos y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39560"/>
                  <a:tab algn="l" pos="879480"/>
                  <a:tab algn="l" pos="1319040"/>
                  <a:tab algn="l" pos="1758960"/>
                  <a:tab algn="l" pos="2198520"/>
                  <a:tab algn="l" pos="2638440"/>
                  <a:tab algn="l" pos="3078000"/>
                  <a:tab algn="l" pos="3517920"/>
                  <a:tab algn="l" pos="3957480"/>
                  <a:tab algn="l" pos="4397400"/>
                  <a:tab algn="l" pos="4836960"/>
                  <a:tab algn="l" pos="5276880"/>
                  <a:tab algn="l" pos="5716440"/>
                  <a:tab algn="l" pos="6156360"/>
                  <a:tab algn="l" pos="6595920"/>
                  <a:tab algn="l" pos="7035840"/>
                  <a:tab algn="l" pos="7475400"/>
                  <a:tab algn="l" pos="7915320"/>
                  <a:tab algn="l" pos="8354880"/>
                  <a:tab algn="l" pos="8794800"/>
                </a:tabLst>
              </a:pPr>
              <a:r>
                <a:rPr b="0" lang="es-ES_tradnl" sz="1700" spc="-1" strike="noStrike">
                  <a:solidFill>
                    <a:srgbClr val="ff9933"/>
                  </a:solidFill>
                  <a:latin typeface="Arial Unicode MS"/>
                </a:rPr>
                <a:t>Registros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2522160" y="5675400"/>
            <a:ext cx="1662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Arial Unicode MS"/>
              </a:rPr>
              <a:t>Formatos lleno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033640" y="2122560"/>
            <a:ext cx="4143240" cy="3891960"/>
            <a:chOff x="2033640" y="2122560"/>
            <a:chExt cx="4143240" cy="3891960"/>
          </a:xfrm>
        </p:grpSpPr>
        <p:sp>
          <p:nvSpPr>
            <p:cNvPr id="129" name=""/>
            <p:cNvSpPr/>
            <p:nvPr/>
          </p:nvSpPr>
          <p:spPr>
            <a:xfrm>
              <a:off x="2211480" y="2128680"/>
              <a:ext cx="3965400" cy="3885840"/>
            </a:xfrm>
            <a:prstGeom prst="triangle">
              <a:avLst>
                <a:gd name="adj" fmla="val 49986"/>
              </a:avLst>
            </a:prstGeom>
            <a:noFill/>
            <a:ln w="28440">
              <a:solidFill>
                <a:srgbClr val="ffe9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033640" y="2122560"/>
              <a:ext cx="2147760" cy="0"/>
            </a:xfrm>
            <a:prstGeom prst="line">
              <a:avLst/>
            </a:prstGeom>
            <a:ln w="19080">
              <a:solidFill>
                <a:srgbClr val="ffe9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526040" y="3084480"/>
            <a:ext cx="1438920" cy="588600"/>
          </a:xfrm>
          <a:prstGeom prst="rect">
            <a:avLst/>
          </a:prstGeom>
          <a:solidFill>
            <a:srgbClr val="ffeb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s-ES_tradnl" sz="1700" spc="-1" strike="noStrike">
                <a:solidFill>
                  <a:srgbClr val="0000ff"/>
                </a:solidFill>
                <a:latin typeface="Arial Unicode MS"/>
              </a:rPr>
              <a:t>Documento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s-ES_tradnl" sz="1700" spc="-1" strike="noStrike">
                <a:solidFill>
                  <a:srgbClr val="0000ff"/>
                </a:solidFill>
                <a:latin typeface="Arial Unicode MS"/>
              </a:rPr>
              <a:t>Controlado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" y="5334120"/>
            <a:ext cx="109152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s-ES_tradnl" sz="1700" spc="-1" strike="noStrike">
                <a:solidFill>
                  <a:srgbClr val="ffe917"/>
                </a:solidFill>
                <a:latin typeface="Arial Unicode MS"/>
              </a:rPr>
              <a:t>Registro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s-ES_tradnl" sz="1700" spc="-1" strike="noStrike">
                <a:solidFill>
                  <a:srgbClr val="ffe917"/>
                </a:solidFill>
                <a:latin typeface="Arial Unicode MS"/>
              </a:rPr>
              <a:t>d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s-ES_tradnl" sz="1700" spc="-1" strike="noStrike">
                <a:solidFill>
                  <a:srgbClr val="ffe917"/>
                </a:solidFill>
                <a:latin typeface="Arial Unicode MS"/>
              </a:rPr>
              <a:t>Calidad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230800" y="2717640"/>
            <a:ext cx="208440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s-ES_tradnl" sz="1700" spc="-1" strike="noStrike">
                <a:solidFill>
                  <a:srgbClr val="00ccff"/>
                </a:solidFill>
                <a:latin typeface="Arial Unicode MS"/>
              </a:rPr>
              <a:t>Política, objetivo y Proceso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232960" y="3592440"/>
            <a:ext cx="183240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s-ES_tradnl" sz="1700" spc="-1" strike="noStrike">
                <a:solidFill>
                  <a:srgbClr val="ffe917"/>
                </a:solidFill>
                <a:latin typeface="Arial Unicode MS"/>
              </a:rPr>
              <a:t>Implantación d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s-ES_tradnl" sz="1700" spc="-1" strike="noStrike">
                <a:solidFill>
                  <a:srgbClr val="ffe917"/>
                </a:solidFill>
                <a:latin typeface="Arial Unicode MS"/>
              </a:rPr>
              <a:t>la Política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45960" y="4394160"/>
            <a:ext cx="182448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s-ES_tradnl" sz="1700" spc="-1" strike="noStrike">
                <a:solidFill>
                  <a:srgbClr val="00c600"/>
                </a:solidFill>
                <a:latin typeface="Arial Unicode MS"/>
              </a:rPr>
              <a:t>El “Cómo” de lo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s-ES_tradnl" sz="1700" spc="-1" strike="noStrike">
                <a:solidFill>
                  <a:srgbClr val="00c600"/>
                </a:solidFill>
                <a:latin typeface="Arial Unicode MS"/>
              </a:rPr>
              <a:t>procedimiento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55280" y="5195880"/>
            <a:ext cx="148032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s-ES_tradnl" sz="1700" spc="-1" strike="noStrike">
                <a:solidFill>
                  <a:srgbClr val="ff9933"/>
                </a:solidFill>
                <a:latin typeface="Arial Unicode MS"/>
              </a:rPr>
              <a:t>Pruebas qu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s-ES_tradnl" sz="1700" spc="-1" strike="noStrike">
                <a:solidFill>
                  <a:srgbClr val="ff9933"/>
                </a:solidFill>
                <a:latin typeface="Arial Unicode MS"/>
              </a:rPr>
              <a:t>el sistema e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7240"/>
                <a:tab algn="l" pos="1374840"/>
                <a:tab algn="l" pos="2062080"/>
                <a:tab algn="l" pos="2749680"/>
                <a:tab algn="l" pos="3436920"/>
                <a:tab algn="l" pos="4124160"/>
                <a:tab algn="l" pos="4811760"/>
                <a:tab algn="l" pos="5499000"/>
                <a:tab algn="l" pos="6186600"/>
                <a:tab algn="l" pos="6873840"/>
                <a:tab algn="l" pos="7561440"/>
                <a:tab algn="l" pos="8248680"/>
                <a:tab algn="l" pos="8935920"/>
                <a:tab algn="l" pos="9623520"/>
                <a:tab algn="l" pos="10310760"/>
              </a:tabLst>
            </a:pPr>
            <a:r>
              <a:rPr b="0" lang="es-ES_tradnl" sz="1700" spc="-1" strike="noStrike">
                <a:solidFill>
                  <a:srgbClr val="ff9933"/>
                </a:solidFill>
                <a:latin typeface="Arial Unicode MS"/>
              </a:rPr>
              <a:t>seguido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2135160" y="5168880"/>
            <a:ext cx="2097000" cy="412560"/>
            <a:chOff x="2135160" y="5168880"/>
            <a:chExt cx="2097000" cy="412560"/>
          </a:xfrm>
        </p:grpSpPr>
        <p:grpSp>
          <p:nvGrpSpPr>
            <p:cNvPr id="138" name=""/>
            <p:cNvGrpSpPr/>
            <p:nvPr/>
          </p:nvGrpSpPr>
          <p:grpSpPr>
            <a:xfrm>
              <a:off x="2467080" y="5168880"/>
              <a:ext cx="1765080" cy="398160"/>
              <a:chOff x="2467080" y="5168880"/>
              <a:chExt cx="1765080" cy="398160"/>
            </a:xfrm>
          </p:grpSpPr>
          <p:sp>
            <p:nvSpPr>
              <p:cNvPr id="139" name=""/>
              <p:cNvSpPr/>
              <p:nvPr/>
            </p:nvSpPr>
            <p:spPr>
              <a:xfrm>
                <a:off x="2467080" y="5567040"/>
                <a:ext cx="1765080" cy="0"/>
              </a:xfrm>
              <a:prstGeom prst="line">
                <a:avLst/>
              </a:prstGeom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616840" y="5168880"/>
                <a:ext cx="1597320" cy="298440"/>
              </a:xfrm>
              <a:prstGeom prst="rect">
                <a:avLst/>
              </a:prstGeom>
              <a:noFill/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9840" rIns="69840" tIns="34920" bIns="3492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39560"/>
                    <a:tab algn="l" pos="879480"/>
                    <a:tab algn="l" pos="1319040"/>
                    <a:tab algn="l" pos="1758960"/>
                    <a:tab algn="l" pos="2198520"/>
                    <a:tab algn="l" pos="2638440"/>
                    <a:tab algn="l" pos="3078000"/>
                    <a:tab algn="l" pos="3517920"/>
                    <a:tab algn="l" pos="3957480"/>
                    <a:tab algn="l" pos="4397400"/>
                    <a:tab algn="l" pos="4836960"/>
                    <a:tab algn="l" pos="5276880"/>
                    <a:tab algn="l" pos="5716440"/>
                    <a:tab algn="l" pos="6156360"/>
                    <a:tab algn="l" pos="6595920"/>
                    <a:tab algn="l" pos="7035840"/>
                    <a:tab algn="l" pos="7475400"/>
                    <a:tab algn="l" pos="7915320"/>
                    <a:tab algn="l" pos="8354880"/>
                    <a:tab algn="l" pos="8794800"/>
                  </a:tabLst>
                </a:pPr>
                <a:r>
                  <a:rPr b="0" lang="es-ES_tradnl" sz="1500" spc="-1" strike="noStrike">
                    <a:solidFill>
                      <a:srgbClr val="ffffff"/>
                    </a:solidFill>
                    <a:latin typeface="Arial Unicode MS"/>
                  </a:rPr>
                  <a:t>Formatos vacíos</a:t>
                </a:r>
                <a:endParaRPr b="0" lang="en-US" sz="15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2135160" y="5581440"/>
              <a:ext cx="26352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 flipH="1">
            <a:off x="1676160" y="5791320"/>
            <a:ext cx="533160" cy="0"/>
          </a:xfrm>
          <a:prstGeom prst="line">
            <a:avLst/>
          </a:prstGeom>
          <a:ln w="19080">
            <a:solidFill>
              <a:srgbClr val="ffe91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71640" y="5084640"/>
            <a:ext cx="2880000" cy="0"/>
          </a:xfrm>
          <a:prstGeom prst="line">
            <a:avLst/>
          </a:prstGeom>
          <a:ln w="12600">
            <a:solidFill>
              <a:srgbClr val="ffe9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516640"/>
            <a:ext cx="1800360" cy="0"/>
          </a:xfrm>
          <a:prstGeom prst="line">
            <a:avLst/>
          </a:prstGeom>
          <a:ln w="12600">
            <a:solidFill>
              <a:srgbClr val="ffe9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132000" y="4365720"/>
            <a:ext cx="2160720" cy="0"/>
          </a:xfrm>
          <a:prstGeom prst="line">
            <a:avLst/>
          </a:prstGeom>
          <a:ln w="12600">
            <a:solidFill>
              <a:srgbClr val="ffe9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789360"/>
            <a:ext cx="1584000" cy="0"/>
          </a:xfrm>
          <a:prstGeom prst="line">
            <a:avLst/>
          </a:prstGeom>
          <a:ln w="12600">
            <a:solidFill>
              <a:srgbClr val="ffe9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500"/>
                            </p:stCondLst>
                            <p:childTnLst>
                              <p:par>
                                <p:cTn id="68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7000"/>
                            </p:stCondLst>
                            <p:childTnLst>
                              <p:par>
                                <p:cTn id="72" nodeType="afterEffect" fill="hold" presetClass="entr" presetID="18" presetSubtype="1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5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4000"/>
                            </p:stCondLst>
                            <p:childTnLst>
                              <p:par>
                                <p:cTn id="80" nodeType="afterEffect" fill="hold" presetClass="entr" presetID="1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75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1000"/>
                            </p:stCondLst>
                            <p:childTnLst>
                              <p:par>
                                <p:cTn id="88" nodeType="afterEffect" fill="hold" presetClass="entr" presetID="1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45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80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15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85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20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55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490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25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60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50920" y="836640"/>
            <a:ext cx="3025800" cy="100872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e917"/>
                </a:solidFill>
                <a:latin typeface="Arial Unicode MS"/>
              </a:rPr>
              <a:t>Modelo del enfoq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e917"/>
                </a:solidFill>
                <a:latin typeface="Arial Unicode MS"/>
              </a:rPr>
              <a:t> </a:t>
            </a:r>
            <a:r>
              <a:rPr b="0" lang="es-ES_tradnl" sz="2000" spc="-1" strike="noStrike">
                <a:solidFill>
                  <a:srgbClr val="ffe917"/>
                </a:solidFill>
                <a:latin typeface="Arial Unicode MS"/>
              </a:rPr>
              <a:t>basado en los Proces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401240" y="1322280"/>
            <a:ext cx="378720" cy="3753000"/>
          </a:xfrm>
          <a:prstGeom prst="rect">
            <a:avLst/>
          </a:prstGeom>
          <a:solidFill>
            <a:srgbClr val="ffff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 Unicode MS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 Unicode MS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 Unicode MS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 Unicode MS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 Unicode MS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 Unicode MS"/>
              </a:rPr>
              <a:t>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 Unicode MS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 Unicode MS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 Unicode MS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 Unicode MS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 Unicode MS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 Unicode MS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46200" y="1776240"/>
            <a:ext cx="344520" cy="3753000"/>
          </a:xfrm>
          <a:prstGeom prst="rect">
            <a:avLst/>
          </a:prstGeom>
          <a:solidFill>
            <a:srgbClr val="ffff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 Unicode MS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 Unicode MS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 Unicode MS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 Unicode MS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 Unicode MS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 Unicode MS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 Unicode MS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 Unicode MS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3440" y="1965240"/>
            <a:ext cx="5159160" cy="42768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05360" y="2459160"/>
            <a:ext cx="2360160" cy="100872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 Unicode MS"/>
              </a:rPr>
              <a:t>5 Responsabil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 Unicode MS"/>
              </a:rPr>
              <a:t> </a:t>
            </a:r>
            <a:r>
              <a:rPr b="0" lang="es-ES_tradnl" sz="2000" spc="-1" strike="noStrike">
                <a:solidFill>
                  <a:srgbClr val="0000ff"/>
                </a:solidFill>
                <a:latin typeface="Arial Unicode MS"/>
              </a:rPr>
              <a:t>de l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 Unicode MS"/>
              </a:rPr>
              <a:t>Direc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71560" y="3713040"/>
            <a:ext cx="1677240" cy="703800"/>
          </a:xfrm>
          <a:prstGeom prst="rect">
            <a:avLst/>
          </a:prstGeom>
          <a:solidFill>
            <a:srgbClr val="66ff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 Unicode MS"/>
              </a:rPr>
              <a:t>6 Gestión 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 Unicode MS"/>
              </a:rPr>
              <a:t> </a:t>
            </a:r>
            <a:r>
              <a:rPr b="0" lang="es-ES_tradnl" sz="2000" spc="-1" strike="noStrike">
                <a:solidFill>
                  <a:srgbClr val="0000ff"/>
                </a:solidFill>
                <a:latin typeface="Arial Unicode MS"/>
              </a:rPr>
              <a:t>Recurs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381920" y="3684600"/>
            <a:ext cx="1555200" cy="1008720"/>
          </a:xfrm>
          <a:prstGeom prst="rect">
            <a:avLst/>
          </a:prstGeom>
          <a:solidFill>
            <a:srgbClr val="66ff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c600"/>
                </a:solidFill>
                <a:latin typeface="Arial Unicode MS"/>
              </a:rPr>
              <a:t>8 Medició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c600"/>
                </a:solidFill>
                <a:latin typeface="Arial Unicode MS"/>
              </a:rPr>
              <a:t> </a:t>
            </a:r>
            <a:r>
              <a:rPr b="0" lang="es-ES_tradnl" sz="2000" spc="-1" strike="noStrike">
                <a:solidFill>
                  <a:srgbClr val="00c600"/>
                </a:solidFill>
                <a:latin typeface="Arial Unicode MS"/>
              </a:rPr>
              <a:t>Análisis 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c600"/>
                </a:solidFill>
                <a:latin typeface="Arial Unicode MS"/>
              </a:rPr>
              <a:t> </a:t>
            </a:r>
            <a:r>
              <a:rPr b="0" lang="es-ES_tradnl" sz="2000" spc="-1" strike="noStrike">
                <a:solidFill>
                  <a:srgbClr val="00c600"/>
                </a:solidFill>
                <a:latin typeface="Arial Unicode MS"/>
              </a:rPr>
              <a:t>Mejo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12800" y="5430960"/>
            <a:ext cx="1119600" cy="39888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e917"/>
                </a:solidFill>
                <a:latin typeface="Arial Unicode MS"/>
              </a:rPr>
              <a:t>Entra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531040" y="5445000"/>
            <a:ext cx="1035720" cy="4597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e917"/>
                </a:solidFill>
                <a:latin typeface="Arial Unicode MS"/>
              </a:rPr>
              <a:t>Sali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70480" y="5940360"/>
            <a:ext cx="1949400" cy="378000"/>
          </a:xfrm>
          <a:prstGeom prst="rightArrow">
            <a:avLst>
              <a:gd name="adj1" fmla="val 50000"/>
              <a:gd name="adj2" fmla="val 128929"/>
            </a:avLst>
          </a:prstGeom>
          <a:solidFill>
            <a:srgbClr val="00c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32600" y="4111560"/>
            <a:ext cx="1068480" cy="378000"/>
          </a:xfrm>
          <a:prstGeom prst="leftArrow">
            <a:avLst>
              <a:gd name="adj1" fmla="val 50000"/>
              <a:gd name="adj2" fmla="val 70667"/>
            </a:avLst>
          </a:prstGeom>
          <a:gradFill rotWithShape="0">
            <a:gsLst>
              <a:gs pos="0">
                <a:srgbClr val="ff7c80"/>
              </a:gs>
              <a:gs pos="100000">
                <a:srgbClr val="75393b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03400" y="3470400"/>
            <a:ext cx="441360" cy="3143160"/>
          </a:xfrm>
          <a:prstGeom prst="rect">
            <a:avLst/>
          </a:prstGeom>
          <a:solidFill>
            <a:srgbClr val="ffff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 Unicode MS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 Unicode MS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 Unicode MS"/>
              </a:rPr>
              <a:t>Q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 Unicode MS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 Unicode MS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 Unicode MS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 Unicode MS"/>
              </a:rPr>
              <a:t>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03440" y="5927760"/>
            <a:ext cx="1573200" cy="314280"/>
          </a:xfrm>
          <a:prstGeom prst="rightArrow">
            <a:avLst>
              <a:gd name="adj1" fmla="val 50000"/>
              <a:gd name="adj2" fmla="val 125143"/>
            </a:avLst>
          </a:prstGeom>
          <a:solidFill>
            <a:srgbClr val="00c6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70480" y="6289560"/>
            <a:ext cx="1384200" cy="39888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e917"/>
                </a:solidFill>
                <a:latin typeface="Arial Unicode MS"/>
              </a:rPr>
              <a:t>Produc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885080" y="2444760"/>
            <a:ext cx="344520" cy="3448080"/>
          </a:xfrm>
          <a:prstGeom prst="rect">
            <a:avLst/>
          </a:prstGeom>
          <a:solidFill>
            <a:srgbClr val="ffff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 Unicode MS"/>
              </a:rPr>
              <a:t>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 Unicode MS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 Unicode MS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 Unicode MS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 Unicode MS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 Unicode MS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 Unicode MS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 Unicode MS"/>
              </a:rPr>
              <a:t>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987640" y="5616720"/>
            <a:ext cx="2265480" cy="1006200"/>
          </a:xfrm>
          <a:custGeom>
            <a:avLst/>
            <a:gdLst>
              <a:gd name="textAreaLeft" fmla="*/ 0 w 2265480"/>
              <a:gd name="textAreaRight" fmla="*/ 2265480 w 2265480"/>
              <a:gd name="textAreaTop" fmla="*/ 0 h 1006200"/>
              <a:gd name="textAreaBottom" fmla="*/ 1006560 h 100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50" y="0"/>
                </a:lnTo>
                <a:lnTo>
                  <a:pt x="21600" y="10800"/>
                </a:lnTo>
                <a:lnTo>
                  <a:pt x="18750" y="21600"/>
                </a:lnTo>
                <a:lnTo>
                  <a:pt x="0" y="21600"/>
                </a:lnTo>
                <a:lnTo>
                  <a:pt x="2850" y="108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c600"/>
                </a:solidFill>
                <a:latin typeface="HandelGothic BT"/>
              </a:rPr>
              <a:t>  </a:t>
            </a:r>
            <a:r>
              <a:rPr b="0" lang="es-ES_tradnl" sz="2000" spc="-1" strike="noStrike">
                <a:solidFill>
                  <a:srgbClr val="0000ff"/>
                </a:solidFill>
                <a:latin typeface="Arial Unicode MS"/>
              </a:rPr>
              <a:t>7 Realiz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ff"/>
                </a:solidFill>
                <a:latin typeface="Arial Unicode MS"/>
              </a:rPr>
              <a:t> </a:t>
            </a:r>
            <a:r>
              <a:rPr b="0" lang="es-ES_tradnl" sz="2000" spc="-1" strike="noStrike">
                <a:solidFill>
                  <a:srgbClr val="0000ff"/>
                </a:solidFill>
                <a:latin typeface="Arial Unicode MS"/>
              </a:rPr>
              <a:t>del Produc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70080" y="2719440"/>
            <a:ext cx="606600" cy="1003320"/>
          </a:xfrm>
          <a:custGeom>
            <a:avLst/>
            <a:gdLst>
              <a:gd name="textAreaLeft" fmla="*/ 81000 w 606600"/>
              <a:gd name="textAreaRight" fmla="*/ 525600 w 606600"/>
              <a:gd name="textAreaTop" fmla="*/ 175320 h 1003320"/>
              <a:gd name="textAreaBottom" fmla="*/ 727560 h 1003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95360" y="4413240"/>
            <a:ext cx="605160" cy="1003320"/>
          </a:xfrm>
          <a:custGeom>
            <a:avLst/>
            <a:gdLst>
              <a:gd name="textAreaLeft" fmla="*/ 81000 w 605160"/>
              <a:gd name="textAreaRight" fmla="*/ 524160 w 605160"/>
              <a:gd name="textAreaTop" fmla="*/ 175320 h 1003320"/>
              <a:gd name="textAreaBottom" fmla="*/ 727560 h 1003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5065560" y="4736520"/>
            <a:ext cx="457200" cy="819000"/>
          </a:xfrm>
          <a:custGeom>
            <a:avLst/>
            <a:gdLst>
              <a:gd name="textAreaLeft" fmla="*/ 61200 w 457200"/>
              <a:gd name="textAreaRight" fmla="*/ 396000 w 457200"/>
              <a:gd name="textAreaTop" fmla="*/ 142920 h 819000"/>
              <a:gd name="textAreaBottom" fmla="*/ 593640 h 81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5772240" y="2655720"/>
            <a:ext cx="588960" cy="819360"/>
          </a:xfrm>
          <a:custGeom>
            <a:avLst/>
            <a:gdLst>
              <a:gd name="textAreaLeft" fmla="*/ 78840 w 588960"/>
              <a:gd name="textAreaRight" fmla="*/ 510120 w 588960"/>
              <a:gd name="textAreaTop" fmla="*/ 143280 h 819360"/>
              <a:gd name="textAreaBottom" fmla="*/ 594000 h 819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384960" y="2949480"/>
            <a:ext cx="692280" cy="1006560"/>
          </a:xfrm>
          <a:custGeom>
            <a:avLst/>
            <a:gdLst>
              <a:gd name="textAreaLeft" fmla="*/ 230760 w 692280"/>
              <a:gd name="textAreaRight" fmla="*/ 592920 w 692280"/>
              <a:gd name="textAreaTop" fmla="*/ 660240 h 1006560"/>
              <a:gd name="textAreaBottom" fmla="*/ 862200 h 1006560"/>
            </a:gdLst>
            <a:ahLst/>
            <a:rect l="textAreaLeft" t="textAreaTop" r="textAreaRight" b="textAreaBottom"/>
            <a:pathLst>
              <a:path w="21600" h="21600">
                <a:moveTo>
                  <a:pt x="0" y="17270"/>
                </a:moveTo>
                <a:lnTo>
                  <a:pt x="14170" y="17270"/>
                </a:lnTo>
                <a:lnTo>
                  <a:pt x="14170" y="7200"/>
                </a:lnTo>
                <a:lnTo>
                  <a:pt x="11070" y="7200"/>
                </a:lnTo>
                <a:lnTo>
                  <a:pt x="16335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ccc00"/>
              </a:gs>
              <a:gs pos="50000">
                <a:srgbClr val="5e5e00"/>
              </a:gs>
              <a:gs pos="100000">
                <a:srgbClr val="cccc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761000" y="603360"/>
            <a:ext cx="2120760" cy="146556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Arial Unicode MS"/>
              </a:rPr>
              <a:t>Mejora Continua de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Arial Unicode MS"/>
              </a:rPr>
              <a:t>Sistema de  Gest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Arial Unicode MS"/>
              </a:rPr>
              <a:t>de Cal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62080" y="2050920"/>
            <a:ext cx="1762200" cy="378000"/>
          </a:xfrm>
          <a:prstGeom prst="leftArrow">
            <a:avLst>
              <a:gd name="adj1" fmla="val 50000"/>
              <a:gd name="adj2" fmla="val 116548"/>
            </a:avLst>
          </a:prstGeom>
          <a:gradFill rotWithShape="0">
            <a:gsLst>
              <a:gs pos="0">
                <a:srgbClr val="ff7c80"/>
              </a:gs>
              <a:gs pos="100000">
                <a:srgbClr val="75393b"/>
              </a:gs>
            </a:gsLst>
            <a:lin ang="5400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6437160" y="1944720"/>
            <a:ext cx="942840" cy="944640"/>
            <a:chOff x="6437160" y="1944720"/>
            <a:chExt cx="942840" cy="944640"/>
          </a:xfrm>
        </p:grpSpPr>
        <p:sp>
          <p:nvSpPr>
            <p:cNvPr id="171" name=""/>
            <p:cNvSpPr/>
            <p:nvPr/>
          </p:nvSpPr>
          <p:spPr>
            <a:xfrm>
              <a:off x="6437160" y="1944720"/>
              <a:ext cx="942840" cy="944640"/>
            </a:xfrm>
            <a:prstGeom prst="flowChartConnector">
              <a:avLst/>
            </a:prstGeom>
            <a:solidFill>
              <a:srgbClr val="0000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924600" y="1944720"/>
              <a:ext cx="1440" cy="944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437160" y="2416320"/>
              <a:ext cx="9428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 txBox="1"/>
            <p:nvPr/>
          </p:nvSpPr>
          <p:spPr>
            <a:xfrm rot="5400000">
              <a:off x="7026480" y="2094480"/>
              <a:ext cx="156960" cy="29844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80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Arial Black"/>
                </a:rPr>
                <a:t>P</a:t>
              </a:r>
              <a:endParaRPr b="0" i="1" lang="en-US" sz="2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175" name=""/>
            <p:cNvSpPr txBox="1"/>
            <p:nvPr/>
          </p:nvSpPr>
          <p:spPr>
            <a:xfrm rot="5400000">
              <a:off x="7042320" y="2440800"/>
              <a:ext cx="157320" cy="29844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80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Arial Black"/>
                </a:rPr>
                <a:t>E</a:t>
              </a:r>
              <a:endParaRPr b="0" i="1" lang="en-US" sz="2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176" name=""/>
            <p:cNvSpPr txBox="1"/>
            <p:nvPr/>
          </p:nvSpPr>
          <p:spPr>
            <a:xfrm rot="5400000">
              <a:off x="6632640" y="2440800"/>
              <a:ext cx="157320" cy="29844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80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Arial Black"/>
                </a:rPr>
                <a:t>R</a:t>
              </a:r>
              <a:endParaRPr b="0" i="1" lang="en-US" sz="2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177" name=""/>
            <p:cNvSpPr txBox="1"/>
            <p:nvPr/>
          </p:nvSpPr>
          <p:spPr>
            <a:xfrm rot="5400000">
              <a:off x="6600960" y="2094480"/>
              <a:ext cx="156960" cy="29844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80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Arial Black"/>
                </a:rPr>
                <a:t>A</a:t>
              </a:r>
              <a:endParaRPr b="0" i="1" lang="en-US" sz="2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7351560" y="5479920"/>
            <a:ext cx="758880" cy="758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9280" y="115920"/>
            <a:ext cx="59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SISTEMA DE GESTION DE LA CAL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752480" y="3352680"/>
            <a:ext cx="2667240" cy="182880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e9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328680" y="3962520"/>
            <a:ext cx="1274400" cy="102960"/>
            <a:chOff x="328680" y="3962520"/>
            <a:chExt cx="1274400" cy="102960"/>
          </a:xfrm>
        </p:grpSpPr>
        <p:sp>
          <p:nvSpPr>
            <p:cNvPr id="182" name=""/>
            <p:cNvSpPr/>
            <p:nvPr/>
          </p:nvSpPr>
          <p:spPr>
            <a:xfrm>
              <a:off x="328680" y="4003560"/>
              <a:ext cx="1157760" cy="20160"/>
            </a:xfrm>
            <a:prstGeom prst="rect">
              <a:avLst/>
            </a:prstGeom>
            <a:noFill/>
            <a:ln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481040" y="3962520"/>
              <a:ext cx="122040" cy="102960"/>
            </a:xfrm>
            <a:custGeom>
              <a:avLst/>
              <a:gdLst/>
              <a:ahLst/>
              <a:rect l="l" t="t" r="r" b="b"/>
              <a:pathLst>
                <a:path w="117" h="117">
                  <a:moveTo>
                    <a:pt x="0" y="117"/>
                  </a:moveTo>
                  <a:lnTo>
                    <a:pt x="117" y="57"/>
                  </a:lnTo>
                  <a:lnTo>
                    <a:pt x="0" y="0"/>
                  </a:lnTo>
                  <a:lnTo>
                    <a:pt x="0" y="117"/>
                  </a:lnTo>
                  <a:close/>
                </a:path>
              </a:pathLst>
            </a:custGeom>
            <a:noFill/>
            <a:ln w="2844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990720" y="1295280"/>
            <a:ext cx="3962160" cy="1925280"/>
            <a:chOff x="990720" y="1295280"/>
            <a:chExt cx="3962160" cy="1925280"/>
          </a:xfrm>
        </p:grpSpPr>
        <p:grpSp>
          <p:nvGrpSpPr>
            <p:cNvPr id="185" name=""/>
            <p:cNvGrpSpPr/>
            <p:nvPr/>
          </p:nvGrpSpPr>
          <p:grpSpPr>
            <a:xfrm>
              <a:off x="990720" y="1295280"/>
              <a:ext cx="3962160" cy="1462680"/>
              <a:chOff x="990720" y="1295280"/>
              <a:chExt cx="3962160" cy="1462680"/>
            </a:xfrm>
          </p:grpSpPr>
          <p:sp>
            <p:nvSpPr>
              <p:cNvPr id="186" name=""/>
              <p:cNvSpPr/>
              <p:nvPr/>
            </p:nvSpPr>
            <p:spPr>
              <a:xfrm>
                <a:off x="1868040" y="1295280"/>
                <a:ext cx="201996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cc00"/>
                    </a:solidFill>
                    <a:latin typeface="Arial"/>
                    <a:ea typeface="Arial"/>
                  </a:rPr>
                  <a:t>PROCEDIMIENTO*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990720" y="1660320"/>
                <a:ext cx="3962160" cy="10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00"/>
                    </a:solidFill>
                    <a:latin typeface="Arial"/>
                    <a:ea typeface="Arial"/>
                  </a:rPr>
                  <a:t>(“Forma especifica para llevar a cabo una actividad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00"/>
                    </a:solidFill>
                    <a:latin typeface="Arial"/>
                    <a:ea typeface="Arial"/>
                  </a:rPr>
                  <a:t>o un proceso” - Puede estar documentado o no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2895480" y="2742840"/>
              <a:ext cx="121680" cy="477720"/>
              <a:chOff x="2895480" y="2742840"/>
              <a:chExt cx="121680" cy="477720"/>
            </a:xfrm>
          </p:grpSpPr>
          <p:sp>
            <p:nvSpPr>
              <p:cNvPr id="189" name=""/>
              <p:cNvSpPr/>
              <p:nvPr/>
            </p:nvSpPr>
            <p:spPr>
              <a:xfrm>
                <a:off x="2944080" y="2742840"/>
                <a:ext cx="23760" cy="380520"/>
              </a:xfrm>
              <a:prstGeom prst="rect">
                <a:avLst/>
              </a:prstGeom>
              <a:solidFill>
                <a:srgbClr val="ffcc66"/>
              </a:solidFill>
              <a:ln w="2844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895480" y="3119040"/>
                <a:ext cx="121680" cy="101520"/>
              </a:xfrm>
              <a:custGeom>
                <a:avLst/>
                <a:gdLst/>
                <a:ahLst/>
                <a:rect l="l" t="t" r="r" b="b"/>
                <a:pathLst>
                  <a:path w="117" h="115">
                    <a:moveTo>
                      <a:pt x="0" y="0"/>
                    </a:moveTo>
                    <a:lnTo>
                      <a:pt x="57" y="115"/>
                    </a:lnTo>
                    <a:lnTo>
                      <a:pt x="11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66"/>
              </a:solidFill>
              <a:ln w="2844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91" name=""/>
          <p:cNvGrpSpPr/>
          <p:nvPr/>
        </p:nvGrpSpPr>
        <p:grpSpPr>
          <a:xfrm>
            <a:off x="4419720" y="3727440"/>
            <a:ext cx="3429000" cy="615960"/>
            <a:chOff x="4419720" y="3727440"/>
            <a:chExt cx="3429000" cy="615960"/>
          </a:xfrm>
        </p:grpSpPr>
        <p:grpSp>
          <p:nvGrpSpPr>
            <p:cNvPr id="192" name=""/>
            <p:cNvGrpSpPr/>
            <p:nvPr/>
          </p:nvGrpSpPr>
          <p:grpSpPr>
            <a:xfrm>
              <a:off x="4419720" y="3935520"/>
              <a:ext cx="1066680" cy="103320"/>
              <a:chOff x="4419720" y="3935520"/>
              <a:chExt cx="1066680" cy="103320"/>
            </a:xfrm>
          </p:grpSpPr>
          <p:sp>
            <p:nvSpPr>
              <p:cNvPr id="193" name=""/>
              <p:cNvSpPr/>
              <p:nvPr/>
            </p:nvSpPr>
            <p:spPr>
              <a:xfrm>
                <a:off x="4419720" y="3976920"/>
                <a:ext cx="951480" cy="20160"/>
              </a:xfrm>
              <a:prstGeom prst="rect">
                <a:avLst/>
              </a:prstGeom>
              <a:solidFill>
                <a:srgbClr val="ffcc66"/>
              </a:solidFill>
              <a:ln w="1908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366160" y="3935520"/>
                <a:ext cx="120240" cy="103320"/>
              </a:xfrm>
              <a:custGeom>
                <a:avLst/>
                <a:gdLst/>
                <a:ahLst/>
                <a:rect l="l" t="t" r="r" b="b"/>
                <a:pathLst>
                  <a:path w="115" h="117">
                    <a:moveTo>
                      <a:pt x="0" y="117"/>
                    </a:moveTo>
                    <a:lnTo>
                      <a:pt x="115" y="57"/>
                    </a:lnTo>
                    <a:lnTo>
                      <a:pt x="0" y="0"/>
                    </a:lnTo>
                    <a:lnTo>
                      <a:pt x="0" y="117"/>
                    </a:lnTo>
                    <a:close/>
                  </a:path>
                </a:pathLst>
              </a:custGeom>
              <a:solidFill>
                <a:srgbClr val="ffcc66"/>
              </a:solidFill>
              <a:ln w="1908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5257800" y="3727440"/>
              <a:ext cx="2590920" cy="615960"/>
              <a:chOff x="5257800" y="3727440"/>
              <a:chExt cx="2590920" cy="615960"/>
            </a:xfrm>
          </p:grpSpPr>
          <p:sp>
            <p:nvSpPr>
              <p:cNvPr id="196" name=""/>
              <p:cNvSpPr/>
              <p:nvPr/>
            </p:nvSpPr>
            <p:spPr>
              <a:xfrm>
                <a:off x="5602320" y="3727440"/>
                <a:ext cx="1308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c600"/>
                    </a:solidFill>
                    <a:latin typeface="Arial"/>
                    <a:ea typeface="Arial"/>
                  </a:rPr>
                  <a:t>PRODUCTO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257800" y="4068720"/>
                <a:ext cx="25909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(“Resultado del proceso)”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98" name=""/>
          <p:cNvGrpSpPr/>
          <p:nvPr/>
        </p:nvGrpSpPr>
        <p:grpSpPr>
          <a:xfrm>
            <a:off x="936720" y="5207040"/>
            <a:ext cx="4047120" cy="1270080"/>
            <a:chOff x="936720" y="5207040"/>
            <a:chExt cx="4047120" cy="1270080"/>
          </a:xfrm>
        </p:grpSpPr>
        <p:sp>
          <p:nvSpPr>
            <p:cNvPr id="199" name=""/>
            <p:cNvSpPr/>
            <p:nvPr/>
          </p:nvSpPr>
          <p:spPr>
            <a:xfrm>
              <a:off x="1190520" y="5207040"/>
              <a:ext cx="3668400" cy="279360"/>
            </a:xfrm>
            <a:custGeom>
              <a:avLst/>
              <a:gdLst/>
              <a:ahLst/>
              <a:rect l="l" t="t" r="r" b="b"/>
              <a:pathLst>
                <a:path w="3510" h="315">
                  <a:moveTo>
                    <a:pt x="3510" y="0"/>
                  </a:moveTo>
                  <a:lnTo>
                    <a:pt x="3480" y="0"/>
                  </a:lnTo>
                  <a:lnTo>
                    <a:pt x="3478" y="15"/>
                  </a:lnTo>
                  <a:lnTo>
                    <a:pt x="3475" y="30"/>
                  </a:lnTo>
                  <a:lnTo>
                    <a:pt x="3490" y="30"/>
                  </a:lnTo>
                  <a:lnTo>
                    <a:pt x="3478" y="20"/>
                  </a:lnTo>
                  <a:lnTo>
                    <a:pt x="3470" y="33"/>
                  </a:lnTo>
                  <a:lnTo>
                    <a:pt x="3460" y="48"/>
                  </a:lnTo>
                  <a:lnTo>
                    <a:pt x="3435" y="73"/>
                  </a:lnTo>
                  <a:lnTo>
                    <a:pt x="3445" y="85"/>
                  </a:lnTo>
                  <a:lnTo>
                    <a:pt x="3440" y="70"/>
                  </a:lnTo>
                  <a:lnTo>
                    <a:pt x="3405" y="93"/>
                  </a:lnTo>
                  <a:lnTo>
                    <a:pt x="3360" y="110"/>
                  </a:lnTo>
                  <a:lnTo>
                    <a:pt x="3313" y="125"/>
                  </a:lnTo>
                  <a:lnTo>
                    <a:pt x="3318" y="138"/>
                  </a:lnTo>
                  <a:lnTo>
                    <a:pt x="3318" y="123"/>
                  </a:lnTo>
                  <a:lnTo>
                    <a:pt x="3263" y="133"/>
                  </a:lnTo>
                  <a:lnTo>
                    <a:pt x="3205" y="135"/>
                  </a:lnTo>
                  <a:lnTo>
                    <a:pt x="1985" y="135"/>
                  </a:lnTo>
                  <a:lnTo>
                    <a:pt x="1928" y="138"/>
                  </a:lnTo>
                  <a:lnTo>
                    <a:pt x="1873" y="148"/>
                  </a:lnTo>
                  <a:lnTo>
                    <a:pt x="1865" y="148"/>
                  </a:lnTo>
                  <a:lnTo>
                    <a:pt x="1818" y="163"/>
                  </a:lnTo>
                  <a:lnTo>
                    <a:pt x="1775" y="180"/>
                  </a:lnTo>
                  <a:lnTo>
                    <a:pt x="1738" y="203"/>
                  </a:lnTo>
                  <a:lnTo>
                    <a:pt x="1733" y="205"/>
                  </a:lnTo>
                  <a:lnTo>
                    <a:pt x="1708" y="230"/>
                  </a:lnTo>
                  <a:lnTo>
                    <a:pt x="1698" y="245"/>
                  </a:lnTo>
                  <a:lnTo>
                    <a:pt x="1690" y="258"/>
                  </a:lnTo>
                  <a:lnTo>
                    <a:pt x="1685" y="270"/>
                  </a:lnTo>
                  <a:lnTo>
                    <a:pt x="1683" y="285"/>
                  </a:lnTo>
                  <a:lnTo>
                    <a:pt x="1680" y="300"/>
                  </a:lnTo>
                  <a:lnTo>
                    <a:pt x="1680" y="300"/>
                  </a:lnTo>
                  <a:lnTo>
                    <a:pt x="1685" y="310"/>
                  </a:lnTo>
                  <a:lnTo>
                    <a:pt x="1690" y="313"/>
                  </a:lnTo>
                  <a:lnTo>
                    <a:pt x="1695" y="315"/>
                  </a:lnTo>
                  <a:lnTo>
                    <a:pt x="1700" y="313"/>
                  </a:lnTo>
                  <a:lnTo>
                    <a:pt x="1705" y="310"/>
                  </a:lnTo>
                  <a:lnTo>
                    <a:pt x="1710" y="300"/>
                  </a:lnTo>
                  <a:lnTo>
                    <a:pt x="1708" y="285"/>
                  </a:lnTo>
                  <a:lnTo>
                    <a:pt x="1705" y="270"/>
                  </a:lnTo>
                  <a:lnTo>
                    <a:pt x="1700" y="258"/>
                  </a:lnTo>
                  <a:lnTo>
                    <a:pt x="1693" y="245"/>
                  </a:lnTo>
                  <a:lnTo>
                    <a:pt x="1683" y="230"/>
                  </a:lnTo>
                  <a:lnTo>
                    <a:pt x="1658" y="205"/>
                  </a:lnTo>
                  <a:lnTo>
                    <a:pt x="1653" y="203"/>
                  </a:lnTo>
                  <a:lnTo>
                    <a:pt x="1618" y="180"/>
                  </a:lnTo>
                  <a:lnTo>
                    <a:pt x="1573" y="163"/>
                  </a:lnTo>
                  <a:lnTo>
                    <a:pt x="1525" y="148"/>
                  </a:lnTo>
                  <a:lnTo>
                    <a:pt x="1518" y="148"/>
                  </a:lnTo>
                  <a:lnTo>
                    <a:pt x="1463" y="138"/>
                  </a:lnTo>
                  <a:lnTo>
                    <a:pt x="1405" y="135"/>
                  </a:lnTo>
                  <a:lnTo>
                    <a:pt x="305" y="135"/>
                  </a:lnTo>
                  <a:lnTo>
                    <a:pt x="248" y="133"/>
                  </a:lnTo>
                  <a:lnTo>
                    <a:pt x="193" y="123"/>
                  </a:lnTo>
                  <a:lnTo>
                    <a:pt x="193" y="138"/>
                  </a:lnTo>
                  <a:lnTo>
                    <a:pt x="198" y="125"/>
                  </a:lnTo>
                  <a:lnTo>
                    <a:pt x="150" y="110"/>
                  </a:lnTo>
                  <a:lnTo>
                    <a:pt x="108" y="93"/>
                  </a:lnTo>
                  <a:lnTo>
                    <a:pt x="70" y="70"/>
                  </a:lnTo>
                  <a:lnTo>
                    <a:pt x="65" y="85"/>
                  </a:lnTo>
                  <a:lnTo>
                    <a:pt x="75" y="73"/>
                  </a:lnTo>
                  <a:lnTo>
                    <a:pt x="50" y="48"/>
                  </a:lnTo>
                  <a:lnTo>
                    <a:pt x="40" y="33"/>
                  </a:lnTo>
                  <a:lnTo>
                    <a:pt x="33" y="20"/>
                  </a:lnTo>
                  <a:lnTo>
                    <a:pt x="20" y="30"/>
                  </a:lnTo>
                  <a:lnTo>
                    <a:pt x="35" y="30"/>
                  </a:lnTo>
                  <a:lnTo>
                    <a:pt x="33" y="15"/>
                  </a:lnTo>
                  <a:lnTo>
                    <a:pt x="30" y="0"/>
                  </a:lnTo>
                  <a:lnTo>
                    <a:pt x="0" y="0"/>
                  </a:lnTo>
                  <a:lnTo>
                    <a:pt x="3" y="15"/>
                  </a:lnTo>
                  <a:lnTo>
                    <a:pt x="5" y="30"/>
                  </a:lnTo>
                  <a:lnTo>
                    <a:pt x="10" y="43"/>
                  </a:lnTo>
                  <a:lnTo>
                    <a:pt x="18" y="55"/>
                  </a:lnTo>
                  <a:lnTo>
                    <a:pt x="28" y="70"/>
                  </a:lnTo>
                  <a:lnTo>
                    <a:pt x="53" y="95"/>
                  </a:lnTo>
                  <a:lnTo>
                    <a:pt x="58" y="98"/>
                  </a:lnTo>
                  <a:lnTo>
                    <a:pt x="95" y="120"/>
                  </a:lnTo>
                  <a:lnTo>
                    <a:pt x="138" y="138"/>
                  </a:lnTo>
                  <a:lnTo>
                    <a:pt x="185" y="153"/>
                  </a:lnTo>
                  <a:lnTo>
                    <a:pt x="193" y="153"/>
                  </a:lnTo>
                  <a:lnTo>
                    <a:pt x="248" y="163"/>
                  </a:lnTo>
                  <a:lnTo>
                    <a:pt x="305" y="165"/>
                  </a:lnTo>
                  <a:lnTo>
                    <a:pt x="1405" y="165"/>
                  </a:lnTo>
                  <a:lnTo>
                    <a:pt x="1463" y="168"/>
                  </a:lnTo>
                  <a:lnTo>
                    <a:pt x="1518" y="178"/>
                  </a:lnTo>
                  <a:lnTo>
                    <a:pt x="1518" y="163"/>
                  </a:lnTo>
                  <a:lnTo>
                    <a:pt x="1513" y="175"/>
                  </a:lnTo>
                  <a:lnTo>
                    <a:pt x="1560" y="190"/>
                  </a:lnTo>
                  <a:lnTo>
                    <a:pt x="1605" y="208"/>
                  </a:lnTo>
                  <a:lnTo>
                    <a:pt x="1640" y="230"/>
                  </a:lnTo>
                  <a:lnTo>
                    <a:pt x="1645" y="218"/>
                  </a:lnTo>
                  <a:lnTo>
                    <a:pt x="1635" y="228"/>
                  </a:lnTo>
                  <a:lnTo>
                    <a:pt x="1660" y="253"/>
                  </a:lnTo>
                  <a:lnTo>
                    <a:pt x="1670" y="268"/>
                  </a:lnTo>
                  <a:lnTo>
                    <a:pt x="1678" y="280"/>
                  </a:lnTo>
                  <a:lnTo>
                    <a:pt x="1690" y="270"/>
                  </a:lnTo>
                  <a:lnTo>
                    <a:pt x="1675" y="270"/>
                  </a:lnTo>
                  <a:lnTo>
                    <a:pt x="1678" y="285"/>
                  </a:lnTo>
                  <a:lnTo>
                    <a:pt x="1680" y="300"/>
                  </a:lnTo>
                  <a:lnTo>
                    <a:pt x="1710" y="300"/>
                  </a:lnTo>
                  <a:lnTo>
                    <a:pt x="1705" y="290"/>
                  </a:lnTo>
                  <a:lnTo>
                    <a:pt x="1700" y="288"/>
                  </a:lnTo>
                  <a:lnTo>
                    <a:pt x="1695" y="285"/>
                  </a:lnTo>
                  <a:lnTo>
                    <a:pt x="1690" y="288"/>
                  </a:lnTo>
                  <a:lnTo>
                    <a:pt x="1685" y="290"/>
                  </a:lnTo>
                  <a:lnTo>
                    <a:pt x="1680" y="300"/>
                  </a:lnTo>
                  <a:lnTo>
                    <a:pt x="1695" y="300"/>
                  </a:lnTo>
                  <a:lnTo>
                    <a:pt x="1710" y="300"/>
                  </a:lnTo>
                  <a:lnTo>
                    <a:pt x="1713" y="285"/>
                  </a:lnTo>
                  <a:lnTo>
                    <a:pt x="1715" y="270"/>
                  </a:lnTo>
                  <a:lnTo>
                    <a:pt x="1700" y="270"/>
                  </a:lnTo>
                  <a:lnTo>
                    <a:pt x="1713" y="280"/>
                  </a:lnTo>
                  <a:lnTo>
                    <a:pt x="1720" y="268"/>
                  </a:lnTo>
                  <a:lnTo>
                    <a:pt x="1730" y="253"/>
                  </a:lnTo>
                  <a:lnTo>
                    <a:pt x="1755" y="228"/>
                  </a:lnTo>
                  <a:lnTo>
                    <a:pt x="1745" y="218"/>
                  </a:lnTo>
                  <a:lnTo>
                    <a:pt x="1750" y="230"/>
                  </a:lnTo>
                  <a:lnTo>
                    <a:pt x="1788" y="208"/>
                  </a:lnTo>
                  <a:lnTo>
                    <a:pt x="1830" y="190"/>
                  </a:lnTo>
                  <a:lnTo>
                    <a:pt x="1878" y="175"/>
                  </a:lnTo>
                  <a:lnTo>
                    <a:pt x="1873" y="163"/>
                  </a:lnTo>
                  <a:lnTo>
                    <a:pt x="1873" y="178"/>
                  </a:lnTo>
                  <a:lnTo>
                    <a:pt x="1928" y="168"/>
                  </a:lnTo>
                  <a:lnTo>
                    <a:pt x="1985" y="165"/>
                  </a:lnTo>
                  <a:lnTo>
                    <a:pt x="3205" y="165"/>
                  </a:lnTo>
                  <a:lnTo>
                    <a:pt x="3263" y="163"/>
                  </a:lnTo>
                  <a:lnTo>
                    <a:pt x="3318" y="153"/>
                  </a:lnTo>
                  <a:lnTo>
                    <a:pt x="3325" y="153"/>
                  </a:lnTo>
                  <a:lnTo>
                    <a:pt x="3373" y="138"/>
                  </a:lnTo>
                  <a:lnTo>
                    <a:pt x="3418" y="120"/>
                  </a:lnTo>
                  <a:lnTo>
                    <a:pt x="3453" y="98"/>
                  </a:lnTo>
                  <a:lnTo>
                    <a:pt x="3458" y="95"/>
                  </a:lnTo>
                  <a:lnTo>
                    <a:pt x="3483" y="70"/>
                  </a:lnTo>
                  <a:lnTo>
                    <a:pt x="3493" y="55"/>
                  </a:lnTo>
                  <a:lnTo>
                    <a:pt x="3500" y="43"/>
                  </a:lnTo>
                  <a:lnTo>
                    <a:pt x="3505" y="30"/>
                  </a:lnTo>
                  <a:lnTo>
                    <a:pt x="3505" y="30"/>
                  </a:lnTo>
                  <a:lnTo>
                    <a:pt x="3508" y="15"/>
                  </a:lnTo>
                  <a:lnTo>
                    <a:pt x="3510" y="0"/>
                  </a:lnTo>
                  <a:close/>
                </a:path>
              </a:pathLst>
            </a:custGeom>
            <a:noFill/>
            <a:ln w="28440">
              <a:solidFill>
                <a:srgbClr val="00c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936720" y="5538960"/>
              <a:ext cx="4047120" cy="938160"/>
              <a:chOff x="936720" y="5538960"/>
              <a:chExt cx="4047120" cy="938160"/>
            </a:xfrm>
          </p:grpSpPr>
          <p:sp>
            <p:nvSpPr>
              <p:cNvPr id="201" name=""/>
              <p:cNvSpPr/>
              <p:nvPr/>
            </p:nvSpPr>
            <p:spPr>
              <a:xfrm>
                <a:off x="2119680" y="5538960"/>
                <a:ext cx="160236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00"/>
                    </a:solidFill>
                    <a:latin typeface="Arial"/>
                    <a:ea typeface="Arial"/>
                  </a:rPr>
                  <a:t>MEDICIÓN Y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00"/>
                    </a:solidFill>
                    <a:latin typeface="Arial"/>
                    <a:ea typeface="Arial"/>
                  </a:rPr>
                  <a:t>SEGUIMIENTO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936720" y="6202440"/>
                <a:ext cx="40471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(Antes, durante y después del  proceso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3" name=""/>
          <p:cNvSpPr/>
          <p:nvPr/>
        </p:nvSpPr>
        <p:spPr>
          <a:xfrm>
            <a:off x="4571640" y="3581280"/>
            <a:ext cx="67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al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57280" y="3646440"/>
            <a:ext cx="851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ntra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19320" y="3471840"/>
            <a:ext cx="17892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905120" y="3516480"/>
            <a:ext cx="2286000" cy="1464480"/>
            <a:chOff x="1905120" y="3516480"/>
            <a:chExt cx="2286000" cy="1464480"/>
          </a:xfrm>
        </p:grpSpPr>
        <p:sp>
          <p:nvSpPr>
            <p:cNvPr id="207" name=""/>
            <p:cNvSpPr/>
            <p:nvPr/>
          </p:nvSpPr>
          <p:spPr>
            <a:xfrm>
              <a:off x="2192760" y="3516480"/>
              <a:ext cx="15231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OCES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905120" y="3883320"/>
              <a:ext cx="22860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600"/>
                  </a:solidFill>
                  <a:latin typeface="Arial"/>
                  <a:ea typeface="Arial"/>
                </a:rPr>
                <a:t>(“Conjunto de actividad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600"/>
                  </a:solidFill>
                  <a:latin typeface="Arial"/>
                  <a:ea typeface="Arial"/>
                </a:rPr>
                <a:t>relacionadas o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600"/>
                  </a:solidFill>
                  <a:latin typeface="Arial"/>
                  <a:ea typeface="Arial"/>
                </a:rPr>
                <a:t>interactúan”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457920" y="4038480"/>
            <a:ext cx="10400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(Incluy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curs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2600" y="533520"/>
            <a:ext cx="417168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eb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e917"/>
                </a:solidFill>
                <a:latin typeface="Arial Unicode MS"/>
              </a:rPr>
              <a:t>Enfoque de Proces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843800" y="4572000"/>
            <a:ext cx="3418920" cy="1828800"/>
            <a:chOff x="4843800" y="4572000"/>
            <a:chExt cx="3418920" cy="1828800"/>
          </a:xfrm>
        </p:grpSpPr>
        <p:sp>
          <p:nvSpPr>
            <p:cNvPr id="212" name=""/>
            <p:cNvSpPr/>
            <p:nvPr/>
          </p:nvSpPr>
          <p:spPr>
            <a:xfrm>
              <a:off x="4876560" y="4572000"/>
              <a:ext cx="3276720" cy="182880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843800" y="5257800"/>
              <a:ext cx="3418920" cy="10976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ccff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ff"/>
                  </a:solidFill>
                  <a:latin typeface="Arial"/>
                  <a:ea typeface="Arial"/>
                </a:rPr>
                <a:t>Los resultados alcanzados VS.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ff"/>
                  </a:solidFill>
                  <a:latin typeface="Arial"/>
                  <a:ea typeface="Arial"/>
                </a:rPr>
                <a:t>recursos utilizad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ff"/>
                  </a:solidFill>
                  <a:latin typeface="Arial"/>
                  <a:ea typeface="Arial"/>
                </a:rPr>
                <a:t>(Enfoque de IS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ff"/>
                  </a:solidFill>
                  <a:latin typeface="Arial"/>
                  <a:ea typeface="Arial"/>
                </a:rPr>
                <a:t>9004:2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410080" y="4724640"/>
              <a:ext cx="2359080" cy="54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ccff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10199"/>
                  </a:solidFill>
                  <a:latin typeface="Arial"/>
                  <a:ea typeface="Arial"/>
                </a:rPr>
                <a:t>EFICIENCIA DE PROCESO  =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5181480" y="914400"/>
            <a:ext cx="2590560" cy="2666880"/>
            <a:chOff x="5181480" y="914400"/>
            <a:chExt cx="2590560" cy="2666880"/>
          </a:xfrm>
        </p:grpSpPr>
        <p:grpSp>
          <p:nvGrpSpPr>
            <p:cNvPr id="216" name=""/>
            <p:cNvGrpSpPr/>
            <p:nvPr/>
          </p:nvGrpSpPr>
          <p:grpSpPr>
            <a:xfrm>
              <a:off x="5181480" y="914400"/>
              <a:ext cx="2590560" cy="2666880"/>
              <a:chOff x="5181480" y="914400"/>
              <a:chExt cx="2590560" cy="2666880"/>
            </a:xfrm>
          </p:grpSpPr>
          <p:sp>
            <p:nvSpPr>
              <p:cNvPr id="217" name=""/>
              <p:cNvSpPr/>
              <p:nvPr/>
            </p:nvSpPr>
            <p:spPr>
              <a:xfrm>
                <a:off x="5181480" y="914400"/>
                <a:ext cx="2590560" cy="2666880"/>
              </a:xfrm>
              <a:prstGeom prst="ellipse">
                <a:avLst/>
              </a:prstGeom>
              <a:solidFill>
                <a:srgbClr val="ffcc66"/>
              </a:solidFill>
              <a:ln w="9360">
                <a:solidFill>
                  <a:srgbClr val="ffeb8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30680" y="1676160"/>
                <a:ext cx="1886040" cy="1646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ccff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99ff"/>
                    </a:solidFill>
                    <a:latin typeface="Arial"/>
                    <a:ea typeface="Arial"/>
                  </a:rPr>
                  <a:t>Habilidad para alcanzar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99ff"/>
                    </a:solidFill>
                    <a:latin typeface="Arial"/>
                    <a:ea typeface="Arial"/>
                  </a:rPr>
                  <a:t>los resultados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99ff"/>
                    </a:solidFill>
                    <a:latin typeface="Arial"/>
                    <a:ea typeface="Arial"/>
                  </a:rPr>
                  <a:t> </a:t>
                </a:r>
                <a:r>
                  <a:rPr b="1" lang="en-US" sz="1800" spc="-1" strike="noStrike">
                    <a:solidFill>
                      <a:srgbClr val="6699ff"/>
                    </a:solidFill>
                    <a:latin typeface="Arial"/>
                    <a:ea typeface="Arial"/>
                  </a:rPr>
                  <a:t>deseados (Enfoque de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99ff"/>
                    </a:solidFill>
                    <a:latin typeface="Arial"/>
                    <a:ea typeface="Arial"/>
                  </a:rPr>
                  <a:t> </a:t>
                </a:r>
                <a:r>
                  <a:rPr b="1" lang="en-US" sz="1800" spc="-1" strike="noStrike">
                    <a:solidFill>
                      <a:srgbClr val="6699ff"/>
                    </a:solidFill>
                    <a:latin typeface="Arial"/>
                    <a:ea typeface="Arial"/>
                  </a:rPr>
                  <a:t>ISO 9001:200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9" name=""/>
            <p:cNvSpPr/>
            <p:nvPr/>
          </p:nvSpPr>
          <p:spPr>
            <a:xfrm>
              <a:off x="5379840" y="1066680"/>
              <a:ext cx="2239920" cy="54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ccff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10199"/>
                  </a:solidFill>
                  <a:latin typeface="Arial"/>
                  <a:ea typeface="Arial"/>
                </a:rPr>
                <a:t>EFICACIA DE PROCESO  =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5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75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2500"/>
                            </p:stCondLst>
                            <p:childTnLst>
                              <p:par>
                                <p:cTn id="29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5000"/>
                            </p:stCondLst>
                            <p:childTnLst>
                              <p:par>
                                <p:cTn id="29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7500"/>
                            </p:stCondLst>
                            <p:childTnLst>
                              <p:par>
                                <p:cTn id="30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0"/>
                            </p:stCondLst>
                            <p:childTnLst>
                              <p:par>
                                <p:cTn id="30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2500"/>
                            </p:stCondLst>
                            <p:childTnLst>
                              <p:par>
                                <p:cTn id="31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0"/>
                            </p:stCondLst>
                            <p:childTnLst>
                              <p:par>
                                <p:cTn id="31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7500"/>
                            </p:stCondLst>
                            <p:childTnLst>
                              <p:par>
                                <p:cTn id="319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22080" y="2438280"/>
            <a:ext cx="433800" cy="3521880"/>
          </a:xfrm>
          <a:prstGeom prst="rect">
            <a:avLst/>
          </a:prstGeom>
          <a:noFill/>
          <a:ln w="1908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ffe917"/>
                </a:solidFill>
                <a:latin typeface="Swis721 BT"/>
              </a:rPr>
              <a:t>P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ffe917"/>
                </a:solidFill>
                <a:latin typeface="Swis721 BT"/>
              </a:rPr>
              <a:t>R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ffe917"/>
                </a:solidFill>
                <a:latin typeface="Swis721 BT"/>
              </a:rPr>
              <a:t>O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ffe917"/>
                </a:solidFill>
                <a:latin typeface="Swis721 BT"/>
              </a:rPr>
              <a:t>V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ffe917"/>
                </a:solidFill>
                <a:latin typeface="Swis721 BT"/>
              </a:rPr>
              <a:t>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ffe917"/>
                </a:solidFill>
                <a:latin typeface="Swis721 BT"/>
              </a:rPr>
              <a:t>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ffe917"/>
                </a:solidFill>
                <a:latin typeface="Swis721 BT"/>
              </a:rPr>
              <a:t>D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ffe917"/>
                </a:solidFill>
                <a:latin typeface="Swis721 BT"/>
              </a:rPr>
              <a:t>O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ffe917"/>
                </a:solidFill>
                <a:latin typeface="Swis721 BT"/>
              </a:rPr>
              <a:t>R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561440" y="2743200"/>
            <a:ext cx="438120" cy="2760120"/>
          </a:xfrm>
          <a:prstGeom prst="rect">
            <a:avLst/>
          </a:prstGeom>
          <a:noFill/>
          <a:ln w="1908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ffe917"/>
                </a:solidFill>
                <a:latin typeface="Swis721 BT"/>
              </a:rPr>
              <a:t>C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ffe917"/>
                </a:solidFill>
                <a:latin typeface="Swis721 BT"/>
              </a:rPr>
              <a:t>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ffe917"/>
                </a:solidFill>
                <a:latin typeface="Swis721 BT"/>
              </a:rPr>
              <a:t>I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ffe917"/>
                </a:solidFill>
                <a:latin typeface="Swis721 BT"/>
              </a:rPr>
              <a:t>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ffe917"/>
                </a:solidFill>
                <a:latin typeface="Swis721 BT"/>
              </a:rPr>
              <a:t>N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ffe917"/>
                </a:solidFill>
                <a:latin typeface="Swis721 BT"/>
              </a:rPr>
              <a:t>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ffe917"/>
                </a:solidFill>
                <a:latin typeface="Swis721 BT"/>
              </a:rPr>
              <a:t>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95280" y="2209680"/>
            <a:ext cx="5943600" cy="4038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e9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914480" y="5241960"/>
            <a:ext cx="4724280" cy="398880"/>
            <a:chOff x="1914480" y="5241960"/>
            <a:chExt cx="4724280" cy="398880"/>
          </a:xfrm>
        </p:grpSpPr>
        <p:sp>
          <p:nvSpPr>
            <p:cNvPr id="224" name=""/>
            <p:cNvSpPr/>
            <p:nvPr/>
          </p:nvSpPr>
          <p:spPr>
            <a:xfrm>
              <a:off x="1914480" y="5486400"/>
              <a:ext cx="4724280" cy="0"/>
            </a:xfrm>
            <a:prstGeom prst="line">
              <a:avLst/>
            </a:prstGeom>
            <a:ln w="38160">
              <a:solidFill>
                <a:srgbClr val="00c6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976480" y="5241960"/>
              <a:ext cx="2544480" cy="3988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c600"/>
                  </a:solidFill>
                  <a:latin typeface="Swis721 BT"/>
                </a:rPr>
                <a:t>Procesos de Apoy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1914480" y="2793960"/>
            <a:ext cx="4724280" cy="398880"/>
            <a:chOff x="1914480" y="2793960"/>
            <a:chExt cx="4724280" cy="398880"/>
          </a:xfrm>
        </p:grpSpPr>
        <p:sp>
          <p:nvSpPr>
            <p:cNvPr id="227" name=""/>
            <p:cNvSpPr/>
            <p:nvPr/>
          </p:nvSpPr>
          <p:spPr>
            <a:xfrm>
              <a:off x="1914480" y="3022560"/>
              <a:ext cx="4724280" cy="0"/>
            </a:xfrm>
            <a:prstGeom prst="line">
              <a:avLst/>
            </a:prstGeom>
            <a:ln w="38160">
              <a:solidFill>
                <a:srgbClr val="00c6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167640" y="2793960"/>
              <a:ext cx="2494080" cy="3988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c600"/>
                  </a:solidFill>
                  <a:latin typeface="Swis721 BT"/>
                </a:rPr>
                <a:t>Procesos Principa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1685880" y="3336840"/>
            <a:ext cx="228600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10199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762200" y="3489480"/>
            <a:ext cx="228600" cy="228600"/>
          </a:xfrm>
          <a:prstGeom prst="flowChartOr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143080" y="3489480"/>
            <a:ext cx="228600" cy="228600"/>
          </a:xfrm>
          <a:prstGeom prst="rect">
            <a:avLst/>
          </a:prstGeom>
          <a:gradFill rotWithShape="0">
            <a:gsLst>
              <a:gs pos="0">
                <a:srgbClr val="00c600"/>
              </a:gs>
              <a:gs pos="50000">
                <a:srgbClr val="ddf6dd"/>
              </a:gs>
              <a:gs pos="100000">
                <a:srgbClr val="00c600"/>
              </a:gs>
            </a:gsLst>
            <a:lin ang="5400000"/>
          </a:gradFill>
          <a:ln w="1908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448000" y="3489480"/>
            <a:ext cx="22860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752560" y="3489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990000"/>
              </a:gs>
              <a:gs pos="50000">
                <a:srgbClr val="fefefe"/>
              </a:gs>
              <a:gs pos="100000">
                <a:srgbClr val="990000"/>
              </a:gs>
            </a:gsLst>
            <a:lin ang="5400000"/>
          </a:gradFill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57480" y="3489480"/>
            <a:ext cx="22860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362400" y="3489480"/>
            <a:ext cx="228600" cy="2286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efefe"/>
              </a:gs>
              <a:gs pos="100000">
                <a:srgbClr val="008000"/>
              </a:gs>
            </a:gsLst>
            <a:lin ang="5400000"/>
          </a:gra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666960" y="3489480"/>
            <a:ext cx="22860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048200" y="3413160"/>
            <a:ext cx="457200" cy="457200"/>
          </a:xfrm>
          <a:prstGeom prst="flowChartOr">
            <a:avLst/>
          </a:prstGeom>
          <a:blipFill rotWithShape="0">
            <a:blip r:embed="rId2"/>
            <a:srcRect/>
            <a:stretch/>
          </a:blipFill>
          <a:ln w="28440">
            <a:solidFill>
              <a:srgbClr val="000099"/>
            </a:solidFill>
            <a:miter/>
          </a:ln>
          <a:effectLst>
            <a:outerShdw dist="53966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81360" y="3336840"/>
            <a:ext cx="228600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10199"/>
              </a:gs>
              <a:gs pos="100000">
                <a:srgbClr val="fefefe"/>
              </a:gs>
            </a:gsLst>
            <a:lin ang="5400000"/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57680" y="3489480"/>
            <a:ext cx="228600" cy="228600"/>
          </a:xfrm>
          <a:prstGeom prst="rect">
            <a:avLst/>
          </a:prstGeom>
          <a:gradFill rotWithShape="0">
            <a:gsLst>
              <a:gs pos="0">
                <a:srgbClr val="00c600"/>
              </a:gs>
              <a:gs pos="50000">
                <a:srgbClr val="ddf6dd"/>
              </a:gs>
              <a:gs pos="100000">
                <a:srgbClr val="00c600"/>
              </a:gs>
            </a:gsLst>
            <a:lin ang="5400000"/>
          </a:gradFill>
          <a:ln w="1908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962600" y="3489480"/>
            <a:ext cx="22860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267160" y="3489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990000"/>
              </a:gs>
              <a:gs pos="50000">
                <a:srgbClr val="fefefe"/>
              </a:gs>
              <a:gs pos="100000">
                <a:srgbClr val="990000"/>
              </a:gs>
            </a:gsLst>
            <a:lin ang="5400000"/>
          </a:gradFill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572080" y="3489480"/>
            <a:ext cx="22860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877000" y="3489480"/>
            <a:ext cx="228600" cy="2286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fefefe"/>
              </a:gs>
              <a:gs pos="100000">
                <a:srgbClr val="008000"/>
              </a:gs>
            </a:gsLst>
            <a:lin ang="5400000"/>
          </a:gra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181560" y="3489480"/>
            <a:ext cx="22860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486480" y="3489480"/>
            <a:ext cx="228600" cy="228600"/>
          </a:xfrm>
          <a:prstGeom prst="flowChartOr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601080" y="4114800"/>
            <a:ext cx="137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e917"/>
                </a:solidFill>
                <a:latin typeface="Swis721 BT"/>
              </a:rPr>
              <a:t>Control 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e917"/>
                </a:solidFill>
                <a:latin typeface="Swis721 BT"/>
              </a:rPr>
              <a:t>Cal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124160" y="3946680"/>
            <a:ext cx="30492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99"/>
          </a:solidFill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685880" y="4784760"/>
            <a:ext cx="1828800" cy="380880"/>
            <a:chOff x="1685880" y="4784760"/>
            <a:chExt cx="1828800" cy="380880"/>
          </a:xfrm>
        </p:grpSpPr>
        <p:sp>
          <p:nvSpPr>
            <p:cNvPr id="249" name=""/>
            <p:cNvSpPr/>
            <p:nvPr/>
          </p:nvSpPr>
          <p:spPr>
            <a:xfrm>
              <a:off x="1685880" y="4784760"/>
              <a:ext cx="380880" cy="3808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90000"/>
                </a:gs>
                <a:gs pos="50000">
                  <a:srgbClr val="fefefe"/>
                </a:gs>
                <a:gs pos="100000">
                  <a:srgbClr val="990000"/>
                </a:gs>
              </a:gsLst>
              <a:lin ang="5400000"/>
            </a:gradFill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33440" y="4784760"/>
              <a:ext cx="381240" cy="3808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90000"/>
                </a:gs>
                <a:gs pos="50000">
                  <a:srgbClr val="fefefe"/>
                </a:gs>
                <a:gs pos="100000">
                  <a:srgbClr val="990000"/>
                </a:gs>
              </a:gsLst>
              <a:lin ang="5400000"/>
            </a:gradFill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914480" y="4784760"/>
              <a:ext cx="13716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066760" y="5165640"/>
              <a:ext cx="106668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5038560" y="4784760"/>
            <a:ext cx="1828800" cy="380880"/>
            <a:chOff x="5038560" y="4784760"/>
            <a:chExt cx="1828800" cy="380880"/>
          </a:xfrm>
        </p:grpSpPr>
        <p:sp>
          <p:nvSpPr>
            <p:cNvPr id="254" name=""/>
            <p:cNvSpPr/>
            <p:nvPr/>
          </p:nvSpPr>
          <p:spPr>
            <a:xfrm>
              <a:off x="5038560" y="4784760"/>
              <a:ext cx="380880" cy="3808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90000"/>
                </a:gs>
                <a:gs pos="50000">
                  <a:srgbClr val="fefefe"/>
                </a:gs>
                <a:gs pos="100000">
                  <a:srgbClr val="990000"/>
                </a:gs>
              </a:gsLst>
              <a:lin ang="5400000"/>
            </a:gradFill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486120" y="4784760"/>
              <a:ext cx="381240" cy="3808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990000"/>
                </a:gs>
                <a:gs pos="50000">
                  <a:srgbClr val="fefefe"/>
                </a:gs>
                <a:gs pos="100000">
                  <a:srgbClr val="990000"/>
                </a:gs>
              </a:gsLst>
              <a:lin ang="5400000"/>
            </a:gradFill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267160" y="4784760"/>
              <a:ext cx="13716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419440" y="5165640"/>
              <a:ext cx="106668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3809880" y="4724280"/>
            <a:ext cx="914400" cy="455760"/>
          </a:xfrm>
          <a:prstGeom prst="rightArrow">
            <a:avLst>
              <a:gd name="adj1" fmla="val 50000"/>
              <a:gd name="adj2" fmla="val 50158"/>
            </a:avLst>
          </a:prstGeom>
          <a:gradFill rotWithShape="0">
            <a:gsLst>
              <a:gs pos="0">
                <a:srgbClr val="000048"/>
              </a:gs>
              <a:gs pos="100000">
                <a:srgbClr val="000099"/>
              </a:gs>
            </a:gsLst>
            <a:lin ang="10800000"/>
          </a:gradFill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943680" y="350532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000099"/>
          </a:solidFill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143000" y="3489480"/>
            <a:ext cx="466560" cy="228600"/>
          </a:xfrm>
          <a:prstGeom prst="rightArrow">
            <a:avLst>
              <a:gd name="adj1" fmla="val 50000"/>
              <a:gd name="adj2" fmla="val 51024"/>
            </a:avLst>
          </a:prstGeom>
          <a:solidFill>
            <a:srgbClr val="000099"/>
          </a:solidFill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934320" y="4876920"/>
            <a:ext cx="533160" cy="228600"/>
          </a:xfrm>
          <a:prstGeom prst="rightArrow">
            <a:avLst>
              <a:gd name="adj1" fmla="val 41667"/>
              <a:gd name="adj2" fmla="val 56223"/>
            </a:avLst>
          </a:prstGeom>
          <a:gradFill rotWithShape="0">
            <a:gsLst>
              <a:gs pos="0">
                <a:srgbClr val="000048"/>
              </a:gs>
              <a:gs pos="100000">
                <a:srgbClr val="000099"/>
              </a:gs>
            </a:gsLst>
            <a:lin ang="10800000"/>
          </a:gradFill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4861080"/>
            <a:ext cx="542880" cy="228600"/>
          </a:xfrm>
          <a:prstGeom prst="rightArrow">
            <a:avLst>
              <a:gd name="adj1" fmla="val 50000"/>
              <a:gd name="adj2" fmla="val 59370"/>
            </a:avLst>
          </a:prstGeom>
          <a:gradFill rotWithShape="0">
            <a:gsLst>
              <a:gs pos="0">
                <a:srgbClr val="000048"/>
              </a:gs>
              <a:gs pos="100000">
                <a:srgbClr val="000099"/>
              </a:gs>
            </a:gsLst>
            <a:lin ang="10800000"/>
          </a:gradFill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 flipV="1">
            <a:off x="1990440" y="3870360"/>
            <a:ext cx="533160" cy="533520"/>
          </a:xfrm>
          <a:prstGeom prst="line">
            <a:avLst/>
          </a:prstGeom>
          <a:ln w="2844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 flipV="1">
            <a:off x="2523600" y="4403520"/>
            <a:ext cx="1219320" cy="152280"/>
          </a:xfrm>
          <a:prstGeom prst="line">
            <a:avLst/>
          </a:prstGeom>
          <a:ln w="2844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4886280" y="4403520"/>
            <a:ext cx="1143000" cy="152280"/>
          </a:xfrm>
          <a:prstGeom prst="line">
            <a:avLst/>
          </a:prstGeom>
          <a:ln w="2844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6029280" y="3870360"/>
            <a:ext cx="533520" cy="533520"/>
          </a:xfrm>
          <a:prstGeom prst="line">
            <a:avLst/>
          </a:prstGeom>
          <a:ln w="2844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83240" y="762120"/>
            <a:ext cx="3137400" cy="459720"/>
          </a:xfrm>
          <a:prstGeom prst="rect">
            <a:avLst/>
          </a:prstGeom>
          <a:noFill/>
          <a:ln w="7632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Swis721 BT"/>
              </a:rPr>
              <a:t>Entorno Produ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523960" y="4861080"/>
            <a:ext cx="228600" cy="228600"/>
          </a:xfrm>
          <a:prstGeom prst="flowChartOr">
            <a:avLst/>
          </a:prstGeom>
          <a:blipFill rotWithShape="0">
            <a:blip r:embed="rId3"/>
            <a:srcRect/>
            <a:stretch/>
          </a:blipFill>
          <a:ln w="28440">
            <a:solidFill>
              <a:srgbClr val="000099"/>
            </a:solidFill>
            <a:miter/>
          </a:ln>
          <a:effectLst>
            <a:outerShdw dist="53966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800680" y="4861080"/>
            <a:ext cx="228600" cy="228600"/>
          </a:xfrm>
          <a:prstGeom prst="flowChartOr">
            <a:avLst/>
          </a:prstGeom>
          <a:blipFill rotWithShape="0">
            <a:blip r:embed="rId4"/>
            <a:srcRect/>
            <a:stretch/>
          </a:blipFill>
          <a:ln w="28440">
            <a:solidFill>
              <a:srgbClr val="000099"/>
            </a:solidFill>
            <a:miter/>
          </a:ln>
          <a:effectLst>
            <a:outerShdw dist="53966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838160" y="2362320"/>
            <a:ext cx="457200" cy="457200"/>
          </a:xfrm>
          <a:prstGeom prst="flowChartOr">
            <a:avLst/>
          </a:prstGeom>
          <a:blipFill rotWithShape="0">
            <a:blip r:embed="rId5"/>
            <a:srcRect/>
            <a:stretch/>
          </a:blipFill>
          <a:ln w="28440">
            <a:solidFill>
              <a:srgbClr val="000099"/>
            </a:solidFill>
            <a:miter/>
          </a:ln>
          <a:effectLst>
            <a:outerShdw dist="53966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257880" y="2362320"/>
            <a:ext cx="457200" cy="457200"/>
          </a:xfrm>
          <a:prstGeom prst="flowChartOr">
            <a:avLst/>
          </a:prstGeom>
          <a:blipFill rotWithShape="0">
            <a:blip r:embed="rId6"/>
            <a:srcRect/>
            <a:stretch/>
          </a:blipFill>
          <a:ln w="28440">
            <a:solidFill>
              <a:srgbClr val="000099"/>
            </a:solidFill>
            <a:miter/>
          </a:ln>
          <a:effectLst>
            <a:outerShdw dist="53966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219400" y="2819520"/>
            <a:ext cx="457200" cy="380880"/>
          </a:xfrm>
          <a:prstGeom prst="line">
            <a:avLst/>
          </a:prstGeom>
          <a:ln w="2844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5952600" y="2819520"/>
            <a:ext cx="381240" cy="380880"/>
          </a:xfrm>
          <a:prstGeom prst="line">
            <a:avLst/>
          </a:prstGeom>
          <a:ln w="2844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38680" y="1295280"/>
            <a:ext cx="457200" cy="457200"/>
          </a:xfrm>
          <a:prstGeom prst="flowChartOr">
            <a:avLst/>
          </a:prstGeom>
          <a:blipFill rotWithShape="0">
            <a:blip r:embed="rId7"/>
            <a:srcRect/>
            <a:stretch/>
          </a:blipFill>
          <a:ln w="28440">
            <a:solidFill>
              <a:srgbClr val="000099"/>
            </a:solidFill>
            <a:miter/>
          </a:ln>
          <a:effectLst>
            <a:outerShdw dist="53966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495400" y="1752480"/>
            <a:ext cx="228600" cy="381240"/>
          </a:xfrm>
          <a:prstGeom prst="line">
            <a:avLst/>
          </a:prstGeom>
          <a:ln w="2844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371680" y="2590920"/>
            <a:ext cx="3809880" cy="0"/>
          </a:xfrm>
          <a:prstGeom prst="line">
            <a:avLst/>
          </a:prstGeom>
          <a:ln w="38160">
            <a:solidFill>
              <a:srgbClr val="00c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044840" y="6172200"/>
            <a:ext cx="1430280" cy="64260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e917"/>
                </a:solidFill>
                <a:latin typeface="Swis721 BT"/>
              </a:rPr>
              <a:t>Auditori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e917"/>
                </a:solidFill>
                <a:latin typeface="Swis721 BT"/>
              </a:rPr>
              <a:t>de 2° par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705800" y="5562720"/>
            <a:ext cx="457200" cy="457200"/>
          </a:xfrm>
          <a:prstGeom prst="flowChartOr">
            <a:avLst/>
          </a:prstGeom>
          <a:blipFill rotWithShape="0">
            <a:blip r:embed="rId8"/>
            <a:srcRect/>
            <a:stretch/>
          </a:blipFill>
          <a:ln w="28440">
            <a:solidFill>
              <a:srgbClr val="000099"/>
            </a:solidFill>
            <a:miter/>
          </a:ln>
          <a:effectLst>
            <a:outerShdw dist="53966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7324200" y="5791320"/>
            <a:ext cx="304920" cy="0"/>
          </a:xfrm>
          <a:prstGeom prst="line">
            <a:avLst/>
          </a:prstGeom>
          <a:ln w="2844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122160" y="1447920"/>
            <a:ext cx="1430280" cy="642600"/>
          </a:xfrm>
          <a:prstGeom prst="rect">
            <a:avLst/>
          </a:prstGeom>
          <a:solidFill>
            <a:srgbClr val="00c600"/>
          </a:solidFill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e917"/>
                </a:solidFill>
                <a:latin typeface="Swis721 BT"/>
              </a:rPr>
              <a:t>Auditori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e917"/>
                </a:solidFill>
                <a:latin typeface="Swis721 BT"/>
              </a:rPr>
              <a:t>de 3° par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728600" y="838080"/>
            <a:ext cx="3298680" cy="368280"/>
          </a:xfrm>
          <a:prstGeom prst="rect">
            <a:avLst/>
          </a:prstGeom>
          <a:noFill/>
          <a:ln w="19080">
            <a:solidFill>
              <a:srgbClr val="ffe9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Swis721 BT"/>
              </a:rPr>
              <a:t>Organismo de Certific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2828880" y="4556160"/>
            <a:ext cx="914400" cy="380880"/>
          </a:xfrm>
          <a:prstGeom prst="line">
            <a:avLst/>
          </a:prstGeom>
          <a:ln w="2844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886280" y="4556160"/>
            <a:ext cx="838080" cy="380880"/>
          </a:xfrm>
          <a:prstGeom prst="line">
            <a:avLst/>
          </a:prstGeom>
          <a:ln w="2844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143080" y="3946680"/>
            <a:ext cx="914400" cy="7905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c600"/>
              </a:gs>
              <a:gs pos="50000">
                <a:srgbClr val="ddf6dd"/>
              </a:gs>
              <a:gs pos="100000">
                <a:srgbClr val="00c600"/>
              </a:gs>
            </a:gsLst>
            <a:lin ang="5400000"/>
          </a:gradFill>
          <a:ln w="1908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905200" y="6019920"/>
            <a:ext cx="2895480" cy="703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Swis721 BT"/>
              </a:rPr>
              <a:t>Procesos de direc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 flipV="1">
            <a:off x="2600280" y="1981080"/>
            <a:ext cx="457200" cy="533520"/>
          </a:xfrm>
          <a:prstGeom prst="line">
            <a:avLst/>
          </a:prstGeom>
          <a:ln w="2844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35680" y="1595520"/>
            <a:ext cx="4103640" cy="368280"/>
          </a:xfrm>
          <a:prstGeom prst="rect">
            <a:avLst/>
          </a:prstGeom>
          <a:noFill/>
          <a:ln w="1908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e917"/>
                </a:solidFill>
                <a:latin typeface="Swis721 BT"/>
              </a:rPr>
              <a:t>Todo el entorno desde la direc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495760" y="3946680"/>
            <a:ext cx="914400" cy="7905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8000"/>
              </a:gs>
              <a:gs pos="50000">
                <a:srgbClr val="fefefe"/>
              </a:gs>
              <a:gs pos="100000">
                <a:srgbClr val="008000"/>
              </a:gs>
            </a:gsLst>
            <a:lin ang="5400000"/>
          </a:gra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967840" y="2362320"/>
            <a:ext cx="2681640" cy="3682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cc3300"/>
                </a:solidFill>
                <a:latin typeface="Swis721 BT"/>
              </a:rPr>
              <a:t>Auditorias de 1° par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3500"/>
                            </p:stCondLst>
                            <p:childTnLst>
                              <p:par>
                                <p:cTn id="3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4000"/>
                            </p:stCondLst>
                            <p:childTnLst>
                              <p:par>
                                <p:cTn id="3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4500"/>
                            </p:stCondLst>
                            <p:childTnLst>
                              <p:par>
                                <p:cTn id="3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500"/>
                            </p:stCondLst>
                            <p:childTnLst>
                              <p:par>
                                <p:cTn id="3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6000"/>
                            </p:stCondLst>
                            <p:childTnLst>
                              <p:par>
                                <p:cTn id="3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6500"/>
                            </p:stCondLst>
                            <p:childTnLst>
                              <p:par>
                                <p:cTn id="3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7000"/>
                            </p:stCondLst>
                            <p:childTnLst>
                              <p:par>
                                <p:cTn id="3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750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8000"/>
                            </p:stCondLst>
                            <p:childTnLst>
                              <p:par>
                                <p:cTn id="3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8500"/>
                            </p:stCondLst>
                            <p:childTnLst>
                              <p:par>
                                <p:cTn id="3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9000"/>
                            </p:stCondLst>
                            <p:childTnLst>
                              <p:par>
                                <p:cTn id="3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9500"/>
                            </p:stCondLst>
                            <p:childTnLst>
                              <p:par>
                                <p:cTn id="4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500"/>
                            </p:stCondLst>
                            <p:childTnLst>
                              <p:par>
                                <p:cTn id="4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1000"/>
                            </p:stCondLst>
                            <p:childTnLst>
                              <p:par>
                                <p:cTn id="4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1500"/>
                            </p:stCondLst>
                            <p:childTnLst>
                              <p:par>
                                <p:cTn id="4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2500"/>
                            </p:stCondLst>
                            <p:childTnLst>
                              <p:par>
                                <p:cTn id="4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3000"/>
                            </p:stCondLst>
                            <p:childTnLst>
                              <p:par>
                                <p:cTn id="43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500"/>
                            </p:stCondLst>
                            <p:childTnLst>
                              <p:par>
                                <p:cTn id="4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000"/>
                            </p:stCondLst>
                            <p:childTnLst>
                              <p:par>
                                <p:cTn id="4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500"/>
                            </p:stCondLst>
                            <p:childTnLst>
                              <p:par>
                                <p:cTn id="4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3000"/>
                            </p:stCondLst>
                            <p:childTnLst>
                              <p:par>
                                <p:cTn id="4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500"/>
                            </p:stCondLst>
                            <p:childTnLst>
                              <p:par>
                                <p:cTn id="476" nodeType="afterEffect" fill="hold" presetClass="entr" presetID="17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8000"/>
                            </p:stCondLst>
                            <p:childTnLst>
                              <p:par>
                                <p:cTn id="481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000"/>
                            </p:stCondLst>
                            <p:childTnLst>
                              <p:par>
                                <p:cTn id="4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500"/>
                            </p:stCondLst>
                            <p:childTnLst>
                              <p:par>
                                <p:cTn id="50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2000"/>
                            </p:stCondLst>
                            <p:childTnLst>
                              <p:par>
                                <p:cTn id="50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500"/>
                            </p:stCondLst>
                            <p:childTnLst>
                              <p:par>
                                <p:cTn id="5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3000"/>
                            </p:stCondLst>
                            <p:childTnLst>
                              <p:par>
                                <p:cTn id="5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3500"/>
                            </p:stCondLst>
                            <p:childTnLst>
                              <p:par>
                                <p:cTn id="5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4000"/>
                            </p:stCondLst>
                            <p:childTnLst>
                              <p:par>
                                <p:cTn id="5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4500"/>
                            </p:stCondLst>
                            <p:childTnLst>
                              <p:par>
                                <p:cTn id="5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500"/>
                            </p:stCondLst>
                            <p:childTnLst>
                              <p:par>
                                <p:cTn id="54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000"/>
                            </p:stCondLst>
                            <p:childTnLst>
                              <p:par>
                                <p:cTn id="5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500"/>
                            </p:stCondLst>
                            <p:childTnLst>
                              <p:par>
                                <p:cTn id="5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5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4500"/>
                            </p:stCondLst>
                            <p:childTnLst>
                              <p:par>
                                <p:cTn id="5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5000"/>
                            </p:stCondLst>
                            <p:childTnLst>
                              <p:par>
                                <p:cTn id="56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500"/>
                            </p:stCondLst>
                            <p:childTnLst>
                              <p:par>
                                <p:cTn id="56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000"/>
                            </p:stCondLst>
                            <p:childTnLst>
                              <p:par>
                                <p:cTn id="582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500"/>
                            </p:stCondLst>
                            <p:childTnLst>
                              <p:par>
                                <p:cTn id="604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250920" y="189000"/>
            <a:ext cx="7057800" cy="43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ffe917"/>
                </a:solidFill>
                <a:latin typeface="Arial Unicode MS"/>
              </a:rPr>
              <a:t>5. </a:t>
            </a:r>
            <a:r>
              <a:rPr b="1" lang="es-ES_tradnl" sz="3200" spc="-1" strike="noStrike">
                <a:solidFill>
                  <a:srgbClr val="ffe917"/>
                </a:solidFill>
                <a:latin typeface="Arial Unicode MS"/>
              </a:rPr>
              <a:t>	</a:t>
            </a:r>
            <a:r>
              <a:rPr b="1" lang="es-ES_tradnl" sz="3200" spc="-1" strike="noStrike">
                <a:solidFill>
                  <a:srgbClr val="ffe917"/>
                </a:solidFill>
                <a:latin typeface="Arial Unicode MS"/>
              </a:rPr>
              <a:t>Responsabilidad de la Direc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38080" y="2022480"/>
            <a:ext cx="2514600" cy="363240"/>
          </a:xfrm>
          <a:prstGeom prst="rect">
            <a:avLst/>
          </a:prstGeom>
          <a:noFill/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ffe917"/>
                </a:solidFill>
                <a:latin typeface="Arial Unicode MS"/>
              </a:rPr>
              <a:t>Política de cal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133880" y="2011320"/>
            <a:ext cx="2647800" cy="363240"/>
          </a:xfrm>
          <a:prstGeom prst="rect">
            <a:avLst/>
          </a:prstGeom>
          <a:noFill/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ffe917"/>
                </a:solidFill>
                <a:latin typeface="Arial Unicode MS"/>
              </a:rPr>
              <a:t>Objetivos de Cal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440080" y="5145120"/>
            <a:ext cx="2579760" cy="611280"/>
          </a:xfrm>
          <a:prstGeom prst="ellipse">
            <a:avLst/>
          </a:prstGeom>
          <a:solidFill>
            <a:srgbClr val="0000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ffe917"/>
                </a:solidFill>
                <a:latin typeface="Arial Unicode MS"/>
              </a:rPr>
              <a:t>Revisión de 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ffe917"/>
                </a:solidFill>
                <a:latin typeface="Arial Unicode MS"/>
              </a:rPr>
              <a:t>direc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3428640" y="2022480"/>
            <a:ext cx="609480" cy="532800"/>
            <a:chOff x="3428640" y="2022480"/>
            <a:chExt cx="609480" cy="532800"/>
          </a:xfrm>
        </p:grpSpPr>
        <p:sp>
          <p:nvSpPr>
            <p:cNvPr id="295" name=""/>
            <p:cNvSpPr/>
            <p:nvPr/>
          </p:nvSpPr>
          <p:spPr>
            <a:xfrm flipH="1">
              <a:off x="3428280" y="2022480"/>
              <a:ext cx="305640" cy="532800"/>
            </a:xfrm>
            <a:prstGeom prst="rightArrow">
              <a:avLst>
                <a:gd name="adj1" fmla="val 50000"/>
                <a:gd name="adj2" fmla="val 50014"/>
              </a:avLst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732480" y="2022480"/>
              <a:ext cx="305640" cy="532800"/>
            </a:xfrm>
            <a:prstGeom prst="rightArrow">
              <a:avLst>
                <a:gd name="adj1" fmla="val 50000"/>
                <a:gd name="adj2" fmla="val 50014"/>
              </a:avLst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 flipH="1" rot="16200000">
            <a:off x="3542040" y="2593800"/>
            <a:ext cx="380880" cy="60948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634400" y="3241800"/>
            <a:ext cx="5030640" cy="637560"/>
          </a:xfrm>
          <a:prstGeom prst="rect">
            <a:avLst/>
          </a:prstGeom>
          <a:noFill/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 Unicode MS"/>
              </a:rPr>
              <a:t>Organiz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s-ES_tradnl" sz="1800" spc="-1" strike="noStrike">
                <a:solidFill>
                  <a:srgbClr val="ffffff"/>
                </a:solidFill>
                <a:latin typeface="Arial Unicode MS"/>
              </a:rPr>
              <a:t>Responsabilidad – Autoridad - Comunic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572920" y="4038480"/>
            <a:ext cx="2456640" cy="637560"/>
          </a:xfrm>
          <a:prstGeom prst="rect">
            <a:avLst/>
          </a:prstGeom>
          <a:noFill/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HandelGothic BT"/>
              </a:rPr>
              <a:t> </a:t>
            </a:r>
            <a:r>
              <a:rPr b="0" lang="es-ES_tradnl" sz="1800" spc="-1" strike="noStrike">
                <a:solidFill>
                  <a:srgbClr val="ffe917"/>
                </a:solidFill>
                <a:latin typeface="Arial Unicode MS"/>
              </a:rPr>
              <a:t>Representante de l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ffe917"/>
                </a:solidFill>
                <a:latin typeface="Arial Unicode MS"/>
              </a:rPr>
              <a:t>Direc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 rot="16200000">
            <a:off x="3589920" y="4710240"/>
            <a:ext cx="268200" cy="53172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57200" y="2746440"/>
            <a:ext cx="914400" cy="3314520"/>
            <a:chOff x="457200" y="2746440"/>
            <a:chExt cx="914400" cy="3314520"/>
          </a:xfrm>
        </p:grpSpPr>
        <p:sp>
          <p:nvSpPr>
            <p:cNvPr id="302" name=""/>
            <p:cNvSpPr/>
            <p:nvPr/>
          </p:nvSpPr>
          <p:spPr>
            <a:xfrm>
              <a:off x="457200" y="2746440"/>
              <a:ext cx="914400" cy="3314520"/>
            </a:xfrm>
            <a:prstGeom prst="rightArrow">
              <a:avLst>
                <a:gd name="adj1" fmla="val 49426"/>
                <a:gd name="adj2" fmla="val 50000"/>
              </a:avLst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16200000">
              <a:off x="-331200" y="4212720"/>
              <a:ext cx="2308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2400" spc="-1" strike="noStrike">
                  <a:solidFill>
                    <a:srgbClr val="0000ff"/>
                  </a:solidFill>
                  <a:latin typeface="Arial Unicode MS"/>
                </a:rPr>
                <a:t>Recursos</a:t>
              </a:r>
              <a:r>
                <a:rPr b="1" lang="es-ES_tradnl" sz="2400" spc="-1" strike="noStrike">
                  <a:solidFill>
                    <a:srgbClr val="0000ff"/>
                  </a:solidFill>
                  <a:latin typeface="HandelGothic BT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2222640" y="1413000"/>
            <a:ext cx="3394080" cy="339480"/>
          </a:xfrm>
          <a:prstGeom prst="rect">
            <a:avLst/>
          </a:prstGeom>
          <a:noFill/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e917"/>
                </a:solidFill>
                <a:latin typeface="Arial Unicode MS"/>
              </a:rPr>
              <a:t>Compromiso de la Direc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6346800" y="3056040"/>
            <a:ext cx="1577880" cy="3462120"/>
            <a:chOff x="6346800" y="3056040"/>
            <a:chExt cx="1577880" cy="3462120"/>
          </a:xfrm>
        </p:grpSpPr>
        <p:sp>
          <p:nvSpPr>
            <p:cNvPr id="306" name=""/>
            <p:cNvSpPr/>
            <p:nvPr/>
          </p:nvSpPr>
          <p:spPr>
            <a:xfrm>
              <a:off x="6362640" y="3056040"/>
              <a:ext cx="1562040" cy="3462120"/>
            </a:xfrm>
            <a:custGeom>
              <a:avLst/>
              <a:gdLst/>
              <a:ahLst/>
              <a:rect l="l" t="t" r="r" b="b"/>
              <a:pathLst>
                <a:path w="1105" h="2329">
                  <a:moveTo>
                    <a:pt x="0" y="2328"/>
                  </a:moveTo>
                  <a:lnTo>
                    <a:pt x="1104" y="2328"/>
                  </a:lnTo>
                  <a:lnTo>
                    <a:pt x="1104" y="0"/>
                  </a:lnTo>
                  <a:lnTo>
                    <a:pt x="846" y="0"/>
                  </a:lnTo>
                </a:path>
              </a:pathLst>
            </a:custGeom>
            <a:solidFill>
              <a:srgbClr val="000099"/>
            </a:solidFill>
            <a:ln cap="rnd" w="38160">
              <a:solidFill>
                <a:srgbClr val="00c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346800" y="4846680"/>
              <a:ext cx="1425600" cy="129024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ff"/>
                  </a:solidFill>
                  <a:latin typeface="HandelGothic BT"/>
                </a:rPr>
                <a:t>Client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2168640" y="6213600"/>
            <a:ext cx="3394080" cy="339480"/>
          </a:xfrm>
          <a:prstGeom prst="rect">
            <a:avLst/>
          </a:prstGeom>
          <a:noFill/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e917"/>
                </a:solidFill>
                <a:latin typeface="Arial Unicode MS"/>
              </a:rPr>
              <a:t>Resultados de la Revi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 rot="16200000">
            <a:off x="3553920" y="5771160"/>
            <a:ext cx="270000" cy="46188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6060960"/>
            <a:ext cx="304920" cy="45720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6770520" y="955800"/>
            <a:ext cx="1154160" cy="1152360"/>
            <a:chOff x="6770520" y="955800"/>
            <a:chExt cx="1154160" cy="1152360"/>
          </a:xfrm>
        </p:grpSpPr>
        <p:sp>
          <p:nvSpPr>
            <p:cNvPr id="312" name=""/>
            <p:cNvSpPr/>
            <p:nvPr/>
          </p:nvSpPr>
          <p:spPr>
            <a:xfrm>
              <a:off x="6770520" y="955800"/>
              <a:ext cx="1154160" cy="1152360"/>
            </a:xfrm>
            <a:prstGeom prst="flowChartConnector">
              <a:avLst/>
            </a:prstGeom>
            <a:solidFill>
              <a:srgbClr val="000099"/>
            </a:solidFill>
            <a:ln w="5724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 txBox="1"/>
            <p:nvPr/>
          </p:nvSpPr>
          <p:spPr>
            <a:xfrm rot="5400000">
              <a:off x="7458480" y="1150200"/>
              <a:ext cx="168120" cy="32220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80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Arial Black"/>
                </a:rPr>
                <a:t>P</a:t>
              </a:r>
              <a:endParaRPr b="0" i="1" lang="en-US" sz="2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314" name=""/>
            <p:cNvSpPr txBox="1"/>
            <p:nvPr/>
          </p:nvSpPr>
          <p:spPr>
            <a:xfrm rot="5400000">
              <a:off x="6984000" y="1150200"/>
              <a:ext cx="168120" cy="32220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80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Arial Black"/>
                </a:rPr>
                <a:t>A</a:t>
              </a:r>
              <a:endParaRPr b="0" i="1" lang="en-US" sz="2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315" name=""/>
            <p:cNvSpPr txBox="1"/>
            <p:nvPr/>
          </p:nvSpPr>
          <p:spPr>
            <a:xfrm rot="5400000">
              <a:off x="7458480" y="1591560"/>
              <a:ext cx="168120" cy="32220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80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Arial Black"/>
                </a:rPr>
                <a:t>E</a:t>
              </a:r>
              <a:endParaRPr b="0" i="1" lang="en-US" sz="2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316" name=""/>
            <p:cNvSpPr txBox="1"/>
            <p:nvPr/>
          </p:nvSpPr>
          <p:spPr>
            <a:xfrm rot="5400000">
              <a:off x="6984000" y="1591560"/>
              <a:ext cx="168120" cy="32220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80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Arial Black"/>
                </a:rPr>
                <a:t>R</a:t>
              </a:r>
              <a:endParaRPr b="0" i="1" lang="en-US" sz="2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313760" y="955800"/>
              <a:ext cx="0" cy="1152360"/>
            </a:xfrm>
            <a:prstGeom prst="line">
              <a:avLst/>
            </a:prstGeom>
            <a:ln w="3816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770520" y="1565280"/>
              <a:ext cx="1154160" cy="0"/>
            </a:xfrm>
            <a:prstGeom prst="line">
              <a:avLst/>
            </a:prstGeom>
            <a:ln w="3816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0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afterEffect" fill="hold" presetClass="entr" presetID="5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1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2500"/>
                            </p:stCondLst>
                            <p:childTnLst>
                              <p:par>
                                <p:cTn id="61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0"/>
                            </p:stCondLst>
                            <p:childTnLst>
                              <p:par>
                                <p:cTn id="619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7500"/>
                            </p:stCondLst>
                            <p:childTnLst>
                              <p:par>
                                <p:cTn id="623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62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2500"/>
                            </p:stCondLst>
                            <p:childTnLst>
                              <p:par>
                                <p:cTn id="631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5000"/>
                            </p:stCondLst>
                            <p:childTnLst>
                              <p:par>
                                <p:cTn id="63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7500"/>
                            </p:stCondLst>
                            <p:childTnLst>
                              <p:par>
                                <p:cTn id="63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20000"/>
                            </p:stCondLst>
                            <p:childTnLst>
                              <p:par>
                                <p:cTn id="643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22500"/>
                            </p:stCondLst>
                            <p:childTnLst>
                              <p:par>
                                <p:cTn id="64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25000"/>
                            </p:stCondLst>
                            <p:childTnLst>
                              <p:par>
                                <p:cTn id="651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27500"/>
                            </p:stCondLst>
                            <p:childTnLst>
                              <p:par>
                                <p:cTn id="65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30000"/>
                            </p:stCondLst>
                            <p:childTnLst>
                              <p:par>
                                <p:cTn id="659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32500"/>
                            </p:stCondLst>
                            <p:childTnLst>
                              <p:par>
                                <p:cTn id="663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35000"/>
                            </p:stCondLst>
                            <p:childTnLst>
                              <p:par>
                                <p:cTn id="667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00"/>
                </a:solidFill>
                <a:latin typeface="Tahoma"/>
              </a:rPr>
              <a:t>Contenido de la Norma ISO 9001:2000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ff33"/>
                </a:solidFill>
                <a:latin typeface="Tahoma"/>
              </a:rPr>
              <a:t>Requerimien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4  Sistema de Gestión de la Calidad (SGC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66ff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4.1 Requerimientos general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66ff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4.2 Requerimientos de la documenta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4.2.1 Gener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4.2.2 Manual de calida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4.2.3 Control de document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66ff33"/>
                </a:solidFill>
                <a:latin typeface="Tahoma"/>
              </a:rPr>
              <a:t>4.2.4 Control de registros</a:t>
            </a:r>
            <a:r>
              <a:rPr b="0" lang="es-ES_tradnl" sz="2400" spc="-1" strike="noStrike">
                <a:solidFill>
                  <a:srgbClr val="ff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00"/>
                </a:solidFill>
                <a:latin typeface="Tahoma"/>
              </a:rPr>
              <a:t>Contenido de la Norma ISO 9001:2000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ff33"/>
                </a:solidFill>
                <a:latin typeface="Tahoma"/>
              </a:rPr>
              <a:t>5 Responsabilidad de la direc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SzPct val="12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ff33"/>
                </a:solidFill>
                <a:latin typeface="Tahoma"/>
              </a:rPr>
              <a:t>5.1 Compromiso de la direc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SzPct val="12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ff33"/>
                </a:solidFill>
                <a:latin typeface="Tahoma"/>
              </a:rPr>
              <a:t>5.2 Enfoque hacia el clie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SzPct val="12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ff33"/>
                </a:solidFill>
                <a:latin typeface="Tahoma"/>
              </a:rPr>
              <a:t>5.3 Política de cal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SzPct val="12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ff33"/>
                </a:solidFill>
                <a:latin typeface="Tahoma"/>
              </a:rPr>
              <a:t>5.4 Plane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ff33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66ff33"/>
                </a:solidFill>
                <a:latin typeface="Tahoma"/>
              </a:rPr>
              <a:t>5.4.1  Objetivos de Calid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ff33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66ff33"/>
                </a:solidFill>
                <a:latin typeface="Tahoma"/>
              </a:rPr>
              <a:t>5.4.2  Planeación del sistema de gestión de la calidad                                                                             </a:t>
            </a:r>
            <a:r>
              <a:rPr b="0" lang="es-ES_tradnl" sz="2000" spc="-1" strike="noStrike">
                <a:solidFill>
                  <a:srgbClr val="66ff33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66ff33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66ff33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66ff33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66ff33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66ff33"/>
                </a:solidFill>
                <a:latin typeface="Tahoma"/>
              </a:rPr>
              <a:t>continúa..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7T13:32:39Z</dcterms:created>
  <dc:creator>Juan Carlos Barrera Mendieta</dc:creator>
  <dc:description/>
  <dc:language>en-US</dc:language>
  <cp:lastModifiedBy>Claudia López Pérez</cp:lastModifiedBy>
  <dcterms:modified xsi:type="dcterms:W3CDTF">2006-03-27T13:57:11Z</dcterms:modified>
  <cp:revision>11</cp:revision>
  <dc:subject/>
  <dc:title>ICAO/ASPA Regional Seminar on Safety Management Systems (SMS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Categoly">
    <vt:lpwstr>Documentation</vt:lpwstr>
  </property>
  <property fmtid="{D5CDD505-2E9C-101B-9397-08002B2CF9AE}" pid="3" name="Language">
    <vt:lpwstr>en</vt:lpwstr>
  </property>
  <property fmtid="{D5CDD505-2E9C-101B-9397-08002B2CF9AE}" pid="4" name="Order">
    <vt:lpwstr>1920600.00000000</vt:lpwstr>
  </property>
  <property fmtid="{D5CDD505-2E9C-101B-9397-08002B2CF9AE}" pid="5" name="Year">
    <vt:lpwstr>2006</vt:lpwstr>
  </property>
</Properties>
</file>