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897-48C0-4950-B348-91762B9E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FEB-5766-49D7-8906-0F83A62E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84D-EDC6-46BD-9142-EF9C158C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347-FCF2-43E6-88D4-F77A98C3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13E09-CEC2-4A79-A5A8-2E4D7BD9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2CCA1-1264-4B8D-B9CF-8CD503AC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B5DDD-5FBC-4C90-BE17-08591C5A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8FF85-0876-4923-9DAC-FBC4313D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897D-9885-4CA9-BA28-E54E6652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A6AFF-AF52-4656-9CA3-D4D8CE07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6B4F9-8393-4400-B271-8EBF8935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9CA-4EBF-4064-A844-8DB26CB0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1ECE8-0EE4-483B-B21D-6F0128CB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85115-3681-4DC1-8735-9DFA145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C1E86-C8B9-47DA-9612-BA907DE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547E9-D80B-48A5-903D-8287FA49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3BEEC-B9BA-40FE-A8EC-8A3FC0A7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CE8-E813-4042-945F-F7E45D93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FFC-19BB-4863-91FB-13280090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28A-53B5-4E94-969B-4AD160EC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9E9-2D03-4B10-874A-70FE65AC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2E0-DDD6-477F-ABD4-1B34EBE2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415-C32F-412F-8411-401CDB4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94C-01E1-4E63-A8B5-56C98E82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C8A8-7E24-4670-8026-C601F9C912E5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B974-8FC8-4787-9101-8B8629147CFF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arlosbarrera57@yahoo.com.mx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so.ch/iso/en/ISOOnline.frontpag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5300280"/>
            <a:ext cx="8642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SISTEMA DE GESTION DE LA CALIDAD BAJO</a:t>
            </a:r>
            <a:br>
              <a:rPr sz="2400"/>
            </a:br>
            <a:r>
              <a:rPr b="1" i="1" lang="es-ES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 LA NORMA ISO </a:t>
            </a:r>
            <a:r>
              <a:rPr b="1" i="1" lang="es-MX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– </a:t>
            </a:r>
            <a:r>
              <a:rPr b="1" i="1" lang="es-ES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900I</a:t>
            </a:r>
            <a:r>
              <a:rPr b="1" i="1" lang="es-MX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:2000</a:t>
            </a:r>
            <a:br>
              <a:rPr sz="2400"/>
            </a:br>
            <a:br>
              <a:rPr sz="2400"/>
            </a:br>
            <a:r>
              <a:rPr b="1" i="1" lang="es-MX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carlosbarrera57@yahoo.com.m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89000"/>
          <a:ext cx="4195800" cy="391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89000"/>
                    <a:ext cx="419580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556000" y="1341360"/>
            <a:ext cx="640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Unicode MS"/>
              </a:rPr>
              <a:t>Ing. Juan Carlos Barrera Mendi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Unicode MS"/>
              </a:rPr>
              <a:t>Auditor Interno  de Sistemas de Gestión de la C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Unicode MS"/>
              </a:rPr>
              <a:t>Bajo la Norma ISO:9001-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Unicode MS"/>
              </a:rPr>
              <a:t>Marzo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ua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5 Responsabilidad de la dire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  <a:ea typeface="Times New Roman"/>
              </a:rPr>
              <a:t>5.5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Responsabilidad, autoridad y comun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0033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5.1 Responsabilidad y autor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0033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5.2 Representante de la dir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0033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5.3 Comunicación inter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ua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5 Responsabilidad de la dire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6 Revisión por la dir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6.1 Gene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6.2 Revisión de datos de entr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6.3    Revisión de datos de sali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6 Gestión de los recur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1 Provisión de recur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2 Recursos Huma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2.1 Gene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2.2 Competencia, concientización y formación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3 Infraestruc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4 Ambiente de trabajo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7 Realización del produ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1 Planeación de la realización del  pro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2 Procesos relacionados con el clie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2.1 Determinación de requerimientos.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                    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relacionados con el pro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2.2 Revisión de requerimientos.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relacionados con el  pro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2.3  Comunicación con el cliente.</a:t>
            </a:r>
            <a:r>
              <a:rPr b="0" lang="es-MX" sz="3000" spc="-1" strike="noStrike">
                <a:solidFill>
                  <a:srgbClr val="66ff33"/>
                </a:solidFill>
                <a:latin typeface="Tahoma"/>
              </a:rPr>
              <a:t>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ff33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es-MX" sz="2000" spc="-1" strike="noStrike">
                <a:solidFill>
                  <a:srgbClr val="66ff33"/>
                </a:solidFill>
                <a:latin typeface="Tahoma"/>
              </a:rPr>
              <a:t>continúa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Tahoma"/>
              </a:rPr>
              <a:t>Continua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7 Realización del produc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1 Planeación del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2 Datos de entrada del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3 Datos de salida del diseño y desarroll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4 Revisión del diseño y desarrollo.</a:t>
            </a:r>
            <a:r>
              <a:rPr b="0" lang="es-ES_tradnl" sz="25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5 Verificación del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6 Validación del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7 Control de cambios de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ff33"/>
                </a:solidFill>
                <a:latin typeface="Tahoma"/>
              </a:rPr>
              <a:t>                                                                                  </a:t>
            </a:r>
            <a:r>
              <a:rPr b="0" lang="es-MX" sz="1800" spc="-1" strike="noStrike">
                <a:solidFill>
                  <a:srgbClr val="66ff33"/>
                </a:solidFill>
                <a:latin typeface="Tahoma"/>
              </a:rPr>
              <a:t>continua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ua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7 Realización del produc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4 Comp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4.1 Proceso de comp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4.2 Información de compr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4.3 Verificación del producto adqui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                                                                    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úa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ua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7 Realización del produc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 Provisión de producción y servi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.1 Control de la provisión del producto y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    servi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.2 Validación de los procesos para la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    provisión de producción y servi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.3 Identificación y Trazab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.4 Propiedad del clie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.5 Conservación del pro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30000"/>
              </a:lnSpc>
              <a:spcBef>
                <a:spcPts val="601"/>
              </a:spcBef>
              <a:buClr>
                <a:srgbClr val="66ff33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6 Control de dispositivos de monitoreo y medi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8 Medición, análisis y mej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1 Gene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2 Monitoreo y medi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2.1 Satisfacción del cli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2.2 Auditoría intern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2.3 Monitoreo y medición de proces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2.4 Monitoreo y medición del produc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                                                                     </a:t>
            </a:r>
            <a:r>
              <a:rPr b="0" lang="es-ES_tradnl" sz="1800" spc="-1" strike="noStrike">
                <a:solidFill>
                  <a:srgbClr val="66ff33"/>
                </a:solidFill>
                <a:latin typeface="Tahoma"/>
              </a:rPr>
              <a:t>continúa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ua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8 Medición, análisis y mej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3 Control del producto no confor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4 Análisis de da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5 Mejo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5.1 Mejora continu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5.2 Acción correc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5.3 Acción preven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ff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r su a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C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MX" sz="1600" spc="-1" strike="noStrike" u="sng">
                <a:solidFill>
                  <a:srgbClr val="ffcc00"/>
                </a:solidFill>
                <a:uFillTx/>
                <a:latin typeface="Antique Olive"/>
                <a:ea typeface="Times New Roman"/>
                <a:hlinkClick r:id="rId2"/>
              </a:rPr>
              <a:t>carlosbarrera57@yahoo.com.mx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	</a:t>
            </a:r>
            <a:r>
              <a:rPr b="1" i="1" lang="es-MX" sz="16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044 55 2858 79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4140360" y="1434960"/>
            <a:ext cx="454644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990720"/>
            <a:ext cx="7391160" cy="5715000"/>
          </a:xfrm>
          <a:prstGeom prst="donut">
            <a:avLst>
              <a:gd name="adj" fmla="val 25000"/>
            </a:avLst>
          </a:prstGeom>
          <a:solidFill>
            <a:srgbClr val="00cc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c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 Rounded MT Bold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209320" y="1143000"/>
            <a:ext cx="4115160" cy="1447920"/>
            <a:chOff x="2209320" y="1143000"/>
            <a:chExt cx="4115160" cy="1447920"/>
          </a:xfrm>
        </p:grpSpPr>
        <p:sp>
          <p:nvSpPr>
            <p:cNvPr id="89" name=""/>
            <p:cNvSpPr/>
            <p:nvPr/>
          </p:nvSpPr>
          <p:spPr>
            <a:xfrm flipH="1" flipV="1">
              <a:off x="2209320" y="1523880"/>
              <a:ext cx="1143000" cy="1067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029200" y="1523880"/>
              <a:ext cx="1295280" cy="990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15760" y="1143000"/>
              <a:ext cx="34902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ff"/>
                  </a:solidFill>
                  <a:latin typeface="Arial Rounded MT Bold"/>
                </a:rPr>
                <a:t>Organización enfocad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ff"/>
                  </a:solidFill>
                  <a:latin typeface="Arial Rounded MT Bold"/>
                </a:rPr>
                <a:t>al Clien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867280" y="3683160"/>
            <a:ext cx="1891800" cy="1476000"/>
            <a:chOff x="5867280" y="3683160"/>
            <a:chExt cx="1891800" cy="1476000"/>
          </a:xfrm>
        </p:grpSpPr>
        <p:sp>
          <p:nvSpPr>
            <p:cNvPr id="93" name=""/>
            <p:cNvSpPr/>
            <p:nvPr/>
          </p:nvSpPr>
          <p:spPr>
            <a:xfrm flipH="1" flipV="1">
              <a:off x="5867280" y="4320720"/>
              <a:ext cx="1524240" cy="838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11160" y="3683160"/>
              <a:ext cx="1447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Enfoque 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 </a:t>
              </a: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676160" y="4800600"/>
            <a:ext cx="4245840" cy="1508400"/>
            <a:chOff x="1676160" y="4800600"/>
            <a:chExt cx="4245840" cy="1508400"/>
          </a:xfrm>
        </p:grpSpPr>
        <p:sp>
          <p:nvSpPr>
            <p:cNvPr id="96" name=""/>
            <p:cNvSpPr/>
            <p:nvPr/>
          </p:nvSpPr>
          <p:spPr>
            <a:xfrm flipH="1">
              <a:off x="1676160" y="4800600"/>
              <a:ext cx="1143000" cy="1143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88560" y="5178600"/>
              <a:ext cx="31334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Rela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Mutuamente benéfic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 </a:t>
              </a: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con proveedo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1560" y="2181240"/>
            <a:ext cx="1344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 Rounded MT Bold"/>
              </a:rPr>
              <a:t>Mejo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 Rounded MT Bold"/>
              </a:rPr>
              <a:t>Contin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193720" y="2181240"/>
            <a:ext cx="2730960" cy="1378080"/>
            <a:chOff x="5193720" y="2181240"/>
            <a:chExt cx="2730960" cy="1378080"/>
          </a:xfrm>
        </p:grpSpPr>
        <p:sp>
          <p:nvSpPr>
            <p:cNvPr id="100" name=""/>
            <p:cNvSpPr/>
            <p:nvPr/>
          </p:nvSpPr>
          <p:spPr>
            <a:xfrm>
              <a:off x="5193720" y="2181240"/>
              <a:ext cx="2395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Gestión enfocad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 </a:t>
              </a: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a sistem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95880" y="3559320"/>
              <a:ext cx="18288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38280" y="2111400"/>
            <a:ext cx="3733920" cy="236232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s-MX" sz="2400" spc="-1" strike="noStrike">
                <a:solidFill>
                  <a:srgbClr val="0000ff"/>
                </a:solidFill>
                <a:latin typeface="Arial Rounded MT Bold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 Rounded MT Bold"/>
              </a:rPr>
              <a:t>Particip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 Rounded MT Bold"/>
              </a:rPr>
              <a:t>del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3178080"/>
            <a:ext cx="1371600" cy="555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4360" y="260280"/>
            <a:ext cx="76960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b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e917"/>
                </a:solidFill>
                <a:latin typeface="Arial Unicode MS"/>
              </a:rPr>
              <a:t>Principios de Gestión de C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3635280"/>
            <a:ext cx="1904760" cy="2004120"/>
            <a:chOff x="533520" y="3635280"/>
            <a:chExt cx="1904760" cy="2004120"/>
          </a:xfrm>
        </p:grpSpPr>
        <p:sp>
          <p:nvSpPr>
            <p:cNvPr id="106" name=""/>
            <p:cNvSpPr/>
            <p:nvPr/>
          </p:nvSpPr>
          <p:spPr>
            <a:xfrm flipH="1">
              <a:off x="533520" y="3635280"/>
              <a:ext cx="18288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3657600"/>
              <a:ext cx="1904760" cy="19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Enfoque para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        </a:t>
              </a: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La toma de decisiones              Basada en hech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14600" y="4473720"/>
            <a:ext cx="3581280" cy="4546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e917"/>
                </a:solidFill>
                <a:latin typeface="Arial Rounded MT Bold"/>
              </a:rPr>
              <a:t>Familia ISO 9000: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1828800" y="1066680"/>
          <a:ext cx="5707080" cy="450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066680"/>
                    <a:ext cx="570708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79640" y="333360"/>
            <a:ext cx="51814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b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e917"/>
                </a:solidFill>
                <a:latin typeface="Arial Unicode MS"/>
              </a:rPr>
              <a:t>4. Sistema de C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131840"/>
            <a:ext cx="844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Arial Unicode MS"/>
              </a:rPr>
              <a:t>El sistema de calidad se debe Establecer, Documentar, Implantar en forma efec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32040" y="6114960"/>
            <a:ext cx="4897440" cy="590400"/>
            <a:chOff x="1832040" y="6114960"/>
            <a:chExt cx="4897440" cy="590400"/>
          </a:xfrm>
        </p:grpSpPr>
        <p:sp>
          <p:nvSpPr>
            <p:cNvPr id="112" name=""/>
            <p:cNvSpPr/>
            <p:nvPr/>
          </p:nvSpPr>
          <p:spPr>
            <a:xfrm>
              <a:off x="1832040" y="6114960"/>
              <a:ext cx="4897440" cy="590400"/>
            </a:xfrm>
            <a:prstGeom prst="triangle">
              <a:avLst>
                <a:gd name="adj" fmla="val 49986"/>
              </a:avLst>
            </a:prstGeom>
            <a:solidFill>
              <a:srgbClr val="ffeb85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2000" y="6300720"/>
              <a:ext cx="2914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s-ES_tradnl" sz="1900" spc="-1" strike="noStrike">
                  <a:solidFill>
                    <a:srgbClr val="0000ff"/>
                  </a:solidFill>
                  <a:latin typeface="Arial Unicode MS"/>
                </a:rPr>
                <a:t>Planes de Calida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247840" y="2230560"/>
            <a:ext cx="0" cy="3222360"/>
          </a:xfrm>
          <a:prstGeom prst="line">
            <a:avLst/>
          </a:prstGeom>
          <a:ln w="19080">
            <a:solidFill>
              <a:srgbClr val="ffe91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448080" y="2560680"/>
            <a:ext cx="1508040" cy="1107000"/>
            <a:chOff x="3448080" y="2560680"/>
            <a:chExt cx="1508040" cy="1107000"/>
          </a:xfrm>
        </p:grpSpPr>
        <p:sp>
          <p:nvSpPr>
            <p:cNvPr id="116" name=""/>
            <p:cNvSpPr/>
            <p:nvPr/>
          </p:nvSpPr>
          <p:spPr>
            <a:xfrm>
              <a:off x="3448080" y="3638520"/>
              <a:ext cx="15080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47960" y="2560680"/>
              <a:ext cx="905400" cy="11070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0" lang="es-ES_tradnl" sz="1700" spc="-1" strike="noStrike">
                  <a:solidFill>
                    <a:srgbClr val="00ccff"/>
                  </a:solidFill>
                  <a:latin typeface="Arial Unicode MS"/>
                </a:rPr>
                <a:t>Manua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0" lang="es-ES_tradnl" sz="1700" spc="-1" strike="noStrike">
                  <a:solidFill>
                    <a:srgbClr val="00ccff"/>
                  </a:solidFill>
                  <a:latin typeface="Arial Unicode MS"/>
                </a:rPr>
                <a:t>d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0" lang="es-ES_tradnl" sz="1700" spc="-1" strike="noStrike">
                  <a:solidFill>
                    <a:srgbClr val="00ccff"/>
                  </a:solidFill>
                  <a:latin typeface="Arial Unicode MS"/>
                </a:rPr>
                <a:t>Calidad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070080" y="3854520"/>
            <a:ext cx="2273400" cy="511200"/>
            <a:chOff x="3070080" y="3854520"/>
            <a:chExt cx="2273400" cy="511200"/>
          </a:xfrm>
        </p:grpSpPr>
        <p:sp>
          <p:nvSpPr>
            <p:cNvPr id="119" name=""/>
            <p:cNvSpPr/>
            <p:nvPr/>
          </p:nvSpPr>
          <p:spPr>
            <a:xfrm>
              <a:off x="3070080" y="4365720"/>
              <a:ext cx="2273400" cy="0"/>
            </a:xfrm>
            <a:prstGeom prst="line">
              <a:avLst/>
            </a:prstGeom>
            <a:ln w="19080">
              <a:solidFill>
                <a:srgbClr val="0000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4320" y="3854520"/>
              <a:ext cx="1781640" cy="3135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HandelGothic BT"/>
                </a:rPr>
                <a:t> </a:t>
              </a:r>
              <a:r>
                <a:rPr b="1" lang="es-ES_tradnl" sz="1600" spc="-1" strike="noStrike">
                  <a:solidFill>
                    <a:srgbClr val="ffe917"/>
                  </a:solidFill>
                  <a:latin typeface="Arial Unicode MS"/>
                </a:rPr>
                <a:t>Procedimien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720880" y="4568760"/>
            <a:ext cx="2957760" cy="492120"/>
            <a:chOff x="2720880" y="4568760"/>
            <a:chExt cx="2957760" cy="492120"/>
          </a:xfrm>
        </p:grpSpPr>
        <p:sp>
          <p:nvSpPr>
            <p:cNvPr id="122" name=""/>
            <p:cNvSpPr/>
            <p:nvPr/>
          </p:nvSpPr>
          <p:spPr>
            <a:xfrm>
              <a:off x="2720880" y="5060880"/>
              <a:ext cx="29577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29440" y="4568760"/>
              <a:ext cx="1391760" cy="329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HandelGothic BT"/>
                </a:rPr>
                <a:t> </a:t>
              </a:r>
              <a:r>
                <a:rPr b="0" lang="es-ES_tradnl" sz="1700" spc="-1" strike="noStrike">
                  <a:solidFill>
                    <a:srgbClr val="00c600"/>
                  </a:solidFill>
                  <a:latin typeface="Arial Unicode MS"/>
                </a:rPr>
                <a:t>Instructivo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255920" y="5097600"/>
            <a:ext cx="1442520" cy="911160"/>
            <a:chOff x="4255920" y="5097600"/>
            <a:chExt cx="1442520" cy="911160"/>
          </a:xfrm>
        </p:grpSpPr>
        <p:sp>
          <p:nvSpPr>
            <p:cNvPr id="125" name=""/>
            <p:cNvSpPr/>
            <p:nvPr/>
          </p:nvSpPr>
          <p:spPr>
            <a:xfrm>
              <a:off x="4255920" y="5097600"/>
              <a:ext cx="0" cy="911160"/>
            </a:xfrm>
            <a:prstGeom prst="line">
              <a:avLst/>
            </a:prstGeom>
            <a:ln w="28440">
              <a:solidFill>
                <a:srgbClr val="ffe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4640" y="5218200"/>
              <a:ext cx="133380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HandelGothic BT"/>
                </a:rPr>
                <a:t> </a:t>
              </a:r>
              <a:r>
                <a:rPr b="0" lang="es-ES_tradnl" sz="1700" spc="-1" strike="noStrike">
                  <a:solidFill>
                    <a:srgbClr val="ff9933"/>
                  </a:solidFill>
                  <a:latin typeface="Arial Unicode MS"/>
                </a:rPr>
                <a:t>Formatos y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0" lang="es-ES_tradnl" sz="1700" spc="-1" strike="noStrike">
                  <a:solidFill>
                    <a:srgbClr val="ff9933"/>
                  </a:solidFill>
                  <a:latin typeface="Arial Unicode MS"/>
                </a:rPr>
                <a:t>Registro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22160" y="5675400"/>
            <a:ext cx="1662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Unicode MS"/>
              </a:rPr>
              <a:t>Formatos llen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033640" y="2122560"/>
            <a:ext cx="4143240" cy="3891960"/>
            <a:chOff x="2033640" y="2122560"/>
            <a:chExt cx="4143240" cy="3891960"/>
          </a:xfrm>
        </p:grpSpPr>
        <p:sp>
          <p:nvSpPr>
            <p:cNvPr id="129" name=""/>
            <p:cNvSpPr/>
            <p:nvPr/>
          </p:nvSpPr>
          <p:spPr>
            <a:xfrm>
              <a:off x="2211480" y="2128680"/>
              <a:ext cx="3965400" cy="3885840"/>
            </a:xfrm>
            <a:prstGeom prst="triangle">
              <a:avLst>
                <a:gd name="adj" fmla="val 49986"/>
              </a:avLst>
            </a:prstGeom>
            <a:noFill/>
            <a:ln w="28440">
              <a:solidFill>
                <a:srgbClr val="ffe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33640" y="2122560"/>
              <a:ext cx="2147760" cy="0"/>
            </a:xfrm>
            <a:prstGeom prst="line">
              <a:avLst/>
            </a:prstGeom>
            <a:ln w="19080">
              <a:solidFill>
                <a:srgbClr val="ffe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526040" y="3084480"/>
            <a:ext cx="1438920" cy="588600"/>
          </a:xfrm>
          <a:prstGeom prst="rect">
            <a:avLst/>
          </a:prstGeom>
          <a:solidFill>
            <a:srgbClr val="ffe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s-ES_tradnl" sz="1700" spc="-1" strike="noStrike">
                <a:solidFill>
                  <a:srgbClr val="0000ff"/>
                </a:solidFill>
                <a:latin typeface="Arial Unicode MS"/>
              </a:rPr>
              <a:t>Document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s-ES_tradnl" sz="1700" spc="-1" strike="noStrike">
                <a:solidFill>
                  <a:srgbClr val="0000ff"/>
                </a:solidFill>
                <a:latin typeface="Arial Unicode MS"/>
              </a:rPr>
              <a:t>Control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" y="5334120"/>
            <a:ext cx="10915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s-ES_tradnl" sz="1700" spc="-1" strike="noStrike">
                <a:solidFill>
                  <a:srgbClr val="ffe917"/>
                </a:solidFill>
                <a:latin typeface="Arial Unicode MS"/>
              </a:rPr>
              <a:t>Regist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s-ES_tradnl" sz="1700" spc="-1" strike="noStrike">
                <a:solidFill>
                  <a:srgbClr val="ffe917"/>
                </a:solidFill>
                <a:latin typeface="Arial Unicode MS"/>
              </a:rPr>
              <a:t>d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s-ES_tradnl" sz="1700" spc="-1" strike="noStrike">
                <a:solidFill>
                  <a:srgbClr val="ffe917"/>
                </a:solidFill>
                <a:latin typeface="Arial Unicode MS"/>
              </a:rPr>
              <a:t>Calida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30800" y="2717640"/>
            <a:ext cx="20844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00ccff"/>
                </a:solidFill>
                <a:latin typeface="Arial Unicode MS"/>
              </a:rPr>
              <a:t>Política, objetivo y Proces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2960" y="3592440"/>
            <a:ext cx="18324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ffe917"/>
                </a:solidFill>
                <a:latin typeface="Arial Unicode MS"/>
              </a:rPr>
              <a:t>Implantación d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ffe917"/>
                </a:solidFill>
                <a:latin typeface="Arial Unicode MS"/>
              </a:rPr>
              <a:t>la Polític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45960" y="4394160"/>
            <a:ext cx="182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00c600"/>
                </a:solidFill>
                <a:latin typeface="Arial Unicode MS"/>
              </a:rPr>
              <a:t>El “Cómo” de l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00c600"/>
                </a:solidFill>
                <a:latin typeface="Arial Unicode MS"/>
              </a:rPr>
              <a:t>procedimient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5280" y="5195880"/>
            <a:ext cx="14803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ff9933"/>
                </a:solidFill>
                <a:latin typeface="Arial Unicode MS"/>
              </a:rPr>
              <a:t>Pruebas qu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ff9933"/>
                </a:solidFill>
                <a:latin typeface="Arial Unicode MS"/>
              </a:rPr>
              <a:t>el sistema 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ff9933"/>
                </a:solidFill>
                <a:latin typeface="Arial Unicode MS"/>
              </a:rPr>
              <a:t>seguid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35160" y="5168880"/>
            <a:ext cx="2097000" cy="412560"/>
            <a:chOff x="2135160" y="5168880"/>
            <a:chExt cx="2097000" cy="412560"/>
          </a:xfrm>
        </p:grpSpPr>
        <p:grpSp>
          <p:nvGrpSpPr>
            <p:cNvPr id="138" name=""/>
            <p:cNvGrpSpPr/>
            <p:nvPr/>
          </p:nvGrpSpPr>
          <p:grpSpPr>
            <a:xfrm>
              <a:off x="2467080" y="5168880"/>
              <a:ext cx="1765080" cy="398160"/>
              <a:chOff x="2467080" y="5168880"/>
              <a:chExt cx="1765080" cy="398160"/>
            </a:xfrm>
          </p:grpSpPr>
          <p:sp>
            <p:nvSpPr>
              <p:cNvPr id="139" name=""/>
              <p:cNvSpPr/>
              <p:nvPr/>
            </p:nvSpPr>
            <p:spPr>
              <a:xfrm>
                <a:off x="2467080" y="5567040"/>
                <a:ext cx="1765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16840" y="5168880"/>
                <a:ext cx="1597320" cy="2984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9560"/>
                    <a:tab algn="l" pos="879480"/>
                    <a:tab algn="l" pos="1319040"/>
                    <a:tab algn="l" pos="1758960"/>
                    <a:tab algn="l" pos="2198520"/>
                    <a:tab algn="l" pos="2638440"/>
                    <a:tab algn="l" pos="3078000"/>
                    <a:tab algn="l" pos="3517920"/>
                    <a:tab algn="l" pos="3957480"/>
                    <a:tab algn="l" pos="4397400"/>
                    <a:tab algn="l" pos="4836960"/>
                    <a:tab algn="l" pos="5276880"/>
                    <a:tab algn="l" pos="5716440"/>
                    <a:tab algn="l" pos="6156360"/>
                    <a:tab algn="l" pos="6595920"/>
                    <a:tab algn="l" pos="7035840"/>
                    <a:tab algn="l" pos="7475400"/>
                    <a:tab algn="l" pos="7915320"/>
                    <a:tab algn="l" pos="8354880"/>
                    <a:tab algn="l" pos="8794800"/>
                  </a:tabLst>
                </a:pPr>
                <a:r>
                  <a:rPr b="0" lang="es-ES_tradnl" sz="1500" spc="-1" strike="noStrike">
                    <a:solidFill>
                      <a:srgbClr val="ffffff"/>
                    </a:solidFill>
                    <a:latin typeface="Arial Unicode MS"/>
                  </a:rPr>
                  <a:t>Formatos vacío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135160" y="5581440"/>
              <a:ext cx="2635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H="1">
            <a:off x="1676160" y="5791320"/>
            <a:ext cx="533160" cy="0"/>
          </a:xfrm>
          <a:prstGeom prst="line">
            <a:avLst/>
          </a:prstGeom>
          <a:ln w="19080">
            <a:solidFill>
              <a:srgbClr val="ffe9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5084640"/>
            <a:ext cx="2880000" cy="0"/>
          </a:xfrm>
          <a:prstGeom prst="line">
            <a:avLst/>
          </a:prstGeom>
          <a:ln w="1260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516640"/>
            <a:ext cx="1800360" cy="0"/>
          </a:xfrm>
          <a:prstGeom prst="line">
            <a:avLst/>
          </a:prstGeom>
          <a:ln w="1260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4365720"/>
            <a:ext cx="2160720" cy="0"/>
          </a:xfrm>
          <a:prstGeom prst="line">
            <a:avLst/>
          </a:prstGeom>
          <a:ln w="1260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789360"/>
            <a:ext cx="1584000" cy="0"/>
          </a:xfrm>
          <a:prstGeom prst="line">
            <a:avLst/>
          </a:prstGeom>
          <a:ln w="1260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8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836640"/>
            <a:ext cx="3025800" cy="1008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917"/>
                </a:solidFill>
                <a:latin typeface="Arial Unicode MS"/>
              </a:rPr>
              <a:t>Modelo del enfo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917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ffe917"/>
                </a:solidFill>
                <a:latin typeface="Arial Unicode MS"/>
              </a:rPr>
              <a:t>basado en los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01240" y="1322280"/>
            <a:ext cx="378720" cy="375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200" y="1776240"/>
            <a:ext cx="344520" cy="375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3440" y="1965240"/>
            <a:ext cx="5159160" cy="4276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05360" y="2459160"/>
            <a:ext cx="2360160" cy="1008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5 Respons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Dir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71560" y="3713040"/>
            <a:ext cx="1677240" cy="703800"/>
          </a:xfrm>
          <a:prstGeom prst="rect">
            <a:avLst/>
          </a:prstGeom>
          <a:solidFill>
            <a:srgbClr val="66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6 Gestión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81920" y="3684600"/>
            <a:ext cx="1555200" cy="1008720"/>
          </a:xfrm>
          <a:prstGeom prst="rect">
            <a:avLst/>
          </a:prstGeom>
          <a:solidFill>
            <a:srgbClr val="66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600"/>
                </a:solidFill>
                <a:latin typeface="Arial Unicode MS"/>
              </a:rPr>
              <a:t>8 Medició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6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00c600"/>
                </a:solidFill>
                <a:latin typeface="Arial Unicode MS"/>
              </a:rPr>
              <a:t>Análisis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6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00c600"/>
                </a:solidFill>
                <a:latin typeface="Arial Unicode MS"/>
              </a:rPr>
              <a:t>Mej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2800" y="5430960"/>
            <a:ext cx="1119600" cy="3988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917"/>
                </a:solidFill>
                <a:latin typeface="Arial Unicode MS"/>
              </a:rPr>
              <a:t>Entr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31040" y="5445000"/>
            <a:ext cx="1035720" cy="459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e917"/>
                </a:solidFill>
                <a:latin typeface="Arial Unicode MS"/>
              </a:rPr>
              <a:t>Sal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70480" y="5940360"/>
            <a:ext cx="1949400" cy="378000"/>
          </a:xfrm>
          <a:prstGeom prst="rightArrow">
            <a:avLst>
              <a:gd name="adj1" fmla="val 50000"/>
              <a:gd name="adj2" fmla="val 128929"/>
            </a:avLst>
          </a:prstGeom>
          <a:solidFill>
            <a:srgbClr val="00c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32600" y="4111560"/>
            <a:ext cx="1068480" cy="378000"/>
          </a:xfrm>
          <a:prstGeom prst="leftArrow">
            <a:avLst>
              <a:gd name="adj1" fmla="val 50000"/>
              <a:gd name="adj2" fmla="val 70667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3400" y="3470400"/>
            <a:ext cx="441360" cy="314316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Q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3440" y="5927760"/>
            <a:ext cx="1573200" cy="314280"/>
          </a:xfrm>
          <a:prstGeom prst="rightArrow">
            <a:avLst>
              <a:gd name="adj1" fmla="val 50000"/>
              <a:gd name="adj2" fmla="val 125143"/>
            </a:avLst>
          </a:prstGeom>
          <a:solidFill>
            <a:srgbClr val="00c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70480" y="6289560"/>
            <a:ext cx="1384200" cy="3988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917"/>
                </a:solidFill>
                <a:latin typeface="Arial Unicode MS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85080" y="2444760"/>
            <a:ext cx="344520" cy="34480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5616720"/>
            <a:ext cx="2265480" cy="1006200"/>
          </a:xfrm>
          <a:custGeom>
            <a:avLst/>
            <a:gdLst>
              <a:gd name="textAreaLeft" fmla="*/ 0 w 2265480"/>
              <a:gd name="textAreaRight" fmla="*/ 2265480 w 22654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50" y="0"/>
                </a:lnTo>
                <a:lnTo>
                  <a:pt x="21600" y="10800"/>
                </a:lnTo>
                <a:lnTo>
                  <a:pt x="18750" y="21600"/>
                </a:lnTo>
                <a:lnTo>
                  <a:pt x="0" y="21600"/>
                </a:lnTo>
                <a:lnTo>
                  <a:pt x="285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c600"/>
                </a:solidFill>
                <a:latin typeface="HandelGothic BT"/>
              </a:rPr>
              <a:t>  </a:t>
            </a: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7 Real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del 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70080" y="2719440"/>
            <a:ext cx="606600" cy="1003320"/>
          </a:xfrm>
          <a:custGeom>
            <a:avLst/>
            <a:gdLst>
              <a:gd name="textAreaLeft" fmla="*/ 81000 w 606600"/>
              <a:gd name="textAreaRight" fmla="*/ 525600 w 606600"/>
              <a:gd name="textAreaTop" fmla="*/ 175320 h 1003320"/>
              <a:gd name="textAreaBottom" fmla="*/ 727560 h 100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95360" y="4413240"/>
            <a:ext cx="605160" cy="1003320"/>
          </a:xfrm>
          <a:custGeom>
            <a:avLst/>
            <a:gdLst>
              <a:gd name="textAreaLeft" fmla="*/ 81000 w 605160"/>
              <a:gd name="textAreaRight" fmla="*/ 524160 w 605160"/>
              <a:gd name="textAreaTop" fmla="*/ 175320 h 1003320"/>
              <a:gd name="textAreaBottom" fmla="*/ 727560 h 100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065560" y="4736520"/>
            <a:ext cx="457200" cy="819000"/>
          </a:xfrm>
          <a:custGeom>
            <a:avLst/>
            <a:gdLst>
              <a:gd name="textAreaLeft" fmla="*/ 61200 w 457200"/>
              <a:gd name="textAreaRight" fmla="*/ 396000 w 457200"/>
              <a:gd name="textAreaTop" fmla="*/ 142920 h 819000"/>
              <a:gd name="textAreaBottom" fmla="*/ 593640 h 81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772240" y="2655720"/>
            <a:ext cx="588960" cy="819360"/>
          </a:xfrm>
          <a:custGeom>
            <a:avLst/>
            <a:gdLst>
              <a:gd name="textAreaLeft" fmla="*/ 78840 w 588960"/>
              <a:gd name="textAreaRight" fmla="*/ 510120 w 588960"/>
              <a:gd name="textAreaTop" fmla="*/ 143280 h 819360"/>
              <a:gd name="textAreaBottom" fmla="*/ 594000 h 8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4960" y="2949480"/>
            <a:ext cx="692280" cy="1006560"/>
          </a:xfrm>
          <a:custGeom>
            <a:avLst/>
            <a:gdLst>
              <a:gd name="textAreaLeft" fmla="*/ 230760 w 692280"/>
              <a:gd name="textAreaRight" fmla="*/ 592920 w 692280"/>
              <a:gd name="textAreaTop" fmla="*/ 660240 h 1006560"/>
              <a:gd name="textAreaBottom" fmla="*/ 86220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17270"/>
                </a:moveTo>
                <a:lnTo>
                  <a:pt x="14170" y="17270"/>
                </a:lnTo>
                <a:lnTo>
                  <a:pt x="14170" y="7200"/>
                </a:lnTo>
                <a:lnTo>
                  <a:pt x="11070" y="7200"/>
                </a:lnTo>
                <a:lnTo>
                  <a:pt x="1633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61000" y="603360"/>
            <a:ext cx="2120760" cy="14655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Unicode MS"/>
              </a:rPr>
              <a:t>Mejora Continua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Unicode MS"/>
              </a:rPr>
              <a:t>Sistema de  Gest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Unicode MS"/>
              </a:rPr>
              <a:t>de C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62080" y="2050920"/>
            <a:ext cx="1762200" cy="378000"/>
          </a:xfrm>
          <a:prstGeom prst="leftArrow">
            <a:avLst>
              <a:gd name="adj1" fmla="val 50000"/>
              <a:gd name="adj2" fmla="val 116548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437160" y="1944720"/>
            <a:ext cx="942840" cy="944640"/>
            <a:chOff x="6437160" y="1944720"/>
            <a:chExt cx="942840" cy="944640"/>
          </a:xfrm>
        </p:grpSpPr>
        <p:sp>
          <p:nvSpPr>
            <p:cNvPr id="171" name=""/>
            <p:cNvSpPr/>
            <p:nvPr/>
          </p:nvSpPr>
          <p:spPr>
            <a:xfrm>
              <a:off x="6437160" y="1944720"/>
              <a:ext cx="942840" cy="944640"/>
            </a:xfrm>
            <a:prstGeom prst="flowChartConnector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24600" y="1944720"/>
              <a:ext cx="1440" cy="9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37160" y="2416320"/>
              <a:ext cx="942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 rot="5400000">
              <a:off x="7026480" y="2094480"/>
              <a:ext cx="156960" cy="298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P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 rot="5400000">
              <a:off x="7042320" y="2440800"/>
              <a:ext cx="157320" cy="298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E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5400000">
              <a:off x="6632640" y="2440800"/>
              <a:ext cx="157320" cy="298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R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5400000">
              <a:off x="6600960" y="2094480"/>
              <a:ext cx="156960" cy="298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A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351560" y="5479920"/>
            <a:ext cx="758880" cy="758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SISTEMA DE GESTION DE LA C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752480" y="3352680"/>
            <a:ext cx="2667240" cy="18288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28680" y="3962520"/>
            <a:ext cx="1274400" cy="102960"/>
            <a:chOff x="328680" y="3962520"/>
            <a:chExt cx="1274400" cy="102960"/>
          </a:xfrm>
        </p:grpSpPr>
        <p:sp>
          <p:nvSpPr>
            <p:cNvPr id="182" name=""/>
            <p:cNvSpPr/>
            <p:nvPr/>
          </p:nvSpPr>
          <p:spPr>
            <a:xfrm>
              <a:off x="328680" y="4003560"/>
              <a:ext cx="1157760" cy="2016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81040" y="3962520"/>
              <a:ext cx="122040" cy="10296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117"/>
                  </a:moveTo>
                  <a:lnTo>
                    <a:pt x="117" y="57"/>
                  </a:lnTo>
                  <a:lnTo>
                    <a:pt x="0" y="0"/>
                  </a:lnTo>
                  <a:lnTo>
                    <a:pt x="0" y="117"/>
                  </a:lnTo>
                  <a:close/>
                </a:path>
              </a:pathLst>
            </a:custGeom>
            <a:noFill/>
            <a:ln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90720" y="1295280"/>
            <a:ext cx="3962160" cy="1925280"/>
            <a:chOff x="990720" y="1295280"/>
            <a:chExt cx="3962160" cy="1925280"/>
          </a:xfrm>
        </p:grpSpPr>
        <p:grpSp>
          <p:nvGrpSpPr>
            <p:cNvPr id="185" name=""/>
            <p:cNvGrpSpPr/>
            <p:nvPr/>
          </p:nvGrpSpPr>
          <p:grpSpPr>
            <a:xfrm>
              <a:off x="990720" y="1295280"/>
              <a:ext cx="3962160" cy="1462680"/>
              <a:chOff x="990720" y="1295280"/>
              <a:chExt cx="3962160" cy="1462680"/>
            </a:xfrm>
          </p:grpSpPr>
          <p:sp>
            <p:nvSpPr>
              <p:cNvPr id="186" name=""/>
              <p:cNvSpPr/>
              <p:nvPr/>
            </p:nvSpPr>
            <p:spPr>
              <a:xfrm>
                <a:off x="1868040" y="1295280"/>
                <a:ext cx="20199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PROCEDIMIENTO*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90720" y="1660320"/>
                <a:ext cx="39621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(“Forma especifica para llevar a cabo una activida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o un proceso” - Puede estar documentado o n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895480" y="2742840"/>
              <a:ext cx="121680" cy="477720"/>
              <a:chOff x="2895480" y="2742840"/>
              <a:chExt cx="121680" cy="477720"/>
            </a:xfrm>
          </p:grpSpPr>
          <p:sp>
            <p:nvSpPr>
              <p:cNvPr id="189" name=""/>
              <p:cNvSpPr/>
              <p:nvPr/>
            </p:nvSpPr>
            <p:spPr>
              <a:xfrm>
                <a:off x="2944080" y="2742840"/>
                <a:ext cx="23760" cy="380520"/>
              </a:xfrm>
              <a:prstGeom prst="rect">
                <a:avLst/>
              </a:prstGeom>
              <a:solidFill>
                <a:srgbClr val="ffcc66"/>
              </a:solidFill>
              <a:ln w="284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95480" y="3119040"/>
                <a:ext cx="121680" cy="101520"/>
              </a:xfrm>
              <a:custGeom>
                <a:avLst/>
                <a:gdLst/>
                <a:ahLst/>
                <a:rect l="l" t="t" r="r" b="b"/>
                <a:pathLst>
                  <a:path w="117" h="115">
                    <a:moveTo>
                      <a:pt x="0" y="0"/>
                    </a:moveTo>
                    <a:lnTo>
                      <a:pt x="57" y="115"/>
                    </a:lnTo>
                    <a:lnTo>
                      <a:pt x="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66"/>
              </a:solidFill>
              <a:ln w="2844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4419720" y="3727440"/>
            <a:ext cx="3429000" cy="615960"/>
            <a:chOff x="4419720" y="3727440"/>
            <a:chExt cx="3429000" cy="615960"/>
          </a:xfrm>
        </p:grpSpPr>
        <p:grpSp>
          <p:nvGrpSpPr>
            <p:cNvPr id="192" name=""/>
            <p:cNvGrpSpPr/>
            <p:nvPr/>
          </p:nvGrpSpPr>
          <p:grpSpPr>
            <a:xfrm>
              <a:off x="4419720" y="3935520"/>
              <a:ext cx="1066680" cy="103320"/>
              <a:chOff x="4419720" y="3935520"/>
              <a:chExt cx="1066680" cy="103320"/>
            </a:xfrm>
          </p:grpSpPr>
          <p:sp>
            <p:nvSpPr>
              <p:cNvPr id="193" name=""/>
              <p:cNvSpPr/>
              <p:nvPr/>
            </p:nvSpPr>
            <p:spPr>
              <a:xfrm>
                <a:off x="4419720" y="3976920"/>
                <a:ext cx="951480" cy="201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6160" y="3935520"/>
                <a:ext cx="120240" cy="103320"/>
              </a:xfrm>
              <a:custGeom>
                <a:avLst/>
                <a:gdLst/>
                <a:ahLst/>
                <a:rect l="l" t="t" r="r" b="b"/>
                <a:pathLst>
                  <a:path w="115" h="117">
                    <a:moveTo>
                      <a:pt x="0" y="117"/>
                    </a:moveTo>
                    <a:lnTo>
                      <a:pt x="115" y="57"/>
                    </a:lnTo>
                    <a:lnTo>
                      <a:pt x="0" y="0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257800" y="3727440"/>
              <a:ext cx="2590920" cy="615960"/>
              <a:chOff x="5257800" y="3727440"/>
              <a:chExt cx="2590920" cy="615960"/>
            </a:xfrm>
          </p:grpSpPr>
          <p:sp>
            <p:nvSpPr>
              <p:cNvPr id="196" name=""/>
              <p:cNvSpPr/>
              <p:nvPr/>
            </p:nvSpPr>
            <p:spPr>
              <a:xfrm>
                <a:off x="5602320" y="3727440"/>
                <a:ext cx="1308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600"/>
                    </a:solidFill>
                    <a:latin typeface="Arial"/>
                    <a:ea typeface="Arial"/>
                  </a:rPr>
                  <a:t>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57800" y="4068720"/>
                <a:ext cx="2590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“Resultado del proceso)”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936720" y="5207040"/>
            <a:ext cx="4047120" cy="1270080"/>
            <a:chOff x="936720" y="5207040"/>
            <a:chExt cx="4047120" cy="1270080"/>
          </a:xfrm>
        </p:grpSpPr>
        <p:sp>
          <p:nvSpPr>
            <p:cNvPr id="199" name=""/>
            <p:cNvSpPr/>
            <p:nvPr/>
          </p:nvSpPr>
          <p:spPr>
            <a:xfrm>
              <a:off x="1190520" y="5207040"/>
              <a:ext cx="3668400" cy="279360"/>
            </a:xfrm>
            <a:custGeom>
              <a:avLst/>
              <a:gdLst/>
              <a:ahLst/>
              <a:rect l="l" t="t" r="r" b="b"/>
              <a:pathLst>
                <a:path w="3510" h="315">
                  <a:moveTo>
                    <a:pt x="3510" y="0"/>
                  </a:moveTo>
                  <a:lnTo>
                    <a:pt x="3480" y="0"/>
                  </a:lnTo>
                  <a:lnTo>
                    <a:pt x="3478" y="15"/>
                  </a:lnTo>
                  <a:lnTo>
                    <a:pt x="3475" y="30"/>
                  </a:lnTo>
                  <a:lnTo>
                    <a:pt x="3490" y="30"/>
                  </a:lnTo>
                  <a:lnTo>
                    <a:pt x="3478" y="20"/>
                  </a:lnTo>
                  <a:lnTo>
                    <a:pt x="3470" y="33"/>
                  </a:lnTo>
                  <a:lnTo>
                    <a:pt x="3460" y="48"/>
                  </a:lnTo>
                  <a:lnTo>
                    <a:pt x="3435" y="73"/>
                  </a:lnTo>
                  <a:lnTo>
                    <a:pt x="3445" y="85"/>
                  </a:lnTo>
                  <a:lnTo>
                    <a:pt x="3440" y="70"/>
                  </a:lnTo>
                  <a:lnTo>
                    <a:pt x="3405" y="93"/>
                  </a:lnTo>
                  <a:lnTo>
                    <a:pt x="3360" y="110"/>
                  </a:lnTo>
                  <a:lnTo>
                    <a:pt x="3313" y="125"/>
                  </a:lnTo>
                  <a:lnTo>
                    <a:pt x="3318" y="138"/>
                  </a:lnTo>
                  <a:lnTo>
                    <a:pt x="3318" y="123"/>
                  </a:lnTo>
                  <a:lnTo>
                    <a:pt x="3263" y="133"/>
                  </a:lnTo>
                  <a:lnTo>
                    <a:pt x="3205" y="135"/>
                  </a:lnTo>
                  <a:lnTo>
                    <a:pt x="1985" y="135"/>
                  </a:lnTo>
                  <a:lnTo>
                    <a:pt x="1928" y="138"/>
                  </a:lnTo>
                  <a:lnTo>
                    <a:pt x="1873" y="148"/>
                  </a:lnTo>
                  <a:lnTo>
                    <a:pt x="1865" y="148"/>
                  </a:lnTo>
                  <a:lnTo>
                    <a:pt x="1818" y="163"/>
                  </a:lnTo>
                  <a:lnTo>
                    <a:pt x="1775" y="180"/>
                  </a:lnTo>
                  <a:lnTo>
                    <a:pt x="1738" y="203"/>
                  </a:lnTo>
                  <a:lnTo>
                    <a:pt x="1733" y="205"/>
                  </a:lnTo>
                  <a:lnTo>
                    <a:pt x="1708" y="230"/>
                  </a:lnTo>
                  <a:lnTo>
                    <a:pt x="1698" y="245"/>
                  </a:lnTo>
                  <a:lnTo>
                    <a:pt x="1690" y="258"/>
                  </a:lnTo>
                  <a:lnTo>
                    <a:pt x="1685" y="270"/>
                  </a:lnTo>
                  <a:lnTo>
                    <a:pt x="1683" y="285"/>
                  </a:lnTo>
                  <a:lnTo>
                    <a:pt x="1680" y="300"/>
                  </a:lnTo>
                  <a:lnTo>
                    <a:pt x="1680" y="300"/>
                  </a:lnTo>
                  <a:lnTo>
                    <a:pt x="1685" y="310"/>
                  </a:lnTo>
                  <a:lnTo>
                    <a:pt x="1690" y="313"/>
                  </a:lnTo>
                  <a:lnTo>
                    <a:pt x="1695" y="315"/>
                  </a:lnTo>
                  <a:lnTo>
                    <a:pt x="1700" y="313"/>
                  </a:lnTo>
                  <a:lnTo>
                    <a:pt x="1705" y="310"/>
                  </a:lnTo>
                  <a:lnTo>
                    <a:pt x="1710" y="300"/>
                  </a:lnTo>
                  <a:lnTo>
                    <a:pt x="1708" y="285"/>
                  </a:lnTo>
                  <a:lnTo>
                    <a:pt x="1705" y="270"/>
                  </a:lnTo>
                  <a:lnTo>
                    <a:pt x="1700" y="258"/>
                  </a:lnTo>
                  <a:lnTo>
                    <a:pt x="1693" y="245"/>
                  </a:lnTo>
                  <a:lnTo>
                    <a:pt x="1683" y="230"/>
                  </a:lnTo>
                  <a:lnTo>
                    <a:pt x="1658" y="205"/>
                  </a:lnTo>
                  <a:lnTo>
                    <a:pt x="1653" y="203"/>
                  </a:lnTo>
                  <a:lnTo>
                    <a:pt x="1618" y="180"/>
                  </a:lnTo>
                  <a:lnTo>
                    <a:pt x="1573" y="163"/>
                  </a:lnTo>
                  <a:lnTo>
                    <a:pt x="1525" y="148"/>
                  </a:lnTo>
                  <a:lnTo>
                    <a:pt x="1518" y="148"/>
                  </a:lnTo>
                  <a:lnTo>
                    <a:pt x="1463" y="138"/>
                  </a:lnTo>
                  <a:lnTo>
                    <a:pt x="1405" y="135"/>
                  </a:lnTo>
                  <a:lnTo>
                    <a:pt x="305" y="135"/>
                  </a:lnTo>
                  <a:lnTo>
                    <a:pt x="248" y="133"/>
                  </a:lnTo>
                  <a:lnTo>
                    <a:pt x="193" y="123"/>
                  </a:lnTo>
                  <a:lnTo>
                    <a:pt x="193" y="138"/>
                  </a:lnTo>
                  <a:lnTo>
                    <a:pt x="198" y="125"/>
                  </a:lnTo>
                  <a:lnTo>
                    <a:pt x="150" y="110"/>
                  </a:lnTo>
                  <a:lnTo>
                    <a:pt x="108" y="93"/>
                  </a:lnTo>
                  <a:lnTo>
                    <a:pt x="70" y="70"/>
                  </a:lnTo>
                  <a:lnTo>
                    <a:pt x="65" y="85"/>
                  </a:lnTo>
                  <a:lnTo>
                    <a:pt x="75" y="73"/>
                  </a:lnTo>
                  <a:lnTo>
                    <a:pt x="50" y="48"/>
                  </a:lnTo>
                  <a:lnTo>
                    <a:pt x="40" y="33"/>
                  </a:lnTo>
                  <a:lnTo>
                    <a:pt x="33" y="20"/>
                  </a:lnTo>
                  <a:lnTo>
                    <a:pt x="20" y="30"/>
                  </a:lnTo>
                  <a:lnTo>
                    <a:pt x="35" y="30"/>
                  </a:lnTo>
                  <a:lnTo>
                    <a:pt x="33" y="15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" y="15"/>
                  </a:lnTo>
                  <a:lnTo>
                    <a:pt x="5" y="30"/>
                  </a:lnTo>
                  <a:lnTo>
                    <a:pt x="10" y="43"/>
                  </a:lnTo>
                  <a:lnTo>
                    <a:pt x="18" y="55"/>
                  </a:lnTo>
                  <a:lnTo>
                    <a:pt x="28" y="70"/>
                  </a:lnTo>
                  <a:lnTo>
                    <a:pt x="53" y="95"/>
                  </a:lnTo>
                  <a:lnTo>
                    <a:pt x="58" y="98"/>
                  </a:lnTo>
                  <a:lnTo>
                    <a:pt x="95" y="120"/>
                  </a:lnTo>
                  <a:lnTo>
                    <a:pt x="138" y="138"/>
                  </a:lnTo>
                  <a:lnTo>
                    <a:pt x="185" y="153"/>
                  </a:lnTo>
                  <a:lnTo>
                    <a:pt x="193" y="153"/>
                  </a:lnTo>
                  <a:lnTo>
                    <a:pt x="248" y="163"/>
                  </a:lnTo>
                  <a:lnTo>
                    <a:pt x="305" y="165"/>
                  </a:lnTo>
                  <a:lnTo>
                    <a:pt x="1405" y="165"/>
                  </a:lnTo>
                  <a:lnTo>
                    <a:pt x="1463" y="168"/>
                  </a:lnTo>
                  <a:lnTo>
                    <a:pt x="1518" y="178"/>
                  </a:lnTo>
                  <a:lnTo>
                    <a:pt x="1518" y="163"/>
                  </a:lnTo>
                  <a:lnTo>
                    <a:pt x="1513" y="175"/>
                  </a:lnTo>
                  <a:lnTo>
                    <a:pt x="1560" y="190"/>
                  </a:lnTo>
                  <a:lnTo>
                    <a:pt x="1605" y="208"/>
                  </a:lnTo>
                  <a:lnTo>
                    <a:pt x="1640" y="230"/>
                  </a:lnTo>
                  <a:lnTo>
                    <a:pt x="1645" y="218"/>
                  </a:lnTo>
                  <a:lnTo>
                    <a:pt x="1635" y="228"/>
                  </a:lnTo>
                  <a:lnTo>
                    <a:pt x="1660" y="253"/>
                  </a:lnTo>
                  <a:lnTo>
                    <a:pt x="1670" y="268"/>
                  </a:lnTo>
                  <a:lnTo>
                    <a:pt x="1678" y="280"/>
                  </a:lnTo>
                  <a:lnTo>
                    <a:pt x="1690" y="270"/>
                  </a:lnTo>
                  <a:lnTo>
                    <a:pt x="1675" y="270"/>
                  </a:lnTo>
                  <a:lnTo>
                    <a:pt x="1678" y="285"/>
                  </a:lnTo>
                  <a:lnTo>
                    <a:pt x="1680" y="300"/>
                  </a:lnTo>
                  <a:lnTo>
                    <a:pt x="1710" y="300"/>
                  </a:lnTo>
                  <a:lnTo>
                    <a:pt x="1705" y="290"/>
                  </a:lnTo>
                  <a:lnTo>
                    <a:pt x="1700" y="288"/>
                  </a:lnTo>
                  <a:lnTo>
                    <a:pt x="1695" y="285"/>
                  </a:lnTo>
                  <a:lnTo>
                    <a:pt x="1690" y="288"/>
                  </a:lnTo>
                  <a:lnTo>
                    <a:pt x="1685" y="290"/>
                  </a:lnTo>
                  <a:lnTo>
                    <a:pt x="1680" y="300"/>
                  </a:lnTo>
                  <a:lnTo>
                    <a:pt x="1695" y="300"/>
                  </a:lnTo>
                  <a:lnTo>
                    <a:pt x="1710" y="300"/>
                  </a:lnTo>
                  <a:lnTo>
                    <a:pt x="1713" y="285"/>
                  </a:lnTo>
                  <a:lnTo>
                    <a:pt x="1715" y="270"/>
                  </a:lnTo>
                  <a:lnTo>
                    <a:pt x="1700" y="270"/>
                  </a:lnTo>
                  <a:lnTo>
                    <a:pt x="1713" y="280"/>
                  </a:lnTo>
                  <a:lnTo>
                    <a:pt x="1720" y="268"/>
                  </a:lnTo>
                  <a:lnTo>
                    <a:pt x="1730" y="253"/>
                  </a:lnTo>
                  <a:lnTo>
                    <a:pt x="1755" y="228"/>
                  </a:lnTo>
                  <a:lnTo>
                    <a:pt x="1745" y="218"/>
                  </a:lnTo>
                  <a:lnTo>
                    <a:pt x="1750" y="230"/>
                  </a:lnTo>
                  <a:lnTo>
                    <a:pt x="1788" y="208"/>
                  </a:lnTo>
                  <a:lnTo>
                    <a:pt x="1830" y="190"/>
                  </a:lnTo>
                  <a:lnTo>
                    <a:pt x="1878" y="175"/>
                  </a:lnTo>
                  <a:lnTo>
                    <a:pt x="1873" y="163"/>
                  </a:lnTo>
                  <a:lnTo>
                    <a:pt x="1873" y="178"/>
                  </a:lnTo>
                  <a:lnTo>
                    <a:pt x="1928" y="168"/>
                  </a:lnTo>
                  <a:lnTo>
                    <a:pt x="1985" y="165"/>
                  </a:lnTo>
                  <a:lnTo>
                    <a:pt x="3205" y="165"/>
                  </a:lnTo>
                  <a:lnTo>
                    <a:pt x="3263" y="163"/>
                  </a:lnTo>
                  <a:lnTo>
                    <a:pt x="3318" y="153"/>
                  </a:lnTo>
                  <a:lnTo>
                    <a:pt x="3325" y="153"/>
                  </a:lnTo>
                  <a:lnTo>
                    <a:pt x="3373" y="138"/>
                  </a:lnTo>
                  <a:lnTo>
                    <a:pt x="3418" y="120"/>
                  </a:lnTo>
                  <a:lnTo>
                    <a:pt x="3453" y="98"/>
                  </a:lnTo>
                  <a:lnTo>
                    <a:pt x="3458" y="95"/>
                  </a:lnTo>
                  <a:lnTo>
                    <a:pt x="3483" y="70"/>
                  </a:lnTo>
                  <a:lnTo>
                    <a:pt x="3493" y="55"/>
                  </a:lnTo>
                  <a:lnTo>
                    <a:pt x="3500" y="43"/>
                  </a:lnTo>
                  <a:lnTo>
                    <a:pt x="3505" y="30"/>
                  </a:lnTo>
                  <a:lnTo>
                    <a:pt x="3505" y="30"/>
                  </a:lnTo>
                  <a:lnTo>
                    <a:pt x="3508" y="15"/>
                  </a:lnTo>
                  <a:lnTo>
                    <a:pt x="3510" y="0"/>
                  </a:lnTo>
                  <a:close/>
                </a:path>
              </a:pathLst>
            </a:custGeom>
            <a:noFill/>
            <a:ln w="28440">
              <a:solidFill>
                <a:srgbClr val="00c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936720" y="5538960"/>
              <a:ext cx="4047120" cy="938160"/>
              <a:chOff x="936720" y="5538960"/>
              <a:chExt cx="4047120" cy="938160"/>
            </a:xfrm>
          </p:grpSpPr>
          <p:sp>
            <p:nvSpPr>
              <p:cNvPr id="201" name=""/>
              <p:cNvSpPr/>
              <p:nvPr/>
            </p:nvSpPr>
            <p:spPr>
              <a:xfrm>
                <a:off x="2119680" y="5538960"/>
                <a:ext cx="1602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MEDICIÓN 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SEGUIMIEN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936720" y="6202440"/>
                <a:ext cx="4047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Antes, durante y después del  proceso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4571640" y="3581280"/>
            <a:ext cx="6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a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7280" y="364644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t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19320" y="3471840"/>
            <a:ext cx="1789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905120" y="3516480"/>
            <a:ext cx="2286000" cy="1464480"/>
            <a:chOff x="1905120" y="3516480"/>
            <a:chExt cx="2286000" cy="1464480"/>
          </a:xfrm>
        </p:grpSpPr>
        <p:sp>
          <p:nvSpPr>
            <p:cNvPr id="207" name=""/>
            <p:cNvSpPr/>
            <p:nvPr/>
          </p:nvSpPr>
          <p:spPr>
            <a:xfrm>
              <a:off x="2192760" y="3516480"/>
              <a:ext cx="152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3883320"/>
              <a:ext cx="2286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Arial"/>
                  <a:ea typeface="Arial"/>
                </a:rPr>
                <a:t>(“Conjunto de actividad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Arial"/>
                  <a:ea typeface="Arial"/>
                </a:rPr>
                <a:t>relacionadas 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Arial"/>
                  <a:ea typeface="Arial"/>
                </a:rPr>
                <a:t>interactúan”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57920" y="4038480"/>
            <a:ext cx="1040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Incluy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2600" y="533520"/>
            <a:ext cx="417168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b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e917"/>
                </a:solidFill>
                <a:latin typeface="Arial Unicode MS"/>
              </a:rPr>
              <a:t>Enfoque de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43800" y="4572000"/>
            <a:ext cx="3418920" cy="1828800"/>
            <a:chOff x="4843800" y="4572000"/>
            <a:chExt cx="3418920" cy="1828800"/>
          </a:xfrm>
        </p:grpSpPr>
        <p:sp>
          <p:nvSpPr>
            <p:cNvPr id="212" name=""/>
            <p:cNvSpPr/>
            <p:nvPr/>
          </p:nvSpPr>
          <p:spPr>
            <a:xfrm>
              <a:off x="4876560" y="4572000"/>
              <a:ext cx="3276720" cy="18288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3800" y="5257800"/>
              <a:ext cx="3418920" cy="109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Arial"/>
                  <a:ea typeface="Arial"/>
                </a:rPr>
                <a:t>Los resultados alcanzados VS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Arial"/>
                  <a:ea typeface="Arial"/>
                </a:rPr>
                <a:t>recursos uti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Arial"/>
                  <a:ea typeface="Arial"/>
                </a:rPr>
                <a:t>(Enfoque de IS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Arial"/>
                  <a:ea typeface="Arial"/>
                </a:rPr>
                <a:t>9004:2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10080" y="4724640"/>
              <a:ext cx="2359080" cy="54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Arial"/>
                  <a:ea typeface="Arial"/>
                </a:rPr>
                <a:t>EFICIENCIA DE PROCESO  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181480" y="914400"/>
            <a:ext cx="2590560" cy="2666880"/>
            <a:chOff x="5181480" y="914400"/>
            <a:chExt cx="2590560" cy="2666880"/>
          </a:xfrm>
        </p:grpSpPr>
        <p:grpSp>
          <p:nvGrpSpPr>
            <p:cNvPr id="216" name=""/>
            <p:cNvGrpSpPr/>
            <p:nvPr/>
          </p:nvGrpSpPr>
          <p:grpSpPr>
            <a:xfrm>
              <a:off x="5181480" y="914400"/>
              <a:ext cx="2590560" cy="2666880"/>
              <a:chOff x="5181480" y="914400"/>
              <a:chExt cx="2590560" cy="2666880"/>
            </a:xfrm>
          </p:grpSpPr>
          <p:sp>
            <p:nvSpPr>
              <p:cNvPr id="217" name=""/>
              <p:cNvSpPr/>
              <p:nvPr/>
            </p:nvSpPr>
            <p:spPr>
              <a:xfrm>
                <a:off x="5181480" y="914400"/>
                <a:ext cx="2590560" cy="26668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eb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30680" y="1676160"/>
                <a:ext cx="1886040" cy="164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cc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Habilidad para alcanza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los resultado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deseados (Enfoque d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ISO 9001:200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5379840" y="1066680"/>
              <a:ext cx="2239920" cy="54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Arial"/>
                  <a:ea typeface="Arial"/>
                </a:rPr>
                <a:t>EFICACIA DE PROCESO  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7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22080" y="2438280"/>
            <a:ext cx="433800" cy="3521880"/>
          </a:xfrm>
          <a:prstGeom prst="rect">
            <a:avLst/>
          </a:prstGeom>
          <a:noFill/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V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61440" y="2743200"/>
            <a:ext cx="438120" cy="2760120"/>
          </a:xfrm>
          <a:prstGeom prst="rect">
            <a:avLst/>
          </a:prstGeom>
          <a:noFill/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2209680"/>
            <a:ext cx="5943600" cy="4038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14480" y="5241960"/>
            <a:ext cx="4724280" cy="398880"/>
            <a:chOff x="1914480" y="5241960"/>
            <a:chExt cx="4724280" cy="398880"/>
          </a:xfrm>
        </p:grpSpPr>
        <p:sp>
          <p:nvSpPr>
            <p:cNvPr id="224" name=""/>
            <p:cNvSpPr/>
            <p:nvPr/>
          </p:nvSpPr>
          <p:spPr>
            <a:xfrm>
              <a:off x="1914480" y="5486400"/>
              <a:ext cx="472428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76480" y="5241960"/>
              <a:ext cx="2544480" cy="398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c600"/>
                  </a:solidFill>
                  <a:latin typeface="Swis721 BT"/>
                </a:rPr>
                <a:t>Procesos de Apoy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914480" y="2793960"/>
            <a:ext cx="4724280" cy="398880"/>
            <a:chOff x="1914480" y="2793960"/>
            <a:chExt cx="4724280" cy="398880"/>
          </a:xfrm>
        </p:grpSpPr>
        <p:sp>
          <p:nvSpPr>
            <p:cNvPr id="227" name=""/>
            <p:cNvSpPr/>
            <p:nvPr/>
          </p:nvSpPr>
          <p:spPr>
            <a:xfrm>
              <a:off x="1914480" y="3022560"/>
              <a:ext cx="472428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67640" y="2793960"/>
              <a:ext cx="2494080" cy="398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c600"/>
                  </a:solidFill>
                  <a:latin typeface="Swis721 BT"/>
                </a:rPr>
                <a:t>Procesos Princip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685880" y="3336840"/>
            <a:ext cx="22860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10199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62200" y="3489480"/>
            <a:ext cx="228600" cy="228600"/>
          </a:xfrm>
          <a:prstGeom prst="flowChartOr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43080" y="3489480"/>
            <a:ext cx="228600" cy="228600"/>
          </a:xfrm>
          <a:prstGeom prst="rect">
            <a:avLst/>
          </a:prstGeom>
          <a:gradFill rotWithShape="0">
            <a:gsLst>
              <a:gs pos="0">
                <a:srgbClr val="00c600"/>
              </a:gs>
              <a:gs pos="50000">
                <a:srgbClr val="ddf6dd"/>
              </a:gs>
              <a:gs pos="100000">
                <a:srgbClr val="00c600"/>
              </a:gs>
            </a:gsLst>
            <a:lin ang="5400000"/>
          </a:gradFill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4800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52560" y="3489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990000"/>
              </a:gs>
              <a:gs pos="50000">
                <a:srgbClr val="fefefe"/>
              </a:gs>
              <a:gs pos="100000">
                <a:srgbClr val="990000"/>
              </a:gs>
            </a:gsLst>
            <a:lin ang="5400000"/>
          </a:gra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748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62400" y="3489480"/>
            <a:ext cx="228600" cy="228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efefe"/>
              </a:gs>
              <a:gs pos="100000">
                <a:srgbClr val="008000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6696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48200" y="3413160"/>
            <a:ext cx="457200" cy="457200"/>
          </a:xfrm>
          <a:prstGeom prst="flowChartOr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81360" y="3336840"/>
            <a:ext cx="22860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10199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57680" y="3489480"/>
            <a:ext cx="228600" cy="228600"/>
          </a:xfrm>
          <a:prstGeom prst="rect">
            <a:avLst/>
          </a:prstGeom>
          <a:gradFill rotWithShape="0">
            <a:gsLst>
              <a:gs pos="0">
                <a:srgbClr val="00c600"/>
              </a:gs>
              <a:gs pos="50000">
                <a:srgbClr val="ddf6dd"/>
              </a:gs>
              <a:gs pos="100000">
                <a:srgbClr val="00c600"/>
              </a:gs>
            </a:gsLst>
            <a:lin ang="5400000"/>
          </a:gradFill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6260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67160" y="3489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990000"/>
              </a:gs>
              <a:gs pos="50000">
                <a:srgbClr val="fefefe"/>
              </a:gs>
              <a:gs pos="100000">
                <a:srgbClr val="990000"/>
              </a:gs>
            </a:gsLst>
            <a:lin ang="5400000"/>
          </a:gra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7208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77000" y="3489480"/>
            <a:ext cx="228600" cy="228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efefe"/>
              </a:gs>
              <a:gs pos="100000">
                <a:srgbClr val="008000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8156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86480" y="3489480"/>
            <a:ext cx="228600" cy="228600"/>
          </a:xfrm>
          <a:prstGeom prst="flowChartOr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01080" y="411480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Control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C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39466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85880" y="4784760"/>
            <a:ext cx="1828800" cy="380880"/>
            <a:chOff x="1685880" y="4784760"/>
            <a:chExt cx="1828800" cy="380880"/>
          </a:xfrm>
        </p:grpSpPr>
        <p:sp>
          <p:nvSpPr>
            <p:cNvPr id="249" name=""/>
            <p:cNvSpPr/>
            <p:nvPr/>
          </p:nvSpPr>
          <p:spPr>
            <a:xfrm>
              <a:off x="1685880" y="4784760"/>
              <a:ext cx="380880" cy="380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50000">
                  <a:srgbClr val="fefefe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440" y="4784760"/>
              <a:ext cx="381240" cy="380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50000">
                  <a:srgbClr val="fefefe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14480" y="4784760"/>
              <a:ext cx="13716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66760" y="5165640"/>
              <a:ext cx="10666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038560" y="4784760"/>
            <a:ext cx="1828800" cy="380880"/>
            <a:chOff x="5038560" y="4784760"/>
            <a:chExt cx="1828800" cy="380880"/>
          </a:xfrm>
        </p:grpSpPr>
        <p:sp>
          <p:nvSpPr>
            <p:cNvPr id="254" name=""/>
            <p:cNvSpPr/>
            <p:nvPr/>
          </p:nvSpPr>
          <p:spPr>
            <a:xfrm>
              <a:off x="5038560" y="4784760"/>
              <a:ext cx="380880" cy="380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50000">
                  <a:srgbClr val="fefefe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86120" y="4784760"/>
              <a:ext cx="381240" cy="380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50000">
                  <a:srgbClr val="fefefe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67160" y="4784760"/>
              <a:ext cx="13716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19440" y="5165640"/>
              <a:ext cx="10666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09880" y="4724280"/>
            <a:ext cx="914400" cy="455760"/>
          </a:xfrm>
          <a:prstGeom prst="rightArrow">
            <a:avLst>
              <a:gd name="adj1" fmla="val 50000"/>
              <a:gd name="adj2" fmla="val 50158"/>
            </a:avLst>
          </a:prstGeom>
          <a:gradFill rotWithShape="0">
            <a:gsLst>
              <a:gs pos="0">
                <a:srgbClr val="000048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3680" y="3505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3489480"/>
            <a:ext cx="466560" cy="228600"/>
          </a:xfrm>
          <a:prstGeom prst="rightArrow">
            <a:avLst>
              <a:gd name="adj1" fmla="val 50000"/>
              <a:gd name="adj2" fmla="val 51024"/>
            </a:avLst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4876920"/>
            <a:ext cx="533160" cy="228600"/>
          </a:xfrm>
          <a:prstGeom prst="rightArrow">
            <a:avLst>
              <a:gd name="adj1" fmla="val 41667"/>
              <a:gd name="adj2" fmla="val 56223"/>
            </a:avLst>
          </a:prstGeom>
          <a:gradFill rotWithShape="0">
            <a:gsLst>
              <a:gs pos="0">
                <a:srgbClr val="000048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861080"/>
            <a:ext cx="542880" cy="228600"/>
          </a:xfrm>
          <a:prstGeom prst="rightArrow">
            <a:avLst>
              <a:gd name="adj1" fmla="val 50000"/>
              <a:gd name="adj2" fmla="val 59370"/>
            </a:avLst>
          </a:prstGeom>
          <a:gradFill rotWithShape="0">
            <a:gsLst>
              <a:gs pos="0">
                <a:srgbClr val="000048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1990440" y="3870360"/>
            <a:ext cx="533160" cy="53352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523600" y="4403520"/>
            <a:ext cx="1219320" cy="1522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886280" y="4403520"/>
            <a:ext cx="1143000" cy="1522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029280" y="3870360"/>
            <a:ext cx="533520" cy="53352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240" y="762120"/>
            <a:ext cx="3137400" cy="459720"/>
          </a:xfrm>
          <a:prstGeom prst="rect">
            <a:avLst/>
          </a:prstGeom>
          <a:noFill/>
          <a:ln w="7632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Swis721 BT"/>
              </a:rPr>
              <a:t>Entorno Produ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23960" y="4861080"/>
            <a:ext cx="228600" cy="228600"/>
          </a:xfrm>
          <a:prstGeom prst="flowChartOr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00680" y="4861080"/>
            <a:ext cx="228600" cy="228600"/>
          </a:xfrm>
          <a:prstGeom prst="flowChartOr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38160" y="2362320"/>
            <a:ext cx="457200" cy="457200"/>
          </a:xfrm>
          <a:prstGeom prst="flowChartOr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57880" y="2362320"/>
            <a:ext cx="457200" cy="457200"/>
          </a:xfrm>
          <a:prstGeom prst="flowChartOr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19400" y="2819520"/>
            <a:ext cx="457200" cy="3808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952600" y="2819520"/>
            <a:ext cx="381240" cy="3808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1295280"/>
            <a:ext cx="457200" cy="457200"/>
          </a:xfrm>
          <a:prstGeom prst="flowChartOr">
            <a:avLst/>
          </a:prstGeom>
          <a:blipFill rotWithShape="0">
            <a:blip r:embed="rId7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95400" y="1752480"/>
            <a:ext cx="228600" cy="38124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71680" y="2590920"/>
            <a:ext cx="3809880" cy="0"/>
          </a:xfrm>
          <a:prstGeom prst="line">
            <a:avLst/>
          </a:prstGeom>
          <a:ln w="38160">
            <a:solidFill>
              <a:srgbClr val="00c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44840" y="6172200"/>
            <a:ext cx="1430280" cy="6426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Audi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de 2° pa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05800" y="5562720"/>
            <a:ext cx="457200" cy="457200"/>
          </a:xfrm>
          <a:prstGeom prst="flowChartOr">
            <a:avLst/>
          </a:prstGeom>
          <a:blipFill rotWithShape="0">
            <a:blip r:embed="rId8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24200" y="5791320"/>
            <a:ext cx="304920" cy="0"/>
          </a:xfrm>
          <a:prstGeom prst="line">
            <a:avLst/>
          </a:prstGeom>
          <a:ln w="284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22160" y="1447920"/>
            <a:ext cx="1430280" cy="642600"/>
          </a:xfrm>
          <a:prstGeom prst="rect">
            <a:avLst/>
          </a:prstGeom>
          <a:solidFill>
            <a:srgbClr val="00c600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Audi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de 3° pa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8600" y="838080"/>
            <a:ext cx="3298680" cy="368280"/>
          </a:xfrm>
          <a:prstGeom prst="rect">
            <a:avLst/>
          </a:prstGeom>
          <a:noFill/>
          <a:ln w="1908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Swis721 BT"/>
              </a:rPr>
              <a:t>Organismo de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828880" y="4556160"/>
            <a:ext cx="914400" cy="3808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86280" y="4556160"/>
            <a:ext cx="838080" cy="3808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43080" y="3946680"/>
            <a:ext cx="914400" cy="790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c600"/>
              </a:gs>
              <a:gs pos="50000">
                <a:srgbClr val="ddf6dd"/>
              </a:gs>
              <a:gs pos="100000">
                <a:srgbClr val="00c600"/>
              </a:gs>
            </a:gsLst>
            <a:lin ang="5400000"/>
          </a:gradFill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05200" y="6019920"/>
            <a:ext cx="289548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Swis721 BT"/>
              </a:rPr>
              <a:t>Procesos de dir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2600280" y="1981080"/>
            <a:ext cx="457200" cy="53352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5680" y="1595520"/>
            <a:ext cx="4103640" cy="368280"/>
          </a:xfrm>
          <a:prstGeom prst="rect">
            <a:avLst/>
          </a:prstGeom>
          <a:noFill/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Todo el entorno desde la 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95760" y="3946680"/>
            <a:ext cx="914400" cy="790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000"/>
              </a:gs>
              <a:gs pos="50000">
                <a:srgbClr val="fefefe"/>
              </a:gs>
              <a:gs pos="100000">
                <a:srgbClr val="008000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7840" y="2362320"/>
            <a:ext cx="268164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Swis721 BT"/>
              </a:rPr>
              <a:t>Auditorias de 1° pa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5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50920" y="189000"/>
            <a:ext cx="70578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e917"/>
                </a:solidFill>
                <a:latin typeface="Arial Unicode MS"/>
              </a:rPr>
              <a:t>5. </a:t>
            </a:r>
            <a:r>
              <a:rPr b="1" lang="es-ES_tradnl" sz="3200" spc="-1" strike="noStrike">
                <a:solidFill>
                  <a:srgbClr val="ffe917"/>
                </a:solidFill>
                <a:latin typeface="Arial Unicode MS"/>
              </a:rPr>
              <a:t>	</a:t>
            </a:r>
            <a:r>
              <a:rPr b="1" lang="es-ES_tradnl" sz="3200" spc="-1" strike="noStrike">
                <a:solidFill>
                  <a:srgbClr val="ffe917"/>
                </a:solidFill>
                <a:latin typeface="Arial Unicode MS"/>
              </a:rPr>
              <a:t>Responsabilidad de la Dire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2022480"/>
            <a:ext cx="2514600" cy="36324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Política de c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33880" y="2011320"/>
            <a:ext cx="2647800" cy="36324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Objetivos de C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40080" y="5145120"/>
            <a:ext cx="2579760" cy="6112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Revisión de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428640" y="2022480"/>
            <a:ext cx="609480" cy="532800"/>
            <a:chOff x="3428640" y="2022480"/>
            <a:chExt cx="609480" cy="532800"/>
          </a:xfrm>
        </p:grpSpPr>
        <p:sp>
          <p:nvSpPr>
            <p:cNvPr id="295" name=""/>
            <p:cNvSpPr/>
            <p:nvPr/>
          </p:nvSpPr>
          <p:spPr>
            <a:xfrm flipH="1">
              <a:off x="3428280" y="2022480"/>
              <a:ext cx="305640" cy="532800"/>
            </a:xfrm>
            <a:prstGeom prst="rightArrow">
              <a:avLst>
                <a:gd name="adj1" fmla="val 50000"/>
                <a:gd name="adj2" fmla="val 50014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32480" y="2022480"/>
              <a:ext cx="305640" cy="532800"/>
            </a:xfrm>
            <a:prstGeom prst="rightArrow">
              <a:avLst>
                <a:gd name="adj1" fmla="val 50000"/>
                <a:gd name="adj2" fmla="val 50014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H="1" rot="16200000">
            <a:off x="3542040" y="2593800"/>
            <a:ext cx="380880" cy="6094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34400" y="3241800"/>
            <a:ext cx="5030640" cy="6375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Responsabilidad – Autoridad - 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72920" y="4038480"/>
            <a:ext cx="2456640" cy="6375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HandelGothic BT"/>
              </a:rPr>
              <a:t> </a:t>
            </a: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Representante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rot="16200000">
            <a:off x="3589920" y="4710240"/>
            <a:ext cx="268200" cy="5317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57200" y="2746440"/>
            <a:ext cx="914400" cy="3314520"/>
            <a:chOff x="457200" y="2746440"/>
            <a:chExt cx="914400" cy="3314520"/>
          </a:xfrm>
        </p:grpSpPr>
        <p:sp>
          <p:nvSpPr>
            <p:cNvPr id="302" name=""/>
            <p:cNvSpPr/>
            <p:nvPr/>
          </p:nvSpPr>
          <p:spPr>
            <a:xfrm>
              <a:off x="457200" y="2746440"/>
              <a:ext cx="914400" cy="3314520"/>
            </a:xfrm>
            <a:prstGeom prst="rightArrow">
              <a:avLst>
                <a:gd name="adj1" fmla="val 49426"/>
                <a:gd name="adj2" fmla="val 50000"/>
              </a:avLst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-331200" y="4212720"/>
              <a:ext cx="230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Arial Unicode MS"/>
                </a:rPr>
                <a:t>Recursos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HandelGothic BT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222640" y="1413000"/>
            <a:ext cx="3394080" cy="33948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Compromiso de la 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346800" y="3056040"/>
            <a:ext cx="1577880" cy="3462120"/>
            <a:chOff x="6346800" y="3056040"/>
            <a:chExt cx="1577880" cy="3462120"/>
          </a:xfrm>
        </p:grpSpPr>
        <p:sp>
          <p:nvSpPr>
            <p:cNvPr id="306" name=""/>
            <p:cNvSpPr/>
            <p:nvPr/>
          </p:nvSpPr>
          <p:spPr>
            <a:xfrm>
              <a:off x="6362640" y="3056040"/>
              <a:ext cx="1562040" cy="3462120"/>
            </a:xfrm>
            <a:custGeom>
              <a:avLst/>
              <a:gdLst/>
              <a:ahLst/>
              <a:rect l="l" t="t" r="r" b="b"/>
              <a:pathLst>
                <a:path w="1105" h="2329">
                  <a:moveTo>
                    <a:pt x="0" y="2328"/>
                  </a:moveTo>
                  <a:lnTo>
                    <a:pt x="1104" y="2328"/>
                  </a:lnTo>
                  <a:lnTo>
                    <a:pt x="1104" y="0"/>
                  </a:lnTo>
                  <a:lnTo>
                    <a:pt x="846" y="0"/>
                  </a:lnTo>
                </a:path>
              </a:pathLst>
            </a:custGeom>
            <a:solidFill>
              <a:srgbClr val="000099"/>
            </a:solidFill>
            <a:ln cap="rnd" w="38160">
              <a:solidFill>
                <a:srgbClr val="00c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6800" y="4846680"/>
              <a:ext cx="1425600" cy="12902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ff"/>
                  </a:solidFill>
                  <a:latin typeface="HandelGothic BT"/>
                </a:rPr>
                <a:t>Cli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168640" y="6213600"/>
            <a:ext cx="3394080" cy="33948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e917"/>
                </a:solidFill>
                <a:latin typeface="Arial Unicode MS"/>
              </a:rPr>
              <a:t>Resultados de la Re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rot="16200000">
            <a:off x="3553920" y="5771160"/>
            <a:ext cx="270000" cy="4618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6060960"/>
            <a:ext cx="304920" cy="457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770520" y="955800"/>
            <a:ext cx="1154160" cy="1152360"/>
            <a:chOff x="6770520" y="955800"/>
            <a:chExt cx="1154160" cy="1152360"/>
          </a:xfrm>
        </p:grpSpPr>
        <p:sp>
          <p:nvSpPr>
            <p:cNvPr id="312" name=""/>
            <p:cNvSpPr/>
            <p:nvPr/>
          </p:nvSpPr>
          <p:spPr>
            <a:xfrm>
              <a:off x="6770520" y="955800"/>
              <a:ext cx="1154160" cy="1152360"/>
            </a:xfrm>
            <a:prstGeom prst="flowChartConnector">
              <a:avLst/>
            </a:prstGeom>
            <a:solidFill>
              <a:srgbClr val="000099"/>
            </a:solidFill>
            <a:ln w="572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 rot="5400000">
              <a:off x="7458480" y="1150200"/>
              <a:ext cx="168120" cy="322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P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5400000">
              <a:off x="6984000" y="1150200"/>
              <a:ext cx="168120" cy="322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A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 rot="5400000">
              <a:off x="7458480" y="1591560"/>
              <a:ext cx="168120" cy="322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E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 rot="5400000">
              <a:off x="6984000" y="1591560"/>
              <a:ext cx="168120" cy="322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R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13760" y="955800"/>
              <a:ext cx="0" cy="11523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70520" y="1565280"/>
              <a:ext cx="115416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5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5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7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65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2500"/>
                            </p:stCondLst>
                            <p:childTnLst>
                              <p:par>
                                <p:cTn id="66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ff33"/>
                </a:solidFill>
                <a:latin typeface="Tahoma"/>
              </a:rPr>
              <a:t>Requer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  Sistema de Gestión de la Calidad (SG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1 Requerimientos gene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2 Requerimientos de la document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2.1 Gene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2.2 Manual de ca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2.3 Control de docu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2.4 Control de registros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5 Responsabilidad de la dire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1 Compromiso de la dire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2 Enfoque hacia el cl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3 Política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4 Plane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4.1  Objetiv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4.2  Planeación del sistema de gestión de la calidad                                                                             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66ff33"/>
                </a:solidFill>
                <a:latin typeface="Tahoma"/>
              </a:rPr>
              <a:t>continúa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3:32:39Z</dcterms:created>
  <dc:creator>Juan Carlos Barrera Mendieta</dc:creator>
  <dc:description/>
  <dc:language>en-US</dc:language>
  <cp:lastModifiedBy>Claudia López Pérez</cp:lastModifiedBy>
  <dcterms:modified xsi:type="dcterms:W3CDTF">2006-03-27T13:57:11Z</dcterms:modified>
  <cp:revision>11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600.00000000</vt:lpwstr>
  </property>
  <property fmtid="{D5CDD505-2E9C-101B-9397-08002B2CF9AE}" pid="5" name="Year">
    <vt:lpwstr>2006</vt:lpwstr>
  </property>
</Properties>
</file>