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CA2-20E3-4086-9D0D-B1C8A674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39CB-AF3A-4AE7-A7F2-59F41817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AE9F-A6F1-4DC3-B409-236BEA64A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86C7-E379-45E7-AEED-0932BCD4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9738E-835D-41C3-BB16-AD18AF9D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D0CB9E-3F97-45E2-A2F2-31012398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EBC93-56C7-407E-B97C-478F874F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B7BAF-E7FE-4394-BC5B-5578BF7D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E527E-21F4-4D57-8D44-FC05C37E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4AD3F-4D46-44A9-989B-CFDA5DD6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5332F9-710B-4997-B980-36872ABF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DD18-09F1-4BB3-AE34-3F8F401F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EAAFD-851C-4956-9733-79FFDB75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41D7F-BCE9-447C-9CD3-5D2C350F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29C7A-3A07-4AB3-9879-61A49DC4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5E66E-3AC5-443F-84B8-65BFA833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BD915-527D-402B-8FDD-915AAD0F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18CE-6A67-47EF-9C4C-C52A0E2D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E685-0B6B-49BA-A9C6-68C25ABE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0FE7-2DF3-46C7-81EA-C3D50F7D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B354-9955-497B-978E-B5AE3D49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2EEE-6878-4984-9995-4D2DE5AB3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15D-0E95-46FC-A028-F84A8192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746-0C31-43B8-A4FD-7A064E90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1C45-401A-416E-9F4F-F375DEB6C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1EEB-8238-47D2-A116-80D4439374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CAO/ASPA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afety Management System Semin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ir Traffic Manag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currence Report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exico City, Mexico, 14 – 16 March 200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Jeremy Jackson – Civil Aviation Authority of the Cayman Island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Accident/Incident Occurrences Investigation System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should be reported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ification and Investigation Occurrence Flow Control Ch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KAI and Manu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urocontrol Webs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sole objective of the investigation of an accident or incident is the prevention of accidents and incid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not the purpose of this activity to apportion blame or lia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fety Cul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Should Be Reporte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ir Traffic Control Services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by Flight Crew/ATCOs/Ground Ops Support Staff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vision of significantly incorrect, inadequate or misleading information from any ground sources, e.g. ATC, ATIS, Meteorological Services, maps, charts, manuals, et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vision of less than prescribed terrain clearanc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vision of incorrect altimeter setting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isidentification of aircraft by an ATCO or radar operator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correct transmission, receipt or interpretation of significant message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irprox and any occurrence in which separation between aircraft is less than that prescribed for the situa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on-compliance with prescribed letdown or departure procedures or any ATC/ATM instruc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claration of an emergency (‘Mayday’ or ‘Pan’) by an aircraf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nauthorized infringement of any form of regulated airspac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Unauthorized or illegal RTF transmission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TC Overload report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eclaration of an ACAS Resolution Advisory by an aircraf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Should Be Reporte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avigation and Communications Equipment etc. – failures, malfunctions 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defects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by Flight Crew/ATCO/ATS Maintenance Staff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tal failure of navigation system or subsystem being used by an aircraf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tal failure of communications syst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tal failure of radar system or subsystem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ailure or unplanned shutdown of a major operational ATC computer system requiring reversion to manual back up and resulting in disruption to the normal flow of air traffic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ignificant malfunction or deterioration of Servic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ignificant deficiency in maintenanc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petitive events of a specific type of occurrence, which in isolation may not be considered reportable (e.g. excessive monitor alarms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Provision of erroneous information in the absence of any alarm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Should Be Reported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Airfields and Airfield Facilities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- by Flight Crew/Airfield Staff/ATCO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Failure or significant malfunction of airfield lighting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jor failure or significant deterioration of surfaces of runways or aircraf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aneuvering area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unways or aircraft maneuvering areas obstructed by aircraft, vehicles or foreign objects, resulting in a hazardous or potentially hazardous situatio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unway incursion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rrors or inadequacies in marking of obstructions or hazards on runway or aircraft maneuvering area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ollision between a moving aircraft and any other aircraft, vehicle or other ground objec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ircraft departing from a paved surface which results in, or could have resulted in, a significant hazar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Jet or prop blast incidents resulting in significant damage or serious injury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Significant spillage of fuel on airfield ramps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tification and Investigation Occurrence Flow Control Char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1981080"/>
            <a:ext cx="167652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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ification recei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from repor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2895480"/>
            <a:ext cx="220968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eed for investig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3048120"/>
            <a:ext cx="11430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Process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CYI 2000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3048120"/>
            <a:ext cx="106668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Process for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CYI 2000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2819520"/>
            <a:ext cx="1981080" cy="1066680"/>
          </a:xfrm>
          <a:prstGeom prst="diamond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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Type of Occurrenc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3200400"/>
            <a:ext cx="380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040" y="33526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523880" y="3352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335268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352680"/>
            <a:ext cx="1526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3352680"/>
            <a:ext cx="5335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4419720"/>
            <a:ext cx="121932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Other Incid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388620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4191120"/>
            <a:ext cx="213336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41911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5334120"/>
            <a:ext cx="20574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Internal Invest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6095880"/>
            <a:ext cx="205740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Close occurrence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5638680"/>
            <a:ext cx="17524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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nal Re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esson Dissemin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edial A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4419720"/>
            <a:ext cx="190476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Accident/Serious Incid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19112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502920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924680" y="5791320"/>
            <a:ext cx="0" cy="3045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4419720"/>
            <a:ext cx="114300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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4419720"/>
            <a:ext cx="144792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ICAO Annex 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ACCID/INC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14600" y="5638680"/>
            <a:ext cx="167652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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Institute forma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invest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5029200"/>
            <a:ext cx="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057040" y="4724280"/>
            <a:ext cx="7621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962520" y="4724280"/>
            <a:ext cx="9144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6095880"/>
            <a:ext cx="6858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6629040" y="6324480"/>
            <a:ext cx="304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-2093760" y="-1446120"/>
            <a:ext cx="13333320" cy="9752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KAI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ol Kit for Air Traffic Management Investig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TC Occurrence Report Form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Investigation Occurrence Report Fil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1. Background Inform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2. Event Typ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3. Descriptive Factor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4. Human Factor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5. Classification Schem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6. Safety Recommendation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Occurrence Statu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isk Assessment Tool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nnual Summary Template and Statistics Tool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OKAI Manua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www.eurocontrol.int/src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5:40:08Z</dcterms:created>
  <dc:creator>Jeremy</dc:creator>
  <dc:description/>
  <dc:language>en-US</dc:language>
  <cp:lastModifiedBy>Claudia López Pérez</cp:lastModifiedBy>
  <dcterms:modified xsi:type="dcterms:W3CDTF">2006-03-27T13:56:24Z</dcterms:modified>
  <cp:revision>5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0500.00000000</vt:lpwstr>
  </property>
  <property fmtid="{D5CDD505-2E9C-101B-9397-08002B2CF9AE}" pid="5" name="Year">
    <vt:lpwstr>2006</vt:lpwstr>
  </property>
</Properties>
</file>