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9AF-9C89-4351-9CC7-19A0A52B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92C-4E6F-4C00-A12E-B37DF03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ED9-8939-4C28-AC27-AD49C5D9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16B-A218-42B1-8A75-01C7EABC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0426-948B-4B46-B773-4D30CC4D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73CE9-C03A-424C-833D-98D2FC4F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8872-7DA3-4BD1-B5A9-0302C432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75C42-40F4-4D1A-93FA-A676BF6B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1BE32-C36E-45D4-AC3A-3BF105EC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05CD-D4AC-472A-8E3D-847889CC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88D9C-0685-4CAA-B006-BBFAA25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224-5B98-4625-814C-589066BC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E3DA2-E916-4D03-85FE-FD88565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ED5E0-DCD7-4C70-A05F-B4A14BF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2A00D-FD95-4AEF-A66F-D2A4C4C7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04F55-99F5-42F5-AEF9-8CA12258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D1C69-415B-45BC-BA43-26ECA995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485-EA88-471E-8EA3-DBEBBB7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E62-14F5-453F-A652-FBA2F40E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F22-CF83-4347-A9E5-9ACECB1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219-DF6B-495C-8791-9AC36314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0BA-2677-457F-B330-C458732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0250-C0A1-436E-BF47-CE10F32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7DF-7301-4A29-863F-F3F0E5E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1B5F-4DAC-4D97-B238-82B72C994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499A-11AC-40B4-8E45-667DAD7C9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AO/ASP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fety Management System Semin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Traffic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rence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xico City, Mexico, 14 – 16 March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remy Jackson – Civil Aviation Authority of the Cayman Isla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Accident/Incident Occurrences Investigation System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hould be reported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fication and Investigation Occurrence Flow Control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KAI and Man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control Web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le objective of the investigation of an accident or incident is the prevention of accidents and inci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not the purpose of this activity to apportion blame or li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Cul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Should Be Report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ir Traffic Control Service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by Flight Crew/ATCOs/Ground Ops Support Staff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significantly incorrect, inadequate or misleading information from any ground sources, e.g. ATC, ATIS, Meteorological Services, maps, charts, manual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less than prescribed terrain clear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incorrect altimeter sett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sidentification of aircraft by an ATCO or radar operato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orrect transmission, receipt or interpretation of significant mess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irprox and any occurrence in which separation between aircraft is less than that prescribed for the situa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n-compliance with prescribed letdown or departure procedures or any ATC/ATM instruc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laration of an emergency (‘Mayday’ or ‘Pan’) by an aircraf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nauthorized infringement of any form of regulated airspa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nauthorized or illegal RTF transmiss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TC Overload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laration of an ACAS Resolution Advisory by an aircraf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Should Be Report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vigation and Communications Equipment etc. – failures, malfunctions 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efect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by Flight Crew/ATCO/ATS Maintenance Staff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tal failure of navigation system or subsystem being used by an aircraf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tal failure of communications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tal failure of radar system or sub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ilure or unplanned shutdown of a major operational ATC computer system requiring reversion to manual back up and resulting in disruption to the normal flow of air traffi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gnificant malfunction or deterioration of Servi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gnificant deficiency in mainten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petitive events of a specific type of occurrence, which in isolation may not be considered reportable (e.g. excessive monitor alarm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erroneous information in the absence of any alar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Should Be Report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irfields and Airfield Facilitie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by Flight Crew/Airfield Staff/ATC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ilure or significant malfunction of airfield light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jor failure or significant deterioration of surfaces of runways or aircraf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euvering are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unways or aircraft maneuvering areas obstructed by aircraft, vehicles or foreign objects, resulting in a hazardous or potentially hazardous situa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unway incurs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rrors or inadequacies in marking of obstructions or hazards on runway or aircraft maneuvering are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lision between a moving aircraft and any other aircraft, vehicle or other ground objec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ircraft departing from a paved surface which results in, or could have resulted in, a significant hazar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et or prop blast incidents resulting in significant damage or serious injur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gnificant spillage of fuel on airfield ramp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ification and Investigation Occurrence Flow Control Cha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1981080"/>
            <a:ext cx="16765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ification recei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from repo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895480"/>
            <a:ext cx="22096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eed for investig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048120"/>
            <a:ext cx="11430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Process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CYI 2000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048120"/>
            <a:ext cx="10666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Process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YI 2000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819520"/>
            <a:ext cx="1981080" cy="106668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Type of Occurren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200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3352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238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35268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335268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419720"/>
            <a:ext cx="12193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ther Inci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886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4191120"/>
            <a:ext cx="2133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41911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5334120"/>
            <a:ext cx="2057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ternal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6095880"/>
            <a:ext cx="2057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lose occurrence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638680"/>
            <a:ext cx="17524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nal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sson Dissemi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dial 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419720"/>
            <a:ext cx="190476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ccident/Serious Incid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1911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029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57913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419720"/>
            <a:ext cx="11430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419720"/>
            <a:ext cx="14479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CAO Annex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CCID/INC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5638680"/>
            <a:ext cx="167652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stitute form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0292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57040" y="4724280"/>
            <a:ext cx="762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62520" y="472428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609588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29040" y="63244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2093760" y="-1446120"/>
            <a:ext cx="13333320" cy="9752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KAI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ol Kit for Air Traffic Management Investig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TC Occurrence Report For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vestigation Occurrence Report F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 Background Inform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 Event Ty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 Descriptive Facto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. Human Facto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. Classification Sche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. Safety Recommend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ccurrence Stat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sk Assessment Too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nual Summary Template and Statistics Too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KAI Manu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eurocontrol.int/sr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40:08Z</dcterms:created>
  <dc:creator>Jeremy</dc:creator>
  <dc:description/>
  <dc:language>en-US</dc:language>
  <cp:lastModifiedBy>Claudia López Pérez</cp:lastModifiedBy>
  <dcterms:modified xsi:type="dcterms:W3CDTF">2006-03-27T13:56:24Z</dcterms:modified>
  <cp:revision>5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500.00000000</vt:lpwstr>
  </property>
  <property fmtid="{D5CDD505-2E9C-101B-9397-08002B2CF9AE}" pid="5" name="Year">
    <vt:lpwstr>2006</vt:lpwstr>
  </property>
</Properties>
</file>