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5772B0-27FD-4ADD-A0AC-41EE2BBC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ern with accuracy of biometric altimeters, recognition that above certain altitude 2000 ft separation was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L290 used primarily as result of operational ceiling of aircraft of tha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42634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5332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500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632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500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632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8077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332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040" y="42634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332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500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7632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04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500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7632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8077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5332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74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74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74"/>
              </a:spcBef>
              <a:buClr>
                <a:srgbClr val="cc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74"/>
              </a:spcBef>
              <a:buClr>
                <a:srgbClr val="cccc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0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04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cccc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cc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SzPct val="150000"/>
              <a:buFont typeface="Webdings" charset="2"/>
              <a:buChar char="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SzPct val="150000"/>
              <a:buFont typeface="Webdings" charset="2"/>
              <a:buChar char="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ccc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ccc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cc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cairs-www.jrc.it/" TargetMode="External"/><Relationship Id="rId2" Type="http://schemas.openxmlformats.org/officeDocument/2006/relationships/hyperlink" Target="http://eccairs-www.jrc.it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152280" y="-76320"/>
            <a:ext cx="9372600" cy="6959880"/>
            <a:chOff x="-152280" y="-76320"/>
            <a:chExt cx="9372600" cy="6959880"/>
          </a:xfrm>
        </p:grpSpPr>
        <p:sp>
          <p:nvSpPr>
            <p:cNvPr id="86" name=""/>
            <p:cNvSpPr/>
            <p:nvPr/>
          </p:nvSpPr>
          <p:spPr>
            <a:xfrm>
              <a:off x="-152280" y="-76320"/>
              <a:ext cx="9372600" cy="4191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-152280" y="1752480"/>
              <a:ext cx="9372600" cy="513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Safety Management System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Seminar for NAM/CAR/SAM Regions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Verdana"/>
              </a:rPr>
              <a:t>ATS safety management</a:t>
            </a:r>
            <a:endParaRPr b="1" lang="en-US" sz="3200" spc="-1" strike="noStrike">
              <a:solidFill>
                <a:srgbClr val="cc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0120" y="228600"/>
            <a:ext cx="1295280" cy="105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48006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exico City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 14–16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rch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ternational Civil Aviation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rth American, Central American and Caribbean Regional Off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Verdana"/>
              </a:rPr>
              <a:t>ATS Safety Management…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Monitoring of safety levels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actual or potential safety hazards or deficiencies related to the provision of ATS,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rocedures, communications, navigation and surveillance systems and other safety significant systems and equipment as well as controller work load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llection and evaluation of safety-related data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view of incidents and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Other safety-related report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Verdana"/>
              </a:rPr>
              <a:t>ATS Safety Management…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cc"/>
                </a:solidFill>
                <a:latin typeface="Verdana"/>
              </a:rPr>
              <a:t>Safety reviews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raining, experience and expertise;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ull understanding of SARPs, PANS, safe operating practices and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Human Factors principl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gulatory, operational and technical framework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Verdana"/>
              </a:rPr>
              <a:t>ATS …</a:t>
            </a:r>
            <a:r>
              <a:rPr b="1" i="1" lang="en-US" sz="2800" spc="-1" strike="noStrike">
                <a:solidFill>
                  <a:srgbClr val="ccecff"/>
                </a:solidFill>
                <a:latin typeface="Verdana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ccecff"/>
                </a:solidFill>
                <a:latin typeface="Verdana"/>
              </a:rPr>
              <a:t>Safety Assessment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Safety Assessment calculates the risk of accidents index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Verdana"/>
              </a:rPr>
              <a:t>Required f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ull commitment of States</a:t>
            </a:r>
            <a:r>
              <a:rPr b="1" lang="es-MX" sz="2400" spc="-1" strike="noStrike">
                <a:solidFill>
                  <a:srgbClr val="ffffcc"/>
                </a:solidFill>
                <a:latin typeface="Verdana"/>
              </a:rPr>
              <a:t>, ATS providers and users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Verdana"/>
              </a:rPr>
              <a:t>as well as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Operator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f safety meets expected levels then change is feasible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Verdana"/>
              </a:rPr>
              <a:t>ATS …</a:t>
            </a:r>
            <a:r>
              <a:rPr b="1" i="1" lang="en-US" sz="3100" spc="-1" strike="noStrike">
                <a:solidFill>
                  <a:srgbClr val="ccecff"/>
                </a:solidFill>
                <a:latin typeface="Verdana"/>
              </a:rPr>
              <a:t> </a:t>
            </a:r>
            <a:br>
              <a:rPr sz="3100"/>
            </a:b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Safety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The safety assessment is a systematic approach, as whole criteria to evaluate the acceptability of the risk and severity: the safety assessment process needs to address both facto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If the initial assessment of the risk indicates that it does not satisfy the safety assessment criteria, requiring the introduction of mitigation measures, it will be necessary to re-evaluate the risk in order to determine the mitigation measures for the desired effe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It means that some of the previous steps should be repeated; t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he process may, in fact, need to be repeated more than once, until a satisfactory combination of mitigation measures is fou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Have proved to be an efficient tool fostering the establishment of diverse complementary programmes for the assessment of ATS performance (units, ATCOs) such as;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verification and training for ATC proficiency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ncident reporting and investigation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verification on the use of aeronautical phraseology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ncident prevention measures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Quality improvements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Safety management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evolutes to systemic approach of ATM performance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ccffff"/>
                </a:solidFill>
                <a:latin typeface="Verdana"/>
              </a:rPr>
              <a:t>ATS Quality Assurance Program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Risk measure expressed in terms of fatal aircraft accidents are indicators of individual risk, since they do not take account of the number of people affected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A risk measure expressed in terms of number of fatalities would be more appropriate for expressing societal risk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cceptability is usually based on comparison with a severity/probability matrix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An acceptable limit expressed in terms of incidents would be significantly different from a limit expressed in terms of fatal aircraft accidents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ccecff"/>
                </a:solidFill>
                <a:latin typeface="Arial Narrow"/>
              </a:rPr>
              <a:t>Risk measures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ecff"/>
                </a:solidFill>
                <a:latin typeface="Verdana"/>
              </a:rPr>
              <a:t>RISK CLASSIFICATION SCHEM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600200"/>
          <a:ext cx="8153280" cy="5029200"/>
        </p:xfrm>
        <a:graphic>
          <a:graphicData uri="http://schemas.openxmlformats.org/drawingml/2006/table">
            <a:tbl>
              <a:tblPr/>
              <a:tblGrid>
                <a:gridCol w="776160"/>
                <a:gridCol w="976320"/>
                <a:gridCol w="1293840"/>
                <a:gridCol w="1276200"/>
                <a:gridCol w="1276560"/>
                <a:gridCol w="1278000"/>
                <a:gridCol w="1276200"/>
              </a:tblGrid>
              <a:tr h="479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ability of Occurr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6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emely improb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emely remo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o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sonably prob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que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</a:tr>
              <a:tr h="784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ve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astroph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zardo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8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jo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o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700" spc="-1" strike="noStrike">
                <a:solidFill>
                  <a:srgbClr val="ccecff"/>
                </a:solidFill>
                <a:latin typeface="Verdana"/>
              </a:rPr>
              <a:t>Classification of safety occurrences and causal factors</a:t>
            </a:r>
            <a:endParaRPr b="1" lang="en-US" sz="27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ffcc"/>
                </a:solidFill>
                <a:latin typeface="Arial Narrow"/>
              </a:rPr>
              <a:t>It is much easier if events and causal factors are classified using a standard scheme and the classified data</a:t>
            </a: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, called a </a:t>
            </a:r>
            <a:r>
              <a:rPr b="1" i="1" lang="en-US" sz="2200" spc="-1" strike="noStrike">
                <a:solidFill>
                  <a:srgbClr val="ffffcc"/>
                </a:solidFill>
                <a:latin typeface="Arial Narrow"/>
              </a:rPr>
              <a:t>taxonomy,</a:t>
            </a: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 is comprised of a hierarchy of classes of events. 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ffcc"/>
                </a:solidFill>
                <a:latin typeface="Arial Narrow"/>
              </a:rPr>
              <a:t>ICAO has, maintained a global data base of accidents and serious incidents notified by States through the Aircraft Accident Data Reporting System (ADREP), which, contains a greatly expanded taxonomy of ATS-related categories (</a:t>
            </a:r>
            <a:r>
              <a:rPr b="0" lang="en-CA" sz="2200" spc="-1" strike="noStrike" u="sng">
                <a:solidFill>
                  <a:srgbClr val="ff9900"/>
                </a:solidFill>
                <a:uFillTx/>
                <a:latin typeface="Arial Narrow"/>
                <a:hlinkClick r:id="rId1"/>
              </a:rPr>
              <a:t>http://eccairs-www.jrc.it</a:t>
            </a:r>
            <a:r>
              <a:rPr b="0" lang="en-CA" sz="2200" spc="-1" strike="noStrike" u="sng">
                <a:solidFill>
                  <a:srgbClr val="ff9900"/>
                </a:solidFill>
                <a:uFillTx/>
                <a:latin typeface="Arial Narrow"/>
                <a:hlinkClick r:id="rId2"/>
              </a:rPr>
              <a:t>/</a:t>
            </a:r>
            <a:r>
              <a:rPr b="1" i="1" lang="en-CA" sz="2200" spc="-1" strike="noStrike">
                <a:solidFill>
                  <a:srgbClr val="ffffcc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ffcc"/>
                </a:solidFill>
                <a:latin typeface="Arial Narrow"/>
              </a:rPr>
              <a:t>Taxonomies should be used for classification of ATS-related safety occurrence data for internal investigation and analysis purposes, as well as for reporting accident and incident data to ADREP.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Sharing information online for the classification of risk and the suitable measures to its solution; </a:t>
            </a:r>
            <a:r>
              <a:rPr b="1" lang="en-US" sz="2200" spc="-1" strike="noStrike">
                <a:solidFill>
                  <a:srgbClr val="ffff00"/>
                </a:solidFill>
                <a:latin typeface="Arial Narrow"/>
              </a:rPr>
              <a:t>regional collaboration for the harmonization and exchange of experience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</a:rPr>
              <a:t>Positive safety culture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a) Senior management place strong emphasis on safety as part of the strategy of controlling risks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b) Decision-makers and operational personnel hold a realistic view of the short- and long-term hazards involved in the organization’s activities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) Those in senior positions: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1) Foster a climate in which there is a positive attitude towards criticisms, comments and feedback from lower levels of the organization on safety matters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2) Do not influence /force their views on subordinates; and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3) Implement measures to contain the consequences of identified safety deficiencies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d) Senior management promote a non-punitive working environment (not immunity);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e) There is an awareness of the importance of communicating relevant safety information at all levels of the organization (within and outside);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f) There are realistic and workable rules relating to hazards, to safety and to potential sources of damage; 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g) Personnel are well trained and understand the consequences of unsafe acts.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h) There is a low incidence of risk-taking behaviour, and a safety ethic which discourages such behaviour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ecff"/>
                </a:solidFill>
                <a:latin typeface="Verdana"/>
              </a:rPr>
              <a:t>Positive safety culture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17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Verdana"/>
              </a:rPr>
              <a:t>ATS safety management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ICAO purposes, strategic objetives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States responsability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ICAO requirements, Annex 11 (ATS)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ATS safety management programs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Quality Assurance programme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Risk measure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Safety culture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Next steps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ATM performance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Verdana"/>
              </a:rPr>
              <a:t>Characteristics of different safety cul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600200"/>
          <a:ext cx="8000640" cy="69516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afety Cultur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Po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Bureaucra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066680" y="2286000"/>
          <a:ext cx="8000640" cy="55872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Hazard information i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uppres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Ignor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Actively sough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066680" y="2844720"/>
          <a:ext cx="8000640" cy="62856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afety messengers ar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Discouraged 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punis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Toler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Trained 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encourag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66680" y="3454560"/>
          <a:ext cx="8000640" cy="60948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Responsibility for safety i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Avoi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Fragmen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har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066680" y="4064040"/>
          <a:ext cx="8000640" cy="62856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Dissemination of safe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information i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Discou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Allowed b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discourag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Rewar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66680" y="4673520"/>
          <a:ext cx="8000640" cy="66024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Failures lead t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Cover u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Local fix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Inquiries 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ystemic refo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066680" y="5359320"/>
          <a:ext cx="8000640" cy="81252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New ideas ar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Crus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New problems (not opportuniti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Welcom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ffff"/>
                </a:solidFill>
                <a:latin typeface="Verdana"/>
              </a:rPr>
              <a:t>Next steps…</a:t>
            </a:r>
            <a:endParaRPr b="1" lang="en-US" sz="27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Uniform system safety approach in accordance with the AN-conf/11 outcom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Globally standardized implementation of safety management processes and practic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voids unnecessary duplication</a:t>
            </a:r>
            <a:endParaRPr b="0" lang="en-US" sz="24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llect right data to monitor level of safety</a:t>
            </a:r>
            <a:endParaRPr b="0" lang="en-US" sz="2400" spc="-1" strike="noStrike">
              <a:solidFill>
                <a:srgbClr val="cccc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Broader view of ATM system expectation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66680" y="304920"/>
            <a:ext cx="77724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ATM community </a:t>
            </a:r>
            <a:br>
              <a:rPr sz="2400"/>
            </a:br>
            <a:r>
              <a:rPr b="1" lang="en-US" sz="1200" spc="-1" strike="noStrike">
                <a:solidFill>
                  <a:srgbClr val="ccffff"/>
                </a:solidFill>
                <a:latin typeface="Verdana"/>
              </a:rPr>
              <a:t>(Doc 985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erodrome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irspace provi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irspace 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TM service provi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a) State agenci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b) State-owned self-financing corporatio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c) privatized ATM service provider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d) regional ATM service providers;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e) independent private sector ATM service providers of ground and space-based CNS/ATM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TM support indu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nternational Civil Aviation Organization (ICA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Regulatory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ccffff"/>
                </a:solidFill>
                <a:latin typeface="Verdana"/>
              </a:rPr>
              <a:t>ATM </a:t>
            </a:r>
            <a:r>
              <a:rPr b="1" lang="en-US" sz="3100" spc="-1" strike="noStrike">
                <a:solidFill>
                  <a:srgbClr val="ccecff"/>
                </a:solidFill>
                <a:latin typeface="Verdana"/>
              </a:rPr>
              <a:t>Performance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When the ATM system delivered trajectory equals the user preferred trajectory, the ATM system is operating well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Value is created when the ATM system consistently and cost-effectively delivers User Preferred Trajectory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ecff"/>
                </a:solidFill>
                <a:latin typeface="Verdana"/>
              </a:rPr>
              <a:t>ATM Performance framework..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cc"/>
                </a:solidFill>
                <a:latin typeface="Verdana"/>
              </a:rPr>
              <a:t>Enhancements to safety, finances and the efficiency through the adoption of collaborative decisions towards the evolution of a holistic and co-operation environment should be facilitated to fulfill the expectations of the ATM community, as well as to improve safety of all the system in a balanced manner</a:t>
            </a:r>
            <a:endParaRPr b="0" lang="en-US" sz="23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14040" y="16765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Verdana"/>
              </a:rPr>
              <a:t>Future ATM system must be based on Performance indicators and user expectations:</a:t>
            </a:r>
            <a:endParaRPr b="0" lang="en-US" sz="2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Capacit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Efficienc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Regularit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Flexibilit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cecff"/>
                </a:solidFill>
                <a:latin typeface="Verdana"/>
              </a:rPr>
              <a:t>ATM performance metrics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 Narrow"/>
              </a:rPr>
              <a:t>New guidance material on measuring performance and productivity includes an approach to development of performance metrics in the areas of safety, delay, flight efficiency, productivity and cost-effective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 Narrow"/>
              </a:rPr>
              <a:t>Comparing different organization’s performance might be benefit to understand performance drivers and shortfalls and thus establishing best practic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 Narrow"/>
              </a:rPr>
              <a:t>ATM Requirements and Performance Panel (ATMRPP) is working to finalize a set of ATM system requirements that will guide development of technical SARPs for ATM research, development, and implementation planning 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133720" y="1447920"/>
            <a:ext cx="5028480" cy="4037760"/>
            <a:chOff x="2133720" y="1447920"/>
            <a:chExt cx="5028480" cy="4037760"/>
          </a:xfrm>
        </p:grpSpPr>
        <p:sp>
          <p:nvSpPr>
            <p:cNvPr id="148" name=""/>
            <p:cNvSpPr/>
            <p:nvPr/>
          </p:nvSpPr>
          <p:spPr>
            <a:xfrm>
              <a:off x="2832120" y="2516040"/>
              <a:ext cx="286560" cy="159480"/>
            </a:xfrm>
            <a:custGeom>
              <a:avLst/>
              <a:gdLst/>
              <a:ahLst/>
              <a:rect l="l" t="t" r="r" b="b"/>
              <a:pathLst>
                <a:path w="592" h="339">
                  <a:moveTo>
                    <a:pt x="592" y="258"/>
                  </a:moveTo>
                  <a:lnTo>
                    <a:pt x="38" y="0"/>
                  </a:lnTo>
                  <a:lnTo>
                    <a:pt x="0" y="81"/>
                  </a:lnTo>
                  <a:lnTo>
                    <a:pt x="554" y="339"/>
                  </a:lnTo>
                  <a:lnTo>
                    <a:pt x="592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48400" y="2230560"/>
              <a:ext cx="307080" cy="300600"/>
            </a:xfrm>
            <a:custGeom>
              <a:avLst/>
              <a:gdLst/>
              <a:ahLst/>
              <a:rect l="l" t="t" r="r" b="b"/>
              <a:pathLst>
                <a:path w="634" h="632">
                  <a:moveTo>
                    <a:pt x="350" y="1"/>
                  </a:moveTo>
                  <a:lnTo>
                    <a:pt x="323" y="0"/>
                  </a:lnTo>
                  <a:lnTo>
                    <a:pt x="291" y="0"/>
                  </a:lnTo>
                  <a:lnTo>
                    <a:pt x="252" y="6"/>
                  </a:lnTo>
                  <a:lnTo>
                    <a:pt x="231" y="11"/>
                  </a:lnTo>
                  <a:lnTo>
                    <a:pt x="207" y="19"/>
                  </a:lnTo>
                  <a:lnTo>
                    <a:pt x="180" y="30"/>
                  </a:lnTo>
                  <a:lnTo>
                    <a:pt x="154" y="45"/>
                  </a:lnTo>
                  <a:lnTo>
                    <a:pt x="132" y="59"/>
                  </a:lnTo>
                  <a:lnTo>
                    <a:pt x="112" y="76"/>
                  </a:lnTo>
                  <a:lnTo>
                    <a:pt x="93" y="92"/>
                  </a:lnTo>
                  <a:lnTo>
                    <a:pt x="78" y="109"/>
                  </a:lnTo>
                  <a:lnTo>
                    <a:pt x="64" y="126"/>
                  </a:lnTo>
                  <a:lnTo>
                    <a:pt x="53" y="140"/>
                  </a:lnTo>
                  <a:lnTo>
                    <a:pt x="38" y="168"/>
                  </a:lnTo>
                  <a:lnTo>
                    <a:pt x="24" y="196"/>
                  </a:lnTo>
                  <a:lnTo>
                    <a:pt x="13" y="225"/>
                  </a:lnTo>
                  <a:lnTo>
                    <a:pt x="5" y="255"/>
                  </a:lnTo>
                  <a:lnTo>
                    <a:pt x="1" y="285"/>
                  </a:lnTo>
                  <a:lnTo>
                    <a:pt x="0" y="314"/>
                  </a:lnTo>
                  <a:lnTo>
                    <a:pt x="1" y="344"/>
                  </a:lnTo>
                  <a:lnTo>
                    <a:pt x="4" y="374"/>
                  </a:lnTo>
                  <a:lnTo>
                    <a:pt x="12" y="404"/>
                  </a:lnTo>
                  <a:lnTo>
                    <a:pt x="22" y="432"/>
                  </a:lnTo>
                  <a:lnTo>
                    <a:pt x="34" y="460"/>
                  </a:lnTo>
                  <a:lnTo>
                    <a:pt x="50" y="487"/>
                  </a:lnTo>
                  <a:lnTo>
                    <a:pt x="68" y="512"/>
                  </a:lnTo>
                  <a:lnTo>
                    <a:pt x="89" y="535"/>
                  </a:lnTo>
                  <a:lnTo>
                    <a:pt x="112" y="558"/>
                  </a:lnTo>
                  <a:lnTo>
                    <a:pt x="139" y="578"/>
                  </a:lnTo>
                  <a:lnTo>
                    <a:pt x="166" y="594"/>
                  </a:lnTo>
                  <a:lnTo>
                    <a:pt x="195" y="608"/>
                  </a:lnTo>
                  <a:lnTo>
                    <a:pt x="224" y="618"/>
                  </a:lnTo>
                  <a:lnTo>
                    <a:pt x="254" y="625"/>
                  </a:lnTo>
                  <a:lnTo>
                    <a:pt x="285" y="630"/>
                  </a:lnTo>
                  <a:lnTo>
                    <a:pt x="315" y="632"/>
                  </a:lnTo>
                  <a:lnTo>
                    <a:pt x="346" y="631"/>
                  </a:lnTo>
                  <a:lnTo>
                    <a:pt x="376" y="626"/>
                  </a:lnTo>
                  <a:lnTo>
                    <a:pt x="406" y="620"/>
                  </a:lnTo>
                  <a:lnTo>
                    <a:pt x="435" y="610"/>
                  </a:lnTo>
                  <a:lnTo>
                    <a:pt x="463" y="598"/>
                  </a:lnTo>
                  <a:lnTo>
                    <a:pt x="489" y="583"/>
                  </a:lnTo>
                  <a:lnTo>
                    <a:pt x="515" y="565"/>
                  </a:lnTo>
                  <a:lnTo>
                    <a:pt x="538" y="544"/>
                  </a:lnTo>
                  <a:lnTo>
                    <a:pt x="559" y="521"/>
                  </a:lnTo>
                  <a:lnTo>
                    <a:pt x="579" y="495"/>
                  </a:lnTo>
                  <a:lnTo>
                    <a:pt x="597" y="464"/>
                  </a:lnTo>
                  <a:lnTo>
                    <a:pt x="614" y="430"/>
                  </a:lnTo>
                  <a:lnTo>
                    <a:pt x="625" y="392"/>
                  </a:lnTo>
                  <a:lnTo>
                    <a:pt x="629" y="372"/>
                  </a:lnTo>
                  <a:lnTo>
                    <a:pt x="633" y="352"/>
                  </a:lnTo>
                  <a:lnTo>
                    <a:pt x="634" y="331"/>
                  </a:lnTo>
                  <a:lnTo>
                    <a:pt x="634" y="310"/>
                  </a:lnTo>
                  <a:lnTo>
                    <a:pt x="633" y="288"/>
                  </a:lnTo>
                  <a:lnTo>
                    <a:pt x="629" y="266"/>
                  </a:lnTo>
                  <a:lnTo>
                    <a:pt x="625" y="243"/>
                  </a:lnTo>
                  <a:lnTo>
                    <a:pt x="618" y="220"/>
                  </a:lnTo>
                  <a:lnTo>
                    <a:pt x="609" y="198"/>
                  </a:lnTo>
                  <a:lnTo>
                    <a:pt x="599" y="175"/>
                  </a:lnTo>
                  <a:lnTo>
                    <a:pt x="538" y="266"/>
                  </a:lnTo>
                  <a:lnTo>
                    <a:pt x="543" y="289"/>
                  </a:lnTo>
                  <a:lnTo>
                    <a:pt x="546" y="313"/>
                  </a:lnTo>
                  <a:lnTo>
                    <a:pt x="547" y="338"/>
                  </a:lnTo>
                  <a:lnTo>
                    <a:pt x="545" y="361"/>
                  </a:lnTo>
                  <a:lnTo>
                    <a:pt x="540" y="384"/>
                  </a:lnTo>
                  <a:lnTo>
                    <a:pt x="534" y="407"/>
                  </a:lnTo>
                  <a:lnTo>
                    <a:pt x="524" y="429"/>
                  </a:lnTo>
                  <a:lnTo>
                    <a:pt x="512" y="449"/>
                  </a:lnTo>
                  <a:lnTo>
                    <a:pt x="498" y="467"/>
                  </a:lnTo>
                  <a:lnTo>
                    <a:pt x="483" y="483"/>
                  </a:lnTo>
                  <a:lnTo>
                    <a:pt x="466" y="498"/>
                  </a:lnTo>
                  <a:lnTo>
                    <a:pt x="448" y="510"/>
                  </a:lnTo>
                  <a:lnTo>
                    <a:pt x="429" y="521"/>
                  </a:lnTo>
                  <a:lnTo>
                    <a:pt x="408" y="530"/>
                  </a:lnTo>
                  <a:lnTo>
                    <a:pt x="387" y="536"/>
                  </a:lnTo>
                  <a:lnTo>
                    <a:pt x="366" y="541"/>
                  </a:lnTo>
                  <a:lnTo>
                    <a:pt x="344" y="544"/>
                  </a:lnTo>
                  <a:lnTo>
                    <a:pt x="322" y="545"/>
                  </a:lnTo>
                  <a:lnTo>
                    <a:pt x="298" y="543"/>
                  </a:lnTo>
                  <a:lnTo>
                    <a:pt x="276" y="540"/>
                  </a:lnTo>
                  <a:lnTo>
                    <a:pt x="254" y="534"/>
                  </a:lnTo>
                  <a:lnTo>
                    <a:pt x="232" y="527"/>
                  </a:lnTo>
                  <a:lnTo>
                    <a:pt x="210" y="517"/>
                  </a:lnTo>
                  <a:lnTo>
                    <a:pt x="190" y="503"/>
                  </a:lnTo>
                  <a:lnTo>
                    <a:pt x="170" y="490"/>
                  </a:lnTo>
                  <a:lnTo>
                    <a:pt x="153" y="473"/>
                  </a:lnTo>
                  <a:lnTo>
                    <a:pt x="137" y="457"/>
                  </a:lnTo>
                  <a:lnTo>
                    <a:pt x="124" y="439"/>
                  </a:lnTo>
                  <a:lnTo>
                    <a:pt x="112" y="419"/>
                  </a:lnTo>
                  <a:lnTo>
                    <a:pt x="102" y="399"/>
                  </a:lnTo>
                  <a:lnTo>
                    <a:pt x="94" y="378"/>
                  </a:lnTo>
                  <a:lnTo>
                    <a:pt x="89" y="357"/>
                  </a:lnTo>
                  <a:lnTo>
                    <a:pt x="85" y="334"/>
                  </a:lnTo>
                  <a:lnTo>
                    <a:pt x="84" y="313"/>
                  </a:lnTo>
                  <a:lnTo>
                    <a:pt x="85" y="291"/>
                  </a:lnTo>
                  <a:lnTo>
                    <a:pt x="88" y="269"/>
                  </a:lnTo>
                  <a:lnTo>
                    <a:pt x="93" y="247"/>
                  </a:lnTo>
                  <a:lnTo>
                    <a:pt x="101" y="226"/>
                  </a:lnTo>
                  <a:lnTo>
                    <a:pt x="110" y="205"/>
                  </a:lnTo>
                  <a:lnTo>
                    <a:pt x="122" y="185"/>
                  </a:lnTo>
                  <a:lnTo>
                    <a:pt x="133" y="170"/>
                  </a:lnTo>
                  <a:lnTo>
                    <a:pt x="144" y="157"/>
                  </a:lnTo>
                  <a:lnTo>
                    <a:pt x="169" y="136"/>
                  </a:lnTo>
                  <a:lnTo>
                    <a:pt x="192" y="120"/>
                  </a:lnTo>
                  <a:lnTo>
                    <a:pt x="216" y="108"/>
                  </a:lnTo>
                  <a:lnTo>
                    <a:pt x="240" y="100"/>
                  </a:lnTo>
                  <a:lnTo>
                    <a:pt x="260" y="95"/>
                  </a:lnTo>
                  <a:lnTo>
                    <a:pt x="290" y="90"/>
                  </a:lnTo>
                  <a:lnTo>
                    <a:pt x="35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8080" y="2033280"/>
              <a:ext cx="313920" cy="307800"/>
            </a:xfrm>
            <a:custGeom>
              <a:avLst/>
              <a:gdLst/>
              <a:ahLst/>
              <a:rect l="l" t="t" r="r" b="b"/>
              <a:pathLst>
                <a:path w="653" h="653">
                  <a:moveTo>
                    <a:pt x="653" y="268"/>
                  </a:moveTo>
                  <a:lnTo>
                    <a:pt x="57" y="0"/>
                  </a:lnTo>
                  <a:lnTo>
                    <a:pt x="0" y="57"/>
                  </a:lnTo>
                  <a:lnTo>
                    <a:pt x="269" y="653"/>
                  </a:lnTo>
                  <a:lnTo>
                    <a:pt x="336" y="586"/>
                  </a:lnTo>
                  <a:lnTo>
                    <a:pt x="256" y="411"/>
                  </a:lnTo>
                  <a:lnTo>
                    <a:pt x="411" y="255"/>
                  </a:lnTo>
                  <a:lnTo>
                    <a:pt x="586" y="335"/>
                  </a:lnTo>
                  <a:lnTo>
                    <a:pt x="653" y="268"/>
                  </a:lnTo>
                  <a:close/>
                  <a:moveTo>
                    <a:pt x="220" y="331"/>
                  </a:moveTo>
                  <a:lnTo>
                    <a:pt x="110" y="110"/>
                  </a:lnTo>
                  <a:lnTo>
                    <a:pt x="111" y="109"/>
                  </a:lnTo>
                  <a:lnTo>
                    <a:pt x="331" y="220"/>
                  </a:lnTo>
                  <a:lnTo>
                    <a:pt x="220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82920" y="1789920"/>
              <a:ext cx="307080" cy="299880"/>
            </a:xfrm>
            <a:custGeom>
              <a:avLst/>
              <a:gdLst/>
              <a:ahLst/>
              <a:rect l="l" t="t" r="r" b="b"/>
              <a:pathLst>
                <a:path w="635" h="635">
                  <a:moveTo>
                    <a:pt x="573" y="128"/>
                  </a:moveTo>
                  <a:lnTo>
                    <a:pt x="551" y="104"/>
                  </a:lnTo>
                  <a:lnTo>
                    <a:pt x="529" y="81"/>
                  </a:lnTo>
                  <a:lnTo>
                    <a:pt x="505" y="61"/>
                  </a:lnTo>
                  <a:lnTo>
                    <a:pt x="479" y="44"/>
                  </a:lnTo>
                  <a:lnTo>
                    <a:pt x="452" y="29"/>
                  </a:lnTo>
                  <a:lnTo>
                    <a:pt x="424" y="18"/>
                  </a:lnTo>
                  <a:lnTo>
                    <a:pt x="394" y="9"/>
                  </a:lnTo>
                  <a:lnTo>
                    <a:pt x="365" y="4"/>
                  </a:lnTo>
                  <a:lnTo>
                    <a:pt x="334" y="0"/>
                  </a:lnTo>
                  <a:lnTo>
                    <a:pt x="304" y="0"/>
                  </a:lnTo>
                  <a:lnTo>
                    <a:pt x="273" y="3"/>
                  </a:lnTo>
                  <a:lnTo>
                    <a:pt x="243" y="9"/>
                  </a:lnTo>
                  <a:lnTo>
                    <a:pt x="213" y="18"/>
                  </a:lnTo>
                  <a:lnTo>
                    <a:pt x="183" y="30"/>
                  </a:lnTo>
                  <a:lnTo>
                    <a:pt x="154" y="46"/>
                  </a:lnTo>
                  <a:lnTo>
                    <a:pt x="126" y="65"/>
                  </a:lnTo>
                  <a:lnTo>
                    <a:pt x="100" y="87"/>
                  </a:lnTo>
                  <a:lnTo>
                    <a:pt x="77" y="110"/>
                  </a:lnTo>
                  <a:lnTo>
                    <a:pt x="56" y="136"/>
                  </a:lnTo>
                  <a:lnTo>
                    <a:pt x="40" y="164"/>
                  </a:lnTo>
                  <a:lnTo>
                    <a:pt x="25" y="191"/>
                  </a:lnTo>
                  <a:lnTo>
                    <a:pt x="15" y="220"/>
                  </a:lnTo>
                  <a:lnTo>
                    <a:pt x="6" y="249"/>
                  </a:lnTo>
                  <a:lnTo>
                    <a:pt x="2" y="279"/>
                  </a:lnTo>
                  <a:lnTo>
                    <a:pt x="0" y="310"/>
                  </a:lnTo>
                  <a:lnTo>
                    <a:pt x="0" y="340"/>
                  </a:lnTo>
                  <a:lnTo>
                    <a:pt x="4" y="370"/>
                  </a:lnTo>
                  <a:lnTo>
                    <a:pt x="10" y="400"/>
                  </a:lnTo>
                  <a:lnTo>
                    <a:pt x="20" y="429"/>
                  </a:lnTo>
                  <a:lnTo>
                    <a:pt x="32" y="457"/>
                  </a:lnTo>
                  <a:lnTo>
                    <a:pt x="46" y="484"/>
                  </a:lnTo>
                  <a:lnTo>
                    <a:pt x="63" y="510"/>
                  </a:lnTo>
                  <a:lnTo>
                    <a:pt x="83" y="533"/>
                  </a:lnTo>
                  <a:lnTo>
                    <a:pt x="105" y="555"/>
                  </a:lnTo>
                  <a:lnTo>
                    <a:pt x="130" y="574"/>
                  </a:lnTo>
                  <a:lnTo>
                    <a:pt x="155" y="591"/>
                  </a:lnTo>
                  <a:lnTo>
                    <a:pt x="182" y="605"/>
                  </a:lnTo>
                  <a:lnTo>
                    <a:pt x="210" y="616"/>
                  </a:lnTo>
                  <a:lnTo>
                    <a:pt x="240" y="625"/>
                  </a:lnTo>
                  <a:lnTo>
                    <a:pt x="270" y="632"/>
                  </a:lnTo>
                  <a:lnTo>
                    <a:pt x="299" y="635"/>
                  </a:lnTo>
                  <a:lnTo>
                    <a:pt x="331" y="635"/>
                  </a:lnTo>
                  <a:lnTo>
                    <a:pt x="361" y="633"/>
                  </a:lnTo>
                  <a:lnTo>
                    <a:pt x="392" y="626"/>
                  </a:lnTo>
                  <a:lnTo>
                    <a:pt x="422" y="618"/>
                  </a:lnTo>
                  <a:lnTo>
                    <a:pt x="452" y="605"/>
                  </a:lnTo>
                  <a:lnTo>
                    <a:pt x="480" y="590"/>
                  </a:lnTo>
                  <a:lnTo>
                    <a:pt x="508" y="571"/>
                  </a:lnTo>
                  <a:lnTo>
                    <a:pt x="534" y="550"/>
                  </a:lnTo>
                  <a:lnTo>
                    <a:pt x="557" y="527"/>
                  </a:lnTo>
                  <a:lnTo>
                    <a:pt x="577" y="501"/>
                  </a:lnTo>
                  <a:lnTo>
                    <a:pt x="594" y="474"/>
                  </a:lnTo>
                  <a:lnTo>
                    <a:pt x="608" y="447"/>
                  </a:lnTo>
                  <a:lnTo>
                    <a:pt x="619" y="418"/>
                  </a:lnTo>
                  <a:lnTo>
                    <a:pt x="627" y="389"/>
                  </a:lnTo>
                  <a:lnTo>
                    <a:pt x="633" y="359"/>
                  </a:lnTo>
                  <a:lnTo>
                    <a:pt x="635" y="328"/>
                  </a:lnTo>
                  <a:lnTo>
                    <a:pt x="635" y="298"/>
                  </a:lnTo>
                  <a:lnTo>
                    <a:pt x="631" y="268"/>
                  </a:lnTo>
                  <a:lnTo>
                    <a:pt x="625" y="238"/>
                  </a:lnTo>
                  <a:lnTo>
                    <a:pt x="616" y="209"/>
                  </a:lnTo>
                  <a:lnTo>
                    <a:pt x="605" y="181"/>
                  </a:lnTo>
                  <a:lnTo>
                    <a:pt x="589" y="154"/>
                  </a:lnTo>
                  <a:lnTo>
                    <a:pt x="573" y="128"/>
                  </a:lnTo>
                  <a:close/>
                  <a:moveTo>
                    <a:pt x="502" y="182"/>
                  </a:moveTo>
                  <a:lnTo>
                    <a:pt x="512" y="198"/>
                  </a:lnTo>
                  <a:lnTo>
                    <a:pt x="522" y="215"/>
                  </a:lnTo>
                  <a:lnTo>
                    <a:pt x="529" y="232"/>
                  </a:lnTo>
                  <a:lnTo>
                    <a:pt x="537" y="252"/>
                  </a:lnTo>
                  <a:lnTo>
                    <a:pt x="543" y="272"/>
                  </a:lnTo>
                  <a:lnTo>
                    <a:pt x="547" y="293"/>
                  </a:lnTo>
                  <a:lnTo>
                    <a:pt x="549" y="316"/>
                  </a:lnTo>
                  <a:lnTo>
                    <a:pt x="549" y="338"/>
                  </a:lnTo>
                  <a:lnTo>
                    <a:pt x="547" y="360"/>
                  </a:lnTo>
                  <a:lnTo>
                    <a:pt x="543" y="382"/>
                  </a:lnTo>
                  <a:lnTo>
                    <a:pt x="536" y="404"/>
                  </a:lnTo>
                  <a:lnTo>
                    <a:pt x="527" y="427"/>
                  </a:lnTo>
                  <a:lnTo>
                    <a:pt x="515" y="448"/>
                  </a:lnTo>
                  <a:lnTo>
                    <a:pt x="499" y="468"/>
                  </a:lnTo>
                  <a:lnTo>
                    <a:pt x="480" y="488"/>
                  </a:lnTo>
                  <a:lnTo>
                    <a:pt x="459" y="507"/>
                  </a:lnTo>
                  <a:lnTo>
                    <a:pt x="435" y="522"/>
                  </a:lnTo>
                  <a:lnTo>
                    <a:pt x="412" y="534"/>
                  </a:lnTo>
                  <a:lnTo>
                    <a:pt x="387" y="543"/>
                  </a:lnTo>
                  <a:lnTo>
                    <a:pt x="364" y="549"/>
                  </a:lnTo>
                  <a:lnTo>
                    <a:pt x="341" y="552"/>
                  </a:lnTo>
                  <a:lnTo>
                    <a:pt x="317" y="553"/>
                  </a:lnTo>
                  <a:lnTo>
                    <a:pt x="295" y="551"/>
                  </a:lnTo>
                  <a:lnTo>
                    <a:pt x="273" y="547"/>
                  </a:lnTo>
                  <a:lnTo>
                    <a:pt x="251" y="540"/>
                  </a:lnTo>
                  <a:lnTo>
                    <a:pt x="231" y="532"/>
                  </a:lnTo>
                  <a:lnTo>
                    <a:pt x="212" y="522"/>
                  </a:lnTo>
                  <a:lnTo>
                    <a:pt x="193" y="511"/>
                  </a:lnTo>
                  <a:lnTo>
                    <a:pt x="176" y="498"/>
                  </a:lnTo>
                  <a:lnTo>
                    <a:pt x="161" y="484"/>
                  </a:lnTo>
                  <a:lnTo>
                    <a:pt x="147" y="471"/>
                  </a:lnTo>
                  <a:lnTo>
                    <a:pt x="135" y="455"/>
                  </a:lnTo>
                  <a:lnTo>
                    <a:pt x="124" y="440"/>
                  </a:lnTo>
                  <a:lnTo>
                    <a:pt x="114" y="423"/>
                  </a:lnTo>
                  <a:lnTo>
                    <a:pt x="106" y="404"/>
                  </a:lnTo>
                  <a:lnTo>
                    <a:pt x="99" y="386"/>
                  </a:lnTo>
                  <a:lnTo>
                    <a:pt x="93" y="364"/>
                  </a:lnTo>
                  <a:lnTo>
                    <a:pt x="89" y="343"/>
                  </a:lnTo>
                  <a:lnTo>
                    <a:pt x="86" y="321"/>
                  </a:lnTo>
                  <a:lnTo>
                    <a:pt x="86" y="299"/>
                  </a:lnTo>
                  <a:lnTo>
                    <a:pt x="87" y="277"/>
                  </a:lnTo>
                  <a:lnTo>
                    <a:pt x="92" y="255"/>
                  </a:lnTo>
                  <a:lnTo>
                    <a:pt x="99" y="232"/>
                  </a:lnTo>
                  <a:lnTo>
                    <a:pt x="107" y="210"/>
                  </a:lnTo>
                  <a:lnTo>
                    <a:pt x="120" y="189"/>
                  </a:lnTo>
                  <a:lnTo>
                    <a:pt x="135" y="168"/>
                  </a:lnTo>
                  <a:lnTo>
                    <a:pt x="154" y="149"/>
                  </a:lnTo>
                  <a:lnTo>
                    <a:pt x="176" y="130"/>
                  </a:lnTo>
                  <a:lnTo>
                    <a:pt x="198" y="115"/>
                  </a:lnTo>
                  <a:lnTo>
                    <a:pt x="222" y="103"/>
                  </a:lnTo>
                  <a:lnTo>
                    <a:pt x="245" y="94"/>
                  </a:lnTo>
                  <a:lnTo>
                    <a:pt x="268" y="88"/>
                  </a:lnTo>
                  <a:lnTo>
                    <a:pt x="292" y="85"/>
                  </a:lnTo>
                  <a:lnTo>
                    <a:pt x="315" y="84"/>
                  </a:lnTo>
                  <a:lnTo>
                    <a:pt x="337" y="86"/>
                  </a:lnTo>
                  <a:lnTo>
                    <a:pt x="359" y="89"/>
                  </a:lnTo>
                  <a:lnTo>
                    <a:pt x="382" y="96"/>
                  </a:lnTo>
                  <a:lnTo>
                    <a:pt x="402" y="104"/>
                  </a:lnTo>
                  <a:lnTo>
                    <a:pt x="422" y="114"/>
                  </a:lnTo>
                  <a:lnTo>
                    <a:pt x="440" y="125"/>
                  </a:lnTo>
                  <a:lnTo>
                    <a:pt x="458" y="138"/>
                  </a:lnTo>
                  <a:lnTo>
                    <a:pt x="474" y="151"/>
                  </a:lnTo>
                  <a:lnTo>
                    <a:pt x="488" y="167"/>
                  </a:lnTo>
                  <a:lnTo>
                    <a:pt x="502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2520" y="1721880"/>
              <a:ext cx="117000" cy="10944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49" y="181"/>
                  </a:moveTo>
                  <a:lnTo>
                    <a:pt x="135" y="185"/>
                  </a:lnTo>
                  <a:lnTo>
                    <a:pt x="122" y="186"/>
                  </a:lnTo>
                  <a:lnTo>
                    <a:pt x="110" y="185"/>
                  </a:lnTo>
                  <a:lnTo>
                    <a:pt x="96" y="182"/>
                  </a:lnTo>
                  <a:lnTo>
                    <a:pt x="84" y="176"/>
                  </a:lnTo>
                  <a:lnTo>
                    <a:pt x="74" y="168"/>
                  </a:lnTo>
                  <a:lnTo>
                    <a:pt x="64" y="158"/>
                  </a:lnTo>
                  <a:lnTo>
                    <a:pt x="58" y="146"/>
                  </a:lnTo>
                  <a:lnTo>
                    <a:pt x="53" y="134"/>
                  </a:lnTo>
                  <a:lnTo>
                    <a:pt x="51" y="121"/>
                  </a:lnTo>
                  <a:lnTo>
                    <a:pt x="51" y="107"/>
                  </a:lnTo>
                  <a:lnTo>
                    <a:pt x="54" y="95"/>
                  </a:lnTo>
                  <a:lnTo>
                    <a:pt x="59" y="83"/>
                  </a:lnTo>
                  <a:lnTo>
                    <a:pt x="66" y="72"/>
                  </a:lnTo>
                  <a:lnTo>
                    <a:pt x="76" y="63"/>
                  </a:lnTo>
                  <a:lnTo>
                    <a:pt x="88" y="55"/>
                  </a:lnTo>
                  <a:lnTo>
                    <a:pt x="101" y="51"/>
                  </a:lnTo>
                  <a:lnTo>
                    <a:pt x="113" y="49"/>
                  </a:lnTo>
                  <a:lnTo>
                    <a:pt x="126" y="50"/>
                  </a:lnTo>
                  <a:lnTo>
                    <a:pt x="140" y="53"/>
                  </a:lnTo>
                  <a:lnTo>
                    <a:pt x="151" y="59"/>
                  </a:lnTo>
                  <a:lnTo>
                    <a:pt x="162" y="66"/>
                  </a:lnTo>
                  <a:lnTo>
                    <a:pt x="171" y="76"/>
                  </a:lnTo>
                  <a:lnTo>
                    <a:pt x="177" y="87"/>
                  </a:lnTo>
                  <a:lnTo>
                    <a:pt x="183" y="101"/>
                  </a:lnTo>
                  <a:lnTo>
                    <a:pt x="184" y="114"/>
                  </a:lnTo>
                  <a:lnTo>
                    <a:pt x="184" y="127"/>
                  </a:lnTo>
                  <a:lnTo>
                    <a:pt x="182" y="141"/>
                  </a:lnTo>
                  <a:lnTo>
                    <a:pt x="176" y="153"/>
                  </a:lnTo>
                  <a:lnTo>
                    <a:pt x="170" y="164"/>
                  </a:lnTo>
                  <a:lnTo>
                    <a:pt x="160" y="173"/>
                  </a:lnTo>
                  <a:lnTo>
                    <a:pt x="149" y="181"/>
                  </a:lnTo>
                  <a:close/>
                  <a:moveTo>
                    <a:pt x="170" y="224"/>
                  </a:moveTo>
                  <a:lnTo>
                    <a:pt x="191" y="212"/>
                  </a:lnTo>
                  <a:lnTo>
                    <a:pt x="207" y="195"/>
                  </a:lnTo>
                  <a:lnTo>
                    <a:pt x="221" y="177"/>
                  </a:lnTo>
                  <a:lnTo>
                    <a:pt x="230" y="156"/>
                  </a:lnTo>
                  <a:lnTo>
                    <a:pt x="235" y="134"/>
                  </a:lnTo>
                  <a:lnTo>
                    <a:pt x="236" y="112"/>
                  </a:lnTo>
                  <a:lnTo>
                    <a:pt x="233" y="89"/>
                  </a:lnTo>
                  <a:lnTo>
                    <a:pt x="224" y="66"/>
                  </a:lnTo>
                  <a:lnTo>
                    <a:pt x="212" y="45"/>
                  </a:lnTo>
                  <a:lnTo>
                    <a:pt x="195" y="29"/>
                  </a:lnTo>
                  <a:lnTo>
                    <a:pt x="177" y="15"/>
                  </a:lnTo>
                  <a:lnTo>
                    <a:pt x="156" y="5"/>
                  </a:lnTo>
                  <a:lnTo>
                    <a:pt x="134" y="1"/>
                  </a:lnTo>
                  <a:lnTo>
                    <a:pt x="112" y="0"/>
                  </a:lnTo>
                  <a:lnTo>
                    <a:pt x="89" y="3"/>
                  </a:lnTo>
                  <a:lnTo>
                    <a:pt x="66" y="12"/>
                  </a:lnTo>
                  <a:lnTo>
                    <a:pt x="45" y="24"/>
                  </a:lnTo>
                  <a:lnTo>
                    <a:pt x="29" y="41"/>
                  </a:lnTo>
                  <a:lnTo>
                    <a:pt x="15" y="59"/>
                  </a:lnTo>
                  <a:lnTo>
                    <a:pt x="5" y="80"/>
                  </a:lnTo>
                  <a:lnTo>
                    <a:pt x="1" y="101"/>
                  </a:lnTo>
                  <a:lnTo>
                    <a:pt x="0" y="124"/>
                  </a:lnTo>
                  <a:lnTo>
                    <a:pt x="3" y="147"/>
                  </a:lnTo>
                  <a:lnTo>
                    <a:pt x="12" y="170"/>
                  </a:lnTo>
                  <a:lnTo>
                    <a:pt x="24" y="191"/>
                  </a:lnTo>
                  <a:lnTo>
                    <a:pt x="40" y="207"/>
                  </a:lnTo>
                  <a:lnTo>
                    <a:pt x="59" y="221"/>
                  </a:lnTo>
                  <a:lnTo>
                    <a:pt x="80" y="230"/>
                  </a:lnTo>
                  <a:lnTo>
                    <a:pt x="101" y="235"/>
                  </a:lnTo>
                  <a:lnTo>
                    <a:pt x="124" y="236"/>
                  </a:lnTo>
                  <a:lnTo>
                    <a:pt x="147" y="233"/>
                  </a:lnTo>
                  <a:lnTo>
                    <a:pt x="170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26960" y="1496880"/>
              <a:ext cx="307080" cy="300600"/>
            </a:xfrm>
            <a:custGeom>
              <a:avLst/>
              <a:gdLst/>
              <a:ahLst/>
              <a:rect l="l" t="t" r="r" b="b"/>
              <a:pathLst>
                <a:path w="635" h="635">
                  <a:moveTo>
                    <a:pt x="625" y="237"/>
                  </a:moveTo>
                  <a:lnTo>
                    <a:pt x="615" y="207"/>
                  </a:lnTo>
                  <a:lnTo>
                    <a:pt x="603" y="177"/>
                  </a:lnTo>
                  <a:lnTo>
                    <a:pt x="587" y="150"/>
                  </a:lnTo>
                  <a:lnTo>
                    <a:pt x="570" y="125"/>
                  </a:lnTo>
                  <a:lnTo>
                    <a:pt x="551" y="100"/>
                  </a:lnTo>
                  <a:lnTo>
                    <a:pt x="529" y="79"/>
                  </a:lnTo>
                  <a:lnTo>
                    <a:pt x="505" y="60"/>
                  </a:lnTo>
                  <a:lnTo>
                    <a:pt x="480" y="44"/>
                  </a:lnTo>
                  <a:lnTo>
                    <a:pt x="453" y="29"/>
                  </a:lnTo>
                  <a:lnTo>
                    <a:pt x="424" y="18"/>
                  </a:lnTo>
                  <a:lnTo>
                    <a:pt x="395" y="9"/>
                  </a:lnTo>
                  <a:lnTo>
                    <a:pt x="364" y="4"/>
                  </a:lnTo>
                  <a:lnTo>
                    <a:pt x="333" y="0"/>
                  </a:lnTo>
                  <a:lnTo>
                    <a:pt x="301" y="0"/>
                  </a:lnTo>
                  <a:lnTo>
                    <a:pt x="269" y="5"/>
                  </a:lnTo>
                  <a:lnTo>
                    <a:pt x="235" y="11"/>
                  </a:lnTo>
                  <a:lnTo>
                    <a:pt x="203" y="22"/>
                  </a:lnTo>
                  <a:lnTo>
                    <a:pt x="172" y="36"/>
                  </a:lnTo>
                  <a:lnTo>
                    <a:pt x="144" y="51"/>
                  </a:lnTo>
                  <a:lnTo>
                    <a:pt x="119" y="70"/>
                  </a:lnTo>
                  <a:lnTo>
                    <a:pt x="96" y="90"/>
                  </a:lnTo>
                  <a:lnTo>
                    <a:pt x="74" y="113"/>
                  </a:lnTo>
                  <a:lnTo>
                    <a:pt x="56" y="138"/>
                  </a:lnTo>
                  <a:lnTo>
                    <a:pt x="40" y="163"/>
                  </a:lnTo>
                  <a:lnTo>
                    <a:pt x="27" y="191"/>
                  </a:lnTo>
                  <a:lnTo>
                    <a:pt x="16" y="219"/>
                  </a:lnTo>
                  <a:lnTo>
                    <a:pt x="8" y="249"/>
                  </a:lnTo>
                  <a:lnTo>
                    <a:pt x="2" y="279"/>
                  </a:lnTo>
                  <a:lnTo>
                    <a:pt x="0" y="309"/>
                  </a:lnTo>
                  <a:lnTo>
                    <a:pt x="1" y="339"/>
                  </a:lnTo>
                  <a:lnTo>
                    <a:pt x="5" y="370"/>
                  </a:lnTo>
                  <a:lnTo>
                    <a:pt x="11" y="400"/>
                  </a:lnTo>
                  <a:lnTo>
                    <a:pt x="20" y="430"/>
                  </a:lnTo>
                  <a:lnTo>
                    <a:pt x="32" y="458"/>
                  </a:lnTo>
                  <a:lnTo>
                    <a:pt x="48" y="485"/>
                  </a:lnTo>
                  <a:lnTo>
                    <a:pt x="66" y="510"/>
                  </a:lnTo>
                  <a:lnTo>
                    <a:pt x="84" y="533"/>
                  </a:lnTo>
                  <a:lnTo>
                    <a:pt x="107" y="554"/>
                  </a:lnTo>
                  <a:lnTo>
                    <a:pt x="130" y="574"/>
                  </a:lnTo>
                  <a:lnTo>
                    <a:pt x="155" y="591"/>
                  </a:lnTo>
                  <a:lnTo>
                    <a:pt x="182" y="605"/>
                  </a:lnTo>
                  <a:lnTo>
                    <a:pt x="211" y="616"/>
                  </a:lnTo>
                  <a:lnTo>
                    <a:pt x="240" y="625"/>
                  </a:lnTo>
                  <a:lnTo>
                    <a:pt x="271" y="632"/>
                  </a:lnTo>
                  <a:lnTo>
                    <a:pt x="302" y="635"/>
                  </a:lnTo>
                  <a:lnTo>
                    <a:pt x="334" y="634"/>
                  </a:lnTo>
                  <a:lnTo>
                    <a:pt x="366" y="631"/>
                  </a:lnTo>
                  <a:lnTo>
                    <a:pt x="400" y="624"/>
                  </a:lnTo>
                  <a:lnTo>
                    <a:pt x="432" y="614"/>
                  </a:lnTo>
                  <a:lnTo>
                    <a:pt x="462" y="601"/>
                  </a:lnTo>
                  <a:lnTo>
                    <a:pt x="490" y="584"/>
                  </a:lnTo>
                  <a:lnTo>
                    <a:pt x="515" y="566"/>
                  </a:lnTo>
                  <a:lnTo>
                    <a:pt x="539" y="546"/>
                  </a:lnTo>
                  <a:lnTo>
                    <a:pt x="560" y="523"/>
                  </a:lnTo>
                  <a:lnTo>
                    <a:pt x="578" y="499"/>
                  </a:lnTo>
                  <a:lnTo>
                    <a:pt x="595" y="473"/>
                  </a:lnTo>
                  <a:lnTo>
                    <a:pt x="608" y="446"/>
                  </a:lnTo>
                  <a:lnTo>
                    <a:pt x="620" y="418"/>
                  </a:lnTo>
                  <a:lnTo>
                    <a:pt x="627" y="389"/>
                  </a:lnTo>
                  <a:lnTo>
                    <a:pt x="633" y="359"/>
                  </a:lnTo>
                  <a:lnTo>
                    <a:pt x="635" y="329"/>
                  </a:lnTo>
                  <a:lnTo>
                    <a:pt x="635" y="298"/>
                  </a:lnTo>
                  <a:lnTo>
                    <a:pt x="632" y="268"/>
                  </a:lnTo>
                  <a:lnTo>
                    <a:pt x="625" y="237"/>
                  </a:lnTo>
                  <a:close/>
                  <a:moveTo>
                    <a:pt x="540" y="261"/>
                  </a:moveTo>
                  <a:lnTo>
                    <a:pt x="543" y="279"/>
                  </a:lnTo>
                  <a:lnTo>
                    <a:pt x="546" y="298"/>
                  </a:lnTo>
                  <a:lnTo>
                    <a:pt x="547" y="318"/>
                  </a:lnTo>
                  <a:lnTo>
                    <a:pt x="546" y="339"/>
                  </a:lnTo>
                  <a:lnTo>
                    <a:pt x="544" y="360"/>
                  </a:lnTo>
                  <a:lnTo>
                    <a:pt x="540" y="381"/>
                  </a:lnTo>
                  <a:lnTo>
                    <a:pt x="534" y="402"/>
                  </a:lnTo>
                  <a:lnTo>
                    <a:pt x="525" y="422"/>
                  </a:lnTo>
                  <a:lnTo>
                    <a:pt x="515" y="442"/>
                  </a:lnTo>
                  <a:lnTo>
                    <a:pt x="503" y="462"/>
                  </a:lnTo>
                  <a:lnTo>
                    <a:pt x="489" y="480"/>
                  </a:lnTo>
                  <a:lnTo>
                    <a:pt x="472" y="496"/>
                  </a:lnTo>
                  <a:lnTo>
                    <a:pt x="452" y="512"/>
                  </a:lnTo>
                  <a:lnTo>
                    <a:pt x="431" y="525"/>
                  </a:lnTo>
                  <a:lnTo>
                    <a:pt x="406" y="536"/>
                  </a:lnTo>
                  <a:lnTo>
                    <a:pt x="379" y="545"/>
                  </a:lnTo>
                  <a:lnTo>
                    <a:pt x="351" y="551"/>
                  </a:lnTo>
                  <a:lnTo>
                    <a:pt x="324" y="553"/>
                  </a:lnTo>
                  <a:lnTo>
                    <a:pt x="299" y="553"/>
                  </a:lnTo>
                  <a:lnTo>
                    <a:pt x="274" y="550"/>
                  </a:lnTo>
                  <a:lnTo>
                    <a:pt x="251" y="543"/>
                  </a:lnTo>
                  <a:lnTo>
                    <a:pt x="230" y="535"/>
                  </a:lnTo>
                  <a:lnTo>
                    <a:pt x="210" y="524"/>
                  </a:lnTo>
                  <a:lnTo>
                    <a:pt x="191" y="512"/>
                  </a:lnTo>
                  <a:lnTo>
                    <a:pt x="173" y="499"/>
                  </a:lnTo>
                  <a:lnTo>
                    <a:pt x="158" y="483"/>
                  </a:lnTo>
                  <a:lnTo>
                    <a:pt x="143" y="466"/>
                  </a:lnTo>
                  <a:lnTo>
                    <a:pt x="130" y="450"/>
                  </a:lnTo>
                  <a:lnTo>
                    <a:pt x="120" y="432"/>
                  </a:lnTo>
                  <a:lnTo>
                    <a:pt x="110" y="413"/>
                  </a:lnTo>
                  <a:lnTo>
                    <a:pt x="102" y="395"/>
                  </a:lnTo>
                  <a:lnTo>
                    <a:pt x="97" y="377"/>
                  </a:lnTo>
                  <a:lnTo>
                    <a:pt x="93" y="359"/>
                  </a:lnTo>
                  <a:lnTo>
                    <a:pt x="90" y="339"/>
                  </a:lnTo>
                  <a:lnTo>
                    <a:pt x="89" y="319"/>
                  </a:lnTo>
                  <a:lnTo>
                    <a:pt x="90" y="298"/>
                  </a:lnTo>
                  <a:lnTo>
                    <a:pt x="92" y="277"/>
                  </a:lnTo>
                  <a:lnTo>
                    <a:pt x="97" y="256"/>
                  </a:lnTo>
                  <a:lnTo>
                    <a:pt x="102" y="234"/>
                  </a:lnTo>
                  <a:lnTo>
                    <a:pt x="110" y="213"/>
                  </a:lnTo>
                  <a:lnTo>
                    <a:pt x="120" y="193"/>
                  </a:lnTo>
                  <a:lnTo>
                    <a:pt x="132" y="175"/>
                  </a:lnTo>
                  <a:lnTo>
                    <a:pt x="148" y="156"/>
                  </a:lnTo>
                  <a:lnTo>
                    <a:pt x="164" y="139"/>
                  </a:lnTo>
                  <a:lnTo>
                    <a:pt x="183" y="123"/>
                  </a:lnTo>
                  <a:lnTo>
                    <a:pt x="205" y="110"/>
                  </a:lnTo>
                  <a:lnTo>
                    <a:pt x="230" y="99"/>
                  </a:lnTo>
                  <a:lnTo>
                    <a:pt x="257" y="90"/>
                  </a:lnTo>
                  <a:lnTo>
                    <a:pt x="284" y="85"/>
                  </a:lnTo>
                  <a:lnTo>
                    <a:pt x="310" y="82"/>
                  </a:lnTo>
                  <a:lnTo>
                    <a:pt x="335" y="82"/>
                  </a:lnTo>
                  <a:lnTo>
                    <a:pt x="359" y="86"/>
                  </a:lnTo>
                  <a:lnTo>
                    <a:pt x="382" y="91"/>
                  </a:lnTo>
                  <a:lnTo>
                    <a:pt x="403" y="99"/>
                  </a:lnTo>
                  <a:lnTo>
                    <a:pt x="424" y="110"/>
                  </a:lnTo>
                  <a:lnTo>
                    <a:pt x="443" y="121"/>
                  </a:lnTo>
                  <a:lnTo>
                    <a:pt x="461" y="136"/>
                  </a:lnTo>
                  <a:lnTo>
                    <a:pt x="476" y="151"/>
                  </a:lnTo>
                  <a:lnTo>
                    <a:pt x="491" y="167"/>
                  </a:lnTo>
                  <a:lnTo>
                    <a:pt x="504" y="184"/>
                  </a:lnTo>
                  <a:lnTo>
                    <a:pt x="515" y="203"/>
                  </a:lnTo>
                  <a:lnTo>
                    <a:pt x="525" y="222"/>
                  </a:lnTo>
                  <a:lnTo>
                    <a:pt x="533" y="241"/>
                  </a:lnTo>
                  <a:lnTo>
                    <a:pt x="540" y="2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8040" y="1451160"/>
              <a:ext cx="263880" cy="296280"/>
            </a:xfrm>
            <a:custGeom>
              <a:avLst/>
              <a:gdLst/>
              <a:ahLst/>
              <a:rect l="l" t="t" r="r" b="b"/>
              <a:pathLst>
                <a:path w="543" h="631">
                  <a:moveTo>
                    <a:pt x="543" y="593"/>
                  </a:moveTo>
                  <a:lnTo>
                    <a:pt x="269" y="0"/>
                  </a:lnTo>
                  <a:lnTo>
                    <a:pt x="189" y="6"/>
                  </a:lnTo>
                  <a:lnTo>
                    <a:pt x="0" y="631"/>
                  </a:lnTo>
                  <a:lnTo>
                    <a:pt x="94" y="624"/>
                  </a:lnTo>
                  <a:lnTo>
                    <a:pt x="149" y="440"/>
                  </a:lnTo>
                  <a:lnTo>
                    <a:pt x="368" y="426"/>
                  </a:lnTo>
                  <a:lnTo>
                    <a:pt x="448" y="600"/>
                  </a:lnTo>
                  <a:lnTo>
                    <a:pt x="543" y="593"/>
                  </a:lnTo>
                  <a:close/>
                  <a:moveTo>
                    <a:pt x="175" y="357"/>
                  </a:moveTo>
                  <a:lnTo>
                    <a:pt x="237" y="118"/>
                  </a:lnTo>
                  <a:lnTo>
                    <a:pt x="238" y="118"/>
                  </a:lnTo>
                  <a:lnTo>
                    <a:pt x="331" y="346"/>
                  </a:lnTo>
                  <a:lnTo>
                    <a:pt x="175" y="3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87200" y="1447920"/>
              <a:ext cx="291240" cy="299880"/>
            </a:xfrm>
            <a:custGeom>
              <a:avLst/>
              <a:gdLst/>
              <a:ahLst/>
              <a:rect l="l" t="t" r="r" b="b"/>
              <a:pathLst>
                <a:path w="605" h="634">
                  <a:moveTo>
                    <a:pt x="605" y="188"/>
                  </a:moveTo>
                  <a:lnTo>
                    <a:pt x="594" y="164"/>
                  </a:lnTo>
                  <a:lnTo>
                    <a:pt x="576" y="137"/>
                  </a:lnTo>
                  <a:lnTo>
                    <a:pt x="566" y="121"/>
                  </a:lnTo>
                  <a:lnTo>
                    <a:pt x="553" y="105"/>
                  </a:lnTo>
                  <a:lnTo>
                    <a:pt x="537" y="89"/>
                  </a:lnTo>
                  <a:lnTo>
                    <a:pt x="519" y="73"/>
                  </a:lnTo>
                  <a:lnTo>
                    <a:pt x="495" y="56"/>
                  </a:lnTo>
                  <a:lnTo>
                    <a:pt x="471" y="40"/>
                  </a:lnTo>
                  <a:lnTo>
                    <a:pt x="446" y="28"/>
                  </a:lnTo>
                  <a:lnTo>
                    <a:pt x="422" y="19"/>
                  </a:lnTo>
                  <a:lnTo>
                    <a:pt x="399" y="11"/>
                  </a:lnTo>
                  <a:lnTo>
                    <a:pt x="377" y="7"/>
                  </a:lnTo>
                  <a:lnTo>
                    <a:pt x="338" y="1"/>
                  </a:lnTo>
                  <a:lnTo>
                    <a:pt x="305" y="0"/>
                  </a:lnTo>
                  <a:lnTo>
                    <a:pt x="274" y="2"/>
                  </a:lnTo>
                  <a:lnTo>
                    <a:pt x="244" y="8"/>
                  </a:lnTo>
                  <a:lnTo>
                    <a:pt x="214" y="17"/>
                  </a:lnTo>
                  <a:lnTo>
                    <a:pt x="187" y="28"/>
                  </a:lnTo>
                  <a:lnTo>
                    <a:pt x="159" y="41"/>
                  </a:lnTo>
                  <a:lnTo>
                    <a:pt x="133" y="57"/>
                  </a:lnTo>
                  <a:lnTo>
                    <a:pt x="110" y="75"/>
                  </a:lnTo>
                  <a:lnTo>
                    <a:pt x="88" y="97"/>
                  </a:lnTo>
                  <a:lnTo>
                    <a:pt x="68" y="119"/>
                  </a:lnTo>
                  <a:lnTo>
                    <a:pt x="50" y="144"/>
                  </a:lnTo>
                  <a:lnTo>
                    <a:pt x="35" y="170"/>
                  </a:lnTo>
                  <a:lnTo>
                    <a:pt x="22" y="199"/>
                  </a:lnTo>
                  <a:lnTo>
                    <a:pt x="12" y="229"/>
                  </a:lnTo>
                  <a:lnTo>
                    <a:pt x="6" y="260"/>
                  </a:lnTo>
                  <a:lnTo>
                    <a:pt x="1" y="293"/>
                  </a:lnTo>
                  <a:lnTo>
                    <a:pt x="0" y="325"/>
                  </a:lnTo>
                  <a:lnTo>
                    <a:pt x="3" y="356"/>
                  </a:lnTo>
                  <a:lnTo>
                    <a:pt x="9" y="387"/>
                  </a:lnTo>
                  <a:lnTo>
                    <a:pt x="17" y="417"/>
                  </a:lnTo>
                  <a:lnTo>
                    <a:pt x="29" y="446"/>
                  </a:lnTo>
                  <a:lnTo>
                    <a:pt x="42" y="473"/>
                  </a:lnTo>
                  <a:lnTo>
                    <a:pt x="59" y="500"/>
                  </a:lnTo>
                  <a:lnTo>
                    <a:pt x="77" y="523"/>
                  </a:lnTo>
                  <a:lnTo>
                    <a:pt x="98" y="546"/>
                  </a:lnTo>
                  <a:lnTo>
                    <a:pt x="121" y="566"/>
                  </a:lnTo>
                  <a:lnTo>
                    <a:pt x="146" y="584"/>
                  </a:lnTo>
                  <a:lnTo>
                    <a:pt x="172" y="599"/>
                  </a:lnTo>
                  <a:lnTo>
                    <a:pt x="200" y="613"/>
                  </a:lnTo>
                  <a:lnTo>
                    <a:pt x="229" y="623"/>
                  </a:lnTo>
                  <a:lnTo>
                    <a:pt x="260" y="629"/>
                  </a:lnTo>
                  <a:lnTo>
                    <a:pt x="292" y="634"/>
                  </a:lnTo>
                  <a:lnTo>
                    <a:pt x="329" y="634"/>
                  </a:lnTo>
                  <a:lnTo>
                    <a:pt x="367" y="630"/>
                  </a:lnTo>
                  <a:lnTo>
                    <a:pt x="404" y="622"/>
                  </a:lnTo>
                  <a:lnTo>
                    <a:pt x="443" y="607"/>
                  </a:lnTo>
                  <a:lnTo>
                    <a:pt x="481" y="588"/>
                  </a:lnTo>
                  <a:lnTo>
                    <a:pt x="499" y="576"/>
                  </a:lnTo>
                  <a:lnTo>
                    <a:pt x="516" y="562"/>
                  </a:lnTo>
                  <a:lnTo>
                    <a:pt x="533" y="547"/>
                  </a:lnTo>
                  <a:lnTo>
                    <a:pt x="550" y="529"/>
                  </a:lnTo>
                  <a:lnTo>
                    <a:pt x="565" y="511"/>
                  </a:lnTo>
                  <a:lnTo>
                    <a:pt x="580" y="491"/>
                  </a:lnTo>
                  <a:lnTo>
                    <a:pt x="471" y="483"/>
                  </a:lnTo>
                  <a:lnTo>
                    <a:pt x="453" y="500"/>
                  </a:lnTo>
                  <a:lnTo>
                    <a:pt x="433" y="514"/>
                  </a:lnTo>
                  <a:lnTo>
                    <a:pt x="413" y="526"/>
                  </a:lnTo>
                  <a:lnTo>
                    <a:pt x="392" y="536"/>
                  </a:lnTo>
                  <a:lnTo>
                    <a:pt x="369" y="544"/>
                  </a:lnTo>
                  <a:lnTo>
                    <a:pt x="347" y="549"/>
                  </a:lnTo>
                  <a:lnTo>
                    <a:pt x="322" y="552"/>
                  </a:lnTo>
                  <a:lnTo>
                    <a:pt x="299" y="552"/>
                  </a:lnTo>
                  <a:lnTo>
                    <a:pt x="277" y="549"/>
                  </a:lnTo>
                  <a:lnTo>
                    <a:pt x="254" y="544"/>
                  </a:lnTo>
                  <a:lnTo>
                    <a:pt x="234" y="537"/>
                  </a:lnTo>
                  <a:lnTo>
                    <a:pt x="214" y="527"/>
                  </a:lnTo>
                  <a:lnTo>
                    <a:pt x="196" y="516"/>
                  </a:lnTo>
                  <a:lnTo>
                    <a:pt x="178" y="503"/>
                  </a:lnTo>
                  <a:lnTo>
                    <a:pt x="161" y="488"/>
                  </a:lnTo>
                  <a:lnTo>
                    <a:pt x="147" y="472"/>
                  </a:lnTo>
                  <a:lnTo>
                    <a:pt x="132" y="454"/>
                  </a:lnTo>
                  <a:lnTo>
                    <a:pt x="120" y="435"/>
                  </a:lnTo>
                  <a:lnTo>
                    <a:pt x="110" y="414"/>
                  </a:lnTo>
                  <a:lnTo>
                    <a:pt x="102" y="393"/>
                  </a:lnTo>
                  <a:lnTo>
                    <a:pt x="96" y="371"/>
                  </a:lnTo>
                  <a:lnTo>
                    <a:pt x="91" y="347"/>
                  </a:lnTo>
                  <a:lnTo>
                    <a:pt x="90" y="324"/>
                  </a:lnTo>
                  <a:lnTo>
                    <a:pt x="90" y="300"/>
                  </a:lnTo>
                  <a:lnTo>
                    <a:pt x="93" y="276"/>
                  </a:lnTo>
                  <a:lnTo>
                    <a:pt x="98" y="253"/>
                  </a:lnTo>
                  <a:lnTo>
                    <a:pt x="105" y="231"/>
                  </a:lnTo>
                  <a:lnTo>
                    <a:pt x="115" y="210"/>
                  </a:lnTo>
                  <a:lnTo>
                    <a:pt x="124" y="191"/>
                  </a:lnTo>
                  <a:lnTo>
                    <a:pt x="138" y="172"/>
                  </a:lnTo>
                  <a:lnTo>
                    <a:pt x="152" y="155"/>
                  </a:lnTo>
                  <a:lnTo>
                    <a:pt x="168" y="140"/>
                  </a:lnTo>
                  <a:lnTo>
                    <a:pt x="184" y="125"/>
                  </a:lnTo>
                  <a:lnTo>
                    <a:pt x="203" y="113"/>
                  </a:lnTo>
                  <a:lnTo>
                    <a:pt x="222" y="103"/>
                  </a:lnTo>
                  <a:lnTo>
                    <a:pt x="243" y="94"/>
                  </a:lnTo>
                  <a:lnTo>
                    <a:pt x="264" y="88"/>
                  </a:lnTo>
                  <a:lnTo>
                    <a:pt x="287" y="84"/>
                  </a:lnTo>
                  <a:lnTo>
                    <a:pt x="310" y="82"/>
                  </a:lnTo>
                  <a:lnTo>
                    <a:pt x="333" y="82"/>
                  </a:lnTo>
                  <a:lnTo>
                    <a:pt x="351" y="84"/>
                  </a:lnTo>
                  <a:lnTo>
                    <a:pt x="368" y="88"/>
                  </a:lnTo>
                  <a:lnTo>
                    <a:pt x="399" y="98"/>
                  </a:lnTo>
                  <a:lnTo>
                    <a:pt x="424" y="111"/>
                  </a:lnTo>
                  <a:lnTo>
                    <a:pt x="446" y="125"/>
                  </a:lnTo>
                  <a:lnTo>
                    <a:pt x="465" y="141"/>
                  </a:lnTo>
                  <a:lnTo>
                    <a:pt x="480" y="157"/>
                  </a:lnTo>
                  <a:lnTo>
                    <a:pt x="499" y="180"/>
                  </a:lnTo>
                  <a:lnTo>
                    <a:pt x="605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2640" y="1490040"/>
              <a:ext cx="109080" cy="291960"/>
            </a:xfrm>
            <a:custGeom>
              <a:avLst/>
              <a:gdLst/>
              <a:ahLst/>
              <a:rect l="l" t="t" r="r" b="b"/>
              <a:pathLst>
                <a:path w="224" h="615">
                  <a:moveTo>
                    <a:pt x="87" y="615"/>
                  </a:moveTo>
                  <a:lnTo>
                    <a:pt x="224" y="20"/>
                  </a:lnTo>
                  <a:lnTo>
                    <a:pt x="138" y="0"/>
                  </a:lnTo>
                  <a:lnTo>
                    <a:pt x="0" y="595"/>
                  </a:lnTo>
                  <a:lnTo>
                    <a:pt x="87" y="6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4400" y="1653120"/>
              <a:ext cx="115920" cy="11376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94" y="182"/>
                  </a:moveTo>
                  <a:lnTo>
                    <a:pt x="82" y="177"/>
                  </a:lnTo>
                  <a:lnTo>
                    <a:pt x="71" y="168"/>
                  </a:lnTo>
                  <a:lnTo>
                    <a:pt x="63" y="158"/>
                  </a:lnTo>
                  <a:lnTo>
                    <a:pt x="57" y="145"/>
                  </a:lnTo>
                  <a:lnTo>
                    <a:pt x="53" y="133"/>
                  </a:lnTo>
                  <a:lnTo>
                    <a:pt x="52" y="120"/>
                  </a:lnTo>
                  <a:lnTo>
                    <a:pt x="53" y="107"/>
                  </a:lnTo>
                  <a:lnTo>
                    <a:pt x="56" y="93"/>
                  </a:lnTo>
                  <a:lnTo>
                    <a:pt x="62" y="81"/>
                  </a:lnTo>
                  <a:lnTo>
                    <a:pt x="71" y="71"/>
                  </a:lnTo>
                  <a:lnTo>
                    <a:pt x="81" y="62"/>
                  </a:lnTo>
                  <a:lnTo>
                    <a:pt x="92" y="56"/>
                  </a:lnTo>
                  <a:lnTo>
                    <a:pt x="104" y="51"/>
                  </a:lnTo>
                  <a:lnTo>
                    <a:pt x="117" y="49"/>
                  </a:lnTo>
                  <a:lnTo>
                    <a:pt x="131" y="50"/>
                  </a:lnTo>
                  <a:lnTo>
                    <a:pt x="143" y="53"/>
                  </a:lnTo>
                  <a:lnTo>
                    <a:pt x="155" y="59"/>
                  </a:lnTo>
                  <a:lnTo>
                    <a:pt x="166" y="68"/>
                  </a:lnTo>
                  <a:lnTo>
                    <a:pt x="174" y="78"/>
                  </a:lnTo>
                  <a:lnTo>
                    <a:pt x="181" y="89"/>
                  </a:lnTo>
                  <a:lnTo>
                    <a:pt x="184" y="102"/>
                  </a:lnTo>
                  <a:lnTo>
                    <a:pt x="185" y="114"/>
                  </a:lnTo>
                  <a:lnTo>
                    <a:pt x="185" y="128"/>
                  </a:lnTo>
                  <a:lnTo>
                    <a:pt x="181" y="141"/>
                  </a:lnTo>
                  <a:lnTo>
                    <a:pt x="175" y="153"/>
                  </a:lnTo>
                  <a:lnTo>
                    <a:pt x="166" y="164"/>
                  </a:lnTo>
                  <a:lnTo>
                    <a:pt x="156" y="173"/>
                  </a:lnTo>
                  <a:lnTo>
                    <a:pt x="145" y="180"/>
                  </a:lnTo>
                  <a:lnTo>
                    <a:pt x="133" y="184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2"/>
                  </a:lnTo>
                  <a:close/>
                  <a:moveTo>
                    <a:pt x="76" y="228"/>
                  </a:moveTo>
                  <a:lnTo>
                    <a:pt x="99" y="234"/>
                  </a:lnTo>
                  <a:lnTo>
                    <a:pt x="123" y="236"/>
                  </a:lnTo>
                  <a:lnTo>
                    <a:pt x="145" y="233"/>
                  </a:lnTo>
                  <a:lnTo>
                    <a:pt x="166" y="226"/>
                  </a:lnTo>
                  <a:lnTo>
                    <a:pt x="186" y="215"/>
                  </a:lnTo>
                  <a:lnTo>
                    <a:pt x="204" y="200"/>
                  </a:lnTo>
                  <a:lnTo>
                    <a:pt x="218" y="182"/>
                  </a:lnTo>
                  <a:lnTo>
                    <a:pt x="228" y="160"/>
                  </a:lnTo>
                  <a:lnTo>
                    <a:pt x="235" y="137"/>
                  </a:lnTo>
                  <a:lnTo>
                    <a:pt x="237" y="113"/>
                  </a:lnTo>
                  <a:lnTo>
                    <a:pt x="234" y="91"/>
                  </a:lnTo>
                  <a:lnTo>
                    <a:pt x="227" y="70"/>
                  </a:lnTo>
                  <a:lnTo>
                    <a:pt x="215" y="50"/>
                  </a:lnTo>
                  <a:lnTo>
                    <a:pt x="200" y="32"/>
                  </a:lnTo>
                  <a:lnTo>
                    <a:pt x="183" y="19"/>
                  </a:lnTo>
                  <a:lnTo>
                    <a:pt x="161" y="8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2"/>
                  </a:lnTo>
                  <a:lnTo>
                    <a:pt x="71" y="10"/>
                  </a:lnTo>
                  <a:lnTo>
                    <a:pt x="51" y="21"/>
                  </a:lnTo>
                  <a:lnTo>
                    <a:pt x="33" y="36"/>
                  </a:lnTo>
                  <a:lnTo>
                    <a:pt x="18" y="53"/>
                  </a:lnTo>
                  <a:lnTo>
                    <a:pt x="8" y="75"/>
                  </a:lnTo>
                  <a:lnTo>
                    <a:pt x="2" y="99"/>
                  </a:lnTo>
                  <a:lnTo>
                    <a:pt x="0" y="122"/>
                  </a:lnTo>
                  <a:lnTo>
                    <a:pt x="3" y="144"/>
                  </a:lnTo>
                  <a:lnTo>
                    <a:pt x="10" y="165"/>
                  </a:lnTo>
                  <a:lnTo>
                    <a:pt x="21" y="185"/>
                  </a:lnTo>
                  <a:lnTo>
                    <a:pt x="36" y="203"/>
                  </a:lnTo>
                  <a:lnTo>
                    <a:pt x="54" y="218"/>
                  </a:lnTo>
                  <a:lnTo>
                    <a:pt x="76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32400" y="1660680"/>
              <a:ext cx="352800" cy="369000"/>
            </a:xfrm>
            <a:custGeom>
              <a:avLst/>
              <a:gdLst/>
              <a:ahLst/>
              <a:rect l="l" t="t" r="r" b="b"/>
              <a:pathLst>
                <a:path w="730" h="773">
                  <a:moveTo>
                    <a:pt x="0" y="522"/>
                  </a:moveTo>
                  <a:lnTo>
                    <a:pt x="314" y="0"/>
                  </a:lnTo>
                  <a:lnTo>
                    <a:pt x="391" y="45"/>
                  </a:lnTo>
                  <a:lnTo>
                    <a:pt x="152" y="444"/>
                  </a:lnTo>
                  <a:lnTo>
                    <a:pt x="153" y="445"/>
                  </a:lnTo>
                  <a:lnTo>
                    <a:pt x="647" y="199"/>
                  </a:lnTo>
                  <a:lnTo>
                    <a:pt x="730" y="249"/>
                  </a:lnTo>
                  <a:lnTo>
                    <a:pt x="416" y="773"/>
                  </a:lnTo>
                  <a:lnTo>
                    <a:pt x="339" y="727"/>
                  </a:lnTo>
                  <a:lnTo>
                    <a:pt x="583" y="323"/>
                  </a:lnTo>
                  <a:lnTo>
                    <a:pt x="581" y="321"/>
                  </a:lnTo>
                  <a:lnTo>
                    <a:pt x="79" y="570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99880" y="1854720"/>
              <a:ext cx="349200" cy="353520"/>
            </a:xfrm>
            <a:custGeom>
              <a:avLst/>
              <a:gdLst/>
              <a:ahLst/>
              <a:rect l="l" t="t" r="r" b="b"/>
              <a:pathLst>
                <a:path w="724" h="746">
                  <a:moveTo>
                    <a:pt x="331" y="746"/>
                  </a:moveTo>
                  <a:lnTo>
                    <a:pt x="347" y="357"/>
                  </a:lnTo>
                  <a:lnTo>
                    <a:pt x="724" y="278"/>
                  </a:lnTo>
                  <a:lnTo>
                    <a:pt x="640" y="207"/>
                  </a:lnTo>
                  <a:lnTo>
                    <a:pt x="268" y="290"/>
                  </a:lnTo>
                  <a:lnTo>
                    <a:pt x="267" y="289"/>
                  </a:lnTo>
                  <a:lnTo>
                    <a:pt x="461" y="57"/>
                  </a:lnTo>
                  <a:lnTo>
                    <a:pt x="393" y="0"/>
                  </a:lnTo>
                  <a:lnTo>
                    <a:pt x="0" y="468"/>
                  </a:lnTo>
                  <a:lnTo>
                    <a:pt x="68" y="526"/>
                  </a:lnTo>
                  <a:lnTo>
                    <a:pt x="267" y="289"/>
                  </a:lnTo>
                  <a:lnTo>
                    <a:pt x="268" y="290"/>
                  </a:lnTo>
                  <a:lnTo>
                    <a:pt x="248" y="675"/>
                  </a:lnTo>
                  <a:lnTo>
                    <a:pt x="331" y="7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66200" y="2105640"/>
              <a:ext cx="321840" cy="304200"/>
            </a:xfrm>
            <a:custGeom>
              <a:avLst/>
              <a:gdLst/>
              <a:ahLst/>
              <a:rect l="l" t="t" r="r" b="b"/>
              <a:pathLst>
                <a:path w="664" h="641">
                  <a:moveTo>
                    <a:pt x="364" y="641"/>
                  </a:moveTo>
                  <a:lnTo>
                    <a:pt x="664" y="59"/>
                  </a:lnTo>
                  <a:lnTo>
                    <a:pt x="610" y="0"/>
                  </a:lnTo>
                  <a:lnTo>
                    <a:pt x="0" y="237"/>
                  </a:lnTo>
                  <a:lnTo>
                    <a:pt x="63" y="307"/>
                  </a:lnTo>
                  <a:lnTo>
                    <a:pt x="242" y="237"/>
                  </a:lnTo>
                  <a:lnTo>
                    <a:pt x="390" y="400"/>
                  </a:lnTo>
                  <a:lnTo>
                    <a:pt x="301" y="571"/>
                  </a:lnTo>
                  <a:lnTo>
                    <a:pt x="364" y="641"/>
                  </a:lnTo>
                  <a:close/>
                  <a:moveTo>
                    <a:pt x="324" y="205"/>
                  </a:moveTo>
                  <a:lnTo>
                    <a:pt x="551" y="107"/>
                  </a:lnTo>
                  <a:lnTo>
                    <a:pt x="552" y="108"/>
                  </a:lnTo>
                  <a:lnTo>
                    <a:pt x="430" y="322"/>
                  </a:lnTo>
                  <a:lnTo>
                    <a:pt x="324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2720" y="2329920"/>
              <a:ext cx="310320" cy="299880"/>
            </a:xfrm>
            <a:custGeom>
              <a:avLst/>
              <a:gdLst/>
              <a:ahLst/>
              <a:rect l="l" t="t" r="r" b="b"/>
              <a:pathLst>
                <a:path w="636" h="635">
                  <a:moveTo>
                    <a:pt x="480" y="590"/>
                  </a:moveTo>
                  <a:lnTo>
                    <a:pt x="507" y="572"/>
                  </a:lnTo>
                  <a:lnTo>
                    <a:pt x="531" y="552"/>
                  </a:lnTo>
                  <a:lnTo>
                    <a:pt x="553" y="530"/>
                  </a:lnTo>
                  <a:lnTo>
                    <a:pt x="573" y="506"/>
                  </a:lnTo>
                  <a:lnTo>
                    <a:pt x="590" y="480"/>
                  </a:lnTo>
                  <a:lnTo>
                    <a:pt x="604" y="454"/>
                  </a:lnTo>
                  <a:lnTo>
                    <a:pt x="617" y="426"/>
                  </a:lnTo>
                  <a:lnTo>
                    <a:pt x="626" y="397"/>
                  </a:lnTo>
                  <a:lnTo>
                    <a:pt x="632" y="367"/>
                  </a:lnTo>
                  <a:lnTo>
                    <a:pt x="636" y="337"/>
                  </a:lnTo>
                  <a:lnTo>
                    <a:pt x="636" y="306"/>
                  </a:lnTo>
                  <a:lnTo>
                    <a:pt x="633" y="275"/>
                  </a:lnTo>
                  <a:lnTo>
                    <a:pt x="627" y="244"/>
                  </a:lnTo>
                  <a:lnTo>
                    <a:pt x="618" y="214"/>
                  </a:lnTo>
                  <a:lnTo>
                    <a:pt x="606" y="184"/>
                  </a:lnTo>
                  <a:lnTo>
                    <a:pt x="589" y="154"/>
                  </a:lnTo>
                  <a:lnTo>
                    <a:pt x="570" y="125"/>
                  </a:lnTo>
                  <a:lnTo>
                    <a:pt x="549" y="100"/>
                  </a:lnTo>
                  <a:lnTo>
                    <a:pt x="526" y="77"/>
                  </a:lnTo>
                  <a:lnTo>
                    <a:pt x="501" y="57"/>
                  </a:lnTo>
                  <a:lnTo>
                    <a:pt x="475" y="41"/>
                  </a:lnTo>
                  <a:lnTo>
                    <a:pt x="447" y="26"/>
                  </a:lnTo>
                  <a:lnTo>
                    <a:pt x="418" y="15"/>
                  </a:lnTo>
                  <a:lnTo>
                    <a:pt x="389" y="7"/>
                  </a:lnTo>
                  <a:lnTo>
                    <a:pt x="359" y="2"/>
                  </a:lnTo>
                  <a:lnTo>
                    <a:pt x="329" y="0"/>
                  </a:lnTo>
                  <a:lnTo>
                    <a:pt x="298" y="0"/>
                  </a:lnTo>
                  <a:lnTo>
                    <a:pt x="268" y="3"/>
                  </a:lnTo>
                  <a:lnTo>
                    <a:pt x="238" y="10"/>
                  </a:lnTo>
                  <a:lnTo>
                    <a:pt x="209" y="19"/>
                  </a:lnTo>
                  <a:lnTo>
                    <a:pt x="181" y="30"/>
                  </a:lnTo>
                  <a:lnTo>
                    <a:pt x="154" y="45"/>
                  </a:lnTo>
                  <a:lnTo>
                    <a:pt x="128" y="62"/>
                  </a:lnTo>
                  <a:lnTo>
                    <a:pt x="104" y="82"/>
                  </a:lnTo>
                  <a:lnTo>
                    <a:pt x="83" y="104"/>
                  </a:lnTo>
                  <a:lnTo>
                    <a:pt x="63" y="127"/>
                  </a:lnTo>
                  <a:lnTo>
                    <a:pt x="46" y="153"/>
                  </a:lnTo>
                  <a:lnTo>
                    <a:pt x="32" y="180"/>
                  </a:lnTo>
                  <a:lnTo>
                    <a:pt x="19" y="207"/>
                  </a:lnTo>
                  <a:lnTo>
                    <a:pt x="10" y="236"/>
                  </a:lnTo>
                  <a:lnTo>
                    <a:pt x="4" y="266"/>
                  </a:lnTo>
                  <a:lnTo>
                    <a:pt x="0" y="296"/>
                  </a:lnTo>
                  <a:lnTo>
                    <a:pt x="0" y="327"/>
                  </a:lnTo>
                  <a:lnTo>
                    <a:pt x="3" y="358"/>
                  </a:lnTo>
                  <a:lnTo>
                    <a:pt x="8" y="389"/>
                  </a:lnTo>
                  <a:lnTo>
                    <a:pt x="17" y="420"/>
                  </a:lnTo>
                  <a:lnTo>
                    <a:pt x="29" y="450"/>
                  </a:lnTo>
                  <a:lnTo>
                    <a:pt x="46" y="480"/>
                  </a:lnTo>
                  <a:lnTo>
                    <a:pt x="65" y="508"/>
                  </a:lnTo>
                  <a:lnTo>
                    <a:pt x="85" y="534"/>
                  </a:lnTo>
                  <a:lnTo>
                    <a:pt x="108" y="556"/>
                  </a:lnTo>
                  <a:lnTo>
                    <a:pt x="133" y="576"/>
                  </a:lnTo>
                  <a:lnTo>
                    <a:pt x="159" y="592"/>
                  </a:lnTo>
                  <a:lnTo>
                    <a:pt x="187" y="607"/>
                  </a:lnTo>
                  <a:lnTo>
                    <a:pt x="215" y="618"/>
                  </a:lnTo>
                  <a:lnTo>
                    <a:pt x="245" y="626"/>
                  </a:lnTo>
                  <a:lnTo>
                    <a:pt x="275" y="631"/>
                  </a:lnTo>
                  <a:lnTo>
                    <a:pt x="305" y="635"/>
                  </a:lnTo>
                  <a:lnTo>
                    <a:pt x="335" y="635"/>
                  </a:lnTo>
                  <a:lnTo>
                    <a:pt x="365" y="631"/>
                  </a:lnTo>
                  <a:lnTo>
                    <a:pt x="395" y="626"/>
                  </a:lnTo>
                  <a:lnTo>
                    <a:pt x="425" y="617"/>
                  </a:lnTo>
                  <a:lnTo>
                    <a:pt x="452" y="605"/>
                  </a:lnTo>
                  <a:lnTo>
                    <a:pt x="480" y="590"/>
                  </a:lnTo>
                  <a:close/>
                  <a:moveTo>
                    <a:pt x="433" y="515"/>
                  </a:moveTo>
                  <a:lnTo>
                    <a:pt x="417" y="524"/>
                  </a:lnTo>
                  <a:lnTo>
                    <a:pt x="399" y="531"/>
                  </a:lnTo>
                  <a:lnTo>
                    <a:pt x="380" y="537"/>
                  </a:lnTo>
                  <a:lnTo>
                    <a:pt x="360" y="543"/>
                  </a:lnTo>
                  <a:lnTo>
                    <a:pt x="339" y="546"/>
                  </a:lnTo>
                  <a:lnTo>
                    <a:pt x="318" y="548"/>
                  </a:lnTo>
                  <a:lnTo>
                    <a:pt x="296" y="548"/>
                  </a:lnTo>
                  <a:lnTo>
                    <a:pt x="275" y="546"/>
                  </a:lnTo>
                  <a:lnTo>
                    <a:pt x="253" y="541"/>
                  </a:lnTo>
                  <a:lnTo>
                    <a:pt x="230" y="535"/>
                  </a:lnTo>
                  <a:lnTo>
                    <a:pt x="209" y="526"/>
                  </a:lnTo>
                  <a:lnTo>
                    <a:pt x="188" y="515"/>
                  </a:lnTo>
                  <a:lnTo>
                    <a:pt x="168" y="500"/>
                  </a:lnTo>
                  <a:lnTo>
                    <a:pt x="149" y="483"/>
                  </a:lnTo>
                  <a:lnTo>
                    <a:pt x="131" y="463"/>
                  </a:lnTo>
                  <a:lnTo>
                    <a:pt x="116" y="438"/>
                  </a:lnTo>
                  <a:lnTo>
                    <a:pt x="103" y="414"/>
                  </a:lnTo>
                  <a:lnTo>
                    <a:pt x="93" y="388"/>
                  </a:lnTo>
                  <a:lnTo>
                    <a:pt x="86" y="364"/>
                  </a:lnTo>
                  <a:lnTo>
                    <a:pt x="83" y="339"/>
                  </a:lnTo>
                  <a:lnTo>
                    <a:pt x="83" y="316"/>
                  </a:lnTo>
                  <a:lnTo>
                    <a:pt x="84" y="293"/>
                  </a:lnTo>
                  <a:lnTo>
                    <a:pt x="88" y="271"/>
                  </a:lnTo>
                  <a:lnTo>
                    <a:pt x="95" y="248"/>
                  </a:lnTo>
                  <a:lnTo>
                    <a:pt x="104" y="228"/>
                  </a:lnTo>
                  <a:lnTo>
                    <a:pt x="114" y="208"/>
                  </a:lnTo>
                  <a:lnTo>
                    <a:pt x="126" y="191"/>
                  </a:lnTo>
                  <a:lnTo>
                    <a:pt x="139" y="174"/>
                  </a:lnTo>
                  <a:lnTo>
                    <a:pt x="154" y="158"/>
                  </a:lnTo>
                  <a:lnTo>
                    <a:pt x="168" y="144"/>
                  </a:lnTo>
                  <a:lnTo>
                    <a:pt x="184" y="132"/>
                  </a:lnTo>
                  <a:lnTo>
                    <a:pt x="199" y="121"/>
                  </a:lnTo>
                  <a:lnTo>
                    <a:pt x="216" y="112"/>
                  </a:lnTo>
                  <a:lnTo>
                    <a:pt x="234" y="104"/>
                  </a:lnTo>
                  <a:lnTo>
                    <a:pt x="254" y="97"/>
                  </a:lnTo>
                  <a:lnTo>
                    <a:pt x="274" y="93"/>
                  </a:lnTo>
                  <a:lnTo>
                    <a:pt x="295" y="89"/>
                  </a:lnTo>
                  <a:lnTo>
                    <a:pt x="316" y="87"/>
                  </a:lnTo>
                  <a:lnTo>
                    <a:pt x="338" y="87"/>
                  </a:lnTo>
                  <a:lnTo>
                    <a:pt x="360" y="89"/>
                  </a:lnTo>
                  <a:lnTo>
                    <a:pt x="382" y="93"/>
                  </a:lnTo>
                  <a:lnTo>
                    <a:pt x="405" y="100"/>
                  </a:lnTo>
                  <a:lnTo>
                    <a:pt x="426" y="108"/>
                  </a:lnTo>
                  <a:lnTo>
                    <a:pt x="447" y="121"/>
                  </a:lnTo>
                  <a:lnTo>
                    <a:pt x="467" y="134"/>
                  </a:lnTo>
                  <a:lnTo>
                    <a:pt x="486" y="152"/>
                  </a:lnTo>
                  <a:lnTo>
                    <a:pt x="503" y="172"/>
                  </a:lnTo>
                  <a:lnTo>
                    <a:pt x="519" y="196"/>
                  </a:lnTo>
                  <a:lnTo>
                    <a:pt x="532" y="221"/>
                  </a:lnTo>
                  <a:lnTo>
                    <a:pt x="542" y="245"/>
                  </a:lnTo>
                  <a:lnTo>
                    <a:pt x="549" y="269"/>
                  </a:lnTo>
                  <a:lnTo>
                    <a:pt x="552" y="293"/>
                  </a:lnTo>
                  <a:lnTo>
                    <a:pt x="552" y="316"/>
                  </a:lnTo>
                  <a:lnTo>
                    <a:pt x="551" y="339"/>
                  </a:lnTo>
                  <a:lnTo>
                    <a:pt x="547" y="362"/>
                  </a:lnTo>
                  <a:lnTo>
                    <a:pt x="540" y="383"/>
                  </a:lnTo>
                  <a:lnTo>
                    <a:pt x="532" y="404"/>
                  </a:lnTo>
                  <a:lnTo>
                    <a:pt x="522" y="424"/>
                  </a:lnTo>
                  <a:lnTo>
                    <a:pt x="510" y="443"/>
                  </a:lnTo>
                  <a:lnTo>
                    <a:pt x="497" y="459"/>
                  </a:lnTo>
                  <a:lnTo>
                    <a:pt x="482" y="476"/>
                  </a:lnTo>
                  <a:lnTo>
                    <a:pt x="467" y="490"/>
                  </a:lnTo>
                  <a:lnTo>
                    <a:pt x="450" y="504"/>
                  </a:lnTo>
                  <a:lnTo>
                    <a:pt x="433" y="5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11840" y="4516560"/>
              <a:ext cx="356040" cy="353520"/>
            </a:xfrm>
            <a:custGeom>
              <a:avLst/>
              <a:gdLst/>
              <a:ahLst/>
              <a:rect l="l" t="t" r="r" b="b"/>
              <a:pathLst>
                <a:path w="738" h="752">
                  <a:moveTo>
                    <a:pt x="375" y="156"/>
                  </a:moveTo>
                  <a:lnTo>
                    <a:pt x="596" y="366"/>
                  </a:lnTo>
                  <a:lnTo>
                    <a:pt x="651" y="306"/>
                  </a:lnTo>
                  <a:lnTo>
                    <a:pt x="430" y="103"/>
                  </a:lnTo>
                  <a:lnTo>
                    <a:pt x="375" y="156"/>
                  </a:lnTo>
                  <a:close/>
                  <a:moveTo>
                    <a:pt x="425" y="389"/>
                  </a:moveTo>
                  <a:lnTo>
                    <a:pt x="479" y="439"/>
                  </a:lnTo>
                  <a:lnTo>
                    <a:pt x="505" y="466"/>
                  </a:lnTo>
                  <a:lnTo>
                    <a:pt x="519" y="480"/>
                  </a:lnTo>
                  <a:lnTo>
                    <a:pt x="533" y="491"/>
                  </a:lnTo>
                  <a:lnTo>
                    <a:pt x="567" y="512"/>
                  </a:lnTo>
                  <a:lnTo>
                    <a:pt x="574" y="518"/>
                  </a:lnTo>
                  <a:lnTo>
                    <a:pt x="578" y="524"/>
                  </a:lnTo>
                  <a:lnTo>
                    <a:pt x="581" y="531"/>
                  </a:lnTo>
                  <a:lnTo>
                    <a:pt x="582" y="539"/>
                  </a:lnTo>
                  <a:lnTo>
                    <a:pt x="578" y="552"/>
                  </a:lnTo>
                  <a:lnTo>
                    <a:pt x="574" y="562"/>
                  </a:lnTo>
                  <a:lnTo>
                    <a:pt x="566" y="568"/>
                  </a:lnTo>
                  <a:lnTo>
                    <a:pt x="553" y="570"/>
                  </a:lnTo>
                  <a:lnTo>
                    <a:pt x="536" y="570"/>
                  </a:lnTo>
                  <a:lnTo>
                    <a:pt x="516" y="567"/>
                  </a:lnTo>
                  <a:lnTo>
                    <a:pt x="507" y="563"/>
                  </a:lnTo>
                  <a:lnTo>
                    <a:pt x="501" y="558"/>
                  </a:lnTo>
                  <a:lnTo>
                    <a:pt x="496" y="552"/>
                  </a:lnTo>
                  <a:lnTo>
                    <a:pt x="493" y="545"/>
                  </a:lnTo>
                  <a:lnTo>
                    <a:pt x="486" y="532"/>
                  </a:lnTo>
                  <a:lnTo>
                    <a:pt x="483" y="524"/>
                  </a:lnTo>
                  <a:lnTo>
                    <a:pt x="477" y="519"/>
                  </a:lnTo>
                  <a:lnTo>
                    <a:pt x="394" y="442"/>
                  </a:lnTo>
                  <a:lnTo>
                    <a:pt x="383" y="469"/>
                  </a:lnTo>
                  <a:lnTo>
                    <a:pt x="376" y="493"/>
                  </a:lnTo>
                  <a:lnTo>
                    <a:pt x="372" y="517"/>
                  </a:lnTo>
                  <a:lnTo>
                    <a:pt x="371" y="538"/>
                  </a:lnTo>
                  <a:lnTo>
                    <a:pt x="373" y="579"/>
                  </a:lnTo>
                  <a:lnTo>
                    <a:pt x="375" y="619"/>
                  </a:lnTo>
                  <a:lnTo>
                    <a:pt x="375" y="632"/>
                  </a:lnTo>
                  <a:lnTo>
                    <a:pt x="378" y="643"/>
                  </a:lnTo>
                  <a:lnTo>
                    <a:pt x="382" y="651"/>
                  </a:lnTo>
                  <a:lnTo>
                    <a:pt x="386" y="656"/>
                  </a:lnTo>
                  <a:lnTo>
                    <a:pt x="392" y="660"/>
                  </a:lnTo>
                  <a:lnTo>
                    <a:pt x="398" y="662"/>
                  </a:lnTo>
                  <a:lnTo>
                    <a:pt x="412" y="661"/>
                  </a:lnTo>
                  <a:lnTo>
                    <a:pt x="425" y="655"/>
                  </a:lnTo>
                  <a:lnTo>
                    <a:pt x="436" y="650"/>
                  </a:lnTo>
                  <a:lnTo>
                    <a:pt x="449" y="642"/>
                  </a:lnTo>
                  <a:lnTo>
                    <a:pt x="475" y="701"/>
                  </a:lnTo>
                  <a:lnTo>
                    <a:pt x="472" y="709"/>
                  </a:lnTo>
                  <a:lnTo>
                    <a:pt x="467" y="718"/>
                  </a:lnTo>
                  <a:lnTo>
                    <a:pt x="460" y="726"/>
                  </a:lnTo>
                  <a:lnTo>
                    <a:pt x="449" y="735"/>
                  </a:lnTo>
                  <a:lnTo>
                    <a:pt x="433" y="744"/>
                  </a:lnTo>
                  <a:lnTo>
                    <a:pt x="412" y="750"/>
                  </a:lnTo>
                  <a:lnTo>
                    <a:pt x="386" y="752"/>
                  </a:lnTo>
                  <a:lnTo>
                    <a:pt x="372" y="750"/>
                  </a:lnTo>
                  <a:lnTo>
                    <a:pt x="360" y="744"/>
                  </a:lnTo>
                  <a:lnTo>
                    <a:pt x="349" y="734"/>
                  </a:lnTo>
                  <a:lnTo>
                    <a:pt x="340" y="723"/>
                  </a:lnTo>
                  <a:lnTo>
                    <a:pt x="331" y="708"/>
                  </a:lnTo>
                  <a:lnTo>
                    <a:pt x="324" y="692"/>
                  </a:lnTo>
                  <a:lnTo>
                    <a:pt x="319" y="673"/>
                  </a:lnTo>
                  <a:lnTo>
                    <a:pt x="313" y="654"/>
                  </a:lnTo>
                  <a:lnTo>
                    <a:pt x="307" y="613"/>
                  </a:lnTo>
                  <a:lnTo>
                    <a:pt x="303" y="572"/>
                  </a:lnTo>
                  <a:lnTo>
                    <a:pt x="302" y="535"/>
                  </a:lnTo>
                  <a:lnTo>
                    <a:pt x="304" y="504"/>
                  </a:lnTo>
                  <a:lnTo>
                    <a:pt x="310" y="472"/>
                  </a:lnTo>
                  <a:lnTo>
                    <a:pt x="319" y="443"/>
                  </a:lnTo>
                  <a:lnTo>
                    <a:pt x="330" y="418"/>
                  </a:lnTo>
                  <a:lnTo>
                    <a:pt x="342" y="397"/>
                  </a:lnTo>
                  <a:lnTo>
                    <a:pt x="233" y="300"/>
                  </a:lnTo>
                  <a:lnTo>
                    <a:pt x="142" y="402"/>
                  </a:lnTo>
                  <a:lnTo>
                    <a:pt x="247" y="431"/>
                  </a:lnTo>
                  <a:lnTo>
                    <a:pt x="220" y="493"/>
                  </a:lnTo>
                  <a:lnTo>
                    <a:pt x="0" y="446"/>
                  </a:lnTo>
                  <a:lnTo>
                    <a:pt x="21" y="372"/>
                  </a:lnTo>
                  <a:lnTo>
                    <a:pt x="64" y="361"/>
                  </a:lnTo>
                  <a:lnTo>
                    <a:pt x="400" y="0"/>
                  </a:lnTo>
                  <a:lnTo>
                    <a:pt x="517" y="103"/>
                  </a:lnTo>
                  <a:lnTo>
                    <a:pt x="611" y="186"/>
                  </a:lnTo>
                  <a:lnTo>
                    <a:pt x="650" y="224"/>
                  </a:lnTo>
                  <a:lnTo>
                    <a:pt x="678" y="254"/>
                  </a:lnTo>
                  <a:lnTo>
                    <a:pt x="729" y="313"/>
                  </a:lnTo>
                  <a:lnTo>
                    <a:pt x="738" y="325"/>
                  </a:lnTo>
                  <a:lnTo>
                    <a:pt x="615" y="461"/>
                  </a:lnTo>
                  <a:lnTo>
                    <a:pt x="472" y="332"/>
                  </a:lnTo>
                  <a:lnTo>
                    <a:pt x="446" y="362"/>
                  </a:lnTo>
                  <a:lnTo>
                    <a:pt x="425" y="389"/>
                  </a:lnTo>
                  <a:close/>
                  <a:moveTo>
                    <a:pt x="275" y="251"/>
                  </a:moveTo>
                  <a:lnTo>
                    <a:pt x="375" y="343"/>
                  </a:lnTo>
                  <a:lnTo>
                    <a:pt x="416" y="282"/>
                  </a:lnTo>
                  <a:lnTo>
                    <a:pt x="322" y="198"/>
                  </a:lnTo>
                  <a:lnTo>
                    <a:pt x="275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1520" y="5234760"/>
              <a:ext cx="88560" cy="87840"/>
            </a:xfrm>
            <a:custGeom>
              <a:avLst/>
              <a:gdLst/>
              <a:ahLst/>
              <a:rect l="l" t="t" r="r" b="b"/>
              <a:pathLst>
                <a:path w="186" h="186">
                  <a:moveTo>
                    <a:pt x="34" y="93"/>
                  </a:moveTo>
                  <a:lnTo>
                    <a:pt x="35" y="105"/>
                  </a:lnTo>
                  <a:lnTo>
                    <a:pt x="39" y="116"/>
                  </a:lnTo>
                  <a:lnTo>
                    <a:pt x="44" y="126"/>
                  </a:lnTo>
                  <a:lnTo>
                    <a:pt x="51" y="135"/>
                  </a:lnTo>
                  <a:lnTo>
                    <a:pt x="60" y="143"/>
                  </a:lnTo>
                  <a:lnTo>
                    <a:pt x="70" y="147"/>
                  </a:lnTo>
                  <a:lnTo>
                    <a:pt x="81" y="152"/>
                  </a:lnTo>
                  <a:lnTo>
                    <a:pt x="93" y="153"/>
                  </a:lnTo>
                  <a:lnTo>
                    <a:pt x="105" y="152"/>
                  </a:lnTo>
                  <a:lnTo>
                    <a:pt x="116" y="147"/>
                  </a:lnTo>
                  <a:lnTo>
                    <a:pt x="126" y="143"/>
                  </a:lnTo>
                  <a:lnTo>
                    <a:pt x="135" y="135"/>
                  </a:lnTo>
                  <a:lnTo>
                    <a:pt x="142" y="126"/>
                  </a:lnTo>
                  <a:lnTo>
                    <a:pt x="148" y="116"/>
                  </a:lnTo>
                  <a:lnTo>
                    <a:pt x="151" y="105"/>
                  </a:lnTo>
                  <a:lnTo>
                    <a:pt x="152" y="93"/>
                  </a:lnTo>
                  <a:lnTo>
                    <a:pt x="151" y="82"/>
                  </a:lnTo>
                  <a:lnTo>
                    <a:pt x="148" y="71"/>
                  </a:lnTo>
                  <a:lnTo>
                    <a:pt x="142" y="61"/>
                  </a:lnTo>
                  <a:lnTo>
                    <a:pt x="135" y="52"/>
                  </a:lnTo>
                  <a:lnTo>
                    <a:pt x="126" y="44"/>
                  </a:lnTo>
                  <a:lnTo>
                    <a:pt x="116" y="39"/>
                  </a:lnTo>
                  <a:lnTo>
                    <a:pt x="105" y="35"/>
                  </a:lnTo>
                  <a:lnTo>
                    <a:pt x="93" y="34"/>
                  </a:lnTo>
                  <a:lnTo>
                    <a:pt x="81" y="35"/>
                  </a:lnTo>
                  <a:lnTo>
                    <a:pt x="70" y="39"/>
                  </a:lnTo>
                  <a:lnTo>
                    <a:pt x="60" y="44"/>
                  </a:lnTo>
                  <a:lnTo>
                    <a:pt x="51" y="52"/>
                  </a:lnTo>
                  <a:lnTo>
                    <a:pt x="44" y="61"/>
                  </a:lnTo>
                  <a:lnTo>
                    <a:pt x="39" y="71"/>
                  </a:lnTo>
                  <a:lnTo>
                    <a:pt x="35" y="82"/>
                  </a:lnTo>
                  <a:lnTo>
                    <a:pt x="34" y="93"/>
                  </a:lnTo>
                  <a:close/>
                  <a:moveTo>
                    <a:pt x="0" y="93"/>
                  </a:moveTo>
                  <a:lnTo>
                    <a:pt x="2" y="74"/>
                  </a:lnTo>
                  <a:lnTo>
                    <a:pt x="8" y="57"/>
                  </a:lnTo>
                  <a:lnTo>
                    <a:pt x="15" y="41"/>
                  </a:lnTo>
                  <a:lnTo>
                    <a:pt x="28" y="27"/>
                  </a:lnTo>
                  <a:lnTo>
                    <a:pt x="41" y="16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3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5" y="16"/>
                  </a:lnTo>
                  <a:lnTo>
                    <a:pt x="159" y="27"/>
                  </a:lnTo>
                  <a:lnTo>
                    <a:pt x="171" y="41"/>
                  </a:lnTo>
                  <a:lnTo>
                    <a:pt x="180" y="57"/>
                  </a:lnTo>
                  <a:lnTo>
                    <a:pt x="184" y="74"/>
                  </a:lnTo>
                  <a:lnTo>
                    <a:pt x="186" y="93"/>
                  </a:lnTo>
                  <a:lnTo>
                    <a:pt x="184" y="112"/>
                  </a:lnTo>
                  <a:lnTo>
                    <a:pt x="180" y="130"/>
                  </a:lnTo>
                  <a:lnTo>
                    <a:pt x="171" y="145"/>
                  </a:lnTo>
                  <a:lnTo>
                    <a:pt x="159" y="160"/>
                  </a:lnTo>
                  <a:lnTo>
                    <a:pt x="145" y="171"/>
                  </a:lnTo>
                  <a:lnTo>
                    <a:pt x="130" y="180"/>
                  </a:lnTo>
                  <a:lnTo>
                    <a:pt x="112" y="185"/>
                  </a:lnTo>
                  <a:lnTo>
                    <a:pt x="93" y="186"/>
                  </a:lnTo>
                  <a:lnTo>
                    <a:pt x="74" y="185"/>
                  </a:lnTo>
                  <a:lnTo>
                    <a:pt x="56" y="180"/>
                  </a:lnTo>
                  <a:lnTo>
                    <a:pt x="41" y="171"/>
                  </a:lnTo>
                  <a:lnTo>
                    <a:pt x="28" y="160"/>
                  </a:lnTo>
                  <a:lnTo>
                    <a:pt x="15" y="145"/>
                  </a:lnTo>
                  <a:lnTo>
                    <a:pt x="8" y="130"/>
                  </a:lnTo>
                  <a:lnTo>
                    <a:pt x="2" y="11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27320" y="5242680"/>
              <a:ext cx="163440" cy="243000"/>
            </a:xfrm>
            <a:custGeom>
              <a:avLst/>
              <a:gdLst/>
              <a:ahLst/>
              <a:rect l="l" t="t" r="r" b="b"/>
              <a:pathLst>
                <a:path w="339" h="514">
                  <a:moveTo>
                    <a:pt x="65" y="231"/>
                  </a:moveTo>
                  <a:lnTo>
                    <a:pt x="79" y="233"/>
                  </a:lnTo>
                  <a:lnTo>
                    <a:pt x="96" y="235"/>
                  </a:lnTo>
                  <a:lnTo>
                    <a:pt x="116" y="235"/>
                  </a:lnTo>
                  <a:lnTo>
                    <a:pt x="141" y="233"/>
                  </a:lnTo>
                  <a:lnTo>
                    <a:pt x="165" y="228"/>
                  </a:lnTo>
                  <a:lnTo>
                    <a:pt x="190" y="218"/>
                  </a:lnTo>
                  <a:lnTo>
                    <a:pt x="204" y="210"/>
                  </a:lnTo>
                  <a:lnTo>
                    <a:pt x="216" y="201"/>
                  </a:lnTo>
                  <a:lnTo>
                    <a:pt x="205" y="177"/>
                  </a:lnTo>
                  <a:lnTo>
                    <a:pt x="194" y="157"/>
                  </a:lnTo>
                  <a:lnTo>
                    <a:pt x="183" y="141"/>
                  </a:lnTo>
                  <a:lnTo>
                    <a:pt x="172" y="130"/>
                  </a:lnTo>
                  <a:lnTo>
                    <a:pt x="160" y="122"/>
                  </a:lnTo>
                  <a:lnTo>
                    <a:pt x="149" y="117"/>
                  </a:lnTo>
                  <a:lnTo>
                    <a:pt x="138" y="113"/>
                  </a:lnTo>
                  <a:lnTo>
                    <a:pt x="127" y="112"/>
                  </a:lnTo>
                  <a:lnTo>
                    <a:pt x="115" y="113"/>
                  </a:lnTo>
                  <a:lnTo>
                    <a:pt x="106" y="116"/>
                  </a:lnTo>
                  <a:lnTo>
                    <a:pt x="97" y="121"/>
                  </a:lnTo>
                  <a:lnTo>
                    <a:pt x="91" y="129"/>
                  </a:lnTo>
                  <a:lnTo>
                    <a:pt x="84" y="138"/>
                  </a:lnTo>
                  <a:lnTo>
                    <a:pt x="79" y="148"/>
                  </a:lnTo>
                  <a:lnTo>
                    <a:pt x="72" y="170"/>
                  </a:lnTo>
                  <a:lnTo>
                    <a:pt x="68" y="192"/>
                  </a:lnTo>
                  <a:lnTo>
                    <a:pt x="66" y="212"/>
                  </a:lnTo>
                  <a:lnTo>
                    <a:pt x="65" y="231"/>
                  </a:lnTo>
                  <a:close/>
                  <a:moveTo>
                    <a:pt x="34" y="484"/>
                  </a:moveTo>
                  <a:lnTo>
                    <a:pt x="27" y="482"/>
                  </a:lnTo>
                  <a:lnTo>
                    <a:pt x="24" y="478"/>
                  </a:lnTo>
                  <a:lnTo>
                    <a:pt x="23" y="475"/>
                  </a:lnTo>
                  <a:lnTo>
                    <a:pt x="25" y="473"/>
                  </a:lnTo>
                  <a:lnTo>
                    <a:pt x="28" y="471"/>
                  </a:lnTo>
                  <a:lnTo>
                    <a:pt x="34" y="470"/>
                  </a:lnTo>
                  <a:lnTo>
                    <a:pt x="43" y="470"/>
                  </a:lnTo>
                  <a:lnTo>
                    <a:pt x="54" y="471"/>
                  </a:lnTo>
                  <a:lnTo>
                    <a:pt x="67" y="472"/>
                  </a:lnTo>
                  <a:lnTo>
                    <a:pt x="84" y="472"/>
                  </a:lnTo>
                  <a:lnTo>
                    <a:pt x="121" y="466"/>
                  </a:lnTo>
                  <a:lnTo>
                    <a:pt x="158" y="454"/>
                  </a:lnTo>
                  <a:lnTo>
                    <a:pt x="193" y="439"/>
                  </a:lnTo>
                  <a:lnTo>
                    <a:pt x="207" y="430"/>
                  </a:lnTo>
                  <a:lnTo>
                    <a:pt x="219" y="420"/>
                  </a:lnTo>
                  <a:lnTo>
                    <a:pt x="230" y="407"/>
                  </a:lnTo>
                  <a:lnTo>
                    <a:pt x="238" y="395"/>
                  </a:lnTo>
                  <a:lnTo>
                    <a:pt x="245" y="382"/>
                  </a:lnTo>
                  <a:lnTo>
                    <a:pt x="249" y="369"/>
                  </a:lnTo>
                  <a:lnTo>
                    <a:pt x="252" y="356"/>
                  </a:lnTo>
                  <a:lnTo>
                    <a:pt x="253" y="343"/>
                  </a:lnTo>
                  <a:lnTo>
                    <a:pt x="250" y="316"/>
                  </a:lnTo>
                  <a:lnTo>
                    <a:pt x="246" y="292"/>
                  </a:lnTo>
                  <a:lnTo>
                    <a:pt x="238" y="268"/>
                  </a:lnTo>
                  <a:lnTo>
                    <a:pt x="217" y="275"/>
                  </a:lnTo>
                  <a:lnTo>
                    <a:pt x="193" y="284"/>
                  </a:lnTo>
                  <a:lnTo>
                    <a:pt x="160" y="293"/>
                  </a:lnTo>
                  <a:lnTo>
                    <a:pt x="125" y="301"/>
                  </a:lnTo>
                  <a:lnTo>
                    <a:pt x="86" y="308"/>
                  </a:lnTo>
                  <a:lnTo>
                    <a:pt x="47" y="310"/>
                  </a:lnTo>
                  <a:lnTo>
                    <a:pt x="27" y="309"/>
                  </a:lnTo>
                  <a:lnTo>
                    <a:pt x="8" y="306"/>
                  </a:lnTo>
                  <a:lnTo>
                    <a:pt x="3" y="283"/>
                  </a:lnTo>
                  <a:lnTo>
                    <a:pt x="1" y="260"/>
                  </a:lnTo>
                  <a:lnTo>
                    <a:pt x="0" y="234"/>
                  </a:lnTo>
                  <a:lnTo>
                    <a:pt x="1" y="209"/>
                  </a:lnTo>
                  <a:lnTo>
                    <a:pt x="3" y="183"/>
                  </a:lnTo>
                  <a:lnTo>
                    <a:pt x="7" y="158"/>
                  </a:lnTo>
                  <a:lnTo>
                    <a:pt x="13" y="132"/>
                  </a:lnTo>
                  <a:lnTo>
                    <a:pt x="20" y="109"/>
                  </a:lnTo>
                  <a:lnTo>
                    <a:pt x="29" y="87"/>
                  </a:lnTo>
                  <a:lnTo>
                    <a:pt x="39" y="66"/>
                  </a:lnTo>
                  <a:lnTo>
                    <a:pt x="52" y="48"/>
                  </a:lnTo>
                  <a:lnTo>
                    <a:pt x="65" y="31"/>
                  </a:lnTo>
                  <a:lnTo>
                    <a:pt x="81" y="18"/>
                  </a:lnTo>
                  <a:lnTo>
                    <a:pt x="97" y="9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3" y="2"/>
                  </a:lnTo>
                  <a:lnTo>
                    <a:pt x="173" y="8"/>
                  </a:lnTo>
                  <a:lnTo>
                    <a:pt x="192" y="17"/>
                  </a:lnTo>
                  <a:lnTo>
                    <a:pt x="210" y="30"/>
                  </a:lnTo>
                  <a:lnTo>
                    <a:pt x="228" y="44"/>
                  </a:lnTo>
                  <a:lnTo>
                    <a:pt x="245" y="62"/>
                  </a:lnTo>
                  <a:lnTo>
                    <a:pt x="260" y="82"/>
                  </a:lnTo>
                  <a:lnTo>
                    <a:pt x="276" y="104"/>
                  </a:lnTo>
                  <a:lnTo>
                    <a:pt x="289" y="128"/>
                  </a:lnTo>
                  <a:lnTo>
                    <a:pt x="301" y="153"/>
                  </a:lnTo>
                  <a:lnTo>
                    <a:pt x="313" y="179"/>
                  </a:lnTo>
                  <a:lnTo>
                    <a:pt x="321" y="205"/>
                  </a:lnTo>
                  <a:lnTo>
                    <a:pt x="329" y="233"/>
                  </a:lnTo>
                  <a:lnTo>
                    <a:pt x="335" y="260"/>
                  </a:lnTo>
                  <a:lnTo>
                    <a:pt x="338" y="286"/>
                  </a:lnTo>
                  <a:lnTo>
                    <a:pt x="339" y="313"/>
                  </a:lnTo>
                  <a:lnTo>
                    <a:pt x="337" y="339"/>
                  </a:lnTo>
                  <a:lnTo>
                    <a:pt x="333" y="362"/>
                  </a:lnTo>
                  <a:lnTo>
                    <a:pt x="325" y="384"/>
                  </a:lnTo>
                  <a:lnTo>
                    <a:pt x="315" y="403"/>
                  </a:lnTo>
                  <a:lnTo>
                    <a:pt x="303" y="422"/>
                  </a:lnTo>
                  <a:lnTo>
                    <a:pt x="288" y="439"/>
                  </a:lnTo>
                  <a:lnTo>
                    <a:pt x="273" y="453"/>
                  </a:lnTo>
                  <a:lnTo>
                    <a:pt x="257" y="466"/>
                  </a:lnTo>
                  <a:lnTo>
                    <a:pt x="240" y="477"/>
                  </a:lnTo>
                  <a:lnTo>
                    <a:pt x="224" y="487"/>
                  </a:lnTo>
                  <a:lnTo>
                    <a:pt x="192" y="502"/>
                  </a:lnTo>
                  <a:lnTo>
                    <a:pt x="165" y="511"/>
                  </a:lnTo>
                  <a:lnTo>
                    <a:pt x="145" y="514"/>
                  </a:lnTo>
                  <a:lnTo>
                    <a:pt x="129" y="513"/>
                  </a:lnTo>
                  <a:lnTo>
                    <a:pt x="114" y="511"/>
                  </a:lnTo>
                  <a:lnTo>
                    <a:pt x="82" y="502"/>
                  </a:lnTo>
                  <a:lnTo>
                    <a:pt x="34" y="4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97120" y="4595760"/>
              <a:ext cx="65880" cy="6444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0" y="69"/>
                  </a:moveTo>
                  <a:lnTo>
                    <a:pt x="1" y="55"/>
                  </a:lnTo>
                  <a:lnTo>
                    <a:pt x="5" y="43"/>
                  </a:lnTo>
                  <a:lnTo>
                    <a:pt x="11" y="30"/>
                  </a:lnTo>
                  <a:lnTo>
                    <a:pt x="20" y="20"/>
                  </a:lnTo>
                  <a:lnTo>
                    <a:pt x="30" y="13"/>
                  </a:lnTo>
                  <a:lnTo>
                    <a:pt x="41" y="6"/>
                  </a:lnTo>
                  <a:lnTo>
                    <a:pt x="55" y="3"/>
                  </a:lnTo>
                  <a:lnTo>
                    <a:pt x="68" y="0"/>
                  </a:lnTo>
                  <a:lnTo>
                    <a:pt x="81" y="3"/>
                  </a:lnTo>
                  <a:lnTo>
                    <a:pt x="95" y="6"/>
                  </a:lnTo>
                  <a:lnTo>
                    <a:pt x="106" y="13"/>
                  </a:lnTo>
                  <a:lnTo>
                    <a:pt x="117" y="20"/>
                  </a:lnTo>
                  <a:lnTo>
                    <a:pt x="125" y="30"/>
                  </a:lnTo>
                  <a:lnTo>
                    <a:pt x="131" y="43"/>
                  </a:lnTo>
                  <a:lnTo>
                    <a:pt x="135" y="55"/>
                  </a:lnTo>
                  <a:lnTo>
                    <a:pt x="137" y="69"/>
                  </a:lnTo>
                  <a:lnTo>
                    <a:pt x="135" y="83"/>
                  </a:lnTo>
                  <a:lnTo>
                    <a:pt x="131" y="96"/>
                  </a:lnTo>
                  <a:lnTo>
                    <a:pt x="125" y="107"/>
                  </a:lnTo>
                  <a:lnTo>
                    <a:pt x="117" y="117"/>
                  </a:lnTo>
                  <a:lnTo>
                    <a:pt x="106" y="126"/>
                  </a:lnTo>
                  <a:lnTo>
                    <a:pt x="95" y="131"/>
                  </a:lnTo>
                  <a:lnTo>
                    <a:pt x="81" y="136"/>
                  </a:lnTo>
                  <a:lnTo>
                    <a:pt x="68" y="137"/>
                  </a:lnTo>
                  <a:lnTo>
                    <a:pt x="55" y="136"/>
                  </a:lnTo>
                  <a:lnTo>
                    <a:pt x="41" y="131"/>
                  </a:lnTo>
                  <a:lnTo>
                    <a:pt x="30" y="126"/>
                  </a:lnTo>
                  <a:lnTo>
                    <a:pt x="20" y="117"/>
                  </a:lnTo>
                  <a:lnTo>
                    <a:pt x="11" y="107"/>
                  </a:lnTo>
                  <a:lnTo>
                    <a:pt x="5" y="96"/>
                  </a:lnTo>
                  <a:lnTo>
                    <a:pt x="1" y="83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59760" y="4520160"/>
              <a:ext cx="64800" cy="6444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1" y="54"/>
                  </a:lnTo>
                  <a:lnTo>
                    <a:pt x="5" y="42"/>
                  </a:lnTo>
                  <a:lnTo>
                    <a:pt x="11" y="30"/>
                  </a:lnTo>
                  <a:lnTo>
                    <a:pt x="20" y="20"/>
                  </a:lnTo>
                  <a:lnTo>
                    <a:pt x="30" y="12"/>
                  </a:lnTo>
                  <a:lnTo>
                    <a:pt x="41" y="5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2" y="2"/>
                  </a:lnTo>
                  <a:lnTo>
                    <a:pt x="94" y="5"/>
                  </a:lnTo>
                  <a:lnTo>
                    <a:pt x="106" y="12"/>
                  </a:lnTo>
                  <a:lnTo>
                    <a:pt x="116" y="20"/>
                  </a:lnTo>
                  <a:lnTo>
                    <a:pt x="124" y="30"/>
                  </a:lnTo>
                  <a:lnTo>
                    <a:pt x="131" y="42"/>
                  </a:lnTo>
                  <a:lnTo>
                    <a:pt x="134" y="54"/>
                  </a:lnTo>
                  <a:lnTo>
                    <a:pt x="136" y="68"/>
                  </a:lnTo>
                  <a:lnTo>
                    <a:pt x="134" y="82"/>
                  </a:lnTo>
                  <a:lnTo>
                    <a:pt x="131" y="95"/>
                  </a:lnTo>
                  <a:lnTo>
                    <a:pt x="124" y="106"/>
                  </a:lnTo>
                  <a:lnTo>
                    <a:pt x="116" y="116"/>
                  </a:lnTo>
                  <a:lnTo>
                    <a:pt x="106" y="125"/>
                  </a:lnTo>
                  <a:lnTo>
                    <a:pt x="94" y="132"/>
                  </a:lnTo>
                  <a:lnTo>
                    <a:pt x="82" y="135"/>
                  </a:lnTo>
                  <a:lnTo>
                    <a:pt x="67" y="136"/>
                  </a:lnTo>
                  <a:lnTo>
                    <a:pt x="54" y="135"/>
                  </a:lnTo>
                  <a:lnTo>
                    <a:pt x="41" y="132"/>
                  </a:lnTo>
                  <a:lnTo>
                    <a:pt x="30" y="125"/>
                  </a:lnTo>
                  <a:lnTo>
                    <a:pt x="20" y="116"/>
                  </a:lnTo>
                  <a:lnTo>
                    <a:pt x="11" y="106"/>
                  </a:lnTo>
                  <a:lnTo>
                    <a:pt x="5" y="95"/>
                  </a:lnTo>
                  <a:lnTo>
                    <a:pt x="1" y="8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17720" y="4356000"/>
              <a:ext cx="3240" cy="39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92720" y="4090680"/>
              <a:ext cx="252360" cy="262080"/>
            </a:xfrm>
            <a:custGeom>
              <a:avLst/>
              <a:gdLst/>
              <a:ahLst/>
              <a:rect l="l" t="t" r="r" b="b"/>
              <a:pathLst>
                <a:path w="517" h="553">
                  <a:moveTo>
                    <a:pt x="0" y="138"/>
                  </a:moveTo>
                  <a:lnTo>
                    <a:pt x="26" y="81"/>
                  </a:lnTo>
                  <a:lnTo>
                    <a:pt x="48" y="35"/>
                  </a:lnTo>
                  <a:lnTo>
                    <a:pt x="62" y="0"/>
                  </a:lnTo>
                  <a:lnTo>
                    <a:pt x="167" y="104"/>
                  </a:lnTo>
                  <a:lnTo>
                    <a:pt x="321" y="259"/>
                  </a:lnTo>
                  <a:lnTo>
                    <a:pt x="517" y="460"/>
                  </a:lnTo>
                  <a:lnTo>
                    <a:pt x="462" y="553"/>
                  </a:lnTo>
                  <a:lnTo>
                    <a:pt x="82" y="151"/>
                  </a:lnTo>
                  <a:lnTo>
                    <a:pt x="42" y="18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8000" y="2242800"/>
              <a:ext cx="1520280" cy="2060640"/>
            </a:xfrm>
            <a:custGeom>
              <a:avLst/>
              <a:gdLst/>
              <a:ahLst/>
              <a:rect l="l" t="t" r="r" b="b"/>
              <a:pathLst>
                <a:path w="3137" h="4338">
                  <a:moveTo>
                    <a:pt x="1600" y="2648"/>
                  </a:moveTo>
                  <a:lnTo>
                    <a:pt x="1600" y="4338"/>
                  </a:lnTo>
                  <a:lnTo>
                    <a:pt x="1539" y="4338"/>
                  </a:lnTo>
                  <a:lnTo>
                    <a:pt x="1539" y="2648"/>
                  </a:lnTo>
                  <a:lnTo>
                    <a:pt x="1569" y="2649"/>
                  </a:lnTo>
                  <a:lnTo>
                    <a:pt x="1600" y="2648"/>
                  </a:lnTo>
                  <a:close/>
                  <a:moveTo>
                    <a:pt x="1885" y="2500"/>
                  </a:moveTo>
                  <a:lnTo>
                    <a:pt x="3068" y="3682"/>
                  </a:lnTo>
                  <a:lnTo>
                    <a:pt x="3025" y="3726"/>
                  </a:lnTo>
                  <a:lnTo>
                    <a:pt x="1842" y="2544"/>
                  </a:lnTo>
                  <a:lnTo>
                    <a:pt x="1864" y="2523"/>
                  </a:lnTo>
                  <a:lnTo>
                    <a:pt x="1885" y="2500"/>
                  </a:lnTo>
                  <a:close/>
                  <a:moveTo>
                    <a:pt x="1832" y="1923"/>
                  </a:moveTo>
                  <a:lnTo>
                    <a:pt x="3094" y="662"/>
                  </a:lnTo>
                  <a:lnTo>
                    <a:pt x="3137" y="706"/>
                  </a:lnTo>
                  <a:lnTo>
                    <a:pt x="1876" y="1967"/>
                  </a:lnTo>
                  <a:lnTo>
                    <a:pt x="1855" y="1945"/>
                  </a:lnTo>
                  <a:lnTo>
                    <a:pt x="1832" y="1923"/>
                  </a:lnTo>
                  <a:close/>
                  <a:moveTo>
                    <a:pt x="1539" y="1829"/>
                  </a:moveTo>
                  <a:lnTo>
                    <a:pt x="1539" y="0"/>
                  </a:lnTo>
                  <a:lnTo>
                    <a:pt x="1600" y="0"/>
                  </a:lnTo>
                  <a:lnTo>
                    <a:pt x="1600" y="1829"/>
                  </a:lnTo>
                  <a:lnTo>
                    <a:pt x="1569" y="1827"/>
                  </a:lnTo>
                  <a:lnTo>
                    <a:pt x="1539" y="1829"/>
                  </a:lnTo>
                  <a:close/>
                  <a:moveTo>
                    <a:pt x="1262" y="1966"/>
                  </a:moveTo>
                  <a:lnTo>
                    <a:pt x="0" y="704"/>
                  </a:lnTo>
                  <a:lnTo>
                    <a:pt x="44" y="660"/>
                  </a:lnTo>
                  <a:lnTo>
                    <a:pt x="1307" y="1922"/>
                  </a:lnTo>
                  <a:lnTo>
                    <a:pt x="1284" y="1943"/>
                  </a:lnTo>
                  <a:lnTo>
                    <a:pt x="1262" y="1966"/>
                  </a:lnTo>
                  <a:close/>
                  <a:moveTo>
                    <a:pt x="72" y="3682"/>
                  </a:moveTo>
                  <a:lnTo>
                    <a:pt x="1254" y="2501"/>
                  </a:lnTo>
                  <a:lnTo>
                    <a:pt x="1274" y="2524"/>
                  </a:lnTo>
                  <a:lnTo>
                    <a:pt x="1297" y="2545"/>
                  </a:lnTo>
                  <a:lnTo>
                    <a:pt x="115" y="3725"/>
                  </a:lnTo>
                  <a:lnTo>
                    <a:pt x="72" y="36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3098160"/>
              <a:ext cx="212760" cy="208440"/>
            </a:xfrm>
            <a:custGeom>
              <a:avLst/>
              <a:gdLst/>
              <a:ahLst/>
              <a:rect l="l" t="t" r="r" b="b"/>
              <a:pathLst>
                <a:path w="440" h="442">
                  <a:moveTo>
                    <a:pt x="440" y="442"/>
                  </a:moveTo>
                  <a:lnTo>
                    <a:pt x="440" y="442"/>
                  </a:lnTo>
                  <a:lnTo>
                    <a:pt x="438" y="396"/>
                  </a:lnTo>
                  <a:lnTo>
                    <a:pt x="431" y="354"/>
                  </a:lnTo>
                  <a:lnTo>
                    <a:pt x="421" y="311"/>
                  </a:lnTo>
                  <a:lnTo>
                    <a:pt x="406" y="271"/>
                  </a:lnTo>
                  <a:lnTo>
                    <a:pt x="388" y="232"/>
                  </a:lnTo>
                  <a:lnTo>
                    <a:pt x="365" y="195"/>
                  </a:lnTo>
                  <a:lnTo>
                    <a:pt x="340" y="161"/>
                  </a:lnTo>
                  <a:lnTo>
                    <a:pt x="312" y="130"/>
                  </a:lnTo>
                  <a:lnTo>
                    <a:pt x="280" y="102"/>
                  </a:lnTo>
                  <a:lnTo>
                    <a:pt x="247" y="76"/>
                  </a:lnTo>
                  <a:lnTo>
                    <a:pt x="210" y="54"/>
                  </a:lnTo>
                  <a:lnTo>
                    <a:pt x="172" y="34"/>
                  </a:lnTo>
                  <a:lnTo>
                    <a:pt x="131" y="20"/>
                  </a:lnTo>
                  <a:lnTo>
                    <a:pt x="89" y="10"/>
                  </a:lnTo>
                  <a:lnTo>
                    <a:pt x="45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38" y="64"/>
                  </a:lnTo>
                  <a:lnTo>
                    <a:pt x="76" y="70"/>
                  </a:lnTo>
                  <a:lnTo>
                    <a:pt x="113" y="80"/>
                  </a:lnTo>
                  <a:lnTo>
                    <a:pt x="147" y="92"/>
                  </a:lnTo>
                  <a:lnTo>
                    <a:pt x="179" y="107"/>
                  </a:lnTo>
                  <a:lnTo>
                    <a:pt x="212" y="127"/>
                  </a:lnTo>
                  <a:lnTo>
                    <a:pt x="240" y="149"/>
                  </a:lnTo>
                  <a:lnTo>
                    <a:pt x="267" y="174"/>
                  </a:lnTo>
                  <a:lnTo>
                    <a:pt x="292" y="201"/>
                  </a:lnTo>
                  <a:lnTo>
                    <a:pt x="314" y="231"/>
                  </a:lnTo>
                  <a:lnTo>
                    <a:pt x="333" y="261"/>
                  </a:lnTo>
                  <a:lnTo>
                    <a:pt x="348" y="295"/>
                  </a:lnTo>
                  <a:lnTo>
                    <a:pt x="361" y="328"/>
                  </a:lnTo>
                  <a:lnTo>
                    <a:pt x="371" y="365"/>
                  </a:lnTo>
                  <a:lnTo>
                    <a:pt x="376" y="403"/>
                  </a:lnTo>
                  <a:lnTo>
                    <a:pt x="378" y="442"/>
                  </a:lnTo>
                  <a:lnTo>
                    <a:pt x="378" y="442"/>
                  </a:lnTo>
                  <a:lnTo>
                    <a:pt x="440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3306600"/>
              <a:ext cx="212760" cy="209520"/>
            </a:xfrm>
            <a:custGeom>
              <a:avLst/>
              <a:gdLst/>
              <a:ahLst/>
              <a:rect l="l" t="t" r="r" b="b"/>
              <a:pathLst>
                <a:path w="440" h="442">
                  <a:moveTo>
                    <a:pt x="0" y="442"/>
                  </a:moveTo>
                  <a:lnTo>
                    <a:pt x="0" y="442"/>
                  </a:lnTo>
                  <a:lnTo>
                    <a:pt x="45" y="440"/>
                  </a:lnTo>
                  <a:lnTo>
                    <a:pt x="89" y="432"/>
                  </a:lnTo>
                  <a:lnTo>
                    <a:pt x="131" y="422"/>
                  </a:lnTo>
                  <a:lnTo>
                    <a:pt x="172" y="408"/>
                  </a:lnTo>
                  <a:lnTo>
                    <a:pt x="210" y="388"/>
                  </a:lnTo>
                  <a:lnTo>
                    <a:pt x="247" y="366"/>
                  </a:lnTo>
                  <a:lnTo>
                    <a:pt x="280" y="340"/>
                  </a:lnTo>
                  <a:lnTo>
                    <a:pt x="312" y="313"/>
                  </a:lnTo>
                  <a:lnTo>
                    <a:pt x="340" y="281"/>
                  </a:lnTo>
                  <a:lnTo>
                    <a:pt x="365" y="246"/>
                  </a:lnTo>
                  <a:lnTo>
                    <a:pt x="388" y="209"/>
                  </a:lnTo>
                  <a:lnTo>
                    <a:pt x="406" y="172"/>
                  </a:lnTo>
                  <a:lnTo>
                    <a:pt x="421" y="131"/>
                  </a:lnTo>
                  <a:lnTo>
                    <a:pt x="431" y="88"/>
                  </a:lnTo>
                  <a:lnTo>
                    <a:pt x="438" y="45"/>
                  </a:lnTo>
                  <a:lnTo>
                    <a:pt x="440" y="0"/>
                  </a:lnTo>
                  <a:lnTo>
                    <a:pt x="378" y="0"/>
                  </a:lnTo>
                  <a:lnTo>
                    <a:pt x="376" y="38"/>
                  </a:lnTo>
                  <a:lnTo>
                    <a:pt x="371" y="77"/>
                  </a:lnTo>
                  <a:lnTo>
                    <a:pt x="361" y="113"/>
                  </a:lnTo>
                  <a:lnTo>
                    <a:pt x="348" y="147"/>
                  </a:lnTo>
                  <a:lnTo>
                    <a:pt x="333" y="180"/>
                  </a:lnTo>
                  <a:lnTo>
                    <a:pt x="314" y="213"/>
                  </a:lnTo>
                  <a:lnTo>
                    <a:pt x="292" y="242"/>
                  </a:lnTo>
                  <a:lnTo>
                    <a:pt x="267" y="268"/>
                  </a:lnTo>
                  <a:lnTo>
                    <a:pt x="240" y="294"/>
                  </a:lnTo>
                  <a:lnTo>
                    <a:pt x="212" y="315"/>
                  </a:lnTo>
                  <a:lnTo>
                    <a:pt x="179" y="335"/>
                  </a:lnTo>
                  <a:lnTo>
                    <a:pt x="147" y="350"/>
                  </a:lnTo>
                  <a:lnTo>
                    <a:pt x="113" y="363"/>
                  </a:lnTo>
                  <a:lnTo>
                    <a:pt x="76" y="373"/>
                  </a:lnTo>
                  <a:lnTo>
                    <a:pt x="38" y="378"/>
                  </a:lnTo>
                  <a:lnTo>
                    <a:pt x="0" y="380"/>
                  </a:lnTo>
                  <a:lnTo>
                    <a:pt x="0" y="380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34480" y="3306600"/>
              <a:ext cx="213480" cy="209520"/>
            </a:xfrm>
            <a:custGeom>
              <a:avLst/>
              <a:gdLst/>
              <a:ahLst/>
              <a:rect l="l" t="t" r="r" b="b"/>
              <a:pathLst>
                <a:path w="441" h="442">
                  <a:moveTo>
                    <a:pt x="0" y="0"/>
                  </a:moveTo>
                  <a:lnTo>
                    <a:pt x="0" y="0"/>
                  </a:lnTo>
                  <a:lnTo>
                    <a:pt x="2" y="45"/>
                  </a:lnTo>
                  <a:lnTo>
                    <a:pt x="9" y="89"/>
                  </a:lnTo>
                  <a:lnTo>
                    <a:pt x="20" y="131"/>
                  </a:lnTo>
                  <a:lnTo>
                    <a:pt x="34" y="172"/>
                  </a:lnTo>
                  <a:lnTo>
                    <a:pt x="52" y="209"/>
                  </a:lnTo>
                  <a:lnTo>
                    <a:pt x="75" y="246"/>
                  </a:lnTo>
                  <a:lnTo>
                    <a:pt x="100" y="281"/>
                  </a:lnTo>
                  <a:lnTo>
                    <a:pt x="129" y="313"/>
                  </a:lnTo>
                  <a:lnTo>
                    <a:pt x="160" y="341"/>
                  </a:lnTo>
                  <a:lnTo>
                    <a:pt x="194" y="366"/>
                  </a:lnTo>
                  <a:lnTo>
                    <a:pt x="230" y="388"/>
                  </a:lnTo>
                  <a:lnTo>
                    <a:pt x="268" y="408"/>
                  </a:lnTo>
                  <a:lnTo>
                    <a:pt x="310" y="422"/>
                  </a:lnTo>
                  <a:lnTo>
                    <a:pt x="352" y="432"/>
                  </a:lnTo>
                  <a:lnTo>
                    <a:pt x="395" y="440"/>
                  </a:lnTo>
                  <a:lnTo>
                    <a:pt x="441" y="442"/>
                  </a:lnTo>
                  <a:lnTo>
                    <a:pt x="441" y="380"/>
                  </a:lnTo>
                  <a:lnTo>
                    <a:pt x="402" y="378"/>
                  </a:lnTo>
                  <a:lnTo>
                    <a:pt x="365" y="373"/>
                  </a:lnTo>
                  <a:lnTo>
                    <a:pt x="327" y="363"/>
                  </a:lnTo>
                  <a:lnTo>
                    <a:pt x="293" y="350"/>
                  </a:lnTo>
                  <a:lnTo>
                    <a:pt x="261" y="335"/>
                  </a:lnTo>
                  <a:lnTo>
                    <a:pt x="230" y="315"/>
                  </a:lnTo>
                  <a:lnTo>
                    <a:pt x="200" y="293"/>
                  </a:lnTo>
                  <a:lnTo>
                    <a:pt x="173" y="268"/>
                  </a:lnTo>
                  <a:lnTo>
                    <a:pt x="149" y="242"/>
                  </a:lnTo>
                  <a:lnTo>
                    <a:pt x="126" y="213"/>
                  </a:lnTo>
                  <a:lnTo>
                    <a:pt x="108" y="180"/>
                  </a:lnTo>
                  <a:lnTo>
                    <a:pt x="92" y="147"/>
                  </a:lnTo>
                  <a:lnTo>
                    <a:pt x="80" y="113"/>
                  </a:lnTo>
                  <a:lnTo>
                    <a:pt x="69" y="76"/>
                  </a:lnTo>
                  <a:lnTo>
                    <a:pt x="64" y="38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34480" y="3098160"/>
              <a:ext cx="213480" cy="208440"/>
            </a:xfrm>
            <a:custGeom>
              <a:avLst/>
              <a:gdLst/>
              <a:ahLst/>
              <a:rect l="l" t="t" r="r" b="b"/>
              <a:pathLst>
                <a:path w="441" h="442">
                  <a:moveTo>
                    <a:pt x="441" y="0"/>
                  </a:moveTo>
                  <a:lnTo>
                    <a:pt x="441" y="0"/>
                  </a:lnTo>
                  <a:lnTo>
                    <a:pt x="395" y="2"/>
                  </a:lnTo>
                  <a:lnTo>
                    <a:pt x="352" y="10"/>
                  </a:lnTo>
                  <a:lnTo>
                    <a:pt x="310" y="20"/>
                  </a:lnTo>
                  <a:lnTo>
                    <a:pt x="268" y="34"/>
                  </a:lnTo>
                  <a:lnTo>
                    <a:pt x="230" y="54"/>
                  </a:lnTo>
                  <a:lnTo>
                    <a:pt x="194" y="76"/>
                  </a:lnTo>
                  <a:lnTo>
                    <a:pt x="160" y="101"/>
                  </a:lnTo>
                  <a:lnTo>
                    <a:pt x="129" y="130"/>
                  </a:lnTo>
                  <a:lnTo>
                    <a:pt x="100" y="161"/>
                  </a:lnTo>
                  <a:lnTo>
                    <a:pt x="75" y="195"/>
                  </a:lnTo>
                  <a:lnTo>
                    <a:pt x="52" y="232"/>
                  </a:lnTo>
                  <a:lnTo>
                    <a:pt x="34" y="271"/>
                  </a:lnTo>
                  <a:lnTo>
                    <a:pt x="20" y="311"/>
                  </a:lnTo>
                  <a:lnTo>
                    <a:pt x="9" y="353"/>
                  </a:lnTo>
                  <a:lnTo>
                    <a:pt x="2" y="396"/>
                  </a:lnTo>
                  <a:lnTo>
                    <a:pt x="0" y="442"/>
                  </a:lnTo>
                  <a:lnTo>
                    <a:pt x="62" y="442"/>
                  </a:lnTo>
                  <a:lnTo>
                    <a:pt x="64" y="403"/>
                  </a:lnTo>
                  <a:lnTo>
                    <a:pt x="69" y="366"/>
                  </a:lnTo>
                  <a:lnTo>
                    <a:pt x="80" y="328"/>
                  </a:lnTo>
                  <a:lnTo>
                    <a:pt x="92" y="295"/>
                  </a:lnTo>
                  <a:lnTo>
                    <a:pt x="108" y="261"/>
                  </a:lnTo>
                  <a:lnTo>
                    <a:pt x="126" y="231"/>
                  </a:lnTo>
                  <a:lnTo>
                    <a:pt x="149" y="201"/>
                  </a:lnTo>
                  <a:lnTo>
                    <a:pt x="173" y="174"/>
                  </a:lnTo>
                  <a:lnTo>
                    <a:pt x="200" y="150"/>
                  </a:lnTo>
                  <a:lnTo>
                    <a:pt x="230" y="127"/>
                  </a:lnTo>
                  <a:lnTo>
                    <a:pt x="261" y="107"/>
                  </a:lnTo>
                  <a:lnTo>
                    <a:pt x="293" y="92"/>
                  </a:lnTo>
                  <a:lnTo>
                    <a:pt x="327" y="80"/>
                  </a:lnTo>
                  <a:lnTo>
                    <a:pt x="365" y="70"/>
                  </a:lnTo>
                  <a:lnTo>
                    <a:pt x="402" y="64"/>
                  </a:lnTo>
                  <a:lnTo>
                    <a:pt x="441" y="62"/>
                  </a:lnTo>
                  <a:lnTo>
                    <a:pt x="441" y="62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10200" y="2877480"/>
              <a:ext cx="876240" cy="859320"/>
            </a:xfrm>
            <a:custGeom>
              <a:avLst/>
              <a:gdLst/>
              <a:ahLst/>
              <a:rect l="l" t="t" r="r" b="b"/>
              <a:pathLst>
                <a:path w="1810" h="1808">
                  <a:moveTo>
                    <a:pt x="1810" y="904"/>
                  </a:moveTo>
                  <a:lnTo>
                    <a:pt x="1809" y="950"/>
                  </a:lnTo>
                  <a:lnTo>
                    <a:pt x="1805" y="996"/>
                  </a:lnTo>
                  <a:lnTo>
                    <a:pt x="1799" y="1041"/>
                  </a:lnTo>
                  <a:lnTo>
                    <a:pt x="1792" y="1086"/>
                  </a:lnTo>
                  <a:lnTo>
                    <a:pt x="1782" y="1130"/>
                  </a:lnTo>
                  <a:lnTo>
                    <a:pt x="1769" y="1172"/>
                  </a:lnTo>
                  <a:lnTo>
                    <a:pt x="1755" y="1214"/>
                  </a:lnTo>
                  <a:lnTo>
                    <a:pt x="1739" y="1255"/>
                  </a:lnTo>
                  <a:lnTo>
                    <a:pt x="1721" y="1295"/>
                  </a:lnTo>
                  <a:lnTo>
                    <a:pt x="1701" y="1334"/>
                  </a:lnTo>
                  <a:lnTo>
                    <a:pt x="1679" y="1373"/>
                  </a:lnTo>
                  <a:lnTo>
                    <a:pt x="1655" y="1410"/>
                  </a:lnTo>
                  <a:lnTo>
                    <a:pt x="1631" y="1445"/>
                  </a:lnTo>
                  <a:lnTo>
                    <a:pt x="1604" y="1479"/>
                  </a:lnTo>
                  <a:lnTo>
                    <a:pt x="1575" y="1512"/>
                  </a:lnTo>
                  <a:lnTo>
                    <a:pt x="1545" y="1543"/>
                  </a:lnTo>
                  <a:lnTo>
                    <a:pt x="1514" y="1573"/>
                  </a:lnTo>
                  <a:lnTo>
                    <a:pt x="1481" y="1602"/>
                  </a:lnTo>
                  <a:lnTo>
                    <a:pt x="1446" y="1628"/>
                  </a:lnTo>
                  <a:lnTo>
                    <a:pt x="1411" y="1654"/>
                  </a:lnTo>
                  <a:lnTo>
                    <a:pt x="1374" y="1677"/>
                  </a:lnTo>
                  <a:lnTo>
                    <a:pt x="1336" y="1699"/>
                  </a:lnTo>
                  <a:lnTo>
                    <a:pt x="1298" y="1719"/>
                  </a:lnTo>
                  <a:lnTo>
                    <a:pt x="1258" y="1737"/>
                  </a:lnTo>
                  <a:lnTo>
                    <a:pt x="1217" y="1754"/>
                  </a:lnTo>
                  <a:lnTo>
                    <a:pt x="1174" y="1767"/>
                  </a:lnTo>
                  <a:lnTo>
                    <a:pt x="1131" y="1779"/>
                  </a:lnTo>
                  <a:lnTo>
                    <a:pt x="1088" y="1789"/>
                  </a:lnTo>
                  <a:lnTo>
                    <a:pt x="1043" y="1798"/>
                  </a:lnTo>
                  <a:lnTo>
                    <a:pt x="998" y="1804"/>
                  </a:lnTo>
                  <a:lnTo>
                    <a:pt x="951" y="1807"/>
                  </a:lnTo>
                  <a:lnTo>
                    <a:pt x="905" y="1808"/>
                  </a:lnTo>
                  <a:lnTo>
                    <a:pt x="858" y="1807"/>
                  </a:lnTo>
                  <a:lnTo>
                    <a:pt x="812" y="1804"/>
                  </a:lnTo>
                  <a:lnTo>
                    <a:pt x="767" y="1798"/>
                  </a:lnTo>
                  <a:lnTo>
                    <a:pt x="722" y="1789"/>
                  </a:lnTo>
                  <a:lnTo>
                    <a:pt x="678" y="1779"/>
                  </a:lnTo>
                  <a:lnTo>
                    <a:pt x="636" y="1767"/>
                  </a:lnTo>
                  <a:lnTo>
                    <a:pt x="594" y="1754"/>
                  </a:lnTo>
                  <a:lnTo>
                    <a:pt x="553" y="1737"/>
                  </a:lnTo>
                  <a:lnTo>
                    <a:pt x="513" y="1719"/>
                  </a:lnTo>
                  <a:lnTo>
                    <a:pt x="473" y="1699"/>
                  </a:lnTo>
                  <a:lnTo>
                    <a:pt x="435" y="1677"/>
                  </a:lnTo>
                  <a:lnTo>
                    <a:pt x="398" y="1654"/>
                  </a:lnTo>
                  <a:lnTo>
                    <a:pt x="363" y="1628"/>
                  </a:lnTo>
                  <a:lnTo>
                    <a:pt x="328" y="1602"/>
                  </a:lnTo>
                  <a:lnTo>
                    <a:pt x="296" y="1573"/>
                  </a:lnTo>
                  <a:lnTo>
                    <a:pt x="265" y="1543"/>
                  </a:lnTo>
                  <a:lnTo>
                    <a:pt x="235" y="1512"/>
                  </a:lnTo>
                  <a:lnTo>
                    <a:pt x="206" y="1479"/>
                  </a:lnTo>
                  <a:lnTo>
                    <a:pt x="180" y="1445"/>
                  </a:lnTo>
                  <a:lnTo>
                    <a:pt x="154" y="1410"/>
                  </a:lnTo>
                  <a:lnTo>
                    <a:pt x="131" y="1373"/>
                  </a:lnTo>
                  <a:lnTo>
                    <a:pt x="109" y="1334"/>
                  </a:lnTo>
                  <a:lnTo>
                    <a:pt x="89" y="1295"/>
                  </a:lnTo>
                  <a:lnTo>
                    <a:pt x="71" y="1255"/>
                  </a:lnTo>
                  <a:lnTo>
                    <a:pt x="54" y="1214"/>
                  </a:lnTo>
                  <a:lnTo>
                    <a:pt x="41" y="1172"/>
                  </a:lnTo>
                  <a:lnTo>
                    <a:pt x="29" y="1130"/>
                  </a:lnTo>
                  <a:lnTo>
                    <a:pt x="19" y="1086"/>
                  </a:lnTo>
                  <a:lnTo>
                    <a:pt x="10" y="1041"/>
                  </a:lnTo>
                  <a:lnTo>
                    <a:pt x="4" y="996"/>
                  </a:lnTo>
                  <a:lnTo>
                    <a:pt x="1" y="950"/>
                  </a:lnTo>
                  <a:lnTo>
                    <a:pt x="0" y="904"/>
                  </a:lnTo>
                  <a:lnTo>
                    <a:pt x="1" y="857"/>
                  </a:lnTo>
                  <a:lnTo>
                    <a:pt x="4" y="811"/>
                  </a:lnTo>
                  <a:lnTo>
                    <a:pt x="10" y="766"/>
                  </a:lnTo>
                  <a:lnTo>
                    <a:pt x="19" y="722"/>
                  </a:lnTo>
                  <a:lnTo>
                    <a:pt x="29" y="677"/>
                  </a:lnTo>
                  <a:lnTo>
                    <a:pt x="41" y="635"/>
                  </a:lnTo>
                  <a:lnTo>
                    <a:pt x="54" y="593"/>
                  </a:lnTo>
                  <a:lnTo>
                    <a:pt x="71" y="552"/>
                  </a:lnTo>
                  <a:lnTo>
                    <a:pt x="89" y="512"/>
                  </a:lnTo>
                  <a:lnTo>
                    <a:pt x="109" y="473"/>
                  </a:lnTo>
                  <a:lnTo>
                    <a:pt x="131" y="435"/>
                  </a:lnTo>
                  <a:lnTo>
                    <a:pt x="154" y="399"/>
                  </a:lnTo>
                  <a:lnTo>
                    <a:pt x="180" y="363"/>
                  </a:lnTo>
                  <a:lnTo>
                    <a:pt x="206" y="329"/>
                  </a:lnTo>
                  <a:lnTo>
                    <a:pt x="235" y="296"/>
                  </a:lnTo>
                  <a:lnTo>
                    <a:pt x="265" y="265"/>
                  </a:lnTo>
                  <a:lnTo>
                    <a:pt x="296" y="235"/>
                  </a:lnTo>
                  <a:lnTo>
                    <a:pt x="329" y="206"/>
                  </a:lnTo>
                  <a:lnTo>
                    <a:pt x="363" y="180"/>
                  </a:lnTo>
                  <a:lnTo>
                    <a:pt x="398" y="154"/>
                  </a:lnTo>
                  <a:lnTo>
                    <a:pt x="435" y="131"/>
                  </a:lnTo>
                  <a:lnTo>
                    <a:pt x="473" y="109"/>
                  </a:lnTo>
                  <a:lnTo>
                    <a:pt x="513" y="90"/>
                  </a:lnTo>
                  <a:lnTo>
                    <a:pt x="553" y="71"/>
                  </a:lnTo>
                  <a:lnTo>
                    <a:pt x="594" y="56"/>
                  </a:lnTo>
                  <a:lnTo>
                    <a:pt x="636" y="41"/>
                  </a:lnTo>
                  <a:lnTo>
                    <a:pt x="678" y="29"/>
                  </a:lnTo>
                  <a:lnTo>
                    <a:pt x="722" y="19"/>
                  </a:lnTo>
                  <a:lnTo>
                    <a:pt x="767" y="11"/>
                  </a:lnTo>
                  <a:lnTo>
                    <a:pt x="812" y="4"/>
                  </a:lnTo>
                  <a:lnTo>
                    <a:pt x="858" y="1"/>
                  </a:lnTo>
                  <a:lnTo>
                    <a:pt x="905" y="0"/>
                  </a:lnTo>
                  <a:lnTo>
                    <a:pt x="951" y="1"/>
                  </a:lnTo>
                  <a:lnTo>
                    <a:pt x="998" y="4"/>
                  </a:lnTo>
                  <a:lnTo>
                    <a:pt x="1043" y="11"/>
                  </a:lnTo>
                  <a:lnTo>
                    <a:pt x="1088" y="19"/>
                  </a:lnTo>
                  <a:lnTo>
                    <a:pt x="1131" y="29"/>
                  </a:lnTo>
                  <a:lnTo>
                    <a:pt x="1174" y="41"/>
                  </a:lnTo>
                  <a:lnTo>
                    <a:pt x="1217" y="56"/>
                  </a:lnTo>
                  <a:lnTo>
                    <a:pt x="1258" y="71"/>
                  </a:lnTo>
                  <a:lnTo>
                    <a:pt x="1298" y="90"/>
                  </a:lnTo>
                  <a:lnTo>
                    <a:pt x="1336" y="109"/>
                  </a:lnTo>
                  <a:lnTo>
                    <a:pt x="1374" y="131"/>
                  </a:lnTo>
                  <a:lnTo>
                    <a:pt x="1411" y="154"/>
                  </a:lnTo>
                  <a:lnTo>
                    <a:pt x="1446" y="180"/>
                  </a:lnTo>
                  <a:lnTo>
                    <a:pt x="1481" y="206"/>
                  </a:lnTo>
                  <a:lnTo>
                    <a:pt x="1514" y="235"/>
                  </a:lnTo>
                  <a:lnTo>
                    <a:pt x="1545" y="265"/>
                  </a:lnTo>
                  <a:lnTo>
                    <a:pt x="1575" y="296"/>
                  </a:lnTo>
                  <a:lnTo>
                    <a:pt x="1604" y="329"/>
                  </a:lnTo>
                  <a:lnTo>
                    <a:pt x="1631" y="363"/>
                  </a:lnTo>
                  <a:lnTo>
                    <a:pt x="1655" y="399"/>
                  </a:lnTo>
                  <a:lnTo>
                    <a:pt x="1679" y="435"/>
                  </a:lnTo>
                  <a:lnTo>
                    <a:pt x="1701" y="473"/>
                  </a:lnTo>
                  <a:lnTo>
                    <a:pt x="1721" y="512"/>
                  </a:lnTo>
                  <a:lnTo>
                    <a:pt x="1739" y="552"/>
                  </a:lnTo>
                  <a:lnTo>
                    <a:pt x="1755" y="593"/>
                  </a:lnTo>
                  <a:lnTo>
                    <a:pt x="1769" y="635"/>
                  </a:lnTo>
                  <a:lnTo>
                    <a:pt x="1782" y="677"/>
                  </a:lnTo>
                  <a:lnTo>
                    <a:pt x="1792" y="722"/>
                  </a:lnTo>
                  <a:lnTo>
                    <a:pt x="1799" y="766"/>
                  </a:lnTo>
                  <a:lnTo>
                    <a:pt x="1805" y="811"/>
                  </a:lnTo>
                  <a:lnTo>
                    <a:pt x="1809" y="857"/>
                  </a:lnTo>
                  <a:lnTo>
                    <a:pt x="1810" y="904"/>
                  </a:lnTo>
                  <a:close/>
                  <a:moveTo>
                    <a:pt x="1748" y="904"/>
                  </a:moveTo>
                  <a:lnTo>
                    <a:pt x="1747" y="860"/>
                  </a:lnTo>
                  <a:lnTo>
                    <a:pt x="1744" y="817"/>
                  </a:lnTo>
                  <a:lnTo>
                    <a:pt x="1738" y="775"/>
                  </a:lnTo>
                  <a:lnTo>
                    <a:pt x="1732" y="734"/>
                  </a:lnTo>
                  <a:lnTo>
                    <a:pt x="1722" y="693"/>
                  </a:lnTo>
                  <a:lnTo>
                    <a:pt x="1711" y="653"/>
                  </a:lnTo>
                  <a:lnTo>
                    <a:pt x="1697" y="614"/>
                  </a:lnTo>
                  <a:lnTo>
                    <a:pt x="1682" y="576"/>
                  </a:lnTo>
                  <a:lnTo>
                    <a:pt x="1665" y="538"/>
                  </a:lnTo>
                  <a:lnTo>
                    <a:pt x="1646" y="503"/>
                  </a:lnTo>
                  <a:lnTo>
                    <a:pt x="1626" y="467"/>
                  </a:lnTo>
                  <a:lnTo>
                    <a:pt x="1604" y="433"/>
                  </a:lnTo>
                  <a:lnTo>
                    <a:pt x="1581" y="400"/>
                  </a:lnTo>
                  <a:lnTo>
                    <a:pt x="1556" y="369"/>
                  </a:lnTo>
                  <a:lnTo>
                    <a:pt x="1530" y="337"/>
                  </a:lnTo>
                  <a:lnTo>
                    <a:pt x="1502" y="309"/>
                  </a:lnTo>
                  <a:lnTo>
                    <a:pt x="1472" y="281"/>
                  </a:lnTo>
                  <a:lnTo>
                    <a:pt x="1442" y="254"/>
                  </a:lnTo>
                  <a:lnTo>
                    <a:pt x="1410" y="229"/>
                  </a:lnTo>
                  <a:lnTo>
                    <a:pt x="1376" y="205"/>
                  </a:lnTo>
                  <a:lnTo>
                    <a:pt x="1342" y="184"/>
                  </a:lnTo>
                  <a:lnTo>
                    <a:pt x="1308" y="163"/>
                  </a:lnTo>
                  <a:lnTo>
                    <a:pt x="1271" y="145"/>
                  </a:lnTo>
                  <a:lnTo>
                    <a:pt x="1233" y="128"/>
                  </a:lnTo>
                  <a:lnTo>
                    <a:pt x="1195" y="113"/>
                  </a:lnTo>
                  <a:lnTo>
                    <a:pt x="1155" y="100"/>
                  </a:lnTo>
                  <a:lnTo>
                    <a:pt x="1115" y="89"/>
                  </a:lnTo>
                  <a:lnTo>
                    <a:pt x="1076" y="79"/>
                  </a:lnTo>
                  <a:lnTo>
                    <a:pt x="1033" y="72"/>
                  </a:lnTo>
                  <a:lnTo>
                    <a:pt x="991" y="67"/>
                  </a:lnTo>
                  <a:lnTo>
                    <a:pt x="948" y="63"/>
                  </a:lnTo>
                  <a:lnTo>
                    <a:pt x="905" y="62"/>
                  </a:lnTo>
                  <a:lnTo>
                    <a:pt x="861" y="63"/>
                  </a:lnTo>
                  <a:lnTo>
                    <a:pt x="819" y="67"/>
                  </a:lnTo>
                  <a:lnTo>
                    <a:pt x="776" y="72"/>
                  </a:lnTo>
                  <a:lnTo>
                    <a:pt x="735" y="79"/>
                  </a:lnTo>
                  <a:lnTo>
                    <a:pt x="694" y="89"/>
                  </a:lnTo>
                  <a:lnTo>
                    <a:pt x="654" y="100"/>
                  </a:lnTo>
                  <a:lnTo>
                    <a:pt x="615" y="113"/>
                  </a:lnTo>
                  <a:lnTo>
                    <a:pt x="576" y="128"/>
                  </a:lnTo>
                  <a:lnTo>
                    <a:pt x="539" y="145"/>
                  </a:lnTo>
                  <a:lnTo>
                    <a:pt x="503" y="163"/>
                  </a:lnTo>
                  <a:lnTo>
                    <a:pt x="467" y="184"/>
                  </a:lnTo>
                  <a:lnTo>
                    <a:pt x="433" y="205"/>
                  </a:lnTo>
                  <a:lnTo>
                    <a:pt x="401" y="229"/>
                  </a:lnTo>
                  <a:lnTo>
                    <a:pt x="368" y="254"/>
                  </a:lnTo>
                  <a:lnTo>
                    <a:pt x="337" y="281"/>
                  </a:lnTo>
                  <a:lnTo>
                    <a:pt x="308" y="309"/>
                  </a:lnTo>
                  <a:lnTo>
                    <a:pt x="281" y="337"/>
                  </a:lnTo>
                  <a:lnTo>
                    <a:pt x="254" y="369"/>
                  </a:lnTo>
                  <a:lnTo>
                    <a:pt x="228" y="400"/>
                  </a:lnTo>
                  <a:lnTo>
                    <a:pt x="205" y="433"/>
                  </a:lnTo>
                  <a:lnTo>
                    <a:pt x="183" y="467"/>
                  </a:lnTo>
                  <a:lnTo>
                    <a:pt x="163" y="503"/>
                  </a:lnTo>
                  <a:lnTo>
                    <a:pt x="144" y="538"/>
                  </a:lnTo>
                  <a:lnTo>
                    <a:pt x="127" y="576"/>
                  </a:lnTo>
                  <a:lnTo>
                    <a:pt x="113" y="614"/>
                  </a:lnTo>
                  <a:lnTo>
                    <a:pt x="100" y="653"/>
                  </a:lnTo>
                  <a:lnTo>
                    <a:pt x="87" y="693"/>
                  </a:lnTo>
                  <a:lnTo>
                    <a:pt x="79" y="734"/>
                  </a:lnTo>
                  <a:lnTo>
                    <a:pt x="71" y="775"/>
                  </a:lnTo>
                  <a:lnTo>
                    <a:pt x="65" y="817"/>
                  </a:lnTo>
                  <a:lnTo>
                    <a:pt x="63" y="860"/>
                  </a:lnTo>
                  <a:lnTo>
                    <a:pt x="62" y="904"/>
                  </a:lnTo>
                  <a:lnTo>
                    <a:pt x="63" y="947"/>
                  </a:lnTo>
                  <a:lnTo>
                    <a:pt x="65" y="989"/>
                  </a:lnTo>
                  <a:lnTo>
                    <a:pt x="71" y="1031"/>
                  </a:lnTo>
                  <a:lnTo>
                    <a:pt x="79" y="1073"/>
                  </a:lnTo>
                  <a:lnTo>
                    <a:pt x="87" y="1114"/>
                  </a:lnTo>
                  <a:lnTo>
                    <a:pt x="100" y="1154"/>
                  </a:lnTo>
                  <a:lnTo>
                    <a:pt x="113" y="1193"/>
                  </a:lnTo>
                  <a:lnTo>
                    <a:pt x="127" y="1232"/>
                  </a:lnTo>
                  <a:lnTo>
                    <a:pt x="144" y="1269"/>
                  </a:lnTo>
                  <a:lnTo>
                    <a:pt x="163" y="1305"/>
                  </a:lnTo>
                  <a:lnTo>
                    <a:pt x="183" y="1341"/>
                  </a:lnTo>
                  <a:lnTo>
                    <a:pt x="205" y="1375"/>
                  </a:lnTo>
                  <a:lnTo>
                    <a:pt x="228" y="1408"/>
                  </a:lnTo>
                  <a:lnTo>
                    <a:pt x="254" y="1440"/>
                  </a:lnTo>
                  <a:lnTo>
                    <a:pt x="281" y="1471"/>
                  </a:lnTo>
                  <a:lnTo>
                    <a:pt x="308" y="1500"/>
                  </a:lnTo>
                  <a:lnTo>
                    <a:pt x="337" y="1527"/>
                  </a:lnTo>
                  <a:lnTo>
                    <a:pt x="368" y="1554"/>
                  </a:lnTo>
                  <a:lnTo>
                    <a:pt x="401" y="1580"/>
                  </a:lnTo>
                  <a:lnTo>
                    <a:pt x="433" y="1603"/>
                  </a:lnTo>
                  <a:lnTo>
                    <a:pt x="467" y="1625"/>
                  </a:lnTo>
                  <a:lnTo>
                    <a:pt x="503" y="1645"/>
                  </a:lnTo>
                  <a:lnTo>
                    <a:pt x="539" y="1664"/>
                  </a:lnTo>
                  <a:lnTo>
                    <a:pt x="576" y="1681"/>
                  </a:lnTo>
                  <a:lnTo>
                    <a:pt x="615" y="1695"/>
                  </a:lnTo>
                  <a:lnTo>
                    <a:pt x="654" y="1708"/>
                  </a:lnTo>
                  <a:lnTo>
                    <a:pt x="694" y="1721"/>
                  </a:lnTo>
                  <a:lnTo>
                    <a:pt x="735" y="1729"/>
                  </a:lnTo>
                  <a:lnTo>
                    <a:pt x="776" y="1737"/>
                  </a:lnTo>
                  <a:lnTo>
                    <a:pt x="819" y="1742"/>
                  </a:lnTo>
                  <a:lnTo>
                    <a:pt x="861" y="1745"/>
                  </a:lnTo>
                  <a:lnTo>
                    <a:pt x="905" y="1746"/>
                  </a:lnTo>
                  <a:lnTo>
                    <a:pt x="948" y="1745"/>
                  </a:lnTo>
                  <a:lnTo>
                    <a:pt x="991" y="1742"/>
                  </a:lnTo>
                  <a:lnTo>
                    <a:pt x="1033" y="1737"/>
                  </a:lnTo>
                  <a:lnTo>
                    <a:pt x="1076" y="1729"/>
                  </a:lnTo>
                  <a:lnTo>
                    <a:pt x="1115" y="1721"/>
                  </a:lnTo>
                  <a:lnTo>
                    <a:pt x="1155" y="1708"/>
                  </a:lnTo>
                  <a:lnTo>
                    <a:pt x="1195" y="1695"/>
                  </a:lnTo>
                  <a:lnTo>
                    <a:pt x="1233" y="1681"/>
                  </a:lnTo>
                  <a:lnTo>
                    <a:pt x="1271" y="1664"/>
                  </a:lnTo>
                  <a:lnTo>
                    <a:pt x="1308" y="1645"/>
                  </a:lnTo>
                  <a:lnTo>
                    <a:pt x="1342" y="1625"/>
                  </a:lnTo>
                  <a:lnTo>
                    <a:pt x="1376" y="1603"/>
                  </a:lnTo>
                  <a:lnTo>
                    <a:pt x="1410" y="1580"/>
                  </a:lnTo>
                  <a:lnTo>
                    <a:pt x="1442" y="1554"/>
                  </a:lnTo>
                  <a:lnTo>
                    <a:pt x="1472" y="1527"/>
                  </a:lnTo>
                  <a:lnTo>
                    <a:pt x="1502" y="1500"/>
                  </a:lnTo>
                  <a:lnTo>
                    <a:pt x="1530" y="1471"/>
                  </a:lnTo>
                  <a:lnTo>
                    <a:pt x="1556" y="1440"/>
                  </a:lnTo>
                  <a:lnTo>
                    <a:pt x="1581" y="1408"/>
                  </a:lnTo>
                  <a:lnTo>
                    <a:pt x="1604" y="1375"/>
                  </a:lnTo>
                  <a:lnTo>
                    <a:pt x="1626" y="1341"/>
                  </a:lnTo>
                  <a:lnTo>
                    <a:pt x="1646" y="1305"/>
                  </a:lnTo>
                  <a:lnTo>
                    <a:pt x="1665" y="1269"/>
                  </a:lnTo>
                  <a:lnTo>
                    <a:pt x="1682" y="1232"/>
                  </a:lnTo>
                  <a:lnTo>
                    <a:pt x="1697" y="1193"/>
                  </a:lnTo>
                  <a:lnTo>
                    <a:pt x="1711" y="1154"/>
                  </a:lnTo>
                  <a:lnTo>
                    <a:pt x="1722" y="1114"/>
                  </a:lnTo>
                  <a:lnTo>
                    <a:pt x="1732" y="1073"/>
                  </a:lnTo>
                  <a:lnTo>
                    <a:pt x="1738" y="1031"/>
                  </a:lnTo>
                  <a:lnTo>
                    <a:pt x="1744" y="989"/>
                  </a:lnTo>
                  <a:lnTo>
                    <a:pt x="1747" y="947"/>
                  </a:lnTo>
                  <a:lnTo>
                    <a:pt x="1748" y="9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04280" y="2672280"/>
              <a:ext cx="1291680" cy="1270080"/>
            </a:xfrm>
            <a:custGeom>
              <a:avLst/>
              <a:gdLst/>
              <a:ahLst/>
              <a:rect l="l" t="t" r="r" b="b"/>
              <a:pathLst>
                <a:path w="2665" h="2666">
                  <a:moveTo>
                    <a:pt x="2665" y="1332"/>
                  </a:moveTo>
                  <a:lnTo>
                    <a:pt x="2664" y="1399"/>
                  </a:lnTo>
                  <a:lnTo>
                    <a:pt x="2658" y="1467"/>
                  </a:lnTo>
                  <a:lnTo>
                    <a:pt x="2650" y="1534"/>
                  </a:lnTo>
                  <a:lnTo>
                    <a:pt x="2638" y="1600"/>
                  </a:lnTo>
                  <a:lnTo>
                    <a:pt x="2624" y="1665"/>
                  </a:lnTo>
                  <a:lnTo>
                    <a:pt x="2606" y="1728"/>
                  </a:lnTo>
                  <a:lnTo>
                    <a:pt x="2585" y="1790"/>
                  </a:lnTo>
                  <a:lnTo>
                    <a:pt x="2560" y="1850"/>
                  </a:lnTo>
                  <a:lnTo>
                    <a:pt x="2534" y="1909"/>
                  </a:lnTo>
                  <a:lnTo>
                    <a:pt x="2505" y="1966"/>
                  </a:lnTo>
                  <a:lnTo>
                    <a:pt x="2473" y="2023"/>
                  </a:lnTo>
                  <a:lnTo>
                    <a:pt x="2438" y="2076"/>
                  </a:lnTo>
                  <a:lnTo>
                    <a:pt x="2401" y="2129"/>
                  </a:lnTo>
                  <a:lnTo>
                    <a:pt x="2361" y="2180"/>
                  </a:lnTo>
                  <a:lnTo>
                    <a:pt x="2320" y="2227"/>
                  </a:lnTo>
                  <a:lnTo>
                    <a:pt x="2275" y="2274"/>
                  </a:lnTo>
                  <a:lnTo>
                    <a:pt x="2228" y="2318"/>
                  </a:lnTo>
                  <a:lnTo>
                    <a:pt x="2181" y="2361"/>
                  </a:lnTo>
                  <a:lnTo>
                    <a:pt x="2130" y="2400"/>
                  </a:lnTo>
                  <a:lnTo>
                    <a:pt x="2077" y="2437"/>
                  </a:lnTo>
                  <a:lnTo>
                    <a:pt x="2024" y="2472"/>
                  </a:lnTo>
                  <a:lnTo>
                    <a:pt x="1968" y="2504"/>
                  </a:lnTo>
                  <a:lnTo>
                    <a:pt x="1911" y="2534"/>
                  </a:lnTo>
                  <a:lnTo>
                    <a:pt x="1852" y="2560"/>
                  </a:lnTo>
                  <a:lnTo>
                    <a:pt x="1791" y="2585"/>
                  </a:lnTo>
                  <a:lnTo>
                    <a:pt x="1729" y="2606"/>
                  </a:lnTo>
                  <a:lnTo>
                    <a:pt x="1666" y="2624"/>
                  </a:lnTo>
                  <a:lnTo>
                    <a:pt x="1601" y="2638"/>
                  </a:lnTo>
                  <a:lnTo>
                    <a:pt x="1536" y="2650"/>
                  </a:lnTo>
                  <a:lnTo>
                    <a:pt x="1469" y="2658"/>
                  </a:lnTo>
                  <a:lnTo>
                    <a:pt x="1401" y="2664"/>
                  </a:lnTo>
                  <a:lnTo>
                    <a:pt x="1333" y="2666"/>
                  </a:lnTo>
                  <a:lnTo>
                    <a:pt x="1265" y="2664"/>
                  </a:lnTo>
                  <a:lnTo>
                    <a:pt x="1197" y="2658"/>
                  </a:lnTo>
                  <a:lnTo>
                    <a:pt x="1129" y="2650"/>
                  </a:lnTo>
                  <a:lnTo>
                    <a:pt x="1064" y="2638"/>
                  </a:lnTo>
                  <a:lnTo>
                    <a:pt x="1000" y="2624"/>
                  </a:lnTo>
                  <a:lnTo>
                    <a:pt x="936" y="2606"/>
                  </a:lnTo>
                  <a:lnTo>
                    <a:pt x="875" y="2585"/>
                  </a:lnTo>
                  <a:lnTo>
                    <a:pt x="814" y="2560"/>
                  </a:lnTo>
                  <a:lnTo>
                    <a:pt x="755" y="2534"/>
                  </a:lnTo>
                  <a:lnTo>
                    <a:pt x="698" y="2504"/>
                  </a:lnTo>
                  <a:lnTo>
                    <a:pt x="642" y="2472"/>
                  </a:lnTo>
                  <a:lnTo>
                    <a:pt x="588" y="2437"/>
                  </a:lnTo>
                  <a:lnTo>
                    <a:pt x="535" y="2400"/>
                  </a:lnTo>
                  <a:lnTo>
                    <a:pt x="485" y="2361"/>
                  </a:lnTo>
                  <a:lnTo>
                    <a:pt x="437" y="2318"/>
                  </a:lnTo>
                  <a:lnTo>
                    <a:pt x="391" y="2274"/>
                  </a:lnTo>
                  <a:lnTo>
                    <a:pt x="347" y="2227"/>
                  </a:lnTo>
                  <a:lnTo>
                    <a:pt x="305" y="2180"/>
                  </a:lnTo>
                  <a:lnTo>
                    <a:pt x="266" y="2129"/>
                  </a:lnTo>
                  <a:lnTo>
                    <a:pt x="228" y="2076"/>
                  </a:lnTo>
                  <a:lnTo>
                    <a:pt x="194" y="2023"/>
                  </a:lnTo>
                  <a:lnTo>
                    <a:pt x="161" y="1966"/>
                  </a:lnTo>
                  <a:lnTo>
                    <a:pt x="131" y="1909"/>
                  </a:lnTo>
                  <a:lnTo>
                    <a:pt x="105" y="1850"/>
                  </a:lnTo>
                  <a:lnTo>
                    <a:pt x="81" y="1790"/>
                  </a:lnTo>
                  <a:lnTo>
                    <a:pt x="60" y="1728"/>
                  </a:lnTo>
                  <a:lnTo>
                    <a:pt x="43" y="1665"/>
                  </a:lnTo>
                  <a:lnTo>
                    <a:pt x="28" y="1600"/>
                  </a:lnTo>
                  <a:lnTo>
                    <a:pt x="16" y="1535"/>
                  </a:lnTo>
                  <a:lnTo>
                    <a:pt x="7" y="1467"/>
                  </a:lnTo>
                  <a:lnTo>
                    <a:pt x="3" y="1399"/>
                  </a:lnTo>
                  <a:lnTo>
                    <a:pt x="0" y="1332"/>
                  </a:lnTo>
                  <a:lnTo>
                    <a:pt x="3" y="1263"/>
                  </a:lnTo>
                  <a:lnTo>
                    <a:pt x="7" y="1195"/>
                  </a:lnTo>
                  <a:lnTo>
                    <a:pt x="16" y="1128"/>
                  </a:lnTo>
                  <a:lnTo>
                    <a:pt x="28" y="1063"/>
                  </a:lnTo>
                  <a:lnTo>
                    <a:pt x="43" y="999"/>
                  </a:lnTo>
                  <a:lnTo>
                    <a:pt x="60" y="935"/>
                  </a:lnTo>
                  <a:lnTo>
                    <a:pt x="81" y="873"/>
                  </a:lnTo>
                  <a:lnTo>
                    <a:pt x="105" y="812"/>
                  </a:lnTo>
                  <a:lnTo>
                    <a:pt x="131" y="753"/>
                  </a:lnTo>
                  <a:lnTo>
                    <a:pt x="161" y="697"/>
                  </a:lnTo>
                  <a:lnTo>
                    <a:pt x="194" y="640"/>
                  </a:lnTo>
                  <a:lnTo>
                    <a:pt x="228" y="587"/>
                  </a:lnTo>
                  <a:lnTo>
                    <a:pt x="266" y="535"/>
                  </a:lnTo>
                  <a:lnTo>
                    <a:pt x="305" y="484"/>
                  </a:lnTo>
                  <a:lnTo>
                    <a:pt x="347" y="436"/>
                  </a:lnTo>
                  <a:lnTo>
                    <a:pt x="391" y="389"/>
                  </a:lnTo>
                  <a:lnTo>
                    <a:pt x="437" y="345"/>
                  </a:lnTo>
                  <a:lnTo>
                    <a:pt x="485" y="304"/>
                  </a:lnTo>
                  <a:lnTo>
                    <a:pt x="535" y="264"/>
                  </a:lnTo>
                  <a:lnTo>
                    <a:pt x="588" y="226"/>
                  </a:lnTo>
                  <a:lnTo>
                    <a:pt x="642" y="192"/>
                  </a:lnTo>
                  <a:lnTo>
                    <a:pt x="698" y="159"/>
                  </a:lnTo>
                  <a:lnTo>
                    <a:pt x="755" y="131"/>
                  </a:lnTo>
                  <a:lnTo>
                    <a:pt x="814" y="104"/>
                  </a:lnTo>
                  <a:lnTo>
                    <a:pt x="875" y="79"/>
                  </a:lnTo>
                  <a:lnTo>
                    <a:pt x="936" y="58"/>
                  </a:lnTo>
                  <a:lnTo>
                    <a:pt x="1000" y="41"/>
                  </a:lnTo>
                  <a:lnTo>
                    <a:pt x="1064" y="26"/>
                  </a:lnTo>
                  <a:lnTo>
                    <a:pt x="1131" y="14"/>
                  </a:lnTo>
                  <a:lnTo>
                    <a:pt x="1197" y="6"/>
                  </a:lnTo>
                  <a:lnTo>
                    <a:pt x="1265" y="1"/>
                  </a:lnTo>
                  <a:lnTo>
                    <a:pt x="1333" y="0"/>
                  </a:lnTo>
                  <a:lnTo>
                    <a:pt x="1401" y="1"/>
                  </a:lnTo>
                  <a:lnTo>
                    <a:pt x="1469" y="6"/>
                  </a:lnTo>
                  <a:lnTo>
                    <a:pt x="1536" y="14"/>
                  </a:lnTo>
                  <a:lnTo>
                    <a:pt x="1601" y="26"/>
                  </a:lnTo>
                  <a:lnTo>
                    <a:pt x="1666" y="41"/>
                  </a:lnTo>
                  <a:lnTo>
                    <a:pt x="1729" y="58"/>
                  </a:lnTo>
                  <a:lnTo>
                    <a:pt x="1791" y="79"/>
                  </a:lnTo>
                  <a:lnTo>
                    <a:pt x="1852" y="104"/>
                  </a:lnTo>
                  <a:lnTo>
                    <a:pt x="1911" y="131"/>
                  </a:lnTo>
                  <a:lnTo>
                    <a:pt x="1968" y="159"/>
                  </a:lnTo>
                  <a:lnTo>
                    <a:pt x="2024" y="192"/>
                  </a:lnTo>
                  <a:lnTo>
                    <a:pt x="2077" y="226"/>
                  </a:lnTo>
                  <a:lnTo>
                    <a:pt x="2130" y="264"/>
                  </a:lnTo>
                  <a:lnTo>
                    <a:pt x="2181" y="304"/>
                  </a:lnTo>
                  <a:lnTo>
                    <a:pt x="2228" y="345"/>
                  </a:lnTo>
                  <a:lnTo>
                    <a:pt x="2275" y="389"/>
                  </a:lnTo>
                  <a:lnTo>
                    <a:pt x="2320" y="436"/>
                  </a:lnTo>
                  <a:lnTo>
                    <a:pt x="2361" y="484"/>
                  </a:lnTo>
                  <a:lnTo>
                    <a:pt x="2401" y="535"/>
                  </a:lnTo>
                  <a:lnTo>
                    <a:pt x="2438" y="587"/>
                  </a:lnTo>
                  <a:lnTo>
                    <a:pt x="2473" y="640"/>
                  </a:lnTo>
                  <a:lnTo>
                    <a:pt x="2505" y="697"/>
                  </a:lnTo>
                  <a:lnTo>
                    <a:pt x="2534" y="753"/>
                  </a:lnTo>
                  <a:lnTo>
                    <a:pt x="2560" y="812"/>
                  </a:lnTo>
                  <a:lnTo>
                    <a:pt x="2585" y="873"/>
                  </a:lnTo>
                  <a:lnTo>
                    <a:pt x="2606" y="935"/>
                  </a:lnTo>
                  <a:lnTo>
                    <a:pt x="2624" y="999"/>
                  </a:lnTo>
                  <a:lnTo>
                    <a:pt x="2638" y="1063"/>
                  </a:lnTo>
                  <a:lnTo>
                    <a:pt x="2650" y="1128"/>
                  </a:lnTo>
                  <a:lnTo>
                    <a:pt x="2658" y="1195"/>
                  </a:lnTo>
                  <a:lnTo>
                    <a:pt x="2664" y="1263"/>
                  </a:lnTo>
                  <a:lnTo>
                    <a:pt x="2665" y="1332"/>
                  </a:lnTo>
                  <a:close/>
                  <a:moveTo>
                    <a:pt x="2604" y="1332"/>
                  </a:moveTo>
                  <a:lnTo>
                    <a:pt x="2601" y="1266"/>
                  </a:lnTo>
                  <a:lnTo>
                    <a:pt x="2597" y="1202"/>
                  </a:lnTo>
                  <a:lnTo>
                    <a:pt x="2589" y="1137"/>
                  </a:lnTo>
                  <a:lnTo>
                    <a:pt x="2578" y="1075"/>
                  </a:lnTo>
                  <a:lnTo>
                    <a:pt x="2564" y="1014"/>
                  </a:lnTo>
                  <a:lnTo>
                    <a:pt x="2546" y="953"/>
                  </a:lnTo>
                  <a:lnTo>
                    <a:pt x="2526" y="894"/>
                  </a:lnTo>
                  <a:lnTo>
                    <a:pt x="2504" y="836"/>
                  </a:lnTo>
                  <a:lnTo>
                    <a:pt x="2478" y="780"/>
                  </a:lnTo>
                  <a:lnTo>
                    <a:pt x="2451" y="725"/>
                  </a:lnTo>
                  <a:lnTo>
                    <a:pt x="2419" y="672"/>
                  </a:lnTo>
                  <a:lnTo>
                    <a:pt x="2386" y="621"/>
                  </a:lnTo>
                  <a:lnTo>
                    <a:pt x="2352" y="571"/>
                  </a:lnTo>
                  <a:lnTo>
                    <a:pt x="2314" y="523"/>
                  </a:lnTo>
                  <a:lnTo>
                    <a:pt x="2274" y="477"/>
                  </a:lnTo>
                  <a:lnTo>
                    <a:pt x="2232" y="432"/>
                  </a:lnTo>
                  <a:lnTo>
                    <a:pt x="2187" y="390"/>
                  </a:lnTo>
                  <a:lnTo>
                    <a:pt x="2141" y="350"/>
                  </a:lnTo>
                  <a:lnTo>
                    <a:pt x="2093" y="313"/>
                  </a:lnTo>
                  <a:lnTo>
                    <a:pt x="2043" y="278"/>
                  </a:lnTo>
                  <a:lnTo>
                    <a:pt x="1992" y="245"/>
                  </a:lnTo>
                  <a:lnTo>
                    <a:pt x="1939" y="214"/>
                  </a:lnTo>
                  <a:lnTo>
                    <a:pt x="1884" y="186"/>
                  </a:lnTo>
                  <a:lnTo>
                    <a:pt x="1828" y="160"/>
                  </a:lnTo>
                  <a:lnTo>
                    <a:pt x="1770" y="138"/>
                  </a:lnTo>
                  <a:lnTo>
                    <a:pt x="1711" y="118"/>
                  </a:lnTo>
                  <a:lnTo>
                    <a:pt x="1650" y="101"/>
                  </a:lnTo>
                  <a:lnTo>
                    <a:pt x="1589" y="86"/>
                  </a:lnTo>
                  <a:lnTo>
                    <a:pt x="1527" y="75"/>
                  </a:lnTo>
                  <a:lnTo>
                    <a:pt x="1462" y="67"/>
                  </a:lnTo>
                  <a:lnTo>
                    <a:pt x="1398" y="63"/>
                  </a:lnTo>
                  <a:lnTo>
                    <a:pt x="1333" y="61"/>
                  </a:lnTo>
                  <a:lnTo>
                    <a:pt x="1267" y="63"/>
                  </a:lnTo>
                  <a:lnTo>
                    <a:pt x="1203" y="67"/>
                  </a:lnTo>
                  <a:lnTo>
                    <a:pt x="1139" y="75"/>
                  </a:lnTo>
                  <a:lnTo>
                    <a:pt x="1077" y="86"/>
                  </a:lnTo>
                  <a:lnTo>
                    <a:pt x="1015" y="101"/>
                  </a:lnTo>
                  <a:lnTo>
                    <a:pt x="955" y="118"/>
                  </a:lnTo>
                  <a:lnTo>
                    <a:pt x="896" y="138"/>
                  </a:lnTo>
                  <a:lnTo>
                    <a:pt x="839" y="160"/>
                  </a:lnTo>
                  <a:lnTo>
                    <a:pt x="782" y="186"/>
                  </a:lnTo>
                  <a:lnTo>
                    <a:pt x="728" y="214"/>
                  </a:lnTo>
                  <a:lnTo>
                    <a:pt x="674" y="245"/>
                  </a:lnTo>
                  <a:lnTo>
                    <a:pt x="622" y="278"/>
                  </a:lnTo>
                  <a:lnTo>
                    <a:pt x="572" y="313"/>
                  </a:lnTo>
                  <a:lnTo>
                    <a:pt x="524" y="350"/>
                  </a:lnTo>
                  <a:lnTo>
                    <a:pt x="479" y="390"/>
                  </a:lnTo>
                  <a:lnTo>
                    <a:pt x="434" y="432"/>
                  </a:lnTo>
                  <a:lnTo>
                    <a:pt x="392" y="477"/>
                  </a:lnTo>
                  <a:lnTo>
                    <a:pt x="352" y="523"/>
                  </a:lnTo>
                  <a:lnTo>
                    <a:pt x="315" y="571"/>
                  </a:lnTo>
                  <a:lnTo>
                    <a:pt x="279" y="621"/>
                  </a:lnTo>
                  <a:lnTo>
                    <a:pt x="246" y="672"/>
                  </a:lnTo>
                  <a:lnTo>
                    <a:pt x="216" y="725"/>
                  </a:lnTo>
                  <a:lnTo>
                    <a:pt x="188" y="780"/>
                  </a:lnTo>
                  <a:lnTo>
                    <a:pt x="162" y="836"/>
                  </a:lnTo>
                  <a:lnTo>
                    <a:pt x="139" y="894"/>
                  </a:lnTo>
                  <a:lnTo>
                    <a:pt x="119" y="953"/>
                  </a:lnTo>
                  <a:lnTo>
                    <a:pt x="102" y="1014"/>
                  </a:lnTo>
                  <a:lnTo>
                    <a:pt x="88" y="1075"/>
                  </a:lnTo>
                  <a:lnTo>
                    <a:pt x="77" y="1137"/>
                  </a:lnTo>
                  <a:lnTo>
                    <a:pt x="69" y="1202"/>
                  </a:lnTo>
                  <a:lnTo>
                    <a:pt x="64" y="1266"/>
                  </a:lnTo>
                  <a:lnTo>
                    <a:pt x="63" y="1332"/>
                  </a:lnTo>
                  <a:lnTo>
                    <a:pt x="64" y="1397"/>
                  </a:lnTo>
                  <a:lnTo>
                    <a:pt x="69" y="1461"/>
                  </a:lnTo>
                  <a:lnTo>
                    <a:pt x="77" y="1525"/>
                  </a:lnTo>
                  <a:lnTo>
                    <a:pt x="88" y="1587"/>
                  </a:lnTo>
                  <a:lnTo>
                    <a:pt x="102" y="1649"/>
                  </a:lnTo>
                  <a:lnTo>
                    <a:pt x="119" y="1709"/>
                  </a:lnTo>
                  <a:lnTo>
                    <a:pt x="139" y="1769"/>
                  </a:lnTo>
                  <a:lnTo>
                    <a:pt x="162" y="1827"/>
                  </a:lnTo>
                  <a:lnTo>
                    <a:pt x="188" y="1882"/>
                  </a:lnTo>
                  <a:lnTo>
                    <a:pt x="216" y="1938"/>
                  </a:lnTo>
                  <a:lnTo>
                    <a:pt x="246" y="1991"/>
                  </a:lnTo>
                  <a:lnTo>
                    <a:pt x="279" y="2042"/>
                  </a:lnTo>
                  <a:lnTo>
                    <a:pt x="315" y="2092"/>
                  </a:lnTo>
                  <a:lnTo>
                    <a:pt x="352" y="2141"/>
                  </a:lnTo>
                  <a:lnTo>
                    <a:pt x="392" y="2186"/>
                  </a:lnTo>
                  <a:lnTo>
                    <a:pt x="434" y="2231"/>
                  </a:lnTo>
                  <a:lnTo>
                    <a:pt x="479" y="2273"/>
                  </a:lnTo>
                  <a:lnTo>
                    <a:pt x="524" y="2313"/>
                  </a:lnTo>
                  <a:lnTo>
                    <a:pt x="572" y="2351"/>
                  </a:lnTo>
                  <a:lnTo>
                    <a:pt x="622" y="2386"/>
                  </a:lnTo>
                  <a:lnTo>
                    <a:pt x="674" y="2419"/>
                  </a:lnTo>
                  <a:lnTo>
                    <a:pt x="728" y="2450"/>
                  </a:lnTo>
                  <a:lnTo>
                    <a:pt x="782" y="2478"/>
                  </a:lnTo>
                  <a:lnTo>
                    <a:pt x="839" y="2504"/>
                  </a:lnTo>
                  <a:lnTo>
                    <a:pt x="896" y="2526"/>
                  </a:lnTo>
                  <a:lnTo>
                    <a:pt x="955" y="2547"/>
                  </a:lnTo>
                  <a:lnTo>
                    <a:pt x="1015" y="2564"/>
                  </a:lnTo>
                  <a:lnTo>
                    <a:pt x="1077" y="2578"/>
                  </a:lnTo>
                  <a:lnTo>
                    <a:pt x="1139" y="2589"/>
                  </a:lnTo>
                  <a:lnTo>
                    <a:pt x="1203" y="2597"/>
                  </a:lnTo>
                  <a:lnTo>
                    <a:pt x="1267" y="2603"/>
                  </a:lnTo>
                  <a:lnTo>
                    <a:pt x="1333" y="2604"/>
                  </a:lnTo>
                  <a:lnTo>
                    <a:pt x="1398" y="2603"/>
                  </a:lnTo>
                  <a:lnTo>
                    <a:pt x="1462" y="2597"/>
                  </a:lnTo>
                  <a:lnTo>
                    <a:pt x="1527" y="2589"/>
                  </a:lnTo>
                  <a:lnTo>
                    <a:pt x="1589" y="2578"/>
                  </a:lnTo>
                  <a:lnTo>
                    <a:pt x="1650" y="2564"/>
                  </a:lnTo>
                  <a:lnTo>
                    <a:pt x="1711" y="2547"/>
                  </a:lnTo>
                  <a:lnTo>
                    <a:pt x="1770" y="2526"/>
                  </a:lnTo>
                  <a:lnTo>
                    <a:pt x="1828" y="2504"/>
                  </a:lnTo>
                  <a:lnTo>
                    <a:pt x="1884" y="2478"/>
                  </a:lnTo>
                  <a:lnTo>
                    <a:pt x="1939" y="2450"/>
                  </a:lnTo>
                  <a:lnTo>
                    <a:pt x="1992" y="2419"/>
                  </a:lnTo>
                  <a:lnTo>
                    <a:pt x="2043" y="2386"/>
                  </a:lnTo>
                  <a:lnTo>
                    <a:pt x="2093" y="2351"/>
                  </a:lnTo>
                  <a:lnTo>
                    <a:pt x="2141" y="2313"/>
                  </a:lnTo>
                  <a:lnTo>
                    <a:pt x="2187" y="2273"/>
                  </a:lnTo>
                  <a:lnTo>
                    <a:pt x="2232" y="2231"/>
                  </a:lnTo>
                  <a:lnTo>
                    <a:pt x="2274" y="2186"/>
                  </a:lnTo>
                  <a:lnTo>
                    <a:pt x="2314" y="2141"/>
                  </a:lnTo>
                  <a:lnTo>
                    <a:pt x="2352" y="2092"/>
                  </a:lnTo>
                  <a:lnTo>
                    <a:pt x="2386" y="2042"/>
                  </a:lnTo>
                  <a:lnTo>
                    <a:pt x="2419" y="1991"/>
                  </a:lnTo>
                  <a:lnTo>
                    <a:pt x="2451" y="1938"/>
                  </a:lnTo>
                  <a:lnTo>
                    <a:pt x="2478" y="1882"/>
                  </a:lnTo>
                  <a:lnTo>
                    <a:pt x="2504" y="1827"/>
                  </a:lnTo>
                  <a:lnTo>
                    <a:pt x="2526" y="1769"/>
                  </a:lnTo>
                  <a:lnTo>
                    <a:pt x="2546" y="1709"/>
                  </a:lnTo>
                  <a:lnTo>
                    <a:pt x="2564" y="1649"/>
                  </a:lnTo>
                  <a:lnTo>
                    <a:pt x="2578" y="1587"/>
                  </a:lnTo>
                  <a:lnTo>
                    <a:pt x="2589" y="1525"/>
                  </a:lnTo>
                  <a:lnTo>
                    <a:pt x="2597" y="1461"/>
                  </a:lnTo>
                  <a:lnTo>
                    <a:pt x="2601" y="1397"/>
                  </a:lnTo>
                  <a:lnTo>
                    <a:pt x="2604" y="1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5120" y="4433040"/>
              <a:ext cx="1323360" cy="326520"/>
            </a:xfrm>
            <a:custGeom>
              <a:avLst/>
              <a:gdLst/>
              <a:ahLst/>
              <a:rect l="l" t="t" r="r" b="b"/>
              <a:pathLst>
                <a:path w="2722" h="680">
                  <a:moveTo>
                    <a:pt x="2722" y="644"/>
                  </a:moveTo>
                  <a:lnTo>
                    <a:pt x="2705" y="625"/>
                  </a:lnTo>
                  <a:lnTo>
                    <a:pt x="2656" y="575"/>
                  </a:lnTo>
                  <a:lnTo>
                    <a:pt x="2621" y="540"/>
                  </a:lnTo>
                  <a:lnTo>
                    <a:pt x="2579" y="501"/>
                  </a:lnTo>
                  <a:lnTo>
                    <a:pt x="2531" y="459"/>
                  </a:lnTo>
                  <a:lnTo>
                    <a:pt x="2478" y="415"/>
                  </a:lnTo>
                  <a:lnTo>
                    <a:pt x="2420" y="368"/>
                  </a:lnTo>
                  <a:lnTo>
                    <a:pt x="2357" y="323"/>
                  </a:lnTo>
                  <a:lnTo>
                    <a:pt x="2290" y="277"/>
                  </a:lnTo>
                  <a:lnTo>
                    <a:pt x="2220" y="234"/>
                  </a:lnTo>
                  <a:lnTo>
                    <a:pt x="2147" y="193"/>
                  </a:lnTo>
                  <a:lnTo>
                    <a:pt x="2072" y="157"/>
                  </a:lnTo>
                  <a:lnTo>
                    <a:pt x="2033" y="141"/>
                  </a:lnTo>
                  <a:lnTo>
                    <a:pt x="1994" y="126"/>
                  </a:lnTo>
                  <a:lnTo>
                    <a:pt x="1954" y="113"/>
                  </a:lnTo>
                  <a:lnTo>
                    <a:pt x="1914" y="102"/>
                  </a:lnTo>
                  <a:lnTo>
                    <a:pt x="1778" y="66"/>
                  </a:lnTo>
                  <a:lnTo>
                    <a:pt x="1659" y="39"/>
                  </a:lnTo>
                  <a:lnTo>
                    <a:pt x="1603" y="28"/>
                  </a:lnTo>
                  <a:lnTo>
                    <a:pt x="1550" y="18"/>
                  </a:lnTo>
                  <a:lnTo>
                    <a:pt x="1499" y="10"/>
                  </a:lnTo>
                  <a:lnTo>
                    <a:pt x="1449" y="4"/>
                  </a:lnTo>
                  <a:lnTo>
                    <a:pt x="1399" y="1"/>
                  </a:lnTo>
                  <a:lnTo>
                    <a:pt x="1349" y="0"/>
                  </a:lnTo>
                  <a:lnTo>
                    <a:pt x="1298" y="0"/>
                  </a:lnTo>
                  <a:lnTo>
                    <a:pt x="1246" y="3"/>
                  </a:lnTo>
                  <a:lnTo>
                    <a:pt x="1191" y="9"/>
                  </a:lnTo>
                  <a:lnTo>
                    <a:pt x="1135" y="15"/>
                  </a:lnTo>
                  <a:lnTo>
                    <a:pt x="1075" y="25"/>
                  </a:lnTo>
                  <a:lnTo>
                    <a:pt x="1011" y="37"/>
                  </a:lnTo>
                  <a:lnTo>
                    <a:pt x="881" y="67"/>
                  </a:lnTo>
                  <a:lnTo>
                    <a:pt x="754" y="97"/>
                  </a:lnTo>
                  <a:lnTo>
                    <a:pt x="628" y="125"/>
                  </a:lnTo>
                  <a:lnTo>
                    <a:pt x="566" y="137"/>
                  </a:lnTo>
                  <a:lnTo>
                    <a:pt x="505" y="147"/>
                  </a:lnTo>
                  <a:lnTo>
                    <a:pt x="445" y="155"/>
                  </a:lnTo>
                  <a:lnTo>
                    <a:pt x="384" y="162"/>
                  </a:lnTo>
                  <a:lnTo>
                    <a:pt x="324" y="164"/>
                  </a:lnTo>
                  <a:lnTo>
                    <a:pt x="265" y="164"/>
                  </a:lnTo>
                  <a:lnTo>
                    <a:pt x="206" y="160"/>
                  </a:lnTo>
                  <a:lnTo>
                    <a:pt x="149" y="151"/>
                  </a:lnTo>
                  <a:lnTo>
                    <a:pt x="91" y="137"/>
                  </a:lnTo>
                  <a:lnTo>
                    <a:pt x="33" y="120"/>
                  </a:lnTo>
                  <a:lnTo>
                    <a:pt x="15" y="115"/>
                  </a:lnTo>
                  <a:lnTo>
                    <a:pt x="8" y="115"/>
                  </a:lnTo>
                  <a:lnTo>
                    <a:pt x="3" y="117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3" y="133"/>
                  </a:lnTo>
                  <a:lnTo>
                    <a:pt x="11" y="143"/>
                  </a:lnTo>
                  <a:lnTo>
                    <a:pt x="32" y="166"/>
                  </a:lnTo>
                  <a:lnTo>
                    <a:pt x="58" y="194"/>
                  </a:lnTo>
                  <a:lnTo>
                    <a:pt x="90" y="224"/>
                  </a:lnTo>
                  <a:lnTo>
                    <a:pt x="130" y="255"/>
                  </a:lnTo>
                  <a:lnTo>
                    <a:pt x="156" y="271"/>
                  </a:lnTo>
                  <a:lnTo>
                    <a:pt x="194" y="288"/>
                  </a:lnTo>
                  <a:lnTo>
                    <a:pt x="242" y="305"/>
                  </a:lnTo>
                  <a:lnTo>
                    <a:pt x="296" y="323"/>
                  </a:lnTo>
                  <a:lnTo>
                    <a:pt x="356" y="339"/>
                  </a:lnTo>
                  <a:lnTo>
                    <a:pt x="422" y="355"/>
                  </a:lnTo>
                  <a:lnTo>
                    <a:pt x="490" y="368"/>
                  </a:lnTo>
                  <a:lnTo>
                    <a:pt x="559" y="380"/>
                  </a:lnTo>
                  <a:lnTo>
                    <a:pt x="626" y="389"/>
                  </a:lnTo>
                  <a:lnTo>
                    <a:pt x="686" y="396"/>
                  </a:lnTo>
                  <a:lnTo>
                    <a:pt x="745" y="398"/>
                  </a:lnTo>
                  <a:lnTo>
                    <a:pt x="804" y="396"/>
                  </a:lnTo>
                  <a:lnTo>
                    <a:pt x="867" y="388"/>
                  </a:lnTo>
                  <a:lnTo>
                    <a:pt x="938" y="375"/>
                  </a:lnTo>
                  <a:lnTo>
                    <a:pt x="1019" y="354"/>
                  </a:lnTo>
                  <a:lnTo>
                    <a:pt x="1115" y="326"/>
                  </a:lnTo>
                  <a:lnTo>
                    <a:pt x="1210" y="294"/>
                  </a:lnTo>
                  <a:lnTo>
                    <a:pt x="1294" y="263"/>
                  </a:lnTo>
                  <a:lnTo>
                    <a:pt x="1371" y="234"/>
                  </a:lnTo>
                  <a:lnTo>
                    <a:pt x="1444" y="208"/>
                  </a:lnTo>
                  <a:lnTo>
                    <a:pt x="1481" y="197"/>
                  </a:lnTo>
                  <a:lnTo>
                    <a:pt x="1518" y="187"/>
                  </a:lnTo>
                  <a:lnTo>
                    <a:pt x="1555" y="178"/>
                  </a:lnTo>
                  <a:lnTo>
                    <a:pt x="1594" y="171"/>
                  </a:lnTo>
                  <a:lnTo>
                    <a:pt x="1634" y="165"/>
                  </a:lnTo>
                  <a:lnTo>
                    <a:pt x="1677" y="161"/>
                  </a:lnTo>
                  <a:lnTo>
                    <a:pt x="1723" y="157"/>
                  </a:lnTo>
                  <a:lnTo>
                    <a:pt x="1772" y="156"/>
                  </a:lnTo>
                  <a:lnTo>
                    <a:pt x="1823" y="157"/>
                  </a:lnTo>
                  <a:lnTo>
                    <a:pt x="1870" y="161"/>
                  </a:lnTo>
                  <a:lnTo>
                    <a:pt x="1912" y="166"/>
                  </a:lnTo>
                  <a:lnTo>
                    <a:pt x="1953" y="175"/>
                  </a:lnTo>
                  <a:lnTo>
                    <a:pt x="1991" y="187"/>
                  </a:lnTo>
                  <a:lnTo>
                    <a:pt x="2028" y="203"/>
                  </a:lnTo>
                  <a:lnTo>
                    <a:pt x="2067" y="223"/>
                  </a:lnTo>
                  <a:lnTo>
                    <a:pt x="2107" y="248"/>
                  </a:lnTo>
                  <a:lnTo>
                    <a:pt x="2149" y="279"/>
                  </a:lnTo>
                  <a:lnTo>
                    <a:pt x="2194" y="315"/>
                  </a:lnTo>
                  <a:lnTo>
                    <a:pt x="2244" y="358"/>
                  </a:lnTo>
                  <a:lnTo>
                    <a:pt x="2299" y="407"/>
                  </a:lnTo>
                  <a:lnTo>
                    <a:pt x="2429" y="527"/>
                  </a:lnTo>
                  <a:lnTo>
                    <a:pt x="2592" y="680"/>
                  </a:lnTo>
                  <a:lnTo>
                    <a:pt x="2688" y="654"/>
                  </a:lnTo>
                  <a:lnTo>
                    <a:pt x="2722" y="6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14600" y="4037040"/>
              <a:ext cx="705600" cy="433440"/>
            </a:xfrm>
            <a:custGeom>
              <a:avLst/>
              <a:gdLst/>
              <a:ahLst/>
              <a:rect l="l" t="t" r="r" b="b"/>
              <a:pathLst>
                <a:path w="1450" h="914">
                  <a:moveTo>
                    <a:pt x="1358" y="838"/>
                  </a:moveTo>
                  <a:lnTo>
                    <a:pt x="1314" y="841"/>
                  </a:lnTo>
                  <a:lnTo>
                    <a:pt x="1252" y="852"/>
                  </a:lnTo>
                  <a:lnTo>
                    <a:pt x="1177" y="869"/>
                  </a:lnTo>
                  <a:lnTo>
                    <a:pt x="1099" y="890"/>
                  </a:lnTo>
                  <a:lnTo>
                    <a:pt x="1061" y="900"/>
                  </a:lnTo>
                  <a:lnTo>
                    <a:pt x="1023" y="908"/>
                  </a:lnTo>
                  <a:lnTo>
                    <a:pt x="984" y="912"/>
                  </a:lnTo>
                  <a:lnTo>
                    <a:pt x="944" y="914"/>
                  </a:lnTo>
                  <a:lnTo>
                    <a:pt x="904" y="914"/>
                  </a:lnTo>
                  <a:lnTo>
                    <a:pt x="861" y="912"/>
                  </a:lnTo>
                  <a:lnTo>
                    <a:pt x="766" y="903"/>
                  </a:lnTo>
                  <a:lnTo>
                    <a:pt x="660" y="889"/>
                  </a:lnTo>
                  <a:lnTo>
                    <a:pt x="603" y="878"/>
                  </a:lnTo>
                  <a:lnTo>
                    <a:pt x="545" y="863"/>
                  </a:lnTo>
                  <a:lnTo>
                    <a:pt x="518" y="853"/>
                  </a:lnTo>
                  <a:lnTo>
                    <a:pt x="489" y="842"/>
                  </a:lnTo>
                  <a:lnTo>
                    <a:pt x="460" y="830"/>
                  </a:lnTo>
                  <a:lnTo>
                    <a:pt x="432" y="815"/>
                  </a:lnTo>
                  <a:lnTo>
                    <a:pt x="403" y="797"/>
                  </a:lnTo>
                  <a:lnTo>
                    <a:pt x="377" y="778"/>
                  </a:lnTo>
                  <a:lnTo>
                    <a:pt x="349" y="755"/>
                  </a:lnTo>
                  <a:lnTo>
                    <a:pt x="323" y="730"/>
                  </a:lnTo>
                  <a:lnTo>
                    <a:pt x="270" y="675"/>
                  </a:lnTo>
                  <a:lnTo>
                    <a:pt x="218" y="616"/>
                  </a:lnTo>
                  <a:lnTo>
                    <a:pt x="168" y="558"/>
                  </a:lnTo>
                  <a:lnTo>
                    <a:pt x="122" y="503"/>
                  </a:lnTo>
                  <a:lnTo>
                    <a:pt x="48" y="411"/>
                  </a:lnTo>
                  <a:lnTo>
                    <a:pt x="10" y="359"/>
                  </a:lnTo>
                  <a:lnTo>
                    <a:pt x="5" y="349"/>
                  </a:lnTo>
                  <a:lnTo>
                    <a:pt x="1" y="341"/>
                  </a:lnTo>
                  <a:lnTo>
                    <a:pt x="0" y="334"/>
                  </a:lnTo>
                  <a:lnTo>
                    <a:pt x="3" y="331"/>
                  </a:lnTo>
                  <a:lnTo>
                    <a:pt x="7" y="331"/>
                  </a:lnTo>
                  <a:lnTo>
                    <a:pt x="14" y="333"/>
                  </a:lnTo>
                  <a:lnTo>
                    <a:pt x="23" y="338"/>
                  </a:lnTo>
                  <a:lnTo>
                    <a:pt x="34" y="348"/>
                  </a:lnTo>
                  <a:lnTo>
                    <a:pt x="49" y="363"/>
                  </a:lnTo>
                  <a:lnTo>
                    <a:pt x="73" y="382"/>
                  </a:lnTo>
                  <a:lnTo>
                    <a:pt x="104" y="405"/>
                  </a:lnTo>
                  <a:lnTo>
                    <a:pt x="144" y="429"/>
                  </a:lnTo>
                  <a:lnTo>
                    <a:pt x="194" y="455"/>
                  </a:lnTo>
                  <a:lnTo>
                    <a:pt x="222" y="468"/>
                  </a:lnTo>
                  <a:lnTo>
                    <a:pt x="253" y="480"/>
                  </a:lnTo>
                  <a:lnTo>
                    <a:pt x="287" y="492"/>
                  </a:lnTo>
                  <a:lnTo>
                    <a:pt x="323" y="503"/>
                  </a:lnTo>
                  <a:lnTo>
                    <a:pt x="363" y="513"/>
                  </a:lnTo>
                  <a:lnTo>
                    <a:pt x="406" y="522"/>
                  </a:lnTo>
                  <a:lnTo>
                    <a:pt x="489" y="538"/>
                  </a:lnTo>
                  <a:lnTo>
                    <a:pt x="563" y="555"/>
                  </a:lnTo>
                  <a:lnTo>
                    <a:pt x="632" y="573"/>
                  </a:lnTo>
                  <a:lnTo>
                    <a:pt x="696" y="594"/>
                  </a:lnTo>
                  <a:lnTo>
                    <a:pt x="759" y="616"/>
                  </a:lnTo>
                  <a:lnTo>
                    <a:pt x="823" y="644"/>
                  </a:lnTo>
                  <a:lnTo>
                    <a:pt x="890" y="675"/>
                  </a:lnTo>
                  <a:lnTo>
                    <a:pt x="961" y="712"/>
                  </a:lnTo>
                  <a:lnTo>
                    <a:pt x="997" y="731"/>
                  </a:lnTo>
                  <a:lnTo>
                    <a:pt x="1036" y="748"/>
                  </a:lnTo>
                  <a:lnTo>
                    <a:pt x="1076" y="763"/>
                  </a:lnTo>
                  <a:lnTo>
                    <a:pt x="1118" y="776"/>
                  </a:lnTo>
                  <a:lnTo>
                    <a:pt x="1163" y="786"/>
                  </a:lnTo>
                  <a:lnTo>
                    <a:pt x="1207" y="791"/>
                  </a:lnTo>
                  <a:lnTo>
                    <a:pt x="1254" y="792"/>
                  </a:lnTo>
                  <a:lnTo>
                    <a:pt x="1300" y="789"/>
                  </a:lnTo>
                  <a:lnTo>
                    <a:pt x="1258" y="766"/>
                  </a:lnTo>
                  <a:lnTo>
                    <a:pt x="1224" y="749"/>
                  </a:lnTo>
                  <a:lnTo>
                    <a:pt x="1169" y="725"/>
                  </a:lnTo>
                  <a:lnTo>
                    <a:pt x="1122" y="704"/>
                  </a:lnTo>
                  <a:lnTo>
                    <a:pt x="1096" y="689"/>
                  </a:lnTo>
                  <a:lnTo>
                    <a:pt x="1067" y="671"/>
                  </a:lnTo>
                  <a:lnTo>
                    <a:pt x="1035" y="651"/>
                  </a:lnTo>
                  <a:lnTo>
                    <a:pt x="1005" y="628"/>
                  </a:lnTo>
                  <a:lnTo>
                    <a:pt x="975" y="604"/>
                  </a:lnTo>
                  <a:lnTo>
                    <a:pt x="946" y="577"/>
                  </a:lnTo>
                  <a:lnTo>
                    <a:pt x="917" y="548"/>
                  </a:lnTo>
                  <a:lnTo>
                    <a:pt x="891" y="516"/>
                  </a:lnTo>
                  <a:lnTo>
                    <a:pt x="864" y="482"/>
                  </a:lnTo>
                  <a:lnTo>
                    <a:pt x="840" y="443"/>
                  </a:lnTo>
                  <a:lnTo>
                    <a:pt x="816" y="402"/>
                  </a:lnTo>
                  <a:lnTo>
                    <a:pt x="796" y="359"/>
                  </a:lnTo>
                  <a:lnTo>
                    <a:pt x="780" y="318"/>
                  </a:lnTo>
                  <a:lnTo>
                    <a:pt x="766" y="277"/>
                  </a:lnTo>
                  <a:lnTo>
                    <a:pt x="755" y="240"/>
                  </a:lnTo>
                  <a:lnTo>
                    <a:pt x="746" y="205"/>
                  </a:lnTo>
                  <a:lnTo>
                    <a:pt x="741" y="175"/>
                  </a:lnTo>
                  <a:lnTo>
                    <a:pt x="738" y="152"/>
                  </a:lnTo>
                  <a:lnTo>
                    <a:pt x="735" y="113"/>
                  </a:lnTo>
                  <a:lnTo>
                    <a:pt x="735" y="82"/>
                  </a:lnTo>
                  <a:lnTo>
                    <a:pt x="735" y="56"/>
                  </a:lnTo>
                  <a:lnTo>
                    <a:pt x="733" y="44"/>
                  </a:lnTo>
                  <a:lnTo>
                    <a:pt x="730" y="34"/>
                  </a:lnTo>
                  <a:lnTo>
                    <a:pt x="724" y="15"/>
                  </a:lnTo>
                  <a:lnTo>
                    <a:pt x="724" y="8"/>
                  </a:lnTo>
                  <a:lnTo>
                    <a:pt x="725" y="3"/>
                  </a:lnTo>
                  <a:lnTo>
                    <a:pt x="729" y="0"/>
                  </a:lnTo>
                  <a:lnTo>
                    <a:pt x="734" y="1"/>
                  </a:lnTo>
                  <a:lnTo>
                    <a:pt x="741" y="5"/>
                  </a:lnTo>
                  <a:lnTo>
                    <a:pt x="749" y="14"/>
                  </a:lnTo>
                  <a:lnTo>
                    <a:pt x="775" y="46"/>
                  </a:lnTo>
                  <a:lnTo>
                    <a:pt x="816" y="90"/>
                  </a:lnTo>
                  <a:lnTo>
                    <a:pt x="867" y="141"/>
                  </a:lnTo>
                  <a:lnTo>
                    <a:pt x="896" y="166"/>
                  </a:lnTo>
                  <a:lnTo>
                    <a:pt x="926" y="192"/>
                  </a:lnTo>
                  <a:lnTo>
                    <a:pt x="987" y="243"/>
                  </a:lnTo>
                  <a:lnTo>
                    <a:pt x="1017" y="271"/>
                  </a:lnTo>
                  <a:lnTo>
                    <a:pt x="1046" y="301"/>
                  </a:lnTo>
                  <a:lnTo>
                    <a:pt x="1075" y="333"/>
                  </a:lnTo>
                  <a:lnTo>
                    <a:pt x="1102" y="369"/>
                  </a:lnTo>
                  <a:lnTo>
                    <a:pt x="1128" y="409"/>
                  </a:lnTo>
                  <a:lnTo>
                    <a:pt x="1154" y="456"/>
                  </a:lnTo>
                  <a:lnTo>
                    <a:pt x="1195" y="543"/>
                  </a:lnTo>
                  <a:lnTo>
                    <a:pt x="1212" y="579"/>
                  </a:lnTo>
                  <a:lnTo>
                    <a:pt x="1229" y="613"/>
                  </a:lnTo>
                  <a:lnTo>
                    <a:pt x="1248" y="644"/>
                  </a:lnTo>
                  <a:lnTo>
                    <a:pt x="1273" y="675"/>
                  </a:lnTo>
                  <a:lnTo>
                    <a:pt x="1303" y="706"/>
                  </a:lnTo>
                  <a:lnTo>
                    <a:pt x="1340" y="738"/>
                  </a:lnTo>
                  <a:lnTo>
                    <a:pt x="1409" y="790"/>
                  </a:lnTo>
                  <a:lnTo>
                    <a:pt x="1430" y="808"/>
                  </a:lnTo>
                  <a:lnTo>
                    <a:pt x="1445" y="821"/>
                  </a:lnTo>
                  <a:lnTo>
                    <a:pt x="1450" y="829"/>
                  </a:lnTo>
                  <a:lnTo>
                    <a:pt x="1450" y="832"/>
                  </a:lnTo>
                  <a:lnTo>
                    <a:pt x="1448" y="835"/>
                  </a:lnTo>
                  <a:lnTo>
                    <a:pt x="1437" y="837"/>
                  </a:lnTo>
                  <a:lnTo>
                    <a:pt x="1419" y="838"/>
                  </a:lnTo>
                  <a:lnTo>
                    <a:pt x="1358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3960" y="3794040"/>
              <a:ext cx="531360" cy="493920"/>
            </a:xfrm>
            <a:custGeom>
              <a:avLst/>
              <a:gdLst/>
              <a:ahLst/>
              <a:rect l="l" t="t" r="r" b="b"/>
              <a:pathLst>
                <a:path w="1101" h="1046">
                  <a:moveTo>
                    <a:pt x="1059" y="1032"/>
                  </a:moveTo>
                  <a:lnTo>
                    <a:pt x="870" y="971"/>
                  </a:lnTo>
                  <a:lnTo>
                    <a:pt x="730" y="925"/>
                  </a:lnTo>
                  <a:lnTo>
                    <a:pt x="614" y="882"/>
                  </a:lnTo>
                  <a:lnTo>
                    <a:pt x="564" y="862"/>
                  </a:lnTo>
                  <a:lnTo>
                    <a:pt x="508" y="836"/>
                  </a:lnTo>
                  <a:lnTo>
                    <a:pt x="449" y="804"/>
                  </a:lnTo>
                  <a:lnTo>
                    <a:pt x="420" y="785"/>
                  </a:lnTo>
                  <a:lnTo>
                    <a:pt x="391" y="764"/>
                  </a:lnTo>
                  <a:lnTo>
                    <a:pt x="361" y="741"/>
                  </a:lnTo>
                  <a:lnTo>
                    <a:pt x="332" y="716"/>
                  </a:lnTo>
                  <a:lnTo>
                    <a:pt x="303" y="689"/>
                  </a:lnTo>
                  <a:lnTo>
                    <a:pt x="276" y="659"/>
                  </a:lnTo>
                  <a:lnTo>
                    <a:pt x="251" y="627"/>
                  </a:lnTo>
                  <a:lnTo>
                    <a:pt x="227" y="593"/>
                  </a:lnTo>
                  <a:lnTo>
                    <a:pt x="205" y="555"/>
                  </a:lnTo>
                  <a:lnTo>
                    <a:pt x="186" y="515"/>
                  </a:lnTo>
                  <a:lnTo>
                    <a:pt x="119" y="361"/>
                  </a:lnTo>
                  <a:lnTo>
                    <a:pt x="62" y="236"/>
                  </a:lnTo>
                  <a:lnTo>
                    <a:pt x="40" y="184"/>
                  </a:lnTo>
                  <a:lnTo>
                    <a:pt x="22" y="141"/>
                  </a:lnTo>
                  <a:lnTo>
                    <a:pt x="10" y="105"/>
                  </a:lnTo>
                  <a:lnTo>
                    <a:pt x="4" y="79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4" y="8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21" y="7"/>
                  </a:lnTo>
                  <a:lnTo>
                    <a:pt x="51" y="51"/>
                  </a:lnTo>
                  <a:lnTo>
                    <a:pt x="118" y="145"/>
                  </a:lnTo>
                  <a:lnTo>
                    <a:pt x="160" y="201"/>
                  </a:lnTo>
                  <a:lnTo>
                    <a:pt x="204" y="255"/>
                  </a:lnTo>
                  <a:lnTo>
                    <a:pt x="249" y="305"/>
                  </a:lnTo>
                  <a:lnTo>
                    <a:pt x="271" y="327"/>
                  </a:lnTo>
                  <a:lnTo>
                    <a:pt x="293" y="346"/>
                  </a:lnTo>
                  <a:lnTo>
                    <a:pt x="336" y="382"/>
                  </a:lnTo>
                  <a:lnTo>
                    <a:pt x="381" y="415"/>
                  </a:lnTo>
                  <a:lnTo>
                    <a:pt x="473" y="480"/>
                  </a:lnTo>
                  <a:lnTo>
                    <a:pt x="558" y="539"/>
                  </a:lnTo>
                  <a:lnTo>
                    <a:pt x="595" y="568"/>
                  </a:lnTo>
                  <a:lnTo>
                    <a:pt x="628" y="595"/>
                  </a:lnTo>
                  <a:lnTo>
                    <a:pt x="687" y="650"/>
                  </a:lnTo>
                  <a:lnTo>
                    <a:pt x="745" y="708"/>
                  </a:lnTo>
                  <a:lnTo>
                    <a:pt x="854" y="820"/>
                  </a:lnTo>
                  <a:lnTo>
                    <a:pt x="878" y="845"/>
                  </a:lnTo>
                  <a:lnTo>
                    <a:pt x="900" y="866"/>
                  </a:lnTo>
                  <a:lnTo>
                    <a:pt x="921" y="882"/>
                  </a:lnTo>
                  <a:lnTo>
                    <a:pt x="938" y="895"/>
                  </a:lnTo>
                  <a:lnTo>
                    <a:pt x="964" y="910"/>
                  </a:lnTo>
                  <a:lnTo>
                    <a:pt x="972" y="915"/>
                  </a:lnTo>
                  <a:lnTo>
                    <a:pt x="914" y="823"/>
                  </a:lnTo>
                  <a:lnTo>
                    <a:pt x="813" y="670"/>
                  </a:lnTo>
                  <a:lnTo>
                    <a:pt x="774" y="612"/>
                  </a:lnTo>
                  <a:lnTo>
                    <a:pt x="755" y="582"/>
                  </a:lnTo>
                  <a:lnTo>
                    <a:pt x="738" y="551"/>
                  </a:lnTo>
                  <a:lnTo>
                    <a:pt x="725" y="517"/>
                  </a:lnTo>
                  <a:lnTo>
                    <a:pt x="714" y="482"/>
                  </a:lnTo>
                  <a:lnTo>
                    <a:pt x="707" y="444"/>
                  </a:lnTo>
                  <a:lnTo>
                    <a:pt x="706" y="424"/>
                  </a:lnTo>
                  <a:lnTo>
                    <a:pt x="705" y="403"/>
                  </a:lnTo>
                  <a:lnTo>
                    <a:pt x="708" y="203"/>
                  </a:lnTo>
                  <a:lnTo>
                    <a:pt x="713" y="71"/>
                  </a:lnTo>
                  <a:lnTo>
                    <a:pt x="715" y="55"/>
                  </a:lnTo>
                  <a:lnTo>
                    <a:pt x="716" y="50"/>
                  </a:lnTo>
                  <a:lnTo>
                    <a:pt x="718" y="48"/>
                  </a:lnTo>
                  <a:lnTo>
                    <a:pt x="721" y="48"/>
                  </a:lnTo>
                  <a:lnTo>
                    <a:pt x="726" y="50"/>
                  </a:lnTo>
                  <a:lnTo>
                    <a:pt x="738" y="63"/>
                  </a:lnTo>
                  <a:lnTo>
                    <a:pt x="764" y="97"/>
                  </a:lnTo>
                  <a:lnTo>
                    <a:pt x="808" y="154"/>
                  </a:lnTo>
                  <a:lnTo>
                    <a:pt x="834" y="190"/>
                  </a:lnTo>
                  <a:lnTo>
                    <a:pt x="859" y="228"/>
                  </a:lnTo>
                  <a:lnTo>
                    <a:pt x="885" y="269"/>
                  </a:lnTo>
                  <a:lnTo>
                    <a:pt x="907" y="310"/>
                  </a:lnTo>
                  <a:lnTo>
                    <a:pt x="928" y="352"/>
                  </a:lnTo>
                  <a:lnTo>
                    <a:pt x="946" y="395"/>
                  </a:lnTo>
                  <a:lnTo>
                    <a:pt x="961" y="436"/>
                  </a:lnTo>
                  <a:lnTo>
                    <a:pt x="975" y="476"/>
                  </a:lnTo>
                  <a:lnTo>
                    <a:pt x="985" y="513"/>
                  </a:lnTo>
                  <a:lnTo>
                    <a:pt x="992" y="545"/>
                  </a:lnTo>
                  <a:lnTo>
                    <a:pt x="997" y="573"/>
                  </a:lnTo>
                  <a:lnTo>
                    <a:pt x="998" y="594"/>
                  </a:lnTo>
                  <a:lnTo>
                    <a:pt x="999" y="679"/>
                  </a:lnTo>
                  <a:lnTo>
                    <a:pt x="1002" y="727"/>
                  </a:lnTo>
                  <a:lnTo>
                    <a:pt x="1009" y="770"/>
                  </a:lnTo>
                  <a:lnTo>
                    <a:pt x="1025" y="825"/>
                  </a:lnTo>
                  <a:lnTo>
                    <a:pt x="1047" y="897"/>
                  </a:lnTo>
                  <a:lnTo>
                    <a:pt x="1071" y="967"/>
                  </a:lnTo>
                  <a:lnTo>
                    <a:pt x="1090" y="1016"/>
                  </a:lnTo>
                  <a:lnTo>
                    <a:pt x="1100" y="1038"/>
                  </a:lnTo>
                  <a:lnTo>
                    <a:pt x="1101" y="1043"/>
                  </a:lnTo>
                  <a:lnTo>
                    <a:pt x="1099" y="1046"/>
                  </a:lnTo>
                  <a:lnTo>
                    <a:pt x="1093" y="1046"/>
                  </a:lnTo>
                  <a:lnTo>
                    <a:pt x="1086" y="1043"/>
                  </a:lnTo>
                  <a:lnTo>
                    <a:pt x="1059" y="10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82840" y="3770640"/>
              <a:ext cx="243720" cy="212760"/>
            </a:xfrm>
            <a:custGeom>
              <a:avLst/>
              <a:gdLst/>
              <a:ahLst/>
              <a:rect l="l" t="t" r="r" b="b"/>
              <a:pathLst>
                <a:path w="505" h="452">
                  <a:moveTo>
                    <a:pt x="0" y="0"/>
                  </a:moveTo>
                  <a:lnTo>
                    <a:pt x="68" y="76"/>
                  </a:lnTo>
                  <a:lnTo>
                    <a:pt x="132" y="145"/>
                  </a:lnTo>
                  <a:lnTo>
                    <a:pt x="166" y="179"/>
                  </a:lnTo>
                  <a:lnTo>
                    <a:pt x="199" y="210"/>
                  </a:lnTo>
                  <a:lnTo>
                    <a:pt x="272" y="278"/>
                  </a:lnTo>
                  <a:lnTo>
                    <a:pt x="352" y="349"/>
                  </a:lnTo>
                  <a:lnTo>
                    <a:pt x="419" y="409"/>
                  </a:lnTo>
                  <a:lnTo>
                    <a:pt x="453" y="442"/>
                  </a:lnTo>
                  <a:lnTo>
                    <a:pt x="463" y="451"/>
                  </a:lnTo>
                  <a:lnTo>
                    <a:pt x="467" y="452"/>
                  </a:lnTo>
                  <a:lnTo>
                    <a:pt x="470" y="452"/>
                  </a:lnTo>
                  <a:lnTo>
                    <a:pt x="472" y="449"/>
                  </a:lnTo>
                  <a:lnTo>
                    <a:pt x="474" y="443"/>
                  </a:lnTo>
                  <a:lnTo>
                    <a:pt x="477" y="429"/>
                  </a:lnTo>
                  <a:lnTo>
                    <a:pt x="481" y="318"/>
                  </a:lnTo>
                  <a:lnTo>
                    <a:pt x="487" y="238"/>
                  </a:lnTo>
                  <a:lnTo>
                    <a:pt x="494" y="168"/>
                  </a:lnTo>
                  <a:lnTo>
                    <a:pt x="501" y="109"/>
                  </a:lnTo>
                  <a:lnTo>
                    <a:pt x="504" y="56"/>
                  </a:lnTo>
                  <a:lnTo>
                    <a:pt x="505" y="0"/>
                  </a:lnTo>
                  <a:lnTo>
                    <a:pt x="322" y="0"/>
                  </a:lnTo>
                  <a:lnTo>
                    <a:pt x="347" y="65"/>
                  </a:lnTo>
                  <a:lnTo>
                    <a:pt x="365" y="120"/>
                  </a:lnTo>
                  <a:lnTo>
                    <a:pt x="380" y="168"/>
                  </a:lnTo>
                  <a:lnTo>
                    <a:pt x="388" y="202"/>
                  </a:lnTo>
                  <a:lnTo>
                    <a:pt x="391" y="226"/>
                  </a:lnTo>
                  <a:lnTo>
                    <a:pt x="392" y="243"/>
                  </a:lnTo>
                  <a:lnTo>
                    <a:pt x="385" y="237"/>
                  </a:lnTo>
                  <a:lnTo>
                    <a:pt x="370" y="215"/>
                  </a:lnTo>
                  <a:lnTo>
                    <a:pt x="347" y="175"/>
                  </a:lnTo>
                  <a:lnTo>
                    <a:pt x="333" y="146"/>
                  </a:lnTo>
                  <a:lnTo>
                    <a:pt x="319" y="112"/>
                  </a:lnTo>
                  <a:lnTo>
                    <a:pt x="281" y="19"/>
                  </a:lnTo>
                  <a:lnTo>
                    <a:pt x="2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28120" y="2599560"/>
              <a:ext cx="159120" cy="398880"/>
            </a:xfrm>
            <a:custGeom>
              <a:avLst/>
              <a:gdLst/>
              <a:ahLst/>
              <a:rect l="l" t="t" r="r" b="b"/>
              <a:pathLst>
                <a:path w="327" h="843">
                  <a:moveTo>
                    <a:pt x="0" y="843"/>
                  </a:moveTo>
                  <a:lnTo>
                    <a:pt x="0" y="814"/>
                  </a:lnTo>
                  <a:lnTo>
                    <a:pt x="2" y="779"/>
                  </a:lnTo>
                  <a:lnTo>
                    <a:pt x="6" y="734"/>
                  </a:lnTo>
                  <a:lnTo>
                    <a:pt x="12" y="678"/>
                  </a:lnTo>
                  <a:lnTo>
                    <a:pt x="22" y="615"/>
                  </a:lnTo>
                  <a:lnTo>
                    <a:pt x="38" y="545"/>
                  </a:lnTo>
                  <a:lnTo>
                    <a:pt x="58" y="471"/>
                  </a:lnTo>
                  <a:lnTo>
                    <a:pt x="82" y="397"/>
                  </a:lnTo>
                  <a:lnTo>
                    <a:pt x="108" y="331"/>
                  </a:lnTo>
                  <a:lnTo>
                    <a:pt x="134" y="269"/>
                  </a:lnTo>
                  <a:lnTo>
                    <a:pt x="163" y="211"/>
                  </a:lnTo>
                  <a:lnTo>
                    <a:pt x="193" y="158"/>
                  </a:lnTo>
                  <a:lnTo>
                    <a:pt x="227" y="108"/>
                  </a:lnTo>
                  <a:lnTo>
                    <a:pt x="262" y="59"/>
                  </a:lnTo>
                  <a:lnTo>
                    <a:pt x="301" y="12"/>
                  </a:lnTo>
                  <a:lnTo>
                    <a:pt x="312" y="3"/>
                  </a:lnTo>
                  <a:lnTo>
                    <a:pt x="317" y="1"/>
                  </a:lnTo>
                  <a:lnTo>
                    <a:pt x="321" y="0"/>
                  </a:lnTo>
                  <a:lnTo>
                    <a:pt x="324" y="1"/>
                  </a:lnTo>
                  <a:lnTo>
                    <a:pt x="327" y="6"/>
                  </a:lnTo>
                  <a:lnTo>
                    <a:pt x="327" y="11"/>
                  </a:lnTo>
                  <a:lnTo>
                    <a:pt x="323" y="21"/>
                  </a:lnTo>
                  <a:lnTo>
                    <a:pt x="308" y="61"/>
                  </a:lnTo>
                  <a:lnTo>
                    <a:pt x="297" y="95"/>
                  </a:lnTo>
                  <a:lnTo>
                    <a:pt x="284" y="142"/>
                  </a:lnTo>
                  <a:lnTo>
                    <a:pt x="272" y="199"/>
                  </a:lnTo>
                  <a:lnTo>
                    <a:pt x="262" y="269"/>
                  </a:lnTo>
                  <a:lnTo>
                    <a:pt x="259" y="308"/>
                  </a:lnTo>
                  <a:lnTo>
                    <a:pt x="255" y="351"/>
                  </a:lnTo>
                  <a:lnTo>
                    <a:pt x="253" y="396"/>
                  </a:lnTo>
                  <a:lnTo>
                    <a:pt x="253" y="446"/>
                  </a:lnTo>
                  <a:lnTo>
                    <a:pt x="254" y="584"/>
                  </a:lnTo>
                  <a:lnTo>
                    <a:pt x="258" y="642"/>
                  </a:lnTo>
                  <a:lnTo>
                    <a:pt x="261" y="700"/>
                  </a:lnTo>
                  <a:lnTo>
                    <a:pt x="262" y="756"/>
                  </a:lnTo>
                  <a:lnTo>
                    <a:pt x="263" y="843"/>
                  </a:lnTo>
                  <a:lnTo>
                    <a:pt x="0" y="8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94440" y="2763720"/>
              <a:ext cx="236520" cy="235080"/>
            </a:xfrm>
            <a:custGeom>
              <a:avLst/>
              <a:gdLst/>
              <a:ahLst/>
              <a:rect l="l" t="t" r="r" b="b"/>
              <a:pathLst>
                <a:path w="488" h="493">
                  <a:moveTo>
                    <a:pt x="0" y="493"/>
                  </a:moveTo>
                  <a:lnTo>
                    <a:pt x="91" y="408"/>
                  </a:lnTo>
                  <a:lnTo>
                    <a:pt x="184" y="319"/>
                  </a:lnTo>
                  <a:lnTo>
                    <a:pt x="235" y="267"/>
                  </a:lnTo>
                  <a:lnTo>
                    <a:pt x="288" y="214"/>
                  </a:lnTo>
                  <a:lnTo>
                    <a:pt x="372" y="124"/>
                  </a:lnTo>
                  <a:lnTo>
                    <a:pt x="421" y="70"/>
                  </a:lnTo>
                  <a:lnTo>
                    <a:pt x="447" y="39"/>
                  </a:lnTo>
                  <a:lnTo>
                    <a:pt x="459" y="19"/>
                  </a:lnTo>
                  <a:lnTo>
                    <a:pt x="464" y="11"/>
                  </a:lnTo>
                  <a:lnTo>
                    <a:pt x="470" y="5"/>
                  </a:lnTo>
                  <a:lnTo>
                    <a:pt x="476" y="1"/>
                  </a:lnTo>
                  <a:lnTo>
                    <a:pt x="481" y="0"/>
                  </a:lnTo>
                  <a:lnTo>
                    <a:pt x="484" y="1"/>
                  </a:lnTo>
                  <a:lnTo>
                    <a:pt x="487" y="5"/>
                  </a:lnTo>
                  <a:lnTo>
                    <a:pt x="488" y="13"/>
                  </a:lnTo>
                  <a:lnTo>
                    <a:pt x="486" y="24"/>
                  </a:lnTo>
                  <a:lnTo>
                    <a:pt x="467" y="86"/>
                  </a:lnTo>
                  <a:lnTo>
                    <a:pt x="427" y="202"/>
                  </a:lnTo>
                  <a:lnTo>
                    <a:pt x="400" y="272"/>
                  </a:lnTo>
                  <a:lnTo>
                    <a:pt x="369" y="345"/>
                  </a:lnTo>
                  <a:lnTo>
                    <a:pt x="335" y="420"/>
                  </a:lnTo>
                  <a:lnTo>
                    <a:pt x="298" y="49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98760" y="2383200"/>
              <a:ext cx="376560" cy="550800"/>
            </a:xfrm>
            <a:custGeom>
              <a:avLst/>
              <a:gdLst/>
              <a:ahLst/>
              <a:rect l="l" t="t" r="r" b="b"/>
              <a:pathLst>
                <a:path w="779" h="1160">
                  <a:moveTo>
                    <a:pt x="0" y="701"/>
                  </a:moveTo>
                  <a:lnTo>
                    <a:pt x="2" y="633"/>
                  </a:lnTo>
                  <a:lnTo>
                    <a:pt x="10" y="561"/>
                  </a:lnTo>
                  <a:lnTo>
                    <a:pt x="15" y="525"/>
                  </a:lnTo>
                  <a:lnTo>
                    <a:pt x="23" y="487"/>
                  </a:lnTo>
                  <a:lnTo>
                    <a:pt x="32" y="450"/>
                  </a:lnTo>
                  <a:lnTo>
                    <a:pt x="43" y="414"/>
                  </a:lnTo>
                  <a:lnTo>
                    <a:pt x="56" y="377"/>
                  </a:lnTo>
                  <a:lnTo>
                    <a:pt x="72" y="341"/>
                  </a:lnTo>
                  <a:lnTo>
                    <a:pt x="90" y="305"/>
                  </a:lnTo>
                  <a:lnTo>
                    <a:pt x="110" y="271"/>
                  </a:lnTo>
                  <a:lnTo>
                    <a:pt x="133" y="237"/>
                  </a:lnTo>
                  <a:lnTo>
                    <a:pt x="158" y="205"/>
                  </a:lnTo>
                  <a:lnTo>
                    <a:pt x="186" y="174"/>
                  </a:lnTo>
                  <a:lnTo>
                    <a:pt x="217" y="144"/>
                  </a:lnTo>
                  <a:lnTo>
                    <a:pt x="298" y="72"/>
                  </a:lnTo>
                  <a:lnTo>
                    <a:pt x="350" y="21"/>
                  </a:lnTo>
                  <a:lnTo>
                    <a:pt x="369" y="4"/>
                  </a:lnTo>
                  <a:lnTo>
                    <a:pt x="376" y="1"/>
                  </a:lnTo>
                  <a:lnTo>
                    <a:pt x="382" y="0"/>
                  </a:lnTo>
                  <a:lnTo>
                    <a:pt x="385" y="2"/>
                  </a:lnTo>
                  <a:lnTo>
                    <a:pt x="385" y="8"/>
                  </a:lnTo>
                  <a:lnTo>
                    <a:pt x="382" y="18"/>
                  </a:lnTo>
                  <a:lnTo>
                    <a:pt x="375" y="31"/>
                  </a:lnTo>
                  <a:lnTo>
                    <a:pt x="353" y="74"/>
                  </a:lnTo>
                  <a:lnTo>
                    <a:pt x="337" y="104"/>
                  </a:lnTo>
                  <a:lnTo>
                    <a:pt x="320" y="142"/>
                  </a:lnTo>
                  <a:lnTo>
                    <a:pt x="304" y="186"/>
                  </a:lnTo>
                  <a:lnTo>
                    <a:pt x="286" y="238"/>
                  </a:lnTo>
                  <a:lnTo>
                    <a:pt x="268" y="298"/>
                  </a:lnTo>
                  <a:lnTo>
                    <a:pt x="252" y="368"/>
                  </a:lnTo>
                  <a:lnTo>
                    <a:pt x="221" y="509"/>
                  </a:lnTo>
                  <a:lnTo>
                    <a:pt x="189" y="638"/>
                  </a:lnTo>
                  <a:lnTo>
                    <a:pt x="156" y="756"/>
                  </a:lnTo>
                  <a:lnTo>
                    <a:pt x="121" y="863"/>
                  </a:lnTo>
                  <a:lnTo>
                    <a:pt x="187" y="741"/>
                  </a:lnTo>
                  <a:lnTo>
                    <a:pt x="215" y="695"/>
                  </a:lnTo>
                  <a:lnTo>
                    <a:pt x="243" y="655"/>
                  </a:lnTo>
                  <a:lnTo>
                    <a:pt x="258" y="636"/>
                  </a:lnTo>
                  <a:lnTo>
                    <a:pt x="276" y="618"/>
                  </a:lnTo>
                  <a:lnTo>
                    <a:pt x="295" y="600"/>
                  </a:lnTo>
                  <a:lnTo>
                    <a:pt x="316" y="583"/>
                  </a:lnTo>
                  <a:lnTo>
                    <a:pt x="367" y="545"/>
                  </a:lnTo>
                  <a:lnTo>
                    <a:pt x="434" y="503"/>
                  </a:lnTo>
                  <a:lnTo>
                    <a:pt x="503" y="458"/>
                  </a:lnTo>
                  <a:lnTo>
                    <a:pt x="564" y="416"/>
                  </a:lnTo>
                  <a:lnTo>
                    <a:pt x="615" y="375"/>
                  </a:lnTo>
                  <a:lnTo>
                    <a:pt x="658" y="337"/>
                  </a:lnTo>
                  <a:lnTo>
                    <a:pt x="692" y="304"/>
                  </a:lnTo>
                  <a:lnTo>
                    <a:pt x="720" y="275"/>
                  </a:lnTo>
                  <a:lnTo>
                    <a:pt x="739" y="251"/>
                  </a:lnTo>
                  <a:lnTo>
                    <a:pt x="751" y="233"/>
                  </a:lnTo>
                  <a:lnTo>
                    <a:pt x="759" y="221"/>
                  </a:lnTo>
                  <a:lnTo>
                    <a:pt x="766" y="213"/>
                  </a:lnTo>
                  <a:lnTo>
                    <a:pt x="771" y="209"/>
                  </a:lnTo>
                  <a:lnTo>
                    <a:pt x="776" y="209"/>
                  </a:lnTo>
                  <a:lnTo>
                    <a:pt x="778" y="212"/>
                  </a:lnTo>
                  <a:lnTo>
                    <a:pt x="779" y="218"/>
                  </a:lnTo>
                  <a:lnTo>
                    <a:pt x="778" y="228"/>
                  </a:lnTo>
                  <a:lnTo>
                    <a:pt x="775" y="241"/>
                  </a:lnTo>
                  <a:lnTo>
                    <a:pt x="767" y="263"/>
                  </a:lnTo>
                  <a:lnTo>
                    <a:pt x="752" y="301"/>
                  </a:lnTo>
                  <a:lnTo>
                    <a:pt x="731" y="351"/>
                  </a:lnTo>
                  <a:lnTo>
                    <a:pt x="702" y="409"/>
                  </a:lnTo>
                  <a:lnTo>
                    <a:pt x="666" y="475"/>
                  </a:lnTo>
                  <a:lnTo>
                    <a:pt x="645" y="508"/>
                  </a:lnTo>
                  <a:lnTo>
                    <a:pt x="620" y="543"/>
                  </a:lnTo>
                  <a:lnTo>
                    <a:pt x="595" y="577"/>
                  </a:lnTo>
                  <a:lnTo>
                    <a:pt x="566" y="611"/>
                  </a:lnTo>
                  <a:lnTo>
                    <a:pt x="536" y="645"/>
                  </a:lnTo>
                  <a:lnTo>
                    <a:pt x="503" y="677"/>
                  </a:lnTo>
                  <a:lnTo>
                    <a:pt x="434" y="738"/>
                  </a:lnTo>
                  <a:lnTo>
                    <a:pt x="364" y="798"/>
                  </a:lnTo>
                  <a:lnTo>
                    <a:pt x="297" y="856"/>
                  </a:lnTo>
                  <a:lnTo>
                    <a:pt x="233" y="912"/>
                  </a:lnTo>
                  <a:lnTo>
                    <a:pt x="174" y="968"/>
                  </a:lnTo>
                  <a:lnTo>
                    <a:pt x="147" y="996"/>
                  </a:lnTo>
                  <a:lnTo>
                    <a:pt x="122" y="1023"/>
                  </a:lnTo>
                  <a:lnTo>
                    <a:pt x="100" y="1050"/>
                  </a:lnTo>
                  <a:lnTo>
                    <a:pt x="78" y="1078"/>
                  </a:lnTo>
                  <a:lnTo>
                    <a:pt x="61" y="1105"/>
                  </a:lnTo>
                  <a:lnTo>
                    <a:pt x="46" y="1133"/>
                  </a:lnTo>
                  <a:lnTo>
                    <a:pt x="36" y="1151"/>
                  </a:lnTo>
                  <a:lnTo>
                    <a:pt x="31" y="1156"/>
                  </a:lnTo>
                  <a:lnTo>
                    <a:pt x="26" y="1160"/>
                  </a:lnTo>
                  <a:lnTo>
                    <a:pt x="22" y="1159"/>
                  </a:lnTo>
                  <a:lnTo>
                    <a:pt x="18" y="1154"/>
                  </a:lnTo>
                  <a:lnTo>
                    <a:pt x="16" y="1143"/>
                  </a:lnTo>
                  <a:lnTo>
                    <a:pt x="15" y="1125"/>
                  </a:lnTo>
                  <a:lnTo>
                    <a:pt x="6" y="969"/>
                  </a:lnTo>
                  <a:lnTo>
                    <a:pt x="2" y="846"/>
                  </a:lnTo>
                  <a:lnTo>
                    <a:pt x="0" y="776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38800" y="2269440"/>
              <a:ext cx="333360" cy="337680"/>
            </a:xfrm>
            <a:custGeom>
              <a:avLst/>
              <a:gdLst/>
              <a:ahLst/>
              <a:rect l="l" t="t" r="r" b="b"/>
              <a:pathLst>
                <a:path w="687" h="706">
                  <a:moveTo>
                    <a:pt x="5" y="670"/>
                  </a:moveTo>
                  <a:lnTo>
                    <a:pt x="21" y="608"/>
                  </a:lnTo>
                  <a:lnTo>
                    <a:pt x="38" y="558"/>
                  </a:lnTo>
                  <a:lnTo>
                    <a:pt x="61" y="501"/>
                  </a:lnTo>
                  <a:lnTo>
                    <a:pt x="91" y="439"/>
                  </a:lnTo>
                  <a:lnTo>
                    <a:pt x="109" y="407"/>
                  </a:lnTo>
                  <a:lnTo>
                    <a:pt x="129" y="375"/>
                  </a:lnTo>
                  <a:lnTo>
                    <a:pt x="151" y="344"/>
                  </a:lnTo>
                  <a:lnTo>
                    <a:pt x="176" y="314"/>
                  </a:lnTo>
                  <a:lnTo>
                    <a:pt x="202" y="285"/>
                  </a:lnTo>
                  <a:lnTo>
                    <a:pt x="232" y="257"/>
                  </a:lnTo>
                  <a:lnTo>
                    <a:pt x="263" y="232"/>
                  </a:lnTo>
                  <a:lnTo>
                    <a:pt x="294" y="207"/>
                  </a:lnTo>
                  <a:lnTo>
                    <a:pt x="360" y="162"/>
                  </a:lnTo>
                  <a:lnTo>
                    <a:pt x="423" y="123"/>
                  </a:lnTo>
                  <a:lnTo>
                    <a:pt x="484" y="90"/>
                  </a:lnTo>
                  <a:lnTo>
                    <a:pt x="540" y="61"/>
                  </a:lnTo>
                  <a:lnTo>
                    <a:pt x="586" y="38"/>
                  </a:lnTo>
                  <a:lnTo>
                    <a:pt x="649" y="11"/>
                  </a:lnTo>
                  <a:lnTo>
                    <a:pt x="663" y="4"/>
                  </a:lnTo>
                  <a:lnTo>
                    <a:pt x="675" y="1"/>
                  </a:lnTo>
                  <a:lnTo>
                    <a:pt x="683" y="0"/>
                  </a:lnTo>
                  <a:lnTo>
                    <a:pt x="687" y="2"/>
                  </a:lnTo>
                  <a:lnTo>
                    <a:pt x="687" y="6"/>
                  </a:lnTo>
                  <a:lnTo>
                    <a:pt x="685" y="12"/>
                  </a:lnTo>
                  <a:lnTo>
                    <a:pt x="679" y="21"/>
                  </a:lnTo>
                  <a:lnTo>
                    <a:pt x="670" y="30"/>
                  </a:lnTo>
                  <a:lnTo>
                    <a:pt x="634" y="68"/>
                  </a:lnTo>
                  <a:lnTo>
                    <a:pt x="578" y="137"/>
                  </a:lnTo>
                  <a:lnTo>
                    <a:pt x="544" y="181"/>
                  </a:lnTo>
                  <a:lnTo>
                    <a:pt x="510" y="227"/>
                  </a:lnTo>
                  <a:lnTo>
                    <a:pt x="475" y="277"/>
                  </a:lnTo>
                  <a:lnTo>
                    <a:pt x="442" y="328"/>
                  </a:lnTo>
                  <a:lnTo>
                    <a:pt x="411" y="377"/>
                  </a:lnTo>
                  <a:lnTo>
                    <a:pt x="381" y="419"/>
                  </a:lnTo>
                  <a:lnTo>
                    <a:pt x="352" y="455"/>
                  </a:lnTo>
                  <a:lnTo>
                    <a:pt x="324" y="486"/>
                  </a:lnTo>
                  <a:lnTo>
                    <a:pt x="297" y="511"/>
                  </a:lnTo>
                  <a:lnTo>
                    <a:pt x="267" y="535"/>
                  </a:lnTo>
                  <a:lnTo>
                    <a:pt x="237" y="554"/>
                  </a:lnTo>
                  <a:lnTo>
                    <a:pt x="203" y="571"/>
                  </a:lnTo>
                  <a:lnTo>
                    <a:pt x="139" y="605"/>
                  </a:lnTo>
                  <a:lnTo>
                    <a:pt x="87" y="637"/>
                  </a:lnTo>
                  <a:lnTo>
                    <a:pt x="48" y="666"/>
                  </a:lnTo>
                  <a:lnTo>
                    <a:pt x="35" y="678"/>
                  </a:lnTo>
                  <a:lnTo>
                    <a:pt x="26" y="689"/>
                  </a:lnTo>
                  <a:lnTo>
                    <a:pt x="19" y="698"/>
                  </a:lnTo>
                  <a:lnTo>
                    <a:pt x="12" y="703"/>
                  </a:lnTo>
                  <a:lnTo>
                    <a:pt x="7" y="706"/>
                  </a:lnTo>
                  <a:lnTo>
                    <a:pt x="4" y="704"/>
                  </a:lnTo>
                  <a:lnTo>
                    <a:pt x="1" y="700"/>
                  </a:lnTo>
                  <a:lnTo>
                    <a:pt x="0" y="693"/>
                  </a:lnTo>
                  <a:lnTo>
                    <a:pt x="1" y="683"/>
                  </a:lnTo>
                  <a:lnTo>
                    <a:pt x="5" y="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68160" y="4433040"/>
              <a:ext cx="1322280" cy="326520"/>
            </a:xfrm>
            <a:custGeom>
              <a:avLst/>
              <a:gdLst/>
              <a:ahLst/>
              <a:rect l="l" t="t" r="r" b="b"/>
              <a:pathLst>
                <a:path w="2723" h="680">
                  <a:moveTo>
                    <a:pt x="0" y="644"/>
                  </a:moveTo>
                  <a:lnTo>
                    <a:pt x="18" y="625"/>
                  </a:lnTo>
                  <a:lnTo>
                    <a:pt x="67" y="575"/>
                  </a:lnTo>
                  <a:lnTo>
                    <a:pt x="102" y="540"/>
                  </a:lnTo>
                  <a:lnTo>
                    <a:pt x="143" y="501"/>
                  </a:lnTo>
                  <a:lnTo>
                    <a:pt x="191" y="459"/>
                  </a:lnTo>
                  <a:lnTo>
                    <a:pt x="244" y="415"/>
                  </a:lnTo>
                  <a:lnTo>
                    <a:pt x="303" y="368"/>
                  </a:lnTo>
                  <a:lnTo>
                    <a:pt x="365" y="323"/>
                  </a:lnTo>
                  <a:lnTo>
                    <a:pt x="432" y="277"/>
                  </a:lnTo>
                  <a:lnTo>
                    <a:pt x="503" y="234"/>
                  </a:lnTo>
                  <a:lnTo>
                    <a:pt x="576" y="193"/>
                  </a:lnTo>
                  <a:lnTo>
                    <a:pt x="652" y="157"/>
                  </a:lnTo>
                  <a:lnTo>
                    <a:pt x="691" y="141"/>
                  </a:lnTo>
                  <a:lnTo>
                    <a:pt x="729" y="126"/>
                  </a:lnTo>
                  <a:lnTo>
                    <a:pt x="769" y="113"/>
                  </a:lnTo>
                  <a:lnTo>
                    <a:pt x="809" y="102"/>
                  </a:lnTo>
                  <a:lnTo>
                    <a:pt x="945" y="66"/>
                  </a:lnTo>
                  <a:lnTo>
                    <a:pt x="1065" y="39"/>
                  </a:lnTo>
                  <a:lnTo>
                    <a:pt x="1119" y="28"/>
                  </a:lnTo>
                  <a:lnTo>
                    <a:pt x="1172" y="18"/>
                  </a:lnTo>
                  <a:lnTo>
                    <a:pt x="1223" y="10"/>
                  </a:lnTo>
                  <a:lnTo>
                    <a:pt x="1274" y="4"/>
                  </a:lnTo>
                  <a:lnTo>
                    <a:pt x="1324" y="1"/>
                  </a:lnTo>
                  <a:lnTo>
                    <a:pt x="1374" y="0"/>
                  </a:lnTo>
                  <a:lnTo>
                    <a:pt x="1425" y="0"/>
                  </a:lnTo>
                  <a:lnTo>
                    <a:pt x="1478" y="3"/>
                  </a:lnTo>
                  <a:lnTo>
                    <a:pt x="1532" y="9"/>
                  </a:lnTo>
                  <a:lnTo>
                    <a:pt x="1589" y="15"/>
                  </a:lnTo>
                  <a:lnTo>
                    <a:pt x="1647" y="25"/>
                  </a:lnTo>
                  <a:lnTo>
                    <a:pt x="1712" y="37"/>
                  </a:lnTo>
                  <a:lnTo>
                    <a:pt x="1842" y="67"/>
                  </a:lnTo>
                  <a:lnTo>
                    <a:pt x="1969" y="97"/>
                  </a:lnTo>
                  <a:lnTo>
                    <a:pt x="2094" y="125"/>
                  </a:lnTo>
                  <a:lnTo>
                    <a:pt x="2156" y="137"/>
                  </a:lnTo>
                  <a:lnTo>
                    <a:pt x="2217" y="147"/>
                  </a:lnTo>
                  <a:lnTo>
                    <a:pt x="2278" y="155"/>
                  </a:lnTo>
                  <a:lnTo>
                    <a:pt x="2338" y="162"/>
                  </a:lnTo>
                  <a:lnTo>
                    <a:pt x="2398" y="164"/>
                  </a:lnTo>
                  <a:lnTo>
                    <a:pt x="2457" y="164"/>
                  </a:lnTo>
                  <a:lnTo>
                    <a:pt x="2516" y="160"/>
                  </a:lnTo>
                  <a:lnTo>
                    <a:pt x="2575" y="151"/>
                  </a:lnTo>
                  <a:lnTo>
                    <a:pt x="2632" y="137"/>
                  </a:lnTo>
                  <a:lnTo>
                    <a:pt x="2689" y="120"/>
                  </a:lnTo>
                  <a:lnTo>
                    <a:pt x="2708" y="115"/>
                  </a:lnTo>
                  <a:lnTo>
                    <a:pt x="2714" y="115"/>
                  </a:lnTo>
                  <a:lnTo>
                    <a:pt x="2720" y="117"/>
                  </a:lnTo>
                  <a:lnTo>
                    <a:pt x="2723" y="121"/>
                  </a:lnTo>
                  <a:lnTo>
                    <a:pt x="2722" y="126"/>
                  </a:lnTo>
                  <a:lnTo>
                    <a:pt x="2719" y="133"/>
                  </a:lnTo>
                  <a:lnTo>
                    <a:pt x="2712" y="143"/>
                  </a:lnTo>
                  <a:lnTo>
                    <a:pt x="2691" y="166"/>
                  </a:lnTo>
                  <a:lnTo>
                    <a:pt x="2664" y="194"/>
                  </a:lnTo>
                  <a:lnTo>
                    <a:pt x="2632" y="224"/>
                  </a:lnTo>
                  <a:lnTo>
                    <a:pt x="2593" y="255"/>
                  </a:lnTo>
                  <a:lnTo>
                    <a:pt x="2566" y="271"/>
                  </a:lnTo>
                  <a:lnTo>
                    <a:pt x="2528" y="288"/>
                  </a:lnTo>
                  <a:lnTo>
                    <a:pt x="2481" y="305"/>
                  </a:lnTo>
                  <a:lnTo>
                    <a:pt x="2427" y="323"/>
                  </a:lnTo>
                  <a:lnTo>
                    <a:pt x="2367" y="339"/>
                  </a:lnTo>
                  <a:lnTo>
                    <a:pt x="2301" y="355"/>
                  </a:lnTo>
                  <a:lnTo>
                    <a:pt x="2234" y="368"/>
                  </a:lnTo>
                  <a:lnTo>
                    <a:pt x="2164" y="380"/>
                  </a:lnTo>
                  <a:lnTo>
                    <a:pt x="2097" y="389"/>
                  </a:lnTo>
                  <a:lnTo>
                    <a:pt x="2036" y="396"/>
                  </a:lnTo>
                  <a:lnTo>
                    <a:pt x="1978" y="398"/>
                  </a:lnTo>
                  <a:lnTo>
                    <a:pt x="1918" y="396"/>
                  </a:lnTo>
                  <a:lnTo>
                    <a:pt x="1855" y="388"/>
                  </a:lnTo>
                  <a:lnTo>
                    <a:pt x="1785" y="375"/>
                  </a:lnTo>
                  <a:lnTo>
                    <a:pt x="1703" y="354"/>
                  </a:lnTo>
                  <a:lnTo>
                    <a:pt x="1609" y="326"/>
                  </a:lnTo>
                  <a:lnTo>
                    <a:pt x="1513" y="294"/>
                  </a:lnTo>
                  <a:lnTo>
                    <a:pt x="1428" y="263"/>
                  </a:lnTo>
                  <a:lnTo>
                    <a:pt x="1351" y="234"/>
                  </a:lnTo>
                  <a:lnTo>
                    <a:pt x="1278" y="208"/>
                  </a:lnTo>
                  <a:lnTo>
                    <a:pt x="1242" y="197"/>
                  </a:lnTo>
                  <a:lnTo>
                    <a:pt x="1206" y="187"/>
                  </a:lnTo>
                  <a:lnTo>
                    <a:pt x="1168" y="178"/>
                  </a:lnTo>
                  <a:lnTo>
                    <a:pt x="1129" y="171"/>
                  </a:lnTo>
                  <a:lnTo>
                    <a:pt x="1088" y="165"/>
                  </a:lnTo>
                  <a:lnTo>
                    <a:pt x="1046" y="161"/>
                  </a:lnTo>
                  <a:lnTo>
                    <a:pt x="1000" y="157"/>
                  </a:lnTo>
                  <a:lnTo>
                    <a:pt x="951" y="156"/>
                  </a:lnTo>
                  <a:lnTo>
                    <a:pt x="900" y="157"/>
                  </a:lnTo>
                  <a:lnTo>
                    <a:pt x="854" y="161"/>
                  </a:lnTo>
                  <a:lnTo>
                    <a:pt x="810" y="166"/>
                  </a:lnTo>
                  <a:lnTo>
                    <a:pt x="770" y="175"/>
                  </a:lnTo>
                  <a:lnTo>
                    <a:pt x="732" y="187"/>
                  </a:lnTo>
                  <a:lnTo>
                    <a:pt x="694" y="203"/>
                  </a:lnTo>
                  <a:lnTo>
                    <a:pt x="656" y="223"/>
                  </a:lnTo>
                  <a:lnTo>
                    <a:pt x="616" y="248"/>
                  </a:lnTo>
                  <a:lnTo>
                    <a:pt x="574" y="279"/>
                  </a:lnTo>
                  <a:lnTo>
                    <a:pt x="528" y="315"/>
                  </a:lnTo>
                  <a:lnTo>
                    <a:pt x="478" y="358"/>
                  </a:lnTo>
                  <a:lnTo>
                    <a:pt x="424" y="407"/>
                  </a:lnTo>
                  <a:lnTo>
                    <a:pt x="294" y="527"/>
                  </a:lnTo>
                  <a:lnTo>
                    <a:pt x="131" y="680"/>
                  </a:lnTo>
                  <a:lnTo>
                    <a:pt x="36" y="654"/>
                  </a:lnTo>
                  <a:lnTo>
                    <a:pt x="0" y="6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79680" y="4037040"/>
              <a:ext cx="702000" cy="433440"/>
            </a:xfrm>
            <a:custGeom>
              <a:avLst/>
              <a:gdLst/>
              <a:ahLst/>
              <a:rect l="l" t="t" r="r" b="b"/>
              <a:pathLst>
                <a:path w="1449" h="914">
                  <a:moveTo>
                    <a:pt x="92" y="838"/>
                  </a:moveTo>
                  <a:lnTo>
                    <a:pt x="137" y="841"/>
                  </a:lnTo>
                  <a:lnTo>
                    <a:pt x="199" y="852"/>
                  </a:lnTo>
                  <a:lnTo>
                    <a:pt x="272" y="869"/>
                  </a:lnTo>
                  <a:lnTo>
                    <a:pt x="350" y="890"/>
                  </a:lnTo>
                  <a:lnTo>
                    <a:pt x="389" y="900"/>
                  </a:lnTo>
                  <a:lnTo>
                    <a:pt x="427" y="908"/>
                  </a:lnTo>
                  <a:lnTo>
                    <a:pt x="466" y="912"/>
                  </a:lnTo>
                  <a:lnTo>
                    <a:pt x="505" y="914"/>
                  </a:lnTo>
                  <a:lnTo>
                    <a:pt x="546" y="914"/>
                  </a:lnTo>
                  <a:lnTo>
                    <a:pt x="589" y="912"/>
                  </a:lnTo>
                  <a:lnTo>
                    <a:pt x="684" y="903"/>
                  </a:lnTo>
                  <a:lnTo>
                    <a:pt x="790" y="889"/>
                  </a:lnTo>
                  <a:lnTo>
                    <a:pt x="847" y="878"/>
                  </a:lnTo>
                  <a:lnTo>
                    <a:pt x="904" y="863"/>
                  </a:lnTo>
                  <a:lnTo>
                    <a:pt x="933" y="853"/>
                  </a:lnTo>
                  <a:lnTo>
                    <a:pt x="961" y="842"/>
                  </a:lnTo>
                  <a:lnTo>
                    <a:pt x="990" y="830"/>
                  </a:lnTo>
                  <a:lnTo>
                    <a:pt x="1018" y="815"/>
                  </a:lnTo>
                  <a:lnTo>
                    <a:pt x="1046" y="797"/>
                  </a:lnTo>
                  <a:lnTo>
                    <a:pt x="1074" y="778"/>
                  </a:lnTo>
                  <a:lnTo>
                    <a:pt x="1100" y="755"/>
                  </a:lnTo>
                  <a:lnTo>
                    <a:pt x="1127" y="730"/>
                  </a:lnTo>
                  <a:lnTo>
                    <a:pt x="1179" y="675"/>
                  </a:lnTo>
                  <a:lnTo>
                    <a:pt x="1231" y="616"/>
                  </a:lnTo>
                  <a:lnTo>
                    <a:pt x="1281" y="558"/>
                  </a:lnTo>
                  <a:lnTo>
                    <a:pt x="1328" y="503"/>
                  </a:lnTo>
                  <a:lnTo>
                    <a:pt x="1402" y="411"/>
                  </a:lnTo>
                  <a:lnTo>
                    <a:pt x="1439" y="359"/>
                  </a:lnTo>
                  <a:lnTo>
                    <a:pt x="1445" y="349"/>
                  </a:lnTo>
                  <a:lnTo>
                    <a:pt x="1449" y="341"/>
                  </a:lnTo>
                  <a:lnTo>
                    <a:pt x="1449" y="334"/>
                  </a:lnTo>
                  <a:lnTo>
                    <a:pt x="1447" y="331"/>
                  </a:lnTo>
                  <a:lnTo>
                    <a:pt x="1443" y="331"/>
                  </a:lnTo>
                  <a:lnTo>
                    <a:pt x="1437" y="333"/>
                  </a:lnTo>
                  <a:lnTo>
                    <a:pt x="1428" y="338"/>
                  </a:lnTo>
                  <a:lnTo>
                    <a:pt x="1417" y="348"/>
                  </a:lnTo>
                  <a:lnTo>
                    <a:pt x="1400" y="363"/>
                  </a:lnTo>
                  <a:lnTo>
                    <a:pt x="1377" y="382"/>
                  </a:lnTo>
                  <a:lnTo>
                    <a:pt x="1346" y="405"/>
                  </a:lnTo>
                  <a:lnTo>
                    <a:pt x="1306" y="429"/>
                  </a:lnTo>
                  <a:lnTo>
                    <a:pt x="1257" y="455"/>
                  </a:lnTo>
                  <a:lnTo>
                    <a:pt x="1228" y="468"/>
                  </a:lnTo>
                  <a:lnTo>
                    <a:pt x="1197" y="480"/>
                  </a:lnTo>
                  <a:lnTo>
                    <a:pt x="1162" y="492"/>
                  </a:lnTo>
                  <a:lnTo>
                    <a:pt x="1126" y="503"/>
                  </a:lnTo>
                  <a:lnTo>
                    <a:pt x="1087" y="513"/>
                  </a:lnTo>
                  <a:lnTo>
                    <a:pt x="1044" y="522"/>
                  </a:lnTo>
                  <a:lnTo>
                    <a:pt x="961" y="538"/>
                  </a:lnTo>
                  <a:lnTo>
                    <a:pt x="886" y="555"/>
                  </a:lnTo>
                  <a:lnTo>
                    <a:pt x="818" y="573"/>
                  </a:lnTo>
                  <a:lnTo>
                    <a:pt x="754" y="594"/>
                  </a:lnTo>
                  <a:lnTo>
                    <a:pt x="691" y="616"/>
                  </a:lnTo>
                  <a:lnTo>
                    <a:pt x="627" y="644"/>
                  </a:lnTo>
                  <a:lnTo>
                    <a:pt x="561" y="675"/>
                  </a:lnTo>
                  <a:lnTo>
                    <a:pt x="488" y="712"/>
                  </a:lnTo>
                  <a:lnTo>
                    <a:pt x="453" y="731"/>
                  </a:lnTo>
                  <a:lnTo>
                    <a:pt x="414" y="748"/>
                  </a:lnTo>
                  <a:lnTo>
                    <a:pt x="373" y="763"/>
                  </a:lnTo>
                  <a:lnTo>
                    <a:pt x="331" y="776"/>
                  </a:lnTo>
                  <a:lnTo>
                    <a:pt x="288" y="786"/>
                  </a:lnTo>
                  <a:lnTo>
                    <a:pt x="242" y="791"/>
                  </a:lnTo>
                  <a:lnTo>
                    <a:pt x="196" y="792"/>
                  </a:lnTo>
                  <a:lnTo>
                    <a:pt x="150" y="789"/>
                  </a:lnTo>
                  <a:lnTo>
                    <a:pt x="192" y="766"/>
                  </a:lnTo>
                  <a:lnTo>
                    <a:pt x="226" y="749"/>
                  </a:lnTo>
                  <a:lnTo>
                    <a:pt x="281" y="725"/>
                  </a:lnTo>
                  <a:lnTo>
                    <a:pt x="329" y="704"/>
                  </a:lnTo>
                  <a:lnTo>
                    <a:pt x="354" y="689"/>
                  </a:lnTo>
                  <a:lnTo>
                    <a:pt x="383" y="671"/>
                  </a:lnTo>
                  <a:lnTo>
                    <a:pt x="414" y="651"/>
                  </a:lnTo>
                  <a:lnTo>
                    <a:pt x="445" y="628"/>
                  </a:lnTo>
                  <a:lnTo>
                    <a:pt x="475" y="604"/>
                  </a:lnTo>
                  <a:lnTo>
                    <a:pt x="504" y="577"/>
                  </a:lnTo>
                  <a:lnTo>
                    <a:pt x="532" y="548"/>
                  </a:lnTo>
                  <a:lnTo>
                    <a:pt x="560" y="516"/>
                  </a:lnTo>
                  <a:lnTo>
                    <a:pt x="585" y="482"/>
                  </a:lnTo>
                  <a:lnTo>
                    <a:pt x="611" y="443"/>
                  </a:lnTo>
                  <a:lnTo>
                    <a:pt x="633" y="402"/>
                  </a:lnTo>
                  <a:lnTo>
                    <a:pt x="653" y="359"/>
                  </a:lnTo>
                  <a:lnTo>
                    <a:pt x="669" y="318"/>
                  </a:lnTo>
                  <a:lnTo>
                    <a:pt x="684" y="277"/>
                  </a:lnTo>
                  <a:lnTo>
                    <a:pt x="695" y="240"/>
                  </a:lnTo>
                  <a:lnTo>
                    <a:pt x="704" y="205"/>
                  </a:lnTo>
                  <a:lnTo>
                    <a:pt x="709" y="175"/>
                  </a:lnTo>
                  <a:lnTo>
                    <a:pt x="713" y="152"/>
                  </a:lnTo>
                  <a:lnTo>
                    <a:pt x="715" y="113"/>
                  </a:lnTo>
                  <a:lnTo>
                    <a:pt x="714" y="82"/>
                  </a:lnTo>
                  <a:lnTo>
                    <a:pt x="715" y="56"/>
                  </a:lnTo>
                  <a:lnTo>
                    <a:pt x="717" y="44"/>
                  </a:lnTo>
                  <a:lnTo>
                    <a:pt x="720" y="34"/>
                  </a:lnTo>
                  <a:lnTo>
                    <a:pt x="726" y="15"/>
                  </a:lnTo>
                  <a:lnTo>
                    <a:pt x="726" y="8"/>
                  </a:lnTo>
                  <a:lnTo>
                    <a:pt x="724" y="3"/>
                  </a:lnTo>
                  <a:lnTo>
                    <a:pt x="722" y="0"/>
                  </a:lnTo>
                  <a:lnTo>
                    <a:pt x="716" y="1"/>
                  </a:lnTo>
                  <a:lnTo>
                    <a:pt x="709" y="5"/>
                  </a:lnTo>
                  <a:lnTo>
                    <a:pt x="701" y="14"/>
                  </a:lnTo>
                  <a:lnTo>
                    <a:pt x="674" y="46"/>
                  </a:lnTo>
                  <a:lnTo>
                    <a:pt x="634" y="90"/>
                  </a:lnTo>
                  <a:lnTo>
                    <a:pt x="583" y="141"/>
                  </a:lnTo>
                  <a:lnTo>
                    <a:pt x="554" y="166"/>
                  </a:lnTo>
                  <a:lnTo>
                    <a:pt x="524" y="192"/>
                  </a:lnTo>
                  <a:lnTo>
                    <a:pt x="462" y="243"/>
                  </a:lnTo>
                  <a:lnTo>
                    <a:pt x="433" y="271"/>
                  </a:lnTo>
                  <a:lnTo>
                    <a:pt x="403" y="301"/>
                  </a:lnTo>
                  <a:lnTo>
                    <a:pt x="375" y="333"/>
                  </a:lnTo>
                  <a:lnTo>
                    <a:pt x="347" y="369"/>
                  </a:lnTo>
                  <a:lnTo>
                    <a:pt x="322" y="409"/>
                  </a:lnTo>
                  <a:lnTo>
                    <a:pt x="296" y="456"/>
                  </a:lnTo>
                  <a:lnTo>
                    <a:pt x="255" y="543"/>
                  </a:lnTo>
                  <a:lnTo>
                    <a:pt x="239" y="579"/>
                  </a:lnTo>
                  <a:lnTo>
                    <a:pt x="221" y="613"/>
                  </a:lnTo>
                  <a:lnTo>
                    <a:pt x="201" y="644"/>
                  </a:lnTo>
                  <a:lnTo>
                    <a:pt x="178" y="675"/>
                  </a:lnTo>
                  <a:lnTo>
                    <a:pt x="148" y="706"/>
                  </a:lnTo>
                  <a:lnTo>
                    <a:pt x="109" y="738"/>
                  </a:lnTo>
                  <a:lnTo>
                    <a:pt x="41" y="790"/>
                  </a:lnTo>
                  <a:lnTo>
                    <a:pt x="19" y="808"/>
                  </a:lnTo>
                  <a:lnTo>
                    <a:pt x="6" y="821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2" y="835"/>
                  </a:lnTo>
                  <a:lnTo>
                    <a:pt x="12" y="837"/>
                  </a:lnTo>
                  <a:lnTo>
                    <a:pt x="30" y="838"/>
                  </a:lnTo>
                  <a:lnTo>
                    <a:pt x="92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21320" y="3794040"/>
              <a:ext cx="535680" cy="493920"/>
            </a:xfrm>
            <a:custGeom>
              <a:avLst/>
              <a:gdLst/>
              <a:ahLst/>
              <a:rect l="l" t="t" r="r" b="b"/>
              <a:pathLst>
                <a:path w="1101" h="1046">
                  <a:moveTo>
                    <a:pt x="42" y="1032"/>
                  </a:moveTo>
                  <a:lnTo>
                    <a:pt x="231" y="971"/>
                  </a:lnTo>
                  <a:lnTo>
                    <a:pt x="370" y="925"/>
                  </a:lnTo>
                  <a:lnTo>
                    <a:pt x="486" y="882"/>
                  </a:lnTo>
                  <a:lnTo>
                    <a:pt x="536" y="862"/>
                  </a:lnTo>
                  <a:lnTo>
                    <a:pt x="592" y="836"/>
                  </a:lnTo>
                  <a:lnTo>
                    <a:pt x="651" y="804"/>
                  </a:lnTo>
                  <a:lnTo>
                    <a:pt x="681" y="785"/>
                  </a:lnTo>
                  <a:lnTo>
                    <a:pt x="711" y="764"/>
                  </a:lnTo>
                  <a:lnTo>
                    <a:pt x="741" y="741"/>
                  </a:lnTo>
                  <a:lnTo>
                    <a:pt x="769" y="716"/>
                  </a:lnTo>
                  <a:lnTo>
                    <a:pt x="797" y="689"/>
                  </a:lnTo>
                  <a:lnTo>
                    <a:pt x="824" y="659"/>
                  </a:lnTo>
                  <a:lnTo>
                    <a:pt x="849" y="627"/>
                  </a:lnTo>
                  <a:lnTo>
                    <a:pt x="874" y="593"/>
                  </a:lnTo>
                  <a:lnTo>
                    <a:pt x="895" y="555"/>
                  </a:lnTo>
                  <a:lnTo>
                    <a:pt x="915" y="515"/>
                  </a:lnTo>
                  <a:lnTo>
                    <a:pt x="983" y="361"/>
                  </a:lnTo>
                  <a:lnTo>
                    <a:pt x="1039" y="236"/>
                  </a:lnTo>
                  <a:lnTo>
                    <a:pt x="1060" y="184"/>
                  </a:lnTo>
                  <a:lnTo>
                    <a:pt x="1078" y="141"/>
                  </a:lnTo>
                  <a:lnTo>
                    <a:pt x="1090" y="105"/>
                  </a:lnTo>
                  <a:lnTo>
                    <a:pt x="1097" y="79"/>
                  </a:lnTo>
                  <a:lnTo>
                    <a:pt x="1101" y="43"/>
                  </a:lnTo>
                  <a:lnTo>
                    <a:pt x="1101" y="24"/>
                  </a:lnTo>
                  <a:lnTo>
                    <a:pt x="1099" y="14"/>
                  </a:lnTo>
                  <a:lnTo>
                    <a:pt x="1096" y="8"/>
                  </a:lnTo>
                  <a:lnTo>
                    <a:pt x="1092" y="3"/>
                  </a:lnTo>
                  <a:lnTo>
                    <a:pt x="1089" y="0"/>
                  </a:lnTo>
                  <a:lnTo>
                    <a:pt x="1085" y="1"/>
                  </a:lnTo>
                  <a:lnTo>
                    <a:pt x="1080" y="7"/>
                  </a:lnTo>
                  <a:lnTo>
                    <a:pt x="1050" y="51"/>
                  </a:lnTo>
                  <a:lnTo>
                    <a:pt x="984" y="145"/>
                  </a:lnTo>
                  <a:lnTo>
                    <a:pt x="941" y="201"/>
                  </a:lnTo>
                  <a:lnTo>
                    <a:pt x="897" y="255"/>
                  </a:lnTo>
                  <a:lnTo>
                    <a:pt x="852" y="305"/>
                  </a:lnTo>
                  <a:lnTo>
                    <a:pt x="829" y="327"/>
                  </a:lnTo>
                  <a:lnTo>
                    <a:pt x="808" y="346"/>
                  </a:lnTo>
                  <a:lnTo>
                    <a:pt x="765" y="382"/>
                  </a:lnTo>
                  <a:lnTo>
                    <a:pt x="719" y="415"/>
                  </a:lnTo>
                  <a:lnTo>
                    <a:pt x="628" y="480"/>
                  </a:lnTo>
                  <a:lnTo>
                    <a:pt x="543" y="539"/>
                  </a:lnTo>
                  <a:lnTo>
                    <a:pt x="505" y="568"/>
                  </a:lnTo>
                  <a:lnTo>
                    <a:pt x="473" y="595"/>
                  </a:lnTo>
                  <a:lnTo>
                    <a:pt x="414" y="650"/>
                  </a:lnTo>
                  <a:lnTo>
                    <a:pt x="355" y="708"/>
                  </a:lnTo>
                  <a:lnTo>
                    <a:pt x="248" y="820"/>
                  </a:lnTo>
                  <a:lnTo>
                    <a:pt x="223" y="845"/>
                  </a:lnTo>
                  <a:lnTo>
                    <a:pt x="200" y="866"/>
                  </a:lnTo>
                  <a:lnTo>
                    <a:pt x="180" y="882"/>
                  </a:lnTo>
                  <a:lnTo>
                    <a:pt x="162" y="895"/>
                  </a:lnTo>
                  <a:lnTo>
                    <a:pt x="137" y="910"/>
                  </a:lnTo>
                  <a:lnTo>
                    <a:pt x="128" y="915"/>
                  </a:lnTo>
                  <a:lnTo>
                    <a:pt x="188" y="823"/>
                  </a:lnTo>
                  <a:lnTo>
                    <a:pt x="288" y="670"/>
                  </a:lnTo>
                  <a:lnTo>
                    <a:pt x="328" y="612"/>
                  </a:lnTo>
                  <a:lnTo>
                    <a:pt x="345" y="582"/>
                  </a:lnTo>
                  <a:lnTo>
                    <a:pt x="362" y="551"/>
                  </a:lnTo>
                  <a:lnTo>
                    <a:pt x="376" y="517"/>
                  </a:lnTo>
                  <a:lnTo>
                    <a:pt x="386" y="482"/>
                  </a:lnTo>
                  <a:lnTo>
                    <a:pt x="393" y="444"/>
                  </a:lnTo>
                  <a:lnTo>
                    <a:pt x="395" y="424"/>
                  </a:lnTo>
                  <a:lnTo>
                    <a:pt x="396" y="403"/>
                  </a:lnTo>
                  <a:lnTo>
                    <a:pt x="393" y="203"/>
                  </a:lnTo>
                  <a:lnTo>
                    <a:pt x="389" y="71"/>
                  </a:lnTo>
                  <a:lnTo>
                    <a:pt x="386" y="55"/>
                  </a:lnTo>
                  <a:lnTo>
                    <a:pt x="384" y="50"/>
                  </a:lnTo>
                  <a:lnTo>
                    <a:pt x="382" y="48"/>
                  </a:lnTo>
                  <a:lnTo>
                    <a:pt x="379" y="48"/>
                  </a:lnTo>
                  <a:lnTo>
                    <a:pt x="375" y="50"/>
                  </a:lnTo>
                  <a:lnTo>
                    <a:pt x="363" y="63"/>
                  </a:lnTo>
                  <a:lnTo>
                    <a:pt x="336" y="97"/>
                  </a:lnTo>
                  <a:lnTo>
                    <a:pt x="293" y="154"/>
                  </a:lnTo>
                  <a:lnTo>
                    <a:pt x="268" y="190"/>
                  </a:lnTo>
                  <a:lnTo>
                    <a:pt x="242" y="228"/>
                  </a:lnTo>
                  <a:lnTo>
                    <a:pt x="217" y="269"/>
                  </a:lnTo>
                  <a:lnTo>
                    <a:pt x="193" y="310"/>
                  </a:lnTo>
                  <a:lnTo>
                    <a:pt x="173" y="352"/>
                  </a:lnTo>
                  <a:lnTo>
                    <a:pt x="154" y="395"/>
                  </a:lnTo>
                  <a:lnTo>
                    <a:pt x="140" y="436"/>
                  </a:lnTo>
                  <a:lnTo>
                    <a:pt x="127" y="476"/>
                  </a:lnTo>
                  <a:lnTo>
                    <a:pt x="117" y="513"/>
                  </a:lnTo>
                  <a:lnTo>
                    <a:pt x="109" y="545"/>
                  </a:lnTo>
                  <a:lnTo>
                    <a:pt x="104" y="573"/>
                  </a:lnTo>
                  <a:lnTo>
                    <a:pt x="103" y="594"/>
                  </a:lnTo>
                  <a:lnTo>
                    <a:pt x="101" y="679"/>
                  </a:lnTo>
                  <a:lnTo>
                    <a:pt x="98" y="727"/>
                  </a:lnTo>
                  <a:lnTo>
                    <a:pt x="91" y="770"/>
                  </a:lnTo>
                  <a:lnTo>
                    <a:pt x="77" y="825"/>
                  </a:lnTo>
                  <a:lnTo>
                    <a:pt x="53" y="897"/>
                  </a:lnTo>
                  <a:lnTo>
                    <a:pt x="30" y="967"/>
                  </a:lnTo>
                  <a:lnTo>
                    <a:pt x="10" y="1016"/>
                  </a:lnTo>
                  <a:lnTo>
                    <a:pt x="1" y="1038"/>
                  </a:lnTo>
                  <a:lnTo>
                    <a:pt x="0" y="1043"/>
                  </a:lnTo>
                  <a:lnTo>
                    <a:pt x="2" y="1046"/>
                  </a:lnTo>
                  <a:lnTo>
                    <a:pt x="7" y="1046"/>
                  </a:lnTo>
                  <a:lnTo>
                    <a:pt x="16" y="1043"/>
                  </a:lnTo>
                  <a:lnTo>
                    <a:pt x="42" y="10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69360" y="3770640"/>
              <a:ext cx="244440" cy="212760"/>
            </a:xfrm>
            <a:custGeom>
              <a:avLst/>
              <a:gdLst/>
              <a:ahLst/>
              <a:rect l="l" t="t" r="r" b="b"/>
              <a:pathLst>
                <a:path w="505" h="452">
                  <a:moveTo>
                    <a:pt x="505" y="0"/>
                  </a:moveTo>
                  <a:lnTo>
                    <a:pt x="437" y="76"/>
                  </a:lnTo>
                  <a:lnTo>
                    <a:pt x="373" y="145"/>
                  </a:lnTo>
                  <a:lnTo>
                    <a:pt x="338" y="179"/>
                  </a:lnTo>
                  <a:lnTo>
                    <a:pt x="306" y="210"/>
                  </a:lnTo>
                  <a:lnTo>
                    <a:pt x="233" y="278"/>
                  </a:lnTo>
                  <a:lnTo>
                    <a:pt x="153" y="349"/>
                  </a:lnTo>
                  <a:lnTo>
                    <a:pt x="85" y="409"/>
                  </a:lnTo>
                  <a:lnTo>
                    <a:pt x="52" y="442"/>
                  </a:lnTo>
                  <a:lnTo>
                    <a:pt x="42" y="451"/>
                  </a:lnTo>
                  <a:lnTo>
                    <a:pt x="38" y="452"/>
                  </a:lnTo>
                  <a:lnTo>
                    <a:pt x="35" y="452"/>
                  </a:lnTo>
                  <a:lnTo>
                    <a:pt x="32" y="449"/>
                  </a:lnTo>
                  <a:lnTo>
                    <a:pt x="31" y="443"/>
                  </a:lnTo>
                  <a:lnTo>
                    <a:pt x="29" y="429"/>
                  </a:lnTo>
                  <a:lnTo>
                    <a:pt x="23" y="318"/>
                  </a:lnTo>
                  <a:lnTo>
                    <a:pt x="19" y="238"/>
                  </a:lnTo>
                  <a:lnTo>
                    <a:pt x="11" y="168"/>
                  </a:lnTo>
                  <a:lnTo>
                    <a:pt x="4" y="109"/>
                  </a:lnTo>
                  <a:lnTo>
                    <a:pt x="1" y="56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59" y="65"/>
                  </a:lnTo>
                  <a:lnTo>
                    <a:pt x="140" y="120"/>
                  </a:lnTo>
                  <a:lnTo>
                    <a:pt x="125" y="168"/>
                  </a:lnTo>
                  <a:lnTo>
                    <a:pt x="118" y="202"/>
                  </a:lnTo>
                  <a:lnTo>
                    <a:pt x="114" y="226"/>
                  </a:lnTo>
                  <a:lnTo>
                    <a:pt x="113" y="243"/>
                  </a:lnTo>
                  <a:lnTo>
                    <a:pt x="119" y="237"/>
                  </a:lnTo>
                  <a:lnTo>
                    <a:pt x="134" y="215"/>
                  </a:lnTo>
                  <a:lnTo>
                    <a:pt x="157" y="175"/>
                  </a:lnTo>
                  <a:lnTo>
                    <a:pt x="172" y="146"/>
                  </a:lnTo>
                  <a:lnTo>
                    <a:pt x="186" y="112"/>
                  </a:lnTo>
                  <a:lnTo>
                    <a:pt x="224" y="19"/>
                  </a:lnTo>
                  <a:lnTo>
                    <a:pt x="231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09400" y="2599560"/>
              <a:ext cx="159120" cy="398880"/>
            </a:xfrm>
            <a:custGeom>
              <a:avLst/>
              <a:gdLst/>
              <a:ahLst/>
              <a:rect l="l" t="t" r="r" b="b"/>
              <a:pathLst>
                <a:path w="325" h="843">
                  <a:moveTo>
                    <a:pt x="325" y="843"/>
                  </a:moveTo>
                  <a:lnTo>
                    <a:pt x="325" y="814"/>
                  </a:lnTo>
                  <a:lnTo>
                    <a:pt x="324" y="779"/>
                  </a:lnTo>
                  <a:lnTo>
                    <a:pt x="321" y="734"/>
                  </a:lnTo>
                  <a:lnTo>
                    <a:pt x="314" y="678"/>
                  </a:lnTo>
                  <a:lnTo>
                    <a:pt x="303" y="615"/>
                  </a:lnTo>
                  <a:lnTo>
                    <a:pt x="288" y="545"/>
                  </a:lnTo>
                  <a:lnTo>
                    <a:pt x="267" y="471"/>
                  </a:lnTo>
                  <a:lnTo>
                    <a:pt x="243" y="397"/>
                  </a:lnTo>
                  <a:lnTo>
                    <a:pt x="217" y="331"/>
                  </a:lnTo>
                  <a:lnTo>
                    <a:pt x="191" y="269"/>
                  </a:lnTo>
                  <a:lnTo>
                    <a:pt x="163" y="211"/>
                  </a:lnTo>
                  <a:lnTo>
                    <a:pt x="132" y="158"/>
                  </a:lnTo>
                  <a:lnTo>
                    <a:pt x="100" y="108"/>
                  </a:lnTo>
                  <a:lnTo>
                    <a:pt x="63" y="59"/>
                  </a:lnTo>
                  <a:lnTo>
                    <a:pt x="24" y="12"/>
                  </a:lnTo>
                  <a:lnTo>
                    <a:pt x="14" y="3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21"/>
                  </a:lnTo>
                  <a:lnTo>
                    <a:pt x="17" y="61"/>
                  </a:lnTo>
                  <a:lnTo>
                    <a:pt x="30" y="95"/>
                  </a:lnTo>
                  <a:lnTo>
                    <a:pt x="42" y="142"/>
                  </a:lnTo>
                  <a:lnTo>
                    <a:pt x="53" y="199"/>
                  </a:lnTo>
                  <a:lnTo>
                    <a:pt x="63" y="269"/>
                  </a:lnTo>
                  <a:lnTo>
                    <a:pt x="67" y="308"/>
                  </a:lnTo>
                  <a:lnTo>
                    <a:pt x="70" y="351"/>
                  </a:lnTo>
                  <a:lnTo>
                    <a:pt x="72" y="396"/>
                  </a:lnTo>
                  <a:lnTo>
                    <a:pt x="73" y="446"/>
                  </a:lnTo>
                  <a:lnTo>
                    <a:pt x="71" y="584"/>
                  </a:lnTo>
                  <a:lnTo>
                    <a:pt x="67" y="642"/>
                  </a:lnTo>
                  <a:lnTo>
                    <a:pt x="64" y="700"/>
                  </a:lnTo>
                  <a:lnTo>
                    <a:pt x="63" y="756"/>
                  </a:lnTo>
                  <a:lnTo>
                    <a:pt x="63" y="843"/>
                  </a:lnTo>
                  <a:lnTo>
                    <a:pt x="325" y="8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64600" y="2763720"/>
              <a:ext cx="236520" cy="235080"/>
            </a:xfrm>
            <a:custGeom>
              <a:avLst/>
              <a:gdLst/>
              <a:ahLst/>
              <a:rect l="l" t="t" r="r" b="b"/>
              <a:pathLst>
                <a:path w="487" h="493">
                  <a:moveTo>
                    <a:pt x="487" y="493"/>
                  </a:moveTo>
                  <a:lnTo>
                    <a:pt x="397" y="408"/>
                  </a:lnTo>
                  <a:lnTo>
                    <a:pt x="305" y="319"/>
                  </a:lnTo>
                  <a:lnTo>
                    <a:pt x="252" y="267"/>
                  </a:lnTo>
                  <a:lnTo>
                    <a:pt x="200" y="214"/>
                  </a:lnTo>
                  <a:lnTo>
                    <a:pt x="116" y="124"/>
                  </a:lnTo>
                  <a:lnTo>
                    <a:pt x="67" y="70"/>
                  </a:lnTo>
                  <a:lnTo>
                    <a:pt x="42" y="39"/>
                  </a:lnTo>
                  <a:lnTo>
                    <a:pt x="28" y="19"/>
                  </a:lnTo>
                  <a:lnTo>
                    <a:pt x="23" y="11"/>
                  </a:lnTo>
                  <a:lnTo>
                    <a:pt x="17" y="5"/>
                  </a:lnTo>
                  <a:lnTo>
                    <a:pt x="12" y="1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13"/>
                  </a:lnTo>
                  <a:lnTo>
                    <a:pt x="3" y="24"/>
                  </a:lnTo>
                  <a:lnTo>
                    <a:pt x="22" y="86"/>
                  </a:lnTo>
                  <a:lnTo>
                    <a:pt x="62" y="202"/>
                  </a:lnTo>
                  <a:lnTo>
                    <a:pt x="88" y="272"/>
                  </a:lnTo>
                  <a:lnTo>
                    <a:pt x="118" y="345"/>
                  </a:lnTo>
                  <a:lnTo>
                    <a:pt x="153" y="420"/>
                  </a:lnTo>
                  <a:lnTo>
                    <a:pt x="190" y="493"/>
                  </a:lnTo>
                  <a:lnTo>
                    <a:pt x="487" y="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21320" y="2383200"/>
              <a:ext cx="379800" cy="550800"/>
            </a:xfrm>
            <a:custGeom>
              <a:avLst/>
              <a:gdLst/>
              <a:ahLst/>
              <a:rect l="l" t="t" r="r" b="b"/>
              <a:pathLst>
                <a:path w="780" h="1160">
                  <a:moveTo>
                    <a:pt x="780" y="701"/>
                  </a:moveTo>
                  <a:lnTo>
                    <a:pt x="777" y="633"/>
                  </a:lnTo>
                  <a:lnTo>
                    <a:pt x="770" y="561"/>
                  </a:lnTo>
                  <a:lnTo>
                    <a:pt x="764" y="525"/>
                  </a:lnTo>
                  <a:lnTo>
                    <a:pt x="756" y="487"/>
                  </a:lnTo>
                  <a:lnTo>
                    <a:pt x="746" y="450"/>
                  </a:lnTo>
                  <a:lnTo>
                    <a:pt x="735" y="414"/>
                  </a:lnTo>
                  <a:lnTo>
                    <a:pt x="722" y="377"/>
                  </a:lnTo>
                  <a:lnTo>
                    <a:pt x="706" y="341"/>
                  </a:lnTo>
                  <a:lnTo>
                    <a:pt x="689" y="305"/>
                  </a:lnTo>
                  <a:lnTo>
                    <a:pt x="669" y="271"/>
                  </a:lnTo>
                  <a:lnTo>
                    <a:pt x="646" y="237"/>
                  </a:lnTo>
                  <a:lnTo>
                    <a:pt x="621" y="205"/>
                  </a:lnTo>
                  <a:lnTo>
                    <a:pt x="593" y="174"/>
                  </a:lnTo>
                  <a:lnTo>
                    <a:pt x="562" y="144"/>
                  </a:lnTo>
                  <a:lnTo>
                    <a:pt x="481" y="72"/>
                  </a:lnTo>
                  <a:lnTo>
                    <a:pt x="429" y="21"/>
                  </a:lnTo>
                  <a:lnTo>
                    <a:pt x="410" y="4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2"/>
                  </a:lnTo>
                  <a:lnTo>
                    <a:pt x="394" y="8"/>
                  </a:lnTo>
                  <a:lnTo>
                    <a:pt x="397" y="18"/>
                  </a:lnTo>
                  <a:lnTo>
                    <a:pt x="403" y="31"/>
                  </a:lnTo>
                  <a:lnTo>
                    <a:pt x="427" y="74"/>
                  </a:lnTo>
                  <a:lnTo>
                    <a:pt x="441" y="104"/>
                  </a:lnTo>
                  <a:lnTo>
                    <a:pt x="458" y="142"/>
                  </a:lnTo>
                  <a:lnTo>
                    <a:pt x="475" y="186"/>
                  </a:lnTo>
                  <a:lnTo>
                    <a:pt x="493" y="238"/>
                  </a:lnTo>
                  <a:lnTo>
                    <a:pt x="510" y="298"/>
                  </a:lnTo>
                  <a:lnTo>
                    <a:pt x="526" y="368"/>
                  </a:lnTo>
                  <a:lnTo>
                    <a:pt x="559" y="509"/>
                  </a:lnTo>
                  <a:lnTo>
                    <a:pt x="590" y="638"/>
                  </a:lnTo>
                  <a:lnTo>
                    <a:pt x="622" y="756"/>
                  </a:lnTo>
                  <a:lnTo>
                    <a:pt x="658" y="863"/>
                  </a:lnTo>
                  <a:lnTo>
                    <a:pt x="592" y="741"/>
                  </a:lnTo>
                  <a:lnTo>
                    <a:pt x="564" y="695"/>
                  </a:lnTo>
                  <a:lnTo>
                    <a:pt x="535" y="655"/>
                  </a:lnTo>
                  <a:lnTo>
                    <a:pt x="520" y="636"/>
                  </a:lnTo>
                  <a:lnTo>
                    <a:pt x="503" y="618"/>
                  </a:lnTo>
                  <a:lnTo>
                    <a:pt x="484" y="600"/>
                  </a:lnTo>
                  <a:lnTo>
                    <a:pt x="463" y="583"/>
                  </a:lnTo>
                  <a:lnTo>
                    <a:pt x="412" y="545"/>
                  </a:lnTo>
                  <a:lnTo>
                    <a:pt x="346" y="503"/>
                  </a:lnTo>
                  <a:lnTo>
                    <a:pt x="276" y="458"/>
                  </a:lnTo>
                  <a:lnTo>
                    <a:pt x="216" y="416"/>
                  </a:lnTo>
                  <a:lnTo>
                    <a:pt x="163" y="375"/>
                  </a:lnTo>
                  <a:lnTo>
                    <a:pt x="121" y="337"/>
                  </a:lnTo>
                  <a:lnTo>
                    <a:pt x="86" y="304"/>
                  </a:lnTo>
                  <a:lnTo>
                    <a:pt x="59" y="275"/>
                  </a:lnTo>
                  <a:lnTo>
                    <a:pt x="40" y="251"/>
                  </a:lnTo>
                  <a:lnTo>
                    <a:pt x="28" y="233"/>
                  </a:lnTo>
                  <a:lnTo>
                    <a:pt x="19" y="221"/>
                  </a:lnTo>
                  <a:lnTo>
                    <a:pt x="12" y="213"/>
                  </a:lnTo>
                  <a:lnTo>
                    <a:pt x="7" y="209"/>
                  </a:lnTo>
                  <a:lnTo>
                    <a:pt x="4" y="209"/>
                  </a:lnTo>
                  <a:lnTo>
                    <a:pt x="0" y="212"/>
                  </a:lnTo>
                  <a:lnTo>
                    <a:pt x="0" y="218"/>
                  </a:lnTo>
                  <a:lnTo>
                    <a:pt x="1" y="228"/>
                  </a:lnTo>
                  <a:lnTo>
                    <a:pt x="5" y="241"/>
                  </a:lnTo>
                  <a:lnTo>
                    <a:pt x="12" y="263"/>
                  </a:lnTo>
                  <a:lnTo>
                    <a:pt x="26" y="301"/>
                  </a:lnTo>
                  <a:lnTo>
                    <a:pt x="47" y="351"/>
                  </a:lnTo>
                  <a:lnTo>
                    <a:pt x="76" y="409"/>
                  </a:lnTo>
                  <a:lnTo>
                    <a:pt x="112" y="475"/>
                  </a:lnTo>
                  <a:lnTo>
                    <a:pt x="135" y="508"/>
                  </a:lnTo>
                  <a:lnTo>
                    <a:pt x="158" y="543"/>
                  </a:lnTo>
                  <a:lnTo>
                    <a:pt x="185" y="577"/>
                  </a:lnTo>
                  <a:lnTo>
                    <a:pt x="212" y="611"/>
                  </a:lnTo>
                  <a:lnTo>
                    <a:pt x="243" y="645"/>
                  </a:lnTo>
                  <a:lnTo>
                    <a:pt x="277" y="677"/>
                  </a:lnTo>
                  <a:lnTo>
                    <a:pt x="346" y="738"/>
                  </a:lnTo>
                  <a:lnTo>
                    <a:pt x="414" y="798"/>
                  </a:lnTo>
                  <a:lnTo>
                    <a:pt x="482" y="856"/>
                  </a:lnTo>
                  <a:lnTo>
                    <a:pt x="545" y="912"/>
                  </a:lnTo>
                  <a:lnTo>
                    <a:pt x="604" y="968"/>
                  </a:lnTo>
                  <a:lnTo>
                    <a:pt x="632" y="996"/>
                  </a:lnTo>
                  <a:lnTo>
                    <a:pt x="656" y="1023"/>
                  </a:lnTo>
                  <a:lnTo>
                    <a:pt x="680" y="1050"/>
                  </a:lnTo>
                  <a:lnTo>
                    <a:pt x="700" y="1078"/>
                  </a:lnTo>
                  <a:lnTo>
                    <a:pt x="717" y="1105"/>
                  </a:lnTo>
                  <a:lnTo>
                    <a:pt x="733" y="1133"/>
                  </a:lnTo>
                  <a:lnTo>
                    <a:pt x="743" y="1151"/>
                  </a:lnTo>
                  <a:lnTo>
                    <a:pt x="747" y="1156"/>
                  </a:lnTo>
                  <a:lnTo>
                    <a:pt x="753" y="1160"/>
                  </a:lnTo>
                  <a:lnTo>
                    <a:pt x="756" y="1159"/>
                  </a:lnTo>
                  <a:lnTo>
                    <a:pt x="760" y="1154"/>
                  </a:lnTo>
                  <a:lnTo>
                    <a:pt x="763" y="1143"/>
                  </a:lnTo>
                  <a:lnTo>
                    <a:pt x="764" y="1125"/>
                  </a:lnTo>
                  <a:lnTo>
                    <a:pt x="772" y="969"/>
                  </a:lnTo>
                  <a:lnTo>
                    <a:pt x="777" y="846"/>
                  </a:lnTo>
                  <a:lnTo>
                    <a:pt x="779" y="776"/>
                  </a:lnTo>
                  <a:lnTo>
                    <a:pt x="780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4480" y="2269440"/>
              <a:ext cx="333360" cy="337680"/>
            </a:xfrm>
            <a:custGeom>
              <a:avLst/>
              <a:gdLst/>
              <a:ahLst/>
              <a:rect l="l" t="t" r="r" b="b"/>
              <a:pathLst>
                <a:path w="688" h="706">
                  <a:moveTo>
                    <a:pt x="684" y="670"/>
                  </a:moveTo>
                  <a:lnTo>
                    <a:pt x="666" y="608"/>
                  </a:lnTo>
                  <a:lnTo>
                    <a:pt x="649" y="558"/>
                  </a:lnTo>
                  <a:lnTo>
                    <a:pt x="627" y="501"/>
                  </a:lnTo>
                  <a:lnTo>
                    <a:pt x="597" y="439"/>
                  </a:lnTo>
                  <a:lnTo>
                    <a:pt x="579" y="407"/>
                  </a:lnTo>
                  <a:lnTo>
                    <a:pt x="559" y="375"/>
                  </a:lnTo>
                  <a:lnTo>
                    <a:pt x="537" y="344"/>
                  </a:lnTo>
                  <a:lnTo>
                    <a:pt x="513" y="314"/>
                  </a:lnTo>
                  <a:lnTo>
                    <a:pt x="485" y="285"/>
                  </a:lnTo>
                  <a:lnTo>
                    <a:pt x="456" y="257"/>
                  </a:lnTo>
                  <a:lnTo>
                    <a:pt x="425" y="232"/>
                  </a:lnTo>
                  <a:lnTo>
                    <a:pt x="393" y="207"/>
                  </a:lnTo>
                  <a:lnTo>
                    <a:pt x="328" y="162"/>
                  </a:lnTo>
                  <a:lnTo>
                    <a:pt x="264" y="123"/>
                  </a:lnTo>
                  <a:lnTo>
                    <a:pt x="204" y="90"/>
                  </a:lnTo>
                  <a:lnTo>
                    <a:pt x="148" y="61"/>
                  </a:lnTo>
                  <a:lnTo>
                    <a:pt x="101" y="38"/>
                  </a:lnTo>
                  <a:lnTo>
                    <a:pt x="40" y="11"/>
                  </a:lnTo>
                  <a:lnTo>
                    <a:pt x="24" y="4"/>
                  </a:lnTo>
                  <a:lnTo>
                    <a:pt x="13" y="1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3" y="12"/>
                  </a:lnTo>
                  <a:lnTo>
                    <a:pt x="10" y="21"/>
                  </a:lnTo>
                  <a:lnTo>
                    <a:pt x="19" y="30"/>
                  </a:lnTo>
                  <a:lnTo>
                    <a:pt x="54" y="68"/>
                  </a:lnTo>
                  <a:lnTo>
                    <a:pt x="111" y="137"/>
                  </a:lnTo>
                  <a:lnTo>
                    <a:pt x="143" y="181"/>
                  </a:lnTo>
                  <a:lnTo>
                    <a:pt x="177" y="227"/>
                  </a:lnTo>
                  <a:lnTo>
                    <a:pt x="213" y="277"/>
                  </a:lnTo>
                  <a:lnTo>
                    <a:pt x="246" y="328"/>
                  </a:lnTo>
                  <a:lnTo>
                    <a:pt x="277" y="377"/>
                  </a:lnTo>
                  <a:lnTo>
                    <a:pt x="307" y="419"/>
                  </a:lnTo>
                  <a:lnTo>
                    <a:pt x="335" y="455"/>
                  </a:lnTo>
                  <a:lnTo>
                    <a:pt x="363" y="486"/>
                  </a:lnTo>
                  <a:lnTo>
                    <a:pt x="392" y="511"/>
                  </a:lnTo>
                  <a:lnTo>
                    <a:pt x="420" y="535"/>
                  </a:lnTo>
                  <a:lnTo>
                    <a:pt x="452" y="554"/>
                  </a:lnTo>
                  <a:lnTo>
                    <a:pt x="485" y="571"/>
                  </a:lnTo>
                  <a:lnTo>
                    <a:pt x="549" y="605"/>
                  </a:lnTo>
                  <a:lnTo>
                    <a:pt x="601" y="637"/>
                  </a:lnTo>
                  <a:lnTo>
                    <a:pt x="639" y="666"/>
                  </a:lnTo>
                  <a:lnTo>
                    <a:pt x="652" y="678"/>
                  </a:lnTo>
                  <a:lnTo>
                    <a:pt x="662" y="689"/>
                  </a:lnTo>
                  <a:lnTo>
                    <a:pt x="669" y="698"/>
                  </a:lnTo>
                  <a:lnTo>
                    <a:pt x="676" y="703"/>
                  </a:lnTo>
                  <a:lnTo>
                    <a:pt x="680" y="706"/>
                  </a:lnTo>
                  <a:lnTo>
                    <a:pt x="685" y="704"/>
                  </a:lnTo>
                  <a:lnTo>
                    <a:pt x="687" y="700"/>
                  </a:lnTo>
                  <a:lnTo>
                    <a:pt x="688" y="693"/>
                  </a:lnTo>
                  <a:lnTo>
                    <a:pt x="687" y="683"/>
                  </a:lnTo>
                  <a:lnTo>
                    <a:pt x="684" y="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17360" y="3383640"/>
              <a:ext cx="565560" cy="493920"/>
            </a:xfrm>
            <a:custGeom>
              <a:avLst/>
              <a:gdLst/>
              <a:ahLst/>
              <a:rect l="l" t="t" r="r" b="b"/>
              <a:pathLst>
                <a:path w="1164" h="1039">
                  <a:moveTo>
                    <a:pt x="659" y="0"/>
                  </a:moveTo>
                  <a:lnTo>
                    <a:pt x="759" y="53"/>
                  </a:lnTo>
                  <a:lnTo>
                    <a:pt x="756" y="56"/>
                  </a:lnTo>
                  <a:lnTo>
                    <a:pt x="758" y="59"/>
                  </a:lnTo>
                  <a:lnTo>
                    <a:pt x="774" y="63"/>
                  </a:lnTo>
                  <a:lnTo>
                    <a:pt x="800" y="67"/>
                  </a:lnTo>
                  <a:lnTo>
                    <a:pt x="806" y="69"/>
                  </a:lnTo>
                  <a:lnTo>
                    <a:pt x="812" y="72"/>
                  </a:lnTo>
                  <a:lnTo>
                    <a:pt x="820" y="82"/>
                  </a:lnTo>
                  <a:lnTo>
                    <a:pt x="825" y="87"/>
                  </a:lnTo>
                  <a:lnTo>
                    <a:pt x="830" y="91"/>
                  </a:lnTo>
                  <a:lnTo>
                    <a:pt x="837" y="92"/>
                  </a:lnTo>
                  <a:lnTo>
                    <a:pt x="846" y="91"/>
                  </a:lnTo>
                  <a:lnTo>
                    <a:pt x="895" y="137"/>
                  </a:lnTo>
                  <a:lnTo>
                    <a:pt x="895" y="166"/>
                  </a:lnTo>
                  <a:lnTo>
                    <a:pt x="900" y="194"/>
                  </a:lnTo>
                  <a:lnTo>
                    <a:pt x="912" y="221"/>
                  </a:lnTo>
                  <a:lnTo>
                    <a:pt x="918" y="232"/>
                  </a:lnTo>
                  <a:lnTo>
                    <a:pt x="927" y="243"/>
                  </a:lnTo>
                  <a:lnTo>
                    <a:pt x="927" y="252"/>
                  </a:lnTo>
                  <a:lnTo>
                    <a:pt x="929" y="259"/>
                  </a:lnTo>
                  <a:lnTo>
                    <a:pt x="940" y="273"/>
                  </a:lnTo>
                  <a:lnTo>
                    <a:pt x="947" y="331"/>
                  </a:lnTo>
                  <a:lnTo>
                    <a:pt x="933" y="328"/>
                  </a:lnTo>
                  <a:lnTo>
                    <a:pt x="916" y="326"/>
                  </a:lnTo>
                  <a:lnTo>
                    <a:pt x="914" y="331"/>
                  </a:lnTo>
                  <a:lnTo>
                    <a:pt x="914" y="336"/>
                  </a:lnTo>
                  <a:lnTo>
                    <a:pt x="919" y="349"/>
                  </a:lnTo>
                  <a:lnTo>
                    <a:pt x="926" y="365"/>
                  </a:lnTo>
                  <a:lnTo>
                    <a:pt x="927" y="373"/>
                  </a:lnTo>
                  <a:lnTo>
                    <a:pt x="927" y="379"/>
                  </a:lnTo>
                  <a:lnTo>
                    <a:pt x="931" y="383"/>
                  </a:lnTo>
                  <a:lnTo>
                    <a:pt x="943" y="394"/>
                  </a:lnTo>
                  <a:lnTo>
                    <a:pt x="958" y="410"/>
                  </a:lnTo>
                  <a:lnTo>
                    <a:pt x="959" y="420"/>
                  </a:lnTo>
                  <a:lnTo>
                    <a:pt x="964" y="433"/>
                  </a:lnTo>
                  <a:lnTo>
                    <a:pt x="968" y="447"/>
                  </a:lnTo>
                  <a:lnTo>
                    <a:pt x="970" y="458"/>
                  </a:lnTo>
                  <a:lnTo>
                    <a:pt x="971" y="464"/>
                  </a:lnTo>
                  <a:lnTo>
                    <a:pt x="975" y="468"/>
                  </a:lnTo>
                  <a:lnTo>
                    <a:pt x="979" y="471"/>
                  </a:lnTo>
                  <a:lnTo>
                    <a:pt x="984" y="477"/>
                  </a:lnTo>
                  <a:lnTo>
                    <a:pt x="984" y="624"/>
                  </a:lnTo>
                  <a:lnTo>
                    <a:pt x="973" y="635"/>
                  </a:lnTo>
                  <a:lnTo>
                    <a:pt x="964" y="645"/>
                  </a:lnTo>
                  <a:lnTo>
                    <a:pt x="960" y="650"/>
                  </a:lnTo>
                  <a:lnTo>
                    <a:pt x="959" y="656"/>
                  </a:lnTo>
                  <a:lnTo>
                    <a:pt x="959" y="662"/>
                  </a:lnTo>
                  <a:lnTo>
                    <a:pt x="961" y="670"/>
                  </a:lnTo>
                  <a:lnTo>
                    <a:pt x="1005" y="689"/>
                  </a:lnTo>
                  <a:lnTo>
                    <a:pt x="1011" y="695"/>
                  </a:lnTo>
                  <a:lnTo>
                    <a:pt x="1029" y="710"/>
                  </a:lnTo>
                  <a:lnTo>
                    <a:pt x="1037" y="717"/>
                  </a:lnTo>
                  <a:lnTo>
                    <a:pt x="1040" y="721"/>
                  </a:lnTo>
                  <a:lnTo>
                    <a:pt x="1041" y="725"/>
                  </a:lnTo>
                  <a:lnTo>
                    <a:pt x="1048" y="728"/>
                  </a:lnTo>
                  <a:lnTo>
                    <a:pt x="1080" y="736"/>
                  </a:lnTo>
                  <a:lnTo>
                    <a:pt x="1080" y="743"/>
                  </a:lnTo>
                  <a:lnTo>
                    <a:pt x="1084" y="748"/>
                  </a:lnTo>
                  <a:lnTo>
                    <a:pt x="1095" y="760"/>
                  </a:lnTo>
                  <a:lnTo>
                    <a:pt x="1129" y="840"/>
                  </a:lnTo>
                  <a:lnTo>
                    <a:pt x="1164" y="869"/>
                  </a:lnTo>
                  <a:lnTo>
                    <a:pt x="1152" y="871"/>
                  </a:lnTo>
                  <a:lnTo>
                    <a:pt x="1146" y="876"/>
                  </a:lnTo>
                  <a:lnTo>
                    <a:pt x="1144" y="882"/>
                  </a:lnTo>
                  <a:lnTo>
                    <a:pt x="1142" y="891"/>
                  </a:lnTo>
                  <a:lnTo>
                    <a:pt x="1147" y="912"/>
                  </a:lnTo>
                  <a:lnTo>
                    <a:pt x="1151" y="937"/>
                  </a:lnTo>
                  <a:lnTo>
                    <a:pt x="1158" y="938"/>
                  </a:lnTo>
                  <a:lnTo>
                    <a:pt x="1162" y="940"/>
                  </a:lnTo>
                  <a:lnTo>
                    <a:pt x="1164" y="943"/>
                  </a:lnTo>
                  <a:lnTo>
                    <a:pt x="1162" y="948"/>
                  </a:lnTo>
                  <a:lnTo>
                    <a:pt x="1146" y="975"/>
                  </a:lnTo>
                  <a:lnTo>
                    <a:pt x="1136" y="983"/>
                  </a:lnTo>
                  <a:lnTo>
                    <a:pt x="1126" y="990"/>
                  </a:lnTo>
                  <a:lnTo>
                    <a:pt x="1115" y="993"/>
                  </a:lnTo>
                  <a:lnTo>
                    <a:pt x="1102" y="997"/>
                  </a:lnTo>
                  <a:lnTo>
                    <a:pt x="1078" y="999"/>
                  </a:lnTo>
                  <a:lnTo>
                    <a:pt x="1053" y="999"/>
                  </a:lnTo>
                  <a:lnTo>
                    <a:pt x="1028" y="1000"/>
                  </a:lnTo>
                  <a:lnTo>
                    <a:pt x="1004" y="1004"/>
                  </a:lnTo>
                  <a:lnTo>
                    <a:pt x="993" y="1008"/>
                  </a:lnTo>
                  <a:lnTo>
                    <a:pt x="983" y="1014"/>
                  </a:lnTo>
                  <a:lnTo>
                    <a:pt x="973" y="1022"/>
                  </a:lnTo>
                  <a:lnTo>
                    <a:pt x="965" y="1032"/>
                  </a:lnTo>
                  <a:lnTo>
                    <a:pt x="949" y="1036"/>
                  </a:lnTo>
                  <a:lnTo>
                    <a:pt x="934" y="1039"/>
                  </a:lnTo>
                  <a:lnTo>
                    <a:pt x="918" y="1039"/>
                  </a:lnTo>
                  <a:lnTo>
                    <a:pt x="902" y="1036"/>
                  </a:lnTo>
                  <a:lnTo>
                    <a:pt x="886" y="1033"/>
                  </a:lnTo>
                  <a:lnTo>
                    <a:pt x="872" y="1029"/>
                  </a:lnTo>
                  <a:lnTo>
                    <a:pt x="844" y="1015"/>
                  </a:lnTo>
                  <a:lnTo>
                    <a:pt x="837" y="1012"/>
                  </a:lnTo>
                  <a:lnTo>
                    <a:pt x="830" y="1005"/>
                  </a:lnTo>
                  <a:lnTo>
                    <a:pt x="813" y="987"/>
                  </a:lnTo>
                  <a:lnTo>
                    <a:pt x="792" y="959"/>
                  </a:lnTo>
                  <a:lnTo>
                    <a:pt x="788" y="959"/>
                  </a:lnTo>
                  <a:lnTo>
                    <a:pt x="781" y="955"/>
                  </a:lnTo>
                  <a:lnTo>
                    <a:pt x="756" y="942"/>
                  </a:lnTo>
                  <a:lnTo>
                    <a:pt x="736" y="929"/>
                  </a:lnTo>
                  <a:lnTo>
                    <a:pt x="732" y="924"/>
                  </a:lnTo>
                  <a:lnTo>
                    <a:pt x="735" y="924"/>
                  </a:lnTo>
                  <a:lnTo>
                    <a:pt x="732" y="925"/>
                  </a:lnTo>
                  <a:lnTo>
                    <a:pt x="731" y="928"/>
                  </a:lnTo>
                  <a:lnTo>
                    <a:pt x="731" y="932"/>
                  </a:lnTo>
                  <a:lnTo>
                    <a:pt x="731" y="938"/>
                  </a:lnTo>
                  <a:lnTo>
                    <a:pt x="728" y="943"/>
                  </a:lnTo>
                  <a:lnTo>
                    <a:pt x="719" y="938"/>
                  </a:lnTo>
                  <a:lnTo>
                    <a:pt x="709" y="933"/>
                  </a:lnTo>
                  <a:lnTo>
                    <a:pt x="683" y="924"/>
                  </a:lnTo>
                  <a:lnTo>
                    <a:pt x="671" y="931"/>
                  </a:lnTo>
                  <a:lnTo>
                    <a:pt x="661" y="938"/>
                  </a:lnTo>
                  <a:lnTo>
                    <a:pt x="648" y="944"/>
                  </a:lnTo>
                  <a:lnTo>
                    <a:pt x="641" y="945"/>
                  </a:lnTo>
                  <a:lnTo>
                    <a:pt x="633" y="947"/>
                  </a:lnTo>
                  <a:lnTo>
                    <a:pt x="631" y="949"/>
                  </a:lnTo>
                  <a:lnTo>
                    <a:pt x="630" y="951"/>
                  </a:lnTo>
                  <a:lnTo>
                    <a:pt x="628" y="958"/>
                  </a:lnTo>
                  <a:lnTo>
                    <a:pt x="627" y="959"/>
                  </a:lnTo>
                  <a:lnTo>
                    <a:pt x="624" y="958"/>
                  </a:lnTo>
                  <a:lnTo>
                    <a:pt x="611" y="940"/>
                  </a:lnTo>
                  <a:lnTo>
                    <a:pt x="575" y="897"/>
                  </a:lnTo>
                  <a:lnTo>
                    <a:pt x="512" y="887"/>
                  </a:lnTo>
                  <a:lnTo>
                    <a:pt x="472" y="840"/>
                  </a:lnTo>
                  <a:lnTo>
                    <a:pt x="472" y="797"/>
                  </a:lnTo>
                  <a:lnTo>
                    <a:pt x="467" y="789"/>
                  </a:lnTo>
                  <a:lnTo>
                    <a:pt x="464" y="786"/>
                  </a:lnTo>
                  <a:lnTo>
                    <a:pt x="460" y="782"/>
                  </a:lnTo>
                  <a:lnTo>
                    <a:pt x="396" y="802"/>
                  </a:lnTo>
                  <a:lnTo>
                    <a:pt x="345" y="736"/>
                  </a:lnTo>
                  <a:lnTo>
                    <a:pt x="342" y="722"/>
                  </a:lnTo>
                  <a:lnTo>
                    <a:pt x="336" y="711"/>
                  </a:lnTo>
                  <a:lnTo>
                    <a:pt x="329" y="701"/>
                  </a:lnTo>
                  <a:lnTo>
                    <a:pt x="319" y="693"/>
                  </a:lnTo>
                  <a:lnTo>
                    <a:pt x="298" y="677"/>
                  </a:lnTo>
                  <a:lnTo>
                    <a:pt x="289" y="668"/>
                  </a:lnTo>
                  <a:lnTo>
                    <a:pt x="280" y="658"/>
                  </a:lnTo>
                  <a:lnTo>
                    <a:pt x="255" y="656"/>
                  </a:lnTo>
                  <a:lnTo>
                    <a:pt x="243" y="654"/>
                  </a:lnTo>
                  <a:lnTo>
                    <a:pt x="237" y="651"/>
                  </a:lnTo>
                  <a:lnTo>
                    <a:pt x="228" y="642"/>
                  </a:lnTo>
                  <a:lnTo>
                    <a:pt x="221" y="616"/>
                  </a:lnTo>
                  <a:lnTo>
                    <a:pt x="213" y="610"/>
                  </a:lnTo>
                  <a:lnTo>
                    <a:pt x="204" y="605"/>
                  </a:lnTo>
                  <a:lnTo>
                    <a:pt x="188" y="608"/>
                  </a:lnTo>
                  <a:lnTo>
                    <a:pt x="172" y="609"/>
                  </a:lnTo>
                  <a:lnTo>
                    <a:pt x="157" y="607"/>
                  </a:lnTo>
                  <a:lnTo>
                    <a:pt x="141" y="601"/>
                  </a:lnTo>
                  <a:lnTo>
                    <a:pt x="123" y="587"/>
                  </a:lnTo>
                  <a:lnTo>
                    <a:pt x="109" y="570"/>
                  </a:lnTo>
                  <a:lnTo>
                    <a:pt x="61" y="554"/>
                  </a:lnTo>
                  <a:lnTo>
                    <a:pt x="54" y="550"/>
                  </a:lnTo>
                  <a:lnTo>
                    <a:pt x="52" y="547"/>
                  </a:lnTo>
                  <a:lnTo>
                    <a:pt x="52" y="539"/>
                  </a:lnTo>
                  <a:lnTo>
                    <a:pt x="52" y="536"/>
                  </a:lnTo>
                  <a:lnTo>
                    <a:pt x="49" y="533"/>
                  </a:lnTo>
                  <a:lnTo>
                    <a:pt x="42" y="531"/>
                  </a:lnTo>
                  <a:lnTo>
                    <a:pt x="30" y="530"/>
                  </a:lnTo>
                  <a:lnTo>
                    <a:pt x="21" y="525"/>
                  </a:lnTo>
                  <a:lnTo>
                    <a:pt x="12" y="517"/>
                  </a:lnTo>
                  <a:lnTo>
                    <a:pt x="4" y="508"/>
                  </a:lnTo>
                  <a:lnTo>
                    <a:pt x="0" y="497"/>
                  </a:lnTo>
                  <a:lnTo>
                    <a:pt x="0" y="404"/>
                  </a:lnTo>
                  <a:lnTo>
                    <a:pt x="2" y="396"/>
                  </a:lnTo>
                  <a:lnTo>
                    <a:pt x="8" y="388"/>
                  </a:lnTo>
                  <a:lnTo>
                    <a:pt x="14" y="383"/>
                  </a:lnTo>
                  <a:lnTo>
                    <a:pt x="23" y="379"/>
                  </a:lnTo>
                  <a:lnTo>
                    <a:pt x="60" y="365"/>
                  </a:lnTo>
                  <a:lnTo>
                    <a:pt x="98" y="350"/>
                  </a:lnTo>
                  <a:lnTo>
                    <a:pt x="100" y="348"/>
                  </a:lnTo>
                  <a:lnTo>
                    <a:pt x="103" y="348"/>
                  </a:lnTo>
                  <a:lnTo>
                    <a:pt x="110" y="353"/>
                  </a:lnTo>
                  <a:lnTo>
                    <a:pt x="118" y="359"/>
                  </a:lnTo>
                  <a:lnTo>
                    <a:pt x="121" y="362"/>
                  </a:lnTo>
                  <a:lnTo>
                    <a:pt x="127" y="363"/>
                  </a:lnTo>
                  <a:lnTo>
                    <a:pt x="152" y="350"/>
                  </a:lnTo>
                  <a:lnTo>
                    <a:pt x="178" y="322"/>
                  </a:lnTo>
                  <a:lnTo>
                    <a:pt x="254" y="322"/>
                  </a:lnTo>
                  <a:lnTo>
                    <a:pt x="259" y="325"/>
                  </a:lnTo>
                  <a:lnTo>
                    <a:pt x="260" y="331"/>
                  </a:lnTo>
                  <a:lnTo>
                    <a:pt x="261" y="336"/>
                  </a:lnTo>
                  <a:lnTo>
                    <a:pt x="263" y="343"/>
                  </a:lnTo>
                  <a:lnTo>
                    <a:pt x="272" y="345"/>
                  </a:lnTo>
                  <a:lnTo>
                    <a:pt x="294" y="347"/>
                  </a:lnTo>
                  <a:lnTo>
                    <a:pt x="324" y="350"/>
                  </a:lnTo>
                  <a:lnTo>
                    <a:pt x="326" y="348"/>
                  </a:lnTo>
                  <a:lnTo>
                    <a:pt x="328" y="344"/>
                  </a:lnTo>
                  <a:lnTo>
                    <a:pt x="329" y="338"/>
                  </a:lnTo>
                  <a:lnTo>
                    <a:pt x="331" y="336"/>
                  </a:lnTo>
                  <a:lnTo>
                    <a:pt x="334" y="335"/>
                  </a:lnTo>
                  <a:lnTo>
                    <a:pt x="341" y="336"/>
                  </a:lnTo>
                  <a:lnTo>
                    <a:pt x="350" y="335"/>
                  </a:lnTo>
                  <a:lnTo>
                    <a:pt x="360" y="334"/>
                  </a:lnTo>
                  <a:lnTo>
                    <a:pt x="369" y="334"/>
                  </a:lnTo>
                  <a:lnTo>
                    <a:pt x="384" y="331"/>
                  </a:lnTo>
                  <a:lnTo>
                    <a:pt x="401" y="328"/>
                  </a:lnTo>
                  <a:lnTo>
                    <a:pt x="431" y="325"/>
                  </a:lnTo>
                  <a:lnTo>
                    <a:pt x="445" y="323"/>
                  </a:lnTo>
                  <a:lnTo>
                    <a:pt x="457" y="317"/>
                  </a:lnTo>
                  <a:lnTo>
                    <a:pt x="470" y="311"/>
                  </a:lnTo>
                  <a:lnTo>
                    <a:pt x="482" y="298"/>
                  </a:lnTo>
                  <a:lnTo>
                    <a:pt x="480" y="214"/>
                  </a:lnTo>
                  <a:lnTo>
                    <a:pt x="483" y="210"/>
                  </a:lnTo>
                  <a:lnTo>
                    <a:pt x="489" y="201"/>
                  </a:lnTo>
                  <a:lnTo>
                    <a:pt x="497" y="186"/>
                  </a:lnTo>
                  <a:lnTo>
                    <a:pt x="506" y="125"/>
                  </a:lnTo>
                  <a:lnTo>
                    <a:pt x="566" y="40"/>
                  </a:lnTo>
                  <a:lnTo>
                    <a:pt x="590" y="21"/>
                  </a:lnTo>
                  <a:lnTo>
                    <a:pt x="594" y="16"/>
                  </a:lnTo>
                  <a:lnTo>
                    <a:pt x="593" y="22"/>
                  </a:lnTo>
                  <a:lnTo>
                    <a:pt x="594" y="26"/>
                  </a:lnTo>
                  <a:lnTo>
                    <a:pt x="598" y="32"/>
                  </a:lnTo>
                  <a:lnTo>
                    <a:pt x="594" y="30"/>
                  </a:lnTo>
                  <a:lnTo>
                    <a:pt x="593" y="27"/>
                  </a:lnTo>
                  <a:lnTo>
                    <a:pt x="594" y="25"/>
                  </a:lnTo>
                  <a:lnTo>
                    <a:pt x="596" y="23"/>
                  </a:lnTo>
                  <a:lnTo>
                    <a:pt x="606" y="21"/>
                  </a:lnTo>
                  <a:lnTo>
                    <a:pt x="621" y="19"/>
                  </a:lnTo>
                  <a:lnTo>
                    <a:pt x="648" y="16"/>
                  </a:lnTo>
                  <a:lnTo>
                    <a:pt x="656" y="17"/>
                  </a:lnTo>
                  <a:lnTo>
                    <a:pt x="657" y="17"/>
                  </a:lnTo>
                  <a:lnTo>
                    <a:pt x="657" y="19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7120" y="3279960"/>
              <a:ext cx="139680" cy="174960"/>
            </a:xfrm>
            <a:custGeom>
              <a:avLst/>
              <a:gdLst/>
              <a:ahLst/>
              <a:rect l="l" t="t" r="r" b="b"/>
              <a:pathLst>
                <a:path w="290" h="368">
                  <a:moveTo>
                    <a:pt x="162" y="7"/>
                  </a:moveTo>
                  <a:lnTo>
                    <a:pt x="181" y="38"/>
                  </a:lnTo>
                  <a:lnTo>
                    <a:pt x="192" y="52"/>
                  </a:lnTo>
                  <a:lnTo>
                    <a:pt x="205" y="65"/>
                  </a:lnTo>
                  <a:lnTo>
                    <a:pt x="218" y="77"/>
                  </a:lnTo>
                  <a:lnTo>
                    <a:pt x="232" y="84"/>
                  </a:lnTo>
                  <a:lnTo>
                    <a:pt x="248" y="90"/>
                  </a:lnTo>
                  <a:lnTo>
                    <a:pt x="266" y="92"/>
                  </a:lnTo>
                  <a:lnTo>
                    <a:pt x="278" y="108"/>
                  </a:lnTo>
                  <a:lnTo>
                    <a:pt x="286" y="124"/>
                  </a:lnTo>
                  <a:lnTo>
                    <a:pt x="290" y="141"/>
                  </a:lnTo>
                  <a:lnTo>
                    <a:pt x="290" y="159"/>
                  </a:lnTo>
                  <a:lnTo>
                    <a:pt x="288" y="176"/>
                  </a:lnTo>
                  <a:lnTo>
                    <a:pt x="283" y="195"/>
                  </a:lnTo>
                  <a:lnTo>
                    <a:pt x="276" y="212"/>
                  </a:lnTo>
                  <a:lnTo>
                    <a:pt x="266" y="230"/>
                  </a:lnTo>
                  <a:lnTo>
                    <a:pt x="253" y="245"/>
                  </a:lnTo>
                  <a:lnTo>
                    <a:pt x="240" y="261"/>
                  </a:lnTo>
                  <a:lnTo>
                    <a:pt x="226" y="274"/>
                  </a:lnTo>
                  <a:lnTo>
                    <a:pt x="209" y="285"/>
                  </a:lnTo>
                  <a:lnTo>
                    <a:pt x="193" y="295"/>
                  </a:lnTo>
                  <a:lnTo>
                    <a:pt x="177" y="303"/>
                  </a:lnTo>
                  <a:lnTo>
                    <a:pt x="160" y="307"/>
                  </a:lnTo>
                  <a:lnTo>
                    <a:pt x="145" y="309"/>
                  </a:lnTo>
                  <a:lnTo>
                    <a:pt x="122" y="327"/>
                  </a:lnTo>
                  <a:lnTo>
                    <a:pt x="96" y="345"/>
                  </a:lnTo>
                  <a:lnTo>
                    <a:pt x="67" y="361"/>
                  </a:lnTo>
                  <a:lnTo>
                    <a:pt x="55" y="365"/>
                  </a:lnTo>
                  <a:lnTo>
                    <a:pt x="42" y="368"/>
                  </a:lnTo>
                  <a:lnTo>
                    <a:pt x="30" y="368"/>
                  </a:lnTo>
                  <a:lnTo>
                    <a:pt x="24" y="366"/>
                  </a:lnTo>
                  <a:lnTo>
                    <a:pt x="18" y="362"/>
                  </a:lnTo>
                  <a:lnTo>
                    <a:pt x="12" y="355"/>
                  </a:lnTo>
                  <a:lnTo>
                    <a:pt x="8" y="346"/>
                  </a:lnTo>
                  <a:lnTo>
                    <a:pt x="2" y="327"/>
                  </a:lnTo>
                  <a:lnTo>
                    <a:pt x="0" y="314"/>
                  </a:lnTo>
                  <a:lnTo>
                    <a:pt x="17" y="292"/>
                  </a:lnTo>
                  <a:lnTo>
                    <a:pt x="34" y="265"/>
                  </a:lnTo>
                  <a:lnTo>
                    <a:pt x="49" y="237"/>
                  </a:lnTo>
                  <a:lnTo>
                    <a:pt x="60" y="212"/>
                  </a:lnTo>
                  <a:lnTo>
                    <a:pt x="71" y="192"/>
                  </a:lnTo>
                  <a:lnTo>
                    <a:pt x="85" y="174"/>
                  </a:lnTo>
                  <a:lnTo>
                    <a:pt x="115" y="143"/>
                  </a:lnTo>
                  <a:lnTo>
                    <a:pt x="128" y="128"/>
                  </a:lnTo>
                  <a:lnTo>
                    <a:pt x="133" y="119"/>
                  </a:lnTo>
                  <a:lnTo>
                    <a:pt x="137" y="110"/>
                  </a:lnTo>
                  <a:lnTo>
                    <a:pt x="140" y="99"/>
                  </a:lnTo>
                  <a:lnTo>
                    <a:pt x="141" y="88"/>
                  </a:lnTo>
                  <a:lnTo>
                    <a:pt x="141" y="75"/>
                  </a:lnTo>
                  <a:lnTo>
                    <a:pt x="139" y="61"/>
                  </a:lnTo>
                  <a:lnTo>
                    <a:pt x="139" y="38"/>
                  </a:lnTo>
                  <a:lnTo>
                    <a:pt x="130" y="28"/>
                  </a:lnTo>
                  <a:lnTo>
                    <a:pt x="128" y="21"/>
                  </a:lnTo>
                  <a:lnTo>
                    <a:pt x="127" y="13"/>
                  </a:lnTo>
                  <a:lnTo>
                    <a:pt x="131" y="12"/>
                  </a:lnTo>
                  <a:lnTo>
                    <a:pt x="136" y="10"/>
                  </a:lnTo>
                  <a:lnTo>
                    <a:pt x="140" y="8"/>
                  </a:lnTo>
                  <a:lnTo>
                    <a:pt x="145" y="7"/>
                  </a:lnTo>
                  <a:lnTo>
                    <a:pt x="146" y="3"/>
                  </a:lnTo>
                  <a:lnTo>
                    <a:pt x="151" y="0"/>
                  </a:lnTo>
                  <a:lnTo>
                    <a:pt x="157" y="1"/>
                  </a:lnTo>
                  <a:lnTo>
                    <a:pt x="16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44760" y="3732840"/>
              <a:ext cx="77400" cy="136800"/>
            </a:xfrm>
            <a:custGeom>
              <a:avLst/>
              <a:gdLst/>
              <a:ahLst/>
              <a:rect l="l" t="t" r="r" b="b"/>
              <a:pathLst>
                <a:path w="158" h="289">
                  <a:moveTo>
                    <a:pt x="43" y="0"/>
                  </a:moveTo>
                  <a:lnTo>
                    <a:pt x="51" y="1"/>
                  </a:lnTo>
                  <a:lnTo>
                    <a:pt x="60" y="5"/>
                  </a:lnTo>
                  <a:lnTo>
                    <a:pt x="76" y="12"/>
                  </a:lnTo>
                  <a:lnTo>
                    <a:pt x="91" y="21"/>
                  </a:lnTo>
                  <a:lnTo>
                    <a:pt x="100" y="23"/>
                  </a:lnTo>
                  <a:lnTo>
                    <a:pt x="109" y="25"/>
                  </a:lnTo>
                  <a:lnTo>
                    <a:pt x="117" y="39"/>
                  </a:lnTo>
                  <a:lnTo>
                    <a:pt x="130" y="55"/>
                  </a:lnTo>
                  <a:lnTo>
                    <a:pt x="142" y="70"/>
                  </a:lnTo>
                  <a:lnTo>
                    <a:pt x="151" y="83"/>
                  </a:lnTo>
                  <a:lnTo>
                    <a:pt x="154" y="94"/>
                  </a:lnTo>
                  <a:lnTo>
                    <a:pt x="157" y="107"/>
                  </a:lnTo>
                  <a:lnTo>
                    <a:pt x="158" y="130"/>
                  </a:lnTo>
                  <a:lnTo>
                    <a:pt x="156" y="153"/>
                  </a:lnTo>
                  <a:lnTo>
                    <a:pt x="151" y="177"/>
                  </a:lnTo>
                  <a:lnTo>
                    <a:pt x="139" y="224"/>
                  </a:lnTo>
                  <a:lnTo>
                    <a:pt x="134" y="248"/>
                  </a:lnTo>
                  <a:lnTo>
                    <a:pt x="133" y="270"/>
                  </a:lnTo>
                  <a:lnTo>
                    <a:pt x="116" y="289"/>
                  </a:lnTo>
                  <a:lnTo>
                    <a:pt x="100" y="288"/>
                  </a:lnTo>
                  <a:lnTo>
                    <a:pt x="86" y="284"/>
                  </a:lnTo>
                  <a:lnTo>
                    <a:pt x="73" y="279"/>
                  </a:lnTo>
                  <a:lnTo>
                    <a:pt x="61" y="272"/>
                  </a:lnTo>
                  <a:lnTo>
                    <a:pt x="51" y="263"/>
                  </a:lnTo>
                  <a:lnTo>
                    <a:pt x="41" y="253"/>
                  </a:lnTo>
                  <a:lnTo>
                    <a:pt x="33" y="242"/>
                  </a:lnTo>
                  <a:lnTo>
                    <a:pt x="26" y="230"/>
                  </a:lnTo>
                  <a:lnTo>
                    <a:pt x="15" y="203"/>
                  </a:lnTo>
                  <a:lnTo>
                    <a:pt x="6" y="174"/>
                  </a:lnTo>
                  <a:lnTo>
                    <a:pt x="1" y="147"/>
                  </a:lnTo>
                  <a:lnTo>
                    <a:pt x="0" y="120"/>
                  </a:lnTo>
                  <a:lnTo>
                    <a:pt x="55" y="67"/>
                  </a:lnTo>
                  <a:lnTo>
                    <a:pt x="52" y="49"/>
                  </a:lnTo>
                  <a:lnTo>
                    <a:pt x="49" y="31"/>
                  </a:lnTo>
                  <a:lnTo>
                    <a:pt x="45" y="1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86440" y="3421440"/>
              <a:ext cx="46440" cy="71280"/>
            </a:xfrm>
            <a:custGeom>
              <a:avLst/>
              <a:gdLst/>
              <a:ahLst/>
              <a:rect l="l" t="t" r="r" b="b"/>
              <a:pathLst>
                <a:path w="90" h="152">
                  <a:moveTo>
                    <a:pt x="17" y="0"/>
                  </a:moveTo>
                  <a:lnTo>
                    <a:pt x="30" y="2"/>
                  </a:lnTo>
                  <a:lnTo>
                    <a:pt x="44" y="8"/>
                  </a:lnTo>
                  <a:lnTo>
                    <a:pt x="56" y="16"/>
                  </a:lnTo>
                  <a:lnTo>
                    <a:pt x="66" y="25"/>
                  </a:lnTo>
                  <a:lnTo>
                    <a:pt x="67" y="38"/>
                  </a:lnTo>
                  <a:lnTo>
                    <a:pt x="70" y="52"/>
                  </a:lnTo>
                  <a:lnTo>
                    <a:pt x="80" y="87"/>
                  </a:lnTo>
                  <a:lnTo>
                    <a:pt x="88" y="121"/>
                  </a:lnTo>
                  <a:lnTo>
                    <a:pt x="90" y="135"/>
                  </a:lnTo>
                  <a:lnTo>
                    <a:pt x="90" y="146"/>
                  </a:lnTo>
                  <a:lnTo>
                    <a:pt x="84" y="151"/>
                  </a:lnTo>
                  <a:lnTo>
                    <a:pt x="78" y="152"/>
                  </a:lnTo>
                  <a:lnTo>
                    <a:pt x="74" y="150"/>
                  </a:lnTo>
                  <a:lnTo>
                    <a:pt x="61" y="142"/>
                  </a:lnTo>
                  <a:lnTo>
                    <a:pt x="49" y="132"/>
                  </a:lnTo>
                  <a:lnTo>
                    <a:pt x="42" y="129"/>
                  </a:lnTo>
                  <a:lnTo>
                    <a:pt x="36" y="128"/>
                  </a:lnTo>
                  <a:lnTo>
                    <a:pt x="17" y="98"/>
                  </a:lnTo>
                  <a:lnTo>
                    <a:pt x="9" y="83"/>
                  </a:lnTo>
                  <a:lnTo>
                    <a:pt x="4" y="69"/>
                  </a:lnTo>
                  <a:lnTo>
                    <a:pt x="0" y="53"/>
                  </a:lnTo>
                  <a:lnTo>
                    <a:pt x="1" y="37"/>
                  </a:lnTo>
                  <a:lnTo>
                    <a:pt x="6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67000" y="3337920"/>
              <a:ext cx="50040" cy="60120"/>
            </a:xfrm>
            <a:custGeom>
              <a:avLst/>
              <a:gdLst/>
              <a:ahLst/>
              <a:rect l="l" t="t" r="r" b="b"/>
              <a:pathLst>
                <a:path w="102" h="128">
                  <a:moveTo>
                    <a:pt x="48" y="126"/>
                  </a:moveTo>
                  <a:lnTo>
                    <a:pt x="63" y="124"/>
                  </a:lnTo>
                  <a:lnTo>
                    <a:pt x="77" y="118"/>
                  </a:lnTo>
                  <a:lnTo>
                    <a:pt x="89" y="110"/>
                  </a:lnTo>
                  <a:lnTo>
                    <a:pt x="102" y="97"/>
                  </a:lnTo>
                  <a:lnTo>
                    <a:pt x="93" y="66"/>
                  </a:lnTo>
                  <a:lnTo>
                    <a:pt x="91" y="49"/>
                  </a:lnTo>
                  <a:lnTo>
                    <a:pt x="90" y="31"/>
                  </a:lnTo>
                  <a:lnTo>
                    <a:pt x="79" y="15"/>
                  </a:lnTo>
                  <a:lnTo>
                    <a:pt x="73" y="6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30" y="19"/>
                  </a:lnTo>
                  <a:lnTo>
                    <a:pt x="30" y="66"/>
                  </a:lnTo>
                  <a:lnTo>
                    <a:pt x="21" y="79"/>
                  </a:lnTo>
                  <a:lnTo>
                    <a:pt x="12" y="94"/>
                  </a:lnTo>
                  <a:lnTo>
                    <a:pt x="0" y="121"/>
                  </a:lnTo>
                  <a:lnTo>
                    <a:pt x="5" y="123"/>
                  </a:lnTo>
                  <a:lnTo>
                    <a:pt x="14" y="126"/>
                  </a:lnTo>
                  <a:lnTo>
                    <a:pt x="28" y="128"/>
                  </a:lnTo>
                  <a:lnTo>
                    <a:pt x="4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93600" y="3497400"/>
              <a:ext cx="50040" cy="532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11" y="115"/>
                  </a:moveTo>
                  <a:lnTo>
                    <a:pt x="5" y="103"/>
                  </a:lnTo>
                  <a:lnTo>
                    <a:pt x="1" y="90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9" y="53"/>
                  </a:lnTo>
                  <a:lnTo>
                    <a:pt x="15" y="50"/>
                  </a:lnTo>
                  <a:lnTo>
                    <a:pt x="24" y="49"/>
                  </a:lnTo>
                  <a:lnTo>
                    <a:pt x="34" y="36"/>
                  </a:lnTo>
                  <a:lnTo>
                    <a:pt x="45" y="23"/>
                  </a:lnTo>
                  <a:lnTo>
                    <a:pt x="66" y="0"/>
                  </a:lnTo>
                  <a:lnTo>
                    <a:pt x="75" y="4"/>
                  </a:lnTo>
                  <a:lnTo>
                    <a:pt x="85" y="6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1" y="26"/>
                  </a:lnTo>
                  <a:lnTo>
                    <a:pt x="97" y="30"/>
                  </a:lnTo>
                  <a:lnTo>
                    <a:pt x="99" y="58"/>
                  </a:lnTo>
                  <a:lnTo>
                    <a:pt x="101" y="85"/>
                  </a:lnTo>
                  <a:lnTo>
                    <a:pt x="96" y="90"/>
                  </a:lnTo>
                  <a:lnTo>
                    <a:pt x="89" y="97"/>
                  </a:lnTo>
                  <a:lnTo>
                    <a:pt x="81" y="101"/>
                  </a:lnTo>
                  <a:lnTo>
                    <a:pt x="72" y="104"/>
                  </a:lnTo>
                  <a:lnTo>
                    <a:pt x="71" y="86"/>
                  </a:lnTo>
                  <a:lnTo>
                    <a:pt x="69" y="77"/>
                  </a:lnTo>
                  <a:lnTo>
                    <a:pt x="68" y="74"/>
                  </a:lnTo>
                  <a:lnTo>
                    <a:pt x="66" y="73"/>
                  </a:lnTo>
                  <a:lnTo>
                    <a:pt x="54" y="73"/>
                  </a:lnTo>
                  <a:lnTo>
                    <a:pt x="51" y="75"/>
                  </a:lnTo>
                  <a:lnTo>
                    <a:pt x="48" y="78"/>
                  </a:lnTo>
                  <a:lnTo>
                    <a:pt x="43" y="91"/>
                  </a:lnTo>
                  <a:lnTo>
                    <a:pt x="36" y="115"/>
                  </a:lnTo>
                  <a:lnTo>
                    <a:pt x="21" y="112"/>
                  </a:lnTo>
                  <a:lnTo>
                    <a:pt x="16" y="112"/>
                  </a:lnTo>
                  <a:lnTo>
                    <a:pt x="11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7920" y="2957400"/>
              <a:ext cx="77400" cy="105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19" y="222"/>
                  </a:moveTo>
                  <a:lnTo>
                    <a:pt x="74" y="189"/>
                  </a:lnTo>
                  <a:lnTo>
                    <a:pt x="103" y="169"/>
                  </a:lnTo>
                  <a:lnTo>
                    <a:pt x="127" y="150"/>
                  </a:lnTo>
                  <a:lnTo>
                    <a:pt x="124" y="140"/>
                  </a:lnTo>
                  <a:lnTo>
                    <a:pt x="121" y="130"/>
                  </a:lnTo>
                  <a:lnTo>
                    <a:pt x="116" y="115"/>
                  </a:lnTo>
                  <a:lnTo>
                    <a:pt x="151" y="115"/>
                  </a:lnTo>
                  <a:lnTo>
                    <a:pt x="163" y="103"/>
                  </a:lnTo>
                  <a:lnTo>
                    <a:pt x="161" y="86"/>
                  </a:lnTo>
                  <a:lnTo>
                    <a:pt x="154" y="70"/>
                  </a:lnTo>
                  <a:lnTo>
                    <a:pt x="146" y="56"/>
                  </a:lnTo>
                  <a:lnTo>
                    <a:pt x="133" y="43"/>
                  </a:lnTo>
                  <a:lnTo>
                    <a:pt x="130" y="21"/>
                  </a:lnTo>
                  <a:lnTo>
                    <a:pt x="127" y="0"/>
                  </a:lnTo>
                  <a:lnTo>
                    <a:pt x="116" y="2"/>
                  </a:lnTo>
                  <a:lnTo>
                    <a:pt x="107" y="3"/>
                  </a:lnTo>
                  <a:lnTo>
                    <a:pt x="100" y="6"/>
                  </a:lnTo>
                  <a:lnTo>
                    <a:pt x="93" y="10"/>
                  </a:lnTo>
                  <a:lnTo>
                    <a:pt x="83" y="21"/>
                  </a:lnTo>
                  <a:lnTo>
                    <a:pt x="78" y="34"/>
                  </a:lnTo>
                  <a:lnTo>
                    <a:pt x="70" y="64"/>
                  </a:lnTo>
                  <a:lnTo>
                    <a:pt x="67" y="78"/>
                  </a:lnTo>
                  <a:lnTo>
                    <a:pt x="61" y="90"/>
                  </a:lnTo>
                  <a:lnTo>
                    <a:pt x="54" y="96"/>
                  </a:lnTo>
                  <a:lnTo>
                    <a:pt x="48" y="100"/>
                  </a:lnTo>
                  <a:lnTo>
                    <a:pt x="39" y="106"/>
                  </a:lnTo>
                  <a:lnTo>
                    <a:pt x="30" y="110"/>
                  </a:lnTo>
                  <a:lnTo>
                    <a:pt x="25" y="115"/>
                  </a:lnTo>
                  <a:lnTo>
                    <a:pt x="27" y="148"/>
                  </a:lnTo>
                  <a:lnTo>
                    <a:pt x="30" y="181"/>
                  </a:lnTo>
                  <a:lnTo>
                    <a:pt x="16" y="189"/>
                  </a:lnTo>
                  <a:lnTo>
                    <a:pt x="6" y="198"/>
                  </a:lnTo>
                  <a:lnTo>
                    <a:pt x="1" y="210"/>
                  </a:lnTo>
                  <a:lnTo>
                    <a:pt x="0" y="229"/>
                  </a:lnTo>
                  <a:lnTo>
                    <a:pt x="25" y="230"/>
                  </a:lnTo>
                  <a:lnTo>
                    <a:pt x="30" y="230"/>
                  </a:lnTo>
                  <a:lnTo>
                    <a:pt x="31" y="229"/>
                  </a:lnTo>
                  <a:lnTo>
                    <a:pt x="28" y="227"/>
                  </a:lnTo>
                  <a:lnTo>
                    <a:pt x="19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41560" y="2394360"/>
              <a:ext cx="119520" cy="45360"/>
            </a:xfrm>
            <a:custGeom>
              <a:avLst/>
              <a:gdLst/>
              <a:ahLst/>
              <a:rect l="l" t="t" r="r" b="b"/>
              <a:pathLst>
                <a:path w="250" h="96">
                  <a:moveTo>
                    <a:pt x="64" y="11"/>
                  </a:moveTo>
                  <a:lnTo>
                    <a:pt x="222" y="2"/>
                  </a:lnTo>
                  <a:lnTo>
                    <a:pt x="240" y="20"/>
                  </a:lnTo>
                  <a:lnTo>
                    <a:pt x="247" y="29"/>
                  </a:lnTo>
                  <a:lnTo>
                    <a:pt x="249" y="35"/>
                  </a:lnTo>
                  <a:lnTo>
                    <a:pt x="250" y="41"/>
                  </a:lnTo>
                  <a:lnTo>
                    <a:pt x="233" y="53"/>
                  </a:lnTo>
                  <a:lnTo>
                    <a:pt x="215" y="63"/>
                  </a:lnTo>
                  <a:lnTo>
                    <a:pt x="193" y="69"/>
                  </a:lnTo>
                  <a:lnTo>
                    <a:pt x="171" y="71"/>
                  </a:lnTo>
                  <a:lnTo>
                    <a:pt x="163" y="78"/>
                  </a:lnTo>
                  <a:lnTo>
                    <a:pt x="156" y="82"/>
                  </a:lnTo>
                  <a:lnTo>
                    <a:pt x="137" y="90"/>
                  </a:lnTo>
                  <a:lnTo>
                    <a:pt x="115" y="94"/>
                  </a:lnTo>
                  <a:lnTo>
                    <a:pt x="92" y="96"/>
                  </a:lnTo>
                  <a:lnTo>
                    <a:pt x="45" y="96"/>
                  </a:lnTo>
                  <a:lnTo>
                    <a:pt x="4" y="93"/>
                  </a:lnTo>
                  <a:lnTo>
                    <a:pt x="1" y="76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6" y="33"/>
                  </a:lnTo>
                  <a:lnTo>
                    <a:pt x="15" y="27"/>
                  </a:lnTo>
                  <a:lnTo>
                    <a:pt x="44" y="10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75680" y="2410200"/>
              <a:ext cx="93240" cy="71280"/>
            </a:xfrm>
            <a:custGeom>
              <a:avLst/>
              <a:gdLst/>
              <a:ahLst/>
              <a:rect l="l" t="t" r="r" b="b"/>
              <a:pathLst>
                <a:path w="195" h="149">
                  <a:moveTo>
                    <a:pt x="82" y="9"/>
                  </a:moveTo>
                  <a:lnTo>
                    <a:pt x="61" y="13"/>
                  </a:lnTo>
                  <a:lnTo>
                    <a:pt x="38" y="17"/>
                  </a:lnTo>
                  <a:lnTo>
                    <a:pt x="16" y="22"/>
                  </a:lnTo>
                  <a:lnTo>
                    <a:pt x="8" y="28"/>
                  </a:lnTo>
                  <a:lnTo>
                    <a:pt x="0" y="33"/>
                  </a:lnTo>
                  <a:lnTo>
                    <a:pt x="13" y="84"/>
                  </a:lnTo>
                  <a:lnTo>
                    <a:pt x="18" y="96"/>
                  </a:lnTo>
                  <a:lnTo>
                    <a:pt x="26" y="104"/>
                  </a:lnTo>
                  <a:lnTo>
                    <a:pt x="38" y="111"/>
                  </a:lnTo>
                  <a:lnTo>
                    <a:pt x="52" y="115"/>
                  </a:lnTo>
                  <a:lnTo>
                    <a:pt x="84" y="120"/>
                  </a:lnTo>
                  <a:lnTo>
                    <a:pt x="118" y="124"/>
                  </a:lnTo>
                  <a:lnTo>
                    <a:pt x="119" y="125"/>
                  </a:lnTo>
                  <a:lnTo>
                    <a:pt x="119" y="129"/>
                  </a:lnTo>
                  <a:lnTo>
                    <a:pt x="119" y="138"/>
                  </a:lnTo>
                  <a:lnTo>
                    <a:pt x="120" y="143"/>
                  </a:lnTo>
                  <a:lnTo>
                    <a:pt x="121" y="146"/>
                  </a:lnTo>
                  <a:lnTo>
                    <a:pt x="125" y="149"/>
                  </a:lnTo>
                  <a:lnTo>
                    <a:pt x="132" y="148"/>
                  </a:lnTo>
                  <a:lnTo>
                    <a:pt x="195" y="133"/>
                  </a:lnTo>
                  <a:lnTo>
                    <a:pt x="177" y="120"/>
                  </a:lnTo>
                  <a:lnTo>
                    <a:pt x="157" y="104"/>
                  </a:lnTo>
                  <a:lnTo>
                    <a:pt x="149" y="95"/>
                  </a:lnTo>
                  <a:lnTo>
                    <a:pt x="141" y="85"/>
                  </a:lnTo>
                  <a:lnTo>
                    <a:pt x="136" y="75"/>
                  </a:lnTo>
                  <a:lnTo>
                    <a:pt x="135" y="63"/>
                  </a:lnTo>
                  <a:lnTo>
                    <a:pt x="140" y="0"/>
                  </a:lnTo>
                  <a:lnTo>
                    <a:pt x="124" y="1"/>
                  </a:lnTo>
                  <a:lnTo>
                    <a:pt x="108" y="4"/>
                  </a:lnTo>
                  <a:lnTo>
                    <a:pt x="8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30480" y="2569680"/>
              <a:ext cx="38520" cy="3420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43" y="0"/>
                  </a:moveTo>
                  <a:lnTo>
                    <a:pt x="49" y="10"/>
                  </a:lnTo>
                  <a:lnTo>
                    <a:pt x="59" y="20"/>
                  </a:lnTo>
                  <a:lnTo>
                    <a:pt x="80" y="38"/>
                  </a:lnTo>
                  <a:lnTo>
                    <a:pt x="65" y="72"/>
                  </a:lnTo>
                  <a:lnTo>
                    <a:pt x="41" y="69"/>
                  </a:lnTo>
                  <a:lnTo>
                    <a:pt x="29" y="64"/>
                  </a:lnTo>
                  <a:lnTo>
                    <a:pt x="21" y="55"/>
                  </a:lnTo>
                  <a:lnTo>
                    <a:pt x="5" y="36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2" y="2"/>
                  </a:lnTo>
                  <a:lnTo>
                    <a:pt x="34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5200" y="2603880"/>
              <a:ext cx="27000" cy="3348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41" y="0"/>
                  </a:moveTo>
                  <a:lnTo>
                    <a:pt x="43" y="9"/>
                  </a:lnTo>
                  <a:lnTo>
                    <a:pt x="44" y="16"/>
                  </a:lnTo>
                  <a:lnTo>
                    <a:pt x="47" y="24"/>
                  </a:lnTo>
                  <a:lnTo>
                    <a:pt x="53" y="31"/>
                  </a:lnTo>
                  <a:lnTo>
                    <a:pt x="51" y="69"/>
                  </a:lnTo>
                  <a:lnTo>
                    <a:pt x="30" y="69"/>
                  </a:lnTo>
                  <a:lnTo>
                    <a:pt x="23" y="66"/>
                  </a:lnTo>
                  <a:lnTo>
                    <a:pt x="19" y="61"/>
                  </a:lnTo>
                  <a:lnTo>
                    <a:pt x="12" y="47"/>
                  </a:lnTo>
                  <a:lnTo>
                    <a:pt x="7" y="32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4"/>
                  </a:lnTo>
                  <a:lnTo>
                    <a:pt x="16" y="10"/>
                  </a:lnTo>
                  <a:lnTo>
                    <a:pt x="29" y="7"/>
                  </a:lnTo>
                  <a:lnTo>
                    <a:pt x="35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80440" y="2561760"/>
              <a:ext cx="38520" cy="3780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50" y="0"/>
                  </a:moveTo>
                  <a:lnTo>
                    <a:pt x="53" y="3"/>
                  </a:lnTo>
                  <a:lnTo>
                    <a:pt x="56" y="7"/>
                  </a:lnTo>
                  <a:lnTo>
                    <a:pt x="65" y="9"/>
                  </a:lnTo>
                  <a:lnTo>
                    <a:pt x="75" y="11"/>
                  </a:lnTo>
                  <a:lnTo>
                    <a:pt x="79" y="13"/>
                  </a:lnTo>
                  <a:lnTo>
                    <a:pt x="85" y="17"/>
                  </a:lnTo>
                  <a:lnTo>
                    <a:pt x="79" y="48"/>
                  </a:lnTo>
                  <a:lnTo>
                    <a:pt x="56" y="50"/>
                  </a:lnTo>
                  <a:lnTo>
                    <a:pt x="53" y="83"/>
                  </a:lnTo>
                  <a:lnTo>
                    <a:pt x="7" y="83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4" y="70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7" y="48"/>
                  </a:lnTo>
                  <a:lnTo>
                    <a:pt x="14" y="46"/>
                  </a:lnTo>
                  <a:lnTo>
                    <a:pt x="21" y="42"/>
                  </a:lnTo>
                  <a:lnTo>
                    <a:pt x="25" y="39"/>
                  </a:lnTo>
                  <a:lnTo>
                    <a:pt x="29" y="34"/>
                  </a:lnTo>
                  <a:lnTo>
                    <a:pt x="39" y="1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7440" y="2348640"/>
              <a:ext cx="30600" cy="2664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30" y="0"/>
                  </a:moveTo>
                  <a:lnTo>
                    <a:pt x="40" y="10"/>
                  </a:lnTo>
                  <a:lnTo>
                    <a:pt x="46" y="18"/>
                  </a:lnTo>
                  <a:lnTo>
                    <a:pt x="49" y="27"/>
                  </a:lnTo>
                  <a:lnTo>
                    <a:pt x="50" y="34"/>
                  </a:lnTo>
                  <a:lnTo>
                    <a:pt x="50" y="45"/>
                  </a:lnTo>
                  <a:lnTo>
                    <a:pt x="52" y="47"/>
                  </a:lnTo>
                  <a:lnTo>
                    <a:pt x="58" y="48"/>
                  </a:lnTo>
                  <a:lnTo>
                    <a:pt x="44" y="54"/>
                  </a:lnTo>
                  <a:lnTo>
                    <a:pt x="29" y="57"/>
                  </a:lnTo>
                  <a:lnTo>
                    <a:pt x="21" y="57"/>
                  </a:lnTo>
                  <a:lnTo>
                    <a:pt x="14" y="55"/>
                  </a:lnTo>
                  <a:lnTo>
                    <a:pt x="7" y="52"/>
                  </a:lnTo>
                  <a:lnTo>
                    <a:pt x="0" y="46"/>
                  </a:lnTo>
                  <a:lnTo>
                    <a:pt x="11" y="20"/>
                  </a:lnTo>
                  <a:lnTo>
                    <a:pt x="21" y="4"/>
                  </a:lnTo>
                  <a:lnTo>
                    <a:pt x="26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49920" y="2527200"/>
              <a:ext cx="550800" cy="738000"/>
            </a:xfrm>
            <a:custGeom>
              <a:avLst/>
              <a:gdLst/>
              <a:ahLst/>
              <a:rect l="l" t="t" r="r" b="b"/>
              <a:pathLst>
                <a:path w="1133" h="1555">
                  <a:moveTo>
                    <a:pt x="501" y="768"/>
                  </a:moveTo>
                  <a:lnTo>
                    <a:pt x="495" y="767"/>
                  </a:lnTo>
                  <a:lnTo>
                    <a:pt x="489" y="765"/>
                  </a:lnTo>
                  <a:lnTo>
                    <a:pt x="477" y="754"/>
                  </a:lnTo>
                  <a:lnTo>
                    <a:pt x="477" y="737"/>
                  </a:lnTo>
                  <a:lnTo>
                    <a:pt x="476" y="732"/>
                  </a:lnTo>
                  <a:lnTo>
                    <a:pt x="473" y="731"/>
                  </a:lnTo>
                  <a:lnTo>
                    <a:pt x="465" y="727"/>
                  </a:lnTo>
                  <a:lnTo>
                    <a:pt x="447" y="710"/>
                  </a:lnTo>
                  <a:lnTo>
                    <a:pt x="439" y="702"/>
                  </a:lnTo>
                  <a:lnTo>
                    <a:pt x="436" y="695"/>
                  </a:lnTo>
                  <a:lnTo>
                    <a:pt x="434" y="675"/>
                  </a:lnTo>
                  <a:lnTo>
                    <a:pt x="423" y="665"/>
                  </a:lnTo>
                  <a:lnTo>
                    <a:pt x="413" y="653"/>
                  </a:lnTo>
                  <a:lnTo>
                    <a:pt x="403" y="640"/>
                  </a:lnTo>
                  <a:lnTo>
                    <a:pt x="396" y="636"/>
                  </a:lnTo>
                  <a:lnTo>
                    <a:pt x="388" y="631"/>
                  </a:lnTo>
                  <a:lnTo>
                    <a:pt x="373" y="623"/>
                  </a:lnTo>
                  <a:lnTo>
                    <a:pt x="350" y="614"/>
                  </a:lnTo>
                  <a:lnTo>
                    <a:pt x="324" y="603"/>
                  </a:lnTo>
                  <a:lnTo>
                    <a:pt x="294" y="588"/>
                  </a:lnTo>
                  <a:lnTo>
                    <a:pt x="262" y="569"/>
                  </a:lnTo>
                  <a:lnTo>
                    <a:pt x="245" y="557"/>
                  </a:lnTo>
                  <a:lnTo>
                    <a:pt x="228" y="545"/>
                  </a:lnTo>
                  <a:lnTo>
                    <a:pt x="213" y="529"/>
                  </a:lnTo>
                  <a:lnTo>
                    <a:pt x="197" y="512"/>
                  </a:lnTo>
                  <a:lnTo>
                    <a:pt x="182" y="493"/>
                  </a:lnTo>
                  <a:lnTo>
                    <a:pt x="168" y="470"/>
                  </a:lnTo>
                  <a:lnTo>
                    <a:pt x="167" y="467"/>
                  </a:lnTo>
                  <a:lnTo>
                    <a:pt x="163" y="462"/>
                  </a:lnTo>
                  <a:lnTo>
                    <a:pt x="145" y="442"/>
                  </a:lnTo>
                  <a:lnTo>
                    <a:pt x="86" y="387"/>
                  </a:lnTo>
                  <a:lnTo>
                    <a:pt x="27" y="333"/>
                  </a:lnTo>
                  <a:lnTo>
                    <a:pt x="7" y="314"/>
                  </a:lnTo>
                  <a:lnTo>
                    <a:pt x="0" y="305"/>
                  </a:lnTo>
                  <a:lnTo>
                    <a:pt x="4" y="296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4" y="295"/>
                  </a:lnTo>
                  <a:lnTo>
                    <a:pt x="49" y="302"/>
                  </a:lnTo>
                  <a:lnTo>
                    <a:pt x="63" y="312"/>
                  </a:lnTo>
                  <a:lnTo>
                    <a:pt x="93" y="335"/>
                  </a:lnTo>
                  <a:lnTo>
                    <a:pt x="123" y="362"/>
                  </a:lnTo>
                  <a:lnTo>
                    <a:pt x="147" y="387"/>
                  </a:lnTo>
                  <a:lnTo>
                    <a:pt x="164" y="407"/>
                  </a:lnTo>
                  <a:lnTo>
                    <a:pt x="167" y="414"/>
                  </a:lnTo>
                  <a:lnTo>
                    <a:pt x="168" y="417"/>
                  </a:lnTo>
                  <a:lnTo>
                    <a:pt x="172" y="416"/>
                  </a:lnTo>
                  <a:lnTo>
                    <a:pt x="175" y="419"/>
                  </a:lnTo>
                  <a:lnTo>
                    <a:pt x="180" y="434"/>
                  </a:lnTo>
                  <a:lnTo>
                    <a:pt x="185" y="449"/>
                  </a:lnTo>
                  <a:lnTo>
                    <a:pt x="188" y="454"/>
                  </a:lnTo>
                  <a:lnTo>
                    <a:pt x="193" y="454"/>
                  </a:lnTo>
                  <a:lnTo>
                    <a:pt x="196" y="448"/>
                  </a:lnTo>
                  <a:lnTo>
                    <a:pt x="204" y="446"/>
                  </a:lnTo>
                  <a:lnTo>
                    <a:pt x="214" y="447"/>
                  </a:lnTo>
                  <a:lnTo>
                    <a:pt x="227" y="449"/>
                  </a:lnTo>
                  <a:lnTo>
                    <a:pt x="259" y="461"/>
                  </a:lnTo>
                  <a:lnTo>
                    <a:pt x="297" y="476"/>
                  </a:lnTo>
                  <a:lnTo>
                    <a:pt x="337" y="494"/>
                  </a:lnTo>
                  <a:lnTo>
                    <a:pt x="376" y="509"/>
                  </a:lnTo>
                  <a:lnTo>
                    <a:pt x="412" y="522"/>
                  </a:lnTo>
                  <a:lnTo>
                    <a:pt x="427" y="524"/>
                  </a:lnTo>
                  <a:lnTo>
                    <a:pt x="440" y="525"/>
                  </a:lnTo>
                  <a:lnTo>
                    <a:pt x="443" y="524"/>
                  </a:lnTo>
                  <a:lnTo>
                    <a:pt x="445" y="522"/>
                  </a:lnTo>
                  <a:lnTo>
                    <a:pt x="445" y="513"/>
                  </a:lnTo>
                  <a:lnTo>
                    <a:pt x="442" y="500"/>
                  </a:lnTo>
                  <a:lnTo>
                    <a:pt x="436" y="486"/>
                  </a:lnTo>
                  <a:lnTo>
                    <a:pt x="424" y="457"/>
                  </a:lnTo>
                  <a:lnTo>
                    <a:pt x="419" y="445"/>
                  </a:lnTo>
                  <a:lnTo>
                    <a:pt x="418" y="437"/>
                  </a:lnTo>
                  <a:lnTo>
                    <a:pt x="394" y="404"/>
                  </a:lnTo>
                  <a:lnTo>
                    <a:pt x="393" y="371"/>
                  </a:lnTo>
                  <a:lnTo>
                    <a:pt x="395" y="362"/>
                  </a:lnTo>
                  <a:lnTo>
                    <a:pt x="402" y="350"/>
                  </a:lnTo>
                  <a:lnTo>
                    <a:pt x="373" y="298"/>
                  </a:lnTo>
                  <a:lnTo>
                    <a:pt x="362" y="278"/>
                  </a:lnTo>
                  <a:lnTo>
                    <a:pt x="358" y="267"/>
                  </a:lnTo>
                  <a:lnTo>
                    <a:pt x="357" y="257"/>
                  </a:lnTo>
                  <a:lnTo>
                    <a:pt x="353" y="252"/>
                  </a:lnTo>
                  <a:lnTo>
                    <a:pt x="343" y="241"/>
                  </a:lnTo>
                  <a:lnTo>
                    <a:pt x="292" y="192"/>
                  </a:lnTo>
                  <a:lnTo>
                    <a:pt x="293" y="197"/>
                  </a:lnTo>
                  <a:lnTo>
                    <a:pt x="294" y="199"/>
                  </a:lnTo>
                  <a:lnTo>
                    <a:pt x="296" y="197"/>
                  </a:lnTo>
                  <a:lnTo>
                    <a:pt x="298" y="194"/>
                  </a:lnTo>
                  <a:lnTo>
                    <a:pt x="306" y="163"/>
                  </a:lnTo>
                  <a:lnTo>
                    <a:pt x="312" y="133"/>
                  </a:lnTo>
                  <a:lnTo>
                    <a:pt x="312" y="129"/>
                  </a:lnTo>
                  <a:lnTo>
                    <a:pt x="309" y="137"/>
                  </a:lnTo>
                  <a:lnTo>
                    <a:pt x="313" y="128"/>
                  </a:lnTo>
                  <a:lnTo>
                    <a:pt x="318" y="119"/>
                  </a:lnTo>
                  <a:lnTo>
                    <a:pt x="333" y="102"/>
                  </a:lnTo>
                  <a:lnTo>
                    <a:pt x="338" y="94"/>
                  </a:lnTo>
                  <a:lnTo>
                    <a:pt x="342" y="86"/>
                  </a:lnTo>
                  <a:lnTo>
                    <a:pt x="340" y="79"/>
                  </a:lnTo>
                  <a:lnTo>
                    <a:pt x="335" y="71"/>
                  </a:lnTo>
                  <a:lnTo>
                    <a:pt x="359" y="70"/>
                  </a:lnTo>
                  <a:lnTo>
                    <a:pt x="383" y="65"/>
                  </a:lnTo>
                  <a:lnTo>
                    <a:pt x="405" y="59"/>
                  </a:lnTo>
                  <a:lnTo>
                    <a:pt x="428" y="54"/>
                  </a:lnTo>
                  <a:lnTo>
                    <a:pt x="453" y="52"/>
                  </a:lnTo>
                  <a:lnTo>
                    <a:pt x="477" y="53"/>
                  </a:lnTo>
                  <a:lnTo>
                    <a:pt x="490" y="56"/>
                  </a:lnTo>
                  <a:lnTo>
                    <a:pt x="504" y="61"/>
                  </a:lnTo>
                  <a:lnTo>
                    <a:pt x="518" y="68"/>
                  </a:lnTo>
                  <a:lnTo>
                    <a:pt x="534" y="76"/>
                  </a:lnTo>
                  <a:lnTo>
                    <a:pt x="536" y="75"/>
                  </a:lnTo>
                  <a:lnTo>
                    <a:pt x="539" y="73"/>
                  </a:lnTo>
                  <a:lnTo>
                    <a:pt x="545" y="64"/>
                  </a:lnTo>
                  <a:lnTo>
                    <a:pt x="548" y="54"/>
                  </a:lnTo>
                  <a:lnTo>
                    <a:pt x="547" y="51"/>
                  </a:lnTo>
                  <a:lnTo>
                    <a:pt x="546" y="48"/>
                  </a:lnTo>
                  <a:lnTo>
                    <a:pt x="543" y="46"/>
                  </a:lnTo>
                  <a:lnTo>
                    <a:pt x="544" y="43"/>
                  </a:lnTo>
                  <a:lnTo>
                    <a:pt x="555" y="32"/>
                  </a:lnTo>
                  <a:lnTo>
                    <a:pt x="573" y="18"/>
                  </a:lnTo>
                  <a:lnTo>
                    <a:pt x="582" y="4"/>
                  </a:lnTo>
                  <a:lnTo>
                    <a:pt x="588" y="1"/>
                  </a:lnTo>
                  <a:lnTo>
                    <a:pt x="591" y="0"/>
                  </a:lnTo>
                  <a:lnTo>
                    <a:pt x="596" y="0"/>
                  </a:lnTo>
                  <a:lnTo>
                    <a:pt x="599" y="1"/>
                  </a:lnTo>
                  <a:lnTo>
                    <a:pt x="606" y="9"/>
                  </a:lnTo>
                  <a:lnTo>
                    <a:pt x="618" y="32"/>
                  </a:lnTo>
                  <a:lnTo>
                    <a:pt x="626" y="45"/>
                  </a:lnTo>
                  <a:lnTo>
                    <a:pt x="635" y="58"/>
                  </a:lnTo>
                  <a:lnTo>
                    <a:pt x="636" y="131"/>
                  </a:lnTo>
                  <a:lnTo>
                    <a:pt x="699" y="199"/>
                  </a:lnTo>
                  <a:lnTo>
                    <a:pt x="718" y="270"/>
                  </a:lnTo>
                  <a:lnTo>
                    <a:pt x="777" y="317"/>
                  </a:lnTo>
                  <a:lnTo>
                    <a:pt x="776" y="330"/>
                  </a:lnTo>
                  <a:lnTo>
                    <a:pt x="773" y="336"/>
                  </a:lnTo>
                  <a:lnTo>
                    <a:pt x="768" y="340"/>
                  </a:lnTo>
                  <a:lnTo>
                    <a:pt x="759" y="343"/>
                  </a:lnTo>
                  <a:lnTo>
                    <a:pt x="768" y="385"/>
                  </a:lnTo>
                  <a:lnTo>
                    <a:pt x="770" y="397"/>
                  </a:lnTo>
                  <a:lnTo>
                    <a:pt x="771" y="398"/>
                  </a:lnTo>
                  <a:lnTo>
                    <a:pt x="773" y="399"/>
                  </a:lnTo>
                  <a:lnTo>
                    <a:pt x="778" y="402"/>
                  </a:lnTo>
                  <a:lnTo>
                    <a:pt x="787" y="407"/>
                  </a:lnTo>
                  <a:lnTo>
                    <a:pt x="821" y="449"/>
                  </a:lnTo>
                  <a:lnTo>
                    <a:pt x="899" y="502"/>
                  </a:lnTo>
                  <a:lnTo>
                    <a:pt x="906" y="523"/>
                  </a:lnTo>
                  <a:lnTo>
                    <a:pt x="914" y="543"/>
                  </a:lnTo>
                  <a:lnTo>
                    <a:pt x="926" y="562"/>
                  </a:lnTo>
                  <a:lnTo>
                    <a:pt x="938" y="578"/>
                  </a:lnTo>
                  <a:lnTo>
                    <a:pt x="952" y="594"/>
                  </a:lnTo>
                  <a:lnTo>
                    <a:pt x="968" y="607"/>
                  </a:lnTo>
                  <a:lnTo>
                    <a:pt x="987" y="618"/>
                  </a:lnTo>
                  <a:lnTo>
                    <a:pt x="1008" y="627"/>
                  </a:lnTo>
                  <a:lnTo>
                    <a:pt x="1039" y="675"/>
                  </a:lnTo>
                  <a:lnTo>
                    <a:pt x="1042" y="697"/>
                  </a:lnTo>
                  <a:lnTo>
                    <a:pt x="1050" y="717"/>
                  </a:lnTo>
                  <a:lnTo>
                    <a:pt x="1061" y="735"/>
                  </a:lnTo>
                  <a:lnTo>
                    <a:pt x="1074" y="752"/>
                  </a:lnTo>
                  <a:lnTo>
                    <a:pt x="1103" y="786"/>
                  </a:lnTo>
                  <a:lnTo>
                    <a:pt x="1116" y="804"/>
                  </a:lnTo>
                  <a:lnTo>
                    <a:pt x="1130" y="821"/>
                  </a:lnTo>
                  <a:lnTo>
                    <a:pt x="1132" y="839"/>
                  </a:lnTo>
                  <a:lnTo>
                    <a:pt x="1133" y="857"/>
                  </a:lnTo>
                  <a:lnTo>
                    <a:pt x="1132" y="875"/>
                  </a:lnTo>
                  <a:lnTo>
                    <a:pt x="1130" y="892"/>
                  </a:lnTo>
                  <a:lnTo>
                    <a:pt x="1126" y="901"/>
                  </a:lnTo>
                  <a:lnTo>
                    <a:pt x="1122" y="906"/>
                  </a:lnTo>
                  <a:lnTo>
                    <a:pt x="1118" y="907"/>
                  </a:lnTo>
                  <a:lnTo>
                    <a:pt x="1112" y="907"/>
                  </a:lnTo>
                  <a:lnTo>
                    <a:pt x="1107" y="908"/>
                  </a:lnTo>
                  <a:lnTo>
                    <a:pt x="1102" y="910"/>
                  </a:lnTo>
                  <a:lnTo>
                    <a:pt x="1098" y="916"/>
                  </a:lnTo>
                  <a:lnTo>
                    <a:pt x="1094" y="927"/>
                  </a:lnTo>
                  <a:lnTo>
                    <a:pt x="1060" y="947"/>
                  </a:lnTo>
                  <a:lnTo>
                    <a:pt x="1045" y="957"/>
                  </a:lnTo>
                  <a:lnTo>
                    <a:pt x="1045" y="959"/>
                  </a:lnTo>
                  <a:lnTo>
                    <a:pt x="1047" y="960"/>
                  </a:lnTo>
                  <a:lnTo>
                    <a:pt x="1055" y="959"/>
                  </a:lnTo>
                  <a:lnTo>
                    <a:pt x="1065" y="960"/>
                  </a:lnTo>
                  <a:lnTo>
                    <a:pt x="1069" y="961"/>
                  </a:lnTo>
                  <a:lnTo>
                    <a:pt x="1070" y="963"/>
                  </a:lnTo>
                  <a:lnTo>
                    <a:pt x="1068" y="968"/>
                  </a:lnTo>
                  <a:lnTo>
                    <a:pt x="1061" y="973"/>
                  </a:lnTo>
                  <a:lnTo>
                    <a:pt x="1033" y="994"/>
                  </a:lnTo>
                  <a:lnTo>
                    <a:pt x="1010" y="999"/>
                  </a:lnTo>
                  <a:lnTo>
                    <a:pt x="1001" y="999"/>
                  </a:lnTo>
                  <a:lnTo>
                    <a:pt x="993" y="997"/>
                  </a:lnTo>
                  <a:lnTo>
                    <a:pt x="988" y="992"/>
                  </a:lnTo>
                  <a:lnTo>
                    <a:pt x="982" y="987"/>
                  </a:lnTo>
                  <a:lnTo>
                    <a:pt x="978" y="977"/>
                  </a:lnTo>
                  <a:lnTo>
                    <a:pt x="974" y="966"/>
                  </a:lnTo>
                  <a:lnTo>
                    <a:pt x="916" y="913"/>
                  </a:lnTo>
                  <a:lnTo>
                    <a:pt x="868" y="848"/>
                  </a:lnTo>
                  <a:lnTo>
                    <a:pt x="847" y="840"/>
                  </a:lnTo>
                  <a:lnTo>
                    <a:pt x="828" y="830"/>
                  </a:lnTo>
                  <a:lnTo>
                    <a:pt x="791" y="807"/>
                  </a:lnTo>
                  <a:lnTo>
                    <a:pt x="753" y="784"/>
                  </a:lnTo>
                  <a:lnTo>
                    <a:pt x="733" y="774"/>
                  </a:lnTo>
                  <a:lnTo>
                    <a:pt x="711" y="766"/>
                  </a:lnTo>
                  <a:lnTo>
                    <a:pt x="706" y="762"/>
                  </a:lnTo>
                  <a:lnTo>
                    <a:pt x="700" y="757"/>
                  </a:lnTo>
                  <a:lnTo>
                    <a:pt x="694" y="746"/>
                  </a:lnTo>
                  <a:lnTo>
                    <a:pt x="685" y="721"/>
                  </a:lnTo>
                  <a:lnTo>
                    <a:pt x="678" y="715"/>
                  </a:lnTo>
                  <a:lnTo>
                    <a:pt x="669" y="711"/>
                  </a:lnTo>
                  <a:lnTo>
                    <a:pt x="647" y="705"/>
                  </a:lnTo>
                  <a:lnTo>
                    <a:pt x="599" y="659"/>
                  </a:lnTo>
                  <a:lnTo>
                    <a:pt x="585" y="635"/>
                  </a:lnTo>
                  <a:lnTo>
                    <a:pt x="584" y="631"/>
                  </a:lnTo>
                  <a:lnTo>
                    <a:pt x="585" y="631"/>
                  </a:lnTo>
                  <a:lnTo>
                    <a:pt x="587" y="631"/>
                  </a:lnTo>
                  <a:lnTo>
                    <a:pt x="588" y="630"/>
                  </a:lnTo>
                  <a:lnTo>
                    <a:pt x="588" y="625"/>
                  </a:lnTo>
                  <a:lnTo>
                    <a:pt x="585" y="613"/>
                  </a:lnTo>
                  <a:lnTo>
                    <a:pt x="579" y="613"/>
                  </a:lnTo>
                  <a:lnTo>
                    <a:pt x="575" y="610"/>
                  </a:lnTo>
                  <a:lnTo>
                    <a:pt x="570" y="604"/>
                  </a:lnTo>
                  <a:lnTo>
                    <a:pt x="566" y="588"/>
                  </a:lnTo>
                  <a:lnTo>
                    <a:pt x="558" y="586"/>
                  </a:lnTo>
                  <a:lnTo>
                    <a:pt x="554" y="582"/>
                  </a:lnTo>
                  <a:lnTo>
                    <a:pt x="550" y="575"/>
                  </a:lnTo>
                  <a:lnTo>
                    <a:pt x="550" y="566"/>
                  </a:lnTo>
                  <a:lnTo>
                    <a:pt x="551" y="547"/>
                  </a:lnTo>
                  <a:lnTo>
                    <a:pt x="554" y="526"/>
                  </a:lnTo>
                  <a:lnTo>
                    <a:pt x="554" y="516"/>
                  </a:lnTo>
                  <a:lnTo>
                    <a:pt x="551" y="506"/>
                  </a:lnTo>
                  <a:lnTo>
                    <a:pt x="547" y="497"/>
                  </a:lnTo>
                  <a:lnTo>
                    <a:pt x="540" y="490"/>
                  </a:lnTo>
                  <a:lnTo>
                    <a:pt x="531" y="485"/>
                  </a:lnTo>
                  <a:lnTo>
                    <a:pt x="517" y="480"/>
                  </a:lnTo>
                  <a:lnTo>
                    <a:pt x="499" y="479"/>
                  </a:lnTo>
                  <a:lnTo>
                    <a:pt x="477" y="482"/>
                  </a:lnTo>
                  <a:lnTo>
                    <a:pt x="469" y="485"/>
                  </a:lnTo>
                  <a:lnTo>
                    <a:pt x="465" y="490"/>
                  </a:lnTo>
                  <a:lnTo>
                    <a:pt x="460" y="496"/>
                  </a:lnTo>
                  <a:lnTo>
                    <a:pt x="458" y="504"/>
                  </a:lnTo>
                  <a:lnTo>
                    <a:pt x="456" y="520"/>
                  </a:lnTo>
                  <a:lnTo>
                    <a:pt x="456" y="537"/>
                  </a:lnTo>
                  <a:lnTo>
                    <a:pt x="468" y="559"/>
                  </a:lnTo>
                  <a:lnTo>
                    <a:pt x="475" y="570"/>
                  </a:lnTo>
                  <a:lnTo>
                    <a:pt x="479" y="586"/>
                  </a:lnTo>
                  <a:lnTo>
                    <a:pt x="486" y="621"/>
                  </a:lnTo>
                  <a:lnTo>
                    <a:pt x="491" y="629"/>
                  </a:lnTo>
                  <a:lnTo>
                    <a:pt x="500" y="643"/>
                  </a:lnTo>
                  <a:lnTo>
                    <a:pt x="517" y="678"/>
                  </a:lnTo>
                  <a:lnTo>
                    <a:pt x="537" y="724"/>
                  </a:lnTo>
                  <a:lnTo>
                    <a:pt x="541" y="722"/>
                  </a:lnTo>
                  <a:lnTo>
                    <a:pt x="545" y="725"/>
                  </a:lnTo>
                  <a:lnTo>
                    <a:pt x="553" y="732"/>
                  </a:lnTo>
                  <a:lnTo>
                    <a:pt x="559" y="744"/>
                  </a:lnTo>
                  <a:lnTo>
                    <a:pt x="568" y="755"/>
                  </a:lnTo>
                  <a:lnTo>
                    <a:pt x="568" y="778"/>
                  </a:lnTo>
                  <a:lnTo>
                    <a:pt x="581" y="790"/>
                  </a:lnTo>
                  <a:lnTo>
                    <a:pt x="586" y="796"/>
                  </a:lnTo>
                  <a:lnTo>
                    <a:pt x="587" y="802"/>
                  </a:lnTo>
                  <a:lnTo>
                    <a:pt x="629" y="802"/>
                  </a:lnTo>
                  <a:lnTo>
                    <a:pt x="627" y="817"/>
                  </a:lnTo>
                  <a:lnTo>
                    <a:pt x="622" y="830"/>
                  </a:lnTo>
                  <a:lnTo>
                    <a:pt x="618" y="843"/>
                  </a:lnTo>
                  <a:lnTo>
                    <a:pt x="617" y="857"/>
                  </a:lnTo>
                  <a:lnTo>
                    <a:pt x="636" y="859"/>
                  </a:lnTo>
                  <a:lnTo>
                    <a:pt x="655" y="866"/>
                  </a:lnTo>
                  <a:lnTo>
                    <a:pt x="674" y="875"/>
                  </a:lnTo>
                  <a:lnTo>
                    <a:pt x="689" y="887"/>
                  </a:lnTo>
                  <a:lnTo>
                    <a:pt x="690" y="905"/>
                  </a:lnTo>
                  <a:lnTo>
                    <a:pt x="694" y="919"/>
                  </a:lnTo>
                  <a:lnTo>
                    <a:pt x="701" y="933"/>
                  </a:lnTo>
                  <a:lnTo>
                    <a:pt x="714" y="947"/>
                  </a:lnTo>
                  <a:lnTo>
                    <a:pt x="715" y="959"/>
                  </a:lnTo>
                  <a:lnTo>
                    <a:pt x="717" y="971"/>
                  </a:lnTo>
                  <a:lnTo>
                    <a:pt x="725" y="996"/>
                  </a:lnTo>
                  <a:lnTo>
                    <a:pt x="732" y="1020"/>
                  </a:lnTo>
                  <a:lnTo>
                    <a:pt x="736" y="1032"/>
                  </a:lnTo>
                  <a:lnTo>
                    <a:pt x="737" y="1043"/>
                  </a:lnTo>
                  <a:lnTo>
                    <a:pt x="757" y="1054"/>
                  </a:lnTo>
                  <a:lnTo>
                    <a:pt x="778" y="1069"/>
                  </a:lnTo>
                  <a:lnTo>
                    <a:pt x="798" y="1083"/>
                  </a:lnTo>
                  <a:lnTo>
                    <a:pt x="816" y="1098"/>
                  </a:lnTo>
                  <a:lnTo>
                    <a:pt x="813" y="1087"/>
                  </a:lnTo>
                  <a:lnTo>
                    <a:pt x="810" y="1077"/>
                  </a:lnTo>
                  <a:lnTo>
                    <a:pt x="805" y="1067"/>
                  </a:lnTo>
                  <a:lnTo>
                    <a:pt x="797" y="1058"/>
                  </a:lnTo>
                  <a:lnTo>
                    <a:pt x="780" y="1042"/>
                  </a:lnTo>
                  <a:lnTo>
                    <a:pt x="761" y="1031"/>
                  </a:lnTo>
                  <a:lnTo>
                    <a:pt x="762" y="1017"/>
                  </a:lnTo>
                  <a:lnTo>
                    <a:pt x="765" y="1002"/>
                  </a:lnTo>
                  <a:lnTo>
                    <a:pt x="768" y="978"/>
                  </a:lnTo>
                  <a:lnTo>
                    <a:pt x="776" y="977"/>
                  </a:lnTo>
                  <a:lnTo>
                    <a:pt x="782" y="974"/>
                  </a:lnTo>
                  <a:lnTo>
                    <a:pt x="789" y="972"/>
                  </a:lnTo>
                  <a:lnTo>
                    <a:pt x="797" y="971"/>
                  </a:lnTo>
                  <a:lnTo>
                    <a:pt x="812" y="991"/>
                  </a:lnTo>
                  <a:lnTo>
                    <a:pt x="827" y="1013"/>
                  </a:lnTo>
                  <a:lnTo>
                    <a:pt x="841" y="1035"/>
                  </a:lnTo>
                  <a:lnTo>
                    <a:pt x="858" y="1055"/>
                  </a:lnTo>
                  <a:lnTo>
                    <a:pt x="859" y="1069"/>
                  </a:lnTo>
                  <a:lnTo>
                    <a:pt x="862" y="1084"/>
                  </a:lnTo>
                  <a:lnTo>
                    <a:pt x="874" y="1120"/>
                  </a:lnTo>
                  <a:lnTo>
                    <a:pt x="891" y="1154"/>
                  </a:lnTo>
                  <a:lnTo>
                    <a:pt x="899" y="1168"/>
                  </a:lnTo>
                  <a:lnTo>
                    <a:pt x="907" y="1176"/>
                  </a:lnTo>
                  <a:lnTo>
                    <a:pt x="904" y="1208"/>
                  </a:lnTo>
                  <a:lnTo>
                    <a:pt x="900" y="1236"/>
                  </a:lnTo>
                  <a:lnTo>
                    <a:pt x="896" y="1266"/>
                  </a:lnTo>
                  <a:lnTo>
                    <a:pt x="894" y="1296"/>
                  </a:lnTo>
                  <a:lnTo>
                    <a:pt x="923" y="1326"/>
                  </a:lnTo>
                  <a:lnTo>
                    <a:pt x="922" y="1340"/>
                  </a:lnTo>
                  <a:lnTo>
                    <a:pt x="920" y="1353"/>
                  </a:lnTo>
                  <a:lnTo>
                    <a:pt x="911" y="1378"/>
                  </a:lnTo>
                  <a:lnTo>
                    <a:pt x="899" y="1403"/>
                  </a:lnTo>
                  <a:lnTo>
                    <a:pt x="882" y="1423"/>
                  </a:lnTo>
                  <a:lnTo>
                    <a:pt x="882" y="1495"/>
                  </a:lnTo>
                  <a:lnTo>
                    <a:pt x="858" y="1519"/>
                  </a:lnTo>
                  <a:lnTo>
                    <a:pt x="828" y="1488"/>
                  </a:lnTo>
                  <a:lnTo>
                    <a:pt x="825" y="1507"/>
                  </a:lnTo>
                  <a:lnTo>
                    <a:pt x="820" y="1528"/>
                  </a:lnTo>
                  <a:lnTo>
                    <a:pt x="817" y="1539"/>
                  </a:lnTo>
                  <a:lnTo>
                    <a:pt x="811" y="1547"/>
                  </a:lnTo>
                  <a:lnTo>
                    <a:pt x="803" y="1553"/>
                  </a:lnTo>
                  <a:lnTo>
                    <a:pt x="792" y="1555"/>
                  </a:lnTo>
                  <a:lnTo>
                    <a:pt x="786" y="1447"/>
                  </a:lnTo>
                  <a:lnTo>
                    <a:pt x="778" y="1448"/>
                  </a:lnTo>
                  <a:lnTo>
                    <a:pt x="771" y="1452"/>
                  </a:lnTo>
                  <a:lnTo>
                    <a:pt x="756" y="1463"/>
                  </a:lnTo>
                  <a:lnTo>
                    <a:pt x="731" y="1488"/>
                  </a:lnTo>
                  <a:lnTo>
                    <a:pt x="707" y="1488"/>
                  </a:lnTo>
                  <a:lnTo>
                    <a:pt x="687" y="1470"/>
                  </a:lnTo>
                  <a:lnTo>
                    <a:pt x="679" y="1460"/>
                  </a:lnTo>
                  <a:lnTo>
                    <a:pt x="677" y="1454"/>
                  </a:lnTo>
                  <a:lnTo>
                    <a:pt x="677" y="1447"/>
                  </a:lnTo>
                  <a:lnTo>
                    <a:pt x="675" y="1458"/>
                  </a:lnTo>
                  <a:lnTo>
                    <a:pt x="677" y="1463"/>
                  </a:lnTo>
                  <a:lnTo>
                    <a:pt x="682" y="1465"/>
                  </a:lnTo>
                  <a:lnTo>
                    <a:pt x="695" y="1465"/>
                  </a:lnTo>
                  <a:lnTo>
                    <a:pt x="726" y="1435"/>
                  </a:lnTo>
                  <a:lnTo>
                    <a:pt x="735" y="1418"/>
                  </a:lnTo>
                  <a:lnTo>
                    <a:pt x="747" y="1398"/>
                  </a:lnTo>
                  <a:lnTo>
                    <a:pt x="777" y="1356"/>
                  </a:lnTo>
                  <a:lnTo>
                    <a:pt x="791" y="1334"/>
                  </a:lnTo>
                  <a:lnTo>
                    <a:pt x="803" y="1312"/>
                  </a:lnTo>
                  <a:lnTo>
                    <a:pt x="812" y="1292"/>
                  </a:lnTo>
                  <a:lnTo>
                    <a:pt x="815" y="1282"/>
                  </a:lnTo>
                  <a:lnTo>
                    <a:pt x="816" y="1272"/>
                  </a:lnTo>
                  <a:lnTo>
                    <a:pt x="781" y="1242"/>
                  </a:lnTo>
                  <a:lnTo>
                    <a:pt x="746" y="1212"/>
                  </a:lnTo>
                  <a:lnTo>
                    <a:pt x="710" y="1183"/>
                  </a:lnTo>
                  <a:lnTo>
                    <a:pt x="677" y="1152"/>
                  </a:lnTo>
                  <a:lnTo>
                    <a:pt x="656" y="1149"/>
                  </a:lnTo>
                  <a:lnTo>
                    <a:pt x="645" y="1146"/>
                  </a:lnTo>
                  <a:lnTo>
                    <a:pt x="635" y="1145"/>
                  </a:lnTo>
                  <a:lnTo>
                    <a:pt x="626" y="1133"/>
                  </a:lnTo>
                  <a:lnTo>
                    <a:pt x="624" y="1125"/>
                  </a:lnTo>
                  <a:lnTo>
                    <a:pt x="622" y="1117"/>
                  </a:lnTo>
                  <a:lnTo>
                    <a:pt x="707" y="1031"/>
                  </a:lnTo>
                  <a:lnTo>
                    <a:pt x="707" y="996"/>
                  </a:lnTo>
                  <a:lnTo>
                    <a:pt x="691" y="990"/>
                  </a:lnTo>
                  <a:lnTo>
                    <a:pt x="674" y="982"/>
                  </a:lnTo>
                  <a:lnTo>
                    <a:pt x="656" y="972"/>
                  </a:lnTo>
                  <a:lnTo>
                    <a:pt x="641" y="959"/>
                  </a:lnTo>
                  <a:lnTo>
                    <a:pt x="638" y="944"/>
                  </a:lnTo>
                  <a:lnTo>
                    <a:pt x="631" y="929"/>
                  </a:lnTo>
                  <a:lnTo>
                    <a:pt x="622" y="913"/>
                  </a:lnTo>
                  <a:lnTo>
                    <a:pt x="617" y="899"/>
                  </a:lnTo>
                  <a:lnTo>
                    <a:pt x="587" y="867"/>
                  </a:lnTo>
                  <a:lnTo>
                    <a:pt x="547" y="823"/>
                  </a:lnTo>
                  <a:lnTo>
                    <a:pt x="513" y="786"/>
                  </a:lnTo>
                  <a:lnTo>
                    <a:pt x="504" y="774"/>
                  </a:lnTo>
                  <a:lnTo>
                    <a:pt x="501" y="770"/>
                  </a:lnTo>
                  <a:lnTo>
                    <a:pt x="501" y="7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0160" y="3060000"/>
              <a:ext cx="566640" cy="364680"/>
            </a:xfrm>
            <a:custGeom>
              <a:avLst/>
              <a:gdLst/>
              <a:ahLst/>
              <a:rect l="l" t="t" r="r" b="b"/>
              <a:pathLst>
                <a:path w="1165" h="768">
                  <a:moveTo>
                    <a:pt x="1165" y="2"/>
                  </a:moveTo>
                  <a:lnTo>
                    <a:pt x="1158" y="11"/>
                  </a:lnTo>
                  <a:lnTo>
                    <a:pt x="1150" y="19"/>
                  </a:lnTo>
                  <a:lnTo>
                    <a:pt x="1136" y="32"/>
                  </a:lnTo>
                  <a:lnTo>
                    <a:pt x="1130" y="40"/>
                  </a:lnTo>
                  <a:lnTo>
                    <a:pt x="1129" y="49"/>
                  </a:lnTo>
                  <a:lnTo>
                    <a:pt x="1132" y="59"/>
                  </a:lnTo>
                  <a:lnTo>
                    <a:pt x="1139" y="71"/>
                  </a:lnTo>
                  <a:lnTo>
                    <a:pt x="1136" y="93"/>
                  </a:lnTo>
                  <a:lnTo>
                    <a:pt x="1135" y="107"/>
                  </a:lnTo>
                  <a:lnTo>
                    <a:pt x="1137" y="116"/>
                  </a:lnTo>
                  <a:lnTo>
                    <a:pt x="1134" y="119"/>
                  </a:lnTo>
                  <a:lnTo>
                    <a:pt x="1129" y="119"/>
                  </a:lnTo>
                  <a:lnTo>
                    <a:pt x="1125" y="119"/>
                  </a:lnTo>
                  <a:lnTo>
                    <a:pt x="1121" y="121"/>
                  </a:lnTo>
                  <a:lnTo>
                    <a:pt x="1113" y="183"/>
                  </a:lnTo>
                  <a:lnTo>
                    <a:pt x="1134" y="187"/>
                  </a:lnTo>
                  <a:lnTo>
                    <a:pt x="1113" y="207"/>
                  </a:lnTo>
                  <a:lnTo>
                    <a:pt x="1082" y="222"/>
                  </a:lnTo>
                  <a:lnTo>
                    <a:pt x="1051" y="239"/>
                  </a:lnTo>
                  <a:lnTo>
                    <a:pt x="1036" y="249"/>
                  </a:lnTo>
                  <a:lnTo>
                    <a:pt x="1022" y="260"/>
                  </a:lnTo>
                  <a:lnTo>
                    <a:pt x="1009" y="273"/>
                  </a:lnTo>
                  <a:lnTo>
                    <a:pt x="998" y="288"/>
                  </a:lnTo>
                  <a:lnTo>
                    <a:pt x="940" y="305"/>
                  </a:lnTo>
                  <a:lnTo>
                    <a:pt x="924" y="321"/>
                  </a:lnTo>
                  <a:lnTo>
                    <a:pt x="911" y="338"/>
                  </a:lnTo>
                  <a:lnTo>
                    <a:pt x="911" y="353"/>
                  </a:lnTo>
                  <a:lnTo>
                    <a:pt x="908" y="370"/>
                  </a:lnTo>
                  <a:lnTo>
                    <a:pt x="903" y="389"/>
                  </a:lnTo>
                  <a:lnTo>
                    <a:pt x="895" y="405"/>
                  </a:lnTo>
                  <a:lnTo>
                    <a:pt x="896" y="418"/>
                  </a:lnTo>
                  <a:lnTo>
                    <a:pt x="901" y="429"/>
                  </a:lnTo>
                  <a:lnTo>
                    <a:pt x="905" y="439"/>
                  </a:lnTo>
                  <a:lnTo>
                    <a:pt x="912" y="448"/>
                  </a:lnTo>
                  <a:lnTo>
                    <a:pt x="926" y="465"/>
                  </a:lnTo>
                  <a:lnTo>
                    <a:pt x="940" y="483"/>
                  </a:lnTo>
                  <a:lnTo>
                    <a:pt x="941" y="493"/>
                  </a:lnTo>
                  <a:lnTo>
                    <a:pt x="944" y="504"/>
                  </a:lnTo>
                  <a:lnTo>
                    <a:pt x="938" y="497"/>
                  </a:lnTo>
                  <a:lnTo>
                    <a:pt x="935" y="494"/>
                  </a:lnTo>
                  <a:lnTo>
                    <a:pt x="932" y="495"/>
                  </a:lnTo>
                  <a:lnTo>
                    <a:pt x="930" y="500"/>
                  </a:lnTo>
                  <a:lnTo>
                    <a:pt x="927" y="514"/>
                  </a:lnTo>
                  <a:lnTo>
                    <a:pt x="926" y="532"/>
                  </a:lnTo>
                  <a:lnTo>
                    <a:pt x="927" y="563"/>
                  </a:lnTo>
                  <a:lnTo>
                    <a:pt x="927" y="550"/>
                  </a:lnTo>
                  <a:lnTo>
                    <a:pt x="928" y="562"/>
                  </a:lnTo>
                  <a:lnTo>
                    <a:pt x="931" y="569"/>
                  </a:lnTo>
                  <a:lnTo>
                    <a:pt x="934" y="572"/>
                  </a:lnTo>
                  <a:lnTo>
                    <a:pt x="935" y="573"/>
                  </a:lnTo>
                  <a:lnTo>
                    <a:pt x="931" y="574"/>
                  </a:lnTo>
                  <a:lnTo>
                    <a:pt x="907" y="585"/>
                  </a:lnTo>
                  <a:lnTo>
                    <a:pt x="898" y="583"/>
                  </a:lnTo>
                  <a:lnTo>
                    <a:pt x="890" y="576"/>
                  </a:lnTo>
                  <a:lnTo>
                    <a:pt x="882" y="567"/>
                  </a:lnTo>
                  <a:lnTo>
                    <a:pt x="876" y="556"/>
                  </a:lnTo>
                  <a:lnTo>
                    <a:pt x="890" y="530"/>
                  </a:lnTo>
                  <a:lnTo>
                    <a:pt x="887" y="525"/>
                  </a:lnTo>
                  <a:lnTo>
                    <a:pt x="884" y="522"/>
                  </a:lnTo>
                  <a:lnTo>
                    <a:pt x="876" y="516"/>
                  </a:lnTo>
                  <a:lnTo>
                    <a:pt x="866" y="512"/>
                  </a:lnTo>
                  <a:lnTo>
                    <a:pt x="857" y="504"/>
                  </a:lnTo>
                  <a:lnTo>
                    <a:pt x="856" y="469"/>
                  </a:lnTo>
                  <a:lnTo>
                    <a:pt x="850" y="460"/>
                  </a:lnTo>
                  <a:lnTo>
                    <a:pt x="842" y="455"/>
                  </a:lnTo>
                  <a:lnTo>
                    <a:pt x="832" y="452"/>
                  </a:lnTo>
                  <a:lnTo>
                    <a:pt x="822" y="450"/>
                  </a:lnTo>
                  <a:lnTo>
                    <a:pt x="800" y="446"/>
                  </a:lnTo>
                  <a:lnTo>
                    <a:pt x="790" y="443"/>
                  </a:lnTo>
                  <a:lnTo>
                    <a:pt x="781" y="438"/>
                  </a:lnTo>
                  <a:lnTo>
                    <a:pt x="752" y="438"/>
                  </a:lnTo>
                  <a:lnTo>
                    <a:pt x="746" y="440"/>
                  </a:lnTo>
                  <a:lnTo>
                    <a:pt x="742" y="445"/>
                  </a:lnTo>
                  <a:lnTo>
                    <a:pt x="735" y="461"/>
                  </a:lnTo>
                  <a:lnTo>
                    <a:pt x="724" y="491"/>
                  </a:lnTo>
                  <a:lnTo>
                    <a:pt x="721" y="501"/>
                  </a:lnTo>
                  <a:lnTo>
                    <a:pt x="721" y="506"/>
                  </a:lnTo>
                  <a:lnTo>
                    <a:pt x="723" y="510"/>
                  </a:lnTo>
                  <a:lnTo>
                    <a:pt x="719" y="514"/>
                  </a:lnTo>
                  <a:lnTo>
                    <a:pt x="699" y="537"/>
                  </a:lnTo>
                  <a:lnTo>
                    <a:pt x="701" y="546"/>
                  </a:lnTo>
                  <a:lnTo>
                    <a:pt x="708" y="552"/>
                  </a:lnTo>
                  <a:lnTo>
                    <a:pt x="716" y="555"/>
                  </a:lnTo>
                  <a:lnTo>
                    <a:pt x="729" y="556"/>
                  </a:lnTo>
                  <a:lnTo>
                    <a:pt x="751" y="556"/>
                  </a:lnTo>
                  <a:lnTo>
                    <a:pt x="767" y="556"/>
                  </a:lnTo>
                  <a:lnTo>
                    <a:pt x="793" y="546"/>
                  </a:lnTo>
                  <a:lnTo>
                    <a:pt x="794" y="554"/>
                  </a:lnTo>
                  <a:lnTo>
                    <a:pt x="799" y="559"/>
                  </a:lnTo>
                  <a:lnTo>
                    <a:pt x="804" y="563"/>
                  </a:lnTo>
                  <a:lnTo>
                    <a:pt x="811" y="565"/>
                  </a:lnTo>
                  <a:lnTo>
                    <a:pt x="821" y="582"/>
                  </a:lnTo>
                  <a:lnTo>
                    <a:pt x="830" y="594"/>
                  </a:lnTo>
                  <a:lnTo>
                    <a:pt x="835" y="600"/>
                  </a:lnTo>
                  <a:lnTo>
                    <a:pt x="827" y="603"/>
                  </a:lnTo>
                  <a:lnTo>
                    <a:pt x="822" y="608"/>
                  </a:lnTo>
                  <a:lnTo>
                    <a:pt x="814" y="623"/>
                  </a:lnTo>
                  <a:lnTo>
                    <a:pt x="807" y="641"/>
                  </a:lnTo>
                  <a:lnTo>
                    <a:pt x="803" y="648"/>
                  </a:lnTo>
                  <a:lnTo>
                    <a:pt x="797" y="656"/>
                  </a:lnTo>
                  <a:lnTo>
                    <a:pt x="800" y="660"/>
                  </a:lnTo>
                  <a:lnTo>
                    <a:pt x="805" y="660"/>
                  </a:lnTo>
                  <a:lnTo>
                    <a:pt x="812" y="660"/>
                  </a:lnTo>
                  <a:lnTo>
                    <a:pt x="819" y="661"/>
                  </a:lnTo>
                  <a:lnTo>
                    <a:pt x="816" y="666"/>
                  </a:lnTo>
                  <a:lnTo>
                    <a:pt x="813" y="671"/>
                  </a:lnTo>
                  <a:lnTo>
                    <a:pt x="805" y="676"/>
                  </a:lnTo>
                  <a:lnTo>
                    <a:pt x="796" y="682"/>
                  </a:lnTo>
                  <a:lnTo>
                    <a:pt x="789" y="688"/>
                  </a:lnTo>
                  <a:lnTo>
                    <a:pt x="781" y="723"/>
                  </a:lnTo>
                  <a:lnTo>
                    <a:pt x="776" y="728"/>
                  </a:lnTo>
                  <a:lnTo>
                    <a:pt x="771" y="734"/>
                  </a:lnTo>
                  <a:lnTo>
                    <a:pt x="766" y="741"/>
                  </a:lnTo>
                  <a:lnTo>
                    <a:pt x="767" y="749"/>
                  </a:lnTo>
                  <a:lnTo>
                    <a:pt x="763" y="746"/>
                  </a:lnTo>
                  <a:lnTo>
                    <a:pt x="763" y="742"/>
                  </a:lnTo>
                  <a:lnTo>
                    <a:pt x="764" y="735"/>
                  </a:lnTo>
                  <a:lnTo>
                    <a:pt x="763" y="728"/>
                  </a:lnTo>
                  <a:lnTo>
                    <a:pt x="757" y="727"/>
                  </a:lnTo>
                  <a:lnTo>
                    <a:pt x="754" y="729"/>
                  </a:lnTo>
                  <a:lnTo>
                    <a:pt x="746" y="737"/>
                  </a:lnTo>
                  <a:lnTo>
                    <a:pt x="739" y="745"/>
                  </a:lnTo>
                  <a:lnTo>
                    <a:pt x="734" y="748"/>
                  </a:lnTo>
                  <a:lnTo>
                    <a:pt x="729" y="749"/>
                  </a:lnTo>
                  <a:lnTo>
                    <a:pt x="719" y="749"/>
                  </a:lnTo>
                  <a:lnTo>
                    <a:pt x="710" y="748"/>
                  </a:lnTo>
                  <a:lnTo>
                    <a:pt x="693" y="743"/>
                  </a:lnTo>
                  <a:lnTo>
                    <a:pt x="685" y="742"/>
                  </a:lnTo>
                  <a:lnTo>
                    <a:pt x="676" y="743"/>
                  </a:lnTo>
                  <a:lnTo>
                    <a:pt x="668" y="747"/>
                  </a:lnTo>
                  <a:lnTo>
                    <a:pt x="658" y="755"/>
                  </a:lnTo>
                  <a:lnTo>
                    <a:pt x="638" y="758"/>
                  </a:lnTo>
                  <a:lnTo>
                    <a:pt x="625" y="763"/>
                  </a:lnTo>
                  <a:lnTo>
                    <a:pt x="621" y="766"/>
                  </a:lnTo>
                  <a:lnTo>
                    <a:pt x="620" y="768"/>
                  </a:lnTo>
                  <a:lnTo>
                    <a:pt x="611" y="765"/>
                  </a:lnTo>
                  <a:lnTo>
                    <a:pt x="604" y="759"/>
                  </a:lnTo>
                  <a:lnTo>
                    <a:pt x="599" y="752"/>
                  </a:lnTo>
                  <a:lnTo>
                    <a:pt x="594" y="742"/>
                  </a:lnTo>
                  <a:lnTo>
                    <a:pt x="590" y="732"/>
                  </a:lnTo>
                  <a:lnTo>
                    <a:pt x="582" y="724"/>
                  </a:lnTo>
                  <a:lnTo>
                    <a:pt x="572" y="717"/>
                  </a:lnTo>
                  <a:lnTo>
                    <a:pt x="561" y="712"/>
                  </a:lnTo>
                  <a:lnTo>
                    <a:pt x="537" y="704"/>
                  </a:lnTo>
                  <a:lnTo>
                    <a:pt x="513" y="695"/>
                  </a:lnTo>
                  <a:lnTo>
                    <a:pt x="511" y="686"/>
                  </a:lnTo>
                  <a:lnTo>
                    <a:pt x="507" y="680"/>
                  </a:lnTo>
                  <a:lnTo>
                    <a:pt x="500" y="674"/>
                  </a:lnTo>
                  <a:lnTo>
                    <a:pt x="492" y="671"/>
                  </a:lnTo>
                  <a:lnTo>
                    <a:pt x="474" y="667"/>
                  </a:lnTo>
                  <a:lnTo>
                    <a:pt x="460" y="668"/>
                  </a:lnTo>
                  <a:lnTo>
                    <a:pt x="481" y="656"/>
                  </a:lnTo>
                  <a:lnTo>
                    <a:pt x="475" y="653"/>
                  </a:lnTo>
                  <a:lnTo>
                    <a:pt x="470" y="651"/>
                  </a:lnTo>
                  <a:lnTo>
                    <a:pt x="456" y="647"/>
                  </a:lnTo>
                  <a:lnTo>
                    <a:pt x="441" y="648"/>
                  </a:lnTo>
                  <a:lnTo>
                    <a:pt x="427" y="651"/>
                  </a:lnTo>
                  <a:lnTo>
                    <a:pt x="426" y="655"/>
                  </a:lnTo>
                  <a:lnTo>
                    <a:pt x="427" y="658"/>
                  </a:lnTo>
                  <a:lnTo>
                    <a:pt x="432" y="662"/>
                  </a:lnTo>
                  <a:lnTo>
                    <a:pt x="439" y="664"/>
                  </a:lnTo>
                  <a:lnTo>
                    <a:pt x="442" y="666"/>
                  </a:lnTo>
                  <a:lnTo>
                    <a:pt x="443" y="668"/>
                  </a:lnTo>
                  <a:lnTo>
                    <a:pt x="413" y="657"/>
                  </a:lnTo>
                  <a:lnTo>
                    <a:pt x="407" y="651"/>
                  </a:lnTo>
                  <a:lnTo>
                    <a:pt x="399" y="644"/>
                  </a:lnTo>
                  <a:lnTo>
                    <a:pt x="392" y="635"/>
                  </a:lnTo>
                  <a:lnTo>
                    <a:pt x="386" y="623"/>
                  </a:lnTo>
                  <a:lnTo>
                    <a:pt x="380" y="620"/>
                  </a:lnTo>
                  <a:lnTo>
                    <a:pt x="374" y="617"/>
                  </a:lnTo>
                  <a:lnTo>
                    <a:pt x="360" y="616"/>
                  </a:lnTo>
                  <a:lnTo>
                    <a:pt x="344" y="617"/>
                  </a:lnTo>
                  <a:lnTo>
                    <a:pt x="330" y="616"/>
                  </a:lnTo>
                  <a:lnTo>
                    <a:pt x="329" y="615"/>
                  </a:lnTo>
                  <a:lnTo>
                    <a:pt x="328" y="611"/>
                  </a:lnTo>
                  <a:lnTo>
                    <a:pt x="328" y="596"/>
                  </a:lnTo>
                  <a:lnTo>
                    <a:pt x="329" y="576"/>
                  </a:lnTo>
                  <a:lnTo>
                    <a:pt x="318" y="504"/>
                  </a:lnTo>
                  <a:lnTo>
                    <a:pt x="322" y="500"/>
                  </a:lnTo>
                  <a:lnTo>
                    <a:pt x="330" y="495"/>
                  </a:lnTo>
                  <a:lnTo>
                    <a:pt x="309" y="438"/>
                  </a:lnTo>
                  <a:lnTo>
                    <a:pt x="307" y="435"/>
                  </a:lnTo>
                  <a:lnTo>
                    <a:pt x="302" y="433"/>
                  </a:lnTo>
                  <a:lnTo>
                    <a:pt x="292" y="429"/>
                  </a:lnTo>
                  <a:lnTo>
                    <a:pt x="287" y="421"/>
                  </a:lnTo>
                  <a:lnTo>
                    <a:pt x="279" y="414"/>
                  </a:lnTo>
                  <a:lnTo>
                    <a:pt x="259" y="400"/>
                  </a:lnTo>
                  <a:lnTo>
                    <a:pt x="247" y="408"/>
                  </a:lnTo>
                  <a:lnTo>
                    <a:pt x="233" y="418"/>
                  </a:lnTo>
                  <a:lnTo>
                    <a:pt x="219" y="428"/>
                  </a:lnTo>
                  <a:lnTo>
                    <a:pt x="208" y="433"/>
                  </a:lnTo>
                  <a:lnTo>
                    <a:pt x="206" y="438"/>
                  </a:lnTo>
                  <a:lnTo>
                    <a:pt x="207" y="441"/>
                  </a:lnTo>
                  <a:lnTo>
                    <a:pt x="212" y="448"/>
                  </a:lnTo>
                  <a:lnTo>
                    <a:pt x="219" y="454"/>
                  </a:lnTo>
                  <a:lnTo>
                    <a:pt x="222" y="458"/>
                  </a:lnTo>
                  <a:lnTo>
                    <a:pt x="223" y="462"/>
                  </a:lnTo>
                  <a:lnTo>
                    <a:pt x="222" y="469"/>
                  </a:lnTo>
                  <a:lnTo>
                    <a:pt x="219" y="473"/>
                  </a:lnTo>
                  <a:lnTo>
                    <a:pt x="216" y="477"/>
                  </a:lnTo>
                  <a:lnTo>
                    <a:pt x="212" y="483"/>
                  </a:lnTo>
                  <a:lnTo>
                    <a:pt x="213" y="492"/>
                  </a:lnTo>
                  <a:lnTo>
                    <a:pt x="218" y="497"/>
                  </a:lnTo>
                  <a:lnTo>
                    <a:pt x="223" y="500"/>
                  </a:lnTo>
                  <a:lnTo>
                    <a:pt x="232" y="502"/>
                  </a:lnTo>
                  <a:lnTo>
                    <a:pt x="226" y="509"/>
                  </a:lnTo>
                  <a:lnTo>
                    <a:pt x="219" y="517"/>
                  </a:lnTo>
                  <a:lnTo>
                    <a:pt x="191" y="539"/>
                  </a:lnTo>
                  <a:lnTo>
                    <a:pt x="174" y="562"/>
                  </a:lnTo>
                  <a:lnTo>
                    <a:pt x="162" y="570"/>
                  </a:lnTo>
                  <a:lnTo>
                    <a:pt x="145" y="578"/>
                  </a:lnTo>
                  <a:lnTo>
                    <a:pt x="127" y="588"/>
                  </a:lnTo>
                  <a:lnTo>
                    <a:pt x="120" y="594"/>
                  </a:lnTo>
                  <a:lnTo>
                    <a:pt x="118" y="600"/>
                  </a:lnTo>
                  <a:lnTo>
                    <a:pt x="57" y="627"/>
                  </a:lnTo>
                  <a:lnTo>
                    <a:pt x="50" y="638"/>
                  </a:lnTo>
                  <a:lnTo>
                    <a:pt x="39" y="663"/>
                  </a:lnTo>
                  <a:lnTo>
                    <a:pt x="26" y="688"/>
                  </a:lnTo>
                  <a:lnTo>
                    <a:pt x="21" y="697"/>
                  </a:lnTo>
                  <a:lnTo>
                    <a:pt x="18" y="701"/>
                  </a:lnTo>
                  <a:lnTo>
                    <a:pt x="0" y="693"/>
                  </a:lnTo>
                  <a:lnTo>
                    <a:pt x="3" y="675"/>
                  </a:lnTo>
                  <a:lnTo>
                    <a:pt x="9" y="656"/>
                  </a:lnTo>
                  <a:lnTo>
                    <a:pt x="18" y="635"/>
                  </a:lnTo>
                  <a:lnTo>
                    <a:pt x="26" y="611"/>
                  </a:lnTo>
                  <a:lnTo>
                    <a:pt x="33" y="588"/>
                  </a:lnTo>
                  <a:lnTo>
                    <a:pt x="45" y="562"/>
                  </a:lnTo>
                  <a:lnTo>
                    <a:pt x="64" y="533"/>
                  </a:lnTo>
                  <a:lnTo>
                    <a:pt x="88" y="502"/>
                  </a:lnTo>
                  <a:lnTo>
                    <a:pt x="116" y="464"/>
                  </a:lnTo>
                  <a:lnTo>
                    <a:pt x="117" y="455"/>
                  </a:lnTo>
                  <a:lnTo>
                    <a:pt x="115" y="445"/>
                  </a:lnTo>
                  <a:lnTo>
                    <a:pt x="111" y="434"/>
                  </a:lnTo>
                  <a:lnTo>
                    <a:pt x="110" y="423"/>
                  </a:lnTo>
                  <a:lnTo>
                    <a:pt x="148" y="376"/>
                  </a:lnTo>
                  <a:lnTo>
                    <a:pt x="149" y="324"/>
                  </a:lnTo>
                  <a:lnTo>
                    <a:pt x="161" y="313"/>
                  </a:lnTo>
                  <a:lnTo>
                    <a:pt x="172" y="300"/>
                  </a:lnTo>
                  <a:lnTo>
                    <a:pt x="177" y="293"/>
                  </a:lnTo>
                  <a:lnTo>
                    <a:pt x="181" y="284"/>
                  </a:lnTo>
                  <a:lnTo>
                    <a:pt x="184" y="275"/>
                  </a:lnTo>
                  <a:lnTo>
                    <a:pt x="185" y="264"/>
                  </a:lnTo>
                  <a:lnTo>
                    <a:pt x="229" y="201"/>
                  </a:lnTo>
                  <a:lnTo>
                    <a:pt x="239" y="197"/>
                  </a:lnTo>
                  <a:lnTo>
                    <a:pt x="252" y="190"/>
                  </a:lnTo>
                  <a:lnTo>
                    <a:pt x="267" y="186"/>
                  </a:lnTo>
                  <a:lnTo>
                    <a:pt x="272" y="186"/>
                  </a:lnTo>
                  <a:lnTo>
                    <a:pt x="278" y="187"/>
                  </a:lnTo>
                  <a:lnTo>
                    <a:pt x="277" y="194"/>
                  </a:lnTo>
                  <a:lnTo>
                    <a:pt x="278" y="199"/>
                  </a:lnTo>
                  <a:lnTo>
                    <a:pt x="280" y="204"/>
                  </a:lnTo>
                  <a:lnTo>
                    <a:pt x="311" y="187"/>
                  </a:lnTo>
                  <a:lnTo>
                    <a:pt x="326" y="187"/>
                  </a:lnTo>
                  <a:lnTo>
                    <a:pt x="340" y="186"/>
                  </a:lnTo>
                  <a:lnTo>
                    <a:pt x="354" y="181"/>
                  </a:lnTo>
                  <a:lnTo>
                    <a:pt x="361" y="177"/>
                  </a:lnTo>
                  <a:lnTo>
                    <a:pt x="368" y="171"/>
                  </a:lnTo>
                  <a:lnTo>
                    <a:pt x="370" y="139"/>
                  </a:lnTo>
                  <a:lnTo>
                    <a:pt x="367" y="131"/>
                  </a:lnTo>
                  <a:lnTo>
                    <a:pt x="359" y="123"/>
                  </a:lnTo>
                  <a:lnTo>
                    <a:pt x="371" y="108"/>
                  </a:lnTo>
                  <a:lnTo>
                    <a:pt x="384" y="92"/>
                  </a:lnTo>
                  <a:lnTo>
                    <a:pt x="396" y="77"/>
                  </a:lnTo>
                  <a:lnTo>
                    <a:pt x="400" y="69"/>
                  </a:lnTo>
                  <a:lnTo>
                    <a:pt x="404" y="59"/>
                  </a:lnTo>
                  <a:lnTo>
                    <a:pt x="407" y="65"/>
                  </a:lnTo>
                  <a:lnTo>
                    <a:pt x="412" y="70"/>
                  </a:lnTo>
                  <a:lnTo>
                    <a:pt x="422" y="78"/>
                  </a:lnTo>
                  <a:lnTo>
                    <a:pt x="433" y="80"/>
                  </a:lnTo>
                  <a:lnTo>
                    <a:pt x="440" y="83"/>
                  </a:lnTo>
                  <a:lnTo>
                    <a:pt x="447" y="87"/>
                  </a:lnTo>
                  <a:lnTo>
                    <a:pt x="460" y="86"/>
                  </a:lnTo>
                  <a:lnTo>
                    <a:pt x="464" y="82"/>
                  </a:lnTo>
                  <a:lnTo>
                    <a:pt x="470" y="79"/>
                  </a:lnTo>
                  <a:lnTo>
                    <a:pt x="475" y="76"/>
                  </a:lnTo>
                  <a:lnTo>
                    <a:pt x="477" y="73"/>
                  </a:lnTo>
                  <a:lnTo>
                    <a:pt x="477" y="71"/>
                  </a:lnTo>
                  <a:lnTo>
                    <a:pt x="485" y="73"/>
                  </a:lnTo>
                  <a:lnTo>
                    <a:pt x="498" y="79"/>
                  </a:lnTo>
                  <a:lnTo>
                    <a:pt x="535" y="56"/>
                  </a:lnTo>
                  <a:lnTo>
                    <a:pt x="552" y="53"/>
                  </a:lnTo>
                  <a:lnTo>
                    <a:pt x="570" y="52"/>
                  </a:lnTo>
                  <a:lnTo>
                    <a:pt x="588" y="52"/>
                  </a:lnTo>
                  <a:lnTo>
                    <a:pt x="606" y="55"/>
                  </a:lnTo>
                  <a:lnTo>
                    <a:pt x="624" y="59"/>
                  </a:lnTo>
                  <a:lnTo>
                    <a:pt x="641" y="66"/>
                  </a:lnTo>
                  <a:lnTo>
                    <a:pt x="656" y="75"/>
                  </a:lnTo>
                  <a:lnTo>
                    <a:pt x="670" y="87"/>
                  </a:lnTo>
                  <a:lnTo>
                    <a:pt x="678" y="95"/>
                  </a:lnTo>
                  <a:lnTo>
                    <a:pt x="681" y="99"/>
                  </a:lnTo>
                  <a:lnTo>
                    <a:pt x="684" y="106"/>
                  </a:lnTo>
                  <a:lnTo>
                    <a:pt x="684" y="115"/>
                  </a:lnTo>
                  <a:lnTo>
                    <a:pt x="690" y="121"/>
                  </a:lnTo>
                  <a:lnTo>
                    <a:pt x="703" y="137"/>
                  </a:lnTo>
                  <a:lnTo>
                    <a:pt x="710" y="136"/>
                  </a:lnTo>
                  <a:lnTo>
                    <a:pt x="714" y="134"/>
                  </a:lnTo>
                  <a:lnTo>
                    <a:pt x="716" y="137"/>
                  </a:lnTo>
                  <a:lnTo>
                    <a:pt x="722" y="143"/>
                  </a:lnTo>
                  <a:lnTo>
                    <a:pt x="781" y="160"/>
                  </a:lnTo>
                  <a:lnTo>
                    <a:pt x="784" y="157"/>
                  </a:lnTo>
                  <a:lnTo>
                    <a:pt x="784" y="151"/>
                  </a:lnTo>
                  <a:lnTo>
                    <a:pt x="783" y="146"/>
                  </a:lnTo>
                  <a:lnTo>
                    <a:pt x="783" y="139"/>
                  </a:lnTo>
                  <a:lnTo>
                    <a:pt x="792" y="140"/>
                  </a:lnTo>
                  <a:lnTo>
                    <a:pt x="800" y="142"/>
                  </a:lnTo>
                  <a:lnTo>
                    <a:pt x="809" y="143"/>
                  </a:lnTo>
                  <a:lnTo>
                    <a:pt x="825" y="144"/>
                  </a:lnTo>
                  <a:lnTo>
                    <a:pt x="826" y="157"/>
                  </a:lnTo>
                  <a:lnTo>
                    <a:pt x="860" y="157"/>
                  </a:lnTo>
                  <a:lnTo>
                    <a:pt x="875" y="143"/>
                  </a:lnTo>
                  <a:lnTo>
                    <a:pt x="885" y="134"/>
                  </a:lnTo>
                  <a:lnTo>
                    <a:pt x="893" y="125"/>
                  </a:lnTo>
                  <a:lnTo>
                    <a:pt x="898" y="120"/>
                  </a:lnTo>
                  <a:lnTo>
                    <a:pt x="908" y="113"/>
                  </a:lnTo>
                  <a:lnTo>
                    <a:pt x="958" y="90"/>
                  </a:lnTo>
                  <a:lnTo>
                    <a:pt x="963" y="87"/>
                  </a:lnTo>
                  <a:lnTo>
                    <a:pt x="967" y="79"/>
                  </a:lnTo>
                  <a:lnTo>
                    <a:pt x="971" y="69"/>
                  </a:lnTo>
                  <a:lnTo>
                    <a:pt x="973" y="59"/>
                  </a:lnTo>
                  <a:lnTo>
                    <a:pt x="992" y="31"/>
                  </a:lnTo>
                  <a:lnTo>
                    <a:pt x="1001" y="32"/>
                  </a:lnTo>
                  <a:lnTo>
                    <a:pt x="1007" y="36"/>
                  </a:lnTo>
                  <a:lnTo>
                    <a:pt x="1018" y="40"/>
                  </a:lnTo>
                  <a:lnTo>
                    <a:pt x="1036" y="43"/>
                  </a:lnTo>
                  <a:lnTo>
                    <a:pt x="1045" y="42"/>
                  </a:lnTo>
                  <a:lnTo>
                    <a:pt x="1052" y="39"/>
                  </a:lnTo>
                  <a:lnTo>
                    <a:pt x="1059" y="33"/>
                  </a:lnTo>
                  <a:lnTo>
                    <a:pt x="1069" y="27"/>
                  </a:lnTo>
                  <a:lnTo>
                    <a:pt x="1093" y="27"/>
                  </a:lnTo>
                  <a:lnTo>
                    <a:pt x="1113" y="23"/>
                  </a:lnTo>
                  <a:lnTo>
                    <a:pt x="1129" y="18"/>
                  </a:lnTo>
                  <a:lnTo>
                    <a:pt x="1143" y="11"/>
                  </a:lnTo>
                  <a:lnTo>
                    <a:pt x="1159" y="1"/>
                  </a:lnTo>
                  <a:lnTo>
                    <a:pt x="1164" y="0"/>
                  </a:lnTo>
                  <a:lnTo>
                    <a:pt x="116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36800" y="3063600"/>
              <a:ext cx="3240" cy="3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36800" y="3139560"/>
              <a:ext cx="3240" cy="39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7120" y="3637800"/>
              <a:ext cx="605160" cy="482760"/>
            </a:xfrm>
            <a:custGeom>
              <a:avLst/>
              <a:gdLst/>
              <a:ahLst/>
              <a:rect l="l" t="t" r="r" b="b"/>
              <a:pathLst>
                <a:path w="1255" h="1018">
                  <a:moveTo>
                    <a:pt x="1075" y="86"/>
                  </a:moveTo>
                  <a:lnTo>
                    <a:pt x="1083" y="89"/>
                  </a:lnTo>
                  <a:lnTo>
                    <a:pt x="1098" y="90"/>
                  </a:lnTo>
                  <a:lnTo>
                    <a:pt x="1105" y="88"/>
                  </a:lnTo>
                  <a:lnTo>
                    <a:pt x="1112" y="84"/>
                  </a:lnTo>
                  <a:lnTo>
                    <a:pt x="1115" y="77"/>
                  </a:lnTo>
                  <a:lnTo>
                    <a:pt x="1115" y="67"/>
                  </a:lnTo>
                  <a:lnTo>
                    <a:pt x="1132" y="33"/>
                  </a:lnTo>
                  <a:lnTo>
                    <a:pt x="1133" y="35"/>
                  </a:lnTo>
                  <a:lnTo>
                    <a:pt x="1136" y="38"/>
                  </a:lnTo>
                  <a:lnTo>
                    <a:pt x="1139" y="38"/>
                  </a:lnTo>
                  <a:lnTo>
                    <a:pt x="1145" y="37"/>
                  </a:lnTo>
                  <a:lnTo>
                    <a:pt x="1164" y="28"/>
                  </a:lnTo>
                  <a:lnTo>
                    <a:pt x="1181" y="37"/>
                  </a:lnTo>
                  <a:lnTo>
                    <a:pt x="1187" y="38"/>
                  </a:lnTo>
                  <a:lnTo>
                    <a:pt x="1190" y="38"/>
                  </a:lnTo>
                  <a:lnTo>
                    <a:pt x="1194" y="35"/>
                  </a:lnTo>
                  <a:lnTo>
                    <a:pt x="1195" y="33"/>
                  </a:lnTo>
                  <a:lnTo>
                    <a:pt x="1211" y="67"/>
                  </a:lnTo>
                  <a:lnTo>
                    <a:pt x="1208" y="146"/>
                  </a:lnTo>
                  <a:lnTo>
                    <a:pt x="1197" y="144"/>
                  </a:lnTo>
                  <a:lnTo>
                    <a:pt x="1191" y="146"/>
                  </a:lnTo>
                  <a:lnTo>
                    <a:pt x="1191" y="150"/>
                  </a:lnTo>
                  <a:lnTo>
                    <a:pt x="1194" y="156"/>
                  </a:lnTo>
                  <a:lnTo>
                    <a:pt x="1204" y="170"/>
                  </a:lnTo>
                  <a:lnTo>
                    <a:pt x="1211" y="179"/>
                  </a:lnTo>
                  <a:lnTo>
                    <a:pt x="1210" y="192"/>
                  </a:lnTo>
                  <a:lnTo>
                    <a:pt x="1207" y="198"/>
                  </a:lnTo>
                  <a:lnTo>
                    <a:pt x="1190" y="207"/>
                  </a:lnTo>
                  <a:lnTo>
                    <a:pt x="1166" y="252"/>
                  </a:lnTo>
                  <a:lnTo>
                    <a:pt x="1164" y="283"/>
                  </a:lnTo>
                  <a:lnTo>
                    <a:pt x="1214" y="378"/>
                  </a:lnTo>
                  <a:lnTo>
                    <a:pt x="1224" y="390"/>
                  </a:lnTo>
                  <a:lnTo>
                    <a:pt x="1234" y="399"/>
                  </a:lnTo>
                  <a:lnTo>
                    <a:pt x="1244" y="409"/>
                  </a:lnTo>
                  <a:lnTo>
                    <a:pt x="1255" y="424"/>
                  </a:lnTo>
                  <a:lnTo>
                    <a:pt x="1255" y="471"/>
                  </a:lnTo>
                  <a:lnTo>
                    <a:pt x="1247" y="483"/>
                  </a:lnTo>
                  <a:lnTo>
                    <a:pt x="1237" y="496"/>
                  </a:lnTo>
                  <a:lnTo>
                    <a:pt x="1218" y="523"/>
                  </a:lnTo>
                  <a:lnTo>
                    <a:pt x="1211" y="661"/>
                  </a:lnTo>
                  <a:lnTo>
                    <a:pt x="1206" y="660"/>
                  </a:lnTo>
                  <a:lnTo>
                    <a:pt x="1200" y="661"/>
                  </a:lnTo>
                  <a:lnTo>
                    <a:pt x="1197" y="663"/>
                  </a:lnTo>
                  <a:lnTo>
                    <a:pt x="1194" y="667"/>
                  </a:lnTo>
                  <a:lnTo>
                    <a:pt x="1189" y="680"/>
                  </a:lnTo>
                  <a:lnTo>
                    <a:pt x="1188" y="693"/>
                  </a:lnTo>
                  <a:lnTo>
                    <a:pt x="1188" y="720"/>
                  </a:lnTo>
                  <a:lnTo>
                    <a:pt x="1190" y="726"/>
                  </a:lnTo>
                  <a:lnTo>
                    <a:pt x="1211" y="727"/>
                  </a:lnTo>
                  <a:lnTo>
                    <a:pt x="1205" y="733"/>
                  </a:lnTo>
                  <a:lnTo>
                    <a:pt x="1199" y="741"/>
                  </a:lnTo>
                  <a:lnTo>
                    <a:pt x="1189" y="755"/>
                  </a:lnTo>
                  <a:lnTo>
                    <a:pt x="1179" y="771"/>
                  </a:lnTo>
                  <a:lnTo>
                    <a:pt x="1173" y="776"/>
                  </a:lnTo>
                  <a:lnTo>
                    <a:pt x="1164" y="780"/>
                  </a:lnTo>
                  <a:lnTo>
                    <a:pt x="1144" y="805"/>
                  </a:lnTo>
                  <a:lnTo>
                    <a:pt x="1133" y="817"/>
                  </a:lnTo>
                  <a:lnTo>
                    <a:pt x="1125" y="825"/>
                  </a:lnTo>
                  <a:lnTo>
                    <a:pt x="1115" y="838"/>
                  </a:lnTo>
                  <a:lnTo>
                    <a:pt x="1103" y="855"/>
                  </a:lnTo>
                  <a:lnTo>
                    <a:pt x="1087" y="869"/>
                  </a:lnTo>
                  <a:lnTo>
                    <a:pt x="1070" y="882"/>
                  </a:lnTo>
                  <a:lnTo>
                    <a:pt x="1053" y="894"/>
                  </a:lnTo>
                  <a:lnTo>
                    <a:pt x="1032" y="906"/>
                  </a:lnTo>
                  <a:lnTo>
                    <a:pt x="1008" y="918"/>
                  </a:lnTo>
                  <a:lnTo>
                    <a:pt x="983" y="929"/>
                  </a:lnTo>
                  <a:lnTo>
                    <a:pt x="958" y="938"/>
                  </a:lnTo>
                  <a:lnTo>
                    <a:pt x="916" y="952"/>
                  </a:lnTo>
                  <a:lnTo>
                    <a:pt x="903" y="954"/>
                  </a:lnTo>
                  <a:lnTo>
                    <a:pt x="898" y="954"/>
                  </a:lnTo>
                  <a:lnTo>
                    <a:pt x="892" y="959"/>
                  </a:lnTo>
                  <a:lnTo>
                    <a:pt x="883" y="968"/>
                  </a:lnTo>
                  <a:lnTo>
                    <a:pt x="861" y="990"/>
                  </a:lnTo>
                  <a:lnTo>
                    <a:pt x="848" y="1003"/>
                  </a:lnTo>
                  <a:lnTo>
                    <a:pt x="837" y="1012"/>
                  </a:lnTo>
                  <a:lnTo>
                    <a:pt x="827" y="1017"/>
                  </a:lnTo>
                  <a:lnTo>
                    <a:pt x="822" y="1018"/>
                  </a:lnTo>
                  <a:lnTo>
                    <a:pt x="818" y="1017"/>
                  </a:lnTo>
                  <a:lnTo>
                    <a:pt x="807" y="1009"/>
                  </a:lnTo>
                  <a:lnTo>
                    <a:pt x="800" y="997"/>
                  </a:lnTo>
                  <a:lnTo>
                    <a:pt x="786" y="969"/>
                  </a:lnTo>
                  <a:lnTo>
                    <a:pt x="779" y="956"/>
                  </a:lnTo>
                  <a:lnTo>
                    <a:pt x="770" y="944"/>
                  </a:lnTo>
                  <a:lnTo>
                    <a:pt x="760" y="935"/>
                  </a:lnTo>
                  <a:lnTo>
                    <a:pt x="753" y="932"/>
                  </a:lnTo>
                  <a:lnTo>
                    <a:pt x="745" y="930"/>
                  </a:lnTo>
                  <a:lnTo>
                    <a:pt x="742" y="922"/>
                  </a:lnTo>
                  <a:lnTo>
                    <a:pt x="733" y="913"/>
                  </a:lnTo>
                  <a:lnTo>
                    <a:pt x="721" y="903"/>
                  </a:lnTo>
                  <a:lnTo>
                    <a:pt x="707" y="893"/>
                  </a:lnTo>
                  <a:lnTo>
                    <a:pt x="680" y="878"/>
                  </a:lnTo>
                  <a:lnTo>
                    <a:pt x="665" y="871"/>
                  </a:lnTo>
                  <a:lnTo>
                    <a:pt x="589" y="788"/>
                  </a:lnTo>
                  <a:lnTo>
                    <a:pt x="586" y="758"/>
                  </a:lnTo>
                  <a:lnTo>
                    <a:pt x="585" y="744"/>
                  </a:lnTo>
                  <a:lnTo>
                    <a:pt x="586" y="740"/>
                  </a:lnTo>
                  <a:lnTo>
                    <a:pt x="589" y="735"/>
                  </a:lnTo>
                  <a:lnTo>
                    <a:pt x="601" y="722"/>
                  </a:lnTo>
                  <a:lnTo>
                    <a:pt x="551" y="623"/>
                  </a:lnTo>
                  <a:lnTo>
                    <a:pt x="507" y="576"/>
                  </a:lnTo>
                  <a:lnTo>
                    <a:pt x="511" y="568"/>
                  </a:lnTo>
                  <a:lnTo>
                    <a:pt x="513" y="560"/>
                  </a:lnTo>
                  <a:lnTo>
                    <a:pt x="512" y="551"/>
                  </a:lnTo>
                  <a:lnTo>
                    <a:pt x="508" y="543"/>
                  </a:lnTo>
                  <a:lnTo>
                    <a:pt x="502" y="535"/>
                  </a:lnTo>
                  <a:lnTo>
                    <a:pt x="494" y="528"/>
                  </a:lnTo>
                  <a:lnTo>
                    <a:pt x="474" y="514"/>
                  </a:lnTo>
                  <a:lnTo>
                    <a:pt x="453" y="503"/>
                  </a:lnTo>
                  <a:lnTo>
                    <a:pt x="433" y="494"/>
                  </a:lnTo>
                  <a:lnTo>
                    <a:pt x="409" y="486"/>
                  </a:lnTo>
                  <a:lnTo>
                    <a:pt x="391" y="492"/>
                  </a:lnTo>
                  <a:lnTo>
                    <a:pt x="380" y="495"/>
                  </a:lnTo>
                  <a:lnTo>
                    <a:pt x="373" y="500"/>
                  </a:lnTo>
                  <a:lnTo>
                    <a:pt x="332" y="485"/>
                  </a:lnTo>
                  <a:lnTo>
                    <a:pt x="313" y="480"/>
                  </a:lnTo>
                  <a:lnTo>
                    <a:pt x="304" y="480"/>
                  </a:lnTo>
                  <a:lnTo>
                    <a:pt x="297" y="480"/>
                  </a:lnTo>
                  <a:lnTo>
                    <a:pt x="283" y="483"/>
                  </a:lnTo>
                  <a:lnTo>
                    <a:pt x="270" y="489"/>
                  </a:lnTo>
                  <a:lnTo>
                    <a:pt x="258" y="500"/>
                  </a:lnTo>
                  <a:lnTo>
                    <a:pt x="246" y="514"/>
                  </a:lnTo>
                  <a:lnTo>
                    <a:pt x="225" y="516"/>
                  </a:lnTo>
                  <a:lnTo>
                    <a:pt x="203" y="516"/>
                  </a:lnTo>
                  <a:lnTo>
                    <a:pt x="182" y="514"/>
                  </a:lnTo>
                  <a:lnTo>
                    <a:pt x="162" y="510"/>
                  </a:lnTo>
                  <a:lnTo>
                    <a:pt x="143" y="505"/>
                  </a:lnTo>
                  <a:lnTo>
                    <a:pt x="126" y="499"/>
                  </a:lnTo>
                  <a:lnTo>
                    <a:pt x="94" y="482"/>
                  </a:lnTo>
                  <a:lnTo>
                    <a:pt x="58" y="450"/>
                  </a:lnTo>
                  <a:lnTo>
                    <a:pt x="44" y="433"/>
                  </a:lnTo>
                  <a:lnTo>
                    <a:pt x="30" y="418"/>
                  </a:lnTo>
                  <a:lnTo>
                    <a:pt x="20" y="402"/>
                  </a:lnTo>
                  <a:lnTo>
                    <a:pt x="11" y="387"/>
                  </a:lnTo>
                  <a:lnTo>
                    <a:pt x="5" y="370"/>
                  </a:lnTo>
                  <a:lnTo>
                    <a:pt x="0" y="352"/>
                  </a:lnTo>
                  <a:lnTo>
                    <a:pt x="7" y="311"/>
                  </a:lnTo>
                  <a:lnTo>
                    <a:pt x="12" y="276"/>
                  </a:lnTo>
                  <a:lnTo>
                    <a:pt x="5" y="257"/>
                  </a:lnTo>
                  <a:lnTo>
                    <a:pt x="2" y="240"/>
                  </a:lnTo>
                  <a:lnTo>
                    <a:pt x="5" y="226"/>
                  </a:lnTo>
                  <a:lnTo>
                    <a:pt x="10" y="212"/>
                  </a:lnTo>
                  <a:lnTo>
                    <a:pt x="19" y="201"/>
                  </a:lnTo>
                  <a:lnTo>
                    <a:pt x="30" y="191"/>
                  </a:lnTo>
                  <a:lnTo>
                    <a:pt x="57" y="172"/>
                  </a:lnTo>
                  <a:lnTo>
                    <a:pt x="111" y="117"/>
                  </a:lnTo>
                  <a:lnTo>
                    <a:pt x="120" y="114"/>
                  </a:lnTo>
                  <a:lnTo>
                    <a:pt x="129" y="105"/>
                  </a:lnTo>
                  <a:lnTo>
                    <a:pt x="132" y="99"/>
                  </a:lnTo>
                  <a:lnTo>
                    <a:pt x="135" y="91"/>
                  </a:lnTo>
                  <a:lnTo>
                    <a:pt x="136" y="84"/>
                  </a:lnTo>
                  <a:lnTo>
                    <a:pt x="136" y="72"/>
                  </a:lnTo>
                  <a:lnTo>
                    <a:pt x="146" y="76"/>
                  </a:lnTo>
                  <a:lnTo>
                    <a:pt x="165" y="84"/>
                  </a:lnTo>
                  <a:lnTo>
                    <a:pt x="186" y="89"/>
                  </a:lnTo>
                  <a:lnTo>
                    <a:pt x="193" y="89"/>
                  </a:lnTo>
                  <a:lnTo>
                    <a:pt x="200" y="87"/>
                  </a:lnTo>
                  <a:lnTo>
                    <a:pt x="207" y="87"/>
                  </a:lnTo>
                  <a:lnTo>
                    <a:pt x="216" y="85"/>
                  </a:lnTo>
                  <a:lnTo>
                    <a:pt x="232" y="77"/>
                  </a:lnTo>
                  <a:lnTo>
                    <a:pt x="246" y="70"/>
                  </a:lnTo>
                  <a:lnTo>
                    <a:pt x="250" y="69"/>
                  </a:lnTo>
                  <a:lnTo>
                    <a:pt x="253" y="70"/>
                  </a:lnTo>
                  <a:lnTo>
                    <a:pt x="273" y="70"/>
                  </a:lnTo>
                  <a:lnTo>
                    <a:pt x="286" y="68"/>
                  </a:lnTo>
                  <a:lnTo>
                    <a:pt x="297" y="66"/>
                  </a:lnTo>
                  <a:lnTo>
                    <a:pt x="302" y="62"/>
                  </a:lnTo>
                  <a:lnTo>
                    <a:pt x="310" y="52"/>
                  </a:lnTo>
                  <a:lnTo>
                    <a:pt x="323" y="41"/>
                  </a:lnTo>
                  <a:lnTo>
                    <a:pt x="346" y="24"/>
                  </a:lnTo>
                  <a:lnTo>
                    <a:pt x="349" y="21"/>
                  </a:lnTo>
                  <a:lnTo>
                    <a:pt x="346" y="24"/>
                  </a:lnTo>
                  <a:lnTo>
                    <a:pt x="367" y="20"/>
                  </a:lnTo>
                  <a:lnTo>
                    <a:pt x="378" y="16"/>
                  </a:lnTo>
                  <a:lnTo>
                    <a:pt x="389" y="9"/>
                  </a:lnTo>
                  <a:lnTo>
                    <a:pt x="398" y="5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7" y="4"/>
                  </a:lnTo>
                  <a:lnTo>
                    <a:pt x="444" y="11"/>
                  </a:lnTo>
                  <a:lnTo>
                    <a:pt x="459" y="21"/>
                  </a:lnTo>
                  <a:lnTo>
                    <a:pt x="460" y="33"/>
                  </a:lnTo>
                  <a:lnTo>
                    <a:pt x="459" y="34"/>
                  </a:lnTo>
                  <a:lnTo>
                    <a:pt x="480" y="59"/>
                  </a:lnTo>
                  <a:lnTo>
                    <a:pt x="578" y="48"/>
                  </a:lnTo>
                  <a:lnTo>
                    <a:pt x="581" y="40"/>
                  </a:lnTo>
                  <a:lnTo>
                    <a:pt x="588" y="33"/>
                  </a:lnTo>
                  <a:lnTo>
                    <a:pt x="595" y="27"/>
                  </a:lnTo>
                  <a:lnTo>
                    <a:pt x="605" y="21"/>
                  </a:lnTo>
                  <a:lnTo>
                    <a:pt x="628" y="13"/>
                  </a:lnTo>
                  <a:lnTo>
                    <a:pt x="652" y="7"/>
                  </a:lnTo>
                  <a:lnTo>
                    <a:pt x="675" y="4"/>
                  </a:lnTo>
                  <a:lnTo>
                    <a:pt x="696" y="1"/>
                  </a:lnTo>
                  <a:lnTo>
                    <a:pt x="716" y="0"/>
                  </a:lnTo>
                  <a:lnTo>
                    <a:pt x="721" y="9"/>
                  </a:lnTo>
                  <a:lnTo>
                    <a:pt x="729" y="16"/>
                  </a:lnTo>
                  <a:lnTo>
                    <a:pt x="737" y="25"/>
                  </a:lnTo>
                  <a:lnTo>
                    <a:pt x="744" y="37"/>
                  </a:lnTo>
                  <a:lnTo>
                    <a:pt x="749" y="39"/>
                  </a:lnTo>
                  <a:lnTo>
                    <a:pt x="755" y="40"/>
                  </a:lnTo>
                  <a:lnTo>
                    <a:pt x="774" y="39"/>
                  </a:lnTo>
                  <a:lnTo>
                    <a:pt x="793" y="38"/>
                  </a:lnTo>
                  <a:lnTo>
                    <a:pt x="807" y="37"/>
                  </a:lnTo>
                  <a:lnTo>
                    <a:pt x="822" y="42"/>
                  </a:lnTo>
                  <a:lnTo>
                    <a:pt x="837" y="47"/>
                  </a:lnTo>
                  <a:lnTo>
                    <a:pt x="870" y="54"/>
                  </a:lnTo>
                  <a:lnTo>
                    <a:pt x="886" y="57"/>
                  </a:lnTo>
                  <a:lnTo>
                    <a:pt x="902" y="61"/>
                  </a:lnTo>
                  <a:lnTo>
                    <a:pt x="917" y="68"/>
                  </a:lnTo>
                  <a:lnTo>
                    <a:pt x="932" y="78"/>
                  </a:lnTo>
                  <a:lnTo>
                    <a:pt x="959" y="82"/>
                  </a:lnTo>
                  <a:lnTo>
                    <a:pt x="986" y="87"/>
                  </a:lnTo>
                  <a:lnTo>
                    <a:pt x="1011" y="89"/>
                  </a:lnTo>
                  <a:lnTo>
                    <a:pt x="1021" y="88"/>
                  </a:lnTo>
                  <a:lnTo>
                    <a:pt x="1031" y="84"/>
                  </a:lnTo>
                  <a:lnTo>
                    <a:pt x="1032" y="89"/>
                  </a:lnTo>
                  <a:lnTo>
                    <a:pt x="1034" y="91"/>
                  </a:lnTo>
                  <a:lnTo>
                    <a:pt x="1038" y="92"/>
                  </a:lnTo>
                  <a:lnTo>
                    <a:pt x="1044" y="94"/>
                  </a:lnTo>
                  <a:lnTo>
                    <a:pt x="1052" y="94"/>
                  </a:lnTo>
                  <a:lnTo>
                    <a:pt x="1062" y="90"/>
                  </a:lnTo>
                  <a:lnTo>
                    <a:pt x="1075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63440" y="3645720"/>
              <a:ext cx="432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55080" y="3036960"/>
              <a:ext cx="632520" cy="638640"/>
            </a:xfrm>
            <a:custGeom>
              <a:avLst/>
              <a:gdLst/>
              <a:ahLst/>
              <a:rect l="l" t="t" r="r" b="b"/>
              <a:pathLst>
                <a:path w="1305" h="1340">
                  <a:moveTo>
                    <a:pt x="761" y="81"/>
                  </a:moveTo>
                  <a:lnTo>
                    <a:pt x="754" y="86"/>
                  </a:lnTo>
                  <a:lnTo>
                    <a:pt x="752" y="91"/>
                  </a:lnTo>
                  <a:lnTo>
                    <a:pt x="752" y="96"/>
                  </a:lnTo>
                  <a:lnTo>
                    <a:pt x="754" y="102"/>
                  </a:lnTo>
                  <a:lnTo>
                    <a:pt x="763" y="111"/>
                  </a:lnTo>
                  <a:lnTo>
                    <a:pt x="774" y="116"/>
                  </a:lnTo>
                  <a:lnTo>
                    <a:pt x="832" y="169"/>
                  </a:lnTo>
                  <a:lnTo>
                    <a:pt x="859" y="112"/>
                  </a:lnTo>
                  <a:lnTo>
                    <a:pt x="856" y="109"/>
                  </a:lnTo>
                  <a:lnTo>
                    <a:pt x="854" y="107"/>
                  </a:lnTo>
                  <a:lnTo>
                    <a:pt x="850" y="107"/>
                  </a:lnTo>
                  <a:lnTo>
                    <a:pt x="843" y="108"/>
                  </a:lnTo>
                  <a:lnTo>
                    <a:pt x="838" y="106"/>
                  </a:lnTo>
                  <a:lnTo>
                    <a:pt x="850" y="96"/>
                  </a:lnTo>
                  <a:lnTo>
                    <a:pt x="861" y="84"/>
                  </a:lnTo>
                  <a:lnTo>
                    <a:pt x="874" y="73"/>
                  </a:lnTo>
                  <a:lnTo>
                    <a:pt x="891" y="63"/>
                  </a:lnTo>
                  <a:lnTo>
                    <a:pt x="895" y="53"/>
                  </a:lnTo>
                  <a:lnTo>
                    <a:pt x="899" y="47"/>
                  </a:lnTo>
                  <a:lnTo>
                    <a:pt x="904" y="44"/>
                  </a:lnTo>
                  <a:lnTo>
                    <a:pt x="914" y="38"/>
                  </a:lnTo>
                  <a:lnTo>
                    <a:pt x="914" y="23"/>
                  </a:lnTo>
                  <a:lnTo>
                    <a:pt x="913" y="13"/>
                  </a:lnTo>
                  <a:lnTo>
                    <a:pt x="913" y="1"/>
                  </a:lnTo>
                  <a:lnTo>
                    <a:pt x="915" y="0"/>
                  </a:lnTo>
                  <a:lnTo>
                    <a:pt x="921" y="0"/>
                  </a:lnTo>
                  <a:lnTo>
                    <a:pt x="945" y="2"/>
                  </a:lnTo>
                  <a:lnTo>
                    <a:pt x="947" y="5"/>
                  </a:lnTo>
                  <a:lnTo>
                    <a:pt x="950" y="8"/>
                  </a:lnTo>
                  <a:lnTo>
                    <a:pt x="951" y="18"/>
                  </a:lnTo>
                  <a:lnTo>
                    <a:pt x="951" y="40"/>
                  </a:lnTo>
                  <a:lnTo>
                    <a:pt x="1068" y="105"/>
                  </a:lnTo>
                  <a:lnTo>
                    <a:pt x="1077" y="139"/>
                  </a:lnTo>
                  <a:lnTo>
                    <a:pt x="1087" y="148"/>
                  </a:lnTo>
                  <a:lnTo>
                    <a:pt x="1096" y="158"/>
                  </a:lnTo>
                  <a:lnTo>
                    <a:pt x="1115" y="178"/>
                  </a:lnTo>
                  <a:lnTo>
                    <a:pt x="1156" y="190"/>
                  </a:lnTo>
                  <a:lnTo>
                    <a:pt x="1162" y="189"/>
                  </a:lnTo>
                  <a:lnTo>
                    <a:pt x="1166" y="188"/>
                  </a:lnTo>
                  <a:lnTo>
                    <a:pt x="1173" y="182"/>
                  </a:lnTo>
                  <a:lnTo>
                    <a:pt x="1177" y="174"/>
                  </a:lnTo>
                  <a:lnTo>
                    <a:pt x="1184" y="167"/>
                  </a:lnTo>
                  <a:lnTo>
                    <a:pt x="1262" y="194"/>
                  </a:lnTo>
                  <a:lnTo>
                    <a:pt x="1238" y="252"/>
                  </a:lnTo>
                  <a:lnTo>
                    <a:pt x="1239" y="254"/>
                  </a:lnTo>
                  <a:lnTo>
                    <a:pt x="1241" y="256"/>
                  </a:lnTo>
                  <a:lnTo>
                    <a:pt x="1246" y="256"/>
                  </a:lnTo>
                  <a:lnTo>
                    <a:pt x="1253" y="255"/>
                  </a:lnTo>
                  <a:lnTo>
                    <a:pt x="1259" y="256"/>
                  </a:lnTo>
                  <a:lnTo>
                    <a:pt x="1254" y="267"/>
                  </a:lnTo>
                  <a:lnTo>
                    <a:pt x="1253" y="279"/>
                  </a:lnTo>
                  <a:lnTo>
                    <a:pt x="1253" y="290"/>
                  </a:lnTo>
                  <a:lnTo>
                    <a:pt x="1253" y="303"/>
                  </a:lnTo>
                  <a:lnTo>
                    <a:pt x="1253" y="308"/>
                  </a:lnTo>
                  <a:lnTo>
                    <a:pt x="1255" y="311"/>
                  </a:lnTo>
                  <a:lnTo>
                    <a:pt x="1262" y="314"/>
                  </a:lnTo>
                  <a:lnTo>
                    <a:pt x="1269" y="316"/>
                  </a:lnTo>
                  <a:lnTo>
                    <a:pt x="1279" y="318"/>
                  </a:lnTo>
                  <a:lnTo>
                    <a:pt x="1305" y="368"/>
                  </a:lnTo>
                  <a:lnTo>
                    <a:pt x="1224" y="396"/>
                  </a:lnTo>
                  <a:lnTo>
                    <a:pt x="1222" y="445"/>
                  </a:lnTo>
                  <a:lnTo>
                    <a:pt x="1150" y="479"/>
                  </a:lnTo>
                  <a:lnTo>
                    <a:pt x="1140" y="500"/>
                  </a:lnTo>
                  <a:lnTo>
                    <a:pt x="1131" y="519"/>
                  </a:lnTo>
                  <a:lnTo>
                    <a:pt x="1130" y="527"/>
                  </a:lnTo>
                  <a:lnTo>
                    <a:pt x="1132" y="535"/>
                  </a:lnTo>
                  <a:lnTo>
                    <a:pt x="1137" y="540"/>
                  </a:lnTo>
                  <a:lnTo>
                    <a:pt x="1148" y="546"/>
                  </a:lnTo>
                  <a:lnTo>
                    <a:pt x="1191" y="602"/>
                  </a:lnTo>
                  <a:lnTo>
                    <a:pt x="1191" y="650"/>
                  </a:lnTo>
                  <a:lnTo>
                    <a:pt x="1251" y="728"/>
                  </a:lnTo>
                  <a:lnTo>
                    <a:pt x="1295" y="769"/>
                  </a:lnTo>
                  <a:lnTo>
                    <a:pt x="1287" y="770"/>
                  </a:lnTo>
                  <a:lnTo>
                    <a:pt x="1279" y="773"/>
                  </a:lnTo>
                  <a:lnTo>
                    <a:pt x="1263" y="785"/>
                  </a:lnTo>
                  <a:lnTo>
                    <a:pt x="1223" y="821"/>
                  </a:lnTo>
                  <a:lnTo>
                    <a:pt x="1201" y="841"/>
                  </a:lnTo>
                  <a:lnTo>
                    <a:pt x="1177" y="858"/>
                  </a:lnTo>
                  <a:lnTo>
                    <a:pt x="1165" y="864"/>
                  </a:lnTo>
                  <a:lnTo>
                    <a:pt x="1153" y="869"/>
                  </a:lnTo>
                  <a:lnTo>
                    <a:pt x="1141" y="872"/>
                  </a:lnTo>
                  <a:lnTo>
                    <a:pt x="1128" y="873"/>
                  </a:lnTo>
                  <a:lnTo>
                    <a:pt x="1105" y="864"/>
                  </a:lnTo>
                  <a:lnTo>
                    <a:pt x="1096" y="859"/>
                  </a:lnTo>
                  <a:lnTo>
                    <a:pt x="1088" y="851"/>
                  </a:lnTo>
                  <a:lnTo>
                    <a:pt x="1062" y="864"/>
                  </a:lnTo>
                  <a:lnTo>
                    <a:pt x="1053" y="870"/>
                  </a:lnTo>
                  <a:lnTo>
                    <a:pt x="1054" y="872"/>
                  </a:lnTo>
                  <a:lnTo>
                    <a:pt x="1056" y="875"/>
                  </a:lnTo>
                  <a:lnTo>
                    <a:pt x="1064" y="888"/>
                  </a:lnTo>
                  <a:lnTo>
                    <a:pt x="1035" y="890"/>
                  </a:lnTo>
                  <a:lnTo>
                    <a:pt x="982" y="981"/>
                  </a:lnTo>
                  <a:lnTo>
                    <a:pt x="955" y="995"/>
                  </a:lnTo>
                  <a:lnTo>
                    <a:pt x="924" y="1012"/>
                  </a:lnTo>
                  <a:lnTo>
                    <a:pt x="910" y="1021"/>
                  </a:lnTo>
                  <a:lnTo>
                    <a:pt x="896" y="1032"/>
                  </a:lnTo>
                  <a:lnTo>
                    <a:pt x="888" y="1045"/>
                  </a:lnTo>
                  <a:lnTo>
                    <a:pt x="884" y="1052"/>
                  </a:lnTo>
                  <a:lnTo>
                    <a:pt x="883" y="1060"/>
                  </a:lnTo>
                  <a:lnTo>
                    <a:pt x="879" y="1067"/>
                  </a:lnTo>
                  <a:lnTo>
                    <a:pt x="873" y="1073"/>
                  </a:lnTo>
                  <a:lnTo>
                    <a:pt x="865" y="1076"/>
                  </a:lnTo>
                  <a:lnTo>
                    <a:pt x="858" y="1078"/>
                  </a:lnTo>
                  <a:lnTo>
                    <a:pt x="841" y="1083"/>
                  </a:lnTo>
                  <a:lnTo>
                    <a:pt x="833" y="1087"/>
                  </a:lnTo>
                  <a:lnTo>
                    <a:pt x="828" y="1093"/>
                  </a:lnTo>
                  <a:lnTo>
                    <a:pt x="829" y="1101"/>
                  </a:lnTo>
                  <a:lnTo>
                    <a:pt x="833" y="1106"/>
                  </a:lnTo>
                  <a:lnTo>
                    <a:pt x="840" y="1110"/>
                  </a:lnTo>
                  <a:lnTo>
                    <a:pt x="848" y="1111"/>
                  </a:lnTo>
                  <a:lnTo>
                    <a:pt x="865" y="1112"/>
                  </a:lnTo>
                  <a:lnTo>
                    <a:pt x="883" y="1113"/>
                  </a:lnTo>
                  <a:lnTo>
                    <a:pt x="896" y="1110"/>
                  </a:lnTo>
                  <a:lnTo>
                    <a:pt x="908" y="1104"/>
                  </a:lnTo>
                  <a:lnTo>
                    <a:pt x="915" y="1096"/>
                  </a:lnTo>
                  <a:lnTo>
                    <a:pt x="922" y="1087"/>
                  </a:lnTo>
                  <a:lnTo>
                    <a:pt x="926" y="1076"/>
                  </a:lnTo>
                  <a:lnTo>
                    <a:pt x="930" y="1065"/>
                  </a:lnTo>
                  <a:lnTo>
                    <a:pt x="933" y="1040"/>
                  </a:lnTo>
                  <a:lnTo>
                    <a:pt x="939" y="1032"/>
                  </a:lnTo>
                  <a:lnTo>
                    <a:pt x="944" y="1027"/>
                  </a:lnTo>
                  <a:lnTo>
                    <a:pt x="950" y="1027"/>
                  </a:lnTo>
                  <a:lnTo>
                    <a:pt x="955" y="1029"/>
                  </a:lnTo>
                  <a:lnTo>
                    <a:pt x="960" y="1033"/>
                  </a:lnTo>
                  <a:lnTo>
                    <a:pt x="963" y="1037"/>
                  </a:lnTo>
                  <a:lnTo>
                    <a:pt x="966" y="1046"/>
                  </a:lnTo>
                  <a:lnTo>
                    <a:pt x="1004" y="1069"/>
                  </a:lnTo>
                  <a:lnTo>
                    <a:pt x="1015" y="1077"/>
                  </a:lnTo>
                  <a:lnTo>
                    <a:pt x="1021" y="1087"/>
                  </a:lnTo>
                  <a:lnTo>
                    <a:pt x="1024" y="1102"/>
                  </a:lnTo>
                  <a:lnTo>
                    <a:pt x="1024" y="1120"/>
                  </a:lnTo>
                  <a:lnTo>
                    <a:pt x="1023" y="1180"/>
                  </a:lnTo>
                  <a:lnTo>
                    <a:pt x="1007" y="1211"/>
                  </a:lnTo>
                  <a:lnTo>
                    <a:pt x="996" y="1239"/>
                  </a:lnTo>
                  <a:lnTo>
                    <a:pt x="977" y="1305"/>
                  </a:lnTo>
                  <a:lnTo>
                    <a:pt x="974" y="1313"/>
                  </a:lnTo>
                  <a:lnTo>
                    <a:pt x="967" y="1322"/>
                  </a:lnTo>
                  <a:lnTo>
                    <a:pt x="954" y="1340"/>
                  </a:lnTo>
                  <a:lnTo>
                    <a:pt x="921" y="1326"/>
                  </a:lnTo>
                  <a:lnTo>
                    <a:pt x="889" y="1314"/>
                  </a:lnTo>
                  <a:lnTo>
                    <a:pt x="856" y="1305"/>
                  </a:lnTo>
                  <a:lnTo>
                    <a:pt x="825" y="1298"/>
                  </a:lnTo>
                  <a:lnTo>
                    <a:pt x="762" y="1291"/>
                  </a:lnTo>
                  <a:lnTo>
                    <a:pt x="699" y="1283"/>
                  </a:lnTo>
                  <a:lnTo>
                    <a:pt x="651" y="1245"/>
                  </a:lnTo>
                  <a:lnTo>
                    <a:pt x="633" y="1232"/>
                  </a:lnTo>
                  <a:lnTo>
                    <a:pt x="619" y="1218"/>
                  </a:lnTo>
                  <a:lnTo>
                    <a:pt x="614" y="1215"/>
                  </a:lnTo>
                  <a:lnTo>
                    <a:pt x="613" y="1211"/>
                  </a:lnTo>
                  <a:lnTo>
                    <a:pt x="612" y="1201"/>
                  </a:lnTo>
                  <a:lnTo>
                    <a:pt x="611" y="1192"/>
                  </a:lnTo>
                  <a:lnTo>
                    <a:pt x="610" y="1188"/>
                  </a:lnTo>
                  <a:lnTo>
                    <a:pt x="607" y="1185"/>
                  </a:lnTo>
                  <a:lnTo>
                    <a:pt x="597" y="1181"/>
                  </a:lnTo>
                  <a:lnTo>
                    <a:pt x="591" y="1177"/>
                  </a:lnTo>
                  <a:lnTo>
                    <a:pt x="589" y="1173"/>
                  </a:lnTo>
                  <a:lnTo>
                    <a:pt x="588" y="1170"/>
                  </a:lnTo>
                  <a:lnTo>
                    <a:pt x="588" y="1162"/>
                  </a:lnTo>
                  <a:lnTo>
                    <a:pt x="586" y="1157"/>
                  </a:lnTo>
                  <a:lnTo>
                    <a:pt x="581" y="1154"/>
                  </a:lnTo>
                  <a:lnTo>
                    <a:pt x="569" y="1155"/>
                  </a:lnTo>
                  <a:lnTo>
                    <a:pt x="561" y="1156"/>
                  </a:lnTo>
                  <a:lnTo>
                    <a:pt x="556" y="1160"/>
                  </a:lnTo>
                  <a:lnTo>
                    <a:pt x="553" y="1164"/>
                  </a:lnTo>
                  <a:lnTo>
                    <a:pt x="547" y="1178"/>
                  </a:lnTo>
                  <a:lnTo>
                    <a:pt x="542" y="1187"/>
                  </a:lnTo>
                  <a:lnTo>
                    <a:pt x="534" y="1197"/>
                  </a:lnTo>
                  <a:lnTo>
                    <a:pt x="528" y="1199"/>
                  </a:lnTo>
                  <a:lnTo>
                    <a:pt x="522" y="1205"/>
                  </a:lnTo>
                  <a:lnTo>
                    <a:pt x="519" y="1208"/>
                  </a:lnTo>
                  <a:lnTo>
                    <a:pt x="517" y="1209"/>
                  </a:lnTo>
                  <a:lnTo>
                    <a:pt x="517" y="1208"/>
                  </a:lnTo>
                  <a:lnTo>
                    <a:pt x="516" y="1183"/>
                  </a:lnTo>
                  <a:lnTo>
                    <a:pt x="516" y="1154"/>
                  </a:lnTo>
                  <a:lnTo>
                    <a:pt x="505" y="1150"/>
                  </a:lnTo>
                  <a:lnTo>
                    <a:pt x="500" y="1146"/>
                  </a:lnTo>
                  <a:lnTo>
                    <a:pt x="500" y="1138"/>
                  </a:lnTo>
                  <a:lnTo>
                    <a:pt x="501" y="1120"/>
                  </a:lnTo>
                  <a:lnTo>
                    <a:pt x="510" y="1113"/>
                  </a:lnTo>
                  <a:lnTo>
                    <a:pt x="519" y="1105"/>
                  </a:lnTo>
                  <a:lnTo>
                    <a:pt x="534" y="1088"/>
                  </a:lnTo>
                  <a:lnTo>
                    <a:pt x="543" y="1081"/>
                  </a:lnTo>
                  <a:lnTo>
                    <a:pt x="554" y="1074"/>
                  </a:lnTo>
                  <a:lnTo>
                    <a:pt x="568" y="1071"/>
                  </a:lnTo>
                  <a:lnTo>
                    <a:pt x="586" y="1070"/>
                  </a:lnTo>
                  <a:lnTo>
                    <a:pt x="578" y="1065"/>
                  </a:lnTo>
                  <a:lnTo>
                    <a:pt x="571" y="1060"/>
                  </a:lnTo>
                  <a:lnTo>
                    <a:pt x="559" y="1046"/>
                  </a:lnTo>
                  <a:lnTo>
                    <a:pt x="548" y="1033"/>
                  </a:lnTo>
                  <a:lnTo>
                    <a:pt x="541" y="1029"/>
                  </a:lnTo>
                  <a:lnTo>
                    <a:pt x="534" y="1024"/>
                  </a:lnTo>
                  <a:lnTo>
                    <a:pt x="497" y="1056"/>
                  </a:lnTo>
                  <a:lnTo>
                    <a:pt x="491" y="1070"/>
                  </a:lnTo>
                  <a:lnTo>
                    <a:pt x="490" y="1082"/>
                  </a:lnTo>
                  <a:lnTo>
                    <a:pt x="488" y="1092"/>
                  </a:lnTo>
                  <a:lnTo>
                    <a:pt x="485" y="1096"/>
                  </a:lnTo>
                  <a:lnTo>
                    <a:pt x="480" y="1101"/>
                  </a:lnTo>
                  <a:lnTo>
                    <a:pt x="478" y="1114"/>
                  </a:lnTo>
                  <a:lnTo>
                    <a:pt x="479" y="1127"/>
                  </a:lnTo>
                  <a:lnTo>
                    <a:pt x="479" y="1141"/>
                  </a:lnTo>
                  <a:lnTo>
                    <a:pt x="477" y="1146"/>
                  </a:lnTo>
                  <a:lnTo>
                    <a:pt x="475" y="1151"/>
                  </a:lnTo>
                  <a:lnTo>
                    <a:pt x="473" y="1154"/>
                  </a:lnTo>
                  <a:lnTo>
                    <a:pt x="470" y="1156"/>
                  </a:lnTo>
                  <a:lnTo>
                    <a:pt x="459" y="1157"/>
                  </a:lnTo>
                  <a:lnTo>
                    <a:pt x="446" y="1157"/>
                  </a:lnTo>
                  <a:lnTo>
                    <a:pt x="438" y="1158"/>
                  </a:lnTo>
                  <a:lnTo>
                    <a:pt x="438" y="1157"/>
                  </a:lnTo>
                  <a:lnTo>
                    <a:pt x="436" y="1157"/>
                  </a:lnTo>
                  <a:lnTo>
                    <a:pt x="428" y="1157"/>
                  </a:lnTo>
                  <a:lnTo>
                    <a:pt x="399" y="1161"/>
                  </a:lnTo>
                  <a:lnTo>
                    <a:pt x="362" y="1167"/>
                  </a:lnTo>
                  <a:lnTo>
                    <a:pt x="415" y="1180"/>
                  </a:lnTo>
                  <a:lnTo>
                    <a:pt x="440" y="1183"/>
                  </a:lnTo>
                  <a:lnTo>
                    <a:pt x="453" y="1184"/>
                  </a:lnTo>
                  <a:lnTo>
                    <a:pt x="461" y="1185"/>
                  </a:lnTo>
                  <a:lnTo>
                    <a:pt x="467" y="1183"/>
                  </a:lnTo>
                  <a:lnTo>
                    <a:pt x="501" y="1195"/>
                  </a:lnTo>
                  <a:lnTo>
                    <a:pt x="502" y="1198"/>
                  </a:lnTo>
                  <a:lnTo>
                    <a:pt x="501" y="1204"/>
                  </a:lnTo>
                  <a:lnTo>
                    <a:pt x="499" y="1217"/>
                  </a:lnTo>
                  <a:lnTo>
                    <a:pt x="493" y="1229"/>
                  </a:lnTo>
                  <a:lnTo>
                    <a:pt x="489" y="1237"/>
                  </a:lnTo>
                  <a:lnTo>
                    <a:pt x="485" y="1244"/>
                  </a:lnTo>
                  <a:lnTo>
                    <a:pt x="483" y="1252"/>
                  </a:lnTo>
                  <a:lnTo>
                    <a:pt x="481" y="1257"/>
                  </a:lnTo>
                  <a:lnTo>
                    <a:pt x="478" y="1259"/>
                  </a:lnTo>
                  <a:lnTo>
                    <a:pt x="475" y="1261"/>
                  </a:lnTo>
                  <a:lnTo>
                    <a:pt x="471" y="1258"/>
                  </a:lnTo>
                  <a:lnTo>
                    <a:pt x="470" y="1254"/>
                  </a:lnTo>
                  <a:lnTo>
                    <a:pt x="468" y="1243"/>
                  </a:lnTo>
                  <a:lnTo>
                    <a:pt x="468" y="1221"/>
                  </a:lnTo>
                  <a:lnTo>
                    <a:pt x="453" y="1217"/>
                  </a:lnTo>
                  <a:lnTo>
                    <a:pt x="440" y="1216"/>
                  </a:lnTo>
                  <a:lnTo>
                    <a:pt x="436" y="1217"/>
                  </a:lnTo>
                  <a:lnTo>
                    <a:pt x="432" y="1218"/>
                  </a:lnTo>
                  <a:lnTo>
                    <a:pt x="386" y="1217"/>
                  </a:lnTo>
                  <a:lnTo>
                    <a:pt x="322" y="1202"/>
                  </a:lnTo>
                  <a:lnTo>
                    <a:pt x="262" y="1214"/>
                  </a:lnTo>
                  <a:lnTo>
                    <a:pt x="251" y="1217"/>
                  </a:lnTo>
                  <a:lnTo>
                    <a:pt x="247" y="1221"/>
                  </a:lnTo>
                  <a:lnTo>
                    <a:pt x="246" y="1225"/>
                  </a:lnTo>
                  <a:lnTo>
                    <a:pt x="244" y="1232"/>
                  </a:lnTo>
                  <a:lnTo>
                    <a:pt x="235" y="1242"/>
                  </a:lnTo>
                  <a:lnTo>
                    <a:pt x="217" y="1256"/>
                  </a:lnTo>
                  <a:lnTo>
                    <a:pt x="203" y="1255"/>
                  </a:lnTo>
                  <a:lnTo>
                    <a:pt x="198" y="1254"/>
                  </a:lnTo>
                  <a:lnTo>
                    <a:pt x="194" y="1259"/>
                  </a:lnTo>
                  <a:lnTo>
                    <a:pt x="185" y="1274"/>
                  </a:lnTo>
                  <a:lnTo>
                    <a:pt x="193" y="1273"/>
                  </a:lnTo>
                  <a:lnTo>
                    <a:pt x="194" y="1274"/>
                  </a:lnTo>
                  <a:lnTo>
                    <a:pt x="193" y="1276"/>
                  </a:lnTo>
                  <a:lnTo>
                    <a:pt x="174" y="1287"/>
                  </a:lnTo>
                  <a:lnTo>
                    <a:pt x="146" y="1299"/>
                  </a:lnTo>
                  <a:lnTo>
                    <a:pt x="118" y="1307"/>
                  </a:lnTo>
                  <a:lnTo>
                    <a:pt x="98" y="1305"/>
                  </a:lnTo>
                  <a:lnTo>
                    <a:pt x="80" y="1306"/>
                  </a:lnTo>
                  <a:lnTo>
                    <a:pt x="63" y="1309"/>
                  </a:lnTo>
                  <a:lnTo>
                    <a:pt x="48" y="1315"/>
                  </a:lnTo>
                  <a:lnTo>
                    <a:pt x="25" y="1326"/>
                  </a:lnTo>
                  <a:lnTo>
                    <a:pt x="18" y="1329"/>
                  </a:lnTo>
                  <a:lnTo>
                    <a:pt x="16" y="1329"/>
                  </a:lnTo>
                  <a:lnTo>
                    <a:pt x="9" y="1323"/>
                  </a:lnTo>
                  <a:lnTo>
                    <a:pt x="5" y="1316"/>
                  </a:lnTo>
                  <a:lnTo>
                    <a:pt x="2" y="1308"/>
                  </a:lnTo>
                  <a:lnTo>
                    <a:pt x="0" y="1299"/>
                  </a:lnTo>
                  <a:lnTo>
                    <a:pt x="2" y="1282"/>
                  </a:lnTo>
                  <a:lnTo>
                    <a:pt x="8" y="1264"/>
                  </a:lnTo>
                  <a:lnTo>
                    <a:pt x="20" y="1245"/>
                  </a:lnTo>
                  <a:lnTo>
                    <a:pt x="37" y="1227"/>
                  </a:lnTo>
                  <a:lnTo>
                    <a:pt x="58" y="1212"/>
                  </a:lnTo>
                  <a:lnTo>
                    <a:pt x="84" y="1198"/>
                  </a:lnTo>
                  <a:lnTo>
                    <a:pt x="86" y="1195"/>
                  </a:lnTo>
                  <a:lnTo>
                    <a:pt x="94" y="1191"/>
                  </a:lnTo>
                  <a:lnTo>
                    <a:pt x="117" y="1180"/>
                  </a:lnTo>
                  <a:lnTo>
                    <a:pt x="141" y="1167"/>
                  </a:lnTo>
                  <a:lnTo>
                    <a:pt x="156" y="1160"/>
                  </a:lnTo>
                  <a:lnTo>
                    <a:pt x="160" y="1144"/>
                  </a:lnTo>
                  <a:lnTo>
                    <a:pt x="164" y="1134"/>
                  </a:lnTo>
                  <a:lnTo>
                    <a:pt x="165" y="1125"/>
                  </a:lnTo>
                  <a:lnTo>
                    <a:pt x="167" y="1117"/>
                  </a:lnTo>
                  <a:lnTo>
                    <a:pt x="174" y="1110"/>
                  </a:lnTo>
                  <a:lnTo>
                    <a:pt x="184" y="1100"/>
                  </a:lnTo>
                  <a:lnTo>
                    <a:pt x="188" y="1093"/>
                  </a:lnTo>
                  <a:lnTo>
                    <a:pt x="193" y="1086"/>
                  </a:lnTo>
                  <a:lnTo>
                    <a:pt x="190" y="1081"/>
                  </a:lnTo>
                  <a:lnTo>
                    <a:pt x="188" y="1080"/>
                  </a:lnTo>
                  <a:lnTo>
                    <a:pt x="184" y="1080"/>
                  </a:lnTo>
                  <a:lnTo>
                    <a:pt x="184" y="1077"/>
                  </a:lnTo>
                  <a:lnTo>
                    <a:pt x="186" y="1072"/>
                  </a:lnTo>
                  <a:lnTo>
                    <a:pt x="203" y="1043"/>
                  </a:lnTo>
                  <a:lnTo>
                    <a:pt x="218" y="1033"/>
                  </a:lnTo>
                  <a:lnTo>
                    <a:pt x="234" y="1025"/>
                  </a:lnTo>
                  <a:lnTo>
                    <a:pt x="248" y="1017"/>
                  </a:lnTo>
                  <a:lnTo>
                    <a:pt x="260" y="1009"/>
                  </a:lnTo>
                  <a:lnTo>
                    <a:pt x="324" y="1013"/>
                  </a:lnTo>
                  <a:lnTo>
                    <a:pt x="322" y="1011"/>
                  </a:lnTo>
                  <a:lnTo>
                    <a:pt x="324" y="1006"/>
                  </a:lnTo>
                  <a:lnTo>
                    <a:pt x="331" y="994"/>
                  </a:lnTo>
                  <a:lnTo>
                    <a:pt x="348" y="974"/>
                  </a:lnTo>
                  <a:lnTo>
                    <a:pt x="349" y="934"/>
                  </a:lnTo>
                  <a:lnTo>
                    <a:pt x="318" y="876"/>
                  </a:lnTo>
                  <a:lnTo>
                    <a:pt x="312" y="878"/>
                  </a:lnTo>
                  <a:lnTo>
                    <a:pt x="309" y="879"/>
                  </a:lnTo>
                  <a:lnTo>
                    <a:pt x="308" y="882"/>
                  </a:lnTo>
                  <a:lnTo>
                    <a:pt x="307" y="885"/>
                  </a:lnTo>
                  <a:lnTo>
                    <a:pt x="309" y="908"/>
                  </a:lnTo>
                  <a:lnTo>
                    <a:pt x="312" y="912"/>
                  </a:lnTo>
                  <a:lnTo>
                    <a:pt x="315" y="915"/>
                  </a:lnTo>
                  <a:lnTo>
                    <a:pt x="318" y="920"/>
                  </a:lnTo>
                  <a:lnTo>
                    <a:pt x="309" y="915"/>
                  </a:lnTo>
                  <a:lnTo>
                    <a:pt x="302" y="916"/>
                  </a:lnTo>
                  <a:lnTo>
                    <a:pt x="299" y="921"/>
                  </a:lnTo>
                  <a:lnTo>
                    <a:pt x="297" y="928"/>
                  </a:lnTo>
                  <a:lnTo>
                    <a:pt x="295" y="944"/>
                  </a:lnTo>
                  <a:lnTo>
                    <a:pt x="294" y="954"/>
                  </a:lnTo>
                  <a:lnTo>
                    <a:pt x="289" y="958"/>
                  </a:lnTo>
                  <a:lnTo>
                    <a:pt x="285" y="958"/>
                  </a:lnTo>
                  <a:lnTo>
                    <a:pt x="277" y="955"/>
                  </a:lnTo>
                  <a:lnTo>
                    <a:pt x="269" y="950"/>
                  </a:lnTo>
                  <a:lnTo>
                    <a:pt x="260" y="946"/>
                  </a:lnTo>
                  <a:lnTo>
                    <a:pt x="253" y="946"/>
                  </a:lnTo>
                  <a:lnTo>
                    <a:pt x="247" y="950"/>
                  </a:lnTo>
                  <a:lnTo>
                    <a:pt x="243" y="956"/>
                  </a:lnTo>
                  <a:lnTo>
                    <a:pt x="239" y="965"/>
                  </a:lnTo>
                  <a:lnTo>
                    <a:pt x="215" y="969"/>
                  </a:lnTo>
                  <a:lnTo>
                    <a:pt x="197" y="946"/>
                  </a:lnTo>
                  <a:lnTo>
                    <a:pt x="197" y="913"/>
                  </a:lnTo>
                  <a:lnTo>
                    <a:pt x="234" y="869"/>
                  </a:lnTo>
                  <a:lnTo>
                    <a:pt x="274" y="767"/>
                  </a:lnTo>
                  <a:lnTo>
                    <a:pt x="292" y="757"/>
                  </a:lnTo>
                  <a:lnTo>
                    <a:pt x="311" y="747"/>
                  </a:lnTo>
                  <a:lnTo>
                    <a:pt x="321" y="743"/>
                  </a:lnTo>
                  <a:lnTo>
                    <a:pt x="332" y="741"/>
                  </a:lnTo>
                  <a:lnTo>
                    <a:pt x="344" y="742"/>
                  </a:lnTo>
                  <a:lnTo>
                    <a:pt x="356" y="747"/>
                  </a:lnTo>
                  <a:lnTo>
                    <a:pt x="393" y="728"/>
                  </a:lnTo>
                  <a:lnTo>
                    <a:pt x="411" y="569"/>
                  </a:lnTo>
                  <a:lnTo>
                    <a:pt x="406" y="562"/>
                  </a:lnTo>
                  <a:lnTo>
                    <a:pt x="402" y="553"/>
                  </a:lnTo>
                  <a:lnTo>
                    <a:pt x="400" y="545"/>
                  </a:lnTo>
                  <a:lnTo>
                    <a:pt x="396" y="537"/>
                  </a:lnTo>
                  <a:lnTo>
                    <a:pt x="375" y="519"/>
                  </a:lnTo>
                  <a:lnTo>
                    <a:pt x="361" y="508"/>
                  </a:lnTo>
                  <a:lnTo>
                    <a:pt x="350" y="502"/>
                  </a:lnTo>
                  <a:lnTo>
                    <a:pt x="357" y="500"/>
                  </a:lnTo>
                  <a:lnTo>
                    <a:pt x="364" y="497"/>
                  </a:lnTo>
                  <a:lnTo>
                    <a:pt x="374" y="490"/>
                  </a:lnTo>
                  <a:lnTo>
                    <a:pt x="370" y="451"/>
                  </a:lnTo>
                  <a:lnTo>
                    <a:pt x="375" y="428"/>
                  </a:lnTo>
                  <a:lnTo>
                    <a:pt x="374" y="409"/>
                  </a:lnTo>
                  <a:lnTo>
                    <a:pt x="369" y="394"/>
                  </a:lnTo>
                  <a:lnTo>
                    <a:pt x="360" y="380"/>
                  </a:lnTo>
                  <a:lnTo>
                    <a:pt x="337" y="355"/>
                  </a:lnTo>
                  <a:lnTo>
                    <a:pt x="325" y="340"/>
                  </a:lnTo>
                  <a:lnTo>
                    <a:pt x="315" y="323"/>
                  </a:lnTo>
                  <a:lnTo>
                    <a:pt x="307" y="325"/>
                  </a:lnTo>
                  <a:lnTo>
                    <a:pt x="302" y="321"/>
                  </a:lnTo>
                  <a:lnTo>
                    <a:pt x="300" y="315"/>
                  </a:lnTo>
                  <a:lnTo>
                    <a:pt x="299" y="306"/>
                  </a:lnTo>
                  <a:lnTo>
                    <a:pt x="297" y="298"/>
                  </a:lnTo>
                  <a:lnTo>
                    <a:pt x="294" y="294"/>
                  </a:lnTo>
                  <a:lnTo>
                    <a:pt x="291" y="291"/>
                  </a:lnTo>
                  <a:lnTo>
                    <a:pt x="289" y="293"/>
                  </a:lnTo>
                  <a:lnTo>
                    <a:pt x="280" y="297"/>
                  </a:lnTo>
                  <a:lnTo>
                    <a:pt x="270" y="293"/>
                  </a:lnTo>
                  <a:lnTo>
                    <a:pt x="257" y="284"/>
                  </a:lnTo>
                  <a:lnTo>
                    <a:pt x="224" y="258"/>
                  </a:lnTo>
                  <a:lnTo>
                    <a:pt x="191" y="232"/>
                  </a:lnTo>
                  <a:lnTo>
                    <a:pt x="174" y="214"/>
                  </a:lnTo>
                  <a:lnTo>
                    <a:pt x="178" y="217"/>
                  </a:lnTo>
                  <a:lnTo>
                    <a:pt x="196" y="197"/>
                  </a:lnTo>
                  <a:lnTo>
                    <a:pt x="198" y="188"/>
                  </a:lnTo>
                  <a:lnTo>
                    <a:pt x="201" y="172"/>
                  </a:lnTo>
                  <a:lnTo>
                    <a:pt x="203" y="164"/>
                  </a:lnTo>
                  <a:lnTo>
                    <a:pt x="201" y="156"/>
                  </a:lnTo>
                  <a:lnTo>
                    <a:pt x="198" y="151"/>
                  </a:lnTo>
                  <a:lnTo>
                    <a:pt x="193" y="147"/>
                  </a:lnTo>
                  <a:lnTo>
                    <a:pt x="197" y="102"/>
                  </a:lnTo>
                  <a:lnTo>
                    <a:pt x="174" y="58"/>
                  </a:lnTo>
                  <a:lnTo>
                    <a:pt x="174" y="54"/>
                  </a:lnTo>
                  <a:lnTo>
                    <a:pt x="197" y="54"/>
                  </a:lnTo>
                  <a:lnTo>
                    <a:pt x="204" y="55"/>
                  </a:lnTo>
                  <a:lnTo>
                    <a:pt x="209" y="57"/>
                  </a:lnTo>
                  <a:lnTo>
                    <a:pt x="214" y="58"/>
                  </a:lnTo>
                  <a:lnTo>
                    <a:pt x="218" y="55"/>
                  </a:lnTo>
                  <a:lnTo>
                    <a:pt x="299" y="73"/>
                  </a:lnTo>
                  <a:lnTo>
                    <a:pt x="302" y="78"/>
                  </a:lnTo>
                  <a:lnTo>
                    <a:pt x="308" y="85"/>
                  </a:lnTo>
                  <a:lnTo>
                    <a:pt x="328" y="99"/>
                  </a:lnTo>
                  <a:lnTo>
                    <a:pt x="348" y="112"/>
                  </a:lnTo>
                  <a:lnTo>
                    <a:pt x="362" y="117"/>
                  </a:lnTo>
                  <a:lnTo>
                    <a:pt x="359" y="126"/>
                  </a:lnTo>
                  <a:lnTo>
                    <a:pt x="359" y="132"/>
                  </a:lnTo>
                  <a:lnTo>
                    <a:pt x="361" y="136"/>
                  </a:lnTo>
                  <a:lnTo>
                    <a:pt x="367" y="139"/>
                  </a:lnTo>
                  <a:lnTo>
                    <a:pt x="384" y="145"/>
                  </a:lnTo>
                  <a:lnTo>
                    <a:pt x="402" y="151"/>
                  </a:lnTo>
                  <a:lnTo>
                    <a:pt x="410" y="149"/>
                  </a:lnTo>
                  <a:lnTo>
                    <a:pt x="417" y="147"/>
                  </a:lnTo>
                  <a:lnTo>
                    <a:pt x="421" y="143"/>
                  </a:lnTo>
                  <a:lnTo>
                    <a:pt x="425" y="135"/>
                  </a:lnTo>
                  <a:lnTo>
                    <a:pt x="489" y="139"/>
                  </a:lnTo>
                  <a:lnTo>
                    <a:pt x="492" y="96"/>
                  </a:lnTo>
                  <a:lnTo>
                    <a:pt x="497" y="106"/>
                  </a:lnTo>
                  <a:lnTo>
                    <a:pt x="499" y="106"/>
                  </a:lnTo>
                  <a:lnTo>
                    <a:pt x="500" y="104"/>
                  </a:lnTo>
                  <a:lnTo>
                    <a:pt x="502" y="93"/>
                  </a:lnTo>
                  <a:lnTo>
                    <a:pt x="503" y="77"/>
                  </a:lnTo>
                  <a:lnTo>
                    <a:pt x="502" y="48"/>
                  </a:lnTo>
                  <a:lnTo>
                    <a:pt x="501" y="42"/>
                  </a:lnTo>
                  <a:lnTo>
                    <a:pt x="499" y="47"/>
                  </a:lnTo>
                  <a:lnTo>
                    <a:pt x="496" y="47"/>
                  </a:lnTo>
                  <a:lnTo>
                    <a:pt x="493" y="46"/>
                  </a:lnTo>
                  <a:lnTo>
                    <a:pt x="493" y="42"/>
                  </a:lnTo>
                  <a:lnTo>
                    <a:pt x="496" y="34"/>
                  </a:lnTo>
                  <a:lnTo>
                    <a:pt x="501" y="27"/>
                  </a:lnTo>
                  <a:lnTo>
                    <a:pt x="509" y="23"/>
                  </a:lnTo>
                  <a:lnTo>
                    <a:pt x="517" y="23"/>
                  </a:lnTo>
                  <a:lnTo>
                    <a:pt x="520" y="24"/>
                  </a:lnTo>
                  <a:lnTo>
                    <a:pt x="523" y="27"/>
                  </a:lnTo>
                  <a:lnTo>
                    <a:pt x="530" y="41"/>
                  </a:lnTo>
                  <a:lnTo>
                    <a:pt x="536" y="50"/>
                  </a:lnTo>
                  <a:lnTo>
                    <a:pt x="541" y="56"/>
                  </a:lnTo>
                  <a:lnTo>
                    <a:pt x="550" y="63"/>
                  </a:lnTo>
                  <a:lnTo>
                    <a:pt x="562" y="67"/>
                  </a:lnTo>
                  <a:lnTo>
                    <a:pt x="566" y="56"/>
                  </a:lnTo>
                  <a:lnTo>
                    <a:pt x="571" y="48"/>
                  </a:lnTo>
                  <a:lnTo>
                    <a:pt x="578" y="43"/>
                  </a:lnTo>
                  <a:lnTo>
                    <a:pt x="586" y="38"/>
                  </a:lnTo>
                  <a:lnTo>
                    <a:pt x="603" y="34"/>
                  </a:lnTo>
                  <a:lnTo>
                    <a:pt x="611" y="32"/>
                  </a:lnTo>
                  <a:lnTo>
                    <a:pt x="619" y="27"/>
                  </a:lnTo>
                  <a:lnTo>
                    <a:pt x="616" y="33"/>
                  </a:lnTo>
                  <a:lnTo>
                    <a:pt x="617" y="40"/>
                  </a:lnTo>
                  <a:lnTo>
                    <a:pt x="620" y="45"/>
                  </a:lnTo>
                  <a:lnTo>
                    <a:pt x="624" y="52"/>
                  </a:lnTo>
                  <a:lnTo>
                    <a:pt x="636" y="63"/>
                  </a:lnTo>
                  <a:lnTo>
                    <a:pt x="644" y="69"/>
                  </a:lnTo>
                  <a:lnTo>
                    <a:pt x="714" y="40"/>
                  </a:lnTo>
                  <a:lnTo>
                    <a:pt x="723" y="20"/>
                  </a:lnTo>
                  <a:lnTo>
                    <a:pt x="727" y="16"/>
                  </a:lnTo>
                  <a:lnTo>
                    <a:pt x="732" y="16"/>
                  </a:lnTo>
                  <a:lnTo>
                    <a:pt x="747" y="23"/>
                  </a:lnTo>
                  <a:lnTo>
                    <a:pt x="774" y="35"/>
                  </a:lnTo>
                  <a:lnTo>
                    <a:pt x="781" y="47"/>
                  </a:lnTo>
                  <a:lnTo>
                    <a:pt x="792" y="65"/>
                  </a:lnTo>
                  <a:lnTo>
                    <a:pt x="794" y="52"/>
                  </a:lnTo>
                  <a:lnTo>
                    <a:pt x="796" y="66"/>
                  </a:lnTo>
                  <a:lnTo>
                    <a:pt x="795" y="67"/>
                  </a:lnTo>
                  <a:lnTo>
                    <a:pt x="792" y="65"/>
                  </a:lnTo>
                  <a:lnTo>
                    <a:pt x="790" y="69"/>
                  </a:lnTo>
                  <a:lnTo>
                    <a:pt x="788" y="74"/>
                  </a:lnTo>
                  <a:lnTo>
                    <a:pt x="780" y="76"/>
                  </a:lnTo>
                  <a:lnTo>
                    <a:pt x="770" y="78"/>
                  </a:lnTo>
                  <a:lnTo>
                    <a:pt x="76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05520" y="3265560"/>
              <a:ext cx="1373400" cy="231840"/>
            </a:xfrm>
            <a:custGeom>
              <a:avLst/>
              <a:gdLst/>
              <a:ahLst/>
              <a:rect l="l" t="t" r="r" b="b"/>
              <a:pathLst>
                <a:path w="2833" h="487">
                  <a:moveTo>
                    <a:pt x="434" y="487"/>
                  </a:moveTo>
                  <a:lnTo>
                    <a:pt x="358" y="442"/>
                  </a:lnTo>
                  <a:lnTo>
                    <a:pt x="289" y="395"/>
                  </a:lnTo>
                  <a:lnTo>
                    <a:pt x="229" y="351"/>
                  </a:lnTo>
                  <a:lnTo>
                    <a:pt x="177" y="307"/>
                  </a:lnTo>
                  <a:lnTo>
                    <a:pt x="132" y="268"/>
                  </a:lnTo>
                  <a:lnTo>
                    <a:pt x="97" y="233"/>
                  </a:lnTo>
                  <a:lnTo>
                    <a:pt x="69" y="203"/>
                  </a:lnTo>
                  <a:lnTo>
                    <a:pt x="51" y="180"/>
                  </a:lnTo>
                  <a:lnTo>
                    <a:pt x="26" y="145"/>
                  </a:lnTo>
                  <a:lnTo>
                    <a:pt x="14" y="126"/>
                  </a:lnTo>
                  <a:lnTo>
                    <a:pt x="5" y="106"/>
                  </a:lnTo>
                  <a:lnTo>
                    <a:pt x="1" y="95"/>
                  </a:lnTo>
                  <a:lnTo>
                    <a:pt x="0" y="85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6" y="54"/>
                  </a:lnTo>
                  <a:lnTo>
                    <a:pt x="11" y="43"/>
                  </a:lnTo>
                  <a:lnTo>
                    <a:pt x="19" y="33"/>
                  </a:lnTo>
                  <a:lnTo>
                    <a:pt x="30" y="22"/>
                  </a:lnTo>
                  <a:lnTo>
                    <a:pt x="49" y="8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6" y="2"/>
                  </a:lnTo>
                  <a:lnTo>
                    <a:pt x="81" y="8"/>
                  </a:lnTo>
                  <a:lnTo>
                    <a:pt x="88" y="14"/>
                  </a:lnTo>
                  <a:lnTo>
                    <a:pt x="97" y="19"/>
                  </a:lnTo>
                  <a:lnTo>
                    <a:pt x="112" y="21"/>
                  </a:lnTo>
                  <a:lnTo>
                    <a:pt x="2833" y="21"/>
                  </a:lnTo>
                  <a:lnTo>
                    <a:pt x="2807" y="47"/>
                  </a:lnTo>
                  <a:lnTo>
                    <a:pt x="2781" y="75"/>
                  </a:lnTo>
                  <a:lnTo>
                    <a:pt x="112" y="75"/>
                  </a:lnTo>
                  <a:lnTo>
                    <a:pt x="100" y="74"/>
                  </a:lnTo>
                  <a:lnTo>
                    <a:pt x="87" y="75"/>
                  </a:lnTo>
                  <a:lnTo>
                    <a:pt x="82" y="76"/>
                  </a:lnTo>
                  <a:lnTo>
                    <a:pt x="78" y="79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79" y="99"/>
                  </a:lnTo>
                  <a:lnTo>
                    <a:pt x="84" y="106"/>
                  </a:lnTo>
                  <a:lnTo>
                    <a:pt x="90" y="113"/>
                  </a:lnTo>
                  <a:lnTo>
                    <a:pt x="99" y="119"/>
                  </a:lnTo>
                  <a:lnTo>
                    <a:pt x="108" y="123"/>
                  </a:lnTo>
                  <a:lnTo>
                    <a:pt x="119" y="126"/>
                  </a:lnTo>
                  <a:lnTo>
                    <a:pt x="131" y="129"/>
                  </a:lnTo>
                  <a:lnTo>
                    <a:pt x="145" y="129"/>
                  </a:lnTo>
                  <a:lnTo>
                    <a:pt x="2738" y="129"/>
                  </a:lnTo>
                  <a:lnTo>
                    <a:pt x="2709" y="170"/>
                  </a:lnTo>
                  <a:lnTo>
                    <a:pt x="2685" y="212"/>
                  </a:lnTo>
                  <a:lnTo>
                    <a:pt x="2663" y="255"/>
                  </a:lnTo>
                  <a:lnTo>
                    <a:pt x="2644" y="299"/>
                  </a:lnTo>
                  <a:lnTo>
                    <a:pt x="2627" y="345"/>
                  </a:lnTo>
                  <a:lnTo>
                    <a:pt x="2614" y="392"/>
                  </a:lnTo>
                  <a:lnTo>
                    <a:pt x="2604" y="439"/>
                  </a:lnTo>
                  <a:lnTo>
                    <a:pt x="2596" y="487"/>
                  </a:lnTo>
                  <a:lnTo>
                    <a:pt x="434" y="4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69400" y="3512160"/>
              <a:ext cx="1978560" cy="862920"/>
            </a:xfrm>
            <a:custGeom>
              <a:avLst/>
              <a:gdLst/>
              <a:ahLst/>
              <a:rect l="l" t="t" r="r" b="b"/>
              <a:pathLst>
                <a:path w="4080" h="1817">
                  <a:moveTo>
                    <a:pt x="112" y="75"/>
                  </a:moveTo>
                  <a:lnTo>
                    <a:pt x="101" y="75"/>
                  </a:lnTo>
                  <a:lnTo>
                    <a:pt x="87" y="75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6" y="84"/>
                  </a:lnTo>
                  <a:lnTo>
                    <a:pt x="76" y="90"/>
                  </a:lnTo>
                  <a:lnTo>
                    <a:pt x="80" y="98"/>
                  </a:lnTo>
                  <a:lnTo>
                    <a:pt x="84" y="106"/>
                  </a:lnTo>
                  <a:lnTo>
                    <a:pt x="91" y="113"/>
                  </a:lnTo>
                  <a:lnTo>
                    <a:pt x="98" y="118"/>
                  </a:lnTo>
                  <a:lnTo>
                    <a:pt x="108" y="123"/>
                  </a:lnTo>
                  <a:lnTo>
                    <a:pt x="120" y="126"/>
                  </a:lnTo>
                  <a:lnTo>
                    <a:pt x="132" y="128"/>
                  </a:lnTo>
                  <a:lnTo>
                    <a:pt x="145" y="130"/>
                  </a:lnTo>
                  <a:lnTo>
                    <a:pt x="2041" y="130"/>
                  </a:lnTo>
                  <a:lnTo>
                    <a:pt x="2045" y="173"/>
                  </a:lnTo>
                  <a:lnTo>
                    <a:pt x="2050" y="216"/>
                  </a:lnTo>
                  <a:lnTo>
                    <a:pt x="2057" y="261"/>
                  </a:lnTo>
                  <a:lnTo>
                    <a:pt x="2066" y="305"/>
                  </a:lnTo>
                  <a:lnTo>
                    <a:pt x="2076" y="349"/>
                  </a:lnTo>
                  <a:lnTo>
                    <a:pt x="2088" y="394"/>
                  </a:lnTo>
                  <a:lnTo>
                    <a:pt x="2102" y="438"/>
                  </a:lnTo>
                  <a:lnTo>
                    <a:pt x="2118" y="483"/>
                  </a:lnTo>
                  <a:lnTo>
                    <a:pt x="2119" y="487"/>
                  </a:lnTo>
                  <a:lnTo>
                    <a:pt x="2150" y="568"/>
                  </a:lnTo>
                  <a:lnTo>
                    <a:pt x="2186" y="643"/>
                  </a:lnTo>
                  <a:lnTo>
                    <a:pt x="2222" y="713"/>
                  </a:lnTo>
                  <a:lnTo>
                    <a:pt x="2262" y="777"/>
                  </a:lnTo>
                  <a:lnTo>
                    <a:pt x="2299" y="832"/>
                  </a:lnTo>
                  <a:lnTo>
                    <a:pt x="2339" y="885"/>
                  </a:lnTo>
                  <a:lnTo>
                    <a:pt x="2379" y="938"/>
                  </a:lnTo>
                  <a:lnTo>
                    <a:pt x="2421" y="989"/>
                  </a:lnTo>
                  <a:lnTo>
                    <a:pt x="2464" y="1039"/>
                  </a:lnTo>
                  <a:lnTo>
                    <a:pt x="2510" y="1086"/>
                  </a:lnTo>
                  <a:lnTo>
                    <a:pt x="2556" y="1133"/>
                  </a:lnTo>
                  <a:lnTo>
                    <a:pt x="2604" y="1179"/>
                  </a:lnTo>
                  <a:lnTo>
                    <a:pt x="2653" y="1223"/>
                  </a:lnTo>
                  <a:lnTo>
                    <a:pt x="2703" y="1265"/>
                  </a:lnTo>
                  <a:lnTo>
                    <a:pt x="2755" y="1306"/>
                  </a:lnTo>
                  <a:lnTo>
                    <a:pt x="2808" y="1346"/>
                  </a:lnTo>
                  <a:lnTo>
                    <a:pt x="2862" y="1384"/>
                  </a:lnTo>
                  <a:lnTo>
                    <a:pt x="2917" y="1420"/>
                  </a:lnTo>
                  <a:lnTo>
                    <a:pt x="2974" y="1455"/>
                  </a:lnTo>
                  <a:lnTo>
                    <a:pt x="3032" y="1487"/>
                  </a:lnTo>
                  <a:lnTo>
                    <a:pt x="3090" y="1519"/>
                  </a:lnTo>
                  <a:lnTo>
                    <a:pt x="3150" y="1548"/>
                  </a:lnTo>
                  <a:lnTo>
                    <a:pt x="3211" y="1576"/>
                  </a:lnTo>
                  <a:lnTo>
                    <a:pt x="3272" y="1601"/>
                  </a:lnTo>
                  <a:lnTo>
                    <a:pt x="3336" y="1626"/>
                  </a:lnTo>
                  <a:lnTo>
                    <a:pt x="3399" y="1647"/>
                  </a:lnTo>
                  <a:lnTo>
                    <a:pt x="3463" y="1667"/>
                  </a:lnTo>
                  <a:lnTo>
                    <a:pt x="3529" y="1686"/>
                  </a:lnTo>
                  <a:lnTo>
                    <a:pt x="3596" y="1701"/>
                  </a:lnTo>
                  <a:lnTo>
                    <a:pt x="3662" y="1716"/>
                  </a:lnTo>
                  <a:lnTo>
                    <a:pt x="3731" y="1728"/>
                  </a:lnTo>
                  <a:lnTo>
                    <a:pt x="3799" y="1738"/>
                  </a:lnTo>
                  <a:lnTo>
                    <a:pt x="3869" y="1746"/>
                  </a:lnTo>
                  <a:lnTo>
                    <a:pt x="3939" y="1751"/>
                  </a:lnTo>
                  <a:lnTo>
                    <a:pt x="4009" y="1755"/>
                  </a:lnTo>
                  <a:lnTo>
                    <a:pt x="4080" y="1756"/>
                  </a:lnTo>
                  <a:lnTo>
                    <a:pt x="4080" y="1817"/>
                  </a:lnTo>
                  <a:lnTo>
                    <a:pt x="4006" y="1816"/>
                  </a:lnTo>
                  <a:lnTo>
                    <a:pt x="3934" y="1812"/>
                  </a:lnTo>
                  <a:lnTo>
                    <a:pt x="3862" y="1807"/>
                  </a:lnTo>
                  <a:lnTo>
                    <a:pt x="3791" y="1799"/>
                  </a:lnTo>
                  <a:lnTo>
                    <a:pt x="3721" y="1789"/>
                  </a:lnTo>
                  <a:lnTo>
                    <a:pt x="3651" y="1776"/>
                  </a:lnTo>
                  <a:lnTo>
                    <a:pt x="3582" y="1761"/>
                  </a:lnTo>
                  <a:lnTo>
                    <a:pt x="3513" y="1746"/>
                  </a:lnTo>
                  <a:lnTo>
                    <a:pt x="3447" y="1727"/>
                  </a:lnTo>
                  <a:lnTo>
                    <a:pt x="3380" y="1706"/>
                  </a:lnTo>
                  <a:lnTo>
                    <a:pt x="3315" y="1684"/>
                  </a:lnTo>
                  <a:lnTo>
                    <a:pt x="3250" y="1659"/>
                  </a:lnTo>
                  <a:lnTo>
                    <a:pt x="3186" y="1633"/>
                  </a:lnTo>
                  <a:lnTo>
                    <a:pt x="3124" y="1604"/>
                  </a:lnTo>
                  <a:lnTo>
                    <a:pt x="3063" y="1574"/>
                  </a:lnTo>
                  <a:lnTo>
                    <a:pt x="3002" y="1541"/>
                  </a:lnTo>
                  <a:lnTo>
                    <a:pt x="2943" y="1508"/>
                  </a:lnTo>
                  <a:lnTo>
                    <a:pt x="2885" y="1473"/>
                  </a:lnTo>
                  <a:lnTo>
                    <a:pt x="2827" y="1435"/>
                  </a:lnTo>
                  <a:lnTo>
                    <a:pt x="2772" y="1396"/>
                  </a:lnTo>
                  <a:lnTo>
                    <a:pt x="2717" y="1355"/>
                  </a:lnTo>
                  <a:lnTo>
                    <a:pt x="2664" y="1313"/>
                  </a:lnTo>
                  <a:lnTo>
                    <a:pt x="2612" y="1270"/>
                  </a:lnTo>
                  <a:lnTo>
                    <a:pt x="2562" y="1224"/>
                  </a:lnTo>
                  <a:lnTo>
                    <a:pt x="2513" y="1177"/>
                  </a:lnTo>
                  <a:lnTo>
                    <a:pt x="2465" y="1130"/>
                  </a:lnTo>
                  <a:lnTo>
                    <a:pt x="2419" y="1080"/>
                  </a:lnTo>
                  <a:lnTo>
                    <a:pt x="2374" y="1029"/>
                  </a:lnTo>
                  <a:lnTo>
                    <a:pt x="2331" y="976"/>
                  </a:lnTo>
                  <a:lnTo>
                    <a:pt x="2289" y="922"/>
                  </a:lnTo>
                  <a:lnTo>
                    <a:pt x="2249" y="868"/>
                  </a:lnTo>
                  <a:lnTo>
                    <a:pt x="2210" y="811"/>
                  </a:lnTo>
                  <a:lnTo>
                    <a:pt x="2188" y="777"/>
                  </a:lnTo>
                  <a:lnTo>
                    <a:pt x="2167" y="740"/>
                  </a:lnTo>
                  <a:lnTo>
                    <a:pt x="2146" y="702"/>
                  </a:lnTo>
                  <a:lnTo>
                    <a:pt x="2126" y="662"/>
                  </a:lnTo>
                  <a:lnTo>
                    <a:pt x="2106" y="620"/>
                  </a:lnTo>
                  <a:lnTo>
                    <a:pt x="2088" y="578"/>
                  </a:lnTo>
                  <a:lnTo>
                    <a:pt x="2070" y="534"/>
                  </a:lnTo>
                  <a:lnTo>
                    <a:pt x="2053" y="487"/>
                  </a:lnTo>
                  <a:lnTo>
                    <a:pt x="435" y="487"/>
                  </a:lnTo>
                  <a:lnTo>
                    <a:pt x="358" y="441"/>
                  </a:lnTo>
                  <a:lnTo>
                    <a:pt x="289" y="396"/>
                  </a:lnTo>
                  <a:lnTo>
                    <a:pt x="229" y="350"/>
                  </a:lnTo>
                  <a:lnTo>
                    <a:pt x="176" y="308"/>
                  </a:lnTo>
                  <a:lnTo>
                    <a:pt x="132" y="268"/>
                  </a:lnTo>
                  <a:lnTo>
                    <a:pt x="96" y="233"/>
                  </a:lnTo>
                  <a:lnTo>
                    <a:pt x="70" y="203"/>
                  </a:lnTo>
                  <a:lnTo>
                    <a:pt x="51" y="181"/>
                  </a:lnTo>
                  <a:lnTo>
                    <a:pt x="25" y="145"/>
                  </a:lnTo>
                  <a:lnTo>
                    <a:pt x="14" y="126"/>
                  </a:lnTo>
                  <a:lnTo>
                    <a:pt x="5" y="106"/>
                  </a:lnTo>
                  <a:lnTo>
                    <a:pt x="2" y="96"/>
                  </a:lnTo>
                  <a:lnTo>
                    <a:pt x="0" y="85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5" y="54"/>
                  </a:lnTo>
                  <a:lnTo>
                    <a:pt x="12" y="44"/>
                  </a:lnTo>
                  <a:lnTo>
                    <a:pt x="20" y="33"/>
                  </a:lnTo>
                  <a:lnTo>
                    <a:pt x="31" y="23"/>
                  </a:lnTo>
                  <a:lnTo>
                    <a:pt x="50" y="7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6" y="3"/>
                  </a:lnTo>
                  <a:lnTo>
                    <a:pt x="81" y="9"/>
                  </a:lnTo>
                  <a:lnTo>
                    <a:pt x="87" y="14"/>
                  </a:lnTo>
                  <a:lnTo>
                    <a:pt x="97" y="20"/>
                  </a:lnTo>
                  <a:lnTo>
                    <a:pt x="113" y="21"/>
                  </a:lnTo>
                  <a:lnTo>
                    <a:pt x="2042" y="21"/>
                  </a:lnTo>
                  <a:lnTo>
                    <a:pt x="2040" y="75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2234880"/>
              <a:ext cx="5028480" cy="2076120"/>
            </a:xfrm>
            <a:custGeom>
              <a:avLst/>
              <a:gdLst/>
              <a:ahLst/>
              <a:rect l="l" t="t" r="r" b="b"/>
              <a:pathLst>
                <a:path w="10368" h="4367">
                  <a:moveTo>
                    <a:pt x="7289" y="1660"/>
                  </a:moveTo>
                  <a:lnTo>
                    <a:pt x="7264" y="1574"/>
                  </a:lnTo>
                  <a:lnTo>
                    <a:pt x="7234" y="1491"/>
                  </a:lnTo>
                  <a:lnTo>
                    <a:pt x="7202" y="1408"/>
                  </a:lnTo>
                  <a:lnTo>
                    <a:pt x="7166" y="1328"/>
                  </a:lnTo>
                  <a:lnTo>
                    <a:pt x="7127" y="1249"/>
                  </a:lnTo>
                  <a:lnTo>
                    <a:pt x="7086" y="1172"/>
                  </a:lnTo>
                  <a:lnTo>
                    <a:pt x="7041" y="1096"/>
                  </a:lnTo>
                  <a:lnTo>
                    <a:pt x="6993" y="1023"/>
                  </a:lnTo>
                  <a:lnTo>
                    <a:pt x="6943" y="952"/>
                  </a:lnTo>
                  <a:lnTo>
                    <a:pt x="6890" y="883"/>
                  </a:lnTo>
                  <a:lnTo>
                    <a:pt x="6834" y="816"/>
                  </a:lnTo>
                  <a:lnTo>
                    <a:pt x="6775" y="751"/>
                  </a:lnTo>
                  <a:lnTo>
                    <a:pt x="6714" y="689"/>
                  </a:lnTo>
                  <a:lnTo>
                    <a:pt x="6651" y="629"/>
                  </a:lnTo>
                  <a:lnTo>
                    <a:pt x="6586" y="572"/>
                  </a:lnTo>
                  <a:lnTo>
                    <a:pt x="6518" y="517"/>
                  </a:lnTo>
                  <a:lnTo>
                    <a:pt x="6448" y="466"/>
                  </a:lnTo>
                  <a:lnTo>
                    <a:pt x="6376" y="416"/>
                  </a:lnTo>
                  <a:lnTo>
                    <a:pt x="6301" y="369"/>
                  </a:lnTo>
                  <a:lnTo>
                    <a:pt x="6225" y="326"/>
                  </a:lnTo>
                  <a:lnTo>
                    <a:pt x="6147" y="286"/>
                  </a:lnTo>
                  <a:lnTo>
                    <a:pt x="6067" y="248"/>
                  </a:lnTo>
                  <a:lnTo>
                    <a:pt x="5985" y="214"/>
                  </a:lnTo>
                  <a:lnTo>
                    <a:pt x="5902" y="183"/>
                  </a:lnTo>
                  <a:lnTo>
                    <a:pt x="5816" y="156"/>
                  </a:lnTo>
                  <a:lnTo>
                    <a:pt x="5731" y="131"/>
                  </a:lnTo>
                  <a:lnTo>
                    <a:pt x="5642" y="110"/>
                  </a:lnTo>
                  <a:lnTo>
                    <a:pt x="5553" y="94"/>
                  </a:lnTo>
                  <a:lnTo>
                    <a:pt x="5463" y="80"/>
                  </a:lnTo>
                  <a:lnTo>
                    <a:pt x="5371" y="70"/>
                  </a:lnTo>
                  <a:lnTo>
                    <a:pt x="5279" y="65"/>
                  </a:lnTo>
                  <a:lnTo>
                    <a:pt x="5185" y="63"/>
                  </a:lnTo>
                  <a:lnTo>
                    <a:pt x="5091" y="65"/>
                  </a:lnTo>
                  <a:lnTo>
                    <a:pt x="4998" y="70"/>
                  </a:lnTo>
                  <a:lnTo>
                    <a:pt x="4907" y="80"/>
                  </a:lnTo>
                  <a:lnTo>
                    <a:pt x="4816" y="94"/>
                  </a:lnTo>
                  <a:lnTo>
                    <a:pt x="4727" y="110"/>
                  </a:lnTo>
                  <a:lnTo>
                    <a:pt x="4639" y="131"/>
                  </a:lnTo>
                  <a:lnTo>
                    <a:pt x="4553" y="156"/>
                  </a:lnTo>
                  <a:lnTo>
                    <a:pt x="4468" y="183"/>
                  </a:lnTo>
                  <a:lnTo>
                    <a:pt x="4385" y="214"/>
                  </a:lnTo>
                  <a:lnTo>
                    <a:pt x="4303" y="248"/>
                  </a:lnTo>
                  <a:lnTo>
                    <a:pt x="4223" y="286"/>
                  </a:lnTo>
                  <a:lnTo>
                    <a:pt x="4145" y="326"/>
                  </a:lnTo>
                  <a:lnTo>
                    <a:pt x="4069" y="369"/>
                  </a:lnTo>
                  <a:lnTo>
                    <a:pt x="3994" y="416"/>
                  </a:lnTo>
                  <a:lnTo>
                    <a:pt x="3922" y="466"/>
                  </a:lnTo>
                  <a:lnTo>
                    <a:pt x="3852" y="517"/>
                  </a:lnTo>
                  <a:lnTo>
                    <a:pt x="3785" y="572"/>
                  </a:lnTo>
                  <a:lnTo>
                    <a:pt x="3719" y="629"/>
                  </a:lnTo>
                  <a:lnTo>
                    <a:pt x="3655" y="689"/>
                  </a:lnTo>
                  <a:lnTo>
                    <a:pt x="3595" y="751"/>
                  </a:lnTo>
                  <a:lnTo>
                    <a:pt x="3536" y="816"/>
                  </a:lnTo>
                  <a:lnTo>
                    <a:pt x="3480" y="883"/>
                  </a:lnTo>
                  <a:lnTo>
                    <a:pt x="3427" y="952"/>
                  </a:lnTo>
                  <a:lnTo>
                    <a:pt x="3377" y="1023"/>
                  </a:lnTo>
                  <a:lnTo>
                    <a:pt x="3329" y="1096"/>
                  </a:lnTo>
                  <a:lnTo>
                    <a:pt x="3284" y="1172"/>
                  </a:lnTo>
                  <a:lnTo>
                    <a:pt x="3243" y="1249"/>
                  </a:lnTo>
                  <a:lnTo>
                    <a:pt x="3204" y="1328"/>
                  </a:lnTo>
                  <a:lnTo>
                    <a:pt x="3168" y="1408"/>
                  </a:lnTo>
                  <a:lnTo>
                    <a:pt x="3136" y="1491"/>
                  </a:lnTo>
                  <a:lnTo>
                    <a:pt x="3107" y="1574"/>
                  </a:lnTo>
                  <a:lnTo>
                    <a:pt x="3082" y="1660"/>
                  </a:lnTo>
                  <a:lnTo>
                    <a:pt x="3535" y="1660"/>
                  </a:lnTo>
                  <a:lnTo>
                    <a:pt x="3559" y="1597"/>
                  </a:lnTo>
                  <a:lnTo>
                    <a:pt x="3586" y="1536"/>
                  </a:lnTo>
                  <a:lnTo>
                    <a:pt x="3614" y="1475"/>
                  </a:lnTo>
                  <a:lnTo>
                    <a:pt x="3645" y="1416"/>
                  </a:lnTo>
                  <a:lnTo>
                    <a:pt x="3678" y="1358"/>
                  </a:lnTo>
                  <a:lnTo>
                    <a:pt x="3712" y="1301"/>
                  </a:lnTo>
                  <a:lnTo>
                    <a:pt x="3750" y="1247"/>
                  </a:lnTo>
                  <a:lnTo>
                    <a:pt x="3789" y="1194"/>
                  </a:lnTo>
                  <a:lnTo>
                    <a:pt x="3830" y="1142"/>
                  </a:lnTo>
                  <a:lnTo>
                    <a:pt x="3872" y="1090"/>
                  </a:lnTo>
                  <a:lnTo>
                    <a:pt x="3917" y="1043"/>
                  </a:lnTo>
                  <a:lnTo>
                    <a:pt x="3963" y="995"/>
                  </a:lnTo>
                  <a:lnTo>
                    <a:pt x="4012" y="951"/>
                  </a:lnTo>
                  <a:lnTo>
                    <a:pt x="4062" y="907"/>
                  </a:lnTo>
                  <a:lnTo>
                    <a:pt x="4113" y="865"/>
                  </a:lnTo>
                  <a:lnTo>
                    <a:pt x="4167" y="826"/>
                  </a:lnTo>
                  <a:lnTo>
                    <a:pt x="4221" y="789"/>
                  </a:lnTo>
                  <a:lnTo>
                    <a:pt x="4276" y="753"/>
                  </a:lnTo>
                  <a:lnTo>
                    <a:pt x="4334" y="720"/>
                  </a:lnTo>
                  <a:lnTo>
                    <a:pt x="4393" y="689"/>
                  </a:lnTo>
                  <a:lnTo>
                    <a:pt x="4453" y="659"/>
                  </a:lnTo>
                  <a:lnTo>
                    <a:pt x="4515" y="632"/>
                  </a:lnTo>
                  <a:lnTo>
                    <a:pt x="4577" y="608"/>
                  </a:lnTo>
                  <a:lnTo>
                    <a:pt x="4641" y="585"/>
                  </a:lnTo>
                  <a:lnTo>
                    <a:pt x="4706" y="565"/>
                  </a:lnTo>
                  <a:lnTo>
                    <a:pt x="4772" y="549"/>
                  </a:lnTo>
                  <a:lnTo>
                    <a:pt x="4838" y="533"/>
                  </a:lnTo>
                  <a:lnTo>
                    <a:pt x="4906" y="521"/>
                  </a:lnTo>
                  <a:lnTo>
                    <a:pt x="4975" y="512"/>
                  </a:lnTo>
                  <a:lnTo>
                    <a:pt x="5044" y="504"/>
                  </a:lnTo>
                  <a:lnTo>
                    <a:pt x="5114" y="501"/>
                  </a:lnTo>
                  <a:lnTo>
                    <a:pt x="5185" y="499"/>
                  </a:lnTo>
                  <a:lnTo>
                    <a:pt x="5256" y="501"/>
                  </a:lnTo>
                  <a:lnTo>
                    <a:pt x="5327" y="504"/>
                  </a:lnTo>
                  <a:lnTo>
                    <a:pt x="5395" y="512"/>
                  </a:lnTo>
                  <a:lnTo>
                    <a:pt x="5464" y="521"/>
                  </a:lnTo>
                  <a:lnTo>
                    <a:pt x="5532" y="533"/>
                  </a:lnTo>
                  <a:lnTo>
                    <a:pt x="5599" y="549"/>
                  </a:lnTo>
                  <a:lnTo>
                    <a:pt x="5665" y="565"/>
                  </a:lnTo>
                  <a:lnTo>
                    <a:pt x="5730" y="585"/>
                  </a:lnTo>
                  <a:lnTo>
                    <a:pt x="5793" y="608"/>
                  </a:lnTo>
                  <a:lnTo>
                    <a:pt x="5856" y="632"/>
                  </a:lnTo>
                  <a:lnTo>
                    <a:pt x="5917" y="659"/>
                  </a:lnTo>
                  <a:lnTo>
                    <a:pt x="5977" y="689"/>
                  </a:lnTo>
                  <a:lnTo>
                    <a:pt x="6036" y="720"/>
                  </a:lnTo>
                  <a:lnTo>
                    <a:pt x="6094" y="753"/>
                  </a:lnTo>
                  <a:lnTo>
                    <a:pt x="6149" y="789"/>
                  </a:lnTo>
                  <a:lnTo>
                    <a:pt x="6205" y="826"/>
                  </a:lnTo>
                  <a:lnTo>
                    <a:pt x="6257" y="865"/>
                  </a:lnTo>
                  <a:lnTo>
                    <a:pt x="6309" y="907"/>
                  </a:lnTo>
                  <a:lnTo>
                    <a:pt x="6359" y="951"/>
                  </a:lnTo>
                  <a:lnTo>
                    <a:pt x="6407" y="995"/>
                  </a:lnTo>
                  <a:lnTo>
                    <a:pt x="6453" y="1043"/>
                  </a:lnTo>
                  <a:lnTo>
                    <a:pt x="6498" y="1092"/>
                  </a:lnTo>
                  <a:lnTo>
                    <a:pt x="6541" y="1142"/>
                  </a:lnTo>
                  <a:lnTo>
                    <a:pt x="6582" y="1194"/>
                  </a:lnTo>
                  <a:lnTo>
                    <a:pt x="6621" y="1247"/>
                  </a:lnTo>
                  <a:lnTo>
                    <a:pt x="6658" y="1301"/>
                  </a:lnTo>
                  <a:lnTo>
                    <a:pt x="6692" y="1358"/>
                  </a:lnTo>
                  <a:lnTo>
                    <a:pt x="6725" y="1416"/>
                  </a:lnTo>
                  <a:lnTo>
                    <a:pt x="6757" y="1475"/>
                  </a:lnTo>
                  <a:lnTo>
                    <a:pt x="6784" y="1536"/>
                  </a:lnTo>
                  <a:lnTo>
                    <a:pt x="6811" y="1597"/>
                  </a:lnTo>
                  <a:lnTo>
                    <a:pt x="6834" y="1660"/>
                  </a:lnTo>
                  <a:lnTo>
                    <a:pt x="7289" y="1660"/>
                  </a:lnTo>
                  <a:close/>
                  <a:moveTo>
                    <a:pt x="3436" y="2344"/>
                  </a:moveTo>
                  <a:lnTo>
                    <a:pt x="3414" y="2371"/>
                  </a:lnTo>
                  <a:lnTo>
                    <a:pt x="3394" y="2399"/>
                  </a:lnTo>
                  <a:lnTo>
                    <a:pt x="3376" y="2428"/>
                  </a:lnTo>
                  <a:lnTo>
                    <a:pt x="3359" y="2458"/>
                  </a:lnTo>
                  <a:lnTo>
                    <a:pt x="3344" y="2488"/>
                  </a:lnTo>
                  <a:lnTo>
                    <a:pt x="3331" y="2518"/>
                  </a:lnTo>
                  <a:lnTo>
                    <a:pt x="3318" y="2549"/>
                  </a:lnTo>
                  <a:lnTo>
                    <a:pt x="3308" y="2581"/>
                  </a:lnTo>
                  <a:lnTo>
                    <a:pt x="3299" y="2613"/>
                  </a:lnTo>
                  <a:lnTo>
                    <a:pt x="3293" y="2646"/>
                  </a:lnTo>
                  <a:lnTo>
                    <a:pt x="3286" y="2679"/>
                  </a:lnTo>
                  <a:lnTo>
                    <a:pt x="3282" y="2711"/>
                  </a:lnTo>
                  <a:lnTo>
                    <a:pt x="3279" y="2746"/>
                  </a:lnTo>
                  <a:lnTo>
                    <a:pt x="3277" y="2779"/>
                  </a:lnTo>
                  <a:lnTo>
                    <a:pt x="3278" y="2847"/>
                  </a:lnTo>
                  <a:lnTo>
                    <a:pt x="3286" y="2915"/>
                  </a:lnTo>
                  <a:lnTo>
                    <a:pt x="3297" y="2984"/>
                  </a:lnTo>
                  <a:lnTo>
                    <a:pt x="3315" y="3054"/>
                  </a:lnTo>
                  <a:lnTo>
                    <a:pt x="3337" y="3123"/>
                  </a:lnTo>
                  <a:lnTo>
                    <a:pt x="3364" y="3192"/>
                  </a:lnTo>
                  <a:lnTo>
                    <a:pt x="3396" y="3259"/>
                  </a:lnTo>
                  <a:lnTo>
                    <a:pt x="3432" y="3326"/>
                  </a:lnTo>
                  <a:lnTo>
                    <a:pt x="3473" y="3390"/>
                  </a:lnTo>
                  <a:lnTo>
                    <a:pt x="3508" y="3443"/>
                  </a:lnTo>
                  <a:lnTo>
                    <a:pt x="3545" y="3493"/>
                  </a:lnTo>
                  <a:lnTo>
                    <a:pt x="3583" y="3542"/>
                  </a:lnTo>
                  <a:lnTo>
                    <a:pt x="3623" y="3590"/>
                  </a:lnTo>
                  <a:lnTo>
                    <a:pt x="3664" y="3637"/>
                  </a:lnTo>
                  <a:lnTo>
                    <a:pt x="3706" y="3682"/>
                  </a:lnTo>
                  <a:lnTo>
                    <a:pt x="3749" y="3727"/>
                  </a:lnTo>
                  <a:lnTo>
                    <a:pt x="3795" y="3769"/>
                  </a:lnTo>
                  <a:lnTo>
                    <a:pt x="3841" y="3811"/>
                  </a:lnTo>
                  <a:lnTo>
                    <a:pt x="3889" y="3851"/>
                  </a:lnTo>
                  <a:lnTo>
                    <a:pt x="3937" y="3890"/>
                  </a:lnTo>
                  <a:lnTo>
                    <a:pt x="3987" y="3927"/>
                  </a:lnTo>
                  <a:lnTo>
                    <a:pt x="4038" y="3962"/>
                  </a:lnTo>
                  <a:lnTo>
                    <a:pt x="4091" y="3996"/>
                  </a:lnTo>
                  <a:lnTo>
                    <a:pt x="4144" y="4030"/>
                  </a:lnTo>
                  <a:lnTo>
                    <a:pt x="4198" y="4061"/>
                  </a:lnTo>
                  <a:lnTo>
                    <a:pt x="4253" y="4090"/>
                  </a:lnTo>
                  <a:lnTo>
                    <a:pt x="4310" y="4117"/>
                  </a:lnTo>
                  <a:lnTo>
                    <a:pt x="4367" y="4144"/>
                  </a:lnTo>
                  <a:lnTo>
                    <a:pt x="4425" y="4167"/>
                  </a:lnTo>
                  <a:lnTo>
                    <a:pt x="4484" y="4191"/>
                  </a:lnTo>
                  <a:lnTo>
                    <a:pt x="4545" y="4211"/>
                  </a:lnTo>
                  <a:lnTo>
                    <a:pt x="4605" y="4231"/>
                  </a:lnTo>
                  <a:lnTo>
                    <a:pt x="4667" y="4247"/>
                  </a:lnTo>
                  <a:lnTo>
                    <a:pt x="4729" y="4263"/>
                  </a:lnTo>
                  <a:lnTo>
                    <a:pt x="4793" y="4276"/>
                  </a:lnTo>
                  <a:lnTo>
                    <a:pt x="4856" y="4287"/>
                  </a:lnTo>
                  <a:lnTo>
                    <a:pt x="4920" y="4296"/>
                  </a:lnTo>
                  <a:lnTo>
                    <a:pt x="4986" y="4304"/>
                  </a:lnTo>
                  <a:lnTo>
                    <a:pt x="5051" y="4310"/>
                  </a:lnTo>
                  <a:lnTo>
                    <a:pt x="5118" y="4312"/>
                  </a:lnTo>
                  <a:lnTo>
                    <a:pt x="5185" y="4313"/>
                  </a:lnTo>
                  <a:lnTo>
                    <a:pt x="5252" y="4312"/>
                  </a:lnTo>
                  <a:lnTo>
                    <a:pt x="5318" y="4310"/>
                  </a:lnTo>
                  <a:lnTo>
                    <a:pt x="5383" y="4304"/>
                  </a:lnTo>
                  <a:lnTo>
                    <a:pt x="5449" y="4296"/>
                  </a:lnTo>
                  <a:lnTo>
                    <a:pt x="5513" y="4287"/>
                  </a:lnTo>
                  <a:lnTo>
                    <a:pt x="5578" y="4276"/>
                  </a:lnTo>
                  <a:lnTo>
                    <a:pt x="5641" y="4263"/>
                  </a:lnTo>
                  <a:lnTo>
                    <a:pt x="5703" y="4247"/>
                  </a:lnTo>
                  <a:lnTo>
                    <a:pt x="5764" y="4231"/>
                  </a:lnTo>
                  <a:lnTo>
                    <a:pt x="5825" y="4211"/>
                  </a:lnTo>
                  <a:lnTo>
                    <a:pt x="5885" y="4191"/>
                  </a:lnTo>
                  <a:lnTo>
                    <a:pt x="5944" y="4167"/>
                  </a:lnTo>
                  <a:lnTo>
                    <a:pt x="6003" y="4144"/>
                  </a:lnTo>
                  <a:lnTo>
                    <a:pt x="6059" y="4117"/>
                  </a:lnTo>
                  <a:lnTo>
                    <a:pt x="6116" y="4090"/>
                  </a:lnTo>
                  <a:lnTo>
                    <a:pt x="6172" y="4061"/>
                  </a:lnTo>
                  <a:lnTo>
                    <a:pt x="6226" y="4030"/>
                  </a:lnTo>
                  <a:lnTo>
                    <a:pt x="6279" y="3996"/>
                  </a:lnTo>
                  <a:lnTo>
                    <a:pt x="6331" y="3962"/>
                  </a:lnTo>
                  <a:lnTo>
                    <a:pt x="6382" y="3927"/>
                  </a:lnTo>
                  <a:lnTo>
                    <a:pt x="6432" y="3890"/>
                  </a:lnTo>
                  <a:lnTo>
                    <a:pt x="6481" y="3851"/>
                  </a:lnTo>
                  <a:lnTo>
                    <a:pt x="6529" y="3811"/>
                  </a:lnTo>
                  <a:lnTo>
                    <a:pt x="6576" y="3769"/>
                  </a:lnTo>
                  <a:lnTo>
                    <a:pt x="6620" y="3727"/>
                  </a:lnTo>
                  <a:lnTo>
                    <a:pt x="6664" y="3682"/>
                  </a:lnTo>
                  <a:lnTo>
                    <a:pt x="6707" y="3637"/>
                  </a:lnTo>
                  <a:lnTo>
                    <a:pt x="6748" y="3590"/>
                  </a:lnTo>
                  <a:lnTo>
                    <a:pt x="6788" y="3542"/>
                  </a:lnTo>
                  <a:lnTo>
                    <a:pt x="6825" y="3493"/>
                  </a:lnTo>
                  <a:lnTo>
                    <a:pt x="6862" y="3443"/>
                  </a:lnTo>
                  <a:lnTo>
                    <a:pt x="6898" y="3390"/>
                  </a:lnTo>
                  <a:lnTo>
                    <a:pt x="6938" y="3326"/>
                  </a:lnTo>
                  <a:lnTo>
                    <a:pt x="6974" y="3259"/>
                  </a:lnTo>
                  <a:lnTo>
                    <a:pt x="7006" y="3192"/>
                  </a:lnTo>
                  <a:lnTo>
                    <a:pt x="7033" y="3123"/>
                  </a:lnTo>
                  <a:lnTo>
                    <a:pt x="7055" y="3054"/>
                  </a:lnTo>
                  <a:lnTo>
                    <a:pt x="7072" y="2985"/>
                  </a:lnTo>
                  <a:lnTo>
                    <a:pt x="7084" y="2915"/>
                  </a:lnTo>
                  <a:lnTo>
                    <a:pt x="7091" y="2847"/>
                  </a:lnTo>
                  <a:lnTo>
                    <a:pt x="7092" y="2813"/>
                  </a:lnTo>
                  <a:lnTo>
                    <a:pt x="7092" y="2779"/>
                  </a:lnTo>
                  <a:lnTo>
                    <a:pt x="7087" y="2712"/>
                  </a:lnTo>
                  <a:lnTo>
                    <a:pt x="7083" y="2679"/>
                  </a:lnTo>
                  <a:lnTo>
                    <a:pt x="7077" y="2646"/>
                  </a:lnTo>
                  <a:lnTo>
                    <a:pt x="7071" y="2613"/>
                  </a:lnTo>
                  <a:lnTo>
                    <a:pt x="7062" y="2581"/>
                  </a:lnTo>
                  <a:lnTo>
                    <a:pt x="7051" y="2550"/>
                  </a:lnTo>
                  <a:lnTo>
                    <a:pt x="7040" y="2519"/>
                  </a:lnTo>
                  <a:lnTo>
                    <a:pt x="7026" y="2488"/>
                  </a:lnTo>
                  <a:lnTo>
                    <a:pt x="7011" y="2458"/>
                  </a:lnTo>
                  <a:lnTo>
                    <a:pt x="6994" y="2429"/>
                  </a:lnTo>
                  <a:lnTo>
                    <a:pt x="6976" y="2400"/>
                  </a:lnTo>
                  <a:lnTo>
                    <a:pt x="6956" y="2371"/>
                  </a:lnTo>
                  <a:lnTo>
                    <a:pt x="6934" y="2345"/>
                  </a:lnTo>
                  <a:lnTo>
                    <a:pt x="6928" y="2430"/>
                  </a:lnTo>
                  <a:lnTo>
                    <a:pt x="6918" y="2516"/>
                  </a:lnTo>
                  <a:lnTo>
                    <a:pt x="6903" y="2599"/>
                  </a:lnTo>
                  <a:lnTo>
                    <a:pt x="6884" y="2681"/>
                  </a:lnTo>
                  <a:lnTo>
                    <a:pt x="6862" y="2762"/>
                  </a:lnTo>
                  <a:lnTo>
                    <a:pt x="6835" y="2841"/>
                  </a:lnTo>
                  <a:lnTo>
                    <a:pt x="6805" y="2919"/>
                  </a:lnTo>
                  <a:lnTo>
                    <a:pt x="6773" y="2994"/>
                  </a:lnTo>
                  <a:lnTo>
                    <a:pt x="6737" y="3067"/>
                  </a:lnTo>
                  <a:lnTo>
                    <a:pt x="6697" y="3140"/>
                  </a:lnTo>
                  <a:lnTo>
                    <a:pt x="6653" y="3209"/>
                  </a:lnTo>
                  <a:lnTo>
                    <a:pt x="6607" y="3276"/>
                  </a:lnTo>
                  <a:lnTo>
                    <a:pt x="6558" y="3342"/>
                  </a:lnTo>
                  <a:lnTo>
                    <a:pt x="6506" y="3404"/>
                  </a:lnTo>
                  <a:lnTo>
                    <a:pt x="6451" y="3465"/>
                  </a:lnTo>
                  <a:lnTo>
                    <a:pt x="6394" y="3521"/>
                  </a:lnTo>
                  <a:lnTo>
                    <a:pt x="6334" y="3577"/>
                  </a:lnTo>
                  <a:lnTo>
                    <a:pt x="6270" y="3629"/>
                  </a:lnTo>
                  <a:lnTo>
                    <a:pt x="6205" y="3678"/>
                  </a:lnTo>
                  <a:lnTo>
                    <a:pt x="6138" y="3723"/>
                  </a:lnTo>
                  <a:lnTo>
                    <a:pt x="6068" y="3767"/>
                  </a:lnTo>
                  <a:lnTo>
                    <a:pt x="5996" y="3807"/>
                  </a:lnTo>
                  <a:lnTo>
                    <a:pt x="5923" y="3842"/>
                  </a:lnTo>
                  <a:lnTo>
                    <a:pt x="5847" y="3875"/>
                  </a:lnTo>
                  <a:lnTo>
                    <a:pt x="5770" y="3905"/>
                  </a:lnTo>
                  <a:lnTo>
                    <a:pt x="5691" y="3931"/>
                  </a:lnTo>
                  <a:lnTo>
                    <a:pt x="5610" y="3953"/>
                  </a:lnTo>
                  <a:lnTo>
                    <a:pt x="5528" y="3972"/>
                  </a:lnTo>
                  <a:lnTo>
                    <a:pt x="5443" y="3986"/>
                  </a:lnTo>
                  <a:lnTo>
                    <a:pt x="5359" y="3996"/>
                  </a:lnTo>
                  <a:lnTo>
                    <a:pt x="5272" y="4003"/>
                  </a:lnTo>
                  <a:lnTo>
                    <a:pt x="5185" y="4005"/>
                  </a:lnTo>
                  <a:lnTo>
                    <a:pt x="5098" y="4003"/>
                  </a:lnTo>
                  <a:lnTo>
                    <a:pt x="5011" y="3996"/>
                  </a:lnTo>
                  <a:lnTo>
                    <a:pt x="4927" y="3986"/>
                  </a:lnTo>
                  <a:lnTo>
                    <a:pt x="4843" y="3972"/>
                  </a:lnTo>
                  <a:lnTo>
                    <a:pt x="4760" y="3953"/>
                  </a:lnTo>
                  <a:lnTo>
                    <a:pt x="4681" y="3931"/>
                  </a:lnTo>
                  <a:lnTo>
                    <a:pt x="4601" y="3905"/>
                  </a:lnTo>
                  <a:lnTo>
                    <a:pt x="4524" y="3875"/>
                  </a:lnTo>
                  <a:lnTo>
                    <a:pt x="4447" y="3842"/>
                  </a:lnTo>
                  <a:lnTo>
                    <a:pt x="4374" y="3807"/>
                  </a:lnTo>
                  <a:lnTo>
                    <a:pt x="4302" y="3767"/>
                  </a:lnTo>
                  <a:lnTo>
                    <a:pt x="4233" y="3723"/>
                  </a:lnTo>
                  <a:lnTo>
                    <a:pt x="4165" y="3678"/>
                  </a:lnTo>
                  <a:lnTo>
                    <a:pt x="4100" y="3628"/>
                  </a:lnTo>
                  <a:lnTo>
                    <a:pt x="4038" y="3577"/>
                  </a:lnTo>
                  <a:lnTo>
                    <a:pt x="3977" y="3521"/>
                  </a:lnTo>
                  <a:lnTo>
                    <a:pt x="3919" y="3464"/>
                  </a:lnTo>
                  <a:lnTo>
                    <a:pt x="3865" y="3404"/>
                  </a:lnTo>
                  <a:lnTo>
                    <a:pt x="3812" y="3342"/>
                  </a:lnTo>
                  <a:lnTo>
                    <a:pt x="3764" y="3276"/>
                  </a:lnTo>
                  <a:lnTo>
                    <a:pt x="3717" y="3208"/>
                  </a:lnTo>
                  <a:lnTo>
                    <a:pt x="3674" y="3140"/>
                  </a:lnTo>
                  <a:lnTo>
                    <a:pt x="3634" y="3067"/>
                  </a:lnTo>
                  <a:lnTo>
                    <a:pt x="3597" y="2994"/>
                  </a:lnTo>
                  <a:lnTo>
                    <a:pt x="3564" y="2919"/>
                  </a:lnTo>
                  <a:lnTo>
                    <a:pt x="3535" y="2841"/>
                  </a:lnTo>
                  <a:lnTo>
                    <a:pt x="3508" y="2762"/>
                  </a:lnTo>
                  <a:lnTo>
                    <a:pt x="3486" y="2681"/>
                  </a:lnTo>
                  <a:lnTo>
                    <a:pt x="3467" y="2599"/>
                  </a:lnTo>
                  <a:lnTo>
                    <a:pt x="3453" y="2515"/>
                  </a:lnTo>
                  <a:lnTo>
                    <a:pt x="3442" y="2430"/>
                  </a:lnTo>
                  <a:lnTo>
                    <a:pt x="3436" y="2344"/>
                  </a:lnTo>
                  <a:close/>
                  <a:moveTo>
                    <a:pt x="3537" y="2243"/>
                  </a:moveTo>
                  <a:lnTo>
                    <a:pt x="3495" y="2280"/>
                  </a:lnTo>
                  <a:lnTo>
                    <a:pt x="3498" y="2366"/>
                  </a:lnTo>
                  <a:lnTo>
                    <a:pt x="3506" y="2451"/>
                  </a:lnTo>
                  <a:lnTo>
                    <a:pt x="3518" y="2535"/>
                  </a:lnTo>
                  <a:lnTo>
                    <a:pt x="3534" y="2617"/>
                  </a:lnTo>
                  <a:lnTo>
                    <a:pt x="3554" y="2697"/>
                  </a:lnTo>
                  <a:lnTo>
                    <a:pt x="3577" y="2777"/>
                  </a:lnTo>
                  <a:lnTo>
                    <a:pt x="3605" y="2853"/>
                  </a:lnTo>
                  <a:lnTo>
                    <a:pt x="3636" y="2929"/>
                  </a:lnTo>
                  <a:lnTo>
                    <a:pt x="3670" y="3003"/>
                  </a:lnTo>
                  <a:lnTo>
                    <a:pt x="3708" y="3074"/>
                  </a:lnTo>
                  <a:lnTo>
                    <a:pt x="3749" y="3144"/>
                  </a:lnTo>
                  <a:lnTo>
                    <a:pt x="3793" y="3212"/>
                  </a:lnTo>
                  <a:lnTo>
                    <a:pt x="3840" y="3277"/>
                  </a:lnTo>
                  <a:lnTo>
                    <a:pt x="3890" y="3339"/>
                  </a:lnTo>
                  <a:lnTo>
                    <a:pt x="3943" y="3399"/>
                  </a:lnTo>
                  <a:lnTo>
                    <a:pt x="4000" y="3457"/>
                  </a:lnTo>
                  <a:lnTo>
                    <a:pt x="4058" y="3513"/>
                  </a:lnTo>
                  <a:lnTo>
                    <a:pt x="4119" y="3565"/>
                  </a:lnTo>
                  <a:lnTo>
                    <a:pt x="4183" y="3614"/>
                  </a:lnTo>
                  <a:lnTo>
                    <a:pt x="4249" y="3660"/>
                  </a:lnTo>
                  <a:lnTo>
                    <a:pt x="4316" y="3703"/>
                  </a:lnTo>
                  <a:lnTo>
                    <a:pt x="4387" y="3743"/>
                  </a:lnTo>
                  <a:lnTo>
                    <a:pt x="4460" y="3780"/>
                  </a:lnTo>
                  <a:lnTo>
                    <a:pt x="4534" y="3813"/>
                  </a:lnTo>
                  <a:lnTo>
                    <a:pt x="4609" y="3843"/>
                  </a:lnTo>
                  <a:lnTo>
                    <a:pt x="4687" y="3869"/>
                  </a:lnTo>
                  <a:lnTo>
                    <a:pt x="4767" y="3891"/>
                  </a:lnTo>
                  <a:lnTo>
                    <a:pt x="4848" y="3910"/>
                  </a:lnTo>
                  <a:lnTo>
                    <a:pt x="4930" y="3924"/>
                  </a:lnTo>
                  <a:lnTo>
                    <a:pt x="5014" y="3934"/>
                  </a:lnTo>
                  <a:lnTo>
                    <a:pt x="5099" y="3941"/>
                  </a:lnTo>
                  <a:lnTo>
                    <a:pt x="5185" y="3943"/>
                  </a:lnTo>
                  <a:lnTo>
                    <a:pt x="5271" y="3941"/>
                  </a:lnTo>
                  <a:lnTo>
                    <a:pt x="5357" y="3934"/>
                  </a:lnTo>
                  <a:lnTo>
                    <a:pt x="5440" y="3924"/>
                  </a:lnTo>
                  <a:lnTo>
                    <a:pt x="5522" y="3910"/>
                  </a:lnTo>
                  <a:lnTo>
                    <a:pt x="5603" y="3891"/>
                  </a:lnTo>
                  <a:lnTo>
                    <a:pt x="5683" y="3869"/>
                  </a:lnTo>
                  <a:lnTo>
                    <a:pt x="5761" y="3843"/>
                  </a:lnTo>
                  <a:lnTo>
                    <a:pt x="5837" y="3813"/>
                  </a:lnTo>
                  <a:lnTo>
                    <a:pt x="5912" y="3780"/>
                  </a:lnTo>
                  <a:lnTo>
                    <a:pt x="5984" y="3743"/>
                  </a:lnTo>
                  <a:lnTo>
                    <a:pt x="6054" y="3703"/>
                  </a:lnTo>
                  <a:lnTo>
                    <a:pt x="6123" y="3660"/>
                  </a:lnTo>
                  <a:lnTo>
                    <a:pt x="6188" y="3614"/>
                  </a:lnTo>
                  <a:lnTo>
                    <a:pt x="6251" y="3565"/>
                  </a:lnTo>
                  <a:lnTo>
                    <a:pt x="6313" y="3513"/>
                  </a:lnTo>
                  <a:lnTo>
                    <a:pt x="6371" y="3457"/>
                  </a:lnTo>
                  <a:lnTo>
                    <a:pt x="6427" y="3399"/>
                  </a:lnTo>
                  <a:lnTo>
                    <a:pt x="6480" y="3339"/>
                  </a:lnTo>
                  <a:lnTo>
                    <a:pt x="6530" y="3277"/>
                  </a:lnTo>
                  <a:lnTo>
                    <a:pt x="6578" y="3212"/>
                  </a:lnTo>
                  <a:lnTo>
                    <a:pt x="6621" y="3144"/>
                  </a:lnTo>
                  <a:lnTo>
                    <a:pt x="6662" y="3074"/>
                  </a:lnTo>
                  <a:lnTo>
                    <a:pt x="6700" y="3003"/>
                  </a:lnTo>
                  <a:lnTo>
                    <a:pt x="6734" y="2929"/>
                  </a:lnTo>
                  <a:lnTo>
                    <a:pt x="6765" y="2853"/>
                  </a:lnTo>
                  <a:lnTo>
                    <a:pt x="6792" y="2777"/>
                  </a:lnTo>
                  <a:lnTo>
                    <a:pt x="6817" y="2697"/>
                  </a:lnTo>
                  <a:lnTo>
                    <a:pt x="6835" y="2617"/>
                  </a:lnTo>
                  <a:lnTo>
                    <a:pt x="6852" y="2535"/>
                  </a:lnTo>
                  <a:lnTo>
                    <a:pt x="6863" y="2451"/>
                  </a:lnTo>
                  <a:lnTo>
                    <a:pt x="6871" y="2366"/>
                  </a:lnTo>
                  <a:lnTo>
                    <a:pt x="6875" y="2280"/>
                  </a:lnTo>
                  <a:lnTo>
                    <a:pt x="6832" y="2243"/>
                  </a:lnTo>
                  <a:lnTo>
                    <a:pt x="5594" y="2243"/>
                  </a:lnTo>
                  <a:lnTo>
                    <a:pt x="5593" y="2212"/>
                  </a:lnTo>
                  <a:lnTo>
                    <a:pt x="5589" y="2182"/>
                  </a:lnTo>
                  <a:lnTo>
                    <a:pt x="6747" y="2182"/>
                  </a:lnTo>
                  <a:lnTo>
                    <a:pt x="6698" y="2153"/>
                  </a:lnTo>
                  <a:lnTo>
                    <a:pt x="6646" y="2126"/>
                  </a:lnTo>
                  <a:lnTo>
                    <a:pt x="6590" y="2102"/>
                  </a:lnTo>
                  <a:lnTo>
                    <a:pt x="6531" y="2080"/>
                  </a:lnTo>
                  <a:lnTo>
                    <a:pt x="6548" y="2051"/>
                  </a:lnTo>
                  <a:lnTo>
                    <a:pt x="6621" y="1931"/>
                  </a:lnTo>
                  <a:lnTo>
                    <a:pt x="6688" y="1826"/>
                  </a:lnTo>
                  <a:lnTo>
                    <a:pt x="6779" y="1685"/>
                  </a:lnTo>
                  <a:lnTo>
                    <a:pt x="6755" y="1626"/>
                  </a:lnTo>
                  <a:lnTo>
                    <a:pt x="6730" y="1566"/>
                  </a:lnTo>
                  <a:lnTo>
                    <a:pt x="6703" y="1507"/>
                  </a:lnTo>
                  <a:lnTo>
                    <a:pt x="6673" y="1449"/>
                  </a:lnTo>
                  <a:lnTo>
                    <a:pt x="6642" y="1394"/>
                  </a:lnTo>
                  <a:lnTo>
                    <a:pt x="6608" y="1339"/>
                  </a:lnTo>
                  <a:lnTo>
                    <a:pt x="6572" y="1286"/>
                  </a:lnTo>
                  <a:lnTo>
                    <a:pt x="6535" y="1234"/>
                  </a:lnTo>
                  <a:lnTo>
                    <a:pt x="6496" y="1184"/>
                  </a:lnTo>
                  <a:lnTo>
                    <a:pt x="6455" y="1135"/>
                  </a:lnTo>
                  <a:lnTo>
                    <a:pt x="6411" y="1087"/>
                  </a:lnTo>
                  <a:lnTo>
                    <a:pt x="6367" y="1042"/>
                  </a:lnTo>
                  <a:lnTo>
                    <a:pt x="6320" y="998"/>
                  </a:lnTo>
                  <a:lnTo>
                    <a:pt x="6271" y="956"/>
                  </a:lnTo>
                  <a:lnTo>
                    <a:pt x="6221" y="916"/>
                  </a:lnTo>
                  <a:lnTo>
                    <a:pt x="6170" y="877"/>
                  </a:lnTo>
                  <a:lnTo>
                    <a:pt x="6118" y="842"/>
                  </a:lnTo>
                  <a:lnTo>
                    <a:pt x="6064" y="807"/>
                  </a:lnTo>
                  <a:lnTo>
                    <a:pt x="6008" y="774"/>
                  </a:lnTo>
                  <a:lnTo>
                    <a:pt x="5952" y="744"/>
                  </a:lnTo>
                  <a:lnTo>
                    <a:pt x="5893" y="716"/>
                  </a:lnTo>
                  <a:lnTo>
                    <a:pt x="5834" y="690"/>
                  </a:lnTo>
                  <a:lnTo>
                    <a:pt x="5773" y="666"/>
                  </a:lnTo>
                  <a:lnTo>
                    <a:pt x="5712" y="644"/>
                  </a:lnTo>
                  <a:lnTo>
                    <a:pt x="5650" y="625"/>
                  </a:lnTo>
                  <a:lnTo>
                    <a:pt x="5585" y="609"/>
                  </a:lnTo>
                  <a:lnTo>
                    <a:pt x="5521" y="594"/>
                  </a:lnTo>
                  <a:lnTo>
                    <a:pt x="5455" y="582"/>
                  </a:lnTo>
                  <a:lnTo>
                    <a:pt x="5389" y="573"/>
                  </a:lnTo>
                  <a:lnTo>
                    <a:pt x="5321" y="567"/>
                  </a:lnTo>
                  <a:lnTo>
                    <a:pt x="5253" y="562"/>
                  </a:lnTo>
                  <a:lnTo>
                    <a:pt x="5185" y="561"/>
                  </a:lnTo>
                  <a:lnTo>
                    <a:pt x="5117" y="562"/>
                  </a:lnTo>
                  <a:lnTo>
                    <a:pt x="5048" y="567"/>
                  </a:lnTo>
                  <a:lnTo>
                    <a:pt x="4981" y="573"/>
                  </a:lnTo>
                  <a:lnTo>
                    <a:pt x="4915" y="582"/>
                  </a:lnTo>
                  <a:lnTo>
                    <a:pt x="4849" y="594"/>
                  </a:lnTo>
                  <a:lnTo>
                    <a:pt x="4785" y="609"/>
                  </a:lnTo>
                  <a:lnTo>
                    <a:pt x="4722" y="625"/>
                  </a:lnTo>
                  <a:lnTo>
                    <a:pt x="4658" y="644"/>
                  </a:lnTo>
                  <a:lnTo>
                    <a:pt x="4597" y="666"/>
                  </a:lnTo>
                  <a:lnTo>
                    <a:pt x="4536" y="690"/>
                  </a:lnTo>
                  <a:lnTo>
                    <a:pt x="4477" y="716"/>
                  </a:lnTo>
                  <a:lnTo>
                    <a:pt x="4420" y="744"/>
                  </a:lnTo>
                  <a:lnTo>
                    <a:pt x="4362" y="775"/>
                  </a:lnTo>
                  <a:lnTo>
                    <a:pt x="4306" y="807"/>
                  </a:lnTo>
                  <a:lnTo>
                    <a:pt x="4252" y="842"/>
                  </a:lnTo>
                  <a:lnTo>
                    <a:pt x="4200" y="878"/>
                  </a:lnTo>
                  <a:lnTo>
                    <a:pt x="4149" y="916"/>
                  </a:lnTo>
                  <a:lnTo>
                    <a:pt x="4099" y="956"/>
                  </a:lnTo>
                  <a:lnTo>
                    <a:pt x="4051" y="998"/>
                  </a:lnTo>
                  <a:lnTo>
                    <a:pt x="4004" y="1043"/>
                  </a:lnTo>
                  <a:lnTo>
                    <a:pt x="3959" y="1088"/>
                  </a:lnTo>
                  <a:lnTo>
                    <a:pt x="3916" y="1135"/>
                  </a:lnTo>
                  <a:lnTo>
                    <a:pt x="3875" y="1184"/>
                  </a:lnTo>
                  <a:lnTo>
                    <a:pt x="3836" y="1234"/>
                  </a:lnTo>
                  <a:lnTo>
                    <a:pt x="3798" y="1286"/>
                  </a:lnTo>
                  <a:lnTo>
                    <a:pt x="3762" y="1339"/>
                  </a:lnTo>
                  <a:lnTo>
                    <a:pt x="3728" y="1394"/>
                  </a:lnTo>
                  <a:lnTo>
                    <a:pt x="3697" y="1450"/>
                  </a:lnTo>
                  <a:lnTo>
                    <a:pt x="3667" y="1508"/>
                  </a:lnTo>
                  <a:lnTo>
                    <a:pt x="3639" y="1566"/>
                  </a:lnTo>
                  <a:lnTo>
                    <a:pt x="3615" y="1626"/>
                  </a:lnTo>
                  <a:lnTo>
                    <a:pt x="3591" y="1687"/>
                  </a:lnTo>
                  <a:lnTo>
                    <a:pt x="3682" y="1828"/>
                  </a:lnTo>
                  <a:lnTo>
                    <a:pt x="3748" y="1932"/>
                  </a:lnTo>
                  <a:lnTo>
                    <a:pt x="3821" y="2051"/>
                  </a:lnTo>
                  <a:lnTo>
                    <a:pt x="3839" y="2080"/>
                  </a:lnTo>
                  <a:lnTo>
                    <a:pt x="3780" y="2102"/>
                  </a:lnTo>
                  <a:lnTo>
                    <a:pt x="3725" y="2126"/>
                  </a:lnTo>
                  <a:lnTo>
                    <a:pt x="3672" y="2153"/>
                  </a:lnTo>
                  <a:lnTo>
                    <a:pt x="3624" y="2182"/>
                  </a:lnTo>
                  <a:lnTo>
                    <a:pt x="4782" y="2182"/>
                  </a:lnTo>
                  <a:lnTo>
                    <a:pt x="4777" y="2212"/>
                  </a:lnTo>
                  <a:lnTo>
                    <a:pt x="4775" y="2243"/>
                  </a:lnTo>
                  <a:lnTo>
                    <a:pt x="3537" y="2243"/>
                  </a:lnTo>
                  <a:close/>
                  <a:moveTo>
                    <a:pt x="6911" y="2126"/>
                  </a:moveTo>
                  <a:lnTo>
                    <a:pt x="6864" y="2093"/>
                  </a:lnTo>
                  <a:lnTo>
                    <a:pt x="6813" y="2062"/>
                  </a:lnTo>
                  <a:lnTo>
                    <a:pt x="6760" y="2033"/>
                  </a:lnTo>
                  <a:lnTo>
                    <a:pt x="6703" y="2005"/>
                  </a:lnTo>
                  <a:lnTo>
                    <a:pt x="6854" y="1768"/>
                  </a:lnTo>
                  <a:lnTo>
                    <a:pt x="10224" y="1768"/>
                  </a:lnTo>
                  <a:lnTo>
                    <a:pt x="10237" y="1768"/>
                  </a:lnTo>
                  <a:lnTo>
                    <a:pt x="10249" y="1765"/>
                  </a:lnTo>
                  <a:lnTo>
                    <a:pt x="10260" y="1762"/>
                  </a:lnTo>
                  <a:lnTo>
                    <a:pt x="10269" y="1758"/>
                  </a:lnTo>
                  <a:lnTo>
                    <a:pt x="10278" y="1752"/>
                  </a:lnTo>
                  <a:lnTo>
                    <a:pt x="10284" y="1745"/>
                  </a:lnTo>
                  <a:lnTo>
                    <a:pt x="10289" y="1738"/>
                  </a:lnTo>
                  <a:lnTo>
                    <a:pt x="10293" y="1729"/>
                  </a:lnTo>
                  <a:lnTo>
                    <a:pt x="10293" y="1722"/>
                  </a:lnTo>
                  <a:lnTo>
                    <a:pt x="10290" y="1718"/>
                  </a:lnTo>
                  <a:lnTo>
                    <a:pt x="10286" y="1715"/>
                  </a:lnTo>
                  <a:lnTo>
                    <a:pt x="10280" y="1714"/>
                  </a:lnTo>
                  <a:lnTo>
                    <a:pt x="10268" y="1713"/>
                  </a:lnTo>
                  <a:lnTo>
                    <a:pt x="10256" y="1714"/>
                  </a:lnTo>
                  <a:lnTo>
                    <a:pt x="6824" y="1714"/>
                  </a:lnTo>
                  <a:lnTo>
                    <a:pt x="6747" y="1834"/>
                  </a:lnTo>
                  <a:lnTo>
                    <a:pt x="6684" y="1933"/>
                  </a:lnTo>
                  <a:lnTo>
                    <a:pt x="6611" y="2051"/>
                  </a:lnTo>
                  <a:lnTo>
                    <a:pt x="6678" y="2078"/>
                  </a:lnTo>
                  <a:lnTo>
                    <a:pt x="6740" y="2108"/>
                  </a:lnTo>
                  <a:lnTo>
                    <a:pt x="6797" y="2141"/>
                  </a:lnTo>
                  <a:lnTo>
                    <a:pt x="6848" y="2176"/>
                  </a:lnTo>
                  <a:lnTo>
                    <a:pt x="6894" y="2213"/>
                  </a:lnTo>
                  <a:lnTo>
                    <a:pt x="6936" y="2252"/>
                  </a:lnTo>
                  <a:lnTo>
                    <a:pt x="6974" y="2292"/>
                  </a:lnTo>
                  <a:lnTo>
                    <a:pt x="7007" y="2334"/>
                  </a:lnTo>
                  <a:lnTo>
                    <a:pt x="7037" y="2377"/>
                  </a:lnTo>
                  <a:lnTo>
                    <a:pt x="7063" y="2422"/>
                  </a:lnTo>
                  <a:lnTo>
                    <a:pt x="7084" y="2468"/>
                  </a:lnTo>
                  <a:lnTo>
                    <a:pt x="7103" y="2516"/>
                  </a:lnTo>
                  <a:lnTo>
                    <a:pt x="7117" y="2563"/>
                  </a:lnTo>
                  <a:lnTo>
                    <a:pt x="7128" y="2611"/>
                  </a:lnTo>
                  <a:lnTo>
                    <a:pt x="7136" y="2660"/>
                  </a:lnTo>
                  <a:lnTo>
                    <a:pt x="7142" y="2710"/>
                  </a:lnTo>
                  <a:lnTo>
                    <a:pt x="7144" y="2759"/>
                  </a:lnTo>
                  <a:lnTo>
                    <a:pt x="7143" y="2809"/>
                  </a:lnTo>
                  <a:lnTo>
                    <a:pt x="7140" y="2859"/>
                  </a:lnTo>
                  <a:lnTo>
                    <a:pt x="7135" y="2908"/>
                  </a:lnTo>
                  <a:lnTo>
                    <a:pt x="7127" y="2956"/>
                  </a:lnTo>
                  <a:lnTo>
                    <a:pt x="7117" y="3004"/>
                  </a:lnTo>
                  <a:lnTo>
                    <a:pt x="7106" y="3052"/>
                  </a:lnTo>
                  <a:lnTo>
                    <a:pt x="7093" y="3098"/>
                  </a:lnTo>
                  <a:lnTo>
                    <a:pt x="7077" y="3144"/>
                  </a:lnTo>
                  <a:lnTo>
                    <a:pt x="7062" y="3188"/>
                  </a:lnTo>
                  <a:lnTo>
                    <a:pt x="7044" y="3232"/>
                  </a:lnTo>
                  <a:lnTo>
                    <a:pt x="7025" y="3273"/>
                  </a:lnTo>
                  <a:lnTo>
                    <a:pt x="7005" y="3313"/>
                  </a:lnTo>
                  <a:lnTo>
                    <a:pt x="6985" y="3350"/>
                  </a:lnTo>
                  <a:lnTo>
                    <a:pt x="6964" y="3387"/>
                  </a:lnTo>
                  <a:lnTo>
                    <a:pt x="6942" y="3420"/>
                  </a:lnTo>
                  <a:lnTo>
                    <a:pt x="6906" y="3474"/>
                  </a:lnTo>
                  <a:lnTo>
                    <a:pt x="6869" y="3525"/>
                  </a:lnTo>
                  <a:lnTo>
                    <a:pt x="6829" y="3576"/>
                  </a:lnTo>
                  <a:lnTo>
                    <a:pt x="6789" y="3625"/>
                  </a:lnTo>
                  <a:lnTo>
                    <a:pt x="6747" y="3673"/>
                  </a:lnTo>
                  <a:lnTo>
                    <a:pt x="6703" y="3720"/>
                  </a:lnTo>
                  <a:lnTo>
                    <a:pt x="6658" y="3764"/>
                  </a:lnTo>
                  <a:lnTo>
                    <a:pt x="6612" y="3809"/>
                  </a:lnTo>
                  <a:lnTo>
                    <a:pt x="6565" y="3851"/>
                  </a:lnTo>
                  <a:lnTo>
                    <a:pt x="6516" y="3893"/>
                  </a:lnTo>
                  <a:lnTo>
                    <a:pt x="6466" y="3932"/>
                  </a:lnTo>
                  <a:lnTo>
                    <a:pt x="6415" y="3971"/>
                  </a:lnTo>
                  <a:lnTo>
                    <a:pt x="6361" y="4008"/>
                  </a:lnTo>
                  <a:lnTo>
                    <a:pt x="6308" y="4042"/>
                  </a:lnTo>
                  <a:lnTo>
                    <a:pt x="6254" y="4075"/>
                  </a:lnTo>
                  <a:lnTo>
                    <a:pt x="6198" y="4107"/>
                  </a:lnTo>
                  <a:lnTo>
                    <a:pt x="6140" y="4137"/>
                  </a:lnTo>
                  <a:lnTo>
                    <a:pt x="6083" y="4166"/>
                  </a:lnTo>
                  <a:lnTo>
                    <a:pt x="6024" y="4193"/>
                  </a:lnTo>
                  <a:lnTo>
                    <a:pt x="5964" y="4218"/>
                  </a:lnTo>
                  <a:lnTo>
                    <a:pt x="5904" y="4241"/>
                  </a:lnTo>
                  <a:lnTo>
                    <a:pt x="5842" y="4263"/>
                  </a:lnTo>
                  <a:lnTo>
                    <a:pt x="5780" y="4282"/>
                  </a:lnTo>
                  <a:lnTo>
                    <a:pt x="5716" y="4300"/>
                  </a:lnTo>
                  <a:lnTo>
                    <a:pt x="5652" y="4315"/>
                  </a:lnTo>
                  <a:lnTo>
                    <a:pt x="5588" y="4328"/>
                  </a:lnTo>
                  <a:lnTo>
                    <a:pt x="5522" y="4341"/>
                  </a:lnTo>
                  <a:lnTo>
                    <a:pt x="5455" y="4349"/>
                  </a:lnTo>
                  <a:lnTo>
                    <a:pt x="5389" y="4357"/>
                  </a:lnTo>
                  <a:lnTo>
                    <a:pt x="5321" y="4363"/>
                  </a:lnTo>
                  <a:lnTo>
                    <a:pt x="5253" y="4366"/>
                  </a:lnTo>
                  <a:lnTo>
                    <a:pt x="5185" y="4367"/>
                  </a:lnTo>
                  <a:lnTo>
                    <a:pt x="5116" y="4366"/>
                  </a:lnTo>
                  <a:lnTo>
                    <a:pt x="5048" y="4363"/>
                  </a:lnTo>
                  <a:lnTo>
                    <a:pt x="4980" y="4357"/>
                  </a:lnTo>
                  <a:lnTo>
                    <a:pt x="4914" y="4349"/>
                  </a:lnTo>
                  <a:lnTo>
                    <a:pt x="4848" y="4341"/>
                  </a:lnTo>
                  <a:lnTo>
                    <a:pt x="4783" y="4328"/>
                  </a:lnTo>
                  <a:lnTo>
                    <a:pt x="4717" y="4315"/>
                  </a:lnTo>
                  <a:lnTo>
                    <a:pt x="4653" y="4300"/>
                  </a:lnTo>
                  <a:lnTo>
                    <a:pt x="4591" y="4282"/>
                  </a:lnTo>
                  <a:lnTo>
                    <a:pt x="4527" y="4263"/>
                  </a:lnTo>
                  <a:lnTo>
                    <a:pt x="4466" y="4241"/>
                  </a:lnTo>
                  <a:lnTo>
                    <a:pt x="4405" y="4218"/>
                  </a:lnTo>
                  <a:lnTo>
                    <a:pt x="4345" y="4193"/>
                  </a:lnTo>
                  <a:lnTo>
                    <a:pt x="4286" y="4166"/>
                  </a:lnTo>
                  <a:lnTo>
                    <a:pt x="4229" y="4137"/>
                  </a:lnTo>
                  <a:lnTo>
                    <a:pt x="4172" y="4107"/>
                  </a:lnTo>
                  <a:lnTo>
                    <a:pt x="4117" y="4075"/>
                  </a:lnTo>
                  <a:lnTo>
                    <a:pt x="4062" y="4042"/>
                  </a:lnTo>
                  <a:lnTo>
                    <a:pt x="4008" y="4008"/>
                  </a:lnTo>
                  <a:lnTo>
                    <a:pt x="3956" y="3971"/>
                  </a:lnTo>
                  <a:lnTo>
                    <a:pt x="3905" y="3932"/>
                  </a:lnTo>
                  <a:lnTo>
                    <a:pt x="3855" y="3893"/>
                  </a:lnTo>
                  <a:lnTo>
                    <a:pt x="3806" y="3851"/>
                  </a:lnTo>
                  <a:lnTo>
                    <a:pt x="3758" y="3809"/>
                  </a:lnTo>
                  <a:lnTo>
                    <a:pt x="3711" y="3764"/>
                  </a:lnTo>
                  <a:lnTo>
                    <a:pt x="3667" y="3720"/>
                  </a:lnTo>
                  <a:lnTo>
                    <a:pt x="3624" y="3673"/>
                  </a:lnTo>
                  <a:lnTo>
                    <a:pt x="3581" y="3625"/>
                  </a:lnTo>
                  <a:lnTo>
                    <a:pt x="3540" y="3576"/>
                  </a:lnTo>
                  <a:lnTo>
                    <a:pt x="3502" y="3525"/>
                  </a:lnTo>
                  <a:lnTo>
                    <a:pt x="3464" y="3474"/>
                  </a:lnTo>
                  <a:lnTo>
                    <a:pt x="3427" y="3420"/>
                  </a:lnTo>
                  <a:lnTo>
                    <a:pt x="3406" y="3387"/>
                  </a:lnTo>
                  <a:lnTo>
                    <a:pt x="3385" y="3350"/>
                  </a:lnTo>
                  <a:lnTo>
                    <a:pt x="3364" y="3313"/>
                  </a:lnTo>
                  <a:lnTo>
                    <a:pt x="3345" y="3273"/>
                  </a:lnTo>
                  <a:lnTo>
                    <a:pt x="3326" y="3232"/>
                  </a:lnTo>
                  <a:lnTo>
                    <a:pt x="3308" y="3188"/>
                  </a:lnTo>
                  <a:lnTo>
                    <a:pt x="3292" y="3144"/>
                  </a:lnTo>
                  <a:lnTo>
                    <a:pt x="3277" y="3098"/>
                  </a:lnTo>
                  <a:lnTo>
                    <a:pt x="3264" y="3052"/>
                  </a:lnTo>
                  <a:lnTo>
                    <a:pt x="3253" y="3004"/>
                  </a:lnTo>
                  <a:lnTo>
                    <a:pt x="3243" y="2956"/>
                  </a:lnTo>
                  <a:lnTo>
                    <a:pt x="3235" y="2908"/>
                  </a:lnTo>
                  <a:lnTo>
                    <a:pt x="3230" y="2859"/>
                  </a:lnTo>
                  <a:lnTo>
                    <a:pt x="3226" y="2809"/>
                  </a:lnTo>
                  <a:lnTo>
                    <a:pt x="3226" y="2759"/>
                  </a:lnTo>
                  <a:lnTo>
                    <a:pt x="3228" y="2710"/>
                  </a:lnTo>
                  <a:lnTo>
                    <a:pt x="3234" y="2660"/>
                  </a:lnTo>
                  <a:lnTo>
                    <a:pt x="3242" y="2611"/>
                  </a:lnTo>
                  <a:lnTo>
                    <a:pt x="3253" y="2563"/>
                  </a:lnTo>
                  <a:lnTo>
                    <a:pt x="3267" y="2516"/>
                  </a:lnTo>
                  <a:lnTo>
                    <a:pt x="3285" y="2468"/>
                  </a:lnTo>
                  <a:lnTo>
                    <a:pt x="3307" y="2422"/>
                  </a:lnTo>
                  <a:lnTo>
                    <a:pt x="3333" y="2377"/>
                  </a:lnTo>
                  <a:lnTo>
                    <a:pt x="3362" y="2334"/>
                  </a:lnTo>
                  <a:lnTo>
                    <a:pt x="3395" y="2292"/>
                  </a:lnTo>
                  <a:lnTo>
                    <a:pt x="3433" y="2252"/>
                  </a:lnTo>
                  <a:lnTo>
                    <a:pt x="3475" y="2213"/>
                  </a:lnTo>
                  <a:lnTo>
                    <a:pt x="3523" y="2176"/>
                  </a:lnTo>
                  <a:lnTo>
                    <a:pt x="3574" y="2141"/>
                  </a:lnTo>
                  <a:lnTo>
                    <a:pt x="3630" y="2108"/>
                  </a:lnTo>
                  <a:lnTo>
                    <a:pt x="3691" y="2078"/>
                  </a:lnTo>
                  <a:lnTo>
                    <a:pt x="3758" y="2051"/>
                  </a:lnTo>
                  <a:lnTo>
                    <a:pt x="3686" y="1933"/>
                  </a:lnTo>
                  <a:lnTo>
                    <a:pt x="3623" y="1834"/>
                  </a:lnTo>
                  <a:lnTo>
                    <a:pt x="3545" y="1714"/>
                  </a:lnTo>
                  <a:lnTo>
                    <a:pt x="112" y="1714"/>
                  </a:lnTo>
                  <a:lnTo>
                    <a:pt x="101" y="1713"/>
                  </a:lnTo>
                  <a:lnTo>
                    <a:pt x="88" y="1714"/>
                  </a:lnTo>
                  <a:lnTo>
                    <a:pt x="82" y="1715"/>
                  </a:lnTo>
                  <a:lnTo>
                    <a:pt x="79" y="1718"/>
                  </a:lnTo>
                  <a:lnTo>
                    <a:pt x="77" y="1722"/>
                  </a:lnTo>
                  <a:lnTo>
                    <a:pt x="77" y="1729"/>
                  </a:lnTo>
                  <a:lnTo>
                    <a:pt x="80" y="1738"/>
                  </a:lnTo>
                  <a:lnTo>
                    <a:pt x="84" y="1745"/>
                  </a:lnTo>
                  <a:lnTo>
                    <a:pt x="91" y="1752"/>
                  </a:lnTo>
                  <a:lnTo>
                    <a:pt x="99" y="1758"/>
                  </a:lnTo>
                  <a:lnTo>
                    <a:pt x="109" y="1762"/>
                  </a:lnTo>
                  <a:lnTo>
                    <a:pt x="120" y="1765"/>
                  </a:lnTo>
                  <a:lnTo>
                    <a:pt x="132" y="1768"/>
                  </a:lnTo>
                  <a:lnTo>
                    <a:pt x="145" y="1768"/>
                  </a:lnTo>
                  <a:lnTo>
                    <a:pt x="3516" y="1768"/>
                  </a:lnTo>
                  <a:lnTo>
                    <a:pt x="3667" y="2005"/>
                  </a:lnTo>
                  <a:lnTo>
                    <a:pt x="3610" y="2033"/>
                  </a:lnTo>
                  <a:lnTo>
                    <a:pt x="3556" y="2062"/>
                  </a:lnTo>
                  <a:lnTo>
                    <a:pt x="3506" y="2093"/>
                  </a:lnTo>
                  <a:lnTo>
                    <a:pt x="3459" y="2126"/>
                  </a:lnTo>
                  <a:lnTo>
                    <a:pt x="2825" y="2127"/>
                  </a:lnTo>
                  <a:lnTo>
                    <a:pt x="2266" y="2127"/>
                  </a:lnTo>
                  <a:lnTo>
                    <a:pt x="1363" y="2127"/>
                  </a:lnTo>
                  <a:lnTo>
                    <a:pt x="754" y="2126"/>
                  </a:lnTo>
                  <a:lnTo>
                    <a:pt x="435" y="2126"/>
                  </a:lnTo>
                  <a:lnTo>
                    <a:pt x="359" y="2081"/>
                  </a:lnTo>
                  <a:lnTo>
                    <a:pt x="290" y="2034"/>
                  </a:lnTo>
                  <a:lnTo>
                    <a:pt x="229" y="1990"/>
                  </a:lnTo>
                  <a:lnTo>
                    <a:pt x="177" y="1946"/>
                  </a:lnTo>
                  <a:lnTo>
                    <a:pt x="132" y="1906"/>
                  </a:lnTo>
                  <a:lnTo>
                    <a:pt x="97" y="1872"/>
                  </a:lnTo>
                  <a:lnTo>
                    <a:pt x="70" y="1842"/>
                  </a:lnTo>
                  <a:lnTo>
                    <a:pt x="51" y="1819"/>
                  </a:lnTo>
                  <a:lnTo>
                    <a:pt x="26" y="1784"/>
                  </a:lnTo>
                  <a:lnTo>
                    <a:pt x="13" y="1764"/>
                  </a:lnTo>
                  <a:lnTo>
                    <a:pt x="4" y="1744"/>
                  </a:lnTo>
                  <a:lnTo>
                    <a:pt x="2" y="1734"/>
                  </a:lnTo>
                  <a:lnTo>
                    <a:pt x="0" y="1724"/>
                  </a:lnTo>
                  <a:lnTo>
                    <a:pt x="0" y="1714"/>
                  </a:lnTo>
                  <a:lnTo>
                    <a:pt x="2" y="1703"/>
                  </a:lnTo>
                  <a:lnTo>
                    <a:pt x="6" y="1693"/>
                  </a:lnTo>
                  <a:lnTo>
                    <a:pt x="11" y="1682"/>
                  </a:lnTo>
                  <a:lnTo>
                    <a:pt x="20" y="1672"/>
                  </a:lnTo>
                  <a:lnTo>
                    <a:pt x="31" y="1661"/>
                  </a:lnTo>
                  <a:lnTo>
                    <a:pt x="50" y="1647"/>
                  </a:lnTo>
                  <a:lnTo>
                    <a:pt x="62" y="1639"/>
                  </a:lnTo>
                  <a:lnTo>
                    <a:pt x="70" y="1638"/>
                  </a:lnTo>
                  <a:lnTo>
                    <a:pt x="75" y="1641"/>
                  </a:lnTo>
                  <a:lnTo>
                    <a:pt x="81" y="1647"/>
                  </a:lnTo>
                  <a:lnTo>
                    <a:pt x="88" y="1653"/>
                  </a:lnTo>
                  <a:lnTo>
                    <a:pt x="98" y="1658"/>
                  </a:lnTo>
                  <a:lnTo>
                    <a:pt x="112" y="1660"/>
                  </a:lnTo>
                  <a:lnTo>
                    <a:pt x="3016" y="1660"/>
                  </a:lnTo>
                  <a:lnTo>
                    <a:pt x="3043" y="1571"/>
                  </a:lnTo>
                  <a:lnTo>
                    <a:pt x="3072" y="1485"/>
                  </a:lnTo>
                  <a:lnTo>
                    <a:pt x="3105" y="1399"/>
                  </a:lnTo>
                  <a:lnTo>
                    <a:pt x="3142" y="1316"/>
                  </a:lnTo>
                  <a:lnTo>
                    <a:pt x="3181" y="1234"/>
                  </a:lnTo>
                  <a:lnTo>
                    <a:pt x="3224" y="1154"/>
                  </a:lnTo>
                  <a:lnTo>
                    <a:pt x="3269" y="1075"/>
                  </a:lnTo>
                  <a:lnTo>
                    <a:pt x="3318" y="999"/>
                  </a:lnTo>
                  <a:lnTo>
                    <a:pt x="3369" y="925"/>
                  </a:lnTo>
                  <a:lnTo>
                    <a:pt x="3425" y="853"/>
                  </a:lnTo>
                  <a:lnTo>
                    <a:pt x="3482" y="784"/>
                  </a:lnTo>
                  <a:lnTo>
                    <a:pt x="3543" y="716"/>
                  </a:lnTo>
                  <a:lnTo>
                    <a:pt x="3605" y="652"/>
                  </a:lnTo>
                  <a:lnTo>
                    <a:pt x="3670" y="590"/>
                  </a:lnTo>
                  <a:lnTo>
                    <a:pt x="3738" y="530"/>
                  </a:lnTo>
                  <a:lnTo>
                    <a:pt x="3808" y="473"/>
                  </a:lnTo>
                  <a:lnTo>
                    <a:pt x="3880" y="419"/>
                  </a:lnTo>
                  <a:lnTo>
                    <a:pt x="3954" y="368"/>
                  </a:lnTo>
                  <a:lnTo>
                    <a:pt x="4031" y="320"/>
                  </a:lnTo>
                  <a:lnTo>
                    <a:pt x="4110" y="275"/>
                  </a:lnTo>
                  <a:lnTo>
                    <a:pt x="4191" y="232"/>
                  </a:lnTo>
                  <a:lnTo>
                    <a:pt x="4273" y="194"/>
                  </a:lnTo>
                  <a:lnTo>
                    <a:pt x="4357" y="158"/>
                  </a:lnTo>
                  <a:lnTo>
                    <a:pt x="4444" y="126"/>
                  </a:lnTo>
                  <a:lnTo>
                    <a:pt x="4532" y="97"/>
                  </a:lnTo>
                  <a:lnTo>
                    <a:pt x="4621" y="73"/>
                  </a:lnTo>
                  <a:lnTo>
                    <a:pt x="4712" y="50"/>
                  </a:lnTo>
                  <a:lnTo>
                    <a:pt x="4804" y="33"/>
                  </a:lnTo>
                  <a:lnTo>
                    <a:pt x="4897" y="19"/>
                  </a:lnTo>
                  <a:lnTo>
                    <a:pt x="4992" y="9"/>
                  </a:lnTo>
                  <a:lnTo>
                    <a:pt x="5088" y="3"/>
                  </a:lnTo>
                  <a:lnTo>
                    <a:pt x="5185" y="0"/>
                  </a:lnTo>
                  <a:lnTo>
                    <a:pt x="5282" y="3"/>
                  </a:lnTo>
                  <a:lnTo>
                    <a:pt x="5378" y="9"/>
                  </a:lnTo>
                  <a:lnTo>
                    <a:pt x="5472" y="19"/>
                  </a:lnTo>
                  <a:lnTo>
                    <a:pt x="5566" y="33"/>
                  </a:lnTo>
                  <a:lnTo>
                    <a:pt x="5659" y="50"/>
                  </a:lnTo>
                  <a:lnTo>
                    <a:pt x="5749" y="73"/>
                  </a:lnTo>
                  <a:lnTo>
                    <a:pt x="5838" y="97"/>
                  </a:lnTo>
                  <a:lnTo>
                    <a:pt x="5926" y="126"/>
                  </a:lnTo>
                  <a:lnTo>
                    <a:pt x="6012" y="158"/>
                  </a:lnTo>
                  <a:lnTo>
                    <a:pt x="6096" y="194"/>
                  </a:lnTo>
                  <a:lnTo>
                    <a:pt x="6179" y="232"/>
                  </a:lnTo>
                  <a:lnTo>
                    <a:pt x="6259" y="275"/>
                  </a:lnTo>
                  <a:lnTo>
                    <a:pt x="6338" y="320"/>
                  </a:lnTo>
                  <a:lnTo>
                    <a:pt x="6415" y="368"/>
                  </a:lnTo>
                  <a:lnTo>
                    <a:pt x="6490" y="419"/>
                  </a:lnTo>
                  <a:lnTo>
                    <a:pt x="6562" y="473"/>
                  </a:lnTo>
                  <a:lnTo>
                    <a:pt x="6632" y="530"/>
                  </a:lnTo>
                  <a:lnTo>
                    <a:pt x="6700" y="590"/>
                  </a:lnTo>
                  <a:lnTo>
                    <a:pt x="6765" y="652"/>
                  </a:lnTo>
                  <a:lnTo>
                    <a:pt x="6828" y="716"/>
                  </a:lnTo>
                  <a:lnTo>
                    <a:pt x="6888" y="784"/>
                  </a:lnTo>
                  <a:lnTo>
                    <a:pt x="6945" y="853"/>
                  </a:lnTo>
                  <a:lnTo>
                    <a:pt x="7000" y="925"/>
                  </a:lnTo>
                  <a:lnTo>
                    <a:pt x="7052" y="999"/>
                  </a:lnTo>
                  <a:lnTo>
                    <a:pt x="7101" y="1075"/>
                  </a:lnTo>
                  <a:lnTo>
                    <a:pt x="7146" y="1154"/>
                  </a:lnTo>
                  <a:lnTo>
                    <a:pt x="7188" y="1234"/>
                  </a:lnTo>
                  <a:lnTo>
                    <a:pt x="7228" y="1316"/>
                  </a:lnTo>
                  <a:lnTo>
                    <a:pt x="7265" y="1399"/>
                  </a:lnTo>
                  <a:lnTo>
                    <a:pt x="7297" y="1485"/>
                  </a:lnTo>
                  <a:lnTo>
                    <a:pt x="7327" y="1571"/>
                  </a:lnTo>
                  <a:lnTo>
                    <a:pt x="7353" y="1660"/>
                  </a:lnTo>
                  <a:lnTo>
                    <a:pt x="10256" y="1660"/>
                  </a:lnTo>
                  <a:lnTo>
                    <a:pt x="10271" y="1658"/>
                  </a:lnTo>
                  <a:lnTo>
                    <a:pt x="10280" y="1653"/>
                  </a:lnTo>
                  <a:lnTo>
                    <a:pt x="10287" y="1647"/>
                  </a:lnTo>
                  <a:lnTo>
                    <a:pt x="10293" y="1641"/>
                  </a:lnTo>
                  <a:lnTo>
                    <a:pt x="10298" y="1638"/>
                  </a:lnTo>
                  <a:lnTo>
                    <a:pt x="10307" y="1639"/>
                  </a:lnTo>
                  <a:lnTo>
                    <a:pt x="10319" y="1647"/>
                  </a:lnTo>
                  <a:lnTo>
                    <a:pt x="10338" y="1661"/>
                  </a:lnTo>
                  <a:lnTo>
                    <a:pt x="10349" y="1672"/>
                  </a:lnTo>
                  <a:lnTo>
                    <a:pt x="10357" y="1682"/>
                  </a:lnTo>
                  <a:lnTo>
                    <a:pt x="10362" y="1693"/>
                  </a:lnTo>
                  <a:lnTo>
                    <a:pt x="10367" y="1703"/>
                  </a:lnTo>
                  <a:lnTo>
                    <a:pt x="10368" y="1714"/>
                  </a:lnTo>
                  <a:lnTo>
                    <a:pt x="10368" y="1724"/>
                  </a:lnTo>
                  <a:lnTo>
                    <a:pt x="10364" y="1744"/>
                  </a:lnTo>
                  <a:lnTo>
                    <a:pt x="10355" y="1764"/>
                  </a:lnTo>
                  <a:lnTo>
                    <a:pt x="10342" y="1784"/>
                  </a:lnTo>
                  <a:lnTo>
                    <a:pt x="10317" y="1819"/>
                  </a:lnTo>
                  <a:lnTo>
                    <a:pt x="10299" y="1842"/>
                  </a:lnTo>
                  <a:lnTo>
                    <a:pt x="10271" y="1872"/>
                  </a:lnTo>
                  <a:lnTo>
                    <a:pt x="10236" y="1906"/>
                  </a:lnTo>
                  <a:lnTo>
                    <a:pt x="10191" y="1946"/>
                  </a:lnTo>
                  <a:lnTo>
                    <a:pt x="10139" y="1990"/>
                  </a:lnTo>
                  <a:lnTo>
                    <a:pt x="10079" y="2034"/>
                  </a:lnTo>
                  <a:lnTo>
                    <a:pt x="10011" y="2081"/>
                  </a:lnTo>
                  <a:lnTo>
                    <a:pt x="9934" y="2126"/>
                  </a:lnTo>
                  <a:lnTo>
                    <a:pt x="6911" y="2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17720" y="3265560"/>
              <a:ext cx="1377000" cy="231840"/>
            </a:xfrm>
            <a:custGeom>
              <a:avLst/>
              <a:gdLst/>
              <a:ahLst/>
              <a:rect l="l" t="t" r="r" b="b"/>
              <a:pathLst>
                <a:path w="2834" h="487">
                  <a:moveTo>
                    <a:pt x="2400" y="487"/>
                  </a:moveTo>
                  <a:lnTo>
                    <a:pt x="2475" y="442"/>
                  </a:lnTo>
                  <a:lnTo>
                    <a:pt x="2544" y="396"/>
                  </a:lnTo>
                  <a:lnTo>
                    <a:pt x="2605" y="351"/>
                  </a:lnTo>
                  <a:lnTo>
                    <a:pt x="2657" y="307"/>
                  </a:lnTo>
                  <a:lnTo>
                    <a:pt x="2702" y="268"/>
                  </a:lnTo>
                  <a:lnTo>
                    <a:pt x="2737" y="233"/>
                  </a:lnTo>
                  <a:lnTo>
                    <a:pt x="2764" y="203"/>
                  </a:lnTo>
                  <a:lnTo>
                    <a:pt x="2783" y="180"/>
                  </a:lnTo>
                  <a:lnTo>
                    <a:pt x="2808" y="145"/>
                  </a:lnTo>
                  <a:lnTo>
                    <a:pt x="2821" y="126"/>
                  </a:lnTo>
                  <a:lnTo>
                    <a:pt x="2829" y="106"/>
                  </a:lnTo>
                  <a:lnTo>
                    <a:pt x="2832" y="96"/>
                  </a:lnTo>
                  <a:lnTo>
                    <a:pt x="2834" y="85"/>
                  </a:lnTo>
                  <a:lnTo>
                    <a:pt x="2834" y="75"/>
                  </a:lnTo>
                  <a:lnTo>
                    <a:pt x="2832" y="64"/>
                  </a:lnTo>
                  <a:lnTo>
                    <a:pt x="2828" y="54"/>
                  </a:lnTo>
                  <a:lnTo>
                    <a:pt x="2823" y="43"/>
                  </a:lnTo>
                  <a:lnTo>
                    <a:pt x="2814" y="33"/>
                  </a:lnTo>
                  <a:lnTo>
                    <a:pt x="2803" y="23"/>
                  </a:lnTo>
                  <a:lnTo>
                    <a:pt x="2785" y="8"/>
                  </a:lnTo>
                  <a:lnTo>
                    <a:pt x="2772" y="1"/>
                  </a:lnTo>
                  <a:lnTo>
                    <a:pt x="2764" y="0"/>
                  </a:lnTo>
                  <a:lnTo>
                    <a:pt x="2758" y="2"/>
                  </a:lnTo>
                  <a:lnTo>
                    <a:pt x="2753" y="8"/>
                  </a:lnTo>
                  <a:lnTo>
                    <a:pt x="2746" y="14"/>
                  </a:lnTo>
                  <a:lnTo>
                    <a:pt x="2736" y="19"/>
                  </a:lnTo>
                  <a:lnTo>
                    <a:pt x="2722" y="21"/>
                  </a:lnTo>
                  <a:lnTo>
                    <a:pt x="0" y="21"/>
                  </a:lnTo>
                  <a:lnTo>
                    <a:pt x="27" y="47"/>
                  </a:lnTo>
                  <a:lnTo>
                    <a:pt x="53" y="75"/>
                  </a:lnTo>
                  <a:lnTo>
                    <a:pt x="2722" y="75"/>
                  </a:lnTo>
                  <a:lnTo>
                    <a:pt x="2734" y="74"/>
                  </a:lnTo>
                  <a:lnTo>
                    <a:pt x="2746" y="75"/>
                  </a:lnTo>
                  <a:lnTo>
                    <a:pt x="2752" y="76"/>
                  </a:lnTo>
                  <a:lnTo>
                    <a:pt x="2756" y="80"/>
                  </a:lnTo>
                  <a:lnTo>
                    <a:pt x="2758" y="83"/>
                  </a:lnTo>
                  <a:lnTo>
                    <a:pt x="2757" y="90"/>
                  </a:lnTo>
                  <a:lnTo>
                    <a:pt x="2754" y="99"/>
                  </a:lnTo>
                  <a:lnTo>
                    <a:pt x="2750" y="106"/>
                  </a:lnTo>
                  <a:lnTo>
                    <a:pt x="2743" y="113"/>
                  </a:lnTo>
                  <a:lnTo>
                    <a:pt x="2735" y="119"/>
                  </a:lnTo>
                  <a:lnTo>
                    <a:pt x="2725" y="123"/>
                  </a:lnTo>
                  <a:lnTo>
                    <a:pt x="2715" y="126"/>
                  </a:lnTo>
                  <a:lnTo>
                    <a:pt x="2703" y="129"/>
                  </a:lnTo>
                  <a:lnTo>
                    <a:pt x="2688" y="129"/>
                  </a:lnTo>
                  <a:lnTo>
                    <a:pt x="96" y="129"/>
                  </a:lnTo>
                  <a:lnTo>
                    <a:pt x="124" y="170"/>
                  </a:lnTo>
                  <a:lnTo>
                    <a:pt x="149" y="212"/>
                  </a:lnTo>
                  <a:lnTo>
                    <a:pt x="172" y="255"/>
                  </a:lnTo>
                  <a:lnTo>
                    <a:pt x="191" y="299"/>
                  </a:lnTo>
                  <a:lnTo>
                    <a:pt x="206" y="345"/>
                  </a:lnTo>
                  <a:lnTo>
                    <a:pt x="219" y="392"/>
                  </a:lnTo>
                  <a:lnTo>
                    <a:pt x="231" y="439"/>
                  </a:lnTo>
                  <a:lnTo>
                    <a:pt x="238" y="487"/>
                  </a:lnTo>
                  <a:lnTo>
                    <a:pt x="2400" y="4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48320" y="3512160"/>
              <a:ext cx="1978560" cy="862920"/>
            </a:xfrm>
            <a:custGeom>
              <a:avLst/>
              <a:gdLst/>
              <a:ahLst/>
              <a:rect l="l" t="t" r="r" b="b"/>
              <a:pathLst>
                <a:path w="4079" h="1817">
                  <a:moveTo>
                    <a:pt x="3935" y="130"/>
                  </a:moveTo>
                  <a:lnTo>
                    <a:pt x="3948" y="128"/>
                  </a:lnTo>
                  <a:lnTo>
                    <a:pt x="3961" y="126"/>
                  </a:lnTo>
                  <a:lnTo>
                    <a:pt x="3972" y="123"/>
                  </a:lnTo>
                  <a:lnTo>
                    <a:pt x="3981" y="118"/>
                  </a:lnTo>
                  <a:lnTo>
                    <a:pt x="3990" y="113"/>
                  </a:lnTo>
                  <a:lnTo>
                    <a:pt x="3995" y="106"/>
                  </a:lnTo>
                  <a:lnTo>
                    <a:pt x="4001" y="98"/>
                  </a:lnTo>
                  <a:lnTo>
                    <a:pt x="4004" y="90"/>
                  </a:lnTo>
                  <a:lnTo>
                    <a:pt x="4004" y="84"/>
                  </a:lnTo>
                  <a:lnTo>
                    <a:pt x="4002" y="80"/>
                  </a:lnTo>
                  <a:lnTo>
                    <a:pt x="3997" y="76"/>
                  </a:lnTo>
                  <a:lnTo>
                    <a:pt x="3992" y="75"/>
                  </a:lnTo>
                  <a:lnTo>
                    <a:pt x="3980" y="75"/>
                  </a:lnTo>
                  <a:lnTo>
                    <a:pt x="3967" y="75"/>
                  </a:lnTo>
                  <a:lnTo>
                    <a:pt x="2040" y="75"/>
                  </a:lnTo>
                  <a:lnTo>
                    <a:pt x="2038" y="21"/>
                  </a:lnTo>
                  <a:lnTo>
                    <a:pt x="3967" y="21"/>
                  </a:lnTo>
                  <a:lnTo>
                    <a:pt x="3982" y="20"/>
                  </a:lnTo>
                  <a:lnTo>
                    <a:pt x="3992" y="14"/>
                  </a:lnTo>
                  <a:lnTo>
                    <a:pt x="3998" y="9"/>
                  </a:lnTo>
                  <a:lnTo>
                    <a:pt x="4004" y="3"/>
                  </a:lnTo>
                  <a:lnTo>
                    <a:pt x="4010" y="0"/>
                  </a:lnTo>
                  <a:lnTo>
                    <a:pt x="4018" y="1"/>
                  </a:lnTo>
                  <a:lnTo>
                    <a:pt x="4031" y="7"/>
                  </a:lnTo>
                  <a:lnTo>
                    <a:pt x="4050" y="23"/>
                  </a:lnTo>
                  <a:lnTo>
                    <a:pt x="4061" y="33"/>
                  </a:lnTo>
                  <a:lnTo>
                    <a:pt x="4068" y="44"/>
                  </a:lnTo>
                  <a:lnTo>
                    <a:pt x="4074" y="54"/>
                  </a:lnTo>
                  <a:lnTo>
                    <a:pt x="4078" y="65"/>
                  </a:lnTo>
                  <a:lnTo>
                    <a:pt x="4079" y="75"/>
                  </a:lnTo>
                  <a:lnTo>
                    <a:pt x="4079" y="85"/>
                  </a:lnTo>
                  <a:lnTo>
                    <a:pt x="4075" y="106"/>
                  </a:lnTo>
                  <a:lnTo>
                    <a:pt x="4066" y="126"/>
                  </a:lnTo>
                  <a:lnTo>
                    <a:pt x="4054" y="145"/>
                  </a:lnTo>
                  <a:lnTo>
                    <a:pt x="4028" y="181"/>
                  </a:lnTo>
                  <a:lnTo>
                    <a:pt x="4011" y="203"/>
                  </a:lnTo>
                  <a:lnTo>
                    <a:pt x="3983" y="233"/>
                  </a:lnTo>
                  <a:lnTo>
                    <a:pt x="3947" y="268"/>
                  </a:lnTo>
                  <a:lnTo>
                    <a:pt x="3903" y="308"/>
                  </a:lnTo>
                  <a:lnTo>
                    <a:pt x="3851" y="350"/>
                  </a:lnTo>
                  <a:lnTo>
                    <a:pt x="3790" y="396"/>
                  </a:lnTo>
                  <a:lnTo>
                    <a:pt x="3722" y="441"/>
                  </a:lnTo>
                  <a:lnTo>
                    <a:pt x="3684" y="465"/>
                  </a:lnTo>
                  <a:lnTo>
                    <a:pt x="3645" y="487"/>
                  </a:lnTo>
                  <a:lnTo>
                    <a:pt x="2026" y="487"/>
                  </a:lnTo>
                  <a:lnTo>
                    <a:pt x="2010" y="534"/>
                  </a:lnTo>
                  <a:lnTo>
                    <a:pt x="1992" y="578"/>
                  </a:lnTo>
                  <a:lnTo>
                    <a:pt x="1973" y="620"/>
                  </a:lnTo>
                  <a:lnTo>
                    <a:pt x="1955" y="662"/>
                  </a:lnTo>
                  <a:lnTo>
                    <a:pt x="1914" y="740"/>
                  </a:lnTo>
                  <a:lnTo>
                    <a:pt x="1869" y="811"/>
                  </a:lnTo>
                  <a:lnTo>
                    <a:pt x="1831" y="868"/>
                  </a:lnTo>
                  <a:lnTo>
                    <a:pt x="1790" y="922"/>
                  </a:lnTo>
                  <a:lnTo>
                    <a:pt x="1749" y="976"/>
                  </a:lnTo>
                  <a:lnTo>
                    <a:pt x="1706" y="1029"/>
                  </a:lnTo>
                  <a:lnTo>
                    <a:pt x="1661" y="1080"/>
                  </a:lnTo>
                  <a:lnTo>
                    <a:pt x="1615" y="1130"/>
                  </a:lnTo>
                  <a:lnTo>
                    <a:pt x="1567" y="1177"/>
                  </a:lnTo>
                  <a:lnTo>
                    <a:pt x="1518" y="1224"/>
                  </a:lnTo>
                  <a:lnTo>
                    <a:pt x="1467" y="1270"/>
                  </a:lnTo>
                  <a:lnTo>
                    <a:pt x="1415" y="1313"/>
                  </a:lnTo>
                  <a:lnTo>
                    <a:pt x="1363" y="1355"/>
                  </a:lnTo>
                  <a:lnTo>
                    <a:pt x="1307" y="1396"/>
                  </a:lnTo>
                  <a:lnTo>
                    <a:pt x="1252" y="1435"/>
                  </a:lnTo>
                  <a:lnTo>
                    <a:pt x="1195" y="1473"/>
                  </a:lnTo>
                  <a:lnTo>
                    <a:pt x="1137" y="1508"/>
                  </a:lnTo>
                  <a:lnTo>
                    <a:pt x="1078" y="1541"/>
                  </a:lnTo>
                  <a:lnTo>
                    <a:pt x="1018" y="1574"/>
                  </a:lnTo>
                  <a:lnTo>
                    <a:pt x="955" y="1604"/>
                  </a:lnTo>
                  <a:lnTo>
                    <a:pt x="893" y="1633"/>
                  </a:lnTo>
                  <a:lnTo>
                    <a:pt x="830" y="1659"/>
                  </a:lnTo>
                  <a:lnTo>
                    <a:pt x="766" y="1684"/>
                  </a:lnTo>
                  <a:lnTo>
                    <a:pt x="700" y="1706"/>
                  </a:lnTo>
                  <a:lnTo>
                    <a:pt x="633" y="1727"/>
                  </a:lnTo>
                  <a:lnTo>
                    <a:pt x="566" y="1746"/>
                  </a:lnTo>
                  <a:lnTo>
                    <a:pt x="498" y="1761"/>
                  </a:lnTo>
                  <a:lnTo>
                    <a:pt x="429" y="1776"/>
                  </a:lnTo>
                  <a:lnTo>
                    <a:pt x="359" y="1789"/>
                  </a:lnTo>
                  <a:lnTo>
                    <a:pt x="288" y="1799"/>
                  </a:lnTo>
                  <a:lnTo>
                    <a:pt x="217" y="1807"/>
                  </a:lnTo>
                  <a:lnTo>
                    <a:pt x="146" y="1812"/>
                  </a:lnTo>
                  <a:lnTo>
                    <a:pt x="73" y="1816"/>
                  </a:lnTo>
                  <a:lnTo>
                    <a:pt x="0" y="1817"/>
                  </a:lnTo>
                  <a:lnTo>
                    <a:pt x="0" y="1756"/>
                  </a:lnTo>
                  <a:lnTo>
                    <a:pt x="71" y="1755"/>
                  </a:lnTo>
                  <a:lnTo>
                    <a:pt x="142" y="1751"/>
                  </a:lnTo>
                  <a:lnTo>
                    <a:pt x="212" y="1746"/>
                  </a:lnTo>
                  <a:lnTo>
                    <a:pt x="280" y="1738"/>
                  </a:lnTo>
                  <a:lnTo>
                    <a:pt x="349" y="1728"/>
                  </a:lnTo>
                  <a:lnTo>
                    <a:pt x="417" y="1716"/>
                  </a:lnTo>
                  <a:lnTo>
                    <a:pt x="485" y="1701"/>
                  </a:lnTo>
                  <a:lnTo>
                    <a:pt x="550" y="1686"/>
                  </a:lnTo>
                  <a:lnTo>
                    <a:pt x="616" y="1667"/>
                  </a:lnTo>
                  <a:lnTo>
                    <a:pt x="680" y="1647"/>
                  </a:lnTo>
                  <a:lnTo>
                    <a:pt x="744" y="1626"/>
                  </a:lnTo>
                  <a:lnTo>
                    <a:pt x="807" y="1601"/>
                  </a:lnTo>
                  <a:lnTo>
                    <a:pt x="869" y="1576"/>
                  </a:lnTo>
                  <a:lnTo>
                    <a:pt x="930" y="1548"/>
                  </a:lnTo>
                  <a:lnTo>
                    <a:pt x="990" y="1519"/>
                  </a:lnTo>
                  <a:lnTo>
                    <a:pt x="1048" y="1487"/>
                  </a:lnTo>
                  <a:lnTo>
                    <a:pt x="1105" y="1455"/>
                  </a:lnTo>
                  <a:lnTo>
                    <a:pt x="1162" y="1420"/>
                  </a:lnTo>
                  <a:lnTo>
                    <a:pt x="1217" y="1384"/>
                  </a:lnTo>
                  <a:lnTo>
                    <a:pt x="1272" y="1346"/>
                  </a:lnTo>
                  <a:lnTo>
                    <a:pt x="1325" y="1306"/>
                  </a:lnTo>
                  <a:lnTo>
                    <a:pt x="1376" y="1265"/>
                  </a:lnTo>
                  <a:lnTo>
                    <a:pt x="1427" y="1223"/>
                  </a:lnTo>
                  <a:lnTo>
                    <a:pt x="1476" y="1179"/>
                  </a:lnTo>
                  <a:lnTo>
                    <a:pt x="1524" y="1133"/>
                  </a:lnTo>
                  <a:lnTo>
                    <a:pt x="1570" y="1086"/>
                  </a:lnTo>
                  <a:lnTo>
                    <a:pt x="1615" y="1039"/>
                  </a:lnTo>
                  <a:lnTo>
                    <a:pt x="1659" y="989"/>
                  </a:lnTo>
                  <a:lnTo>
                    <a:pt x="1701" y="938"/>
                  </a:lnTo>
                  <a:lnTo>
                    <a:pt x="1741" y="885"/>
                  </a:lnTo>
                  <a:lnTo>
                    <a:pt x="1780" y="832"/>
                  </a:lnTo>
                  <a:lnTo>
                    <a:pt x="1818" y="777"/>
                  </a:lnTo>
                  <a:lnTo>
                    <a:pt x="1857" y="713"/>
                  </a:lnTo>
                  <a:lnTo>
                    <a:pt x="1895" y="643"/>
                  </a:lnTo>
                  <a:lnTo>
                    <a:pt x="1929" y="568"/>
                  </a:lnTo>
                  <a:lnTo>
                    <a:pt x="1960" y="487"/>
                  </a:lnTo>
                  <a:lnTo>
                    <a:pt x="1961" y="485"/>
                  </a:lnTo>
                  <a:lnTo>
                    <a:pt x="1977" y="439"/>
                  </a:lnTo>
                  <a:lnTo>
                    <a:pt x="1991" y="395"/>
                  </a:lnTo>
                  <a:lnTo>
                    <a:pt x="2003" y="349"/>
                  </a:lnTo>
                  <a:lnTo>
                    <a:pt x="2015" y="305"/>
                  </a:lnTo>
                  <a:lnTo>
                    <a:pt x="2023" y="261"/>
                  </a:lnTo>
                  <a:lnTo>
                    <a:pt x="2030" y="216"/>
                  </a:lnTo>
                  <a:lnTo>
                    <a:pt x="2036" y="173"/>
                  </a:lnTo>
                  <a:lnTo>
                    <a:pt x="2038" y="130"/>
                  </a:lnTo>
                  <a:lnTo>
                    <a:pt x="3935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19440" y="3956760"/>
              <a:ext cx="372960" cy="346320"/>
            </a:xfrm>
            <a:custGeom>
              <a:avLst/>
              <a:gdLst/>
              <a:ahLst/>
              <a:rect l="l" t="t" r="r" b="b"/>
              <a:pathLst>
                <a:path w="766" h="728">
                  <a:moveTo>
                    <a:pt x="134" y="274"/>
                  </a:moveTo>
                  <a:lnTo>
                    <a:pt x="293" y="616"/>
                  </a:lnTo>
                  <a:lnTo>
                    <a:pt x="679" y="419"/>
                  </a:lnTo>
                  <a:lnTo>
                    <a:pt x="507" y="84"/>
                  </a:lnTo>
                  <a:lnTo>
                    <a:pt x="134" y="274"/>
                  </a:lnTo>
                  <a:close/>
                  <a:moveTo>
                    <a:pt x="28" y="317"/>
                  </a:moveTo>
                  <a:lnTo>
                    <a:pt x="0" y="263"/>
                  </a:lnTo>
                  <a:lnTo>
                    <a:pt x="542" y="0"/>
                  </a:lnTo>
                  <a:lnTo>
                    <a:pt x="766" y="459"/>
                  </a:lnTo>
                  <a:lnTo>
                    <a:pt x="221" y="728"/>
                  </a:lnTo>
                  <a:lnTo>
                    <a:pt x="197" y="677"/>
                  </a:lnTo>
                  <a:lnTo>
                    <a:pt x="234" y="646"/>
                  </a:lnTo>
                  <a:lnTo>
                    <a:pt x="70" y="309"/>
                  </a:lnTo>
                  <a:lnTo>
                    <a:pt x="28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01520" y="4025880"/>
              <a:ext cx="217080" cy="208440"/>
            </a:xfrm>
            <a:custGeom>
              <a:avLst/>
              <a:gdLst/>
              <a:ahLst/>
              <a:rect l="l" t="t" r="r" b="b"/>
              <a:pathLst>
                <a:path w="448" h="440">
                  <a:moveTo>
                    <a:pt x="0" y="139"/>
                  </a:moveTo>
                  <a:lnTo>
                    <a:pt x="43" y="109"/>
                  </a:lnTo>
                  <a:lnTo>
                    <a:pt x="111" y="237"/>
                  </a:lnTo>
                  <a:lnTo>
                    <a:pt x="196" y="198"/>
                  </a:lnTo>
                  <a:lnTo>
                    <a:pt x="149" y="95"/>
                  </a:lnTo>
                  <a:lnTo>
                    <a:pt x="202" y="69"/>
                  </a:lnTo>
                  <a:lnTo>
                    <a:pt x="253" y="158"/>
                  </a:lnTo>
                  <a:lnTo>
                    <a:pt x="312" y="141"/>
                  </a:lnTo>
                  <a:lnTo>
                    <a:pt x="253" y="25"/>
                  </a:lnTo>
                  <a:lnTo>
                    <a:pt x="310" y="0"/>
                  </a:lnTo>
                  <a:lnTo>
                    <a:pt x="448" y="275"/>
                  </a:lnTo>
                  <a:lnTo>
                    <a:pt x="402" y="307"/>
                  </a:lnTo>
                  <a:lnTo>
                    <a:pt x="341" y="209"/>
                  </a:lnTo>
                  <a:lnTo>
                    <a:pt x="283" y="228"/>
                  </a:lnTo>
                  <a:lnTo>
                    <a:pt x="330" y="321"/>
                  </a:lnTo>
                  <a:lnTo>
                    <a:pt x="290" y="351"/>
                  </a:lnTo>
                  <a:lnTo>
                    <a:pt x="222" y="268"/>
                  </a:lnTo>
                  <a:lnTo>
                    <a:pt x="153" y="291"/>
                  </a:lnTo>
                  <a:lnTo>
                    <a:pt x="197" y="400"/>
                  </a:lnTo>
                  <a:lnTo>
                    <a:pt x="190" y="432"/>
                  </a:lnTo>
                  <a:lnTo>
                    <a:pt x="151" y="4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0440" y="4163040"/>
              <a:ext cx="34920" cy="2988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1" y="24"/>
                  </a:moveTo>
                  <a:lnTo>
                    <a:pt x="0" y="48"/>
                  </a:lnTo>
                  <a:lnTo>
                    <a:pt x="39" y="65"/>
                  </a:lnTo>
                  <a:lnTo>
                    <a:pt x="69" y="20"/>
                  </a:lnTo>
                  <a:lnTo>
                    <a:pt x="49" y="5"/>
                  </a:lnTo>
                  <a:lnTo>
                    <a:pt x="31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82520" y="4239000"/>
              <a:ext cx="283320" cy="189360"/>
            </a:xfrm>
            <a:custGeom>
              <a:avLst/>
              <a:gdLst/>
              <a:ahLst/>
              <a:rect l="l" t="t" r="r" b="b"/>
              <a:pathLst>
                <a:path w="589" h="404">
                  <a:moveTo>
                    <a:pt x="0" y="376"/>
                  </a:moveTo>
                  <a:lnTo>
                    <a:pt x="4" y="341"/>
                  </a:lnTo>
                  <a:lnTo>
                    <a:pt x="208" y="176"/>
                  </a:lnTo>
                  <a:lnTo>
                    <a:pt x="417" y="7"/>
                  </a:lnTo>
                  <a:lnTo>
                    <a:pt x="427" y="2"/>
                  </a:lnTo>
                  <a:lnTo>
                    <a:pt x="440" y="0"/>
                  </a:lnTo>
                  <a:lnTo>
                    <a:pt x="447" y="1"/>
                  </a:lnTo>
                  <a:lnTo>
                    <a:pt x="454" y="3"/>
                  </a:lnTo>
                  <a:lnTo>
                    <a:pt x="462" y="7"/>
                  </a:lnTo>
                  <a:lnTo>
                    <a:pt x="468" y="13"/>
                  </a:lnTo>
                  <a:lnTo>
                    <a:pt x="536" y="98"/>
                  </a:lnTo>
                  <a:lnTo>
                    <a:pt x="589" y="166"/>
                  </a:lnTo>
                  <a:lnTo>
                    <a:pt x="404" y="229"/>
                  </a:lnTo>
                  <a:lnTo>
                    <a:pt x="388" y="235"/>
                  </a:lnTo>
                  <a:lnTo>
                    <a:pt x="377" y="245"/>
                  </a:lnTo>
                  <a:lnTo>
                    <a:pt x="370" y="256"/>
                  </a:lnTo>
                  <a:lnTo>
                    <a:pt x="363" y="272"/>
                  </a:lnTo>
                  <a:lnTo>
                    <a:pt x="355" y="291"/>
                  </a:lnTo>
                  <a:lnTo>
                    <a:pt x="342" y="314"/>
                  </a:lnTo>
                  <a:lnTo>
                    <a:pt x="333" y="327"/>
                  </a:lnTo>
                  <a:lnTo>
                    <a:pt x="321" y="341"/>
                  </a:lnTo>
                  <a:lnTo>
                    <a:pt x="307" y="354"/>
                  </a:lnTo>
                  <a:lnTo>
                    <a:pt x="290" y="367"/>
                  </a:lnTo>
                  <a:lnTo>
                    <a:pt x="259" y="390"/>
                  </a:lnTo>
                  <a:lnTo>
                    <a:pt x="245" y="397"/>
                  </a:lnTo>
                  <a:lnTo>
                    <a:pt x="234" y="402"/>
                  </a:lnTo>
                  <a:lnTo>
                    <a:pt x="224" y="404"/>
                  </a:lnTo>
                  <a:lnTo>
                    <a:pt x="215" y="404"/>
                  </a:lnTo>
                  <a:lnTo>
                    <a:pt x="205" y="401"/>
                  </a:lnTo>
                  <a:lnTo>
                    <a:pt x="194" y="395"/>
                  </a:lnTo>
                  <a:lnTo>
                    <a:pt x="174" y="381"/>
                  </a:lnTo>
                  <a:lnTo>
                    <a:pt x="160" y="368"/>
                  </a:lnTo>
                  <a:lnTo>
                    <a:pt x="149" y="356"/>
                  </a:lnTo>
                  <a:lnTo>
                    <a:pt x="181" y="299"/>
                  </a:lnTo>
                  <a:lnTo>
                    <a:pt x="184" y="304"/>
                  </a:lnTo>
                  <a:lnTo>
                    <a:pt x="194" y="316"/>
                  </a:lnTo>
                  <a:lnTo>
                    <a:pt x="208" y="329"/>
                  </a:lnTo>
                  <a:lnTo>
                    <a:pt x="215" y="334"/>
                  </a:lnTo>
                  <a:lnTo>
                    <a:pt x="224" y="336"/>
                  </a:lnTo>
                  <a:lnTo>
                    <a:pt x="241" y="336"/>
                  </a:lnTo>
                  <a:lnTo>
                    <a:pt x="256" y="333"/>
                  </a:lnTo>
                  <a:lnTo>
                    <a:pt x="271" y="326"/>
                  </a:lnTo>
                  <a:lnTo>
                    <a:pt x="281" y="317"/>
                  </a:lnTo>
                  <a:lnTo>
                    <a:pt x="287" y="305"/>
                  </a:lnTo>
                  <a:lnTo>
                    <a:pt x="292" y="289"/>
                  </a:lnTo>
                  <a:lnTo>
                    <a:pt x="296" y="271"/>
                  </a:lnTo>
                  <a:lnTo>
                    <a:pt x="302" y="253"/>
                  </a:lnTo>
                  <a:lnTo>
                    <a:pt x="306" y="236"/>
                  </a:lnTo>
                  <a:lnTo>
                    <a:pt x="312" y="220"/>
                  </a:lnTo>
                  <a:lnTo>
                    <a:pt x="316" y="212"/>
                  </a:lnTo>
                  <a:lnTo>
                    <a:pt x="323" y="204"/>
                  </a:lnTo>
                  <a:lnTo>
                    <a:pt x="333" y="198"/>
                  </a:lnTo>
                  <a:lnTo>
                    <a:pt x="347" y="192"/>
                  </a:lnTo>
                  <a:lnTo>
                    <a:pt x="435" y="159"/>
                  </a:lnTo>
                  <a:lnTo>
                    <a:pt x="491" y="136"/>
                  </a:lnTo>
                  <a:lnTo>
                    <a:pt x="441" y="71"/>
                  </a:lnTo>
                  <a:lnTo>
                    <a:pt x="41" y="400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52720" y="4420800"/>
              <a:ext cx="112320" cy="49680"/>
            </a:xfrm>
            <a:custGeom>
              <a:avLst/>
              <a:gdLst/>
              <a:ahLst/>
              <a:rect l="l" t="t" r="r" b="b"/>
              <a:pathLst>
                <a:path w="238" h="109">
                  <a:moveTo>
                    <a:pt x="0" y="50"/>
                  </a:moveTo>
                  <a:lnTo>
                    <a:pt x="27" y="49"/>
                  </a:lnTo>
                  <a:lnTo>
                    <a:pt x="56" y="46"/>
                  </a:lnTo>
                  <a:lnTo>
                    <a:pt x="90" y="43"/>
                  </a:lnTo>
                  <a:lnTo>
                    <a:pt x="125" y="38"/>
                  </a:lnTo>
                  <a:lnTo>
                    <a:pt x="158" y="29"/>
                  </a:lnTo>
                  <a:lnTo>
                    <a:pt x="172" y="22"/>
                  </a:lnTo>
                  <a:lnTo>
                    <a:pt x="186" y="15"/>
                  </a:lnTo>
                  <a:lnTo>
                    <a:pt x="196" y="8"/>
                  </a:lnTo>
                  <a:lnTo>
                    <a:pt x="203" y="0"/>
                  </a:lnTo>
                  <a:lnTo>
                    <a:pt x="218" y="21"/>
                  </a:lnTo>
                  <a:lnTo>
                    <a:pt x="229" y="38"/>
                  </a:lnTo>
                  <a:lnTo>
                    <a:pt x="238" y="54"/>
                  </a:lnTo>
                  <a:lnTo>
                    <a:pt x="212" y="77"/>
                  </a:lnTo>
                  <a:lnTo>
                    <a:pt x="2" y="10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60640" y="4356000"/>
              <a:ext cx="243720" cy="193680"/>
            </a:xfrm>
            <a:custGeom>
              <a:avLst/>
              <a:gdLst/>
              <a:ahLst/>
              <a:rect l="l" t="t" r="r" b="b"/>
              <a:pathLst>
                <a:path w="500" h="404">
                  <a:moveTo>
                    <a:pt x="37" y="274"/>
                  </a:moveTo>
                  <a:lnTo>
                    <a:pt x="50" y="285"/>
                  </a:lnTo>
                  <a:lnTo>
                    <a:pt x="74" y="306"/>
                  </a:lnTo>
                  <a:lnTo>
                    <a:pt x="79" y="309"/>
                  </a:lnTo>
                  <a:lnTo>
                    <a:pt x="86" y="311"/>
                  </a:lnTo>
                  <a:lnTo>
                    <a:pt x="94" y="309"/>
                  </a:lnTo>
                  <a:lnTo>
                    <a:pt x="103" y="307"/>
                  </a:lnTo>
                  <a:lnTo>
                    <a:pt x="119" y="298"/>
                  </a:lnTo>
                  <a:lnTo>
                    <a:pt x="136" y="287"/>
                  </a:lnTo>
                  <a:lnTo>
                    <a:pt x="171" y="261"/>
                  </a:lnTo>
                  <a:lnTo>
                    <a:pt x="230" y="215"/>
                  </a:lnTo>
                  <a:lnTo>
                    <a:pt x="309" y="153"/>
                  </a:lnTo>
                  <a:lnTo>
                    <a:pt x="222" y="43"/>
                  </a:lnTo>
                  <a:lnTo>
                    <a:pt x="264" y="0"/>
                  </a:lnTo>
                  <a:lnTo>
                    <a:pt x="372" y="126"/>
                  </a:lnTo>
                  <a:lnTo>
                    <a:pt x="449" y="217"/>
                  </a:lnTo>
                  <a:lnTo>
                    <a:pt x="489" y="265"/>
                  </a:lnTo>
                  <a:lnTo>
                    <a:pt x="497" y="277"/>
                  </a:lnTo>
                  <a:lnTo>
                    <a:pt x="500" y="292"/>
                  </a:lnTo>
                  <a:lnTo>
                    <a:pt x="500" y="305"/>
                  </a:lnTo>
                  <a:lnTo>
                    <a:pt x="497" y="317"/>
                  </a:lnTo>
                  <a:lnTo>
                    <a:pt x="488" y="333"/>
                  </a:lnTo>
                  <a:lnTo>
                    <a:pt x="485" y="336"/>
                  </a:lnTo>
                  <a:lnTo>
                    <a:pt x="451" y="323"/>
                  </a:lnTo>
                  <a:lnTo>
                    <a:pt x="350" y="208"/>
                  </a:lnTo>
                  <a:lnTo>
                    <a:pt x="251" y="291"/>
                  </a:lnTo>
                  <a:lnTo>
                    <a:pt x="178" y="352"/>
                  </a:lnTo>
                  <a:lnTo>
                    <a:pt x="130" y="388"/>
                  </a:lnTo>
                  <a:lnTo>
                    <a:pt x="120" y="395"/>
                  </a:lnTo>
                  <a:lnTo>
                    <a:pt x="109" y="399"/>
                  </a:lnTo>
                  <a:lnTo>
                    <a:pt x="99" y="403"/>
                  </a:lnTo>
                  <a:lnTo>
                    <a:pt x="89" y="404"/>
                  </a:lnTo>
                  <a:lnTo>
                    <a:pt x="79" y="404"/>
                  </a:lnTo>
                  <a:lnTo>
                    <a:pt x="70" y="401"/>
                  </a:lnTo>
                  <a:lnTo>
                    <a:pt x="63" y="396"/>
                  </a:lnTo>
                  <a:lnTo>
                    <a:pt x="56" y="391"/>
                  </a:lnTo>
                  <a:lnTo>
                    <a:pt x="22" y="353"/>
                  </a:lnTo>
                  <a:lnTo>
                    <a:pt x="0" y="329"/>
                  </a:lnTo>
                  <a:lnTo>
                    <a:pt x="37" y="2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61080" y="4493160"/>
              <a:ext cx="62280" cy="106920"/>
            </a:xfrm>
            <a:custGeom>
              <a:avLst/>
              <a:gdLst/>
              <a:ahLst/>
              <a:rect l="l" t="t" r="r" b="b"/>
              <a:pathLst>
                <a:path w="128" h="224">
                  <a:moveTo>
                    <a:pt x="71" y="0"/>
                  </a:moveTo>
                  <a:lnTo>
                    <a:pt x="0" y="204"/>
                  </a:lnTo>
                  <a:lnTo>
                    <a:pt x="66" y="224"/>
                  </a:lnTo>
                  <a:lnTo>
                    <a:pt x="128" y="2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6400" y="4330440"/>
              <a:ext cx="109080" cy="121320"/>
            </a:xfrm>
            <a:custGeom>
              <a:avLst/>
              <a:gdLst/>
              <a:ahLst/>
              <a:rect l="l" t="t" r="r" b="b"/>
              <a:pathLst>
                <a:path w="223" h="253">
                  <a:moveTo>
                    <a:pt x="0" y="45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223" y="210"/>
                  </a:lnTo>
                  <a:lnTo>
                    <a:pt x="221" y="235"/>
                  </a:lnTo>
                  <a:lnTo>
                    <a:pt x="188" y="253"/>
                  </a:lnTo>
                  <a:lnTo>
                    <a:pt x="155" y="24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1480" y="4808880"/>
              <a:ext cx="26280" cy="45360"/>
            </a:xfrm>
            <a:custGeom>
              <a:avLst/>
              <a:gdLst/>
              <a:ahLst/>
              <a:rect l="l" t="t" r="r" b="b"/>
              <a:pathLst>
                <a:path w="63" h="93">
                  <a:moveTo>
                    <a:pt x="0" y="2"/>
                  </a:moveTo>
                  <a:lnTo>
                    <a:pt x="7" y="85"/>
                  </a:lnTo>
                  <a:lnTo>
                    <a:pt x="61" y="93"/>
                  </a:lnTo>
                  <a:lnTo>
                    <a:pt x="6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63480" y="4744080"/>
              <a:ext cx="360720" cy="349920"/>
            </a:xfrm>
            <a:custGeom>
              <a:avLst/>
              <a:gdLst/>
              <a:ahLst/>
              <a:rect l="l" t="t" r="r" b="b"/>
              <a:pathLst>
                <a:path w="744" h="736">
                  <a:moveTo>
                    <a:pt x="262" y="221"/>
                  </a:moveTo>
                  <a:lnTo>
                    <a:pt x="328" y="270"/>
                  </a:lnTo>
                  <a:lnTo>
                    <a:pt x="332" y="266"/>
                  </a:lnTo>
                  <a:lnTo>
                    <a:pt x="365" y="208"/>
                  </a:lnTo>
                  <a:lnTo>
                    <a:pt x="385" y="170"/>
                  </a:lnTo>
                  <a:lnTo>
                    <a:pt x="391" y="156"/>
                  </a:lnTo>
                  <a:lnTo>
                    <a:pt x="393" y="145"/>
                  </a:lnTo>
                  <a:lnTo>
                    <a:pt x="393" y="132"/>
                  </a:lnTo>
                  <a:lnTo>
                    <a:pt x="391" y="121"/>
                  </a:lnTo>
                  <a:lnTo>
                    <a:pt x="373" y="109"/>
                  </a:lnTo>
                  <a:lnTo>
                    <a:pt x="357" y="101"/>
                  </a:lnTo>
                  <a:lnTo>
                    <a:pt x="343" y="96"/>
                  </a:lnTo>
                  <a:lnTo>
                    <a:pt x="317" y="136"/>
                  </a:lnTo>
                  <a:lnTo>
                    <a:pt x="261" y="221"/>
                  </a:lnTo>
                  <a:lnTo>
                    <a:pt x="262" y="221"/>
                  </a:lnTo>
                  <a:close/>
                  <a:moveTo>
                    <a:pt x="372" y="40"/>
                  </a:moveTo>
                  <a:lnTo>
                    <a:pt x="404" y="0"/>
                  </a:lnTo>
                  <a:lnTo>
                    <a:pt x="455" y="32"/>
                  </a:lnTo>
                  <a:lnTo>
                    <a:pt x="429" y="75"/>
                  </a:lnTo>
                  <a:lnTo>
                    <a:pt x="451" y="89"/>
                  </a:lnTo>
                  <a:lnTo>
                    <a:pt x="462" y="100"/>
                  </a:lnTo>
                  <a:lnTo>
                    <a:pt x="470" y="115"/>
                  </a:lnTo>
                  <a:lnTo>
                    <a:pt x="474" y="122"/>
                  </a:lnTo>
                  <a:lnTo>
                    <a:pt x="475" y="131"/>
                  </a:lnTo>
                  <a:lnTo>
                    <a:pt x="475" y="141"/>
                  </a:lnTo>
                  <a:lnTo>
                    <a:pt x="473" y="152"/>
                  </a:lnTo>
                  <a:lnTo>
                    <a:pt x="719" y="313"/>
                  </a:lnTo>
                  <a:lnTo>
                    <a:pt x="734" y="323"/>
                  </a:lnTo>
                  <a:lnTo>
                    <a:pt x="742" y="333"/>
                  </a:lnTo>
                  <a:lnTo>
                    <a:pt x="744" y="338"/>
                  </a:lnTo>
                  <a:lnTo>
                    <a:pt x="744" y="343"/>
                  </a:lnTo>
                  <a:lnTo>
                    <a:pt x="738" y="359"/>
                  </a:lnTo>
                  <a:lnTo>
                    <a:pt x="728" y="372"/>
                  </a:lnTo>
                  <a:lnTo>
                    <a:pt x="725" y="377"/>
                  </a:lnTo>
                  <a:lnTo>
                    <a:pt x="720" y="380"/>
                  </a:lnTo>
                  <a:lnTo>
                    <a:pt x="715" y="381"/>
                  </a:lnTo>
                  <a:lnTo>
                    <a:pt x="710" y="380"/>
                  </a:lnTo>
                  <a:lnTo>
                    <a:pt x="697" y="374"/>
                  </a:lnTo>
                  <a:lnTo>
                    <a:pt x="579" y="301"/>
                  </a:lnTo>
                  <a:lnTo>
                    <a:pt x="438" y="212"/>
                  </a:lnTo>
                  <a:lnTo>
                    <a:pt x="240" y="500"/>
                  </a:lnTo>
                  <a:lnTo>
                    <a:pt x="244" y="532"/>
                  </a:lnTo>
                  <a:lnTo>
                    <a:pt x="275" y="515"/>
                  </a:lnTo>
                  <a:lnTo>
                    <a:pt x="301" y="499"/>
                  </a:lnTo>
                  <a:lnTo>
                    <a:pt x="313" y="489"/>
                  </a:lnTo>
                  <a:lnTo>
                    <a:pt x="322" y="480"/>
                  </a:lnTo>
                  <a:lnTo>
                    <a:pt x="353" y="439"/>
                  </a:lnTo>
                  <a:lnTo>
                    <a:pt x="397" y="374"/>
                  </a:lnTo>
                  <a:lnTo>
                    <a:pt x="455" y="288"/>
                  </a:lnTo>
                  <a:lnTo>
                    <a:pt x="598" y="365"/>
                  </a:lnTo>
                  <a:lnTo>
                    <a:pt x="599" y="370"/>
                  </a:lnTo>
                  <a:lnTo>
                    <a:pt x="600" y="380"/>
                  </a:lnTo>
                  <a:lnTo>
                    <a:pt x="597" y="399"/>
                  </a:lnTo>
                  <a:lnTo>
                    <a:pt x="594" y="410"/>
                  </a:lnTo>
                  <a:lnTo>
                    <a:pt x="587" y="422"/>
                  </a:lnTo>
                  <a:lnTo>
                    <a:pt x="523" y="526"/>
                  </a:lnTo>
                  <a:lnTo>
                    <a:pt x="462" y="624"/>
                  </a:lnTo>
                  <a:lnTo>
                    <a:pt x="457" y="633"/>
                  </a:lnTo>
                  <a:lnTo>
                    <a:pt x="455" y="642"/>
                  </a:lnTo>
                  <a:lnTo>
                    <a:pt x="455" y="650"/>
                  </a:lnTo>
                  <a:lnTo>
                    <a:pt x="458" y="655"/>
                  </a:lnTo>
                  <a:lnTo>
                    <a:pt x="462" y="658"/>
                  </a:lnTo>
                  <a:lnTo>
                    <a:pt x="467" y="660"/>
                  </a:lnTo>
                  <a:lnTo>
                    <a:pt x="473" y="660"/>
                  </a:lnTo>
                  <a:lnTo>
                    <a:pt x="479" y="655"/>
                  </a:lnTo>
                  <a:lnTo>
                    <a:pt x="494" y="644"/>
                  </a:lnTo>
                  <a:lnTo>
                    <a:pt x="539" y="692"/>
                  </a:lnTo>
                  <a:lnTo>
                    <a:pt x="532" y="703"/>
                  </a:lnTo>
                  <a:lnTo>
                    <a:pt x="522" y="713"/>
                  </a:lnTo>
                  <a:lnTo>
                    <a:pt x="508" y="723"/>
                  </a:lnTo>
                  <a:lnTo>
                    <a:pt x="493" y="732"/>
                  </a:lnTo>
                  <a:lnTo>
                    <a:pt x="476" y="736"/>
                  </a:lnTo>
                  <a:lnTo>
                    <a:pt x="466" y="736"/>
                  </a:lnTo>
                  <a:lnTo>
                    <a:pt x="457" y="735"/>
                  </a:lnTo>
                  <a:lnTo>
                    <a:pt x="447" y="732"/>
                  </a:lnTo>
                  <a:lnTo>
                    <a:pt x="436" y="726"/>
                  </a:lnTo>
                  <a:lnTo>
                    <a:pt x="417" y="712"/>
                  </a:lnTo>
                  <a:lnTo>
                    <a:pt x="402" y="697"/>
                  </a:lnTo>
                  <a:lnTo>
                    <a:pt x="389" y="682"/>
                  </a:lnTo>
                  <a:lnTo>
                    <a:pt x="382" y="666"/>
                  </a:lnTo>
                  <a:lnTo>
                    <a:pt x="377" y="648"/>
                  </a:lnTo>
                  <a:lnTo>
                    <a:pt x="378" y="631"/>
                  </a:lnTo>
                  <a:lnTo>
                    <a:pt x="384" y="613"/>
                  </a:lnTo>
                  <a:lnTo>
                    <a:pt x="395" y="594"/>
                  </a:lnTo>
                  <a:lnTo>
                    <a:pt x="516" y="420"/>
                  </a:lnTo>
                  <a:lnTo>
                    <a:pt x="520" y="411"/>
                  </a:lnTo>
                  <a:lnTo>
                    <a:pt x="522" y="402"/>
                  </a:lnTo>
                  <a:lnTo>
                    <a:pt x="517" y="395"/>
                  </a:lnTo>
                  <a:lnTo>
                    <a:pt x="509" y="389"/>
                  </a:lnTo>
                  <a:lnTo>
                    <a:pt x="500" y="381"/>
                  </a:lnTo>
                  <a:lnTo>
                    <a:pt x="492" y="375"/>
                  </a:lnTo>
                  <a:lnTo>
                    <a:pt x="488" y="374"/>
                  </a:lnTo>
                  <a:lnTo>
                    <a:pt x="484" y="375"/>
                  </a:lnTo>
                  <a:lnTo>
                    <a:pt x="478" y="379"/>
                  </a:lnTo>
                  <a:lnTo>
                    <a:pt x="473" y="384"/>
                  </a:lnTo>
                  <a:lnTo>
                    <a:pt x="455" y="410"/>
                  </a:lnTo>
                  <a:lnTo>
                    <a:pt x="426" y="454"/>
                  </a:lnTo>
                  <a:lnTo>
                    <a:pt x="407" y="479"/>
                  </a:lnTo>
                  <a:lnTo>
                    <a:pt x="387" y="503"/>
                  </a:lnTo>
                  <a:lnTo>
                    <a:pt x="365" y="526"/>
                  </a:lnTo>
                  <a:lnTo>
                    <a:pt x="341" y="546"/>
                  </a:lnTo>
                  <a:lnTo>
                    <a:pt x="301" y="576"/>
                  </a:lnTo>
                  <a:lnTo>
                    <a:pt x="276" y="597"/>
                  </a:lnTo>
                  <a:lnTo>
                    <a:pt x="265" y="609"/>
                  </a:lnTo>
                  <a:lnTo>
                    <a:pt x="263" y="612"/>
                  </a:lnTo>
                  <a:lnTo>
                    <a:pt x="231" y="596"/>
                  </a:lnTo>
                  <a:lnTo>
                    <a:pt x="211" y="545"/>
                  </a:lnTo>
                  <a:lnTo>
                    <a:pt x="185" y="551"/>
                  </a:lnTo>
                  <a:lnTo>
                    <a:pt x="127" y="525"/>
                  </a:lnTo>
                  <a:lnTo>
                    <a:pt x="132" y="468"/>
                  </a:lnTo>
                  <a:lnTo>
                    <a:pt x="187" y="465"/>
                  </a:lnTo>
                  <a:lnTo>
                    <a:pt x="223" y="422"/>
                  </a:lnTo>
                  <a:lnTo>
                    <a:pt x="257" y="375"/>
                  </a:lnTo>
                  <a:lnTo>
                    <a:pt x="296" y="321"/>
                  </a:lnTo>
                  <a:lnTo>
                    <a:pt x="267" y="297"/>
                  </a:lnTo>
                  <a:lnTo>
                    <a:pt x="228" y="269"/>
                  </a:lnTo>
                  <a:lnTo>
                    <a:pt x="215" y="288"/>
                  </a:lnTo>
                  <a:lnTo>
                    <a:pt x="174" y="340"/>
                  </a:lnTo>
                  <a:lnTo>
                    <a:pt x="131" y="389"/>
                  </a:lnTo>
                  <a:lnTo>
                    <a:pt x="86" y="432"/>
                  </a:lnTo>
                  <a:lnTo>
                    <a:pt x="43" y="470"/>
                  </a:lnTo>
                  <a:lnTo>
                    <a:pt x="23" y="444"/>
                  </a:lnTo>
                  <a:lnTo>
                    <a:pt x="10" y="426"/>
                  </a:lnTo>
                  <a:lnTo>
                    <a:pt x="0" y="411"/>
                  </a:lnTo>
                  <a:lnTo>
                    <a:pt x="16" y="400"/>
                  </a:lnTo>
                  <a:lnTo>
                    <a:pt x="59" y="367"/>
                  </a:lnTo>
                  <a:lnTo>
                    <a:pt x="85" y="342"/>
                  </a:lnTo>
                  <a:lnTo>
                    <a:pt x="116" y="312"/>
                  </a:lnTo>
                  <a:lnTo>
                    <a:pt x="147" y="278"/>
                  </a:lnTo>
                  <a:lnTo>
                    <a:pt x="180" y="239"/>
                  </a:lnTo>
                  <a:lnTo>
                    <a:pt x="174" y="234"/>
                  </a:lnTo>
                  <a:lnTo>
                    <a:pt x="152" y="224"/>
                  </a:lnTo>
                  <a:lnTo>
                    <a:pt x="144" y="220"/>
                  </a:lnTo>
                  <a:lnTo>
                    <a:pt x="139" y="217"/>
                  </a:lnTo>
                  <a:lnTo>
                    <a:pt x="136" y="211"/>
                  </a:lnTo>
                  <a:lnTo>
                    <a:pt x="136" y="206"/>
                  </a:lnTo>
                  <a:lnTo>
                    <a:pt x="139" y="198"/>
                  </a:lnTo>
                  <a:lnTo>
                    <a:pt x="144" y="187"/>
                  </a:lnTo>
                  <a:lnTo>
                    <a:pt x="154" y="169"/>
                  </a:lnTo>
                  <a:lnTo>
                    <a:pt x="161" y="160"/>
                  </a:lnTo>
                  <a:lnTo>
                    <a:pt x="164" y="159"/>
                  </a:lnTo>
                  <a:lnTo>
                    <a:pt x="167" y="160"/>
                  </a:lnTo>
                  <a:lnTo>
                    <a:pt x="179" y="165"/>
                  </a:lnTo>
                  <a:lnTo>
                    <a:pt x="215" y="189"/>
                  </a:lnTo>
                  <a:lnTo>
                    <a:pt x="244" y="139"/>
                  </a:lnTo>
                  <a:lnTo>
                    <a:pt x="303" y="31"/>
                  </a:lnTo>
                  <a:lnTo>
                    <a:pt x="315" y="7"/>
                  </a:lnTo>
                  <a:lnTo>
                    <a:pt x="37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7120" y="4808880"/>
              <a:ext cx="31320" cy="3780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45" y="0"/>
                  </a:moveTo>
                  <a:lnTo>
                    <a:pt x="68" y="19"/>
                  </a:lnTo>
                  <a:lnTo>
                    <a:pt x="66" y="29"/>
                  </a:lnTo>
                  <a:lnTo>
                    <a:pt x="61" y="47"/>
                  </a:lnTo>
                  <a:lnTo>
                    <a:pt x="55" y="59"/>
                  </a:lnTo>
                  <a:lnTo>
                    <a:pt x="45" y="70"/>
                  </a:lnTo>
                  <a:lnTo>
                    <a:pt x="34" y="82"/>
                  </a:lnTo>
                  <a:lnTo>
                    <a:pt x="0" y="5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49160" y="4889160"/>
              <a:ext cx="38520" cy="4536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37" y="0"/>
                  </a:moveTo>
                  <a:lnTo>
                    <a:pt x="78" y="5"/>
                  </a:lnTo>
                  <a:lnTo>
                    <a:pt x="61" y="92"/>
                  </a:lnTo>
                  <a:lnTo>
                    <a:pt x="0" y="9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2480" y="4926960"/>
              <a:ext cx="162720" cy="201600"/>
            </a:xfrm>
            <a:custGeom>
              <a:avLst/>
              <a:gdLst/>
              <a:ahLst/>
              <a:rect l="l" t="t" r="r" b="b"/>
              <a:pathLst>
                <a:path w="343" h="421">
                  <a:moveTo>
                    <a:pt x="317" y="67"/>
                  </a:moveTo>
                  <a:lnTo>
                    <a:pt x="267" y="0"/>
                  </a:lnTo>
                  <a:lnTo>
                    <a:pt x="255" y="14"/>
                  </a:lnTo>
                  <a:lnTo>
                    <a:pt x="225" y="46"/>
                  </a:lnTo>
                  <a:lnTo>
                    <a:pt x="207" y="64"/>
                  </a:lnTo>
                  <a:lnTo>
                    <a:pt x="190" y="81"/>
                  </a:lnTo>
                  <a:lnTo>
                    <a:pt x="173" y="94"/>
                  </a:lnTo>
                  <a:lnTo>
                    <a:pt x="157" y="102"/>
                  </a:lnTo>
                  <a:lnTo>
                    <a:pt x="120" y="113"/>
                  </a:lnTo>
                  <a:lnTo>
                    <a:pt x="107" y="116"/>
                  </a:lnTo>
                  <a:lnTo>
                    <a:pt x="73" y="138"/>
                  </a:lnTo>
                  <a:lnTo>
                    <a:pt x="75" y="199"/>
                  </a:lnTo>
                  <a:lnTo>
                    <a:pt x="161" y="233"/>
                  </a:lnTo>
                  <a:lnTo>
                    <a:pt x="154" y="238"/>
                  </a:lnTo>
                  <a:lnTo>
                    <a:pt x="139" y="253"/>
                  </a:lnTo>
                  <a:lnTo>
                    <a:pt x="127" y="260"/>
                  </a:lnTo>
                  <a:lnTo>
                    <a:pt x="114" y="268"/>
                  </a:lnTo>
                  <a:lnTo>
                    <a:pt x="99" y="275"/>
                  </a:lnTo>
                  <a:lnTo>
                    <a:pt x="82" y="280"/>
                  </a:lnTo>
                  <a:lnTo>
                    <a:pt x="54" y="286"/>
                  </a:lnTo>
                  <a:lnTo>
                    <a:pt x="34" y="291"/>
                  </a:lnTo>
                  <a:lnTo>
                    <a:pt x="28" y="296"/>
                  </a:lnTo>
                  <a:lnTo>
                    <a:pt x="21" y="301"/>
                  </a:lnTo>
                  <a:lnTo>
                    <a:pt x="15" y="308"/>
                  </a:lnTo>
                  <a:lnTo>
                    <a:pt x="9" y="318"/>
                  </a:lnTo>
                  <a:lnTo>
                    <a:pt x="1" y="337"/>
                  </a:lnTo>
                  <a:lnTo>
                    <a:pt x="0" y="344"/>
                  </a:lnTo>
                  <a:lnTo>
                    <a:pt x="1" y="349"/>
                  </a:lnTo>
                  <a:lnTo>
                    <a:pt x="4" y="354"/>
                  </a:lnTo>
                  <a:lnTo>
                    <a:pt x="9" y="359"/>
                  </a:lnTo>
                  <a:lnTo>
                    <a:pt x="23" y="369"/>
                  </a:lnTo>
                  <a:lnTo>
                    <a:pt x="50" y="384"/>
                  </a:lnTo>
                  <a:lnTo>
                    <a:pt x="90" y="399"/>
                  </a:lnTo>
                  <a:lnTo>
                    <a:pt x="131" y="414"/>
                  </a:lnTo>
                  <a:lnTo>
                    <a:pt x="163" y="421"/>
                  </a:lnTo>
                  <a:lnTo>
                    <a:pt x="175" y="421"/>
                  </a:lnTo>
                  <a:lnTo>
                    <a:pt x="189" y="420"/>
                  </a:lnTo>
                  <a:lnTo>
                    <a:pt x="201" y="416"/>
                  </a:lnTo>
                  <a:lnTo>
                    <a:pt x="212" y="410"/>
                  </a:lnTo>
                  <a:lnTo>
                    <a:pt x="220" y="405"/>
                  </a:lnTo>
                  <a:lnTo>
                    <a:pt x="223" y="397"/>
                  </a:lnTo>
                  <a:lnTo>
                    <a:pt x="223" y="394"/>
                  </a:lnTo>
                  <a:lnTo>
                    <a:pt x="221" y="390"/>
                  </a:lnTo>
                  <a:lnTo>
                    <a:pt x="213" y="382"/>
                  </a:lnTo>
                  <a:lnTo>
                    <a:pt x="174" y="361"/>
                  </a:lnTo>
                  <a:lnTo>
                    <a:pt x="146" y="348"/>
                  </a:lnTo>
                  <a:lnTo>
                    <a:pt x="140" y="345"/>
                  </a:lnTo>
                  <a:lnTo>
                    <a:pt x="134" y="340"/>
                  </a:lnTo>
                  <a:lnTo>
                    <a:pt x="131" y="336"/>
                  </a:lnTo>
                  <a:lnTo>
                    <a:pt x="129" y="329"/>
                  </a:lnTo>
                  <a:lnTo>
                    <a:pt x="129" y="324"/>
                  </a:lnTo>
                  <a:lnTo>
                    <a:pt x="132" y="318"/>
                  </a:lnTo>
                  <a:lnTo>
                    <a:pt x="137" y="314"/>
                  </a:lnTo>
                  <a:lnTo>
                    <a:pt x="146" y="309"/>
                  </a:lnTo>
                  <a:lnTo>
                    <a:pt x="163" y="301"/>
                  </a:lnTo>
                  <a:lnTo>
                    <a:pt x="189" y="288"/>
                  </a:lnTo>
                  <a:lnTo>
                    <a:pt x="255" y="249"/>
                  </a:lnTo>
                  <a:lnTo>
                    <a:pt x="343" y="195"/>
                  </a:lnTo>
                  <a:lnTo>
                    <a:pt x="304" y="145"/>
                  </a:lnTo>
                  <a:lnTo>
                    <a:pt x="213" y="199"/>
                  </a:lnTo>
                  <a:lnTo>
                    <a:pt x="155" y="158"/>
                  </a:lnTo>
                  <a:lnTo>
                    <a:pt x="31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01520" y="5121000"/>
              <a:ext cx="104400" cy="53280"/>
            </a:xfrm>
            <a:custGeom>
              <a:avLst/>
              <a:gdLst/>
              <a:ahLst/>
              <a:rect l="l" t="t" r="r" b="b"/>
              <a:pathLst>
                <a:path w="218" h="112">
                  <a:moveTo>
                    <a:pt x="2" y="0"/>
                  </a:moveTo>
                  <a:lnTo>
                    <a:pt x="53" y="22"/>
                  </a:lnTo>
                  <a:lnTo>
                    <a:pt x="97" y="39"/>
                  </a:lnTo>
                  <a:lnTo>
                    <a:pt x="119" y="46"/>
                  </a:lnTo>
                  <a:lnTo>
                    <a:pt x="136" y="50"/>
                  </a:lnTo>
                  <a:lnTo>
                    <a:pt x="167" y="53"/>
                  </a:lnTo>
                  <a:lnTo>
                    <a:pt x="194" y="52"/>
                  </a:lnTo>
                  <a:lnTo>
                    <a:pt x="218" y="50"/>
                  </a:lnTo>
                  <a:lnTo>
                    <a:pt x="212" y="112"/>
                  </a:lnTo>
                  <a:lnTo>
                    <a:pt x="186" y="111"/>
                  </a:lnTo>
                  <a:lnTo>
                    <a:pt x="147" y="108"/>
                  </a:lnTo>
                  <a:lnTo>
                    <a:pt x="129" y="105"/>
                  </a:lnTo>
                  <a:lnTo>
                    <a:pt x="114" y="100"/>
                  </a:lnTo>
                  <a:lnTo>
                    <a:pt x="91" y="93"/>
                  </a:lnTo>
                  <a:lnTo>
                    <a:pt x="65" y="89"/>
                  </a:lnTo>
                  <a:lnTo>
                    <a:pt x="22" y="85"/>
                  </a:lnTo>
                  <a:lnTo>
                    <a:pt x="4" y="81"/>
                  </a:lnTo>
                  <a:lnTo>
                    <a:pt x="0" y="8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75320" y="4972680"/>
              <a:ext cx="270720" cy="307800"/>
            </a:xfrm>
            <a:custGeom>
              <a:avLst/>
              <a:gdLst/>
              <a:ahLst/>
              <a:rect l="l" t="t" r="r" b="b"/>
              <a:pathLst>
                <a:path w="564" h="648">
                  <a:moveTo>
                    <a:pt x="298" y="175"/>
                  </a:moveTo>
                  <a:lnTo>
                    <a:pt x="434" y="231"/>
                  </a:lnTo>
                  <a:lnTo>
                    <a:pt x="473" y="134"/>
                  </a:lnTo>
                  <a:lnTo>
                    <a:pt x="344" y="80"/>
                  </a:lnTo>
                  <a:lnTo>
                    <a:pt x="298" y="175"/>
                  </a:lnTo>
                  <a:close/>
                  <a:moveTo>
                    <a:pt x="227" y="326"/>
                  </a:moveTo>
                  <a:lnTo>
                    <a:pt x="351" y="382"/>
                  </a:lnTo>
                  <a:lnTo>
                    <a:pt x="404" y="279"/>
                  </a:lnTo>
                  <a:lnTo>
                    <a:pt x="275" y="233"/>
                  </a:lnTo>
                  <a:lnTo>
                    <a:pt x="227" y="326"/>
                  </a:lnTo>
                  <a:close/>
                  <a:moveTo>
                    <a:pt x="198" y="384"/>
                  </a:moveTo>
                  <a:lnTo>
                    <a:pt x="162" y="471"/>
                  </a:lnTo>
                  <a:lnTo>
                    <a:pt x="183" y="493"/>
                  </a:lnTo>
                  <a:lnTo>
                    <a:pt x="204" y="511"/>
                  </a:lnTo>
                  <a:lnTo>
                    <a:pt x="215" y="519"/>
                  </a:lnTo>
                  <a:lnTo>
                    <a:pt x="225" y="525"/>
                  </a:lnTo>
                  <a:lnTo>
                    <a:pt x="246" y="533"/>
                  </a:lnTo>
                  <a:lnTo>
                    <a:pt x="265" y="536"/>
                  </a:lnTo>
                  <a:lnTo>
                    <a:pt x="285" y="536"/>
                  </a:lnTo>
                  <a:lnTo>
                    <a:pt x="333" y="443"/>
                  </a:lnTo>
                  <a:lnTo>
                    <a:pt x="198" y="384"/>
                  </a:lnTo>
                  <a:close/>
                  <a:moveTo>
                    <a:pt x="0" y="482"/>
                  </a:moveTo>
                  <a:lnTo>
                    <a:pt x="31" y="427"/>
                  </a:lnTo>
                  <a:lnTo>
                    <a:pt x="100" y="461"/>
                  </a:lnTo>
                  <a:lnTo>
                    <a:pt x="308" y="0"/>
                  </a:lnTo>
                  <a:lnTo>
                    <a:pt x="564" y="112"/>
                  </a:lnTo>
                  <a:lnTo>
                    <a:pt x="339" y="579"/>
                  </a:lnTo>
                  <a:lnTo>
                    <a:pt x="376" y="598"/>
                  </a:lnTo>
                  <a:lnTo>
                    <a:pt x="383" y="603"/>
                  </a:lnTo>
                  <a:lnTo>
                    <a:pt x="387" y="607"/>
                  </a:lnTo>
                  <a:lnTo>
                    <a:pt x="389" y="612"/>
                  </a:lnTo>
                  <a:lnTo>
                    <a:pt x="391" y="616"/>
                  </a:lnTo>
                  <a:lnTo>
                    <a:pt x="388" y="626"/>
                  </a:lnTo>
                  <a:lnTo>
                    <a:pt x="383" y="635"/>
                  </a:lnTo>
                  <a:lnTo>
                    <a:pt x="375" y="643"/>
                  </a:lnTo>
                  <a:lnTo>
                    <a:pt x="363" y="647"/>
                  </a:lnTo>
                  <a:lnTo>
                    <a:pt x="348" y="648"/>
                  </a:lnTo>
                  <a:lnTo>
                    <a:pt x="331" y="644"/>
                  </a:lnTo>
                  <a:lnTo>
                    <a:pt x="268" y="615"/>
                  </a:lnTo>
                  <a:lnTo>
                    <a:pt x="155" y="559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1680" y="5051880"/>
              <a:ext cx="147600" cy="201600"/>
            </a:xfrm>
            <a:custGeom>
              <a:avLst/>
              <a:gdLst/>
              <a:ahLst/>
              <a:rect l="l" t="t" r="r" b="b"/>
              <a:pathLst>
                <a:path w="310" h="426">
                  <a:moveTo>
                    <a:pt x="185" y="0"/>
                  </a:moveTo>
                  <a:lnTo>
                    <a:pt x="161" y="55"/>
                  </a:lnTo>
                  <a:lnTo>
                    <a:pt x="132" y="117"/>
                  </a:lnTo>
                  <a:lnTo>
                    <a:pt x="128" y="121"/>
                  </a:lnTo>
                  <a:lnTo>
                    <a:pt x="120" y="128"/>
                  </a:lnTo>
                  <a:lnTo>
                    <a:pt x="99" y="140"/>
                  </a:lnTo>
                  <a:lnTo>
                    <a:pt x="57" y="163"/>
                  </a:lnTo>
                  <a:lnTo>
                    <a:pt x="44" y="170"/>
                  </a:lnTo>
                  <a:lnTo>
                    <a:pt x="31" y="180"/>
                  </a:lnTo>
                  <a:lnTo>
                    <a:pt x="27" y="186"/>
                  </a:lnTo>
                  <a:lnTo>
                    <a:pt x="24" y="192"/>
                  </a:lnTo>
                  <a:lnTo>
                    <a:pt x="21" y="199"/>
                  </a:lnTo>
                  <a:lnTo>
                    <a:pt x="23" y="206"/>
                  </a:lnTo>
                  <a:lnTo>
                    <a:pt x="33" y="237"/>
                  </a:lnTo>
                  <a:lnTo>
                    <a:pt x="38" y="251"/>
                  </a:lnTo>
                  <a:lnTo>
                    <a:pt x="120" y="249"/>
                  </a:lnTo>
                  <a:lnTo>
                    <a:pt x="135" y="251"/>
                  </a:lnTo>
                  <a:lnTo>
                    <a:pt x="139" y="254"/>
                  </a:lnTo>
                  <a:lnTo>
                    <a:pt x="141" y="257"/>
                  </a:lnTo>
                  <a:lnTo>
                    <a:pt x="142" y="260"/>
                  </a:lnTo>
                  <a:lnTo>
                    <a:pt x="141" y="265"/>
                  </a:lnTo>
                  <a:lnTo>
                    <a:pt x="135" y="277"/>
                  </a:lnTo>
                  <a:lnTo>
                    <a:pt x="127" y="285"/>
                  </a:lnTo>
                  <a:lnTo>
                    <a:pt x="115" y="292"/>
                  </a:lnTo>
                  <a:lnTo>
                    <a:pt x="84" y="309"/>
                  </a:lnTo>
                  <a:lnTo>
                    <a:pt x="51" y="323"/>
                  </a:lnTo>
                  <a:lnTo>
                    <a:pt x="29" y="332"/>
                  </a:lnTo>
                  <a:lnTo>
                    <a:pt x="16" y="338"/>
                  </a:lnTo>
                  <a:lnTo>
                    <a:pt x="10" y="341"/>
                  </a:lnTo>
                  <a:lnTo>
                    <a:pt x="6" y="346"/>
                  </a:lnTo>
                  <a:lnTo>
                    <a:pt x="3" y="352"/>
                  </a:lnTo>
                  <a:lnTo>
                    <a:pt x="0" y="360"/>
                  </a:lnTo>
                  <a:lnTo>
                    <a:pt x="1" y="370"/>
                  </a:lnTo>
                  <a:lnTo>
                    <a:pt x="5" y="382"/>
                  </a:lnTo>
                  <a:lnTo>
                    <a:pt x="13" y="402"/>
                  </a:lnTo>
                  <a:lnTo>
                    <a:pt x="16" y="407"/>
                  </a:lnTo>
                  <a:lnTo>
                    <a:pt x="21" y="410"/>
                  </a:lnTo>
                  <a:lnTo>
                    <a:pt x="39" y="412"/>
                  </a:lnTo>
                  <a:lnTo>
                    <a:pt x="68" y="413"/>
                  </a:lnTo>
                  <a:lnTo>
                    <a:pt x="171" y="421"/>
                  </a:lnTo>
                  <a:lnTo>
                    <a:pt x="237" y="426"/>
                  </a:lnTo>
                  <a:lnTo>
                    <a:pt x="239" y="376"/>
                  </a:lnTo>
                  <a:lnTo>
                    <a:pt x="211" y="372"/>
                  </a:lnTo>
                  <a:lnTo>
                    <a:pt x="187" y="369"/>
                  </a:lnTo>
                  <a:lnTo>
                    <a:pt x="164" y="363"/>
                  </a:lnTo>
                  <a:lnTo>
                    <a:pt x="148" y="358"/>
                  </a:lnTo>
                  <a:lnTo>
                    <a:pt x="141" y="356"/>
                  </a:lnTo>
                  <a:lnTo>
                    <a:pt x="138" y="351"/>
                  </a:lnTo>
                  <a:lnTo>
                    <a:pt x="137" y="347"/>
                  </a:lnTo>
                  <a:lnTo>
                    <a:pt x="139" y="341"/>
                  </a:lnTo>
                  <a:lnTo>
                    <a:pt x="145" y="335"/>
                  </a:lnTo>
                  <a:lnTo>
                    <a:pt x="155" y="327"/>
                  </a:lnTo>
                  <a:lnTo>
                    <a:pt x="187" y="302"/>
                  </a:lnTo>
                  <a:lnTo>
                    <a:pt x="228" y="268"/>
                  </a:lnTo>
                  <a:lnTo>
                    <a:pt x="290" y="214"/>
                  </a:lnTo>
                  <a:lnTo>
                    <a:pt x="307" y="196"/>
                  </a:lnTo>
                  <a:lnTo>
                    <a:pt x="310" y="190"/>
                  </a:lnTo>
                  <a:lnTo>
                    <a:pt x="308" y="184"/>
                  </a:lnTo>
                  <a:lnTo>
                    <a:pt x="297" y="169"/>
                  </a:lnTo>
                  <a:lnTo>
                    <a:pt x="289" y="160"/>
                  </a:lnTo>
                  <a:lnTo>
                    <a:pt x="279" y="153"/>
                  </a:lnTo>
                  <a:lnTo>
                    <a:pt x="266" y="146"/>
                  </a:lnTo>
                  <a:lnTo>
                    <a:pt x="251" y="140"/>
                  </a:lnTo>
                  <a:lnTo>
                    <a:pt x="236" y="166"/>
                  </a:lnTo>
                  <a:lnTo>
                    <a:pt x="226" y="186"/>
                  </a:lnTo>
                  <a:lnTo>
                    <a:pt x="219" y="204"/>
                  </a:lnTo>
                  <a:lnTo>
                    <a:pt x="213" y="206"/>
                  </a:lnTo>
                  <a:lnTo>
                    <a:pt x="198" y="208"/>
                  </a:lnTo>
                  <a:lnTo>
                    <a:pt x="188" y="208"/>
                  </a:lnTo>
                  <a:lnTo>
                    <a:pt x="177" y="208"/>
                  </a:lnTo>
                  <a:lnTo>
                    <a:pt x="165" y="205"/>
                  </a:lnTo>
                  <a:lnTo>
                    <a:pt x="152" y="199"/>
                  </a:lnTo>
                  <a:lnTo>
                    <a:pt x="142" y="192"/>
                  </a:lnTo>
                  <a:lnTo>
                    <a:pt x="137" y="186"/>
                  </a:lnTo>
                  <a:lnTo>
                    <a:pt x="134" y="180"/>
                  </a:lnTo>
                  <a:lnTo>
                    <a:pt x="134" y="175"/>
                  </a:lnTo>
                  <a:lnTo>
                    <a:pt x="136" y="169"/>
                  </a:lnTo>
                  <a:lnTo>
                    <a:pt x="140" y="164"/>
                  </a:lnTo>
                  <a:lnTo>
                    <a:pt x="152" y="154"/>
                  </a:lnTo>
                  <a:lnTo>
                    <a:pt x="213" y="101"/>
                  </a:lnTo>
                  <a:lnTo>
                    <a:pt x="260" y="59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13800" y="5090760"/>
              <a:ext cx="170640" cy="173880"/>
            </a:xfrm>
            <a:custGeom>
              <a:avLst/>
              <a:gdLst/>
              <a:ahLst/>
              <a:rect l="l" t="t" r="r" b="b"/>
              <a:pathLst>
                <a:path w="347" h="368">
                  <a:moveTo>
                    <a:pt x="125" y="78"/>
                  </a:moveTo>
                  <a:lnTo>
                    <a:pt x="85" y="270"/>
                  </a:lnTo>
                  <a:lnTo>
                    <a:pt x="222" y="306"/>
                  </a:lnTo>
                  <a:lnTo>
                    <a:pt x="261" y="110"/>
                  </a:lnTo>
                  <a:lnTo>
                    <a:pt x="125" y="78"/>
                  </a:lnTo>
                  <a:close/>
                  <a:moveTo>
                    <a:pt x="82" y="0"/>
                  </a:moveTo>
                  <a:lnTo>
                    <a:pt x="347" y="64"/>
                  </a:lnTo>
                  <a:lnTo>
                    <a:pt x="263" y="368"/>
                  </a:lnTo>
                  <a:lnTo>
                    <a:pt x="0" y="31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8160" y="5280480"/>
              <a:ext cx="69480" cy="94680"/>
            </a:xfrm>
            <a:custGeom>
              <a:avLst/>
              <a:gdLst/>
              <a:ahLst/>
              <a:rect l="l" t="t" r="r" b="b"/>
              <a:pathLst>
                <a:path w="142" h="201">
                  <a:moveTo>
                    <a:pt x="0" y="22"/>
                  </a:moveTo>
                  <a:lnTo>
                    <a:pt x="73" y="0"/>
                  </a:lnTo>
                  <a:lnTo>
                    <a:pt x="142" y="167"/>
                  </a:lnTo>
                  <a:lnTo>
                    <a:pt x="69" y="20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62240" y="5269320"/>
              <a:ext cx="193320" cy="83520"/>
            </a:xfrm>
            <a:custGeom>
              <a:avLst/>
              <a:gdLst/>
              <a:ahLst/>
              <a:rect l="l" t="t" r="r" b="b"/>
              <a:pathLst>
                <a:path w="407" h="177">
                  <a:moveTo>
                    <a:pt x="407" y="52"/>
                  </a:moveTo>
                  <a:lnTo>
                    <a:pt x="244" y="177"/>
                  </a:lnTo>
                  <a:lnTo>
                    <a:pt x="200" y="125"/>
                  </a:lnTo>
                  <a:lnTo>
                    <a:pt x="219" y="106"/>
                  </a:lnTo>
                  <a:lnTo>
                    <a:pt x="226" y="97"/>
                  </a:lnTo>
                  <a:lnTo>
                    <a:pt x="227" y="93"/>
                  </a:lnTo>
                  <a:lnTo>
                    <a:pt x="226" y="89"/>
                  </a:lnTo>
                  <a:lnTo>
                    <a:pt x="223" y="85"/>
                  </a:lnTo>
                  <a:lnTo>
                    <a:pt x="219" y="82"/>
                  </a:lnTo>
                  <a:lnTo>
                    <a:pt x="213" y="80"/>
                  </a:lnTo>
                  <a:lnTo>
                    <a:pt x="205" y="80"/>
                  </a:lnTo>
                  <a:lnTo>
                    <a:pt x="0" y="86"/>
                  </a:lnTo>
                  <a:lnTo>
                    <a:pt x="0" y="6"/>
                  </a:lnTo>
                  <a:lnTo>
                    <a:pt x="79" y="20"/>
                  </a:lnTo>
                  <a:lnTo>
                    <a:pt x="140" y="30"/>
                  </a:lnTo>
                  <a:lnTo>
                    <a:pt x="182" y="34"/>
                  </a:lnTo>
                  <a:lnTo>
                    <a:pt x="207" y="32"/>
                  </a:lnTo>
                  <a:lnTo>
                    <a:pt x="230" y="29"/>
                  </a:lnTo>
                  <a:lnTo>
                    <a:pt x="253" y="24"/>
                  </a:lnTo>
                  <a:lnTo>
                    <a:pt x="253" y="36"/>
                  </a:lnTo>
                  <a:lnTo>
                    <a:pt x="256" y="46"/>
                  </a:lnTo>
                  <a:lnTo>
                    <a:pt x="258" y="56"/>
                  </a:lnTo>
                  <a:lnTo>
                    <a:pt x="262" y="64"/>
                  </a:lnTo>
                  <a:lnTo>
                    <a:pt x="266" y="67"/>
                  </a:lnTo>
                  <a:lnTo>
                    <a:pt x="270" y="69"/>
                  </a:lnTo>
                  <a:lnTo>
                    <a:pt x="276" y="67"/>
                  </a:lnTo>
                  <a:lnTo>
                    <a:pt x="283" y="65"/>
                  </a:lnTo>
                  <a:lnTo>
                    <a:pt x="292" y="59"/>
                  </a:lnTo>
                  <a:lnTo>
                    <a:pt x="303" y="50"/>
                  </a:lnTo>
                  <a:lnTo>
                    <a:pt x="324" y="30"/>
                  </a:lnTo>
                  <a:lnTo>
                    <a:pt x="340" y="13"/>
                  </a:lnTo>
                  <a:lnTo>
                    <a:pt x="351" y="0"/>
                  </a:lnTo>
                  <a:lnTo>
                    <a:pt x="407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5840" y="4337280"/>
              <a:ext cx="1296000" cy="985320"/>
            </a:xfrm>
            <a:custGeom>
              <a:avLst/>
              <a:gdLst/>
              <a:ahLst/>
              <a:rect l="l" t="t" r="r" b="b"/>
              <a:pathLst>
                <a:path w="2677" h="2067">
                  <a:moveTo>
                    <a:pt x="32" y="1654"/>
                  </a:moveTo>
                  <a:lnTo>
                    <a:pt x="0" y="1615"/>
                  </a:lnTo>
                  <a:lnTo>
                    <a:pt x="93" y="1478"/>
                  </a:lnTo>
                  <a:lnTo>
                    <a:pt x="197" y="1618"/>
                  </a:lnTo>
                  <a:lnTo>
                    <a:pt x="307" y="1761"/>
                  </a:lnTo>
                  <a:lnTo>
                    <a:pt x="436" y="1928"/>
                  </a:lnTo>
                  <a:lnTo>
                    <a:pt x="546" y="1893"/>
                  </a:lnTo>
                  <a:lnTo>
                    <a:pt x="651" y="1856"/>
                  </a:lnTo>
                  <a:lnTo>
                    <a:pt x="757" y="1813"/>
                  </a:lnTo>
                  <a:lnTo>
                    <a:pt x="863" y="1766"/>
                  </a:lnTo>
                  <a:lnTo>
                    <a:pt x="974" y="1710"/>
                  </a:lnTo>
                  <a:lnTo>
                    <a:pt x="1093" y="1648"/>
                  </a:lnTo>
                  <a:lnTo>
                    <a:pt x="1221" y="1576"/>
                  </a:lnTo>
                  <a:lnTo>
                    <a:pt x="1361" y="1494"/>
                  </a:lnTo>
                  <a:lnTo>
                    <a:pt x="1434" y="1448"/>
                  </a:lnTo>
                  <a:lnTo>
                    <a:pt x="1506" y="1399"/>
                  </a:lnTo>
                  <a:lnTo>
                    <a:pt x="1577" y="1348"/>
                  </a:lnTo>
                  <a:lnTo>
                    <a:pt x="1646" y="1295"/>
                  </a:lnTo>
                  <a:lnTo>
                    <a:pt x="1714" y="1240"/>
                  </a:lnTo>
                  <a:lnTo>
                    <a:pt x="1779" y="1184"/>
                  </a:lnTo>
                  <a:lnTo>
                    <a:pt x="1841" y="1128"/>
                  </a:lnTo>
                  <a:lnTo>
                    <a:pt x="1902" y="1071"/>
                  </a:lnTo>
                  <a:lnTo>
                    <a:pt x="1960" y="1015"/>
                  </a:lnTo>
                  <a:lnTo>
                    <a:pt x="2015" y="961"/>
                  </a:lnTo>
                  <a:lnTo>
                    <a:pt x="2113" y="857"/>
                  </a:lnTo>
                  <a:lnTo>
                    <a:pt x="2197" y="765"/>
                  </a:lnTo>
                  <a:lnTo>
                    <a:pt x="2263" y="687"/>
                  </a:lnTo>
                  <a:lnTo>
                    <a:pt x="2319" y="619"/>
                  </a:lnTo>
                  <a:lnTo>
                    <a:pt x="2372" y="547"/>
                  </a:lnTo>
                  <a:lnTo>
                    <a:pt x="2300" y="610"/>
                  </a:lnTo>
                  <a:lnTo>
                    <a:pt x="2202" y="539"/>
                  </a:lnTo>
                  <a:lnTo>
                    <a:pt x="1859" y="891"/>
                  </a:lnTo>
                  <a:lnTo>
                    <a:pt x="1761" y="857"/>
                  </a:lnTo>
                  <a:lnTo>
                    <a:pt x="1779" y="626"/>
                  </a:lnTo>
                  <a:lnTo>
                    <a:pt x="1791" y="457"/>
                  </a:lnTo>
                  <a:lnTo>
                    <a:pt x="1796" y="394"/>
                  </a:lnTo>
                  <a:lnTo>
                    <a:pt x="1797" y="358"/>
                  </a:lnTo>
                  <a:lnTo>
                    <a:pt x="1798" y="344"/>
                  </a:lnTo>
                  <a:lnTo>
                    <a:pt x="1800" y="336"/>
                  </a:lnTo>
                  <a:lnTo>
                    <a:pt x="1804" y="334"/>
                  </a:lnTo>
                  <a:lnTo>
                    <a:pt x="1808" y="335"/>
                  </a:lnTo>
                  <a:lnTo>
                    <a:pt x="1812" y="341"/>
                  </a:lnTo>
                  <a:lnTo>
                    <a:pt x="1816" y="348"/>
                  </a:lnTo>
                  <a:lnTo>
                    <a:pt x="1818" y="357"/>
                  </a:lnTo>
                  <a:lnTo>
                    <a:pt x="1820" y="368"/>
                  </a:lnTo>
                  <a:lnTo>
                    <a:pt x="1827" y="470"/>
                  </a:lnTo>
                  <a:lnTo>
                    <a:pt x="1837" y="554"/>
                  </a:lnTo>
                  <a:lnTo>
                    <a:pt x="1848" y="617"/>
                  </a:lnTo>
                  <a:lnTo>
                    <a:pt x="1861" y="665"/>
                  </a:lnTo>
                  <a:lnTo>
                    <a:pt x="1874" y="698"/>
                  </a:lnTo>
                  <a:lnTo>
                    <a:pt x="1884" y="719"/>
                  </a:lnTo>
                  <a:lnTo>
                    <a:pt x="1891" y="730"/>
                  </a:lnTo>
                  <a:lnTo>
                    <a:pt x="1893" y="733"/>
                  </a:lnTo>
                  <a:lnTo>
                    <a:pt x="2207" y="407"/>
                  </a:lnTo>
                  <a:lnTo>
                    <a:pt x="2374" y="543"/>
                  </a:lnTo>
                  <a:lnTo>
                    <a:pt x="2414" y="487"/>
                  </a:lnTo>
                  <a:lnTo>
                    <a:pt x="2450" y="433"/>
                  </a:lnTo>
                  <a:lnTo>
                    <a:pt x="2511" y="336"/>
                  </a:lnTo>
                  <a:lnTo>
                    <a:pt x="2567" y="242"/>
                  </a:lnTo>
                  <a:lnTo>
                    <a:pt x="2449" y="123"/>
                  </a:lnTo>
                  <a:lnTo>
                    <a:pt x="2369" y="187"/>
                  </a:lnTo>
                  <a:lnTo>
                    <a:pt x="2343" y="144"/>
                  </a:lnTo>
                  <a:lnTo>
                    <a:pt x="2457" y="0"/>
                  </a:lnTo>
                  <a:lnTo>
                    <a:pt x="2535" y="97"/>
                  </a:lnTo>
                  <a:lnTo>
                    <a:pt x="2607" y="188"/>
                  </a:lnTo>
                  <a:lnTo>
                    <a:pt x="2677" y="281"/>
                  </a:lnTo>
                  <a:lnTo>
                    <a:pt x="2590" y="416"/>
                  </a:lnTo>
                  <a:lnTo>
                    <a:pt x="2503" y="543"/>
                  </a:lnTo>
                  <a:lnTo>
                    <a:pt x="2416" y="662"/>
                  </a:lnTo>
                  <a:lnTo>
                    <a:pt x="2328" y="776"/>
                  </a:lnTo>
                  <a:lnTo>
                    <a:pt x="2237" y="886"/>
                  </a:lnTo>
                  <a:lnTo>
                    <a:pt x="2140" y="993"/>
                  </a:lnTo>
                  <a:lnTo>
                    <a:pt x="2038" y="1099"/>
                  </a:lnTo>
                  <a:lnTo>
                    <a:pt x="1928" y="1206"/>
                  </a:lnTo>
                  <a:lnTo>
                    <a:pt x="1871" y="1258"/>
                  </a:lnTo>
                  <a:lnTo>
                    <a:pt x="1815" y="1308"/>
                  </a:lnTo>
                  <a:lnTo>
                    <a:pt x="1757" y="1356"/>
                  </a:lnTo>
                  <a:lnTo>
                    <a:pt x="1700" y="1402"/>
                  </a:lnTo>
                  <a:lnTo>
                    <a:pt x="1644" y="1444"/>
                  </a:lnTo>
                  <a:lnTo>
                    <a:pt x="1587" y="1485"/>
                  </a:lnTo>
                  <a:lnTo>
                    <a:pt x="1532" y="1524"/>
                  </a:lnTo>
                  <a:lnTo>
                    <a:pt x="1475" y="1560"/>
                  </a:lnTo>
                  <a:lnTo>
                    <a:pt x="1419" y="1596"/>
                  </a:lnTo>
                  <a:lnTo>
                    <a:pt x="1364" y="1630"/>
                  </a:lnTo>
                  <a:lnTo>
                    <a:pt x="1254" y="1694"/>
                  </a:lnTo>
                  <a:lnTo>
                    <a:pt x="1145" y="1752"/>
                  </a:lnTo>
                  <a:lnTo>
                    <a:pt x="1039" y="1809"/>
                  </a:lnTo>
                  <a:lnTo>
                    <a:pt x="985" y="1836"/>
                  </a:lnTo>
                  <a:lnTo>
                    <a:pt x="931" y="1862"/>
                  </a:lnTo>
                  <a:lnTo>
                    <a:pt x="821" y="1911"/>
                  </a:lnTo>
                  <a:lnTo>
                    <a:pt x="713" y="1954"/>
                  </a:lnTo>
                  <a:lnTo>
                    <a:pt x="613" y="1992"/>
                  </a:lnTo>
                  <a:lnTo>
                    <a:pt x="528" y="2023"/>
                  </a:lnTo>
                  <a:lnTo>
                    <a:pt x="460" y="2047"/>
                  </a:lnTo>
                  <a:lnTo>
                    <a:pt x="399" y="2067"/>
                  </a:lnTo>
                  <a:lnTo>
                    <a:pt x="68" y="1624"/>
                  </a:lnTo>
                  <a:lnTo>
                    <a:pt x="32" y="16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ecff"/>
                </a:solidFill>
                <a:latin typeface="Verdana"/>
              </a:rPr>
              <a:t>ICAO </a:t>
            </a:r>
            <a:r>
              <a:rPr b="1" lang="en-AU" sz="3200" spc="-1" strike="noStrike">
                <a:solidFill>
                  <a:srgbClr val="ccecff"/>
                </a:solidFill>
                <a:latin typeface="Verdana"/>
              </a:rPr>
              <a:t>purposes</a:t>
            </a:r>
            <a:endParaRPr b="1" lang="en-US" sz="32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ffffcc"/>
                </a:solidFill>
                <a:latin typeface="Verdana"/>
              </a:rPr>
              <a:t>Safety has always been the most important issue in all aviation activities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ffffcc"/>
                </a:solidFill>
                <a:latin typeface="Verdana"/>
              </a:rPr>
              <a:t>This is reflected in the aims and objectives of ICAO as stated in Article 44 of the </a:t>
            </a:r>
            <a:r>
              <a:rPr b="1" i="1" lang="en-AU" sz="2400" spc="-1" strike="noStrike">
                <a:solidFill>
                  <a:srgbClr val="ffffcc"/>
                </a:solidFill>
                <a:latin typeface="Verdana"/>
              </a:rPr>
              <a:t>Convention on International Civil Aviation </a:t>
            </a:r>
            <a:r>
              <a:rPr b="1" lang="en-AU" sz="2400" spc="-1" strike="noStrike">
                <a:solidFill>
                  <a:srgbClr val="ffffcc"/>
                </a:solidFill>
                <a:latin typeface="Verdana"/>
              </a:rPr>
              <a:t>(Doc 7300), which charges ICAO with ensuring the safe and orderly growth of international civil aviation throughout the world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 Narrow"/>
              </a:rPr>
              <a:t>ICAO STRATEGIC OBJECTIVES </a:t>
            </a:r>
            <a:r>
              <a:rPr b="1" lang="en-US" sz="1600" spc="-1" strike="noStrike">
                <a:solidFill>
                  <a:srgbClr val="ccecff"/>
                </a:solidFill>
                <a:latin typeface="Arial Narro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ccecff"/>
                </a:solidFill>
                <a:latin typeface="Arial Narrow"/>
              </a:rPr>
              <a:t>(</a:t>
            </a:r>
            <a:r>
              <a:rPr b="0" lang="en-US" sz="1600" spc="-1" strike="noStrike">
                <a:solidFill>
                  <a:srgbClr val="ccffff"/>
                </a:solidFill>
                <a:latin typeface="Verdana"/>
              </a:rPr>
              <a:t>for the period 2005-2010</a:t>
            </a:r>
            <a:r>
              <a:rPr b="1" lang="en-US" sz="1600" spc="-1" strike="noStrike">
                <a:solidFill>
                  <a:srgbClr val="ccecff"/>
                </a:solidFill>
                <a:latin typeface="Arial Narrow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 Narrow"/>
              </a:rPr>
              <a:t>Adopted by Council on 17 December 2004</a:t>
            </a:r>
            <a:endParaRPr b="1" lang="en-US" sz="24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CAO works to achieve its vision of safe, secure and sustainable development of civil aviation through cooperation amongst its member States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o implement this vision, the Organization has established the following Strategic Objectives for the period 2005-2010: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: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Safety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 - Enhance global civil aviation safety</a:t>
            </a:r>
            <a:endParaRPr b="0" lang="en-US" sz="20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Security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Enhance global civil aviation security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Environmental Protection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Minimize the adverse effect of global civil aviation on the environment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Efficiency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Enhance the efficiency of aviation operations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E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Continuity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Maintain the continuity of aviation operations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F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Rule of Law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Strengthen law governing international civil aviation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The State respon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67652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The State, as the signatory to the Chicago Convention,  is responsible for  providing a regulatory safety framework for implementation of ICAO SARPS within the airspace and at aerodromes for which it has responsibility in accordance with the basis of the safety management require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Where a State is also an ATM service provider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It is important keep clear distinction between the regulatory functions and the service provision fun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The regulatory division must maintain effective safety oversight of the ATM service provi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Verdana"/>
              </a:rPr>
              <a:t>ICAO Requirements</a:t>
            </a:r>
            <a:br>
              <a:rPr sz="2400"/>
            </a:br>
            <a:br>
              <a:rPr sz="2400"/>
            </a:b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ATS Safety Management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n 2001 provisions relating to safety management were introduced in Annex 11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nnex 11 contains provisions regarding the establishment of ATS safety management programms, and includes a requirement to establish objetives and acceptable level of safety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Complementary procedures also were introduced in the Doc 4444, PANS-ATM.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(November 2003)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dditionally, new Standards and Recommended Practices (SARPS) related to Safety Management System will be introduced accordingly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cffff"/>
                </a:solidFill>
                <a:latin typeface="Verdana"/>
              </a:rPr>
              <a:t>ATS Safety Management</a:t>
            </a:r>
            <a:endParaRPr b="1" lang="en-US" sz="27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Implementation of ATS safety management programs refers to the day to day keep safety oversight management by the</a:t>
            </a:r>
            <a:r>
              <a:rPr b="1" lang="en-GB" sz="1900" spc="-1" strike="noStrike">
                <a:solidFill>
                  <a:srgbClr val="ffffcc"/>
                </a:solidFill>
                <a:latin typeface="Verdana"/>
              </a:rPr>
              <a:t> ATS </a:t>
            </a: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service providers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States shall establish systemic and suitable ATS safety management programs with defined levels and objectives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As appropriate, target levels of safety (TLS) will be established through regional air navigation agreement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Prior to any significant change to the safety-related ATC system, a safety assessment will be carried out, proving that an acceptable safety level may be obtained 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ff"/>
                </a:solidFill>
                <a:latin typeface="Verdana"/>
              </a:rPr>
              <a:t>ATS Safety Management</a:t>
            </a:r>
            <a:endParaRPr b="1" lang="en-US" sz="32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acceptable level of safety may be specified in qualitative or quantitative terms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) a maximum probability of an undesirable event, such as collision, loss of separation or runway incursion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 a maximum number of accidents per flight hour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) a maximum number of incidents per aircraft movement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) a maximum number of valid short-term conflict alerts (STCA) per aircraft movement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Verdana"/>
              </a:rPr>
              <a:t>ATS safety management programme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Shall:</a:t>
            </a: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identify actual and potential hazards and determine the need for remedial action;</a:t>
            </a: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ensure that remedial action necessary to maintain an acceptable level of safety is implemented; and</a:t>
            </a: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provide continuous monitoring and regular assessment of the safety level achieved.</a:t>
            </a: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2:14Z</dcterms:created>
  <dc:creator>RAYMOND YBARRA</dc:creator>
  <dc:description/>
  <dc:language>en-US</dc:language>
  <cp:lastModifiedBy>Claudia López Pérez</cp:lastModifiedBy>
  <dcterms:modified xsi:type="dcterms:W3CDTF">2006-03-27T13:55:18Z</dcterms:modified>
  <cp:revision>131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400.00000000</vt:lpwstr>
  </property>
  <property fmtid="{D5CDD505-2E9C-101B-9397-08002B2CF9AE}" pid="5" name="Year">
    <vt:lpwstr>2006</vt:lpwstr>
  </property>
</Properties>
</file>