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jpeg" ContentType="image/jpeg"/>
  <Override PartName="/ppt/media/image13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C37F54-822F-4216-B62D-8CD3809ED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livery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ndividual and group SMS brief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ndoctrination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pplication training (eg. safety datab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nline self-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3225" t="0" r="0" b="0"/>
          <a:stretch/>
        </p:blipFill>
        <p:spPr>
          <a:xfrm>
            <a:off x="0" y="0"/>
            <a:ext cx="9144000" cy="63356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0" b="87806"/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5796000" y="6458040"/>
            <a:ext cx="3271680" cy="323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876760" y="208080"/>
            <a:ext cx="339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Safety Management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6160" y="1392120"/>
            <a:ext cx="819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ffffff"/>
                </a:solidFill>
                <a:latin typeface="Arial"/>
              </a:rPr>
              <a:t>Safety Management System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00560" y="1647720"/>
            <a:ext cx="629208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stJet differs from many airlines (perhaps your own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ow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quipment type(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t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mployee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rlines will also differ in Safety Managemen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mon elements and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fferent programs, processes and infra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4595760"/>
            <a:ext cx="459000" cy="216000"/>
          </a:xfrm>
          <a:prstGeom prst="rightArrow">
            <a:avLst>
              <a:gd name="adj1" fmla="val 50000"/>
              <a:gd name="adj2" fmla="val 5312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784280" y="4624560"/>
            <a:ext cx="459000" cy="215640"/>
          </a:xfrm>
          <a:prstGeom prst="rightArrow">
            <a:avLst>
              <a:gd name="adj1" fmla="val 50000"/>
              <a:gd name="adj2" fmla="val 5321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103920" y="1197000"/>
            <a:ext cx="29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Safety Management Plan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8720" y="1844640"/>
            <a:ext cx="7775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Guiding document for implementation and operation of 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54160" y="2421000"/>
            <a:ext cx="3236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afety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Roles and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Emergency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3225" t="0" r="0" b="0"/>
          <a:stretch/>
        </p:blipFill>
        <p:spPr>
          <a:xfrm>
            <a:off x="-3240" y="-27000"/>
            <a:ext cx="9144000" cy="6335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0" t="0" r="0" b="87806"/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rcRect l="24425" t="11280" r="23439" b="10195"/>
          <a:stretch/>
        </p:blipFill>
        <p:spPr>
          <a:xfrm>
            <a:off x="1768320" y="44280"/>
            <a:ext cx="5608800" cy="674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488600" y="1197000"/>
            <a:ext cx="61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Policies – Fundamental Assumption of Risk Caus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1773360"/>
            <a:ext cx="230328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Human Error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aused by syste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o be exp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E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ystem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71760" y="1776240"/>
            <a:ext cx="248292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At-Risk Behaviour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aused b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omplac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ime pres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ondoned behavi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other huma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ust be actively measured and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Individual Co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227640" y="1776240"/>
            <a:ext cx="22226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Reckless Behavi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illful non-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annot be tol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4440" y="1628640"/>
            <a:ext cx="5545080" cy="4248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87280" y="4130640"/>
            <a:ext cx="5185080" cy="7923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70560" y="3040200"/>
            <a:ext cx="1657440" cy="26733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253880" y="1686600"/>
            <a:ext cx="6528600" cy="3832920"/>
            <a:chOff x="1253880" y="1686600"/>
            <a:chExt cx="6528600" cy="3832920"/>
          </a:xfrm>
        </p:grpSpPr>
        <p:sp>
          <p:nvSpPr>
            <p:cNvPr id="84" name=""/>
            <p:cNvSpPr/>
            <p:nvPr/>
          </p:nvSpPr>
          <p:spPr>
            <a:xfrm>
              <a:off x="3195360" y="2904120"/>
              <a:ext cx="360" cy="131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61880" y="1686600"/>
              <a:ext cx="1177560" cy="32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E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ccountable Execut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254960" y="2642400"/>
              <a:ext cx="91224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Exec. VP  Culture &amp; Airport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6520" y="2404080"/>
              <a:ext cx="36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39920" y="2404080"/>
              <a:ext cx="360" cy="76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3771000" y="2246760"/>
              <a:ext cx="3220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89360" y="3331080"/>
              <a:ext cx="912240" cy="29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VP Flight Operations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55320" y="3331080"/>
              <a:ext cx="912960" cy="29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700" spc="-1" strike="noStrike">
                  <a:solidFill>
                    <a:srgbClr val="000000"/>
                  </a:solidFill>
                  <a:latin typeface="Arial"/>
                </a:rPr>
                <a:t>VP Airport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76520" y="2939760"/>
              <a:ext cx="360" cy="38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52680" y="3168000"/>
              <a:ext cx="16423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52680" y="3168000"/>
              <a:ext cx="72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75800" y="4523760"/>
              <a:ext cx="720" cy="285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761640" y="2017440"/>
              <a:ext cx="360" cy="38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127400" y="3758040"/>
              <a:ext cx="912960" cy="29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irector Inflight Trng &amp; Std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6566400" y="3638160"/>
              <a:ext cx="360" cy="173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6566040" y="3944520"/>
              <a:ext cx="2883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4760" y="3797640"/>
              <a:ext cx="91224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54760" y="4142880"/>
              <a:ext cx="91224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1836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atabase Coordina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566040" y="4290840"/>
              <a:ext cx="2883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58360" y="4493160"/>
              <a:ext cx="91224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FDM Analys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91920" y="2246760"/>
              <a:ext cx="720" cy="1083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191760" y="4522320"/>
              <a:ext cx="360" cy="283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42120" y="4205520"/>
              <a:ext cx="912240" cy="31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700" spc="-1" strike="noStrike">
                  <a:solidFill>
                    <a:srgbClr val="000000"/>
                  </a:solidFill>
                  <a:latin typeface="Arial"/>
                </a:rPr>
                <a:t>Maintenance Safety Offic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281560" y="4206960"/>
              <a:ext cx="912240" cy="31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700" spc="-1" strike="noStrike">
                  <a:solidFill>
                    <a:srgbClr val="000000"/>
                  </a:solidFill>
                  <a:latin typeface="Arial"/>
                </a:rPr>
                <a:t>Flight Safety Manag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68280" y="4523760"/>
              <a:ext cx="720" cy="283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51480" y="4523040"/>
              <a:ext cx="720" cy="283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28120" y="4206240"/>
              <a:ext cx="912240" cy="31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700" spc="-1" strike="noStrike">
                  <a:solidFill>
                    <a:srgbClr val="000000"/>
                  </a:solidFill>
                  <a:latin typeface="Arial"/>
                </a:rPr>
                <a:t>Inflight Safety Rep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4533120" y="4055400"/>
              <a:ext cx="360" cy="15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59640" y="4206960"/>
              <a:ext cx="912240" cy="31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irports Safety Rep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677240" y="3628440"/>
              <a:ext cx="720" cy="57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675800" y="4791600"/>
              <a:ext cx="489024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66400" y="4649760"/>
              <a:ext cx="28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64480" y="4854600"/>
              <a:ext cx="912240" cy="29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afety Adviso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72160" y="5011200"/>
              <a:ext cx="2883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70240" y="5221800"/>
              <a:ext cx="91224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OSHE Group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77920" y="5378760"/>
              <a:ext cx="2883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16560" y="3492720"/>
              <a:ext cx="1724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5769000" y="4051800"/>
              <a:ext cx="360" cy="15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72920" y="3749400"/>
              <a:ext cx="91296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irector Flight Trng &amp; Std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69720" y="3489120"/>
              <a:ext cx="720" cy="25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98720" y="3489120"/>
              <a:ext cx="1695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78400" y="2641680"/>
              <a:ext cx="912240" cy="29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VP Operational Develop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" name=""/>
            <p:cNvCxnSpPr>
              <a:stCxn id="87" idx="0"/>
              <a:endCxn id="88" idx="0"/>
            </p:cNvCxnSpPr>
            <p:nvPr/>
          </p:nvCxnSpPr>
          <p:spPr>
            <a:xfrm>
              <a:off x="1676520" y="2404080"/>
              <a:ext cx="416376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 flipV="1">
              <a:off x="3189240" y="2402640"/>
              <a:ext cx="720" cy="2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28800" y="2655720"/>
              <a:ext cx="912240" cy="29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700" spc="-1" strike="noStrike">
                  <a:solidFill>
                    <a:srgbClr val="000000"/>
                  </a:solidFill>
                  <a:latin typeface="Arial"/>
                </a:rPr>
                <a:t>VP Technical Servic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93560" y="3166560"/>
              <a:ext cx="360" cy="2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19600" y="3331080"/>
              <a:ext cx="912240" cy="29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irector Safety Service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11520" y="3495600"/>
              <a:ext cx="360" cy="2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53880" y="3758040"/>
              <a:ext cx="912960" cy="29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irector Airport Operatio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704320" y="5419800"/>
            <a:ext cx="26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afety Represent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676600" y="1052640"/>
            <a:ext cx="37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Operational Safety Organization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34160" y="5229360"/>
            <a:ext cx="29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afety Action Committ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283440" y="573408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afet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399760" y="1333440"/>
            <a:ext cx="434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Safety Department Mission Statement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8320" y="2205000"/>
            <a:ext cx="807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o support effective safety programs and proactive risk management b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romoting safety as an inherent val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of WestJet’s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13080" y="2043000"/>
            <a:ext cx="2745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ccountable Executive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01600" y="3181320"/>
            <a:ext cx="3568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afety Management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(meets monthly*)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3960" y="4871880"/>
            <a:ext cx="2884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afety Action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(meets weekly*)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37840" y="2425680"/>
            <a:ext cx="21834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Accountable Execu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VP Technical Serv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VP Op.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EVP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C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EVP Culture &amp; Airpor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EVP Marketing &amp; 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Director, Safe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36400" y="4292640"/>
            <a:ext cx="2223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Director, Safe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Maint. Safety Offic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Manager, Flight Safe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Airports Safety Advis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Inflight Safety Ad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SST Advi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S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83240" y="2492280"/>
            <a:ext cx="247680" cy="1656000"/>
          </a:xfrm>
          <a:custGeom>
            <a:avLst/>
            <a:gdLst>
              <a:gd name="textAreaLeft" fmla="*/ 158400 w 247680"/>
              <a:gd name="textAreaRight" fmla="*/ 248040 w 24768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16720" y="4356000"/>
            <a:ext cx="215640" cy="1440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3680" y="1117440"/>
            <a:ext cx="24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Safety Organization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994120" y="1197000"/>
            <a:ext cx="31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Roles and Responsibilities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44720" y="1598760"/>
            <a:ext cx="7488000" cy="47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Accountable 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Senior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Executive Vice Presidents, Vice Presidents, Dire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Managers an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Front-line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Safety Depar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Safety Represent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Safety 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Safety Action Committee, Safety Management 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Lead Investig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Safety Review T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473280" y="119700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Safety Process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20720" y="1916280"/>
            <a:ext cx="4540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ctive and Proactive Proc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zard / Root Caus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 Mit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S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fety Planning &amp;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S Quality As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rcRect l="3225" t="0" r="0" b="0"/>
          <a:stretch/>
        </p:blipFill>
        <p:spPr>
          <a:xfrm>
            <a:off x="-3240" y="-27000"/>
            <a:ext cx="9144000" cy="63356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rcRect l="0" t="0" r="0" b="87806"/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635200" y="1190520"/>
            <a:ext cx="38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Basic Risk Management Process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76760" y="208080"/>
            <a:ext cx="339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Safety Management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rcRect l="0" t="7861" r="3460" b="16367"/>
          <a:stretch/>
        </p:blipFill>
        <p:spPr>
          <a:xfrm>
            <a:off x="2143080" y="260280"/>
            <a:ext cx="4857840" cy="6337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066080" y="184320"/>
            <a:ext cx="1750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Times New Roman"/>
              </a:rPr>
              <a:t>Risk assess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Times New Roman"/>
              </a:rPr>
              <a:t>Safety surve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Times New Roman"/>
              </a:rPr>
              <a:t>LO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Times New Roman"/>
              </a:rPr>
              <a:t>Job safety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77080" y="264960"/>
            <a:ext cx="74520" cy="1273320"/>
          </a:xfrm>
          <a:custGeom>
            <a:avLst/>
            <a:gdLst>
              <a:gd name="textAreaLeft" fmla="*/ 47520 w 74520"/>
              <a:gd name="textAreaRight" fmla="*/ 74880 w 74520"/>
              <a:gd name="textAreaTop" fmla="*/ 33120 h 1273320"/>
              <a:gd name="textAreaBottom" fmla="*/ 1240200 h 127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520" y="189000"/>
            <a:ext cx="2172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ight incident re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nd incident re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ury repo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DM stat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95640" y="263520"/>
            <a:ext cx="88920" cy="1233360"/>
          </a:xfrm>
          <a:custGeom>
            <a:avLst/>
            <a:gdLst>
              <a:gd name="textAreaLeft" fmla="*/ 0 w 88920"/>
              <a:gd name="textAreaRight" fmla="*/ 32040 w 88920"/>
              <a:gd name="textAreaTop" fmla="*/ 32040 h 1233360"/>
              <a:gd name="textAreaBottom" fmla="*/ 1201320 h 12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341520" y="1230480"/>
            <a:ext cx="32486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mp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stJet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fety Management 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SMS Benefits ($$$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21656" t="18997" r="18697" b="40400"/>
          <a:stretch/>
        </p:blipFill>
        <p:spPr>
          <a:xfrm>
            <a:off x="971640" y="1844640"/>
            <a:ext cx="7272360" cy="3960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769920" y="119700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FDM Repor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769920" y="1197000"/>
            <a:ext cx="16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FDM Repor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2749" t="14844" r="2161" b="9391"/>
          <a:stretch/>
        </p:blipFill>
        <p:spPr>
          <a:xfrm>
            <a:off x="136440" y="279360"/>
            <a:ext cx="889344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3225" t="0" r="0" b="0"/>
          <a:stretch/>
        </p:blipFill>
        <p:spPr>
          <a:xfrm>
            <a:off x="0" y="0"/>
            <a:ext cx="9144000" cy="6335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699720" y="11970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LOSA Repor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99720" y="1197000"/>
            <a:ext cx="1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LOSA Repor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rcRect l="0" t="0" r="0" b="87806"/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-46800" y="332640"/>
            <a:ext cx="923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rganizational Error Profile (XX Airlines and LOSA Archive Comparison Airl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62000" y="731880"/>
          <a:ext cx="8820000" cy="604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2000" y="731880"/>
                    <a:ext cx="8820000" cy="60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110760" y="104616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Risk Management Matri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79280" y="1631880"/>
          <a:ext cx="8801280" cy="3957480"/>
        </p:xfrm>
        <a:graphic>
          <a:graphicData uri="http://schemas.openxmlformats.org/drawingml/2006/table">
            <a:tbl>
              <a:tblPr/>
              <a:tblGrid>
                <a:gridCol w="987480"/>
                <a:gridCol w="1298520"/>
                <a:gridCol w="1314360"/>
                <a:gridCol w="1371600"/>
                <a:gridCol w="1371600"/>
                <a:gridCol w="1314720"/>
                <a:gridCol w="1143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isk Cla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ad Investigative Responsi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 of Investig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Typic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 Development Timel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 Implementation Timel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itial CAP Evaluation Timel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se-out Author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artment Safety Re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investigator using local resour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hin 6 weeks of initial risk class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hin 3 months of initial risk class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hin 6 months of CAP imple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ible Manag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partment Safety Rep or Chair, Safety Review Tea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investigator using corporate resources.  HF analysis optiona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hin 1 month of initial risk class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hin 2 months of initial risk class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hin 6 months of CAP imple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onsible  Manag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ir, Safety Review Te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ngle investigator or investigative team using corporate resources and external resources as required.  HF analysis mandator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hort term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P within 1 week of initial risk class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Long term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P within 2 months of initial risk class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 term CAP within 3 weeks of initial risk class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 term CAP within 4 months of initial risk class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 term CAP within 6 weeks of imple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 term CAP within 6 months of imple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fety Management Committ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ir, Safety Review Te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stigative team using internal and external resources.  HF analysis mandator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 term CAP within 48 hours of initial risk class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 term CAP within 2 months of initial risk class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 term CAP within 1 week of initial risk class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 term CAP within 4 months of initial risk classif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 term CAP within 4 weeks of imple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 term CAP within 6 months of imple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fety Management Committ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86400" y="5733360"/>
            <a:ext cx="2957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CAP – Corrective Action Pla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HF – Human Facto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9280" y="1620720"/>
            <a:ext cx="989280" cy="561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32000" y="3235320"/>
            <a:ext cx="152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23960" y="3387600"/>
            <a:ext cx="990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86080" y="3235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43040" y="5243400"/>
            <a:ext cx="6858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9280" y="3425760"/>
            <a:ext cx="8798040" cy="1155600"/>
          </a:xfrm>
          <a:prstGeom prst="rect">
            <a:avLst/>
          </a:prstGeom>
          <a:noFill/>
          <a:ln w="284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20120" y="105264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Risk Management Matri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59280" y="4389480"/>
            <a:ext cx="649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36920" y="4546440"/>
            <a:ext cx="57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48440" y="3780000"/>
            <a:ext cx="43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38720" y="4240080"/>
            <a:ext cx="504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36920" y="5392800"/>
            <a:ext cx="576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58840" y="1620720"/>
            <a:ext cx="1306440" cy="561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75000" y="1620720"/>
            <a:ext cx="1295280" cy="561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80000" y="1620720"/>
            <a:ext cx="1368360" cy="561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48360" y="1620720"/>
            <a:ext cx="1368360" cy="561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516720" y="1620720"/>
            <a:ext cx="1319040" cy="561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34320" y="1620720"/>
            <a:ext cx="1139760" cy="561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89440" y="3789360"/>
            <a:ext cx="360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60640" y="4240080"/>
            <a:ext cx="505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67440" y="3789360"/>
            <a:ext cx="432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958080" y="4240080"/>
            <a:ext cx="503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079720" y="1197000"/>
            <a:ext cx="49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Database Findings / Causes / Actions Pag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19317" t="18262" r="19341" b="31264"/>
          <a:stretch/>
        </p:blipFill>
        <p:spPr>
          <a:xfrm>
            <a:off x="114480" y="237960"/>
            <a:ext cx="8893080" cy="58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029840" y="90792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19280" y="3139920"/>
            <a:ext cx="626904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afety Management Plan specifies initial and recurrent training standards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Safety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Senior Man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Managers &amp; Supervi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Front line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ppropriate to the individual’s responsibilities in the safety management system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Arial"/>
              </a:rPr>
              <a:t>WestJet Safety Management Plan Section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11280" y="1413000"/>
            <a:ext cx="61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raining must ens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personnel are trained and competent to perform their [safety management] duties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nadian Aviation Regulations 107.03(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029840" y="10461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47640" y="1773360"/>
            <a:ext cx="64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Initial, update and recurrent training covers (as require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84360" y="2421000"/>
          <a:ext cx="8208720" cy="3537000"/>
        </p:xfrm>
        <a:graphic>
          <a:graphicData uri="http://schemas.openxmlformats.org/drawingml/2006/table">
            <a:tbl>
              <a:tblPr/>
              <a:tblGrid>
                <a:gridCol w="4230720"/>
                <a:gridCol w="3978000"/>
              </a:tblGrid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tion stru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 factors analy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es and responsibil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k classification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S princi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ctive action p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y safety management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ergency 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tory requir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upational safety and h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ation proc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orate safety data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 reporting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 communication pl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gation techniq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s to SMS regul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active risk 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440">
                      <a:solidFill>
                        <a:srgbClr val="ffffff"/>
                      </a:solidFill>
                    </a:lnL>
                    <a:lnR>
                      <a:noFill/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nual safety performance repo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585600" y="907920"/>
            <a:ext cx="19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Commun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162960" y="1400040"/>
            <a:ext cx="3215160" cy="45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afety News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Corporate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ve pres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stNet (company intran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 vi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octrination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artment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C, SMC meet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smarts (e-lear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rs c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b descri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erformance apprai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18040" y="477828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5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0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35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40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45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1000"/>
                                        <p:tgtEl>
                                          <p:spTgt spid="2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2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2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516040" y="2739960"/>
            <a:ext cx="411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800" spc="-1" strike="noStrike">
                <a:solidFill>
                  <a:srgbClr val="000000"/>
                </a:solidFill>
                <a:latin typeface="Arial Black"/>
              </a:rPr>
              <a:t>SMS VIDE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55640" y="295200"/>
            <a:ext cx="763272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633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6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76360" y="1916280"/>
            <a:ext cx="64454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Ten  years in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than 43 million guests flown since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verage of 851,043 guests/month in Q4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ight year average revenue growth of 5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ne year average growth: 50.0% (RPM) / 47.8% (A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eet of 54 Boeing 737 NG aircraft (63 aircraft in 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 5,000 WestJet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58880" y="119052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WestJet Snapshot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585600" y="907920"/>
            <a:ext cx="19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Commun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3640" y="1681200"/>
            <a:ext cx="606132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Easy to understand for ALL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ynamic introduction to SMS fundamen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focuses on proactive ris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Features many employee grou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Dispatch, Maintenance, Flight Crew,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Ramp Agents, CSAs, Training, FO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21040" y="4925880"/>
            <a:ext cx="69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400" spc="-1" strike="noStrike">
                <a:solidFill>
                  <a:srgbClr val="000000"/>
                </a:solidFill>
                <a:latin typeface="Arial Black"/>
              </a:rPr>
              <a:t>You have many elements of SMS in place N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407240" y="2008080"/>
            <a:ext cx="718668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Fuselage Ice Occurrence</a:t>
            </a: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(Reactive Risk Assess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pairs &amp; Downtime: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$30,000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$30,000 / yr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Single Agent De-icing</a:t>
            </a: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(Proactive Risk Assessme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ach Occurrence: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$50,000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$50,000 / yr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Workers Compensation Premiums</a:t>
            </a:r>
            <a:r>
              <a:rPr b="1" i="1" lang="en-CA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(Integrated Risk Managemen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orecast Annual Savings: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$100,000 - $500,000 / yr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Category A or B Occurrence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$$$$$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26880" y="104616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Examples of SMS Sav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456160" y="250344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56160" y="355284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303800" y="460836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56160" y="530064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10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1000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929760" y="104616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Summ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43280" y="2665440"/>
            <a:ext cx="7730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Formalize and document many current safety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Introduce new and improved safety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Force greater consistency and rigor in operational ris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Bring new challe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Evolve with new regulations, your company and the indu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Change corporate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67680" y="1792440"/>
            <a:ext cx="38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Safety Management Systems wil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86160" y="1392120"/>
            <a:ext cx="8196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400" spc="-1" strike="noStrike">
                <a:solidFill>
                  <a:srgbClr val="ffffff"/>
                </a:solidFill>
                <a:latin typeface="Arial"/>
              </a:rPr>
              <a:t>Safety Management System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833400" y="1773360"/>
          <a:ext cx="7477200" cy="47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3400" y="1773360"/>
                    <a:ext cx="747720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293920" y="1190520"/>
            <a:ext cx="455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Available Seat Miles  (Annual - billions)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47760" y="1486080"/>
          <a:ext cx="8245440" cy="55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760" y="1486080"/>
                    <a:ext cx="8245440" cy="55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910600" y="1190520"/>
            <a:ext cx="33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Revenue  (Annual - billions)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4000" t="0" r="0" b="0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41320" y="1771560"/>
            <a:ext cx="745956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 employees into capitalists so they think and behave like owne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loyee Share Purchas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llar for dollar matching of employe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6% participation with average of 12% of base sa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t sharing - $73.9 million distributed over nine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6.6% outstanding held by pil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7 million new grants to pilots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10960" y="1190520"/>
            <a:ext cx="33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Culture –  Aligning Interests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000080" y="1989000"/>
            <a:ext cx="745956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Culture of ownership, caring, empowerment, team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stJet vocabulary:  Guests,  WestJetters,  Teams,  Big Shots, Beanland, WestJet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T –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-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tiv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municatio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ployee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un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CT and Management seek mutually beneficial solutions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pany and its shar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mploy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10960" y="1190520"/>
            <a:ext cx="33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Culture –  Aligning Interests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826280" y="1844640"/>
            <a:ext cx="6328440" cy="41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Transport Canada regulations apply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Aircraft Maintenance Organization Certific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Air Operator Certif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WestJet has made SMS a </a:t>
            </a:r>
            <a:r>
              <a:rPr b="1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company-wide initiative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Flight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Inflig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Air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Occupational Safety &amp;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Corporate Div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5920" y="1190520"/>
            <a:ext cx="351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Implementing the Regulations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1T17:33:31Z</dcterms:created>
  <dc:creator>Michael</dc:creator>
  <dc:description/>
  <dc:language>en-US</dc:language>
  <cp:lastModifiedBy>Claudia López Pérez</cp:lastModifiedBy>
  <dcterms:modified xsi:type="dcterms:W3CDTF">2006-03-27T13:50:26Z</dcterms:modified>
  <cp:revision>79</cp:revision>
  <dc:subject/>
  <dc:title>ICAO/ASPA Regional Seminar on Safety Management Systems (SM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1920000.00000000</vt:lpwstr>
  </property>
  <property fmtid="{D5CDD505-2E9C-101B-9397-08002B2CF9AE}" pid="5" name="Year">
    <vt:lpwstr>2006</vt:lpwstr>
  </property>
</Properties>
</file>