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4A2CED-FB4A-4264-9B66-F35364DCC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livery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dividual and group SMS brief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doctrination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pplication training (eg. safety data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nline self-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225" t="0" r="0" b="0"/>
          <a:stretch/>
        </p:blipFill>
        <p:spPr>
          <a:xfrm>
            <a:off x="0" y="0"/>
            <a:ext cx="9144000" cy="633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87806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796000" y="6458040"/>
            <a:ext cx="3271680" cy="323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876760" y="208080"/>
            <a:ext cx="33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Safety Management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6160" y="1392120"/>
            <a:ext cx="819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ffffff"/>
                </a:solidFill>
                <a:latin typeface="Arial"/>
              </a:rPr>
              <a:t>Safety Management System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00560" y="1647720"/>
            <a:ext cx="62920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stJet differs from many airlines (perhaps your own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w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typ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lines will also differ in Safety Manage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elements and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programs, processes and 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595760"/>
            <a:ext cx="459000" cy="216000"/>
          </a:xfrm>
          <a:prstGeom prst="rightArrow">
            <a:avLst>
              <a:gd name="adj1" fmla="val 50000"/>
              <a:gd name="adj2" fmla="val 531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784280" y="4624560"/>
            <a:ext cx="459000" cy="215640"/>
          </a:xfrm>
          <a:prstGeom prst="rightArrow">
            <a:avLst>
              <a:gd name="adj1" fmla="val 50000"/>
              <a:gd name="adj2" fmla="val 5321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103920" y="1197000"/>
            <a:ext cx="29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Safety Management Plan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8720" y="1844640"/>
            <a:ext cx="777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Guiding document for implementation and operation of 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54160" y="2421000"/>
            <a:ext cx="323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afety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Rol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mergency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3225" t="0" r="0" b="0"/>
          <a:stretch/>
        </p:blipFill>
        <p:spPr>
          <a:xfrm>
            <a:off x="-3240" y="-27000"/>
            <a:ext cx="9144000" cy="6335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0" r="0" b="87806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rcRect l="24425" t="11280" r="23439" b="10195"/>
          <a:stretch/>
        </p:blipFill>
        <p:spPr>
          <a:xfrm>
            <a:off x="1768320" y="44280"/>
            <a:ext cx="5608800" cy="67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488600" y="1197000"/>
            <a:ext cx="61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Policies – Fundamental Assumption of Risk Caus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1773360"/>
            <a:ext cx="230328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Human Error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used by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o be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ystem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71760" y="1776240"/>
            <a:ext cx="248292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At-Risk Behaviour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used b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mplac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 pres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ndoned behavi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ther huma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ust be actively measured and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ndividual 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27640" y="1776240"/>
            <a:ext cx="22226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eckless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illful non-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nnot be tol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4440" y="1628640"/>
            <a:ext cx="5545080" cy="4248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87280" y="4130640"/>
            <a:ext cx="5185080" cy="7923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70560" y="3040200"/>
            <a:ext cx="1657440" cy="26733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53880" y="1686600"/>
            <a:ext cx="6528600" cy="3832920"/>
            <a:chOff x="1253880" y="1686600"/>
            <a:chExt cx="6528600" cy="3832920"/>
          </a:xfrm>
        </p:grpSpPr>
        <p:sp>
          <p:nvSpPr>
            <p:cNvPr id="84" name=""/>
            <p:cNvSpPr/>
            <p:nvPr/>
          </p:nvSpPr>
          <p:spPr>
            <a:xfrm>
              <a:off x="3195360" y="2904120"/>
              <a:ext cx="360" cy="131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61880" y="1686600"/>
              <a:ext cx="1177560" cy="32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E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ccountable Execu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54960" y="2642400"/>
              <a:ext cx="91224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xec. VP  Culture &amp; Airpor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6520" y="2404080"/>
              <a:ext cx="36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39920" y="2404080"/>
              <a:ext cx="360" cy="76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771000" y="2246760"/>
              <a:ext cx="3220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89360" y="3331080"/>
              <a:ext cx="912240" cy="29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VP Flight Operations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55320" y="3331080"/>
              <a:ext cx="912960" cy="29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700" spc="-1" strike="noStrike">
                  <a:solidFill>
                    <a:srgbClr val="000000"/>
                  </a:solidFill>
                  <a:latin typeface="Arial"/>
                </a:rPr>
                <a:t>VP Airpor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76520" y="2939760"/>
              <a:ext cx="360" cy="38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52680" y="3168000"/>
              <a:ext cx="16423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52680" y="3168000"/>
              <a:ext cx="72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75800" y="4523760"/>
              <a:ext cx="720" cy="285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61640" y="2017440"/>
              <a:ext cx="360" cy="38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27400" y="3758040"/>
              <a:ext cx="912960" cy="29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rector Inflight Trng &amp; St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6566400" y="3638160"/>
              <a:ext cx="360" cy="17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566040" y="3944520"/>
              <a:ext cx="288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4760" y="3797640"/>
              <a:ext cx="91224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4760" y="4142880"/>
              <a:ext cx="91224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1836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atabase Coordina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566040" y="4290840"/>
              <a:ext cx="2883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360" y="4493160"/>
              <a:ext cx="91224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FDM 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91920" y="2246760"/>
              <a:ext cx="720" cy="1083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91760" y="4522320"/>
              <a:ext cx="360" cy="283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2120" y="4205520"/>
              <a:ext cx="912240" cy="3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700" spc="-1" strike="noStrike">
                  <a:solidFill>
                    <a:srgbClr val="000000"/>
                  </a:solidFill>
                  <a:latin typeface="Arial"/>
                </a:rPr>
                <a:t>Maintenance Safety Offic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81560" y="4206960"/>
              <a:ext cx="912240" cy="3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700" spc="-1" strike="noStrike">
                  <a:solidFill>
                    <a:srgbClr val="000000"/>
                  </a:solidFill>
                  <a:latin typeface="Arial"/>
                </a:rPr>
                <a:t>Flight Safety Manag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68280" y="4523760"/>
              <a:ext cx="720" cy="283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51480" y="4523040"/>
              <a:ext cx="720" cy="283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8120" y="4206240"/>
              <a:ext cx="912240" cy="3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700" spc="-1" strike="noStrike">
                  <a:solidFill>
                    <a:srgbClr val="000000"/>
                  </a:solidFill>
                  <a:latin typeface="Arial"/>
                </a:rPr>
                <a:t>Inflight Safety Rep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533120" y="4055400"/>
              <a:ext cx="360" cy="15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59640" y="4206960"/>
              <a:ext cx="912240" cy="3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irports Safety Rep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677240" y="3628440"/>
              <a:ext cx="720" cy="57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675800" y="4791600"/>
              <a:ext cx="489024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66400" y="4649760"/>
              <a:ext cx="28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64480" y="4854600"/>
              <a:ext cx="912240" cy="29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afety Adviso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72160" y="5011200"/>
              <a:ext cx="288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70240" y="5221800"/>
              <a:ext cx="91224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SHE Group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77920" y="5378760"/>
              <a:ext cx="2883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16560" y="3492720"/>
              <a:ext cx="172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5769000" y="4051800"/>
              <a:ext cx="360" cy="15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72920" y="3749400"/>
              <a:ext cx="91296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rector Flight Trng &amp; St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69720" y="3489120"/>
              <a:ext cx="720" cy="25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98720" y="3489120"/>
              <a:ext cx="169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78400" y="2641680"/>
              <a:ext cx="91224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VP Operational Develop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" name=""/>
            <p:cNvCxnSpPr>
              <a:stCxn id="87" idx="0"/>
              <a:endCxn id="88" idx="0"/>
            </p:cNvCxnSpPr>
            <p:nvPr/>
          </p:nvCxnSpPr>
          <p:spPr>
            <a:xfrm>
              <a:off x="1676520" y="2404080"/>
              <a:ext cx="416376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 flipV="1">
              <a:off x="3189240" y="2402640"/>
              <a:ext cx="72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28800" y="2655720"/>
              <a:ext cx="91224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700" spc="-1" strike="noStrike">
                  <a:solidFill>
                    <a:srgbClr val="000000"/>
                  </a:solidFill>
                  <a:latin typeface="Arial"/>
                </a:rPr>
                <a:t>VP Technical Servic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93560" y="3166560"/>
              <a:ext cx="36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19600" y="3331080"/>
              <a:ext cx="912240" cy="29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rector Safety Servic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11520" y="3495600"/>
              <a:ext cx="36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53880" y="3758040"/>
              <a:ext cx="912960" cy="29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rector Airport Opera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704320" y="541980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fety Represent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76600" y="1052640"/>
            <a:ext cx="37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Operational Safety Organization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4160" y="522936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fety Action Committ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83440" y="57340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fet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399760" y="1333440"/>
            <a:ext cx="43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Safety Department Mission Statement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8320" y="22050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o support effective safety programs and proactive risk management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romoting safety as an inherent val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f WestJet’s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13080" y="2043000"/>
            <a:ext cx="2745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ccountable Executiv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01600" y="3181320"/>
            <a:ext cx="3568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afety Management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(meets monthly*)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3960" y="4871880"/>
            <a:ext cx="2884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afety Action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(meets weekly*)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37840" y="2425680"/>
            <a:ext cx="2183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ccountable Execu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VP Technical Serv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VP Op.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EVP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EVP Culture &amp; Airpor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EVP Marketing &amp;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Director, 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36400" y="4292640"/>
            <a:ext cx="222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Director, Safe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Maint. Safety Offi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Manager, Flight Safe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irports Safety Advis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Inflight Safety Ad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SST Advi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S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3240" y="2492280"/>
            <a:ext cx="247680" cy="1656000"/>
          </a:xfrm>
          <a:custGeom>
            <a:avLst/>
            <a:gdLst>
              <a:gd name="textAreaLeft" fmla="*/ 158400 w 247680"/>
              <a:gd name="textAreaRight" fmla="*/ 248040 w 24768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16720" y="4356000"/>
            <a:ext cx="215640" cy="1440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3680" y="1117440"/>
            <a:ext cx="24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Safety Organization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994120" y="1197000"/>
            <a:ext cx="31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oles and Responsibilities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4720" y="1598760"/>
            <a:ext cx="7488000" cy="47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Accountable 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Senior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Executive Vice Presidents, Vice Presidents, Dir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Managers an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Front-line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Safety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Safety Represent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Safety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Safety Action Committee, Safety Management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Lead Investig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Safety Review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473280" y="119700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Safety Process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20720" y="1916280"/>
            <a:ext cx="4540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tive and Proactive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zard / Root Caus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S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ty Planning &amp;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S Quality As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3225" t="0" r="0" b="0"/>
          <a:stretch/>
        </p:blipFill>
        <p:spPr>
          <a:xfrm>
            <a:off x="-3240" y="-27000"/>
            <a:ext cx="9144000" cy="6335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0" t="0" r="0" b="87806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635200" y="119052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Basic Risk Management Process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76760" y="208080"/>
            <a:ext cx="33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Safety Management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rcRect l="0" t="7861" r="3460" b="16367"/>
          <a:stretch/>
        </p:blipFill>
        <p:spPr>
          <a:xfrm>
            <a:off x="2143080" y="260280"/>
            <a:ext cx="4857840" cy="6337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066080" y="184320"/>
            <a:ext cx="1750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</a:rPr>
              <a:t>Risk assess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</a:rPr>
              <a:t>Safety surv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</a:rPr>
              <a:t>L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</a:rPr>
              <a:t>Job safety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7080" y="264960"/>
            <a:ext cx="74520" cy="1273320"/>
          </a:xfrm>
          <a:custGeom>
            <a:avLst/>
            <a:gdLst>
              <a:gd name="textAreaLeft" fmla="*/ 47520 w 74520"/>
              <a:gd name="textAreaRight" fmla="*/ 74880 w 74520"/>
              <a:gd name="textAreaTop" fmla="*/ 33120 h 1273320"/>
              <a:gd name="textAreaBottom" fmla="*/ 1240200 h 127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520" y="189000"/>
            <a:ext cx="2172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ght incident re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nd incident re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ury re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DM stat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95640" y="263520"/>
            <a:ext cx="88920" cy="1233360"/>
          </a:xfrm>
          <a:custGeom>
            <a:avLst/>
            <a:gdLst>
              <a:gd name="textAreaLeft" fmla="*/ 0 w 88920"/>
              <a:gd name="textAreaRight" fmla="*/ 32040 w 88920"/>
              <a:gd name="textAreaTop" fmla="*/ 32040 h 1233360"/>
              <a:gd name="textAreaBottom" fmla="*/ 1201320 h 12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341520" y="1230480"/>
            <a:ext cx="3248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stJet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ty Management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MS Benefits ($$$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21656" t="18997" r="18697" b="40400"/>
          <a:stretch/>
        </p:blipFill>
        <p:spPr>
          <a:xfrm>
            <a:off x="971640" y="1844640"/>
            <a:ext cx="7272360" cy="3960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769920" y="119700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FDM Repor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769920" y="119700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FDM Repor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2749" t="14844" r="2161" b="9391"/>
          <a:stretch/>
        </p:blipFill>
        <p:spPr>
          <a:xfrm>
            <a:off x="136440" y="279360"/>
            <a:ext cx="889344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3225" t="0" r="0" b="0"/>
          <a:stretch/>
        </p:blipFill>
        <p:spPr>
          <a:xfrm>
            <a:off x="0" y="0"/>
            <a:ext cx="9144000" cy="6335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699720" y="11970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LOSA Repor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99720" y="11970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LOSA Repor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0" t="0" r="0" b="87806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-46800" y="332640"/>
            <a:ext cx="92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rganizational Error Profile (XX Airlines and LOSA Archive Comparison Airl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62000" y="731880"/>
          <a:ext cx="8820000" cy="604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000" y="731880"/>
                    <a:ext cx="8820000" cy="60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10760" y="104616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isk Management Matr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79280" y="1631880"/>
          <a:ext cx="8801280" cy="3957480"/>
        </p:xfrm>
        <a:graphic>
          <a:graphicData uri="http://schemas.openxmlformats.org/drawingml/2006/table">
            <a:tbl>
              <a:tblPr/>
              <a:tblGrid>
                <a:gridCol w="987480"/>
                <a:gridCol w="1298520"/>
                <a:gridCol w="1314360"/>
                <a:gridCol w="1371600"/>
                <a:gridCol w="1371600"/>
                <a:gridCol w="1314720"/>
                <a:gridCol w="1143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sk 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d Investigative Responsi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 of Investig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Typic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 Development Time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 Implementation Time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itial CAP Evaluation Time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se-out Autho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artment Safety R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investigator using local resour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in 6 weeks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in 3 months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in 6 months of CAP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ble Manag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artment Safety Rep or Chair, Safety Review Tea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investigator using corporate resources.  HF analysis option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in 1 month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in 2 months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in 6 months of CAP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ble  Manag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ir, Safety Review Te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investigator or investigative team using corporate resources and external resources as required.  HF analysis mandator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hort term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P within 1 week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ong term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P within 2 months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term CAP within 3 weeks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term CAP within 4 months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term CAP within 6 weeks of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term CAP within 6 months of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fety Management Commit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ir, Safety Review Te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stigative team using internal and external resources.  HF analysis mandator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term CAP within 48 hours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term CAP within 2 months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term CAP within 1 week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term CAP within 4 months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term CAP within 4 weeks of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term CAP within 6 months of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fety Management Commit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86400" y="5733360"/>
            <a:ext cx="295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AP – Corrective Action Pl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HF – Human Fa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1620720"/>
            <a:ext cx="989280" cy="561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3235320"/>
            <a:ext cx="152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23960" y="3387600"/>
            <a:ext cx="990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86080" y="3235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43040" y="524340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3425760"/>
            <a:ext cx="8798040" cy="1155600"/>
          </a:xfrm>
          <a:prstGeom prst="rect">
            <a:avLst/>
          </a:prstGeom>
          <a:noFill/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20120" y="105264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isk Management Matr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4389480"/>
            <a:ext cx="649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36920" y="4546440"/>
            <a:ext cx="57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48440" y="3780000"/>
            <a:ext cx="43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38720" y="4240080"/>
            <a:ext cx="50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36920" y="5392800"/>
            <a:ext cx="57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58840" y="1620720"/>
            <a:ext cx="1306440" cy="561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75000" y="1620720"/>
            <a:ext cx="1295280" cy="561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1620720"/>
            <a:ext cx="1368360" cy="561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8360" y="1620720"/>
            <a:ext cx="1368360" cy="561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16720" y="1620720"/>
            <a:ext cx="1319040" cy="561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34320" y="1620720"/>
            <a:ext cx="1139760" cy="561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89440" y="378936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60640" y="4240080"/>
            <a:ext cx="505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67440" y="378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58080" y="424008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079720" y="1197000"/>
            <a:ext cx="49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Database Findings / Causes / Actions Pag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19317" t="18262" r="19341" b="31264"/>
          <a:stretch/>
        </p:blipFill>
        <p:spPr>
          <a:xfrm>
            <a:off x="114480" y="237960"/>
            <a:ext cx="889308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029840" y="90792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19280" y="3139920"/>
            <a:ext cx="62690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afety Management Plan specifies initial and recurrent training standard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Safety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Senior 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 &amp; Supervi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Front line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ppropriate to the individual’s responsibilities in the safety management system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WestJet Safety Management Plan Section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11280" y="1413000"/>
            <a:ext cx="61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raining must ens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personnel are trained and competent to perform their [safety management] duties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adian Aviation Regulations 107.03(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029840" y="10461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47640" y="177336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nitial, update and recurrent training covers (as requir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4360" y="2421000"/>
          <a:ext cx="8208720" cy="3537000"/>
        </p:xfrm>
        <a:graphic>
          <a:graphicData uri="http://schemas.openxmlformats.org/drawingml/2006/table">
            <a:tbl>
              <a:tblPr/>
              <a:tblGrid>
                <a:gridCol w="4230720"/>
                <a:gridCol w="3978000"/>
              </a:tblGrid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tion 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factors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s and responsi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classification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 princi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ive action p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 safety management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ergency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ory 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pational safety and 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ation proc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rate safety 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 reporting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 communication p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tion techn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o SMS regul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active risk 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safety performance rep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90792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Commun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62960" y="1400040"/>
            <a:ext cx="3215160" cy="45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afety News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orporate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ve pres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stNet (company intra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octrination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ment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C, SMC mee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smarts (e-lear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rs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b de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erformance apprai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18040" y="477828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16040" y="2739960"/>
            <a:ext cx="411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 Black"/>
              </a:rPr>
              <a:t>SMS VIDE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55640" y="295200"/>
            <a:ext cx="7632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6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76360" y="1916280"/>
            <a:ext cx="6445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en  years in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han 43 million guests flown since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verage of 851,043 guests/month in Q4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ght year average revenue growth of 5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e year average growth: 50.0% (RPM) / 47.8% (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et of 54 Boeing 737 NG aircraft (63 aircraft in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 5,000 WestJet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58880" y="119052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WestJet Snapshot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585600" y="90792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Commun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3640" y="1681200"/>
            <a:ext cx="60613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asy to understand for ALL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ynamic introduction to SMS fundamen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focuses on proactive 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Features many employee grou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Dispatch, Maintenance, Flight Crew,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Ramp Agents, CSAs, Training, FO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21040" y="4925880"/>
            <a:ext cx="69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00000"/>
                </a:solidFill>
                <a:latin typeface="Arial Black"/>
              </a:rPr>
              <a:t>You have many elements of SMS in place 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407240" y="2008080"/>
            <a:ext cx="718668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Fuselage Ice Occurrence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(Reactive Risk Assess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pairs &amp; Downtime: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$30,000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$30,000 / yr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Single Agent De-icing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(Proactive Risk Assessm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ach Occurrence: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$50,000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$50,000 / yr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Workers Compensation Premiums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(Integrated Risk Managem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orecast Annual Savings: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$100,000 - $500,000 / yr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Category A or B Occurrenc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$$$$$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26880" y="10461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Examples of SMS Sav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56160" y="250344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56160" y="355284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03800" y="460836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56160" y="530064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29760" y="104616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Summ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3280" y="2665440"/>
            <a:ext cx="773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Formalize and document many current safet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ntroduce new and improved safety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Force greater consistency and rigor in operational 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Bring 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volve with new regulations, your company and the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hange corporate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67680" y="179244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afety Management Systems wi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86160" y="1392120"/>
            <a:ext cx="819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ffffff"/>
                </a:solidFill>
                <a:latin typeface="Arial"/>
              </a:rPr>
              <a:t>Safety Management System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833400" y="1773360"/>
          <a:ext cx="7477200" cy="47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773360"/>
                    <a:ext cx="747720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293920" y="1190520"/>
            <a:ext cx="45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Available Seat Miles  (Annual - billions)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47760" y="1486080"/>
          <a:ext cx="8245440" cy="55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1486080"/>
                    <a:ext cx="8245440" cy="55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910600" y="119052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evenue  (Annual - billions)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4000" t="0" r="0" b="0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41320" y="1771560"/>
            <a:ext cx="745956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 employees into capitalists so they think and behave like owne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loyee Share Purch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llar for dollar matching of employe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6% participation with average of 12% of base 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t sharing - $73.9 million distributed over nine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6.6% outstanding held by pi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7 million new grants to pilots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10960" y="1190520"/>
            <a:ext cx="33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Culture –  Aligning Interests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00080" y="1989000"/>
            <a:ext cx="74595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ulture of ownership, caring, empowerment, team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stJet vocabulary:  Guests,  WestJetters,  Teams,  Big Shots, Beanland, WestJet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T –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-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iv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munica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loyee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u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T and Management seek mutually beneficial solutions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any and its shar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0960" y="1190520"/>
            <a:ext cx="33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Culture –  Aligning Interests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26280" y="1844640"/>
            <a:ext cx="632844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Transport Canada regulations appl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Aircraft Maintenance Organization Certific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Air Operator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WestJet has made SMS a </a:t>
            </a: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company-wide initiative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Fligh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Infl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Air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Occupational Safety &amp;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Corporate Di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5920" y="1190520"/>
            <a:ext cx="35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Implementing the Regulations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7:33:31Z</dcterms:created>
  <dc:creator>Michael</dc:creator>
  <dc:description/>
  <dc:language>en-US</dc:language>
  <cp:lastModifiedBy>Claudia López Pérez</cp:lastModifiedBy>
  <dcterms:modified xsi:type="dcterms:W3CDTF">2006-03-27T13:50:26Z</dcterms:modified>
  <cp:revision>79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0000.00000000</vt:lpwstr>
  </property>
  <property fmtid="{D5CDD505-2E9C-101B-9397-08002B2CF9AE}" pid="5" name="Year">
    <vt:lpwstr>2006</vt:lpwstr>
  </property>
</Properties>
</file>