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1.wmf" ContentType="image/x-wmf"/>
  <Override PartName="/ppt/media/image2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4938-2D94-4EC6-957F-71EDF8DC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64BD-AA18-44F1-833C-3634B03F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DC78-77AD-4B6B-98A9-1F9E08A9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4746-1B3D-4210-8CC9-8BC3ACCC7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197A-DB33-4635-BE35-09A6110D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D6D8-93F2-4433-9E6B-55AAC271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430A-DF06-4463-A32B-696A0305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9ADC-DEF9-4B8E-9A9B-0E1D476E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DE2A-5CBD-4600-9F85-F064DCBA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E3FE-CA65-4C46-BFB2-BD5C66EF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A089-6D13-4145-8CCB-A0247354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46E3-AE68-489D-8D3D-7E2DEBE3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0254-A839-46EA-AAA2-29E1029B034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hyperlink" Target="file://Ac-acciden8/publico/Respaldo%20IBM/Ixtapa/Ixtapa%202006/Factores%20humanos%20trinacional.ppt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492280"/>
            <a:ext cx="77724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99"/>
                </a:solidFill>
                <a:latin typeface="Arial"/>
              </a:rPr>
              <a:t>Implementación del SMS en Méx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3840" y="404640"/>
            <a:ext cx="648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99ff"/>
                </a:solidFill>
                <a:latin typeface="Arial"/>
              </a:rPr>
              <a:t>Secretaría de Comunicaciones y Transpo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99ff"/>
                </a:solidFill>
                <a:latin typeface="Arial"/>
              </a:rPr>
              <a:t>Dirección General de Aeronáutica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56000" y="59007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99"/>
                </a:solidFill>
                <a:latin typeface="Arial"/>
              </a:rPr>
              <a:t>Dirección de Investigación de Accid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36440" y="1879560"/>
            <a:ext cx="4219560" cy="3164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356000" y="3267000"/>
            <a:ext cx="4537080" cy="3402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124000" y="692280"/>
            <a:ext cx="525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3399ff"/>
                </a:solidFill>
                <a:latin typeface="Arial"/>
              </a:rPr>
              <a:t>Investigación de acciden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03280" y="1935000"/>
            <a:ext cx="6265800" cy="4700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24000" y="692280"/>
            <a:ext cx="525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3399ff"/>
                </a:solidFill>
                <a:latin typeface="Arial"/>
              </a:rPr>
              <a:t>Investigación de acciden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1367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55640" y="1374840"/>
            <a:ext cx="7704000" cy="5229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124000" y="692280"/>
            <a:ext cx="525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3399ff"/>
                </a:solidFill>
                <a:latin typeface="Arial"/>
              </a:rPr>
              <a:t>Investigación de acciden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6000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8360" y="2849760"/>
            <a:ext cx="81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Los Sistemas de Administración de Seguridad </a:t>
            </a: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(SMS)</a:t>
            </a: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 son muchos hablando en general de la raíz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99"/>
                </a:solidFill>
                <a:latin typeface="Arial"/>
              </a:rPr>
              <a:t>FOQ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99"/>
                </a:solidFill>
                <a:latin typeface="Arial"/>
              </a:rPr>
              <a:t>L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99"/>
                </a:solidFill>
                <a:latin typeface="Arial"/>
              </a:rPr>
              <a:t>I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4387680"/>
            <a:ext cx="864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24000" y="692280"/>
            <a:ext cx="525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3399ff"/>
                </a:solidFill>
                <a:latin typeface="Arial"/>
              </a:rPr>
              <a:t>Investigación de acciden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93840" y="404640"/>
            <a:ext cx="648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99ff"/>
                </a:solidFill>
                <a:latin typeface="Arial"/>
              </a:rPr>
              <a:t>Secretaría de Comunicaciones y Transpo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99ff"/>
                </a:solidFill>
                <a:latin typeface="Arial"/>
              </a:rPr>
              <a:t>Dirección General de Aeronáutica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23800" y="3681360"/>
            <a:ext cx="4498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99"/>
                </a:solidFill>
                <a:latin typeface="Arial"/>
              </a:rPr>
              <a:t>Grupos de trabaj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 flipH="1">
            <a:off x="1763280" y="2349360"/>
            <a:ext cx="1295640" cy="0"/>
          </a:xfrm>
          <a:prstGeom prst="line">
            <a:avLst/>
          </a:prstGeom>
          <a:ln w="442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2000" y="2349360"/>
            <a:ext cx="1439640" cy="0"/>
          </a:xfrm>
          <a:prstGeom prst="line">
            <a:avLst/>
          </a:prstGeom>
          <a:ln w="442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916360" y="1557360"/>
            <a:ext cx="3311280" cy="1297080"/>
            <a:chOff x="2916360" y="1557360"/>
            <a:chExt cx="3311280" cy="1297080"/>
          </a:xfrm>
        </p:grpSpPr>
        <p:sp>
          <p:nvSpPr>
            <p:cNvPr id="96" name=""/>
            <p:cNvSpPr/>
            <p:nvPr/>
          </p:nvSpPr>
          <p:spPr>
            <a:xfrm>
              <a:off x="2987640" y="1557360"/>
              <a:ext cx="3168720" cy="12970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16360" y="1628640"/>
              <a:ext cx="331128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00"/>
                  </a:solidFill>
                  <a:latin typeface="Tahoma"/>
                </a:rPr>
                <a:t>COORDINACION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00"/>
                  </a:solidFill>
                  <a:latin typeface="Tahoma"/>
                </a:rPr>
                <a:t>DIRECCION DE ACCIDENTES E INCID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50920" y="2060640"/>
            <a:ext cx="1584360" cy="811080"/>
            <a:chOff x="250920" y="2060640"/>
            <a:chExt cx="1584360" cy="811080"/>
          </a:xfrm>
        </p:grpSpPr>
        <p:sp>
          <p:nvSpPr>
            <p:cNvPr id="99" name=""/>
            <p:cNvSpPr/>
            <p:nvPr/>
          </p:nvSpPr>
          <p:spPr>
            <a:xfrm>
              <a:off x="250920" y="2060640"/>
              <a:ext cx="1530360" cy="811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0920" y="2060640"/>
              <a:ext cx="1584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ahoma"/>
                </a:rPr>
                <a:t>AREAS DE SEGURIDAD DE LAS EMPRES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042920" y="3075120"/>
            <a:ext cx="1656000" cy="811080"/>
            <a:chOff x="1042920" y="3075120"/>
            <a:chExt cx="1656000" cy="811080"/>
          </a:xfrm>
        </p:grpSpPr>
        <p:sp>
          <p:nvSpPr>
            <p:cNvPr id="102" name=""/>
            <p:cNvSpPr/>
            <p:nvPr/>
          </p:nvSpPr>
          <p:spPr>
            <a:xfrm>
              <a:off x="1092240" y="3075120"/>
              <a:ext cx="1531800" cy="8110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42920" y="3141720"/>
              <a:ext cx="165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ahoma"/>
                </a:rPr>
                <a:t>DIRECCION DE AVIAC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843280" y="3429000"/>
            <a:ext cx="1655640" cy="811080"/>
            <a:chOff x="2843280" y="3429000"/>
            <a:chExt cx="1655640" cy="811080"/>
          </a:xfrm>
        </p:grpSpPr>
        <p:sp>
          <p:nvSpPr>
            <p:cNvPr id="105" name=""/>
            <p:cNvSpPr/>
            <p:nvPr/>
          </p:nvSpPr>
          <p:spPr>
            <a:xfrm>
              <a:off x="2901960" y="3429000"/>
              <a:ext cx="1531800" cy="811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43280" y="3592440"/>
              <a:ext cx="16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ahoma"/>
                </a:rPr>
                <a:t>SEN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643280" y="3429000"/>
            <a:ext cx="1656000" cy="811080"/>
            <a:chOff x="4643280" y="3429000"/>
            <a:chExt cx="1656000" cy="811080"/>
          </a:xfrm>
        </p:grpSpPr>
        <p:sp>
          <p:nvSpPr>
            <p:cNvPr id="108" name=""/>
            <p:cNvSpPr/>
            <p:nvPr/>
          </p:nvSpPr>
          <p:spPr>
            <a:xfrm>
              <a:off x="4709880" y="3429000"/>
              <a:ext cx="1532160" cy="811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43280" y="3447720"/>
              <a:ext cx="1656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ahoma"/>
                </a:rPr>
                <a:t>DIRECCION DE SEGURIDAD AERE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6516720" y="3075120"/>
            <a:ext cx="1655640" cy="811080"/>
            <a:chOff x="6516720" y="3075120"/>
            <a:chExt cx="1655640" cy="811080"/>
          </a:xfrm>
        </p:grpSpPr>
        <p:sp>
          <p:nvSpPr>
            <p:cNvPr id="111" name=""/>
            <p:cNvSpPr/>
            <p:nvPr/>
          </p:nvSpPr>
          <p:spPr>
            <a:xfrm>
              <a:off x="6593040" y="3075120"/>
              <a:ext cx="1531800" cy="811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16720" y="3141720"/>
              <a:ext cx="1655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ahoma"/>
                </a:rPr>
                <a:t>GRUPOS COLEGI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7380360" y="1989000"/>
            <a:ext cx="1601640" cy="811440"/>
            <a:chOff x="7380360" y="1989000"/>
            <a:chExt cx="1601640" cy="811440"/>
          </a:xfrm>
        </p:grpSpPr>
        <p:sp>
          <p:nvSpPr>
            <p:cNvPr id="114" name=""/>
            <p:cNvSpPr/>
            <p:nvPr/>
          </p:nvSpPr>
          <p:spPr>
            <a:xfrm>
              <a:off x="7451640" y="1989000"/>
              <a:ext cx="1530360" cy="8114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80360" y="2205000"/>
              <a:ext cx="1584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ahoma"/>
                </a:rPr>
                <a:t>DIRECCION DE 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635280" y="4508640"/>
            <a:ext cx="1944720" cy="1019160"/>
            <a:chOff x="3635280" y="4508640"/>
            <a:chExt cx="1944720" cy="1019160"/>
          </a:xfrm>
        </p:grpSpPr>
        <p:sp>
          <p:nvSpPr>
            <p:cNvPr id="117" name=""/>
            <p:cNvSpPr/>
            <p:nvPr/>
          </p:nvSpPr>
          <p:spPr>
            <a:xfrm>
              <a:off x="3635280" y="4508640"/>
              <a:ext cx="1944720" cy="100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35280" y="4581360"/>
              <a:ext cx="19432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ahoma"/>
                </a:rPr>
                <a:t>COMISION INVESTIGADORA Y DICTAMINADORA DE ACCID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348000" y="5805360"/>
            <a:ext cx="2374560" cy="863640"/>
            <a:chOff x="3348000" y="5805360"/>
            <a:chExt cx="2374560" cy="863640"/>
          </a:xfrm>
        </p:grpSpPr>
        <p:sp>
          <p:nvSpPr>
            <p:cNvPr id="120" name=""/>
            <p:cNvSpPr/>
            <p:nvPr/>
          </p:nvSpPr>
          <p:spPr>
            <a:xfrm>
              <a:off x="3426480" y="5805360"/>
              <a:ext cx="2296080" cy="86364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48000" y="6175440"/>
              <a:ext cx="23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ahoma"/>
                </a:rPr>
                <a:t>RECOMEND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627280" y="3141720"/>
            <a:ext cx="3960720" cy="0"/>
          </a:xfrm>
          <a:prstGeom prst="line">
            <a:avLst/>
          </a:prstGeom>
          <a:ln w="4428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08360" y="3141720"/>
            <a:ext cx="0" cy="287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08720" y="3141720"/>
            <a:ext cx="0" cy="287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2852640"/>
            <a:ext cx="0" cy="289080"/>
          </a:xfrm>
          <a:prstGeom prst="line">
            <a:avLst/>
          </a:prstGeom>
          <a:ln w="44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02" idx="2"/>
            <a:endCxn id="118" idx="1"/>
          </p:cNvCxnSpPr>
          <p:nvPr/>
        </p:nvCxnSpPr>
        <p:spPr>
          <a:xfrm flipH="1" rot="16200000">
            <a:off x="2163600" y="3580920"/>
            <a:ext cx="1167480" cy="1776960"/>
          </a:xfrm>
          <a:prstGeom prst="bentConnector2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99" idx="2"/>
            <a:endCxn id="118" idx="1"/>
          </p:cNvCxnSpPr>
          <p:nvPr/>
        </p:nvCxnSpPr>
        <p:spPr>
          <a:xfrm flipH="1" rot="16200000">
            <a:off x="1234800" y="2652120"/>
            <a:ext cx="2181960" cy="2620080"/>
          </a:xfrm>
          <a:prstGeom prst="bentConnector2">
            <a:avLst/>
          </a:prstGeom>
          <a:ln w="4428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11" idx="2"/>
            <a:endCxn id="118" idx="3"/>
          </p:cNvCxnSpPr>
          <p:nvPr/>
        </p:nvCxnSpPr>
        <p:spPr>
          <a:xfrm rot="5400000">
            <a:off x="5884920" y="3578760"/>
            <a:ext cx="1167480" cy="1781640"/>
          </a:xfrm>
          <a:prstGeom prst="bentConnector2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14" idx="2"/>
            <a:endCxn id="118" idx="3"/>
          </p:cNvCxnSpPr>
          <p:nvPr/>
        </p:nvCxnSpPr>
        <p:spPr>
          <a:xfrm rot="5400000">
            <a:off x="5770800" y="2607120"/>
            <a:ext cx="2253240" cy="2639160"/>
          </a:xfrm>
          <a:prstGeom prst="bentConnector2">
            <a:avLst/>
          </a:prstGeom>
          <a:ln w="4428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05" idx="2"/>
            <a:endCxn id="118" idx="1"/>
          </p:cNvCxnSpPr>
          <p:nvPr/>
        </p:nvCxnSpPr>
        <p:spPr>
          <a:xfrm rot="5400000">
            <a:off x="3244680" y="4629600"/>
            <a:ext cx="813600" cy="34200"/>
          </a:xfrm>
          <a:prstGeom prst="bentConnector4">
            <a:avLst>
              <a:gd name="adj1" fmla="val 20894"/>
              <a:gd name="adj2" fmla="val 785106"/>
            </a:avLst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08" idx="2"/>
            <a:endCxn id="118" idx="3"/>
          </p:cNvCxnSpPr>
          <p:nvPr/>
        </p:nvCxnSpPr>
        <p:spPr>
          <a:xfrm flipH="1" rot="16200000">
            <a:off x="5121360" y="4595400"/>
            <a:ext cx="813600" cy="102240"/>
          </a:xfrm>
          <a:prstGeom prst="bentConnector4">
            <a:avLst>
              <a:gd name="adj1" fmla="val 20894"/>
              <a:gd name="adj2" fmla="val 324734"/>
            </a:avLst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4572000" y="5516640"/>
            <a:ext cx="0" cy="288720"/>
          </a:xfrm>
          <a:prstGeom prst="line">
            <a:avLst/>
          </a:prstGeom>
          <a:ln w="63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92360" y="5229360"/>
            <a:ext cx="1944720" cy="39888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6000" y="623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EMI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24000" y="692280"/>
            <a:ext cx="525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3399ff"/>
                </a:solidFill>
                <a:latin typeface="Arial"/>
              </a:rPr>
              <a:t>Grupos de trabaj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250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" autoRev="1" fill="hold"/>
                                        <p:tgtEl>
                                          <p:spTgt spid="1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25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1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500"/>
                            </p:stCondLst>
                            <p:childTnLst>
                              <p:par>
                                <p:cTn id="12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25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250920" y="1722600"/>
            <a:ext cx="8001000" cy="4800600"/>
            <a:chOff x="250920" y="1722600"/>
            <a:chExt cx="8001000" cy="4800600"/>
          </a:xfrm>
        </p:grpSpPr>
        <p:sp>
          <p:nvSpPr>
            <p:cNvPr id="137" name=""/>
            <p:cNvSpPr/>
            <p:nvPr/>
          </p:nvSpPr>
          <p:spPr>
            <a:xfrm flipH="1">
              <a:off x="4251600" y="394848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489800" y="4618440"/>
              <a:ext cx="457200" cy="457200"/>
            </a:xfrm>
            <a:prstGeom prst="flowChartConnector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23200" y="4618440"/>
              <a:ext cx="1485720" cy="533160"/>
            </a:xfrm>
            <a:prstGeom prst="flowChartProcess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VESTIG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 CAMP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7185240" y="48470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36920" y="4542120"/>
              <a:ext cx="1028880" cy="255600"/>
            </a:xfrm>
            <a:prstGeom prst="flowChartProcess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A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51400" y="5826240"/>
              <a:ext cx="799920" cy="228600"/>
            </a:xfrm>
            <a:prstGeom prst="flowChartProcess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LES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08520" y="3654720"/>
              <a:ext cx="343080" cy="20574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251600" y="486288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3451320" y="342576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451320" y="5712120"/>
              <a:ext cx="45720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65720" y="5990040"/>
              <a:ext cx="1523880" cy="4572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TA </a:t>
              </a: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FORMATIV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04000" y="5913720"/>
              <a:ext cx="1447920" cy="6094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PORTE DE L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VESTIGACIÓ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D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18200" y="62186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18000" y="3704040"/>
              <a:ext cx="1067040" cy="441360"/>
            </a:xfrm>
            <a:prstGeom prst="flowChartProcess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VESTIG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37400" y="3491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565800" y="463428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0920" y="2103840"/>
              <a:ext cx="2590920" cy="64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TIFICACIÓN DEL ACCIDE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22720" y="2027520"/>
              <a:ext cx="228600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UNICADO A LA UNIDAD CERCANA AL EV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65920" y="1722600"/>
              <a:ext cx="2057400" cy="1219320"/>
            </a:xfrm>
            <a:prstGeom prst="flowChartDecision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ANÁLISIS MED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18000" y="3094200"/>
              <a:ext cx="723960" cy="457200"/>
            </a:xfrm>
            <a:prstGeom prst="flowChartConnector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80000" y="233244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08720" y="2332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47000" y="248472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36920" y="3246840"/>
              <a:ext cx="914400" cy="228600"/>
            </a:xfrm>
            <a:prstGeom prst="flowChartProcess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T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5279760" y="332280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86240" y="5999400"/>
              <a:ext cx="69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56640" y="30182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124000" y="692280"/>
            <a:ext cx="525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3399ff"/>
                </a:solidFill>
                <a:latin typeface="Arial"/>
              </a:rPr>
              <a:t>Grupos de trabaj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6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99"/>
                </a:solidFill>
                <a:latin typeface="Arial"/>
              </a:rPr>
              <a:t>Proceso de la investig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93840" y="404640"/>
            <a:ext cx="648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99ff"/>
                </a:solidFill>
                <a:latin typeface="Arial"/>
              </a:rPr>
              <a:t>Secretaría de Comunicaciones y Transpo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99ff"/>
                </a:solidFill>
                <a:latin typeface="Arial"/>
              </a:rPr>
              <a:t>Dirección General de Aeronáutica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819520" y="228600"/>
            <a:ext cx="342900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ACCIDENTE O INCID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1447920"/>
            <a:ext cx="2895480" cy="3808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DIRECCIO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INVESTIGACION DE ACCID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2133720"/>
            <a:ext cx="182880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IMERA NOTI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838080"/>
            <a:ext cx="2209680" cy="3049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MANDANCIA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AEROPUESTO O AERODROM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2743200"/>
            <a:ext cx="2057400" cy="3808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ANALISIS DE INFORMACION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NVIADA POR COMANDA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3429000"/>
            <a:ext cx="160020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STRACTO DE INFORM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Y CAUSA PROB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4038480"/>
            <a:ext cx="3124440" cy="6098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COMISIÓN INVESTIGADORA Y DICTAMINADO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DE ACCIDENTES DE AVI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(CIDA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AREAS INVOLUCRADAS Y A COMANDANCIAS, PARA QU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REALICEN LAS ACCIONES CORRECTIVAS PROPUESTAS P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LA CIDA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1828800"/>
            <a:ext cx="434340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IRECCIÓN TECNICA DE SUPERVI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IRECCIÓN DE AVI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PARTAMENTO DE TRASPORTE AEREO NACIONAL/INTERNAC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PARTAMENTO DE INVESTIGACIÓN DE RIESGO EN EL TRANSPOR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PARTAMENTO DE INSPECIÓN AERONÁUT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PARTAMENTO DE LIC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PARTAMENTO DE RIESGO AERONÁTICO MEXICA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4952880"/>
            <a:ext cx="1600200" cy="30492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ICTAMEN APROB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5562720"/>
            <a:ext cx="16002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15800" y="5278320"/>
            <a:ext cx="63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1f1a17"/>
                </a:solidFill>
                <a:latin typeface="Times New Roman"/>
              </a:rPr>
              <a:t>SE EMIT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85840" y="5791320"/>
            <a:ext cx="730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1f1a17"/>
                </a:solidFill>
                <a:latin typeface="Times New Roman"/>
              </a:rPr>
              <a:t>SE ENVÍAN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13640" y="3124080"/>
            <a:ext cx="97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1f1a17"/>
                </a:solidFill>
                <a:latin typeface="Times New Roman"/>
              </a:rPr>
              <a:t>SE PRESENTA U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09480" y="5105520"/>
            <a:ext cx="1447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609480" y="2971440"/>
            <a:ext cx="180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2971800"/>
            <a:ext cx="1219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6167000">
            <a:off x="-196920" y="3700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</a:rPr>
              <a:t>NO SE ACEPTA DICTAM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220968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5335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11430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18288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71800" y="24382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71800" y="31240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37339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71800" y="46483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71800" y="52578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71800" y="58672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319640" y="260280"/>
            <a:ext cx="280836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imes New Roman"/>
              </a:rPr>
              <a:t>COMISIÓN INVESTIGADO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imes New Roman"/>
              </a:rPr>
              <a:t>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imes New Roman"/>
              </a:rPr>
              <a:t>DICTAMINADORA DE ACCID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0" y="2276640"/>
            <a:ext cx="1008000" cy="358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SEN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914560" y="2924280"/>
            <a:ext cx="1871640" cy="360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COLEGIO DE</a:t>
            </a:r>
            <a:r>
              <a:rPr b="1" lang="es-MX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PIL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95640" y="1700280"/>
            <a:ext cx="1800360" cy="358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APOYO INTER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54200" y="3573360"/>
            <a:ext cx="2303640" cy="35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COLEGIO DE INGENI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48000" y="4221000"/>
            <a:ext cx="2592360" cy="3603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imes New Roman"/>
              </a:rPr>
              <a:t>PROPIETARIO DE LA AERON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48000" y="6165720"/>
            <a:ext cx="230328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MEDICINA DE AVI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17840" y="4797360"/>
            <a:ext cx="93672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PG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51280" y="83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72436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95640" y="1197000"/>
            <a:ext cx="32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95640" y="1197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35640" y="1989000"/>
            <a:ext cx="1800360" cy="358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APOYO EXTER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730920" y="2637000"/>
            <a:ext cx="1008000" cy="358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NTS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94520" y="5443560"/>
            <a:ext cx="208116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FABRICANTE DE L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REGISTR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83280" y="4724280"/>
            <a:ext cx="2303640" cy="35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FABRICANTE DE MO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830920" y="4003560"/>
            <a:ext cx="2592360" cy="3603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imes New Roman"/>
              </a:rPr>
              <a:t>FABRICANTE DE LA AERON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67640" y="3282840"/>
            <a:ext cx="936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B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13440" y="6165720"/>
            <a:ext cx="230364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OTRAS DG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265880" y="1197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65880" y="2347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95640" y="20588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236000" y="2995560"/>
            <a:ext cx="1728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95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9564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280280" y="364500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95640" y="3932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9564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95640" y="5805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65880" y="4363920"/>
            <a:ext cx="144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310520" y="5084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10520" y="580392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48000" y="5445000"/>
            <a:ext cx="93672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IP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95640" y="51577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Leyes, Reglamentos y NOM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Análisis de la base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Investigación de acci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Grupos de traba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Proceso de la investi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Conclu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93840" y="631800"/>
            <a:ext cx="6626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3399ff"/>
                </a:solidFill>
                <a:latin typeface="Arial"/>
              </a:rPr>
              <a:t>Objetiv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39640" y="3021120"/>
            <a:ext cx="828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Promover en conjunto con las empresas la notificación de reportes del personal de las mis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Identificar el nivel de riesgo o peligro de ocurrencia de un ev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Publicación de 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692280"/>
            <a:ext cx="6480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3399ff"/>
                </a:solidFill>
                <a:latin typeface="Arial"/>
              </a:rPr>
              <a:t>Mejora continua de la calidad y eficiencia en la DIA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050920" y="674640"/>
            <a:ext cx="68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99ff"/>
                </a:solidFill>
                <a:latin typeface="Arial"/>
              </a:rPr>
              <a:t>Mejora continua de la calidad y eficiencia en la DI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3720" y="2708280"/>
            <a:ext cx="8469360" cy="29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Promover la calidad en los reportes de Accidentes e Incidentes que elaboran las Comanda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Mantener una retroalimentación de información entre los participantes de los grupos de trabaj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Continuar con la apertura de Grupos de Trabajo, así como de nuevos proy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2193840" y="2138400"/>
            <a:ext cx="5186520" cy="43228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95280" y="577440"/>
            <a:ext cx="53989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99ff"/>
                </a:solidFill>
                <a:latin typeface="Arial"/>
              </a:rPr>
              <a:t>Conciencia Situacional de los Ries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8920" y="1812600"/>
            <a:ext cx="87138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99"/>
                </a:solidFill>
                <a:latin typeface="Arial"/>
              </a:rPr>
              <a:t>Es necesario conocer, distinguir, evaluar, los peligros y fallas lat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0120" y="4016520"/>
            <a:ext cx="1932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99"/>
                </a:solidFill>
                <a:latin typeface="Arial"/>
              </a:rPr>
              <a:t>¿Por qu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16000" y="646128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99"/>
                </a:solidFill>
                <a:latin typeface="Arial"/>
              </a:rPr>
              <a:t>Para que no nos tome de sorpresa algún evento inespe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4020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2" dur="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193840" y="404640"/>
            <a:ext cx="648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99ff"/>
                </a:solidFill>
                <a:latin typeface="Arial"/>
              </a:rPr>
              <a:t>Secretaría de Comunicaciones y Transpo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99ff"/>
                </a:solidFill>
                <a:latin typeface="Arial"/>
              </a:rPr>
              <a:t>Dirección General de Aeronáutica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59200" y="3681360"/>
            <a:ext cx="32270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99"/>
                </a:solidFill>
                <a:latin typeface="Arial"/>
              </a:rPr>
              <a:t>Conclu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144880" y="603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99ff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9640" y="2421000"/>
            <a:ext cx="828036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Recomendaciones de los grupos de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Impartir cursos requer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Implementar nuevas defini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Seguimiento del personal técnico aeronáutico post acciden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24000" y="609120"/>
            <a:ext cx="34545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99ff"/>
                </a:solidFill>
                <a:latin typeface="Arial"/>
              </a:rPr>
              <a:t>Vigilancia de la Seguridad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79640" y="1267920"/>
            <a:ext cx="69134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¿Por qué es necesario distinguir peligros o fall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619280" y="1736640"/>
            <a:ext cx="6129360" cy="4599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979640" y="6302520"/>
            <a:ext cx="50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Para poder actuar de forma adecu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17349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3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85800" y="342900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000099"/>
                </a:solidFill>
                <a:latin typeface="Arial"/>
              </a:rPr>
              <a:t>Graci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93840" y="404640"/>
            <a:ext cx="648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99ff"/>
                </a:solidFill>
                <a:latin typeface="Arial"/>
              </a:rPr>
              <a:t>Secretaría de Comunicaciones y Transpo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99ff"/>
                </a:solidFill>
                <a:latin typeface="Arial"/>
              </a:rPr>
              <a:t>Dirección General de Aeronáutica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25720" y="3352680"/>
            <a:ext cx="689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99"/>
                </a:solidFill>
                <a:latin typeface="Arial"/>
              </a:rPr>
              <a:t>Leyes, Reglamentos y NOM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93840" y="404640"/>
            <a:ext cx="648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99ff"/>
                </a:solidFill>
                <a:latin typeface="Arial"/>
              </a:rPr>
              <a:t>Secretaría de Comunicaciones y Transpo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99ff"/>
                </a:solidFill>
                <a:latin typeface="Arial"/>
              </a:rPr>
              <a:t>Dirección General de Aeronáutica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3840" y="2057400"/>
            <a:ext cx="8358120" cy="4605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Artículos 79 y 81 de l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Ley de Aviación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Artículos 20, frac. IV y 109, Frac. VIII, así como 185 del Reglamento de la Ley de Aviación Civ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PROY-NOM-059-SCT3-2000, Establece el contenido del manual de Seguridad Aé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Anexo 13.- Investigación de Accid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Manual de Prevención de Accidentes de OAC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Doc. 6920 (Manual de Investigación de Accidentes de Aviación), de O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Doc. 9859.- Safety Management M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24000" y="692280"/>
            <a:ext cx="504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3399ff"/>
                </a:solidFill>
                <a:latin typeface="Arial"/>
              </a:rPr>
              <a:t>Leyes, Reglamentos y NOM’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19400" y="3360600"/>
            <a:ext cx="65037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99"/>
                </a:solidFill>
                <a:latin typeface="Arial"/>
              </a:rPr>
              <a:t>Análisis de la base de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93840" y="404640"/>
            <a:ext cx="648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99ff"/>
                </a:solidFill>
                <a:latin typeface="Arial"/>
              </a:rPr>
              <a:t>Secretaría de Comunicaciones y Transpo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99ff"/>
                </a:solidFill>
                <a:latin typeface="Arial"/>
              </a:rPr>
              <a:t>Dirección General de Aeronáutica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24000" y="641520"/>
            <a:ext cx="489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3399ff"/>
                </a:solidFill>
                <a:latin typeface="Arial"/>
              </a:rPr>
              <a:t>Análisis de la base de dat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1844640"/>
          <a:ext cx="8569080" cy="483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844640"/>
                    <a:ext cx="856908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09480" y="1908000"/>
          <a:ext cx="6015240" cy="3149640"/>
        </p:xfrm>
        <a:graphic>
          <a:graphicData uri="http://schemas.openxmlformats.org/drawingml/2006/table">
            <a:tbl>
              <a:tblPr/>
              <a:tblGrid>
                <a:gridCol w="1787760"/>
                <a:gridCol w="663480"/>
                <a:gridCol w="662040"/>
                <a:gridCol w="691920"/>
                <a:gridCol w="762120"/>
                <a:gridCol w="762120"/>
                <a:gridCol w="6858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Factores Hum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Falla Mecán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Falta de Manten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ondiciones Meteorológ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51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Ot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OT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876920" y="4917960"/>
          <a:ext cx="4244760" cy="186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4917960"/>
                    <a:ext cx="424476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" name=""/>
          <p:cNvGrpSpPr/>
          <p:nvPr/>
        </p:nvGrpSpPr>
        <p:grpSpPr>
          <a:xfrm>
            <a:off x="609480" y="5334120"/>
            <a:ext cx="2719800" cy="1221120"/>
            <a:chOff x="609480" y="5334120"/>
            <a:chExt cx="2719800" cy="1221120"/>
          </a:xfrm>
        </p:grpSpPr>
        <p:grpSp>
          <p:nvGrpSpPr>
            <p:cNvPr id="59" name=""/>
            <p:cNvGrpSpPr/>
            <p:nvPr/>
          </p:nvGrpSpPr>
          <p:grpSpPr>
            <a:xfrm>
              <a:off x="609480" y="5334120"/>
              <a:ext cx="1904760" cy="307080"/>
              <a:chOff x="609480" y="5334120"/>
              <a:chExt cx="1904760" cy="307080"/>
            </a:xfrm>
          </p:grpSpPr>
          <p:sp>
            <p:nvSpPr>
              <p:cNvPr id="60" name=""/>
              <p:cNvSpPr/>
              <p:nvPr/>
            </p:nvSpPr>
            <p:spPr>
              <a:xfrm>
                <a:off x="731880" y="5334120"/>
                <a:ext cx="178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3333cc"/>
                    </a:solidFill>
                    <a:latin typeface="Arial"/>
                  </a:rPr>
                  <a:t>Factores Human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09480" y="5402160"/>
                <a:ext cx="128520" cy="139320"/>
              </a:xfrm>
              <a:prstGeom prst="rect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609480" y="5790960"/>
              <a:ext cx="2275920" cy="307080"/>
              <a:chOff x="609480" y="5790960"/>
              <a:chExt cx="2275920" cy="307080"/>
            </a:xfrm>
          </p:grpSpPr>
          <p:sp>
            <p:nvSpPr>
              <p:cNvPr id="63" name=""/>
              <p:cNvSpPr/>
              <p:nvPr/>
            </p:nvSpPr>
            <p:spPr>
              <a:xfrm>
                <a:off x="725040" y="5790960"/>
                <a:ext cx="21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3333cc"/>
                    </a:solidFill>
                    <a:latin typeface="Arial"/>
                  </a:rPr>
                  <a:t>Falta de Mantenimien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09480" y="5866920"/>
                <a:ext cx="128520" cy="139320"/>
              </a:xfrm>
              <a:prstGeom prst="rect">
                <a:avLst/>
              </a:pr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609480" y="5562360"/>
              <a:ext cx="1557360" cy="307080"/>
              <a:chOff x="609480" y="5562360"/>
              <a:chExt cx="1557360" cy="307080"/>
            </a:xfrm>
          </p:grpSpPr>
          <p:sp>
            <p:nvSpPr>
              <p:cNvPr id="66" name=""/>
              <p:cNvSpPr/>
              <p:nvPr/>
            </p:nvSpPr>
            <p:spPr>
              <a:xfrm>
                <a:off x="727200" y="5562360"/>
                <a:ext cx="14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3333cc"/>
                    </a:solidFill>
                    <a:latin typeface="Arial"/>
                  </a:rPr>
                  <a:t>Falla Mecáni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09480" y="5647680"/>
                <a:ext cx="128520" cy="13932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609480" y="6019560"/>
              <a:ext cx="2719800" cy="307080"/>
              <a:chOff x="609480" y="6019560"/>
              <a:chExt cx="2719800" cy="307080"/>
            </a:xfrm>
          </p:grpSpPr>
          <p:sp>
            <p:nvSpPr>
              <p:cNvPr id="69" name=""/>
              <p:cNvSpPr/>
              <p:nvPr/>
            </p:nvSpPr>
            <p:spPr>
              <a:xfrm>
                <a:off x="725400" y="6019560"/>
                <a:ext cx="26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3333cc"/>
                    </a:solidFill>
                    <a:latin typeface="Arial"/>
                  </a:rPr>
                  <a:t>Condiciones Meteorológic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9480" y="6095520"/>
                <a:ext cx="128880" cy="139320"/>
              </a:xfrm>
              <a:prstGeom prst="rect">
                <a:avLst/>
              </a:prstGeom>
              <a:solidFill>
                <a:srgbClr val="00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609480" y="6248160"/>
              <a:ext cx="775440" cy="307080"/>
              <a:chOff x="609480" y="6248160"/>
              <a:chExt cx="775440" cy="307080"/>
            </a:xfrm>
          </p:grpSpPr>
          <p:sp>
            <p:nvSpPr>
              <p:cNvPr id="72" name=""/>
              <p:cNvSpPr/>
              <p:nvPr/>
            </p:nvSpPr>
            <p:spPr>
              <a:xfrm>
                <a:off x="728640" y="624816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3333cc"/>
                    </a:solidFill>
                    <a:latin typeface="Arial"/>
                  </a:rPr>
                  <a:t>Otr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09480" y="6324120"/>
                <a:ext cx="128520" cy="1393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63240" y="476280"/>
            <a:ext cx="6294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3399ff"/>
                </a:solidFill>
                <a:latin typeface="Arial"/>
              </a:rPr>
              <a:t>Principales Caus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93840" y="404640"/>
            <a:ext cx="648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99ff"/>
                </a:solidFill>
                <a:latin typeface="Arial"/>
              </a:rPr>
              <a:t>Secretaría de Comunicaciones y Transpo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99ff"/>
                </a:solidFill>
                <a:latin typeface="Arial"/>
              </a:rPr>
              <a:t>Dirección General de Aeronáutica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63680" y="3352680"/>
            <a:ext cx="641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99"/>
                </a:solidFill>
                <a:latin typeface="Arial"/>
              </a:rPr>
              <a:t>Investigación de accide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79280" y="1920960"/>
          <a:ext cx="8713800" cy="479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920960"/>
                    <a:ext cx="8713800" cy="47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124000" y="692280"/>
            <a:ext cx="525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3399ff"/>
                </a:solidFill>
                <a:latin typeface="Arial"/>
              </a:rPr>
              <a:t>Investigación de acciden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2133720"/>
            <a:ext cx="2232000" cy="4583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14:51:06Z</dcterms:created>
  <dc:creator>Jorge Cornejo Coria</dc:creator>
  <dc:description/>
  <dc:language>en-US</dc:language>
  <cp:lastModifiedBy>Claudia López Pérez</cp:lastModifiedBy>
  <dcterms:modified xsi:type="dcterms:W3CDTF">2006-03-27T13:49:44Z</dcterms:modified>
  <cp:revision>85</cp:revision>
  <dc:subject/>
  <dc:title>ICAO/ASPA Regional Seminar on Safety Management Systems (SMS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1919900.00000000</vt:lpwstr>
  </property>
  <property fmtid="{D5CDD505-2E9C-101B-9397-08002B2CF9AE}" pid="5" name="Year">
    <vt:lpwstr>2006</vt:lpwstr>
  </property>
</Properties>
</file>