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4075-D539-4B50-A067-8AFF79A57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of you may now be asking “How do we go about implementing a SMS across our Company?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uld be done in these 4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1. Inven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Safety Management System (components and elements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Management System performance framework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buy-in and commitment from operational group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SMS Implementation Project pla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e project team members and employees and solicit their 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2. Best Practices Sear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existence of system components and elements in operational group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/compare components and elements of each grou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best practice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buy-in from operational groups;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 processes and formalize (documentation/tools/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3. Instant Suc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significant safety expense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 Critical To Safety (CTS) elements in processe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process improvement plans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ement plans;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 and 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4. Continuous Improvement Strate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ine phase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ure phas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lyze phase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prove phase;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trol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32155-C7E2-4E0C-84D3-72BB1E39BD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4280" y="606240"/>
            <a:ext cx="838692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04280" y="1546200"/>
            <a:ext cx="838692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4280" y="3917880"/>
            <a:ext cx="838692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1EA3A-95FC-4D2B-90E3-E5D8F734B1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4280" y="606240"/>
            <a:ext cx="838692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4280" y="1546200"/>
            <a:ext cx="409248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1600" y="1546200"/>
            <a:ext cx="409248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4280" y="3917880"/>
            <a:ext cx="409248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1600" y="3917880"/>
            <a:ext cx="409248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CD9D8-0C04-4092-8830-D52B3225B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4280" y="606240"/>
            <a:ext cx="838692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04280" y="1546200"/>
            <a:ext cx="270036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000" y="1546200"/>
            <a:ext cx="270036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5720" y="1546200"/>
            <a:ext cx="270036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04280" y="3917880"/>
            <a:ext cx="270036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000" y="3917880"/>
            <a:ext cx="270036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5720" y="3917880"/>
            <a:ext cx="270036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6E337-C117-4EC5-911B-C961048FC6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4280" y="606240"/>
            <a:ext cx="838692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04280" y="1546200"/>
            <a:ext cx="8386920" cy="45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9F4AE-D51A-4BAA-82A6-E929033A7E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4280" y="606240"/>
            <a:ext cx="838692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04280" y="1546200"/>
            <a:ext cx="838692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3648D-DEA5-4203-9C4C-6B3DD0E4F7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4280" y="606240"/>
            <a:ext cx="838692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04280" y="1546200"/>
            <a:ext cx="409248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1600" y="1546200"/>
            <a:ext cx="409248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DCECD-7DD8-4C7D-AEAF-3B4788E735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4280" y="606240"/>
            <a:ext cx="838692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CF2FC-2378-4532-BE80-A4D2391328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4280" y="606240"/>
            <a:ext cx="8386920" cy="42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307CE-6B01-45AA-90D9-1C3CB3D5FA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4280" y="606240"/>
            <a:ext cx="838692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4280" y="1546200"/>
            <a:ext cx="409248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1600" y="1546200"/>
            <a:ext cx="409248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04280" y="3917880"/>
            <a:ext cx="409248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BC2B7-51B3-4281-AD3F-E7E5831E2C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4280" y="606240"/>
            <a:ext cx="838692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4280" y="1546200"/>
            <a:ext cx="409248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1600" y="1546200"/>
            <a:ext cx="409248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1600" y="3917880"/>
            <a:ext cx="409248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92EE6-C1B1-4ACA-8F1F-1B8A8FE77F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4280" y="606240"/>
            <a:ext cx="838692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04280" y="1546200"/>
            <a:ext cx="409248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1600" y="1546200"/>
            <a:ext cx="409248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04280" y="3917880"/>
            <a:ext cx="8386920" cy="21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A65DB-DBA4-40B6-ACEE-7564FB5D33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549680" y="233280"/>
            <a:ext cx="4349880" cy="4460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220680" y="6178680"/>
            <a:ext cx="8701200" cy="48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04280" y="606240"/>
            <a:ext cx="838692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04280" y="1546200"/>
            <a:ext cx="838692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0" y="6251040"/>
            <a:ext cx="9144000" cy="4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fr-FR" sz="1300" spc="-1" strike="noStrike">
                <a:solidFill>
                  <a:srgbClr val="867e7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C5157E-BDE6-4062-B7FA-501E5C7B444B}" type="slidenum">
              <a:rPr b="0" lang="fr-FR" sz="1300" spc="-1" strike="noStrike">
                <a:solidFill>
                  <a:srgbClr val="867e79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5130720"/>
            <a:ext cx="914400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CA" sz="3800" spc="-1" strike="noStrike">
                <a:solidFill>
                  <a:srgbClr val="3333cc"/>
                </a:solidFill>
                <a:latin typeface="Times New Roman"/>
                <a:ea typeface="Arial"/>
              </a:rPr>
              <a:t>Implementing SMS in Civil Aviation: the Canadian Perspectiv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GaramondPro-Regular"/>
              </a:rPr>
              <a:t>Transport Canada’s Implementation 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38692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</a:rPr>
              <a:t>Regional multi-disciplinary project implementation te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</a:rPr>
              <a:t>Functional guidance from Ottaw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</a:rPr>
              <a:t>Cross functional information sharing between re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</a:rPr>
              <a:t>All affected organizations visited and briefed on Safety Management Systems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TC Review Pro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</a:rPr>
              <a:t>Each stage will be assessed in accordance with TP 14236, however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</a:rPr>
              <a:t>Regardless of the phase, this does not constitute an approval of the SMS. SMS approvals will </a:t>
            </a:r>
            <a:r>
              <a:rPr b="0" i="1" lang="en-US" sz="3200" spc="-1" strike="noStrike">
                <a:solidFill>
                  <a:srgbClr val="000000"/>
                </a:solidFill>
                <a:latin typeface="AGaramondPro-Regular"/>
              </a:rPr>
              <a:t>only </a:t>
            </a:r>
            <a:r>
              <a:rPr b="0" lang="en-US" sz="3200" spc="-1" strike="noStrike">
                <a:solidFill>
                  <a:srgbClr val="000000"/>
                </a:solidFill>
                <a:latin typeface="AGaramondPro-Regular"/>
              </a:rPr>
              <a:t>be given after completion of Phase 4 and a satisfactory SMS assessment by 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hase 1 objec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</a:rPr>
              <a:t>Provide a blueprint on how the requirements will be met and integrated in to the organization’s work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</a:rPr>
              <a:t>Provide an accountability framework for 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GaramondPro-Regular"/>
              </a:rPr>
              <a:t>Phase 1 Requir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2400" indent="-302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Pro-Regular"/>
              </a:rPr>
              <a:t>Identify the accountable execu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2400" indent="-302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Pro-Regular"/>
              </a:rPr>
              <a:t>Identify the person within the organization responsible for implementing the 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2400" indent="-302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Pro-Regular"/>
              </a:rPr>
              <a:t>Conduct a gap analysis of the organization’s existing systems compared to the CARs SMS requirements;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2400" indent="-302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Pro-Regular"/>
              </a:rPr>
              <a:t>Develop a project plan that clearly demonstrates how the organization will implement their SMS based on the requirements of the exemption and the results of the gap analy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2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2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ompliance to d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</a:rPr>
              <a:t>Submission of the Phase I documentation was required by September 30, 2005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</a:rPr>
              <a:t>To date 100% compliance with SMS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GaramondPro-Semibold"/>
                <a:ea typeface="Times New Roman"/>
              </a:rPr>
              <a:t>Phase 2 Requiremen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Garamond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Pro-Regular"/>
              </a:rPr>
              <a:t>The Safety Management Plan component (including all elements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Garamond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Pro-Regular"/>
              </a:rPr>
              <a:t>Safety Oversight compon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Pro-Regular"/>
                <a:ea typeface="Times New Roman"/>
              </a:rPr>
              <a:t>(i) Reactive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Pro-Regular"/>
                <a:ea typeface="Times New Roman"/>
              </a:rPr>
              <a:t>(ii) Investigation and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Pro-Regular"/>
                <a:ea typeface="Times New Roman"/>
              </a:rPr>
              <a:t>(iii) Risk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GaramondPro-Regular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Pro-Regular"/>
                <a:ea typeface="Times New Roman"/>
              </a:rPr>
              <a:t>Training and documentation relevant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GaramondPro-Regula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aramondPro-Regular"/>
              </a:rPr>
              <a:t>The Safety Management Plan compon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GaramondPro-Regula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aramondPro-Regular"/>
              </a:rPr>
              <a:t>The Phase 2 Safety Oversight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GaramondPro-Semibold"/>
              </a:rPr>
              <a:t>Why this Approa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Semi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Semibold"/>
              </a:rPr>
              <a:t>To provide a progressive and logical development of an SMS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Semi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Semibold"/>
              </a:rPr>
              <a:t>Provide a foundation for the development of Phases 3&amp;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4280" y="606240"/>
            <a:ext cx="838692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3869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mission of the Phase 2 documentation is required by September 30, 2006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phases required 2007 and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28600"/>
            <a:ext cx="8386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333cc"/>
                </a:solidFill>
                <a:latin typeface="Times New Roman"/>
              </a:rPr>
              <a:t>Timel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4280" y="606240"/>
            <a:ext cx="838692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hase 3 Requir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4280" y="1546200"/>
            <a:ext cx="838692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roactive Proce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igation and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k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  <a:ea typeface="Times New Roman"/>
              </a:rPr>
              <a:t>Training and documentation relevant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GaramondPro-Regula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Pro-Regular"/>
              </a:rPr>
              <a:t>Safety Oversight Proactive Proc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4280" y="606240"/>
            <a:ext cx="838692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Phase 4 Requir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4280" y="1546200"/>
            <a:ext cx="838692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</a:rPr>
              <a:t>Operational Quality Ass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</a:rPr>
              <a:t>Emergency Preparedness and Res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</a:rPr>
              <a:t>Training for personnel assigned duties under the SMS that are relevant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GaramondPro-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Pro-Regular"/>
              </a:rPr>
              <a:t>the components and elements referred to in (a) and (b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GaramondPro-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Pro-Regular"/>
              </a:rPr>
              <a:t>Documented policies and procedures that are relevant to the SMS components and elements referred to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333cc"/>
                </a:solidFill>
                <a:latin typeface="Times New Roman"/>
              </a:rPr>
              <a:t>Transport Canada</a:t>
            </a:r>
            <a:br>
              <a:rPr sz="4000"/>
            </a:br>
            <a:r>
              <a:rPr b="1" lang="en-CA" sz="4000" spc="-1" strike="noStrike">
                <a:solidFill>
                  <a:srgbClr val="3333cc"/>
                </a:solidFill>
                <a:latin typeface="Times New Roman"/>
              </a:rPr>
              <a:t>Aviation SMS Components </a:t>
            </a:r>
            <a:br>
              <a:rPr sz="4000"/>
            </a:br>
            <a:r>
              <a:rPr b="1" lang="en-CA" sz="4000" spc="-1" strike="noStrike">
                <a:solidFill>
                  <a:srgbClr val="3333cc"/>
                </a:solidFill>
                <a:latin typeface="Times New Roman"/>
              </a:rPr>
              <a:t>&amp; El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36360"/>
            <a:ext cx="4933800" cy="2173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Times New Roman"/>
              </a:rPr>
              <a:t>1. Safety Management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Safety Poli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Non-punitive Safety Reporting Poli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Roles, Responsibilities &amp; Employee Invol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Safety Planning, Objectives &amp;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Performance Measur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Management Re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86200" y="2362320"/>
            <a:ext cx="495288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Times New Roman"/>
              </a:rPr>
              <a:t>2. Document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Identification &amp; Maintenance of Applicable Regu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SMS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Records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86200" y="6337440"/>
            <a:ext cx="4933800" cy="444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6. Emergency Prepared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6200" y="5727600"/>
            <a:ext cx="495288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5. Quality Assu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5118120"/>
            <a:ext cx="493380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4.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3619440"/>
            <a:ext cx="4933800" cy="1409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imes New Roman"/>
              </a:rPr>
              <a:t>3. Safety Overs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Reactive Process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Proactive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Investigation and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17640" y="3879720"/>
            <a:ext cx="520920" cy="768600"/>
          </a:xfrm>
          <a:prstGeom prst="rect">
            <a:avLst/>
          </a:prstGeom>
          <a:solidFill>
            <a:srgbClr val="94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3348600">
            <a:off x="3186720" y="3134520"/>
            <a:ext cx="252360" cy="1181160"/>
          </a:xfrm>
          <a:prstGeom prst="rect">
            <a:avLst/>
          </a:prstGeom>
          <a:solidFill>
            <a:srgbClr val="98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7497600">
            <a:off x="3212280" y="4283640"/>
            <a:ext cx="201600" cy="1175040"/>
          </a:xfrm>
          <a:prstGeom prst="rect">
            <a:avLst/>
          </a:prstGeom>
          <a:solidFill>
            <a:srgbClr val="98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4280" y="606240"/>
            <a:ext cx="838692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ritical Success Fac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779148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ment commit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loyee invol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y-in by all employe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ve safety cul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cation &amp; information sha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measurement and 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nership with the regulatory autho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4280" y="606240"/>
            <a:ext cx="838692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333cc"/>
                </a:solidFill>
                <a:latin typeface="Times New Roman"/>
              </a:rPr>
              <a:t>Lessons Learn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04280" y="1546200"/>
            <a:ext cx="838692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upport of top management cri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hampions in all ar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tart with a manageable task; don’t try and implement an SMS overn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hange the way you do things before you implement the infrastructure: “it’s all about culture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velop basic performance measu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gulator needs a clear, concise standard and implementation tools to assist indu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333cc"/>
                </a:solidFill>
                <a:latin typeface="Times New Roman"/>
              </a:rPr>
              <a:t>TC SMS Implem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0" y="990720"/>
          <a:ext cx="9144000" cy="4717800"/>
        </p:xfrm>
        <a:graphic>
          <a:graphicData uri="http://schemas.openxmlformats.org/drawingml/2006/table">
            <a:tbl>
              <a:tblPr/>
              <a:tblGrid>
                <a:gridCol w="1447920"/>
                <a:gridCol w="990360"/>
                <a:gridCol w="1143000"/>
                <a:gridCol w="1143000"/>
                <a:gridCol w="1219320"/>
                <a:gridCol w="1143000"/>
                <a:gridCol w="1066680"/>
                <a:gridCol w="990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0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0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4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-Fo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90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1 Ye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2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3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</a:tr>
              <a:tr h="121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forcement Policy In Pl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tical Mass of Inspectors Train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emption In Pl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l Certif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Year Follow-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Year Follow-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Year Follow-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pd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idance Materi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ASS Tasks Develop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sessment Protocol Comple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gridSpan="7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nal 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ternal 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663480"/>
            <a:ext cx="7048440" cy="6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CA" sz="4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CA" sz="4000" spc="-1" strike="noStrike">
                <a:solidFill>
                  <a:srgbClr val="3333cc"/>
                </a:solidFill>
                <a:latin typeface="Times New Roman"/>
              </a:rPr>
              <a:t>SMS in Small Oper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360" y="1512720"/>
            <a:ext cx="8224920" cy="31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Objective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CARAC Technical Committee initiative to determine if SMS can work as a regulatory initiative in smaller operations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62"/>
              </a:spcBef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Identify a cross-section of small air operators, flight training units and AMOs, taking into account such factors as, number of employees, aircraft types and/or ratings, scope and types of operation and operating environment, etc.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4648320"/>
            <a:ext cx="8211960" cy="12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spcBef>
                <a:spcPts val="1562"/>
              </a:spcBef>
              <a:buClr>
                <a:srgbClr val="000000"/>
              </a:buClr>
              <a:buFont typeface="Times New Roman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Review implementation strategies for the currently proposed regulations for small companies and make recommendations regarding any required chang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4280" y="606240"/>
            <a:ext cx="838692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333cc"/>
                </a:solidFill>
                <a:latin typeface="Times New Roman"/>
              </a:rPr>
              <a:t>SMS SOP Project Objec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2986200"/>
            <a:ext cx="7716960" cy="8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Times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Evaluate the current implementation plan for SMS and document any recommended changes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360" y="4057560"/>
            <a:ext cx="7864560" cy="8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Provide a written report within a practical timeframe to allow project recommendations to be considered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4760" y="1512720"/>
            <a:ext cx="7850160" cy="12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Times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Arial"/>
              </a:rPr>
              <a:t>Evaluate the tools and guidance material on SMS developed by TCCA and document any recommended changes;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4280" y="606240"/>
            <a:ext cx="838692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Industry Partn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2130480"/>
            <a:ext cx="6755040" cy="23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Times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companies involved;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Times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: Atlantic,  Quebec, Ontario, PNR and Pacific Region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Times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ariety of operations included based on size and complexity</a:t>
            </a:r>
            <a:r>
              <a:rPr b="1" i="1" lang="en-CA" sz="25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4280" y="606600"/>
            <a:ext cx="8386920" cy="65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9560" y="1492200"/>
            <a:ext cx="771372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Times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Gather and analyze inform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8800" y="2600280"/>
            <a:ext cx="745992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Times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ake recommenda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7120" y="3751200"/>
            <a:ext cx="845028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Times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ct on recommenda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5440" y="4513320"/>
            <a:ext cx="861372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Times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onitor Performan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9840" y="5308560"/>
            <a:ext cx="8762760" cy="4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buClr>
                <a:srgbClr val="000000"/>
              </a:buClr>
              <a:buFont typeface="Times"/>
              <a:buChar char="•"/>
              <a:tabLst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lose the loop (continue to gather information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" dur="1" fill="hold"/>
                                  <p:tgtEl>
                                    <p:spTgt spid="11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Getting Started: Implementing a 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fety Management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2438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the proposed reg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what SMS means to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minate a project manager-an effective SMS doesn’t build it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it to building a 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Getting Started: Implementing a Safety 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Management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386920" cy="45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ventory –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do I have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hat do I need?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would it work in my organiz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a project plan-Decide how you intend to build your S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 and advertis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Getting Started: Implementing a 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afety Management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6920" cy="45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velop basic infrastructure required to foster a “safe culture” – change the way we approach safe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MS plan – the roadma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ocument policy and procedu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efine the policies that will foster the culture you wa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municat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uild the rest of the system in a logical mann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4280" y="606240"/>
            <a:ext cx="838692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S Guidance mate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4280" y="1546200"/>
            <a:ext cx="838692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  <a:ea typeface="Times New Roman"/>
              </a:rPr>
              <a:t>TP 13739 – Introduction to SM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  <a:ea typeface="Times New Roman"/>
              </a:rPr>
              <a:t>TP 13881 – Safety Management Systems for Flight Operations And Aircraft Maintenance Organizations - A Guide to Implementation (11,000 copies distribut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  <a:ea typeface="Times New Roman"/>
              </a:rPr>
              <a:t>TP 13415 – Safety Management Systems for Small Aviation 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606240"/>
            <a:ext cx="787716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TC’s SMS Partnershi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04280" y="1546200"/>
            <a:ext cx="838692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itment to provide resources to assist with SMS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dance and interpretation of the proposed reg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tion on best pract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ttp://www.tc.gc.ca/CivilAviation/SMS/menu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4280" y="606240"/>
            <a:ext cx="838692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S Guidance mate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04280" y="1546200"/>
            <a:ext cx="838692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  <a:ea typeface="Arial Unicode MS"/>
              </a:rPr>
              <a:t>Safety Management Systems Assessment Guide (TP1432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  <a:ea typeface="Times New Roman"/>
              </a:rPr>
              <a:t>TP 14235 – Civil Aviation Implementation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333cc"/>
                </a:solidFill>
                <a:latin typeface="AGaramondPro-Regular"/>
                <a:ea typeface="Times New Roman"/>
              </a:rPr>
              <a:t>SMS Guidance materia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  <a:ea typeface="Times New Roman"/>
              </a:rPr>
              <a:t>TP 13881 – Safety Management Systems for Flight Operations And Aircraft Maintenance Organizations - A Guide to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MS Guidance material</a:t>
            </a:r>
            <a:r>
              <a:rPr b="0" lang="en-CA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77920" y="1774800"/>
            <a:ext cx="838656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  <a:ea typeface="Arial Unicode MS"/>
              </a:rPr>
              <a:t>Safety Management Systems Assessment Guide (TP14326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GaramondPro-Regular"/>
                <a:ea typeface="Times New Roman"/>
              </a:rPr>
              <a:t>The expectations, along with the associated questions, provide an excellent gu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  <a:ea typeface="Arial Unicode MS"/>
              </a:rPr>
              <a:t>Assessment Guide can be used as an SMS development and certification to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4280" y="606240"/>
            <a:ext cx="838692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vil Aviation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4280" y="1546200"/>
            <a:ext cx="838692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ttp://www.tc.gc.ca/CivilAviation/SMS/menu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4280" y="606240"/>
            <a:ext cx="8386920" cy="92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cc"/>
                </a:solidFill>
                <a:latin typeface="Times New Roman"/>
              </a:rPr>
              <a:t>Regulatory Requir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04280" y="1546200"/>
            <a:ext cx="838692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Effective May 31, 2005, Large Air Carriers and their Approved Maintenance Organizations were required to implement Safety Management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n exemption was issued to enable structured, phased in,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Why a phased in approach 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to S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</a:rPr>
              <a:t>Provides a manageable series of steps for organizations to follow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GaramondPro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Pro-Regular"/>
              </a:rPr>
              <a:t>Four implementation phases were identified; each phase involves the introduction of specific SMS components and el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03:14:09Z</dcterms:created>
  <dc:creator>Jacqueline Booth-Bourdeau</dc:creator>
  <dc:description/>
  <dc:language>en-US</dc:language>
  <cp:lastModifiedBy>Claudia López Pérez</cp:lastModifiedBy>
  <dcterms:modified xsi:type="dcterms:W3CDTF">2006-03-27T13:49:00Z</dcterms:modified>
  <cp:revision>13</cp:revision>
  <dc:subject/>
  <dc:title>ICAO/ASPA Regional Seminar on Safety Management Systems (SMS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1919800.00000000</vt:lpwstr>
  </property>
  <property fmtid="{D5CDD505-2E9C-101B-9397-08002B2CF9AE}" pid="5" name="Year">
    <vt:lpwstr>2006</vt:lpwstr>
  </property>
</Properties>
</file>