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3"/>
          </p:nvPr>
        </p:nvSpPr>
        <p:spPr>
          <a:xfrm>
            <a:off x="-36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4"/>
          </p:nvPr>
        </p:nvSpPr>
        <p:spPr>
          <a:xfrm>
            <a:off x="388584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204B4-4701-4382-91CD-41433A2ED8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52360" y="685800"/>
            <a:ext cx="4553280" cy="34146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of you may now be asking “How do we go about implementing a SMS across our Company?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could be done in these 4 step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1. Inven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e Safety Management System (components and elements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e Management System performance framework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t buy-in and commitment from operational groups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 SMS Implementation Project plan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ucate project team members and employees and solicit their in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2. Best Practices Searc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ntify existence of system components and elements in operational group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lyze/compare components and elements of each grou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ntify best practices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t buy-in from operational groups; 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p processes and formalize (documentation/tools/etc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3. Instant Succe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ntify significant safety expense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ntify Critical To Safety (CTS) elements in processe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 process improvement plans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ement plans; 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 and 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4. Continuous Improvement Strateg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ine phase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sure phase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lyze phase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prove phase; 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C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trol ph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47D1E-0F9D-4E41-850C-97209D88B3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04280" y="606240"/>
            <a:ext cx="8386920" cy="92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04280" y="1546200"/>
            <a:ext cx="8386920" cy="216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04280" y="3917880"/>
            <a:ext cx="8386920" cy="216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6A3D6-E766-45AE-BBA3-3F2259A1D1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04280" y="606240"/>
            <a:ext cx="8386920" cy="92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04280" y="1546200"/>
            <a:ext cx="4092480" cy="216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01600" y="1546200"/>
            <a:ext cx="4092480" cy="216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04280" y="3917880"/>
            <a:ext cx="4092480" cy="216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01600" y="3917880"/>
            <a:ext cx="4092480" cy="216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09081-B325-40D3-A205-740C842B21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04280" y="606240"/>
            <a:ext cx="8386920" cy="92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04280" y="1546200"/>
            <a:ext cx="2700360" cy="216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0000" y="1546200"/>
            <a:ext cx="2700360" cy="216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5720" y="1546200"/>
            <a:ext cx="2700360" cy="216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04280" y="3917880"/>
            <a:ext cx="2700360" cy="216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0000" y="3917880"/>
            <a:ext cx="2700360" cy="216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5720" y="3917880"/>
            <a:ext cx="2700360" cy="216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E53A6-8A15-4925-96F9-0AC43CF70A5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04280" y="606240"/>
            <a:ext cx="8386920" cy="92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04280" y="1546200"/>
            <a:ext cx="8386920" cy="45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80DCD-9176-4223-89AD-83A1C7E7502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04280" y="606240"/>
            <a:ext cx="8386920" cy="92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04280" y="1546200"/>
            <a:ext cx="8386920" cy="45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D9991-808F-4DC3-92CD-BB0A776602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04280" y="606240"/>
            <a:ext cx="8386920" cy="92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04280" y="1546200"/>
            <a:ext cx="4092480" cy="45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01600" y="1546200"/>
            <a:ext cx="4092480" cy="45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6DC30-7678-4C6A-A540-DBD18D5205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04280" y="606240"/>
            <a:ext cx="8386920" cy="92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E9D52-83E8-4DE4-8878-B7AA55E2EE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04280" y="606240"/>
            <a:ext cx="8386920" cy="42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3A324-77A2-47C8-97D6-6400BCA1CB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04280" y="606240"/>
            <a:ext cx="8386920" cy="92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04280" y="1546200"/>
            <a:ext cx="4092480" cy="216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01600" y="1546200"/>
            <a:ext cx="4092480" cy="45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04280" y="3917880"/>
            <a:ext cx="4092480" cy="216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A3675-4292-4C83-BDA6-236CBFB38B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04280" y="606240"/>
            <a:ext cx="8386920" cy="92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04280" y="1546200"/>
            <a:ext cx="4092480" cy="45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1600" y="1546200"/>
            <a:ext cx="4092480" cy="216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01600" y="3917880"/>
            <a:ext cx="4092480" cy="216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180CB-696A-4ADB-93D0-F9F0799787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04280" y="606240"/>
            <a:ext cx="8386920" cy="92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04280" y="1546200"/>
            <a:ext cx="4092480" cy="216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1600" y="1546200"/>
            <a:ext cx="4092480" cy="216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04280" y="3917880"/>
            <a:ext cx="8386920" cy="216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ACF10-73CA-476C-9DC3-FA417D6870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4549680" y="233280"/>
            <a:ext cx="4349880" cy="44604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220680" y="6178680"/>
            <a:ext cx="8701200" cy="482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04280" y="606240"/>
            <a:ext cx="8386920" cy="92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04280" y="1546200"/>
            <a:ext cx="8386920" cy="45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0" y="6251040"/>
            <a:ext cx="9144000" cy="4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fr-FR" sz="1300" spc="-1" strike="noStrike">
                <a:solidFill>
                  <a:srgbClr val="867e79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4637360-85B4-4EA9-89F5-D40CCF386E3B}" type="slidenum">
              <a:rPr b="0" lang="fr-FR" sz="1300" spc="-1" strike="noStrike">
                <a:solidFill>
                  <a:srgbClr val="867e79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5130720"/>
            <a:ext cx="9144000" cy="12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en-CA" sz="3800" spc="-1" strike="noStrike">
                <a:solidFill>
                  <a:srgbClr val="3333cc"/>
                </a:solidFill>
                <a:latin typeface="Times New Roman"/>
                <a:ea typeface="Arial"/>
              </a:rPr>
              <a:t>Implementing SMS in Civil Aviation: the Canadian Perspectiv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GaramondPro-Regular"/>
              </a:rPr>
              <a:t>Transport Canada’s Implementation Strateg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386920" cy="45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GaramondPro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GaramondPro-Regular"/>
              </a:rPr>
              <a:t>Regional multi-disciplinary project implementation tea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GaramondPro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GaramondPro-Regular"/>
              </a:rPr>
              <a:t>Functional guidance from Ottaw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GaramondPro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GaramondPro-Regular"/>
              </a:rPr>
              <a:t>Cross functional information sharing between reg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GaramondPro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GaramondPro-Regular"/>
              </a:rPr>
              <a:t>All affected organizations visited and briefed on Safety Management Systems 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TC Review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GaramondPro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GaramondPro-Regular"/>
              </a:rPr>
              <a:t>Each stage will be assessed in accordance with TP 14236, however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GaramondPro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GaramondPro-Regular"/>
              </a:rPr>
              <a:t>Regardless of the phase, this does not constitute an approval of the SMS. SMS approvals will </a:t>
            </a:r>
            <a:r>
              <a:rPr b="0" i="1" lang="en-US" sz="3200" spc="-1" strike="noStrike">
                <a:solidFill>
                  <a:srgbClr val="000000"/>
                </a:solidFill>
                <a:latin typeface="AGaramondPro-Regular"/>
              </a:rPr>
              <a:t>only </a:t>
            </a:r>
            <a:r>
              <a:rPr b="0" lang="en-US" sz="3200" spc="-1" strike="noStrike">
                <a:solidFill>
                  <a:srgbClr val="000000"/>
                </a:solidFill>
                <a:latin typeface="AGaramondPro-Regular"/>
              </a:rPr>
              <a:t>be given after completion of Phase 4 and a satisfactory SMS assessment by 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Phase 1 objectiv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GaramondPro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GaramondPro-Regular"/>
              </a:rPr>
              <a:t>Provide a blueprint on how the requirements will be met and integrated in to the organization’s work 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GaramondPro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GaramondPro-Regular"/>
              </a:rPr>
              <a:t>Provide an accountability framework for S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GaramondPro-Regular"/>
              </a:rPr>
              <a:t>Phase 1 Requireme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2400" indent="-302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GaramondPro-Regular"/>
              <a:buChar char="•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GaramondPro-Regular"/>
              </a:rPr>
              <a:t>Identify the accountable execu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2400" indent="-302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GaramondPro-Regular"/>
              <a:buChar char="•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GaramondPro-Regular"/>
              </a:rPr>
              <a:t>Identify the person within the organization responsible for implementing the S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2400" indent="-302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GaramondPro-Regular"/>
              <a:buChar char="•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GaramondPro-Regular"/>
              </a:rPr>
              <a:t>Conduct a gap analysis of the organization’s existing systems compared to the CARs SMS requirements; 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2400" indent="-302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GaramondPro-Regular"/>
              <a:buChar char="•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GaramondPro-Regular"/>
              </a:rPr>
              <a:t>Develop a project plan that clearly demonstrates how the organization will implement their SMS based on the requirements of the exemption and the results of the gap analys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2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2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Compliance to da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GaramondPro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GaramondPro-Regular"/>
              </a:rPr>
              <a:t>Submission of the Phase I documentation was required by September 30, 2005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GaramondPro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GaramondPro-Regular"/>
              </a:rPr>
              <a:t>To date 100% compliance with SMS 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GaramondPro-Semibold"/>
                <a:ea typeface="Times New Roman"/>
              </a:rPr>
              <a:t>Phase 2 Requirement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Garamond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GaramondPro-Regular"/>
              </a:rPr>
              <a:t>The Safety Management Plan component (including all elements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Garamond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GaramondPro-Regular"/>
              </a:rPr>
              <a:t>Safety Oversight compon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GaramondPro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GaramondPro-Regular"/>
                <a:ea typeface="Times New Roman"/>
              </a:rPr>
              <a:t>(i) Reactive Proce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GaramondPro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GaramondPro-Regular"/>
                <a:ea typeface="Times New Roman"/>
              </a:rPr>
              <a:t>(ii) Investigation and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GaramondPro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GaramondPro-Regular"/>
                <a:ea typeface="Times New Roman"/>
              </a:rPr>
              <a:t>(iii) Risk Manag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GaramondPro-Regular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GaramondPro-Regular"/>
                <a:ea typeface="Times New Roman"/>
              </a:rPr>
              <a:t>Training and documentation relevant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GaramondPro-Regular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GaramondPro-Regular"/>
              </a:rPr>
              <a:t>The Safety Management Plan compon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GaramondPro-Regular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GaramondPro-Regular"/>
              </a:rPr>
              <a:t>The Phase 2 Safety Oversight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GaramondPro-Semibold"/>
              </a:rPr>
              <a:t>Why this Approach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GaramondPro-Semi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GaramondPro-Semibold"/>
              </a:rPr>
              <a:t>To provide a progressive and logical development of an SMS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GaramondPro-Semi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GaramondPro-Semibold"/>
              </a:rPr>
              <a:t>Provide a foundation for the development of Phases 3&amp;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04280" y="606240"/>
            <a:ext cx="8386920" cy="92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38692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mission of the Phase 2 documentation is required by September 30, 2006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itional phases required 2007 and 200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28600"/>
            <a:ext cx="83869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3333cc"/>
                </a:solidFill>
                <a:latin typeface="Times New Roman"/>
              </a:rPr>
              <a:t>Timeli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4280" y="606240"/>
            <a:ext cx="8386920" cy="92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Phase 3 Requireme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04280" y="1546200"/>
            <a:ext cx="8386920" cy="45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roactive Proce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vestigation and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sk Manag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GaramondPro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GaramondPro-Regular"/>
                <a:ea typeface="Times New Roman"/>
              </a:rPr>
              <a:t>Training and documentation relevant 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GaramondPro-Regular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GaramondPro-Regular"/>
              </a:rPr>
              <a:t>Safety Oversight Proactive Process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4280" y="606240"/>
            <a:ext cx="8386920" cy="92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Phase 4 Requireme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04280" y="1546200"/>
            <a:ext cx="8386920" cy="45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GaramondPro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GaramondPro-Regular"/>
              </a:rPr>
              <a:t>Operational Quality Assur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GaramondPro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GaramondPro-Regular"/>
              </a:rPr>
              <a:t>Emergency Preparedness and Respo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GaramondPro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GaramondPro-Regular"/>
              </a:rPr>
              <a:t>Training for personnel assigned duties under the SMS that are relevant 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GaramondPro-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GaramondPro-Regular"/>
              </a:rPr>
              <a:t>the components and elements referred to in (a) and (b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GaramondPro-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GaramondPro-Regular"/>
              </a:rPr>
              <a:t>Documented policies and procedures that are relevant to the SMS components and elements referred to abo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048120" cy="373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3333cc"/>
                </a:solidFill>
                <a:latin typeface="Times New Roman"/>
              </a:rPr>
              <a:t>Transport Canada</a:t>
            </a:r>
            <a:br>
              <a:rPr sz="4000"/>
            </a:br>
            <a:r>
              <a:rPr b="1" lang="en-CA" sz="4000" spc="-1" strike="noStrike">
                <a:solidFill>
                  <a:srgbClr val="3333cc"/>
                </a:solidFill>
                <a:latin typeface="Times New Roman"/>
              </a:rPr>
              <a:t>Aviation SMS Components </a:t>
            </a:r>
            <a:br>
              <a:rPr sz="4000"/>
            </a:br>
            <a:r>
              <a:rPr b="1" lang="en-CA" sz="4000" spc="-1" strike="noStrike">
                <a:solidFill>
                  <a:srgbClr val="3333cc"/>
                </a:solidFill>
                <a:latin typeface="Times New Roman"/>
              </a:rPr>
              <a:t>&amp; Eleme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86200" y="36360"/>
            <a:ext cx="4933800" cy="21733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00"/>
                </a:solidFill>
                <a:latin typeface="Times New Roman"/>
              </a:rPr>
              <a:t>1. Safety Management Pl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CA" sz="1600" spc="-1" strike="noStrike">
                <a:solidFill>
                  <a:srgbClr val="000000"/>
                </a:solidFill>
                <a:latin typeface="Times New Roman"/>
              </a:rPr>
              <a:t>Safety Poli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CA" sz="1600" spc="-1" strike="noStrike">
                <a:solidFill>
                  <a:srgbClr val="000000"/>
                </a:solidFill>
                <a:latin typeface="Times New Roman"/>
              </a:rPr>
              <a:t>Non-punitive Safety Reporting Poli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CA" sz="1600" spc="-1" strike="noStrike">
                <a:solidFill>
                  <a:srgbClr val="000000"/>
                </a:solidFill>
                <a:latin typeface="Times New Roman"/>
              </a:rPr>
              <a:t>Roles, Responsibilities &amp; Employee Involv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CA" sz="1600" spc="-1" strike="noStrike">
                <a:solidFill>
                  <a:srgbClr val="000000"/>
                </a:solidFill>
                <a:latin typeface="Times New Roman"/>
              </a:rPr>
              <a:t>Commun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CA" sz="1600" spc="-1" strike="noStrike">
                <a:solidFill>
                  <a:srgbClr val="000000"/>
                </a:solidFill>
                <a:latin typeface="Times New Roman"/>
              </a:rPr>
              <a:t>Safety Planning, Objectives &amp; Go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CA" sz="1600" spc="-1" strike="noStrike">
                <a:solidFill>
                  <a:srgbClr val="000000"/>
                </a:solidFill>
                <a:latin typeface="Times New Roman"/>
              </a:rPr>
              <a:t>Performance Measur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CA" sz="1600" spc="-1" strike="noStrike">
                <a:solidFill>
                  <a:srgbClr val="000000"/>
                </a:solidFill>
                <a:latin typeface="Times New Roman"/>
              </a:rPr>
              <a:t>Management Re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86200" y="2362320"/>
            <a:ext cx="4952880" cy="1143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00"/>
                </a:solidFill>
                <a:latin typeface="Times New Roman"/>
              </a:rPr>
              <a:t>2. Document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CA" sz="1600" spc="-1" strike="noStrike">
                <a:solidFill>
                  <a:srgbClr val="000000"/>
                </a:solidFill>
                <a:latin typeface="Times New Roman"/>
              </a:rPr>
              <a:t>Identification &amp; Maintenance of Applicable Regul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CA" sz="1600" spc="-1" strike="noStrike">
                <a:solidFill>
                  <a:srgbClr val="000000"/>
                </a:solidFill>
                <a:latin typeface="Times New Roman"/>
              </a:rPr>
              <a:t>SMS Docu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CA" sz="1600" spc="-1" strike="noStrike">
                <a:solidFill>
                  <a:srgbClr val="000000"/>
                </a:solidFill>
                <a:latin typeface="Times New Roman"/>
              </a:rPr>
              <a:t>Records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86200" y="6337440"/>
            <a:ext cx="4933800" cy="444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Times New Roman"/>
              </a:rPr>
              <a:t>6. Emergency Prepared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86200" y="5727600"/>
            <a:ext cx="4952880" cy="457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Times New Roman"/>
              </a:rPr>
              <a:t>5. Quality Assur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86200" y="5118120"/>
            <a:ext cx="4933800" cy="457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Times New Roman"/>
              </a:rPr>
              <a:t>4. Trai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86200" y="3619440"/>
            <a:ext cx="4933800" cy="14097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Times New Roman"/>
              </a:rPr>
              <a:t>3. Safety Overs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Reactive Process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Proactive Proc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Investigation and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17640" y="3879720"/>
            <a:ext cx="520920" cy="768600"/>
          </a:xfrm>
          <a:prstGeom prst="rect">
            <a:avLst/>
          </a:prstGeom>
          <a:solidFill>
            <a:srgbClr val="947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3348600">
            <a:off x="3186720" y="3134520"/>
            <a:ext cx="252360" cy="1181160"/>
          </a:xfrm>
          <a:prstGeom prst="rect">
            <a:avLst/>
          </a:prstGeom>
          <a:solidFill>
            <a:srgbClr val="987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7497600">
            <a:off x="3212280" y="4283640"/>
            <a:ext cx="201600" cy="1175040"/>
          </a:xfrm>
          <a:prstGeom prst="rect">
            <a:avLst/>
          </a:prstGeom>
          <a:solidFill>
            <a:srgbClr val="987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4280" y="606240"/>
            <a:ext cx="8386920" cy="92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Critical Success Facto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7791480" cy="45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agement commit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mployee involv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y-in by all employe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itive safety cultu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cation &amp; information sha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formance measurement and evalu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inuous improv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nership with the regulatory author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4280" y="606240"/>
            <a:ext cx="8386920" cy="92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3333cc"/>
                </a:solidFill>
                <a:latin typeface="Times New Roman"/>
              </a:rPr>
              <a:t>Lessons Learn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04280" y="1546200"/>
            <a:ext cx="8386920" cy="45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upport of top management cri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hampions in all are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tart with a manageable task; don’t try and implement an SMS overn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hange the way you do things before you implement the infrastructure: “it’s all about culture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Develop basic performance measur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egulator needs a clear, concise standard and implementation tools to assist indu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3333cc"/>
                </a:solidFill>
                <a:latin typeface="Times New Roman"/>
              </a:rPr>
              <a:t>TC SMS Implement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0" y="990720"/>
          <a:ext cx="9144000" cy="4717800"/>
        </p:xfrm>
        <a:graphic>
          <a:graphicData uri="http://schemas.openxmlformats.org/drawingml/2006/table">
            <a:tbl>
              <a:tblPr/>
              <a:tblGrid>
                <a:gridCol w="1447920"/>
                <a:gridCol w="990360"/>
                <a:gridCol w="1143000"/>
                <a:gridCol w="1143000"/>
                <a:gridCol w="1219320"/>
                <a:gridCol w="1143000"/>
                <a:gridCol w="1066680"/>
                <a:gridCol w="9907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60 Day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0 Day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4 Day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ul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-For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90 Day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 1 Ye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2 Yea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3 Yea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</a:tr>
              <a:tr h="121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forcement Policy In Pla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itical Mass of Inspectors Train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emption In Pla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itial Certifi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Year Follow-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Year Follow-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Year Follow-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103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pda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uidance Material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ASS Tasks Develop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ssessment Protocol Comple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 gridSpan="7"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8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nal Communi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ternal Communi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219320" y="663480"/>
            <a:ext cx="7048440" cy="67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en-CA" sz="40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CA" sz="4000" spc="-1" strike="noStrike">
                <a:solidFill>
                  <a:srgbClr val="3333cc"/>
                </a:solidFill>
                <a:latin typeface="Times New Roman"/>
              </a:rPr>
              <a:t>SMS in Small Oper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360" y="1512720"/>
            <a:ext cx="8224920" cy="31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Arial"/>
              </a:rPr>
              <a:t>Objective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Arial"/>
              </a:rPr>
              <a:t>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62"/>
              </a:spcBef>
              <a:buClr>
                <a:srgbClr val="000000"/>
              </a:buClr>
              <a:buFont typeface="Times New Roman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Arial"/>
              </a:rPr>
              <a:t>CARAC Technical Committee initiative to determine if SMS can work as a regulatory initiative in smaller operations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62"/>
              </a:spcBef>
              <a:buClr>
                <a:srgbClr val="000000"/>
              </a:buClr>
              <a:buFont typeface="Times New Roman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Arial"/>
              </a:rPr>
              <a:t>Identify a cross-section of small air operators, flight training units and AMOs, taking into account such factors as, number of employees, aircraft types and/or ratings, scope and types of operation and operating environment, etc.;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" y="4648320"/>
            <a:ext cx="8211960" cy="12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>
              <a:spcBef>
                <a:spcPts val="1562"/>
              </a:spcBef>
              <a:buClr>
                <a:srgbClr val="000000"/>
              </a:buClr>
              <a:buFont typeface="Times New Roman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Arial"/>
              </a:rPr>
              <a:t>Review implementation strategies for the currently proposed regulations for small companies and make recommendations regarding any required changes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4280" y="606240"/>
            <a:ext cx="8386920" cy="92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3333cc"/>
                </a:solidFill>
                <a:latin typeface="Times New Roman"/>
              </a:rPr>
              <a:t>SMS SOP Project Objectiv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68360" y="2986200"/>
            <a:ext cx="7716960" cy="8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buClr>
                <a:srgbClr val="000000"/>
              </a:buClr>
              <a:buFont typeface="Times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Arial"/>
              </a:rPr>
              <a:t>Evaluate the current implementation plan for SMS and document any recommended changes;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1360" y="4057560"/>
            <a:ext cx="7864560" cy="8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imes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Arial"/>
              </a:rPr>
              <a:t>Provide a written report within a practical timeframe to allow project recommendations to be considered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74760" y="1512720"/>
            <a:ext cx="7850160" cy="12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buClr>
                <a:srgbClr val="000000"/>
              </a:buClr>
              <a:buFont typeface="Times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Arial"/>
              </a:rPr>
              <a:t>Evaluate the tools and guidance material on SMS developed by TCCA and document any recommended changes;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4280" y="606240"/>
            <a:ext cx="8386920" cy="92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Industry Partn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38080" y="2130480"/>
            <a:ext cx="6755040" cy="23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buClr>
                <a:srgbClr val="000000"/>
              </a:buClr>
              <a:buFont typeface="Times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 companies involved;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buClr>
                <a:srgbClr val="000000"/>
              </a:buClr>
              <a:buFont typeface="Times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cation: Atlantic,  Quebec, Ontario, PNR and Pacific Region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buClr>
                <a:srgbClr val="000000"/>
              </a:buClr>
              <a:buFont typeface="Times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variety of operations included based on size and complexity</a:t>
            </a:r>
            <a:r>
              <a:rPr b="1" i="1" lang="en-CA" sz="25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4280" y="606600"/>
            <a:ext cx="8386920" cy="65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Next Step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39560" y="1492200"/>
            <a:ext cx="7713720" cy="44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buClr>
                <a:srgbClr val="000000"/>
              </a:buClr>
              <a:buFont typeface="Times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Gather and analyze informatio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88800" y="2600280"/>
            <a:ext cx="7459920" cy="44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buClr>
                <a:srgbClr val="000000"/>
              </a:buClr>
              <a:buFont typeface="Times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Make recommendation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57120" y="3751200"/>
            <a:ext cx="8450280" cy="44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buClr>
                <a:srgbClr val="000000"/>
              </a:buClr>
              <a:buFont typeface="Times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Act on recommendation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25440" y="4513320"/>
            <a:ext cx="8613720" cy="44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buClr>
                <a:srgbClr val="000000"/>
              </a:buClr>
              <a:buFont typeface="Times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Monitor Performanc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9840" y="5308560"/>
            <a:ext cx="8762760" cy="44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buClr>
                <a:srgbClr val="000000"/>
              </a:buClr>
              <a:buFont typeface="Times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Close the loop (continue to gather information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5" dur="1" fill="hold"/>
                                  <p:tgtEl>
                                    <p:spTgt spid="11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Getting Started: Implementing a </a:t>
            </a:r>
            <a:br>
              <a:rPr sz="4000"/>
            </a:b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Safety Management Syste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51920" y="24382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iew the proposed regul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ermine what SMS means to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minate a project manager-an effective SMS doesn’t build itsel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it to building a S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Getting Started: Implementing a Safety </a:t>
            </a:r>
            <a:br>
              <a:rPr sz="4000"/>
            </a:b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Management Syste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676160"/>
            <a:ext cx="8386920" cy="453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nventory –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hat do I have?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hat do I need?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would it work in my organizatio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 a project plan-Decide how you intend to build your S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cument and advertis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Getting Started: Implementing a </a:t>
            </a:r>
            <a:br>
              <a:rPr sz="4000"/>
            </a:b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Safety Management Syste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386920" cy="453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Develop basic infrastructure required to foster a “safe culture” – change the way we approach safet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MS plan – the roadma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ocument policy and procedur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efine the policies that will foster the culture you wan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ommunicat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uild the rest of the system in a logical mann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04280" y="606240"/>
            <a:ext cx="8386920" cy="92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MS Guidance mate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04280" y="1546200"/>
            <a:ext cx="8386920" cy="45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GaramondPro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GaramondPro-Regular"/>
                <a:ea typeface="Times New Roman"/>
              </a:rPr>
              <a:t>TP 13739 – Introduction to SM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GaramondPro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GaramondPro-Regular"/>
                <a:ea typeface="Times New Roman"/>
              </a:rPr>
              <a:t>TP 13881 – Safety Management Systems for Flight Operations And Aircraft Maintenance Organizations - A Guide to Implementation (11,000 copies distribut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GaramondPro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GaramondPro-Regular"/>
                <a:ea typeface="Times New Roman"/>
              </a:rPr>
              <a:t>TP 13415 – Safety Management Systems for Small Aviation Ope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040" y="606240"/>
            <a:ext cx="7877160" cy="92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TC’s SMS Partnership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04280" y="1546200"/>
            <a:ext cx="8386920" cy="45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itment to provide resources to assist with SMS Implem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uidance and interpretation of the proposed regul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ation on best pract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cc"/>
                </a:solidFill>
                <a:latin typeface="Times New Roman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http://www.tc.gc.ca/CivilAviation/SMS/menu.ht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4280" y="606240"/>
            <a:ext cx="8386920" cy="92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MS Guidance mate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04280" y="1546200"/>
            <a:ext cx="8386920" cy="45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GaramondPro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GaramondPro-Regular"/>
                <a:ea typeface="Arial Unicode MS"/>
              </a:rPr>
              <a:t>Safety Management Systems Assessment Guide (TP14326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GaramondPro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GaramondPro-Regular"/>
                <a:ea typeface="Times New Roman"/>
              </a:rPr>
              <a:t>TP 14235 – Civil Aviation Implementation 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3333cc"/>
                </a:solidFill>
                <a:latin typeface="AGaramondPro-Regular"/>
                <a:ea typeface="Times New Roman"/>
              </a:rPr>
              <a:t>SMS Guidance material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GaramondPro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GaramondPro-Regular"/>
                <a:ea typeface="Times New Roman"/>
              </a:rPr>
              <a:t>TP 13881 – Safety Management Systems for Flight Operations And Aircraft Maintenance Organizations - A Guide to Implem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MS Guidance material</a:t>
            </a:r>
            <a:r>
              <a:rPr b="0" lang="en-CA" sz="4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77920" y="1774800"/>
            <a:ext cx="8386560" cy="45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GaramondPro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GaramondPro-Regular"/>
                <a:ea typeface="Arial Unicode MS"/>
              </a:rPr>
              <a:t>Safety Management Systems Assessment Guide (TP14326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GaramondPro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GaramondPro-Regular"/>
                <a:ea typeface="Times New Roman"/>
              </a:rPr>
              <a:t>The expectations, along with the associated questions, provide an excellent gu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GaramondPro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GaramondPro-Regular"/>
                <a:ea typeface="Arial Unicode MS"/>
              </a:rPr>
              <a:t>Assessment Guide can be used as an SMS development and certification too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04280" y="606240"/>
            <a:ext cx="8386920" cy="92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ivil Aviation Web Si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04280" y="1546200"/>
            <a:ext cx="8386920" cy="45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http://www.tc.gc.ca/CivilAviation/SMS/menu.ht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4280" y="606240"/>
            <a:ext cx="8386920" cy="92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cc"/>
                </a:solidFill>
                <a:latin typeface="Times New Roman"/>
              </a:rPr>
              <a:t>Regulatory Requir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04280" y="1546200"/>
            <a:ext cx="8386920" cy="45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Effective May 31, 2005, Large Air Carriers and their Approved Maintenance Organizations were required to implement Safety Management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n exemption was issued to enable structured, phased in, implem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Why a phased in approach </a:t>
            </a:r>
            <a:br>
              <a:rPr sz="4000"/>
            </a:b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to SM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GaramondPro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GaramondPro-Regular"/>
              </a:rPr>
              <a:t>Provides a manageable series of steps for organizations to follow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GaramondPro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GaramondPro-Regular"/>
              </a:rPr>
              <a:t>Four implementation phases were identified; each phase involves the introduction of specific SMS components and ele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1T03:14:09Z</dcterms:created>
  <dc:creator>Jacqueline Booth-Bourdeau</dc:creator>
  <dc:description/>
  <dc:language>en-US</dc:language>
  <cp:lastModifiedBy>Claudia López Pérez</cp:lastModifiedBy>
  <dcterms:modified xsi:type="dcterms:W3CDTF">2006-03-27T13:49:00Z</dcterms:modified>
  <cp:revision>13</cp:revision>
  <dc:subject/>
  <dc:title>ICAO/ASPA Regional Seminar on Safety Management Systems (SMS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ocument Categoly">
    <vt:lpwstr>Documentation</vt:lpwstr>
  </property>
  <property fmtid="{D5CDD505-2E9C-101B-9397-08002B2CF9AE}" pid="3" name="Language">
    <vt:lpwstr>en</vt:lpwstr>
  </property>
  <property fmtid="{D5CDD505-2E9C-101B-9397-08002B2CF9AE}" pid="4" name="Order">
    <vt:lpwstr>1919800.00000000</vt:lpwstr>
  </property>
  <property fmtid="{D5CDD505-2E9C-101B-9397-08002B2CF9AE}" pid="5" name="Year">
    <vt:lpwstr>2006</vt:lpwstr>
  </property>
</Properties>
</file>