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288588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849240" y="696960"/>
            <a:ext cx="516096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ldImg"/>
          </p:nvPr>
        </p:nvSpPr>
        <p:spPr>
          <a:xfrm>
            <a:off x="849240" y="696960"/>
            <a:ext cx="5159520" cy="3440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874728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49240" y="696960"/>
            <a:ext cx="5159520" cy="34401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874728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49240" y="696960"/>
            <a:ext cx="5159520" cy="34401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3600" y="6094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36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3600" y="6094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92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92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3600" y="6094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3824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5288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2360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3824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5288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23600" y="6094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236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3600" y="6094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600" y="6094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92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3600" y="6094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23600" y="6094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3600" y="6094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92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3600" y="6094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92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92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3600" y="6094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36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92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36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ff9"/>
            </a:gs>
            <a:gs pos="100000">
              <a:srgbClr val="000b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3600" y="6094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36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7000"/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42ff9"/>
            </a:gs>
            <a:gs pos="100000">
              <a:srgbClr val="000b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90560" y="663480"/>
          <a:ext cx="6977160" cy="57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663480"/>
                    <a:ext cx="697716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afd00"/>
                </a:solidFill>
                <a:latin typeface="Arial Narrow"/>
              </a:rPr>
              <a:t>ICAO Harmonized</a:t>
            </a:r>
            <a:br>
              <a:rPr sz="4800"/>
            </a:br>
            <a:r>
              <a:rPr b="0" lang="en-GB" sz="4800" spc="-1" strike="noStrike">
                <a:solidFill>
                  <a:srgbClr val="fafd00"/>
                </a:solidFill>
                <a:latin typeface="Arial Narrow"/>
              </a:rPr>
              <a:t>Safety Management Requirements – </a:t>
            </a:r>
            <a:br>
              <a:rPr sz="4800"/>
            </a:br>
            <a:r>
              <a:rPr b="0" lang="en-GB" sz="4800" spc="-1" strike="noStrike">
                <a:solidFill>
                  <a:srgbClr val="fafd00"/>
                </a:solidFill>
                <a:latin typeface="Arial Narrow"/>
              </a:rPr>
              <a:t>The Safety Concern</a:t>
            </a:r>
            <a:r>
              <a:rPr b="0" lang="en-GB" sz="48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4800"/>
            </a:br>
            <a:r>
              <a:rPr b="1" lang="en-GB" sz="4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510516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tain Daniel Maurino</a:t>
            </a:r>
            <a:endParaRPr b="1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ight Safety and Human Factors, ICAO</a:t>
            </a:r>
            <a:endParaRPr b="1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PA/ICAO CAR/SAM Regional Seminar </a:t>
            </a:r>
            <a:endParaRPr b="1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afety Management Systems (SMS)</a:t>
            </a:r>
            <a:endParaRPr b="1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xico City, 14 to 16 March 2005</a:t>
            </a:r>
            <a:endParaRPr b="1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42ff9"/>
            </a:gs>
            <a:gs pos="100000">
              <a:srgbClr val="000b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876240" y="1447920"/>
            <a:ext cx="8648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236232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What is the </a:t>
            </a: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safety concern(s)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in aviation for which the ICAO Harmonized safety management requirements requirements might provide an</a:t>
            </a:r>
            <a:r>
              <a:rPr b="0" lang="en-GB" sz="3200" spc="-1" strike="noStrike">
                <a:solidFill>
                  <a:srgbClr val="f6bf69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answer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8760" y="152280"/>
            <a:ext cx="685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afd00"/>
                </a:solidFill>
                <a:latin typeface="Arial Narrow"/>
              </a:rPr>
              <a:t>The Safety Concern – Prolog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ff9"/>
            </a:gs>
            <a:gs pos="100000">
              <a:srgbClr val="000b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93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304920"/>
            <a:ext cx="9982080" cy="6324480"/>
          </a:xfrm>
          <a:prstGeom prst="line">
            <a:avLst/>
          </a:prstGeom>
          <a:ln w="1555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28600" y="0"/>
            <a:ext cx="10058400" cy="6858000"/>
          </a:xfrm>
          <a:prstGeom prst="line">
            <a:avLst/>
          </a:prstGeom>
          <a:ln w="1555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ff9"/>
            </a:gs>
            <a:gs pos="100000">
              <a:srgbClr val="000b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6146640" y="3387600"/>
            <a:ext cx="3201840" cy="1142280"/>
            <a:chOff x="6146640" y="3387600"/>
            <a:chExt cx="3201840" cy="1142280"/>
          </a:xfrm>
        </p:grpSpPr>
        <p:sp>
          <p:nvSpPr>
            <p:cNvPr id="84" name=""/>
            <p:cNvSpPr/>
            <p:nvPr/>
          </p:nvSpPr>
          <p:spPr>
            <a:xfrm rot="5400000">
              <a:off x="6346800" y="3566520"/>
              <a:ext cx="1104840" cy="747000"/>
            </a:xfrm>
            <a:prstGeom prst="parallelogram">
              <a:avLst>
                <a:gd name="adj" fmla="val 36955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28920" y="3772080"/>
              <a:ext cx="61560" cy="137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46640" y="3826080"/>
              <a:ext cx="828000" cy="0"/>
            </a:xfrm>
            <a:prstGeom prst="line">
              <a:avLst/>
            </a:prstGeom>
            <a:ln w="507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8279280" y="3387600"/>
              <a:ext cx="1069200" cy="900720"/>
              <a:chOff x="8279280" y="3387600"/>
              <a:chExt cx="1069200" cy="900720"/>
            </a:xfrm>
          </p:grpSpPr>
          <p:sp>
            <p:nvSpPr>
              <p:cNvPr id="88" name=""/>
              <p:cNvSpPr/>
              <p:nvPr/>
            </p:nvSpPr>
            <p:spPr>
              <a:xfrm>
                <a:off x="8279280" y="3387600"/>
                <a:ext cx="1069200" cy="900720"/>
              </a:xfrm>
              <a:custGeom>
                <a:avLst/>
                <a:gdLst/>
                <a:ahLst/>
                <a:rect l="l" t="t" r="r" b="b"/>
                <a:pathLst>
                  <a:path w="1735" h="1233">
                    <a:moveTo>
                      <a:pt x="866" y="331"/>
                    </a:moveTo>
                    <a:lnTo>
                      <a:pt x="671" y="131"/>
                    </a:lnTo>
                    <a:lnTo>
                      <a:pt x="587" y="360"/>
                    </a:lnTo>
                    <a:lnTo>
                      <a:pt x="29" y="131"/>
                    </a:lnTo>
                    <a:lnTo>
                      <a:pt x="371" y="434"/>
                    </a:lnTo>
                    <a:lnTo>
                      <a:pt x="0" y="491"/>
                    </a:lnTo>
                    <a:lnTo>
                      <a:pt x="299" y="672"/>
                    </a:lnTo>
                    <a:lnTo>
                      <a:pt x="11" y="832"/>
                    </a:lnTo>
                    <a:lnTo>
                      <a:pt x="455" y="795"/>
                    </a:lnTo>
                    <a:lnTo>
                      <a:pt x="383" y="1005"/>
                    </a:lnTo>
                    <a:lnTo>
                      <a:pt x="619" y="891"/>
                    </a:lnTo>
                    <a:lnTo>
                      <a:pt x="681" y="1232"/>
                    </a:lnTo>
                    <a:lnTo>
                      <a:pt x="845" y="852"/>
                    </a:lnTo>
                    <a:lnTo>
                      <a:pt x="1063" y="1126"/>
                    </a:lnTo>
                    <a:lnTo>
                      <a:pt x="1125" y="825"/>
                    </a:lnTo>
                    <a:lnTo>
                      <a:pt x="1457" y="1032"/>
                    </a:lnTo>
                    <a:lnTo>
                      <a:pt x="1351" y="738"/>
                    </a:lnTo>
                    <a:lnTo>
                      <a:pt x="1734" y="758"/>
                    </a:lnTo>
                    <a:lnTo>
                      <a:pt x="1413" y="597"/>
                    </a:lnTo>
                    <a:lnTo>
                      <a:pt x="1693" y="464"/>
                    </a:lnTo>
                    <a:lnTo>
                      <a:pt x="1341" y="417"/>
                    </a:lnTo>
                    <a:lnTo>
                      <a:pt x="1475" y="254"/>
                    </a:lnTo>
                    <a:lnTo>
                      <a:pt x="1136" y="304"/>
                    </a:lnTo>
                    <a:lnTo>
                      <a:pt x="1166" y="0"/>
                    </a:lnTo>
                    <a:lnTo>
                      <a:pt x="866" y="331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8463960" y="3453120"/>
                <a:ext cx="699480" cy="812880"/>
                <a:chOff x="8463960" y="3453120"/>
                <a:chExt cx="699480" cy="812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8463960" y="3531960"/>
                  <a:ext cx="699480" cy="610560"/>
                </a:xfrm>
                <a:custGeom>
                  <a:avLst/>
                  <a:gdLst/>
                  <a:ahLst/>
                  <a:rect l="l" t="t" r="r" b="b"/>
                  <a:pathLst>
                    <a:path w="1135" h="836">
                      <a:moveTo>
                        <a:pt x="567" y="224"/>
                      </a:moveTo>
                      <a:lnTo>
                        <a:pt x="439" y="89"/>
                      </a:lnTo>
                      <a:lnTo>
                        <a:pt x="384" y="244"/>
                      </a:lnTo>
                      <a:lnTo>
                        <a:pt x="19" y="89"/>
                      </a:lnTo>
                      <a:lnTo>
                        <a:pt x="243" y="294"/>
                      </a:lnTo>
                      <a:lnTo>
                        <a:pt x="0" y="333"/>
                      </a:lnTo>
                      <a:lnTo>
                        <a:pt x="196" y="455"/>
                      </a:lnTo>
                      <a:lnTo>
                        <a:pt x="7" y="564"/>
                      </a:lnTo>
                      <a:lnTo>
                        <a:pt x="297" y="539"/>
                      </a:lnTo>
                      <a:lnTo>
                        <a:pt x="250" y="681"/>
                      </a:lnTo>
                      <a:lnTo>
                        <a:pt x="405" y="604"/>
                      </a:lnTo>
                      <a:lnTo>
                        <a:pt x="445" y="835"/>
                      </a:lnTo>
                      <a:lnTo>
                        <a:pt x="552" y="577"/>
                      </a:lnTo>
                      <a:lnTo>
                        <a:pt x="695" y="763"/>
                      </a:lnTo>
                      <a:lnTo>
                        <a:pt x="736" y="559"/>
                      </a:lnTo>
                      <a:lnTo>
                        <a:pt x="953" y="700"/>
                      </a:lnTo>
                      <a:lnTo>
                        <a:pt x="884" y="500"/>
                      </a:lnTo>
                      <a:lnTo>
                        <a:pt x="1134" y="514"/>
                      </a:lnTo>
                      <a:lnTo>
                        <a:pt x="925" y="405"/>
                      </a:lnTo>
                      <a:lnTo>
                        <a:pt x="1108" y="315"/>
                      </a:lnTo>
                      <a:lnTo>
                        <a:pt x="876" y="283"/>
                      </a:lnTo>
                      <a:lnTo>
                        <a:pt x="965" y="172"/>
                      </a:lnTo>
                      <a:lnTo>
                        <a:pt x="744" y="206"/>
                      </a:lnTo>
                      <a:lnTo>
                        <a:pt x="763" y="0"/>
                      </a:lnTo>
                      <a:lnTo>
                        <a:pt x="567" y="224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731800" y="3750120"/>
                  <a:ext cx="18180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8495640" y="3453120"/>
                  <a:ext cx="492840" cy="520920"/>
                  <a:chOff x="8495640" y="3453120"/>
                  <a:chExt cx="492840" cy="5209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8501040" y="3455640"/>
                    <a:ext cx="48132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81" h="704">
                        <a:moveTo>
                          <a:pt x="623" y="103"/>
                        </a:moveTo>
                        <a:lnTo>
                          <a:pt x="524" y="164"/>
                        </a:lnTo>
                        <a:lnTo>
                          <a:pt x="492" y="161"/>
                        </a:lnTo>
                        <a:lnTo>
                          <a:pt x="481" y="155"/>
                        </a:lnTo>
                        <a:lnTo>
                          <a:pt x="428" y="385"/>
                        </a:lnTo>
                        <a:lnTo>
                          <a:pt x="512" y="323"/>
                        </a:lnTo>
                        <a:lnTo>
                          <a:pt x="541" y="313"/>
                        </a:lnTo>
                        <a:lnTo>
                          <a:pt x="564" y="327"/>
                        </a:lnTo>
                        <a:lnTo>
                          <a:pt x="572" y="357"/>
                        </a:lnTo>
                        <a:lnTo>
                          <a:pt x="556" y="459"/>
                        </a:lnTo>
                        <a:lnTo>
                          <a:pt x="550" y="471"/>
                        </a:lnTo>
                        <a:lnTo>
                          <a:pt x="582" y="489"/>
                        </a:lnTo>
                        <a:lnTo>
                          <a:pt x="706" y="440"/>
                        </a:lnTo>
                        <a:lnTo>
                          <a:pt x="749" y="432"/>
                        </a:lnTo>
                        <a:lnTo>
                          <a:pt x="769" y="448"/>
                        </a:lnTo>
                        <a:lnTo>
                          <a:pt x="780" y="518"/>
                        </a:lnTo>
                        <a:lnTo>
                          <a:pt x="771" y="585"/>
                        </a:lnTo>
                        <a:lnTo>
                          <a:pt x="746" y="611"/>
                        </a:lnTo>
                        <a:lnTo>
                          <a:pt x="702" y="621"/>
                        </a:lnTo>
                        <a:lnTo>
                          <a:pt x="546" y="648"/>
                        </a:lnTo>
                        <a:lnTo>
                          <a:pt x="470" y="672"/>
                        </a:lnTo>
                        <a:lnTo>
                          <a:pt x="405" y="703"/>
                        </a:lnTo>
                        <a:lnTo>
                          <a:pt x="410" y="658"/>
                        </a:lnTo>
                        <a:lnTo>
                          <a:pt x="347" y="613"/>
                        </a:lnTo>
                        <a:lnTo>
                          <a:pt x="359" y="595"/>
                        </a:lnTo>
                        <a:lnTo>
                          <a:pt x="418" y="627"/>
                        </a:lnTo>
                        <a:lnTo>
                          <a:pt x="427" y="601"/>
                        </a:lnTo>
                        <a:lnTo>
                          <a:pt x="366" y="559"/>
                        </a:lnTo>
                        <a:lnTo>
                          <a:pt x="434" y="526"/>
                        </a:lnTo>
                        <a:lnTo>
                          <a:pt x="482" y="558"/>
                        </a:lnTo>
                        <a:lnTo>
                          <a:pt x="559" y="508"/>
                        </a:lnTo>
                        <a:lnTo>
                          <a:pt x="526" y="487"/>
                        </a:lnTo>
                        <a:lnTo>
                          <a:pt x="429" y="521"/>
                        </a:lnTo>
                        <a:lnTo>
                          <a:pt x="366" y="559"/>
                        </a:lnTo>
                        <a:lnTo>
                          <a:pt x="351" y="593"/>
                        </a:lnTo>
                        <a:lnTo>
                          <a:pt x="322" y="635"/>
                        </a:lnTo>
                        <a:lnTo>
                          <a:pt x="299" y="644"/>
                        </a:lnTo>
                        <a:lnTo>
                          <a:pt x="271" y="648"/>
                        </a:lnTo>
                        <a:lnTo>
                          <a:pt x="228" y="641"/>
                        </a:lnTo>
                        <a:lnTo>
                          <a:pt x="200" y="652"/>
                        </a:lnTo>
                        <a:lnTo>
                          <a:pt x="189" y="642"/>
                        </a:lnTo>
                        <a:lnTo>
                          <a:pt x="191" y="618"/>
                        </a:lnTo>
                        <a:lnTo>
                          <a:pt x="150" y="598"/>
                        </a:lnTo>
                        <a:lnTo>
                          <a:pt x="138" y="581"/>
                        </a:lnTo>
                        <a:lnTo>
                          <a:pt x="138" y="559"/>
                        </a:lnTo>
                        <a:lnTo>
                          <a:pt x="163" y="514"/>
                        </a:lnTo>
                        <a:lnTo>
                          <a:pt x="108" y="486"/>
                        </a:lnTo>
                        <a:lnTo>
                          <a:pt x="69" y="501"/>
                        </a:lnTo>
                        <a:lnTo>
                          <a:pt x="32" y="492"/>
                        </a:lnTo>
                        <a:lnTo>
                          <a:pt x="9" y="468"/>
                        </a:lnTo>
                        <a:lnTo>
                          <a:pt x="0" y="443"/>
                        </a:lnTo>
                        <a:lnTo>
                          <a:pt x="11" y="423"/>
                        </a:lnTo>
                        <a:lnTo>
                          <a:pt x="26" y="392"/>
                        </a:lnTo>
                        <a:lnTo>
                          <a:pt x="59" y="376"/>
                        </a:lnTo>
                        <a:lnTo>
                          <a:pt x="107" y="384"/>
                        </a:lnTo>
                        <a:lnTo>
                          <a:pt x="132" y="404"/>
                        </a:lnTo>
                        <a:lnTo>
                          <a:pt x="142" y="424"/>
                        </a:lnTo>
                        <a:lnTo>
                          <a:pt x="138" y="447"/>
                        </a:lnTo>
                        <a:lnTo>
                          <a:pt x="132" y="454"/>
                        </a:lnTo>
                        <a:lnTo>
                          <a:pt x="183" y="491"/>
                        </a:lnTo>
                        <a:lnTo>
                          <a:pt x="210" y="405"/>
                        </a:lnTo>
                        <a:lnTo>
                          <a:pt x="237" y="321"/>
                        </a:lnTo>
                        <a:lnTo>
                          <a:pt x="272" y="260"/>
                        </a:lnTo>
                        <a:lnTo>
                          <a:pt x="311" y="210"/>
                        </a:lnTo>
                        <a:lnTo>
                          <a:pt x="330" y="198"/>
                        </a:lnTo>
                        <a:lnTo>
                          <a:pt x="416" y="92"/>
                        </a:lnTo>
                        <a:lnTo>
                          <a:pt x="412" y="52"/>
                        </a:lnTo>
                        <a:lnTo>
                          <a:pt x="440" y="64"/>
                        </a:lnTo>
                        <a:lnTo>
                          <a:pt x="517" y="0"/>
                        </a:lnTo>
                        <a:lnTo>
                          <a:pt x="539" y="11"/>
                        </a:lnTo>
                        <a:lnTo>
                          <a:pt x="540" y="45"/>
                        </a:lnTo>
                        <a:lnTo>
                          <a:pt x="593" y="52"/>
                        </a:lnTo>
                        <a:lnTo>
                          <a:pt x="625" y="83"/>
                        </a:lnTo>
                        <a:lnTo>
                          <a:pt x="623" y="103"/>
                        </a:lnTo>
                      </a:path>
                    </a:pathLst>
                  </a:custGeom>
                  <a:solidFill>
                    <a:srgbClr val="ff53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705880" y="3590280"/>
                    <a:ext cx="8136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93">
                        <a:moveTo>
                          <a:pt x="131" y="22"/>
                        </a:moveTo>
                        <a:lnTo>
                          <a:pt x="96" y="6"/>
                        </a:lnTo>
                        <a:lnTo>
                          <a:pt x="56" y="0"/>
                        </a:lnTo>
                        <a:lnTo>
                          <a:pt x="18" y="9"/>
                        </a:lnTo>
                        <a:lnTo>
                          <a:pt x="11" y="94"/>
                        </a:lnTo>
                        <a:lnTo>
                          <a:pt x="0" y="144"/>
                        </a:lnTo>
                        <a:lnTo>
                          <a:pt x="30" y="144"/>
                        </a:lnTo>
                        <a:lnTo>
                          <a:pt x="58" y="154"/>
                        </a:lnTo>
                        <a:lnTo>
                          <a:pt x="76" y="168"/>
                        </a:lnTo>
                        <a:lnTo>
                          <a:pt x="91" y="192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ff78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8639280" y="3842280"/>
                    <a:ext cx="7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10">
                        <a:moveTo>
                          <a:pt x="125" y="71"/>
                        </a:moveTo>
                        <a:lnTo>
                          <a:pt x="60" y="17"/>
                        </a:lnTo>
                        <a:lnTo>
                          <a:pt x="27" y="0"/>
                        </a:lnTo>
                        <a:lnTo>
                          <a:pt x="0" y="40"/>
                        </a:lnTo>
                        <a:lnTo>
                          <a:pt x="60" y="75"/>
                        </a:lnTo>
                        <a:lnTo>
                          <a:pt x="92" y="109"/>
                        </a:lnTo>
                        <a:lnTo>
                          <a:pt x="125" y="71"/>
                        </a:lnTo>
                      </a:path>
                    </a:pathLst>
                  </a:custGeom>
                  <a:solidFill>
                    <a:srgbClr val="ff78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8621280" y="3895920"/>
                    <a:ext cx="324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0">
                        <a:moveTo>
                          <a:pt x="52" y="14"/>
                        </a:moveTo>
                        <a:lnTo>
                          <a:pt x="25" y="38"/>
                        </a:lnTo>
                        <a:lnTo>
                          <a:pt x="0" y="49"/>
                        </a:lnTo>
                        <a:lnTo>
                          <a:pt x="42" y="0"/>
                        </a:lnTo>
                        <a:lnTo>
                          <a:pt x="52" y="14"/>
                        </a:lnTo>
                      </a:path>
                    </a:pathLst>
                  </a:custGeom>
                  <a:solidFill>
                    <a:srgbClr val="ff78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529480" y="3744000"/>
                    <a:ext cx="4248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6">
                        <a:moveTo>
                          <a:pt x="64" y="46"/>
                        </a:moveTo>
                        <a:lnTo>
                          <a:pt x="68" y="26"/>
                        </a:lnTo>
                        <a:lnTo>
                          <a:pt x="54" y="10"/>
                        </a:lnTo>
                        <a:lnTo>
                          <a:pt x="27" y="0"/>
                        </a:lnTo>
                        <a:lnTo>
                          <a:pt x="8" y="7"/>
                        </a:lnTo>
                        <a:lnTo>
                          <a:pt x="0" y="26"/>
                        </a:lnTo>
                        <a:lnTo>
                          <a:pt x="14" y="44"/>
                        </a:lnTo>
                        <a:lnTo>
                          <a:pt x="40" y="55"/>
                        </a:lnTo>
                        <a:lnTo>
                          <a:pt x="53" y="53"/>
                        </a:lnTo>
                        <a:lnTo>
                          <a:pt x="64" y="46"/>
                        </a:lnTo>
                      </a:path>
                    </a:pathLst>
                  </a:custGeom>
                  <a:solidFill>
                    <a:srgbClr val="ff78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755560" y="3777480"/>
                    <a:ext cx="21312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38">
                        <a:moveTo>
                          <a:pt x="324" y="153"/>
                        </a:moveTo>
                        <a:lnTo>
                          <a:pt x="340" y="104"/>
                        </a:lnTo>
                        <a:lnTo>
                          <a:pt x="345" y="54"/>
                        </a:lnTo>
                        <a:lnTo>
                          <a:pt x="338" y="22"/>
                        </a:lnTo>
                        <a:lnTo>
                          <a:pt x="324" y="0"/>
                        </a:lnTo>
                        <a:lnTo>
                          <a:pt x="239" y="20"/>
                        </a:lnTo>
                        <a:lnTo>
                          <a:pt x="167" y="49"/>
                        </a:lnTo>
                        <a:lnTo>
                          <a:pt x="270" y="118"/>
                        </a:lnTo>
                        <a:lnTo>
                          <a:pt x="259" y="134"/>
                        </a:lnTo>
                        <a:lnTo>
                          <a:pt x="242" y="131"/>
                        </a:lnTo>
                        <a:lnTo>
                          <a:pt x="145" y="68"/>
                        </a:lnTo>
                        <a:lnTo>
                          <a:pt x="97" y="96"/>
                        </a:lnTo>
                        <a:lnTo>
                          <a:pt x="67" y="118"/>
                        </a:lnTo>
                        <a:lnTo>
                          <a:pt x="113" y="154"/>
                        </a:lnTo>
                        <a:lnTo>
                          <a:pt x="108" y="171"/>
                        </a:lnTo>
                        <a:lnTo>
                          <a:pt x="92" y="173"/>
                        </a:lnTo>
                        <a:lnTo>
                          <a:pt x="76" y="165"/>
                        </a:lnTo>
                        <a:lnTo>
                          <a:pt x="60" y="183"/>
                        </a:lnTo>
                        <a:lnTo>
                          <a:pt x="44" y="183"/>
                        </a:lnTo>
                        <a:lnTo>
                          <a:pt x="17" y="165"/>
                        </a:lnTo>
                        <a:lnTo>
                          <a:pt x="4" y="196"/>
                        </a:lnTo>
                        <a:lnTo>
                          <a:pt x="20" y="212"/>
                        </a:lnTo>
                        <a:lnTo>
                          <a:pt x="0" y="237"/>
                        </a:lnTo>
                        <a:lnTo>
                          <a:pt x="67" y="208"/>
                        </a:lnTo>
                        <a:lnTo>
                          <a:pt x="145" y="186"/>
                        </a:lnTo>
                        <a:lnTo>
                          <a:pt x="228" y="172"/>
                        </a:lnTo>
                        <a:lnTo>
                          <a:pt x="295" y="163"/>
                        </a:lnTo>
                        <a:lnTo>
                          <a:pt x="324" y="153"/>
                        </a:lnTo>
                      </a:path>
                    </a:pathLst>
                  </a:custGeom>
                  <a:solidFill>
                    <a:srgbClr val="dc2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729280" y="3688200"/>
                    <a:ext cx="10944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18">
                        <a:moveTo>
                          <a:pt x="159" y="139"/>
                        </a:moveTo>
                        <a:lnTo>
                          <a:pt x="176" y="74"/>
                        </a:lnTo>
                        <a:lnTo>
                          <a:pt x="177" y="27"/>
                        </a:lnTo>
                        <a:lnTo>
                          <a:pt x="169" y="0"/>
                        </a:lnTo>
                        <a:lnTo>
                          <a:pt x="127" y="19"/>
                        </a:lnTo>
                        <a:lnTo>
                          <a:pt x="60" y="71"/>
                        </a:lnTo>
                        <a:lnTo>
                          <a:pt x="110" y="107"/>
                        </a:lnTo>
                        <a:lnTo>
                          <a:pt x="117" y="125"/>
                        </a:lnTo>
                        <a:lnTo>
                          <a:pt x="107" y="143"/>
                        </a:lnTo>
                        <a:lnTo>
                          <a:pt x="89" y="135"/>
                        </a:lnTo>
                        <a:lnTo>
                          <a:pt x="44" y="106"/>
                        </a:lnTo>
                        <a:lnTo>
                          <a:pt x="29" y="131"/>
                        </a:lnTo>
                        <a:lnTo>
                          <a:pt x="0" y="217"/>
                        </a:lnTo>
                        <a:lnTo>
                          <a:pt x="43" y="196"/>
                        </a:lnTo>
                        <a:lnTo>
                          <a:pt x="113" y="168"/>
                        </a:lnTo>
                        <a:lnTo>
                          <a:pt x="141" y="154"/>
                        </a:lnTo>
                        <a:lnTo>
                          <a:pt x="159" y="139"/>
                        </a:lnTo>
                      </a:path>
                    </a:pathLst>
                  </a:custGeom>
                  <a:solidFill>
                    <a:srgbClr val="dc2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635320" y="3606480"/>
                    <a:ext cx="6948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203">
                        <a:moveTo>
                          <a:pt x="0" y="202"/>
                        </a:moveTo>
                        <a:lnTo>
                          <a:pt x="31" y="173"/>
                        </a:lnTo>
                        <a:lnTo>
                          <a:pt x="76" y="139"/>
                        </a:lnTo>
                        <a:lnTo>
                          <a:pt x="94" y="117"/>
                        </a:lnTo>
                        <a:lnTo>
                          <a:pt x="112" y="0"/>
                        </a:lnTo>
                        <a:lnTo>
                          <a:pt x="69" y="38"/>
                        </a:lnTo>
                        <a:lnTo>
                          <a:pt x="27" y="109"/>
                        </a:lnTo>
                        <a:lnTo>
                          <a:pt x="1" y="164"/>
                        </a:lnTo>
                        <a:lnTo>
                          <a:pt x="0" y="202"/>
                        </a:lnTo>
                      </a:path>
                    </a:pathLst>
                  </a:custGeom>
                  <a:solidFill>
                    <a:srgbClr val="dc2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795880" y="3460320"/>
                    <a:ext cx="3060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14">
                        <a:moveTo>
                          <a:pt x="8" y="113"/>
                        </a:moveTo>
                        <a:lnTo>
                          <a:pt x="42" y="76"/>
                        </a:lnTo>
                        <a:lnTo>
                          <a:pt x="49" y="1"/>
                        </a:lnTo>
                        <a:lnTo>
                          <a:pt x="32" y="0"/>
                        </a:lnTo>
                        <a:lnTo>
                          <a:pt x="0" y="35"/>
                        </a:lnTo>
                        <a:lnTo>
                          <a:pt x="16" y="64"/>
                        </a:lnTo>
                        <a:lnTo>
                          <a:pt x="8" y="113"/>
                        </a:lnTo>
                      </a:path>
                    </a:pathLst>
                  </a:custGeom>
                  <a:solidFill>
                    <a:srgbClr val="dc2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8717400" y="3490920"/>
                    <a:ext cx="7560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46">
                        <a:moveTo>
                          <a:pt x="108" y="15"/>
                        </a:moveTo>
                        <a:lnTo>
                          <a:pt x="32" y="101"/>
                        </a:lnTo>
                        <a:lnTo>
                          <a:pt x="0" y="145"/>
                        </a:lnTo>
                        <a:lnTo>
                          <a:pt x="59" y="136"/>
                        </a:lnTo>
                        <a:lnTo>
                          <a:pt x="82" y="87"/>
                        </a:lnTo>
                        <a:lnTo>
                          <a:pt x="108" y="42"/>
                        </a:lnTo>
                        <a:lnTo>
                          <a:pt x="122" y="0"/>
                        </a:lnTo>
                        <a:lnTo>
                          <a:pt x="108" y="15"/>
                        </a:lnTo>
                      </a:path>
                    </a:pathLst>
                  </a:custGeom>
                  <a:solidFill>
                    <a:srgbClr val="dc2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8587440" y="3718080"/>
                    <a:ext cx="1472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200">
                        <a:moveTo>
                          <a:pt x="194" y="21"/>
                        </a:moveTo>
                        <a:lnTo>
                          <a:pt x="238" y="132"/>
                        </a:lnTo>
                        <a:lnTo>
                          <a:pt x="214" y="191"/>
                        </a:lnTo>
                        <a:lnTo>
                          <a:pt x="181" y="130"/>
                        </a:lnTo>
                        <a:lnTo>
                          <a:pt x="154" y="99"/>
                        </a:lnTo>
                        <a:lnTo>
                          <a:pt x="129" y="83"/>
                        </a:lnTo>
                        <a:lnTo>
                          <a:pt x="118" y="96"/>
                        </a:lnTo>
                        <a:lnTo>
                          <a:pt x="82" y="159"/>
                        </a:lnTo>
                        <a:lnTo>
                          <a:pt x="64" y="163"/>
                        </a:lnTo>
                        <a:lnTo>
                          <a:pt x="45" y="197"/>
                        </a:lnTo>
                        <a:lnTo>
                          <a:pt x="0" y="199"/>
                        </a:lnTo>
                        <a:lnTo>
                          <a:pt x="24" y="159"/>
                        </a:lnTo>
                        <a:lnTo>
                          <a:pt x="44" y="144"/>
                        </a:lnTo>
                        <a:lnTo>
                          <a:pt x="76" y="70"/>
                        </a:lnTo>
                        <a:lnTo>
                          <a:pt x="107" y="46"/>
                        </a:lnTo>
                        <a:lnTo>
                          <a:pt x="167" y="0"/>
                        </a:lnTo>
                        <a:lnTo>
                          <a:pt x="194" y="21"/>
                        </a:lnTo>
                      </a:path>
                    </a:pathLst>
                  </a:custGeom>
                  <a:solidFill>
                    <a:srgbClr val="dc2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721720" y="3768840"/>
                    <a:ext cx="26676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281">
                        <a:moveTo>
                          <a:pt x="34" y="278"/>
                        </a:moveTo>
                        <a:lnTo>
                          <a:pt x="33" y="273"/>
                        </a:lnTo>
                        <a:lnTo>
                          <a:pt x="39" y="262"/>
                        </a:lnTo>
                        <a:lnTo>
                          <a:pt x="43" y="247"/>
                        </a:lnTo>
                        <a:lnTo>
                          <a:pt x="43" y="236"/>
                        </a:lnTo>
                        <a:lnTo>
                          <a:pt x="44" y="229"/>
                        </a:lnTo>
                        <a:lnTo>
                          <a:pt x="15" y="208"/>
                        </a:lnTo>
                        <a:lnTo>
                          <a:pt x="1" y="196"/>
                        </a:lnTo>
                        <a:lnTo>
                          <a:pt x="0" y="193"/>
                        </a:lnTo>
                        <a:lnTo>
                          <a:pt x="3" y="190"/>
                        </a:lnTo>
                        <a:lnTo>
                          <a:pt x="3" y="189"/>
                        </a:lnTo>
                        <a:lnTo>
                          <a:pt x="12" y="195"/>
                        </a:lnTo>
                        <a:lnTo>
                          <a:pt x="22" y="202"/>
                        </a:lnTo>
                        <a:lnTo>
                          <a:pt x="46" y="217"/>
                        </a:lnTo>
                        <a:lnTo>
                          <a:pt x="53" y="222"/>
                        </a:lnTo>
                        <a:lnTo>
                          <a:pt x="53" y="223"/>
                        </a:lnTo>
                        <a:lnTo>
                          <a:pt x="57" y="226"/>
                        </a:lnTo>
                        <a:lnTo>
                          <a:pt x="61" y="226"/>
                        </a:lnTo>
                        <a:lnTo>
                          <a:pt x="65" y="219"/>
                        </a:lnTo>
                        <a:lnTo>
                          <a:pt x="73" y="216"/>
                        </a:lnTo>
                        <a:lnTo>
                          <a:pt x="79" y="218"/>
                        </a:lnTo>
                        <a:lnTo>
                          <a:pt x="82" y="219"/>
                        </a:lnTo>
                        <a:lnTo>
                          <a:pt x="82" y="225"/>
                        </a:lnTo>
                        <a:lnTo>
                          <a:pt x="69" y="238"/>
                        </a:lnTo>
                        <a:lnTo>
                          <a:pt x="70" y="242"/>
                        </a:lnTo>
                        <a:lnTo>
                          <a:pt x="65" y="251"/>
                        </a:lnTo>
                        <a:lnTo>
                          <a:pt x="66" y="252"/>
                        </a:lnTo>
                        <a:lnTo>
                          <a:pt x="69" y="253"/>
                        </a:lnTo>
                        <a:lnTo>
                          <a:pt x="84" y="245"/>
                        </a:lnTo>
                        <a:lnTo>
                          <a:pt x="87" y="244"/>
                        </a:lnTo>
                        <a:lnTo>
                          <a:pt x="92" y="242"/>
                        </a:lnTo>
                        <a:lnTo>
                          <a:pt x="106" y="237"/>
                        </a:lnTo>
                        <a:lnTo>
                          <a:pt x="127" y="231"/>
                        </a:lnTo>
                        <a:lnTo>
                          <a:pt x="145" y="223"/>
                        </a:lnTo>
                        <a:lnTo>
                          <a:pt x="165" y="217"/>
                        </a:lnTo>
                        <a:lnTo>
                          <a:pt x="172" y="215"/>
                        </a:lnTo>
                        <a:lnTo>
                          <a:pt x="175" y="213"/>
                        </a:lnTo>
                        <a:lnTo>
                          <a:pt x="201" y="208"/>
                        </a:lnTo>
                        <a:lnTo>
                          <a:pt x="237" y="202"/>
                        </a:lnTo>
                        <a:lnTo>
                          <a:pt x="295" y="191"/>
                        </a:lnTo>
                        <a:lnTo>
                          <a:pt x="368" y="183"/>
                        </a:lnTo>
                        <a:lnTo>
                          <a:pt x="381" y="178"/>
                        </a:lnTo>
                        <a:lnTo>
                          <a:pt x="391" y="166"/>
                        </a:lnTo>
                        <a:lnTo>
                          <a:pt x="398" y="149"/>
                        </a:lnTo>
                        <a:lnTo>
                          <a:pt x="407" y="114"/>
                        </a:lnTo>
                        <a:lnTo>
                          <a:pt x="409" y="96"/>
                        </a:lnTo>
                        <a:lnTo>
                          <a:pt x="408" y="78"/>
                        </a:lnTo>
                        <a:lnTo>
                          <a:pt x="407" y="69"/>
                        </a:lnTo>
                        <a:lnTo>
                          <a:pt x="407" y="67"/>
                        </a:lnTo>
                        <a:lnTo>
                          <a:pt x="409" y="63"/>
                        </a:lnTo>
                        <a:lnTo>
                          <a:pt x="404" y="40"/>
                        </a:lnTo>
                        <a:lnTo>
                          <a:pt x="404" y="32"/>
                        </a:lnTo>
                        <a:lnTo>
                          <a:pt x="394" y="15"/>
                        </a:lnTo>
                        <a:lnTo>
                          <a:pt x="390" y="13"/>
                        </a:lnTo>
                        <a:lnTo>
                          <a:pt x="381" y="9"/>
                        </a:lnTo>
                        <a:lnTo>
                          <a:pt x="376" y="6"/>
                        </a:lnTo>
                        <a:lnTo>
                          <a:pt x="375" y="4"/>
                        </a:lnTo>
                        <a:lnTo>
                          <a:pt x="380" y="1"/>
                        </a:lnTo>
                        <a:lnTo>
                          <a:pt x="391" y="0"/>
                        </a:lnTo>
                        <a:lnTo>
                          <a:pt x="399" y="2"/>
                        </a:lnTo>
                        <a:lnTo>
                          <a:pt x="408" y="8"/>
                        </a:lnTo>
                        <a:lnTo>
                          <a:pt x="416" y="18"/>
                        </a:lnTo>
                        <a:lnTo>
                          <a:pt x="426" y="43"/>
                        </a:lnTo>
                        <a:lnTo>
                          <a:pt x="430" y="62"/>
                        </a:lnTo>
                        <a:lnTo>
                          <a:pt x="432" y="84"/>
                        </a:lnTo>
                        <a:lnTo>
                          <a:pt x="430" y="97"/>
                        </a:lnTo>
                        <a:lnTo>
                          <a:pt x="423" y="138"/>
                        </a:lnTo>
                        <a:lnTo>
                          <a:pt x="413" y="167"/>
                        </a:lnTo>
                        <a:lnTo>
                          <a:pt x="405" y="178"/>
                        </a:lnTo>
                        <a:lnTo>
                          <a:pt x="397" y="185"/>
                        </a:lnTo>
                        <a:lnTo>
                          <a:pt x="371" y="194"/>
                        </a:lnTo>
                        <a:lnTo>
                          <a:pt x="303" y="202"/>
                        </a:lnTo>
                        <a:lnTo>
                          <a:pt x="273" y="207"/>
                        </a:lnTo>
                        <a:lnTo>
                          <a:pt x="245" y="214"/>
                        </a:lnTo>
                        <a:lnTo>
                          <a:pt x="238" y="216"/>
                        </a:lnTo>
                        <a:lnTo>
                          <a:pt x="228" y="218"/>
                        </a:lnTo>
                        <a:lnTo>
                          <a:pt x="182" y="227"/>
                        </a:lnTo>
                        <a:lnTo>
                          <a:pt x="136" y="243"/>
                        </a:lnTo>
                        <a:lnTo>
                          <a:pt x="106" y="253"/>
                        </a:lnTo>
                        <a:lnTo>
                          <a:pt x="90" y="259"/>
                        </a:lnTo>
                        <a:lnTo>
                          <a:pt x="60" y="275"/>
                        </a:lnTo>
                        <a:lnTo>
                          <a:pt x="49" y="279"/>
                        </a:lnTo>
                        <a:lnTo>
                          <a:pt x="46" y="280"/>
                        </a:lnTo>
                        <a:lnTo>
                          <a:pt x="37" y="280"/>
                        </a:lnTo>
                        <a:lnTo>
                          <a:pt x="34" y="27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729280" y="3855600"/>
                    <a:ext cx="1008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92">
                        <a:moveTo>
                          <a:pt x="29" y="79"/>
                        </a:moveTo>
                        <a:lnTo>
                          <a:pt x="3" y="59"/>
                        </a:lnTo>
                        <a:lnTo>
                          <a:pt x="0" y="55"/>
                        </a:lnTo>
                        <a:lnTo>
                          <a:pt x="3" y="50"/>
                        </a:lnTo>
                        <a:lnTo>
                          <a:pt x="20" y="61"/>
                        </a:lnTo>
                        <a:lnTo>
                          <a:pt x="43" y="73"/>
                        </a:lnTo>
                        <a:lnTo>
                          <a:pt x="45" y="72"/>
                        </a:lnTo>
                        <a:lnTo>
                          <a:pt x="46" y="69"/>
                        </a:lnTo>
                        <a:lnTo>
                          <a:pt x="46" y="67"/>
                        </a:lnTo>
                        <a:lnTo>
                          <a:pt x="48" y="61"/>
                        </a:lnTo>
                        <a:lnTo>
                          <a:pt x="47" y="59"/>
                        </a:lnTo>
                        <a:lnTo>
                          <a:pt x="52" y="53"/>
                        </a:lnTo>
                        <a:lnTo>
                          <a:pt x="18" y="24"/>
                        </a:lnTo>
                        <a:lnTo>
                          <a:pt x="6" y="18"/>
                        </a:lnTo>
                        <a:lnTo>
                          <a:pt x="16" y="13"/>
                        </a:lnTo>
                        <a:lnTo>
                          <a:pt x="24" y="17"/>
                        </a:lnTo>
                        <a:lnTo>
                          <a:pt x="34" y="26"/>
                        </a:lnTo>
                        <a:lnTo>
                          <a:pt x="53" y="40"/>
                        </a:lnTo>
                        <a:lnTo>
                          <a:pt x="62" y="46"/>
                        </a:lnTo>
                        <a:lnTo>
                          <a:pt x="88" y="62"/>
                        </a:lnTo>
                        <a:lnTo>
                          <a:pt x="99" y="68"/>
                        </a:lnTo>
                        <a:lnTo>
                          <a:pt x="100" y="68"/>
                        </a:lnTo>
                        <a:lnTo>
                          <a:pt x="108" y="59"/>
                        </a:lnTo>
                        <a:lnTo>
                          <a:pt x="101" y="52"/>
                        </a:lnTo>
                        <a:lnTo>
                          <a:pt x="90" y="45"/>
                        </a:lnTo>
                        <a:lnTo>
                          <a:pt x="85" y="39"/>
                        </a:lnTo>
                        <a:lnTo>
                          <a:pt x="80" y="35"/>
                        </a:lnTo>
                        <a:lnTo>
                          <a:pt x="66" y="24"/>
                        </a:lnTo>
                        <a:lnTo>
                          <a:pt x="52" y="15"/>
                        </a:lnTo>
                        <a:lnTo>
                          <a:pt x="35" y="6"/>
                        </a:lnTo>
                        <a:lnTo>
                          <a:pt x="47" y="0"/>
                        </a:lnTo>
                        <a:lnTo>
                          <a:pt x="75" y="17"/>
                        </a:lnTo>
                        <a:lnTo>
                          <a:pt x="103" y="35"/>
                        </a:lnTo>
                        <a:lnTo>
                          <a:pt x="108" y="40"/>
                        </a:lnTo>
                        <a:lnTo>
                          <a:pt x="121" y="48"/>
                        </a:lnTo>
                        <a:lnTo>
                          <a:pt x="134" y="57"/>
                        </a:lnTo>
                        <a:lnTo>
                          <a:pt x="135" y="60"/>
                        </a:lnTo>
                        <a:lnTo>
                          <a:pt x="139" y="62"/>
                        </a:lnTo>
                        <a:lnTo>
                          <a:pt x="145" y="61"/>
                        </a:lnTo>
                        <a:lnTo>
                          <a:pt x="146" y="60"/>
                        </a:lnTo>
                        <a:lnTo>
                          <a:pt x="146" y="57"/>
                        </a:lnTo>
                        <a:lnTo>
                          <a:pt x="151" y="52"/>
                        </a:lnTo>
                        <a:lnTo>
                          <a:pt x="160" y="52"/>
                        </a:lnTo>
                        <a:lnTo>
                          <a:pt x="163" y="53"/>
                        </a:lnTo>
                        <a:lnTo>
                          <a:pt x="163" y="62"/>
                        </a:lnTo>
                        <a:lnTo>
                          <a:pt x="157" y="68"/>
                        </a:lnTo>
                        <a:lnTo>
                          <a:pt x="149" y="71"/>
                        </a:lnTo>
                        <a:lnTo>
                          <a:pt x="138" y="69"/>
                        </a:lnTo>
                        <a:lnTo>
                          <a:pt x="131" y="67"/>
                        </a:lnTo>
                        <a:lnTo>
                          <a:pt x="124" y="67"/>
                        </a:lnTo>
                        <a:lnTo>
                          <a:pt x="120" y="67"/>
                        </a:lnTo>
                        <a:lnTo>
                          <a:pt x="111" y="78"/>
                        </a:lnTo>
                        <a:lnTo>
                          <a:pt x="107" y="80"/>
                        </a:lnTo>
                        <a:lnTo>
                          <a:pt x="95" y="80"/>
                        </a:lnTo>
                        <a:lnTo>
                          <a:pt x="88" y="77"/>
                        </a:lnTo>
                        <a:lnTo>
                          <a:pt x="76" y="70"/>
                        </a:lnTo>
                        <a:lnTo>
                          <a:pt x="71" y="68"/>
                        </a:lnTo>
                        <a:lnTo>
                          <a:pt x="66" y="73"/>
                        </a:lnTo>
                        <a:lnTo>
                          <a:pt x="64" y="81"/>
                        </a:lnTo>
                        <a:lnTo>
                          <a:pt x="60" y="87"/>
                        </a:lnTo>
                        <a:lnTo>
                          <a:pt x="56" y="91"/>
                        </a:lnTo>
                        <a:lnTo>
                          <a:pt x="49" y="91"/>
                        </a:lnTo>
                        <a:lnTo>
                          <a:pt x="29" y="7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648640" y="3869640"/>
                    <a:ext cx="81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87">
                        <a:moveTo>
                          <a:pt x="0" y="81"/>
                        </a:moveTo>
                        <a:lnTo>
                          <a:pt x="0" y="80"/>
                        </a:lnTo>
                        <a:lnTo>
                          <a:pt x="10" y="70"/>
                        </a:lnTo>
                        <a:lnTo>
                          <a:pt x="34" y="75"/>
                        </a:lnTo>
                        <a:lnTo>
                          <a:pt x="49" y="74"/>
                        </a:lnTo>
                        <a:lnTo>
                          <a:pt x="62" y="72"/>
                        </a:lnTo>
                        <a:lnTo>
                          <a:pt x="67" y="70"/>
                        </a:lnTo>
                        <a:lnTo>
                          <a:pt x="65" y="63"/>
                        </a:lnTo>
                        <a:lnTo>
                          <a:pt x="55" y="53"/>
                        </a:lnTo>
                        <a:lnTo>
                          <a:pt x="48" y="46"/>
                        </a:lnTo>
                        <a:lnTo>
                          <a:pt x="47" y="43"/>
                        </a:lnTo>
                        <a:lnTo>
                          <a:pt x="37" y="37"/>
                        </a:lnTo>
                        <a:lnTo>
                          <a:pt x="29" y="30"/>
                        </a:lnTo>
                        <a:lnTo>
                          <a:pt x="17" y="21"/>
                        </a:lnTo>
                        <a:lnTo>
                          <a:pt x="16" y="20"/>
                        </a:lnTo>
                        <a:lnTo>
                          <a:pt x="18" y="19"/>
                        </a:lnTo>
                        <a:lnTo>
                          <a:pt x="22" y="19"/>
                        </a:lnTo>
                        <a:lnTo>
                          <a:pt x="60" y="42"/>
                        </a:lnTo>
                        <a:lnTo>
                          <a:pt x="69" y="50"/>
                        </a:lnTo>
                        <a:lnTo>
                          <a:pt x="77" y="59"/>
                        </a:lnTo>
                        <a:lnTo>
                          <a:pt x="78" y="60"/>
                        </a:lnTo>
                        <a:lnTo>
                          <a:pt x="83" y="58"/>
                        </a:lnTo>
                        <a:lnTo>
                          <a:pt x="103" y="29"/>
                        </a:lnTo>
                        <a:lnTo>
                          <a:pt x="105" y="21"/>
                        </a:lnTo>
                        <a:lnTo>
                          <a:pt x="111" y="13"/>
                        </a:lnTo>
                        <a:lnTo>
                          <a:pt x="116" y="3"/>
                        </a:lnTo>
                        <a:lnTo>
                          <a:pt x="119" y="0"/>
                        </a:lnTo>
                        <a:lnTo>
                          <a:pt x="130" y="1"/>
                        </a:lnTo>
                        <a:lnTo>
                          <a:pt x="131" y="6"/>
                        </a:lnTo>
                        <a:lnTo>
                          <a:pt x="128" y="16"/>
                        </a:lnTo>
                        <a:lnTo>
                          <a:pt x="125" y="20"/>
                        </a:lnTo>
                        <a:lnTo>
                          <a:pt x="122" y="28"/>
                        </a:lnTo>
                        <a:lnTo>
                          <a:pt x="116" y="37"/>
                        </a:lnTo>
                        <a:lnTo>
                          <a:pt x="115" y="43"/>
                        </a:lnTo>
                        <a:lnTo>
                          <a:pt x="95" y="68"/>
                        </a:lnTo>
                        <a:lnTo>
                          <a:pt x="82" y="78"/>
                        </a:lnTo>
                        <a:lnTo>
                          <a:pt x="69" y="83"/>
                        </a:lnTo>
                        <a:lnTo>
                          <a:pt x="63" y="84"/>
                        </a:lnTo>
                        <a:lnTo>
                          <a:pt x="35" y="86"/>
                        </a:lnTo>
                        <a:lnTo>
                          <a:pt x="0" y="8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495640" y="3729240"/>
                    <a:ext cx="1483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280">
                        <a:moveTo>
                          <a:pt x="198" y="276"/>
                        </a:moveTo>
                        <a:lnTo>
                          <a:pt x="195" y="274"/>
                        </a:lnTo>
                        <a:lnTo>
                          <a:pt x="193" y="266"/>
                        </a:lnTo>
                        <a:lnTo>
                          <a:pt x="195" y="257"/>
                        </a:lnTo>
                        <a:lnTo>
                          <a:pt x="195" y="250"/>
                        </a:lnTo>
                        <a:lnTo>
                          <a:pt x="195" y="249"/>
                        </a:lnTo>
                        <a:lnTo>
                          <a:pt x="194" y="247"/>
                        </a:lnTo>
                        <a:lnTo>
                          <a:pt x="177" y="242"/>
                        </a:lnTo>
                        <a:lnTo>
                          <a:pt x="159" y="232"/>
                        </a:lnTo>
                        <a:lnTo>
                          <a:pt x="142" y="217"/>
                        </a:lnTo>
                        <a:lnTo>
                          <a:pt x="136" y="211"/>
                        </a:lnTo>
                        <a:lnTo>
                          <a:pt x="135" y="200"/>
                        </a:lnTo>
                        <a:lnTo>
                          <a:pt x="134" y="191"/>
                        </a:lnTo>
                        <a:lnTo>
                          <a:pt x="153" y="150"/>
                        </a:lnTo>
                        <a:lnTo>
                          <a:pt x="160" y="144"/>
                        </a:lnTo>
                        <a:lnTo>
                          <a:pt x="163" y="144"/>
                        </a:lnTo>
                        <a:lnTo>
                          <a:pt x="166" y="142"/>
                        </a:lnTo>
                        <a:lnTo>
                          <a:pt x="125" y="117"/>
                        </a:lnTo>
                        <a:lnTo>
                          <a:pt x="122" y="116"/>
                        </a:lnTo>
                        <a:lnTo>
                          <a:pt x="111" y="122"/>
                        </a:lnTo>
                        <a:lnTo>
                          <a:pt x="107" y="125"/>
                        </a:lnTo>
                        <a:lnTo>
                          <a:pt x="87" y="130"/>
                        </a:lnTo>
                        <a:lnTo>
                          <a:pt x="70" y="131"/>
                        </a:lnTo>
                        <a:lnTo>
                          <a:pt x="51" y="128"/>
                        </a:lnTo>
                        <a:lnTo>
                          <a:pt x="39" y="124"/>
                        </a:lnTo>
                        <a:lnTo>
                          <a:pt x="23" y="113"/>
                        </a:lnTo>
                        <a:lnTo>
                          <a:pt x="9" y="101"/>
                        </a:lnTo>
                        <a:lnTo>
                          <a:pt x="5" y="97"/>
                        </a:lnTo>
                        <a:lnTo>
                          <a:pt x="0" y="82"/>
                        </a:lnTo>
                        <a:lnTo>
                          <a:pt x="2" y="71"/>
                        </a:lnTo>
                        <a:lnTo>
                          <a:pt x="6" y="65"/>
                        </a:lnTo>
                        <a:lnTo>
                          <a:pt x="7" y="63"/>
                        </a:lnTo>
                        <a:lnTo>
                          <a:pt x="23" y="80"/>
                        </a:lnTo>
                        <a:lnTo>
                          <a:pt x="29" y="84"/>
                        </a:lnTo>
                        <a:lnTo>
                          <a:pt x="33" y="94"/>
                        </a:lnTo>
                        <a:lnTo>
                          <a:pt x="51" y="109"/>
                        </a:lnTo>
                        <a:lnTo>
                          <a:pt x="68" y="117"/>
                        </a:lnTo>
                        <a:lnTo>
                          <a:pt x="74" y="119"/>
                        </a:lnTo>
                        <a:lnTo>
                          <a:pt x="90" y="117"/>
                        </a:lnTo>
                        <a:lnTo>
                          <a:pt x="106" y="110"/>
                        </a:lnTo>
                        <a:lnTo>
                          <a:pt x="114" y="105"/>
                        </a:lnTo>
                        <a:lnTo>
                          <a:pt x="130" y="113"/>
                        </a:lnTo>
                        <a:lnTo>
                          <a:pt x="134" y="112"/>
                        </a:lnTo>
                        <a:lnTo>
                          <a:pt x="136" y="109"/>
                        </a:lnTo>
                        <a:lnTo>
                          <a:pt x="136" y="107"/>
                        </a:lnTo>
                        <a:lnTo>
                          <a:pt x="131" y="104"/>
                        </a:lnTo>
                        <a:lnTo>
                          <a:pt x="124" y="96"/>
                        </a:lnTo>
                        <a:lnTo>
                          <a:pt x="122" y="95"/>
                        </a:lnTo>
                        <a:lnTo>
                          <a:pt x="101" y="98"/>
                        </a:lnTo>
                        <a:lnTo>
                          <a:pt x="84" y="98"/>
                        </a:lnTo>
                        <a:lnTo>
                          <a:pt x="82" y="96"/>
                        </a:lnTo>
                        <a:lnTo>
                          <a:pt x="89" y="89"/>
                        </a:lnTo>
                        <a:lnTo>
                          <a:pt x="89" y="85"/>
                        </a:lnTo>
                        <a:lnTo>
                          <a:pt x="89" y="84"/>
                        </a:lnTo>
                        <a:lnTo>
                          <a:pt x="106" y="82"/>
                        </a:lnTo>
                        <a:lnTo>
                          <a:pt x="124" y="76"/>
                        </a:lnTo>
                        <a:lnTo>
                          <a:pt x="131" y="65"/>
                        </a:lnTo>
                        <a:lnTo>
                          <a:pt x="133" y="52"/>
                        </a:lnTo>
                        <a:lnTo>
                          <a:pt x="124" y="33"/>
                        </a:lnTo>
                        <a:lnTo>
                          <a:pt x="113" y="22"/>
                        </a:lnTo>
                        <a:lnTo>
                          <a:pt x="100" y="17"/>
                        </a:lnTo>
                        <a:lnTo>
                          <a:pt x="83" y="13"/>
                        </a:lnTo>
                        <a:lnTo>
                          <a:pt x="74" y="12"/>
                        </a:lnTo>
                        <a:lnTo>
                          <a:pt x="64" y="14"/>
                        </a:lnTo>
                        <a:lnTo>
                          <a:pt x="52" y="25"/>
                        </a:lnTo>
                        <a:lnTo>
                          <a:pt x="46" y="36"/>
                        </a:lnTo>
                        <a:lnTo>
                          <a:pt x="44" y="44"/>
                        </a:lnTo>
                        <a:lnTo>
                          <a:pt x="45" y="55"/>
                        </a:lnTo>
                        <a:lnTo>
                          <a:pt x="54" y="69"/>
                        </a:lnTo>
                        <a:lnTo>
                          <a:pt x="70" y="78"/>
                        </a:lnTo>
                        <a:lnTo>
                          <a:pt x="68" y="88"/>
                        </a:lnTo>
                        <a:lnTo>
                          <a:pt x="61" y="91"/>
                        </a:lnTo>
                        <a:lnTo>
                          <a:pt x="44" y="85"/>
                        </a:lnTo>
                        <a:lnTo>
                          <a:pt x="29" y="73"/>
                        </a:lnTo>
                        <a:lnTo>
                          <a:pt x="29" y="71"/>
                        </a:lnTo>
                        <a:lnTo>
                          <a:pt x="23" y="66"/>
                        </a:lnTo>
                        <a:lnTo>
                          <a:pt x="19" y="61"/>
                        </a:lnTo>
                        <a:lnTo>
                          <a:pt x="18" y="56"/>
                        </a:lnTo>
                        <a:lnTo>
                          <a:pt x="17" y="49"/>
                        </a:lnTo>
                        <a:lnTo>
                          <a:pt x="18" y="35"/>
                        </a:lnTo>
                        <a:lnTo>
                          <a:pt x="23" y="26"/>
                        </a:lnTo>
                        <a:lnTo>
                          <a:pt x="38" y="10"/>
                        </a:lnTo>
                        <a:lnTo>
                          <a:pt x="47" y="5"/>
                        </a:lnTo>
                        <a:lnTo>
                          <a:pt x="64" y="0"/>
                        </a:lnTo>
                        <a:lnTo>
                          <a:pt x="80" y="0"/>
                        </a:lnTo>
                        <a:lnTo>
                          <a:pt x="90" y="2"/>
                        </a:lnTo>
                        <a:lnTo>
                          <a:pt x="101" y="4"/>
                        </a:lnTo>
                        <a:lnTo>
                          <a:pt x="117" y="8"/>
                        </a:lnTo>
                        <a:lnTo>
                          <a:pt x="134" y="16"/>
                        </a:lnTo>
                        <a:lnTo>
                          <a:pt x="142" y="26"/>
                        </a:lnTo>
                        <a:lnTo>
                          <a:pt x="151" y="36"/>
                        </a:lnTo>
                        <a:lnTo>
                          <a:pt x="158" y="56"/>
                        </a:lnTo>
                        <a:lnTo>
                          <a:pt x="155" y="58"/>
                        </a:lnTo>
                        <a:lnTo>
                          <a:pt x="158" y="63"/>
                        </a:lnTo>
                        <a:lnTo>
                          <a:pt x="152" y="76"/>
                        </a:lnTo>
                        <a:lnTo>
                          <a:pt x="136" y="89"/>
                        </a:lnTo>
                        <a:lnTo>
                          <a:pt x="131" y="90"/>
                        </a:lnTo>
                        <a:lnTo>
                          <a:pt x="130" y="93"/>
                        </a:lnTo>
                        <a:lnTo>
                          <a:pt x="139" y="101"/>
                        </a:lnTo>
                        <a:lnTo>
                          <a:pt x="149" y="107"/>
                        </a:lnTo>
                        <a:lnTo>
                          <a:pt x="173" y="124"/>
                        </a:lnTo>
                        <a:lnTo>
                          <a:pt x="184" y="133"/>
                        </a:lnTo>
                        <a:lnTo>
                          <a:pt x="187" y="141"/>
                        </a:lnTo>
                        <a:lnTo>
                          <a:pt x="182" y="142"/>
                        </a:lnTo>
                        <a:lnTo>
                          <a:pt x="175" y="144"/>
                        </a:lnTo>
                        <a:lnTo>
                          <a:pt x="171" y="158"/>
                        </a:lnTo>
                        <a:lnTo>
                          <a:pt x="166" y="170"/>
                        </a:lnTo>
                        <a:lnTo>
                          <a:pt x="155" y="195"/>
                        </a:lnTo>
                        <a:lnTo>
                          <a:pt x="153" y="204"/>
                        </a:lnTo>
                        <a:lnTo>
                          <a:pt x="157" y="211"/>
                        </a:lnTo>
                        <a:lnTo>
                          <a:pt x="164" y="216"/>
                        </a:lnTo>
                        <a:lnTo>
                          <a:pt x="170" y="221"/>
                        </a:lnTo>
                        <a:lnTo>
                          <a:pt x="185" y="231"/>
                        </a:lnTo>
                        <a:lnTo>
                          <a:pt x="198" y="237"/>
                        </a:lnTo>
                        <a:lnTo>
                          <a:pt x="199" y="235"/>
                        </a:lnTo>
                        <a:lnTo>
                          <a:pt x="198" y="230"/>
                        </a:lnTo>
                        <a:lnTo>
                          <a:pt x="199" y="225"/>
                        </a:lnTo>
                        <a:lnTo>
                          <a:pt x="204" y="219"/>
                        </a:lnTo>
                        <a:lnTo>
                          <a:pt x="193" y="214"/>
                        </a:lnTo>
                        <a:lnTo>
                          <a:pt x="181" y="212"/>
                        </a:lnTo>
                        <a:lnTo>
                          <a:pt x="180" y="208"/>
                        </a:lnTo>
                        <a:lnTo>
                          <a:pt x="189" y="207"/>
                        </a:lnTo>
                        <a:lnTo>
                          <a:pt x="208" y="212"/>
                        </a:lnTo>
                        <a:lnTo>
                          <a:pt x="222" y="215"/>
                        </a:lnTo>
                        <a:lnTo>
                          <a:pt x="239" y="224"/>
                        </a:lnTo>
                        <a:lnTo>
                          <a:pt x="240" y="227"/>
                        </a:lnTo>
                        <a:lnTo>
                          <a:pt x="238" y="229"/>
                        </a:lnTo>
                        <a:lnTo>
                          <a:pt x="235" y="229"/>
                        </a:lnTo>
                        <a:lnTo>
                          <a:pt x="229" y="226"/>
                        </a:lnTo>
                        <a:lnTo>
                          <a:pt x="224" y="226"/>
                        </a:lnTo>
                        <a:lnTo>
                          <a:pt x="220" y="232"/>
                        </a:lnTo>
                        <a:lnTo>
                          <a:pt x="212" y="241"/>
                        </a:lnTo>
                        <a:lnTo>
                          <a:pt x="206" y="260"/>
                        </a:lnTo>
                        <a:lnTo>
                          <a:pt x="209" y="268"/>
                        </a:lnTo>
                        <a:lnTo>
                          <a:pt x="214" y="274"/>
                        </a:lnTo>
                        <a:lnTo>
                          <a:pt x="215" y="276"/>
                        </a:lnTo>
                        <a:lnTo>
                          <a:pt x="208" y="279"/>
                        </a:lnTo>
                        <a:lnTo>
                          <a:pt x="204" y="279"/>
                        </a:lnTo>
                        <a:lnTo>
                          <a:pt x="198" y="27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633520" y="3897360"/>
                    <a:ext cx="442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44">
                        <a:moveTo>
                          <a:pt x="1" y="39"/>
                        </a:moveTo>
                        <a:lnTo>
                          <a:pt x="0" y="37"/>
                        </a:lnTo>
                        <a:lnTo>
                          <a:pt x="21" y="14"/>
                        </a:lnTo>
                        <a:lnTo>
                          <a:pt x="24" y="9"/>
                        </a:lnTo>
                        <a:lnTo>
                          <a:pt x="22" y="5"/>
                        </a:lnTo>
                        <a:lnTo>
                          <a:pt x="27" y="1"/>
                        </a:lnTo>
                        <a:lnTo>
                          <a:pt x="45" y="0"/>
                        </a:lnTo>
                        <a:lnTo>
                          <a:pt x="49" y="2"/>
                        </a:lnTo>
                        <a:lnTo>
                          <a:pt x="52" y="5"/>
                        </a:lnTo>
                        <a:lnTo>
                          <a:pt x="67" y="16"/>
                        </a:lnTo>
                        <a:lnTo>
                          <a:pt x="71" y="19"/>
                        </a:lnTo>
                        <a:lnTo>
                          <a:pt x="71" y="24"/>
                        </a:lnTo>
                        <a:lnTo>
                          <a:pt x="65" y="27"/>
                        </a:lnTo>
                        <a:lnTo>
                          <a:pt x="55" y="27"/>
                        </a:lnTo>
                        <a:lnTo>
                          <a:pt x="46" y="25"/>
                        </a:lnTo>
                        <a:lnTo>
                          <a:pt x="36" y="21"/>
                        </a:lnTo>
                        <a:lnTo>
                          <a:pt x="31" y="22"/>
                        </a:lnTo>
                        <a:lnTo>
                          <a:pt x="25" y="30"/>
                        </a:lnTo>
                        <a:lnTo>
                          <a:pt x="15" y="38"/>
                        </a:lnTo>
                        <a:lnTo>
                          <a:pt x="10" y="40"/>
                        </a:lnTo>
                        <a:lnTo>
                          <a:pt x="6" y="41"/>
                        </a:lnTo>
                        <a:lnTo>
                          <a:pt x="6" y="42"/>
                        </a:lnTo>
                        <a:lnTo>
                          <a:pt x="3" y="43"/>
                        </a:lnTo>
                        <a:lnTo>
                          <a:pt x="1" y="3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8846280" y="3771360"/>
                    <a:ext cx="12096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145">
                        <a:moveTo>
                          <a:pt x="109" y="133"/>
                        </a:moveTo>
                        <a:lnTo>
                          <a:pt x="108" y="130"/>
                        </a:lnTo>
                        <a:lnTo>
                          <a:pt x="110" y="129"/>
                        </a:lnTo>
                        <a:lnTo>
                          <a:pt x="107" y="124"/>
                        </a:lnTo>
                        <a:lnTo>
                          <a:pt x="93" y="115"/>
                        </a:lnTo>
                        <a:lnTo>
                          <a:pt x="91" y="112"/>
                        </a:lnTo>
                        <a:lnTo>
                          <a:pt x="81" y="106"/>
                        </a:lnTo>
                        <a:lnTo>
                          <a:pt x="48" y="81"/>
                        </a:lnTo>
                        <a:lnTo>
                          <a:pt x="17" y="61"/>
                        </a:lnTo>
                        <a:lnTo>
                          <a:pt x="8" y="54"/>
                        </a:lnTo>
                        <a:lnTo>
                          <a:pt x="1" y="50"/>
                        </a:lnTo>
                        <a:lnTo>
                          <a:pt x="0" y="48"/>
                        </a:lnTo>
                        <a:lnTo>
                          <a:pt x="3" y="46"/>
                        </a:lnTo>
                        <a:lnTo>
                          <a:pt x="5" y="46"/>
                        </a:lnTo>
                        <a:lnTo>
                          <a:pt x="16" y="51"/>
                        </a:lnTo>
                        <a:lnTo>
                          <a:pt x="46" y="37"/>
                        </a:lnTo>
                        <a:lnTo>
                          <a:pt x="70" y="29"/>
                        </a:lnTo>
                        <a:lnTo>
                          <a:pt x="73" y="27"/>
                        </a:lnTo>
                        <a:lnTo>
                          <a:pt x="80" y="25"/>
                        </a:lnTo>
                        <a:lnTo>
                          <a:pt x="108" y="13"/>
                        </a:lnTo>
                        <a:lnTo>
                          <a:pt x="121" y="10"/>
                        </a:lnTo>
                        <a:lnTo>
                          <a:pt x="132" y="6"/>
                        </a:lnTo>
                        <a:lnTo>
                          <a:pt x="160" y="0"/>
                        </a:lnTo>
                        <a:lnTo>
                          <a:pt x="169" y="2"/>
                        </a:lnTo>
                        <a:lnTo>
                          <a:pt x="171" y="5"/>
                        </a:lnTo>
                        <a:lnTo>
                          <a:pt x="172" y="7"/>
                        </a:lnTo>
                        <a:lnTo>
                          <a:pt x="168" y="11"/>
                        </a:lnTo>
                        <a:lnTo>
                          <a:pt x="134" y="18"/>
                        </a:lnTo>
                        <a:lnTo>
                          <a:pt x="93" y="32"/>
                        </a:lnTo>
                        <a:lnTo>
                          <a:pt x="63" y="45"/>
                        </a:lnTo>
                        <a:lnTo>
                          <a:pt x="39" y="54"/>
                        </a:lnTo>
                        <a:lnTo>
                          <a:pt x="33" y="57"/>
                        </a:lnTo>
                        <a:lnTo>
                          <a:pt x="32" y="58"/>
                        </a:lnTo>
                        <a:lnTo>
                          <a:pt x="29" y="60"/>
                        </a:lnTo>
                        <a:lnTo>
                          <a:pt x="37" y="66"/>
                        </a:lnTo>
                        <a:lnTo>
                          <a:pt x="50" y="74"/>
                        </a:lnTo>
                        <a:lnTo>
                          <a:pt x="88" y="98"/>
                        </a:lnTo>
                        <a:lnTo>
                          <a:pt x="92" y="99"/>
                        </a:lnTo>
                        <a:lnTo>
                          <a:pt x="95" y="99"/>
                        </a:lnTo>
                        <a:lnTo>
                          <a:pt x="97" y="95"/>
                        </a:lnTo>
                        <a:lnTo>
                          <a:pt x="97" y="91"/>
                        </a:lnTo>
                        <a:lnTo>
                          <a:pt x="98" y="88"/>
                        </a:lnTo>
                        <a:lnTo>
                          <a:pt x="97" y="81"/>
                        </a:lnTo>
                        <a:lnTo>
                          <a:pt x="99" y="67"/>
                        </a:lnTo>
                        <a:lnTo>
                          <a:pt x="99" y="46"/>
                        </a:lnTo>
                        <a:lnTo>
                          <a:pt x="103" y="37"/>
                        </a:lnTo>
                        <a:lnTo>
                          <a:pt x="107" y="32"/>
                        </a:lnTo>
                        <a:lnTo>
                          <a:pt x="113" y="32"/>
                        </a:lnTo>
                        <a:lnTo>
                          <a:pt x="116" y="33"/>
                        </a:lnTo>
                        <a:lnTo>
                          <a:pt x="119" y="42"/>
                        </a:lnTo>
                        <a:lnTo>
                          <a:pt x="117" y="49"/>
                        </a:lnTo>
                        <a:lnTo>
                          <a:pt x="117" y="53"/>
                        </a:lnTo>
                        <a:lnTo>
                          <a:pt x="114" y="62"/>
                        </a:lnTo>
                        <a:lnTo>
                          <a:pt x="110" y="82"/>
                        </a:lnTo>
                        <a:lnTo>
                          <a:pt x="109" y="88"/>
                        </a:lnTo>
                        <a:lnTo>
                          <a:pt x="113" y="90"/>
                        </a:lnTo>
                        <a:lnTo>
                          <a:pt x="137" y="79"/>
                        </a:lnTo>
                        <a:lnTo>
                          <a:pt x="162" y="72"/>
                        </a:lnTo>
                        <a:lnTo>
                          <a:pt x="181" y="65"/>
                        </a:lnTo>
                        <a:lnTo>
                          <a:pt x="194" y="66"/>
                        </a:lnTo>
                        <a:lnTo>
                          <a:pt x="195" y="73"/>
                        </a:lnTo>
                        <a:lnTo>
                          <a:pt x="194" y="75"/>
                        </a:lnTo>
                        <a:lnTo>
                          <a:pt x="160" y="80"/>
                        </a:lnTo>
                        <a:lnTo>
                          <a:pt x="135" y="88"/>
                        </a:lnTo>
                        <a:lnTo>
                          <a:pt x="112" y="99"/>
                        </a:lnTo>
                        <a:lnTo>
                          <a:pt x="107" y="104"/>
                        </a:lnTo>
                        <a:lnTo>
                          <a:pt x="105" y="104"/>
                        </a:lnTo>
                        <a:lnTo>
                          <a:pt x="104" y="105"/>
                        </a:lnTo>
                        <a:lnTo>
                          <a:pt x="104" y="108"/>
                        </a:lnTo>
                        <a:lnTo>
                          <a:pt x="117" y="116"/>
                        </a:lnTo>
                        <a:lnTo>
                          <a:pt x="118" y="117"/>
                        </a:lnTo>
                        <a:lnTo>
                          <a:pt x="126" y="121"/>
                        </a:lnTo>
                        <a:lnTo>
                          <a:pt x="127" y="128"/>
                        </a:lnTo>
                        <a:lnTo>
                          <a:pt x="125" y="136"/>
                        </a:lnTo>
                        <a:lnTo>
                          <a:pt x="119" y="142"/>
                        </a:lnTo>
                        <a:lnTo>
                          <a:pt x="116" y="144"/>
                        </a:lnTo>
                        <a:lnTo>
                          <a:pt x="107" y="144"/>
                        </a:lnTo>
                        <a:lnTo>
                          <a:pt x="109" y="13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8712720" y="3681000"/>
                    <a:ext cx="194040" cy="20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284">
                        <a:moveTo>
                          <a:pt x="156" y="270"/>
                        </a:moveTo>
                        <a:lnTo>
                          <a:pt x="151" y="266"/>
                        </a:lnTo>
                        <a:lnTo>
                          <a:pt x="136" y="256"/>
                        </a:lnTo>
                        <a:lnTo>
                          <a:pt x="98" y="230"/>
                        </a:lnTo>
                        <a:lnTo>
                          <a:pt x="101" y="230"/>
                        </a:lnTo>
                        <a:lnTo>
                          <a:pt x="105" y="227"/>
                        </a:lnTo>
                        <a:lnTo>
                          <a:pt x="108" y="227"/>
                        </a:lnTo>
                        <a:lnTo>
                          <a:pt x="129" y="240"/>
                        </a:lnTo>
                        <a:lnTo>
                          <a:pt x="136" y="237"/>
                        </a:lnTo>
                        <a:lnTo>
                          <a:pt x="145" y="230"/>
                        </a:lnTo>
                        <a:lnTo>
                          <a:pt x="175" y="214"/>
                        </a:lnTo>
                        <a:lnTo>
                          <a:pt x="189" y="210"/>
                        </a:lnTo>
                        <a:lnTo>
                          <a:pt x="199" y="205"/>
                        </a:lnTo>
                        <a:lnTo>
                          <a:pt x="202" y="201"/>
                        </a:lnTo>
                        <a:lnTo>
                          <a:pt x="201" y="198"/>
                        </a:lnTo>
                        <a:lnTo>
                          <a:pt x="189" y="189"/>
                        </a:lnTo>
                        <a:lnTo>
                          <a:pt x="186" y="185"/>
                        </a:lnTo>
                        <a:lnTo>
                          <a:pt x="178" y="186"/>
                        </a:lnTo>
                        <a:lnTo>
                          <a:pt x="170" y="190"/>
                        </a:lnTo>
                        <a:lnTo>
                          <a:pt x="153" y="196"/>
                        </a:lnTo>
                        <a:lnTo>
                          <a:pt x="108" y="215"/>
                        </a:lnTo>
                        <a:lnTo>
                          <a:pt x="91" y="223"/>
                        </a:lnTo>
                        <a:lnTo>
                          <a:pt x="79" y="227"/>
                        </a:lnTo>
                        <a:lnTo>
                          <a:pt x="55" y="238"/>
                        </a:lnTo>
                        <a:lnTo>
                          <a:pt x="40" y="243"/>
                        </a:lnTo>
                        <a:lnTo>
                          <a:pt x="26" y="250"/>
                        </a:lnTo>
                        <a:lnTo>
                          <a:pt x="22" y="250"/>
                        </a:lnTo>
                        <a:lnTo>
                          <a:pt x="18" y="248"/>
                        </a:lnTo>
                        <a:lnTo>
                          <a:pt x="42" y="231"/>
                        </a:lnTo>
                        <a:lnTo>
                          <a:pt x="46" y="230"/>
                        </a:lnTo>
                        <a:lnTo>
                          <a:pt x="48" y="227"/>
                        </a:lnTo>
                        <a:lnTo>
                          <a:pt x="53" y="226"/>
                        </a:lnTo>
                        <a:lnTo>
                          <a:pt x="54" y="225"/>
                        </a:lnTo>
                        <a:lnTo>
                          <a:pt x="62" y="222"/>
                        </a:lnTo>
                        <a:lnTo>
                          <a:pt x="67" y="218"/>
                        </a:lnTo>
                        <a:lnTo>
                          <a:pt x="70" y="218"/>
                        </a:lnTo>
                        <a:lnTo>
                          <a:pt x="72" y="216"/>
                        </a:lnTo>
                        <a:lnTo>
                          <a:pt x="78" y="214"/>
                        </a:lnTo>
                        <a:lnTo>
                          <a:pt x="85" y="211"/>
                        </a:lnTo>
                        <a:lnTo>
                          <a:pt x="97" y="207"/>
                        </a:lnTo>
                        <a:lnTo>
                          <a:pt x="101" y="204"/>
                        </a:lnTo>
                        <a:lnTo>
                          <a:pt x="110" y="202"/>
                        </a:lnTo>
                        <a:lnTo>
                          <a:pt x="112" y="201"/>
                        </a:lnTo>
                        <a:lnTo>
                          <a:pt x="121" y="197"/>
                        </a:lnTo>
                        <a:lnTo>
                          <a:pt x="133" y="191"/>
                        </a:lnTo>
                        <a:lnTo>
                          <a:pt x="150" y="185"/>
                        </a:lnTo>
                        <a:lnTo>
                          <a:pt x="177" y="173"/>
                        </a:lnTo>
                        <a:lnTo>
                          <a:pt x="182" y="169"/>
                        </a:lnTo>
                        <a:lnTo>
                          <a:pt x="200" y="160"/>
                        </a:lnTo>
                        <a:lnTo>
                          <a:pt x="204" y="160"/>
                        </a:lnTo>
                        <a:lnTo>
                          <a:pt x="206" y="155"/>
                        </a:lnTo>
                        <a:lnTo>
                          <a:pt x="211" y="127"/>
                        </a:lnTo>
                        <a:lnTo>
                          <a:pt x="213" y="115"/>
                        </a:lnTo>
                        <a:lnTo>
                          <a:pt x="214" y="113"/>
                        </a:lnTo>
                        <a:lnTo>
                          <a:pt x="213" y="102"/>
                        </a:lnTo>
                        <a:lnTo>
                          <a:pt x="216" y="76"/>
                        </a:lnTo>
                        <a:lnTo>
                          <a:pt x="218" y="67"/>
                        </a:lnTo>
                        <a:lnTo>
                          <a:pt x="218" y="54"/>
                        </a:lnTo>
                        <a:lnTo>
                          <a:pt x="218" y="49"/>
                        </a:lnTo>
                        <a:lnTo>
                          <a:pt x="207" y="18"/>
                        </a:lnTo>
                        <a:lnTo>
                          <a:pt x="204" y="14"/>
                        </a:lnTo>
                        <a:lnTo>
                          <a:pt x="198" y="11"/>
                        </a:lnTo>
                        <a:lnTo>
                          <a:pt x="191" y="12"/>
                        </a:lnTo>
                        <a:lnTo>
                          <a:pt x="171" y="25"/>
                        </a:lnTo>
                        <a:lnTo>
                          <a:pt x="147" y="43"/>
                        </a:lnTo>
                        <a:lnTo>
                          <a:pt x="130" y="57"/>
                        </a:lnTo>
                        <a:lnTo>
                          <a:pt x="101" y="81"/>
                        </a:lnTo>
                        <a:lnTo>
                          <a:pt x="97" y="82"/>
                        </a:lnTo>
                        <a:lnTo>
                          <a:pt x="96" y="85"/>
                        </a:lnTo>
                        <a:lnTo>
                          <a:pt x="97" y="88"/>
                        </a:lnTo>
                        <a:lnTo>
                          <a:pt x="130" y="107"/>
                        </a:lnTo>
                        <a:lnTo>
                          <a:pt x="139" y="116"/>
                        </a:lnTo>
                        <a:lnTo>
                          <a:pt x="139" y="119"/>
                        </a:lnTo>
                        <a:lnTo>
                          <a:pt x="137" y="121"/>
                        </a:lnTo>
                        <a:lnTo>
                          <a:pt x="132" y="121"/>
                        </a:lnTo>
                        <a:lnTo>
                          <a:pt x="121" y="116"/>
                        </a:lnTo>
                        <a:lnTo>
                          <a:pt x="115" y="110"/>
                        </a:lnTo>
                        <a:lnTo>
                          <a:pt x="92" y="96"/>
                        </a:lnTo>
                        <a:lnTo>
                          <a:pt x="83" y="90"/>
                        </a:lnTo>
                        <a:lnTo>
                          <a:pt x="71" y="83"/>
                        </a:lnTo>
                        <a:lnTo>
                          <a:pt x="52" y="68"/>
                        </a:lnTo>
                        <a:lnTo>
                          <a:pt x="44" y="63"/>
                        </a:lnTo>
                        <a:lnTo>
                          <a:pt x="0" y="38"/>
                        </a:lnTo>
                        <a:lnTo>
                          <a:pt x="1" y="36"/>
                        </a:lnTo>
                        <a:lnTo>
                          <a:pt x="4" y="34"/>
                        </a:lnTo>
                        <a:lnTo>
                          <a:pt x="8" y="34"/>
                        </a:lnTo>
                        <a:lnTo>
                          <a:pt x="10" y="36"/>
                        </a:lnTo>
                        <a:lnTo>
                          <a:pt x="16" y="40"/>
                        </a:lnTo>
                        <a:lnTo>
                          <a:pt x="57" y="64"/>
                        </a:lnTo>
                        <a:lnTo>
                          <a:pt x="69" y="73"/>
                        </a:lnTo>
                        <a:lnTo>
                          <a:pt x="73" y="74"/>
                        </a:lnTo>
                        <a:lnTo>
                          <a:pt x="83" y="72"/>
                        </a:lnTo>
                        <a:lnTo>
                          <a:pt x="89" y="67"/>
                        </a:lnTo>
                        <a:lnTo>
                          <a:pt x="97" y="63"/>
                        </a:lnTo>
                        <a:lnTo>
                          <a:pt x="118" y="44"/>
                        </a:lnTo>
                        <a:lnTo>
                          <a:pt x="148" y="21"/>
                        </a:lnTo>
                        <a:lnTo>
                          <a:pt x="162" y="12"/>
                        </a:lnTo>
                        <a:lnTo>
                          <a:pt x="179" y="4"/>
                        </a:lnTo>
                        <a:lnTo>
                          <a:pt x="186" y="3"/>
                        </a:lnTo>
                        <a:lnTo>
                          <a:pt x="189" y="1"/>
                        </a:lnTo>
                        <a:lnTo>
                          <a:pt x="202" y="0"/>
                        </a:lnTo>
                        <a:lnTo>
                          <a:pt x="214" y="1"/>
                        </a:lnTo>
                        <a:lnTo>
                          <a:pt x="222" y="6"/>
                        </a:lnTo>
                        <a:lnTo>
                          <a:pt x="228" y="16"/>
                        </a:lnTo>
                        <a:lnTo>
                          <a:pt x="236" y="37"/>
                        </a:lnTo>
                        <a:lnTo>
                          <a:pt x="237" y="58"/>
                        </a:lnTo>
                        <a:lnTo>
                          <a:pt x="233" y="78"/>
                        </a:lnTo>
                        <a:lnTo>
                          <a:pt x="229" y="113"/>
                        </a:lnTo>
                        <a:lnTo>
                          <a:pt x="223" y="145"/>
                        </a:lnTo>
                        <a:lnTo>
                          <a:pt x="218" y="155"/>
                        </a:lnTo>
                        <a:lnTo>
                          <a:pt x="216" y="158"/>
                        </a:lnTo>
                        <a:lnTo>
                          <a:pt x="211" y="163"/>
                        </a:lnTo>
                        <a:lnTo>
                          <a:pt x="211" y="165"/>
                        </a:lnTo>
                        <a:lnTo>
                          <a:pt x="207" y="169"/>
                        </a:lnTo>
                        <a:lnTo>
                          <a:pt x="205" y="173"/>
                        </a:lnTo>
                        <a:lnTo>
                          <a:pt x="198" y="177"/>
                        </a:lnTo>
                        <a:lnTo>
                          <a:pt x="198" y="178"/>
                        </a:lnTo>
                        <a:lnTo>
                          <a:pt x="204" y="184"/>
                        </a:lnTo>
                        <a:lnTo>
                          <a:pt x="235" y="202"/>
                        </a:lnTo>
                        <a:lnTo>
                          <a:pt x="265" y="222"/>
                        </a:lnTo>
                        <a:lnTo>
                          <a:pt x="306" y="251"/>
                        </a:lnTo>
                        <a:lnTo>
                          <a:pt x="314" y="258"/>
                        </a:lnTo>
                        <a:lnTo>
                          <a:pt x="313" y="265"/>
                        </a:lnTo>
                        <a:lnTo>
                          <a:pt x="307" y="264"/>
                        </a:lnTo>
                        <a:lnTo>
                          <a:pt x="276" y="246"/>
                        </a:lnTo>
                        <a:lnTo>
                          <a:pt x="251" y="230"/>
                        </a:lnTo>
                        <a:lnTo>
                          <a:pt x="243" y="224"/>
                        </a:lnTo>
                        <a:lnTo>
                          <a:pt x="228" y="215"/>
                        </a:lnTo>
                        <a:lnTo>
                          <a:pt x="220" y="211"/>
                        </a:lnTo>
                        <a:lnTo>
                          <a:pt x="209" y="217"/>
                        </a:lnTo>
                        <a:lnTo>
                          <a:pt x="165" y="239"/>
                        </a:lnTo>
                        <a:lnTo>
                          <a:pt x="150" y="249"/>
                        </a:lnTo>
                        <a:lnTo>
                          <a:pt x="147" y="251"/>
                        </a:lnTo>
                        <a:lnTo>
                          <a:pt x="160" y="260"/>
                        </a:lnTo>
                        <a:lnTo>
                          <a:pt x="172" y="270"/>
                        </a:lnTo>
                        <a:lnTo>
                          <a:pt x="183" y="280"/>
                        </a:lnTo>
                        <a:lnTo>
                          <a:pt x="182" y="283"/>
                        </a:lnTo>
                        <a:lnTo>
                          <a:pt x="174" y="283"/>
                        </a:lnTo>
                        <a:lnTo>
                          <a:pt x="156" y="27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635320" y="3835080"/>
                    <a:ext cx="763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74">
                        <a:moveTo>
                          <a:pt x="109" y="68"/>
                        </a:moveTo>
                        <a:lnTo>
                          <a:pt x="107" y="65"/>
                        </a:lnTo>
                        <a:lnTo>
                          <a:pt x="99" y="60"/>
                        </a:lnTo>
                        <a:lnTo>
                          <a:pt x="90" y="53"/>
                        </a:lnTo>
                        <a:lnTo>
                          <a:pt x="88" y="50"/>
                        </a:lnTo>
                        <a:lnTo>
                          <a:pt x="85" y="47"/>
                        </a:lnTo>
                        <a:lnTo>
                          <a:pt x="81" y="43"/>
                        </a:lnTo>
                        <a:lnTo>
                          <a:pt x="65" y="31"/>
                        </a:lnTo>
                        <a:lnTo>
                          <a:pt x="38" y="16"/>
                        </a:lnTo>
                        <a:lnTo>
                          <a:pt x="16" y="5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33" y="9"/>
                        </a:lnTo>
                        <a:lnTo>
                          <a:pt x="70" y="26"/>
                        </a:lnTo>
                        <a:lnTo>
                          <a:pt x="86" y="36"/>
                        </a:lnTo>
                        <a:lnTo>
                          <a:pt x="98" y="44"/>
                        </a:lnTo>
                        <a:lnTo>
                          <a:pt x="117" y="60"/>
                        </a:lnTo>
                        <a:lnTo>
                          <a:pt x="123" y="70"/>
                        </a:lnTo>
                        <a:lnTo>
                          <a:pt x="119" y="73"/>
                        </a:lnTo>
                        <a:lnTo>
                          <a:pt x="115" y="73"/>
                        </a:lnTo>
                        <a:lnTo>
                          <a:pt x="109" y="6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605080" y="3860640"/>
                    <a:ext cx="450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6">
                        <a:moveTo>
                          <a:pt x="51" y="17"/>
                        </a:moveTo>
                        <a:lnTo>
                          <a:pt x="39" y="13"/>
                        </a:lnTo>
                        <a:lnTo>
                          <a:pt x="28" y="9"/>
                        </a:lnTo>
                        <a:lnTo>
                          <a:pt x="7" y="4"/>
                        </a:lnTo>
                        <a:lnTo>
                          <a:pt x="2" y="4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12" y="0"/>
                        </a:lnTo>
                        <a:lnTo>
                          <a:pt x="22" y="3"/>
                        </a:lnTo>
                        <a:lnTo>
                          <a:pt x="33" y="5"/>
                        </a:lnTo>
                        <a:lnTo>
                          <a:pt x="64" y="18"/>
                        </a:lnTo>
                        <a:lnTo>
                          <a:pt x="72" y="23"/>
                        </a:lnTo>
                        <a:lnTo>
                          <a:pt x="72" y="25"/>
                        </a:lnTo>
                        <a:lnTo>
                          <a:pt x="65" y="24"/>
                        </a:lnTo>
                        <a:lnTo>
                          <a:pt x="51" y="1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696520" y="3719520"/>
                    <a:ext cx="9648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185">
                        <a:moveTo>
                          <a:pt x="56" y="136"/>
                        </a:moveTo>
                        <a:lnTo>
                          <a:pt x="62" y="121"/>
                        </a:lnTo>
                        <a:lnTo>
                          <a:pt x="62" y="116"/>
                        </a:lnTo>
                        <a:lnTo>
                          <a:pt x="68" y="103"/>
                        </a:lnTo>
                        <a:lnTo>
                          <a:pt x="66" y="98"/>
                        </a:lnTo>
                        <a:lnTo>
                          <a:pt x="58" y="74"/>
                        </a:lnTo>
                        <a:lnTo>
                          <a:pt x="59" y="66"/>
                        </a:lnTo>
                        <a:lnTo>
                          <a:pt x="66" y="59"/>
                        </a:lnTo>
                        <a:lnTo>
                          <a:pt x="72" y="57"/>
                        </a:lnTo>
                        <a:lnTo>
                          <a:pt x="75" y="57"/>
                        </a:lnTo>
                        <a:lnTo>
                          <a:pt x="77" y="55"/>
                        </a:lnTo>
                        <a:lnTo>
                          <a:pt x="73" y="52"/>
                        </a:lnTo>
                        <a:lnTo>
                          <a:pt x="51" y="40"/>
                        </a:lnTo>
                        <a:lnTo>
                          <a:pt x="26" y="26"/>
                        </a:lnTo>
                        <a:lnTo>
                          <a:pt x="9" y="15"/>
                        </a:lnTo>
                        <a:lnTo>
                          <a:pt x="0" y="11"/>
                        </a:lnTo>
                        <a:lnTo>
                          <a:pt x="0" y="10"/>
                        </a:lnTo>
                        <a:lnTo>
                          <a:pt x="8" y="2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15" y="3"/>
                        </a:lnTo>
                        <a:lnTo>
                          <a:pt x="40" y="18"/>
                        </a:lnTo>
                        <a:lnTo>
                          <a:pt x="84" y="43"/>
                        </a:lnTo>
                        <a:lnTo>
                          <a:pt x="97" y="50"/>
                        </a:lnTo>
                        <a:lnTo>
                          <a:pt x="104" y="56"/>
                        </a:lnTo>
                        <a:lnTo>
                          <a:pt x="117" y="62"/>
                        </a:lnTo>
                        <a:lnTo>
                          <a:pt x="124" y="67"/>
                        </a:lnTo>
                        <a:lnTo>
                          <a:pt x="137" y="75"/>
                        </a:lnTo>
                        <a:lnTo>
                          <a:pt x="141" y="78"/>
                        </a:lnTo>
                        <a:lnTo>
                          <a:pt x="151" y="85"/>
                        </a:lnTo>
                        <a:lnTo>
                          <a:pt x="156" y="89"/>
                        </a:lnTo>
                        <a:lnTo>
                          <a:pt x="156" y="94"/>
                        </a:lnTo>
                        <a:lnTo>
                          <a:pt x="154" y="95"/>
                        </a:lnTo>
                        <a:lnTo>
                          <a:pt x="145" y="96"/>
                        </a:lnTo>
                        <a:lnTo>
                          <a:pt x="134" y="91"/>
                        </a:lnTo>
                        <a:lnTo>
                          <a:pt x="119" y="82"/>
                        </a:lnTo>
                        <a:lnTo>
                          <a:pt x="112" y="77"/>
                        </a:lnTo>
                        <a:lnTo>
                          <a:pt x="106" y="73"/>
                        </a:lnTo>
                        <a:lnTo>
                          <a:pt x="101" y="70"/>
                        </a:lnTo>
                        <a:lnTo>
                          <a:pt x="97" y="71"/>
                        </a:lnTo>
                        <a:lnTo>
                          <a:pt x="91" y="83"/>
                        </a:lnTo>
                        <a:lnTo>
                          <a:pt x="77" y="127"/>
                        </a:lnTo>
                        <a:lnTo>
                          <a:pt x="67" y="151"/>
                        </a:lnTo>
                        <a:lnTo>
                          <a:pt x="56" y="172"/>
                        </a:lnTo>
                        <a:lnTo>
                          <a:pt x="40" y="184"/>
                        </a:lnTo>
                        <a:lnTo>
                          <a:pt x="41" y="176"/>
                        </a:lnTo>
                        <a:lnTo>
                          <a:pt x="56" y="13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588520" y="3598200"/>
                    <a:ext cx="12996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306">
                        <a:moveTo>
                          <a:pt x="33" y="297"/>
                        </a:moveTo>
                        <a:lnTo>
                          <a:pt x="4" y="275"/>
                        </a:lnTo>
                        <a:lnTo>
                          <a:pt x="1" y="272"/>
                        </a:lnTo>
                        <a:lnTo>
                          <a:pt x="0" y="271"/>
                        </a:lnTo>
                        <a:lnTo>
                          <a:pt x="2" y="270"/>
                        </a:lnTo>
                        <a:lnTo>
                          <a:pt x="4" y="268"/>
                        </a:lnTo>
                        <a:lnTo>
                          <a:pt x="19" y="276"/>
                        </a:lnTo>
                        <a:lnTo>
                          <a:pt x="25" y="282"/>
                        </a:lnTo>
                        <a:lnTo>
                          <a:pt x="35" y="288"/>
                        </a:lnTo>
                        <a:lnTo>
                          <a:pt x="44" y="269"/>
                        </a:lnTo>
                        <a:lnTo>
                          <a:pt x="48" y="254"/>
                        </a:lnTo>
                        <a:lnTo>
                          <a:pt x="58" y="234"/>
                        </a:lnTo>
                        <a:lnTo>
                          <a:pt x="64" y="225"/>
                        </a:lnTo>
                        <a:lnTo>
                          <a:pt x="63" y="220"/>
                        </a:lnTo>
                        <a:lnTo>
                          <a:pt x="59" y="218"/>
                        </a:lnTo>
                        <a:lnTo>
                          <a:pt x="52" y="220"/>
                        </a:lnTo>
                        <a:lnTo>
                          <a:pt x="22" y="230"/>
                        </a:lnTo>
                        <a:lnTo>
                          <a:pt x="20" y="230"/>
                        </a:lnTo>
                        <a:lnTo>
                          <a:pt x="12" y="209"/>
                        </a:lnTo>
                        <a:lnTo>
                          <a:pt x="10" y="207"/>
                        </a:lnTo>
                        <a:lnTo>
                          <a:pt x="15" y="204"/>
                        </a:lnTo>
                        <a:lnTo>
                          <a:pt x="25" y="202"/>
                        </a:lnTo>
                        <a:lnTo>
                          <a:pt x="28" y="200"/>
                        </a:lnTo>
                        <a:lnTo>
                          <a:pt x="35" y="199"/>
                        </a:lnTo>
                        <a:lnTo>
                          <a:pt x="46" y="194"/>
                        </a:lnTo>
                        <a:lnTo>
                          <a:pt x="66" y="189"/>
                        </a:lnTo>
                        <a:lnTo>
                          <a:pt x="68" y="185"/>
                        </a:lnTo>
                        <a:lnTo>
                          <a:pt x="72" y="174"/>
                        </a:lnTo>
                        <a:lnTo>
                          <a:pt x="81" y="149"/>
                        </a:lnTo>
                        <a:lnTo>
                          <a:pt x="83" y="143"/>
                        </a:lnTo>
                        <a:lnTo>
                          <a:pt x="88" y="131"/>
                        </a:lnTo>
                        <a:lnTo>
                          <a:pt x="88" y="129"/>
                        </a:lnTo>
                        <a:lnTo>
                          <a:pt x="98" y="109"/>
                        </a:lnTo>
                        <a:lnTo>
                          <a:pt x="103" y="96"/>
                        </a:lnTo>
                        <a:lnTo>
                          <a:pt x="113" y="77"/>
                        </a:lnTo>
                        <a:lnTo>
                          <a:pt x="129" y="55"/>
                        </a:lnTo>
                        <a:lnTo>
                          <a:pt x="156" y="22"/>
                        </a:lnTo>
                        <a:lnTo>
                          <a:pt x="173" y="5"/>
                        </a:lnTo>
                        <a:lnTo>
                          <a:pt x="182" y="2"/>
                        </a:lnTo>
                        <a:lnTo>
                          <a:pt x="186" y="0"/>
                        </a:lnTo>
                        <a:lnTo>
                          <a:pt x="198" y="0"/>
                        </a:lnTo>
                        <a:lnTo>
                          <a:pt x="200" y="2"/>
                        </a:lnTo>
                        <a:lnTo>
                          <a:pt x="203" y="6"/>
                        </a:lnTo>
                        <a:lnTo>
                          <a:pt x="207" y="17"/>
                        </a:lnTo>
                        <a:lnTo>
                          <a:pt x="207" y="26"/>
                        </a:lnTo>
                        <a:lnTo>
                          <a:pt x="209" y="35"/>
                        </a:lnTo>
                        <a:lnTo>
                          <a:pt x="209" y="53"/>
                        </a:lnTo>
                        <a:lnTo>
                          <a:pt x="210" y="65"/>
                        </a:lnTo>
                        <a:lnTo>
                          <a:pt x="209" y="67"/>
                        </a:lnTo>
                        <a:lnTo>
                          <a:pt x="210" y="73"/>
                        </a:lnTo>
                        <a:lnTo>
                          <a:pt x="207" y="91"/>
                        </a:lnTo>
                        <a:lnTo>
                          <a:pt x="207" y="98"/>
                        </a:lnTo>
                        <a:lnTo>
                          <a:pt x="202" y="107"/>
                        </a:lnTo>
                        <a:lnTo>
                          <a:pt x="199" y="127"/>
                        </a:lnTo>
                        <a:lnTo>
                          <a:pt x="194" y="136"/>
                        </a:lnTo>
                        <a:lnTo>
                          <a:pt x="193" y="141"/>
                        </a:lnTo>
                        <a:lnTo>
                          <a:pt x="190" y="144"/>
                        </a:lnTo>
                        <a:lnTo>
                          <a:pt x="191" y="146"/>
                        </a:lnTo>
                        <a:lnTo>
                          <a:pt x="168" y="171"/>
                        </a:lnTo>
                        <a:lnTo>
                          <a:pt x="162" y="175"/>
                        </a:lnTo>
                        <a:lnTo>
                          <a:pt x="157" y="181"/>
                        </a:lnTo>
                        <a:lnTo>
                          <a:pt x="116" y="212"/>
                        </a:lnTo>
                        <a:lnTo>
                          <a:pt x="95" y="229"/>
                        </a:lnTo>
                        <a:lnTo>
                          <a:pt x="93" y="231"/>
                        </a:lnTo>
                        <a:lnTo>
                          <a:pt x="91" y="227"/>
                        </a:lnTo>
                        <a:lnTo>
                          <a:pt x="92" y="214"/>
                        </a:lnTo>
                        <a:lnTo>
                          <a:pt x="95" y="208"/>
                        </a:lnTo>
                        <a:lnTo>
                          <a:pt x="125" y="184"/>
                        </a:lnTo>
                        <a:lnTo>
                          <a:pt x="138" y="175"/>
                        </a:lnTo>
                        <a:lnTo>
                          <a:pt x="145" y="170"/>
                        </a:lnTo>
                        <a:lnTo>
                          <a:pt x="155" y="163"/>
                        </a:lnTo>
                        <a:lnTo>
                          <a:pt x="165" y="154"/>
                        </a:lnTo>
                        <a:lnTo>
                          <a:pt x="167" y="149"/>
                        </a:lnTo>
                        <a:lnTo>
                          <a:pt x="171" y="147"/>
                        </a:lnTo>
                        <a:lnTo>
                          <a:pt x="182" y="121"/>
                        </a:lnTo>
                        <a:lnTo>
                          <a:pt x="189" y="96"/>
                        </a:lnTo>
                        <a:lnTo>
                          <a:pt x="187" y="94"/>
                        </a:lnTo>
                        <a:lnTo>
                          <a:pt x="191" y="89"/>
                        </a:lnTo>
                        <a:lnTo>
                          <a:pt x="191" y="78"/>
                        </a:lnTo>
                        <a:lnTo>
                          <a:pt x="194" y="63"/>
                        </a:lnTo>
                        <a:lnTo>
                          <a:pt x="195" y="53"/>
                        </a:lnTo>
                        <a:lnTo>
                          <a:pt x="195" y="36"/>
                        </a:lnTo>
                        <a:lnTo>
                          <a:pt x="194" y="24"/>
                        </a:lnTo>
                        <a:lnTo>
                          <a:pt x="195" y="18"/>
                        </a:lnTo>
                        <a:lnTo>
                          <a:pt x="195" y="16"/>
                        </a:lnTo>
                        <a:lnTo>
                          <a:pt x="192" y="15"/>
                        </a:lnTo>
                        <a:lnTo>
                          <a:pt x="186" y="18"/>
                        </a:lnTo>
                        <a:lnTo>
                          <a:pt x="169" y="35"/>
                        </a:lnTo>
                        <a:lnTo>
                          <a:pt x="153" y="55"/>
                        </a:lnTo>
                        <a:lnTo>
                          <a:pt x="150" y="60"/>
                        </a:lnTo>
                        <a:lnTo>
                          <a:pt x="154" y="74"/>
                        </a:lnTo>
                        <a:lnTo>
                          <a:pt x="152" y="81"/>
                        </a:lnTo>
                        <a:lnTo>
                          <a:pt x="149" y="92"/>
                        </a:lnTo>
                        <a:lnTo>
                          <a:pt x="155" y="91"/>
                        </a:lnTo>
                        <a:lnTo>
                          <a:pt x="171" y="76"/>
                        </a:lnTo>
                        <a:lnTo>
                          <a:pt x="175" y="71"/>
                        </a:lnTo>
                        <a:lnTo>
                          <a:pt x="182" y="66"/>
                        </a:lnTo>
                        <a:lnTo>
                          <a:pt x="180" y="77"/>
                        </a:lnTo>
                        <a:lnTo>
                          <a:pt x="177" y="79"/>
                        </a:lnTo>
                        <a:lnTo>
                          <a:pt x="180" y="83"/>
                        </a:lnTo>
                        <a:lnTo>
                          <a:pt x="150" y="102"/>
                        </a:lnTo>
                        <a:lnTo>
                          <a:pt x="143" y="105"/>
                        </a:lnTo>
                        <a:lnTo>
                          <a:pt x="139" y="108"/>
                        </a:lnTo>
                        <a:lnTo>
                          <a:pt x="136" y="109"/>
                        </a:lnTo>
                        <a:lnTo>
                          <a:pt x="132" y="106"/>
                        </a:lnTo>
                        <a:lnTo>
                          <a:pt x="132" y="103"/>
                        </a:lnTo>
                        <a:lnTo>
                          <a:pt x="135" y="96"/>
                        </a:lnTo>
                        <a:lnTo>
                          <a:pt x="135" y="88"/>
                        </a:lnTo>
                        <a:lnTo>
                          <a:pt x="132" y="87"/>
                        </a:lnTo>
                        <a:lnTo>
                          <a:pt x="125" y="98"/>
                        </a:lnTo>
                        <a:lnTo>
                          <a:pt x="98" y="163"/>
                        </a:lnTo>
                        <a:lnTo>
                          <a:pt x="94" y="176"/>
                        </a:lnTo>
                        <a:lnTo>
                          <a:pt x="88" y="188"/>
                        </a:lnTo>
                        <a:lnTo>
                          <a:pt x="85" y="197"/>
                        </a:lnTo>
                        <a:lnTo>
                          <a:pt x="82" y="205"/>
                        </a:lnTo>
                        <a:lnTo>
                          <a:pt x="82" y="210"/>
                        </a:lnTo>
                        <a:lnTo>
                          <a:pt x="80" y="212"/>
                        </a:lnTo>
                        <a:lnTo>
                          <a:pt x="81" y="215"/>
                        </a:lnTo>
                        <a:lnTo>
                          <a:pt x="79" y="219"/>
                        </a:lnTo>
                        <a:lnTo>
                          <a:pt x="80" y="230"/>
                        </a:lnTo>
                        <a:lnTo>
                          <a:pt x="82" y="237"/>
                        </a:lnTo>
                        <a:lnTo>
                          <a:pt x="66" y="267"/>
                        </a:lnTo>
                        <a:lnTo>
                          <a:pt x="63" y="280"/>
                        </a:lnTo>
                        <a:lnTo>
                          <a:pt x="53" y="294"/>
                        </a:lnTo>
                        <a:lnTo>
                          <a:pt x="53" y="301"/>
                        </a:lnTo>
                        <a:lnTo>
                          <a:pt x="49" y="305"/>
                        </a:lnTo>
                        <a:lnTo>
                          <a:pt x="42" y="304"/>
                        </a:lnTo>
                        <a:lnTo>
                          <a:pt x="33" y="29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795880" y="3718080"/>
                    <a:ext cx="442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49">
                        <a:moveTo>
                          <a:pt x="1" y="44"/>
                        </a:moveTo>
                        <a:lnTo>
                          <a:pt x="0" y="40"/>
                        </a:lnTo>
                        <a:lnTo>
                          <a:pt x="2" y="36"/>
                        </a:lnTo>
                        <a:lnTo>
                          <a:pt x="6" y="24"/>
                        </a:lnTo>
                        <a:lnTo>
                          <a:pt x="7" y="15"/>
                        </a:lnTo>
                        <a:lnTo>
                          <a:pt x="6" y="10"/>
                        </a:lnTo>
                        <a:lnTo>
                          <a:pt x="18" y="1"/>
                        </a:lnTo>
                        <a:lnTo>
                          <a:pt x="19" y="0"/>
                        </a:lnTo>
                        <a:lnTo>
                          <a:pt x="21" y="6"/>
                        </a:lnTo>
                        <a:lnTo>
                          <a:pt x="17" y="34"/>
                        </a:lnTo>
                        <a:lnTo>
                          <a:pt x="13" y="40"/>
                        </a:lnTo>
                        <a:lnTo>
                          <a:pt x="13" y="41"/>
                        </a:lnTo>
                        <a:lnTo>
                          <a:pt x="16" y="42"/>
                        </a:lnTo>
                        <a:lnTo>
                          <a:pt x="63" y="13"/>
                        </a:lnTo>
                        <a:lnTo>
                          <a:pt x="71" y="9"/>
                        </a:lnTo>
                        <a:lnTo>
                          <a:pt x="70" y="20"/>
                        </a:lnTo>
                        <a:lnTo>
                          <a:pt x="40" y="36"/>
                        </a:lnTo>
                        <a:lnTo>
                          <a:pt x="26" y="44"/>
                        </a:lnTo>
                        <a:lnTo>
                          <a:pt x="19" y="48"/>
                        </a:lnTo>
                        <a:lnTo>
                          <a:pt x="13" y="48"/>
                        </a:lnTo>
                        <a:lnTo>
                          <a:pt x="1" y="4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8544240" y="3759840"/>
                    <a:ext cx="176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2" y="14"/>
                        </a:moveTo>
                        <a:lnTo>
                          <a:pt x="0" y="7"/>
                        </a:lnTo>
                        <a:lnTo>
                          <a:pt x="2" y="3"/>
                        </a:lnTo>
                        <a:lnTo>
                          <a:pt x="8" y="0"/>
                        </a:lnTo>
                        <a:lnTo>
                          <a:pt x="14" y="0"/>
                        </a:lnTo>
                        <a:lnTo>
                          <a:pt x="23" y="2"/>
                        </a:lnTo>
                        <a:lnTo>
                          <a:pt x="28" y="4"/>
                        </a:lnTo>
                        <a:lnTo>
                          <a:pt x="27" y="12"/>
                        </a:lnTo>
                        <a:lnTo>
                          <a:pt x="22" y="16"/>
                        </a:lnTo>
                        <a:lnTo>
                          <a:pt x="20" y="17"/>
                        </a:lnTo>
                        <a:lnTo>
                          <a:pt x="10" y="18"/>
                        </a:lnTo>
                        <a:lnTo>
                          <a:pt x="2" y="1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8755200" y="3488040"/>
                    <a:ext cx="1353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329">
                        <a:moveTo>
                          <a:pt x="0" y="326"/>
                        </a:moveTo>
                        <a:lnTo>
                          <a:pt x="6" y="309"/>
                        </a:lnTo>
                        <a:lnTo>
                          <a:pt x="8" y="301"/>
                        </a:lnTo>
                        <a:lnTo>
                          <a:pt x="10" y="290"/>
                        </a:lnTo>
                        <a:lnTo>
                          <a:pt x="16" y="278"/>
                        </a:lnTo>
                        <a:lnTo>
                          <a:pt x="22" y="250"/>
                        </a:lnTo>
                        <a:lnTo>
                          <a:pt x="27" y="236"/>
                        </a:lnTo>
                        <a:lnTo>
                          <a:pt x="30" y="225"/>
                        </a:lnTo>
                        <a:lnTo>
                          <a:pt x="36" y="206"/>
                        </a:lnTo>
                        <a:lnTo>
                          <a:pt x="35" y="203"/>
                        </a:lnTo>
                        <a:lnTo>
                          <a:pt x="38" y="199"/>
                        </a:lnTo>
                        <a:lnTo>
                          <a:pt x="38" y="191"/>
                        </a:lnTo>
                        <a:lnTo>
                          <a:pt x="40" y="184"/>
                        </a:lnTo>
                        <a:lnTo>
                          <a:pt x="39" y="178"/>
                        </a:lnTo>
                        <a:lnTo>
                          <a:pt x="47" y="155"/>
                        </a:lnTo>
                        <a:lnTo>
                          <a:pt x="46" y="150"/>
                        </a:lnTo>
                        <a:lnTo>
                          <a:pt x="51" y="135"/>
                        </a:lnTo>
                        <a:lnTo>
                          <a:pt x="51" y="127"/>
                        </a:lnTo>
                        <a:lnTo>
                          <a:pt x="54" y="116"/>
                        </a:lnTo>
                        <a:lnTo>
                          <a:pt x="58" y="109"/>
                        </a:lnTo>
                        <a:lnTo>
                          <a:pt x="59" y="102"/>
                        </a:lnTo>
                        <a:lnTo>
                          <a:pt x="63" y="99"/>
                        </a:lnTo>
                        <a:lnTo>
                          <a:pt x="77" y="97"/>
                        </a:lnTo>
                        <a:lnTo>
                          <a:pt x="85" y="105"/>
                        </a:lnTo>
                        <a:lnTo>
                          <a:pt x="88" y="106"/>
                        </a:lnTo>
                        <a:lnTo>
                          <a:pt x="90" y="109"/>
                        </a:lnTo>
                        <a:lnTo>
                          <a:pt x="94" y="112"/>
                        </a:lnTo>
                        <a:lnTo>
                          <a:pt x="112" y="109"/>
                        </a:lnTo>
                        <a:lnTo>
                          <a:pt x="125" y="103"/>
                        </a:lnTo>
                        <a:lnTo>
                          <a:pt x="146" y="91"/>
                        </a:lnTo>
                        <a:lnTo>
                          <a:pt x="168" y="75"/>
                        </a:lnTo>
                        <a:lnTo>
                          <a:pt x="174" y="73"/>
                        </a:lnTo>
                        <a:lnTo>
                          <a:pt x="187" y="73"/>
                        </a:lnTo>
                        <a:lnTo>
                          <a:pt x="189" y="73"/>
                        </a:lnTo>
                        <a:lnTo>
                          <a:pt x="191" y="73"/>
                        </a:lnTo>
                        <a:lnTo>
                          <a:pt x="194" y="63"/>
                        </a:lnTo>
                        <a:lnTo>
                          <a:pt x="198" y="57"/>
                        </a:lnTo>
                        <a:lnTo>
                          <a:pt x="198" y="47"/>
                        </a:lnTo>
                        <a:lnTo>
                          <a:pt x="193" y="36"/>
                        </a:lnTo>
                        <a:lnTo>
                          <a:pt x="181" y="23"/>
                        </a:lnTo>
                        <a:lnTo>
                          <a:pt x="164" y="14"/>
                        </a:lnTo>
                        <a:lnTo>
                          <a:pt x="158" y="11"/>
                        </a:lnTo>
                        <a:lnTo>
                          <a:pt x="148" y="11"/>
                        </a:lnTo>
                        <a:lnTo>
                          <a:pt x="147" y="8"/>
                        </a:lnTo>
                        <a:lnTo>
                          <a:pt x="148" y="0"/>
                        </a:lnTo>
                        <a:lnTo>
                          <a:pt x="154" y="0"/>
                        </a:lnTo>
                        <a:lnTo>
                          <a:pt x="171" y="2"/>
                        </a:lnTo>
                        <a:lnTo>
                          <a:pt x="186" y="9"/>
                        </a:lnTo>
                        <a:lnTo>
                          <a:pt x="200" y="18"/>
                        </a:lnTo>
                        <a:lnTo>
                          <a:pt x="216" y="35"/>
                        </a:lnTo>
                        <a:lnTo>
                          <a:pt x="219" y="50"/>
                        </a:lnTo>
                        <a:lnTo>
                          <a:pt x="216" y="63"/>
                        </a:lnTo>
                        <a:lnTo>
                          <a:pt x="207" y="74"/>
                        </a:lnTo>
                        <a:lnTo>
                          <a:pt x="203" y="76"/>
                        </a:lnTo>
                        <a:lnTo>
                          <a:pt x="193" y="77"/>
                        </a:lnTo>
                        <a:lnTo>
                          <a:pt x="186" y="84"/>
                        </a:lnTo>
                        <a:lnTo>
                          <a:pt x="143" y="112"/>
                        </a:lnTo>
                        <a:lnTo>
                          <a:pt x="117" y="122"/>
                        </a:lnTo>
                        <a:lnTo>
                          <a:pt x="104" y="125"/>
                        </a:lnTo>
                        <a:lnTo>
                          <a:pt x="92" y="125"/>
                        </a:lnTo>
                        <a:lnTo>
                          <a:pt x="88" y="123"/>
                        </a:lnTo>
                        <a:lnTo>
                          <a:pt x="81" y="123"/>
                        </a:lnTo>
                        <a:lnTo>
                          <a:pt x="74" y="121"/>
                        </a:lnTo>
                        <a:lnTo>
                          <a:pt x="73" y="122"/>
                        </a:lnTo>
                        <a:lnTo>
                          <a:pt x="71" y="127"/>
                        </a:lnTo>
                        <a:lnTo>
                          <a:pt x="68" y="141"/>
                        </a:lnTo>
                        <a:lnTo>
                          <a:pt x="65" y="155"/>
                        </a:lnTo>
                        <a:lnTo>
                          <a:pt x="65" y="162"/>
                        </a:lnTo>
                        <a:lnTo>
                          <a:pt x="63" y="172"/>
                        </a:lnTo>
                        <a:lnTo>
                          <a:pt x="57" y="199"/>
                        </a:lnTo>
                        <a:lnTo>
                          <a:pt x="49" y="225"/>
                        </a:lnTo>
                        <a:lnTo>
                          <a:pt x="49" y="232"/>
                        </a:lnTo>
                        <a:lnTo>
                          <a:pt x="36" y="283"/>
                        </a:lnTo>
                        <a:lnTo>
                          <a:pt x="30" y="303"/>
                        </a:lnTo>
                        <a:lnTo>
                          <a:pt x="28" y="312"/>
                        </a:lnTo>
                        <a:lnTo>
                          <a:pt x="6" y="328"/>
                        </a:lnTo>
                        <a:lnTo>
                          <a:pt x="4" y="328"/>
                        </a:lnTo>
                        <a:lnTo>
                          <a:pt x="0" y="32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8709480" y="3453120"/>
                    <a:ext cx="15660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01">
                        <a:moveTo>
                          <a:pt x="3" y="190"/>
                        </a:moveTo>
                        <a:lnTo>
                          <a:pt x="0" y="189"/>
                        </a:lnTo>
                        <a:lnTo>
                          <a:pt x="8" y="177"/>
                        </a:lnTo>
                        <a:lnTo>
                          <a:pt x="72" y="101"/>
                        </a:lnTo>
                        <a:lnTo>
                          <a:pt x="70" y="96"/>
                        </a:lnTo>
                        <a:lnTo>
                          <a:pt x="66" y="94"/>
                        </a:lnTo>
                        <a:lnTo>
                          <a:pt x="66" y="86"/>
                        </a:lnTo>
                        <a:lnTo>
                          <a:pt x="63" y="69"/>
                        </a:lnTo>
                        <a:lnTo>
                          <a:pt x="64" y="64"/>
                        </a:lnTo>
                        <a:lnTo>
                          <a:pt x="63" y="59"/>
                        </a:lnTo>
                        <a:lnTo>
                          <a:pt x="65" y="51"/>
                        </a:lnTo>
                        <a:lnTo>
                          <a:pt x="70" y="47"/>
                        </a:lnTo>
                        <a:lnTo>
                          <a:pt x="79" y="46"/>
                        </a:lnTo>
                        <a:lnTo>
                          <a:pt x="83" y="47"/>
                        </a:lnTo>
                        <a:lnTo>
                          <a:pt x="78" y="67"/>
                        </a:lnTo>
                        <a:lnTo>
                          <a:pt x="80" y="77"/>
                        </a:lnTo>
                        <a:lnTo>
                          <a:pt x="79" y="82"/>
                        </a:lnTo>
                        <a:lnTo>
                          <a:pt x="80" y="85"/>
                        </a:lnTo>
                        <a:lnTo>
                          <a:pt x="85" y="85"/>
                        </a:lnTo>
                        <a:lnTo>
                          <a:pt x="92" y="76"/>
                        </a:lnTo>
                        <a:lnTo>
                          <a:pt x="89" y="68"/>
                        </a:lnTo>
                        <a:lnTo>
                          <a:pt x="91" y="60"/>
                        </a:lnTo>
                        <a:lnTo>
                          <a:pt x="100" y="64"/>
                        </a:lnTo>
                        <a:lnTo>
                          <a:pt x="103" y="63"/>
                        </a:lnTo>
                        <a:lnTo>
                          <a:pt x="126" y="42"/>
                        </a:lnTo>
                        <a:lnTo>
                          <a:pt x="138" y="36"/>
                        </a:lnTo>
                        <a:lnTo>
                          <a:pt x="166" y="7"/>
                        </a:lnTo>
                        <a:lnTo>
                          <a:pt x="179" y="0"/>
                        </a:lnTo>
                        <a:lnTo>
                          <a:pt x="191" y="0"/>
                        </a:lnTo>
                        <a:lnTo>
                          <a:pt x="194" y="1"/>
                        </a:lnTo>
                        <a:lnTo>
                          <a:pt x="197" y="2"/>
                        </a:lnTo>
                        <a:lnTo>
                          <a:pt x="200" y="9"/>
                        </a:lnTo>
                        <a:lnTo>
                          <a:pt x="205" y="14"/>
                        </a:lnTo>
                        <a:lnTo>
                          <a:pt x="211" y="33"/>
                        </a:lnTo>
                        <a:lnTo>
                          <a:pt x="211" y="38"/>
                        </a:lnTo>
                        <a:lnTo>
                          <a:pt x="214" y="43"/>
                        </a:lnTo>
                        <a:lnTo>
                          <a:pt x="211" y="45"/>
                        </a:lnTo>
                        <a:lnTo>
                          <a:pt x="212" y="49"/>
                        </a:lnTo>
                        <a:lnTo>
                          <a:pt x="210" y="63"/>
                        </a:lnTo>
                        <a:lnTo>
                          <a:pt x="203" y="89"/>
                        </a:lnTo>
                        <a:lnTo>
                          <a:pt x="205" y="92"/>
                        </a:lnTo>
                        <a:lnTo>
                          <a:pt x="243" y="103"/>
                        </a:lnTo>
                        <a:lnTo>
                          <a:pt x="247" y="105"/>
                        </a:lnTo>
                        <a:lnTo>
                          <a:pt x="251" y="104"/>
                        </a:lnTo>
                        <a:lnTo>
                          <a:pt x="253" y="106"/>
                        </a:lnTo>
                        <a:lnTo>
                          <a:pt x="250" y="112"/>
                        </a:lnTo>
                        <a:lnTo>
                          <a:pt x="250" y="113"/>
                        </a:lnTo>
                        <a:lnTo>
                          <a:pt x="251" y="115"/>
                        </a:lnTo>
                        <a:lnTo>
                          <a:pt x="205" y="100"/>
                        </a:lnTo>
                        <a:lnTo>
                          <a:pt x="198" y="102"/>
                        </a:lnTo>
                        <a:lnTo>
                          <a:pt x="189" y="111"/>
                        </a:lnTo>
                        <a:lnTo>
                          <a:pt x="166" y="130"/>
                        </a:lnTo>
                        <a:lnTo>
                          <a:pt x="162" y="136"/>
                        </a:lnTo>
                        <a:lnTo>
                          <a:pt x="157" y="137"/>
                        </a:lnTo>
                        <a:lnTo>
                          <a:pt x="149" y="136"/>
                        </a:lnTo>
                        <a:lnTo>
                          <a:pt x="153" y="130"/>
                        </a:lnTo>
                        <a:lnTo>
                          <a:pt x="174" y="107"/>
                        </a:lnTo>
                        <a:lnTo>
                          <a:pt x="187" y="97"/>
                        </a:lnTo>
                        <a:lnTo>
                          <a:pt x="191" y="90"/>
                        </a:lnTo>
                        <a:lnTo>
                          <a:pt x="192" y="81"/>
                        </a:lnTo>
                        <a:lnTo>
                          <a:pt x="194" y="57"/>
                        </a:lnTo>
                        <a:lnTo>
                          <a:pt x="196" y="37"/>
                        </a:lnTo>
                        <a:lnTo>
                          <a:pt x="191" y="22"/>
                        </a:lnTo>
                        <a:lnTo>
                          <a:pt x="190" y="20"/>
                        </a:lnTo>
                        <a:lnTo>
                          <a:pt x="185" y="17"/>
                        </a:lnTo>
                        <a:lnTo>
                          <a:pt x="179" y="16"/>
                        </a:lnTo>
                        <a:lnTo>
                          <a:pt x="171" y="23"/>
                        </a:lnTo>
                        <a:lnTo>
                          <a:pt x="153" y="37"/>
                        </a:lnTo>
                        <a:lnTo>
                          <a:pt x="151" y="39"/>
                        </a:lnTo>
                        <a:lnTo>
                          <a:pt x="151" y="40"/>
                        </a:lnTo>
                        <a:lnTo>
                          <a:pt x="162" y="46"/>
                        </a:lnTo>
                        <a:lnTo>
                          <a:pt x="169" y="42"/>
                        </a:lnTo>
                        <a:lnTo>
                          <a:pt x="176" y="34"/>
                        </a:lnTo>
                        <a:lnTo>
                          <a:pt x="183" y="32"/>
                        </a:lnTo>
                        <a:lnTo>
                          <a:pt x="183" y="42"/>
                        </a:lnTo>
                        <a:lnTo>
                          <a:pt x="170" y="50"/>
                        </a:lnTo>
                        <a:lnTo>
                          <a:pt x="164" y="51"/>
                        </a:lnTo>
                        <a:lnTo>
                          <a:pt x="160" y="46"/>
                        </a:lnTo>
                        <a:lnTo>
                          <a:pt x="157" y="49"/>
                        </a:lnTo>
                        <a:lnTo>
                          <a:pt x="160" y="62"/>
                        </a:lnTo>
                        <a:lnTo>
                          <a:pt x="162" y="75"/>
                        </a:lnTo>
                        <a:lnTo>
                          <a:pt x="160" y="104"/>
                        </a:lnTo>
                        <a:lnTo>
                          <a:pt x="161" y="106"/>
                        </a:lnTo>
                        <a:lnTo>
                          <a:pt x="151" y="116"/>
                        </a:lnTo>
                        <a:lnTo>
                          <a:pt x="151" y="117"/>
                        </a:lnTo>
                        <a:lnTo>
                          <a:pt x="146" y="107"/>
                        </a:lnTo>
                        <a:lnTo>
                          <a:pt x="147" y="96"/>
                        </a:lnTo>
                        <a:lnTo>
                          <a:pt x="148" y="80"/>
                        </a:lnTo>
                        <a:lnTo>
                          <a:pt x="148" y="71"/>
                        </a:lnTo>
                        <a:lnTo>
                          <a:pt x="143" y="59"/>
                        </a:lnTo>
                        <a:lnTo>
                          <a:pt x="138" y="57"/>
                        </a:lnTo>
                        <a:lnTo>
                          <a:pt x="115" y="80"/>
                        </a:lnTo>
                        <a:lnTo>
                          <a:pt x="34" y="180"/>
                        </a:lnTo>
                        <a:lnTo>
                          <a:pt x="17" y="200"/>
                        </a:lnTo>
                        <a:lnTo>
                          <a:pt x="11" y="194"/>
                        </a:lnTo>
                        <a:lnTo>
                          <a:pt x="3" y="19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9" name=""/>
            <p:cNvSpPr/>
            <p:nvPr/>
          </p:nvSpPr>
          <p:spPr>
            <a:xfrm>
              <a:off x="7776360" y="3742560"/>
              <a:ext cx="85680" cy="196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7123680" y="3603960"/>
              <a:ext cx="1104840" cy="747000"/>
            </a:xfrm>
            <a:prstGeom prst="parallelogram">
              <a:avLst>
                <a:gd name="adj" fmla="val 36955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43240" y="3826080"/>
              <a:ext cx="121680" cy="0"/>
            </a:xfrm>
            <a:prstGeom prst="line">
              <a:avLst/>
            </a:prstGeom>
            <a:ln w="507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89400" y="3819960"/>
              <a:ext cx="80964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41760" y="3768480"/>
              <a:ext cx="388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 rot="16138800">
            <a:off x="4883760" y="1745280"/>
            <a:ext cx="5472000" cy="3962520"/>
          </a:xfrm>
          <a:prstGeom prst="triangle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14440" y="3809880"/>
            <a:ext cx="4029120" cy="1172160"/>
            <a:chOff x="514440" y="3809880"/>
            <a:chExt cx="4029120" cy="1172160"/>
          </a:xfrm>
        </p:grpSpPr>
        <p:sp>
          <p:nvSpPr>
            <p:cNvPr id="126" name=""/>
            <p:cNvSpPr/>
            <p:nvPr/>
          </p:nvSpPr>
          <p:spPr>
            <a:xfrm>
              <a:off x="514440" y="3809880"/>
              <a:ext cx="4029120" cy="1800"/>
            </a:xfrm>
            <a:prstGeom prst="line">
              <a:avLst/>
            </a:prstGeom>
            <a:ln w="177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36760" y="3913200"/>
              <a:ext cx="1387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System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desig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78720" y="3124080"/>
            <a:ext cx="44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eline (ideal)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410440" y="812520"/>
            <a:ext cx="4295520" cy="2997000"/>
            <a:chOff x="5410440" y="812520"/>
            <a:chExt cx="4295520" cy="2997000"/>
          </a:xfrm>
        </p:grpSpPr>
        <p:sp>
          <p:nvSpPr>
            <p:cNvPr id="130" name=""/>
            <p:cNvSpPr/>
            <p:nvPr/>
          </p:nvSpPr>
          <p:spPr>
            <a:xfrm flipV="1">
              <a:off x="5572080" y="812520"/>
              <a:ext cx="4133880" cy="2997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440" y="1523880"/>
              <a:ext cx="205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Baselin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performan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638680" y="3809880"/>
            <a:ext cx="4033800" cy="2667240"/>
            <a:chOff x="5638680" y="3809880"/>
            <a:chExt cx="4033800" cy="2667240"/>
          </a:xfrm>
        </p:grpSpPr>
        <p:sp>
          <p:nvSpPr>
            <p:cNvPr id="133" name=""/>
            <p:cNvSpPr/>
            <p:nvPr/>
          </p:nvSpPr>
          <p:spPr>
            <a:xfrm>
              <a:off x="5657760" y="3809880"/>
              <a:ext cx="4014720" cy="2667240"/>
            </a:xfrm>
            <a:prstGeom prst="line">
              <a:avLst/>
            </a:prstGeom>
            <a:ln w="7632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38680" y="5099040"/>
              <a:ext cx="214308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Operationa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performan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7694640" y="3048120"/>
            <a:ext cx="171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afd00"/>
                </a:solidFill>
                <a:latin typeface="Arial Narrow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 Narrow"/>
              </a:rPr>
              <a:t>Drif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14560" y="3581280"/>
            <a:ext cx="2229120" cy="1951560"/>
            <a:chOff x="2914560" y="3581280"/>
            <a:chExt cx="2229120" cy="1951560"/>
          </a:xfrm>
        </p:grpSpPr>
        <p:grpSp>
          <p:nvGrpSpPr>
            <p:cNvPr id="137" name=""/>
            <p:cNvGrpSpPr/>
            <p:nvPr/>
          </p:nvGrpSpPr>
          <p:grpSpPr>
            <a:xfrm>
              <a:off x="2914560" y="3984120"/>
              <a:ext cx="2228760" cy="1548720"/>
              <a:chOff x="2914560" y="3984120"/>
              <a:chExt cx="2228760" cy="1548720"/>
            </a:xfrm>
          </p:grpSpPr>
          <p:sp>
            <p:nvSpPr>
              <p:cNvPr id="138" name=""/>
              <p:cNvSpPr/>
              <p:nvPr/>
            </p:nvSpPr>
            <p:spPr>
              <a:xfrm>
                <a:off x="2914560" y="4464000"/>
                <a:ext cx="2228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Operation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deploymen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4200120" y="3984120"/>
                <a:ext cx="514080" cy="609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565520" y="3581280"/>
              <a:ext cx="578160" cy="45720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143680" y="3809880"/>
            <a:ext cx="428400" cy="1800"/>
          </a:xfrm>
          <a:prstGeom prst="line">
            <a:avLst/>
          </a:prstGeom>
          <a:ln w="177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15228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 Narrow"/>
              </a:rPr>
              <a:t>An Imperfect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67680" y="812880"/>
            <a:ext cx="914400" cy="5664240"/>
          </a:xfrm>
          <a:prstGeom prst="ellipse">
            <a:avLst/>
          </a:prstGeom>
          <a:noFill/>
          <a:ln w="381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1676520"/>
            <a:ext cx="914400" cy="4267080"/>
          </a:xfrm>
          <a:prstGeom prst="ellipse">
            <a:avLst/>
          </a:prstGeom>
          <a:noFill/>
          <a:ln w="381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3048120"/>
            <a:ext cx="582480" cy="1635120"/>
          </a:xfrm>
          <a:prstGeom prst="ellipse">
            <a:avLst/>
          </a:prstGeom>
          <a:noFill/>
          <a:ln w="381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ff9"/>
            </a:gs>
            <a:gs pos="100000">
              <a:srgbClr val="000b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380520"/>
            <a:ext cx="1021068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afd00"/>
                </a:solidFill>
                <a:latin typeface="Arial Narrow"/>
              </a:rPr>
              <a:t>Aviation: The First Ultra-Safe Industrial System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403848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 Narrow"/>
              </a:rPr>
              <a:t>Ultra-safe system (mid 1990’s onwar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faf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Business management approach  to safety (SM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faf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Routine collection and analysis of  operational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20680" y="1371600"/>
            <a:ext cx="8286840" cy="5257800"/>
          </a:xfrm>
          <a:custGeom>
            <a:avLst/>
            <a:gdLst/>
            <a:ahLst/>
            <a:rect l="l" t="t" r="r" b="b"/>
            <a:pathLst>
              <a:path w="4656" h="2832">
                <a:moveTo>
                  <a:pt x="0" y="0"/>
                </a:moveTo>
                <a:lnTo>
                  <a:pt x="0" y="2832"/>
                </a:lnTo>
                <a:lnTo>
                  <a:pt x="4656" y="2832"/>
                </a:lnTo>
              </a:path>
            </a:pathLst>
          </a:custGeom>
          <a:noFill/>
          <a:ln w="7632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92080" y="1600200"/>
            <a:ext cx="8487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2080" y="2438280"/>
            <a:ext cx="8487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92080" y="3962520"/>
            <a:ext cx="8487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2160" y="182736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160" y="321480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5720" y="487692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314720" y="228960"/>
            <a:ext cx="20610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2487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24870"/>
              </a:path>
            </a:pathLst>
          </a:custGeom>
          <a:noFill/>
          <a:ln w="7632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97160" y="1174680"/>
            <a:ext cx="60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 Narrow"/>
              </a:rPr>
              <a:t>Fragile system (1920’s -1970’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faf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Individual risk management &amp; intensive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faf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Accident inves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2392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378320" y="1860840"/>
            <a:ext cx="6698880" cy="456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86" y="137"/>
                </a:moveTo>
                <a:arcTo wR="10800" hR="10800" stAng="-5948001" swAng="6339393"/>
                <a:lnTo>
                  <a:pt x="10800" y="10800"/>
                </a:lnTo>
                <a:close/>
              </a:path>
              <a:path fill="none" w="21600" h="21600">
                <a:moveTo>
                  <a:pt x="9086" y="137"/>
                </a:moveTo>
                <a:arcTo wR="10800" hR="10800" stAng="-5948001" swAng="6339393"/>
              </a:path>
            </a:pathLst>
          </a:custGeom>
          <a:noFill/>
          <a:ln w="7632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9480" y="495288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246040" y="-762480"/>
            <a:ext cx="3580560" cy="472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39" y="199"/>
                </a:moveTo>
                <a:arcTo wR="10800" hR="10800" stAng="-6060213" swAng="4748101"/>
                <a:lnTo>
                  <a:pt x="10800" y="10800"/>
                </a:lnTo>
                <a:close/>
              </a:path>
              <a:path fill="none" w="21600" h="21600">
                <a:moveTo>
                  <a:pt x="8739" y="199"/>
                </a:moveTo>
                <a:arcTo wR="10800" hR="10800" stAng="-6060213" swAng="4748101"/>
              </a:path>
            </a:pathLst>
          </a:custGeom>
          <a:noFill/>
          <a:ln w="7632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25146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 Narrow"/>
              </a:rPr>
              <a:t>Safe system (1970’s – mid 1990’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faf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Technology &amp; reg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faf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Incident investig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3800" y="3139920"/>
            <a:ext cx="308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5105520"/>
            <a:ext cx="5181480" cy="914400"/>
          </a:xfrm>
          <a:prstGeom prst="ellipse">
            <a:avLst/>
          </a:prstGeom>
          <a:noFill/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ff9"/>
            </a:gs>
            <a:gs pos="100000">
              <a:srgbClr val="000b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52760" y="0"/>
            <a:ext cx="5105520" cy="33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0" y="3352680"/>
          <a:ext cx="5181480" cy="3505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52680"/>
                    <a:ext cx="51814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181480" y="3352680"/>
          <a:ext cx="5105520" cy="350532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352680"/>
                    <a:ext cx="51055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 rot="19707600">
            <a:off x="-189720" y="3111840"/>
            <a:ext cx="10474200" cy="764280"/>
          </a:xfrm>
          <a:prstGeom prst="rect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 Narrow"/>
              </a:rPr>
              <a:t>Safety Data to Inform Risk Management Deci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42ff9"/>
            </a:gs>
            <a:gs pos="100000">
              <a:srgbClr val="000b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42ff9"/>
            </a:gs>
            <a:gs pos="100000">
              <a:srgbClr val="000b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4114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 Narrow"/>
              </a:rPr>
              <a:t>The Big Picture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6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nex 6 – Operation of Aircraft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143000" indent="-171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art I 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143000" indent="-171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art 3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6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nex 11 – Air Traffic Services 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6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nex 14 – Aerodromes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6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ree distinct blocks within each Annex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" name=""/>
          <p:cNvSpPr/>
          <p:nvPr/>
        </p:nvSpPr>
        <p:spPr>
          <a:xfrm>
            <a:off x="664560" y="1344600"/>
            <a:ext cx="79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 Narrow"/>
              </a:rPr>
              <a:t>ICAO harmonized safety management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ff9"/>
            </a:gs>
            <a:gs pos="100000">
              <a:srgbClr val="000b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5333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afd00"/>
                </a:solidFill>
                <a:latin typeface="Arial Narrow"/>
              </a:rPr>
              <a:t>As of 23 November 2006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9154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09440" indent="-109440">
              <a:lnSpc>
                <a:spcPct val="100000"/>
              </a:lnSpc>
              <a:buClr>
                <a:srgbClr val="fafd00"/>
              </a:buClr>
              <a:buSzPct val="62000"/>
              <a:buFont typeface="Wingdings" charset="2"/>
              <a:buChar char="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States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shall establish a </a:t>
            </a: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safety programm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, in order to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chieve an </a:t>
            </a: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acceptable level of safet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in: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71680" indent="53640">
              <a:lnSpc>
                <a:spcPct val="100000"/>
              </a:lnSpc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he operation of aircraft – Annex 6, Parts I and III 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71680" indent="53640">
              <a:lnSpc>
                <a:spcPct val="100000"/>
              </a:lnSpc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he maintenance of aircraft – Annex 6, Part I 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71680" indent="53640">
              <a:lnSpc>
                <a:spcPct val="100000"/>
              </a:lnSpc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he provision of air traffic services – Annex 11 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71680" indent="53640">
              <a:lnSpc>
                <a:spcPct val="100000"/>
              </a:lnSpc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erodrome operations – Annex 14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435560"/>
            <a:ext cx="876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afd00"/>
              </a:buClr>
              <a:buFont typeface="Wingdings" charset="2"/>
              <a:buChar char="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he acceptable level of safety to be achieved shall be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established by the </a:t>
            </a: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State (s)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concer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ff9"/>
            </a:gs>
            <a:gs pos="100000">
              <a:srgbClr val="000b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3581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afd00"/>
                </a:solidFill>
                <a:latin typeface="Arial Narrow"/>
              </a:rPr>
              <a:t>Two Definition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231840" indent="0">
              <a:lnSpc>
                <a:spcPct val="100000"/>
              </a:lnSpc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Safety programme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– An integrated set of regulations and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ctivities aimed at improving safety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209680"/>
            <a:ext cx="922032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5320">
              <a:lnSpc>
                <a:spcPct val="110000"/>
              </a:lnSpc>
              <a:tabLst>
                <a:tab algn="l" pos="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  <a:tab algn="l" pos="683424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Acceptable level of safety</a:t>
            </a: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– Articulates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he 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gh level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afety management goals of an oversight authority or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service prov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>
              <a:lnSpc>
                <a:spcPct val="110000"/>
              </a:lnSpc>
              <a:buClr>
                <a:srgbClr val="fafd00"/>
              </a:buClr>
              <a:buFont typeface="Wingdings" charset="2"/>
              <a:buChar char=""/>
              <a:tabLst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  <a:tab algn="l" pos="6834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inimum safety objectives acceptable of authority that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rvice providers should achieve while conducting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ir core business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>
              <a:lnSpc>
                <a:spcPct val="100000"/>
              </a:lnSpc>
              <a:buClr>
                <a:srgbClr val="fafd00"/>
              </a:buClr>
              <a:buFont typeface="Wingdings" charset="2"/>
              <a:buChar char=""/>
              <a:tabLst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  <a:tab algn="l" pos="6834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reference against which the oversight authority can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easure safety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ff9"/>
            </a:gs>
            <a:gs pos="100000">
              <a:srgbClr val="000b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5600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afd00"/>
                </a:solidFill>
                <a:latin typeface="Arial Narrow"/>
              </a:rPr>
              <a:t>As of 23 November 2006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219320"/>
            <a:ext cx="92581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States</a:t>
            </a: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shall require, as part of their safety programme, that an </a:t>
            </a:r>
            <a:r>
              <a:rPr b="0" i="1" lang="en-GB" sz="3200" spc="-1" strike="noStrike">
                <a:solidFill>
                  <a:srgbClr val="ffffff"/>
                </a:solidFill>
                <a:latin typeface="Arial Narrow"/>
              </a:rPr>
              <a:t>[</a:t>
            </a:r>
            <a:r>
              <a:rPr b="0" i="1" lang="en-GB" sz="3200" spc="-1" strike="noStrike">
                <a:solidFill>
                  <a:srgbClr val="fafd00"/>
                </a:solidFill>
                <a:latin typeface="Arial Narrow"/>
              </a:rPr>
              <a:t>operator, maintenance organization, ATS provider, aerodrome operator</a:t>
            </a:r>
            <a:r>
              <a:rPr b="0" i="1" lang="en-GB" sz="3200" spc="-1" strike="noStrike">
                <a:solidFill>
                  <a:srgbClr val="ffffff"/>
                </a:solidFill>
                <a:latin typeface="Arial Narrow"/>
              </a:rPr>
              <a:t>]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implements a </a:t>
            </a: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safety management system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accepted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by the State that, as a minimum 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"/>
          <p:cNvSpPr/>
          <p:nvPr/>
        </p:nvSpPr>
        <p:spPr>
          <a:xfrm>
            <a:off x="227160" y="3506760"/>
            <a:ext cx="9907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1160" indent="-453960">
              <a:lnSpc>
                <a:spcPct val="100000"/>
              </a:lnSpc>
              <a:buClr>
                <a:srgbClr val="fafd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Identifies safety ha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160" indent="-453960">
              <a:lnSpc>
                <a:spcPct val="100000"/>
              </a:lnSpc>
              <a:buClr>
                <a:srgbClr val="fafd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Ensures that remedial action necessary to maintain an acceptable level of safety is implemen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160" indent="-453960">
              <a:lnSpc>
                <a:spcPct val="100000"/>
              </a:lnSpc>
              <a:buClr>
                <a:srgbClr val="fafd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Provides for continuous monitoring and regular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ssessment of the safety level achie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ff9"/>
            </a:gs>
            <a:gs pos="100000">
              <a:srgbClr val="000b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47246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afd00"/>
                </a:solidFill>
                <a:latin typeface="Arial Narrow"/>
              </a:rPr>
              <a:t>Another Definiti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Safety management system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– A systemic approach to managing safety, including the necessary organizational structures, accountabilities, policies and procedures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ff9"/>
            </a:gs>
            <a:gs pos="100000">
              <a:srgbClr val="000b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768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afd00"/>
                </a:solidFill>
                <a:latin typeface="Arial Narrow"/>
              </a:rPr>
              <a:t>As of 23 November 2006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9448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n accepted safety management system shall clearly define </a:t>
            </a: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lines of safety accountability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throughout the </a:t>
            </a:r>
            <a:r>
              <a:rPr b="0" i="1" lang="en-GB" sz="3200" spc="-1" strike="noStrike">
                <a:solidFill>
                  <a:srgbClr val="ffffff"/>
                </a:solidFill>
                <a:latin typeface="Arial Narrow"/>
              </a:rPr>
              <a:t>[operator, maintenance organization, ATS provider, aerodrome operator]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organization, including </a:t>
            </a: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direct accountability for safety on the part of senior management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1030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1030320" indent="-453960">
              <a:lnSpc>
                <a:spcPct val="100000"/>
              </a:lnSpc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 Narrow"/>
              </a:rPr>
              <a:t>Guidance on safety management systems is contained in the ICAO Safety Management Manual (Doc 9859)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ff9"/>
            </a:gs>
            <a:gs pos="100000">
              <a:srgbClr val="000b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120" y="152280"/>
            <a:ext cx="56768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afd00"/>
                </a:solidFill>
                <a:latin typeface="Arial Narrow"/>
              </a:rPr>
              <a:t>Acceptable Level of Safety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From prescription to performance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SzPct val="62000"/>
              <a:buFont typeface="Wingdings" charset="2"/>
              <a:buChar char="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Does not relieve States/providers from obligations regarding the Convention or national regulations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SzPct val="62000"/>
              <a:buFont typeface="Wingdings" charset="2"/>
              <a:buChar char="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Negotiated” between authority and service provider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SzPct val="62000"/>
              <a:buFont typeface="Wingdings" charset="2"/>
              <a:buChar char="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Commensurate with complexity of context and available resources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SzPct val="62000"/>
              <a:buFont typeface="Wingdings" charset="2"/>
              <a:buChar char="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Implemented through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Safety indicators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Safety targets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Safety requirements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7" name=""/>
          <p:cNvSpPr/>
          <p:nvPr/>
        </p:nvSpPr>
        <p:spPr>
          <a:xfrm>
            <a:off x="1360080" y="5867280"/>
            <a:ext cx="64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af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specific to a safety programme or SMS</a:t>
            </a:r>
            <a:r>
              <a:rPr b="0" lang="en-GB" sz="3200" spc="-1" strike="noStrike">
                <a:solidFill>
                  <a:srgbClr val="fafd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ff9"/>
            </a:gs>
            <a:gs pos="100000">
              <a:srgbClr val="000b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1821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 Narrow"/>
              </a:rPr>
              <a:t>Strategic Objectives of ICAO for 2005-2010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5280" indent="-3952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6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armonization of safety management provisions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1033560" indent="-4082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nexes 6, 11 and 14: </a:t>
            </a:r>
            <a:r>
              <a:rPr b="1" i="1" lang="en-US" sz="3200" spc="-1" strike="noStrike">
                <a:solidFill>
                  <a:srgbClr val="fafd00"/>
                </a:solidFill>
                <a:latin typeface="Arial Narrow"/>
              </a:rPr>
              <a:t>completed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1033560" indent="-4082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l other Annexes: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in progress (Annexes 8, 13 &amp; 18?) – ETA 2007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1033560" indent="-4082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ANS: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PANS/ATM about to take off – ETA TBC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1033560" indent="-4082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CAO SMM (Doc 9859): </a:t>
            </a:r>
            <a:r>
              <a:rPr b="1" i="1" lang="en-US" sz="3200" spc="-1" strike="noStrike">
                <a:solidFill>
                  <a:srgbClr val="fafd00"/>
                </a:solidFill>
                <a:latin typeface="Arial Narrow"/>
              </a:rPr>
              <a:t>completed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95280" indent="-3952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6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Series of ICAO SMS training courses: </a:t>
            </a:r>
            <a:r>
              <a:rPr b="1" i="1" lang="en-US" sz="3200" spc="-1" strike="noStrike">
                <a:solidFill>
                  <a:srgbClr val="fafd00"/>
                </a:solidFill>
                <a:latin typeface="Arial Narrow"/>
              </a:rPr>
              <a:t>almost there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95280" indent="-3952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6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MS model regulation: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in progress – ETA 2007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95280" indent="-3952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6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SMS for small organizations: in progress – ETA 2007</a:t>
            </a:r>
            <a:endParaRPr b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2" name=""/>
          <p:cNvSpPr/>
          <p:nvPr/>
        </p:nvSpPr>
        <p:spPr>
          <a:xfrm>
            <a:off x="343080" y="838080"/>
            <a:ext cx="932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 Narrow"/>
              </a:rPr>
              <a:t>Strategic Objective A: Safety – </a:t>
            </a:r>
            <a:r>
              <a:rPr b="0" i="1" lang="en-US" sz="3200" spc="-1" strike="noStrike">
                <a:solidFill>
                  <a:srgbClr val="fafd00"/>
                </a:solidFill>
                <a:latin typeface="Arial Narrow"/>
              </a:rPr>
              <a:t>Enhance global aviation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22T17:05:04Z</dcterms:created>
  <dc:creator>Ann Steer</dc:creator>
  <dc:description/>
  <cp:keywords/>
  <dc:language>en-US</dc:language>
  <cp:lastModifiedBy>Claudia López Pérez</cp:lastModifiedBy>
  <cp:lastPrinted>1998-06-25T13:48:36Z</cp:lastPrinted>
  <dcterms:modified xsi:type="dcterms:W3CDTF">2006-03-27T13:47:58Z</dcterms:modified>
  <cp:revision>308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19700.00000000</vt:lpwstr>
  </property>
  <property fmtid="{D5CDD505-2E9C-101B-9397-08002B2CF9AE}" pid="5" name="Year">
    <vt:lpwstr>2006</vt:lpwstr>
  </property>
</Properties>
</file>