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8F0-E78B-4F32-BEFF-59FCAA343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560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F0A-9AC6-49F7-B878-F8936F3E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560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89440" y="560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FF3-4800-46BB-AA5F-62481845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73440" y="4686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37760" y="4686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560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73440" y="560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37760" y="560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FBCE-2325-423D-BD59-6A04285F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72FC9-0145-42C0-AA4A-63086798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09480" y="4686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C6A8D-D0B2-4AE6-B61D-8CFD2343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376E3-F93F-4B55-8A42-AAF15E49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C595F-949D-446F-9189-7314B469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35A74-992A-46D5-92A8-D52A5805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71680" y="2425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523A9-8E22-4C67-8CF2-5DDD4CC1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560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86138-A20E-4F73-89A7-3944EF46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4686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D02-ACB8-4A73-B244-C8F2891F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89440" y="560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19301-B1B0-4E0C-9A2E-889022D2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560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38B81-59E5-4673-A9BB-F79ACE2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9480" y="560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11162-F10F-47FC-98EE-E5594251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9480" y="560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89440" y="560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D0ECC6-B607-407C-BE5B-82D80718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773440" y="4686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7760" y="4686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09480" y="560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773440" y="560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4937760" y="5602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7C823-2D0C-40EF-90E0-8F4B0BEC1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0C7D-F7F9-4648-9B3A-DE6D1072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273-A6FE-4413-8CD6-A506FB32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B6D9-5306-4262-A500-B70DE988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1680" y="2425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795-7B69-4143-A138-BE50BF7C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560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7D20-F25F-4EEF-959F-58B30BB3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89440" y="5602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099-44D1-40FE-BCA4-0A36BB92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89440" y="4686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5602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2BB-7329-4389-B310-D9567990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Click to edit the title text format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751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2" marL="923760" indent="-177480">
              <a:spcBef>
                <a:spcPts val="751"/>
              </a:spcBef>
              <a:buClr>
                <a:srgbClr val="cc0000"/>
              </a:buClr>
              <a:buFont typeface="Arial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3" marL="1085760">
              <a:spcBef>
                <a:spcPts val="751"/>
              </a:spcBef>
              <a:buClr>
                <a:srgbClr val="003300"/>
              </a:buClr>
              <a:buFont typeface="Arial MT"/>
              <a:buChar char="[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4" marL="1265400">
              <a:spcBef>
                <a:spcPts val="751"/>
              </a:spcBef>
              <a:buClr>
                <a:srgbClr val="003366"/>
              </a:buClr>
              <a:buFont typeface="Aria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5" marL="1265400">
              <a:spcBef>
                <a:spcPts val="751"/>
              </a:spcBef>
              <a:buClr>
                <a:srgbClr val="000000"/>
              </a:buClr>
              <a:buFont typeface="Aria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6" marL="1265400">
              <a:spcBef>
                <a:spcPts val="751"/>
              </a:spcBef>
              <a:buClr>
                <a:srgbClr val="000000"/>
              </a:buClr>
              <a:buFont typeface="Aria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6400" y="7064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DC9E-F2E9-4612-B7E8-E2ED3E81CC82}" type="datetime">
              <a:rPr b="0" lang="en-US" sz="800" spc="-1" strike="noStrike">
                <a:solidFill>
                  <a:srgbClr val="000000"/>
                </a:solidFill>
                <a:latin typeface="Arial MT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Arial MT"/>
              </a:rPr>
              <a:t> </a:t>
            </a:r>
            <a:fld id="{10473901-7EBD-4DE9-8DD9-35D8FA516EFE}" type="datetime10">
              <a:rPr b="0" lang="en-US" sz="800" spc="-1" strike="noStrike">
                <a:solidFill>
                  <a:srgbClr val="000000"/>
                </a:solidFill>
                <a:latin typeface="Arial MT"/>
              </a:rPr>
              <a:t>19:3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0000" y="7067520"/>
            <a:ext cx="4648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M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2520" y="70358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4566-98EF-422A-8034-D60EAD7C9B55}" type="slidenum">
              <a:rPr b="0" lang="en-US" sz="1000" spc="-1" strike="noStrike">
                <a:solidFill>
                  <a:srgbClr val="000000"/>
                </a:solidFill>
                <a:latin typeface="Arial M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85800" y="239760"/>
            <a:ext cx="1905120" cy="293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9780480" y="515880"/>
            <a:ext cx="1038240" cy="101772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495360" y="1447920"/>
            <a:ext cx="8039160" cy="304560"/>
            <a:chOff x="495360" y="1447920"/>
            <a:chExt cx="8039160" cy="304560"/>
          </a:xfrm>
        </p:grpSpPr>
        <p:sp>
          <p:nvSpPr>
            <p:cNvPr id="8" name=""/>
            <p:cNvSpPr/>
            <p:nvPr/>
          </p:nvSpPr>
          <p:spPr>
            <a:xfrm>
              <a:off x="495360" y="1447920"/>
              <a:ext cx="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5360" y="1752480"/>
              <a:ext cx="8039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95280" y="6248520"/>
            <a:ext cx="647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Air Canada © 2002             ICAO WG 4 Madrid May 22, 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Click to edit the title text format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2207880" y="7134120"/>
            <a:ext cx="4724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M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7238880" y="7105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09FC-4946-4C47-B786-4CCFE6ACAF9D}" type="slidenum">
              <a:rPr b="0" lang="en-US" sz="800" spc="-1" strike="noStrike">
                <a:solidFill>
                  <a:srgbClr val="000000"/>
                </a:solidFill>
                <a:latin typeface="Arial M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5800" y="239760"/>
            <a:ext cx="1905120" cy="2937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495360" y="3276720"/>
            <a:ext cx="8039160" cy="304560"/>
            <a:chOff x="495360" y="3276720"/>
            <a:chExt cx="8039160" cy="304560"/>
          </a:xfrm>
        </p:grpSpPr>
        <p:sp>
          <p:nvSpPr>
            <p:cNvPr id="52" name=""/>
            <p:cNvSpPr/>
            <p:nvPr/>
          </p:nvSpPr>
          <p:spPr>
            <a:xfrm>
              <a:off x="495360" y="3276720"/>
              <a:ext cx="0" cy="3045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360" y="3581280"/>
              <a:ext cx="8039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685800" y="7134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A015-8B8D-4ADD-97B5-88782E901AB9}" type="datetime">
              <a:rPr b="0" lang="en-US" sz="800" spc="-1" strike="noStrike">
                <a:solidFill>
                  <a:srgbClr val="000000"/>
                </a:solidFill>
                <a:latin typeface="Arial MT"/>
              </a:rPr>
              <a:t>07/31/26</a:t>
            </a:fld>
            <a:r>
              <a:rPr b="0" lang="en-US" sz="800" spc="-1" strike="noStrike">
                <a:solidFill>
                  <a:srgbClr val="000000"/>
                </a:solidFill>
                <a:latin typeface="Arial MT"/>
              </a:rPr>
              <a:t> </a:t>
            </a:r>
            <a:fld id="{B22FE579-F744-4757-90B0-ED7C5037C3E1}" type="datetime10">
              <a:rPr b="0" lang="en-US" sz="800" spc="-1" strike="noStrike">
                <a:solidFill>
                  <a:srgbClr val="000000"/>
                </a:solidFill>
                <a:latin typeface="Arial MT"/>
              </a:rPr>
              <a:t>19:33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MT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Arial MT"/>
            </a:endParaRPr>
          </a:p>
          <a:p>
            <a:pPr lvl="1" marL="34308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2" marL="685800" indent="60480" algn="ctr">
              <a:spcBef>
                <a:spcPts val="751"/>
              </a:spcBef>
              <a:buClr>
                <a:srgbClr val="cc0000"/>
              </a:buClr>
              <a:buFont typeface="Arial M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3" marL="1085760" algn="ctr">
              <a:spcBef>
                <a:spcPts val="751"/>
              </a:spcBef>
              <a:buClr>
                <a:srgbClr val="003300"/>
              </a:buClr>
              <a:buFont typeface="Arial MT"/>
              <a:buChar char="[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4" marL="1265400" algn="ctr">
              <a:spcBef>
                <a:spcPts val="751"/>
              </a:spcBef>
              <a:buClr>
                <a:srgbClr val="003366"/>
              </a:buClr>
              <a:buFont typeface="Arial M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5" marL="1265400">
              <a:spcBef>
                <a:spcPts val="751"/>
              </a:spcBef>
              <a:buClr>
                <a:srgbClr val="000000"/>
              </a:buClr>
              <a:buFont typeface="Aria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6" marL="1265400">
              <a:spcBef>
                <a:spcPts val="751"/>
              </a:spcBef>
              <a:buClr>
                <a:srgbClr val="000000"/>
              </a:buClr>
              <a:buFont typeface="Arial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251240" y="2478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57440" y="2914560"/>
          <a:ext cx="6095880" cy="94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57440" y="2914560"/>
                    <a:ext cx="609588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484360" y="4508640"/>
            <a:ext cx="33829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MT"/>
              </a:rPr>
              <a:t>Flight Operati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Landing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Reduced flap landings as normal SOP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Quieter approache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Used on 1/3 of landings saves 3 million litres per year of fuel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Idle reverse as normal SOP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Quieter &amp; can improve carbon brake wear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Reduced gas path wear &amp; maintenance cost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Used on 1/3 of landings saves 1.2 million litres of fuel per year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7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Taxi-in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Single engine taxi should be the normal arrival procedure unless conditions preclude it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1 minute of single engine taxi-in per sector saves 430,000 litres of fuel annually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00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Gate Arrival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MT"/>
              </a:rPr>
              <a:t>Minimize APU use with full ground support on arrival at gate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8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MT"/>
              </a:rPr>
              <a:t>Start APU 10 minutes before scheduled departure time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2" marL="923760" indent="-1774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MT"/>
              </a:rPr>
              <a:t>Reducing APU use by 2 minutes per sector saves 780,000 litres of fuel annually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8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MT"/>
              </a:rPr>
              <a:t>APU vs. Ground Support equipment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2" marL="923760" indent="-1774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MT"/>
              </a:rPr>
              <a:t>APU burns </a:t>
            </a:r>
            <a:r>
              <a:rPr b="1" lang="en-US" sz="2200" spc="-1" strike="noStrike">
                <a:solidFill>
                  <a:srgbClr val="ff66ff"/>
                </a:solidFill>
                <a:latin typeface="Arial MT"/>
              </a:rPr>
              <a:t>6 times</a:t>
            </a:r>
            <a:r>
              <a:rPr b="1" lang="en-US" sz="2200" spc="-1" strike="noStrike">
                <a:solidFill>
                  <a:srgbClr val="000000"/>
                </a:solidFill>
                <a:latin typeface="Arial MT"/>
              </a:rPr>
              <a:t> as much fuel per hour as mobile ground support equipment (B744 – 20X)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8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MT"/>
              </a:rPr>
              <a:t>Requires precise procedures &amp; dedicated effort by ground handling team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Achievable Fuel Savings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A fleet of 100 A320 aircraft flying 15,000 sectors a month can save: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3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Pre-departure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     780,000 litre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3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Taxi-out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     430,000 litre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3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Initial climb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  3,200,000 litre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3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Approach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  4,500,000 litre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3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Landing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  3,000,000 litre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3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Taxi-in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     430,000 litre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3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MT"/>
              </a:rPr>
              <a:t>Gate arrival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MT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MT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 MT"/>
              </a:rPr>
              <a:t>     780,000 litre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3" marL="1085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99"/>
                </a:solidFill>
                <a:latin typeface="Arial MT"/>
              </a:rPr>
              <a:t>Total</a:t>
            </a:r>
            <a:r>
              <a:rPr b="1" lang="en-US" sz="2200" spc="-1" strike="noStrike">
                <a:solidFill>
                  <a:srgbClr val="ff3399"/>
                </a:solidFill>
                <a:latin typeface="Arial MT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Arial MT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Arial MT"/>
              </a:rPr>
              <a:t>	</a:t>
            </a:r>
            <a:r>
              <a:rPr b="1" lang="en-US" sz="2200" spc="-1" strike="noStrike">
                <a:solidFill>
                  <a:srgbClr val="ff3399"/>
                </a:solidFill>
                <a:latin typeface="Arial MT"/>
              </a:rPr>
              <a:t>13,120,000 litres (1.25%)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8000"/>
                            </p:stCondLst>
                            <p:childTnLst>
                              <p:par>
                                <p:cTn id="4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2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Fuel Savings Impact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Operating cost reduction through reduced fuel consumption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$3.25 million U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Emission reductions through reduced fuel consumption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C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 MT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 –12.2 million kg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C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 MT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 – 11,500 kg 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NO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– 1200 kg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8000"/>
                            </p:stCondLst>
                            <p:childTnLst>
                              <p:par>
                                <p:cTn id="4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Strategies for Success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Build an efficient operating culture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Top down management support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Policy to define fuel efficiency as a corporate objective, but not at the expense of safety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Procedures that: 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2" marL="923760" indent="-177480">
              <a:spcBef>
                <a:spcPts val="499"/>
              </a:spcBef>
              <a:buClr>
                <a:srgbClr val="cc0000"/>
              </a:buClr>
              <a:buFont typeface="Aria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MT"/>
              </a:rPr>
              <a:t>Establish fuel efficient procedures as the norm</a:t>
            </a:r>
            <a:endParaRPr b="0" lang="en-US" sz="2000" spc="-1" strike="noStrike">
              <a:solidFill>
                <a:srgbClr val="000000"/>
              </a:solidFill>
              <a:latin typeface="Arial MT"/>
            </a:endParaRPr>
          </a:p>
          <a:p>
            <a:pPr lvl="2" marL="923760" indent="-177480">
              <a:spcBef>
                <a:spcPts val="499"/>
              </a:spcBef>
              <a:buClr>
                <a:srgbClr val="cc0000"/>
              </a:buClr>
              <a:buFont typeface="Aria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MT"/>
              </a:rPr>
              <a:t>Recognize conservative, safety oriented pilot culture</a:t>
            </a:r>
            <a:endParaRPr b="0" lang="en-US" sz="2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Education &amp; awareness material to explain “why”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Training to teach the SOP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Checking to reinforce the SOP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000"/>
                            </p:stCondLst>
                            <p:childTnLst>
                              <p:par>
                                <p:cTn id="4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000"/>
                            </p:stCondLst>
                            <p:childTnLst>
                              <p:par>
                                <p:cTn id="5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8000"/>
                            </p:stCondLst>
                            <p:childTnLst>
                              <p:par>
                                <p:cTn id="5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2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2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2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2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Measuring Success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Fuel Management Information Database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lvl="1" marL="600120" indent="-273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Capture flight plan and actual aircraft operating fuel values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lvl="1" marL="600120" indent="-273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Validate policy &amp; systems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marL="217080" indent="-217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Flight Operations Quality Assurance (FOQA)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lvl="1" marL="600120" indent="-273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Capture aircraft flight profiles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lvl="1" marL="600120" indent="-273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Validate procedures and compliance rates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marL="217080" indent="-217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Maintenance QAR &amp; ACARS data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lvl="1" marL="600120" indent="-273960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Trending information pending introduction of FOQA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marL="217080" indent="-217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Clear employee non-judgmental clauses required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2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8000"/>
                            </p:stCondLst>
                            <p:childTnLst>
                              <p:par>
                                <p:cTn id="5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2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6000"/>
                            </p:stCondLst>
                            <p:childTnLst>
                              <p:par>
                                <p:cTn id="5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240"/>
                </a:solidFill>
                <a:latin typeface="Arial MT"/>
              </a:rPr>
              <a:t>Conflicting Environmental Objectives in the Industry</a:t>
            </a:r>
            <a:endParaRPr b="1" lang="en-US" sz="40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Noise abatement procedures: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Preferential runways increase taxi and airborne time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Arrival/departure paths increase airborne time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Centralized de-icing facilities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Reduces glycol contamination, but creates significant increases in taxi time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6000"/>
                            </p:stCondLst>
                            <p:childTnLst>
                              <p:par>
                                <p:cTn id="6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000"/>
                            </p:stCondLst>
                            <p:childTnLst>
                              <p:par>
                                <p:cTn id="6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240"/>
                </a:solidFill>
                <a:latin typeface="Arial MT"/>
              </a:rPr>
              <a:t>An Industry Integrated Approach to Fuel Efficiency</a:t>
            </a:r>
            <a:endParaRPr b="1" lang="en-US" sz="40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Airline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Develop and implement fuel efficient SOP’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ANS Provider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Develop and implement fuel efficient arrival and departure path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Airport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Maximize on-gate de-icing &amp; minimize CDF delay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Facilitate departures in direction of flight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90000"/>
              </a:lnSpc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Ensure noise abatement procedures minimize adverse affect on fuel burns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6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6000"/>
                            </p:stCondLst>
                            <p:childTnLst>
                              <p:par>
                                <p:cTn id="6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8000"/>
                            </p:stCondLst>
                            <p:childTnLst>
                              <p:par>
                                <p:cTn id="6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2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2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2000"/>
                            </p:stCondLst>
                            <p:childTnLst>
                              <p:par>
                                <p:cTn id="6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6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20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240"/>
                </a:solidFill>
                <a:latin typeface="Arial MT"/>
              </a:rPr>
              <a:t>An Integrated Approach to Fuel Efficiency (cont’d)</a:t>
            </a:r>
            <a:endParaRPr b="1" lang="en-US" sz="40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Aircraft Manufacturers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914400" indent="-5713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Introduce fuel efficiency improvements to aircraft in a timely  manner to support the industry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914400" indent="-5713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Examples of needed aircraft modifications: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2" marL="1317600" indent="-571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A320 family aircraft approach idle change to Flap 3 or gear down from Flap 1 would save 12 litres of fuel per approach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2" marL="1317600" indent="-571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Bombardier Regional Jet Flap 30 landing instead of Flap 45 would save 18 litres of fuel per approach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2000"/>
                            </p:stCondLst>
                            <p:childTnLst>
                              <p:par>
                                <p:cTn id="6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4000"/>
                            </p:stCondLst>
                            <p:childTnLst>
                              <p:par>
                                <p:cTn id="6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6000"/>
                            </p:stCondLst>
                            <p:childTnLst>
                              <p:par>
                                <p:cTn id="6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8000"/>
                            </p:stCondLst>
                            <p:childTnLst>
                              <p:par>
                                <p:cTn id="6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2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Aircraft Operating Procedures to Reduce Airport Ground Emissions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468648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MT"/>
              </a:rPr>
              <a:t>Captain Richard Sowden – Project Pilot Air Canada Flight </a:t>
            </a:r>
            <a:endParaRPr b="0" lang="en-US" sz="2100" spc="-1" strike="noStrike">
              <a:solidFill>
                <a:srgbClr val="000000"/>
              </a:solidFill>
              <a:latin typeface="Arial MT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 MT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Arial MT"/>
              </a:rPr>
              <a:t>Operations Technical Group</a:t>
            </a:r>
            <a:endParaRPr b="0" lang="en-US" sz="2100" spc="-1" strike="noStrike">
              <a:solidFill>
                <a:srgbClr val="000000"/>
              </a:solidFill>
              <a:latin typeface="Arial MT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 MT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MT"/>
              </a:rPr>
              <a:t>ICAO WG 4 Madrid, May 2002</a:t>
            </a:r>
            <a:endParaRPr b="0" lang="en-US" sz="21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1680" y="242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Thank you!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4686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 MT"/>
              </a:rPr>
              <a:t>Contact: richard.sowden@sympatico.ca</a:t>
            </a:r>
            <a:endParaRPr b="0" lang="en-US" sz="25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Objectives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Describe aircraft operating techniques to reduce aircraft noise and engine emissions for phases of flight below 3,000 ft. AGL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Review strategies to ensure success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Outline means to measure success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Discuss conflicting environmental objectives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60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MT"/>
              </a:rPr>
              <a:t>Discuss the collective industry effort required to achieve the greatest enhancements in efficiency</a:t>
            </a:r>
            <a:endParaRPr b="0" lang="en-US" sz="24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Efficiency Assumptions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A320 aircraft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100 aircraft in fleet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15,000 sectors/month or 180,000 sectors/year 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Every 100 litres of fuel burned releases the following combustion by-product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C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MT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 – 233 kg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MT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 – 219 g 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550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N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 MT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 MT"/>
              </a:rPr>
              <a:t>– 23 g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000"/>
                            </p:stCondLst>
                            <p:childTnLst>
                              <p:par>
                                <p:cTn id="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8000"/>
                            </p:stCondLst>
                            <p:childTnLst>
                              <p:par>
                                <p:cTn id="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Pre-departure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04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49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MT"/>
              </a:rPr>
              <a:t>Minimize APU use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MT"/>
              </a:rPr>
              <a:t>Start APU 10 minutes before scheduled departure time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2" marL="923760" indent="-177480">
              <a:spcBef>
                <a:spcPts val="550"/>
              </a:spcBef>
              <a:buClr>
                <a:srgbClr val="cc0000"/>
              </a:buClr>
              <a:buFont typeface="Aria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MT"/>
              </a:rPr>
              <a:t>Reducing APU use by 2 minutes per sector saves 780,000 litres of fuel annually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MT"/>
              </a:rPr>
              <a:t>APU vs. Ground Support equipment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2" marL="923760" indent="-177480">
              <a:spcBef>
                <a:spcPts val="550"/>
              </a:spcBef>
              <a:buClr>
                <a:srgbClr val="cc0000"/>
              </a:buClr>
              <a:buFont typeface="Arial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MT"/>
              </a:rPr>
              <a:t>APU burns </a:t>
            </a:r>
            <a:r>
              <a:rPr b="1" lang="en-US" sz="2200" spc="-1" strike="noStrike">
                <a:solidFill>
                  <a:srgbClr val="ff66ff"/>
                </a:solidFill>
                <a:latin typeface="Arial MT"/>
              </a:rPr>
              <a:t>6 times</a:t>
            </a:r>
            <a:r>
              <a:rPr b="1" lang="en-US" sz="2200" spc="-1" strike="noStrike">
                <a:solidFill>
                  <a:srgbClr val="000000"/>
                </a:solidFill>
                <a:latin typeface="Arial MT"/>
              </a:rPr>
              <a:t> as much fuel per hour as mobile ground support equipment (B744 – 20X)</a:t>
            </a:r>
            <a:endParaRPr b="0" lang="en-US" sz="22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MT"/>
              </a:rPr>
              <a:t>Requires precise procedures &amp; dedicated effort by ground handling team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Engine Start &amp; Taxi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Single engine taxi should be the normal departure procedure unless conditions preclude it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8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1 minute of single engine taxi-out per sector saves 430,000 litres of fuel annually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Five key areas to focus on in Standard Operating Procedures (SOP’s)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8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Limiting weight</a:t>
            </a: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600" spc="-1" strike="noStrike">
                <a:solidFill>
                  <a:srgbClr val="00cc99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Engine start sequence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8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Limiting thrust</a:t>
            </a: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	</a:t>
            </a:r>
            <a:r>
              <a:rPr b="0" lang="en-US" sz="2600" spc="-1" strike="noStrike">
                <a:solidFill>
                  <a:srgbClr val="00cc99"/>
                </a:solidFill>
                <a:latin typeface="Arial"/>
                <a:ea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Stabilization time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lnSpc>
                <a:spcPct val="80000"/>
              </a:lnSpc>
              <a:spcBef>
                <a:spcPts val="649"/>
              </a:spcBef>
              <a:buClr>
                <a:srgbClr val="00cc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hecklist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Takeoff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Flex Thrust” normal operating procedure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12720" indent="-279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Reduces noise 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12720" indent="-279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Reduces fuel consumption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12720" indent="-279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Reduces gas path wear &amp; maintenance cost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12720" indent="-279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Currently 85% of A320 departures are “Flex Thrust”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marL="221400" indent="-22140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Depart in direction of flight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12720" indent="-279720">
              <a:lnSpc>
                <a:spcPct val="90000"/>
              </a:lnSpc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Airborne fuel flow is 6 times higher than ground idle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600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Initial Climb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Climb profile tailored to direction of flight for turns limited by altitude due to noise abatement requirements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Use V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 MT"/>
              </a:rPr>
              <a:t>2 </a:t>
            </a: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+ 10 to 3,000 ft AGL for altitude restricted SID’s when departure runway is more than 90° from direction of flight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Used on 1/3 of departures saves 3.2 million litres of fuel annually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4240"/>
                </a:solidFill>
                <a:latin typeface="Arial MT"/>
              </a:rPr>
              <a:t>Approach</a:t>
            </a:r>
            <a:endParaRPr b="1" lang="en-US" sz="4400" spc="-1" strike="noStrike">
              <a:solidFill>
                <a:srgbClr val="004240"/>
              </a:solidFill>
              <a:latin typeface="Arial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0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RNAV arrivals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Enhanced traffic &amp; energy management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Reducing IFR arrival distance by 4 miles saves 50 litres of fuel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marL="228600" indent="-228600">
              <a:spcBef>
                <a:spcPts val="751"/>
              </a:spcBef>
              <a:buClr>
                <a:srgbClr val="ff0000"/>
              </a:buClr>
              <a:buFont typeface="Arial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MT"/>
              </a:rPr>
              <a:t>Decelerated approaches as normal SOP</a:t>
            </a:r>
            <a:endParaRPr b="0" lang="en-US" sz="30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Flap/gear selection defined by altitudes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  <a:p>
            <a:pPr lvl="1" marL="631800" indent="-288720">
              <a:spcBef>
                <a:spcPts val="649"/>
              </a:spcBef>
              <a:buClr>
                <a:srgbClr val="00cc99"/>
              </a:buClr>
              <a:buFont typeface="Arial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MT"/>
              </a:rPr>
              <a:t>Used on 1/3 of arrivals saves 4.5 million litres of fuel per year</a:t>
            </a:r>
            <a:endParaRPr b="0" lang="en-US" sz="2600" spc="-1" strike="noStrike">
              <a:solidFill>
                <a:srgbClr val="000000"/>
              </a:solidFill>
              <a:latin typeface="Arial MT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000"/>
                            </p:stCondLst>
                            <p:childTnLst>
                              <p:par>
                                <p:cTn id="2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1T01:32:45Z</dcterms:created>
  <dc:creator>Michael Pellizzari</dc:creator>
  <dc:description/>
  <dc:language>en-US</dc:language>
  <cp:lastModifiedBy>Martin Eran-Tasker</cp:lastModifiedBy>
  <cp:lastPrinted>2002-04-10T20:58:42Z</cp:lastPrinted>
  <dcterms:modified xsi:type="dcterms:W3CDTF">2002-05-22T06:55:29Z</dcterms:modified>
  <cp:revision>109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2700.00000000</vt:lpwstr>
  </property>
  <property fmtid="{D5CDD505-2E9C-101B-9397-08002B2CF9AE}" pid="5" name="Year">
    <vt:lpwstr>2002</vt:lpwstr>
  </property>
</Properties>
</file>