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32A-6BCD-42D0-95C0-9D5C4D2B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90E6-EF6D-4571-BB0C-1BFB5152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F89-266E-4331-983A-BD6C7641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9716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41840" y="198108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5248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9716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41840" y="4130640"/>
            <a:ext cx="2232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E8CB-7CF3-4674-B0FE-B07D4111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C475-1230-47FB-9621-8AB6E18E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A27D-8534-484B-9B08-802E25F1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D9C8-C56F-4ACC-9762-D6D04C99A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BEC-2A14-4E54-A150-3B90F268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47E7-BC7B-4C9D-9E61-B20D0761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B2A-D6C4-4490-A854-FF911158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05680" y="413064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3AF-0B30-496A-8899-3E784579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05680" y="1981080"/>
            <a:ext cx="3383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52480" y="4130640"/>
            <a:ext cx="69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13B-0089-422D-9CB9-71EA8EE8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.wmf"/><Relationship Id="rId8" Type="http://schemas.openxmlformats.org/officeDocument/2006/relationships/image" Target="../media/image4.png"/><Relationship Id="rId9" Type="http://schemas.openxmlformats.org/officeDocument/2006/relationships/package" Target="../embeddings/oleObject4.docx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6765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521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600" spc="-1" strike="noStrike">
                <a:solidFill>
                  <a:srgbClr val="3333c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Airport Groundside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 </a:t>
            </a:r>
            <a:r>
              <a:rPr b="1" lang="en-GB" sz="1600" spc="-1" strike="noStrike">
                <a:solidFill>
                  <a:srgbClr val="3333cc"/>
                </a:solidFill>
                <a:latin typeface="Arial Narrow"/>
              </a:rPr>
              <a:t>Madrid 21-22 Ma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F1CD-DEBC-4041-A035-499F762929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3276720"/>
          <a:ext cx="1676520" cy="137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276720"/>
                    <a:ext cx="167652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0" y="1371600"/>
          <a:ext cx="1676520" cy="1392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1371600"/>
                    <a:ext cx="167652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7524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99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97280" indent="-219240">
              <a:spcBef>
                <a:spcPts val="799"/>
              </a:spcBef>
              <a:buClr>
                <a:srgbClr val="ff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36120" indent="-219240">
              <a:spcBef>
                <a:spcPts val="7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74960" indent="-219240">
              <a:spcBef>
                <a:spcPts val="799"/>
              </a:spcBef>
              <a:buClr>
                <a:srgbClr val="ff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67652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380880" y="152280"/>
          <a:ext cx="960480" cy="106704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880" y="152280"/>
                    <a:ext cx="9604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" name="" descr=""/>
          <p:cNvPicPr/>
          <p:nvPr/>
        </p:nvPicPr>
        <p:blipFill>
          <a:blip r:embed="rId8"/>
          <a:stretch/>
        </p:blipFill>
        <p:spPr>
          <a:xfrm>
            <a:off x="0" y="6058080"/>
            <a:ext cx="838080" cy="79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" name=""/>
          <p:cNvGraphicFramePr/>
          <p:nvPr/>
        </p:nvGraphicFramePr>
        <p:xfrm>
          <a:off x="838080" y="6172200"/>
          <a:ext cx="762120" cy="53352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6172200"/>
                    <a:ext cx="762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" name="ICAO%20logo%20blue%20CMYK" descr=""/>
          <p:cNvPicPr/>
          <p:nvPr/>
        </p:nvPicPr>
        <p:blipFill>
          <a:blip r:embed="rId11"/>
          <a:stretch/>
        </p:blipFill>
        <p:spPr>
          <a:xfrm>
            <a:off x="304920" y="5043600"/>
            <a:ext cx="990360" cy="799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828800" y="3808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Verdana"/>
              </a:rPr>
              <a:t>Aviation Operational Measures for Fuel Use and Emissions Reduc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Alec Simp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Transport Cana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Verdana"/>
              </a:rPr>
              <a:t>Mod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VIATION OPERATIONAL MEASURES FOR FUEL AND EMISSIONS REDUCTION WORKSH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cc"/>
                </a:solidFill>
                <a:latin typeface="Verdana"/>
              </a:rPr>
              <a:t>Introduction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6934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Verdana"/>
              </a:rPr>
              <a:t>This session outlines operational opportunities at airports to minimise emissions from ground-side oper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cc"/>
                </a:solidFill>
                <a:latin typeface="Verdana"/>
              </a:rPr>
              <a:t>International Survey - 1999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ICAO/CAEP WG4 conducted an international survey to assess various operational opportunities to minimise fuel use and emissions (Operational Opportunities to Improve Air Quality Management at Airports, May 2000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commendations are included in Chapter 3 of the ICAO circular on </a:t>
            </a:r>
            <a:r>
              <a:rPr b="0" lang="en-CA" sz="2800" spc="-1" strike="noStrike" u="sng">
                <a:solidFill>
                  <a:srgbClr val="000000"/>
                </a:solidFill>
                <a:uFillTx/>
                <a:latin typeface="Verdana"/>
              </a:rPr>
              <a:t>Operational Opportunities to Minimise Fuel Use and Reduce Emiss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cc"/>
                </a:solidFill>
                <a:latin typeface="Verdana"/>
              </a:rPr>
              <a:t>International Survey - 1999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urveys were provided to a total of 151 airports and airport authorities; 58 responses were receiv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Summary of recommendations made by survey respondents to further reduce gaseous emissions are inclu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cc"/>
                </a:solidFill>
                <a:latin typeface="Verdana"/>
              </a:rPr>
              <a:t>Minimise Fuel Use and Emission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Areas to focus on for redu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irport Design and Facil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Ground Support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Ground Transpor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Ground Access Veh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cc"/>
                </a:solidFill>
                <a:latin typeface="Verdana"/>
              </a:rPr>
              <a:t>Airport Design and Facilitie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Fuel and emissions reductions possible in airport design when facility planned or expande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Layout of buildings and pa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ufficient runways and taxiw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Scheduling improv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cc"/>
                </a:solidFill>
                <a:latin typeface="Verdana"/>
              </a:rPr>
              <a:t>Ground Transportation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Reduce amount of travel to and from airports made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Employees of airlines, airport authorities and other companies located at airport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assengers and freigh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cc"/>
                </a:solidFill>
                <a:latin typeface="Verdana"/>
              </a:rPr>
              <a:t>Ground Transportation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Employee trip reduction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Telecommuting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idesh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Passenger transport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Ridesh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Parking pricing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Public trans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Alternative fuels for airport vehicl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Verdana"/>
              </a:rPr>
              <a:t>Idling restrictions for vehic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cc"/>
                </a:solidFill>
                <a:latin typeface="Verdana"/>
              </a:rPr>
              <a:t>Operational Opportunities</a:t>
            </a:r>
            <a:endParaRPr b="0" lang="en-US" sz="3600" spc="-1" strike="noStrike">
              <a:solidFill>
                <a:srgbClr val="3333cc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Zurich International Air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Greater Toronto Airports Author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Verdana"/>
              </a:rPr>
              <a:t>British Airports Authority - Heathr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9T08:15:14Z</dcterms:created>
  <dc:creator>Martin Eran-Tasker</dc:creator>
  <dc:description/>
  <dc:language>en-US</dc:language>
  <cp:lastModifiedBy>Martin Eran-Tasker</cp:lastModifiedBy>
  <cp:lastPrinted>2002-05-17T13:53:11Z</cp:lastPrinted>
  <dcterms:modified xsi:type="dcterms:W3CDTF">2002-05-17T13:55:18Z</dcterms:modified>
  <cp:revision>62</cp:revision>
  <dc:subject/>
  <dc:title>Workshop on the Aviation Operational Measures for Fuel and Emissions Re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Categoly">
    <vt:lpwstr>Documentation</vt:lpwstr>
  </property>
  <property fmtid="{D5CDD505-2E9C-101B-9397-08002B2CF9AE}" pid="3" name="Language">
    <vt:lpwstr>en</vt:lpwstr>
  </property>
  <property fmtid="{D5CDD505-2E9C-101B-9397-08002B2CF9AE}" pid="4" name="Order">
    <vt:lpwstr>2452600.00000000</vt:lpwstr>
  </property>
  <property fmtid="{D5CDD505-2E9C-101B-9397-08002B2CF9AE}" pid="5" name="Year">
    <vt:lpwstr>2002</vt:lpwstr>
  </property>
</Properties>
</file>