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1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10.jpeg" ContentType="image/jpe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package" Target="../embeddings/oleObject4.docx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Air Traffic Management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3276720"/>
          <a:ext cx="167652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672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99400" indent="-219240">
              <a:spcBef>
                <a:spcPts val="7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01520" indent="-219240">
              <a:spcBef>
                <a:spcPts val="799"/>
              </a:spcBef>
              <a:buClr>
                <a:srgbClr val="ff66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0152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0152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380880" y="152280"/>
          <a:ext cx="960480" cy="106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52280"/>
                    <a:ext cx="960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0" y="6058080"/>
            <a:ext cx="83808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" name=""/>
          <p:cNvGraphicFramePr/>
          <p:nvPr/>
        </p:nvGraphicFramePr>
        <p:xfrm>
          <a:off x="838080" y="6172200"/>
          <a:ext cx="762120" cy="533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617220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" name="ICAO%20logo%20blue%20CMYK" descr=""/>
          <p:cNvPicPr/>
          <p:nvPr/>
        </p:nvPicPr>
        <p:blipFill>
          <a:blip r:embed="rId11"/>
          <a:stretch/>
        </p:blipFill>
        <p:spPr>
          <a:xfrm>
            <a:off x="304920" y="5043600"/>
            <a:ext cx="990360" cy="79992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1676520" y="63244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FE41-B4FE-4777-9239-45285826E6FB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381880" y="63244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0068-249C-4126-8E27-3276D99CA3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6934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HOW TO SAVE FUEL BY LOSING TIM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Jean-Pierre NICOLA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EUROCONTROL - E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ARRIVING TRAFFIC TO PARIS ORLY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727280"/>
          <a:ext cx="7620120" cy="458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727280"/>
                    <a:ext cx="762012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9966ff"/>
                </a:solidFill>
                <a:uFillTx/>
                <a:latin typeface="Verdana"/>
              </a:rPr>
              <a:t>HOLDING STACK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TECHNIQUE IS BEING USED AS AN AIRCRAFT TANK CLOSE TO RUNWAY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Verdana"/>
              </a:rPr>
              <a:t>PREVENTING GAPS TO HAPPEN INTO LANDING SEQUENC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CAN BE USED EA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Y WITHOUT ANY COMPUTER ASSIST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OLDING STACK INDUCES SIGNIFICANT EXTRA FUEL BUR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ENABLES LONG DELAYS ABS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ON CAPA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9966ff"/>
                </a:solidFill>
                <a:uFillTx/>
                <a:latin typeface="Verdana"/>
              </a:rPr>
              <a:t>LINEAR HOLDING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CAN ONLY ABSORB ‘REASONABLE’ DELAYS (5/7 minute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HAS TO BE COMPLEMENTED BY HOLDING STACK FOR LONGER DELA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IS VERY SUITABLE TO HUB SEQUEN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IS SAVING FUEL EVEN COMPARED TO NOMINAL TRAJ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REQUIRES  COMPUTER ASSISTANCE FOR EFFICIENT SEQUENCING AND SPAC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52480" y="4419360"/>
            <a:ext cx="6934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ROGRESSIVE SPEED REDUCTION 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GMENTED SPEED PROF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1905120"/>
            <a:ext cx="693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cc"/>
                </a:solidFill>
                <a:latin typeface="Verdana"/>
              </a:rPr>
              <a:t>EXAMPLE OF AIRBUS A310 DESCENDING AT MINIMUM DRAG SPEED ACCORDING T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SAVED FUEL BURN/ ABSORBED DELAY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nico" descr=""/>
          <p:cNvPicPr/>
          <p:nvPr/>
        </p:nvPicPr>
        <p:blipFill>
          <a:blip r:embed="rId1"/>
          <a:stretch/>
        </p:blipFill>
        <p:spPr>
          <a:xfrm>
            <a:off x="-49320" y="-22320"/>
            <a:ext cx="9244080" cy="6902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952880" y="1600200"/>
            <a:ext cx="1447920" cy="43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RANSITION ALT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4191120"/>
            <a:ext cx="419112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NDARD DESCENT PRO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.;0,80 - 300 KT - 250 KT + HOLDING AT FL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4718160"/>
            <a:ext cx="3733920" cy="3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9966"/>
                </a:solidFill>
                <a:latin typeface="Times New Roman"/>
              </a:rPr>
              <a:t>DESCENT PROFILE AT PROGRESSIVE REDUCED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5105520"/>
            <a:ext cx="3200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6600"/>
                </a:solidFill>
                <a:latin typeface="Times New Roman"/>
              </a:rPr>
              <a:t>DESCENT PROFILE AT SEGMENTED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424720" y="5257800"/>
            <a:ext cx="719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HOL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OFILE </a:t>
            </a:r>
            <a:r>
              <a:rPr b="0" lang="en-GB" sz="1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TYPICAL SPEED SEGMENT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52480" y="2022480"/>
          <a:ext cx="7334280" cy="403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22480"/>
                    <a:ext cx="733428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ABSORBABLE DELAYS DURING DESCENT ONLY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52480" y="1866960"/>
          <a:ext cx="7112160" cy="43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66960"/>
                    <a:ext cx="711216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Verdana"/>
              </a:rPr>
              <a:t>FUEL BENEFITS COMPARISON/STACK VERSUS LINEAR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52480" y="1447920"/>
          <a:ext cx="9474480" cy="831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47920"/>
                    <a:ext cx="9474480" cy="831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828800" y="21337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 ABSORBING ARRIVAL DELAYS LINEARY DURING DESCENT INSTEAD OF HOLDING STACK TECHN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086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EXAMPLE OF COMPUTER ASSISTANCE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11430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Verdana"/>
              </a:rPr>
              <a:t>INFORMATION GIVEN BY MAESTRO - ARRIVAL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5027760"/>
            <a:ext cx="9316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urren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30440" y="1981080"/>
            <a:ext cx="380844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427880" y="5624640"/>
            <a:ext cx="14112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unway 25 (Le Bourg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88240" y="4183200"/>
            <a:ext cx="89388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unway 26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08160" y="2901960"/>
            <a:ext cx="914400" cy="27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Time 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5862600"/>
            <a:ext cx="10605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unway 27  (No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909880" y="3032280"/>
            <a:ext cx="546480" cy="272880"/>
            <a:chOff x="2909880" y="3032280"/>
            <a:chExt cx="546480" cy="272880"/>
          </a:xfrm>
        </p:grpSpPr>
        <p:sp>
          <p:nvSpPr>
            <p:cNvPr id="108" name=""/>
            <p:cNvSpPr/>
            <p:nvPr/>
          </p:nvSpPr>
          <p:spPr>
            <a:xfrm>
              <a:off x="3042360" y="3032280"/>
              <a:ext cx="414000" cy="2728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09880" y="3042000"/>
              <a:ext cx="15768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16080" y="5142600"/>
            <a:ext cx="594720" cy="287640"/>
            <a:chOff x="3016080" y="5142600"/>
            <a:chExt cx="594720" cy="287640"/>
          </a:xfrm>
        </p:grpSpPr>
        <p:sp>
          <p:nvSpPr>
            <p:cNvPr id="111" name=""/>
            <p:cNvSpPr/>
            <p:nvPr/>
          </p:nvSpPr>
          <p:spPr>
            <a:xfrm>
              <a:off x="3219480" y="5142600"/>
              <a:ext cx="391320" cy="2876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016080" y="5149800"/>
              <a:ext cx="241200" cy="936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3048120" y="6019920"/>
            <a:ext cx="457200" cy="7596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181480" y="4343400"/>
            <a:ext cx="2743200" cy="175248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400440" y="5791320"/>
            <a:ext cx="1066680" cy="22860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SEQUENCE DETAILS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57600" y="1752480"/>
          <a:ext cx="352440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752480"/>
                    <a:ext cx="352440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676520" y="2457360"/>
            <a:ext cx="1828800" cy="63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AF (orig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S = Susin, M = Merue, L = Lor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4229280"/>
            <a:ext cx="884160" cy="27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all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895480" y="4362480"/>
            <a:ext cx="1238760" cy="469800"/>
            <a:chOff x="2895480" y="4362480"/>
            <a:chExt cx="1238760" cy="469800"/>
          </a:xfrm>
        </p:grpSpPr>
        <p:sp>
          <p:nvSpPr>
            <p:cNvPr id="122" name=""/>
            <p:cNvSpPr/>
            <p:nvPr/>
          </p:nvSpPr>
          <p:spPr>
            <a:xfrm>
              <a:off x="3063240" y="4362480"/>
              <a:ext cx="1071000" cy="4698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895480" y="4365360"/>
              <a:ext cx="18000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276720" y="2666880"/>
            <a:ext cx="2133360" cy="533520"/>
          </a:xfrm>
          <a:prstGeom prst="line">
            <a:avLst/>
          </a:prstGeom>
          <a:ln w="93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91520" y="4952880"/>
            <a:ext cx="10969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ircraft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15200" y="2514600"/>
            <a:ext cx="1096920" cy="26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ime at  I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02640" y="3705120"/>
            <a:ext cx="11890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Current De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56280" y="2658240"/>
            <a:ext cx="1259280" cy="461880"/>
            <a:chOff x="6056280" y="2658240"/>
            <a:chExt cx="1259280" cy="461880"/>
          </a:xfrm>
        </p:grpSpPr>
        <p:sp>
          <p:nvSpPr>
            <p:cNvPr id="129" name=""/>
            <p:cNvSpPr/>
            <p:nvPr/>
          </p:nvSpPr>
          <p:spPr>
            <a:xfrm flipH="1">
              <a:off x="6056280" y="2659680"/>
              <a:ext cx="1081800" cy="4604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31600" y="2658240"/>
              <a:ext cx="18396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093800" y="3844080"/>
            <a:ext cx="729000" cy="296640"/>
            <a:chOff x="7093800" y="3844080"/>
            <a:chExt cx="729000" cy="296640"/>
          </a:xfrm>
        </p:grpSpPr>
        <p:sp>
          <p:nvSpPr>
            <p:cNvPr id="132" name=""/>
            <p:cNvSpPr/>
            <p:nvPr/>
          </p:nvSpPr>
          <p:spPr>
            <a:xfrm flipH="1">
              <a:off x="7093800" y="3844080"/>
              <a:ext cx="561960" cy="29664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42800" y="3848760"/>
              <a:ext cx="18000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432120" y="4933440"/>
            <a:ext cx="883080" cy="270000"/>
            <a:chOff x="6432120" y="4933440"/>
            <a:chExt cx="883080" cy="270000"/>
          </a:xfrm>
        </p:grpSpPr>
        <p:sp>
          <p:nvSpPr>
            <p:cNvPr id="135" name=""/>
            <p:cNvSpPr/>
            <p:nvPr/>
          </p:nvSpPr>
          <p:spPr>
            <a:xfrm flipH="1" flipV="1">
              <a:off x="6432120" y="4933440"/>
              <a:ext cx="634320" cy="2520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87680" y="5203440"/>
              <a:ext cx="227520" cy="0"/>
            </a:xfrm>
            <a:prstGeom prst="line">
              <a:avLst/>
            </a:prstGeom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WHAT MAGNITUDE OF BENEFITS COULD BE PROVIDED BY LINEAR HOLDING ?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52480" y="2895480"/>
            <a:ext cx="69343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IS IS DEPENDING UPON AIRPORT AND DEMAND COMBIN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HOWEVER SOME TYPICAL VALUES ARE ALREADY AVAIL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676520" y="53352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NORMAL COND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NEAR HOLDING ALLOWS FUEL SAVING O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x60’x85kg = </a:t>
            </a:r>
            <a:r>
              <a:rPr b="1" lang="en-GB" sz="2000" spc="-1" strike="noStrike" u="sng">
                <a:solidFill>
                  <a:srgbClr val="9966ff"/>
                </a:solidFill>
                <a:uFillTx/>
                <a:latin typeface="Verdana"/>
              </a:rPr>
              <a:t>10,200 k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ER DAY AT PARIS OR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ts val="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x110’x85kg=</a:t>
            </a:r>
            <a:r>
              <a:rPr b="1" lang="en-GB" sz="2000" spc="-1" strike="noStrike" u="sng">
                <a:solidFill>
                  <a:srgbClr val="9966ff"/>
                </a:solidFill>
                <a:uFillTx/>
                <a:latin typeface="Verdana"/>
              </a:rPr>
              <a:t>28,050k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ER DAY AT PARIS CD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295960" y="533520"/>
            <a:ext cx="36957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HEAVY SIT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AT PARIS ORL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(100’ min Del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0’ OF LINEAR HOLDING ARE SAV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0’X85kg = </a:t>
            </a:r>
            <a:r>
              <a:rPr b="1" lang="en-GB" sz="2000" spc="-1" strike="noStrike" u="sng">
                <a:solidFill>
                  <a:srgbClr val="9966ff"/>
                </a:solidFill>
                <a:uFillTx/>
                <a:latin typeface="Verdana"/>
              </a:rPr>
              <a:t>5,100k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ILE 40’ OF HOLDING STACK ARE INCREASING FUEL BURN BY </a:t>
            </a:r>
            <a:r>
              <a:rPr b="1" lang="en-GB" sz="2000" spc="-1" strike="noStrike" u="sng">
                <a:solidFill>
                  <a:srgbClr val="9966ff"/>
                </a:solidFill>
                <a:uFillTx/>
                <a:latin typeface="Verdana"/>
              </a:rPr>
              <a:t>2,400k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AT PARIS CDG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(225’ min Dela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60’x85kg=</a:t>
            </a:r>
            <a:r>
              <a:rPr b="1" lang="en-GB" sz="2000" spc="-1" strike="noStrike" u="sng">
                <a:solidFill>
                  <a:srgbClr val="9966ff"/>
                </a:solidFill>
                <a:uFillTx/>
                <a:latin typeface="Verdana"/>
              </a:rPr>
              <a:t>5,100k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SAVED WHILE 165’x60kg =</a:t>
            </a:r>
            <a:r>
              <a:rPr b="1" lang="en-GB" sz="2000" spc="-1" strike="noStrike" u="sng">
                <a:solidFill>
                  <a:srgbClr val="9966ff"/>
                </a:solidFill>
                <a:uFillTx/>
                <a:latin typeface="Verdana"/>
              </a:rPr>
              <a:t>9,900k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RE L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45720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CONCLUSION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INEAR HOLDING REDUCES FUEL BUR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T WORKS IN REAL LIF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DITIONAL BENEFITS CAN BE OBTAINED BY LINEAR HOLDING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TION OF FLIGHT TIME AT LOW ALTITUDE </a:t>
            </a:r>
            <a:r>
              <a:rPr b="0" lang="en-GB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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OWERING NO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TION OF FLIGHT TIME IN THE HOLDING STACK </a:t>
            </a:r>
            <a:r>
              <a:rPr b="0" lang="en-GB" sz="2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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ING RIS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INEAR HOLDING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HE WAY A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Verdana"/>
              </a:rPr>
              <a:t>ARRIVAL TRAFFIC IS GENERALLY ORGANIZED THROUGH SUCCESSIVE LAYERS:</a:t>
            </a:r>
            <a:endParaRPr b="0" lang="en-US" sz="28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3391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164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RRIVAL SLOTS (AIRLINES SCHEDULES) ARE DETERMINED ACCORDING TO RUNWAY CAPACITY (TYPICAL VALUE 44 a/c PER HOUR FOR SPECIALIZED RUNWA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52480" y="1828440"/>
            <a:ext cx="3391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PARTURE SLOTS (including overbooking) ARE ALLOCATED ACCORDINGLY BY ATFM (pretactical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828440" y="1828800"/>
            <a:ext cx="33908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4343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C CONTROLLERS REFINE TRAFFIC SEQUENCES AS APPROPRPIATE (tactical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1714680" y="4267080"/>
            <a:ext cx="3390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52480" y="1143000"/>
            <a:ext cx="33912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1640" y="11430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VERBOOKING IS REQUIRED TO COMPENSATE UNPREDICTABLE, UNEXPECTED AN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CCURATE ELEMENTS such a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IRLINES DEL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LIGHT CANCELL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5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AD WEA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"/>
          <p:cNvSpPr/>
          <p:nvPr/>
        </p:nvSpPr>
        <p:spPr>
          <a:xfrm>
            <a:off x="1714680" y="4267080"/>
            <a:ext cx="339084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HOWEVER OVERBOOKING AND </a:t>
            </a: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I</a:t>
            </a: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NACCURACY CAN INDUCE HOLDING BEFORE LANDING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THOSE DELAYS COULD BE ABSORBED EITHER :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934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 HOLDING STACK (e.g. Londo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INEARY (e.g. Paris CDG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ARRIVING TRAFFIC TO PARIS CDG + LE BOURGE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3880" y="1905120"/>
          <a:ext cx="762012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76201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ARRIVING TRAFFIC TO PARIS CD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620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8:15:14Z</dcterms:created>
  <dc:creator>Martin Eran-Tasker</dc:creator>
  <dc:description/>
  <dc:language>en-US</dc:language>
  <cp:lastModifiedBy>ell</cp:lastModifiedBy>
  <cp:lastPrinted>2002-05-14T11:43:13Z</cp:lastPrinted>
  <dcterms:modified xsi:type="dcterms:W3CDTF">2002-05-20T14:44:49Z</dcterms:modified>
  <cp:revision>97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1800.00000000</vt:lpwstr>
  </property>
  <property fmtid="{D5CDD505-2E9C-101B-9397-08002B2CF9AE}" pid="5" name="Year">
    <vt:lpwstr>2002</vt:lpwstr>
  </property>
</Properties>
</file>