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A731-8C7D-497D-8D58-0A11253C3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93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752480" y="4130640"/>
            <a:ext cx="693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9E04-19EF-4DEB-B0DE-65D0FA3C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7524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3056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5236-869D-40A6-9D11-A14D83D65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97160" y="198108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441840" y="198108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752480" y="413064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4097160" y="413064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441840" y="413064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BDFC-CCE7-4C0D-A888-096DDF79A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D1B0-827F-4054-8B0D-7AE760D3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5650-3AAB-4E44-8166-F06971FA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CB8A-8F3F-4C87-8B35-3D59D45E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BB70-98D7-4358-A10C-9AC7C297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752480" y="228240"/>
            <a:ext cx="693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A929-592A-436E-A01A-810A4BBD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524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38B3-4021-4B3A-9DB4-3E1A432D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056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9C66-69FF-4B0D-B3B5-1584C0A2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752480" y="4130640"/>
            <a:ext cx="693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D094-D4E4-47B1-90D4-276B8C5B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3.wmf"/><Relationship Id="rId8" Type="http://schemas.openxmlformats.org/officeDocument/2006/relationships/image" Target="../media/image4.png"/><Relationship Id="rId9" Type="http://schemas.openxmlformats.org/officeDocument/2006/relationships/package" Target="../embeddings/oleObject4.docx"/><Relationship Id="rId10" Type="http://schemas.openxmlformats.org/officeDocument/2006/relationships/image" Target="../media/image5.wmf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6BAA1BE-CE1C-471B-86C3-DE37AB4BA4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16765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 Narrow"/>
              </a:rPr>
              <a:t>Airline Planning Panel - Mad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 Narrow"/>
              </a:rPr>
              <a:t>21-22 May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0" y="3276720"/>
          <a:ext cx="1676520" cy="1379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276720"/>
                    <a:ext cx="167652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" name=""/>
          <p:cNvGraphicFramePr/>
          <p:nvPr/>
        </p:nvGraphicFramePr>
        <p:xfrm>
          <a:off x="0" y="1371600"/>
          <a:ext cx="1676520" cy="1392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1371600"/>
                    <a:ext cx="167652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99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6120" indent="-219240">
              <a:spcBef>
                <a:spcPts val="799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74960" indent="-219240">
              <a:spcBef>
                <a:spcPts val="799"/>
              </a:spcBef>
              <a:buClr>
                <a:srgbClr val="ff6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"/>
          <p:cNvSpPr/>
          <p:nvPr/>
        </p:nvSpPr>
        <p:spPr>
          <a:xfrm>
            <a:off x="0" y="0"/>
            <a:ext cx="167652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380880" y="152280"/>
          <a:ext cx="960480" cy="10670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880" y="152280"/>
                    <a:ext cx="96048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" name="" descr=""/>
          <p:cNvPicPr/>
          <p:nvPr/>
        </p:nvPicPr>
        <p:blipFill>
          <a:blip r:embed="rId8"/>
          <a:stretch/>
        </p:blipFill>
        <p:spPr>
          <a:xfrm>
            <a:off x="0" y="6058080"/>
            <a:ext cx="838080" cy="79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" name=""/>
          <p:cNvGraphicFramePr/>
          <p:nvPr/>
        </p:nvGraphicFramePr>
        <p:xfrm>
          <a:off x="838080" y="6172200"/>
          <a:ext cx="762120" cy="53352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38080" y="6172200"/>
                    <a:ext cx="7621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" name="" descr=""/>
          <p:cNvPicPr/>
          <p:nvPr/>
        </p:nvPicPr>
        <p:blipFill>
          <a:blip r:embed="rId11"/>
          <a:stretch/>
        </p:blipFill>
        <p:spPr>
          <a:xfrm>
            <a:off x="304920" y="5043600"/>
            <a:ext cx="990360" cy="79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VIATION OPERATIONAL MEASURES FOR FUEL AND EMISSIONS REDUCTION WORKSH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Verdana"/>
              </a:rPr>
              <a:t>Non-Revenue Fly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Verdana"/>
              </a:rPr>
              <a:t>Kevin M Morr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Verdana"/>
              </a:rPr>
              <a:t>Manager Environment, British Airwa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"/>
          <p:cNvSpPr/>
          <p:nvPr/>
        </p:nvSpPr>
        <p:spPr>
          <a:xfrm>
            <a:off x="17524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Concorde Ground Runs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llowing temporary suspension of C of A, Concorde engines run on a daily basi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s of 1 hour du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0 min at full reheat pow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t at high pow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with noise, fuel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Concorde Ground Runs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appraise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Long term, not short ter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heat not necessa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ush to high power, then reduce to a lower pow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unning time reduc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pprox. 80% reduction in fu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17524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Diversions and Positioning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7524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ATP%20Prop%202" descr=""/>
          <p:cNvPicPr/>
          <p:nvPr/>
        </p:nvPicPr>
        <p:blipFill>
          <a:blip r:embed="rId1"/>
          <a:stretch/>
        </p:blipFill>
        <p:spPr>
          <a:xfrm>
            <a:off x="3200400" y="1295280"/>
            <a:ext cx="4114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Positioning Flights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versions a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BAD NEW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oice of alternate is importan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close - both can have similar weath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far - high cost in time and fuel for diversion and recove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oose wisel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>
            <a:off x="17524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Positioning Flights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plit operations, sometimes require positioning of aircraf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sitioning also required if Maintenance is carried out away from main ba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metimes a commercial load can be carried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e.g. B777 delivery flight with cherrie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17524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Development, TI and Test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Concorde%20interior" descr=""/>
          <p:cNvPicPr/>
          <p:nvPr/>
        </p:nvPicPr>
        <p:blipFill>
          <a:blip r:embed="rId1"/>
          <a:stretch/>
        </p:blipFill>
        <p:spPr>
          <a:xfrm>
            <a:off x="2187720" y="1289160"/>
            <a:ext cx="649908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Test Flying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me test flying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d by Manufacturer (MM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d by the Regula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quired by the air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metimes possible to combine test fligh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.g. Concorde noise with AWF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Test Flying - costs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ypical AWFT flight fuel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601"/>
              </a:spcBef>
              <a:buClr>
                <a:srgbClr val="ff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2 000 k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601"/>
              </a:spcBef>
              <a:buClr>
                <a:srgbClr val="ff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737/A32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6 000 k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601"/>
              </a:spcBef>
              <a:buClr>
                <a:srgbClr val="ff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75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12 000 k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601"/>
              </a:spcBef>
              <a:buClr>
                <a:srgbClr val="ff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76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12 000 k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601"/>
              </a:spcBef>
              <a:buClr>
                <a:srgbClr val="ff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77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13 000 k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601"/>
              </a:spcBef>
              <a:buClr>
                <a:srgbClr val="ff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74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30 000 k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601"/>
              </a:spcBef>
              <a:buClr>
                <a:srgbClr val="ff66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ord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78 000 k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type probably les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Test Flights - Minimisation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.I.T.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everything that’s possible on the grou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everything, and review Test during revenue flying      (if possible!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truct logical test schedu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B 737 Alternate Flap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 found with Boeing 737 alternate flap, during AWF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 resolved, but UK CAA required verification fligh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greed for ‘Management’ Pilots to use alternate system to lower flaps on commercial flights into LH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17524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693432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Non-Revenue Flying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828800" y="2133720"/>
            <a:ext cx="693432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is Non-Revenue Flying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s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gine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version/Positioning fligh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st Fligh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pilogue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les of the unexpec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"/>
          <p:cNvSpPr/>
          <p:nvPr/>
        </p:nvSpPr>
        <p:spPr>
          <a:xfrm>
            <a:off x="17524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Test Flying 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 is not always possible to recreate flight and pressurisation loads on the ground. For this reason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Some defects can only be demonstrated...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"/>
          <p:cNvSpPr/>
          <p:nvPr/>
        </p:nvSpPr>
        <p:spPr>
          <a:xfrm>
            <a:off x="17524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....in the air!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ATP%20Foaming%20toilet" descr=""/>
          <p:cNvPicPr/>
          <p:nvPr/>
        </p:nvPicPr>
        <p:blipFill>
          <a:blip r:embed="rId1"/>
          <a:stretch/>
        </p:blipFill>
        <p:spPr>
          <a:xfrm>
            <a:off x="2743200" y="1066680"/>
            <a:ext cx="50292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828800" y="38052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VIATION OPERATIONAL MEASURES FOR FUEL AND EMISSIONS REDUCTION WORKSH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Verdana"/>
              </a:rPr>
              <a:t>Thank you 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17524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693432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Non-Revenue Flying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28800" y="2133720"/>
            <a:ext cx="693432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y flight that doesn’t make mone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ludes flight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, Ferry, verification, positioning, testing, development, + Ground Engine running(?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693432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Non-Revenue Flying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70866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me Non-Revenue flying is necessary, but it is expensive, uses fuel and creates unwanted emiss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n sometimes be reduced or “managed” or coupled with commercial ser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Post Maintenance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6" name=""/>
          <p:cNvSpPr/>
          <p:nvPr/>
        </p:nvSpPr>
        <p:spPr>
          <a:xfrm>
            <a:off x="17524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B737%20Stripdown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54262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Verification of Maintenance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 of some maintenance actions can not be accurately verified on the ground e.g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gine re-light envel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al rever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me emergency systems, et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me flying may be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B 737 Manual Reversion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heck is required if control rods, system linkages are disturb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heck at FL350, switch off both control systems, manual trim ou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cording of results allowed a check at 10 000 ft inste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sulting in approx. 1 hour reduction in flight time, and savings in fuel and emiss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"/>
          <p:cNvSpPr/>
          <p:nvPr/>
        </p:nvSpPr>
        <p:spPr>
          <a:xfrm>
            <a:off x="17524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Engine Ground Running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Concorde%20run%20up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647712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Engine Ground Running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st maintenance action, e.g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st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rust reverser verifica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ak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duce time of ru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duce power sett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the minimum requir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"/>
          <p:cNvSpPr/>
          <p:nvPr/>
        </p:nvSpPr>
        <p:spPr>
          <a:xfrm>
            <a:off x="17524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9T08:15:14Z</dcterms:created>
  <dc:creator>Martin Eran-Tasker</dc:creator>
  <dc:description/>
  <dc:language>en-US</dc:language>
  <cp:lastModifiedBy>Martin Eran-Tasker</cp:lastModifiedBy>
  <cp:lastPrinted>2001-03-29T12:57:15Z</cp:lastPrinted>
  <dcterms:modified xsi:type="dcterms:W3CDTF">2002-05-20T16:07:16Z</dcterms:modified>
  <cp:revision>73</cp:revision>
  <dc:subject/>
  <dc:title>Workshop on the Aviation Operational Measures for Fuel and Emissions Re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451700.00000000</vt:lpwstr>
  </property>
  <property fmtid="{D5CDD505-2E9C-101B-9397-08002B2CF9AE}" pid="5" name="Year">
    <vt:lpwstr>2002</vt:lpwstr>
  </property>
</Properties>
</file>