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5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F0E-729E-4133-9193-3D4A26CF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DD9F-8B9F-4F3A-B29E-96D511B0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843-B30D-4F30-9114-3FA5336E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8F1A-DD23-4DD4-81E5-D1567C62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717-F817-4F0D-AE72-B70236CC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9D3-0620-478D-A498-6631B242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2E8-803D-4F72-8400-9B6BFD6A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17DA-CBDA-4B2C-9156-1EACD5C5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8FF3-8FFA-4620-8ABA-C9B711EB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FD7-CCD9-469C-8945-9AF42264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9051-EECE-434E-B1F1-9DC8A9BE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8292-8320-4B02-8D37-8EEF0A84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0DD7-A2DD-4DBC-956A-575845C6D2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port Airside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" name="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Ground Support Equipment </a:t>
            </a:r>
            <a:br>
              <a:rPr sz="4000"/>
            </a:b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Emission Reduction Op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Randy Harri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Director - Environmental Serv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Delta Air Lines, In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Liquid Petroleum Ga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g tractors 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t loaders 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EM type equipment (Ford, GM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kli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* Limited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1640" y="15238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emissions (compared to gasoline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higher for HC and CO compared to diesel</a:t>
            </a:r>
            <a:r>
              <a:rPr b="0" lang="en-GB" sz="2400" spc="-1" strike="noStrike">
                <a:solidFill>
                  <a:srgbClr val="ff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adily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Safety concerns (employee strai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Tank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Gasoline/Diesel Retrofit with 2 or 3 Way Catalytic Converters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esel and closed-loop gasoline engines where kits ar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d fuel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Open loop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Engine run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Installation location and space on GS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Many different engines (many sizes and Mf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Diesel Retrofit with Particulate Trap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 current and older model diesels where kits are avail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4280" y="175248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&gt;85% particulate redu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Installation lo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Life sp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Not certified for all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Ru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Fuel Cells</a:t>
            </a:r>
            <a:br>
              <a:rPr sz="4000"/>
            </a:b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Emerging Technology with Significant Potential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sible 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g t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t lo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Jet tra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rgo tra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er lo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har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EM type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240" y="16002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ro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charge time, fueling could be similar to conventional fu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ss invasive infrastruc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Avail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Technology, cost and tim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Solar Power</a:t>
            </a:r>
            <a:br>
              <a:rPr sz="4000"/>
            </a:br>
            <a:r>
              <a:rPr b="0" lang="en-GB" sz="3200" spc="-1" strike="noStrike">
                <a:solidFill>
                  <a:srgbClr val="3333cc"/>
                </a:solidFill>
                <a:latin typeface="Verdana"/>
              </a:rPr>
              <a:t>Developing Technology</a:t>
            </a:r>
            <a:endParaRPr b="0" lang="en-US" sz="3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el service c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ther G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66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ro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infrastructure requi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Limited applic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Presently only used to assist other power 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828800" y="909720"/>
            <a:ext cx="71629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Other Emission Reduction Initiative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ow-barless trac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Lavatory c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el c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7307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730728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52480" y="609480"/>
            <a:ext cx="7313760" cy="548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Presentat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verall strateg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pplicability of technology to equipment types and ope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Other initiativ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Conclusion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 one solution fits all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Technology is still develo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viation industry is utilizing what is avail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Emission Reduction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 single sol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frastructure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rational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quipment avail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ology avail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st conside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Electric GSE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t lo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g tra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ircraft tractors 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kli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tainer lo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argo tracto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*Limited Ba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65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Zero emiss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maintenance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reased equipment reli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5050"/>
                </a:solidFill>
                <a:latin typeface="Verdana"/>
              </a:rPr>
              <a:t>High infrastructure co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5050"/>
                </a:solidFill>
                <a:latin typeface="Verdana"/>
              </a:rPr>
              <a:t>Additional ramp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5050"/>
                </a:solidFill>
                <a:latin typeface="Verdana"/>
              </a:rPr>
              <a:t>Recharg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527040"/>
            <a:ext cx="731376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52480" y="549360"/>
          <a:ext cx="7299360" cy="54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49360"/>
                    <a:ext cx="729936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52480" y="457200"/>
          <a:ext cx="735192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57200"/>
                    <a:ext cx="735192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728676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cc"/>
                </a:solidFill>
                <a:latin typeface="Verdana"/>
              </a:rPr>
              <a:t>Compressed Natural Gas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52480" y="1905120"/>
            <a:ext cx="339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pplic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ag tu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lt loa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EM type equipment (Ford, GM Et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orkli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nefits/</a:t>
            </a:r>
            <a:r>
              <a:rPr b="0" i="1" lang="en-GB" sz="2800" spc="-1" strike="noStrike">
                <a:solidFill>
                  <a:srgbClr val="ff0066"/>
                </a:solidFill>
                <a:latin typeface="Verdana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wer emissions (compared to gasoline - </a:t>
            </a: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higher for HC and CO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compared to diesel</a:t>
            </a:r>
            <a:r>
              <a:rPr b="0" lang="en-GB" sz="2400" spc="-1" strike="noStrike">
                <a:solidFill>
                  <a:srgbClr val="ff0066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66"/>
                </a:solidFill>
                <a:latin typeface="Verdana"/>
              </a:rPr>
              <a:t>Infrastructure (limited availability, high cost for fill st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Martin Eran-Tasker</cp:lastModifiedBy>
  <cp:lastPrinted>2002-05-16T20:58:03Z</cp:lastPrinted>
  <dcterms:modified xsi:type="dcterms:W3CDTF">2002-05-20T16:51:27Z</dcterms:modified>
  <cp:revision>67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400.00000000</vt:lpwstr>
  </property>
  <property fmtid="{D5CDD505-2E9C-101B-9397-08002B2CF9AE}" pid="5" name="Year">
    <vt:lpwstr>2002</vt:lpwstr>
  </property>
</Properties>
</file>