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1B574-4A18-4F4D-8D62-A08D94BB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400" y="4105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6106-0E31-4105-886F-06E3809A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97080" y="195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400" y="4105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97080" y="4105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ABC1E-A93E-46B7-AB8F-767CADFD8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42400" y="195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70040" y="1955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400" y="4105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42400" y="4105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70040" y="4105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C922-7134-4203-90C9-9D671CC9F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91089-119A-4ECA-86CA-2AF7BF13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5043F-7CEE-4484-AD4A-CAD40961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955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C24FC-2D53-4A90-A9F9-8C35F722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47D30-C0CB-4787-811B-831C66D1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778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7706E-DFF8-4582-ABE6-103B540D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955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4105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50062-49C1-4676-AF7A-1EF50971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95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97080" y="4105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4C04-44CE-4581-9D35-C7A5651A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955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05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62DAC-F388-406E-9007-566773F4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41200" y="138240"/>
            <a:ext cx="8664840" cy="6615000"/>
          </a:xfrm>
          <a:prstGeom prst="roundRect">
            <a:avLst>
              <a:gd name="adj" fmla="val 6542"/>
            </a:avLst>
          </a:prstGeom>
          <a:solidFill>
            <a:srgbClr val="00cc99"/>
          </a:soli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84120" y="281160"/>
            <a:ext cx="8380440" cy="6325920"/>
          </a:xfrm>
          <a:prstGeom prst="roundRect">
            <a:avLst>
              <a:gd name="adj" fmla="val 469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8680" y="87480"/>
            <a:ext cx="7221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290080" y="84240"/>
          <a:ext cx="666720" cy="65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90080" y="84240"/>
                    <a:ext cx="6667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3440160" y="6654960"/>
            <a:ext cx="2268360" cy="10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138480" y="6667560"/>
          <a:ext cx="5477040" cy="84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8480" y="6667560"/>
                    <a:ext cx="5477040" cy="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2904840" y="6232680"/>
            <a:ext cx="32972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2"/>
          </p:nvPr>
        </p:nvSpPr>
        <p:spPr>
          <a:xfrm>
            <a:off x="67975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45E7-281A-4738-8D5F-F595AA6E1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dt" idx="3"/>
          </p:nvPr>
        </p:nvSpPr>
        <p:spPr>
          <a:xfrm>
            <a:off x="45396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iation Operational Measur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or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el and Emissions Reduc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4435560"/>
            <a:ext cx="6400800" cy="120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port Ground Side Emissions Re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irport Operator and Tenant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173320"/>
            <a:ext cx="7772400" cy="38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hicle Fleet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Elec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itude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Vehi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ff the Ligh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ing Energy Reduction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374920"/>
            <a:ext cx="7772400" cy="369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oto volta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-generation heat and electri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ite verses Offsite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en Energy Purch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273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One Way to Obtain Fuel and Emission R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a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RandysWorld" descr=""/>
          <p:cNvPicPr/>
          <p:nvPr/>
        </p:nvPicPr>
        <p:blipFill>
          <a:blip r:embed="rId1"/>
          <a:stretch/>
        </p:blipFill>
        <p:spPr>
          <a:xfrm>
            <a:off x="571680" y="1244520"/>
            <a:ext cx="7856280" cy="508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873520" y="2654280"/>
            <a:ext cx="290520" cy="203400"/>
          </a:xfrm>
          <a:prstGeom prst="star5">
            <a:avLst/>
          </a:prstGeom>
          <a:solidFill>
            <a:srgbClr val="ccccff"/>
          </a:solidFill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77840" y="336240"/>
            <a:ext cx="7772400" cy="11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ere are W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ronto Airport - Who are w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8 Million Passeng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5,000 Aircraft Mov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4.4 Billion Construction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14001 Cert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oto Goal 6 %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Climate -30 to +35 Cels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Environmental Assessment for the Addition of 3 Run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Emissions not to Incr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easured Increase in Air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Emphasis on Criteria Pollut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0 Emphasis on VOC’s and PM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lth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 Years of Emission Reduc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64780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 Side Veh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round Side Emission Sourc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enger &amp; Staff Vehicle Use On and Off-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Trans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king - 18% of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nt Deliv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ways/High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ission Reduction Strateg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ommunity Conce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Smell and Aircraft Plu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Ky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ost, Technology and Potential Reduction, Heal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sing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ission Reduction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087640"/>
            <a:ext cx="7772400" cy="39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ortation To and From the Airport, People and Car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adway Limit Access Points - Spagh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ing at the Cu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king Price Structure, Limit Gre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l, People Movers,Off-site Pa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es - CNG, Hybrid Elec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site Central Tenant Warehou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778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ilding Design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955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ED - Building Performance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Cycl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zone Depleting Substances El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ior Fini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ergy Aud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ge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monBullets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d Use Z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0-18T13:32:12Z</dcterms:created>
  <dc:creator>BRAd robertson</dc:creator>
  <dc:description/>
  <dc:language>en-US</dc:language>
  <cp:lastModifiedBy>Martin Eran-Tasker</cp:lastModifiedBy>
  <cp:lastPrinted>2002-05-17T14:08:18Z</cp:lastPrinted>
  <dcterms:modified xsi:type="dcterms:W3CDTF">2002-05-17T14:08:43Z</dcterms:modified>
  <cp:revision>263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300.00000000</vt:lpwstr>
  </property>
  <property fmtid="{D5CDD505-2E9C-101B-9397-08002B2CF9AE}" pid="5" name="Year">
    <vt:lpwstr>2002</vt:lpwstr>
  </property>
</Properties>
</file>