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912600" y="742680"/>
            <a:ext cx="49575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-360" y="941688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841920" y="941688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DB4AEB-E35B-4424-AAD9-1456AC4EBF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41920" y="941688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2431D2-3ABB-485A-A315-7C5D64218C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41688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696960" y="2318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3240" y="4725720"/>
            <a:ext cx="4973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117-CD03-48DD-9A4F-FBA88002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76F-8125-4881-8A88-AAED2823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659-D2AE-4063-945A-41745921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E17-0DAF-4AC0-AE51-268DD423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440-F654-477D-8B53-2B03C8A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B94-55F3-4B0F-AAA5-71FA07FF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524-5F5C-41EB-B4FE-A995C45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96F-93EF-4100-BC33-4E5B5CC8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E67-0B18-4F4E-BD39-4C383598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4E6-FCAC-451A-AB65-0BE5624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072-759B-4A3C-A164-9284754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4ED-0BC8-4E8C-99E9-2B30E6A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 Traffic Manage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E27-9F35-4637-A5CC-48D68DA704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RVSM Implementation in Europ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hris Bou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Deputy RVSM Programme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EURO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Verdana"/>
              </a:rPr>
              <a:t>Benefits of RVS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6 extra flight levels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ptimisation of airspace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roved ATS route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than 20 new sectors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TC capacity incr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533520"/>
          <a:ext cx="9166320" cy="57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6632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295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600200"/>
            <a:ext cx="0" cy="404028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600200"/>
            <a:ext cx="0" cy="404028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600200"/>
            <a:ext cx="1095120" cy="592200"/>
          </a:xfrm>
          <a:prstGeom prst="downArrowCallout">
            <a:avLst>
              <a:gd name="adj1" fmla="val 46235"/>
              <a:gd name="adj2" fmla="val 46231"/>
              <a:gd name="adj3" fmla="val 16667"/>
              <a:gd name="adj4" fmla="val 66667"/>
            </a:avLst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V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800600"/>
            <a:ext cx="1123920" cy="571680"/>
          </a:xfrm>
          <a:prstGeom prst="upArrowCallout">
            <a:avLst>
              <a:gd name="adj1" fmla="val 49154"/>
              <a:gd name="adj2" fmla="val 49150"/>
              <a:gd name="adj3" fmla="val 16667"/>
              <a:gd name="adj4" fmla="val 66660"/>
            </a:avLst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EH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6332400"/>
            <a:ext cx="2486160" cy="336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59436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* Brussels East High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Verdana"/>
              </a:rPr>
              <a:t>Flight Level Re-distribution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905120"/>
          <a:ext cx="701064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701064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Fuel &amp; Emission aspec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066320"/>
            <a:ext cx="7162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aking advantage of operating more often, more close to optimum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tudies: conservative estimate: average 80kg fuel saving per flight in RV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10,000 flight daily in EUR RV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yearly saving 290,000 t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yearly 913,500 tons less C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yearly 4,350 tons less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Benefit assessmen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3716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in 1st benefits expected over Summer’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-operation with ope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1st indications confirm anticipated fuel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pacity benefits in co-operation with Capacity Enhancement Function (CE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Verdana"/>
              </a:rPr>
              <a:t>24hr EUR Air Traffic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81080" y="1523880"/>
          <a:ext cx="68580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8580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EUR RVSM overview (1)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additional flight levels between FL290 and FL4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00ft VSM, as already &lt;FL2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in benefit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4:1 benefit/cost ratio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irspace 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ss fuel bu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lay re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41 States, 9400 airframes, 2300 aircraft ope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371600"/>
          <a:ext cx="7086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7086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228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EUR RVSM overview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RVSM in operation since</a:t>
            </a:r>
            <a:br>
              <a:rPr sz="3600"/>
            </a:b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24 January 2002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0" name="Rvsm_Ifp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2481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Implementation element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C System modif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rspace adap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rcraft Modifications and Approv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C &amp; Flight Crew trai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afety Case (incl. monitor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wareness Activiti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Verdana"/>
              </a:rPr>
              <a:t>Implementation Time Scale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14264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CAO work started in 196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CAO Implementation Principles agreed early 199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VSM implemented in NAT in 199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letion of EUR RVSM initial feasibility work: June’9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ster Plan approved April’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lementation January’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Implementation Issu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dorsement implementation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me Structure (41 States, 2300 operators, EUROCONTROL, ICAO, JAA, IFATCA, IFALPA, et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 scales a/c approvals &amp; ATC system upgr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ulations, LoA’s, ATC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t up Monitoring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gal enablers (ICAO, State legis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Implementation 24 Jan’02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mooth 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ome flight planning asp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No RVSM specific TCAS or Wake Vortex iss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erformance of some aircraft types in qu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Gradually all operators taking advant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ull benefits expected over su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Bouman C</cp:lastModifiedBy>
  <cp:lastPrinted>2002-05-17T12:42:49Z</cp:lastPrinted>
  <dcterms:modified xsi:type="dcterms:W3CDTF">2002-05-17T13:56:14Z</dcterms:modified>
  <cp:revision>67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0900.00000000</vt:lpwstr>
  </property>
  <property fmtid="{D5CDD505-2E9C-101B-9397-08002B2CF9AE}" pid="5" name="Year">
    <vt:lpwstr>2002</vt:lpwstr>
  </property>
</Properties>
</file>