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Img"/>
          </p:nvPr>
        </p:nvSpPr>
        <p:spPr>
          <a:xfrm>
            <a:off x="912600" y="742680"/>
            <a:ext cx="495756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904680" y="4708440"/>
            <a:ext cx="4971960" cy="44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-360" y="94168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3841920" y="94168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DFFE0B-228C-4E83-9284-41DF22AB10F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41920" y="941688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A74937-685E-4D2C-A29F-DC4A006D86B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941688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41920" y="0"/>
            <a:ext cx="2939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96960" y="2318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3240" y="4725720"/>
            <a:ext cx="49737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3CE-8B00-4804-83F5-64ED7455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46FE-5B6E-4E72-AF19-C3A8F072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99E-CB12-434B-992A-572AB7C8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9131-830B-4F49-8579-9C76B2C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366A-C23A-442E-BFAC-02598FC7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2916-6B39-4B8B-9BA4-E7B0199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CBD-0012-4A7B-A97B-E9D7DA69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47EA-3193-4396-8BFD-6823EE1B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05FF-DB0B-40CD-8C70-A473003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764-5C3F-431C-8A0C-9B550CA5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512-2990-4D7B-9D0C-D330C84B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3E4B-E1DA-4DA6-9ADF-33D4E864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71A1-C6DB-42F5-A543-0B9514A28C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RVSM Implementation in Europ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Chris Boum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Deputy RVSM Programme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EURO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cc"/>
                </a:solidFill>
                <a:latin typeface="Verdana"/>
              </a:rPr>
              <a:t>Benefits of RVSM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6 extra flight levels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optimisation of airspace stru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d ATS route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than 20 new sectors crea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ATC capacity incre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533520"/>
          <a:ext cx="9166320" cy="57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9166320" cy="57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295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1600200"/>
            <a:ext cx="0" cy="4040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600200"/>
            <a:ext cx="0" cy="404028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10280" y="1676520"/>
            <a:ext cx="0" cy="4039920"/>
          </a:xfrm>
          <a:prstGeom prst="line">
            <a:avLst/>
          </a:prstGeom>
          <a:ln cap="rnd" w="3240">
            <a:solidFill>
              <a:srgbClr val="ffff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5120" y="1600200"/>
            <a:ext cx="1095120" cy="592200"/>
          </a:xfrm>
          <a:prstGeom prst="downArrowCallout">
            <a:avLst>
              <a:gd name="adj1" fmla="val 46235"/>
              <a:gd name="adj2" fmla="val 46231"/>
              <a:gd name="adj3" fmla="val 16667"/>
              <a:gd name="adj4" fmla="val 66667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RV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4800600"/>
            <a:ext cx="1123920" cy="571680"/>
          </a:xfrm>
          <a:prstGeom prst="upArrowCallout">
            <a:avLst>
              <a:gd name="adj1" fmla="val 49154"/>
              <a:gd name="adj2" fmla="val 49150"/>
              <a:gd name="adj3" fmla="val 16667"/>
              <a:gd name="adj4" fmla="val 66660"/>
            </a:avLst>
          </a:prstGeom>
          <a:solidFill>
            <a:srgbClr val="ffff00"/>
          </a:solidFill>
          <a:ln w="2844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Times New Roman"/>
              </a:rPr>
              <a:t>BEH</a:t>
            </a:r>
            <a:r>
              <a:rPr b="0" lang="en-GB" sz="1800" spc="-1" strike="noStrike">
                <a:solidFill>
                  <a:srgbClr val="0000ff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6332400"/>
            <a:ext cx="2486160" cy="33660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5880" y="59436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cc"/>
                </a:solidFill>
                <a:latin typeface="Arial"/>
              </a:rPr>
              <a:t>* Brussels East High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3333cc"/>
                </a:solidFill>
                <a:uFillTx/>
                <a:latin typeface="Verdana"/>
              </a:rPr>
              <a:t>Flight Level Re-distribution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905120"/>
          <a:ext cx="7010640" cy="396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7010640" cy="396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Fuel &amp; Emission aspec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520" y="1066320"/>
            <a:ext cx="7162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aking advantage of operating more often, more close to optimum lev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tudies: conservative estimate: average 80kg fuel saving per flight in RV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10,000 flight daily in EUR RVS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saving 290,000 t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913,500 tons less C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yearly 4,350 tons less NO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Benefit assessmen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371600"/>
            <a:ext cx="6934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in 1st benefits expected over Summer’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-operation with ope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1st indications confirm anticipated fuel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apacity benefits in co-operation with Capacity Enhancement Function (CEF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Verdana"/>
              </a:rPr>
              <a:t>24hr EUR Air Traffic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1523880"/>
          <a:ext cx="6858000" cy="458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523880"/>
                    <a:ext cx="685800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EUR RVSM overview (1)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933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additional flight levels between FL290 and FL4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1000ft VSM, as already &lt;FL29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in benefits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14:1 benefit/cost ratio)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irspace capa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ss fuel bu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lay redu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41 States, 9400 airframes, 2300 aircraft ope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1371600"/>
          <a:ext cx="7086600" cy="47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371600"/>
                    <a:ext cx="708660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905120" y="2286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EUR RVSM overview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RVSM in operation since</a:t>
            </a:r>
            <a:br>
              <a:rPr sz="3600"/>
            </a:b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24 January 2002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0" name="Rvsm_Ifps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624816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Implementation element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676520"/>
            <a:ext cx="693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C System modif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rspace adapt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rcraft Modifications and Approv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C &amp; Flight Crew trai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afety Case (incl. monitorin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wareness Activities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Verdana"/>
              </a:rPr>
              <a:t>Implementation Time Scale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160" y="1142640"/>
            <a:ext cx="6933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CAO work started in 196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CAO Implementation Principles agreed early 1990’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VSM implemented in NAT in 19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pletion of EUR RVSM initial feasibility work: June’9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ster Plan approved April’9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plementation January’0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Implementation Issu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dorsement implementation 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gramme Structure (41 States, 2300 operators, EUROCONTROL, ICAO, JAA, IFATCA, IFALPA, et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me scales a/c approvals &amp; ATC system upgra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ulations, LoA’s, ATC tra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t up Monitoring Infrastruct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gal enablers (ICAO, State legisla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Implementation 24 Jan’02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06668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mooth 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ome flight planning asp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No RVSM specific TCAS or Wake Vortex issu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erformance of some aircraft types in ques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Gradually all operators taking advanta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ull benefits expected over summ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Bouman C</cp:lastModifiedBy>
  <cp:lastPrinted>2002-05-17T12:42:49Z</cp:lastPrinted>
  <dcterms:modified xsi:type="dcterms:W3CDTF">2002-05-17T13:56:14Z</dcterms:modified>
  <cp:revision>6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0900.00000000</vt:lpwstr>
  </property>
  <property fmtid="{D5CDD505-2E9C-101B-9397-08002B2CF9AE}" pid="5" name="Year">
    <vt:lpwstr>2002</vt:lpwstr>
  </property>
</Properties>
</file>