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3900-61F6-4878-AAED-B9A6AD29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AE0-1E1B-4C44-AC2D-29BE6457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CEC-AC62-4965-B206-1E0B48AA4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F5A-10B4-493A-9761-5B2B19C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DC6-A8C7-42D2-89FE-9FD82D0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FFD0-838B-4BB6-B235-D88E8E6C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2BE9-9C31-4282-A7C8-352D14EE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3909-6FF7-4D39-AB03-9A40D6BF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122-A86E-494A-BFD1-9425D8A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DC6-1588-445C-98C9-01272141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D888-EEB1-45A4-8EA8-67C53E55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73EF-F7EB-41A9-B16C-C3ABCA2E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port Airside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BFE-79D5-4950-9D69-04F4DC30A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Verdana"/>
              </a:rPr>
              <a:t>AIRPORT INFRASTRUCTUR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Arturo Beni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Director Fleet Planning &amp; Environment-IB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REPLACE STANDARD APU BY FUEL CELL</a:t>
            </a:r>
            <a:br>
              <a:rPr sz="4200"/>
            </a:b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Pros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Energy efficiency improvement by a factor of 2-3 ti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Nearly elimination of pollutant emiss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roduction of water for potential on-board u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REPLACE STANDARD APU BY FUEL CELL</a:t>
            </a:r>
            <a:br>
              <a:rPr sz="4200"/>
            </a:b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Cons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800" y="1905120"/>
            <a:ext cx="7315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weight (compensated by water generatio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Higher price (probably will become less than APU’s in the futur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Jet fuel sulphur content is challen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Slower st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FUEL CELL ARCHITECTURE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4495680" y="4544640"/>
            <a:ext cx="0" cy="695160"/>
          </a:xfrm>
          <a:prstGeom prst="line">
            <a:avLst/>
          </a:prstGeom>
          <a:ln w="38160">
            <a:solidFill>
              <a:srgbClr val="258d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60760" y="5362560"/>
            <a:ext cx="450720" cy="0"/>
          </a:xfrm>
          <a:prstGeom prst="line">
            <a:avLst/>
          </a:prstGeom>
          <a:ln w="38160">
            <a:solidFill>
              <a:srgbClr val="258d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75280" y="4281480"/>
            <a:ext cx="0" cy="70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18280" y="2762280"/>
            <a:ext cx="0" cy="70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22600" y="3201840"/>
            <a:ext cx="0" cy="695520"/>
          </a:xfrm>
          <a:prstGeom prst="line">
            <a:avLst/>
          </a:prstGeom>
          <a:ln w="38160">
            <a:solidFill>
              <a:srgbClr val="258dd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282840" y="3192480"/>
            <a:ext cx="0" cy="488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54280" y="2446200"/>
            <a:ext cx="503280" cy="0"/>
          </a:xfrm>
          <a:prstGeom prst="line">
            <a:avLst/>
          </a:prstGeom>
          <a:ln w="9360">
            <a:solidFill>
              <a:srgbClr val="1801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84440" y="2657520"/>
            <a:ext cx="503280" cy="0"/>
          </a:xfrm>
          <a:prstGeom prst="line">
            <a:avLst/>
          </a:prstGeom>
          <a:ln w="9360">
            <a:solidFill>
              <a:srgbClr val="1801c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60720" y="1828800"/>
            <a:ext cx="2406600" cy="1393920"/>
          </a:xfrm>
          <a:prstGeom prst="rect">
            <a:avLst/>
          </a:prstGeom>
          <a:solidFill>
            <a:srgbClr val="00c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2354400"/>
            <a:ext cx="221616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el Cell S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918800" y="1981080"/>
            <a:ext cx="781200" cy="1101600"/>
            <a:chOff x="1918800" y="1981080"/>
            <a:chExt cx="781200" cy="1101600"/>
          </a:xfrm>
        </p:grpSpPr>
        <p:sp>
          <p:nvSpPr>
            <p:cNvPr id="90" name=""/>
            <p:cNvSpPr/>
            <p:nvPr/>
          </p:nvSpPr>
          <p:spPr>
            <a:xfrm flipV="1">
              <a:off x="2186280" y="2045520"/>
              <a:ext cx="0" cy="380880"/>
            </a:xfrm>
            <a:prstGeom prst="line">
              <a:avLst/>
            </a:prstGeom>
            <a:ln w="9360">
              <a:solidFill>
                <a:srgbClr val="258d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351520" y="2054880"/>
              <a:ext cx="0" cy="380520"/>
            </a:xfrm>
            <a:prstGeom prst="line">
              <a:avLst/>
            </a:prstGeom>
            <a:ln w="9360">
              <a:solidFill>
                <a:srgbClr val="258d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30720" y="2683080"/>
              <a:ext cx="0" cy="312840"/>
            </a:xfrm>
            <a:prstGeom prst="line">
              <a:avLst/>
            </a:prstGeom>
            <a:ln w="9360">
              <a:solidFill>
                <a:srgbClr val="1801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26960" y="2691000"/>
              <a:ext cx="0" cy="312840"/>
            </a:xfrm>
            <a:prstGeom prst="line">
              <a:avLst/>
            </a:prstGeom>
            <a:ln w="9360">
              <a:solidFill>
                <a:srgbClr val="1801c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9160" y="2185200"/>
              <a:ext cx="735480" cy="700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13560" y="2525760"/>
              <a:ext cx="58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41840" y="2180880"/>
              <a:ext cx="71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82120" y="2975400"/>
              <a:ext cx="91440" cy="107280"/>
            </a:xfrm>
            <a:prstGeom prst="donut">
              <a:avLst>
                <a:gd name="adj" fmla="val 25000"/>
              </a:avLst>
            </a:prstGeom>
            <a:solidFill>
              <a:srgbClr val="0000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3280" y="1985040"/>
              <a:ext cx="91440" cy="107280"/>
            </a:xfrm>
            <a:prstGeom prst="donut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80880" y="2975400"/>
              <a:ext cx="91440" cy="107280"/>
            </a:xfrm>
            <a:prstGeom prst="donut">
              <a:avLst>
                <a:gd name="adj" fmla="val 25000"/>
              </a:avLst>
            </a:prstGeom>
            <a:solidFill>
              <a:srgbClr val="00009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45600" y="1981080"/>
              <a:ext cx="91440" cy="107280"/>
            </a:xfrm>
            <a:prstGeom prst="donut">
              <a:avLst>
                <a:gd name="adj" fmla="val 25000"/>
              </a:avLst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918800" y="2185200"/>
              <a:ext cx="735480" cy="69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051000" y="3465360"/>
            <a:ext cx="2406960" cy="1106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11480" y="3660840"/>
            <a:ext cx="22161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grated Fuel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2120" y="5310360"/>
            <a:ext cx="869760" cy="141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53000" y="5373720"/>
            <a:ext cx="446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07320" y="5211720"/>
            <a:ext cx="11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5100480"/>
            <a:ext cx="919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bin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5400000">
            <a:off x="3934440" y="5050440"/>
            <a:ext cx="793800" cy="633600"/>
          </a:xfrm>
          <a:prstGeom prst="flowChartManualOperat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61040" y="3549600"/>
            <a:ext cx="1816200" cy="7034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44800" y="5191200"/>
            <a:ext cx="10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728400" y="2338560"/>
            <a:ext cx="639720" cy="144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2895480"/>
            <a:ext cx="10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rot="16200000">
            <a:off x="4896360" y="5060880"/>
            <a:ext cx="793800" cy="631800"/>
          </a:xfrm>
          <a:prstGeom prst="flowChartManualOperation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35600" y="520704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ur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20920" y="4435560"/>
            <a:ext cx="733320" cy="539640"/>
          </a:xfrm>
          <a:custGeom>
            <a:avLst/>
            <a:gdLst/>
            <a:ahLst/>
            <a:rect l="l" t="t" r="r" b="b"/>
            <a:pathLst>
              <a:path w="577" h="392">
                <a:moveTo>
                  <a:pt x="0" y="392"/>
                </a:moveTo>
                <a:lnTo>
                  <a:pt x="0" y="0"/>
                </a:lnTo>
                <a:lnTo>
                  <a:pt x="577" y="0"/>
                </a:ln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5087880"/>
            <a:ext cx="8046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t Fu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19920" y="5715000"/>
            <a:ext cx="1272960" cy="138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5056200"/>
            <a:ext cx="1279440" cy="699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a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319880" y="5380200"/>
            <a:ext cx="4460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53160" y="5864400"/>
            <a:ext cx="0" cy="214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48520" y="6080040"/>
            <a:ext cx="10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70280" y="1644480"/>
            <a:ext cx="2746440" cy="308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FUEL CELL TIMING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440" y="1294920"/>
            <a:ext cx="7086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Automotive manufacturers doing active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Boeing: a light aircraft demonstrator powered by fuel cells (2003-200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NASA/Boeing program: fuel cell APU demonstrator (2006-2008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Power density may increase in next 10-15 years to enable APU p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Verdana"/>
              </a:rPr>
              <a:t>ISSUES</a:t>
            </a:r>
            <a:endParaRPr b="0" lang="en-US" sz="44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nimum energy airside desig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TC co-ordin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duction of APU /  GS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PU replac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MINIMUM ENERGY AIRSIDE DESIGN Target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inimise taxi time to save fuel and emission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For Iberia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1 minute of taxi per fl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3,000 tons of fuel per yea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808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MINIMUM ENERGY AIRSIDE DESIGN Strategy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arking positions/terminals close to taxiwa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nimise taxiways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void taxi braking when poss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ATC CO-ORDINATION Target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9343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inimise time between engine starting and beginning of tax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Close co-ordination betwee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irport (ground move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C (arrival/departure plannin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ATC CO-ORDINATION LEONARDO Project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It will integrate existing management tools at CDG and MAD airports under real operating condi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he partners are Aeroport de Paris (France), SICTA (Italy), NLR (Holland), AENA, Iberia, Indra, Ineco, Isdefe (Spain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COMMERCIAL AIRCRAFT TURN-AROUND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ypical turnaround: 0.5-3.0 hou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Operations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deplane/unlo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lea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fuell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-21420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technical chec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Most of these tasks require energy supply by APU/G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572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057400"/>
            <a:ext cx="5410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repai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tering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nplane/loa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e-flight chec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REPLACING APU/GSE</a:t>
            </a:r>
            <a:br>
              <a:rPr sz="4200"/>
            </a:b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Systems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120" y="1294920"/>
            <a:ext cx="40388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lectric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ir condition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ngine start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Water supply truc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1212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295280"/>
            <a:ext cx="40384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Verdana"/>
              </a:rPr>
              <a:t>Re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50/60-400 Hz convert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Pre-conditioned ai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ompressed air suppl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Water from general network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75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REPLACING APU/GSE</a:t>
            </a:r>
            <a:br>
              <a:rPr sz="4200"/>
            </a:br>
            <a:r>
              <a:rPr b="1" lang="en-GB" sz="4200" spc="-1" strike="noStrike">
                <a:solidFill>
                  <a:srgbClr val="3333cc"/>
                </a:solidFill>
                <a:latin typeface="Verdana"/>
              </a:rPr>
              <a:t>Savings</a:t>
            </a:r>
            <a:endParaRPr b="0" lang="en-US" sz="4200" spc="-1" strike="noStrike">
              <a:solidFill>
                <a:srgbClr val="3333cc"/>
              </a:solidFill>
              <a:latin typeface="Verdan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0600" y="2990880"/>
          <a:ext cx="6877080" cy="36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990880"/>
                    <a:ext cx="6877080" cy="36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447920"/>
            <a:ext cx="7086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Typical APU emissions per turnaround (kg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Adolfo García Serrano</cp:lastModifiedBy>
  <cp:lastPrinted>2002-05-17T11:40:43Z</cp:lastPrinted>
  <dcterms:modified xsi:type="dcterms:W3CDTF">2002-05-17T11:45:28Z</dcterms:modified>
  <cp:revision>65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0800.00000000</vt:lpwstr>
  </property>
  <property fmtid="{D5CDD505-2E9C-101B-9397-08002B2CF9AE}" pid="5" name="Year">
    <vt:lpwstr>2002</vt:lpwstr>
  </property>
</Properties>
</file>