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31FF-8239-43A4-85A9-8EAAE821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1B9-CA66-4494-A9E8-717B9E2B1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EC5-DA94-4003-9BC6-31982277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9716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4184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75248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9716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4184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C1D0-EA88-4BEF-9E89-7666DF61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83C-EC63-43C2-BCBB-47DF0952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49B3-3EF1-4F5F-A51E-296BA170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6CB1-96D9-4491-8CCA-BED80DB1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4058-FD1E-40E1-AB42-740C9BC1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2ED-8F9C-40B4-A897-981C83FD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F3B-7DF0-4AB6-B50B-01250D56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BB4A-35B0-48CA-A415-418AF796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4713-17D0-4CC4-B001-466577B1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package" Target="../embeddings/oleObject4.docx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521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600" spc="-1" strike="noStrike">
                <a:solidFill>
                  <a:srgbClr val="3333c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Air Traffic Management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Madrid 21-22 May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9F25-92D2-44C1-AECA-26B4B7BF51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3276720"/>
          <a:ext cx="1676520" cy="137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76720"/>
                    <a:ext cx="1676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0" y="1371600"/>
          <a:ext cx="1676520" cy="1392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371600"/>
                    <a:ext cx="16765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9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799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7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74960" indent="-219240">
              <a:spcBef>
                <a:spcPts val="799"/>
              </a:spcBef>
              <a:buClr>
                <a:srgbClr val="ff66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6765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380880" y="152280"/>
          <a:ext cx="960480" cy="1067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152280"/>
                    <a:ext cx="9604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" name="" descr=""/>
          <p:cNvPicPr/>
          <p:nvPr/>
        </p:nvPicPr>
        <p:blipFill>
          <a:blip r:embed="rId8"/>
          <a:stretch/>
        </p:blipFill>
        <p:spPr>
          <a:xfrm>
            <a:off x="0" y="6058080"/>
            <a:ext cx="838080" cy="79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" name=""/>
          <p:cNvGraphicFramePr/>
          <p:nvPr/>
        </p:nvGraphicFramePr>
        <p:xfrm>
          <a:off x="838080" y="6172200"/>
          <a:ext cx="762120" cy="5335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6172200"/>
                    <a:ext cx="762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" name="ICAO%20logo%20blue%20CMYK" descr=""/>
          <p:cNvPicPr/>
          <p:nvPr/>
        </p:nvPicPr>
        <p:blipFill>
          <a:blip r:embed="rId11"/>
          <a:stretch/>
        </p:blipFill>
        <p:spPr>
          <a:xfrm>
            <a:off x="304920" y="5043600"/>
            <a:ext cx="99036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VIATION OPERATIONAL MEASURES FOR FUEL AND EMISSIONS REDUCTION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Verdana"/>
              </a:rPr>
              <a:t>Air Traffic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Verdana"/>
              </a:rPr>
              <a:t>Pan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Verdana"/>
              </a:rPr>
              <a:t>Benefits of fleet modernisa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676520" y="1371600"/>
          <a:ext cx="639108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71600"/>
                    <a:ext cx="63910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Verdana"/>
              </a:rPr>
              <a:t>Additional benefits from CNS/ATM?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676520" y="1371600"/>
          <a:ext cx="639108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371600"/>
                    <a:ext cx="639108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08:15:14Z</dcterms:created>
  <dc:creator>Martin Eran-Tasker</dc:creator>
  <dc:description/>
  <dc:language>en-US</dc:language>
  <cp:lastModifiedBy>ell</cp:lastModifiedBy>
  <cp:lastPrinted>2002-05-17T12:42:49Z</cp:lastPrinted>
  <dcterms:modified xsi:type="dcterms:W3CDTF">2002-05-21T08:11:18Z</dcterms:modified>
  <cp:revision>69</cp:revision>
  <dc:subject/>
  <dc:title>Workshop on the Aviation Operational Measures for Fuel and Emissions Re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50700.00000000</vt:lpwstr>
  </property>
  <property fmtid="{D5CDD505-2E9C-101B-9397-08002B2CF9AE}" pid="5" name="Year">
    <vt:lpwstr>2002</vt:lpwstr>
  </property>
</Properties>
</file>