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739A-0BA8-4000-A8E2-B3875235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C2F5-4E75-4908-B1C9-EC78D411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4D80-B70F-409F-A73E-3EBCA360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F4B9-91AC-4638-BBFA-78B2340B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A6ED-9FC2-4DD3-9E09-98454036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0D27-384B-4ACB-815A-AE9C0ED5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3F8F-E843-40AF-97B5-0C5328D9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F1B-0DA8-4331-9F66-4FC9A539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5D1-0B04-4D81-A2EA-D97F5462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E845-CA06-4298-B6F6-1B448848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7EBA-535F-4EE5-859F-F5FE3F61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2A7A-71CB-42EF-B34A-07328998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58D1-095F-4375-8A5C-9D9E2F7FF2F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4572000" y="1828800"/>
            <a:ext cx="4572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4572000" y="1828800"/>
            <a:ext cx="4572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7308720" y="189000"/>
          <a:ext cx="1648080" cy="79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08720" y="189000"/>
                    <a:ext cx="164808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" name=""/>
          <p:cNvGraphicFramePr/>
          <p:nvPr/>
        </p:nvGraphicFramePr>
        <p:xfrm>
          <a:off x="7308720" y="189000"/>
          <a:ext cx="1648080" cy="790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08720" y="189000"/>
                    <a:ext cx="164808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Arial"/>
              </a:rPr>
              <a:t>El Programa de Incursiones en Pista en Mas Air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58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iudad de México, Octubre de 200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0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Modificaciones a Procedimiento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petir autorizaciones en español dentro de la cabina en voz al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olicitud de autorización de cruce de pista en EEUU a pesar del FAR 91.1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Briefing completo de rodaje de salida y llegada como procedimiento estánd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Uso de luces al cruzar o mantener en pis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476360" y="-27000"/>
            <a:ext cx="11449080" cy="69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0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ejor conciencia situacional de los pilo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Buena respuesta e Interés en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utoridades Aeronáuticas satisfech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fuerzo de los pilotos por mejorar su nivel de ing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69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Arial"/>
              </a:rPr>
              <a:t>Proyectos Futuro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ntinuar con la modificación / mejora de procedimientos de tripul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isponibilidad de CD para auto estud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Formación de mas instruct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ntinuar con actualización de instructores (seminarios, conferencias, cursos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7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Arial"/>
              </a:rPr>
              <a:t>Acciones Complementaria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articipación formal con diversos grupos de seguridad de la indust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cercamiento a fabricantes de equipos para aviones sobre nueva tecnolog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4000" y="5986080"/>
            <a:ext cx="85327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Muchas Graci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254160" y="-27000"/>
            <a:ext cx="10730160" cy="60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466560"/>
            <a:ext cx="6472080" cy="598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Humnst777 BT"/>
              </a:rPr>
              <a:t>Mas Air</a:t>
            </a:r>
            <a:br>
              <a:rPr sz="4000"/>
            </a:br>
            <a:r>
              <a:rPr b="1" i="1" lang="es-MX" sz="2800" spc="-1" strike="noStrike">
                <a:solidFill>
                  <a:srgbClr val="ffffff"/>
                </a:solidFill>
                <a:latin typeface="Humnst777 BT"/>
              </a:rPr>
              <a:t>(Aerotransportes Mas de Carga S.A. de C.V.)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Humnst777 BT"/>
              </a:rPr>
              <a:t>Fundada en 19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Humnst777 BT"/>
              </a:rPr>
              <a:t>1er vuelo Abril 19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Humnst777 BT"/>
              </a:rPr>
              <a:t>Inicio con un B-707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Humnst777 BT"/>
              </a:rPr>
              <a:t>ruta MEX-MIA, 2 veces a la sem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Humnst777 BT"/>
              </a:rPr>
              <a:t>5 pilotos, 18 emple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Humnst777 BT"/>
              </a:rPr>
              <a:t>Pocos recursos, pero una gran motivación del pers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Humnst777 BT"/>
              </a:rPr>
              <a:t>Entorno sumamente complic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08000" y="115920"/>
            <a:ext cx="9360000" cy="64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0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Humnst777 BT"/>
              </a:rPr>
              <a:t>Mas Air Ho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920" y="1699920"/>
            <a:ext cx="94680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Humnst777 BT"/>
              </a:rPr>
              <a:t>170 emplead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Humnst777 BT"/>
              </a:rPr>
              <a:t>Rutas Regulares en Norte, Centro y Sudaméric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Humnst777 BT"/>
              </a:rPr>
              <a:t>Flo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Humnst777 BT"/>
              </a:rPr>
              <a:t>2 DC-8-71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Humnst777 BT"/>
              </a:rPr>
              <a:t>1 B-767-300F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Humnst777 BT"/>
              </a:rPr>
              <a:t>66,000 Toneladas de carga movidas en 200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Humnst777 BT"/>
              </a:rPr>
              <a:t>No. 1 en participación de mercado Importación / Exportación  de México en los últimos 5 añ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Humnst777 BT"/>
              </a:rPr>
              <a:t>De las primeras Líneas Aéreas del mundo en implementar un programa ALAR formalment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Humnst777 BT"/>
              </a:rPr>
              <a:t>Primera Aerolínea en Latinoamérica en estar certificada ISO-9000 en todas sus áreas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0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Arial"/>
              </a:rPr>
              <a:t>Razones del Programa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nciencia de Alto numero de incursiones en pista en el mu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cercamiento y preocupación de las autoridades en el t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Necesidad de entrenar a los pilotos en operaciones de rodaje en condiciones de baja visibi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0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Arial"/>
              </a:rPr>
              <a:t>Inicio del Programa en Mas Air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sistencia a seminarios regionales en los EEU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Formación de un instructor con preparación en el t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Obtención de información: material escrito y vide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misión de boletín interno con recomendaciones inici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0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Arial"/>
              </a:rPr>
              <a:t>El programa en Mas Air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xámenes de inglés al ingreso y completos de competencia (TOEFL o Michigan) en ascen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rocedimientos actualiz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ursos anuales a todos los pilo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osters en sala pilotos actualizados con puntos críticos incursiones de pista (LA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0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Arial"/>
              </a:rPr>
              <a:t>El curso para Piloto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1280" y="1968480"/>
            <a:ext cx="860436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Humnst777 BT"/>
              </a:rPr>
              <a:t>Periodicidad: An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Humnst777 BT"/>
              </a:rPr>
              <a:t>Duración: 8 horas (un día comple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Humnst777 BT"/>
              </a:rPr>
              <a:t>Curso orig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Humnst777 BT"/>
              </a:rPr>
              <a:t>Presentaciones PowerPoint elaboradas intern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Humnst777 BT"/>
              </a:rPr>
              <a:t>Curso Nue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Humnst777 BT"/>
              </a:rPr>
              <a:t>Basado en el CD IATA/FAA desde el año pas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Humnst777 BT"/>
              </a:rPr>
              <a:t>Vid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Humnst777 BT"/>
              </a:rPr>
              <a:t>Material impreso para pilo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Humnst777 BT"/>
              </a:rPr>
              <a:t>prontuario de señalización estándar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Humnst777 BT"/>
              </a:rPr>
              <a:t>estadística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Humnst777 BT"/>
              </a:rPr>
              <a:t>Procedimientos operaciones en tierra con baja vis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Humnst777 BT"/>
              </a:rPr>
              <a:t>Retroalimentación con comentarios y experi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Humnst777 BT"/>
              </a:rPr>
              <a:t>Evaluación final escrita (no reprobator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4T00:56:56Z</dcterms:created>
  <dc:creator>Andres Fabre</dc:creator>
  <dc:description/>
  <dc:language>en-US</dc:language>
  <cp:lastModifiedBy>ICAO</cp:lastModifiedBy>
  <dcterms:modified xsi:type="dcterms:W3CDTF">2002-10-24T16:09:08Z</dcterms:modified>
  <cp:revision>10</cp:revision>
  <dc:subject/>
  <dc:title>ICAO NAM/CAR/SAM Runway Safety/Incursion Confer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389100.00000000</vt:lpwstr>
  </property>
  <property fmtid="{D5CDD505-2E9C-101B-9397-08002B2CF9AE}" pid="5" name="Year">
    <vt:lpwstr>2002</vt:lpwstr>
  </property>
</Properties>
</file>