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ACA-A07C-4B0E-8BCF-D84864F0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63F-8306-4920-AECC-CFB742F3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3AC7-2FB9-4F55-9164-FE6D3F132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52B4-2C38-4E7B-AA7A-6779A0B4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5146-C2E2-4D27-AF56-1C60C722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FA59-2B42-4D91-A0CF-E2CDD6A4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4CFE-0C3E-4D7F-9A4D-688BB08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6E1-B2FD-4E2B-B3D3-2F9F9811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9ED0-C9CD-42AF-BB1A-02EC274E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568-2332-480B-AEE4-49E6563D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906C-B342-4EDF-9C5B-67302837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D25D-B266-4014-A1EB-7AE73AD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983A1-351A-4015-BAFE-60349FD5EDE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0" y="1828800"/>
            <a:ext cx="4572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572000" y="1828800"/>
            <a:ext cx="457200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308720" y="189000"/>
          <a:ext cx="164808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189000"/>
                    <a:ext cx="1648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" name=""/>
          <p:cNvGraphicFramePr/>
          <p:nvPr/>
        </p:nvGraphicFramePr>
        <p:xfrm>
          <a:off x="7308720" y="189000"/>
          <a:ext cx="1648080" cy="7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08720" y="189000"/>
                    <a:ext cx="1648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Programa de Incursiones en Pista en Mas Ai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58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iudad de México, Octubre de 200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ffffff"/>
                </a:solidFill>
                <a:latin typeface="Arial"/>
              </a:rPr>
              <a:t>Modificaciones a Procedimientos</a:t>
            </a:r>
            <a:endParaRPr b="1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petir autorizaciones en español dentro de la cabina en voz al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olicitud de autorización de cruce de pista en EEUU a pesar del FAR 91.1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riefing completo de rodaje de salida y llegada como procedimiento estánd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Uso de luces al cruzar o mantener en pis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1476360" y="-27000"/>
            <a:ext cx="1144908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ejor conciencia situacional de los pil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uena respuesta e Interés e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utoridades Aeronáuticas satisfech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fuerzo de los pilotos por mejorar su nivel de ing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180360" cy="69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Proyectos Futuro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ar con la modificación / mejora de procedimientos de tripu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isponibilidad de CD para auto estud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ormación de mas instructo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tinuar con actualización de instructores (seminarios, conferencias, cursos, et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Acciones Complementaria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articipación formal con diversos grupos de seguridad de la indust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ercamiento a fabricantes de equipos para aviones sobre nueva tecnolo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24000" y="5986080"/>
            <a:ext cx="85327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254160" y="-27000"/>
            <a:ext cx="10730160" cy="60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466560"/>
            <a:ext cx="6472080" cy="598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Humnst777 BT"/>
              </a:rPr>
              <a:t>Mas Air</a:t>
            </a:r>
            <a:br>
              <a:rPr sz="4000"/>
            </a:br>
            <a:r>
              <a:rPr b="1" i="1" lang="es-MX" sz="2800" spc="-1" strike="noStrike">
                <a:solidFill>
                  <a:srgbClr val="ffffff"/>
                </a:solidFill>
                <a:latin typeface="Humnst777 BT"/>
              </a:rPr>
              <a:t>(Aerotransportes Mas de Carga S.A. de C.V.)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Fundada en 19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1er vuelo Abril 199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Inicio con un B-707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ruta MEX-MIA, 2 veces a la sem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5 pilotos, 18 emple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Pocos recursos, pero una gran motivación del pers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Humnst777 BT"/>
              </a:rPr>
              <a:t>Entorno sumamente compli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08000" y="115920"/>
            <a:ext cx="93600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Humnst777 BT"/>
              </a:rPr>
              <a:t>Mas Air Ho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000" y="1906200"/>
            <a:ext cx="813420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170 emple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66,000 Toneladas de carga movidas en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No. 1 en participación de mercado Importación / Exportación  de México en los últimos 5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Rutas Regulares en Norte, Centro y Sudamér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Flo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2 DC-8-71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1 B-767-300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De las primeras Líneas Aéreas del mundo en implementar un programa ALAR formalm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Humnst777 BT"/>
              </a:rPr>
              <a:t>Primera Aerolínea en Latinoamérica en estar certificada ISO-9000 en todas sus áre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Razones del Programa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onciencia de Alto numero de incursiones en pista en el mu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ercamiento y preocupación de las autoridades en el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ecesidad de entrenar a los pilotos en operaciones de rodaje en condiciones de baja visibi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Inicio del Programa en Mas Ai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sistencia a seminarios regionales en los EEU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Formación de un instructor con preparación en el t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tención de información: material escrito y vide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misión de boletín interno con recomendaciones inici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programa en Mas Air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xámenes de inglés al ingreso y completos de competencia (TOEFL o Michigan) en ascen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rocedimientos actualiz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ursos anuales a todos los pilo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ters en sala pilotos actualizados con puntos críticos incursiones de pista (LAX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1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Arial"/>
              </a:rPr>
              <a:t>El curso para Pilotos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280" y="1968480"/>
            <a:ext cx="860436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Periodicidad: An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Duración: 8 horas (un día complet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Curso ori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Presentaciones PowerPoint elaboradas intern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Curso Nue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Basado en el CD IATA/FAA desde el año pas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Material impreso para pil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prontuario de señalización estándar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Humnst777 BT"/>
              </a:rPr>
              <a:t>estadística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Procedimientos operaciones en tierra con baja vis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Retroalimentación con comentarios y experi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Humnst777 BT"/>
              </a:rPr>
              <a:t>Evaluación final escrita (no reprobator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4T00:56:56Z</dcterms:created>
  <dc:creator>Andres Fabre</dc:creator>
  <dc:description/>
  <dc:language>en-US</dc:language>
  <cp:lastModifiedBy>Claudia Lopez</cp:lastModifiedBy>
  <dcterms:modified xsi:type="dcterms:W3CDTF">2002-10-18T13:15:07Z</dcterms:modified>
  <cp:revision>9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9000.00000000</vt:lpwstr>
  </property>
  <property fmtid="{D5CDD505-2E9C-101B-9397-08002B2CF9AE}" pid="5" name="Year">
    <vt:lpwstr>2002</vt:lpwstr>
  </property>
</Properties>
</file>