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11.wmf" ContentType="image/x-wmf"/>
  <Override PartName="/ppt/media/image35.wmf" ContentType="image/x-wmf"/>
  <Override PartName="/ppt/media/image12.wmf" ContentType="image/x-wmf"/>
  <Override PartName="/ppt/media/image36.wmf" ContentType="image/x-wmf"/>
  <Override PartName="/ppt/media/image7.wmf" ContentType="image/x-wmf"/>
  <Override PartName="/ppt/media/image3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83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302600" y="6311880"/>
            <a:ext cx="1600200" cy="4809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9c78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b99b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b99b"/>
              </a:buClr>
              <a:buSzPct val="5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248520" y="5867280"/>
            <a:ext cx="2895480" cy="990720"/>
          </a:xfrm>
          <a:prstGeom prst="rect">
            <a:avLst/>
          </a:prstGeom>
          <a:solidFill>
            <a:srgbClr val="003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53080" y="6019920"/>
            <a:ext cx="2438640" cy="733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2971800"/>
            <a:ext cx="9144000" cy="2571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297180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b99b"/>
              </a:buClr>
              <a:buSzPct val="6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b99b"/>
              </a:buClr>
              <a:buSzPct val="55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6.wmf"/><Relationship Id="rId4" Type="http://schemas.openxmlformats.org/officeDocument/2006/relationships/image" Target="../media/image24.wmf"/><Relationship Id="rId5" Type="http://schemas.openxmlformats.org/officeDocument/2006/relationships/image" Target="../media/image23.wmf"/><Relationship Id="rId6" Type="http://schemas.openxmlformats.org/officeDocument/2006/relationships/image" Target="../media/image22.wmf"/><Relationship Id="rId7" Type="http://schemas.openxmlformats.org/officeDocument/2006/relationships/image" Target="../media/image21.wmf"/><Relationship Id="rId8" Type="http://schemas.openxmlformats.org/officeDocument/2006/relationships/image" Target="../media/image20.wmf"/><Relationship Id="rId9" Type="http://schemas.openxmlformats.org/officeDocument/2006/relationships/image" Target="../media/image19.wmf"/><Relationship Id="rId10" Type="http://schemas.openxmlformats.org/officeDocument/2006/relationships/image" Target="../media/image18.wmf"/><Relationship Id="rId11" Type="http://schemas.openxmlformats.org/officeDocument/2006/relationships/image" Target="../media/image17.wmf"/><Relationship Id="rId12" Type="http://schemas.openxmlformats.org/officeDocument/2006/relationships/image" Target="../media/image16.wmf"/><Relationship Id="rId13" Type="http://schemas.openxmlformats.org/officeDocument/2006/relationships/image" Target="../media/image15.wmf"/><Relationship Id="rId14" Type="http://schemas.openxmlformats.org/officeDocument/2006/relationships/image" Target="../media/image14.wmf"/><Relationship Id="rId15" Type="http://schemas.openxmlformats.org/officeDocument/2006/relationships/image" Target="../media/image28.wmf"/><Relationship Id="rId16" Type="http://schemas.openxmlformats.org/officeDocument/2006/relationships/image" Target="../media/image28.wmf"/><Relationship Id="rId17" Type="http://schemas.openxmlformats.org/officeDocument/2006/relationships/image" Target="../media/image28.wmf"/><Relationship Id="rId18" Type="http://schemas.openxmlformats.org/officeDocument/2006/relationships/image" Target="../media/image28.wmf"/><Relationship Id="rId19" Type="http://schemas.openxmlformats.org/officeDocument/2006/relationships/image" Target="../media/image28.wmf"/><Relationship Id="rId2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8.wmf"/><Relationship Id="rId12" Type="http://schemas.openxmlformats.org/officeDocument/2006/relationships/image" Target="../media/image28.wmf"/><Relationship Id="rId13" Type="http://schemas.openxmlformats.org/officeDocument/2006/relationships/image" Target="../media/image28.wmf"/><Relationship Id="rId14" Type="http://schemas.openxmlformats.org/officeDocument/2006/relationships/image" Target="../media/image28.wmf"/><Relationship Id="rId15" Type="http://schemas.openxmlformats.org/officeDocument/2006/relationships/image" Target="../media/image28.wmf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8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9.wmf"/><Relationship Id="rId13" Type="http://schemas.openxmlformats.org/officeDocument/2006/relationships/image" Target="../media/image29.wmf"/><Relationship Id="rId14" Type="http://schemas.openxmlformats.org/officeDocument/2006/relationships/image" Target="../media/image29.wmf"/><Relationship Id="rId15" Type="http://schemas.openxmlformats.org/officeDocument/2006/relationships/image" Target="../media/image29.wmf"/><Relationship Id="rId16" Type="http://schemas.openxmlformats.org/officeDocument/2006/relationships/image" Target="../media/image29.wmf"/><Relationship Id="rId17" Type="http://schemas.openxmlformats.org/officeDocument/2006/relationships/image" Target="../media/image29.wmf"/><Relationship Id="rId18" Type="http://schemas.openxmlformats.org/officeDocument/2006/relationships/image" Target="../media/image29.wmf"/><Relationship Id="rId19" Type="http://schemas.openxmlformats.org/officeDocument/2006/relationships/image" Target="../media/image29.wmf"/><Relationship Id="rId20" Type="http://schemas.openxmlformats.org/officeDocument/2006/relationships/image" Target="../media/image22.wmf"/><Relationship Id="rId21" Type="http://schemas.openxmlformats.org/officeDocument/2006/relationships/image" Target="../media/image21.wmf"/><Relationship Id="rId22" Type="http://schemas.openxmlformats.org/officeDocument/2006/relationships/image" Target="../media/image20.wmf"/><Relationship Id="rId23" Type="http://schemas.openxmlformats.org/officeDocument/2006/relationships/image" Target="../media/image18.wmf"/><Relationship Id="rId24" Type="http://schemas.openxmlformats.org/officeDocument/2006/relationships/image" Target="../media/image17.wmf"/><Relationship Id="rId25" Type="http://schemas.openxmlformats.org/officeDocument/2006/relationships/image" Target="../media/image16.wmf"/><Relationship Id="rId26" Type="http://schemas.openxmlformats.org/officeDocument/2006/relationships/image" Target="../media/image14.wmf"/><Relationship Id="rId27" Type="http://schemas.openxmlformats.org/officeDocument/2006/relationships/image" Target="../media/image28.wmf"/><Relationship Id="rId28" Type="http://schemas.openxmlformats.org/officeDocument/2006/relationships/image" Target="../media/image28.wmf"/><Relationship Id="rId29" Type="http://schemas.openxmlformats.org/officeDocument/2006/relationships/image" Target="../media/image28.wmf"/><Relationship Id="rId30" Type="http://schemas.openxmlformats.org/officeDocument/2006/relationships/image" Target="../media/image28.wmf"/><Relationship Id="rId31" Type="http://schemas.openxmlformats.org/officeDocument/2006/relationships/image" Target="../media/image28.wmf"/><Relationship Id="rId32" Type="http://schemas.openxmlformats.org/officeDocument/2006/relationships/image" Target="../media/image28.wmf"/><Relationship Id="rId33" Type="http://schemas.openxmlformats.org/officeDocument/2006/relationships/image" Target="../media/image28.wmf"/><Relationship Id="rId34" Type="http://schemas.openxmlformats.org/officeDocument/2006/relationships/image" Target="../media/image28.wmf"/><Relationship Id="rId35" Type="http://schemas.openxmlformats.org/officeDocument/2006/relationships/image" Target="../media/image30.wmf"/><Relationship Id="rId3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8.wmf"/><Relationship Id="rId4" Type="http://schemas.openxmlformats.org/officeDocument/2006/relationships/image" Target="../media/image12.wmf"/><Relationship Id="rId5" Type="http://schemas.openxmlformats.org/officeDocument/2006/relationships/image" Target="../media/image11.wmf"/><Relationship Id="rId6" Type="http://schemas.openxmlformats.org/officeDocument/2006/relationships/image" Target="../media/image10.wmf"/><Relationship Id="rId7" Type="http://schemas.openxmlformats.org/officeDocument/2006/relationships/image" Target="../media/image9.wmf"/><Relationship Id="rId8" Type="http://schemas.openxmlformats.org/officeDocument/2006/relationships/image" Target="../media/image8.wmf"/><Relationship Id="rId9" Type="http://schemas.openxmlformats.org/officeDocument/2006/relationships/image" Target="../media/image7.wmf"/><Relationship Id="rId10" Type="http://schemas.openxmlformats.org/officeDocument/2006/relationships/image" Target="../media/image31.wmf"/><Relationship Id="rId11" Type="http://schemas.openxmlformats.org/officeDocument/2006/relationships/image" Target="../media/image32.wmf"/><Relationship Id="rId12" Type="http://schemas.openxmlformats.org/officeDocument/2006/relationships/image" Target="../media/image32.wmf"/><Relationship Id="rId13" Type="http://schemas.openxmlformats.org/officeDocument/2006/relationships/image" Target="../media/image32.wmf"/><Relationship Id="rId14" Type="http://schemas.openxmlformats.org/officeDocument/2006/relationships/image" Target="../media/image32.wmf"/><Relationship Id="rId15" Type="http://schemas.openxmlformats.org/officeDocument/2006/relationships/image" Target="../media/image32.wmf"/><Relationship Id="rId16" Type="http://schemas.openxmlformats.org/officeDocument/2006/relationships/image" Target="../media/image32.wmf"/><Relationship Id="rId17" Type="http://schemas.openxmlformats.org/officeDocument/2006/relationships/image" Target="../media/image32.wmf"/><Relationship Id="rId18" Type="http://schemas.openxmlformats.org/officeDocument/2006/relationships/image" Target="../media/image32.wmf"/><Relationship Id="rId19" Type="http://schemas.openxmlformats.org/officeDocument/2006/relationships/image" Target="../media/image32.wmf"/><Relationship Id="rId20" Type="http://schemas.openxmlformats.org/officeDocument/2006/relationships/image" Target="../media/image33.wmf"/><Relationship Id="rId21" Type="http://schemas.openxmlformats.org/officeDocument/2006/relationships/image" Target="../media/image34.wmf"/><Relationship Id="rId22" Type="http://schemas.openxmlformats.org/officeDocument/2006/relationships/image" Target="../media/image35.wmf"/><Relationship Id="rId23" Type="http://schemas.openxmlformats.org/officeDocument/2006/relationships/image" Target="../media/image36.wmf"/><Relationship Id="rId24" Type="http://schemas.openxmlformats.org/officeDocument/2006/relationships/image" Target="../media/image37.wmf"/><Relationship Id="rId25" Type="http://schemas.openxmlformats.org/officeDocument/2006/relationships/image" Target="../media/image38.wmf"/><Relationship Id="rId26" Type="http://schemas.openxmlformats.org/officeDocument/2006/relationships/image" Target="../media/image39.wmf"/><Relationship Id="rId27" Type="http://schemas.openxmlformats.org/officeDocument/2006/relationships/image" Target="../media/image39.wmf"/><Relationship Id="rId28" Type="http://schemas.openxmlformats.org/officeDocument/2006/relationships/image" Target="../media/image39.wmf"/><Relationship Id="rId29" Type="http://schemas.openxmlformats.org/officeDocument/2006/relationships/image" Target="../media/image39.wmf"/><Relationship Id="rId3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image" Target="../media/image16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9.wmf"/><Relationship Id="rId16" Type="http://schemas.openxmlformats.org/officeDocument/2006/relationships/image" Target="../media/image20.wmf"/><Relationship Id="rId17" Type="http://schemas.openxmlformats.org/officeDocument/2006/relationships/image" Target="../media/image21.wmf"/><Relationship Id="rId18" Type="http://schemas.openxmlformats.org/officeDocument/2006/relationships/image" Target="../media/image22.wmf"/><Relationship Id="rId19" Type="http://schemas.openxmlformats.org/officeDocument/2006/relationships/image" Target="../media/image23.wmf"/><Relationship Id="rId20" Type="http://schemas.openxmlformats.org/officeDocument/2006/relationships/image" Target="../media/image24.wmf"/><Relationship Id="rId21" Type="http://schemas.openxmlformats.org/officeDocument/2006/relationships/image" Target="../media/image25.wmf"/><Relationship Id="rId22" Type="http://schemas.openxmlformats.org/officeDocument/2006/relationships/image" Target="../media/image26.wmf"/><Relationship Id="rId23" Type="http://schemas.openxmlformats.org/officeDocument/2006/relationships/image" Target="../media/image26.wmf"/><Relationship Id="rId24" Type="http://schemas.openxmlformats.org/officeDocument/2006/relationships/image" Target="../media/image26.wmf"/><Relationship Id="rId25" Type="http://schemas.openxmlformats.org/officeDocument/2006/relationships/image" Target="../media/image26.wmf"/><Relationship Id="rId26" Type="http://schemas.openxmlformats.org/officeDocument/2006/relationships/image" Target="../media/image26.wmf"/><Relationship Id="rId27" Type="http://schemas.openxmlformats.org/officeDocument/2006/relationships/image" Target="../media/image26.wmf"/><Relationship Id="rId28" Type="http://schemas.openxmlformats.org/officeDocument/2006/relationships/image" Target="../media/image26.wmf"/><Relationship Id="rId29" Type="http://schemas.openxmlformats.org/officeDocument/2006/relationships/image" Target="../media/image26.wmf"/><Relationship Id="rId30" Type="http://schemas.openxmlformats.org/officeDocument/2006/relationships/image" Target="../media/image26.wmf"/><Relationship Id="rId31" Type="http://schemas.openxmlformats.org/officeDocument/2006/relationships/image" Target="../media/image26.wmf"/><Relationship Id="rId32" Type="http://schemas.openxmlformats.org/officeDocument/2006/relationships/image" Target="../media/image26.wmf"/><Relationship Id="rId33" Type="http://schemas.openxmlformats.org/officeDocument/2006/relationships/image" Target="../media/image26.wmf"/><Relationship Id="rId34" Type="http://schemas.openxmlformats.org/officeDocument/2006/relationships/image" Target="../media/image26.wmf"/><Relationship Id="rId35" Type="http://schemas.openxmlformats.org/officeDocument/2006/relationships/image" Target="../media/image26.wmf"/><Relationship Id="rId36" Type="http://schemas.openxmlformats.org/officeDocument/2006/relationships/image" Target="../media/image26.wmf"/><Relationship Id="rId37" Type="http://schemas.openxmlformats.org/officeDocument/2006/relationships/image" Target="../media/image26.wmf"/><Relationship Id="rId38" Type="http://schemas.openxmlformats.org/officeDocument/2006/relationships/image" Target="../media/image26.wmf"/><Relationship Id="rId39" Type="http://schemas.openxmlformats.org/officeDocument/2006/relationships/image" Target="../media/image26.wmf"/><Relationship Id="rId40" Type="http://schemas.openxmlformats.org/officeDocument/2006/relationships/image" Target="../media/image26.wmf"/><Relationship Id="rId41" Type="http://schemas.openxmlformats.org/officeDocument/2006/relationships/image" Target="../media/image26.wmf"/><Relationship Id="rId42" Type="http://schemas.openxmlformats.org/officeDocument/2006/relationships/image" Target="../media/image26.wmf"/><Relationship Id="rId43" Type="http://schemas.openxmlformats.org/officeDocument/2006/relationships/image" Target="../media/image26.wmf"/><Relationship Id="rId44" Type="http://schemas.openxmlformats.org/officeDocument/2006/relationships/image" Target="../media/image26.wmf"/><Relationship Id="rId45" Type="http://schemas.openxmlformats.org/officeDocument/2006/relationships/image" Target="../media/image27.wmf"/><Relationship Id="rId46" Type="http://schemas.openxmlformats.org/officeDocument/2006/relationships/image" Target="../media/image27.wmf"/><Relationship Id="rId47" Type="http://schemas.openxmlformats.org/officeDocument/2006/relationships/image" Target="../media/image26.wmf"/><Relationship Id="rId48" Type="http://schemas.openxmlformats.org/officeDocument/2006/relationships/image" Target="../media/image26.wmf"/><Relationship Id="rId49" Type="http://schemas.openxmlformats.org/officeDocument/2006/relationships/image" Target="../media/image26.wmf"/><Relationship Id="rId50" Type="http://schemas.openxmlformats.org/officeDocument/2006/relationships/image" Target="../media/image26.wmf"/><Relationship Id="rId51" Type="http://schemas.openxmlformats.org/officeDocument/2006/relationships/image" Target="../media/image26.wmf"/><Relationship Id="rId52" Type="http://schemas.openxmlformats.org/officeDocument/2006/relationships/image" Target="../media/image26.wmf"/><Relationship Id="rId53" Type="http://schemas.openxmlformats.org/officeDocument/2006/relationships/image" Target="../media/image26.wmf"/><Relationship Id="rId54" Type="http://schemas.openxmlformats.org/officeDocument/2006/relationships/image" Target="../media/image26.wmf"/><Relationship Id="rId55" Type="http://schemas.openxmlformats.org/officeDocument/2006/relationships/image" Target="../media/image26.wmf"/><Relationship Id="rId56" Type="http://schemas.openxmlformats.org/officeDocument/2006/relationships/image" Target="../media/image26.wmf"/><Relationship Id="rId57" Type="http://schemas.openxmlformats.org/officeDocument/2006/relationships/image" Target="../media/image26.wmf"/><Relationship Id="rId58" Type="http://schemas.openxmlformats.org/officeDocument/2006/relationships/image" Target="../media/image26.wmf"/><Relationship Id="rId59" Type="http://schemas.openxmlformats.org/officeDocument/2006/relationships/image" Target="../media/image26.wmf"/><Relationship Id="rId60" Type="http://schemas.openxmlformats.org/officeDocument/2006/relationships/image" Target="../media/image26.wmf"/><Relationship Id="rId6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79520" y="469440"/>
            <a:ext cx="808488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onferencia NAM / CAR / SAM sobre Seguridad e Incursiones en las Pis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22 al 25 de octubre del 200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79520" y="32068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ncursión de Pista en Las Veg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"/>
          <p:cNvGrpSpPr/>
          <p:nvPr/>
        </p:nvGrpSpPr>
        <p:grpSpPr>
          <a:xfrm>
            <a:off x="123840" y="185760"/>
            <a:ext cx="9020160" cy="6672240"/>
            <a:chOff x="123840" y="185760"/>
            <a:chExt cx="9020160" cy="6672240"/>
          </a:xfrm>
        </p:grpSpPr>
        <p:grpSp>
          <p:nvGrpSpPr>
            <p:cNvPr id="303" name=""/>
            <p:cNvGrpSpPr/>
            <p:nvPr/>
          </p:nvGrpSpPr>
          <p:grpSpPr>
            <a:xfrm>
              <a:off x="123840" y="185760"/>
              <a:ext cx="9020160" cy="6672240"/>
              <a:chOff x="123840" y="185760"/>
              <a:chExt cx="9020160" cy="6672240"/>
            </a:xfrm>
          </p:grpSpPr>
          <p:sp>
            <p:nvSpPr>
              <p:cNvPr id="304" name=""/>
              <p:cNvSpPr/>
              <p:nvPr/>
            </p:nvSpPr>
            <p:spPr>
              <a:xfrm>
                <a:off x="7086600" y="6248520"/>
                <a:ext cx="2057400" cy="609480"/>
              </a:xfrm>
              <a:prstGeom prst="rect">
                <a:avLst/>
              </a:prstGeom>
              <a:solidFill>
                <a:srgbClr val="0031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02600" y="6311880"/>
                <a:ext cx="1600200" cy="4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" y="208080"/>
                <a:ext cx="8820000" cy="603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07" name=""/>
              <p:cNvGrpSpPr/>
              <p:nvPr/>
            </p:nvGrpSpPr>
            <p:grpSpPr>
              <a:xfrm>
                <a:off x="795600" y="185760"/>
                <a:ext cx="8222400" cy="5691960"/>
                <a:chOff x="795600" y="185760"/>
                <a:chExt cx="8222400" cy="56919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569640" y="185760"/>
                  <a:ext cx="2448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Aeropuerto Int. McCarran, 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Las Vegas, Nevada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567240" y="817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357720" y="13320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795760" y="25322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605320" y="27417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2329200" y="26179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129040" y="25131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9560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28124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490840" y="46846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405080" y="5570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1738440" y="52941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557800" y="35701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167200" y="4427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3620880" y="48182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859200" y="478008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392360" y="477036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205520" y="49798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996240" y="49417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821120" y="47894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520040" y="495144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8431200" y="498960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034080" y="17892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2748240" y="16844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376720" y="15127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603880" y="417996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594080" y="418932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117800" y="414180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3308400" y="4065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629240" y="3943440"/>
                  <a:ext cx="88920" cy="88920"/>
                </a:xfrm>
                <a:prstGeom prst="rect">
                  <a:avLst/>
                </a:prstGeom>
                <a:solidFill>
                  <a:srgbClr val="00835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661280" y="386568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ffffff"/>
                      </a:solidFill>
                      <a:latin typeface="Arial"/>
                    </a:rPr>
                    <a:t>Torre de Control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9" name=""/>
            <p:cNvSpPr/>
            <p:nvPr/>
          </p:nvSpPr>
          <p:spPr>
            <a:xfrm>
              <a:off x="3619440" y="2274840"/>
              <a:ext cx="946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Internacio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490840" y="1216080"/>
            <a:ext cx="5581440" cy="3013200"/>
            <a:chOff x="2490840" y="1216080"/>
            <a:chExt cx="5581440" cy="3013200"/>
          </a:xfrm>
        </p:grpSpPr>
        <p:sp>
          <p:nvSpPr>
            <p:cNvPr id="341" name=""/>
            <p:cNvSpPr/>
            <p:nvPr/>
          </p:nvSpPr>
          <p:spPr>
            <a:xfrm>
              <a:off x="2490840" y="2919240"/>
              <a:ext cx="3971880" cy="1310040"/>
            </a:xfrm>
            <a:custGeom>
              <a:avLst/>
              <a:gdLst/>
              <a:ahLst/>
              <a:rect l="l" t="t" r="r" b="b"/>
              <a:pathLst>
                <a:path w="2502" h="825">
                  <a:moveTo>
                    <a:pt x="2502" y="0"/>
                  </a:moveTo>
                  <a:lnTo>
                    <a:pt x="0" y="825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26160" y="1216080"/>
              <a:ext cx="3246120" cy="1691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ee8d40"/>
                  </a:solidFill>
                  <a:latin typeface="Arial"/>
                </a:rPr>
                <a:t>Control Terrestre instruyó cambiar a Control de Rampa mucho antes  de llegar a la pista de carreteo WHISKY.</a:t>
              </a:r>
              <a:r>
                <a:rPr b="0" lang="es-MX" sz="1500" spc="-1" strike="noStrike">
                  <a:solidFill>
                    <a:srgbClr val="ffffff"/>
                  </a:solidFill>
                  <a:latin typeface="Arial"/>
                </a:rPr>
                <a:t>  Sin embargo a pesar de hacer contacto con Control de Rampa, los pilotos continuaron monitoreando ambas frecuencias.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166860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1670040" y="4684680"/>
            <a:ext cx="776160" cy="5526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5"/>
          <a:stretch/>
        </p:blipFill>
        <p:spPr>
          <a:xfrm>
            <a:off x="1681200" y="4722840"/>
            <a:ext cx="757080" cy="5349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6"/>
          <a:stretch/>
        </p:blipFill>
        <p:spPr>
          <a:xfrm>
            <a:off x="1706400" y="4746600"/>
            <a:ext cx="716040" cy="5032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7"/>
          <a:stretch/>
        </p:blipFill>
        <p:spPr>
          <a:xfrm>
            <a:off x="1743120" y="4689360"/>
            <a:ext cx="654120" cy="5763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8"/>
          <a:stretch/>
        </p:blipFill>
        <p:spPr>
          <a:xfrm>
            <a:off x="1793880" y="4635360"/>
            <a:ext cx="573120" cy="657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9"/>
          <a:stretch/>
        </p:blipFill>
        <p:spPr>
          <a:xfrm>
            <a:off x="1846440" y="4608360"/>
            <a:ext cx="502920" cy="71784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10"/>
          <a:stretch/>
        </p:blipFill>
        <p:spPr>
          <a:xfrm>
            <a:off x="1811160" y="4583160"/>
            <a:ext cx="535320" cy="7588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11"/>
          <a:stretch/>
        </p:blipFill>
        <p:spPr>
          <a:xfrm>
            <a:off x="1789200" y="4565520"/>
            <a:ext cx="552240" cy="77652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12"/>
          <a:stretch/>
        </p:blipFill>
        <p:spPr>
          <a:xfrm>
            <a:off x="1776240" y="4559400"/>
            <a:ext cx="559080" cy="77148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13"/>
          <a:stretch/>
        </p:blipFill>
        <p:spPr>
          <a:xfrm>
            <a:off x="1758960" y="4554360"/>
            <a:ext cx="552600" cy="7765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14"/>
          <a:stretch/>
        </p:blipFill>
        <p:spPr>
          <a:xfrm>
            <a:off x="1736640" y="4573440"/>
            <a:ext cx="534960" cy="7574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15"/>
          <a:stretch/>
        </p:blipFill>
        <p:spPr>
          <a:xfrm>
            <a:off x="1746360" y="453384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16"/>
          <a:stretch/>
        </p:blipFill>
        <p:spPr>
          <a:xfrm>
            <a:off x="1785960" y="444024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17"/>
          <a:stretch/>
        </p:blipFill>
        <p:spPr>
          <a:xfrm>
            <a:off x="1836720" y="433224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18"/>
          <a:stretch/>
        </p:blipFill>
        <p:spPr>
          <a:xfrm>
            <a:off x="1884240" y="4227480"/>
            <a:ext cx="524160" cy="743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19"/>
          <a:stretch/>
        </p:blipFill>
        <p:spPr>
          <a:xfrm>
            <a:off x="1935000" y="4121280"/>
            <a:ext cx="524160" cy="74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9" dur="1" fill="hold">
                                    <p:stCondLst>
                                      <p:cond evt="end">
                                        <p:tn val="417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evt="end">
                                        <p:tn val="421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7" dur="1" fill="hold">
                                    <p:stCondLst>
                                      <p:cond evt="end">
                                        <p:tn val="425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1" dur="1" fill="hold">
                                    <p:stCondLst>
                                      <p:cond evt="end">
                                        <p:tn val="4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5" dur="1" fill="hold">
                                    <p:stCondLst>
                                      <p:cond evt="end">
                                        <p:tn val="433"/>
                                      </p:cond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9" dur="1" fill="hold">
                                    <p:stCondLst>
                                      <p:cond evt="end">
                                        <p:tn val="437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3" dur="1" fill="hold">
                                    <p:stCondLst>
                                      <p:cond evt="end">
                                        <p:tn val="441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7" dur="1" fill="hold">
                                    <p:stCondLst>
                                      <p:cond evt="end">
                                        <p:tn val="445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evt="end">
                                        <p:tn val="449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9" dur="1" fill="hold">
                                    <p:stCondLst>
                                      <p:cond evt="end">
                                        <p:tn val="457"/>
                                      </p:cond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3" dur="1" fill="hold">
                                    <p:stCondLst>
                                      <p:cond evt="end">
                                        <p:tn val="461"/>
                                      </p:cond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evt="end">
                                        <p:tn val="465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7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1" dur="1" fill="hold">
                                    <p:stCondLst>
                                      <p:cond evt="end">
                                        <p:tn val="469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123840" y="185760"/>
            <a:ext cx="9020160" cy="6672240"/>
            <a:chOff x="123840" y="185760"/>
            <a:chExt cx="9020160" cy="6672240"/>
          </a:xfrm>
        </p:grpSpPr>
        <p:grpSp>
          <p:nvGrpSpPr>
            <p:cNvPr id="361" name=""/>
            <p:cNvGrpSpPr/>
            <p:nvPr/>
          </p:nvGrpSpPr>
          <p:grpSpPr>
            <a:xfrm>
              <a:off x="123840" y="185760"/>
              <a:ext cx="9020160" cy="6672240"/>
              <a:chOff x="123840" y="185760"/>
              <a:chExt cx="9020160" cy="6672240"/>
            </a:xfrm>
          </p:grpSpPr>
          <p:sp>
            <p:nvSpPr>
              <p:cNvPr id="362" name=""/>
              <p:cNvSpPr/>
              <p:nvPr/>
            </p:nvSpPr>
            <p:spPr>
              <a:xfrm>
                <a:off x="7086600" y="6248520"/>
                <a:ext cx="2057400" cy="609480"/>
              </a:xfrm>
              <a:prstGeom prst="rect">
                <a:avLst/>
              </a:prstGeom>
              <a:solidFill>
                <a:srgbClr val="0031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3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02600" y="6311880"/>
                <a:ext cx="1600200" cy="4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" y="208080"/>
                <a:ext cx="8820000" cy="603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5" name=""/>
              <p:cNvGrpSpPr/>
              <p:nvPr/>
            </p:nvGrpSpPr>
            <p:grpSpPr>
              <a:xfrm>
                <a:off x="795600" y="185760"/>
                <a:ext cx="8222400" cy="5691960"/>
                <a:chOff x="795600" y="185760"/>
                <a:chExt cx="8222400" cy="569196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569640" y="185760"/>
                  <a:ext cx="2448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Aeropuerto Int. McCarran, 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Las Vegas, Nevada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3567240" y="817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357720" y="13320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795760" y="25322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605320" y="27417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329200" y="26179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129040" y="25131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9560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28124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490840" y="46846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405080" y="5570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738440" y="52941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557800" y="35701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167200" y="4427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3620880" y="48182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859200" y="478008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392360" y="477036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05520" y="49798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6996240" y="49417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821120" y="47894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7520040" y="495144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8431200" y="498960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034080" y="17892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748240" y="16844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376720" y="15127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603880" y="417996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1594080" y="418932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17800" y="414180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3308400" y="4065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629240" y="3943440"/>
                  <a:ext cx="88920" cy="88920"/>
                </a:xfrm>
                <a:prstGeom prst="rect">
                  <a:avLst/>
                </a:prstGeom>
                <a:solidFill>
                  <a:srgbClr val="00835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661280" y="386568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ffffff"/>
                      </a:solidFill>
                      <a:latin typeface="Arial"/>
                    </a:rPr>
                    <a:t>Torre de Control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7" name=""/>
            <p:cNvSpPr/>
            <p:nvPr/>
          </p:nvSpPr>
          <p:spPr>
            <a:xfrm>
              <a:off x="3619440" y="2274840"/>
              <a:ext cx="946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Internacio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117960" y="1293840"/>
            <a:ext cx="4841640" cy="2376360"/>
            <a:chOff x="3117960" y="1293840"/>
            <a:chExt cx="4841640" cy="2376360"/>
          </a:xfrm>
        </p:grpSpPr>
        <p:sp>
          <p:nvSpPr>
            <p:cNvPr id="399" name=""/>
            <p:cNvSpPr/>
            <p:nvPr/>
          </p:nvSpPr>
          <p:spPr>
            <a:xfrm>
              <a:off x="4870440" y="1293840"/>
              <a:ext cx="3089160" cy="237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ee8d40"/>
                  </a:solidFill>
                  <a:latin typeface="Arial"/>
                </a:rPr>
                <a:t>La carta no muestra donde empieza la pista de carreteo SIERRA y tampoco cuenta con señalización vertical hacia el Este.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Arial"/>
                </a:rPr>
                <a:t>El AIM establece que la autorización para carretear a su rampa autoriza al avión a cruzar todas las pistas e intersecciones de pistas de carreteo. 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117960" y="2495520"/>
              <a:ext cx="1739880" cy="558720"/>
            </a:xfrm>
            <a:custGeom>
              <a:avLst/>
              <a:gdLst/>
              <a:ahLst/>
              <a:rect l="l" t="t" r="r" b="b"/>
              <a:pathLst>
                <a:path w="1096" h="352">
                  <a:moveTo>
                    <a:pt x="1096" y="0"/>
                  </a:moveTo>
                  <a:lnTo>
                    <a:pt x="0" y="352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1935000" y="4121280"/>
            <a:ext cx="524160" cy="7426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1979640" y="402120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2036880" y="390204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6"/>
          <a:stretch/>
        </p:blipFill>
        <p:spPr>
          <a:xfrm>
            <a:off x="2084400" y="380196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7"/>
          <a:stretch/>
        </p:blipFill>
        <p:spPr>
          <a:xfrm>
            <a:off x="2136600" y="3683160"/>
            <a:ext cx="524160" cy="7426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8"/>
          <a:stretch/>
        </p:blipFill>
        <p:spPr>
          <a:xfrm>
            <a:off x="2179800" y="3578400"/>
            <a:ext cx="523800" cy="7426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9"/>
          <a:stretch/>
        </p:blipFill>
        <p:spPr>
          <a:xfrm>
            <a:off x="2232000" y="346392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0"/>
          <a:stretch/>
        </p:blipFill>
        <p:spPr>
          <a:xfrm>
            <a:off x="2284560" y="3354480"/>
            <a:ext cx="523800" cy="7426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1"/>
          <a:stretch/>
        </p:blipFill>
        <p:spPr>
          <a:xfrm>
            <a:off x="2338560" y="3249720"/>
            <a:ext cx="523800" cy="7426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2"/>
          <a:stretch/>
        </p:blipFill>
        <p:spPr>
          <a:xfrm>
            <a:off x="2386080" y="313524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3"/>
          <a:stretch/>
        </p:blipFill>
        <p:spPr>
          <a:xfrm>
            <a:off x="2443320" y="3021120"/>
            <a:ext cx="523800" cy="7426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4"/>
          <a:stretch/>
        </p:blipFill>
        <p:spPr>
          <a:xfrm>
            <a:off x="2490840" y="291132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15"/>
          <a:stretch/>
        </p:blipFill>
        <p:spPr>
          <a:xfrm>
            <a:off x="2533680" y="2801880"/>
            <a:ext cx="523800" cy="7430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evt="end">
                                        <p:tn val="488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evt="end">
                                        <p:tn val="492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6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evt="end">
                                        <p:tn val="500"/>
                                      </p:cond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4"/>
                                      </p:cond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evt="end">
                                        <p:tn val="512"/>
                                      </p:cond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4"/>
                                      </p:cond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000"/>
                            </p:stCondLst>
                            <p:childTnLst>
                              <p:par>
                                <p:cTn id="5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"/>
          <p:cNvGrpSpPr/>
          <p:nvPr/>
        </p:nvGrpSpPr>
        <p:grpSpPr>
          <a:xfrm>
            <a:off x="123840" y="185760"/>
            <a:ext cx="9020160" cy="6672240"/>
            <a:chOff x="123840" y="185760"/>
            <a:chExt cx="9020160" cy="6672240"/>
          </a:xfrm>
        </p:grpSpPr>
        <p:grpSp>
          <p:nvGrpSpPr>
            <p:cNvPr id="415" name=""/>
            <p:cNvGrpSpPr/>
            <p:nvPr/>
          </p:nvGrpSpPr>
          <p:grpSpPr>
            <a:xfrm>
              <a:off x="123840" y="185760"/>
              <a:ext cx="9020160" cy="6672240"/>
              <a:chOff x="123840" y="185760"/>
              <a:chExt cx="9020160" cy="6672240"/>
            </a:xfrm>
          </p:grpSpPr>
          <p:sp>
            <p:nvSpPr>
              <p:cNvPr id="416" name=""/>
              <p:cNvSpPr/>
              <p:nvPr/>
            </p:nvSpPr>
            <p:spPr>
              <a:xfrm>
                <a:off x="7086600" y="6248520"/>
                <a:ext cx="2057400" cy="609480"/>
              </a:xfrm>
              <a:prstGeom prst="rect">
                <a:avLst/>
              </a:prstGeom>
              <a:solidFill>
                <a:srgbClr val="0031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1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02600" y="6311880"/>
                <a:ext cx="1600200" cy="4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" y="208080"/>
                <a:ext cx="8820000" cy="603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9" name=""/>
              <p:cNvGrpSpPr/>
              <p:nvPr/>
            </p:nvGrpSpPr>
            <p:grpSpPr>
              <a:xfrm>
                <a:off x="795600" y="185760"/>
                <a:ext cx="8222400" cy="5691960"/>
                <a:chOff x="795600" y="185760"/>
                <a:chExt cx="8222400" cy="56919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6569640" y="185760"/>
                  <a:ext cx="2448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Aeropuerto Int. McCarran, 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Las Vegas, Nevada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567240" y="817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357720" y="13320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2795760" y="25322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605320" y="27417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329200" y="26179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2129040" y="25131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79560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28124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2490840" y="46846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1405080" y="5570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1738440" y="52941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557800" y="35701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167200" y="4427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620880" y="48182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859200" y="478008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392360" y="477036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205520" y="49798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996240" y="49417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821120" y="47894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7520040" y="495144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8431200" y="498960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034080" y="17892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2748240" y="16844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376720" y="15127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603880" y="417996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594080" y="418932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117800" y="414180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308400" y="4065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629240" y="3943440"/>
                  <a:ext cx="88920" cy="88920"/>
                </a:xfrm>
                <a:prstGeom prst="rect">
                  <a:avLst/>
                </a:prstGeom>
                <a:solidFill>
                  <a:srgbClr val="00835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661280" y="386568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ffffff"/>
                      </a:solidFill>
                      <a:latin typeface="Arial"/>
                    </a:rPr>
                    <a:t>Torre de Control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1" name=""/>
            <p:cNvSpPr/>
            <p:nvPr/>
          </p:nvSpPr>
          <p:spPr>
            <a:xfrm>
              <a:off x="3619440" y="2274840"/>
              <a:ext cx="946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Internacio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20760" y="1031760"/>
            <a:ext cx="6216840" cy="2556360"/>
            <a:chOff x="2120760" y="1031760"/>
            <a:chExt cx="6216840" cy="2556360"/>
          </a:xfrm>
        </p:grpSpPr>
        <p:sp>
          <p:nvSpPr>
            <p:cNvPr id="453" name=""/>
            <p:cNvSpPr/>
            <p:nvPr/>
          </p:nvSpPr>
          <p:spPr>
            <a:xfrm>
              <a:off x="4741920" y="1031760"/>
              <a:ext cx="3595680" cy="25563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ee8d40"/>
                  </a:solidFill>
                  <a:latin typeface="Arial"/>
                </a:rPr>
                <a:t>Durante el cruce de las pistas 19, no recibieron información acerca del error que estaban cometiendo</a:t>
              </a:r>
              <a:r>
                <a:rPr b="0" lang="es-MX" sz="1500" spc="-1" strike="noStrike">
                  <a:solidFill>
                    <a:srgbClr val="ffffff"/>
                  </a:solidFill>
                  <a:latin typeface="Arial"/>
                </a:rPr>
                <a:t>, los pilotos se encontraban monitoreando las dos frecuencias de Control Terrestre y Rampa.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Arial"/>
                </a:rPr>
                <a:t>Cruzaron las dos pistas y al llamar a Control de Rampa les informó que habían cruzado dos pistas activas, los cambiaron a la fecuencia de control terrestre y siguieron las instrucciones para llegar a su puerta.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2120760" y="2314440"/>
              <a:ext cx="2617920" cy="3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2533680" y="280188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4"/>
          <a:stretch/>
        </p:blipFill>
        <p:spPr>
          <a:xfrm>
            <a:off x="2540160" y="2770200"/>
            <a:ext cx="552240" cy="7761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5"/>
          <a:stretch/>
        </p:blipFill>
        <p:spPr>
          <a:xfrm>
            <a:off x="2562120" y="2765520"/>
            <a:ext cx="559080" cy="7714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6"/>
          <a:stretch/>
        </p:blipFill>
        <p:spPr>
          <a:xfrm>
            <a:off x="2590920" y="2760840"/>
            <a:ext cx="552240" cy="7761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7"/>
          <a:stretch/>
        </p:blipFill>
        <p:spPr>
          <a:xfrm>
            <a:off x="2620800" y="2771640"/>
            <a:ext cx="535320" cy="7588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8"/>
          <a:stretch/>
        </p:blipFill>
        <p:spPr>
          <a:xfrm>
            <a:off x="2657520" y="2792520"/>
            <a:ext cx="503280" cy="7174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9"/>
          <a:stretch/>
        </p:blipFill>
        <p:spPr>
          <a:xfrm>
            <a:off x="2617920" y="2822400"/>
            <a:ext cx="573120" cy="6573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0"/>
          <a:stretch/>
        </p:blipFill>
        <p:spPr>
          <a:xfrm>
            <a:off x="2576520" y="2860560"/>
            <a:ext cx="654120" cy="57636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1"/>
          <a:stretch/>
        </p:blipFill>
        <p:spPr>
          <a:xfrm>
            <a:off x="2552760" y="2886120"/>
            <a:ext cx="716040" cy="5032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2"/>
          <a:stretch/>
        </p:blipFill>
        <p:spPr>
          <a:xfrm>
            <a:off x="2487600" y="2813040"/>
            <a:ext cx="755640" cy="5335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3"/>
          <a:stretch/>
        </p:blipFill>
        <p:spPr>
          <a:xfrm>
            <a:off x="2395440" y="2771640"/>
            <a:ext cx="755640" cy="5335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4"/>
          <a:stretch/>
        </p:blipFill>
        <p:spPr>
          <a:xfrm>
            <a:off x="2270160" y="2717640"/>
            <a:ext cx="755640" cy="533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5"/>
          <a:stretch/>
        </p:blipFill>
        <p:spPr>
          <a:xfrm>
            <a:off x="2166840" y="2676600"/>
            <a:ext cx="755640" cy="5331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6"/>
          <a:stretch/>
        </p:blipFill>
        <p:spPr>
          <a:xfrm>
            <a:off x="2062080" y="2631960"/>
            <a:ext cx="755640" cy="53352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7"/>
          <a:stretch/>
        </p:blipFill>
        <p:spPr>
          <a:xfrm>
            <a:off x="1941480" y="2584440"/>
            <a:ext cx="755640" cy="5335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8"/>
          <a:stretch/>
        </p:blipFill>
        <p:spPr>
          <a:xfrm>
            <a:off x="1830240" y="2540160"/>
            <a:ext cx="755640" cy="5331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19"/>
          <a:stretch/>
        </p:blipFill>
        <p:spPr>
          <a:xfrm>
            <a:off x="1719360" y="2495520"/>
            <a:ext cx="755640" cy="53352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0"/>
          <a:stretch/>
        </p:blipFill>
        <p:spPr>
          <a:xfrm>
            <a:off x="1733400" y="2508120"/>
            <a:ext cx="716040" cy="503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1"/>
          <a:stretch/>
        </p:blipFill>
        <p:spPr>
          <a:xfrm>
            <a:off x="1763640" y="2463840"/>
            <a:ext cx="654120" cy="5763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2"/>
          <a:stretch/>
        </p:blipFill>
        <p:spPr>
          <a:xfrm>
            <a:off x="1805040" y="2422440"/>
            <a:ext cx="573120" cy="6573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3"/>
          <a:stretch/>
        </p:blipFill>
        <p:spPr>
          <a:xfrm>
            <a:off x="1782720" y="2378160"/>
            <a:ext cx="534960" cy="75888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24"/>
          <a:stretch/>
        </p:blipFill>
        <p:spPr>
          <a:xfrm>
            <a:off x="1752480" y="2341440"/>
            <a:ext cx="552600" cy="7765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5"/>
          <a:stretch/>
        </p:blipFill>
        <p:spPr>
          <a:xfrm>
            <a:off x="1747800" y="2341440"/>
            <a:ext cx="558720" cy="7714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6"/>
          <a:stretch/>
        </p:blipFill>
        <p:spPr>
          <a:xfrm>
            <a:off x="1687680" y="2347920"/>
            <a:ext cx="534960" cy="75708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7"/>
          <a:stretch/>
        </p:blipFill>
        <p:spPr>
          <a:xfrm>
            <a:off x="1701720" y="228924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8"/>
          <a:stretch/>
        </p:blipFill>
        <p:spPr>
          <a:xfrm>
            <a:off x="1744560" y="219384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9"/>
          <a:stretch/>
        </p:blipFill>
        <p:spPr>
          <a:xfrm>
            <a:off x="1801800" y="2065320"/>
            <a:ext cx="523800" cy="74304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0"/>
          <a:stretch/>
        </p:blipFill>
        <p:spPr>
          <a:xfrm>
            <a:off x="1849320" y="1965240"/>
            <a:ext cx="524160" cy="74304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31"/>
          <a:stretch/>
        </p:blipFill>
        <p:spPr>
          <a:xfrm>
            <a:off x="1901880" y="1851120"/>
            <a:ext cx="523800" cy="74268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32"/>
          <a:stretch/>
        </p:blipFill>
        <p:spPr>
          <a:xfrm>
            <a:off x="1949400" y="1746360"/>
            <a:ext cx="523800" cy="7426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3"/>
          <a:stretch/>
        </p:blipFill>
        <p:spPr>
          <a:xfrm>
            <a:off x="1996920" y="1631880"/>
            <a:ext cx="524160" cy="74304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4"/>
          <a:stretch/>
        </p:blipFill>
        <p:spPr>
          <a:xfrm>
            <a:off x="2039760" y="1522440"/>
            <a:ext cx="524160" cy="74304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5"/>
          <a:stretch/>
        </p:blipFill>
        <p:spPr>
          <a:xfrm>
            <a:off x="-6480" y="0"/>
            <a:ext cx="3973680" cy="4329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9" dur="1" fill="hold">
                                    <p:stCondLst>
                                      <p:cond evt="end">
                                        <p:tn val="547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3" dur="1" fill="hold">
                                    <p:stCondLst>
                                      <p:cond evt="end">
                                        <p:tn val="551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1" dur="1" fill="hold">
                                    <p:stCondLst>
                                      <p:cond evt="end">
                                        <p:tn val="559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5" dur="1" fill="hold">
                                    <p:stCondLst>
                                      <p:cond evt="end">
                                        <p:tn val="563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evt="end">
                                        <p:tn val="567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3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evt="end">
                                        <p:tn val="571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7" dur="1" fill="hold">
                                    <p:stCondLst>
                                      <p:cond evt="end">
                                        <p:tn val="575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evt="end">
                                        <p:tn val="579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50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5" dur="1" fill="hold">
                                    <p:stCondLst>
                                      <p:cond evt="end">
                                        <p:tn val="583"/>
                                      </p:cond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0"/>
                            </p:stCondLst>
                            <p:childTnLst>
                              <p:par>
                                <p:cTn id="5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9" dur="1" fill="hold">
                                    <p:stCondLst>
                                      <p:cond evt="end">
                                        <p:tn val="587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3" dur="1" fill="hold">
                                    <p:stCondLst>
                                      <p:cond evt="end">
                                        <p:tn val="591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6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7" dur="1" fill="hold">
                                    <p:stCondLst>
                                      <p:cond evt="end">
                                        <p:tn val="595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650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1" dur="1" fill="hold">
                                    <p:stCondLst>
                                      <p:cond evt="end">
                                        <p:tn val="599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7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5" dur="1" fill="hold">
                                    <p:stCondLst>
                                      <p:cond evt="end">
                                        <p:tn val="603"/>
                                      </p:cond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7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9" dur="1" fill="hold">
                                    <p:stCondLst>
                                      <p:cond evt="end">
                                        <p:tn val="607"/>
                                      </p:cond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evt="end">
                                        <p:tn val="611"/>
                                      </p:cond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8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7" dur="1" fill="hold">
                                    <p:stCondLst>
                                      <p:cond evt="end">
                                        <p:tn val="615"/>
                                      </p:cond>
                                    </p:stCondLst>
                                  </p:cTn>
                                  <p:tgtEl>
                                    <p:spTgt spid="4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9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1" dur="1" fill="hold">
                                    <p:stCondLst>
                                      <p:cond evt="end">
                                        <p:tn val="619"/>
                                      </p:cond>
                                    </p:stCondLst>
                                  </p:cTn>
                                  <p:tgtEl>
                                    <p:spTgt spid="4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9500"/>
                            </p:stCondLst>
                            <p:childTnLst>
                              <p:par>
                                <p:cTn id="6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5" dur="1" fill="hold">
                                    <p:stCondLst>
                                      <p:cond evt="end">
                                        <p:tn val="623"/>
                                      </p:cond>
                                    </p:stCondLst>
                                  </p:cTn>
                                  <p:tgtEl>
                                    <p:spTgt spid="4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9" dur="1" fill="hold">
                                    <p:stCondLst>
                                      <p:cond evt="end">
                                        <p:tn val="627"/>
                                      </p:cond>
                                    </p:stCondLst>
                                  </p:cTn>
                                  <p:tgtEl>
                                    <p:spTgt spid="4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3" dur="1" fill="hold">
                                    <p:stCondLst>
                                      <p:cond evt="end">
                                        <p:tn val="631"/>
                                      </p:cond>
                                    </p:stCondLst>
                                  </p:cTn>
                                  <p:tgtEl>
                                    <p:spTgt spid="4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7" dur="1" fill="hold">
                                    <p:stCondLst>
                                      <p:cond evt="end">
                                        <p:tn val="635"/>
                                      </p:cond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15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1" dur="1" fill="hold">
                                    <p:stCondLst>
                                      <p:cond evt="end">
                                        <p:tn val="639"/>
                                      </p:cond>
                                    </p:stCondLst>
                                  </p:cTn>
                                  <p:tgtEl>
                                    <p:spTgt spid="4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5" dur="1" fill="hold">
                                    <p:stCondLst>
                                      <p:cond evt="end">
                                        <p:tn val="643"/>
                                      </p:cond>
                                    </p:stCondLst>
                                  </p:cTn>
                                  <p:tgtEl>
                                    <p:spTgt spid="4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evt="end">
                                        <p:tn val="647"/>
                                      </p:cond>
                                    </p:stCondLst>
                                  </p:cTn>
                                  <p:tgtEl>
                                    <p:spTgt spid="4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3" dur="1" fill="hold">
                                    <p:stCondLst>
                                      <p:cond evt="end">
                                        <p:tn val="651"/>
                                      </p:cond>
                                    </p:stCondLst>
                                  </p:cTn>
                                  <p:tgtEl>
                                    <p:spTgt spid="4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3500"/>
                            </p:stCondLst>
                            <p:childTnLst>
                              <p:par>
                                <p:cTn id="6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evt="end">
                                        <p:tn val="655"/>
                                      </p:cond>
                                    </p:stCondLst>
                                  </p:cTn>
                                  <p:tgtEl>
                                    <p:spTgt spid="4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evt="end">
                                        <p:tn val="659"/>
                                      </p:cond>
                                    </p:stCondLst>
                                  </p:cTn>
                                  <p:tgtEl>
                                    <p:spTgt spid="4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14500"/>
                            </p:stCondLst>
                            <p:childTnLst>
                              <p:par>
                                <p:cTn id="6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5" dur="1" fill="hold">
                                    <p:stCondLst>
                                      <p:cond evt="end">
                                        <p:tn val="663"/>
                                      </p:cond>
                                    </p:stCondLst>
                                  </p:cTn>
                                  <p:tgtEl>
                                    <p:spTgt spid="4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9" dur="1" fill="hold">
                                    <p:stCondLst>
                                      <p:cond evt="end">
                                        <p:tn val="667"/>
                                      </p:cond>
                                    </p:stCondLst>
                                  </p:cTn>
                                  <p:tgtEl>
                                    <p:spTgt spid="4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123840" y="185760"/>
            <a:ext cx="9020160" cy="6672240"/>
            <a:chOff x="123840" y="185760"/>
            <a:chExt cx="9020160" cy="6672240"/>
          </a:xfrm>
        </p:grpSpPr>
        <p:grpSp>
          <p:nvGrpSpPr>
            <p:cNvPr id="489" name=""/>
            <p:cNvGrpSpPr/>
            <p:nvPr/>
          </p:nvGrpSpPr>
          <p:grpSpPr>
            <a:xfrm>
              <a:off x="123840" y="185760"/>
              <a:ext cx="9020160" cy="6672240"/>
              <a:chOff x="123840" y="185760"/>
              <a:chExt cx="9020160" cy="6672240"/>
            </a:xfrm>
          </p:grpSpPr>
          <p:sp>
            <p:nvSpPr>
              <p:cNvPr id="490" name=""/>
              <p:cNvSpPr/>
              <p:nvPr/>
            </p:nvSpPr>
            <p:spPr>
              <a:xfrm>
                <a:off x="7086600" y="6248520"/>
                <a:ext cx="2057400" cy="609480"/>
              </a:xfrm>
              <a:prstGeom prst="rect">
                <a:avLst/>
              </a:prstGeom>
              <a:solidFill>
                <a:srgbClr val="0031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49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02600" y="6311880"/>
                <a:ext cx="1600200" cy="4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" y="208080"/>
                <a:ext cx="8820000" cy="603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93" name=""/>
              <p:cNvGrpSpPr/>
              <p:nvPr/>
            </p:nvGrpSpPr>
            <p:grpSpPr>
              <a:xfrm>
                <a:off x="795600" y="185760"/>
                <a:ext cx="8222400" cy="5691960"/>
                <a:chOff x="795600" y="185760"/>
                <a:chExt cx="8222400" cy="569196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6569640" y="185760"/>
                  <a:ext cx="2448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Aeropuerto Int. McCarran, 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Las Vegas, Nevada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567240" y="817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357720" y="13320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795760" y="25322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605320" y="27417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329200" y="26179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129040" y="25131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9560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28124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490840" y="46846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405080" y="5570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738440" y="52941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557800" y="35701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167200" y="4427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620880" y="48182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859200" y="478008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392360" y="477036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205520" y="49798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6996240" y="49417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821120" y="47894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520040" y="495144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8431200" y="498960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034080" y="17892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748240" y="16844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376720" y="15127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603880" y="417996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594080" y="418932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1117800" y="414180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308400" y="4065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4629240" y="3943440"/>
                  <a:ext cx="88920" cy="88920"/>
                </a:xfrm>
                <a:prstGeom prst="rect">
                  <a:avLst/>
                </a:prstGeom>
                <a:solidFill>
                  <a:srgbClr val="00835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4661280" y="386568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ffffff"/>
                      </a:solidFill>
                      <a:latin typeface="Arial"/>
                    </a:rPr>
                    <a:t>Torre de Control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5" name=""/>
            <p:cNvSpPr/>
            <p:nvPr/>
          </p:nvSpPr>
          <p:spPr>
            <a:xfrm>
              <a:off x="3619440" y="2274840"/>
              <a:ext cx="946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Internacio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2039760" y="1522440"/>
            <a:ext cx="524160" cy="7430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2008080" y="1542960"/>
            <a:ext cx="576360" cy="6541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1978200" y="1573200"/>
            <a:ext cx="657000" cy="57312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6"/>
          <a:stretch/>
        </p:blipFill>
        <p:spPr>
          <a:xfrm>
            <a:off x="1955880" y="1593720"/>
            <a:ext cx="717480" cy="5032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7"/>
          <a:stretch/>
        </p:blipFill>
        <p:spPr>
          <a:xfrm>
            <a:off x="1930320" y="1547640"/>
            <a:ext cx="758880" cy="53532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8"/>
          <a:stretch/>
        </p:blipFill>
        <p:spPr>
          <a:xfrm>
            <a:off x="1917720" y="1503360"/>
            <a:ext cx="776160" cy="5526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9"/>
          <a:stretch/>
        </p:blipFill>
        <p:spPr>
          <a:xfrm>
            <a:off x="1928880" y="148608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10"/>
          <a:stretch/>
        </p:blipFill>
        <p:spPr>
          <a:xfrm>
            <a:off x="1920960" y="1455840"/>
            <a:ext cx="776160" cy="5522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11"/>
          <a:stretch/>
        </p:blipFill>
        <p:spPr>
          <a:xfrm>
            <a:off x="1954080" y="1413000"/>
            <a:ext cx="758880" cy="5349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12"/>
          <a:stretch/>
        </p:blipFill>
        <p:spPr>
          <a:xfrm>
            <a:off x="2039760" y="1460520"/>
            <a:ext cx="758880" cy="53496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13"/>
          <a:stretch/>
        </p:blipFill>
        <p:spPr>
          <a:xfrm>
            <a:off x="2154240" y="1503360"/>
            <a:ext cx="758880" cy="5349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4"/>
          <a:stretch/>
        </p:blipFill>
        <p:spPr>
          <a:xfrm>
            <a:off x="2263680" y="1546200"/>
            <a:ext cx="758880" cy="53496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5"/>
          <a:stretch/>
        </p:blipFill>
        <p:spPr>
          <a:xfrm>
            <a:off x="2382840" y="1579680"/>
            <a:ext cx="758880" cy="5349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6"/>
          <a:stretch/>
        </p:blipFill>
        <p:spPr>
          <a:xfrm>
            <a:off x="2489040" y="1622520"/>
            <a:ext cx="758880" cy="5349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7"/>
          <a:stretch/>
        </p:blipFill>
        <p:spPr>
          <a:xfrm>
            <a:off x="2598840" y="1665360"/>
            <a:ext cx="758880" cy="53496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8"/>
          <a:stretch/>
        </p:blipFill>
        <p:spPr>
          <a:xfrm>
            <a:off x="2708280" y="1703520"/>
            <a:ext cx="758880" cy="5349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9"/>
          <a:stretch/>
        </p:blipFill>
        <p:spPr>
          <a:xfrm>
            <a:off x="2813040" y="1736640"/>
            <a:ext cx="758880" cy="53496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20"/>
          <a:stretch/>
        </p:blipFill>
        <p:spPr>
          <a:xfrm>
            <a:off x="2840040" y="1741320"/>
            <a:ext cx="717480" cy="50328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1"/>
          <a:stretch/>
        </p:blipFill>
        <p:spPr>
          <a:xfrm>
            <a:off x="2876400" y="1727280"/>
            <a:ext cx="657360" cy="5731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2"/>
          <a:stretch/>
        </p:blipFill>
        <p:spPr>
          <a:xfrm>
            <a:off x="2919240" y="1704960"/>
            <a:ext cx="576360" cy="6541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3"/>
          <a:stretch/>
        </p:blipFill>
        <p:spPr>
          <a:xfrm>
            <a:off x="2976480" y="1692360"/>
            <a:ext cx="503280" cy="7160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4"/>
          <a:stretch/>
        </p:blipFill>
        <p:spPr>
          <a:xfrm>
            <a:off x="3013200" y="1695600"/>
            <a:ext cx="534960" cy="75708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5"/>
          <a:stretch/>
        </p:blipFill>
        <p:spPr>
          <a:xfrm>
            <a:off x="3046320" y="1743120"/>
            <a:ext cx="552600" cy="7761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26"/>
          <a:stretch/>
        </p:blipFill>
        <p:spPr>
          <a:xfrm>
            <a:off x="3100320" y="1819440"/>
            <a:ext cx="558720" cy="77148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7"/>
          <a:stretch/>
        </p:blipFill>
        <p:spPr>
          <a:xfrm>
            <a:off x="3103560" y="1914480"/>
            <a:ext cx="558720" cy="77148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28"/>
          <a:stretch/>
        </p:blipFill>
        <p:spPr>
          <a:xfrm>
            <a:off x="3106800" y="2028960"/>
            <a:ext cx="558720" cy="7714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29"/>
          <a:stretch/>
        </p:blipFill>
        <p:spPr>
          <a:xfrm>
            <a:off x="3110040" y="2143080"/>
            <a:ext cx="558720" cy="7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evt="end">
                                        <p:tn val="677"/>
                                      </p:cond>
                                    </p:stCondLst>
                                  </p:cTn>
                                  <p:tgtEl>
                                    <p:spTgt spid="5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evt="end">
                                        <p:tn val="685"/>
                                      </p:cond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500"/>
                            </p:stCondLst>
                            <p:childTnLst>
                              <p:par>
                                <p:cTn id="6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evt="end">
                                        <p:tn val="68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5" dur="1" fill="hold">
                                    <p:stCondLst>
                                      <p:cond evt="end">
                                        <p:tn val="693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99" dur="1" fill="hold">
                                    <p:stCondLst>
                                      <p:cond evt="end">
                                        <p:tn val="69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300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evt="end">
                                        <p:tn val="701"/>
                                      </p:cond>
                                    </p:stCondLst>
                                  </p:cTn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7" dur="1" fill="hold">
                                    <p:stCondLst>
                                      <p:cond evt="end">
                                        <p:tn val="705"/>
                                      </p:cond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40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1" dur="1" fill="hold">
                                    <p:stCondLst>
                                      <p:cond evt="end">
                                        <p:tn val="709"/>
                                      </p:cond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4500"/>
                            </p:stCondLst>
                            <p:childTnLst>
                              <p:par>
                                <p:cTn id="7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5" dur="1" fill="hold">
                                    <p:stCondLst>
                                      <p:cond evt="end">
                                        <p:tn val="713"/>
                                      </p:cond>
                                    </p:stCondLst>
                                  </p:cTn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9" dur="1" fill="hold">
                                    <p:stCondLst>
                                      <p:cond evt="end">
                                        <p:tn val="717"/>
                                      </p:cond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3" dur="1" fill="hold">
                                    <p:stCondLst>
                                      <p:cond evt="end">
                                        <p:tn val="721"/>
                                      </p:cond>
                                    </p:stCondLst>
                                  </p:cTn>
                                  <p:tgtEl>
                                    <p:spTgt spid="5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7" dur="1" fill="hold">
                                    <p:stCondLst>
                                      <p:cond evt="end">
                                        <p:tn val="725"/>
                                      </p:cond>
                                    </p:stCondLst>
                                  </p:cTn>
                                  <p:tgtEl>
                                    <p:spTgt spid="5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6500"/>
                            </p:stCondLst>
                            <p:childTnLst>
                              <p:par>
                                <p:cTn id="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1" dur="1" fill="hold">
                                    <p:stCondLst>
                                      <p:cond evt="end">
                                        <p:tn val="729"/>
                                      </p:cond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7000"/>
                            </p:stCondLst>
                            <p:childTnLst>
                              <p:par>
                                <p:cTn id="7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5" dur="1" fill="hold">
                                    <p:stCondLst>
                                      <p:cond evt="end">
                                        <p:tn val="733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7500"/>
                            </p:stCondLst>
                            <p:childTnLst>
                              <p:par>
                                <p:cTn id="7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9" dur="1" fill="hold">
                                    <p:stCondLst>
                                      <p:cond evt="end">
                                        <p:tn val="737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8000"/>
                            </p:stCondLst>
                            <p:childTnLst>
                              <p:par>
                                <p:cTn id="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3" dur="1" fill="hold">
                                    <p:stCondLst>
                                      <p:cond evt="end">
                                        <p:tn val="741"/>
                                      </p:cond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8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7" dur="1" fill="hold">
                                    <p:stCondLst>
                                      <p:cond evt="end">
                                        <p:tn val="745"/>
                                      </p:cond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90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evt="end">
                                        <p:tn val="749"/>
                                      </p:cond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9500"/>
                            </p:stCondLst>
                            <p:childTnLst>
                              <p:par>
                                <p:cTn id="7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5" dur="1" fill="hold">
                                    <p:stCondLst>
                                      <p:cond evt="end">
                                        <p:tn val="753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9" dur="1" fill="hold">
                                    <p:stCondLst>
                                      <p:cond evt="end">
                                        <p:tn val="757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3" dur="1" fill="hold">
                                    <p:stCondLst>
                                      <p:cond evt="end">
                                        <p:tn val="761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7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7" dur="1" fill="hold">
                                    <p:stCondLst>
                                      <p:cond evt="end">
                                        <p:tn val="765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1" dur="1" fill="hold">
                                    <p:stCondLst>
                                      <p:cond evt="end">
                                        <p:tn val="769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5" dur="1" fill="hold">
                                    <p:stCondLst>
                                      <p:cond evt="end">
                                        <p:tn val="773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25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9" dur="1" fill="hold">
                                    <p:stCondLst>
                                      <p:cond evt="end">
                                        <p:tn val="777"/>
                                      </p:cond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3000"/>
                            </p:stCondLst>
                            <p:childTnLst>
                              <p:par>
                                <p:cTn id="7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835200" y="115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04920" y="1908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Factores Contribuy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34440" y="1222200"/>
            <a:ext cx="8200080" cy="4765680"/>
            <a:chOff x="334440" y="1222200"/>
            <a:chExt cx="8200080" cy="4765680"/>
          </a:xfrm>
        </p:grpSpPr>
        <p:sp>
          <p:nvSpPr>
            <p:cNvPr id="556" name=""/>
            <p:cNvSpPr/>
            <p:nvPr/>
          </p:nvSpPr>
          <p:spPr>
            <a:xfrm>
              <a:off x="334440" y="1222200"/>
              <a:ext cx="21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Arial"/>
                </a:rPr>
                <a:t>Operaciona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61800" y="1809720"/>
              <a:ext cx="8172720" cy="41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2100"/>
                </a:spcBef>
                <a:buClr>
                  <a:srgbClr val="339c78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Arial"/>
                </a:rPr>
                <a:t>Fueron cambiados por Control Terrestre a Rampa con mucha anticipación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2100"/>
                </a:spcBef>
                <a:buClr>
                  <a:srgbClr val="339c78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Arial"/>
                </a:rPr>
                <a:t>El Capitán asumió su ruta de carreteo y no solicitó aclaración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2100"/>
                </a:spcBef>
                <a:buClr>
                  <a:srgbClr val="339c78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Arial"/>
                </a:rPr>
                <a:t>El Capitán observó el tráfico en final y consideró que podría cruzar las pistas 19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2100"/>
                </a:spcBef>
                <a:buClr>
                  <a:srgbClr val="339c78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Arial"/>
                </a:rPr>
                <a:t>Falta de vigilancia del controlador de Control Terrestre, ya que el avión continuaba en su jurisdicción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2100"/>
                </a:spcBef>
                <a:buClr>
                  <a:srgbClr val="339c78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Arial"/>
                </a:rPr>
                <a:t>Falta de vigilancia del controlador de Control de Rampa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0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8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04920" y="1908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Factores Contribuy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440" y="1622520"/>
            <a:ext cx="8200080" cy="1803240"/>
            <a:chOff x="334440" y="1622520"/>
            <a:chExt cx="8200080" cy="1803240"/>
          </a:xfrm>
        </p:grpSpPr>
        <p:sp>
          <p:nvSpPr>
            <p:cNvPr id="560" name=""/>
            <p:cNvSpPr/>
            <p:nvPr/>
          </p:nvSpPr>
          <p:spPr>
            <a:xfrm>
              <a:off x="334440" y="1622520"/>
              <a:ext cx="227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Arial"/>
                </a:rPr>
                <a:t>Procedimiento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61800" y="2209680"/>
              <a:ext cx="817272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2100"/>
                </a:spcBef>
                <a:buClr>
                  <a:srgbClr val="339c78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Arial"/>
                </a:rPr>
                <a:t>El AIM establece que la autorización para carretear a su rampa autoriza al avión a cruzar todas las pistas e intersecciones de pistas de carreteo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20400" y="3776760"/>
            <a:ext cx="8201160" cy="1803240"/>
            <a:chOff x="320400" y="3776760"/>
            <a:chExt cx="8201160" cy="1803240"/>
          </a:xfrm>
        </p:grpSpPr>
        <p:sp>
          <p:nvSpPr>
            <p:cNvPr id="563" name=""/>
            <p:cNvSpPr/>
            <p:nvPr/>
          </p:nvSpPr>
          <p:spPr>
            <a:xfrm>
              <a:off x="320400" y="377676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cc00"/>
                  </a:solidFill>
                  <a:latin typeface="Arial"/>
                </a:rPr>
                <a:t>Aeropuer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9200" y="4363920"/>
              <a:ext cx="817236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2100"/>
                </a:spcBef>
                <a:buClr>
                  <a:srgbClr val="339c78"/>
                </a:buClr>
                <a:buSzPct val="80000"/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ffff"/>
                  </a:solidFill>
                  <a:latin typeface="Arial"/>
                </a:rPr>
                <a:t>La carta no muestra donde empieza la pista de carreteo SIERRA y tampoco cuenta con señalización vertical hacia el Este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362320" y="762120"/>
            <a:ext cx="4343400" cy="1447560"/>
          </a:xfrm>
          <a:prstGeom prst="rect">
            <a:avLst/>
          </a:prstGeom>
          <a:solidFill>
            <a:srgbClr val="003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2571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2739960" y="914400"/>
            <a:ext cx="3657600" cy="110016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5289480" y="5581800"/>
            <a:ext cx="318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GUNT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4920" y="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Categorías de las Incursiones en Pista, FA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4080" y="2387160"/>
            <a:ext cx="1676160" cy="3327840"/>
            <a:chOff x="154080" y="2387160"/>
            <a:chExt cx="1676160" cy="3327840"/>
          </a:xfrm>
        </p:grpSpPr>
        <p:sp>
          <p:nvSpPr>
            <p:cNvPr id="88" name=""/>
            <p:cNvSpPr/>
            <p:nvPr/>
          </p:nvSpPr>
          <p:spPr>
            <a:xfrm flipV="1">
              <a:off x="154080" y="2387520"/>
              <a:ext cx="1676160" cy="5112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3148"/>
                  </a:solidFill>
                  <a:latin typeface="Arial"/>
                </a:rPr>
                <a:t>Categoría 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154080" y="2898000"/>
              <a:ext cx="1676160" cy="281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Una pequeña posibilidad de colisión la cual entra en la definición de incursión de pis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4080" y="5715000"/>
              <a:ext cx="16761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4080" y="2898720"/>
              <a:ext cx="1676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4080" y="2387520"/>
              <a:ext cx="16761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54080" y="2387160"/>
              <a:ext cx="0" cy="3327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830240" y="2387160"/>
              <a:ext cx="0" cy="33274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925640" y="2384280"/>
          <a:ext cx="1676520" cy="333072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ategoría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separación se reduce pero hay distancia y tiempo mas que suficiente para evitar la colisió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719520" y="2384280"/>
          <a:ext cx="1676520" cy="333072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ategoría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8d40"/>
                    </a:solidFill>
                  </a:tcPr>
                </a:tc>
              </a:tr>
              <a:tr h="281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 reduce la separación y se tiene un significativo potencial para una colis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42920" y="1233360"/>
            <a:ext cx="7904160" cy="1067040"/>
          </a:xfrm>
          <a:prstGeom prst="rightArrow">
            <a:avLst>
              <a:gd name="adj1" fmla="val 38389"/>
              <a:gd name="adj2" fmla="val 68280"/>
            </a:avLst>
          </a:pr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148"/>
                </a:solidFill>
                <a:latin typeface="Arial"/>
              </a:rPr>
              <a:t>La severidad del evento se increm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511960" y="2381400"/>
          <a:ext cx="1676160" cy="3333600"/>
        </p:xfrm>
        <a:graphic>
          <a:graphicData uri="http://schemas.openxmlformats.org/drawingml/2006/table">
            <a:tbl>
              <a:tblPr/>
              <a:tblGrid>
                <a:gridCol w="1676160"/>
              </a:tblGrid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ategoría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28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separación disminuye y los participantes toman acciones extremas para evitar con un muy poco margen la colis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9" name=""/>
          <p:cNvGrpSpPr/>
          <p:nvPr/>
        </p:nvGrpSpPr>
        <p:grpSpPr>
          <a:xfrm>
            <a:off x="7324560" y="2377800"/>
            <a:ext cx="1676520" cy="3337200"/>
            <a:chOff x="7324560" y="2377800"/>
            <a:chExt cx="1676520" cy="3337200"/>
          </a:xfrm>
        </p:grpSpPr>
        <p:sp>
          <p:nvSpPr>
            <p:cNvPr id="100" name=""/>
            <p:cNvSpPr/>
            <p:nvPr/>
          </p:nvSpPr>
          <p:spPr>
            <a:xfrm flipV="1">
              <a:off x="7324560" y="2378160"/>
              <a:ext cx="1676520" cy="5112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rm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3148"/>
                  </a:solidFill>
                  <a:latin typeface="Arial"/>
                </a:rPr>
                <a:t>Accid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24560" y="2888640"/>
              <a:ext cx="1676520" cy="28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Una incursión que da por resultado un acciden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24560" y="5715000"/>
              <a:ext cx="1676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324560" y="2889360"/>
              <a:ext cx="167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324560" y="2378160"/>
              <a:ext cx="16765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324560" y="2377800"/>
              <a:ext cx="0" cy="333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9001080" y="2377800"/>
              <a:ext cx="0" cy="33368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908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otal de Incursiones en Pista (1997-2000), FA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320" y="1231920"/>
            <a:ext cx="536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eropuertos donde opera Mexic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01600" y="2233440"/>
            <a:ext cx="5659560" cy="3568680"/>
            <a:chOff x="201600" y="2233440"/>
            <a:chExt cx="5659560" cy="35686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682560" y="2233440"/>
              <a:ext cx="5178600" cy="34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 rot="16200000">
              <a:off x="-745920" y="3305880"/>
              <a:ext cx="253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Número de Incursi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en Pis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2920" y="543384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Aeropuert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72960" y="3467160"/>
              <a:ext cx="39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1120" y="3602160"/>
              <a:ext cx="39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80800" y="2446200"/>
              <a:ext cx="39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33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38360" y="405612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76040" y="3732120"/>
              <a:ext cx="39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33600" y="423072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733560" y="442584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74840" y="3413160"/>
              <a:ext cx="39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18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81280" y="3208320"/>
              <a:ext cx="39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37040" y="449424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0040" y="3732120"/>
              <a:ext cx="39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5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189840" y="2363760"/>
            <a:ext cx="2882520" cy="2490480"/>
            <a:chOff x="6189840" y="2363760"/>
            <a:chExt cx="2882520" cy="2490480"/>
          </a:xfrm>
        </p:grpSpPr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6189840" y="2363760"/>
              <a:ext cx="2882520" cy="24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6744960" y="2530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3148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05400" y="2530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3148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51080" y="2530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3148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84520" y="25308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3148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309840" y="330048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46520" y="3753000"/>
          <a:ext cx="4349880" cy="2363760"/>
        </p:xfrm>
        <a:graphic>
          <a:graphicData uri="http://schemas.openxmlformats.org/drawingml/2006/table">
            <a:tbl>
              <a:tblPr/>
              <a:tblGrid>
                <a:gridCol w="693720"/>
                <a:gridCol w="712800"/>
                <a:gridCol w="390600"/>
                <a:gridCol w="409680"/>
                <a:gridCol w="407880"/>
                <a:gridCol w="392040"/>
                <a:gridCol w="628920"/>
                <a:gridCol w="7142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04920" y="1908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otal de Incursiones en Pista (1997-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por Aeropuerto, FA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1760" y="1228680"/>
          <a:ext cx="4335480" cy="2363760"/>
        </p:xfrm>
        <a:graphic>
          <a:graphicData uri="http://schemas.openxmlformats.org/drawingml/2006/table">
            <a:tbl>
              <a:tblPr/>
              <a:tblGrid>
                <a:gridCol w="679320"/>
                <a:gridCol w="712800"/>
                <a:gridCol w="390600"/>
                <a:gridCol w="409680"/>
                <a:gridCol w="407880"/>
                <a:gridCol w="392040"/>
                <a:gridCol w="628920"/>
                <a:gridCol w="7142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646520" y="1227240"/>
          <a:ext cx="4349880" cy="2363760"/>
        </p:xfrm>
        <a:graphic>
          <a:graphicData uri="http://schemas.openxmlformats.org/drawingml/2006/table">
            <a:tbl>
              <a:tblPr/>
              <a:tblGrid>
                <a:gridCol w="693720"/>
                <a:gridCol w="712800"/>
                <a:gridCol w="390600"/>
                <a:gridCol w="409680"/>
                <a:gridCol w="407880"/>
                <a:gridCol w="392040"/>
                <a:gridCol w="628920"/>
                <a:gridCol w="7142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23840" y="3753000"/>
          <a:ext cx="4343400" cy="2363760"/>
        </p:xfrm>
        <a:graphic>
          <a:graphicData uri="http://schemas.openxmlformats.org/drawingml/2006/table">
            <a:tbl>
              <a:tblPr/>
              <a:tblGrid>
                <a:gridCol w="681120"/>
                <a:gridCol w="712800"/>
                <a:gridCol w="390240"/>
                <a:gridCol w="408240"/>
                <a:gridCol w="409320"/>
                <a:gridCol w="392400"/>
                <a:gridCol w="628560"/>
                <a:gridCol w="7207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7839000" y="330048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95800" y="582444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24960" y="582444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22400" y="4363920"/>
          <a:ext cx="4338360" cy="1284120"/>
        </p:xfrm>
        <a:graphic>
          <a:graphicData uri="http://schemas.openxmlformats.org/drawingml/2006/table">
            <a:tbl>
              <a:tblPr/>
              <a:tblGrid>
                <a:gridCol w="679320"/>
                <a:gridCol w="714240"/>
                <a:gridCol w="390600"/>
                <a:gridCol w="407880"/>
                <a:gridCol w="409680"/>
                <a:gridCol w="392040"/>
                <a:gridCol w="628920"/>
                <a:gridCol w="715680"/>
              </a:tblGrid>
              <a:tr h="63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AK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4648320" y="3754440"/>
          <a:ext cx="4351320" cy="2363760"/>
        </p:xfrm>
        <a:graphic>
          <a:graphicData uri="http://schemas.openxmlformats.org/drawingml/2006/table">
            <a:tbl>
              <a:tblPr/>
              <a:tblGrid>
                <a:gridCol w="693720"/>
                <a:gridCol w="712800"/>
                <a:gridCol w="390240"/>
                <a:gridCol w="408240"/>
                <a:gridCol w="409320"/>
                <a:gridCol w="392400"/>
                <a:gridCol w="628560"/>
                <a:gridCol w="7160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WR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125280" y="1230480"/>
          <a:ext cx="4353120" cy="2363760"/>
        </p:xfrm>
        <a:graphic>
          <a:graphicData uri="http://schemas.openxmlformats.org/drawingml/2006/table">
            <a:tbl>
              <a:tblPr/>
              <a:tblGrid>
                <a:gridCol w="682920"/>
                <a:gridCol w="715680"/>
                <a:gridCol w="392400"/>
                <a:gridCol w="409320"/>
                <a:gridCol w="411120"/>
                <a:gridCol w="392400"/>
                <a:gridCol w="631800"/>
                <a:gridCol w="7174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>
            <a:off x="304920" y="1908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otal de Incursiones en Pista (1997-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por Aeropuerto, FA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38600" y="1221840"/>
          <a:ext cx="4359240" cy="1969200"/>
        </p:xfrm>
        <a:graphic>
          <a:graphicData uri="http://schemas.openxmlformats.org/drawingml/2006/table">
            <a:tbl>
              <a:tblPr/>
              <a:tblGrid>
                <a:gridCol w="693720"/>
                <a:gridCol w="716040"/>
                <a:gridCol w="390600"/>
                <a:gridCol w="409680"/>
                <a:gridCol w="409320"/>
                <a:gridCol w="392040"/>
                <a:gridCol w="632160"/>
                <a:gridCol w="71568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380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</a:tr>
              <a:tr h="39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3309840" y="330048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34320" y="290052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90760" y="535788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39000" y="582444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4657680" y="3359160"/>
          <a:ext cx="4335480" cy="2355840"/>
        </p:xfrm>
        <a:graphic>
          <a:graphicData uri="http://schemas.openxmlformats.org/drawingml/2006/table">
            <a:tbl>
              <a:tblPr/>
              <a:tblGrid>
                <a:gridCol w="690480"/>
                <a:gridCol w="711360"/>
                <a:gridCol w="388800"/>
                <a:gridCol w="406440"/>
                <a:gridCol w="407880"/>
                <a:gridCol w="390600"/>
                <a:gridCol w="627120"/>
                <a:gridCol w="71280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</a:tr>
              <a:tr h="45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4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645080" y="1480680"/>
          <a:ext cx="4351320" cy="1276920"/>
        </p:xfrm>
        <a:graphic>
          <a:graphicData uri="http://schemas.openxmlformats.org/drawingml/2006/table">
            <a:tbl>
              <a:tblPr/>
              <a:tblGrid>
                <a:gridCol w="679320"/>
                <a:gridCol w="714600"/>
                <a:gridCol w="390240"/>
                <a:gridCol w="408240"/>
                <a:gridCol w="407880"/>
                <a:gridCol w="392040"/>
                <a:gridCol w="644760"/>
                <a:gridCol w="7142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</a:tr>
              <a:tr h="63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C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25280" y="2165400"/>
          <a:ext cx="4349880" cy="2363760"/>
        </p:xfrm>
        <a:graphic>
          <a:graphicData uri="http://schemas.openxmlformats.org/drawingml/2006/table">
            <a:tbl>
              <a:tblPr/>
              <a:tblGrid>
                <a:gridCol w="692280"/>
                <a:gridCol w="714240"/>
                <a:gridCol w="390600"/>
                <a:gridCol w="407880"/>
                <a:gridCol w="408240"/>
                <a:gridCol w="392040"/>
                <a:gridCol w="630360"/>
                <a:gridCol w="71424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tegorí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447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41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ñ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B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ee8d4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3148"/>
                          </a:solidFill>
                          <a:latin typeface="Arial"/>
                        </a:rPr>
                        <a:t>D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Índice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solidFill>
                      <a:srgbClr val="384470"/>
                    </a:solidFill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1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 w="5760">
                      <a:solidFill>
                        <a:srgbClr val="335a6d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35a6d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304920" y="1908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Total de Incursiones en Pista (1997-200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por Aeropuerto, FA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34320" y="541980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95800" y="423396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10560" y="2467080"/>
            <a:ext cx="271440" cy="271440"/>
          </a:xfrm>
          <a:prstGeom prst="ellipse">
            <a:avLst/>
          </a:prstGeom>
          <a:noFill/>
          <a:ln w="19080">
            <a:solidFill>
              <a:srgbClr val="ee8d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44611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4723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cursión de pista en Las Ve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eronave B-727,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43909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6248520"/>
            <a:ext cx="2057400" cy="609480"/>
          </a:xfrm>
          <a:prstGeom prst="rect">
            <a:avLst/>
          </a:prstGeom>
          <a:solidFill>
            <a:srgbClr val="0031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302600" y="6311880"/>
            <a:ext cx="1600200" cy="4809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123840" y="185760"/>
            <a:ext cx="9020160" cy="6672240"/>
            <a:chOff x="123840" y="185760"/>
            <a:chExt cx="9020160" cy="6672240"/>
          </a:xfrm>
        </p:grpSpPr>
        <p:grpSp>
          <p:nvGrpSpPr>
            <p:cNvPr id="162" name=""/>
            <p:cNvGrpSpPr/>
            <p:nvPr/>
          </p:nvGrpSpPr>
          <p:grpSpPr>
            <a:xfrm>
              <a:off x="123840" y="185760"/>
              <a:ext cx="9020160" cy="6672240"/>
              <a:chOff x="123840" y="185760"/>
              <a:chExt cx="9020160" cy="6672240"/>
            </a:xfrm>
          </p:grpSpPr>
          <p:sp>
            <p:nvSpPr>
              <p:cNvPr id="163" name=""/>
              <p:cNvSpPr/>
              <p:nvPr/>
            </p:nvSpPr>
            <p:spPr>
              <a:xfrm>
                <a:off x="7086600" y="6248520"/>
                <a:ext cx="2057400" cy="609480"/>
              </a:xfrm>
              <a:prstGeom prst="rect">
                <a:avLst/>
              </a:prstGeom>
              <a:solidFill>
                <a:srgbClr val="0031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02600" y="6311880"/>
                <a:ext cx="1600200" cy="4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" y="208080"/>
                <a:ext cx="8820000" cy="603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6" name=""/>
              <p:cNvGrpSpPr/>
              <p:nvPr/>
            </p:nvGrpSpPr>
            <p:grpSpPr>
              <a:xfrm>
                <a:off x="795600" y="185760"/>
                <a:ext cx="8222400" cy="5691960"/>
                <a:chOff x="795600" y="185760"/>
                <a:chExt cx="8222400" cy="569196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6569640" y="185760"/>
                  <a:ext cx="2448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Aeropuerto Int. McCarran, 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Las Vegas, Nevada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567240" y="817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357720" y="13320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795760" y="25322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605320" y="27417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29200" y="26179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29040" y="25131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9560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28124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490840" y="46846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405080" y="5570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738440" y="52941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557800" y="35701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167200" y="4427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620880" y="48182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859200" y="478008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392360" y="477036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05520" y="49798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996240" y="49417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821120" y="47894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520040" y="495144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431200" y="498960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034080" y="17892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748240" y="16844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76720" y="15127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603880" y="417996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1594080" y="418932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117800" y="414180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308400" y="4065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29240" y="3943440"/>
                  <a:ext cx="88920" cy="88920"/>
                </a:xfrm>
                <a:prstGeom prst="rect">
                  <a:avLst/>
                </a:prstGeom>
                <a:solidFill>
                  <a:srgbClr val="00835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61280" y="386568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ffffff"/>
                      </a:solidFill>
                      <a:latin typeface="Arial"/>
                    </a:rPr>
                    <a:t>Torre de Control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8" name=""/>
            <p:cNvSpPr/>
            <p:nvPr/>
          </p:nvSpPr>
          <p:spPr>
            <a:xfrm>
              <a:off x="3619440" y="2274840"/>
              <a:ext cx="946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Internacio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94320" y="5003640"/>
            <a:ext cx="770040" cy="55728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847880" y="1986120"/>
            <a:ext cx="4705200" cy="3214080"/>
            <a:chOff x="1847880" y="1986120"/>
            <a:chExt cx="4705200" cy="3214080"/>
          </a:xfrm>
        </p:grpSpPr>
        <p:sp>
          <p:nvSpPr>
            <p:cNvPr id="201" name=""/>
            <p:cNvSpPr/>
            <p:nvPr/>
          </p:nvSpPr>
          <p:spPr>
            <a:xfrm flipH="1">
              <a:off x="1847880" y="2143080"/>
              <a:ext cx="3085920" cy="305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40280" y="1986120"/>
              <a:ext cx="1612800" cy="322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Arial"/>
                </a:rPr>
                <a:t>Pista  en uso 7L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 thruBlk="true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9" dur="1" fill="hold"/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14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23840" y="185760"/>
            <a:ext cx="9020160" cy="6672240"/>
            <a:chOff x="123840" y="185760"/>
            <a:chExt cx="9020160" cy="6672240"/>
          </a:xfrm>
        </p:grpSpPr>
        <p:grpSp>
          <p:nvGrpSpPr>
            <p:cNvPr id="204" name=""/>
            <p:cNvGrpSpPr/>
            <p:nvPr/>
          </p:nvGrpSpPr>
          <p:grpSpPr>
            <a:xfrm>
              <a:off x="123840" y="185760"/>
              <a:ext cx="9020160" cy="6672240"/>
              <a:chOff x="123840" y="185760"/>
              <a:chExt cx="9020160" cy="6672240"/>
            </a:xfrm>
          </p:grpSpPr>
          <p:sp>
            <p:nvSpPr>
              <p:cNvPr id="205" name=""/>
              <p:cNvSpPr/>
              <p:nvPr/>
            </p:nvSpPr>
            <p:spPr>
              <a:xfrm>
                <a:off x="7086600" y="6248520"/>
                <a:ext cx="2057400" cy="609480"/>
              </a:xfrm>
              <a:prstGeom prst="rect">
                <a:avLst/>
              </a:prstGeom>
              <a:solidFill>
                <a:srgbClr val="0031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302600" y="6311880"/>
                <a:ext cx="1600200" cy="480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3840" y="208080"/>
                <a:ext cx="8820000" cy="6032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8" name=""/>
              <p:cNvGrpSpPr/>
              <p:nvPr/>
            </p:nvGrpSpPr>
            <p:grpSpPr>
              <a:xfrm>
                <a:off x="795600" y="185760"/>
                <a:ext cx="8222400" cy="5691960"/>
                <a:chOff x="795600" y="185760"/>
                <a:chExt cx="8222400" cy="56919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569640" y="185760"/>
                  <a:ext cx="244836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Aeropuerto Int. McCarran, 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500" spc="-1" strike="noStrike">
                      <a:solidFill>
                        <a:srgbClr val="ffffff"/>
                      </a:solidFill>
                      <a:latin typeface="Arial"/>
                    </a:rPr>
                    <a:t>Las Vegas, Nevada</a:t>
                  </a:r>
                  <a:endParaRPr b="0" lang="en-US" sz="15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67240" y="8175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357720" y="13320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795760" y="25322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605320" y="27417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329200" y="26179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129040" y="251316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9560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81240" y="49132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490840" y="46846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1405080" y="5570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1738440" y="529416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557800" y="35701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167200" y="44276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620880" y="48182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7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859200" y="478008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4392360" y="477036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5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205520" y="49798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96240" y="494172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821120" y="478944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20040" y="495144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431200" y="4989600"/>
                  <a:ext cx="398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B1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034080" y="178920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48240" y="168444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376720" y="1512720"/>
                  <a:ext cx="308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603880" y="417996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594080" y="418932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117800" y="414180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308400" y="4065480"/>
                  <a:ext cx="348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400" spc="-1" strike="noStrike">
                      <a:solidFill>
                        <a:srgbClr val="ffffff"/>
                      </a:solidFill>
                      <a:latin typeface="Arial"/>
                    </a:rPr>
                    <a:t>W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629240" y="3943440"/>
                  <a:ext cx="88920" cy="88920"/>
                </a:xfrm>
                <a:prstGeom prst="rect">
                  <a:avLst/>
                </a:prstGeom>
                <a:solidFill>
                  <a:srgbClr val="00835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661280" y="3865680"/>
                  <a:ext cx="1101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000" spc="-1" strike="noStrike">
                      <a:solidFill>
                        <a:srgbClr val="ffffff"/>
                      </a:solidFill>
                      <a:latin typeface="Arial"/>
                    </a:rPr>
                    <a:t>Torre de Control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0" name=""/>
            <p:cNvSpPr/>
            <p:nvPr/>
          </p:nvSpPr>
          <p:spPr>
            <a:xfrm>
              <a:off x="3619440" y="2274840"/>
              <a:ext cx="946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Termi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ffffff"/>
                  </a:solidFill>
                  <a:latin typeface="Arial"/>
                </a:rPr>
                <a:t>Internacion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4673520" y="1871640"/>
            <a:ext cx="3301920" cy="3166920"/>
            <a:chOff x="4673520" y="1871640"/>
            <a:chExt cx="3301920" cy="3166920"/>
          </a:xfrm>
        </p:grpSpPr>
        <p:sp>
          <p:nvSpPr>
            <p:cNvPr id="242" name=""/>
            <p:cNvSpPr/>
            <p:nvPr/>
          </p:nvSpPr>
          <p:spPr>
            <a:xfrm>
              <a:off x="6319800" y="2886120"/>
              <a:ext cx="636480" cy="2152440"/>
            </a:xfrm>
            <a:custGeom>
              <a:avLst/>
              <a:gdLst/>
              <a:ahLst/>
              <a:rect l="l" t="t" r="r" b="b"/>
              <a:pathLst>
                <a:path w="401" h="1359">
                  <a:moveTo>
                    <a:pt x="0" y="0"/>
                  </a:moveTo>
                  <a:lnTo>
                    <a:pt x="401" y="1359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73520" y="1871640"/>
              <a:ext cx="3301920" cy="1006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500" spc="-1" strike="noStrike">
                  <a:solidFill>
                    <a:srgbClr val="ffffff"/>
                  </a:solidFill>
                  <a:latin typeface="Arial"/>
                </a:rPr>
                <a:t>Al abandonar la pista en uso, las </a:t>
              </a:r>
              <a:r>
                <a:rPr b="0" lang="es-MX" sz="1500" spc="-1" strike="noStrike">
                  <a:solidFill>
                    <a:srgbClr val="ee8d40"/>
                  </a:solidFill>
                  <a:latin typeface="Arial"/>
                </a:rPr>
                <a:t>instrucciones</a:t>
              </a:r>
              <a:r>
                <a:rPr b="0" lang="es-MX" sz="1500" spc="-1" strike="noStrike">
                  <a:solidFill>
                    <a:srgbClr val="ffffff"/>
                  </a:solidFill>
                  <a:latin typeface="Arial"/>
                </a:rPr>
                <a:t> del Control  Terrestre fueron continuar vía pistas de carreteo BRAVO, DELTA y </a:t>
              </a:r>
              <a:r>
                <a:rPr b="0" lang="es-MX" sz="1500" spc="-1" strike="noStrike">
                  <a:solidFill>
                    <a:srgbClr val="ee8d40"/>
                  </a:solidFill>
                  <a:latin typeface="Arial"/>
                </a:rPr>
                <a:t>SIERRA.</a:t>
              </a:r>
              <a:endParaRPr b="0" lang="en-US" sz="15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396120" y="500544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6389640" y="4995720"/>
            <a:ext cx="776160" cy="552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6399360" y="4987800"/>
            <a:ext cx="758520" cy="534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6"/>
          <a:stretch/>
        </p:blipFill>
        <p:spPr>
          <a:xfrm>
            <a:off x="6405480" y="5000760"/>
            <a:ext cx="717480" cy="503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7"/>
          <a:stretch/>
        </p:blipFill>
        <p:spPr>
          <a:xfrm>
            <a:off x="6418440" y="4938840"/>
            <a:ext cx="657000" cy="5731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8"/>
          <a:stretch/>
        </p:blipFill>
        <p:spPr>
          <a:xfrm>
            <a:off x="6448320" y="4905360"/>
            <a:ext cx="576360" cy="6541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9"/>
          <a:stretch/>
        </p:blipFill>
        <p:spPr>
          <a:xfrm>
            <a:off x="6469200" y="4871880"/>
            <a:ext cx="503280" cy="7160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0"/>
          <a:stretch/>
        </p:blipFill>
        <p:spPr>
          <a:xfrm>
            <a:off x="6477120" y="4851360"/>
            <a:ext cx="534960" cy="757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1"/>
          <a:stretch/>
        </p:blipFill>
        <p:spPr>
          <a:xfrm>
            <a:off x="6496200" y="4834080"/>
            <a:ext cx="552240" cy="7761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2"/>
          <a:stretch/>
        </p:blipFill>
        <p:spPr>
          <a:xfrm>
            <a:off x="6510240" y="4813200"/>
            <a:ext cx="558720" cy="771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3"/>
          <a:stretch/>
        </p:blipFill>
        <p:spPr>
          <a:xfrm>
            <a:off x="6540480" y="4811760"/>
            <a:ext cx="552600" cy="776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4"/>
          <a:stretch/>
        </p:blipFill>
        <p:spPr>
          <a:xfrm>
            <a:off x="6580080" y="4819680"/>
            <a:ext cx="534960" cy="75888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5"/>
          <a:stretch/>
        </p:blipFill>
        <p:spPr>
          <a:xfrm>
            <a:off x="6618240" y="4840200"/>
            <a:ext cx="503280" cy="7174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6"/>
          <a:stretch/>
        </p:blipFill>
        <p:spPr>
          <a:xfrm>
            <a:off x="6570720" y="4856040"/>
            <a:ext cx="573120" cy="6573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7"/>
          <a:stretch/>
        </p:blipFill>
        <p:spPr>
          <a:xfrm>
            <a:off x="6524640" y="4876920"/>
            <a:ext cx="654120" cy="576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8"/>
          <a:stretch/>
        </p:blipFill>
        <p:spPr>
          <a:xfrm>
            <a:off x="6486480" y="4906800"/>
            <a:ext cx="716040" cy="5032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9"/>
          <a:stretch/>
        </p:blipFill>
        <p:spPr>
          <a:xfrm>
            <a:off x="6454800" y="4861080"/>
            <a:ext cx="757080" cy="5349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0"/>
          <a:stretch/>
        </p:blipFill>
        <p:spPr>
          <a:xfrm>
            <a:off x="6418440" y="4811760"/>
            <a:ext cx="776160" cy="552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1"/>
          <a:stretch/>
        </p:blipFill>
        <p:spPr>
          <a:xfrm>
            <a:off x="6299280" y="477684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2"/>
          <a:stretch/>
        </p:blipFill>
        <p:spPr>
          <a:xfrm>
            <a:off x="6184800" y="4759200"/>
            <a:ext cx="771480" cy="5590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3"/>
          <a:stretch/>
        </p:blipFill>
        <p:spPr>
          <a:xfrm>
            <a:off x="6060960" y="475776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4"/>
          <a:stretch/>
        </p:blipFill>
        <p:spPr>
          <a:xfrm>
            <a:off x="5935680" y="4759200"/>
            <a:ext cx="771480" cy="5590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5"/>
          <a:stretch/>
        </p:blipFill>
        <p:spPr>
          <a:xfrm>
            <a:off x="5816520" y="4759200"/>
            <a:ext cx="771480" cy="5590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6"/>
          <a:stretch/>
        </p:blipFill>
        <p:spPr>
          <a:xfrm>
            <a:off x="5692680" y="475776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7"/>
          <a:stretch/>
        </p:blipFill>
        <p:spPr>
          <a:xfrm>
            <a:off x="5578560" y="475308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8"/>
          <a:stretch/>
        </p:blipFill>
        <p:spPr>
          <a:xfrm>
            <a:off x="5457960" y="474660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9"/>
          <a:stretch/>
        </p:blipFill>
        <p:spPr>
          <a:xfrm>
            <a:off x="5334120" y="473544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0"/>
          <a:stretch/>
        </p:blipFill>
        <p:spPr>
          <a:xfrm>
            <a:off x="5213520" y="473544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1"/>
          <a:stretch/>
        </p:blipFill>
        <p:spPr>
          <a:xfrm>
            <a:off x="5095800" y="4732200"/>
            <a:ext cx="771480" cy="5590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32"/>
          <a:stretch/>
        </p:blipFill>
        <p:spPr>
          <a:xfrm>
            <a:off x="4971960" y="473076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3"/>
          <a:stretch/>
        </p:blipFill>
        <p:spPr>
          <a:xfrm>
            <a:off x="4848120" y="47293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4"/>
          <a:stretch/>
        </p:blipFill>
        <p:spPr>
          <a:xfrm>
            <a:off x="4727520" y="47293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5"/>
          <a:stretch/>
        </p:blipFill>
        <p:spPr>
          <a:xfrm>
            <a:off x="4603680" y="47293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6"/>
          <a:stretch/>
        </p:blipFill>
        <p:spPr>
          <a:xfrm>
            <a:off x="4486320" y="473400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7"/>
          <a:stretch/>
        </p:blipFill>
        <p:spPr>
          <a:xfrm>
            <a:off x="4363920" y="473076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8"/>
          <a:stretch/>
        </p:blipFill>
        <p:spPr>
          <a:xfrm>
            <a:off x="4245120" y="472608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9"/>
          <a:stretch/>
        </p:blipFill>
        <p:spPr>
          <a:xfrm>
            <a:off x="4124160" y="4724280"/>
            <a:ext cx="771840" cy="5590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40"/>
          <a:stretch/>
        </p:blipFill>
        <p:spPr>
          <a:xfrm>
            <a:off x="3997440" y="4724280"/>
            <a:ext cx="771480" cy="5590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1"/>
          <a:stretch/>
        </p:blipFill>
        <p:spPr>
          <a:xfrm>
            <a:off x="3879720" y="4724280"/>
            <a:ext cx="771480" cy="559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42"/>
          <a:stretch/>
        </p:blipFill>
        <p:spPr>
          <a:xfrm>
            <a:off x="3755880" y="4724280"/>
            <a:ext cx="771840" cy="5590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3"/>
          <a:stretch/>
        </p:blipFill>
        <p:spPr>
          <a:xfrm>
            <a:off x="3637080" y="472284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44"/>
          <a:stretch/>
        </p:blipFill>
        <p:spPr>
          <a:xfrm>
            <a:off x="3516480" y="472140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45"/>
          <a:stretch/>
        </p:blipFill>
        <p:spPr>
          <a:xfrm>
            <a:off x="3400560" y="4714920"/>
            <a:ext cx="776160" cy="5554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6"/>
          <a:stretch/>
        </p:blipFill>
        <p:spPr>
          <a:xfrm>
            <a:off x="3276720" y="4689360"/>
            <a:ext cx="776160" cy="5558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47"/>
          <a:stretch/>
        </p:blipFill>
        <p:spPr>
          <a:xfrm>
            <a:off x="3247920" y="46465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8"/>
          <a:stretch/>
        </p:blipFill>
        <p:spPr>
          <a:xfrm>
            <a:off x="3125880" y="464976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9"/>
          <a:stretch/>
        </p:blipFill>
        <p:spPr>
          <a:xfrm>
            <a:off x="299880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50"/>
          <a:stretch/>
        </p:blipFill>
        <p:spPr>
          <a:xfrm>
            <a:off x="288288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51"/>
          <a:stretch/>
        </p:blipFill>
        <p:spPr>
          <a:xfrm>
            <a:off x="275436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52"/>
          <a:stretch/>
        </p:blipFill>
        <p:spPr>
          <a:xfrm>
            <a:off x="263844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3"/>
          <a:stretch/>
        </p:blipFill>
        <p:spPr>
          <a:xfrm>
            <a:off x="251460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4"/>
          <a:stretch/>
        </p:blipFill>
        <p:spPr>
          <a:xfrm>
            <a:off x="239544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55"/>
          <a:stretch/>
        </p:blipFill>
        <p:spPr>
          <a:xfrm>
            <a:off x="227016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6"/>
          <a:stretch/>
        </p:blipFill>
        <p:spPr>
          <a:xfrm>
            <a:off x="214956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7"/>
          <a:stretch/>
        </p:blipFill>
        <p:spPr>
          <a:xfrm>
            <a:off x="202896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8"/>
          <a:stretch/>
        </p:blipFill>
        <p:spPr>
          <a:xfrm>
            <a:off x="1908000" y="4660920"/>
            <a:ext cx="771840" cy="55872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59"/>
          <a:stretch/>
        </p:blipFill>
        <p:spPr>
          <a:xfrm>
            <a:off x="1787400" y="4660920"/>
            <a:ext cx="771480" cy="5587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60"/>
          <a:stretch/>
        </p:blipFill>
        <p:spPr>
          <a:xfrm>
            <a:off x="1668600" y="4660920"/>
            <a:ext cx="771480" cy="558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4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6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5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8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2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00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95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evt="end">
                                        <p:tn val="254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evt="end">
                                        <p:tn val="266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2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evt="end">
                                        <p:tn val="282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evt="end">
                                        <p:tn val="286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6" dur="1" fill="hold">
                                    <p:stCondLst>
                                      <p:cond evt="end">
                                        <p:tn val="294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2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8" dur="1" fill="hold">
                                    <p:stCondLst>
                                      <p:cond evt="end">
                                        <p:tn val="306"/>
                                      </p:cond>
                                    </p:stCondLst>
                                  </p:cTn>
                                  <p:tgtEl>
                                    <p:spTgt spid="2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10"/>
                                      </p:cond>
                                    </p:stCondLst>
                                  </p:cTn>
                                  <p:tgtEl>
                                    <p:spTgt spid="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evt="end">
                                        <p:tn val="318"/>
                                      </p:cond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8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2"/>
                                      </p:cond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9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8" dur="1" fill="hold">
                                    <p:stCondLst>
                                      <p:cond evt="end">
                                        <p:tn val="326"/>
                                      </p:cond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30"/>
                                      </p:cond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6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0" dur="1" fill="hold">
                                    <p:stCondLst>
                                      <p:cond evt="end">
                                        <p:tn val="338"/>
                                      </p:cond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15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8" dur="1" fill="hold">
                                    <p:stCondLst>
                                      <p:cond evt="end">
                                        <p:tn val="346"/>
                                      </p:cond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2" dur="1" fill="hold">
                                    <p:stCondLst>
                                      <p:cond evt="end">
                                        <p:tn val="350"/>
                                      </p:cond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6" dur="1" fill="hold">
                                    <p:stCondLst>
                                      <p:cond evt="end">
                                        <p:tn val="354"/>
                                      </p:cond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3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0" dur="1" fill="hold">
                                    <p:stCondLst>
                                      <p:cond evt="end">
                                        <p:tn val="358"/>
                                      </p:cond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evt="end">
                                        <p:tn val="362"/>
                                      </p:cond>
                                    </p:stCondLst>
                                  </p:cTn>
                                  <p:tgtEl>
                                    <p:spTgt spid="2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8" dur="1" fill="hold">
                                    <p:stCondLst>
                                      <p:cond evt="end">
                                        <p:tn val="366"/>
                                      </p:cond>
                                    </p:stCondLst>
                                  </p:cTn>
                                  <p:tgtEl>
                                    <p:spTgt spid="2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4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evt="end">
                                        <p:tn val="370"/>
                                      </p:cond>
                                    </p:stCondLst>
                                  </p:cTn>
                                  <p:tgtEl>
                                    <p:spTgt spid="2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5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6" dur="1" fill="hold">
                                    <p:stCondLst>
                                      <p:cond evt="end">
                                        <p:tn val="374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55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0" dur="1" fill="hold">
                                    <p:stCondLst>
                                      <p:cond evt="end">
                                        <p:tn val="378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6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2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65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90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6" dur="1" fill="hold">
                                    <p:stCondLst>
                                      <p:cond evt="end">
                                        <p:tn val="394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0" dur="1" fill="hold">
                                    <p:stCondLst>
                                      <p:cond evt="end">
                                        <p:tn val="398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8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5T18:46:52Z</dcterms:created>
  <dc:creator>Francisco Toledo Iturbe</dc:creator>
  <dc:description/>
  <dc:language>en-US</dc:language>
  <cp:lastModifiedBy>Claudia Lopez</cp:lastModifiedBy>
  <dcterms:modified xsi:type="dcterms:W3CDTF">2002-10-16T16:14:43Z</dcterms:modified>
  <cp:revision>442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8600.00000000</vt:lpwstr>
  </property>
  <property fmtid="{D5CDD505-2E9C-101B-9397-08002B2CF9AE}" pid="5" name="Year">
    <vt:lpwstr>2002</vt:lpwstr>
  </property>
</Properties>
</file>