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1.wmf" ContentType="image/x-wmf"/>
  <Override PartName="/ppt/media/image18.png" ContentType="image/png"/>
  <Override PartName="/ppt/media/image6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5.wmf" ContentType="image/x-wmf"/>
  <Override PartName="/ppt/media/TYPE.WAV" ContentType="audio/x-wav"/>
  <Override PartName="/ppt/media/image12.wmf" ContentType="image/x-wmf"/>
  <Override PartName="/ppt/media/image27.png" ContentType="image/png"/>
  <Override PartName="/ppt/media/image9.wmf" ContentType="image/x-wmf"/>
  <Override PartName="/ppt/media/image26.png" ContentType="image/png"/>
  <Override PartName="/ppt/media/image11.wmf" ContentType="image/x-wmf"/>
  <Override PartName="/ppt/media/image4.jpeg" ContentType="image/jpeg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14.wmf" ContentType="image/x-wmf"/>
  <Override PartName="/ppt/media/image29.png" ContentType="image/png"/>
  <Override PartName="/ppt/media/image2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wmf" ContentType="image/x-wmf"/>
  <Override PartName="/ppt/media/image16.png" ContentType="image/png"/>
  <Override PartName="/ppt/media/image17.png" ContentType="image/png"/>
  <Override PartName="/ppt/media/image1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C54E-E160-42F1-A693-DB33C1479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his presentation was prepared by the FSF ALAR Task Force as a product to help prevent approach-and-landing accidents (ALAs), including those involving controlled flight into terrain (CFI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4DBB-A023-49E0-8DC9-C94C70A8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218D-1729-4035-8F19-26D2EB3E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702-B2A2-4122-BC2C-8016CE56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A7F4-3A5B-481A-B1F5-A4950F42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50CB-0580-41FD-8A23-2336558C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AE20-FF9B-48C8-AA82-E7E793D1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7C47-F1B2-41E6-B309-5602D2B3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208D-1A37-4275-A043-E28E2528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2B7A-4D16-49AF-AFA6-4DCED141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5A5-E988-425A-8C6A-76937151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5AD3-39B1-4A46-B00D-1A80479F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C1E-DD59-4324-B16A-719B5493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1509-F9EC-49C9-BC66-9F44A90A7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387600" y="3886200"/>
            <a:ext cx="2368800" cy="1752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764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828800" y="2286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 escenario de Incursión de Pi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10666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as y Recomendaciones…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228600" y="5486400"/>
            <a:ext cx="106668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61120" y="549432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1800" spc="-1" strike="noStrike">
                <a:solidFill>
                  <a:srgbClr val="000099"/>
                </a:solidFill>
                <a:latin typeface="Arial Black"/>
              </a:rPr>
              <a:t>Cap. Sven Boe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1800" spc="-1" strike="noStrike">
                <a:solidFill>
                  <a:srgbClr val="000099"/>
                </a:solidFill>
                <a:latin typeface="Arial Black"/>
              </a:rPr>
              <a:t>Flight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1800" spc="-1" strike="noStrike">
                <a:solidFill>
                  <a:srgbClr val="000099"/>
                </a:solidFill>
                <a:latin typeface="Arial Black"/>
              </a:rPr>
              <a:t>GRUPO T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962520" y="2819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52120" y="4495680"/>
            <a:ext cx="5705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B747 Korean Airlines – B747 China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Chicago O’Hara / 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(separación fué de 3 segundos y 75 pies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(Posibles fatalidade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3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1000" y="533520"/>
            <a:ext cx="76741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O el simple descuido de una tripulació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(Desviación de Pilo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(para mencionar solo algun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7720" y="31240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Video #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8600" y="38088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siguiente es una recreación de acontecimientos casi fatales, ocurridos en Providence, Rhode Isl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uelo 1448 de United Airlines, acaba de aterrizar con 1/2 milla       de visibilidad (causada por neblina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38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os de los “ingredientes” para un accidente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cursión de Pista estuvieron pres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8040" y="3809880"/>
            <a:ext cx="505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-  CRM y fraseología inadec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Baja conciencia situ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Errores operacionales (A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Quebranto en las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Baja vi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No adherencia a SOP´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Poca familiaridad con Aeropue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9051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19051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454560" y="6264720"/>
            <a:ext cx="633960" cy="653040"/>
            <a:chOff x="3454560" y="6264720"/>
            <a:chExt cx="633960" cy="653040"/>
          </a:xfrm>
        </p:grpSpPr>
        <p:sp>
          <p:nvSpPr>
            <p:cNvPr id="194" name=""/>
            <p:cNvSpPr/>
            <p:nvPr/>
          </p:nvSpPr>
          <p:spPr>
            <a:xfrm rot="7802400">
              <a:off x="3849480" y="65815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7802400">
              <a:off x="3849480" y="65815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7802400">
              <a:off x="3751560" y="64998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7802400">
              <a:off x="3751560" y="64998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7802400">
              <a:off x="3720240" y="65610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802400">
              <a:off x="3720240" y="65610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7802400">
              <a:off x="3684240" y="65437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7802400">
              <a:off x="3684240" y="65437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7802400">
              <a:off x="3642120" y="6531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7802400">
              <a:off x="3642120" y="6531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7802400">
              <a:off x="3803760" y="66308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7802400">
              <a:off x="3803760" y="66308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7802400">
              <a:off x="3824640" y="6661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7802400">
              <a:off x="3824640" y="6661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7802400">
              <a:off x="3844440" y="67017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7802400">
              <a:off x="3844440" y="67017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7802400">
              <a:off x="3751920" y="64699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7802400">
              <a:off x="3751920" y="64699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7802400">
              <a:off x="3564720" y="66992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7802400">
              <a:off x="3564720" y="66992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7802400">
              <a:off x="3624120" y="67489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7802400">
              <a:off x="3624120" y="67489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7802400">
              <a:off x="3849840" y="65523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7802400">
              <a:off x="3849840" y="65523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7802400">
              <a:off x="3504600" y="6401160"/>
              <a:ext cx="53352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7802400">
              <a:off x="3504600" y="6401160"/>
              <a:ext cx="53352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7802400">
              <a:off x="3643560" y="644472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7802400">
              <a:off x="3771000" y="649188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711600" y="6501960"/>
              <a:ext cx="21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7802400">
              <a:off x="3713400" y="65455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676680" y="649944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643920" y="649656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802400">
              <a:off x="3649680" y="646344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802400">
              <a:off x="3660120" y="649368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7802400">
              <a:off x="3726360" y="653580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3752640" y="6500160"/>
              <a:ext cx="6696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3697200" y="6528960"/>
              <a:ext cx="43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677760" y="6524640"/>
              <a:ext cx="360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657240" y="6520320"/>
              <a:ext cx="3240" cy="8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7802400">
              <a:off x="3576240" y="67129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7802400">
              <a:off x="3638160" y="67651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802400">
              <a:off x="3587760" y="67435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3623040" y="6765840"/>
              <a:ext cx="2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7802400">
              <a:off x="3585600" y="65073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7802400">
              <a:off x="3831840" y="660276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7802400">
              <a:off x="3848760" y="6569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7802400">
              <a:off x="3848760" y="6569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7802400">
              <a:off x="3835080" y="65455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65320" y="6633000"/>
              <a:ext cx="396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7802400">
              <a:off x="3820680" y="66355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873960" y="6666840"/>
              <a:ext cx="396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882960" y="669888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7802400">
              <a:off x="3805560" y="659448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7802400">
              <a:off x="3826440" y="663336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7802400">
              <a:off x="3819600" y="661428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3786120" y="6528240"/>
              <a:ext cx="6660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837240" y="6649920"/>
              <a:ext cx="792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3845520" y="6669000"/>
              <a:ext cx="756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52720" y="6688440"/>
              <a:ext cx="792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7802400">
              <a:off x="3876840" y="67521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7802400">
              <a:off x="3815280" y="65649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7802400">
              <a:off x="3782880" y="65376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7802400">
              <a:off x="3897720" y="64584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7802400">
              <a:off x="3867840" y="643392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7802400">
              <a:off x="3686400" y="670752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7802400">
              <a:off x="3659760" y="668556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7802400">
              <a:off x="3903840" y="639792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 flipV="1">
              <a:off x="3924720" y="642528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926520" y="6417000"/>
              <a:ext cx="5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925440" y="6403680"/>
              <a:ext cx="39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3914640" y="6403320"/>
              <a:ext cx="10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04920" y="6408360"/>
              <a:ext cx="32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7802400">
              <a:off x="3749760" y="6486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7802400">
              <a:off x="3749760" y="6486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445640" y="4969800"/>
            <a:ext cx="633600" cy="652680"/>
            <a:chOff x="4445640" y="4969800"/>
            <a:chExt cx="633600" cy="652680"/>
          </a:xfrm>
        </p:grpSpPr>
        <p:sp>
          <p:nvSpPr>
            <p:cNvPr id="269" name=""/>
            <p:cNvSpPr/>
            <p:nvPr/>
          </p:nvSpPr>
          <p:spPr>
            <a:xfrm rot="7802400">
              <a:off x="4840200" y="52862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7802400">
              <a:off x="4840200" y="52862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7802400">
              <a:off x="4742280" y="52045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7802400">
              <a:off x="4742280" y="52045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7802400">
              <a:off x="4710960" y="526572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7802400">
              <a:off x="4710960" y="526572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7802400">
              <a:off x="4674960" y="5248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7802400">
              <a:off x="4674960" y="5248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7802400">
              <a:off x="4632840" y="52365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7802400">
              <a:off x="4632840" y="52365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7802400">
              <a:off x="4794480" y="53355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7802400">
              <a:off x="4794480" y="53355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7802400">
              <a:off x="4815360" y="53665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802400">
              <a:off x="4815360" y="53665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802400">
              <a:off x="4835160" y="5406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802400">
              <a:off x="4835160" y="5406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7802400">
              <a:off x="4743000" y="517500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7802400">
              <a:off x="4743000" y="517500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7802400">
              <a:off x="4555440" y="5403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7802400">
              <a:off x="4555440" y="5403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7802400">
              <a:off x="4615200" y="54536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7802400">
              <a:off x="4615200" y="54536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7802400">
              <a:off x="4840560" y="52570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7802400">
              <a:off x="4840560" y="52570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7802400">
              <a:off x="4495320" y="51062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7802400">
              <a:off x="4495320" y="51062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7802400">
              <a:off x="4634280" y="514980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7802400">
              <a:off x="4761720" y="51966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4702680" y="5207040"/>
              <a:ext cx="18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7802400">
              <a:off x="4704480" y="5250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667760" y="5204520"/>
              <a:ext cx="18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635000" y="520164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7802400">
              <a:off x="4640760" y="516852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7802400">
              <a:off x="4651200" y="519876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7802400">
              <a:off x="4717440" y="52408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743720" y="5205240"/>
              <a:ext cx="6696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4687920" y="5233680"/>
              <a:ext cx="43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4668840" y="5229720"/>
              <a:ext cx="360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4648320" y="5225400"/>
              <a:ext cx="32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7802400">
              <a:off x="4567320" y="541836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7802400">
              <a:off x="4629240" y="546984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7802400">
              <a:off x="4578480" y="544860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4614120" y="54709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7802400">
              <a:off x="4576680" y="52124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7802400">
              <a:off x="4822560" y="530784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7802400">
              <a:off x="4839480" y="52743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7802400">
              <a:off x="4839480" y="52743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7802400">
              <a:off x="4825800" y="525024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4856400" y="533772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7802400">
              <a:off x="4811760" y="5340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864680" y="5371920"/>
              <a:ext cx="432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4873680" y="540360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7802400">
              <a:off x="4796280" y="52992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7802400">
              <a:off x="4817160" y="533844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7802400">
              <a:off x="4810680" y="531936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4776840" y="5232960"/>
              <a:ext cx="6660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828320" y="5354640"/>
              <a:ext cx="7920" cy="5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36240" y="5373720"/>
              <a:ext cx="756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843440" y="5393160"/>
              <a:ext cx="792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7802400">
              <a:off x="4867560" y="54568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7802400">
              <a:off x="4806000" y="526968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7802400">
              <a:off x="4773600" y="52423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7802400">
              <a:off x="4888440" y="516312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7802400">
              <a:off x="4858560" y="513864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7802400">
              <a:off x="4677480" y="541260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7802400">
              <a:off x="4650480" y="539028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7802400">
              <a:off x="4894920" y="51030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4915800" y="5130360"/>
              <a:ext cx="360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917600" y="5121720"/>
              <a:ext cx="5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916160" y="5108400"/>
              <a:ext cx="39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905360" y="5108040"/>
              <a:ext cx="10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96000" y="5113440"/>
              <a:ext cx="324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7802400">
              <a:off x="4740480" y="51915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7802400">
              <a:off x="4740480" y="51915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283360" y="3750120"/>
            <a:ext cx="633960" cy="653040"/>
            <a:chOff x="5283360" y="3750120"/>
            <a:chExt cx="633960" cy="653040"/>
          </a:xfrm>
        </p:grpSpPr>
        <p:sp>
          <p:nvSpPr>
            <p:cNvPr id="344" name=""/>
            <p:cNvSpPr/>
            <p:nvPr/>
          </p:nvSpPr>
          <p:spPr>
            <a:xfrm rot="7802400">
              <a:off x="5678280" y="40669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7802400">
              <a:off x="5678280" y="40669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rot="7802400">
              <a:off x="5580360" y="39852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7802400">
              <a:off x="5580360" y="39852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7802400">
              <a:off x="5549040" y="404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7802400">
              <a:off x="5549040" y="404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7802400">
              <a:off x="5513040" y="40291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7802400">
              <a:off x="5513040" y="40291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7802400">
              <a:off x="5470920" y="4016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7802400">
              <a:off x="5470920" y="4016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7802400">
              <a:off x="5632560" y="41162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7802400">
              <a:off x="5632560" y="41162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7802400">
              <a:off x="5653440" y="41472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7802400">
              <a:off x="5653440" y="41472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7802400">
              <a:off x="5673240" y="41871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7802400">
              <a:off x="5673240" y="41871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7802400">
              <a:off x="5580720" y="39553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7802400">
              <a:off x="5580720" y="39553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802400">
              <a:off x="5393520" y="41846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7802400">
              <a:off x="5393520" y="41846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7802400">
              <a:off x="5452920" y="42343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802400">
              <a:off x="5452920" y="42343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802400">
              <a:off x="5678640" y="40377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802400">
              <a:off x="5678640" y="40377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802400">
              <a:off x="5333400" y="3886560"/>
              <a:ext cx="53352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802400">
              <a:off x="5333400" y="3886560"/>
              <a:ext cx="53352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802400">
              <a:off x="5472360" y="393012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802400">
              <a:off x="5599800" y="397728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5540400" y="3987360"/>
              <a:ext cx="21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802400">
              <a:off x="5542200" y="40309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505480" y="398484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72720" y="398196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802400">
              <a:off x="5478480" y="394884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802400">
              <a:off x="5488920" y="397908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802400">
              <a:off x="5555160" y="402120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5581440" y="3985560"/>
              <a:ext cx="6696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5526000" y="4014360"/>
              <a:ext cx="43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506560" y="4010040"/>
              <a:ext cx="360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5486040" y="4005720"/>
              <a:ext cx="3240" cy="8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802400">
              <a:off x="5405040" y="41983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802400">
              <a:off x="5466960" y="42505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802400">
              <a:off x="5416560" y="42289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5451840" y="4251240"/>
              <a:ext cx="2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802400">
              <a:off x="5414400" y="39927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802400">
              <a:off x="5660640" y="408816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802400">
              <a:off x="5677560" y="40550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802400">
              <a:off x="5677560" y="40550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802400">
              <a:off x="5663880" y="4030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694120" y="4118400"/>
              <a:ext cx="396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802400">
              <a:off x="5649480" y="41209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702760" y="4152240"/>
              <a:ext cx="396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5711760" y="418428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802400">
              <a:off x="5634360" y="407988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802400">
              <a:off x="5655240" y="411876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802400">
              <a:off x="5648400" y="409968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5614920" y="4013640"/>
              <a:ext cx="6660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5666040" y="4135320"/>
              <a:ext cx="792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5674320" y="4154400"/>
              <a:ext cx="756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681520" y="4173840"/>
              <a:ext cx="792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802400">
              <a:off x="5705640" y="42375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802400">
              <a:off x="5644080" y="40503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802400">
              <a:off x="5611680" y="40230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802400">
              <a:off x="5726520" y="39438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802400">
              <a:off x="5696640" y="391932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802400">
              <a:off x="5515200" y="419292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802400">
              <a:off x="5488560" y="417096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802400">
              <a:off x="5732640" y="388332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 flipV="1">
              <a:off x="5753520" y="391068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5755320" y="3902400"/>
              <a:ext cx="54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754240" y="3889080"/>
              <a:ext cx="39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5743440" y="3888720"/>
              <a:ext cx="10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33720" y="3893760"/>
              <a:ext cx="324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802400">
              <a:off x="5578560" y="39722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802400">
              <a:off x="5578560" y="39722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198120" y="2530800"/>
            <a:ext cx="633600" cy="652680"/>
            <a:chOff x="6198120" y="2530800"/>
            <a:chExt cx="633600" cy="652680"/>
          </a:xfrm>
        </p:grpSpPr>
        <p:sp>
          <p:nvSpPr>
            <p:cNvPr id="419" name=""/>
            <p:cNvSpPr/>
            <p:nvPr/>
          </p:nvSpPr>
          <p:spPr>
            <a:xfrm rot="7802400">
              <a:off x="6592680" y="284796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802400">
              <a:off x="6592680" y="284796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802400">
              <a:off x="6494760" y="276624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802400">
              <a:off x="6494760" y="276624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802400">
              <a:off x="6463440" y="28274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802400">
              <a:off x="6463440" y="28274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802400">
              <a:off x="6427440" y="28101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2400">
              <a:off x="6427440" y="28101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802400">
              <a:off x="6384960" y="27979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802400">
              <a:off x="6384960" y="27979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802400">
              <a:off x="6546600" y="28972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802400">
              <a:off x="6546600" y="28972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802400">
              <a:off x="6567480" y="29282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802400">
              <a:off x="6567480" y="29282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802400">
              <a:off x="6587640" y="29682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802400">
              <a:off x="6587640" y="29682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802400">
              <a:off x="6495120" y="27363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802400">
              <a:off x="6495120" y="27363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802400">
              <a:off x="6307920" y="29653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802400">
              <a:off x="6307920" y="29653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802400">
              <a:off x="6367320" y="301500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802400">
              <a:off x="6367320" y="301500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802400">
              <a:off x="6593040" y="28184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802400">
              <a:off x="6593040" y="28184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802400">
              <a:off x="6248160" y="266724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802400">
              <a:off x="6248160" y="266724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802400">
              <a:off x="6386760" y="271080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802400">
              <a:off x="6513840" y="275796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6454800" y="2768400"/>
              <a:ext cx="18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802400">
              <a:off x="6456240" y="281160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6419880" y="276552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387120" y="276300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802400">
              <a:off x="6392520" y="272988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802400">
              <a:off x="6403320" y="27601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802400">
              <a:off x="6469200" y="280224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495480" y="2766600"/>
              <a:ext cx="6696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6440400" y="2795040"/>
              <a:ext cx="43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6420600" y="2791080"/>
              <a:ext cx="360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6400440" y="2786400"/>
              <a:ext cx="3240" cy="86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802400">
              <a:off x="6319440" y="297900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802400">
              <a:off x="6381360" y="303120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802400">
              <a:off x="6330960" y="300960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6366240" y="3031920"/>
              <a:ext cx="216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802400">
              <a:off x="6328800" y="27734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802400">
              <a:off x="6575040" y="286884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802400">
              <a:off x="6591960" y="28357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802400">
              <a:off x="6591960" y="28357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802400">
              <a:off x="6577920" y="281196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608160" y="2899080"/>
              <a:ext cx="432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802400">
              <a:off x="6563520" y="290196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617160" y="2932920"/>
              <a:ext cx="396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6625800" y="296532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802400">
              <a:off x="6548400" y="28609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802400">
              <a:off x="6569280" y="28998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802400">
              <a:off x="6562800" y="288072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528960" y="2794680"/>
              <a:ext cx="6696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580440" y="2916000"/>
              <a:ext cx="792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588720" y="2935440"/>
              <a:ext cx="720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6595920" y="2954520"/>
              <a:ext cx="792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802400">
              <a:off x="6620040" y="30182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802400">
              <a:off x="6558480" y="28310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802400">
              <a:off x="6526080" y="280368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802400">
              <a:off x="6640920" y="272484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802400">
              <a:off x="6610680" y="270000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802400">
              <a:off x="6429240" y="297360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802400">
              <a:off x="6402960" y="295164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802400">
              <a:off x="6646680" y="266436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6667560" y="269172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669720" y="2683080"/>
              <a:ext cx="504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668280" y="2669760"/>
              <a:ext cx="396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657840" y="2669400"/>
              <a:ext cx="720" cy="5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48120" y="2674800"/>
              <a:ext cx="2880" cy="32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802400">
              <a:off x="6492960" y="2752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802400">
              <a:off x="6492960" y="2752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7265160" y="1083600"/>
            <a:ext cx="633600" cy="652680"/>
            <a:chOff x="7265160" y="1083600"/>
            <a:chExt cx="633600" cy="652680"/>
          </a:xfrm>
        </p:grpSpPr>
        <p:sp>
          <p:nvSpPr>
            <p:cNvPr id="494" name=""/>
            <p:cNvSpPr/>
            <p:nvPr/>
          </p:nvSpPr>
          <p:spPr>
            <a:xfrm rot="7802400">
              <a:off x="7659720" y="14000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802400">
              <a:off x="7659720" y="14000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802400">
              <a:off x="7561800" y="13183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802400">
              <a:off x="7561800" y="13183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802400">
              <a:off x="7530480" y="137952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802400">
              <a:off x="7530480" y="137952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802400">
              <a:off x="7494480" y="13622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2400">
              <a:off x="7494480" y="13622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802400">
              <a:off x="7452360" y="13503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802400">
              <a:off x="7452360" y="13503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802400">
              <a:off x="7614000" y="14493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802400">
              <a:off x="7614000" y="14493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802400">
              <a:off x="7634880" y="14803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802400">
              <a:off x="7634880" y="14803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802400">
              <a:off x="7654680" y="15202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802400">
              <a:off x="7654680" y="15202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802400">
              <a:off x="7562520" y="128880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802400">
              <a:off x="7562520" y="128880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802400">
              <a:off x="7374960" y="15177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802400">
              <a:off x="7374960" y="15177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802400">
              <a:off x="7434720" y="15674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802400">
              <a:off x="7434720" y="15674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802400">
              <a:off x="7660080" y="13708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802400">
              <a:off x="7660080" y="13708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802400">
              <a:off x="7314840" y="12200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802400">
              <a:off x="7314840" y="12200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802400">
              <a:off x="7453800" y="126360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802400">
              <a:off x="7581240" y="13104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522200" y="1320840"/>
              <a:ext cx="18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802400">
              <a:off x="7524000" y="13640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487280" y="1318320"/>
              <a:ext cx="180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454520" y="1315440"/>
              <a:ext cx="2160" cy="43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802400">
              <a:off x="7460280" y="128232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802400">
              <a:off x="7470720" y="131256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802400">
              <a:off x="7536960" y="13546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563240" y="1319040"/>
              <a:ext cx="6696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7507440" y="1347480"/>
              <a:ext cx="432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7488360" y="1343520"/>
              <a:ext cx="360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7467840" y="1339200"/>
              <a:ext cx="3240" cy="82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802400">
              <a:off x="7386840" y="153216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802400">
              <a:off x="7448760" y="158364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802400">
              <a:off x="7398000" y="156240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7433640" y="1584720"/>
              <a:ext cx="1800" cy="14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802400">
              <a:off x="7396200" y="13262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802400">
              <a:off x="7642080" y="142164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802400">
              <a:off x="7659000" y="13881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802400">
              <a:off x="7659000" y="13881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802400">
              <a:off x="7645320" y="136404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675920" y="145152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802400">
              <a:off x="7631280" y="14540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684200" y="1485720"/>
              <a:ext cx="4320" cy="252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693200" y="1517400"/>
              <a:ext cx="396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802400">
              <a:off x="7615800" y="14130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802400">
              <a:off x="7636680" y="145224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802400">
              <a:off x="7630200" y="143316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7596360" y="1346760"/>
              <a:ext cx="66600" cy="795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7647840" y="1468440"/>
              <a:ext cx="7920" cy="576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7655760" y="1487520"/>
              <a:ext cx="756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7662960" y="1506960"/>
              <a:ext cx="7920" cy="504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802400">
              <a:off x="7687080" y="15706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802400">
              <a:off x="7625520" y="138348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802400">
              <a:off x="7593120" y="13561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802400">
              <a:off x="7707960" y="127692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802400">
              <a:off x="7678080" y="125244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802400">
              <a:off x="7497000" y="152640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802400">
              <a:off x="7470000" y="150408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802400">
              <a:off x="7714440" y="12168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7735320" y="1244160"/>
              <a:ext cx="360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737120" y="1235520"/>
              <a:ext cx="5400" cy="18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735680" y="1222200"/>
              <a:ext cx="3960" cy="46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724880" y="1221840"/>
              <a:ext cx="1080" cy="540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715520" y="1227240"/>
              <a:ext cx="3240" cy="2880"/>
            </a:xfrm>
            <a:prstGeom prst="line">
              <a:avLst/>
            </a:prstGeom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802400">
              <a:off x="7560000" y="13053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802400">
              <a:off x="7560000" y="13053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856200" y="1140840"/>
            <a:ext cx="537480" cy="385200"/>
            <a:chOff x="6856200" y="1140840"/>
            <a:chExt cx="537480" cy="385200"/>
          </a:xfrm>
        </p:grpSpPr>
        <p:sp>
          <p:nvSpPr>
            <p:cNvPr id="569" name=""/>
            <p:cNvSpPr/>
            <p:nvPr/>
          </p:nvSpPr>
          <p:spPr>
            <a:xfrm rot="36600">
              <a:off x="7061760" y="126216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36600">
              <a:off x="7061760" y="126216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36600">
              <a:off x="7060320" y="139104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36600">
              <a:off x="7060320" y="139104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36600">
              <a:off x="7127640" y="13863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36600">
              <a:off x="7127640" y="13863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36600">
              <a:off x="7135200" y="1423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36600">
              <a:off x="7135200" y="1423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36600">
              <a:off x="7152840" y="14641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36600">
              <a:off x="7152840" y="14641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36600">
              <a:off x="7129080" y="12776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36600">
              <a:off x="7129080" y="12776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36600">
              <a:off x="7137360" y="12402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36600">
              <a:off x="7137360" y="12402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36600">
              <a:off x="7155720" y="1199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36600">
              <a:off x="7155720" y="1199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36600">
              <a:off x="7005600" y="13845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36600">
              <a:off x="7005600" y="13845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36600">
              <a:off x="7299720" y="13435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36600">
              <a:off x="7299720" y="13435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36600">
              <a:off x="7300440" y="126540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36600">
              <a:off x="7300440" y="126540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36600">
              <a:off x="7007040" y="1257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36600">
              <a:off x="7007040" y="1257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36600">
              <a:off x="6858000" y="114336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36600">
              <a:off x="6858000" y="114336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36600">
              <a:off x="7062120" y="140148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36600">
              <a:off x="7036560" y="13572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092720" y="143316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36600">
              <a:off x="7119000" y="14032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7112880" y="146196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131240" y="1488960"/>
              <a:ext cx="4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36600">
              <a:off x="7118640" y="135504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36600">
              <a:off x="7111080" y="140724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36600">
              <a:off x="7110360" y="13852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3960" y="1353960"/>
              <a:ext cx="104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121160" y="1425240"/>
              <a:ext cx="93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130880" y="1442520"/>
              <a:ext cx="8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140600" y="1461240"/>
              <a:ext cx="8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36600">
              <a:off x="7341120" y="134640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36600">
              <a:off x="7341840" y="126540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36600">
              <a:off x="7271640" y="133308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54080" y="1334520"/>
              <a:ext cx="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36600">
              <a:off x="7166160" y="15231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36600">
              <a:off x="7064640" y="115560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36600">
              <a:off x="7022520" y="12654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36600">
              <a:off x="7022520" y="12654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36600">
              <a:off x="7037640" y="12733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7094880" y="12312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36600">
              <a:off x="7120440" y="1263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 flipV="1">
              <a:off x="7115760" y="120312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7134840" y="1176120"/>
              <a:ext cx="4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36600">
              <a:off x="7120800" y="115164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36600">
              <a:off x="7113240" y="119052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36600">
              <a:off x="7111800" y="126324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024680" y="1310760"/>
              <a:ext cx="1040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123320" y="1239120"/>
              <a:ext cx="93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133040" y="1221120"/>
              <a:ext cx="86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143480" y="1203120"/>
              <a:ext cx="86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36600">
              <a:off x="7170480" y="11433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36600">
              <a:off x="7067880" y="13111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36600">
              <a:off x="7067160" y="13532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36600">
              <a:off x="6930360" y="130968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36600">
              <a:off x="6929640" y="134820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36600">
              <a:off x="7257960" y="131472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36600">
              <a:off x="7257600" y="134928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36600">
              <a:off x="6879600" y="131364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99040" y="131544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888240" y="1320120"/>
              <a:ext cx="4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79600" y="1330920"/>
              <a:ext cx="6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6888240" y="1338840"/>
              <a:ext cx="4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6899040" y="1341720"/>
              <a:ext cx="3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36600">
              <a:off x="7021080" y="1394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36600">
              <a:off x="7021080" y="1394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04920" y="2286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nited 1448, what´s your position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04920" y="106668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...and ahh, we are clear of the runway on November by Bravo, United 14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" y="2438280"/>
            <a:ext cx="1523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nited 1448, thank you, taxi  to the ramp via taxiway November and Tango, report crossing Rwy 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04920" y="3886200"/>
            <a:ext cx="1218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Ok, N, T...will report crossing RWY 16, United 14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04920" y="51055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Wind 140 a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579132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SAI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Ground, USAir 2998 is holding short at FED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95880" y="4724280"/>
            <a:ext cx="838440" cy="83844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05720" y="838080"/>
            <a:ext cx="83808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1523880" y="3657600"/>
            <a:ext cx="838440" cy="182880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659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evt="end">
                                        <p:tn val="10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evt="end">
                                        <p:tn val="15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0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6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4"/>
                                      </p:cond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9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6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15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5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6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6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52480" y="19051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04920" y="228600"/>
            <a:ext cx="144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S Air 2998 thank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6854040" y="1138320"/>
            <a:ext cx="541440" cy="390240"/>
            <a:chOff x="6854040" y="1138320"/>
            <a:chExt cx="541440" cy="390240"/>
          </a:xfrm>
        </p:grpSpPr>
        <p:sp>
          <p:nvSpPr>
            <p:cNvPr id="788" name=""/>
            <p:cNvSpPr/>
            <p:nvPr/>
          </p:nvSpPr>
          <p:spPr>
            <a:xfrm rot="70200">
              <a:off x="7062480" y="12614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70200">
              <a:off x="7062480" y="12614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rot="70200">
              <a:off x="7059960" y="13903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rot="70200">
              <a:off x="7059960" y="13903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70200">
              <a:off x="7127280" y="13863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70200">
              <a:off x="7127280" y="13863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70200">
              <a:off x="7134480" y="1423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70200">
              <a:off x="7134480" y="1423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70200">
              <a:off x="7151760" y="1464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70200">
              <a:off x="7151760" y="1464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rot="70200">
              <a:off x="7129440" y="12776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70200">
              <a:off x="7129440" y="12776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70200">
              <a:off x="7138080" y="1240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70200">
              <a:off x="7138080" y="1240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70200">
              <a:off x="7157160" y="12002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rot="70200">
              <a:off x="7157160" y="12002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rot="70200">
              <a:off x="7005240" y="13838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rot="70200">
              <a:off x="7005240" y="13838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rot="70200">
              <a:off x="7299000" y="134568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rot="70200">
              <a:off x="7299000" y="134568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rot="70200">
              <a:off x="7300800" y="12675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rot="70200">
              <a:off x="7300800" y="12675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rot="70200">
              <a:off x="7007760" y="125640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70200">
              <a:off x="7007760" y="125640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rot="70200">
              <a:off x="6858000" y="114372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70200">
              <a:off x="6858000" y="114372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70200">
              <a:off x="7060680" y="140112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rot="70200">
              <a:off x="7036560" y="135648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091640" y="1432800"/>
              <a:ext cx="4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70200">
              <a:off x="7118280" y="14032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111800" y="1461960"/>
              <a:ext cx="4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129800" y="1489320"/>
              <a:ext cx="46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70200">
              <a:off x="7117920" y="135540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70200">
              <a:off x="7110360" y="140724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70200">
              <a:off x="7110000" y="138492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023960" y="1352880"/>
              <a:ext cx="1040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120440" y="1425240"/>
              <a:ext cx="936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7129800" y="1442880"/>
              <a:ext cx="86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139520" y="1461240"/>
              <a:ext cx="86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rot="70200">
              <a:off x="7340400" y="134856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70200">
              <a:off x="7342200" y="12675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rot="70200">
              <a:off x="7271640" y="133524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354080" y="1336680"/>
              <a:ext cx="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rot="70200">
              <a:off x="7164360" y="152352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rot="70200">
              <a:off x="7065720" y="115560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70200">
              <a:off x="7023240" y="12646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70200">
              <a:off x="7023240" y="12646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70200">
              <a:off x="7038000" y="12726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 flipV="1">
              <a:off x="7095960" y="123084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70200">
              <a:off x="7121160" y="1263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7116840" y="1202760"/>
              <a:ext cx="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7136280" y="1176480"/>
              <a:ext cx="4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rot="70200">
              <a:off x="7121880" y="11520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70200">
              <a:off x="7114680" y="119052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70200">
              <a:off x="7112520" y="126288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024680" y="1309680"/>
              <a:ext cx="1040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124040" y="1239120"/>
              <a:ext cx="93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134120" y="1221120"/>
              <a:ext cx="86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144560" y="1203120"/>
              <a:ext cx="86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70200">
              <a:off x="7172280" y="11440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70200">
              <a:off x="7067880" y="13107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rot="70200">
              <a:off x="7067160" y="135288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rot="70200">
              <a:off x="6930360" y="130788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rot="70200">
              <a:off x="6929280" y="134640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rot="70200">
              <a:off x="7257960" y="131616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rot="70200">
              <a:off x="7257240" y="135072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rot="70200">
              <a:off x="6879600" y="131112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899400" y="131328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888600" y="1317960"/>
              <a:ext cx="4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879600" y="1328400"/>
              <a:ext cx="64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6888240" y="1336680"/>
              <a:ext cx="46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6898680" y="1339560"/>
              <a:ext cx="7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rot="70200">
              <a:off x="7020720" y="1393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rot="70200">
              <a:off x="7020720" y="1393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304920" y="990720"/>
            <a:ext cx="1218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PS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Ground UPS 27 tax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04920" y="1676520"/>
            <a:ext cx="14475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PS 27 Providence Ground, good evening, RWY 5R, taxi via taxiway V and RWY 23R, hold short RWY 16 , advise holding sho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865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304920" y="380988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PS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Ok, we can´t take V at this time, we are facing the wrong way...,  any chance of A, M and 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04920" y="45720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04920" y="495288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PS 27, you can expect that taxi, hold your position for now please, stand clear of all taxi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920" y="59436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PS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Ok, we´ll hold our position here, on the ramp, over... UPS 2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944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 flipV="1">
            <a:off x="1447920" y="304920"/>
            <a:ext cx="4419360" cy="761760"/>
          </a:xfrm>
          <a:prstGeom prst="line">
            <a:avLst/>
          </a:prstGeom>
          <a:ln w="763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1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0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6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1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752480" y="19051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52280" y="152280"/>
            <a:ext cx="198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SAir 1020, turn left taxiway N or A and report clear of the RWY pl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28600" y="106668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SAi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Roger looks like we´ve got N here, for USAir 10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6505200" y="1387440"/>
            <a:ext cx="629280" cy="653400"/>
            <a:chOff x="6505200" y="1387440"/>
            <a:chExt cx="629280" cy="653400"/>
          </a:xfrm>
        </p:grpSpPr>
        <p:sp>
          <p:nvSpPr>
            <p:cNvPr id="1074" name=""/>
            <p:cNvSpPr/>
            <p:nvPr/>
          </p:nvSpPr>
          <p:spPr>
            <a:xfrm rot="18519000">
              <a:off x="6728040" y="171108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rot="18519000">
              <a:off x="6728040" y="171108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rot="18519000">
              <a:off x="6828120" y="179208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rot="18519000">
              <a:off x="6828120" y="179208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rot="18519000">
              <a:off x="6863040" y="1739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rot="18519000">
              <a:off x="6863040" y="1739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rot="18519000">
              <a:off x="6896520" y="17557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8519000">
              <a:off x="6896520" y="17557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rot="18519000">
              <a:off x="6939360" y="1766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8519000">
              <a:off x="6939360" y="1766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rot="18519000">
              <a:off x="6778080" y="16722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rot="18519000">
              <a:off x="6778080" y="16722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rot="18519000">
              <a:off x="6753600" y="16412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rot="18519000">
              <a:off x="6753600" y="16412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rot="18519000">
              <a:off x="6733080" y="16020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 rot="18519000">
              <a:off x="6733080" y="16020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18519000">
              <a:off x="6785280" y="18129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rot="18519000">
              <a:off x="6785280" y="18129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rot="18519000">
              <a:off x="6944760" y="15397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rot="18519000">
              <a:off x="6944760" y="15397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8519000">
              <a:off x="6883920" y="14911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18519000">
              <a:off x="6883920" y="14911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18519000">
              <a:off x="6685560" y="17330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rot="18519000">
              <a:off x="6685560" y="17330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rot="18519000">
              <a:off x="6553080" y="1524240"/>
              <a:ext cx="53316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rot="18519000">
              <a:off x="6553080" y="1524240"/>
              <a:ext cx="53316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18519000">
              <a:off x="6860520" y="174924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rot="18519000">
              <a:off x="6792480" y="177948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6879960" y="17971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rot="18519000">
              <a:off x="6869880" y="17578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6914880" y="17989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6947640" y="180108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rot="18519000">
              <a:off x="6885360" y="167868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8519000">
              <a:off x="6888600" y="17395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8519000">
              <a:off x="6857280" y="174996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774120" y="1724760"/>
              <a:ext cx="65160" cy="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891480" y="1766160"/>
              <a:ext cx="43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6911640" y="1769760"/>
              <a:ext cx="3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6932520" y="1773720"/>
              <a:ext cx="28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18519000">
              <a:off x="6980400" y="152892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rot="18519000">
              <a:off x="6917760" y="14781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519000">
              <a:off x="6891120" y="155484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962040" y="153432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8519000">
              <a:off x="6992640" y="17920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rot="18519000">
              <a:off x="6668640" y="159588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rot="18519000">
              <a:off x="6696360" y="17330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rot="18519000">
              <a:off x="6696360" y="17330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rot="18519000">
              <a:off x="6726960" y="172728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H="1">
              <a:off x="6721200" y="167184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rot="18519000">
              <a:off x="6760440" y="167040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6711480" y="163836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702480" y="1606320"/>
              <a:ext cx="36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8519000">
              <a:off x="6726960" y="15516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18519000">
              <a:off x="6719040" y="160416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8519000">
              <a:off x="6761880" y="167364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740640" y="1697760"/>
              <a:ext cx="64800" cy="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V="1">
              <a:off x="6744600" y="1651680"/>
              <a:ext cx="792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6736680" y="1632960"/>
              <a:ext cx="756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6728400" y="1614240"/>
              <a:ext cx="792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rot="18519000">
              <a:off x="6696000" y="15548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rot="18519000">
              <a:off x="6765480" y="17406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rot="18519000">
              <a:off x="6798600" y="176688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rot="18519000">
              <a:off x="6680520" y="184464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rot="18519000">
              <a:off x="6710040" y="18687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rot="18519000">
              <a:off x="6886440" y="159012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rot="18519000">
              <a:off x="6913440" y="161172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8519000">
              <a:off x="6661080" y="187596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666840" y="1880640"/>
              <a:ext cx="39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V="1">
              <a:off x="6663960" y="1890000"/>
              <a:ext cx="50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6666840" y="1900440"/>
              <a:ext cx="432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V="1">
              <a:off x="6680880" y="1900080"/>
              <a:ext cx="72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 flipV="1">
              <a:off x="6687720" y="1896840"/>
              <a:ext cx="32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rot="18519000">
              <a:off x="6797160" y="18140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rot="18519000">
              <a:off x="6797160" y="18140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8" name=""/>
          <p:cNvGrpSpPr/>
          <p:nvPr/>
        </p:nvGrpSpPr>
        <p:grpSpPr>
          <a:xfrm>
            <a:off x="4997880" y="4289400"/>
            <a:ext cx="556920" cy="587880"/>
            <a:chOff x="4997880" y="4289400"/>
            <a:chExt cx="556920" cy="587880"/>
          </a:xfrm>
        </p:grpSpPr>
        <p:sp>
          <p:nvSpPr>
            <p:cNvPr id="1149" name=""/>
            <p:cNvSpPr/>
            <p:nvPr/>
          </p:nvSpPr>
          <p:spPr>
            <a:xfrm rot="7564200">
              <a:off x="5345640" y="45694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rot="7564200">
              <a:off x="5345640" y="45694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rot="7564200">
              <a:off x="5253120" y="45025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rot="7564200">
              <a:off x="5253120" y="45025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rot="7564200">
              <a:off x="5228640" y="45590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rot="7564200">
              <a:off x="5228640" y="45590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rot="7564200">
              <a:off x="5194800" y="45460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rot="7564200">
              <a:off x="5194800" y="45460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rot="7564200">
              <a:off x="5156640" y="45374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rot="7564200">
              <a:off x="5156640" y="45374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rot="7564200">
              <a:off x="5307120" y="46162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rot="7564200">
              <a:off x="5307120" y="46162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rot="7564200">
              <a:off x="5327640" y="4642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rot="7564200">
              <a:off x="5327640" y="4642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rot="7564200">
              <a:off x="5348160" y="46771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rot="7564200">
              <a:off x="5348160" y="46771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rot="7564200">
              <a:off x="5252040" y="44737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rot="7564200">
              <a:off x="5252040" y="44737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rot="7564200">
              <a:off x="5099040" y="46904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rot="7564200">
              <a:off x="5099040" y="46904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7564200">
              <a:off x="5155560" y="47311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7564200">
              <a:off x="5155560" y="47311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7564200">
              <a:off x="5344560" y="4541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7564200">
              <a:off x="5344560" y="4541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7564200">
              <a:off x="5036400" y="44132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7564200">
              <a:off x="5036400" y="44132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7564200">
              <a:off x="5155920" y="4457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7564200">
              <a:off x="5270760" y="44931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5217840" y="450720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7564200">
              <a:off x="5221440" y="45457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5186160" y="450684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V="1">
              <a:off x="5156640" y="4506480"/>
              <a:ext cx="144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rot="7564200">
              <a:off x="5164200" y="4475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rot="7564200">
              <a:off x="5172480" y="450180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rot="7564200">
              <a:off x="5232960" y="4536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5258160" y="4498920"/>
              <a:ext cx="55440" cy="75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>
              <a:off x="5206320" y="4531680"/>
              <a:ext cx="3240" cy="79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H="1">
              <a:off x="5188320" y="4529160"/>
              <a:ext cx="288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H="1">
              <a:off x="5170320" y="4527000"/>
              <a:ext cx="252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rot="7564200">
              <a:off x="5110920" y="47037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rot="7564200">
              <a:off x="5169240" y="47462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7564200">
              <a:off x="5121000" y="47278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H="1" flipV="1">
              <a:off x="5154120" y="4749480"/>
              <a:ext cx="180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7564200">
              <a:off x="5104800" y="45201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7564200">
              <a:off x="5333760" y="4586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rot="7564200">
              <a:off x="5343840" y="4557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rot="7564200">
              <a:off x="5343840" y="4557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7564200">
              <a:off x="5331240" y="4537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5362560" y="4614480"/>
              <a:ext cx="360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7564200">
              <a:off x="5322600" y="46195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5372280" y="4644360"/>
              <a:ext cx="360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V="1">
              <a:off x="5382360" y="467208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rot="7564200">
              <a:off x="5311800" y="4582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rot="7564200">
              <a:off x="5329440" y="46166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rot="7564200">
              <a:off x="5321160" y="460080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>
              <a:off x="5289840" y="4521960"/>
              <a:ext cx="55080" cy="75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5339160" y="4630680"/>
              <a:ext cx="648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H="1">
              <a:off x="5347800" y="4647600"/>
              <a:ext cx="612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H="1">
              <a:off x="5355000" y="4664520"/>
              <a:ext cx="648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rot="7564200">
              <a:off x="5379480" y="47203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rot="7564200">
              <a:off x="5313240" y="45565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rot="7564200">
              <a:off x="5282640" y="45342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rot="7564200">
              <a:off x="5380920" y="44564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rot="7564200">
              <a:off x="5353200" y="44355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7564200">
              <a:off x="5207040" y="46929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rot="7564200">
              <a:off x="5181840" y="467424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 rot="7564200">
              <a:off x="5384160" y="44010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 flipV="1">
              <a:off x="5403240" y="4425480"/>
              <a:ext cx="324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5405040" y="4416840"/>
              <a:ext cx="432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5402520" y="4404960"/>
              <a:ext cx="324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H="1">
              <a:off x="5393520" y="4405680"/>
              <a:ext cx="36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84880" y="4411440"/>
              <a:ext cx="288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7564200">
              <a:off x="5249880" y="44895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7564200">
              <a:off x="5249880" y="44895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6369480" y="2384280"/>
            <a:ext cx="556920" cy="587880"/>
            <a:chOff x="6369480" y="2384280"/>
            <a:chExt cx="556920" cy="587880"/>
          </a:xfrm>
        </p:grpSpPr>
        <p:sp>
          <p:nvSpPr>
            <p:cNvPr id="1224" name=""/>
            <p:cNvSpPr/>
            <p:nvPr/>
          </p:nvSpPr>
          <p:spPr>
            <a:xfrm rot="7564200">
              <a:off x="6717240" y="26643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7564200">
              <a:off x="6717240" y="26643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7564200">
              <a:off x="6624720" y="25974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rot="7564200">
              <a:off x="6624720" y="25974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rot="7564200">
              <a:off x="6600240" y="26539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rot="7564200">
              <a:off x="6600240" y="26539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rot="7564200">
              <a:off x="6566400" y="26409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rot="7564200">
              <a:off x="6566400" y="26409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rot="7564200">
              <a:off x="6528240" y="2632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7564200">
              <a:off x="6528240" y="2632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rot="7564200">
              <a:off x="6678720" y="2711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rot="7564200">
              <a:off x="6678720" y="2711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rot="7564200">
              <a:off x="6699240" y="27378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rot="7564200">
              <a:off x="6699240" y="27378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rot="7564200">
              <a:off x="6719760" y="27720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7564200">
              <a:off x="6719760" y="27720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7564200">
              <a:off x="6623640" y="2568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7564200">
              <a:off x="6623640" y="2568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rot="7564200">
              <a:off x="6470640" y="27853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rot="7564200">
              <a:off x="6470640" y="27853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7564200">
              <a:off x="6527160" y="28260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7564200">
              <a:off x="6527160" y="28260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rot="7564200">
              <a:off x="6716160" y="26362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rot="7564200">
              <a:off x="6716160" y="26362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7564200">
              <a:off x="6408000" y="25081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7564200">
              <a:off x="6408000" y="25081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7564200">
              <a:off x="6527520" y="25520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7564200">
              <a:off x="6642360" y="25880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6589440" y="260208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7564200">
              <a:off x="6593040" y="26406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6557760" y="260172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6528240" y="2601360"/>
              <a:ext cx="144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7564200">
              <a:off x="6535800" y="25700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7564200">
              <a:off x="6544080" y="25966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7564200">
              <a:off x="6604560" y="26312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6629760" y="2593800"/>
              <a:ext cx="55440" cy="75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6577920" y="2626560"/>
              <a:ext cx="3240" cy="79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H="1">
              <a:off x="6559920" y="2624040"/>
              <a:ext cx="288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6541920" y="2621880"/>
              <a:ext cx="252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7564200">
              <a:off x="6482520" y="279864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7564200">
              <a:off x="6540840" y="28411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7564200">
              <a:off x="6492600" y="28227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 flipV="1">
              <a:off x="6525720" y="2844360"/>
              <a:ext cx="180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7564200">
              <a:off x="6476400" y="26150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7564200">
              <a:off x="6705360" y="2681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7564200">
              <a:off x="6715440" y="2652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7564200">
              <a:off x="6715440" y="2652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7564200">
              <a:off x="6702840" y="26319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6734160" y="2709360"/>
              <a:ext cx="360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7564200">
              <a:off x="6694200" y="27144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6743880" y="2739240"/>
              <a:ext cx="360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6753960" y="276696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7564200">
              <a:off x="6683400" y="26776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7564200">
              <a:off x="6701040" y="27115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7564200">
              <a:off x="6692760" y="269568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>
              <a:off x="6661440" y="2616840"/>
              <a:ext cx="55080" cy="75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>
              <a:off x="6710760" y="2725560"/>
              <a:ext cx="648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719400" y="2742480"/>
              <a:ext cx="612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6726600" y="2759400"/>
              <a:ext cx="648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rot="7564200">
              <a:off x="6751080" y="2815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rot="7564200">
              <a:off x="6684840" y="26514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rot="7564200">
              <a:off x="6654240" y="26290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7564200">
              <a:off x="6752520" y="25513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rot="7564200">
              <a:off x="6724800" y="2530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rot="7564200">
              <a:off x="6578640" y="27878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rot="7564200">
              <a:off x="6553440" y="27691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rot="7564200">
              <a:off x="6755760" y="24958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6774840" y="2520360"/>
              <a:ext cx="324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6776640" y="2511720"/>
              <a:ext cx="432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 flipH="1">
              <a:off x="6774120" y="2499840"/>
              <a:ext cx="324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765120" y="2500560"/>
              <a:ext cx="36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756480" y="2506320"/>
              <a:ext cx="288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rot="7564200">
              <a:off x="6621480" y="25844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rot="7564200">
              <a:off x="6621480" y="25844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8" name=""/>
          <p:cNvGrpSpPr/>
          <p:nvPr/>
        </p:nvGrpSpPr>
        <p:grpSpPr>
          <a:xfrm>
            <a:off x="7131240" y="1317600"/>
            <a:ext cx="556920" cy="587880"/>
            <a:chOff x="7131240" y="1317600"/>
            <a:chExt cx="556920" cy="587880"/>
          </a:xfrm>
        </p:grpSpPr>
        <p:sp>
          <p:nvSpPr>
            <p:cNvPr id="1299" name=""/>
            <p:cNvSpPr/>
            <p:nvPr/>
          </p:nvSpPr>
          <p:spPr>
            <a:xfrm rot="7564200">
              <a:off x="7479000" y="15976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rot="7564200">
              <a:off x="7479000" y="15976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7564200">
              <a:off x="7386480" y="15307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7564200">
              <a:off x="7386480" y="15307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7564200">
              <a:off x="7362000" y="1587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7564200">
              <a:off x="7362000" y="1587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7564200">
              <a:off x="7328160" y="15742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7564200">
              <a:off x="7328160" y="15742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7564200">
              <a:off x="7290000" y="15656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rot="7564200">
              <a:off x="7290000" y="15656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 rot="7564200">
              <a:off x="7440480" y="16444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rot="7564200">
              <a:off x="7440480" y="16444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rot="7564200">
              <a:off x="7461000" y="167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rot="7564200">
              <a:off x="7461000" y="167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rot="7564200">
              <a:off x="7481520" y="1705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7564200">
              <a:off x="7481520" y="1705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7564200">
              <a:off x="7385400" y="1501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rot="7564200">
              <a:off x="7385400" y="1501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rot="7564200">
              <a:off x="7232400" y="1718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rot="7564200">
              <a:off x="7232400" y="1718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rot="7564200">
              <a:off x="7288920" y="17593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rot="7564200">
              <a:off x="7288920" y="17593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rot="7564200">
              <a:off x="7477920" y="1569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7564200">
              <a:off x="7477920" y="1569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7564200">
              <a:off x="7169760" y="14414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7564200">
              <a:off x="7169760" y="14414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7564200">
              <a:off x="7289280" y="14853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rot="7564200">
              <a:off x="7404120" y="15213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7351200" y="153540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rot="7564200">
              <a:off x="7354800" y="1573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7319520" y="153504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7290000" y="1534680"/>
              <a:ext cx="144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rot="7564200">
              <a:off x="7297560" y="15033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rot="7564200">
              <a:off x="7305840" y="153000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rot="7564200">
              <a:off x="7366320" y="15645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7391520" y="1527120"/>
              <a:ext cx="55440" cy="75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7339680" y="1559880"/>
              <a:ext cx="3240" cy="79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7321680" y="1557360"/>
              <a:ext cx="288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>
              <a:off x="7303680" y="1555200"/>
              <a:ext cx="252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7564200">
              <a:off x="7244280" y="17319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7564200">
              <a:off x="7302600" y="1774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7564200">
              <a:off x="7254360" y="17560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H="1" flipV="1">
              <a:off x="7287480" y="1777680"/>
              <a:ext cx="180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rot="7564200">
              <a:off x="7238160" y="15483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rot="7564200">
              <a:off x="7467120" y="1614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rot="7564200">
              <a:off x="7477200" y="15858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rot="7564200">
              <a:off x="7477200" y="15858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rot="7564200">
              <a:off x="7464600" y="15652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7495920" y="1642680"/>
              <a:ext cx="360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7564200">
              <a:off x="7455960" y="16477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7505640" y="1672560"/>
              <a:ext cx="360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515720" y="170028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rot="7564200">
              <a:off x="7445160" y="16110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rot="7564200">
              <a:off x="7462800" y="16448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rot="7564200">
              <a:off x="7454520" y="162900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7423200" y="1550160"/>
              <a:ext cx="55080" cy="75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7472520" y="1658880"/>
              <a:ext cx="648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7481160" y="1675800"/>
              <a:ext cx="612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7488360" y="1692720"/>
              <a:ext cx="648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rot="7564200">
              <a:off x="7512840" y="1748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rot="7564200">
              <a:off x="7446600" y="15847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7564200">
              <a:off x="7416000" y="15624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7564200">
              <a:off x="7514280" y="14846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7564200">
              <a:off x="7486560" y="14637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rot="7564200">
              <a:off x="7340400" y="17211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rot="7564200">
              <a:off x="7315200" y="170244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7564200">
              <a:off x="7517520" y="14292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 flipV="1">
              <a:off x="7536600" y="1453680"/>
              <a:ext cx="324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7538400" y="1445040"/>
              <a:ext cx="432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535880" y="1433160"/>
              <a:ext cx="324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7526880" y="1433880"/>
              <a:ext cx="36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518240" y="1439640"/>
              <a:ext cx="288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7564200">
              <a:off x="7383240" y="15177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7564200">
              <a:off x="7383240" y="15177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152280" y="190512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SAir 1020, thank you, taxi to the ramp vía taxiway N and T, report crossing RWY 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6994800" y="1121040"/>
            <a:ext cx="510840" cy="385560"/>
            <a:chOff x="6994800" y="1121040"/>
            <a:chExt cx="510840" cy="385560"/>
          </a:xfrm>
        </p:grpSpPr>
        <p:sp>
          <p:nvSpPr>
            <p:cNvPr id="1375" name=""/>
            <p:cNvSpPr/>
            <p:nvPr/>
          </p:nvSpPr>
          <p:spPr>
            <a:xfrm rot="339000">
              <a:off x="7198920" y="1245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339000">
              <a:off x="7198920" y="1245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rot="339000">
              <a:off x="7187400" y="13604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rot="339000">
              <a:off x="7187400" y="13604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339000">
              <a:off x="7248600" y="1361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339000">
              <a:off x="7248600" y="1361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rot="339000">
              <a:off x="7252560" y="139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rot="339000">
              <a:off x="7252560" y="139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rot="339000">
              <a:off x="7265160" y="14331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rot="339000">
              <a:off x="7265160" y="14331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rot="339000">
              <a:off x="7258320" y="12646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rot="339000">
              <a:off x="7258320" y="12646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rot="339000">
              <a:off x="7268760" y="1231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rot="339000">
              <a:off x="7268760" y="1231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rot="339000">
              <a:off x="7288200" y="1197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rot="339000">
              <a:off x="7288200" y="1197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rot="339000">
              <a:off x="7138440" y="13521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rot="339000">
              <a:off x="7138440" y="13521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rot="339000">
              <a:off x="7403040" y="13395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rot="339000">
              <a:off x="7403040" y="13395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rot="339000">
              <a:off x="7409880" y="12700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rot="339000">
              <a:off x="7409880" y="12700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rot="339000">
              <a:off x="7149600" y="1238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rot="339000">
              <a:off x="7149600" y="1238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rot="339000">
              <a:off x="7010280" y="1143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rot="339000">
              <a:off x="7010280" y="1143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rot="339000">
              <a:off x="7184160" y="13726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rot="339000">
              <a:off x="7167960" y="13287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7213320" y="1400400"/>
              <a:ext cx="432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rot="339000">
              <a:off x="7239600" y="1375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7229160" y="1427760"/>
              <a:ext cx="432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7243920" y="1453320"/>
              <a:ext cx="3960" cy="7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339000">
              <a:off x="7237080" y="13348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339000">
              <a:off x="7229520" y="13798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rot="339000">
              <a:off x="7232400" y="13586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58600" y="1324080"/>
              <a:ext cx="93240" cy="93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7239240" y="1395720"/>
              <a:ext cx="828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7246440" y="1413000"/>
              <a:ext cx="792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V="1">
              <a:off x="7254000" y="1429560"/>
              <a:ext cx="75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rot="339000">
              <a:off x="7440120" y="13435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rot="339000">
              <a:off x="7447320" y="12715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rot="339000">
              <a:off x="7381080" y="13294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7455240" y="1332360"/>
              <a:ext cx="36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rot="339000">
              <a:off x="7272360" y="1486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rot="339000">
              <a:off x="7205760" y="11538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rot="339000">
              <a:off x="7164000" y="12466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rot="339000">
              <a:off x="7164000" y="12466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rot="339000">
              <a:off x="7175520" y="12542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 flipV="1">
              <a:off x="7231320" y="122040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rot="339000">
              <a:off x="7251840" y="125136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 flipV="1">
              <a:off x="7252200" y="119664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 flipV="1">
              <a:off x="7271280" y="1174320"/>
              <a:ext cx="396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rot="339000">
              <a:off x="7255080" y="11530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rot="339000">
              <a:off x="7248600" y="11865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rot="339000">
              <a:off x="7243200" y="125028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7162560" y="1285560"/>
              <a:ext cx="92880" cy="90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7255800" y="1229400"/>
              <a:ext cx="792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7266240" y="1213920"/>
              <a:ext cx="756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7277040" y="1198800"/>
              <a:ext cx="72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rot="339000">
              <a:off x="7305840" y="11480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rot="339000">
              <a:off x="7200720" y="12895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rot="339000">
              <a:off x="7197120" y="13273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339000">
              <a:off x="7077960" y="1278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339000">
              <a:off x="7073640" y="13122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339000">
              <a:off x="7370640" y="130788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339000">
              <a:off x="7367760" y="133884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339000">
              <a:off x="7030440" y="127764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49520" y="1280160"/>
              <a:ext cx="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39440" y="1283040"/>
              <a:ext cx="360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030800" y="1292040"/>
              <a:ext cx="5760" cy="3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V="1">
              <a:off x="7037280" y="1299960"/>
              <a:ext cx="43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7047000" y="1303200"/>
              <a:ext cx="720" cy="36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rot="339000">
              <a:off x="7152480" y="13618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rot="339000">
              <a:off x="7152480" y="13618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1450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4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1525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9" name=""/>
          <p:cNvSpPr/>
          <p:nvPr/>
        </p:nvSpPr>
        <p:spPr>
          <a:xfrm>
            <a:off x="228600" y="3200400"/>
            <a:ext cx="198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SAi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N, T, to the ramp, report crossing RWY 16, ...and we are clear of  5 at this time, for USAir 1020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28600" y="44197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SAir 1020, thank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8600" y="510552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Fedex 1662 , RWY 5 R, fly RWY HDG, cleared for Take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3627720" y="5356080"/>
            <a:ext cx="554040" cy="587880"/>
            <a:chOff x="3627720" y="5356080"/>
            <a:chExt cx="554040" cy="587880"/>
          </a:xfrm>
        </p:grpSpPr>
        <p:sp>
          <p:nvSpPr>
            <p:cNvPr id="1603" name=""/>
            <p:cNvSpPr/>
            <p:nvPr/>
          </p:nvSpPr>
          <p:spPr>
            <a:xfrm rot="18309600">
              <a:off x="3822120" y="5652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rot="18309600">
              <a:off x="3822120" y="5652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rot="18309600">
              <a:off x="3916440" y="57189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18309600">
              <a:off x="3916440" y="57189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18309600">
              <a:off x="3944520" y="5670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8309600">
              <a:off x="3944520" y="5670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8309600">
              <a:off x="3975480" y="5682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8309600">
              <a:off x="3975480" y="5682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18309600">
              <a:off x="4014720" y="5690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8309600">
              <a:off x="4014720" y="5690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8309600">
              <a:off x="3864960" y="56142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rot="18309600">
              <a:off x="3864960" y="56142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rot="18309600">
              <a:off x="3841560" y="5587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rot="18309600">
              <a:off x="3841560" y="5587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rot="18309600">
              <a:off x="3821040" y="5554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rot="18309600">
              <a:off x="3821040" y="5554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rot="18309600">
              <a:off x="3879000" y="57387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rot="18309600">
              <a:off x="3879000" y="57387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rot="18309600">
              <a:off x="4008960" y="54842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rot="18309600">
              <a:off x="4008960" y="54842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rot="18309600">
              <a:off x="3952080" y="54442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rot="18309600">
              <a:off x="3952080" y="54442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rot="18309600">
              <a:off x="3785400" y="5672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rot="18309600">
              <a:off x="3785400" y="5672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rot="18309600">
              <a:off x="3664800" y="54799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rot="18309600">
              <a:off x="3664800" y="54799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rot="18309600">
              <a:off x="3945600" y="567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rot="18309600">
              <a:off x="3883680" y="5708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3962880" y="5720760"/>
              <a:ext cx="1440" cy="43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rot="18309600">
              <a:off x="3951720" y="5685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3994560" y="572076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4023720" y="5720760"/>
              <a:ext cx="1440" cy="3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8309600">
              <a:off x="3965760" y="5612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8309600">
              <a:off x="3969000" y="566712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rot="18309600">
              <a:off x="3940200" y="56797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3868560" y="5658120"/>
              <a:ext cx="54000" cy="763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3971880" y="569232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3990240" y="569484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4008960" y="5696640"/>
              <a:ext cx="216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18309600">
              <a:off x="4040280" y="547380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18309600">
              <a:off x="3981240" y="5432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8309600">
              <a:off x="3959640" y="55000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022280" y="54802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18309600">
              <a:off x="4062960" y="57092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rot="18309600">
              <a:off x="3765600" y="5549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18309600">
              <a:off x="3794760" y="56721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rot="18309600">
              <a:off x="3794760" y="56721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rot="18309600">
              <a:off x="3822480" y="56660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3814200" y="5617800"/>
              <a:ext cx="324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rot="18309600">
              <a:off x="3849120" y="5613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3803760" y="5587920"/>
              <a:ext cx="360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793680" y="5559840"/>
              <a:ext cx="3240" cy="28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rot="18309600">
              <a:off x="3816360" y="5507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18309600">
              <a:off x="3810240" y="55555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8309600">
              <a:off x="3851280" y="561708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3836880" y="5635800"/>
              <a:ext cx="54000" cy="763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3834360" y="559800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3825720" y="558144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817800" y="556524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rot="18309600">
              <a:off x="3785040" y="55134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rot="18309600">
              <a:off x="3857040" y="5676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rot="18309600">
              <a:off x="3888000" y="56977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rot="18309600">
              <a:off x="3786480" y="57740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rot="18309600">
              <a:off x="3814200" y="57945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rot="18309600">
              <a:off x="3957480" y="5534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rot="18309600">
              <a:off x="3983040" y="55522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rot="18309600">
              <a:off x="3771360" y="58032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776760" y="5807520"/>
              <a:ext cx="324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3774240" y="581652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3777840" y="582516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789720" y="582444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flipV="1">
              <a:off x="3795840" y="5820480"/>
              <a:ext cx="2880" cy="28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rot="18309600">
              <a:off x="3889440" y="57391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rot="18309600">
              <a:off x="3889440" y="57391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3401640" y="5736960"/>
            <a:ext cx="549000" cy="587160"/>
            <a:chOff x="3401640" y="5736960"/>
            <a:chExt cx="549000" cy="587160"/>
          </a:xfrm>
        </p:grpSpPr>
        <p:sp>
          <p:nvSpPr>
            <p:cNvPr id="1678" name=""/>
            <p:cNvSpPr/>
            <p:nvPr/>
          </p:nvSpPr>
          <p:spPr>
            <a:xfrm rot="18226200">
              <a:off x="3593880" y="603432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rot="18226200">
              <a:off x="3593880" y="603432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rot="18226200">
              <a:off x="3689640" y="60987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rot="18226200">
              <a:off x="3689640" y="60987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8226200">
              <a:off x="3716640" y="60498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rot="18226200">
              <a:off x="3716640" y="60498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rot="18226200">
              <a:off x="3747600" y="60616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rot="18226200">
              <a:off x="3747600" y="60616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rot="18226200">
              <a:off x="3787200" y="6068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rot="18226200">
              <a:off x="3787200" y="6068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rot="18226200">
              <a:off x="3636000" y="59958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rot="18226200">
              <a:off x="3636000" y="59958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rot="18226200">
              <a:off x="3611160" y="5970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rot="18226200">
              <a:off x="3611160" y="5970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rot="18226200">
              <a:off x="3590280" y="59371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rot="18226200">
              <a:off x="3590280" y="59371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rot="18226200">
              <a:off x="3652920" y="6118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rot="18226200">
              <a:off x="3652920" y="6118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rot="18226200">
              <a:off x="3776760" y="58618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rot="18226200">
              <a:off x="3776760" y="58618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rot="18226200">
              <a:off x="3719160" y="58230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rot="18226200">
              <a:off x="3719160" y="58230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rot="18226200">
              <a:off x="3557880" y="6055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rot="18226200">
              <a:off x="3557880" y="6055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rot="18226200">
              <a:off x="3436200" y="5860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rot="18226200">
              <a:off x="3436200" y="5860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rot="18226200">
              <a:off x="3719160" y="60552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rot="18226200">
              <a:off x="3657240" y="60894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>
              <a:off x="3736440" y="6100200"/>
              <a:ext cx="720" cy="43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rot="18226200">
              <a:off x="3724200" y="6065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3767760" y="6099120"/>
              <a:ext cx="1080" cy="43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>
              <a:off x="3796920" y="6098760"/>
              <a:ext cx="1080" cy="3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rot="18226200">
              <a:off x="3737880" y="59914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rot="18226200">
              <a:off x="3741840" y="604620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rot="18226200">
              <a:off x="3712680" y="60595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3642120" y="6038640"/>
              <a:ext cx="51840" cy="777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3744720" y="6071400"/>
              <a:ext cx="288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3763080" y="607320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3781440" y="6075000"/>
              <a:ext cx="216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rot="18226200">
              <a:off x="3808080" y="58510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rot="18226200">
              <a:off x="3747960" y="58111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rot="18226200">
              <a:off x="3727440" y="587844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89360" y="58582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rot="18226200">
              <a:off x="3836160" y="60861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rot="18226200">
              <a:off x="3536280" y="59328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rot="18226200">
              <a:off x="3566880" y="6055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rot="18226200">
              <a:off x="3566880" y="6055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rot="18226200">
              <a:off x="3594960" y="60480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>
              <a:off x="3584880" y="600048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18226200">
              <a:off x="3619800" y="59958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>
              <a:off x="3573720" y="5971320"/>
              <a:ext cx="360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>
              <a:off x="3563280" y="594360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rot="18226200">
              <a:off x="3585960" y="58899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rot="18226200">
              <a:off x="3579840" y="59382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rot="18226200">
              <a:off x="3621960" y="599904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3609720" y="6017040"/>
              <a:ext cx="52200" cy="777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604680" y="5979960"/>
              <a:ext cx="6480" cy="57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V="1">
              <a:off x="3596040" y="5963760"/>
              <a:ext cx="576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V="1">
              <a:off x="3587400" y="594792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rot="18226200">
              <a:off x="3553200" y="58971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rot="18226200">
              <a:off x="3629160" y="60577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rot="18226200">
              <a:off x="3660480" y="60786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rot="18226200">
              <a:off x="3561120" y="61578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rot="18226200">
              <a:off x="3589560" y="617688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rot="18226200">
              <a:off x="3726360" y="591408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rot="18226200">
              <a:off x="3751920" y="59310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rot="18226200">
              <a:off x="3547440" y="61866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52120" y="6191280"/>
              <a:ext cx="360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3549960" y="619992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3553560" y="620892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3565800" y="6207840"/>
              <a:ext cx="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flipV="1">
              <a:off x="3571560" y="620388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rot="18226200">
              <a:off x="3663360" y="612000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rot="18226200">
              <a:off x="3663360" y="612000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3298320" y="5988240"/>
            <a:ext cx="587880" cy="556920"/>
            <a:chOff x="3298320" y="5988240"/>
            <a:chExt cx="587880" cy="556920"/>
          </a:xfrm>
        </p:grpSpPr>
        <p:sp>
          <p:nvSpPr>
            <p:cNvPr id="1753" name=""/>
            <p:cNvSpPr/>
            <p:nvPr/>
          </p:nvSpPr>
          <p:spPr>
            <a:xfrm rot="12964200">
              <a:off x="3593160" y="6336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12964200">
              <a:off x="3593160" y="6336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rot="12964200">
              <a:off x="3661200" y="62438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2964200">
              <a:off x="3661200" y="62438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rot="12964200">
              <a:off x="3611160" y="622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2964200">
              <a:off x="3611160" y="622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rot="12964200">
              <a:off x="3622680" y="6189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rot="12964200">
              <a:off x="3622680" y="6189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rot="12964200">
              <a:off x="3631320" y="61502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rot="12964200">
              <a:off x="3631320" y="61502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rot="12964200">
              <a:off x="3553920" y="6300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rot="12964200">
              <a:off x="3553920" y="6300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rot="12964200">
              <a:off x="3525840" y="63219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rot="12964200">
              <a:off x="3525840" y="63219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rot="12964200">
              <a:off x="3491640" y="634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 rot="12964200">
              <a:off x="3491640" y="634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rot="12964200">
              <a:off x="3666240" y="6257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 rot="12964200">
              <a:off x="3666240" y="6257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rot="12964200">
              <a:off x="3422160" y="60969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rot="12964200">
              <a:off x="3422160" y="60969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rot="12964200">
              <a:off x="3381120" y="61531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rot="12964200">
              <a:off x="3381120" y="61531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rot="12964200">
              <a:off x="3598560" y="63500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rot="12964200">
              <a:off x="3598560" y="63500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rot="12964200">
              <a:off x="3352320" y="609660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rot="12964200">
              <a:off x="3352320" y="609660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rot="12964200">
              <a:off x="3629160" y="6137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rot="12964200">
              <a:off x="3653280" y="625932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664440" y="6208200"/>
              <a:ext cx="3960" cy="1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rot="12964200">
              <a:off x="3625560" y="62154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664800" y="6176520"/>
              <a:ext cx="3960" cy="1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665160" y="6147000"/>
              <a:ext cx="396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rot="12964200">
              <a:off x="3602880" y="61084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rot="12964200">
              <a:off x="3622680" y="61516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rot="12964200">
              <a:off x="3627000" y="6219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H="1" flipV="1">
              <a:off x="3601080" y="6248520"/>
              <a:ext cx="75600" cy="55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 flipV="1">
              <a:off x="3636000" y="6196680"/>
              <a:ext cx="7920" cy="32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 flipV="1">
              <a:off x="3638880" y="6178680"/>
              <a:ext cx="7560" cy="28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 flipV="1">
              <a:off x="3641040" y="6160680"/>
              <a:ext cx="756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rot="12964200">
              <a:off x="3431880" y="6088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rot="12964200">
              <a:off x="3389040" y="61466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rot="12964200">
              <a:off x="3396960" y="61585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3424680" y="6144480"/>
              <a:ext cx="14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rot="12964200">
              <a:off x="3648240" y="61016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rot="12964200">
              <a:off x="3499560" y="6315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rot="12964200">
              <a:off x="3594600" y="63532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rot="12964200">
              <a:off x="3594600" y="63532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12964200">
              <a:off x="3609360" y="63198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558960" y="6352920"/>
              <a:ext cx="2160" cy="3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rot="12964200">
              <a:off x="3551760" y="631656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529080" y="6362640"/>
              <a:ext cx="2160" cy="3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501000" y="6372720"/>
              <a:ext cx="2520" cy="32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rot="12964200">
              <a:off x="3495240" y="62560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rot="12964200">
              <a:off x="3507840" y="63090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rot="12964200">
              <a:off x="3562560" y="630756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 flipV="1">
              <a:off x="3578040" y="6280200"/>
              <a:ext cx="75600" cy="550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 flipV="1">
              <a:off x="3539520" y="6329520"/>
              <a:ext cx="5400" cy="64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 flipV="1">
              <a:off x="3522960" y="6338160"/>
              <a:ext cx="5040" cy="61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 flipV="1">
              <a:off x="3506400" y="6345360"/>
              <a:ext cx="4680" cy="64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rot="12964200">
              <a:off x="3448080" y="63763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rot="12964200">
              <a:off x="3613320" y="63082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rot="12964200">
              <a:off x="3635640" y="6277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rot="12964200">
              <a:off x="3709440" y="637668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rot="12964200">
              <a:off x="3729960" y="63493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 rot="12964200">
              <a:off x="3473280" y="620208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 rot="12964200">
              <a:off x="3491640" y="61768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12964200">
              <a:off x="3745440" y="63727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3748320" y="6393600"/>
              <a:ext cx="1800" cy="32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 flipV="1">
              <a:off x="3756960" y="6395400"/>
              <a:ext cx="1800" cy="43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 flipV="1">
              <a:off x="3765960" y="6392880"/>
              <a:ext cx="4680" cy="32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 flipH="1" flipV="1">
              <a:off x="3765240" y="6383880"/>
              <a:ext cx="4680" cy="3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3761640" y="6375240"/>
              <a:ext cx="2520" cy="28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rot="12964200">
              <a:off x="3662640" y="6259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rot="12964200">
              <a:off x="3662640" y="6259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7" name=""/>
          <p:cNvGrpSpPr/>
          <p:nvPr/>
        </p:nvGrpSpPr>
        <p:grpSpPr>
          <a:xfrm>
            <a:off x="3702240" y="6041880"/>
            <a:ext cx="556920" cy="587880"/>
            <a:chOff x="3702240" y="6041880"/>
            <a:chExt cx="556920" cy="587880"/>
          </a:xfrm>
        </p:grpSpPr>
        <p:sp>
          <p:nvSpPr>
            <p:cNvPr id="1828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rot="7564200">
              <a:off x="3860280" y="6209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rot="7564200">
              <a:off x="3975120" y="62456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3922200" y="625968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rot="7564200">
              <a:off x="3925800" y="6298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V="1">
              <a:off x="3890520" y="625932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V="1">
              <a:off x="3861000" y="625896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rot="7564200">
              <a:off x="3868560" y="6227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rot="7564200">
              <a:off x="3876840" y="6254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rot="7564200">
              <a:off x="3937320" y="62888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962520" y="625140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3910680" y="628416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3892680" y="628164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H="1">
              <a:off x="3874680" y="62794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rot="7564200">
              <a:off x="3815280" y="645624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rot="7564200">
              <a:off x="3873600" y="64987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rot="7564200">
              <a:off x="3825360" y="6480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 flipV="1">
              <a:off x="3858480" y="65019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rot="7564200">
              <a:off x="3809160" y="62726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rot="7564200">
              <a:off x="4038120" y="6339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rot="7564200">
              <a:off x="4035600" y="6289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4066920" y="63669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rot="7564200">
              <a:off x="4026960" y="6372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4076640" y="63968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V="1">
              <a:off x="4086720" y="642456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7564200">
              <a:off x="4016160" y="6335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7564200">
              <a:off x="4033800" y="63691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rot="7564200">
              <a:off x="4025520" y="635328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>
              <a:off x="3994200" y="627444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 flipH="1">
              <a:off x="4043520" y="638316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H="1">
              <a:off x="4052160" y="640008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4059360" y="641700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rot="7564200">
              <a:off x="4083840" y="6472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rot="7564200">
              <a:off x="4017600" y="63090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rot="7564200">
              <a:off x="3987000" y="6286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7564200">
              <a:off x="4085280" y="6208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rot="7564200">
              <a:off x="4057560" y="61880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rot="7564200">
              <a:off x="3911400" y="64454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rot="7564200">
              <a:off x="3886200" y="64267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rot="7564200">
              <a:off x="4088520" y="61534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flipV="1">
              <a:off x="4107600" y="617796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109400" y="616932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4106880" y="615744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4097880" y="615816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089240" y="616392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2" name=""/>
          <p:cNvSpPr/>
          <p:nvPr/>
        </p:nvSpPr>
        <p:spPr>
          <a:xfrm>
            <a:off x="228600" y="603576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Fedex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RWY HDG cleared for takeoff, on    5 R, ...ahhh,            Fedex 166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184840" y="4674600"/>
            <a:ext cx="1485000" cy="792720"/>
          </a:xfrm>
          <a:prstGeom prst="line">
            <a:avLst/>
          </a:prstGeom>
          <a:ln w="76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4" name=""/>
          <p:cNvGrpSpPr/>
          <p:nvPr/>
        </p:nvGrpSpPr>
        <p:grpSpPr>
          <a:xfrm>
            <a:off x="3627720" y="5356080"/>
            <a:ext cx="554040" cy="587880"/>
            <a:chOff x="3627720" y="5356080"/>
            <a:chExt cx="554040" cy="587880"/>
          </a:xfrm>
        </p:grpSpPr>
        <p:sp>
          <p:nvSpPr>
            <p:cNvPr id="1905" name=""/>
            <p:cNvSpPr/>
            <p:nvPr/>
          </p:nvSpPr>
          <p:spPr>
            <a:xfrm rot="18309600">
              <a:off x="3822120" y="5652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rot="18309600">
              <a:off x="3822120" y="5652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rot="18309600">
              <a:off x="3916440" y="57189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rot="18309600">
              <a:off x="3916440" y="57189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rot="18309600">
              <a:off x="3944520" y="5670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rot="18309600">
              <a:off x="3944520" y="5670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 rot="18309600">
              <a:off x="3975480" y="5682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 rot="18309600">
              <a:off x="3975480" y="5682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rot="18309600">
              <a:off x="4014720" y="5690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rot="18309600">
              <a:off x="4014720" y="5690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rot="18309600">
              <a:off x="3864960" y="56142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rot="18309600">
              <a:off x="3864960" y="56142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rot="18309600">
              <a:off x="3841560" y="5587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rot="18309600">
              <a:off x="3841560" y="5587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rot="18309600">
              <a:off x="3821040" y="5554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rot="18309600">
              <a:off x="3821040" y="5554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 rot="18309600">
              <a:off x="3879000" y="57387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 rot="18309600">
              <a:off x="3879000" y="57387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rot="18309600">
              <a:off x="4008960" y="54842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 rot="18309600">
              <a:off x="4008960" y="54842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 rot="18309600">
              <a:off x="3952080" y="54442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rot="18309600">
              <a:off x="3952080" y="54442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rot="18309600">
              <a:off x="3785400" y="5672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rot="18309600">
              <a:off x="3785400" y="5672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 rot="18309600">
              <a:off x="3664800" y="54799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rot="18309600">
              <a:off x="3664800" y="54799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rot="18309600">
              <a:off x="3945600" y="567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rot="18309600">
              <a:off x="3883680" y="5708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3962880" y="5720760"/>
              <a:ext cx="1440" cy="4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rot="18309600">
              <a:off x="3951720" y="5685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3994560" y="5720760"/>
              <a:ext cx="1080" cy="3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4023720" y="5720760"/>
              <a:ext cx="1440" cy="3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rot="18309600">
              <a:off x="3965760" y="5612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rot="18309600">
              <a:off x="3969000" y="566712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rot="18309600">
              <a:off x="3940200" y="56797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3868560" y="5658120"/>
              <a:ext cx="54000" cy="7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3971880" y="5692320"/>
              <a:ext cx="3240" cy="79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3990240" y="5694840"/>
              <a:ext cx="2880" cy="7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4008960" y="5696640"/>
              <a:ext cx="2160" cy="75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rot="18309600">
              <a:off x="4040280" y="547380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rot="18309600">
              <a:off x="3981240" y="5432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rot="18309600">
              <a:off x="3959640" y="55000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22280" y="5480280"/>
              <a:ext cx="180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8309600">
              <a:off x="4062960" y="57092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8309600">
              <a:off x="3765600" y="5549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8309600">
              <a:off x="3794760" y="56721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rot="18309600">
              <a:off x="3794760" y="56721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rot="18309600">
              <a:off x="3822480" y="56660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H="1">
              <a:off x="3814200" y="5617800"/>
              <a:ext cx="32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rot="18309600">
              <a:off x="3849120" y="5613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3803760" y="5587920"/>
              <a:ext cx="3600" cy="25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3793680" y="5559840"/>
              <a:ext cx="3240" cy="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rot="18309600">
              <a:off x="3816360" y="5507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rot="18309600">
              <a:off x="3810240" y="55555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rot="18309600">
              <a:off x="3851280" y="5617080"/>
              <a:ext cx="7560" cy="158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3836880" y="5635800"/>
              <a:ext cx="54000" cy="76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V="1">
              <a:off x="3834360" y="5598000"/>
              <a:ext cx="6480" cy="54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3825720" y="5581440"/>
              <a:ext cx="6120" cy="50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V="1">
              <a:off x="3817800" y="5565240"/>
              <a:ext cx="6480" cy="46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8309600">
              <a:off x="3785040" y="55134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rot="18309600">
              <a:off x="3857040" y="5676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rot="18309600">
              <a:off x="3888000" y="56977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rot="18309600">
              <a:off x="3786480" y="57740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rot="18309600">
              <a:off x="3814200" y="57945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rot="18309600">
              <a:off x="3957480" y="5534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rot="18309600">
              <a:off x="3983040" y="55522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rot="18309600">
              <a:off x="3771360" y="58032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776760" y="5807520"/>
              <a:ext cx="3240" cy="21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774240" y="5816520"/>
              <a:ext cx="432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V="1">
              <a:off x="3777840" y="5825160"/>
              <a:ext cx="3240" cy="46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V="1">
              <a:off x="3789720" y="5824440"/>
              <a:ext cx="360" cy="46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 flipV="1">
              <a:off x="3795840" y="5820480"/>
              <a:ext cx="2880" cy="28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rot="18309600">
              <a:off x="3889440" y="57391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rot="18309600">
              <a:off x="3889440" y="57391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9" name=""/>
          <p:cNvSpPr/>
          <p:nvPr/>
        </p:nvSpPr>
        <p:spPr>
          <a:xfrm>
            <a:off x="2209680" y="1219320"/>
            <a:ext cx="4572000" cy="7596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505320" y="5257800"/>
            <a:ext cx="838080" cy="83808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4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1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1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6"/>
                                      </p:cond>
                                    </p:stCondLst>
                                  </p:cTn>
                                  <p:tgtEl>
                                    <p:spTgt spid="19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evt="end">
                                        <p:tn val="143"/>
                                      </p:cond>
                                    </p:stCondLst>
                                  </p:cTn>
                                  <p:tgtEl>
                                    <p:spTgt spid="1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4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evt="end">
                                        <p:tn val="156"/>
                                      </p:cond>
                                    </p:stCondLst>
                                  </p:cTn>
                                  <p:tgtEl>
                                    <p:spTgt spid="19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5"/>
                                      </p:cond>
                                    </p:stCondLst>
                                  </p:cTn>
                                  <p:tgtEl>
                                    <p:spTgt spid="16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1"/>
                                      </p:cond>
                                    </p:stCondLst>
                                  </p:cTn>
                                  <p:tgtEl>
                                    <p:spTgt spid="1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7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752480" y="19051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6200280" y="1769040"/>
            <a:ext cx="630000" cy="653760"/>
            <a:chOff x="6200280" y="1769040"/>
            <a:chExt cx="630000" cy="653760"/>
          </a:xfrm>
        </p:grpSpPr>
        <p:sp>
          <p:nvSpPr>
            <p:cNvPr id="2035" name=""/>
            <p:cNvSpPr/>
            <p:nvPr/>
          </p:nvSpPr>
          <p:spPr>
            <a:xfrm rot="18519000">
              <a:off x="6422760" y="209268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8519000">
              <a:off x="6422760" y="209268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8519000">
              <a:off x="6523200" y="217368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rot="18519000">
              <a:off x="6523200" y="217368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rot="18519000">
              <a:off x="6558120" y="21214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rot="18519000">
              <a:off x="6558120" y="21214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rot="18519000">
              <a:off x="6591600" y="21369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rot="18519000">
              <a:off x="6591600" y="21369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rot="18519000">
              <a:off x="6634440" y="21488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rot="18519000">
              <a:off x="6634440" y="21488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rot="18519000">
              <a:off x="6473160" y="2053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18519000">
              <a:off x="6473160" y="2053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 rot="18519000">
              <a:off x="6448320" y="202248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18519000">
              <a:off x="6448320" y="202248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rot="18519000">
              <a:off x="6427800" y="19836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18519000">
              <a:off x="6427800" y="19836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rot="18519000">
              <a:off x="6480360" y="21945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rot="18519000">
              <a:off x="6480360" y="21945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rot="18519000">
              <a:off x="6639840" y="1920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 rot="18519000">
              <a:off x="6639840" y="1920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rot="18519000">
              <a:off x="6579360" y="18723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 rot="18519000">
              <a:off x="6579360" y="18723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rot="18519000">
              <a:off x="6380640" y="21146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rot="18519000">
              <a:off x="6380640" y="21146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 rot="18519000">
              <a:off x="6248160" y="1905840"/>
              <a:ext cx="53352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rot="18519000">
              <a:off x="6248160" y="1905840"/>
              <a:ext cx="53352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 rot="18519000">
              <a:off x="6555600" y="213048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 rot="18519000">
              <a:off x="6487200" y="216108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6575040" y="21787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 rot="18519000">
              <a:off x="6564960" y="21394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6610320" y="21805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H="1">
              <a:off x="6642720" y="218268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rot="18519000">
              <a:off x="6581160" y="206028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 rot="18519000">
              <a:off x="6584040" y="21211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 rot="18519000">
              <a:off x="6552360" y="213156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flipV="1">
              <a:off x="6469200" y="2106360"/>
              <a:ext cx="65160" cy="81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flipV="1">
              <a:off x="6586560" y="2147400"/>
              <a:ext cx="43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flipV="1">
              <a:off x="6606720" y="2151720"/>
              <a:ext cx="3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flipV="1">
              <a:off x="6627600" y="2154960"/>
              <a:ext cx="324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18519000">
              <a:off x="6676200" y="19101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18519000">
              <a:off x="6612840" y="18597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8519000">
              <a:off x="6586560" y="193608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57480" y="191592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rot="18519000">
              <a:off x="6688080" y="21736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8519000">
              <a:off x="6363720" y="197712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18519000">
              <a:off x="6391440" y="21142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rot="18519000">
              <a:off x="6391440" y="21142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rot="18519000">
              <a:off x="6421680" y="21085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 flipH="1">
              <a:off x="6416280" y="205344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rot="18519000">
              <a:off x="6455520" y="205200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 flipH="1">
              <a:off x="6406920" y="2019960"/>
              <a:ext cx="39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H="1">
              <a:off x="6397200" y="198792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18519000">
              <a:off x="6421680" y="19332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18519000">
              <a:off x="6414480" y="198576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18519000">
              <a:off x="6456960" y="205560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6435360" y="2079360"/>
              <a:ext cx="64800" cy="81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6440040" y="2033280"/>
              <a:ext cx="756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6431760" y="2014560"/>
              <a:ext cx="72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6423480" y="1995480"/>
              <a:ext cx="792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rot="18519000">
              <a:off x="6391080" y="19360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rot="18519000">
              <a:off x="6460560" y="21218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rot="18519000">
              <a:off x="6493680" y="21481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rot="18519000">
              <a:off x="6375240" y="222624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18519000">
              <a:off x="6405120" y="22503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rot="18519000">
              <a:off x="6581520" y="197208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18519000">
              <a:off x="6608160" y="199332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18519000">
              <a:off x="6356160" y="225756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362280" y="2262240"/>
              <a:ext cx="360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6359040" y="2271960"/>
              <a:ext cx="5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6361920" y="2282040"/>
              <a:ext cx="39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6375600" y="2281680"/>
              <a:ext cx="72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 flipV="1">
              <a:off x="6382800" y="2278440"/>
              <a:ext cx="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18519000">
              <a:off x="6492240" y="21952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18519000">
              <a:off x="6492240" y="21952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9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2110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2185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6242400" y="1135080"/>
            <a:ext cx="491040" cy="356760"/>
            <a:chOff x="6242400" y="1135080"/>
            <a:chExt cx="491040" cy="356760"/>
          </a:xfrm>
        </p:grpSpPr>
        <p:sp>
          <p:nvSpPr>
            <p:cNvPr id="2260" name=""/>
            <p:cNvSpPr/>
            <p:nvPr/>
          </p:nvSpPr>
          <p:spPr>
            <a:xfrm rot="21476400">
              <a:off x="6429240" y="12520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rot="21476400">
              <a:off x="6429240" y="12520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rot="21476400">
              <a:off x="6433200" y="1367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rot="21476400">
              <a:off x="6433200" y="1367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rot="21476400">
              <a:off x="6493680" y="13604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21476400">
              <a:off x="6493680" y="13604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21476400">
              <a:off x="6501600" y="1393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21476400">
              <a:off x="6501600" y="1393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21476400">
              <a:off x="6519240" y="1429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rot="21476400">
              <a:off x="6519240" y="1429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rot="21476400">
              <a:off x="6490080" y="126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rot="21476400">
              <a:off x="6490080" y="126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rot="21476400">
              <a:off x="6495840" y="1229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rot="21476400">
              <a:off x="6495840" y="1229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rot="21476400">
              <a:off x="6510600" y="1192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rot="21476400">
              <a:off x="6510600" y="1192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rot="21476400">
              <a:off x="6383880" y="13633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rot="21476400">
              <a:off x="6383880" y="13633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21476400">
              <a:off x="6646320" y="1313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21476400">
              <a:off x="6646320" y="1313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rot="21476400">
              <a:off x="6643800" y="12438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rot="21476400">
              <a:off x="6643800" y="12438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rot="21476400">
              <a:off x="6379560" y="1249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rot="21476400">
              <a:off x="6379560" y="1249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rot="21476400">
              <a:off x="6248160" y="1143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rot="21476400">
              <a:off x="6248160" y="1143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rot="21476400">
              <a:off x="6436800" y="1374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rot="21476400">
              <a:off x="6410880" y="13377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>
              <a:off x="6463440" y="140400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rot="21476400">
              <a:off x="6486120" y="1375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6482880" y="142884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6500520" y="1452600"/>
              <a:ext cx="396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rot="21476400">
              <a:off x="6487200" y="13320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rot="21476400">
              <a:off x="6480720" y="13791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rot="21476400">
              <a:off x="6477840" y="136008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6398640" y="1333080"/>
              <a:ext cx="936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V="1">
              <a:off x="6488640" y="1395360"/>
              <a:ext cx="828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6498360" y="1411200"/>
              <a:ext cx="756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6507720" y="1426680"/>
              <a:ext cx="720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rot="21476400">
              <a:off x="6683760" y="131580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rot="21476400">
              <a:off x="6680880" y="1243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 rot="21476400">
              <a:off x="6620040" y="1305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693840" y="1304640"/>
              <a:ext cx="36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rot="21476400">
              <a:off x="6533640" y="14814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rot="21476400">
              <a:off x="6428880" y="1155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rot="21476400">
              <a:off x="6393600" y="12556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rot="21476400">
              <a:off x="6393600" y="12556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rot="21476400">
              <a:off x="6408360" y="1262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 flipV="1">
              <a:off x="6456960" y="1223640"/>
              <a:ext cx="396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rot="21476400">
              <a:off x="6481800" y="1251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 flipV="1">
              <a:off x="6474240" y="1197360"/>
              <a:ext cx="432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 flipV="1">
              <a:off x="6490440" y="1172520"/>
              <a:ext cx="396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21476400">
              <a:off x="6480720" y="11498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21476400">
              <a:off x="6473520" y="11847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21476400">
              <a:off x="6473880" y="125100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V="1">
              <a:off x="6397200" y="1294200"/>
              <a:ext cx="936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82880" y="1229400"/>
              <a:ext cx="828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491160" y="1212480"/>
              <a:ext cx="756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99080" y="1196280"/>
              <a:ext cx="79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21476400">
              <a:off x="6521400" y="1141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21476400">
              <a:off x="6436080" y="1295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21476400">
              <a:off x="6437520" y="13334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21476400">
              <a:off x="6312600" y="129996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21476400">
              <a:off x="6313680" y="13345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21476400">
              <a:off x="6607080" y="12909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21476400">
              <a:off x="6608160" y="13219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21476400">
              <a:off x="6267960" y="1305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285240" y="1307160"/>
              <a:ext cx="36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275160" y="1311480"/>
              <a:ext cx="432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6267960" y="1321200"/>
              <a:ext cx="5760" cy="3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6275880" y="1328040"/>
              <a:ext cx="396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V="1">
              <a:off x="6286320" y="1330200"/>
              <a:ext cx="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rot="21476400">
              <a:off x="6397920" y="137160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rot="21476400">
              <a:off x="6397920" y="137160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4" name=""/>
          <p:cNvSpPr/>
          <p:nvPr/>
        </p:nvSpPr>
        <p:spPr>
          <a:xfrm>
            <a:off x="0" y="2286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: ...and 1448 is on N  by the RWY here, we don´t see the ahh....,  are we cleared to cross straight ahead on 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0" y="11430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nited 1448, affirmative, cross RWY 16, join taxiway N and T on the other si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0" y="1905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N – T on the other side, United ahhh...144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0" y="2819520"/>
            <a:ext cx="2209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SAir 1020 exert caution, 757 ahead just coming up on RWY 16, join taxiway N and T, taxi to the ram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0" y="40384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SAi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Ok, we´re looking for the other airpla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0" y="47242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SAi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and we´re crossing N at B, did you want us to taxi A to the ramp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0" y="5562720"/>
            <a:ext cx="22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: USAir 1020, negative, that was just if you missed N on the rollout, taxi to the ramp, via taxiway N and T, report entering taxiway T pl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1" name=""/>
          <p:cNvGrpSpPr/>
          <p:nvPr/>
        </p:nvGrpSpPr>
        <p:grpSpPr>
          <a:xfrm>
            <a:off x="3702240" y="6041880"/>
            <a:ext cx="556920" cy="587880"/>
            <a:chOff x="3702240" y="6041880"/>
            <a:chExt cx="556920" cy="587880"/>
          </a:xfrm>
        </p:grpSpPr>
        <p:sp>
          <p:nvSpPr>
            <p:cNvPr id="2342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rot="7564200">
              <a:off x="3860280" y="6209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rot="7564200">
              <a:off x="3975120" y="62456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V="1">
              <a:off x="3922200" y="625968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rot="7564200">
              <a:off x="3925800" y="6298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3890520" y="625932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V="1">
              <a:off x="3861000" y="625896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rot="7564200">
              <a:off x="3868560" y="6227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rot="7564200">
              <a:off x="3876840" y="6254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rot="7564200">
              <a:off x="3937320" y="62888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3962520" y="625140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3910680" y="628416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3892680" y="628164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3874680" y="62794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rot="7564200">
              <a:off x="3815280" y="645624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rot="7564200">
              <a:off x="3873600" y="64987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rot="7564200">
              <a:off x="3825360" y="6480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 flipV="1">
              <a:off x="3858480" y="65019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rot="7564200">
              <a:off x="3809160" y="62726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rot="7564200">
              <a:off x="4038120" y="6339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rot="7564200">
              <a:off x="4035600" y="6289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4066920" y="63669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rot="7564200">
              <a:off x="4026960" y="6372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4076640" y="63968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4086720" y="642456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rot="7564200">
              <a:off x="4016160" y="6335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rot="7564200">
              <a:off x="4033800" y="63691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rot="7564200">
              <a:off x="4025520" y="635328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3994200" y="627444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4043520" y="638316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>
              <a:off x="4052160" y="640008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4059360" y="641700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 rot="7564200">
              <a:off x="4083840" y="6472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rot="7564200">
              <a:off x="4017600" y="63090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rot="7564200">
              <a:off x="3987000" y="6286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rot="7564200">
              <a:off x="4085280" y="6208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rot="7564200">
              <a:off x="4057560" y="61880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rot="7564200">
              <a:off x="3911400" y="64454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rot="7564200">
              <a:off x="3886200" y="64267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7564200">
              <a:off x="4088520" y="61534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 flipV="1">
              <a:off x="4107600" y="617796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4109400" y="616932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flipH="1">
              <a:off x="4106880" y="615744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H="1">
              <a:off x="4097880" y="615816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089240" y="616392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6095880" y="838080"/>
            <a:ext cx="83844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095880" y="1600200"/>
            <a:ext cx="83844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89"/>
                                      </p:cond>
                                    </p:stCondLst>
                                  </p:cTn>
                                  <p:tgtEl>
                                    <p:spTgt spid="2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5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133720" y="175248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1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2472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6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2547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1" name=""/>
          <p:cNvGrpSpPr/>
          <p:nvPr/>
        </p:nvGrpSpPr>
        <p:grpSpPr>
          <a:xfrm>
            <a:off x="6394680" y="1135080"/>
            <a:ext cx="491400" cy="356760"/>
            <a:chOff x="6394680" y="1135080"/>
            <a:chExt cx="491400" cy="356760"/>
          </a:xfrm>
        </p:grpSpPr>
        <p:sp>
          <p:nvSpPr>
            <p:cNvPr id="2622" name=""/>
            <p:cNvSpPr/>
            <p:nvPr/>
          </p:nvSpPr>
          <p:spPr>
            <a:xfrm rot="21476400">
              <a:off x="6581520" y="12520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rot="21476400">
              <a:off x="6581520" y="12520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rot="21476400">
              <a:off x="6585480" y="1367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 rot="21476400">
              <a:off x="6585480" y="1367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 rot="21476400">
              <a:off x="6645960" y="13604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rot="21476400">
              <a:off x="6645960" y="13604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 rot="21476400">
              <a:off x="6654240" y="1393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 rot="21476400">
              <a:off x="6654240" y="1393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rot="21476400">
              <a:off x="6671880" y="1429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rot="21476400">
              <a:off x="6671880" y="1429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rot="21476400">
              <a:off x="6642360" y="126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 rot="21476400">
              <a:off x="6642360" y="126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rot="21476400">
              <a:off x="6648480" y="1229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rot="21476400">
              <a:off x="6648480" y="1229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 rot="21476400">
              <a:off x="6663240" y="1192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 rot="21476400">
              <a:off x="6663240" y="1192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rot="21476400">
              <a:off x="6536160" y="1363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rot="21476400">
              <a:off x="6536160" y="1363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rot="21476400">
              <a:off x="6798960" y="1313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rot="21476400">
              <a:off x="6798960" y="1313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rot="21476400">
              <a:off x="6796440" y="12438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 rot="21476400">
              <a:off x="6796440" y="12438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rot="21476400">
              <a:off x="6531840" y="1249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rot="21476400">
              <a:off x="6531840" y="1249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 rot="21476400">
              <a:off x="6400440" y="114336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 rot="21476400">
              <a:off x="6400440" y="114336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rot="21476400">
              <a:off x="6589080" y="1374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rot="21476400">
              <a:off x="6563160" y="13377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6616080" y="140400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 rot="21476400">
              <a:off x="6638760" y="1375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H="1">
              <a:off x="6635520" y="142884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H="1">
              <a:off x="6653160" y="1452600"/>
              <a:ext cx="396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rot="21476400">
              <a:off x="6639840" y="13320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rot="21476400">
              <a:off x="6633360" y="13791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rot="21476400">
              <a:off x="6630480" y="136008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V="1">
              <a:off x="6551280" y="1333080"/>
              <a:ext cx="936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6640920" y="1395360"/>
              <a:ext cx="828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flipV="1">
              <a:off x="6650640" y="1411200"/>
              <a:ext cx="756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6660360" y="1426680"/>
              <a:ext cx="720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21476400">
              <a:off x="6836400" y="131580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21476400">
              <a:off x="6833520" y="1243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21476400">
              <a:off x="6772680" y="1305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846480" y="1304640"/>
              <a:ext cx="36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21476400">
              <a:off x="6686280" y="14814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21476400">
              <a:off x="6581160" y="1155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21476400">
              <a:off x="6546240" y="12556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21476400">
              <a:off x="6546240" y="12556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21476400">
              <a:off x="6560640" y="1262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 flipV="1">
              <a:off x="6609600" y="1223640"/>
              <a:ext cx="396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21476400">
              <a:off x="6634440" y="1251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 flipV="1">
              <a:off x="6626880" y="1197360"/>
              <a:ext cx="432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 flipV="1">
              <a:off x="6643080" y="1172520"/>
              <a:ext cx="396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rot="21476400">
              <a:off x="6633360" y="11498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rot="21476400">
              <a:off x="6626160" y="11847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 rot="21476400">
              <a:off x="6626520" y="125100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 flipV="1">
              <a:off x="6549840" y="1294200"/>
              <a:ext cx="936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635160" y="1229400"/>
              <a:ext cx="828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643440" y="1212840"/>
              <a:ext cx="75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651720" y="1196280"/>
              <a:ext cx="79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21476400">
              <a:off x="6674040" y="1141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21476400">
              <a:off x="6588720" y="1295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21476400">
              <a:off x="6590160" y="13334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21476400">
              <a:off x="6465240" y="129996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21476400">
              <a:off x="6465960" y="13345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21476400">
              <a:off x="6759720" y="12909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21476400">
              <a:off x="6760800" y="13219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21476400">
              <a:off x="6420240" y="1305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437520" y="1307160"/>
              <a:ext cx="36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427440" y="1311480"/>
              <a:ext cx="432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V="1">
              <a:off x="6420240" y="1321200"/>
              <a:ext cx="5760" cy="3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V="1">
              <a:off x="6428160" y="1328040"/>
              <a:ext cx="396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6438600" y="1330200"/>
              <a:ext cx="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21476400">
              <a:off x="6550560" y="1371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21476400">
              <a:off x="6550560" y="1371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6" name=""/>
          <p:cNvGrpSpPr/>
          <p:nvPr/>
        </p:nvGrpSpPr>
        <p:grpSpPr>
          <a:xfrm>
            <a:off x="6173280" y="1857960"/>
            <a:ext cx="531720" cy="627120"/>
            <a:chOff x="6173280" y="1857960"/>
            <a:chExt cx="531720" cy="627120"/>
          </a:xfrm>
        </p:grpSpPr>
        <p:sp>
          <p:nvSpPr>
            <p:cNvPr id="2697" name=""/>
            <p:cNvSpPr/>
            <p:nvPr/>
          </p:nvSpPr>
          <p:spPr>
            <a:xfrm rot="17333400">
              <a:off x="6353640" y="21967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rot="17333400">
              <a:off x="6353640" y="21967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rot="17333400">
              <a:off x="6474960" y="22392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rot="17333400">
              <a:off x="6474960" y="22392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rot="17333400">
              <a:off x="6488640" y="21790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 rot="17333400">
              <a:off x="6488640" y="21790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rot="17333400">
              <a:off x="6525720" y="21823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rot="17333400">
              <a:off x="6525720" y="21823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rot="17333400">
              <a:off x="6570000" y="21787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 rot="17333400">
              <a:off x="6570000" y="21787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rot="17333400">
              <a:off x="6385680" y="2143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 rot="17333400">
              <a:off x="6385680" y="2143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 rot="17333400">
              <a:off x="6352200" y="21229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rot="17333400">
              <a:off x="6352200" y="21229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rot="17333400">
              <a:off x="6319800" y="20930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 rot="17333400">
              <a:off x="6319800" y="20930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 rot="17333400">
              <a:off x="6441840" y="2265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 rot="17333400">
              <a:off x="6441840" y="2265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 rot="17333400">
              <a:off x="6505560" y="19501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 rot="17333400">
              <a:off x="6505560" y="19501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rot="17333400">
              <a:off x="6432120" y="19245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rot="17333400">
              <a:off x="6432120" y="19245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 rot="17333400">
              <a:off x="6321240" y="22240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 rot="17333400">
              <a:off x="6321240" y="22240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 rot="17333400">
              <a:off x="6172200" y="1981440"/>
              <a:ext cx="53316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 rot="17333400">
              <a:off x="6172200" y="1981440"/>
              <a:ext cx="53316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rot="17333400">
              <a:off x="6505200" y="217224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rot="17333400">
              <a:off x="6440040" y="223596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6525000" y="2228400"/>
              <a:ext cx="3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 rot="17333400">
              <a:off x="6500880" y="21938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6558480" y="221868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 flipH="1">
              <a:off x="6589800" y="2209320"/>
              <a:ext cx="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 rot="17333400">
              <a:off x="6514200" y="210168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rot="17333400">
              <a:off x="6522480" y="21625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rot="17333400">
              <a:off x="6489360" y="219060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V="1">
              <a:off x="6427080" y="2174760"/>
              <a:ext cx="33480" cy="9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V="1">
              <a:off x="6527160" y="2194920"/>
              <a:ext cx="72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 flipV="1">
              <a:off x="6546960" y="2191680"/>
              <a:ext cx="36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V="1">
              <a:off x="6567840" y="2188080"/>
              <a:ext cx="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 rot="17333400">
              <a:off x="6536520" y="193572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 rot="17333400">
              <a:off x="6460200" y="190908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 rot="17333400">
              <a:off x="6449400" y="19789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511680" y="1954080"/>
              <a:ext cx="2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 rot="17333400">
              <a:off x="6627600" y="21837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rot="17333400">
              <a:off x="6272640" y="209268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rot="17333400">
              <a:off x="6328800" y="22230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 rot="17333400">
              <a:off x="6328800" y="22230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rot="17333400">
              <a:off x="6360480" y="220896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H="1">
              <a:off x="6332760" y="2163600"/>
              <a:ext cx="28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rot="17333400">
              <a:off x="6368400" y="21484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6312240" y="2135160"/>
              <a:ext cx="28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6292800" y="210816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rot="17333400">
              <a:off x="6321960" y="203544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 rot="17333400">
              <a:off x="6317640" y="209232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 rot="17333400">
              <a:off x="6373800" y="215100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V="1">
              <a:off x="6386040" y="2160720"/>
              <a:ext cx="33840" cy="9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 flipV="1">
              <a:off x="6348960" y="2135160"/>
              <a:ext cx="54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V="1">
              <a:off x="6335280" y="2120760"/>
              <a:ext cx="504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V="1">
              <a:off x="6320880" y="2105640"/>
              <a:ext cx="540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rot="17333400">
              <a:off x="6268320" y="20606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rot="17333400">
              <a:off x="6396480" y="22125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rot="17333400">
              <a:off x="6436440" y="22262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rot="17333400">
              <a:off x="6352200" y="233856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 rot="17333400">
              <a:off x="6388200" y="235080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rot="17333400">
              <a:off x="6459840" y="202968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rot="17333400">
              <a:off x="6492960" y="204048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rot="17333400">
              <a:off x="6348960" y="237132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351480" y="2379600"/>
              <a:ext cx="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 flipV="1">
              <a:off x="6352200" y="2387880"/>
              <a:ext cx="432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V="1">
              <a:off x="6359760" y="2396880"/>
              <a:ext cx="216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 flipV="1">
              <a:off x="6371640" y="2392920"/>
              <a:ext cx="108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 flipV="1">
              <a:off x="6376320" y="2387880"/>
              <a:ext cx="3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rot="17333400">
              <a:off x="6450840" y="22651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rot="17333400">
              <a:off x="6450840" y="22651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1" name=""/>
          <p:cNvSpPr/>
          <p:nvPr/>
        </p:nvSpPr>
        <p:spPr>
          <a:xfrm>
            <a:off x="0" y="15228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SAi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Thank you, N – T, USAir 10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2" name=""/>
          <p:cNvGrpSpPr/>
          <p:nvPr/>
        </p:nvGrpSpPr>
        <p:grpSpPr>
          <a:xfrm>
            <a:off x="6173280" y="1857960"/>
            <a:ext cx="531720" cy="627120"/>
            <a:chOff x="6173280" y="1857960"/>
            <a:chExt cx="531720" cy="627120"/>
          </a:xfrm>
        </p:grpSpPr>
        <p:sp>
          <p:nvSpPr>
            <p:cNvPr id="2773" name=""/>
            <p:cNvSpPr/>
            <p:nvPr/>
          </p:nvSpPr>
          <p:spPr>
            <a:xfrm rot="17333400">
              <a:off x="6353640" y="21967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rot="17333400">
              <a:off x="6353640" y="21967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 rot="17333400">
              <a:off x="6474960" y="22392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rot="17333400">
              <a:off x="6474960" y="223920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rot="17333400">
              <a:off x="6488640" y="21790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rot="17333400">
              <a:off x="6488640" y="21790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rot="17333400">
              <a:off x="6525720" y="21823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 rot="17333400">
              <a:off x="6525720" y="21823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 rot="17333400">
              <a:off x="6570000" y="21787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rot="17333400">
              <a:off x="6570000" y="21787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rot="17333400">
              <a:off x="6385680" y="2143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 rot="17333400">
              <a:off x="6385680" y="2143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 rot="17333400">
              <a:off x="6352200" y="21229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 rot="17333400">
              <a:off x="6352200" y="212292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rot="17333400">
              <a:off x="6319800" y="20930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rot="17333400">
              <a:off x="6319800" y="20930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rot="17333400">
              <a:off x="6441840" y="2265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rot="17333400">
              <a:off x="6441840" y="2265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rot="17333400">
              <a:off x="6505560" y="19501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rot="17333400">
              <a:off x="6505560" y="19501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rot="17333400">
              <a:off x="6432120" y="19245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rot="17333400">
              <a:off x="6432120" y="192456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rot="17333400">
              <a:off x="6321240" y="22240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rot="17333400">
              <a:off x="6321240" y="22240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rot="17333400">
              <a:off x="6172200" y="1981440"/>
              <a:ext cx="53316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rot="17333400">
              <a:off x="6172200" y="1981440"/>
              <a:ext cx="53316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rot="17333400">
              <a:off x="6505200" y="217224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rot="17333400">
              <a:off x="6440040" y="223596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6525000" y="2228400"/>
              <a:ext cx="360" cy="50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rot="17333400">
              <a:off x="6500880" y="21938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6558480" y="2218680"/>
              <a:ext cx="360" cy="46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6589800" y="2209320"/>
              <a:ext cx="720" cy="46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rot="17333400">
              <a:off x="6514200" y="210168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 rot="17333400">
              <a:off x="6522480" y="21625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 rot="17333400">
              <a:off x="6489360" y="219060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6427080" y="2174760"/>
              <a:ext cx="33480" cy="982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6527160" y="2194920"/>
              <a:ext cx="720" cy="9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6546960" y="2191680"/>
              <a:ext cx="360" cy="86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6567840" y="2188080"/>
              <a:ext cx="0" cy="93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7333400">
              <a:off x="6536520" y="193572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rot="17333400">
              <a:off x="6460200" y="190908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7333400">
              <a:off x="6449400" y="19789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6511680" y="1954080"/>
              <a:ext cx="2520" cy="7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rot="17333400">
              <a:off x="6627600" y="218376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7333400">
              <a:off x="6272640" y="209268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17333400">
              <a:off x="6328800" y="22230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17333400">
              <a:off x="6328800" y="22230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17333400">
              <a:off x="6360480" y="220896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6332760" y="2163600"/>
              <a:ext cx="2880" cy="3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7333400">
              <a:off x="6368400" y="21484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H="1">
              <a:off x="6312240" y="2135160"/>
              <a:ext cx="2880" cy="396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6292800" y="2108160"/>
              <a:ext cx="2520" cy="43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rot="17333400">
              <a:off x="6321960" y="203544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 rot="17333400">
              <a:off x="6317640" y="209232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rot="17333400">
              <a:off x="6373800" y="2151000"/>
              <a:ext cx="8640" cy="17640"/>
            </a:xfrm>
            <a:prstGeom prst="rect">
              <a:avLst/>
            </a:pr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6386040" y="2160720"/>
              <a:ext cx="33840" cy="986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6348960" y="2135160"/>
              <a:ext cx="5400" cy="828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6335280" y="2120760"/>
              <a:ext cx="5040" cy="7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6320880" y="2105640"/>
              <a:ext cx="5400" cy="72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rot="17333400">
              <a:off x="6268320" y="20606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rot="17333400">
              <a:off x="6396480" y="22125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rot="17333400">
              <a:off x="6436440" y="22262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rot="17333400">
              <a:off x="6352200" y="233856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 rot="17333400">
              <a:off x="6388200" y="235080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 rot="17333400">
              <a:off x="6459840" y="202968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 rot="17333400">
              <a:off x="6492960" y="204048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 rot="17333400">
              <a:off x="6348960" y="237132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351480" y="2379600"/>
              <a:ext cx="4320" cy="144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V="1">
              <a:off x="6352200" y="2387880"/>
              <a:ext cx="4320" cy="36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 flipV="1">
              <a:off x="6359760" y="2396880"/>
              <a:ext cx="2160" cy="612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 flipV="1">
              <a:off x="6371640" y="2392920"/>
              <a:ext cx="1080" cy="54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 flipH="1" flipV="1">
              <a:off x="6376320" y="2387880"/>
              <a:ext cx="3960" cy="1800"/>
            </a:xfrm>
            <a:prstGeom prst="line">
              <a:avLst/>
            </a:prstGeom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7333400">
              <a:off x="6450840" y="22651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7333400">
              <a:off x="6450840" y="22651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7" name=""/>
          <p:cNvGrpSpPr/>
          <p:nvPr/>
        </p:nvGrpSpPr>
        <p:grpSpPr>
          <a:xfrm>
            <a:off x="6194160" y="2250000"/>
            <a:ext cx="489600" cy="605160"/>
            <a:chOff x="6194160" y="2250000"/>
            <a:chExt cx="489600" cy="605160"/>
          </a:xfrm>
        </p:grpSpPr>
        <p:sp>
          <p:nvSpPr>
            <p:cNvPr id="2848" name=""/>
            <p:cNvSpPr/>
            <p:nvPr/>
          </p:nvSpPr>
          <p:spPr>
            <a:xfrm rot="15421200">
              <a:off x="6382800" y="26150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5421200">
              <a:off x="6382800" y="26150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5421200">
              <a:off x="6507360" y="25869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5421200">
              <a:off x="6507360" y="25869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5421200">
              <a:off x="6485760" y="2530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5421200">
              <a:off x="6485760" y="25308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5421200">
              <a:off x="6518160" y="25131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5421200">
              <a:off x="6518160" y="25131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5421200">
              <a:off x="6554160" y="2486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5421200">
              <a:off x="6554160" y="2486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5421200">
              <a:off x="6379560" y="25552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5421200">
              <a:off x="6379560" y="25552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5421200">
              <a:off x="6339600" y="25542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5421200">
              <a:off x="6339600" y="25542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 rot="15421200">
              <a:off x="6296760" y="25462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rot="15421200">
              <a:off x="6296760" y="25462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 rot="15421200">
              <a:off x="6492960" y="26146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rot="15421200">
              <a:off x="6492960" y="26146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rot="15421200">
              <a:off x="6389280" y="230400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 rot="15421200">
              <a:off x="6389280" y="230400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 rot="15421200">
              <a:off x="6313680" y="232128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 rot="15421200">
              <a:off x="6313680" y="232128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 rot="15421200">
              <a:off x="6368760" y="26431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 rot="15421200">
              <a:off x="6368760" y="26431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 rot="15421200">
              <a:off x="6172200" y="236268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rot="15421200">
              <a:off x="6172200" y="236268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rot="15421200">
              <a:off x="6517440" y="248688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 rot="15421200">
              <a:off x="6480720" y="25963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542280" y="2556000"/>
              <a:ext cx="252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rot="15421200">
              <a:off x="6502680" y="25369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565320" y="252936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587640" y="250524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rot="15421200">
              <a:off x="6503760" y="242676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rot="15421200">
              <a:off x="6519960" y="24840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rot="15421200">
              <a:off x="6495840" y="25390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 flipV="1">
              <a:off x="6459120" y="254448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 flipV="1">
              <a:off x="6526800" y="2525400"/>
              <a:ext cx="43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 flipV="1">
              <a:off x="6541560" y="2512800"/>
              <a:ext cx="4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H="1" flipV="1">
              <a:off x="6557400" y="2498760"/>
              <a:ext cx="4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rot="15421200">
              <a:off x="6410520" y="228852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 rot="15421200">
              <a:off x="6332040" y="23061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 rot="15421200">
              <a:off x="6338880" y="235476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V="1">
              <a:off x="6386040" y="2329200"/>
              <a:ext cx="2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 rot="15421200">
              <a:off x="6604920" y="245952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rot="15421200">
              <a:off x="6278040" y="254196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 rot="15421200">
              <a:off x="6370200" y="26416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rot="15421200">
              <a:off x="6370200" y="26416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rot="15421200">
              <a:off x="6399000" y="26154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H="1">
              <a:off x="6346800" y="260100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rot="15421200">
              <a:off x="6366240" y="2568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H="1">
              <a:off x="6314400" y="2587320"/>
              <a:ext cx="3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6283800" y="25750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rot="15421200">
              <a:off x="6306120" y="24721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rot="15421200">
              <a:off x="6309000" y="253296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rot="15421200">
              <a:off x="6376680" y="256644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 flipV="1">
              <a:off x="6417000" y="255420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6347520" y="2566800"/>
              <a:ext cx="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6327720" y="2562120"/>
              <a:ext cx="72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6307560" y="2556360"/>
              <a:ext cx="10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rot="15421200">
              <a:off x="6234840" y="25448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 rot="15421200">
              <a:off x="6424200" y="26067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 rot="15421200">
              <a:off x="6465240" y="25974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 rot="15421200">
              <a:off x="6453720" y="27360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 rot="15421200">
              <a:off x="6490440" y="27273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rot="15421200">
              <a:off x="6382080" y="241704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rot="15421200">
              <a:off x="6415920" y="240840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 rot="15421200">
              <a:off x="6474960" y="27594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6474600" y="2774880"/>
              <a:ext cx="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6481440" y="2780280"/>
              <a:ext cx="18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 flipV="1">
              <a:off x="6492600" y="27853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H="1" flipV="1">
              <a:off x="6498720" y="2777040"/>
              <a:ext cx="39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6500160" y="2769480"/>
              <a:ext cx="43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 rot="15421200">
              <a:off x="6496200" y="26128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 rot="15421200">
              <a:off x="6496200" y="26128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2" name=""/>
          <p:cNvSpPr/>
          <p:nvPr/>
        </p:nvSpPr>
        <p:spPr>
          <a:xfrm>
            <a:off x="0" y="76212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...and ahhh,  United 1448...., we´re approaching  K here,...ahhh, uhh, mmmm,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0" y="1905120"/>
            <a:ext cx="2438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nited 1448 !  You should´t be anywhere near    K, hold your position ple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JUST STOP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4" name=""/>
          <p:cNvGrpSpPr/>
          <p:nvPr/>
        </p:nvGrpSpPr>
        <p:grpSpPr>
          <a:xfrm>
            <a:off x="3702240" y="6041880"/>
            <a:ext cx="556920" cy="587880"/>
            <a:chOff x="3702240" y="6041880"/>
            <a:chExt cx="556920" cy="587880"/>
          </a:xfrm>
        </p:grpSpPr>
        <p:sp>
          <p:nvSpPr>
            <p:cNvPr id="2925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rot="7564200">
              <a:off x="3860280" y="6209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 rot="7564200">
              <a:off x="3975120" y="62456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V="1">
              <a:off x="3922200" y="625968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rot="7564200">
              <a:off x="3925800" y="6298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V="1">
              <a:off x="3890520" y="625932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V="1">
              <a:off x="3861000" y="625896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rot="7564200">
              <a:off x="3868560" y="6227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rot="7564200">
              <a:off x="3876840" y="6254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 rot="7564200">
              <a:off x="3937320" y="62888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3962520" y="625140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H="1">
              <a:off x="3910680" y="628416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>
              <a:off x="3892680" y="628164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 flipH="1">
              <a:off x="3874680" y="62794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7564200">
              <a:off x="3815280" y="645624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rot="7564200">
              <a:off x="3873600" y="64987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rot="7564200">
              <a:off x="3825360" y="6480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 flipH="1" flipV="1">
              <a:off x="3858480" y="65019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rot="7564200">
              <a:off x="3809160" y="62726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 rot="7564200">
              <a:off x="4038120" y="6339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7564200">
              <a:off x="4035600" y="6289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 flipV="1">
              <a:off x="4066920" y="63669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 rot="7564200">
              <a:off x="4026960" y="6372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 flipV="1">
              <a:off x="4076640" y="63968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V="1">
              <a:off x="4086720" y="642456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 rot="7564200">
              <a:off x="4016160" y="6335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rot="7564200">
              <a:off x="4033800" y="63691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rot="7564200">
              <a:off x="4025520" y="635328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3994200" y="627444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4043520" y="638316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H="1">
              <a:off x="4052160" y="640008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059360" y="641700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 rot="7564200">
              <a:off x="4083840" y="6472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rot="7564200">
              <a:off x="4017600" y="63090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rot="7564200">
              <a:off x="3987000" y="6286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rot="7564200">
              <a:off x="4085280" y="6208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rot="7564200">
              <a:off x="4057560" y="61880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 rot="7564200">
              <a:off x="3911400" y="64454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 rot="7564200">
              <a:off x="3886200" y="64267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rot="7564200">
              <a:off x="4088520" y="61534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H="1" flipV="1">
              <a:off x="4107600" y="617796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H="1">
              <a:off x="4109400" y="616932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H="1">
              <a:off x="4106880" y="615744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H="1">
              <a:off x="4097880" y="615816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089240" y="616392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9" name=""/>
          <p:cNvGrpSpPr/>
          <p:nvPr/>
        </p:nvGrpSpPr>
        <p:grpSpPr>
          <a:xfrm>
            <a:off x="3930480" y="5736960"/>
            <a:ext cx="556920" cy="587520"/>
            <a:chOff x="3930480" y="5736960"/>
            <a:chExt cx="556920" cy="587520"/>
          </a:xfrm>
        </p:grpSpPr>
        <p:sp>
          <p:nvSpPr>
            <p:cNvPr id="3000" name=""/>
            <p:cNvSpPr/>
            <p:nvPr/>
          </p:nvSpPr>
          <p:spPr>
            <a:xfrm rot="7564200">
              <a:off x="4278600" y="60174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 rot="7564200">
              <a:off x="4278600" y="60174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rot="7564200">
              <a:off x="4185720" y="59504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7564200">
              <a:off x="4185720" y="59504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rot="7564200">
              <a:off x="4161600" y="6006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rot="7564200">
              <a:off x="4161600" y="6006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 rot="7564200">
              <a:off x="4127760" y="5993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 rot="7564200">
              <a:off x="4127760" y="5993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 rot="7564200">
              <a:off x="4089600" y="59850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 rot="7564200">
              <a:off x="4089600" y="59850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 rot="7564200">
              <a:off x="4240080" y="60642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 rot="7564200">
              <a:off x="4240080" y="60642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 rot="7564200">
              <a:off x="4260600" y="6090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 rot="7564200">
              <a:off x="4260600" y="6090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 rot="7564200">
              <a:off x="4281120" y="6124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rot="7564200">
              <a:off x="4281120" y="6124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 rot="7564200">
              <a:off x="4184640" y="59216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 rot="7564200">
              <a:off x="4184640" y="59216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rot="7564200">
              <a:off x="4032000" y="61380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 rot="7564200">
              <a:off x="4032000" y="61380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rot="7564200">
              <a:off x="4088520" y="61786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rot="7564200">
              <a:off x="4088520" y="61786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rot="7564200">
              <a:off x="4277160" y="59889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rot="7564200">
              <a:off x="4277160" y="59889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rot="7564200">
              <a:off x="3969360" y="58608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rot="7564200">
              <a:off x="3969360" y="58608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rot="7564200">
              <a:off x="4088520" y="59050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rot="7564200">
              <a:off x="4203360" y="5941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V="1">
              <a:off x="4150800" y="595476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rot="7564200">
              <a:off x="4154400" y="59932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V="1">
              <a:off x="4119120" y="59544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V="1">
              <a:off x="4089600" y="595404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rot="7564200">
              <a:off x="4097160" y="59227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rot="7564200">
              <a:off x="4105440" y="59493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rot="7564200">
              <a:off x="4165920" y="59839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4191120" y="594648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>
              <a:off x="4139280" y="5979240"/>
              <a:ext cx="2880" cy="82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4121280" y="59770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4103280" y="597456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rot="7564200">
              <a:off x="4043880" y="6151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rot="7564200">
              <a:off x="4102200" y="61938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rot="7564200">
              <a:off x="4053960" y="617544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 flipV="1">
              <a:off x="4087080" y="61970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 rot="7564200">
              <a:off x="4037760" y="59677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rot="7564200">
              <a:off x="4266360" y="60346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rot="7564200">
              <a:off x="4277160" y="60051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rot="7564200">
              <a:off x="4277160" y="60051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rot="7564200">
              <a:off x="4264200" y="59850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4295520" y="60620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rot="7564200">
              <a:off x="4255560" y="60670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4305240" y="609192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4315320" y="611964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rot="7564200">
              <a:off x="4244760" y="60303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 rot="7564200">
              <a:off x="4262400" y="60642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 rot="7564200">
              <a:off x="4254120" y="604836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4222800" y="596952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 flipH="1">
              <a:off x="4271760" y="6078600"/>
              <a:ext cx="684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H="1">
              <a:off x="4280400" y="609552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H="1">
              <a:off x="4287960" y="611208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rot="7564200">
              <a:off x="4312440" y="6167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rot="7564200">
              <a:off x="4246200" y="60040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rot="7564200">
              <a:off x="4215600" y="5981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rot="7564200">
              <a:off x="4313880" y="5904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rot="7564200">
              <a:off x="4285800" y="58831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rot="7564200">
              <a:off x="4140000" y="614052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rot="7564200">
              <a:off x="4114800" y="61218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rot="7564200">
              <a:off x="4316760" y="58485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 flipV="1">
              <a:off x="4335840" y="58730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H="1">
              <a:off x="4337640" y="586476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>
              <a:off x="4335120" y="5852880"/>
              <a:ext cx="360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326480" y="5853600"/>
              <a:ext cx="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317480" y="585936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rot="7564200">
              <a:off x="4183200" y="59371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rot="7564200">
              <a:off x="4183200" y="59371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4" name=""/>
          <p:cNvGrpSpPr/>
          <p:nvPr/>
        </p:nvGrpSpPr>
        <p:grpSpPr>
          <a:xfrm>
            <a:off x="4083120" y="5508360"/>
            <a:ext cx="556920" cy="587520"/>
            <a:chOff x="4083120" y="5508360"/>
            <a:chExt cx="556920" cy="587520"/>
          </a:xfrm>
        </p:grpSpPr>
        <p:sp>
          <p:nvSpPr>
            <p:cNvPr id="3075" name=""/>
            <p:cNvSpPr/>
            <p:nvPr/>
          </p:nvSpPr>
          <p:spPr>
            <a:xfrm rot="7564200">
              <a:off x="4431240" y="57888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rot="7564200">
              <a:off x="4431240" y="57888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rot="7564200">
              <a:off x="4338360" y="57218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rot="7564200">
              <a:off x="4338360" y="57218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 rot="7564200">
              <a:off x="4314240" y="57783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rot="7564200">
              <a:off x="4314240" y="57783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rot="7564200">
              <a:off x="4280400" y="57650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 rot="7564200">
              <a:off x="4280400" y="57650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 rot="7564200">
              <a:off x="4242240" y="5756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 rot="7564200">
              <a:off x="4242240" y="5756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 rot="7564200">
              <a:off x="4392720" y="583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 rot="7564200">
              <a:off x="4392720" y="583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 rot="7564200">
              <a:off x="4413240" y="5861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rot="7564200">
              <a:off x="4413240" y="5861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rot="7564200">
              <a:off x="4433760" y="5896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 rot="7564200">
              <a:off x="4433760" y="5896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rot="7564200">
              <a:off x="4337280" y="56930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rot="7564200">
              <a:off x="4337280" y="56930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rot="7564200">
              <a:off x="4184640" y="59094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 rot="7564200">
              <a:off x="4184640" y="59094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rot="7564200">
              <a:off x="4241160" y="59500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rot="7564200">
              <a:off x="4241160" y="59500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rot="7564200">
              <a:off x="4429800" y="57603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rot="7564200">
              <a:off x="4429800" y="57603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 rot="7564200">
              <a:off x="4122000" y="56322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 rot="7564200">
              <a:off x="4122000" y="56322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rot="7564200">
              <a:off x="4241160" y="567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rot="7564200">
              <a:off x="4356000" y="5712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 flipV="1">
              <a:off x="4303440" y="572616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7564200">
              <a:off x="4307040" y="57646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 flipV="1">
              <a:off x="4271760" y="57258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V="1">
              <a:off x="4242240" y="572544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7564200">
              <a:off x="4249800" y="5694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7564200">
              <a:off x="4258080" y="572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7564200">
              <a:off x="4318560" y="57553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>
              <a:off x="4343760" y="571788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H="1">
              <a:off x="4291920" y="5750640"/>
              <a:ext cx="2880" cy="82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H="1">
              <a:off x="4273920" y="57484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4255920" y="574596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7564200">
              <a:off x="4196520" y="59227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7564200">
              <a:off x="4254840" y="59652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7564200">
              <a:off x="4206600" y="594684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H="1" flipV="1">
              <a:off x="4239720" y="59684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7564200">
              <a:off x="4190400" y="57391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7564200">
              <a:off x="4419000" y="58060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7564200">
              <a:off x="4429800" y="5776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rot="7564200">
              <a:off x="4429800" y="5776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rot="7564200">
              <a:off x="4416840" y="57564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V="1">
              <a:off x="4448160" y="58334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 rot="7564200">
              <a:off x="4408200" y="5838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V="1">
              <a:off x="4457880" y="586332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 flipV="1">
              <a:off x="4467960" y="589104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 rot="7564200">
              <a:off x="4397400" y="5801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rot="7564200">
              <a:off x="4415040" y="58356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 rot="7564200">
              <a:off x="4406760" y="581976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4375440" y="574092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4424400" y="5850000"/>
              <a:ext cx="684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 flipH="1">
              <a:off x="4433040" y="586692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>
              <a:off x="4440600" y="588348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rot="7564200">
              <a:off x="4465080" y="59392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 rot="7564200">
              <a:off x="4398840" y="57754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 rot="7564200">
              <a:off x="4368240" y="57531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 rot="7564200">
              <a:off x="4466520" y="56754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rot="7564200">
              <a:off x="4438440" y="56545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 rot="7564200">
              <a:off x="4292640" y="591192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rot="7564200">
              <a:off x="4267440" y="58932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rot="7564200">
              <a:off x="4469400" y="56199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 flipH="1" flipV="1">
              <a:off x="4488480" y="56444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4490280" y="563616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4487760" y="5624280"/>
              <a:ext cx="360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479120" y="5625000"/>
              <a:ext cx="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470120" y="563076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rot="7564200">
              <a:off x="4335840" y="57085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rot="7564200">
              <a:off x="4335840" y="57085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9" name=""/>
          <p:cNvGrpSpPr/>
          <p:nvPr/>
        </p:nvGrpSpPr>
        <p:grpSpPr>
          <a:xfrm>
            <a:off x="4235400" y="5279760"/>
            <a:ext cx="556920" cy="587520"/>
            <a:chOff x="4235400" y="5279760"/>
            <a:chExt cx="556920" cy="587520"/>
          </a:xfrm>
        </p:grpSpPr>
        <p:sp>
          <p:nvSpPr>
            <p:cNvPr id="3150" name=""/>
            <p:cNvSpPr/>
            <p:nvPr/>
          </p:nvSpPr>
          <p:spPr>
            <a:xfrm rot="7564200">
              <a:off x="4583520" y="55602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rot="7564200">
              <a:off x="4583520" y="55602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rot="7564200">
              <a:off x="4490640" y="54932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rot="7564200">
              <a:off x="4490640" y="54932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rot="7564200">
              <a:off x="4466520" y="5549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rot="7564200">
              <a:off x="4466520" y="5549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rot="7564200">
              <a:off x="4432680" y="55364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rot="7564200">
              <a:off x="4432680" y="55364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rot="7564200">
              <a:off x="4394520" y="55278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rot="7564200">
              <a:off x="4394520" y="55278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rot="7564200">
              <a:off x="4545000" y="5607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rot="7564200">
              <a:off x="4545000" y="5607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rot="7564200">
              <a:off x="4565520" y="56332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rot="7564200">
              <a:off x="4565520" y="56332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rot="7564200">
              <a:off x="4586040" y="5667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rot="7564200">
              <a:off x="4586040" y="5667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rot="7564200">
              <a:off x="4489560" y="5464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rot="7564200">
              <a:off x="4489560" y="5464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rot="7564200">
              <a:off x="4336920" y="56808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rot="7564200">
              <a:off x="4336920" y="56808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rot="7564200">
              <a:off x="4393440" y="57214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rot="7564200">
              <a:off x="4393440" y="57214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rot="7564200">
              <a:off x="4582080" y="55317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rot="7564200">
              <a:off x="4582080" y="55317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rot="7564200">
              <a:off x="4274280" y="5403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rot="7564200">
              <a:off x="4274280" y="5403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rot="7564200">
              <a:off x="4393440" y="5447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rot="7564200">
              <a:off x="4508280" y="5483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4455720" y="549756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rot="7564200">
              <a:off x="4459320" y="55360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V="1">
              <a:off x="4424040" y="54972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V="1">
              <a:off x="4394520" y="549684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rot="7564200">
              <a:off x="4402080" y="54655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rot="7564200">
              <a:off x="4410360" y="54921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rot="7564200">
              <a:off x="4470840" y="55267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4496040" y="548928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H="1">
              <a:off x="4444200" y="5522040"/>
              <a:ext cx="2880" cy="82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>
              <a:off x="4426200" y="55198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 flipH="1">
              <a:off x="4408200" y="551736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rot="7564200">
              <a:off x="4348800" y="56941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rot="7564200">
              <a:off x="4407120" y="57366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rot="7564200">
              <a:off x="4358880" y="571824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 flipV="1">
              <a:off x="4392000" y="57398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rot="7564200">
              <a:off x="4342680" y="5510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rot="7564200">
              <a:off x="4571280" y="5577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rot="7564200">
              <a:off x="4582080" y="55479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rot="7564200">
              <a:off x="4582080" y="55479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rot="7564200">
              <a:off x="4569120" y="55278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V="1">
              <a:off x="4600440" y="56048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rot="7564200">
              <a:off x="4560480" y="56098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4610160" y="563472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V="1">
              <a:off x="4620240" y="566244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rot="7564200">
              <a:off x="4549680" y="5573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rot="7564200">
              <a:off x="4567320" y="56070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rot="7564200">
              <a:off x="4559040" y="559116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>
              <a:off x="4527720" y="551232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4576680" y="5621400"/>
              <a:ext cx="684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H="1">
              <a:off x="4585320" y="563832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4592880" y="565488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rot="7564200">
              <a:off x="4617360" y="57106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rot="7564200">
              <a:off x="4551120" y="55468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7564200">
              <a:off x="4520520" y="5524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rot="7564200">
              <a:off x="4618800" y="54468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rot="7564200">
              <a:off x="4590720" y="54259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rot="7564200">
              <a:off x="4444920" y="568332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rot="7564200">
              <a:off x="4419720" y="56646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rot="7564200">
              <a:off x="4621680" y="5391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 flipV="1">
              <a:off x="4640760" y="54158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>
              <a:off x="4642560" y="540756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H="1">
              <a:off x="4640040" y="5395680"/>
              <a:ext cx="360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4631400" y="5396400"/>
              <a:ext cx="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4622400" y="540216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 rot="7564200">
              <a:off x="4488120" y="54799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rot="7564200">
              <a:off x="4488120" y="54799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4" name=""/>
          <p:cNvGrpSpPr/>
          <p:nvPr/>
        </p:nvGrpSpPr>
        <p:grpSpPr>
          <a:xfrm>
            <a:off x="4540320" y="4822560"/>
            <a:ext cx="556920" cy="587520"/>
            <a:chOff x="4540320" y="4822560"/>
            <a:chExt cx="556920" cy="587520"/>
          </a:xfrm>
        </p:grpSpPr>
        <p:sp>
          <p:nvSpPr>
            <p:cNvPr id="3225" name=""/>
            <p:cNvSpPr/>
            <p:nvPr/>
          </p:nvSpPr>
          <p:spPr>
            <a:xfrm rot="7564200">
              <a:off x="4888440" y="5103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rot="7564200">
              <a:off x="4888440" y="51030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rot="7564200">
              <a:off x="4795560" y="50360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rot="7564200">
              <a:off x="4795560" y="50360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7564200">
              <a:off x="4771440" y="50925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7564200">
              <a:off x="4771440" y="50925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rot="7564200">
              <a:off x="4737600" y="5079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rot="7564200">
              <a:off x="4737600" y="50792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rot="7564200">
              <a:off x="4699440" y="5070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 rot="7564200">
              <a:off x="4699440" y="5070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 rot="7564200">
              <a:off x="4849920" y="51498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rot="7564200">
              <a:off x="4849920" y="51498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rot="7564200">
              <a:off x="4870440" y="51760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rot="7564200">
              <a:off x="4870440" y="51760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 rot="7564200">
              <a:off x="4890960" y="52102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 rot="7564200">
              <a:off x="4890960" y="52102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 rot="7564200">
              <a:off x="4794480" y="5007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 rot="7564200">
              <a:off x="4794480" y="5007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 rot="7564200">
              <a:off x="4641840" y="52236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 rot="7564200">
              <a:off x="4641840" y="52236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 rot="7564200">
              <a:off x="4698360" y="52642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 rot="7564200">
              <a:off x="4698360" y="52642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 rot="7564200">
              <a:off x="4887000" y="50745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rot="7564200">
              <a:off x="4887000" y="50745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 rot="7564200">
              <a:off x="4579200" y="49464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 rot="7564200">
              <a:off x="4579200" y="49464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 rot="7564200">
              <a:off x="4698360" y="49906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 rot="7564200">
              <a:off x="4813200" y="50266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V="1">
              <a:off x="4760640" y="504036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 rot="7564200">
              <a:off x="4764240" y="50788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V="1">
              <a:off x="4728960" y="50400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 flipV="1">
              <a:off x="4699440" y="503964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 rot="7564200">
              <a:off x="4707000" y="50083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rot="7564200">
              <a:off x="4715280" y="50349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 rot="7564200">
              <a:off x="4775760" y="50695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4800960" y="503208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>
              <a:off x="4749120" y="5064840"/>
              <a:ext cx="2880" cy="82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731120" y="50626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4713120" y="506016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rot="7564200">
              <a:off x="4653720" y="52369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rot="7564200">
              <a:off x="4712040" y="5279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 rot="7564200">
              <a:off x="4663800" y="526104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 flipV="1">
              <a:off x="4696920" y="52826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 rot="7564200">
              <a:off x="4647600" y="50533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 rot="7564200">
              <a:off x="4876200" y="51202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 rot="7564200">
              <a:off x="4887000" y="50907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 rot="7564200">
              <a:off x="4887000" y="50907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rot="7564200">
              <a:off x="4874040" y="5070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4905360" y="51476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 rot="7564200">
              <a:off x="4865400" y="51526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V="1">
              <a:off x="4915080" y="517752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V="1">
              <a:off x="4925160" y="520524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rot="7564200">
              <a:off x="4854600" y="51159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rot="7564200">
              <a:off x="4872240" y="51498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rot="7564200">
              <a:off x="4863960" y="513396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H="1">
              <a:off x="4832640" y="505512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4881600" y="5164200"/>
              <a:ext cx="684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>
              <a:off x="4890240" y="518112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4897800" y="519768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rot="7564200">
              <a:off x="4922280" y="52534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rot="7564200">
              <a:off x="4856040" y="5089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rot="7564200">
              <a:off x="4825440" y="50673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rot="7564200">
              <a:off x="4923720" y="49896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rot="7564200">
              <a:off x="4895640" y="49687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rot="7564200">
              <a:off x="4749840" y="522612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rot="7564200">
              <a:off x="4724640" y="52074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 rot="7564200">
              <a:off x="4926600" y="49341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 flipV="1">
              <a:off x="4945680" y="49586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4947480" y="495036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4944960" y="4938480"/>
              <a:ext cx="360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4936320" y="4939200"/>
              <a:ext cx="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4927320" y="494496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rot="7564200">
              <a:off x="4793040" y="50227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rot="7564200">
              <a:off x="4793040" y="50227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997880" y="4289400"/>
            <a:ext cx="556920" cy="587880"/>
            <a:chOff x="4997880" y="4289400"/>
            <a:chExt cx="556920" cy="587880"/>
          </a:xfrm>
        </p:grpSpPr>
        <p:sp>
          <p:nvSpPr>
            <p:cNvPr id="3300" name=""/>
            <p:cNvSpPr/>
            <p:nvPr/>
          </p:nvSpPr>
          <p:spPr>
            <a:xfrm rot="7564200">
              <a:off x="5345640" y="45694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rot="7564200">
              <a:off x="5345640" y="45694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 rot="7564200">
              <a:off x="5253120" y="45025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 rot="7564200">
              <a:off x="5253120" y="45025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rot="7564200">
              <a:off x="5228640" y="45590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 rot="7564200">
              <a:off x="5228640" y="45590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rot="7564200">
              <a:off x="5194800" y="45460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rot="7564200">
              <a:off x="5194800" y="45460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 rot="7564200">
              <a:off x="5156640" y="45374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rot="7564200">
              <a:off x="5156640" y="45374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7564200">
              <a:off x="5307120" y="46162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rot="7564200">
              <a:off x="5307120" y="46162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rot="7564200">
              <a:off x="5327640" y="4642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 rot="7564200">
              <a:off x="5327640" y="4642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 rot="7564200">
              <a:off x="5348160" y="46771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 rot="7564200">
              <a:off x="5348160" y="46771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rot="7564200">
              <a:off x="5252040" y="44737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 rot="7564200">
              <a:off x="5252040" y="44737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rot="7564200">
              <a:off x="5099040" y="46904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rot="7564200">
              <a:off x="5099040" y="46904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rot="7564200">
              <a:off x="5155560" y="47311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rot="7564200">
              <a:off x="5155560" y="47311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rot="7564200">
              <a:off x="5344560" y="4541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 rot="7564200">
              <a:off x="5344560" y="4541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rot="7564200">
              <a:off x="5036400" y="44132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rot="7564200">
              <a:off x="5036400" y="44132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rot="7564200">
              <a:off x="5155920" y="4457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rot="7564200">
              <a:off x="5270760" y="44931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 flipV="1">
              <a:off x="5217840" y="45072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 rot="7564200">
              <a:off x="5221440" y="45457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 flipV="1">
              <a:off x="5186160" y="450684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V="1">
              <a:off x="5156640" y="450648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 rot="7564200">
              <a:off x="5164200" y="4475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 rot="7564200">
              <a:off x="5172480" y="450180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 rot="7564200">
              <a:off x="5232960" y="4536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>
              <a:off x="5258160" y="449892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 flipH="1">
              <a:off x="5206320" y="453168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H="1">
              <a:off x="5188320" y="452916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 flipH="1">
              <a:off x="5170320" y="452700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 rot="7564200">
              <a:off x="5110920" y="47037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 rot="7564200">
              <a:off x="5169240" y="47462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 rot="7564200">
              <a:off x="5121000" y="47278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H="1" flipV="1">
              <a:off x="5154120" y="47494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 rot="7564200">
              <a:off x="5104800" y="45201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 rot="7564200">
              <a:off x="5333760" y="4586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 rot="7564200">
              <a:off x="5343840" y="4557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 rot="7564200">
              <a:off x="5343840" y="4557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 rot="7564200">
              <a:off x="5331240" y="4537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V="1">
              <a:off x="5362560" y="461448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 rot="7564200">
              <a:off x="5322600" y="46195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5372280" y="46443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 flipV="1">
              <a:off x="5382360" y="467208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rot="7564200">
              <a:off x="5311800" y="4582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rot="7564200">
              <a:off x="5329440" y="46166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rot="7564200">
              <a:off x="5321160" y="460080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>
              <a:off x="5289840" y="452196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5339160" y="463068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5347800" y="464760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5355000" y="466452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rot="7564200">
              <a:off x="5379480" y="47203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 rot="7564200">
              <a:off x="5313240" y="45565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rot="7564200">
              <a:off x="5282640" y="45342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 rot="7564200">
              <a:off x="5380920" y="44564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rot="7564200">
              <a:off x="5353200" y="44355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rot="7564200">
              <a:off x="5207040" y="46929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rot="7564200">
              <a:off x="5181840" y="467424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 rot="7564200">
              <a:off x="5384160" y="44010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 flipV="1">
              <a:off x="5403240" y="442548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H="1">
              <a:off x="5405040" y="441684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5402520" y="440496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>
              <a:off x="5393520" y="440568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384880" y="441144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rot="7564200">
              <a:off x="5249880" y="44895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 rot="7564200">
              <a:off x="5249880" y="44895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4" name=""/>
          <p:cNvGrpSpPr/>
          <p:nvPr/>
        </p:nvGrpSpPr>
        <p:grpSpPr>
          <a:xfrm>
            <a:off x="5455080" y="3603600"/>
            <a:ext cx="556920" cy="587880"/>
            <a:chOff x="5455080" y="3603600"/>
            <a:chExt cx="556920" cy="587880"/>
          </a:xfrm>
        </p:grpSpPr>
        <p:sp>
          <p:nvSpPr>
            <p:cNvPr id="3375" name=""/>
            <p:cNvSpPr/>
            <p:nvPr/>
          </p:nvSpPr>
          <p:spPr>
            <a:xfrm rot="7564200">
              <a:off x="5802840" y="38836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 rot="7564200">
              <a:off x="5802840" y="38836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rot="7564200">
              <a:off x="5710320" y="38167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rot="7564200">
              <a:off x="5710320" y="38167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rot="7564200">
              <a:off x="5685840" y="387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rot="7564200">
              <a:off x="5685840" y="387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rot="7564200">
              <a:off x="5652000" y="38602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rot="7564200">
              <a:off x="5652000" y="38602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 rot="7564200">
              <a:off x="5613840" y="38516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rot="7564200">
              <a:off x="5613840" y="38516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rot="7564200">
              <a:off x="5764320" y="39304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rot="7564200">
              <a:off x="5764320" y="39304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rot="7564200">
              <a:off x="5784840" y="3957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 rot="7564200">
              <a:off x="5784840" y="3957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rot="7564200">
              <a:off x="5805360" y="3991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rot="7564200">
              <a:off x="5805360" y="3991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rot="7564200">
              <a:off x="5709240" y="3787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 rot="7564200">
              <a:off x="5709240" y="3787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 rot="7564200">
              <a:off x="5556240" y="4004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 rot="7564200">
              <a:off x="5556240" y="4004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 rot="7564200">
              <a:off x="5612760" y="40453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rot="7564200">
              <a:off x="5612760" y="40453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 rot="7564200">
              <a:off x="5801760" y="3855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rot="7564200">
              <a:off x="5801760" y="3855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rot="7564200">
              <a:off x="5493600" y="37274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 rot="7564200">
              <a:off x="5493600" y="37274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rot="7564200">
              <a:off x="5613120" y="37713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rot="7564200">
              <a:off x="5727960" y="38073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V="1">
              <a:off x="5675040" y="38214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rot="7564200">
              <a:off x="5678640" y="3859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V="1">
              <a:off x="5643360" y="382104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V="1">
              <a:off x="5613840" y="382068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 rot="7564200">
              <a:off x="5621400" y="37893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 rot="7564200">
              <a:off x="5629680" y="381600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 rot="7564200">
              <a:off x="5690160" y="38505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5715360" y="381312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5663520" y="384588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>
              <a:off x="5645520" y="384336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H="1">
              <a:off x="5627520" y="384120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rot="7564200">
              <a:off x="5568120" y="40179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rot="7564200">
              <a:off x="5626440" y="4060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rot="7564200">
              <a:off x="5578200" y="40420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 flipV="1">
              <a:off x="5611320" y="40636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rot="7564200">
              <a:off x="5562000" y="38343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rot="7564200">
              <a:off x="5790960" y="3900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rot="7564200">
              <a:off x="5801040" y="38718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rot="7564200">
              <a:off x="5801040" y="38718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rot="7564200">
              <a:off x="5788440" y="38512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V="1">
              <a:off x="5819760" y="392868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 rot="7564200">
              <a:off x="5779800" y="39337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V="1">
              <a:off x="5829480" y="39585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V="1">
              <a:off x="5839560" y="398628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rot="7564200">
              <a:off x="5769000" y="38970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 rot="7564200">
              <a:off x="5786640" y="39308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 rot="7564200">
              <a:off x="5778360" y="391500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5747040" y="383616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H="1">
              <a:off x="5796360" y="394488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H="1">
              <a:off x="5805000" y="396180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 flipH="1">
              <a:off x="5812200" y="397872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rot="7564200">
              <a:off x="5836680" y="4034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rot="7564200">
              <a:off x="5770440" y="38707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rot="7564200">
              <a:off x="5739840" y="38484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 rot="7564200">
              <a:off x="5838120" y="37706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rot="7564200">
              <a:off x="5810400" y="37497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rot="7564200">
              <a:off x="5664240" y="40071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 rot="7564200">
              <a:off x="5639040" y="398844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rot="7564200">
              <a:off x="5841360" y="37152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H="1" flipV="1">
              <a:off x="5860440" y="373968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H="1">
              <a:off x="5862240" y="373104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5859720" y="371916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>
              <a:off x="5850720" y="371988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842080" y="372564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 rot="7564200">
              <a:off x="5707080" y="38037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rot="7564200">
              <a:off x="5707080" y="38037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9" name=""/>
          <p:cNvGrpSpPr/>
          <p:nvPr/>
        </p:nvGrpSpPr>
        <p:grpSpPr>
          <a:xfrm>
            <a:off x="6064200" y="2765160"/>
            <a:ext cx="556920" cy="587520"/>
            <a:chOff x="6064200" y="2765160"/>
            <a:chExt cx="556920" cy="587520"/>
          </a:xfrm>
        </p:grpSpPr>
        <p:sp>
          <p:nvSpPr>
            <p:cNvPr id="3450" name=""/>
            <p:cNvSpPr/>
            <p:nvPr/>
          </p:nvSpPr>
          <p:spPr>
            <a:xfrm rot="7564200">
              <a:off x="6412320" y="30456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rot="7564200">
              <a:off x="6412320" y="30456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 rot="7564200">
              <a:off x="6319440" y="2978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rot="7564200">
              <a:off x="6319440" y="2978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rot="7564200">
              <a:off x="6295320" y="3035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rot="7564200">
              <a:off x="6295320" y="3035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rot="7564200">
              <a:off x="6261480" y="30218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rot="7564200">
              <a:off x="6261480" y="30218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rot="7564200">
              <a:off x="6223320" y="3013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rot="7564200">
              <a:off x="6223320" y="3013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rot="7564200">
              <a:off x="6373800" y="30924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rot="7564200">
              <a:off x="6373800" y="30924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rot="7564200">
              <a:off x="6394320" y="31186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 rot="7564200">
              <a:off x="6394320" y="31186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 rot="7564200">
              <a:off x="6414840" y="3152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rot="7564200">
              <a:off x="6414840" y="3152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rot="7564200">
              <a:off x="6318360" y="29498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rot="7564200">
              <a:off x="6318360" y="29498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 rot="7564200">
              <a:off x="6165720" y="31662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rot="7564200">
              <a:off x="6165720" y="316620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rot="7564200">
              <a:off x="6222240" y="32068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rot="7564200">
              <a:off x="6222240" y="320688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rot="7564200">
              <a:off x="6410880" y="30171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rot="7564200">
              <a:off x="6410880" y="301716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rot="7564200">
              <a:off x="6103080" y="28890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rot="7564200">
              <a:off x="6103080" y="28890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rot="7564200">
              <a:off x="6222240" y="29332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rot="7564200">
              <a:off x="6337080" y="29692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V="1">
              <a:off x="6284520" y="298296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rot="7564200">
              <a:off x="6288120" y="3021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V="1">
              <a:off x="6252840" y="29826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V="1">
              <a:off x="6223320" y="298224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rot="7564200">
              <a:off x="6230880" y="29509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rot="7564200">
              <a:off x="6239160" y="29775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rot="7564200">
              <a:off x="6299640" y="30121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324840" y="297468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H="1">
              <a:off x="6273000" y="3007440"/>
              <a:ext cx="2880" cy="82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>
              <a:off x="6255000" y="30052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>
              <a:off x="6237000" y="300276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 rot="7564200">
              <a:off x="6177600" y="31795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rot="7564200">
              <a:off x="6235920" y="32220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rot="7564200">
              <a:off x="6187680" y="320364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H="1" flipV="1">
              <a:off x="6220800" y="322524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rot="7564200">
              <a:off x="6171480" y="29959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7564200">
              <a:off x="6400080" y="3062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rot="7564200">
              <a:off x="6410880" y="3033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rot="7564200">
              <a:off x="6410880" y="3033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rot="7564200">
              <a:off x="6397920" y="30132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V="1">
              <a:off x="6429240" y="30902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rot="7564200">
              <a:off x="6389280" y="30952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 flipV="1">
              <a:off x="6438960" y="312012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V="1">
              <a:off x="6449040" y="314784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 rot="7564200">
              <a:off x="6378480" y="30585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rot="7564200">
              <a:off x="6396120" y="309240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 rot="7564200">
              <a:off x="6387840" y="307656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H="1">
              <a:off x="6356520" y="299772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flipH="1">
              <a:off x="6405480" y="3106800"/>
              <a:ext cx="684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6414120" y="312372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6421680" y="314028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rot="7564200">
              <a:off x="6446160" y="31960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rot="7564200">
              <a:off x="6379920" y="30322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rot="7564200">
              <a:off x="6349320" y="30099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rot="7564200">
              <a:off x="6447600" y="29322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 rot="7564200">
              <a:off x="6419520" y="29113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 rot="7564200">
              <a:off x="6273720" y="316872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rot="7564200">
              <a:off x="6248520" y="31500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 rot="7564200">
              <a:off x="6450480" y="28767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 flipH="1" flipV="1">
              <a:off x="6469560" y="29012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flipH="1">
              <a:off x="6471360" y="289296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H="1">
              <a:off x="6468840" y="2881080"/>
              <a:ext cx="360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6460200" y="2881800"/>
              <a:ext cx="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6451200" y="288756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rot="7564200">
              <a:off x="6316920" y="29653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rot="7564200">
              <a:off x="6316920" y="296532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4" name=""/>
          <p:cNvGrpSpPr/>
          <p:nvPr/>
        </p:nvGrpSpPr>
        <p:grpSpPr>
          <a:xfrm>
            <a:off x="7055280" y="1469880"/>
            <a:ext cx="556920" cy="587880"/>
            <a:chOff x="7055280" y="1469880"/>
            <a:chExt cx="556920" cy="587880"/>
          </a:xfrm>
        </p:grpSpPr>
        <p:sp>
          <p:nvSpPr>
            <p:cNvPr id="3525" name=""/>
            <p:cNvSpPr/>
            <p:nvPr/>
          </p:nvSpPr>
          <p:spPr>
            <a:xfrm rot="7564200">
              <a:off x="7403040" y="1749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rot="7564200">
              <a:off x="7403040" y="1749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rot="7564200">
              <a:off x="7310520" y="1683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 rot="7564200">
              <a:off x="7310520" y="1683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rot="7564200">
              <a:off x="7286040" y="1739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rot="7564200">
              <a:off x="7286040" y="1739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rot="7564200">
              <a:off x="7252200" y="1726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rot="7564200">
              <a:off x="7252200" y="1726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 rot="7564200">
              <a:off x="7214040" y="1717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rot="7564200">
              <a:off x="7214040" y="1717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rot="7564200">
              <a:off x="7364520" y="1796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rot="7564200">
              <a:off x="7364520" y="1796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rot="7564200">
              <a:off x="7385040" y="1823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rot="7564200">
              <a:off x="7385040" y="1823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rot="7564200">
              <a:off x="7405560" y="1857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 rot="7564200">
              <a:off x="7405560" y="1857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rot="7564200">
              <a:off x="7309440" y="1654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rot="7564200">
              <a:off x="7309440" y="1654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 rot="7564200">
              <a:off x="7156440" y="1870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 rot="7564200">
              <a:off x="7156440" y="1870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 rot="7564200">
              <a:off x="7212960" y="1911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 rot="7564200">
              <a:off x="7212960" y="1911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 rot="7564200">
              <a:off x="7401960" y="1721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 rot="7564200">
              <a:off x="7401960" y="1721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rot="7564200">
              <a:off x="7093800" y="1593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rot="7564200">
              <a:off x="7093800" y="1593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 rot="7564200">
              <a:off x="7213320" y="1637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rot="7564200">
              <a:off x="7328160" y="16736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 flipV="1">
              <a:off x="7275240" y="168768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rot="7564200">
              <a:off x="7278840" y="1726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7243560" y="168732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V="1">
              <a:off x="7214040" y="168696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 rot="7564200">
              <a:off x="7221600" y="1655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 rot="7564200">
              <a:off x="7229880" y="1682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 rot="7564200">
              <a:off x="7290360" y="17168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H="1">
              <a:off x="7315560" y="167940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 flipH="1">
              <a:off x="7263720" y="171216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H="1">
              <a:off x="7245720" y="170964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H="1">
              <a:off x="7227720" y="170748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 rot="7564200">
              <a:off x="7168320" y="188424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rot="7564200">
              <a:off x="7226640" y="19267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rot="7564200">
              <a:off x="7178400" y="1908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 flipV="1">
              <a:off x="7211520" y="192996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 rot="7564200">
              <a:off x="7162200" y="17006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rot="7564200">
              <a:off x="7391160" y="1767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rot="7564200">
              <a:off x="7401240" y="1738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rot="7564200">
              <a:off x="7401240" y="1738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rot="7564200">
              <a:off x="7388640" y="1717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V="1">
              <a:off x="7419960" y="17949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 rot="7564200">
              <a:off x="7380000" y="1800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7429680" y="182484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7439760" y="185256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 rot="7564200">
              <a:off x="7369200" y="1763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 rot="7564200">
              <a:off x="7386840" y="17971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 rot="7564200">
              <a:off x="7378560" y="178128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 flipH="1">
              <a:off x="7347240" y="170244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>
              <a:off x="7396560" y="181116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 flipH="1">
              <a:off x="7405200" y="182808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H="1">
              <a:off x="7412400" y="184500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rot="7564200">
              <a:off x="7436880" y="1900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 rot="7564200">
              <a:off x="7370640" y="17370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rot="7564200">
              <a:off x="7340040" y="1714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rot="7564200">
              <a:off x="7438320" y="1636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 rot="7564200">
              <a:off x="7410600" y="16160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rot="7564200">
              <a:off x="7264440" y="18734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 rot="7564200">
              <a:off x="7239240" y="18547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rot="7564200">
              <a:off x="7441560" y="15814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 flipV="1">
              <a:off x="7460640" y="160596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H="1">
              <a:off x="7462440" y="159732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H="1">
              <a:off x="7459920" y="158544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 flipH="1">
              <a:off x="7450920" y="158616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7442280" y="159192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 rot="7564200">
              <a:off x="7307280" y="1670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 rot="7564200">
              <a:off x="7307280" y="1670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9" name=""/>
          <p:cNvGrpSpPr/>
          <p:nvPr/>
        </p:nvGrpSpPr>
        <p:grpSpPr>
          <a:xfrm>
            <a:off x="7817040" y="403200"/>
            <a:ext cx="556920" cy="587880"/>
            <a:chOff x="7817040" y="403200"/>
            <a:chExt cx="556920" cy="587880"/>
          </a:xfrm>
        </p:grpSpPr>
        <p:sp>
          <p:nvSpPr>
            <p:cNvPr id="3600" name=""/>
            <p:cNvSpPr/>
            <p:nvPr/>
          </p:nvSpPr>
          <p:spPr>
            <a:xfrm rot="7564200">
              <a:off x="8164800" y="683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 rot="7564200">
              <a:off x="8164800" y="683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rot="7564200">
              <a:off x="8072280" y="6163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 rot="7564200">
              <a:off x="8072280" y="61632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 rot="7564200">
              <a:off x="8047800" y="6728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 rot="7564200">
              <a:off x="8047800" y="6728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 rot="7564200">
              <a:off x="8013960" y="659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 rot="7564200">
              <a:off x="8013960" y="659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 rot="7564200">
              <a:off x="7975800" y="6512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 rot="7564200">
              <a:off x="7975800" y="6512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 rot="7564200">
              <a:off x="8126280" y="7300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rot="7564200">
              <a:off x="8126280" y="7300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 rot="7564200">
              <a:off x="8146800" y="7567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 rot="7564200">
              <a:off x="8146800" y="7567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 rot="7564200">
              <a:off x="8167320" y="790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 rot="7564200">
              <a:off x="8167320" y="790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 rot="7564200">
              <a:off x="8071200" y="587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 rot="7564200">
              <a:off x="8071200" y="5875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 rot="7564200">
              <a:off x="7918200" y="8042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 rot="7564200">
              <a:off x="7918200" y="8042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 rot="7564200">
              <a:off x="7974720" y="8449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rot="7564200">
              <a:off x="7974720" y="84492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 rot="7564200">
              <a:off x="8163720" y="655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rot="7564200">
              <a:off x="8163720" y="655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rot="7564200">
              <a:off x="7855560" y="5270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rot="7564200">
              <a:off x="7855560" y="52704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 rot="7564200">
              <a:off x="7975080" y="570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rot="7564200">
              <a:off x="8089920" y="6069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8037000" y="62100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 rot="7564200">
              <a:off x="8040600" y="6595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V="1">
              <a:off x="8005320" y="620640"/>
              <a:ext cx="108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 flipV="1">
              <a:off x="7975800" y="620280"/>
              <a:ext cx="1440" cy="39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rot="7564200">
              <a:off x="7983360" y="5889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rot="7564200">
              <a:off x="7991640" y="61560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rot="7564200">
              <a:off x="8052120" y="6501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H="1">
              <a:off x="8077320" y="612720"/>
              <a:ext cx="5544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H="1">
              <a:off x="8025480" y="645480"/>
              <a:ext cx="3240" cy="79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 flipH="1">
              <a:off x="8007480" y="642960"/>
              <a:ext cx="288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7989480" y="640800"/>
              <a:ext cx="2520" cy="75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 rot="7564200">
              <a:off x="7930080" y="817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rot="7564200">
              <a:off x="7988400" y="8600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rot="7564200">
              <a:off x="7940160" y="84168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H="1" flipV="1">
              <a:off x="7973280" y="863280"/>
              <a:ext cx="1800" cy="14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 rot="7564200">
              <a:off x="7923960" y="6339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 rot="7564200">
              <a:off x="8152920" y="7005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 rot="7564200">
              <a:off x="8163000" y="6714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 rot="7564200">
              <a:off x="8163000" y="6714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 rot="7564200">
              <a:off x="8150400" y="650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8181720" y="72828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rot="7564200">
              <a:off x="8141760" y="7333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 flipV="1">
              <a:off x="8191440" y="758160"/>
              <a:ext cx="3600" cy="216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V="1">
              <a:off x="8201520" y="785880"/>
              <a:ext cx="324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rot="7564200">
              <a:off x="8130960" y="6966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 rot="7564200">
              <a:off x="8148600" y="7304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 rot="7564200">
              <a:off x="8140320" y="714600"/>
              <a:ext cx="7560" cy="1584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8109000" y="635760"/>
              <a:ext cx="55080" cy="756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H="1">
              <a:off x="8158320" y="744480"/>
              <a:ext cx="6480" cy="54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8166960" y="761400"/>
              <a:ext cx="6120" cy="504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H="1">
              <a:off x="8174160" y="778320"/>
              <a:ext cx="648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9" name=""/>
            <p:cNvSpPr/>
            <p:nvPr/>
          </p:nvSpPr>
          <p:spPr>
            <a:xfrm rot="7564200">
              <a:off x="8198640" y="8341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0" name=""/>
            <p:cNvSpPr/>
            <p:nvPr/>
          </p:nvSpPr>
          <p:spPr>
            <a:xfrm rot="7564200">
              <a:off x="8132400" y="6703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rot="7564200">
              <a:off x="8101800" y="6480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rot="7564200">
              <a:off x="8200080" y="57024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3" name=""/>
            <p:cNvSpPr/>
            <p:nvPr/>
          </p:nvSpPr>
          <p:spPr>
            <a:xfrm rot="7564200">
              <a:off x="8172360" y="54936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4" name=""/>
            <p:cNvSpPr/>
            <p:nvPr/>
          </p:nvSpPr>
          <p:spPr>
            <a:xfrm rot="7564200">
              <a:off x="8026200" y="8067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5" name=""/>
            <p:cNvSpPr/>
            <p:nvPr/>
          </p:nvSpPr>
          <p:spPr>
            <a:xfrm rot="7564200">
              <a:off x="8001000" y="78804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6" name=""/>
            <p:cNvSpPr/>
            <p:nvPr/>
          </p:nvSpPr>
          <p:spPr>
            <a:xfrm rot="7564200">
              <a:off x="8203320" y="51480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8222400" y="539280"/>
              <a:ext cx="324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 flipH="1">
              <a:off x="8224200" y="530640"/>
              <a:ext cx="4320" cy="180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>
              <a:off x="8221680" y="518760"/>
              <a:ext cx="324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>
              <a:off x="8212680" y="519480"/>
              <a:ext cx="360" cy="468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8204040" y="525240"/>
              <a:ext cx="2880" cy="2520"/>
            </a:xfrm>
            <a:prstGeom prst="line">
              <a:avLst/>
            </a:prstGeom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rot="7564200">
              <a:off x="8069040" y="6033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rot="7564200">
              <a:off x="8069040" y="60336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4" name=""/>
          <p:cNvSpPr/>
          <p:nvPr/>
        </p:nvSpPr>
        <p:spPr>
          <a:xfrm>
            <a:off x="0" y="3048120"/>
            <a:ext cx="243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Tower, this is United 1448 and we are currently on a RWY, I´m looking out to the right with a K, ahhh...we need to go on the K taxi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0" y="137160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OMEBODY JUST TOOK OFF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0" y="434340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United 1448, you where supposed to taxi via N and T, I need to know what RWY you are on, I can´t see anything from the TW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0" y="5638680"/>
            <a:ext cx="2666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We, ahh..Maam, we are on 23 R and intersection of 16 and we did not connect on N, we are by K to our right and we just overshot K, we did not see 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8" name=""/>
          <p:cNvGrpSpPr/>
          <p:nvPr/>
        </p:nvGrpSpPr>
        <p:grpSpPr>
          <a:xfrm>
            <a:off x="3702240" y="6041880"/>
            <a:ext cx="556920" cy="587880"/>
            <a:chOff x="3702240" y="6041880"/>
            <a:chExt cx="556920" cy="587880"/>
          </a:xfrm>
        </p:grpSpPr>
        <p:sp>
          <p:nvSpPr>
            <p:cNvPr id="3679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7564200">
              <a:off x="4050000" y="632196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rot="7564200">
              <a:off x="3957480" y="625500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3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4" name=""/>
            <p:cNvSpPr/>
            <p:nvPr/>
          </p:nvSpPr>
          <p:spPr>
            <a:xfrm rot="7564200">
              <a:off x="3933000" y="6311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 rot="7564200">
              <a:off x="3899160" y="6298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rot="7564200">
              <a:off x="3861000" y="62899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9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0" name=""/>
            <p:cNvSpPr/>
            <p:nvPr/>
          </p:nvSpPr>
          <p:spPr>
            <a:xfrm rot="7564200">
              <a:off x="4011480" y="63687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 rot="7564200">
              <a:off x="4032000" y="639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 rot="7564200">
              <a:off x="4052520" y="64296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 rot="7564200">
              <a:off x="3956400" y="6226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 rot="7564200">
              <a:off x="3803400" y="64429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 rot="7564200">
              <a:off x="3859920" y="64836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 rot="7564200">
              <a:off x="4048920" y="62938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 rot="7564200">
              <a:off x="3740760" y="616572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 rot="7564200">
              <a:off x="3860280" y="62096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 rot="7564200">
              <a:off x="3975120" y="62456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V="1">
              <a:off x="3922200" y="625968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rot="7564200">
              <a:off x="3925800" y="6298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V="1">
              <a:off x="3890520" y="625932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V="1">
              <a:off x="3861000" y="6258960"/>
              <a:ext cx="144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rot="7564200">
              <a:off x="3868560" y="6227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rot="7564200">
              <a:off x="3876840" y="6254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 rot="7564200">
              <a:off x="3937320" y="628884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962520" y="6251400"/>
              <a:ext cx="55440" cy="7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H="1">
              <a:off x="3910680" y="6284160"/>
              <a:ext cx="324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 flipH="1">
              <a:off x="3892680" y="6281640"/>
              <a:ext cx="28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H="1">
              <a:off x="3874680" y="6279480"/>
              <a:ext cx="252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 rot="7564200">
              <a:off x="3815280" y="645624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 rot="7564200">
              <a:off x="3873600" y="64987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 rot="7564200">
              <a:off x="3825360" y="6480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 flipH="1" flipV="1">
              <a:off x="3858480" y="650196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rot="7564200">
              <a:off x="3809160" y="627264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rot="7564200">
              <a:off x="4038120" y="6339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rot="7564200">
              <a:off x="4048200" y="63100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 rot="7564200">
              <a:off x="4035600" y="6289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4066920" y="6366960"/>
              <a:ext cx="36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rot="7564200">
              <a:off x="4026960" y="6372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V="1">
              <a:off x="4076640" y="6396840"/>
              <a:ext cx="36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 flipV="1">
              <a:off x="4086720" y="6424560"/>
              <a:ext cx="324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 rot="7564200">
              <a:off x="4016160" y="6335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 rot="7564200">
              <a:off x="4033800" y="63691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 rot="7564200">
              <a:off x="4025520" y="6353280"/>
              <a:ext cx="7560" cy="158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 flipH="1">
              <a:off x="3994200" y="6274440"/>
              <a:ext cx="55080" cy="7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H="1">
              <a:off x="4043520" y="6383160"/>
              <a:ext cx="648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H="1">
              <a:off x="4052160" y="6400080"/>
              <a:ext cx="612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H="1">
              <a:off x="4059360" y="6417000"/>
              <a:ext cx="64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rot="7564200">
              <a:off x="4083840" y="6472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rot="7564200">
              <a:off x="4017600" y="63090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rot="7564200">
              <a:off x="3987000" y="62866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 rot="7564200">
              <a:off x="4085280" y="6208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rot="7564200">
              <a:off x="4057560" y="61880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rot="7564200">
              <a:off x="3911400" y="64454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rot="7564200">
              <a:off x="3886200" y="64267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rot="7564200">
              <a:off x="4088520" y="61534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 flipH="1" flipV="1">
              <a:off x="4107600" y="6177960"/>
              <a:ext cx="3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H="1">
              <a:off x="4109400" y="6169320"/>
              <a:ext cx="4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H="1">
              <a:off x="4106880" y="6157440"/>
              <a:ext cx="32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4097880" y="615816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4089240" y="6163920"/>
              <a:ext cx="2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 rot="7564200">
              <a:off x="3954240" y="624204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3" name=""/>
          <p:cNvSpPr/>
          <p:nvPr/>
        </p:nvSpPr>
        <p:spPr>
          <a:xfrm>
            <a:off x="6019920" y="2057400"/>
            <a:ext cx="83808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6019920" y="2057400"/>
            <a:ext cx="83808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3352680" y="1600200"/>
            <a:ext cx="762120" cy="3962520"/>
          </a:xfrm>
          <a:prstGeom prst="line">
            <a:avLst/>
          </a:prstGeom>
          <a:ln w="19044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3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5" dur="1" fill="hold">
                                    <p:stCondLst>
                                      <p:cond evt="end">
                                        <p:tn val="232"/>
                                      </p:cond>
                                    </p:stCondLst>
                                  </p:cTn>
                                  <p:tgtEl>
                                    <p:spTgt spid="3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3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5"/>
                                      </p:cond>
                                    </p:stCondLst>
                                  </p:cTn>
                                  <p:tgtEl>
                                    <p:spTgt spid="29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3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30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4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3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8" dur="1" fill="hold">
                                    <p:stCondLst>
                                      <p:cond evt="end">
                                        <p:tn val="255"/>
                                      </p:cond>
                                    </p:stCondLst>
                                  </p:cTn>
                                  <p:tgtEl>
                                    <p:spTgt spid="3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3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evt="end">
                                        <p:tn val="260"/>
                                      </p:cond>
                                    </p:stCondLst>
                                  </p:cTn>
                                  <p:tgtEl>
                                    <p:spTgt spid="3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3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3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evt="end">
                                        <p:tn val="270"/>
                                      </p:cond>
                                    </p:stCondLst>
                                  </p:cTn>
                                  <p:tgtEl>
                                    <p:spTgt spid="33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3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8" dur="1" fill="hold">
                                    <p:stCondLst>
                                      <p:cond evt="end">
                                        <p:tn val="275"/>
                                      </p:cond>
                                    </p:stCondLst>
                                  </p:cTn>
                                  <p:tgtEl>
                                    <p:spTgt spid="3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3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0"/>
                                      </p:cond>
                                    </p:stCondLst>
                                  </p:cTn>
                                  <p:tgtEl>
                                    <p:spTgt spid="3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evt="end">
                                        <p:tn val="285"/>
                                      </p:cond>
                                    </p:stCondLst>
                                  </p:cTn>
                                  <p:tgtEl>
                                    <p:spTgt spid="3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2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37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5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9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6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1981080" y="175248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0" y="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edex 1662, contact departure…, good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0" y="6094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edex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Fedex 1662, over to departure, so lo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0" y="121932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 Garbled Transmission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0" y="16765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[…] runway on 23L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0" y="220968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WR: United… STAND BY pleas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0" y="27432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Air 2998, RWY 5R, fly runway heading, cleared for take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0" y="3505320"/>
            <a:ext cx="25146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Maam..., I'm trying to advise you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 are on an active RWY, United 1448 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0" y="426708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3R is not an active RWY, it’s a taxiway when we are IFR or in the d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0" y="49528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 Garbled Transmission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0" y="5334120"/>
            <a:ext cx="266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???]:  …we’ll stand clear of all runways until we figure this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0" y="5943600"/>
            <a:ext cx="28954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EVERYBODY STAND BY PLEASE,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O SILENCE UNTIL I TALK TO YOU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0" name=""/>
          <p:cNvGrpSpPr/>
          <p:nvPr/>
        </p:nvGrpSpPr>
        <p:grpSpPr>
          <a:xfrm>
            <a:off x="5632560" y="1135080"/>
            <a:ext cx="491400" cy="356760"/>
            <a:chOff x="5632560" y="1135080"/>
            <a:chExt cx="491400" cy="356760"/>
          </a:xfrm>
        </p:grpSpPr>
        <p:sp>
          <p:nvSpPr>
            <p:cNvPr id="3821" name=""/>
            <p:cNvSpPr/>
            <p:nvPr/>
          </p:nvSpPr>
          <p:spPr>
            <a:xfrm rot="21476400">
              <a:off x="5819400" y="12520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 rot="21476400">
              <a:off x="5819400" y="12520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 rot="21476400">
              <a:off x="5823360" y="1367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 rot="21476400">
              <a:off x="5823360" y="136764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 rot="21476400">
              <a:off x="5883840" y="13604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 rot="21476400">
              <a:off x="5883840" y="13604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 rot="21476400">
              <a:off x="5892120" y="1393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 rot="21476400">
              <a:off x="5892120" y="13935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 rot="21476400">
              <a:off x="5909760" y="1429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 rot="21476400">
              <a:off x="5909760" y="14292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 rot="21476400">
              <a:off x="5880240" y="126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 rot="21476400">
              <a:off x="5880240" y="12632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 rot="21476400">
              <a:off x="5886360" y="1229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 rot="21476400">
              <a:off x="5886360" y="1229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 rot="21476400">
              <a:off x="5901120" y="1192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 rot="21476400">
              <a:off x="5901120" y="11926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 rot="21476400">
              <a:off x="5774040" y="1363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 rot="21476400">
              <a:off x="5774040" y="1363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 rot="21476400">
              <a:off x="6036840" y="1313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 rot="21476400">
              <a:off x="6036840" y="13136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 rot="21476400">
              <a:off x="6034320" y="12438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 rot="21476400">
              <a:off x="6034320" y="12438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 rot="21476400">
              <a:off x="5769720" y="1249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 rot="21476400">
              <a:off x="5769720" y="12492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 rot="21476400">
              <a:off x="5638320" y="114336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 rot="21476400">
              <a:off x="5638320" y="114336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 rot="21476400">
              <a:off x="5826960" y="1374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 rot="21476400">
              <a:off x="5801040" y="13377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5853960" y="140400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 rot="21476400">
              <a:off x="5876640" y="1375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H="1">
              <a:off x="5873400" y="1428840"/>
              <a:ext cx="39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 flipH="1">
              <a:off x="5891040" y="1452600"/>
              <a:ext cx="396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 rot="21476400">
              <a:off x="5877720" y="13320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 rot="21476400">
              <a:off x="5871240" y="13791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 rot="21476400">
              <a:off x="5868360" y="136008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 flipV="1">
              <a:off x="5789160" y="1333080"/>
              <a:ext cx="936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V="1">
              <a:off x="5878800" y="1395360"/>
              <a:ext cx="828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8" name=""/>
            <p:cNvSpPr/>
            <p:nvPr/>
          </p:nvSpPr>
          <p:spPr>
            <a:xfrm flipV="1">
              <a:off x="5888520" y="1411200"/>
              <a:ext cx="756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V="1">
              <a:off x="5898240" y="1426680"/>
              <a:ext cx="720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0" name=""/>
            <p:cNvSpPr/>
            <p:nvPr/>
          </p:nvSpPr>
          <p:spPr>
            <a:xfrm rot="21476400">
              <a:off x="6074280" y="131580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1" name=""/>
            <p:cNvSpPr/>
            <p:nvPr/>
          </p:nvSpPr>
          <p:spPr>
            <a:xfrm rot="21476400">
              <a:off x="6071400" y="1243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2" name=""/>
            <p:cNvSpPr/>
            <p:nvPr/>
          </p:nvSpPr>
          <p:spPr>
            <a:xfrm rot="21476400">
              <a:off x="6010560" y="130536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3" name=""/>
            <p:cNvSpPr/>
            <p:nvPr/>
          </p:nvSpPr>
          <p:spPr>
            <a:xfrm>
              <a:off x="6084360" y="1304640"/>
              <a:ext cx="36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rot="21476400">
              <a:off x="5924160" y="14814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rot="21476400">
              <a:off x="5819040" y="11552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rot="21476400">
              <a:off x="5784120" y="12556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 rot="21476400">
              <a:off x="5784120" y="12556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rot="21476400">
              <a:off x="5798520" y="12628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 flipV="1">
              <a:off x="5847480" y="1223640"/>
              <a:ext cx="396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 rot="21476400">
              <a:off x="5872320" y="12510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 flipV="1">
              <a:off x="5864760" y="1197360"/>
              <a:ext cx="4320" cy="14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2" name=""/>
            <p:cNvSpPr/>
            <p:nvPr/>
          </p:nvSpPr>
          <p:spPr>
            <a:xfrm flipH="1" flipV="1">
              <a:off x="5880960" y="1172520"/>
              <a:ext cx="396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3" name=""/>
            <p:cNvSpPr/>
            <p:nvPr/>
          </p:nvSpPr>
          <p:spPr>
            <a:xfrm rot="21476400">
              <a:off x="5871240" y="11498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4" name=""/>
            <p:cNvSpPr/>
            <p:nvPr/>
          </p:nvSpPr>
          <p:spPr>
            <a:xfrm rot="21476400">
              <a:off x="5864040" y="11847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5" name=""/>
            <p:cNvSpPr/>
            <p:nvPr/>
          </p:nvSpPr>
          <p:spPr>
            <a:xfrm rot="21476400">
              <a:off x="5864400" y="125100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 flipV="1">
              <a:off x="5787720" y="1294200"/>
              <a:ext cx="93600" cy="32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5873040" y="1229400"/>
              <a:ext cx="828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5881320" y="1212840"/>
              <a:ext cx="756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889600" y="1196280"/>
              <a:ext cx="79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0" name=""/>
            <p:cNvSpPr/>
            <p:nvPr/>
          </p:nvSpPr>
          <p:spPr>
            <a:xfrm rot="21476400">
              <a:off x="5911920" y="1141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rot="21476400">
              <a:off x="5826600" y="1295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rot="21476400">
              <a:off x="5828040" y="13334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rot="21476400">
              <a:off x="5703120" y="129996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rot="21476400">
              <a:off x="5703840" y="133452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rot="21476400">
              <a:off x="5997600" y="12909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rot="21476400">
              <a:off x="5998680" y="13219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rot="21476400">
              <a:off x="5658120" y="1305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675400" y="1307160"/>
              <a:ext cx="36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665320" y="1311480"/>
              <a:ext cx="432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V="1">
              <a:off x="5658120" y="1321200"/>
              <a:ext cx="5760" cy="3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V="1">
              <a:off x="5666040" y="1328040"/>
              <a:ext cx="396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V="1">
              <a:off x="5676480" y="1330200"/>
              <a:ext cx="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 rot="21476400">
              <a:off x="5788440" y="1371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 rot="21476400">
              <a:off x="5788440" y="13716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5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3896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0" name=""/>
          <p:cNvGrpSpPr/>
          <p:nvPr/>
        </p:nvGrpSpPr>
        <p:grpSpPr>
          <a:xfrm>
            <a:off x="6270120" y="2325960"/>
            <a:ext cx="489960" cy="604800"/>
            <a:chOff x="6270120" y="2325960"/>
            <a:chExt cx="489960" cy="604800"/>
          </a:xfrm>
        </p:grpSpPr>
        <p:sp>
          <p:nvSpPr>
            <p:cNvPr id="3971" name=""/>
            <p:cNvSpPr/>
            <p:nvPr/>
          </p:nvSpPr>
          <p:spPr>
            <a:xfrm rot="15421200">
              <a:off x="6458400" y="26906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 rot="15421200">
              <a:off x="6458400" y="26906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 rot="15421200">
              <a:off x="6583320" y="26625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 rot="15421200">
              <a:off x="6583320" y="26625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 rot="15421200">
              <a:off x="6561720" y="260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 rot="15421200">
              <a:off x="6561720" y="260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 rot="15421200">
              <a:off x="6594120" y="25887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 rot="15421200">
              <a:off x="6594120" y="25887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 rot="15421200">
              <a:off x="6630480" y="2562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 rot="15421200">
              <a:off x="6630480" y="2562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 rot="15421200">
              <a:off x="6455520" y="2630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 rot="15421200">
              <a:off x="6455520" y="2630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 rot="15421200">
              <a:off x="6415560" y="2629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 rot="15421200">
              <a:off x="6415560" y="2629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 rot="15421200">
              <a:off x="6372720" y="2621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 rot="15421200">
              <a:off x="6372720" y="2621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 rot="15421200">
              <a:off x="6569280" y="26902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rot="15421200">
              <a:off x="6569280" y="26902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rot="15421200">
              <a:off x="6465240" y="2379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rot="15421200">
              <a:off x="6465240" y="2379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rot="15421200">
              <a:off x="6390000" y="23972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rot="15421200">
              <a:off x="6390000" y="23972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rot="15421200">
              <a:off x="6444720" y="2718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 rot="15421200">
              <a:off x="6444720" y="2718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 rot="15421200">
              <a:off x="6248520" y="243828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 rot="15421200">
              <a:off x="6248520" y="243828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 rot="15421200">
              <a:off x="6593400" y="256248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 rot="15421200">
              <a:off x="6556680" y="2671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618600" y="263124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 rot="15421200">
              <a:off x="6579000" y="26125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6641640" y="260532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6663960" y="258084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 rot="15421200">
              <a:off x="6580440" y="25020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 rot="15421200">
              <a:off x="6596280" y="25596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 rot="15421200">
              <a:off x="6571800" y="26146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 flipV="1">
              <a:off x="6535440" y="262008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 flipH="1" flipV="1">
              <a:off x="6602760" y="2601360"/>
              <a:ext cx="43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 flipV="1">
              <a:off x="6617880" y="2588400"/>
              <a:ext cx="43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 flipH="1" flipV="1">
              <a:off x="6633720" y="2574720"/>
              <a:ext cx="4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 rot="15421200">
              <a:off x="6487200" y="23637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 rot="15421200">
              <a:off x="6408360" y="23821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 rot="15421200">
              <a:off x="6415200" y="24307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 flipV="1">
              <a:off x="6462360" y="2404800"/>
              <a:ext cx="2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 rot="15421200">
              <a:off x="6681240" y="25354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 rot="15421200">
              <a:off x="6354000" y="261756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 rot="15421200">
              <a:off x="6446160" y="2717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 rot="15421200">
              <a:off x="6446160" y="2717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 rot="15421200">
              <a:off x="6474960" y="26910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H="1">
              <a:off x="6422760" y="267660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 rot="15421200">
              <a:off x="6442560" y="26438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H="1">
              <a:off x="6390720" y="266328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6359760" y="26506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 rot="15421200">
              <a:off x="6382080" y="25477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 rot="15421200">
              <a:off x="6384960" y="26082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 rot="15421200">
              <a:off x="6453000" y="264204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 flipH="1" flipV="1">
              <a:off x="6492960" y="262980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V="1">
              <a:off x="6423840" y="2642760"/>
              <a:ext cx="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 flipV="1">
              <a:off x="6403680" y="2637720"/>
              <a:ext cx="72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V="1">
              <a:off x="6383520" y="2632320"/>
              <a:ext cx="10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 rot="15421200">
              <a:off x="6310800" y="262080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 rot="15421200">
              <a:off x="6500160" y="26827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 rot="15421200">
              <a:off x="6541200" y="26733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 rot="15421200">
              <a:off x="6529680" y="28116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 rot="15421200">
              <a:off x="6566400" y="28029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 rot="15421200">
              <a:off x="6458400" y="249228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 rot="15421200">
              <a:off x="6491880" y="248400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 rot="15421200">
              <a:off x="6551280" y="28350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 flipV="1">
              <a:off x="6550920" y="2850480"/>
              <a:ext cx="4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V="1">
              <a:off x="6557760" y="2855880"/>
              <a:ext cx="18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 flipH="1" flipV="1">
              <a:off x="6568560" y="28609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H="1" flipV="1">
              <a:off x="6574680" y="2852640"/>
              <a:ext cx="39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 flipH="1">
              <a:off x="6576480" y="2844720"/>
              <a:ext cx="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 rot="15421200">
              <a:off x="6572160" y="2688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 rot="15421200">
              <a:off x="6572160" y="2688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4046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0" name=""/>
          <p:cNvGrpSpPr/>
          <p:nvPr/>
        </p:nvGrpSpPr>
        <p:grpSpPr>
          <a:xfrm>
            <a:off x="3318480" y="5813280"/>
            <a:ext cx="562680" cy="587160"/>
            <a:chOff x="3318480" y="5813280"/>
            <a:chExt cx="562680" cy="587160"/>
          </a:xfrm>
        </p:grpSpPr>
        <p:sp>
          <p:nvSpPr>
            <p:cNvPr id="4121" name=""/>
            <p:cNvSpPr/>
            <p:nvPr/>
          </p:nvSpPr>
          <p:spPr>
            <a:xfrm rot="18471600">
              <a:off x="3517200" y="61056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 rot="18471600">
              <a:off x="3517200" y="610560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 rot="18471600">
              <a:off x="3607920" y="61768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rot="18471600">
              <a:off x="3607920" y="61768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 rot="18471600">
              <a:off x="3638520" y="61297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 rot="18471600">
              <a:off x="3638520" y="61297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 rot="18471600">
              <a:off x="3668760" y="6143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 rot="18471600">
              <a:off x="3668760" y="6143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 rot="18471600">
              <a:off x="3707640" y="6152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 rot="18471600">
              <a:off x="3707640" y="6152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 rot="18471600">
              <a:off x="3561480" y="6069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 rot="18471600">
              <a:off x="3561480" y="6069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 rot="18471600">
              <a:off x="3539160" y="60426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 rot="18471600">
              <a:off x="3539160" y="60426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 rot="18471600">
              <a:off x="3520440" y="6007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 rot="18471600">
              <a:off x="3520440" y="60073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 rot="18471600">
              <a:off x="3569400" y="6195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 rot="18471600">
              <a:off x="3569400" y="61956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 rot="18471600">
              <a:off x="3710520" y="59482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 rot="18471600">
              <a:off x="3710520" y="59482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 rot="18471600">
              <a:off x="3655080" y="59054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 rot="18471600">
              <a:off x="3655080" y="59054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 rot="18471600">
              <a:off x="3479040" y="6125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 rot="18471600">
              <a:off x="3479040" y="61254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 rot="18471600">
              <a:off x="3359880" y="593676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 rot="18471600">
              <a:off x="3359880" y="593676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 rot="18471600">
              <a:off x="3636720" y="61372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 rot="18471600">
              <a:off x="3575520" y="616572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>
              <a:off x="3654360" y="6180840"/>
              <a:ext cx="144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 rot="18471600">
              <a:off x="3645360" y="614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 flipH="1">
              <a:off x="3686040" y="6181920"/>
              <a:ext cx="108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 flipH="1">
              <a:off x="3715200" y="6183360"/>
              <a:ext cx="144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 rot="18471600">
              <a:off x="3659040" y="6074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 rot="18471600">
              <a:off x="3661920" y="612864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 rot="18471600">
              <a:off x="3633840" y="613872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V="1">
              <a:off x="3559680" y="6116040"/>
              <a:ext cx="57600" cy="74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V="1">
              <a:off x="3664440" y="6152760"/>
              <a:ext cx="360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V="1">
              <a:off x="3682800" y="6156360"/>
              <a:ext cx="288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V="1">
              <a:off x="3701160" y="6158880"/>
              <a:ext cx="2880" cy="7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 rot="18471600">
              <a:off x="3742200" y="593820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 rot="18471600">
              <a:off x="3685320" y="58939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 rot="18471600">
              <a:off x="3661560" y="5962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3725280" y="594324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 rot="18471600">
              <a:off x="3755160" y="61743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 rot="18471600">
              <a:off x="3463200" y="60022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 rot="18471600">
              <a:off x="3488760" y="61254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 rot="18471600">
              <a:off x="3488760" y="612540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 rot="18471600">
              <a:off x="3516480" y="61196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 flipH="1">
              <a:off x="3510720" y="6070680"/>
              <a:ext cx="36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 rot="18471600">
              <a:off x="3546360" y="60685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 flipH="1">
              <a:off x="3501720" y="6040440"/>
              <a:ext cx="36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 flipH="1">
              <a:off x="3493080" y="6012360"/>
              <a:ext cx="32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 rot="18471600">
              <a:off x="3515040" y="59623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 rot="18471600">
              <a:off x="3508560" y="60091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 rot="18471600">
              <a:off x="3547440" y="6071760"/>
              <a:ext cx="7560" cy="158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 flipV="1">
              <a:off x="3529080" y="6092280"/>
              <a:ext cx="57600" cy="7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V="1">
              <a:off x="3531600" y="6051960"/>
              <a:ext cx="684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 flipV="1">
              <a:off x="3524040" y="6035400"/>
              <a:ext cx="64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 flipV="1">
              <a:off x="3516840" y="6018480"/>
              <a:ext cx="64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 rot="18471600">
              <a:off x="3486600" y="59655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 rot="18471600">
              <a:off x="3551040" y="61311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 rot="18471600">
              <a:off x="3580920" y="615420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 rot="18471600">
              <a:off x="3475800" y="62262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rot="18471600">
              <a:off x="3502440" y="6247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 rot="18471600">
              <a:off x="3657960" y="599472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 rot="18471600">
              <a:off x="3682440" y="60138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 rot="18471600">
              <a:off x="3458520" y="625464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3464280" y="6258600"/>
              <a:ext cx="360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 flipV="1">
              <a:off x="3461400" y="6267600"/>
              <a:ext cx="4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 flipV="1">
              <a:off x="3464280" y="6276600"/>
              <a:ext cx="36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V="1">
              <a:off x="3476520" y="627624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 flipH="1" flipV="1">
              <a:off x="3483000" y="6272640"/>
              <a:ext cx="2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 rot="18471600">
              <a:off x="358020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 rot="18471600">
              <a:off x="358020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5" name=""/>
          <p:cNvSpPr/>
          <p:nvPr/>
        </p:nvSpPr>
        <p:spPr>
          <a:xfrm>
            <a:off x="2286000" y="3505320"/>
            <a:ext cx="1066680" cy="2286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6" name=""/>
          <p:cNvSpPr/>
          <p:nvPr/>
        </p:nvSpPr>
        <p:spPr>
          <a:xfrm>
            <a:off x="6095880" y="2133720"/>
            <a:ext cx="83844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4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4" dur="1" fill="hold">
                                    <p:stCondLst>
                                      <p:cond evt="end">
                                        <p:tn val="331"/>
                                      </p:cond>
                                    </p:stCondLst>
                                  </p:cTn>
                                  <p:tgtEl>
                                    <p:spTgt spid="4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2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4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7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6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7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8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9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4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5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6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7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8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9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2057400" y="18288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1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3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4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5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6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0" y="152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…run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1" name=""/>
          <p:cNvSpPr/>
          <p:nvPr/>
        </p:nvSpPr>
        <p:spPr>
          <a:xfrm>
            <a:off x="0" y="5335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VERYBOD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 BY !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0" y="990720"/>
            <a:ext cx="312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USAir 1020 hold your position please, I don’t know where the United is…, I'll figure it out in a min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0" y="19051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Air 1020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We are on T, for USAir 102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4" name=""/>
          <p:cNvGrpSpPr/>
          <p:nvPr/>
        </p:nvGrpSpPr>
        <p:grpSpPr>
          <a:xfrm>
            <a:off x="4702680" y="1165680"/>
            <a:ext cx="537480" cy="585720"/>
            <a:chOff x="4702680" y="1165680"/>
            <a:chExt cx="537480" cy="585720"/>
          </a:xfrm>
        </p:grpSpPr>
        <p:sp>
          <p:nvSpPr>
            <p:cNvPr id="4255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 rot="18049800">
              <a:off x="5017680" y="1478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 rot="18049800">
              <a:off x="4956480" y="151812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>
              <a:off x="5035320" y="1524960"/>
              <a:ext cx="720" cy="43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 rot="18049800">
              <a:off x="5021280" y="149076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5066640" y="1522440"/>
              <a:ext cx="72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6" name=""/>
            <p:cNvSpPr/>
            <p:nvPr/>
          </p:nvSpPr>
          <p:spPr>
            <a:xfrm flipH="1">
              <a:off x="5095800" y="152028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7" name=""/>
            <p:cNvSpPr/>
            <p:nvPr/>
          </p:nvSpPr>
          <p:spPr>
            <a:xfrm rot="18049800">
              <a:off x="5034960" y="1415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rot="18049800">
              <a:off x="5039640" y="146952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9" name=""/>
            <p:cNvSpPr/>
            <p:nvPr/>
          </p:nvSpPr>
          <p:spPr>
            <a:xfrm rot="18049800">
              <a:off x="5009760" y="1485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0" name=""/>
            <p:cNvSpPr/>
            <p:nvPr/>
          </p:nvSpPr>
          <p:spPr>
            <a:xfrm flipV="1">
              <a:off x="4941720" y="14655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V="1">
              <a:off x="5042520" y="1495440"/>
              <a:ext cx="2160" cy="8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2" name=""/>
            <p:cNvSpPr/>
            <p:nvPr/>
          </p:nvSpPr>
          <p:spPr>
            <a:xfrm flipV="1">
              <a:off x="5060880" y="1496880"/>
              <a:ext cx="216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V="1">
              <a:off x="5079240" y="1497600"/>
              <a:ext cx="180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4" name=""/>
            <p:cNvSpPr/>
            <p:nvPr/>
          </p:nvSpPr>
          <p:spPr>
            <a:xfrm rot="18049800">
              <a:off x="5095080" y="12718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5" name=""/>
            <p:cNvSpPr/>
            <p:nvPr/>
          </p:nvSpPr>
          <p:spPr>
            <a:xfrm rot="18049800">
              <a:off x="5033160" y="1234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6" name=""/>
            <p:cNvSpPr/>
            <p:nvPr/>
          </p:nvSpPr>
          <p:spPr>
            <a:xfrm rot="18049800">
              <a:off x="5014800" y="130140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7" name=""/>
            <p:cNvSpPr/>
            <p:nvPr/>
          </p:nvSpPr>
          <p:spPr>
            <a:xfrm>
              <a:off x="5075640" y="1280880"/>
              <a:ext cx="180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8" name=""/>
            <p:cNvSpPr/>
            <p:nvPr/>
          </p:nvSpPr>
          <p:spPr>
            <a:xfrm rot="18049800">
              <a:off x="5133960" y="1505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9" name=""/>
            <p:cNvSpPr/>
            <p:nvPr/>
          </p:nvSpPr>
          <p:spPr>
            <a:xfrm rot="18049800">
              <a:off x="4828680" y="13662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0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1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2" name=""/>
            <p:cNvSpPr/>
            <p:nvPr/>
          </p:nvSpPr>
          <p:spPr>
            <a:xfrm rot="18049800">
              <a:off x="4892400" y="1479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>
              <a:off x="4878720" y="143316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4" name=""/>
            <p:cNvSpPr/>
            <p:nvPr/>
          </p:nvSpPr>
          <p:spPr>
            <a:xfrm rot="18049800">
              <a:off x="4913640" y="14263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H="1">
              <a:off x="4866120" y="1404360"/>
              <a:ext cx="360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6" name=""/>
            <p:cNvSpPr/>
            <p:nvPr/>
          </p:nvSpPr>
          <p:spPr>
            <a:xfrm flipH="1">
              <a:off x="4854240" y="1377360"/>
              <a:ext cx="288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7" name=""/>
            <p:cNvSpPr/>
            <p:nvPr/>
          </p:nvSpPr>
          <p:spPr>
            <a:xfrm rot="18049800">
              <a:off x="4878000" y="13215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rot="18049800">
              <a:off x="4872240" y="13701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9" name=""/>
            <p:cNvSpPr/>
            <p:nvPr/>
          </p:nvSpPr>
          <p:spPr>
            <a:xfrm rot="18049800">
              <a:off x="4916160" y="142956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0" name=""/>
            <p:cNvSpPr/>
            <p:nvPr/>
          </p:nvSpPr>
          <p:spPr>
            <a:xfrm flipV="1">
              <a:off x="4908600" y="14457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4897800" y="1411560"/>
              <a:ext cx="6120" cy="57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2" name=""/>
            <p:cNvSpPr/>
            <p:nvPr/>
          </p:nvSpPr>
          <p:spPr>
            <a:xfrm flipV="1">
              <a:off x="4888080" y="1395720"/>
              <a:ext cx="576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V="1">
              <a:off x="4878720" y="1380240"/>
              <a:ext cx="612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rot="18049800">
              <a:off x="4841640" y="13312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5" name=""/>
            <p:cNvSpPr/>
            <p:nvPr/>
          </p:nvSpPr>
          <p:spPr>
            <a:xfrm rot="18049800">
              <a:off x="4926240" y="14878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6" name=""/>
            <p:cNvSpPr/>
            <p:nvPr/>
          </p:nvSpPr>
          <p:spPr>
            <a:xfrm rot="18049800">
              <a:off x="4958640" y="15073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7" name=""/>
            <p:cNvSpPr/>
            <p:nvPr/>
          </p:nvSpPr>
          <p:spPr>
            <a:xfrm rot="18049800">
              <a:off x="4862880" y="15912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8" name=""/>
            <p:cNvSpPr/>
            <p:nvPr/>
          </p:nvSpPr>
          <p:spPr>
            <a:xfrm rot="18049800">
              <a:off x="4892400" y="16088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9" name=""/>
            <p:cNvSpPr/>
            <p:nvPr/>
          </p:nvSpPr>
          <p:spPr>
            <a:xfrm rot="18049800">
              <a:off x="5015520" y="133920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0" name=""/>
            <p:cNvSpPr/>
            <p:nvPr/>
          </p:nvSpPr>
          <p:spPr>
            <a:xfrm rot="18049800">
              <a:off x="5042520" y="13554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 rot="18049800">
              <a:off x="4851360" y="1620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4855680" y="1625400"/>
              <a:ext cx="360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V="1">
              <a:off x="4853880" y="1634040"/>
              <a:ext cx="43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4" name=""/>
            <p:cNvSpPr/>
            <p:nvPr/>
          </p:nvSpPr>
          <p:spPr>
            <a:xfrm flipV="1">
              <a:off x="4858560" y="1642680"/>
              <a:ext cx="288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V="1">
              <a:off x="4870440" y="1641240"/>
              <a:ext cx="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6" name=""/>
            <p:cNvSpPr/>
            <p:nvPr/>
          </p:nvSpPr>
          <p:spPr>
            <a:xfrm flipH="1" flipV="1">
              <a:off x="4875840" y="163692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7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8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9" name=""/>
          <p:cNvSpPr/>
          <p:nvPr/>
        </p:nvSpPr>
        <p:spPr>
          <a:xfrm>
            <a:off x="0" y="2590920"/>
            <a:ext cx="2438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…our position United 1448, we are on 23R, we are looking at K straight ahead, if we can go straight, we can   get on K and get off the RW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0" y="3733920"/>
            <a:ext cx="2819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United 1448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 by please !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ON’T TALK !!!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I have other things I need to do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>
            <a:off x="0" y="4648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Roger, Ma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>
            <a:off x="0" y="5105520"/>
            <a:ext cx="289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 USAir 2998, RWY 5R fly runway heading, cleared for take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0" y="57150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Air 2998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Ahh…, Tower, USAir 2998, ‘till we figure out what’s going on down there, we are just gonna stay clear of all run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4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4335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6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7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8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9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2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3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4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5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6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7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8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9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0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1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2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3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4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5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6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7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8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9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0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1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2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4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6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7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8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9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0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2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4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5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6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8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9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0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1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2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4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6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7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8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9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0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2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4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5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6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7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8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9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0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1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2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3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6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7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8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9" name=""/>
          <p:cNvGrpSpPr/>
          <p:nvPr/>
        </p:nvGrpSpPr>
        <p:grpSpPr>
          <a:xfrm>
            <a:off x="6270120" y="2325960"/>
            <a:ext cx="489960" cy="604800"/>
            <a:chOff x="6270120" y="2325960"/>
            <a:chExt cx="489960" cy="604800"/>
          </a:xfrm>
        </p:grpSpPr>
        <p:sp>
          <p:nvSpPr>
            <p:cNvPr id="4410" name=""/>
            <p:cNvSpPr/>
            <p:nvPr/>
          </p:nvSpPr>
          <p:spPr>
            <a:xfrm rot="15421200">
              <a:off x="6458400" y="26906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1" name=""/>
            <p:cNvSpPr/>
            <p:nvPr/>
          </p:nvSpPr>
          <p:spPr>
            <a:xfrm rot="15421200">
              <a:off x="6458400" y="26906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2" name=""/>
            <p:cNvSpPr/>
            <p:nvPr/>
          </p:nvSpPr>
          <p:spPr>
            <a:xfrm rot="15421200">
              <a:off x="6583320" y="26625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3" name=""/>
            <p:cNvSpPr/>
            <p:nvPr/>
          </p:nvSpPr>
          <p:spPr>
            <a:xfrm rot="15421200">
              <a:off x="6583320" y="26625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4" name=""/>
            <p:cNvSpPr/>
            <p:nvPr/>
          </p:nvSpPr>
          <p:spPr>
            <a:xfrm rot="15421200">
              <a:off x="6561720" y="260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5" name=""/>
            <p:cNvSpPr/>
            <p:nvPr/>
          </p:nvSpPr>
          <p:spPr>
            <a:xfrm rot="15421200">
              <a:off x="6561720" y="260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6" name=""/>
            <p:cNvSpPr/>
            <p:nvPr/>
          </p:nvSpPr>
          <p:spPr>
            <a:xfrm rot="15421200">
              <a:off x="6594120" y="25887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7" name=""/>
            <p:cNvSpPr/>
            <p:nvPr/>
          </p:nvSpPr>
          <p:spPr>
            <a:xfrm rot="15421200">
              <a:off x="6594120" y="25887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8" name=""/>
            <p:cNvSpPr/>
            <p:nvPr/>
          </p:nvSpPr>
          <p:spPr>
            <a:xfrm rot="15421200">
              <a:off x="6630480" y="2562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9" name=""/>
            <p:cNvSpPr/>
            <p:nvPr/>
          </p:nvSpPr>
          <p:spPr>
            <a:xfrm rot="15421200">
              <a:off x="6630480" y="2562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0" name=""/>
            <p:cNvSpPr/>
            <p:nvPr/>
          </p:nvSpPr>
          <p:spPr>
            <a:xfrm rot="15421200">
              <a:off x="6455520" y="2630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1" name=""/>
            <p:cNvSpPr/>
            <p:nvPr/>
          </p:nvSpPr>
          <p:spPr>
            <a:xfrm rot="15421200">
              <a:off x="6455520" y="2630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2" name=""/>
            <p:cNvSpPr/>
            <p:nvPr/>
          </p:nvSpPr>
          <p:spPr>
            <a:xfrm rot="15421200">
              <a:off x="6415560" y="2629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3" name=""/>
            <p:cNvSpPr/>
            <p:nvPr/>
          </p:nvSpPr>
          <p:spPr>
            <a:xfrm rot="15421200">
              <a:off x="6415560" y="2629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4" name=""/>
            <p:cNvSpPr/>
            <p:nvPr/>
          </p:nvSpPr>
          <p:spPr>
            <a:xfrm rot="15421200">
              <a:off x="6372720" y="2621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5" name=""/>
            <p:cNvSpPr/>
            <p:nvPr/>
          </p:nvSpPr>
          <p:spPr>
            <a:xfrm rot="15421200">
              <a:off x="6372720" y="2621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6" name=""/>
            <p:cNvSpPr/>
            <p:nvPr/>
          </p:nvSpPr>
          <p:spPr>
            <a:xfrm rot="15421200">
              <a:off x="6569280" y="26902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7" name=""/>
            <p:cNvSpPr/>
            <p:nvPr/>
          </p:nvSpPr>
          <p:spPr>
            <a:xfrm rot="15421200">
              <a:off x="6569280" y="26902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8" name=""/>
            <p:cNvSpPr/>
            <p:nvPr/>
          </p:nvSpPr>
          <p:spPr>
            <a:xfrm rot="15421200">
              <a:off x="6465240" y="2379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9" name=""/>
            <p:cNvSpPr/>
            <p:nvPr/>
          </p:nvSpPr>
          <p:spPr>
            <a:xfrm rot="15421200">
              <a:off x="6465240" y="2379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0" name=""/>
            <p:cNvSpPr/>
            <p:nvPr/>
          </p:nvSpPr>
          <p:spPr>
            <a:xfrm rot="15421200">
              <a:off x="6390000" y="23972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1" name=""/>
            <p:cNvSpPr/>
            <p:nvPr/>
          </p:nvSpPr>
          <p:spPr>
            <a:xfrm rot="15421200">
              <a:off x="6390000" y="23972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2" name=""/>
            <p:cNvSpPr/>
            <p:nvPr/>
          </p:nvSpPr>
          <p:spPr>
            <a:xfrm rot="15421200">
              <a:off x="6444720" y="2718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3" name=""/>
            <p:cNvSpPr/>
            <p:nvPr/>
          </p:nvSpPr>
          <p:spPr>
            <a:xfrm rot="15421200">
              <a:off x="6444720" y="2718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4" name=""/>
            <p:cNvSpPr/>
            <p:nvPr/>
          </p:nvSpPr>
          <p:spPr>
            <a:xfrm rot="15421200">
              <a:off x="6248520" y="243828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5" name=""/>
            <p:cNvSpPr/>
            <p:nvPr/>
          </p:nvSpPr>
          <p:spPr>
            <a:xfrm rot="15421200">
              <a:off x="6248520" y="243828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6" name=""/>
            <p:cNvSpPr/>
            <p:nvPr/>
          </p:nvSpPr>
          <p:spPr>
            <a:xfrm rot="15421200">
              <a:off x="6593400" y="256248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7" name=""/>
            <p:cNvSpPr/>
            <p:nvPr/>
          </p:nvSpPr>
          <p:spPr>
            <a:xfrm rot="15421200">
              <a:off x="6556680" y="2671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6618600" y="263124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9" name=""/>
            <p:cNvSpPr/>
            <p:nvPr/>
          </p:nvSpPr>
          <p:spPr>
            <a:xfrm rot="15421200">
              <a:off x="6579000" y="26125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6641640" y="260532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6663960" y="258084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2" name=""/>
            <p:cNvSpPr/>
            <p:nvPr/>
          </p:nvSpPr>
          <p:spPr>
            <a:xfrm rot="15421200">
              <a:off x="6580440" y="25020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3" name=""/>
            <p:cNvSpPr/>
            <p:nvPr/>
          </p:nvSpPr>
          <p:spPr>
            <a:xfrm rot="15421200">
              <a:off x="6596280" y="25596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4" name=""/>
            <p:cNvSpPr/>
            <p:nvPr/>
          </p:nvSpPr>
          <p:spPr>
            <a:xfrm rot="15421200">
              <a:off x="6571800" y="26146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5" name=""/>
            <p:cNvSpPr/>
            <p:nvPr/>
          </p:nvSpPr>
          <p:spPr>
            <a:xfrm flipH="1" flipV="1">
              <a:off x="6535440" y="262008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6" name=""/>
            <p:cNvSpPr/>
            <p:nvPr/>
          </p:nvSpPr>
          <p:spPr>
            <a:xfrm flipH="1" flipV="1">
              <a:off x="6602760" y="2601360"/>
              <a:ext cx="43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H="1" flipV="1">
              <a:off x="6617880" y="2588400"/>
              <a:ext cx="43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H="1" flipV="1">
              <a:off x="6633720" y="2574720"/>
              <a:ext cx="4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9" name=""/>
            <p:cNvSpPr/>
            <p:nvPr/>
          </p:nvSpPr>
          <p:spPr>
            <a:xfrm rot="15421200">
              <a:off x="6487200" y="23637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0" name=""/>
            <p:cNvSpPr/>
            <p:nvPr/>
          </p:nvSpPr>
          <p:spPr>
            <a:xfrm rot="15421200">
              <a:off x="6408360" y="23821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1" name=""/>
            <p:cNvSpPr/>
            <p:nvPr/>
          </p:nvSpPr>
          <p:spPr>
            <a:xfrm rot="15421200">
              <a:off x="6415200" y="24307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2" name=""/>
            <p:cNvSpPr/>
            <p:nvPr/>
          </p:nvSpPr>
          <p:spPr>
            <a:xfrm flipV="1">
              <a:off x="6462360" y="2404800"/>
              <a:ext cx="2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3" name=""/>
            <p:cNvSpPr/>
            <p:nvPr/>
          </p:nvSpPr>
          <p:spPr>
            <a:xfrm rot="15421200">
              <a:off x="6681240" y="25354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4" name=""/>
            <p:cNvSpPr/>
            <p:nvPr/>
          </p:nvSpPr>
          <p:spPr>
            <a:xfrm rot="15421200">
              <a:off x="6354000" y="261756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5" name=""/>
            <p:cNvSpPr/>
            <p:nvPr/>
          </p:nvSpPr>
          <p:spPr>
            <a:xfrm rot="15421200">
              <a:off x="6446160" y="2717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6" name=""/>
            <p:cNvSpPr/>
            <p:nvPr/>
          </p:nvSpPr>
          <p:spPr>
            <a:xfrm rot="15421200">
              <a:off x="6446160" y="2717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7" name=""/>
            <p:cNvSpPr/>
            <p:nvPr/>
          </p:nvSpPr>
          <p:spPr>
            <a:xfrm rot="15421200">
              <a:off x="6474960" y="26910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H="1">
              <a:off x="6422760" y="267660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9" name=""/>
            <p:cNvSpPr/>
            <p:nvPr/>
          </p:nvSpPr>
          <p:spPr>
            <a:xfrm rot="15421200">
              <a:off x="6442560" y="26438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0" name=""/>
            <p:cNvSpPr/>
            <p:nvPr/>
          </p:nvSpPr>
          <p:spPr>
            <a:xfrm flipH="1">
              <a:off x="6390720" y="266328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6359760" y="26506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2" name=""/>
            <p:cNvSpPr/>
            <p:nvPr/>
          </p:nvSpPr>
          <p:spPr>
            <a:xfrm rot="15421200">
              <a:off x="6382080" y="25477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3" name=""/>
            <p:cNvSpPr/>
            <p:nvPr/>
          </p:nvSpPr>
          <p:spPr>
            <a:xfrm rot="15421200">
              <a:off x="6384960" y="26082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4" name=""/>
            <p:cNvSpPr/>
            <p:nvPr/>
          </p:nvSpPr>
          <p:spPr>
            <a:xfrm rot="15421200">
              <a:off x="6453000" y="264204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5" name=""/>
            <p:cNvSpPr/>
            <p:nvPr/>
          </p:nvSpPr>
          <p:spPr>
            <a:xfrm flipH="1" flipV="1">
              <a:off x="6492960" y="262980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6" name=""/>
            <p:cNvSpPr/>
            <p:nvPr/>
          </p:nvSpPr>
          <p:spPr>
            <a:xfrm flipV="1">
              <a:off x="6423840" y="2642760"/>
              <a:ext cx="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7" name=""/>
            <p:cNvSpPr/>
            <p:nvPr/>
          </p:nvSpPr>
          <p:spPr>
            <a:xfrm flipV="1">
              <a:off x="6403680" y="2637720"/>
              <a:ext cx="72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8" name=""/>
            <p:cNvSpPr/>
            <p:nvPr/>
          </p:nvSpPr>
          <p:spPr>
            <a:xfrm flipV="1">
              <a:off x="6383520" y="2632320"/>
              <a:ext cx="10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9" name=""/>
            <p:cNvSpPr/>
            <p:nvPr/>
          </p:nvSpPr>
          <p:spPr>
            <a:xfrm rot="15421200">
              <a:off x="6310800" y="262080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0" name=""/>
            <p:cNvSpPr/>
            <p:nvPr/>
          </p:nvSpPr>
          <p:spPr>
            <a:xfrm rot="15421200">
              <a:off x="6500160" y="26827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1" name=""/>
            <p:cNvSpPr/>
            <p:nvPr/>
          </p:nvSpPr>
          <p:spPr>
            <a:xfrm rot="15421200">
              <a:off x="6541200" y="26733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2" name=""/>
            <p:cNvSpPr/>
            <p:nvPr/>
          </p:nvSpPr>
          <p:spPr>
            <a:xfrm rot="15421200">
              <a:off x="6529680" y="28116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3" name=""/>
            <p:cNvSpPr/>
            <p:nvPr/>
          </p:nvSpPr>
          <p:spPr>
            <a:xfrm rot="15421200">
              <a:off x="6566400" y="28029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4" name=""/>
            <p:cNvSpPr/>
            <p:nvPr/>
          </p:nvSpPr>
          <p:spPr>
            <a:xfrm rot="15421200">
              <a:off x="6458400" y="249228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5" name=""/>
            <p:cNvSpPr/>
            <p:nvPr/>
          </p:nvSpPr>
          <p:spPr>
            <a:xfrm rot="15421200">
              <a:off x="6491880" y="248400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6" name=""/>
            <p:cNvSpPr/>
            <p:nvPr/>
          </p:nvSpPr>
          <p:spPr>
            <a:xfrm rot="15421200">
              <a:off x="6551280" y="28350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7" name=""/>
            <p:cNvSpPr/>
            <p:nvPr/>
          </p:nvSpPr>
          <p:spPr>
            <a:xfrm flipV="1">
              <a:off x="6550920" y="2850480"/>
              <a:ext cx="4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8" name=""/>
            <p:cNvSpPr/>
            <p:nvPr/>
          </p:nvSpPr>
          <p:spPr>
            <a:xfrm flipV="1">
              <a:off x="6557760" y="2855880"/>
              <a:ext cx="18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9" name=""/>
            <p:cNvSpPr/>
            <p:nvPr/>
          </p:nvSpPr>
          <p:spPr>
            <a:xfrm flipH="1" flipV="1">
              <a:off x="6568560" y="28609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0" name=""/>
            <p:cNvSpPr/>
            <p:nvPr/>
          </p:nvSpPr>
          <p:spPr>
            <a:xfrm flipH="1" flipV="1">
              <a:off x="6574680" y="2852640"/>
              <a:ext cx="39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1" name=""/>
            <p:cNvSpPr/>
            <p:nvPr/>
          </p:nvSpPr>
          <p:spPr>
            <a:xfrm flipH="1">
              <a:off x="6576480" y="2844720"/>
              <a:ext cx="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2" name=""/>
            <p:cNvSpPr/>
            <p:nvPr/>
          </p:nvSpPr>
          <p:spPr>
            <a:xfrm rot="15421200">
              <a:off x="6572160" y="2688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3" name=""/>
            <p:cNvSpPr/>
            <p:nvPr/>
          </p:nvSpPr>
          <p:spPr>
            <a:xfrm rot="15421200">
              <a:off x="6572160" y="2688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4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4485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6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7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8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9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0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1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2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3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4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5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6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7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8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9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0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1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2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3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4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5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6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1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2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3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4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4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5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6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7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8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9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0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1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2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3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4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5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6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7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8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9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0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1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2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3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4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5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6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9" name=""/>
          <p:cNvGrpSpPr/>
          <p:nvPr/>
        </p:nvGrpSpPr>
        <p:grpSpPr>
          <a:xfrm>
            <a:off x="3301920" y="5901480"/>
            <a:ext cx="581040" cy="577800"/>
            <a:chOff x="3301920" y="5901480"/>
            <a:chExt cx="581040" cy="577800"/>
          </a:xfrm>
        </p:grpSpPr>
        <p:sp>
          <p:nvSpPr>
            <p:cNvPr id="4560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1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2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3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4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5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6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rot="13445400">
              <a:off x="3639240" y="6072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rot="13445400">
              <a:off x="3651480" y="6193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>
              <a:off x="3672000" y="614268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 rot="13445400">
              <a:off x="3632400" y="614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>
              <a:off x="3676320" y="6111720"/>
              <a:ext cx="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1" name=""/>
            <p:cNvSpPr/>
            <p:nvPr/>
          </p:nvSpPr>
          <p:spPr>
            <a:xfrm>
              <a:off x="3681000" y="608256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2" name=""/>
            <p:cNvSpPr/>
            <p:nvPr/>
          </p:nvSpPr>
          <p:spPr>
            <a:xfrm rot="13445400">
              <a:off x="3614400" y="6038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3" name=""/>
            <p:cNvSpPr/>
            <p:nvPr/>
          </p:nvSpPr>
          <p:spPr>
            <a:xfrm rot="13445400">
              <a:off x="3633840" y="6083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4" name=""/>
            <p:cNvSpPr/>
            <p:nvPr/>
          </p:nvSpPr>
          <p:spPr>
            <a:xfrm rot="13445400">
              <a:off x="3632040" y="61488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5" name=""/>
            <p:cNvSpPr/>
            <p:nvPr/>
          </p:nvSpPr>
          <p:spPr>
            <a:xfrm flipH="1" flipV="1">
              <a:off x="3603240" y="617400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6" name=""/>
            <p:cNvSpPr/>
            <p:nvPr/>
          </p:nvSpPr>
          <p:spPr>
            <a:xfrm flipH="1" flipV="1">
              <a:off x="3645360" y="6127560"/>
              <a:ext cx="75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7" name=""/>
            <p:cNvSpPr/>
            <p:nvPr/>
          </p:nvSpPr>
          <p:spPr>
            <a:xfrm flipH="1" flipV="1">
              <a:off x="3650760" y="6110280"/>
              <a:ext cx="684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8" name=""/>
            <p:cNvSpPr/>
            <p:nvPr/>
          </p:nvSpPr>
          <p:spPr>
            <a:xfrm flipH="1" flipV="1">
              <a:off x="3655440" y="6092640"/>
              <a:ext cx="7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9" name=""/>
            <p:cNvSpPr/>
            <p:nvPr/>
          </p:nvSpPr>
          <p:spPr>
            <a:xfrm rot="13445400">
              <a:off x="3454200" y="59932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0" name=""/>
            <p:cNvSpPr/>
            <p:nvPr/>
          </p:nvSpPr>
          <p:spPr>
            <a:xfrm rot="13445400">
              <a:off x="3403800" y="60451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1" name=""/>
            <p:cNvSpPr/>
            <p:nvPr/>
          </p:nvSpPr>
          <p:spPr>
            <a:xfrm rot="13445400">
              <a:off x="3413520" y="60631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2" name=""/>
            <p:cNvSpPr/>
            <p:nvPr/>
          </p:nvSpPr>
          <p:spPr>
            <a:xfrm flipV="1">
              <a:off x="3443400" y="604656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3" name=""/>
            <p:cNvSpPr/>
            <p:nvPr/>
          </p:nvSpPr>
          <p:spPr>
            <a:xfrm rot="13445400">
              <a:off x="3670560" y="60357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4" name=""/>
            <p:cNvSpPr/>
            <p:nvPr/>
          </p:nvSpPr>
          <p:spPr>
            <a:xfrm rot="13445400">
              <a:off x="3486240" y="6230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5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6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7" name=""/>
            <p:cNvSpPr/>
            <p:nvPr/>
          </p:nvSpPr>
          <p:spPr>
            <a:xfrm rot="13445400">
              <a:off x="3599280" y="6247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8" name=""/>
            <p:cNvSpPr/>
            <p:nvPr/>
          </p:nvSpPr>
          <p:spPr>
            <a:xfrm>
              <a:off x="3547080" y="6271560"/>
              <a:ext cx="18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9" name=""/>
            <p:cNvSpPr/>
            <p:nvPr/>
          </p:nvSpPr>
          <p:spPr>
            <a:xfrm rot="13445400">
              <a:off x="3545280" y="623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3516120" y="6276960"/>
              <a:ext cx="18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3486960" y="6282720"/>
              <a:ext cx="21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2" name=""/>
            <p:cNvSpPr/>
            <p:nvPr/>
          </p:nvSpPr>
          <p:spPr>
            <a:xfrm rot="13445400">
              <a:off x="3487680" y="61693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3" name=""/>
            <p:cNvSpPr/>
            <p:nvPr/>
          </p:nvSpPr>
          <p:spPr>
            <a:xfrm rot="13445400">
              <a:off x="3498120" y="62233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4" name=""/>
            <p:cNvSpPr/>
            <p:nvPr/>
          </p:nvSpPr>
          <p:spPr>
            <a:xfrm rot="13445400">
              <a:off x="3556440" y="6227280"/>
              <a:ext cx="7560" cy="158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5" name=""/>
            <p:cNvSpPr/>
            <p:nvPr/>
          </p:nvSpPr>
          <p:spPr>
            <a:xfrm flipH="1" flipV="1">
              <a:off x="3576240" y="620208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6" name=""/>
            <p:cNvSpPr/>
            <p:nvPr/>
          </p:nvSpPr>
          <p:spPr>
            <a:xfrm flipH="1" flipV="1">
              <a:off x="3531240" y="6245640"/>
              <a:ext cx="43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7" name=""/>
            <p:cNvSpPr/>
            <p:nvPr/>
          </p:nvSpPr>
          <p:spPr>
            <a:xfrm flipH="1" flipV="1">
              <a:off x="3513600" y="6251760"/>
              <a:ext cx="396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8" name=""/>
            <p:cNvSpPr/>
            <p:nvPr/>
          </p:nvSpPr>
          <p:spPr>
            <a:xfrm flipH="1" flipV="1">
              <a:off x="3496320" y="6256800"/>
              <a:ext cx="360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9" name=""/>
            <p:cNvSpPr/>
            <p:nvPr/>
          </p:nvSpPr>
          <p:spPr>
            <a:xfrm rot="13445400">
              <a:off x="3433680" y="6280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0" name=""/>
            <p:cNvSpPr/>
            <p:nvPr/>
          </p:nvSpPr>
          <p:spPr>
            <a:xfrm rot="13445400">
              <a:off x="3606840" y="62359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1" name=""/>
            <p:cNvSpPr/>
            <p:nvPr/>
          </p:nvSpPr>
          <p:spPr>
            <a:xfrm rot="13445400">
              <a:off x="3633120" y="6208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2" name=""/>
            <p:cNvSpPr/>
            <p:nvPr/>
          </p:nvSpPr>
          <p:spPr>
            <a:xfrm rot="13445400">
              <a:off x="3692520" y="6316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3" name=""/>
            <p:cNvSpPr/>
            <p:nvPr/>
          </p:nvSpPr>
          <p:spPr>
            <a:xfrm rot="13445400">
              <a:off x="3716640" y="62928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4" name=""/>
            <p:cNvSpPr/>
            <p:nvPr/>
          </p:nvSpPr>
          <p:spPr>
            <a:xfrm rot="13445400">
              <a:off x="3483000" y="61113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5" name=""/>
            <p:cNvSpPr/>
            <p:nvPr/>
          </p:nvSpPr>
          <p:spPr>
            <a:xfrm rot="13445400">
              <a:off x="3504960" y="60886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6" name=""/>
            <p:cNvSpPr/>
            <p:nvPr/>
          </p:nvSpPr>
          <p:spPr>
            <a:xfrm rot="13445400">
              <a:off x="3727080" y="63190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7" name=""/>
            <p:cNvSpPr/>
            <p:nvPr/>
          </p:nvSpPr>
          <p:spPr>
            <a:xfrm flipV="1">
              <a:off x="3728520" y="6338160"/>
              <a:ext cx="25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8" name=""/>
            <p:cNvSpPr/>
            <p:nvPr/>
          </p:nvSpPr>
          <p:spPr>
            <a:xfrm flipH="1" flipV="1">
              <a:off x="3737520" y="6341040"/>
              <a:ext cx="10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9" name=""/>
            <p:cNvSpPr/>
            <p:nvPr/>
          </p:nvSpPr>
          <p:spPr>
            <a:xfrm flipH="1" flipV="1">
              <a:off x="3746520" y="6339960"/>
              <a:ext cx="432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0" name=""/>
            <p:cNvSpPr/>
            <p:nvPr/>
          </p:nvSpPr>
          <p:spPr>
            <a:xfrm flipH="1" flipV="1">
              <a:off x="3747240" y="6330960"/>
              <a:ext cx="46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1" name=""/>
            <p:cNvSpPr/>
            <p:nvPr/>
          </p:nvSpPr>
          <p:spPr>
            <a:xfrm flipH="1">
              <a:off x="3744360" y="6321960"/>
              <a:ext cx="2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2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3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4" name=""/>
          <p:cNvSpPr/>
          <p:nvPr/>
        </p:nvSpPr>
        <p:spPr>
          <a:xfrm>
            <a:off x="2511360" y="5049360"/>
            <a:ext cx="771480" cy="896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5" name=""/>
          <p:cNvSpPr/>
          <p:nvPr/>
        </p:nvSpPr>
        <p:spPr>
          <a:xfrm>
            <a:off x="3124080" y="5715000"/>
            <a:ext cx="838440" cy="914400"/>
          </a:xfrm>
          <a:prstGeom prst="ellipse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85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6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46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30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40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4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cursión de Pista - Defini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da ocurrencia en un aeropuerto relacionado 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aeron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veh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 obje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tierra y que crea un peligro inminente de colisión o que resulte en la perdida de adecuada separación con una aeronave en maniobra de despegue o aterriz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 No existe definición internacional de Incursión de Pist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6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7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8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9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0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1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2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3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4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5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6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7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8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9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0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1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2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3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4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5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6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7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8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9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0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1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2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3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4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5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6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7" name=""/>
          <p:cNvSpPr/>
          <p:nvPr/>
        </p:nvSpPr>
        <p:spPr>
          <a:xfrm>
            <a:off x="2209680" y="16765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8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9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0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1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2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3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4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5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6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7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8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9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0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1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2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3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4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5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6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7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8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9" name=""/>
          <p:cNvSpPr/>
          <p:nvPr/>
        </p:nvSpPr>
        <p:spPr>
          <a:xfrm>
            <a:off x="0" y="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SAir 2998, roger, hold short of RWY 5R. He’s not near the RWY, but you can hold sh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0" name=""/>
          <p:cNvSpPr/>
          <p:nvPr/>
        </p:nvSpPr>
        <p:spPr>
          <a:xfrm>
            <a:off x="0" y="83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Air 299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1" name=""/>
          <p:cNvSpPr/>
          <p:nvPr/>
        </p:nvSpPr>
        <p:spPr>
          <a:xfrm>
            <a:off x="0" y="1295280"/>
            <a:ext cx="228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Tower, USAir 2998, isn’t going yet because I have a United, HE DOESN’T KNOW WHERE THE HELL HE IS !!!  I'll take him back and I'll flash you when he’s 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2" name=""/>
          <p:cNvSpPr/>
          <p:nvPr/>
        </p:nvSpPr>
        <p:spPr>
          <a:xfrm>
            <a:off x="0" y="274320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USAir 1020, ahh…, are you at your gate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3" name=""/>
          <p:cNvSpPr/>
          <p:nvPr/>
        </p:nvSpPr>
        <p:spPr>
          <a:xfrm>
            <a:off x="0" y="3352680"/>
            <a:ext cx="2438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SAir 102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ahh..., we are stopped as requested, on 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4" name=""/>
          <p:cNvSpPr/>
          <p:nvPr/>
        </p:nvSpPr>
        <p:spPr>
          <a:xfrm>
            <a:off x="0" y="39625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USAir 1020, thank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5" name=""/>
          <p:cNvSpPr/>
          <p:nvPr/>
        </p:nvSpPr>
        <p:spPr>
          <a:xfrm>
            <a:off x="0" y="441972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United 1448, understand you are on RWY 23R.  Have you gone past taxiway K and 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6" name=""/>
          <p:cNvSpPr/>
          <p:nvPr/>
        </p:nvSpPr>
        <p:spPr>
          <a:xfrm>
            <a:off x="0" y="52578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Maam, we’re on 23L and 16, and I'm facing into K, at this point, the nose is just over 23L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7" name=""/>
          <p:cNvSpPr/>
          <p:nvPr/>
        </p:nvSpPr>
        <p:spPr>
          <a:xfrm>
            <a:off x="0" y="6095880"/>
            <a:ext cx="2362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Are you facing Northwest or Southea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98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4699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0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3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4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5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6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7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8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9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0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1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1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2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3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4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5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6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7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8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9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0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1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2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3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4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5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6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8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9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0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1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2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3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4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5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6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7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8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9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0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1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2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3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4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2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3" name=""/>
          <p:cNvGrpSpPr/>
          <p:nvPr/>
        </p:nvGrpSpPr>
        <p:grpSpPr>
          <a:xfrm>
            <a:off x="4702680" y="1165680"/>
            <a:ext cx="537480" cy="585720"/>
            <a:chOff x="4702680" y="1165680"/>
            <a:chExt cx="537480" cy="585720"/>
          </a:xfrm>
        </p:grpSpPr>
        <p:sp>
          <p:nvSpPr>
            <p:cNvPr id="4774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5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6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7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8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9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0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1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2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3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4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5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6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7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8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9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0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1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2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3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4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5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6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7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8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9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0" name=""/>
            <p:cNvSpPr/>
            <p:nvPr/>
          </p:nvSpPr>
          <p:spPr>
            <a:xfrm rot="18049800">
              <a:off x="5017680" y="1478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1" name=""/>
            <p:cNvSpPr/>
            <p:nvPr/>
          </p:nvSpPr>
          <p:spPr>
            <a:xfrm rot="18049800">
              <a:off x="4956480" y="151812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2" name=""/>
            <p:cNvSpPr/>
            <p:nvPr/>
          </p:nvSpPr>
          <p:spPr>
            <a:xfrm flipH="1">
              <a:off x="5035320" y="1524960"/>
              <a:ext cx="720" cy="43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3" name=""/>
            <p:cNvSpPr/>
            <p:nvPr/>
          </p:nvSpPr>
          <p:spPr>
            <a:xfrm rot="18049800">
              <a:off x="5021280" y="149076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4" name=""/>
            <p:cNvSpPr/>
            <p:nvPr/>
          </p:nvSpPr>
          <p:spPr>
            <a:xfrm flipH="1">
              <a:off x="5066640" y="1522440"/>
              <a:ext cx="72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5" name=""/>
            <p:cNvSpPr/>
            <p:nvPr/>
          </p:nvSpPr>
          <p:spPr>
            <a:xfrm flipH="1">
              <a:off x="5095800" y="152028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6" name=""/>
            <p:cNvSpPr/>
            <p:nvPr/>
          </p:nvSpPr>
          <p:spPr>
            <a:xfrm rot="18049800">
              <a:off x="5034960" y="1415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7" name=""/>
            <p:cNvSpPr/>
            <p:nvPr/>
          </p:nvSpPr>
          <p:spPr>
            <a:xfrm rot="18049800">
              <a:off x="5039640" y="146952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8" name=""/>
            <p:cNvSpPr/>
            <p:nvPr/>
          </p:nvSpPr>
          <p:spPr>
            <a:xfrm rot="18049800">
              <a:off x="5009760" y="1485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9" name=""/>
            <p:cNvSpPr/>
            <p:nvPr/>
          </p:nvSpPr>
          <p:spPr>
            <a:xfrm flipV="1">
              <a:off x="4941720" y="14655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0" name=""/>
            <p:cNvSpPr/>
            <p:nvPr/>
          </p:nvSpPr>
          <p:spPr>
            <a:xfrm flipV="1">
              <a:off x="5042520" y="1495440"/>
              <a:ext cx="2160" cy="8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1" name=""/>
            <p:cNvSpPr/>
            <p:nvPr/>
          </p:nvSpPr>
          <p:spPr>
            <a:xfrm flipV="1">
              <a:off x="5060880" y="1496880"/>
              <a:ext cx="216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2" name=""/>
            <p:cNvSpPr/>
            <p:nvPr/>
          </p:nvSpPr>
          <p:spPr>
            <a:xfrm flipV="1">
              <a:off x="5079240" y="1497600"/>
              <a:ext cx="180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3" name=""/>
            <p:cNvSpPr/>
            <p:nvPr/>
          </p:nvSpPr>
          <p:spPr>
            <a:xfrm rot="18049800">
              <a:off x="5095080" y="12718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4" name=""/>
            <p:cNvSpPr/>
            <p:nvPr/>
          </p:nvSpPr>
          <p:spPr>
            <a:xfrm rot="18049800">
              <a:off x="5033160" y="1234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5" name=""/>
            <p:cNvSpPr/>
            <p:nvPr/>
          </p:nvSpPr>
          <p:spPr>
            <a:xfrm rot="18049800">
              <a:off x="5014800" y="130140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5075640" y="1280880"/>
              <a:ext cx="180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7" name=""/>
            <p:cNvSpPr/>
            <p:nvPr/>
          </p:nvSpPr>
          <p:spPr>
            <a:xfrm rot="18049800">
              <a:off x="5133960" y="1505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8" name=""/>
            <p:cNvSpPr/>
            <p:nvPr/>
          </p:nvSpPr>
          <p:spPr>
            <a:xfrm rot="18049800">
              <a:off x="4828680" y="13662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9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0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1" name=""/>
            <p:cNvSpPr/>
            <p:nvPr/>
          </p:nvSpPr>
          <p:spPr>
            <a:xfrm rot="18049800">
              <a:off x="4892400" y="1479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2" name=""/>
            <p:cNvSpPr/>
            <p:nvPr/>
          </p:nvSpPr>
          <p:spPr>
            <a:xfrm flipH="1">
              <a:off x="4878720" y="143316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3" name=""/>
            <p:cNvSpPr/>
            <p:nvPr/>
          </p:nvSpPr>
          <p:spPr>
            <a:xfrm rot="18049800">
              <a:off x="4913640" y="14263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4" name=""/>
            <p:cNvSpPr/>
            <p:nvPr/>
          </p:nvSpPr>
          <p:spPr>
            <a:xfrm flipH="1">
              <a:off x="4866120" y="1404360"/>
              <a:ext cx="360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5" name=""/>
            <p:cNvSpPr/>
            <p:nvPr/>
          </p:nvSpPr>
          <p:spPr>
            <a:xfrm flipH="1">
              <a:off x="4854240" y="1377360"/>
              <a:ext cx="288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6" name=""/>
            <p:cNvSpPr/>
            <p:nvPr/>
          </p:nvSpPr>
          <p:spPr>
            <a:xfrm rot="18049800">
              <a:off x="4878000" y="13215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7" name=""/>
            <p:cNvSpPr/>
            <p:nvPr/>
          </p:nvSpPr>
          <p:spPr>
            <a:xfrm rot="18049800">
              <a:off x="4872240" y="13701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8" name=""/>
            <p:cNvSpPr/>
            <p:nvPr/>
          </p:nvSpPr>
          <p:spPr>
            <a:xfrm rot="18049800">
              <a:off x="4916160" y="142956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9" name=""/>
            <p:cNvSpPr/>
            <p:nvPr/>
          </p:nvSpPr>
          <p:spPr>
            <a:xfrm flipV="1">
              <a:off x="4908600" y="14457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0" name=""/>
            <p:cNvSpPr/>
            <p:nvPr/>
          </p:nvSpPr>
          <p:spPr>
            <a:xfrm flipV="1">
              <a:off x="4897800" y="1411560"/>
              <a:ext cx="6120" cy="57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1" name=""/>
            <p:cNvSpPr/>
            <p:nvPr/>
          </p:nvSpPr>
          <p:spPr>
            <a:xfrm flipV="1">
              <a:off x="4888080" y="1395720"/>
              <a:ext cx="576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2" name=""/>
            <p:cNvSpPr/>
            <p:nvPr/>
          </p:nvSpPr>
          <p:spPr>
            <a:xfrm flipV="1">
              <a:off x="4878720" y="1380240"/>
              <a:ext cx="612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3" name=""/>
            <p:cNvSpPr/>
            <p:nvPr/>
          </p:nvSpPr>
          <p:spPr>
            <a:xfrm rot="18049800">
              <a:off x="4841640" y="13312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4" name=""/>
            <p:cNvSpPr/>
            <p:nvPr/>
          </p:nvSpPr>
          <p:spPr>
            <a:xfrm rot="18049800">
              <a:off x="4926240" y="14878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5" name=""/>
            <p:cNvSpPr/>
            <p:nvPr/>
          </p:nvSpPr>
          <p:spPr>
            <a:xfrm rot="18049800">
              <a:off x="4958640" y="15073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6" name=""/>
            <p:cNvSpPr/>
            <p:nvPr/>
          </p:nvSpPr>
          <p:spPr>
            <a:xfrm rot="18049800">
              <a:off x="4862880" y="15912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7" name=""/>
            <p:cNvSpPr/>
            <p:nvPr/>
          </p:nvSpPr>
          <p:spPr>
            <a:xfrm rot="18049800">
              <a:off x="4892400" y="16088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8" name=""/>
            <p:cNvSpPr/>
            <p:nvPr/>
          </p:nvSpPr>
          <p:spPr>
            <a:xfrm rot="18049800">
              <a:off x="5015520" y="133920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9" name=""/>
            <p:cNvSpPr/>
            <p:nvPr/>
          </p:nvSpPr>
          <p:spPr>
            <a:xfrm rot="18049800">
              <a:off x="5042520" y="13554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0" name=""/>
            <p:cNvSpPr/>
            <p:nvPr/>
          </p:nvSpPr>
          <p:spPr>
            <a:xfrm rot="18049800">
              <a:off x="4851360" y="1620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4855680" y="1625400"/>
              <a:ext cx="360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2" name=""/>
            <p:cNvSpPr/>
            <p:nvPr/>
          </p:nvSpPr>
          <p:spPr>
            <a:xfrm flipV="1">
              <a:off x="4853880" y="1634040"/>
              <a:ext cx="43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3" name=""/>
            <p:cNvSpPr/>
            <p:nvPr/>
          </p:nvSpPr>
          <p:spPr>
            <a:xfrm flipV="1">
              <a:off x="4858560" y="1642680"/>
              <a:ext cx="288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4" name=""/>
            <p:cNvSpPr/>
            <p:nvPr/>
          </p:nvSpPr>
          <p:spPr>
            <a:xfrm flipV="1">
              <a:off x="4870440" y="1641240"/>
              <a:ext cx="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5" name=""/>
            <p:cNvSpPr/>
            <p:nvPr/>
          </p:nvSpPr>
          <p:spPr>
            <a:xfrm flipH="1" flipV="1">
              <a:off x="4875840" y="163692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6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7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8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4849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0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1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3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4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5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6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7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9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0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1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2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3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5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6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8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9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1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2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4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5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7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8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9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0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1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2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3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4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5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6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7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9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0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2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3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5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6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7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9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0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2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3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5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6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7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8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9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0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1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2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3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4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5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6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7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8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9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1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2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3" name=""/>
          <p:cNvGrpSpPr/>
          <p:nvPr/>
        </p:nvGrpSpPr>
        <p:grpSpPr>
          <a:xfrm>
            <a:off x="6270120" y="2325960"/>
            <a:ext cx="489960" cy="604800"/>
            <a:chOff x="6270120" y="2325960"/>
            <a:chExt cx="489960" cy="604800"/>
          </a:xfrm>
        </p:grpSpPr>
        <p:sp>
          <p:nvSpPr>
            <p:cNvPr id="4924" name=""/>
            <p:cNvSpPr/>
            <p:nvPr/>
          </p:nvSpPr>
          <p:spPr>
            <a:xfrm rot="15421200">
              <a:off x="6458400" y="26906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5" name=""/>
            <p:cNvSpPr/>
            <p:nvPr/>
          </p:nvSpPr>
          <p:spPr>
            <a:xfrm rot="15421200">
              <a:off x="6458400" y="269064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6" name=""/>
            <p:cNvSpPr/>
            <p:nvPr/>
          </p:nvSpPr>
          <p:spPr>
            <a:xfrm rot="15421200">
              <a:off x="6583320" y="26625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7" name=""/>
            <p:cNvSpPr/>
            <p:nvPr/>
          </p:nvSpPr>
          <p:spPr>
            <a:xfrm rot="15421200">
              <a:off x="6583320" y="266256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8" name=""/>
            <p:cNvSpPr/>
            <p:nvPr/>
          </p:nvSpPr>
          <p:spPr>
            <a:xfrm rot="15421200">
              <a:off x="6561720" y="260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9" name=""/>
            <p:cNvSpPr/>
            <p:nvPr/>
          </p:nvSpPr>
          <p:spPr>
            <a:xfrm rot="15421200">
              <a:off x="6561720" y="2606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0" name=""/>
            <p:cNvSpPr/>
            <p:nvPr/>
          </p:nvSpPr>
          <p:spPr>
            <a:xfrm rot="15421200">
              <a:off x="6594120" y="25887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1" name=""/>
            <p:cNvSpPr/>
            <p:nvPr/>
          </p:nvSpPr>
          <p:spPr>
            <a:xfrm rot="15421200">
              <a:off x="6594120" y="25887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2" name=""/>
            <p:cNvSpPr/>
            <p:nvPr/>
          </p:nvSpPr>
          <p:spPr>
            <a:xfrm rot="15421200">
              <a:off x="6630480" y="2562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3" name=""/>
            <p:cNvSpPr/>
            <p:nvPr/>
          </p:nvSpPr>
          <p:spPr>
            <a:xfrm rot="15421200">
              <a:off x="6630480" y="25624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rot="15421200">
              <a:off x="6455520" y="2630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5" name=""/>
            <p:cNvSpPr/>
            <p:nvPr/>
          </p:nvSpPr>
          <p:spPr>
            <a:xfrm rot="15421200">
              <a:off x="6455520" y="26308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6" name=""/>
            <p:cNvSpPr/>
            <p:nvPr/>
          </p:nvSpPr>
          <p:spPr>
            <a:xfrm rot="15421200">
              <a:off x="6415560" y="2629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rot="15421200">
              <a:off x="6415560" y="2629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8" name=""/>
            <p:cNvSpPr/>
            <p:nvPr/>
          </p:nvSpPr>
          <p:spPr>
            <a:xfrm rot="15421200">
              <a:off x="6372720" y="2621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9" name=""/>
            <p:cNvSpPr/>
            <p:nvPr/>
          </p:nvSpPr>
          <p:spPr>
            <a:xfrm rot="15421200">
              <a:off x="6372720" y="26218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rot="15421200">
              <a:off x="6569280" y="26902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1" name=""/>
            <p:cNvSpPr/>
            <p:nvPr/>
          </p:nvSpPr>
          <p:spPr>
            <a:xfrm rot="15421200">
              <a:off x="6569280" y="26902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2" name=""/>
            <p:cNvSpPr/>
            <p:nvPr/>
          </p:nvSpPr>
          <p:spPr>
            <a:xfrm rot="15421200">
              <a:off x="6465240" y="2379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3" name=""/>
            <p:cNvSpPr/>
            <p:nvPr/>
          </p:nvSpPr>
          <p:spPr>
            <a:xfrm rot="15421200">
              <a:off x="6465240" y="237996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rot="15421200">
              <a:off x="6390000" y="23972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5" name=""/>
            <p:cNvSpPr/>
            <p:nvPr/>
          </p:nvSpPr>
          <p:spPr>
            <a:xfrm rot="15421200">
              <a:off x="6390000" y="23972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6" name=""/>
            <p:cNvSpPr/>
            <p:nvPr/>
          </p:nvSpPr>
          <p:spPr>
            <a:xfrm rot="15421200">
              <a:off x="6444720" y="2718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rot="15421200">
              <a:off x="6444720" y="2718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8" name=""/>
            <p:cNvSpPr/>
            <p:nvPr/>
          </p:nvSpPr>
          <p:spPr>
            <a:xfrm rot="15421200">
              <a:off x="6248520" y="243828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 rot="15421200">
              <a:off x="6248520" y="243828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rot="15421200">
              <a:off x="6593400" y="256248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 rot="15421200">
              <a:off x="6556680" y="2671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6618600" y="263124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3" name=""/>
            <p:cNvSpPr/>
            <p:nvPr/>
          </p:nvSpPr>
          <p:spPr>
            <a:xfrm rot="15421200">
              <a:off x="6579000" y="26125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6641640" y="2605320"/>
              <a:ext cx="252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6663960" y="258084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 rot="15421200">
              <a:off x="6580440" y="25020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 rot="15421200">
              <a:off x="6596280" y="25596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 rot="15421200">
              <a:off x="6571800" y="26146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 flipH="1" flipV="1">
              <a:off x="6535440" y="262008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0" name=""/>
            <p:cNvSpPr/>
            <p:nvPr/>
          </p:nvSpPr>
          <p:spPr>
            <a:xfrm flipH="1" flipV="1">
              <a:off x="6602760" y="2601360"/>
              <a:ext cx="432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1" name=""/>
            <p:cNvSpPr/>
            <p:nvPr/>
          </p:nvSpPr>
          <p:spPr>
            <a:xfrm flipH="1" flipV="1">
              <a:off x="6617880" y="2588400"/>
              <a:ext cx="432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H="1" flipV="1">
              <a:off x="6633720" y="2574720"/>
              <a:ext cx="4680" cy="7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3" name=""/>
            <p:cNvSpPr/>
            <p:nvPr/>
          </p:nvSpPr>
          <p:spPr>
            <a:xfrm rot="15421200">
              <a:off x="6487200" y="23637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 rot="15421200">
              <a:off x="6408360" y="238212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 rot="15421200">
              <a:off x="6415200" y="24307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6" name=""/>
            <p:cNvSpPr/>
            <p:nvPr/>
          </p:nvSpPr>
          <p:spPr>
            <a:xfrm flipV="1">
              <a:off x="6462360" y="2404800"/>
              <a:ext cx="25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7" name=""/>
            <p:cNvSpPr/>
            <p:nvPr/>
          </p:nvSpPr>
          <p:spPr>
            <a:xfrm rot="15421200">
              <a:off x="6681240" y="25354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8" name=""/>
            <p:cNvSpPr/>
            <p:nvPr/>
          </p:nvSpPr>
          <p:spPr>
            <a:xfrm rot="15421200">
              <a:off x="6354000" y="261756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9" name=""/>
            <p:cNvSpPr/>
            <p:nvPr/>
          </p:nvSpPr>
          <p:spPr>
            <a:xfrm rot="15421200">
              <a:off x="6446160" y="2717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0" name=""/>
            <p:cNvSpPr/>
            <p:nvPr/>
          </p:nvSpPr>
          <p:spPr>
            <a:xfrm rot="15421200">
              <a:off x="6446160" y="27176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1" name=""/>
            <p:cNvSpPr/>
            <p:nvPr/>
          </p:nvSpPr>
          <p:spPr>
            <a:xfrm rot="15421200">
              <a:off x="6474960" y="26910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H="1">
              <a:off x="6422760" y="267660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3" name=""/>
            <p:cNvSpPr/>
            <p:nvPr/>
          </p:nvSpPr>
          <p:spPr>
            <a:xfrm rot="15421200">
              <a:off x="6442560" y="26438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H="1">
              <a:off x="6390720" y="266328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5" name=""/>
            <p:cNvSpPr/>
            <p:nvPr/>
          </p:nvSpPr>
          <p:spPr>
            <a:xfrm>
              <a:off x="6359760" y="2650680"/>
              <a:ext cx="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6" name=""/>
            <p:cNvSpPr/>
            <p:nvPr/>
          </p:nvSpPr>
          <p:spPr>
            <a:xfrm rot="15421200">
              <a:off x="6382080" y="25477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7" name=""/>
            <p:cNvSpPr/>
            <p:nvPr/>
          </p:nvSpPr>
          <p:spPr>
            <a:xfrm rot="15421200">
              <a:off x="6384960" y="26082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 rot="15421200">
              <a:off x="6453000" y="264204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H="1" flipV="1">
              <a:off x="6492960" y="2629800"/>
              <a:ext cx="23400" cy="10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 flipV="1">
              <a:off x="6423840" y="2642760"/>
              <a:ext cx="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403680" y="2637720"/>
              <a:ext cx="72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6383520" y="2632320"/>
              <a:ext cx="10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3" name=""/>
            <p:cNvSpPr/>
            <p:nvPr/>
          </p:nvSpPr>
          <p:spPr>
            <a:xfrm rot="15421200">
              <a:off x="6310800" y="262080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4" name=""/>
            <p:cNvSpPr/>
            <p:nvPr/>
          </p:nvSpPr>
          <p:spPr>
            <a:xfrm rot="15421200">
              <a:off x="6500160" y="26827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 rot="15421200">
              <a:off x="6541200" y="26733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 rot="15421200">
              <a:off x="6529680" y="28116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 rot="15421200">
              <a:off x="6566400" y="28029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 rot="15421200">
              <a:off x="6458400" y="249228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 rot="15421200">
              <a:off x="6491880" y="248400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0" name=""/>
            <p:cNvSpPr/>
            <p:nvPr/>
          </p:nvSpPr>
          <p:spPr>
            <a:xfrm rot="15421200">
              <a:off x="6551280" y="28350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1" name=""/>
            <p:cNvSpPr/>
            <p:nvPr/>
          </p:nvSpPr>
          <p:spPr>
            <a:xfrm flipV="1">
              <a:off x="6550920" y="2850480"/>
              <a:ext cx="4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V="1">
              <a:off x="6557760" y="2855880"/>
              <a:ext cx="18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H="1" flipV="1">
              <a:off x="6568560" y="2860920"/>
              <a:ext cx="144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H="1" flipV="1">
              <a:off x="6574680" y="2852640"/>
              <a:ext cx="39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H="1">
              <a:off x="6576480" y="2844720"/>
              <a:ext cx="43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 rot="15421200">
              <a:off x="6572160" y="2688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7" name=""/>
            <p:cNvSpPr/>
            <p:nvPr/>
          </p:nvSpPr>
          <p:spPr>
            <a:xfrm rot="15421200">
              <a:off x="6572160" y="268884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8" name=""/>
          <p:cNvGrpSpPr/>
          <p:nvPr/>
        </p:nvGrpSpPr>
        <p:grpSpPr>
          <a:xfrm>
            <a:off x="3301920" y="5901480"/>
            <a:ext cx="581040" cy="577800"/>
            <a:chOff x="3301920" y="5901480"/>
            <a:chExt cx="581040" cy="577800"/>
          </a:xfrm>
        </p:grpSpPr>
        <p:sp>
          <p:nvSpPr>
            <p:cNvPr id="4999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0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1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2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3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4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5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6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4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5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6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7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8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9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0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1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2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3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4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rot="13445400">
              <a:off x="3639240" y="6072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6" name=""/>
            <p:cNvSpPr/>
            <p:nvPr/>
          </p:nvSpPr>
          <p:spPr>
            <a:xfrm rot="13445400">
              <a:off x="3651480" y="6193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7" name=""/>
            <p:cNvSpPr/>
            <p:nvPr/>
          </p:nvSpPr>
          <p:spPr>
            <a:xfrm>
              <a:off x="3672000" y="614268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rot="13445400">
              <a:off x="3632400" y="614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3676320" y="6111720"/>
              <a:ext cx="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3681000" y="608256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rot="13445400">
              <a:off x="3614400" y="6038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2" name=""/>
            <p:cNvSpPr/>
            <p:nvPr/>
          </p:nvSpPr>
          <p:spPr>
            <a:xfrm rot="13445400">
              <a:off x="3633840" y="6083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3" name=""/>
            <p:cNvSpPr/>
            <p:nvPr/>
          </p:nvSpPr>
          <p:spPr>
            <a:xfrm rot="13445400">
              <a:off x="3632040" y="61488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4" name=""/>
            <p:cNvSpPr/>
            <p:nvPr/>
          </p:nvSpPr>
          <p:spPr>
            <a:xfrm flipH="1" flipV="1">
              <a:off x="3603240" y="617400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H="1" flipV="1">
              <a:off x="3645360" y="6127560"/>
              <a:ext cx="75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 flipH="1" flipV="1">
              <a:off x="3650760" y="6110280"/>
              <a:ext cx="684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 flipH="1" flipV="1">
              <a:off x="3655440" y="6092640"/>
              <a:ext cx="7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rot="13445400">
              <a:off x="3454200" y="59932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rot="13445400">
              <a:off x="3403800" y="60451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 rot="13445400">
              <a:off x="3413520" y="60631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3443400" y="604656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 rot="13445400">
              <a:off x="3670560" y="60357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 rot="13445400">
              <a:off x="3486240" y="6230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4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5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6" name=""/>
            <p:cNvSpPr/>
            <p:nvPr/>
          </p:nvSpPr>
          <p:spPr>
            <a:xfrm rot="13445400">
              <a:off x="3599280" y="6247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7" name=""/>
            <p:cNvSpPr/>
            <p:nvPr/>
          </p:nvSpPr>
          <p:spPr>
            <a:xfrm>
              <a:off x="3547080" y="6271560"/>
              <a:ext cx="18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8" name=""/>
            <p:cNvSpPr/>
            <p:nvPr/>
          </p:nvSpPr>
          <p:spPr>
            <a:xfrm rot="13445400">
              <a:off x="3545280" y="623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516120" y="6276960"/>
              <a:ext cx="18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3486960" y="6282720"/>
              <a:ext cx="21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1" name=""/>
            <p:cNvSpPr/>
            <p:nvPr/>
          </p:nvSpPr>
          <p:spPr>
            <a:xfrm rot="13445400">
              <a:off x="3487680" y="61693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2" name=""/>
            <p:cNvSpPr/>
            <p:nvPr/>
          </p:nvSpPr>
          <p:spPr>
            <a:xfrm rot="13445400">
              <a:off x="3498120" y="62233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3" name=""/>
            <p:cNvSpPr/>
            <p:nvPr/>
          </p:nvSpPr>
          <p:spPr>
            <a:xfrm rot="13445400">
              <a:off x="3556440" y="6227280"/>
              <a:ext cx="7560" cy="158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4" name=""/>
            <p:cNvSpPr/>
            <p:nvPr/>
          </p:nvSpPr>
          <p:spPr>
            <a:xfrm flipH="1" flipV="1">
              <a:off x="3576240" y="620208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5" name=""/>
            <p:cNvSpPr/>
            <p:nvPr/>
          </p:nvSpPr>
          <p:spPr>
            <a:xfrm flipH="1" flipV="1">
              <a:off x="3531240" y="6245640"/>
              <a:ext cx="43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6" name=""/>
            <p:cNvSpPr/>
            <p:nvPr/>
          </p:nvSpPr>
          <p:spPr>
            <a:xfrm flipH="1" flipV="1">
              <a:off x="3513600" y="6251760"/>
              <a:ext cx="396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7" name=""/>
            <p:cNvSpPr/>
            <p:nvPr/>
          </p:nvSpPr>
          <p:spPr>
            <a:xfrm flipH="1" flipV="1">
              <a:off x="3496320" y="6256800"/>
              <a:ext cx="360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8" name=""/>
            <p:cNvSpPr/>
            <p:nvPr/>
          </p:nvSpPr>
          <p:spPr>
            <a:xfrm rot="13445400">
              <a:off x="3433680" y="6280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9" name=""/>
            <p:cNvSpPr/>
            <p:nvPr/>
          </p:nvSpPr>
          <p:spPr>
            <a:xfrm rot="13445400">
              <a:off x="3606840" y="62359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0" name=""/>
            <p:cNvSpPr/>
            <p:nvPr/>
          </p:nvSpPr>
          <p:spPr>
            <a:xfrm rot="13445400">
              <a:off x="3633120" y="6208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1" name=""/>
            <p:cNvSpPr/>
            <p:nvPr/>
          </p:nvSpPr>
          <p:spPr>
            <a:xfrm rot="13445400">
              <a:off x="3692520" y="6316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2" name=""/>
            <p:cNvSpPr/>
            <p:nvPr/>
          </p:nvSpPr>
          <p:spPr>
            <a:xfrm rot="13445400">
              <a:off x="3716640" y="62928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3" name=""/>
            <p:cNvSpPr/>
            <p:nvPr/>
          </p:nvSpPr>
          <p:spPr>
            <a:xfrm rot="13445400">
              <a:off x="3483000" y="61113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4" name=""/>
            <p:cNvSpPr/>
            <p:nvPr/>
          </p:nvSpPr>
          <p:spPr>
            <a:xfrm rot="13445400">
              <a:off x="3504960" y="60886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5" name=""/>
            <p:cNvSpPr/>
            <p:nvPr/>
          </p:nvSpPr>
          <p:spPr>
            <a:xfrm rot="13445400">
              <a:off x="3727080" y="63190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6" name=""/>
            <p:cNvSpPr/>
            <p:nvPr/>
          </p:nvSpPr>
          <p:spPr>
            <a:xfrm flipV="1">
              <a:off x="3728520" y="6338160"/>
              <a:ext cx="25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7" name=""/>
            <p:cNvSpPr/>
            <p:nvPr/>
          </p:nvSpPr>
          <p:spPr>
            <a:xfrm flipH="1" flipV="1">
              <a:off x="3737520" y="6341040"/>
              <a:ext cx="10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8" name=""/>
            <p:cNvSpPr/>
            <p:nvPr/>
          </p:nvSpPr>
          <p:spPr>
            <a:xfrm flipH="1" flipV="1">
              <a:off x="3746520" y="6339960"/>
              <a:ext cx="432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 flipH="1" flipV="1">
              <a:off x="3747240" y="6330960"/>
              <a:ext cx="46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 flipH="1">
              <a:off x="3744360" y="6321960"/>
              <a:ext cx="2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14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28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5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8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4700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3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4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5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6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7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8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9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0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1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2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3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4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5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6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7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8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4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5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6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7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8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9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0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1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2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3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4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5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6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7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8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9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0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2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3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4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5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6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7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8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9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0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1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2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3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4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5" name=""/>
          <p:cNvSpPr/>
          <p:nvPr/>
        </p:nvSpPr>
        <p:spPr>
          <a:xfrm>
            <a:off x="0" y="152280"/>
            <a:ext cx="30481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We are facing…, we are heading…, for United 1448…, right now we are facing approximately 200 degrees on the heading…, I'm looking out the window, and I'm seeing a sign that says 23L to my right and a sign that says 16 to my left,  and I have the other sign that says K to my right and to my left, we are on a current runway…,  heading 2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6" name=""/>
          <p:cNvSpPr/>
          <p:nvPr/>
        </p:nvSpPr>
        <p:spPr>
          <a:xfrm>
            <a:off x="0" y="21337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Stop all traffic until advised please..,  United has   NO IDEA of where they are !       Thank you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7" name=""/>
          <p:cNvSpPr/>
          <p:nvPr/>
        </p:nvSpPr>
        <p:spPr>
          <a:xfrm>
            <a:off x="0" y="32004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nited 1448, just taxi straight ahead, and let me know when you get to the next sign pleas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8" name=""/>
          <p:cNvSpPr/>
          <p:nvPr/>
        </p:nvSpPr>
        <p:spPr>
          <a:xfrm>
            <a:off x="0" y="41148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Ok, we’re gonna go straight ahead, we’re gonna go up to K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9" name=""/>
          <p:cNvSpPr/>
          <p:nvPr/>
        </p:nvSpPr>
        <p:spPr>
          <a:xfrm>
            <a:off x="0" y="487692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United 1448, are you just turning onto RWY 23L right no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0" name=""/>
          <p:cNvSpPr/>
          <p:nvPr/>
        </p:nvSpPr>
        <p:spPr>
          <a:xfrm>
            <a:off x="0" y="57150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Yes we are, and we are going to go over, we are on 23…, we are currently exiting on…, we are coming up on K 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1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5132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3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4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5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6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7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8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9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0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1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2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3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4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5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6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7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8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9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0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1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2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3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4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5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6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7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3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4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0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1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7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8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9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1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4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5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6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8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9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1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2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3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4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5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6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7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8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4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5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6" name=""/>
          <p:cNvGrpSpPr/>
          <p:nvPr/>
        </p:nvGrpSpPr>
        <p:grpSpPr>
          <a:xfrm>
            <a:off x="4702680" y="1165680"/>
            <a:ext cx="537480" cy="585720"/>
            <a:chOff x="4702680" y="1165680"/>
            <a:chExt cx="537480" cy="585720"/>
          </a:xfrm>
        </p:grpSpPr>
        <p:sp>
          <p:nvSpPr>
            <p:cNvPr id="5207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8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0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1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2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4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5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7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8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0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1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2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3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4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5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6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7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8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9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0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1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2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3" name=""/>
            <p:cNvSpPr/>
            <p:nvPr/>
          </p:nvSpPr>
          <p:spPr>
            <a:xfrm rot="18049800">
              <a:off x="5017680" y="1478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4" name=""/>
            <p:cNvSpPr/>
            <p:nvPr/>
          </p:nvSpPr>
          <p:spPr>
            <a:xfrm rot="18049800">
              <a:off x="4956480" y="151812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H="1">
              <a:off x="5035320" y="1524960"/>
              <a:ext cx="720" cy="43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6" name=""/>
            <p:cNvSpPr/>
            <p:nvPr/>
          </p:nvSpPr>
          <p:spPr>
            <a:xfrm rot="18049800">
              <a:off x="5021280" y="149076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7" name=""/>
            <p:cNvSpPr/>
            <p:nvPr/>
          </p:nvSpPr>
          <p:spPr>
            <a:xfrm flipH="1">
              <a:off x="5066640" y="1522440"/>
              <a:ext cx="72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H="1">
              <a:off x="5095800" y="152028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9" name=""/>
            <p:cNvSpPr/>
            <p:nvPr/>
          </p:nvSpPr>
          <p:spPr>
            <a:xfrm rot="18049800">
              <a:off x="5034960" y="1415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0" name=""/>
            <p:cNvSpPr/>
            <p:nvPr/>
          </p:nvSpPr>
          <p:spPr>
            <a:xfrm rot="18049800">
              <a:off x="5039640" y="146952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1" name=""/>
            <p:cNvSpPr/>
            <p:nvPr/>
          </p:nvSpPr>
          <p:spPr>
            <a:xfrm rot="18049800">
              <a:off x="5009760" y="1485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2" name=""/>
            <p:cNvSpPr/>
            <p:nvPr/>
          </p:nvSpPr>
          <p:spPr>
            <a:xfrm flipV="1">
              <a:off x="4941720" y="14655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V="1">
              <a:off x="5042520" y="1495440"/>
              <a:ext cx="2160" cy="8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4" name=""/>
            <p:cNvSpPr/>
            <p:nvPr/>
          </p:nvSpPr>
          <p:spPr>
            <a:xfrm flipV="1">
              <a:off x="5060880" y="1496880"/>
              <a:ext cx="216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V="1">
              <a:off x="5079240" y="1497600"/>
              <a:ext cx="180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6" name=""/>
            <p:cNvSpPr/>
            <p:nvPr/>
          </p:nvSpPr>
          <p:spPr>
            <a:xfrm rot="18049800">
              <a:off x="5095080" y="12718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 rot="18049800">
              <a:off x="5033160" y="1234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 rot="18049800">
              <a:off x="5014800" y="130140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5075640" y="1280880"/>
              <a:ext cx="180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rot="18049800">
              <a:off x="5133960" y="1505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rot="18049800">
              <a:off x="4828680" y="13662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2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3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 rot="18049800">
              <a:off x="4892400" y="1479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H="1">
              <a:off x="4878720" y="143316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 rot="18049800">
              <a:off x="4913640" y="14263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 flipH="1">
              <a:off x="4866120" y="1404360"/>
              <a:ext cx="360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>
              <a:off x="4854240" y="1377360"/>
              <a:ext cx="288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9" name=""/>
            <p:cNvSpPr/>
            <p:nvPr/>
          </p:nvSpPr>
          <p:spPr>
            <a:xfrm rot="18049800">
              <a:off x="4878000" y="13215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0" name=""/>
            <p:cNvSpPr/>
            <p:nvPr/>
          </p:nvSpPr>
          <p:spPr>
            <a:xfrm rot="18049800">
              <a:off x="4872240" y="13701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 rot="18049800">
              <a:off x="4916160" y="142956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 flipV="1">
              <a:off x="4908600" y="14457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V="1">
              <a:off x="4897800" y="1411560"/>
              <a:ext cx="6120" cy="57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 flipV="1">
              <a:off x="4888080" y="1395720"/>
              <a:ext cx="576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V="1">
              <a:off x="4878720" y="1380240"/>
              <a:ext cx="612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6" name=""/>
            <p:cNvSpPr/>
            <p:nvPr/>
          </p:nvSpPr>
          <p:spPr>
            <a:xfrm rot="18049800">
              <a:off x="4841640" y="13312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7" name=""/>
            <p:cNvSpPr/>
            <p:nvPr/>
          </p:nvSpPr>
          <p:spPr>
            <a:xfrm rot="18049800">
              <a:off x="4926240" y="14878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8" name=""/>
            <p:cNvSpPr/>
            <p:nvPr/>
          </p:nvSpPr>
          <p:spPr>
            <a:xfrm rot="18049800">
              <a:off x="4958640" y="15073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 rot="18049800">
              <a:off x="4862880" y="15912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 rot="18049800">
              <a:off x="4892400" y="16088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 rot="18049800">
              <a:off x="5015520" y="133920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 rot="18049800">
              <a:off x="5042520" y="13554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 rot="18049800">
              <a:off x="4851360" y="1620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4855680" y="1625400"/>
              <a:ext cx="360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V="1">
              <a:off x="4853880" y="1634040"/>
              <a:ext cx="43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4858560" y="1642680"/>
              <a:ext cx="288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7" name=""/>
            <p:cNvSpPr/>
            <p:nvPr/>
          </p:nvSpPr>
          <p:spPr>
            <a:xfrm flipV="1">
              <a:off x="4870440" y="1641240"/>
              <a:ext cx="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 flipH="1" flipV="1">
              <a:off x="4875840" y="163692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9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0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1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5282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3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4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5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6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7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8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9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0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1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3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4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6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7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9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0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1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3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4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3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4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5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6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0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1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2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3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5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6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7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8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9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0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1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4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5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6" name=""/>
          <p:cNvGrpSpPr/>
          <p:nvPr/>
        </p:nvGrpSpPr>
        <p:grpSpPr>
          <a:xfrm>
            <a:off x="6208560" y="2259000"/>
            <a:ext cx="460800" cy="587880"/>
            <a:chOff x="6208560" y="2259000"/>
            <a:chExt cx="460800" cy="587880"/>
          </a:xfrm>
        </p:grpSpPr>
        <p:sp>
          <p:nvSpPr>
            <p:cNvPr id="5357" name=""/>
            <p:cNvSpPr/>
            <p:nvPr/>
          </p:nvSpPr>
          <p:spPr>
            <a:xfrm rot="16759800">
              <a:off x="6359760" y="25909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 rot="16759800">
              <a:off x="6359760" y="25909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 rot="16759800">
              <a:off x="6486480" y="26125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 rot="16759800">
              <a:off x="6486480" y="26125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 rot="16759800">
              <a:off x="6489360" y="25516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 rot="16759800">
              <a:off x="6489360" y="25516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 rot="16759800">
              <a:off x="6526440" y="2548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 rot="16759800">
              <a:off x="6526440" y="2548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 rot="16759800">
              <a:off x="6569280" y="25376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 rot="16759800">
              <a:off x="6569280" y="25376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 rot="16759800">
              <a:off x="6382080" y="25340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 rot="16759800">
              <a:off x="6382080" y="25340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 rot="16759800">
              <a:off x="6345720" y="2518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 rot="16759800">
              <a:off x="6345720" y="2518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 rot="16759800">
              <a:off x="6308280" y="24948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 rot="16759800">
              <a:off x="6308280" y="24948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 rot="16759800">
              <a:off x="6458760" y="26402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 rot="16759800">
              <a:off x="6458760" y="26402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 rot="16759800">
              <a:off x="6472800" y="23162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 rot="16759800">
              <a:off x="6472800" y="23162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 rot="16759800">
              <a:off x="6396120" y="23036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 rot="16759800">
              <a:off x="6396120" y="23036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 rot="16759800">
              <a:off x="6333120" y="2619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 rot="16759800">
              <a:off x="6333120" y="2619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rot="16759800">
              <a:off x="6172200" y="23630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 rot="16759800">
              <a:off x="6172200" y="23630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 rot="16759800">
              <a:off x="6512760" y="253476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rot="16759800">
              <a:off x="6453360" y="26136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6533280" y="2594880"/>
              <a:ext cx="72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 rot="16759800">
              <a:off x="6503400" y="25639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564960" y="2579400"/>
              <a:ext cx="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6594480" y="256536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 rot="16759800">
              <a:off x="6514200" y="246600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 rot="16759800">
              <a:off x="6525360" y="25261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rot="16759800">
              <a:off x="6492960" y="25624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 flipV="1">
              <a:off x="6444000" y="2552760"/>
              <a:ext cx="16920" cy="10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H="1" flipV="1">
              <a:off x="6530760" y="2561040"/>
              <a:ext cx="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H="1" flipV="1">
              <a:off x="6549120" y="2554920"/>
              <a:ext cx="10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 flipH="1" flipV="1">
              <a:off x="6568920" y="2547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 rot="16759800">
              <a:off x="6500880" y="230112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rot="16759800">
              <a:off x="6420960" y="228744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 rot="16759800">
              <a:off x="6416640" y="235188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474600" y="2326320"/>
              <a:ext cx="2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 rot="16759800">
              <a:off x="6627240" y="25322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 rot="16759800">
              <a:off x="6270120" y="249480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 rot="16759800">
              <a:off x="6338520" y="2617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 rot="16759800">
              <a:off x="6338520" y="2617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 rot="16759800">
              <a:off x="6370560" y="2599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 flipH="1">
              <a:off x="6333480" y="256248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 rot="16759800">
              <a:off x="6365160" y="2541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H="1">
              <a:off x="6308640" y="253764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 flipH="1">
              <a:off x="6285240" y="251460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 rot="16759800">
              <a:off x="6314040" y="24325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 rot="16759800">
              <a:off x="6311520" y="249084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 rot="16759800">
              <a:off x="6372720" y="254268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 flipV="1">
              <a:off x="6401520" y="2545560"/>
              <a:ext cx="1656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 flipV="1">
              <a:off x="6345360" y="2531160"/>
              <a:ext cx="396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V="1">
              <a:off x="6329160" y="2519280"/>
              <a:ext cx="39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 flipV="1">
              <a:off x="6312960" y="2506320"/>
              <a:ext cx="39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 rot="16759800">
              <a:off x="6252480" y="24706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 rot="16759800">
              <a:off x="6404040" y="25992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 rot="16759800">
              <a:off x="6445800" y="26060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 rot="16759800">
              <a:off x="6381360" y="27306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 rot="16759800">
              <a:off x="6419160" y="273672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 rot="16759800">
              <a:off x="6436440" y="240840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 rot="16759800">
              <a:off x="6470640" y="241344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 rot="16759800">
              <a:off x="6386040" y="276228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6387120" y="2773080"/>
              <a:ext cx="46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6390000" y="2780280"/>
              <a:ext cx="36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 flipV="1">
              <a:off x="6399360" y="27882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 flipH="1" flipV="1">
              <a:off x="6409080" y="2782800"/>
              <a:ext cx="21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H="1" flipV="1">
              <a:off x="6413040" y="2777040"/>
              <a:ext cx="4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rot="16759800">
              <a:off x="6466320" y="26388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 rot="16759800">
              <a:off x="6466320" y="26388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1" name=""/>
          <p:cNvGrpSpPr/>
          <p:nvPr/>
        </p:nvGrpSpPr>
        <p:grpSpPr>
          <a:xfrm>
            <a:off x="3301920" y="5901480"/>
            <a:ext cx="581040" cy="577800"/>
            <a:chOff x="3301920" y="5901480"/>
            <a:chExt cx="581040" cy="577800"/>
          </a:xfrm>
        </p:grpSpPr>
        <p:sp>
          <p:nvSpPr>
            <p:cNvPr id="5432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 rot="13445400">
              <a:off x="3639240" y="6072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 rot="13445400">
              <a:off x="3651480" y="6193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672000" y="614268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 rot="13445400">
              <a:off x="3632400" y="614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3676320" y="6111720"/>
              <a:ext cx="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3681000" y="608256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 rot="13445400">
              <a:off x="3614400" y="6038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 rot="13445400">
              <a:off x="3633840" y="6083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 rot="13445400">
              <a:off x="3632040" y="61488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H="1" flipV="1">
              <a:off x="3603240" y="617400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 flipH="1" flipV="1">
              <a:off x="3645360" y="6127560"/>
              <a:ext cx="75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H="1" flipV="1">
              <a:off x="3650760" y="6110280"/>
              <a:ext cx="684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 flipH="1" flipV="1">
              <a:off x="3655440" y="6092640"/>
              <a:ext cx="7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 rot="13445400">
              <a:off x="3454200" y="59932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 rot="13445400">
              <a:off x="3403800" y="60451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 rot="13445400">
              <a:off x="3413520" y="60631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443400" y="604656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 rot="13445400">
              <a:off x="3670560" y="60357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 rot="13445400">
              <a:off x="3486240" y="6230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 rot="13445400">
              <a:off x="3599280" y="6247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547080" y="6271560"/>
              <a:ext cx="18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 rot="13445400">
              <a:off x="3545280" y="623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516120" y="6276960"/>
              <a:ext cx="18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86960" y="6282720"/>
              <a:ext cx="21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rot="13445400">
              <a:off x="3487680" y="61693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 rot="13445400">
              <a:off x="3498120" y="62233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 rot="13445400">
              <a:off x="3556440" y="6227280"/>
              <a:ext cx="7560" cy="158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H="1" flipV="1">
              <a:off x="3576240" y="620208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 flipH="1" flipV="1">
              <a:off x="3531240" y="6245640"/>
              <a:ext cx="43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 flipH="1" flipV="1">
              <a:off x="3513600" y="6251760"/>
              <a:ext cx="396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H="1" flipV="1">
              <a:off x="3496320" y="6256800"/>
              <a:ext cx="360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 rot="13445400">
              <a:off x="3433680" y="6280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 rot="13445400">
              <a:off x="3606840" y="62359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 rot="13445400">
              <a:off x="3633120" y="6208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 rot="13445400">
              <a:off x="3692520" y="6316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 rot="13445400">
              <a:off x="3716640" y="62928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 rot="13445400">
              <a:off x="3483000" y="61113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 rot="13445400">
              <a:off x="3504960" y="60886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 rot="13445400">
              <a:off x="3727080" y="63190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V="1">
              <a:off x="3728520" y="6338160"/>
              <a:ext cx="25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 flipH="1" flipV="1">
              <a:off x="3737520" y="6341040"/>
              <a:ext cx="10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 flipH="1" flipV="1">
              <a:off x="3746520" y="6339960"/>
              <a:ext cx="432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H="1" flipV="1">
              <a:off x="3747240" y="6330960"/>
              <a:ext cx="46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 flipH="1">
              <a:off x="3744360" y="6321960"/>
              <a:ext cx="2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6128280" y="2606400"/>
            <a:ext cx="621720" cy="654480"/>
            <a:chOff x="6128280" y="2606400"/>
            <a:chExt cx="621720" cy="654480"/>
          </a:xfrm>
        </p:grpSpPr>
        <p:sp>
          <p:nvSpPr>
            <p:cNvPr id="5507" name=""/>
            <p:cNvSpPr/>
            <p:nvPr/>
          </p:nvSpPr>
          <p:spPr>
            <a:xfrm rot="18378000">
              <a:off x="6347160" y="293436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 rot="18378000">
              <a:off x="6347160" y="293436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 rot="18378000">
              <a:off x="6450480" y="301104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 rot="18378000">
              <a:off x="6450480" y="301104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 rot="18378000">
              <a:off x="6483240" y="2957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 rot="18378000">
              <a:off x="6483240" y="295740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 rot="18378000">
              <a:off x="6517440" y="2971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 rot="18378000">
              <a:off x="6517440" y="297180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 rot="18378000">
              <a:off x="6560640" y="29815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 rot="18378000">
              <a:off x="6560640" y="29815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 rot="18378000">
              <a:off x="6395760" y="28929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 rot="18378000">
              <a:off x="6395760" y="289296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 rot="18378000">
              <a:off x="6369840" y="2863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 rot="18378000">
              <a:off x="6369840" y="2863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rot="18378000">
              <a:off x="6347520" y="28252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rot="18378000">
              <a:off x="6347520" y="282528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 rot="18378000">
              <a:off x="6408360" y="30326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 rot="18378000">
              <a:off x="6408360" y="30326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 rot="18378000">
              <a:off x="6558120" y="27529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 rot="18378000">
              <a:off x="6558120" y="27529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 rot="18378000">
              <a:off x="6495120" y="270648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 rot="18378000">
              <a:off x="6495120" y="270648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 rot="18378000">
              <a:off x="6305760" y="29570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 rot="18378000">
              <a:off x="6305760" y="29570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 rot="18378000">
              <a:off x="6172200" y="274356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 rot="18378000">
              <a:off x="6172200" y="274356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 rot="18378000">
              <a:off x="6483240" y="296496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 rot="18378000">
              <a:off x="6414840" y="29995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 flipH="1">
              <a:off x="6502320" y="3013920"/>
              <a:ext cx="180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 rot="18378000">
              <a:off x="6490800" y="29750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 flipH="1">
              <a:off x="6537600" y="3014280"/>
              <a:ext cx="144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 flipH="1">
              <a:off x="6570000" y="301536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 rot="18378000">
              <a:off x="6506280" y="289440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 rot="18378000">
              <a:off x="6509880" y="295524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 rot="18378000">
              <a:off x="6477840" y="296784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 flipV="1">
              <a:off x="6396840" y="2943360"/>
              <a:ext cx="6156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 flipV="1">
              <a:off x="6513120" y="2982600"/>
              <a:ext cx="396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 flipV="1">
              <a:off x="6533280" y="2985480"/>
              <a:ext cx="288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 flipV="1">
              <a:off x="6554160" y="2988360"/>
              <a:ext cx="288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 rot="18378000">
              <a:off x="6593400" y="274104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 rot="18378000">
              <a:off x="6527880" y="269280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 rot="18378000">
              <a:off x="6503400" y="276912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573600" y="2747880"/>
              <a:ext cx="2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 rot="18378000">
              <a:off x="6614640" y="30038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 rot="18378000">
              <a:off x="6285240" y="281952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 rot="18378000">
              <a:off x="6316200" y="29566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 rot="18378000">
              <a:off x="6316200" y="295668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 rot="18378000">
              <a:off x="6347160" y="294984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 flipH="1">
              <a:off x="6338520" y="289548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 rot="18378000">
              <a:off x="6377760" y="2892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 flipH="1">
              <a:off x="6327720" y="286200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H="1">
              <a:off x="6316920" y="2830680"/>
              <a:ext cx="3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 rot="18378000">
              <a:off x="6342480" y="277416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 rot="18378000">
              <a:off x="6335280" y="282672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 rot="18378000">
              <a:off x="6379560" y="289548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 flipV="1">
              <a:off x="6361920" y="2917800"/>
              <a:ext cx="61920" cy="83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V="1">
              <a:off x="6361560" y="2873880"/>
              <a:ext cx="7560" cy="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 flipV="1">
              <a:off x="6352560" y="2855880"/>
              <a:ext cx="72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V="1">
              <a:off x="6343920" y="2837160"/>
              <a:ext cx="75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rot="18378000">
              <a:off x="6308640" y="277920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 rot="18378000">
              <a:off x="6385680" y="296172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 rot="18378000">
              <a:off x="6419520" y="298656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 rot="18378000">
              <a:off x="6304680" y="306972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rot="18378000">
              <a:off x="6335640" y="309276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 rot="18378000">
              <a:off x="6500160" y="280728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 rot="18378000">
              <a:off x="6528240" y="282708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 rot="18378000">
              <a:off x="6287040" y="310140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6292800" y="3106440"/>
              <a:ext cx="39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V="1">
              <a:off x="6290280" y="3115800"/>
              <a:ext cx="504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6" name=""/>
            <p:cNvSpPr/>
            <p:nvPr/>
          </p:nvSpPr>
          <p:spPr>
            <a:xfrm flipV="1">
              <a:off x="6293880" y="3125880"/>
              <a:ext cx="360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V="1">
              <a:off x="6307560" y="3125160"/>
              <a:ext cx="36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 flipH="1" flipV="1">
              <a:off x="6314400" y="3121560"/>
              <a:ext cx="324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rot="18378000">
              <a:off x="6420600" y="30330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 rot="18378000">
              <a:off x="6420600" y="30330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1" name=""/>
          <p:cNvGrpSpPr/>
          <p:nvPr/>
        </p:nvGrpSpPr>
        <p:grpSpPr>
          <a:xfrm>
            <a:off x="6208560" y="2259000"/>
            <a:ext cx="460800" cy="587880"/>
            <a:chOff x="6208560" y="2259000"/>
            <a:chExt cx="460800" cy="587880"/>
          </a:xfrm>
        </p:grpSpPr>
        <p:sp>
          <p:nvSpPr>
            <p:cNvPr id="5582" name=""/>
            <p:cNvSpPr/>
            <p:nvPr/>
          </p:nvSpPr>
          <p:spPr>
            <a:xfrm rot="16759800">
              <a:off x="6359760" y="25909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 rot="16759800">
              <a:off x="6359760" y="259092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16759800">
              <a:off x="6486480" y="26125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 rot="16759800">
              <a:off x="6486480" y="261252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 rot="16759800">
              <a:off x="6489360" y="25516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 rot="16759800">
              <a:off x="6489360" y="255168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 rot="16759800">
              <a:off x="6526440" y="2548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 rot="16759800">
              <a:off x="6526440" y="25484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 rot="16759800">
              <a:off x="6569280" y="25376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 rot="16759800">
              <a:off x="6569280" y="253764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 rot="16759800">
              <a:off x="6382080" y="25340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 rot="16759800">
              <a:off x="6382080" y="25340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 rot="16759800">
              <a:off x="6345720" y="2518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 rot="16759800">
              <a:off x="6345720" y="2518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 rot="16759800">
              <a:off x="6308280" y="24948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 rot="16759800">
              <a:off x="6308280" y="249480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 rot="16759800">
              <a:off x="6458760" y="26402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 rot="16759800">
              <a:off x="6458760" y="264024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 rot="16759800">
              <a:off x="6472800" y="23162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 rot="16759800">
              <a:off x="6472800" y="231624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 rot="16759800">
              <a:off x="6396120" y="23036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 rot="16759800">
              <a:off x="6396120" y="230364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 rot="16759800">
              <a:off x="6333120" y="2619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 rot="16759800">
              <a:off x="6333120" y="261972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 rot="16759800">
              <a:off x="6172200" y="23630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 rot="16759800">
              <a:off x="6172200" y="2363040"/>
              <a:ext cx="533520" cy="3794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 rot="16759800">
              <a:off x="6512760" y="253476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 rot="16759800">
              <a:off x="6453360" y="261360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6533280" y="2594880"/>
              <a:ext cx="72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 rot="16759800">
              <a:off x="6503400" y="256392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6564960" y="2579400"/>
              <a:ext cx="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6594480" y="2565360"/>
              <a:ext cx="3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 rot="16759800">
              <a:off x="6514200" y="2466000"/>
              <a:ext cx="56880" cy="15984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 rot="16759800">
              <a:off x="6525360" y="252612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 rot="16759800">
              <a:off x="6492960" y="256248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 flipV="1">
              <a:off x="6444000" y="2552760"/>
              <a:ext cx="16920" cy="102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 flipH="1" flipV="1">
              <a:off x="6530760" y="2561040"/>
              <a:ext cx="36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 flipH="1" flipV="1">
              <a:off x="6549120" y="2554920"/>
              <a:ext cx="108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 flipH="1" flipV="1">
              <a:off x="6568920" y="2547720"/>
              <a:ext cx="144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 rot="16759800">
              <a:off x="6500880" y="2301120"/>
              <a:ext cx="30240" cy="5868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 rot="16759800">
              <a:off x="6420960" y="228744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 rot="16759800">
              <a:off x="6416640" y="235188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6474600" y="2326320"/>
              <a:ext cx="2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 rot="16759800">
              <a:off x="6627240" y="25322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 rot="16759800">
              <a:off x="6270120" y="2494800"/>
              <a:ext cx="89280" cy="10872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 rot="16759800">
              <a:off x="6338520" y="2617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 rot="16759800">
              <a:off x="6338520" y="26179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 rot="16759800">
              <a:off x="6370560" y="2599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 flipH="1">
              <a:off x="6333480" y="256248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 rot="16759800">
              <a:off x="6365160" y="25412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 flipH="1">
              <a:off x="6308640" y="253764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 flipH="1">
              <a:off x="6285240" y="251460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 rot="16759800">
              <a:off x="6314040" y="243252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 rot="16759800">
              <a:off x="6311520" y="2490840"/>
              <a:ext cx="43920" cy="687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 rot="16759800">
              <a:off x="6372720" y="2542680"/>
              <a:ext cx="8640" cy="17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 flipV="1">
              <a:off x="6401520" y="2545560"/>
              <a:ext cx="16560" cy="10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 flipV="1">
              <a:off x="6345360" y="2531160"/>
              <a:ext cx="3960" cy="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 flipV="1">
              <a:off x="6329160" y="2519280"/>
              <a:ext cx="39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 flipV="1">
              <a:off x="6312960" y="2506320"/>
              <a:ext cx="39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 rot="16759800">
              <a:off x="6252480" y="24706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 rot="16759800">
              <a:off x="6404040" y="25992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 rot="16759800">
              <a:off x="6445800" y="26060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 rot="16759800">
              <a:off x="6381360" y="273060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 rot="16759800">
              <a:off x="6419160" y="273672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 rot="16759800">
              <a:off x="6436440" y="2408400"/>
              <a:ext cx="15480" cy="46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 rot="16759800">
              <a:off x="6470640" y="241344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 rot="16759800">
              <a:off x="6386040" y="276228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6387120" y="2773080"/>
              <a:ext cx="46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 flipV="1">
              <a:off x="6390000" y="2780280"/>
              <a:ext cx="36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 flipV="1">
              <a:off x="6399360" y="2788200"/>
              <a:ext cx="108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 flipH="1" flipV="1">
              <a:off x="6409080" y="2782800"/>
              <a:ext cx="21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 flipH="1" flipV="1">
              <a:off x="6413040" y="2777040"/>
              <a:ext cx="43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 rot="16759800">
              <a:off x="6466320" y="26388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 rot="16759800">
              <a:off x="6466320" y="263880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32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30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9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7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8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1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6" name=""/>
          <p:cNvSpPr/>
          <p:nvPr/>
        </p:nvSpPr>
        <p:spPr>
          <a:xfrm>
            <a:off x="6400800" y="5029200"/>
            <a:ext cx="228600" cy="152280"/>
          </a:xfrm>
          <a:prstGeom prst="star5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5943600" y="914040"/>
            <a:ext cx="1447920" cy="19810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 flipV="1">
            <a:off x="7924680" y="5181120"/>
            <a:ext cx="304920" cy="381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 flipH="1" flipV="1">
            <a:off x="5761800" y="2692080"/>
            <a:ext cx="2213640" cy="28940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 rot="19472400">
            <a:off x="4160160" y="239004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 rot="13519200">
            <a:off x="6517440" y="1796040"/>
            <a:ext cx="605520" cy="83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7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 rot="2054400">
            <a:off x="2895120" y="1295280"/>
            <a:ext cx="1103400" cy="2524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 rot="18320400">
            <a:off x="2247840" y="2400480"/>
            <a:ext cx="9144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4" name=""/>
          <p:cNvSpPr/>
          <p:nvPr/>
        </p:nvSpPr>
        <p:spPr>
          <a:xfrm flipH="1">
            <a:off x="3751560" y="1304640"/>
            <a:ext cx="3809520" cy="3240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0" bIns="-14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5" name=""/>
          <p:cNvSpPr/>
          <p:nvPr/>
        </p:nvSpPr>
        <p:spPr>
          <a:xfrm flipH="1">
            <a:off x="2923920" y="1350000"/>
            <a:ext cx="2126160" cy="2959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6" name=""/>
          <p:cNvSpPr/>
          <p:nvPr/>
        </p:nvSpPr>
        <p:spPr>
          <a:xfrm flipH="1">
            <a:off x="4089600" y="2572200"/>
            <a:ext cx="514080" cy="1767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 flipH="1" flipV="1">
            <a:off x="6023880" y="1276200"/>
            <a:ext cx="1645920" cy="21002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8" name=""/>
          <p:cNvSpPr/>
          <p:nvPr/>
        </p:nvSpPr>
        <p:spPr>
          <a:xfrm flipV="1">
            <a:off x="6934320" y="3276360"/>
            <a:ext cx="761760" cy="10666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 rot="5406600">
            <a:off x="6172920" y="-1067400"/>
            <a:ext cx="609480" cy="2744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 flipH="1" flipV="1">
            <a:off x="6738480" y="484200"/>
            <a:ext cx="853200" cy="6825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 rot="21547200">
            <a:off x="5181120" y="151920"/>
            <a:ext cx="892440" cy="82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V="1">
            <a:off x="4104000" y="529200"/>
            <a:ext cx="1302480" cy="83628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3" name=""/>
          <p:cNvSpPr/>
          <p:nvPr/>
        </p:nvSpPr>
        <p:spPr>
          <a:xfrm flipH="1" flipV="1">
            <a:off x="5028840" y="685800"/>
            <a:ext cx="3315600" cy="4533840"/>
          </a:xfrm>
          <a:prstGeom prst="line">
            <a:avLst/>
          </a:prstGeom>
          <a:ln w="254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4" name=""/>
          <p:cNvSpPr/>
          <p:nvPr/>
        </p:nvSpPr>
        <p:spPr>
          <a:xfrm rot="21547200">
            <a:off x="7391520" y="151920"/>
            <a:ext cx="3794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5" name=""/>
          <p:cNvSpPr/>
          <p:nvPr/>
        </p:nvSpPr>
        <p:spPr>
          <a:xfrm flipH="1" flipV="1">
            <a:off x="2876760" y="4269240"/>
            <a:ext cx="1535400" cy="129996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6" name=""/>
          <p:cNvSpPr/>
          <p:nvPr/>
        </p:nvSpPr>
        <p:spPr>
          <a:xfrm flipV="1">
            <a:off x="3048120" y="685440"/>
            <a:ext cx="2819160" cy="3886200"/>
          </a:xfrm>
          <a:prstGeom prst="line">
            <a:avLst/>
          </a:prstGeom>
          <a:ln w="190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7" name=""/>
          <p:cNvSpPr/>
          <p:nvPr/>
        </p:nvSpPr>
        <p:spPr>
          <a:xfrm flipV="1">
            <a:off x="3505320" y="5257800"/>
            <a:ext cx="685800" cy="990720"/>
          </a:xfrm>
          <a:prstGeom prst="line">
            <a:avLst/>
          </a:prstGeom>
          <a:ln w="2160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8" name=""/>
          <p:cNvSpPr/>
          <p:nvPr/>
        </p:nvSpPr>
        <p:spPr>
          <a:xfrm flipH="1" flipV="1">
            <a:off x="3511440" y="6164280"/>
            <a:ext cx="29232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9" name=""/>
          <p:cNvSpPr/>
          <p:nvPr/>
        </p:nvSpPr>
        <p:spPr>
          <a:xfrm flipV="1">
            <a:off x="3809880" y="1143000"/>
            <a:ext cx="3962520" cy="5410080"/>
          </a:xfrm>
          <a:prstGeom prst="line">
            <a:avLst/>
          </a:prstGeom>
          <a:ln w="3808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0" name=""/>
          <p:cNvSpPr/>
          <p:nvPr/>
        </p:nvSpPr>
        <p:spPr>
          <a:xfrm rot="2318400">
            <a:off x="3504240" y="65527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rot="2318400">
            <a:off x="2742120" y="457164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2" name=""/>
          <p:cNvSpPr/>
          <p:nvPr/>
        </p:nvSpPr>
        <p:spPr>
          <a:xfrm rot="19251000">
            <a:off x="8230320" y="51811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3" name=""/>
          <p:cNvSpPr/>
          <p:nvPr/>
        </p:nvSpPr>
        <p:spPr>
          <a:xfrm rot="13168800">
            <a:off x="7544160" y="83556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4" name=""/>
          <p:cNvSpPr/>
          <p:nvPr/>
        </p:nvSpPr>
        <p:spPr>
          <a:xfrm rot="13168800">
            <a:off x="5943960" y="226080"/>
            <a:ext cx="6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3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5" name=""/>
          <p:cNvSpPr/>
          <p:nvPr/>
        </p:nvSpPr>
        <p:spPr>
          <a:xfrm flipV="1">
            <a:off x="5867280" y="380520"/>
            <a:ext cx="228600" cy="3049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6" name=""/>
          <p:cNvSpPr/>
          <p:nvPr/>
        </p:nvSpPr>
        <p:spPr>
          <a:xfrm>
            <a:off x="6019920" y="5181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T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7" name=""/>
          <p:cNvSpPr/>
          <p:nvPr/>
        </p:nvSpPr>
        <p:spPr>
          <a:xfrm>
            <a:off x="1752480" y="1905120"/>
            <a:ext cx="1295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8" name=""/>
          <p:cNvSpPr/>
          <p:nvPr/>
        </p:nvSpPr>
        <p:spPr>
          <a:xfrm>
            <a:off x="3733920" y="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thwest R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9" name=""/>
          <p:cNvSpPr/>
          <p:nvPr/>
        </p:nvSpPr>
        <p:spPr>
          <a:xfrm rot="8653200">
            <a:off x="4647240" y="37836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 rot="2318400">
            <a:off x="4952160" y="2514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1" name=""/>
          <p:cNvSpPr/>
          <p:nvPr/>
        </p:nvSpPr>
        <p:spPr>
          <a:xfrm rot="2318400">
            <a:off x="6933600" y="48002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2" name=""/>
          <p:cNvSpPr/>
          <p:nvPr/>
        </p:nvSpPr>
        <p:spPr>
          <a:xfrm rot="2318400">
            <a:off x="7238160" y="2895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3" name=""/>
          <p:cNvSpPr/>
          <p:nvPr/>
        </p:nvSpPr>
        <p:spPr>
          <a:xfrm rot="2318400">
            <a:off x="7085880" y="4190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4" name=""/>
          <p:cNvSpPr/>
          <p:nvPr/>
        </p:nvSpPr>
        <p:spPr>
          <a:xfrm rot="13800">
            <a:off x="63241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5" name=""/>
          <p:cNvSpPr/>
          <p:nvPr/>
        </p:nvSpPr>
        <p:spPr>
          <a:xfrm>
            <a:off x="5943600" y="25909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6" name=""/>
          <p:cNvSpPr/>
          <p:nvPr/>
        </p:nvSpPr>
        <p:spPr>
          <a:xfrm>
            <a:off x="6705720" y="1600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7" name=""/>
          <p:cNvSpPr/>
          <p:nvPr/>
        </p:nvSpPr>
        <p:spPr>
          <a:xfrm rot="13800">
            <a:off x="4495320" y="12189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8" name=""/>
          <p:cNvSpPr/>
          <p:nvPr/>
        </p:nvSpPr>
        <p:spPr>
          <a:xfrm rot="13800">
            <a:off x="3580920" y="3123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 rot="13800">
            <a:off x="4571640" y="17521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 flipH="1" flipV="1">
            <a:off x="2977560" y="3573360"/>
            <a:ext cx="292680" cy="24372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 rot="2318400">
            <a:off x="6552360" y="205704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5334120" y="60958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vidence, Rhode Island (KPV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3" name=""/>
          <p:cNvSpPr/>
          <p:nvPr/>
        </p:nvSpPr>
        <p:spPr>
          <a:xfrm flipV="1">
            <a:off x="6055560" y="431640"/>
            <a:ext cx="525600" cy="820440"/>
          </a:xfrm>
          <a:prstGeom prst="line">
            <a:avLst/>
          </a:prstGeom>
          <a:ln w="190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4" name=""/>
          <p:cNvSpPr/>
          <p:nvPr/>
        </p:nvSpPr>
        <p:spPr>
          <a:xfrm rot="21526200">
            <a:off x="6172200" y="838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5" name=""/>
          <p:cNvSpPr/>
          <p:nvPr/>
        </p:nvSpPr>
        <p:spPr>
          <a:xfrm>
            <a:off x="7086600" y="9907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6" name=""/>
          <p:cNvSpPr/>
          <p:nvPr/>
        </p:nvSpPr>
        <p:spPr>
          <a:xfrm rot="2318400">
            <a:off x="7009560" y="76176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7" name=""/>
          <p:cNvSpPr/>
          <p:nvPr/>
        </p:nvSpPr>
        <p:spPr>
          <a:xfrm>
            <a:off x="158436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8" name=""/>
          <p:cNvSpPr/>
          <p:nvPr/>
        </p:nvSpPr>
        <p:spPr>
          <a:xfrm>
            <a:off x="380880" y="83808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0" y="1522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WR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United 1448, roger, turn right K and then slight left turn onto taxiway C, hold short runway 23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0" y="11430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UAL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…is ahh…,  150 and we are on K, we are clear of the RWY, we are approaching K1 and we are on 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1" name=""/>
          <p:cNvGrpSpPr/>
          <p:nvPr/>
        </p:nvGrpSpPr>
        <p:grpSpPr>
          <a:xfrm>
            <a:off x="6242400" y="-7560"/>
            <a:ext cx="490680" cy="356400"/>
            <a:chOff x="6242400" y="-7560"/>
            <a:chExt cx="490680" cy="356400"/>
          </a:xfrm>
        </p:grpSpPr>
        <p:sp>
          <p:nvSpPr>
            <p:cNvPr id="5712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 rot="10679400">
              <a:off x="6533640" y="21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 rot="10679400">
              <a:off x="6530040" y="1054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 rot="10679400">
              <a:off x="6474240" y="1209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 rot="10679400">
              <a:off x="6463440" y="874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 rot="10679400">
              <a:off x="6446880" y="5184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 rot="10679400">
              <a:off x="6477840" y="218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 rot="10679400">
              <a:off x="6469200" y="25164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 rot="10679400">
              <a:off x="6455160" y="2883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 rot="10679400">
              <a:off x="6540840" y="1004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 rot="10679400">
              <a:off x="6258960" y="11448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 rot="10679400">
              <a:off x="6261120" y="1839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 rot="10679400">
              <a:off x="6544800" y="214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 rot="10679400">
              <a:off x="6247800" y="36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 rot="10679400">
              <a:off x="6458400" y="111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 rot="10679400">
              <a:off x="6537600" y="11556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 flipV="1">
              <a:off x="6508440" y="7848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 rot="10679400">
              <a:off x="6481800" y="1076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 flipV="1">
              <a:off x="6489360" y="53640"/>
              <a:ext cx="39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 flipV="1">
              <a:off x="6471360" y="3060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 rot="10679400">
              <a:off x="6437520" y="864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 rot="10679400">
              <a:off x="6455880" y="424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 rot="10679400">
              <a:off x="6490080" y="1080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 flipH="1">
              <a:off x="6483600" y="14796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 flipH="1">
              <a:off x="6478920" y="86400"/>
              <a:ext cx="828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 flipH="1">
              <a:off x="6469920" y="7056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 flipH="1">
              <a:off x="6460920" y="54720"/>
              <a:ext cx="7560" cy="25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 rot="10679400">
              <a:off x="6264720" y="11556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 rot="10679400">
              <a:off x="6267240" y="18756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 rot="10679400">
              <a:off x="6257880" y="175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 flipV="1">
              <a:off x="6281640" y="177120"/>
              <a:ext cx="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 rot="10679400">
              <a:off x="6428880" y="18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 rot="10679400">
              <a:off x="6465960" y="2307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 rot="10679400">
              <a:off x="6540120" y="224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 rot="10679400">
              <a:off x="6540120" y="190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514920" y="259560"/>
              <a:ext cx="3960" cy="10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 rot="10679400">
              <a:off x="6486120" y="2329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497280" y="285480"/>
              <a:ext cx="3960" cy="14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481440" y="310680"/>
              <a:ext cx="3960" cy="72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 rot="10679400">
              <a:off x="6444000" y="19080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 rot="10679400">
              <a:off x="6462360" y="2372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 rot="10679400">
              <a:off x="6494040" y="217080"/>
              <a:ext cx="7560" cy="15840"/>
            </a:xfrm>
            <a:prstGeom prst="rect">
              <a:avLst/>
            </a:pr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 flipH="1">
              <a:off x="6485040" y="186840"/>
              <a:ext cx="93600" cy="324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 flipH="1" flipV="1">
              <a:off x="6484680" y="252720"/>
              <a:ext cx="828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 flipH="1" flipV="1">
              <a:off x="6477120" y="269640"/>
              <a:ext cx="7560" cy="180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 flipH="1" flipV="1">
              <a:off x="6468840" y="285840"/>
              <a:ext cx="756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 rot="10679400">
              <a:off x="6440760" y="342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 rot="10679400">
              <a:off x="6529320" y="187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 rot="10679400">
              <a:off x="6527880" y="1497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 rot="10679400">
              <a:off x="6647760" y="1800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 rot="10679400">
              <a:off x="6646320" y="1454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 rot="10679400">
              <a:off x="6354360" y="188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 rot="10679400">
              <a:off x="6353280" y="15732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 rot="10679400">
              <a:off x="6680160" y="14832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 flipH="1" flipV="1">
              <a:off x="6690240" y="173160"/>
              <a:ext cx="36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 flipH="1" flipV="1">
              <a:off x="6696360" y="170640"/>
              <a:ext cx="4320" cy="21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 flipH="1">
              <a:off x="6702120" y="163080"/>
              <a:ext cx="5760" cy="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6696000" y="153720"/>
              <a:ext cx="3960" cy="288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689520" y="150120"/>
              <a:ext cx="0" cy="3960"/>
            </a:xfrm>
            <a:prstGeom prst="line">
              <a:avLst/>
            </a:prstGeom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 rot="10679400">
              <a:off x="6535800" y="1083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993300"/>
            </a:solidFill>
            <a:ln w="0">
              <a:solidFill>
                <a:srgbClr val="9933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6" name=""/>
          <p:cNvGrpSpPr/>
          <p:nvPr/>
        </p:nvGrpSpPr>
        <p:grpSpPr>
          <a:xfrm>
            <a:off x="4702680" y="1165680"/>
            <a:ext cx="537480" cy="585720"/>
            <a:chOff x="4702680" y="1165680"/>
            <a:chExt cx="537480" cy="585720"/>
          </a:xfrm>
        </p:grpSpPr>
        <p:sp>
          <p:nvSpPr>
            <p:cNvPr id="5787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 rot="18049800">
              <a:off x="4889880" y="146628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 rot="18049800">
              <a:off x="4988880" y="1525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 rot="18049800">
              <a:off x="5012640" y="147564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 rot="18049800">
              <a:off x="5044680" y="148536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 rot="18049800">
              <a:off x="5084280" y="149040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 rot="18049800">
              <a:off x="4929120" y="14256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18049800">
              <a:off x="4903560" y="14011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 rot="18049800">
              <a:off x="4880520" y="13690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 rot="18049800">
              <a:off x="4953600" y="154692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 rot="18049800">
              <a:off x="5064840" y="128304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 rot="18049800">
              <a:off x="5005080" y="124740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 rot="18049800">
              <a:off x="4855320" y="1488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 rot="18049800">
              <a:off x="4731480" y="128844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 rot="18049800">
              <a:off x="5017680" y="1478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 rot="18049800">
              <a:off x="4956480" y="151812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 flipH="1">
              <a:off x="5035320" y="1524960"/>
              <a:ext cx="720" cy="43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 rot="18049800">
              <a:off x="5021280" y="149076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 flipH="1">
              <a:off x="5066640" y="1522440"/>
              <a:ext cx="72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 flipH="1">
              <a:off x="5095800" y="1520280"/>
              <a:ext cx="1080" cy="39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 rot="18049800">
              <a:off x="5034960" y="14151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0" name=""/>
            <p:cNvSpPr/>
            <p:nvPr/>
          </p:nvSpPr>
          <p:spPr>
            <a:xfrm rot="18049800">
              <a:off x="5039640" y="146952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1" name=""/>
            <p:cNvSpPr/>
            <p:nvPr/>
          </p:nvSpPr>
          <p:spPr>
            <a:xfrm rot="18049800">
              <a:off x="5009760" y="148536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 flipV="1">
              <a:off x="4941720" y="14655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 flipV="1">
              <a:off x="5042520" y="1495440"/>
              <a:ext cx="2160" cy="8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 flipV="1">
              <a:off x="5060880" y="1496880"/>
              <a:ext cx="216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 flipV="1">
              <a:off x="5079240" y="1497600"/>
              <a:ext cx="1800" cy="75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 rot="18049800">
              <a:off x="5095080" y="12718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 rot="18049800">
              <a:off x="5033160" y="123444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 rot="18049800">
              <a:off x="5014800" y="130140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075640" y="1280880"/>
              <a:ext cx="1800" cy="10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 rot="18049800">
              <a:off x="5133960" y="150552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 rot="18049800">
              <a:off x="4828680" y="136620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 rot="18049800">
              <a:off x="4863600" y="14878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 rot="18049800">
              <a:off x="4892400" y="1479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 flipH="1">
              <a:off x="4878720" y="143316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 rot="18049800">
              <a:off x="4913640" y="142632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 flipH="1">
              <a:off x="4866120" y="1404360"/>
              <a:ext cx="360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 flipH="1">
              <a:off x="4854240" y="1377360"/>
              <a:ext cx="2880" cy="28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 rot="18049800">
              <a:off x="4878000" y="13215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 rot="18049800">
              <a:off x="4872240" y="137016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 rot="18049800">
              <a:off x="4916160" y="1429560"/>
              <a:ext cx="7560" cy="15840"/>
            </a:xfrm>
            <a:prstGeom prst="rect">
              <a:avLst/>
            </a:pr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 flipV="1">
              <a:off x="4908600" y="1445760"/>
              <a:ext cx="47880" cy="802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 flipV="1">
              <a:off x="4897800" y="1411560"/>
              <a:ext cx="6120" cy="57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 flipV="1">
              <a:off x="4888080" y="1395720"/>
              <a:ext cx="576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 flipV="1">
              <a:off x="4878720" y="1380240"/>
              <a:ext cx="6120" cy="54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 rot="18049800">
              <a:off x="4841640" y="13312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 rot="18049800">
              <a:off x="4926240" y="148788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 rot="18049800">
              <a:off x="4958640" y="15073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 rot="18049800">
              <a:off x="4862880" y="159120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 rot="18049800">
              <a:off x="4892400" y="160884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 rot="18049800">
              <a:off x="5015520" y="133920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 rot="18049800">
              <a:off x="5042520" y="135540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 rot="18049800">
              <a:off x="4851360" y="1620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4855680" y="1625400"/>
              <a:ext cx="3600" cy="180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 flipV="1">
              <a:off x="4853880" y="1634040"/>
              <a:ext cx="4320" cy="216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 flipV="1">
              <a:off x="4858560" y="1642680"/>
              <a:ext cx="2880" cy="504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 flipV="1">
              <a:off x="4870440" y="1641240"/>
              <a:ext cx="0" cy="468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 flipH="1" flipV="1">
              <a:off x="4875840" y="1636920"/>
              <a:ext cx="3240" cy="2520"/>
            </a:xfrm>
            <a:prstGeom prst="line">
              <a:avLst/>
            </a:prstGeom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 rot="18049800">
              <a:off x="4963320" y="15472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3366ff"/>
            </a:solidFill>
            <a:ln w="0">
              <a:solidFill>
                <a:srgbClr val="3366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1" name=""/>
          <p:cNvGrpSpPr/>
          <p:nvPr/>
        </p:nvGrpSpPr>
        <p:grpSpPr>
          <a:xfrm>
            <a:off x="2248560" y="2995200"/>
            <a:ext cx="568440" cy="585360"/>
            <a:chOff x="2248560" y="2995200"/>
            <a:chExt cx="568440" cy="585360"/>
          </a:xfrm>
        </p:grpSpPr>
        <p:sp>
          <p:nvSpPr>
            <p:cNvPr id="5862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 rot="7802400">
              <a:off x="2602440" y="32792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 rot="7802400">
              <a:off x="2514960" y="320616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 rot="7802400">
              <a:off x="2487240" y="326088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 rot="7802400">
              <a:off x="2454480" y="32454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 rot="7802400">
              <a:off x="2416680" y="32338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 rot="7802400">
              <a:off x="2561400" y="332352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 rot="7802400">
              <a:off x="2580120" y="335088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 rot="7802400">
              <a:off x="2598120" y="338652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 rot="7802400">
              <a:off x="2515320" y="317880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 rot="7802400">
              <a:off x="2346840" y="338472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 rot="7802400">
              <a:off x="2400120" y="342936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 rot="7802400">
              <a:off x="2602800" y="3252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 rot="7802400">
              <a:off x="2293200" y="3117600"/>
              <a:ext cx="47916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 rot="7802400">
              <a:off x="2418120" y="31564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 rot="7802400">
              <a:off x="2532240" y="319860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 flipV="1">
              <a:off x="2479680" y="320760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 rot="7802400">
              <a:off x="2481120" y="324684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 flipV="1">
              <a:off x="2448360" y="3205440"/>
              <a:ext cx="144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 flipV="1">
              <a:off x="2418840" y="3202920"/>
              <a:ext cx="1800" cy="39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 rot="7802400">
              <a:off x="2423520" y="317376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 rot="7802400">
              <a:off x="2432520" y="320076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 rot="7802400">
              <a:off x="2492280" y="32382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 flipH="1">
              <a:off x="2515680" y="320616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2466360" y="3231720"/>
              <a:ext cx="360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 flipH="1">
              <a:off x="2448360" y="3228120"/>
              <a:ext cx="3240" cy="72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 flipH="1">
              <a:off x="2430720" y="3224160"/>
              <a:ext cx="2880" cy="75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 rot="7802400">
              <a:off x="2357640" y="339732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rot="7802400">
              <a:off x="2413080" y="344340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 rot="7802400">
              <a:off x="2367720" y="34243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 flipH="1" flipV="1">
              <a:off x="2399760" y="3444840"/>
              <a:ext cx="144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 rot="7802400">
              <a:off x="2366280" y="32130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 rot="7802400">
              <a:off x="2586240" y="329796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 rot="7802400">
              <a:off x="2602440" y="326808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 rot="7802400">
              <a:off x="2589480" y="32464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 flipV="1">
              <a:off x="2616840" y="332496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rot="7802400">
              <a:off x="2576880" y="332748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 flipV="1">
              <a:off x="2624760" y="3355560"/>
              <a:ext cx="3600" cy="180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 flipV="1">
              <a:off x="2632320" y="3384000"/>
              <a:ext cx="360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 rot="7802400">
              <a:off x="2563200" y="32911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 rot="7802400">
              <a:off x="2581920" y="332604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7802400">
              <a:off x="2575800" y="3308400"/>
              <a:ext cx="7560" cy="1584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 flipH="1">
              <a:off x="2545560" y="3231000"/>
              <a:ext cx="60120" cy="716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 flipH="1">
              <a:off x="2592000" y="3340080"/>
              <a:ext cx="6840" cy="50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 flipH="1">
              <a:off x="2599200" y="3357720"/>
              <a:ext cx="648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 flipH="1">
              <a:off x="2605680" y="3374640"/>
              <a:ext cx="684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 rot="7802400">
              <a:off x="2626560" y="343188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 rot="7802400">
              <a:off x="2572200" y="32641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 rot="7802400">
              <a:off x="2543040" y="323964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 rot="7802400">
              <a:off x="2646000" y="31687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 rot="7802400">
              <a:off x="2619360" y="31464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 rot="7802400">
              <a:off x="2456280" y="339264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 rot="7802400">
              <a:off x="2432160" y="33724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 rot="7802400">
              <a:off x="2652120" y="311436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 flipH="1" flipV="1">
              <a:off x="2670480" y="3139200"/>
              <a:ext cx="3240" cy="216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 flipH="1">
              <a:off x="2672640" y="3131280"/>
              <a:ext cx="4320" cy="144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 flipH="1">
              <a:off x="2670840" y="3119040"/>
              <a:ext cx="360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 flipH="1">
              <a:off x="2661840" y="3119040"/>
              <a:ext cx="720" cy="432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2652840" y="3124080"/>
              <a:ext cx="2880" cy="2880"/>
            </a:xfrm>
            <a:prstGeom prst="line">
              <a:avLst/>
            </a:prstGeom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 rot="7802400">
              <a:off x="2513520" y="3193560"/>
              <a:ext cx="4176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6600"/>
            </a:solidFill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6" name=""/>
          <p:cNvGrpSpPr/>
          <p:nvPr/>
        </p:nvGrpSpPr>
        <p:grpSpPr>
          <a:xfrm>
            <a:off x="5739840" y="2760120"/>
            <a:ext cx="635760" cy="651960"/>
            <a:chOff x="5739840" y="2760120"/>
            <a:chExt cx="635760" cy="651960"/>
          </a:xfrm>
        </p:grpSpPr>
        <p:sp>
          <p:nvSpPr>
            <p:cNvPr id="5937" name=""/>
            <p:cNvSpPr/>
            <p:nvPr/>
          </p:nvSpPr>
          <p:spPr>
            <a:xfrm rot="2956800">
              <a:off x="6062040" y="299520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 rot="2956800">
              <a:off x="6062040" y="2995200"/>
              <a:ext cx="14040" cy="1404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 rot="2956800">
              <a:off x="5965200" y="307908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 rot="2956800">
              <a:off x="5965200" y="3079080"/>
              <a:ext cx="13680" cy="1260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 rot="2956800">
              <a:off x="6017400" y="31262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 rot="2956800">
              <a:off x="6017400" y="312624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 rot="2956800">
              <a:off x="5994360" y="3157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 rot="2956800">
              <a:off x="5994360" y="315756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 rot="2956800">
              <a:off x="5975280" y="31971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 rot="2956800">
              <a:off x="5975280" y="319716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 rot="2956800">
              <a:off x="6099840" y="305532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 rot="2956800">
              <a:off x="6099840" y="3055320"/>
              <a:ext cx="8640" cy="288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 rot="2956800">
              <a:off x="6132960" y="30380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 rot="2956800">
              <a:off x="6132960" y="3038040"/>
              <a:ext cx="11520" cy="324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 rot="2956800">
              <a:off x="6175800" y="30247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 rot="2956800">
              <a:off x="6175800" y="3024720"/>
              <a:ext cx="10800" cy="324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 rot="2956800">
              <a:off x="5922360" y="3048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 rot="2956800">
              <a:off x="5922360" y="304848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 rot="2956800">
              <a:off x="6129000" y="32425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 rot="2956800">
              <a:off x="6129000" y="3242520"/>
              <a:ext cx="78120" cy="6192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 rot="2956800">
              <a:off x="6187680" y="31921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 rot="2956800">
              <a:off x="6187680" y="3192120"/>
              <a:ext cx="78120" cy="6228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 rot="2956800">
              <a:off x="6019200" y="29649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 rot="2956800">
              <a:off x="6019200" y="2964960"/>
              <a:ext cx="56520" cy="2232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 rot="2956800">
              <a:off x="5790960" y="289584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 rot="2956800">
              <a:off x="5790960" y="2895840"/>
              <a:ext cx="533160" cy="37980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 rot="2956800">
              <a:off x="5909040" y="309888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 rot="2956800">
              <a:off x="5963760" y="304164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 flipH="1" flipV="1">
              <a:off x="5960520" y="3129120"/>
              <a:ext cx="43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 rot="2956800">
              <a:off x="5999760" y="313128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 flipH="1" flipV="1">
              <a:off x="5952240" y="3162960"/>
              <a:ext cx="396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 flipH="1" flipV="1">
              <a:off x="5944320" y="3195000"/>
              <a:ext cx="39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 rot="2956800">
              <a:off x="5967360" y="30906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 rot="2956800">
              <a:off x="5959800" y="312948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 rot="2956800">
              <a:off x="6001560" y="3110040"/>
              <a:ext cx="8640" cy="176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975640" y="3024360"/>
              <a:ext cx="68040" cy="7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985000" y="3145320"/>
              <a:ext cx="7560" cy="5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977800" y="3164760"/>
              <a:ext cx="75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969880" y="3184200"/>
              <a:ext cx="79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 rot="2956800">
              <a:off x="6162840" y="325836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 rot="2956800">
              <a:off x="6224400" y="3205800"/>
              <a:ext cx="30240" cy="5904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 rot="2956800">
              <a:off x="6134760" y="3236760"/>
              <a:ext cx="108360" cy="360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 flipH="1">
              <a:off x="6206400" y="3259080"/>
              <a:ext cx="1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 rot="2956800">
              <a:off x="5939280" y="324828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 rot="2956800">
              <a:off x="6095520" y="2938680"/>
              <a:ext cx="89280" cy="10908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 rot="2956800">
              <a:off x="6031440" y="29815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 rot="2956800">
              <a:off x="6031440" y="298152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 rot="2956800">
              <a:off x="6027120" y="2986920"/>
              <a:ext cx="30240" cy="342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 flipH="1" flipV="1">
              <a:off x="6114600" y="299664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 rot="2956800">
              <a:off x="6105960" y="3039840"/>
              <a:ext cx="864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 flipH="1" flipV="1">
              <a:off x="6149520" y="2993400"/>
              <a:ext cx="180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 flipH="1" flipV="1">
              <a:off x="6182640" y="2989800"/>
              <a:ext cx="21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 rot="2956800">
              <a:off x="6121800" y="2957400"/>
              <a:ext cx="56880" cy="16020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 rot="2956800">
              <a:off x="6124320" y="2988000"/>
              <a:ext cx="43920" cy="691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 rot="2956800">
              <a:off x="6094080" y="3030480"/>
              <a:ext cx="8640" cy="17640"/>
            </a:xfrm>
            <a:prstGeom prst="rect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008760" y="2995920"/>
              <a:ext cx="68040" cy="78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127200" y="3022560"/>
              <a:ext cx="4320" cy="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6147720" y="3018240"/>
              <a:ext cx="396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167880" y="3013920"/>
              <a:ext cx="3600" cy="8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 rot="2956800">
              <a:off x="6227640" y="3000240"/>
              <a:ext cx="14760" cy="108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 rot="2956800">
              <a:off x="6034320" y="303264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 rot="2956800">
              <a:off x="6002640" y="3060000"/>
              <a:ext cx="11160" cy="1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 rot="2956800">
              <a:off x="5942880" y="2930040"/>
              <a:ext cx="16560" cy="468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 rot="2956800">
              <a:off x="5913000" y="2954880"/>
              <a:ext cx="17280" cy="468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 rot="2956800">
              <a:off x="6155280" y="3178800"/>
              <a:ext cx="15480" cy="504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 rot="2956800">
              <a:off x="6129000" y="3201120"/>
              <a:ext cx="15480" cy="540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 rot="2956800">
              <a:off x="5892480" y="2894760"/>
              <a:ext cx="30600" cy="342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 flipH="1">
              <a:off x="5918760" y="2905200"/>
              <a:ext cx="3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911560" y="2900160"/>
              <a:ext cx="720" cy="5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897880" y="2900520"/>
              <a:ext cx="43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895360" y="2913840"/>
              <a:ext cx="5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 flipV="1">
              <a:off x="5898960" y="2922840"/>
              <a:ext cx="360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 rot="2956800">
              <a:off x="5933520" y="30657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 rot="2956800">
              <a:off x="5933520" y="3065760"/>
              <a:ext cx="46800" cy="468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1" name=""/>
          <p:cNvGrpSpPr/>
          <p:nvPr/>
        </p:nvGrpSpPr>
        <p:grpSpPr>
          <a:xfrm>
            <a:off x="3301920" y="5901480"/>
            <a:ext cx="581040" cy="577800"/>
            <a:chOff x="3301920" y="5901480"/>
            <a:chExt cx="581040" cy="577800"/>
          </a:xfrm>
        </p:grpSpPr>
        <p:sp>
          <p:nvSpPr>
            <p:cNvPr id="6012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 rot="13445400">
              <a:off x="3582720" y="6260040"/>
              <a:ext cx="12600" cy="1260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108" y="37"/>
                  </a:moveTo>
                  <a:lnTo>
                    <a:pt x="108" y="37"/>
                  </a:lnTo>
                  <a:lnTo>
                    <a:pt x="107" y="36"/>
                  </a:lnTo>
                  <a:lnTo>
                    <a:pt x="103" y="35"/>
                  </a:lnTo>
                  <a:lnTo>
                    <a:pt x="98" y="33"/>
                  </a:lnTo>
                  <a:lnTo>
                    <a:pt x="91" y="30"/>
                  </a:lnTo>
                  <a:lnTo>
                    <a:pt x="83" y="28"/>
                  </a:lnTo>
                  <a:lnTo>
                    <a:pt x="74" y="25"/>
                  </a:lnTo>
                  <a:lnTo>
                    <a:pt x="65" y="22"/>
                  </a:lnTo>
                  <a:lnTo>
                    <a:pt x="55" y="18"/>
                  </a:lnTo>
                  <a:lnTo>
                    <a:pt x="45" y="15"/>
                  </a:lnTo>
                  <a:lnTo>
                    <a:pt x="35" y="11"/>
                  </a:lnTo>
                  <a:lnTo>
                    <a:pt x="26" y="8"/>
                  </a:lnTo>
                  <a:lnTo>
                    <a:pt x="18" y="6"/>
                  </a:lnTo>
                  <a:lnTo>
                    <a:pt x="11" y="3"/>
                  </a:lnTo>
                  <a:lnTo>
                    <a:pt x="6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1" y="13"/>
                  </a:lnTo>
                  <a:lnTo>
                    <a:pt x="1" y="23"/>
                  </a:lnTo>
                  <a:lnTo>
                    <a:pt x="3" y="35"/>
                  </a:lnTo>
                  <a:lnTo>
                    <a:pt x="4" y="47"/>
                  </a:lnTo>
                  <a:lnTo>
                    <a:pt x="5" y="61"/>
                  </a:lnTo>
                  <a:lnTo>
                    <a:pt x="7" y="74"/>
                  </a:lnTo>
                  <a:lnTo>
                    <a:pt x="9" y="88"/>
                  </a:lnTo>
                  <a:lnTo>
                    <a:pt x="10" y="103"/>
                  </a:lnTo>
                  <a:lnTo>
                    <a:pt x="12" y="115"/>
                  </a:lnTo>
                  <a:lnTo>
                    <a:pt x="13" y="126"/>
                  </a:lnTo>
                  <a:lnTo>
                    <a:pt x="14" y="137"/>
                  </a:lnTo>
                  <a:lnTo>
                    <a:pt x="15" y="144"/>
                  </a:lnTo>
                  <a:lnTo>
                    <a:pt x="16" y="148"/>
                  </a:lnTo>
                  <a:lnTo>
                    <a:pt x="16" y="150"/>
                  </a:lnTo>
                  <a:lnTo>
                    <a:pt x="108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 rot="13445400">
              <a:off x="3662640" y="6178680"/>
              <a:ext cx="12240" cy="111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6" y="127"/>
                  </a:moveTo>
                  <a:lnTo>
                    <a:pt x="0" y="12"/>
                  </a:lnTo>
                  <a:lnTo>
                    <a:pt x="0" y="12"/>
                  </a:lnTo>
                  <a:lnTo>
                    <a:pt x="4" y="12"/>
                  </a:lnTo>
                  <a:lnTo>
                    <a:pt x="14" y="10"/>
                  </a:lnTo>
                  <a:lnTo>
                    <a:pt x="29" y="8"/>
                  </a:lnTo>
                  <a:lnTo>
                    <a:pt x="46" y="6"/>
                  </a:lnTo>
                  <a:lnTo>
                    <a:pt x="63" y="4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2" y="5"/>
                  </a:lnTo>
                  <a:lnTo>
                    <a:pt x="93" y="10"/>
                  </a:lnTo>
                  <a:lnTo>
                    <a:pt x="94" y="17"/>
                  </a:lnTo>
                  <a:lnTo>
                    <a:pt x="95" y="24"/>
                  </a:lnTo>
                  <a:lnTo>
                    <a:pt x="96" y="34"/>
                  </a:lnTo>
                  <a:lnTo>
                    <a:pt x="98" y="44"/>
                  </a:lnTo>
                  <a:lnTo>
                    <a:pt x="99" y="53"/>
                  </a:lnTo>
                  <a:lnTo>
                    <a:pt x="100" y="62"/>
                  </a:lnTo>
                  <a:lnTo>
                    <a:pt x="102" y="71"/>
                  </a:lnTo>
                  <a:lnTo>
                    <a:pt x="103" y="80"/>
                  </a:lnTo>
                  <a:lnTo>
                    <a:pt x="104" y="87"/>
                  </a:lnTo>
                  <a:lnTo>
                    <a:pt x="105" y="94"/>
                  </a:lnTo>
                  <a:lnTo>
                    <a:pt x="106" y="99"/>
                  </a:lnTo>
                  <a:lnTo>
                    <a:pt x="106" y="102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6" y="103"/>
                  </a:lnTo>
                  <a:lnTo>
                    <a:pt x="103" y="104"/>
                  </a:lnTo>
                  <a:lnTo>
                    <a:pt x="99" y="104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2" y="106"/>
                  </a:lnTo>
                  <a:lnTo>
                    <a:pt x="75" y="108"/>
                  </a:lnTo>
                  <a:lnTo>
                    <a:pt x="66" y="109"/>
                  </a:lnTo>
                  <a:lnTo>
                    <a:pt x="58" y="111"/>
                  </a:lnTo>
                  <a:lnTo>
                    <a:pt x="50" y="113"/>
                  </a:lnTo>
                  <a:lnTo>
                    <a:pt x="41" y="116"/>
                  </a:lnTo>
                  <a:lnTo>
                    <a:pt x="33" y="119"/>
                  </a:lnTo>
                  <a:lnTo>
                    <a:pt x="24" y="122"/>
                  </a:lnTo>
                  <a:lnTo>
                    <a:pt x="17" y="126"/>
                  </a:lnTo>
                  <a:lnTo>
                    <a:pt x="10" y="130"/>
                  </a:lnTo>
                  <a:lnTo>
                    <a:pt x="3" y="134"/>
                  </a:lnTo>
                  <a:lnTo>
                    <a:pt x="6" y="12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 rot="13445400">
              <a:off x="3616920" y="614916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33"/>
                  </a:moveTo>
                  <a:lnTo>
                    <a:pt x="33" y="33"/>
                  </a:lnTo>
                  <a:lnTo>
                    <a:pt x="66" y="17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  <a:lnTo>
                    <a:pt x="22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 rot="13445400">
              <a:off x="3632400" y="611892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37"/>
                  </a:moveTo>
                  <a:lnTo>
                    <a:pt x="54" y="37"/>
                  </a:lnTo>
                  <a:lnTo>
                    <a:pt x="88" y="21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  <a:lnTo>
                    <a:pt x="17" y="3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 rot="13445400">
              <a:off x="3646800" y="6081480"/>
              <a:ext cx="9720" cy="2880"/>
            </a:xfrm>
            <a:custGeom>
              <a:avLst/>
              <a:gdLst/>
              <a:ahLst/>
              <a:rect l="l" t="t" r="r" b="b"/>
              <a:pathLst>
                <a:path w="83" h="37">
                  <a:moveTo>
                    <a:pt x="17" y="37"/>
                  </a:moveTo>
                  <a:lnTo>
                    <a:pt x="50" y="37"/>
                  </a:lnTo>
                  <a:lnTo>
                    <a:pt x="83" y="20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 rot="13445400">
              <a:off x="3549240" y="6219000"/>
              <a:ext cx="7560" cy="25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0" y="0"/>
                  </a:moveTo>
                  <a:lnTo>
                    <a:pt x="33" y="0"/>
                  </a:lnTo>
                  <a:lnTo>
                    <a:pt x="66" y="16"/>
                  </a:lnTo>
                  <a:lnTo>
                    <a:pt x="33" y="33"/>
                  </a:lnTo>
                  <a:lnTo>
                    <a:pt x="0" y="3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 rot="13445400">
              <a:off x="3518280" y="6237000"/>
              <a:ext cx="10440" cy="2880"/>
            </a:xfrm>
            <a:custGeom>
              <a:avLst/>
              <a:gdLst/>
              <a:ahLst/>
              <a:rect l="l" t="t" r="r" b="b"/>
              <a:pathLst>
                <a:path w="88" h="37">
                  <a:moveTo>
                    <a:pt x="22" y="0"/>
                  </a:moveTo>
                  <a:lnTo>
                    <a:pt x="54" y="0"/>
                  </a:lnTo>
                  <a:lnTo>
                    <a:pt x="88" y="16"/>
                  </a:lnTo>
                  <a:lnTo>
                    <a:pt x="54" y="34"/>
                  </a:lnTo>
                  <a:lnTo>
                    <a:pt x="0" y="3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 rot="13445400">
              <a:off x="3481920" y="6251760"/>
              <a:ext cx="9720" cy="2880"/>
            </a:xfrm>
            <a:custGeom>
              <a:avLst/>
              <a:gdLst/>
              <a:ahLst/>
              <a:rect l="l" t="t" r="r" b="b"/>
              <a:pathLst>
                <a:path w="83" h="36">
                  <a:moveTo>
                    <a:pt x="17" y="0"/>
                  </a:moveTo>
                  <a:lnTo>
                    <a:pt x="50" y="0"/>
                  </a:lnTo>
                  <a:lnTo>
                    <a:pt x="83" y="16"/>
                  </a:lnTo>
                  <a:lnTo>
                    <a:pt x="50" y="33"/>
                  </a:lnTo>
                  <a:lnTo>
                    <a:pt x="0" y="3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 rot="13445400">
              <a:off x="3664800" y="619524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399" y="21"/>
                  </a:moveTo>
                  <a:lnTo>
                    <a:pt x="356" y="13"/>
                  </a:lnTo>
                  <a:lnTo>
                    <a:pt x="309" y="7"/>
                  </a:lnTo>
                  <a:lnTo>
                    <a:pt x="261" y="3"/>
                  </a:lnTo>
                  <a:lnTo>
                    <a:pt x="211" y="0"/>
                  </a:lnTo>
                  <a:lnTo>
                    <a:pt x="161" y="0"/>
                  </a:lnTo>
                  <a:lnTo>
                    <a:pt x="114" y="3"/>
                  </a:lnTo>
                  <a:lnTo>
                    <a:pt x="71" y="7"/>
                  </a:lnTo>
                  <a:lnTo>
                    <a:pt x="33" y="13"/>
                  </a:lnTo>
                  <a:lnTo>
                    <a:pt x="0" y="21"/>
                  </a:lnTo>
                  <a:lnTo>
                    <a:pt x="0" y="220"/>
                  </a:lnTo>
                  <a:lnTo>
                    <a:pt x="34" y="228"/>
                  </a:lnTo>
                  <a:lnTo>
                    <a:pt x="74" y="234"/>
                  </a:lnTo>
                  <a:lnTo>
                    <a:pt x="119" y="238"/>
                  </a:lnTo>
                  <a:lnTo>
                    <a:pt x="169" y="240"/>
                  </a:lnTo>
                  <a:lnTo>
                    <a:pt x="223" y="240"/>
                  </a:lnTo>
                  <a:lnTo>
                    <a:pt x="277" y="238"/>
                  </a:lnTo>
                  <a:lnTo>
                    <a:pt x="331" y="234"/>
                  </a:lnTo>
                  <a:lnTo>
                    <a:pt x="384" y="228"/>
                  </a:lnTo>
                  <a:lnTo>
                    <a:pt x="432" y="220"/>
                  </a:lnTo>
                  <a:lnTo>
                    <a:pt x="432" y="154"/>
                  </a:lnTo>
                  <a:lnTo>
                    <a:pt x="432" y="28"/>
                  </a:lnTo>
                  <a:lnTo>
                    <a:pt x="399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 rot="13445400">
              <a:off x="3443040" y="6003360"/>
              <a:ext cx="70200" cy="55440"/>
            </a:xfrm>
            <a:custGeom>
              <a:avLst/>
              <a:gdLst/>
              <a:ahLst/>
              <a:rect l="l" t="t" r="r" b="b"/>
              <a:pathLst>
                <a:path w="597" h="663">
                  <a:moveTo>
                    <a:pt x="0" y="82"/>
                  </a:moveTo>
                  <a:lnTo>
                    <a:pt x="15" y="83"/>
                  </a:lnTo>
                  <a:lnTo>
                    <a:pt x="30" y="85"/>
                  </a:lnTo>
                  <a:lnTo>
                    <a:pt x="46" y="89"/>
                  </a:lnTo>
                  <a:lnTo>
                    <a:pt x="60" y="94"/>
                  </a:lnTo>
                  <a:lnTo>
                    <a:pt x="75" y="100"/>
                  </a:lnTo>
                  <a:lnTo>
                    <a:pt x="89" y="107"/>
                  </a:lnTo>
                  <a:lnTo>
                    <a:pt x="100" y="115"/>
                  </a:lnTo>
                  <a:lnTo>
                    <a:pt x="110" y="123"/>
                  </a:lnTo>
                  <a:lnTo>
                    <a:pt x="116" y="132"/>
                  </a:lnTo>
                  <a:lnTo>
                    <a:pt x="415" y="613"/>
                  </a:lnTo>
                  <a:lnTo>
                    <a:pt x="421" y="622"/>
                  </a:lnTo>
                  <a:lnTo>
                    <a:pt x="430" y="630"/>
                  </a:lnTo>
                  <a:lnTo>
                    <a:pt x="441" y="638"/>
                  </a:lnTo>
                  <a:lnTo>
                    <a:pt x="452" y="645"/>
                  </a:lnTo>
                  <a:lnTo>
                    <a:pt x="464" y="651"/>
                  </a:lnTo>
                  <a:lnTo>
                    <a:pt x="477" y="656"/>
                  </a:lnTo>
                  <a:lnTo>
                    <a:pt x="490" y="660"/>
                  </a:lnTo>
                  <a:lnTo>
                    <a:pt x="502" y="662"/>
                  </a:lnTo>
                  <a:lnTo>
                    <a:pt x="514" y="663"/>
                  </a:lnTo>
                  <a:lnTo>
                    <a:pt x="597" y="663"/>
                  </a:lnTo>
                  <a:lnTo>
                    <a:pt x="44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 rot="13445400">
              <a:off x="3394440" y="6053040"/>
              <a:ext cx="70200" cy="55800"/>
            </a:xfrm>
            <a:custGeom>
              <a:avLst/>
              <a:gdLst/>
              <a:ahLst/>
              <a:rect l="l" t="t" r="r" b="b"/>
              <a:pathLst>
                <a:path w="597" h="664">
                  <a:moveTo>
                    <a:pt x="0" y="580"/>
                  </a:moveTo>
                  <a:lnTo>
                    <a:pt x="15" y="579"/>
                  </a:lnTo>
                  <a:lnTo>
                    <a:pt x="30" y="577"/>
                  </a:lnTo>
                  <a:lnTo>
                    <a:pt x="46" y="573"/>
                  </a:lnTo>
                  <a:lnTo>
                    <a:pt x="60" y="569"/>
                  </a:lnTo>
                  <a:lnTo>
                    <a:pt x="75" y="562"/>
                  </a:lnTo>
                  <a:lnTo>
                    <a:pt x="89" y="555"/>
                  </a:lnTo>
                  <a:lnTo>
                    <a:pt x="100" y="547"/>
                  </a:lnTo>
                  <a:lnTo>
                    <a:pt x="110" y="539"/>
                  </a:lnTo>
                  <a:lnTo>
                    <a:pt x="116" y="531"/>
                  </a:lnTo>
                  <a:lnTo>
                    <a:pt x="415" y="49"/>
                  </a:lnTo>
                  <a:lnTo>
                    <a:pt x="421" y="40"/>
                  </a:lnTo>
                  <a:lnTo>
                    <a:pt x="430" y="32"/>
                  </a:lnTo>
                  <a:lnTo>
                    <a:pt x="441" y="24"/>
                  </a:lnTo>
                  <a:lnTo>
                    <a:pt x="452" y="17"/>
                  </a:lnTo>
                  <a:lnTo>
                    <a:pt x="464" y="11"/>
                  </a:lnTo>
                  <a:lnTo>
                    <a:pt x="477" y="6"/>
                  </a:lnTo>
                  <a:lnTo>
                    <a:pt x="490" y="3"/>
                  </a:lnTo>
                  <a:lnTo>
                    <a:pt x="502" y="0"/>
                  </a:lnTo>
                  <a:lnTo>
                    <a:pt x="514" y="0"/>
                  </a:lnTo>
                  <a:lnTo>
                    <a:pt x="597" y="0"/>
                  </a:lnTo>
                  <a:lnTo>
                    <a:pt x="449" y="664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 rot="13445400">
              <a:off x="3585240" y="6277680"/>
              <a:ext cx="50760" cy="20160"/>
            </a:xfrm>
            <a:custGeom>
              <a:avLst/>
              <a:gdLst/>
              <a:ahLst/>
              <a:rect l="l" t="t" r="r" b="b"/>
              <a:pathLst>
                <a:path w="432" h="240">
                  <a:moveTo>
                    <a:pt x="422" y="216"/>
                  </a:moveTo>
                  <a:lnTo>
                    <a:pt x="356" y="228"/>
                  </a:lnTo>
                  <a:lnTo>
                    <a:pt x="309" y="234"/>
                  </a:lnTo>
                  <a:lnTo>
                    <a:pt x="261" y="238"/>
                  </a:lnTo>
                  <a:lnTo>
                    <a:pt x="211" y="240"/>
                  </a:lnTo>
                  <a:lnTo>
                    <a:pt x="161" y="240"/>
                  </a:lnTo>
                  <a:lnTo>
                    <a:pt x="114" y="238"/>
                  </a:lnTo>
                  <a:lnTo>
                    <a:pt x="71" y="234"/>
                  </a:lnTo>
                  <a:lnTo>
                    <a:pt x="33" y="228"/>
                  </a:lnTo>
                  <a:lnTo>
                    <a:pt x="0" y="219"/>
                  </a:lnTo>
                  <a:lnTo>
                    <a:pt x="0" y="21"/>
                  </a:lnTo>
                  <a:lnTo>
                    <a:pt x="34" y="12"/>
                  </a:lnTo>
                  <a:lnTo>
                    <a:pt x="74" y="6"/>
                  </a:lnTo>
                  <a:lnTo>
                    <a:pt x="119" y="2"/>
                  </a:lnTo>
                  <a:lnTo>
                    <a:pt x="169" y="0"/>
                  </a:lnTo>
                  <a:lnTo>
                    <a:pt x="223" y="0"/>
                  </a:lnTo>
                  <a:lnTo>
                    <a:pt x="277" y="2"/>
                  </a:lnTo>
                  <a:lnTo>
                    <a:pt x="331" y="6"/>
                  </a:lnTo>
                  <a:lnTo>
                    <a:pt x="384" y="12"/>
                  </a:lnTo>
                  <a:lnTo>
                    <a:pt x="432" y="21"/>
                  </a:lnTo>
                  <a:lnTo>
                    <a:pt x="432" y="88"/>
                  </a:lnTo>
                  <a:lnTo>
                    <a:pt x="422" y="216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  <a:lnTo>
                    <a:pt x="999" y="2257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 rot="13445400">
              <a:off x="3352320" y="6020280"/>
              <a:ext cx="479520" cy="339840"/>
            </a:xfrm>
            <a:custGeom>
              <a:avLst/>
              <a:gdLst/>
              <a:ahLst/>
              <a:rect l="l" t="t" r="r" b="b"/>
              <a:pathLst>
                <a:path w="4065" h="4050">
                  <a:moveTo>
                    <a:pt x="999" y="2257"/>
                  </a:moveTo>
                  <a:lnTo>
                    <a:pt x="698" y="2257"/>
                  </a:lnTo>
                  <a:lnTo>
                    <a:pt x="637" y="2256"/>
                  </a:lnTo>
                  <a:lnTo>
                    <a:pt x="573" y="2252"/>
                  </a:lnTo>
                  <a:lnTo>
                    <a:pt x="507" y="2246"/>
                  </a:lnTo>
                  <a:lnTo>
                    <a:pt x="441" y="2238"/>
                  </a:lnTo>
                  <a:lnTo>
                    <a:pt x="377" y="2227"/>
                  </a:lnTo>
                  <a:lnTo>
                    <a:pt x="318" y="2216"/>
                  </a:lnTo>
                  <a:lnTo>
                    <a:pt x="266" y="2203"/>
                  </a:lnTo>
                  <a:lnTo>
                    <a:pt x="219" y="2189"/>
                  </a:lnTo>
                  <a:lnTo>
                    <a:pt x="183" y="2174"/>
                  </a:lnTo>
                  <a:lnTo>
                    <a:pt x="151" y="2158"/>
                  </a:lnTo>
                  <a:lnTo>
                    <a:pt x="121" y="2141"/>
                  </a:lnTo>
                  <a:lnTo>
                    <a:pt x="92" y="2124"/>
                  </a:lnTo>
                  <a:lnTo>
                    <a:pt x="65" y="2105"/>
                  </a:lnTo>
                  <a:lnTo>
                    <a:pt x="42" y="2087"/>
                  </a:lnTo>
                  <a:lnTo>
                    <a:pt x="24" y="2069"/>
                  </a:lnTo>
                  <a:lnTo>
                    <a:pt x="11" y="2053"/>
                  </a:lnTo>
                  <a:lnTo>
                    <a:pt x="3" y="2037"/>
                  </a:lnTo>
                  <a:lnTo>
                    <a:pt x="0" y="2026"/>
                  </a:lnTo>
                  <a:lnTo>
                    <a:pt x="3" y="2012"/>
                  </a:lnTo>
                  <a:lnTo>
                    <a:pt x="11" y="1997"/>
                  </a:lnTo>
                  <a:lnTo>
                    <a:pt x="24" y="1981"/>
                  </a:lnTo>
                  <a:lnTo>
                    <a:pt x="42" y="1963"/>
                  </a:lnTo>
                  <a:lnTo>
                    <a:pt x="65" y="1945"/>
                  </a:lnTo>
                  <a:lnTo>
                    <a:pt x="92" y="1927"/>
                  </a:lnTo>
                  <a:lnTo>
                    <a:pt x="121" y="1909"/>
                  </a:lnTo>
                  <a:lnTo>
                    <a:pt x="151" y="1892"/>
                  </a:lnTo>
                  <a:lnTo>
                    <a:pt x="183" y="1876"/>
                  </a:lnTo>
                  <a:lnTo>
                    <a:pt x="219" y="1861"/>
                  </a:lnTo>
                  <a:lnTo>
                    <a:pt x="266" y="1847"/>
                  </a:lnTo>
                  <a:lnTo>
                    <a:pt x="318" y="1834"/>
                  </a:lnTo>
                  <a:lnTo>
                    <a:pt x="377" y="1823"/>
                  </a:lnTo>
                  <a:lnTo>
                    <a:pt x="441" y="1812"/>
                  </a:lnTo>
                  <a:lnTo>
                    <a:pt x="507" y="1804"/>
                  </a:lnTo>
                  <a:lnTo>
                    <a:pt x="573" y="1798"/>
                  </a:lnTo>
                  <a:lnTo>
                    <a:pt x="637" y="1795"/>
                  </a:lnTo>
                  <a:lnTo>
                    <a:pt x="698" y="1793"/>
                  </a:lnTo>
                  <a:lnTo>
                    <a:pt x="999" y="1793"/>
                  </a:lnTo>
                  <a:lnTo>
                    <a:pt x="1268" y="1793"/>
                  </a:lnTo>
                  <a:lnTo>
                    <a:pt x="1283" y="1792"/>
                  </a:lnTo>
                  <a:lnTo>
                    <a:pt x="1298" y="1790"/>
                  </a:lnTo>
                  <a:lnTo>
                    <a:pt x="1314" y="1786"/>
                  </a:lnTo>
                  <a:lnTo>
                    <a:pt x="1330" y="1782"/>
                  </a:lnTo>
                  <a:lnTo>
                    <a:pt x="1344" y="1775"/>
                  </a:lnTo>
                  <a:lnTo>
                    <a:pt x="1357" y="1769"/>
                  </a:lnTo>
                  <a:lnTo>
                    <a:pt x="1369" y="1760"/>
                  </a:lnTo>
                  <a:lnTo>
                    <a:pt x="1378" y="1752"/>
                  </a:lnTo>
                  <a:lnTo>
                    <a:pt x="1384" y="1744"/>
                  </a:lnTo>
                  <a:lnTo>
                    <a:pt x="2230" y="99"/>
                  </a:lnTo>
                  <a:lnTo>
                    <a:pt x="2239" y="81"/>
                  </a:lnTo>
                  <a:lnTo>
                    <a:pt x="2250" y="63"/>
                  </a:lnTo>
                  <a:lnTo>
                    <a:pt x="2263" y="47"/>
                  </a:lnTo>
                  <a:lnTo>
                    <a:pt x="2278" y="32"/>
                  </a:lnTo>
                  <a:lnTo>
                    <a:pt x="2294" y="20"/>
                  </a:lnTo>
                  <a:lnTo>
                    <a:pt x="2310" y="11"/>
                  </a:lnTo>
                  <a:lnTo>
                    <a:pt x="2327" y="3"/>
                  </a:lnTo>
                  <a:lnTo>
                    <a:pt x="2343" y="0"/>
                  </a:lnTo>
                  <a:lnTo>
                    <a:pt x="2359" y="0"/>
                  </a:lnTo>
                  <a:lnTo>
                    <a:pt x="2460" y="3"/>
                  </a:lnTo>
                  <a:lnTo>
                    <a:pt x="2064" y="1279"/>
                  </a:lnTo>
                  <a:lnTo>
                    <a:pt x="2064" y="1793"/>
                  </a:lnTo>
                  <a:lnTo>
                    <a:pt x="2405" y="1793"/>
                  </a:lnTo>
                  <a:lnTo>
                    <a:pt x="2406" y="1793"/>
                  </a:lnTo>
                  <a:lnTo>
                    <a:pt x="2737" y="1793"/>
                  </a:lnTo>
                  <a:lnTo>
                    <a:pt x="2801" y="1794"/>
                  </a:lnTo>
                  <a:lnTo>
                    <a:pt x="2870" y="1796"/>
                  </a:lnTo>
                  <a:lnTo>
                    <a:pt x="2944" y="1801"/>
                  </a:lnTo>
                  <a:lnTo>
                    <a:pt x="3017" y="1806"/>
                  </a:lnTo>
                  <a:lnTo>
                    <a:pt x="3090" y="1813"/>
                  </a:lnTo>
                  <a:lnTo>
                    <a:pt x="3159" y="1822"/>
                  </a:lnTo>
                  <a:lnTo>
                    <a:pt x="3222" y="1831"/>
                  </a:lnTo>
                  <a:lnTo>
                    <a:pt x="3280" y="1841"/>
                  </a:lnTo>
                  <a:lnTo>
                    <a:pt x="3327" y="1851"/>
                  </a:lnTo>
                  <a:lnTo>
                    <a:pt x="3370" y="1861"/>
                  </a:lnTo>
                  <a:lnTo>
                    <a:pt x="3418" y="1873"/>
                  </a:lnTo>
                  <a:lnTo>
                    <a:pt x="3469" y="1883"/>
                  </a:lnTo>
                  <a:lnTo>
                    <a:pt x="3520" y="1893"/>
                  </a:lnTo>
                  <a:lnTo>
                    <a:pt x="3570" y="1902"/>
                  </a:lnTo>
                  <a:lnTo>
                    <a:pt x="3618" y="1910"/>
                  </a:lnTo>
                  <a:lnTo>
                    <a:pt x="3662" y="1917"/>
                  </a:lnTo>
                  <a:lnTo>
                    <a:pt x="3701" y="1923"/>
                  </a:lnTo>
                  <a:lnTo>
                    <a:pt x="3733" y="1926"/>
                  </a:lnTo>
                  <a:lnTo>
                    <a:pt x="3764" y="1930"/>
                  </a:lnTo>
                  <a:lnTo>
                    <a:pt x="3799" y="1935"/>
                  </a:lnTo>
                  <a:lnTo>
                    <a:pt x="3839" y="1941"/>
                  </a:lnTo>
                  <a:lnTo>
                    <a:pt x="3879" y="1948"/>
                  </a:lnTo>
                  <a:lnTo>
                    <a:pt x="3919" y="1957"/>
                  </a:lnTo>
                  <a:lnTo>
                    <a:pt x="3960" y="1965"/>
                  </a:lnTo>
                  <a:lnTo>
                    <a:pt x="3999" y="1974"/>
                  </a:lnTo>
                  <a:lnTo>
                    <a:pt x="4034" y="1983"/>
                  </a:lnTo>
                  <a:lnTo>
                    <a:pt x="4065" y="1992"/>
                  </a:lnTo>
                  <a:lnTo>
                    <a:pt x="4065" y="2058"/>
                  </a:lnTo>
                  <a:lnTo>
                    <a:pt x="4034" y="2067"/>
                  </a:lnTo>
                  <a:lnTo>
                    <a:pt x="3999" y="2076"/>
                  </a:lnTo>
                  <a:lnTo>
                    <a:pt x="3960" y="2085"/>
                  </a:lnTo>
                  <a:lnTo>
                    <a:pt x="3919" y="2093"/>
                  </a:lnTo>
                  <a:lnTo>
                    <a:pt x="3879" y="2102"/>
                  </a:lnTo>
                  <a:lnTo>
                    <a:pt x="3839" y="2109"/>
                  </a:lnTo>
                  <a:lnTo>
                    <a:pt x="3799" y="2115"/>
                  </a:lnTo>
                  <a:lnTo>
                    <a:pt x="3764" y="2121"/>
                  </a:lnTo>
                  <a:lnTo>
                    <a:pt x="3733" y="2124"/>
                  </a:lnTo>
                  <a:lnTo>
                    <a:pt x="3701" y="2128"/>
                  </a:lnTo>
                  <a:lnTo>
                    <a:pt x="3662" y="2133"/>
                  </a:lnTo>
                  <a:lnTo>
                    <a:pt x="3618" y="2140"/>
                  </a:lnTo>
                  <a:lnTo>
                    <a:pt x="3570" y="2148"/>
                  </a:lnTo>
                  <a:lnTo>
                    <a:pt x="3520" y="2157"/>
                  </a:lnTo>
                  <a:lnTo>
                    <a:pt x="3469" y="2167"/>
                  </a:lnTo>
                  <a:lnTo>
                    <a:pt x="3418" y="2177"/>
                  </a:lnTo>
                  <a:lnTo>
                    <a:pt x="3370" y="2189"/>
                  </a:lnTo>
                  <a:lnTo>
                    <a:pt x="3327" y="2200"/>
                  </a:lnTo>
                  <a:lnTo>
                    <a:pt x="3280" y="2210"/>
                  </a:lnTo>
                  <a:lnTo>
                    <a:pt x="3222" y="2219"/>
                  </a:lnTo>
                  <a:lnTo>
                    <a:pt x="3159" y="2228"/>
                  </a:lnTo>
                  <a:lnTo>
                    <a:pt x="3090" y="2236"/>
                  </a:lnTo>
                  <a:lnTo>
                    <a:pt x="3017" y="2244"/>
                  </a:lnTo>
                  <a:lnTo>
                    <a:pt x="2944" y="2249"/>
                  </a:lnTo>
                  <a:lnTo>
                    <a:pt x="2870" y="2254"/>
                  </a:lnTo>
                  <a:lnTo>
                    <a:pt x="2801" y="2256"/>
                  </a:lnTo>
                  <a:lnTo>
                    <a:pt x="2737" y="2257"/>
                  </a:lnTo>
                  <a:lnTo>
                    <a:pt x="2402" y="2257"/>
                  </a:lnTo>
                  <a:lnTo>
                    <a:pt x="2405" y="2257"/>
                  </a:lnTo>
                  <a:lnTo>
                    <a:pt x="999" y="2257"/>
                  </a:lnTo>
                  <a:lnTo>
                    <a:pt x="1268" y="2257"/>
                  </a:lnTo>
                  <a:lnTo>
                    <a:pt x="1283" y="2258"/>
                  </a:lnTo>
                  <a:lnTo>
                    <a:pt x="1298" y="2260"/>
                  </a:lnTo>
                  <a:lnTo>
                    <a:pt x="1314" y="2264"/>
                  </a:lnTo>
                  <a:lnTo>
                    <a:pt x="1330" y="2269"/>
                  </a:lnTo>
                  <a:lnTo>
                    <a:pt x="1344" y="2275"/>
                  </a:lnTo>
                  <a:lnTo>
                    <a:pt x="1357" y="2282"/>
                  </a:lnTo>
                  <a:lnTo>
                    <a:pt x="1369" y="2290"/>
                  </a:lnTo>
                  <a:lnTo>
                    <a:pt x="1378" y="2298"/>
                  </a:lnTo>
                  <a:lnTo>
                    <a:pt x="1384" y="2306"/>
                  </a:lnTo>
                  <a:lnTo>
                    <a:pt x="2230" y="3951"/>
                  </a:lnTo>
                  <a:lnTo>
                    <a:pt x="2239" y="3969"/>
                  </a:lnTo>
                  <a:lnTo>
                    <a:pt x="2250" y="3987"/>
                  </a:lnTo>
                  <a:lnTo>
                    <a:pt x="2263" y="4004"/>
                  </a:lnTo>
                  <a:lnTo>
                    <a:pt x="2278" y="4018"/>
                  </a:lnTo>
                  <a:lnTo>
                    <a:pt x="2294" y="4030"/>
                  </a:lnTo>
                  <a:lnTo>
                    <a:pt x="2310" y="4040"/>
                  </a:lnTo>
                  <a:lnTo>
                    <a:pt x="2327" y="4046"/>
                  </a:lnTo>
                  <a:lnTo>
                    <a:pt x="2343" y="4050"/>
                  </a:lnTo>
                  <a:lnTo>
                    <a:pt x="2359" y="4050"/>
                  </a:lnTo>
                  <a:lnTo>
                    <a:pt x="2460" y="4047"/>
                  </a:lnTo>
                  <a:lnTo>
                    <a:pt x="2064" y="2772"/>
                  </a:lnTo>
                  <a:lnTo>
                    <a:pt x="2064" y="2257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 rot="13445400">
              <a:off x="3639240" y="607284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3">
                  <a:moveTo>
                    <a:pt x="0" y="17"/>
                  </a:moveTo>
                  <a:lnTo>
                    <a:pt x="50" y="0"/>
                  </a:lnTo>
                  <a:lnTo>
                    <a:pt x="99" y="0"/>
                  </a:lnTo>
                  <a:lnTo>
                    <a:pt x="679" y="1146"/>
                  </a:lnTo>
                  <a:lnTo>
                    <a:pt x="646" y="116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 rot="13445400">
              <a:off x="3651480" y="619344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0"/>
                  </a:moveTo>
                  <a:lnTo>
                    <a:pt x="66" y="0"/>
                  </a:lnTo>
                  <a:lnTo>
                    <a:pt x="232" y="349"/>
                  </a:lnTo>
                  <a:lnTo>
                    <a:pt x="199" y="36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672000" y="614268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 rot="13445400">
              <a:off x="3632400" y="614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676320" y="6111720"/>
              <a:ext cx="3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3681000" y="6082560"/>
              <a:ext cx="3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 rot="13445400">
              <a:off x="3614400" y="603828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0"/>
                  </a:moveTo>
                  <a:lnTo>
                    <a:pt x="0" y="515"/>
                  </a:lnTo>
                  <a:lnTo>
                    <a:pt x="315" y="1361"/>
                  </a:lnTo>
                  <a:lnTo>
                    <a:pt x="331" y="1361"/>
                  </a:lnTo>
                  <a:lnTo>
                    <a:pt x="248" y="1361"/>
                  </a:lnTo>
                  <a:lnTo>
                    <a:pt x="381" y="1710"/>
                  </a:lnTo>
                  <a:lnTo>
                    <a:pt x="436" y="171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 rot="13445400">
              <a:off x="3633840" y="6083280"/>
              <a:ext cx="39600" cy="6192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711"/>
                  </a:moveTo>
                  <a:lnTo>
                    <a:pt x="272" y="738"/>
                  </a:lnTo>
                  <a:lnTo>
                    <a:pt x="0" y="29"/>
                  </a:lnTo>
                  <a:lnTo>
                    <a:pt x="73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 rot="13445400">
              <a:off x="3632040" y="6148800"/>
              <a:ext cx="7560" cy="15840"/>
            </a:xfrm>
            <a:custGeom>
              <a:avLst/>
              <a:gdLst/>
              <a:ahLst/>
              <a:rect l="l" t="t" r="r" b="b"/>
              <a:pathLst>
                <a:path w="66" h="192">
                  <a:moveTo>
                    <a:pt x="66" y="192"/>
                  </a:moveTo>
                  <a:lnTo>
                    <a:pt x="0" y="192"/>
                  </a:lnTo>
                  <a:lnTo>
                    <a:pt x="1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 flipH="1" flipV="1">
              <a:off x="3603240" y="617400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 flipH="1" flipV="1">
              <a:off x="3645360" y="6127560"/>
              <a:ext cx="7560" cy="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 flipH="1" flipV="1">
              <a:off x="3650760" y="6110280"/>
              <a:ext cx="684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 flipH="1" flipV="1">
              <a:off x="3655440" y="6092640"/>
              <a:ext cx="7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 rot="13445400">
              <a:off x="3454200" y="5993280"/>
              <a:ext cx="27000" cy="5256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0"/>
                  </a:moveTo>
                  <a:lnTo>
                    <a:pt x="0" y="33"/>
                  </a:lnTo>
                  <a:lnTo>
                    <a:pt x="232" y="63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 rot="13445400">
              <a:off x="3403800" y="6045120"/>
              <a:ext cx="27000" cy="52920"/>
            </a:xfrm>
            <a:custGeom>
              <a:avLst/>
              <a:gdLst/>
              <a:ahLst/>
              <a:rect l="l" t="t" r="r" b="b"/>
              <a:pathLst>
                <a:path w="232" h="631">
                  <a:moveTo>
                    <a:pt x="134" y="631"/>
                  </a:moveTo>
                  <a:lnTo>
                    <a:pt x="0" y="597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 rot="13445400">
              <a:off x="3413520" y="6063120"/>
              <a:ext cx="97560" cy="3240"/>
            </a:xfrm>
            <a:custGeom>
              <a:avLst/>
              <a:gdLst/>
              <a:ahLst/>
              <a:rect l="l" t="t" r="r" b="b"/>
              <a:pathLst>
                <a:path w="830" h="40">
                  <a:moveTo>
                    <a:pt x="332" y="21"/>
                  </a:moveTo>
                  <a:lnTo>
                    <a:pt x="0" y="21"/>
                  </a:lnTo>
                  <a:lnTo>
                    <a:pt x="65" y="13"/>
                  </a:lnTo>
                  <a:lnTo>
                    <a:pt x="144" y="6"/>
                  </a:lnTo>
                  <a:lnTo>
                    <a:pt x="233" y="2"/>
                  </a:lnTo>
                  <a:lnTo>
                    <a:pt x="330" y="0"/>
                  </a:lnTo>
                  <a:lnTo>
                    <a:pt x="432" y="0"/>
                  </a:lnTo>
                  <a:lnTo>
                    <a:pt x="537" y="2"/>
                  </a:lnTo>
                  <a:lnTo>
                    <a:pt x="639" y="6"/>
                  </a:lnTo>
                  <a:lnTo>
                    <a:pt x="738" y="13"/>
                  </a:lnTo>
                  <a:lnTo>
                    <a:pt x="830" y="21"/>
                  </a:lnTo>
                  <a:lnTo>
                    <a:pt x="738" y="28"/>
                  </a:lnTo>
                  <a:lnTo>
                    <a:pt x="639" y="34"/>
                  </a:lnTo>
                  <a:lnTo>
                    <a:pt x="537" y="38"/>
                  </a:lnTo>
                  <a:lnTo>
                    <a:pt x="432" y="40"/>
                  </a:lnTo>
                  <a:lnTo>
                    <a:pt x="330" y="40"/>
                  </a:lnTo>
                  <a:lnTo>
                    <a:pt x="233" y="38"/>
                  </a:lnTo>
                  <a:lnTo>
                    <a:pt x="144" y="34"/>
                  </a:lnTo>
                  <a:lnTo>
                    <a:pt x="65" y="28"/>
                  </a:lnTo>
                  <a:lnTo>
                    <a:pt x="0" y="2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 flipV="1">
              <a:off x="3443400" y="6046560"/>
              <a:ext cx="1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 rot="13445400">
              <a:off x="3670560" y="603576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5"/>
                  </a:moveTo>
                  <a:lnTo>
                    <a:pt x="65" y="12"/>
                  </a:lnTo>
                  <a:lnTo>
                    <a:pt x="109" y="9"/>
                  </a:lnTo>
                  <a:lnTo>
                    <a:pt x="114" y="3"/>
                  </a:lnTo>
                  <a:lnTo>
                    <a:pt x="110" y="0"/>
                  </a:lnTo>
                  <a:lnTo>
                    <a:pt x="91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 rot="13445400">
              <a:off x="3486240" y="6230880"/>
              <a:ext cx="80280" cy="97560"/>
            </a:xfrm>
            <a:custGeom>
              <a:avLst/>
              <a:gdLst/>
              <a:ahLst/>
              <a:rect l="l" t="t" r="r" b="b"/>
              <a:pathLst>
                <a:path w="679" h="1162">
                  <a:moveTo>
                    <a:pt x="0" y="1146"/>
                  </a:moveTo>
                  <a:lnTo>
                    <a:pt x="50" y="1162"/>
                  </a:lnTo>
                  <a:lnTo>
                    <a:pt x="99" y="1162"/>
                  </a:lnTo>
                  <a:lnTo>
                    <a:pt x="679" y="16"/>
                  </a:lnTo>
                  <a:lnTo>
                    <a:pt x="64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 rot="13445400">
              <a:off x="3582000" y="627948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0"/>
                  </a:moveTo>
                  <a:lnTo>
                    <a:pt x="49" y="1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3" y="34"/>
                  </a:lnTo>
                  <a:lnTo>
                    <a:pt x="6" y="37"/>
                  </a:lnTo>
                  <a:lnTo>
                    <a:pt x="11" y="41"/>
                  </a:lnTo>
                  <a:lnTo>
                    <a:pt x="18" y="44"/>
                  </a:lnTo>
                  <a:lnTo>
                    <a:pt x="25" y="47"/>
                  </a:lnTo>
                  <a:lnTo>
                    <a:pt x="32" y="49"/>
                  </a:lnTo>
                  <a:lnTo>
                    <a:pt x="41" y="50"/>
                  </a:lnTo>
                  <a:lnTo>
                    <a:pt x="49" y="50"/>
                  </a:lnTo>
                  <a:lnTo>
                    <a:pt x="332" y="50"/>
                  </a:lnTo>
                  <a:lnTo>
                    <a:pt x="355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 rot="13445400">
              <a:off x="3599280" y="6247080"/>
              <a:ext cx="27000" cy="30600"/>
            </a:xfrm>
            <a:custGeom>
              <a:avLst/>
              <a:gdLst/>
              <a:ahLst/>
              <a:rect l="l" t="t" r="r" b="b"/>
              <a:pathLst>
                <a:path w="232" h="365">
                  <a:moveTo>
                    <a:pt x="0" y="365"/>
                  </a:moveTo>
                  <a:lnTo>
                    <a:pt x="66" y="365"/>
                  </a:lnTo>
                  <a:lnTo>
                    <a:pt x="232" y="16"/>
                  </a:lnTo>
                  <a:lnTo>
                    <a:pt x="19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547080" y="6271560"/>
              <a:ext cx="180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 rot="13445400">
              <a:off x="3545280" y="6235200"/>
              <a:ext cx="7560" cy="360"/>
            </a:xfrm>
            <a:custGeom>
              <a:avLst/>
              <a:gdLst/>
              <a:ahLst/>
              <a:rect l="l" t="t" r="r" b="b"/>
              <a:pathLst>
                <a:path w="66" h="0">
                  <a:moveTo>
                    <a:pt x="33" y="0"/>
                  </a:moveTo>
                  <a:lnTo>
                    <a:pt x="0" y="0"/>
                  </a:lnTo>
                  <a:lnTo>
                    <a:pt x="6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3516120" y="6276960"/>
              <a:ext cx="180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486960" y="6282720"/>
              <a:ext cx="2160" cy="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 rot="13445400">
              <a:off x="3487680" y="6169320"/>
              <a:ext cx="51120" cy="143280"/>
            </a:xfrm>
            <a:custGeom>
              <a:avLst/>
              <a:gdLst/>
              <a:ahLst/>
              <a:rect l="l" t="t" r="r" b="b"/>
              <a:pathLst>
                <a:path w="436" h="1710">
                  <a:moveTo>
                    <a:pt x="0" y="1710"/>
                  </a:moveTo>
                  <a:lnTo>
                    <a:pt x="0" y="1196"/>
                  </a:lnTo>
                  <a:lnTo>
                    <a:pt x="315" y="349"/>
                  </a:lnTo>
                  <a:lnTo>
                    <a:pt x="331" y="349"/>
                  </a:lnTo>
                  <a:lnTo>
                    <a:pt x="248" y="349"/>
                  </a:lnTo>
                  <a:lnTo>
                    <a:pt x="381" y="0"/>
                  </a:lnTo>
                  <a:lnTo>
                    <a:pt x="436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 rot="13445400">
              <a:off x="3498120" y="6223320"/>
              <a:ext cx="39600" cy="61560"/>
            </a:xfrm>
            <a:custGeom>
              <a:avLst/>
              <a:gdLst/>
              <a:ahLst/>
              <a:rect l="l" t="t" r="r" b="b"/>
              <a:pathLst>
                <a:path w="337" h="738">
                  <a:moveTo>
                    <a:pt x="337" y="27"/>
                  </a:moveTo>
                  <a:lnTo>
                    <a:pt x="272" y="0"/>
                  </a:lnTo>
                  <a:lnTo>
                    <a:pt x="0" y="709"/>
                  </a:lnTo>
                  <a:lnTo>
                    <a:pt x="73" y="738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 rot="13445400">
              <a:off x="3556440" y="6227280"/>
              <a:ext cx="7560" cy="15840"/>
            </a:xfrm>
            <a:prstGeom prst="rect">
              <a:avLst/>
            </a:pr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 flipH="1" flipV="1">
              <a:off x="3576240" y="6202080"/>
              <a:ext cx="67320" cy="65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 flipH="1" flipV="1">
              <a:off x="3531240" y="6245640"/>
              <a:ext cx="432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 flipH="1" flipV="1">
              <a:off x="3513600" y="6251760"/>
              <a:ext cx="3960" cy="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 flipH="1" flipV="1">
              <a:off x="3496320" y="6256800"/>
              <a:ext cx="3600" cy="7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 rot="13445400">
              <a:off x="3433680" y="6280200"/>
              <a:ext cx="13320" cy="720"/>
            </a:xfrm>
            <a:custGeom>
              <a:avLst/>
              <a:gdLst/>
              <a:ahLst/>
              <a:rect l="l" t="t" r="r" b="b"/>
              <a:pathLst>
                <a:path w="114" h="12">
                  <a:moveTo>
                    <a:pt x="0" y="8"/>
                  </a:moveTo>
                  <a:lnTo>
                    <a:pt x="65" y="0"/>
                  </a:lnTo>
                  <a:lnTo>
                    <a:pt x="109" y="3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91" y="12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 rot="13445400">
              <a:off x="3606840" y="623592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 rot="13445400">
              <a:off x="3633120" y="6208560"/>
              <a:ext cx="10080" cy="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4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85" y="12"/>
                  </a:lnTo>
                  <a:lnTo>
                    <a:pt x="85" y="0"/>
                  </a:lnTo>
                  <a:lnTo>
                    <a:pt x="4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 rot="13445400">
              <a:off x="3692520" y="6316920"/>
              <a:ext cx="15120" cy="3960"/>
            </a:xfrm>
            <a:custGeom>
              <a:avLst/>
              <a:gdLst/>
              <a:ahLst/>
              <a:rect l="l" t="t" r="r" b="b"/>
              <a:pathLst>
                <a:path w="130" h="50">
                  <a:moveTo>
                    <a:pt x="0" y="6"/>
                  </a:moveTo>
                  <a:lnTo>
                    <a:pt x="1" y="50"/>
                  </a:lnTo>
                  <a:lnTo>
                    <a:pt x="130" y="44"/>
                  </a:lnTo>
                  <a:lnTo>
                    <a:pt x="129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 rot="13445400">
              <a:off x="3716640" y="6292800"/>
              <a:ext cx="15480" cy="3960"/>
            </a:xfrm>
            <a:custGeom>
              <a:avLst/>
              <a:gdLst/>
              <a:ahLst/>
              <a:rect l="l" t="t" r="r" b="b"/>
              <a:pathLst>
                <a:path w="132" h="53">
                  <a:moveTo>
                    <a:pt x="0" y="47"/>
                  </a:moveTo>
                  <a:lnTo>
                    <a:pt x="3" y="0"/>
                  </a:lnTo>
                  <a:lnTo>
                    <a:pt x="132" y="6"/>
                  </a:lnTo>
                  <a:lnTo>
                    <a:pt x="131" y="53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 rot="13445400">
              <a:off x="3483000" y="6111360"/>
              <a:ext cx="14040" cy="43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6" y="0"/>
                  </a:moveTo>
                  <a:lnTo>
                    <a:pt x="0" y="42"/>
                  </a:lnTo>
                  <a:lnTo>
                    <a:pt x="115" y="56"/>
                  </a:lnTo>
                  <a:lnTo>
                    <a:pt x="121" y="15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 rot="13445400">
              <a:off x="3504960" y="6088680"/>
              <a:ext cx="14040" cy="468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1" y="49"/>
                  </a:moveTo>
                  <a:lnTo>
                    <a:pt x="115" y="0"/>
                  </a:lnTo>
                  <a:lnTo>
                    <a:pt x="0" y="14"/>
                  </a:lnTo>
                  <a:lnTo>
                    <a:pt x="6" y="61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 rot="13445400">
              <a:off x="3727080" y="6319080"/>
              <a:ext cx="27360" cy="30600"/>
            </a:xfrm>
            <a:custGeom>
              <a:avLst/>
              <a:gdLst/>
              <a:ahLst/>
              <a:rect l="l" t="t" r="r" b="b"/>
              <a:pathLst>
                <a:path w="232" h="366">
                  <a:moveTo>
                    <a:pt x="232" y="0"/>
                  </a:moveTo>
                  <a:lnTo>
                    <a:pt x="149" y="17"/>
                  </a:lnTo>
                  <a:lnTo>
                    <a:pt x="66" y="68"/>
                  </a:lnTo>
                  <a:lnTo>
                    <a:pt x="0" y="184"/>
                  </a:lnTo>
                  <a:lnTo>
                    <a:pt x="66" y="299"/>
                  </a:lnTo>
                  <a:lnTo>
                    <a:pt x="149" y="349"/>
                  </a:lnTo>
                  <a:lnTo>
                    <a:pt x="232" y="366"/>
                  </a:lnTo>
                  <a:lnTo>
                    <a:pt x="232" y="332"/>
                  </a:lnTo>
                  <a:lnTo>
                    <a:pt x="149" y="299"/>
                  </a:lnTo>
                  <a:lnTo>
                    <a:pt x="100" y="266"/>
                  </a:lnTo>
                  <a:lnTo>
                    <a:pt x="50" y="184"/>
                  </a:lnTo>
                  <a:lnTo>
                    <a:pt x="100" y="101"/>
                  </a:lnTo>
                  <a:lnTo>
                    <a:pt x="149" y="68"/>
                  </a:lnTo>
                  <a:lnTo>
                    <a:pt x="199" y="51"/>
                  </a:lnTo>
                  <a:lnTo>
                    <a:pt x="232" y="34"/>
                  </a:lnTo>
                  <a:lnTo>
                    <a:pt x="232" y="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 flipV="1">
              <a:off x="3728520" y="6338160"/>
              <a:ext cx="252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 flipH="1" flipV="1">
              <a:off x="3737520" y="6341040"/>
              <a:ext cx="108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 flipH="1" flipV="1">
              <a:off x="3746520" y="6339960"/>
              <a:ext cx="4320" cy="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 flipH="1" flipV="1">
              <a:off x="3747240" y="6330960"/>
              <a:ext cx="468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 flipH="1">
              <a:off x="3744360" y="6321960"/>
              <a:ext cx="2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 rot="13445400">
              <a:off x="3662640" y="6196320"/>
              <a:ext cx="42120" cy="3960"/>
            </a:xfrm>
            <a:custGeom>
              <a:avLst/>
              <a:gdLst/>
              <a:ahLst/>
              <a:rect l="l" t="t" r="r" b="b"/>
              <a:pathLst>
                <a:path w="355" h="50">
                  <a:moveTo>
                    <a:pt x="355" y="50"/>
                  </a:moveTo>
                  <a:lnTo>
                    <a:pt x="49" y="50"/>
                  </a:lnTo>
                  <a:lnTo>
                    <a:pt x="41" y="50"/>
                  </a:lnTo>
                  <a:lnTo>
                    <a:pt x="32" y="48"/>
                  </a:lnTo>
                  <a:lnTo>
                    <a:pt x="25" y="47"/>
                  </a:lnTo>
                  <a:lnTo>
                    <a:pt x="18" y="44"/>
                  </a:lnTo>
                  <a:lnTo>
                    <a:pt x="11" y="41"/>
                  </a:lnTo>
                  <a:lnTo>
                    <a:pt x="6" y="37"/>
                  </a:lnTo>
                  <a:lnTo>
                    <a:pt x="3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11" y="9"/>
                  </a:lnTo>
                  <a:lnTo>
                    <a:pt x="18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330" y="0"/>
                  </a:lnTo>
                  <a:lnTo>
                    <a:pt x="355" y="50"/>
                  </a:lnTo>
                </a:path>
              </a:pathLst>
            </a:custGeom>
            <a:solidFill>
              <a:srgbClr val="00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6" name="" descr=""/>
          <p:cNvPicPr/>
          <p:nvPr/>
        </p:nvPicPr>
        <p:blipFill>
          <a:blip r:embed="rId1"/>
          <a:stretch/>
        </p:blipFill>
        <p:spPr>
          <a:xfrm flipH="1">
            <a:off x="0" y="4191120"/>
            <a:ext cx="1765440" cy="2666880"/>
          </a:xfrm>
          <a:prstGeom prst="rect">
            <a:avLst/>
          </a:prstGeom>
          <a:ln w="0">
            <a:noFill/>
          </a:ln>
          <a:effectLst>
            <a:outerShdw dist="91658" dir="2017659" blurRad="0" rotWithShape="0">
              <a:srgbClr val="000000"/>
            </a:outerShdw>
          </a:effectLst>
        </p:spPr>
      </p:pic>
      <p:sp>
        <p:nvSpPr>
          <p:cNvPr id="6087" name=""/>
          <p:cNvSpPr/>
          <p:nvPr/>
        </p:nvSpPr>
        <p:spPr>
          <a:xfrm>
            <a:off x="745560" y="304920"/>
            <a:ext cx="7113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ffff"/>
                </a:solidFill>
                <a:latin typeface="Arial"/>
              </a:rPr>
              <a:t>Pero…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ffff"/>
                </a:solidFill>
                <a:latin typeface="Arial"/>
              </a:rPr>
              <a:t>cómo una tripulación tan experimentad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ffff"/>
                </a:solidFill>
                <a:latin typeface="Arial"/>
              </a:rPr>
              <a:t>y con tanto entrenamiento puede ve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ffffff"/>
                </a:solidFill>
                <a:latin typeface="Arial"/>
              </a:rPr>
              <a:t>involucrada en este tipo de situació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8" name=""/>
          <p:cNvSpPr/>
          <p:nvPr/>
        </p:nvSpPr>
        <p:spPr>
          <a:xfrm>
            <a:off x="5181480" y="530208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9" name=""/>
          <p:cNvSpPr/>
          <p:nvPr/>
        </p:nvSpPr>
        <p:spPr>
          <a:xfrm>
            <a:off x="914400" y="243828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0" name=""/>
          <p:cNvSpPr/>
          <p:nvPr/>
        </p:nvSpPr>
        <p:spPr>
          <a:xfrm>
            <a:off x="2438280" y="502920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1" name=""/>
          <p:cNvSpPr/>
          <p:nvPr/>
        </p:nvSpPr>
        <p:spPr>
          <a:xfrm>
            <a:off x="2438280" y="312408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2" name=""/>
          <p:cNvSpPr/>
          <p:nvPr/>
        </p:nvSpPr>
        <p:spPr>
          <a:xfrm>
            <a:off x="4191120" y="411480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3" name=""/>
          <p:cNvSpPr/>
          <p:nvPr/>
        </p:nvSpPr>
        <p:spPr>
          <a:xfrm>
            <a:off x="5791320" y="190512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4" name=""/>
          <p:cNvSpPr/>
          <p:nvPr/>
        </p:nvSpPr>
        <p:spPr>
          <a:xfrm>
            <a:off x="7467480" y="236232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5" name="" descr=""/>
          <p:cNvPicPr/>
          <p:nvPr/>
        </p:nvPicPr>
        <p:blipFill>
          <a:blip r:embed="rId2"/>
          <a:stretch/>
        </p:blipFill>
        <p:spPr>
          <a:xfrm>
            <a:off x="7415280" y="4191120"/>
            <a:ext cx="1728720" cy="2666880"/>
          </a:xfrm>
          <a:prstGeom prst="rect">
            <a:avLst/>
          </a:prstGeom>
          <a:ln w="0">
            <a:noFill/>
          </a:ln>
          <a:effectLst>
            <a:outerShdw dist="91658" dir="2017659" blurRad="0" rotWithShape="0">
              <a:srgbClr val="000000"/>
            </a:outerShdw>
          </a:effectLst>
        </p:spPr>
      </p:pic>
      <p:sp>
        <p:nvSpPr>
          <p:cNvPr id="6096" name=""/>
          <p:cNvSpPr/>
          <p:nvPr/>
        </p:nvSpPr>
        <p:spPr>
          <a:xfrm>
            <a:off x="3733920" y="220968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"/>
          <p:cNvSpPr/>
          <p:nvPr/>
        </p:nvSpPr>
        <p:spPr>
          <a:xfrm>
            <a:off x="5486400" y="350532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8" name="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099" name=""/>
          <p:cNvSpPr/>
          <p:nvPr/>
        </p:nvSpPr>
        <p:spPr>
          <a:xfrm>
            <a:off x="2819520" y="0"/>
            <a:ext cx="6324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There are no such things as accid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what we call by that name is th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of some cause which we did not se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0" name=""/>
          <p:cNvSpPr/>
          <p:nvPr/>
        </p:nvSpPr>
        <p:spPr>
          <a:xfrm>
            <a:off x="3275280" y="121932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Voltai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1" name=""/>
          <p:cNvSpPr/>
          <p:nvPr/>
        </p:nvSpPr>
        <p:spPr>
          <a:xfrm>
            <a:off x="1143000" y="5181480"/>
            <a:ext cx="6781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(“No existe tal cosa como un acci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 que llamamos por ese nombre 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los efectos de causas que no hemos visto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2" name=""/>
          <p:cNvSpPr/>
          <p:nvPr/>
        </p:nvSpPr>
        <p:spPr>
          <a:xfrm>
            <a:off x="6170760" y="6340320"/>
            <a:ext cx="1015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oltai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3" name=""/>
          <p:cNvSpPr/>
          <p:nvPr/>
        </p:nvSpPr>
        <p:spPr>
          <a:xfrm>
            <a:off x="1171080" y="228600"/>
            <a:ext cx="6817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Debemos entender este concep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 u="sng">
                <a:solidFill>
                  <a:srgbClr val="ffff00"/>
                </a:solidFill>
                <a:uFillTx/>
                <a:latin typeface="Arial"/>
              </a:rPr>
              <a:t>Fallas Activas  vs. Fallas Lat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4" name=""/>
          <p:cNvSpPr/>
          <p:nvPr/>
        </p:nvSpPr>
        <p:spPr>
          <a:xfrm>
            <a:off x="-4680" y="205740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Fallas Activas: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 Cometidas por todos aquellos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uentran en contacto directo co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(pilotos, ATC, mec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ánic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 u="sng">
                <a:solidFill>
                  <a:srgbClr val="ffffff"/>
                </a:solidFill>
                <a:uFillTx/>
                <a:latin typeface="Arial"/>
              </a:rPr>
              <a:t>Fallas Latentes: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Se derivan de decisiones u om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en las esferas organizacionales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gerenciales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5" name="" descr=""/>
          <p:cNvPicPr/>
          <p:nvPr/>
        </p:nvPicPr>
        <p:blipFill>
          <a:blip r:embed="rId1"/>
          <a:stretch/>
        </p:blipFill>
        <p:spPr>
          <a:xfrm>
            <a:off x="7958160" y="1752480"/>
            <a:ext cx="1185840" cy="1600200"/>
          </a:xfrm>
          <a:prstGeom prst="rect">
            <a:avLst/>
          </a:prstGeom>
          <a:ln w="0">
            <a:noFill/>
          </a:ln>
        </p:spPr>
      </p:pic>
      <p:pic>
        <p:nvPicPr>
          <p:cNvPr id="6106" name="" descr=""/>
          <p:cNvPicPr/>
          <p:nvPr/>
        </p:nvPicPr>
        <p:blipFill>
          <a:blip r:embed="rId2"/>
          <a:stretch/>
        </p:blipFill>
        <p:spPr>
          <a:xfrm>
            <a:off x="7162920" y="5592600"/>
            <a:ext cx="1981080" cy="1265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8" name=""/>
          <p:cNvSpPr/>
          <p:nvPr/>
        </p:nvSpPr>
        <p:spPr>
          <a:xfrm>
            <a:off x="842040" y="228600"/>
            <a:ext cx="7296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Las “fallas activas” tienen un impacto directo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inmediato, mientras que las “fallas latent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eden permanecer durmientes por largos periodo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n ciertos casos por varios a</a:t>
            </a: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ños, antes de que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ff"/>
                </a:solidFill>
                <a:latin typeface="Arial"/>
              </a:rPr>
              <a:t>combinen c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fallas activas” y eventos “detona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usando así rupturas en las defensas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9" name=""/>
          <p:cNvSpPr/>
          <p:nvPr/>
        </p:nvSpPr>
        <p:spPr>
          <a:xfrm>
            <a:off x="4560480" y="2819520"/>
            <a:ext cx="373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eyond Aviation Human Factor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.Maurino – J.Reason – N.Johnston – R.L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0" name="" descr=""/>
          <p:cNvPicPr/>
          <p:nvPr/>
        </p:nvPicPr>
        <p:blipFill>
          <a:blip r:embed="rId1"/>
          <a:stretch/>
        </p:blipFill>
        <p:spPr>
          <a:xfrm rot="831000">
            <a:off x="3429000" y="838080"/>
            <a:ext cx="1738440" cy="1827360"/>
          </a:xfrm>
          <a:prstGeom prst="rect">
            <a:avLst/>
          </a:prstGeom>
          <a:ln w="0">
            <a:noFill/>
          </a:ln>
        </p:spPr>
      </p:pic>
      <p:sp>
        <p:nvSpPr>
          <p:cNvPr id="6111" name=""/>
          <p:cNvSpPr/>
          <p:nvPr/>
        </p:nvSpPr>
        <p:spPr>
          <a:xfrm>
            <a:off x="1536480" y="3429000"/>
            <a:ext cx="6230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 gran mayoría de fallas ac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n el resultado de fallas latente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bemos entonces “apuntar” 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las latentes del sistema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</a:t>
            </a: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í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tigar las activas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2" name=""/>
          <p:cNvSpPr/>
          <p:nvPr/>
        </p:nvSpPr>
        <p:spPr>
          <a:xfrm>
            <a:off x="2748240" y="0"/>
            <a:ext cx="336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4000" spc="-1" strike="noStrike">
                <a:solidFill>
                  <a:srgbClr val="ffff00"/>
                </a:solidFill>
                <a:latin typeface="Arial"/>
              </a:rPr>
              <a:t>Nuestra Me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3" name=""/>
          <p:cNvSpPr/>
          <p:nvPr/>
        </p:nvSpPr>
        <p:spPr>
          <a:xfrm>
            <a:off x="2971800" y="762120"/>
            <a:ext cx="3048120" cy="2133360"/>
          </a:xfrm>
          <a:prstGeom prst="ellipse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4" name=""/>
          <p:cNvSpPr/>
          <p:nvPr/>
        </p:nvSpPr>
        <p:spPr>
          <a:xfrm>
            <a:off x="733320" y="1041480"/>
            <a:ext cx="7768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importante que tanto las tripulacio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 ATC y en general todo el sistem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rendan a reconocer la magnitud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a de incursiones de p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ben entender que cierta combinaci</a:t>
            </a: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ón de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crean un entorno altamente propen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para generar erro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CR" sz="2400" spc="-1" strike="noStrike">
                <a:solidFill>
                  <a:srgbClr val="ffff00"/>
                </a:solidFill>
                <a:latin typeface="Arial"/>
              </a:rPr>
              <a:t>Behavior is a function of consequenc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5" name=""/>
          <p:cNvSpPr/>
          <p:nvPr/>
        </p:nvSpPr>
        <p:spPr>
          <a:xfrm>
            <a:off x="1983600" y="152280"/>
            <a:ext cx="51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600" spc="-1" strike="noStrike" u="sng">
                <a:solidFill>
                  <a:srgbClr val="ffff00"/>
                </a:solidFill>
                <a:uFillTx/>
                <a:latin typeface="Arial"/>
              </a:rPr>
              <a:t>Conciencia Situ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6" name=""/>
          <p:cNvGraphicFramePr/>
          <p:nvPr/>
        </p:nvGraphicFramePr>
        <p:xfrm>
          <a:off x="228600" y="1143000"/>
          <a:ext cx="8915400" cy="485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8915400" cy="48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8" name=""/>
          <p:cNvSpPr/>
          <p:nvPr/>
        </p:nvSpPr>
        <p:spPr>
          <a:xfrm>
            <a:off x="0" y="1981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9" name="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0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1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2" name=""/>
          <p:cNvSpPr/>
          <p:nvPr/>
        </p:nvSpPr>
        <p:spPr>
          <a:xfrm>
            <a:off x="0" y="4419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3" name=""/>
          <p:cNvSpPr/>
          <p:nvPr/>
        </p:nvSpPr>
        <p:spPr>
          <a:xfrm>
            <a:off x="0" y="49528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4" name=""/>
          <p:cNvSpPr/>
          <p:nvPr/>
        </p:nvSpPr>
        <p:spPr>
          <a:xfrm>
            <a:off x="0" y="54864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5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6" name=""/>
          <p:cNvSpPr/>
          <p:nvPr/>
        </p:nvSpPr>
        <p:spPr>
          <a:xfrm>
            <a:off x="0" y="24382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7" name=""/>
          <p:cNvSpPr/>
          <p:nvPr/>
        </p:nvSpPr>
        <p:spPr>
          <a:xfrm flipV="1">
            <a:off x="3657600" y="990360"/>
            <a:ext cx="0" cy="51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8" name=""/>
          <p:cNvSpPr/>
          <p:nvPr/>
        </p:nvSpPr>
        <p:spPr>
          <a:xfrm flipV="1">
            <a:off x="5410080" y="990360"/>
            <a:ext cx="0" cy="51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 flipV="1">
            <a:off x="6553080" y="990360"/>
            <a:ext cx="0" cy="51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0" name=""/>
          <p:cNvSpPr/>
          <p:nvPr/>
        </p:nvSpPr>
        <p:spPr>
          <a:xfrm flipV="1">
            <a:off x="8001000" y="990360"/>
            <a:ext cx="0" cy="51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1" name=""/>
          <p:cNvSpPr/>
          <p:nvPr/>
        </p:nvSpPr>
        <p:spPr>
          <a:xfrm flipV="1">
            <a:off x="9129600" y="990360"/>
            <a:ext cx="0" cy="51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2" name=""/>
          <p:cNvSpPr/>
          <p:nvPr/>
        </p:nvSpPr>
        <p:spPr>
          <a:xfrm flipV="1">
            <a:off x="2590920" y="990360"/>
            <a:ext cx="0" cy="51051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3" name=""/>
          <p:cNvSpPr/>
          <p:nvPr/>
        </p:nvSpPr>
        <p:spPr>
          <a:xfrm>
            <a:off x="2590920" y="9907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4" name=""/>
          <p:cNvSpPr/>
          <p:nvPr/>
        </p:nvSpPr>
        <p:spPr>
          <a:xfrm flipH="1" flipV="1">
            <a:off x="0" y="1981080"/>
            <a:ext cx="7920" cy="4114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5" name=""/>
          <p:cNvSpPr/>
          <p:nvPr/>
        </p:nvSpPr>
        <p:spPr>
          <a:xfrm>
            <a:off x="1259640" y="15228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 Black"/>
              </a:rPr>
              <a:t>Cuadro Comparativo – Incursiones de P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95880" y="2514600"/>
            <a:ext cx="2719440" cy="41148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</p:pic>
      <p:sp>
        <p:nvSpPr>
          <p:cNvPr id="57" name=""/>
          <p:cNvSpPr/>
          <p:nvPr/>
        </p:nvSpPr>
        <p:spPr>
          <a:xfrm>
            <a:off x="533520" y="533520"/>
            <a:ext cx="5181480" cy="1981080"/>
          </a:xfrm>
          <a:prstGeom prst="wedgeRoundRectCallout">
            <a:avLst>
              <a:gd name="adj1" fmla="val 61916"/>
              <a:gd name="adj2" fmla="val 91347"/>
              <a:gd name="adj3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6640" y="115416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40240" y="838080"/>
            <a:ext cx="473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Por qué hasta ahora esta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escuchando de este problem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algo nuevo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0948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Arial Black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6" name=""/>
          <p:cNvGraphicFramePr/>
          <p:nvPr/>
        </p:nvGraphicFramePr>
        <p:xfrm>
          <a:off x="1295280" y="4114800"/>
          <a:ext cx="2381400" cy="16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114800"/>
                    <a:ext cx="2381400" cy="16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8" name=""/>
          <p:cNvSpPr/>
          <p:nvPr/>
        </p:nvSpPr>
        <p:spPr>
          <a:xfrm>
            <a:off x="4495680" y="1371600"/>
            <a:ext cx="4648320" cy="3809880"/>
          </a:xfrm>
          <a:prstGeom prst="cloudCallout">
            <a:avLst>
              <a:gd name="adj1" fmla="val -80125"/>
              <a:gd name="adj2" fmla="val 35000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9" name=""/>
          <p:cNvGraphicFramePr/>
          <p:nvPr/>
        </p:nvGraphicFramePr>
        <p:xfrm>
          <a:off x="1143000" y="6019920"/>
          <a:ext cx="272412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6019920"/>
                    <a:ext cx="27241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41" name=""/>
          <p:cNvSpPr/>
          <p:nvPr/>
        </p:nvSpPr>
        <p:spPr>
          <a:xfrm>
            <a:off x="457200" y="1600200"/>
            <a:ext cx="311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mí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UN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 va a ocurrir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ursion de Pist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2" name="" descr=""/>
          <p:cNvPicPr/>
          <p:nvPr/>
        </p:nvPicPr>
        <p:blipFill>
          <a:blip r:embed="rId5"/>
          <a:stretch/>
        </p:blipFill>
        <p:spPr>
          <a:xfrm>
            <a:off x="5105520" y="2133720"/>
            <a:ext cx="3124080" cy="2265120"/>
          </a:xfrm>
          <a:prstGeom prst="rect">
            <a:avLst/>
          </a:prstGeom>
          <a:ln w="0">
            <a:noFill/>
          </a:ln>
        </p:spPr>
      </p:pic>
      <p:sp>
        <p:nvSpPr>
          <p:cNvPr id="6143" name=""/>
          <p:cNvSpPr/>
          <p:nvPr/>
        </p:nvSpPr>
        <p:spPr>
          <a:xfrm>
            <a:off x="380880" y="1371600"/>
            <a:ext cx="3353040" cy="1676520"/>
          </a:xfrm>
          <a:prstGeom prst="wedgeRoundRectCallout">
            <a:avLst>
              <a:gd name="adj1" fmla="val 8712"/>
              <a:gd name="adj2" fmla="val 106060"/>
              <a:gd name="adj3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4" name=""/>
          <p:cNvSpPr/>
          <p:nvPr/>
        </p:nvSpPr>
        <p:spPr>
          <a:xfrm>
            <a:off x="1143000" y="0"/>
            <a:ext cx="723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 u="sng">
                <a:solidFill>
                  <a:srgbClr val="ffff00"/>
                </a:solidFill>
                <a:uFillTx/>
                <a:latin typeface="Arial"/>
              </a:rPr>
              <a:t>PERCEPCION DEL PROBLEM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ffff00"/>
                </a:solidFill>
                <a:latin typeface="Arial"/>
              </a:rPr>
              <a:t>(por parte de las tripulac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5" name=""/>
          <p:cNvSpPr/>
          <p:nvPr/>
        </p:nvSpPr>
        <p:spPr>
          <a:xfrm>
            <a:off x="838080" y="2399040"/>
            <a:ext cx="7543800" cy="2043720"/>
          </a:xfrm>
          <a:prstGeom prst="rect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FINISHED FILES ARE THE RE-SULT OF YEARS OF SCIENTIF- IC STUDY COMBINED WITH THE  EXPERIENCE OF MANY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6" name=""/>
          <p:cNvSpPr/>
          <p:nvPr/>
        </p:nvSpPr>
        <p:spPr>
          <a:xfrm>
            <a:off x="7041600" y="6324480"/>
            <a:ext cx="174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ffff00"/>
                </a:solidFill>
                <a:latin typeface="Arial Black"/>
              </a:rPr>
              <a:t>COUNT THE “F’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7" name=""/>
          <p:cNvSpPr/>
          <p:nvPr/>
        </p:nvSpPr>
        <p:spPr>
          <a:xfrm>
            <a:off x="2286000" y="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>
                <a:solidFill>
                  <a:srgbClr val="ffffff"/>
                </a:solidFill>
                <a:latin typeface="Arial"/>
              </a:rPr>
              <a:t>PERCEPC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2800" spc="-1" strike="noStrike">
                <a:solidFill>
                  <a:srgbClr val="ffffff"/>
                </a:solidFill>
                <a:latin typeface="Arial"/>
              </a:rPr>
              <a:t>(Conciente y subconcie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6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6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6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8" name=""/>
          <p:cNvSpPr/>
          <p:nvPr/>
        </p:nvSpPr>
        <p:spPr>
          <a:xfrm>
            <a:off x="1384200" y="2666880"/>
            <a:ext cx="6159600" cy="2667240"/>
          </a:xfrm>
          <a:custGeom>
            <a:avLst/>
            <a:gdLst/>
            <a:ahLst/>
            <a:rect l="l" t="t" r="r" b="b"/>
            <a:pathLst>
              <a:path w="7140" h="4200">
                <a:moveTo>
                  <a:pt x="0" y="4020"/>
                </a:moveTo>
                <a:cubicBezTo>
                  <a:pt x="60" y="3870"/>
                  <a:pt x="120" y="3720"/>
                  <a:pt x="360" y="3660"/>
                </a:cubicBezTo>
                <a:cubicBezTo>
                  <a:pt x="600" y="3600"/>
                  <a:pt x="1080" y="4020"/>
                  <a:pt x="1440" y="3660"/>
                </a:cubicBezTo>
                <a:cubicBezTo>
                  <a:pt x="1800" y="3300"/>
                  <a:pt x="2220" y="1620"/>
                  <a:pt x="2520" y="1500"/>
                </a:cubicBezTo>
                <a:cubicBezTo>
                  <a:pt x="2820" y="1380"/>
                  <a:pt x="2850" y="2670"/>
                  <a:pt x="3240" y="2940"/>
                </a:cubicBezTo>
                <a:cubicBezTo>
                  <a:pt x="3630" y="3210"/>
                  <a:pt x="4410" y="3240"/>
                  <a:pt x="4860" y="3120"/>
                </a:cubicBezTo>
                <a:cubicBezTo>
                  <a:pt x="5310" y="3000"/>
                  <a:pt x="5700" y="2700"/>
                  <a:pt x="5940" y="2220"/>
                </a:cubicBezTo>
                <a:cubicBezTo>
                  <a:pt x="6180" y="1740"/>
                  <a:pt x="6120" y="0"/>
                  <a:pt x="6300" y="240"/>
                </a:cubicBezTo>
                <a:cubicBezTo>
                  <a:pt x="6480" y="480"/>
                  <a:pt x="6900" y="3120"/>
                  <a:pt x="7020" y="3660"/>
                </a:cubicBezTo>
                <a:cubicBezTo>
                  <a:pt x="7140" y="4200"/>
                  <a:pt x="6900" y="3540"/>
                  <a:pt x="7020" y="348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9" name=""/>
          <p:cNvSpPr/>
          <p:nvPr/>
        </p:nvSpPr>
        <p:spPr>
          <a:xfrm flipV="1">
            <a:off x="1371600" y="837720"/>
            <a:ext cx="0" cy="44197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0" name=""/>
          <p:cNvSpPr/>
          <p:nvPr/>
        </p:nvSpPr>
        <p:spPr>
          <a:xfrm>
            <a:off x="1371600" y="5257800"/>
            <a:ext cx="624852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1" name=""/>
          <p:cNvSpPr/>
          <p:nvPr/>
        </p:nvSpPr>
        <p:spPr>
          <a:xfrm>
            <a:off x="1828800" y="49528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2" name=""/>
          <p:cNvSpPr/>
          <p:nvPr/>
        </p:nvSpPr>
        <p:spPr>
          <a:xfrm>
            <a:off x="6781680" y="2895480"/>
            <a:ext cx="0" cy="297180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3" name=""/>
          <p:cNvSpPr/>
          <p:nvPr/>
        </p:nvSpPr>
        <p:spPr>
          <a:xfrm>
            <a:off x="3352680" y="3886200"/>
            <a:ext cx="0" cy="19051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4" name=""/>
          <p:cNvSpPr/>
          <p:nvPr/>
        </p:nvSpPr>
        <p:spPr>
          <a:xfrm>
            <a:off x="5181480" y="4724280"/>
            <a:ext cx="0" cy="990720"/>
          </a:xfrm>
          <a:prstGeom prst="line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5" name=""/>
          <p:cNvSpPr/>
          <p:nvPr/>
        </p:nvSpPr>
        <p:spPr>
          <a:xfrm>
            <a:off x="1006200" y="457200"/>
            <a:ext cx="81936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6" name=""/>
          <p:cNvSpPr/>
          <p:nvPr/>
        </p:nvSpPr>
        <p:spPr>
          <a:xfrm>
            <a:off x="1371600" y="825480"/>
            <a:ext cx="7454880" cy="1523880"/>
          </a:xfrm>
          <a:custGeom>
            <a:avLst/>
            <a:gdLst/>
            <a:ahLst/>
            <a:rect l="l" t="t" r="r" b="b"/>
            <a:pathLst>
              <a:path w="4696" h="960">
                <a:moveTo>
                  <a:pt x="0" y="56"/>
                </a:moveTo>
                <a:cubicBezTo>
                  <a:pt x="860" y="28"/>
                  <a:pt x="1720" y="0"/>
                  <a:pt x="2352" y="56"/>
                </a:cubicBezTo>
                <a:cubicBezTo>
                  <a:pt x="2984" y="112"/>
                  <a:pt x="3424" y="256"/>
                  <a:pt x="3792" y="392"/>
                </a:cubicBezTo>
                <a:cubicBezTo>
                  <a:pt x="4160" y="528"/>
                  <a:pt x="4424" y="784"/>
                  <a:pt x="4560" y="872"/>
                </a:cubicBezTo>
                <a:cubicBezTo>
                  <a:pt x="4696" y="960"/>
                  <a:pt x="4652" y="940"/>
                  <a:pt x="4608" y="92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7" name=""/>
          <p:cNvSpPr/>
          <p:nvPr/>
        </p:nvSpPr>
        <p:spPr>
          <a:xfrm>
            <a:off x="6023520" y="5867280"/>
            <a:ext cx="18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APROXIMAC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Y ATERR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8" name=""/>
          <p:cNvSpPr/>
          <p:nvPr/>
        </p:nvSpPr>
        <p:spPr>
          <a:xfrm>
            <a:off x="4649760" y="586728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CRUC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9" name=""/>
          <p:cNvSpPr/>
          <p:nvPr/>
        </p:nvSpPr>
        <p:spPr>
          <a:xfrm>
            <a:off x="2819880" y="586728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DESPE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0" name=""/>
          <p:cNvSpPr/>
          <p:nvPr/>
        </p:nvSpPr>
        <p:spPr>
          <a:xfrm>
            <a:off x="1373400" y="5867280"/>
            <a:ext cx="102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ROD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1" name=""/>
          <p:cNvSpPr/>
          <p:nvPr/>
        </p:nvSpPr>
        <p:spPr>
          <a:xfrm>
            <a:off x="5486400" y="763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PUNTO DE SATURACION ANTROPOME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2" name=""/>
          <p:cNvSpPr/>
          <p:nvPr/>
        </p:nvSpPr>
        <p:spPr>
          <a:xfrm rot="16200000">
            <a:off x="275760" y="27723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ESFUER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3" name=""/>
          <p:cNvSpPr/>
          <p:nvPr/>
        </p:nvSpPr>
        <p:spPr>
          <a:xfrm>
            <a:off x="2666880" y="457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ffffff"/>
                </a:solidFill>
                <a:latin typeface="Arial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4" name=""/>
          <p:cNvSpPr/>
          <p:nvPr/>
        </p:nvSpPr>
        <p:spPr>
          <a:xfrm>
            <a:off x="3429000" y="525780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5" name=""/>
          <p:cNvSpPr/>
          <p:nvPr/>
        </p:nvSpPr>
        <p:spPr>
          <a:xfrm>
            <a:off x="1905120" y="1143000"/>
            <a:ext cx="485640" cy="3733920"/>
          </a:xfrm>
          <a:prstGeom prst="upDownArrow">
            <a:avLst>
              <a:gd name="adj1" fmla="val 50000"/>
              <a:gd name="adj2" fmla="val 1530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6" name=""/>
          <p:cNvSpPr/>
          <p:nvPr/>
        </p:nvSpPr>
        <p:spPr>
          <a:xfrm>
            <a:off x="7315200" y="1600200"/>
            <a:ext cx="485640" cy="3429000"/>
          </a:xfrm>
          <a:prstGeom prst="upDownArrow">
            <a:avLst>
              <a:gd name="adj1" fmla="val 50000"/>
              <a:gd name="adj2" fmla="val 1405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7" name=""/>
          <p:cNvSpPr/>
          <p:nvPr/>
        </p:nvSpPr>
        <p:spPr>
          <a:xfrm>
            <a:off x="1676520" y="4952880"/>
            <a:ext cx="99036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8" name=""/>
          <p:cNvSpPr/>
          <p:nvPr/>
        </p:nvSpPr>
        <p:spPr>
          <a:xfrm>
            <a:off x="7086600" y="4952880"/>
            <a:ext cx="990720" cy="304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9" name=""/>
          <p:cNvSpPr/>
          <p:nvPr/>
        </p:nvSpPr>
        <p:spPr>
          <a:xfrm>
            <a:off x="2857680" y="1828800"/>
            <a:ext cx="3924000" cy="7038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3300"/>
                </a:solidFill>
                <a:latin typeface="Arial"/>
              </a:rPr>
              <a:t>Momentos de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3300"/>
                </a:solidFill>
                <a:latin typeface="Arial"/>
              </a:rPr>
              <a:t>carga de trabajo ( percibida?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0" name=""/>
          <p:cNvSpPr/>
          <p:nvPr/>
        </p:nvSpPr>
        <p:spPr>
          <a:xfrm>
            <a:off x="3962520" y="40384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Esfuerzo Requer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6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000"/>
                            </p:stCondLst>
                            <p:childTnLst>
                              <p:par>
                                <p:cTn id="4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4" dur="2000"/>
                                        <p:tgtEl>
                                          <p:spTgt spid="6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89" dur="2000"/>
                                        <p:tgtEl>
                                          <p:spTgt spid="6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6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6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98" dur="2000"/>
                                        <p:tgtEl>
                                          <p:spTgt spid="6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6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/>
                                        <p:tgtEl>
                                          <p:spTgt spid="6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3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6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6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1" name=""/>
          <p:cNvSpPr/>
          <p:nvPr/>
        </p:nvSpPr>
        <p:spPr>
          <a:xfrm flipV="1">
            <a:off x="1371600" y="456840"/>
            <a:ext cx="0" cy="5257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1371600" y="5715000"/>
            <a:ext cx="7010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5791320" y="76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400" spc="-1" strike="noStrike">
                <a:solidFill>
                  <a:srgbClr val="ffff00"/>
                </a:solidFill>
                <a:latin typeface="Arial"/>
              </a:rPr>
              <a:t>Yerkes &amp; D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400" spc="-1" strike="noStrike">
                <a:solidFill>
                  <a:srgbClr val="ffff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1447920" y="1371600"/>
            <a:ext cx="6400800" cy="4343400"/>
          </a:xfrm>
          <a:custGeom>
            <a:avLst/>
            <a:gdLst/>
            <a:ahLst/>
            <a:rect l="l" t="t" r="r" b="b"/>
            <a:pathLst>
              <a:path w="3696" h="2408">
                <a:moveTo>
                  <a:pt x="0" y="2408"/>
                </a:moveTo>
                <a:cubicBezTo>
                  <a:pt x="604" y="1212"/>
                  <a:pt x="1208" y="16"/>
                  <a:pt x="1824" y="8"/>
                </a:cubicBezTo>
                <a:cubicBezTo>
                  <a:pt x="2440" y="0"/>
                  <a:pt x="3384" y="1968"/>
                  <a:pt x="3696" y="236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5" name=""/>
          <p:cNvSpPr/>
          <p:nvPr/>
        </p:nvSpPr>
        <p:spPr>
          <a:xfrm>
            <a:off x="2362320" y="63244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Carga de Trabajo / Nivel de 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6" name=""/>
          <p:cNvSpPr/>
          <p:nvPr/>
        </p:nvSpPr>
        <p:spPr>
          <a:xfrm rot="16200000">
            <a:off x="-295560" y="3114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7" name=""/>
          <p:cNvSpPr/>
          <p:nvPr/>
        </p:nvSpPr>
        <p:spPr>
          <a:xfrm>
            <a:off x="916560" y="57913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8" name=""/>
          <p:cNvSpPr/>
          <p:nvPr/>
        </p:nvSpPr>
        <p:spPr>
          <a:xfrm>
            <a:off x="3889080" y="5791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9" name=""/>
          <p:cNvSpPr/>
          <p:nvPr/>
        </p:nvSpPr>
        <p:spPr>
          <a:xfrm>
            <a:off x="688680" y="3049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0" name=""/>
          <p:cNvSpPr/>
          <p:nvPr/>
        </p:nvSpPr>
        <p:spPr>
          <a:xfrm>
            <a:off x="7775280" y="5943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1" name=""/>
          <p:cNvSpPr/>
          <p:nvPr/>
        </p:nvSpPr>
        <p:spPr>
          <a:xfrm>
            <a:off x="3276720" y="2438280"/>
            <a:ext cx="0" cy="327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5791320" y="2362320"/>
            <a:ext cx="0" cy="335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3" name=""/>
          <p:cNvSpPr/>
          <p:nvPr/>
        </p:nvSpPr>
        <p:spPr>
          <a:xfrm>
            <a:off x="2286000" y="403848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4" name=""/>
          <p:cNvSpPr/>
          <p:nvPr/>
        </p:nvSpPr>
        <p:spPr>
          <a:xfrm>
            <a:off x="6934320" y="403848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5" name=""/>
          <p:cNvSpPr/>
          <p:nvPr/>
        </p:nvSpPr>
        <p:spPr>
          <a:xfrm>
            <a:off x="4269240" y="2819520"/>
            <a:ext cx="4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ff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ff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ff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ff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6" name=""/>
          <p:cNvSpPr/>
          <p:nvPr/>
        </p:nvSpPr>
        <p:spPr>
          <a:xfrm>
            <a:off x="6097680" y="3809880"/>
            <a:ext cx="37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2592360" y="3733920"/>
            <a:ext cx="371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99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1907640" y="4648320"/>
            <a:ext cx="33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>
            <a:off x="6936840" y="4648320"/>
            <a:ext cx="33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"/>
          <p:cNvSpPr/>
          <p:nvPr/>
        </p:nvSpPr>
        <p:spPr>
          <a:xfrm flipV="1">
            <a:off x="1371600" y="456840"/>
            <a:ext cx="0" cy="5257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"/>
          <p:cNvSpPr/>
          <p:nvPr/>
        </p:nvSpPr>
        <p:spPr>
          <a:xfrm>
            <a:off x="1371600" y="5715000"/>
            <a:ext cx="7010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2" name=""/>
          <p:cNvSpPr/>
          <p:nvPr/>
        </p:nvSpPr>
        <p:spPr>
          <a:xfrm>
            <a:off x="5791320" y="76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400" spc="-1" strike="noStrike">
                <a:solidFill>
                  <a:srgbClr val="ffff00"/>
                </a:solidFill>
                <a:latin typeface="Arial"/>
              </a:rPr>
              <a:t>Yerkes &amp; D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400" spc="-1" strike="noStrike">
                <a:solidFill>
                  <a:srgbClr val="ffff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3" name=""/>
          <p:cNvSpPr/>
          <p:nvPr/>
        </p:nvSpPr>
        <p:spPr>
          <a:xfrm>
            <a:off x="1447920" y="1371600"/>
            <a:ext cx="6400800" cy="4343400"/>
          </a:xfrm>
          <a:custGeom>
            <a:avLst/>
            <a:gdLst/>
            <a:ahLst/>
            <a:rect l="l" t="t" r="r" b="b"/>
            <a:pathLst>
              <a:path w="3696" h="2408">
                <a:moveTo>
                  <a:pt x="0" y="2408"/>
                </a:moveTo>
                <a:cubicBezTo>
                  <a:pt x="604" y="1212"/>
                  <a:pt x="1208" y="16"/>
                  <a:pt x="1824" y="8"/>
                </a:cubicBezTo>
                <a:cubicBezTo>
                  <a:pt x="2440" y="0"/>
                  <a:pt x="3384" y="1968"/>
                  <a:pt x="3696" y="236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4" name=""/>
          <p:cNvSpPr/>
          <p:nvPr/>
        </p:nvSpPr>
        <p:spPr>
          <a:xfrm>
            <a:off x="2362320" y="63244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Carga de Trabajo / Nivel de 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 rot="16200000">
            <a:off x="-295560" y="3114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916560" y="57913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3889080" y="5791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688680" y="3049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/>
          <p:nvPr/>
        </p:nvSpPr>
        <p:spPr>
          <a:xfrm>
            <a:off x="7775280" y="5943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0" name=""/>
          <p:cNvSpPr/>
          <p:nvPr/>
        </p:nvSpPr>
        <p:spPr>
          <a:xfrm>
            <a:off x="3276720" y="2438280"/>
            <a:ext cx="0" cy="327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1" name=""/>
          <p:cNvSpPr/>
          <p:nvPr/>
        </p:nvSpPr>
        <p:spPr>
          <a:xfrm>
            <a:off x="5791320" y="2362320"/>
            <a:ext cx="0" cy="335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2286000" y="403848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6934320" y="403848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1371600" y="236232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1371600" y="1371600"/>
            <a:ext cx="289548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1452600" y="1447920"/>
            <a:ext cx="20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Nivel aceptabl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capacidad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tareas cr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PubChord"/>
          <p:cNvSpPr/>
          <p:nvPr/>
        </p:nvSpPr>
        <p:spPr>
          <a:xfrm rot="8222400">
            <a:off x="3481200" y="1400040"/>
            <a:ext cx="1989000" cy="187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799737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3428640" y="3276720"/>
            <a:ext cx="213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ff00"/>
                </a:solidFill>
                <a:latin typeface="Arial"/>
              </a:rPr>
              <a:t>Nivel acep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ff00"/>
                </a:solidFill>
                <a:latin typeface="Arial"/>
              </a:rPr>
              <a:t>de tensión 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ff00"/>
                </a:solidFill>
                <a:latin typeface="Arial"/>
              </a:rPr>
              <a:t>tareas crí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"/>
          <p:cNvSpPr/>
          <p:nvPr/>
        </p:nvSpPr>
        <p:spPr>
          <a:xfrm flipV="1">
            <a:off x="1371600" y="456840"/>
            <a:ext cx="0" cy="5257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1371600" y="5715000"/>
            <a:ext cx="701028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1" name=""/>
          <p:cNvSpPr/>
          <p:nvPr/>
        </p:nvSpPr>
        <p:spPr>
          <a:xfrm>
            <a:off x="5791320" y="763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400" spc="-1" strike="noStrike">
                <a:solidFill>
                  <a:srgbClr val="ffff00"/>
                </a:solidFill>
                <a:latin typeface="Arial"/>
              </a:rPr>
              <a:t>Yerkes &amp; Dob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400" spc="-1" strike="noStrike">
                <a:solidFill>
                  <a:srgbClr val="ffff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2" name=""/>
          <p:cNvSpPr/>
          <p:nvPr/>
        </p:nvSpPr>
        <p:spPr>
          <a:xfrm>
            <a:off x="1447920" y="1371600"/>
            <a:ext cx="6400800" cy="4343400"/>
          </a:xfrm>
          <a:custGeom>
            <a:avLst/>
            <a:gdLst/>
            <a:ahLst/>
            <a:rect l="l" t="t" r="r" b="b"/>
            <a:pathLst>
              <a:path w="3696" h="2408">
                <a:moveTo>
                  <a:pt x="0" y="2408"/>
                </a:moveTo>
                <a:cubicBezTo>
                  <a:pt x="604" y="1212"/>
                  <a:pt x="1208" y="16"/>
                  <a:pt x="1824" y="8"/>
                </a:cubicBezTo>
                <a:cubicBezTo>
                  <a:pt x="2440" y="0"/>
                  <a:pt x="3384" y="1968"/>
                  <a:pt x="3696" y="2360"/>
                </a:cubicBezTo>
              </a:path>
            </a:pathLst>
          </a:custGeom>
          <a:noFill/>
          <a:ln w="63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>
            <a:off x="2362320" y="632448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Carga de Trabajo / Nivel de 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 rot="16200000">
            <a:off x="-295560" y="311472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916560" y="57913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3889080" y="5791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Mode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688680" y="3049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>
            <a:off x="7775280" y="579132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9" name=""/>
          <p:cNvSpPr/>
          <p:nvPr/>
        </p:nvSpPr>
        <p:spPr>
          <a:xfrm>
            <a:off x="3276720" y="2438280"/>
            <a:ext cx="0" cy="3276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0" name=""/>
          <p:cNvSpPr/>
          <p:nvPr/>
        </p:nvSpPr>
        <p:spPr>
          <a:xfrm>
            <a:off x="5791320" y="2362320"/>
            <a:ext cx="0" cy="3352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1" name=""/>
          <p:cNvSpPr/>
          <p:nvPr/>
        </p:nvSpPr>
        <p:spPr>
          <a:xfrm>
            <a:off x="2286000" y="403848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2" name=""/>
          <p:cNvSpPr/>
          <p:nvPr/>
        </p:nvSpPr>
        <p:spPr>
          <a:xfrm>
            <a:off x="6934320" y="4038480"/>
            <a:ext cx="0" cy="1676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3" name=""/>
          <p:cNvSpPr/>
          <p:nvPr/>
        </p:nvSpPr>
        <p:spPr>
          <a:xfrm>
            <a:off x="1371600" y="2362320"/>
            <a:ext cx="434340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4" name=""/>
          <p:cNvSpPr/>
          <p:nvPr/>
        </p:nvSpPr>
        <p:spPr>
          <a:xfrm>
            <a:off x="1371600" y="1371600"/>
            <a:ext cx="2895480" cy="0"/>
          </a:xfrm>
          <a:prstGeom prst="line">
            <a:avLst/>
          </a:prstGeom>
          <a:ln w="38160">
            <a:solidFill>
              <a:srgbClr val="ff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5" name=""/>
          <p:cNvSpPr/>
          <p:nvPr/>
        </p:nvSpPr>
        <p:spPr>
          <a:xfrm>
            <a:off x="1452600" y="1447920"/>
            <a:ext cx="200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Nivel aceptable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capacidad p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00"/>
                </a:solidFill>
                <a:latin typeface="Arial"/>
              </a:rPr>
              <a:t>tareas cr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6" name=""/>
          <p:cNvSpPr/>
          <p:nvPr/>
        </p:nvSpPr>
        <p:spPr>
          <a:xfrm>
            <a:off x="7010280" y="4343400"/>
            <a:ext cx="762120" cy="129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7" name=""/>
          <p:cNvSpPr/>
          <p:nvPr/>
        </p:nvSpPr>
        <p:spPr>
          <a:xfrm flipH="1">
            <a:off x="1523160" y="4343400"/>
            <a:ext cx="685800" cy="1295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8" name="PubChord"/>
          <p:cNvSpPr/>
          <p:nvPr/>
        </p:nvSpPr>
        <p:spPr>
          <a:xfrm rot="8222400">
            <a:off x="3481200" y="1400040"/>
            <a:ext cx="1989000" cy="187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63" y="3163"/>
                </a:moveTo>
                <a:arcTo wR="10800" hR="10800" stAng="-8100000" swAng="-10799737"/>
                <a:close/>
              </a:path>
            </a:pathLst>
          </a:custGeom>
          <a:solidFill>
            <a:srgbClr val="00ff00"/>
          </a:solidFill>
          <a:ln w="9360">
            <a:solidFill>
              <a:srgbClr val="00ff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9" name=""/>
          <p:cNvSpPr/>
          <p:nvPr/>
        </p:nvSpPr>
        <p:spPr>
          <a:xfrm>
            <a:off x="2209680" y="3276720"/>
            <a:ext cx="25146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3300"/>
                </a:solidFill>
                <a:latin typeface="Arial"/>
              </a:rPr>
              <a:t>COMPLACENCIA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0" name=""/>
          <p:cNvSpPr/>
          <p:nvPr/>
        </p:nvSpPr>
        <p:spPr>
          <a:xfrm flipH="1">
            <a:off x="2362320" y="3733920"/>
            <a:ext cx="8380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1" name=""/>
          <p:cNvSpPr/>
          <p:nvPr/>
        </p:nvSpPr>
        <p:spPr>
          <a:xfrm flipH="1">
            <a:off x="7315200" y="3429000"/>
            <a:ext cx="83808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2" name=""/>
          <p:cNvSpPr/>
          <p:nvPr/>
        </p:nvSpPr>
        <p:spPr>
          <a:xfrm>
            <a:off x="7252560" y="2971800"/>
            <a:ext cx="18648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3300"/>
                </a:solidFill>
                <a:latin typeface="Arial"/>
              </a:rPr>
              <a:t>CONFUSION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3" name=""/>
          <p:cNvSpPr/>
          <p:nvPr/>
        </p:nvSpPr>
        <p:spPr>
          <a:xfrm>
            <a:off x="7435800" y="6216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Incursión p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4" name=""/>
          <p:cNvSpPr/>
          <p:nvPr/>
        </p:nvSpPr>
        <p:spPr>
          <a:xfrm>
            <a:off x="0" y="621648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Incursión p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complac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5" name=""/>
          <p:cNvSpPr/>
          <p:nvPr/>
        </p:nvSpPr>
        <p:spPr>
          <a:xfrm>
            <a:off x="2895480" y="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ntren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6" name=""/>
          <p:cNvGrpSpPr/>
          <p:nvPr/>
        </p:nvGrpSpPr>
        <p:grpSpPr>
          <a:xfrm>
            <a:off x="6248520" y="3352680"/>
            <a:ext cx="2576160" cy="704160"/>
            <a:chOff x="6248520" y="3352680"/>
            <a:chExt cx="2576160" cy="704160"/>
          </a:xfrm>
        </p:grpSpPr>
        <p:grpSp>
          <p:nvGrpSpPr>
            <p:cNvPr id="6237" name=""/>
            <p:cNvGrpSpPr/>
            <p:nvPr/>
          </p:nvGrpSpPr>
          <p:grpSpPr>
            <a:xfrm>
              <a:off x="6248520" y="3352680"/>
              <a:ext cx="2500560" cy="641160"/>
              <a:chOff x="6248520" y="3352680"/>
              <a:chExt cx="2500560" cy="641160"/>
            </a:xfrm>
          </p:grpSpPr>
          <p:sp>
            <p:nvSpPr>
              <p:cNvPr id="6238" name=""/>
              <p:cNvSpPr/>
              <p:nvPr/>
            </p:nvSpPr>
            <p:spPr>
              <a:xfrm>
                <a:off x="6752160" y="3414960"/>
                <a:ext cx="1996920" cy="525600"/>
              </a:xfrm>
              <a:custGeom>
                <a:avLst/>
                <a:gdLst/>
                <a:ahLst/>
                <a:rect l="l" t="t" r="r" b="b"/>
                <a:pathLst>
                  <a:path w="2813" h="742">
                    <a:moveTo>
                      <a:pt x="506" y="0"/>
                    </a:moveTo>
                    <a:lnTo>
                      <a:pt x="2728" y="0"/>
                    </a:lnTo>
                    <a:lnTo>
                      <a:pt x="2746" y="27"/>
                    </a:lnTo>
                    <a:lnTo>
                      <a:pt x="2762" y="58"/>
                    </a:lnTo>
                    <a:lnTo>
                      <a:pt x="2779" y="100"/>
                    </a:lnTo>
                    <a:lnTo>
                      <a:pt x="2790" y="144"/>
                    </a:lnTo>
                    <a:lnTo>
                      <a:pt x="2801" y="189"/>
                    </a:lnTo>
                    <a:lnTo>
                      <a:pt x="2806" y="234"/>
                    </a:lnTo>
                    <a:lnTo>
                      <a:pt x="2808" y="284"/>
                    </a:lnTo>
                    <a:lnTo>
                      <a:pt x="2801" y="329"/>
                    </a:lnTo>
                    <a:lnTo>
                      <a:pt x="2794" y="365"/>
                    </a:lnTo>
                    <a:lnTo>
                      <a:pt x="2784" y="398"/>
                    </a:lnTo>
                    <a:lnTo>
                      <a:pt x="2771" y="428"/>
                    </a:lnTo>
                    <a:lnTo>
                      <a:pt x="2757" y="457"/>
                    </a:lnTo>
                    <a:lnTo>
                      <a:pt x="2742" y="483"/>
                    </a:lnTo>
                    <a:lnTo>
                      <a:pt x="2813" y="536"/>
                    </a:lnTo>
                    <a:lnTo>
                      <a:pt x="2813" y="735"/>
                    </a:lnTo>
                    <a:lnTo>
                      <a:pt x="2102" y="735"/>
                    </a:lnTo>
                    <a:lnTo>
                      <a:pt x="2102" y="532"/>
                    </a:lnTo>
                    <a:lnTo>
                      <a:pt x="703" y="532"/>
                    </a:lnTo>
                    <a:lnTo>
                      <a:pt x="928" y="574"/>
                    </a:lnTo>
                    <a:lnTo>
                      <a:pt x="928" y="664"/>
                    </a:lnTo>
                    <a:lnTo>
                      <a:pt x="318" y="664"/>
                    </a:lnTo>
                    <a:lnTo>
                      <a:pt x="626" y="699"/>
                    </a:lnTo>
                    <a:lnTo>
                      <a:pt x="626" y="742"/>
                    </a:lnTo>
                    <a:lnTo>
                      <a:pt x="84" y="699"/>
                    </a:lnTo>
                    <a:lnTo>
                      <a:pt x="84" y="584"/>
                    </a:lnTo>
                    <a:lnTo>
                      <a:pt x="0" y="584"/>
                    </a:lnTo>
                    <a:lnTo>
                      <a:pt x="0" y="518"/>
                    </a:lnTo>
                    <a:lnTo>
                      <a:pt x="91" y="518"/>
                    </a:lnTo>
                    <a:lnTo>
                      <a:pt x="91" y="567"/>
                    </a:lnTo>
                    <a:lnTo>
                      <a:pt x="578" y="567"/>
                    </a:lnTo>
                    <a:lnTo>
                      <a:pt x="549" y="547"/>
                    </a:lnTo>
                    <a:lnTo>
                      <a:pt x="528" y="532"/>
                    </a:lnTo>
                    <a:lnTo>
                      <a:pt x="507" y="513"/>
                    </a:lnTo>
                    <a:lnTo>
                      <a:pt x="535" y="552"/>
                    </a:lnTo>
                    <a:lnTo>
                      <a:pt x="427" y="552"/>
                    </a:lnTo>
                    <a:lnTo>
                      <a:pt x="412" y="499"/>
                    </a:lnTo>
                    <a:lnTo>
                      <a:pt x="485" y="498"/>
                    </a:lnTo>
                    <a:lnTo>
                      <a:pt x="462" y="468"/>
                    </a:lnTo>
                    <a:lnTo>
                      <a:pt x="446" y="437"/>
                    </a:lnTo>
                    <a:lnTo>
                      <a:pt x="432" y="403"/>
                    </a:lnTo>
                    <a:lnTo>
                      <a:pt x="421" y="369"/>
                    </a:lnTo>
                    <a:lnTo>
                      <a:pt x="413" y="323"/>
                    </a:lnTo>
                    <a:lnTo>
                      <a:pt x="411" y="266"/>
                    </a:lnTo>
                    <a:lnTo>
                      <a:pt x="411" y="228"/>
                    </a:lnTo>
                    <a:lnTo>
                      <a:pt x="420" y="177"/>
                    </a:lnTo>
                    <a:lnTo>
                      <a:pt x="428" y="144"/>
                    </a:lnTo>
                    <a:lnTo>
                      <a:pt x="438" y="119"/>
                    </a:lnTo>
                    <a:lnTo>
                      <a:pt x="448" y="87"/>
                    </a:lnTo>
                    <a:lnTo>
                      <a:pt x="467" y="53"/>
                    </a:lnTo>
                    <a:lnTo>
                      <a:pt x="486" y="27"/>
                    </a:lnTo>
                    <a:lnTo>
                      <a:pt x="506" y="0"/>
                    </a:lnTo>
                    <a:close/>
                  </a:path>
                </a:pathLst>
              </a:custGeom>
              <a:solidFill>
                <a:srgbClr val="bfbfb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9" name=""/>
              <p:cNvGrpSpPr/>
              <p:nvPr/>
            </p:nvGrpSpPr>
            <p:grpSpPr>
              <a:xfrm>
                <a:off x="6248520" y="3352680"/>
                <a:ext cx="598680" cy="641160"/>
                <a:chOff x="6248520" y="3352680"/>
                <a:chExt cx="598680" cy="641160"/>
              </a:xfrm>
            </p:grpSpPr>
            <p:grpSp>
              <p:nvGrpSpPr>
                <p:cNvPr id="6240" name=""/>
                <p:cNvGrpSpPr/>
                <p:nvPr/>
              </p:nvGrpSpPr>
              <p:grpSpPr>
                <a:xfrm>
                  <a:off x="6765120" y="3352680"/>
                  <a:ext cx="82080" cy="434520"/>
                  <a:chOff x="6765120" y="3352680"/>
                  <a:chExt cx="82080" cy="434520"/>
                </a:xfrm>
              </p:grpSpPr>
              <p:sp>
                <p:nvSpPr>
                  <p:cNvPr id="6241" name=""/>
                  <p:cNvSpPr/>
                  <p:nvPr/>
                </p:nvSpPr>
                <p:spPr>
                  <a:xfrm>
                    <a:off x="6765120" y="3763080"/>
                    <a:ext cx="82080" cy="24120"/>
                  </a:xfrm>
                  <a:prstGeom prst="rect">
                    <a:avLst/>
                  </a:prstGeom>
                  <a:solidFill>
                    <a:srgbClr val="7f7f7f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42" name=""/>
                  <p:cNvGrpSpPr/>
                  <p:nvPr/>
                </p:nvGrpSpPr>
                <p:grpSpPr>
                  <a:xfrm>
                    <a:off x="6770520" y="3352680"/>
                    <a:ext cx="59760" cy="408600"/>
                    <a:chOff x="6770520" y="3352680"/>
                    <a:chExt cx="59760" cy="408600"/>
                  </a:xfrm>
                </p:grpSpPr>
                <p:sp>
                  <p:nvSpPr>
                    <p:cNvPr id="6243" name=""/>
                    <p:cNvSpPr/>
                    <p:nvPr/>
                  </p:nvSpPr>
                  <p:spPr>
                    <a:xfrm>
                      <a:off x="6780240" y="3352680"/>
                      <a:ext cx="42120" cy="20880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4" name=""/>
                    <p:cNvSpPr/>
                    <p:nvPr/>
                  </p:nvSpPr>
                  <p:spPr>
                    <a:xfrm>
                      <a:off x="6770520" y="3558600"/>
                      <a:ext cx="59760" cy="20268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245" name=""/>
                <p:cNvGrpSpPr/>
                <p:nvPr/>
              </p:nvGrpSpPr>
              <p:grpSpPr>
                <a:xfrm>
                  <a:off x="6248520" y="3528720"/>
                  <a:ext cx="572760" cy="465120"/>
                  <a:chOff x="6248520" y="3528720"/>
                  <a:chExt cx="572760" cy="465120"/>
                </a:xfrm>
              </p:grpSpPr>
              <p:grpSp>
                <p:nvGrpSpPr>
                  <p:cNvPr id="6246" name=""/>
                  <p:cNvGrpSpPr/>
                  <p:nvPr/>
                </p:nvGrpSpPr>
                <p:grpSpPr>
                  <a:xfrm>
                    <a:off x="6273720" y="3528720"/>
                    <a:ext cx="513360" cy="307800"/>
                    <a:chOff x="6273720" y="3528720"/>
                    <a:chExt cx="513360" cy="307800"/>
                  </a:xfrm>
                </p:grpSpPr>
                <p:sp>
                  <p:nvSpPr>
                    <p:cNvPr id="6247" name=""/>
                    <p:cNvSpPr/>
                    <p:nvPr/>
                  </p:nvSpPr>
                  <p:spPr>
                    <a:xfrm>
                      <a:off x="6273720" y="3528720"/>
                      <a:ext cx="513360" cy="30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3" h="434">
                          <a:moveTo>
                            <a:pt x="384" y="0"/>
                          </a:moveTo>
                          <a:lnTo>
                            <a:pt x="663" y="0"/>
                          </a:lnTo>
                          <a:lnTo>
                            <a:pt x="672" y="3"/>
                          </a:lnTo>
                          <a:lnTo>
                            <a:pt x="680" y="10"/>
                          </a:lnTo>
                          <a:lnTo>
                            <a:pt x="683" y="17"/>
                          </a:lnTo>
                          <a:lnTo>
                            <a:pt x="685" y="26"/>
                          </a:lnTo>
                          <a:lnTo>
                            <a:pt x="723" y="371"/>
                          </a:lnTo>
                          <a:lnTo>
                            <a:pt x="722" y="385"/>
                          </a:lnTo>
                          <a:lnTo>
                            <a:pt x="718" y="405"/>
                          </a:lnTo>
                          <a:lnTo>
                            <a:pt x="705" y="422"/>
                          </a:lnTo>
                          <a:lnTo>
                            <a:pt x="690" y="433"/>
                          </a:lnTo>
                          <a:lnTo>
                            <a:pt x="674" y="434"/>
                          </a:lnTo>
                          <a:lnTo>
                            <a:pt x="0" y="434"/>
                          </a:lnTo>
                          <a:lnTo>
                            <a:pt x="16" y="256"/>
                          </a:lnTo>
                          <a:lnTo>
                            <a:pt x="23" y="244"/>
                          </a:lnTo>
                          <a:lnTo>
                            <a:pt x="38" y="232"/>
                          </a:lnTo>
                          <a:lnTo>
                            <a:pt x="56" y="230"/>
                          </a:lnTo>
                          <a:lnTo>
                            <a:pt x="319" y="184"/>
                          </a:lnTo>
                          <a:lnTo>
                            <a:pt x="446" y="184"/>
                          </a:lnTo>
                          <a:lnTo>
                            <a:pt x="626" y="184"/>
                          </a:lnTo>
                          <a:lnTo>
                            <a:pt x="626" y="23"/>
                          </a:lnTo>
                          <a:lnTo>
                            <a:pt x="480" y="23"/>
                          </a:lnTo>
                          <a:lnTo>
                            <a:pt x="443" y="184"/>
                          </a:lnTo>
                          <a:lnTo>
                            <a:pt x="415" y="184"/>
                          </a:lnTo>
                          <a:lnTo>
                            <a:pt x="454" y="23"/>
                          </a:lnTo>
                          <a:lnTo>
                            <a:pt x="386" y="23"/>
                          </a:lnTo>
                          <a:lnTo>
                            <a:pt x="346" y="183"/>
                          </a:lnTo>
                          <a:lnTo>
                            <a:pt x="318" y="185"/>
                          </a:lnTo>
                          <a:lnTo>
                            <a:pt x="361" y="21"/>
                          </a:lnTo>
                          <a:lnTo>
                            <a:pt x="362" y="15"/>
                          </a:lnTo>
                          <a:lnTo>
                            <a:pt x="368" y="7"/>
                          </a:lnTo>
                          <a:lnTo>
                            <a:pt x="375" y="1"/>
                          </a:lnTo>
                          <a:lnTo>
                            <a:pt x="384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248" name=""/>
                    <p:cNvGrpSpPr/>
                    <p:nvPr/>
                  </p:nvGrpSpPr>
                  <p:grpSpPr>
                    <a:xfrm>
                      <a:off x="6500160" y="3647880"/>
                      <a:ext cx="84600" cy="18000"/>
                      <a:chOff x="6500160" y="3647880"/>
                      <a:chExt cx="84600" cy="18000"/>
                    </a:xfrm>
                  </p:grpSpPr>
                  <p:sp>
                    <p:nvSpPr>
                      <p:cNvPr id="6249" name=""/>
                      <p:cNvSpPr/>
                      <p:nvPr/>
                    </p:nvSpPr>
                    <p:spPr>
                      <a:xfrm>
                        <a:off x="6569640" y="3647880"/>
                        <a:ext cx="15120" cy="1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24">
                            <a:moveTo>
                              <a:pt x="5" y="5"/>
                            </a:moveTo>
                            <a:lnTo>
                              <a:pt x="0" y="24"/>
                            </a:lnTo>
                            <a:lnTo>
                              <a:pt x="17" y="24"/>
                            </a:lnTo>
                            <a:lnTo>
                              <a:pt x="23" y="0"/>
                            </a:lnTo>
                            <a:lnTo>
                              <a:pt x="5" y="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8800" bIns="-28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50" name=""/>
                      <p:cNvSpPr/>
                      <p:nvPr/>
                    </p:nvSpPr>
                    <p:spPr>
                      <a:xfrm>
                        <a:off x="6500160" y="3650400"/>
                        <a:ext cx="15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19">
                            <a:moveTo>
                              <a:pt x="6" y="4"/>
                            </a:moveTo>
                            <a:lnTo>
                              <a:pt x="0" y="19"/>
                            </a:lnTo>
                            <a:lnTo>
                              <a:pt x="16" y="19"/>
                            </a:lnTo>
                            <a:lnTo>
                              <a:pt x="21" y="0"/>
                            </a:lnTo>
                            <a:lnTo>
                              <a:pt x="6" y="4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251" name=""/>
                  <p:cNvSpPr/>
                  <p:nvPr/>
                </p:nvSpPr>
                <p:spPr>
                  <a:xfrm>
                    <a:off x="6248520" y="3778560"/>
                    <a:ext cx="35172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" h="263">
                        <a:moveTo>
                          <a:pt x="67" y="134"/>
                        </a:moveTo>
                        <a:lnTo>
                          <a:pt x="0" y="134"/>
                        </a:lnTo>
                        <a:lnTo>
                          <a:pt x="0" y="263"/>
                        </a:lnTo>
                        <a:lnTo>
                          <a:pt x="88" y="263"/>
                        </a:lnTo>
                        <a:lnTo>
                          <a:pt x="418" y="263"/>
                        </a:lnTo>
                        <a:lnTo>
                          <a:pt x="418" y="196"/>
                        </a:lnTo>
                        <a:lnTo>
                          <a:pt x="496" y="196"/>
                        </a:lnTo>
                        <a:lnTo>
                          <a:pt x="496" y="84"/>
                        </a:lnTo>
                        <a:lnTo>
                          <a:pt x="411" y="84"/>
                        </a:lnTo>
                        <a:lnTo>
                          <a:pt x="365" y="0"/>
                        </a:lnTo>
                        <a:lnTo>
                          <a:pt x="67" y="0"/>
                        </a:lnTo>
                        <a:lnTo>
                          <a:pt x="67" y="134"/>
                        </a:lnTo>
                        <a:close/>
                      </a:path>
                    </a:pathLst>
                  </a:custGeom>
                  <a:solidFill>
                    <a:srgbClr val="5f5f5f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52" name=""/>
                  <p:cNvSpPr/>
                  <p:nvPr/>
                </p:nvSpPr>
                <p:spPr>
                  <a:xfrm>
                    <a:off x="6255360" y="3758760"/>
                    <a:ext cx="29628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64">
                        <a:moveTo>
                          <a:pt x="33" y="0"/>
                        </a:moveTo>
                        <a:lnTo>
                          <a:pt x="353" y="0"/>
                        </a:lnTo>
                        <a:lnTo>
                          <a:pt x="420" y="164"/>
                        </a:lnTo>
                        <a:lnTo>
                          <a:pt x="369" y="164"/>
                        </a:lnTo>
                        <a:lnTo>
                          <a:pt x="359" y="162"/>
                        </a:lnTo>
                        <a:lnTo>
                          <a:pt x="350" y="159"/>
                        </a:lnTo>
                        <a:lnTo>
                          <a:pt x="342" y="154"/>
                        </a:lnTo>
                        <a:lnTo>
                          <a:pt x="338" y="145"/>
                        </a:lnTo>
                        <a:lnTo>
                          <a:pt x="334" y="137"/>
                        </a:lnTo>
                        <a:lnTo>
                          <a:pt x="302" y="69"/>
                        </a:lnTo>
                        <a:lnTo>
                          <a:pt x="295" y="60"/>
                        </a:lnTo>
                        <a:lnTo>
                          <a:pt x="285" y="56"/>
                        </a:lnTo>
                        <a:lnTo>
                          <a:pt x="269" y="55"/>
                        </a:lnTo>
                        <a:lnTo>
                          <a:pt x="120" y="55"/>
                        </a:lnTo>
                        <a:lnTo>
                          <a:pt x="109" y="57"/>
                        </a:lnTo>
                        <a:lnTo>
                          <a:pt x="99" y="62"/>
                        </a:lnTo>
                        <a:lnTo>
                          <a:pt x="93" y="69"/>
                        </a:lnTo>
                        <a:lnTo>
                          <a:pt x="90" y="80"/>
                        </a:lnTo>
                        <a:lnTo>
                          <a:pt x="60" y="162"/>
                        </a:lnTo>
                        <a:lnTo>
                          <a:pt x="0" y="162"/>
                        </a:lnTo>
                        <a:lnTo>
                          <a:pt x="0" y="35"/>
                        </a:lnTo>
                        <a:lnTo>
                          <a:pt x="2" y="26"/>
                        </a:lnTo>
                        <a:lnTo>
                          <a:pt x="3" y="14"/>
                        </a:lnTo>
                        <a:lnTo>
                          <a:pt x="9" y="6"/>
                        </a:lnTo>
                        <a:lnTo>
                          <a:pt x="20" y="1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79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53" name=""/>
                  <p:cNvGrpSpPr/>
                  <p:nvPr/>
                </p:nvGrpSpPr>
                <p:grpSpPr>
                  <a:xfrm>
                    <a:off x="6580080" y="3836520"/>
                    <a:ext cx="241200" cy="157320"/>
                    <a:chOff x="6580080" y="3836520"/>
                    <a:chExt cx="241200" cy="157320"/>
                  </a:xfrm>
                </p:grpSpPr>
                <p:sp>
                  <p:nvSpPr>
                    <p:cNvPr id="6254" name=""/>
                    <p:cNvSpPr/>
                    <p:nvPr/>
                  </p:nvSpPr>
                  <p:spPr>
                    <a:xfrm>
                      <a:off x="6761520" y="3938760"/>
                      <a:ext cx="46440" cy="2952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280" bIns="-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5" name=""/>
                    <p:cNvSpPr/>
                    <p:nvPr/>
                  </p:nvSpPr>
                  <p:spPr>
                    <a:xfrm>
                      <a:off x="6582960" y="3836520"/>
                      <a:ext cx="238320" cy="1022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6" name=""/>
                    <p:cNvSpPr/>
                    <p:nvPr/>
                  </p:nvSpPr>
                  <p:spPr>
                    <a:xfrm>
                      <a:off x="6580080" y="3939840"/>
                      <a:ext cx="18720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4" h="76">
                          <a:moveTo>
                            <a:pt x="0" y="0"/>
                          </a:moveTo>
                          <a:lnTo>
                            <a:pt x="264" y="0"/>
                          </a:lnTo>
                          <a:lnTo>
                            <a:pt x="264" y="48"/>
                          </a:lnTo>
                          <a:lnTo>
                            <a:pt x="50" y="48"/>
                          </a:lnTo>
                          <a:lnTo>
                            <a:pt x="50" y="76"/>
                          </a:lnTo>
                          <a:lnTo>
                            <a:pt x="0" y="7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6257" name=""/>
            <p:cNvGrpSpPr/>
            <p:nvPr/>
          </p:nvGrpSpPr>
          <p:grpSpPr>
            <a:xfrm>
              <a:off x="7129800" y="3396600"/>
              <a:ext cx="466920" cy="366480"/>
              <a:chOff x="7129800" y="3396600"/>
              <a:chExt cx="466920" cy="366480"/>
            </a:xfrm>
          </p:grpSpPr>
          <p:sp>
            <p:nvSpPr>
              <p:cNvPr id="6258" name=""/>
              <p:cNvSpPr/>
              <p:nvPr/>
            </p:nvSpPr>
            <p:spPr>
              <a:xfrm>
                <a:off x="7129800" y="3396600"/>
                <a:ext cx="466920" cy="366480"/>
              </a:xfrm>
              <a:custGeom>
                <a:avLst/>
                <a:gdLst/>
                <a:ahLst/>
                <a:rect l="l" t="t" r="r" b="b"/>
                <a:pathLst>
                  <a:path w="657" h="516">
                    <a:moveTo>
                      <a:pt x="283" y="0"/>
                    </a:moveTo>
                    <a:lnTo>
                      <a:pt x="283" y="44"/>
                    </a:lnTo>
                    <a:lnTo>
                      <a:pt x="0" y="44"/>
                    </a:lnTo>
                    <a:lnTo>
                      <a:pt x="0" y="515"/>
                    </a:lnTo>
                    <a:lnTo>
                      <a:pt x="657" y="516"/>
                    </a:lnTo>
                    <a:lnTo>
                      <a:pt x="656" y="44"/>
                    </a:lnTo>
                    <a:lnTo>
                      <a:pt x="381" y="44"/>
                    </a:lnTo>
                    <a:lnTo>
                      <a:pt x="381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bfbfb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7129800" y="3483000"/>
                <a:ext cx="466920" cy="279720"/>
              </a:xfrm>
              <a:custGeom>
                <a:avLst/>
                <a:gdLst/>
                <a:ahLst/>
                <a:rect l="l" t="t" r="r" b="b"/>
                <a:pathLst>
                  <a:path w="657" h="395">
                    <a:moveTo>
                      <a:pt x="0" y="0"/>
                    </a:moveTo>
                    <a:lnTo>
                      <a:pt x="0" y="393"/>
                    </a:lnTo>
                    <a:lnTo>
                      <a:pt x="657" y="395"/>
                    </a:lnTo>
                    <a:lnTo>
                      <a:pt x="6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0" name=""/>
            <p:cNvGrpSpPr/>
            <p:nvPr/>
          </p:nvGrpSpPr>
          <p:grpSpPr>
            <a:xfrm>
              <a:off x="7669440" y="3396600"/>
              <a:ext cx="468360" cy="364680"/>
              <a:chOff x="7669440" y="3396600"/>
              <a:chExt cx="468360" cy="364680"/>
            </a:xfrm>
          </p:grpSpPr>
          <p:sp>
            <p:nvSpPr>
              <p:cNvPr id="6261" name=""/>
              <p:cNvSpPr/>
              <p:nvPr/>
            </p:nvSpPr>
            <p:spPr>
              <a:xfrm>
                <a:off x="7669440" y="3396600"/>
                <a:ext cx="468360" cy="364680"/>
              </a:xfrm>
              <a:custGeom>
                <a:avLst/>
                <a:gdLst/>
                <a:ahLst/>
                <a:rect l="l" t="t" r="r" b="b"/>
                <a:pathLst>
                  <a:path w="661" h="512">
                    <a:moveTo>
                      <a:pt x="283" y="0"/>
                    </a:moveTo>
                    <a:lnTo>
                      <a:pt x="283" y="44"/>
                    </a:lnTo>
                    <a:lnTo>
                      <a:pt x="0" y="44"/>
                    </a:lnTo>
                    <a:lnTo>
                      <a:pt x="0" y="511"/>
                    </a:lnTo>
                    <a:lnTo>
                      <a:pt x="661" y="512"/>
                    </a:lnTo>
                    <a:lnTo>
                      <a:pt x="661" y="44"/>
                    </a:lnTo>
                    <a:lnTo>
                      <a:pt x="382" y="44"/>
                    </a:lnTo>
                    <a:lnTo>
                      <a:pt x="382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bfbfb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7669440" y="3522960"/>
                <a:ext cx="468360" cy="237960"/>
              </a:xfrm>
              <a:custGeom>
                <a:avLst/>
                <a:gdLst/>
                <a:ahLst/>
                <a:rect l="l" t="t" r="r" b="b"/>
                <a:pathLst>
                  <a:path w="661" h="335">
                    <a:moveTo>
                      <a:pt x="0" y="0"/>
                    </a:moveTo>
                    <a:lnTo>
                      <a:pt x="0" y="334"/>
                    </a:lnTo>
                    <a:lnTo>
                      <a:pt x="661" y="335"/>
                    </a:lnTo>
                    <a:lnTo>
                      <a:pt x="66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3" name=""/>
            <p:cNvGrpSpPr/>
            <p:nvPr/>
          </p:nvGrpSpPr>
          <p:grpSpPr>
            <a:xfrm>
              <a:off x="7606800" y="3773160"/>
              <a:ext cx="578160" cy="46080"/>
              <a:chOff x="7606800" y="3773160"/>
              <a:chExt cx="578160" cy="46080"/>
            </a:xfrm>
          </p:grpSpPr>
          <p:grpSp>
            <p:nvGrpSpPr>
              <p:cNvPr id="6264" name=""/>
              <p:cNvGrpSpPr/>
              <p:nvPr/>
            </p:nvGrpSpPr>
            <p:grpSpPr>
              <a:xfrm>
                <a:off x="7606800" y="3773160"/>
                <a:ext cx="34920" cy="43560"/>
                <a:chOff x="7606800" y="3773160"/>
                <a:chExt cx="34920" cy="43560"/>
              </a:xfrm>
            </p:grpSpPr>
            <p:sp>
              <p:nvSpPr>
                <p:cNvPr id="6265" name=""/>
                <p:cNvSpPr/>
                <p:nvPr/>
              </p:nvSpPr>
              <p:spPr>
                <a:xfrm>
                  <a:off x="7606800" y="3777120"/>
                  <a:ext cx="33480" cy="15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6" name=""/>
                <p:cNvSpPr/>
                <p:nvPr/>
              </p:nvSpPr>
              <p:spPr>
                <a:xfrm>
                  <a:off x="7607880" y="3773160"/>
                  <a:ext cx="1080" cy="43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7640280" y="3773160"/>
                  <a:ext cx="1440" cy="43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8" name=""/>
              <p:cNvGrpSpPr/>
              <p:nvPr/>
            </p:nvGrpSpPr>
            <p:grpSpPr>
              <a:xfrm>
                <a:off x="8151480" y="3775680"/>
                <a:ext cx="33480" cy="43560"/>
                <a:chOff x="8151480" y="3775680"/>
                <a:chExt cx="33480" cy="43560"/>
              </a:xfrm>
            </p:grpSpPr>
            <p:sp>
              <p:nvSpPr>
                <p:cNvPr id="6269" name=""/>
                <p:cNvSpPr/>
                <p:nvPr/>
              </p:nvSpPr>
              <p:spPr>
                <a:xfrm>
                  <a:off x="8151480" y="3778200"/>
                  <a:ext cx="32040" cy="165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8152560" y="3775680"/>
                  <a:ext cx="1440" cy="43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1" name=""/>
                <p:cNvSpPr/>
                <p:nvPr/>
              </p:nvSpPr>
              <p:spPr>
                <a:xfrm>
                  <a:off x="8183520" y="3775680"/>
                  <a:ext cx="1440" cy="43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2" name=""/>
            <p:cNvGrpSpPr/>
            <p:nvPr/>
          </p:nvGrpSpPr>
          <p:grpSpPr>
            <a:xfrm>
              <a:off x="7608240" y="3395160"/>
              <a:ext cx="578160" cy="45720"/>
              <a:chOff x="7608240" y="3395160"/>
              <a:chExt cx="578160" cy="45720"/>
            </a:xfrm>
          </p:grpSpPr>
          <p:grpSp>
            <p:nvGrpSpPr>
              <p:cNvPr id="6273" name=""/>
              <p:cNvGrpSpPr/>
              <p:nvPr/>
            </p:nvGrpSpPr>
            <p:grpSpPr>
              <a:xfrm>
                <a:off x="7608240" y="3398400"/>
                <a:ext cx="34920" cy="42480"/>
                <a:chOff x="7608240" y="3398400"/>
                <a:chExt cx="34920" cy="42480"/>
              </a:xfrm>
            </p:grpSpPr>
            <p:sp>
              <p:nvSpPr>
                <p:cNvPr id="6274" name=""/>
                <p:cNvSpPr/>
                <p:nvPr/>
              </p:nvSpPr>
              <p:spPr>
                <a:xfrm>
                  <a:off x="7608240" y="3413520"/>
                  <a:ext cx="33840" cy="154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 flipV="1">
                  <a:off x="7609320" y="3398400"/>
                  <a:ext cx="1440" cy="42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 flipV="1">
                  <a:off x="7642080" y="3398400"/>
                  <a:ext cx="1080" cy="42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7" name=""/>
              <p:cNvGrpSpPr/>
              <p:nvPr/>
            </p:nvGrpSpPr>
            <p:grpSpPr>
              <a:xfrm>
                <a:off x="8151480" y="3395160"/>
                <a:ext cx="34920" cy="43560"/>
                <a:chOff x="8151480" y="3395160"/>
                <a:chExt cx="34920" cy="43560"/>
              </a:xfrm>
            </p:grpSpPr>
            <p:sp>
              <p:nvSpPr>
                <p:cNvPr id="6278" name=""/>
                <p:cNvSpPr/>
                <p:nvPr/>
              </p:nvSpPr>
              <p:spPr>
                <a:xfrm>
                  <a:off x="8151480" y="3410640"/>
                  <a:ext cx="33840" cy="154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 flipV="1">
                  <a:off x="8154360" y="3395160"/>
                  <a:ext cx="1080" cy="43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 flipV="1">
                  <a:off x="8185320" y="3395160"/>
                  <a:ext cx="1080" cy="43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281" name=""/>
            <p:cNvSpPr/>
            <p:nvPr/>
          </p:nvSpPr>
          <p:spPr>
            <a:xfrm>
              <a:off x="8265600" y="3757320"/>
              <a:ext cx="479520" cy="69480"/>
            </a:xfrm>
            <a:custGeom>
              <a:avLst/>
              <a:gdLst/>
              <a:ahLst/>
              <a:rect l="l" t="t" r="r" b="b"/>
              <a:pathLst>
                <a:path w="677" h="98">
                  <a:moveTo>
                    <a:pt x="77" y="3"/>
                  </a:moveTo>
                  <a:lnTo>
                    <a:pt x="0" y="77"/>
                  </a:lnTo>
                  <a:lnTo>
                    <a:pt x="25" y="98"/>
                  </a:lnTo>
                  <a:lnTo>
                    <a:pt x="92" y="35"/>
                  </a:lnTo>
                  <a:lnTo>
                    <a:pt x="596" y="35"/>
                  </a:lnTo>
                  <a:lnTo>
                    <a:pt x="658" y="79"/>
                  </a:lnTo>
                  <a:lnTo>
                    <a:pt x="677" y="51"/>
                  </a:lnTo>
                  <a:lnTo>
                    <a:pt x="61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8748360" y="3791520"/>
              <a:ext cx="25200" cy="165960"/>
            </a:xfrm>
            <a:prstGeom prst="rect">
              <a:avLst/>
            </a:prstGeom>
            <a:solidFill>
              <a:srgbClr val="bfbfb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8775360" y="3814560"/>
              <a:ext cx="49320" cy="49320"/>
            </a:xfrm>
            <a:prstGeom prst="rect">
              <a:avLst/>
            </a:prstGeom>
            <a:solidFill>
              <a:srgbClr val="bfbfb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84" name=""/>
            <p:cNvGrpSpPr/>
            <p:nvPr/>
          </p:nvGrpSpPr>
          <p:grpSpPr>
            <a:xfrm>
              <a:off x="7288920" y="3373920"/>
              <a:ext cx="1230120" cy="30960"/>
              <a:chOff x="7288920" y="3373920"/>
              <a:chExt cx="1230120" cy="30960"/>
            </a:xfrm>
          </p:grpSpPr>
          <p:sp>
            <p:nvSpPr>
              <p:cNvPr id="6285" name=""/>
              <p:cNvSpPr/>
              <p:nvPr/>
            </p:nvSpPr>
            <p:spPr>
              <a:xfrm>
                <a:off x="7288920" y="3373920"/>
                <a:ext cx="158760" cy="30960"/>
              </a:xfrm>
              <a:custGeom>
                <a:avLst/>
                <a:gdLst/>
                <a:ahLst/>
                <a:rect l="l" t="t" r="r" b="b"/>
                <a:pathLst>
                  <a:path w="224" h="43">
                    <a:moveTo>
                      <a:pt x="0" y="0"/>
                    </a:moveTo>
                    <a:lnTo>
                      <a:pt x="224" y="0"/>
                    </a:lnTo>
                    <a:lnTo>
                      <a:pt x="224" y="42"/>
                    </a:lnTo>
                    <a:lnTo>
                      <a:pt x="190" y="42"/>
                    </a:lnTo>
                    <a:lnTo>
                      <a:pt x="190" y="32"/>
                    </a:lnTo>
                    <a:lnTo>
                      <a:pt x="35" y="32"/>
                    </a:lnTo>
                    <a:lnTo>
                      <a:pt x="35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8358840" y="3373920"/>
                <a:ext cx="160200" cy="30960"/>
              </a:xfrm>
              <a:custGeom>
                <a:avLst/>
                <a:gdLst/>
                <a:ahLst/>
                <a:rect l="l" t="t" r="r" b="b"/>
                <a:pathLst>
                  <a:path w="225" h="43">
                    <a:moveTo>
                      <a:pt x="0" y="0"/>
                    </a:moveTo>
                    <a:lnTo>
                      <a:pt x="225" y="0"/>
                    </a:lnTo>
                    <a:lnTo>
                      <a:pt x="225" y="42"/>
                    </a:lnTo>
                    <a:lnTo>
                      <a:pt x="191" y="42"/>
                    </a:lnTo>
                    <a:lnTo>
                      <a:pt x="191" y="32"/>
                    </a:lnTo>
                    <a:lnTo>
                      <a:pt x="35" y="32"/>
                    </a:lnTo>
                    <a:lnTo>
                      <a:pt x="35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7825320" y="3373920"/>
                <a:ext cx="158760" cy="30960"/>
              </a:xfrm>
              <a:custGeom>
                <a:avLst/>
                <a:gdLst/>
                <a:ahLst/>
                <a:rect l="l" t="t" r="r" b="b"/>
                <a:pathLst>
                  <a:path w="226" h="43">
                    <a:moveTo>
                      <a:pt x="0" y="0"/>
                    </a:moveTo>
                    <a:lnTo>
                      <a:pt x="226" y="0"/>
                    </a:lnTo>
                    <a:lnTo>
                      <a:pt x="226" y="42"/>
                    </a:lnTo>
                    <a:lnTo>
                      <a:pt x="192" y="42"/>
                    </a:lnTo>
                    <a:lnTo>
                      <a:pt x="192" y="32"/>
                    </a:lnTo>
                    <a:lnTo>
                      <a:pt x="35" y="32"/>
                    </a:lnTo>
                    <a:lnTo>
                      <a:pt x="35" y="43"/>
                    </a:lnTo>
                    <a:lnTo>
                      <a:pt x="0" y="4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f9f9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8" name=""/>
            <p:cNvGrpSpPr/>
            <p:nvPr/>
          </p:nvGrpSpPr>
          <p:grpSpPr>
            <a:xfrm>
              <a:off x="6283800" y="3809880"/>
              <a:ext cx="2454120" cy="246960"/>
              <a:chOff x="6283800" y="3809880"/>
              <a:chExt cx="2454120" cy="246960"/>
            </a:xfrm>
          </p:grpSpPr>
          <p:grpSp>
            <p:nvGrpSpPr>
              <p:cNvPr id="6289" name=""/>
              <p:cNvGrpSpPr/>
              <p:nvPr/>
            </p:nvGrpSpPr>
            <p:grpSpPr>
              <a:xfrm>
                <a:off x="7080120" y="3821400"/>
                <a:ext cx="234000" cy="235440"/>
                <a:chOff x="7080120" y="3821400"/>
                <a:chExt cx="234000" cy="235440"/>
              </a:xfrm>
            </p:grpSpPr>
            <p:sp>
              <p:nvSpPr>
                <p:cNvPr id="6290" name=""/>
                <p:cNvSpPr/>
                <p:nvPr/>
              </p:nvSpPr>
              <p:spPr>
                <a:xfrm>
                  <a:off x="7080120" y="3821400"/>
                  <a:ext cx="234000" cy="2354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91" name=""/>
                <p:cNvGrpSpPr/>
                <p:nvPr/>
              </p:nvGrpSpPr>
              <p:grpSpPr>
                <a:xfrm>
                  <a:off x="7126560" y="3867840"/>
                  <a:ext cx="138960" cy="140400"/>
                  <a:chOff x="7126560" y="3867840"/>
                  <a:chExt cx="138960" cy="140400"/>
                </a:xfrm>
              </p:grpSpPr>
              <p:grpSp>
                <p:nvGrpSpPr>
                  <p:cNvPr id="6292" name=""/>
                  <p:cNvGrpSpPr/>
                  <p:nvPr/>
                </p:nvGrpSpPr>
                <p:grpSpPr>
                  <a:xfrm>
                    <a:off x="7126560" y="3867840"/>
                    <a:ext cx="138960" cy="140400"/>
                    <a:chOff x="7126560" y="3867840"/>
                    <a:chExt cx="138960" cy="140400"/>
                  </a:xfrm>
                </p:grpSpPr>
                <p:sp>
                  <p:nvSpPr>
                    <p:cNvPr id="6293" name=""/>
                    <p:cNvSpPr/>
                    <p:nvPr/>
                  </p:nvSpPr>
                  <p:spPr>
                    <a:xfrm>
                      <a:off x="7126560" y="3867840"/>
                      <a:ext cx="138960" cy="1404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4" name=""/>
                    <p:cNvSpPr/>
                    <p:nvPr/>
                  </p:nvSpPr>
                  <p:spPr>
                    <a:xfrm>
                      <a:off x="7142040" y="3881880"/>
                      <a:ext cx="108720" cy="109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95" name=""/>
                  <p:cNvGrpSpPr/>
                  <p:nvPr/>
                </p:nvGrpSpPr>
                <p:grpSpPr>
                  <a:xfrm>
                    <a:off x="7142040" y="3883320"/>
                    <a:ext cx="105480" cy="104400"/>
                    <a:chOff x="7142040" y="3883320"/>
                    <a:chExt cx="105480" cy="104400"/>
                  </a:xfrm>
                </p:grpSpPr>
                <p:sp>
                  <p:nvSpPr>
                    <p:cNvPr id="6296" name=""/>
                    <p:cNvSpPr/>
                    <p:nvPr/>
                  </p:nvSpPr>
                  <p:spPr>
                    <a:xfrm>
                      <a:off x="7171200" y="3883320"/>
                      <a:ext cx="38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6">
                          <a:moveTo>
                            <a:pt x="0" y="8"/>
                          </a:moveTo>
                          <a:lnTo>
                            <a:pt x="2" y="17"/>
                          </a:lnTo>
                          <a:lnTo>
                            <a:pt x="3" y="23"/>
                          </a:lnTo>
                          <a:lnTo>
                            <a:pt x="7" y="27"/>
                          </a:lnTo>
                          <a:lnTo>
                            <a:pt x="10" y="31"/>
                          </a:lnTo>
                          <a:lnTo>
                            <a:pt x="17" y="35"/>
                          </a:lnTo>
                          <a:lnTo>
                            <a:pt x="27" y="36"/>
                          </a:lnTo>
                          <a:lnTo>
                            <a:pt x="33" y="36"/>
                          </a:lnTo>
                          <a:lnTo>
                            <a:pt x="40" y="33"/>
                          </a:lnTo>
                          <a:lnTo>
                            <a:pt x="47" y="27"/>
                          </a:lnTo>
                          <a:lnTo>
                            <a:pt x="51" y="21"/>
                          </a:lnTo>
                          <a:lnTo>
                            <a:pt x="52" y="10"/>
                          </a:lnTo>
                          <a:lnTo>
                            <a:pt x="51" y="2"/>
                          </a:lnTo>
                          <a:lnTo>
                            <a:pt x="40" y="0"/>
                          </a:lnTo>
                          <a:lnTo>
                            <a:pt x="29" y="0"/>
                          </a:lnTo>
                          <a:lnTo>
                            <a:pt x="21" y="1"/>
                          </a:lnTo>
                          <a:lnTo>
                            <a:pt x="11" y="2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7" name=""/>
                    <p:cNvSpPr/>
                    <p:nvPr/>
                  </p:nvSpPr>
                  <p:spPr>
                    <a:xfrm>
                      <a:off x="7142040" y="3911400"/>
                      <a:ext cx="262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52">
                          <a:moveTo>
                            <a:pt x="10" y="0"/>
                          </a:moveTo>
                          <a:lnTo>
                            <a:pt x="16" y="0"/>
                          </a:lnTo>
                          <a:lnTo>
                            <a:pt x="25" y="3"/>
                          </a:lnTo>
                          <a:lnTo>
                            <a:pt x="30" y="7"/>
                          </a:lnTo>
                          <a:lnTo>
                            <a:pt x="34" y="13"/>
                          </a:lnTo>
                          <a:lnTo>
                            <a:pt x="38" y="22"/>
                          </a:lnTo>
                          <a:lnTo>
                            <a:pt x="38" y="34"/>
                          </a:lnTo>
                          <a:lnTo>
                            <a:pt x="32" y="44"/>
                          </a:lnTo>
                          <a:lnTo>
                            <a:pt x="23" y="50"/>
                          </a:lnTo>
                          <a:lnTo>
                            <a:pt x="12" y="52"/>
                          </a:lnTo>
                          <a:lnTo>
                            <a:pt x="3" y="51"/>
                          </a:lnTo>
                          <a:lnTo>
                            <a:pt x="0" y="41"/>
                          </a:lnTo>
                          <a:lnTo>
                            <a:pt x="0" y="30"/>
                          </a:lnTo>
                          <a:lnTo>
                            <a:pt x="3" y="20"/>
                          </a:lnTo>
                          <a:lnTo>
                            <a:pt x="5" y="9"/>
                          </a:lnTo>
                          <a:lnTo>
                            <a:pt x="1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8" name=""/>
                    <p:cNvSpPr/>
                    <p:nvPr/>
                  </p:nvSpPr>
                  <p:spPr>
                    <a:xfrm>
                      <a:off x="7219440" y="3900240"/>
                      <a:ext cx="280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53">
                          <a:moveTo>
                            <a:pt x="22" y="0"/>
                          </a:moveTo>
                          <a:lnTo>
                            <a:pt x="11" y="4"/>
                          </a:lnTo>
                          <a:lnTo>
                            <a:pt x="5" y="10"/>
                          </a:lnTo>
                          <a:lnTo>
                            <a:pt x="2" y="16"/>
                          </a:lnTo>
                          <a:lnTo>
                            <a:pt x="0" y="21"/>
                          </a:lnTo>
                          <a:lnTo>
                            <a:pt x="1" y="27"/>
                          </a:lnTo>
                          <a:lnTo>
                            <a:pt x="2" y="37"/>
                          </a:lnTo>
                          <a:lnTo>
                            <a:pt x="7" y="43"/>
                          </a:lnTo>
                          <a:lnTo>
                            <a:pt x="10" y="47"/>
                          </a:lnTo>
                          <a:lnTo>
                            <a:pt x="18" y="51"/>
                          </a:lnTo>
                          <a:lnTo>
                            <a:pt x="25" y="53"/>
                          </a:lnTo>
                          <a:lnTo>
                            <a:pt x="34" y="52"/>
                          </a:lnTo>
                          <a:lnTo>
                            <a:pt x="41" y="48"/>
                          </a:lnTo>
                          <a:lnTo>
                            <a:pt x="37" y="32"/>
                          </a:lnTo>
                          <a:lnTo>
                            <a:pt x="35" y="24"/>
                          </a:lnTo>
                          <a:lnTo>
                            <a:pt x="29" y="11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9" name=""/>
                    <p:cNvSpPr/>
                    <p:nvPr/>
                  </p:nvSpPr>
                  <p:spPr>
                    <a:xfrm>
                      <a:off x="7154280" y="3959640"/>
                      <a:ext cx="3528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40">
                          <a:moveTo>
                            <a:pt x="0" y="15"/>
                          </a:moveTo>
                          <a:lnTo>
                            <a:pt x="5" y="10"/>
                          </a:lnTo>
                          <a:lnTo>
                            <a:pt x="9" y="7"/>
                          </a:lnTo>
                          <a:lnTo>
                            <a:pt x="14" y="2"/>
                          </a:lnTo>
                          <a:lnTo>
                            <a:pt x="23" y="0"/>
                          </a:lnTo>
                          <a:lnTo>
                            <a:pt x="30" y="0"/>
                          </a:lnTo>
                          <a:lnTo>
                            <a:pt x="39" y="3"/>
                          </a:lnTo>
                          <a:lnTo>
                            <a:pt x="45" y="7"/>
                          </a:lnTo>
                          <a:lnTo>
                            <a:pt x="49" y="11"/>
                          </a:lnTo>
                          <a:lnTo>
                            <a:pt x="50" y="22"/>
                          </a:lnTo>
                          <a:lnTo>
                            <a:pt x="49" y="30"/>
                          </a:lnTo>
                          <a:lnTo>
                            <a:pt x="46" y="40"/>
                          </a:lnTo>
                          <a:lnTo>
                            <a:pt x="33" y="37"/>
                          </a:lnTo>
                          <a:lnTo>
                            <a:pt x="18" y="30"/>
                          </a:lnTo>
                          <a:lnTo>
                            <a:pt x="7" y="24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0" name=""/>
                    <p:cNvSpPr/>
                    <p:nvPr/>
                  </p:nvSpPr>
                  <p:spPr>
                    <a:xfrm>
                      <a:off x="7209720" y="3952440"/>
                      <a:ext cx="3240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8">
                          <a:moveTo>
                            <a:pt x="45" y="12"/>
                          </a:moveTo>
                          <a:lnTo>
                            <a:pt x="41" y="6"/>
                          </a:lnTo>
                          <a:lnTo>
                            <a:pt x="37" y="4"/>
                          </a:lnTo>
                          <a:lnTo>
                            <a:pt x="33" y="2"/>
                          </a:lnTo>
                          <a:lnTo>
                            <a:pt x="23" y="0"/>
                          </a:lnTo>
                          <a:lnTo>
                            <a:pt x="14" y="2"/>
                          </a:lnTo>
                          <a:lnTo>
                            <a:pt x="8" y="7"/>
                          </a:lnTo>
                          <a:lnTo>
                            <a:pt x="6" y="9"/>
                          </a:lnTo>
                          <a:lnTo>
                            <a:pt x="1" y="15"/>
                          </a:lnTo>
                          <a:lnTo>
                            <a:pt x="0" y="23"/>
                          </a:lnTo>
                          <a:lnTo>
                            <a:pt x="0" y="32"/>
                          </a:lnTo>
                          <a:lnTo>
                            <a:pt x="4" y="40"/>
                          </a:lnTo>
                          <a:lnTo>
                            <a:pt x="10" y="48"/>
                          </a:lnTo>
                          <a:lnTo>
                            <a:pt x="23" y="39"/>
                          </a:lnTo>
                          <a:lnTo>
                            <a:pt x="33" y="33"/>
                          </a:lnTo>
                          <a:lnTo>
                            <a:pt x="40" y="22"/>
                          </a:lnTo>
                          <a:lnTo>
                            <a:pt x="45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01" name=""/>
                  <p:cNvSpPr/>
                  <p:nvPr/>
                </p:nvSpPr>
                <p:spPr>
                  <a:xfrm>
                    <a:off x="7178760" y="3920040"/>
                    <a:ext cx="33840" cy="35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02" name=""/>
              <p:cNvGrpSpPr/>
              <p:nvPr/>
            </p:nvGrpSpPr>
            <p:grpSpPr>
              <a:xfrm>
                <a:off x="8266680" y="3809880"/>
                <a:ext cx="232560" cy="235440"/>
                <a:chOff x="8266680" y="3809880"/>
                <a:chExt cx="232560" cy="235440"/>
              </a:xfrm>
            </p:grpSpPr>
            <p:sp>
              <p:nvSpPr>
                <p:cNvPr id="6303" name=""/>
                <p:cNvSpPr/>
                <p:nvPr/>
              </p:nvSpPr>
              <p:spPr>
                <a:xfrm>
                  <a:off x="8266680" y="3809880"/>
                  <a:ext cx="232560" cy="2354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04" name=""/>
                <p:cNvGrpSpPr/>
                <p:nvPr/>
              </p:nvGrpSpPr>
              <p:grpSpPr>
                <a:xfrm>
                  <a:off x="8312040" y="3856680"/>
                  <a:ext cx="140400" cy="140040"/>
                  <a:chOff x="8312040" y="3856680"/>
                  <a:chExt cx="140400" cy="140040"/>
                </a:xfrm>
              </p:grpSpPr>
              <p:grpSp>
                <p:nvGrpSpPr>
                  <p:cNvPr id="6305" name=""/>
                  <p:cNvGrpSpPr/>
                  <p:nvPr/>
                </p:nvGrpSpPr>
                <p:grpSpPr>
                  <a:xfrm>
                    <a:off x="8312040" y="3856680"/>
                    <a:ext cx="140400" cy="140040"/>
                    <a:chOff x="8312040" y="3856680"/>
                    <a:chExt cx="140400" cy="140040"/>
                  </a:xfrm>
                </p:grpSpPr>
                <p:grpSp>
                  <p:nvGrpSpPr>
                    <p:cNvPr id="6306" name=""/>
                    <p:cNvGrpSpPr/>
                    <p:nvPr/>
                  </p:nvGrpSpPr>
                  <p:grpSpPr>
                    <a:xfrm>
                      <a:off x="8312040" y="3856680"/>
                      <a:ext cx="140400" cy="140040"/>
                      <a:chOff x="8312040" y="3856680"/>
                      <a:chExt cx="140400" cy="140040"/>
                    </a:xfrm>
                  </p:grpSpPr>
                  <p:sp>
                    <p:nvSpPr>
                      <p:cNvPr id="6307" name=""/>
                      <p:cNvSpPr/>
                      <p:nvPr/>
                    </p:nvSpPr>
                    <p:spPr>
                      <a:xfrm>
                        <a:off x="8312040" y="3856680"/>
                        <a:ext cx="140400" cy="1400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08" name=""/>
                      <p:cNvSpPr/>
                      <p:nvPr/>
                    </p:nvSpPr>
                    <p:spPr>
                      <a:xfrm>
                        <a:off x="8327520" y="3871800"/>
                        <a:ext cx="110520" cy="1090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09" name=""/>
                    <p:cNvGrpSpPr/>
                    <p:nvPr/>
                  </p:nvGrpSpPr>
                  <p:grpSpPr>
                    <a:xfrm>
                      <a:off x="8328960" y="3873600"/>
                      <a:ext cx="107280" cy="105840"/>
                      <a:chOff x="8328960" y="3873600"/>
                      <a:chExt cx="107280" cy="105840"/>
                    </a:xfrm>
                  </p:grpSpPr>
                  <p:sp>
                    <p:nvSpPr>
                      <p:cNvPr id="6310" name=""/>
                      <p:cNvSpPr/>
                      <p:nvPr/>
                    </p:nvSpPr>
                    <p:spPr>
                      <a:xfrm>
                        <a:off x="8335800" y="3877560"/>
                        <a:ext cx="3528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58">
                            <a:moveTo>
                              <a:pt x="28" y="0"/>
                            </a:moveTo>
                            <a:lnTo>
                              <a:pt x="52" y="49"/>
                            </a:lnTo>
                            <a:lnTo>
                              <a:pt x="42" y="58"/>
                            </a:lnTo>
                            <a:lnTo>
                              <a:pt x="0" y="29"/>
                            </a:lnTo>
                            <a:lnTo>
                              <a:pt x="9" y="17"/>
                            </a:lnTo>
                            <a:lnTo>
                              <a:pt x="16" y="9"/>
                            </a:lnTo>
                            <a:lnTo>
                              <a:pt x="2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1" name=""/>
                      <p:cNvSpPr/>
                      <p:nvPr/>
                    </p:nvSpPr>
                    <p:spPr>
                      <a:xfrm>
                        <a:off x="8385840" y="3873600"/>
                        <a:ext cx="3348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55">
                            <a:moveTo>
                              <a:pt x="14" y="0"/>
                            </a:moveTo>
                            <a:lnTo>
                              <a:pt x="0" y="49"/>
                            </a:lnTo>
                            <a:lnTo>
                              <a:pt x="12" y="55"/>
                            </a:lnTo>
                            <a:lnTo>
                              <a:pt x="49" y="19"/>
                            </a:lnTo>
                            <a:lnTo>
                              <a:pt x="41" y="11"/>
                            </a:lnTo>
                            <a:lnTo>
                              <a:pt x="34" y="6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2" name=""/>
                      <p:cNvSpPr/>
                      <p:nvPr/>
                    </p:nvSpPr>
                    <p:spPr>
                      <a:xfrm>
                        <a:off x="8328960" y="3929760"/>
                        <a:ext cx="38160" cy="2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43">
                            <a:moveTo>
                              <a:pt x="46" y="0"/>
                            </a:moveTo>
                            <a:lnTo>
                              <a:pt x="0" y="11"/>
                            </a:lnTo>
                            <a:lnTo>
                              <a:pt x="1" y="21"/>
                            </a:lnTo>
                            <a:lnTo>
                              <a:pt x="6" y="31"/>
                            </a:lnTo>
                            <a:lnTo>
                              <a:pt x="13" y="43"/>
                            </a:lnTo>
                            <a:lnTo>
                              <a:pt x="54" y="14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280" bIns="-17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3" name=""/>
                      <p:cNvSpPr/>
                      <p:nvPr/>
                    </p:nvSpPr>
                    <p:spPr>
                      <a:xfrm>
                        <a:off x="8373960" y="3944160"/>
                        <a:ext cx="2808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51">
                            <a:moveTo>
                              <a:pt x="8" y="2"/>
                            </a:moveTo>
                            <a:lnTo>
                              <a:pt x="0" y="51"/>
                            </a:lnTo>
                            <a:lnTo>
                              <a:pt x="14" y="51"/>
                            </a:lnTo>
                            <a:lnTo>
                              <a:pt x="28" y="49"/>
                            </a:lnTo>
                            <a:lnTo>
                              <a:pt x="41" y="45"/>
                            </a:lnTo>
                            <a:lnTo>
                              <a:pt x="19" y="0"/>
                            </a:lnTo>
                            <a:lnTo>
                              <a:pt x="8" y="2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14" name=""/>
                      <p:cNvSpPr/>
                      <p:nvPr/>
                    </p:nvSpPr>
                    <p:spPr>
                      <a:xfrm>
                        <a:off x="8399880" y="3924360"/>
                        <a:ext cx="3636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5">
                            <a:moveTo>
                              <a:pt x="0" y="17"/>
                            </a:moveTo>
                            <a:lnTo>
                              <a:pt x="45" y="35"/>
                            </a:lnTo>
                            <a:lnTo>
                              <a:pt x="49" y="25"/>
                            </a:lnTo>
                            <a:lnTo>
                              <a:pt x="51" y="13"/>
                            </a:lnTo>
                            <a:lnTo>
                              <a:pt x="52" y="0"/>
                            </a:lnTo>
                            <a:lnTo>
                              <a:pt x="3" y="1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315" name=""/>
                  <p:cNvSpPr/>
                  <p:nvPr/>
                </p:nvSpPr>
                <p:spPr>
                  <a:xfrm>
                    <a:off x="8364240" y="3910320"/>
                    <a:ext cx="35640" cy="33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16" name=""/>
              <p:cNvGrpSpPr/>
              <p:nvPr/>
            </p:nvGrpSpPr>
            <p:grpSpPr>
              <a:xfrm>
                <a:off x="8505360" y="3809880"/>
                <a:ext cx="232560" cy="234360"/>
                <a:chOff x="8505360" y="3809880"/>
                <a:chExt cx="232560" cy="234360"/>
              </a:xfrm>
            </p:grpSpPr>
            <p:sp>
              <p:nvSpPr>
                <p:cNvPr id="6317" name=""/>
                <p:cNvSpPr/>
                <p:nvPr/>
              </p:nvSpPr>
              <p:spPr>
                <a:xfrm>
                  <a:off x="8505360" y="3809880"/>
                  <a:ext cx="232560" cy="23436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18" name=""/>
                <p:cNvGrpSpPr/>
                <p:nvPr/>
              </p:nvGrpSpPr>
              <p:grpSpPr>
                <a:xfrm>
                  <a:off x="8552160" y="3856680"/>
                  <a:ext cx="138960" cy="138960"/>
                  <a:chOff x="8552160" y="3856680"/>
                  <a:chExt cx="138960" cy="138960"/>
                </a:xfrm>
              </p:grpSpPr>
              <p:grpSp>
                <p:nvGrpSpPr>
                  <p:cNvPr id="6319" name=""/>
                  <p:cNvGrpSpPr/>
                  <p:nvPr/>
                </p:nvGrpSpPr>
                <p:grpSpPr>
                  <a:xfrm>
                    <a:off x="8552160" y="3856680"/>
                    <a:ext cx="138960" cy="138960"/>
                    <a:chOff x="8552160" y="3856680"/>
                    <a:chExt cx="138960" cy="138960"/>
                  </a:xfrm>
                </p:grpSpPr>
                <p:grpSp>
                  <p:nvGrpSpPr>
                    <p:cNvPr id="6320" name=""/>
                    <p:cNvGrpSpPr/>
                    <p:nvPr/>
                  </p:nvGrpSpPr>
                  <p:grpSpPr>
                    <a:xfrm>
                      <a:off x="8552160" y="3856680"/>
                      <a:ext cx="138960" cy="138960"/>
                      <a:chOff x="8552160" y="3856680"/>
                      <a:chExt cx="138960" cy="138960"/>
                    </a:xfrm>
                  </p:grpSpPr>
                  <p:sp>
                    <p:nvSpPr>
                      <p:cNvPr id="6321" name=""/>
                      <p:cNvSpPr/>
                      <p:nvPr/>
                    </p:nvSpPr>
                    <p:spPr>
                      <a:xfrm>
                        <a:off x="8552160" y="3856680"/>
                        <a:ext cx="138960" cy="13896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22" name=""/>
                      <p:cNvSpPr/>
                      <p:nvPr/>
                    </p:nvSpPr>
                    <p:spPr>
                      <a:xfrm>
                        <a:off x="8567280" y="3870720"/>
                        <a:ext cx="107640" cy="10872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792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240" bIns="30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323" name=""/>
                    <p:cNvGrpSpPr/>
                    <p:nvPr/>
                  </p:nvGrpSpPr>
                  <p:grpSpPr>
                    <a:xfrm>
                      <a:off x="8568720" y="3873600"/>
                      <a:ext cx="105840" cy="105840"/>
                      <a:chOff x="8568720" y="3873600"/>
                      <a:chExt cx="105840" cy="105840"/>
                    </a:xfrm>
                  </p:grpSpPr>
                  <p:sp>
                    <p:nvSpPr>
                      <p:cNvPr id="6324" name=""/>
                      <p:cNvSpPr/>
                      <p:nvPr/>
                    </p:nvSpPr>
                    <p:spPr>
                      <a:xfrm>
                        <a:off x="8574480" y="3876480"/>
                        <a:ext cx="36720" cy="40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58">
                            <a:moveTo>
                              <a:pt x="28" y="0"/>
                            </a:moveTo>
                            <a:lnTo>
                              <a:pt x="52" y="48"/>
                            </a:lnTo>
                            <a:lnTo>
                              <a:pt x="42" y="58"/>
                            </a:lnTo>
                            <a:lnTo>
                              <a:pt x="0" y="28"/>
                            </a:lnTo>
                            <a:lnTo>
                              <a:pt x="10" y="17"/>
                            </a:lnTo>
                            <a:lnTo>
                              <a:pt x="17" y="8"/>
                            </a:lnTo>
                            <a:lnTo>
                              <a:pt x="28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120" bIns="-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25" name=""/>
                      <p:cNvSpPr/>
                      <p:nvPr/>
                    </p:nvSpPr>
                    <p:spPr>
                      <a:xfrm>
                        <a:off x="8623800" y="3873600"/>
                        <a:ext cx="3384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55">
                            <a:moveTo>
                              <a:pt x="15" y="0"/>
                            </a:moveTo>
                            <a:lnTo>
                              <a:pt x="0" y="49"/>
                            </a:lnTo>
                            <a:lnTo>
                              <a:pt x="13" y="55"/>
                            </a:lnTo>
                            <a:lnTo>
                              <a:pt x="50" y="18"/>
                            </a:lnTo>
                            <a:lnTo>
                              <a:pt x="42" y="11"/>
                            </a:lnTo>
                            <a:lnTo>
                              <a:pt x="34" y="5"/>
                            </a:lnTo>
                            <a:lnTo>
                              <a:pt x="15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26" name=""/>
                      <p:cNvSpPr/>
                      <p:nvPr/>
                    </p:nvSpPr>
                    <p:spPr>
                      <a:xfrm>
                        <a:off x="8568720" y="3928680"/>
                        <a:ext cx="38160" cy="2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4" h="42">
                            <a:moveTo>
                              <a:pt x="46" y="0"/>
                            </a:moveTo>
                            <a:lnTo>
                              <a:pt x="0" y="11"/>
                            </a:lnTo>
                            <a:lnTo>
                              <a:pt x="1" y="21"/>
                            </a:lnTo>
                            <a:lnTo>
                              <a:pt x="6" y="31"/>
                            </a:lnTo>
                            <a:lnTo>
                              <a:pt x="13" y="42"/>
                            </a:lnTo>
                            <a:lnTo>
                              <a:pt x="54" y="14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7640" bIns="-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27" name=""/>
                      <p:cNvSpPr/>
                      <p:nvPr/>
                    </p:nvSpPr>
                    <p:spPr>
                      <a:xfrm>
                        <a:off x="8612640" y="3944160"/>
                        <a:ext cx="28080" cy="3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51">
                            <a:moveTo>
                              <a:pt x="7" y="1"/>
                            </a:moveTo>
                            <a:lnTo>
                              <a:pt x="0" y="51"/>
                            </a:lnTo>
                            <a:lnTo>
                              <a:pt x="13" y="51"/>
                            </a:lnTo>
                            <a:lnTo>
                              <a:pt x="27" y="48"/>
                            </a:lnTo>
                            <a:lnTo>
                              <a:pt x="40" y="45"/>
                            </a:lnTo>
                            <a:lnTo>
                              <a:pt x="18" y="0"/>
                            </a:lnTo>
                            <a:lnTo>
                              <a:pt x="7" y="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520" bIns="-11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28" name=""/>
                      <p:cNvSpPr/>
                      <p:nvPr/>
                    </p:nvSpPr>
                    <p:spPr>
                      <a:xfrm>
                        <a:off x="8638200" y="3924360"/>
                        <a:ext cx="3636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35">
                            <a:moveTo>
                              <a:pt x="0" y="17"/>
                            </a:moveTo>
                            <a:lnTo>
                              <a:pt x="45" y="35"/>
                            </a:lnTo>
                            <a:lnTo>
                              <a:pt x="49" y="25"/>
                            </a:lnTo>
                            <a:lnTo>
                              <a:pt x="51" y="13"/>
                            </a:lnTo>
                            <a:lnTo>
                              <a:pt x="52" y="0"/>
                            </a:lnTo>
                            <a:lnTo>
                              <a:pt x="3" y="1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329" name=""/>
                  <p:cNvSpPr/>
                  <p:nvPr/>
                </p:nvSpPr>
                <p:spPr>
                  <a:xfrm>
                    <a:off x="8604360" y="3908880"/>
                    <a:ext cx="32400" cy="338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330" name=""/>
              <p:cNvGrpSpPr/>
              <p:nvPr/>
            </p:nvGrpSpPr>
            <p:grpSpPr>
              <a:xfrm>
                <a:off x="6283800" y="3821400"/>
                <a:ext cx="232560" cy="235440"/>
                <a:chOff x="6283800" y="3821400"/>
                <a:chExt cx="232560" cy="235440"/>
              </a:xfrm>
            </p:grpSpPr>
            <p:sp>
              <p:nvSpPr>
                <p:cNvPr id="6331" name=""/>
                <p:cNvSpPr/>
                <p:nvPr/>
              </p:nvSpPr>
              <p:spPr>
                <a:xfrm>
                  <a:off x="6283800" y="3821400"/>
                  <a:ext cx="232560" cy="2354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332" name=""/>
                <p:cNvGrpSpPr/>
                <p:nvPr/>
              </p:nvGrpSpPr>
              <p:grpSpPr>
                <a:xfrm>
                  <a:off x="6330240" y="3867840"/>
                  <a:ext cx="138960" cy="140400"/>
                  <a:chOff x="6330240" y="3867840"/>
                  <a:chExt cx="138960" cy="140400"/>
                </a:xfrm>
              </p:grpSpPr>
              <p:grpSp>
                <p:nvGrpSpPr>
                  <p:cNvPr id="6333" name=""/>
                  <p:cNvGrpSpPr/>
                  <p:nvPr/>
                </p:nvGrpSpPr>
                <p:grpSpPr>
                  <a:xfrm>
                    <a:off x="6330240" y="3867840"/>
                    <a:ext cx="138960" cy="140400"/>
                    <a:chOff x="6330240" y="3867840"/>
                    <a:chExt cx="138960" cy="140400"/>
                  </a:xfrm>
                </p:grpSpPr>
                <p:sp>
                  <p:nvSpPr>
                    <p:cNvPr id="6334" name=""/>
                    <p:cNvSpPr/>
                    <p:nvPr/>
                  </p:nvSpPr>
                  <p:spPr>
                    <a:xfrm>
                      <a:off x="6330240" y="3867840"/>
                      <a:ext cx="138960" cy="1404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5" name=""/>
                    <p:cNvSpPr/>
                    <p:nvPr/>
                  </p:nvSpPr>
                  <p:spPr>
                    <a:xfrm>
                      <a:off x="6345720" y="3881880"/>
                      <a:ext cx="107640" cy="109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600" bIns="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36" name=""/>
                  <p:cNvGrpSpPr/>
                  <p:nvPr/>
                </p:nvGrpSpPr>
                <p:grpSpPr>
                  <a:xfrm>
                    <a:off x="6345720" y="3883320"/>
                    <a:ext cx="107640" cy="104400"/>
                    <a:chOff x="6345720" y="3883320"/>
                    <a:chExt cx="107640" cy="104400"/>
                  </a:xfrm>
                </p:grpSpPr>
                <p:sp>
                  <p:nvSpPr>
                    <p:cNvPr id="6337" name=""/>
                    <p:cNvSpPr/>
                    <p:nvPr/>
                  </p:nvSpPr>
                  <p:spPr>
                    <a:xfrm>
                      <a:off x="6375240" y="3883320"/>
                      <a:ext cx="381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36">
                          <a:moveTo>
                            <a:pt x="0" y="8"/>
                          </a:moveTo>
                          <a:lnTo>
                            <a:pt x="2" y="17"/>
                          </a:lnTo>
                          <a:lnTo>
                            <a:pt x="3" y="23"/>
                          </a:lnTo>
                          <a:lnTo>
                            <a:pt x="7" y="27"/>
                          </a:lnTo>
                          <a:lnTo>
                            <a:pt x="11" y="31"/>
                          </a:lnTo>
                          <a:lnTo>
                            <a:pt x="18" y="35"/>
                          </a:lnTo>
                          <a:lnTo>
                            <a:pt x="27" y="36"/>
                          </a:lnTo>
                          <a:lnTo>
                            <a:pt x="33" y="36"/>
                          </a:lnTo>
                          <a:lnTo>
                            <a:pt x="40" y="33"/>
                          </a:lnTo>
                          <a:lnTo>
                            <a:pt x="47" y="27"/>
                          </a:lnTo>
                          <a:lnTo>
                            <a:pt x="52" y="21"/>
                          </a:lnTo>
                          <a:lnTo>
                            <a:pt x="53" y="10"/>
                          </a:lnTo>
                          <a:lnTo>
                            <a:pt x="52" y="2"/>
                          </a:lnTo>
                          <a:lnTo>
                            <a:pt x="40" y="0"/>
                          </a:lnTo>
                          <a:lnTo>
                            <a:pt x="29" y="0"/>
                          </a:lnTo>
                          <a:lnTo>
                            <a:pt x="21" y="1"/>
                          </a:lnTo>
                          <a:lnTo>
                            <a:pt x="12" y="2"/>
                          </a:lnTo>
                          <a:lnTo>
                            <a:pt x="0" y="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8" name=""/>
                    <p:cNvSpPr/>
                    <p:nvPr/>
                  </p:nvSpPr>
                  <p:spPr>
                    <a:xfrm>
                      <a:off x="6345720" y="3911400"/>
                      <a:ext cx="270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" h="52">
                          <a:moveTo>
                            <a:pt x="9" y="0"/>
                          </a:moveTo>
                          <a:lnTo>
                            <a:pt x="15" y="0"/>
                          </a:lnTo>
                          <a:lnTo>
                            <a:pt x="24" y="3"/>
                          </a:lnTo>
                          <a:lnTo>
                            <a:pt x="29" y="7"/>
                          </a:lnTo>
                          <a:lnTo>
                            <a:pt x="34" y="13"/>
                          </a:lnTo>
                          <a:lnTo>
                            <a:pt x="37" y="22"/>
                          </a:lnTo>
                          <a:lnTo>
                            <a:pt x="37" y="34"/>
                          </a:lnTo>
                          <a:lnTo>
                            <a:pt x="31" y="44"/>
                          </a:lnTo>
                          <a:lnTo>
                            <a:pt x="22" y="50"/>
                          </a:lnTo>
                          <a:lnTo>
                            <a:pt x="11" y="52"/>
                          </a:lnTo>
                          <a:lnTo>
                            <a:pt x="2" y="51"/>
                          </a:lnTo>
                          <a:lnTo>
                            <a:pt x="0" y="41"/>
                          </a:lnTo>
                          <a:lnTo>
                            <a:pt x="0" y="30"/>
                          </a:lnTo>
                          <a:lnTo>
                            <a:pt x="2" y="20"/>
                          </a:lnTo>
                          <a:lnTo>
                            <a:pt x="4" y="9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9" name=""/>
                    <p:cNvSpPr/>
                    <p:nvPr/>
                  </p:nvSpPr>
                  <p:spPr>
                    <a:xfrm>
                      <a:off x="6423480" y="3900240"/>
                      <a:ext cx="2988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53">
                          <a:moveTo>
                            <a:pt x="22" y="0"/>
                          </a:moveTo>
                          <a:lnTo>
                            <a:pt x="12" y="4"/>
                          </a:lnTo>
                          <a:lnTo>
                            <a:pt x="6" y="10"/>
                          </a:lnTo>
                          <a:lnTo>
                            <a:pt x="2" y="16"/>
                          </a:lnTo>
                          <a:lnTo>
                            <a:pt x="0" y="21"/>
                          </a:lnTo>
                          <a:lnTo>
                            <a:pt x="1" y="27"/>
                          </a:lnTo>
                          <a:lnTo>
                            <a:pt x="2" y="37"/>
                          </a:lnTo>
                          <a:lnTo>
                            <a:pt x="7" y="43"/>
                          </a:lnTo>
                          <a:lnTo>
                            <a:pt x="10" y="47"/>
                          </a:lnTo>
                          <a:lnTo>
                            <a:pt x="19" y="51"/>
                          </a:lnTo>
                          <a:lnTo>
                            <a:pt x="26" y="53"/>
                          </a:lnTo>
                          <a:lnTo>
                            <a:pt x="34" y="52"/>
                          </a:lnTo>
                          <a:lnTo>
                            <a:pt x="41" y="48"/>
                          </a:lnTo>
                          <a:lnTo>
                            <a:pt x="37" y="32"/>
                          </a:lnTo>
                          <a:lnTo>
                            <a:pt x="35" y="24"/>
                          </a:lnTo>
                          <a:lnTo>
                            <a:pt x="29" y="11"/>
                          </a:lnTo>
                          <a:lnTo>
                            <a:pt x="22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0" name=""/>
                    <p:cNvSpPr/>
                    <p:nvPr/>
                  </p:nvSpPr>
                  <p:spPr>
                    <a:xfrm>
                      <a:off x="6357960" y="3959640"/>
                      <a:ext cx="3564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0">
                          <a:moveTo>
                            <a:pt x="0" y="15"/>
                          </a:moveTo>
                          <a:lnTo>
                            <a:pt x="5" y="10"/>
                          </a:lnTo>
                          <a:lnTo>
                            <a:pt x="10" y="7"/>
                          </a:lnTo>
                          <a:lnTo>
                            <a:pt x="14" y="2"/>
                          </a:lnTo>
                          <a:lnTo>
                            <a:pt x="24" y="0"/>
                          </a:lnTo>
                          <a:lnTo>
                            <a:pt x="31" y="0"/>
                          </a:lnTo>
                          <a:lnTo>
                            <a:pt x="39" y="3"/>
                          </a:lnTo>
                          <a:lnTo>
                            <a:pt x="45" y="7"/>
                          </a:lnTo>
                          <a:lnTo>
                            <a:pt x="50" y="11"/>
                          </a:lnTo>
                          <a:lnTo>
                            <a:pt x="51" y="22"/>
                          </a:lnTo>
                          <a:lnTo>
                            <a:pt x="50" y="30"/>
                          </a:lnTo>
                          <a:lnTo>
                            <a:pt x="46" y="40"/>
                          </a:lnTo>
                          <a:lnTo>
                            <a:pt x="33" y="37"/>
                          </a:lnTo>
                          <a:lnTo>
                            <a:pt x="18" y="30"/>
                          </a:lnTo>
                          <a:lnTo>
                            <a:pt x="7" y="24"/>
                          </a:lnTo>
                          <a:lnTo>
                            <a:pt x="0" y="1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1" name=""/>
                    <p:cNvSpPr/>
                    <p:nvPr/>
                  </p:nvSpPr>
                  <p:spPr>
                    <a:xfrm>
                      <a:off x="6413400" y="3952440"/>
                      <a:ext cx="32760" cy="3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48">
                          <a:moveTo>
                            <a:pt x="46" y="12"/>
                          </a:moveTo>
                          <a:lnTo>
                            <a:pt x="41" y="6"/>
                          </a:lnTo>
                          <a:lnTo>
                            <a:pt x="38" y="4"/>
                          </a:lnTo>
                          <a:lnTo>
                            <a:pt x="33" y="2"/>
                          </a:lnTo>
                          <a:lnTo>
                            <a:pt x="23" y="0"/>
                          </a:lnTo>
                          <a:lnTo>
                            <a:pt x="14" y="2"/>
                          </a:lnTo>
                          <a:lnTo>
                            <a:pt x="8" y="7"/>
                          </a:lnTo>
                          <a:lnTo>
                            <a:pt x="6" y="9"/>
                          </a:lnTo>
                          <a:lnTo>
                            <a:pt x="1" y="15"/>
                          </a:lnTo>
                          <a:lnTo>
                            <a:pt x="0" y="23"/>
                          </a:lnTo>
                          <a:lnTo>
                            <a:pt x="0" y="32"/>
                          </a:lnTo>
                          <a:lnTo>
                            <a:pt x="5" y="40"/>
                          </a:lnTo>
                          <a:lnTo>
                            <a:pt x="11" y="48"/>
                          </a:lnTo>
                          <a:lnTo>
                            <a:pt x="23" y="39"/>
                          </a:lnTo>
                          <a:lnTo>
                            <a:pt x="33" y="33"/>
                          </a:lnTo>
                          <a:lnTo>
                            <a:pt x="40" y="22"/>
                          </a:lnTo>
                          <a:lnTo>
                            <a:pt x="46" y="1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42" name=""/>
                  <p:cNvSpPr/>
                  <p:nvPr/>
                </p:nvSpPr>
                <p:spPr>
                  <a:xfrm>
                    <a:off x="6382440" y="3920040"/>
                    <a:ext cx="33840" cy="3564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79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43" name=""/>
            <p:cNvGrpSpPr/>
            <p:nvPr/>
          </p:nvGrpSpPr>
          <p:grpSpPr>
            <a:xfrm>
              <a:off x="8203320" y="3396600"/>
              <a:ext cx="465480" cy="366480"/>
              <a:chOff x="8203320" y="3396600"/>
              <a:chExt cx="465480" cy="366480"/>
            </a:xfrm>
          </p:grpSpPr>
          <p:sp>
            <p:nvSpPr>
              <p:cNvPr id="6344" name=""/>
              <p:cNvSpPr/>
              <p:nvPr/>
            </p:nvSpPr>
            <p:spPr>
              <a:xfrm>
                <a:off x="8203320" y="3396600"/>
                <a:ext cx="465480" cy="366480"/>
              </a:xfrm>
              <a:custGeom>
                <a:avLst/>
                <a:gdLst/>
                <a:ahLst/>
                <a:rect l="l" t="t" r="r" b="b"/>
                <a:pathLst>
                  <a:path w="657" h="516">
                    <a:moveTo>
                      <a:pt x="284" y="0"/>
                    </a:moveTo>
                    <a:lnTo>
                      <a:pt x="284" y="44"/>
                    </a:lnTo>
                    <a:lnTo>
                      <a:pt x="0" y="44"/>
                    </a:lnTo>
                    <a:lnTo>
                      <a:pt x="0" y="515"/>
                    </a:lnTo>
                    <a:lnTo>
                      <a:pt x="655" y="516"/>
                    </a:lnTo>
                    <a:lnTo>
                      <a:pt x="657" y="44"/>
                    </a:lnTo>
                    <a:lnTo>
                      <a:pt x="383" y="44"/>
                    </a:lnTo>
                    <a:lnTo>
                      <a:pt x="383" y="0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bfbfb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8203320" y="3524400"/>
                <a:ext cx="465480" cy="238320"/>
              </a:xfrm>
              <a:custGeom>
                <a:avLst/>
                <a:gdLst/>
                <a:ahLst/>
                <a:rect l="l" t="t" r="r" b="b"/>
                <a:pathLst>
                  <a:path w="657" h="336">
                    <a:moveTo>
                      <a:pt x="0" y="0"/>
                    </a:moveTo>
                    <a:lnTo>
                      <a:pt x="0" y="334"/>
                    </a:lnTo>
                    <a:lnTo>
                      <a:pt x="657" y="336"/>
                    </a:lnTo>
                    <a:lnTo>
                      <a:pt x="65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c0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346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261432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47" name=""/>
          <p:cNvGraphicFramePr/>
          <p:nvPr/>
        </p:nvGraphicFramePr>
        <p:xfrm>
          <a:off x="3962520" y="3276720"/>
          <a:ext cx="107928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2520" y="3276720"/>
                    <a:ext cx="10792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9" name=""/>
          <p:cNvSpPr/>
          <p:nvPr/>
        </p:nvSpPr>
        <p:spPr>
          <a:xfrm>
            <a:off x="534240" y="19051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Trip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0" name=""/>
          <p:cNvSpPr/>
          <p:nvPr/>
        </p:nvSpPr>
        <p:spPr>
          <a:xfrm>
            <a:off x="4041360" y="190512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A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1" name=""/>
          <p:cNvSpPr/>
          <p:nvPr/>
        </p:nvSpPr>
        <p:spPr>
          <a:xfrm>
            <a:off x="6553800" y="1752480"/>
            <a:ext cx="23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Operador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ffffff"/>
                </a:solidFill>
                <a:latin typeface="Arial"/>
              </a:rPr>
              <a:t>Vehículos Ter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52" name=""/>
          <p:cNvGraphicFramePr/>
          <p:nvPr/>
        </p:nvGraphicFramePr>
        <p:xfrm>
          <a:off x="7238880" y="4495680"/>
          <a:ext cx="1098720" cy="1192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238880" y="4495680"/>
                    <a:ext cx="109872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54" name="" descr=""/>
          <p:cNvPicPr/>
          <p:nvPr/>
        </p:nvPicPr>
        <p:blipFill>
          <a:blip r:embed="rId6"/>
          <a:stretch/>
        </p:blipFill>
        <p:spPr>
          <a:xfrm>
            <a:off x="1066680" y="4572000"/>
            <a:ext cx="881280" cy="1143000"/>
          </a:xfrm>
          <a:prstGeom prst="rect">
            <a:avLst/>
          </a:prstGeom>
          <a:ln w="0">
            <a:noFill/>
          </a:ln>
        </p:spPr>
      </p:pic>
      <p:sp>
        <p:nvSpPr>
          <p:cNvPr id="6355" name=""/>
          <p:cNvSpPr/>
          <p:nvPr/>
        </p:nvSpPr>
        <p:spPr>
          <a:xfrm flipH="1">
            <a:off x="2286000" y="685800"/>
            <a:ext cx="1371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6" name=""/>
          <p:cNvSpPr/>
          <p:nvPr/>
        </p:nvSpPr>
        <p:spPr>
          <a:xfrm>
            <a:off x="5181480" y="685800"/>
            <a:ext cx="12193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7" name=""/>
          <p:cNvSpPr/>
          <p:nvPr/>
        </p:nvSpPr>
        <p:spPr>
          <a:xfrm>
            <a:off x="4495680" y="76212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8" name=""/>
          <p:cNvSpPr/>
          <p:nvPr/>
        </p:nvSpPr>
        <p:spPr>
          <a:xfrm>
            <a:off x="2360880" y="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ntrenamiento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9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081160" cy="631800"/>
          </a:xfrm>
          <a:prstGeom prst="rect">
            <a:avLst/>
          </a:prstGeom>
          <a:ln w="0">
            <a:noFill/>
          </a:ln>
        </p:spPr>
      </p:pic>
      <p:sp>
        <p:nvSpPr>
          <p:cNvPr id="6360" name=""/>
          <p:cNvSpPr/>
          <p:nvPr/>
        </p:nvSpPr>
        <p:spPr>
          <a:xfrm>
            <a:off x="619200" y="990720"/>
            <a:ext cx="4292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Tripul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(causantes del </a:t>
            </a:r>
            <a:r>
              <a:rPr b="1" lang="es-CR" sz="1800" spc="-1" strike="noStrike">
                <a:solidFill>
                  <a:srgbClr val="ffff00"/>
                </a:solidFill>
                <a:latin typeface="Arial"/>
              </a:rPr>
              <a:t>50%-60%</a:t>
            </a: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 de eventos 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61" name="" descr=""/>
          <p:cNvPicPr/>
          <p:nvPr/>
        </p:nvPicPr>
        <p:blipFill>
          <a:blip r:embed="rId2"/>
          <a:stretch/>
        </p:blipFill>
        <p:spPr>
          <a:xfrm>
            <a:off x="3276720" y="3200400"/>
            <a:ext cx="1218960" cy="676440"/>
          </a:xfrm>
          <a:prstGeom prst="rect">
            <a:avLst/>
          </a:prstGeom>
          <a:ln w="0">
            <a:noFill/>
          </a:ln>
        </p:spPr>
      </p:pic>
      <p:sp>
        <p:nvSpPr>
          <p:cNvPr id="6362" name=""/>
          <p:cNvSpPr/>
          <p:nvPr/>
        </p:nvSpPr>
        <p:spPr>
          <a:xfrm>
            <a:off x="3657600" y="4724280"/>
            <a:ext cx="4572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3" name=""/>
          <p:cNvSpPr/>
          <p:nvPr/>
        </p:nvSpPr>
        <p:spPr>
          <a:xfrm rot="5400000">
            <a:off x="3771720" y="4533480"/>
            <a:ext cx="22860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4" name=""/>
          <p:cNvGraphicFramePr/>
          <p:nvPr/>
        </p:nvGraphicFramePr>
        <p:xfrm>
          <a:off x="3276720" y="2590920"/>
          <a:ext cx="790560" cy="3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590920"/>
                    <a:ext cx="79056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6" name=""/>
          <p:cNvGraphicFramePr/>
          <p:nvPr/>
        </p:nvGraphicFramePr>
        <p:xfrm>
          <a:off x="4419720" y="2590920"/>
          <a:ext cx="780840" cy="32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590920"/>
                    <a:ext cx="78084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68" name=""/>
          <p:cNvGraphicFramePr/>
          <p:nvPr/>
        </p:nvGraphicFramePr>
        <p:xfrm>
          <a:off x="5638680" y="2590920"/>
          <a:ext cx="790560" cy="33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38680" y="2590920"/>
                    <a:ext cx="790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0" name=""/>
          <p:cNvSpPr/>
          <p:nvPr/>
        </p:nvSpPr>
        <p:spPr>
          <a:xfrm>
            <a:off x="842760" y="2514600"/>
            <a:ext cx="17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Rotu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71" name=""/>
          <p:cNvGraphicFramePr/>
          <p:nvPr/>
        </p:nvGraphicFramePr>
        <p:xfrm>
          <a:off x="6781680" y="2590920"/>
          <a:ext cx="533520" cy="32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81680" y="2590920"/>
                    <a:ext cx="5335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3" name=""/>
          <p:cNvGraphicFramePr/>
          <p:nvPr/>
        </p:nvGraphicFramePr>
        <p:xfrm>
          <a:off x="7620120" y="2590920"/>
          <a:ext cx="399960" cy="32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0120" y="2590920"/>
                    <a:ext cx="3999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5" name=""/>
          <p:cNvSpPr/>
          <p:nvPr/>
        </p:nvSpPr>
        <p:spPr>
          <a:xfrm>
            <a:off x="842400" y="3429000"/>
            <a:ext cx="208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Demar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6" name=""/>
          <p:cNvSpPr/>
          <p:nvPr/>
        </p:nvSpPr>
        <p:spPr>
          <a:xfrm>
            <a:off x="842400" y="4343400"/>
            <a:ext cx="18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Ilum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7" name=""/>
          <p:cNvSpPr/>
          <p:nvPr/>
        </p:nvSpPr>
        <p:spPr>
          <a:xfrm>
            <a:off x="3733920" y="4114800"/>
            <a:ext cx="304560" cy="45252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8" name=""/>
          <p:cNvSpPr/>
          <p:nvPr/>
        </p:nvSpPr>
        <p:spPr>
          <a:xfrm rot="5400000">
            <a:off x="4609800" y="4533840"/>
            <a:ext cx="228600" cy="152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9" name=""/>
          <p:cNvSpPr/>
          <p:nvPr/>
        </p:nvSpPr>
        <p:spPr>
          <a:xfrm rot="5400000">
            <a:off x="5371920" y="4533480"/>
            <a:ext cx="228600" cy="152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0" name=""/>
          <p:cNvSpPr/>
          <p:nvPr/>
        </p:nvSpPr>
        <p:spPr>
          <a:xfrm>
            <a:off x="5334120" y="4114800"/>
            <a:ext cx="304560" cy="452520"/>
          </a:xfrm>
          <a:prstGeom prst="can">
            <a:avLst>
              <a:gd name="adj" fmla="val 3438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1" name=""/>
          <p:cNvSpPr/>
          <p:nvPr/>
        </p:nvSpPr>
        <p:spPr>
          <a:xfrm>
            <a:off x="4572000" y="4114800"/>
            <a:ext cx="304920" cy="452520"/>
          </a:xfrm>
          <a:prstGeom prst="can">
            <a:avLst>
              <a:gd name="adj" fmla="val 34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2" name=""/>
          <p:cNvSpPr/>
          <p:nvPr/>
        </p:nvSpPr>
        <p:spPr>
          <a:xfrm>
            <a:off x="5257800" y="4724280"/>
            <a:ext cx="4572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3" name=""/>
          <p:cNvSpPr/>
          <p:nvPr/>
        </p:nvSpPr>
        <p:spPr>
          <a:xfrm>
            <a:off x="4495680" y="4724280"/>
            <a:ext cx="45720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4" name=""/>
          <p:cNvSpPr/>
          <p:nvPr/>
        </p:nvSpPr>
        <p:spPr>
          <a:xfrm>
            <a:off x="850320" y="5029200"/>
            <a:ext cx="80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SOPs </a:t>
            </a: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(Comunicaciones, Cabina Estéril, Cartas de Aeropuerto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CR" sz="1600" spc="-1" strike="noStrike">
                <a:solidFill>
                  <a:srgbClr val="ffffff"/>
                </a:solidFill>
                <a:latin typeface="Arial"/>
              </a:rPr>
              <a:t>a mano”,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5" name=""/>
          <p:cNvSpPr/>
          <p:nvPr/>
        </p:nvSpPr>
        <p:spPr>
          <a:xfrm>
            <a:off x="836280" y="5638680"/>
            <a:ext cx="51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decuada Familiarización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6" name=""/>
          <p:cNvSpPr/>
          <p:nvPr/>
        </p:nvSpPr>
        <p:spPr>
          <a:xfrm>
            <a:off x="833400" y="6172200"/>
            <a:ext cx="48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decuada uso de CRM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0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7" name=""/>
          <p:cNvSpPr/>
          <p:nvPr/>
        </p:nvSpPr>
        <p:spPr>
          <a:xfrm>
            <a:off x="2360880" y="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ntrenamiento 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8" name=""/>
          <p:cNvSpPr/>
          <p:nvPr/>
        </p:nvSpPr>
        <p:spPr>
          <a:xfrm>
            <a:off x="1120320" y="99072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Tripulaciones </a:t>
            </a:r>
            <a:r>
              <a:rPr b="1" lang="es-CR" sz="18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9" name=""/>
          <p:cNvSpPr/>
          <p:nvPr/>
        </p:nvSpPr>
        <p:spPr>
          <a:xfrm>
            <a:off x="2598480" y="1828800"/>
            <a:ext cx="40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800" spc="-1" strike="noStrike">
                <a:solidFill>
                  <a:srgbClr val="66ccff"/>
                </a:solidFill>
                <a:latin typeface="Arial"/>
              </a:rPr>
              <a:t>Adecuado uso de C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0" name=""/>
          <p:cNvSpPr/>
          <p:nvPr/>
        </p:nvSpPr>
        <p:spPr>
          <a:xfrm>
            <a:off x="2442240" y="60958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66ccff"/>
                </a:solidFill>
                <a:latin typeface="Arial"/>
              </a:rPr>
              <a:t>También en tierra puede ser útil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1" name=""/>
          <p:cNvSpPr/>
          <p:nvPr/>
        </p:nvSpPr>
        <p:spPr>
          <a:xfrm>
            <a:off x="2514600" y="2666880"/>
            <a:ext cx="4267080" cy="3200400"/>
          </a:xfrm>
          <a:prstGeom prst="rect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2" name=""/>
          <p:cNvSpPr/>
          <p:nvPr/>
        </p:nvSpPr>
        <p:spPr>
          <a:xfrm>
            <a:off x="3889800" y="37339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Video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3" name=""/>
          <p:cNvSpPr/>
          <p:nvPr/>
        </p:nvSpPr>
        <p:spPr>
          <a:xfrm>
            <a:off x="2436480" y="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3200" spc="-1" strike="noStrike" u="sng">
                <a:solidFill>
                  <a:srgbClr val="ffff00"/>
                </a:solidFill>
                <a:uFillTx/>
                <a:latin typeface="Arial"/>
              </a:rPr>
              <a:t>Entorno Ope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4" name=""/>
          <p:cNvSpPr/>
          <p:nvPr/>
        </p:nvSpPr>
        <p:spPr>
          <a:xfrm>
            <a:off x="843840" y="1447920"/>
            <a:ext cx="421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Diseño de Aeropu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5" name=""/>
          <p:cNvSpPr/>
          <p:nvPr/>
        </p:nvSpPr>
        <p:spPr>
          <a:xfrm>
            <a:off x="844200" y="3048120"/>
            <a:ext cx="415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Avances Tecn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(A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6" name="" descr=""/>
          <p:cNvPicPr/>
          <p:nvPr/>
        </p:nvPicPr>
        <p:blipFill>
          <a:blip r:embed="rId1"/>
          <a:stretch/>
        </p:blipFill>
        <p:spPr>
          <a:xfrm>
            <a:off x="6095880" y="914400"/>
            <a:ext cx="2324160" cy="1476360"/>
          </a:xfrm>
          <a:prstGeom prst="rect">
            <a:avLst/>
          </a:prstGeom>
          <a:ln w="0">
            <a:noFill/>
          </a:ln>
        </p:spPr>
      </p:pic>
      <p:pic>
        <p:nvPicPr>
          <p:cNvPr id="6397" name="" descr=""/>
          <p:cNvPicPr/>
          <p:nvPr/>
        </p:nvPicPr>
        <p:blipFill>
          <a:blip r:embed="rId2"/>
          <a:stretch/>
        </p:blipFill>
        <p:spPr>
          <a:xfrm>
            <a:off x="6400800" y="2819520"/>
            <a:ext cx="1523880" cy="1028520"/>
          </a:xfrm>
          <a:prstGeom prst="rect">
            <a:avLst/>
          </a:prstGeom>
          <a:ln w="0">
            <a:noFill/>
          </a:ln>
        </p:spPr>
      </p:pic>
      <p:sp>
        <p:nvSpPr>
          <p:cNvPr id="6398" name=""/>
          <p:cNvSpPr/>
          <p:nvPr/>
        </p:nvSpPr>
        <p:spPr>
          <a:xfrm>
            <a:off x="992880" y="5943600"/>
            <a:ext cx="18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Y otr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9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324480" y="4419720"/>
            <a:ext cx="1689120" cy="1249200"/>
          </a:xfrm>
          <a:prstGeom prst="rect">
            <a:avLst/>
          </a:prstGeom>
          <a:ln w="0">
            <a:noFill/>
          </a:ln>
        </p:spPr>
      </p:pic>
      <p:sp>
        <p:nvSpPr>
          <p:cNvPr id="6400" name=""/>
          <p:cNvSpPr/>
          <p:nvPr/>
        </p:nvSpPr>
        <p:spPr>
          <a:xfrm>
            <a:off x="844200" y="4495680"/>
            <a:ext cx="41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Arial"/>
              </a:rPr>
              <a:t>Avances Tecn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CR" sz="2000" spc="-1" strike="noStrike">
                <a:solidFill>
                  <a:srgbClr val="ffffff"/>
                </a:solidFill>
                <a:latin typeface="Arial"/>
              </a:rPr>
              <a:t>(Aerona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1149480"/>
            <a:ext cx="7772400" cy="440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rot="19844400">
            <a:off x="4343400" y="4419360"/>
            <a:ext cx="1049400" cy="2133360"/>
          </a:xfrm>
          <a:prstGeom prst="upArrow">
            <a:avLst>
              <a:gd name="adj1" fmla="val 50000"/>
              <a:gd name="adj2" fmla="val 50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561400">
            <a:off x="1066320" y="4343400"/>
            <a:ext cx="1049400" cy="2133720"/>
          </a:xfrm>
          <a:prstGeom prst="upArrow">
            <a:avLst>
              <a:gd name="adj1" fmla="val 50000"/>
              <a:gd name="adj2" fmla="val 508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56160" y="6248520"/>
            <a:ext cx="73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600" spc="-1" strike="noStrike">
                <a:solidFill>
                  <a:srgbClr val="ffffff"/>
                </a:solidFill>
                <a:latin typeface="Times New Roman"/>
              </a:rPr>
              <a:t>WW-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46360" y="304920"/>
            <a:ext cx="376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finitivamente NO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"/>
          <p:cNvSpPr/>
          <p:nvPr/>
        </p:nvSpPr>
        <p:spPr>
          <a:xfrm>
            <a:off x="4098960" y="461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2" name=""/>
          <p:cNvSpPr/>
          <p:nvPr/>
        </p:nvSpPr>
        <p:spPr>
          <a:xfrm>
            <a:off x="2780640" y="762120"/>
            <a:ext cx="35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 Black"/>
              </a:rPr>
              <a:t>Cuidado con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 Black"/>
              </a:rPr>
              <a:t>INCURSIONES DE P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3" name=""/>
          <p:cNvSpPr/>
          <p:nvPr/>
        </p:nvSpPr>
        <p:spPr>
          <a:xfrm>
            <a:off x="2209680" y="1752480"/>
            <a:ext cx="4876920" cy="36576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4" name=""/>
          <p:cNvSpPr/>
          <p:nvPr/>
        </p:nvSpPr>
        <p:spPr>
          <a:xfrm>
            <a:off x="2251080" y="5791320"/>
            <a:ext cx="482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aparentemente, ya no se lim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solo a los Aeropuerto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5" name=""/>
          <p:cNvSpPr/>
          <p:nvPr/>
        </p:nvSpPr>
        <p:spPr>
          <a:xfrm>
            <a:off x="1529280" y="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 u="sng">
                <a:solidFill>
                  <a:srgbClr val="ff3300"/>
                </a:solidFill>
                <a:uFillTx/>
                <a:latin typeface="Arial"/>
              </a:rPr>
              <a:t>Y finalmente un último recordator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6" name=""/>
          <p:cNvSpPr/>
          <p:nvPr/>
        </p:nvSpPr>
        <p:spPr>
          <a:xfrm>
            <a:off x="3813480" y="2895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Video #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7" name="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6408" name=""/>
          <p:cNvSpPr/>
          <p:nvPr/>
        </p:nvSpPr>
        <p:spPr>
          <a:xfrm>
            <a:off x="228600" y="228600"/>
            <a:ext cx="80773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high level of safety achiev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cheduled airline operations latel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ould not obscure the fac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of the accidents that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uld have been prevent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CA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ccident Prevention Manual, 19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9" name=""/>
          <p:cNvSpPr/>
          <p:nvPr/>
        </p:nvSpPr>
        <p:spPr>
          <a:xfrm>
            <a:off x="6552000" y="563868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000000"/>
                </a:solidFill>
                <a:latin typeface="Arial"/>
              </a:rPr>
              <a:t>Muchas gracia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90920" y="3733920"/>
          <a:ext cx="4006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733920"/>
                    <a:ext cx="4006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65760" y="762120"/>
            <a:ext cx="851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problema de Incursiones de P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s un problema crecient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ucho m</a:t>
            </a: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ás serio de lo que pensamo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00"/>
                </a:solidFill>
                <a:latin typeface="Arial"/>
              </a:rPr>
              <a:t>y puede ser causado por diversas raz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742120" y="5105520"/>
            <a:ext cx="373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B747 KLM – B747 Pan 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os Rodeos, Tenerife / 197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(Fatalidades:  58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080" y="380880"/>
            <a:ext cx="63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CRM y fraseología inadecuado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1219320"/>
            <a:ext cx="4876560" cy="373356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13480" y="2895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Video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28480" y="510552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B737 US Air – Fairchild Metrol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LAX, California / 199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(Fatalidades:  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0492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Baja conciencia situacional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1219320"/>
            <a:ext cx="5029200" cy="380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13480" y="2895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Video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4267080"/>
            <a:ext cx="4038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echa: 08 Oct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erolínea: S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Vuelo No: SK6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eronaves: MD87/Citation 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ugar: Milan, Ita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Fatalidades: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3174840" cy="2349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1752480"/>
            <a:ext cx="3352680" cy="2239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029200" y="1752480"/>
            <a:ext cx="3162240" cy="234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744280" y="380880"/>
            <a:ext cx="40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Visibilidad reducid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2040" y="5029200"/>
            <a:ext cx="4777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A3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Colombia / 2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(separación fué de aprox. 150 pies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Times New Roman"/>
              </a:rPr>
              <a:t>(Posibles fatalidade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2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4000" y="228600"/>
            <a:ext cx="576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ffffff"/>
                </a:solidFill>
                <a:latin typeface="Arial"/>
              </a:rPr>
              <a:t>Errores operacionales (ATC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400" y="1143000"/>
            <a:ext cx="5105520" cy="388620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13480" y="289548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Arial"/>
              </a:rPr>
              <a:t>Video 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18:25:05Z</dcterms:created>
  <dc:creator>Cap. Sven Boewe</dc:creator>
  <dc:description/>
  <dc:language>en-US</dc:language>
  <cp:lastModifiedBy>Claudia Lopez</cp:lastModifiedBy>
  <dcterms:modified xsi:type="dcterms:W3CDTF">2002-10-18T13:12:31Z</dcterms:modified>
  <cp:revision>248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8300.00000000</vt:lpwstr>
  </property>
  <property fmtid="{D5CDD505-2E9C-101B-9397-08002B2CF9AE}" pid="5" name="Year">
    <vt:lpwstr>2002</vt:lpwstr>
  </property>
</Properties>
</file>