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1.pptx" ContentType="application/vnd.openxmlformats-officedocument.presentationml.presentation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36BC95-8860-440A-8BF1-0F9D3FAE177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runway safety training and evaluation, we can expect the incursions and accidents to increase in the year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oner we start training and evaluating our flight crews on surface operating procedures the sooner we will reverse the runway incursion tr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F5B0-C924-491A-9584-0B98D3A5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56B4-8D5C-4586-9C9A-AF3B35491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66A-FA15-4818-94C9-820D177D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040-AD70-4250-9297-E435401D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2325-E8CB-4D76-B826-B30DCE1F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2103-1A74-4445-AFE4-F3562906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0B94-03CB-4FC6-9E7E-28B88D4A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BF8EB-51B7-4B49-BACA-5A1965DE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50594-C0A5-40D0-B23B-4F4A84DD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87E8-5520-48A1-B6C0-71CD22DE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D7C2-98BA-4643-A036-57AA7F5D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5F5-AA9C-415A-91F2-AE34F9B4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6D50-3D67-4A3F-B0F3-2ABE82CE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2636-D8F7-497F-9154-07260BE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5A81-62AD-419E-BAC2-176582A4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2A99-A1EC-4DE4-B46C-C0C0A153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ADAF-8C26-4818-BC9E-9E2F4CE9E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FB1-BDC7-4784-AE69-AF4F23F9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9DD-BD15-455B-8996-0BF6450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153F-CA88-4B8A-8C51-BA1B8131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BB2F-5BDD-4404-8F11-5F290EAF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4F6-7FA8-4600-8F9D-3282157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1102-87FA-445E-94C3-45C67611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924-FFC0-49BD-9F4B-1A67D14C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DBF9-91DE-4C22-A712-640AF2E1B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33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3352680" cy="14367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703160" y="380880"/>
            <a:ext cx="454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000" spc="-1" strike="noStrike">
                <a:solidFill>
                  <a:srgbClr val="ffcc66"/>
                </a:solidFill>
                <a:latin typeface="Arial Black"/>
              </a:rPr>
              <a:t>Runway Incursion Prevention Progr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" name=""/>
          <p:cNvGraphicFramePr/>
          <p:nvPr/>
        </p:nvGraphicFramePr>
        <p:xfrm>
          <a:off x="152280" y="6324480"/>
          <a:ext cx="533520" cy="3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6324480"/>
                    <a:ext cx="533520" cy="339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9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4F6D-8995-4E30-BEB3-5BB7C25C3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6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Presentations/Day%2001%20-%2022%20Oct/INTRODUCTION.PPT" TargetMode="External"/><Relationship Id="rId2" Type="http://schemas.openxmlformats.org/officeDocument/2006/relationships/image" Target="../media/image1.png"/><Relationship Id="rId3" Type="http://schemas.openxmlformats.org/officeDocument/2006/relationships/hyperlink" Target="file:///../../../Presentations/Day%2001%20-%2022%20Oct/FLIGHT%20CREW.PPT" TargetMode="External"/><Relationship Id="rId4" Type="http://schemas.openxmlformats.org/officeDocument/2006/relationships/hyperlink" Target="file:///../../../Presentations/Day%2001%20-%2022%20Oct/Break.pps" TargetMode="External"/><Relationship Id="rId5" Type="http://schemas.openxmlformats.org/officeDocument/2006/relationships/hyperlink" Target="file:///../../../Presentations/Day%2001%20-%2022%20Oct/TECHNOLOGICAL%20SOLUTIONS.PPT" TargetMode="External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560" y="-360"/>
            <a:ext cx="7391160" cy="21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986120" y="2417760"/>
            <a:ext cx="5257800" cy="31240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25400" y="401760"/>
            <a:ext cx="769644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ff"/>
                </a:solidFill>
                <a:latin typeface="Arial"/>
              </a:rPr>
              <a:t>OPERATIONS &amp; INFRASTRUCTURE DI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REGIONAL O&amp;I OFFI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LATIN AMERICA &amp; CARIBBE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5400" y="61405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Arial"/>
              </a:rPr>
              <a:t>INTERNATIONAL AIR TRANSPORT ASSOC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ORGANIZATION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A: Natln. Rwy. Safety Progr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ATA RO Ops. &amp; Infr. Latam/C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7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AST- Pan American Aviation Safety Team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ED2-A518-416A-84E4-5E57124CAD7F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TASK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velop Training Module to address core issues relative to RI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sseminate Training Modul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eedback Gathering &amp;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49F-70C8-43EF-B7B0-6A0E71FB73B6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505320" y="1143000"/>
            <a:ext cx="3504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531720"/>
            <a:ext cx="411480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 Narrow"/>
              </a:rPr>
              <a:t>PROVIDE A STANDARDIZED TRAINING AID BASED IN THE</a:t>
            </a:r>
            <a:r>
              <a:rPr b="1" i="1" lang="en-US" sz="4400" spc="-1" strike="noStrike">
                <a:solidFill>
                  <a:srgbClr val="0000ff"/>
                </a:solidFill>
                <a:latin typeface="Arial Narrow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Arial Narrow"/>
              </a:rPr>
              <a:t>“SAFETY GATE TO GATE”</a:t>
            </a:r>
            <a:r>
              <a:rPr b="1" i="1" lang="en-US" sz="4400" spc="-1" strike="noStrike">
                <a:solidFill>
                  <a:srgbClr val="0000ff"/>
                </a:solidFill>
                <a:latin typeface="Arial Narrow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Arial Narrow"/>
              </a:rPr>
              <a:t>TRAINING &amp; EVALUATION CONCE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1828800"/>
          <a:ext cx="4565520" cy="3419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5655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8600" y="6297480"/>
          <a:ext cx="60948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297480"/>
                    <a:ext cx="609480" cy="3873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533160"/>
            <a:ext cx="45720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rial Black"/>
              </a:rPr>
              <a:t>RIPP </a:t>
            </a:r>
            <a:r>
              <a:rPr b="0" lang="en-US" sz="4400" spc="-1" strike="noStrike">
                <a:solidFill>
                  <a:srgbClr val="ffcc66"/>
                </a:solidFill>
                <a:latin typeface="Arial Black"/>
              </a:rPr>
              <a:t>CD-RO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81D-3D9A-42D2-9814-CBD6C453FE30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8761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VE" sz="2800" spc="-1" strike="noStrike">
                <a:solidFill>
                  <a:srgbClr val="ffcc66"/>
                </a:solidFill>
                <a:latin typeface="Arial Black"/>
              </a:rPr>
              <a:t>Runway Incursion Prevention Program</a:t>
            </a:r>
            <a:endParaRPr b="0" lang="en-US" sz="28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16002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>
            <a:hlinkClick r:id="rId1"/>
          </p:cNvPr>
          <p:cNvSpPr/>
          <p:nvPr/>
        </p:nvSpPr>
        <p:spPr>
          <a:xfrm>
            <a:off x="380880" y="160020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  <a:effectLst>
            <a:outerShdw dist="17819" dir="2700000" blurRad="0" rotWithShape="0">
              <a:srgbClr val="3c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000" y="17668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3581640" cy="153504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rId3"/>
          </p:cNvPr>
          <p:cNvSpPr/>
          <p:nvPr/>
        </p:nvSpPr>
        <p:spPr>
          <a:xfrm>
            <a:off x="5867280" y="167652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rId4"/>
          </p:cNvPr>
          <p:cNvSpPr/>
          <p:nvPr/>
        </p:nvSpPr>
        <p:spPr>
          <a:xfrm>
            <a:off x="5867280" y="556272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5"/>
          </p:cNvPr>
          <p:cNvSpPr/>
          <p:nvPr/>
        </p:nvSpPr>
        <p:spPr>
          <a:xfrm>
            <a:off x="380880" y="556272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79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4267080"/>
            <a:ext cx="2971800" cy="104328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61514" h="21600">
                <a:moveTo>
                  <a:pt x="0" y="0"/>
                </a:moveTo>
                <a:lnTo>
                  <a:pt x="61514" y="0"/>
                </a:lnTo>
                <a:lnTo>
                  <a:pt x="61514" y="21600"/>
                </a:lnTo>
                <a:lnTo>
                  <a:pt x="0" y="21600"/>
                </a:lnTo>
                <a:close/>
              </a:path>
              <a:path fill="lightenLess" w="61514" h="21600">
                <a:moveTo>
                  <a:pt x="0" y="0"/>
                </a:moveTo>
                <a:lnTo>
                  <a:pt x="61514" y="0"/>
                </a:lnTo>
                <a:lnTo>
                  <a:pt x="60114" y="1400"/>
                </a:lnTo>
                <a:lnTo>
                  <a:pt x="1400" y="1400"/>
                </a:lnTo>
                <a:close/>
              </a:path>
              <a:path fill="darken" w="61514" h="21600">
                <a:moveTo>
                  <a:pt x="61514" y="0"/>
                </a:moveTo>
                <a:lnTo>
                  <a:pt x="61514" y="21600"/>
                </a:lnTo>
                <a:lnTo>
                  <a:pt x="60114" y="20200"/>
                </a:lnTo>
                <a:lnTo>
                  <a:pt x="60114" y="1400"/>
                </a:lnTo>
                <a:close/>
              </a:path>
              <a:path fill="darkenLess" w="61514" h="21600">
                <a:moveTo>
                  <a:pt x="615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14" y="20200"/>
                </a:lnTo>
                <a:close/>
              </a:path>
              <a:path fill="lighten" w="615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33"/>
          </a:solidFill>
          <a:ln w="0">
            <a:noFill/>
          </a:ln>
          <a:effectLst>
            <a:outerShdw dist="17819" dir="2700000" blurRad="0" rotWithShape="0">
              <a:srgbClr val="9800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297180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000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297180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  <a:effectLst>
            <a:outerShdw dist="17819" dir="2700000" blurRad="0" rotWithShape="0">
              <a:srgbClr val="00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4343400"/>
            <a:ext cx="2971800" cy="1042920"/>
          </a:xfrm>
          <a:custGeom>
            <a:avLst/>
            <a:gdLst>
              <a:gd name="textAreaLeft" fmla="*/ 67320 w 2971800"/>
              <a:gd name="textAreaRight" fmla="*/ 2904480 w 29718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1535" h="21600">
                <a:moveTo>
                  <a:pt x="0" y="0"/>
                </a:moveTo>
                <a:lnTo>
                  <a:pt x="61535" y="0"/>
                </a:lnTo>
                <a:lnTo>
                  <a:pt x="61535" y="21600"/>
                </a:lnTo>
                <a:lnTo>
                  <a:pt x="0" y="21600"/>
                </a:lnTo>
                <a:close/>
              </a:path>
              <a:path fill="lightenLess" w="61535" h="21600">
                <a:moveTo>
                  <a:pt x="0" y="0"/>
                </a:moveTo>
                <a:lnTo>
                  <a:pt x="61535" y="0"/>
                </a:lnTo>
                <a:lnTo>
                  <a:pt x="60135" y="1400"/>
                </a:lnTo>
                <a:lnTo>
                  <a:pt x="1400" y="1400"/>
                </a:lnTo>
                <a:close/>
              </a:path>
              <a:path fill="darken" w="61535" h="21600">
                <a:moveTo>
                  <a:pt x="61535" y="0"/>
                </a:moveTo>
                <a:lnTo>
                  <a:pt x="61535" y="21600"/>
                </a:lnTo>
                <a:lnTo>
                  <a:pt x="60135" y="20200"/>
                </a:lnTo>
                <a:lnTo>
                  <a:pt x="60135" y="1400"/>
                </a:lnTo>
                <a:close/>
              </a:path>
              <a:path fill="darkenLess" w="61535" h="21600">
                <a:moveTo>
                  <a:pt x="61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135" y="20200"/>
                </a:lnTo>
                <a:close/>
              </a:path>
              <a:path fill="lighten" w="61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dc662"/>
          </a:solidFill>
          <a:ln w="0">
            <a:noFill/>
          </a:ln>
          <a:effectLst>
            <a:outerShdw dist="17819" dir="2700000" blurRad="0" rotWithShape="0">
              <a:srgbClr val="5476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59360" y="3133800"/>
            <a:ext cx="296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ffffff"/>
                </a:solidFill>
                <a:latin typeface="Arial Narrow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435780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 Narrow"/>
              </a:rPr>
              <a:t>Airport Signage, Markings &amp; Ligh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014640"/>
            <a:ext cx="30477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0033"/>
                </a:solidFill>
                <a:latin typeface="Arial Narrow"/>
              </a:rPr>
              <a:t>RUNWAY INCUR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680" y="5591160"/>
            <a:ext cx="30589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ff0033"/>
                </a:solidFill>
                <a:latin typeface="Arial Narrow"/>
              </a:rPr>
              <a:t>TECHNOLOGICAL SOLU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67280" y="1857240"/>
            <a:ext cx="288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0033"/>
                </a:solidFill>
                <a:latin typeface="Arial Narrow"/>
              </a:rPr>
              <a:t>FLIGHT CREW</a:t>
            </a:r>
            <a:r>
              <a:rPr b="1" lang="es-VE" sz="2800" spc="-1" strike="noStrike">
                <a:solidFill>
                  <a:srgbClr val="96969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59360" y="4524480"/>
            <a:ext cx="2946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ff0033"/>
                </a:solidFill>
                <a:latin typeface="Arial Narrow"/>
              </a:rPr>
              <a:t>RIPP FAA-I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733920" y="1752480"/>
          <a:ext cx="1752480" cy="1113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733920" y="1752480"/>
                    <a:ext cx="1752480" cy="111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657600" y="5334120"/>
            <a:ext cx="190512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Arial Black"/>
              </a:rPr>
              <a:t>PA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86200" y="3352680"/>
          <a:ext cx="1371600" cy="132552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86200" y="3352680"/>
                    <a:ext cx="13716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5732640" y="5757840"/>
            <a:ext cx="3058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ff"/>
                </a:solidFill>
                <a:latin typeface="Arial"/>
              </a:rPr>
              <a:t>BREA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endshow"/>
          </p:cNvPr>
          <p:cNvSpPr/>
          <p:nvPr/>
        </p:nvSpPr>
        <p:spPr>
          <a:xfrm>
            <a:off x="4110120" y="6299280"/>
            <a:ext cx="949320" cy="333360"/>
          </a:xfrm>
          <a:custGeom>
            <a:avLst/>
            <a:gdLst>
              <a:gd name="textAreaLeft" fmla="*/ 21600 w 949320"/>
              <a:gd name="textAreaRight" fmla="*/ 927720 w 949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61468" h="21600">
                <a:moveTo>
                  <a:pt x="0" y="0"/>
                </a:moveTo>
                <a:lnTo>
                  <a:pt x="61468" y="0"/>
                </a:lnTo>
                <a:lnTo>
                  <a:pt x="61468" y="21600"/>
                </a:lnTo>
                <a:lnTo>
                  <a:pt x="0" y="21600"/>
                </a:lnTo>
                <a:close/>
              </a:path>
              <a:path fill="lightenLess" w="61468" h="21600">
                <a:moveTo>
                  <a:pt x="0" y="0"/>
                </a:moveTo>
                <a:lnTo>
                  <a:pt x="61468" y="0"/>
                </a:lnTo>
                <a:lnTo>
                  <a:pt x="60068" y="1400"/>
                </a:lnTo>
                <a:lnTo>
                  <a:pt x="1400" y="1400"/>
                </a:lnTo>
                <a:close/>
              </a:path>
              <a:path fill="darken" w="61468" h="21600">
                <a:moveTo>
                  <a:pt x="61468" y="0"/>
                </a:moveTo>
                <a:lnTo>
                  <a:pt x="61468" y="21600"/>
                </a:lnTo>
                <a:lnTo>
                  <a:pt x="60068" y="20200"/>
                </a:lnTo>
                <a:lnTo>
                  <a:pt x="60068" y="1400"/>
                </a:lnTo>
                <a:close/>
              </a:path>
              <a:path fill="darkenLess" w="61468" h="21600">
                <a:moveTo>
                  <a:pt x="614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068" y="20200"/>
                </a:lnTo>
                <a:close/>
              </a:path>
              <a:path fill="lighten" w="614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2700000" blurRad="0" rotWithShape="0">
              <a:srgbClr val="985b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 Narrow"/>
              </a:rPr>
              <a:t>QU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OBJECTIVE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PROVID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ducational Resour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Guide for Training &amp; Practic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aseline-training Program for Operator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Baseline to evaluate Rwy. Safety practices &amp; procedur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003-3ED0-4162-855A-D734B184AD61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ACTION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Dissemination Training Aid: PAAST Action Team Leaders regional, 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IATA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worldwid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Feedback from PAAST to 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IATA 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RO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Feedback from </a:t>
            </a:r>
            <a:r>
              <a:rPr b="1" i="1" lang="en-US" sz="3600" spc="-1" strike="noStrike">
                <a:solidFill>
                  <a:srgbClr val="ffffff"/>
                </a:solidFill>
                <a:latin typeface="Arial Narrow"/>
              </a:rPr>
              <a:t>IATA</a:t>
            </a: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 ROI to FAA, PAAST &amp; ICA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Analyze data &amp; draw conclus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Identify other possible interven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836-2C13-49EC-9682-5A96D43BB1FF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0" t="83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"/>
          <p:cNvSpPr txBox="1"/>
          <p:nvPr/>
        </p:nvSpPr>
        <p:spPr>
          <a:xfrm>
            <a:off x="914400" y="2209680"/>
            <a:ext cx="73152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rial Narrow"/>
              </a:rPr>
              <a:t>AND REMEMBER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0800000"/>
                </a:gradFill>
                <a:latin typeface="Arial Narrow"/>
              </a:rPr>
              <a:t>ONLY YOU...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0800000"/>
              </a:gradFill>
              <a:latin typeface="Arial Narrow"/>
              <a:ea typeface="Arial Narrow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8229600" y="6289560"/>
          <a:ext cx="685800" cy="43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6289560"/>
                    <a:ext cx="685800" cy="435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7924680" y="228600"/>
            <a:ext cx="990720" cy="3988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Arial Black"/>
              </a:rPr>
              <a:t>RI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8229600" y="6191280"/>
          <a:ext cx="685800" cy="43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29600" y="6191280"/>
                    <a:ext cx="685800" cy="436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523880" y="-533520"/>
            <a:ext cx="7620120" cy="6400800"/>
          </a:xfrm>
          <a:prstGeom prst="irregularSeal1">
            <a:avLst/>
          </a:prstGeom>
          <a:noFill/>
          <a:ln w="88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1157760"/>
            <a:ext cx="5334120" cy="256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33"/>
                </a:solidFill>
                <a:latin typeface="Arial Black"/>
              </a:rPr>
              <a:t>CAN PREVENT RUNWAY INCURSIO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6324480"/>
            <a:ext cx="99072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Arial Black"/>
              </a:rPr>
              <a:t>RIP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CC41-D566-48DA-BEED-3239BF9CF301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248160" cy="4898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47920" y="1371600"/>
            <a:ext cx="62481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tion: roilac@iata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3886200"/>
            <a:ext cx="6172200" cy="1008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95480" y="304920"/>
            <a:ext cx="3353040" cy="109944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Arial Black"/>
              </a:rPr>
              <a:t>RIPP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1371600"/>
            <a:ext cx="6248160" cy="51055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077320" y="6116760"/>
          <a:ext cx="838080" cy="531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77320" y="6116760"/>
                    <a:ext cx="838080" cy="531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5D74-FF79-49C9-97F7-800E626D6838}" type="slidenum">
              <a:t>18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763440" y="533520"/>
            <a:ext cx="1521720" cy="6411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33"/>
                </a:solidFill>
                <a:latin typeface="Arial Black"/>
              </a:rPr>
              <a:t>PAA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304920"/>
          <a:ext cx="1600200" cy="101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1600200" cy="1015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7467480" y="228600"/>
          <a:ext cx="1371600" cy="1325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228600"/>
                    <a:ext cx="137160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378360" y="1190880"/>
            <a:ext cx="8349120" cy="52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Runway Incursion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Prevention Progra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NAM/CAR/S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Runway Safety/Runway Incursion Conferen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Californian FB"/>
              </a:rPr>
              <a:t>Ciudad de M</a:t>
            </a:r>
            <a:r>
              <a:rPr b="1" i="1" lang="es-ES_tradnl" sz="3200" spc="-1" strike="noStrike">
                <a:solidFill>
                  <a:srgbClr val="ffffff"/>
                </a:solidFill>
                <a:latin typeface="Californian FB"/>
              </a:rPr>
              <a:t>éxico</a:t>
            </a:r>
            <a:r>
              <a:rPr b="1" i="1" lang="en-US" sz="3200" spc="-1" strike="noStrike">
                <a:solidFill>
                  <a:srgbClr val="ffffff"/>
                </a:solidFill>
                <a:latin typeface="Californian FB"/>
              </a:rPr>
              <a:t>, October 22-25,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uardo Chací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or Operations &amp; Infrastruc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m/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F928-F5C0-449A-BECE-A2DC103921A8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re Arpt. signage, lighting &amp; markings adequate or would they be a contributing factor for a RI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5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at are the lighting, visibility &amp; weather condition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990720"/>
            <a:ext cx="708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F. Y.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1314-06BB-4539-A47A-6C5BD12736F3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4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re you familiar with Arpt. layou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Are there language problems that may contribute to a RI?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4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What’s your experience in Ops. at high-density traffic Arpt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990720"/>
            <a:ext cx="708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F. Y.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3DC2-B0D8-4E88-B153-8C3085C2EE6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8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you believe may cause a RI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8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you think may help to prevent a RI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990720"/>
            <a:ext cx="701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F. Y. 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5C7E-2D24-47DD-ABCE-41F4C500F8C8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33"/>
                </a:solidFill>
                <a:latin typeface="Arial Black"/>
              </a:rPr>
              <a:t>BACKGROUND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3976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s. have increased worldwide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39760" indent="0">
              <a:lnSpc>
                <a:spcPct val="1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wy. Safety: complex &amp; urgent issue due to increase in Comm. &amp; Gral. Aviation Ops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8F42-28BC-4555-A7BB-78BB029CC4B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RUNWAY INCURSION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FAA: #1 safety concern &amp; top priority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NTSB: “Most Wanted Transp. Safety Improvement” lis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3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ICAO: “attention by States is req. to address the problem &amp; its impact on Ops. Safety”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0870-214D-48FF-856C-18598D59F46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urocontrol, FAA &amp; JAA Task Force initiated  Survey on Rwy. Safety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ATA Safety Strategy 2000+: “significant factor” (Regional Safety Priority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Arial Black"/>
              </a:rPr>
              <a:t>RUNWAY INCURSIONS</a:t>
            </a:r>
            <a:endParaRPr b="0" lang="en-US" sz="36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BC15-8F63-4019-8626-1260D1CF5AC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HERE IS A NEED FOR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BETTER EDUCATION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TRAINING AWARENESS &amp; PROCEDUR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+ NEW TECHNOLOGIES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FD8-BD9A-4FC6-A0E8-FFF3A9F6006F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1:39:08Z</dcterms:created>
  <dc:creator>Elisa Galindez Luciani</dc:creator>
  <dc:description/>
  <dc:language>en-US</dc:language>
  <cp:lastModifiedBy>Claudia Lopez</cp:lastModifiedBy>
  <cp:lastPrinted>2002-10-14T20:25:46Z</cp:lastPrinted>
  <dcterms:modified xsi:type="dcterms:W3CDTF">2002-10-30T16:07:53Z</dcterms:modified>
  <cp:revision>205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8200.00000000</vt:lpwstr>
  </property>
  <property fmtid="{D5CDD505-2E9C-101B-9397-08002B2CF9AE}" pid="5" name="Year">
    <vt:lpwstr>2002</vt:lpwstr>
  </property>
</Properties>
</file>