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B61C010-4A01-45BD-936F-555A5F501A0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runway safety training and evaluation, we can expect the incursions and accidents to increase in the year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oner we start training and evaluating our flight crews on surface operating procedures the sooner we will reverse the runway incursion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CD02-D48E-4142-86F9-A3D27997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FC3B-53FF-4E01-8EBD-A7E4D9B5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0218-81D1-4101-ABD9-34DF5B83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462-488A-47DD-B10A-E0A5F5A4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AF8D-9B29-4769-86D6-7D9441E0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0C13-01AA-463C-BFF0-3AFE03CA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8A42-AAFC-44C8-A0E3-2204FC8A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E83F-61F9-4F57-B730-7F07B9F5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73E1-72EF-4E82-8998-B71E105D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1F1D-7856-4A19-A682-9EF4D714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4F57-A06A-45A6-91E3-6C84CC9A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A94-83E4-40AE-B7E3-2CD586DD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54F9-0AB4-4387-B020-67120A1E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D8CB-1E91-4872-B96D-F26580F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00BC-7A5F-4C19-B3E6-A9FE2A88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43B2-E7DF-4BA7-8D24-F68CF2E7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A30E-71E4-4F5C-8467-CFB79238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D0A-651B-4FA7-B678-2DD4A57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F14F-EFFD-4E8E-98CB-065822E7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FCF5-215E-4674-B2F2-5ACC46E4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559-FEE5-4D19-9E21-FD5FCC13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9DC-9EA2-4F1D-A5B3-BCE27E5D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ADEA-760E-4915-8CDE-9FFC8CF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538-252C-4599-B420-AFA1D084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FDDA-EAF6-4ED7-A63D-F06AECC7ABA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3352680" cy="1436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703160" y="380880"/>
            <a:ext cx="454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cc66"/>
                </a:solidFill>
                <a:latin typeface="Arial Black"/>
              </a:rPr>
              <a:t>Runway Incursion Prevention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52280" y="6324480"/>
          <a:ext cx="53352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324480"/>
                    <a:ext cx="533520" cy="33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9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0590-F11E-4474-A705-ADA9BF8E58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esentations/Day%2001%20-%2022%20Oct/INTRODUCTION.PPT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../../../Presentations/Day%2001%20-%2022%20Oct/FLIGHT%20CREW.PPT" TargetMode="External"/><Relationship Id="rId4" Type="http://schemas.openxmlformats.org/officeDocument/2006/relationships/hyperlink" Target="file:///../../../Presentations/Day%2001%20-%2022%20Oct/Break.pps" TargetMode="External"/><Relationship Id="rId5" Type="http://schemas.openxmlformats.org/officeDocument/2006/relationships/hyperlink" Target="file:///../../../Presentations/Day%2001%20-%2022%20Oct/TECHNOLOGICAL%20SOLUTIONS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39116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6120" y="2417760"/>
            <a:ext cx="5257800" cy="3124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5400" y="401760"/>
            <a:ext cx="769644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OPERATIONS &amp; INFRASTRUCTURE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REGIONAL O&amp;I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LATIN AMERICA &amp; CARIBB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5400" y="61405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INTERNATIONAL AIR TRANSPORT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ORGANIZAT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A: Natln. Rwy. Safety Progr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ATA RO Ops. &amp; Infr. Latam/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AST- Pan American Aviation Safety Te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16DD-11D8-4AF7-8FB1-66B01518646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TASK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 Training Module to address core issues relative to R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seminate Training Mod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edback Gathering &amp;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1B6-343D-4AA7-A786-57158133CF0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05320" y="1143000"/>
            <a:ext cx="3504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31720"/>
            <a:ext cx="41148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PROVIDE A STANDARDIZED TRAINING AID BASED IN THE</a:t>
            </a: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Arial Narrow"/>
              </a:rPr>
              <a:t>“SAFETY GATE TO GATE”</a:t>
            </a: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TRAINING &amp; EVALUATION CONCE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828800"/>
          <a:ext cx="4565520" cy="34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565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" y="6297480"/>
          <a:ext cx="60948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97480"/>
                    <a:ext cx="609480" cy="387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533160"/>
            <a:ext cx="4572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 Black"/>
              </a:rPr>
              <a:t>RIPP </a:t>
            </a:r>
            <a:r>
              <a:rPr b="0" lang="en-US" sz="4400" spc="-1" strike="noStrike">
                <a:solidFill>
                  <a:srgbClr val="ffcc66"/>
                </a:solidFill>
                <a:latin typeface="Arial Black"/>
              </a:rPr>
              <a:t>CD-R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D19-A472-4DF8-B28F-027E1EC9A851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76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ffcc66"/>
                </a:solidFill>
                <a:latin typeface="Arial Black"/>
              </a:rPr>
              <a:t>Runway Incursion Prevention Program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600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1"/>
          </p:cNvPr>
          <p:cNvSpPr/>
          <p:nvPr/>
        </p:nvSpPr>
        <p:spPr>
          <a:xfrm>
            <a:off x="380880" y="16002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766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581640" cy="153504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3"/>
          </p:cNvPr>
          <p:cNvSpPr/>
          <p:nvPr/>
        </p:nvSpPr>
        <p:spPr>
          <a:xfrm>
            <a:off x="5867280" y="16765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"/>
          </p:cNvPr>
          <p:cNvSpPr/>
          <p:nvPr/>
        </p:nvSpPr>
        <p:spPr>
          <a:xfrm>
            <a:off x="5867280" y="55627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5"/>
          </p:cNvPr>
          <p:cNvSpPr/>
          <p:nvPr/>
        </p:nvSpPr>
        <p:spPr>
          <a:xfrm>
            <a:off x="380880" y="55627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267080"/>
            <a:ext cx="2971800" cy="104328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1514" h="21600">
                <a:moveTo>
                  <a:pt x="0" y="0"/>
                </a:moveTo>
                <a:lnTo>
                  <a:pt x="61514" y="0"/>
                </a:lnTo>
                <a:lnTo>
                  <a:pt x="61514" y="21600"/>
                </a:lnTo>
                <a:lnTo>
                  <a:pt x="0" y="21600"/>
                </a:lnTo>
                <a:close/>
              </a:path>
              <a:path fill="lightenLess" w="61514" h="21600">
                <a:moveTo>
                  <a:pt x="0" y="0"/>
                </a:moveTo>
                <a:lnTo>
                  <a:pt x="61514" y="0"/>
                </a:lnTo>
                <a:lnTo>
                  <a:pt x="60114" y="1400"/>
                </a:lnTo>
                <a:lnTo>
                  <a:pt x="1400" y="1400"/>
                </a:lnTo>
                <a:close/>
              </a:path>
              <a:path fill="darken" w="61514" h="21600">
                <a:moveTo>
                  <a:pt x="61514" y="0"/>
                </a:moveTo>
                <a:lnTo>
                  <a:pt x="61514" y="21600"/>
                </a:lnTo>
                <a:lnTo>
                  <a:pt x="60114" y="20200"/>
                </a:lnTo>
                <a:lnTo>
                  <a:pt x="60114" y="1400"/>
                </a:lnTo>
                <a:close/>
              </a:path>
              <a:path fill="darkenLess" w="61514" h="21600">
                <a:moveTo>
                  <a:pt x="61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14" y="20200"/>
                </a:lnTo>
                <a:close/>
              </a:path>
              <a:path fill="lighten" w="61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  <a:effectLst>
            <a:outerShdw dist="17819" dir="2700000" blurRad="0" rotWithShape="0">
              <a:srgbClr val="98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718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9718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434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62"/>
          </a:solidFill>
          <a:ln w="0">
            <a:noFill/>
          </a:ln>
          <a:effectLst>
            <a:outerShdw dist="17819" dir="2700000" blurRad="0" rotWithShape="0">
              <a:srgbClr val="5476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9360" y="3133800"/>
            <a:ext cx="296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35780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 Narrow"/>
              </a:rPr>
              <a:t>Airport Signage, Markings &amp; 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014640"/>
            <a:ext cx="3047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0033"/>
                </a:solidFill>
                <a:latin typeface="Arial Narrow"/>
              </a:rPr>
              <a:t>RUNWAY INCU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80" y="5591160"/>
            <a:ext cx="3058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0033"/>
                </a:solidFill>
                <a:latin typeface="Arial Narrow"/>
              </a:rPr>
              <a:t>TECHNOLOGICAL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1857240"/>
            <a:ext cx="288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0033"/>
                </a:solidFill>
                <a:latin typeface="Arial Narrow"/>
              </a:rPr>
              <a:t>FLIGHT CREW</a:t>
            </a:r>
            <a:r>
              <a:rPr b="1" lang="es-VE" sz="2800" spc="-1" strike="noStrike">
                <a:solidFill>
                  <a:srgbClr val="96969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9360" y="4524480"/>
            <a:ext cx="294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0033"/>
                </a:solidFill>
                <a:latin typeface="Arial Narrow"/>
              </a:rPr>
              <a:t>RIPP FAA-I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733920" y="1752480"/>
          <a:ext cx="1752480" cy="111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1752480"/>
                    <a:ext cx="1752480" cy="111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57600" y="5334120"/>
            <a:ext cx="190512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Arial Black"/>
              </a:rPr>
              <a:t>PA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86200" y="3352680"/>
          <a:ext cx="1371600" cy="1325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200" y="3352680"/>
                    <a:ext cx="13716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732640" y="5757840"/>
            <a:ext cx="305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4110120" y="6299280"/>
            <a:ext cx="949320" cy="333360"/>
          </a:xfrm>
          <a:custGeom>
            <a:avLst/>
            <a:gdLst>
              <a:gd name="textAreaLeft" fmla="*/ 21600 w 949320"/>
              <a:gd name="textAreaRight" fmla="*/ 927720 w 949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1468" h="21600">
                <a:moveTo>
                  <a:pt x="0" y="0"/>
                </a:moveTo>
                <a:lnTo>
                  <a:pt x="61468" y="0"/>
                </a:lnTo>
                <a:lnTo>
                  <a:pt x="61468" y="21600"/>
                </a:lnTo>
                <a:lnTo>
                  <a:pt x="0" y="21600"/>
                </a:lnTo>
                <a:close/>
              </a:path>
              <a:path fill="lightenLess" w="61468" h="21600">
                <a:moveTo>
                  <a:pt x="0" y="0"/>
                </a:moveTo>
                <a:lnTo>
                  <a:pt x="61468" y="0"/>
                </a:lnTo>
                <a:lnTo>
                  <a:pt x="60068" y="1400"/>
                </a:lnTo>
                <a:lnTo>
                  <a:pt x="1400" y="1400"/>
                </a:lnTo>
                <a:close/>
              </a:path>
              <a:path fill="darken" w="61468" h="21600">
                <a:moveTo>
                  <a:pt x="61468" y="0"/>
                </a:moveTo>
                <a:lnTo>
                  <a:pt x="61468" y="21600"/>
                </a:lnTo>
                <a:lnTo>
                  <a:pt x="60068" y="20200"/>
                </a:lnTo>
                <a:lnTo>
                  <a:pt x="60068" y="1400"/>
                </a:lnTo>
                <a:close/>
              </a:path>
              <a:path fill="darkenLess" w="61468" h="21600">
                <a:moveTo>
                  <a:pt x="61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68" y="20200"/>
                </a:lnTo>
                <a:close/>
              </a:path>
              <a:path fill="lighten" w="61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 Narrow"/>
              </a:rPr>
              <a:t>Q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PROVID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ducational Resour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 for Training &amp; Practi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aseline-training Program for Operato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aseline to evaluate Rwy. Safety practices &amp; proced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768-46DF-452A-9AB3-7A197F6272DF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ACT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issemination Training Aid: PAAST Action Team Leaders regional,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worldw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edback from PAAST to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RO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edback from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ROI to FAA, PAAST &amp; ICA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nalyze data &amp; draw conclu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dentify other possible interven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2DC-8797-45D6-B8E6-210D1796EF59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8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914400" y="22096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Narrow"/>
              </a:rPr>
              <a:t>AND REMEMBER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Narrow"/>
              </a:rPr>
              <a:t>ONLY YOU..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Narrow"/>
              <a:ea typeface="Arial Narro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29600" y="6289560"/>
          <a:ext cx="685800" cy="4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289560"/>
                    <a:ext cx="685800" cy="435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924680" y="228600"/>
            <a:ext cx="990720" cy="398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8229600" y="6191280"/>
          <a:ext cx="685800" cy="43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191280"/>
                    <a:ext cx="685800" cy="43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523880" y="-533520"/>
            <a:ext cx="7620120" cy="6400800"/>
          </a:xfrm>
          <a:prstGeom prst="irregularSeal1">
            <a:avLst/>
          </a:prstGeom>
          <a:noFill/>
          <a:ln w="88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1157760"/>
            <a:ext cx="5334120" cy="256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33"/>
                </a:solidFill>
                <a:latin typeface="Arial Black"/>
              </a:rPr>
              <a:t>CAN PREVENT RUNWAY INCURS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6324480"/>
            <a:ext cx="99072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0E4B-EE9C-4CD1-ACE5-30A24B5B64AC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898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47920" y="1371600"/>
            <a:ext cx="6248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: roilac@iat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886200"/>
            <a:ext cx="6172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04920"/>
            <a:ext cx="335304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1371600"/>
            <a:ext cx="6248160" cy="5105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077320" y="6116760"/>
          <a:ext cx="83808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6116760"/>
                    <a:ext cx="838080" cy="531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CF71-105E-4E2E-AB64-A3D97C25AA45}" type="slidenum">
              <a:t>18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63440" y="533520"/>
            <a:ext cx="152172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Arial Black"/>
              </a:rPr>
              <a:t>PA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04920"/>
          <a:ext cx="1600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600200" cy="1015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467480" y="228600"/>
          <a:ext cx="1371600" cy="132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228600"/>
                    <a:ext cx="13716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78360" y="1190880"/>
            <a:ext cx="834912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Runway Incursio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evention Progra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NAM/CAR/S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unway Safety/Runway Incursion Confe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fornian FB"/>
              </a:rPr>
              <a:t>Ciudad de M</a:t>
            </a:r>
            <a:r>
              <a:rPr b="1" i="1" lang="es-ES_tradnl" sz="3200" spc="-1" strike="noStrike">
                <a:solidFill>
                  <a:srgbClr val="ffffff"/>
                </a:solidFill>
                <a:latin typeface="Californian FB"/>
              </a:rPr>
              <a:t>éxico</a:t>
            </a:r>
            <a:r>
              <a:rPr b="1" i="1" lang="en-US" sz="3200" spc="-1" strike="noStrike">
                <a:solidFill>
                  <a:srgbClr val="ffffff"/>
                </a:solidFill>
                <a:latin typeface="Californian FB"/>
              </a:rPr>
              <a:t>, October 22-25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 Cas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 Operations &amp; Infrastru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m/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759-6215-4CFB-9BD0-B91B3A4A0BFB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Arpt. signage, lighting &amp; markings adequate or would they be a contributing factor for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are the lighting, visibility &amp; weather conditio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9907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A1DC-F355-4A37-A102-BF5470181708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you familiar with Arpt. lay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there language problems that may contribute to a RI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’s your experience in Ops. at high-density traffic Arpt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9907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7F51-B5F5-4BD5-B6E1-50487190FA84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believe may cause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think may help to prevent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990720"/>
            <a:ext cx="70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C442-0C52-465E-8E3A-125766549608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BACKGROUND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3976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s. have increased worldwide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wy. Safety: complex &amp; urgent issue due to increase in Comm. &amp; Gral. Aviation Op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79B8-578D-49D1-8B01-F134B37E22E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RUNWAY INCURS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AA: #1 safety concern &amp; top priori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NTSB: “Most Wanted Transp. Safety Improvement” l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CAO: “attention by States is req. to address the problem &amp; its impact on Ops. Safety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000-24BD-4134-9BAE-4CE0A2B1323E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urocontrol, FAA &amp; JAA Task Force initiated  Survey on Rwy. Safet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ATA Safety Strategy 2000+: “significant factor” (Regional Safety Priority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RUNWAY INCURS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665-336D-441A-A4CB-B29DEF84B6E2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ERE IS A NEED FOR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BETTER EDUCATION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RAINING AWARENESS &amp; PROCEDUR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+ NEW TECHNOLOGIES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58BC-DBEA-43D3-8DE8-BC00A050F33E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1:39:08Z</dcterms:created>
  <dc:creator>Elisa Galindez Luciani</dc:creator>
  <dc:description/>
  <dc:language>en-US</dc:language>
  <cp:lastModifiedBy>Claudia Lopez</cp:lastModifiedBy>
  <cp:lastPrinted>2002-10-14T20:25:46Z</cp:lastPrinted>
  <dcterms:modified xsi:type="dcterms:W3CDTF">2002-10-17T17:09:35Z</dcterms:modified>
  <cp:revision>204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8100.00000000</vt:lpwstr>
  </property>
  <property fmtid="{D5CDD505-2E9C-101B-9397-08002B2CF9AE}" pid="5" name="Year">
    <vt:lpwstr>2002</vt:lpwstr>
  </property>
</Properties>
</file>