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whoosh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D84-0DFA-465B-B37B-45764330C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AD7-3716-4589-940F-BF58E3C0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DDD5-D648-42A2-A98A-581B0CB8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841-9140-43F1-88C0-51CE4B27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DC21-2E77-4224-88D1-134F136E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9464-3034-4194-855D-7ECAB390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7DB8-CFFE-4A2B-9758-4D013507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9FDB-99F6-404E-BE88-E9E015E6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F7E5-7D10-451A-837B-0E269702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290F-E7CB-4E9E-98BB-3F725314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55F2-21C2-4F52-93E8-16F25606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63A-02B4-4103-A39A-6941CB071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D181-CAB7-4ABC-A8E7-2ED9ED7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FC85-D06E-45FC-B86E-EF2BE0C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A03A-40FE-4276-8B14-F4C4EEB5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0916-FD51-427D-94BB-2CA13147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50DE2-562D-470F-95D4-776DF471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9C2-AC32-41CF-9AEB-13E3BD64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07B-BDC8-4580-942F-260B8A36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D633-CAA4-4624-BFE4-08068169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13B-0F64-4E80-8058-35EB1B125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755-CDAD-4FAA-8A50-382C2F01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18FB-604D-47C5-BF3F-C86311FB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6798-E77F-4D51-ABF4-25E789A3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AAAF-3014-4852-BDB3-B7414FE8B3E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2B9C-10D3-4A33-9434-A5918531BA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143000" y="1523880"/>
            <a:ext cx="723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ffff"/>
                </a:solidFill>
                <a:latin typeface="Arial"/>
              </a:rPr>
              <a:t>RUNWAY INCURSION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22440" y="3902040"/>
            <a:ext cx="52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CURSIONES EN P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3760" y="4876920"/>
            <a:ext cx="53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CTORES HUMANOS CONTRIBUY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43720" y="990720"/>
            <a:ext cx="72853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ILAN, ITAL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EROPUERTO DE LIN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L PEOR DESASTRE AEREO EN ITAL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CTORES CONTRIBUY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ERRADA LA RAMPA NORTE POR CONTRUCC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ISIBILIDAD SUMAMENTE REDUCIDA APROX. 700 PI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NO SE CONTABA CON RADAR DE SUPERFICI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ISIBILIDAD LIMITADA PARA VIGILANCIA DE LA TOR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BLEMAS DE LENGUAJ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LLES DE RODAJE ANGULARES Y NO PERPENDICULA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TA DE FAMILIARIZACION CON EL AEROPUER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14 PERDIDAS HUMANAS EN AMBOS AVIONES Y 4 EN TIER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LLE DE RODAJE 6 UTILIZADA POR EL JET EJECUTIV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UGAR DE HABER TOMADO EL RODAJE 5 (NORTHERN LOOP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AR EN EL PEOR LUGAR EN EL PEOR MOM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14800" y="9144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AS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9960" y="1714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280" y="1636560"/>
            <a:ext cx="8341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RTICIPEMOS EN FORMA RESPONSABLE SOBRE DEFICIENCIAS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SISTEMAS DE NAVEGACION Y COMUNIC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PORTEMOS RIEGOS POTENCIALES DE AMENAZAS DE INCURS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L PROGRAMA “RUNWAY SAFETY” DE FA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BUSQUEMOS LA FORMA APROPIADA DE NOTIFICAR A NUESTR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PENDENCIAS LOS REPORTES EMITIDOS AL SERVICIO “ASRS”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GUIMIENTO POR PARTE DE LAS AUTORIDADES LOCA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NO SEAMOS PARTE DE LA  ESTADISTIC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FORMEMOS LOS PROCEDIMIENTOS SOBRE SEGURIDAD EN P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OR MEDIO DEL PROGRAMA QUE TENEMOS AL ALCANCE DE TO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ISITEMOS ESTA PAGINA CON REGULARIDAD PARA INFORMANO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95480" y="1295280"/>
            <a:ext cx="3200400" cy="1447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62120" y="2819520"/>
            <a:ext cx="798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IP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- RUNWAY INCURSION PREVENSION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NTALLA ELECTRONICA EN LA CABINA, MUESTRA UN MAP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L CUAL FUNCIONA BAJO EL CONCEPTO DEL “HEAD-UP DISPL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Y DA AL PILOTO GUIA REAL, EL SISTEMA MUESTRA Y ALER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L PILOTO CON ALARMA AUDIBLE SI ALGUN VEHICULO O AERONA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A A PUNTO DE INVADIR LA PI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SYNTHETIC VISION SYSTEM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- COMBINA SEÑALES GPS EN U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BASE DE DATOS TRIDIMENCIONAL DEL TERRENO Y SENS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VANZADOS PARA PROPORCIONAR AL PILOTO INFORMAC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PORCIONARA  UNA DETALLADA VISION DEL EXTERIOR SIN IMPORTAR LAS CONDICIONES DE VISI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HSALT.- HOLD SHORT ADVISORY LANDING TECHNOLOG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ELP THE PILOT DECIDE IF THE AIRPLANE CAN DECELERATE IN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267080" y="68580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990720"/>
            <a:ext cx="860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DVISORY CIRCULAR No 120-7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DURES DURING TAXI OPERATION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RT 121, 125 AND 135 FLIGHTCREW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ENFOQU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A GUIA ENFOCA LAS ACTIVIDADES QUE OCURREN EN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ABINA, PLANEACION, COMUNICACIÓN Y COORDINAC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GUIR LOS PROCEDIMIENTOS DE OPERACIÓN NORMAL,”SOP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LERTA SITU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NO DETENERSE EN LA PISTA, SALIR LO ANTES POSIBLE E INICI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COMUNICACIÓN CON EL C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OTAR LAS INTRUCCIONES DE RODAJE AUN CUANDO SE E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MILIARIZADO CON EL AEROPUER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XTREMAR PRECAUCIONES CUANDO SE UTILICE UNA PIS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O CALLE DE RODAJE BAJO CONDICIONES DE VISI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DUCI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838080"/>
            <a:ext cx="815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CURSIONES EN PISTAS NO ES SOLO UN PROBLE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LAS AEROLINE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MPLEMENTAR PARTICIPACION DE ORGANISMOS DENTR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LA AVIACION GENER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EAR COMITES A NIVEL AEROLINEAS CON PARTICIPA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LOS ESTADOS CONTRATANTES DE O.A.C.I CON PROGRA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FINIDOS Y METAS DEFINID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MOVER REUNIONES FRECUENTES DENTRO DE TO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QUELLOS ESTADOS PARTICIPANTES EN EL PROCE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REAR BASE DE DATOS DE TODOS AQUELLOS PAI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VOLUCRADOS EN EL PROGRAMA Y AYUDAR A DESARROL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N PROGRAMA QUE SIRVA CÓMO BASE DE ESTUDIO A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BLEMÁTICA, ASI COMO SOLU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04920" y="1828800"/>
            <a:ext cx="855360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TEGORIA “D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N MUY PEQUEÑO MARGEN O SIN POSIBILIDAD DE UNA COLIS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S SIN EMBARGO REUNE EL CRITERIO DE DEFINIRLA  COM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CURSION EN PI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TEGORIA “C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DUCCION DE LA SEPARACION, PERO SUFICIENTE TIEMPO Y DISTA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RA EVITAR UNA COLISION POTENCI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TEGORIA “B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SEPARACION DISMINUYE Y HAY UN RIESGO CONSIDERABLE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LI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CATEGORIA “A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SEPARACION SE REDUCE Y LOS INVOLUCRADOS TOMAN ACCION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XTREMAS PARA EVITAR LA COLI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838080"/>
            <a:ext cx="33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CURSIONES EN PIS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1371600"/>
            <a:ext cx="52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ATEGORIAS  DE ACUERDO AL RIES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059920" y="914400"/>
            <a:ext cx="448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EXPERIENCIA DE AEROME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200" y="1371600"/>
            <a:ext cx="8481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OVIEMBRE 22, 1999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EROPUERTO INTERNACIONAL DE LOS ANGE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EROMEXICO MD-80 Y UAL 75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CURSION EN PISTA POR FALLA EN EL PROCES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UNICACIÓN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LACION ERRONEA, A LA  INTRUCCION  DEL C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TC.“DESALOJAR POR “N” Y MANTENGA ANTES DE  PISTA 25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M. “ENTERADO, DESALOJAR POR “N” Y CRUCE PISTA 25R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FATIDICOS 8 SEGUNDOS, CTA DETECTA LA AERONAVE CRUZAN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TACION PREMATURA DEL AVION DEL B757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S AERONAVES ESTUVIERON A 60 PIES DE UNA COLI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CTOR HUMANO CLASICO” ESCUCHAMOS LO QUE QUEREM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CUCHAR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TUAMOS A PESAR DE LA DU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GESTIONAMIENTO EN LA FRECUENC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NTECEDENTES DE FALLAS DE COMUNICACIÓN AL INGRES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SICION ASIG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822240" y="1001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4640" y="762120"/>
            <a:ext cx="348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CIONES CORRECTIV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080" y="1371600"/>
            <a:ext cx="8940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GRAMA DE SUPERVISION Y ASESORAMIENTO AEROPUERT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OS U.S.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GRACION Y PARTICIPACION EN EL PROGRAMA DE RUNWAY SAFE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F.A.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FERENCIAS A LOS PILOTOS POR PARTE DE SHERRY AVERY Y FRA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WEENEY, GERENTE Y ASISTENTE DEL CTA LA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PLEMENTACION DE INFORMACION RELATIVA A INCURSIONES EN P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PARTE DE LA JEFATURA DE PILOTOS DE AEROMEX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TICIPACION EN LOS FOROS SOBRE EL TEMA EN LOS ANGELES, DALL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ATTLE, WASHINGTON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OYO POR PARTE DE LA DRA. ELEANA EDEN, DIRECTORA DEL PROGR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FACTORES HUMANOS DE F.A.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5280" y="1066680"/>
            <a:ext cx="8682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STEMA DE SEGUIMIENTO ENCAMINADO A DETECTAR FAL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ESTE PROCES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FORMACION IMPRESA DISEMINADA EN LAS ÀREAS DE CAPACITAC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GRAMA DE SUPERVISION BI-ANUAL A LA LÌNEA POR PARTE DEL À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CAPACITACION Y ADIESTRAMIENTO DE LA EMPRES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ARROLLO DE UN PROGRAMA ENCAMINADO A MEJORAR EL DOMIN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 LA LENGUA INGLESA EN LAS  TRIPUL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A EXPERIENCIA PERMEO EN LA LÌNEA DE VUELO DE TAL FORMA 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E AUTOGENERO UN PROCESO DE VIGILANCIA EN TODOS LOS VUEL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I LOGRAMOS CAPITALIZAR NUESTRAS EXPERIENCIAS, LOGRAREM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CREMENTAR LOS MARGENES DE SEGURIDAD EN NUESTR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PER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93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1640" y="1447920"/>
            <a:ext cx="881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IEN NO SEPA LO QUE CUESTA UN ACCIDENT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LO TENG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61600" y="281952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SEGURIDAD NO ES UN LU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2760" y="374508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L TRABAJO EN EQUIPO RINDE MEJORES FR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40280" y="4495680"/>
            <a:ext cx="132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533412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P. JOSE ANTONIO RIVEROLL BUS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70680" y="1103400"/>
            <a:ext cx="725652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OR DEFINIC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INCURSIONES EN PI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 DEFINE COMO CUALQUIER AMENAZA DE COLISION EN U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ISTA ENTRE UNA AERONAVE U CUALQUIER OTRO OBJET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CLUYENDO OTRA AERONAV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VEHICULO O PERSON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990720" y="1447920"/>
            <a:ext cx="744984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EN DONDE ESTAM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NOS AUTORIZARO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QUÉ DIJO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REO QUE ES POR AQU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¿POR DOND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EL LOOP DE COMUNICACIÓN (CONTROLADOR- PILOTO).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PERDIDA DE ALERTA SITUACIONAL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FUE ESO PARA NOSOTR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RTE DE LA EQUACION DE COMUNICACIÓN ES LA FAL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COMUNICACIÓN, EFECTO BOLA DE NIEV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FATIGA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QUÉ SIGAMOS A QUIE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¿AMBOS PILOTOS INTEGRADOS EN EL PROCES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COMUNICACIÓ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27000" y="851040"/>
            <a:ext cx="30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ACTORE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77724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3640" y="7779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838080"/>
            <a:ext cx="7543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CORDEMOS-HISTOR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7 DE MARZO DE 197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ENERIFE, ISLAS CANAR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583 VIDAS HUMANAS PERDI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N-AM VLO 1736 – KLM VLO 480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RNADAS vs SEGUR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RNADA CONTROLAD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FICIENCIAS DE LENGUAJ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USO DE UNA SOLA FRECUENCIA CONTROLANDO DOS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ECT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CADENA DEL ERROR Y EL DETONANTE (LAS PALM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ILOTOS EN PUESTOS ADMINISTRATIV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 DEL CONCEPTO “CR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ROCESO DE COMUNICACIÓN DEFICIENTE(Clipper-Papa-Alpha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4 SEGUNDOS, DIFERENCIA ENTRE EVITAR O PERE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STRÉS EN CABINA, NO PERCEPCION DE LA REA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RACCION DE LA TRIPULACION PUDO HABER REDUCI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L ERROR HUMAN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5640" y="711360"/>
            <a:ext cx="8631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CURSIONES EN PISTA-UN PROBLEMA MULTIFACTOR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INCORPORACION SISTEMATICA DE FACTORES CULTURALES EN 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DESEMPEÑO DE UNA TAR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CONSIDERACIONES MACROERGONOMICAS EN LA APLICACIÓN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STEM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ISEÑO DE LOS SISTEMAS OPERACIONALES Y DE MANTEN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DIESTRAMIENTO, ADMINISTRACION, PROCESOS DE PLANEAMIENTO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VISION DE LOS PROCESOS, SUPERVIS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FINICION DE LOS PARAMETROS CULTURALES EN LA DEFINI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UNA AVIACION MAS INTERNAC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FICIENCIAS EN SEGURIDAD QUE PUEDEN SER DESIGUALES EN OT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GIONES DEL PLANE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SARROLLO DE LA METODOLOGIA APROPIADA PARA PODER MEDI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TRANFERENCIA DE LA CAPACITACION EN OTROS GRUPOS ETNIC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NTEGRACION DE LOS GRUPOS DE TRABAJO EN RELACION A LO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SULTADOS ADOPTADOS EN LOS PAISES INVOLUCRAD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BENEFICIOS A CORTO, MEDIANO Y LARGO PLAZO DE LOS PROCE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VALUACION DE LAS DIFERENCIAS EN LENGUAJE Y CULTUR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ARAMETROS BASADOS EN AFECTACION DEL FUNCIONAMIEN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RGANIZACIONAL, UTILIZACION DE LA TECNOLOGIA Y SEGUR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685800"/>
            <a:ext cx="80773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ff"/>
                </a:solidFill>
                <a:uFillTx/>
                <a:latin typeface="Arial"/>
              </a:rPr>
              <a:t>RECOMENDACIONES-TENERIF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IMPLEMENTAR EL USO DE LA FRASEOLOGIA APROPI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DUCCION DEL TIEMPO DE SIMULADOR PARA LOS INSTRUCTORES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E INCREMENTAR EL TIEMPO DE ESTOS EN OPERACIONES DE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INE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LIMINAR DE LAS AUTORIZACIONES EL USO DE LA PALABRA “TAK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OFF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VISAR MINIMOS DE DESPEGUE ASI COMO MINIMOS DE RODAJ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HACER MANDATORIO EL USO DE LUCES EN CUALQUIER AERONAV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 MOV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IMPLEMETACION DE LUCES ESTROBOSCOPICAS-ANTICOLISION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EN TODAS LAS AERONAV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VISAR EN FORMA DETALLADA EL DESEMPEÑO DE CADA UN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TRIPULANTES PARA INTERACTUAR EN LA CABINA EN ARA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DUCIR EL ERROR HUMAN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ALIZAR LAS CONSECUENCIAS LEGALES DE LAS LIMITACIONES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S JORNADAS DE LAS TRIPUL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EJORAR LOS SISTEMAS EN LAS GRABADORAS DE VUELO PARA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ODER CONTAR CON MAS INFORMACION EN LA INVSTIGACION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CCIDENT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128040" y="762120"/>
            <a:ext cx="28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USAS PROB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182600"/>
            <a:ext cx="8670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ERDIDA DE CONCIENCIA SITUATIO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ORIENTACION ESPAC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ARRERA DEL LENGUAJ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(IDIOM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ALLA EN EL PROCESO DE COMUNICACIÓN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CON A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TA DE FAMILIARIZACION CON LOS AEROPUER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TA DE ADIESTRAMIENTO EN LOS PROCESOS DE INTEGRA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Y COMUNICACIÓN EFICIENTE ENTRE PILOTOS. “CRM”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REGLA DE LAS 3 “R´s” 1). REVISAR NOTAMS, 2). REFERIRSE 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 CARTA DEL AEROPUERTO. (LAYOUT), 3). REPETIR INSTRUCI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(READBACK), TODAS LA AUTORIZACIONES DE CRUCE DE PISTA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NTENER ANTES, CON EL No DE VUELO Y DESIGNADOR DE PIST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EROPUERTOS SIN RADAR DE SUPERFICIE REPRESENTAN UN RIESG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AS AEROLINEAS DEBEN INFORMAR A SUS TRIPULACIONES DE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QUELLOS AEROPUERTOS EQUIPADOS CON “ASDE-3” (Airport Su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tection Rada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TE LA DUDA NO SE CONSULTA A LA TORRE, SE ASUME QUE SAB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DE LA POSICION EN LA QUE NOS ENC0NTRAM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NO SE EFECTUAN RODAJES EN FORMA “DEFENSIVA”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2210040" cy="4492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3000" y="10666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October 08 2001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118 Killed as Jetliner, Business jet Collide on Italy Runway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62720" y="2590920"/>
            <a:ext cx="2514600" cy="3809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685800" y="2743200"/>
            <a:ext cx="228600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5800" y="4495680"/>
            <a:ext cx="23623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9:06:10Z</dcterms:created>
  <dc:creator>Jose A.</dc:creator>
  <dc:description/>
  <dc:language>en-US</dc:language>
  <cp:lastModifiedBy>Claudia Lopez</cp:lastModifiedBy>
  <dcterms:modified xsi:type="dcterms:W3CDTF">2002-10-16T16:15:05Z</dcterms:modified>
  <cp:revision>36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7800.00000000</vt:lpwstr>
  </property>
  <property fmtid="{D5CDD505-2E9C-101B-9397-08002B2CF9AE}" pid="5" name="Year">
    <vt:lpwstr>2002</vt:lpwstr>
  </property>
</Properties>
</file>