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whoosh.wav" ContentType="audio/x-wav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D7F-96D7-4794-B5A4-64FD39D6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1D34-3CC1-4C90-974A-F3428BDB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1ACE-2E26-4141-8618-668F20EF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B24-7832-4B8C-9D1A-BF152CDB0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2505-AB71-4738-87C6-DA10573C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79C2-E967-40F1-B0C5-2755145E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A46B-F885-418E-B3A7-B123D856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23EB-5E73-4423-83B7-1BE5B128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653D-D36B-4454-9FD9-EB2D66E4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830B-4126-446C-873D-198F4926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C6D01-76E4-4078-B78E-D7DA815C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0F2F-7591-4C8E-A213-F5CF6003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8E48-8AA7-4285-BF99-B1609BFB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BD10-8939-45A2-A2A0-CE21DFAC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9DA3-E184-4E14-8496-C7954665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1EB1-C447-4B0C-9D1A-78622A46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5895-E5E6-41B1-AB68-3AE7B04C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99FD-DF96-46AB-98C9-AA43A20B5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3DB-E987-432B-8437-FD8B3E7C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EC6-7626-43F0-BD08-19CE9E23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6A8A-4356-4CC5-94BA-D9EE2498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A90-C96F-406B-A8F7-6327D45E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1CF2-B592-4A1E-BD97-091F8678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E8D3-5F63-4F8C-8A58-42AB8BC1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AAB1-142D-43F4-AA40-728AC7F444F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0" y="292752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EDF2-EBC6-46F8-9E22-FC169282D89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00400" y="457200"/>
            <a:ext cx="2438280" cy="2414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17040" y="3276720"/>
            <a:ext cx="80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5410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P.A. Miguel  Ángel Valero Cháv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41148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Times New Roman"/>
              </a:rPr>
              <a:t>24 de octubre d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A88-D713-4B67-844A-5BADDBD45E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La utilización de este modelo de evitar, atrapar y mitigar el </a:t>
            </a: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error</a:t>
            </a: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, es una herramienta para que la utilice el piloto en las operaciones de superfici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6CC-F73C-4397-80E5-8B22768D72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914400" cy="905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925040" cy="809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172200" y="22096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952520" y="320040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4191120" y="2209680"/>
            <a:ext cx="76176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57600" y="2209680"/>
            <a:ext cx="83808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352320" y="32767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22096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2004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1880" y="32004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105520" y="3429000"/>
          <a:ext cx="9810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429000"/>
                    <a:ext cx="981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5556960" y="4700520"/>
            <a:ext cx="30916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4568"/>
                </a:solidFill>
                <a:latin typeface="Times New Roman"/>
              </a:rPr>
              <a:t>Distracción</a:t>
            </a:r>
            <a:r>
              <a:rPr b="1" lang="es-ES_tradnl" sz="2000" spc="-1" strike="noStrike">
                <a:solidFill>
                  <a:srgbClr val="ff4568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4568"/>
                </a:solidFill>
                <a:latin typeface="Times New Roman"/>
              </a:rPr>
              <a:t>al no tener la autoriz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4568"/>
                </a:solidFill>
                <a:latin typeface="Times New Roman"/>
              </a:rPr>
              <a:t>de vuelo previo al ro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cursión de Pista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3581280"/>
            <a:ext cx="33530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Saliendo de la plataforma                       La tripulación técnica no ha recibido la autorización de vuelo, por parte del CTA.                             El CTA pregunta si esta listo a copiar     El Copiloto responde: pendiente.                Se inicia el rodaje y el Sc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093-CFA2-4E3C-9F7B-895DE1AAB2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924680" cy="809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5880" y="25146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876920" y="35053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4114440" y="2514600"/>
            <a:ext cx="76212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514600"/>
            <a:ext cx="83844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276360" y="35812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25146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35053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3505320"/>
            <a:ext cx="0" cy="25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5486400" y="3733920"/>
          <a:ext cx="98100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733920"/>
                    <a:ext cx="9810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85800" y="457200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l Cap. Observa que un avión despega hacia el Este, solicita la lista de rodaje, el copiloto realiza la lista económi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6781680" y="1066680"/>
            <a:ext cx="1384560" cy="414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5334120" y="5181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4568"/>
                </a:solidFill>
                <a:latin typeface="Times New Roman"/>
              </a:rPr>
              <a:t>Fij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DD3B-C522-429F-B57F-F3F6F750AF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7925040" cy="809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943600" y="2057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723920" y="30481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3962520" y="2057400"/>
            <a:ext cx="76176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2057400"/>
            <a:ext cx="8380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123720" y="3124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2057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324480" y="3048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53280" y="3048120"/>
            <a:ext cx="0" cy="25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791320" y="2590920"/>
          <a:ext cx="67140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2590920"/>
                    <a:ext cx="6714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762120" y="3276720"/>
            <a:ext cx="3809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Mientras continua el rodaje, el CTA llama para proporcionar la autorización de vuelo, el Copiloto la cop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4648320"/>
            <a:ext cx="3886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ntes de poner la luz de cabina estéril, entra una sobrecargo a la cabina e informa al Capitán que se escucha un ruido extraño en el área del Galley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05520" y="3886200"/>
            <a:ext cx="2819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4568"/>
                </a:solidFill>
                <a:latin typeface="Times New Roman"/>
              </a:rPr>
              <a:t>Distr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4568"/>
                </a:solidFill>
                <a:latin typeface="Times New Roman"/>
              </a:rPr>
              <a:t>No apegarse a procedimi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0539-731A-425A-B7D0-8884D9F954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7924680" cy="809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019920" y="23623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800240" y="33526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038120" y="2361960"/>
            <a:ext cx="76212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362320"/>
            <a:ext cx="8380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200040" y="34290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00800" y="23623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00800" y="33526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229600" y="335268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24080" y="762120"/>
            <a:ext cx="27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cursión de Pi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5867280" y="2133720"/>
          <a:ext cx="67176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133720"/>
                    <a:ext cx="67176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52280" y="4267080"/>
            <a:ext cx="533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l Capitán continua el rodaje, al tiempo que atiende el comentario de la sobrecargo, el Copiloto colaciona la autor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48520" y="4191120"/>
            <a:ext cx="2590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4568"/>
                </a:solidFill>
                <a:latin typeface="Times New Roman"/>
              </a:rPr>
              <a:t>Intentar hacer varias cosas a la v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07B-4D14-4596-AE3B-C4A32F1123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914400" cy="9046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7925040" cy="809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943600" y="2057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723920" y="30481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3962520" y="2057400"/>
            <a:ext cx="76176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2057400"/>
            <a:ext cx="8380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123720" y="3124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324480" y="2057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3048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153280" y="3048120"/>
            <a:ext cx="0" cy="25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5334120" y="1371600"/>
          <a:ext cx="91116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371600"/>
                    <a:ext cx="9111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248520" y="3886200"/>
            <a:ext cx="2438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4568"/>
                </a:solidFill>
                <a:latin typeface="Times New Roman"/>
              </a:rPr>
              <a:t>Perdida de la conciencia situ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191120" y="1371600"/>
          <a:ext cx="91116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1371600"/>
                    <a:ext cx="9111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33520" y="388620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3886200"/>
            <a:ext cx="5486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l capitán asume que la pista en uso es la 9, mientras el copiloto trata de avisarle que es la 27 (mediante señas), la sobrecargo nuevamente entra a la cabina definiendo que el ruido proviene de uno de los hornos, estando todo norm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0CF-2926-45C7-B7CF-89533895AF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914400" cy="9050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9480" y="1295280"/>
            <a:ext cx="7925040" cy="809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943600" y="2057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4723920" y="30481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 flipV="1">
            <a:off x="3962520" y="2057400"/>
            <a:ext cx="76176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2057400"/>
            <a:ext cx="83808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123720" y="3124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205740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3048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53280" y="3048120"/>
            <a:ext cx="0" cy="25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380880"/>
            <a:ext cx="27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cursión de Pi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191120" y="1371600"/>
          <a:ext cx="91116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1371600"/>
                    <a:ext cx="9111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"/>
          <p:cNvSpPr/>
          <p:nvPr/>
        </p:nvSpPr>
        <p:spPr>
          <a:xfrm>
            <a:off x="914400" y="3962520"/>
            <a:ext cx="56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l CTA le informa que la pista en uso es la 27, y el Copiloto le confirma la instrucción al Capitá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51055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66ff33"/>
                </a:solidFill>
                <a:latin typeface="Times New Roman"/>
              </a:rPr>
              <a:t>Recupera la conciencia situac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BA1E-9C6E-400E-8B0C-4367622D8E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219320" y="19242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isten estudios que muestran que los pilotos  creen que pueden ejecutar varias tareas a la vez sin la posibilidad de cometer un err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3295800"/>
            <a:ext cx="723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n el ejemplo observamos por que es importante el estudio de los </a:t>
            </a:r>
            <a:r>
              <a:rPr b="1" lang="es-ES_tradnl" sz="2400" spc="-1" strike="noStrike">
                <a:solidFill>
                  <a:srgbClr val="ff4568"/>
                </a:solidFill>
                <a:latin typeface="Times New Roman"/>
              </a:rPr>
              <a:t>Factores Humanos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, ya que los elementos que se unieron para que el piloto perdiera la conciencia situacional, son distractores comunes  y frecuentes en una operación, por lo que debemos considerar nuestras propias limitaciones como seres humanos para evitar un incidente o accid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81080" y="77616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9CD-E909-46C1-967A-79634256DC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200400" y="1828800"/>
            <a:ext cx="2666880" cy="3124080"/>
          </a:xfrm>
          <a:custGeom>
            <a:avLst/>
            <a:gdLst/>
            <a:ahLst/>
            <a:rect l="l" t="t" r="r" b="b"/>
            <a:pathLst>
              <a:path w="1680" h="1968">
                <a:moveTo>
                  <a:pt x="0" y="0"/>
                </a:moveTo>
                <a:lnTo>
                  <a:pt x="1680" y="0"/>
                </a:lnTo>
                <a:lnTo>
                  <a:pt x="768" y="1968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cap="sq"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95480" y="1908000"/>
            <a:ext cx="3200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EVITAR EL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TRAPAR EL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REDUCIR EL</a:t>
            </a:r>
            <a:r>
              <a:rPr b="1" lang="es-MX" sz="2400" spc="-1" strike="noStrike" u="sng">
                <a:solidFill>
                  <a:srgbClr val="ffffff"/>
                </a:solidFill>
                <a:uFillTx/>
                <a:latin typeface="Times New Roman"/>
              </a:rPr>
              <a:t>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97C-3436-4C43-A23B-BB3860D0BE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1981080"/>
            <a:ext cx="8229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vitar el error, así como los procedimientos operacionales (SOP’S) tienen ampliamente definidos Coordinación de Despegue y Coordinación de Aproximación, se deberá incluir una precisa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Coordinación de Rodaje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, que no solamente incluya una comprensión de las instrucciones del CTA, sino un tratamiento de la información que va desde el despacho de vuelo, NOTAMS y ATIS y repasar las causas de las distracciones operacionales y no operacionales que nos lleven a la pérdida de la conciencia situacional, apegarse a los procedimientos de radiotelefonía y fraseología y utilizar todos los recursos disponibles por la tripulación para una operación segura de rodaj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258D-3A15-4B1F-AF61-28BF79B4C0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143000" y="3048120"/>
            <a:ext cx="693432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908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l CRM y las incursiones en las pistas</a:t>
            </a:r>
            <a:endParaRPr b="0" lang="en-US" sz="2400" spc="1" strike="noStrike">
              <a:ln cap="sq" w="1908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D205-EB47-4920-927F-55F743DEB6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Atrapar el error.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iguiendo una comprobación de las condiciones operacionales a través de una lista de verificación, la cual nos lleva a obtener advertencia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33920" y="3200400"/>
            <a:ext cx="1828800" cy="16765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267080" y="3505320"/>
            <a:ext cx="762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035-0D22-434A-ADC4-018453EC34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236232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TRIPULACIÓN DE VUELO: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amiliarizado con el aeropuerto y todos sus procedimientos de rodaje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3657600"/>
            <a:ext cx="1828800" cy="16765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267080" y="3962520"/>
            <a:ext cx="762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9483-477B-44F2-894A-7FE43A91A6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828800"/>
            <a:ext cx="838188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SERVICIOS DE AEROPUERTO Y EQUIPAMIENTO: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ndiciones de iluminación y señalización adecuadas, la existencia de calles de rodaje o pistas cerradas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33920" y="3657600"/>
            <a:ext cx="1828800" cy="16765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267080" y="3962520"/>
            <a:ext cx="762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979D-7D0B-43ED-9354-CC03A693D7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14400" y="2362320"/>
            <a:ext cx="7010280" cy="18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 Narrow"/>
              </a:rPr>
              <a:t>ENTORNO:</a:t>
            </a: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Narrow"/>
              </a:rPr>
              <a:t>Condiciones de visibilidad, condiciones de pista, ejemplo: agua, agua nieve, nieve, hielo, que pudieran afectar la controlabilidad en tierr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33920" y="3657600"/>
            <a:ext cx="1828800" cy="16765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267080" y="3962520"/>
            <a:ext cx="762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52C5-D267-4A87-9384-FAD173A5E8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438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TRÁNSITO AÉREO: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umeroso tráfico en el aeropuer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3920" y="3657600"/>
            <a:ext cx="1828800" cy="16765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267080" y="3962520"/>
            <a:ext cx="762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296-E5AD-444F-AE72-0DFAF8E15D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2666880"/>
            <a:ext cx="1371600" cy="12193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7581960" y="2860560"/>
            <a:ext cx="571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2666880"/>
            <a:ext cx="1371600" cy="12193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76240" y="2860560"/>
            <a:ext cx="5716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666880"/>
            <a:ext cx="1371600" cy="12193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552760" y="2860560"/>
            <a:ext cx="571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2666880"/>
            <a:ext cx="1371600" cy="12193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305240" y="2860560"/>
            <a:ext cx="5716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89" name=""/>
          <p:cNvSpPr/>
          <p:nvPr/>
        </p:nvSpPr>
        <p:spPr>
          <a:xfrm>
            <a:off x="5562720" y="2666880"/>
            <a:ext cx="1371600" cy="12193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981760" y="2860560"/>
            <a:ext cx="571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4724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SE ATRAPÓ UN ERROR PASIV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96F8-24F7-4CB7-BA8A-9FC03B7D5E0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14400" y="2286000"/>
            <a:ext cx="7620120" cy="33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4568"/>
                </a:solidFill>
                <a:latin typeface="Arial Narrow"/>
                <a:ea typeface="Times New Roman"/>
              </a:rPr>
              <a:t>Mitigar el error: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uando la tripulación no ha seguido las instrucciones del CTA o se encuentra perdida o desorientada,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 Narrow"/>
                <a:ea typeface="Times New Roman"/>
              </a:rPr>
              <a:t>avisar de inmediato al CT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26DB-5303-454C-A744-189891C390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1828800"/>
            <a:ext cx="807696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CONCLUSIONES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umado a los avances técnicos en la señalización, iluminación y equipos de advertencia en los aeropuertos y el manejo preventivo por parte del CTA la  aplicación del modelo del CRM de evitar, atrapar y mitigar, es una valiosa herramienta para evitar las incursiones de pista.  Es un hecho que cuando las tripulaciones conocen las causas de un problema tienen menos probabilidades de repetirlo, conferencias como estas y su difusión contribuyen a este objetiv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6305-3CEC-4FF6-9464-EBE52E9B97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90720" y="1828800"/>
            <a:ext cx="7543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800" spc="-1" strike="noStrike">
                <a:solidFill>
                  <a:srgbClr val="ffffff"/>
                </a:solidFill>
                <a:latin typeface="Times New Roman"/>
              </a:rPr>
              <a:t>GRACIAS POR SU ATENCIÓ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87F8-0121-4775-9563-99A70AB375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43880" y="2476440"/>
            <a:ext cx="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243160"/>
            <a:ext cx="22860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43880" y="2590920"/>
            <a:ext cx="22860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58280" y="2476440"/>
            <a:ext cx="0" cy="57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2243160"/>
            <a:ext cx="22860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72480" y="2590920"/>
            <a:ext cx="22860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590920"/>
            <a:ext cx="22860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29680" y="2590920"/>
            <a:ext cx="22860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533840"/>
            <a:ext cx="1371600" cy="800280"/>
          </a:xfrm>
          <a:prstGeom prst="rect">
            <a:avLst/>
          </a:prstGeom>
          <a:solidFill>
            <a:srgbClr val="ff505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629400" y="4648320"/>
            <a:ext cx="90504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ahoma"/>
              </a:rPr>
              <a:t>4-22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ahoma"/>
              <a:ea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333440" y="4681440"/>
            <a:ext cx="1316160" cy="800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33600" y="4800600"/>
            <a:ext cx="25704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905120" y="5029200"/>
            <a:ext cx="571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809880" y="2819520"/>
            <a:ext cx="1398600" cy="1752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47920" y="2247840"/>
            <a:ext cx="914400" cy="914400"/>
          </a:xfrm>
          <a:prstGeom prst="rect">
            <a:avLst/>
          </a:prstGeom>
          <a:solidFill>
            <a:srgbClr val="ff505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62040" y="2362320"/>
            <a:ext cx="685800" cy="685800"/>
          </a:xfrm>
          <a:prstGeom prst="ellipse">
            <a:avLst/>
          </a:prstGeom>
          <a:solidFill>
            <a:srgbClr val="ff505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76520" y="270972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351-75D1-401A-8058-92C7BE15A2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4382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s Incursiones de pista resultado de una desviación de piloto (PD) por fallar al seguir una instrucción, puede ser el resultado de una baja administración de recursos en cabina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CRM</a:t>
            </a:r>
            <a:r>
              <a:rPr b="0" lang="en-US" sz="12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AE4F-B1B9-47A1-9D67-D314C91818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83808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514600"/>
            <a:ext cx="7391520" cy="25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DEFINICIÓN DEL CRM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Administración de los Recursos de la Tripu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ffffff"/>
                </a:solidFill>
                <a:latin typeface="Times New Roman"/>
              </a:rPr>
              <a:t>Es el uso efectivo de los recursos disponibles, esto es, equipos, procedimientos y personas, a fin de lograr operaciones de vuelo seguras y eficac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7BC-AADE-43C4-8F42-EFF528D9ED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641240"/>
            <a:ext cx="86104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ctr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QUINTA GENE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ctr">
              <a:spcBef>
                <a:spcPts val="700"/>
              </a:spcBef>
              <a:buClr>
                <a:srgbClr val="ff456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Regresa al concepto original del CRM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“EVITAR EL ERR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ctr">
              <a:spcBef>
                <a:spcPts val="700"/>
              </a:spcBef>
              <a:buClr>
                <a:srgbClr val="ff456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n los programas se incluye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“el manejo del error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spcBef>
                <a:spcPts val="700"/>
              </a:spcBef>
              <a:buClr>
                <a:srgbClr val="ff456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Premisa: el error humano es </a:t>
            </a:r>
            <a:r>
              <a:rPr b="0" lang="es-MX" sz="2800" spc="-1" strike="noStrike">
                <a:solidFill>
                  <a:srgbClr val="ff0000"/>
                </a:solidFill>
                <a:latin typeface="Times New Roman"/>
              </a:rPr>
              <a:t>ubicuo e inevi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 algn="ctr">
              <a:spcBef>
                <a:spcPts val="700"/>
              </a:spcBef>
              <a:buClr>
                <a:srgbClr val="ff4568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CRM se ve como un grupo de medidas en contra del error con tres líneas de defens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3FE-8114-4013-A6AF-562F2420BA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vitar el err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trapar los errores incipientes antes de que sean comet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Mitigar las consecuencias de los errores que ocurrieron y no fueron atrapad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ecff"/>
                </a:solidFill>
                <a:latin typeface="Times New Roman"/>
              </a:rPr>
              <a:t>La sexta generación utiliza el TR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THREAT ERRO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291-D0C5-4826-A1D5-143B2D2913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7848360" cy="4876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00200" y="5410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ONSIDER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8E9-E582-485B-918C-E90D5B50E2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914400" cy="905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38088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br>
              <a:rPr sz="2000"/>
            </a:b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s-MX" sz="2000" spc="-1" strike="noStrike">
                <a:solidFill>
                  <a:srgbClr val="ffffff"/>
                </a:solidFill>
                <a:latin typeface="Times New Roman"/>
              </a:rPr>
              <a:t>COLEGIO DE PILOTOS AVIADORES DE MÉXICO, A.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2209680"/>
            <a:ext cx="7086600" cy="2514600"/>
          </a:xfrm>
          <a:prstGeom prst="rect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3657600"/>
            <a:ext cx="2819520" cy="685800"/>
          </a:xfrm>
          <a:custGeom>
            <a:avLst/>
            <a:gdLst/>
            <a:ahLst/>
            <a:rect l="l" t="t" r="r" b="b"/>
            <a:pathLst>
              <a:path w="1776" h="432">
                <a:moveTo>
                  <a:pt x="336" y="0"/>
                </a:moveTo>
                <a:lnTo>
                  <a:pt x="1776" y="0"/>
                </a:lnTo>
                <a:lnTo>
                  <a:pt x="1440" y="432"/>
                </a:lnTo>
                <a:lnTo>
                  <a:pt x="0" y="432"/>
                </a:lnTo>
                <a:lnTo>
                  <a:pt x="336" y="0"/>
                </a:lnTo>
                <a:close/>
              </a:path>
            </a:pathLst>
          </a:cu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981080"/>
            <a:ext cx="7848720" cy="2057400"/>
          </a:xfrm>
          <a:custGeom>
            <a:avLst/>
            <a:gdLst/>
            <a:ahLst/>
            <a:rect l="l" t="t" r="r" b="b"/>
            <a:pathLst>
              <a:path w="4944" h="1296">
                <a:moveTo>
                  <a:pt x="0" y="96"/>
                </a:moveTo>
                <a:lnTo>
                  <a:pt x="384" y="96"/>
                </a:lnTo>
                <a:lnTo>
                  <a:pt x="2208" y="1296"/>
                </a:lnTo>
                <a:lnTo>
                  <a:pt x="3216" y="1296"/>
                </a:lnTo>
                <a:lnTo>
                  <a:pt x="3744" y="768"/>
                </a:lnTo>
                <a:lnTo>
                  <a:pt x="4416" y="768"/>
                </a:lnTo>
                <a:lnTo>
                  <a:pt x="4944" y="0"/>
                </a:lnTo>
              </a:path>
            </a:pathLst>
          </a:cu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2000 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14600" y="2666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proxim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62520" y="3200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terriz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2819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espe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510552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ff"/>
                </a:solidFill>
                <a:latin typeface="Times New Roman"/>
              </a:rPr>
              <a:t>CONSIDERACIONE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CBEE-3210-43DD-A58C-5F0E6A7A8B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8:00:24Z</dcterms:created>
  <dc:creator>Ing. Victor Ayala</dc:creator>
  <dc:description/>
  <dc:language>en-US</dc:language>
  <cp:lastModifiedBy>Claudia Lopez</cp:lastModifiedBy>
  <dcterms:modified xsi:type="dcterms:W3CDTF">2002-10-16T19:51:48Z</dcterms:modified>
  <cp:revision>16</cp:revision>
  <dc:subject/>
  <dc:title>ICAO NAM/CAR/SAM Runway Safety/Incursion Con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87400.00000000</vt:lpwstr>
  </property>
  <property fmtid="{D5CDD505-2E9C-101B-9397-08002B2CF9AE}" pid="5" name="Year">
    <vt:lpwstr>2002</vt:lpwstr>
  </property>
</Properties>
</file>