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3.png" ContentType="image/png"/>
  <Override PartName="/ppt/media/image8.wmf" ContentType="image/x-wmf"/>
  <Override PartName="/ppt/media/image11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28520" y="114480"/>
            <a:ext cx="8915400" cy="66294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43000" y="95400"/>
            <a:ext cx="8686800" cy="1066680"/>
            <a:chOff x="243000" y="95400"/>
            <a:chExt cx="8686800" cy="1066680"/>
          </a:xfrm>
        </p:grpSpPr>
        <p:grpSp>
          <p:nvGrpSpPr>
            <p:cNvPr id="2" name=""/>
            <p:cNvGrpSpPr/>
            <p:nvPr/>
          </p:nvGrpSpPr>
          <p:grpSpPr>
            <a:xfrm>
              <a:off x="243000" y="162000"/>
              <a:ext cx="8686800" cy="930960"/>
              <a:chOff x="243000" y="162000"/>
              <a:chExt cx="8686800" cy="930960"/>
            </a:xfrm>
          </p:grpSpPr>
          <p:sp>
            <p:nvSpPr>
              <p:cNvPr id="3" name=""/>
              <p:cNvSpPr/>
              <p:nvPr/>
            </p:nvSpPr>
            <p:spPr>
              <a:xfrm>
                <a:off x="243000" y="209160"/>
                <a:ext cx="8686800" cy="8380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8b8b8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" name=""/>
              <p:cNvGrpSpPr/>
              <p:nvPr/>
            </p:nvGrpSpPr>
            <p:grpSpPr>
              <a:xfrm>
                <a:off x="319320" y="162000"/>
                <a:ext cx="2228760" cy="930960"/>
                <a:chOff x="319320" y="162000"/>
                <a:chExt cx="2228760" cy="930960"/>
              </a:xfrm>
            </p:grpSpPr>
            <p:pic>
              <p:nvPicPr>
                <p:cNvPr id="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9320" y="301320"/>
                  <a:ext cx="838080" cy="65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" name=""/>
                <p:cNvSpPr/>
                <p:nvPr/>
              </p:nvSpPr>
              <p:spPr>
                <a:xfrm>
                  <a:off x="1176480" y="162000"/>
                  <a:ext cx="1371600" cy="9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100" spc="-1" strike="noStrike">
                      <a:solidFill>
                        <a:srgbClr val="000000"/>
                      </a:solidFill>
                      <a:latin typeface="Arial"/>
                    </a:rPr>
                    <a:t>Conferencia NAM/CAR/SA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1100" spc="-1" strike="noStrike">
                      <a:solidFill>
                        <a:srgbClr val="000000"/>
                      </a:solidFill>
                      <a:latin typeface="Arial"/>
                    </a:rPr>
                    <a:t>Seguridad e Incursiones en Pista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6720120" y="266400"/>
                <a:ext cx="2101680" cy="723240"/>
                <a:chOff x="6720120" y="266400"/>
                <a:chExt cx="2101680" cy="72324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6720120" y="578880"/>
                  <a:ext cx="2101680" cy="410760"/>
                  <a:chOff x="6720120" y="578880"/>
                  <a:chExt cx="2101680" cy="410760"/>
                </a:xfrm>
              </p:grpSpPr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20120" y="578880"/>
                    <a:ext cx="488880" cy="41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26440" y="684720"/>
                    <a:ext cx="75708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514000" y="603720"/>
                    <a:ext cx="3078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391520" y="266400"/>
                  <a:ext cx="75888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3" name=""/>
            <p:cNvGrpSpPr/>
            <p:nvPr/>
          </p:nvGrpSpPr>
          <p:grpSpPr>
            <a:xfrm>
              <a:off x="4129200" y="95400"/>
              <a:ext cx="914400" cy="1066680"/>
              <a:chOff x="4129200" y="95400"/>
              <a:chExt cx="914400" cy="1066680"/>
            </a:xfrm>
          </p:grpSpPr>
          <p:sp>
            <p:nvSpPr>
              <p:cNvPr id="14" name=""/>
              <p:cNvSpPr/>
              <p:nvPr/>
            </p:nvSpPr>
            <p:spPr>
              <a:xfrm flipH="1">
                <a:off x="4129200" y="95400"/>
                <a:ext cx="914400" cy="1066680"/>
              </a:xfrm>
              <a:prstGeom prst="flowChartAlternateProcess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129200" y="247680"/>
                <a:ext cx="9144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800" spc="-1" strike="noStrike">
                    <a:solidFill>
                      <a:srgbClr val="ffffff"/>
                    </a:solidFill>
                    <a:latin typeface="Verdana"/>
                  </a:rPr>
                  <a:t>Seguridad e Incursión de la Fauna en Pista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129200" y="876240"/>
                <a:ext cx="91440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400" spc="-1" strike="noStrike">
                    <a:solidFill>
                      <a:srgbClr val="ffffff"/>
                    </a:solidFill>
                    <a:latin typeface="Verdana"/>
                  </a:rPr>
                  <a:t>22 – 25 octubre 2002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400" spc="-1" strike="noStrike">
                    <a:solidFill>
                      <a:srgbClr val="ffffff"/>
                    </a:solidFill>
                    <a:latin typeface="Verdana"/>
                  </a:rPr>
                  <a:t>Cd. De México</a:t>
                </a: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" name=""/>
          <p:cNvSpPr/>
          <p:nvPr/>
        </p:nvSpPr>
        <p:spPr>
          <a:xfrm>
            <a:off x="216000" y="1168560"/>
            <a:ext cx="8739000" cy="5486400"/>
          </a:xfrm>
          <a:prstGeom prst="rect">
            <a:avLst/>
          </a:prstGeom>
          <a:solidFill>
            <a:srgbClr val="00008a"/>
          </a:solidFill>
          <a:ln w="0">
            <a:noFill/>
          </a:ln>
          <a:effectLst>
            <a:outerShdw dist="17819" dir="2700000" blurRad="0" rotWithShape="0">
              <a:srgbClr val="00005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8520" y="114480"/>
            <a:ext cx="8915400" cy="66294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4114800" cy="6248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2400480"/>
            <a:ext cx="8077320" cy="20574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51912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5556240"/>
            <a:ext cx="1143000" cy="961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476360" y="5805360"/>
            <a:ext cx="17733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546360" y="5613480"/>
            <a:ext cx="720720" cy="84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46160" y="2470320"/>
            <a:ext cx="26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ferencia NAM/CAR/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guridad e Incursiones en P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1474920" y="4800600"/>
            <a:ext cx="1773000" cy="803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H="1">
            <a:off x="5028480" y="1447920"/>
            <a:ext cx="3505320" cy="396216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2803680"/>
            <a:ext cx="20574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Verdana"/>
              </a:rPr>
              <a:t>Peligros de la Fauna en Aeropuerto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29480" y="4876920"/>
            <a:ext cx="190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22 – 25 octubre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d. De Mé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1200" y="1523880"/>
            <a:ext cx="8686800" cy="5105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4920" y="12952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 1990 -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883944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13716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62940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65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28600" y="1219320"/>
            <a:ext cx="86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por tipo de operador de aeron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4320" y="2909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39120" cy="5319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04920" y="121932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por 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5105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495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920" y="129528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por etapas del d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24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143000"/>
            <a:ext cx="85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por fases de v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1535040"/>
            <a:ext cx="8665920" cy="5159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495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70000" y="39160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</a:rPr>
              <a:t>Aeron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8920" y="1168560"/>
            <a:ext cx="89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por altura respecto al nivel 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162576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78440" y="3468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14280"/>
            <a:ext cx="8534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Componentes dañados de la aeron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800600" y="1803240"/>
            <a:ext cx="4114800" cy="4749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9240" y="1935000"/>
            <a:ext cx="4746600" cy="4608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362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míf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228600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A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360" y="1647720"/>
            <a:ext cx="8747280" cy="5011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1246320"/>
            <a:ext cx="85341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Reporte de impactos con fau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Grupos de Mamíferos y Rept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266320" y="6477120"/>
            <a:ext cx="68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Gráfico 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31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1990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20120" y="32004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Verdana"/>
              </a:rPr>
              <a:t>Aeron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Verdana"/>
              </a:rPr>
              <a:t>dañad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1674720"/>
            <a:ext cx="8077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Dependencias y Organizaciones que Intervienen en la Administración del Riesgo de Impactos con Fauna en Aeropuer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Autoridad Aeronáu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Agricultura, Ganadería y Pes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rotección al 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Dependencias Estat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Aeropuer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1338120"/>
            <a:ext cx="800100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INCURSION EN PI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alabras clave en la defini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Aeronaves, vehículos, personas u obje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En Tier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eligro de colisión/pérdida de sepa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Aeronave despegando o intenta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Aeronave aterrizando o intenta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373560" y="2473200"/>
            <a:ext cx="4170240" cy="2502720"/>
          </a:xfrm>
          <a:prstGeom prst="octagon">
            <a:avLst>
              <a:gd name="adj" fmla="val 29287"/>
            </a:avLst>
          </a:prstGeom>
          <a:solidFill>
            <a:srgbClr val="003bb0"/>
          </a:solidFill>
          <a:ln w="0">
            <a:noFill/>
          </a:ln>
          <a:effectLst>
            <a:outerShdw dist="17819" dir="2700000" blurRad="0" rotWithShape="0">
              <a:srgbClr val="0023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LAN DEL MANEJO DE FAUNA SILVESTRE QUE REPRESENTA UN RIESGO PARA LA AVI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3124080"/>
            <a:ext cx="3048120" cy="4284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bb0"/>
          </a:solidFill>
          <a:ln w="0">
            <a:noFill/>
          </a:ln>
          <a:effectLst>
            <a:outerShdw dist="17819" dir="2700000" blurRad="0" rotWithShape="0">
              <a:srgbClr val="0023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Le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3535200"/>
            <a:ext cx="3048120" cy="4284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bb0"/>
          </a:solidFill>
          <a:ln w="0">
            <a:noFill/>
          </a:ln>
          <a:effectLst>
            <a:outerShdw dist="17819" dir="2700000" blurRad="0" rotWithShape="0">
              <a:srgbClr val="0023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Regla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3916440"/>
            <a:ext cx="3048120" cy="4284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bb0"/>
          </a:solidFill>
          <a:ln w="0">
            <a:noFill/>
          </a:ln>
          <a:effectLst>
            <a:outerShdw dist="17819" dir="2700000" blurRad="0" rotWithShape="0">
              <a:srgbClr val="0023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4297320"/>
            <a:ext cx="3048120" cy="42840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3bb0"/>
          </a:solidFill>
          <a:ln w="0">
            <a:noFill/>
          </a:ln>
          <a:effectLst>
            <a:outerShdw dist="17819" dir="2700000" blurRad="0" rotWithShape="0">
              <a:srgbClr val="0023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rocedimi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1523880"/>
            <a:ext cx="807696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Evaluación de fauna silvestre en los aeropuer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lan de manejo de fauna silvestre en aeropuer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Capacitación y entrenamiento en el manejo de fauna silvestre para el personal de los aeropuer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Evaluación de programas de manejo de fauna silvestre en los aeropuer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90920" y="1219320"/>
            <a:ext cx="3962160" cy="5333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8520" y="114480"/>
            <a:ext cx="8915400" cy="66294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04920"/>
            <a:ext cx="4114800" cy="6248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400480"/>
            <a:ext cx="8077320" cy="20574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95280" y="51912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5556240"/>
            <a:ext cx="1143000" cy="961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1476360" y="5805360"/>
            <a:ext cx="17733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3546360" y="5613480"/>
            <a:ext cx="720720" cy="847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46160" y="2470320"/>
            <a:ext cx="26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ferencia NAM/CAR/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guridad e Incursiones en P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1474920" y="4800600"/>
            <a:ext cx="1773000" cy="80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 flipH="1">
            <a:off x="5028480" y="1447920"/>
            <a:ext cx="3505320" cy="3962160"/>
          </a:xfrm>
          <a:prstGeom prst="flowChartAlternateProcess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486400" y="2666880"/>
            <a:ext cx="2819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uch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Graci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8520" y="114480"/>
            <a:ext cx="8915400" cy="662940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7819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304920"/>
            <a:ext cx="4114800" cy="62481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b8b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400480"/>
            <a:ext cx="8077320" cy="2057400"/>
          </a:xfrm>
          <a:prstGeom prst="rect">
            <a:avLst/>
          </a:prstGeom>
          <a:gradFill rotWithShape="0">
            <a:gsLst>
              <a:gs pos="0">
                <a:srgbClr val="00008a"/>
              </a:gs>
              <a:gs pos="100000">
                <a:srgbClr val="eaeae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5280" y="519120"/>
            <a:ext cx="2133720" cy="1665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28600" y="5556240"/>
            <a:ext cx="1143000" cy="961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476360" y="5805360"/>
            <a:ext cx="1773360" cy="465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546360" y="5613480"/>
            <a:ext cx="720720" cy="847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46160" y="2470320"/>
            <a:ext cx="263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ferencia NAM/CAR/S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eguridad e Incursiones en P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474920" y="4800600"/>
            <a:ext cx="1773000" cy="803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5028480" y="1447920"/>
            <a:ext cx="3505320" cy="3962160"/>
          </a:xfrm>
          <a:prstGeom prst="flowChartAlternateProcess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867280" y="2803680"/>
            <a:ext cx="20574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ffffff"/>
                </a:solidFill>
                <a:latin typeface="Verdana"/>
              </a:rPr>
              <a:t>Seguridad e Incursión de la Fauna en Pista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829480" y="4876920"/>
            <a:ext cx="1904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22 – 25 octubre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d. De Méx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1704960"/>
            <a:ext cx="792468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La definición de Incursión en Pista no incluy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eligro de la fau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Este problema es considerado co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Impactos con la fauna silvest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1827360"/>
            <a:ext cx="807732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Cada Estado debe establecer 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LAN DE MANEJO DE LA FAUNA SILVESTRE QUE REPRESENTA UN RIESGO A LA AVI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600200"/>
            <a:ext cx="8077320" cy="40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La OACI cuenta con dos documentos relacionados con el tem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2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Manual de planificación de aeropuertos (Doc.9184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arte 2.- Utilización del terreno y control del medio ambi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216000">
              <a:lnSpc>
                <a:spcPct val="12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Manual de servicios de aeropuertos (Doc.913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arte 3.- Reducción del peligro que representan las a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874880"/>
            <a:ext cx="822960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CUANDO LAS AERONAVES CHOCAN CON AVES U OTRA FAUNA SILVESTRE, PUEDEN DARSE PROBLEMAS ESTRUCTURALES O FALLA DE MOTO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EL DAÑO MULTIPLE AL MOTOR POR LA INGESTION DE PARVADA ES PREOCUPANTE POR EL INCREMENTO DE AERONAVES DE PASAJEROS DE DOS MOTORE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2209680"/>
            <a:ext cx="640080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Aeronaves con tres o cuatro mot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969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7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998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3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2008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0% Estim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884240"/>
            <a:ext cx="7925040" cy="42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Los problemas de impactos con fauna silvestre en los aeropuertos dependen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ipo y volumen de tráfico aér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oblaciones de fauna local y migrato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Condiciones de hábitat en el áre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spcBef>
                <a:spcPts val="1375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Otr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2165400"/>
            <a:ext cx="784872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Para entender la complejidad de la problemática de los impactos de aeronaves con fauna silvestr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ES NECESARIO RECABAR Y ANALIZAR LA INFORMACIÓN EN TORNO A LAS CAUSAS REALES DE LOS SUCES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6:21:20Z</dcterms:created>
  <dc:creator>Ing. Gabriel Jiménez</dc:creator>
  <dc:description/>
  <dc:language>en-US</dc:language>
  <cp:lastModifiedBy>Claudia Lopez</cp:lastModifiedBy>
  <dcterms:modified xsi:type="dcterms:W3CDTF">2002-10-17T16:55:13Z</dcterms:modified>
  <cp:revision>129</cp:revision>
  <dc:subject>Conferencia</dc:subject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7200.00000000</vt:lpwstr>
  </property>
  <property fmtid="{D5CDD505-2E9C-101B-9397-08002B2CF9AE}" pid="5" name="Year">
    <vt:lpwstr>2002</vt:lpwstr>
  </property>
</Properties>
</file>