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ffff"/>
                </a:solidFill>
                <a:latin typeface="Verdana"/>
              </a:rPr>
              <a:t>Click to move the slide</a:t>
            </a:r>
            <a:endParaRPr b="1" lang="en-US" sz="4100" spc="-1" strike="noStrike">
              <a:solidFill>
                <a:srgbClr val="ccffff"/>
              </a:solidFill>
              <a:latin typeface="Verdana"/>
            </a:endParaRPr>
          </a:p>
        </p:txBody>
      </p:sp>
      <p:sp>
        <p:nvSpPr>
          <p:cNvPr id="8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6AD6-57ED-47AF-9313-9C20DA2B3817}"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43000" y="685800"/>
            <a:ext cx="4572000" cy="3429000"/>
          </a:xfrm>
          <a:prstGeom prst="rect">
            <a:avLst/>
          </a:prstGeom>
          <a:ln w="0">
            <a:noFill/>
          </a:ln>
        </p:spPr>
      </p:sp>
      <p:sp>
        <p:nvSpPr>
          <p:cNvPr id="9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IDE 28</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is airport serving a tourist destination, commercial passenger aircraft are allowed to park alongside the runway which is used by aircraft up to 50-passenger turboprop in siz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nother example of failing to attend to obstacles, and allowing a hazard to flight operations to exi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IDE 23</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next 15 slides illustrate some runway excursion haz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first slide shows a typical regional airport in Asi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this airport, the runway was extended for 737 and A300 jets, but none of the other safety features were provided as the runway moved from one ICAO Runway Code up into the next catego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s may be seen, there is no graded area at all to support an aircraft running off the runway, and no proper safety strip eith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no fencing to prevent unauthorised access by people, or animals, and it is clear that an aircraft leaving the runway would suffer damage by travelling down the side slope into the padi fiel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are clearly airport-related hazards at this airport, and they are also in contravention of the airport safety standards.</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IDE 2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trusion on active runways is not by aircraft alo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some countries, it is quite common for people, vehicles and animals to be found on the run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is is a considerable hazard, over which the airport does have full control, but often fails to enforce the sanctity of the runway.</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LIDE 37</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t another international airport, another feature is evid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runway slopes down from either end and could result in an aircraft being high on approach, landing long, and therefore possibly overrunning the end of the runw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lopes on runways can mislead pilots, when transitioning to a visual approach, and can result in a pilot approaching a down-sloping runway at a high altitude, and an up-sloping runway at a lower altitude that is norm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n this case, the runway slopes down and as seen in the photo, aircraft are high on the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ut this airport has no runway end safety protection, and at both ends there are steep slopes, down into residential areas beyond.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407" name="PlaceHolder 2"/>
          <p:cNvSpPr>
            <a:spLocks noGrp="1"/>
          </p:cNvSpPr>
          <p:nvPr>
            <p:ph/>
          </p:nvPr>
        </p:nvSpPr>
        <p:spPr>
          <a:xfrm>
            <a:off x="380880" y="1904760"/>
            <a:ext cx="86868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08" name="PlaceHolder 3"/>
          <p:cNvSpPr>
            <a:spLocks noGrp="1"/>
          </p:cNvSpPr>
          <p:nvPr>
            <p:ph/>
          </p:nvPr>
        </p:nvSpPr>
        <p:spPr>
          <a:xfrm>
            <a:off x="380880" y="4372560"/>
            <a:ext cx="86868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410" name="PlaceHolder 2"/>
          <p:cNvSpPr>
            <a:spLocks noGrp="1"/>
          </p:cNvSpPr>
          <p:nvPr>
            <p:ph/>
          </p:nvPr>
        </p:nvSpPr>
        <p:spPr>
          <a:xfrm>
            <a:off x="3808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1" name="PlaceHolder 3"/>
          <p:cNvSpPr>
            <a:spLocks noGrp="1"/>
          </p:cNvSpPr>
          <p:nvPr>
            <p:ph/>
          </p:nvPr>
        </p:nvSpPr>
        <p:spPr>
          <a:xfrm>
            <a:off x="48322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2" name="PlaceHolder 4"/>
          <p:cNvSpPr>
            <a:spLocks noGrp="1"/>
          </p:cNvSpPr>
          <p:nvPr>
            <p:ph/>
          </p:nvPr>
        </p:nvSpPr>
        <p:spPr>
          <a:xfrm>
            <a:off x="3808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3" name="PlaceHolder 5"/>
          <p:cNvSpPr>
            <a:spLocks noGrp="1"/>
          </p:cNvSpPr>
          <p:nvPr>
            <p:ph/>
          </p:nvPr>
        </p:nvSpPr>
        <p:spPr>
          <a:xfrm>
            <a:off x="48322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415" name="PlaceHolder 2"/>
          <p:cNvSpPr>
            <a:spLocks noGrp="1"/>
          </p:cNvSpPr>
          <p:nvPr>
            <p:ph/>
          </p:nvPr>
        </p:nvSpPr>
        <p:spPr>
          <a:xfrm>
            <a:off x="380880" y="19047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6" name="PlaceHolder 3"/>
          <p:cNvSpPr>
            <a:spLocks noGrp="1"/>
          </p:cNvSpPr>
          <p:nvPr>
            <p:ph/>
          </p:nvPr>
        </p:nvSpPr>
        <p:spPr>
          <a:xfrm>
            <a:off x="3318120" y="19047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7" name="PlaceHolder 4"/>
          <p:cNvSpPr>
            <a:spLocks noGrp="1"/>
          </p:cNvSpPr>
          <p:nvPr>
            <p:ph/>
          </p:nvPr>
        </p:nvSpPr>
        <p:spPr>
          <a:xfrm>
            <a:off x="6255000" y="19047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8" name="PlaceHolder 5"/>
          <p:cNvSpPr>
            <a:spLocks noGrp="1"/>
          </p:cNvSpPr>
          <p:nvPr>
            <p:ph/>
          </p:nvPr>
        </p:nvSpPr>
        <p:spPr>
          <a:xfrm>
            <a:off x="380880" y="43725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19" name="PlaceHolder 6"/>
          <p:cNvSpPr>
            <a:spLocks noGrp="1"/>
          </p:cNvSpPr>
          <p:nvPr>
            <p:ph/>
          </p:nvPr>
        </p:nvSpPr>
        <p:spPr>
          <a:xfrm>
            <a:off x="3318120" y="43725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20" name="PlaceHolder 7"/>
          <p:cNvSpPr>
            <a:spLocks noGrp="1"/>
          </p:cNvSpPr>
          <p:nvPr>
            <p:ph/>
          </p:nvPr>
        </p:nvSpPr>
        <p:spPr>
          <a:xfrm>
            <a:off x="6255000" y="43725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1B78E-5239-4847-9399-306CA15A1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10" name="PlaceHolder 2"/>
          <p:cNvSpPr>
            <a:spLocks noGrp="1"/>
          </p:cNvSpPr>
          <p:nvPr>
            <p:ph type="subTitle"/>
          </p:nvPr>
        </p:nvSpPr>
        <p:spPr>
          <a:xfrm>
            <a:off x="380880" y="1904760"/>
            <a:ext cx="86868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E8E52-F5AB-4F1A-ACC6-AAD9E8BC1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12"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3B4F2-062D-4257-87B8-B0C21AF67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14" name="PlaceHolder 2"/>
          <p:cNvSpPr>
            <a:spLocks noGrp="1"/>
          </p:cNvSpPr>
          <p:nvPr>
            <p:ph/>
          </p:nvPr>
        </p:nvSpPr>
        <p:spPr>
          <a:xfrm>
            <a:off x="3808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15" name="PlaceHolder 3"/>
          <p:cNvSpPr>
            <a:spLocks noGrp="1"/>
          </p:cNvSpPr>
          <p:nvPr>
            <p:ph/>
          </p:nvPr>
        </p:nvSpPr>
        <p:spPr>
          <a:xfrm>
            <a:off x="48322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40B25-87C2-4A5B-9F24-A3CEFED33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3B2E0-94AB-4565-87F7-3FFC19289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380520" y="304560"/>
            <a:ext cx="769644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4D6F8-35FD-4188-B34E-477372F0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19" name="PlaceHolder 2"/>
          <p:cNvSpPr>
            <a:spLocks noGrp="1"/>
          </p:cNvSpPr>
          <p:nvPr>
            <p:ph/>
          </p:nvPr>
        </p:nvSpPr>
        <p:spPr>
          <a:xfrm>
            <a:off x="3808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20" name="PlaceHolder 3"/>
          <p:cNvSpPr>
            <a:spLocks noGrp="1"/>
          </p:cNvSpPr>
          <p:nvPr>
            <p:ph/>
          </p:nvPr>
        </p:nvSpPr>
        <p:spPr>
          <a:xfrm>
            <a:off x="48322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21" name="PlaceHolder 4"/>
          <p:cNvSpPr>
            <a:spLocks noGrp="1"/>
          </p:cNvSpPr>
          <p:nvPr>
            <p:ph/>
          </p:nvPr>
        </p:nvSpPr>
        <p:spPr>
          <a:xfrm>
            <a:off x="3808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0A95-7C66-4FD6-B956-9B3A67700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386" name="PlaceHolder 2"/>
          <p:cNvSpPr>
            <a:spLocks noGrp="1"/>
          </p:cNvSpPr>
          <p:nvPr>
            <p:ph type="subTitle"/>
          </p:nvPr>
        </p:nvSpPr>
        <p:spPr>
          <a:xfrm>
            <a:off x="380880" y="1904760"/>
            <a:ext cx="86868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cc"/>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23" name="PlaceHolder 2"/>
          <p:cNvSpPr>
            <a:spLocks noGrp="1"/>
          </p:cNvSpPr>
          <p:nvPr>
            <p:ph/>
          </p:nvPr>
        </p:nvSpPr>
        <p:spPr>
          <a:xfrm>
            <a:off x="3808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24" name="PlaceHolder 3"/>
          <p:cNvSpPr>
            <a:spLocks noGrp="1"/>
          </p:cNvSpPr>
          <p:nvPr>
            <p:ph/>
          </p:nvPr>
        </p:nvSpPr>
        <p:spPr>
          <a:xfrm>
            <a:off x="48322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25" name="PlaceHolder 4"/>
          <p:cNvSpPr>
            <a:spLocks noGrp="1"/>
          </p:cNvSpPr>
          <p:nvPr>
            <p:ph/>
          </p:nvPr>
        </p:nvSpPr>
        <p:spPr>
          <a:xfrm>
            <a:off x="48322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FCF4-AD5B-4ABB-A6D0-329B1B613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27" name="PlaceHolder 2"/>
          <p:cNvSpPr>
            <a:spLocks noGrp="1"/>
          </p:cNvSpPr>
          <p:nvPr>
            <p:ph/>
          </p:nvPr>
        </p:nvSpPr>
        <p:spPr>
          <a:xfrm>
            <a:off x="3808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28" name="PlaceHolder 3"/>
          <p:cNvSpPr>
            <a:spLocks noGrp="1"/>
          </p:cNvSpPr>
          <p:nvPr>
            <p:ph/>
          </p:nvPr>
        </p:nvSpPr>
        <p:spPr>
          <a:xfrm>
            <a:off x="48322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29" name="PlaceHolder 4"/>
          <p:cNvSpPr>
            <a:spLocks noGrp="1"/>
          </p:cNvSpPr>
          <p:nvPr>
            <p:ph/>
          </p:nvPr>
        </p:nvSpPr>
        <p:spPr>
          <a:xfrm>
            <a:off x="380880" y="4372560"/>
            <a:ext cx="86868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6B71-FCAD-4D5C-9879-A8435E4D7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31" name="PlaceHolder 2"/>
          <p:cNvSpPr>
            <a:spLocks noGrp="1"/>
          </p:cNvSpPr>
          <p:nvPr>
            <p:ph/>
          </p:nvPr>
        </p:nvSpPr>
        <p:spPr>
          <a:xfrm>
            <a:off x="380880" y="1904760"/>
            <a:ext cx="86868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32" name="PlaceHolder 3"/>
          <p:cNvSpPr>
            <a:spLocks noGrp="1"/>
          </p:cNvSpPr>
          <p:nvPr>
            <p:ph/>
          </p:nvPr>
        </p:nvSpPr>
        <p:spPr>
          <a:xfrm>
            <a:off x="380880" y="4372560"/>
            <a:ext cx="86868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D90D-111F-4FE1-88DC-00C9B4A4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34" name="PlaceHolder 2"/>
          <p:cNvSpPr>
            <a:spLocks noGrp="1"/>
          </p:cNvSpPr>
          <p:nvPr>
            <p:ph/>
          </p:nvPr>
        </p:nvSpPr>
        <p:spPr>
          <a:xfrm>
            <a:off x="3808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35" name="PlaceHolder 3"/>
          <p:cNvSpPr>
            <a:spLocks noGrp="1"/>
          </p:cNvSpPr>
          <p:nvPr>
            <p:ph/>
          </p:nvPr>
        </p:nvSpPr>
        <p:spPr>
          <a:xfrm>
            <a:off x="48322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36" name="PlaceHolder 4"/>
          <p:cNvSpPr>
            <a:spLocks noGrp="1"/>
          </p:cNvSpPr>
          <p:nvPr>
            <p:ph/>
          </p:nvPr>
        </p:nvSpPr>
        <p:spPr>
          <a:xfrm>
            <a:off x="3808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37" name="PlaceHolder 5"/>
          <p:cNvSpPr>
            <a:spLocks noGrp="1"/>
          </p:cNvSpPr>
          <p:nvPr>
            <p:ph/>
          </p:nvPr>
        </p:nvSpPr>
        <p:spPr>
          <a:xfrm>
            <a:off x="48322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A26DB-C46D-4331-A995-AA77683D8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839" name="PlaceHolder 2"/>
          <p:cNvSpPr>
            <a:spLocks noGrp="1"/>
          </p:cNvSpPr>
          <p:nvPr>
            <p:ph/>
          </p:nvPr>
        </p:nvSpPr>
        <p:spPr>
          <a:xfrm>
            <a:off x="380880" y="19047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40" name="PlaceHolder 3"/>
          <p:cNvSpPr>
            <a:spLocks noGrp="1"/>
          </p:cNvSpPr>
          <p:nvPr>
            <p:ph/>
          </p:nvPr>
        </p:nvSpPr>
        <p:spPr>
          <a:xfrm>
            <a:off x="3318120" y="19047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41" name="PlaceHolder 4"/>
          <p:cNvSpPr>
            <a:spLocks noGrp="1"/>
          </p:cNvSpPr>
          <p:nvPr>
            <p:ph/>
          </p:nvPr>
        </p:nvSpPr>
        <p:spPr>
          <a:xfrm>
            <a:off x="6255000" y="19047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42" name="PlaceHolder 5"/>
          <p:cNvSpPr>
            <a:spLocks noGrp="1"/>
          </p:cNvSpPr>
          <p:nvPr>
            <p:ph/>
          </p:nvPr>
        </p:nvSpPr>
        <p:spPr>
          <a:xfrm>
            <a:off x="380880" y="43725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43" name="PlaceHolder 6"/>
          <p:cNvSpPr>
            <a:spLocks noGrp="1"/>
          </p:cNvSpPr>
          <p:nvPr>
            <p:ph/>
          </p:nvPr>
        </p:nvSpPr>
        <p:spPr>
          <a:xfrm>
            <a:off x="3318120" y="43725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844" name="PlaceHolder 7"/>
          <p:cNvSpPr>
            <a:spLocks noGrp="1"/>
          </p:cNvSpPr>
          <p:nvPr>
            <p:ph/>
          </p:nvPr>
        </p:nvSpPr>
        <p:spPr>
          <a:xfrm>
            <a:off x="6255000" y="4372560"/>
            <a:ext cx="279684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3AB1BC-413E-4026-A02F-90FE25A376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388"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390" name="PlaceHolder 2"/>
          <p:cNvSpPr>
            <a:spLocks noGrp="1"/>
          </p:cNvSpPr>
          <p:nvPr>
            <p:ph/>
          </p:nvPr>
        </p:nvSpPr>
        <p:spPr>
          <a:xfrm>
            <a:off x="3808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391" name="PlaceHolder 3"/>
          <p:cNvSpPr>
            <a:spLocks noGrp="1"/>
          </p:cNvSpPr>
          <p:nvPr>
            <p:ph/>
          </p:nvPr>
        </p:nvSpPr>
        <p:spPr>
          <a:xfrm>
            <a:off x="48322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380520" y="304560"/>
            <a:ext cx="769644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cc"/>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395" name="PlaceHolder 2"/>
          <p:cNvSpPr>
            <a:spLocks noGrp="1"/>
          </p:cNvSpPr>
          <p:nvPr>
            <p:ph/>
          </p:nvPr>
        </p:nvSpPr>
        <p:spPr>
          <a:xfrm>
            <a:off x="3808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396" name="PlaceHolder 3"/>
          <p:cNvSpPr>
            <a:spLocks noGrp="1"/>
          </p:cNvSpPr>
          <p:nvPr>
            <p:ph/>
          </p:nvPr>
        </p:nvSpPr>
        <p:spPr>
          <a:xfrm>
            <a:off x="48322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397" name="PlaceHolder 4"/>
          <p:cNvSpPr>
            <a:spLocks noGrp="1"/>
          </p:cNvSpPr>
          <p:nvPr>
            <p:ph/>
          </p:nvPr>
        </p:nvSpPr>
        <p:spPr>
          <a:xfrm>
            <a:off x="3808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399" name="PlaceHolder 2"/>
          <p:cNvSpPr>
            <a:spLocks noGrp="1"/>
          </p:cNvSpPr>
          <p:nvPr>
            <p:ph/>
          </p:nvPr>
        </p:nvSpPr>
        <p:spPr>
          <a:xfrm>
            <a:off x="380880" y="1904760"/>
            <a:ext cx="4239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00" name="PlaceHolder 3"/>
          <p:cNvSpPr>
            <a:spLocks noGrp="1"/>
          </p:cNvSpPr>
          <p:nvPr>
            <p:ph/>
          </p:nvPr>
        </p:nvSpPr>
        <p:spPr>
          <a:xfrm>
            <a:off x="48322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01" name="PlaceHolder 4"/>
          <p:cNvSpPr>
            <a:spLocks noGrp="1"/>
          </p:cNvSpPr>
          <p:nvPr>
            <p:ph/>
          </p:nvPr>
        </p:nvSpPr>
        <p:spPr>
          <a:xfrm>
            <a:off x="4832280" y="43725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300" spc="-1" strike="noStrike">
              <a:solidFill>
                <a:srgbClr val="ccffff"/>
              </a:solidFill>
              <a:latin typeface="Verdana"/>
            </a:endParaRPr>
          </a:p>
        </p:txBody>
      </p:sp>
      <p:sp>
        <p:nvSpPr>
          <p:cNvPr id="403" name="PlaceHolder 2"/>
          <p:cNvSpPr>
            <a:spLocks noGrp="1"/>
          </p:cNvSpPr>
          <p:nvPr>
            <p:ph/>
          </p:nvPr>
        </p:nvSpPr>
        <p:spPr>
          <a:xfrm>
            <a:off x="3808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04" name="PlaceHolder 3"/>
          <p:cNvSpPr>
            <a:spLocks noGrp="1"/>
          </p:cNvSpPr>
          <p:nvPr>
            <p:ph/>
          </p:nvPr>
        </p:nvSpPr>
        <p:spPr>
          <a:xfrm>
            <a:off x="4832280" y="1904760"/>
            <a:ext cx="4239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
        <p:nvSpPr>
          <p:cNvPr id="405" name="PlaceHolder 4"/>
          <p:cNvSpPr>
            <a:spLocks noGrp="1"/>
          </p:cNvSpPr>
          <p:nvPr>
            <p:ph/>
          </p:nvPr>
        </p:nvSpPr>
        <p:spPr>
          <a:xfrm>
            <a:off x="380880" y="4372560"/>
            <a:ext cx="86868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grpSp>
        <p:nvGrpSpPr>
          <p:cNvPr id="0" name=""/>
          <p:cNvGrpSpPr/>
          <p:nvPr/>
        </p:nvGrpSpPr>
        <p:grpSpPr>
          <a:xfrm>
            <a:off x="0" y="747720"/>
            <a:ext cx="9144000" cy="6110280"/>
            <a:chOff x="0" y="747720"/>
            <a:chExt cx="9144000" cy="6110280"/>
          </a:xfrm>
        </p:grpSpPr>
        <p:grpSp>
          <p:nvGrpSpPr>
            <p:cNvPr id="1" name=""/>
            <p:cNvGrpSpPr/>
            <p:nvPr/>
          </p:nvGrpSpPr>
          <p:grpSpPr>
            <a:xfrm>
              <a:off x="0" y="747720"/>
              <a:ext cx="9144000" cy="6110280"/>
              <a:chOff x="0" y="747720"/>
              <a:chExt cx="9144000" cy="6110280"/>
            </a:xfrm>
          </p:grpSpPr>
          <p:grpSp>
            <p:nvGrpSpPr>
              <p:cNvPr id="2" name=""/>
              <p:cNvGrpSpPr/>
              <p:nvPr/>
            </p:nvGrpSpPr>
            <p:grpSpPr>
              <a:xfrm>
                <a:off x="325440" y="747720"/>
                <a:ext cx="1492200" cy="1677960"/>
                <a:chOff x="325440" y="747720"/>
                <a:chExt cx="1492200" cy="1677960"/>
              </a:xfrm>
            </p:grpSpPr>
            <p:sp>
              <p:nvSpPr>
                <p:cNvPr id="3" name=""/>
                <p:cNvSpPr/>
                <p:nvPr/>
              </p:nvSpPr>
              <p:spPr>
                <a:xfrm>
                  <a:off x="476280" y="2185920"/>
                  <a:ext cx="392040" cy="219240"/>
                </a:xfrm>
                <a:custGeom>
                  <a:avLst/>
                  <a:gdLst/>
                  <a:ahLst/>
                  <a:rect l="l" t="t" r="r" b="b"/>
                  <a:pathLst>
                    <a:path w="494" h="274">
                      <a:moveTo>
                        <a:pt x="3" y="157"/>
                      </a:moveTo>
                      <a:lnTo>
                        <a:pt x="0" y="188"/>
                      </a:lnTo>
                      <a:lnTo>
                        <a:pt x="79" y="216"/>
                      </a:lnTo>
                      <a:lnTo>
                        <a:pt x="111" y="242"/>
                      </a:lnTo>
                      <a:lnTo>
                        <a:pt x="159" y="251"/>
                      </a:lnTo>
                      <a:lnTo>
                        <a:pt x="189" y="245"/>
                      </a:lnTo>
                      <a:lnTo>
                        <a:pt x="211" y="268"/>
                      </a:lnTo>
                      <a:lnTo>
                        <a:pt x="258" y="274"/>
                      </a:lnTo>
                      <a:lnTo>
                        <a:pt x="314" y="273"/>
                      </a:lnTo>
                      <a:lnTo>
                        <a:pt x="383" y="230"/>
                      </a:lnTo>
                      <a:lnTo>
                        <a:pt x="434" y="234"/>
                      </a:lnTo>
                      <a:lnTo>
                        <a:pt x="494" y="44"/>
                      </a:lnTo>
                      <a:lnTo>
                        <a:pt x="371" y="27"/>
                      </a:lnTo>
                      <a:lnTo>
                        <a:pt x="280" y="0"/>
                      </a:lnTo>
                      <a:lnTo>
                        <a:pt x="231" y="4"/>
                      </a:lnTo>
                      <a:lnTo>
                        <a:pt x="3" y="15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1063800" y="1630440"/>
                  <a:ext cx="514080" cy="349200"/>
                </a:xfrm>
                <a:custGeom>
                  <a:avLst/>
                  <a:gdLst/>
                  <a:ahLst/>
                  <a:rect l="l" t="t" r="r" b="b"/>
                  <a:pathLst>
                    <a:path w="648" h="442">
                      <a:moveTo>
                        <a:pt x="129" y="0"/>
                      </a:moveTo>
                      <a:lnTo>
                        <a:pt x="293" y="144"/>
                      </a:lnTo>
                      <a:lnTo>
                        <a:pt x="486" y="164"/>
                      </a:lnTo>
                      <a:lnTo>
                        <a:pt x="548" y="206"/>
                      </a:lnTo>
                      <a:lnTo>
                        <a:pt x="576" y="233"/>
                      </a:lnTo>
                      <a:lnTo>
                        <a:pt x="599" y="251"/>
                      </a:lnTo>
                      <a:lnTo>
                        <a:pt x="648" y="288"/>
                      </a:lnTo>
                      <a:lnTo>
                        <a:pt x="646" y="324"/>
                      </a:lnTo>
                      <a:lnTo>
                        <a:pt x="617" y="308"/>
                      </a:lnTo>
                      <a:lnTo>
                        <a:pt x="530" y="306"/>
                      </a:lnTo>
                      <a:lnTo>
                        <a:pt x="496" y="311"/>
                      </a:lnTo>
                      <a:lnTo>
                        <a:pt x="528" y="341"/>
                      </a:lnTo>
                      <a:lnTo>
                        <a:pt x="528" y="366"/>
                      </a:lnTo>
                      <a:lnTo>
                        <a:pt x="435" y="341"/>
                      </a:lnTo>
                      <a:lnTo>
                        <a:pt x="324" y="343"/>
                      </a:lnTo>
                      <a:lnTo>
                        <a:pt x="320" y="344"/>
                      </a:lnTo>
                      <a:lnTo>
                        <a:pt x="308" y="347"/>
                      </a:lnTo>
                      <a:lnTo>
                        <a:pt x="291" y="352"/>
                      </a:lnTo>
                      <a:lnTo>
                        <a:pt x="270" y="359"/>
                      </a:lnTo>
                      <a:lnTo>
                        <a:pt x="249" y="370"/>
                      </a:lnTo>
                      <a:lnTo>
                        <a:pt x="228" y="384"/>
                      </a:lnTo>
                      <a:lnTo>
                        <a:pt x="210" y="402"/>
                      </a:lnTo>
                      <a:lnTo>
                        <a:pt x="196" y="423"/>
                      </a:lnTo>
                      <a:lnTo>
                        <a:pt x="115" y="442"/>
                      </a:lnTo>
                      <a:lnTo>
                        <a:pt x="0" y="261"/>
                      </a:lnTo>
                      <a:lnTo>
                        <a:pt x="28" y="142"/>
                      </a:lnTo>
                      <a:lnTo>
                        <a:pt x="88" y="91"/>
                      </a:lnTo>
                      <a:lnTo>
                        <a:pt x="139" y="52"/>
                      </a:lnTo>
                      <a:lnTo>
                        <a:pt x="129"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0120" y="1589040"/>
                  <a:ext cx="1270080" cy="836640"/>
                </a:xfrm>
                <a:custGeom>
                  <a:avLst/>
                  <a:gdLst/>
                  <a:ahLst/>
                  <a:rect l="l" t="t" r="r" b="b"/>
                  <a:pathLst>
                    <a:path w="1599" h="1055">
                      <a:moveTo>
                        <a:pt x="1428" y="0"/>
                      </a:moveTo>
                      <a:lnTo>
                        <a:pt x="1426" y="9"/>
                      </a:lnTo>
                      <a:lnTo>
                        <a:pt x="1423" y="17"/>
                      </a:lnTo>
                      <a:lnTo>
                        <a:pt x="1419" y="24"/>
                      </a:lnTo>
                      <a:lnTo>
                        <a:pt x="1415" y="32"/>
                      </a:lnTo>
                      <a:lnTo>
                        <a:pt x="1409" y="39"/>
                      </a:lnTo>
                      <a:lnTo>
                        <a:pt x="1405" y="47"/>
                      </a:lnTo>
                      <a:lnTo>
                        <a:pt x="1400" y="53"/>
                      </a:lnTo>
                      <a:lnTo>
                        <a:pt x="1397" y="59"/>
                      </a:lnTo>
                      <a:lnTo>
                        <a:pt x="1387" y="72"/>
                      </a:lnTo>
                      <a:lnTo>
                        <a:pt x="1371" y="88"/>
                      </a:lnTo>
                      <a:lnTo>
                        <a:pt x="1353" y="105"/>
                      </a:lnTo>
                      <a:lnTo>
                        <a:pt x="1333" y="123"/>
                      </a:lnTo>
                      <a:lnTo>
                        <a:pt x="1314" y="140"/>
                      </a:lnTo>
                      <a:lnTo>
                        <a:pt x="1297" y="155"/>
                      </a:lnTo>
                      <a:lnTo>
                        <a:pt x="1283" y="168"/>
                      </a:lnTo>
                      <a:lnTo>
                        <a:pt x="1277" y="177"/>
                      </a:lnTo>
                      <a:lnTo>
                        <a:pt x="1292" y="183"/>
                      </a:lnTo>
                      <a:lnTo>
                        <a:pt x="1308" y="189"/>
                      </a:lnTo>
                      <a:lnTo>
                        <a:pt x="1323" y="193"/>
                      </a:lnTo>
                      <a:lnTo>
                        <a:pt x="1340" y="197"/>
                      </a:lnTo>
                      <a:lnTo>
                        <a:pt x="1357" y="200"/>
                      </a:lnTo>
                      <a:lnTo>
                        <a:pt x="1374" y="204"/>
                      </a:lnTo>
                      <a:lnTo>
                        <a:pt x="1391" y="207"/>
                      </a:lnTo>
                      <a:lnTo>
                        <a:pt x="1407" y="210"/>
                      </a:lnTo>
                      <a:lnTo>
                        <a:pt x="1423" y="215"/>
                      </a:lnTo>
                      <a:lnTo>
                        <a:pt x="1438" y="221"/>
                      </a:lnTo>
                      <a:lnTo>
                        <a:pt x="1452" y="227"/>
                      </a:lnTo>
                      <a:lnTo>
                        <a:pt x="1464" y="234"/>
                      </a:lnTo>
                      <a:lnTo>
                        <a:pt x="1476" y="244"/>
                      </a:lnTo>
                      <a:lnTo>
                        <a:pt x="1486" y="255"/>
                      </a:lnTo>
                      <a:lnTo>
                        <a:pt x="1493" y="269"/>
                      </a:lnTo>
                      <a:lnTo>
                        <a:pt x="1499" y="285"/>
                      </a:lnTo>
                      <a:lnTo>
                        <a:pt x="1515" y="288"/>
                      </a:lnTo>
                      <a:lnTo>
                        <a:pt x="1530" y="293"/>
                      </a:lnTo>
                      <a:lnTo>
                        <a:pt x="1545" y="299"/>
                      </a:lnTo>
                      <a:lnTo>
                        <a:pt x="1559" y="306"/>
                      </a:lnTo>
                      <a:lnTo>
                        <a:pt x="1571" y="315"/>
                      </a:lnTo>
                      <a:lnTo>
                        <a:pt x="1582" y="326"/>
                      </a:lnTo>
                      <a:lnTo>
                        <a:pt x="1589" y="339"/>
                      </a:lnTo>
                      <a:lnTo>
                        <a:pt x="1595" y="354"/>
                      </a:lnTo>
                      <a:lnTo>
                        <a:pt x="1595" y="370"/>
                      </a:lnTo>
                      <a:lnTo>
                        <a:pt x="1593" y="383"/>
                      </a:lnTo>
                      <a:lnTo>
                        <a:pt x="1587" y="394"/>
                      </a:lnTo>
                      <a:lnTo>
                        <a:pt x="1580" y="403"/>
                      </a:lnTo>
                      <a:lnTo>
                        <a:pt x="1574" y="404"/>
                      </a:lnTo>
                      <a:lnTo>
                        <a:pt x="1567" y="406"/>
                      </a:lnTo>
                      <a:lnTo>
                        <a:pt x="1562" y="406"/>
                      </a:lnTo>
                      <a:lnTo>
                        <a:pt x="1557" y="403"/>
                      </a:lnTo>
                      <a:lnTo>
                        <a:pt x="1557" y="394"/>
                      </a:lnTo>
                      <a:lnTo>
                        <a:pt x="1556" y="386"/>
                      </a:lnTo>
                      <a:lnTo>
                        <a:pt x="1552" y="378"/>
                      </a:lnTo>
                      <a:lnTo>
                        <a:pt x="1548" y="374"/>
                      </a:lnTo>
                      <a:lnTo>
                        <a:pt x="1534" y="373"/>
                      </a:lnTo>
                      <a:lnTo>
                        <a:pt x="1521" y="371"/>
                      </a:lnTo>
                      <a:lnTo>
                        <a:pt x="1508" y="368"/>
                      </a:lnTo>
                      <a:lnTo>
                        <a:pt x="1494" y="366"/>
                      </a:lnTo>
                      <a:lnTo>
                        <a:pt x="1480" y="365"/>
                      </a:lnTo>
                      <a:lnTo>
                        <a:pt x="1468" y="365"/>
                      </a:lnTo>
                      <a:lnTo>
                        <a:pt x="1455" y="366"/>
                      </a:lnTo>
                      <a:lnTo>
                        <a:pt x="1442" y="370"/>
                      </a:lnTo>
                      <a:lnTo>
                        <a:pt x="1451" y="377"/>
                      </a:lnTo>
                      <a:lnTo>
                        <a:pt x="1460" y="385"/>
                      </a:lnTo>
                      <a:lnTo>
                        <a:pt x="1469" y="392"/>
                      </a:lnTo>
                      <a:lnTo>
                        <a:pt x="1478" y="399"/>
                      </a:lnTo>
                      <a:lnTo>
                        <a:pt x="1489" y="405"/>
                      </a:lnTo>
                      <a:lnTo>
                        <a:pt x="1498" y="411"/>
                      </a:lnTo>
                      <a:lnTo>
                        <a:pt x="1509" y="416"/>
                      </a:lnTo>
                      <a:lnTo>
                        <a:pt x="1521" y="420"/>
                      </a:lnTo>
                      <a:lnTo>
                        <a:pt x="1523" y="426"/>
                      </a:lnTo>
                      <a:lnTo>
                        <a:pt x="1524" y="431"/>
                      </a:lnTo>
                      <a:lnTo>
                        <a:pt x="1523" y="437"/>
                      </a:lnTo>
                      <a:lnTo>
                        <a:pt x="1521" y="443"/>
                      </a:lnTo>
                      <a:lnTo>
                        <a:pt x="1499" y="439"/>
                      </a:lnTo>
                      <a:lnTo>
                        <a:pt x="1478" y="434"/>
                      </a:lnTo>
                      <a:lnTo>
                        <a:pt x="1456" y="428"/>
                      </a:lnTo>
                      <a:lnTo>
                        <a:pt x="1435" y="422"/>
                      </a:lnTo>
                      <a:lnTo>
                        <a:pt x="1412" y="417"/>
                      </a:lnTo>
                      <a:lnTo>
                        <a:pt x="1390" y="411"/>
                      </a:lnTo>
                      <a:lnTo>
                        <a:pt x="1368" y="407"/>
                      </a:lnTo>
                      <a:lnTo>
                        <a:pt x="1347" y="404"/>
                      </a:lnTo>
                      <a:lnTo>
                        <a:pt x="1325" y="402"/>
                      </a:lnTo>
                      <a:lnTo>
                        <a:pt x="1303" y="401"/>
                      </a:lnTo>
                      <a:lnTo>
                        <a:pt x="1282" y="401"/>
                      </a:lnTo>
                      <a:lnTo>
                        <a:pt x="1262" y="403"/>
                      </a:lnTo>
                      <a:lnTo>
                        <a:pt x="1241" y="408"/>
                      </a:lnTo>
                      <a:lnTo>
                        <a:pt x="1222" y="414"/>
                      </a:lnTo>
                      <a:lnTo>
                        <a:pt x="1203" y="424"/>
                      </a:lnTo>
                      <a:lnTo>
                        <a:pt x="1184" y="437"/>
                      </a:lnTo>
                      <a:lnTo>
                        <a:pt x="1174" y="442"/>
                      </a:lnTo>
                      <a:lnTo>
                        <a:pt x="1166" y="448"/>
                      </a:lnTo>
                      <a:lnTo>
                        <a:pt x="1156" y="457"/>
                      </a:lnTo>
                      <a:lnTo>
                        <a:pt x="1149" y="466"/>
                      </a:lnTo>
                      <a:lnTo>
                        <a:pt x="1141" y="477"/>
                      </a:lnTo>
                      <a:lnTo>
                        <a:pt x="1136" y="489"/>
                      </a:lnTo>
                      <a:lnTo>
                        <a:pt x="1134" y="500"/>
                      </a:lnTo>
                      <a:lnTo>
                        <a:pt x="1133" y="513"/>
                      </a:lnTo>
                      <a:lnTo>
                        <a:pt x="1130" y="514"/>
                      </a:lnTo>
                      <a:lnTo>
                        <a:pt x="1126" y="514"/>
                      </a:lnTo>
                      <a:lnTo>
                        <a:pt x="1123" y="514"/>
                      </a:lnTo>
                      <a:lnTo>
                        <a:pt x="1119" y="513"/>
                      </a:lnTo>
                      <a:lnTo>
                        <a:pt x="1108" y="498"/>
                      </a:lnTo>
                      <a:lnTo>
                        <a:pt x="1098" y="505"/>
                      </a:lnTo>
                      <a:lnTo>
                        <a:pt x="1095" y="516"/>
                      </a:lnTo>
                      <a:lnTo>
                        <a:pt x="1090" y="528"/>
                      </a:lnTo>
                      <a:lnTo>
                        <a:pt x="1085" y="539"/>
                      </a:lnTo>
                      <a:lnTo>
                        <a:pt x="1081" y="551"/>
                      </a:lnTo>
                      <a:lnTo>
                        <a:pt x="1079" y="563"/>
                      </a:lnTo>
                      <a:lnTo>
                        <a:pt x="1078" y="576"/>
                      </a:lnTo>
                      <a:lnTo>
                        <a:pt x="1080" y="588"/>
                      </a:lnTo>
                      <a:lnTo>
                        <a:pt x="1085" y="601"/>
                      </a:lnTo>
                      <a:lnTo>
                        <a:pt x="1092" y="603"/>
                      </a:lnTo>
                      <a:lnTo>
                        <a:pt x="1100" y="605"/>
                      </a:lnTo>
                      <a:lnTo>
                        <a:pt x="1107" y="607"/>
                      </a:lnTo>
                      <a:lnTo>
                        <a:pt x="1114" y="610"/>
                      </a:lnTo>
                      <a:lnTo>
                        <a:pt x="1120" y="614"/>
                      </a:lnTo>
                      <a:lnTo>
                        <a:pt x="1126" y="617"/>
                      </a:lnTo>
                      <a:lnTo>
                        <a:pt x="1133" y="621"/>
                      </a:lnTo>
                      <a:lnTo>
                        <a:pt x="1139" y="625"/>
                      </a:lnTo>
                      <a:lnTo>
                        <a:pt x="1143" y="637"/>
                      </a:lnTo>
                      <a:lnTo>
                        <a:pt x="1144" y="650"/>
                      </a:lnTo>
                      <a:lnTo>
                        <a:pt x="1145" y="663"/>
                      </a:lnTo>
                      <a:lnTo>
                        <a:pt x="1150" y="675"/>
                      </a:lnTo>
                      <a:lnTo>
                        <a:pt x="1145" y="681"/>
                      </a:lnTo>
                      <a:lnTo>
                        <a:pt x="1141" y="688"/>
                      </a:lnTo>
                      <a:lnTo>
                        <a:pt x="1137" y="691"/>
                      </a:lnTo>
                      <a:lnTo>
                        <a:pt x="1131" y="689"/>
                      </a:lnTo>
                      <a:lnTo>
                        <a:pt x="1127" y="680"/>
                      </a:lnTo>
                      <a:lnTo>
                        <a:pt x="1124" y="671"/>
                      </a:lnTo>
                      <a:lnTo>
                        <a:pt x="1119" y="662"/>
                      </a:lnTo>
                      <a:lnTo>
                        <a:pt x="1109" y="657"/>
                      </a:lnTo>
                      <a:lnTo>
                        <a:pt x="1103" y="657"/>
                      </a:lnTo>
                      <a:lnTo>
                        <a:pt x="1099" y="659"/>
                      </a:lnTo>
                      <a:lnTo>
                        <a:pt x="1093" y="660"/>
                      </a:lnTo>
                      <a:lnTo>
                        <a:pt x="1090" y="663"/>
                      </a:lnTo>
                      <a:lnTo>
                        <a:pt x="1086" y="667"/>
                      </a:lnTo>
                      <a:lnTo>
                        <a:pt x="1083" y="670"/>
                      </a:lnTo>
                      <a:lnTo>
                        <a:pt x="1080" y="674"/>
                      </a:lnTo>
                      <a:lnTo>
                        <a:pt x="1075" y="678"/>
                      </a:lnTo>
                      <a:lnTo>
                        <a:pt x="1081" y="694"/>
                      </a:lnTo>
                      <a:lnTo>
                        <a:pt x="1087" y="710"/>
                      </a:lnTo>
                      <a:lnTo>
                        <a:pt x="1095" y="725"/>
                      </a:lnTo>
                      <a:lnTo>
                        <a:pt x="1102" y="740"/>
                      </a:lnTo>
                      <a:lnTo>
                        <a:pt x="1110" y="755"/>
                      </a:lnTo>
                      <a:lnTo>
                        <a:pt x="1120" y="768"/>
                      </a:lnTo>
                      <a:lnTo>
                        <a:pt x="1131" y="782"/>
                      </a:lnTo>
                      <a:lnTo>
                        <a:pt x="1141" y="794"/>
                      </a:lnTo>
                      <a:lnTo>
                        <a:pt x="1153" y="807"/>
                      </a:lnTo>
                      <a:lnTo>
                        <a:pt x="1166" y="817"/>
                      </a:lnTo>
                      <a:lnTo>
                        <a:pt x="1179" y="827"/>
                      </a:lnTo>
                      <a:lnTo>
                        <a:pt x="1194" y="836"/>
                      </a:lnTo>
                      <a:lnTo>
                        <a:pt x="1209" y="844"/>
                      </a:lnTo>
                      <a:lnTo>
                        <a:pt x="1226" y="850"/>
                      </a:lnTo>
                      <a:lnTo>
                        <a:pt x="1243" y="855"/>
                      </a:lnTo>
                      <a:lnTo>
                        <a:pt x="1262" y="860"/>
                      </a:lnTo>
                      <a:lnTo>
                        <a:pt x="1272" y="860"/>
                      </a:lnTo>
                      <a:lnTo>
                        <a:pt x="1281" y="858"/>
                      </a:lnTo>
                      <a:lnTo>
                        <a:pt x="1290" y="856"/>
                      </a:lnTo>
                      <a:lnTo>
                        <a:pt x="1298" y="854"/>
                      </a:lnTo>
                      <a:lnTo>
                        <a:pt x="1307" y="852"/>
                      </a:lnTo>
                      <a:lnTo>
                        <a:pt x="1314" y="849"/>
                      </a:lnTo>
                      <a:lnTo>
                        <a:pt x="1320" y="846"/>
                      </a:lnTo>
                      <a:lnTo>
                        <a:pt x="1325" y="843"/>
                      </a:lnTo>
                      <a:lnTo>
                        <a:pt x="1328" y="834"/>
                      </a:lnTo>
                      <a:lnTo>
                        <a:pt x="1331" y="827"/>
                      </a:lnTo>
                      <a:lnTo>
                        <a:pt x="1335" y="820"/>
                      </a:lnTo>
                      <a:lnTo>
                        <a:pt x="1340" y="814"/>
                      </a:lnTo>
                      <a:lnTo>
                        <a:pt x="1346" y="809"/>
                      </a:lnTo>
                      <a:lnTo>
                        <a:pt x="1352" y="803"/>
                      </a:lnTo>
                      <a:lnTo>
                        <a:pt x="1359" y="798"/>
                      </a:lnTo>
                      <a:lnTo>
                        <a:pt x="1367" y="794"/>
                      </a:lnTo>
                      <a:lnTo>
                        <a:pt x="1376" y="791"/>
                      </a:lnTo>
                      <a:lnTo>
                        <a:pt x="1386" y="792"/>
                      </a:lnTo>
                      <a:lnTo>
                        <a:pt x="1393" y="795"/>
                      </a:lnTo>
                      <a:lnTo>
                        <a:pt x="1402" y="798"/>
                      </a:lnTo>
                      <a:lnTo>
                        <a:pt x="1408" y="802"/>
                      </a:lnTo>
                      <a:lnTo>
                        <a:pt x="1416" y="802"/>
                      </a:lnTo>
                      <a:lnTo>
                        <a:pt x="1422" y="799"/>
                      </a:lnTo>
                      <a:lnTo>
                        <a:pt x="1429" y="791"/>
                      </a:lnTo>
                      <a:lnTo>
                        <a:pt x="1439" y="781"/>
                      </a:lnTo>
                      <a:lnTo>
                        <a:pt x="1449" y="772"/>
                      </a:lnTo>
                      <a:lnTo>
                        <a:pt x="1458" y="762"/>
                      </a:lnTo>
                      <a:lnTo>
                        <a:pt x="1469" y="752"/>
                      </a:lnTo>
                      <a:lnTo>
                        <a:pt x="1478" y="744"/>
                      </a:lnTo>
                      <a:lnTo>
                        <a:pt x="1490" y="738"/>
                      </a:lnTo>
                      <a:lnTo>
                        <a:pt x="1503" y="732"/>
                      </a:lnTo>
                      <a:lnTo>
                        <a:pt x="1517" y="730"/>
                      </a:lnTo>
                      <a:lnTo>
                        <a:pt x="1526" y="732"/>
                      </a:lnTo>
                      <a:lnTo>
                        <a:pt x="1533" y="734"/>
                      </a:lnTo>
                      <a:lnTo>
                        <a:pt x="1541" y="738"/>
                      </a:lnTo>
                      <a:lnTo>
                        <a:pt x="1548" y="741"/>
                      </a:lnTo>
                      <a:lnTo>
                        <a:pt x="1554" y="745"/>
                      </a:lnTo>
                      <a:lnTo>
                        <a:pt x="1560" y="750"/>
                      </a:lnTo>
                      <a:lnTo>
                        <a:pt x="1564" y="757"/>
                      </a:lnTo>
                      <a:lnTo>
                        <a:pt x="1567" y="764"/>
                      </a:lnTo>
                      <a:lnTo>
                        <a:pt x="1574" y="766"/>
                      </a:lnTo>
                      <a:lnTo>
                        <a:pt x="1580" y="767"/>
                      </a:lnTo>
                      <a:lnTo>
                        <a:pt x="1584" y="771"/>
                      </a:lnTo>
                      <a:lnTo>
                        <a:pt x="1589" y="773"/>
                      </a:lnTo>
                      <a:lnTo>
                        <a:pt x="1593" y="777"/>
                      </a:lnTo>
                      <a:lnTo>
                        <a:pt x="1596" y="781"/>
                      </a:lnTo>
                      <a:lnTo>
                        <a:pt x="1598" y="787"/>
                      </a:lnTo>
                      <a:lnTo>
                        <a:pt x="1599" y="794"/>
                      </a:lnTo>
                      <a:lnTo>
                        <a:pt x="1594" y="821"/>
                      </a:lnTo>
                      <a:lnTo>
                        <a:pt x="1587" y="840"/>
                      </a:lnTo>
                      <a:lnTo>
                        <a:pt x="1579" y="852"/>
                      </a:lnTo>
                      <a:lnTo>
                        <a:pt x="1571" y="857"/>
                      </a:lnTo>
                      <a:lnTo>
                        <a:pt x="1563" y="860"/>
                      </a:lnTo>
                      <a:lnTo>
                        <a:pt x="1557" y="858"/>
                      </a:lnTo>
                      <a:lnTo>
                        <a:pt x="1552" y="857"/>
                      </a:lnTo>
                      <a:lnTo>
                        <a:pt x="1550" y="856"/>
                      </a:lnTo>
                      <a:lnTo>
                        <a:pt x="1553" y="846"/>
                      </a:lnTo>
                      <a:lnTo>
                        <a:pt x="1557" y="834"/>
                      </a:lnTo>
                      <a:lnTo>
                        <a:pt x="1557" y="824"/>
                      </a:lnTo>
                      <a:lnTo>
                        <a:pt x="1550" y="814"/>
                      </a:lnTo>
                      <a:lnTo>
                        <a:pt x="1543" y="810"/>
                      </a:lnTo>
                      <a:lnTo>
                        <a:pt x="1535" y="811"/>
                      </a:lnTo>
                      <a:lnTo>
                        <a:pt x="1528" y="813"/>
                      </a:lnTo>
                      <a:lnTo>
                        <a:pt x="1521" y="815"/>
                      </a:lnTo>
                      <a:lnTo>
                        <a:pt x="1512" y="814"/>
                      </a:lnTo>
                      <a:lnTo>
                        <a:pt x="1504" y="815"/>
                      </a:lnTo>
                      <a:lnTo>
                        <a:pt x="1496" y="816"/>
                      </a:lnTo>
                      <a:lnTo>
                        <a:pt x="1489" y="818"/>
                      </a:lnTo>
                      <a:lnTo>
                        <a:pt x="1482" y="821"/>
                      </a:lnTo>
                      <a:lnTo>
                        <a:pt x="1475" y="826"/>
                      </a:lnTo>
                      <a:lnTo>
                        <a:pt x="1468" y="830"/>
                      </a:lnTo>
                      <a:lnTo>
                        <a:pt x="1460" y="834"/>
                      </a:lnTo>
                      <a:lnTo>
                        <a:pt x="1461" y="850"/>
                      </a:lnTo>
                      <a:lnTo>
                        <a:pt x="1468" y="862"/>
                      </a:lnTo>
                      <a:lnTo>
                        <a:pt x="1474" y="873"/>
                      </a:lnTo>
                      <a:lnTo>
                        <a:pt x="1476" y="887"/>
                      </a:lnTo>
                      <a:lnTo>
                        <a:pt x="1479" y="907"/>
                      </a:lnTo>
                      <a:lnTo>
                        <a:pt x="1479" y="929"/>
                      </a:lnTo>
                      <a:lnTo>
                        <a:pt x="1475" y="950"/>
                      </a:lnTo>
                      <a:lnTo>
                        <a:pt x="1467" y="967"/>
                      </a:lnTo>
                      <a:lnTo>
                        <a:pt x="1462" y="970"/>
                      </a:lnTo>
                      <a:lnTo>
                        <a:pt x="1458" y="973"/>
                      </a:lnTo>
                      <a:lnTo>
                        <a:pt x="1454" y="976"/>
                      </a:lnTo>
                      <a:lnTo>
                        <a:pt x="1450" y="978"/>
                      </a:lnTo>
                      <a:lnTo>
                        <a:pt x="1445" y="980"/>
                      </a:lnTo>
                      <a:lnTo>
                        <a:pt x="1440" y="982"/>
                      </a:lnTo>
                      <a:lnTo>
                        <a:pt x="1435" y="982"/>
                      </a:lnTo>
                      <a:lnTo>
                        <a:pt x="1429" y="982"/>
                      </a:lnTo>
                      <a:lnTo>
                        <a:pt x="1430" y="971"/>
                      </a:lnTo>
                      <a:lnTo>
                        <a:pt x="1437" y="960"/>
                      </a:lnTo>
                      <a:lnTo>
                        <a:pt x="1442" y="949"/>
                      </a:lnTo>
                      <a:lnTo>
                        <a:pt x="1438" y="935"/>
                      </a:lnTo>
                      <a:lnTo>
                        <a:pt x="1428" y="929"/>
                      </a:lnTo>
                      <a:lnTo>
                        <a:pt x="1422" y="924"/>
                      </a:lnTo>
                      <a:lnTo>
                        <a:pt x="1415" y="918"/>
                      </a:lnTo>
                      <a:lnTo>
                        <a:pt x="1408" y="910"/>
                      </a:lnTo>
                      <a:lnTo>
                        <a:pt x="1404" y="911"/>
                      </a:lnTo>
                      <a:lnTo>
                        <a:pt x="1397" y="913"/>
                      </a:lnTo>
                      <a:lnTo>
                        <a:pt x="1391" y="917"/>
                      </a:lnTo>
                      <a:lnTo>
                        <a:pt x="1391" y="925"/>
                      </a:lnTo>
                      <a:lnTo>
                        <a:pt x="1393" y="933"/>
                      </a:lnTo>
                      <a:lnTo>
                        <a:pt x="1400" y="936"/>
                      </a:lnTo>
                      <a:lnTo>
                        <a:pt x="1407" y="939"/>
                      </a:lnTo>
                      <a:lnTo>
                        <a:pt x="1414" y="943"/>
                      </a:lnTo>
                      <a:lnTo>
                        <a:pt x="1425" y="943"/>
                      </a:lnTo>
                      <a:lnTo>
                        <a:pt x="1421" y="954"/>
                      </a:lnTo>
                      <a:lnTo>
                        <a:pt x="1416" y="964"/>
                      </a:lnTo>
                      <a:lnTo>
                        <a:pt x="1408" y="973"/>
                      </a:lnTo>
                      <a:lnTo>
                        <a:pt x="1397" y="976"/>
                      </a:lnTo>
                      <a:lnTo>
                        <a:pt x="1386" y="975"/>
                      </a:lnTo>
                      <a:lnTo>
                        <a:pt x="1376" y="971"/>
                      </a:lnTo>
                      <a:lnTo>
                        <a:pt x="1367" y="963"/>
                      </a:lnTo>
                      <a:lnTo>
                        <a:pt x="1356" y="956"/>
                      </a:lnTo>
                      <a:lnTo>
                        <a:pt x="1347" y="950"/>
                      </a:lnTo>
                      <a:lnTo>
                        <a:pt x="1335" y="945"/>
                      </a:lnTo>
                      <a:lnTo>
                        <a:pt x="1321" y="945"/>
                      </a:lnTo>
                      <a:lnTo>
                        <a:pt x="1307" y="952"/>
                      </a:lnTo>
                      <a:lnTo>
                        <a:pt x="1296" y="958"/>
                      </a:lnTo>
                      <a:lnTo>
                        <a:pt x="1287" y="968"/>
                      </a:lnTo>
                      <a:lnTo>
                        <a:pt x="1282" y="980"/>
                      </a:lnTo>
                      <a:lnTo>
                        <a:pt x="1279" y="992"/>
                      </a:lnTo>
                      <a:lnTo>
                        <a:pt x="1278" y="1005"/>
                      </a:lnTo>
                      <a:lnTo>
                        <a:pt x="1280" y="1015"/>
                      </a:lnTo>
                      <a:lnTo>
                        <a:pt x="1285" y="1024"/>
                      </a:lnTo>
                      <a:lnTo>
                        <a:pt x="1294" y="1027"/>
                      </a:lnTo>
                      <a:lnTo>
                        <a:pt x="1300" y="1024"/>
                      </a:lnTo>
                      <a:lnTo>
                        <a:pt x="1308" y="1024"/>
                      </a:lnTo>
                      <a:lnTo>
                        <a:pt x="1314" y="1027"/>
                      </a:lnTo>
                      <a:lnTo>
                        <a:pt x="1317" y="1032"/>
                      </a:lnTo>
                      <a:lnTo>
                        <a:pt x="1318" y="1043"/>
                      </a:lnTo>
                      <a:lnTo>
                        <a:pt x="1314" y="1048"/>
                      </a:lnTo>
                      <a:lnTo>
                        <a:pt x="1307" y="1051"/>
                      </a:lnTo>
                      <a:lnTo>
                        <a:pt x="1298" y="1052"/>
                      </a:lnTo>
                      <a:lnTo>
                        <a:pt x="1273" y="1053"/>
                      </a:lnTo>
                      <a:lnTo>
                        <a:pt x="1252" y="1050"/>
                      </a:lnTo>
                      <a:lnTo>
                        <a:pt x="1237" y="1043"/>
                      </a:lnTo>
                      <a:lnTo>
                        <a:pt x="1225" y="1033"/>
                      </a:lnTo>
                      <a:lnTo>
                        <a:pt x="1215" y="1023"/>
                      </a:lnTo>
                      <a:lnTo>
                        <a:pt x="1209" y="1010"/>
                      </a:lnTo>
                      <a:lnTo>
                        <a:pt x="1206" y="999"/>
                      </a:lnTo>
                      <a:lnTo>
                        <a:pt x="1204" y="989"/>
                      </a:lnTo>
                      <a:lnTo>
                        <a:pt x="1206" y="978"/>
                      </a:lnTo>
                      <a:lnTo>
                        <a:pt x="1208" y="968"/>
                      </a:lnTo>
                      <a:lnTo>
                        <a:pt x="1211" y="958"/>
                      </a:lnTo>
                      <a:lnTo>
                        <a:pt x="1215" y="949"/>
                      </a:lnTo>
                      <a:lnTo>
                        <a:pt x="1222" y="941"/>
                      </a:lnTo>
                      <a:lnTo>
                        <a:pt x="1228" y="934"/>
                      </a:lnTo>
                      <a:lnTo>
                        <a:pt x="1237" y="927"/>
                      </a:lnTo>
                      <a:lnTo>
                        <a:pt x="1246" y="922"/>
                      </a:lnTo>
                      <a:lnTo>
                        <a:pt x="1240" y="917"/>
                      </a:lnTo>
                      <a:lnTo>
                        <a:pt x="1232" y="913"/>
                      </a:lnTo>
                      <a:lnTo>
                        <a:pt x="1223" y="908"/>
                      </a:lnTo>
                      <a:lnTo>
                        <a:pt x="1213" y="905"/>
                      </a:lnTo>
                      <a:lnTo>
                        <a:pt x="1202" y="903"/>
                      </a:lnTo>
                      <a:lnTo>
                        <a:pt x="1191" y="900"/>
                      </a:lnTo>
                      <a:lnTo>
                        <a:pt x="1179" y="897"/>
                      </a:lnTo>
                      <a:lnTo>
                        <a:pt x="1170" y="893"/>
                      </a:lnTo>
                      <a:lnTo>
                        <a:pt x="1166" y="895"/>
                      </a:lnTo>
                      <a:lnTo>
                        <a:pt x="1163" y="899"/>
                      </a:lnTo>
                      <a:lnTo>
                        <a:pt x="1162" y="903"/>
                      </a:lnTo>
                      <a:lnTo>
                        <a:pt x="1159" y="906"/>
                      </a:lnTo>
                      <a:lnTo>
                        <a:pt x="1136" y="901"/>
                      </a:lnTo>
                      <a:lnTo>
                        <a:pt x="1136" y="907"/>
                      </a:lnTo>
                      <a:lnTo>
                        <a:pt x="1135" y="914"/>
                      </a:lnTo>
                      <a:lnTo>
                        <a:pt x="1133" y="921"/>
                      </a:lnTo>
                      <a:lnTo>
                        <a:pt x="1130" y="925"/>
                      </a:lnTo>
                      <a:lnTo>
                        <a:pt x="1122" y="928"/>
                      </a:lnTo>
                      <a:lnTo>
                        <a:pt x="1114" y="928"/>
                      </a:lnTo>
                      <a:lnTo>
                        <a:pt x="1104" y="928"/>
                      </a:lnTo>
                      <a:lnTo>
                        <a:pt x="1096" y="927"/>
                      </a:lnTo>
                      <a:lnTo>
                        <a:pt x="1086" y="926"/>
                      </a:lnTo>
                      <a:lnTo>
                        <a:pt x="1079" y="928"/>
                      </a:lnTo>
                      <a:lnTo>
                        <a:pt x="1073" y="933"/>
                      </a:lnTo>
                      <a:lnTo>
                        <a:pt x="1070" y="942"/>
                      </a:lnTo>
                      <a:lnTo>
                        <a:pt x="1063" y="949"/>
                      </a:lnTo>
                      <a:lnTo>
                        <a:pt x="1054" y="951"/>
                      </a:lnTo>
                      <a:lnTo>
                        <a:pt x="1045" y="952"/>
                      </a:lnTo>
                      <a:lnTo>
                        <a:pt x="1035" y="950"/>
                      </a:lnTo>
                      <a:lnTo>
                        <a:pt x="1026" y="946"/>
                      </a:lnTo>
                      <a:lnTo>
                        <a:pt x="1016" y="943"/>
                      </a:lnTo>
                      <a:lnTo>
                        <a:pt x="1007" y="939"/>
                      </a:lnTo>
                      <a:lnTo>
                        <a:pt x="997" y="936"/>
                      </a:lnTo>
                      <a:lnTo>
                        <a:pt x="991" y="931"/>
                      </a:lnTo>
                      <a:lnTo>
                        <a:pt x="984" y="928"/>
                      </a:lnTo>
                      <a:lnTo>
                        <a:pt x="977" y="928"/>
                      </a:lnTo>
                      <a:lnTo>
                        <a:pt x="970" y="931"/>
                      </a:lnTo>
                      <a:lnTo>
                        <a:pt x="962" y="933"/>
                      </a:lnTo>
                      <a:lnTo>
                        <a:pt x="955" y="935"/>
                      </a:lnTo>
                      <a:lnTo>
                        <a:pt x="947" y="936"/>
                      </a:lnTo>
                      <a:lnTo>
                        <a:pt x="940" y="934"/>
                      </a:lnTo>
                      <a:lnTo>
                        <a:pt x="933" y="931"/>
                      </a:lnTo>
                      <a:lnTo>
                        <a:pt x="926" y="928"/>
                      </a:lnTo>
                      <a:lnTo>
                        <a:pt x="920" y="925"/>
                      </a:lnTo>
                      <a:lnTo>
                        <a:pt x="913" y="922"/>
                      </a:lnTo>
                      <a:lnTo>
                        <a:pt x="907" y="919"/>
                      </a:lnTo>
                      <a:lnTo>
                        <a:pt x="902" y="915"/>
                      </a:lnTo>
                      <a:lnTo>
                        <a:pt x="899" y="909"/>
                      </a:lnTo>
                      <a:lnTo>
                        <a:pt x="895" y="903"/>
                      </a:lnTo>
                      <a:lnTo>
                        <a:pt x="894" y="893"/>
                      </a:lnTo>
                      <a:lnTo>
                        <a:pt x="895" y="882"/>
                      </a:lnTo>
                      <a:lnTo>
                        <a:pt x="894" y="873"/>
                      </a:lnTo>
                      <a:lnTo>
                        <a:pt x="888" y="869"/>
                      </a:lnTo>
                      <a:lnTo>
                        <a:pt x="883" y="897"/>
                      </a:lnTo>
                      <a:lnTo>
                        <a:pt x="877" y="897"/>
                      </a:lnTo>
                      <a:lnTo>
                        <a:pt x="873" y="896"/>
                      </a:lnTo>
                      <a:lnTo>
                        <a:pt x="868" y="893"/>
                      </a:lnTo>
                      <a:lnTo>
                        <a:pt x="865" y="891"/>
                      </a:lnTo>
                      <a:lnTo>
                        <a:pt x="860" y="889"/>
                      </a:lnTo>
                      <a:lnTo>
                        <a:pt x="857" y="886"/>
                      </a:lnTo>
                      <a:lnTo>
                        <a:pt x="853" y="883"/>
                      </a:lnTo>
                      <a:lnTo>
                        <a:pt x="850" y="880"/>
                      </a:lnTo>
                      <a:lnTo>
                        <a:pt x="846" y="834"/>
                      </a:lnTo>
                      <a:lnTo>
                        <a:pt x="824" y="856"/>
                      </a:lnTo>
                      <a:lnTo>
                        <a:pt x="818" y="853"/>
                      </a:lnTo>
                      <a:lnTo>
                        <a:pt x="812" y="847"/>
                      </a:lnTo>
                      <a:lnTo>
                        <a:pt x="806" y="844"/>
                      </a:lnTo>
                      <a:lnTo>
                        <a:pt x="798" y="847"/>
                      </a:lnTo>
                      <a:lnTo>
                        <a:pt x="795" y="854"/>
                      </a:lnTo>
                      <a:lnTo>
                        <a:pt x="794" y="862"/>
                      </a:lnTo>
                      <a:lnTo>
                        <a:pt x="794" y="870"/>
                      </a:lnTo>
                      <a:lnTo>
                        <a:pt x="794" y="879"/>
                      </a:lnTo>
                      <a:lnTo>
                        <a:pt x="799" y="884"/>
                      </a:lnTo>
                      <a:lnTo>
                        <a:pt x="804" y="888"/>
                      </a:lnTo>
                      <a:lnTo>
                        <a:pt x="808" y="891"/>
                      </a:lnTo>
                      <a:lnTo>
                        <a:pt x="808" y="898"/>
                      </a:lnTo>
                      <a:lnTo>
                        <a:pt x="802" y="897"/>
                      </a:lnTo>
                      <a:lnTo>
                        <a:pt x="795" y="896"/>
                      </a:lnTo>
                      <a:lnTo>
                        <a:pt x="787" y="895"/>
                      </a:lnTo>
                      <a:lnTo>
                        <a:pt x="780" y="893"/>
                      </a:lnTo>
                      <a:lnTo>
                        <a:pt x="773" y="890"/>
                      </a:lnTo>
                      <a:lnTo>
                        <a:pt x="768" y="887"/>
                      </a:lnTo>
                      <a:lnTo>
                        <a:pt x="763" y="881"/>
                      </a:lnTo>
                      <a:lnTo>
                        <a:pt x="761" y="873"/>
                      </a:lnTo>
                      <a:lnTo>
                        <a:pt x="761" y="851"/>
                      </a:lnTo>
                      <a:lnTo>
                        <a:pt x="757" y="831"/>
                      </a:lnTo>
                      <a:lnTo>
                        <a:pt x="755" y="813"/>
                      </a:lnTo>
                      <a:lnTo>
                        <a:pt x="766" y="795"/>
                      </a:lnTo>
                      <a:lnTo>
                        <a:pt x="768" y="789"/>
                      </a:lnTo>
                      <a:lnTo>
                        <a:pt x="771" y="782"/>
                      </a:lnTo>
                      <a:lnTo>
                        <a:pt x="772" y="777"/>
                      </a:lnTo>
                      <a:lnTo>
                        <a:pt x="769" y="771"/>
                      </a:lnTo>
                      <a:lnTo>
                        <a:pt x="760" y="773"/>
                      </a:lnTo>
                      <a:lnTo>
                        <a:pt x="750" y="778"/>
                      </a:lnTo>
                      <a:lnTo>
                        <a:pt x="743" y="785"/>
                      </a:lnTo>
                      <a:lnTo>
                        <a:pt x="740" y="796"/>
                      </a:lnTo>
                      <a:lnTo>
                        <a:pt x="740" y="800"/>
                      </a:lnTo>
                      <a:lnTo>
                        <a:pt x="736" y="802"/>
                      </a:lnTo>
                      <a:lnTo>
                        <a:pt x="731" y="804"/>
                      </a:lnTo>
                      <a:lnTo>
                        <a:pt x="726" y="805"/>
                      </a:lnTo>
                      <a:lnTo>
                        <a:pt x="720" y="802"/>
                      </a:lnTo>
                      <a:lnTo>
                        <a:pt x="716" y="799"/>
                      </a:lnTo>
                      <a:lnTo>
                        <a:pt x="710" y="798"/>
                      </a:lnTo>
                      <a:lnTo>
                        <a:pt x="702" y="801"/>
                      </a:lnTo>
                      <a:lnTo>
                        <a:pt x="699" y="824"/>
                      </a:lnTo>
                      <a:lnTo>
                        <a:pt x="696" y="849"/>
                      </a:lnTo>
                      <a:lnTo>
                        <a:pt x="691" y="875"/>
                      </a:lnTo>
                      <a:lnTo>
                        <a:pt x="686" y="902"/>
                      </a:lnTo>
                      <a:lnTo>
                        <a:pt x="678" y="928"/>
                      </a:lnTo>
                      <a:lnTo>
                        <a:pt x="671" y="952"/>
                      </a:lnTo>
                      <a:lnTo>
                        <a:pt x="661" y="972"/>
                      </a:lnTo>
                      <a:lnTo>
                        <a:pt x="649" y="987"/>
                      </a:lnTo>
                      <a:lnTo>
                        <a:pt x="638" y="994"/>
                      </a:lnTo>
                      <a:lnTo>
                        <a:pt x="626" y="1002"/>
                      </a:lnTo>
                      <a:lnTo>
                        <a:pt x="616" y="1008"/>
                      </a:lnTo>
                      <a:lnTo>
                        <a:pt x="606" y="1012"/>
                      </a:lnTo>
                      <a:lnTo>
                        <a:pt x="596" y="1014"/>
                      </a:lnTo>
                      <a:lnTo>
                        <a:pt x="587" y="1013"/>
                      </a:lnTo>
                      <a:lnTo>
                        <a:pt x="578" y="1007"/>
                      </a:lnTo>
                      <a:lnTo>
                        <a:pt x="571" y="996"/>
                      </a:lnTo>
                      <a:lnTo>
                        <a:pt x="560" y="1003"/>
                      </a:lnTo>
                      <a:lnTo>
                        <a:pt x="550" y="1012"/>
                      </a:lnTo>
                      <a:lnTo>
                        <a:pt x="540" y="1022"/>
                      </a:lnTo>
                      <a:lnTo>
                        <a:pt x="531" y="1031"/>
                      </a:lnTo>
                      <a:lnTo>
                        <a:pt x="520" y="1040"/>
                      </a:lnTo>
                      <a:lnTo>
                        <a:pt x="510" y="1045"/>
                      </a:lnTo>
                      <a:lnTo>
                        <a:pt x="497" y="1046"/>
                      </a:lnTo>
                      <a:lnTo>
                        <a:pt x="484" y="1041"/>
                      </a:lnTo>
                      <a:lnTo>
                        <a:pt x="474" y="1039"/>
                      </a:lnTo>
                      <a:lnTo>
                        <a:pt x="468" y="1037"/>
                      </a:lnTo>
                      <a:lnTo>
                        <a:pt x="466" y="1032"/>
                      </a:lnTo>
                      <a:lnTo>
                        <a:pt x="467" y="1028"/>
                      </a:lnTo>
                      <a:lnTo>
                        <a:pt x="470" y="1025"/>
                      </a:lnTo>
                      <a:lnTo>
                        <a:pt x="476" y="1021"/>
                      </a:lnTo>
                      <a:lnTo>
                        <a:pt x="480" y="1017"/>
                      </a:lnTo>
                      <a:lnTo>
                        <a:pt x="484" y="1015"/>
                      </a:lnTo>
                      <a:lnTo>
                        <a:pt x="510" y="1009"/>
                      </a:lnTo>
                      <a:lnTo>
                        <a:pt x="532" y="999"/>
                      </a:lnTo>
                      <a:lnTo>
                        <a:pt x="551" y="986"/>
                      </a:lnTo>
                      <a:lnTo>
                        <a:pt x="568" y="969"/>
                      </a:lnTo>
                      <a:lnTo>
                        <a:pt x="583" y="950"/>
                      </a:lnTo>
                      <a:lnTo>
                        <a:pt x="595" y="929"/>
                      </a:lnTo>
                      <a:lnTo>
                        <a:pt x="607" y="909"/>
                      </a:lnTo>
                      <a:lnTo>
                        <a:pt x="618" y="888"/>
                      </a:lnTo>
                      <a:lnTo>
                        <a:pt x="623" y="848"/>
                      </a:lnTo>
                      <a:lnTo>
                        <a:pt x="616" y="848"/>
                      </a:lnTo>
                      <a:lnTo>
                        <a:pt x="608" y="849"/>
                      </a:lnTo>
                      <a:lnTo>
                        <a:pt x="601" y="851"/>
                      </a:lnTo>
                      <a:lnTo>
                        <a:pt x="593" y="854"/>
                      </a:lnTo>
                      <a:lnTo>
                        <a:pt x="586" y="857"/>
                      </a:lnTo>
                      <a:lnTo>
                        <a:pt x="581" y="863"/>
                      </a:lnTo>
                      <a:lnTo>
                        <a:pt x="575" y="868"/>
                      </a:lnTo>
                      <a:lnTo>
                        <a:pt x="571" y="875"/>
                      </a:lnTo>
                      <a:lnTo>
                        <a:pt x="568" y="885"/>
                      </a:lnTo>
                      <a:lnTo>
                        <a:pt x="565" y="896"/>
                      </a:lnTo>
                      <a:lnTo>
                        <a:pt x="560" y="908"/>
                      </a:lnTo>
                      <a:lnTo>
                        <a:pt x="557" y="920"/>
                      </a:lnTo>
                      <a:lnTo>
                        <a:pt x="547" y="936"/>
                      </a:lnTo>
                      <a:lnTo>
                        <a:pt x="536" y="952"/>
                      </a:lnTo>
                      <a:lnTo>
                        <a:pt x="525" y="968"/>
                      </a:lnTo>
                      <a:lnTo>
                        <a:pt x="515" y="982"/>
                      </a:lnTo>
                      <a:lnTo>
                        <a:pt x="502" y="996"/>
                      </a:lnTo>
                      <a:lnTo>
                        <a:pt x="489" y="1010"/>
                      </a:lnTo>
                      <a:lnTo>
                        <a:pt x="475" y="1022"/>
                      </a:lnTo>
                      <a:lnTo>
                        <a:pt x="459" y="1032"/>
                      </a:lnTo>
                      <a:lnTo>
                        <a:pt x="451" y="1037"/>
                      </a:lnTo>
                      <a:lnTo>
                        <a:pt x="446" y="1042"/>
                      </a:lnTo>
                      <a:lnTo>
                        <a:pt x="441" y="1046"/>
                      </a:lnTo>
                      <a:lnTo>
                        <a:pt x="435" y="1050"/>
                      </a:lnTo>
                      <a:lnTo>
                        <a:pt x="429" y="1053"/>
                      </a:lnTo>
                      <a:lnTo>
                        <a:pt x="423" y="1055"/>
                      </a:lnTo>
                      <a:lnTo>
                        <a:pt x="414" y="1053"/>
                      </a:lnTo>
                      <a:lnTo>
                        <a:pt x="405" y="1050"/>
                      </a:lnTo>
                      <a:lnTo>
                        <a:pt x="401" y="1045"/>
                      </a:lnTo>
                      <a:lnTo>
                        <a:pt x="396" y="1040"/>
                      </a:lnTo>
                      <a:lnTo>
                        <a:pt x="389" y="1037"/>
                      </a:lnTo>
                      <a:lnTo>
                        <a:pt x="380" y="1033"/>
                      </a:lnTo>
                      <a:lnTo>
                        <a:pt x="373" y="1030"/>
                      </a:lnTo>
                      <a:lnTo>
                        <a:pt x="367" y="1026"/>
                      </a:lnTo>
                      <a:lnTo>
                        <a:pt x="363" y="1020"/>
                      </a:lnTo>
                      <a:lnTo>
                        <a:pt x="364" y="1011"/>
                      </a:lnTo>
                      <a:lnTo>
                        <a:pt x="371" y="1008"/>
                      </a:lnTo>
                      <a:lnTo>
                        <a:pt x="380" y="1006"/>
                      </a:lnTo>
                      <a:lnTo>
                        <a:pt x="391" y="1006"/>
                      </a:lnTo>
                      <a:lnTo>
                        <a:pt x="401" y="1006"/>
                      </a:lnTo>
                      <a:lnTo>
                        <a:pt x="413" y="1006"/>
                      </a:lnTo>
                      <a:lnTo>
                        <a:pt x="423" y="1004"/>
                      </a:lnTo>
                      <a:lnTo>
                        <a:pt x="431" y="1002"/>
                      </a:lnTo>
                      <a:lnTo>
                        <a:pt x="438" y="996"/>
                      </a:lnTo>
                      <a:lnTo>
                        <a:pt x="447" y="991"/>
                      </a:lnTo>
                      <a:lnTo>
                        <a:pt x="463" y="977"/>
                      </a:lnTo>
                      <a:lnTo>
                        <a:pt x="482" y="957"/>
                      </a:lnTo>
                      <a:lnTo>
                        <a:pt x="503" y="934"/>
                      </a:lnTo>
                      <a:lnTo>
                        <a:pt x="523" y="907"/>
                      </a:lnTo>
                      <a:lnTo>
                        <a:pt x="540" y="881"/>
                      </a:lnTo>
                      <a:lnTo>
                        <a:pt x="550" y="856"/>
                      </a:lnTo>
                      <a:lnTo>
                        <a:pt x="552" y="836"/>
                      </a:lnTo>
                      <a:lnTo>
                        <a:pt x="536" y="844"/>
                      </a:lnTo>
                      <a:lnTo>
                        <a:pt x="522" y="853"/>
                      </a:lnTo>
                      <a:lnTo>
                        <a:pt x="510" y="864"/>
                      </a:lnTo>
                      <a:lnTo>
                        <a:pt x="498" y="876"/>
                      </a:lnTo>
                      <a:lnTo>
                        <a:pt x="487" y="889"/>
                      </a:lnTo>
                      <a:lnTo>
                        <a:pt x="477" y="903"/>
                      </a:lnTo>
                      <a:lnTo>
                        <a:pt x="465" y="917"/>
                      </a:lnTo>
                      <a:lnTo>
                        <a:pt x="453" y="931"/>
                      </a:lnTo>
                      <a:lnTo>
                        <a:pt x="439" y="946"/>
                      </a:lnTo>
                      <a:lnTo>
                        <a:pt x="424" y="963"/>
                      </a:lnTo>
                      <a:lnTo>
                        <a:pt x="409" y="979"/>
                      </a:lnTo>
                      <a:lnTo>
                        <a:pt x="392" y="994"/>
                      </a:lnTo>
                      <a:lnTo>
                        <a:pt x="374" y="1007"/>
                      </a:lnTo>
                      <a:lnTo>
                        <a:pt x="354" y="1017"/>
                      </a:lnTo>
                      <a:lnTo>
                        <a:pt x="332" y="1024"/>
                      </a:lnTo>
                      <a:lnTo>
                        <a:pt x="306" y="1026"/>
                      </a:lnTo>
                      <a:lnTo>
                        <a:pt x="302" y="1023"/>
                      </a:lnTo>
                      <a:lnTo>
                        <a:pt x="294" y="1018"/>
                      </a:lnTo>
                      <a:lnTo>
                        <a:pt x="287" y="1013"/>
                      </a:lnTo>
                      <a:lnTo>
                        <a:pt x="280" y="1008"/>
                      </a:lnTo>
                      <a:lnTo>
                        <a:pt x="272" y="1003"/>
                      </a:lnTo>
                      <a:lnTo>
                        <a:pt x="266" y="996"/>
                      </a:lnTo>
                      <a:lnTo>
                        <a:pt x="262" y="991"/>
                      </a:lnTo>
                      <a:lnTo>
                        <a:pt x="261" y="986"/>
                      </a:lnTo>
                      <a:lnTo>
                        <a:pt x="264" y="980"/>
                      </a:lnTo>
                      <a:lnTo>
                        <a:pt x="269" y="976"/>
                      </a:lnTo>
                      <a:lnTo>
                        <a:pt x="276" y="974"/>
                      </a:lnTo>
                      <a:lnTo>
                        <a:pt x="284" y="974"/>
                      </a:lnTo>
                      <a:lnTo>
                        <a:pt x="292" y="978"/>
                      </a:lnTo>
                      <a:lnTo>
                        <a:pt x="304" y="979"/>
                      </a:lnTo>
                      <a:lnTo>
                        <a:pt x="317" y="978"/>
                      </a:lnTo>
                      <a:lnTo>
                        <a:pt x="330" y="973"/>
                      </a:lnTo>
                      <a:lnTo>
                        <a:pt x="346" y="967"/>
                      </a:lnTo>
                      <a:lnTo>
                        <a:pt x="362" y="957"/>
                      </a:lnTo>
                      <a:lnTo>
                        <a:pt x="378" y="947"/>
                      </a:lnTo>
                      <a:lnTo>
                        <a:pt x="394" y="937"/>
                      </a:lnTo>
                      <a:lnTo>
                        <a:pt x="410" y="925"/>
                      </a:lnTo>
                      <a:lnTo>
                        <a:pt x="426" y="914"/>
                      </a:lnTo>
                      <a:lnTo>
                        <a:pt x="440" y="902"/>
                      </a:lnTo>
                      <a:lnTo>
                        <a:pt x="451" y="892"/>
                      </a:lnTo>
                      <a:lnTo>
                        <a:pt x="462" y="883"/>
                      </a:lnTo>
                      <a:lnTo>
                        <a:pt x="470" y="875"/>
                      </a:lnTo>
                      <a:lnTo>
                        <a:pt x="477" y="870"/>
                      </a:lnTo>
                      <a:lnTo>
                        <a:pt x="479" y="868"/>
                      </a:lnTo>
                      <a:lnTo>
                        <a:pt x="472" y="868"/>
                      </a:lnTo>
                      <a:lnTo>
                        <a:pt x="464" y="870"/>
                      </a:lnTo>
                      <a:lnTo>
                        <a:pt x="453" y="873"/>
                      </a:lnTo>
                      <a:lnTo>
                        <a:pt x="442" y="879"/>
                      </a:lnTo>
                      <a:lnTo>
                        <a:pt x="430" y="884"/>
                      </a:lnTo>
                      <a:lnTo>
                        <a:pt x="416" y="890"/>
                      </a:lnTo>
                      <a:lnTo>
                        <a:pt x="403" y="898"/>
                      </a:lnTo>
                      <a:lnTo>
                        <a:pt x="388" y="906"/>
                      </a:lnTo>
                      <a:lnTo>
                        <a:pt x="373" y="914"/>
                      </a:lnTo>
                      <a:lnTo>
                        <a:pt x="359" y="922"/>
                      </a:lnTo>
                      <a:lnTo>
                        <a:pt x="344" y="931"/>
                      </a:lnTo>
                      <a:lnTo>
                        <a:pt x="332" y="938"/>
                      </a:lnTo>
                      <a:lnTo>
                        <a:pt x="319" y="945"/>
                      </a:lnTo>
                      <a:lnTo>
                        <a:pt x="307" y="953"/>
                      </a:lnTo>
                      <a:lnTo>
                        <a:pt x="298" y="958"/>
                      </a:lnTo>
                      <a:lnTo>
                        <a:pt x="289" y="963"/>
                      </a:lnTo>
                      <a:lnTo>
                        <a:pt x="261" y="986"/>
                      </a:lnTo>
                      <a:lnTo>
                        <a:pt x="248" y="985"/>
                      </a:lnTo>
                      <a:lnTo>
                        <a:pt x="236" y="982"/>
                      </a:lnTo>
                      <a:lnTo>
                        <a:pt x="223" y="979"/>
                      </a:lnTo>
                      <a:lnTo>
                        <a:pt x="212" y="976"/>
                      </a:lnTo>
                      <a:lnTo>
                        <a:pt x="201" y="972"/>
                      </a:lnTo>
                      <a:lnTo>
                        <a:pt x="191" y="967"/>
                      </a:lnTo>
                      <a:lnTo>
                        <a:pt x="181" y="960"/>
                      </a:lnTo>
                      <a:lnTo>
                        <a:pt x="173" y="953"/>
                      </a:lnTo>
                      <a:lnTo>
                        <a:pt x="173" y="942"/>
                      </a:lnTo>
                      <a:lnTo>
                        <a:pt x="175" y="933"/>
                      </a:lnTo>
                      <a:lnTo>
                        <a:pt x="180" y="924"/>
                      </a:lnTo>
                      <a:lnTo>
                        <a:pt x="186" y="919"/>
                      </a:lnTo>
                      <a:lnTo>
                        <a:pt x="192" y="919"/>
                      </a:lnTo>
                      <a:lnTo>
                        <a:pt x="197" y="921"/>
                      </a:lnTo>
                      <a:lnTo>
                        <a:pt x="202" y="925"/>
                      </a:lnTo>
                      <a:lnTo>
                        <a:pt x="207" y="929"/>
                      </a:lnTo>
                      <a:lnTo>
                        <a:pt x="212" y="936"/>
                      </a:lnTo>
                      <a:lnTo>
                        <a:pt x="216" y="941"/>
                      </a:lnTo>
                      <a:lnTo>
                        <a:pt x="221" y="945"/>
                      </a:lnTo>
                      <a:lnTo>
                        <a:pt x="228" y="947"/>
                      </a:lnTo>
                      <a:lnTo>
                        <a:pt x="245" y="952"/>
                      </a:lnTo>
                      <a:lnTo>
                        <a:pt x="259" y="951"/>
                      </a:lnTo>
                      <a:lnTo>
                        <a:pt x="273" y="946"/>
                      </a:lnTo>
                      <a:lnTo>
                        <a:pt x="285" y="938"/>
                      </a:lnTo>
                      <a:lnTo>
                        <a:pt x="297" y="929"/>
                      </a:lnTo>
                      <a:lnTo>
                        <a:pt x="308" y="919"/>
                      </a:lnTo>
                      <a:lnTo>
                        <a:pt x="319" y="909"/>
                      </a:lnTo>
                      <a:lnTo>
                        <a:pt x="330" y="901"/>
                      </a:lnTo>
                      <a:lnTo>
                        <a:pt x="332" y="893"/>
                      </a:lnTo>
                      <a:lnTo>
                        <a:pt x="328" y="889"/>
                      </a:lnTo>
                      <a:lnTo>
                        <a:pt x="325" y="884"/>
                      </a:lnTo>
                      <a:lnTo>
                        <a:pt x="326" y="878"/>
                      </a:lnTo>
                      <a:lnTo>
                        <a:pt x="336" y="867"/>
                      </a:lnTo>
                      <a:lnTo>
                        <a:pt x="350" y="852"/>
                      </a:lnTo>
                      <a:lnTo>
                        <a:pt x="367" y="837"/>
                      </a:lnTo>
                      <a:lnTo>
                        <a:pt x="385" y="820"/>
                      </a:lnTo>
                      <a:lnTo>
                        <a:pt x="401" y="805"/>
                      </a:lnTo>
                      <a:lnTo>
                        <a:pt x="416" y="793"/>
                      </a:lnTo>
                      <a:lnTo>
                        <a:pt x="426" y="784"/>
                      </a:lnTo>
                      <a:lnTo>
                        <a:pt x="430" y="781"/>
                      </a:lnTo>
                      <a:lnTo>
                        <a:pt x="426" y="779"/>
                      </a:lnTo>
                      <a:lnTo>
                        <a:pt x="422" y="778"/>
                      </a:lnTo>
                      <a:lnTo>
                        <a:pt x="417" y="779"/>
                      </a:lnTo>
                      <a:lnTo>
                        <a:pt x="413" y="780"/>
                      </a:lnTo>
                      <a:lnTo>
                        <a:pt x="409" y="782"/>
                      </a:lnTo>
                      <a:lnTo>
                        <a:pt x="405" y="784"/>
                      </a:lnTo>
                      <a:lnTo>
                        <a:pt x="400" y="786"/>
                      </a:lnTo>
                      <a:lnTo>
                        <a:pt x="396" y="787"/>
                      </a:lnTo>
                      <a:lnTo>
                        <a:pt x="387" y="793"/>
                      </a:lnTo>
                      <a:lnTo>
                        <a:pt x="375" y="801"/>
                      </a:lnTo>
                      <a:lnTo>
                        <a:pt x="361" y="811"/>
                      </a:lnTo>
                      <a:lnTo>
                        <a:pt x="346" y="821"/>
                      </a:lnTo>
                      <a:lnTo>
                        <a:pt x="329" y="833"/>
                      </a:lnTo>
                      <a:lnTo>
                        <a:pt x="312" y="846"/>
                      </a:lnTo>
                      <a:lnTo>
                        <a:pt x="293" y="858"/>
                      </a:lnTo>
                      <a:lnTo>
                        <a:pt x="275" y="871"/>
                      </a:lnTo>
                      <a:lnTo>
                        <a:pt x="256" y="883"/>
                      </a:lnTo>
                      <a:lnTo>
                        <a:pt x="237" y="895"/>
                      </a:lnTo>
                      <a:lnTo>
                        <a:pt x="219" y="903"/>
                      </a:lnTo>
                      <a:lnTo>
                        <a:pt x="202" y="911"/>
                      </a:lnTo>
                      <a:lnTo>
                        <a:pt x="186" y="917"/>
                      </a:lnTo>
                      <a:lnTo>
                        <a:pt x="172" y="919"/>
                      </a:lnTo>
                      <a:lnTo>
                        <a:pt x="159" y="919"/>
                      </a:lnTo>
                      <a:lnTo>
                        <a:pt x="148" y="915"/>
                      </a:lnTo>
                      <a:lnTo>
                        <a:pt x="138" y="907"/>
                      </a:lnTo>
                      <a:lnTo>
                        <a:pt x="126" y="900"/>
                      </a:lnTo>
                      <a:lnTo>
                        <a:pt x="113" y="893"/>
                      </a:lnTo>
                      <a:lnTo>
                        <a:pt x="102" y="887"/>
                      </a:lnTo>
                      <a:lnTo>
                        <a:pt x="90" y="879"/>
                      </a:lnTo>
                      <a:lnTo>
                        <a:pt x="83" y="868"/>
                      </a:lnTo>
                      <a:lnTo>
                        <a:pt x="78" y="855"/>
                      </a:lnTo>
                      <a:lnTo>
                        <a:pt x="79" y="838"/>
                      </a:lnTo>
                      <a:lnTo>
                        <a:pt x="83" y="834"/>
                      </a:lnTo>
                      <a:lnTo>
                        <a:pt x="85" y="830"/>
                      </a:lnTo>
                      <a:lnTo>
                        <a:pt x="85" y="825"/>
                      </a:lnTo>
                      <a:lnTo>
                        <a:pt x="83" y="818"/>
                      </a:lnTo>
                      <a:lnTo>
                        <a:pt x="76" y="812"/>
                      </a:lnTo>
                      <a:lnTo>
                        <a:pt x="70" y="808"/>
                      </a:lnTo>
                      <a:lnTo>
                        <a:pt x="63" y="803"/>
                      </a:lnTo>
                      <a:lnTo>
                        <a:pt x="57" y="799"/>
                      </a:lnTo>
                      <a:lnTo>
                        <a:pt x="51" y="796"/>
                      </a:lnTo>
                      <a:lnTo>
                        <a:pt x="45" y="793"/>
                      </a:lnTo>
                      <a:lnTo>
                        <a:pt x="39" y="790"/>
                      </a:lnTo>
                      <a:lnTo>
                        <a:pt x="34" y="785"/>
                      </a:lnTo>
                      <a:lnTo>
                        <a:pt x="24" y="769"/>
                      </a:lnTo>
                      <a:lnTo>
                        <a:pt x="18" y="752"/>
                      </a:lnTo>
                      <a:lnTo>
                        <a:pt x="15" y="733"/>
                      </a:lnTo>
                      <a:lnTo>
                        <a:pt x="15" y="713"/>
                      </a:lnTo>
                      <a:lnTo>
                        <a:pt x="24" y="703"/>
                      </a:lnTo>
                      <a:lnTo>
                        <a:pt x="44" y="690"/>
                      </a:lnTo>
                      <a:lnTo>
                        <a:pt x="72" y="677"/>
                      </a:lnTo>
                      <a:lnTo>
                        <a:pt x="106" y="663"/>
                      </a:lnTo>
                      <a:lnTo>
                        <a:pt x="146" y="649"/>
                      </a:lnTo>
                      <a:lnTo>
                        <a:pt x="191" y="635"/>
                      </a:lnTo>
                      <a:lnTo>
                        <a:pt x="237" y="620"/>
                      </a:lnTo>
                      <a:lnTo>
                        <a:pt x="286" y="606"/>
                      </a:lnTo>
                      <a:lnTo>
                        <a:pt x="335" y="594"/>
                      </a:lnTo>
                      <a:lnTo>
                        <a:pt x="381" y="581"/>
                      </a:lnTo>
                      <a:lnTo>
                        <a:pt x="426" y="569"/>
                      </a:lnTo>
                      <a:lnTo>
                        <a:pt x="466" y="560"/>
                      </a:lnTo>
                      <a:lnTo>
                        <a:pt x="502" y="552"/>
                      </a:lnTo>
                      <a:lnTo>
                        <a:pt x="530" y="546"/>
                      </a:lnTo>
                      <a:lnTo>
                        <a:pt x="551" y="542"/>
                      </a:lnTo>
                      <a:lnTo>
                        <a:pt x="562" y="541"/>
                      </a:lnTo>
                      <a:lnTo>
                        <a:pt x="562" y="537"/>
                      </a:lnTo>
                      <a:lnTo>
                        <a:pt x="542" y="536"/>
                      </a:lnTo>
                      <a:lnTo>
                        <a:pt x="522" y="537"/>
                      </a:lnTo>
                      <a:lnTo>
                        <a:pt x="502" y="539"/>
                      </a:lnTo>
                      <a:lnTo>
                        <a:pt x="482" y="542"/>
                      </a:lnTo>
                      <a:lnTo>
                        <a:pt x="461" y="543"/>
                      </a:lnTo>
                      <a:lnTo>
                        <a:pt x="442" y="541"/>
                      </a:lnTo>
                      <a:lnTo>
                        <a:pt x="423" y="536"/>
                      </a:lnTo>
                      <a:lnTo>
                        <a:pt x="405" y="527"/>
                      </a:lnTo>
                      <a:lnTo>
                        <a:pt x="408" y="518"/>
                      </a:lnTo>
                      <a:lnTo>
                        <a:pt x="412" y="514"/>
                      </a:lnTo>
                      <a:lnTo>
                        <a:pt x="418" y="512"/>
                      </a:lnTo>
                      <a:lnTo>
                        <a:pt x="427" y="511"/>
                      </a:lnTo>
                      <a:lnTo>
                        <a:pt x="435" y="511"/>
                      </a:lnTo>
                      <a:lnTo>
                        <a:pt x="444" y="511"/>
                      </a:lnTo>
                      <a:lnTo>
                        <a:pt x="452" y="510"/>
                      </a:lnTo>
                      <a:lnTo>
                        <a:pt x="460" y="508"/>
                      </a:lnTo>
                      <a:lnTo>
                        <a:pt x="457" y="505"/>
                      </a:lnTo>
                      <a:lnTo>
                        <a:pt x="449" y="502"/>
                      </a:lnTo>
                      <a:lnTo>
                        <a:pt x="440" y="501"/>
                      </a:lnTo>
                      <a:lnTo>
                        <a:pt x="427" y="500"/>
                      </a:lnTo>
                      <a:lnTo>
                        <a:pt x="412" y="500"/>
                      </a:lnTo>
                      <a:lnTo>
                        <a:pt x="395" y="499"/>
                      </a:lnTo>
                      <a:lnTo>
                        <a:pt x="377" y="499"/>
                      </a:lnTo>
                      <a:lnTo>
                        <a:pt x="357" y="498"/>
                      </a:lnTo>
                      <a:lnTo>
                        <a:pt x="337" y="497"/>
                      </a:lnTo>
                      <a:lnTo>
                        <a:pt x="317" y="496"/>
                      </a:lnTo>
                      <a:lnTo>
                        <a:pt x="297" y="494"/>
                      </a:lnTo>
                      <a:lnTo>
                        <a:pt x="276" y="491"/>
                      </a:lnTo>
                      <a:lnTo>
                        <a:pt x="257" y="488"/>
                      </a:lnTo>
                      <a:lnTo>
                        <a:pt x="239" y="482"/>
                      </a:lnTo>
                      <a:lnTo>
                        <a:pt x="223" y="477"/>
                      </a:lnTo>
                      <a:lnTo>
                        <a:pt x="209" y="470"/>
                      </a:lnTo>
                      <a:lnTo>
                        <a:pt x="201" y="461"/>
                      </a:lnTo>
                      <a:lnTo>
                        <a:pt x="198" y="454"/>
                      </a:lnTo>
                      <a:lnTo>
                        <a:pt x="198" y="445"/>
                      </a:lnTo>
                      <a:lnTo>
                        <a:pt x="198" y="432"/>
                      </a:lnTo>
                      <a:lnTo>
                        <a:pt x="201" y="430"/>
                      </a:lnTo>
                      <a:lnTo>
                        <a:pt x="203" y="428"/>
                      </a:lnTo>
                      <a:lnTo>
                        <a:pt x="205" y="426"/>
                      </a:lnTo>
                      <a:lnTo>
                        <a:pt x="208" y="423"/>
                      </a:lnTo>
                      <a:lnTo>
                        <a:pt x="197" y="418"/>
                      </a:lnTo>
                      <a:lnTo>
                        <a:pt x="180" y="410"/>
                      </a:lnTo>
                      <a:lnTo>
                        <a:pt x="160" y="402"/>
                      </a:lnTo>
                      <a:lnTo>
                        <a:pt x="138" y="391"/>
                      </a:lnTo>
                      <a:lnTo>
                        <a:pt x="117" y="381"/>
                      </a:lnTo>
                      <a:lnTo>
                        <a:pt x="101" y="368"/>
                      </a:lnTo>
                      <a:lnTo>
                        <a:pt x="91" y="354"/>
                      </a:lnTo>
                      <a:lnTo>
                        <a:pt x="89" y="340"/>
                      </a:lnTo>
                      <a:lnTo>
                        <a:pt x="96" y="335"/>
                      </a:lnTo>
                      <a:lnTo>
                        <a:pt x="110" y="339"/>
                      </a:lnTo>
                      <a:lnTo>
                        <a:pt x="124" y="343"/>
                      </a:lnTo>
                      <a:lnTo>
                        <a:pt x="138" y="348"/>
                      </a:lnTo>
                      <a:lnTo>
                        <a:pt x="151" y="352"/>
                      </a:lnTo>
                      <a:lnTo>
                        <a:pt x="164" y="355"/>
                      </a:lnTo>
                      <a:lnTo>
                        <a:pt x="179" y="358"/>
                      </a:lnTo>
                      <a:lnTo>
                        <a:pt x="193" y="359"/>
                      </a:lnTo>
                      <a:lnTo>
                        <a:pt x="209" y="360"/>
                      </a:lnTo>
                      <a:lnTo>
                        <a:pt x="207" y="356"/>
                      </a:lnTo>
                      <a:lnTo>
                        <a:pt x="202" y="354"/>
                      </a:lnTo>
                      <a:lnTo>
                        <a:pt x="197" y="352"/>
                      </a:lnTo>
                      <a:lnTo>
                        <a:pt x="191" y="351"/>
                      </a:lnTo>
                      <a:lnTo>
                        <a:pt x="184" y="351"/>
                      </a:lnTo>
                      <a:lnTo>
                        <a:pt x="178" y="350"/>
                      </a:lnTo>
                      <a:lnTo>
                        <a:pt x="172" y="348"/>
                      </a:lnTo>
                      <a:lnTo>
                        <a:pt x="167" y="345"/>
                      </a:lnTo>
                      <a:lnTo>
                        <a:pt x="154" y="340"/>
                      </a:lnTo>
                      <a:lnTo>
                        <a:pt x="139" y="336"/>
                      </a:lnTo>
                      <a:lnTo>
                        <a:pt x="123" y="332"/>
                      </a:lnTo>
                      <a:lnTo>
                        <a:pt x="108" y="326"/>
                      </a:lnTo>
                      <a:lnTo>
                        <a:pt x="94" y="320"/>
                      </a:lnTo>
                      <a:lnTo>
                        <a:pt x="81" y="312"/>
                      </a:lnTo>
                      <a:lnTo>
                        <a:pt x="71" y="302"/>
                      </a:lnTo>
                      <a:lnTo>
                        <a:pt x="63" y="288"/>
                      </a:lnTo>
                      <a:lnTo>
                        <a:pt x="53" y="270"/>
                      </a:lnTo>
                      <a:lnTo>
                        <a:pt x="40" y="245"/>
                      </a:lnTo>
                      <a:lnTo>
                        <a:pt x="27" y="213"/>
                      </a:lnTo>
                      <a:lnTo>
                        <a:pt x="15" y="176"/>
                      </a:lnTo>
                      <a:lnTo>
                        <a:pt x="5" y="135"/>
                      </a:lnTo>
                      <a:lnTo>
                        <a:pt x="0" y="91"/>
                      </a:lnTo>
                      <a:lnTo>
                        <a:pt x="0" y="46"/>
                      </a:lnTo>
                      <a:lnTo>
                        <a:pt x="6" y="0"/>
                      </a:lnTo>
                      <a:lnTo>
                        <a:pt x="730" y="0"/>
                      </a:lnTo>
                      <a:lnTo>
                        <a:pt x="729" y="6"/>
                      </a:lnTo>
                      <a:lnTo>
                        <a:pt x="727" y="12"/>
                      </a:lnTo>
                      <a:lnTo>
                        <a:pt x="724" y="18"/>
                      </a:lnTo>
                      <a:lnTo>
                        <a:pt x="719" y="24"/>
                      </a:lnTo>
                      <a:lnTo>
                        <a:pt x="714" y="44"/>
                      </a:lnTo>
                      <a:lnTo>
                        <a:pt x="706" y="63"/>
                      </a:lnTo>
                      <a:lnTo>
                        <a:pt x="697" y="81"/>
                      </a:lnTo>
                      <a:lnTo>
                        <a:pt x="689" y="99"/>
                      </a:lnTo>
                      <a:lnTo>
                        <a:pt x="682" y="118"/>
                      </a:lnTo>
                      <a:lnTo>
                        <a:pt x="678" y="138"/>
                      </a:lnTo>
                      <a:lnTo>
                        <a:pt x="679" y="160"/>
                      </a:lnTo>
                      <a:lnTo>
                        <a:pt x="686" y="183"/>
                      </a:lnTo>
                      <a:lnTo>
                        <a:pt x="695" y="196"/>
                      </a:lnTo>
                      <a:lnTo>
                        <a:pt x="706" y="208"/>
                      </a:lnTo>
                      <a:lnTo>
                        <a:pt x="717" y="217"/>
                      </a:lnTo>
                      <a:lnTo>
                        <a:pt x="731" y="226"/>
                      </a:lnTo>
                      <a:lnTo>
                        <a:pt x="744" y="232"/>
                      </a:lnTo>
                      <a:lnTo>
                        <a:pt x="755" y="236"/>
                      </a:lnTo>
                      <a:lnTo>
                        <a:pt x="766" y="239"/>
                      </a:lnTo>
                      <a:lnTo>
                        <a:pt x="776" y="237"/>
                      </a:lnTo>
                      <a:lnTo>
                        <a:pt x="785" y="233"/>
                      </a:lnTo>
                      <a:lnTo>
                        <a:pt x="797" y="228"/>
                      </a:lnTo>
                      <a:lnTo>
                        <a:pt x="809" y="221"/>
                      </a:lnTo>
                      <a:lnTo>
                        <a:pt x="824" y="213"/>
                      </a:lnTo>
                      <a:lnTo>
                        <a:pt x="840" y="205"/>
                      </a:lnTo>
                      <a:lnTo>
                        <a:pt x="856" y="198"/>
                      </a:lnTo>
                      <a:lnTo>
                        <a:pt x="872" y="194"/>
                      </a:lnTo>
                      <a:lnTo>
                        <a:pt x="888" y="192"/>
                      </a:lnTo>
                      <a:lnTo>
                        <a:pt x="900" y="189"/>
                      </a:lnTo>
                      <a:lnTo>
                        <a:pt x="913" y="186"/>
                      </a:lnTo>
                      <a:lnTo>
                        <a:pt x="927" y="182"/>
                      </a:lnTo>
                      <a:lnTo>
                        <a:pt x="942" y="179"/>
                      </a:lnTo>
                      <a:lnTo>
                        <a:pt x="958" y="177"/>
                      </a:lnTo>
                      <a:lnTo>
                        <a:pt x="973" y="176"/>
                      </a:lnTo>
                      <a:lnTo>
                        <a:pt x="988" y="176"/>
                      </a:lnTo>
                      <a:lnTo>
                        <a:pt x="1001" y="178"/>
                      </a:lnTo>
                      <a:lnTo>
                        <a:pt x="1003" y="187"/>
                      </a:lnTo>
                      <a:lnTo>
                        <a:pt x="1000" y="193"/>
                      </a:lnTo>
                      <a:lnTo>
                        <a:pt x="994" y="199"/>
                      </a:lnTo>
                      <a:lnTo>
                        <a:pt x="986" y="206"/>
                      </a:lnTo>
                      <a:lnTo>
                        <a:pt x="980" y="213"/>
                      </a:lnTo>
                      <a:lnTo>
                        <a:pt x="975" y="222"/>
                      </a:lnTo>
                      <a:lnTo>
                        <a:pt x="974" y="231"/>
                      </a:lnTo>
                      <a:lnTo>
                        <a:pt x="978" y="244"/>
                      </a:lnTo>
                      <a:lnTo>
                        <a:pt x="983" y="249"/>
                      </a:lnTo>
                      <a:lnTo>
                        <a:pt x="991" y="252"/>
                      </a:lnTo>
                      <a:lnTo>
                        <a:pt x="998" y="252"/>
                      </a:lnTo>
                      <a:lnTo>
                        <a:pt x="1006" y="249"/>
                      </a:lnTo>
                      <a:lnTo>
                        <a:pt x="1011" y="241"/>
                      </a:lnTo>
                      <a:lnTo>
                        <a:pt x="1016" y="235"/>
                      </a:lnTo>
                      <a:lnTo>
                        <a:pt x="1024" y="232"/>
                      </a:lnTo>
                      <a:lnTo>
                        <a:pt x="1030" y="230"/>
                      </a:lnTo>
                      <a:lnTo>
                        <a:pt x="1031" y="243"/>
                      </a:lnTo>
                      <a:lnTo>
                        <a:pt x="1035" y="253"/>
                      </a:lnTo>
                      <a:lnTo>
                        <a:pt x="1043" y="263"/>
                      </a:lnTo>
                      <a:lnTo>
                        <a:pt x="1052" y="268"/>
                      </a:lnTo>
                      <a:lnTo>
                        <a:pt x="1057" y="270"/>
                      </a:lnTo>
                      <a:lnTo>
                        <a:pt x="1062" y="270"/>
                      </a:lnTo>
                      <a:lnTo>
                        <a:pt x="1067" y="270"/>
                      </a:lnTo>
                      <a:lnTo>
                        <a:pt x="1071" y="269"/>
                      </a:lnTo>
                      <a:lnTo>
                        <a:pt x="1075" y="268"/>
                      </a:lnTo>
                      <a:lnTo>
                        <a:pt x="1080" y="269"/>
                      </a:lnTo>
                      <a:lnTo>
                        <a:pt x="1083" y="271"/>
                      </a:lnTo>
                      <a:lnTo>
                        <a:pt x="1085" y="277"/>
                      </a:lnTo>
                      <a:lnTo>
                        <a:pt x="1081" y="284"/>
                      </a:lnTo>
                      <a:lnTo>
                        <a:pt x="1075" y="288"/>
                      </a:lnTo>
                      <a:lnTo>
                        <a:pt x="1069" y="293"/>
                      </a:lnTo>
                      <a:lnTo>
                        <a:pt x="1062" y="295"/>
                      </a:lnTo>
                      <a:lnTo>
                        <a:pt x="1054" y="296"/>
                      </a:lnTo>
                      <a:lnTo>
                        <a:pt x="1047" y="296"/>
                      </a:lnTo>
                      <a:lnTo>
                        <a:pt x="1039" y="295"/>
                      </a:lnTo>
                      <a:lnTo>
                        <a:pt x="1033" y="294"/>
                      </a:lnTo>
                      <a:lnTo>
                        <a:pt x="1026" y="292"/>
                      </a:lnTo>
                      <a:lnTo>
                        <a:pt x="1019" y="288"/>
                      </a:lnTo>
                      <a:lnTo>
                        <a:pt x="1013" y="284"/>
                      </a:lnTo>
                      <a:lnTo>
                        <a:pt x="1007" y="279"/>
                      </a:lnTo>
                      <a:lnTo>
                        <a:pt x="1008" y="275"/>
                      </a:lnTo>
                      <a:lnTo>
                        <a:pt x="1007" y="271"/>
                      </a:lnTo>
                      <a:lnTo>
                        <a:pt x="1003" y="270"/>
                      </a:lnTo>
                      <a:lnTo>
                        <a:pt x="1001" y="268"/>
                      </a:lnTo>
                      <a:lnTo>
                        <a:pt x="994" y="269"/>
                      </a:lnTo>
                      <a:lnTo>
                        <a:pt x="986" y="272"/>
                      </a:lnTo>
                      <a:lnTo>
                        <a:pt x="981" y="279"/>
                      </a:lnTo>
                      <a:lnTo>
                        <a:pt x="979" y="286"/>
                      </a:lnTo>
                      <a:lnTo>
                        <a:pt x="980" y="297"/>
                      </a:lnTo>
                      <a:lnTo>
                        <a:pt x="983" y="306"/>
                      </a:lnTo>
                      <a:lnTo>
                        <a:pt x="989" y="314"/>
                      </a:lnTo>
                      <a:lnTo>
                        <a:pt x="998" y="318"/>
                      </a:lnTo>
                      <a:lnTo>
                        <a:pt x="1003" y="317"/>
                      </a:lnTo>
                      <a:lnTo>
                        <a:pt x="1008" y="315"/>
                      </a:lnTo>
                      <a:lnTo>
                        <a:pt x="1012" y="312"/>
                      </a:lnTo>
                      <a:lnTo>
                        <a:pt x="1015" y="308"/>
                      </a:lnTo>
                      <a:lnTo>
                        <a:pt x="1018" y="306"/>
                      </a:lnTo>
                      <a:lnTo>
                        <a:pt x="1021" y="304"/>
                      </a:lnTo>
                      <a:lnTo>
                        <a:pt x="1025" y="304"/>
                      </a:lnTo>
                      <a:lnTo>
                        <a:pt x="1030" y="307"/>
                      </a:lnTo>
                      <a:lnTo>
                        <a:pt x="1027" y="316"/>
                      </a:lnTo>
                      <a:lnTo>
                        <a:pt x="1028" y="324"/>
                      </a:lnTo>
                      <a:lnTo>
                        <a:pt x="1032" y="332"/>
                      </a:lnTo>
                      <a:lnTo>
                        <a:pt x="1035" y="341"/>
                      </a:lnTo>
                      <a:lnTo>
                        <a:pt x="1041" y="346"/>
                      </a:lnTo>
                      <a:lnTo>
                        <a:pt x="1047" y="349"/>
                      </a:lnTo>
                      <a:lnTo>
                        <a:pt x="1053" y="351"/>
                      </a:lnTo>
                      <a:lnTo>
                        <a:pt x="1061" y="354"/>
                      </a:lnTo>
                      <a:lnTo>
                        <a:pt x="1066" y="356"/>
                      </a:lnTo>
                      <a:lnTo>
                        <a:pt x="1071" y="360"/>
                      </a:lnTo>
                      <a:lnTo>
                        <a:pt x="1074" y="366"/>
                      </a:lnTo>
                      <a:lnTo>
                        <a:pt x="1075" y="373"/>
                      </a:lnTo>
                      <a:lnTo>
                        <a:pt x="1061" y="378"/>
                      </a:lnTo>
                      <a:lnTo>
                        <a:pt x="1064" y="388"/>
                      </a:lnTo>
                      <a:lnTo>
                        <a:pt x="1070" y="395"/>
                      </a:lnTo>
                      <a:lnTo>
                        <a:pt x="1079" y="401"/>
                      </a:lnTo>
                      <a:lnTo>
                        <a:pt x="1088" y="405"/>
                      </a:lnTo>
                      <a:lnTo>
                        <a:pt x="1098" y="408"/>
                      </a:lnTo>
                      <a:lnTo>
                        <a:pt x="1106" y="411"/>
                      </a:lnTo>
                      <a:lnTo>
                        <a:pt x="1115" y="414"/>
                      </a:lnTo>
                      <a:lnTo>
                        <a:pt x="1121" y="419"/>
                      </a:lnTo>
                      <a:lnTo>
                        <a:pt x="1117" y="423"/>
                      </a:lnTo>
                      <a:lnTo>
                        <a:pt x="1112" y="425"/>
                      </a:lnTo>
                      <a:lnTo>
                        <a:pt x="1105" y="427"/>
                      </a:lnTo>
                      <a:lnTo>
                        <a:pt x="1099" y="428"/>
                      </a:lnTo>
                      <a:lnTo>
                        <a:pt x="1092" y="428"/>
                      </a:lnTo>
                      <a:lnTo>
                        <a:pt x="1085" y="428"/>
                      </a:lnTo>
                      <a:lnTo>
                        <a:pt x="1078" y="428"/>
                      </a:lnTo>
                      <a:lnTo>
                        <a:pt x="1071" y="427"/>
                      </a:lnTo>
                      <a:lnTo>
                        <a:pt x="1066" y="425"/>
                      </a:lnTo>
                      <a:lnTo>
                        <a:pt x="1060" y="423"/>
                      </a:lnTo>
                      <a:lnTo>
                        <a:pt x="1053" y="422"/>
                      </a:lnTo>
                      <a:lnTo>
                        <a:pt x="1048" y="425"/>
                      </a:lnTo>
                      <a:lnTo>
                        <a:pt x="1046" y="432"/>
                      </a:lnTo>
                      <a:lnTo>
                        <a:pt x="1045" y="440"/>
                      </a:lnTo>
                      <a:lnTo>
                        <a:pt x="1046" y="447"/>
                      </a:lnTo>
                      <a:lnTo>
                        <a:pt x="1051" y="453"/>
                      </a:lnTo>
                      <a:lnTo>
                        <a:pt x="1056" y="457"/>
                      </a:lnTo>
                      <a:lnTo>
                        <a:pt x="1062" y="461"/>
                      </a:lnTo>
                      <a:lnTo>
                        <a:pt x="1068" y="463"/>
                      </a:lnTo>
                      <a:lnTo>
                        <a:pt x="1075" y="465"/>
                      </a:lnTo>
                      <a:lnTo>
                        <a:pt x="1083" y="466"/>
                      </a:lnTo>
                      <a:lnTo>
                        <a:pt x="1090" y="466"/>
                      </a:lnTo>
                      <a:lnTo>
                        <a:pt x="1097" y="465"/>
                      </a:lnTo>
                      <a:lnTo>
                        <a:pt x="1104" y="463"/>
                      </a:lnTo>
                      <a:lnTo>
                        <a:pt x="1118" y="446"/>
                      </a:lnTo>
                      <a:lnTo>
                        <a:pt x="1133" y="431"/>
                      </a:lnTo>
                      <a:lnTo>
                        <a:pt x="1149" y="418"/>
                      </a:lnTo>
                      <a:lnTo>
                        <a:pt x="1166" y="407"/>
                      </a:lnTo>
                      <a:lnTo>
                        <a:pt x="1185" y="397"/>
                      </a:lnTo>
                      <a:lnTo>
                        <a:pt x="1204" y="389"/>
                      </a:lnTo>
                      <a:lnTo>
                        <a:pt x="1225" y="382"/>
                      </a:lnTo>
                      <a:lnTo>
                        <a:pt x="1246" y="376"/>
                      </a:lnTo>
                      <a:lnTo>
                        <a:pt x="1259" y="373"/>
                      </a:lnTo>
                      <a:lnTo>
                        <a:pt x="1272" y="371"/>
                      </a:lnTo>
                      <a:lnTo>
                        <a:pt x="1284" y="370"/>
                      </a:lnTo>
                      <a:lnTo>
                        <a:pt x="1297" y="370"/>
                      </a:lnTo>
                      <a:lnTo>
                        <a:pt x="1310" y="370"/>
                      </a:lnTo>
                      <a:lnTo>
                        <a:pt x="1322" y="371"/>
                      </a:lnTo>
                      <a:lnTo>
                        <a:pt x="1334" y="373"/>
                      </a:lnTo>
                      <a:lnTo>
                        <a:pt x="1347" y="375"/>
                      </a:lnTo>
                      <a:lnTo>
                        <a:pt x="1359" y="378"/>
                      </a:lnTo>
                      <a:lnTo>
                        <a:pt x="1371" y="382"/>
                      </a:lnTo>
                      <a:lnTo>
                        <a:pt x="1384" y="385"/>
                      </a:lnTo>
                      <a:lnTo>
                        <a:pt x="1396" y="388"/>
                      </a:lnTo>
                      <a:lnTo>
                        <a:pt x="1407" y="391"/>
                      </a:lnTo>
                      <a:lnTo>
                        <a:pt x="1419" y="394"/>
                      </a:lnTo>
                      <a:lnTo>
                        <a:pt x="1430" y="397"/>
                      </a:lnTo>
                      <a:lnTo>
                        <a:pt x="1442" y="401"/>
                      </a:lnTo>
                      <a:lnTo>
                        <a:pt x="1436" y="393"/>
                      </a:lnTo>
                      <a:lnTo>
                        <a:pt x="1429" y="388"/>
                      </a:lnTo>
                      <a:lnTo>
                        <a:pt x="1421" y="385"/>
                      </a:lnTo>
                      <a:lnTo>
                        <a:pt x="1412" y="382"/>
                      </a:lnTo>
                      <a:lnTo>
                        <a:pt x="1404" y="379"/>
                      </a:lnTo>
                      <a:lnTo>
                        <a:pt x="1394" y="377"/>
                      </a:lnTo>
                      <a:lnTo>
                        <a:pt x="1386" y="375"/>
                      </a:lnTo>
                      <a:lnTo>
                        <a:pt x="1378" y="373"/>
                      </a:lnTo>
                      <a:lnTo>
                        <a:pt x="1378" y="366"/>
                      </a:lnTo>
                      <a:lnTo>
                        <a:pt x="1392" y="357"/>
                      </a:lnTo>
                      <a:lnTo>
                        <a:pt x="1408" y="351"/>
                      </a:lnTo>
                      <a:lnTo>
                        <a:pt x="1426" y="347"/>
                      </a:lnTo>
                      <a:lnTo>
                        <a:pt x="1444" y="345"/>
                      </a:lnTo>
                      <a:lnTo>
                        <a:pt x="1463" y="343"/>
                      </a:lnTo>
                      <a:lnTo>
                        <a:pt x="1482" y="343"/>
                      </a:lnTo>
                      <a:lnTo>
                        <a:pt x="1500" y="346"/>
                      </a:lnTo>
                      <a:lnTo>
                        <a:pt x="1517" y="349"/>
                      </a:lnTo>
                      <a:lnTo>
                        <a:pt x="1524" y="348"/>
                      </a:lnTo>
                      <a:lnTo>
                        <a:pt x="1529" y="347"/>
                      </a:lnTo>
                      <a:lnTo>
                        <a:pt x="1534" y="347"/>
                      </a:lnTo>
                      <a:lnTo>
                        <a:pt x="1540" y="347"/>
                      </a:lnTo>
                      <a:lnTo>
                        <a:pt x="1545" y="348"/>
                      </a:lnTo>
                      <a:lnTo>
                        <a:pt x="1550" y="350"/>
                      </a:lnTo>
                      <a:lnTo>
                        <a:pt x="1554" y="352"/>
                      </a:lnTo>
                      <a:lnTo>
                        <a:pt x="1559" y="356"/>
                      </a:lnTo>
                      <a:lnTo>
                        <a:pt x="1558" y="346"/>
                      </a:lnTo>
                      <a:lnTo>
                        <a:pt x="1551" y="337"/>
                      </a:lnTo>
                      <a:lnTo>
                        <a:pt x="1543" y="331"/>
                      </a:lnTo>
                      <a:lnTo>
                        <a:pt x="1533" y="325"/>
                      </a:lnTo>
                      <a:lnTo>
                        <a:pt x="1523" y="321"/>
                      </a:lnTo>
                      <a:lnTo>
                        <a:pt x="1512" y="317"/>
                      </a:lnTo>
                      <a:lnTo>
                        <a:pt x="1501" y="314"/>
                      </a:lnTo>
                      <a:lnTo>
                        <a:pt x="1490" y="311"/>
                      </a:lnTo>
                      <a:lnTo>
                        <a:pt x="1479" y="308"/>
                      </a:lnTo>
                      <a:lnTo>
                        <a:pt x="1469" y="307"/>
                      </a:lnTo>
                      <a:lnTo>
                        <a:pt x="1457" y="307"/>
                      </a:lnTo>
                      <a:lnTo>
                        <a:pt x="1446" y="308"/>
                      </a:lnTo>
                      <a:lnTo>
                        <a:pt x="1443" y="315"/>
                      </a:lnTo>
                      <a:lnTo>
                        <a:pt x="1439" y="321"/>
                      </a:lnTo>
                      <a:lnTo>
                        <a:pt x="1434" y="326"/>
                      </a:lnTo>
                      <a:lnTo>
                        <a:pt x="1425" y="329"/>
                      </a:lnTo>
                      <a:lnTo>
                        <a:pt x="1420" y="330"/>
                      </a:lnTo>
                      <a:lnTo>
                        <a:pt x="1414" y="330"/>
                      </a:lnTo>
                      <a:lnTo>
                        <a:pt x="1408" y="329"/>
                      </a:lnTo>
                      <a:lnTo>
                        <a:pt x="1404" y="328"/>
                      </a:lnTo>
                      <a:lnTo>
                        <a:pt x="1400" y="325"/>
                      </a:lnTo>
                      <a:lnTo>
                        <a:pt x="1396" y="322"/>
                      </a:lnTo>
                      <a:lnTo>
                        <a:pt x="1391" y="319"/>
                      </a:lnTo>
                      <a:lnTo>
                        <a:pt x="1388" y="316"/>
                      </a:lnTo>
                      <a:lnTo>
                        <a:pt x="1388" y="307"/>
                      </a:lnTo>
                      <a:lnTo>
                        <a:pt x="1386" y="301"/>
                      </a:lnTo>
                      <a:lnTo>
                        <a:pt x="1382" y="295"/>
                      </a:lnTo>
                      <a:lnTo>
                        <a:pt x="1376" y="290"/>
                      </a:lnTo>
                      <a:lnTo>
                        <a:pt x="1371" y="289"/>
                      </a:lnTo>
                      <a:lnTo>
                        <a:pt x="1367" y="289"/>
                      </a:lnTo>
                      <a:lnTo>
                        <a:pt x="1362" y="288"/>
                      </a:lnTo>
                      <a:lnTo>
                        <a:pt x="1357" y="287"/>
                      </a:lnTo>
                      <a:lnTo>
                        <a:pt x="1353" y="285"/>
                      </a:lnTo>
                      <a:lnTo>
                        <a:pt x="1349" y="283"/>
                      </a:lnTo>
                      <a:lnTo>
                        <a:pt x="1346" y="281"/>
                      </a:lnTo>
                      <a:lnTo>
                        <a:pt x="1344" y="277"/>
                      </a:lnTo>
                      <a:lnTo>
                        <a:pt x="1344" y="266"/>
                      </a:lnTo>
                      <a:lnTo>
                        <a:pt x="1362" y="266"/>
                      </a:lnTo>
                      <a:lnTo>
                        <a:pt x="1372" y="270"/>
                      </a:lnTo>
                      <a:lnTo>
                        <a:pt x="1385" y="275"/>
                      </a:lnTo>
                      <a:lnTo>
                        <a:pt x="1397" y="278"/>
                      </a:lnTo>
                      <a:lnTo>
                        <a:pt x="1409" y="281"/>
                      </a:lnTo>
                      <a:lnTo>
                        <a:pt x="1422" y="283"/>
                      </a:lnTo>
                      <a:lnTo>
                        <a:pt x="1435" y="285"/>
                      </a:lnTo>
                      <a:lnTo>
                        <a:pt x="1447" y="286"/>
                      </a:lnTo>
                      <a:lnTo>
                        <a:pt x="1459" y="288"/>
                      </a:lnTo>
                      <a:lnTo>
                        <a:pt x="1461" y="287"/>
                      </a:lnTo>
                      <a:lnTo>
                        <a:pt x="1463" y="285"/>
                      </a:lnTo>
                      <a:lnTo>
                        <a:pt x="1465" y="283"/>
                      </a:lnTo>
                      <a:lnTo>
                        <a:pt x="1467" y="280"/>
                      </a:lnTo>
                      <a:lnTo>
                        <a:pt x="1458" y="270"/>
                      </a:lnTo>
                      <a:lnTo>
                        <a:pt x="1443" y="262"/>
                      </a:lnTo>
                      <a:lnTo>
                        <a:pt x="1423" y="252"/>
                      </a:lnTo>
                      <a:lnTo>
                        <a:pt x="1400" y="244"/>
                      </a:lnTo>
                      <a:lnTo>
                        <a:pt x="1373" y="235"/>
                      </a:lnTo>
                      <a:lnTo>
                        <a:pt x="1344" y="228"/>
                      </a:lnTo>
                      <a:lnTo>
                        <a:pt x="1313" y="219"/>
                      </a:lnTo>
                      <a:lnTo>
                        <a:pt x="1282" y="213"/>
                      </a:lnTo>
                      <a:lnTo>
                        <a:pt x="1251" y="207"/>
                      </a:lnTo>
                      <a:lnTo>
                        <a:pt x="1223" y="200"/>
                      </a:lnTo>
                      <a:lnTo>
                        <a:pt x="1195" y="196"/>
                      </a:lnTo>
                      <a:lnTo>
                        <a:pt x="1171" y="192"/>
                      </a:lnTo>
                      <a:lnTo>
                        <a:pt x="1151" y="188"/>
                      </a:lnTo>
                      <a:lnTo>
                        <a:pt x="1135" y="186"/>
                      </a:lnTo>
                      <a:lnTo>
                        <a:pt x="1124" y="184"/>
                      </a:lnTo>
                      <a:lnTo>
                        <a:pt x="1121" y="183"/>
                      </a:lnTo>
                      <a:lnTo>
                        <a:pt x="1113" y="186"/>
                      </a:lnTo>
                      <a:lnTo>
                        <a:pt x="1103" y="188"/>
                      </a:lnTo>
                      <a:lnTo>
                        <a:pt x="1093" y="189"/>
                      </a:lnTo>
                      <a:lnTo>
                        <a:pt x="1084" y="191"/>
                      </a:lnTo>
                      <a:lnTo>
                        <a:pt x="1074" y="193"/>
                      </a:lnTo>
                      <a:lnTo>
                        <a:pt x="1067" y="198"/>
                      </a:lnTo>
                      <a:lnTo>
                        <a:pt x="1062" y="205"/>
                      </a:lnTo>
                      <a:lnTo>
                        <a:pt x="1059" y="214"/>
                      </a:lnTo>
                      <a:lnTo>
                        <a:pt x="1059" y="239"/>
                      </a:lnTo>
                      <a:lnTo>
                        <a:pt x="1050" y="236"/>
                      </a:lnTo>
                      <a:lnTo>
                        <a:pt x="1042" y="233"/>
                      </a:lnTo>
                      <a:lnTo>
                        <a:pt x="1035" y="229"/>
                      </a:lnTo>
                      <a:lnTo>
                        <a:pt x="1032" y="219"/>
                      </a:lnTo>
                      <a:lnTo>
                        <a:pt x="1035" y="209"/>
                      </a:lnTo>
                      <a:lnTo>
                        <a:pt x="1041" y="198"/>
                      </a:lnTo>
                      <a:lnTo>
                        <a:pt x="1047" y="189"/>
                      </a:lnTo>
                      <a:lnTo>
                        <a:pt x="1055" y="181"/>
                      </a:lnTo>
                      <a:lnTo>
                        <a:pt x="1045" y="174"/>
                      </a:lnTo>
                      <a:lnTo>
                        <a:pt x="1034" y="170"/>
                      </a:lnTo>
                      <a:lnTo>
                        <a:pt x="1021" y="169"/>
                      </a:lnTo>
                      <a:lnTo>
                        <a:pt x="1009" y="169"/>
                      </a:lnTo>
                      <a:lnTo>
                        <a:pt x="996" y="170"/>
                      </a:lnTo>
                      <a:lnTo>
                        <a:pt x="982" y="171"/>
                      </a:lnTo>
                      <a:lnTo>
                        <a:pt x="968" y="171"/>
                      </a:lnTo>
                      <a:lnTo>
                        <a:pt x="955" y="169"/>
                      </a:lnTo>
                      <a:lnTo>
                        <a:pt x="947" y="169"/>
                      </a:lnTo>
                      <a:lnTo>
                        <a:pt x="940" y="170"/>
                      </a:lnTo>
                      <a:lnTo>
                        <a:pt x="933" y="172"/>
                      </a:lnTo>
                      <a:lnTo>
                        <a:pt x="927" y="174"/>
                      </a:lnTo>
                      <a:lnTo>
                        <a:pt x="921" y="176"/>
                      </a:lnTo>
                      <a:lnTo>
                        <a:pt x="915" y="176"/>
                      </a:lnTo>
                      <a:lnTo>
                        <a:pt x="910" y="174"/>
                      </a:lnTo>
                      <a:lnTo>
                        <a:pt x="905" y="170"/>
                      </a:lnTo>
                      <a:lnTo>
                        <a:pt x="905" y="155"/>
                      </a:lnTo>
                      <a:lnTo>
                        <a:pt x="904" y="141"/>
                      </a:lnTo>
                      <a:lnTo>
                        <a:pt x="906" y="129"/>
                      </a:lnTo>
                      <a:lnTo>
                        <a:pt x="920" y="122"/>
                      </a:lnTo>
                      <a:lnTo>
                        <a:pt x="925" y="124"/>
                      </a:lnTo>
                      <a:lnTo>
                        <a:pt x="933" y="125"/>
                      </a:lnTo>
                      <a:lnTo>
                        <a:pt x="945" y="125"/>
                      </a:lnTo>
                      <a:lnTo>
                        <a:pt x="957" y="126"/>
                      </a:lnTo>
                      <a:lnTo>
                        <a:pt x="970" y="126"/>
                      </a:lnTo>
                      <a:lnTo>
                        <a:pt x="981" y="126"/>
                      </a:lnTo>
                      <a:lnTo>
                        <a:pt x="991" y="127"/>
                      </a:lnTo>
                      <a:lnTo>
                        <a:pt x="997" y="128"/>
                      </a:lnTo>
                      <a:lnTo>
                        <a:pt x="989" y="122"/>
                      </a:lnTo>
                      <a:lnTo>
                        <a:pt x="980" y="118"/>
                      </a:lnTo>
                      <a:lnTo>
                        <a:pt x="973" y="111"/>
                      </a:lnTo>
                      <a:lnTo>
                        <a:pt x="968" y="103"/>
                      </a:lnTo>
                      <a:lnTo>
                        <a:pt x="975" y="93"/>
                      </a:lnTo>
                      <a:lnTo>
                        <a:pt x="980" y="81"/>
                      </a:lnTo>
                      <a:lnTo>
                        <a:pt x="984" y="69"/>
                      </a:lnTo>
                      <a:lnTo>
                        <a:pt x="988" y="56"/>
                      </a:lnTo>
                      <a:lnTo>
                        <a:pt x="991" y="53"/>
                      </a:lnTo>
                      <a:lnTo>
                        <a:pt x="995" y="49"/>
                      </a:lnTo>
                      <a:lnTo>
                        <a:pt x="1000" y="48"/>
                      </a:lnTo>
                      <a:lnTo>
                        <a:pt x="1006" y="49"/>
                      </a:lnTo>
                      <a:lnTo>
                        <a:pt x="1010" y="56"/>
                      </a:lnTo>
                      <a:lnTo>
                        <a:pt x="1013" y="64"/>
                      </a:lnTo>
                      <a:lnTo>
                        <a:pt x="1016" y="71"/>
                      </a:lnTo>
                      <a:lnTo>
                        <a:pt x="1019" y="79"/>
                      </a:lnTo>
                      <a:lnTo>
                        <a:pt x="1024" y="86"/>
                      </a:lnTo>
                      <a:lnTo>
                        <a:pt x="1028" y="92"/>
                      </a:lnTo>
                      <a:lnTo>
                        <a:pt x="1033" y="99"/>
                      </a:lnTo>
                      <a:lnTo>
                        <a:pt x="1039" y="104"/>
                      </a:lnTo>
                      <a:lnTo>
                        <a:pt x="1036" y="90"/>
                      </a:lnTo>
                      <a:lnTo>
                        <a:pt x="1031" y="77"/>
                      </a:lnTo>
                      <a:lnTo>
                        <a:pt x="1024" y="65"/>
                      </a:lnTo>
                      <a:lnTo>
                        <a:pt x="1016" y="52"/>
                      </a:lnTo>
                      <a:lnTo>
                        <a:pt x="1010" y="39"/>
                      </a:lnTo>
                      <a:lnTo>
                        <a:pt x="1004" y="27"/>
                      </a:lnTo>
                      <a:lnTo>
                        <a:pt x="1001" y="14"/>
                      </a:lnTo>
                      <a:lnTo>
                        <a:pt x="1002" y="0"/>
                      </a:lnTo>
                      <a:lnTo>
                        <a:pt x="1428"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25440" y="747720"/>
                  <a:ext cx="585720" cy="841320"/>
                </a:xfrm>
                <a:custGeom>
                  <a:avLst/>
                  <a:gdLst/>
                  <a:ahLst/>
                  <a:rect l="l" t="t" r="r" b="b"/>
                  <a:pathLst>
                    <a:path w="738" h="1059">
                      <a:moveTo>
                        <a:pt x="14" y="1059"/>
                      </a:moveTo>
                      <a:lnTo>
                        <a:pt x="10" y="1037"/>
                      </a:lnTo>
                      <a:lnTo>
                        <a:pt x="10" y="1011"/>
                      </a:lnTo>
                      <a:lnTo>
                        <a:pt x="14" y="989"/>
                      </a:lnTo>
                      <a:lnTo>
                        <a:pt x="23" y="975"/>
                      </a:lnTo>
                      <a:lnTo>
                        <a:pt x="28" y="973"/>
                      </a:lnTo>
                      <a:lnTo>
                        <a:pt x="33" y="974"/>
                      </a:lnTo>
                      <a:lnTo>
                        <a:pt x="38" y="977"/>
                      </a:lnTo>
                      <a:lnTo>
                        <a:pt x="42" y="982"/>
                      </a:lnTo>
                      <a:lnTo>
                        <a:pt x="46" y="987"/>
                      </a:lnTo>
                      <a:lnTo>
                        <a:pt x="50" y="992"/>
                      </a:lnTo>
                      <a:lnTo>
                        <a:pt x="54" y="998"/>
                      </a:lnTo>
                      <a:lnTo>
                        <a:pt x="59" y="1002"/>
                      </a:lnTo>
                      <a:lnTo>
                        <a:pt x="91" y="1026"/>
                      </a:lnTo>
                      <a:lnTo>
                        <a:pt x="96" y="1021"/>
                      </a:lnTo>
                      <a:lnTo>
                        <a:pt x="82" y="1008"/>
                      </a:lnTo>
                      <a:lnTo>
                        <a:pt x="69" y="993"/>
                      </a:lnTo>
                      <a:lnTo>
                        <a:pt x="58" y="979"/>
                      </a:lnTo>
                      <a:lnTo>
                        <a:pt x="47" y="962"/>
                      </a:lnTo>
                      <a:lnTo>
                        <a:pt x="40" y="944"/>
                      </a:lnTo>
                      <a:lnTo>
                        <a:pt x="34" y="926"/>
                      </a:lnTo>
                      <a:lnTo>
                        <a:pt x="33" y="905"/>
                      </a:lnTo>
                      <a:lnTo>
                        <a:pt x="35" y="885"/>
                      </a:lnTo>
                      <a:lnTo>
                        <a:pt x="39" y="874"/>
                      </a:lnTo>
                      <a:lnTo>
                        <a:pt x="44" y="867"/>
                      </a:lnTo>
                      <a:lnTo>
                        <a:pt x="50" y="867"/>
                      </a:lnTo>
                      <a:lnTo>
                        <a:pt x="60" y="873"/>
                      </a:lnTo>
                      <a:lnTo>
                        <a:pt x="66" y="884"/>
                      </a:lnTo>
                      <a:lnTo>
                        <a:pt x="74" y="894"/>
                      </a:lnTo>
                      <a:lnTo>
                        <a:pt x="81" y="903"/>
                      </a:lnTo>
                      <a:lnTo>
                        <a:pt x="89" y="912"/>
                      </a:lnTo>
                      <a:lnTo>
                        <a:pt x="97" y="920"/>
                      </a:lnTo>
                      <a:lnTo>
                        <a:pt x="106" y="928"/>
                      </a:lnTo>
                      <a:lnTo>
                        <a:pt x="116" y="935"/>
                      </a:lnTo>
                      <a:lnTo>
                        <a:pt x="125" y="943"/>
                      </a:lnTo>
                      <a:lnTo>
                        <a:pt x="130" y="939"/>
                      </a:lnTo>
                      <a:lnTo>
                        <a:pt x="134" y="936"/>
                      </a:lnTo>
                      <a:lnTo>
                        <a:pt x="135" y="932"/>
                      </a:lnTo>
                      <a:lnTo>
                        <a:pt x="132" y="928"/>
                      </a:lnTo>
                      <a:lnTo>
                        <a:pt x="125" y="920"/>
                      </a:lnTo>
                      <a:lnTo>
                        <a:pt x="114" y="909"/>
                      </a:lnTo>
                      <a:lnTo>
                        <a:pt x="101" y="893"/>
                      </a:lnTo>
                      <a:lnTo>
                        <a:pt x="86" y="876"/>
                      </a:lnTo>
                      <a:lnTo>
                        <a:pt x="71" y="857"/>
                      </a:lnTo>
                      <a:lnTo>
                        <a:pt x="59" y="838"/>
                      </a:lnTo>
                      <a:lnTo>
                        <a:pt x="48" y="820"/>
                      </a:lnTo>
                      <a:lnTo>
                        <a:pt x="42" y="804"/>
                      </a:lnTo>
                      <a:lnTo>
                        <a:pt x="40" y="789"/>
                      </a:lnTo>
                      <a:lnTo>
                        <a:pt x="41" y="778"/>
                      </a:lnTo>
                      <a:lnTo>
                        <a:pt x="47" y="772"/>
                      </a:lnTo>
                      <a:lnTo>
                        <a:pt x="58" y="770"/>
                      </a:lnTo>
                      <a:lnTo>
                        <a:pt x="66" y="771"/>
                      </a:lnTo>
                      <a:lnTo>
                        <a:pt x="78" y="777"/>
                      </a:lnTo>
                      <a:lnTo>
                        <a:pt x="91" y="786"/>
                      </a:lnTo>
                      <a:lnTo>
                        <a:pt x="104" y="796"/>
                      </a:lnTo>
                      <a:lnTo>
                        <a:pt x="118" y="807"/>
                      </a:lnTo>
                      <a:lnTo>
                        <a:pt x="130" y="816"/>
                      </a:lnTo>
                      <a:lnTo>
                        <a:pt x="140" y="824"/>
                      </a:lnTo>
                      <a:lnTo>
                        <a:pt x="148" y="827"/>
                      </a:lnTo>
                      <a:lnTo>
                        <a:pt x="140" y="820"/>
                      </a:lnTo>
                      <a:lnTo>
                        <a:pt x="128" y="806"/>
                      </a:lnTo>
                      <a:lnTo>
                        <a:pt x="111" y="788"/>
                      </a:lnTo>
                      <a:lnTo>
                        <a:pt x="91" y="767"/>
                      </a:lnTo>
                      <a:lnTo>
                        <a:pt x="71" y="745"/>
                      </a:lnTo>
                      <a:lnTo>
                        <a:pt x="52" y="724"/>
                      </a:lnTo>
                      <a:lnTo>
                        <a:pt x="38" y="706"/>
                      </a:lnTo>
                      <a:lnTo>
                        <a:pt x="27" y="691"/>
                      </a:lnTo>
                      <a:lnTo>
                        <a:pt x="13" y="665"/>
                      </a:lnTo>
                      <a:lnTo>
                        <a:pt x="5" y="642"/>
                      </a:lnTo>
                      <a:lnTo>
                        <a:pt x="0" y="621"/>
                      </a:lnTo>
                      <a:lnTo>
                        <a:pt x="0" y="606"/>
                      </a:lnTo>
                      <a:lnTo>
                        <a:pt x="3" y="592"/>
                      </a:lnTo>
                      <a:lnTo>
                        <a:pt x="6" y="581"/>
                      </a:lnTo>
                      <a:lnTo>
                        <a:pt x="11" y="573"/>
                      </a:lnTo>
                      <a:lnTo>
                        <a:pt x="16" y="567"/>
                      </a:lnTo>
                      <a:lnTo>
                        <a:pt x="22" y="574"/>
                      </a:lnTo>
                      <a:lnTo>
                        <a:pt x="30" y="584"/>
                      </a:lnTo>
                      <a:lnTo>
                        <a:pt x="42" y="598"/>
                      </a:lnTo>
                      <a:lnTo>
                        <a:pt x="53" y="614"/>
                      </a:lnTo>
                      <a:lnTo>
                        <a:pt x="66" y="630"/>
                      </a:lnTo>
                      <a:lnTo>
                        <a:pt x="78" y="646"/>
                      </a:lnTo>
                      <a:lnTo>
                        <a:pt x="88" y="660"/>
                      </a:lnTo>
                      <a:lnTo>
                        <a:pt x="97" y="669"/>
                      </a:lnTo>
                      <a:lnTo>
                        <a:pt x="104" y="663"/>
                      </a:lnTo>
                      <a:lnTo>
                        <a:pt x="92" y="648"/>
                      </a:lnTo>
                      <a:lnTo>
                        <a:pt x="74" y="622"/>
                      </a:lnTo>
                      <a:lnTo>
                        <a:pt x="54" y="589"/>
                      </a:lnTo>
                      <a:lnTo>
                        <a:pt x="35" y="549"/>
                      </a:lnTo>
                      <a:lnTo>
                        <a:pt x="18" y="507"/>
                      </a:lnTo>
                      <a:lnTo>
                        <a:pt x="8" y="465"/>
                      </a:lnTo>
                      <a:lnTo>
                        <a:pt x="5" y="423"/>
                      </a:lnTo>
                      <a:lnTo>
                        <a:pt x="13" y="386"/>
                      </a:lnTo>
                      <a:lnTo>
                        <a:pt x="17" y="382"/>
                      </a:lnTo>
                      <a:lnTo>
                        <a:pt x="21" y="379"/>
                      </a:lnTo>
                      <a:lnTo>
                        <a:pt x="26" y="375"/>
                      </a:lnTo>
                      <a:lnTo>
                        <a:pt x="30" y="371"/>
                      </a:lnTo>
                      <a:lnTo>
                        <a:pt x="35" y="369"/>
                      </a:lnTo>
                      <a:lnTo>
                        <a:pt x="40" y="368"/>
                      </a:lnTo>
                      <a:lnTo>
                        <a:pt x="45" y="367"/>
                      </a:lnTo>
                      <a:lnTo>
                        <a:pt x="50" y="367"/>
                      </a:lnTo>
                      <a:lnTo>
                        <a:pt x="56" y="380"/>
                      </a:lnTo>
                      <a:lnTo>
                        <a:pt x="56" y="395"/>
                      </a:lnTo>
                      <a:lnTo>
                        <a:pt x="59" y="406"/>
                      </a:lnTo>
                      <a:lnTo>
                        <a:pt x="71" y="404"/>
                      </a:lnTo>
                      <a:lnTo>
                        <a:pt x="71" y="400"/>
                      </a:lnTo>
                      <a:lnTo>
                        <a:pt x="70" y="396"/>
                      </a:lnTo>
                      <a:lnTo>
                        <a:pt x="69" y="391"/>
                      </a:lnTo>
                      <a:lnTo>
                        <a:pt x="68" y="390"/>
                      </a:lnTo>
                      <a:lnTo>
                        <a:pt x="60" y="338"/>
                      </a:lnTo>
                      <a:lnTo>
                        <a:pt x="60" y="299"/>
                      </a:lnTo>
                      <a:lnTo>
                        <a:pt x="67" y="271"/>
                      </a:lnTo>
                      <a:lnTo>
                        <a:pt x="78" y="252"/>
                      </a:lnTo>
                      <a:lnTo>
                        <a:pt x="92" y="239"/>
                      </a:lnTo>
                      <a:lnTo>
                        <a:pt x="104" y="233"/>
                      </a:lnTo>
                      <a:lnTo>
                        <a:pt x="115" y="228"/>
                      </a:lnTo>
                      <a:lnTo>
                        <a:pt x="120" y="227"/>
                      </a:lnTo>
                      <a:lnTo>
                        <a:pt x="122" y="239"/>
                      </a:lnTo>
                      <a:lnTo>
                        <a:pt x="120" y="254"/>
                      </a:lnTo>
                      <a:lnTo>
                        <a:pt x="119" y="270"/>
                      </a:lnTo>
                      <a:lnTo>
                        <a:pt x="120" y="284"/>
                      </a:lnTo>
                      <a:lnTo>
                        <a:pt x="118" y="320"/>
                      </a:lnTo>
                      <a:lnTo>
                        <a:pt x="123" y="356"/>
                      </a:lnTo>
                      <a:lnTo>
                        <a:pt x="133" y="390"/>
                      </a:lnTo>
                      <a:lnTo>
                        <a:pt x="142" y="423"/>
                      </a:lnTo>
                      <a:lnTo>
                        <a:pt x="141" y="417"/>
                      </a:lnTo>
                      <a:lnTo>
                        <a:pt x="139" y="400"/>
                      </a:lnTo>
                      <a:lnTo>
                        <a:pt x="137" y="375"/>
                      </a:lnTo>
                      <a:lnTo>
                        <a:pt x="135" y="343"/>
                      </a:lnTo>
                      <a:lnTo>
                        <a:pt x="135" y="308"/>
                      </a:lnTo>
                      <a:lnTo>
                        <a:pt x="138" y="271"/>
                      </a:lnTo>
                      <a:lnTo>
                        <a:pt x="146" y="234"/>
                      </a:lnTo>
                      <a:lnTo>
                        <a:pt x="157" y="200"/>
                      </a:lnTo>
                      <a:lnTo>
                        <a:pt x="163" y="188"/>
                      </a:lnTo>
                      <a:lnTo>
                        <a:pt x="169" y="176"/>
                      </a:lnTo>
                      <a:lnTo>
                        <a:pt x="176" y="165"/>
                      </a:lnTo>
                      <a:lnTo>
                        <a:pt x="184" y="155"/>
                      </a:lnTo>
                      <a:lnTo>
                        <a:pt x="193" y="147"/>
                      </a:lnTo>
                      <a:lnTo>
                        <a:pt x="204" y="139"/>
                      </a:lnTo>
                      <a:lnTo>
                        <a:pt x="217" y="135"/>
                      </a:lnTo>
                      <a:lnTo>
                        <a:pt x="233" y="134"/>
                      </a:lnTo>
                      <a:lnTo>
                        <a:pt x="239" y="140"/>
                      </a:lnTo>
                      <a:lnTo>
                        <a:pt x="230" y="154"/>
                      </a:lnTo>
                      <a:lnTo>
                        <a:pt x="223" y="169"/>
                      </a:lnTo>
                      <a:lnTo>
                        <a:pt x="217" y="185"/>
                      </a:lnTo>
                      <a:lnTo>
                        <a:pt x="211" y="201"/>
                      </a:lnTo>
                      <a:lnTo>
                        <a:pt x="207" y="218"/>
                      </a:lnTo>
                      <a:lnTo>
                        <a:pt x="204" y="234"/>
                      </a:lnTo>
                      <a:lnTo>
                        <a:pt x="201" y="252"/>
                      </a:lnTo>
                      <a:lnTo>
                        <a:pt x="199" y="269"/>
                      </a:lnTo>
                      <a:lnTo>
                        <a:pt x="206" y="277"/>
                      </a:lnTo>
                      <a:lnTo>
                        <a:pt x="213" y="269"/>
                      </a:lnTo>
                      <a:lnTo>
                        <a:pt x="219" y="258"/>
                      </a:lnTo>
                      <a:lnTo>
                        <a:pt x="222" y="245"/>
                      </a:lnTo>
                      <a:lnTo>
                        <a:pt x="225" y="233"/>
                      </a:lnTo>
                      <a:lnTo>
                        <a:pt x="247" y="158"/>
                      </a:lnTo>
                      <a:lnTo>
                        <a:pt x="270" y="105"/>
                      </a:lnTo>
                      <a:lnTo>
                        <a:pt x="291" y="69"/>
                      </a:lnTo>
                      <a:lnTo>
                        <a:pt x="311" y="47"/>
                      </a:lnTo>
                      <a:lnTo>
                        <a:pt x="330" y="35"/>
                      </a:lnTo>
                      <a:lnTo>
                        <a:pt x="347" y="32"/>
                      </a:lnTo>
                      <a:lnTo>
                        <a:pt x="361" y="33"/>
                      </a:lnTo>
                      <a:lnTo>
                        <a:pt x="371" y="35"/>
                      </a:lnTo>
                      <a:lnTo>
                        <a:pt x="377" y="39"/>
                      </a:lnTo>
                      <a:lnTo>
                        <a:pt x="378" y="45"/>
                      </a:lnTo>
                      <a:lnTo>
                        <a:pt x="376" y="50"/>
                      </a:lnTo>
                      <a:lnTo>
                        <a:pt x="371" y="54"/>
                      </a:lnTo>
                      <a:lnTo>
                        <a:pt x="362" y="67"/>
                      </a:lnTo>
                      <a:lnTo>
                        <a:pt x="352" y="80"/>
                      </a:lnTo>
                      <a:lnTo>
                        <a:pt x="342" y="93"/>
                      </a:lnTo>
                      <a:lnTo>
                        <a:pt x="333" y="106"/>
                      </a:lnTo>
                      <a:lnTo>
                        <a:pt x="324" y="120"/>
                      </a:lnTo>
                      <a:lnTo>
                        <a:pt x="316" y="134"/>
                      </a:lnTo>
                      <a:lnTo>
                        <a:pt x="310" y="148"/>
                      </a:lnTo>
                      <a:lnTo>
                        <a:pt x="305" y="161"/>
                      </a:lnTo>
                      <a:lnTo>
                        <a:pt x="307" y="170"/>
                      </a:lnTo>
                      <a:lnTo>
                        <a:pt x="312" y="167"/>
                      </a:lnTo>
                      <a:lnTo>
                        <a:pt x="319" y="158"/>
                      </a:lnTo>
                      <a:lnTo>
                        <a:pt x="328" y="147"/>
                      </a:lnTo>
                      <a:lnTo>
                        <a:pt x="338" y="131"/>
                      </a:lnTo>
                      <a:lnTo>
                        <a:pt x="350" y="114"/>
                      </a:lnTo>
                      <a:lnTo>
                        <a:pt x="363" y="95"/>
                      </a:lnTo>
                      <a:lnTo>
                        <a:pt x="378" y="76"/>
                      </a:lnTo>
                      <a:lnTo>
                        <a:pt x="394" y="58"/>
                      </a:lnTo>
                      <a:lnTo>
                        <a:pt x="409" y="41"/>
                      </a:lnTo>
                      <a:lnTo>
                        <a:pt x="428" y="25"/>
                      </a:lnTo>
                      <a:lnTo>
                        <a:pt x="447" y="13"/>
                      </a:lnTo>
                      <a:lnTo>
                        <a:pt x="466" y="5"/>
                      </a:lnTo>
                      <a:lnTo>
                        <a:pt x="486" y="0"/>
                      </a:lnTo>
                      <a:lnTo>
                        <a:pt x="507" y="3"/>
                      </a:lnTo>
                      <a:lnTo>
                        <a:pt x="528" y="11"/>
                      </a:lnTo>
                      <a:lnTo>
                        <a:pt x="550" y="27"/>
                      </a:lnTo>
                      <a:lnTo>
                        <a:pt x="550" y="45"/>
                      </a:lnTo>
                      <a:lnTo>
                        <a:pt x="529" y="51"/>
                      </a:lnTo>
                      <a:lnTo>
                        <a:pt x="510" y="59"/>
                      </a:lnTo>
                      <a:lnTo>
                        <a:pt x="493" y="67"/>
                      </a:lnTo>
                      <a:lnTo>
                        <a:pt x="477" y="77"/>
                      </a:lnTo>
                      <a:lnTo>
                        <a:pt x="462" y="88"/>
                      </a:lnTo>
                      <a:lnTo>
                        <a:pt x="450" y="101"/>
                      </a:lnTo>
                      <a:lnTo>
                        <a:pt x="437" y="114"/>
                      </a:lnTo>
                      <a:lnTo>
                        <a:pt x="426" y="129"/>
                      </a:lnTo>
                      <a:lnTo>
                        <a:pt x="417" y="143"/>
                      </a:lnTo>
                      <a:lnTo>
                        <a:pt x="407" y="159"/>
                      </a:lnTo>
                      <a:lnTo>
                        <a:pt x="400" y="176"/>
                      </a:lnTo>
                      <a:lnTo>
                        <a:pt x="393" y="193"/>
                      </a:lnTo>
                      <a:lnTo>
                        <a:pt x="385" y="211"/>
                      </a:lnTo>
                      <a:lnTo>
                        <a:pt x="379" y="229"/>
                      </a:lnTo>
                      <a:lnTo>
                        <a:pt x="372" y="247"/>
                      </a:lnTo>
                      <a:lnTo>
                        <a:pt x="367" y="266"/>
                      </a:lnTo>
                      <a:lnTo>
                        <a:pt x="358" y="306"/>
                      </a:lnTo>
                      <a:lnTo>
                        <a:pt x="354" y="351"/>
                      </a:lnTo>
                      <a:lnTo>
                        <a:pt x="357" y="400"/>
                      </a:lnTo>
                      <a:lnTo>
                        <a:pt x="364" y="450"/>
                      </a:lnTo>
                      <a:lnTo>
                        <a:pt x="376" y="501"/>
                      </a:lnTo>
                      <a:lnTo>
                        <a:pt x="393" y="548"/>
                      </a:lnTo>
                      <a:lnTo>
                        <a:pt x="414" y="593"/>
                      </a:lnTo>
                      <a:lnTo>
                        <a:pt x="438" y="631"/>
                      </a:lnTo>
                      <a:lnTo>
                        <a:pt x="450" y="647"/>
                      </a:lnTo>
                      <a:lnTo>
                        <a:pt x="464" y="663"/>
                      </a:lnTo>
                      <a:lnTo>
                        <a:pt x="476" y="678"/>
                      </a:lnTo>
                      <a:lnTo>
                        <a:pt x="491" y="692"/>
                      </a:lnTo>
                      <a:lnTo>
                        <a:pt x="505" y="707"/>
                      </a:lnTo>
                      <a:lnTo>
                        <a:pt x="521" y="721"/>
                      </a:lnTo>
                      <a:lnTo>
                        <a:pt x="536" y="735"/>
                      </a:lnTo>
                      <a:lnTo>
                        <a:pt x="550" y="750"/>
                      </a:lnTo>
                      <a:lnTo>
                        <a:pt x="566" y="763"/>
                      </a:lnTo>
                      <a:lnTo>
                        <a:pt x="581" y="777"/>
                      </a:lnTo>
                      <a:lnTo>
                        <a:pt x="596" y="792"/>
                      </a:lnTo>
                      <a:lnTo>
                        <a:pt x="611" y="807"/>
                      </a:lnTo>
                      <a:lnTo>
                        <a:pt x="625" y="822"/>
                      </a:lnTo>
                      <a:lnTo>
                        <a:pt x="638" y="837"/>
                      </a:lnTo>
                      <a:lnTo>
                        <a:pt x="651" y="852"/>
                      </a:lnTo>
                      <a:lnTo>
                        <a:pt x="664" y="868"/>
                      </a:lnTo>
                      <a:lnTo>
                        <a:pt x="682" y="895"/>
                      </a:lnTo>
                      <a:lnTo>
                        <a:pt x="697" y="923"/>
                      </a:lnTo>
                      <a:lnTo>
                        <a:pt x="710" y="952"/>
                      </a:lnTo>
                      <a:lnTo>
                        <a:pt x="721" y="980"/>
                      </a:lnTo>
                      <a:lnTo>
                        <a:pt x="730" y="1005"/>
                      </a:lnTo>
                      <a:lnTo>
                        <a:pt x="735" y="1027"/>
                      </a:lnTo>
                      <a:lnTo>
                        <a:pt x="738" y="1045"/>
                      </a:lnTo>
                      <a:lnTo>
                        <a:pt x="738" y="1059"/>
                      </a:lnTo>
                      <a:lnTo>
                        <a:pt x="14" y="105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127160" y="979560"/>
                  <a:ext cx="690480" cy="609480"/>
                </a:xfrm>
                <a:custGeom>
                  <a:avLst/>
                  <a:gdLst/>
                  <a:ahLst/>
                  <a:rect l="l" t="t" r="r" b="b"/>
                  <a:pathLst>
                    <a:path w="871" h="767">
                      <a:moveTo>
                        <a:pt x="0" y="767"/>
                      </a:moveTo>
                      <a:lnTo>
                        <a:pt x="2" y="762"/>
                      </a:lnTo>
                      <a:lnTo>
                        <a:pt x="6" y="755"/>
                      </a:lnTo>
                      <a:lnTo>
                        <a:pt x="10" y="749"/>
                      </a:lnTo>
                      <a:lnTo>
                        <a:pt x="16" y="742"/>
                      </a:lnTo>
                      <a:lnTo>
                        <a:pt x="24" y="737"/>
                      </a:lnTo>
                      <a:lnTo>
                        <a:pt x="29" y="732"/>
                      </a:lnTo>
                      <a:lnTo>
                        <a:pt x="34" y="730"/>
                      </a:lnTo>
                      <a:lnTo>
                        <a:pt x="41" y="733"/>
                      </a:lnTo>
                      <a:lnTo>
                        <a:pt x="41" y="726"/>
                      </a:lnTo>
                      <a:lnTo>
                        <a:pt x="37" y="719"/>
                      </a:lnTo>
                      <a:lnTo>
                        <a:pt x="31" y="713"/>
                      </a:lnTo>
                      <a:lnTo>
                        <a:pt x="26" y="707"/>
                      </a:lnTo>
                      <a:lnTo>
                        <a:pt x="34" y="648"/>
                      </a:lnTo>
                      <a:lnTo>
                        <a:pt x="51" y="598"/>
                      </a:lnTo>
                      <a:lnTo>
                        <a:pt x="76" y="554"/>
                      </a:lnTo>
                      <a:lnTo>
                        <a:pt x="103" y="519"/>
                      </a:lnTo>
                      <a:lnTo>
                        <a:pt x="132" y="491"/>
                      </a:lnTo>
                      <a:lnTo>
                        <a:pt x="158" y="469"/>
                      </a:lnTo>
                      <a:lnTo>
                        <a:pt x="181" y="453"/>
                      </a:lnTo>
                      <a:lnTo>
                        <a:pt x="194" y="445"/>
                      </a:lnTo>
                      <a:lnTo>
                        <a:pt x="195" y="433"/>
                      </a:lnTo>
                      <a:lnTo>
                        <a:pt x="200" y="423"/>
                      </a:lnTo>
                      <a:lnTo>
                        <a:pt x="206" y="413"/>
                      </a:lnTo>
                      <a:lnTo>
                        <a:pt x="213" y="406"/>
                      </a:lnTo>
                      <a:lnTo>
                        <a:pt x="221" y="397"/>
                      </a:lnTo>
                      <a:lnTo>
                        <a:pt x="228" y="390"/>
                      </a:lnTo>
                      <a:lnTo>
                        <a:pt x="234" y="380"/>
                      </a:lnTo>
                      <a:lnTo>
                        <a:pt x="238" y="371"/>
                      </a:lnTo>
                      <a:lnTo>
                        <a:pt x="245" y="367"/>
                      </a:lnTo>
                      <a:lnTo>
                        <a:pt x="254" y="364"/>
                      </a:lnTo>
                      <a:lnTo>
                        <a:pt x="261" y="362"/>
                      </a:lnTo>
                      <a:lnTo>
                        <a:pt x="268" y="361"/>
                      </a:lnTo>
                      <a:lnTo>
                        <a:pt x="277" y="347"/>
                      </a:lnTo>
                      <a:lnTo>
                        <a:pt x="285" y="334"/>
                      </a:lnTo>
                      <a:lnTo>
                        <a:pt x="295" y="320"/>
                      </a:lnTo>
                      <a:lnTo>
                        <a:pt x="306" y="307"/>
                      </a:lnTo>
                      <a:lnTo>
                        <a:pt x="316" y="296"/>
                      </a:lnTo>
                      <a:lnTo>
                        <a:pt x="329" y="285"/>
                      </a:lnTo>
                      <a:lnTo>
                        <a:pt x="342" y="276"/>
                      </a:lnTo>
                      <a:lnTo>
                        <a:pt x="355" y="269"/>
                      </a:lnTo>
                      <a:lnTo>
                        <a:pt x="362" y="275"/>
                      </a:lnTo>
                      <a:lnTo>
                        <a:pt x="374" y="257"/>
                      </a:lnTo>
                      <a:lnTo>
                        <a:pt x="387" y="239"/>
                      </a:lnTo>
                      <a:lnTo>
                        <a:pt x="401" y="221"/>
                      </a:lnTo>
                      <a:lnTo>
                        <a:pt x="414" y="203"/>
                      </a:lnTo>
                      <a:lnTo>
                        <a:pt x="428" y="186"/>
                      </a:lnTo>
                      <a:lnTo>
                        <a:pt x="443" y="170"/>
                      </a:lnTo>
                      <a:lnTo>
                        <a:pt x="459" y="155"/>
                      </a:lnTo>
                      <a:lnTo>
                        <a:pt x="477" y="141"/>
                      </a:lnTo>
                      <a:lnTo>
                        <a:pt x="477" y="135"/>
                      </a:lnTo>
                      <a:lnTo>
                        <a:pt x="480" y="132"/>
                      </a:lnTo>
                      <a:lnTo>
                        <a:pt x="485" y="129"/>
                      </a:lnTo>
                      <a:lnTo>
                        <a:pt x="491" y="128"/>
                      </a:lnTo>
                      <a:lnTo>
                        <a:pt x="498" y="126"/>
                      </a:lnTo>
                      <a:lnTo>
                        <a:pt x="506" y="125"/>
                      </a:lnTo>
                      <a:lnTo>
                        <a:pt x="512" y="123"/>
                      </a:lnTo>
                      <a:lnTo>
                        <a:pt x="519" y="120"/>
                      </a:lnTo>
                      <a:lnTo>
                        <a:pt x="537" y="127"/>
                      </a:lnTo>
                      <a:lnTo>
                        <a:pt x="552" y="112"/>
                      </a:lnTo>
                      <a:lnTo>
                        <a:pt x="569" y="97"/>
                      </a:lnTo>
                      <a:lnTo>
                        <a:pt x="586" y="83"/>
                      </a:lnTo>
                      <a:lnTo>
                        <a:pt x="604" y="70"/>
                      </a:lnTo>
                      <a:lnTo>
                        <a:pt x="623" y="57"/>
                      </a:lnTo>
                      <a:lnTo>
                        <a:pt x="644" y="45"/>
                      </a:lnTo>
                      <a:lnTo>
                        <a:pt x="665" y="36"/>
                      </a:lnTo>
                      <a:lnTo>
                        <a:pt x="687" y="28"/>
                      </a:lnTo>
                      <a:lnTo>
                        <a:pt x="702" y="24"/>
                      </a:lnTo>
                      <a:lnTo>
                        <a:pt x="718" y="20"/>
                      </a:lnTo>
                      <a:lnTo>
                        <a:pt x="733" y="16"/>
                      </a:lnTo>
                      <a:lnTo>
                        <a:pt x="747" y="12"/>
                      </a:lnTo>
                      <a:lnTo>
                        <a:pt x="762" y="8"/>
                      </a:lnTo>
                      <a:lnTo>
                        <a:pt x="777" y="6"/>
                      </a:lnTo>
                      <a:lnTo>
                        <a:pt x="792" y="5"/>
                      </a:lnTo>
                      <a:lnTo>
                        <a:pt x="808" y="4"/>
                      </a:lnTo>
                      <a:lnTo>
                        <a:pt x="814" y="2"/>
                      </a:lnTo>
                      <a:lnTo>
                        <a:pt x="821" y="1"/>
                      </a:lnTo>
                      <a:lnTo>
                        <a:pt x="829" y="1"/>
                      </a:lnTo>
                      <a:lnTo>
                        <a:pt x="838" y="0"/>
                      </a:lnTo>
                      <a:lnTo>
                        <a:pt x="846" y="1"/>
                      </a:lnTo>
                      <a:lnTo>
                        <a:pt x="855" y="2"/>
                      </a:lnTo>
                      <a:lnTo>
                        <a:pt x="862" y="3"/>
                      </a:lnTo>
                      <a:lnTo>
                        <a:pt x="868" y="5"/>
                      </a:lnTo>
                      <a:lnTo>
                        <a:pt x="871" y="15"/>
                      </a:lnTo>
                      <a:lnTo>
                        <a:pt x="870" y="23"/>
                      </a:lnTo>
                      <a:lnTo>
                        <a:pt x="867" y="28"/>
                      </a:lnTo>
                      <a:lnTo>
                        <a:pt x="863" y="34"/>
                      </a:lnTo>
                      <a:lnTo>
                        <a:pt x="856" y="37"/>
                      </a:lnTo>
                      <a:lnTo>
                        <a:pt x="848" y="39"/>
                      </a:lnTo>
                      <a:lnTo>
                        <a:pt x="841" y="41"/>
                      </a:lnTo>
                      <a:lnTo>
                        <a:pt x="834" y="42"/>
                      </a:lnTo>
                      <a:lnTo>
                        <a:pt x="809" y="46"/>
                      </a:lnTo>
                      <a:lnTo>
                        <a:pt x="784" y="52"/>
                      </a:lnTo>
                      <a:lnTo>
                        <a:pt x="759" y="59"/>
                      </a:lnTo>
                      <a:lnTo>
                        <a:pt x="735" y="68"/>
                      </a:lnTo>
                      <a:lnTo>
                        <a:pt x="711" y="77"/>
                      </a:lnTo>
                      <a:lnTo>
                        <a:pt x="689" y="88"/>
                      </a:lnTo>
                      <a:lnTo>
                        <a:pt x="667" y="101"/>
                      </a:lnTo>
                      <a:lnTo>
                        <a:pt x="646" y="113"/>
                      </a:lnTo>
                      <a:lnTo>
                        <a:pt x="626" y="127"/>
                      </a:lnTo>
                      <a:lnTo>
                        <a:pt x="607" y="142"/>
                      </a:lnTo>
                      <a:lnTo>
                        <a:pt x="587" y="158"/>
                      </a:lnTo>
                      <a:lnTo>
                        <a:pt x="569" y="174"/>
                      </a:lnTo>
                      <a:lnTo>
                        <a:pt x="552" y="191"/>
                      </a:lnTo>
                      <a:lnTo>
                        <a:pt x="537" y="209"/>
                      </a:lnTo>
                      <a:lnTo>
                        <a:pt x="522" y="227"/>
                      </a:lnTo>
                      <a:lnTo>
                        <a:pt x="508" y="246"/>
                      </a:lnTo>
                      <a:lnTo>
                        <a:pt x="473" y="293"/>
                      </a:lnTo>
                      <a:lnTo>
                        <a:pt x="444" y="347"/>
                      </a:lnTo>
                      <a:lnTo>
                        <a:pt x="421" y="407"/>
                      </a:lnTo>
                      <a:lnTo>
                        <a:pt x="404" y="470"/>
                      </a:lnTo>
                      <a:lnTo>
                        <a:pt x="396" y="536"/>
                      </a:lnTo>
                      <a:lnTo>
                        <a:pt x="395" y="603"/>
                      </a:lnTo>
                      <a:lnTo>
                        <a:pt x="403" y="669"/>
                      </a:lnTo>
                      <a:lnTo>
                        <a:pt x="420" y="733"/>
                      </a:lnTo>
                      <a:lnTo>
                        <a:pt x="424" y="743"/>
                      </a:lnTo>
                      <a:lnTo>
                        <a:pt x="426" y="751"/>
                      </a:lnTo>
                      <a:lnTo>
                        <a:pt x="426" y="760"/>
                      </a:lnTo>
                      <a:lnTo>
                        <a:pt x="426" y="767"/>
                      </a:lnTo>
                      <a:lnTo>
                        <a:pt x="0" y="76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1420920" y="1120680"/>
                  <a:ext cx="88920" cy="147600"/>
                </a:xfrm>
                <a:custGeom>
                  <a:avLst/>
                  <a:gdLst/>
                  <a:ahLst/>
                  <a:rect l="l" t="t" r="r" b="b"/>
                  <a:pathLst>
                    <a:path w="112" h="185">
                      <a:moveTo>
                        <a:pt x="18" y="156"/>
                      </a:moveTo>
                      <a:lnTo>
                        <a:pt x="3" y="185"/>
                      </a:lnTo>
                      <a:lnTo>
                        <a:pt x="0" y="184"/>
                      </a:lnTo>
                      <a:lnTo>
                        <a:pt x="12" y="159"/>
                      </a:lnTo>
                      <a:lnTo>
                        <a:pt x="23" y="133"/>
                      </a:lnTo>
                      <a:lnTo>
                        <a:pt x="34" y="108"/>
                      </a:lnTo>
                      <a:lnTo>
                        <a:pt x="47" y="85"/>
                      </a:lnTo>
                      <a:lnTo>
                        <a:pt x="60" y="61"/>
                      </a:lnTo>
                      <a:lnTo>
                        <a:pt x="74" y="40"/>
                      </a:lnTo>
                      <a:lnTo>
                        <a:pt x="91" y="19"/>
                      </a:lnTo>
                      <a:lnTo>
                        <a:pt x="112" y="0"/>
                      </a:lnTo>
                      <a:lnTo>
                        <a:pt x="99" y="18"/>
                      </a:lnTo>
                      <a:lnTo>
                        <a:pt x="86" y="36"/>
                      </a:lnTo>
                      <a:lnTo>
                        <a:pt x="73" y="55"/>
                      </a:lnTo>
                      <a:lnTo>
                        <a:pt x="61" y="74"/>
                      </a:lnTo>
                      <a:lnTo>
                        <a:pt x="49" y="93"/>
                      </a:lnTo>
                      <a:lnTo>
                        <a:pt x="38" y="113"/>
                      </a:lnTo>
                      <a:lnTo>
                        <a:pt x="28" y="134"/>
                      </a:lnTo>
                      <a:lnTo>
                        <a:pt x="18" y="156"/>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1380960" y="1251000"/>
                  <a:ext cx="3240" cy="7920"/>
                </a:xfrm>
                <a:custGeom>
                  <a:avLst/>
                  <a:gdLst/>
                  <a:ahLst/>
                  <a:rect l="l" t="t" r="r" b="b"/>
                  <a:pathLst>
                    <a:path w="5" h="11">
                      <a:moveTo>
                        <a:pt x="5" y="0"/>
                      </a:moveTo>
                      <a:lnTo>
                        <a:pt x="0" y="11"/>
                      </a:lnTo>
                      <a:lnTo>
                        <a:pt x="5"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0" name=""/>
                <p:cNvSpPr/>
                <p:nvPr/>
              </p:nvSpPr>
              <p:spPr>
                <a:xfrm>
                  <a:off x="1359000" y="1273320"/>
                  <a:ext cx="11160" cy="23760"/>
                </a:xfrm>
                <a:custGeom>
                  <a:avLst/>
                  <a:gdLst/>
                  <a:ahLst/>
                  <a:rect l="l" t="t" r="r" b="b"/>
                  <a:pathLst>
                    <a:path w="14" h="29">
                      <a:moveTo>
                        <a:pt x="0" y="29"/>
                      </a:moveTo>
                      <a:lnTo>
                        <a:pt x="1" y="24"/>
                      </a:lnTo>
                      <a:lnTo>
                        <a:pt x="4" y="16"/>
                      </a:lnTo>
                      <a:lnTo>
                        <a:pt x="8" y="7"/>
                      </a:lnTo>
                      <a:lnTo>
                        <a:pt x="14" y="0"/>
                      </a:lnTo>
                      <a:lnTo>
                        <a:pt x="13" y="8"/>
                      </a:lnTo>
                      <a:lnTo>
                        <a:pt x="9" y="16"/>
                      </a:lnTo>
                      <a:lnTo>
                        <a:pt x="4" y="22"/>
                      </a:lnTo>
                      <a:lnTo>
                        <a:pt x="0"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1" name=""/>
                <p:cNvSpPr/>
                <p:nvPr/>
              </p:nvSpPr>
              <p:spPr>
                <a:xfrm>
                  <a:off x="1193760" y="1501920"/>
                  <a:ext cx="9720" cy="34920"/>
                </a:xfrm>
                <a:custGeom>
                  <a:avLst/>
                  <a:gdLst/>
                  <a:ahLst/>
                  <a:rect l="l" t="t" r="r" b="b"/>
                  <a:pathLst>
                    <a:path w="13" h="43">
                      <a:moveTo>
                        <a:pt x="8" y="43"/>
                      </a:moveTo>
                      <a:lnTo>
                        <a:pt x="6" y="32"/>
                      </a:lnTo>
                      <a:lnTo>
                        <a:pt x="1" y="20"/>
                      </a:lnTo>
                      <a:lnTo>
                        <a:pt x="0" y="8"/>
                      </a:lnTo>
                      <a:lnTo>
                        <a:pt x="8" y="0"/>
                      </a:lnTo>
                      <a:lnTo>
                        <a:pt x="13" y="11"/>
                      </a:lnTo>
                      <a:lnTo>
                        <a:pt x="11" y="21"/>
                      </a:lnTo>
                      <a:lnTo>
                        <a:pt x="8" y="32"/>
                      </a:lnTo>
                      <a:lnTo>
                        <a:pt x="8" y="43"/>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2" name=""/>
                <p:cNvSpPr/>
                <p:nvPr/>
              </p:nvSpPr>
              <p:spPr>
                <a:xfrm>
                  <a:off x="1166760" y="1573200"/>
                  <a:ext cx="9720" cy="23760"/>
                </a:xfrm>
                <a:custGeom>
                  <a:avLst/>
                  <a:gdLst/>
                  <a:ahLst/>
                  <a:rect l="l" t="t" r="r" b="b"/>
                  <a:pathLst>
                    <a:path w="13" h="30">
                      <a:moveTo>
                        <a:pt x="13" y="21"/>
                      </a:moveTo>
                      <a:lnTo>
                        <a:pt x="13" y="25"/>
                      </a:lnTo>
                      <a:lnTo>
                        <a:pt x="12" y="27"/>
                      </a:lnTo>
                      <a:lnTo>
                        <a:pt x="10" y="28"/>
                      </a:lnTo>
                      <a:lnTo>
                        <a:pt x="7" y="30"/>
                      </a:lnTo>
                      <a:lnTo>
                        <a:pt x="2" y="25"/>
                      </a:lnTo>
                      <a:lnTo>
                        <a:pt x="1" y="17"/>
                      </a:lnTo>
                      <a:lnTo>
                        <a:pt x="1" y="8"/>
                      </a:lnTo>
                      <a:lnTo>
                        <a:pt x="0" y="0"/>
                      </a:lnTo>
                      <a:lnTo>
                        <a:pt x="5" y="2"/>
                      </a:lnTo>
                      <a:lnTo>
                        <a:pt x="8" y="7"/>
                      </a:lnTo>
                      <a:lnTo>
                        <a:pt x="10" y="15"/>
                      </a:lnTo>
                      <a:lnTo>
                        <a:pt x="13" y="21"/>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3" name=""/>
                <p:cNvSpPr/>
                <p:nvPr/>
              </p:nvSpPr>
              <p:spPr>
                <a:xfrm>
                  <a:off x="1176480" y="1616040"/>
                  <a:ext cx="17280" cy="33480"/>
                </a:xfrm>
                <a:custGeom>
                  <a:avLst/>
                  <a:gdLst/>
                  <a:ahLst/>
                  <a:rect l="l" t="t" r="r" b="b"/>
                  <a:pathLst>
                    <a:path w="20" h="42">
                      <a:moveTo>
                        <a:pt x="20" y="42"/>
                      </a:moveTo>
                      <a:lnTo>
                        <a:pt x="12" y="35"/>
                      </a:lnTo>
                      <a:lnTo>
                        <a:pt x="4" y="27"/>
                      </a:lnTo>
                      <a:lnTo>
                        <a:pt x="0" y="16"/>
                      </a:lnTo>
                      <a:lnTo>
                        <a:pt x="1" y="0"/>
                      </a:lnTo>
                      <a:lnTo>
                        <a:pt x="7" y="9"/>
                      </a:lnTo>
                      <a:lnTo>
                        <a:pt x="13" y="20"/>
                      </a:lnTo>
                      <a:lnTo>
                        <a:pt x="17" y="32"/>
                      </a:lnTo>
                      <a:lnTo>
                        <a:pt x="20" y="42"/>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4" name=""/>
                <p:cNvSpPr/>
                <p:nvPr/>
              </p:nvSpPr>
              <p:spPr>
                <a:xfrm>
                  <a:off x="1189080" y="1704960"/>
                  <a:ext cx="19080" cy="15840"/>
                </a:xfrm>
                <a:custGeom>
                  <a:avLst/>
                  <a:gdLst/>
                  <a:ahLst/>
                  <a:rect l="l" t="t" r="r" b="b"/>
                  <a:pathLst>
                    <a:path w="24" h="19">
                      <a:moveTo>
                        <a:pt x="24" y="17"/>
                      </a:moveTo>
                      <a:lnTo>
                        <a:pt x="19" y="19"/>
                      </a:lnTo>
                      <a:lnTo>
                        <a:pt x="14" y="18"/>
                      </a:lnTo>
                      <a:lnTo>
                        <a:pt x="6" y="16"/>
                      </a:lnTo>
                      <a:lnTo>
                        <a:pt x="0" y="13"/>
                      </a:lnTo>
                      <a:lnTo>
                        <a:pt x="0" y="8"/>
                      </a:lnTo>
                      <a:lnTo>
                        <a:pt x="2" y="5"/>
                      </a:lnTo>
                      <a:lnTo>
                        <a:pt x="5" y="3"/>
                      </a:lnTo>
                      <a:lnTo>
                        <a:pt x="8" y="0"/>
                      </a:lnTo>
                      <a:lnTo>
                        <a:pt x="15" y="4"/>
                      </a:lnTo>
                      <a:lnTo>
                        <a:pt x="18" y="8"/>
                      </a:lnTo>
                      <a:lnTo>
                        <a:pt x="21" y="13"/>
                      </a:lnTo>
                      <a:lnTo>
                        <a:pt x="24" y="1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 name=""/>
                <p:cNvSpPr/>
                <p:nvPr/>
              </p:nvSpPr>
              <p:spPr>
                <a:xfrm>
                  <a:off x="1111320" y="1862280"/>
                  <a:ext cx="54000" cy="52200"/>
                </a:xfrm>
                <a:custGeom>
                  <a:avLst/>
                  <a:gdLst/>
                  <a:ahLst/>
                  <a:rect l="l" t="t" r="r" b="b"/>
                  <a:pathLst>
                    <a:path w="69" h="65">
                      <a:moveTo>
                        <a:pt x="46" y="29"/>
                      </a:moveTo>
                      <a:lnTo>
                        <a:pt x="69" y="32"/>
                      </a:lnTo>
                      <a:lnTo>
                        <a:pt x="64" y="40"/>
                      </a:lnTo>
                      <a:lnTo>
                        <a:pt x="64" y="50"/>
                      </a:lnTo>
                      <a:lnTo>
                        <a:pt x="62" y="60"/>
                      </a:lnTo>
                      <a:lnTo>
                        <a:pt x="53" y="65"/>
                      </a:lnTo>
                      <a:lnTo>
                        <a:pt x="46" y="65"/>
                      </a:lnTo>
                      <a:lnTo>
                        <a:pt x="38" y="64"/>
                      </a:lnTo>
                      <a:lnTo>
                        <a:pt x="32" y="62"/>
                      </a:lnTo>
                      <a:lnTo>
                        <a:pt x="27" y="59"/>
                      </a:lnTo>
                      <a:lnTo>
                        <a:pt x="21" y="55"/>
                      </a:lnTo>
                      <a:lnTo>
                        <a:pt x="16" y="50"/>
                      </a:lnTo>
                      <a:lnTo>
                        <a:pt x="12" y="46"/>
                      </a:lnTo>
                      <a:lnTo>
                        <a:pt x="7" y="41"/>
                      </a:lnTo>
                      <a:lnTo>
                        <a:pt x="7" y="32"/>
                      </a:lnTo>
                      <a:lnTo>
                        <a:pt x="3" y="25"/>
                      </a:lnTo>
                      <a:lnTo>
                        <a:pt x="0" y="19"/>
                      </a:lnTo>
                      <a:lnTo>
                        <a:pt x="0" y="9"/>
                      </a:lnTo>
                      <a:lnTo>
                        <a:pt x="3" y="6"/>
                      </a:lnTo>
                      <a:lnTo>
                        <a:pt x="8" y="3"/>
                      </a:lnTo>
                      <a:lnTo>
                        <a:pt x="12" y="1"/>
                      </a:lnTo>
                      <a:lnTo>
                        <a:pt x="15" y="0"/>
                      </a:lnTo>
                      <a:lnTo>
                        <a:pt x="21" y="9"/>
                      </a:lnTo>
                      <a:lnTo>
                        <a:pt x="28" y="18"/>
                      </a:lnTo>
                      <a:lnTo>
                        <a:pt x="36" y="24"/>
                      </a:lnTo>
                      <a:lnTo>
                        <a:pt x="46"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6" name=""/>
                <p:cNvSpPr/>
                <p:nvPr/>
              </p:nvSpPr>
              <p:spPr>
                <a:xfrm>
                  <a:off x="1100160" y="2071800"/>
                  <a:ext cx="84240" cy="48960"/>
                </a:xfrm>
                <a:custGeom>
                  <a:avLst/>
                  <a:gdLst/>
                  <a:ahLst/>
                  <a:rect l="l" t="t" r="r" b="b"/>
                  <a:pathLst>
                    <a:path w="107" h="64">
                      <a:moveTo>
                        <a:pt x="104" y="29"/>
                      </a:moveTo>
                      <a:lnTo>
                        <a:pt x="98" y="37"/>
                      </a:lnTo>
                      <a:lnTo>
                        <a:pt x="88" y="43"/>
                      </a:lnTo>
                      <a:lnTo>
                        <a:pt x="78" y="46"/>
                      </a:lnTo>
                      <a:lnTo>
                        <a:pt x="66" y="47"/>
                      </a:lnTo>
                      <a:lnTo>
                        <a:pt x="54" y="49"/>
                      </a:lnTo>
                      <a:lnTo>
                        <a:pt x="44" y="51"/>
                      </a:lnTo>
                      <a:lnTo>
                        <a:pt x="34" y="57"/>
                      </a:lnTo>
                      <a:lnTo>
                        <a:pt x="28" y="64"/>
                      </a:lnTo>
                      <a:lnTo>
                        <a:pt x="18" y="64"/>
                      </a:lnTo>
                      <a:lnTo>
                        <a:pt x="11" y="60"/>
                      </a:lnTo>
                      <a:lnTo>
                        <a:pt x="5" y="54"/>
                      </a:lnTo>
                      <a:lnTo>
                        <a:pt x="0" y="47"/>
                      </a:lnTo>
                      <a:lnTo>
                        <a:pt x="5" y="43"/>
                      </a:lnTo>
                      <a:lnTo>
                        <a:pt x="11" y="40"/>
                      </a:lnTo>
                      <a:lnTo>
                        <a:pt x="18" y="37"/>
                      </a:lnTo>
                      <a:lnTo>
                        <a:pt x="26" y="35"/>
                      </a:lnTo>
                      <a:lnTo>
                        <a:pt x="33" y="34"/>
                      </a:lnTo>
                      <a:lnTo>
                        <a:pt x="41" y="32"/>
                      </a:lnTo>
                      <a:lnTo>
                        <a:pt x="48" y="29"/>
                      </a:lnTo>
                      <a:lnTo>
                        <a:pt x="53" y="25"/>
                      </a:lnTo>
                      <a:lnTo>
                        <a:pt x="60" y="23"/>
                      </a:lnTo>
                      <a:lnTo>
                        <a:pt x="67" y="17"/>
                      </a:lnTo>
                      <a:lnTo>
                        <a:pt x="75" y="11"/>
                      </a:lnTo>
                      <a:lnTo>
                        <a:pt x="82" y="6"/>
                      </a:lnTo>
                      <a:lnTo>
                        <a:pt x="89" y="1"/>
                      </a:lnTo>
                      <a:lnTo>
                        <a:pt x="96" y="0"/>
                      </a:lnTo>
                      <a:lnTo>
                        <a:pt x="102" y="5"/>
                      </a:lnTo>
                      <a:lnTo>
                        <a:pt x="107" y="15"/>
                      </a:lnTo>
                      <a:lnTo>
                        <a:pt x="104"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17" name=""/>
                <p:cNvSpPr/>
                <p:nvPr/>
              </p:nvSpPr>
              <p:spPr>
                <a:xfrm>
                  <a:off x="396720" y="2101680"/>
                  <a:ext cx="233640" cy="130320"/>
                </a:xfrm>
                <a:custGeom>
                  <a:avLst/>
                  <a:gdLst/>
                  <a:ahLst/>
                  <a:rect l="l" t="t" r="r" b="b"/>
                  <a:pathLst>
                    <a:path w="293" h="164">
                      <a:moveTo>
                        <a:pt x="293" y="27"/>
                      </a:moveTo>
                      <a:lnTo>
                        <a:pt x="289" y="32"/>
                      </a:lnTo>
                      <a:lnTo>
                        <a:pt x="281" y="40"/>
                      </a:lnTo>
                      <a:lnTo>
                        <a:pt x="271" y="49"/>
                      </a:lnTo>
                      <a:lnTo>
                        <a:pt x="258" y="60"/>
                      </a:lnTo>
                      <a:lnTo>
                        <a:pt x="242" y="72"/>
                      </a:lnTo>
                      <a:lnTo>
                        <a:pt x="225" y="84"/>
                      </a:lnTo>
                      <a:lnTo>
                        <a:pt x="207" y="97"/>
                      </a:lnTo>
                      <a:lnTo>
                        <a:pt x="188" y="109"/>
                      </a:lnTo>
                      <a:lnTo>
                        <a:pt x="168" y="121"/>
                      </a:lnTo>
                      <a:lnTo>
                        <a:pt x="149" y="133"/>
                      </a:lnTo>
                      <a:lnTo>
                        <a:pt x="129" y="143"/>
                      </a:lnTo>
                      <a:lnTo>
                        <a:pt x="110" y="151"/>
                      </a:lnTo>
                      <a:lnTo>
                        <a:pt x="93" y="158"/>
                      </a:lnTo>
                      <a:lnTo>
                        <a:pt x="77" y="163"/>
                      </a:lnTo>
                      <a:lnTo>
                        <a:pt x="62" y="164"/>
                      </a:lnTo>
                      <a:lnTo>
                        <a:pt x="50" y="163"/>
                      </a:lnTo>
                      <a:lnTo>
                        <a:pt x="41" y="157"/>
                      </a:lnTo>
                      <a:lnTo>
                        <a:pt x="31" y="151"/>
                      </a:lnTo>
                      <a:lnTo>
                        <a:pt x="22" y="145"/>
                      </a:lnTo>
                      <a:lnTo>
                        <a:pt x="14" y="136"/>
                      </a:lnTo>
                      <a:lnTo>
                        <a:pt x="8" y="128"/>
                      </a:lnTo>
                      <a:lnTo>
                        <a:pt x="3" y="119"/>
                      </a:lnTo>
                      <a:lnTo>
                        <a:pt x="0" y="109"/>
                      </a:lnTo>
                      <a:lnTo>
                        <a:pt x="0" y="97"/>
                      </a:lnTo>
                      <a:lnTo>
                        <a:pt x="7" y="92"/>
                      </a:lnTo>
                      <a:lnTo>
                        <a:pt x="20" y="86"/>
                      </a:lnTo>
                      <a:lnTo>
                        <a:pt x="36" y="80"/>
                      </a:lnTo>
                      <a:lnTo>
                        <a:pt x="54" y="73"/>
                      </a:lnTo>
                      <a:lnTo>
                        <a:pt x="75" y="65"/>
                      </a:lnTo>
                      <a:lnTo>
                        <a:pt x="98" y="58"/>
                      </a:lnTo>
                      <a:lnTo>
                        <a:pt x="122" y="49"/>
                      </a:lnTo>
                      <a:lnTo>
                        <a:pt x="147" y="42"/>
                      </a:lnTo>
                      <a:lnTo>
                        <a:pt x="170" y="33"/>
                      </a:lnTo>
                      <a:lnTo>
                        <a:pt x="193" y="27"/>
                      </a:lnTo>
                      <a:lnTo>
                        <a:pt x="216" y="20"/>
                      </a:lnTo>
                      <a:lnTo>
                        <a:pt x="235" y="13"/>
                      </a:lnTo>
                      <a:lnTo>
                        <a:pt x="252" y="8"/>
                      </a:lnTo>
                      <a:lnTo>
                        <a:pt x="266" y="4"/>
                      </a:lnTo>
                      <a:lnTo>
                        <a:pt x="274" y="2"/>
                      </a:lnTo>
                      <a:lnTo>
                        <a:pt x="278" y="0"/>
                      </a:lnTo>
                      <a:lnTo>
                        <a:pt x="290" y="1"/>
                      </a:lnTo>
                      <a:lnTo>
                        <a:pt x="292" y="8"/>
                      </a:lnTo>
                      <a:lnTo>
                        <a:pt x="291" y="19"/>
                      </a:lnTo>
                      <a:lnTo>
                        <a:pt x="293" y="2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025640" y="2101680"/>
                  <a:ext cx="71280" cy="38160"/>
                </a:xfrm>
                <a:custGeom>
                  <a:avLst/>
                  <a:gdLst/>
                  <a:ahLst/>
                  <a:rect l="l" t="t" r="r" b="b"/>
                  <a:pathLst>
                    <a:path w="90" h="47">
                      <a:moveTo>
                        <a:pt x="86" y="20"/>
                      </a:moveTo>
                      <a:lnTo>
                        <a:pt x="87" y="23"/>
                      </a:lnTo>
                      <a:lnTo>
                        <a:pt x="87" y="27"/>
                      </a:lnTo>
                      <a:lnTo>
                        <a:pt x="87" y="31"/>
                      </a:lnTo>
                      <a:lnTo>
                        <a:pt x="90" y="33"/>
                      </a:lnTo>
                      <a:lnTo>
                        <a:pt x="87" y="40"/>
                      </a:lnTo>
                      <a:lnTo>
                        <a:pt x="82" y="45"/>
                      </a:lnTo>
                      <a:lnTo>
                        <a:pt x="76" y="47"/>
                      </a:lnTo>
                      <a:lnTo>
                        <a:pt x="70" y="45"/>
                      </a:lnTo>
                      <a:lnTo>
                        <a:pt x="65" y="41"/>
                      </a:lnTo>
                      <a:lnTo>
                        <a:pt x="59" y="38"/>
                      </a:lnTo>
                      <a:lnTo>
                        <a:pt x="53" y="34"/>
                      </a:lnTo>
                      <a:lnTo>
                        <a:pt x="48" y="31"/>
                      </a:lnTo>
                      <a:lnTo>
                        <a:pt x="41" y="29"/>
                      </a:lnTo>
                      <a:lnTo>
                        <a:pt x="35" y="27"/>
                      </a:lnTo>
                      <a:lnTo>
                        <a:pt x="28" y="26"/>
                      </a:lnTo>
                      <a:lnTo>
                        <a:pt x="21" y="25"/>
                      </a:lnTo>
                      <a:lnTo>
                        <a:pt x="16" y="28"/>
                      </a:lnTo>
                      <a:lnTo>
                        <a:pt x="11" y="29"/>
                      </a:lnTo>
                      <a:lnTo>
                        <a:pt x="5" y="28"/>
                      </a:lnTo>
                      <a:lnTo>
                        <a:pt x="0" y="27"/>
                      </a:lnTo>
                      <a:lnTo>
                        <a:pt x="5" y="19"/>
                      </a:lnTo>
                      <a:lnTo>
                        <a:pt x="12" y="9"/>
                      </a:lnTo>
                      <a:lnTo>
                        <a:pt x="19" y="2"/>
                      </a:lnTo>
                      <a:lnTo>
                        <a:pt x="31" y="0"/>
                      </a:lnTo>
                      <a:lnTo>
                        <a:pt x="39" y="1"/>
                      </a:lnTo>
                      <a:lnTo>
                        <a:pt x="46" y="3"/>
                      </a:lnTo>
                      <a:lnTo>
                        <a:pt x="53" y="5"/>
                      </a:lnTo>
                      <a:lnTo>
                        <a:pt x="59" y="7"/>
                      </a:lnTo>
                      <a:lnTo>
                        <a:pt x="66" y="10"/>
                      </a:lnTo>
                      <a:lnTo>
                        <a:pt x="72" y="13"/>
                      </a:lnTo>
                      <a:lnTo>
                        <a:pt x="79" y="16"/>
                      </a:lnTo>
                      <a:lnTo>
                        <a:pt x="86" y="2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9" name=""/>
                <p:cNvSpPr/>
                <p:nvPr/>
              </p:nvSpPr>
              <p:spPr>
                <a:xfrm>
                  <a:off x="942840" y="2139840"/>
                  <a:ext cx="142920" cy="104760"/>
                </a:xfrm>
                <a:custGeom>
                  <a:avLst/>
                  <a:gdLst/>
                  <a:ahLst/>
                  <a:rect l="l" t="t" r="r" b="b"/>
                  <a:pathLst>
                    <a:path w="180" h="133">
                      <a:moveTo>
                        <a:pt x="180" y="29"/>
                      </a:moveTo>
                      <a:lnTo>
                        <a:pt x="177" y="33"/>
                      </a:lnTo>
                      <a:lnTo>
                        <a:pt x="173" y="36"/>
                      </a:lnTo>
                      <a:lnTo>
                        <a:pt x="168" y="38"/>
                      </a:lnTo>
                      <a:lnTo>
                        <a:pt x="161" y="39"/>
                      </a:lnTo>
                      <a:lnTo>
                        <a:pt x="155" y="40"/>
                      </a:lnTo>
                      <a:lnTo>
                        <a:pt x="149" y="40"/>
                      </a:lnTo>
                      <a:lnTo>
                        <a:pt x="143" y="40"/>
                      </a:lnTo>
                      <a:lnTo>
                        <a:pt x="138" y="39"/>
                      </a:lnTo>
                      <a:lnTo>
                        <a:pt x="133" y="35"/>
                      </a:lnTo>
                      <a:lnTo>
                        <a:pt x="126" y="31"/>
                      </a:lnTo>
                      <a:lnTo>
                        <a:pt x="120" y="29"/>
                      </a:lnTo>
                      <a:lnTo>
                        <a:pt x="112" y="31"/>
                      </a:lnTo>
                      <a:lnTo>
                        <a:pt x="108" y="34"/>
                      </a:lnTo>
                      <a:lnTo>
                        <a:pt x="108" y="38"/>
                      </a:lnTo>
                      <a:lnTo>
                        <a:pt x="109" y="43"/>
                      </a:lnTo>
                      <a:lnTo>
                        <a:pt x="113" y="47"/>
                      </a:lnTo>
                      <a:lnTo>
                        <a:pt x="115" y="52"/>
                      </a:lnTo>
                      <a:lnTo>
                        <a:pt x="116" y="56"/>
                      </a:lnTo>
                      <a:lnTo>
                        <a:pt x="114" y="61"/>
                      </a:lnTo>
                      <a:lnTo>
                        <a:pt x="107" y="64"/>
                      </a:lnTo>
                      <a:lnTo>
                        <a:pt x="98" y="68"/>
                      </a:lnTo>
                      <a:lnTo>
                        <a:pt x="90" y="68"/>
                      </a:lnTo>
                      <a:lnTo>
                        <a:pt x="84" y="66"/>
                      </a:lnTo>
                      <a:lnTo>
                        <a:pt x="77" y="64"/>
                      </a:lnTo>
                      <a:lnTo>
                        <a:pt x="61" y="100"/>
                      </a:lnTo>
                      <a:lnTo>
                        <a:pt x="53" y="104"/>
                      </a:lnTo>
                      <a:lnTo>
                        <a:pt x="47" y="109"/>
                      </a:lnTo>
                      <a:lnTo>
                        <a:pt x="41" y="114"/>
                      </a:lnTo>
                      <a:lnTo>
                        <a:pt x="34" y="119"/>
                      </a:lnTo>
                      <a:lnTo>
                        <a:pt x="27" y="124"/>
                      </a:lnTo>
                      <a:lnTo>
                        <a:pt x="20" y="127"/>
                      </a:lnTo>
                      <a:lnTo>
                        <a:pt x="13" y="131"/>
                      </a:lnTo>
                      <a:lnTo>
                        <a:pt x="5" y="133"/>
                      </a:lnTo>
                      <a:lnTo>
                        <a:pt x="0" y="123"/>
                      </a:lnTo>
                      <a:lnTo>
                        <a:pt x="4" y="114"/>
                      </a:lnTo>
                      <a:lnTo>
                        <a:pt x="9" y="105"/>
                      </a:lnTo>
                      <a:lnTo>
                        <a:pt x="12" y="97"/>
                      </a:lnTo>
                      <a:lnTo>
                        <a:pt x="16" y="91"/>
                      </a:lnTo>
                      <a:lnTo>
                        <a:pt x="20" y="87"/>
                      </a:lnTo>
                      <a:lnTo>
                        <a:pt x="27" y="83"/>
                      </a:lnTo>
                      <a:lnTo>
                        <a:pt x="32" y="80"/>
                      </a:lnTo>
                      <a:lnTo>
                        <a:pt x="38" y="75"/>
                      </a:lnTo>
                      <a:lnTo>
                        <a:pt x="46" y="72"/>
                      </a:lnTo>
                      <a:lnTo>
                        <a:pt x="52" y="69"/>
                      </a:lnTo>
                      <a:lnTo>
                        <a:pt x="59" y="66"/>
                      </a:lnTo>
                      <a:lnTo>
                        <a:pt x="64" y="51"/>
                      </a:lnTo>
                      <a:lnTo>
                        <a:pt x="73" y="38"/>
                      </a:lnTo>
                      <a:lnTo>
                        <a:pt x="82" y="27"/>
                      </a:lnTo>
                      <a:lnTo>
                        <a:pt x="88" y="13"/>
                      </a:lnTo>
                      <a:lnTo>
                        <a:pt x="111" y="19"/>
                      </a:lnTo>
                      <a:lnTo>
                        <a:pt x="114" y="14"/>
                      </a:lnTo>
                      <a:lnTo>
                        <a:pt x="114" y="7"/>
                      </a:lnTo>
                      <a:lnTo>
                        <a:pt x="115" y="1"/>
                      </a:lnTo>
                      <a:lnTo>
                        <a:pt x="121" y="0"/>
                      </a:lnTo>
                      <a:lnTo>
                        <a:pt x="131" y="1"/>
                      </a:lnTo>
                      <a:lnTo>
                        <a:pt x="139" y="3"/>
                      </a:lnTo>
                      <a:lnTo>
                        <a:pt x="148" y="6"/>
                      </a:lnTo>
                      <a:lnTo>
                        <a:pt x="155" y="10"/>
                      </a:lnTo>
                      <a:lnTo>
                        <a:pt x="161" y="13"/>
                      </a:lnTo>
                      <a:lnTo>
                        <a:pt x="169" y="18"/>
                      </a:lnTo>
                      <a:lnTo>
                        <a:pt x="175" y="24"/>
                      </a:lnTo>
                      <a:lnTo>
                        <a:pt x="180"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23720" y="2141640"/>
                  <a:ext cx="262080" cy="150840"/>
                </a:xfrm>
                <a:custGeom>
                  <a:avLst/>
                  <a:gdLst/>
                  <a:ahLst/>
                  <a:rect l="l" t="t" r="r" b="b"/>
                  <a:pathLst>
                    <a:path w="330" h="190">
                      <a:moveTo>
                        <a:pt x="330" y="9"/>
                      </a:moveTo>
                      <a:lnTo>
                        <a:pt x="317" y="18"/>
                      </a:lnTo>
                      <a:lnTo>
                        <a:pt x="303" y="28"/>
                      </a:lnTo>
                      <a:lnTo>
                        <a:pt x="286" y="41"/>
                      </a:lnTo>
                      <a:lnTo>
                        <a:pt x="266" y="53"/>
                      </a:lnTo>
                      <a:lnTo>
                        <a:pt x="247" y="67"/>
                      </a:lnTo>
                      <a:lnTo>
                        <a:pt x="227" y="81"/>
                      </a:lnTo>
                      <a:lnTo>
                        <a:pt x="206" y="95"/>
                      </a:lnTo>
                      <a:lnTo>
                        <a:pt x="186" y="110"/>
                      </a:lnTo>
                      <a:lnTo>
                        <a:pt x="166" y="123"/>
                      </a:lnTo>
                      <a:lnTo>
                        <a:pt x="146" y="137"/>
                      </a:lnTo>
                      <a:lnTo>
                        <a:pt x="128" y="150"/>
                      </a:lnTo>
                      <a:lnTo>
                        <a:pt x="111" y="160"/>
                      </a:lnTo>
                      <a:lnTo>
                        <a:pt x="95" y="171"/>
                      </a:lnTo>
                      <a:lnTo>
                        <a:pt x="82" y="179"/>
                      </a:lnTo>
                      <a:lnTo>
                        <a:pt x="70" y="186"/>
                      </a:lnTo>
                      <a:lnTo>
                        <a:pt x="63" y="190"/>
                      </a:lnTo>
                      <a:lnTo>
                        <a:pt x="52" y="190"/>
                      </a:lnTo>
                      <a:lnTo>
                        <a:pt x="44" y="188"/>
                      </a:lnTo>
                      <a:lnTo>
                        <a:pt x="35" y="184"/>
                      </a:lnTo>
                      <a:lnTo>
                        <a:pt x="29" y="178"/>
                      </a:lnTo>
                      <a:lnTo>
                        <a:pt x="23" y="173"/>
                      </a:lnTo>
                      <a:lnTo>
                        <a:pt x="15" y="168"/>
                      </a:lnTo>
                      <a:lnTo>
                        <a:pt x="9" y="163"/>
                      </a:lnTo>
                      <a:lnTo>
                        <a:pt x="0" y="157"/>
                      </a:lnTo>
                      <a:lnTo>
                        <a:pt x="2" y="151"/>
                      </a:lnTo>
                      <a:lnTo>
                        <a:pt x="5" y="147"/>
                      </a:lnTo>
                      <a:lnTo>
                        <a:pt x="10" y="145"/>
                      </a:lnTo>
                      <a:lnTo>
                        <a:pt x="15" y="142"/>
                      </a:lnTo>
                      <a:lnTo>
                        <a:pt x="22" y="142"/>
                      </a:lnTo>
                      <a:lnTo>
                        <a:pt x="29" y="141"/>
                      </a:lnTo>
                      <a:lnTo>
                        <a:pt x="34" y="139"/>
                      </a:lnTo>
                      <a:lnTo>
                        <a:pt x="40" y="137"/>
                      </a:lnTo>
                      <a:lnTo>
                        <a:pt x="51" y="133"/>
                      </a:lnTo>
                      <a:lnTo>
                        <a:pt x="66" y="127"/>
                      </a:lnTo>
                      <a:lnTo>
                        <a:pt x="83" y="119"/>
                      </a:lnTo>
                      <a:lnTo>
                        <a:pt x="101" y="111"/>
                      </a:lnTo>
                      <a:lnTo>
                        <a:pt x="120" y="101"/>
                      </a:lnTo>
                      <a:lnTo>
                        <a:pt x="141" y="90"/>
                      </a:lnTo>
                      <a:lnTo>
                        <a:pt x="163" y="80"/>
                      </a:lnTo>
                      <a:lnTo>
                        <a:pt x="184" y="68"/>
                      </a:lnTo>
                      <a:lnTo>
                        <a:pt x="206" y="58"/>
                      </a:lnTo>
                      <a:lnTo>
                        <a:pt x="226" y="47"/>
                      </a:lnTo>
                      <a:lnTo>
                        <a:pt x="246" y="36"/>
                      </a:lnTo>
                      <a:lnTo>
                        <a:pt x="264" y="27"/>
                      </a:lnTo>
                      <a:lnTo>
                        <a:pt x="281" y="18"/>
                      </a:lnTo>
                      <a:lnTo>
                        <a:pt x="296" y="11"/>
                      </a:lnTo>
                      <a:lnTo>
                        <a:pt x="309" y="5"/>
                      </a:lnTo>
                      <a:lnTo>
                        <a:pt x="318" y="0"/>
                      </a:lnTo>
                      <a:lnTo>
                        <a:pt x="330" y="1"/>
                      </a:lnTo>
                      <a:lnTo>
                        <a:pt x="330" y="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1096920" y="2141640"/>
                  <a:ext cx="12600" cy="33120"/>
                </a:xfrm>
                <a:custGeom>
                  <a:avLst/>
                  <a:gdLst/>
                  <a:ahLst/>
                  <a:rect l="l" t="t" r="r" b="b"/>
                  <a:pathLst>
                    <a:path w="17" h="42">
                      <a:moveTo>
                        <a:pt x="15" y="28"/>
                      </a:moveTo>
                      <a:lnTo>
                        <a:pt x="12" y="31"/>
                      </a:lnTo>
                      <a:lnTo>
                        <a:pt x="9" y="37"/>
                      </a:lnTo>
                      <a:lnTo>
                        <a:pt x="6" y="42"/>
                      </a:lnTo>
                      <a:lnTo>
                        <a:pt x="0" y="39"/>
                      </a:lnTo>
                      <a:lnTo>
                        <a:pt x="4" y="29"/>
                      </a:lnTo>
                      <a:lnTo>
                        <a:pt x="1" y="17"/>
                      </a:lnTo>
                      <a:lnTo>
                        <a:pt x="0" y="8"/>
                      </a:lnTo>
                      <a:lnTo>
                        <a:pt x="9" y="0"/>
                      </a:lnTo>
                      <a:lnTo>
                        <a:pt x="14" y="6"/>
                      </a:lnTo>
                      <a:lnTo>
                        <a:pt x="17" y="13"/>
                      </a:lnTo>
                      <a:lnTo>
                        <a:pt x="17" y="21"/>
                      </a:lnTo>
                      <a:lnTo>
                        <a:pt x="15" y="28"/>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22" name=""/>
                <p:cNvSpPr/>
                <p:nvPr/>
              </p:nvSpPr>
              <p:spPr>
                <a:xfrm>
                  <a:off x="1057320" y="2182680"/>
                  <a:ext cx="55440" cy="57240"/>
                </a:xfrm>
                <a:custGeom>
                  <a:avLst/>
                  <a:gdLst/>
                  <a:ahLst/>
                  <a:rect l="l" t="t" r="r" b="b"/>
                  <a:pathLst>
                    <a:path w="70" h="71">
                      <a:moveTo>
                        <a:pt x="54" y="32"/>
                      </a:moveTo>
                      <a:lnTo>
                        <a:pt x="70" y="41"/>
                      </a:lnTo>
                      <a:lnTo>
                        <a:pt x="68" y="49"/>
                      </a:lnTo>
                      <a:lnTo>
                        <a:pt x="63" y="59"/>
                      </a:lnTo>
                      <a:lnTo>
                        <a:pt x="57" y="67"/>
                      </a:lnTo>
                      <a:lnTo>
                        <a:pt x="47" y="71"/>
                      </a:lnTo>
                      <a:lnTo>
                        <a:pt x="37" y="69"/>
                      </a:lnTo>
                      <a:lnTo>
                        <a:pt x="29" y="64"/>
                      </a:lnTo>
                      <a:lnTo>
                        <a:pt x="22" y="56"/>
                      </a:lnTo>
                      <a:lnTo>
                        <a:pt x="14" y="48"/>
                      </a:lnTo>
                      <a:lnTo>
                        <a:pt x="9" y="40"/>
                      </a:lnTo>
                      <a:lnTo>
                        <a:pt x="5" y="30"/>
                      </a:lnTo>
                      <a:lnTo>
                        <a:pt x="1" y="23"/>
                      </a:lnTo>
                      <a:lnTo>
                        <a:pt x="0" y="17"/>
                      </a:lnTo>
                      <a:lnTo>
                        <a:pt x="3" y="10"/>
                      </a:lnTo>
                      <a:lnTo>
                        <a:pt x="10" y="6"/>
                      </a:lnTo>
                      <a:lnTo>
                        <a:pt x="17" y="3"/>
                      </a:lnTo>
                      <a:lnTo>
                        <a:pt x="26" y="0"/>
                      </a:lnTo>
                      <a:lnTo>
                        <a:pt x="35" y="6"/>
                      </a:lnTo>
                      <a:lnTo>
                        <a:pt x="41" y="16"/>
                      </a:lnTo>
                      <a:lnTo>
                        <a:pt x="45" y="26"/>
                      </a:lnTo>
                      <a:lnTo>
                        <a:pt x="54" y="32"/>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3" name=""/>
                <p:cNvSpPr/>
                <p:nvPr/>
              </p:nvSpPr>
              <p:spPr>
                <a:xfrm>
                  <a:off x="801720" y="2212920"/>
                  <a:ext cx="34920" cy="39600"/>
                </a:xfrm>
                <a:custGeom>
                  <a:avLst/>
                  <a:gdLst/>
                  <a:ahLst/>
                  <a:rect l="l" t="t" r="r" b="b"/>
                  <a:pathLst>
                    <a:path w="44" h="51">
                      <a:moveTo>
                        <a:pt x="42" y="19"/>
                      </a:moveTo>
                      <a:lnTo>
                        <a:pt x="37" y="24"/>
                      </a:lnTo>
                      <a:lnTo>
                        <a:pt x="33" y="27"/>
                      </a:lnTo>
                      <a:lnTo>
                        <a:pt x="28" y="31"/>
                      </a:lnTo>
                      <a:lnTo>
                        <a:pt x="23" y="35"/>
                      </a:lnTo>
                      <a:lnTo>
                        <a:pt x="17" y="40"/>
                      </a:lnTo>
                      <a:lnTo>
                        <a:pt x="12" y="44"/>
                      </a:lnTo>
                      <a:lnTo>
                        <a:pt x="6" y="48"/>
                      </a:lnTo>
                      <a:lnTo>
                        <a:pt x="0" y="51"/>
                      </a:lnTo>
                      <a:lnTo>
                        <a:pt x="3" y="44"/>
                      </a:lnTo>
                      <a:lnTo>
                        <a:pt x="7" y="38"/>
                      </a:lnTo>
                      <a:lnTo>
                        <a:pt x="12" y="32"/>
                      </a:lnTo>
                      <a:lnTo>
                        <a:pt x="16" y="26"/>
                      </a:lnTo>
                      <a:lnTo>
                        <a:pt x="21" y="21"/>
                      </a:lnTo>
                      <a:lnTo>
                        <a:pt x="26" y="14"/>
                      </a:lnTo>
                      <a:lnTo>
                        <a:pt x="30" y="8"/>
                      </a:lnTo>
                      <a:lnTo>
                        <a:pt x="32" y="0"/>
                      </a:lnTo>
                      <a:lnTo>
                        <a:pt x="36" y="4"/>
                      </a:lnTo>
                      <a:lnTo>
                        <a:pt x="42" y="8"/>
                      </a:lnTo>
                      <a:lnTo>
                        <a:pt x="44" y="13"/>
                      </a:lnTo>
                      <a:lnTo>
                        <a:pt x="42" y="1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24" name=""/>
                <p:cNvSpPr/>
                <p:nvPr/>
              </p:nvSpPr>
              <p:spPr>
                <a:xfrm>
                  <a:off x="1119240" y="2214720"/>
                  <a:ext cx="22320" cy="23760"/>
                </a:xfrm>
                <a:custGeom>
                  <a:avLst/>
                  <a:gdLst/>
                  <a:ahLst/>
                  <a:rect l="l" t="t" r="r" b="b"/>
                  <a:pathLst>
                    <a:path w="27" h="28">
                      <a:moveTo>
                        <a:pt x="8" y="28"/>
                      </a:moveTo>
                      <a:lnTo>
                        <a:pt x="0" y="28"/>
                      </a:lnTo>
                      <a:lnTo>
                        <a:pt x="3" y="19"/>
                      </a:lnTo>
                      <a:lnTo>
                        <a:pt x="9" y="9"/>
                      </a:lnTo>
                      <a:lnTo>
                        <a:pt x="17" y="3"/>
                      </a:lnTo>
                      <a:lnTo>
                        <a:pt x="27" y="0"/>
                      </a:lnTo>
                      <a:lnTo>
                        <a:pt x="27" y="10"/>
                      </a:lnTo>
                      <a:lnTo>
                        <a:pt x="23" y="17"/>
                      </a:lnTo>
                      <a:lnTo>
                        <a:pt x="16" y="23"/>
                      </a:lnTo>
                      <a:lnTo>
                        <a:pt x="8" y="28"/>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5" name=""/>
                <p:cNvSpPr/>
                <p:nvPr/>
              </p:nvSpPr>
              <p:spPr>
                <a:xfrm>
                  <a:off x="790560" y="2227320"/>
                  <a:ext cx="79560" cy="146160"/>
                </a:xfrm>
                <a:custGeom>
                  <a:avLst/>
                  <a:gdLst/>
                  <a:ahLst/>
                  <a:rect l="l" t="t" r="r" b="b"/>
                  <a:pathLst>
                    <a:path w="100" h="185">
                      <a:moveTo>
                        <a:pt x="100" y="0"/>
                      </a:moveTo>
                      <a:lnTo>
                        <a:pt x="99" y="15"/>
                      </a:lnTo>
                      <a:lnTo>
                        <a:pt x="96" y="32"/>
                      </a:lnTo>
                      <a:lnTo>
                        <a:pt x="91" y="48"/>
                      </a:lnTo>
                      <a:lnTo>
                        <a:pt x="87" y="60"/>
                      </a:lnTo>
                      <a:lnTo>
                        <a:pt x="79" y="72"/>
                      </a:lnTo>
                      <a:lnTo>
                        <a:pt x="73" y="86"/>
                      </a:lnTo>
                      <a:lnTo>
                        <a:pt x="67" y="101"/>
                      </a:lnTo>
                      <a:lnTo>
                        <a:pt x="63" y="116"/>
                      </a:lnTo>
                      <a:lnTo>
                        <a:pt x="59" y="131"/>
                      </a:lnTo>
                      <a:lnTo>
                        <a:pt x="52" y="143"/>
                      </a:lnTo>
                      <a:lnTo>
                        <a:pt x="44" y="155"/>
                      </a:lnTo>
                      <a:lnTo>
                        <a:pt x="33" y="165"/>
                      </a:lnTo>
                      <a:lnTo>
                        <a:pt x="30" y="168"/>
                      </a:lnTo>
                      <a:lnTo>
                        <a:pt x="27" y="171"/>
                      </a:lnTo>
                      <a:lnTo>
                        <a:pt x="24" y="174"/>
                      </a:lnTo>
                      <a:lnTo>
                        <a:pt x="20" y="177"/>
                      </a:lnTo>
                      <a:lnTo>
                        <a:pt x="15" y="181"/>
                      </a:lnTo>
                      <a:lnTo>
                        <a:pt x="11" y="183"/>
                      </a:lnTo>
                      <a:lnTo>
                        <a:pt x="6" y="185"/>
                      </a:lnTo>
                      <a:lnTo>
                        <a:pt x="0" y="185"/>
                      </a:lnTo>
                      <a:lnTo>
                        <a:pt x="15" y="166"/>
                      </a:lnTo>
                      <a:lnTo>
                        <a:pt x="30" y="148"/>
                      </a:lnTo>
                      <a:lnTo>
                        <a:pt x="45" y="129"/>
                      </a:lnTo>
                      <a:lnTo>
                        <a:pt x="59" y="109"/>
                      </a:lnTo>
                      <a:lnTo>
                        <a:pt x="69" y="87"/>
                      </a:lnTo>
                      <a:lnTo>
                        <a:pt x="78" y="64"/>
                      </a:lnTo>
                      <a:lnTo>
                        <a:pt x="83" y="39"/>
                      </a:lnTo>
                      <a:lnTo>
                        <a:pt x="84" y="11"/>
                      </a:lnTo>
                      <a:lnTo>
                        <a:pt x="88" y="9"/>
                      </a:lnTo>
                      <a:lnTo>
                        <a:pt x="92" y="5"/>
                      </a:lnTo>
                      <a:lnTo>
                        <a:pt x="96" y="1"/>
                      </a:lnTo>
                      <a:lnTo>
                        <a:pt x="100"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09760" y="2241720"/>
                  <a:ext cx="71280" cy="61920"/>
                </a:xfrm>
                <a:custGeom>
                  <a:avLst/>
                  <a:gdLst/>
                  <a:ahLst/>
                  <a:rect l="l" t="t" r="r" b="b"/>
                  <a:pathLst>
                    <a:path w="92" h="79">
                      <a:moveTo>
                        <a:pt x="85" y="47"/>
                      </a:moveTo>
                      <a:lnTo>
                        <a:pt x="86" y="56"/>
                      </a:lnTo>
                      <a:lnTo>
                        <a:pt x="91" y="64"/>
                      </a:lnTo>
                      <a:lnTo>
                        <a:pt x="92" y="71"/>
                      </a:lnTo>
                      <a:lnTo>
                        <a:pt x="85" y="79"/>
                      </a:lnTo>
                      <a:lnTo>
                        <a:pt x="79" y="79"/>
                      </a:lnTo>
                      <a:lnTo>
                        <a:pt x="72" y="77"/>
                      </a:lnTo>
                      <a:lnTo>
                        <a:pt x="67" y="74"/>
                      </a:lnTo>
                      <a:lnTo>
                        <a:pt x="63" y="68"/>
                      </a:lnTo>
                      <a:lnTo>
                        <a:pt x="58" y="62"/>
                      </a:lnTo>
                      <a:lnTo>
                        <a:pt x="53" y="57"/>
                      </a:lnTo>
                      <a:lnTo>
                        <a:pt x="48" y="50"/>
                      </a:lnTo>
                      <a:lnTo>
                        <a:pt x="43" y="46"/>
                      </a:lnTo>
                      <a:lnTo>
                        <a:pt x="36" y="43"/>
                      </a:lnTo>
                      <a:lnTo>
                        <a:pt x="30" y="40"/>
                      </a:lnTo>
                      <a:lnTo>
                        <a:pt x="25" y="35"/>
                      </a:lnTo>
                      <a:lnTo>
                        <a:pt x="21" y="31"/>
                      </a:lnTo>
                      <a:lnTo>
                        <a:pt x="15" y="27"/>
                      </a:lnTo>
                      <a:lnTo>
                        <a:pt x="11" y="23"/>
                      </a:lnTo>
                      <a:lnTo>
                        <a:pt x="6" y="18"/>
                      </a:lnTo>
                      <a:lnTo>
                        <a:pt x="0" y="15"/>
                      </a:lnTo>
                      <a:lnTo>
                        <a:pt x="1" y="10"/>
                      </a:lnTo>
                      <a:lnTo>
                        <a:pt x="4" y="6"/>
                      </a:lnTo>
                      <a:lnTo>
                        <a:pt x="6" y="4"/>
                      </a:lnTo>
                      <a:lnTo>
                        <a:pt x="10" y="0"/>
                      </a:lnTo>
                      <a:lnTo>
                        <a:pt x="23" y="2"/>
                      </a:lnTo>
                      <a:lnTo>
                        <a:pt x="34" y="4"/>
                      </a:lnTo>
                      <a:lnTo>
                        <a:pt x="45" y="9"/>
                      </a:lnTo>
                      <a:lnTo>
                        <a:pt x="56" y="14"/>
                      </a:lnTo>
                      <a:lnTo>
                        <a:pt x="64" y="22"/>
                      </a:lnTo>
                      <a:lnTo>
                        <a:pt x="71" y="29"/>
                      </a:lnTo>
                      <a:lnTo>
                        <a:pt x="79" y="38"/>
                      </a:lnTo>
                      <a:lnTo>
                        <a:pt x="85" y="4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27" name=""/>
                <p:cNvSpPr/>
                <p:nvPr/>
              </p:nvSpPr>
              <p:spPr>
                <a:xfrm>
                  <a:off x="1409760" y="2278080"/>
                  <a:ext cx="7920" cy="11160"/>
                </a:xfrm>
                <a:custGeom>
                  <a:avLst/>
                  <a:gdLst/>
                  <a:ahLst/>
                  <a:rect l="l" t="t" r="r" b="b"/>
                  <a:pathLst>
                    <a:path w="11" h="14">
                      <a:moveTo>
                        <a:pt x="11" y="11"/>
                      </a:moveTo>
                      <a:lnTo>
                        <a:pt x="10" y="13"/>
                      </a:lnTo>
                      <a:lnTo>
                        <a:pt x="7" y="14"/>
                      </a:lnTo>
                      <a:lnTo>
                        <a:pt x="5" y="13"/>
                      </a:lnTo>
                      <a:lnTo>
                        <a:pt x="1" y="11"/>
                      </a:lnTo>
                      <a:lnTo>
                        <a:pt x="0" y="0"/>
                      </a:lnTo>
                      <a:lnTo>
                        <a:pt x="6" y="0"/>
                      </a:lnTo>
                      <a:lnTo>
                        <a:pt x="8" y="3"/>
                      </a:lnTo>
                      <a:lnTo>
                        <a:pt x="10" y="6"/>
                      </a:lnTo>
                      <a:lnTo>
                        <a:pt x="11" y="11"/>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8" name=""/>
                <p:cNvSpPr/>
                <p:nvPr/>
              </p:nvSpPr>
              <p:spPr>
                <a:xfrm>
                  <a:off x="1311120" y="2346480"/>
                  <a:ext cx="9720" cy="21960"/>
                </a:xfrm>
                <a:custGeom>
                  <a:avLst/>
                  <a:gdLst/>
                  <a:ahLst/>
                  <a:rect l="l" t="t" r="r" b="b"/>
                  <a:pathLst>
                    <a:path w="13" h="27">
                      <a:moveTo>
                        <a:pt x="9" y="25"/>
                      </a:moveTo>
                      <a:lnTo>
                        <a:pt x="7" y="26"/>
                      </a:lnTo>
                      <a:lnTo>
                        <a:pt x="6" y="26"/>
                      </a:lnTo>
                      <a:lnTo>
                        <a:pt x="5" y="27"/>
                      </a:lnTo>
                      <a:lnTo>
                        <a:pt x="4" y="25"/>
                      </a:lnTo>
                      <a:lnTo>
                        <a:pt x="0" y="19"/>
                      </a:lnTo>
                      <a:lnTo>
                        <a:pt x="3" y="13"/>
                      </a:lnTo>
                      <a:lnTo>
                        <a:pt x="6" y="6"/>
                      </a:lnTo>
                      <a:lnTo>
                        <a:pt x="10" y="0"/>
                      </a:lnTo>
                      <a:lnTo>
                        <a:pt x="13" y="6"/>
                      </a:lnTo>
                      <a:lnTo>
                        <a:pt x="13" y="13"/>
                      </a:lnTo>
                      <a:lnTo>
                        <a:pt x="11" y="19"/>
                      </a:lnTo>
                      <a:lnTo>
                        <a:pt x="9" y="25"/>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grpSp>
          <p:grpSp>
            <p:nvGrpSpPr>
              <p:cNvPr id="29" name=""/>
              <p:cNvGrpSpPr/>
              <p:nvPr/>
            </p:nvGrpSpPr>
            <p:grpSpPr>
              <a:xfrm>
                <a:off x="0" y="1568520"/>
                <a:ext cx="9144000" cy="5289480"/>
                <a:chOff x="0" y="1568520"/>
                <a:chExt cx="9144000" cy="5289480"/>
              </a:xfrm>
            </p:grpSpPr>
            <p:grpSp>
              <p:nvGrpSpPr>
                <p:cNvPr id="30" name=""/>
                <p:cNvGrpSpPr/>
                <p:nvPr/>
              </p:nvGrpSpPr>
              <p:grpSpPr>
                <a:xfrm>
                  <a:off x="0" y="1568520"/>
                  <a:ext cx="9144000" cy="5289480"/>
                  <a:chOff x="0" y="1568520"/>
                  <a:chExt cx="9144000" cy="5289480"/>
                </a:xfrm>
              </p:grpSpPr>
              <p:sp>
                <p:nvSpPr>
                  <p:cNvPr id="31" name=""/>
                  <p:cNvSpPr/>
                  <p:nvPr/>
                </p:nvSpPr>
                <p:spPr>
                  <a:xfrm>
                    <a:off x="4792680" y="2001960"/>
                    <a:ext cx="1119240" cy="412560"/>
                  </a:xfrm>
                  <a:custGeom>
                    <a:avLst/>
                    <a:gdLst/>
                    <a:ahLst/>
                    <a:rect l="l" t="t" r="r" b="b"/>
                    <a:pathLst>
                      <a:path w="705" h="260">
                        <a:moveTo>
                          <a:pt x="179" y="159"/>
                        </a:moveTo>
                        <a:lnTo>
                          <a:pt x="171" y="173"/>
                        </a:lnTo>
                        <a:lnTo>
                          <a:pt x="163" y="202"/>
                        </a:lnTo>
                        <a:lnTo>
                          <a:pt x="167" y="215"/>
                        </a:lnTo>
                        <a:lnTo>
                          <a:pt x="173" y="219"/>
                        </a:lnTo>
                        <a:lnTo>
                          <a:pt x="183" y="223"/>
                        </a:lnTo>
                        <a:lnTo>
                          <a:pt x="212" y="226"/>
                        </a:lnTo>
                        <a:lnTo>
                          <a:pt x="256" y="219"/>
                        </a:lnTo>
                        <a:lnTo>
                          <a:pt x="262" y="223"/>
                        </a:lnTo>
                        <a:lnTo>
                          <a:pt x="269" y="228"/>
                        </a:lnTo>
                        <a:lnTo>
                          <a:pt x="277" y="234"/>
                        </a:lnTo>
                        <a:lnTo>
                          <a:pt x="285" y="239"/>
                        </a:lnTo>
                        <a:lnTo>
                          <a:pt x="298" y="246"/>
                        </a:lnTo>
                        <a:lnTo>
                          <a:pt x="312" y="251"/>
                        </a:lnTo>
                        <a:lnTo>
                          <a:pt x="327" y="255"/>
                        </a:lnTo>
                        <a:lnTo>
                          <a:pt x="362" y="260"/>
                        </a:lnTo>
                        <a:lnTo>
                          <a:pt x="400" y="255"/>
                        </a:lnTo>
                        <a:lnTo>
                          <a:pt x="420" y="247"/>
                        </a:lnTo>
                        <a:lnTo>
                          <a:pt x="443" y="236"/>
                        </a:lnTo>
                        <a:lnTo>
                          <a:pt x="454" y="228"/>
                        </a:lnTo>
                        <a:lnTo>
                          <a:pt x="466" y="221"/>
                        </a:lnTo>
                        <a:lnTo>
                          <a:pt x="489" y="201"/>
                        </a:lnTo>
                        <a:lnTo>
                          <a:pt x="518" y="207"/>
                        </a:lnTo>
                        <a:lnTo>
                          <a:pt x="549" y="213"/>
                        </a:lnTo>
                        <a:lnTo>
                          <a:pt x="585" y="218"/>
                        </a:lnTo>
                        <a:lnTo>
                          <a:pt x="655" y="218"/>
                        </a:lnTo>
                        <a:lnTo>
                          <a:pt x="682" y="207"/>
                        </a:lnTo>
                        <a:lnTo>
                          <a:pt x="699" y="190"/>
                        </a:lnTo>
                        <a:lnTo>
                          <a:pt x="705" y="144"/>
                        </a:lnTo>
                        <a:lnTo>
                          <a:pt x="699" y="122"/>
                        </a:lnTo>
                        <a:lnTo>
                          <a:pt x="685" y="104"/>
                        </a:lnTo>
                        <a:lnTo>
                          <a:pt x="668" y="86"/>
                        </a:lnTo>
                        <a:lnTo>
                          <a:pt x="655" y="80"/>
                        </a:lnTo>
                        <a:lnTo>
                          <a:pt x="643" y="73"/>
                        </a:lnTo>
                        <a:lnTo>
                          <a:pt x="628" y="67"/>
                        </a:lnTo>
                        <a:lnTo>
                          <a:pt x="612" y="63"/>
                        </a:lnTo>
                        <a:lnTo>
                          <a:pt x="576" y="56"/>
                        </a:lnTo>
                        <a:lnTo>
                          <a:pt x="574" y="39"/>
                        </a:lnTo>
                        <a:lnTo>
                          <a:pt x="566" y="23"/>
                        </a:lnTo>
                        <a:lnTo>
                          <a:pt x="560" y="16"/>
                        </a:lnTo>
                        <a:lnTo>
                          <a:pt x="549" y="9"/>
                        </a:lnTo>
                        <a:lnTo>
                          <a:pt x="537" y="4"/>
                        </a:lnTo>
                        <a:lnTo>
                          <a:pt x="520" y="0"/>
                        </a:lnTo>
                        <a:lnTo>
                          <a:pt x="477" y="3"/>
                        </a:lnTo>
                        <a:lnTo>
                          <a:pt x="414" y="19"/>
                        </a:lnTo>
                        <a:lnTo>
                          <a:pt x="395" y="25"/>
                        </a:lnTo>
                        <a:lnTo>
                          <a:pt x="377" y="33"/>
                        </a:lnTo>
                        <a:lnTo>
                          <a:pt x="354" y="43"/>
                        </a:lnTo>
                        <a:lnTo>
                          <a:pt x="331" y="53"/>
                        </a:lnTo>
                        <a:lnTo>
                          <a:pt x="321" y="51"/>
                        </a:lnTo>
                        <a:lnTo>
                          <a:pt x="289" y="41"/>
                        </a:lnTo>
                        <a:lnTo>
                          <a:pt x="271" y="37"/>
                        </a:lnTo>
                        <a:lnTo>
                          <a:pt x="246" y="32"/>
                        </a:lnTo>
                        <a:lnTo>
                          <a:pt x="221" y="28"/>
                        </a:lnTo>
                        <a:lnTo>
                          <a:pt x="196" y="23"/>
                        </a:lnTo>
                        <a:lnTo>
                          <a:pt x="142" y="19"/>
                        </a:lnTo>
                        <a:lnTo>
                          <a:pt x="88" y="20"/>
                        </a:lnTo>
                        <a:lnTo>
                          <a:pt x="44" y="32"/>
                        </a:lnTo>
                        <a:lnTo>
                          <a:pt x="25" y="43"/>
                        </a:lnTo>
                        <a:lnTo>
                          <a:pt x="13" y="56"/>
                        </a:lnTo>
                        <a:lnTo>
                          <a:pt x="0" y="85"/>
                        </a:lnTo>
                        <a:lnTo>
                          <a:pt x="11" y="108"/>
                        </a:lnTo>
                        <a:lnTo>
                          <a:pt x="21" y="117"/>
                        </a:lnTo>
                        <a:lnTo>
                          <a:pt x="36" y="126"/>
                        </a:lnTo>
                        <a:lnTo>
                          <a:pt x="52" y="133"/>
                        </a:lnTo>
                        <a:lnTo>
                          <a:pt x="71" y="140"/>
                        </a:lnTo>
                        <a:lnTo>
                          <a:pt x="90" y="145"/>
                        </a:lnTo>
                        <a:lnTo>
                          <a:pt x="108" y="149"/>
                        </a:lnTo>
                        <a:lnTo>
                          <a:pt x="144" y="155"/>
                        </a:lnTo>
                        <a:lnTo>
                          <a:pt x="179" y="159"/>
                        </a:lnTo>
                        <a:lnTo>
                          <a:pt x="179" y="15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93880" y="3498840"/>
                    <a:ext cx="236520" cy="106200"/>
                  </a:xfrm>
                  <a:custGeom>
                    <a:avLst/>
                    <a:gdLst/>
                    <a:ahLst/>
                    <a:rect l="l" t="t" r="r" b="b"/>
                    <a:pathLst>
                      <a:path w="149" h="67">
                        <a:moveTo>
                          <a:pt x="110" y="1"/>
                        </a:moveTo>
                        <a:lnTo>
                          <a:pt x="18" y="16"/>
                        </a:lnTo>
                        <a:lnTo>
                          <a:pt x="43" y="26"/>
                        </a:lnTo>
                        <a:lnTo>
                          <a:pt x="0" y="45"/>
                        </a:lnTo>
                        <a:lnTo>
                          <a:pt x="62" y="47"/>
                        </a:lnTo>
                        <a:lnTo>
                          <a:pt x="58" y="67"/>
                        </a:lnTo>
                        <a:lnTo>
                          <a:pt x="147" y="41"/>
                        </a:lnTo>
                        <a:lnTo>
                          <a:pt x="149" y="17"/>
                        </a:lnTo>
                        <a:lnTo>
                          <a:pt x="137" y="4"/>
                        </a:lnTo>
                        <a:lnTo>
                          <a:pt x="127" y="0"/>
                        </a:lnTo>
                        <a:lnTo>
                          <a:pt x="110" y="1"/>
                        </a:lnTo>
                        <a:lnTo>
                          <a:pt x="110" y="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5856120" y="3646440"/>
                    <a:ext cx="217800" cy="128520"/>
                  </a:xfrm>
                  <a:custGeom>
                    <a:avLst/>
                    <a:gdLst/>
                    <a:ahLst/>
                    <a:rect l="l" t="t" r="r" b="b"/>
                    <a:pathLst>
                      <a:path w="137" h="81">
                        <a:moveTo>
                          <a:pt x="27" y="14"/>
                        </a:moveTo>
                        <a:lnTo>
                          <a:pt x="40" y="12"/>
                        </a:lnTo>
                        <a:lnTo>
                          <a:pt x="71" y="6"/>
                        </a:lnTo>
                        <a:lnTo>
                          <a:pt x="104" y="1"/>
                        </a:lnTo>
                        <a:lnTo>
                          <a:pt x="125" y="0"/>
                        </a:lnTo>
                        <a:lnTo>
                          <a:pt x="98" y="22"/>
                        </a:lnTo>
                        <a:lnTo>
                          <a:pt x="137" y="34"/>
                        </a:lnTo>
                        <a:lnTo>
                          <a:pt x="75" y="51"/>
                        </a:lnTo>
                        <a:lnTo>
                          <a:pt x="104" y="81"/>
                        </a:lnTo>
                        <a:lnTo>
                          <a:pt x="0" y="77"/>
                        </a:lnTo>
                        <a:lnTo>
                          <a:pt x="27" y="14"/>
                        </a:lnTo>
                        <a:lnTo>
                          <a:pt x="27" y="1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862280" y="1568520"/>
                    <a:ext cx="5219640" cy="1325520"/>
                  </a:xfrm>
                  <a:custGeom>
                    <a:avLst/>
                    <a:gdLst/>
                    <a:ahLst/>
                    <a:rect l="l" t="t" r="r" b="b"/>
                    <a:pathLst>
                      <a:path w="3288" h="835">
                        <a:moveTo>
                          <a:pt x="1152" y="37"/>
                        </a:moveTo>
                        <a:lnTo>
                          <a:pt x="336" y="297"/>
                        </a:lnTo>
                        <a:lnTo>
                          <a:pt x="0" y="411"/>
                        </a:lnTo>
                        <a:lnTo>
                          <a:pt x="407" y="417"/>
                        </a:lnTo>
                        <a:lnTo>
                          <a:pt x="621" y="389"/>
                        </a:lnTo>
                        <a:lnTo>
                          <a:pt x="723" y="451"/>
                        </a:lnTo>
                        <a:lnTo>
                          <a:pt x="779" y="405"/>
                        </a:lnTo>
                        <a:lnTo>
                          <a:pt x="788" y="369"/>
                        </a:lnTo>
                        <a:lnTo>
                          <a:pt x="1046" y="340"/>
                        </a:lnTo>
                        <a:lnTo>
                          <a:pt x="1098" y="394"/>
                        </a:lnTo>
                        <a:lnTo>
                          <a:pt x="1152" y="405"/>
                        </a:lnTo>
                        <a:lnTo>
                          <a:pt x="1212" y="379"/>
                        </a:lnTo>
                        <a:lnTo>
                          <a:pt x="1220" y="318"/>
                        </a:lnTo>
                        <a:lnTo>
                          <a:pt x="1422" y="297"/>
                        </a:lnTo>
                        <a:lnTo>
                          <a:pt x="1532" y="638"/>
                        </a:lnTo>
                        <a:lnTo>
                          <a:pt x="1212" y="804"/>
                        </a:lnTo>
                        <a:lnTo>
                          <a:pt x="1628" y="774"/>
                        </a:lnTo>
                        <a:lnTo>
                          <a:pt x="1713" y="835"/>
                        </a:lnTo>
                        <a:lnTo>
                          <a:pt x="1859" y="764"/>
                        </a:lnTo>
                        <a:lnTo>
                          <a:pt x="2264" y="787"/>
                        </a:lnTo>
                        <a:lnTo>
                          <a:pt x="1954" y="629"/>
                        </a:lnTo>
                        <a:lnTo>
                          <a:pt x="2067" y="293"/>
                        </a:lnTo>
                        <a:lnTo>
                          <a:pt x="2192" y="309"/>
                        </a:lnTo>
                        <a:lnTo>
                          <a:pt x="2219" y="395"/>
                        </a:lnTo>
                        <a:lnTo>
                          <a:pt x="2314" y="402"/>
                        </a:lnTo>
                        <a:lnTo>
                          <a:pt x="2350" y="326"/>
                        </a:lnTo>
                        <a:lnTo>
                          <a:pt x="2601" y="355"/>
                        </a:lnTo>
                        <a:lnTo>
                          <a:pt x="2632" y="417"/>
                        </a:lnTo>
                        <a:lnTo>
                          <a:pt x="2707" y="426"/>
                        </a:lnTo>
                        <a:lnTo>
                          <a:pt x="2747" y="373"/>
                        </a:lnTo>
                        <a:lnTo>
                          <a:pt x="3003" y="403"/>
                        </a:lnTo>
                        <a:lnTo>
                          <a:pt x="3288" y="318"/>
                        </a:lnTo>
                        <a:lnTo>
                          <a:pt x="2574" y="119"/>
                        </a:lnTo>
                        <a:lnTo>
                          <a:pt x="2069" y="0"/>
                        </a:lnTo>
                        <a:lnTo>
                          <a:pt x="1152" y="37"/>
                        </a:lnTo>
                        <a:lnTo>
                          <a:pt x="1152" y="3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0" y="3030480"/>
                    <a:ext cx="9144000" cy="3827520"/>
                  </a:xfrm>
                  <a:custGeom>
                    <a:avLst/>
                    <a:gdLst/>
                    <a:ahLst/>
                    <a:rect l="l" t="t" r="r" b="b"/>
                    <a:pathLst>
                      <a:path w="4599" h="1995">
                        <a:moveTo>
                          <a:pt x="11" y="1378"/>
                        </a:moveTo>
                        <a:lnTo>
                          <a:pt x="0" y="1965"/>
                        </a:lnTo>
                        <a:lnTo>
                          <a:pt x="3199" y="1995"/>
                        </a:lnTo>
                        <a:lnTo>
                          <a:pt x="4582" y="1947"/>
                        </a:lnTo>
                        <a:lnTo>
                          <a:pt x="4599" y="1337"/>
                        </a:lnTo>
                        <a:lnTo>
                          <a:pt x="2328" y="0"/>
                        </a:lnTo>
                        <a:lnTo>
                          <a:pt x="11" y="1378"/>
                        </a:lnTo>
                        <a:lnTo>
                          <a:pt x="11" y="137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4097160" y="5483160"/>
                    <a:ext cx="824040" cy="750960"/>
                  </a:xfrm>
                  <a:custGeom>
                    <a:avLst/>
                    <a:gdLst/>
                    <a:ahLst/>
                    <a:rect l="l" t="t" r="r" b="b"/>
                    <a:pathLst>
                      <a:path w="519" h="473">
                        <a:moveTo>
                          <a:pt x="0" y="442"/>
                        </a:moveTo>
                        <a:lnTo>
                          <a:pt x="151" y="12"/>
                        </a:lnTo>
                        <a:lnTo>
                          <a:pt x="370" y="0"/>
                        </a:lnTo>
                        <a:lnTo>
                          <a:pt x="519" y="473"/>
                        </a:lnTo>
                        <a:lnTo>
                          <a:pt x="0" y="442"/>
                        </a:lnTo>
                        <a:lnTo>
                          <a:pt x="0" y="44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4010040" y="3191040"/>
                    <a:ext cx="423720" cy="276120"/>
                  </a:xfrm>
                  <a:custGeom>
                    <a:avLst/>
                    <a:gdLst/>
                    <a:ahLst/>
                    <a:rect l="l" t="t" r="r" b="b"/>
                    <a:pathLst>
                      <a:path w="267" h="174">
                        <a:moveTo>
                          <a:pt x="0" y="85"/>
                        </a:moveTo>
                        <a:lnTo>
                          <a:pt x="48" y="115"/>
                        </a:lnTo>
                        <a:lnTo>
                          <a:pt x="129" y="118"/>
                        </a:lnTo>
                        <a:lnTo>
                          <a:pt x="181" y="170"/>
                        </a:lnTo>
                        <a:lnTo>
                          <a:pt x="267" y="174"/>
                        </a:lnTo>
                        <a:lnTo>
                          <a:pt x="267" y="138"/>
                        </a:lnTo>
                        <a:lnTo>
                          <a:pt x="262" y="127"/>
                        </a:lnTo>
                        <a:lnTo>
                          <a:pt x="248" y="111"/>
                        </a:lnTo>
                        <a:lnTo>
                          <a:pt x="229" y="91"/>
                        </a:lnTo>
                        <a:lnTo>
                          <a:pt x="265" y="42"/>
                        </a:lnTo>
                        <a:lnTo>
                          <a:pt x="240" y="0"/>
                        </a:lnTo>
                        <a:lnTo>
                          <a:pt x="146" y="4"/>
                        </a:lnTo>
                        <a:lnTo>
                          <a:pt x="55" y="25"/>
                        </a:lnTo>
                        <a:lnTo>
                          <a:pt x="3" y="50"/>
                        </a:lnTo>
                        <a:lnTo>
                          <a:pt x="0" y="85"/>
                        </a:lnTo>
                        <a:lnTo>
                          <a:pt x="0" y="8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5259240" y="5156280"/>
                    <a:ext cx="600120" cy="353880"/>
                  </a:xfrm>
                  <a:custGeom>
                    <a:avLst/>
                    <a:gdLst/>
                    <a:ahLst/>
                    <a:rect l="l" t="t" r="r" b="b"/>
                    <a:pathLst>
                      <a:path w="378" h="223">
                        <a:moveTo>
                          <a:pt x="0" y="172"/>
                        </a:moveTo>
                        <a:lnTo>
                          <a:pt x="66" y="223"/>
                        </a:lnTo>
                        <a:lnTo>
                          <a:pt x="260" y="120"/>
                        </a:lnTo>
                        <a:lnTo>
                          <a:pt x="378" y="11"/>
                        </a:lnTo>
                        <a:lnTo>
                          <a:pt x="341" y="0"/>
                        </a:lnTo>
                        <a:lnTo>
                          <a:pt x="268" y="11"/>
                        </a:lnTo>
                        <a:lnTo>
                          <a:pt x="160" y="38"/>
                        </a:lnTo>
                        <a:lnTo>
                          <a:pt x="0" y="172"/>
                        </a:lnTo>
                        <a:lnTo>
                          <a:pt x="0" y="17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898720" y="3398760"/>
                    <a:ext cx="3016440" cy="1017720"/>
                  </a:xfrm>
                  <a:custGeom>
                    <a:avLst/>
                    <a:gdLst/>
                    <a:ahLst/>
                    <a:rect l="l" t="t" r="r" b="b"/>
                    <a:pathLst>
                      <a:path w="1900" h="641">
                        <a:moveTo>
                          <a:pt x="0" y="63"/>
                        </a:moveTo>
                        <a:lnTo>
                          <a:pt x="147" y="31"/>
                        </a:lnTo>
                        <a:lnTo>
                          <a:pt x="397" y="0"/>
                        </a:lnTo>
                        <a:lnTo>
                          <a:pt x="644" y="33"/>
                        </a:lnTo>
                        <a:lnTo>
                          <a:pt x="730" y="88"/>
                        </a:lnTo>
                        <a:lnTo>
                          <a:pt x="871" y="40"/>
                        </a:lnTo>
                        <a:lnTo>
                          <a:pt x="1193" y="61"/>
                        </a:lnTo>
                        <a:lnTo>
                          <a:pt x="1462" y="145"/>
                        </a:lnTo>
                        <a:lnTo>
                          <a:pt x="1647" y="185"/>
                        </a:lnTo>
                        <a:lnTo>
                          <a:pt x="1898" y="173"/>
                        </a:lnTo>
                        <a:lnTo>
                          <a:pt x="1900" y="202"/>
                        </a:lnTo>
                        <a:lnTo>
                          <a:pt x="1888" y="227"/>
                        </a:lnTo>
                        <a:lnTo>
                          <a:pt x="1875" y="239"/>
                        </a:lnTo>
                        <a:lnTo>
                          <a:pt x="1865" y="245"/>
                        </a:lnTo>
                        <a:lnTo>
                          <a:pt x="1855" y="249"/>
                        </a:lnTo>
                        <a:lnTo>
                          <a:pt x="1680" y="275"/>
                        </a:lnTo>
                        <a:lnTo>
                          <a:pt x="1339" y="267"/>
                        </a:lnTo>
                        <a:lnTo>
                          <a:pt x="1260" y="272"/>
                        </a:lnTo>
                        <a:lnTo>
                          <a:pt x="1146" y="369"/>
                        </a:lnTo>
                        <a:lnTo>
                          <a:pt x="1056" y="538"/>
                        </a:lnTo>
                        <a:lnTo>
                          <a:pt x="407" y="641"/>
                        </a:lnTo>
                        <a:lnTo>
                          <a:pt x="411" y="514"/>
                        </a:lnTo>
                        <a:lnTo>
                          <a:pt x="511" y="258"/>
                        </a:lnTo>
                        <a:lnTo>
                          <a:pt x="567" y="170"/>
                        </a:lnTo>
                        <a:lnTo>
                          <a:pt x="440" y="116"/>
                        </a:lnTo>
                        <a:lnTo>
                          <a:pt x="185" y="88"/>
                        </a:lnTo>
                        <a:lnTo>
                          <a:pt x="18" y="104"/>
                        </a:lnTo>
                        <a:lnTo>
                          <a:pt x="0" y="63"/>
                        </a:lnTo>
                        <a:lnTo>
                          <a:pt x="0" y="6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901960" y="3398760"/>
                    <a:ext cx="1758960" cy="1001880"/>
                  </a:xfrm>
                  <a:custGeom>
                    <a:avLst/>
                    <a:gdLst/>
                    <a:ahLst/>
                    <a:rect l="l" t="t" r="r" b="b"/>
                    <a:pathLst>
                      <a:path w="1108" h="631">
                        <a:moveTo>
                          <a:pt x="821" y="64"/>
                        </a:moveTo>
                        <a:lnTo>
                          <a:pt x="813" y="72"/>
                        </a:lnTo>
                        <a:lnTo>
                          <a:pt x="794" y="95"/>
                        </a:lnTo>
                        <a:lnTo>
                          <a:pt x="775" y="129"/>
                        </a:lnTo>
                        <a:lnTo>
                          <a:pt x="769" y="173"/>
                        </a:lnTo>
                        <a:lnTo>
                          <a:pt x="775" y="198"/>
                        </a:lnTo>
                        <a:lnTo>
                          <a:pt x="782" y="211"/>
                        </a:lnTo>
                        <a:lnTo>
                          <a:pt x="788" y="225"/>
                        </a:lnTo>
                        <a:lnTo>
                          <a:pt x="798" y="238"/>
                        </a:lnTo>
                        <a:lnTo>
                          <a:pt x="811" y="253"/>
                        </a:lnTo>
                        <a:lnTo>
                          <a:pt x="825" y="267"/>
                        </a:lnTo>
                        <a:lnTo>
                          <a:pt x="834" y="274"/>
                        </a:lnTo>
                        <a:lnTo>
                          <a:pt x="844" y="280"/>
                        </a:lnTo>
                        <a:lnTo>
                          <a:pt x="852" y="288"/>
                        </a:lnTo>
                        <a:lnTo>
                          <a:pt x="865" y="295"/>
                        </a:lnTo>
                        <a:lnTo>
                          <a:pt x="875" y="303"/>
                        </a:lnTo>
                        <a:lnTo>
                          <a:pt x="888" y="310"/>
                        </a:lnTo>
                        <a:lnTo>
                          <a:pt x="902" y="318"/>
                        </a:lnTo>
                        <a:lnTo>
                          <a:pt x="915" y="324"/>
                        </a:lnTo>
                        <a:lnTo>
                          <a:pt x="931" y="332"/>
                        </a:lnTo>
                        <a:lnTo>
                          <a:pt x="946" y="339"/>
                        </a:lnTo>
                        <a:lnTo>
                          <a:pt x="963" y="345"/>
                        </a:lnTo>
                        <a:lnTo>
                          <a:pt x="981" y="353"/>
                        </a:lnTo>
                        <a:lnTo>
                          <a:pt x="998" y="360"/>
                        </a:lnTo>
                        <a:lnTo>
                          <a:pt x="1019" y="368"/>
                        </a:lnTo>
                        <a:lnTo>
                          <a:pt x="1040" y="375"/>
                        </a:lnTo>
                        <a:lnTo>
                          <a:pt x="1062" y="381"/>
                        </a:lnTo>
                        <a:lnTo>
                          <a:pt x="1083" y="389"/>
                        </a:lnTo>
                        <a:lnTo>
                          <a:pt x="1108" y="396"/>
                        </a:lnTo>
                        <a:lnTo>
                          <a:pt x="1056" y="534"/>
                        </a:lnTo>
                        <a:lnTo>
                          <a:pt x="414" y="631"/>
                        </a:lnTo>
                        <a:lnTo>
                          <a:pt x="393" y="514"/>
                        </a:lnTo>
                        <a:lnTo>
                          <a:pt x="501" y="253"/>
                        </a:lnTo>
                        <a:lnTo>
                          <a:pt x="576" y="168"/>
                        </a:lnTo>
                        <a:lnTo>
                          <a:pt x="455" y="118"/>
                        </a:lnTo>
                        <a:lnTo>
                          <a:pt x="301" y="93"/>
                        </a:lnTo>
                        <a:lnTo>
                          <a:pt x="166" y="88"/>
                        </a:lnTo>
                        <a:lnTo>
                          <a:pt x="20" y="101"/>
                        </a:lnTo>
                        <a:lnTo>
                          <a:pt x="0" y="64"/>
                        </a:lnTo>
                        <a:lnTo>
                          <a:pt x="166" y="26"/>
                        </a:lnTo>
                        <a:lnTo>
                          <a:pt x="345" y="0"/>
                        </a:lnTo>
                        <a:lnTo>
                          <a:pt x="520" y="10"/>
                        </a:lnTo>
                        <a:lnTo>
                          <a:pt x="725" y="69"/>
                        </a:lnTo>
                        <a:lnTo>
                          <a:pt x="821" y="64"/>
                        </a:lnTo>
                        <a:lnTo>
                          <a:pt x="821" y="6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590920" y="4138560"/>
                    <a:ext cx="3133440" cy="1679760"/>
                  </a:xfrm>
                  <a:custGeom>
                    <a:avLst/>
                    <a:gdLst/>
                    <a:ahLst/>
                    <a:rect l="l" t="t" r="r" b="b"/>
                    <a:pathLst>
                      <a:path w="1974" h="1058">
                        <a:moveTo>
                          <a:pt x="160" y="538"/>
                        </a:moveTo>
                        <a:lnTo>
                          <a:pt x="431" y="687"/>
                        </a:lnTo>
                        <a:lnTo>
                          <a:pt x="375" y="462"/>
                        </a:lnTo>
                        <a:lnTo>
                          <a:pt x="545" y="211"/>
                        </a:lnTo>
                        <a:lnTo>
                          <a:pt x="653" y="106"/>
                        </a:lnTo>
                        <a:lnTo>
                          <a:pt x="894" y="18"/>
                        </a:lnTo>
                        <a:lnTo>
                          <a:pt x="1098" y="0"/>
                        </a:lnTo>
                        <a:lnTo>
                          <a:pt x="1221" y="45"/>
                        </a:lnTo>
                        <a:lnTo>
                          <a:pt x="1344" y="93"/>
                        </a:lnTo>
                        <a:lnTo>
                          <a:pt x="1689" y="140"/>
                        </a:lnTo>
                        <a:lnTo>
                          <a:pt x="1949" y="235"/>
                        </a:lnTo>
                        <a:lnTo>
                          <a:pt x="1974" y="357"/>
                        </a:lnTo>
                        <a:lnTo>
                          <a:pt x="1889" y="656"/>
                        </a:lnTo>
                        <a:lnTo>
                          <a:pt x="1868" y="679"/>
                        </a:lnTo>
                        <a:lnTo>
                          <a:pt x="1847" y="703"/>
                        </a:lnTo>
                        <a:lnTo>
                          <a:pt x="1820" y="730"/>
                        </a:lnTo>
                        <a:lnTo>
                          <a:pt x="1791" y="758"/>
                        </a:lnTo>
                        <a:lnTo>
                          <a:pt x="1782" y="765"/>
                        </a:lnTo>
                        <a:lnTo>
                          <a:pt x="1774" y="772"/>
                        </a:lnTo>
                        <a:lnTo>
                          <a:pt x="1758" y="784"/>
                        </a:lnTo>
                        <a:lnTo>
                          <a:pt x="1751" y="789"/>
                        </a:lnTo>
                        <a:lnTo>
                          <a:pt x="1743" y="794"/>
                        </a:lnTo>
                        <a:lnTo>
                          <a:pt x="1726" y="803"/>
                        </a:lnTo>
                        <a:lnTo>
                          <a:pt x="1712" y="810"/>
                        </a:lnTo>
                        <a:lnTo>
                          <a:pt x="1699" y="814"/>
                        </a:lnTo>
                        <a:lnTo>
                          <a:pt x="1599" y="680"/>
                        </a:lnTo>
                        <a:lnTo>
                          <a:pt x="1556" y="505"/>
                        </a:lnTo>
                        <a:lnTo>
                          <a:pt x="1329" y="545"/>
                        </a:lnTo>
                        <a:lnTo>
                          <a:pt x="998" y="599"/>
                        </a:lnTo>
                        <a:lnTo>
                          <a:pt x="838" y="798"/>
                        </a:lnTo>
                        <a:lnTo>
                          <a:pt x="493" y="1058"/>
                        </a:lnTo>
                        <a:lnTo>
                          <a:pt x="289" y="1058"/>
                        </a:lnTo>
                        <a:lnTo>
                          <a:pt x="71" y="949"/>
                        </a:lnTo>
                        <a:lnTo>
                          <a:pt x="0" y="853"/>
                        </a:lnTo>
                        <a:lnTo>
                          <a:pt x="148" y="668"/>
                        </a:lnTo>
                        <a:lnTo>
                          <a:pt x="160" y="538"/>
                        </a:lnTo>
                        <a:lnTo>
                          <a:pt x="160" y="53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550960" y="4457880"/>
                    <a:ext cx="2776680" cy="1390320"/>
                  </a:xfrm>
                  <a:custGeom>
                    <a:avLst/>
                    <a:gdLst/>
                    <a:ahLst/>
                    <a:rect l="l" t="t" r="r" b="b"/>
                    <a:pathLst>
                      <a:path w="1749" h="876">
                        <a:moveTo>
                          <a:pt x="539" y="59"/>
                        </a:moveTo>
                        <a:lnTo>
                          <a:pt x="560" y="66"/>
                        </a:lnTo>
                        <a:lnTo>
                          <a:pt x="587" y="73"/>
                        </a:lnTo>
                        <a:lnTo>
                          <a:pt x="622" y="81"/>
                        </a:lnTo>
                        <a:lnTo>
                          <a:pt x="668" y="89"/>
                        </a:lnTo>
                        <a:lnTo>
                          <a:pt x="724" y="97"/>
                        </a:lnTo>
                        <a:lnTo>
                          <a:pt x="791" y="103"/>
                        </a:lnTo>
                        <a:lnTo>
                          <a:pt x="863" y="109"/>
                        </a:lnTo>
                        <a:lnTo>
                          <a:pt x="1038" y="111"/>
                        </a:lnTo>
                        <a:lnTo>
                          <a:pt x="1246" y="98"/>
                        </a:lnTo>
                        <a:lnTo>
                          <a:pt x="1302" y="91"/>
                        </a:lnTo>
                        <a:lnTo>
                          <a:pt x="1360" y="83"/>
                        </a:lnTo>
                        <a:lnTo>
                          <a:pt x="1421" y="74"/>
                        </a:lnTo>
                        <a:lnTo>
                          <a:pt x="1483" y="62"/>
                        </a:lnTo>
                        <a:lnTo>
                          <a:pt x="1514" y="57"/>
                        </a:lnTo>
                        <a:lnTo>
                          <a:pt x="1548" y="50"/>
                        </a:lnTo>
                        <a:lnTo>
                          <a:pt x="1581" y="42"/>
                        </a:lnTo>
                        <a:lnTo>
                          <a:pt x="1614" y="34"/>
                        </a:lnTo>
                        <a:lnTo>
                          <a:pt x="1647" y="28"/>
                        </a:lnTo>
                        <a:lnTo>
                          <a:pt x="1681" y="18"/>
                        </a:lnTo>
                        <a:lnTo>
                          <a:pt x="1716" y="9"/>
                        </a:lnTo>
                        <a:lnTo>
                          <a:pt x="1749" y="0"/>
                        </a:lnTo>
                        <a:lnTo>
                          <a:pt x="1739" y="54"/>
                        </a:lnTo>
                        <a:lnTo>
                          <a:pt x="1724" y="115"/>
                        </a:lnTo>
                        <a:lnTo>
                          <a:pt x="1712" y="192"/>
                        </a:lnTo>
                        <a:lnTo>
                          <a:pt x="1695" y="279"/>
                        </a:lnTo>
                        <a:lnTo>
                          <a:pt x="1683" y="369"/>
                        </a:lnTo>
                        <a:lnTo>
                          <a:pt x="1664" y="544"/>
                        </a:lnTo>
                        <a:lnTo>
                          <a:pt x="1608" y="444"/>
                        </a:lnTo>
                        <a:lnTo>
                          <a:pt x="1581" y="304"/>
                        </a:lnTo>
                        <a:lnTo>
                          <a:pt x="1292" y="357"/>
                        </a:lnTo>
                        <a:lnTo>
                          <a:pt x="1023" y="398"/>
                        </a:lnTo>
                        <a:lnTo>
                          <a:pt x="865" y="608"/>
                        </a:lnTo>
                        <a:lnTo>
                          <a:pt x="562" y="840"/>
                        </a:lnTo>
                        <a:lnTo>
                          <a:pt x="293" y="876"/>
                        </a:lnTo>
                        <a:lnTo>
                          <a:pt x="85" y="738"/>
                        </a:lnTo>
                        <a:lnTo>
                          <a:pt x="0" y="626"/>
                        </a:lnTo>
                        <a:lnTo>
                          <a:pt x="202" y="357"/>
                        </a:lnTo>
                        <a:lnTo>
                          <a:pt x="456" y="486"/>
                        </a:lnTo>
                        <a:lnTo>
                          <a:pt x="379" y="305"/>
                        </a:lnTo>
                        <a:lnTo>
                          <a:pt x="539" y="59"/>
                        </a:lnTo>
                        <a:lnTo>
                          <a:pt x="539" y="5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303640" y="4824360"/>
                    <a:ext cx="568080" cy="739800"/>
                  </a:xfrm>
                  <a:custGeom>
                    <a:avLst/>
                    <a:gdLst/>
                    <a:ahLst/>
                    <a:rect l="l" t="t" r="r" b="b"/>
                    <a:pathLst>
                      <a:path w="358" h="466">
                        <a:moveTo>
                          <a:pt x="44" y="151"/>
                        </a:moveTo>
                        <a:lnTo>
                          <a:pt x="0" y="293"/>
                        </a:lnTo>
                        <a:lnTo>
                          <a:pt x="0" y="398"/>
                        </a:lnTo>
                        <a:lnTo>
                          <a:pt x="58" y="466"/>
                        </a:lnTo>
                        <a:lnTo>
                          <a:pt x="156" y="395"/>
                        </a:lnTo>
                        <a:lnTo>
                          <a:pt x="302" y="289"/>
                        </a:lnTo>
                        <a:lnTo>
                          <a:pt x="358" y="126"/>
                        </a:lnTo>
                        <a:lnTo>
                          <a:pt x="304" y="22"/>
                        </a:lnTo>
                        <a:lnTo>
                          <a:pt x="248" y="0"/>
                        </a:lnTo>
                        <a:lnTo>
                          <a:pt x="167" y="32"/>
                        </a:lnTo>
                        <a:lnTo>
                          <a:pt x="88" y="78"/>
                        </a:lnTo>
                        <a:lnTo>
                          <a:pt x="71" y="98"/>
                        </a:lnTo>
                        <a:lnTo>
                          <a:pt x="56" y="121"/>
                        </a:lnTo>
                        <a:lnTo>
                          <a:pt x="44" y="151"/>
                        </a:lnTo>
                        <a:lnTo>
                          <a:pt x="44" y="15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3591000" y="4815000"/>
                    <a:ext cx="1515960" cy="287280"/>
                  </a:xfrm>
                  <a:custGeom>
                    <a:avLst/>
                    <a:gdLst/>
                    <a:ahLst/>
                    <a:rect l="l" t="t" r="r" b="b"/>
                    <a:pathLst>
                      <a:path w="955" h="181">
                        <a:moveTo>
                          <a:pt x="0" y="0"/>
                        </a:moveTo>
                        <a:lnTo>
                          <a:pt x="7" y="15"/>
                        </a:lnTo>
                        <a:lnTo>
                          <a:pt x="19" y="32"/>
                        </a:lnTo>
                        <a:lnTo>
                          <a:pt x="36" y="52"/>
                        </a:lnTo>
                        <a:lnTo>
                          <a:pt x="59" y="75"/>
                        </a:lnTo>
                        <a:lnTo>
                          <a:pt x="67" y="81"/>
                        </a:lnTo>
                        <a:lnTo>
                          <a:pt x="73" y="88"/>
                        </a:lnTo>
                        <a:lnTo>
                          <a:pt x="81" y="93"/>
                        </a:lnTo>
                        <a:lnTo>
                          <a:pt x="90" y="100"/>
                        </a:lnTo>
                        <a:lnTo>
                          <a:pt x="108" y="111"/>
                        </a:lnTo>
                        <a:lnTo>
                          <a:pt x="119" y="117"/>
                        </a:lnTo>
                        <a:lnTo>
                          <a:pt x="129" y="123"/>
                        </a:lnTo>
                        <a:lnTo>
                          <a:pt x="140" y="128"/>
                        </a:lnTo>
                        <a:lnTo>
                          <a:pt x="150" y="133"/>
                        </a:lnTo>
                        <a:lnTo>
                          <a:pt x="163" y="138"/>
                        </a:lnTo>
                        <a:lnTo>
                          <a:pt x="175" y="144"/>
                        </a:lnTo>
                        <a:lnTo>
                          <a:pt x="202" y="153"/>
                        </a:lnTo>
                        <a:lnTo>
                          <a:pt x="233" y="162"/>
                        </a:lnTo>
                        <a:lnTo>
                          <a:pt x="264" y="169"/>
                        </a:lnTo>
                        <a:lnTo>
                          <a:pt x="300" y="174"/>
                        </a:lnTo>
                        <a:lnTo>
                          <a:pt x="377" y="181"/>
                        </a:lnTo>
                        <a:lnTo>
                          <a:pt x="466" y="178"/>
                        </a:lnTo>
                        <a:lnTo>
                          <a:pt x="568" y="168"/>
                        </a:lnTo>
                        <a:lnTo>
                          <a:pt x="624" y="158"/>
                        </a:lnTo>
                        <a:lnTo>
                          <a:pt x="653" y="152"/>
                        </a:lnTo>
                        <a:lnTo>
                          <a:pt x="682" y="145"/>
                        </a:lnTo>
                        <a:lnTo>
                          <a:pt x="714" y="137"/>
                        </a:lnTo>
                        <a:lnTo>
                          <a:pt x="745" y="129"/>
                        </a:lnTo>
                        <a:lnTo>
                          <a:pt x="778" y="120"/>
                        </a:lnTo>
                        <a:lnTo>
                          <a:pt x="811" y="111"/>
                        </a:lnTo>
                        <a:lnTo>
                          <a:pt x="828" y="105"/>
                        </a:lnTo>
                        <a:lnTo>
                          <a:pt x="847" y="99"/>
                        </a:lnTo>
                        <a:lnTo>
                          <a:pt x="863" y="93"/>
                        </a:lnTo>
                        <a:lnTo>
                          <a:pt x="882" y="88"/>
                        </a:lnTo>
                        <a:lnTo>
                          <a:pt x="901" y="81"/>
                        </a:lnTo>
                        <a:lnTo>
                          <a:pt x="917" y="75"/>
                        </a:lnTo>
                        <a:lnTo>
                          <a:pt x="936" y="68"/>
                        </a:lnTo>
                        <a:lnTo>
                          <a:pt x="955" y="60"/>
                        </a:lnTo>
                        <a:lnTo>
                          <a:pt x="920" y="68"/>
                        </a:lnTo>
                        <a:lnTo>
                          <a:pt x="876" y="76"/>
                        </a:lnTo>
                        <a:lnTo>
                          <a:pt x="820" y="87"/>
                        </a:lnTo>
                        <a:lnTo>
                          <a:pt x="789" y="92"/>
                        </a:lnTo>
                        <a:lnTo>
                          <a:pt x="755" y="97"/>
                        </a:lnTo>
                        <a:lnTo>
                          <a:pt x="718" y="103"/>
                        </a:lnTo>
                        <a:lnTo>
                          <a:pt x="680" y="108"/>
                        </a:lnTo>
                        <a:lnTo>
                          <a:pt x="601" y="117"/>
                        </a:lnTo>
                        <a:lnTo>
                          <a:pt x="516" y="124"/>
                        </a:lnTo>
                        <a:lnTo>
                          <a:pt x="431" y="128"/>
                        </a:lnTo>
                        <a:lnTo>
                          <a:pt x="348" y="129"/>
                        </a:lnTo>
                        <a:lnTo>
                          <a:pt x="267" y="125"/>
                        </a:lnTo>
                        <a:lnTo>
                          <a:pt x="192" y="115"/>
                        </a:lnTo>
                        <a:lnTo>
                          <a:pt x="158" y="108"/>
                        </a:lnTo>
                        <a:lnTo>
                          <a:pt x="127" y="99"/>
                        </a:lnTo>
                        <a:lnTo>
                          <a:pt x="98" y="88"/>
                        </a:lnTo>
                        <a:lnTo>
                          <a:pt x="84" y="81"/>
                        </a:lnTo>
                        <a:lnTo>
                          <a:pt x="71" y="75"/>
                        </a:lnTo>
                        <a:lnTo>
                          <a:pt x="59" y="67"/>
                        </a:lnTo>
                        <a:lnTo>
                          <a:pt x="48" y="59"/>
                        </a:lnTo>
                        <a:lnTo>
                          <a:pt x="27" y="39"/>
                        </a:lnTo>
                        <a:lnTo>
                          <a:pt x="0" y="0"/>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4562640" y="4300560"/>
                    <a:ext cx="1174680" cy="880920"/>
                  </a:xfrm>
                  <a:custGeom>
                    <a:avLst/>
                    <a:gdLst/>
                    <a:ahLst/>
                    <a:rect l="l" t="t" r="r" b="b"/>
                    <a:pathLst>
                      <a:path w="740" h="555">
                        <a:moveTo>
                          <a:pt x="87" y="7"/>
                        </a:moveTo>
                        <a:lnTo>
                          <a:pt x="226" y="14"/>
                        </a:lnTo>
                        <a:lnTo>
                          <a:pt x="299" y="22"/>
                        </a:lnTo>
                        <a:lnTo>
                          <a:pt x="372" y="34"/>
                        </a:lnTo>
                        <a:lnTo>
                          <a:pt x="407" y="40"/>
                        </a:lnTo>
                        <a:lnTo>
                          <a:pt x="441" y="50"/>
                        </a:lnTo>
                        <a:lnTo>
                          <a:pt x="474" y="59"/>
                        </a:lnTo>
                        <a:lnTo>
                          <a:pt x="505" y="70"/>
                        </a:lnTo>
                        <a:lnTo>
                          <a:pt x="522" y="75"/>
                        </a:lnTo>
                        <a:lnTo>
                          <a:pt x="536" y="81"/>
                        </a:lnTo>
                        <a:lnTo>
                          <a:pt x="549" y="88"/>
                        </a:lnTo>
                        <a:lnTo>
                          <a:pt x="563" y="95"/>
                        </a:lnTo>
                        <a:lnTo>
                          <a:pt x="576" y="101"/>
                        </a:lnTo>
                        <a:lnTo>
                          <a:pt x="588" y="109"/>
                        </a:lnTo>
                        <a:lnTo>
                          <a:pt x="601" y="117"/>
                        </a:lnTo>
                        <a:lnTo>
                          <a:pt x="611" y="125"/>
                        </a:lnTo>
                        <a:lnTo>
                          <a:pt x="651" y="162"/>
                        </a:lnTo>
                        <a:lnTo>
                          <a:pt x="674" y="206"/>
                        </a:lnTo>
                        <a:lnTo>
                          <a:pt x="669" y="348"/>
                        </a:lnTo>
                        <a:lnTo>
                          <a:pt x="663" y="405"/>
                        </a:lnTo>
                        <a:lnTo>
                          <a:pt x="655" y="461"/>
                        </a:lnTo>
                        <a:lnTo>
                          <a:pt x="642" y="510"/>
                        </a:lnTo>
                        <a:lnTo>
                          <a:pt x="628" y="555"/>
                        </a:lnTo>
                        <a:lnTo>
                          <a:pt x="651" y="524"/>
                        </a:lnTo>
                        <a:lnTo>
                          <a:pt x="669" y="486"/>
                        </a:lnTo>
                        <a:lnTo>
                          <a:pt x="680" y="454"/>
                        </a:lnTo>
                        <a:lnTo>
                          <a:pt x="690" y="420"/>
                        </a:lnTo>
                        <a:lnTo>
                          <a:pt x="699" y="392"/>
                        </a:lnTo>
                        <a:lnTo>
                          <a:pt x="709" y="359"/>
                        </a:lnTo>
                        <a:lnTo>
                          <a:pt x="719" y="328"/>
                        </a:lnTo>
                        <a:lnTo>
                          <a:pt x="730" y="294"/>
                        </a:lnTo>
                        <a:lnTo>
                          <a:pt x="740" y="204"/>
                        </a:lnTo>
                        <a:lnTo>
                          <a:pt x="736" y="188"/>
                        </a:lnTo>
                        <a:lnTo>
                          <a:pt x="730" y="174"/>
                        </a:lnTo>
                        <a:lnTo>
                          <a:pt x="719" y="157"/>
                        </a:lnTo>
                        <a:lnTo>
                          <a:pt x="703" y="139"/>
                        </a:lnTo>
                        <a:lnTo>
                          <a:pt x="680" y="119"/>
                        </a:lnTo>
                        <a:lnTo>
                          <a:pt x="674" y="113"/>
                        </a:lnTo>
                        <a:lnTo>
                          <a:pt x="665" y="108"/>
                        </a:lnTo>
                        <a:lnTo>
                          <a:pt x="659" y="103"/>
                        </a:lnTo>
                        <a:lnTo>
                          <a:pt x="651" y="97"/>
                        </a:lnTo>
                        <a:lnTo>
                          <a:pt x="640" y="92"/>
                        </a:lnTo>
                        <a:lnTo>
                          <a:pt x="632" y="87"/>
                        </a:lnTo>
                        <a:lnTo>
                          <a:pt x="622" y="81"/>
                        </a:lnTo>
                        <a:lnTo>
                          <a:pt x="611" y="76"/>
                        </a:lnTo>
                        <a:lnTo>
                          <a:pt x="599" y="71"/>
                        </a:lnTo>
                        <a:lnTo>
                          <a:pt x="586" y="67"/>
                        </a:lnTo>
                        <a:lnTo>
                          <a:pt x="561" y="56"/>
                        </a:lnTo>
                        <a:lnTo>
                          <a:pt x="532" y="47"/>
                        </a:lnTo>
                        <a:lnTo>
                          <a:pt x="501" y="39"/>
                        </a:lnTo>
                        <a:lnTo>
                          <a:pt x="468" y="31"/>
                        </a:lnTo>
                        <a:lnTo>
                          <a:pt x="428" y="23"/>
                        </a:lnTo>
                        <a:lnTo>
                          <a:pt x="389" y="16"/>
                        </a:lnTo>
                        <a:lnTo>
                          <a:pt x="343" y="11"/>
                        </a:lnTo>
                        <a:lnTo>
                          <a:pt x="297" y="7"/>
                        </a:lnTo>
                        <a:lnTo>
                          <a:pt x="245" y="3"/>
                        </a:lnTo>
                        <a:lnTo>
                          <a:pt x="131" y="0"/>
                        </a:lnTo>
                        <a:lnTo>
                          <a:pt x="0" y="3"/>
                        </a:lnTo>
                        <a:lnTo>
                          <a:pt x="87" y="7"/>
                        </a:lnTo>
                        <a:lnTo>
                          <a:pt x="87" y="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2590920" y="5108400"/>
                    <a:ext cx="1571400" cy="809640"/>
                  </a:xfrm>
                  <a:custGeom>
                    <a:avLst/>
                    <a:gdLst/>
                    <a:ahLst/>
                    <a:rect l="l" t="t" r="r" b="b"/>
                    <a:pathLst>
                      <a:path w="990" h="510">
                        <a:moveTo>
                          <a:pt x="0" y="242"/>
                        </a:moveTo>
                        <a:lnTo>
                          <a:pt x="15" y="272"/>
                        </a:lnTo>
                        <a:lnTo>
                          <a:pt x="23" y="287"/>
                        </a:lnTo>
                        <a:lnTo>
                          <a:pt x="33" y="304"/>
                        </a:lnTo>
                        <a:lnTo>
                          <a:pt x="46" y="323"/>
                        </a:lnTo>
                        <a:lnTo>
                          <a:pt x="60" y="342"/>
                        </a:lnTo>
                        <a:lnTo>
                          <a:pt x="75" y="362"/>
                        </a:lnTo>
                        <a:lnTo>
                          <a:pt x="94" y="384"/>
                        </a:lnTo>
                        <a:lnTo>
                          <a:pt x="112" y="405"/>
                        </a:lnTo>
                        <a:lnTo>
                          <a:pt x="135" y="425"/>
                        </a:lnTo>
                        <a:lnTo>
                          <a:pt x="146" y="434"/>
                        </a:lnTo>
                        <a:lnTo>
                          <a:pt x="158" y="443"/>
                        </a:lnTo>
                        <a:lnTo>
                          <a:pt x="171" y="453"/>
                        </a:lnTo>
                        <a:lnTo>
                          <a:pt x="183" y="462"/>
                        </a:lnTo>
                        <a:lnTo>
                          <a:pt x="198" y="470"/>
                        </a:lnTo>
                        <a:lnTo>
                          <a:pt x="212" y="477"/>
                        </a:lnTo>
                        <a:lnTo>
                          <a:pt x="227" y="484"/>
                        </a:lnTo>
                        <a:lnTo>
                          <a:pt x="241" y="490"/>
                        </a:lnTo>
                        <a:lnTo>
                          <a:pt x="256" y="495"/>
                        </a:lnTo>
                        <a:lnTo>
                          <a:pt x="273" y="500"/>
                        </a:lnTo>
                        <a:lnTo>
                          <a:pt x="306" y="507"/>
                        </a:lnTo>
                        <a:lnTo>
                          <a:pt x="341" y="510"/>
                        </a:lnTo>
                        <a:lnTo>
                          <a:pt x="379" y="508"/>
                        </a:lnTo>
                        <a:lnTo>
                          <a:pt x="460" y="492"/>
                        </a:lnTo>
                        <a:lnTo>
                          <a:pt x="481" y="484"/>
                        </a:lnTo>
                        <a:lnTo>
                          <a:pt x="503" y="475"/>
                        </a:lnTo>
                        <a:lnTo>
                          <a:pt x="526" y="465"/>
                        </a:lnTo>
                        <a:lnTo>
                          <a:pt x="537" y="459"/>
                        </a:lnTo>
                        <a:lnTo>
                          <a:pt x="549" y="453"/>
                        </a:lnTo>
                        <a:lnTo>
                          <a:pt x="562" y="446"/>
                        </a:lnTo>
                        <a:lnTo>
                          <a:pt x="572" y="439"/>
                        </a:lnTo>
                        <a:lnTo>
                          <a:pt x="585" y="431"/>
                        </a:lnTo>
                        <a:lnTo>
                          <a:pt x="597" y="423"/>
                        </a:lnTo>
                        <a:lnTo>
                          <a:pt x="610" y="415"/>
                        </a:lnTo>
                        <a:lnTo>
                          <a:pt x="622" y="406"/>
                        </a:lnTo>
                        <a:lnTo>
                          <a:pt x="634" y="397"/>
                        </a:lnTo>
                        <a:lnTo>
                          <a:pt x="647" y="388"/>
                        </a:lnTo>
                        <a:lnTo>
                          <a:pt x="659" y="377"/>
                        </a:lnTo>
                        <a:lnTo>
                          <a:pt x="672" y="366"/>
                        </a:lnTo>
                        <a:lnTo>
                          <a:pt x="699" y="344"/>
                        </a:lnTo>
                        <a:lnTo>
                          <a:pt x="726" y="320"/>
                        </a:lnTo>
                        <a:lnTo>
                          <a:pt x="753" y="293"/>
                        </a:lnTo>
                        <a:lnTo>
                          <a:pt x="780" y="264"/>
                        </a:lnTo>
                        <a:lnTo>
                          <a:pt x="809" y="234"/>
                        </a:lnTo>
                        <a:lnTo>
                          <a:pt x="822" y="218"/>
                        </a:lnTo>
                        <a:lnTo>
                          <a:pt x="838" y="200"/>
                        </a:lnTo>
                        <a:lnTo>
                          <a:pt x="853" y="183"/>
                        </a:lnTo>
                        <a:lnTo>
                          <a:pt x="867" y="165"/>
                        </a:lnTo>
                        <a:lnTo>
                          <a:pt x="882" y="146"/>
                        </a:lnTo>
                        <a:lnTo>
                          <a:pt x="897" y="127"/>
                        </a:lnTo>
                        <a:lnTo>
                          <a:pt x="911" y="107"/>
                        </a:lnTo>
                        <a:lnTo>
                          <a:pt x="928" y="88"/>
                        </a:lnTo>
                        <a:lnTo>
                          <a:pt x="942" y="66"/>
                        </a:lnTo>
                        <a:lnTo>
                          <a:pt x="957" y="45"/>
                        </a:lnTo>
                        <a:lnTo>
                          <a:pt x="973" y="22"/>
                        </a:lnTo>
                        <a:lnTo>
                          <a:pt x="990" y="0"/>
                        </a:lnTo>
                        <a:lnTo>
                          <a:pt x="982" y="9"/>
                        </a:lnTo>
                        <a:lnTo>
                          <a:pt x="963" y="33"/>
                        </a:lnTo>
                        <a:lnTo>
                          <a:pt x="951" y="49"/>
                        </a:lnTo>
                        <a:lnTo>
                          <a:pt x="934" y="69"/>
                        </a:lnTo>
                        <a:lnTo>
                          <a:pt x="913" y="90"/>
                        </a:lnTo>
                        <a:lnTo>
                          <a:pt x="892" y="114"/>
                        </a:lnTo>
                        <a:lnTo>
                          <a:pt x="867" y="139"/>
                        </a:lnTo>
                        <a:lnTo>
                          <a:pt x="842" y="165"/>
                        </a:lnTo>
                        <a:lnTo>
                          <a:pt x="813" y="192"/>
                        </a:lnTo>
                        <a:lnTo>
                          <a:pt x="784" y="219"/>
                        </a:lnTo>
                        <a:lnTo>
                          <a:pt x="753" y="247"/>
                        </a:lnTo>
                        <a:lnTo>
                          <a:pt x="745" y="253"/>
                        </a:lnTo>
                        <a:lnTo>
                          <a:pt x="736" y="260"/>
                        </a:lnTo>
                        <a:lnTo>
                          <a:pt x="728" y="267"/>
                        </a:lnTo>
                        <a:lnTo>
                          <a:pt x="720" y="273"/>
                        </a:lnTo>
                        <a:lnTo>
                          <a:pt x="711" y="280"/>
                        </a:lnTo>
                        <a:lnTo>
                          <a:pt x="701" y="287"/>
                        </a:lnTo>
                        <a:lnTo>
                          <a:pt x="693" y="293"/>
                        </a:lnTo>
                        <a:lnTo>
                          <a:pt x="684" y="299"/>
                        </a:lnTo>
                        <a:lnTo>
                          <a:pt x="676" y="305"/>
                        </a:lnTo>
                        <a:lnTo>
                          <a:pt x="668" y="312"/>
                        </a:lnTo>
                        <a:lnTo>
                          <a:pt x="657" y="319"/>
                        </a:lnTo>
                        <a:lnTo>
                          <a:pt x="649" y="324"/>
                        </a:lnTo>
                        <a:lnTo>
                          <a:pt x="639" y="329"/>
                        </a:lnTo>
                        <a:lnTo>
                          <a:pt x="630" y="336"/>
                        </a:lnTo>
                        <a:lnTo>
                          <a:pt x="612" y="346"/>
                        </a:lnTo>
                        <a:lnTo>
                          <a:pt x="601" y="353"/>
                        </a:lnTo>
                        <a:lnTo>
                          <a:pt x="593" y="358"/>
                        </a:lnTo>
                        <a:lnTo>
                          <a:pt x="582" y="364"/>
                        </a:lnTo>
                        <a:lnTo>
                          <a:pt x="572" y="368"/>
                        </a:lnTo>
                        <a:lnTo>
                          <a:pt x="553" y="378"/>
                        </a:lnTo>
                        <a:lnTo>
                          <a:pt x="533" y="388"/>
                        </a:lnTo>
                        <a:lnTo>
                          <a:pt x="514" y="396"/>
                        </a:lnTo>
                        <a:lnTo>
                          <a:pt x="493" y="403"/>
                        </a:lnTo>
                        <a:lnTo>
                          <a:pt x="472" y="410"/>
                        </a:lnTo>
                        <a:lnTo>
                          <a:pt x="454" y="415"/>
                        </a:lnTo>
                        <a:lnTo>
                          <a:pt x="433" y="421"/>
                        </a:lnTo>
                        <a:lnTo>
                          <a:pt x="412" y="426"/>
                        </a:lnTo>
                        <a:lnTo>
                          <a:pt x="370" y="431"/>
                        </a:lnTo>
                        <a:lnTo>
                          <a:pt x="329" y="433"/>
                        </a:lnTo>
                        <a:lnTo>
                          <a:pt x="243" y="421"/>
                        </a:lnTo>
                        <a:lnTo>
                          <a:pt x="223" y="414"/>
                        </a:lnTo>
                        <a:lnTo>
                          <a:pt x="202" y="406"/>
                        </a:lnTo>
                        <a:lnTo>
                          <a:pt x="181" y="397"/>
                        </a:lnTo>
                        <a:lnTo>
                          <a:pt x="160" y="386"/>
                        </a:lnTo>
                        <a:lnTo>
                          <a:pt x="150" y="381"/>
                        </a:lnTo>
                        <a:lnTo>
                          <a:pt x="140" y="374"/>
                        </a:lnTo>
                        <a:lnTo>
                          <a:pt x="129" y="368"/>
                        </a:lnTo>
                        <a:lnTo>
                          <a:pt x="119" y="361"/>
                        </a:lnTo>
                        <a:lnTo>
                          <a:pt x="108" y="353"/>
                        </a:lnTo>
                        <a:lnTo>
                          <a:pt x="100" y="345"/>
                        </a:lnTo>
                        <a:lnTo>
                          <a:pt x="90" y="337"/>
                        </a:lnTo>
                        <a:lnTo>
                          <a:pt x="79" y="328"/>
                        </a:lnTo>
                        <a:lnTo>
                          <a:pt x="58" y="309"/>
                        </a:lnTo>
                        <a:lnTo>
                          <a:pt x="40" y="289"/>
                        </a:lnTo>
                        <a:lnTo>
                          <a:pt x="19" y="267"/>
                        </a:lnTo>
                        <a:lnTo>
                          <a:pt x="0" y="242"/>
                        </a:lnTo>
                        <a:lnTo>
                          <a:pt x="0" y="24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5060880" y="4940280"/>
                    <a:ext cx="819360" cy="595440"/>
                  </a:xfrm>
                  <a:custGeom>
                    <a:avLst/>
                    <a:gdLst/>
                    <a:ahLst/>
                    <a:rect l="l" t="t" r="r" b="b"/>
                    <a:pathLst>
                      <a:path w="516" h="375">
                        <a:moveTo>
                          <a:pt x="0" y="0"/>
                        </a:moveTo>
                        <a:lnTo>
                          <a:pt x="6" y="33"/>
                        </a:lnTo>
                        <a:lnTo>
                          <a:pt x="14" y="69"/>
                        </a:lnTo>
                        <a:lnTo>
                          <a:pt x="23" y="91"/>
                        </a:lnTo>
                        <a:lnTo>
                          <a:pt x="33" y="115"/>
                        </a:lnTo>
                        <a:lnTo>
                          <a:pt x="43" y="142"/>
                        </a:lnTo>
                        <a:lnTo>
                          <a:pt x="58" y="170"/>
                        </a:lnTo>
                        <a:lnTo>
                          <a:pt x="75" y="198"/>
                        </a:lnTo>
                        <a:lnTo>
                          <a:pt x="95" y="227"/>
                        </a:lnTo>
                        <a:lnTo>
                          <a:pt x="106" y="241"/>
                        </a:lnTo>
                        <a:lnTo>
                          <a:pt x="118" y="257"/>
                        </a:lnTo>
                        <a:lnTo>
                          <a:pt x="131" y="272"/>
                        </a:lnTo>
                        <a:lnTo>
                          <a:pt x="143" y="286"/>
                        </a:lnTo>
                        <a:lnTo>
                          <a:pt x="174" y="316"/>
                        </a:lnTo>
                        <a:lnTo>
                          <a:pt x="208" y="345"/>
                        </a:lnTo>
                        <a:lnTo>
                          <a:pt x="212" y="342"/>
                        </a:lnTo>
                        <a:lnTo>
                          <a:pt x="226" y="333"/>
                        </a:lnTo>
                        <a:lnTo>
                          <a:pt x="237" y="328"/>
                        </a:lnTo>
                        <a:lnTo>
                          <a:pt x="247" y="320"/>
                        </a:lnTo>
                        <a:lnTo>
                          <a:pt x="262" y="312"/>
                        </a:lnTo>
                        <a:lnTo>
                          <a:pt x="274" y="304"/>
                        </a:lnTo>
                        <a:lnTo>
                          <a:pt x="289" y="294"/>
                        </a:lnTo>
                        <a:lnTo>
                          <a:pt x="306" y="284"/>
                        </a:lnTo>
                        <a:lnTo>
                          <a:pt x="320" y="275"/>
                        </a:lnTo>
                        <a:lnTo>
                          <a:pt x="328" y="269"/>
                        </a:lnTo>
                        <a:lnTo>
                          <a:pt x="337" y="263"/>
                        </a:lnTo>
                        <a:lnTo>
                          <a:pt x="345" y="257"/>
                        </a:lnTo>
                        <a:lnTo>
                          <a:pt x="353" y="252"/>
                        </a:lnTo>
                        <a:lnTo>
                          <a:pt x="362" y="247"/>
                        </a:lnTo>
                        <a:lnTo>
                          <a:pt x="370" y="241"/>
                        </a:lnTo>
                        <a:lnTo>
                          <a:pt x="376" y="236"/>
                        </a:lnTo>
                        <a:lnTo>
                          <a:pt x="385" y="229"/>
                        </a:lnTo>
                        <a:lnTo>
                          <a:pt x="391" y="225"/>
                        </a:lnTo>
                        <a:lnTo>
                          <a:pt x="399" y="219"/>
                        </a:lnTo>
                        <a:lnTo>
                          <a:pt x="414" y="208"/>
                        </a:lnTo>
                        <a:lnTo>
                          <a:pt x="424" y="199"/>
                        </a:lnTo>
                        <a:lnTo>
                          <a:pt x="447" y="179"/>
                        </a:lnTo>
                        <a:lnTo>
                          <a:pt x="464" y="151"/>
                        </a:lnTo>
                        <a:lnTo>
                          <a:pt x="455" y="143"/>
                        </a:lnTo>
                        <a:lnTo>
                          <a:pt x="437" y="142"/>
                        </a:lnTo>
                        <a:lnTo>
                          <a:pt x="349" y="158"/>
                        </a:lnTo>
                        <a:lnTo>
                          <a:pt x="370" y="151"/>
                        </a:lnTo>
                        <a:lnTo>
                          <a:pt x="391" y="147"/>
                        </a:lnTo>
                        <a:lnTo>
                          <a:pt x="430" y="138"/>
                        </a:lnTo>
                        <a:lnTo>
                          <a:pt x="455" y="136"/>
                        </a:lnTo>
                        <a:lnTo>
                          <a:pt x="503" y="139"/>
                        </a:lnTo>
                        <a:lnTo>
                          <a:pt x="516" y="158"/>
                        </a:lnTo>
                        <a:lnTo>
                          <a:pt x="507" y="175"/>
                        </a:lnTo>
                        <a:lnTo>
                          <a:pt x="484" y="198"/>
                        </a:lnTo>
                        <a:lnTo>
                          <a:pt x="468" y="212"/>
                        </a:lnTo>
                        <a:lnTo>
                          <a:pt x="457" y="220"/>
                        </a:lnTo>
                        <a:lnTo>
                          <a:pt x="447" y="229"/>
                        </a:lnTo>
                        <a:lnTo>
                          <a:pt x="434" y="239"/>
                        </a:lnTo>
                        <a:lnTo>
                          <a:pt x="422" y="248"/>
                        </a:lnTo>
                        <a:lnTo>
                          <a:pt x="407" y="257"/>
                        </a:lnTo>
                        <a:lnTo>
                          <a:pt x="399" y="263"/>
                        </a:lnTo>
                        <a:lnTo>
                          <a:pt x="391" y="269"/>
                        </a:lnTo>
                        <a:lnTo>
                          <a:pt x="374" y="280"/>
                        </a:lnTo>
                        <a:lnTo>
                          <a:pt x="366" y="285"/>
                        </a:lnTo>
                        <a:lnTo>
                          <a:pt x="355" y="292"/>
                        </a:lnTo>
                        <a:lnTo>
                          <a:pt x="345" y="297"/>
                        </a:lnTo>
                        <a:lnTo>
                          <a:pt x="337" y="304"/>
                        </a:lnTo>
                        <a:lnTo>
                          <a:pt x="326" y="310"/>
                        </a:lnTo>
                        <a:lnTo>
                          <a:pt x="316" y="317"/>
                        </a:lnTo>
                        <a:lnTo>
                          <a:pt x="303" y="324"/>
                        </a:lnTo>
                        <a:lnTo>
                          <a:pt x="293" y="330"/>
                        </a:lnTo>
                        <a:lnTo>
                          <a:pt x="281" y="337"/>
                        </a:lnTo>
                        <a:lnTo>
                          <a:pt x="268" y="345"/>
                        </a:lnTo>
                        <a:lnTo>
                          <a:pt x="258" y="352"/>
                        </a:lnTo>
                        <a:lnTo>
                          <a:pt x="243" y="359"/>
                        </a:lnTo>
                        <a:lnTo>
                          <a:pt x="231" y="367"/>
                        </a:lnTo>
                        <a:lnTo>
                          <a:pt x="216" y="375"/>
                        </a:lnTo>
                        <a:lnTo>
                          <a:pt x="202" y="375"/>
                        </a:lnTo>
                        <a:lnTo>
                          <a:pt x="174" y="367"/>
                        </a:lnTo>
                        <a:lnTo>
                          <a:pt x="158" y="359"/>
                        </a:lnTo>
                        <a:lnTo>
                          <a:pt x="141" y="348"/>
                        </a:lnTo>
                        <a:lnTo>
                          <a:pt x="104" y="314"/>
                        </a:lnTo>
                        <a:lnTo>
                          <a:pt x="83" y="292"/>
                        </a:lnTo>
                        <a:lnTo>
                          <a:pt x="64" y="265"/>
                        </a:lnTo>
                        <a:lnTo>
                          <a:pt x="33" y="198"/>
                        </a:lnTo>
                        <a:lnTo>
                          <a:pt x="10" y="110"/>
                        </a:lnTo>
                        <a:lnTo>
                          <a:pt x="0" y="0"/>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3125880" y="4373640"/>
                    <a:ext cx="465120" cy="855720"/>
                  </a:xfrm>
                  <a:custGeom>
                    <a:avLst/>
                    <a:gdLst/>
                    <a:ahLst/>
                    <a:rect l="l" t="t" r="r" b="b"/>
                    <a:pathLst>
                      <a:path w="293" h="539">
                        <a:moveTo>
                          <a:pt x="293" y="0"/>
                        </a:moveTo>
                        <a:lnTo>
                          <a:pt x="281" y="13"/>
                        </a:lnTo>
                        <a:lnTo>
                          <a:pt x="268" y="26"/>
                        </a:lnTo>
                        <a:lnTo>
                          <a:pt x="252" y="46"/>
                        </a:lnTo>
                        <a:lnTo>
                          <a:pt x="231" y="70"/>
                        </a:lnTo>
                        <a:lnTo>
                          <a:pt x="210" y="99"/>
                        </a:lnTo>
                        <a:lnTo>
                          <a:pt x="187" y="131"/>
                        </a:lnTo>
                        <a:lnTo>
                          <a:pt x="177" y="150"/>
                        </a:lnTo>
                        <a:lnTo>
                          <a:pt x="164" y="167"/>
                        </a:lnTo>
                        <a:lnTo>
                          <a:pt x="154" y="187"/>
                        </a:lnTo>
                        <a:lnTo>
                          <a:pt x="144" y="207"/>
                        </a:lnTo>
                        <a:lnTo>
                          <a:pt x="123" y="248"/>
                        </a:lnTo>
                        <a:lnTo>
                          <a:pt x="106" y="293"/>
                        </a:lnTo>
                        <a:lnTo>
                          <a:pt x="94" y="339"/>
                        </a:lnTo>
                        <a:lnTo>
                          <a:pt x="81" y="438"/>
                        </a:lnTo>
                        <a:lnTo>
                          <a:pt x="83" y="488"/>
                        </a:lnTo>
                        <a:lnTo>
                          <a:pt x="94" y="539"/>
                        </a:lnTo>
                        <a:lnTo>
                          <a:pt x="81" y="529"/>
                        </a:lnTo>
                        <a:lnTo>
                          <a:pt x="52" y="504"/>
                        </a:lnTo>
                        <a:lnTo>
                          <a:pt x="35" y="484"/>
                        </a:lnTo>
                        <a:lnTo>
                          <a:pt x="21" y="462"/>
                        </a:lnTo>
                        <a:lnTo>
                          <a:pt x="0" y="402"/>
                        </a:lnTo>
                        <a:lnTo>
                          <a:pt x="2" y="325"/>
                        </a:lnTo>
                        <a:lnTo>
                          <a:pt x="8" y="304"/>
                        </a:lnTo>
                        <a:lnTo>
                          <a:pt x="19" y="281"/>
                        </a:lnTo>
                        <a:lnTo>
                          <a:pt x="29" y="257"/>
                        </a:lnTo>
                        <a:lnTo>
                          <a:pt x="44" y="233"/>
                        </a:lnTo>
                        <a:lnTo>
                          <a:pt x="62" y="208"/>
                        </a:lnTo>
                        <a:lnTo>
                          <a:pt x="83" y="180"/>
                        </a:lnTo>
                        <a:lnTo>
                          <a:pt x="108" y="154"/>
                        </a:lnTo>
                        <a:lnTo>
                          <a:pt x="135" y="124"/>
                        </a:lnTo>
                        <a:lnTo>
                          <a:pt x="169" y="95"/>
                        </a:lnTo>
                        <a:lnTo>
                          <a:pt x="177" y="87"/>
                        </a:lnTo>
                        <a:lnTo>
                          <a:pt x="187" y="81"/>
                        </a:lnTo>
                        <a:lnTo>
                          <a:pt x="196" y="73"/>
                        </a:lnTo>
                        <a:lnTo>
                          <a:pt x="206" y="65"/>
                        </a:lnTo>
                        <a:lnTo>
                          <a:pt x="214" y="57"/>
                        </a:lnTo>
                        <a:lnTo>
                          <a:pt x="225" y="49"/>
                        </a:lnTo>
                        <a:lnTo>
                          <a:pt x="235" y="41"/>
                        </a:lnTo>
                        <a:lnTo>
                          <a:pt x="248" y="33"/>
                        </a:lnTo>
                        <a:lnTo>
                          <a:pt x="258" y="25"/>
                        </a:lnTo>
                        <a:lnTo>
                          <a:pt x="268" y="17"/>
                        </a:lnTo>
                        <a:lnTo>
                          <a:pt x="281" y="9"/>
                        </a:lnTo>
                        <a:lnTo>
                          <a:pt x="293" y="0"/>
                        </a:lnTo>
                        <a:lnTo>
                          <a:pt x="293"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2224080" y="5025960"/>
                    <a:ext cx="650880" cy="566640"/>
                  </a:xfrm>
                  <a:custGeom>
                    <a:avLst/>
                    <a:gdLst/>
                    <a:ahLst/>
                    <a:rect l="l" t="t" r="r" b="b"/>
                    <a:pathLst>
                      <a:path w="410" h="357">
                        <a:moveTo>
                          <a:pt x="94" y="24"/>
                        </a:moveTo>
                        <a:lnTo>
                          <a:pt x="86" y="39"/>
                        </a:lnTo>
                        <a:lnTo>
                          <a:pt x="77" y="55"/>
                        </a:lnTo>
                        <a:lnTo>
                          <a:pt x="65" y="74"/>
                        </a:lnTo>
                        <a:lnTo>
                          <a:pt x="40" y="126"/>
                        </a:lnTo>
                        <a:lnTo>
                          <a:pt x="29" y="155"/>
                        </a:lnTo>
                        <a:lnTo>
                          <a:pt x="17" y="186"/>
                        </a:lnTo>
                        <a:lnTo>
                          <a:pt x="2" y="247"/>
                        </a:lnTo>
                        <a:lnTo>
                          <a:pt x="0" y="275"/>
                        </a:lnTo>
                        <a:lnTo>
                          <a:pt x="2" y="300"/>
                        </a:lnTo>
                        <a:lnTo>
                          <a:pt x="11" y="321"/>
                        </a:lnTo>
                        <a:lnTo>
                          <a:pt x="25" y="340"/>
                        </a:lnTo>
                        <a:lnTo>
                          <a:pt x="34" y="347"/>
                        </a:lnTo>
                        <a:lnTo>
                          <a:pt x="46" y="352"/>
                        </a:lnTo>
                        <a:lnTo>
                          <a:pt x="75" y="357"/>
                        </a:lnTo>
                        <a:lnTo>
                          <a:pt x="140" y="355"/>
                        </a:lnTo>
                        <a:lnTo>
                          <a:pt x="198" y="339"/>
                        </a:lnTo>
                        <a:lnTo>
                          <a:pt x="225" y="327"/>
                        </a:lnTo>
                        <a:lnTo>
                          <a:pt x="237" y="320"/>
                        </a:lnTo>
                        <a:lnTo>
                          <a:pt x="250" y="312"/>
                        </a:lnTo>
                        <a:lnTo>
                          <a:pt x="262" y="303"/>
                        </a:lnTo>
                        <a:lnTo>
                          <a:pt x="273" y="295"/>
                        </a:lnTo>
                        <a:lnTo>
                          <a:pt x="296" y="275"/>
                        </a:lnTo>
                        <a:lnTo>
                          <a:pt x="314" y="254"/>
                        </a:lnTo>
                        <a:lnTo>
                          <a:pt x="333" y="230"/>
                        </a:lnTo>
                        <a:lnTo>
                          <a:pt x="350" y="206"/>
                        </a:lnTo>
                        <a:lnTo>
                          <a:pt x="364" y="179"/>
                        </a:lnTo>
                        <a:lnTo>
                          <a:pt x="387" y="124"/>
                        </a:lnTo>
                        <a:lnTo>
                          <a:pt x="402" y="65"/>
                        </a:lnTo>
                        <a:lnTo>
                          <a:pt x="410" y="0"/>
                        </a:lnTo>
                        <a:lnTo>
                          <a:pt x="400" y="11"/>
                        </a:lnTo>
                        <a:lnTo>
                          <a:pt x="385" y="51"/>
                        </a:lnTo>
                        <a:lnTo>
                          <a:pt x="379" y="74"/>
                        </a:lnTo>
                        <a:lnTo>
                          <a:pt x="371" y="84"/>
                        </a:lnTo>
                        <a:lnTo>
                          <a:pt x="350" y="109"/>
                        </a:lnTo>
                        <a:lnTo>
                          <a:pt x="335" y="126"/>
                        </a:lnTo>
                        <a:lnTo>
                          <a:pt x="319" y="145"/>
                        </a:lnTo>
                        <a:lnTo>
                          <a:pt x="302" y="166"/>
                        </a:lnTo>
                        <a:lnTo>
                          <a:pt x="281" y="186"/>
                        </a:lnTo>
                        <a:lnTo>
                          <a:pt x="260" y="207"/>
                        </a:lnTo>
                        <a:lnTo>
                          <a:pt x="237" y="228"/>
                        </a:lnTo>
                        <a:lnTo>
                          <a:pt x="217" y="247"/>
                        </a:lnTo>
                        <a:lnTo>
                          <a:pt x="204" y="256"/>
                        </a:lnTo>
                        <a:lnTo>
                          <a:pt x="194" y="264"/>
                        </a:lnTo>
                        <a:lnTo>
                          <a:pt x="183" y="272"/>
                        </a:lnTo>
                        <a:lnTo>
                          <a:pt x="173" y="279"/>
                        </a:lnTo>
                        <a:lnTo>
                          <a:pt x="163" y="286"/>
                        </a:lnTo>
                        <a:lnTo>
                          <a:pt x="152" y="291"/>
                        </a:lnTo>
                        <a:lnTo>
                          <a:pt x="131" y="299"/>
                        </a:lnTo>
                        <a:lnTo>
                          <a:pt x="113" y="303"/>
                        </a:lnTo>
                        <a:lnTo>
                          <a:pt x="96" y="300"/>
                        </a:lnTo>
                        <a:lnTo>
                          <a:pt x="86" y="292"/>
                        </a:lnTo>
                        <a:lnTo>
                          <a:pt x="71" y="262"/>
                        </a:lnTo>
                        <a:lnTo>
                          <a:pt x="69" y="166"/>
                        </a:lnTo>
                        <a:lnTo>
                          <a:pt x="75" y="114"/>
                        </a:lnTo>
                        <a:lnTo>
                          <a:pt x="84" y="69"/>
                        </a:lnTo>
                        <a:lnTo>
                          <a:pt x="94" y="24"/>
                        </a:lnTo>
                        <a:lnTo>
                          <a:pt x="94" y="2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2389320" y="4808520"/>
                    <a:ext cx="485640" cy="255600"/>
                  </a:xfrm>
                  <a:custGeom>
                    <a:avLst/>
                    <a:gdLst/>
                    <a:ahLst/>
                    <a:rect l="l" t="t" r="r" b="b"/>
                    <a:pathLst>
                      <a:path w="306" h="161">
                        <a:moveTo>
                          <a:pt x="0" y="113"/>
                        </a:moveTo>
                        <a:lnTo>
                          <a:pt x="21" y="91"/>
                        </a:lnTo>
                        <a:lnTo>
                          <a:pt x="44" y="68"/>
                        </a:lnTo>
                        <a:lnTo>
                          <a:pt x="50" y="61"/>
                        </a:lnTo>
                        <a:lnTo>
                          <a:pt x="59" y="56"/>
                        </a:lnTo>
                        <a:lnTo>
                          <a:pt x="67" y="50"/>
                        </a:lnTo>
                        <a:lnTo>
                          <a:pt x="73" y="44"/>
                        </a:lnTo>
                        <a:lnTo>
                          <a:pt x="83" y="38"/>
                        </a:lnTo>
                        <a:lnTo>
                          <a:pt x="92" y="32"/>
                        </a:lnTo>
                        <a:lnTo>
                          <a:pt x="100" y="27"/>
                        </a:lnTo>
                        <a:lnTo>
                          <a:pt x="108" y="22"/>
                        </a:lnTo>
                        <a:lnTo>
                          <a:pt x="127" y="12"/>
                        </a:lnTo>
                        <a:lnTo>
                          <a:pt x="148" y="6"/>
                        </a:lnTo>
                        <a:lnTo>
                          <a:pt x="167" y="2"/>
                        </a:lnTo>
                        <a:lnTo>
                          <a:pt x="187" y="0"/>
                        </a:lnTo>
                        <a:lnTo>
                          <a:pt x="227" y="11"/>
                        </a:lnTo>
                        <a:lnTo>
                          <a:pt x="244" y="20"/>
                        </a:lnTo>
                        <a:lnTo>
                          <a:pt x="260" y="30"/>
                        </a:lnTo>
                        <a:lnTo>
                          <a:pt x="283" y="51"/>
                        </a:lnTo>
                        <a:lnTo>
                          <a:pt x="306" y="95"/>
                        </a:lnTo>
                        <a:lnTo>
                          <a:pt x="306" y="134"/>
                        </a:lnTo>
                        <a:lnTo>
                          <a:pt x="294" y="161"/>
                        </a:lnTo>
                        <a:lnTo>
                          <a:pt x="289" y="141"/>
                        </a:lnTo>
                        <a:lnTo>
                          <a:pt x="275" y="96"/>
                        </a:lnTo>
                        <a:lnTo>
                          <a:pt x="264" y="72"/>
                        </a:lnTo>
                        <a:lnTo>
                          <a:pt x="250" y="50"/>
                        </a:lnTo>
                        <a:lnTo>
                          <a:pt x="233" y="34"/>
                        </a:lnTo>
                        <a:lnTo>
                          <a:pt x="225" y="28"/>
                        </a:lnTo>
                        <a:lnTo>
                          <a:pt x="215" y="26"/>
                        </a:lnTo>
                        <a:lnTo>
                          <a:pt x="190" y="27"/>
                        </a:lnTo>
                        <a:lnTo>
                          <a:pt x="156" y="36"/>
                        </a:lnTo>
                        <a:lnTo>
                          <a:pt x="140" y="43"/>
                        </a:lnTo>
                        <a:lnTo>
                          <a:pt x="121" y="50"/>
                        </a:lnTo>
                        <a:lnTo>
                          <a:pt x="104" y="59"/>
                        </a:lnTo>
                        <a:lnTo>
                          <a:pt x="86" y="67"/>
                        </a:lnTo>
                        <a:lnTo>
                          <a:pt x="69" y="75"/>
                        </a:lnTo>
                        <a:lnTo>
                          <a:pt x="52" y="84"/>
                        </a:lnTo>
                        <a:lnTo>
                          <a:pt x="38" y="92"/>
                        </a:lnTo>
                        <a:lnTo>
                          <a:pt x="25" y="99"/>
                        </a:lnTo>
                        <a:lnTo>
                          <a:pt x="15" y="104"/>
                        </a:lnTo>
                        <a:lnTo>
                          <a:pt x="7" y="109"/>
                        </a:lnTo>
                        <a:lnTo>
                          <a:pt x="0" y="113"/>
                        </a:lnTo>
                        <a:lnTo>
                          <a:pt x="0" y="11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2379600" y="5049720"/>
                    <a:ext cx="425520" cy="93960"/>
                  </a:xfrm>
                  <a:custGeom>
                    <a:avLst/>
                    <a:gdLst/>
                    <a:ahLst/>
                    <a:rect l="l" t="t" r="r" b="b"/>
                    <a:pathLst>
                      <a:path w="268" h="59">
                        <a:moveTo>
                          <a:pt x="0" y="2"/>
                        </a:moveTo>
                        <a:lnTo>
                          <a:pt x="6" y="4"/>
                        </a:lnTo>
                        <a:lnTo>
                          <a:pt x="29" y="9"/>
                        </a:lnTo>
                        <a:lnTo>
                          <a:pt x="67" y="14"/>
                        </a:lnTo>
                        <a:lnTo>
                          <a:pt x="110" y="22"/>
                        </a:lnTo>
                        <a:lnTo>
                          <a:pt x="158" y="32"/>
                        </a:lnTo>
                        <a:lnTo>
                          <a:pt x="204" y="41"/>
                        </a:lnTo>
                        <a:lnTo>
                          <a:pt x="243" y="50"/>
                        </a:lnTo>
                        <a:lnTo>
                          <a:pt x="268" y="59"/>
                        </a:lnTo>
                        <a:lnTo>
                          <a:pt x="264" y="53"/>
                        </a:lnTo>
                        <a:lnTo>
                          <a:pt x="256" y="48"/>
                        </a:lnTo>
                        <a:lnTo>
                          <a:pt x="245" y="41"/>
                        </a:lnTo>
                        <a:lnTo>
                          <a:pt x="233" y="34"/>
                        </a:lnTo>
                        <a:lnTo>
                          <a:pt x="218" y="28"/>
                        </a:lnTo>
                        <a:lnTo>
                          <a:pt x="200" y="21"/>
                        </a:lnTo>
                        <a:lnTo>
                          <a:pt x="179" y="14"/>
                        </a:lnTo>
                        <a:lnTo>
                          <a:pt x="156" y="9"/>
                        </a:lnTo>
                        <a:lnTo>
                          <a:pt x="131" y="4"/>
                        </a:lnTo>
                        <a:lnTo>
                          <a:pt x="71" y="0"/>
                        </a:lnTo>
                        <a:lnTo>
                          <a:pt x="0" y="2"/>
                        </a:lnTo>
                        <a:lnTo>
                          <a:pt x="0" y="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3511440" y="3483000"/>
                    <a:ext cx="770040" cy="842760"/>
                  </a:xfrm>
                  <a:custGeom>
                    <a:avLst/>
                    <a:gdLst/>
                    <a:ahLst/>
                    <a:rect l="l" t="t" r="r" b="b"/>
                    <a:pathLst>
                      <a:path w="485" h="531">
                        <a:moveTo>
                          <a:pt x="2" y="531"/>
                        </a:moveTo>
                        <a:lnTo>
                          <a:pt x="11" y="510"/>
                        </a:lnTo>
                        <a:lnTo>
                          <a:pt x="23" y="486"/>
                        </a:lnTo>
                        <a:lnTo>
                          <a:pt x="38" y="456"/>
                        </a:lnTo>
                        <a:lnTo>
                          <a:pt x="54" y="419"/>
                        </a:lnTo>
                        <a:lnTo>
                          <a:pt x="65" y="399"/>
                        </a:lnTo>
                        <a:lnTo>
                          <a:pt x="75" y="377"/>
                        </a:lnTo>
                        <a:lnTo>
                          <a:pt x="86" y="355"/>
                        </a:lnTo>
                        <a:lnTo>
                          <a:pt x="98" y="334"/>
                        </a:lnTo>
                        <a:lnTo>
                          <a:pt x="111" y="311"/>
                        </a:lnTo>
                        <a:lnTo>
                          <a:pt x="123" y="287"/>
                        </a:lnTo>
                        <a:lnTo>
                          <a:pt x="136" y="265"/>
                        </a:lnTo>
                        <a:lnTo>
                          <a:pt x="150" y="242"/>
                        </a:lnTo>
                        <a:lnTo>
                          <a:pt x="163" y="219"/>
                        </a:lnTo>
                        <a:lnTo>
                          <a:pt x="177" y="197"/>
                        </a:lnTo>
                        <a:lnTo>
                          <a:pt x="192" y="176"/>
                        </a:lnTo>
                        <a:lnTo>
                          <a:pt x="204" y="156"/>
                        </a:lnTo>
                        <a:lnTo>
                          <a:pt x="219" y="136"/>
                        </a:lnTo>
                        <a:lnTo>
                          <a:pt x="233" y="117"/>
                        </a:lnTo>
                        <a:lnTo>
                          <a:pt x="248" y="101"/>
                        </a:lnTo>
                        <a:lnTo>
                          <a:pt x="262" y="85"/>
                        </a:lnTo>
                        <a:lnTo>
                          <a:pt x="289" y="60"/>
                        </a:lnTo>
                        <a:lnTo>
                          <a:pt x="298" y="55"/>
                        </a:lnTo>
                        <a:lnTo>
                          <a:pt x="304" y="50"/>
                        </a:lnTo>
                        <a:lnTo>
                          <a:pt x="317" y="43"/>
                        </a:lnTo>
                        <a:lnTo>
                          <a:pt x="329" y="38"/>
                        </a:lnTo>
                        <a:lnTo>
                          <a:pt x="344" y="35"/>
                        </a:lnTo>
                        <a:lnTo>
                          <a:pt x="356" y="30"/>
                        </a:lnTo>
                        <a:lnTo>
                          <a:pt x="373" y="26"/>
                        </a:lnTo>
                        <a:lnTo>
                          <a:pt x="391" y="20"/>
                        </a:lnTo>
                        <a:lnTo>
                          <a:pt x="412" y="15"/>
                        </a:lnTo>
                        <a:lnTo>
                          <a:pt x="437" y="12"/>
                        </a:lnTo>
                        <a:lnTo>
                          <a:pt x="485" y="14"/>
                        </a:lnTo>
                        <a:lnTo>
                          <a:pt x="470" y="10"/>
                        </a:lnTo>
                        <a:lnTo>
                          <a:pt x="454" y="6"/>
                        </a:lnTo>
                        <a:lnTo>
                          <a:pt x="431" y="2"/>
                        </a:lnTo>
                        <a:lnTo>
                          <a:pt x="377" y="0"/>
                        </a:lnTo>
                        <a:lnTo>
                          <a:pt x="314" y="14"/>
                        </a:lnTo>
                        <a:lnTo>
                          <a:pt x="296" y="22"/>
                        </a:lnTo>
                        <a:lnTo>
                          <a:pt x="275" y="32"/>
                        </a:lnTo>
                        <a:lnTo>
                          <a:pt x="262" y="39"/>
                        </a:lnTo>
                        <a:lnTo>
                          <a:pt x="252" y="47"/>
                        </a:lnTo>
                        <a:lnTo>
                          <a:pt x="240" y="55"/>
                        </a:lnTo>
                        <a:lnTo>
                          <a:pt x="225" y="64"/>
                        </a:lnTo>
                        <a:lnTo>
                          <a:pt x="210" y="75"/>
                        </a:lnTo>
                        <a:lnTo>
                          <a:pt x="198" y="85"/>
                        </a:lnTo>
                        <a:lnTo>
                          <a:pt x="169" y="109"/>
                        </a:lnTo>
                        <a:lnTo>
                          <a:pt x="142" y="136"/>
                        </a:lnTo>
                        <a:lnTo>
                          <a:pt x="115" y="168"/>
                        </a:lnTo>
                        <a:lnTo>
                          <a:pt x="88" y="201"/>
                        </a:lnTo>
                        <a:lnTo>
                          <a:pt x="75" y="219"/>
                        </a:lnTo>
                        <a:lnTo>
                          <a:pt x="63" y="238"/>
                        </a:lnTo>
                        <a:lnTo>
                          <a:pt x="52" y="258"/>
                        </a:lnTo>
                        <a:lnTo>
                          <a:pt x="42" y="279"/>
                        </a:lnTo>
                        <a:lnTo>
                          <a:pt x="25" y="322"/>
                        </a:lnTo>
                        <a:lnTo>
                          <a:pt x="2" y="420"/>
                        </a:lnTo>
                        <a:lnTo>
                          <a:pt x="0" y="474"/>
                        </a:lnTo>
                        <a:lnTo>
                          <a:pt x="2" y="531"/>
                        </a:lnTo>
                        <a:lnTo>
                          <a:pt x="2" y="53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4776840" y="3714840"/>
                    <a:ext cx="1066680" cy="158760"/>
                  </a:xfrm>
                  <a:custGeom>
                    <a:avLst/>
                    <a:gdLst/>
                    <a:ahLst/>
                    <a:rect l="l" t="t" r="r" b="b"/>
                    <a:pathLst>
                      <a:path w="672" h="100">
                        <a:moveTo>
                          <a:pt x="10" y="61"/>
                        </a:moveTo>
                        <a:lnTo>
                          <a:pt x="23" y="65"/>
                        </a:lnTo>
                        <a:lnTo>
                          <a:pt x="62" y="75"/>
                        </a:lnTo>
                        <a:lnTo>
                          <a:pt x="91" y="80"/>
                        </a:lnTo>
                        <a:lnTo>
                          <a:pt x="127" y="85"/>
                        </a:lnTo>
                        <a:lnTo>
                          <a:pt x="164" y="91"/>
                        </a:lnTo>
                        <a:lnTo>
                          <a:pt x="208" y="95"/>
                        </a:lnTo>
                        <a:lnTo>
                          <a:pt x="306" y="100"/>
                        </a:lnTo>
                        <a:lnTo>
                          <a:pt x="418" y="96"/>
                        </a:lnTo>
                        <a:lnTo>
                          <a:pt x="543" y="80"/>
                        </a:lnTo>
                        <a:lnTo>
                          <a:pt x="574" y="73"/>
                        </a:lnTo>
                        <a:lnTo>
                          <a:pt x="607" y="67"/>
                        </a:lnTo>
                        <a:lnTo>
                          <a:pt x="638" y="59"/>
                        </a:lnTo>
                        <a:lnTo>
                          <a:pt x="672" y="50"/>
                        </a:lnTo>
                        <a:lnTo>
                          <a:pt x="655" y="52"/>
                        </a:lnTo>
                        <a:lnTo>
                          <a:pt x="609" y="58"/>
                        </a:lnTo>
                        <a:lnTo>
                          <a:pt x="539" y="63"/>
                        </a:lnTo>
                        <a:lnTo>
                          <a:pt x="449" y="67"/>
                        </a:lnTo>
                        <a:lnTo>
                          <a:pt x="345" y="65"/>
                        </a:lnTo>
                        <a:lnTo>
                          <a:pt x="233" y="56"/>
                        </a:lnTo>
                        <a:lnTo>
                          <a:pt x="175" y="47"/>
                        </a:lnTo>
                        <a:lnTo>
                          <a:pt x="116" y="35"/>
                        </a:lnTo>
                        <a:lnTo>
                          <a:pt x="87" y="28"/>
                        </a:lnTo>
                        <a:lnTo>
                          <a:pt x="58" y="20"/>
                        </a:lnTo>
                        <a:lnTo>
                          <a:pt x="29" y="11"/>
                        </a:lnTo>
                        <a:lnTo>
                          <a:pt x="0" y="0"/>
                        </a:lnTo>
                        <a:lnTo>
                          <a:pt x="10" y="61"/>
                        </a:lnTo>
                        <a:lnTo>
                          <a:pt x="10" y="6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281480" y="3456000"/>
                    <a:ext cx="1515960" cy="250920"/>
                  </a:xfrm>
                  <a:custGeom>
                    <a:avLst/>
                    <a:gdLst/>
                    <a:ahLst/>
                    <a:rect l="l" t="t" r="r" b="b"/>
                    <a:pathLst>
                      <a:path w="955" h="158">
                        <a:moveTo>
                          <a:pt x="0" y="4"/>
                        </a:moveTo>
                        <a:lnTo>
                          <a:pt x="52" y="8"/>
                        </a:lnTo>
                        <a:lnTo>
                          <a:pt x="110" y="13"/>
                        </a:lnTo>
                        <a:lnTo>
                          <a:pt x="181" y="23"/>
                        </a:lnTo>
                        <a:lnTo>
                          <a:pt x="218" y="29"/>
                        </a:lnTo>
                        <a:lnTo>
                          <a:pt x="260" y="35"/>
                        </a:lnTo>
                        <a:lnTo>
                          <a:pt x="299" y="43"/>
                        </a:lnTo>
                        <a:lnTo>
                          <a:pt x="339" y="51"/>
                        </a:lnTo>
                        <a:lnTo>
                          <a:pt x="378" y="60"/>
                        </a:lnTo>
                        <a:lnTo>
                          <a:pt x="416" y="70"/>
                        </a:lnTo>
                        <a:lnTo>
                          <a:pt x="451" y="82"/>
                        </a:lnTo>
                        <a:lnTo>
                          <a:pt x="466" y="88"/>
                        </a:lnTo>
                        <a:lnTo>
                          <a:pt x="482" y="94"/>
                        </a:lnTo>
                        <a:lnTo>
                          <a:pt x="497" y="101"/>
                        </a:lnTo>
                        <a:lnTo>
                          <a:pt x="514" y="106"/>
                        </a:lnTo>
                        <a:lnTo>
                          <a:pt x="528" y="113"/>
                        </a:lnTo>
                        <a:lnTo>
                          <a:pt x="543" y="118"/>
                        </a:lnTo>
                        <a:lnTo>
                          <a:pt x="574" y="128"/>
                        </a:lnTo>
                        <a:lnTo>
                          <a:pt x="603" y="136"/>
                        </a:lnTo>
                        <a:lnTo>
                          <a:pt x="634" y="142"/>
                        </a:lnTo>
                        <a:lnTo>
                          <a:pt x="663" y="149"/>
                        </a:lnTo>
                        <a:lnTo>
                          <a:pt x="724" y="155"/>
                        </a:lnTo>
                        <a:lnTo>
                          <a:pt x="842" y="158"/>
                        </a:lnTo>
                        <a:lnTo>
                          <a:pt x="955" y="142"/>
                        </a:lnTo>
                        <a:lnTo>
                          <a:pt x="915" y="144"/>
                        </a:lnTo>
                        <a:lnTo>
                          <a:pt x="813" y="141"/>
                        </a:lnTo>
                        <a:lnTo>
                          <a:pt x="747" y="133"/>
                        </a:lnTo>
                        <a:lnTo>
                          <a:pt x="709" y="126"/>
                        </a:lnTo>
                        <a:lnTo>
                          <a:pt x="672" y="118"/>
                        </a:lnTo>
                        <a:lnTo>
                          <a:pt x="634" y="109"/>
                        </a:lnTo>
                        <a:lnTo>
                          <a:pt x="614" y="104"/>
                        </a:lnTo>
                        <a:lnTo>
                          <a:pt x="595" y="97"/>
                        </a:lnTo>
                        <a:lnTo>
                          <a:pt x="574" y="90"/>
                        </a:lnTo>
                        <a:lnTo>
                          <a:pt x="555" y="84"/>
                        </a:lnTo>
                        <a:lnTo>
                          <a:pt x="534" y="76"/>
                        </a:lnTo>
                        <a:lnTo>
                          <a:pt x="516" y="68"/>
                        </a:lnTo>
                        <a:lnTo>
                          <a:pt x="495" y="59"/>
                        </a:lnTo>
                        <a:lnTo>
                          <a:pt x="476" y="51"/>
                        </a:lnTo>
                        <a:lnTo>
                          <a:pt x="455" y="44"/>
                        </a:lnTo>
                        <a:lnTo>
                          <a:pt x="435" y="37"/>
                        </a:lnTo>
                        <a:lnTo>
                          <a:pt x="412" y="32"/>
                        </a:lnTo>
                        <a:lnTo>
                          <a:pt x="391" y="27"/>
                        </a:lnTo>
                        <a:lnTo>
                          <a:pt x="347" y="17"/>
                        </a:lnTo>
                        <a:lnTo>
                          <a:pt x="304" y="11"/>
                        </a:lnTo>
                        <a:lnTo>
                          <a:pt x="260" y="5"/>
                        </a:lnTo>
                        <a:lnTo>
                          <a:pt x="179" y="0"/>
                        </a:lnTo>
                        <a:lnTo>
                          <a:pt x="52" y="0"/>
                        </a:lnTo>
                        <a:lnTo>
                          <a:pt x="0" y="4"/>
                        </a:lnTo>
                        <a:lnTo>
                          <a:pt x="0"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973240" y="3527280"/>
                    <a:ext cx="865440" cy="131760"/>
                  </a:xfrm>
                  <a:custGeom>
                    <a:avLst/>
                    <a:gdLst/>
                    <a:ahLst/>
                    <a:rect l="l" t="t" r="r" b="b"/>
                    <a:pathLst>
                      <a:path w="545" h="83">
                        <a:moveTo>
                          <a:pt x="483" y="83"/>
                        </a:moveTo>
                        <a:lnTo>
                          <a:pt x="479" y="79"/>
                        </a:lnTo>
                        <a:lnTo>
                          <a:pt x="470" y="75"/>
                        </a:lnTo>
                        <a:lnTo>
                          <a:pt x="462" y="69"/>
                        </a:lnTo>
                        <a:lnTo>
                          <a:pt x="448" y="64"/>
                        </a:lnTo>
                        <a:lnTo>
                          <a:pt x="431" y="57"/>
                        </a:lnTo>
                        <a:lnTo>
                          <a:pt x="410" y="49"/>
                        </a:lnTo>
                        <a:lnTo>
                          <a:pt x="385" y="43"/>
                        </a:lnTo>
                        <a:lnTo>
                          <a:pt x="356" y="36"/>
                        </a:lnTo>
                        <a:lnTo>
                          <a:pt x="321" y="29"/>
                        </a:lnTo>
                        <a:lnTo>
                          <a:pt x="283" y="24"/>
                        </a:lnTo>
                        <a:lnTo>
                          <a:pt x="238" y="20"/>
                        </a:lnTo>
                        <a:lnTo>
                          <a:pt x="131" y="16"/>
                        </a:lnTo>
                        <a:lnTo>
                          <a:pt x="0" y="19"/>
                        </a:lnTo>
                        <a:lnTo>
                          <a:pt x="15" y="16"/>
                        </a:lnTo>
                        <a:lnTo>
                          <a:pt x="52" y="10"/>
                        </a:lnTo>
                        <a:lnTo>
                          <a:pt x="111" y="4"/>
                        </a:lnTo>
                        <a:lnTo>
                          <a:pt x="186" y="0"/>
                        </a:lnTo>
                        <a:lnTo>
                          <a:pt x="271" y="3"/>
                        </a:lnTo>
                        <a:lnTo>
                          <a:pt x="362" y="14"/>
                        </a:lnTo>
                        <a:lnTo>
                          <a:pt x="408" y="24"/>
                        </a:lnTo>
                        <a:lnTo>
                          <a:pt x="431" y="31"/>
                        </a:lnTo>
                        <a:lnTo>
                          <a:pt x="456" y="37"/>
                        </a:lnTo>
                        <a:lnTo>
                          <a:pt x="477" y="45"/>
                        </a:lnTo>
                        <a:lnTo>
                          <a:pt x="500" y="55"/>
                        </a:lnTo>
                        <a:lnTo>
                          <a:pt x="522" y="65"/>
                        </a:lnTo>
                        <a:lnTo>
                          <a:pt x="533" y="71"/>
                        </a:lnTo>
                        <a:lnTo>
                          <a:pt x="545" y="76"/>
                        </a:lnTo>
                        <a:lnTo>
                          <a:pt x="483" y="83"/>
                        </a:lnTo>
                        <a:lnTo>
                          <a:pt x="483" y="8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2997360" y="3382920"/>
                    <a:ext cx="1091880" cy="141480"/>
                  </a:xfrm>
                  <a:custGeom>
                    <a:avLst/>
                    <a:gdLst/>
                    <a:ahLst/>
                    <a:rect l="l" t="t" r="r" b="b"/>
                    <a:pathLst>
                      <a:path w="688" h="89">
                        <a:moveTo>
                          <a:pt x="634" y="86"/>
                        </a:moveTo>
                        <a:lnTo>
                          <a:pt x="620" y="81"/>
                        </a:lnTo>
                        <a:lnTo>
                          <a:pt x="603" y="75"/>
                        </a:lnTo>
                        <a:lnTo>
                          <a:pt x="582" y="69"/>
                        </a:lnTo>
                        <a:lnTo>
                          <a:pt x="555" y="61"/>
                        </a:lnTo>
                        <a:lnTo>
                          <a:pt x="522" y="53"/>
                        </a:lnTo>
                        <a:lnTo>
                          <a:pt x="485" y="45"/>
                        </a:lnTo>
                        <a:lnTo>
                          <a:pt x="443" y="38"/>
                        </a:lnTo>
                        <a:lnTo>
                          <a:pt x="397" y="32"/>
                        </a:lnTo>
                        <a:lnTo>
                          <a:pt x="347" y="28"/>
                        </a:lnTo>
                        <a:lnTo>
                          <a:pt x="241" y="28"/>
                        </a:lnTo>
                        <a:lnTo>
                          <a:pt x="123" y="41"/>
                        </a:lnTo>
                        <a:lnTo>
                          <a:pt x="94" y="46"/>
                        </a:lnTo>
                        <a:lnTo>
                          <a:pt x="62" y="53"/>
                        </a:lnTo>
                        <a:lnTo>
                          <a:pt x="31" y="61"/>
                        </a:lnTo>
                        <a:lnTo>
                          <a:pt x="0" y="71"/>
                        </a:lnTo>
                        <a:lnTo>
                          <a:pt x="12" y="65"/>
                        </a:lnTo>
                        <a:lnTo>
                          <a:pt x="29" y="57"/>
                        </a:lnTo>
                        <a:lnTo>
                          <a:pt x="50" y="47"/>
                        </a:lnTo>
                        <a:lnTo>
                          <a:pt x="64" y="42"/>
                        </a:lnTo>
                        <a:lnTo>
                          <a:pt x="79" y="38"/>
                        </a:lnTo>
                        <a:lnTo>
                          <a:pt x="94" y="33"/>
                        </a:lnTo>
                        <a:lnTo>
                          <a:pt x="112" y="28"/>
                        </a:lnTo>
                        <a:lnTo>
                          <a:pt x="131" y="22"/>
                        </a:lnTo>
                        <a:lnTo>
                          <a:pt x="150" y="18"/>
                        </a:lnTo>
                        <a:lnTo>
                          <a:pt x="193" y="10"/>
                        </a:lnTo>
                        <a:lnTo>
                          <a:pt x="241" y="4"/>
                        </a:lnTo>
                        <a:lnTo>
                          <a:pt x="293" y="0"/>
                        </a:lnTo>
                        <a:lnTo>
                          <a:pt x="410" y="5"/>
                        </a:lnTo>
                        <a:lnTo>
                          <a:pt x="472" y="14"/>
                        </a:lnTo>
                        <a:lnTo>
                          <a:pt x="505" y="21"/>
                        </a:lnTo>
                        <a:lnTo>
                          <a:pt x="539" y="29"/>
                        </a:lnTo>
                        <a:lnTo>
                          <a:pt x="574" y="38"/>
                        </a:lnTo>
                        <a:lnTo>
                          <a:pt x="591" y="43"/>
                        </a:lnTo>
                        <a:lnTo>
                          <a:pt x="609" y="50"/>
                        </a:lnTo>
                        <a:lnTo>
                          <a:pt x="626" y="57"/>
                        </a:lnTo>
                        <a:lnTo>
                          <a:pt x="645" y="63"/>
                        </a:lnTo>
                        <a:lnTo>
                          <a:pt x="663" y="70"/>
                        </a:lnTo>
                        <a:lnTo>
                          <a:pt x="680" y="78"/>
                        </a:lnTo>
                        <a:lnTo>
                          <a:pt x="688" y="86"/>
                        </a:lnTo>
                        <a:lnTo>
                          <a:pt x="672" y="89"/>
                        </a:lnTo>
                        <a:lnTo>
                          <a:pt x="634" y="86"/>
                        </a:lnTo>
                        <a:lnTo>
                          <a:pt x="634" y="8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4591080" y="3808440"/>
                    <a:ext cx="341280" cy="455760"/>
                  </a:xfrm>
                  <a:custGeom>
                    <a:avLst/>
                    <a:gdLst/>
                    <a:ahLst/>
                    <a:rect l="l" t="t" r="r" b="b"/>
                    <a:pathLst>
                      <a:path w="215" h="287">
                        <a:moveTo>
                          <a:pt x="215" y="0"/>
                        </a:moveTo>
                        <a:lnTo>
                          <a:pt x="204" y="9"/>
                        </a:lnTo>
                        <a:lnTo>
                          <a:pt x="179" y="33"/>
                        </a:lnTo>
                        <a:lnTo>
                          <a:pt x="163" y="50"/>
                        </a:lnTo>
                        <a:lnTo>
                          <a:pt x="144" y="70"/>
                        </a:lnTo>
                        <a:lnTo>
                          <a:pt x="123" y="91"/>
                        </a:lnTo>
                        <a:lnTo>
                          <a:pt x="104" y="114"/>
                        </a:lnTo>
                        <a:lnTo>
                          <a:pt x="84" y="137"/>
                        </a:lnTo>
                        <a:lnTo>
                          <a:pt x="65" y="162"/>
                        </a:lnTo>
                        <a:lnTo>
                          <a:pt x="48" y="186"/>
                        </a:lnTo>
                        <a:lnTo>
                          <a:pt x="34" y="208"/>
                        </a:lnTo>
                        <a:lnTo>
                          <a:pt x="15" y="252"/>
                        </a:lnTo>
                        <a:lnTo>
                          <a:pt x="15" y="287"/>
                        </a:lnTo>
                        <a:lnTo>
                          <a:pt x="0" y="198"/>
                        </a:lnTo>
                        <a:lnTo>
                          <a:pt x="7" y="176"/>
                        </a:lnTo>
                        <a:lnTo>
                          <a:pt x="17" y="154"/>
                        </a:lnTo>
                        <a:lnTo>
                          <a:pt x="34" y="130"/>
                        </a:lnTo>
                        <a:lnTo>
                          <a:pt x="55" y="106"/>
                        </a:lnTo>
                        <a:lnTo>
                          <a:pt x="84" y="79"/>
                        </a:lnTo>
                        <a:lnTo>
                          <a:pt x="92" y="73"/>
                        </a:lnTo>
                        <a:lnTo>
                          <a:pt x="100" y="66"/>
                        </a:lnTo>
                        <a:lnTo>
                          <a:pt x="109" y="60"/>
                        </a:lnTo>
                        <a:lnTo>
                          <a:pt x="119" y="53"/>
                        </a:lnTo>
                        <a:lnTo>
                          <a:pt x="129" y="46"/>
                        </a:lnTo>
                        <a:lnTo>
                          <a:pt x="140" y="40"/>
                        </a:lnTo>
                        <a:lnTo>
                          <a:pt x="150" y="33"/>
                        </a:lnTo>
                        <a:lnTo>
                          <a:pt x="163" y="26"/>
                        </a:lnTo>
                        <a:lnTo>
                          <a:pt x="173" y="20"/>
                        </a:lnTo>
                        <a:lnTo>
                          <a:pt x="188" y="13"/>
                        </a:lnTo>
                        <a:lnTo>
                          <a:pt x="200" y="6"/>
                        </a:lnTo>
                        <a:lnTo>
                          <a:pt x="215" y="0"/>
                        </a:lnTo>
                        <a:lnTo>
                          <a:pt x="21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548160" y="4106880"/>
                    <a:ext cx="1000080" cy="254160"/>
                  </a:xfrm>
                  <a:custGeom>
                    <a:avLst/>
                    <a:gdLst/>
                    <a:ahLst/>
                    <a:rect l="l" t="t" r="r" b="b"/>
                    <a:pathLst>
                      <a:path w="630" h="160">
                        <a:moveTo>
                          <a:pt x="0" y="160"/>
                        </a:moveTo>
                        <a:lnTo>
                          <a:pt x="17" y="150"/>
                        </a:lnTo>
                        <a:lnTo>
                          <a:pt x="38" y="140"/>
                        </a:lnTo>
                        <a:lnTo>
                          <a:pt x="50" y="134"/>
                        </a:lnTo>
                        <a:lnTo>
                          <a:pt x="63" y="128"/>
                        </a:lnTo>
                        <a:lnTo>
                          <a:pt x="79" y="121"/>
                        </a:lnTo>
                        <a:lnTo>
                          <a:pt x="96" y="113"/>
                        </a:lnTo>
                        <a:lnTo>
                          <a:pt x="115" y="107"/>
                        </a:lnTo>
                        <a:lnTo>
                          <a:pt x="133" y="99"/>
                        </a:lnTo>
                        <a:lnTo>
                          <a:pt x="154" y="91"/>
                        </a:lnTo>
                        <a:lnTo>
                          <a:pt x="175" y="83"/>
                        </a:lnTo>
                        <a:lnTo>
                          <a:pt x="198" y="76"/>
                        </a:lnTo>
                        <a:lnTo>
                          <a:pt x="221" y="68"/>
                        </a:lnTo>
                        <a:lnTo>
                          <a:pt x="246" y="61"/>
                        </a:lnTo>
                        <a:lnTo>
                          <a:pt x="271" y="56"/>
                        </a:lnTo>
                        <a:lnTo>
                          <a:pt x="296" y="49"/>
                        </a:lnTo>
                        <a:lnTo>
                          <a:pt x="321" y="44"/>
                        </a:lnTo>
                        <a:lnTo>
                          <a:pt x="373" y="38"/>
                        </a:lnTo>
                        <a:lnTo>
                          <a:pt x="425" y="34"/>
                        </a:lnTo>
                        <a:lnTo>
                          <a:pt x="479" y="36"/>
                        </a:lnTo>
                        <a:lnTo>
                          <a:pt x="531" y="43"/>
                        </a:lnTo>
                        <a:lnTo>
                          <a:pt x="581" y="56"/>
                        </a:lnTo>
                        <a:lnTo>
                          <a:pt x="605" y="65"/>
                        </a:lnTo>
                        <a:lnTo>
                          <a:pt x="630" y="77"/>
                        </a:lnTo>
                        <a:lnTo>
                          <a:pt x="624" y="68"/>
                        </a:lnTo>
                        <a:lnTo>
                          <a:pt x="605" y="48"/>
                        </a:lnTo>
                        <a:lnTo>
                          <a:pt x="599" y="42"/>
                        </a:lnTo>
                        <a:lnTo>
                          <a:pt x="591" y="36"/>
                        </a:lnTo>
                        <a:lnTo>
                          <a:pt x="581" y="30"/>
                        </a:lnTo>
                        <a:lnTo>
                          <a:pt x="570" y="24"/>
                        </a:lnTo>
                        <a:lnTo>
                          <a:pt x="558" y="19"/>
                        </a:lnTo>
                        <a:lnTo>
                          <a:pt x="545" y="14"/>
                        </a:lnTo>
                        <a:lnTo>
                          <a:pt x="514" y="6"/>
                        </a:lnTo>
                        <a:lnTo>
                          <a:pt x="477" y="0"/>
                        </a:lnTo>
                        <a:lnTo>
                          <a:pt x="433" y="2"/>
                        </a:lnTo>
                        <a:lnTo>
                          <a:pt x="323" y="19"/>
                        </a:lnTo>
                        <a:lnTo>
                          <a:pt x="289" y="28"/>
                        </a:lnTo>
                        <a:lnTo>
                          <a:pt x="256" y="40"/>
                        </a:lnTo>
                        <a:lnTo>
                          <a:pt x="237" y="47"/>
                        </a:lnTo>
                        <a:lnTo>
                          <a:pt x="219" y="53"/>
                        </a:lnTo>
                        <a:lnTo>
                          <a:pt x="200" y="61"/>
                        </a:lnTo>
                        <a:lnTo>
                          <a:pt x="179" y="69"/>
                        </a:lnTo>
                        <a:lnTo>
                          <a:pt x="160" y="79"/>
                        </a:lnTo>
                        <a:lnTo>
                          <a:pt x="138" y="88"/>
                        </a:lnTo>
                        <a:lnTo>
                          <a:pt x="117" y="97"/>
                        </a:lnTo>
                        <a:lnTo>
                          <a:pt x="106" y="103"/>
                        </a:lnTo>
                        <a:lnTo>
                          <a:pt x="96" y="109"/>
                        </a:lnTo>
                        <a:lnTo>
                          <a:pt x="83" y="115"/>
                        </a:lnTo>
                        <a:lnTo>
                          <a:pt x="73" y="120"/>
                        </a:lnTo>
                        <a:lnTo>
                          <a:pt x="61" y="126"/>
                        </a:lnTo>
                        <a:lnTo>
                          <a:pt x="48" y="133"/>
                        </a:lnTo>
                        <a:lnTo>
                          <a:pt x="38" y="138"/>
                        </a:lnTo>
                        <a:lnTo>
                          <a:pt x="25" y="145"/>
                        </a:lnTo>
                        <a:lnTo>
                          <a:pt x="13" y="152"/>
                        </a:lnTo>
                        <a:lnTo>
                          <a:pt x="0" y="160"/>
                        </a:lnTo>
                        <a:lnTo>
                          <a:pt x="0" y="16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4010040" y="3165480"/>
                    <a:ext cx="463680" cy="219240"/>
                  </a:xfrm>
                  <a:custGeom>
                    <a:avLst/>
                    <a:gdLst/>
                    <a:ahLst/>
                    <a:rect l="l" t="t" r="r" b="b"/>
                    <a:pathLst>
                      <a:path w="292" h="138">
                        <a:moveTo>
                          <a:pt x="3" y="66"/>
                        </a:moveTo>
                        <a:lnTo>
                          <a:pt x="13" y="61"/>
                        </a:lnTo>
                        <a:lnTo>
                          <a:pt x="23" y="56"/>
                        </a:lnTo>
                        <a:lnTo>
                          <a:pt x="38" y="49"/>
                        </a:lnTo>
                        <a:lnTo>
                          <a:pt x="55" y="42"/>
                        </a:lnTo>
                        <a:lnTo>
                          <a:pt x="73" y="34"/>
                        </a:lnTo>
                        <a:lnTo>
                          <a:pt x="94" y="26"/>
                        </a:lnTo>
                        <a:lnTo>
                          <a:pt x="117" y="19"/>
                        </a:lnTo>
                        <a:lnTo>
                          <a:pt x="140" y="12"/>
                        </a:lnTo>
                        <a:lnTo>
                          <a:pt x="165" y="7"/>
                        </a:lnTo>
                        <a:lnTo>
                          <a:pt x="208" y="0"/>
                        </a:lnTo>
                        <a:lnTo>
                          <a:pt x="248" y="5"/>
                        </a:lnTo>
                        <a:lnTo>
                          <a:pt x="265" y="12"/>
                        </a:lnTo>
                        <a:lnTo>
                          <a:pt x="277" y="24"/>
                        </a:lnTo>
                        <a:lnTo>
                          <a:pt x="292" y="48"/>
                        </a:lnTo>
                        <a:lnTo>
                          <a:pt x="287" y="70"/>
                        </a:lnTo>
                        <a:lnTo>
                          <a:pt x="269" y="90"/>
                        </a:lnTo>
                        <a:lnTo>
                          <a:pt x="256" y="98"/>
                        </a:lnTo>
                        <a:lnTo>
                          <a:pt x="242" y="107"/>
                        </a:lnTo>
                        <a:lnTo>
                          <a:pt x="225" y="114"/>
                        </a:lnTo>
                        <a:lnTo>
                          <a:pt x="206" y="121"/>
                        </a:lnTo>
                        <a:lnTo>
                          <a:pt x="186" y="126"/>
                        </a:lnTo>
                        <a:lnTo>
                          <a:pt x="167" y="130"/>
                        </a:lnTo>
                        <a:lnTo>
                          <a:pt x="125" y="137"/>
                        </a:lnTo>
                        <a:lnTo>
                          <a:pt x="88" y="138"/>
                        </a:lnTo>
                        <a:lnTo>
                          <a:pt x="34" y="131"/>
                        </a:lnTo>
                        <a:lnTo>
                          <a:pt x="9" y="118"/>
                        </a:lnTo>
                        <a:lnTo>
                          <a:pt x="0" y="97"/>
                        </a:lnTo>
                        <a:lnTo>
                          <a:pt x="11" y="105"/>
                        </a:lnTo>
                        <a:lnTo>
                          <a:pt x="23" y="113"/>
                        </a:lnTo>
                        <a:lnTo>
                          <a:pt x="42" y="119"/>
                        </a:lnTo>
                        <a:lnTo>
                          <a:pt x="65" y="125"/>
                        </a:lnTo>
                        <a:lnTo>
                          <a:pt x="94" y="126"/>
                        </a:lnTo>
                        <a:lnTo>
                          <a:pt x="167" y="113"/>
                        </a:lnTo>
                        <a:lnTo>
                          <a:pt x="186" y="105"/>
                        </a:lnTo>
                        <a:lnTo>
                          <a:pt x="202" y="98"/>
                        </a:lnTo>
                        <a:lnTo>
                          <a:pt x="215" y="90"/>
                        </a:lnTo>
                        <a:lnTo>
                          <a:pt x="225" y="84"/>
                        </a:lnTo>
                        <a:lnTo>
                          <a:pt x="246" y="56"/>
                        </a:lnTo>
                        <a:lnTo>
                          <a:pt x="246" y="44"/>
                        </a:lnTo>
                        <a:lnTo>
                          <a:pt x="238" y="34"/>
                        </a:lnTo>
                        <a:lnTo>
                          <a:pt x="225" y="29"/>
                        </a:lnTo>
                        <a:lnTo>
                          <a:pt x="210" y="26"/>
                        </a:lnTo>
                        <a:lnTo>
                          <a:pt x="111" y="36"/>
                        </a:lnTo>
                        <a:lnTo>
                          <a:pt x="50" y="48"/>
                        </a:lnTo>
                        <a:lnTo>
                          <a:pt x="25" y="56"/>
                        </a:lnTo>
                        <a:lnTo>
                          <a:pt x="3" y="66"/>
                        </a:lnTo>
                        <a:lnTo>
                          <a:pt x="3" y="6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4199040" y="3373560"/>
                    <a:ext cx="122040" cy="90360"/>
                  </a:xfrm>
                  <a:custGeom>
                    <a:avLst/>
                    <a:gdLst/>
                    <a:ahLst/>
                    <a:rect l="l" t="t" r="r" b="b"/>
                    <a:pathLst>
                      <a:path w="77" h="57">
                        <a:moveTo>
                          <a:pt x="0" y="3"/>
                        </a:moveTo>
                        <a:lnTo>
                          <a:pt x="19" y="23"/>
                        </a:lnTo>
                        <a:lnTo>
                          <a:pt x="35" y="55"/>
                        </a:lnTo>
                        <a:lnTo>
                          <a:pt x="77" y="57"/>
                        </a:lnTo>
                        <a:lnTo>
                          <a:pt x="12" y="0"/>
                        </a:lnTo>
                        <a:lnTo>
                          <a:pt x="0" y="3"/>
                        </a:lnTo>
                        <a:lnTo>
                          <a:pt x="0"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61" name=""/>
                  <p:cNvSpPr/>
                  <p:nvPr/>
                </p:nvSpPr>
                <p:spPr>
                  <a:xfrm>
                    <a:off x="4361040" y="3332160"/>
                    <a:ext cx="82440" cy="135000"/>
                  </a:xfrm>
                  <a:custGeom>
                    <a:avLst/>
                    <a:gdLst/>
                    <a:ahLst/>
                    <a:rect l="l" t="t" r="r" b="b"/>
                    <a:pathLst>
                      <a:path w="52" h="85">
                        <a:moveTo>
                          <a:pt x="52" y="85"/>
                        </a:moveTo>
                        <a:lnTo>
                          <a:pt x="44" y="58"/>
                        </a:lnTo>
                        <a:lnTo>
                          <a:pt x="37" y="45"/>
                        </a:lnTo>
                        <a:lnTo>
                          <a:pt x="27" y="30"/>
                        </a:lnTo>
                        <a:lnTo>
                          <a:pt x="14" y="16"/>
                        </a:lnTo>
                        <a:lnTo>
                          <a:pt x="0" y="0"/>
                        </a:lnTo>
                        <a:lnTo>
                          <a:pt x="52" y="85"/>
                        </a:lnTo>
                        <a:lnTo>
                          <a:pt x="52" y="8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3691080" y="3198960"/>
                    <a:ext cx="458640" cy="99720"/>
                  </a:xfrm>
                  <a:custGeom>
                    <a:avLst/>
                    <a:gdLst/>
                    <a:ahLst/>
                    <a:rect l="l" t="t" r="r" b="b"/>
                    <a:pathLst>
                      <a:path w="289" h="63">
                        <a:moveTo>
                          <a:pt x="256" y="17"/>
                        </a:moveTo>
                        <a:lnTo>
                          <a:pt x="152" y="28"/>
                        </a:lnTo>
                        <a:lnTo>
                          <a:pt x="108" y="33"/>
                        </a:lnTo>
                        <a:lnTo>
                          <a:pt x="66" y="41"/>
                        </a:lnTo>
                        <a:lnTo>
                          <a:pt x="29" y="51"/>
                        </a:lnTo>
                        <a:lnTo>
                          <a:pt x="0" y="63"/>
                        </a:lnTo>
                        <a:lnTo>
                          <a:pt x="6" y="60"/>
                        </a:lnTo>
                        <a:lnTo>
                          <a:pt x="25" y="52"/>
                        </a:lnTo>
                        <a:lnTo>
                          <a:pt x="39" y="47"/>
                        </a:lnTo>
                        <a:lnTo>
                          <a:pt x="54" y="40"/>
                        </a:lnTo>
                        <a:lnTo>
                          <a:pt x="73" y="35"/>
                        </a:lnTo>
                        <a:lnTo>
                          <a:pt x="91" y="28"/>
                        </a:lnTo>
                        <a:lnTo>
                          <a:pt x="112" y="21"/>
                        </a:lnTo>
                        <a:lnTo>
                          <a:pt x="135" y="16"/>
                        </a:lnTo>
                        <a:lnTo>
                          <a:pt x="160" y="11"/>
                        </a:lnTo>
                        <a:lnTo>
                          <a:pt x="185" y="7"/>
                        </a:lnTo>
                        <a:lnTo>
                          <a:pt x="237" y="0"/>
                        </a:lnTo>
                        <a:lnTo>
                          <a:pt x="289" y="2"/>
                        </a:lnTo>
                        <a:lnTo>
                          <a:pt x="256" y="17"/>
                        </a:lnTo>
                        <a:lnTo>
                          <a:pt x="256" y="1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733920" y="3281400"/>
                    <a:ext cx="379440" cy="63360"/>
                  </a:xfrm>
                  <a:custGeom>
                    <a:avLst/>
                    <a:gdLst/>
                    <a:ahLst/>
                    <a:rect l="l" t="t" r="r" b="b"/>
                    <a:pathLst>
                      <a:path w="239" h="40">
                        <a:moveTo>
                          <a:pt x="239" y="0"/>
                        </a:moveTo>
                        <a:lnTo>
                          <a:pt x="160" y="1"/>
                        </a:lnTo>
                        <a:lnTo>
                          <a:pt x="83" y="12"/>
                        </a:lnTo>
                        <a:lnTo>
                          <a:pt x="41" y="24"/>
                        </a:lnTo>
                        <a:lnTo>
                          <a:pt x="21" y="30"/>
                        </a:lnTo>
                        <a:lnTo>
                          <a:pt x="0" y="40"/>
                        </a:lnTo>
                        <a:lnTo>
                          <a:pt x="25" y="34"/>
                        </a:lnTo>
                        <a:lnTo>
                          <a:pt x="52" y="30"/>
                        </a:lnTo>
                        <a:lnTo>
                          <a:pt x="83" y="25"/>
                        </a:lnTo>
                        <a:lnTo>
                          <a:pt x="120" y="21"/>
                        </a:lnTo>
                        <a:lnTo>
                          <a:pt x="156" y="19"/>
                        </a:lnTo>
                        <a:lnTo>
                          <a:pt x="220" y="23"/>
                        </a:lnTo>
                        <a:lnTo>
                          <a:pt x="239" y="0"/>
                        </a:lnTo>
                        <a:lnTo>
                          <a:pt x="23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4" name=""/>
                  <p:cNvSpPr/>
                  <p:nvPr/>
                </p:nvSpPr>
                <p:spPr>
                  <a:xfrm>
                    <a:off x="3960720" y="1584360"/>
                    <a:ext cx="1262160" cy="1373040"/>
                  </a:xfrm>
                  <a:custGeom>
                    <a:avLst/>
                    <a:gdLst/>
                    <a:ahLst/>
                    <a:rect l="l" t="t" r="r" b="b"/>
                    <a:pathLst>
                      <a:path w="795" h="865">
                        <a:moveTo>
                          <a:pt x="0" y="28"/>
                        </a:moveTo>
                        <a:lnTo>
                          <a:pt x="6" y="55"/>
                        </a:lnTo>
                        <a:lnTo>
                          <a:pt x="15" y="85"/>
                        </a:lnTo>
                        <a:lnTo>
                          <a:pt x="25" y="126"/>
                        </a:lnTo>
                        <a:lnTo>
                          <a:pt x="38" y="176"/>
                        </a:lnTo>
                        <a:lnTo>
                          <a:pt x="54" y="231"/>
                        </a:lnTo>
                        <a:lnTo>
                          <a:pt x="73" y="292"/>
                        </a:lnTo>
                        <a:lnTo>
                          <a:pt x="83" y="324"/>
                        </a:lnTo>
                        <a:lnTo>
                          <a:pt x="94" y="357"/>
                        </a:lnTo>
                        <a:lnTo>
                          <a:pt x="106" y="391"/>
                        </a:lnTo>
                        <a:lnTo>
                          <a:pt x="117" y="424"/>
                        </a:lnTo>
                        <a:lnTo>
                          <a:pt x="129" y="458"/>
                        </a:lnTo>
                        <a:lnTo>
                          <a:pt x="144" y="493"/>
                        </a:lnTo>
                        <a:lnTo>
                          <a:pt x="156" y="526"/>
                        </a:lnTo>
                        <a:lnTo>
                          <a:pt x="171" y="559"/>
                        </a:lnTo>
                        <a:lnTo>
                          <a:pt x="185" y="592"/>
                        </a:lnTo>
                        <a:lnTo>
                          <a:pt x="202" y="624"/>
                        </a:lnTo>
                        <a:lnTo>
                          <a:pt x="208" y="640"/>
                        </a:lnTo>
                        <a:lnTo>
                          <a:pt x="217" y="656"/>
                        </a:lnTo>
                        <a:lnTo>
                          <a:pt x="233" y="685"/>
                        </a:lnTo>
                        <a:lnTo>
                          <a:pt x="250" y="715"/>
                        </a:lnTo>
                        <a:lnTo>
                          <a:pt x="266" y="742"/>
                        </a:lnTo>
                        <a:lnTo>
                          <a:pt x="285" y="768"/>
                        </a:lnTo>
                        <a:lnTo>
                          <a:pt x="302" y="791"/>
                        </a:lnTo>
                        <a:lnTo>
                          <a:pt x="321" y="813"/>
                        </a:lnTo>
                        <a:lnTo>
                          <a:pt x="339" y="831"/>
                        </a:lnTo>
                        <a:lnTo>
                          <a:pt x="350" y="842"/>
                        </a:lnTo>
                        <a:lnTo>
                          <a:pt x="356" y="847"/>
                        </a:lnTo>
                        <a:lnTo>
                          <a:pt x="364" y="851"/>
                        </a:lnTo>
                        <a:lnTo>
                          <a:pt x="381" y="859"/>
                        </a:lnTo>
                        <a:lnTo>
                          <a:pt x="402" y="865"/>
                        </a:lnTo>
                        <a:lnTo>
                          <a:pt x="427" y="865"/>
                        </a:lnTo>
                        <a:lnTo>
                          <a:pt x="454" y="855"/>
                        </a:lnTo>
                        <a:lnTo>
                          <a:pt x="468" y="846"/>
                        </a:lnTo>
                        <a:lnTo>
                          <a:pt x="483" y="835"/>
                        </a:lnTo>
                        <a:lnTo>
                          <a:pt x="495" y="821"/>
                        </a:lnTo>
                        <a:lnTo>
                          <a:pt x="512" y="802"/>
                        </a:lnTo>
                        <a:lnTo>
                          <a:pt x="533" y="777"/>
                        </a:lnTo>
                        <a:lnTo>
                          <a:pt x="558" y="745"/>
                        </a:lnTo>
                        <a:lnTo>
                          <a:pt x="570" y="728"/>
                        </a:lnTo>
                        <a:lnTo>
                          <a:pt x="585" y="708"/>
                        </a:lnTo>
                        <a:lnTo>
                          <a:pt x="599" y="685"/>
                        </a:lnTo>
                        <a:lnTo>
                          <a:pt x="614" y="663"/>
                        </a:lnTo>
                        <a:lnTo>
                          <a:pt x="628" y="638"/>
                        </a:lnTo>
                        <a:lnTo>
                          <a:pt x="643" y="611"/>
                        </a:lnTo>
                        <a:lnTo>
                          <a:pt x="657" y="583"/>
                        </a:lnTo>
                        <a:lnTo>
                          <a:pt x="672" y="554"/>
                        </a:lnTo>
                        <a:lnTo>
                          <a:pt x="687" y="523"/>
                        </a:lnTo>
                        <a:lnTo>
                          <a:pt x="701" y="491"/>
                        </a:lnTo>
                        <a:lnTo>
                          <a:pt x="716" y="458"/>
                        </a:lnTo>
                        <a:lnTo>
                          <a:pt x="728" y="422"/>
                        </a:lnTo>
                        <a:lnTo>
                          <a:pt x="751" y="349"/>
                        </a:lnTo>
                        <a:lnTo>
                          <a:pt x="770" y="270"/>
                        </a:lnTo>
                        <a:lnTo>
                          <a:pt x="784" y="185"/>
                        </a:lnTo>
                        <a:lnTo>
                          <a:pt x="795" y="0"/>
                        </a:lnTo>
                        <a:lnTo>
                          <a:pt x="795" y="0"/>
                        </a:lnTo>
                        <a:lnTo>
                          <a:pt x="778" y="84"/>
                        </a:lnTo>
                        <a:lnTo>
                          <a:pt x="770" y="125"/>
                        </a:lnTo>
                        <a:lnTo>
                          <a:pt x="757" y="174"/>
                        </a:lnTo>
                        <a:lnTo>
                          <a:pt x="743" y="227"/>
                        </a:lnTo>
                        <a:lnTo>
                          <a:pt x="726" y="286"/>
                        </a:lnTo>
                        <a:lnTo>
                          <a:pt x="716" y="315"/>
                        </a:lnTo>
                        <a:lnTo>
                          <a:pt x="705" y="345"/>
                        </a:lnTo>
                        <a:lnTo>
                          <a:pt x="695" y="376"/>
                        </a:lnTo>
                        <a:lnTo>
                          <a:pt x="682" y="408"/>
                        </a:lnTo>
                        <a:lnTo>
                          <a:pt x="670" y="440"/>
                        </a:lnTo>
                        <a:lnTo>
                          <a:pt x="655" y="470"/>
                        </a:lnTo>
                        <a:lnTo>
                          <a:pt x="641" y="502"/>
                        </a:lnTo>
                        <a:lnTo>
                          <a:pt x="635" y="518"/>
                        </a:lnTo>
                        <a:lnTo>
                          <a:pt x="626" y="533"/>
                        </a:lnTo>
                        <a:lnTo>
                          <a:pt x="618" y="549"/>
                        </a:lnTo>
                        <a:lnTo>
                          <a:pt x="610" y="563"/>
                        </a:lnTo>
                        <a:lnTo>
                          <a:pt x="593" y="594"/>
                        </a:lnTo>
                        <a:lnTo>
                          <a:pt x="574" y="623"/>
                        </a:lnTo>
                        <a:lnTo>
                          <a:pt x="556" y="652"/>
                        </a:lnTo>
                        <a:lnTo>
                          <a:pt x="535" y="680"/>
                        </a:lnTo>
                        <a:lnTo>
                          <a:pt x="514" y="707"/>
                        </a:lnTo>
                        <a:lnTo>
                          <a:pt x="491" y="730"/>
                        </a:lnTo>
                        <a:lnTo>
                          <a:pt x="468" y="754"/>
                        </a:lnTo>
                        <a:lnTo>
                          <a:pt x="460" y="761"/>
                        </a:lnTo>
                        <a:lnTo>
                          <a:pt x="449" y="769"/>
                        </a:lnTo>
                        <a:lnTo>
                          <a:pt x="439" y="777"/>
                        </a:lnTo>
                        <a:lnTo>
                          <a:pt x="425" y="782"/>
                        </a:lnTo>
                        <a:lnTo>
                          <a:pt x="412" y="785"/>
                        </a:lnTo>
                        <a:lnTo>
                          <a:pt x="397" y="785"/>
                        </a:lnTo>
                        <a:lnTo>
                          <a:pt x="385" y="781"/>
                        </a:lnTo>
                        <a:lnTo>
                          <a:pt x="373" y="770"/>
                        </a:lnTo>
                        <a:lnTo>
                          <a:pt x="356" y="749"/>
                        </a:lnTo>
                        <a:lnTo>
                          <a:pt x="343" y="733"/>
                        </a:lnTo>
                        <a:lnTo>
                          <a:pt x="329" y="712"/>
                        </a:lnTo>
                        <a:lnTo>
                          <a:pt x="312" y="687"/>
                        </a:lnTo>
                        <a:lnTo>
                          <a:pt x="291" y="656"/>
                        </a:lnTo>
                        <a:lnTo>
                          <a:pt x="281" y="639"/>
                        </a:lnTo>
                        <a:lnTo>
                          <a:pt x="271" y="620"/>
                        </a:lnTo>
                        <a:lnTo>
                          <a:pt x="258" y="602"/>
                        </a:lnTo>
                        <a:lnTo>
                          <a:pt x="248" y="580"/>
                        </a:lnTo>
                        <a:lnTo>
                          <a:pt x="235" y="558"/>
                        </a:lnTo>
                        <a:lnTo>
                          <a:pt x="223" y="534"/>
                        </a:lnTo>
                        <a:lnTo>
                          <a:pt x="198" y="481"/>
                        </a:lnTo>
                        <a:lnTo>
                          <a:pt x="183" y="453"/>
                        </a:lnTo>
                        <a:lnTo>
                          <a:pt x="171" y="422"/>
                        </a:lnTo>
                        <a:lnTo>
                          <a:pt x="156" y="391"/>
                        </a:lnTo>
                        <a:lnTo>
                          <a:pt x="144" y="357"/>
                        </a:lnTo>
                        <a:lnTo>
                          <a:pt x="131" y="323"/>
                        </a:lnTo>
                        <a:lnTo>
                          <a:pt x="117" y="286"/>
                        </a:lnTo>
                        <a:lnTo>
                          <a:pt x="104" y="247"/>
                        </a:lnTo>
                        <a:lnTo>
                          <a:pt x="90" y="206"/>
                        </a:lnTo>
                        <a:lnTo>
                          <a:pt x="77" y="164"/>
                        </a:lnTo>
                        <a:lnTo>
                          <a:pt x="65" y="120"/>
                        </a:lnTo>
                        <a:lnTo>
                          <a:pt x="50" y="73"/>
                        </a:lnTo>
                        <a:lnTo>
                          <a:pt x="38" y="26"/>
                        </a:lnTo>
                        <a:lnTo>
                          <a:pt x="29" y="15"/>
                        </a:lnTo>
                        <a:lnTo>
                          <a:pt x="17" y="18"/>
                        </a:lnTo>
                        <a:lnTo>
                          <a:pt x="4" y="23"/>
                        </a:lnTo>
                        <a:lnTo>
                          <a:pt x="0" y="28"/>
                        </a:lnTo>
                        <a:lnTo>
                          <a:pt x="0" y="2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862280" y="1568520"/>
                    <a:ext cx="2065320" cy="662040"/>
                  </a:xfrm>
                  <a:custGeom>
                    <a:avLst/>
                    <a:gdLst/>
                    <a:ahLst/>
                    <a:rect l="l" t="t" r="r" b="b"/>
                    <a:pathLst>
                      <a:path w="1301" h="417">
                        <a:moveTo>
                          <a:pt x="1301" y="0"/>
                        </a:moveTo>
                        <a:lnTo>
                          <a:pt x="1260" y="10"/>
                        </a:lnTo>
                        <a:lnTo>
                          <a:pt x="1237" y="16"/>
                        </a:lnTo>
                        <a:lnTo>
                          <a:pt x="1210" y="21"/>
                        </a:lnTo>
                        <a:lnTo>
                          <a:pt x="1181" y="29"/>
                        </a:lnTo>
                        <a:lnTo>
                          <a:pt x="1145" y="37"/>
                        </a:lnTo>
                        <a:lnTo>
                          <a:pt x="1108" y="46"/>
                        </a:lnTo>
                        <a:lnTo>
                          <a:pt x="1066" y="57"/>
                        </a:lnTo>
                        <a:lnTo>
                          <a:pt x="1046" y="62"/>
                        </a:lnTo>
                        <a:lnTo>
                          <a:pt x="1023" y="67"/>
                        </a:lnTo>
                        <a:lnTo>
                          <a:pt x="1002" y="74"/>
                        </a:lnTo>
                        <a:lnTo>
                          <a:pt x="977" y="79"/>
                        </a:lnTo>
                        <a:lnTo>
                          <a:pt x="954" y="86"/>
                        </a:lnTo>
                        <a:lnTo>
                          <a:pt x="929" y="93"/>
                        </a:lnTo>
                        <a:lnTo>
                          <a:pt x="904" y="99"/>
                        </a:lnTo>
                        <a:lnTo>
                          <a:pt x="879" y="106"/>
                        </a:lnTo>
                        <a:lnTo>
                          <a:pt x="854" y="113"/>
                        </a:lnTo>
                        <a:lnTo>
                          <a:pt x="829" y="119"/>
                        </a:lnTo>
                        <a:lnTo>
                          <a:pt x="802" y="127"/>
                        </a:lnTo>
                        <a:lnTo>
                          <a:pt x="775" y="134"/>
                        </a:lnTo>
                        <a:lnTo>
                          <a:pt x="748" y="142"/>
                        </a:lnTo>
                        <a:lnTo>
                          <a:pt x="721" y="148"/>
                        </a:lnTo>
                        <a:lnTo>
                          <a:pt x="694" y="156"/>
                        </a:lnTo>
                        <a:lnTo>
                          <a:pt x="667" y="164"/>
                        </a:lnTo>
                        <a:lnTo>
                          <a:pt x="640" y="172"/>
                        </a:lnTo>
                        <a:lnTo>
                          <a:pt x="613" y="180"/>
                        </a:lnTo>
                        <a:lnTo>
                          <a:pt x="586" y="190"/>
                        </a:lnTo>
                        <a:lnTo>
                          <a:pt x="559" y="197"/>
                        </a:lnTo>
                        <a:lnTo>
                          <a:pt x="530" y="205"/>
                        </a:lnTo>
                        <a:lnTo>
                          <a:pt x="503" y="215"/>
                        </a:lnTo>
                        <a:lnTo>
                          <a:pt x="476" y="223"/>
                        </a:lnTo>
                        <a:lnTo>
                          <a:pt x="449" y="231"/>
                        </a:lnTo>
                        <a:lnTo>
                          <a:pt x="422" y="240"/>
                        </a:lnTo>
                        <a:lnTo>
                          <a:pt x="397" y="249"/>
                        </a:lnTo>
                        <a:lnTo>
                          <a:pt x="370" y="257"/>
                        </a:lnTo>
                        <a:lnTo>
                          <a:pt x="345" y="267"/>
                        </a:lnTo>
                        <a:lnTo>
                          <a:pt x="318" y="276"/>
                        </a:lnTo>
                        <a:lnTo>
                          <a:pt x="293" y="284"/>
                        </a:lnTo>
                        <a:lnTo>
                          <a:pt x="268" y="293"/>
                        </a:lnTo>
                        <a:lnTo>
                          <a:pt x="243" y="302"/>
                        </a:lnTo>
                        <a:lnTo>
                          <a:pt x="220" y="312"/>
                        </a:lnTo>
                        <a:lnTo>
                          <a:pt x="197" y="321"/>
                        </a:lnTo>
                        <a:lnTo>
                          <a:pt x="174" y="329"/>
                        </a:lnTo>
                        <a:lnTo>
                          <a:pt x="151" y="338"/>
                        </a:lnTo>
                        <a:lnTo>
                          <a:pt x="131" y="347"/>
                        </a:lnTo>
                        <a:lnTo>
                          <a:pt x="110" y="357"/>
                        </a:lnTo>
                        <a:lnTo>
                          <a:pt x="89" y="366"/>
                        </a:lnTo>
                        <a:lnTo>
                          <a:pt x="70" y="375"/>
                        </a:lnTo>
                        <a:lnTo>
                          <a:pt x="52" y="385"/>
                        </a:lnTo>
                        <a:lnTo>
                          <a:pt x="33" y="393"/>
                        </a:lnTo>
                        <a:lnTo>
                          <a:pt x="16" y="402"/>
                        </a:lnTo>
                        <a:lnTo>
                          <a:pt x="0" y="411"/>
                        </a:lnTo>
                        <a:lnTo>
                          <a:pt x="407" y="417"/>
                        </a:lnTo>
                        <a:lnTo>
                          <a:pt x="89" y="395"/>
                        </a:lnTo>
                        <a:lnTo>
                          <a:pt x="1301" y="0"/>
                        </a:lnTo>
                        <a:lnTo>
                          <a:pt x="1301"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156280" y="1569960"/>
                    <a:ext cx="2023920" cy="596880"/>
                  </a:xfrm>
                  <a:custGeom>
                    <a:avLst/>
                    <a:gdLst/>
                    <a:ahLst/>
                    <a:rect l="l" t="t" r="r" b="b"/>
                    <a:pathLst>
                      <a:path w="1275" h="376">
                        <a:moveTo>
                          <a:pt x="0" y="0"/>
                        </a:moveTo>
                        <a:lnTo>
                          <a:pt x="33" y="5"/>
                        </a:lnTo>
                        <a:lnTo>
                          <a:pt x="73" y="12"/>
                        </a:lnTo>
                        <a:lnTo>
                          <a:pt x="125" y="23"/>
                        </a:lnTo>
                        <a:lnTo>
                          <a:pt x="156" y="28"/>
                        </a:lnTo>
                        <a:lnTo>
                          <a:pt x="189" y="35"/>
                        </a:lnTo>
                        <a:lnTo>
                          <a:pt x="227" y="41"/>
                        </a:lnTo>
                        <a:lnTo>
                          <a:pt x="264" y="49"/>
                        </a:lnTo>
                        <a:lnTo>
                          <a:pt x="306" y="57"/>
                        </a:lnTo>
                        <a:lnTo>
                          <a:pt x="347" y="66"/>
                        </a:lnTo>
                        <a:lnTo>
                          <a:pt x="393" y="76"/>
                        </a:lnTo>
                        <a:lnTo>
                          <a:pt x="439" y="86"/>
                        </a:lnTo>
                        <a:lnTo>
                          <a:pt x="487" y="96"/>
                        </a:lnTo>
                        <a:lnTo>
                          <a:pt x="512" y="102"/>
                        </a:lnTo>
                        <a:lnTo>
                          <a:pt x="537" y="108"/>
                        </a:lnTo>
                        <a:lnTo>
                          <a:pt x="562" y="113"/>
                        </a:lnTo>
                        <a:lnTo>
                          <a:pt x="587" y="119"/>
                        </a:lnTo>
                        <a:lnTo>
                          <a:pt x="614" y="125"/>
                        </a:lnTo>
                        <a:lnTo>
                          <a:pt x="639" y="131"/>
                        </a:lnTo>
                        <a:lnTo>
                          <a:pt x="666" y="138"/>
                        </a:lnTo>
                        <a:lnTo>
                          <a:pt x="693" y="145"/>
                        </a:lnTo>
                        <a:lnTo>
                          <a:pt x="718" y="151"/>
                        </a:lnTo>
                        <a:lnTo>
                          <a:pt x="745" y="158"/>
                        </a:lnTo>
                        <a:lnTo>
                          <a:pt x="772" y="165"/>
                        </a:lnTo>
                        <a:lnTo>
                          <a:pt x="799" y="173"/>
                        </a:lnTo>
                        <a:lnTo>
                          <a:pt x="826" y="179"/>
                        </a:lnTo>
                        <a:lnTo>
                          <a:pt x="853" y="187"/>
                        </a:lnTo>
                        <a:lnTo>
                          <a:pt x="880" y="194"/>
                        </a:lnTo>
                        <a:lnTo>
                          <a:pt x="907" y="202"/>
                        </a:lnTo>
                        <a:lnTo>
                          <a:pt x="934" y="210"/>
                        </a:lnTo>
                        <a:lnTo>
                          <a:pt x="961" y="218"/>
                        </a:lnTo>
                        <a:lnTo>
                          <a:pt x="988" y="226"/>
                        </a:lnTo>
                        <a:lnTo>
                          <a:pt x="1015" y="234"/>
                        </a:lnTo>
                        <a:lnTo>
                          <a:pt x="1042" y="242"/>
                        </a:lnTo>
                        <a:lnTo>
                          <a:pt x="1069" y="250"/>
                        </a:lnTo>
                        <a:lnTo>
                          <a:pt x="1094" y="259"/>
                        </a:lnTo>
                        <a:lnTo>
                          <a:pt x="1121" y="267"/>
                        </a:lnTo>
                        <a:lnTo>
                          <a:pt x="1148" y="275"/>
                        </a:lnTo>
                        <a:lnTo>
                          <a:pt x="1173" y="284"/>
                        </a:lnTo>
                        <a:lnTo>
                          <a:pt x="1200" y="293"/>
                        </a:lnTo>
                        <a:lnTo>
                          <a:pt x="1225" y="303"/>
                        </a:lnTo>
                        <a:lnTo>
                          <a:pt x="1250" y="312"/>
                        </a:lnTo>
                        <a:lnTo>
                          <a:pt x="1275" y="321"/>
                        </a:lnTo>
                        <a:lnTo>
                          <a:pt x="978" y="376"/>
                        </a:lnTo>
                        <a:lnTo>
                          <a:pt x="1167" y="308"/>
                        </a:lnTo>
                        <a:lnTo>
                          <a:pt x="0" y="0"/>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3684600" y="2581200"/>
                    <a:ext cx="762120" cy="274680"/>
                  </a:xfrm>
                  <a:custGeom>
                    <a:avLst/>
                    <a:gdLst/>
                    <a:ahLst/>
                    <a:rect l="l" t="t" r="r" b="b"/>
                    <a:pathLst>
                      <a:path w="480" h="173">
                        <a:moveTo>
                          <a:pt x="384" y="0"/>
                        </a:moveTo>
                        <a:lnTo>
                          <a:pt x="372" y="6"/>
                        </a:lnTo>
                        <a:lnTo>
                          <a:pt x="359" y="11"/>
                        </a:lnTo>
                        <a:lnTo>
                          <a:pt x="347" y="16"/>
                        </a:lnTo>
                        <a:lnTo>
                          <a:pt x="332" y="23"/>
                        </a:lnTo>
                        <a:lnTo>
                          <a:pt x="318" y="28"/>
                        </a:lnTo>
                        <a:lnTo>
                          <a:pt x="303" y="33"/>
                        </a:lnTo>
                        <a:lnTo>
                          <a:pt x="287" y="40"/>
                        </a:lnTo>
                        <a:lnTo>
                          <a:pt x="272" y="47"/>
                        </a:lnTo>
                        <a:lnTo>
                          <a:pt x="255" y="52"/>
                        </a:lnTo>
                        <a:lnTo>
                          <a:pt x="241" y="57"/>
                        </a:lnTo>
                        <a:lnTo>
                          <a:pt x="224" y="64"/>
                        </a:lnTo>
                        <a:lnTo>
                          <a:pt x="210" y="71"/>
                        </a:lnTo>
                        <a:lnTo>
                          <a:pt x="193" y="76"/>
                        </a:lnTo>
                        <a:lnTo>
                          <a:pt x="178" y="83"/>
                        </a:lnTo>
                        <a:lnTo>
                          <a:pt x="164" y="88"/>
                        </a:lnTo>
                        <a:lnTo>
                          <a:pt x="149" y="94"/>
                        </a:lnTo>
                        <a:lnTo>
                          <a:pt x="133" y="100"/>
                        </a:lnTo>
                        <a:lnTo>
                          <a:pt x="120" y="105"/>
                        </a:lnTo>
                        <a:lnTo>
                          <a:pt x="106" y="112"/>
                        </a:lnTo>
                        <a:lnTo>
                          <a:pt x="93" y="117"/>
                        </a:lnTo>
                        <a:lnTo>
                          <a:pt x="68" y="128"/>
                        </a:lnTo>
                        <a:lnTo>
                          <a:pt x="45" y="138"/>
                        </a:lnTo>
                        <a:lnTo>
                          <a:pt x="29" y="148"/>
                        </a:lnTo>
                        <a:lnTo>
                          <a:pt x="14" y="157"/>
                        </a:lnTo>
                        <a:lnTo>
                          <a:pt x="0" y="173"/>
                        </a:lnTo>
                        <a:lnTo>
                          <a:pt x="89" y="171"/>
                        </a:lnTo>
                        <a:lnTo>
                          <a:pt x="212" y="162"/>
                        </a:lnTo>
                        <a:lnTo>
                          <a:pt x="280" y="156"/>
                        </a:lnTo>
                        <a:lnTo>
                          <a:pt x="349" y="148"/>
                        </a:lnTo>
                        <a:lnTo>
                          <a:pt x="418" y="141"/>
                        </a:lnTo>
                        <a:lnTo>
                          <a:pt x="480" y="136"/>
                        </a:lnTo>
                        <a:lnTo>
                          <a:pt x="189" y="130"/>
                        </a:lnTo>
                        <a:lnTo>
                          <a:pt x="384" y="0"/>
                        </a:lnTo>
                        <a:lnTo>
                          <a:pt x="384"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4813200" y="2567160"/>
                    <a:ext cx="765360" cy="272880"/>
                  </a:xfrm>
                  <a:custGeom>
                    <a:avLst/>
                    <a:gdLst/>
                    <a:ahLst/>
                    <a:rect l="l" t="t" r="r" b="b"/>
                    <a:pathLst>
                      <a:path w="482" h="172">
                        <a:moveTo>
                          <a:pt x="95" y="0"/>
                        </a:moveTo>
                        <a:lnTo>
                          <a:pt x="106" y="5"/>
                        </a:lnTo>
                        <a:lnTo>
                          <a:pt x="120" y="11"/>
                        </a:lnTo>
                        <a:lnTo>
                          <a:pt x="133" y="16"/>
                        </a:lnTo>
                        <a:lnTo>
                          <a:pt x="147" y="22"/>
                        </a:lnTo>
                        <a:lnTo>
                          <a:pt x="162" y="28"/>
                        </a:lnTo>
                        <a:lnTo>
                          <a:pt x="177" y="34"/>
                        </a:lnTo>
                        <a:lnTo>
                          <a:pt x="191" y="40"/>
                        </a:lnTo>
                        <a:lnTo>
                          <a:pt x="208" y="46"/>
                        </a:lnTo>
                        <a:lnTo>
                          <a:pt x="222" y="52"/>
                        </a:lnTo>
                        <a:lnTo>
                          <a:pt x="239" y="58"/>
                        </a:lnTo>
                        <a:lnTo>
                          <a:pt x="254" y="64"/>
                        </a:lnTo>
                        <a:lnTo>
                          <a:pt x="270" y="70"/>
                        </a:lnTo>
                        <a:lnTo>
                          <a:pt x="285" y="76"/>
                        </a:lnTo>
                        <a:lnTo>
                          <a:pt x="301" y="82"/>
                        </a:lnTo>
                        <a:lnTo>
                          <a:pt x="316" y="88"/>
                        </a:lnTo>
                        <a:lnTo>
                          <a:pt x="330" y="94"/>
                        </a:lnTo>
                        <a:lnTo>
                          <a:pt x="345" y="99"/>
                        </a:lnTo>
                        <a:lnTo>
                          <a:pt x="360" y="106"/>
                        </a:lnTo>
                        <a:lnTo>
                          <a:pt x="374" y="111"/>
                        </a:lnTo>
                        <a:lnTo>
                          <a:pt x="387" y="117"/>
                        </a:lnTo>
                        <a:lnTo>
                          <a:pt x="412" y="127"/>
                        </a:lnTo>
                        <a:lnTo>
                          <a:pt x="432" y="138"/>
                        </a:lnTo>
                        <a:lnTo>
                          <a:pt x="451" y="147"/>
                        </a:lnTo>
                        <a:lnTo>
                          <a:pt x="466" y="157"/>
                        </a:lnTo>
                        <a:lnTo>
                          <a:pt x="482" y="172"/>
                        </a:lnTo>
                        <a:lnTo>
                          <a:pt x="391" y="172"/>
                        </a:lnTo>
                        <a:lnTo>
                          <a:pt x="268" y="162"/>
                        </a:lnTo>
                        <a:lnTo>
                          <a:pt x="199" y="155"/>
                        </a:lnTo>
                        <a:lnTo>
                          <a:pt x="131" y="149"/>
                        </a:lnTo>
                        <a:lnTo>
                          <a:pt x="62" y="141"/>
                        </a:lnTo>
                        <a:lnTo>
                          <a:pt x="0" y="135"/>
                        </a:lnTo>
                        <a:lnTo>
                          <a:pt x="291" y="130"/>
                        </a:lnTo>
                        <a:lnTo>
                          <a:pt x="95" y="0"/>
                        </a:lnTo>
                        <a:lnTo>
                          <a:pt x="9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5965920" y="2013120"/>
                    <a:ext cx="349200" cy="260280"/>
                  </a:xfrm>
                  <a:custGeom>
                    <a:avLst/>
                    <a:gdLst/>
                    <a:ahLst/>
                    <a:rect l="l" t="t" r="r" b="b"/>
                    <a:pathLst>
                      <a:path w="220" h="164">
                        <a:moveTo>
                          <a:pt x="8" y="9"/>
                        </a:moveTo>
                        <a:lnTo>
                          <a:pt x="0" y="69"/>
                        </a:lnTo>
                        <a:lnTo>
                          <a:pt x="2" y="111"/>
                        </a:lnTo>
                        <a:lnTo>
                          <a:pt x="18" y="142"/>
                        </a:lnTo>
                        <a:lnTo>
                          <a:pt x="50" y="160"/>
                        </a:lnTo>
                        <a:lnTo>
                          <a:pt x="66" y="164"/>
                        </a:lnTo>
                        <a:lnTo>
                          <a:pt x="108" y="164"/>
                        </a:lnTo>
                        <a:lnTo>
                          <a:pt x="164" y="151"/>
                        </a:lnTo>
                        <a:lnTo>
                          <a:pt x="189" y="137"/>
                        </a:lnTo>
                        <a:lnTo>
                          <a:pt x="206" y="117"/>
                        </a:lnTo>
                        <a:lnTo>
                          <a:pt x="220" y="66"/>
                        </a:lnTo>
                        <a:lnTo>
                          <a:pt x="220" y="20"/>
                        </a:lnTo>
                        <a:lnTo>
                          <a:pt x="218" y="0"/>
                        </a:lnTo>
                        <a:lnTo>
                          <a:pt x="210" y="18"/>
                        </a:lnTo>
                        <a:lnTo>
                          <a:pt x="201" y="38"/>
                        </a:lnTo>
                        <a:lnTo>
                          <a:pt x="187" y="61"/>
                        </a:lnTo>
                        <a:lnTo>
                          <a:pt x="170" y="83"/>
                        </a:lnTo>
                        <a:lnTo>
                          <a:pt x="149" y="105"/>
                        </a:lnTo>
                        <a:lnTo>
                          <a:pt x="137" y="114"/>
                        </a:lnTo>
                        <a:lnTo>
                          <a:pt x="124" y="121"/>
                        </a:lnTo>
                        <a:lnTo>
                          <a:pt x="110" y="127"/>
                        </a:lnTo>
                        <a:lnTo>
                          <a:pt x="95" y="130"/>
                        </a:lnTo>
                        <a:lnTo>
                          <a:pt x="68" y="129"/>
                        </a:lnTo>
                        <a:lnTo>
                          <a:pt x="47" y="117"/>
                        </a:lnTo>
                        <a:lnTo>
                          <a:pt x="20" y="74"/>
                        </a:lnTo>
                        <a:lnTo>
                          <a:pt x="8" y="9"/>
                        </a:lnTo>
                        <a:lnTo>
                          <a:pt x="8" y="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99200" y="1897200"/>
                    <a:ext cx="392040" cy="355320"/>
                  </a:xfrm>
                  <a:custGeom>
                    <a:avLst/>
                    <a:gdLst/>
                    <a:ahLst/>
                    <a:rect l="l" t="t" r="r" b="b"/>
                    <a:pathLst>
                      <a:path w="247" h="224">
                        <a:moveTo>
                          <a:pt x="20" y="0"/>
                        </a:moveTo>
                        <a:lnTo>
                          <a:pt x="0" y="77"/>
                        </a:lnTo>
                        <a:lnTo>
                          <a:pt x="4" y="129"/>
                        </a:lnTo>
                        <a:lnTo>
                          <a:pt x="20" y="174"/>
                        </a:lnTo>
                        <a:lnTo>
                          <a:pt x="29" y="191"/>
                        </a:lnTo>
                        <a:lnTo>
                          <a:pt x="41" y="204"/>
                        </a:lnTo>
                        <a:lnTo>
                          <a:pt x="49" y="211"/>
                        </a:lnTo>
                        <a:lnTo>
                          <a:pt x="58" y="215"/>
                        </a:lnTo>
                        <a:lnTo>
                          <a:pt x="76" y="221"/>
                        </a:lnTo>
                        <a:lnTo>
                          <a:pt x="101" y="224"/>
                        </a:lnTo>
                        <a:lnTo>
                          <a:pt x="149" y="217"/>
                        </a:lnTo>
                        <a:lnTo>
                          <a:pt x="170" y="210"/>
                        </a:lnTo>
                        <a:lnTo>
                          <a:pt x="187" y="199"/>
                        </a:lnTo>
                        <a:lnTo>
                          <a:pt x="214" y="172"/>
                        </a:lnTo>
                        <a:lnTo>
                          <a:pt x="232" y="140"/>
                        </a:lnTo>
                        <a:lnTo>
                          <a:pt x="247" y="67"/>
                        </a:lnTo>
                        <a:lnTo>
                          <a:pt x="245" y="33"/>
                        </a:lnTo>
                        <a:lnTo>
                          <a:pt x="237" y="0"/>
                        </a:lnTo>
                        <a:lnTo>
                          <a:pt x="226" y="28"/>
                        </a:lnTo>
                        <a:lnTo>
                          <a:pt x="214" y="56"/>
                        </a:lnTo>
                        <a:lnTo>
                          <a:pt x="205" y="71"/>
                        </a:lnTo>
                        <a:lnTo>
                          <a:pt x="197" y="89"/>
                        </a:lnTo>
                        <a:lnTo>
                          <a:pt x="189" y="105"/>
                        </a:lnTo>
                        <a:lnTo>
                          <a:pt x="176" y="121"/>
                        </a:lnTo>
                        <a:lnTo>
                          <a:pt x="166" y="137"/>
                        </a:lnTo>
                        <a:lnTo>
                          <a:pt x="153" y="150"/>
                        </a:lnTo>
                        <a:lnTo>
                          <a:pt x="141" y="162"/>
                        </a:lnTo>
                        <a:lnTo>
                          <a:pt x="135" y="166"/>
                        </a:lnTo>
                        <a:lnTo>
                          <a:pt x="128" y="171"/>
                        </a:lnTo>
                        <a:lnTo>
                          <a:pt x="116" y="176"/>
                        </a:lnTo>
                        <a:lnTo>
                          <a:pt x="101" y="179"/>
                        </a:lnTo>
                        <a:lnTo>
                          <a:pt x="76" y="172"/>
                        </a:lnTo>
                        <a:lnTo>
                          <a:pt x="56" y="156"/>
                        </a:lnTo>
                        <a:lnTo>
                          <a:pt x="31" y="101"/>
                        </a:lnTo>
                        <a:lnTo>
                          <a:pt x="20" y="40"/>
                        </a:lnTo>
                        <a:lnTo>
                          <a:pt x="20" y="0"/>
                        </a:lnTo>
                        <a:lnTo>
                          <a:pt x="2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2795760" y="2041560"/>
                    <a:ext cx="345960" cy="262080"/>
                  </a:xfrm>
                  <a:custGeom>
                    <a:avLst/>
                    <a:gdLst/>
                    <a:ahLst/>
                    <a:rect l="l" t="t" r="r" b="b"/>
                    <a:pathLst>
                      <a:path w="218" h="165">
                        <a:moveTo>
                          <a:pt x="212" y="10"/>
                        </a:moveTo>
                        <a:lnTo>
                          <a:pt x="218" y="89"/>
                        </a:lnTo>
                        <a:lnTo>
                          <a:pt x="210" y="124"/>
                        </a:lnTo>
                        <a:lnTo>
                          <a:pt x="198" y="149"/>
                        </a:lnTo>
                        <a:lnTo>
                          <a:pt x="171" y="161"/>
                        </a:lnTo>
                        <a:lnTo>
                          <a:pt x="154" y="165"/>
                        </a:lnTo>
                        <a:lnTo>
                          <a:pt x="112" y="165"/>
                        </a:lnTo>
                        <a:lnTo>
                          <a:pt x="56" y="152"/>
                        </a:lnTo>
                        <a:lnTo>
                          <a:pt x="31" y="138"/>
                        </a:lnTo>
                        <a:lnTo>
                          <a:pt x="15" y="117"/>
                        </a:lnTo>
                        <a:lnTo>
                          <a:pt x="0" y="67"/>
                        </a:lnTo>
                        <a:lnTo>
                          <a:pt x="0" y="20"/>
                        </a:lnTo>
                        <a:lnTo>
                          <a:pt x="2" y="0"/>
                        </a:lnTo>
                        <a:lnTo>
                          <a:pt x="11" y="19"/>
                        </a:lnTo>
                        <a:lnTo>
                          <a:pt x="21" y="39"/>
                        </a:lnTo>
                        <a:lnTo>
                          <a:pt x="33" y="61"/>
                        </a:lnTo>
                        <a:lnTo>
                          <a:pt x="50" y="84"/>
                        </a:lnTo>
                        <a:lnTo>
                          <a:pt x="71" y="105"/>
                        </a:lnTo>
                        <a:lnTo>
                          <a:pt x="83" y="115"/>
                        </a:lnTo>
                        <a:lnTo>
                          <a:pt x="96" y="122"/>
                        </a:lnTo>
                        <a:lnTo>
                          <a:pt x="110" y="128"/>
                        </a:lnTo>
                        <a:lnTo>
                          <a:pt x="125" y="130"/>
                        </a:lnTo>
                        <a:lnTo>
                          <a:pt x="152" y="129"/>
                        </a:lnTo>
                        <a:lnTo>
                          <a:pt x="173" y="117"/>
                        </a:lnTo>
                        <a:lnTo>
                          <a:pt x="200" y="75"/>
                        </a:lnTo>
                        <a:lnTo>
                          <a:pt x="212" y="10"/>
                        </a:lnTo>
                        <a:lnTo>
                          <a:pt x="212" y="1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440160" y="1922400"/>
                    <a:ext cx="382680" cy="354240"/>
                  </a:xfrm>
                  <a:custGeom>
                    <a:avLst/>
                    <a:gdLst/>
                    <a:ahLst/>
                    <a:rect l="l" t="t" r="r" b="b"/>
                    <a:pathLst>
                      <a:path w="241" h="223">
                        <a:moveTo>
                          <a:pt x="237" y="46"/>
                        </a:moveTo>
                        <a:lnTo>
                          <a:pt x="241" y="113"/>
                        </a:lnTo>
                        <a:lnTo>
                          <a:pt x="235" y="154"/>
                        </a:lnTo>
                        <a:lnTo>
                          <a:pt x="228" y="172"/>
                        </a:lnTo>
                        <a:lnTo>
                          <a:pt x="220" y="190"/>
                        </a:lnTo>
                        <a:lnTo>
                          <a:pt x="208" y="204"/>
                        </a:lnTo>
                        <a:lnTo>
                          <a:pt x="199" y="209"/>
                        </a:lnTo>
                        <a:lnTo>
                          <a:pt x="191" y="215"/>
                        </a:lnTo>
                        <a:lnTo>
                          <a:pt x="170" y="221"/>
                        </a:lnTo>
                        <a:lnTo>
                          <a:pt x="147" y="223"/>
                        </a:lnTo>
                        <a:lnTo>
                          <a:pt x="99" y="216"/>
                        </a:lnTo>
                        <a:lnTo>
                          <a:pt x="79" y="208"/>
                        </a:lnTo>
                        <a:lnTo>
                          <a:pt x="62" y="197"/>
                        </a:lnTo>
                        <a:lnTo>
                          <a:pt x="33" y="172"/>
                        </a:lnTo>
                        <a:lnTo>
                          <a:pt x="14" y="139"/>
                        </a:lnTo>
                        <a:lnTo>
                          <a:pt x="0" y="67"/>
                        </a:lnTo>
                        <a:lnTo>
                          <a:pt x="2" y="32"/>
                        </a:lnTo>
                        <a:lnTo>
                          <a:pt x="10" y="0"/>
                        </a:lnTo>
                        <a:lnTo>
                          <a:pt x="20" y="26"/>
                        </a:lnTo>
                        <a:lnTo>
                          <a:pt x="33" y="55"/>
                        </a:lnTo>
                        <a:lnTo>
                          <a:pt x="41" y="71"/>
                        </a:lnTo>
                        <a:lnTo>
                          <a:pt x="50" y="87"/>
                        </a:lnTo>
                        <a:lnTo>
                          <a:pt x="60" y="105"/>
                        </a:lnTo>
                        <a:lnTo>
                          <a:pt x="70" y="121"/>
                        </a:lnTo>
                        <a:lnTo>
                          <a:pt x="83" y="135"/>
                        </a:lnTo>
                        <a:lnTo>
                          <a:pt x="93" y="148"/>
                        </a:lnTo>
                        <a:lnTo>
                          <a:pt x="106" y="160"/>
                        </a:lnTo>
                        <a:lnTo>
                          <a:pt x="112" y="164"/>
                        </a:lnTo>
                        <a:lnTo>
                          <a:pt x="120" y="170"/>
                        </a:lnTo>
                        <a:lnTo>
                          <a:pt x="133" y="175"/>
                        </a:lnTo>
                        <a:lnTo>
                          <a:pt x="147" y="178"/>
                        </a:lnTo>
                        <a:lnTo>
                          <a:pt x="172" y="172"/>
                        </a:lnTo>
                        <a:lnTo>
                          <a:pt x="191" y="155"/>
                        </a:lnTo>
                        <a:lnTo>
                          <a:pt x="218" y="101"/>
                        </a:lnTo>
                        <a:lnTo>
                          <a:pt x="222" y="61"/>
                        </a:lnTo>
                        <a:lnTo>
                          <a:pt x="228" y="0"/>
                        </a:lnTo>
                        <a:lnTo>
                          <a:pt x="237" y="46"/>
                        </a:lnTo>
                        <a:lnTo>
                          <a:pt x="237" y="4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651040" y="3502080"/>
                    <a:ext cx="208080" cy="122040"/>
                  </a:xfrm>
                  <a:custGeom>
                    <a:avLst/>
                    <a:gdLst/>
                    <a:ahLst/>
                    <a:rect l="l" t="t" r="r" b="b"/>
                    <a:pathLst>
                      <a:path w="131" h="77">
                        <a:moveTo>
                          <a:pt x="116" y="0"/>
                        </a:moveTo>
                        <a:lnTo>
                          <a:pt x="14" y="18"/>
                        </a:lnTo>
                        <a:lnTo>
                          <a:pt x="60" y="26"/>
                        </a:lnTo>
                        <a:lnTo>
                          <a:pt x="0" y="51"/>
                        </a:lnTo>
                        <a:lnTo>
                          <a:pt x="83" y="45"/>
                        </a:lnTo>
                        <a:lnTo>
                          <a:pt x="68" y="77"/>
                        </a:lnTo>
                        <a:lnTo>
                          <a:pt x="131" y="55"/>
                        </a:lnTo>
                        <a:lnTo>
                          <a:pt x="91" y="56"/>
                        </a:lnTo>
                        <a:lnTo>
                          <a:pt x="108" y="41"/>
                        </a:lnTo>
                        <a:lnTo>
                          <a:pt x="47" y="39"/>
                        </a:lnTo>
                        <a:lnTo>
                          <a:pt x="93" y="24"/>
                        </a:lnTo>
                        <a:lnTo>
                          <a:pt x="60" y="20"/>
                        </a:lnTo>
                        <a:lnTo>
                          <a:pt x="116" y="0"/>
                        </a:lnTo>
                        <a:lnTo>
                          <a:pt x="116"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5923080" y="3630600"/>
                    <a:ext cx="193680" cy="163440"/>
                  </a:xfrm>
                  <a:custGeom>
                    <a:avLst/>
                    <a:gdLst/>
                    <a:ahLst/>
                    <a:rect l="l" t="t" r="r" b="b"/>
                    <a:pathLst>
                      <a:path w="122" h="103">
                        <a:moveTo>
                          <a:pt x="27" y="14"/>
                        </a:moveTo>
                        <a:lnTo>
                          <a:pt x="116" y="0"/>
                        </a:lnTo>
                        <a:lnTo>
                          <a:pt x="66" y="31"/>
                        </a:lnTo>
                        <a:lnTo>
                          <a:pt x="122" y="37"/>
                        </a:lnTo>
                        <a:lnTo>
                          <a:pt x="56" y="63"/>
                        </a:lnTo>
                        <a:lnTo>
                          <a:pt x="77" y="103"/>
                        </a:lnTo>
                        <a:lnTo>
                          <a:pt x="0" y="88"/>
                        </a:lnTo>
                        <a:lnTo>
                          <a:pt x="52" y="84"/>
                        </a:lnTo>
                        <a:lnTo>
                          <a:pt x="16" y="56"/>
                        </a:lnTo>
                        <a:lnTo>
                          <a:pt x="72" y="43"/>
                        </a:lnTo>
                        <a:lnTo>
                          <a:pt x="37" y="32"/>
                        </a:lnTo>
                        <a:lnTo>
                          <a:pt x="70" y="15"/>
                        </a:lnTo>
                        <a:lnTo>
                          <a:pt x="27" y="14"/>
                        </a:lnTo>
                        <a:lnTo>
                          <a:pt x="27" y="1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6880320" y="2316240"/>
                    <a:ext cx="1201680" cy="747720"/>
                  </a:xfrm>
                  <a:custGeom>
                    <a:avLst/>
                    <a:gdLst/>
                    <a:ahLst/>
                    <a:rect l="l" t="t" r="r" b="b"/>
                    <a:pathLst>
                      <a:path w="757" h="471">
                        <a:moveTo>
                          <a:pt x="89" y="0"/>
                        </a:moveTo>
                        <a:lnTo>
                          <a:pt x="757" y="471"/>
                        </a:lnTo>
                        <a:lnTo>
                          <a:pt x="0" y="26"/>
                        </a:lnTo>
                        <a:lnTo>
                          <a:pt x="89" y="0"/>
                        </a:lnTo>
                        <a:lnTo>
                          <a:pt x="8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6516720" y="2405160"/>
                    <a:ext cx="434880" cy="528480"/>
                  </a:xfrm>
                  <a:custGeom>
                    <a:avLst/>
                    <a:gdLst/>
                    <a:ahLst/>
                    <a:rect l="l" t="t" r="r" b="b"/>
                    <a:pathLst>
                      <a:path w="274" h="333">
                        <a:moveTo>
                          <a:pt x="0" y="36"/>
                        </a:moveTo>
                        <a:lnTo>
                          <a:pt x="274" y="333"/>
                        </a:lnTo>
                        <a:lnTo>
                          <a:pt x="19" y="0"/>
                        </a:lnTo>
                        <a:lnTo>
                          <a:pt x="0" y="36"/>
                        </a:lnTo>
                        <a:lnTo>
                          <a:pt x="0" y="3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1438200" y="2362320"/>
                    <a:ext cx="1036800" cy="801720"/>
                  </a:xfrm>
                  <a:custGeom>
                    <a:avLst/>
                    <a:gdLst/>
                    <a:ahLst/>
                    <a:rect l="l" t="t" r="r" b="b"/>
                    <a:pathLst>
                      <a:path w="653" h="505">
                        <a:moveTo>
                          <a:pt x="570" y="0"/>
                        </a:moveTo>
                        <a:lnTo>
                          <a:pt x="0" y="505"/>
                        </a:lnTo>
                        <a:lnTo>
                          <a:pt x="653" y="8"/>
                        </a:lnTo>
                        <a:lnTo>
                          <a:pt x="570" y="0"/>
                        </a:lnTo>
                        <a:lnTo>
                          <a:pt x="57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2446200" y="2405160"/>
                    <a:ext cx="452520" cy="431640"/>
                  </a:xfrm>
                  <a:custGeom>
                    <a:avLst/>
                    <a:gdLst/>
                    <a:ahLst/>
                    <a:rect l="l" t="t" r="r" b="b"/>
                    <a:pathLst>
                      <a:path w="285" h="272">
                        <a:moveTo>
                          <a:pt x="218" y="0"/>
                        </a:moveTo>
                        <a:lnTo>
                          <a:pt x="0" y="272"/>
                        </a:lnTo>
                        <a:lnTo>
                          <a:pt x="285" y="6"/>
                        </a:lnTo>
                        <a:lnTo>
                          <a:pt x="218" y="0"/>
                        </a:lnTo>
                        <a:lnTo>
                          <a:pt x="21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9" name=""/>
                <p:cNvGrpSpPr/>
                <p:nvPr/>
              </p:nvGrpSpPr>
              <p:grpSpPr>
                <a:xfrm>
                  <a:off x="5105520" y="2590920"/>
                  <a:ext cx="1963440" cy="988920"/>
                  <a:chOff x="5105520" y="2590920"/>
                  <a:chExt cx="1963440" cy="988920"/>
                </a:xfrm>
              </p:grpSpPr>
              <p:sp>
                <p:nvSpPr>
                  <p:cNvPr id="80" name=""/>
                  <p:cNvSpPr/>
                  <p:nvPr/>
                </p:nvSpPr>
                <p:spPr>
                  <a:xfrm>
                    <a:off x="6102360" y="2949480"/>
                    <a:ext cx="162000" cy="71640"/>
                  </a:xfrm>
                  <a:custGeom>
                    <a:avLst/>
                    <a:gdLst/>
                    <a:ahLst/>
                    <a:rect l="l" t="t" r="r" b="b"/>
                    <a:pathLst>
                      <a:path w="202" h="89">
                        <a:moveTo>
                          <a:pt x="101" y="73"/>
                        </a:moveTo>
                        <a:lnTo>
                          <a:pt x="86" y="71"/>
                        </a:lnTo>
                        <a:lnTo>
                          <a:pt x="71" y="68"/>
                        </a:lnTo>
                        <a:lnTo>
                          <a:pt x="58" y="61"/>
                        </a:lnTo>
                        <a:lnTo>
                          <a:pt x="47" y="53"/>
                        </a:lnTo>
                        <a:lnTo>
                          <a:pt x="35" y="44"/>
                        </a:lnTo>
                        <a:lnTo>
                          <a:pt x="27" y="32"/>
                        </a:lnTo>
                        <a:lnTo>
                          <a:pt x="20" y="18"/>
                        </a:lnTo>
                        <a:lnTo>
                          <a:pt x="16" y="5"/>
                        </a:lnTo>
                        <a:lnTo>
                          <a:pt x="0" y="9"/>
                        </a:lnTo>
                        <a:lnTo>
                          <a:pt x="5" y="25"/>
                        </a:lnTo>
                        <a:lnTo>
                          <a:pt x="14" y="40"/>
                        </a:lnTo>
                        <a:lnTo>
                          <a:pt x="24" y="54"/>
                        </a:lnTo>
                        <a:lnTo>
                          <a:pt x="37" y="66"/>
                        </a:lnTo>
                        <a:lnTo>
                          <a:pt x="50" y="75"/>
                        </a:lnTo>
                        <a:lnTo>
                          <a:pt x="67" y="83"/>
                        </a:lnTo>
                        <a:lnTo>
                          <a:pt x="83" y="88"/>
                        </a:lnTo>
                        <a:lnTo>
                          <a:pt x="101" y="89"/>
                        </a:lnTo>
                        <a:lnTo>
                          <a:pt x="119" y="88"/>
                        </a:lnTo>
                        <a:lnTo>
                          <a:pt x="137" y="82"/>
                        </a:lnTo>
                        <a:lnTo>
                          <a:pt x="153" y="75"/>
                        </a:lnTo>
                        <a:lnTo>
                          <a:pt x="168" y="65"/>
                        </a:lnTo>
                        <a:lnTo>
                          <a:pt x="179" y="52"/>
                        </a:lnTo>
                        <a:lnTo>
                          <a:pt x="190" y="37"/>
                        </a:lnTo>
                        <a:lnTo>
                          <a:pt x="198" y="21"/>
                        </a:lnTo>
                        <a:lnTo>
                          <a:pt x="202" y="3"/>
                        </a:lnTo>
                        <a:lnTo>
                          <a:pt x="186" y="0"/>
                        </a:lnTo>
                        <a:lnTo>
                          <a:pt x="183" y="15"/>
                        </a:lnTo>
                        <a:lnTo>
                          <a:pt x="176" y="29"/>
                        </a:lnTo>
                        <a:lnTo>
                          <a:pt x="168" y="40"/>
                        </a:lnTo>
                        <a:lnTo>
                          <a:pt x="158" y="52"/>
                        </a:lnTo>
                        <a:lnTo>
                          <a:pt x="145" y="60"/>
                        </a:lnTo>
                        <a:lnTo>
                          <a:pt x="131" y="67"/>
                        </a:lnTo>
                        <a:lnTo>
                          <a:pt x="117" y="71"/>
                        </a:lnTo>
                        <a:lnTo>
                          <a:pt x="101" y="7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81" name=""/>
                  <p:cNvSpPr/>
                  <p:nvPr/>
                </p:nvSpPr>
                <p:spPr>
                  <a:xfrm>
                    <a:off x="6100920" y="2855880"/>
                    <a:ext cx="163440" cy="101520"/>
                  </a:xfrm>
                  <a:custGeom>
                    <a:avLst/>
                    <a:gdLst/>
                    <a:ahLst/>
                    <a:rect l="l" t="t" r="r" b="b"/>
                    <a:pathLst>
                      <a:path w="207" h="128">
                        <a:moveTo>
                          <a:pt x="104" y="0"/>
                        </a:moveTo>
                        <a:lnTo>
                          <a:pt x="83" y="3"/>
                        </a:lnTo>
                        <a:lnTo>
                          <a:pt x="64" y="8"/>
                        </a:lnTo>
                        <a:lnTo>
                          <a:pt x="46" y="18"/>
                        </a:lnTo>
                        <a:lnTo>
                          <a:pt x="30" y="30"/>
                        </a:lnTo>
                        <a:lnTo>
                          <a:pt x="18" y="46"/>
                        </a:lnTo>
                        <a:lnTo>
                          <a:pt x="8" y="64"/>
                        </a:lnTo>
                        <a:lnTo>
                          <a:pt x="3" y="83"/>
                        </a:lnTo>
                        <a:lnTo>
                          <a:pt x="0" y="104"/>
                        </a:lnTo>
                        <a:lnTo>
                          <a:pt x="0" y="110"/>
                        </a:lnTo>
                        <a:lnTo>
                          <a:pt x="2" y="116"/>
                        </a:lnTo>
                        <a:lnTo>
                          <a:pt x="2" y="122"/>
                        </a:lnTo>
                        <a:lnTo>
                          <a:pt x="3" y="128"/>
                        </a:lnTo>
                        <a:lnTo>
                          <a:pt x="19" y="124"/>
                        </a:lnTo>
                        <a:lnTo>
                          <a:pt x="18" y="119"/>
                        </a:lnTo>
                        <a:lnTo>
                          <a:pt x="18" y="113"/>
                        </a:lnTo>
                        <a:lnTo>
                          <a:pt x="17" y="109"/>
                        </a:lnTo>
                        <a:lnTo>
                          <a:pt x="17" y="104"/>
                        </a:lnTo>
                        <a:lnTo>
                          <a:pt x="19" y="87"/>
                        </a:lnTo>
                        <a:lnTo>
                          <a:pt x="23" y="69"/>
                        </a:lnTo>
                        <a:lnTo>
                          <a:pt x="31" y="54"/>
                        </a:lnTo>
                        <a:lnTo>
                          <a:pt x="42" y="42"/>
                        </a:lnTo>
                        <a:lnTo>
                          <a:pt x="55" y="31"/>
                        </a:lnTo>
                        <a:lnTo>
                          <a:pt x="70" y="23"/>
                        </a:lnTo>
                        <a:lnTo>
                          <a:pt x="87" y="19"/>
                        </a:lnTo>
                        <a:lnTo>
                          <a:pt x="104" y="16"/>
                        </a:lnTo>
                        <a:lnTo>
                          <a:pt x="121" y="19"/>
                        </a:lnTo>
                        <a:lnTo>
                          <a:pt x="137" y="23"/>
                        </a:lnTo>
                        <a:lnTo>
                          <a:pt x="152" y="31"/>
                        </a:lnTo>
                        <a:lnTo>
                          <a:pt x="165" y="42"/>
                        </a:lnTo>
                        <a:lnTo>
                          <a:pt x="177" y="54"/>
                        </a:lnTo>
                        <a:lnTo>
                          <a:pt x="185" y="69"/>
                        </a:lnTo>
                        <a:lnTo>
                          <a:pt x="189" y="87"/>
                        </a:lnTo>
                        <a:lnTo>
                          <a:pt x="192" y="104"/>
                        </a:lnTo>
                        <a:lnTo>
                          <a:pt x="192" y="107"/>
                        </a:lnTo>
                        <a:lnTo>
                          <a:pt x="190" y="111"/>
                        </a:lnTo>
                        <a:lnTo>
                          <a:pt x="190" y="114"/>
                        </a:lnTo>
                        <a:lnTo>
                          <a:pt x="189" y="119"/>
                        </a:lnTo>
                        <a:lnTo>
                          <a:pt x="205" y="122"/>
                        </a:lnTo>
                        <a:lnTo>
                          <a:pt x="207" y="118"/>
                        </a:lnTo>
                        <a:lnTo>
                          <a:pt x="207" y="113"/>
                        </a:lnTo>
                        <a:lnTo>
                          <a:pt x="207" y="109"/>
                        </a:lnTo>
                        <a:lnTo>
                          <a:pt x="207" y="104"/>
                        </a:lnTo>
                        <a:lnTo>
                          <a:pt x="204" y="83"/>
                        </a:lnTo>
                        <a:lnTo>
                          <a:pt x="199" y="64"/>
                        </a:lnTo>
                        <a:lnTo>
                          <a:pt x="189" y="46"/>
                        </a:lnTo>
                        <a:lnTo>
                          <a:pt x="177" y="30"/>
                        </a:lnTo>
                        <a:lnTo>
                          <a:pt x="162" y="18"/>
                        </a:lnTo>
                        <a:lnTo>
                          <a:pt x="144" y="8"/>
                        </a:lnTo>
                        <a:lnTo>
                          <a:pt x="125" y="3"/>
                        </a:lnTo>
                        <a:lnTo>
                          <a:pt x="104"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a:off x="6145200" y="2901960"/>
                    <a:ext cx="76320" cy="44280"/>
                  </a:xfrm>
                  <a:custGeom>
                    <a:avLst/>
                    <a:gdLst/>
                    <a:ahLst/>
                    <a:rect l="l" t="t" r="r" b="b"/>
                    <a:pathLst>
                      <a:path w="94" h="55">
                        <a:moveTo>
                          <a:pt x="47" y="0"/>
                        </a:moveTo>
                        <a:lnTo>
                          <a:pt x="38" y="1"/>
                        </a:lnTo>
                        <a:lnTo>
                          <a:pt x="29" y="3"/>
                        </a:lnTo>
                        <a:lnTo>
                          <a:pt x="21" y="8"/>
                        </a:lnTo>
                        <a:lnTo>
                          <a:pt x="14" y="14"/>
                        </a:lnTo>
                        <a:lnTo>
                          <a:pt x="8" y="21"/>
                        </a:lnTo>
                        <a:lnTo>
                          <a:pt x="3" y="29"/>
                        </a:lnTo>
                        <a:lnTo>
                          <a:pt x="1" y="38"/>
                        </a:lnTo>
                        <a:lnTo>
                          <a:pt x="0" y="47"/>
                        </a:lnTo>
                        <a:lnTo>
                          <a:pt x="0" y="49"/>
                        </a:lnTo>
                        <a:lnTo>
                          <a:pt x="0" y="51"/>
                        </a:lnTo>
                        <a:lnTo>
                          <a:pt x="0" y="53"/>
                        </a:lnTo>
                        <a:lnTo>
                          <a:pt x="1" y="55"/>
                        </a:lnTo>
                        <a:lnTo>
                          <a:pt x="16" y="51"/>
                        </a:lnTo>
                        <a:lnTo>
                          <a:pt x="16" y="49"/>
                        </a:lnTo>
                        <a:lnTo>
                          <a:pt x="16" y="48"/>
                        </a:lnTo>
                        <a:lnTo>
                          <a:pt x="16" y="48"/>
                        </a:lnTo>
                        <a:lnTo>
                          <a:pt x="16" y="47"/>
                        </a:lnTo>
                        <a:lnTo>
                          <a:pt x="18" y="34"/>
                        </a:lnTo>
                        <a:lnTo>
                          <a:pt x="25" y="25"/>
                        </a:lnTo>
                        <a:lnTo>
                          <a:pt x="34" y="18"/>
                        </a:lnTo>
                        <a:lnTo>
                          <a:pt x="47" y="16"/>
                        </a:lnTo>
                        <a:lnTo>
                          <a:pt x="59" y="18"/>
                        </a:lnTo>
                        <a:lnTo>
                          <a:pt x="68" y="25"/>
                        </a:lnTo>
                        <a:lnTo>
                          <a:pt x="75" y="34"/>
                        </a:lnTo>
                        <a:lnTo>
                          <a:pt x="78" y="46"/>
                        </a:lnTo>
                        <a:lnTo>
                          <a:pt x="93" y="51"/>
                        </a:lnTo>
                        <a:lnTo>
                          <a:pt x="93" y="49"/>
                        </a:lnTo>
                        <a:lnTo>
                          <a:pt x="94" y="48"/>
                        </a:lnTo>
                        <a:lnTo>
                          <a:pt x="94" y="48"/>
                        </a:lnTo>
                        <a:lnTo>
                          <a:pt x="94" y="47"/>
                        </a:lnTo>
                        <a:lnTo>
                          <a:pt x="93" y="38"/>
                        </a:lnTo>
                        <a:lnTo>
                          <a:pt x="91" y="29"/>
                        </a:lnTo>
                        <a:lnTo>
                          <a:pt x="86" y="21"/>
                        </a:lnTo>
                        <a:lnTo>
                          <a:pt x="80" y="14"/>
                        </a:lnTo>
                        <a:lnTo>
                          <a:pt x="74" y="8"/>
                        </a:lnTo>
                        <a:lnTo>
                          <a:pt x="65" y="3"/>
                        </a:lnTo>
                        <a:lnTo>
                          <a:pt x="56" y="1"/>
                        </a:lnTo>
                        <a:lnTo>
                          <a:pt x="47"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 name=""/>
                  <p:cNvSpPr/>
                  <p:nvPr/>
                </p:nvSpPr>
                <p:spPr>
                  <a:xfrm>
                    <a:off x="6146640" y="2938320"/>
                    <a:ext cx="73080" cy="38160"/>
                  </a:xfrm>
                  <a:custGeom>
                    <a:avLst/>
                    <a:gdLst/>
                    <a:ahLst/>
                    <a:rect l="l" t="t" r="r" b="b"/>
                    <a:pathLst>
                      <a:path w="92" h="48">
                        <a:moveTo>
                          <a:pt x="77" y="1"/>
                        </a:moveTo>
                        <a:lnTo>
                          <a:pt x="75" y="14"/>
                        </a:lnTo>
                        <a:lnTo>
                          <a:pt x="68" y="23"/>
                        </a:lnTo>
                        <a:lnTo>
                          <a:pt x="59" y="30"/>
                        </a:lnTo>
                        <a:lnTo>
                          <a:pt x="46" y="32"/>
                        </a:lnTo>
                        <a:lnTo>
                          <a:pt x="35" y="30"/>
                        </a:lnTo>
                        <a:lnTo>
                          <a:pt x="25" y="24"/>
                        </a:lnTo>
                        <a:lnTo>
                          <a:pt x="18" y="16"/>
                        </a:lnTo>
                        <a:lnTo>
                          <a:pt x="15" y="5"/>
                        </a:lnTo>
                        <a:lnTo>
                          <a:pt x="0" y="9"/>
                        </a:lnTo>
                        <a:lnTo>
                          <a:pt x="2" y="17"/>
                        </a:lnTo>
                        <a:lnTo>
                          <a:pt x="6" y="24"/>
                        </a:lnTo>
                        <a:lnTo>
                          <a:pt x="10" y="31"/>
                        </a:lnTo>
                        <a:lnTo>
                          <a:pt x="16" y="37"/>
                        </a:lnTo>
                        <a:lnTo>
                          <a:pt x="22" y="41"/>
                        </a:lnTo>
                        <a:lnTo>
                          <a:pt x="30" y="45"/>
                        </a:lnTo>
                        <a:lnTo>
                          <a:pt x="38" y="47"/>
                        </a:lnTo>
                        <a:lnTo>
                          <a:pt x="46" y="48"/>
                        </a:lnTo>
                        <a:lnTo>
                          <a:pt x="55" y="47"/>
                        </a:lnTo>
                        <a:lnTo>
                          <a:pt x="63" y="45"/>
                        </a:lnTo>
                        <a:lnTo>
                          <a:pt x="71" y="41"/>
                        </a:lnTo>
                        <a:lnTo>
                          <a:pt x="78" y="36"/>
                        </a:lnTo>
                        <a:lnTo>
                          <a:pt x="83" y="29"/>
                        </a:lnTo>
                        <a:lnTo>
                          <a:pt x="88" y="22"/>
                        </a:lnTo>
                        <a:lnTo>
                          <a:pt x="91" y="14"/>
                        </a:lnTo>
                        <a:lnTo>
                          <a:pt x="92" y="5"/>
                        </a:lnTo>
                        <a:lnTo>
                          <a:pt x="77" y="0"/>
                        </a:lnTo>
                        <a:lnTo>
                          <a:pt x="77" y="1"/>
                        </a:lnTo>
                        <a:lnTo>
                          <a:pt x="77" y="1"/>
                        </a:lnTo>
                        <a:lnTo>
                          <a:pt x="77" y="1"/>
                        </a:lnTo>
                        <a:lnTo>
                          <a:pt x="77" y="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4" name=""/>
                  <p:cNvSpPr/>
                  <p:nvPr/>
                </p:nvSpPr>
                <p:spPr>
                  <a:xfrm>
                    <a:off x="6762600" y="2841480"/>
                    <a:ext cx="165240" cy="149400"/>
                  </a:xfrm>
                  <a:custGeom>
                    <a:avLst/>
                    <a:gdLst/>
                    <a:ahLst/>
                    <a:rect l="l" t="t" r="r" b="b"/>
                    <a:pathLst>
                      <a:path w="208" h="188">
                        <a:moveTo>
                          <a:pt x="208" y="104"/>
                        </a:moveTo>
                        <a:lnTo>
                          <a:pt x="205" y="83"/>
                        </a:lnTo>
                        <a:lnTo>
                          <a:pt x="200" y="63"/>
                        </a:lnTo>
                        <a:lnTo>
                          <a:pt x="189" y="46"/>
                        </a:lnTo>
                        <a:lnTo>
                          <a:pt x="177" y="31"/>
                        </a:lnTo>
                        <a:lnTo>
                          <a:pt x="162" y="18"/>
                        </a:lnTo>
                        <a:lnTo>
                          <a:pt x="144" y="8"/>
                        </a:lnTo>
                        <a:lnTo>
                          <a:pt x="125" y="2"/>
                        </a:lnTo>
                        <a:lnTo>
                          <a:pt x="104" y="0"/>
                        </a:lnTo>
                        <a:lnTo>
                          <a:pt x="83" y="2"/>
                        </a:lnTo>
                        <a:lnTo>
                          <a:pt x="64" y="8"/>
                        </a:lnTo>
                        <a:lnTo>
                          <a:pt x="46" y="18"/>
                        </a:lnTo>
                        <a:lnTo>
                          <a:pt x="30" y="31"/>
                        </a:lnTo>
                        <a:lnTo>
                          <a:pt x="18" y="46"/>
                        </a:lnTo>
                        <a:lnTo>
                          <a:pt x="8" y="63"/>
                        </a:lnTo>
                        <a:lnTo>
                          <a:pt x="3" y="83"/>
                        </a:lnTo>
                        <a:lnTo>
                          <a:pt x="0" y="104"/>
                        </a:lnTo>
                        <a:lnTo>
                          <a:pt x="0" y="109"/>
                        </a:lnTo>
                        <a:lnTo>
                          <a:pt x="2" y="114"/>
                        </a:lnTo>
                        <a:lnTo>
                          <a:pt x="2" y="120"/>
                        </a:lnTo>
                        <a:lnTo>
                          <a:pt x="3" y="126"/>
                        </a:lnTo>
                        <a:lnTo>
                          <a:pt x="19" y="122"/>
                        </a:lnTo>
                        <a:lnTo>
                          <a:pt x="18" y="118"/>
                        </a:lnTo>
                        <a:lnTo>
                          <a:pt x="18" y="113"/>
                        </a:lnTo>
                        <a:lnTo>
                          <a:pt x="16" y="108"/>
                        </a:lnTo>
                        <a:lnTo>
                          <a:pt x="16" y="104"/>
                        </a:lnTo>
                        <a:lnTo>
                          <a:pt x="19" y="86"/>
                        </a:lnTo>
                        <a:lnTo>
                          <a:pt x="23" y="69"/>
                        </a:lnTo>
                        <a:lnTo>
                          <a:pt x="31" y="54"/>
                        </a:lnTo>
                        <a:lnTo>
                          <a:pt x="42" y="41"/>
                        </a:lnTo>
                        <a:lnTo>
                          <a:pt x="54" y="31"/>
                        </a:lnTo>
                        <a:lnTo>
                          <a:pt x="69" y="23"/>
                        </a:lnTo>
                        <a:lnTo>
                          <a:pt x="87" y="18"/>
                        </a:lnTo>
                        <a:lnTo>
                          <a:pt x="104" y="16"/>
                        </a:lnTo>
                        <a:lnTo>
                          <a:pt x="121" y="18"/>
                        </a:lnTo>
                        <a:lnTo>
                          <a:pt x="139" y="23"/>
                        </a:lnTo>
                        <a:lnTo>
                          <a:pt x="154" y="31"/>
                        </a:lnTo>
                        <a:lnTo>
                          <a:pt x="166" y="41"/>
                        </a:lnTo>
                        <a:lnTo>
                          <a:pt x="177" y="54"/>
                        </a:lnTo>
                        <a:lnTo>
                          <a:pt x="185" y="69"/>
                        </a:lnTo>
                        <a:lnTo>
                          <a:pt x="189" y="86"/>
                        </a:lnTo>
                        <a:lnTo>
                          <a:pt x="192" y="104"/>
                        </a:lnTo>
                        <a:lnTo>
                          <a:pt x="190" y="115"/>
                        </a:lnTo>
                        <a:lnTo>
                          <a:pt x="189" y="126"/>
                        </a:lnTo>
                        <a:lnTo>
                          <a:pt x="186" y="135"/>
                        </a:lnTo>
                        <a:lnTo>
                          <a:pt x="181" y="144"/>
                        </a:lnTo>
                        <a:lnTo>
                          <a:pt x="175" y="153"/>
                        </a:lnTo>
                        <a:lnTo>
                          <a:pt x="170" y="161"/>
                        </a:lnTo>
                        <a:lnTo>
                          <a:pt x="162" y="168"/>
                        </a:lnTo>
                        <a:lnTo>
                          <a:pt x="154" y="175"/>
                        </a:lnTo>
                        <a:lnTo>
                          <a:pt x="164" y="188"/>
                        </a:lnTo>
                        <a:lnTo>
                          <a:pt x="173" y="180"/>
                        </a:lnTo>
                        <a:lnTo>
                          <a:pt x="182" y="172"/>
                        </a:lnTo>
                        <a:lnTo>
                          <a:pt x="189" y="162"/>
                        </a:lnTo>
                        <a:lnTo>
                          <a:pt x="196" y="152"/>
                        </a:lnTo>
                        <a:lnTo>
                          <a:pt x="201" y="141"/>
                        </a:lnTo>
                        <a:lnTo>
                          <a:pt x="204" y="129"/>
                        </a:lnTo>
                        <a:lnTo>
                          <a:pt x="207" y="116"/>
                        </a:lnTo>
                        <a:lnTo>
                          <a:pt x="208" y="10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764400" y="2940120"/>
                    <a:ext cx="128520" cy="66600"/>
                  </a:xfrm>
                  <a:custGeom>
                    <a:avLst/>
                    <a:gdLst/>
                    <a:ahLst/>
                    <a:rect l="l" t="t" r="r" b="b"/>
                    <a:pathLst>
                      <a:path w="161" h="85">
                        <a:moveTo>
                          <a:pt x="101" y="69"/>
                        </a:moveTo>
                        <a:lnTo>
                          <a:pt x="86" y="68"/>
                        </a:lnTo>
                        <a:lnTo>
                          <a:pt x="71" y="64"/>
                        </a:lnTo>
                        <a:lnTo>
                          <a:pt x="58" y="58"/>
                        </a:lnTo>
                        <a:lnTo>
                          <a:pt x="46" y="50"/>
                        </a:lnTo>
                        <a:lnTo>
                          <a:pt x="35" y="39"/>
                        </a:lnTo>
                        <a:lnTo>
                          <a:pt x="26" y="28"/>
                        </a:lnTo>
                        <a:lnTo>
                          <a:pt x="20" y="14"/>
                        </a:lnTo>
                        <a:lnTo>
                          <a:pt x="16" y="0"/>
                        </a:lnTo>
                        <a:lnTo>
                          <a:pt x="0" y="4"/>
                        </a:lnTo>
                        <a:lnTo>
                          <a:pt x="5" y="21"/>
                        </a:lnTo>
                        <a:lnTo>
                          <a:pt x="13" y="36"/>
                        </a:lnTo>
                        <a:lnTo>
                          <a:pt x="23" y="50"/>
                        </a:lnTo>
                        <a:lnTo>
                          <a:pt x="35" y="61"/>
                        </a:lnTo>
                        <a:lnTo>
                          <a:pt x="50" y="72"/>
                        </a:lnTo>
                        <a:lnTo>
                          <a:pt x="65" y="80"/>
                        </a:lnTo>
                        <a:lnTo>
                          <a:pt x="83" y="84"/>
                        </a:lnTo>
                        <a:lnTo>
                          <a:pt x="101" y="85"/>
                        </a:lnTo>
                        <a:lnTo>
                          <a:pt x="109" y="85"/>
                        </a:lnTo>
                        <a:lnTo>
                          <a:pt x="117" y="84"/>
                        </a:lnTo>
                        <a:lnTo>
                          <a:pt x="125" y="83"/>
                        </a:lnTo>
                        <a:lnTo>
                          <a:pt x="133" y="81"/>
                        </a:lnTo>
                        <a:lnTo>
                          <a:pt x="140" y="77"/>
                        </a:lnTo>
                        <a:lnTo>
                          <a:pt x="147" y="74"/>
                        </a:lnTo>
                        <a:lnTo>
                          <a:pt x="154" y="70"/>
                        </a:lnTo>
                        <a:lnTo>
                          <a:pt x="161" y="66"/>
                        </a:lnTo>
                        <a:lnTo>
                          <a:pt x="151" y="53"/>
                        </a:lnTo>
                        <a:lnTo>
                          <a:pt x="145" y="57"/>
                        </a:lnTo>
                        <a:lnTo>
                          <a:pt x="139" y="60"/>
                        </a:lnTo>
                        <a:lnTo>
                          <a:pt x="133" y="62"/>
                        </a:lnTo>
                        <a:lnTo>
                          <a:pt x="128" y="65"/>
                        </a:lnTo>
                        <a:lnTo>
                          <a:pt x="121" y="67"/>
                        </a:lnTo>
                        <a:lnTo>
                          <a:pt x="115" y="68"/>
                        </a:lnTo>
                        <a:lnTo>
                          <a:pt x="108" y="69"/>
                        </a:lnTo>
                        <a:lnTo>
                          <a:pt x="101" y="6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6" name=""/>
                  <p:cNvSpPr/>
                  <p:nvPr/>
                </p:nvSpPr>
                <p:spPr>
                  <a:xfrm>
                    <a:off x="6808680" y="2932200"/>
                    <a:ext cx="57240" cy="30240"/>
                  </a:xfrm>
                  <a:custGeom>
                    <a:avLst/>
                    <a:gdLst/>
                    <a:ahLst/>
                    <a:rect l="l" t="t" r="r" b="b"/>
                    <a:pathLst>
                      <a:path w="71" h="38">
                        <a:moveTo>
                          <a:pt x="46" y="22"/>
                        </a:moveTo>
                        <a:lnTo>
                          <a:pt x="36" y="21"/>
                        </a:lnTo>
                        <a:lnTo>
                          <a:pt x="28" y="16"/>
                        </a:lnTo>
                        <a:lnTo>
                          <a:pt x="21" y="9"/>
                        </a:lnTo>
                        <a:lnTo>
                          <a:pt x="16" y="0"/>
                        </a:lnTo>
                        <a:lnTo>
                          <a:pt x="0" y="2"/>
                        </a:lnTo>
                        <a:lnTo>
                          <a:pt x="2" y="9"/>
                        </a:lnTo>
                        <a:lnTo>
                          <a:pt x="7" y="16"/>
                        </a:lnTo>
                        <a:lnTo>
                          <a:pt x="11" y="23"/>
                        </a:lnTo>
                        <a:lnTo>
                          <a:pt x="17" y="28"/>
                        </a:lnTo>
                        <a:lnTo>
                          <a:pt x="23" y="32"/>
                        </a:lnTo>
                        <a:lnTo>
                          <a:pt x="30" y="36"/>
                        </a:lnTo>
                        <a:lnTo>
                          <a:pt x="38" y="37"/>
                        </a:lnTo>
                        <a:lnTo>
                          <a:pt x="46" y="38"/>
                        </a:lnTo>
                        <a:lnTo>
                          <a:pt x="53" y="37"/>
                        </a:lnTo>
                        <a:lnTo>
                          <a:pt x="60" y="36"/>
                        </a:lnTo>
                        <a:lnTo>
                          <a:pt x="66" y="33"/>
                        </a:lnTo>
                        <a:lnTo>
                          <a:pt x="71" y="30"/>
                        </a:lnTo>
                        <a:lnTo>
                          <a:pt x="62" y="17"/>
                        </a:lnTo>
                        <a:lnTo>
                          <a:pt x="59" y="18"/>
                        </a:lnTo>
                        <a:lnTo>
                          <a:pt x="54" y="21"/>
                        </a:lnTo>
                        <a:lnTo>
                          <a:pt x="51" y="22"/>
                        </a:lnTo>
                        <a:lnTo>
                          <a:pt x="46"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87" name=""/>
                  <p:cNvSpPr/>
                  <p:nvPr/>
                </p:nvSpPr>
                <p:spPr>
                  <a:xfrm>
                    <a:off x="6807240" y="2887560"/>
                    <a:ext cx="76320" cy="68400"/>
                  </a:xfrm>
                  <a:custGeom>
                    <a:avLst/>
                    <a:gdLst/>
                    <a:ahLst/>
                    <a:rect l="l" t="t" r="r" b="b"/>
                    <a:pathLst>
                      <a:path w="94" h="87">
                        <a:moveTo>
                          <a:pt x="94" y="48"/>
                        </a:moveTo>
                        <a:lnTo>
                          <a:pt x="93" y="38"/>
                        </a:lnTo>
                        <a:lnTo>
                          <a:pt x="91" y="29"/>
                        </a:lnTo>
                        <a:lnTo>
                          <a:pt x="86" y="21"/>
                        </a:lnTo>
                        <a:lnTo>
                          <a:pt x="80" y="14"/>
                        </a:lnTo>
                        <a:lnTo>
                          <a:pt x="74" y="9"/>
                        </a:lnTo>
                        <a:lnTo>
                          <a:pt x="65" y="4"/>
                        </a:lnTo>
                        <a:lnTo>
                          <a:pt x="56" y="2"/>
                        </a:lnTo>
                        <a:lnTo>
                          <a:pt x="47" y="0"/>
                        </a:lnTo>
                        <a:lnTo>
                          <a:pt x="38" y="2"/>
                        </a:lnTo>
                        <a:lnTo>
                          <a:pt x="29" y="4"/>
                        </a:lnTo>
                        <a:lnTo>
                          <a:pt x="21" y="9"/>
                        </a:lnTo>
                        <a:lnTo>
                          <a:pt x="14" y="14"/>
                        </a:lnTo>
                        <a:lnTo>
                          <a:pt x="8" y="21"/>
                        </a:lnTo>
                        <a:lnTo>
                          <a:pt x="3" y="29"/>
                        </a:lnTo>
                        <a:lnTo>
                          <a:pt x="1" y="38"/>
                        </a:lnTo>
                        <a:lnTo>
                          <a:pt x="0" y="48"/>
                        </a:lnTo>
                        <a:lnTo>
                          <a:pt x="0" y="51"/>
                        </a:lnTo>
                        <a:lnTo>
                          <a:pt x="1" y="53"/>
                        </a:lnTo>
                        <a:lnTo>
                          <a:pt x="1" y="57"/>
                        </a:lnTo>
                        <a:lnTo>
                          <a:pt x="1" y="59"/>
                        </a:lnTo>
                        <a:lnTo>
                          <a:pt x="17" y="57"/>
                        </a:lnTo>
                        <a:lnTo>
                          <a:pt x="16" y="55"/>
                        </a:lnTo>
                        <a:lnTo>
                          <a:pt x="16" y="52"/>
                        </a:lnTo>
                        <a:lnTo>
                          <a:pt x="16" y="50"/>
                        </a:lnTo>
                        <a:lnTo>
                          <a:pt x="16" y="48"/>
                        </a:lnTo>
                        <a:lnTo>
                          <a:pt x="18" y="35"/>
                        </a:lnTo>
                        <a:lnTo>
                          <a:pt x="25" y="26"/>
                        </a:lnTo>
                        <a:lnTo>
                          <a:pt x="34" y="19"/>
                        </a:lnTo>
                        <a:lnTo>
                          <a:pt x="47" y="17"/>
                        </a:lnTo>
                        <a:lnTo>
                          <a:pt x="60" y="19"/>
                        </a:lnTo>
                        <a:lnTo>
                          <a:pt x="69" y="26"/>
                        </a:lnTo>
                        <a:lnTo>
                          <a:pt x="76" y="35"/>
                        </a:lnTo>
                        <a:lnTo>
                          <a:pt x="78" y="48"/>
                        </a:lnTo>
                        <a:lnTo>
                          <a:pt x="77" y="56"/>
                        </a:lnTo>
                        <a:lnTo>
                          <a:pt x="75" y="63"/>
                        </a:lnTo>
                        <a:lnTo>
                          <a:pt x="69" y="70"/>
                        </a:lnTo>
                        <a:lnTo>
                          <a:pt x="63" y="74"/>
                        </a:lnTo>
                        <a:lnTo>
                          <a:pt x="72" y="87"/>
                        </a:lnTo>
                        <a:lnTo>
                          <a:pt x="82" y="80"/>
                        </a:lnTo>
                        <a:lnTo>
                          <a:pt x="88" y="71"/>
                        </a:lnTo>
                        <a:lnTo>
                          <a:pt x="93" y="59"/>
                        </a:lnTo>
                        <a:lnTo>
                          <a:pt x="94" y="4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88" name=""/>
                  <p:cNvSpPr/>
                  <p:nvPr/>
                </p:nvSpPr>
                <p:spPr>
                  <a:xfrm>
                    <a:off x="6346800" y="2658960"/>
                    <a:ext cx="177840" cy="90720"/>
                  </a:xfrm>
                  <a:custGeom>
                    <a:avLst/>
                    <a:gdLst/>
                    <a:ahLst/>
                    <a:rect l="l" t="t" r="r" b="b"/>
                    <a:pathLst>
                      <a:path w="226" h="115">
                        <a:moveTo>
                          <a:pt x="4" y="103"/>
                        </a:moveTo>
                        <a:lnTo>
                          <a:pt x="9" y="106"/>
                        </a:lnTo>
                        <a:lnTo>
                          <a:pt x="17" y="109"/>
                        </a:lnTo>
                        <a:lnTo>
                          <a:pt x="28" y="111"/>
                        </a:lnTo>
                        <a:lnTo>
                          <a:pt x="42" y="112"/>
                        </a:lnTo>
                        <a:lnTo>
                          <a:pt x="57" y="113"/>
                        </a:lnTo>
                        <a:lnTo>
                          <a:pt x="73" y="115"/>
                        </a:lnTo>
                        <a:lnTo>
                          <a:pt x="90" y="115"/>
                        </a:lnTo>
                        <a:lnTo>
                          <a:pt x="108" y="115"/>
                        </a:lnTo>
                        <a:lnTo>
                          <a:pt x="126" y="113"/>
                        </a:lnTo>
                        <a:lnTo>
                          <a:pt x="143" y="112"/>
                        </a:lnTo>
                        <a:lnTo>
                          <a:pt x="160" y="112"/>
                        </a:lnTo>
                        <a:lnTo>
                          <a:pt x="176" y="111"/>
                        </a:lnTo>
                        <a:lnTo>
                          <a:pt x="190" y="110"/>
                        </a:lnTo>
                        <a:lnTo>
                          <a:pt x="202" y="108"/>
                        </a:lnTo>
                        <a:lnTo>
                          <a:pt x="212" y="106"/>
                        </a:lnTo>
                        <a:lnTo>
                          <a:pt x="219" y="105"/>
                        </a:lnTo>
                        <a:lnTo>
                          <a:pt x="226" y="104"/>
                        </a:lnTo>
                        <a:lnTo>
                          <a:pt x="226" y="0"/>
                        </a:lnTo>
                        <a:lnTo>
                          <a:pt x="210" y="2"/>
                        </a:lnTo>
                        <a:lnTo>
                          <a:pt x="210" y="27"/>
                        </a:lnTo>
                        <a:lnTo>
                          <a:pt x="210" y="55"/>
                        </a:lnTo>
                        <a:lnTo>
                          <a:pt x="210" y="78"/>
                        </a:lnTo>
                        <a:lnTo>
                          <a:pt x="210" y="92"/>
                        </a:lnTo>
                        <a:lnTo>
                          <a:pt x="201" y="93"/>
                        </a:lnTo>
                        <a:lnTo>
                          <a:pt x="190" y="94"/>
                        </a:lnTo>
                        <a:lnTo>
                          <a:pt x="177" y="95"/>
                        </a:lnTo>
                        <a:lnTo>
                          <a:pt x="165" y="96"/>
                        </a:lnTo>
                        <a:lnTo>
                          <a:pt x="150" y="97"/>
                        </a:lnTo>
                        <a:lnTo>
                          <a:pt x="136" y="97"/>
                        </a:lnTo>
                        <a:lnTo>
                          <a:pt x="121" y="97"/>
                        </a:lnTo>
                        <a:lnTo>
                          <a:pt x="105" y="98"/>
                        </a:lnTo>
                        <a:lnTo>
                          <a:pt x="90" y="98"/>
                        </a:lnTo>
                        <a:lnTo>
                          <a:pt x="76" y="98"/>
                        </a:lnTo>
                        <a:lnTo>
                          <a:pt x="62" y="98"/>
                        </a:lnTo>
                        <a:lnTo>
                          <a:pt x="50" y="97"/>
                        </a:lnTo>
                        <a:lnTo>
                          <a:pt x="39" y="96"/>
                        </a:lnTo>
                        <a:lnTo>
                          <a:pt x="30" y="95"/>
                        </a:lnTo>
                        <a:lnTo>
                          <a:pt x="22" y="94"/>
                        </a:lnTo>
                        <a:lnTo>
                          <a:pt x="17" y="93"/>
                        </a:lnTo>
                        <a:lnTo>
                          <a:pt x="21" y="86"/>
                        </a:lnTo>
                        <a:lnTo>
                          <a:pt x="25" y="78"/>
                        </a:lnTo>
                        <a:lnTo>
                          <a:pt x="32" y="67"/>
                        </a:lnTo>
                        <a:lnTo>
                          <a:pt x="40" y="55"/>
                        </a:lnTo>
                        <a:lnTo>
                          <a:pt x="50" y="42"/>
                        </a:lnTo>
                        <a:lnTo>
                          <a:pt x="59" y="29"/>
                        </a:lnTo>
                        <a:lnTo>
                          <a:pt x="69" y="15"/>
                        </a:lnTo>
                        <a:lnTo>
                          <a:pt x="78" y="3"/>
                        </a:lnTo>
                        <a:lnTo>
                          <a:pt x="59" y="4"/>
                        </a:lnTo>
                        <a:lnTo>
                          <a:pt x="50" y="15"/>
                        </a:lnTo>
                        <a:lnTo>
                          <a:pt x="40" y="28"/>
                        </a:lnTo>
                        <a:lnTo>
                          <a:pt x="31" y="41"/>
                        </a:lnTo>
                        <a:lnTo>
                          <a:pt x="22" y="53"/>
                        </a:lnTo>
                        <a:lnTo>
                          <a:pt x="14" y="66"/>
                        </a:lnTo>
                        <a:lnTo>
                          <a:pt x="7" y="77"/>
                        </a:lnTo>
                        <a:lnTo>
                          <a:pt x="2" y="86"/>
                        </a:lnTo>
                        <a:lnTo>
                          <a:pt x="0" y="93"/>
                        </a:lnTo>
                        <a:lnTo>
                          <a:pt x="0" y="95"/>
                        </a:lnTo>
                        <a:lnTo>
                          <a:pt x="0" y="97"/>
                        </a:lnTo>
                        <a:lnTo>
                          <a:pt x="2" y="101"/>
                        </a:lnTo>
                        <a:lnTo>
                          <a:pt x="4" y="10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9" name=""/>
                  <p:cNvSpPr/>
                  <p:nvPr/>
                </p:nvSpPr>
                <p:spPr>
                  <a:xfrm>
                    <a:off x="6392880" y="2629080"/>
                    <a:ext cx="131760" cy="33120"/>
                  </a:xfrm>
                  <a:custGeom>
                    <a:avLst/>
                    <a:gdLst/>
                    <a:ahLst/>
                    <a:rect l="l" t="t" r="r" b="b"/>
                    <a:pathLst>
                      <a:path w="167" h="43">
                        <a:moveTo>
                          <a:pt x="32" y="27"/>
                        </a:moveTo>
                        <a:lnTo>
                          <a:pt x="41" y="23"/>
                        </a:lnTo>
                        <a:lnTo>
                          <a:pt x="54" y="21"/>
                        </a:lnTo>
                        <a:lnTo>
                          <a:pt x="70" y="19"/>
                        </a:lnTo>
                        <a:lnTo>
                          <a:pt x="86" y="18"/>
                        </a:lnTo>
                        <a:lnTo>
                          <a:pt x="105" y="16"/>
                        </a:lnTo>
                        <a:lnTo>
                          <a:pt x="121" y="16"/>
                        </a:lnTo>
                        <a:lnTo>
                          <a:pt x="137" y="16"/>
                        </a:lnTo>
                        <a:lnTo>
                          <a:pt x="151" y="16"/>
                        </a:lnTo>
                        <a:lnTo>
                          <a:pt x="151" y="20"/>
                        </a:lnTo>
                        <a:lnTo>
                          <a:pt x="151" y="26"/>
                        </a:lnTo>
                        <a:lnTo>
                          <a:pt x="151" y="33"/>
                        </a:lnTo>
                        <a:lnTo>
                          <a:pt x="151" y="41"/>
                        </a:lnTo>
                        <a:lnTo>
                          <a:pt x="167" y="39"/>
                        </a:lnTo>
                        <a:lnTo>
                          <a:pt x="167" y="1"/>
                        </a:lnTo>
                        <a:lnTo>
                          <a:pt x="159" y="1"/>
                        </a:lnTo>
                        <a:lnTo>
                          <a:pt x="151" y="1"/>
                        </a:lnTo>
                        <a:lnTo>
                          <a:pt x="137" y="0"/>
                        </a:lnTo>
                        <a:lnTo>
                          <a:pt x="118" y="0"/>
                        </a:lnTo>
                        <a:lnTo>
                          <a:pt x="98" y="0"/>
                        </a:lnTo>
                        <a:lnTo>
                          <a:pt x="76" y="3"/>
                        </a:lnTo>
                        <a:lnTo>
                          <a:pt x="54" y="5"/>
                        </a:lnTo>
                        <a:lnTo>
                          <a:pt x="37" y="8"/>
                        </a:lnTo>
                        <a:lnTo>
                          <a:pt x="23" y="14"/>
                        </a:lnTo>
                        <a:lnTo>
                          <a:pt x="22" y="14"/>
                        </a:lnTo>
                        <a:lnTo>
                          <a:pt x="21" y="15"/>
                        </a:lnTo>
                        <a:lnTo>
                          <a:pt x="17" y="20"/>
                        </a:lnTo>
                        <a:lnTo>
                          <a:pt x="13" y="26"/>
                        </a:lnTo>
                        <a:lnTo>
                          <a:pt x="7" y="34"/>
                        </a:lnTo>
                        <a:lnTo>
                          <a:pt x="0" y="43"/>
                        </a:lnTo>
                        <a:lnTo>
                          <a:pt x="19" y="42"/>
                        </a:lnTo>
                        <a:lnTo>
                          <a:pt x="23" y="38"/>
                        </a:lnTo>
                        <a:lnTo>
                          <a:pt x="26" y="34"/>
                        </a:lnTo>
                        <a:lnTo>
                          <a:pt x="29" y="30"/>
                        </a:lnTo>
                        <a:lnTo>
                          <a:pt x="32" y="2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90" name=""/>
                  <p:cNvSpPr/>
                  <p:nvPr/>
                </p:nvSpPr>
                <p:spPr>
                  <a:xfrm>
                    <a:off x="6575400" y="2655720"/>
                    <a:ext cx="166680" cy="87480"/>
                  </a:xfrm>
                  <a:custGeom>
                    <a:avLst/>
                    <a:gdLst/>
                    <a:ahLst/>
                    <a:rect l="l" t="t" r="r" b="b"/>
                    <a:pathLst>
                      <a:path w="210" h="109">
                        <a:moveTo>
                          <a:pt x="210" y="105"/>
                        </a:moveTo>
                        <a:lnTo>
                          <a:pt x="193" y="0"/>
                        </a:lnTo>
                        <a:lnTo>
                          <a:pt x="176" y="0"/>
                        </a:lnTo>
                        <a:lnTo>
                          <a:pt x="180" y="24"/>
                        </a:lnTo>
                        <a:lnTo>
                          <a:pt x="185" y="51"/>
                        </a:lnTo>
                        <a:lnTo>
                          <a:pt x="188" y="75"/>
                        </a:lnTo>
                        <a:lnTo>
                          <a:pt x="190" y="89"/>
                        </a:lnTo>
                        <a:lnTo>
                          <a:pt x="179" y="89"/>
                        </a:lnTo>
                        <a:lnTo>
                          <a:pt x="159" y="90"/>
                        </a:lnTo>
                        <a:lnTo>
                          <a:pt x="134" y="90"/>
                        </a:lnTo>
                        <a:lnTo>
                          <a:pt x="105" y="91"/>
                        </a:lnTo>
                        <a:lnTo>
                          <a:pt x="76" y="92"/>
                        </a:lnTo>
                        <a:lnTo>
                          <a:pt x="51" y="92"/>
                        </a:lnTo>
                        <a:lnTo>
                          <a:pt x="31" y="93"/>
                        </a:lnTo>
                        <a:lnTo>
                          <a:pt x="21" y="93"/>
                        </a:lnTo>
                        <a:lnTo>
                          <a:pt x="21" y="80"/>
                        </a:lnTo>
                        <a:lnTo>
                          <a:pt x="19" y="55"/>
                        </a:lnTo>
                        <a:lnTo>
                          <a:pt x="18" y="28"/>
                        </a:lnTo>
                        <a:lnTo>
                          <a:pt x="16" y="2"/>
                        </a:lnTo>
                        <a:lnTo>
                          <a:pt x="0" y="3"/>
                        </a:lnTo>
                        <a:lnTo>
                          <a:pt x="6" y="109"/>
                        </a:lnTo>
                        <a:lnTo>
                          <a:pt x="210" y="10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91" name=""/>
                  <p:cNvSpPr/>
                  <p:nvPr/>
                </p:nvSpPr>
                <p:spPr>
                  <a:xfrm>
                    <a:off x="6573960" y="2631960"/>
                    <a:ext cx="153720" cy="27000"/>
                  </a:xfrm>
                  <a:custGeom>
                    <a:avLst/>
                    <a:gdLst/>
                    <a:ahLst/>
                    <a:rect l="l" t="t" r="r" b="b"/>
                    <a:pathLst>
                      <a:path w="195" h="34">
                        <a:moveTo>
                          <a:pt x="17" y="16"/>
                        </a:moveTo>
                        <a:lnTo>
                          <a:pt x="28" y="16"/>
                        </a:lnTo>
                        <a:lnTo>
                          <a:pt x="46" y="16"/>
                        </a:lnTo>
                        <a:lnTo>
                          <a:pt x="70" y="16"/>
                        </a:lnTo>
                        <a:lnTo>
                          <a:pt x="97" y="16"/>
                        </a:lnTo>
                        <a:lnTo>
                          <a:pt x="124" y="16"/>
                        </a:lnTo>
                        <a:lnTo>
                          <a:pt x="147" y="16"/>
                        </a:lnTo>
                        <a:lnTo>
                          <a:pt x="166" y="16"/>
                        </a:lnTo>
                        <a:lnTo>
                          <a:pt x="176" y="16"/>
                        </a:lnTo>
                        <a:lnTo>
                          <a:pt x="176" y="18"/>
                        </a:lnTo>
                        <a:lnTo>
                          <a:pt x="177" y="22"/>
                        </a:lnTo>
                        <a:lnTo>
                          <a:pt x="177" y="26"/>
                        </a:lnTo>
                        <a:lnTo>
                          <a:pt x="178" y="31"/>
                        </a:lnTo>
                        <a:lnTo>
                          <a:pt x="195" y="31"/>
                        </a:lnTo>
                        <a:lnTo>
                          <a:pt x="190" y="0"/>
                        </a:lnTo>
                        <a:lnTo>
                          <a:pt x="183" y="0"/>
                        </a:lnTo>
                        <a:lnTo>
                          <a:pt x="0" y="0"/>
                        </a:lnTo>
                        <a:lnTo>
                          <a:pt x="2" y="34"/>
                        </a:lnTo>
                        <a:lnTo>
                          <a:pt x="18" y="33"/>
                        </a:lnTo>
                        <a:lnTo>
                          <a:pt x="17" y="28"/>
                        </a:lnTo>
                        <a:lnTo>
                          <a:pt x="17" y="23"/>
                        </a:lnTo>
                        <a:lnTo>
                          <a:pt x="17" y="18"/>
                        </a:lnTo>
                        <a:lnTo>
                          <a:pt x="17" y="1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92" name=""/>
                  <p:cNvSpPr/>
                  <p:nvPr/>
                </p:nvSpPr>
                <p:spPr>
                  <a:xfrm>
                    <a:off x="5964120" y="2637000"/>
                    <a:ext cx="1104840" cy="290520"/>
                  </a:xfrm>
                  <a:custGeom>
                    <a:avLst/>
                    <a:gdLst/>
                    <a:ahLst/>
                    <a:rect l="l" t="t" r="r" b="b"/>
                    <a:pathLst>
                      <a:path w="1391" h="365">
                        <a:moveTo>
                          <a:pt x="1383" y="269"/>
                        </a:moveTo>
                        <a:lnTo>
                          <a:pt x="1381" y="260"/>
                        </a:lnTo>
                        <a:lnTo>
                          <a:pt x="1379" y="245"/>
                        </a:lnTo>
                        <a:lnTo>
                          <a:pt x="1379" y="226"/>
                        </a:lnTo>
                        <a:lnTo>
                          <a:pt x="1377" y="207"/>
                        </a:lnTo>
                        <a:lnTo>
                          <a:pt x="1376" y="177"/>
                        </a:lnTo>
                        <a:lnTo>
                          <a:pt x="1375" y="149"/>
                        </a:lnTo>
                        <a:lnTo>
                          <a:pt x="1371" y="126"/>
                        </a:lnTo>
                        <a:lnTo>
                          <a:pt x="1364" y="109"/>
                        </a:lnTo>
                        <a:lnTo>
                          <a:pt x="1360" y="106"/>
                        </a:lnTo>
                        <a:lnTo>
                          <a:pt x="1357" y="102"/>
                        </a:lnTo>
                        <a:lnTo>
                          <a:pt x="1353" y="100"/>
                        </a:lnTo>
                        <a:lnTo>
                          <a:pt x="1349" y="99"/>
                        </a:lnTo>
                        <a:lnTo>
                          <a:pt x="1341" y="99"/>
                        </a:lnTo>
                        <a:lnTo>
                          <a:pt x="1334" y="102"/>
                        </a:lnTo>
                        <a:lnTo>
                          <a:pt x="1327" y="106"/>
                        </a:lnTo>
                        <a:lnTo>
                          <a:pt x="1321" y="110"/>
                        </a:lnTo>
                        <a:lnTo>
                          <a:pt x="1318" y="113"/>
                        </a:lnTo>
                        <a:lnTo>
                          <a:pt x="1313" y="115"/>
                        </a:lnTo>
                        <a:lnTo>
                          <a:pt x="1309" y="117"/>
                        </a:lnTo>
                        <a:lnTo>
                          <a:pt x="1306" y="117"/>
                        </a:lnTo>
                        <a:lnTo>
                          <a:pt x="1305" y="117"/>
                        </a:lnTo>
                        <a:lnTo>
                          <a:pt x="1304" y="116"/>
                        </a:lnTo>
                        <a:lnTo>
                          <a:pt x="1303" y="115"/>
                        </a:lnTo>
                        <a:lnTo>
                          <a:pt x="1301" y="114"/>
                        </a:lnTo>
                        <a:lnTo>
                          <a:pt x="1296" y="108"/>
                        </a:lnTo>
                        <a:lnTo>
                          <a:pt x="1290" y="103"/>
                        </a:lnTo>
                        <a:lnTo>
                          <a:pt x="1284" y="102"/>
                        </a:lnTo>
                        <a:lnTo>
                          <a:pt x="1278" y="102"/>
                        </a:lnTo>
                        <a:lnTo>
                          <a:pt x="1273" y="103"/>
                        </a:lnTo>
                        <a:lnTo>
                          <a:pt x="1267" y="105"/>
                        </a:lnTo>
                        <a:lnTo>
                          <a:pt x="1261" y="107"/>
                        </a:lnTo>
                        <a:lnTo>
                          <a:pt x="1256" y="109"/>
                        </a:lnTo>
                        <a:lnTo>
                          <a:pt x="1247" y="114"/>
                        </a:lnTo>
                        <a:lnTo>
                          <a:pt x="1240" y="116"/>
                        </a:lnTo>
                        <a:lnTo>
                          <a:pt x="1236" y="115"/>
                        </a:lnTo>
                        <a:lnTo>
                          <a:pt x="1231" y="113"/>
                        </a:lnTo>
                        <a:lnTo>
                          <a:pt x="1221" y="105"/>
                        </a:lnTo>
                        <a:lnTo>
                          <a:pt x="1210" y="99"/>
                        </a:lnTo>
                        <a:lnTo>
                          <a:pt x="1200" y="96"/>
                        </a:lnTo>
                        <a:lnTo>
                          <a:pt x="1191" y="95"/>
                        </a:lnTo>
                        <a:lnTo>
                          <a:pt x="1180" y="95"/>
                        </a:lnTo>
                        <a:lnTo>
                          <a:pt x="1172" y="96"/>
                        </a:lnTo>
                        <a:lnTo>
                          <a:pt x="1163" y="99"/>
                        </a:lnTo>
                        <a:lnTo>
                          <a:pt x="1155" y="101"/>
                        </a:lnTo>
                        <a:lnTo>
                          <a:pt x="1148" y="102"/>
                        </a:lnTo>
                        <a:lnTo>
                          <a:pt x="1142" y="103"/>
                        </a:lnTo>
                        <a:lnTo>
                          <a:pt x="1137" y="105"/>
                        </a:lnTo>
                        <a:lnTo>
                          <a:pt x="1132" y="103"/>
                        </a:lnTo>
                        <a:lnTo>
                          <a:pt x="1130" y="101"/>
                        </a:lnTo>
                        <a:lnTo>
                          <a:pt x="1125" y="96"/>
                        </a:lnTo>
                        <a:lnTo>
                          <a:pt x="1121" y="90"/>
                        </a:lnTo>
                        <a:lnTo>
                          <a:pt x="1115" y="80"/>
                        </a:lnTo>
                        <a:lnTo>
                          <a:pt x="1108" y="71"/>
                        </a:lnTo>
                        <a:lnTo>
                          <a:pt x="1102" y="62"/>
                        </a:lnTo>
                        <a:lnTo>
                          <a:pt x="1095" y="52"/>
                        </a:lnTo>
                        <a:lnTo>
                          <a:pt x="1088" y="41"/>
                        </a:lnTo>
                        <a:lnTo>
                          <a:pt x="1081" y="30"/>
                        </a:lnTo>
                        <a:lnTo>
                          <a:pt x="1074" y="18"/>
                        </a:lnTo>
                        <a:lnTo>
                          <a:pt x="1068" y="9"/>
                        </a:lnTo>
                        <a:lnTo>
                          <a:pt x="1062" y="0"/>
                        </a:lnTo>
                        <a:lnTo>
                          <a:pt x="1043" y="1"/>
                        </a:lnTo>
                        <a:lnTo>
                          <a:pt x="1051" y="13"/>
                        </a:lnTo>
                        <a:lnTo>
                          <a:pt x="1059" y="26"/>
                        </a:lnTo>
                        <a:lnTo>
                          <a:pt x="1068" y="38"/>
                        </a:lnTo>
                        <a:lnTo>
                          <a:pt x="1074" y="49"/>
                        </a:lnTo>
                        <a:lnTo>
                          <a:pt x="1084" y="63"/>
                        </a:lnTo>
                        <a:lnTo>
                          <a:pt x="1092" y="76"/>
                        </a:lnTo>
                        <a:lnTo>
                          <a:pt x="1099" y="87"/>
                        </a:lnTo>
                        <a:lnTo>
                          <a:pt x="1106" y="96"/>
                        </a:lnTo>
                        <a:lnTo>
                          <a:pt x="1111" y="103"/>
                        </a:lnTo>
                        <a:lnTo>
                          <a:pt x="1116" y="110"/>
                        </a:lnTo>
                        <a:lnTo>
                          <a:pt x="1121" y="114"/>
                        </a:lnTo>
                        <a:lnTo>
                          <a:pt x="1124" y="117"/>
                        </a:lnTo>
                        <a:lnTo>
                          <a:pt x="1127" y="120"/>
                        </a:lnTo>
                        <a:lnTo>
                          <a:pt x="1132" y="120"/>
                        </a:lnTo>
                        <a:lnTo>
                          <a:pt x="1137" y="121"/>
                        </a:lnTo>
                        <a:lnTo>
                          <a:pt x="1141" y="120"/>
                        </a:lnTo>
                        <a:lnTo>
                          <a:pt x="1146" y="120"/>
                        </a:lnTo>
                        <a:lnTo>
                          <a:pt x="1150" y="118"/>
                        </a:lnTo>
                        <a:lnTo>
                          <a:pt x="1155" y="117"/>
                        </a:lnTo>
                        <a:lnTo>
                          <a:pt x="1160" y="116"/>
                        </a:lnTo>
                        <a:lnTo>
                          <a:pt x="1167" y="114"/>
                        </a:lnTo>
                        <a:lnTo>
                          <a:pt x="1175" y="113"/>
                        </a:lnTo>
                        <a:lnTo>
                          <a:pt x="1182" y="111"/>
                        </a:lnTo>
                        <a:lnTo>
                          <a:pt x="1190" y="111"/>
                        </a:lnTo>
                        <a:lnTo>
                          <a:pt x="1197" y="113"/>
                        </a:lnTo>
                        <a:lnTo>
                          <a:pt x="1205" y="115"/>
                        </a:lnTo>
                        <a:lnTo>
                          <a:pt x="1212" y="118"/>
                        </a:lnTo>
                        <a:lnTo>
                          <a:pt x="1220" y="124"/>
                        </a:lnTo>
                        <a:lnTo>
                          <a:pt x="1225" y="129"/>
                        </a:lnTo>
                        <a:lnTo>
                          <a:pt x="1231" y="131"/>
                        </a:lnTo>
                        <a:lnTo>
                          <a:pt x="1237" y="132"/>
                        </a:lnTo>
                        <a:lnTo>
                          <a:pt x="1243" y="131"/>
                        </a:lnTo>
                        <a:lnTo>
                          <a:pt x="1248" y="130"/>
                        </a:lnTo>
                        <a:lnTo>
                          <a:pt x="1253" y="128"/>
                        </a:lnTo>
                        <a:lnTo>
                          <a:pt x="1259" y="125"/>
                        </a:lnTo>
                        <a:lnTo>
                          <a:pt x="1263" y="123"/>
                        </a:lnTo>
                        <a:lnTo>
                          <a:pt x="1273" y="118"/>
                        </a:lnTo>
                        <a:lnTo>
                          <a:pt x="1280" y="117"/>
                        </a:lnTo>
                        <a:lnTo>
                          <a:pt x="1284" y="118"/>
                        </a:lnTo>
                        <a:lnTo>
                          <a:pt x="1289" y="123"/>
                        </a:lnTo>
                        <a:lnTo>
                          <a:pt x="1292" y="126"/>
                        </a:lnTo>
                        <a:lnTo>
                          <a:pt x="1296" y="130"/>
                        </a:lnTo>
                        <a:lnTo>
                          <a:pt x="1299" y="132"/>
                        </a:lnTo>
                        <a:lnTo>
                          <a:pt x="1304" y="133"/>
                        </a:lnTo>
                        <a:lnTo>
                          <a:pt x="1312" y="133"/>
                        </a:lnTo>
                        <a:lnTo>
                          <a:pt x="1319" y="131"/>
                        </a:lnTo>
                        <a:lnTo>
                          <a:pt x="1326" y="128"/>
                        </a:lnTo>
                        <a:lnTo>
                          <a:pt x="1331" y="123"/>
                        </a:lnTo>
                        <a:lnTo>
                          <a:pt x="1335" y="120"/>
                        </a:lnTo>
                        <a:lnTo>
                          <a:pt x="1339" y="117"/>
                        </a:lnTo>
                        <a:lnTo>
                          <a:pt x="1343" y="116"/>
                        </a:lnTo>
                        <a:lnTo>
                          <a:pt x="1346" y="115"/>
                        </a:lnTo>
                        <a:lnTo>
                          <a:pt x="1347" y="115"/>
                        </a:lnTo>
                        <a:lnTo>
                          <a:pt x="1349" y="116"/>
                        </a:lnTo>
                        <a:lnTo>
                          <a:pt x="1350" y="118"/>
                        </a:lnTo>
                        <a:lnTo>
                          <a:pt x="1351" y="120"/>
                        </a:lnTo>
                        <a:lnTo>
                          <a:pt x="1357" y="133"/>
                        </a:lnTo>
                        <a:lnTo>
                          <a:pt x="1360" y="155"/>
                        </a:lnTo>
                        <a:lnTo>
                          <a:pt x="1361" y="181"/>
                        </a:lnTo>
                        <a:lnTo>
                          <a:pt x="1361" y="207"/>
                        </a:lnTo>
                        <a:lnTo>
                          <a:pt x="1362" y="232"/>
                        </a:lnTo>
                        <a:lnTo>
                          <a:pt x="1364" y="252"/>
                        </a:lnTo>
                        <a:lnTo>
                          <a:pt x="1366" y="268"/>
                        </a:lnTo>
                        <a:lnTo>
                          <a:pt x="1369" y="277"/>
                        </a:lnTo>
                        <a:lnTo>
                          <a:pt x="1373" y="284"/>
                        </a:lnTo>
                        <a:lnTo>
                          <a:pt x="1375" y="295"/>
                        </a:lnTo>
                        <a:lnTo>
                          <a:pt x="1376" y="306"/>
                        </a:lnTo>
                        <a:lnTo>
                          <a:pt x="1373" y="318"/>
                        </a:lnTo>
                        <a:lnTo>
                          <a:pt x="1369" y="324"/>
                        </a:lnTo>
                        <a:lnTo>
                          <a:pt x="1364" y="327"/>
                        </a:lnTo>
                        <a:lnTo>
                          <a:pt x="1357" y="330"/>
                        </a:lnTo>
                        <a:lnTo>
                          <a:pt x="1349" y="332"/>
                        </a:lnTo>
                        <a:lnTo>
                          <a:pt x="1336" y="333"/>
                        </a:lnTo>
                        <a:lnTo>
                          <a:pt x="1322" y="334"/>
                        </a:lnTo>
                        <a:lnTo>
                          <a:pt x="1306" y="335"/>
                        </a:lnTo>
                        <a:lnTo>
                          <a:pt x="1291" y="335"/>
                        </a:lnTo>
                        <a:lnTo>
                          <a:pt x="1276" y="336"/>
                        </a:lnTo>
                        <a:lnTo>
                          <a:pt x="1262" y="336"/>
                        </a:lnTo>
                        <a:lnTo>
                          <a:pt x="1252" y="336"/>
                        </a:lnTo>
                        <a:lnTo>
                          <a:pt x="1245" y="336"/>
                        </a:lnTo>
                        <a:lnTo>
                          <a:pt x="1244" y="333"/>
                        </a:lnTo>
                        <a:lnTo>
                          <a:pt x="1243" y="328"/>
                        </a:lnTo>
                        <a:lnTo>
                          <a:pt x="1241" y="325"/>
                        </a:lnTo>
                        <a:lnTo>
                          <a:pt x="1240" y="322"/>
                        </a:lnTo>
                        <a:lnTo>
                          <a:pt x="1236" y="309"/>
                        </a:lnTo>
                        <a:lnTo>
                          <a:pt x="1230" y="292"/>
                        </a:lnTo>
                        <a:lnTo>
                          <a:pt x="1223" y="275"/>
                        </a:lnTo>
                        <a:lnTo>
                          <a:pt x="1212" y="258"/>
                        </a:lnTo>
                        <a:lnTo>
                          <a:pt x="1198" y="243"/>
                        </a:lnTo>
                        <a:lnTo>
                          <a:pt x="1179" y="230"/>
                        </a:lnTo>
                        <a:lnTo>
                          <a:pt x="1156" y="222"/>
                        </a:lnTo>
                        <a:lnTo>
                          <a:pt x="1129" y="219"/>
                        </a:lnTo>
                        <a:lnTo>
                          <a:pt x="1087" y="221"/>
                        </a:lnTo>
                        <a:lnTo>
                          <a:pt x="1054" y="228"/>
                        </a:lnTo>
                        <a:lnTo>
                          <a:pt x="1028" y="239"/>
                        </a:lnTo>
                        <a:lnTo>
                          <a:pt x="1009" y="254"/>
                        </a:lnTo>
                        <a:lnTo>
                          <a:pt x="995" y="271"/>
                        </a:lnTo>
                        <a:lnTo>
                          <a:pt x="986" y="290"/>
                        </a:lnTo>
                        <a:lnTo>
                          <a:pt x="980" y="311"/>
                        </a:lnTo>
                        <a:lnTo>
                          <a:pt x="978" y="332"/>
                        </a:lnTo>
                        <a:lnTo>
                          <a:pt x="970" y="332"/>
                        </a:lnTo>
                        <a:lnTo>
                          <a:pt x="950" y="333"/>
                        </a:lnTo>
                        <a:lnTo>
                          <a:pt x="921" y="333"/>
                        </a:lnTo>
                        <a:lnTo>
                          <a:pt x="886" y="334"/>
                        </a:lnTo>
                        <a:lnTo>
                          <a:pt x="843" y="335"/>
                        </a:lnTo>
                        <a:lnTo>
                          <a:pt x="797" y="336"/>
                        </a:lnTo>
                        <a:lnTo>
                          <a:pt x="746" y="339"/>
                        </a:lnTo>
                        <a:lnTo>
                          <a:pt x="696" y="340"/>
                        </a:lnTo>
                        <a:lnTo>
                          <a:pt x="644" y="341"/>
                        </a:lnTo>
                        <a:lnTo>
                          <a:pt x="594" y="343"/>
                        </a:lnTo>
                        <a:lnTo>
                          <a:pt x="547" y="344"/>
                        </a:lnTo>
                        <a:lnTo>
                          <a:pt x="504" y="345"/>
                        </a:lnTo>
                        <a:lnTo>
                          <a:pt x="469" y="347"/>
                        </a:lnTo>
                        <a:lnTo>
                          <a:pt x="440" y="348"/>
                        </a:lnTo>
                        <a:lnTo>
                          <a:pt x="420" y="349"/>
                        </a:lnTo>
                        <a:lnTo>
                          <a:pt x="411" y="349"/>
                        </a:lnTo>
                        <a:lnTo>
                          <a:pt x="411" y="348"/>
                        </a:lnTo>
                        <a:lnTo>
                          <a:pt x="411" y="348"/>
                        </a:lnTo>
                        <a:lnTo>
                          <a:pt x="411" y="348"/>
                        </a:lnTo>
                        <a:lnTo>
                          <a:pt x="411" y="348"/>
                        </a:lnTo>
                        <a:lnTo>
                          <a:pt x="410" y="332"/>
                        </a:lnTo>
                        <a:lnTo>
                          <a:pt x="406" y="311"/>
                        </a:lnTo>
                        <a:lnTo>
                          <a:pt x="396" y="288"/>
                        </a:lnTo>
                        <a:lnTo>
                          <a:pt x="380" y="266"/>
                        </a:lnTo>
                        <a:lnTo>
                          <a:pt x="368" y="257"/>
                        </a:lnTo>
                        <a:lnTo>
                          <a:pt x="356" y="249"/>
                        </a:lnTo>
                        <a:lnTo>
                          <a:pt x="342" y="242"/>
                        </a:lnTo>
                        <a:lnTo>
                          <a:pt x="327" y="237"/>
                        </a:lnTo>
                        <a:lnTo>
                          <a:pt x="310" y="235"/>
                        </a:lnTo>
                        <a:lnTo>
                          <a:pt x="291" y="232"/>
                        </a:lnTo>
                        <a:lnTo>
                          <a:pt x="272" y="232"/>
                        </a:lnTo>
                        <a:lnTo>
                          <a:pt x="251" y="235"/>
                        </a:lnTo>
                        <a:lnTo>
                          <a:pt x="221" y="242"/>
                        </a:lnTo>
                        <a:lnTo>
                          <a:pt x="198" y="253"/>
                        </a:lnTo>
                        <a:lnTo>
                          <a:pt x="178" y="268"/>
                        </a:lnTo>
                        <a:lnTo>
                          <a:pt x="164" y="285"/>
                        </a:lnTo>
                        <a:lnTo>
                          <a:pt x="154" y="304"/>
                        </a:lnTo>
                        <a:lnTo>
                          <a:pt x="147" y="321"/>
                        </a:lnTo>
                        <a:lnTo>
                          <a:pt x="143" y="336"/>
                        </a:lnTo>
                        <a:lnTo>
                          <a:pt x="140" y="348"/>
                        </a:lnTo>
                        <a:lnTo>
                          <a:pt x="132" y="347"/>
                        </a:lnTo>
                        <a:lnTo>
                          <a:pt x="120" y="345"/>
                        </a:lnTo>
                        <a:lnTo>
                          <a:pt x="102" y="344"/>
                        </a:lnTo>
                        <a:lnTo>
                          <a:pt x="84" y="342"/>
                        </a:lnTo>
                        <a:lnTo>
                          <a:pt x="67" y="341"/>
                        </a:lnTo>
                        <a:lnTo>
                          <a:pt x="52" y="339"/>
                        </a:lnTo>
                        <a:lnTo>
                          <a:pt x="40" y="337"/>
                        </a:lnTo>
                        <a:lnTo>
                          <a:pt x="34" y="337"/>
                        </a:lnTo>
                        <a:lnTo>
                          <a:pt x="30" y="333"/>
                        </a:lnTo>
                        <a:lnTo>
                          <a:pt x="24" y="325"/>
                        </a:lnTo>
                        <a:lnTo>
                          <a:pt x="18" y="313"/>
                        </a:lnTo>
                        <a:lnTo>
                          <a:pt x="16" y="299"/>
                        </a:lnTo>
                        <a:lnTo>
                          <a:pt x="15" y="299"/>
                        </a:lnTo>
                        <a:lnTo>
                          <a:pt x="15" y="299"/>
                        </a:lnTo>
                        <a:lnTo>
                          <a:pt x="15" y="299"/>
                        </a:lnTo>
                        <a:lnTo>
                          <a:pt x="15" y="298"/>
                        </a:lnTo>
                        <a:lnTo>
                          <a:pt x="16" y="288"/>
                        </a:lnTo>
                        <a:lnTo>
                          <a:pt x="21" y="277"/>
                        </a:lnTo>
                        <a:lnTo>
                          <a:pt x="27" y="267"/>
                        </a:lnTo>
                        <a:lnTo>
                          <a:pt x="37" y="258"/>
                        </a:lnTo>
                        <a:lnTo>
                          <a:pt x="39" y="256"/>
                        </a:lnTo>
                        <a:lnTo>
                          <a:pt x="39" y="253"/>
                        </a:lnTo>
                        <a:lnTo>
                          <a:pt x="41" y="245"/>
                        </a:lnTo>
                        <a:lnTo>
                          <a:pt x="45" y="235"/>
                        </a:lnTo>
                        <a:lnTo>
                          <a:pt x="48" y="223"/>
                        </a:lnTo>
                        <a:lnTo>
                          <a:pt x="53" y="211"/>
                        </a:lnTo>
                        <a:lnTo>
                          <a:pt x="59" y="199"/>
                        </a:lnTo>
                        <a:lnTo>
                          <a:pt x="64" y="188"/>
                        </a:lnTo>
                        <a:lnTo>
                          <a:pt x="71" y="178"/>
                        </a:lnTo>
                        <a:lnTo>
                          <a:pt x="78" y="171"/>
                        </a:lnTo>
                        <a:lnTo>
                          <a:pt x="83" y="168"/>
                        </a:lnTo>
                        <a:lnTo>
                          <a:pt x="90" y="166"/>
                        </a:lnTo>
                        <a:lnTo>
                          <a:pt x="99" y="162"/>
                        </a:lnTo>
                        <a:lnTo>
                          <a:pt x="110" y="159"/>
                        </a:lnTo>
                        <a:lnTo>
                          <a:pt x="123" y="155"/>
                        </a:lnTo>
                        <a:lnTo>
                          <a:pt x="138" y="152"/>
                        </a:lnTo>
                        <a:lnTo>
                          <a:pt x="153" y="148"/>
                        </a:lnTo>
                        <a:lnTo>
                          <a:pt x="169" y="144"/>
                        </a:lnTo>
                        <a:lnTo>
                          <a:pt x="186" y="140"/>
                        </a:lnTo>
                        <a:lnTo>
                          <a:pt x="205" y="137"/>
                        </a:lnTo>
                        <a:lnTo>
                          <a:pt x="223" y="132"/>
                        </a:lnTo>
                        <a:lnTo>
                          <a:pt x="242" y="129"/>
                        </a:lnTo>
                        <a:lnTo>
                          <a:pt x="261" y="125"/>
                        </a:lnTo>
                        <a:lnTo>
                          <a:pt x="280" y="122"/>
                        </a:lnTo>
                        <a:lnTo>
                          <a:pt x="298" y="118"/>
                        </a:lnTo>
                        <a:lnTo>
                          <a:pt x="315" y="115"/>
                        </a:lnTo>
                        <a:lnTo>
                          <a:pt x="378" y="102"/>
                        </a:lnTo>
                        <a:lnTo>
                          <a:pt x="390" y="99"/>
                        </a:lnTo>
                        <a:lnTo>
                          <a:pt x="403" y="93"/>
                        </a:lnTo>
                        <a:lnTo>
                          <a:pt x="417" y="86"/>
                        </a:lnTo>
                        <a:lnTo>
                          <a:pt x="431" y="77"/>
                        </a:lnTo>
                        <a:lnTo>
                          <a:pt x="444" y="66"/>
                        </a:lnTo>
                        <a:lnTo>
                          <a:pt x="458" y="55"/>
                        </a:lnTo>
                        <a:lnTo>
                          <a:pt x="472" y="42"/>
                        </a:lnTo>
                        <a:lnTo>
                          <a:pt x="486" y="31"/>
                        </a:lnTo>
                        <a:lnTo>
                          <a:pt x="461" y="32"/>
                        </a:lnTo>
                        <a:lnTo>
                          <a:pt x="449" y="41"/>
                        </a:lnTo>
                        <a:lnTo>
                          <a:pt x="437" y="50"/>
                        </a:lnTo>
                        <a:lnTo>
                          <a:pt x="426" y="60"/>
                        </a:lnTo>
                        <a:lnTo>
                          <a:pt x="416" y="68"/>
                        </a:lnTo>
                        <a:lnTo>
                          <a:pt x="404" y="75"/>
                        </a:lnTo>
                        <a:lnTo>
                          <a:pt x="394" y="80"/>
                        </a:lnTo>
                        <a:lnTo>
                          <a:pt x="383" y="85"/>
                        </a:lnTo>
                        <a:lnTo>
                          <a:pt x="374" y="87"/>
                        </a:lnTo>
                        <a:lnTo>
                          <a:pt x="312" y="99"/>
                        </a:lnTo>
                        <a:lnTo>
                          <a:pt x="289" y="103"/>
                        </a:lnTo>
                        <a:lnTo>
                          <a:pt x="267" y="108"/>
                        </a:lnTo>
                        <a:lnTo>
                          <a:pt x="245" y="111"/>
                        </a:lnTo>
                        <a:lnTo>
                          <a:pt x="224" y="116"/>
                        </a:lnTo>
                        <a:lnTo>
                          <a:pt x="205" y="121"/>
                        </a:lnTo>
                        <a:lnTo>
                          <a:pt x="186" y="124"/>
                        </a:lnTo>
                        <a:lnTo>
                          <a:pt x="168" y="128"/>
                        </a:lnTo>
                        <a:lnTo>
                          <a:pt x="152" y="132"/>
                        </a:lnTo>
                        <a:lnTo>
                          <a:pt x="136" y="136"/>
                        </a:lnTo>
                        <a:lnTo>
                          <a:pt x="122" y="139"/>
                        </a:lnTo>
                        <a:lnTo>
                          <a:pt x="109" y="143"/>
                        </a:lnTo>
                        <a:lnTo>
                          <a:pt x="98" y="146"/>
                        </a:lnTo>
                        <a:lnTo>
                          <a:pt x="88" y="149"/>
                        </a:lnTo>
                        <a:lnTo>
                          <a:pt x="80" y="153"/>
                        </a:lnTo>
                        <a:lnTo>
                          <a:pt x="73" y="155"/>
                        </a:lnTo>
                        <a:lnTo>
                          <a:pt x="69" y="159"/>
                        </a:lnTo>
                        <a:lnTo>
                          <a:pt x="60" y="168"/>
                        </a:lnTo>
                        <a:lnTo>
                          <a:pt x="50" y="179"/>
                        </a:lnTo>
                        <a:lnTo>
                          <a:pt x="44" y="193"/>
                        </a:lnTo>
                        <a:lnTo>
                          <a:pt x="37" y="207"/>
                        </a:lnTo>
                        <a:lnTo>
                          <a:pt x="32" y="221"/>
                        </a:lnTo>
                        <a:lnTo>
                          <a:pt x="29" y="234"/>
                        </a:lnTo>
                        <a:lnTo>
                          <a:pt x="25" y="243"/>
                        </a:lnTo>
                        <a:lnTo>
                          <a:pt x="24" y="249"/>
                        </a:lnTo>
                        <a:lnTo>
                          <a:pt x="14" y="261"/>
                        </a:lnTo>
                        <a:lnTo>
                          <a:pt x="6" y="273"/>
                        </a:lnTo>
                        <a:lnTo>
                          <a:pt x="1" y="285"/>
                        </a:lnTo>
                        <a:lnTo>
                          <a:pt x="0" y="298"/>
                        </a:lnTo>
                        <a:lnTo>
                          <a:pt x="0" y="299"/>
                        </a:lnTo>
                        <a:lnTo>
                          <a:pt x="0" y="299"/>
                        </a:lnTo>
                        <a:lnTo>
                          <a:pt x="0" y="299"/>
                        </a:lnTo>
                        <a:lnTo>
                          <a:pt x="0" y="300"/>
                        </a:lnTo>
                        <a:lnTo>
                          <a:pt x="4" y="321"/>
                        </a:lnTo>
                        <a:lnTo>
                          <a:pt x="14" y="336"/>
                        </a:lnTo>
                        <a:lnTo>
                          <a:pt x="22" y="347"/>
                        </a:lnTo>
                        <a:lnTo>
                          <a:pt x="26" y="351"/>
                        </a:lnTo>
                        <a:lnTo>
                          <a:pt x="29" y="352"/>
                        </a:lnTo>
                        <a:lnTo>
                          <a:pt x="154" y="365"/>
                        </a:lnTo>
                        <a:lnTo>
                          <a:pt x="154" y="357"/>
                        </a:lnTo>
                        <a:lnTo>
                          <a:pt x="155" y="352"/>
                        </a:lnTo>
                        <a:lnTo>
                          <a:pt x="158" y="340"/>
                        </a:lnTo>
                        <a:lnTo>
                          <a:pt x="162" y="325"/>
                        </a:lnTo>
                        <a:lnTo>
                          <a:pt x="170" y="306"/>
                        </a:lnTo>
                        <a:lnTo>
                          <a:pt x="183" y="288"/>
                        </a:lnTo>
                        <a:lnTo>
                          <a:pt x="199" y="271"/>
                        </a:lnTo>
                        <a:lnTo>
                          <a:pt x="222" y="258"/>
                        </a:lnTo>
                        <a:lnTo>
                          <a:pt x="252" y="251"/>
                        </a:lnTo>
                        <a:lnTo>
                          <a:pt x="272" y="249"/>
                        </a:lnTo>
                        <a:lnTo>
                          <a:pt x="289" y="249"/>
                        </a:lnTo>
                        <a:lnTo>
                          <a:pt x="306" y="250"/>
                        </a:lnTo>
                        <a:lnTo>
                          <a:pt x="321" y="252"/>
                        </a:lnTo>
                        <a:lnTo>
                          <a:pt x="335" y="257"/>
                        </a:lnTo>
                        <a:lnTo>
                          <a:pt x="348" y="262"/>
                        </a:lnTo>
                        <a:lnTo>
                          <a:pt x="359" y="269"/>
                        </a:lnTo>
                        <a:lnTo>
                          <a:pt x="368" y="277"/>
                        </a:lnTo>
                        <a:lnTo>
                          <a:pt x="386" y="303"/>
                        </a:lnTo>
                        <a:lnTo>
                          <a:pt x="394" y="328"/>
                        </a:lnTo>
                        <a:lnTo>
                          <a:pt x="395" y="348"/>
                        </a:lnTo>
                        <a:lnTo>
                          <a:pt x="395" y="356"/>
                        </a:lnTo>
                        <a:lnTo>
                          <a:pt x="394" y="365"/>
                        </a:lnTo>
                        <a:lnTo>
                          <a:pt x="993" y="348"/>
                        </a:lnTo>
                        <a:lnTo>
                          <a:pt x="993" y="340"/>
                        </a:lnTo>
                        <a:lnTo>
                          <a:pt x="995" y="320"/>
                        </a:lnTo>
                        <a:lnTo>
                          <a:pt x="998" y="302"/>
                        </a:lnTo>
                        <a:lnTo>
                          <a:pt x="1005" y="284"/>
                        </a:lnTo>
                        <a:lnTo>
                          <a:pt x="1018" y="268"/>
                        </a:lnTo>
                        <a:lnTo>
                          <a:pt x="1034" y="254"/>
                        </a:lnTo>
                        <a:lnTo>
                          <a:pt x="1058" y="244"/>
                        </a:lnTo>
                        <a:lnTo>
                          <a:pt x="1088" y="237"/>
                        </a:lnTo>
                        <a:lnTo>
                          <a:pt x="1129" y="235"/>
                        </a:lnTo>
                        <a:lnTo>
                          <a:pt x="1153" y="237"/>
                        </a:lnTo>
                        <a:lnTo>
                          <a:pt x="1172" y="245"/>
                        </a:lnTo>
                        <a:lnTo>
                          <a:pt x="1187" y="256"/>
                        </a:lnTo>
                        <a:lnTo>
                          <a:pt x="1200" y="268"/>
                        </a:lnTo>
                        <a:lnTo>
                          <a:pt x="1209" y="283"/>
                        </a:lnTo>
                        <a:lnTo>
                          <a:pt x="1216" y="299"/>
                        </a:lnTo>
                        <a:lnTo>
                          <a:pt x="1222" y="314"/>
                        </a:lnTo>
                        <a:lnTo>
                          <a:pt x="1225" y="327"/>
                        </a:lnTo>
                        <a:lnTo>
                          <a:pt x="1228" y="336"/>
                        </a:lnTo>
                        <a:lnTo>
                          <a:pt x="1230" y="343"/>
                        </a:lnTo>
                        <a:lnTo>
                          <a:pt x="1233" y="349"/>
                        </a:lnTo>
                        <a:lnTo>
                          <a:pt x="1238" y="351"/>
                        </a:lnTo>
                        <a:lnTo>
                          <a:pt x="1244" y="352"/>
                        </a:lnTo>
                        <a:lnTo>
                          <a:pt x="1252" y="352"/>
                        </a:lnTo>
                        <a:lnTo>
                          <a:pt x="1262" y="352"/>
                        </a:lnTo>
                        <a:lnTo>
                          <a:pt x="1275" y="352"/>
                        </a:lnTo>
                        <a:lnTo>
                          <a:pt x="1290" y="351"/>
                        </a:lnTo>
                        <a:lnTo>
                          <a:pt x="1307" y="351"/>
                        </a:lnTo>
                        <a:lnTo>
                          <a:pt x="1327" y="349"/>
                        </a:lnTo>
                        <a:lnTo>
                          <a:pt x="1350" y="348"/>
                        </a:lnTo>
                        <a:lnTo>
                          <a:pt x="1358" y="347"/>
                        </a:lnTo>
                        <a:lnTo>
                          <a:pt x="1365" y="344"/>
                        </a:lnTo>
                        <a:lnTo>
                          <a:pt x="1371" y="342"/>
                        </a:lnTo>
                        <a:lnTo>
                          <a:pt x="1375" y="339"/>
                        </a:lnTo>
                        <a:lnTo>
                          <a:pt x="1379" y="335"/>
                        </a:lnTo>
                        <a:lnTo>
                          <a:pt x="1382" y="332"/>
                        </a:lnTo>
                        <a:lnTo>
                          <a:pt x="1384" y="328"/>
                        </a:lnTo>
                        <a:lnTo>
                          <a:pt x="1387" y="325"/>
                        </a:lnTo>
                        <a:lnTo>
                          <a:pt x="1391" y="309"/>
                        </a:lnTo>
                        <a:lnTo>
                          <a:pt x="1391" y="294"/>
                        </a:lnTo>
                        <a:lnTo>
                          <a:pt x="1388" y="279"/>
                        </a:lnTo>
                        <a:lnTo>
                          <a:pt x="1383" y="26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6330960" y="2590920"/>
                    <a:ext cx="476280" cy="71280"/>
                  </a:xfrm>
                  <a:custGeom>
                    <a:avLst/>
                    <a:gdLst/>
                    <a:ahLst/>
                    <a:rect l="l" t="t" r="r" b="b"/>
                    <a:pathLst>
                      <a:path w="601" h="90">
                        <a:moveTo>
                          <a:pt x="40" y="76"/>
                        </a:moveTo>
                        <a:lnTo>
                          <a:pt x="48" y="69"/>
                        </a:lnTo>
                        <a:lnTo>
                          <a:pt x="55" y="62"/>
                        </a:lnTo>
                        <a:lnTo>
                          <a:pt x="63" y="55"/>
                        </a:lnTo>
                        <a:lnTo>
                          <a:pt x="70" y="50"/>
                        </a:lnTo>
                        <a:lnTo>
                          <a:pt x="76" y="44"/>
                        </a:lnTo>
                        <a:lnTo>
                          <a:pt x="82" y="39"/>
                        </a:lnTo>
                        <a:lnTo>
                          <a:pt x="88" y="35"/>
                        </a:lnTo>
                        <a:lnTo>
                          <a:pt x="93" y="31"/>
                        </a:lnTo>
                        <a:lnTo>
                          <a:pt x="95" y="30"/>
                        </a:lnTo>
                        <a:lnTo>
                          <a:pt x="99" y="29"/>
                        </a:lnTo>
                        <a:lnTo>
                          <a:pt x="103" y="28"/>
                        </a:lnTo>
                        <a:lnTo>
                          <a:pt x="110" y="27"/>
                        </a:lnTo>
                        <a:lnTo>
                          <a:pt x="117" y="25"/>
                        </a:lnTo>
                        <a:lnTo>
                          <a:pt x="127" y="24"/>
                        </a:lnTo>
                        <a:lnTo>
                          <a:pt x="139" y="23"/>
                        </a:lnTo>
                        <a:lnTo>
                          <a:pt x="153" y="22"/>
                        </a:lnTo>
                        <a:lnTo>
                          <a:pt x="168" y="21"/>
                        </a:lnTo>
                        <a:lnTo>
                          <a:pt x="186" y="20"/>
                        </a:lnTo>
                        <a:lnTo>
                          <a:pt x="207" y="18"/>
                        </a:lnTo>
                        <a:lnTo>
                          <a:pt x="231" y="18"/>
                        </a:lnTo>
                        <a:lnTo>
                          <a:pt x="258" y="17"/>
                        </a:lnTo>
                        <a:lnTo>
                          <a:pt x="287" y="17"/>
                        </a:lnTo>
                        <a:lnTo>
                          <a:pt x="320" y="16"/>
                        </a:lnTo>
                        <a:lnTo>
                          <a:pt x="357" y="16"/>
                        </a:lnTo>
                        <a:lnTo>
                          <a:pt x="375" y="16"/>
                        </a:lnTo>
                        <a:lnTo>
                          <a:pt x="395" y="16"/>
                        </a:lnTo>
                        <a:lnTo>
                          <a:pt x="414" y="16"/>
                        </a:lnTo>
                        <a:lnTo>
                          <a:pt x="436" y="16"/>
                        </a:lnTo>
                        <a:lnTo>
                          <a:pt x="458" y="16"/>
                        </a:lnTo>
                        <a:lnTo>
                          <a:pt x="481" y="16"/>
                        </a:lnTo>
                        <a:lnTo>
                          <a:pt x="504" y="17"/>
                        </a:lnTo>
                        <a:lnTo>
                          <a:pt x="529" y="17"/>
                        </a:lnTo>
                        <a:lnTo>
                          <a:pt x="547" y="17"/>
                        </a:lnTo>
                        <a:lnTo>
                          <a:pt x="550" y="18"/>
                        </a:lnTo>
                        <a:lnTo>
                          <a:pt x="554" y="21"/>
                        </a:lnTo>
                        <a:lnTo>
                          <a:pt x="557" y="25"/>
                        </a:lnTo>
                        <a:lnTo>
                          <a:pt x="562" y="30"/>
                        </a:lnTo>
                        <a:lnTo>
                          <a:pt x="566" y="37"/>
                        </a:lnTo>
                        <a:lnTo>
                          <a:pt x="572" y="43"/>
                        </a:lnTo>
                        <a:lnTo>
                          <a:pt x="577" y="51"/>
                        </a:lnTo>
                        <a:lnTo>
                          <a:pt x="582" y="59"/>
                        </a:lnTo>
                        <a:lnTo>
                          <a:pt x="601" y="58"/>
                        </a:lnTo>
                        <a:lnTo>
                          <a:pt x="592" y="44"/>
                        </a:lnTo>
                        <a:lnTo>
                          <a:pt x="584" y="32"/>
                        </a:lnTo>
                        <a:lnTo>
                          <a:pt x="575" y="23"/>
                        </a:lnTo>
                        <a:lnTo>
                          <a:pt x="569" y="15"/>
                        </a:lnTo>
                        <a:lnTo>
                          <a:pt x="563" y="9"/>
                        </a:lnTo>
                        <a:lnTo>
                          <a:pt x="557" y="5"/>
                        </a:lnTo>
                        <a:lnTo>
                          <a:pt x="551" y="2"/>
                        </a:lnTo>
                        <a:lnTo>
                          <a:pt x="547" y="1"/>
                        </a:lnTo>
                        <a:lnTo>
                          <a:pt x="529" y="1"/>
                        </a:lnTo>
                        <a:lnTo>
                          <a:pt x="508" y="1"/>
                        </a:lnTo>
                        <a:lnTo>
                          <a:pt x="487" y="0"/>
                        </a:lnTo>
                        <a:lnTo>
                          <a:pt x="466" y="0"/>
                        </a:lnTo>
                        <a:lnTo>
                          <a:pt x="445" y="0"/>
                        </a:lnTo>
                        <a:lnTo>
                          <a:pt x="426" y="0"/>
                        </a:lnTo>
                        <a:lnTo>
                          <a:pt x="407" y="0"/>
                        </a:lnTo>
                        <a:lnTo>
                          <a:pt x="389" y="0"/>
                        </a:lnTo>
                        <a:lnTo>
                          <a:pt x="370" y="0"/>
                        </a:lnTo>
                        <a:lnTo>
                          <a:pt x="339" y="0"/>
                        </a:lnTo>
                        <a:lnTo>
                          <a:pt x="309" y="0"/>
                        </a:lnTo>
                        <a:lnTo>
                          <a:pt x="282" y="1"/>
                        </a:lnTo>
                        <a:lnTo>
                          <a:pt x="255" y="1"/>
                        </a:lnTo>
                        <a:lnTo>
                          <a:pt x="231" y="1"/>
                        </a:lnTo>
                        <a:lnTo>
                          <a:pt x="209" y="2"/>
                        </a:lnTo>
                        <a:lnTo>
                          <a:pt x="188" y="3"/>
                        </a:lnTo>
                        <a:lnTo>
                          <a:pt x="170" y="5"/>
                        </a:lnTo>
                        <a:lnTo>
                          <a:pt x="153" y="6"/>
                        </a:lnTo>
                        <a:lnTo>
                          <a:pt x="138" y="7"/>
                        </a:lnTo>
                        <a:lnTo>
                          <a:pt x="125" y="8"/>
                        </a:lnTo>
                        <a:lnTo>
                          <a:pt x="114" y="10"/>
                        </a:lnTo>
                        <a:lnTo>
                          <a:pt x="103" y="12"/>
                        </a:lnTo>
                        <a:lnTo>
                          <a:pt x="95" y="14"/>
                        </a:lnTo>
                        <a:lnTo>
                          <a:pt x="89" y="16"/>
                        </a:lnTo>
                        <a:lnTo>
                          <a:pt x="85" y="18"/>
                        </a:lnTo>
                        <a:lnTo>
                          <a:pt x="79" y="22"/>
                        </a:lnTo>
                        <a:lnTo>
                          <a:pt x="73" y="27"/>
                        </a:lnTo>
                        <a:lnTo>
                          <a:pt x="67" y="31"/>
                        </a:lnTo>
                        <a:lnTo>
                          <a:pt x="61" y="37"/>
                        </a:lnTo>
                        <a:lnTo>
                          <a:pt x="53" y="43"/>
                        </a:lnTo>
                        <a:lnTo>
                          <a:pt x="46" y="50"/>
                        </a:lnTo>
                        <a:lnTo>
                          <a:pt x="38" y="56"/>
                        </a:lnTo>
                        <a:lnTo>
                          <a:pt x="29" y="63"/>
                        </a:lnTo>
                        <a:lnTo>
                          <a:pt x="21" y="70"/>
                        </a:lnTo>
                        <a:lnTo>
                          <a:pt x="14" y="76"/>
                        </a:lnTo>
                        <a:lnTo>
                          <a:pt x="8" y="83"/>
                        </a:lnTo>
                        <a:lnTo>
                          <a:pt x="0" y="90"/>
                        </a:lnTo>
                        <a:lnTo>
                          <a:pt x="25" y="89"/>
                        </a:lnTo>
                        <a:lnTo>
                          <a:pt x="29" y="85"/>
                        </a:lnTo>
                        <a:lnTo>
                          <a:pt x="33" y="82"/>
                        </a:lnTo>
                        <a:lnTo>
                          <a:pt x="36" y="78"/>
                        </a:lnTo>
                        <a:lnTo>
                          <a:pt x="40" y="7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 name=""/>
                  <p:cNvSpPr/>
                  <p:nvPr/>
                </p:nvSpPr>
                <p:spPr>
                  <a:xfrm>
                    <a:off x="6024600" y="2838600"/>
                    <a:ext cx="522360" cy="323640"/>
                  </a:xfrm>
                  <a:custGeom>
                    <a:avLst/>
                    <a:gdLst/>
                    <a:ahLst/>
                    <a:rect l="l" t="t" r="r" b="b"/>
                    <a:pathLst>
                      <a:path w="658" h="408">
                        <a:moveTo>
                          <a:pt x="424" y="314"/>
                        </a:moveTo>
                        <a:lnTo>
                          <a:pt x="408" y="298"/>
                        </a:lnTo>
                        <a:lnTo>
                          <a:pt x="613" y="225"/>
                        </a:lnTo>
                        <a:lnTo>
                          <a:pt x="569" y="128"/>
                        </a:lnTo>
                        <a:lnTo>
                          <a:pt x="311" y="227"/>
                        </a:lnTo>
                        <a:lnTo>
                          <a:pt x="236" y="242"/>
                        </a:lnTo>
                        <a:lnTo>
                          <a:pt x="123" y="50"/>
                        </a:lnTo>
                        <a:lnTo>
                          <a:pt x="133" y="15"/>
                        </a:lnTo>
                        <a:lnTo>
                          <a:pt x="32" y="0"/>
                        </a:lnTo>
                        <a:lnTo>
                          <a:pt x="0" y="7"/>
                        </a:lnTo>
                        <a:lnTo>
                          <a:pt x="10" y="353"/>
                        </a:lnTo>
                        <a:lnTo>
                          <a:pt x="48" y="405"/>
                        </a:lnTo>
                        <a:lnTo>
                          <a:pt x="162" y="408"/>
                        </a:lnTo>
                        <a:lnTo>
                          <a:pt x="159" y="369"/>
                        </a:lnTo>
                        <a:lnTo>
                          <a:pt x="114" y="353"/>
                        </a:lnTo>
                        <a:lnTo>
                          <a:pt x="55" y="82"/>
                        </a:lnTo>
                        <a:lnTo>
                          <a:pt x="87" y="75"/>
                        </a:lnTo>
                        <a:lnTo>
                          <a:pt x="269" y="394"/>
                        </a:lnTo>
                        <a:lnTo>
                          <a:pt x="511" y="398"/>
                        </a:lnTo>
                        <a:lnTo>
                          <a:pt x="507" y="349"/>
                        </a:lnTo>
                        <a:lnTo>
                          <a:pt x="658" y="324"/>
                        </a:lnTo>
                        <a:lnTo>
                          <a:pt x="633" y="270"/>
                        </a:lnTo>
                        <a:lnTo>
                          <a:pt x="424" y="31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6477120" y="2806560"/>
                    <a:ext cx="438120" cy="584280"/>
                  </a:xfrm>
                  <a:custGeom>
                    <a:avLst/>
                    <a:gdLst/>
                    <a:ahLst/>
                    <a:rect l="l" t="t" r="r" b="b"/>
                    <a:pathLst>
                      <a:path w="552" h="737">
                        <a:moveTo>
                          <a:pt x="396" y="424"/>
                        </a:moveTo>
                        <a:lnTo>
                          <a:pt x="419" y="372"/>
                        </a:lnTo>
                        <a:lnTo>
                          <a:pt x="321" y="205"/>
                        </a:lnTo>
                        <a:lnTo>
                          <a:pt x="330" y="179"/>
                        </a:lnTo>
                        <a:lnTo>
                          <a:pt x="435" y="123"/>
                        </a:lnTo>
                        <a:lnTo>
                          <a:pt x="471" y="59"/>
                        </a:lnTo>
                        <a:lnTo>
                          <a:pt x="472" y="57"/>
                        </a:lnTo>
                        <a:lnTo>
                          <a:pt x="474" y="51"/>
                        </a:lnTo>
                        <a:lnTo>
                          <a:pt x="474" y="39"/>
                        </a:lnTo>
                        <a:lnTo>
                          <a:pt x="467" y="21"/>
                        </a:lnTo>
                        <a:lnTo>
                          <a:pt x="461" y="12"/>
                        </a:lnTo>
                        <a:lnTo>
                          <a:pt x="454" y="5"/>
                        </a:lnTo>
                        <a:lnTo>
                          <a:pt x="446" y="1"/>
                        </a:lnTo>
                        <a:lnTo>
                          <a:pt x="439" y="0"/>
                        </a:lnTo>
                        <a:lnTo>
                          <a:pt x="432" y="1"/>
                        </a:lnTo>
                        <a:lnTo>
                          <a:pt x="426" y="2"/>
                        </a:lnTo>
                        <a:lnTo>
                          <a:pt x="423" y="3"/>
                        </a:lnTo>
                        <a:lnTo>
                          <a:pt x="421" y="3"/>
                        </a:lnTo>
                        <a:lnTo>
                          <a:pt x="0" y="167"/>
                        </a:lnTo>
                        <a:lnTo>
                          <a:pt x="44" y="264"/>
                        </a:lnTo>
                        <a:lnTo>
                          <a:pt x="237" y="195"/>
                        </a:lnTo>
                        <a:lnTo>
                          <a:pt x="276" y="266"/>
                        </a:lnTo>
                        <a:lnTo>
                          <a:pt x="64" y="309"/>
                        </a:lnTo>
                        <a:lnTo>
                          <a:pt x="89" y="363"/>
                        </a:lnTo>
                        <a:lnTo>
                          <a:pt x="189" y="346"/>
                        </a:lnTo>
                        <a:lnTo>
                          <a:pt x="251" y="445"/>
                        </a:lnTo>
                        <a:lnTo>
                          <a:pt x="253" y="463"/>
                        </a:lnTo>
                        <a:lnTo>
                          <a:pt x="409" y="518"/>
                        </a:lnTo>
                        <a:lnTo>
                          <a:pt x="428" y="637"/>
                        </a:lnTo>
                        <a:lnTo>
                          <a:pt x="328" y="641"/>
                        </a:lnTo>
                        <a:lnTo>
                          <a:pt x="334" y="709"/>
                        </a:lnTo>
                        <a:lnTo>
                          <a:pt x="419" y="702"/>
                        </a:lnTo>
                        <a:lnTo>
                          <a:pt x="420" y="703"/>
                        </a:lnTo>
                        <a:lnTo>
                          <a:pt x="424" y="707"/>
                        </a:lnTo>
                        <a:lnTo>
                          <a:pt x="428" y="711"/>
                        </a:lnTo>
                        <a:lnTo>
                          <a:pt x="435" y="716"/>
                        </a:lnTo>
                        <a:lnTo>
                          <a:pt x="443" y="722"/>
                        </a:lnTo>
                        <a:lnTo>
                          <a:pt x="451" y="727"/>
                        </a:lnTo>
                        <a:lnTo>
                          <a:pt x="461" y="732"/>
                        </a:lnTo>
                        <a:lnTo>
                          <a:pt x="471" y="735"/>
                        </a:lnTo>
                        <a:lnTo>
                          <a:pt x="481" y="737"/>
                        </a:lnTo>
                        <a:lnTo>
                          <a:pt x="494" y="735"/>
                        </a:lnTo>
                        <a:lnTo>
                          <a:pt x="507" y="733"/>
                        </a:lnTo>
                        <a:lnTo>
                          <a:pt x="519" y="730"/>
                        </a:lnTo>
                        <a:lnTo>
                          <a:pt x="531" y="726"/>
                        </a:lnTo>
                        <a:lnTo>
                          <a:pt x="540" y="723"/>
                        </a:lnTo>
                        <a:lnTo>
                          <a:pt x="546" y="720"/>
                        </a:lnTo>
                        <a:lnTo>
                          <a:pt x="548" y="719"/>
                        </a:lnTo>
                        <a:lnTo>
                          <a:pt x="552" y="671"/>
                        </a:lnTo>
                        <a:lnTo>
                          <a:pt x="396" y="42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6227640" y="2808360"/>
                    <a:ext cx="621000" cy="341280"/>
                  </a:xfrm>
                  <a:custGeom>
                    <a:avLst/>
                    <a:gdLst/>
                    <a:ahLst/>
                    <a:rect l="l" t="t" r="r" b="b"/>
                    <a:pathLst>
                      <a:path w="780" h="430">
                        <a:moveTo>
                          <a:pt x="748" y="0"/>
                        </a:moveTo>
                        <a:lnTo>
                          <a:pt x="761" y="0"/>
                        </a:lnTo>
                        <a:lnTo>
                          <a:pt x="780" y="20"/>
                        </a:lnTo>
                        <a:lnTo>
                          <a:pt x="62" y="291"/>
                        </a:lnTo>
                        <a:lnTo>
                          <a:pt x="26" y="296"/>
                        </a:lnTo>
                        <a:lnTo>
                          <a:pt x="152" y="427"/>
                        </a:lnTo>
                        <a:lnTo>
                          <a:pt x="71" y="430"/>
                        </a:lnTo>
                        <a:lnTo>
                          <a:pt x="0" y="323"/>
                        </a:lnTo>
                        <a:lnTo>
                          <a:pt x="0" y="280"/>
                        </a:lnTo>
                        <a:lnTo>
                          <a:pt x="67" y="265"/>
                        </a:lnTo>
                        <a:lnTo>
                          <a:pt x="74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6550200" y="3013200"/>
                    <a:ext cx="260280" cy="163440"/>
                  </a:xfrm>
                  <a:custGeom>
                    <a:avLst/>
                    <a:gdLst/>
                    <a:ahLst/>
                    <a:rect l="l" t="t" r="r" b="b"/>
                    <a:pathLst>
                      <a:path w="327" h="205">
                        <a:moveTo>
                          <a:pt x="261" y="0"/>
                        </a:moveTo>
                        <a:lnTo>
                          <a:pt x="327" y="111"/>
                        </a:lnTo>
                        <a:lnTo>
                          <a:pt x="304" y="163"/>
                        </a:lnTo>
                        <a:lnTo>
                          <a:pt x="233" y="36"/>
                        </a:lnTo>
                        <a:lnTo>
                          <a:pt x="193" y="53"/>
                        </a:lnTo>
                        <a:lnTo>
                          <a:pt x="249" y="205"/>
                        </a:lnTo>
                        <a:lnTo>
                          <a:pt x="217" y="202"/>
                        </a:lnTo>
                        <a:lnTo>
                          <a:pt x="158" y="40"/>
                        </a:lnTo>
                        <a:lnTo>
                          <a:pt x="0" y="73"/>
                        </a:lnTo>
                        <a:lnTo>
                          <a:pt x="0" y="50"/>
                        </a:lnTo>
                        <a:lnTo>
                          <a:pt x="261"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6850080" y="3243240"/>
                    <a:ext cx="65160" cy="139680"/>
                  </a:xfrm>
                  <a:custGeom>
                    <a:avLst/>
                    <a:gdLst/>
                    <a:ahLst/>
                    <a:rect l="l" t="t" r="r" b="b"/>
                    <a:pathLst>
                      <a:path w="81" h="175">
                        <a:moveTo>
                          <a:pt x="0" y="0"/>
                        </a:moveTo>
                        <a:lnTo>
                          <a:pt x="81" y="121"/>
                        </a:lnTo>
                        <a:lnTo>
                          <a:pt x="77" y="169"/>
                        </a:lnTo>
                        <a:lnTo>
                          <a:pt x="29" y="175"/>
                        </a:lnTo>
                        <a:lnTo>
                          <a:pt x="32" y="107"/>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6114960" y="2884320"/>
                    <a:ext cx="81000" cy="123840"/>
                  </a:xfrm>
                  <a:custGeom>
                    <a:avLst/>
                    <a:gdLst/>
                    <a:ahLst/>
                    <a:rect l="l" t="t" r="r" b="b"/>
                    <a:pathLst>
                      <a:path w="100" h="156">
                        <a:moveTo>
                          <a:pt x="9" y="0"/>
                        </a:moveTo>
                        <a:lnTo>
                          <a:pt x="0" y="13"/>
                        </a:lnTo>
                        <a:lnTo>
                          <a:pt x="80" y="156"/>
                        </a:lnTo>
                        <a:lnTo>
                          <a:pt x="100" y="152"/>
                        </a:lnTo>
                        <a:lnTo>
                          <a:pt x="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5221440" y="3168720"/>
                    <a:ext cx="298440" cy="182520"/>
                  </a:xfrm>
                  <a:custGeom>
                    <a:avLst/>
                    <a:gdLst/>
                    <a:ahLst/>
                    <a:rect l="l" t="t" r="r" b="b"/>
                    <a:pathLst>
                      <a:path w="377" h="232">
                        <a:moveTo>
                          <a:pt x="377" y="229"/>
                        </a:moveTo>
                        <a:lnTo>
                          <a:pt x="377" y="211"/>
                        </a:lnTo>
                        <a:lnTo>
                          <a:pt x="377" y="170"/>
                        </a:lnTo>
                        <a:lnTo>
                          <a:pt x="373" y="126"/>
                        </a:lnTo>
                        <a:lnTo>
                          <a:pt x="367" y="95"/>
                        </a:lnTo>
                        <a:lnTo>
                          <a:pt x="363" y="90"/>
                        </a:lnTo>
                        <a:lnTo>
                          <a:pt x="360" y="84"/>
                        </a:lnTo>
                        <a:lnTo>
                          <a:pt x="354" y="78"/>
                        </a:lnTo>
                        <a:lnTo>
                          <a:pt x="347" y="69"/>
                        </a:lnTo>
                        <a:lnTo>
                          <a:pt x="339" y="61"/>
                        </a:lnTo>
                        <a:lnTo>
                          <a:pt x="331" y="53"/>
                        </a:lnTo>
                        <a:lnTo>
                          <a:pt x="321" y="45"/>
                        </a:lnTo>
                        <a:lnTo>
                          <a:pt x="309" y="36"/>
                        </a:lnTo>
                        <a:lnTo>
                          <a:pt x="296" y="28"/>
                        </a:lnTo>
                        <a:lnTo>
                          <a:pt x="281" y="21"/>
                        </a:lnTo>
                        <a:lnTo>
                          <a:pt x="266" y="14"/>
                        </a:lnTo>
                        <a:lnTo>
                          <a:pt x="250" y="10"/>
                        </a:lnTo>
                        <a:lnTo>
                          <a:pt x="233" y="5"/>
                        </a:lnTo>
                        <a:lnTo>
                          <a:pt x="213" y="1"/>
                        </a:lnTo>
                        <a:lnTo>
                          <a:pt x="194" y="0"/>
                        </a:lnTo>
                        <a:lnTo>
                          <a:pt x="172" y="1"/>
                        </a:lnTo>
                        <a:lnTo>
                          <a:pt x="132" y="7"/>
                        </a:lnTo>
                        <a:lnTo>
                          <a:pt x="98" y="18"/>
                        </a:lnTo>
                        <a:lnTo>
                          <a:pt x="71" y="31"/>
                        </a:lnTo>
                        <a:lnTo>
                          <a:pt x="49" y="45"/>
                        </a:lnTo>
                        <a:lnTo>
                          <a:pt x="31" y="59"/>
                        </a:lnTo>
                        <a:lnTo>
                          <a:pt x="21" y="71"/>
                        </a:lnTo>
                        <a:lnTo>
                          <a:pt x="14" y="79"/>
                        </a:lnTo>
                        <a:lnTo>
                          <a:pt x="12" y="82"/>
                        </a:lnTo>
                        <a:lnTo>
                          <a:pt x="0" y="205"/>
                        </a:lnTo>
                        <a:lnTo>
                          <a:pt x="52" y="232"/>
                        </a:lnTo>
                        <a:lnTo>
                          <a:pt x="377" y="22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6469200" y="3209760"/>
                    <a:ext cx="285480" cy="306720"/>
                  </a:xfrm>
                  <a:custGeom>
                    <a:avLst/>
                    <a:gdLst/>
                    <a:ahLst/>
                    <a:rect l="l" t="t" r="r" b="b"/>
                    <a:pathLst>
                      <a:path w="359" h="385">
                        <a:moveTo>
                          <a:pt x="282" y="353"/>
                        </a:moveTo>
                        <a:lnTo>
                          <a:pt x="337" y="385"/>
                        </a:lnTo>
                        <a:lnTo>
                          <a:pt x="341" y="385"/>
                        </a:lnTo>
                        <a:lnTo>
                          <a:pt x="350" y="382"/>
                        </a:lnTo>
                        <a:lnTo>
                          <a:pt x="357" y="369"/>
                        </a:lnTo>
                        <a:lnTo>
                          <a:pt x="359" y="344"/>
                        </a:lnTo>
                        <a:lnTo>
                          <a:pt x="358" y="292"/>
                        </a:lnTo>
                        <a:lnTo>
                          <a:pt x="358" y="222"/>
                        </a:lnTo>
                        <a:lnTo>
                          <a:pt x="359" y="159"/>
                        </a:lnTo>
                        <a:lnTo>
                          <a:pt x="359" y="133"/>
                        </a:lnTo>
                        <a:lnTo>
                          <a:pt x="337" y="133"/>
                        </a:lnTo>
                        <a:lnTo>
                          <a:pt x="290" y="37"/>
                        </a:lnTo>
                        <a:lnTo>
                          <a:pt x="289" y="36"/>
                        </a:lnTo>
                        <a:lnTo>
                          <a:pt x="285" y="31"/>
                        </a:lnTo>
                        <a:lnTo>
                          <a:pt x="278" y="25"/>
                        </a:lnTo>
                        <a:lnTo>
                          <a:pt x="270" y="18"/>
                        </a:lnTo>
                        <a:lnTo>
                          <a:pt x="260" y="11"/>
                        </a:lnTo>
                        <a:lnTo>
                          <a:pt x="247" y="5"/>
                        </a:lnTo>
                        <a:lnTo>
                          <a:pt x="233" y="1"/>
                        </a:lnTo>
                        <a:lnTo>
                          <a:pt x="217" y="0"/>
                        </a:lnTo>
                        <a:lnTo>
                          <a:pt x="197" y="1"/>
                        </a:lnTo>
                        <a:lnTo>
                          <a:pt x="170" y="4"/>
                        </a:lnTo>
                        <a:lnTo>
                          <a:pt x="141" y="6"/>
                        </a:lnTo>
                        <a:lnTo>
                          <a:pt x="112" y="8"/>
                        </a:lnTo>
                        <a:lnTo>
                          <a:pt x="86" y="10"/>
                        </a:lnTo>
                        <a:lnTo>
                          <a:pt x="63" y="12"/>
                        </a:lnTo>
                        <a:lnTo>
                          <a:pt x="48" y="13"/>
                        </a:lnTo>
                        <a:lnTo>
                          <a:pt x="42" y="13"/>
                        </a:lnTo>
                        <a:lnTo>
                          <a:pt x="0" y="149"/>
                        </a:lnTo>
                        <a:lnTo>
                          <a:pt x="282" y="35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56240" y="3354480"/>
                    <a:ext cx="479520" cy="61920"/>
                  </a:xfrm>
                  <a:custGeom>
                    <a:avLst/>
                    <a:gdLst/>
                    <a:ahLst/>
                    <a:rect l="l" t="t" r="r" b="b"/>
                    <a:pathLst>
                      <a:path w="603" h="79">
                        <a:moveTo>
                          <a:pt x="0" y="0"/>
                        </a:moveTo>
                        <a:lnTo>
                          <a:pt x="0" y="3"/>
                        </a:lnTo>
                        <a:lnTo>
                          <a:pt x="1" y="11"/>
                        </a:lnTo>
                        <a:lnTo>
                          <a:pt x="3" y="21"/>
                        </a:lnTo>
                        <a:lnTo>
                          <a:pt x="8" y="33"/>
                        </a:lnTo>
                        <a:lnTo>
                          <a:pt x="15" y="46"/>
                        </a:lnTo>
                        <a:lnTo>
                          <a:pt x="25" y="58"/>
                        </a:lnTo>
                        <a:lnTo>
                          <a:pt x="38" y="68"/>
                        </a:lnTo>
                        <a:lnTo>
                          <a:pt x="55" y="75"/>
                        </a:lnTo>
                        <a:lnTo>
                          <a:pt x="537" y="79"/>
                        </a:lnTo>
                        <a:lnTo>
                          <a:pt x="540" y="78"/>
                        </a:lnTo>
                        <a:lnTo>
                          <a:pt x="547" y="76"/>
                        </a:lnTo>
                        <a:lnTo>
                          <a:pt x="559" y="72"/>
                        </a:lnTo>
                        <a:lnTo>
                          <a:pt x="571" y="66"/>
                        </a:lnTo>
                        <a:lnTo>
                          <a:pt x="584" y="57"/>
                        </a:lnTo>
                        <a:lnTo>
                          <a:pt x="594" y="46"/>
                        </a:lnTo>
                        <a:lnTo>
                          <a:pt x="601" y="31"/>
                        </a:lnTo>
                        <a:lnTo>
                          <a:pt x="603" y="14"/>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03" name=""/>
                  <p:cNvSpPr/>
                  <p:nvPr/>
                </p:nvSpPr>
                <p:spPr>
                  <a:xfrm>
                    <a:off x="5519880" y="3346560"/>
                    <a:ext cx="50760" cy="95040"/>
                  </a:xfrm>
                  <a:custGeom>
                    <a:avLst/>
                    <a:gdLst/>
                    <a:ahLst/>
                    <a:rect l="l" t="t" r="r" b="b"/>
                    <a:pathLst>
                      <a:path w="63" h="120">
                        <a:moveTo>
                          <a:pt x="0" y="120"/>
                        </a:moveTo>
                        <a:lnTo>
                          <a:pt x="61" y="68"/>
                        </a:lnTo>
                        <a:lnTo>
                          <a:pt x="62" y="61"/>
                        </a:lnTo>
                        <a:lnTo>
                          <a:pt x="63" y="43"/>
                        </a:lnTo>
                        <a:lnTo>
                          <a:pt x="62" y="21"/>
                        </a:lnTo>
                        <a:lnTo>
                          <a:pt x="58" y="0"/>
                        </a:lnTo>
                        <a:lnTo>
                          <a:pt x="2" y="13"/>
                        </a:lnTo>
                        <a:lnTo>
                          <a:pt x="0" y="12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6326280" y="3338640"/>
                    <a:ext cx="156960" cy="128520"/>
                  </a:xfrm>
                  <a:custGeom>
                    <a:avLst/>
                    <a:gdLst/>
                    <a:ahLst/>
                    <a:rect l="l" t="t" r="r" b="b"/>
                    <a:pathLst>
                      <a:path w="198" h="161">
                        <a:moveTo>
                          <a:pt x="162" y="161"/>
                        </a:moveTo>
                        <a:lnTo>
                          <a:pt x="155" y="161"/>
                        </a:lnTo>
                        <a:lnTo>
                          <a:pt x="137" y="159"/>
                        </a:lnTo>
                        <a:lnTo>
                          <a:pt x="110" y="153"/>
                        </a:lnTo>
                        <a:lnTo>
                          <a:pt x="82" y="143"/>
                        </a:lnTo>
                        <a:lnTo>
                          <a:pt x="52" y="123"/>
                        </a:lnTo>
                        <a:lnTo>
                          <a:pt x="25" y="94"/>
                        </a:lnTo>
                        <a:lnTo>
                          <a:pt x="7" y="54"/>
                        </a:lnTo>
                        <a:lnTo>
                          <a:pt x="0" y="0"/>
                        </a:lnTo>
                        <a:lnTo>
                          <a:pt x="148" y="1"/>
                        </a:lnTo>
                        <a:lnTo>
                          <a:pt x="198" y="29"/>
                        </a:lnTo>
                        <a:lnTo>
                          <a:pt x="162" y="16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5113440" y="2832120"/>
                    <a:ext cx="1703160" cy="557280"/>
                  </a:xfrm>
                  <a:custGeom>
                    <a:avLst/>
                    <a:gdLst/>
                    <a:ahLst/>
                    <a:rect l="l" t="t" r="r" b="b"/>
                    <a:pathLst>
                      <a:path w="2147" h="701">
                        <a:moveTo>
                          <a:pt x="1142" y="7"/>
                        </a:moveTo>
                        <a:lnTo>
                          <a:pt x="1143" y="7"/>
                        </a:lnTo>
                        <a:lnTo>
                          <a:pt x="1147" y="8"/>
                        </a:lnTo>
                        <a:lnTo>
                          <a:pt x="1152" y="12"/>
                        </a:lnTo>
                        <a:lnTo>
                          <a:pt x="1159" y="16"/>
                        </a:lnTo>
                        <a:lnTo>
                          <a:pt x="1166" y="25"/>
                        </a:lnTo>
                        <a:lnTo>
                          <a:pt x="1171" y="36"/>
                        </a:lnTo>
                        <a:lnTo>
                          <a:pt x="1175" y="52"/>
                        </a:lnTo>
                        <a:lnTo>
                          <a:pt x="1176" y="73"/>
                        </a:lnTo>
                        <a:lnTo>
                          <a:pt x="1176" y="143"/>
                        </a:lnTo>
                        <a:lnTo>
                          <a:pt x="1176" y="238"/>
                        </a:lnTo>
                        <a:lnTo>
                          <a:pt x="1176" y="321"/>
                        </a:lnTo>
                        <a:lnTo>
                          <a:pt x="1176" y="356"/>
                        </a:lnTo>
                        <a:lnTo>
                          <a:pt x="1209" y="405"/>
                        </a:lnTo>
                        <a:lnTo>
                          <a:pt x="1260" y="405"/>
                        </a:lnTo>
                        <a:lnTo>
                          <a:pt x="1969" y="405"/>
                        </a:lnTo>
                        <a:lnTo>
                          <a:pt x="1972" y="431"/>
                        </a:lnTo>
                        <a:lnTo>
                          <a:pt x="2128" y="486"/>
                        </a:lnTo>
                        <a:lnTo>
                          <a:pt x="2147" y="605"/>
                        </a:lnTo>
                        <a:lnTo>
                          <a:pt x="2047" y="609"/>
                        </a:lnTo>
                        <a:lnTo>
                          <a:pt x="2013" y="504"/>
                        </a:lnTo>
                        <a:lnTo>
                          <a:pt x="2010" y="503"/>
                        </a:lnTo>
                        <a:lnTo>
                          <a:pt x="2004" y="501"/>
                        </a:lnTo>
                        <a:lnTo>
                          <a:pt x="1996" y="496"/>
                        </a:lnTo>
                        <a:lnTo>
                          <a:pt x="1984" y="491"/>
                        </a:lnTo>
                        <a:lnTo>
                          <a:pt x="1970" y="488"/>
                        </a:lnTo>
                        <a:lnTo>
                          <a:pt x="1954" y="483"/>
                        </a:lnTo>
                        <a:lnTo>
                          <a:pt x="1935" y="481"/>
                        </a:lnTo>
                        <a:lnTo>
                          <a:pt x="1917" y="480"/>
                        </a:lnTo>
                        <a:lnTo>
                          <a:pt x="1895" y="480"/>
                        </a:lnTo>
                        <a:lnTo>
                          <a:pt x="1870" y="481"/>
                        </a:lnTo>
                        <a:lnTo>
                          <a:pt x="1842" y="483"/>
                        </a:lnTo>
                        <a:lnTo>
                          <a:pt x="1816" y="484"/>
                        </a:lnTo>
                        <a:lnTo>
                          <a:pt x="1790" y="486"/>
                        </a:lnTo>
                        <a:lnTo>
                          <a:pt x="1771" y="488"/>
                        </a:lnTo>
                        <a:lnTo>
                          <a:pt x="1757" y="489"/>
                        </a:lnTo>
                        <a:lnTo>
                          <a:pt x="1752" y="489"/>
                        </a:lnTo>
                        <a:lnTo>
                          <a:pt x="1700" y="641"/>
                        </a:lnTo>
                        <a:lnTo>
                          <a:pt x="1691" y="655"/>
                        </a:lnTo>
                        <a:lnTo>
                          <a:pt x="1668" y="648"/>
                        </a:lnTo>
                        <a:lnTo>
                          <a:pt x="1536" y="648"/>
                        </a:lnTo>
                        <a:lnTo>
                          <a:pt x="1535" y="670"/>
                        </a:lnTo>
                        <a:lnTo>
                          <a:pt x="1536" y="701"/>
                        </a:lnTo>
                        <a:lnTo>
                          <a:pt x="1264" y="700"/>
                        </a:lnTo>
                        <a:lnTo>
                          <a:pt x="1264" y="673"/>
                        </a:lnTo>
                        <a:lnTo>
                          <a:pt x="1138" y="673"/>
                        </a:lnTo>
                        <a:lnTo>
                          <a:pt x="507" y="673"/>
                        </a:lnTo>
                        <a:lnTo>
                          <a:pt x="510" y="596"/>
                        </a:lnTo>
                        <a:lnTo>
                          <a:pt x="510" y="589"/>
                        </a:lnTo>
                        <a:lnTo>
                          <a:pt x="509" y="572"/>
                        </a:lnTo>
                        <a:lnTo>
                          <a:pt x="506" y="548"/>
                        </a:lnTo>
                        <a:lnTo>
                          <a:pt x="496" y="519"/>
                        </a:lnTo>
                        <a:lnTo>
                          <a:pt x="478" y="490"/>
                        </a:lnTo>
                        <a:lnTo>
                          <a:pt x="451" y="464"/>
                        </a:lnTo>
                        <a:lnTo>
                          <a:pt x="410" y="444"/>
                        </a:lnTo>
                        <a:lnTo>
                          <a:pt x="355" y="434"/>
                        </a:lnTo>
                        <a:lnTo>
                          <a:pt x="354" y="434"/>
                        </a:lnTo>
                        <a:lnTo>
                          <a:pt x="349" y="434"/>
                        </a:lnTo>
                        <a:lnTo>
                          <a:pt x="343" y="433"/>
                        </a:lnTo>
                        <a:lnTo>
                          <a:pt x="335" y="433"/>
                        </a:lnTo>
                        <a:lnTo>
                          <a:pt x="325" y="434"/>
                        </a:lnTo>
                        <a:lnTo>
                          <a:pt x="312" y="435"/>
                        </a:lnTo>
                        <a:lnTo>
                          <a:pt x="300" y="436"/>
                        </a:lnTo>
                        <a:lnTo>
                          <a:pt x="285" y="438"/>
                        </a:lnTo>
                        <a:lnTo>
                          <a:pt x="269" y="442"/>
                        </a:lnTo>
                        <a:lnTo>
                          <a:pt x="252" y="446"/>
                        </a:lnTo>
                        <a:lnTo>
                          <a:pt x="235" y="453"/>
                        </a:lnTo>
                        <a:lnTo>
                          <a:pt x="217" y="460"/>
                        </a:lnTo>
                        <a:lnTo>
                          <a:pt x="199" y="469"/>
                        </a:lnTo>
                        <a:lnTo>
                          <a:pt x="181" y="481"/>
                        </a:lnTo>
                        <a:lnTo>
                          <a:pt x="164" y="495"/>
                        </a:lnTo>
                        <a:lnTo>
                          <a:pt x="147" y="510"/>
                        </a:lnTo>
                        <a:lnTo>
                          <a:pt x="151" y="514"/>
                        </a:lnTo>
                        <a:lnTo>
                          <a:pt x="160" y="526"/>
                        </a:lnTo>
                        <a:lnTo>
                          <a:pt x="168" y="547"/>
                        </a:lnTo>
                        <a:lnTo>
                          <a:pt x="167" y="577"/>
                        </a:lnTo>
                        <a:lnTo>
                          <a:pt x="164" y="593"/>
                        </a:lnTo>
                        <a:lnTo>
                          <a:pt x="159" y="605"/>
                        </a:lnTo>
                        <a:lnTo>
                          <a:pt x="155" y="617"/>
                        </a:lnTo>
                        <a:lnTo>
                          <a:pt x="149" y="626"/>
                        </a:lnTo>
                        <a:lnTo>
                          <a:pt x="142" y="634"/>
                        </a:lnTo>
                        <a:lnTo>
                          <a:pt x="134" y="640"/>
                        </a:lnTo>
                        <a:lnTo>
                          <a:pt x="125" y="645"/>
                        </a:lnTo>
                        <a:lnTo>
                          <a:pt x="112" y="648"/>
                        </a:lnTo>
                        <a:lnTo>
                          <a:pt x="98" y="650"/>
                        </a:lnTo>
                        <a:lnTo>
                          <a:pt x="83" y="653"/>
                        </a:lnTo>
                        <a:lnTo>
                          <a:pt x="68" y="653"/>
                        </a:lnTo>
                        <a:lnTo>
                          <a:pt x="53" y="652"/>
                        </a:lnTo>
                        <a:lnTo>
                          <a:pt x="39" y="647"/>
                        </a:lnTo>
                        <a:lnTo>
                          <a:pt x="27" y="640"/>
                        </a:lnTo>
                        <a:lnTo>
                          <a:pt x="16" y="628"/>
                        </a:lnTo>
                        <a:lnTo>
                          <a:pt x="8" y="612"/>
                        </a:lnTo>
                        <a:lnTo>
                          <a:pt x="5" y="601"/>
                        </a:lnTo>
                        <a:lnTo>
                          <a:pt x="3" y="588"/>
                        </a:lnTo>
                        <a:lnTo>
                          <a:pt x="0" y="574"/>
                        </a:lnTo>
                        <a:lnTo>
                          <a:pt x="0" y="562"/>
                        </a:lnTo>
                        <a:lnTo>
                          <a:pt x="0" y="547"/>
                        </a:lnTo>
                        <a:lnTo>
                          <a:pt x="3" y="533"/>
                        </a:lnTo>
                        <a:lnTo>
                          <a:pt x="6" y="520"/>
                        </a:lnTo>
                        <a:lnTo>
                          <a:pt x="12" y="507"/>
                        </a:lnTo>
                        <a:lnTo>
                          <a:pt x="19" y="498"/>
                        </a:lnTo>
                        <a:lnTo>
                          <a:pt x="29" y="489"/>
                        </a:lnTo>
                        <a:lnTo>
                          <a:pt x="41" y="483"/>
                        </a:lnTo>
                        <a:lnTo>
                          <a:pt x="54" y="481"/>
                        </a:lnTo>
                        <a:lnTo>
                          <a:pt x="53" y="324"/>
                        </a:lnTo>
                        <a:lnTo>
                          <a:pt x="54" y="323"/>
                        </a:lnTo>
                        <a:lnTo>
                          <a:pt x="58" y="318"/>
                        </a:lnTo>
                        <a:lnTo>
                          <a:pt x="64" y="313"/>
                        </a:lnTo>
                        <a:lnTo>
                          <a:pt x="73" y="305"/>
                        </a:lnTo>
                        <a:lnTo>
                          <a:pt x="85" y="297"/>
                        </a:lnTo>
                        <a:lnTo>
                          <a:pt x="102" y="288"/>
                        </a:lnTo>
                        <a:lnTo>
                          <a:pt x="121" y="282"/>
                        </a:lnTo>
                        <a:lnTo>
                          <a:pt x="144" y="276"/>
                        </a:lnTo>
                        <a:lnTo>
                          <a:pt x="170" y="271"/>
                        </a:lnTo>
                        <a:lnTo>
                          <a:pt x="193" y="267"/>
                        </a:lnTo>
                        <a:lnTo>
                          <a:pt x="216" y="264"/>
                        </a:lnTo>
                        <a:lnTo>
                          <a:pt x="239" y="261"/>
                        </a:lnTo>
                        <a:lnTo>
                          <a:pt x="259" y="260"/>
                        </a:lnTo>
                        <a:lnTo>
                          <a:pt x="281" y="258"/>
                        </a:lnTo>
                        <a:lnTo>
                          <a:pt x="302" y="258"/>
                        </a:lnTo>
                        <a:lnTo>
                          <a:pt x="323" y="260"/>
                        </a:lnTo>
                        <a:lnTo>
                          <a:pt x="334" y="260"/>
                        </a:lnTo>
                        <a:lnTo>
                          <a:pt x="348" y="260"/>
                        </a:lnTo>
                        <a:lnTo>
                          <a:pt x="363" y="260"/>
                        </a:lnTo>
                        <a:lnTo>
                          <a:pt x="380" y="260"/>
                        </a:lnTo>
                        <a:lnTo>
                          <a:pt x="399" y="260"/>
                        </a:lnTo>
                        <a:lnTo>
                          <a:pt x="417" y="260"/>
                        </a:lnTo>
                        <a:lnTo>
                          <a:pt x="436" y="260"/>
                        </a:lnTo>
                        <a:lnTo>
                          <a:pt x="455" y="258"/>
                        </a:lnTo>
                        <a:lnTo>
                          <a:pt x="472" y="258"/>
                        </a:lnTo>
                        <a:lnTo>
                          <a:pt x="490" y="257"/>
                        </a:lnTo>
                        <a:lnTo>
                          <a:pt x="505" y="257"/>
                        </a:lnTo>
                        <a:lnTo>
                          <a:pt x="519" y="257"/>
                        </a:lnTo>
                        <a:lnTo>
                          <a:pt x="530" y="256"/>
                        </a:lnTo>
                        <a:lnTo>
                          <a:pt x="539" y="256"/>
                        </a:lnTo>
                        <a:lnTo>
                          <a:pt x="544" y="256"/>
                        </a:lnTo>
                        <a:lnTo>
                          <a:pt x="546" y="256"/>
                        </a:lnTo>
                        <a:lnTo>
                          <a:pt x="779" y="57"/>
                        </a:lnTo>
                        <a:lnTo>
                          <a:pt x="782" y="54"/>
                        </a:lnTo>
                        <a:lnTo>
                          <a:pt x="793" y="48"/>
                        </a:lnTo>
                        <a:lnTo>
                          <a:pt x="810" y="38"/>
                        </a:lnTo>
                        <a:lnTo>
                          <a:pt x="831" y="28"/>
                        </a:lnTo>
                        <a:lnTo>
                          <a:pt x="856" y="18"/>
                        </a:lnTo>
                        <a:lnTo>
                          <a:pt x="884" y="8"/>
                        </a:lnTo>
                        <a:lnTo>
                          <a:pt x="913" y="3"/>
                        </a:lnTo>
                        <a:lnTo>
                          <a:pt x="942" y="0"/>
                        </a:lnTo>
                        <a:lnTo>
                          <a:pt x="945" y="0"/>
                        </a:lnTo>
                        <a:lnTo>
                          <a:pt x="947" y="0"/>
                        </a:lnTo>
                        <a:lnTo>
                          <a:pt x="948" y="1"/>
                        </a:lnTo>
                        <a:lnTo>
                          <a:pt x="951" y="1"/>
                        </a:lnTo>
                        <a:lnTo>
                          <a:pt x="1142" y="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004080" y="2838600"/>
                    <a:ext cx="42840" cy="230040"/>
                  </a:xfrm>
                  <a:custGeom>
                    <a:avLst/>
                    <a:gdLst/>
                    <a:ahLst/>
                    <a:rect l="l" t="t" r="r" b="b"/>
                    <a:pathLst>
                      <a:path w="54" h="291">
                        <a:moveTo>
                          <a:pt x="0" y="0"/>
                        </a:moveTo>
                        <a:lnTo>
                          <a:pt x="5" y="5"/>
                        </a:lnTo>
                        <a:lnTo>
                          <a:pt x="16" y="19"/>
                        </a:lnTo>
                        <a:lnTo>
                          <a:pt x="27" y="41"/>
                        </a:lnTo>
                        <a:lnTo>
                          <a:pt x="31" y="68"/>
                        </a:lnTo>
                        <a:lnTo>
                          <a:pt x="31" y="118"/>
                        </a:lnTo>
                        <a:lnTo>
                          <a:pt x="31" y="186"/>
                        </a:lnTo>
                        <a:lnTo>
                          <a:pt x="31" y="247"/>
                        </a:lnTo>
                        <a:lnTo>
                          <a:pt x="31" y="272"/>
                        </a:lnTo>
                        <a:lnTo>
                          <a:pt x="54" y="291"/>
                        </a:lnTo>
                        <a:lnTo>
                          <a:pt x="54" y="66"/>
                        </a:lnTo>
                        <a:lnTo>
                          <a:pt x="54" y="57"/>
                        </a:lnTo>
                        <a:lnTo>
                          <a:pt x="53" y="35"/>
                        </a:lnTo>
                        <a:lnTo>
                          <a:pt x="45" y="15"/>
                        </a:lnTo>
                        <a:lnTo>
                          <a:pt x="28" y="7"/>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5510160" y="3152880"/>
                    <a:ext cx="604800" cy="214200"/>
                  </a:xfrm>
                  <a:custGeom>
                    <a:avLst/>
                    <a:gdLst/>
                    <a:ahLst/>
                    <a:rect l="l" t="t" r="r" b="b"/>
                    <a:pathLst>
                      <a:path w="764" h="268">
                        <a:moveTo>
                          <a:pt x="0" y="127"/>
                        </a:moveTo>
                        <a:lnTo>
                          <a:pt x="689" y="127"/>
                        </a:lnTo>
                        <a:lnTo>
                          <a:pt x="689" y="0"/>
                        </a:lnTo>
                        <a:lnTo>
                          <a:pt x="764" y="204"/>
                        </a:lnTo>
                        <a:lnTo>
                          <a:pt x="760" y="268"/>
                        </a:lnTo>
                        <a:lnTo>
                          <a:pt x="16" y="268"/>
                        </a:lnTo>
                        <a:lnTo>
                          <a:pt x="17" y="251"/>
                        </a:lnTo>
                        <a:lnTo>
                          <a:pt x="19" y="210"/>
                        </a:lnTo>
                        <a:lnTo>
                          <a:pt x="14" y="162"/>
                        </a:lnTo>
                        <a:lnTo>
                          <a:pt x="0" y="12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5116680" y="3133800"/>
                    <a:ext cx="233280" cy="216000"/>
                  </a:xfrm>
                  <a:custGeom>
                    <a:avLst/>
                    <a:gdLst/>
                    <a:ahLst/>
                    <a:rect l="l" t="t" r="r" b="b"/>
                    <a:pathLst>
                      <a:path w="295" h="273">
                        <a:moveTo>
                          <a:pt x="84" y="129"/>
                        </a:moveTo>
                        <a:lnTo>
                          <a:pt x="86" y="131"/>
                        </a:lnTo>
                        <a:lnTo>
                          <a:pt x="91" y="138"/>
                        </a:lnTo>
                        <a:lnTo>
                          <a:pt x="98" y="149"/>
                        </a:lnTo>
                        <a:lnTo>
                          <a:pt x="105" y="162"/>
                        </a:lnTo>
                        <a:lnTo>
                          <a:pt x="109" y="177"/>
                        </a:lnTo>
                        <a:lnTo>
                          <a:pt x="113" y="193"/>
                        </a:lnTo>
                        <a:lnTo>
                          <a:pt x="113" y="209"/>
                        </a:lnTo>
                        <a:lnTo>
                          <a:pt x="107" y="223"/>
                        </a:lnTo>
                        <a:lnTo>
                          <a:pt x="95" y="233"/>
                        </a:lnTo>
                        <a:lnTo>
                          <a:pt x="80" y="237"/>
                        </a:lnTo>
                        <a:lnTo>
                          <a:pt x="63" y="237"/>
                        </a:lnTo>
                        <a:lnTo>
                          <a:pt x="45" y="233"/>
                        </a:lnTo>
                        <a:lnTo>
                          <a:pt x="27" y="228"/>
                        </a:lnTo>
                        <a:lnTo>
                          <a:pt x="14" y="222"/>
                        </a:lnTo>
                        <a:lnTo>
                          <a:pt x="3" y="219"/>
                        </a:lnTo>
                        <a:lnTo>
                          <a:pt x="0" y="216"/>
                        </a:lnTo>
                        <a:lnTo>
                          <a:pt x="1" y="219"/>
                        </a:lnTo>
                        <a:lnTo>
                          <a:pt x="3" y="224"/>
                        </a:lnTo>
                        <a:lnTo>
                          <a:pt x="7" y="232"/>
                        </a:lnTo>
                        <a:lnTo>
                          <a:pt x="12" y="243"/>
                        </a:lnTo>
                        <a:lnTo>
                          <a:pt x="19" y="252"/>
                        </a:lnTo>
                        <a:lnTo>
                          <a:pt x="29" y="261"/>
                        </a:lnTo>
                        <a:lnTo>
                          <a:pt x="39" y="268"/>
                        </a:lnTo>
                        <a:lnTo>
                          <a:pt x="52" y="272"/>
                        </a:lnTo>
                        <a:lnTo>
                          <a:pt x="67" y="273"/>
                        </a:lnTo>
                        <a:lnTo>
                          <a:pt x="84" y="273"/>
                        </a:lnTo>
                        <a:lnTo>
                          <a:pt x="101" y="270"/>
                        </a:lnTo>
                        <a:lnTo>
                          <a:pt x="120" y="266"/>
                        </a:lnTo>
                        <a:lnTo>
                          <a:pt x="135" y="257"/>
                        </a:lnTo>
                        <a:lnTo>
                          <a:pt x="148" y="243"/>
                        </a:lnTo>
                        <a:lnTo>
                          <a:pt x="158" y="223"/>
                        </a:lnTo>
                        <a:lnTo>
                          <a:pt x="162" y="197"/>
                        </a:lnTo>
                        <a:lnTo>
                          <a:pt x="162" y="187"/>
                        </a:lnTo>
                        <a:lnTo>
                          <a:pt x="161" y="167"/>
                        </a:lnTo>
                        <a:lnTo>
                          <a:pt x="155" y="144"/>
                        </a:lnTo>
                        <a:lnTo>
                          <a:pt x="142" y="130"/>
                        </a:lnTo>
                        <a:lnTo>
                          <a:pt x="145" y="126"/>
                        </a:lnTo>
                        <a:lnTo>
                          <a:pt x="155" y="118"/>
                        </a:lnTo>
                        <a:lnTo>
                          <a:pt x="171" y="108"/>
                        </a:lnTo>
                        <a:lnTo>
                          <a:pt x="191" y="94"/>
                        </a:lnTo>
                        <a:lnTo>
                          <a:pt x="215" y="80"/>
                        </a:lnTo>
                        <a:lnTo>
                          <a:pt x="241" y="68"/>
                        </a:lnTo>
                        <a:lnTo>
                          <a:pt x="267" y="57"/>
                        </a:lnTo>
                        <a:lnTo>
                          <a:pt x="295" y="51"/>
                        </a:lnTo>
                        <a:lnTo>
                          <a:pt x="290" y="53"/>
                        </a:lnTo>
                        <a:lnTo>
                          <a:pt x="276" y="54"/>
                        </a:lnTo>
                        <a:lnTo>
                          <a:pt x="258" y="56"/>
                        </a:lnTo>
                        <a:lnTo>
                          <a:pt x="235" y="57"/>
                        </a:lnTo>
                        <a:lnTo>
                          <a:pt x="211" y="58"/>
                        </a:lnTo>
                        <a:lnTo>
                          <a:pt x="189" y="58"/>
                        </a:lnTo>
                        <a:lnTo>
                          <a:pt x="169" y="56"/>
                        </a:lnTo>
                        <a:lnTo>
                          <a:pt x="155" y="51"/>
                        </a:lnTo>
                        <a:lnTo>
                          <a:pt x="139" y="36"/>
                        </a:lnTo>
                        <a:lnTo>
                          <a:pt x="130" y="19"/>
                        </a:lnTo>
                        <a:lnTo>
                          <a:pt x="124" y="5"/>
                        </a:lnTo>
                        <a:lnTo>
                          <a:pt x="123" y="0"/>
                        </a:lnTo>
                        <a:lnTo>
                          <a:pt x="122" y="11"/>
                        </a:lnTo>
                        <a:lnTo>
                          <a:pt x="121" y="39"/>
                        </a:lnTo>
                        <a:lnTo>
                          <a:pt x="118" y="69"/>
                        </a:lnTo>
                        <a:lnTo>
                          <a:pt x="116" y="89"/>
                        </a:lnTo>
                        <a:lnTo>
                          <a:pt x="110" y="102"/>
                        </a:lnTo>
                        <a:lnTo>
                          <a:pt x="99" y="115"/>
                        </a:lnTo>
                        <a:lnTo>
                          <a:pt x="89" y="125"/>
                        </a:lnTo>
                        <a:lnTo>
                          <a:pt x="84" y="12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5672160" y="2865600"/>
                    <a:ext cx="304920" cy="201600"/>
                  </a:xfrm>
                  <a:custGeom>
                    <a:avLst/>
                    <a:gdLst/>
                    <a:ahLst/>
                    <a:rect l="l" t="t" r="r" b="b"/>
                    <a:pathLst>
                      <a:path w="385" h="253">
                        <a:moveTo>
                          <a:pt x="0" y="243"/>
                        </a:moveTo>
                        <a:lnTo>
                          <a:pt x="308" y="250"/>
                        </a:lnTo>
                        <a:lnTo>
                          <a:pt x="310" y="251"/>
                        </a:lnTo>
                        <a:lnTo>
                          <a:pt x="317" y="252"/>
                        </a:lnTo>
                        <a:lnTo>
                          <a:pt x="327" y="253"/>
                        </a:lnTo>
                        <a:lnTo>
                          <a:pt x="338" y="253"/>
                        </a:lnTo>
                        <a:lnTo>
                          <a:pt x="350" y="250"/>
                        </a:lnTo>
                        <a:lnTo>
                          <a:pt x="361" y="243"/>
                        </a:lnTo>
                        <a:lnTo>
                          <a:pt x="369" y="229"/>
                        </a:lnTo>
                        <a:lnTo>
                          <a:pt x="374" y="210"/>
                        </a:lnTo>
                        <a:lnTo>
                          <a:pt x="378" y="183"/>
                        </a:lnTo>
                        <a:lnTo>
                          <a:pt x="381" y="152"/>
                        </a:lnTo>
                        <a:lnTo>
                          <a:pt x="384" y="119"/>
                        </a:lnTo>
                        <a:lnTo>
                          <a:pt x="385" y="84"/>
                        </a:lnTo>
                        <a:lnTo>
                          <a:pt x="385" y="54"/>
                        </a:lnTo>
                        <a:lnTo>
                          <a:pt x="381" y="27"/>
                        </a:lnTo>
                        <a:lnTo>
                          <a:pt x="374" y="9"/>
                        </a:lnTo>
                        <a:lnTo>
                          <a:pt x="363" y="1"/>
                        </a:lnTo>
                        <a:lnTo>
                          <a:pt x="355" y="0"/>
                        </a:lnTo>
                        <a:lnTo>
                          <a:pt x="344" y="0"/>
                        </a:lnTo>
                        <a:lnTo>
                          <a:pt x="332" y="0"/>
                        </a:lnTo>
                        <a:lnTo>
                          <a:pt x="318" y="0"/>
                        </a:lnTo>
                        <a:lnTo>
                          <a:pt x="303" y="0"/>
                        </a:lnTo>
                        <a:lnTo>
                          <a:pt x="288" y="1"/>
                        </a:lnTo>
                        <a:lnTo>
                          <a:pt x="272" y="1"/>
                        </a:lnTo>
                        <a:lnTo>
                          <a:pt x="256" y="2"/>
                        </a:lnTo>
                        <a:lnTo>
                          <a:pt x="240" y="3"/>
                        </a:lnTo>
                        <a:lnTo>
                          <a:pt x="225" y="4"/>
                        </a:lnTo>
                        <a:lnTo>
                          <a:pt x="212" y="6"/>
                        </a:lnTo>
                        <a:lnTo>
                          <a:pt x="199" y="6"/>
                        </a:lnTo>
                        <a:lnTo>
                          <a:pt x="189" y="7"/>
                        </a:lnTo>
                        <a:lnTo>
                          <a:pt x="182" y="8"/>
                        </a:lnTo>
                        <a:lnTo>
                          <a:pt x="176" y="8"/>
                        </a:lnTo>
                        <a:lnTo>
                          <a:pt x="175" y="8"/>
                        </a:lnTo>
                        <a:lnTo>
                          <a:pt x="173" y="9"/>
                        </a:lnTo>
                        <a:lnTo>
                          <a:pt x="166" y="10"/>
                        </a:lnTo>
                        <a:lnTo>
                          <a:pt x="156" y="12"/>
                        </a:lnTo>
                        <a:lnTo>
                          <a:pt x="144" y="17"/>
                        </a:lnTo>
                        <a:lnTo>
                          <a:pt x="131" y="22"/>
                        </a:lnTo>
                        <a:lnTo>
                          <a:pt x="119" y="26"/>
                        </a:lnTo>
                        <a:lnTo>
                          <a:pt x="107" y="33"/>
                        </a:lnTo>
                        <a:lnTo>
                          <a:pt x="98" y="40"/>
                        </a:lnTo>
                        <a:lnTo>
                          <a:pt x="89" y="49"/>
                        </a:lnTo>
                        <a:lnTo>
                          <a:pt x="75" y="61"/>
                        </a:lnTo>
                        <a:lnTo>
                          <a:pt x="61" y="75"/>
                        </a:lnTo>
                        <a:lnTo>
                          <a:pt x="45" y="87"/>
                        </a:lnTo>
                        <a:lnTo>
                          <a:pt x="31" y="100"/>
                        </a:lnTo>
                        <a:lnTo>
                          <a:pt x="18" y="110"/>
                        </a:lnTo>
                        <a:lnTo>
                          <a:pt x="10" y="119"/>
                        </a:lnTo>
                        <a:lnTo>
                          <a:pt x="7" y="121"/>
                        </a:lnTo>
                        <a:lnTo>
                          <a:pt x="9" y="135"/>
                        </a:lnTo>
                        <a:lnTo>
                          <a:pt x="13" y="167"/>
                        </a:lnTo>
                        <a:lnTo>
                          <a:pt x="10" y="207"/>
                        </a:lnTo>
                        <a:lnTo>
                          <a:pt x="0" y="24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597640" y="2957400"/>
                    <a:ext cx="82440" cy="111240"/>
                  </a:xfrm>
                  <a:custGeom>
                    <a:avLst/>
                    <a:gdLst/>
                    <a:ahLst/>
                    <a:rect l="l" t="t" r="r" b="b"/>
                    <a:pathLst>
                      <a:path w="104" h="142">
                        <a:moveTo>
                          <a:pt x="99" y="6"/>
                        </a:moveTo>
                        <a:lnTo>
                          <a:pt x="100" y="10"/>
                        </a:lnTo>
                        <a:lnTo>
                          <a:pt x="101" y="22"/>
                        </a:lnTo>
                        <a:lnTo>
                          <a:pt x="102" y="39"/>
                        </a:lnTo>
                        <a:lnTo>
                          <a:pt x="104" y="60"/>
                        </a:lnTo>
                        <a:lnTo>
                          <a:pt x="101" y="81"/>
                        </a:lnTo>
                        <a:lnTo>
                          <a:pt x="98" y="100"/>
                        </a:lnTo>
                        <a:lnTo>
                          <a:pt x="91" y="115"/>
                        </a:lnTo>
                        <a:lnTo>
                          <a:pt x="79" y="125"/>
                        </a:lnTo>
                        <a:lnTo>
                          <a:pt x="15" y="142"/>
                        </a:lnTo>
                        <a:lnTo>
                          <a:pt x="10" y="136"/>
                        </a:lnTo>
                        <a:lnTo>
                          <a:pt x="3" y="121"/>
                        </a:lnTo>
                        <a:lnTo>
                          <a:pt x="0" y="106"/>
                        </a:lnTo>
                        <a:lnTo>
                          <a:pt x="9" y="95"/>
                        </a:lnTo>
                        <a:lnTo>
                          <a:pt x="16" y="89"/>
                        </a:lnTo>
                        <a:lnTo>
                          <a:pt x="22" y="80"/>
                        </a:lnTo>
                        <a:lnTo>
                          <a:pt x="26" y="67"/>
                        </a:lnTo>
                        <a:lnTo>
                          <a:pt x="30" y="52"/>
                        </a:lnTo>
                        <a:lnTo>
                          <a:pt x="34" y="38"/>
                        </a:lnTo>
                        <a:lnTo>
                          <a:pt x="39" y="24"/>
                        </a:lnTo>
                        <a:lnTo>
                          <a:pt x="46" y="13"/>
                        </a:lnTo>
                        <a:lnTo>
                          <a:pt x="54" y="6"/>
                        </a:lnTo>
                        <a:lnTo>
                          <a:pt x="63" y="2"/>
                        </a:lnTo>
                        <a:lnTo>
                          <a:pt x="71" y="0"/>
                        </a:lnTo>
                        <a:lnTo>
                          <a:pt x="79" y="0"/>
                        </a:lnTo>
                        <a:lnTo>
                          <a:pt x="86" y="1"/>
                        </a:lnTo>
                        <a:lnTo>
                          <a:pt x="91" y="2"/>
                        </a:lnTo>
                        <a:lnTo>
                          <a:pt x="95" y="4"/>
                        </a:lnTo>
                        <a:lnTo>
                          <a:pt x="98" y="6"/>
                        </a:lnTo>
                        <a:lnTo>
                          <a:pt x="99" y="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5602320" y="2989440"/>
                    <a:ext cx="71280" cy="71280"/>
                  </a:xfrm>
                  <a:custGeom>
                    <a:avLst/>
                    <a:gdLst/>
                    <a:ahLst/>
                    <a:rect l="l" t="t" r="r" b="b"/>
                    <a:pathLst>
                      <a:path w="89" h="89">
                        <a:moveTo>
                          <a:pt x="70" y="0"/>
                        </a:moveTo>
                        <a:lnTo>
                          <a:pt x="72" y="5"/>
                        </a:lnTo>
                        <a:lnTo>
                          <a:pt x="74" y="19"/>
                        </a:lnTo>
                        <a:lnTo>
                          <a:pt x="73" y="36"/>
                        </a:lnTo>
                        <a:lnTo>
                          <a:pt x="61" y="50"/>
                        </a:lnTo>
                        <a:lnTo>
                          <a:pt x="50" y="56"/>
                        </a:lnTo>
                        <a:lnTo>
                          <a:pt x="40" y="59"/>
                        </a:lnTo>
                        <a:lnTo>
                          <a:pt x="30" y="63"/>
                        </a:lnTo>
                        <a:lnTo>
                          <a:pt x="20" y="65"/>
                        </a:lnTo>
                        <a:lnTo>
                          <a:pt x="12" y="66"/>
                        </a:lnTo>
                        <a:lnTo>
                          <a:pt x="5" y="68"/>
                        </a:lnTo>
                        <a:lnTo>
                          <a:pt x="1" y="68"/>
                        </a:lnTo>
                        <a:lnTo>
                          <a:pt x="0" y="68"/>
                        </a:lnTo>
                        <a:lnTo>
                          <a:pt x="16" y="89"/>
                        </a:lnTo>
                        <a:lnTo>
                          <a:pt x="19" y="89"/>
                        </a:lnTo>
                        <a:lnTo>
                          <a:pt x="27" y="87"/>
                        </a:lnTo>
                        <a:lnTo>
                          <a:pt x="38" y="85"/>
                        </a:lnTo>
                        <a:lnTo>
                          <a:pt x="51" y="80"/>
                        </a:lnTo>
                        <a:lnTo>
                          <a:pt x="64" y="74"/>
                        </a:lnTo>
                        <a:lnTo>
                          <a:pt x="77" y="66"/>
                        </a:lnTo>
                        <a:lnTo>
                          <a:pt x="85" y="57"/>
                        </a:lnTo>
                        <a:lnTo>
                          <a:pt x="89" y="45"/>
                        </a:lnTo>
                        <a:lnTo>
                          <a:pt x="88" y="23"/>
                        </a:lnTo>
                        <a:lnTo>
                          <a:pt x="81" y="9"/>
                        </a:lnTo>
                        <a:lnTo>
                          <a:pt x="73" y="2"/>
                        </a:lnTo>
                        <a:lnTo>
                          <a:pt x="7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2" name=""/>
                  <p:cNvSpPr/>
                  <p:nvPr/>
                </p:nvSpPr>
                <p:spPr>
                  <a:xfrm>
                    <a:off x="6434280" y="3276720"/>
                    <a:ext cx="291960" cy="296640"/>
                  </a:xfrm>
                  <a:custGeom>
                    <a:avLst/>
                    <a:gdLst/>
                    <a:ahLst/>
                    <a:rect l="l" t="t" r="r" b="b"/>
                    <a:pathLst>
                      <a:path w="367" h="374">
                        <a:moveTo>
                          <a:pt x="367" y="187"/>
                        </a:moveTo>
                        <a:lnTo>
                          <a:pt x="366" y="207"/>
                        </a:lnTo>
                        <a:lnTo>
                          <a:pt x="364" y="225"/>
                        </a:lnTo>
                        <a:lnTo>
                          <a:pt x="359" y="243"/>
                        </a:lnTo>
                        <a:lnTo>
                          <a:pt x="352" y="260"/>
                        </a:lnTo>
                        <a:lnTo>
                          <a:pt x="345" y="276"/>
                        </a:lnTo>
                        <a:lnTo>
                          <a:pt x="336" y="292"/>
                        </a:lnTo>
                        <a:lnTo>
                          <a:pt x="325" y="306"/>
                        </a:lnTo>
                        <a:lnTo>
                          <a:pt x="313" y="320"/>
                        </a:lnTo>
                        <a:lnTo>
                          <a:pt x="300" y="331"/>
                        </a:lnTo>
                        <a:lnTo>
                          <a:pt x="285" y="342"/>
                        </a:lnTo>
                        <a:lnTo>
                          <a:pt x="270" y="352"/>
                        </a:lnTo>
                        <a:lnTo>
                          <a:pt x="254" y="359"/>
                        </a:lnTo>
                        <a:lnTo>
                          <a:pt x="237" y="366"/>
                        </a:lnTo>
                        <a:lnTo>
                          <a:pt x="220" y="370"/>
                        </a:lnTo>
                        <a:lnTo>
                          <a:pt x="201" y="373"/>
                        </a:lnTo>
                        <a:lnTo>
                          <a:pt x="183" y="374"/>
                        </a:lnTo>
                        <a:lnTo>
                          <a:pt x="183" y="374"/>
                        </a:lnTo>
                        <a:lnTo>
                          <a:pt x="182" y="374"/>
                        </a:lnTo>
                        <a:lnTo>
                          <a:pt x="182" y="374"/>
                        </a:lnTo>
                        <a:lnTo>
                          <a:pt x="181" y="374"/>
                        </a:lnTo>
                        <a:lnTo>
                          <a:pt x="144" y="369"/>
                        </a:lnTo>
                        <a:lnTo>
                          <a:pt x="110" y="359"/>
                        </a:lnTo>
                        <a:lnTo>
                          <a:pt x="79" y="342"/>
                        </a:lnTo>
                        <a:lnTo>
                          <a:pt x="53" y="319"/>
                        </a:lnTo>
                        <a:lnTo>
                          <a:pt x="31" y="291"/>
                        </a:lnTo>
                        <a:lnTo>
                          <a:pt x="14" y="260"/>
                        </a:lnTo>
                        <a:lnTo>
                          <a:pt x="3" y="224"/>
                        </a:lnTo>
                        <a:lnTo>
                          <a:pt x="0" y="187"/>
                        </a:lnTo>
                        <a:lnTo>
                          <a:pt x="3" y="149"/>
                        </a:lnTo>
                        <a:lnTo>
                          <a:pt x="14" y="115"/>
                        </a:lnTo>
                        <a:lnTo>
                          <a:pt x="31" y="82"/>
                        </a:lnTo>
                        <a:lnTo>
                          <a:pt x="54" y="55"/>
                        </a:lnTo>
                        <a:lnTo>
                          <a:pt x="80" y="33"/>
                        </a:lnTo>
                        <a:lnTo>
                          <a:pt x="111" y="15"/>
                        </a:lnTo>
                        <a:lnTo>
                          <a:pt x="146" y="4"/>
                        </a:lnTo>
                        <a:lnTo>
                          <a:pt x="183" y="0"/>
                        </a:lnTo>
                        <a:lnTo>
                          <a:pt x="201" y="2"/>
                        </a:lnTo>
                        <a:lnTo>
                          <a:pt x="220" y="4"/>
                        </a:lnTo>
                        <a:lnTo>
                          <a:pt x="237" y="9"/>
                        </a:lnTo>
                        <a:lnTo>
                          <a:pt x="254" y="15"/>
                        </a:lnTo>
                        <a:lnTo>
                          <a:pt x="270" y="22"/>
                        </a:lnTo>
                        <a:lnTo>
                          <a:pt x="285" y="33"/>
                        </a:lnTo>
                        <a:lnTo>
                          <a:pt x="300" y="43"/>
                        </a:lnTo>
                        <a:lnTo>
                          <a:pt x="313" y="55"/>
                        </a:lnTo>
                        <a:lnTo>
                          <a:pt x="325" y="68"/>
                        </a:lnTo>
                        <a:lnTo>
                          <a:pt x="336" y="82"/>
                        </a:lnTo>
                        <a:lnTo>
                          <a:pt x="345" y="98"/>
                        </a:lnTo>
                        <a:lnTo>
                          <a:pt x="352" y="115"/>
                        </a:lnTo>
                        <a:lnTo>
                          <a:pt x="359" y="132"/>
                        </a:lnTo>
                        <a:lnTo>
                          <a:pt x="364" y="149"/>
                        </a:lnTo>
                        <a:lnTo>
                          <a:pt x="366" y="168"/>
                        </a:lnTo>
                        <a:lnTo>
                          <a:pt x="367" y="18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548400" y="3440160"/>
                    <a:ext cx="176400" cy="128520"/>
                  </a:xfrm>
                  <a:custGeom>
                    <a:avLst/>
                    <a:gdLst/>
                    <a:ahLst/>
                    <a:rect l="l" t="t" r="r" b="b"/>
                    <a:pathLst>
                      <a:path w="222" h="161">
                        <a:moveTo>
                          <a:pt x="76" y="159"/>
                        </a:moveTo>
                        <a:lnTo>
                          <a:pt x="96" y="155"/>
                        </a:lnTo>
                        <a:lnTo>
                          <a:pt x="118" y="148"/>
                        </a:lnTo>
                        <a:lnTo>
                          <a:pt x="139" y="138"/>
                        </a:lnTo>
                        <a:lnTo>
                          <a:pt x="160" y="124"/>
                        </a:lnTo>
                        <a:lnTo>
                          <a:pt x="179" y="107"/>
                        </a:lnTo>
                        <a:lnTo>
                          <a:pt x="195" y="83"/>
                        </a:lnTo>
                        <a:lnTo>
                          <a:pt x="210" y="54"/>
                        </a:lnTo>
                        <a:lnTo>
                          <a:pt x="222" y="18"/>
                        </a:lnTo>
                        <a:lnTo>
                          <a:pt x="182" y="0"/>
                        </a:lnTo>
                        <a:lnTo>
                          <a:pt x="182" y="4"/>
                        </a:lnTo>
                        <a:lnTo>
                          <a:pt x="181" y="17"/>
                        </a:lnTo>
                        <a:lnTo>
                          <a:pt x="176" y="37"/>
                        </a:lnTo>
                        <a:lnTo>
                          <a:pt x="167" y="60"/>
                        </a:lnTo>
                        <a:lnTo>
                          <a:pt x="151" y="84"/>
                        </a:lnTo>
                        <a:lnTo>
                          <a:pt x="128" y="108"/>
                        </a:lnTo>
                        <a:lnTo>
                          <a:pt x="94" y="130"/>
                        </a:lnTo>
                        <a:lnTo>
                          <a:pt x="50" y="146"/>
                        </a:lnTo>
                        <a:lnTo>
                          <a:pt x="45" y="147"/>
                        </a:lnTo>
                        <a:lnTo>
                          <a:pt x="39" y="149"/>
                        </a:lnTo>
                        <a:lnTo>
                          <a:pt x="33" y="151"/>
                        </a:lnTo>
                        <a:lnTo>
                          <a:pt x="27" y="152"/>
                        </a:lnTo>
                        <a:lnTo>
                          <a:pt x="20" y="153"/>
                        </a:lnTo>
                        <a:lnTo>
                          <a:pt x="13" y="153"/>
                        </a:lnTo>
                        <a:lnTo>
                          <a:pt x="7" y="154"/>
                        </a:lnTo>
                        <a:lnTo>
                          <a:pt x="0" y="155"/>
                        </a:lnTo>
                        <a:lnTo>
                          <a:pt x="1" y="155"/>
                        </a:lnTo>
                        <a:lnTo>
                          <a:pt x="5" y="156"/>
                        </a:lnTo>
                        <a:lnTo>
                          <a:pt x="12" y="158"/>
                        </a:lnTo>
                        <a:lnTo>
                          <a:pt x="23" y="159"/>
                        </a:lnTo>
                        <a:lnTo>
                          <a:pt x="33" y="160"/>
                        </a:lnTo>
                        <a:lnTo>
                          <a:pt x="47" y="161"/>
                        </a:lnTo>
                        <a:lnTo>
                          <a:pt x="61" y="160"/>
                        </a:lnTo>
                        <a:lnTo>
                          <a:pt x="76" y="15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496200" y="3340080"/>
                    <a:ext cx="166680" cy="169920"/>
                  </a:xfrm>
                  <a:custGeom>
                    <a:avLst/>
                    <a:gdLst/>
                    <a:ahLst/>
                    <a:rect l="l" t="t" r="r" b="b"/>
                    <a:pathLst>
                      <a:path w="210" h="214">
                        <a:moveTo>
                          <a:pt x="210" y="107"/>
                        </a:moveTo>
                        <a:lnTo>
                          <a:pt x="207" y="129"/>
                        </a:lnTo>
                        <a:lnTo>
                          <a:pt x="202" y="149"/>
                        </a:lnTo>
                        <a:lnTo>
                          <a:pt x="192" y="167"/>
                        </a:lnTo>
                        <a:lnTo>
                          <a:pt x="180" y="183"/>
                        </a:lnTo>
                        <a:lnTo>
                          <a:pt x="164" y="196"/>
                        </a:lnTo>
                        <a:lnTo>
                          <a:pt x="146" y="206"/>
                        </a:lnTo>
                        <a:lnTo>
                          <a:pt x="127" y="212"/>
                        </a:lnTo>
                        <a:lnTo>
                          <a:pt x="105" y="214"/>
                        </a:lnTo>
                        <a:lnTo>
                          <a:pt x="84" y="212"/>
                        </a:lnTo>
                        <a:lnTo>
                          <a:pt x="65" y="206"/>
                        </a:lnTo>
                        <a:lnTo>
                          <a:pt x="46" y="196"/>
                        </a:lnTo>
                        <a:lnTo>
                          <a:pt x="31" y="183"/>
                        </a:lnTo>
                        <a:lnTo>
                          <a:pt x="18" y="167"/>
                        </a:lnTo>
                        <a:lnTo>
                          <a:pt x="8" y="149"/>
                        </a:lnTo>
                        <a:lnTo>
                          <a:pt x="2" y="129"/>
                        </a:lnTo>
                        <a:lnTo>
                          <a:pt x="0" y="107"/>
                        </a:lnTo>
                        <a:lnTo>
                          <a:pt x="2" y="85"/>
                        </a:lnTo>
                        <a:lnTo>
                          <a:pt x="8" y="66"/>
                        </a:lnTo>
                        <a:lnTo>
                          <a:pt x="18" y="47"/>
                        </a:lnTo>
                        <a:lnTo>
                          <a:pt x="31" y="31"/>
                        </a:lnTo>
                        <a:lnTo>
                          <a:pt x="46" y="18"/>
                        </a:lnTo>
                        <a:lnTo>
                          <a:pt x="65" y="8"/>
                        </a:lnTo>
                        <a:lnTo>
                          <a:pt x="84" y="2"/>
                        </a:lnTo>
                        <a:lnTo>
                          <a:pt x="105" y="0"/>
                        </a:lnTo>
                        <a:lnTo>
                          <a:pt x="127" y="2"/>
                        </a:lnTo>
                        <a:lnTo>
                          <a:pt x="146" y="8"/>
                        </a:lnTo>
                        <a:lnTo>
                          <a:pt x="164" y="18"/>
                        </a:lnTo>
                        <a:lnTo>
                          <a:pt x="180" y="31"/>
                        </a:lnTo>
                        <a:lnTo>
                          <a:pt x="192" y="47"/>
                        </a:lnTo>
                        <a:lnTo>
                          <a:pt x="202" y="66"/>
                        </a:lnTo>
                        <a:lnTo>
                          <a:pt x="207" y="85"/>
                        </a:lnTo>
                        <a:lnTo>
                          <a:pt x="210" y="10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6537240" y="3379680"/>
                    <a:ext cx="46080" cy="47880"/>
                  </a:xfrm>
                  <a:custGeom>
                    <a:avLst/>
                    <a:gdLst/>
                    <a:ahLst/>
                    <a:rect l="l" t="t" r="r" b="b"/>
                    <a:pathLst>
                      <a:path w="58" h="59">
                        <a:moveTo>
                          <a:pt x="58" y="29"/>
                        </a:moveTo>
                        <a:lnTo>
                          <a:pt x="55" y="40"/>
                        </a:lnTo>
                        <a:lnTo>
                          <a:pt x="50" y="49"/>
                        </a:lnTo>
                        <a:lnTo>
                          <a:pt x="40" y="56"/>
                        </a:lnTo>
                        <a:lnTo>
                          <a:pt x="29" y="59"/>
                        </a:lnTo>
                        <a:lnTo>
                          <a:pt x="17" y="56"/>
                        </a:lnTo>
                        <a:lnTo>
                          <a:pt x="8" y="49"/>
                        </a:lnTo>
                        <a:lnTo>
                          <a:pt x="2" y="40"/>
                        </a:lnTo>
                        <a:lnTo>
                          <a:pt x="0" y="29"/>
                        </a:lnTo>
                        <a:lnTo>
                          <a:pt x="2" y="17"/>
                        </a:lnTo>
                        <a:lnTo>
                          <a:pt x="8" y="8"/>
                        </a:lnTo>
                        <a:lnTo>
                          <a:pt x="17" y="2"/>
                        </a:lnTo>
                        <a:lnTo>
                          <a:pt x="29" y="0"/>
                        </a:lnTo>
                        <a:lnTo>
                          <a:pt x="40" y="2"/>
                        </a:lnTo>
                        <a:lnTo>
                          <a:pt x="50" y="8"/>
                        </a:lnTo>
                        <a:lnTo>
                          <a:pt x="55" y="17"/>
                        </a:lnTo>
                        <a:lnTo>
                          <a:pt x="58" y="2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16" name=""/>
                  <p:cNvSpPr/>
                  <p:nvPr/>
                </p:nvSpPr>
                <p:spPr>
                  <a:xfrm>
                    <a:off x="6556320" y="3387600"/>
                    <a:ext cx="17640" cy="17640"/>
                  </a:xfrm>
                  <a:custGeom>
                    <a:avLst/>
                    <a:gdLst/>
                    <a:ahLst/>
                    <a:rect l="l" t="t" r="r" b="b"/>
                    <a:pathLst>
                      <a:path w="22" h="22">
                        <a:moveTo>
                          <a:pt x="22" y="11"/>
                        </a:moveTo>
                        <a:lnTo>
                          <a:pt x="21" y="16"/>
                        </a:lnTo>
                        <a:lnTo>
                          <a:pt x="18" y="18"/>
                        </a:lnTo>
                        <a:lnTo>
                          <a:pt x="15" y="21"/>
                        </a:lnTo>
                        <a:lnTo>
                          <a:pt x="10" y="22"/>
                        </a:lnTo>
                        <a:lnTo>
                          <a:pt x="6" y="21"/>
                        </a:lnTo>
                        <a:lnTo>
                          <a:pt x="3" y="18"/>
                        </a:lnTo>
                        <a:lnTo>
                          <a:pt x="1" y="16"/>
                        </a:lnTo>
                        <a:lnTo>
                          <a:pt x="0" y="11"/>
                        </a:lnTo>
                        <a:lnTo>
                          <a:pt x="1" y="7"/>
                        </a:lnTo>
                        <a:lnTo>
                          <a:pt x="3" y="3"/>
                        </a:lnTo>
                        <a:lnTo>
                          <a:pt x="6" y="1"/>
                        </a:lnTo>
                        <a:lnTo>
                          <a:pt x="10" y="0"/>
                        </a:lnTo>
                        <a:lnTo>
                          <a:pt x="15" y="1"/>
                        </a:lnTo>
                        <a:lnTo>
                          <a:pt x="18" y="3"/>
                        </a:lnTo>
                        <a:lnTo>
                          <a:pt x="21" y="7"/>
                        </a:lnTo>
                        <a:lnTo>
                          <a:pt x="22" y="1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7" name=""/>
                  <p:cNvSpPr/>
                  <p:nvPr/>
                </p:nvSpPr>
                <p:spPr>
                  <a:xfrm>
                    <a:off x="6583320" y="3384720"/>
                    <a:ext cx="17640" cy="17280"/>
                  </a:xfrm>
                  <a:custGeom>
                    <a:avLst/>
                    <a:gdLst/>
                    <a:ahLst/>
                    <a:rect l="l" t="t" r="r" b="b"/>
                    <a:pathLst>
                      <a:path w="21" h="22">
                        <a:moveTo>
                          <a:pt x="19" y="19"/>
                        </a:moveTo>
                        <a:lnTo>
                          <a:pt x="16" y="21"/>
                        </a:lnTo>
                        <a:lnTo>
                          <a:pt x="11" y="22"/>
                        </a:lnTo>
                        <a:lnTo>
                          <a:pt x="7" y="21"/>
                        </a:lnTo>
                        <a:lnTo>
                          <a:pt x="3" y="19"/>
                        </a:lnTo>
                        <a:lnTo>
                          <a:pt x="1" y="15"/>
                        </a:lnTo>
                        <a:lnTo>
                          <a:pt x="0" y="12"/>
                        </a:lnTo>
                        <a:lnTo>
                          <a:pt x="1" y="7"/>
                        </a:lnTo>
                        <a:lnTo>
                          <a:pt x="3" y="4"/>
                        </a:lnTo>
                        <a:lnTo>
                          <a:pt x="7" y="2"/>
                        </a:lnTo>
                        <a:lnTo>
                          <a:pt x="11" y="0"/>
                        </a:lnTo>
                        <a:lnTo>
                          <a:pt x="16" y="2"/>
                        </a:lnTo>
                        <a:lnTo>
                          <a:pt x="19" y="4"/>
                        </a:lnTo>
                        <a:lnTo>
                          <a:pt x="21" y="7"/>
                        </a:lnTo>
                        <a:lnTo>
                          <a:pt x="21" y="12"/>
                        </a:lnTo>
                        <a:lnTo>
                          <a:pt x="21" y="15"/>
                        </a:lnTo>
                        <a:lnTo>
                          <a:pt x="19" y="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18" name=""/>
                  <p:cNvSpPr/>
                  <p:nvPr/>
                </p:nvSpPr>
                <p:spPr>
                  <a:xfrm>
                    <a:off x="6605640" y="3402000"/>
                    <a:ext cx="17280" cy="17640"/>
                  </a:xfrm>
                  <a:custGeom>
                    <a:avLst/>
                    <a:gdLst/>
                    <a:ahLst/>
                    <a:rect l="l" t="t" r="r" b="b"/>
                    <a:pathLst>
                      <a:path w="22" h="22">
                        <a:moveTo>
                          <a:pt x="12" y="22"/>
                        </a:moveTo>
                        <a:lnTo>
                          <a:pt x="7" y="21"/>
                        </a:lnTo>
                        <a:lnTo>
                          <a:pt x="4" y="19"/>
                        </a:lnTo>
                        <a:lnTo>
                          <a:pt x="1" y="17"/>
                        </a:lnTo>
                        <a:lnTo>
                          <a:pt x="0" y="12"/>
                        </a:lnTo>
                        <a:lnTo>
                          <a:pt x="1" y="7"/>
                        </a:lnTo>
                        <a:lnTo>
                          <a:pt x="4" y="4"/>
                        </a:lnTo>
                        <a:lnTo>
                          <a:pt x="7" y="2"/>
                        </a:lnTo>
                        <a:lnTo>
                          <a:pt x="12" y="0"/>
                        </a:lnTo>
                        <a:lnTo>
                          <a:pt x="16" y="2"/>
                        </a:lnTo>
                        <a:lnTo>
                          <a:pt x="19" y="4"/>
                        </a:lnTo>
                        <a:lnTo>
                          <a:pt x="21" y="7"/>
                        </a:lnTo>
                        <a:lnTo>
                          <a:pt x="22" y="12"/>
                        </a:lnTo>
                        <a:lnTo>
                          <a:pt x="21" y="17"/>
                        </a:lnTo>
                        <a:lnTo>
                          <a:pt x="19" y="19"/>
                        </a:lnTo>
                        <a:lnTo>
                          <a:pt x="16" y="21"/>
                        </a:lnTo>
                        <a:lnTo>
                          <a:pt x="12"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9" name=""/>
                  <p:cNvSpPr/>
                  <p:nvPr/>
                </p:nvSpPr>
                <p:spPr>
                  <a:xfrm>
                    <a:off x="6608880" y="3430440"/>
                    <a:ext cx="17280" cy="17640"/>
                  </a:xfrm>
                  <a:custGeom>
                    <a:avLst/>
                    <a:gdLst/>
                    <a:ahLst/>
                    <a:rect l="l" t="t" r="r" b="b"/>
                    <a:pathLst>
                      <a:path w="22" h="22">
                        <a:moveTo>
                          <a:pt x="2" y="19"/>
                        </a:moveTo>
                        <a:lnTo>
                          <a:pt x="0" y="15"/>
                        </a:lnTo>
                        <a:lnTo>
                          <a:pt x="0" y="12"/>
                        </a:lnTo>
                        <a:lnTo>
                          <a:pt x="0" y="7"/>
                        </a:lnTo>
                        <a:lnTo>
                          <a:pt x="2" y="4"/>
                        </a:lnTo>
                        <a:lnTo>
                          <a:pt x="6" y="1"/>
                        </a:lnTo>
                        <a:lnTo>
                          <a:pt x="10" y="0"/>
                        </a:lnTo>
                        <a:lnTo>
                          <a:pt x="15" y="1"/>
                        </a:lnTo>
                        <a:lnTo>
                          <a:pt x="18" y="4"/>
                        </a:lnTo>
                        <a:lnTo>
                          <a:pt x="21" y="7"/>
                        </a:lnTo>
                        <a:lnTo>
                          <a:pt x="22" y="12"/>
                        </a:lnTo>
                        <a:lnTo>
                          <a:pt x="21" y="15"/>
                        </a:lnTo>
                        <a:lnTo>
                          <a:pt x="18" y="19"/>
                        </a:lnTo>
                        <a:lnTo>
                          <a:pt x="15" y="21"/>
                        </a:lnTo>
                        <a:lnTo>
                          <a:pt x="10" y="22"/>
                        </a:lnTo>
                        <a:lnTo>
                          <a:pt x="6" y="21"/>
                        </a:lnTo>
                        <a:lnTo>
                          <a:pt x="2" y="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0" name=""/>
                  <p:cNvSpPr/>
                  <p:nvPr/>
                </p:nvSpPr>
                <p:spPr>
                  <a:xfrm>
                    <a:off x="6591240" y="3452760"/>
                    <a:ext cx="17640" cy="17640"/>
                  </a:xfrm>
                  <a:custGeom>
                    <a:avLst/>
                    <a:gdLst/>
                    <a:ahLst/>
                    <a:rect l="l" t="t" r="r" b="b"/>
                    <a:pathLst>
                      <a:path w="22" h="22">
                        <a:moveTo>
                          <a:pt x="0" y="11"/>
                        </a:moveTo>
                        <a:lnTo>
                          <a:pt x="1" y="7"/>
                        </a:lnTo>
                        <a:lnTo>
                          <a:pt x="3" y="3"/>
                        </a:lnTo>
                        <a:lnTo>
                          <a:pt x="7" y="1"/>
                        </a:lnTo>
                        <a:lnTo>
                          <a:pt x="11" y="0"/>
                        </a:lnTo>
                        <a:lnTo>
                          <a:pt x="16" y="1"/>
                        </a:lnTo>
                        <a:lnTo>
                          <a:pt x="18" y="3"/>
                        </a:lnTo>
                        <a:lnTo>
                          <a:pt x="21" y="7"/>
                        </a:lnTo>
                        <a:lnTo>
                          <a:pt x="22" y="11"/>
                        </a:lnTo>
                        <a:lnTo>
                          <a:pt x="21" y="16"/>
                        </a:lnTo>
                        <a:lnTo>
                          <a:pt x="18" y="18"/>
                        </a:lnTo>
                        <a:lnTo>
                          <a:pt x="16" y="21"/>
                        </a:lnTo>
                        <a:lnTo>
                          <a:pt x="11" y="22"/>
                        </a:lnTo>
                        <a:lnTo>
                          <a:pt x="7" y="21"/>
                        </a:lnTo>
                        <a:lnTo>
                          <a:pt x="3" y="18"/>
                        </a:lnTo>
                        <a:lnTo>
                          <a:pt x="1" y="16"/>
                        </a:lnTo>
                        <a:lnTo>
                          <a:pt x="0" y="1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1" name=""/>
                  <p:cNvSpPr/>
                  <p:nvPr/>
                </p:nvSpPr>
                <p:spPr>
                  <a:xfrm>
                    <a:off x="6564240" y="3456000"/>
                    <a:ext cx="17640" cy="17280"/>
                  </a:xfrm>
                  <a:custGeom>
                    <a:avLst/>
                    <a:gdLst/>
                    <a:ahLst/>
                    <a:rect l="l" t="t" r="r" b="b"/>
                    <a:pathLst>
                      <a:path w="22" h="22">
                        <a:moveTo>
                          <a:pt x="3" y="4"/>
                        </a:moveTo>
                        <a:lnTo>
                          <a:pt x="6" y="1"/>
                        </a:lnTo>
                        <a:lnTo>
                          <a:pt x="11" y="0"/>
                        </a:lnTo>
                        <a:lnTo>
                          <a:pt x="15" y="1"/>
                        </a:lnTo>
                        <a:lnTo>
                          <a:pt x="19" y="4"/>
                        </a:lnTo>
                        <a:lnTo>
                          <a:pt x="21" y="7"/>
                        </a:lnTo>
                        <a:lnTo>
                          <a:pt x="22" y="12"/>
                        </a:lnTo>
                        <a:lnTo>
                          <a:pt x="21" y="16"/>
                        </a:lnTo>
                        <a:lnTo>
                          <a:pt x="19" y="20"/>
                        </a:lnTo>
                        <a:lnTo>
                          <a:pt x="15" y="22"/>
                        </a:lnTo>
                        <a:lnTo>
                          <a:pt x="11" y="22"/>
                        </a:lnTo>
                        <a:lnTo>
                          <a:pt x="7" y="22"/>
                        </a:lnTo>
                        <a:lnTo>
                          <a:pt x="4" y="20"/>
                        </a:lnTo>
                        <a:lnTo>
                          <a:pt x="1" y="16"/>
                        </a:lnTo>
                        <a:lnTo>
                          <a:pt x="0" y="12"/>
                        </a:lnTo>
                        <a:lnTo>
                          <a:pt x="0" y="7"/>
                        </a:lnTo>
                        <a:lnTo>
                          <a:pt x="3"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22" name=""/>
                  <p:cNvSpPr/>
                  <p:nvPr/>
                </p:nvSpPr>
                <p:spPr>
                  <a:xfrm>
                    <a:off x="6541920" y="3438360"/>
                    <a:ext cx="17640" cy="17640"/>
                  </a:xfrm>
                  <a:custGeom>
                    <a:avLst/>
                    <a:gdLst/>
                    <a:ahLst/>
                    <a:rect l="l" t="t" r="r" b="b"/>
                    <a:pathLst>
                      <a:path w="21" h="22">
                        <a:moveTo>
                          <a:pt x="10" y="0"/>
                        </a:moveTo>
                        <a:lnTo>
                          <a:pt x="15" y="1"/>
                        </a:lnTo>
                        <a:lnTo>
                          <a:pt x="18" y="4"/>
                        </a:lnTo>
                        <a:lnTo>
                          <a:pt x="20" y="7"/>
                        </a:lnTo>
                        <a:lnTo>
                          <a:pt x="21" y="12"/>
                        </a:lnTo>
                        <a:lnTo>
                          <a:pt x="20" y="16"/>
                        </a:lnTo>
                        <a:lnTo>
                          <a:pt x="18" y="19"/>
                        </a:lnTo>
                        <a:lnTo>
                          <a:pt x="15" y="21"/>
                        </a:lnTo>
                        <a:lnTo>
                          <a:pt x="10" y="22"/>
                        </a:lnTo>
                        <a:lnTo>
                          <a:pt x="5" y="21"/>
                        </a:lnTo>
                        <a:lnTo>
                          <a:pt x="3" y="19"/>
                        </a:lnTo>
                        <a:lnTo>
                          <a:pt x="1" y="16"/>
                        </a:lnTo>
                        <a:lnTo>
                          <a:pt x="0" y="12"/>
                        </a:lnTo>
                        <a:lnTo>
                          <a:pt x="1" y="7"/>
                        </a:lnTo>
                        <a:lnTo>
                          <a:pt x="3" y="4"/>
                        </a:lnTo>
                        <a:lnTo>
                          <a:pt x="5" y="1"/>
                        </a:lnTo>
                        <a:lnTo>
                          <a:pt x="1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3" name=""/>
                  <p:cNvSpPr/>
                  <p:nvPr/>
                </p:nvSpPr>
                <p:spPr>
                  <a:xfrm>
                    <a:off x="6537240" y="3409920"/>
                    <a:ext cx="17640" cy="17640"/>
                  </a:xfrm>
                  <a:custGeom>
                    <a:avLst/>
                    <a:gdLst/>
                    <a:ahLst/>
                    <a:rect l="l" t="t" r="r" b="b"/>
                    <a:pathLst>
                      <a:path w="22" h="21">
                        <a:moveTo>
                          <a:pt x="20" y="2"/>
                        </a:moveTo>
                        <a:lnTo>
                          <a:pt x="22" y="6"/>
                        </a:lnTo>
                        <a:lnTo>
                          <a:pt x="22" y="10"/>
                        </a:lnTo>
                        <a:lnTo>
                          <a:pt x="22" y="15"/>
                        </a:lnTo>
                        <a:lnTo>
                          <a:pt x="20" y="18"/>
                        </a:lnTo>
                        <a:lnTo>
                          <a:pt x="16" y="21"/>
                        </a:lnTo>
                        <a:lnTo>
                          <a:pt x="12" y="21"/>
                        </a:lnTo>
                        <a:lnTo>
                          <a:pt x="7" y="21"/>
                        </a:lnTo>
                        <a:lnTo>
                          <a:pt x="3" y="18"/>
                        </a:lnTo>
                        <a:lnTo>
                          <a:pt x="1" y="15"/>
                        </a:lnTo>
                        <a:lnTo>
                          <a:pt x="0" y="10"/>
                        </a:lnTo>
                        <a:lnTo>
                          <a:pt x="1" y="6"/>
                        </a:lnTo>
                        <a:lnTo>
                          <a:pt x="3" y="2"/>
                        </a:lnTo>
                        <a:lnTo>
                          <a:pt x="7" y="0"/>
                        </a:lnTo>
                        <a:lnTo>
                          <a:pt x="12" y="0"/>
                        </a:lnTo>
                        <a:lnTo>
                          <a:pt x="16" y="0"/>
                        </a:lnTo>
                        <a:lnTo>
                          <a:pt x="20" y="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24" name=""/>
                  <p:cNvSpPr/>
                  <p:nvPr/>
                </p:nvSpPr>
                <p:spPr>
                  <a:xfrm>
                    <a:off x="5241960" y="3252960"/>
                    <a:ext cx="291960" cy="295200"/>
                  </a:xfrm>
                  <a:custGeom>
                    <a:avLst/>
                    <a:gdLst/>
                    <a:ahLst/>
                    <a:rect l="l" t="t" r="r" b="b"/>
                    <a:pathLst>
                      <a:path w="367" h="374">
                        <a:moveTo>
                          <a:pt x="367" y="187"/>
                        </a:moveTo>
                        <a:lnTo>
                          <a:pt x="364" y="224"/>
                        </a:lnTo>
                        <a:lnTo>
                          <a:pt x="353" y="259"/>
                        </a:lnTo>
                        <a:lnTo>
                          <a:pt x="336" y="290"/>
                        </a:lnTo>
                        <a:lnTo>
                          <a:pt x="314" y="317"/>
                        </a:lnTo>
                        <a:lnTo>
                          <a:pt x="288" y="340"/>
                        </a:lnTo>
                        <a:lnTo>
                          <a:pt x="258" y="358"/>
                        </a:lnTo>
                        <a:lnTo>
                          <a:pt x="223" y="369"/>
                        </a:lnTo>
                        <a:lnTo>
                          <a:pt x="187" y="374"/>
                        </a:lnTo>
                        <a:lnTo>
                          <a:pt x="186" y="374"/>
                        </a:lnTo>
                        <a:lnTo>
                          <a:pt x="186" y="374"/>
                        </a:lnTo>
                        <a:lnTo>
                          <a:pt x="185" y="374"/>
                        </a:lnTo>
                        <a:lnTo>
                          <a:pt x="184" y="374"/>
                        </a:lnTo>
                        <a:lnTo>
                          <a:pt x="166" y="373"/>
                        </a:lnTo>
                        <a:lnTo>
                          <a:pt x="147" y="370"/>
                        </a:lnTo>
                        <a:lnTo>
                          <a:pt x="130" y="366"/>
                        </a:lnTo>
                        <a:lnTo>
                          <a:pt x="113" y="359"/>
                        </a:lnTo>
                        <a:lnTo>
                          <a:pt x="96" y="352"/>
                        </a:lnTo>
                        <a:lnTo>
                          <a:pt x="81" y="342"/>
                        </a:lnTo>
                        <a:lnTo>
                          <a:pt x="66" y="331"/>
                        </a:lnTo>
                        <a:lnTo>
                          <a:pt x="54" y="320"/>
                        </a:lnTo>
                        <a:lnTo>
                          <a:pt x="42" y="306"/>
                        </a:lnTo>
                        <a:lnTo>
                          <a:pt x="31" y="292"/>
                        </a:lnTo>
                        <a:lnTo>
                          <a:pt x="22" y="276"/>
                        </a:lnTo>
                        <a:lnTo>
                          <a:pt x="15" y="260"/>
                        </a:lnTo>
                        <a:lnTo>
                          <a:pt x="8" y="242"/>
                        </a:lnTo>
                        <a:lnTo>
                          <a:pt x="3" y="225"/>
                        </a:lnTo>
                        <a:lnTo>
                          <a:pt x="1" y="207"/>
                        </a:lnTo>
                        <a:lnTo>
                          <a:pt x="0" y="187"/>
                        </a:lnTo>
                        <a:lnTo>
                          <a:pt x="1" y="167"/>
                        </a:lnTo>
                        <a:lnTo>
                          <a:pt x="3" y="149"/>
                        </a:lnTo>
                        <a:lnTo>
                          <a:pt x="8" y="132"/>
                        </a:lnTo>
                        <a:lnTo>
                          <a:pt x="15" y="114"/>
                        </a:lnTo>
                        <a:lnTo>
                          <a:pt x="22" y="98"/>
                        </a:lnTo>
                        <a:lnTo>
                          <a:pt x="31" y="82"/>
                        </a:lnTo>
                        <a:lnTo>
                          <a:pt x="42" y="68"/>
                        </a:lnTo>
                        <a:lnTo>
                          <a:pt x="54" y="55"/>
                        </a:lnTo>
                        <a:lnTo>
                          <a:pt x="66" y="43"/>
                        </a:lnTo>
                        <a:lnTo>
                          <a:pt x="81" y="33"/>
                        </a:lnTo>
                        <a:lnTo>
                          <a:pt x="96" y="22"/>
                        </a:lnTo>
                        <a:lnTo>
                          <a:pt x="113" y="15"/>
                        </a:lnTo>
                        <a:lnTo>
                          <a:pt x="130" y="8"/>
                        </a:lnTo>
                        <a:lnTo>
                          <a:pt x="147" y="4"/>
                        </a:lnTo>
                        <a:lnTo>
                          <a:pt x="166" y="2"/>
                        </a:lnTo>
                        <a:lnTo>
                          <a:pt x="184" y="0"/>
                        </a:lnTo>
                        <a:lnTo>
                          <a:pt x="221" y="4"/>
                        </a:lnTo>
                        <a:lnTo>
                          <a:pt x="255" y="15"/>
                        </a:lnTo>
                        <a:lnTo>
                          <a:pt x="286" y="33"/>
                        </a:lnTo>
                        <a:lnTo>
                          <a:pt x="313" y="55"/>
                        </a:lnTo>
                        <a:lnTo>
                          <a:pt x="336" y="82"/>
                        </a:lnTo>
                        <a:lnTo>
                          <a:pt x="352" y="114"/>
                        </a:lnTo>
                        <a:lnTo>
                          <a:pt x="364" y="149"/>
                        </a:lnTo>
                        <a:lnTo>
                          <a:pt x="367" y="18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5356080" y="3414600"/>
                    <a:ext cx="176400" cy="127080"/>
                  </a:xfrm>
                  <a:custGeom>
                    <a:avLst/>
                    <a:gdLst/>
                    <a:ahLst/>
                    <a:rect l="l" t="t" r="r" b="b"/>
                    <a:pathLst>
                      <a:path w="221" h="160">
                        <a:moveTo>
                          <a:pt x="57" y="160"/>
                        </a:moveTo>
                        <a:lnTo>
                          <a:pt x="79" y="157"/>
                        </a:lnTo>
                        <a:lnTo>
                          <a:pt x="102" y="153"/>
                        </a:lnTo>
                        <a:lnTo>
                          <a:pt x="126" y="145"/>
                        </a:lnTo>
                        <a:lnTo>
                          <a:pt x="150" y="131"/>
                        </a:lnTo>
                        <a:lnTo>
                          <a:pt x="171" y="112"/>
                        </a:lnTo>
                        <a:lnTo>
                          <a:pt x="191" y="88"/>
                        </a:lnTo>
                        <a:lnTo>
                          <a:pt x="208" y="57"/>
                        </a:lnTo>
                        <a:lnTo>
                          <a:pt x="221" y="18"/>
                        </a:lnTo>
                        <a:lnTo>
                          <a:pt x="181" y="0"/>
                        </a:lnTo>
                        <a:lnTo>
                          <a:pt x="181" y="1"/>
                        </a:lnTo>
                        <a:lnTo>
                          <a:pt x="181" y="5"/>
                        </a:lnTo>
                        <a:lnTo>
                          <a:pt x="179" y="12"/>
                        </a:lnTo>
                        <a:lnTo>
                          <a:pt x="178" y="21"/>
                        </a:lnTo>
                        <a:lnTo>
                          <a:pt x="176" y="32"/>
                        </a:lnTo>
                        <a:lnTo>
                          <a:pt x="173" y="43"/>
                        </a:lnTo>
                        <a:lnTo>
                          <a:pt x="167" y="57"/>
                        </a:lnTo>
                        <a:lnTo>
                          <a:pt x="160" y="70"/>
                        </a:lnTo>
                        <a:lnTo>
                          <a:pt x="150" y="84"/>
                        </a:lnTo>
                        <a:lnTo>
                          <a:pt x="138" y="97"/>
                        </a:lnTo>
                        <a:lnTo>
                          <a:pt x="123" y="111"/>
                        </a:lnTo>
                        <a:lnTo>
                          <a:pt x="106" y="123"/>
                        </a:lnTo>
                        <a:lnTo>
                          <a:pt x="85" y="134"/>
                        </a:lnTo>
                        <a:lnTo>
                          <a:pt x="61" y="144"/>
                        </a:lnTo>
                        <a:lnTo>
                          <a:pt x="32" y="151"/>
                        </a:lnTo>
                        <a:lnTo>
                          <a:pt x="0" y="155"/>
                        </a:lnTo>
                        <a:lnTo>
                          <a:pt x="1" y="155"/>
                        </a:lnTo>
                        <a:lnTo>
                          <a:pt x="4" y="156"/>
                        </a:lnTo>
                        <a:lnTo>
                          <a:pt x="9" y="157"/>
                        </a:lnTo>
                        <a:lnTo>
                          <a:pt x="16" y="157"/>
                        </a:lnTo>
                        <a:lnTo>
                          <a:pt x="24" y="159"/>
                        </a:lnTo>
                        <a:lnTo>
                          <a:pt x="34" y="160"/>
                        </a:lnTo>
                        <a:lnTo>
                          <a:pt x="46" y="160"/>
                        </a:lnTo>
                        <a:lnTo>
                          <a:pt x="57" y="16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303880" y="3314880"/>
                    <a:ext cx="166680" cy="171360"/>
                  </a:xfrm>
                  <a:custGeom>
                    <a:avLst/>
                    <a:gdLst/>
                    <a:ahLst/>
                    <a:rect l="l" t="t" r="r" b="b"/>
                    <a:pathLst>
                      <a:path w="211" h="214">
                        <a:moveTo>
                          <a:pt x="211" y="107"/>
                        </a:moveTo>
                        <a:lnTo>
                          <a:pt x="208" y="129"/>
                        </a:lnTo>
                        <a:lnTo>
                          <a:pt x="203" y="149"/>
                        </a:lnTo>
                        <a:lnTo>
                          <a:pt x="192" y="167"/>
                        </a:lnTo>
                        <a:lnTo>
                          <a:pt x="180" y="183"/>
                        </a:lnTo>
                        <a:lnTo>
                          <a:pt x="165" y="196"/>
                        </a:lnTo>
                        <a:lnTo>
                          <a:pt x="146" y="206"/>
                        </a:lnTo>
                        <a:lnTo>
                          <a:pt x="127" y="212"/>
                        </a:lnTo>
                        <a:lnTo>
                          <a:pt x="106" y="214"/>
                        </a:lnTo>
                        <a:lnTo>
                          <a:pt x="84" y="212"/>
                        </a:lnTo>
                        <a:lnTo>
                          <a:pt x="64" y="206"/>
                        </a:lnTo>
                        <a:lnTo>
                          <a:pt x="46" y="196"/>
                        </a:lnTo>
                        <a:lnTo>
                          <a:pt x="31" y="183"/>
                        </a:lnTo>
                        <a:lnTo>
                          <a:pt x="18" y="167"/>
                        </a:lnTo>
                        <a:lnTo>
                          <a:pt x="8" y="149"/>
                        </a:lnTo>
                        <a:lnTo>
                          <a:pt x="2" y="129"/>
                        </a:lnTo>
                        <a:lnTo>
                          <a:pt x="0" y="107"/>
                        </a:lnTo>
                        <a:lnTo>
                          <a:pt x="2" y="85"/>
                        </a:lnTo>
                        <a:lnTo>
                          <a:pt x="8" y="66"/>
                        </a:lnTo>
                        <a:lnTo>
                          <a:pt x="18" y="47"/>
                        </a:lnTo>
                        <a:lnTo>
                          <a:pt x="31" y="31"/>
                        </a:lnTo>
                        <a:lnTo>
                          <a:pt x="46" y="18"/>
                        </a:lnTo>
                        <a:lnTo>
                          <a:pt x="64" y="8"/>
                        </a:lnTo>
                        <a:lnTo>
                          <a:pt x="84" y="2"/>
                        </a:lnTo>
                        <a:lnTo>
                          <a:pt x="106" y="0"/>
                        </a:lnTo>
                        <a:lnTo>
                          <a:pt x="127" y="2"/>
                        </a:lnTo>
                        <a:lnTo>
                          <a:pt x="146" y="8"/>
                        </a:lnTo>
                        <a:lnTo>
                          <a:pt x="165" y="18"/>
                        </a:lnTo>
                        <a:lnTo>
                          <a:pt x="180" y="31"/>
                        </a:lnTo>
                        <a:lnTo>
                          <a:pt x="192" y="47"/>
                        </a:lnTo>
                        <a:lnTo>
                          <a:pt x="203" y="66"/>
                        </a:lnTo>
                        <a:lnTo>
                          <a:pt x="208" y="85"/>
                        </a:lnTo>
                        <a:lnTo>
                          <a:pt x="211" y="10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5345280" y="3355920"/>
                    <a:ext cx="45720" cy="46080"/>
                  </a:xfrm>
                  <a:custGeom>
                    <a:avLst/>
                    <a:gdLst/>
                    <a:ahLst/>
                    <a:rect l="l" t="t" r="r" b="b"/>
                    <a:pathLst>
                      <a:path w="58" h="57">
                        <a:moveTo>
                          <a:pt x="58" y="28"/>
                        </a:moveTo>
                        <a:lnTo>
                          <a:pt x="55" y="40"/>
                        </a:lnTo>
                        <a:lnTo>
                          <a:pt x="49" y="49"/>
                        </a:lnTo>
                        <a:lnTo>
                          <a:pt x="40" y="55"/>
                        </a:lnTo>
                        <a:lnTo>
                          <a:pt x="29" y="57"/>
                        </a:lnTo>
                        <a:lnTo>
                          <a:pt x="17" y="55"/>
                        </a:lnTo>
                        <a:lnTo>
                          <a:pt x="8" y="49"/>
                        </a:lnTo>
                        <a:lnTo>
                          <a:pt x="2" y="40"/>
                        </a:lnTo>
                        <a:lnTo>
                          <a:pt x="0" y="28"/>
                        </a:lnTo>
                        <a:lnTo>
                          <a:pt x="2" y="17"/>
                        </a:lnTo>
                        <a:lnTo>
                          <a:pt x="8" y="8"/>
                        </a:lnTo>
                        <a:lnTo>
                          <a:pt x="17" y="2"/>
                        </a:lnTo>
                        <a:lnTo>
                          <a:pt x="29" y="0"/>
                        </a:lnTo>
                        <a:lnTo>
                          <a:pt x="40" y="2"/>
                        </a:lnTo>
                        <a:lnTo>
                          <a:pt x="49" y="8"/>
                        </a:lnTo>
                        <a:lnTo>
                          <a:pt x="55" y="17"/>
                        </a:lnTo>
                        <a:lnTo>
                          <a:pt x="58" y="2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28" name=""/>
                  <p:cNvSpPr/>
                  <p:nvPr/>
                </p:nvSpPr>
                <p:spPr>
                  <a:xfrm>
                    <a:off x="6041880" y="2809800"/>
                    <a:ext cx="93960" cy="50760"/>
                  </a:xfrm>
                  <a:custGeom>
                    <a:avLst/>
                    <a:gdLst/>
                    <a:ahLst/>
                    <a:rect l="l" t="t" r="r" b="b"/>
                    <a:pathLst>
                      <a:path w="117" h="65">
                        <a:moveTo>
                          <a:pt x="109" y="65"/>
                        </a:moveTo>
                        <a:lnTo>
                          <a:pt x="10" y="65"/>
                        </a:lnTo>
                        <a:lnTo>
                          <a:pt x="0" y="7"/>
                        </a:lnTo>
                        <a:lnTo>
                          <a:pt x="116" y="0"/>
                        </a:lnTo>
                        <a:lnTo>
                          <a:pt x="117" y="50"/>
                        </a:lnTo>
                        <a:lnTo>
                          <a:pt x="109" y="6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5105520" y="2800440"/>
                    <a:ext cx="1814400" cy="779400"/>
                  </a:xfrm>
                  <a:custGeom>
                    <a:avLst/>
                    <a:gdLst/>
                    <a:ahLst/>
                    <a:rect l="l" t="t" r="r" b="b"/>
                    <a:pathLst>
                      <a:path w="2286" h="982">
                        <a:moveTo>
                          <a:pt x="2148" y="6"/>
                        </a:moveTo>
                        <a:lnTo>
                          <a:pt x="2133" y="13"/>
                        </a:lnTo>
                        <a:lnTo>
                          <a:pt x="2106" y="23"/>
                        </a:lnTo>
                        <a:lnTo>
                          <a:pt x="2070" y="38"/>
                        </a:lnTo>
                        <a:lnTo>
                          <a:pt x="2025" y="55"/>
                        </a:lnTo>
                        <a:lnTo>
                          <a:pt x="1973" y="75"/>
                        </a:lnTo>
                        <a:lnTo>
                          <a:pt x="1917" y="97"/>
                        </a:lnTo>
                        <a:lnTo>
                          <a:pt x="1858" y="120"/>
                        </a:lnTo>
                        <a:lnTo>
                          <a:pt x="1798" y="143"/>
                        </a:lnTo>
                        <a:lnTo>
                          <a:pt x="1738" y="166"/>
                        </a:lnTo>
                        <a:lnTo>
                          <a:pt x="1681" y="189"/>
                        </a:lnTo>
                        <a:lnTo>
                          <a:pt x="1628" y="210"/>
                        </a:lnTo>
                        <a:lnTo>
                          <a:pt x="1579" y="228"/>
                        </a:lnTo>
                        <a:lnTo>
                          <a:pt x="1539" y="243"/>
                        </a:lnTo>
                        <a:lnTo>
                          <a:pt x="1508" y="255"/>
                        </a:lnTo>
                        <a:lnTo>
                          <a:pt x="1487" y="263"/>
                        </a:lnTo>
                        <a:lnTo>
                          <a:pt x="1479" y="266"/>
                        </a:lnTo>
                        <a:lnTo>
                          <a:pt x="1473" y="267"/>
                        </a:lnTo>
                        <a:lnTo>
                          <a:pt x="1459" y="271"/>
                        </a:lnTo>
                        <a:lnTo>
                          <a:pt x="1439" y="277"/>
                        </a:lnTo>
                        <a:lnTo>
                          <a:pt x="1415" y="282"/>
                        </a:lnTo>
                        <a:lnTo>
                          <a:pt x="1390" y="289"/>
                        </a:lnTo>
                        <a:lnTo>
                          <a:pt x="1371" y="294"/>
                        </a:lnTo>
                        <a:lnTo>
                          <a:pt x="1356" y="298"/>
                        </a:lnTo>
                        <a:lnTo>
                          <a:pt x="1350" y="300"/>
                        </a:lnTo>
                        <a:lnTo>
                          <a:pt x="1340" y="302"/>
                        </a:lnTo>
                        <a:lnTo>
                          <a:pt x="1423" y="448"/>
                        </a:lnTo>
                        <a:lnTo>
                          <a:pt x="1688" y="448"/>
                        </a:lnTo>
                        <a:lnTo>
                          <a:pt x="1666" y="396"/>
                        </a:lnTo>
                        <a:lnTo>
                          <a:pt x="1662" y="395"/>
                        </a:lnTo>
                        <a:lnTo>
                          <a:pt x="1654" y="391"/>
                        </a:lnTo>
                        <a:lnTo>
                          <a:pt x="1643" y="384"/>
                        </a:lnTo>
                        <a:lnTo>
                          <a:pt x="1629" y="377"/>
                        </a:lnTo>
                        <a:lnTo>
                          <a:pt x="1613" y="368"/>
                        </a:lnTo>
                        <a:lnTo>
                          <a:pt x="1598" y="360"/>
                        </a:lnTo>
                        <a:lnTo>
                          <a:pt x="1585" y="353"/>
                        </a:lnTo>
                        <a:lnTo>
                          <a:pt x="1575" y="347"/>
                        </a:lnTo>
                        <a:lnTo>
                          <a:pt x="1584" y="343"/>
                        </a:lnTo>
                        <a:lnTo>
                          <a:pt x="1599" y="338"/>
                        </a:lnTo>
                        <a:lnTo>
                          <a:pt x="1621" y="331"/>
                        </a:lnTo>
                        <a:lnTo>
                          <a:pt x="1646" y="322"/>
                        </a:lnTo>
                        <a:lnTo>
                          <a:pt x="1675" y="311"/>
                        </a:lnTo>
                        <a:lnTo>
                          <a:pt x="1707" y="300"/>
                        </a:lnTo>
                        <a:lnTo>
                          <a:pt x="1740" y="288"/>
                        </a:lnTo>
                        <a:lnTo>
                          <a:pt x="1775" y="275"/>
                        </a:lnTo>
                        <a:lnTo>
                          <a:pt x="1808" y="264"/>
                        </a:lnTo>
                        <a:lnTo>
                          <a:pt x="1841" y="252"/>
                        </a:lnTo>
                        <a:lnTo>
                          <a:pt x="1872" y="241"/>
                        </a:lnTo>
                        <a:lnTo>
                          <a:pt x="1899" y="232"/>
                        </a:lnTo>
                        <a:lnTo>
                          <a:pt x="1924" y="224"/>
                        </a:lnTo>
                        <a:lnTo>
                          <a:pt x="1942" y="217"/>
                        </a:lnTo>
                        <a:lnTo>
                          <a:pt x="1955" y="212"/>
                        </a:lnTo>
                        <a:lnTo>
                          <a:pt x="1961" y="210"/>
                        </a:lnTo>
                        <a:lnTo>
                          <a:pt x="1966" y="221"/>
                        </a:lnTo>
                        <a:lnTo>
                          <a:pt x="1975" y="239"/>
                        </a:lnTo>
                        <a:lnTo>
                          <a:pt x="1986" y="257"/>
                        </a:lnTo>
                        <a:lnTo>
                          <a:pt x="1994" y="271"/>
                        </a:lnTo>
                        <a:lnTo>
                          <a:pt x="1986" y="272"/>
                        </a:lnTo>
                        <a:lnTo>
                          <a:pt x="1972" y="275"/>
                        </a:lnTo>
                        <a:lnTo>
                          <a:pt x="1952" y="279"/>
                        </a:lnTo>
                        <a:lnTo>
                          <a:pt x="1927" y="284"/>
                        </a:lnTo>
                        <a:lnTo>
                          <a:pt x="1899" y="289"/>
                        </a:lnTo>
                        <a:lnTo>
                          <a:pt x="1868" y="296"/>
                        </a:lnTo>
                        <a:lnTo>
                          <a:pt x="1835" y="302"/>
                        </a:lnTo>
                        <a:lnTo>
                          <a:pt x="1802" y="309"/>
                        </a:lnTo>
                        <a:lnTo>
                          <a:pt x="1768" y="316"/>
                        </a:lnTo>
                        <a:lnTo>
                          <a:pt x="1736" y="323"/>
                        </a:lnTo>
                        <a:lnTo>
                          <a:pt x="1706" y="328"/>
                        </a:lnTo>
                        <a:lnTo>
                          <a:pt x="1679" y="333"/>
                        </a:lnTo>
                        <a:lnTo>
                          <a:pt x="1656" y="338"/>
                        </a:lnTo>
                        <a:lnTo>
                          <a:pt x="1639" y="341"/>
                        </a:lnTo>
                        <a:lnTo>
                          <a:pt x="1628" y="343"/>
                        </a:lnTo>
                        <a:lnTo>
                          <a:pt x="1624" y="345"/>
                        </a:lnTo>
                        <a:lnTo>
                          <a:pt x="1712" y="395"/>
                        </a:lnTo>
                        <a:lnTo>
                          <a:pt x="1714" y="395"/>
                        </a:lnTo>
                        <a:lnTo>
                          <a:pt x="1720" y="394"/>
                        </a:lnTo>
                        <a:lnTo>
                          <a:pt x="1730" y="393"/>
                        </a:lnTo>
                        <a:lnTo>
                          <a:pt x="1743" y="391"/>
                        </a:lnTo>
                        <a:lnTo>
                          <a:pt x="1757" y="388"/>
                        </a:lnTo>
                        <a:lnTo>
                          <a:pt x="1774" y="386"/>
                        </a:lnTo>
                        <a:lnTo>
                          <a:pt x="1791" y="383"/>
                        </a:lnTo>
                        <a:lnTo>
                          <a:pt x="1811" y="380"/>
                        </a:lnTo>
                        <a:lnTo>
                          <a:pt x="1829" y="377"/>
                        </a:lnTo>
                        <a:lnTo>
                          <a:pt x="1848" y="375"/>
                        </a:lnTo>
                        <a:lnTo>
                          <a:pt x="1865" y="371"/>
                        </a:lnTo>
                        <a:lnTo>
                          <a:pt x="1880" y="369"/>
                        </a:lnTo>
                        <a:lnTo>
                          <a:pt x="1894" y="366"/>
                        </a:lnTo>
                        <a:lnTo>
                          <a:pt x="1905" y="365"/>
                        </a:lnTo>
                        <a:lnTo>
                          <a:pt x="1913" y="364"/>
                        </a:lnTo>
                        <a:lnTo>
                          <a:pt x="1917" y="363"/>
                        </a:lnTo>
                        <a:lnTo>
                          <a:pt x="1920" y="369"/>
                        </a:lnTo>
                        <a:lnTo>
                          <a:pt x="1928" y="380"/>
                        </a:lnTo>
                        <a:lnTo>
                          <a:pt x="1937" y="394"/>
                        </a:lnTo>
                        <a:lnTo>
                          <a:pt x="1948" y="409"/>
                        </a:lnTo>
                        <a:lnTo>
                          <a:pt x="1959" y="424"/>
                        </a:lnTo>
                        <a:lnTo>
                          <a:pt x="1969" y="438"/>
                        </a:lnTo>
                        <a:lnTo>
                          <a:pt x="1975" y="448"/>
                        </a:lnTo>
                        <a:lnTo>
                          <a:pt x="1979" y="453"/>
                        </a:lnTo>
                        <a:lnTo>
                          <a:pt x="1979" y="459"/>
                        </a:lnTo>
                        <a:lnTo>
                          <a:pt x="1979" y="469"/>
                        </a:lnTo>
                        <a:lnTo>
                          <a:pt x="1979" y="478"/>
                        </a:lnTo>
                        <a:lnTo>
                          <a:pt x="1979" y="482"/>
                        </a:lnTo>
                        <a:lnTo>
                          <a:pt x="1985" y="484"/>
                        </a:lnTo>
                        <a:lnTo>
                          <a:pt x="2001" y="489"/>
                        </a:lnTo>
                        <a:lnTo>
                          <a:pt x="2024" y="496"/>
                        </a:lnTo>
                        <a:lnTo>
                          <a:pt x="2050" y="505"/>
                        </a:lnTo>
                        <a:lnTo>
                          <a:pt x="2078" y="513"/>
                        </a:lnTo>
                        <a:lnTo>
                          <a:pt x="2102" y="521"/>
                        </a:lnTo>
                        <a:lnTo>
                          <a:pt x="2119" y="527"/>
                        </a:lnTo>
                        <a:lnTo>
                          <a:pt x="2129" y="529"/>
                        </a:lnTo>
                        <a:lnTo>
                          <a:pt x="2132" y="547"/>
                        </a:lnTo>
                        <a:lnTo>
                          <a:pt x="2138" y="582"/>
                        </a:lnTo>
                        <a:lnTo>
                          <a:pt x="2145" y="617"/>
                        </a:lnTo>
                        <a:lnTo>
                          <a:pt x="2148" y="640"/>
                        </a:lnTo>
                        <a:lnTo>
                          <a:pt x="2141" y="640"/>
                        </a:lnTo>
                        <a:lnTo>
                          <a:pt x="2130" y="640"/>
                        </a:lnTo>
                        <a:lnTo>
                          <a:pt x="2116" y="641"/>
                        </a:lnTo>
                        <a:lnTo>
                          <a:pt x="2102" y="641"/>
                        </a:lnTo>
                        <a:lnTo>
                          <a:pt x="2087" y="641"/>
                        </a:lnTo>
                        <a:lnTo>
                          <a:pt x="2075" y="642"/>
                        </a:lnTo>
                        <a:lnTo>
                          <a:pt x="2064" y="642"/>
                        </a:lnTo>
                        <a:lnTo>
                          <a:pt x="2058" y="642"/>
                        </a:lnTo>
                        <a:lnTo>
                          <a:pt x="2056" y="635"/>
                        </a:lnTo>
                        <a:lnTo>
                          <a:pt x="2052" y="622"/>
                        </a:lnTo>
                        <a:lnTo>
                          <a:pt x="2046" y="607"/>
                        </a:lnTo>
                        <a:lnTo>
                          <a:pt x="2039" y="589"/>
                        </a:lnTo>
                        <a:lnTo>
                          <a:pt x="2032" y="573"/>
                        </a:lnTo>
                        <a:lnTo>
                          <a:pt x="2027" y="558"/>
                        </a:lnTo>
                        <a:lnTo>
                          <a:pt x="2023" y="547"/>
                        </a:lnTo>
                        <a:lnTo>
                          <a:pt x="2022" y="544"/>
                        </a:lnTo>
                        <a:lnTo>
                          <a:pt x="2020" y="543"/>
                        </a:lnTo>
                        <a:lnTo>
                          <a:pt x="2018" y="542"/>
                        </a:lnTo>
                        <a:lnTo>
                          <a:pt x="2013" y="537"/>
                        </a:lnTo>
                        <a:lnTo>
                          <a:pt x="2005" y="532"/>
                        </a:lnTo>
                        <a:lnTo>
                          <a:pt x="1995" y="527"/>
                        </a:lnTo>
                        <a:lnTo>
                          <a:pt x="1982" y="521"/>
                        </a:lnTo>
                        <a:lnTo>
                          <a:pt x="1966" y="516"/>
                        </a:lnTo>
                        <a:lnTo>
                          <a:pt x="1947" y="513"/>
                        </a:lnTo>
                        <a:lnTo>
                          <a:pt x="1926" y="512"/>
                        </a:lnTo>
                        <a:lnTo>
                          <a:pt x="1903" y="512"/>
                        </a:lnTo>
                        <a:lnTo>
                          <a:pt x="1876" y="513"/>
                        </a:lnTo>
                        <a:lnTo>
                          <a:pt x="1849" y="515"/>
                        </a:lnTo>
                        <a:lnTo>
                          <a:pt x="1822" y="516"/>
                        </a:lnTo>
                        <a:lnTo>
                          <a:pt x="1798" y="517"/>
                        </a:lnTo>
                        <a:lnTo>
                          <a:pt x="1779" y="520"/>
                        </a:lnTo>
                        <a:lnTo>
                          <a:pt x="1765" y="521"/>
                        </a:lnTo>
                        <a:lnTo>
                          <a:pt x="1760" y="521"/>
                        </a:lnTo>
                        <a:lnTo>
                          <a:pt x="1755" y="522"/>
                        </a:lnTo>
                        <a:lnTo>
                          <a:pt x="1706" y="656"/>
                        </a:lnTo>
                        <a:lnTo>
                          <a:pt x="1719" y="665"/>
                        </a:lnTo>
                        <a:lnTo>
                          <a:pt x="1720" y="663"/>
                        </a:lnTo>
                        <a:lnTo>
                          <a:pt x="1724" y="658"/>
                        </a:lnTo>
                        <a:lnTo>
                          <a:pt x="1731" y="652"/>
                        </a:lnTo>
                        <a:lnTo>
                          <a:pt x="1740" y="644"/>
                        </a:lnTo>
                        <a:lnTo>
                          <a:pt x="1752" y="636"/>
                        </a:lnTo>
                        <a:lnTo>
                          <a:pt x="1764" y="629"/>
                        </a:lnTo>
                        <a:lnTo>
                          <a:pt x="1777" y="622"/>
                        </a:lnTo>
                        <a:lnTo>
                          <a:pt x="1791" y="617"/>
                        </a:lnTo>
                        <a:lnTo>
                          <a:pt x="1802" y="613"/>
                        </a:lnTo>
                        <a:lnTo>
                          <a:pt x="1817" y="611"/>
                        </a:lnTo>
                        <a:lnTo>
                          <a:pt x="1835" y="607"/>
                        </a:lnTo>
                        <a:lnTo>
                          <a:pt x="1856" y="606"/>
                        </a:lnTo>
                        <a:lnTo>
                          <a:pt x="1879" y="607"/>
                        </a:lnTo>
                        <a:lnTo>
                          <a:pt x="1902" y="611"/>
                        </a:lnTo>
                        <a:lnTo>
                          <a:pt x="1926" y="619"/>
                        </a:lnTo>
                        <a:lnTo>
                          <a:pt x="1950" y="632"/>
                        </a:lnTo>
                        <a:lnTo>
                          <a:pt x="1965" y="643"/>
                        </a:lnTo>
                        <a:lnTo>
                          <a:pt x="1979" y="656"/>
                        </a:lnTo>
                        <a:lnTo>
                          <a:pt x="1992" y="670"/>
                        </a:lnTo>
                        <a:lnTo>
                          <a:pt x="2002" y="686"/>
                        </a:lnTo>
                        <a:lnTo>
                          <a:pt x="2010" y="704"/>
                        </a:lnTo>
                        <a:lnTo>
                          <a:pt x="2018" y="725"/>
                        </a:lnTo>
                        <a:lnTo>
                          <a:pt x="2023" y="748"/>
                        </a:lnTo>
                        <a:lnTo>
                          <a:pt x="2027" y="773"/>
                        </a:lnTo>
                        <a:lnTo>
                          <a:pt x="2022" y="773"/>
                        </a:lnTo>
                        <a:lnTo>
                          <a:pt x="2013" y="773"/>
                        </a:lnTo>
                        <a:lnTo>
                          <a:pt x="2003" y="775"/>
                        </a:lnTo>
                        <a:lnTo>
                          <a:pt x="1994" y="775"/>
                        </a:lnTo>
                        <a:lnTo>
                          <a:pt x="1985" y="775"/>
                        </a:lnTo>
                        <a:lnTo>
                          <a:pt x="1977" y="776"/>
                        </a:lnTo>
                        <a:lnTo>
                          <a:pt x="1972" y="776"/>
                        </a:lnTo>
                        <a:lnTo>
                          <a:pt x="1970" y="776"/>
                        </a:lnTo>
                        <a:lnTo>
                          <a:pt x="1969" y="784"/>
                        </a:lnTo>
                        <a:lnTo>
                          <a:pt x="1969" y="790"/>
                        </a:lnTo>
                        <a:lnTo>
                          <a:pt x="1966" y="802"/>
                        </a:lnTo>
                        <a:lnTo>
                          <a:pt x="1962" y="821"/>
                        </a:lnTo>
                        <a:lnTo>
                          <a:pt x="1954" y="840"/>
                        </a:lnTo>
                        <a:lnTo>
                          <a:pt x="1941" y="860"/>
                        </a:lnTo>
                        <a:lnTo>
                          <a:pt x="1924" y="878"/>
                        </a:lnTo>
                        <a:lnTo>
                          <a:pt x="1899" y="891"/>
                        </a:lnTo>
                        <a:lnTo>
                          <a:pt x="1868" y="897"/>
                        </a:lnTo>
                        <a:lnTo>
                          <a:pt x="1855" y="897"/>
                        </a:lnTo>
                        <a:lnTo>
                          <a:pt x="1842" y="894"/>
                        </a:lnTo>
                        <a:lnTo>
                          <a:pt x="1829" y="891"/>
                        </a:lnTo>
                        <a:lnTo>
                          <a:pt x="1818" y="885"/>
                        </a:lnTo>
                        <a:lnTo>
                          <a:pt x="1807" y="878"/>
                        </a:lnTo>
                        <a:lnTo>
                          <a:pt x="1797" y="870"/>
                        </a:lnTo>
                        <a:lnTo>
                          <a:pt x="1789" y="861"/>
                        </a:lnTo>
                        <a:lnTo>
                          <a:pt x="1781" y="849"/>
                        </a:lnTo>
                        <a:lnTo>
                          <a:pt x="1769" y="821"/>
                        </a:lnTo>
                        <a:lnTo>
                          <a:pt x="1766" y="791"/>
                        </a:lnTo>
                        <a:lnTo>
                          <a:pt x="1772" y="760"/>
                        </a:lnTo>
                        <a:lnTo>
                          <a:pt x="1784" y="731"/>
                        </a:lnTo>
                        <a:lnTo>
                          <a:pt x="1789" y="723"/>
                        </a:lnTo>
                        <a:lnTo>
                          <a:pt x="1686" y="680"/>
                        </a:lnTo>
                        <a:lnTo>
                          <a:pt x="1683" y="680"/>
                        </a:lnTo>
                        <a:lnTo>
                          <a:pt x="1671" y="680"/>
                        </a:lnTo>
                        <a:lnTo>
                          <a:pt x="1654" y="680"/>
                        </a:lnTo>
                        <a:lnTo>
                          <a:pt x="1632" y="680"/>
                        </a:lnTo>
                        <a:lnTo>
                          <a:pt x="1606" y="681"/>
                        </a:lnTo>
                        <a:lnTo>
                          <a:pt x="1577" y="681"/>
                        </a:lnTo>
                        <a:lnTo>
                          <a:pt x="1546" y="681"/>
                        </a:lnTo>
                        <a:lnTo>
                          <a:pt x="1512" y="681"/>
                        </a:lnTo>
                        <a:lnTo>
                          <a:pt x="1480" y="682"/>
                        </a:lnTo>
                        <a:lnTo>
                          <a:pt x="1448" y="682"/>
                        </a:lnTo>
                        <a:lnTo>
                          <a:pt x="1418" y="682"/>
                        </a:lnTo>
                        <a:lnTo>
                          <a:pt x="1390" y="683"/>
                        </a:lnTo>
                        <a:lnTo>
                          <a:pt x="1367" y="683"/>
                        </a:lnTo>
                        <a:lnTo>
                          <a:pt x="1348" y="683"/>
                        </a:lnTo>
                        <a:lnTo>
                          <a:pt x="1335" y="683"/>
                        </a:lnTo>
                        <a:lnTo>
                          <a:pt x="1328" y="683"/>
                        </a:lnTo>
                        <a:lnTo>
                          <a:pt x="1328" y="635"/>
                        </a:lnTo>
                        <a:lnTo>
                          <a:pt x="1328" y="543"/>
                        </a:lnTo>
                        <a:lnTo>
                          <a:pt x="1328" y="453"/>
                        </a:lnTo>
                        <a:lnTo>
                          <a:pt x="1328" y="413"/>
                        </a:lnTo>
                        <a:lnTo>
                          <a:pt x="1326" y="411"/>
                        </a:lnTo>
                        <a:lnTo>
                          <a:pt x="1321" y="410"/>
                        </a:lnTo>
                        <a:lnTo>
                          <a:pt x="1314" y="407"/>
                        </a:lnTo>
                        <a:lnTo>
                          <a:pt x="1306" y="405"/>
                        </a:lnTo>
                        <a:lnTo>
                          <a:pt x="1297" y="401"/>
                        </a:lnTo>
                        <a:lnTo>
                          <a:pt x="1289" y="398"/>
                        </a:lnTo>
                        <a:lnTo>
                          <a:pt x="1283" y="395"/>
                        </a:lnTo>
                        <a:lnTo>
                          <a:pt x="1279" y="393"/>
                        </a:lnTo>
                        <a:lnTo>
                          <a:pt x="1276" y="380"/>
                        </a:lnTo>
                        <a:lnTo>
                          <a:pt x="1269" y="352"/>
                        </a:lnTo>
                        <a:lnTo>
                          <a:pt x="1261" y="312"/>
                        </a:lnTo>
                        <a:lnTo>
                          <a:pt x="1251" y="267"/>
                        </a:lnTo>
                        <a:lnTo>
                          <a:pt x="1242" y="221"/>
                        </a:lnTo>
                        <a:lnTo>
                          <a:pt x="1233" y="181"/>
                        </a:lnTo>
                        <a:lnTo>
                          <a:pt x="1226" y="150"/>
                        </a:lnTo>
                        <a:lnTo>
                          <a:pt x="1222" y="135"/>
                        </a:lnTo>
                        <a:lnTo>
                          <a:pt x="1228" y="134"/>
                        </a:lnTo>
                        <a:lnTo>
                          <a:pt x="1235" y="134"/>
                        </a:lnTo>
                        <a:lnTo>
                          <a:pt x="1241" y="133"/>
                        </a:lnTo>
                        <a:lnTo>
                          <a:pt x="1245" y="133"/>
                        </a:lnTo>
                        <a:lnTo>
                          <a:pt x="1250" y="142"/>
                        </a:lnTo>
                        <a:lnTo>
                          <a:pt x="1260" y="159"/>
                        </a:lnTo>
                        <a:lnTo>
                          <a:pt x="1274" y="183"/>
                        </a:lnTo>
                        <a:lnTo>
                          <a:pt x="1289" y="210"/>
                        </a:lnTo>
                        <a:lnTo>
                          <a:pt x="1303" y="236"/>
                        </a:lnTo>
                        <a:lnTo>
                          <a:pt x="1315" y="259"/>
                        </a:lnTo>
                        <a:lnTo>
                          <a:pt x="1325" y="275"/>
                        </a:lnTo>
                        <a:lnTo>
                          <a:pt x="1328" y="281"/>
                        </a:lnTo>
                        <a:lnTo>
                          <a:pt x="1389" y="265"/>
                        </a:lnTo>
                        <a:lnTo>
                          <a:pt x="1386" y="258"/>
                        </a:lnTo>
                        <a:lnTo>
                          <a:pt x="1374" y="240"/>
                        </a:lnTo>
                        <a:lnTo>
                          <a:pt x="1359" y="213"/>
                        </a:lnTo>
                        <a:lnTo>
                          <a:pt x="1342" y="183"/>
                        </a:lnTo>
                        <a:lnTo>
                          <a:pt x="1325" y="153"/>
                        </a:lnTo>
                        <a:lnTo>
                          <a:pt x="1309" y="126"/>
                        </a:lnTo>
                        <a:lnTo>
                          <a:pt x="1297" y="105"/>
                        </a:lnTo>
                        <a:lnTo>
                          <a:pt x="1291" y="96"/>
                        </a:lnTo>
                        <a:lnTo>
                          <a:pt x="1296" y="89"/>
                        </a:lnTo>
                        <a:lnTo>
                          <a:pt x="1302" y="78"/>
                        </a:lnTo>
                        <a:lnTo>
                          <a:pt x="1306" y="69"/>
                        </a:lnTo>
                        <a:lnTo>
                          <a:pt x="1309" y="66"/>
                        </a:lnTo>
                        <a:lnTo>
                          <a:pt x="1305" y="5"/>
                        </a:lnTo>
                        <a:lnTo>
                          <a:pt x="1176" y="5"/>
                        </a:lnTo>
                        <a:lnTo>
                          <a:pt x="1176" y="9"/>
                        </a:lnTo>
                        <a:lnTo>
                          <a:pt x="1175" y="20"/>
                        </a:lnTo>
                        <a:lnTo>
                          <a:pt x="1174" y="32"/>
                        </a:lnTo>
                        <a:lnTo>
                          <a:pt x="1173" y="43"/>
                        </a:lnTo>
                        <a:lnTo>
                          <a:pt x="1160" y="41"/>
                        </a:lnTo>
                        <a:lnTo>
                          <a:pt x="1143" y="40"/>
                        </a:lnTo>
                        <a:lnTo>
                          <a:pt x="1122" y="38"/>
                        </a:lnTo>
                        <a:lnTo>
                          <a:pt x="1098" y="37"/>
                        </a:lnTo>
                        <a:lnTo>
                          <a:pt x="1071" y="35"/>
                        </a:lnTo>
                        <a:lnTo>
                          <a:pt x="1044" y="33"/>
                        </a:lnTo>
                        <a:lnTo>
                          <a:pt x="1016" y="32"/>
                        </a:lnTo>
                        <a:lnTo>
                          <a:pt x="989" y="32"/>
                        </a:lnTo>
                        <a:lnTo>
                          <a:pt x="983" y="32"/>
                        </a:lnTo>
                        <a:lnTo>
                          <a:pt x="974" y="32"/>
                        </a:lnTo>
                        <a:lnTo>
                          <a:pt x="968" y="32"/>
                        </a:lnTo>
                        <a:lnTo>
                          <a:pt x="962" y="32"/>
                        </a:lnTo>
                        <a:lnTo>
                          <a:pt x="955" y="32"/>
                        </a:lnTo>
                        <a:lnTo>
                          <a:pt x="948" y="32"/>
                        </a:lnTo>
                        <a:lnTo>
                          <a:pt x="942" y="33"/>
                        </a:lnTo>
                        <a:lnTo>
                          <a:pt x="936" y="33"/>
                        </a:lnTo>
                        <a:lnTo>
                          <a:pt x="904" y="38"/>
                        </a:lnTo>
                        <a:lnTo>
                          <a:pt x="875" y="44"/>
                        </a:lnTo>
                        <a:lnTo>
                          <a:pt x="850" y="52"/>
                        </a:lnTo>
                        <a:lnTo>
                          <a:pt x="827" y="61"/>
                        </a:lnTo>
                        <a:lnTo>
                          <a:pt x="809" y="70"/>
                        </a:lnTo>
                        <a:lnTo>
                          <a:pt x="792" y="79"/>
                        </a:lnTo>
                        <a:lnTo>
                          <a:pt x="781" y="86"/>
                        </a:lnTo>
                        <a:lnTo>
                          <a:pt x="773" y="92"/>
                        </a:lnTo>
                        <a:lnTo>
                          <a:pt x="758" y="104"/>
                        </a:lnTo>
                        <a:lnTo>
                          <a:pt x="735" y="123"/>
                        </a:lnTo>
                        <a:lnTo>
                          <a:pt x="706" y="147"/>
                        </a:lnTo>
                        <a:lnTo>
                          <a:pt x="676" y="174"/>
                        </a:lnTo>
                        <a:lnTo>
                          <a:pt x="646" y="199"/>
                        </a:lnTo>
                        <a:lnTo>
                          <a:pt x="620" y="221"/>
                        </a:lnTo>
                        <a:lnTo>
                          <a:pt x="601" y="239"/>
                        </a:lnTo>
                        <a:lnTo>
                          <a:pt x="592" y="245"/>
                        </a:lnTo>
                        <a:lnTo>
                          <a:pt x="604" y="258"/>
                        </a:lnTo>
                        <a:lnTo>
                          <a:pt x="610" y="251"/>
                        </a:lnTo>
                        <a:lnTo>
                          <a:pt x="629" y="236"/>
                        </a:lnTo>
                        <a:lnTo>
                          <a:pt x="654" y="213"/>
                        </a:lnTo>
                        <a:lnTo>
                          <a:pt x="684" y="188"/>
                        </a:lnTo>
                        <a:lnTo>
                          <a:pt x="715" y="161"/>
                        </a:lnTo>
                        <a:lnTo>
                          <a:pt x="744" y="136"/>
                        </a:lnTo>
                        <a:lnTo>
                          <a:pt x="768" y="116"/>
                        </a:lnTo>
                        <a:lnTo>
                          <a:pt x="783" y="105"/>
                        </a:lnTo>
                        <a:lnTo>
                          <a:pt x="796" y="96"/>
                        </a:lnTo>
                        <a:lnTo>
                          <a:pt x="811" y="88"/>
                        </a:lnTo>
                        <a:lnTo>
                          <a:pt x="828" y="78"/>
                        </a:lnTo>
                        <a:lnTo>
                          <a:pt x="847" y="70"/>
                        </a:lnTo>
                        <a:lnTo>
                          <a:pt x="867" y="63"/>
                        </a:lnTo>
                        <a:lnTo>
                          <a:pt x="889" y="58"/>
                        </a:lnTo>
                        <a:lnTo>
                          <a:pt x="913" y="53"/>
                        </a:lnTo>
                        <a:lnTo>
                          <a:pt x="938" y="50"/>
                        </a:lnTo>
                        <a:lnTo>
                          <a:pt x="953" y="48"/>
                        </a:lnTo>
                        <a:lnTo>
                          <a:pt x="970" y="48"/>
                        </a:lnTo>
                        <a:lnTo>
                          <a:pt x="987" y="48"/>
                        </a:lnTo>
                        <a:lnTo>
                          <a:pt x="1007" y="48"/>
                        </a:lnTo>
                        <a:lnTo>
                          <a:pt x="1026" y="48"/>
                        </a:lnTo>
                        <a:lnTo>
                          <a:pt x="1046" y="50"/>
                        </a:lnTo>
                        <a:lnTo>
                          <a:pt x="1067" y="51"/>
                        </a:lnTo>
                        <a:lnTo>
                          <a:pt x="1086" y="52"/>
                        </a:lnTo>
                        <a:lnTo>
                          <a:pt x="1105" y="53"/>
                        </a:lnTo>
                        <a:lnTo>
                          <a:pt x="1122" y="54"/>
                        </a:lnTo>
                        <a:lnTo>
                          <a:pt x="1137" y="55"/>
                        </a:lnTo>
                        <a:lnTo>
                          <a:pt x="1151" y="56"/>
                        </a:lnTo>
                        <a:lnTo>
                          <a:pt x="1162" y="58"/>
                        </a:lnTo>
                        <a:lnTo>
                          <a:pt x="1171" y="58"/>
                        </a:lnTo>
                        <a:lnTo>
                          <a:pt x="1177" y="59"/>
                        </a:lnTo>
                        <a:lnTo>
                          <a:pt x="1180" y="59"/>
                        </a:lnTo>
                        <a:lnTo>
                          <a:pt x="1188" y="60"/>
                        </a:lnTo>
                        <a:lnTo>
                          <a:pt x="1188" y="55"/>
                        </a:lnTo>
                        <a:lnTo>
                          <a:pt x="1189" y="44"/>
                        </a:lnTo>
                        <a:lnTo>
                          <a:pt x="1190" y="31"/>
                        </a:lnTo>
                        <a:lnTo>
                          <a:pt x="1191" y="21"/>
                        </a:lnTo>
                        <a:lnTo>
                          <a:pt x="1198" y="21"/>
                        </a:lnTo>
                        <a:lnTo>
                          <a:pt x="1209" y="22"/>
                        </a:lnTo>
                        <a:lnTo>
                          <a:pt x="1224" y="22"/>
                        </a:lnTo>
                        <a:lnTo>
                          <a:pt x="1241" y="22"/>
                        </a:lnTo>
                        <a:lnTo>
                          <a:pt x="1257" y="22"/>
                        </a:lnTo>
                        <a:lnTo>
                          <a:pt x="1272" y="22"/>
                        </a:lnTo>
                        <a:lnTo>
                          <a:pt x="1283" y="22"/>
                        </a:lnTo>
                        <a:lnTo>
                          <a:pt x="1290" y="22"/>
                        </a:lnTo>
                        <a:lnTo>
                          <a:pt x="1291" y="31"/>
                        </a:lnTo>
                        <a:lnTo>
                          <a:pt x="1291" y="44"/>
                        </a:lnTo>
                        <a:lnTo>
                          <a:pt x="1292" y="55"/>
                        </a:lnTo>
                        <a:lnTo>
                          <a:pt x="1292" y="62"/>
                        </a:lnTo>
                        <a:lnTo>
                          <a:pt x="1289" y="69"/>
                        </a:lnTo>
                        <a:lnTo>
                          <a:pt x="1282" y="81"/>
                        </a:lnTo>
                        <a:lnTo>
                          <a:pt x="1275" y="91"/>
                        </a:lnTo>
                        <a:lnTo>
                          <a:pt x="1273" y="96"/>
                        </a:lnTo>
                        <a:lnTo>
                          <a:pt x="1276" y="101"/>
                        </a:lnTo>
                        <a:lnTo>
                          <a:pt x="1285" y="119"/>
                        </a:lnTo>
                        <a:lnTo>
                          <a:pt x="1299" y="142"/>
                        </a:lnTo>
                        <a:lnTo>
                          <a:pt x="1315" y="169"/>
                        </a:lnTo>
                        <a:lnTo>
                          <a:pt x="1332" y="198"/>
                        </a:lnTo>
                        <a:lnTo>
                          <a:pt x="1347" y="224"/>
                        </a:lnTo>
                        <a:lnTo>
                          <a:pt x="1358" y="244"/>
                        </a:lnTo>
                        <a:lnTo>
                          <a:pt x="1365" y="256"/>
                        </a:lnTo>
                        <a:lnTo>
                          <a:pt x="1357" y="258"/>
                        </a:lnTo>
                        <a:lnTo>
                          <a:pt x="1349" y="259"/>
                        </a:lnTo>
                        <a:lnTo>
                          <a:pt x="1342" y="262"/>
                        </a:lnTo>
                        <a:lnTo>
                          <a:pt x="1336" y="264"/>
                        </a:lnTo>
                        <a:lnTo>
                          <a:pt x="1332" y="255"/>
                        </a:lnTo>
                        <a:lnTo>
                          <a:pt x="1321" y="236"/>
                        </a:lnTo>
                        <a:lnTo>
                          <a:pt x="1307" y="212"/>
                        </a:lnTo>
                        <a:lnTo>
                          <a:pt x="1294" y="186"/>
                        </a:lnTo>
                        <a:lnTo>
                          <a:pt x="1279" y="159"/>
                        </a:lnTo>
                        <a:lnTo>
                          <a:pt x="1266" y="137"/>
                        </a:lnTo>
                        <a:lnTo>
                          <a:pt x="1258" y="121"/>
                        </a:lnTo>
                        <a:lnTo>
                          <a:pt x="1254" y="115"/>
                        </a:lnTo>
                        <a:lnTo>
                          <a:pt x="1203" y="120"/>
                        </a:lnTo>
                        <a:lnTo>
                          <a:pt x="1265" y="405"/>
                        </a:lnTo>
                        <a:lnTo>
                          <a:pt x="1266" y="406"/>
                        </a:lnTo>
                        <a:lnTo>
                          <a:pt x="1271" y="407"/>
                        </a:lnTo>
                        <a:lnTo>
                          <a:pt x="1277" y="410"/>
                        </a:lnTo>
                        <a:lnTo>
                          <a:pt x="1285" y="413"/>
                        </a:lnTo>
                        <a:lnTo>
                          <a:pt x="1294" y="416"/>
                        </a:lnTo>
                        <a:lnTo>
                          <a:pt x="1302" y="420"/>
                        </a:lnTo>
                        <a:lnTo>
                          <a:pt x="1307" y="422"/>
                        </a:lnTo>
                        <a:lnTo>
                          <a:pt x="1312" y="424"/>
                        </a:lnTo>
                        <a:lnTo>
                          <a:pt x="1312" y="471"/>
                        </a:lnTo>
                        <a:lnTo>
                          <a:pt x="1312" y="566"/>
                        </a:lnTo>
                        <a:lnTo>
                          <a:pt x="1312" y="658"/>
                        </a:lnTo>
                        <a:lnTo>
                          <a:pt x="1312" y="700"/>
                        </a:lnTo>
                        <a:lnTo>
                          <a:pt x="1317" y="700"/>
                        </a:lnTo>
                        <a:lnTo>
                          <a:pt x="1328" y="700"/>
                        </a:lnTo>
                        <a:lnTo>
                          <a:pt x="1347" y="700"/>
                        </a:lnTo>
                        <a:lnTo>
                          <a:pt x="1370" y="700"/>
                        </a:lnTo>
                        <a:lnTo>
                          <a:pt x="1397" y="698"/>
                        </a:lnTo>
                        <a:lnTo>
                          <a:pt x="1428" y="698"/>
                        </a:lnTo>
                        <a:lnTo>
                          <a:pt x="1462" y="698"/>
                        </a:lnTo>
                        <a:lnTo>
                          <a:pt x="1496" y="697"/>
                        </a:lnTo>
                        <a:lnTo>
                          <a:pt x="1531" y="697"/>
                        </a:lnTo>
                        <a:lnTo>
                          <a:pt x="1564" y="697"/>
                        </a:lnTo>
                        <a:lnTo>
                          <a:pt x="1595" y="697"/>
                        </a:lnTo>
                        <a:lnTo>
                          <a:pt x="1624" y="696"/>
                        </a:lnTo>
                        <a:lnTo>
                          <a:pt x="1648" y="696"/>
                        </a:lnTo>
                        <a:lnTo>
                          <a:pt x="1667" y="696"/>
                        </a:lnTo>
                        <a:lnTo>
                          <a:pt x="1678" y="696"/>
                        </a:lnTo>
                        <a:lnTo>
                          <a:pt x="1683" y="696"/>
                        </a:lnTo>
                        <a:lnTo>
                          <a:pt x="1688" y="697"/>
                        </a:lnTo>
                        <a:lnTo>
                          <a:pt x="1696" y="702"/>
                        </a:lnTo>
                        <a:lnTo>
                          <a:pt x="1708" y="707"/>
                        </a:lnTo>
                        <a:lnTo>
                          <a:pt x="1722" y="712"/>
                        </a:lnTo>
                        <a:lnTo>
                          <a:pt x="1736" y="718"/>
                        </a:lnTo>
                        <a:lnTo>
                          <a:pt x="1749" y="724"/>
                        </a:lnTo>
                        <a:lnTo>
                          <a:pt x="1760" y="728"/>
                        </a:lnTo>
                        <a:lnTo>
                          <a:pt x="1767" y="731"/>
                        </a:lnTo>
                        <a:lnTo>
                          <a:pt x="1760" y="746"/>
                        </a:lnTo>
                        <a:lnTo>
                          <a:pt x="1754" y="762"/>
                        </a:lnTo>
                        <a:lnTo>
                          <a:pt x="1751" y="777"/>
                        </a:lnTo>
                        <a:lnTo>
                          <a:pt x="1750" y="793"/>
                        </a:lnTo>
                        <a:lnTo>
                          <a:pt x="1751" y="810"/>
                        </a:lnTo>
                        <a:lnTo>
                          <a:pt x="1754" y="826"/>
                        </a:lnTo>
                        <a:lnTo>
                          <a:pt x="1759" y="843"/>
                        </a:lnTo>
                        <a:lnTo>
                          <a:pt x="1767" y="858"/>
                        </a:lnTo>
                        <a:lnTo>
                          <a:pt x="1776" y="870"/>
                        </a:lnTo>
                        <a:lnTo>
                          <a:pt x="1787" y="882"/>
                        </a:lnTo>
                        <a:lnTo>
                          <a:pt x="1797" y="891"/>
                        </a:lnTo>
                        <a:lnTo>
                          <a:pt x="1810" y="899"/>
                        </a:lnTo>
                        <a:lnTo>
                          <a:pt x="1823" y="905"/>
                        </a:lnTo>
                        <a:lnTo>
                          <a:pt x="1838" y="909"/>
                        </a:lnTo>
                        <a:lnTo>
                          <a:pt x="1853" y="912"/>
                        </a:lnTo>
                        <a:lnTo>
                          <a:pt x="1870" y="913"/>
                        </a:lnTo>
                        <a:lnTo>
                          <a:pt x="1901" y="908"/>
                        </a:lnTo>
                        <a:lnTo>
                          <a:pt x="1926" y="896"/>
                        </a:lnTo>
                        <a:lnTo>
                          <a:pt x="1946" y="879"/>
                        </a:lnTo>
                        <a:lnTo>
                          <a:pt x="1961" y="861"/>
                        </a:lnTo>
                        <a:lnTo>
                          <a:pt x="1971" y="840"/>
                        </a:lnTo>
                        <a:lnTo>
                          <a:pt x="1979" y="821"/>
                        </a:lnTo>
                        <a:lnTo>
                          <a:pt x="1982" y="804"/>
                        </a:lnTo>
                        <a:lnTo>
                          <a:pt x="1985" y="792"/>
                        </a:lnTo>
                        <a:lnTo>
                          <a:pt x="1990" y="792"/>
                        </a:lnTo>
                        <a:lnTo>
                          <a:pt x="1999" y="791"/>
                        </a:lnTo>
                        <a:lnTo>
                          <a:pt x="2009" y="791"/>
                        </a:lnTo>
                        <a:lnTo>
                          <a:pt x="2019" y="790"/>
                        </a:lnTo>
                        <a:lnTo>
                          <a:pt x="2030" y="790"/>
                        </a:lnTo>
                        <a:lnTo>
                          <a:pt x="2038" y="788"/>
                        </a:lnTo>
                        <a:lnTo>
                          <a:pt x="2043" y="788"/>
                        </a:lnTo>
                        <a:lnTo>
                          <a:pt x="2046" y="788"/>
                        </a:lnTo>
                        <a:lnTo>
                          <a:pt x="2046" y="779"/>
                        </a:lnTo>
                        <a:lnTo>
                          <a:pt x="2041" y="750"/>
                        </a:lnTo>
                        <a:lnTo>
                          <a:pt x="2035" y="724"/>
                        </a:lnTo>
                        <a:lnTo>
                          <a:pt x="2027" y="701"/>
                        </a:lnTo>
                        <a:lnTo>
                          <a:pt x="2018" y="680"/>
                        </a:lnTo>
                        <a:lnTo>
                          <a:pt x="2007" y="663"/>
                        </a:lnTo>
                        <a:lnTo>
                          <a:pt x="1993" y="647"/>
                        </a:lnTo>
                        <a:lnTo>
                          <a:pt x="1977" y="632"/>
                        </a:lnTo>
                        <a:lnTo>
                          <a:pt x="1959" y="619"/>
                        </a:lnTo>
                        <a:lnTo>
                          <a:pt x="1933" y="605"/>
                        </a:lnTo>
                        <a:lnTo>
                          <a:pt x="1906" y="596"/>
                        </a:lnTo>
                        <a:lnTo>
                          <a:pt x="1881" y="591"/>
                        </a:lnTo>
                        <a:lnTo>
                          <a:pt x="1856" y="590"/>
                        </a:lnTo>
                        <a:lnTo>
                          <a:pt x="1834" y="591"/>
                        </a:lnTo>
                        <a:lnTo>
                          <a:pt x="1814" y="594"/>
                        </a:lnTo>
                        <a:lnTo>
                          <a:pt x="1798" y="597"/>
                        </a:lnTo>
                        <a:lnTo>
                          <a:pt x="1787" y="600"/>
                        </a:lnTo>
                        <a:lnTo>
                          <a:pt x="1780" y="603"/>
                        </a:lnTo>
                        <a:lnTo>
                          <a:pt x="1772" y="606"/>
                        </a:lnTo>
                        <a:lnTo>
                          <a:pt x="1765" y="610"/>
                        </a:lnTo>
                        <a:lnTo>
                          <a:pt x="1759" y="613"/>
                        </a:lnTo>
                        <a:lnTo>
                          <a:pt x="1752" y="618"/>
                        </a:lnTo>
                        <a:lnTo>
                          <a:pt x="1746" y="621"/>
                        </a:lnTo>
                        <a:lnTo>
                          <a:pt x="1740" y="626"/>
                        </a:lnTo>
                        <a:lnTo>
                          <a:pt x="1735" y="629"/>
                        </a:lnTo>
                        <a:lnTo>
                          <a:pt x="1745" y="602"/>
                        </a:lnTo>
                        <a:lnTo>
                          <a:pt x="1754" y="573"/>
                        </a:lnTo>
                        <a:lnTo>
                          <a:pt x="1762" y="550"/>
                        </a:lnTo>
                        <a:lnTo>
                          <a:pt x="1767" y="537"/>
                        </a:lnTo>
                        <a:lnTo>
                          <a:pt x="1777" y="536"/>
                        </a:lnTo>
                        <a:lnTo>
                          <a:pt x="1793" y="535"/>
                        </a:lnTo>
                        <a:lnTo>
                          <a:pt x="1813" y="534"/>
                        </a:lnTo>
                        <a:lnTo>
                          <a:pt x="1836" y="531"/>
                        </a:lnTo>
                        <a:lnTo>
                          <a:pt x="1859" y="530"/>
                        </a:lnTo>
                        <a:lnTo>
                          <a:pt x="1883" y="529"/>
                        </a:lnTo>
                        <a:lnTo>
                          <a:pt x="1905" y="528"/>
                        </a:lnTo>
                        <a:lnTo>
                          <a:pt x="1926" y="528"/>
                        </a:lnTo>
                        <a:lnTo>
                          <a:pt x="1944" y="529"/>
                        </a:lnTo>
                        <a:lnTo>
                          <a:pt x="1959" y="531"/>
                        </a:lnTo>
                        <a:lnTo>
                          <a:pt x="1973" y="535"/>
                        </a:lnTo>
                        <a:lnTo>
                          <a:pt x="1985" y="539"/>
                        </a:lnTo>
                        <a:lnTo>
                          <a:pt x="1994" y="544"/>
                        </a:lnTo>
                        <a:lnTo>
                          <a:pt x="2001" y="549"/>
                        </a:lnTo>
                        <a:lnTo>
                          <a:pt x="2007" y="551"/>
                        </a:lnTo>
                        <a:lnTo>
                          <a:pt x="2009" y="553"/>
                        </a:lnTo>
                        <a:lnTo>
                          <a:pt x="2011" y="559"/>
                        </a:lnTo>
                        <a:lnTo>
                          <a:pt x="2016" y="572"/>
                        </a:lnTo>
                        <a:lnTo>
                          <a:pt x="2022" y="589"/>
                        </a:lnTo>
                        <a:lnTo>
                          <a:pt x="2028" y="607"/>
                        </a:lnTo>
                        <a:lnTo>
                          <a:pt x="2037" y="626"/>
                        </a:lnTo>
                        <a:lnTo>
                          <a:pt x="2042" y="642"/>
                        </a:lnTo>
                        <a:lnTo>
                          <a:pt x="2047" y="653"/>
                        </a:lnTo>
                        <a:lnTo>
                          <a:pt x="2048" y="658"/>
                        </a:lnTo>
                        <a:lnTo>
                          <a:pt x="2168" y="655"/>
                        </a:lnTo>
                        <a:lnTo>
                          <a:pt x="2142" y="517"/>
                        </a:lnTo>
                        <a:lnTo>
                          <a:pt x="2137" y="515"/>
                        </a:lnTo>
                        <a:lnTo>
                          <a:pt x="2121" y="511"/>
                        </a:lnTo>
                        <a:lnTo>
                          <a:pt x="2099" y="504"/>
                        </a:lnTo>
                        <a:lnTo>
                          <a:pt x="2072" y="494"/>
                        </a:lnTo>
                        <a:lnTo>
                          <a:pt x="2046" y="486"/>
                        </a:lnTo>
                        <a:lnTo>
                          <a:pt x="2022" y="478"/>
                        </a:lnTo>
                        <a:lnTo>
                          <a:pt x="2004" y="473"/>
                        </a:lnTo>
                        <a:lnTo>
                          <a:pt x="1995" y="469"/>
                        </a:lnTo>
                        <a:lnTo>
                          <a:pt x="1995" y="462"/>
                        </a:lnTo>
                        <a:lnTo>
                          <a:pt x="1995" y="455"/>
                        </a:lnTo>
                        <a:lnTo>
                          <a:pt x="1995" y="449"/>
                        </a:lnTo>
                        <a:lnTo>
                          <a:pt x="1995" y="447"/>
                        </a:lnTo>
                        <a:lnTo>
                          <a:pt x="1924" y="346"/>
                        </a:lnTo>
                        <a:lnTo>
                          <a:pt x="1921" y="346"/>
                        </a:lnTo>
                        <a:lnTo>
                          <a:pt x="1914" y="347"/>
                        </a:lnTo>
                        <a:lnTo>
                          <a:pt x="1905" y="348"/>
                        </a:lnTo>
                        <a:lnTo>
                          <a:pt x="1891" y="350"/>
                        </a:lnTo>
                        <a:lnTo>
                          <a:pt x="1876" y="353"/>
                        </a:lnTo>
                        <a:lnTo>
                          <a:pt x="1859" y="356"/>
                        </a:lnTo>
                        <a:lnTo>
                          <a:pt x="1841" y="358"/>
                        </a:lnTo>
                        <a:lnTo>
                          <a:pt x="1821" y="362"/>
                        </a:lnTo>
                        <a:lnTo>
                          <a:pt x="1803" y="364"/>
                        </a:lnTo>
                        <a:lnTo>
                          <a:pt x="1783" y="368"/>
                        </a:lnTo>
                        <a:lnTo>
                          <a:pt x="1766" y="370"/>
                        </a:lnTo>
                        <a:lnTo>
                          <a:pt x="1750" y="372"/>
                        </a:lnTo>
                        <a:lnTo>
                          <a:pt x="1737" y="375"/>
                        </a:lnTo>
                        <a:lnTo>
                          <a:pt x="1726" y="377"/>
                        </a:lnTo>
                        <a:lnTo>
                          <a:pt x="1719" y="378"/>
                        </a:lnTo>
                        <a:lnTo>
                          <a:pt x="1715" y="378"/>
                        </a:lnTo>
                        <a:lnTo>
                          <a:pt x="1713" y="377"/>
                        </a:lnTo>
                        <a:lnTo>
                          <a:pt x="1709" y="375"/>
                        </a:lnTo>
                        <a:lnTo>
                          <a:pt x="1704" y="372"/>
                        </a:lnTo>
                        <a:lnTo>
                          <a:pt x="1698" y="369"/>
                        </a:lnTo>
                        <a:lnTo>
                          <a:pt x="1691" y="364"/>
                        </a:lnTo>
                        <a:lnTo>
                          <a:pt x="1684" y="361"/>
                        </a:lnTo>
                        <a:lnTo>
                          <a:pt x="1676" y="356"/>
                        </a:lnTo>
                        <a:lnTo>
                          <a:pt x="1669" y="352"/>
                        </a:lnTo>
                        <a:lnTo>
                          <a:pt x="1679" y="349"/>
                        </a:lnTo>
                        <a:lnTo>
                          <a:pt x="1694" y="347"/>
                        </a:lnTo>
                        <a:lnTo>
                          <a:pt x="1715" y="342"/>
                        </a:lnTo>
                        <a:lnTo>
                          <a:pt x="1739" y="338"/>
                        </a:lnTo>
                        <a:lnTo>
                          <a:pt x="1766" y="332"/>
                        </a:lnTo>
                        <a:lnTo>
                          <a:pt x="1796" y="326"/>
                        </a:lnTo>
                        <a:lnTo>
                          <a:pt x="1827" y="320"/>
                        </a:lnTo>
                        <a:lnTo>
                          <a:pt x="1858" y="313"/>
                        </a:lnTo>
                        <a:lnTo>
                          <a:pt x="1888" y="308"/>
                        </a:lnTo>
                        <a:lnTo>
                          <a:pt x="1918" y="302"/>
                        </a:lnTo>
                        <a:lnTo>
                          <a:pt x="1944" y="296"/>
                        </a:lnTo>
                        <a:lnTo>
                          <a:pt x="1969" y="292"/>
                        </a:lnTo>
                        <a:lnTo>
                          <a:pt x="1989" y="287"/>
                        </a:lnTo>
                        <a:lnTo>
                          <a:pt x="2004" y="284"/>
                        </a:lnTo>
                        <a:lnTo>
                          <a:pt x="2015" y="282"/>
                        </a:lnTo>
                        <a:lnTo>
                          <a:pt x="2018" y="281"/>
                        </a:lnTo>
                        <a:lnTo>
                          <a:pt x="1969" y="190"/>
                        </a:lnTo>
                        <a:lnTo>
                          <a:pt x="1535" y="343"/>
                        </a:lnTo>
                        <a:lnTo>
                          <a:pt x="1540" y="346"/>
                        </a:lnTo>
                        <a:lnTo>
                          <a:pt x="1553" y="353"/>
                        </a:lnTo>
                        <a:lnTo>
                          <a:pt x="1571" y="363"/>
                        </a:lnTo>
                        <a:lnTo>
                          <a:pt x="1593" y="375"/>
                        </a:lnTo>
                        <a:lnTo>
                          <a:pt x="1614" y="386"/>
                        </a:lnTo>
                        <a:lnTo>
                          <a:pt x="1632" y="396"/>
                        </a:lnTo>
                        <a:lnTo>
                          <a:pt x="1646" y="405"/>
                        </a:lnTo>
                        <a:lnTo>
                          <a:pt x="1653" y="408"/>
                        </a:lnTo>
                        <a:lnTo>
                          <a:pt x="1654" y="411"/>
                        </a:lnTo>
                        <a:lnTo>
                          <a:pt x="1656" y="418"/>
                        </a:lnTo>
                        <a:lnTo>
                          <a:pt x="1660" y="425"/>
                        </a:lnTo>
                        <a:lnTo>
                          <a:pt x="1663" y="432"/>
                        </a:lnTo>
                        <a:lnTo>
                          <a:pt x="1658" y="432"/>
                        </a:lnTo>
                        <a:lnTo>
                          <a:pt x="1648" y="432"/>
                        </a:lnTo>
                        <a:lnTo>
                          <a:pt x="1635" y="432"/>
                        </a:lnTo>
                        <a:lnTo>
                          <a:pt x="1620" y="432"/>
                        </a:lnTo>
                        <a:lnTo>
                          <a:pt x="1602" y="432"/>
                        </a:lnTo>
                        <a:lnTo>
                          <a:pt x="1584" y="432"/>
                        </a:lnTo>
                        <a:lnTo>
                          <a:pt x="1563" y="432"/>
                        </a:lnTo>
                        <a:lnTo>
                          <a:pt x="1544" y="432"/>
                        </a:lnTo>
                        <a:lnTo>
                          <a:pt x="1523" y="432"/>
                        </a:lnTo>
                        <a:lnTo>
                          <a:pt x="1504" y="432"/>
                        </a:lnTo>
                        <a:lnTo>
                          <a:pt x="1486" y="432"/>
                        </a:lnTo>
                        <a:lnTo>
                          <a:pt x="1470" y="432"/>
                        </a:lnTo>
                        <a:lnTo>
                          <a:pt x="1456" y="432"/>
                        </a:lnTo>
                        <a:lnTo>
                          <a:pt x="1444" y="432"/>
                        </a:lnTo>
                        <a:lnTo>
                          <a:pt x="1436" y="432"/>
                        </a:lnTo>
                        <a:lnTo>
                          <a:pt x="1433" y="432"/>
                        </a:lnTo>
                        <a:lnTo>
                          <a:pt x="1429" y="425"/>
                        </a:lnTo>
                        <a:lnTo>
                          <a:pt x="1421" y="413"/>
                        </a:lnTo>
                        <a:lnTo>
                          <a:pt x="1411" y="395"/>
                        </a:lnTo>
                        <a:lnTo>
                          <a:pt x="1400" y="376"/>
                        </a:lnTo>
                        <a:lnTo>
                          <a:pt x="1388" y="355"/>
                        </a:lnTo>
                        <a:lnTo>
                          <a:pt x="1378" y="337"/>
                        </a:lnTo>
                        <a:lnTo>
                          <a:pt x="1368" y="322"/>
                        </a:lnTo>
                        <a:lnTo>
                          <a:pt x="1364" y="312"/>
                        </a:lnTo>
                        <a:lnTo>
                          <a:pt x="1374" y="310"/>
                        </a:lnTo>
                        <a:lnTo>
                          <a:pt x="1390" y="305"/>
                        </a:lnTo>
                        <a:lnTo>
                          <a:pt x="1409" y="300"/>
                        </a:lnTo>
                        <a:lnTo>
                          <a:pt x="1431" y="294"/>
                        </a:lnTo>
                        <a:lnTo>
                          <a:pt x="1450" y="289"/>
                        </a:lnTo>
                        <a:lnTo>
                          <a:pt x="1467" y="285"/>
                        </a:lnTo>
                        <a:lnTo>
                          <a:pt x="1479" y="281"/>
                        </a:lnTo>
                        <a:lnTo>
                          <a:pt x="1484" y="280"/>
                        </a:lnTo>
                        <a:lnTo>
                          <a:pt x="1495" y="275"/>
                        </a:lnTo>
                        <a:lnTo>
                          <a:pt x="1518" y="267"/>
                        </a:lnTo>
                        <a:lnTo>
                          <a:pt x="1552" y="255"/>
                        </a:lnTo>
                        <a:lnTo>
                          <a:pt x="1593" y="239"/>
                        </a:lnTo>
                        <a:lnTo>
                          <a:pt x="1641" y="220"/>
                        </a:lnTo>
                        <a:lnTo>
                          <a:pt x="1696" y="199"/>
                        </a:lnTo>
                        <a:lnTo>
                          <a:pt x="1752" y="177"/>
                        </a:lnTo>
                        <a:lnTo>
                          <a:pt x="1812" y="154"/>
                        </a:lnTo>
                        <a:lnTo>
                          <a:pt x="1871" y="133"/>
                        </a:lnTo>
                        <a:lnTo>
                          <a:pt x="1929" y="109"/>
                        </a:lnTo>
                        <a:lnTo>
                          <a:pt x="1984" y="89"/>
                        </a:lnTo>
                        <a:lnTo>
                          <a:pt x="2034" y="69"/>
                        </a:lnTo>
                        <a:lnTo>
                          <a:pt x="2078" y="52"/>
                        </a:lnTo>
                        <a:lnTo>
                          <a:pt x="2114" y="37"/>
                        </a:lnTo>
                        <a:lnTo>
                          <a:pt x="2140" y="26"/>
                        </a:lnTo>
                        <a:lnTo>
                          <a:pt x="2155" y="20"/>
                        </a:lnTo>
                        <a:lnTo>
                          <a:pt x="2162" y="17"/>
                        </a:lnTo>
                        <a:lnTo>
                          <a:pt x="2168" y="16"/>
                        </a:lnTo>
                        <a:lnTo>
                          <a:pt x="2174" y="16"/>
                        </a:lnTo>
                        <a:lnTo>
                          <a:pt x="2178" y="18"/>
                        </a:lnTo>
                        <a:lnTo>
                          <a:pt x="2185" y="25"/>
                        </a:lnTo>
                        <a:lnTo>
                          <a:pt x="2190" y="36"/>
                        </a:lnTo>
                        <a:lnTo>
                          <a:pt x="2193" y="46"/>
                        </a:lnTo>
                        <a:lnTo>
                          <a:pt x="2194" y="55"/>
                        </a:lnTo>
                        <a:lnTo>
                          <a:pt x="2192" y="60"/>
                        </a:lnTo>
                        <a:lnTo>
                          <a:pt x="2187" y="68"/>
                        </a:lnTo>
                        <a:lnTo>
                          <a:pt x="2182" y="79"/>
                        </a:lnTo>
                        <a:lnTo>
                          <a:pt x="2175" y="92"/>
                        </a:lnTo>
                        <a:lnTo>
                          <a:pt x="2168" y="106"/>
                        </a:lnTo>
                        <a:lnTo>
                          <a:pt x="2162" y="118"/>
                        </a:lnTo>
                        <a:lnTo>
                          <a:pt x="2157" y="126"/>
                        </a:lnTo>
                        <a:lnTo>
                          <a:pt x="2155" y="130"/>
                        </a:lnTo>
                        <a:lnTo>
                          <a:pt x="2149" y="133"/>
                        </a:lnTo>
                        <a:lnTo>
                          <a:pt x="2136" y="138"/>
                        </a:lnTo>
                        <a:lnTo>
                          <a:pt x="2117" y="146"/>
                        </a:lnTo>
                        <a:lnTo>
                          <a:pt x="2098" y="154"/>
                        </a:lnTo>
                        <a:lnTo>
                          <a:pt x="2077" y="162"/>
                        </a:lnTo>
                        <a:lnTo>
                          <a:pt x="2060" y="169"/>
                        </a:lnTo>
                        <a:lnTo>
                          <a:pt x="2047" y="174"/>
                        </a:lnTo>
                        <a:lnTo>
                          <a:pt x="2042" y="176"/>
                        </a:lnTo>
                        <a:lnTo>
                          <a:pt x="2042" y="215"/>
                        </a:lnTo>
                        <a:lnTo>
                          <a:pt x="2046" y="222"/>
                        </a:lnTo>
                        <a:lnTo>
                          <a:pt x="2057" y="240"/>
                        </a:lnTo>
                        <a:lnTo>
                          <a:pt x="2072" y="266"/>
                        </a:lnTo>
                        <a:lnTo>
                          <a:pt x="2090" y="295"/>
                        </a:lnTo>
                        <a:lnTo>
                          <a:pt x="2107" y="325"/>
                        </a:lnTo>
                        <a:lnTo>
                          <a:pt x="2123" y="352"/>
                        </a:lnTo>
                        <a:lnTo>
                          <a:pt x="2134" y="371"/>
                        </a:lnTo>
                        <a:lnTo>
                          <a:pt x="2139" y="380"/>
                        </a:lnTo>
                        <a:lnTo>
                          <a:pt x="2134" y="392"/>
                        </a:lnTo>
                        <a:lnTo>
                          <a:pt x="2125" y="410"/>
                        </a:lnTo>
                        <a:lnTo>
                          <a:pt x="2117" y="426"/>
                        </a:lnTo>
                        <a:lnTo>
                          <a:pt x="2114" y="434"/>
                        </a:lnTo>
                        <a:lnTo>
                          <a:pt x="2121" y="445"/>
                        </a:lnTo>
                        <a:lnTo>
                          <a:pt x="2138" y="473"/>
                        </a:lnTo>
                        <a:lnTo>
                          <a:pt x="2163" y="512"/>
                        </a:lnTo>
                        <a:lnTo>
                          <a:pt x="2191" y="556"/>
                        </a:lnTo>
                        <a:lnTo>
                          <a:pt x="2220" y="602"/>
                        </a:lnTo>
                        <a:lnTo>
                          <a:pt x="2245" y="641"/>
                        </a:lnTo>
                        <a:lnTo>
                          <a:pt x="2263" y="670"/>
                        </a:lnTo>
                        <a:lnTo>
                          <a:pt x="2270" y="681"/>
                        </a:lnTo>
                        <a:lnTo>
                          <a:pt x="2270" y="688"/>
                        </a:lnTo>
                        <a:lnTo>
                          <a:pt x="2269" y="701"/>
                        </a:lnTo>
                        <a:lnTo>
                          <a:pt x="2268" y="715"/>
                        </a:lnTo>
                        <a:lnTo>
                          <a:pt x="2268" y="724"/>
                        </a:lnTo>
                        <a:lnTo>
                          <a:pt x="2263" y="725"/>
                        </a:lnTo>
                        <a:lnTo>
                          <a:pt x="2258" y="727"/>
                        </a:lnTo>
                        <a:lnTo>
                          <a:pt x="2251" y="728"/>
                        </a:lnTo>
                        <a:lnTo>
                          <a:pt x="2243" y="731"/>
                        </a:lnTo>
                        <a:lnTo>
                          <a:pt x="2235" y="732"/>
                        </a:lnTo>
                        <a:lnTo>
                          <a:pt x="2225" y="733"/>
                        </a:lnTo>
                        <a:lnTo>
                          <a:pt x="2217" y="734"/>
                        </a:lnTo>
                        <a:lnTo>
                          <a:pt x="2209" y="734"/>
                        </a:lnTo>
                        <a:lnTo>
                          <a:pt x="2199" y="733"/>
                        </a:lnTo>
                        <a:lnTo>
                          <a:pt x="2189" y="731"/>
                        </a:lnTo>
                        <a:lnTo>
                          <a:pt x="2178" y="726"/>
                        </a:lnTo>
                        <a:lnTo>
                          <a:pt x="2168" y="722"/>
                        </a:lnTo>
                        <a:lnTo>
                          <a:pt x="2160" y="718"/>
                        </a:lnTo>
                        <a:lnTo>
                          <a:pt x="2153" y="713"/>
                        </a:lnTo>
                        <a:lnTo>
                          <a:pt x="2148" y="711"/>
                        </a:lnTo>
                        <a:lnTo>
                          <a:pt x="2147" y="710"/>
                        </a:lnTo>
                        <a:lnTo>
                          <a:pt x="2145" y="709"/>
                        </a:lnTo>
                        <a:lnTo>
                          <a:pt x="2071" y="709"/>
                        </a:lnTo>
                        <a:lnTo>
                          <a:pt x="2071" y="876"/>
                        </a:lnTo>
                        <a:lnTo>
                          <a:pt x="2071" y="882"/>
                        </a:lnTo>
                        <a:lnTo>
                          <a:pt x="2070" y="887"/>
                        </a:lnTo>
                        <a:lnTo>
                          <a:pt x="2069" y="891"/>
                        </a:lnTo>
                        <a:lnTo>
                          <a:pt x="2066" y="893"/>
                        </a:lnTo>
                        <a:lnTo>
                          <a:pt x="2063" y="894"/>
                        </a:lnTo>
                        <a:lnTo>
                          <a:pt x="2060" y="894"/>
                        </a:lnTo>
                        <a:lnTo>
                          <a:pt x="2055" y="894"/>
                        </a:lnTo>
                        <a:lnTo>
                          <a:pt x="2053" y="893"/>
                        </a:lnTo>
                        <a:lnTo>
                          <a:pt x="2047" y="890"/>
                        </a:lnTo>
                        <a:lnTo>
                          <a:pt x="2037" y="883"/>
                        </a:lnTo>
                        <a:lnTo>
                          <a:pt x="2025" y="876"/>
                        </a:lnTo>
                        <a:lnTo>
                          <a:pt x="2019" y="872"/>
                        </a:lnTo>
                        <a:lnTo>
                          <a:pt x="2013" y="868"/>
                        </a:lnTo>
                        <a:lnTo>
                          <a:pt x="2008" y="877"/>
                        </a:lnTo>
                        <a:lnTo>
                          <a:pt x="2005" y="884"/>
                        </a:lnTo>
                        <a:lnTo>
                          <a:pt x="2001" y="891"/>
                        </a:lnTo>
                        <a:lnTo>
                          <a:pt x="1995" y="899"/>
                        </a:lnTo>
                        <a:lnTo>
                          <a:pt x="1988" y="908"/>
                        </a:lnTo>
                        <a:lnTo>
                          <a:pt x="1979" y="917"/>
                        </a:lnTo>
                        <a:lnTo>
                          <a:pt x="1970" y="926"/>
                        </a:lnTo>
                        <a:lnTo>
                          <a:pt x="1958" y="934"/>
                        </a:lnTo>
                        <a:lnTo>
                          <a:pt x="1946" y="942"/>
                        </a:lnTo>
                        <a:lnTo>
                          <a:pt x="1941" y="944"/>
                        </a:lnTo>
                        <a:lnTo>
                          <a:pt x="1935" y="947"/>
                        </a:lnTo>
                        <a:lnTo>
                          <a:pt x="1928" y="950"/>
                        </a:lnTo>
                        <a:lnTo>
                          <a:pt x="1921" y="953"/>
                        </a:lnTo>
                        <a:lnTo>
                          <a:pt x="1914" y="955"/>
                        </a:lnTo>
                        <a:lnTo>
                          <a:pt x="1906" y="958"/>
                        </a:lnTo>
                        <a:lnTo>
                          <a:pt x="1898" y="960"/>
                        </a:lnTo>
                        <a:lnTo>
                          <a:pt x="1889" y="962"/>
                        </a:lnTo>
                        <a:lnTo>
                          <a:pt x="1881" y="964"/>
                        </a:lnTo>
                        <a:lnTo>
                          <a:pt x="1873" y="965"/>
                        </a:lnTo>
                        <a:lnTo>
                          <a:pt x="1865" y="966"/>
                        </a:lnTo>
                        <a:lnTo>
                          <a:pt x="1856" y="966"/>
                        </a:lnTo>
                        <a:lnTo>
                          <a:pt x="1846" y="966"/>
                        </a:lnTo>
                        <a:lnTo>
                          <a:pt x="1837" y="965"/>
                        </a:lnTo>
                        <a:lnTo>
                          <a:pt x="1828" y="962"/>
                        </a:lnTo>
                        <a:lnTo>
                          <a:pt x="1818" y="960"/>
                        </a:lnTo>
                        <a:lnTo>
                          <a:pt x="1784" y="946"/>
                        </a:lnTo>
                        <a:lnTo>
                          <a:pt x="1755" y="929"/>
                        </a:lnTo>
                        <a:lnTo>
                          <a:pt x="1731" y="908"/>
                        </a:lnTo>
                        <a:lnTo>
                          <a:pt x="1713" y="886"/>
                        </a:lnTo>
                        <a:lnTo>
                          <a:pt x="1699" y="867"/>
                        </a:lnTo>
                        <a:lnTo>
                          <a:pt x="1689" y="849"/>
                        </a:lnTo>
                        <a:lnTo>
                          <a:pt x="1683" y="838"/>
                        </a:lnTo>
                        <a:lnTo>
                          <a:pt x="1681" y="833"/>
                        </a:lnTo>
                        <a:lnTo>
                          <a:pt x="1678" y="830"/>
                        </a:lnTo>
                        <a:lnTo>
                          <a:pt x="1675" y="830"/>
                        </a:lnTo>
                        <a:lnTo>
                          <a:pt x="1643" y="823"/>
                        </a:lnTo>
                        <a:lnTo>
                          <a:pt x="1616" y="810"/>
                        </a:lnTo>
                        <a:lnTo>
                          <a:pt x="1595" y="796"/>
                        </a:lnTo>
                        <a:lnTo>
                          <a:pt x="1579" y="780"/>
                        </a:lnTo>
                        <a:lnTo>
                          <a:pt x="1567" y="765"/>
                        </a:lnTo>
                        <a:lnTo>
                          <a:pt x="1558" y="751"/>
                        </a:lnTo>
                        <a:lnTo>
                          <a:pt x="1554" y="742"/>
                        </a:lnTo>
                        <a:lnTo>
                          <a:pt x="1553" y="738"/>
                        </a:lnTo>
                        <a:lnTo>
                          <a:pt x="1552" y="731"/>
                        </a:lnTo>
                        <a:lnTo>
                          <a:pt x="1548" y="731"/>
                        </a:lnTo>
                        <a:lnTo>
                          <a:pt x="1540" y="731"/>
                        </a:lnTo>
                        <a:lnTo>
                          <a:pt x="1527" y="731"/>
                        </a:lnTo>
                        <a:lnTo>
                          <a:pt x="1511" y="731"/>
                        </a:lnTo>
                        <a:lnTo>
                          <a:pt x="1492" y="731"/>
                        </a:lnTo>
                        <a:lnTo>
                          <a:pt x="1470" y="731"/>
                        </a:lnTo>
                        <a:lnTo>
                          <a:pt x="1446" y="731"/>
                        </a:lnTo>
                        <a:lnTo>
                          <a:pt x="1421" y="731"/>
                        </a:lnTo>
                        <a:lnTo>
                          <a:pt x="1396" y="731"/>
                        </a:lnTo>
                        <a:lnTo>
                          <a:pt x="1372" y="731"/>
                        </a:lnTo>
                        <a:lnTo>
                          <a:pt x="1349" y="731"/>
                        </a:lnTo>
                        <a:lnTo>
                          <a:pt x="1328" y="731"/>
                        </a:lnTo>
                        <a:lnTo>
                          <a:pt x="1311" y="731"/>
                        </a:lnTo>
                        <a:lnTo>
                          <a:pt x="1296" y="731"/>
                        </a:lnTo>
                        <a:lnTo>
                          <a:pt x="1285" y="731"/>
                        </a:lnTo>
                        <a:lnTo>
                          <a:pt x="1280" y="731"/>
                        </a:lnTo>
                        <a:lnTo>
                          <a:pt x="1280" y="679"/>
                        </a:lnTo>
                        <a:lnTo>
                          <a:pt x="1280" y="577"/>
                        </a:lnTo>
                        <a:lnTo>
                          <a:pt x="1280" y="479"/>
                        </a:lnTo>
                        <a:lnTo>
                          <a:pt x="1280" y="436"/>
                        </a:lnTo>
                        <a:lnTo>
                          <a:pt x="1191" y="436"/>
                        </a:lnTo>
                        <a:lnTo>
                          <a:pt x="1191" y="453"/>
                        </a:lnTo>
                        <a:lnTo>
                          <a:pt x="1191" y="493"/>
                        </a:lnTo>
                        <a:lnTo>
                          <a:pt x="1191" y="537"/>
                        </a:lnTo>
                        <a:lnTo>
                          <a:pt x="1191" y="562"/>
                        </a:lnTo>
                        <a:lnTo>
                          <a:pt x="1182" y="562"/>
                        </a:lnTo>
                        <a:lnTo>
                          <a:pt x="1161" y="562"/>
                        </a:lnTo>
                        <a:lnTo>
                          <a:pt x="1130" y="562"/>
                        </a:lnTo>
                        <a:lnTo>
                          <a:pt x="1091" y="562"/>
                        </a:lnTo>
                        <a:lnTo>
                          <a:pt x="1045" y="562"/>
                        </a:lnTo>
                        <a:lnTo>
                          <a:pt x="994" y="562"/>
                        </a:lnTo>
                        <a:lnTo>
                          <a:pt x="940" y="562"/>
                        </a:lnTo>
                        <a:lnTo>
                          <a:pt x="885" y="562"/>
                        </a:lnTo>
                        <a:lnTo>
                          <a:pt x="829" y="562"/>
                        </a:lnTo>
                        <a:lnTo>
                          <a:pt x="775" y="562"/>
                        </a:lnTo>
                        <a:lnTo>
                          <a:pt x="726" y="562"/>
                        </a:lnTo>
                        <a:lnTo>
                          <a:pt x="681" y="562"/>
                        </a:lnTo>
                        <a:lnTo>
                          <a:pt x="643" y="562"/>
                        </a:lnTo>
                        <a:lnTo>
                          <a:pt x="614" y="562"/>
                        </a:lnTo>
                        <a:lnTo>
                          <a:pt x="596" y="562"/>
                        </a:lnTo>
                        <a:lnTo>
                          <a:pt x="589" y="562"/>
                        </a:lnTo>
                        <a:lnTo>
                          <a:pt x="589" y="571"/>
                        </a:lnTo>
                        <a:lnTo>
                          <a:pt x="591" y="587"/>
                        </a:lnTo>
                        <a:lnTo>
                          <a:pt x="596" y="607"/>
                        </a:lnTo>
                        <a:lnTo>
                          <a:pt x="604" y="632"/>
                        </a:lnTo>
                        <a:lnTo>
                          <a:pt x="613" y="656"/>
                        </a:lnTo>
                        <a:lnTo>
                          <a:pt x="621" y="680"/>
                        </a:lnTo>
                        <a:lnTo>
                          <a:pt x="629" y="700"/>
                        </a:lnTo>
                        <a:lnTo>
                          <a:pt x="635" y="713"/>
                        </a:lnTo>
                        <a:lnTo>
                          <a:pt x="637" y="720"/>
                        </a:lnTo>
                        <a:lnTo>
                          <a:pt x="639" y="725"/>
                        </a:lnTo>
                        <a:lnTo>
                          <a:pt x="645" y="725"/>
                        </a:lnTo>
                        <a:lnTo>
                          <a:pt x="661" y="725"/>
                        </a:lnTo>
                        <a:lnTo>
                          <a:pt x="687" y="725"/>
                        </a:lnTo>
                        <a:lnTo>
                          <a:pt x="720" y="725"/>
                        </a:lnTo>
                        <a:lnTo>
                          <a:pt x="758" y="725"/>
                        </a:lnTo>
                        <a:lnTo>
                          <a:pt x="802" y="725"/>
                        </a:lnTo>
                        <a:lnTo>
                          <a:pt x="849" y="725"/>
                        </a:lnTo>
                        <a:lnTo>
                          <a:pt x="897" y="725"/>
                        </a:lnTo>
                        <a:lnTo>
                          <a:pt x="946" y="725"/>
                        </a:lnTo>
                        <a:lnTo>
                          <a:pt x="993" y="725"/>
                        </a:lnTo>
                        <a:lnTo>
                          <a:pt x="1038" y="725"/>
                        </a:lnTo>
                        <a:lnTo>
                          <a:pt x="1078" y="725"/>
                        </a:lnTo>
                        <a:lnTo>
                          <a:pt x="1113" y="725"/>
                        </a:lnTo>
                        <a:lnTo>
                          <a:pt x="1139" y="725"/>
                        </a:lnTo>
                        <a:lnTo>
                          <a:pt x="1159" y="725"/>
                        </a:lnTo>
                        <a:lnTo>
                          <a:pt x="1167" y="725"/>
                        </a:lnTo>
                        <a:lnTo>
                          <a:pt x="1162" y="736"/>
                        </a:lnTo>
                        <a:lnTo>
                          <a:pt x="1155" y="746"/>
                        </a:lnTo>
                        <a:lnTo>
                          <a:pt x="1146" y="753"/>
                        </a:lnTo>
                        <a:lnTo>
                          <a:pt x="1136" y="758"/>
                        </a:lnTo>
                        <a:lnTo>
                          <a:pt x="1127" y="762"/>
                        </a:lnTo>
                        <a:lnTo>
                          <a:pt x="1118" y="764"/>
                        </a:lnTo>
                        <a:lnTo>
                          <a:pt x="1113" y="766"/>
                        </a:lnTo>
                        <a:lnTo>
                          <a:pt x="1110" y="766"/>
                        </a:lnTo>
                        <a:lnTo>
                          <a:pt x="645" y="766"/>
                        </a:lnTo>
                        <a:lnTo>
                          <a:pt x="631" y="765"/>
                        </a:lnTo>
                        <a:lnTo>
                          <a:pt x="621" y="764"/>
                        </a:lnTo>
                        <a:lnTo>
                          <a:pt x="612" y="762"/>
                        </a:lnTo>
                        <a:lnTo>
                          <a:pt x="605" y="758"/>
                        </a:lnTo>
                        <a:lnTo>
                          <a:pt x="600" y="755"/>
                        </a:lnTo>
                        <a:lnTo>
                          <a:pt x="597" y="753"/>
                        </a:lnTo>
                        <a:lnTo>
                          <a:pt x="594" y="751"/>
                        </a:lnTo>
                        <a:lnTo>
                          <a:pt x="594" y="750"/>
                        </a:lnTo>
                        <a:lnTo>
                          <a:pt x="589" y="743"/>
                        </a:lnTo>
                        <a:lnTo>
                          <a:pt x="582" y="749"/>
                        </a:lnTo>
                        <a:lnTo>
                          <a:pt x="530" y="795"/>
                        </a:lnTo>
                        <a:lnTo>
                          <a:pt x="529" y="798"/>
                        </a:lnTo>
                        <a:lnTo>
                          <a:pt x="523" y="817"/>
                        </a:lnTo>
                        <a:lnTo>
                          <a:pt x="516" y="836"/>
                        </a:lnTo>
                        <a:lnTo>
                          <a:pt x="508" y="853"/>
                        </a:lnTo>
                        <a:lnTo>
                          <a:pt x="498" y="868"/>
                        </a:lnTo>
                        <a:lnTo>
                          <a:pt x="486" y="882"/>
                        </a:lnTo>
                        <a:lnTo>
                          <a:pt x="473" y="894"/>
                        </a:lnTo>
                        <a:lnTo>
                          <a:pt x="458" y="905"/>
                        </a:lnTo>
                        <a:lnTo>
                          <a:pt x="442" y="913"/>
                        </a:lnTo>
                        <a:lnTo>
                          <a:pt x="432" y="917"/>
                        </a:lnTo>
                        <a:lnTo>
                          <a:pt x="422" y="922"/>
                        </a:lnTo>
                        <a:lnTo>
                          <a:pt x="410" y="924"/>
                        </a:lnTo>
                        <a:lnTo>
                          <a:pt x="400" y="927"/>
                        </a:lnTo>
                        <a:lnTo>
                          <a:pt x="388" y="929"/>
                        </a:lnTo>
                        <a:lnTo>
                          <a:pt x="377" y="930"/>
                        </a:lnTo>
                        <a:lnTo>
                          <a:pt x="366" y="931"/>
                        </a:lnTo>
                        <a:lnTo>
                          <a:pt x="356" y="931"/>
                        </a:lnTo>
                        <a:lnTo>
                          <a:pt x="346" y="931"/>
                        </a:lnTo>
                        <a:lnTo>
                          <a:pt x="336" y="930"/>
                        </a:lnTo>
                        <a:lnTo>
                          <a:pt x="327" y="929"/>
                        </a:lnTo>
                        <a:lnTo>
                          <a:pt x="318" y="928"/>
                        </a:lnTo>
                        <a:lnTo>
                          <a:pt x="310" y="926"/>
                        </a:lnTo>
                        <a:lnTo>
                          <a:pt x="302" y="924"/>
                        </a:lnTo>
                        <a:lnTo>
                          <a:pt x="295" y="922"/>
                        </a:lnTo>
                        <a:lnTo>
                          <a:pt x="289" y="920"/>
                        </a:lnTo>
                        <a:lnTo>
                          <a:pt x="271" y="911"/>
                        </a:lnTo>
                        <a:lnTo>
                          <a:pt x="252" y="898"/>
                        </a:lnTo>
                        <a:lnTo>
                          <a:pt x="235" y="882"/>
                        </a:lnTo>
                        <a:lnTo>
                          <a:pt x="219" y="863"/>
                        </a:lnTo>
                        <a:lnTo>
                          <a:pt x="204" y="841"/>
                        </a:lnTo>
                        <a:lnTo>
                          <a:pt x="194" y="816"/>
                        </a:lnTo>
                        <a:lnTo>
                          <a:pt x="185" y="788"/>
                        </a:lnTo>
                        <a:lnTo>
                          <a:pt x="183" y="757"/>
                        </a:lnTo>
                        <a:lnTo>
                          <a:pt x="183" y="743"/>
                        </a:lnTo>
                        <a:lnTo>
                          <a:pt x="185" y="728"/>
                        </a:lnTo>
                        <a:lnTo>
                          <a:pt x="188" y="712"/>
                        </a:lnTo>
                        <a:lnTo>
                          <a:pt x="192" y="697"/>
                        </a:lnTo>
                        <a:lnTo>
                          <a:pt x="196" y="687"/>
                        </a:lnTo>
                        <a:lnTo>
                          <a:pt x="199" y="677"/>
                        </a:lnTo>
                        <a:lnTo>
                          <a:pt x="204" y="667"/>
                        </a:lnTo>
                        <a:lnTo>
                          <a:pt x="210" y="659"/>
                        </a:lnTo>
                        <a:lnTo>
                          <a:pt x="215" y="650"/>
                        </a:lnTo>
                        <a:lnTo>
                          <a:pt x="221" y="643"/>
                        </a:lnTo>
                        <a:lnTo>
                          <a:pt x="228" y="635"/>
                        </a:lnTo>
                        <a:lnTo>
                          <a:pt x="235" y="628"/>
                        </a:lnTo>
                        <a:lnTo>
                          <a:pt x="238" y="634"/>
                        </a:lnTo>
                        <a:lnTo>
                          <a:pt x="243" y="642"/>
                        </a:lnTo>
                        <a:lnTo>
                          <a:pt x="249" y="650"/>
                        </a:lnTo>
                        <a:lnTo>
                          <a:pt x="255" y="659"/>
                        </a:lnTo>
                        <a:lnTo>
                          <a:pt x="260" y="668"/>
                        </a:lnTo>
                        <a:lnTo>
                          <a:pt x="265" y="677"/>
                        </a:lnTo>
                        <a:lnTo>
                          <a:pt x="270" y="683"/>
                        </a:lnTo>
                        <a:lnTo>
                          <a:pt x="272" y="687"/>
                        </a:lnTo>
                        <a:lnTo>
                          <a:pt x="261" y="703"/>
                        </a:lnTo>
                        <a:lnTo>
                          <a:pt x="253" y="720"/>
                        </a:lnTo>
                        <a:lnTo>
                          <a:pt x="248" y="739"/>
                        </a:lnTo>
                        <a:lnTo>
                          <a:pt x="247" y="758"/>
                        </a:lnTo>
                        <a:lnTo>
                          <a:pt x="249" y="781"/>
                        </a:lnTo>
                        <a:lnTo>
                          <a:pt x="256" y="803"/>
                        </a:lnTo>
                        <a:lnTo>
                          <a:pt x="266" y="823"/>
                        </a:lnTo>
                        <a:lnTo>
                          <a:pt x="280" y="840"/>
                        </a:lnTo>
                        <a:lnTo>
                          <a:pt x="296" y="855"/>
                        </a:lnTo>
                        <a:lnTo>
                          <a:pt x="316" y="866"/>
                        </a:lnTo>
                        <a:lnTo>
                          <a:pt x="336" y="872"/>
                        </a:lnTo>
                        <a:lnTo>
                          <a:pt x="359" y="875"/>
                        </a:lnTo>
                        <a:lnTo>
                          <a:pt x="382" y="872"/>
                        </a:lnTo>
                        <a:lnTo>
                          <a:pt x="403" y="866"/>
                        </a:lnTo>
                        <a:lnTo>
                          <a:pt x="422" y="855"/>
                        </a:lnTo>
                        <a:lnTo>
                          <a:pt x="439" y="840"/>
                        </a:lnTo>
                        <a:lnTo>
                          <a:pt x="453" y="823"/>
                        </a:lnTo>
                        <a:lnTo>
                          <a:pt x="462" y="803"/>
                        </a:lnTo>
                        <a:lnTo>
                          <a:pt x="469" y="781"/>
                        </a:lnTo>
                        <a:lnTo>
                          <a:pt x="471" y="758"/>
                        </a:lnTo>
                        <a:lnTo>
                          <a:pt x="470" y="743"/>
                        </a:lnTo>
                        <a:lnTo>
                          <a:pt x="468" y="728"/>
                        </a:lnTo>
                        <a:lnTo>
                          <a:pt x="462" y="713"/>
                        </a:lnTo>
                        <a:lnTo>
                          <a:pt x="456" y="701"/>
                        </a:lnTo>
                        <a:lnTo>
                          <a:pt x="448" y="688"/>
                        </a:lnTo>
                        <a:lnTo>
                          <a:pt x="438" y="677"/>
                        </a:lnTo>
                        <a:lnTo>
                          <a:pt x="427" y="666"/>
                        </a:lnTo>
                        <a:lnTo>
                          <a:pt x="415" y="658"/>
                        </a:lnTo>
                        <a:lnTo>
                          <a:pt x="419" y="647"/>
                        </a:lnTo>
                        <a:lnTo>
                          <a:pt x="426" y="630"/>
                        </a:lnTo>
                        <a:lnTo>
                          <a:pt x="433" y="612"/>
                        </a:lnTo>
                        <a:lnTo>
                          <a:pt x="439" y="599"/>
                        </a:lnTo>
                        <a:lnTo>
                          <a:pt x="457" y="612"/>
                        </a:lnTo>
                        <a:lnTo>
                          <a:pt x="473" y="625"/>
                        </a:lnTo>
                        <a:lnTo>
                          <a:pt x="487" y="639"/>
                        </a:lnTo>
                        <a:lnTo>
                          <a:pt x="498" y="651"/>
                        </a:lnTo>
                        <a:lnTo>
                          <a:pt x="506" y="664"/>
                        </a:lnTo>
                        <a:lnTo>
                          <a:pt x="513" y="673"/>
                        </a:lnTo>
                        <a:lnTo>
                          <a:pt x="516" y="680"/>
                        </a:lnTo>
                        <a:lnTo>
                          <a:pt x="517" y="682"/>
                        </a:lnTo>
                        <a:lnTo>
                          <a:pt x="532" y="679"/>
                        </a:lnTo>
                        <a:lnTo>
                          <a:pt x="529" y="603"/>
                        </a:lnTo>
                        <a:lnTo>
                          <a:pt x="526" y="587"/>
                        </a:lnTo>
                        <a:lnTo>
                          <a:pt x="522" y="571"/>
                        </a:lnTo>
                        <a:lnTo>
                          <a:pt x="516" y="557"/>
                        </a:lnTo>
                        <a:lnTo>
                          <a:pt x="508" y="543"/>
                        </a:lnTo>
                        <a:lnTo>
                          <a:pt x="499" y="530"/>
                        </a:lnTo>
                        <a:lnTo>
                          <a:pt x="487" y="517"/>
                        </a:lnTo>
                        <a:lnTo>
                          <a:pt x="475" y="507"/>
                        </a:lnTo>
                        <a:lnTo>
                          <a:pt x="462" y="498"/>
                        </a:lnTo>
                        <a:lnTo>
                          <a:pt x="447" y="490"/>
                        </a:lnTo>
                        <a:lnTo>
                          <a:pt x="432" y="482"/>
                        </a:lnTo>
                        <a:lnTo>
                          <a:pt x="416" y="476"/>
                        </a:lnTo>
                        <a:lnTo>
                          <a:pt x="399" y="471"/>
                        </a:lnTo>
                        <a:lnTo>
                          <a:pt x="381" y="468"/>
                        </a:lnTo>
                        <a:lnTo>
                          <a:pt x="363" y="466"/>
                        </a:lnTo>
                        <a:lnTo>
                          <a:pt x="346" y="464"/>
                        </a:lnTo>
                        <a:lnTo>
                          <a:pt x="327" y="464"/>
                        </a:lnTo>
                        <a:lnTo>
                          <a:pt x="291" y="470"/>
                        </a:lnTo>
                        <a:lnTo>
                          <a:pt x="259" y="479"/>
                        </a:lnTo>
                        <a:lnTo>
                          <a:pt x="230" y="492"/>
                        </a:lnTo>
                        <a:lnTo>
                          <a:pt x="206" y="506"/>
                        </a:lnTo>
                        <a:lnTo>
                          <a:pt x="187" y="520"/>
                        </a:lnTo>
                        <a:lnTo>
                          <a:pt x="172" y="532"/>
                        </a:lnTo>
                        <a:lnTo>
                          <a:pt x="161" y="541"/>
                        </a:lnTo>
                        <a:lnTo>
                          <a:pt x="158" y="545"/>
                        </a:lnTo>
                        <a:lnTo>
                          <a:pt x="156" y="550"/>
                        </a:lnTo>
                        <a:lnTo>
                          <a:pt x="160" y="554"/>
                        </a:lnTo>
                        <a:lnTo>
                          <a:pt x="162" y="558"/>
                        </a:lnTo>
                        <a:lnTo>
                          <a:pt x="167" y="568"/>
                        </a:lnTo>
                        <a:lnTo>
                          <a:pt x="169" y="589"/>
                        </a:lnTo>
                        <a:lnTo>
                          <a:pt x="167" y="620"/>
                        </a:lnTo>
                        <a:lnTo>
                          <a:pt x="164" y="637"/>
                        </a:lnTo>
                        <a:lnTo>
                          <a:pt x="159" y="652"/>
                        </a:lnTo>
                        <a:lnTo>
                          <a:pt x="153" y="663"/>
                        </a:lnTo>
                        <a:lnTo>
                          <a:pt x="144" y="671"/>
                        </a:lnTo>
                        <a:lnTo>
                          <a:pt x="132" y="677"/>
                        </a:lnTo>
                        <a:lnTo>
                          <a:pt x="115" y="681"/>
                        </a:lnTo>
                        <a:lnTo>
                          <a:pt x="94" y="682"/>
                        </a:lnTo>
                        <a:lnTo>
                          <a:pt x="67" y="683"/>
                        </a:lnTo>
                        <a:lnTo>
                          <a:pt x="61" y="683"/>
                        </a:lnTo>
                        <a:lnTo>
                          <a:pt x="56" y="682"/>
                        </a:lnTo>
                        <a:lnTo>
                          <a:pt x="52" y="680"/>
                        </a:lnTo>
                        <a:lnTo>
                          <a:pt x="47" y="678"/>
                        </a:lnTo>
                        <a:lnTo>
                          <a:pt x="43" y="675"/>
                        </a:lnTo>
                        <a:lnTo>
                          <a:pt x="38" y="672"/>
                        </a:lnTo>
                        <a:lnTo>
                          <a:pt x="35" y="667"/>
                        </a:lnTo>
                        <a:lnTo>
                          <a:pt x="31" y="663"/>
                        </a:lnTo>
                        <a:lnTo>
                          <a:pt x="24" y="650"/>
                        </a:lnTo>
                        <a:lnTo>
                          <a:pt x="21" y="636"/>
                        </a:lnTo>
                        <a:lnTo>
                          <a:pt x="17" y="621"/>
                        </a:lnTo>
                        <a:lnTo>
                          <a:pt x="16" y="606"/>
                        </a:lnTo>
                        <a:lnTo>
                          <a:pt x="16" y="605"/>
                        </a:lnTo>
                        <a:lnTo>
                          <a:pt x="16" y="604"/>
                        </a:lnTo>
                        <a:lnTo>
                          <a:pt x="16" y="604"/>
                        </a:lnTo>
                        <a:lnTo>
                          <a:pt x="16" y="603"/>
                        </a:lnTo>
                        <a:lnTo>
                          <a:pt x="17" y="590"/>
                        </a:lnTo>
                        <a:lnTo>
                          <a:pt x="18" y="579"/>
                        </a:lnTo>
                        <a:lnTo>
                          <a:pt x="21" y="569"/>
                        </a:lnTo>
                        <a:lnTo>
                          <a:pt x="23" y="561"/>
                        </a:lnTo>
                        <a:lnTo>
                          <a:pt x="29" y="551"/>
                        </a:lnTo>
                        <a:lnTo>
                          <a:pt x="35" y="542"/>
                        </a:lnTo>
                        <a:lnTo>
                          <a:pt x="41" y="535"/>
                        </a:lnTo>
                        <a:lnTo>
                          <a:pt x="48" y="530"/>
                        </a:lnTo>
                        <a:lnTo>
                          <a:pt x="54" y="526"/>
                        </a:lnTo>
                        <a:lnTo>
                          <a:pt x="59" y="523"/>
                        </a:lnTo>
                        <a:lnTo>
                          <a:pt x="62" y="522"/>
                        </a:lnTo>
                        <a:lnTo>
                          <a:pt x="63" y="521"/>
                        </a:lnTo>
                        <a:lnTo>
                          <a:pt x="68" y="520"/>
                        </a:lnTo>
                        <a:lnTo>
                          <a:pt x="68" y="514"/>
                        </a:lnTo>
                        <a:lnTo>
                          <a:pt x="68" y="491"/>
                        </a:lnTo>
                        <a:lnTo>
                          <a:pt x="70" y="439"/>
                        </a:lnTo>
                        <a:lnTo>
                          <a:pt x="71" y="387"/>
                        </a:lnTo>
                        <a:lnTo>
                          <a:pt x="71" y="361"/>
                        </a:lnTo>
                        <a:lnTo>
                          <a:pt x="81" y="350"/>
                        </a:lnTo>
                        <a:lnTo>
                          <a:pt x="94" y="341"/>
                        </a:lnTo>
                        <a:lnTo>
                          <a:pt x="112" y="333"/>
                        </a:lnTo>
                        <a:lnTo>
                          <a:pt x="134" y="326"/>
                        </a:lnTo>
                        <a:lnTo>
                          <a:pt x="158" y="322"/>
                        </a:lnTo>
                        <a:lnTo>
                          <a:pt x="184" y="317"/>
                        </a:lnTo>
                        <a:lnTo>
                          <a:pt x="213" y="313"/>
                        </a:lnTo>
                        <a:lnTo>
                          <a:pt x="243" y="310"/>
                        </a:lnTo>
                        <a:lnTo>
                          <a:pt x="274" y="308"/>
                        </a:lnTo>
                        <a:lnTo>
                          <a:pt x="304" y="307"/>
                        </a:lnTo>
                        <a:lnTo>
                          <a:pt x="335" y="305"/>
                        </a:lnTo>
                        <a:lnTo>
                          <a:pt x="364" y="305"/>
                        </a:lnTo>
                        <a:lnTo>
                          <a:pt x="393" y="305"/>
                        </a:lnTo>
                        <a:lnTo>
                          <a:pt x="418" y="305"/>
                        </a:lnTo>
                        <a:lnTo>
                          <a:pt x="442" y="305"/>
                        </a:lnTo>
                        <a:lnTo>
                          <a:pt x="462" y="305"/>
                        </a:lnTo>
                        <a:lnTo>
                          <a:pt x="492" y="305"/>
                        </a:lnTo>
                        <a:lnTo>
                          <a:pt x="511" y="305"/>
                        </a:lnTo>
                        <a:lnTo>
                          <a:pt x="531" y="304"/>
                        </a:lnTo>
                        <a:lnTo>
                          <a:pt x="548" y="304"/>
                        </a:lnTo>
                        <a:lnTo>
                          <a:pt x="564" y="303"/>
                        </a:lnTo>
                        <a:lnTo>
                          <a:pt x="579" y="302"/>
                        </a:lnTo>
                        <a:lnTo>
                          <a:pt x="593" y="300"/>
                        </a:lnTo>
                        <a:lnTo>
                          <a:pt x="604" y="298"/>
                        </a:lnTo>
                        <a:lnTo>
                          <a:pt x="613" y="297"/>
                        </a:lnTo>
                        <a:lnTo>
                          <a:pt x="612" y="300"/>
                        </a:lnTo>
                        <a:lnTo>
                          <a:pt x="612" y="302"/>
                        </a:lnTo>
                        <a:lnTo>
                          <a:pt x="610" y="304"/>
                        </a:lnTo>
                        <a:lnTo>
                          <a:pt x="610" y="307"/>
                        </a:lnTo>
                        <a:lnTo>
                          <a:pt x="613" y="324"/>
                        </a:lnTo>
                        <a:lnTo>
                          <a:pt x="617" y="338"/>
                        </a:lnTo>
                        <a:lnTo>
                          <a:pt x="623" y="348"/>
                        </a:lnTo>
                        <a:lnTo>
                          <a:pt x="625" y="353"/>
                        </a:lnTo>
                        <a:lnTo>
                          <a:pt x="629" y="358"/>
                        </a:lnTo>
                        <a:lnTo>
                          <a:pt x="635" y="356"/>
                        </a:lnTo>
                        <a:lnTo>
                          <a:pt x="637" y="355"/>
                        </a:lnTo>
                        <a:lnTo>
                          <a:pt x="642" y="354"/>
                        </a:lnTo>
                        <a:lnTo>
                          <a:pt x="650" y="350"/>
                        </a:lnTo>
                        <a:lnTo>
                          <a:pt x="660" y="348"/>
                        </a:lnTo>
                        <a:lnTo>
                          <a:pt x="670" y="345"/>
                        </a:lnTo>
                        <a:lnTo>
                          <a:pt x="682" y="341"/>
                        </a:lnTo>
                        <a:lnTo>
                          <a:pt x="692" y="339"/>
                        </a:lnTo>
                        <a:lnTo>
                          <a:pt x="703" y="338"/>
                        </a:lnTo>
                        <a:lnTo>
                          <a:pt x="707" y="337"/>
                        </a:lnTo>
                        <a:lnTo>
                          <a:pt x="712" y="334"/>
                        </a:lnTo>
                        <a:lnTo>
                          <a:pt x="716" y="331"/>
                        </a:lnTo>
                        <a:lnTo>
                          <a:pt x="720" y="326"/>
                        </a:lnTo>
                        <a:lnTo>
                          <a:pt x="727" y="315"/>
                        </a:lnTo>
                        <a:lnTo>
                          <a:pt x="730" y="298"/>
                        </a:lnTo>
                        <a:lnTo>
                          <a:pt x="733" y="281"/>
                        </a:lnTo>
                        <a:lnTo>
                          <a:pt x="734" y="264"/>
                        </a:lnTo>
                        <a:lnTo>
                          <a:pt x="734" y="247"/>
                        </a:lnTo>
                        <a:lnTo>
                          <a:pt x="731" y="229"/>
                        </a:lnTo>
                        <a:lnTo>
                          <a:pt x="730" y="217"/>
                        </a:lnTo>
                        <a:lnTo>
                          <a:pt x="729" y="206"/>
                        </a:lnTo>
                        <a:lnTo>
                          <a:pt x="736" y="202"/>
                        </a:lnTo>
                        <a:lnTo>
                          <a:pt x="748" y="191"/>
                        </a:lnTo>
                        <a:lnTo>
                          <a:pt x="764" y="177"/>
                        </a:lnTo>
                        <a:lnTo>
                          <a:pt x="782" y="161"/>
                        </a:lnTo>
                        <a:lnTo>
                          <a:pt x="801" y="146"/>
                        </a:lnTo>
                        <a:lnTo>
                          <a:pt x="816" y="134"/>
                        </a:lnTo>
                        <a:lnTo>
                          <a:pt x="826" y="124"/>
                        </a:lnTo>
                        <a:lnTo>
                          <a:pt x="831" y="121"/>
                        </a:lnTo>
                        <a:lnTo>
                          <a:pt x="847" y="111"/>
                        </a:lnTo>
                        <a:lnTo>
                          <a:pt x="867" y="104"/>
                        </a:lnTo>
                        <a:lnTo>
                          <a:pt x="890" y="98"/>
                        </a:lnTo>
                        <a:lnTo>
                          <a:pt x="916" y="94"/>
                        </a:lnTo>
                        <a:lnTo>
                          <a:pt x="941" y="92"/>
                        </a:lnTo>
                        <a:lnTo>
                          <a:pt x="968" y="91"/>
                        </a:lnTo>
                        <a:lnTo>
                          <a:pt x="992" y="91"/>
                        </a:lnTo>
                        <a:lnTo>
                          <a:pt x="1014" y="91"/>
                        </a:lnTo>
                        <a:lnTo>
                          <a:pt x="1055" y="91"/>
                        </a:lnTo>
                        <a:lnTo>
                          <a:pt x="1065" y="91"/>
                        </a:lnTo>
                        <a:lnTo>
                          <a:pt x="1075" y="93"/>
                        </a:lnTo>
                        <a:lnTo>
                          <a:pt x="1080" y="98"/>
                        </a:lnTo>
                        <a:lnTo>
                          <a:pt x="1085" y="103"/>
                        </a:lnTo>
                        <a:lnTo>
                          <a:pt x="1089" y="108"/>
                        </a:lnTo>
                        <a:lnTo>
                          <a:pt x="1090" y="113"/>
                        </a:lnTo>
                        <a:lnTo>
                          <a:pt x="1091" y="116"/>
                        </a:lnTo>
                        <a:lnTo>
                          <a:pt x="1091" y="119"/>
                        </a:lnTo>
                        <a:lnTo>
                          <a:pt x="1091" y="145"/>
                        </a:lnTo>
                        <a:lnTo>
                          <a:pt x="1090" y="205"/>
                        </a:lnTo>
                        <a:lnTo>
                          <a:pt x="1087" y="265"/>
                        </a:lnTo>
                        <a:lnTo>
                          <a:pt x="1087" y="292"/>
                        </a:lnTo>
                        <a:lnTo>
                          <a:pt x="1086" y="300"/>
                        </a:lnTo>
                        <a:lnTo>
                          <a:pt x="1085" y="307"/>
                        </a:lnTo>
                        <a:lnTo>
                          <a:pt x="1082" y="313"/>
                        </a:lnTo>
                        <a:lnTo>
                          <a:pt x="1078" y="318"/>
                        </a:lnTo>
                        <a:lnTo>
                          <a:pt x="1070" y="323"/>
                        </a:lnTo>
                        <a:lnTo>
                          <a:pt x="1062" y="325"/>
                        </a:lnTo>
                        <a:lnTo>
                          <a:pt x="1055" y="325"/>
                        </a:lnTo>
                        <a:lnTo>
                          <a:pt x="1052" y="325"/>
                        </a:lnTo>
                        <a:lnTo>
                          <a:pt x="784" y="325"/>
                        </a:lnTo>
                        <a:lnTo>
                          <a:pt x="784" y="340"/>
                        </a:lnTo>
                        <a:lnTo>
                          <a:pt x="1051" y="340"/>
                        </a:lnTo>
                        <a:lnTo>
                          <a:pt x="1052" y="340"/>
                        </a:lnTo>
                        <a:lnTo>
                          <a:pt x="1054" y="341"/>
                        </a:lnTo>
                        <a:lnTo>
                          <a:pt x="1059" y="341"/>
                        </a:lnTo>
                        <a:lnTo>
                          <a:pt x="1063" y="340"/>
                        </a:lnTo>
                        <a:lnTo>
                          <a:pt x="1069" y="339"/>
                        </a:lnTo>
                        <a:lnTo>
                          <a:pt x="1076" y="338"/>
                        </a:lnTo>
                        <a:lnTo>
                          <a:pt x="1083" y="334"/>
                        </a:lnTo>
                        <a:lnTo>
                          <a:pt x="1089" y="330"/>
                        </a:lnTo>
                        <a:lnTo>
                          <a:pt x="1095" y="323"/>
                        </a:lnTo>
                        <a:lnTo>
                          <a:pt x="1100" y="313"/>
                        </a:lnTo>
                        <a:lnTo>
                          <a:pt x="1102" y="303"/>
                        </a:lnTo>
                        <a:lnTo>
                          <a:pt x="1104" y="292"/>
                        </a:lnTo>
                        <a:lnTo>
                          <a:pt x="1107" y="118"/>
                        </a:lnTo>
                        <a:lnTo>
                          <a:pt x="1106" y="111"/>
                        </a:lnTo>
                        <a:lnTo>
                          <a:pt x="1104" y="104"/>
                        </a:lnTo>
                        <a:lnTo>
                          <a:pt x="1100" y="96"/>
                        </a:lnTo>
                        <a:lnTo>
                          <a:pt x="1094" y="89"/>
                        </a:lnTo>
                        <a:lnTo>
                          <a:pt x="1087" y="83"/>
                        </a:lnTo>
                        <a:lnTo>
                          <a:pt x="1078" y="78"/>
                        </a:lnTo>
                        <a:lnTo>
                          <a:pt x="1067" y="75"/>
                        </a:lnTo>
                        <a:lnTo>
                          <a:pt x="1054" y="75"/>
                        </a:lnTo>
                        <a:lnTo>
                          <a:pt x="1014" y="75"/>
                        </a:lnTo>
                        <a:lnTo>
                          <a:pt x="1002" y="75"/>
                        </a:lnTo>
                        <a:lnTo>
                          <a:pt x="989" y="75"/>
                        </a:lnTo>
                        <a:lnTo>
                          <a:pt x="977" y="75"/>
                        </a:lnTo>
                        <a:lnTo>
                          <a:pt x="964" y="75"/>
                        </a:lnTo>
                        <a:lnTo>
                          <a:pt x="950" y="76"/>
                        </a:lnTo>
                        <a:lnTo>
                          <a:pt x="936" y="76"/>
                        </a:lnTo>
                        <a:lnTo>
                          <a:pt x="924" y="77"/>
                        </a:lnTo>
                        <a:lnTo>
                          <a:pt x="910" y="78"/>
                        </a:lnTo>
                        <a:lnTo>
                          <a:pt x="896" y="81"/>
                        </a:lnTo>
                        <a:lnTo>
                          <a:pt x="883" y="83"/>
                        </a:lnTo>
                        <a:lnTo>
                          <a:pt x="871" y="85"/>
                        </a:lnTo>
                        <a:lnTo>
                          <a:pt x="859" y="89"/>
                        </a:lnTo>
                        <a:lnTo>
                          <a:pt x="848" y="92"/>
                        </a:lnTo>
                        <a:lnTo>
                          <a:pt x="837" y="97"/>
                        </a:lnTo>
                        <a:lnTo>
                          <a:pt x="828" y="103"/>
                        </a:lnTo>
                        <a:lnTo>
                          <a:pt x="820" y="108"/>
                        </a:lnTo>
                        <a:lnTo>
                          <a:pt x="816" y="112"/>
                        </a:lnTo>
                        <a:lnTo>
                          <a:pt x="803" y="122"/>
                        </a:lnTo>
                        <a:lnTo>
                          <a:pt x="786" y="137"/>
                        </a:lnTo>
                        <a:lnTo>
                          <a:pt x="766" y="154"/>
                        </a:lnTo>
                        <a:lnTo>
                          <a:pt x="746" y="172"/>
                        </a:lnTo>
                        <a:lnTo>
                          <a:pt x="729" y="186"/>
                        </a:lnTo>
                        <a:lnTo>
                          <a:pt x="716" y="197"/>
                        </a:lnTo>
                        <a:lnTo>
                          <a:pt x="712" y="201"/>
                        </a:lnTo>
                        <a:lnTo>
                          <a:pt x="713" y="205"/>
                        </a:lnTo>
                        <a:lnTo>
                          <a:pt x="714" y="217"/>
                        </a:lnTo>
                        <a:lnTo>
                          <a:pt x="716" y="232"/>
                        </a:lnTo>
                        <a:lnTo>
                          <a:pt x="718" y="248"/>
                        </a:lnTo>
                        <a:lnTo>
                          <a:pt x="718" y="265"/>
                        </a:lnTo>
                        <a:lnTo>
                          <a:pt x="718" y="280"/>
                        </a:lnTo>
                        <a:lnTo>
                          <a:pt x="715" y="295"/>
                        </a:lnTo>
                        <a:lnTo>
                          <a:pt x="712" y="308"/>
                        </a:lnTo>
                        <a:lnTo>
                          <a:pt x="707" y="317"/>
                        </a:lnTo>
                        <a:lnTo>
                          <a:pt x="706" y="319"/>
                        </a:lnTo>
                        <a:lnTo>
                          <a:pt x="704" y="320"/>
                        </a:lnTo>
                        <a:lnTo>
                          <a:pt x="703" y="322"/>
                        </a:lnTo>
                        <a:lnTo>
                          <a:pt x="700" y="322"/>
                        </a:lnTo>
                        <a:lnTo>
                          <a:pt x="692" y="323"/>
                        </a:lnTo>
                        <a:lnTo>
                          <a:pt x="684" y="325"/>
                        </a:lnTo>
                        <a:lnTo>
                          <a:pt x="675" y="327"/>
                        </a:lnTo>
                        <a:lnTo>
                          <a:pt x="666" y="330"/>
                        </a:lnTo>
                        <a:lnTo>
                          <a:pt x="657" y="332"/>
                        </a:lnTo>
                        <a:lnTo>
                          <a:pt x="649" y="334"/>
                        </a:lnTo>
                        <a:lnTo>
                          <a:pt x="642" y="337"/>
                        </a:lnTo>
                        <a:lnTo>
                          <a:pt x="636" y="339"/>
                        </a:lnTo>
                        <a:lnTo>
                          <a:pt x="632" y="333"/>
                        </a:lnTo>
                        <a:lnTo>
                          <a:pt x="630" y="325"/>
                        </a:lnTo>
                        <a:lnTo>
                          <a:pt x="628" y="316"/>
                        </a:lnTo>
                        <a:lnTo>
                          <a:pt x="627" y="307"/>
                        </a:lnTo>
                        <a:lnTo>
                          <a:pt x="627" y="302"/>
                        </a:lnTo>
                        <a:lnTo>
                          <a:pt x="628" y="298"/>
                        </a:lnTo>
                        <a:lnTo>
                          <a:pt x="629" y="295"/>
                        </a:lnTo>
                        <a:lnTo>
                          <a:pt x="630" y="292"/>
                        </a:lnTo>
                        <a:lnTo>
                          <a:pt x="637" y="279"/>
                        </a:lnTo>
                        <a:lnTo>
                          <a:pt x="621" y="280"/>
                        </a:lnTo>
                        <a:lnTo>
                          <a:pt x="619" y="280"/>
                        </a:lnTo>
                        <a:lnTo>
                          <a:pt x="610" y="281"/>
                        </a:lnTo>
                        <a:lnTo>
                          <a:pt x="599" y="284"/>
                        </a:lnTo>
                        <a:lnTo>
                          <a:pt x="583" y="285"/>
                        </a:lnTo>
                        <a:lnTo>
                          <a:pt x="564" y="286"/>
                        </a:lnTo>
                        <a:lnTo>
                          <a:pt x="543" y="288"/>
                        </a:lnTo>
                        <a:lnTo>
                          <a:pt x="518" y="289"/>
                        </a:lnTo>
                        <a:lnTo>
                          <a:pt x="492" y="289"/>
                        </a:lnTo>
                        <a:lnTo>
                          <a:pt x="463" y="289"/>
                        </a:lnTo>
                        <a:lnTo>
                          <a:pt x="428" y="289"/>
                        </a:lnTo>
                        <a:lnTo>
                          <a:pt x="394" y="289"/>
                        </a:lnTo>
                        <a:lnTo>
                          <a:pt x="361" y="289"/>
                        </a:lnTo>
                        <a:lnTo>
                          <a:pt x="327" y="289"/>
                        </a:lnTo>
                        <a:lnTo>
                          <a:pt x="294" y="290"/>
                        </a:lnTo>
                        <a:lnTo>
                          <a:pt x="263" y="293"/>
                        </a:lnTo>
                        <a:lnTo>
                          <a:pt x="232" y="295"/>
                        </a:lnTo>
                        <a:lnTo>
                          <a:pt x="203" y="297"/>
                        </a:lnTo>
                        <a:lnTo>
                          <a:pt x="176" y="302"/>
                        </a:lnTo>
                        <a:lnTo>
                          <a:pt x="151" y="305"/>
                        </a:lnTo>
                        <a:lnTo>
                          <a:pt x="128" y="311"/>
                        </a:lnTo>
                        <a:lnTo>
                          <a:pt x="108" y="318"/>
                        </a:lnTo>
                        <a:lnTo>
                          <a:pt x="90" y="325"/>
                        </a:lnTo>
                        <a:lnTo>
                          <a:pt x="76" y="333"/>
                        </a:lnTo>
                        <a:lnTo>
                          <a:pt x="65" y="343"/>
                        </a:lnTo>
                        <a:lnTo>
                          <a:pt x="56" y="354"/>
                        </a:lnTo>
                        <a:lnTo>
                          <a:pt x="55" y="356"/>
                        </a:lnTo>
                        <a:lnTo>
                          <a:pt x="55" y="378"/>
                        </a:lnTo>
                        <a:lnTo>
                          <a:pt x="54" y="429"/>
                        </a:lnTo>
                        <a:lnTo>
                          <a:pt x="53" y="481"/>
                        </a:lnTo>
                        <a:lnTo>
                          <a:pt x="53" y="508"/>
                        </a:lnTo>
                        <a:lnTo>
                          <a:pt x="48" y="511"/>
                        </a:lnTo>
                        <a:lnTo>
                          <a:pt x="44" y="513"/>
                        </a:lnTo>
                        <a:lnTo>
                          <a:pt x="38" y="517"/>
                        </a:lnTo>
                        <a:lnTo>
                          <a:pt x="32" y="522"/>
                        </a:lnTo>
                        <a:lnTo>
                          <a:pt x="25" y="528"/>
                        </a:lnTo>
                        <a:lnTo>
                          <a:pt x="20" y="536"/>
                        </a:lnTo>
                        <a:lnTo>
                          <a:pt x="14" y="544"/>
                        </a:lnTo>
                        <a:lnTo>
                          <a:pt x="9" y="554"/>
                        </a:lnTo>
                        <a:lnTo>
                          <a:pt x="6" y="564"/>
                        </a:lnTo>
                        <a:lnTo>
                          <a:pt x="2" y="575"/>
                        </a:lnTo>
                        <a:lnTo>
                          <a:pt x="1" y="589"/>
                        </a:lnTo>
                        <a:lnTo>
                          <a:pt x="0" y="603"/>
                        </a:lnTo>
                        <a:lnTo>
                          <a:pt x="1" y="621"/>
                        </a:lnTo>
                        <a:lnTo>
                          <a:pt x="5" y="639"/>
                        </a:lnTo>
                        <a:lnTo>
                          <a:pt x="9" y="656"/>
                        </a:lnTo>
                        <a:lnTo>
                          <a:pt x="17" y="672"/>
                        </a:lnTo>
                        <a:lnTo>
                          <a:pt x="22" y="679"/>
                        </a:lnTo>
                        <a:lnTo>
                          <a:pt x="28" y="683"/>
                        </a:lnTo>
                        <a:lnTo>
                          <a:pt x="33" y="689"/>
                        </a:lnTo>
                        <a:lnTo>
                          <a:pt x="39" y="693"/>
                        </a:lnTo>
                        <a:lnTo>
                          <a:pt x="45" y="696"/>
                        </a:lnTo>
                        <a:lnTo>
                          <a:pt x="52" y="697"/>
                        </a:lnTo>
                        <a:lnTo>
                          <a:pt x="59" y="700"/>
                        </a:lnTo>
                        <a:lnTo>
                          <a:pt x="67" y="700"/>
                        </a:lnTo>
                        <a:lnTo>
                          <a:pt x="96" y="698"/>
                        </a:lnTo>
                        <a:lnTo>
                          <a:pt x="120" y="696"/>
                        </a:lnTo>
                        <a:lnTo>
                          <a:pt x="138" y="692"/>
                        </a:lnTo>
                        <a:lnTo>
                          <a:pt x="153" y="685"/>
                        </a:lnTo>
                        <a:lnTo>
                          <a:pt x="164" y="674"/>
                        </a:lnTo>
                        <a:lnTo>
                          <a:pt x="172" y="662"/>
                        </a:lnTo>
                        <a:lnTo>
                          <a:pt x="179" y="644"/>
                        </a:lnTo>
                        <a:lnTo>
                          <a:pt x="183" y="622"/>
                        </a:lnTo>
                        <a:lnTo>
                          <a:pt x="184" y="614"/>
                        </a:lnTo>
                        <a:lnTo>
                          <a:pt x="184" y="606"/>
                        </a:lnTo>
                        <a:lnTo>
                          <a:pt x="185" y="599"/>
                        </a:lnTo>
                        <a:lnTo>
                          <a:pt x="185" y="592"/>
                        </a:lnTo>
                        <a:lnTo>
                          <a:pt x="184" y="575"/>
                        </a:lnTo>
                        <a:lnTo>
                          <a:pt x="182" y="562"/>
                        </a:lnTo>
                        <a:lnTo>
                          <a:pt x="179" y="554"/>
                        </a:lnTo>
                        <a:lnTo>
                          <a:pt x="175" y="547"/>
                        </a:lnTo>
                        <a:lnTo>
                          <a:pt x="181" y="541"/>
                        </a:lnTo>
                        <a:lnTo>
                          <a:pt x="192" y="531"/>
                        </a:lnTo>
                        <a:lnTo>
                          <a:pt x="207" y="521"/>
                        </a:lnTo>
                        <a:lnTo>
                          <a:pt x="226" y="511"/>
                        </a:lnTo>
                        <a:lnTo>
                          <a:pt x="249" y="500"/>
                        </a:lnTo>
                        <a:lnTo>
                          <a:pt x="273" y="491"/>
                        </a:lnTo>
                        <a:lnTo>
                          <a:pt x="299" y="484"/>
                        </a:lnTo>
                        <a:lnTo>
                          <a:pt x="328" y="481"/>
                        </a:lnTo>
                        <a:lnTo>
                          <a:pt x="344" y="481"/>
                        </a:lnTo>
                        <a:lnTo>
                          <a:pt x="361" y="481"/>
                        </a:lnTo>
                        <a:lnTo>
                          <a:pt x="378" y="483"/>
                        </a:lnTo>
                        <a:lnTo>
                          <a:pt x="393" y="486"/>
                        </a:lnTo>
                        <a:lnTo>
                          <a:pt x="409" y="491"/>
                        </a:lnTo>
                        <a:lnTo>
                          <a:pt x="424" y="496"/>
                        </a:lnTo>
                        <a:lnTo>
                          <a:pt x="438" y="503"/>
                        </a:lnTo>
                        <a:lnTo>
                          <a:pt x="452" y="511"/>
                        </a:lnTo>
                        <a:lnTo>
                          <a:pt x="463" y="519"/>
                        </a:lnTo>
                        <a:lnTo>
                          <a:pt x="475" y="528"/>
                        </a:lnTo>
                        <a:lnTo>
                          <a:pt x="485" y="538"/>
                        </a:lnTo>
                        <a:lnTo>
                          <a:pt x="494" y="550"/>
                        </a:lnTo>
                        <a:lnTo>
                          <a:pt x="501" y="562"/>
                        </a:lnTo>
                        <a:lnTo>
                          <a:pt x="507" y="575"/>
                        </a:lnTo>
                        <a:lnTo>
                          <a:pt x="510" y="589"/>
                        </a:lnTo>
                        <a:lnTo>
                          <a:pt x="513" y="603"/>
                        </a:lnTo>
                        <a:lnTo>
                          <a:pt x="513" y="607"/>
                        </a:lnTo>
                        <a:lnTo>
                          <a:pt x="514" y="618"/>
                        </a:lnTo>
                        <a:lnTo>
                          <a:pt x="514" y="632"/>
                        </a:lnTo>
                        <a:lnTo>
                          <a:pt x="515" y="648"/>
                        </a:lnTo>
                        <a:lnTo>
                          <a:pt x="509" y="640"/>
                        </a:lnTo>
                        <a:lnTo>
                          <a:pt x="502" y="632"/>
                        </a:lnTo>
                        <a:lnTo>
                          <a:pt x="494" y="622"/>
                        </a:lnTo>
                        <a:lnTo>
                          <a:pt x="485" y="613"/>
                        </a:lnTo>
                        <a:lnTo>
                          <a:pt x="476" y="605"/>
                        </a:lnTo>
                        <a:lnTo>
                          <a:pt x="464" y="596"/>
                        </a:lnTo>
                        <a:lnTo>
                          <a:pt x="452" y="588"/>
                        </a:lnTo>
                        <a:lnTo>
                          <a:pt x="439" y="581"/>
                        </a:lnTo>
                        <a:lnTo>
                          <a:pt x="432" y="577"/>
                        </a:lnTo>
                        <a:lnTo>
                          <a:pt x="394" y="665"/>
                        </a:lnTo>
                        <a:lnTo>
                          <a:pt x="401" y="668"/>
                        </a:lnTo>
                        <a:lnTo>
                          <a:pt x="412" y="675"/>
                        </a:lnTo>
                        <a:lnTo>
                          <a:pt x="424" y="683"/>
                        </a:lnTo>
                        <a:lnTo>
                          <a:pt x="433" y="694"/>
                        </a:lnTo>
                        <a:lnTo>
                          <a:pt x="441" y="705"/>
                        </a:lnTo>
                        <a:lnTo>
                          <a:pt x="447" y="718"/>
                        </a:lnTo>
                        <a:lnTo>
                          <a:pt x="453" y="731"/>
                        </a:lnTo>
                        <a:lnTo>
                          <a:pt x="455" y="745"/>
                        </a:lnTo>
                        <a:lnTo>
                          <a:pt x="456" y="758"/>
                        </a:lnTo>
                        <a:lnTo>
                          <a:pt x="454" y="779"/>
                        </a:lnTo>
                        <a:lnTo>
                          <a:pt x="448" y="798"/>
                        </a:lnTo>
                        <a:lnTo>
                          <a:pt x="440" y="815"/>
                        </a:lnTo>
                        <a:lnTo>
                          <a:pt x="427" y="829"/>
                        </a:lnTo>
                        <a:lnTo>
                          <a:pt x="414" y="841"/>
                        </a:lnTo>
                        <a:lnTo>
                          <a:pt x="397" y="851"/>
                        </a:lnTo>
                        <a:lnTo>
                          <a:pt x="379" y="856"/>
                        </a:lnTo>
                        <a:lnTo>
                          <a:pt x="359" y="859"/>
                        </a:lnTo>
                        <a:lnTo>
                          <a:pt x="340" y="856"/>
                        </a:lnTo>
                        <a:lnTo>
                          <a:pt x="321" y="851"/>
                        </a:lnTo>
                        <a:lnTo>
                          <a:pt x="305" y="841"/>
                        </a:lnTo>
                        <a:lnTo>
                          <a:pt x="290" y="829"/>
                        </a:lnTo>
                        <a:lnTo>
                          <a:pt x="279" y="815"/>
                        </a:lnTo>
                        <a:lnTo>
                          <a:pt x="271" y="798"/>
                        </a:lnTo>
                        <a:lnTo>
                          <a:pt x="265" y="779"/>
                        </a:lnTo>
                        <a:lnTo>
                          <a:pt x="263" y="758"/>
                        </a:lnTo>
                        <a:lnTo>
                          <a:pt x="264" y="740"/>
                        </a:lnTo>
                        <a:lnTo>
                          <a:pt x="268" y="723"/>
                        </a:lnTo>
                        <a:lnTo>
                          <a:pt x="276" y="707"/>
                        </a:lnTo>
                        <a:lnTo>
                          <a:pt x="287" y="692"/>
                        </a:lnTo>
                        <a:lnTo>
                          <a:pt x="290" y="687"/>
                        </a:lnTo>
                        <a:lnTo>
                          <a:pt x="237" y="603"/>
                        </a:lnTo>
                        <a:lnTo>
                          <a:pt x="230" y="609"/>
                        </a:lnTo>
                        <a:lnTo>
                          <a:pt x="221" y="617"/>
                        </a:lnTo>
                        <a:lnTo>
                          <a:pt x="213" y="626"/>
                        </a:lnTo>
                        <a:lnTo>
                          <a:pt x="205" y="635"/>
                        </a:lnTo>
                        <a:lnTo>
                          <a:pt x="198" y="645"/>
                        </a:lnTo>
                        <a:lnTo>
                          <a:pt x="191" y="656"/>
                        </a:lnTo>
                        <a:lnTo>
                          <a:pt x="185" y="667"/>
                        </a:lnTo>
                        <a:lnTo>
                          <a:pt x="181" y="680"/>
                        </a:lnTo>
                        <a:lnTo>
                          <a:pt x="176" y="693"/>
                        </a:lnTo>
                        <a:lnTo>
                          <a:pt x="167" y="740"/>
                        </a:lnTo>
                        <a:lnTo>
                          <a:pt x="168" y="783"/>
                        </a:lnTo>
                        <a:lnTo>
                          <a:pt x="177" y="821"/>
                        </a:lnTo>
                        <a:lnTo>
                          <a:pt x="192" y="854"/>
                        </a:lnTo>
                        <a:lnTo>
                          <a:pt x="213" y="882"/>
                        </a:lnTo>
                        <a:lnTo>
                          <a:pt x="235" y="905"/>
                        </a:lnTo>
                        <a:lnTo>
                          <a:pt x="259" y="922"/>
                        </a:lnTo>
                        <a:lnTo>
                          <a:pt x="282" y="934"/>
                        </a:lnTo>
                        <a:lnTo>
                          <a:pt x="289" y="936"/>
                        </a:lnTo>
                        <a:lnTo>
                          <a:pt x="297" y="938"/>
                        </a:lnTo>
                        <a:lnTo>
                          <a:pt x="305" y="941"/>
                        </a:lnTo>
                        <a:lnTo>
                          <a:pt x="314" y="943"/>
                        </a:lnTo>
                        <a:lnTo>
                          <a:pt x="324" y="944"/>
                        </a:lnTo>
                        <a:lnTo>
                          <a:pt x="334" y="946"/>
                        </a:lnTo>
                        <a:lnTo>
                          <a:pt x="344" y="946"/>
                        </a:lnTo>
                        <a:lnTo>
                          <a:pt x="356" y="947"/>
                        </a:lnTo>
                        <a:lnTo>
                          <a:pt x="367" y="947"/>
                        </a:lnTo>
                        <a:lnTo>
                          <a:pt x="379" y="946"/>
                        </a:lnTo>
                        <a:lnTo>
                          <a:pt x="390" y="945"/>
                        </a:lnTo>
                        <a:lnTo>
                          <a:pt x="403" y="943"/>
                        </a:lnTo>
                        <a:lnTo>
                          <a:pt x="415" y="941"/>
                        </a:lnTo>
                        <a:lnTo>
                          <a:pt x="426" y="937"/>
                        </a:lnTo>
                        <a:lnTo>
                          <a:pt x="438" y="932"/>
                        </a:lnTo>
                        <a:lnTo>
                          <a:pt x="449" y="928"/>
                        </a:lnTo>
                        <a:lnTo>
                          <a:pt x="467" y="919"/>
                        </a:lnTo>
                        <a:lnTo>
                          <a:pt x="483" y="907"/>
                        </a:lnTo>
                        <a:lnTo>
                          <a:pt x="496" y="894"/>
                        </a:lnTo>
                        <a:lnTo>
                          <a:pt x="509" y="879"/>
                        </a:lnTo>
                        <a:lnTo>
                          <a:pt x="519" y="863"/>
                        </a:lnTo>
                        <a:lnTo>
                          <a:pt x="530" y="845"/>
                        </a:lnTo>
                        <a:lnTo>
                          <a:pt x="537" y="825"/>
                        </a:lnTo>
                        <a:lnTo>
                          <a:pt x="544" y="804"/>
                        </a:lnTo>
                        <a:lnTo>
                          <a:pt x="546" y="802"/>
                        </a:lnTo>
                        <a:lnTo>
                          <a:pt x="551" y="799"/>
                        </a:lnTo>
                        <a:lnTo>
                          <a:pt x="556" y="793"/>
                        </a:lnTo>
                        <a:lnTo>
                          <a:pt x="563" y="787"/>
                        </a:lnTo>
                        <a:lnTo>
                          <a:pt x="570" y="780"/>
                        </a:lnTo>
                        <a:lnTo>
                          <a:pt x="577" y="775"/>
                        </a:lnTo>
                        <a:lnTo>
                          <a:pt x="583" y="769"/>
                        </a:lnTo>
                        <a:lnTo>
                          <a:pt x="587" y="765"/>
                        </a:lnTo>
                        <a:lnTo>
                          <a:pt x="591" y="768"/>
                        </a:lnTo>
                        <a:lnTo>
                          <a:pt x="596" y="771"/>
                        </a:lnTo>
                        <a:lnTo>
                          <a:pt x="600" y="773"/>
                        </a:lnTo>
                        <a:lnTo>
                          <a:pt x="607" y="777"/>
                        </a:lnTo>
                        <a:lnTo>
                          <a:pt x="614" y="779"/>
                        </a:lnTo>
                        <a:lnTo>
                          <a:pt x="623" y="780"/>
                        </a:lnTo>
                        <a:lnTo>
                          <a:pt x="634" y="783"/>
                        </a:lnTo>
                        <a:lnTo>
                          <a:pt x="645" y="783"/>
                        </a:lnTo>
                        <a:lnTo>
                          <a:pt x="1112" y="783"/>
                        </a:lnTo>
                        <a:lnTo>
                          <a:pt x="1116" y="781"/>
                        </a:lnTo>
                        <a:lnTo>
                          <a:pt x="1124" y="779"/>
                        </a:lnTo>
                        <a:lnTo>
                          <a:pt x="1137" y="776"/>
                        </a:lnTo>
                        <a:lnTo>
                          <a:pt x="1150" y="770"/>
                        </a:lnTo>
                        <a:lnTo>
                          <a:pt x="1163" y="761"/>
                        </a:lnTo>
                        <a:lnTo>
                          <a:pt x="1174" y="750"/>
                        </a:lnTo>
                        <a:lnTo>
                          <a:pt x="1182" y="735"/>
                        </a:lnTo>
                        <a:lnTo>
                          <a:pt x="1185" y="717"/>
                        </a:lnTo>
                        <a:lnTo>
                          <a:pt x="1185" y="709"/>
                        </a:lnTo>
                        <a:lnTo>
                          <a:pt x="1180" y="709"/>
                        </a:lnTo>
                        <a:lnTo>
                          <a:pt x="1162" y="709"/>
                        </a:lnTo>
                        <a:lnTo>
                          <a:pt x="1137" y="709"/>
                        </a:lnTo>
                        <a:lnTo>
                          <a:pt x="1104" y="709"/>
                        </a:lnTo>
                        <a:lnTo>
                          <a:pt x="1063" y="709"/>
                        </a:lnTo>
                        <a:lnTo>
                          <a:pt x="1018" y="709"/>
                        </a:lnTo>
                        <a:lnTo>
                          <a:pt x="971" y="709"/>
                        </a:lnTo>
                        <a:lnTo>
                          <a:pt x="922" y="709"/>
                        </a:lnTo>
                        <a:lnTo>
                          <a:pt x="872" y="709"/>
                        </a:lnTo>
                        <a:lnTo>
                          <a:pt x="824" y="709"/>
                        </a:lnTo>
                        <a:lnTo>
                          <a:pt x="779" y="709"/>
                        </a:lnTo>
                        <a:lnTo>
                          <a:pt x="737" y="709"/>
                        </a:lnTo>
                        <a:lnTo>
                          <a:pt x="703" y="709"/>
                        </a:lnTo>
                        <a:lnTo>
                          <a:pt x="676" y="709"/>
                        </a:lnTo>
                        <a:lnTo>
                          <a:pt x="658" y="709"/>
                        </a:lnTo>
                        <a:lnTo>
                          <a:pt x="650" y="709"/>
                        </a:lnTo>
                        <a:lnTo>
                          <a:pt x="644" y="695"/>
                        </a:lnTo>
                        <a:lnTo>
                          <a:pt x="638" y="680"/>
                        </a:lnTo>
                        <a:lnTo>
                          <a:pt x="631" y="662"/>
                        </a:lnTo>
                        <a:lnTo>
                          <a:pt x="624" y="643"/>
                        </a:lnTo>
                        <a:lnTo>
                          <a:pt x="619" y="625"/>
                        </a:lnTo>
                        <a:lnTo>
                          <a:pt x="613" y="607"/>
                        </a:lnTo>
                        <a:lnTo>
                          <a:pt x="608" y="591"/>
                        </a:lnTo>
                        <a:lnTo>
                          <a:pt x="606" y="579"/>
                        </a:lnTo>
                        <a:lnTo>
                          <a:pt x="615" y="579"/>
                        </a:lnTo>
                        <a:lnTo>
                          <a:pt x="637" y="579"/>
                        </a:lnTo>
                        <a:lnTo>
                          <a:pt x="668" y="579"/>
                        </a:lnTo>
                        <a:lnTo>
                          <a:pt x="707" y="579"/>
                        </a:lnTo>
                        <a:lnTo>
                          <a:pt x="753" y="579"/>
                        </a:lnTo>
                        <a:lnTo>
                          <a:pt x="804" y="579"/>
                        </a:lnTo>
                        <a:lnTo>
                          <a:pt x="858" y="579"/>
                        </a:lnTo>
                        <a:lnTo>
                          <a:pt x="913" y="579"/>
                        </a:lnTo>
                        <a:lnTo>
                          <a:pt x="969" y="579"/>
                        </a:lnTo>
                        <a:lnTo>
                          <a:pt x="1022" y="579"/>
                        </a:lnTo>
                        <a:lnTo>
                          <a:pt x="1071" y="579"/>
                        </a:lnTo>
                        <a:lnTo>
                          <a:pt x="1116" y="579"/>
                        </a:lnTo>
                        <a:lnTo>
                          <a:pt x="1153" y="579"/>
                        </a:lnTo>
                        <a:lnTo>
                          <a:pt x="1182" y="579"/>
                        </a:lnTo>
                        <a:lnTo>
                          <a:pt x="1200" y="579"/>
                        </a:lnTo>
                        <a:lnTo>
                          <a:pt x="1207" y="579"/>
                        </a:lnTo>
                        <a:lnTo>
                          <a:pt x="1207" y="560"/>
                        </a:lnTo>
                        <a:lnTo>
                          <a:pt x="1207" y="520"/>
                        </a:lnTo>
                        <a:lnTo>
                          <a:pt x="1207" y="477"/>
                        </a:lnTo>
                        <a:lnTo>
                          <a:pt x="1207" y="452"/>
                        </a:lnTo>
                        <a:lnTo>
                          <a:pt x="1213" y="452"/>
                        </a:lnTo>
                        <a:lnTo>
                          <a:pt x="1220" y="452"/>
                        </a:lnTo>
                        <a:lnTo>
                          <a:pt x="1228" y="452"/>
                        </a:lnTo>
                        <a:lnTo>
                          <a:pt x="1236" y="452"/>
                        </a:lnTo>
                        <a:lnTo>
                          <a:pt x="1244" y="452"/>
                        </a:lnTo>
                        <a:lnTo>
                          <a:pt x="1252" y="452"/>
                        </a:lnTo>
                        <a:lnTo>
                          <a:pt x="1259" y="452"/>
                        </a:lnTo>
                        <a:lnTo>
                          <a:pt x="1264" y="452"/>
                        </a:lnTo>
                        <a:lnTo>
                          <a:pt x="1264" y="504"/>
                        </a:lnTo>
                        <a:lnTo>
                          <a:pt x="1264" y="605"/>
                        </a:lnTo>
                        <a:lnTo>
                          <a:pt x="1264" y="703"/>
                        </a:lnTo>
                        <a:lnTo>
                          <a:pt x="1264" y="747"/>
                        </a:lnTo>
                        <a:lnTo>
                          <a:pt x="1267" y="747"/>
                        </a:lnTo>
                        <a:lnTo>
                          <a:pt x="1275" y="747"/>
                        </a:lnTo>
                        <a:lnTo>
                          <a:pt x="1288" y="747"/>
                        </a:lnTo>
                        <a:lnTo>
                          <a:pt x="1305" y="747"/>
                        </a:lnTo>
                        <a:lnTo>
                          <a:pt x="1325" y="747"/>
                        </a:lnTo>
                        <a:lnTo>
                          <a:pt x="1348" y="747"/>
                        </a:lnTo>
                        <a:lnTo>
                          <a:pt x="1372" y="747"/>
                        </a:lnTo>
                        <a:lnTo>
                          <a:pt x="1397" y="747"/>
                        </a:lnTo>
                        <a:lnTo>
                          <a:pt x="1423" y="747"/>
                        </a:lnTo>
                        <a:lnTo>
                          <a:pt x="1447" y="747"/>
                        </a:lnTo>
                        <a:lnTo>
                          <a:pt x="1470" y="747"/>
                        </a:lnTo>
                        <a:lnTo>
                          <a:pt x="1491" y="747"/>
                        </a:lnTo>
                        <a:lnTo>
                          <a:pt x="1509" y="747"/>
                        </a:lnTo>
                        <a:lnTo>
                          <a:pt x="1524" y="747"/>
                        </a:lnTo>
                        <a:lnTo>
                          <a:pt x="1534" y="747"/>
                        </a:lnTo>
                        <a:lnTo>
                          <a:pt x="1539" y="747"/>
                        </a:lnTo>
                        <a:lnTo>
                          <a:pt x="1542" y="756"/>
                        </a:lnTo>
                        <a:lnTo>
                          <a:pt x="1549" y="769"/>
                        </a:lnTo>
                        <a:lnTo>
                          <a:pt x="1560" y="784"/>
                        </a:lnTo>
                        <a:lnTo>
                          <a:pt x="1573" y="799"/>
                        </a:lnTo>
                        <a:lnTo>
                          <a:pt x="1591" y="814"/>
                        </a:lnTo>
                        <a:lnTo>
                          <a:pt x="1613" y="826"/>
                        </a:lnTo>
                        <a:lnTo>
                          <a:pt x="1638" y="838"/>
                        </a:lnTo>
                        <a:lnTo>
                          <a:pt x="1668" y="845"/>
                        </a:lnTo>
                        <a:lnTo>
                          <a:pt x="1673" y="854"/>
                        </a:lnTo>
                        <a:lnTo>
                          <a:pt x="1681" y="868"/>
                        </a:lnTo>
                        <a:lnTo>
                          <a:pt x="1692" y="885"/>
                        </a:lnTo>
                        <a:lnTo>
                          <a:pt x="1708" y="906"/>
                        </a:lnTo>
                        <a:lnTo>
                          <a:pt x="1727" y="927"/>
                        </a:lnTo>
                        <a:lnTo>
                          <a:pt x="1751" y="946"/>
                        </a:lnTo>
                        <a:lnTo>
                          <a:pt x="1780" y="964"/>
                        </a:lnTo>
                        <a:lnTo>
                          <a:pt x="1813" y="976"/>
                        </a:lnTo>
                        <a:lnTo>
                          <a:pt x="1819" y="977"/>
                        </a:lnTo>
                        <a:lnTo>
                          <a:pt x="1825" y="979"/>
                        </a:lnTo>
                        <a:lnTo>
                          <a:pt x="1830" y="980"/>
                        </a:lnTo>
                        <a:lnTo>
                          <a:pt x="1836" y="981"/>
                        </a:lnTo>
                        <a:lnTo>
                          <a:pt x="1842" y="981"/>
                        </a:lnTo>
                        <a:lnTo>
                          <a:pt x="1848" y="982"/>
                        </a:lnTo>
                        <a:lnTo>
                          <a:pt x="1853" y="982"/>
                        </a:lnTo>
                        <a:lnTo>
                          <a:pt x="1859" y="982"/>
                        </a:lnTo>
                        <a:lnTo>
                          <a:pt x="1871" y="982"/>
                        </a:lnTo>
                        <a:lnTo>
                          <a:pt x="1883" y="981"/>
                        </a:lnTo>
                        <a:lnTo>
                          <a:pt x="1895" y="979"/>
                        </a:lnTo>
                        <a:lnTo>
                          <a:pt x="1906" y="975"/>
                        </a:lnTo>
                        <a:lnTo>
                          <a:pt x="1919" y="972"/>
                        </a:lnTo>
                        <a:lnTo>
                          <a:pt x="1931" y="967"/>
                        </a:lnTo>
                        <a:lnTo>
                          <a:pt x="1942" y="961"/>
                        </a:lnTo>
                        <a:lnTo>
                          <a:pt x="1954" y="955"/>
                        </a:lnTo>
                        <a:lnTo>
                          <a:pt x="1965" y="949"/>
                        </a:lnTo>
                        <a:lnTo>
                          <a:pt x="1975" y="942"/>
                        </a:lnTo>
                        <a:lnTo>
                          <a:pt x="1985" y="934"/>
                        </a:lnTo>
                        <a:lnTo>
                          <a:pt x="1994" y="924"/>
                        </a:lnTo>
                        <a:lnTo>
                          <a:pt x="2002" y="916"/>
                        </a:lnTo>
                        <a:lnTo>
                          <a:pt x="2009" y="908"/>
                        </a:lnTo>
                        <a:lnTo>
                          <a:pt x="2013" y="899"/>
                        </a:lnTo>
                        <a:lnTo>
                          <a:pt x="2018" y="891"/>
                        </a:lnTo>
                        <a:lnTo>
                          <a:pt x="2026" y="896"/>
                        </a:lnTo>
                        <a:lnTo>
                          <a:pt x="2035" y="901"/>
                        </a:lnTo>
                        <a:lnTo>
                          <a:pt x="2042" y="906"/>
                        </a:lnTo>
                        <a:lnTo>
                          <a:pt x="2046" y="908"/>
                        </a:lnTo>
                        <a:lnTo>
                          <a:pt x="2050" y="909"/>
                        </a:lnTo>
                        <a:lnTo>
                          <a:pt x="2058" y="911"/>
                        </a:lnTo>
                        <a:lnTo>
                          <a:pt x="2068" y="911"/>
                        </a:lnTo>
                        <a:lnTo>
                          <a:pt x="2077" y="907"/>
                        </a:lnTo>
                        <a:lnTo>
                          <a:pt x="2081" y="902"/>
                        </a:lnTo>
                        <a:lnTo>
                          <a:pt x="2085" y="897"/>
                        </a:lnTo>
                        <a:lnTo>
                          <a:pt x="2086" y="890"/>
                        </a:lnTo>
                        <a:lnTo>
                          <a:pt x="2087" y="881"/>
                        </a:lnTo>
                        <a:lnTo>
                          <a:pt x="2087" y="879"/>
                        </a:lnTo>
                        <a:lnTo>
                          <a:pt x="2087" y="878"/>
                        </a:lnTo>
                        <a:lnTo>
                          <a:pt x="2087" y="876"/>
                        </a:lnTo>
                        <a:lnTo>
                          <a:pt x="2086" y="875"/>
                        </a:lnTo>
                        <a:lnTo>
                          <a:pt x="2086" y="854"/>
                        </a:lnTo>
                        <a:lnTo>
                          <a:pt x="2086" y="806"/>
                        </a:lnTo>
                        <a:lnTo>
                          <a:pt x="2086" y="755"/>
                        </a:lnTo>
                        <a:lnTo>
                          <a:pt x="2086" y="725"/>
                        </a:lnTo>
                        <a:lnTo>
                          <a:pt x="2092" y="725"/>
                        </a:lnTo>
                        <a:lnTo>
                          <a:pt x="2099" y="725"/>
                        </a:lnTo>
                        <a:lnTo>
                          <a:pt x="2108" y="725"/>
                        </a:lnTo>
                        <a:lnTo>
                          <a:pt x="2116" y="725"/>
                        </a:lnTo>
                        <a:lnTo>
                          <a:pt x="2124" y="725"/>
                        </a:lnTo>
                        <a:lnTo>
                          <a:pt x="2132" y="725"/>
                        </a:lnTo>
                        <a:lnTo>
                          <a:pt x="2137" y="725"/>
                        </a:lnTo>
                        <a:lnTo>
                          <a:pt x="2140" y="725"/>
                        </a:lnTo>
                        <a:lnTo>
                          <a:pt x="2145" y="727"/>
                        </a:lnTo>
                        <a:lnTo>
                          <a:pt x="2151" y="732"/>
                        </a:lnTo>
                        <a:lnTo>
                          <a:pt x="2159" y="735"/>
                        </a:lnTo>
                        <a:lnTo>
                          <a:pt x="2168" y="740"/>
                        </a:lnTo>
                        <a:lnTo>
                          <a:pt x="2177" y="743"/>
                        </a:lnTo>
                        <a:lnTo>
                          <a:pt x="2187" y="747"/>
                        </a:lnTo>
                        <a:lnTo>
                          <a:pt x="2199" y="749"/>
                        </a:lnTo>
                        <a:lnTo>
                          <a:pt x="2209" y="750"/>
                        </a:lnTo>
                        <a:lnTo>
                          <a:pt x="2221" y="750"/>
                        </a:lnTo>
                        <a:lnTo>
                          <a:pt x="2232" y="748"/>
                        </a:lnTo>
                        <a:lnTo>
                          <a:pt x="2243" y="747"/>
                        </a:lnTo>
                        <a:lnTo>
                          <a:pt x="2254" y="743"/>
                        </a:lnTo>
                        <a:lnTo>
                          <a:pt x="2263" y="741"/>
                        </a:lnTo>
                        <a:lnTo>
                          <a:pt x="2270" y="740"/>
                        </a:lnTo>
                        <a:lnTo>
                          <a:pt x="2276" y="738"/>
                        </a:lnTo>
                        <a:lnTo>
                          <a:pt x="2278" y="738"/>
                        </a:lnTo>
                        <a:lnTo>
                          <a:pt x="2283" y="735"/>
                        </a:lnTo>
                        <a:lnTo>
                          <a:pt x="2286" y="677"/>
                        </a:lnTo>
                        <a:lnTo>
                          <a:pt x="2280" y="666"/>
                        </a:lnTo>
                        <a:lnTo>
                          <a:pt x="2263" y="640"/>
                        </a:lnTo>
                        <a:lnTo>
                          <a:pt x="2239" y="602"/>
                        </a:lnTo>
                        <a:lnTo>
                          <a:pt x="2212" y="558"/>
                        </a:lnTo>
                        <a:lnTo>
                          <a:pt x="2183" y="513"/>
                        </a:lnTo>
                        <a:lnTo>
                          <a:pt x="2159" y="474"/>
                        </a:lnTo>
                        <a:lnTo>
                          <a:pt x="2140" y="446"/>
                        </a:lnTo>
                        <a:lnTo>
                          <a:pt x="2132" y="433"/>
                        </a:lnTo>
                        <a:lnTo>
                          <a:pt x="2138" y="422"/>
                        </a:lnTo>
                        <a:lnTo>
                          <a:pt x="2146" y="405"/>
                        </a:lnTo>
                        <a:lnTo>
                          <a:pt x="2154" y="387"/>
                        </a:lnTo>
                        <a:lnTo>
                          <a:pt x="2157" y="380"/>
                        </a:lnTo>
                        <a:lnTo>
                          <a:pt x="2153" y="373"/>
                        </a:lnTo>
                        <a:lnTo>
                          <a:pt x="2142" y="354"/>
                        </a:lnTo>
                        <a:lnTo>
                          <a:pt x="2126" y="327"/>
                        </a:lnTo>
                        <a:lnTo>
                          <a:pt x="2109" y="297"/>
                        </a:lnTo>
                        <a:lnTo>
                          <a:pt x="2091" y="266"/>
                        </a:lnTo>
                        <a:lnTo>
                          <a:pt x="2075" y="239"/>
                        </a:lnTo>
                        <a:lnTo>
                          <a:pt x="2063" y="219"/>
                        </a:lnTo>
                        <a:lnTo>
                          <a:pt x="2058" y="211"/>
                        </a:lnTo>
                        <a:lnTo>
                          <a:pt x="2058" y="206"/>
                        </a:lnTo>
                        <a:lnTo>
                          <a:pt x="2058" y="201"/>
                        </a:lnTo>
                        <a:lnTo>
                          <a:pt x="2058" y="192"/>
                        </a:lnTo>
                        <a:lnTo>
                          <a:pt x="2058" y="187"/>
                        </a:lnTo>
                        <a:lnTo>
                          <a:pt x="2065" y="184"/>
                        </a:lnTo>
                        <a:lnTo>
                          <a:pt x="2079" y="179"/>
                        </a:lnTo>
                        <a:lnTo>
                          <a:pt x="2096" y="172"/>
                        </a:lnTo>
                        <a:lnTo>
                          <a:pt x="2116" y="164"/>
                        </a:lnTo>
                        <a:lnTo>
                          <a:pt x="2134" y="156"/>
                        </a:lnTo>
                        <a:lnTo>
                          <a:pt x="2151" y="150"/>
                        </a:lnTo>
                        <a:lnTo>
                          <a:pt x="2162" y="145"/>
                        </a:lnTo>
                        <a:lnTo>
                          <a:pt x="2167" y="143"/>
                        </a:lnTo>
                        <a:lnTo>
                          <a:pt x="2210" y="59"/>
                        </a:lnTo>
                        <a:lnTo>
                          <a:pt x="2210" y="56"/>
                        </a:lnTo>
                        <a:lnTo>
                          <a:pt x="2209" y="48"/>
                        </a:lnTo>
                        <a:lnTo>
                          <a:pt x="2207" y="35"/>
                        </a:lnTo>
                        <a:lnTo>
                          <a:pt x="2199" y="18"/>
                        </a:lnTo>
                        <a:lnTo>
                          <a:pt x="2186" y="5"/>
                        </a:lnTo>
                        <a:lnTo>
                          <a:pt x="2183" y="2"/>
                        </a:lnTo>
                        <a:lnTo>
                          <a:pt x="2178" y="1"/>
                        </a:lnTo>
                        <a:lnTo>
                          <a:pt x="2174" y="1"/>
                        </a:lnTo>
                        <a:lnTo>
                          <a:pt x="2169" y="0"/>
                        </a:lnTo>
                        <a:lnTo>
                          <a:pt x="2164" y="1"/>
                        </a:lnTo>
                        <a:lnTo>
                          <a:pt x="2159" y="2"/>
                        </a:lnTo>
                        <a:lnTo>
                          <a:pt x="2154" y="3"/>
                        </a:lnTo>
                        <a:lnTo>
                          <a:pt x="2148" y="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6058080" y="2820960"/>
                    <a:ext cx="63360" cy="28440"/>
                  </a:xfrm>
                  <a:custGeom>
                    <a:avLst/>
                    <a:gdLst/>
                    <a:ahLst/>
                    <a:rect l="l" t="t" r="r" b="b"/>
                    <a:pathLst>
                      <a:path w="82" h="35">
                        <a:moveTo>
                          <a:pt x="5" y="0"/>
                        </a:moveTo>
                        <a:lnTo>
                          <a:pt x="0" y="33"/>
                        </a:lnTo>
                        <a:lnTo>
                          <a:pt x="82" y="35"/>
                        </a:lnTo>
                        <a:lnTo>
                          <a:pt x="81" y="21"/>
                        </a:lnTo>
                        <a:lnTo>
                          <a:pt x="23" y="19"/>
                        </a:lnTo>
                        <a:lnTo>
                          <a:pt x="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1" name=""/>
                  <p:cNvSpPr/>
                  <p:nvPr/>
                </p:nvSpPr>
                <p:spPr>
                  <a:xfrm>
                    <a:off x="6086520" y="2820960"/>
                    <a:ext cx="38160" cy="11160"/>
                  </a:xfrm>
                  <a:custGeom>
                    <a:avLst/>
                    <a:gdLst/>
                    <a:ahLst/>
                    <a:rect l="l" t="t" r="r" b="b"/>
                    <a:pathLst>
                      <a:path w="48" h="14">
                        <a:moveTo>
                          <a:pt x="0" y="0"/>
                        </a:moveTo>
                        <a:lnTo>
                          <a:pt x="43" y="6"/>
                        </a:lnTo>
                        <a:lnTo>
                          <a:pt x="48" y="14"/>
                        </a:lnTo>
                        <a:lnTo>
                          <a:pt x="15" y="14"/>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132" name=""/>
                  <p:cNvSpPr/>
                  <p:nvPr/>
                </p:nvSpPr>
                <p:spPr>
                  <a:xfrm>
                    <a:off x="5364000" y="3362400"/>
                    <a:ext cx="17640" cy="17280"/>
                  </a:xfrm>
                  <a:custGeom>
                    <a:avLst/>
                    <a:gdLst/>
                    <a:ahLst/>
                    <a:rect l="l" t="t" r="r" b="b"/>
                    <a:pathLst>
                      <a:path w="22" h="22">
                        <a:moveTo>
                          <a:pt x="22" y="11"/>
                        </a:moveTo>
                        <a:lnTo>
                          <a:pt x="21" y="16"/>
                        </a:lnTo>
                        <a:lnTo>
                          <a:pt x="18" y="18"/>
                        </a:lnTo>
                        <a:lnTo>
                          <a:pt x="15" y="21"/>
                        </a:lnTo>
                        <a:lnTo>
                          <a:pt x="10" y="22"/>
                        </a:lnTo>
                        <a:lnTo>
                          <a:pt x="6" y="21"/>
                        </a:lnTo>
                        <a:lnTo>
                          <a:pt x="3" y="18"/>
                        </a:lnTo>
                        <a:lnTo>
                          <a:pt x="1" y="16"/>
                        </a:lnTo>
                        <a:lnTo>
                          <a:pt x="0" y="11"/>
                        </a:lnTo>
                        <a:lnTo>
                          <a:pt x="1" y="7"/>
                        </a:lnTo>
                        <a:lnTo>
                          <a:pt x="3" y="3"/>
                        </a:lnTo>
                        <a:lnTo>
                          <a:pt x="6" y="1"/>
                        </a:lnTo>
                        <a:lnTo>
                          <a:pt x="10" y="0"/>
                        </a:lnTo>
                        <a:lnTo>
                          <a:pt x="15" y="1"/>
                        </a:lnTo>
                        <a:lnTo>
                          <a:pt x="18" y="3"/>
                        </a:lnTo>
                        <a:lnTo>
                          <a:pt x="21" y="7"/>
                        </a:lnTo>
                        <a:lnTo>
                          <a:pt x="22" y="1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3" name=""/>
                  <p:cNvSpPr/>
                  <p:nvPr/>
                </p:nvSpPr>
                <p:spPr>
                  <a:xfrm>
                    <a:off x="5392800" y="3360600"/>
                    <a:ext cx="15840" cy="17640"/>
                  </a:xfrm>
                  <a:custGeom>
                    <a:avLst/>
                    <a:gdLst/>
                    <a:ahLst/>
                    <a:rect l="l" t="t" r="r" b="b"/>
                    <a:pathLst>
                      <a:path w="20" h="22">
                        <a:moveTo>
                          <a:pt x="18" y="19"/>
                        </a:moveTo>
                        <a:lnTo>
                          <a:pt x="15" y="21"/>
                        </a:lnTo>
                        <a:lnTo>
                          <a:pt x="10" y="22"/>
                        </a:lnTo>
                        <a:lnTo>
                          <a:pt x="5" y="21"/>
                        </a:lnTo>
                        <a:lnTo>
                          <a:pt x="2" y="19"/>
                        </a:lnTo>
                        <a:lnTo>
                          <a:pt x="0" y="15"/>
                        </a:lnTo>
                        <a:lnTo>
                          <a:pt x="0" y="12"/>
                        </a:lnTo>
                        <a:lnTo>
                          <a:pt x="0" y="7"/>
                        </a:lnTo>
                        <a:lnTo>
                          <a:pt x="2" y="4"/>
                        </a:lnTo>
                        <a:lnTo>
                          <a:pt x="5" y="2"/>
                        </a:lnTo>
                        <a:lnTo>
                          <a:pt x="10" y="0"/>
                        </a:lnTo>
                        <a:lnTo>
                          <a:pt x="15" y="2"/>
                        </a:lnTo>
                        <a:lnTo>
                          <a:pt x="18" y="4"/>
                        </a:lnTo>
                        <a:lnTo>
                          <a:pt x="20" y="7"/>
                        </a:lnTo>
                        <a:lnTo>
                          <a:pt x="20" y="12"/>
                        </a:lnTo>
                        <a:lnTo>
                          <a:pt x="20" y="15"/>
                        </a:lnTo>
                        <a:lnTo>
                          <a:pt x="18" y="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4" name=""/>
                  <p:cNvSpPr/>
                  <p:nvPr/>
                </p:nvSpPr>
                <p:spPr>
                  <a:xfrm>
                    <a:off x="5413320" y="3378240"/>
                    <a:ext cx="17640" cy="17280"/>
                  </a:xfrm>
                  <a:custGeom>
                    <a:avLst/>
                    <a:gdLst/>
                    <a:ahLst/>
                    <a:rect l="l" t="t" r="r" b="b"/>
                    <a:pathLst>
                      <a:path w="22" h="22">
                        <a:moveTo>
                          <a:pt x="12" y="22"/>
                        </a:moveTo>
                        <a:lnTo>
                          <a:pt x="7" y="21"/>
                        </a:lnTo>
                        <a:lnTo>
                          <a:pt x="4" y="19"/>
                        </a:lnTo>
                        <a:lnTo>
                          <a:pt x="1" y="16"/>
                        </a:lnTo>
                        <a:lnTo>
                          <a:pt x="0" y="12"/>
                        </a:lnTo>
                        <a:lnTo>
                          <a:pt x="1" y="7"/>
                        </a:lnTo>
                        <a:lnTo>
                          <a:pt x="4" y="4"/>
                        </a:lnTo>
                        <a:lnTo>
                          <a:pt x="7" y="1"/>
                        </a:lnTo>
                        <a:lnTo>
                          <a:pt x="12" y="0"/>
                        </a:lnTo>
                        <a:lnTo>
                          <a:pt x="16" y="1"/>
                        </a:lnTo>
                        <a:lnTo>
                          <a:pt x="19" y="4"/>
                        </a:lnTo>
                        <a:lnTo>
                          <a:pt x="21" y="7"/>
                        </a:lnTo>
                        <a:lnTo>
                          <a:pt x="22" y="12"/>
                        </a:lnTo>
                        <a:lnTo>
                          <a:pt x="21" y="16"/>
                        </a:lnTo>
                        <a:lnTo>
                          <a:pt x="19" y="19"/>
                        </a:lnTo>
                        <a:lnTo>
                          <a:pt x="16" y="21"/>
                        </a:lnTo>
                        <a:lnTo>
                          <a:pt x="12"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5" name=""/>
                  <p:cNvSpPr/>
                  <p:nvPr/>
                </p:nvSpPr>
                <p:spPr>
                  <a:xfrm>
                    <a:off x="5416560" y="3405240"/>
                    <a:ext cx="17280" cy="17280"/>
                  </a:xfrm>
                  <a:custGeom>
                    <a:avLst/>
                    <a:gdLst/>
                    <a:ahLst/>
                    <a:rect l="l" t="t" r="r" b="b"/>
                    <a:pathLst>
                      <a:path w="22" h="22">
                        <a:moveTo>
                          <a:pt x="3" y="18"/>
                        </a:moveTo>
                        <a:lnTo>
                          <a:pt x="1" y="15"/>
                        </a:lnTo>
                        <a:lnTo>
                          <a:pt x="0" y="10"/>
                        </a:lnTo>
                        <a:lnTo>
                          <a:pt x="1" y="7"/>
                        </a:lnTo>
                        <a:lnTo>
                          <a:pt x="3" y="3"/>
                        </a:lnTo>
                        <a:lnTo>
                          <a:pt x="7" y="1"/>
                        </a:lnTo>
                        <a:lnTo>
                          <a:pt x="10" y="0"/>
                        </a:lnTo>
                        <a:lnTo>
                          <a:pt x="15" y="1"/>
                        </a:lnTo>
                        <a:lnTo>
                          <a:pt x="18" y="3"/>
                        </a:lnTo>
                        <a:lnTo>
                          <a:pt x="21" y="7"/>
                        </a:lnTo>
                        <a:lnTo>
                          <a:pt x="22" y="10"/>
                        </a:lnTo>
                        <a:lnTo>
                          <a:pt x="21" y="15"/>
                        </a:lnTo>
                        <a:lnTo>
                          <a:pt x="18" y="18"/>
                        </a:lnTo>
                        <a:lnTo>
                          <a:pt x="15" y="21"/>
                        </a:lnTo>
                        <a:lnTo>
                          <a:pt x="10" y="22"/>
                        </a:lnTo>
                        <a:lnTo>
                          <a:pt x="7" y="21"/>
                        </a:lnTo>
                        <a:lnTo>
                          <a:pt x="3" y="1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6" name=""/>
                  <p:cNvSpPr/>
                  <p:nvPr/>
                </p:nvSpPr>
                <p:spPr>
                  <a:xfrm>
                    <a:off x="5398920" y="3427560"/>
                    <a:ext cx="17640" cy="17280"/>
                  </a:xfrm>
                  <a:custGeom>
                    <a:avLst/>
                    <a:gdLst/>
                    <a:ahLst/>
                    <a:rect l="l" t="t" r="r" b="b"/>
                    <a:pathLst>
                      <a:path w="21" h="22">
                        <a:moveTo>
                          <a:pt x="0" y="10"/>
                        </a:moveTo>
                        <a:lnTo>
                          <a:pt x="1" y="5"/>
                        </a:lnTo>
                        <a:lnTo>
                          <a:pt x="3" y="3"/>
                        </a:lnTo>
                        <a:lnTo>
                          <a:pt x="6" y="1"/>
                        </a:lnTo>
                        <a:lnTo>
                          <a:pt x="10" y="0"/>
                        </a:lnTo>
                        <a:lnTo>
                          <a:pt x="15" y="1"/>
                        </a:lnTo>
                        <a:lnTo>
                          <a:pt x="17" y="3"/>
                        </a:lnTo>
                        <a:lnTo>
                          <a:pt x="19" y="5"/>
                        </a:lnTo>
                        <a:lnTo>
                          <a:pt x="21" y="10"/>
                        </a:lnTo>
                        <a:lnTo>
                          <a:pt x="21" y="15"/>
                        </a:lnTo>
                        <a:lnTo>
                          <a:pt x="18" y="18"/>
                        </a:lnTo>
                        <a:lnTo>
                          <a:pt x="15" y="20"/>
                        </a:lnTo>
                        <a:lnTo>
                          <a:pt x="10" y="22"/>
                        </a:lnTo>
                        <a:lnTo>
                          <a:pt x="6" y="20"/>
                        </a:lnTo>
                        <a:lnTo>
                          <a:pt x="2" y="18"/>
                        </a:lnTo>
                        <a:lnTo>
                          <a:pt x="0" y="15"/>
                        </a:lnTo>
                        <a:lnTo>
                          <a:pt x="0" y="1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7" name=""/>
                  <p:cNvSpPr/>
                  <p:nvPr/>
                </p:nvSpPr>
                <p:spPr>
                  <a:xfrm>
                    <a:off x="5372280" y="3430440"/>
                    <a:ext cx="17280" cy="17640"/>
                  </a:xfrm>
                  <a:custGeom>
                    <a:avLst/>
                    <a:gdLst/>
                    <a:ahLst/>
                    <a:rect l="l" t="t" r="r" b="b"/>
                    <a:pathLst>
                      <a:path w="22" h="22">
                        <a:moveTo>
                          <a:pt x="4" y="4"/>
                        </a:moveTo>
                        <a:lnTo>
                          <a:pt x="7" y="1"/>
                        </a:lnTo>
                        <a:lnTo>
                          <a:pt x="11" y="0"/>
                        </a:lnTo>
                        <a:lnTo>
                          <a:pt x="15" y="1"/>
                        </a:lnTo>
                        <a:lnTo>
                          <a:pt x="19" y="4"/>
                        </a:lnTo>
                        <a:lnTo>
                          <a:pt x="21" y="7"/>
                        </a:lnTo>
                        <a:lnTo>
                          <a:pt x="22" y="12"/>
                        </a:lnTo>
                        <a:lnTo>
                          <a:pt x="21" y="15"/>
                        </a:lnTo>
                        <a:lnTo>
                          <a:pt x="19" y="19"/>
                        </a:lnTo>
                        <a:lnTo>
                          <a:pt x="15" y="21"/>
                        </a:lnTo>
                        <a:lnTo>
                          <a:pt x="11" y="22"/>
                        </a:lnTo>
                        <a:lnTo>
                          <a:pt x="7" y="21"/>
                        </a:lnTo>
                        <a:lnTo>
                          <a:pt x="4" y="19"/>
                        </a:lnTo>
                        <a:lnTo>
                          <a:pt x="1" y="15"/>
                        </a:lnTo>
                        <a:lnTo>
                          <a:pt x="0" y="12"/>
                        </a:lnTo>
                        <a:lnTo>
                          <a:pt x="1" y="7"/>
                        </a:lnTo>
                        <a:lnTo>
                          <a:pt x="4"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38" name=""/>
                  <p:cNvSpPr/>
                  <p:nvPr/>
                </p:nvSpPr>
                <p:spPr>
                  <a:xfrm>
                    <a:off x="5349960" y="3413160"/>
                    <a:ext cx="17280" cy="17280"/>
                  </a:xfrm>
                  <a:custGeom>
                    <a:avLst/>
                    <a:gdLst/>
                    <a:ahLst/>
                    <a:rect l="l" t="t" r="r" b="b"/>
                    <a:pathLst>
                      <a:path w="21" h="22">
                        <a:moveTo>
                          <a:pt x="10" y="0"/>
                        </a:moveTo>
                        <a:lnTo>
                          <a:pt x="15" y="1"/>
                        </a:lnTo>
                        <a:lnTo>
                          <a:pt x="18" y="4"/>
                        </a:lnTo>
                        <a:lnTo>
                          <a:pt x="20" y="6"/>
                        </a:lnTo>
                        <a:lnTo>
                          <a:pt x="21" y="11"/>
                        </a:lnTo>
                        <a:lnTo>
                          <a:pt x="20" y="15"/>
                        </a:lnTo>
                        <a:lnTo>
                          <a:pt x="18" y="19"/>
                        </a:lnTo>
                        <a:lnTo>
                          <a:pt x="15" y="21"/>
                        </a:lnTo>
                        <a:lnTo>
                          <a:pt x="10" y="22"/>
                        </a:lnTo>
                        <a:lnTo>
                          <a:pt x="5" y="21"/>
                        </a:lnTo>
                        <a:lnTo>
                          <a:pt x="3" y="19"/>
                        </a:lnTo>
                        <a:lnTo>
                          <a:pt x="1" y="15"/>
                        </a:lnTo>
                        <a:lnTo>
                          <a:pt x="0" y="11"/>
                        </a:lnTo>
                        <a:lnTo>
                          <a:pt x="1" y="6"/>
                        </a:lnTo>
                        <a:lnTo>
                          <a:pt x="3" y="4"/>
                        </a:lnTo>
                        <a:lnTo>
                          <a:pt x="5" y="1"/>
                        </a:lnTo>
                        <a:lnTo>
                          <a:pt x="1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9" name=""/>
                  <p:cNvSpPr/>
                  <p:nvPr/>
                </p:nvSpPr>
                <p:spPr>
                  <a:xfrm>
                    <a:off x="5346720" y="3384720"/>
                    <a:ext cx="17280" cy="17280"/>
                  </a:xfrm>
                  <a:custGeom>
                    <a:avLst/>
                    <a:gdLst/>
                    <a:ahLst/>
                    <a:rect l="l" t="t" r="r" b="b"/>
                    <a:pathLst>
                      <a:path w="22" h="22">
                        <a:moveTo>
                          <a:pt x="19" y="4"/>
                        </a:moveTo>
                        <a:lnTo>
                          <a:pt x="21" y="7"/>
                        </a:lnTo>
                        <a:lnTo>
                          <a:pt x="22" y="12"/>
                        </a:lnTo>
                        <a:lnTo>
                          <a:pt x="21" y="17"/>
                        </a:lnTo>
                        <a:lnTo>
                          <a:pt x="19" y="20"/>
                        </a:lnTo>
                        <a:lnTo>
                          <a:pt x="15" y="22"/>
                        </a:lnTo>
                        <a:lnTo>
                          <a:pt x="10" y="22"/>
                        </a:lnTo>
                        <a:lnTo>
                          <a:pt x="6" y="22"/>
                        </a:lnTo>
                        <a:lnTo>
                          <a:pt x="2" y="20"/>
                        </a:lnTo>
                        <a:lnTo>
                          <a:pt x="0" y="17"/>
                        </a:lnTo>
                        <a:lnTo>
                          <a:pt x="0" y="12"/>
                        </a:lnTo>
                        <a:lnTo>
                          <a:pt x="0" y="7"/>
                        </a:lnTo>
                        <a:lnTo>
                          <a:pt x="2" y="4"/>
                        </a:lnTo>
                        <a:lnTo>
                          <a:pt x="6" y="2"/>
                        </a:lnTo>
                        <a:lnTo>
                          <a:pt x="10" y="0"/>
                        </a:lnTo>
                        <a:lnTo>
                          <a:pt x="15" y="2"/>
                        </a:lnTo>
                        <a:lnTo>
                          <a:pt x="19"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0" name=""/>
                  <p:cNvSpPr/>
                  <p:nvPr/>
                </p:nvSpPr>
                <p:spPr>
                  <a:xfrm>
                    <a:off x="5753160" y="2900520"/>
                    <a:ext cx="193680" cy="129960"/>
                  </a:xfrm>
                  <a:custGeom>
                    <a:avLst/>
                    <a:gdLst/>
                    <a:ahLst/>
                    <a:rect l="l" t="t" r="r" b="b"/>
                    <a:pathLst>
                      <a:path w="243" h="164">
                        <a:moveTo>
                          <a:pt x="87" y="3"/>
                        </a:moveTo>
                        <a:lnTo>
                          <a:pt x="84" y="9"/>
                        </a:lnTo>
                        <a:lnTo>
                          <a:pt x="76" y="23"/>
                        </a:lnTo>
                        <a:lnTo>
                          <a:pt x="63" y="43"/>
                        </a:lnTo>
                        <a:lnTo>
                          <a:pt x="49" y="68"/>
                        </a:lnTo>
                        <a:lnTo>
                          <a:pt x="33" y="93"/>
                        </a:lnTo>
                        <a:lnTo>
                          <a:pt x="19" y="117"/>
                        </a:lnTo>
                        <a:lnTo>
                          <a:pt x="8" y="138"/>
                        </a:lnTo>
                        <a:lnTo>
                          <a:pt x="0" y="152"/>
                        </a:lnTo>
                        <a:lnTo>
                          <a:pt x="0" y="156"/>
                        </a:lnTo>
                        <a:lnTo>
                          <a:pt x="7" y="159"/>
                        </a:lnTo>
                        <a:lnTo>
                          <a:pt x="17" y="161"/>
                        </a:lnTo>
                        <a:lnTo>
                          <a:pt x="31" y="163"/>
                        </a:lnTo>
                        <a:lnTo>
                          <a:pt x="48" y="163"/>
                        </a:lnTo>
                        <a:lnTo>
                          <a:pt x="68" y="164"/>
                        </a:lnTo>
                        <a:lnTo>
                          <a:pt x="90" y="164"/>
                        </a:lnTo>
                        <a:lnTo>
                          <a:pt x="111" y="163"/>
                        </a:lnTo>
                        <a:lnTo>
                          <a:pt x="134" y="163"/>
                        </a:lnTo>
                        <a:lnTo>
                          <a:pt x="156" y="162"/>
                        </a:lnTo>
                        <a:lnTo>
                          <a:pt x="177" y="161"/>
                        </a:lnTo>
                        <a:lnTo>
                          <a:pt x="196" y="160"/>
                        </a:lnTo>
                        <a:lnTo>
                          <a:pt x="210" y="159"/>
                        </a:lnTo>
                        <a:lnTo>
                          <a:pt x="223" y="159"/>
                        </a:lnTo>
                        <a:lnTo>
                          <a:pt x="231" y="158"/>
                        </a:lnTo>
                        <a:lnTo>
                          <a:pt x="234" y="158"/>
                        </a:lnTo>
                        <a:lnTo>
                          <a:pt x="243" y="16"/>
                        </a:lnTo>
                        <a:lnTo>
                          <a:pt x="243" y="15"/>
                        </a:lnTo>
                        <a:lnTo>
                          <a:pt x="243" y="13"/>
                        </a:lnTo>
                        <a:lnTo>
                          <a:pt x="243" y="11"/>
                        </a:lnTo>
                        <a:lnTo>
                          <a:pt x="242" y="8"/>
                        </a:lnTo>
                        <a:lnTo>
                          <a:pt x="239" y="4"/>
                        </a:lnTo>
                        <a:lnTo>
                          <a:pt x="234" y="2"/>
                        </a:lnTo>
                        <a:lnTo>
                          <a:pt x="225" y="1"/>
                        </a:lnTo>
                        <a:lnTo>
                          <a:pt x="214" y="0"/>
                        </a:lnTo>
                        <a:lnTo>
                          <a:pt x="198" y="0"/>
                        </a:lnTo>
                        <a:lnTo>
                          <a:pt x="179" y="0"/>
                        </a:lnTo>
                        <a:lnTo>
                          <a:pt x="159" y="1"/>
                        </a:lnTo>
                        <a:lnTo>
                          <a:pt x="137" y="1"/>
                        </a:lnTo>
                        <a:lnTo>
                          <a:pt x="118" y="2"/>
                        </a:lnTo>
                        <a:lnTo>
                          <a:pt x="102" y="3"/>
                        </a:lnTo>
                        <a:lnTo>
                          <a:pt x="91" y="3"/>
                        </a:lnTo>
                        <a:lnTo>
                          <a:pt x="87"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5702400" y="2916360"/>
                    <a:ext cx="74520" cy="106200"/>
                  </a:xfrm>
                  <a:custGeom>
                    <a:avLst/>
                    <a:gdLst/>
                    <a:ahLst/>
                    <a:rect l="l" t="t" r="r" b="b"/>
                    <a:pathLst>
                      <a:path w="95" h="135">
                        <a:moveTo>
                          <a:pt x="95" y="0"/>
                        </a:moveTo>
                        <a:lnTo>
                          <a:pt x="95" y="0"/>
                        </a:lnTo>
                        <a:lnTo>
                          <a:pt x="93" y="2"/>
                        </a:lnTo>
                        <a:lnTo>
                          <a:pt x="91" y="8"/>
                        </a:lnTo>
                        <a:lnTo>
                          <a:pt x="88" y="20"/>
                        </a:lnTo>
                        <a:lnTo>
                          <a:pt x="82" y="30"/>
                        </a:lnTo>
                        <a:lnTo>
                          <a:pt x="73" y="45"/>
                        </a:lnTo>
                        <a:lnTo>
                          <a:pt x="60" y="65"/>
                        </a:lnTo>
                        <a:lnTo>
                          <a:pt x="46" y="84"/>
                        </a:lnTo>
                        <a:lnTo>
                          <a:pt x="34" y="104"/>
                        </a:lnTo>
                        <a:lnTo>
                          <a:pt x="22" y="120"/>
                        </a:lnTo>
                        <a:lnTo>
                          <a:pt x="14" y="130"/>
                        </a:lnTo>
                        <a:lnTo>
                          <a:pt x="11" y="135"/>
                        </a:lnTo>
                        <a:lnTo>
                          <a:pt x="0" y="133"/>
                        </a:lnTo>
                        <a:lnTo>
                          <a:pt x="0" y="68"/>
                        </a:lnTo>
                        <a:lnTo>
                          <a:pt x="9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5846760" y="2887560"/>
                    <a:ext cx="84240" cy="160560"/>
                  </a:xfrm>
                  <a:custGeom>
                    <a:avLst/>
                    <a:gdLst/>
                    <a:ahLst/>
                    <a:rect l="l" t="t" r="r" b="b"/>
                    <a:pathLst>
                      <a:path w="107" h="203">
                        <a:moveTo>
                          <a:pt x="20" y="0"/>
                        </a:moveTo>
                        <a:lnTo>
                          <a:pt x="107" y="203"/>
                        </a:lnTo>
                        <a:lnTo>
                          <a:pt x="62" y="203"/>
                        </a:lnTo>
                        <a:lnTo>
                          <a:pt x="0" y="0"/>
                        </a:lnTo>
                        <a:lnTo>
                          <a:pt x="2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5792760" y="2892600"/>
                    <a:ext cx="46080" cy="142560"/>
                  </a:xfrm>
                  <a:custGeom>
                    <a:avLst/>
                    <a:gdLst/>
                    <a:ahLst/>
                    <a:rect l="l" t="t" r="r" b="b"/>
                    <a:pathLst>
                      <a:path w="59" h="181">
                        <a:moveTo>
                          <a:pt x="0" y="0"/>
                        </a:moveTo>
                        <a:lnTo>
                          <a:pt x="59" y="181"/>
                        </a:lnTo>
                        <a:lnTo>
                          <a:pt x="20" y="181"/>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133960" y="3251160"/>
                    <a:ext cx="23760" cy="23760"/>
                  </a:xfrm>
                  <a:custGeom>
                    <a:avLst/>
                    <a:gdLst/>
                    <a:ahLst/>
                    <a:rect l="l" t="t" r="r" b="b"/>
                    <a:pathLst>
                      <a:path w="29" h="29">
                        <a:moveTo>
                          <a:pt x="29" y="15"/>
                        </a:moveTo>
                        <a:lnTo>
                          <a:pt x="28" y="21"/>
                        </a:lnTo>
                        <a:lnTo>
                          <a:pt x="25" y="26"/>
                        </a:lnTo>
                        <a:lnTo>
                          <a:pt x="21" y="28"/>
                        </a:lnTo>
                        <a:lnTo>
                          <a:pt x="15" y="29"/>
                        </a:lnTo>
                        <a:lnTo>
                          <a:pt x="9" y="28"/>
                        </a:lnTo>
                        <a:lnTo>
                          <a:pt x="4" y="26"/>
                        </a:lnTo>
                        <a:lnTo>
                          <a:pt x="1" y="21"/>
                        </a:lnTo>
                        <a:lnTo>
                          <a:pt x="0" y="15"/>
                        </a:lnTo>
                        <a:lnTo>
                          <a:pt x="1" y="9"/>
                        </a:lnTo>
                        <a:lnTo>
                          <a:pt x="4" y="5"/>
                        </a:lnTo>
                        <a:lnTo>
                          <a:pt x="9" y="1"/>
                        </a:lnTo>
                        <a:lnTo>
                          <a:pt x="15" y="0"/>
                        </a:lnTo>
                        <a:lnTo>
                          <a:pt x="21" y="1"/>
                        </a:lnTo>
                        <a:lnTo>
                          <a:pt x="25" y="5"/>
                        </a:lnTo>
                        <a:lnTo>
                          <a:pt x="28" y="9"/>
                        </a:lnTo>
                        <a:lnTo>
                          <a:pt x="29" y="1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5" name=""/>
                  <p:cNvSpPr/>
                  <p:nvPr/>
                </p:nvSpPr>
                <p:spPr>
                  <a:xfrm>
                    <a:off x="5207040" y="3057480"/>
                    <a:ext cx="349200" cy="30240"/>
                  </a:xfrm>
                  <a:custGeom>
                    <a:avLst/>
                    <a:gdLst/>
                    <a:ahLst/>
                    <a:rect l="l" t="t" r="r" b="b"/>
                    <a:pathLst>
                      <a:path w="440" h="37">
                        <a:moveTo>
                          <a:pt x="0" y="36"/>
                        </a:moveTo>
                        <a:lnTo>
                          <a:pt x="2" y="35"/>
                        </a:lnTo>
                        <a:lnTo>
                          <a:pt x="10" y="30"/>
                        </a:lnTo>
                        <a:lnTo>
                          <a:pt x="23" y="24"/>
                        </a:lnTo>
                        <a:lnTo>
                          <a:pt x="41" y="17"/>
                        </a:lnTo>
                        <a:lnTo>
                          <a:pt x="63" y="10"/>
                        </a:lnTo>
                        <a:lnTo>
                          <a:pt x="90" y="6"/>
                        </a:lnTo>
                        <a:lnTo>
                          <a:pt x="121" y="2"/>
                        </a:lnTo>
                        <a:lnTo>
                          <a:pt x="155" y="3"/>
                        </a:lnTo>
                        <a:lnTo>
                          <a:pt x="175" y="5"/>
                        </a:lnTo>
                        <a:lnTo>
                          <a:pt x="196" y="6"/>
                        </a:lnTo>
                        <a:lnTo>
                          <a:pt x="218" y="6"/>
                        </a:lnTo>
                        <a:lnTo>
                          <a:pt x="241" y="6"/>
                        </a:lnTo>
                        <a:lnTo>
                          <a:pt x="265" y="6"/>
                        </a:lnTo>
                        <a:lnTo>
                          <a:pt x="288" y="6"/>
                        </a:lnTo>
                        <a:lnTo>
                          <a:pt x="311" y="5"/>
                        </a:lnTo>
                        <a:lnTo>
                          <a:pt x="334" y="5"/>
                        </a:lnTo>
                        <a:lnTo>
                          <a:pt x="356" y="3"/>
                        </a:lnTo>
                        <a:lnTo>
                          <a:pt x="375" y="3"/>
                        </a:lnTo>
                        <a:lnTo>
                          <a:pt x="394" y="2"/>
                        </a:lnTo>
                        <a:lnTo>
                          <a:pt x="409" y="1"/>
                        </a:lnTo>
                        <a:lnTo>
                          <a:pt x="421" y="1"/>
                        </a:lnTo>
                        <a:lnTo>
                          <a:pt x="432" y="0"/>
                        </a:lnTo>
                        <a:lnTo>
                          <a:pt x="438" y="0"/>
                        </a:lnTo>
                        <a:lnTo>
                          <a:pt x="440" y="0"/>
                        </a:lnTo>
                        <a:lnTo>
                          <a:pt x="439" y="1"/>
                        </a:lnTo>
                        <a:lnTo>
                          <a:pt x="434" y="5"/>
                        </a:lnTo>
                        <a:lnTo>
                          <a:pt x="428" y="10"/>
                        </a:lnTo>
                        <a:lnTo>
                          <a:pt x="421" y="16"/>
                        </a:lnTo>
                        <a:lnTo>
                          <a:pt x="412" y="22"/>
                        </a:lnTo>
                        <a:lnTo>
                          <a:pt x="403" y="28"/>
                        </a:lnTo>
                        <a:lnTo>
                          <a:pt x="394" y="31"/>
                        </a:lnTo>
                        <a:lnTo>
                          <a:pt x="385" y="32"/>
                        </a:lnTo>
                        <a:lnTo>
                          <a:pt x="378" y="32"/>
                        </a:lnTo>
                        <a:lnTo>
                          <a:pt x="367" y="31"/>
                        </a:lnTo>
                        <a:lnTo>
                          <a:pt x="352" y="31"/>
                        </a:lnTo>
                        <a:lnTo>
                          <a:pt x="335" y="30"/>
                        </a:lnTo>
                        <a:lnTo>
                          <a:pt x="314" y="29"/>
                        </a:lnTo>
                        <a:lnTo>
                          <a:pt x="291" y="28"/>
                        </a:lnTo>
                        <a:lnTo>
                          <a:pt x="267" y="27"/>
                        </a:lnTo>
                        <a:lnTo>
                          <a:pt x="243" y="25"/>
                        </a:lnTo>
                        <a:lnTo>
                          <a:pt x="218" y="25"/>
                        </a:lnTo>
                        <a:lnTo>
                          <a:pt x="192" y="24"/>
                        </a:lnTo>
                        <a:lnTo>
                          <a:pt x="167" y="24"/>
                        </a:lnTo>
                        <a:lnTo>
                          <a:pt x="144" y="24"/>
                        </a:lnTo>
                        <a:lnTo>
                          <a:pt x="122" y="24"/>
                        </a:lnTo>
                        <a:lnTo>
                          <a:pt x="102" y="25"/>
                        </a:lnTo>
                        <a:lnTo>
                          <a:pt x="86" y="27"/>
                        </a:lnTo>
                        <a:lnTo>
                          <a:pt x="74" y="29"/>
                        </a:lnTo>
                        <a:lnTo>
                          <a:pt x="54" y="33"/>
                        </a:lnTo>
                        <a:lnTo>
                          <a:pt x="38" y="36"/>
                        </a:lnTo>
                        <a:lnTo>
                          <a:pt x="25" y="37"/>
                        </a:lnTo>
                        <a:lnTo>
                          <a:pt x="15" y="37"/>
                        </a:lnTo>
                        <a:lnTo>
                          <a:pt x="8" y="37"/>
                        </a:lnTo>
                        <a:lnTo>
                          <a:pt x="3" y="37"/>
                        </a:lnTo>
                        <a:lnTo>
                          <a:pt x="1" y="36"/>
                        </a:lnTo>
                        <a:lnTo>
                          <a:pt x="0" y="3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146" name=""/>
                  <p:cNvSpPr/>
                  <p:nvPr/>
                </p:nvSpPr>
                <p:spPr>
                  <a:xfrm>
                    <a:off x="5918040" y="3044880"/>
                    <a:ext cx="87480" cy="54000"/>
                  </a:xfrm>
                  <a:custGeom>
                    <a:avLst/>
                    <a:gdLst/>
                    <a:ahLst/>
                    <a:rect l="l" t="t" r="r" b="b"/>
                    <a:pathLst>
                      <a:path w="111" h="67">
                        <a:moveTo>
                          <a:pt x="111" y="0"/>
                        </a:moveTo>
                        <a:lnTo>
                          <a:pt x="109" y="2"/>
                        </a:lnTo>
                        <a:lnTo>
                          <a:pt x="107" y="8"/>
                        </a:lnTo>
                        <a:lnTo>
                          <a:pt x="103" y="16"/>
                        </a:lnTo>
                        <a:lnTo>
                          <a:pt x="94" y="25"/>
                        </a:lnTo>
                        <a:lnTo>
                          <a:pt x="82" y="36"/>
                        </a:lnTo>
                        <a:lnTo>
                          <a:pt x="66" y="44"/>
                        </a:lnTo>
                        <a:lnTo>
                          <a:pt x="44" y="49"/>
                        </a:lnTo>
                        <a:lnTo>
                          <a:pt x="16" y="52"/>
                        </a:lnTo>
                        <a:lnTo>
                          <a:pt x="0" y="61"/>
                        </a:lnTo>
                        <a:lnTo>
                          <a:pt x="5" y="62"/>
                        </a:lnTo>
                        <a:lnTo>
                          <a:pt x="18" y="64"/>
                        </a:lnTo>
                        <a:lnTo>
                          <a:pt x="37" y="67"/>
                        </a:lnTo>
                        <a:lnTo>
                          <a:pt x="58" y="66"/>
                        </a:lnTo>
                        <a:lnTo>
                          <a:pt x="78" y="61"/>
                        </a:lnTo>
                        <a:lnTo>
                          <a:pt x="96" y="49"/>
                        </a:lnTo>
                        <a:lnTo>
                          <a:pt x="107" y="30"/>
                        </a:lnTo>
                        <a:lnTo>
                          <a:pt x="111"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147" name=""/>
                  <p:cNvSpPr/>
                  <p:nvPr/>
                </p:nvSpPr>
                <p:spPr>
                  <a:xfrm>
                    <a:off x="5591160" y="3127320"/>
                    <a:ext cx="425520" cy="69840"/>
                  </a:xfrm>
                  <a:custGeom>
                    <a:avLst/>
                    <a:gdLst/>
                    <a:ahLst/>
                    <a:rect l="l" t="t" r="r" b="b"/>
                    <a:pathLst>
                      <a:path w="534" h="87">
                        <a:moveTo>
                          <a:pt x="12" y="3"/>
                        </a:moveTo>
                        <a:lnTo>
                          <a:pt x="391" y="0"/>
                        </a:lnTo>
                        <a:lnTo>
                          <a:pt x="534" y="87"/>
                        </a:lnTo>
                        <a:lnTo>
                          <a:pt x="463" y="80"/>
                        </a:lnTo>
                        <a:lnTo>
                          <a:pt x="298" y="28"/>
                        </a:lnTo>
                        <a:lnTo>
                          <a:pt x="0" y="23"/>
                        </a:lnTo>
                        <a:lnTo>
                          <a:pt x="12"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48" name=""/>
                  <p:cNvSpPr/>
                  <p:nvPr/>
                </p:nvSpPr>
                <p:spPr>
                  <a:xfrm>
                    <a:off x="6202440" y="3166920"/>
                    <a:ext cx="414360" cy="104760"/>
                  </a:xfrm>
                  <a:custGeom>
                    <a:avLst/>
                    <a:gdLst/>
                    <a:ahLst/>
                    <a:rect l="l" t="t" r="r" b="b"/>
                    <a:pathLst>
                      <a:path w="522" h="133">
                        <a:moveTo>
                          <a:pt x="0" y="3"/>
                        </a:moveTo>
                        <a:lnTo>
                          <a:pt x="522" y="0"/>
                        </a:lnTo>
                        <a:lnTo>
                          <a:pt x="502" y="16"/>
                        </a:lnTo>
                        <a:lnTo>
                          <a:pt x="52" y="39"/>
                        </a:lnTo>
                        <a:lnTo>
                          <a:pt x="243" y="133"/>
                        </a:lnTo>
                        <a:lnTo>
                          <a:pt x="104" y="130"/>
                        </a:lnTo>
                        <a:lnTo>
                          <a:pt x="7" y="78"/>
                        </a:lnTo>
                        <a:lnTo>
                          <a:pt x="0"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0" y="3786120"/>
                <a:ext cx="2736720" cy="760320"/>
                <a:chOff x="0" y="3786120"/>
                <a:chExt cx="2736720" cy="760320"/>
              </a:xfrm>
            </p:grpSpPr>
            <p:sp>
              <p:nvSpPr>
                <p:cNvPr id="150" name=""/>
                <p:cNvSpPr/>
                <p:nvPr/>
              </p:nvSpPr>
              <p:spPr>
                <a:xfrm>
                  <a:off x="0" y="3786120"/>
                  <a:ext cx="2736720" cy="760320"/>
                </a:xfrm>
                <a:custGeom>
                  <a:avLst/>
                  <a:gdLst/>
                  <a:ahLst/>
                  <a:rect l="l" t="t" r="r" b="b"/>
                  <a:pathLst>
                    <a:path w="3447" h="957">
                      <a:moveTo>
                        <a:pt x="3413" y="476"/>
                      </a:moveTo>
                      <a:lnTo>
                        <a:pt x="3382" y="457"/>
                      </a:lnTo>
                      <a:lnTo>
                        <a:pt x="3346" y="438"/>
                      </a:lnTo>
                      <a:lnTo>
                        <a:pt x="3306" y="421"/>
                      </a:lnTo>
                      <a:lnTo>
                        <a:pt x="3266" y="405"/>
                      </a:lnTo>
                      <a:lnTo>
                        <a:pt x="3230" y="393"/>
                      </a:lnTo>
                      <a:lnTo>
                        <a:pt x="3197" y="381"/>
                      </a:lnTo>
                      <a:lnTo>
                        <a:pt x="3171" y="374"/>
                      </a:lnTo>
                      <a:lnTo>
                        <a:pt x="3156" y="369"/>
                      </a:lnTo>
                      <a:lnTo>
                        <a:pt x="3149" y="364"/>
                      </a:lnTo>
                      <a:lnTo>
                        <a:pt x="3137" y="357"/>
                      </a:lnTo>
                      <a:lnTo>
                        <a:pt x="3123" y="348"/>
                      </a:lnTo>
                      <a:lnTo>
                        <a:pt x="3106" y="338"/>
                      </a:lnTo>
                      <a:lnTo>
                        <a:pt x="3087" y="326"/>
                      </a:lnTo>
                      <a:lnTo>
                        <a:pt x="3066" y="314"/>
                      </a:lnTo>
                      <a:lnTo>
                        <a:pt x="3042" y="302"/>
                      </a:lnTo>
                      <a:lnTo>
                        <a:pt x="3016" y="288"/>
                      </a:lnTo>
                      <a:lnTo>
                        <a:pt x="2989" y="276"/>
                      </a:lnTo>
                      <a:lnTo>
                        <a:pt x="2961" y="264"/>
                      </a:lnTo>
                      <a:lnTo>
                        <a:pt x="2930" y="252"/>
                      </a:lnTo>
                      <a:lnTo>
                        <a:pt x="2901" y="240"/>
                      </a:lnTo>
                      <a:lnTo>
                        <a:pt x="2870" y="231"/>
                      </a:lnTo>
                      <a:lnTo>
                        <a:pt x="2839" y="222"/>
                      </a:lnTo>
                      <a:lnTo>
                        <a:pt x="2808" y="215"/>
                      </a:lnTo>
                      <a:lnTo>
                        <a:pt x="2777" y="212"/>
                      </a:lnTo>
                      <a:lnTo>
                        <a:pt x="2771" y="212"/>
                      </a:lnTo>
                      <a:lnTo>
                        <a:pt x="2759" y="212"/>
                      </a:lnTo>
                      <a:lnTo>
                        <a:pt x="2737" y="212"/>
                      </a:lnTo>
                      <a:lnTo>
                        <a:pt x="2708" y="212"/>
                      </a:lnTo>
                      <a:lnTo>
                        <a:pt x="2671" y="212"/>
                      </a:lnTo>
                      <a:lnTo>
                        <a:pt x="2630" y="212"/>
                      </a:lnTo>
                      <a:lnTo>
                        <a:pt x="2582" y="212"/>
                      </a:lnTo>
                      <a:lnTo>
                        <a:pt x="2526" y="212"/>
                      </a:lnTo>
                      <a:lnTo>
                        <a:pt x="2468" y="212"/>
                      </a:lnTo>
                      <a:lnTo>
                        <a:pt x="2406" y="212"/>
                      </a:lnTo>
                      <a:lnTo>
                        <a:pt x="2340" y="212"/>
                      </a:lnTo>
                      <a:lnTo>
                        <a:pt x="2270" y="212"/>
                      </a:lnTo>
                      <a:lnTo>
                        <a:pt x="2197" y="212"/>
                      </a:lnTo>
                      <a:lnTo>
                        <a:pt x="2123" y="212"/>
                      </a:lnTo>
                      <a:lnTo>
                        <a:pt x="2049" y="212"/>
                      </a:lnTo>
                      <a:lnTo>
                        <a:pt x="1971" y="212"/>
                      </a:lnTo>
                      <a:lnTo>
                        <a:pt x="1895" y="212"/>
                      </a:lnTo>
                      <a:lnTo>
                        <a:pt x="1819" y="212"/>
                      </a:lnTo>
                      <a:lnTo>
                        <a:pt x="1744" y="212"/>
                      </a:lnTo>
                      <a:lnTo>
                        <a:pt x="1668" y="212"/>
                      </a:lnTo>
                      <a:lnTo>
                        <a:pt x="1595" y="212"/>
                      </a:lnTo>
                      <a:lnTo>
                        <a:pt x="1526" y="212"/>
                      </a:lnTo>
                      <a:lnTo>
                        <a:pt x="1459" y="212"/>
                      </a:lnTo>
                      <a:lnTo>
                        <a:pt x="1395" y="212"/>
                      </a:lnTo>
                      <a:lnTo>
                        <a:pt x="1337" y="212"/>
                      </a:lnTo>
                      <a:lnTo>
                        <a:pt x="1281" y="212"/>
                      </a:lnTo>
                      <a:lnTo>
                        <a:pt x="1231" y="212"/>
                      </a:lnTo>
                      <a:lnTo>
                        <a:pt x="1188" y="212"/>
                      </a:lnTo>
                      <a:lnTo>
                        <a:pt x="1150" y="212"/>
                      </a:lnTo>
                      <a:lnTo>
                        <a:pt x="1121" y="212"/>
                      </a:lnTo>
                      <a:lnTo>
                        <a:pt x="1099" y="212"/>
                      </a:lnTo>
                      <a:lnTo>
                        <a:pt x="1083" y="212"/>
                      </a:lnTo>
                      <a:lnTo>
                        <a:pt x="626" y="1"/>
                      </a:lnTo>
                      <a:lnTo>
                        <a:pt x="0" y="0"/>
                      </a:lnTo>
                      <a:lnTo>
                        <a:pt x="164" y="127"/>
                      </a:lnTo>
                      <a:lnTo>
                        <a:pt x="443" y="165"/>
                      </a:lnTo>
                      <a:lnTo>
                        <a:pt x="605" y="441"/>
                      </a:lnTo>
                      <a:lnTo>
                        <a:pt x="607" y="450"/>
                      </a:lnTo>
                      <a:lnTo>
                        <a:pt x="612" y="462"/>
                      </a:lnTo>
                      <a:lnTo>
                        <a:pt x="619" y="474"/>
                      </a:lnTo>
                      <a:lnTo>
                        <a:pt x="628" y="488"/>
                      </a:lnTo>
                      <a:lnTo>
                        <a:pt x="642" y="503"/>
                      </a:lnTo>
                      <a:lnTo>
                        <a:pt x="659" y="521"/>
                      </a:lnTo>
                      <a:lnTo>
                        <a:pt x="681" y="536"/>
                      </a:lnTo>
                      <a:lnTo>
                        <a:pt x="709" y="554"/>
                      </a:lnTo>
                      <a:lnTo>
                        <a:pt x="742" y="571"/>
                      </a:lnTo>
                      <a:lnTo>
                        <a:pt x="779" y="586"/>
                      </a:lnTo>
                      <a:lnTo>
                        <a:pt x="826" y="602"/>
                      </a:lnTo>
                      <a:lnTo>
                        <a:pt x="880" y="617"/>
                      </a:lnTo>
                      <a:lnTo>
                        <a:pt x="940" y="629"/>
                      </a:lnTo>
                      <a:lnTo>
                        <a:pt x="1011" y="642"/>
                      </a:lnTo>
                      <a:lnTo>
                        <a:pt x="1090" y="650"/>
                      </a:lnTo>
                      <a:lnTo>
                        <a:pt x="1178" y="657"/>
                      </a:lnTo>
                      <a:lnTo>
                        <a:pt x="1202" y="659"/>
                      </a:lnTo>
                      <a:lnTo>
                        <a:pt x="1228" y="659"/>
                      </a:lnTo>
                      <a:lnTo>
                        <a:pt x="1255" y="660"/>
                      </a:lnTo>
                      <a:lnTo>
                        <a:pt x="1287" y="662"/>
                      </a:lnTo>
                      <a:lnTo>
                        <a:pt x="1319" y="662"/>
                      </a:lnTo>
                      <a:lnTo>
                        <a:pt x="1352" y="664"/>
                      </a:lnTo>
                      <a:lnTo>
                        <a:pt x="1388" y="664"/>
                      </a:lnTo>
                      <a:lnTo>
                        <a:pt x="1424" y="666"/>
                      </a:lnTo>
                      <a:lnTo>
                        <a:pt x="1462" y="666"/>
                      </a:lnTo>
                      <a:lnTo>
                        <a:pt x="1500" y="666"/>
                      </a:lnTo>
                      <a:lnTo>
                        <a:pt x="1538" y="667"/>
                      </a:lnTo>
                      <a:lnTo>
                        <a:pt x="1576" y="667"/>
                      </a:lnTo>
                      <a:lnTo>
                        <a:pt x="1614" y="667"/>
                      </a:lnTo>
                      <a:lnTo>
                        <a:pt x="1652" y="669"/>
                      </a:lnTo>
                      <a:lnTo>
                        <a:pt x="1688" y="669"/>
                      </a:lnTo>
                      <a:lnTo>
                        <a:pt x="1725" y="669"/>
                      </a:lnTo>
                      <a:lnTo>
                        <a:pt x="1725" y="859"/>
                      </a:lnTo>
                      <a:lnTo>
                        <a:pt x="1688" y="859"/>
                      </a:lnTo>
                      <a:lnTo>
                        <a:pt x="1683" y="852"/>
                      </a:lnTo>
                      <a:lnTo>
                        <a:pt x="1678" y="845"/>
                      </a:lnTo>
                      <a:lnTo>
                        <a:pt x="1673" y="838"/>
                      </a:lnTo>
                      <a:lnTo>
                        <a:pt x="1666" y="833"/>
                      </a:lnTo>
                      <a:lnTo>
                        <a:pt x="1657" y="828"/>
                      </a:lnTo>
                      <a:lnTo>
                        <a:pt x="1650" y="826"/>
                      </a:lnTo>
                      <a:lnTo>
                        <a:pt x="1640" y="823"/>
                      </a:lnTo>
                      <a:lnTo>
                        <a:pt x="1631" y="823"/>
                      </a:lnTo>
                      <a:lnTo>
                        <a:pt x="1618" y="824"/>
                      </a:lnTo>
                      <a:lnTo>
                        <a:pt x="1606" y="828"/>
                      </a:lnTo>
                      <a:lnTo>
                        <a:pt x="1595" y="833"/>
                      </a:lnTo>
                      <a:lnTo>
                        <a:pt x="1587" y="842"/>
                      </a:lnTo>
                      <a:lnTo>
                        <a:pt x="1578" y="852"/>
                      </a:lnTo>
                      <a:lnTo>
                        <a:pt x="1573" y="862"/>
                      </a:lnTo>
                      <a:lnTo>
                        <a:pt x="1569" y="874"/>
                      </a:lnTo>
                      <a:lnTo>
                        <a:pt x="1568" y="888"/>
                      </a:lnTo>
                      <a:lnTo>
                        <a:pt x="1569" y="902"/>
                      </a:lnTo>
                      <a:lnTo>
                        <a:pt x="1573" y="914"/>
                      </a:lnTo>
                      <a:lnTo>
                        <a:pt x="1578" y="924"/>
                      </a:lnTo>
                      <a:lnTo>
                        <a:pt x="1587" y="935"/>
                      </a:lnTo>
                      <a:lnTo>
                        <a:pt x="1595" y="943"/>
                      </a:lnTo>
                      <a:lnTo>
                        <a:pt x="1606" y="949"/>
                      </a:lnTo>
                      <a:lnTo>
                        <a:pt x="1618" y="952"/>
                      </a:lnTo>
                      <a:lnTo>
                        <a:pt x="1631" y="954"/>
                      </a:lnTo>
                      <a:lnTo>
                        <a:pt x="1640" y="954"/>
                      </a:lnTo>
                      <a:lnTo>
                        <a:pt x="1650" y="950"/>
                      </a:lnTo>
                      <a:lnTo>
                        <a:pt x="1657" y="949"/>
                      </a:lnTo>
                      <a:lnTo>
                        <a:pt x="1666" y="943"/>
                      </a:lnTo>
                      <a:lnTo>
                        <a:pt x="1673" y="938"/>
                      </a:lnTo>
                      <a:lnTo>
                        <a:pt x="1678" y="931"/>
                      </a:lnTo>
                      <a:lnTo>
                        <a:pt x="1683" y="924"/>
                      </a:lnTo>
                      <a:lnTo>
                        <a:pt x="1688" y="918"/>
                      </a:lnTo>
                      <a:lnTo>
                        <a:pt x="1813" y="918"/>
                      </a:lnTo>
                      <a:lnTo>
                        <a:pt x="1818" y="924"/>
                      </a:lnTo>
                      <a:lnTo>
                        <a:pt x="1823" y="931"/>
                      </a:lnTo>
                      <a:lnTo>
                        <a:pt x="1830" y="938"/>
                      </a:lnTo>
                      <a:lnTo>
                        <a:pt x="1837" y="943"/>
                      </a:lnTo>
                      <a:lnTo>
                        <a:pt x="1844" y="949"/>
                      </a:lnTo>
                      <a:lnTo>
                        <a:pt x="1852" y="950"/>
                      </a:lnTo>
                      <a:lnTo>
                        <a:pt x="1861" y="954"/>
                      </a:lnTo>
                      <a:lnTo>
                        <a:pt x="1869" y="954"/>
                      </a:lnTo>
                      <a:lnTo>
                        <a:pt x="1883" y="952"/>
                      </a:lnTo>
                      <a:lnTo>
                        <a:pt x="1895" y="949"/>
                      </a:lnTo>
                      <a:lnTo>
                        <a:pt x="1906" y="943"/>
                      </a:lnTo>
                      <a:lnTo>
                        <a:pt x="1916" y="935"/>
                      </a:lnTo>
                      <a:lnTo>
                        <a:pt x="1925" y="924"/>
                      </a:lnTo>
                      <a:lnTo>
                        <a:pt x="1930" y="914"/>
                      </a:lnTo>
                      <a:lnTo>
                        <a:pt x="1933" y="902"/>
                      </a:lnTo>
                      <a:lnTo>
                        <a:pt x="1935" y="888"/>
                      </a:lnTo>
                      <a:lnTo>
                        <a:pt x="1933" y="874"/>
                      </a:lnTo>
                      <a:lnTo>
                        <a:pt x="1930" y="862"/>
                      </a:lnTo>
                      <a:lnTo>
                        <a:pt x="1925" y="852"/>
                      </a:lnTo>
                      <a:lnTo>
                        <a:pt x="1916" y="842"/>
                      </a:lnTo>
                      <a:lnTo>
                        <a:pt x="1906" y="833"/>
                      </a:lnTo>
                      <a:lnTo>
                        <a:pt x="1895" y="828"/>
                      </a:lnTo>
                      <a:lnTo>
                        <a:pt x="1883" y="824"/>
                      </a:lnTo>
                      <a:lnTo>
                        <a:pt x="1869" y="823"/>
                      </a:lnTo>
                      <a:lnTo>
                        <a:pt x="1861" y="823"/>
                      </a:lnTo>
                      <a:lnTo>
                        <a:pt x="1852" y="826"/>
                      </a:lnTo>
                      <a:lnTo>
                        <a:pt x="1844" y="828"/>
                      </a:lnTo>
                      <a:lnTo>
                        <a:pt x="1837" y="833"/>
                      </a:lnTo>
                      <a:lnTo>
                        <a:pt x="1830" y="838"/>
                      </a:lnTo>
                      <a:lnTo>
                        <a:pt x="1823" y="845"/>
                      </a:lnTo>
                      <a:lnTo>
                        <a:pt x="1818" y="852"/>
                      </a:lnTo>
                      <a:lnTo>
                        <a:pt x="1813" y="859"/>
                      </a:lnTo>
                      <a:lnTo>
                        <a:pt x="1785" y="859"/>
                      </a:lnTo>
                      <a:lnTo>
                        <a:pt x="1785" y="669"/>
                      </a:lnTo>
                      <a:lnTo>
                        <a:pt x="1825" y="669"/>
                      </a:lnTo>
                      <a:lnTo>
                        <a:pt x="1866" y="669"/>
                      </a:lnTo>
                      <a:lnTo>
                        <a:pt x="1907" y="669"/>
                      </a:lnTo>
                      <a:lnTo>
                        <a:pt x="1950" y="671"/>
                      </a:lnTo>
                      <a:lnTo>
                        <a:pt x="1994" y="671"/>
                      </a:lnTo>
                      <a:lnTo>
                        <a:pt x="2037" y="671"/>
                      </a:lnTo>
                      <a:lnTo>
                        <a:pt x="2083" y="671"/>
                      </a:lnTo>
                      <a:lnTo>
                        <a:pt x="2128" y="671"/>
                      </a:lnTo>
                      <a:lnTo>
                        <a:pt x="2175" y="671"/>
                      </a:lnTo>
                      <a:lnTo>
                        <a:pt x="2223" y="671"/>
                      </a:lnTo>
                      <a:lnTo>
                        <a:pt x="2271" y="671"/>
                      </a:lnTo>
                      <a:lnTo>
                        <a:pt x="2321" y="671"/>
                      </a:lnTo>
                      <a:lnTo>
                        <a:pt x="2371" y="671"/>
                      </a:lnTo>
                      <a:lnTo>
                        <a:pt x="2421" y="671"/>
                      </a:lnTo>
                      <a:lnTo>
                        <a:pt x="2473" y="671"/>
                      </a:lnTo>
                      <a:lnTo>
                        <a:pt x="2526" y="671"/>
                      </a:lnTo>
                      <a:lnTo>
                        <a:pt x="2537" y="673"/>
                      </a:lnTo>
                      <a:lnTo>
                        <a:pt x="2539" y="671"/>
                      </a:lnTo>
                      <a:lnTo>
                        <a:pt x="2547" y="671"/>
                      </a:lnTo>
                      <a:lnTo>
                        <a:pt x="2556" y="671"/>
                      </a:lnTo>
                      <a:lnTo>
                        <a:pt x="2563" y="671"/>
                      </a:lnTo>
                      <a:lnTo>
                        <a:pt x="2571" y="671"/>
                      </a:lnTo>
                      <a:lnTo>
                        <a:pt x="2580" y="671"/>
                      </a:lnTo>
                      <a:lnTo>
                        <a:pt x="2587" y="671"/>
                      </a:lnTo>
                      <a:lnTo>
                        <a:pt x="2595" y="671"/>
                      </a:lnTo>
                      <a:lnTo>
                        <a:pt x="2604" y="671"/>
                      </a:lnTo>
                      <a:lnTo>
                        <a:pt x="2602" y="676"/>
                      </a:lnTo>
                      <a:lnTo>
                        <a:pt x="2601" y="683"/>
                      </a:lnTo>
                      <a:lnTo>
                        <a:pt x="2599" y="690"/>
                      </a:lnTo>
                      <a:lnTo>
                        <a:pt x="2599" y="697"/>
                      </a:lnTo>
                      <a:lnTo>
                        <a:pt x="2599" y="885"/>
                      </a:lnTo>
                      <a:lnTo>
                        <a:pt x="2601" y="897"/>
                      </a:lnTo>
                      <a:lnTo>
                        <a:pt x="2604" y="911"/>
                      </a:lnTo>
                      <a:lnTo>
                        <a:pt x="2611" y="923"/>
                      </a:lnTo>
                      <a:lnTo>
                        <a:pt x="2620" y="933"/>
                      </a:lnTo>
                      <a:lnTo>
                        <a:pt x="2625" y="938"/>
                      </a:lnTo>
                      <a:lnTo>
                        <a:pt x="2632" y="942"/>
                      </a:lnTo>
                      <a:lnTo>
                        <a:pt x="2639" y="947"/>
                      </a:lnTo>
                      <a:lnTo>
                        <a:pt x="2645" y="949"/>
                      </a:lnTo>
                      <a:lnTo>
                        <a:pt x="2654" y="952"/>
                      </a:lnTo>
                      <a:lnTo>
                        <a:pt x="2661" y="954"/>
                      </a:lnTo>
                      <a:lnTo>
                        <a:pt x="2670" y="956"/>
                      </a:lnTo>
                      <a:lnTo>
                        <a:pt x="2678" y="956"/>
                      </a:lnTo>
                      <a:lnTo>
                        <a:pt x="2702" y="956"/>
                      </a:lnTo>
                      <a:lnTo>
                        <a:pt x="2711" y="956"/>
                      </a:lnTo>
                      <a:lnTo>
                        <a:pt x="2720" y="954"/>
                      </a:lnTo>
                      <a:lnTo>
                        <a:pt x="2727" y="952"/>
                      </a:lnTo>
                      <a:lnTo>
                        <a:pt x="2735" y="949"/>
                      </a:lnTo>
                      <a:lnTo>
                        <a:pt x="2742" y="947"/>
                      </a:lnTo>
                      <a:lnTo>
                        <a:pt x="2749" y="942"/>
                      </a:lnTo>
                      <a:lnTo>
                        <a:pt x="2756" y="938"/>
                      </a:lnTo>
                      <a:lnTo>
                        <a:pt x="2761" y="933"/>
                      </a:lnTo>
                      <a:lnTo>
                        <a:pt x="2770" y="923"/>
                      </a:lnTo>
                      <a:lnTo>
                        <a:pt x="2777" y="911"/>
                      </a:lnTo>
                      <a:lnTo>
                        <a:pt x="2780" y="897"/>
                      </a:lnTo>
                      <a:lnTo>
                        <a:pt x="2782" y="885"/>
                      </a:lnTo>
                      <a:lnTo>
                        <a:pt x="2782" y="697"/>
                      </a:lnTo>
                      <a:lnTo>
                        <a:pt x="2782" y="690"/>
                      </a:lnTo>
                      <a:lnTo>
                        <a:pt x="2780" y="683"/>
                      </a:lnTo>
                      <a:lnTo>
                        <a:pt x="2778" y="676"/>
                      </a:lnTo>
                      <a:lnTo>
                        <a:pt x="2777" y="669"/>
                      </a:lnTo>
                      <a:lnTo>
                        <a:pt x="2956" y="669"/>
                      </a:lnTo>
                      <a:lnTo>
                        <a:pt x="2956" y="828"/>
                      </a:lnTo>
                      <a:lnTo>
                        <a:pt x="2944" y="830"/>
                      </a:lnTo>
                      <a:lnTo>
                        <a:pt x="2932" y="835"/>
                      </a:lnTo>
                      <a:lnTo>
                        <a:pt x="2921" y="840"/>
                      </a:lnTo>
                      <a:lnTo>
                        <a:pt x="2913" y="849"/>
                      </a:lnTo>
                      <a:lnTo>
                        <a:pt x="2904" y="857"/>
                      </a:lnTo>
                      <a:lnTo>
                        <a:pt x="2899" y="869"/>
                      </a:lnTo>
                      <a:lnTo>
                        <a:pt x="2896" y="881"/>
                      </a:lnTo>
                      <a:lnTo>
                        <a:pt x="2894" y="893"/>
                      </a:lnTo>
                      <a:lnTo>
                        <a:pt x="2896" y="907"/>
                      </a:lnTo>
                      <a:lnTo>
                        <a:pt x="2899" y="919"/>
                      </a:lnTo>
                      <a:lnTo>
                        <a:pt x="2904" y="930"/>
                      </a:lnTo>
                      <a:lnTo>
                        <a:pt x="2913" y="938"/>
                      </a:lnTo>
                      <a:lnTo>
                        <a:pt x="2923" y="947"/>
                      </a:lnTo>
                      <a:lnTo>
                        <a:pt x="2933" y="952"/>
                      </a:lnTo>
                      <a:lnTo>
                        <a:pt x="2946" y="956"/>
                      </a:lnTo>
                      <a:lnTo>
                        <a:pt x="2958" y="957"/>
                      </a:lnTo>
                      <a:lnTo>
                        <a:pt x="2971" y="956"/>
                      </a:lnTo>
                      <a:lnTo>
                        <a:pt x="2983" y="952"/>
                      </a:lnTo>
                      <a:lnTo>
                        <a:pt x="2994" y="947"/>
                      </a:lnTo>
                      <a:lnTo>
                        <a:pt x="3004" y="938"/>
                      </a:lnTo>
                      <a:lnTo>
                        <a:pt x="3013" y="930"/>
                      </a:lnTo>
                      <a:lnTo>
                        <a:pt x="3018" y="919"/>
                      </a:lnTo>
                      <a:lnTo>
                        <a:pt x="3021" y="907"/>
                      </a:lnTo>
                      <a:lnTo>
                        <a:pt x="3023" y="893"/>
                      </a:lnTo>
                      <a:lnTo>
                        <a:pt x="3023" y="885"/>
                      </a:lnTo>
                      <a:lnTo>
                        <a:pt x="3021" y="876"/>
                      </a:lnTo>
                      <a:lnTo>
                        <a:pt x="3018" y="869"/>
                      </a:lnTo>
                      <a:lnTo>
                        <a:pt x="3015" y="862"/>
                      </a:lnTo>
                      <a:lnTo>
                        <a:pt x="3016" y="667"/>
                      </a:lnTo>
                      <a:lnTo>
                        <a:pt x="3166" y="667"/>
                      </a:lnTo>
                      <a:lnTo>
                        <a:pt x="3192" y="667"/>
                      </a:lnTo>
                      <a:lnTo>
                        <a:pt x="3218" y="666"/>
                      </a:lnTo>
                      <a:lnTo>
                        <a:pt x="3242" y="662"/>
                      </a:lnTo>
                      <a:lnTo>
                        <a:pt x="3266" y="659"/>
                      </a:lnTo>
                      <a:lnTo>
                        <a:pt x="3289" y="655"/>
                      </a:lnTo>
                      <a:lnTo>
                        <a:pt x="3311" y="650"/>
                      </a:lnTo>
                      <a:lnTo>
                        <a:pt x="3332" y="643"/>
                      </a:lnTo>
                      <a:lnTo>
                        <a:pt x="3351" y="636"/>
                      </a:lnTo>
                      <a:lnTo>
                        <a:pt x="3370" y="629"/>
                      </a:lnTo>
                      <a:lnTo>
                        <a:pt x="3385" y="621"/>
                      </a:lnTo>
                      <a:lnTo>
                        <a:pt x="3401" y="612"/>
                      </a:lnTo>
                      <a:lnTo>
                        <a:pt x="3413" y="602"/>
                      </a:lnTo>
                      <a:lnTo>
                        <a:pt x="3425" y="593"/>
                      </a:lnTo>
                      <a:lnTo>
                        <a:pt x="3434" y="581"/>
                      </a:lnTo>
                      <a:lnTo>
                        <a:pt x="3440" y="571"/>
                      </a:lnTo>
                      <a:lnTo>
                        <a:pt x="3446" y="559"/>
                      </a:lnTo>
                      <a:lnTo>
                        <a:pt x="3447" y="545"/>
                      </a:lnTo>
                      <a:lnTo>
                        <a:pt x="3447" y="524"/>
                      </a:lnTo>
                      <a:lnTo>
                        <a:pt x="3437" y="500"/>
                      </a:lnTo>
                      <a:lnTo>
                        <a:pt x="3413" y="476"/>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087560" y="4162320"/>
                  <a:ext cx="723600" cy="109800"/>
                </a:xfrm>
                <a:custGeom>
                  <a:avLst/>
                  <a:gdLst/>
                  <a:ahLst/>
                  <a:rect l="l" t="t" r="r" b="b"/>
                  <a:pathLst>
                    <a:path w="913" h="138">
                      <a:moveTo>
                        <a:pt x="373" y="137"/>
                      </a:moveTo>
                      <a:lnTo>
                        <a:pt x="366" y="137"/>
                      </a:lnTo>
                      <a:lnTo>
                        <a:pt x="361" y="137"/>
                      </a:lnTo>
                      <a:lnTo>
                        <a:pt x="356" y="137"/>
                      </a:lnTo>
                      <a:lnTo>
                        <a:pt x="350" y="137"/>
                      </a:lnTo>
                      <a:lnTo>
                        <a:pt x="0" y="0"/>
                      </a:lnTo>
                      <a:lnTo>
                        <a:pt x="342" y="0"/>
                      </a:lnTo>
                      <a:lnTo>
                        <a:pt x="913" y="138"/>
                      </a:lnTo>
                      <a:lnTo>
                        <a:pt x="875" y="138"/>
                      </a:lnTo>
                      <a:lnTo>
                        <a:pt x="838" y="138"/>
                      </a:lnTo>
                      <a:lnTo>
                        <a:pt x="800" y="138"/>
                      </a:lnTo>
                      <a:lnTo>
                        <a:pt x="766" y="138"/>
                      </a:lnTo>
                      <a:lnTo>
                        <a:pt x="730" y="138"/>
                      </a:lnTo>
                      <a:lnTo>
                        <a:pt x="695" y="138"/>
                      </a:lnTo>
                      <a:lnTo>
                        <a:pt x="659" y="138"/>
                      </a:lnTo>
                      <a:lnTo>
                        <a:pt x="626" y="138"/>
                      </a:lnTo>
                      <a:lnTo>
                        <a:pt x="592" y="138"/>
                      </a:lnTo>
                      <a:lnTo>
                        <a:pt x="559" y="138"/>
                      </a:lnTo>
                      <a:lnTo>
                        <a:pt x="526" y="138"/>
                      </a:lnTo>
                      <a:lnTo>
                        <a:pt x="495" y="138"/>
                      </a:lnTo>
                      <a:lnTo>
                        <a:pt x="464" y="137"/>
                      </a:lnTo>
                      <a:lnTo>
                        <a:pt x="433" y="137"/>
                      </a:lnTo>
                      <a:lnTo>
                        <a:pt x="402" y="137"/>
                      </a:lnTo>
                      <a:lnTo>
                        <a:pt x="373" y="137"/>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65000" y="4086360"/>
                  <a:ext cx="513000" cy="95040"/>
                </a:xfrm>
                <a:custGeom>
                  <a:avLst/>
                  <a:gdLst/>
                  <a:ahLst/>
                  <a:rect l="l" t="t" r="r" b="b"/>
                  <a:pathLst>
                    <a:path w="647" h="119">
                      <a:moveTo>
                        <a:pt x="98" y="119"/>
                      </a:moveTo>
                      <a:lnTo>
                        <a:pt x="0" y="82"/>
                      </a:lnTo>
                      <a:lnTo>
                        <a:pt x="0" y="25"/>
                      </a:lnTo>
                      <a:lnTo>
                        <a:pt x="97" y="0"/>
                      </a:lnTo>
                      <a:lnTo>
                        <a:pt x="635" y="0"/>
                      </a:lnTo>
                      <a:lnTo>
                        <a:pt x="638" y="0"/>
                      </a:lnTo>
                      <a:lnTo>
                        <a:pt x="640" y="1"/>
                      </a:lnTo>
                      <a:lnTo>
                        <a:pt x="642" y="1"/>
                      </a:lnTo>
                      <a:lnTo>
                        <a:pt x="643" y="3"/>
                      </a:lnTo>
                      <a:lnTo>
                        <a:pt x="645" y="3"/>
                      </a:lnTo>
                      <a:lnTo>
                        <a:pt x="645" y="5"/>
                      </a:lnTo>
                      <a:lnTo>
                        <a:pt x="647" y="8"/>
                      </a:lnTo>
                      <a:lnTo>
                        <a:pt x="647" y="10"/>
                      </a:lnTo>
                      <a:lnTo>
                        <a:pt x="647" y="34"/>
                      </a:lnTo>
                      <a:lnTo>
                        <a:pt x="172" y="29"/>
                      </a:lnTo>
                      <a:lnTo>
                        <a:pt x="343" y="119"/>
                      </a:lnTo>
                      <a:lnTo>
                        <a:pt x="98" y="119"/>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2111400" y="4330800"/>
                  <a:ext cx="49320" cy="168120"/>
                </a:xfrm>
                <a:custGeom>
                  <a:avLst/>
                  <a:gdLst/>
                  <a:ahLst/>
                  <a:rect l="l" t="t" r="r" b="b"/>
                  <a:pathLst>
                    <a:path w="62" h="212">
                      <a:moveTo>
                        <a:pt x="62" y="200"/>
                      </a:moveTo>
                      <a:lnTo>
                        <a:pt x="61" y="203"/>
                      </a:lnTo>
                      <a:lnTo>
                        <a:pt x="57" y="208"/>
                      </a:lnTo>
                      <a:lnTo>
                        <a:pt x="52" y="210"/>
                      </a:lnTo>
                      <a:lnTo>
                        <a:pt x="43" y="212"/>
                      </a:lnTo>
                      <a:lnTo>
                        <a:pt x="19" y="212"/>
                      </a:lnTo>
                      <a:lnTo>
                        <a:pt x="14" y="212"/>
                      </a:lnTo>
                      <a:lnTo>
                        <a:pt x="9" y="210"/>
                      </a:lnTo>
                      <a:lnTo>
                        <a:pt x="5" y="207"/>
                      </a:lnTo>
                      <a:lnTo>
                        <a:pt x="2" y="205"/>
                      </a:lnTo>
                      <a:lnTo>
                        <a:pt x="2" y="203"/>
                      </a:lnTo>
                      <a:lnTo>
                        <a:pt x="2" y="202"/>
                      </a:lnTo>
                      <a:lnTo>
                        <a:pt x="0" y="202"/>
                      </a:lnTo>
                      <a:lnTo>
                        <a:pt x="0" y="200"/>
                      </a:lnTo>
                      <a:lnTo>
                        <a:pt x="0" y="12"/>
                      </a:lnTo>
                      <a:lnTo>
                        <a:pt x="0" y="10"/>
                      </a:lnTo>
                      <a:lnTo>
                        <a:pt x="2" y="8"/>
                      </a:lnTo>
                      <a:lnTo>
                        <a:pt x="2" y="8"/>
                      </a:lnTo>
                      <a:lnTo>
                        <a:pt x="2" y="7"/>
                      </a:lnTo>
                      <a:lnTo>
                        <a:pt x="5" y="5"/>
                      </a:lnTo>
                      <a:lnTo>
                        <a:pt x="9" y="1"/>
                      </a:lnTo>
                      <a:lnTo>
                        <a:pt x="14" y="0"/>
                      </a:lnTo>
                      <a:lnTo>
                        <a:pt x="19" y="0"/>
                      </a:lnTo>
                      <a:lnTo>
                        <a:pt x="43" y="0"/>
                      </a:lnTo>
                      <a:lnTo>
                        <a:pt x="49" y="0"/>
                      </a:lnTo>
                      <a:lnTo>
                        <a:pt x="54" y="1"/>
                      </a:lnTo>
                      <a:lnTo>
                        <a:pt x="57" y="5"/>
                      </a:lnTo>
                      <a:lnTo>
                        <a:pt x="61" y="7"/>
                      </a:lnTo>
                      <a:lnTo>
                        <a:pt x="62" y="8"/>
                      </a:lnTo>
                      <a:lnTo>
                        <a:pt x="62" y="8"/>
                      </a:lnTo>
                      <a:lnTo>
                        <a:pt x="62" y="10"/>
                      </a:lnTo>
                      <a:lnTo>
                        <a:pt x="62" y="12"/>
                      </a:lnTo>
                      <a:lnTo>
                        <a:pt x="62" y="20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138240" y="3835440"/>
                  <a:ext cx="2550960" cy="438120"/>
                </a:xfrm>
                <a:custGeom>
                  <a:avLst/>
                  <a:gdLst/>
                  <a:ahLst/>
                  <a:rect l="l" t="t" r="r" b="b"/>
                  <a:pathLst>
                    <a:path w="3215" h="554">
                      <a:moveTo>
                        <a:pt x="2992" y="547"/>
                      </a:moveTo>
                      <a:lnTo>
                        <a:pt x="2987" y="547"/>
                      </a:lnTo>
                      <a:lnTo>
                        <a:pt x="2973" y="547"/>
                      </a:lnTo>
                      <a:lnTo>
                        <a:pt x="2953" y="547"/>
                      </a:lnTo>
                      <a:lnTo>
                        <a:pt x="2927" y="547"/>
                      </a:lnTo>
                      <a:lnTo>
                        <a:pt x="2894" y="547"/>
                      </a:lnTo>
                      <a:lnTo>
                        <a:pt x="2858" y="549"/>
                      </a:lnTo>
                      <a:lnTo>
                        <a:pt x="2820" y="549"/>
                      </a:lnTo>
                      <a:lnTo>
                        <a:pt x="2780" y="549"/>
                      </a:lnTo>
                      <a:lnTo>
                        <a:pt x="2740" y="549"/>
                      </a:lnTo>
                      <a:lnTo>
                        <a:pt x="2703" y="549"/>
                      </a:lnTo>
                      <a:lnTo>
                        <a:pt x="2666" y="550"/>
                      </a:lnTo>
                      <a:lnTo>
                        <a:pt x="2634" y="550"/>
                      </a:lnTo>
                      <a:lnTo>
                        <a:pt x="2608" y="550"/>
                      </a:lnTo>
                      <a:lnTo>
                        <a:pt x="2587" y="550"/>
                      </a:lnTo>
                      <a:lnTo>
                        <a:pt x="2573" y="550"/>
                      </a:lnTo>
                      <a:lnTo>
                        <a:pt x="2568" y="550"/>
                      </a:lnTo>
                      <a:lnTo>
                        <a:pt x="2568" y="552"/>
                      </a:lnTo>
                      <a:lnTo>
                        <a:pt x="2568" y="552"/>
                      </a:lnTo>
                      <a:lnTo>
                        <a:pt x="2568" y="552"/>
                      </a:lnTo>
                      <a:lnTo>
                        <a:pt x="2568" y="549"/>
                      </a:lnTo>
                      <a:lnTo>
                        <a:pt x="2568" y="342"/>
                      </a:lnTo>
                      <a:lnTo>
                        <a:pt x="2565" y="326"/>
                      </a:lnTo>
                      <a:lnTo>
                        <a:pt x="2556" y="312"/>
                      </a:lnTo>
                      <a:lnTo>
                        <a:pt x="2542" y="304"/>
                      </a:lnTo>
                      <a:lnTo>
                        <a:pt x="2527" y="300"/>
                      </a:lnTo>
                      <a:lnTo>
                        <a:pt x="2489" y="300"/>
                      </a:lnTo>
                      <a:lnTo>
                        <a:pt x="2473" y="304"/>
                      </a:lnTo>
                      <a:lnTo>
                        <a:pt x="2459" y="312"/>
                      </a:lnTo>
                      <a:lnTo>
                        <a:pt x="2451" y="326"/>
                      </a:lnTo>
                      <a:lnTo>
                        <a:pt x="2447" y="342"/>
                      </a:lnTo>
                      <a:lnTo>
                        <a:pt x="2447" y="549"/>
                      </a:lnTo>
                      <a:lnTo>
                        <a:pt x="2446" y="550"/>
                      </a:lnTo>
                      <a:lnTo>
                        <a:pt x="2439" y="552"/>
                      </a:lnTo>
                      <a:lnTo>
                        <a:pt x="2428" y="554"/>
                      </a:lnTo>
                      <a:lnTo>
                        <a:pt x="2416" y="552"/>
                      </a:lnTo>
                      <a:lnTo>
                        <a:pt x="2402" y="552"/>
                      </a:lnTo>
                      <a:lnTo>
                        <a:pt x="2387" y="552"/>
                      </a:lnTo>
                      <a:lnTo>
                        <a:pt x="2373" y="550"/>
                      </a:lnTo>
                      <a:lnTo>
                        <a:pt x="2359" y="550"/>
                      </a:lnTo>
                      <a:lnTo>
                        <a:pt x="1747" y="402"/>
                      </a:lnTo>
                      <a:lnTo>
                        <a:pt x="1756" y="395"/>
                      </a:lnTo>
                      <a:lnTo>
                        <a:pt x="1764" y="385"/>
                      </a:lnTo>
                      <a:lnTo>
                        <a:pt x="1768" y="373"/>
                      </a:lnTo>
                      <a:lnTo>
                        <a:pt x="1770" y="361"/>
                      </a:lnTo>
                      <a:lnTo>
                        <a:pt x="1766" y="342"/>
                      </a:lnTo>
                      <a:lnTo>
                        <a:pt x="1756" y="324"/>
                      </a:lnTo>
                      <a:lnTo>
                        <a:pt x="1740" y="314"/>
                      </a:lnTo>
                      <a:lnTo>
                        <a:pt x="1721" y="311"/>
                      </a:lnTo>
                      <a:lnTo>
                        <a:pt x="1702" y="314"/>
                      </a:lnTo>
                      <a:lnTo>
                        <a:pt x="1687" y="324"/>
                      </a:lnTo>
                      <a:lnTo>
                        <a:pt x="1676" y="342"/>
                      </a:lnTo>
                      <a:lnTo>
                        <a:pt x="1673" y="361"/>
                      </a:lnTo>
                      <a:lnTo>
                        <a:pt x="1673" y="368"/>
                      </a:lnTo>
                      <a:lnTo>
                        <a:pt x="1675" y="373"/>
                      </a:lnTo>
                      <a:lnTo>
                        <a:pt x="1676" y="380"/>
                      </a:lnTo>
                      <a:lnTo>
                        <a:pt x="1680" y="385"/>
                      </a:lnTo>
                      <a:lnTo>
                        <a:pt x="1544" y="352"/>
                      </a:lnTo>
                      <a:lnTo>
                        <a:pt x="1497" y="352"/>
                      </a:lnTo>
                      <a:lnTo>
                        <a:pt x="1497" y="328"/>
                      </a:lnTo>
                      <a:lnTo>
                        <a:pt x="1495" y="314"/>
                      </a:lnTo>
                      <a:lnTo>
                        <a:pt x="1492" y="300"/>
                      </a:lnTo>
                      <a:lnTo>
                        <a:pt x="1485" y="288"/>
                      </a:lnTo>
                      <a:lnTo>
                        <a:pt x="1476" y="278"/>
                      </a:lnTo>
                      <a:lnTo>
                        <a:pt x="1471" y="273"/>
                      </a:lnTo>
                      <a:lnTo>
                        <a:pt x="1464" y="269"/>
                      </a:lnTo>
                      <a:lnTo>
                        <a:pt x="1459" y="266"/>
                      </a:lnTo>
                      <a:lnTo>
                        <a:pt x="1452" y="262"/>
                      </a:lnTo>
                      <a:lnTo>
                        <a:pt x="1445" y="261"/>
                      </a:lnTo>
                      <a:lnTo>
                        <a:pt x="1438" y="259"/>
                      </a:lnTo>
                      <a:lnTo>
                        <a:pt x="1432" y="257"/>
                      </a:lnTo>
                      <a:lnTo>
                        <a:pt x="1425" y="257"/>
                      </a:lnTo>
                      <a:lnTo>
                        <a:pt x="878" y="257"/>
                      </a:lnTo>
                      <a:lnTo>
                        <a:pt x="730" y="299"/>
                      </a:lnTo>
                      <a:lnTo>
                        <a:pt x="730" y="442"/>
                      </a:lnTo>
                      <a:lnTo>
                        <a:pt x="878" y="497"/>
                      </a:lnTo>
                      <a:lnTo>
                        <a:pt x="1245" y="497"/>
                      </a:lnTo>
                      <a:lnTo>
                        <a:pt x="1375" y="547"/>
                      </a:lnTo>
                      <a:lnTo>
                        <a:pt x="1347" y="547"/>
                      </a:lnTo>
                      <a:lnTo>
                        <a:pt x="1321" y="547"/>
                      </a:lnTo>
                      <a:lnTo>
                        <a:pt x="1295" y="545"/>
                      </a:lnTo>
                      <a:lnTo>
                        <a:pt x="1268" y="545"/>
                      </a:lnTo>
                      <a:lnTo>
                        <a:pt x="1242" y="545"/>
                      </a:lnTo>
                      <a:lnTo>
                        <a:pt x="1218" y="544"/>
                      </a:lnTo>
                      <a:lnTo>
                        <a:pt x="1192" y="544"/>
                      </a:lnTo>
                      <a:lnTo>
                        <a:pt x="1168" y="544"/>
                      </a:lnTo>
                      <a:lnTo>
                        <a:pt x="1144" y="542"/>
                      </a:lnTo>
                      <a:lnTo>
                        <a:pt x="1121" y="542"/>
                      </a:lnTo>
                      <a:lnTo>
                        <a:pt x="1100" y="542"/>
                      </a:lnTo>
                      <a:lnTo>
                        <a:pt x="1078" y="540"/>
                      </a:lnTo>
                      <a:lnTo>
                        <a:pt x="1059" y="540"/>
                      </a:lnTo>
                      <a:lnTo>
                        <a:pt x="1040" y="538"/>
                      </a:lnTo>
                      <a:lnTo>
                        <a:pt x="1023" y="538"/>
                      </a:lnTo>
                      <a:lnTo>
                        <a:pt x="1007" y="537"/>
                      </a:lnTo>
                      <a:lnTo>
                        <a:pt x="921" y="530"/>
                      </a:lnTo>
                      <a:lnTo>
                        <a:pt x="845" y="521"/>
                      </a:lnTo>
                      <a:lnTo>
                        <a:pt x="778" y="511"/>
                      </a:lnTo>
                      <a:lnTo>
                        <a:pt x="719" y="499"/>
                      </a:lnTo>
                      <a:lnTo>
                        <a:pt x="671" y="485"/>
                      </a:lnTo>
                      <a:lnTo>
                        <a:pt x="628" y="471"/>
                      </a:lnTo>
                      <a:lnTo>
                        <a:pt x="593" y="457"/>
                      </a:lnTo>
                      <a:lnTo>
                        <a:pt x="566" y="442"/>
                      </a:lnTo>
                      <a:lnTo>
                        <a:pt x="542" y="428"/>
                      </a:lnTo>
                      <a:lnTo>
                        <a:pt x="524" y="414"/>
                      </a:lnTo>
                      <a:lnTo>
                        <a:pt x="511" y="402"/>
                      </a:lnTo>
                      <a:lnTo>
                        <a:pt x="502" y="392"/>
                      </a:lnTo>
                      <a:lnTo>
                        <a:pt x="495" y="383"/>
                      </a:lnTo>
                      <a:lnTo>
                        <a:pt x="492" y="376"/>
                      </a:lnTo>
                      <a:lnTo>
                        <a:pt x="490" y="371"/>
                      </a:lnTo>
                      <a:lnTo>
                        <a:pt x="490" y="369"/>
                      </a:lnTo>
                      <a:lnTo>
                        <a:pt x="490" y="361"/>
                      </a:lnTo>
                      <a:lnTo>
                        <a:pt x="490" y="361"/>
                      </a:lnTo>
                      <a:lnTo>
                        <a:pt x="488" y="359"/>
                      </a:lnTo>
                      <a:lnTo>
                        <a:pt x="487" y="357"/>
                      </a:lnTo>
                      <a:lnTo>
                        <a:pt x="487" y="357"/>
                      </a:lnTo>
                      <a:lnTo>
                        <a:pt x="345" y="114"/>
                      </a:lnTo>
                      <a:lnTo>
                        <a:pt x="497" y="133"/>
                      </a:lnTo>
                      <a:lnTo>
                        <a:pt x="435" y="60"/>
                      </a:lnTo>
                      <a:lnTo>
                        <a:pt x="217" y="36"/>
                      </a:lnTo>
                      <a:lnTo>
                        <a:pt x="217" y="36"/>
                      </a:lnTo>
                      <a:lnTo>
                        <a:pt x="14" y="10"/>
                      </a:lnTo>
                      <a:lnTo>
                        <a:pt x="0" y="0"/>
                      </a:lnTo>
                      <a:lnTo>
                        <a:pt x="438" y="0"/>
                      </a:lnTo>
                      <a:lnTo>
                        <a:pt x="897" y="212"/>
                      </a:lnTo>
                      <a:lnTo>
                        <a:pt x="2601" y="212"/>
                      </a:lnTo>
                      <a:lnTo>
                        <a:pt x="2628" y="216"/>
                      </a:lnTo>
                      <a:lnTo>
                        <a:pt x="2656" y="221"/>
                      </a:lnTo>
                      <a:lnTo>
                        <a:pt x="2684" y="230"/>
                      </a:lnTo>
                      <a:lnTo>
                        <a:pt x="2711" y="238"/>
                      </a:lnTo>
                      <a:lnTo>
                        <a:pt x="2739" y="249"/>
                      </a:lnTo>
                      <a:lnTo>
                        <a:pt x="2766" y="259"/>
                      </a:lnTo>
                      <a:lnTo>
                        <a:pt x="2792" y="271"/>
                      </a:lnTo>
                      <a:lnTo>
                        <a:pt x="2818" y="283"/>
                      </a:lnTo>
                      <a:lnTo>
                        <a:pt x="2627" y="288"/>
                      </a:lnTo>
                      <a:lnTo>
                        <a:pt x="2696" y="357"/>
                      </a:lnTo>
                      <a:lnTo>
                        <a:pt x="2947" y="354"/>
                      </a:lnTo>
                      <a:lnTo>
                        <a:pt x="2960" y="357"/>
                      </a:lnTo>
                      <a:lnTo>
                        <a:pt x="2984" y="366"/>
                      </a:lnTo>
                      <a:lnTo>
                        <a:pt x="3016" y="376"/>
                      </a:lnTo>
                      <a:lnTo>
                        <a:pt x="3054" y="392"/>
                      </a:lnTo>
                      <a:lnTo>
                        <a:pt x="3096" y="409"/>
                      </a:lnTo>
                      <a:lnTo>
                        <a:pt x="3135" y="426"/>
                      </a:lnTo>
                      <a:lnTo>
                        <a:pt x="3173" y="445"/>
                      </a:lnTo>
                      <a:lnTo>
                        <a:pt x="3203" y="464"/>
                      </a:lnTo>
                      <a:lnTo>
                        <a:pt x="3208" y="468"/>
                      </a:lnTo>
                      <a:lnTo>
                        <a:pt x="3211" y="471"/>
                      </a:lnTo>
                      <a:lnTo>
                        <a:pt x="3215" y="476"/>
                      </a:lnTo>
                      <a:lnTo>
                        <a:pt x="3215" y="481"/>
                      </a:lnTo>
                      <a:lnTo>
                        <a:pt x="3208" y="490"/>
                      </a:lnTo>
                      <a:lnTo>
                        <a:pt x="3196" y="500"/>
                      </a:lnTo>
                      <a:lnTo>
                        <a:pt x="3175" y="512"/>
                      </a:lnTo>
                      <a:lnTo>
                        <a:pt x="3151" y="523"/>
                      </a:lnTo>
                      <a:lnTo>
                        <a:pt x="3118" y="531"/>
                      </a:lnTo>
                      <a:lnTo>
                        <a:pt x="3082" y="540"/>
                      </a:lnTo>
                      <a:lnTo>
                        <a:pt x="3039" y="545"/>
                      </a:lnTo>
                      <a:lnTo>
                        <a:pt x="2992" y="547"/>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913040" y="4081320"/>
                  <a:ext cx="77760" cy="77760"/>
                </a:xfrm>
                <a:custGeom>
                  <a:avLst/>
                  <a:gdLst/>
                  <a:ahLst/>
                  <a:rect l="l" t="t" r="r" b="b"/>
                  <a:pathLst>
                    <a:path w="98" h="98">
                      <a:moveTo>
                        <a:pt x="50" y="0"/>
                      </a:moveTo>
                      <a:lnTo>
                        <a:pt x="31" y="3"/>
                      </a:lnTo>
                      <a:lnTo>
                        <a:pt x="16" y="13"/>
                      </a:lnTo>
                      <a:lnTo>
                        <a:pt x="4" y="31"/>
                      </a:lnTo>
                      <a:lnTo>
                        <a:pt x="0" y="50"/>
                      </a:lnTo>
                      <a:lnTo>
                        <a:pt x="4" y="69"/>
                      </a:lnTo>
                      <a:lnTo>
                        <a:pt x="16" y="84"/>
                      </a:lnTo>
                      <a:lnTo>
                        <a:pt x="31" y="95"/>
                      </a:lnTo>
                      <a:lnTo>
                        <a:pt x="50" y="98"/>
                      </a:lnTo>
                      <a:lnTo>
                        <a:pt x="69" y="95"/>
                      </a:lnTo>
                      <a:lnTo>
                        <a:pt x="85" y="84"/>
                      </a:lnTo>
                      <a:lnTo>
                        <a:pt x="95" y="69"/>
                      </a:lnTo>
                      <a:lnTo>
                        <a:pt x="98" y="50"/>
                      </a:lnTo>
                      <a:lnTo>
                        <a:pt x="95" y="31"/>
                      </a:lnTo>
                      <a:lnTo>
                        <a:pt x="85" y="13"/>
                      </a:lnTo>
                      <a:lnTo>
                        <a:pt x="69" y="3"/>
                      </a:lnTo>
                      <a:lnTo>
                        <a:pt x="50" y="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6" name=""/>
                <p:cNvSpPr/>
                <p:nvPr/>
              </p:nvSpPr>
              <p:spPr>
                <a:xfrm>
                  <a:off x="1771560" y="4081320"/>
                  <a:ext cx="77760" cy="77760"/>
                </a:xfrm>
                <a:custGeom>
                  <a:avLst/>
                  <a:gdLst/>
                  <a:ahLst/>
                  <a:rect l="l" t="t" r="r" b="b"/>
                  <a:pathLst>
                    <a:path w="98" h="98">
                      <a:moveTo>
                        <a:pt x="48" y="0"/>
                      </a:moveTo>
                      <a:lnTo>
                        <a:pt x="29" y="3"/>
                      </a:lnTo>
                      <a:lnTo>
                        <a:pt x="13" y="13"/>
                      </a:lnTo>
                      <a:lnTo>
                        <a:pt x="3" y="31"/>
                      </a:lnTo>
                      <a:lnTo>
                        <a:pt x="0" y="50"/>
                      </a:lnTo>
                      <a:lnTo>
                        <a:pt x="3" y="69"/>
                      </a:lnTo>
                      <a:lnTo>
                        <a:pt x="13" y="84"/>
                      </a:lnTo>
                      <a:lnTo>
                        <a:pt x="29" y="95"/>
                      </a:lnTo>
                      <a:lnTo>
                        <a:pt x="48" y="98"/>
                      </a:lnTo>
                      <a:lnTo>
                        <a:pt x="67" y="95"/>
                      </a:lnTo>
                      <a:lnTo>
                        <a:pt x="84" y="84"/>
                      </a:lnTo>
                      <a:lnTo>
                        <a:pt x="94" y="69"/>
                      </a:lnTo>
                      <a:lnTo>
                        <a:pt x="98" y="50"/>
                      </a:lnTo>
                      <a:lnTo>
                        <a:pt x="94" y="31"/>
                      </a:lnTo>
                      <a:lnTo>
                        <a:pt x="84" y="13"/>
                      </a:lnTo>
                      <a:lnTo>
                        <a:pt x="67" y="3"/>
                      </a:lnTo>
                      <a:lnTo>
                        <a:pt x="48" y="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57" name=""/>
                <p:cNvSpPr/>
                <p:nvPr/>
              </p:nvSpPr>
              <p:spPr>
                <a:xfrm>
                  <a:off x="1625760" y="4081320"/>
                  <a:ext cx="77760" cy="77760"/>
                </a:xfrm>
                <a:custGeom>
                  <a:avLst/>
                  <a:gdLst/>
                  <a:ahLst/>
                  <a:rect l="l" t="t" r="r" b="b"/>
                  <a:pathLst>
                    <a:path w="96" h="98">
                      <a:moveTo>
                        <a:pt x="48" y="0"/>
                      </a:moveTo>
                      <a:lnTo>
                        <a:pt x="29" y="3"/>
                      </a:lnTo>
                      <a:lnTo>
                        <a:pt x="14" y="13"/>
                      </a:lnTo>
                      <a:lnTo>
                        <a:pt x="3" y="31"/>
                      </a:lnTo>
                      <a:lnTo>
                        <a:pt x="0" y="50"/>
                      </a:lnTo>
                      <a:lnTo>
                        <a:pt x="3" y="69"/>
                      </a:lnTo>
                      <a:lnTo>
                        <a:pt x="14" y="84"/>
                      </a:lnTo>
                      <a:lnTo>
                        <a:pt x="29" y="95"/>
                      </a:lnTo>
                      <a:lnTo>
                        <a:pt x="48" y="98"/>
                      </a:lnTo>
                      <a:lnTo>
                        <a:pt x="67" y="95"/>
                      </a:lnTo>
                      <a:lnTo>
                        <a:pt x="83" y="84"/>
                      </a:lnTo>
                      <a:lnTo>
                        <a:pt x="93" y="69"/>
                      </a:lnTo>
                      <a:lnTo>
                        <a:pt x="96" y="50"/>
                      </a:lnTo>
                      <a:lnTo>
                        <a:pt x="93" y="31"/>
                      </a:lnTo>
                      <a:lnTo>
                        <a:pt x="83" y="13"/>
                      </a:lnTo>
                      <a:lnTo>
                        <a:pt x="67" y="3"/>
                      </a:lnTo>
                      <a:lnTo>
                        <a:pt x="48" y="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grpSp>
            <p:nvGrpSpPr>
              <p:cNvPr id="158" name=""/>
              <p:cNvGrpSpPr/>
              <p:nvPr/>
            </p:nvGrpSpPr>
            <p:grpSpPr>
              <a:xfrm>
                <a:off x="6699240" y="3578400"/>
                <a:ext cx="2444760" cy="1699920"/>
                <a:chOff x="6699240" y="3578400"/>
                <a:chExt cx="2444760" cy="1699920"/>
              </a:xfrm>
            </p:grpSpPr>
            <p:sp>
              <p:nvSpPr>
                <p:cNvPr id="159" name=""/>
                <p:cNvSpPr/>
                <p:nvPr/>
              </p:nvSpPr>
              <p:spPr>
                <a:xfrm>
                  <a:off x="6699240" y="3578400"/>
                  <a:ext cx="2444760" cy="1699920"/>
                </a:xfrm>
                <a:custGeom>
                  <a:avLst/>
                  <a:gdLst/>
                  <a:ahLst/>
                  <a:rect l="l" t="t" r="r" b="b"/>
                  <a:pathLst>
                    <a:path w="2283" h="1587">
                      <a:moveTo>
                        <a:pt x="893" y="386"/>
                      </a:moveTo>
                      <a:lnTo>
                        <a:pt x="906" y="394"/>
                      </a:lnTo>
                      <a:lnTo>
                        <a:pt x="919" y="401"/>
                      </a:lnTo>
                      <a:lnTo>
                        <a:pt x="933" y="407"/>
                      </a:lnTo>
                      <a:lnTo>
                        <a:pt x="948" y="412"/>
                      </a:lnTo>
                      <a:lnTo>
                        <a:pt x="962" y="417"/>
                      </a:lnTo>
                      <a:lnTo>
                        <a:pt x="977" y="420"/>
                      </a:lnTo>
                      <a:lnTo>
                        <a:pt x="991" y="425"/>
                      </a:lnTo>
                      <a:lnTo>
                        <a:pt x="1005" y="427"/>
                      </a:lnTo>
                      <a:lnTo>
                        <a:pt x="1020" y="430"/>
                      </a:lnTo>
                      <a:lnTo>
                        <a:pt x="1035" y="432"/>
                      </a:lnTo>
                      <a:lnTo>
                        <a:pt x="1050" y="434"/>
                      </a:lnTo>
                      <a:lnTo>
                        <a:pt x="1065" y="435"/>
                      </a:lnTo>
                      <a:lnTo>
                        <a:pt x="1080" y="437"/>
                      </a:lnTo>
                      <a:lnTo>
                        <a:pt x="1095" y="438"/>
                      </a:lnTo>
                      <a:lnTo>
                        <a:pt x="1109" y="438"/>
                      </a:lnTo>
                      <a:lnTo>
                        <a:pt x="1124" y="439"/>
                      </a:lnTo>
                      <a:lnTo>
                        <a:pt x="1167" y="437"/>
                      </a:lnTo>
                      <a:lnTo>
                        <a:pt x="1207" y="431"/>
                      </a:lnTo>
                      <a:lnTo>
                        <a:pt x="1246" y="424"/>
                      </a:lnTo>
                      <a:lnTo>
                        <a:pt x="1284" y="416"/>
                      </a:lnTo>
                      <a:lnTo>
                        <a:pt x="1321" y="407"/>
                      </a:lnTo>
                      <a:lnTo>
                        <a:pt x="1358" y="397"/>
                      </a:lnTo>
                      <a:lnTo>
                        <a:pt x="1394" y="388"/>
                      </a:lnTo>
                      <a:lnTo>
                        <a:pt x="1429" y="379"/>
                      </a:lnTo>
                      <a:lnTo>
                        <a:pt x="1464" y="372"/>
                      </a:lnTo>
                      <a:lnTo>
                        <a:pt x="1500" y="366"/>
                      </a:lnTo>
                      <a:lnTo>
                        <a:pt x="1534" y="363"/>
                      </a:lnTo>
                      <a:lnTo>
                        <a:pt x="1570" y="362"/>
                      </a:lnTo>
                      <a:lnTo>
                        <a:pt x="1607" y="365"/>
                      </a:lnTo>
                      <a:lnTo>
                        <a:pt x="1644" y="371"/>
                      </a:lnTo>
                      <a:lnTo>
                        <a:pt x="1682" y="381"/>
                      </a:lnTo>
                      <a:lnTo>
                        <a:pt x="1721" y="397"/>
                      </a:lnTo>
                      <a:lnTo>
                        <a:pt x="1772" y="395"/>
                      </a:lnTo>
                      <a:lnTo>
                        <a:pt x="1816" y="395"/>
                      </a:lnTo>
                      <a:lnTo>
                        <a:pt x="1856" y="397"/>
                      </a:lnTo>
                      <a:lnTo>
                        <a:pt x="1891" y="402"/>
                      </a:lnTo>
                      <a:lnTo>
                        <a:pt x="1921" y="409"/>
                      </a:lnTo>
                      <a:lnTo>
                        <a:pt x="1949" y="418"/>
                      </a:lnTo>
                      <a:lnTo>
                        <a:pt x="1972" y="430"/>
                      </a:lnTo>
                      <a:lnTo>
                        <a:pt x="1994" y="445"/>
                      </a:lnTo>
                      <a:lnTo>
                        <a:pt x="2012" y="461"/>
                      </a:lnTo>
                      <a:lnTo>
                        <a:pt x="2030" y="480"/>
                      </a:lnTo>
                      <a:lnTo>
                        <a:pt x="2046" y="501"/>
                      </a:lnTo>
                      <a:lnTo>
                        <a:pt x="2061" y="525"/>
                      </a:lnTo>
                      <a:lnTo>
                        <a:pt x="2076" y="552"/>
                      </a:lnTo>
                      <a:lnTo>
                        <a:pt x="2091" y="581"/>
                      </a:lnTo>
                      <a:lnTo>
                        <a:pt x="2106" y="612"/>
                      </a:lnTo>
                      <a:lnTo>
                        <a:pt x="2123" y="645"/>
                      </a:lnTo>
                      <a:lnTo>
                        <a:pt x="2144" y="668"/>
                      </a:lnTo>
                      <a:lnTo>
                        <a:pt x="2163" y="693"/>
                      </a:lnTo>
                      <a:lnTo>
                        <a:pt x="2184" y="719"/>
                      </a:lnTo>
                      <a:lnTo>
                        <a:pt x="2205" y="744"/>
                      </a:lnTo>
                      <a:lnTo>
                        <a:pt x="2224" y="771"/>
                      </a:lnTo>
                      <a:lnTo>
                        <a:pt x="2244" y="796"/>
                      </a:lnTo>
                      <a:lnTo>
                        <a:pt x="2263" y="821"/>
                      </a:lnTo>
                      <a:lnTo>
                        <a:pt x="2283" y="847"/>
                      </a:lnTo>
                      <a:lnTo>
                        <a:pt x="2282" y="851"/>
                      </a:lnTo>
                      <a:lnTo>
                        <a:pt x="2280" y="855"/>
                      </a:lnTo>
                      <a:lnTo>
                        <a:pt x="2278" y="858"/>
                      </a:lnTo>
                      <a:lnTo>
                        <a:pt x="2278" y="861"/>
                      </a:lnTo>
                      <a:lnTo>
                        <a:pt x="2265" y="861"/>
                      </a:lnTo>
                      <a:lnTo>
                        <a:pt x="2252" y="859"/>
                      </a:lnTo>
                      <a:lnTo>
                        <a:pt x="2238" y="856"/>
                      </a:lnTo>
                      <a:lnTo>
                        <a:pt x="2224" y="850"/>
                      </a:lnTo>
                      <a:lnTo>
                        <a:pt x="2209" y="843"/>
                      </a:lnTo>
                      <a:lnTo>
                        <a:pt x="2195" y="835"/>
                      </a:lnTo>
                      <a:lnTo>
                        <a:pt x="2180" y="826"/>
                      </a:lnTo>
                      <a:lnTo>
                        <a:pt x="2166" y="814"/>
                      </a:lnTo>
                      <a:lnTo>
                        <a:pt x="2154" y="813"/>
                      </a:lnTo>
                      <a:lnTo>
                        <a:pt x="2142" y="812"/>
                      </a:lnTo>
                      <a:lnTo>
                        <a:pt x="2131" y="812"/>
                      </a:lnTo>
                      <a:lnTo>
                        <a:pt x="2119" y="813"/>
                      </a:lnTo>
                      <a:lnTo>
                        <a:pt x="2107" y="813"/>
                      </a:lnTo>
                      <a:lnTo>
                        <a:pt x="2095" y="814"/>
                      </a:lnTo>
                      <a:lnTo>
                        <a:pt x="2083" y="816"/>
                      </a:lnTo>
                      <a:lnTo>
                        <a:pt x="2071" y="816"/>
                      </a:lnTo>
                      <a:lnTo>
                        <a:pt x="2063" y="795"/>
                      </a:lnTo>
                      <a:lnTo>
                        <a:pt x="2054" y="772"/>
                      </a:lnTo>
                      <a:lnTo>
                        <a:pt x="2042" y="748"/>
                      </a:lnTo>
                      <a:lnTo>
                        <a:pt x="2028" y="722"/>
                      </a:lnTo>
                      <a:lnTo>
                        <a:pt x="2015" y="696"/>
                      </a:lnTo>
                      <a:lnTo>
                        <a:pt x="2000" y="669"/>
                      </a:lnTo>
                      <a:lnTo>
                        <a:pt x="1982" y="644"/>
                      </a:lnTo>
                      <a:lnTo>
                        <a:pt x="1965" y="617"/>
                      </a:lnTo>
                      <a:lnTo>
                        <a:pt x="1947" y="593"/>
                      </a:lnTo>
                      <a:lnTo>
                        <a:pt x="1927" y="570"/>
                      </a:lnTo>
                      <a:lnTo>
                        <a:pt x="1906" y="548"/>
                      </a:lnTo>
                      <a:lnTo>
                        <a:pt x="1887" y="530"/>
                      </a:lnTo>
                      <a:lnTo>
                        <a:pt x="1866" y="514"/>
                      </a:lnTo>
                      <a:lnTo>
                        <a:pt x="1844" y="501"/>
                      </a:lnTo>
                      <a:lnTo>
                        <a:pt x="1823" y="492"/>
                      </a:lnTo>
                      <a:lnTo>
                        <a:pt x="1801" y="487"/>
                      </a:lnTo>
                      <a:lnTo>
                        <a:pt x="1816" y="546"/>
                      </a:lnTo>
                      <a:lnTo>
                        <a:pt x="1822" y="602"/>
                      </a:lnTo>
                      <a:lnTo>
                        <a:pt x="1822" y="658"/>
                      </a:lnTo>
                      <a:lnTo>
                        <a:pt x="1815" y="711"/>
                      </a:lnTo>
                      <a:lnTo>
                        <a:pt x="1805" y="765"/>
                      </a:lnTo>
                      <a:lnTo>
                        <a:pt x="1790" y="819"/>
                      </a:lnTo>
                      <a:lnTo>
                        <a:pt x="1774" y="875"/>
                      </a:lnTo>
                      <a:lnTo>
                        <a:pt x="1755" y="934"/>
                      </a:lnTo>
                      <a:lnTo>
                        <a:pt x="1766" y="961"/>
                      </a:lnTo>
                      <a:lnTo>
                        <a:pt x="1784" y="990"/>
                      </a:lnTo>
                      <a:lnTo>
                        <a:pt x="1806" y="1019"/>
                      </a:lnTo>
                      <a:lnTo>
                        <a:pt x="1830" y="1051"/>
                      </a:lnTo>
                      <a:lnTo>
                        <a:pt x="1853" y="1082"/>
                      </a:lnTo>
                      <a:lnTo>
                        <a:pt x="1874" y="1113"/>
                      </a:lnTo>
                      <a:lnTo>
                        <a:pt x="1888" y="1143"/>
                      </a:lnTo>
                      <a:lnTo>
                        <a:pt x="1892" y="1172"/>
                      </a:lnTo>
                      <a:lnTo>
                        <a:pt x="1878" y="1205"/>
                      </a:lnTo>
                      <a:lnTo>
                        <a:pt x="1865" y="1235"/>
                      </a:lnTo>
                      <a:lnTo>
                        <a:pt x="1853" y="1263"/>
                      </a:lnTo>
                      <a:lnTo>
                        <a:pt x="1845" y="1290"/>
                      </a:lnTo>
                      <a:lnTo>
                        <a:pt x="1838" y="1318"/>
                      </a:lnTo>
                      <a:lnTo>
                        <a:pt x="1836" y="1348"/>
                      </a:lnTo>
                      <a:lnTo>
                        <a:pt x="1837" y="1381"/>
                      </a:lnTo>
                      <a:lnTo>
                        <a:pt x="1842" y="1419"/>
                      </a:lnTo>
                      <a:lnTo>
                        <a:pt x="1842" y="1440"/>
                      </a:lnTo>
                      <a:lnTo>
                        <a:pt x="1837" y="1458"/>
                      </a:lnTo>
                      <a:lnTo>
                        <a:pt x="1830" y="1476"/>
                      </a:lnTo>
                      <a:lnTo>
                        <a:pt x="1821" y="1492"/>
                      </a:lnTo>
                      <a:lnTo>
                        <a:pt x="1813" y="1508"/>
                      </a:lnTo>
                      <a:lnTo>
                        <a:pt x="1806" y="1524"/>
                      </a:lnTo>
                      <a:lnTo>
                        <a:pt x="1803" y="1539"/>
                      </a:lnTo>
                      <a:lnTo>
                        <a:pt x="1804" y="1555"/>
                      </a:lnTo>
                      <a:lnTo>
                        <a:pt x="1791" y="1566"/>
                      </a:lnTo>
                      <a:lnTo>
                        <a:pt x="1777" y="1572"/>
                      </a:lnTo>
                      <a:lnTo>
                        <a:pt x="1761" y="1579"/>
                      </a:lnTo>
                      <a:lnTo>
                        <a:pt x="1745" y="1584"/>
                      </a:lnTo>
                      <a:lnTo>
                        <a:pt x="1727" y="1586"/>
                      </a:lnTo>
                      <a:lnTo>
                        <a:pt x="1709" y="1587"/>
                      </a:lnTo>
                      <a:lnTo>
                        <a:pt x="1693" y="1587"/>
                      </a:lnTo>
                      <a:lnTo>
                        <a:pt x="1678" y="1585"/>
                      </a:lnTo>
                      <a:lnTo>
                        <a:pt x="1694" y="1560"/>
                      </a:lnTo>
                      <a:lnTo>
                        <a:pt x="1708" y="1531"/>
                      </a:lnTo>
                      <a:lnTo>
                        <a:pt x="1722" y="1498"/>
                      </a:lnTo>
                      <a:lnTo>
                        <a:pt x="1732" y="1462"/>
                      </a:lnTo>
                      <a:lnTo>
                        <a:pt x="1742" y="1424"/>
                      </a:lnTo>
                      <a:lnTo>
                        <a:pt x="1748" y="1383"/>
                      </a:lnTo>
                      <a:lnTo>
                        <a:pt x="1753" y="1343"/>
                      </a:lnTo>
                      <a:lnTo>
                        <a:pt x="1754" y="1302"/>
                      </a:lnTo>
                      <a:lnTo>
                        <a:pt x="1752" y="1260"/>
                      </a:lnTo>
                      <a:lnTo>
                        <a:pt x="1746" y="1220"/>
                      </a:lnTo>
                      <a:lnTo>
                        <a:pt x="1736" y="1181"/>
                      </a:lnTo>
                      <a:lnTo>
                        <a:pt x="1722" y="1144"/>
                      </a:lnTo>
                      <a:lnTo>
                        <a:pt x="1704" y="1110"/>
                      </a:lnTo>
                      <a:lnTo>
                        <a:pt x="1679" y="1079"/>
                      </a:lnTo>
                      <a:lnTo>
                        <a:pt x="1652" y="1053"/>
                      </a:lnTo>
                      <a:lnTo>
                        <a:pt x="1617" y="1031"/>
                      </a:lnTo>
                      <a:lnTo>
                        <a:pt x="1616" y="1019"/>
                      </a:lnTo>
                      <a:lnTo>
                        <a:pt x="1613" y="1009"/>
                      </a:lnTo>
                      <a:lnTo>
                        <a:pt x="1607" y="999"/>
                      </a:lnTo>
                      <a:lnTo>
                        <a:pt x="1600" y="990"/>
                      </a:lnTo>
                      <a:lnTo>
                        <a:pt x="1593" y="981"/>
                      </a:lnTo>
                      <a:lnTo>
                        <a:pt x="1584" y="972"/>
                      </a:lnTo>
                      <a:lnTo>
                        <a:pt x="1576" y="964"/>
                      </a:lnTo>
                      <a:lnTo>
                        <a:pt x="1568" y="956"/>
                      </a:lnTo>
                      <a:lnTo>
                        <a:pt x="1568" y="996"/>
                      </a:lnTo>
                      <a:lnTo>
                        <a:pt x="1571" y="1031"/>
                      </a:lnTo>
                      <a:lnTo>
                        <a:pt x="1576" y="1066"/>
                      </a:lnTo>
                      <a:lnTo>
                        <a:pt x="1584" y="1105"/>
                      </a:lnTo>
                      <a:lnTo>
                        <a:pt x="1564" y="1146"/>
                      </a:lnTo>
                      <a:lnTo>
                        <a:pt x="1546" y="1185"/>
                      </a:lnTo>
                      <a:lnTo>
                        <a:pt x="1528" y="1225"/>
                      </a:lnTo>
                      <a:lnTo>
                        <a:pt x="1512" y="1263"/>
                      </a:lnTo>
                      <a:lnTo>
                        <a:pt x="1497" y="1302"/>
                      </a:lnTo>
                      <a:lnTo>
                        <a:pt x="1485" y="1342"/>
                      </a:lnTo>
                      <a:lnTo>
                        <a:pt x="1473" y="1385"/>
                      </a:lnTo>
                      <a:lnTo>
                        <a:pt x="1465" y="1430"/>
                      </a:lnTo>
                      <a:lnTo>
                        <a:pt x="1449" y="1441"/>
                      </a:lnTo>
                      <a:lnTo>
                        <a:pt x="1434" y="1448"/>
                      </a:lnTo>
                      <a:lnTo>
                        <a:pt x="1420" y="1455"/>
                      </a:lnTo>
                      <a:lnTo>
                        <a:pt x="1408" y="1461"/>
                      </a:lnTo>
                      <a:lnTo>
                        <a:pt x="1395" y="1470"/>
                      </a:lnTo>
                      <a:lnTo>
                        <a:pt x="1384" y="1481"/>
                      </a:lnTo>
                      <a:lnTo>
                        <a:pt x="1374" y="1500"/>
                      </a:lnTo>
                      <a:lnTo>
                        <a:pt x="1365" y="1524"/>
                      </a:lnTo>
                      <a:lnTo>
                        <a:pt x="1348" y="1524"/>
                      </a:lnTo>
                      <a:lnTo>
                        <a:pt x="1333" y="1524"/>
                      </a:lnTo>
                      <a:lnTo>
                        <a:pt x="1320" y="1524"/>
                      </a:lnTo>
                      <a:lnTo>
                        <a:pt x="1308" y="1522"/>
                      </a:lnTo>
                      <a:lnTo>
                        <a:pt x="1297" y="1519"/>
                      </a:lnTo>
                      <a:lnTo>
                        <a:pt x="1284" y="1516"/>
                      </a:lnTo>
                      <a:lnTo>
                        <a:pt x="1272" y="1510"/>
                      </a:lnTo>
                      <a:lnTo>
                        <a:pt x="1257" y="1502"/>
                      </a:lnTo>
                      <a:lnTo>
                        <a:pt x="1289" y="1469"/>
                      </a:lnTo>
                      <a:lnTo>
                        <a:pt x="1317" y="1436"/>
                      </a:lnTo>
                      <a:lnTo>
                        <a:pt x="1343" y="1403"/>
                      </a:lnTo>
                      <a:lnTo>
                        <a:pt x="1365" y="1371"/>
                      </a:lnTo>
                      <a:lnTo>
                        <a:pt x="1384" y="1339"/>
                      </a:lnTo>
                      <a:lnTo>
                        <a:pt x="1402" y="1305"/>
                      </a:lnTo>
                      <a:lnTo>
                        <a:pt x="1414" y="1272"/>
                      </a:lnTo>
                      <a:lnTo>
                        <a:pt x="1425" y="1237"/>
                      </a:lnTo>
                      <a:lnTo>
                        <a:pt x="1433" y="1203"/>
                      </a:lnTo>
                      <a:lnTo>
                        <a:pt x="1436" y="1167"/>
                      </a:lnTo>
                      <a:lnTo>
                        <a:pt x="1437" y="1130"/>
                      </a:lnTo>
                      <a:lnTo>
                        <a:pt x="1435" y="1092"/>
                      </a:lnTo>
                      <a:lnTo>
                        <a:pt x="1431" y="1052"/>
                      </a:lnTo>
                      <a:lnTo>
                        <a:pt x="1422" y="1010"/>
                      </a:lnTo>
                      <a:lnTo>
                        <a:pt x="1411" y="966"/>
                      </a:lnTo>
                      <a:lnTo>
                        <a:pt x="1396" y="922"/>
                      </a:lnTo>
                      <a:lnTo>
                        <a:pt x="1395" y="899"/>
                      </a:lnTo>
                      <a:lnTo>
                        <a:pt x="1394" y="879"/>
                      </a:lnTo>
                      <a:lnTo>
                        <a:pt x="1388" y="862"/>
                      </a:lnTo>
                      <a:lnTo>
                        <a:pt x="1378" y="844"/>
                      </a:lnTo>
                      <a:lnTo>
                        <a:pt x="1382" y="842"/>
                      </a:lnTo>
                      <a:lnTo>
                        <a:pt x="1387" y="839"/>
                      </a:lnTo>
                      <a:lnTo>
                        <a:pt x="1391" y="835"/>
                      </a:lnTo>
                      <a:lnTo>
                        <a:pt x="1396" y="832"/>
                      </a:lnTo>
                      <a:lnTo>
                        <a:pt x="1396" y="831"/>
                      </a:lnTo>
                      <a:lnTo>
                        <a:pt x="1396" y="829"/>
                      </a:lnTo>
                      <a:lnTo>
                        <a:pt x="1396" y="827"/>
                      </a:lnTo>
                      <a:lnTo>
                        <a:pt x="1396" y="826"/>
                      </a:lnTo>
                      <a:lnTo>
                        <a:pt x="1373" y="835"/>
                      </a:lnTo>
                      <a:lnTo>
                        <a:pt x="1351" y="843"/>
                      </a:lnTo>
                      <a:lnTo>
                        <a:pt x="1328" y="852"/>
                      </a:lnTo>
                      <a:lnTo>
                        <a:pt x="1306" y="862"/>
                      </a:lnTo>
                      <a:lnTo>
                        <a:pt x="1284" y="871"/>
                      </a:lnTo>
                      <a:lnTo>
                        <a:pt x="1261" y="880"/>
                      </a:lnTo>
                      <a:lnTo>
                        <a:pt x="1239" y="888"/>
                      </a:lnTo>
                      <a:lnTo>
                        <a:pt x="1216" y="897"/>
                      </a:lnTo>
                      <a:lnTo>
                        <a:pt x="1190" y="896"/>
                      </a:lnTo>
                      <a:lnTo>
                        <a:pt x="1164" y="896"/>
                      </a:lnTo>
                      <a:lnTo>
                        <a:pt x="1138" y="895"/>
                      </a:lnTo>
                      <a:lnTo>
                        <a:pt x="1111" y="894"/>
                      </a:lnTo>
                      <a:lnTo>
                        <a:pt x="1085" y="894"/>
                      </a:lnTo>
                      <a:lnTo>
                        <a:pt x="1058" y="894"/>
                      </a:lnTo>
                      <a:lnTo>
                        <a:pt x="1032" y="893"/>
                      </a:lnTo>
                      <a:lnTo>
                        <a:pt x="1005" y="893"/>
                      </a:lnTo>
                      <a:lnTo>
                        <a:pt x="978" y="893"/>
                      </a:lnTo>
                      <a:lnTo>
                        <a:pt x="951" y="894"/>
                      </a:lnTo>
                      <a:lnTo>
                        <a:pt x="925" y="894"/>
                      </a:lnTo>
                      <a:lnTo>
                        <a:pt x="898" y="895"/>
                      </a:lnTo>
                      <a:lnTo>
                        <a:pt x="872" y="896"/>
                      </a:lnTo>
                      <a:lnTo>
                        <a:pt x="845" y="897"/>
                      </a:lnTo>
                      <a:lnTo>
                        <a:pt x="820" y="899"/>
                      </a:lnTo>
                      <a:lnTo>
                        <a:pt x="794" y="901"/>
                      </a:lnTo>
                      <a:lnTo>
                        <a:pt x="789" y="947"/>
                      </a:lnTo>
                      <a:lnTo>
                        <a:pt x="789" y="1002"/>
                      </a:lnTo>
                      <a:lnTo>
                        <a:pt x="794" y="1063"/>
                      </a:lnTo>
                      <a:lnTo>
                        <a:pt x="803" y="1127"/>
                      </a:lnTo>
                      <a:lnTo>
                        <a:pt x="813" y="1190"/>
                      </a:lnTo>
                      <a:lnTo>
                        <a:pt x="828" y="1249"/>
                      </a:lnTo>
                      <a:lnTo>
                        <a:pt x="844" y="1302"/>
                      </a:lnTo>
                      <a:lnTo>
                        <a:pt x="863" y="1344"/>
                      </a:lnTo>
                      <a:lnTo>
                        <a:pt x="860" y="1352"/>
                      </a:lnTo>
                      <a:lnTo>
                        <a:pt x="856" y="1365"/>
                      </a:lnTo>
                      <a:lnTo>
                        <a:pt x="850" y="1381"/>
                      </a:lnTo>
                      <a:lnTo>
                        <a:pt x="845" y="1400"/>
                      </a:lnTo>
                      <a:lnTo>
                        <a:pt x="841" y="1424"/>
                      </a:lnTo>
                      <a:lnTo>
                        <a:pt x="837" y="1450"/>
                      </a:lnTo>
                      <a:lnTo>
                        <a:pt x="837" y="1480"/>
                      </a:lnTo>
                      <a:lnTo>
                        <a:pt x="841" y="1515"/>
                      </a:lnTo>
                      <a:lnTo>
                        <a:pt x="828" y="1510"/>
                      </a:lnTo>
                      <a:lnTo>
                        <a:pt x="814" y="1508"/>
                      </a:lnTo>
                      <a:lnTo>
                        <a:pt x="799" y="1507"/>
                      </a:lnTo>
                      <a:lnTo>
                        <a:pt x="784" y="1507"/>
                      </a:lnTo>
                      <a:lnTo>
                        <a:pt x="769" y="1506"/>
                      </a:lnTo>
                      <a:lnTo>
                        <a:pt x="752" y="1503"/>
                      </a:lnTo>
                      <a:lnTo>
                        <a:pt x="735" y="1498"/>
                      </a:lnTo>
                      <a:lnTo>
                        <a:pt x="716" y="1488"/>
                      </a:lnTo>
                      <a:lnTo>
                        <a:pt x="720" y="1473"/>
                      </a:lnTo>
                      <a:lnTo>
                        <a:pt x="724" y="1460"/>
                      </a:lnTo>
                      <a:lnTo>
                        <a:pt x="730" y="1447"/>
                      </a:lnTo>
                      <a:lnTo>
                        <a:pt x="737" y="1435"/>
                      </a:lnTo>
                      <a:lnTo>
                        <a:pt x="744" y="1424"/>
                      </a:lnTo>
                      <a:lnTo>
                        <a:pt x="753" y="1412"/>
                      </a:lnTo>
                      <a:lnTo>
                        <a:pt x="761" y="1400"/>
                      </a:lnTo>
                      <a:lnTo>
                        <a:pt x="769" y="1387"/>
                      </a:lnTo>
                      <a:lnTo>
                        <a:pt x="768" y="1345"/>
                      </a:lnTo>
                      <a:lnTo>
                        <a:pt x="764" y="1305"/>
                      </a:lnTo>
                      <a:lnTo>
                        <a:pt x="757" y="1265"/>
                      </a:lnTo>
                      <a:lnTo>
                        <a:pt x="747" y="1225"/>
                      </a:lnTo>
                      <a:lnTo>
                        <a:pt x="738" y="1184"/>
                      </a:lnTo>
                      <a:lnTo>
                        <a:pt x="727" y="1144"/>
                      </a:lnTo>
                      <a:lnTo>
                        <a:pt x="716" y="1102"/>
                      </a:lnTo>
                      <a:lnTo>
                        <a:pt x="706" y="1062"/>
                      </a:lnTo>
                      <a:lnTo>
                        <a:pt x="704" y="1104"/>
                      </a:lnTo>
                      <a:lnTo>
                        <a:pt x="705" y="1145"/>
                      </a:lnTo>
                      <a:lnTo>
                        <a:pt x="707" y="1187"/>
                      </a:lnTo>
                      <a:lnTo>
                        <a:pt x="713" y="1228"/>
                      </a:lnTo>
                      <a:lnTo>
                        <a:pt x="720" y="1269"/>
                      </a:lnTo>
                      <a:lnTo>
                        <a:pt x="727" y="1312"/>
                      </a:lnTo>
                      <a:lnTo>
                        <a:pt x="734" y="1354"/>
                      </a:lnTo>
                      <a:lnTo>
                        <a:pt x="741" y="1395"/>
                      </a:lnTo>
                      <a:lnTo>
                        <a:pt x="735" y="1411"/>
                      </a:lnTo>
                      <a:lnTo>
                        <a:pt x="727" y="1424"/>
                      </a:lnTo>
                      <a:lnTo>
                        <a:pt x="719" y="1434"/>
                      </a:lnTo>
                      <a:lnTo>
                        <a:pt x="711" y="1443"/>
                      </a:lnTo>
                      <a:lnTo>
                        <a:pt x="701" y="1454"/>
                      </a:lnTo>
                      <a:lnTo>
                        <a:pt x="694" y="1466"/>
                      </a:lnTo>
                      <a:lnTo>
                        <a:pt x="689" y="1484"/>
                      </a:lnTo>
                      <a:lnTo>
                        <a:pt x="684" y="1507"/>
                      </a:lnTo>
                      <a:lnTo>
                        <a:pt x="662" y="1516"/>
                      </a:lnTo>
                      <a:lnTo>
                        <a:pt x="643" y="1522"/>
                      </a:lnTo>
                      <a:lnTo>
                        <a:pt x="623" y="1526"/>
                      </a:lnTo>
                      <a:lnTo>
                        <a:pt x="603" y="1529"/>
                      </a:lnTo>
                      <a:lnTo>
                        <a:pt x="584" y="1530"/>
                      </a:lnTo>
                      <a:lnTo>
                        <a:pt x="565" y="1531"/>
                      </a:lnTo>
                      <a:lnTo>
                        <a:pt x="546" y="1533"/>
                      </a:lnTo>
                      <a:lnTo>
                        <a:pt x="525" y="1537"/>
                      </a:lnTo>
                      <a:lnTo>
                        <a:pt x="538" y="1518"/>
                      </a:lnTo>
                      <a:lnTo>
                        <a:pt x="550" y="1499"/>
                      </a:lnTo>
                      <a:lnTo>
                        <a:pt x="563" y="1480"/>
                      </a:lnTo>
                      <a:lnTo>
                        <a:pt x="577" y="1462"/>
                      </a:lnTo>
                      <a:lnTo>
                        <a:pt x="590" y="1443"/>
                      </a:lnTo>
                      <a:lnTo>
                        <a:pt x="603" y="1425"/>
                      </a:lnTo>
                      <a:lnTo>
                        <a:pt x="617" y="1407"/>
                      </a:lnTo>
                      <a:lnTo>
                        <a:pt x="631" y="1388"/>
                      </a:lnTo>
                      <a:lnTo>
                        <a:pt x="633" y="1324"/>
                      </a:lnTo>
                      <a:lnTo>
                        <a:pt x="631" y="1260"/>
                      </a:lnTo>
                      <a:lnTo>
                        <a:pt x="626" y="1196"/>
                      </a:lnTo>
                      <a:lnTo>
                        <a:pt x="621" y="1131"/>
                      </a:lnTo>
                      <a:lnTo>
                        <a:pt x="612" y="1068"/>
                      </a:lnTo>
                      <a:lnTo>
                        <a:pt x="603" y="1003"/>
                      </a:lnTo>
                      <a:lnTo>
                        <a:pt x="594" y="939"/>
                      </a:lnTo>
                      <a:lnTo>
                        <a:pt x="585" y="874"/>
                      </a:lnTo>
                      <a:lnTo>
                        <a:pt x="569" y="855"/>
                      </a:lnTo>
                      <a:lnTo>
                        <a:pt x="554" y="837"/>
                      </a:lnTo>
                      <a:lnTo>
                        <a:pt x="540" y="821"/>
                      </a:lnTo>
                      <a:lnTo>
                        <a:pt x="527" y="805"/>
                      </a:lnTo>
                      <a:lnTo>
                        <a:pt x="516" y="788"/>
                      </a:lnTo>
                      <a:lnTo>
                        <a:pt x="504" y="771"/>
                      </a:lnTo>
                      <a:lnTo>
                        <a:pt x="495" y="751"/>
                      </a:lnTo>
                      <a:lnTo>
                        <a:pt x="487" y="729"/>
                      </a:lnTo>
                      <a:lnTo>
                        <a:pt x="480" y="704"/>
                      </a:lnTo>
                      <a:lnTo>
                        <a:pt x="484" y="661"/>
                      </a:lnTo>
                      <a:lnTo>
                        <a:pt x="487" y="615"/>
                      </a:lnTo>
                      <a:lnTo>
                        <a:pt x="482" y="576"/>
                      </a:lnTo>
                      <a:lnTo>
                        <a:pt x="468" y="541"/>
                      </a:lnTo>
                      <a:lnTo>
                        <a:pt x="454" y="503"/>
                      </a:lnTo>
                      <a:lnTo>
                        <a:pt x="438" y="465"/>
                      </a:lnTo>
                      <a:lnTo>
                        <a:pt x="421" y="427"/>
                      </a:lnTo>
                      <a:lnTo>
                        <a:pt x="403" y="391"/>
                      </a:lnTo>
                      <a:lnTo>
                        <a:pt x="381" y="356"/>
                      </a:lnTo>
                      <a:lnTo>
                        <a:pt x="357" y="326"/>
                      </a:lnTo>
                      <a:lnTo>
                        <a:pt x="327" y="302"/>
                      </a:lnTo>
                      <a:lnTo>
                        <a:pt x="312" y="309"/>
                      </a:lnTo>
                      <a:lnTo>
                        <a:pt x="298" y="317"/>
                      </a:lnTo>
                      <a:lnTo>
                        <a:pt x="283" y="325"/>
                      </a:lnTo>
                      <a:lnTo>
                        <a:pt x="268" y="332"/>
                      </a:lnTo>
                      <a:lnTo>
                        <a:pt x="253" y="341"/>
                      </a:lnTo>
                      <a:lnTo>
                        <a:pt x="239" y="349"/>
                      </a:lnTo>
                      <a:lnTo>
                        <a:pt x="226" y="358"/>
                      </a:lnTo>
                      <a:lnTo>
                        <a:pt x="212" y="367"/>
                      </a:lnTo>
                      <a:lnTo>
                        <a:pt x="198" y="377"/>
                      </a:lnTo>
                      <a:lnTo>
                        <a:pt x="184" y="387"/>
                      </a:lnTo>
                      <a:lnTo>
                        <a:pt x="173" y="397"/>
                      </a:lnTo>
                      <a:lnTo>
                        <a:pt x="160" y="409"/>
                      </a:lnTo>
                      <a:lnTo>
                        <a:pt x="148" y="420"/>
                      </a:lnTo>
                      <a:lnTo>
                        <a:pt x="138" y="433"/>
                      </a:lnTo>
                      <a:lnTo>
                        <a:pt x="129" y="447"/>
                      </a:lnTo>
                      <a:lnTo>
                        <a:pt x="120" y="461"/>
                      </a:lnTo>
                      <a:lnTo>
                        <a:pt x="114" y="462"/>
                      </a:lnTo>
                      <a:lnTo>
                        <a:pt x="108" y="463"/>
                      </a:lnTo>
                      <a:lnTo>
                        <a:pt x="102" y="464"/>
                      </a:lnTo>
                      <a:lnTo>
                        <a:pt x="98" y="464"/>
                      </a:lnTo>
                      <a:lnTo>
                        <a:pt x="94" y="469"/>
                      </a:lnTo>
                      <a:lnTo>
                        <a:pt x="92" y="472"/>
                      </a:lnTo>
                      <a:lnTo>
                        <a:pt x="89" y="477"/>
                      </a:lnTo>
                      <a:lnTo>
                        <a:pt x="85" y="482"/>
                      </a:lnTo>
                      <a:lnTo>
                        <a:pt x="78" y="482"/>
                      </a:lnTo>
                      <a:lnTo>
                        <a:pt x="72" y="479"/>
                      </a:lnTo>
                      <a:lnTo>
                        <a:pt x="67" y="478"/>
                      </a:lnTo>
                      <a:lnTo>
                        <a:pt x="62" y="475"/>
                      </a:lnTo>
                      <a:lnTo>
                        <a:pt x="56" y="472"/>
                      </a:lnTo>
                      <a:lnTo>
                        <a:pt x="52" y="469"/>
                      </a:lnTo>
                      <a:lnTo>
                        <a:pt x="46" y="464"/>
                      </a:lnTo>
                      <a:lnTo>
                        <a:pt x="40" y="461"/>
                      </a:lnTo>
                      <a:lnTo>
                        <a:pt x="10" y="435"/>
                      </a:lnTo>
                      <a:lnTo>
                        <a:pt x="0" y="404"/>
                      </a:lnTo>
                      <a:lnTo>
                        <a:pt x="4" y="369"/>
                      </a:lnTo>
                      <a:lnTo>
                        <a:pt x="19" y="331"/>
                      </a:lnTo>
                      <a:lnTo>
                        <a:pt x="41" y="293"/>
                      </a:lnTo>
                      <a:lnTo>
                        <a:pt x="67" y="256"/>
                      </a:lnTo>
                      <a:lnTo>
                        <a:pt x="91" y="221"/>
                      </a:lnTo>
                      <a:lnTo>
                        <a:pt x="109" y="192"/>
                      </a:lnTo>
                      <a:lnTo>
                        <a:pt x="109" y="191"/>
                      </a:lnTo>
                      <a:lnTo>
                        <a:pt x="108" y="189"/>
                      </a:lnTo>
                      <a:lnTo>
                        <a:pt x="107" y="185"/>
                      </a:lnTo>
                      <a:lnTo>
                        <a:pt x="107" y="182"/>
                      </a:lnTo>
                      <a:lnTo>
                        <a:pt x="99" y="185"/>
                      </a:lnTo>
                      <a:lnTo>
                        <a:pt x="92" y="188"/>
                      </a:lnTo>
                      <a:lnTo>
                        <a:pt x="84" y="189"/>
                      </a:lnTo>
                      <a:lnTo>
                        <a:pt x="76" y="190"/>
                      </a:lnTo>
                      <a:lnTo>
                        <a:pt x="68" y="191"/>
                      </a:lnTo>
                      <a:lnTo>
                        <a:pt x="60" y="191"/>
                      </a:lnTo>
                      <a:lnTo>
                        <a:pt x="53" y="191"/>
                      </a:lnTo>
                      <a:lnTo>
                        <a:pt x="45" y="191"/>
                      </a:lnTo>
                      <a:lnTo>
                        <a:pt x="55" y="181"/>
                      </a:lnTo>
                      <a:lnTo>
                        <a:pt x="65" y="170"/>
                      </a:lnTo>
                      <a:lnTo>
                        <a:pt x="77" y="159"/>
                      </a:lnTo>
                      <a:lnTo>
                        <a:pt x="87" y="147"/>
                      </a:lnTo>
                      <a:lnTo>
                        <a:pt x="98" y="136"/>
                      </a:lnTo>
                      <a:lnTo>
                        <a:pt x="108" y="123"/>
                      </a:lnTo>
                      <a:lnTo>
                        <a:pt x="117" y="111"/>
                      </a:lnTo>
                      <a:lnTo>
                        <a:pt x="125" y="97"/>
                      </a:lnTo>
                      <a:lnTo>
                        <a:pt x="121" y="85"/>
                      </a:lnTo>
                      <a:lnTo>
                        <a:pt x="117" y="74"/>
                      </a:lnTo>
                      <a:lnTo>
                        <a:pt x="113" y="63"/>
                      </a:lnTo>
                      <a:lnTo>
                        <a:pt x="108" y="52"/>
                      </a:lnTo>
                      <a:lnTo>
                        <a:pt x="105" y="40"/>
                      </a:lnTo>
                      <a:lnTo>
                        <a:pt x="100" y="29"/>
                      </a:lnTo>
                      <a:lnTo>
                        <a:pt x="95" y="17"/>
                      </a:lnTo>
                      <a:lnTo>
                        <a:pt x="91" y="6"/>
                      </a:lnTo>
                      <a:lnTo>
                        <a:pt x="101" y="12"/>
                      </a:lnTo>
                      <a:lnTo>
                        <a:pt x="110" y="16"/>
                      </a:lnTo>
                      <a:lnTo>
                        <a:pt x="120" y="22"/>
                      </a:lnTo>
                      <a:lnTo>
                        <a:pt x="130" y="28"/>
                      </a:lnTo>
                      <a:lnTo>
                        <a:pt x="139" y="35"/>
                      </a:lnTo>
                      <a:lnTo>
                        <a:pt x="148" y="40"/>
                      </a:lnTo>
                      <a:lnTo>
                        <a:pt x="158" y="45"/>
                      </a:lnTo>
                      <a:lnTo>
                        <a:pt x="168" y="51"/>
                      </a:lnTo>
                      <a:lnTo>
                        <a:pt x="163" y="37"/>
                      </a:lnTo>
                      <a:lnTo>
                        <a:pt x="161" y="25"/>
                      </a:lnTo>
                      <a:lnTo>
                        <a:pt x="159" y="14"/>
                      </a:lnTo>
                      <a:lnTo>
                        <a:pt x="160" y="0"/>
                      </a:lnTo>
                      <a:lnTo>
                        <a:pt x="170" y="6"/>
                      </a:lnTo>
                      <a:lnTo>
                        <a:pt x="180" y="13"/>
                      </a:lnTo>
                      <a:lnTo>
                        <a:pt x="189" y="20"/>
                      </a:lnTo>
                      <a:lnTo>
                        <a:pt x="197" y="26"/>
                      </a:lnTo>
                      <a:lnTo>
                        <a:pt x="205" y="36"/>
                      </a:lnTo>
                      <a:lnTo>
                        <a:pt x="212" y="44"/>
                      </a:lnTo>
                      <a:lnTo>
                        <a:pt x="220" y="52"/>
                      </a:lnTo>
                      <a:lnTo>
                        <a:pt x="227" y="61"/>
                      </a:lnTo>
                      <a:lnTo>
                        <a:pt x="238" y="59"/>
                      </a:lnTo>
                      <a:lnTo>
                        <a:pt x="250" y="56"/>
                      </a:lnTo>
                      <a:lnTo>
                        <a:pt x="261" y="53"/>
                      </a:lnTo>
                      <a:lnTo>
                        <a:pt x="273" y="51"/>
                      </a:lnTo>
                      <a:lnTo>
                        <a:pt x="284" y="48"/>
                      </a:lnTo>
                      <a:lnTo>
                        <a:pt x="296" y="45"/>
                      </a:lnTo>
                      <a:lnTo>
                        <a:pt x="307" y="41"/>
                      </a:lnTo>
                      <a:lnTo>
                        <a:pt x="319" y="38"/>
                      </a:lnTo>
                      <a:lnTo>
                        <a:pt x="318" y="43"/>
                      </a:lnTo>
                      <a:lnTo>
                        <a:pt x="317" y="46"/>
                      </a:lnTo>
                      <a:lnTo>
                        <a:pt x="315" y="50"/>
                      </a:lnTo>
                      <a:lnTo>
                        <a:pt x="314" y="53"/>
                      </a:lnTo>
                      <a:lnTo>
                        <a:pt x="328" y="53"/>
                      </a:lnTo>
                      <a:lnTo>
                        <a:pt x="350" y="52"/>
                      </a:lnTo>
                      <a:lnTo>
                        <a:pt x="377" y="52"/>
                      </a:lnTo>
                      <a:lnTo>
                        <a:pt x="405" y="53"/>
                      </a:lnTo>
                      <a:lnTo>
                        <a:pt x="433" y="54"/>
                      </a:lnTo>
                      <a:lnTo>
                        <a:pt x="457" y="58"/>
                      </a:lnTo>
                      <a:lnTo>
                        <a:pt x="473" y="62"/>
                      </a:lnTo>
                      <a:lnTo>
                        <a:pt x="478" y="70"/>
                      </a:lnTo>
                      <a:lnTo>
                        <a:pt x="493" y="66"/>
                      </a:lnTo>
                      <a:lnTo>
                        <a:pt x="511" y="67"/>
                      </a:lnTo>
                      <a:lnTo>
                        <a:pt x="530" y="70"/>
                      </a:lnTo>
                      <a:lnTo>
                        <a:pt x="547" y="77"/>
                      </a:lnTo>
                      <a:lnTo>
                        <a:pt x="561" y="85"/>
                      </a:lnTo>
                      <a:lnTo>
                        <a:pt x="569" y="94"/>
                      </a:lnTo>
                      <a:lnTo>
                        <a:pt x="570" y="103"/>
                      </a:lnTo>
                      <a:lnTo>
                        <a:pt x="562" y="109"/>
                      </a:lnTo>
                      <a:lnTo>
                        <a:pt x="570" y="113"/>
                      </a:lnTo>
                      <a:lnTo>
                        <a:pt x="577" y="115"/>
                      </a:lnTo>
                      <a:lnTo>
                        <a:pt x="585" y="119"/>
                      </a:lnTo>
                      <a:lnTo>
                        <a:pt x="593" y="121"/>
                      </a:lnTo>
                      <a:lnTo>
                        <a:pt x="601" y="124"/>
                      </a:lnTo>
                      <a:lnTo>
                        <a:pt x="609" y="127"/>
                      </a:lnTo>
                      <a:lnTo>
                        <a:pt x="617" y="129"/>
                      </a:lnTo>
                      <a:lnTo>
                        <a:pt x="625" y="131"/>
                      </a:lnTo>
                      <a:lnTo>
                        <a:pt x="624" y="135"/>
                      </a:lnTo>
                      <a:lnTo>
                        <a:pt x="623" y="138"/>
                      </a:lnTo>
                      <a:lnTo>
                        <a:pt x="622" y="143"/>
                      </a:lnTo>
                      <a:lnTo>
                        <a:pt x="621" y="146"/>
                      </a:lnTo>
                      <a:lnTo>
                        <a:pt x="641" y="158"/>
                      </a:lnTo>
                      <a:lnTo>
                        <a:pt x="660" y="172"/>
                      </a:lnTo>
                      <a:lnTo>
                        <a:pt x="679" y="185"/>
                      </a:lnTo>
                      <a:lnTo>
                        <a:pt x="698" y="202"/>
                      </a:lnTo>
                      <a:lnTo>
                        <a:pt x="715" y="217"/>
                      </a:lnTo>
                      <a:lnTo>
                        <a:pt x="732" y="230"/>
                      </a:lnTo>
                      <a:lnTo>
                        <a:pt x="750" y="243"/>
                      </a:lnTo>
                      <a:lnTo>
                        <a:pt x="767" y="253"/>
                      </a:lnTo>
                      <a:lnTo>
                        <a:pt x="767" y="255"/>
                      </a:lnTo>
                      <a:lnTo>
                        <a:pt x="767" y="257"/>
                      </a:lnTo>
                      <a:lnTo>
                        <a:pt x="767" y="258"/>
                      </a:lnTo>
                      <a:lnTo>
                        <a:pt x="767" y="259"/>
                      </a:lnTo>
                      <a:lnTo>
                        <a:pt x="773" y="271"/>
                      </a:lnTo>
                      <a:lnTo>
                        <a:pt x="777" y="283"/>
                      </a:lnTo>
                      <a:lnTo>
                        <a:pt x="780" y="293"/>
                      </a:lnTo>
                      <a:lnTo>
                        <a:pt x="781" y="296"/>
                      </a:lnTo>
                      <a:lnTo>
                        <a:pt x="795" y="303"/>
                      </a:lnTo>
                      <a:lnTo>
                        <a:pt x="812" y="312"/>
                      </a:lnTo>
                      <a:lnTo>
                        <a:pt x="830" y="325"/>
                      </a:lnTo>
                      <a:lnTo>
                        <a:pt x="849" y="338"/>
                      </a:lnTo>
                      <a:lnTo>
                        <a:pt x="866" y="351"/>
                      </a:lnTo>
                      <a:lnTo>
                        <a:pt x="880" y="364"/>
                      </a:lnTo>
                      <a:lnTo>
                        <a:pt x="890" y="377"/>
                      </a:lnTo>
                      <a:lnTo>
                        <a:pt x="893" y="38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8567640" y="4014720"/>
                  <a:ext cx="538200" cy="465120"/>
                </a:xfrm>
                <a:custGeom>
                  <a:avLst/>
                  <a:gdLst/>
                  <a:ahLst/>
                  <a:rect l="l" t="t" r="r" b="b"/>
                  <a:pathLst>
                    <a:path w="501" h="433">
                      <a:moveTo>
                        <a:pt x="501" y="427"/>
                      </a:moveTo>
                      <a:lnTo>
                        <a:pt x="501" y="428"/>
                      </a:lnTo>
                      <a:lnTo>
                        <a:pt x="501" y="431"/>
                      </a:lnTo>
                      <a:lnTo>
                        <a:pt x="501" y="432"/>
                      </a:lnTo>
                      <a:lnTo>
                        <a:pt x="501" y="433"/>
                      </a:lnTo>
                      <a:lnTo>
                        <a:pt x="490" y="426"/>
                      </a:lnTo>
                      <a:lnTo>
                        <a:pt x="478" y="419"/>
                      </a:lnTo>
                      <a:lnTo>
                        <a:pt x="467" y="412"/>
                      </a:lnTo>
                      <a:lnTo>
                        <a:pt x="455" y="407"/>
                      </a:lnTo>
                      <a:lnTo>
                        <a:pt x="442" y="400"/>
                      </a:lnTo>
                      <a:lnTo>
                        <a:pt x="431" y="393"/>
                      </a:lnTo>
                      <a:lnTo>
                        <a:pt x="419" y="387"/>
                      </a:lnTo>
                      <a:lnTo>
                        <a:pt x="408" y="380"/>
                      </a:lnTo>
                      <a:lnTo>
                        <a:pt x="387" y="381"/>
                      </a:lnTo>
                      <a:lnTo>
                        <a:pt x="366" y="374"/>
                      </a:lnTo>
                      <a:lnTo>
                        <a:pt x="346" y="359"/>
                      </a:lnTo>
                      <a:lnTo>
                        <a:pt x="324" y="339"/>
                      </a:lnTo>
                      <a:lnTo>
                        <a:pt x="303" y="313"/>
                      </a:lnTo>
                      <a:lnTo>
                        <a:pt x="281" y="284"/>
                      </a:lnTo>
                      <a:lnTo>
                        <a:pt x="260" y="252"/>
                      </a:lnTo>
                      <a:lnTo>
                        <a:pt x="240" y="220"/>
                      </a:lnTo>
                      <a:lnTo>
                        <a:pt x="219" y="188"/>
                      </a:lnTo>
                      <a:lnTo>
                        <a:pt x="198" y="155"/>
                      </a:lnTo>
                      <a:lnTo>
                        <a:pt x="179" y="127"/>
                      </a:lnTo>
                      <a:lnTo>
                        <a:pt x="159" y="101"/>
                      </a:lnTo>
                      <a:lnTo>
                        <a:pt x="141" y="82"/>
                      </a:lnTo>
                      <a:lnTo>
                        <a:pt x="122" y="67"/>
                      </a:lnTo>
                      <a:lnTo>
                        <a:pt x="105" y="60"/>
                      </a:lnTo>
                      <a:lnTo>
                        <a:pt x="89" y="62"/>
                      </a:lnTo>
                      <a:lnTo>
                        <a:pt x="67" y="59"/>
                      </a:lnTo>
                      <a:lnTo>
                        <a:pt x="47" y="56"/>
                      </a:lnTo>
                      <a:lnTo>
                        <a:pt x="32" y="54"/>
                      </a:lnTo>
                      <a:lnTo>
                        <a:pt x="21" y="51"/>
                      </a:lnTo>
                      <a:lnTo>
                        <a:pt x="12" y="45"/>
                      </a:lnTo>
                      <a:lnTo>
                        <a:pt x="6" y="36"/>
                      </a:lnTo>
                      <a:lnTo>
                        <a:pt x="1" y="22"/>
                      </a:lnTo>
                      <a:lnTo>
                        <a:pt x="0" y="1"/>
                      </a:lnTo>
                      <a:lnTo>
                        <a:pt x="46" y="0"/>
                      </a:lnTo>
                      <a:lnTo>
                        <a:pt x="88" y="2"/>
                      </a:lnTo>
                      <a:lnTo>
                        <a:pt x="126" y="7"/>
                      </a:lnTo>
                      <a:lnTo>
                        <a:pt x="159" y="14"/>
                      </a:lnTo>
                      <a:lnTo>
                        <a:pt x="188" y="23"/>
                      </a:lnTo>
                      <a:lnTo>
                        <a:pt x="214" y="36"/>
                      </a:lnTo>
                      <a:lnTo>
                        <a:pt x="238" y="49"/>
                      </a:lnTo>
                      <a:lnTo>
                        <a:pt x="259" y="67"/>
                      </a:lnTo>
                      <a:lnTo>
                        <a:pt x="279" y="86"/>
                      </a:lnTo>
                      <a:lnTo>
                        <a:pt x="296" y="108"/>
                      </a:lnTo>
                      <a:lnTo>
                        <a:pt x="313" y="131"/>
                      </a:lnTo>
                      <a:lnTo>
                        <a:pt x="328" y="158"/>
                      </a:lnTo>
                      <a:lnTo>
                        <a:pt x="344" y="187"/>
                      </a:lnTo>
                      <a:lnTo>
                        <a:pt x="361" y="218"/>
                      </a:lnTo>
                      <a:lnTo>
                        <a:pt x="377" y="250"/>
                      </a:lnTo>
                      <a:lnTo>
                        <a:pt x="394" y="286"/>
                      </a:lnTo>
                      <a:lnTo>
                        <a:pt x="406" y="298"/>
                      </a:lnTo>
                      <a:lnTo>
                        <a:pt x="421" y="314"/>
                      </a:lnTo>
                      <a:lnTo>
                        <a:pt x="439" y="334"/>
                      </a:lnTo>
                      <a:lnTo>
                        <a:pt x="456" y="355"/>
                      </a:lnTo>
                      <a:lnTo>
                        <a:pt x="473" y="375"/>
                      </a:lnTo>
                      <a:lnTo>
                        <a:pt x="487" y="395"/>
                      </a:lnTo>
                      <a:lnTo>
                        <a:pt x="498" y="413"/>
                      </a:lnTo>
                      <a:lnTo>
                        <a:pt x="501" y="4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115040" y="3672000"/>
                  <a:ext cx="1003320" cy="839520"/>
                </a:xfrm>
                <a:custGeom>
                  <a:avLst/>
                  <a:gdLst/>
                  <a:ahLst/>
                  <a:rect l="l" t="t" r="r" b="b"/>
                  <a:pathLst>
                    <a:path w="939" h="783">
                      <a:moveTo>
                        <a:pt x="257" y="134"/>
                      </a:moveTo>
                      <a:lnTo>
                        <a:pt x="244" y="128"/>
                      </a:lnTo>
                      <a:lnTo>
                        <a:pt x="231" y="120"/>
                      </a:lnTo>
                      <a:lnTo>
                        <a:pt x="219" y="113"/>
                      </a:lnTo>
                      <a:lnTo>
                        <a:pt x="206" y="105"/>
                      </a:lnTo>
                      <a:lnTo>
                        <a:pt x="193" y="96"/>
                      </a:lnTo>
                      <a:lnTo>
                        <a:pt x="182" y="88"/>
                      </a:lnTo>
                      <a:lnTo>
                        <a:pt x="169" y="81"/>
                      </a:lnTo>
                      <a:lnTo>
                        <a:pt x="157" y="73"/>
                      </a:lnTo>
                      <a:lnTo>
                        <a:pt x="136" y="53"/>
                      </a:lnTo>
                      <a:lnTo>
                        <a:pt x="115" y="37"/>
                      </a:lnTo>
                      <a:lnTo>
                        <a:pt x="95" y="24"/>
                      </a:lnTo>
                      <a:lnTo>
                        <a:pt x="76" y="14"/>
                      </a:lnTo>
                      <a:lnTo>
                        <a:pt x="56" y="8"/>
                      </a:lnTo>
                      <a:lnTo>
                        <a:pt x="38" y="3"/>
                      </a:lnTo>
                      <a:lnTo>
                        <a:pt x="18" y="1"/>
                      </a:lnTo>
                      <a:lnTo>
                        <a:pt x="0" y="0"/>
                      </a:lnTo>
                      <a:lnTo>
                        <a:pt x="819" y="783"/>
                      </a:lnTo>
                      <a:lnTo>
                        <a:pt x="828" y="783"/>
                      </a:lnTo>
                      <a:lnTo>
                        <a:pt x="837" y="783"/>
                      </a:lnTo>
                      <a:lnTo>
                        <a:pt x="847" y="781"/>
                      </a:lnTo>
                      <a:lnTo>
                        <a:pt x="857" y="778"/>
                      </a:lnTo>
                      <a:lnTo>
                        <a:pt x="866" y="776"/>
                      </a:lnTo>
                      <a:lnTo>
                        <a:pt x="877" y="772"/>
                      </a:lnTo>
                      <a:lnTo>
                        <a:pt x="887" y="766"/>
                      </a:lnTo>
                      <a:lnTo>
                        <a:pt x="898" y="760"/>
                      </a:lnTo>
                      <a:lnTo>
                        <a:pt x="900" y="761"/>
                      </a:lnTo>
                      <a:lnTo>
                        <a:pt x="900" y="763"/>
                      </a:lnTo>
                      <a:lnTo>
                        <a:pt x="900" y="767"/>
                      </a:lnTo>
                      <a:lnTo>
                        <a:pt x="900" y="769"/>
                      </a:lnTo>
                      <a:lnTo>
                        <a:pt x="905" y="767"/>
                      </a:lnTo>
                      <a:lnTo>
                        <a:pt x="910" y="765"/>
                      </a:lnTo>
                      <a:lnTo>
                        <a:pt x="916" y="762"/>
                      </a:lnTo>
                      <a:lnTo>
                        <a:pt x="920" y="760"/>
                      </a:lnTo>
                      <a:lnTo>
                        <a:pt x="925" y="758"/>
                      </a:lnTo>
                      <a:lnTo>
                        <a:pt x="930" y="755"/>
                      </a:lnTo>
                      <a:lnTo>
                        <a:pt x="934" y="753"/>
                      </a:lnTo>
                      <a:lnTo>
                        <a:pt x="939" y="751"/>
                      </a:lnTo>
                      <a:lnTo>
                        <a:pt x="465" y="298"/>
                      </a:lnTo>
                      <a:lnTo>
                        <a:pt x="446" y="290"/>
                      </a:lnTo>
                      <a:lnTo>
                        <a:pt x="427" y="282"/>
                      </a:lnTo>
                      <a:lnTo>
                        <a:pt x="409" y="273"/>
                      </a:lnTo>
                      <a:lnTo>
                        <a:pt x="390" y="263"/>
                      </a:lnTo>
                      <a:lnTo>
                        <a:pt x="373" y="254"/>
                      </a:lnTo>
                      <a:lnTo>
                        <a:pt x="357" y="245"/>
                      </a:lnTo>
                      <a:lnTo>
                        <a:pt x="341" y="235"/>
                      </a:lnTo>
                      <a:lnTo>
                        <a:pt x="327" y="224"/>
                      </a:lnTo>
                      <a:lnTo>
                        <a:pt x="313" y="214"/>
                      </a:lnTo>
                      <a:lnTo>
                        <a:pt x="301" y="204"/>
                      </a:lnTo>
                      <a:lnTo>
                        <a:pt x="289" y="192"/>
                      </a:lnTo>
                      <a:lnTo>
                        <a:pt x="280" y="182"/>
                      </a:lnTo>
                      <a:lnTo>
                        <a:pt x="272" y="170"/>
                      </a:lnTo>
                      <a:lnTo>
                        <a:pt x="265" y="159"/>
                      </a:lnTo>
                      <a:lnTo>
                        <a:pt x="260" y="146"/>
                      </a:lnTo>
                      <a:lnTo>
                        <a:pt x="257" y="13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8583480" y="4923000"/>
                  <a:ext cx="74880" cy="210960"/>
                </a:xfrm>
                <a:custGeom>
                  <a:avLst/>
                  <a:gdLst/>
                  <a:ahLst/>
                  <a:rect l="l" t="t" r="r" b="b"/>
                  <a:pathLst>
                    <a:path w="70" h="195">
                      <a:moveTo>
                        <a:pt x="9" y="155"/>
                      </a:moveTo>
                      <a:lnTo>
                        <a:pt x="51" y="195"/>
                      </a:lnTo>
                      <a:lnTo>
                        <a:pt x="57" y="163"/>
                      </a:lnTo>
                      <a:lnTo>
                        <a:pt x="62" y="131"/>
                      </a:lnTo>
                      <a:lnTo>
                        <a:pt x="67" y="99"/>
                      </a:lnTo>
                      <a:lnTo>
                        <a:pt x="70" y="66"/>
                      </a:lnTo>
                      <a:lnTo>
                        <a:pt x="0" y="0"/>
                      </a:lnTo>
                      <a:lnTo>
                        <a:pt x="2" y="36"/>
                      </a:lnTo>
                      <a:lnTo>
                        <a:pt x="7" y="75"/>
                      </a:lnTo>
                      <a:lnTo>
                        <a:pt x="9" y="114"/>
                      </a:lnTo>
                      <a:lnTo>
                        <a:pt x="9" y="15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583480" y="4903920"/>
                  <a:ext cx="76320" cy="90360"/>
                </a:xfrm>
                <a:custGeom>
                  <a:avLst/>
                  <a:gdLst/>
                  <a:ahLst/>
                  <a:rect l="l" t="t" r="r" b="b"/>
                  <a:pathLst>
                    <a:path w="72" h="84">
                      <a:moveTo>
                        <a:pt x="0" y="18"/>
                      </a:moveTo>
                      <a:lnTo>
                        <a:pt x="70" y="84"/>
                      </a:lnTo>
                      <a:lnTo>
                        <a:pt x="71" y="81"/>
                      </a:lnTo>
                      <a:lnTo>
                        <a:pt x="71" y="78"/>
                      </a:lnTo>
                      <a:lnTo>
                        <a:pt x="71" y="74"/>
                      </a:lnTo>
                      <a:lnTo>
                        <a:pt x="72" y="69"/>
                      </a:lnTo>
                      <a:lnTo>
                        <a:pt x="0" y="0"/>
                      </a:lnTo>
                      <a:lnTo>
                        <a:pt x="0" y="5"/>
                      </a:lnTo>
                      <a:lnTo>
                        <a:pt x="0" y="8"/>
                      </a:lnTo>
                      <a:lnTo>
                        <a:pt x="0"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164" name=""/>
                <p:cNvSpPr/>
                <p:nvPr/>
              </p:nvSpPr>
              <p:spPr>
                <a:xfrm>
                  <a:off x="7613640" y="3994200"/>
                  <a:ext cx="517680" cy="484200"/>
                </a:xfrm>
                <a:custGeom>
                  <a:avLst/>
                  <a:gdLst/>
                  <a:ahLst/>
                  <a:rect l="l" t="t" r="r" b="b"/>
                  <a:pathLst>
                    <a:path w="484" h="453">
                      <a:moveTo>
                        <a:pt x="0" y="0"/>
                      </a:moveTo>
                      <a:lnTo>
                        <a:pt x="474" y="453"/>
                      </a:lnTo>
                      <a:lnTo>
                        <a:pt x="476" y="452"/>
                      </a:lnTo>
                      <a:lnTo>
                        <a:pt x="479" y="450"/>
                      </a:lnTo>
                      <a:lnTo>
                        <a:pt x="482" y="448"/>
                      </a:lnTo>
                      <a:lnTo>
                        <a:pt x="484" y="447"/>
                      </a:lnTo>
                      <a:lnTo>
                        <a:pt x="30" y="12"/>
                      </a:lnTo>
                      <a:lnTo>
                        <a:pt x="22" y="9"/>
                      </a:lnTo>
                      <a:lnTo>
                        <a:pt x="15" y="6"/>
                      </a:lnTo>
                      <a:lnTo>
                        <a:pt x="8"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8583480" y="4886280"/>
                  <a:ext cx="79560" cy="92160"/>
                </a:xfrm>
                <a:custGeom>
                  <a:avLst/>
                  <a:gdLst/>
                  <a:ahLst/>
                  <a:rect l="l" t="t" r="r" b="b"/>
                  <a:pathLst>
                    <a:path w="74" h="85">
                      <a:moveTo>
                        <a:pt x="1" y="0"/>
                      </a:moveTo>
                      <a:lnTo>
                        <a:pt x="0" y="5"/>
                      </a:lnTo>
                      <a:lnTo>
                        <a:pt x="0" y="8"/>
                      </a:lnTo>
                      <a:lnTo>
                        <a:pt x="0" y="12"/>
                      </a:lnTo>
                      <a:lnTo>
                        <a:pt x="0" y="16"/>
                      </a:lnTo>
                      <a:lnTo>
                        <a:pt x="72" y="85"/>
                      </a:lnTo>
                      <a:lnTo>
                        <a:pt x="72" y="82"/>
                      </a:lnTo>
                      <a:lnTo>
                        <a:pt x="74" y="77"/>
                      </a:lnTo>
                      <a:lnTo>
                        <a:pt x="74" y="74"/>
                      </a:lnTo>
                      <a:lnTo>
                        <a:pt x="74" y="70"/>
                      </a:lnTo>
                      <a:lnTo>
                        <a:pt x="1"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66" name=""/>
                <p:cNvSpPr/>
                <p:nvPr/>
              </p:nvSpPr>
              <p:spPr>
                <a:xfrm>
                  <a:off x="7645320" y="4005360"/>
                  <a:ext cx="498600" cy="466560"/>
                </a:xfrm>
                <a:custGeom>
                  <a:avLst/>
                  <a:gdLst/>
                  <a:ahLst/>
                  <a:rect l="l" t="t" r="r" b="b"/>
                  <a:pathLst>
                    <a:path w="467" h="435">
                      <a:moveTo>
                        <a:pt x="0" y="0"/>
                      </a:moveTo>
                      <a:lnTo>
                        <a:pt x="454" y="435"/>
                      </a:lnTo>
                      <a:lnTo>
                        <a:pt x="458" y="434"/>
                      </a:lnTo>
                      <a:lnTo>
                        <a:pt x="461" y="433"/>
                      </a:lnTo>
                      <a:lnTo>
                        <a:pt x="463" y="430"/>
                      </a:lnTo>
                      <a:lnTo>
                        <a:pt x="467" y="429"/>
                      </a:lnTo>
                      <a:lnTo>
                        <a:pt x="28" y="10"/>
                      </a:lnTo>
                      <a:lnTo>
                        <a:pt x="21" y="8"/>
                      </a:lnTo>
                      <a:lnTo>
                        <a:pt x="14" y="4"/>
                      </a:lnTo>
                      <a:lnTo>
                        <a:pt x="7"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7674120" y="4014720"/>
                  <a:ext cx="484200" cy="451080"/>
                </a:xfrm>
                <a:custGeom>
                  <a:avLst/>
                  <a:gdLst/>
                  <a:ahLst/>
                  <a:rect l="l" t="t" r="r" b="b"/>
                  <a:pathLst>
                    <a:path w="450" h="419">
                      <a:moveTo>
                        <a:pt x="0" y="0"/>
                      </a:moveTo>
                      <a:lnTo>
                        <a:pt x="439" y="419"/>
                      </a:lnTo>
                      <a:lnTo>
                        <a:pt x="441" y="418"/>
                      </a:lnTo>
                      <a:lnTo>
                        <a:pt x="445" y="417"/>
                      </a:lnTo>
                      <a:lnTo>
                        <a:pt x="447" y="415"/>
                      </a:lnTo>
                      <a:lnTo>
                        <a:pt x="450" y="413"/>
                      </a:lnTo>
                      <a:lnTo>
                        <a:pt x="28" y="8"/>
                      </a:lnTo>
                      <a:lnTo>
                        <a:pt x="21" y="6"/>
                      </a:lnTo>
                      <a:lnTo>
                        <a:pt x="14" y="3"/>
                      </a:lnTo>
                      <a:lnTo>
                        <a:pt x="7"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585280" y="4871880"/>
                  <a:ext cx="79200" cy="90720"/>
                </a:xfrm>
                <a:custGeom>
                  <a:avLst/>
                  <a:gdLst/>
                  <a:ahLst/>
                  <a:rect l="l" t="t" r="r" b="b"/>
                  <a:pathLst>
                    <a:path w="75" h="85">
                      <a:moveTo>
                        <a:pt x="75" y="71"/>
                      </a:moveTo>
                      <a:lnTo>
                        <a:pt x="2" y="0"/>
                      </a:lnTo>
                      <a:lnTo>
                        <a:pt x="1" y="5"/>
                      </a:lnTo>
                      <a:lnTo>
                        <a:pt x="1" y="8"/>
                      </a:lnTo>
                      <a:lnTo>
                        <a:pt x="0" y="12"/>
                      </a:lnTo>
                      <a:lnTo>
                        <a:pt x="0" y="15"/>
                      </a:lnTo>
                      <a:lnTo>
                        <a:pt x="73" y="85"/>
                      </a:lnTo>
                      <a:lnTo>
                        <a:pt x="74" y="82"/>
                      </a:lnTo>
                      <a:lnTo>
                        <a:pt x="74" y="77"/>
                      </a:lnTo>
                      <a:lnTo>
                        <a:pt x="75" y="74"/>
                      </a:lnTo>
                      <a:lnTo>
                        <a:pt x="75" y="7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69" name=""/>
                <p:cNvSpPr/>
                <p:nvPr/>
              </p:nvSpPr>
              <p:spPr>
                <a:xfrm>
                  <a:off x="7704000" y="4025880"/>
                  <a:ext cx="463680" cy="433440"/>
                </a:xfrm>
                <a:custGeom>
                  <a:avLst/>
                  <a:gdLst/>
                  <a:ahLst/>
                  <a:rect l="l" t="t" r="r" b="b"/>
                  <a:pathLst>
                    <a:path w="433" h="405">
                      <a:moveTo>
                        <a:pt x="0" y="0"/>
                      </a:moveTo>
                      <a:lnTo>
                        <a:pt x="422" y="405"/>
                      </a:lnTo>
                      <a:lnTo>
                        <a:pt x="425" y="404"/>
                      </a:lnTo>
                      <a:lnTo>
                        <a:pt x="428" y="403"/>
                      </a:lnTo>
                      <a:lnTo>
                        <a:pt x="430" y="401"/>
                      </a:lnTo>
                      <a:lnTo>
                        <a:pt x="433" y="400"/>
                      </a:lnTo>
                      <a:lnTo>
                        <a:pt x="26" y="8"/>
                      </a:lnTo>
                      <a:lnTo>
                        <a:pt x="19" y="6"/>
                      </a:lnTo>
                      <a:lnTo>
                        <a:pt x="13" y="5"/>
                      </a:lnTo>
                      <a:lnTo>
                        <a:pt x="6"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8574120" y="4842000"/>
                  <a:ext cx="4680" cy="4680"/>
                </a:xfrm>
                <a:custGeom>
                  <a:avLst/>
                  <a:gdLst/>
                  <a:ahLst/>
                  <a:rect l="l" t="t" r="r" b="b"/>
                  <a:pathLst>
                    <a:path w="4" h="3">
                      <a:moveTo>
                        <a:pt x="2" y="2"/>
                      </a:moveTo>
                      <a:lnTo>
                        <a:pt x="2" y="3"/>
                      </a:lnTo>
                      <a:lnTo>
                        <a:pt x="3" y="3"/>
                      </a:lnTo>
                      <a:lnTo>
                        <a:pt x="3" y="3"/>
                      </a:lnTo>
                      <a:lnTo>
                        <a:pt x="4" y="3"/>
                      </a:lnTo>
                      <a:lnTo>
                        <a:pt x="0" y="0"/>
                      </a:lnTo>
                      <a:lnTo>
                        <a:pt x="1" y="1"/>
                      </a:lnTo>
                      <a:lnTo>
                        <a:pt x="1" y="1"/>
                      </a:lnTo>
                      <a:lnTo>
                        <a:pt x="1" y="2"/>
                      </a:lnTo>
                      <a:lnTo>
                        <a:pt x="2" y="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1" name=""/>
                <p:cNvSpPr/>
                <p:nvPr/>
              </p:nvSpPr>
              <p:spPr>
                <a:xfrm>
                  <a:off x="8586720" y="4857840"/>
                  <a:ext cx="79560" cy="88920"/>
                </a:xfrm>
                <a:custGeom>
                  <a:avLst/>
                  <a:gdLst/>
                  <a:ahLst/>
                  <a:rect l="l" t="t" r="r" b="b"/>
                  <a:pathLst>
                    <a:path w="75" h="85">
                      <a:moveTo>
                        <a:pt x="75" y="70"/>
                      </a:moveTo>
                      <a:lnTo>
                        <a:pt x="3" y="0"/>
                      </a:lnTo>
                      <a:lnTo>
                        <a:pt x="1" y="4"/>
                      </a:lnTo>
                      <a:lnTo>
                        <a:pt x="1" y="7"/>
                      </a:lnTo>
                      <a:lnTo>
                        <a:pt x="0" y="11"/>
                      </a:lnTo>
                      <a:lnTo>
                        <a:pt x="0" y="14"/>
                      </a:lnTo>
                      <a:lnTo>
                        <a:pt x="73" y="85"/>
                      </a:lnTo>
                      <a:lnTo>
                        <a:pt x="74" y="81"/>
                      </a:lnTo>
                      <a:lnTo>
                        <a:pt x="74" y="78"/>
                      </a:lnTo>
                      <a:lnTo>
                        <a:pt x="74" y="74"/>
                      </a:lnTo>
                      <a:lnTo>
                        <a:pt x="75" y="7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172" name=""/>
                <p:cNvSpPr/>
                <p:nvPr/>
              </p:nvSpPr>
              <p:spPr>
                <a:xfrm>
                  <a:off x="7734240" y="4033800"/>
                  <a:ext cx="446040" cy="417600"/>
                </a:xfrm>
                <a:custGeom>
                  <a:avLst/>
                  <a:gdLst/>
                  <a:ahLst/>
                  <a:rect l="l" t="t" r="r" b="b"/>
                  <a:pathLst>
                    <a:path w="418" h="392">
                      <a:moveTo>
                        <a:pt x="0" y="0"/>
                      </a:moveTo>
                      <a:lnTo>
                        <a:pt x="407" y="392"/>
                      </a:lnTo>
                      <a:lnTo>
                        <a:pt x="410" y="389"/>
                      </a:lnTo>
                      <a:lnTo>
                        <a:pt x="412" y="388"/>
                      </a:lnTo>
                      <a:lnTo>
                        <a:pt x="416" y="386"/>
                      </a:lnTo>
                      <a:lnTo>
                        <a:pt x="418" y="385"/>
                      </a:lnTo>
                      <a:lnTo>
                        <a:pt x="24" y="8"/>
                      </a:lnTo>
                      <a:lnTo>
                        <a:pt x="18" y="6"/>
                      </a:lnTo>
                      <a:lnTo>
                        <a:pt x="13" y="5"/>
                      </a:lnTo>
                      <a:lnTo>
                        <a:pt x="6"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8553600" y="4803840"/>
                  <a:ext cx="115560" cy="125280"/>
                </a:xfrm>
                <a:custGeom>
                  <a:avLst/>
                  <a:gdLst/>
                  <a:ahLst/>
                  <a:rect l="l" t="t" r="r" b="b"/>
                  <a:pathLst>
                    <a:path w="108" h="119">
                      <a:moveTo>
                        <a:pt x="108" y="105"/>
                      </a:moveTo>
                      <a:lnTo>
                        <a:pt x="0" y="0"/>
                      </a:lnTo>
                      <a:lnTo>
                        <a:pt x="5" y="9"/>
                      </a:lnTo>
                      <a:lnTo>
                        <a:pt x="11" y="18"/>
                      </a:lnTo>
                      <a:lnTo>
                        <a:pt x="15" y="28"/>
                      </a:lnTo>
                      <a:lnTo>
                        <a:pt x="20" y="37"/>
                      </a:lnTo>
                      <a:lnTo>
                        <a:pt x="24" y="40"/>
                      </a:lnTo>
                      <a:lnTo>
                        <a:pt x="28" y="41"/>
                      </a:lnTo>
                      <a:lnTo>
                        <a:pt x="30" y="41"/>
                      </a:lnTo>
                      <a:lnTo>
                        <a:pt x="34" y="43"/>
                      </a:lnTo>
                      <a:lnTo>
                        <a:pt x="36" y="44"/>
                      </a:lnTo>
                      <a:lnTo>
                        <a:pt x="35" y="45"/>
                      </a:lnTo>
                      <a:lnTo>
                        <a:pt x="35" y="47"/>
                      </a:lnTo>
                      <a:lnTo>
                        <a:pt x="35" y="48"/>
                      </a:lnTo>
                      <a:lnTo>
                        <a:pt x="34" y="49"/>
                      </a:lnTo>
                      <a:lnTo>
                        <a:pt x="106" y="119"/>
                      </a:lnTo>
                      <a:lnTo>
                        <a:pt x="107" y="115"/>
                      </a:lnTo>
                      <a:lnTo>
                        <a:pt x="107" y="112"/>
                      </a:lnTo>
                      <a:lnTo>
                        <a:pt x="107" y="108"/>
                      </a:lnTo>
                      <a:lnTo>
                        <a:pt x="108" y="10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7759800" y="4043520"/>
                  <a:ext cx="431640" cy="401400"/>
                </a:xfrm>
                <a:custGeom>
                  <a:avLst/>
                  <a:gdLst/>
                  <a:ahLst/>
                  <a:rect l="l" t="t" r="r" b="b"/>
                  <a:pathLst>
                    <a:path w="405" h="377">
                      <a:moveTo>
                        <a:pt x="0" y="0"/>
                      </a:moveTo>
                      <a:lnTo>
                        <a:pt x="394" y="377"/>
                      </a:lnTo>
                      <a:lnTo>
                        <a:pt x="396" y="375"/>
                      </a:lnTo>
                      <a:lnTo>
                        <a:pt x="400" y="373"/>
                      </a:lnTo>
                      <a:lnTo>
                        <a:pt x="402" y="371"/>
                      </a:lnTo>
                      <a:lnTo>
                        <a:pt x="405" y="370"/>
                      </a:lnTo>
                      <a:lnTo>
                        <a:pt x="26" y="6"/>
                      </a:lnTo>
                      <a:lnTo>
                        <a:pt x="20" y="5"/>
                      </a:lnTo>
                      <a:lnTo>
                        <a:pt x="13" y="4"/>
                      </a:lnTo>
                      <a:lnTo>
                        <a:pt x="7"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8523360" y="4757760"/>
                  <a:ext cx="149040" cy="157320"/>
                </a:xfrm>
                <a:custGeom>
                  <a:avLst/>
                  <a:gdLst/>
                  <a:ahLst/>
                  <a:rect l="l" t="t" r="r" b="b"/>
                  <a:pathLst>
                    <a:path w="139" h="148">
                      <a:moveTo>
                        <a:pt x="139" y="133"/>
                      </a:moveTo>
                      <a:lnTo>
                        <a:pt x="0" y="0"/>
                      </a:lnTo>
                      <a:lnTo>
                        <a:pt x="6" y="11"/>
                      </a:lnTo>
                      <a:lnTo>
                        <a:pt x="13" y="21"/>
                      </a:lnTo>
                      <a:lnTo>
                        <a:pt x="20" y="31"/>
                      </a:lnTo>
                      <a:lnTo>
                        <a:pt x="27" y="43"/>
                      </a:lnTo>
                      <a:lnTo>
                        <a:pt x="135" y="148"/>
                      </a:lnTo>
                      <a:lnTo>
                        <a:pt x="137" y="144"/>
                      </a:lnTo>
                      <a:lnTo>
                        <a:pt x="138" y="140"/>
                      </a:lnTo>
                      <a:lnTo>
                        <a:pt x="138" y="136"/>
                      </a:lnTo>
                      <a:lnTo>
                        <a:pt x="139" y="13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7785000" y="4046400"/>
                  <a:ext cx="414360" cy="390600"/>
                </a:xfrm>
                <a:custGeom>
                  <a:avLst/>
                  <a:gdLst/>
                  <a:ahLst/>
                  <a:rect l="l" t="t" r="r" b="b"/>
                  <a:pathLst>
                    <a:path w="388" h="364">
                      <a:moveTo>
                        <a:pt x="0" y="0"/>
                      </a:moveTo>
                      <a:lnTo>
                        <a:pt x="379" y="364"/>
                      </a:lnTo>
                      <a:lnTo>
                        <a:pt x="381" y="362"/>
                      </a:lnTo>
                      <a:lnTo>
                        <a:pt x="383" y="359"/>
                      </a:lnTo>
                      <a:lnTo>
                        <a:pt x="385" y="358"/>
                      </a:lnTo>
                      <a:lnTo>
                        <a:pt x="388" y="356"/>
                      </a:lnTo>
                      <a:lnTo>
                        <a:pt x="23" y="6"/>
                      </a:lnTo>
                      <a:lnTo>
                        <a:pt x="17" y="5"/>
                      </a:lnTo>
                      <a:lnTo>
                        <a:pt x="11" y="3"/>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8480520" y="4695840"/>
                  <a:ext cx="195120" cy="203040"/>
                </a:xfrm>
                <a:custGeom>
                  <a:avLst/>
                  <a:gdLst/>
                  <a:ahLst/>
                  <a:rect l="l" t="t" r="r" b="b"/>
                  <a:pathLst>
                    <a:path w="183" h="189">
                      <a:moveTo>
                        <a:pt x="183" y="175"/>
                      </a:moveTo>
                      <a:lnTo>
                        <a:pt x="0" y="0"/>
                      </a:lnTo>
                      <a:lnTo>
                        <a:pt x="6" y="7"/>
                      </a:lnTo>
                      <a:lnTo>
                        <a:pt x="10" y="14"/>
                      </a:lnTo>
                      <a:lnTo>
                        <a:pt x="16" y="21"/>
                      </a:lnTo>
                      <a:lnTo>
                        <a:pt x="21" y="27"/>
                      </a:lnTo>
                      <a:lnTo>
                        <a:pt x="27" y="34"/>
                      </a:lnTo>
                      <a:lnTo>
                        <a:pt x="31" y="41"/>
                      </a:lnTo>
                      <a:lnTo>
                        <a:pt x="37" y="49"/>
                      </a:lnTo>
                      <a:lnTo>
                        <a:pt x="42" y="56"/>
                      </a:lnTo>
                      <a:lnTo>
                        <a:pt x="181" y="189"/>
                      </a:lnTo>
                      <a:lnTo>
                        <a:pt x="181" y="185"/>
                      </a:lnTo>
                      <a:lnTo>
                        <a:pt x="182" y="182"/>
                      </a:lnTo>
                      <a:lnTo>
                        <a:pt x="182" y="178"/>
                      </a:lnTo>
                      <a:lnTo>
                        <a:pt x="183" y="17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810560" y="4054320"/>
                  <a:ext cx="398520" cy="374760"/>
                </a:xfrm>
                <a:custGeom>
                  <a:avLst/>
                  <a:gdLst/>
                  <a:ahLst/>
                  <a:rect l="l" t="t" r="r" b="b"/>
                  <a:pathLst>
                    <a:path w="372" h="350">
                      <a:moveTo>
                        <a:pt x="0" y="0"/>
                      </a:moveTo>
                      <a:lnTo>
                        <a:pt x="365" y="350"/>
                      </a:lnTo>
                      <a:lnTo>
                        <a:pt x="367" y="348"/>
                      </a:lnTo>
                      <a:lnTo>
                        <a:pt x="368" y="345"/>
                      </a:lnTo>
                      <a:lnTo>
                        <a:pt x="371" y="343"/>
                      </a:lnTo>
                      <a:lnTo>
                        <a:pt x="372" y="341"/>
                      </a:lnTo>
                      <a:lnTo>
                        <a:pt x="23" y="4"/>
                      </a:lnTo>
                      <a:lnTo>
                        <a:pt x="17" y="3"/>
                      </a:lnTo>
                      <a:lnTo>
                        <a:pt x="11" y="2"/>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8410680" y="4610160"/>
                  <a:ext cx="268200" cy="274680"/>
                </a:xfrm>
                <a:custGeom>
                  <a:avLst/>
                  <a:gdLst/>
                  <a:ahLst/>
                  <a:rect l="l" t="t" r="r" b="b"/>
                  <a:pathLst>
                    <a:path w="253" h="256">
                      <a:moveTo>
                        <a:pt x="253" y="242"/>
                      </a:moveTo>
                      <a:lnTo>
                        <a:pt x="0" y="0"/>
                      </a:lnTo>
                      <a:lnTo>
                        <a:pt x="8" y="11"/>
                      </a:lnTo>
                      <a:lnTo>
                        <a:pt x="18" y="21"/>
                      </a:lnTo>
                      <a:lnTo>
                        <a:pt x="26" y="30"/>
                      </a:lnTo>
                      <a:lnTo>
                        <a:pt x="34" y="41"/>
                      </a:lnTo>
                      <a:lnTo>
                        <a:pt x="42" y="51"/>
                      </a:lnTo>
                      <a:lnTo>
                        <a:pt x="50" y="60"/>
                      </a:lnTo>
                      <a:lnTo>
                        <a:pt x="58" y="70"/>
                      </a:lnTo>
                      <a:lnTo>
                        <a:pt x="66" y="81"/>
                      </a:lnTo>
                      <a:lnTo>
                        <a:pt x="249" y="256"/>
                      </a:lnTo>
                      <a:lnTo>
                        <a:pt x="250" y="252"/>
                      </a:lnTo>
                      <a:lnTo>
                        <a:pt x="252" y="249"/>
                      </a:lnTo>
                      <a:lnTo>
                        <a:pt x="252" y="246"/>
                      </a:lnTo>
                      <a:lnTo>
                        <a:pt x="253" y="24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7834320" y="4060800"/>
                  <a:ext cx="380880" cy="358920"/>
                </a:xfrm>
                <a:custGeom>
                  <a:avLst/>
                  <a:gdLst/>
                  <a:ahLst/>
                  <a:rect l="l" t="t" r="r" b="b"/>
                  <a:pathLst>
                    <a:path w="356" h="337">
                      <a:moveTo>
                        <a:pt x="0" y="0"/>
                      </a:moveTo>
                      <a:lnTo>
                        <a:pt x="349" y="337"/>
                      </a:lnTo>
                      <a:lnTo>
                        <a:pt x="351" y="334"/>
                      </a:lnTo>
                      <a:lnTo>
                        <a:pt x="352" y="331"/>
                      </a:lnTo>
                      <a:lnTo>
                        <a:pt x="354" y="329"/>
                      </a:lnTo>
                      <a:lnTo>
                        <a:pt x="356" y="325"/>
                      </a:lnTo>
                      <a:lnTo>
                        <a:pt x="22" y="5"/>
                      </a:lnTo>
                      <a:lnTo>
                        <a:pt x="16" y="4"/>
                      </a:lnTo>
                      <a:lnTo>
                        <a:pt x="11" y="3"/>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377200" y="4565520"/>
                  <a:ext cx="306360" cy="304920"/>
                </a:xfrm>
                <a:custGeom>
                  <a:avLst/>
                  <a:gdLst/>
                  <a:ahLst/>
                  <a:rect l="l" t="t" r="r" b="b"/>
                  <a:pathLst>
                    <a:path w="284" h="284">
                      <a:moveTo>
                        <a:pt x="284" y="270"/>
                      </a:moveTo>
                      <a:lnTo>
                        <a:pt x="1" y="0"/>
                      </a:lnTo>
                      <a:lnTo>
                        <a:pt x="1" y="2"/>
                      </a:lnTo>
                      <a:lnTo>
                        <a:pt x="1" y="4"/>
                      </a:lnTo>
                      <a:lnTo>
                        <a:pt x="1" y="8"/>
                      </a:lnTo>
                      <a:lnTo>
                        <a:pt x="0" y="10"/>
                      </a:lnTo>
                      <a:lnTo>
                        <a:pt x="8" y="18"/>
                      </a:lnTo>
                      <a:lnTo>
                        <a:pt x="15" y="26"/>
                      </a:lnTo>
                      <a:lnTo>
                        <a:pt x="22" y="34"/>
                      </a:lnTo>
                      <a:lnTo>
                        <a:pt x="28" y="42"/>
                      </a:lnTo>
                      <a:lnTo>
                        <a:pt x="281" y="284"/>
                      </a:lnTo>
                      <a:lnTo>
                        <a:pt x="282" y="281"/>
                      </a:lnTo>
                      <a:lnTo>
                        <a:pt x="283" y="277"/>
                      </a:lnTo>
                      <a:lnTo>
                        <a:pt x="283" y="274"/>
                      </a:lnTo>
                      <a:lnTo>
                        <a:pt x="284" y="27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8256600" y="4429080"/>
                  <a:ext cx="114120" cy="112680"/>
                </a:xfrm>
                <a:custGeom>
                  <a:avLst/>
                  <a:gdLst/>
                  <a:ahLst/>
                  <a:rect l="l" t="t" r="r" b="b"/>
                  <a:pathLst>
                    <a:path w="110" h="107">
                      <a:moveTo>
                        <a:pt x="108" y="107"/>
                      </a:moveTo>
                      <a:lnTo>
                        <a:pt x="109" y="106"/>
                      </a:lnTo>
                      <a:lnTo>
                        <a:pt x="109" y="105"/>
                      </a:lnTo>
                      <a:lnTo>
                        <a:pt x="109" y="105"/>
                      </a:lnTo>
                      <a:lnTo>
                        <a:pt x="110" y="103"/>
                      </a:lnTo>
                      <a:lnTo>
                        <a:pt x="0" y="0"/>
                      </a:lnTo>
                      <a:lnTo>
                        <a:pt x="13" y="15"/>
                      </a:lnTo>
                      <a:lnTo>
                        <a:pt x="26" y="28"/>
                      </a:lnTo>
                      <a:lnTo>
                        <a:pt x="38" y="43"/>
                      </a:lnTo>
                      <a:lnTo>
                        <a:pt x="51" y="57"/>
                      </a:lnTo>
                      <a:lnTo>
                        <a:pt x="65" y="71"/>
                      </a:lnTo>
                      <a:lnTo>
                        <a:pt x="79" y="84"/>
                      </a:lnTo>
                      <a:lnTo>
                        <a:pt x="93" y="96"/>
                      </a:lnTo>
                      <a:lnTo>
                        <a:pt x="108" y="10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858080" y="4064040"/>
                  <a:ext cx="362160" cy="342720"/>
                </a:xfrm>
                <a:custGeom>
                  <a:avLst/>
                  <a:gdLst/>
                  <a:ahLst/>
                  <a:rect l="l" t="t" r="r" b="b"/>
                  <a:pathLst>
                    <a:path w="337" h="320">
                      <a:moveTo>
                        <a:pt x="0" y="0"/>
                      </a:moveTo>
                      <a:lnTo>
                        <a:pt x="334" y="320"/>
                      </a:lnTo>
                      <a:lnTo>
                        <a:pt x="335" y="318"/>
                      </a:lnTo>
                      <a:lnTo>
                        <a:pt x="336" y="314"/>
                      </a:lnTo>
                      <a:lnTo>
                        <a:pt x="336" y="311"/>
                      </a:lnTo>
                      <a:lnTo>
                        <a:pt x="337" y="307"/>
                      </a:lnTo>
                      <a:lnTo>
                        <a:pt x="20" y="3"/>
                      </a:lnTo>
                      <a:lnTo>
                        <a:pt x="16" y="2"/>
                      </a:lnTo>
                      <a:lnTo>
                        <a:pt x="10" y="1"/>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8380440" y="4548240"/>
                  <a:ext cx="306360" cy="306360"/>
                </a:xfrm>
                <a:custGeom>
                  <a:avLst/>
                  <a:gdLst/>
                  <a:ahLst/>
                  <a:rect l="l" t="t" r="r" b="b"/>
                  <a:pathLst>
                    <a:path w="287" h="285">
                      <a:moveTo>
                        <a:pt x="287" y="271"/>
                      </a:moveTo>
                      <a:lnTo>
                        <a:pt x="2" y="0"/>
                      </a:lnTo>
                      <a:lnTo>
                        <a:pt x="1" y="3"/>
                      </a:lnTo>
                      <a:lnTo>
                        <a:pt x="1" y="6"/>
                      </a:lnTo>
                      <a:lnTo>
                        <a:pt x="1" y="11"/>
                      </a:lnTo>
                      <a:lnTo>
                        <a:pt x="0" y="15"/>
                      </a:lnTo>
                      <a:lnTo>
                        <a:pt x="283" y="285"/>
                      </a:lnTo>
                      <a:lnTo>
                        <a:pt x="284" y="282"/>
                      </a:lnTo>
                      <a:lnTo>
                        <a:pt x="285" y="278"/>
                      </a:lnTo>
                      <a:lnTo>
                        <a:pt x="285" y="275"/>
                      </a:lnTo>
                      <a:lnTo>
                        <a:pt x="287" y="27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8688240" y="4824360"/>
                  <a:ext cx="12960" cy="17640"/>
                </a:xfrm>
                <a:custGeom>
                  <a:avLst/>
                  <a:gdLst/>
                  <a:ahLst/>
                  <a:rect l="l" t="t" r="r" b="b"/>
                  <a:pathLst>
                    <a:path w="10" h="15">
                      <a:moveTo>
                        <a:pt x="7" y="15"/>
                      </a:moveTo>
                      <a:lnTo>
                        <a:pt x="7" y="13"/>
                      </a:lnTo>
                      <a:lnTo>
                        <a:pt x="8" y="11"/>
                      </a:lnTo>
                      <a:lnTo>
                        <a:pt x="9" y="10"/>
                      </a:lnTo>
                      <a:lnTo>
                        <a:pt x="10" y="9"/>
                      </a:lnTo>
                      <a:lnTo>
                        <a:pt x="0" y="0"/>
                      </a:lnTo>
                      <a:lnTo>
                        <a:pt x="2" y="3"/>
                      </a:lnTo>
                      <a:lnTo>
                        <a:pt x="3" y="7"/>
                      </a:lnTo>
                      <a:lnTo>
                        <a:pt x="6" y="10"/>
                      </a:lnTo>
                      <a:lnTo>
                        <a:pt x="7"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86" name=""/>
                <p:cNvSpPr/>
                <p:nvPr/>
              </p:nvSpPr>
              <p:spPr>
                <a:xfrm>
                  <a:off x="8238960" y="4394160"/>
                  <a:ext cx="136800" cy="146160"/>
                </a:xfrm>
                <a:custGeom>
                  <a:avLst/>
                  <a:gdLst/>
                  <a:ahLst/>
                  <a:rect l="l" t="t" r="r" b="b"/>
                  <a:pathLst>
                    <a:path w="129" h="136">
                      <a:moveTo>
                        <a:pt x="6" y="20"/>
                      </a:moveTo>
                      <a:lnTo>
                        <a:pt x="8" y="23"/>
                      </a:lnTo>
                      <a:lnTo>
                        <a:pt x="12" y="26"/>
                      </a:lnTo>
                      <a:lnTo>
                        <a:pt x="14" y="29"/>
                      </a:lnTo>
                      <a:lnTo>
                        <a:pt x="16" y="33"/>
                      </a:lnTo>
                      <a:lnTo>
                        <a:pt x="126" y="136"/>
                      </a:lnTo>
                      <a:lnTo>
                        <a:pt x="127" y="133"/>
                      </a:lnTo>
                      <a:lnTo>
                        <a:pt x="128" y="129"/>
                      </a:lnTo>
                      <a:lnTo>
                        <a:pt x="128" y="126"/>
                      </a:lnTo>
                      <a:lnTo>
                        <a:pt x="129" y="124"/>
                      </a:lnTo>
                      <a:lnTo>
                        <a:pt x="0" y="0"/>
                      </a:lnTo>
                      <a:lnTo>
                        <a:pt x="1" y="5"/>
                      </a:lnTo>
                      <a:lnTo>
                        <a:pt x="4" y="11"/>
                      </a:lnTo>
                      <a:lnTo>
                        <a:pt x="5" y="15"/>
                      </a:lnTo>
                      <a:lnTo>
                        <a:pt x="6"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881840" y="4068720"/>
                  <a:ext cx="339840" cy="325440"/>
                </a:xfrm>
                <a:custGeom>
                  <a:avLst/>
                  <a:gdLst/>
                  <a:ahLst/>
                  <a:rect l="l" t="t" r="r" b="b"/>
                  <a:pathLst>
                    <a:path w="318" h="304">
                      <a:moveTo>
                        <a:pt x="0" y="0"/>
                      </a:moveTo>
                      <a:lnTo>
                        <a:pt x="317" y="304"/>
                      </a:lnTo>
                      <a:lnTo>
                        <a:pt x="318" y="300"/>
                      </a:lnTo>
                      <a:lnTo>
                        <a:pt x="318" y="296"/>
                      </a:lnTo>
                      <a:lnTo>
                        <a:pt x="318" y="293"/>
                      </a:lnTo>
                      <a:lnTo>
                        <a:pt x="318" y="288"/>
                      </a:lnTo>
                      <a:lnTo>
                        <a:pt x="20" y="1"/>
                      </a:lnTo>
                      <a:lnTo>
                        <a:pt x="15" y="1"/>
                      </a:lnTo>
                      <a:lnTo>
                        <a:pt x="11" y="0"/>
                      </a:lnTo>
                      <a:lnTo>
                        <a:pt x="5" y="0"/>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8381880" y="4533840"/>
                  <a:ext cx="306360" cy="306360"/>
                </a:xfrm>
                <a:custGeom>
                  <a:avLst/>
                  <a:gdLst/>
                  <a:ahLst/>
                  <a:rect l="l" t="t" r="r" b="b"/>
                  <a:pathLst>
                    <a:path w="286" h="286">
                      <a:moveTo>
                        <a:pt x="286" y="283"/>
                      </a:moveTo>
                      <a:lnTo>
                        <a:pt x="279" y="276"/>
                      </a:lnTo>
                      <a:lnTo>
                        <a:pt x="275" y="273"/>
                      </a:lnTo>
                      <a:lnTo>
                        <a:pt x="273" y="268"/>
                      </a:lnTo>
                      <a:lnTo>
                        <a:pt x="273" y="259"/>
                      </a:lnTo>
                      <a:lnTo>
                        <a:pt x="1" y="0"/>
                      </a:lnTo>
                      <a:lnTo>
                        <a:pt x="1" y="3"/>
                      </a:lnTo>
                      <a:lnTo>
                        <a:pt x="1" y="7"/>
                      </a:lnTo>
                      <a:lnTo>
                        <a:pt x="0" y="11"/>
                      </a:lnTo>
                      <a:lnTo>
                        <a:pt x="0" y="15"/>
                      </a:lnTo>
                      <a:lnTo>
                        <a:pt x="285" y="286"/>
                      </a:lnTo>
                      <a:lnTo>
                        <a:pt x="285" y="285"/>
                      </a:lnTo>
                      <a:lnTo>
                        <a:pt x="285" y="284"/>
                      </a:lnTo>
                      <a:lnTo>
                        <a:pt x="285" y="284"/>
                      </a:lnTo>
                      <a:lnTo>
                        <a:pt x="286" y="28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7900920" y="4068720"/>
                  <a:ext cx="320760" cy="308160"/>
                </a:xfrm>
                <a:custGeom>
                  <a:avLst/>
                  <a:gdLst/>
                  <a:ahLst/>
                  <a:rect l="l" t="t" r="r" b="b"/>
                  <a:pathLst>
                    <a:path w="298" h="288">
                      <a:moveTo>
                        <a:pt x="1" y="1"/>
                      </a:moveTo>
                      <a:lnTo>
                        <a:pt x="0" y="1"/>
                      </a:lnTo>
                      <a:lnTo>
                        <a:pt x="0" y="1"/>
                      </a:lnTo>
                      <a:lnTo>
                        <a:pt x="0" y="1"/>
                      </a:lnTo>
                      <a:lnTo>
                        <a:pt x="0" y="1"/>
                      </a:lnTo>
                      <a:lnTo>
                        <a:pt x="298" y="288"/>
                      </a:lnTo>
                      <a:lnTo>
                        <a:pt x="298" y="284"/>
                      </a:lnTo>
                      <a:lnTo>
                        <a:pt x="297" y="279"/>
                      </a:lnTo>
                      <a:lnTo>
                        <a:pt x="297" y="273"/>
                      </a:lnTo>
                      <a:lnTo>
                        <a:pt x="296" y="269"/>
                      </a:lnTo>
                      <a:lnTo>
                        <a:pt x="16" y="0"/>
                      </a:lnTo>
                      <a:lnTo>
                        <a:pt x="11" y="1"/>
                      </a:lnTo>
                      <a:lnTo>
                        <a:pt x="8" y="1"/>
                      </a:lnTo>
                      <a:lnTo>
                        <a:pt x="4" y="1"/>
                      </a:lnTo>
                      <a:lnTo>
                        <a:pt x="1"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8232840" y="4368960"/>
                  <a:ext cx="474480" cy="466560"/>
                </a:xfrm>
                <a:custGeom>
                  <a:avLst/>
                  <a:gdLst/>
                  <a:ahLst/>
                  <a:rect l="l" t="t" r="r" b="b"/>
                  <a:pathLst>
                    <a:path w="444" h="436">
                      <a:moveTo>
                        <a:pt x="413" y="413"/>
                      </a:moveTo>
                      <a:lnTo>
                        <a:pt x="417" y="413"/>
                      </a:lnTo>
                      <a:lnTo>
                        <a:pt x="418" y="413"/>
                      </a:lnTo>
                      <a:lnTo>
                        <a:pt x="420" y="413"/>
                      </a:lnTo>
                      <a:lnTo>
                        <a:pt x="421" y="413"/>
                      </a:lnTo>
                      <a:lnTo>
                        <a:pt x="422" y="416"/>
                      </a:lnTo>
                      <a:lnTo>
                        <a:pt x="425" y="420"/>
                      </a:lnTo>
                      <a:lnTo>
                        <a:pt x="426" y="423"/>
                      </a:lnTo>
                      <a:lnTo>
                        <a:pt x="427" y="427"/>
                      </a:lnTo>
                      <a:lnTo>
                        <a:pt x="437" y="436"/>
                      </a:lnTo>
                      <a:lnTo>
                        <a:pt x="440" y="435"/>
                      </a:lnTo>
                      <a:lnTo>
                        <a:pt x="441" y="434"/>
                      </a:lnTo>
                      <a:lnTo>
                        <a:pt x="443" y="432"/>
                      </a:lnTo>
                      <a:lnTo>
                        <a:pt x="444" y="431"/>
                      </a:lnTo>
                      <a:lnTo>
                        <a:pt x="443" y="430"/>
                      </a:lnTo>
                      <a:lnTo>
                        <a:pt x="443" y="428"/>
                      </a:lnTo>
                      <a:lnTo>
                        <a:pt x="443" y="427"/>
                      </a:lnTo>
                      <a:lnTo>
                        <a:pt x="443" y="425"/>
                      </a:lnTo>
                      <a:lnTo>
                        <a:pt x="0" y="0"/>
                      </a:lnTo>
                      <a:lnTo>
                        <a:pt x="1" y="6"/>
                      </a:lnTo>
                      <a:lnTo>
                        <a:pt x="3" y="12"/>
                      </a:lnTo>
                      <a:lnTo>
                        <a:pt x="4" y="18"/>
                      </a:lnTo>
                      <a:lnTo>
                        <a:pt x="5" y="23"/>
                      </a:lnTo>
                      <a:lnTo>
                        <a:pt x="134" y="147"/>
                      </a:lnTo>
                      <a:lnTo>
                        <a:pt x="135" y="144"/>
                      </a:lnTo>
                      <a:lnTo>
                        <a:pt x="135" y="141"/>
                      </a:lnTo>
                      <a:lnTo>
                        <a:pt x="137" y="137"/>
                      </a:lnTo>
                      <a:lnTo>
                        <a:pt x="137" y="135"/>
                      </a:lnTo>
                      <a:lnTo>
                        <a:pt x="139" y="136"/>
                      </a:lnTo>
                      <a:lnTo>
                        <a:pt x="140" y="136"/>
                      </a:lnTo>
                      <a:lnTo>
                        <a:pt x="142" y="137"/>
                      </a:lnTo>
                      <a:lnTo>
                        <a:pt x="144" y="139"/>
                      </a:lnTo>
                      <a:lnTo>
                        <a:pt x="142" y="142"/>
                      </a:lnTo>
                      <a:lnTo>
                        <a:pt x="142" y="146"/>
                      </a:lnTo>
                      <a:lnTo>
                        <a:pt x="142" y="150"/>
                      </a:lnTo>
                      <a:lnTo>
                        <a:pt x="141" y="154"/>
                      </a:lnTo>
                      <a:lnTo>
                        <a:pt x="413" y="413"/>
                      </a:lnTo>
                      <a:lnTo>
                        <a:pt x="413" y="413"/>
                      </a:lnTo>
                      <a:lnTo>
                        <a:pt x="413" y="413"/>
                      </a:lnTo>
                      <a:lnTo>
                        <a:pt x="413" y="413"/>
                      </a:lnTo>
                      <a:lnTo>
                        <a:pt x="413" y="4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918560" y="4067280"/>
                  <a:ext cx="298440" cy="288720"/>
                </a:xfrm>
                <a:custGeom>
                  <a:avLst/>
                  <a:gdLst/>
                  <a:ahLst/>
                  <a:rect l="l" t="t" r="r" b="b"/>
                  <a:pathLst>
                    <a:path w="280" h="271">
                      <a:moveTo>
                        <a:pt x="0" y="2"/>
                      </a:moveTo>
                      <a:lnTo>
                        <a:pt x="280" y="271"/>
                      </a:lnTo>
                      <a:lnTo>
                        <a:pt x="279" y="265"/>
                      </a:lnTo>
                      <a:lnTo>
                        <a:pt x="278" y="260"/>
                      </a:lnTo>
                      <a:lnTo>
                        <a:pt x="275" y="255"/>
                      </a:lnTo>
                      <a:lnTo>
                        <a:pt x="274" y="249"/>
                      </a:lnTo>
                      <a:lnTo>
                        <a:pt x="15" y="0"/>
                      </a:lnTo>
                      <a:lnTo>
                        <a:pt x="11" y="1"/>
                      </a:lnTo>
                      <a:lnTo>
                        <a:pt x="8" y="1"/>
                      </a:lnTo>
                      <a:lnTo>
                        <a:pt x="3" y="2"/>
                      </a:lnTo>
                      <a:lnTo>
                        <a:pt x="0" y="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8226360" y="4344840"/>
                  <a:ext cx="480960" cy="479520"/>
                </a:xfrm>
                <a:custGeom>
                  <a:avLst/>
                  <a:gdLst/>
                  <a:ahLst/>
                  <a:rect l="l" t="t" r="r" b="b"/>
                  <a:pathLst>
                    <a:path w="449" h="446">
                      <a:moveTo>
                        <a:pt x="443" y="423"/>
                      </a:moveTo>
                      <a:lnTo>
                        <a:pt x="0" y="0"/>
                      </a:lnTo>
                      <a:lnTo>
                        <a:pt x="1" y="5"/>
                      </a:lnTo>
                      <a:lnTo>
                        <a:pt x="3" y="10"/>
                      </a:lnTo>
                      <a:lnTo>
                        <a:pt x="4" y="16"/>
                      </a:lnTo>
                      <a:lnTo>
                        <a:pt x="6" y="21"/>
                      </a:lnTo>
                      <a:lnTo>
                        <a:pt x="449" y="446"/>
                      </a:lnTo>
                      <a:lnTo>
                        <a:pt x="448" y="441"/>
                      </a:lnTo>
                      <a:lnTo>
                        <a:pt x="447" y="435"/>
                      </a:lnTo>
                      <a:lnTo>
                        <a:pt x="446" y="429"/>
                      </a:lnTo>
                      <a:lnTo>
                        <a:pt x="443" y="4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7934400" y="4062240"/>
                  <a:ext cx="279360" cy="270000"/>
                </a:xfrm>
                <a:custGeom>
                  <a:avLst/>
                  <a:gdLst/>
                  <a:ahLst/>
                  <a:rect l="l" t="t" r="r" b="b"/>
                  <a:pathLst>
                    <a:path w="259" h="251">
                      <a:moveTo>
                        <a:pt x="0" y="2"/>
                      </a:moveTo>
                      <a:lnTo>
                        <a:pt x="259" y="251"/>
                      </a:lnTo>
                      <a:lnTo>
                        <a:pt x="257" y="245"/>
                      </a:lnTo>
                      <a:lnTo>
                        <a:pt x="256" y="238"/>
                      </a:lnTo>
                      <a:lnTo>
                        <a:pt x="253" y="232"/>
                      </a:lnTo>
                      <a:lnTo>
                        <a:pt x="251" y="226"/>
                      </a:lnTo>
                      <a:lnTo>
                        <a:pt x="15" y="0"/>
                      </a:lnTo>
                      <a:lnTo>
                        <a:pt x="11" y="1"/>
                      </a:lnTo>
                      <a:lnTo>
                        <a:pt x="8" y="1"/>
                      </a:lnTo>
                      <a:lnTo>
                        <a:pt x="5" y="2"/>
                      </a:lnTo>
                      <a:lnTo>
                        <a:pt x="0" y="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8217000" y="4319640"/>
                  <a:ext cx="484200" cy="479520"/>
                </a:xfrm>
                <a:custGeom>
                  <a:avLst/>
                  <a:gdLst/>
                  <a:ahLst/>
                  <a:rect l="l" t="t" r="r" b="b"/>
                  <a:pathLst>
                    <a:path w="451" h="449">
                      <a:moveTo>
                        <a:pt x="437" y="419"/>
                      </a:moveTo>
                      <a:lnTo>
                        <a:pt x="0" y="0"/>
                      </a:lnTo>
                      <a:lnTo>
                        <a:pt x="2" y="6"/>
                      </a:lnTo>
                      <a:lnTo>
                        <a:pt x="4" y="13"/>
                      </a:lnTo>
                      <a:lnTo>
                        <a:pt x="5" y="19"/>
                      </a:lnTo>
                      <a:lnTo>
                        <a:pt x="8" y="26"/>
                      </a:lnTo>
                      <a:lnTo>
                        <a:pt x="451" y="449"/>
                      </a:lnTo>
                      <a:lnTo>
                        <a:pt x="449" y="443"/>
                      </a:lnTo>
                      <a:lnTo>
                        <a:pt x="446" y="434"/>
                      </a:lnTo>
                      <a:lnTo>
                        <a:pt x="442" y="428"/>
                      </a:lnTo>
                      <a:lnTo>
                        <a:pt x="437" y="4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7950240" y="4060800"/>
                  <a:ext cx="736560" cy="706320"/>
                </a:xfrm>
                <a:custGeom>
                  <a:avLst/>
                  <a:gdLst/>
                  <a:ahLst/>
                  <a:rect l="l" t="t" r="r" b="b"/>
                  <a:pathLst>
                    <a:path w="686" h="661">
                      <a:moveTo>
                        <a:pt x="660" y="619"/>
                      </a:moveTo>
                      <a:lnTo>
                        <a:pt x="15" y="0"/>
                      </a:lnTo>
                      <a:lnTo>
                        <a:pt x="11" y="1"/>
                      </a:lnTo>
                      <a:lnTo>
                        <a:pt x="8" y="1"/>
                      </a:lnTo>
                      <a:lnTo>
                        <a:pt x="3" y="3"/>
                      </a:lnTo>
                      <a:lnTo>
                        <a:pt x="0" y="4"/>
                      </a:lnTo>
                      <a:lnTo>
                        <a:pt x="236" y="230"/>
                      </a:lnTo>
                      <a:lnTo>
                        <a:pt x="234" y="224"/>
                      </a:lnTo>
                      <a:lnTo>
                        <a:pt x="231" y="217"/>
                      </a:lnTo>
                      <a:lnTo>
                        <a:pt x="228" y="211"/>
                      </a:lnTo>
                      <a:lnTo>
                        <a:pt x="226" y="204"/>
                      </a:lnTo>
                      <a:lnTo>
                        <a:pt x="233" y="212"/>
                      </a:lnTo>
                      <a:lnTo>
                        <a:pt x="238" y="221"/>
                      </a:lnTo>
                      <a:lnTo>
                        <a:pt x="243" y="232"/>
                      </a:lnTo>
                      <a:lnTo>
                        <a:pt x="249" y="242"/>
                      </a:lnTo>
                      <a:lnTo>
                        <a:pt x="686" y="661"/>
                      </a:lnTo>
                      <a:lnTo>
                        <a:pt x="681" y="651"/>
                      </a:lnTo>
                      <a:lnTo>
                        <a:pt x="674" y="640"/>
                      </a:lnTo>
                      <a:lnTo>
                        <a:pt x="667" y="629"/>
                      </a:lnTo>
                      <a:lnTo>
                        <a:pt x="660" y="6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967520" y="4056120"/>
                  <a:ext cx="689040" cy="665280"/>
                </a:xfrm>
                <a:custGeom>
                  <a:avLst/>
                  <a:gdLst/>
                  <a:ahLst/>
                  <a:rect l="l" t="t" r="r" b="b"/>
                  <a:pathLst>
                    <a:path w="645" h="621">
                      <a:moveTo>
                        <a:pt x="608" y="569"/>
                      </a:moveTo>
                      <a:lnTo>
                        <a:pt x="15" y="0"/>
                      </a:lnTo>
                      <a:lnTo>
                        <a:pt x="10" y="1"/>
                      </a:lnTo>
                      <a:lnTo>
                        <a:pt x="7" y="1"/>
                      </a:lnTo>
                      <a:lnTo>
                        <a:pt x="3" y="2"/>
                      </a:lnTo>
                      <a:lnTo>
                        <a:pt x="0" y="2"/>
                      </a:lnTo>
                      <a:lnTo>
                        <a:pt x="645" y="621"/>
                      </a:lnTo>
                      <a:lnTo>
                        <a:pt x="640" y="614"/>
                      </a:lnTo>
                      <a:lnTo>
                        <a:pt x="636" y="608"/>
                      </a:lnTo>
                      <a:lnTo>
                        <a:pt x="631" y="601"/>
                      </a:lnTo>
                      <a:lnTo>
                        <a:pt x="627" y="594"/>
                      </a:lnTo>
                      <a:lnTo>
                        <a:pt x="622" y="589"/>
                      </a:lnTo>
                      <a:lnTo>
                        <a:pt x="617" y="582"/>
                      </a:lnTo>
                      <a:lnTo>
                        <a:pt x="613" y="576"/>
                      </a:lnTo>
                      <a:lnTo>
                        <a:pt x="608" y="56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981920" y="4054320"/>
                  <a:ext cx="635040" cy="611280"/>
                </a:xfrm>
                <a:custGeom>
                  <a:avLst/>
                  <a:gdLst/>
                  <a:ahLst/>
                  <a:rect l="l" t="t" r="r" b="b"/>
                  <a:pathLst>
                    <a:path w="593" h="572">
                      <a:moveTo>
                        <a:pt x="563" y="526"/>
                      </a:moveTo>
                      <a:lnTo>
                        <a:pt x="14" y="0"/>
                      </a:lnTo>
                      <a:lnTo>
                        <a:pt x="10" y="1"/>
                      </a:lnTo>
                      <a:lnTo>
                        <a:pt x="7" y="1"/>
                      </a:lnTo>
                      <a:lnTo>
                        <a:pt x="3" y="2"/>
                      </a:lnTo>
                      <a:lnTo>
                        <a:pt x="0" y="3"/>
                      </a:lnTo>
                      <a:lnTo>
                        <a:pt x="593" y="572"/>
                      </a:lnTo>
                      <a:lnTo>
                        <a:pt x="585" y="561"/>
                      </a:lnTo>
                      <a:lnTo>
                        <a:pt x="577" y="549"/>
                      </a:lnTo>
                      <a:lnTo>
                        <a:pt x="570" y="537"/>
                      </a:lnTo>
                      <a:lnTo>
                        <a:pt x="563" y="5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7996320" y="4049640"/>
                  <a:ext cx="588960" cy="566640"/>
                </a:xfrm>
                <a:custGeom>
                  <a:avLst/>
                  <a:gdLst/>
                  <a:ahLst/>
                  <a:rect l="l" t="t" r="r" b="b"/>
                  <a:pathLst>
                    <a:path w="549" h="530">
                      <a:moveTo>
                        <a:pt x="532" y="497"/>
                      </a:moveTo>
                      <a:lnTo>
                        <a:pt x="15" y="0"/>
                      </a:lnTo>
                      <a:lnTo>
                        <a:pt x="10" y="1"/>
                      </a:lnTo>
                      <a:lnTo>
                        <a:pt x="7" y="1"/>
                      </a:lnTo>
                      <a:lnTo>
                        <a:pt x="3" y="2"/>
                      </a:lnTo>
                      <a:lnTo>
                        <a:pt x="0" y="4"/>
                      </a:lnTo>
                      <a:lnTo>
                        <a:pt x="549" y="530"/>
                      </a:lnTo>
                      <a:lnTo>
                        <a:pt x="545" y="522"/>
                      </a:lnTo>
                      <a:lnTo>
                        <a:pt x="540" y="513"/>
                      </a:lnTo>
                      <a:lnTo>
                        <a:pt x="535" y="505"/>
                      </a:lnTo>
                      <a:lnTo>
                        <a:pt x="532" y="49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8013600" y="4046400"/>
                  <a:ext cx="552600" cy="533520"/>
                </a:xfrm>
                <a:custGeom>
                  <a:avLst/>
                  <a:gdLst/>
                  <a:ahLst/>
                  <a:rect l="l" t="t" r="r" b="b"/>
                  <a:pathLst>
                    <a:path w="517" h="499">
                      <a:moveTo>
                        <a:pt x="513" y="489"/>
                      </a:moveTo>
                      <a:lnTo>
                        <a:pt x="515" y="487"/>
                      </a:lnTo>
                      <a:lnTo>
                        <a:pt x="515" y="485"/>
                      </a:lnTo>
                      <a:lnTo>
                        <a:pt x="516" y="484"/>
                      </a:lnTo>
                      <a:lnTo>
                        <a:pt x="516" y="481"/>
                      </a:lnTo>
                      <a:lnTo>
                        <a:pt x="13" y="0"/>
                      </a:lnTo>
                      <a:lnTo>
                        <a:pt x="10" y="1"/>
                      </a:lnTo>
                      <a:lnTo>
                        <a:pt x="7" y="1"/>
                      </a:lnTo>
                      <a:lnTo>
                        <a:pt x="3" y="1"/>
                      </a:lnTo>
                      <a:lnTo>
                        <a:pt x="0" y="2"/>
                      </a:lnTo>
                      <a:lnTo>
                        <a:pt x="517" y="499"/>
                      </a:lnTo>
                      <a:lnTo>
                        <a:pt x="516" y="496"/>
                      </a:lnTo>
                      <a:lnTo>
                        <a:pt x="516" y="494"/>
                      </a:lnTo>
                      <a:lnTo>
                        <a:pt x="515" y="492"/>
                      </a:lnTo>
                      <a:lnTo>
                        <a:pt x="513" y="48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29440" y="4043520"/>
                  <a:ext cx="541440" cy="520560"/>
                </a:xfrm>
                <a:custGeom>
                  <a:avLst/>
                  <a:gdLst/>
                  <a:ahLst/>
                  <a:rect l="l" t="t" r="r" b="b"/>
                  <a:pathLst>
                    <a:path w="507" h="485">
                      <a:moveTo>
                        <a:pt x="507" y="471"/>
                      </a:moveTo>
                      <a:lnTo>
                        <a:pt x="14" y="0"/>
                      </a:lnTo>
                      <a:lnTo>
                        <a:pt x="11" y="1"/>
                      </a:lnTo>
                      <a:lnTo>
                        <a:pt x="7" y="1"/>
                      </a:lnTo>
                      <a:lnTo>
                        <a:pt x="4" y="3"/>
                      </a:lnTo>
                      <a:lnTo>
                        <a:pt x="0" y="4"/>
                      </a:lnTo>
                      <a:lnTo>
                        <a:pt x="503" y="485"/>
                      </a:lnTo>
                      <a:lnTo>
                        <a:pt x="504" y="482"/>
                      </a:lnTo>
                      <a:lnTo>
                        <a:pt x="505" y="478"/>
                      </a:lnTo>
                      <a:lnTo>
                        <a:pt x="506" y="475"/>
                      </a:lnTo>
                      <a:lnTo>
                        <a:pt x="507" y="47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8043840" y="4038480"/>
                  <a:ext cx="530280" cy="509760"/>
                </a:xfrm>
                <a:custGeom>
                  <a:avLst/>
                  <a:gdLst/>
                  <a:ahLst/>
                  <a:rect l="l" t="t" r="r" b="b"/>
                  <a:pathLst>
                    <a:path w="497" h="474">
                      <a:moveTo>
                        <a:pt x="497" y="462"/>
                      </a:moveTo>
                      <a:lnTo>
                        <a:pt x="15" y="0"/>
                      </a:lnTo>
                      <a:lnTo>
                        <a:pt x="12" y="1"/>
                      </a:lnTo>
                      <a:lnTo>
                        <a:pt x="8" y="1"/>
                      </a:lnTo>
                      <a:lnTo>
                        <a:pt x="5" y="2"/>
                      </a:lnTo>
                      <a:lnTo>
                        <a:pt x="0" y="3"/>
                      </a:lnTo>
                      <a:lnTo>
                        <a:pt x="493" y="474"/>
                      </a:lnTo>
                      <a:lnTo>
                        <a:pt x="494" y="472"/>
                      </a:lnTo>
                      <a:lnTo>
                        <a:pt x="496" y="469"/>
                      </a:lnTo>
                      <a:lnTo>
                        <a:pt x="496" y="465"/>
                      </a:lnTo>
                      <a:lnTo>
                        <a:pt x="497" y="46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059680" y="4037040"/>
                  <a:ext cx="519120" cy="496800"/>
                </a:xfrm>
                <a:custGeom>
                  <a:avLst/>
                  <a:gdLst/>
                  <a:ahLst/>
                  <a:rect l="l" t="t" r="r" b="b"/>
                  <a:pathLst>
                    <a:path w="485" h="466">
                      <a:moveTo>
                        <a:pt x="485" y="453"/>
                      </a:moveTo>
                      <a:lnTo>
                        <a:pt x="14" y="0"/>
                      </a:lnTo>
                      <a:lnTo>
                        <a:pt x="11" y="2"/>
                      </a:lnTo>
                      <a:lnTo>
                        <a:pt x="7" y="2"/>
                      </a:lnTo>
                      <a:lnTo>
                        <a:pt x="4" y="3"/>
                      </a:lnTo>
                      <a:lnTo>
                        <a:pt x="0" y="4"/>
                      </a:lnTo>
                      <a:lnTo>
                        <a:pt x="482" y="466"/>
                      </a:lnTo>
                      <a:lnTo>
                        <a:pt x="483" y="462"/>
                      </a:lnTo>
                      <a:lnTo>
                        <a:pt x="484" y="459"/>
                      </a:lnTo>
                      <a:lnTo>
                        <a:pt x="484" y="455"/>
                      </a:lnTo>
                      <a:lnTo>
                        <a:pt x="485" y="45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074080" y="4032360"/>
                  <a:ext cx="509400" cy="488880"/>
                </a:xfrm>
                <a:custGeom>
                  <a:avLst/>
                  <a:gdLst/>
                  <a:ahLst/>
                  <a:rect l="l" t="t" r="r" b="b"/>
                  <a:pathLst>
                    <a:path w="476" h="456">
                      <a:moveTo>
                        <a:pt x="476" y="442"/>
                      </a:moveTo>
                      <a:lnTo>
                        <a:pt x="15" y="0"/>
                      </a:lnTo>
                      <a:lnTo>
                        <a:pt x="10" y="1"/>
                      </a:lnTo>
                      <a:lnTo>
                        <a:pt x="7" y="1"/>
                      </a:lnTo>
                      <a:lnTo>
                        <a:pt x="4" y="2"/>
                      </a:lnTo>
                      <a:lnTo>
                        <a:pt x="0" y="3"/>
                      </a:lnTo>
                      <a:lnTo>
                        <a:pt x="471" y="456"/>
                      </a:lnTo>
                      <a:lnTo>
                        <a:pt x="472" y="453"/>
                      </a:lnTo>
                      <a:lnTo>
                        <a:pt x="474" y="449"/>
                      </a:lnTo>
                      <a:lnTo>
                        <a:pt x="475" y="446"/>
                      </a:lnTo>
                      <a:lnTo>
                        <a:pt x="476" y="44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8091360" y="4030560"/>
                  <a:ext cx="495360" cy="474840"/>
                </a:xfrm>
                <a:custGeom>
                  <a:avLst/>
                  <a:gdLst/>
                  <a:ahLst/>
                  <a:rect l="l" t="t" r="r" b="b"/>
                  <a:pathLst>
                    <a:path w="465" h="444">
                      <a:moveTo>
                        <a:pt x="465" y="432"/>
                      </a:moveTo>
                      <a:lnTo>
                        <a:pt x="14" y="0"/>
                      </a:lnTo>
                      <a:lnTo>
                        <a:pt x="10" y="1"/>
                      </a:lnTo>
                      <a:lnTo>
                        <a:pt x="7" y="1"/>
                      </a:lnTo>
                      <a:lnTo>
                        <a:pt x="4" y="1"/>
                      </a:lnTo>
                      <a:lnTo>
                        <a:pt x="0" y="2"/>
                      </a:lnTo>
                      <a:lnTo>
                        <a:pt x="461" y="444"/>
                      </a:lnTo>
                      <a:lnTo>
                        <a:pt x="462" y="442"/>
                      </a:lnTo>
                      <a:lnTo>
                        <a:pt x="463" y="439"/>
                      </a:lnTo>
                      <a:lnTo>
                        <a:pt x="464" y="435"/>
                      </a:lnTo>
                      <a:lnTo>
                        <a:pt x="465" y="43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8104320" y="4025880"/>
                  <a:ext cx="487080" cy="466920"/>
                </a:xfrm>
                <a:custGeom>
                  <a:avLst/>
                  <a:gdLst/>
                  <a:ahLst/>
                  <a:rect l="l" t="t" r="r" b="b"/>
                  <a:pathLst>
                    <a:path w="455" h="436">
                      <a:moveTo>
                        <a:pt x="455" y="423"/>
                      </a:moveTo>
                      <a:lnTo>
                        <a:pt x="15" y="0"/>
                      </a:lnTo>
                      <a:lnTo>
                        <a:pt x="10" y="1"/>
                      </a:lnTo>
                      <a:lnTo>
                        <a:pt x="7" y="1"/>
                      </a:lnTo>
                      <a:lnTo>
                        <a:pt x="3" y="2"/>
                      </a:lnTo>
                      <a:lnTo>
                        <a:pt x="0" y="4"/>
                      </a:lnTo>
                      <a:lnTo>
                        <a:pt x="451" y="436"/>
                      </a:lnTo>
                      <a:lnTo>
                        <a:pt x="453" y="432"/>
                      </a:lnTo>
                      <a:lnTo>
                        <a:pt x="454" y="429"/>
                      </a:lnTo>
                      <a:lnTo>
                        <a:pt x="454" y="426"/>
                      </a:lnTo>
                      <a:lnTo>
                        <a:pt x="455" y="4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121600" y="4021200"/>
                  <a:ext cx="474840" cy="457200"/>
                </a:xfrm>
                <a:custGeom>
                  <a:avLst/>
                  <a:gdLst/>
                  <a:ahLst/>
                  <a:rect l="l" t="t" r="r" b="b"/>
                  <a:pathLst>
                    <a:path w="445" h="426">
                      <a:moveTo>
                        <a:pt x="445" y="413"/>
                      </a:moveTo>
                      <a:lnTo>
                        <a:pt x="13" y="0"/>
                      </a:lnTo>
                      <a:lnTo>
                        <a:pt x="9" y="1"/>
                      </a:lnTo>
                      <a:lnTo>
                        <a:pt x="6" y="1"/>
                      </a:lnTo>
                      <a:lnTo>
                        <a:pt x="2" y="2"/>
                      </a:lnTo>
                      <a:lnTo>
                        <a:pt x="0" y="3"/>
                      </a:lnTo>
                      <a:lnTo>
                        <a:pt x="440" y="426"/>
                      </a:lnTo>
                      <a:lnTo>
                        <a:pt x="441" y="422"/>
                      </a:lnTo>
                      <a:lnTo>
                        <a:pt x="442" y="419"/>
                      </a:lnTo>
                      <a:lnTo>
                        <a:pt x="443" y="416"/>
                      </a:lnTo>
                      <a:lnTo>
                        <a:pt x="445" y="4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8134200" y="4019400"/>
                  <a:ext cx="466920" cy="446400"/>
                </a:xfrm>
                <a:custGeom>
                  <a:avLst/>
                  <a:gdLst/>
                  <a:ahLst/>
                  <a:rect l="l" t="t" r="r" b="b"/>
                  <a:pathLst>
                    <a:path w="435" h="417">
                      <a:moveTo>
                        <a:pt x="435" y="403"/>
                      </a:moveTo>
                      <a:lnTo>
                        <a:pt x="15" y="0"/>
                      </a:lnTo>
                      <a:lnTo>
                        <a:pt x="10" y="1"/>
                      </a:lnTo>
                      <a:lnTo>
                        <a:pt x="6" y="1"/>
                      </a:lnTo>
                      <a:lnTo>
                        <a:pt x="3" y="3"/>
                      </a:lnTo>
                      <a:lnTo>
                        <a:pt x="0" y="4"/>
                      </a:lnTo>
                      <a:lnTo>
                        <a:pt x="432" y="417"/>
                      </a:lnTo>
                      <a:lnTo>
                        <a:pt x="433" y="414"/>
                      </a:lnTo>
                      <a:lnTo>
                        <a:pt x="434" y="410"/>
                      </a:lnTo>
                      <a:lnTo>
                        <a:pt x="434" y="407"/>
                      </a:lnTo>
                      <a:lnTo>
                        <a:pt x="435" y="40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8150400" y="4014720"/>
                  <a:ext cx="453960" cy="434880"/>
                </a:xfrm>
                <a:custGeom>
                  <a:avLst/>
                  <a:gdLst/>
                  <a:ahLst/>
                  <a:rect l="l" t="t" r="r" b="b"/>
                  <a:pathLst>
                    <a:path w="425" h="405">
                      <a:moveTo>
                        <a:pt x="425" y="393"/>
                      </a:moveTo>
                      <a:lnTo>
                        <a:pt x="13" y="0"/>
                      </a:lnTo>
                      <a:lnTo>
                        <a:pt x="10" y="1"/>
                      </a:lnTo>
                      <a:lnTo>
                        <a:pt x="6" y="1"/>
                      </a:lnTo>
                      <a:lnTo>
                        <a:pt x="3" y="2"/>
                      </a:lnTo>
                      <a:lnTo>
                        <a:pt x="0" y="2"/>
                      </a:lnTo>
                      <a:lnTo>
                        <a:pt x="420" y="405"/>
                      </a:lnTo>
                      <a:lnTo>
                        <a:pt x="421" y="403"/>
                      </a:lnTo>
                      <a:lnTo>
                        <a:pt x="422" y="400"/>
                      </a:lnTo>
                      <a:lnTo>
                        <a:pt x="423" y="396"/>
                      </a:lnTo>
                      <a:lnTo>
                        <a:pt x="425" y="39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8166240" y="4013280"/>
                  <a:ext cx="442800" cy="423720"/>
                </a:xfrm>
                <a:custGeom>
                  <a:avLst/>
                  <a:gdLst/>
                  <a:ahLst/>
                  <a:rect l="l" t="t" r="r" b="b"/>
                  <a:pathLst>
                    <a:path w="415" h="397">
                      <a:moveTo>
                        <a:pt x="415" y="384"/>
                      </a:moveTo>
                      <a:lnTo>
                        <a:pt x="15" y="0"/>
                      </a:lnTo>
                      <a:lnTo>
                        <a:pt x="12" y="2"/>
                      </a:lnTo>
                      <a:lnTo>
                        <a:pt x="8" y="2"/>
                      </a:lnTo>
                      <a:lnTo>
                        <a:pt x="4" y="3"/>
                      </a:lnTo>
                      <a:lnTo>
                        <a:pt x="0" y="4"/>
                      </a:lnTo>
                      <a:lnTo>
                        <a:pt x="412" y="397"/>
                      </a:lnTo>
                      <a:lnTo>
                        <a:pt x="413" y="393"/>
                      </a:lnTo>
                      <a:lnTo>
                        <a:pt x="414" y="390"/>
                      </a:lnTo>
                      <a:lnTo>
                        <a:pt x="414" y="386"/>
                      </a:lnTo>
                      <a:lnTo>
                        <a:pt x="415" y="38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8180280" y="4011480"/>
                  <a:ext cx="433440" cy="412920"/>
                </a:xfrm>
                <a:custGeom>
                  <a:avLst/>
                  <a:gdLst/>
                  <a:ahLst/>
                  <a:rect l="l" t="t" r="r" b="b"/>
                  <a:pathLst>
                    <a:path w="404" h="386">
                      <a:moveTo>
                        <a:pt x="404" y="372"/>
                      </a:moveTo>
                      <a:lnTo>
                        <a:pt x="15" y="0"/>
                      </a:lnTo>
                      <a:lnTo>
                        <a:pt x="11" y="1"/>
                      </a:lnTo>
                      <a:lnTo>
                        <a:pt x="7" y="1"/>
                      </a:lnTo>
                      <a:lnTo>
                        <a:pt x="4" y="1"/>
                      </a:lnTo>
                      <a:lnTo>
                        <a:pt x="0" y="2"/>
                      </a:lnTo>
                      <a:lnTo>
                        <a:pt x="400" y="386"/>
                      </a:lnTo>
                      <a:lnTo>
                        <a:pt x="401" y="383"/>
                      </a:lnTo>
                      <a:lnTo>
                        <a:pt x="402" y="379"/>
                      </a:lnTo>
                      <a:lnTo>
                        <a:pt x="402" y="376"/>
                      </a:lnTo>
                      <a:lnTo>
                        <a:pt x="404" y="37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8197920" y="4006800"/>
                  <a:ext cx="419040" cy="403200"/>
                </a:xfrm>
                <a:custGeom>
                  <a:avLst/>
                  <a:gdLst/>
                  <a:ahLst/>
                  <a:rect l="l" t="t" r="r" b="b"/>
                  <a:pathLst>
                    <a:path w="393" h="375">
                      <a:moveTo>
                        <a:pt x="393" y="361"/>
                      </a:moveTo>
                      <a:lnTo>
                        <a:pt x="14" y="0"/>
                      </a:lnTo>
                      <a:lnTo>
                        <a:pt x="11" y="1"/>
                      </a:lnTo>
                      <a:lnTo>
                        <a:pt x="7" y="1"/>
                      </a:lnTo>
                      <a:lnTo>
                        <a:pt x="4" y="2"/>
                      </a:lnTo>
                      <a:lnTo>
                        <a:pt x="0" y="3"/>
                      </a:lnTo>
                      <a:lnTo>
                        <a:pt x="389" y="375"/>
                      </a:lnTo>
                      <a:lnTo>
                        <a:pt x="390" y="372"/>
                      </a:lnTo>
                      <a:lnTo>
                        <a:pt x="391" y="368"/>
                      </a:lnTo>
                      <a:lnTo>
                        <a:pt x="392" y="365"/>
                      </a:lnTo>
                      <a:lnTo>
                        <a:pt x="393" y="36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8213760" y="4005360"/>
                  <a:ext cx="407880" cy="388800"/>
                </a:xfrm>
                <a:custGeom>
                  <a:avLst/>
                  <a:gdLst/>
                  <a:ahLst/>
                  <a:rect l="l" t="t" r="r" b="b"/>
                  <a:pathLst>
                    <a:path w="383" h="364">
                      <a:moveTo>
                        <a:pt x="383" y="352"/>
                      </a:moveTo>
                      <a:lnTo>
                        <a:pt x="15" y="0"/>
                      </a:lnTo>
                      <a:lnTo>
                        <a:pt x="12" y="2"/>
                      </a:lnTo>
                      <a:lnTo>
                        <a:pt x="8" y="2"/>
                      </a:lnTo>
                      <a:lnTo>
                        <a:pt x="5" y="3"/>
                      </a:lnTo>
                      <a:lnTo>
                        <a:pt x="0" y="3"/>
                      </a:lnTo>
                      <a:lnTo>
                        <a:pt x="379" y="364"/>
                      </a:lnTo>
                      <a:lnTo>
                        <a:pt x="380" y="362"/>
                      </a:lnTo>
                      <a:lnTo>
                        <a:pt x="381" y="359"/>
                      </a:lnTo>
                      <a:lnTo>
                        <a:pt x="381" y="355"/>
                      </a:lnTo>
                      <a:lnTo>
                        <a:pt x="383" y="35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8228160" y="4002120"/>
                  <a:ext cx="395280" cy="377640"/>
                </a:xfrm>
                <a:custGeom>
                  <a:avLst/>
                  <a:gdLst/>
                  <a:ahLst/>
                  <a:rect l="l" t="t" r="r" b="b"/>
                  <a:pathLst>
                    <a:path w="370" h="354">
                      <a:moveTo>
                        <a:pt x="370" y="340"/>
                      </a:moveTo>
                      <a:lnTo>
                        <a:pt x="15" y="0"/>
                      </a:lnTo>
                      <a:lnTo>
                        <a:pt x="12" y="1"/>
                      </a:lnTo>
                      <a:lnTo>
                        <a:pt x="8" y="1"/>
                      </a:lnTo>
                      <a:lnTo>
                        <a:pt x="5" y="1"/>
                      </a:lnTo>
                      <a:lnTo>
                        <a:pt x="0" y="2"/>
                      </a:lnTo>
                      <a:lnTo>
                        <a:pt x="368" y="354"/>
                      </a:lnTo>
                      <a:lnTo>
                        <a:pt x="369" y="350"/>
                      </a:lnTo>
                      <a:lnTo>
                        <a:pt x="369" y="347"/>
                      </a:lnTo>
                      <a:lnTo>
                        <a:pt x="370" y="343"/>
                      </a:lnTo>
                      <a:lnTo>
                        <a:pt x="370" y="34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245440" y="3997440"/>
                  <a:ext cx="382680" cy="366480"/>
                </a:xfrm>
                <a:custGeom>
                  <a:avLst/>
                  <a:gdLst/>
                  <a:ahLst/>
                  <a:rect l="l" t="t" r="r" b="b"/>
                  <a:pathLst>
                    <a:path w="358" h="342">
                      <a:moveTo>
                        <a:pt x="358" y="327"/>
                      </a:moveTo>
                      <a:lnTo>
                        <a:pt x="16" y="0"/>
                      </a:lnTo>
                      <a:lnTo>
                        <a:pt x="12" y="0"/>
                      </a:lnTo>
                      <a:lnTo>
                        <a:pt x="8" y="1"/>
                      </a:lnTo>
                      <a:lnTo>
                        <a:pt x="5" y="1"/>
                      </a:lnTo>
                      <a:lnTo>
                        <a:pt x="0" y="2"/>
                      </a:lnTo>
                      <a:lnTo>
                        <a:pt x="355" y="342"/>
                      </a:lnTo>
                      <a:lnTo>
                        <a:pt x="356" y="338"/>
                      </a:lnTo>
                      <a:lnTo>
                        <a:pt x="357" y="335"/>
                      </a:lnTo>
                      <a:lnTo>
                        <a:pt x="357" y="332"/>
                      </a:lnTo>
                      <a:lnTo>
                        <a:pt x="358" y="3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263080" y="3995640"/>
                  <a:ext cx="366480" cy="354240"/>
                </a:xfrm>
                <a:custGeom>
                  <a:avLst/>
                  <a:gdLst/>
                  <a:ahLst/>
                  <a:rect l="l" t="t" r="r" b="b"/>
                  <a:pathLst>
                    <a:path w="345" h="329">
                      <a:moveTo>
                        <a:pt x="345" y="315"/>
                      </a:moveTo>
                      <a:lnTo>
                        <a:pt x="15" y="0"/>
                      </a:lnTo>
                      <a:lnTo>
                        <a:pt x="11" y="0"/>
                      </a:lnTo>
                      <a:lnTo>
                        <a:pt x="7" y="1"/>
                      </a:lnTo>
                      <a:lnTo>
                        <a:pt x="4" y="1"/>
                      </a:lnTo>
                      <a:lnTo>
                        <a:pt x="0" y="2"/>
                      </a:lnTo>
                      <a:lnTo>
                        <a:pt x="342" y="329"/>
                      </a:lnTo>
                      <a:lnTo>
                        <a:pt x="343" y="326"/>
                      </a:lnTo>
                      <a:lnTo>
                        <a:pt x="343" y="322"/>
                      </a:lnTo>
                      <a:lnTo>
                        <a:pt x="345" y="319"/>
                      </a:lnTo>
                      <a:lnTo>
                        <a:pt x="345" y="3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277120" y="3994200"/>
                  <a:ext cx="355680" cy="339840"/>
                </a:xfrm>
                <a:custGeom>
                  <a:avLst/>
                  <a:gdLst/>
                  <a:ahLst/>
                  <a:rect l="l" t="t" r="r" b="b"/>
                  <a:pathLst>
                    <a:path w="332" h="318">
                      <a:moveTo>
                        <a:pt x="332" y="303"/>
                      </a:moveTo>
                      <a:lnTo>
                        <a:pt x="15" y="0"/>
                      </a:lnTo>
                      <a:lnTo>
                        <a:pt x="12" y="1"/>
                      </a:lnTo>
                      <a:lnTo>
                        <a:pt x="8" y="1"/>
                      </a:lnTo>
                      <a:lnTo>
                        <a:pt x="4" y="1"/>
                      </a:lnTo>
                      <a:lnTo>
                        <a:pt x="0" y="3"/>
                      </a:lnTo>
                      <a:lnTo>
                        <a:pt x="330" y="318"/>
                      </a:lnTo>
                      <a:lnTo>
                        <a:pt x="331" y="315"/>
                      </a:lnTo>
                      <a:lnTo>
                        <a:pt x="331" y="310"/>
                      </a:lnTo>
                      <a:lnTo>
                        <a:pt x="332" y="307"/>
                      </a:lnTo>
                      <a:lnTo>
                        <a:pt x="332" y="30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8294760" y="3990960"/>
                  <a:ext cx="339480" cy="328680"/>
                </a:xfrm>
                <a:custGeom>
                  <a:avLst/>
                  <a:gdLst/>
                  <a:ahLst/>
                  <a:rect l="l" t="t" r="r" b="b"/>
                  <a:pathLst>
                    <a:path w="319" h="305">
                      <a:moveTo>
                        <a:pt x="319" y="290"/>
                      </a:moveTo>
                      <a:lnTo>
                        <a:pt x="16" y="0"/>
                      </a:lnTo>
                      <a:lnTo>
                        <a:pt x="12" y="1"/>
                      </a:lnTo>
                      <a:lnTo>
                        <a:pt x="8" y="1"/>
                      </a:lnTo>
                      <a:lnTo>
                        <a:pt x="5" y="1"/>
                      </a:lnTo>
                      <a:lnTo>
                        <a:pt x="0" y="2"/>
                      </a:lnTo>
                      <a:lnTo>
                        <a:pt x="317" y="305"/>
                      </a:lnTo>
                      <a:lnTo>
                        <a:pt x="318" y="302"/>
                      </a:lnTo>
                      <a:lnTo>
                        <a:pt x="318" y="297"/>
                      </a:lnTo>
                      <a:lnTo>
                        <a:pt x="318" y="294"/>
                      </a:lnTo>
                      <a:lnTo>
                        <a:pt x="319" y="29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8312040" y="3989520"/>
                  <a:ext cx="325440" cy="312480"/>
                </a:xfrm>
                <a:custGeom>
                  <a:avLst/>
                  <a:gdLst/>
                  <a:ahLst/>
                  <a:rect l="l" t="t" r="r" b="b"/>
                  <a:pathLst>
                    <a:path w="304" h="291">
                      <a:moveTo>
                        <a:pt x="304" y="275"/>
                      </a:moveTo>
                      <a:lnTo>
                        <a:pt x="16" y="0"/>
                      </a:lnTo>
                      <a:lnTo>
                        <a:pt x="12" y="0"/>
                      </a:lnTo>
                      <a:lnTo>
                        <a:pt x="8" y="0"/>
                      </a:lnTo>
                      <a:lnTo>
                        <a:pt x="4" y="1"/>
                      </a:lnTo>
                      <a:lnTo>
                        <a:pt x="0" y="1"/>
                      </a:lnTo>
                      <a:lnTo>
                        <a:pt x="303" y="291"/>
                      </a:lnTo>
                      <a:lnTo>
                        <a:pt x="303" y="287"/>
                      </a:lnTo>
                      <a:lnTo>
                        <a:pt x="304" y="283"/>
                      </a:lnTo>
                      <a:lnTo>
                        <a:pt x="304" y="280"/>
                      </a:lnTo>
                      <a:lnTo>
                        <a:pt x="304" y="27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8327880" y="3989520"/>
                  <a:ext cx="309600" cy="295200"/>
                </a:xfrm>
                <a:custGeom>
                  <a:avLst/>
                  <a:gdLst/>
                  <a:ahLst/>
                  <a:rect l="l" t="t" r="r" b="b"/>
                  <a:pathLst>
                    <a:path w="288" h="276">
                      <a:moveTo>
                        <a:pt x="288" y="260"/>
                      </a:moveTo>
                      <a:lnTo>
                        <a:pt x="17" y="0"/>
                      </a:lnTo>
                      <a:lnTo>
                        <a:pt x="12" y="0"/>
                      </a:lnTo>
                      <a:lnTo>
                        <a:pt x="8" y="0"/>
                      </a:lnTo>
                      <a:lnTo>
                        <a:pt x="4" y="0"/>
                      </a:lnTo>
                      <a:lnTo>
                        <a:pt x="0" y="1"/>
                      </a:lnTo>
                      <a:lnTo>
                        <a:pt x="288" y="276"/>
                      </a:lnTo>
                      <a:lnTo>
                        <a:pt x="288" y="273"/>
                      </a:lnTo>
                      <a:lnTo>
                        <a:pt x="288" y="268"/>
                      </a:lnTo>
                      <a:lnTo>
                        <a:pt x="288" y="265"/>
                      </a:lnTo>
                      <a:lnTo>
                        <a:pt x="288" y="26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8345520" y="3987720"/>
                  <a:ext cx="291960" cy="279360"/>
                </a:xfrm>
                <a:custGeom>
                  <a:avLst/>
                  <a:gdLst/>
                  <a:ahLst/>
                  <a:rect l="l" t="t" r="r" b="b"/>
                  <a:pathLst>
                    <a:path w="271" h="262">
                      <a:moveTo>
                        <a:pt x="271" y="245"/>
                      </a:moveTo>
                      <a:lnTo>
                        <a:pt x="16" y="0"/>
                      </a:lnTo>
                      <a:lnTo>
                        <a:pt x="11" y="0"/>
                      </a:lnTo>
                      <a:lnTo>
                        <a:pt x="8" y="0"/>
                      </a:lnTo>
                      <a:lnTo>
                        <a:pt x="3" y="0"/>
                      </a:lnTo>
                      <a:lnTo>
                        <a:pt x="0" y="2"/>
                      </a:lnTo>
                      <a:lnTo>
                        <a:pt x="271" y="262"/>
                      </a:lnTo>
                      <a:lnTo>
                        <a:pt x="271" y="257"/>
                      </a:lnTo>
                      <a:lnTo>
                        <a:pt x="271" y="253"/>
                      </a:lnTo>
                      <a:lnTo>
                        <a:pt x="271" y="249"/>
                      </a:lnTo>
                      <a:lnTo>
                        <a:pt x="271" y="24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362800" y="3987720"/>
                  <a:ext cx="274680" cy="260280"/>
                </a:xfrm>
                <a:custGeom>
                  <a:avLst/>
                  <a:gdLst/>
                  <a:ahLst/>
                  <a:rect l="l" t="t" r="r" b="b"/>
                  <a:pathLst>
                    <a:path w="255" h="246">
                      <a:moveTo>
                        <a:pt x="253" y="227"/>
                      </a:moveTo>
                      <a:lnTo>
                        <a:pt x="16" y="0"/>
                      </a:lnTo>
                      <a:lnTo>
                        <a:pt x="12" y="0"/>
                      </a:lnTo>
                      <a:lnTo>
                        <a:pt x="8" y="0"/>
                      </a:lnTo>
                      <a:lnTo>
                        <a:pt x="4" y="0"/>
                      </a:lnTo>
                      <a:lnTo>
                        <a:pt x="0" y="1"/>
                      </a:lnTo>
                      <a:lnTo>
                        <a:pt x="255" y="246"/>
                      </a:lnTo>
                      <a:lnTo>
                        <a:pt x="255" y="241"/>
                      </a:lnTo>
                      <a:lnTo>
                        <a:pt x="254" y="236"/>
                      </a:lnTo>
                      <a:lnTo>
                        <a:pt x="254" y="232"/>
                      </a:lnTo>
                      <a:lnTo>
                        <a:pt x="253" y="2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380440" y="3987720"/>
                  <a:ext cx="253800" cy="241560"/>
                </a:xfrm>
                <a:custGeom>
                  <a:avLst/>
                  <a:gdLst/>
                  <a:ahLst/>
                  <a:rect l="l" t="t" r="r" b="b"/>
                  <a:pathLst>
                    <a:path w="237" h="227">
                      <a:moveTo>
                        <a:pt x="235" y="208"/>
                      </a:moveTo>
                      <a:lnTo>
                        <a:pt x="18" y="0"/>
                      </a:lnTo>
                      <a:lnTo>
                        <a:pt x="14" y="0"/>
                      </a:lnTo>
                      <a:lnTo>
                        <a:pt x="9" y="0"/>
                      </a:lnTo>
                      <a:lnTo>
                        <a:pt x="4" y="0"/>
                      </a:lnTo>
                      <a:lnTo>
                        <a:pt x="0" y="0"/>
                      </a:lnTo>
                      <a:lnTo>
                        <a:pt x="237" y="227"/>
                      </a:lnTo>
                      <a:lnTo>
                        <a:pt x="237" y="223"/>
                      </a:lnTo>
                      <a:lnTo>
                        <a:pt x="236" y="217"/>
                      </a:lnTo>
                      <a:lnTo>
                        <a:pt x="236" y="212"/>
                      </a:lnTo>
                      <a:lnTo>
                        <a:pt x="235" y="20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8399520" y="3987720"/>
                  <a:ext cx="230040" cy="220680"/>
                </a:xfrm>
                <a:custGeom>
                  <a:avLst/>
                  <a:gdLst/>
                  <a:ahLst/>
                  <a:rect l="l" t="t" r="r" b="b"/>
                  <a:pathLst>
                    <a:path w="217" h="208">
                      <a:moveTo>
                        <a:pt x="211" y="186"/>
                      </a:moveTo>
                      <a:lnTo>
                        <a:pt x="17" y="0"/>
                      </a:lnTo>
                      <a:lnTo>
                        <a:pt x="13" y="0"/>
                      </a:lnTo>
                      <a:lnTo>
                        <a:pt x="9" y="0"/>
                      </a:lnTo>
                      <a:lnTo>
                        <a:pt x="5" y="0"/>
                      </a:lnTo>
                      <a:lnTo>
                        <a:pt x="0" y="0"/>
                      </a:lnTo>
                      <a:lnTo>
                        <a:pt x="217" y="208"/>
                      </a:lnTo>
                      <a:lnTo>
                        <a:pt x="216" y="202"/>
                      </a:lnTo>
                      <a:lnTo>
                        <a:pt x="214" y="196"/>
                      </a:lnTo>
                      <a:lnTo>
                        <a:pt x="212" y="192"/>
                      </a:lnTo>
                      <a:lnTo>
                        <a:pt x="211" y="18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8418600" y="3987720"/>
                  <a:ext cx="207720" cy="196920"/>
                </a:xfrm>
                <a:custGeom>
                  <a:avLst/>
                  <a:gdLst/>
                  <a:ahLst/>
                  <a:rect l="l" t="t" r="r" b="b"/>
                  <a:pathLst>
                    <a:path w="194" h="186">
                      <a:moveTo>
                        <a:pt x="185" y="160"/>
                      </a:moveTo>
                      <a:lnTo>
                        <a:pt x="20" y="1"/>
                      </a:lnTo>
                      <a:lnTo>
                        <a:pt x="15" y="1"/>
                      </a:lnTo>
                      <a:lnTo>
                        <a:pt x="11" y="0"/>
                      </a:lnTo>
                      <a:lnTo>
                        <a:pt x="5" y="0"/>
                      </a:lnTo>
                      <a:lnTo>
                        <a:pt x="0" y="0"/>
                      </a:lnTo>
                      <a:lnTo>
                        <a:pt x="194" y="186"/>
                      </a:lnTo>
                      <a:lnTo>
                        <a:pt x="192" y="179"/>
                      </a:lnTo>
                      <a:lnTo>
                        <a:pt x="189" y="173"/>
                      </a:lnTo>
                      <a:lnTo>
                        <a:pt x="187" y="166"/>
                      </a:lnTo>
                      <a:lnTo>
                        <a:pt x="185" y="16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8439120" y="3987720"/>
                  <a:ext cx="176400" cy="171360"/>
                </a:xfrm>
                <a:custGeom>
                  <a:avLst/>
                  <a:gdLst/>
                  <a:ahLst/>
                  <a:rect l="l" t="t" r="r" b="b"/>
                  <a:pathLst>
                    <a:path w="165" h="159">
                      <a:moveTo>
                        <a:pt x="150" y="127"/>
                      </a:moveTo>
                      <a:lnTo>
                        <a:pt x="21" y="4"/>
                      </a:lnTo>
                      <a:lnTo>
                        <a:pt x="16" y="3"/>
                      </a:lnTo>
                      <a:lnTo>
                        <a:pt x="10" y="2"/>
                      </a:lnTo>
                      <a:lnTo>
                        <a:pt x="6" y="2"/>
                      </a:lnTo>
                      <a:lnTo>
                        <a:pt x="0" y="0"/>
                      </a:lnTo>
                      <a:lnTo>
                        <a:pt x="165" y="159"/>
                      </a:lnTo>
                      <a:lnTo>
                        <a:pt x="161" y="151"/>
                      </a:lnTo>
                      <a:lnTo>
                        <a:pt x="158" y="143"/>
                      </a:lnTo>
                      <a:lnTo>
                        <a:pt x="154" y="135"/>
                      </a:lnTo>
                      <a:lnTo>
                        <a:pt x="150" y="1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461440" y="3990960"/>
                  <a:ext cx="136440" cy="133200"/>
                </a:xfrm>
                <a:custGeom>
                  <a:avLst/>
                  <a:gdLst/>
                  <a:ahLst/>
                  <a:rect l="l" t="t" r="r" b="b"/>
                  <a:pathLst>
                    <a:path w="129" h="123">
                      <a:moveTo>
                        <a:pt x="87" y="67"/>
                      </a:moveTo>
                      <a:lnTo>
                        <a:pt x="23" y="5"/>
                      </a:lnTo>
                      <a:lnTo>
                        <a:pt x="17" y="3"/>
                      </a:lnTo>
                      <a:lnTo>
                        <a:pt x="11" y="2"/>
                      </a:lnTo>
                      <a:lnTo>
                        <a:pt x="6" y="1"/>
                      </a:lnTo>
                      <a:lnTo>
                        <a:pt x="0" y="0"/>
                      </a:lnTo>
                      <a:lnTo>
                        <a:pt x="129" y="123"/>
                      </a:lnTo>
                      <a:lnTo>
                        <a:pt x="124" y="116"/>
                      </a:lnTo>
                      <a:lnTo>
                        <a:pt x="121" y="109"/>
                      </a:lnTo>
                      <a:lnTo>
                        <a:pt x="116" y="102"/>
                      </a:lnTo>
                      <a:lnTo>
                        <a:pt x="110" y="94"/>
                      </a:lnTo>
                      <a:lnTo>
                        <a:pt x="106" y="87"/>
                      </a:lnTo>
                      <a:lnTo>
                        <a:pt x="100" y="81"/>
                      </a:lnTo>
                      <a:lnTo>
                        <a:pt x="93" y="74"/>
                      </a:lnTo>
                      <a:lnTo>
                        <a:pt x="87" y="6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8485200" y="3995640"/>
                  <a:ext cx="69840" cy="66600"/>
                </a:xfrm>
                <a:custGeom>
                  <a:avLst/>
                  <a:gdLst/>
                  <a:ahLst/>
                  <a:rect l="l" t="t" r="r" b="b"/>
                  <a:pathLst>
                    <a:path w="64" h="62">
                      <a:moveTo>
                        <a:pt x="62" y="59"/>
                      </a:moveTo>
                      <a:lnTo>
                        <a:pt x="59" y="48"/>
                      </a:lnTo>
                      <a:lnTo>
                        <a:pt x="55" y="39"/>
                      </a:lnTo>
                      <a:lnTo>
                        <a:pt x="48" y="29"/>
                      </a:lnTo>
                      <a:lnTo>
                        <a:pt x="41" y="21"/>
                      </a:lnTo>
                      <a:lnTo>
                        <a:pt x="33" y="14"/>
                      </a:lnTo>
                      <a:lnTo>
                        <a:pt x="23" y="9"/>
                      </a:lnTo>
                      <a:lnTo>
                        <a:pt x="11" y="4"/>
                      </a:lnTo>
                      <a:lnTo>
                        <a:pt x="0" y="0"/>
                      </a:lnTo>
                      <a:lnTo>
                        <a:pt x="64" y="62"/>
                      </a:lnTo>
                      <a:lnTo>
                        <a:pt x="63" y="61"/>
                      </a:lnTo>
                      <a:lnTo>
                        <a:pt x="63" y="61"/>
                      </a:lnTo>
                      <a:lnTo>
                        <a:pt x="63" y="61"/>
                      </a:lnTo>
                      <a:lnTo>
                        <a:pt x="62" y="5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28" name=""/>
                <p:cNvSpPr/>
                <p:nvPr/>
              </p:nvSpPr>
              <p:spPr>
                <a:xfrm>
                  <a:off x="8589960" y="5091120"/>
                  <a:ext cx="47520" cy="63360"/>
                </a:xfrm>
                <a:custGeom>
                  <a:avLst/>
                  <a:gdLst/>
                  <a:ahLst/>
                  <a:rect l="l" t="t" r="r" b="b"/>
                  <a:pathLst>
                    <a:path w="45" h="61">
                      <a:moveTo>
                        <a:pt x="0" y="23"/>
                      </a:moveTo>
                      <a:lnTo>
                        <a:pt x="39" y="61"/>
                      </a:lnTo>
                      <a:lnTo>
                        <a:pt x="40" y="55"/>
                      </a:lnTo>
                      <a:lnTo>
                        <a:pt x="42" y="51"/>
                      </a:lnTo>
                      <a:lnTo>
                        <a:pt x="43" y="45"/>
                      </a:lnTo>
                      <a:lnTo>
                        <a:pt x="45" y="40"/>
                      </a:lnTo>
                      <a:lnTo>
                        <a:pt x="3" y="0"/>
                      </a:lnTo>
                      <a:lnTo>
                        <a:pt x="2" y="6"/>
                      </a:lnTo>
                      <a:lnTo>
                        <a:pt x="2" y="12"/>
                      </a:lnTo>
                      <a:lnTo>
                        <a:pt x="1" y="17"/>
                      </a:lnTo>
                      <a:lnTo>
                        <a:pt x="0"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29" name=""/>
                <p:cNvSpPr/>
                <p:nvPr/>
              </p:nvSpPr>
              <p:spPr>
                <a:xfrm>
                  <a:off x="7086600" y="3672000"/>
                  <a:ext cx="903240" cy="839520"/>
                </a:xfrm>
                <a:custGeom>
                  <a:avLst/>
                  <a:gdLst/>
                  <a:ahLst/>
                  <a:rect l="l" t="t" r="r" b="b"/>
                  <a:pathLst>
                    <a:path w="846" h="783">
                      <a:moveTo>
                        <a:pt x="0" y="0"/>
                      </a:moveTo>
                      <a:lnTo>
                        <a:pt x="283" y="270"/>
                      </a:lnTo>
                      <a:lnTo>
                        <a:pt x="283" y="270"/>
                      </a:lnTo>
                      <a:lnTo>
                        <a:pt x="284" y="270"/>
                      </a:lnTo>
                      <a:lnTo>
                        <a:pt x="284" y="270"/>
                      </a:lnTo>
                      <a:lnTo>
                        <a:pt x="284" y="270"/>
                      </a:lnTo>
                      <a:lnTo>
                        <a:pt x="284" y="270"/>
                      </a:lnTo>
                      <a:lnTo>
                        <a:pt x="284" y="270"/>
                      </a:lnTo>
                      <a:lnTo>
                        <a:pt x="284" y="270"/>
                      </a:lnTo>
                      <a:lnTo>
                        <a:pt x="284" y="270"/>
                      </a:lnTo>
                      <a:lnTo>
                        <a:pt x="814" y="778"/>
                      </a:lnTo>
                      <a:lnTo>
                        <a:pt x="822" y="780"/>
                      </a:lnTo>
                      <a:lnTo>
                        <a:pt x="830" y="782"/>
                      </a:lnTo>
                      <a:lnTo>
                        <a:pt x="838" y="783"/>
                      </a:lnTo>
                      <a:lnTo>
                        <a:pt x="846" y="783"/>
                      </a:lnTo>
                      <a:lnTo>
                        <a:pt x="27" y="0"/>
                      </a:lnTo>
                      <a:lnTo>
                        <a:pt x="20" y="0"/>
                      </a:lnTo>
                      <a:lnTo>
                        <a:pt x="13" y="0"/>
                      </a:lnTo>
                      <a:lnTo>
                        <a:pt x="6" y="0"/>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7058160" y="3672000"/>
                  <a:ext cx="331560" cy="303120"/>
                </a:xfrm>
                <a:custGeom>
                  <a:avLst/>
                  <a:gdLst/>
                  <a:ahLst/>
                  <a:rect l="l" t="t" r="r" b="b"/>
                  <a:pathLst>
                    <a:path w="309" h="281">
                      <a:moveTo>
                        <a:pt x="0" y="1"/>
                      </a:moveTo>
                      <a:lnTo>
                        <a:pt x="292" y="281"/>
                      </a:lnTo>
                      <a:lnTo>
                        <a:pt x="296" y="278"/>
                      </a:lnTo>
                      <a:lnTo>
                        <a:pt x="301" y="276"/>
                      </a:lnTo>
                      <a:lnTo>
                        <a:pt x="304" y="274"/>
                      </a:lnTo>
                      <a:lnTo>
                        <a:pt x="309" y="270"/>
                      </a:lnTo>
                      <a:lnTo>
                        <a:pt x="26" y="0"/>
                      </a:lnTo>
                      <a:lnTo>
                        <a:pt x="19" y="0"/>
                      </a:lnTo>
                      <a:lnTo>
                        <a:pt x="14" y="0"/>
                      </a:lnTo>
                      <a:lnTo>
                        <a:pt x="7" y="1"/>
                      </a:lnTo>
                      <a:lnTo>
                        <a:pt x="0"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8585280" y="5113440"/>
                  <a:ext cx="44280" cy="63360"/>
                </a:xfrm>
                <a:custGeom>
                  <a:avLst/>
                  <a:gdLst/>
                  <a:ahLst/>
                  <a:rect l="l" t="t" r="r" b="b"/>
                  <a:pathLst>
                    <a:path w="43" h="58">
                      <a:moveTo>
                        <a:pt x="0" y="22"/>
                      </a:moveTo>
                      <a:lnTo>
                        <a:pt x="37" y="58"/>
                      </a:lnTo>
                      <a:lnTo>
                        <a:pt x="38" y="53"/>
                      </a:lnTo>
                      <a:lnTo>
                        <a:pt x="40" y="47"/>
                      </a:lnTo>
                      <a:lnTo>
                        <a:pt x="42" y="43"/>
                      </a:lnTo>
                      <a:lnTo>
                        <a:pt x="43" y="38"/>
                      </a:lnTo>
                      <a:lnTo>
                        <a:pt x="4" y="0"/>
                      </a:lnTo>
                      <a:lnTo>
                        <a:pt x="2" y="6"/>
                      </a:lnTo>
                      <a:lnTo>
                        <a:pt x="2" y="12"/>
                      </a:lnTo>
                      <a:lnTo>
                        <a:pt x="1" y="16"/>
                      </a:lnTo>
                      <a:lnTo>
                        <a:pt x="0" y="2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32" name=""/>
                <p:cNvSpPr/>
                <p:nvPr/>
              </p:nvSpPr>
              <p:spPr>
                <a:xfrm>
                  <a:off x="7383600" y="3963960"/>
                  <a:ext cx="573120" cy="544680"/>
                </a:xfrm>
                <a:custGeom>
                  <a:avLst/>
                  <a:gdLst/>
                  <a:ahLst/>
                  <a:rect l="l" t="t" r="r" b="b"/>
                  <a:pathLst>
                    <a:path w="537" h="508">
                      <a:moveTo>
                        <a:pt x="0" y="20"/>
                      </a:moveTo>
                      <a:lnTo>
                        <a:pt x="496" y="496"/>
                      </a:lnTo>
                      <a:lnTo>
                        <a:pt x="501" y="497"/>
                      </a:lnTo>
                      <a:lnTo>
                        <a:pt x="506" y="499"/>
                      </a:lnTo>
                      <a:lnTo>
                        <a:pt x="511" y="500"/>
                      </a:lnTo>
                      <a:lnTo>
                        <a:pt x="516" y="503"/>
                      </a:lnTo>
                      <a:lnTo>
                        <a:pt x="522" y="504"/>
                      </a:lnTo>
                      <a:lnTo>
                        <a:pt x="526" y="506"/>
                      </a:lnTo>
                      <a:lnTo>
                        <a:pt x="532" y="507"/>
                      </a:lnTo>
                      <a:lnTo>
                        <a:pt x="537" y="508"/>
                      </a:lnTo>
                      <a:lnTo>
                        <a:pt x="7" y="0"/>
                      </a:lnTo>
                      <a:lnTo>
                        <a:pt x="6" y="5"/>
                      </a:lnTo>
                      <a:lnTo>
                        <a:pt x="3" y="10"/>
                      </a:lnTo>
                      <a:lnTo>
                        <a:pt x="2"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8578800" y="5137200"/>
                  <a:ext cx="47520" cy="60120"/>
                </a:xfrm>
                <a:custGeom>
                  <a:avLst/>
                  <a:gdLst/>
                  <a:ahLst/>
                  <a:rect l="l" t="t" r="r" b="b"/>
                  <a:pathLst>
                    <a:path w="43" h="55">
                      <a:moveTo>
                        <a:pt x="0" y="21"/>
                      </a:moveTo>
                      <a:lnTo>
                        <a:pt x="36" y="55"/>
                      </a:lnTo>
                      <a:lnTo>
                        <a:pt x="38" y="51"/>
                      </a:lnTo>
                      <a:lnTo>
                        <a:pt x="40" y="45"/>
                      </a:lnTo>
                      <a:lnTo>
                        <a:pt x="42" y="40"/>
                      </a:lnTo>
                      <a:lnTo>
                        <a:pt x="43" y="36"/>
                      </a:lnTo>
                      <a:lnTo>
                        <a:pt x="6" y="0"/>
                      </a:lnTo>
                      <a:lnTo>
                        <a:pt x="5" y="5"/>
                      </a:lnTo>
                      <a:lnTo>
                        <a:pt x="4" y="10"/>
                      </a:lnTo>
                      <a:lnTo>
                        <a:pt x="2" y="15"/>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34" name=""/>
                <p:cNvSpPr/>
                <p:nvPr/>
              </p:nvSpPr>
              <p:spPr>
                <a:xfrm>
                  <a:off x="7373880" y="3983040"/>
                  <a:ext cx="539640" cy="509760"/>
                </a:xfrm>
                <a:custGeom>
                  <a:avLst/>
                  <a:gdLst/>
                  <a:ahLst/>
                  <a:rect l="l" t="t" r="r" b="b"/>
                  <a:pathLst>
                    <a:path w="504" h="476">
                      <a:moveTo>
                        <a:pt x="0" y="18"/>
                      </a:moveTo>
                      <a:lnTo>
                        <a:pt x="461" y="460"/>
                      </a:lnTo>
                      <a:lnTo>
                        <a:pt x="466" y="462"/>
                      </a:lnTo>
                      <a:lnTo>
                        <a:pt x="472" y="463"/>
                      </a:lnTo>
                      <a:lnTo>
                        <a:pt x="477" y="465"/>
                      </a:lnTo>
                      <a:lnTo>
                        <a:pt x="482" y="468"/>
                      </a:lnTo>
                      <a:lnTo>
                        <a:pt x="488" y="469"/>
                      </a:lnTo>
                      <a:lnTo>
                        <a:pt x="493" y="471"/>
                      </a:lnTo>
                      <a:lnTo>
                        <a:pt x="499" y="473"/>
                      </a:lnTo>
                      <a:lnTo>
                        <a:pt x="504" y="476"/>
                      </a:lnTo>
                      <a:lnTo>
                        <a:pt x="8" y="0"/>
                      </a:lnTo>
                      <a:lnTo>
                        <a:pt x="6" y="5"/>
                      </a:lnTo>
                      <a:lnTo>
                        <a:pt x="4" y="9"/>
                      </a:lnTo>
                      <a:lnTo>
                        <a:pt x="2" y="14"/>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7031160" y="3675240"/>
                  <a:ext cx="341280" cy="307800"/>
                </a:xfrm>
                <a:custGeom>
                  <a:avLst/>
                  <a:gdLst/>
                  <a:ahLst/>
                  <a:rect l="l" t="t" r="r" b="b"/>
                  <a:pathLst>
                    <a:path w="317" h="289">
                      <a:moveTo>
                        <a:pt x="0" y="1"/>
                      </a:moveTo>
                      <a:lnTo>
                        <a:pt x="300" y="289"/>
                      </a:lnTo>
                      <a:lnTo>
                        <a:pt x="301" y="287"/>
                      </a:lnTo>
                      <a:lnTo>
                        <a:pt x="304" y="286"/>
                      </a:lnTo>
                      <a:lnTo>
                        <a:pt x="305" y="283"/>
                      </a:lnTo>
                      <a:lnTo>
                        <a:pt x="306" y="281"/>
                      </a:lnTo>
                      <a:lnTo>
                        <a:pt x="309" y="281"/>
                      </a:lnTo>
                      <a:lnTo>
                        <a:pt x="313" y="281"/>
                      </a:lnTo>
                      <a:lnTo>
                        <a:pt x="315" y="281"/>
                      </a:lnTo>
                      <a:lnTo>
                        <a:pt x="317" y="280"/>
                      </a:lnTo>
                      <a:lnTo>
                        <a:pt x="25" y="0"/>
                      </a:lnTo>
                      <a:lnTo>
                        <a:pt x="19" y="1"/>
                      </a:lnTo>
                      <a:lnTo>
                        <a:pt x="12" y="1"/>
                      </a:lnTo>
                      <a:lnTo>
                        <a:pt x="5" y="1"/>
                      </a:lnTo>
                      <a:lnTo>
                        <a:pt x="0"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7859880" y="4497480"/>
                  <a:ext cx="44280" cy="25200"/>
                </a:xfrm>
                <a:custGeom>
                  <a:avLst/>
                  <a:gdLst/>
                  <a:ahLst/>
                  <a:rect l="l" t="t" r="r" b="b"/>
                  <a:pathLst>
                    <a:path w="41" h="23">
                      <a:moveTo>
                        <a:pt x="41" y="23"/>
                      </a:moveTo>
                      <a:lnTo>
                        <a:pt x="37" y="20"/>
                      </a:lnTo>
                      <a:lnTo>
                        <a:pt x="31" y="17"/>
                      </a:lnTo>
                      <a:lnTo>
                        <a:pt x="26" y="14"/>
                      </a:lnTo>
                      <a:lnTo>
                        <a:pt x="20" y="12"/>
                      </a:lnTo>
                      <a:lnTo>
                        <a:pt x="16" y="9"/>
                      </a:lnTo>
                      <a:lnTo>
                        <a:pt x="10" y="6"/>
                      </a:lnTo>
                      <a:lnTo>
                        <a:pt x="5" y="4"/>
                      </a:lnTo>
                      <a:lnTo>
                        <a:pt x="0" y="0"/>
                      </a:lnTo>
                      <a:lnTo>
                        <a:pt x="24" y="23"/>
                      </a:lnTo>
                      <a:lnTo>
                        <a:pt x="28" y="23"/>
                      </a:lnTo>
                      <a:lnTo>
                        <a:pt x="33" y="23"/>
                      </a:lnTo>
                      <a:lnTo>
                        <a:pt x="38" y="23"/>
                      </a:lnTo>
                      <a:lnTo>
                        <a:pt x="41"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237" name=""/>
                <p:cNvSpPr/>
                <p:nvPr/>
              </p:nvSpPr>
              <p:spPr>
                <a:xfrm>
                  <a:off x="7002360" y="3676680"/>
                  <a:ext cx="351000" cy="324000"/>
                </a:xfrm>
                <a:custGeom>
                  <a:avLst/>
                  <a:gdLst/>
                  <a:ahLst/>
                  <a:rect l="l" t="t" r="r" b="b"/>
                  <a:pathLst>
                    <a:path w="328" h="303">
                      <a:moveTo>
                        <a:pt x="0" y="0"/>
                      </a:moveTo>
                      <a:lnTo>
                        <a:pt x="317" y="303"/>
                      </a:lnTo>
                      <a:lnTo>
                        <a:pt x="319" y="300"/>
                      </a:lnTo>
                      <a:lnTo>
                        <a:pt x="322" y="295"/>
                      </a:lnTo>
                      <a:lnTo>
                        <a:pt x="326" y="291"/>
                      </a:lnTo>
                      <a:lnTo>
                        <a:pt x="328" y="288"/>
                      </a:lnTo>
                      <a:lnTo>
                        <a:pt x="28" y="0"/>
                      </a:lnTo>
                      <a:lnTo>
                        <a:pt x="21" y="0"/>
                      </a:lnTo>
                      <a:lnTo>
                        <a:pt x="14" y="0"/>
                      </a:lnTo>
                      <a:lnTo>
                        <a:pt x="7" y="0"/>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7362720" y="4005360"/>
                  <a:ext cx="503280" cy="469800"/>
                </a:xfrm>
                <a:custGeom>
                  <a:avLst/>
                  <a:gdLst/>
                  <a:ahLst/>
                  <a:rect l="l" t="t" r="r" b="b"/>
                  <a:pathLst>
                    <a:path w="470" h="442">
                      <a:moveTo>
                        <a:pt x="0" y="18"/>
                      </a:moveTo>
                      <a:lnTo>
                        <a:pt x="238" y="246"/>
                      </a:lnTo>
                      <a:lnTo>
                        <a:pt x="238" y="242"/>
                      </a:lnTo>
                      <a:lnTo>
                        <a:pt x="238" y="239"/>
                      </a:lnTo>
                      <a:lnTo>
                        <a:pt x="238" y="235"/>
                      </a:lnTo>
                      <a:lnTo>
                        <a:pt x="239" y="232"/>
                      </a:lnTo>
                      <a:lnTo>
                        <a:pt x="238" y="235"/>
                      </a:lnTo>
                      <a:lnTo>
                        <a:pt x="238" y="239"/>
                      </a:lnTo>
                      <a:lnTo>
                        <a:pt x="238" y="242"/>
                      </a:lnTo>
                      <a:lnTo>
                        <a:pt x="238" y="246"/>
                      </a:lnTo>
                      <a:lnTo>
                        <a:pt x="435" y="435"/>
                      </a:lnTo>
                      <a:lnTo>
                        <a:pt x="440" y="435"/>
                      </a:lnTo>
                      <a:lnTo>
                        <a:pt x="444" y="436"/>
                      </a:lnTo>
                      <a:lnTo>
                        <a:pt x="449" y="437"/>
                      </a:lnTo>
                      <a:lnTo>
                        <a:pt x="453" y="438"/>
                      </a:lnTo>
                      <a:lnTo>
                        <a:pt x="457" y="438"/>
                      </a:lnTo>
                      <a:lnTo>
                        <a:pt x="462" y="439"/>
                      </a:lnTo>
                      <a:lnTo>
                        <a:pt x="466" y="440"/>
                      </a:lnTo>
                      <a:lnTo>
                        <a:pt x="470" y="442"/>
                      </a:lnTo>
                      <a:lnTo>
                        <a:pt x="9" y="0"/>
                      </a:lnTo>
                      <a:lnTo>
                        <a:pt x="6" y="5"/>
                      </a:lnTo>
                      <a:lnTo>
                        <a:pt x="4" y="8"/>
                      </a:lnTo>
                      <a:lnTo>
                        <a:pt x="2"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8570880" y="5159520"/>
                  <a:ext cx="46080" cy="48960"/>
                </a:xfrm>
                <a:custGeom>
                  <a:avLst/>
                  <a:gdLst/>
                  <a:ahLst/>
                  <a:rect l="l" t="t" r="r" b="b"/>
                  <a:pathLst>
                    <a:path w="44" h="46">
                      <a:moveTo>
                        <a:pt x="0" y="18"/>
                      </a:moveTo>
                      <a:lnTo>
                        <a:pt x="20" y="38"/>
                      </a:lnTo>
                      <a:lnTo>
                        <a:pt x="26" y="40"/>
                      </a:lnTo>
                      <a:lnTo>
                        <a:pt x="30" y="41"/>
                      </a:lnTo>
                      <a:lnTo>
                        <a:pt x="36" y="44"/>
                      </a:lnTo>
                      <a:lnTo>
                        <a:pt x="41" y="46"/>
                      </a:lnTo>
                      <a:lnTo>
                        <a:pt x="42" y="42"/>
                      </a:lnTo>
                      <a:lnTo>
                        <a:pt x="43" y="40"/>
                      </a:lnTo>
                      <a:lnTo>
                        <a:pt x="43" y="37"/>
                      </a:lnTo>
                      <a:lnTo>
                        <a:pt x="44" y="34"/>
                      </a:lnTo>
                      <a:lnTo>
                        <a:pt x="8" y="0"/>
                      </a:lnTo>
                      <a:lnTo>
                        <a:pt x="6" y="4"/>
                      </a:lnTo>
                      <a:lnTo>
                        <a:pt x="5" y="9"/>
                      </a:lnTo>
                      <a:lnTo>
                        <a:pt x="3" y="14"/>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240" name=""/>
                <p:cNvSpPr/>
                <p:nvPr/>
              </p:nvSpPr>
              <p:spPr>
                <a:xfrm>
                  <a:off x="8566200" y="5180040"/>
                  <a:ext cx="25200" cy="19080"/>
                </a:xfrm>
                <a:custGeom>
                  <a:avLst/>
                  <a:gdLst/>
                  <a:ahLst/>
                  <a:rect l="l" t="t" r="r" b="b"/>
                  <a:pathLst>
                    <a:path w="24" h="20">
                      <a:moveTo>
                        <a:pt x="0" y="12"/>
                      </a:moveTo>
                      <a:lnTo>
                        <a:pt x="7" y="13"/>
                      </a:lnTo>
                      <a:lnTo>
                        <a:pt x="12" y="15"/>
                      </a:lnTo>
                      <a:lnTo>
                        <a:pt x="18" y="18"/>
                      </a:lnTo>
                      <a:lnTo>
                        <a:pt x="24" y="20"/>
                      </a:lnTo>
                      <a:lnTo>
                        <a:pt x="4" y="0"/>
                      </a:lnTo>
                      <a:lnTo>
                        <a:pt x="3" y="3"/>
                      </a:lnTo>
                      <a:lnTo>
                        <a:pt x="2" y="6"/>
                      </a:lnTo>
                      <a:lnTo>
                        <a:pt x="1" y="8"/>
                      </a:lnTo>
                      <a:lnTo>
                        <a:pt x="0" y="1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41" name=""/>
                <p:cNvSpPr/>
                <p:nvPr/>
              </p:nvSpPr>
              <p:spPr>
                <a:xfrm>
                  <a:off x="7353360" y="4021200"/>
                  <a:ext cx="266760" cy="269640"/>
                </a:xfrm>
                <a:custGeom>
                  <a:avLst/>
                  <a:gdLst/>
                  <a:ahLst/>
                  <a:rect l="l" t="t" r="r" b="b"/>
                  <a:pathLst>
                    <a:path w="249" h="252">
                      <a:moveTo>
                        <a:pt x="0" y="16"/>
                      </a:moveTo>
                      <a:lnTo>
                        <a:pt x="247" y="252"/>
                      </a:lnTo>
                      <a:lnTo>
                        <a:pt x="248" y="246"/>
                      </a:lnTo>
                      <a:lnTo>
                        <a:pt x="248" y="239"/>
                      </a:lnTo>
                      <a:lnTo>
                        <a:pt x="248" y="234"/>
                      </a:lnTo>
                      <a:lnTo>
                        <a:pt x="249" y="228"/>
                      </a:lnTo>
                      <a:lnTo>
                        <a:pt x="11" y="0"/>
                      </a:lnTo>
                      <a:lnTo>
                        <a:pt x="8" y="3"/>
                      </a:lnTo>
                      <a:lnTo>
                        <a:pt x="6" y="8"/>
                      </a:lnTo>
                      <a:lnTo>
                        <a:pt x="3" y="11"/>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7618320" y="4265640"/>
                  <a:ext cx="266760" cy="257040"/>
                </a:xfrm>
                <a:custGeom>
                  <a:avLst/>
                  <a:gdLst/>
                  <a:ahLst/>
                  <a:rect l="l" t="t" r="r" b="b"/>
                  <a:pathLst>
                    <a:path w="250" h="239">
                      <a:moveTo>
                        <a:pt x="0" y="25"/>
                      </a:moveTo>
                      <a:lnTo>
                        <a:pt x="225" y="239"/>
                      </a:lnTo>
                      <a:lnTo>
                        <a:pt x="231" y="239"/>
                      </a:lnTo>
                      <a:lnTo>
                        <a:pt x="237" y="238"/>
                      </a:lnTo>
                      <a:lnTo>
                        <a:pt x="244" y="238"/>
                      </a:lnTo>
                      <a:lnTo>
                        <a:pt x="250" y="238"/>
                      </a:lnTo>
                      <a:lnTo>
                        <a:pt x="226" y="215"/>
                      </a:lnTo>
                      <a:lnTo>
                        <a:pt x="220" y="212"/>
                      </a:lnTo>
                      <a:lnTo>
                        <a:pt x="214" y="208"/>
                      </a:lnTo>
                      <a:lnTo>
                        <a:pt x="208" y="205"/>
                      </a:lnTo>
                      <a:lnTo>
                        <a:pt x="203" y="201"/>
                      </a:lnTo>
                      <a:lnTo>
                        <a:pt x="196" y="198"/>
                      </a:lnTo>
                      <a:lnTo>
                        <a:pt x="190" y="194"/>
                      </a:lnTo>
                      <a:lnTo>
                        <a:pt x="184" y="191"/>
                      </a:lnTo>
                      <a:lnTo>
                        <a:pt x="178" y="188"/>
                      </a:lnTo>
                      <a:lnTo>
                        <a:pt x="183" y="188"/>
                      </a:lnTo>
                      <a:lnTo>
                        <a:pt x="189" y="188"/>
                      </a:lnTo>
                      <a:lnTo>
                        <a:pt x="193" y="188"/>
                      </a:lnTo>
                      <a:lnTo>
                        <a:pt x="198" y="189"/>
                      </a:lnTo>
                      <a:lnTo>
                        <a:pt x="1" y="0"/>
                      </a:lnTo>
                      <a:lnTo>
                        <a:pt x="1" y="7"/>
                      </a:lnTo>
                      <a:lnTo>
                        <a:pt x="1" y="12"/>
                      </a:lnTo>
                      <a:lnTo>
                        <a:pt x="1" y="19"/>
                      </a:lnTo>
                      <a:lnTo>
                        <a:pt x="0" y="2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6972480" y="3672000"/>
                  <a:ext cx="368280" cy="342720"/>
                </a:xfrm>
                <a:custGeom>
                  <a:avLst/>
                  <a:gdLst/>
                  <a:ahLst/>
                  <a:rect l="l" t="t" r="r" b="b"/>
                  <a:pathLst>
                    <a:path w="346" h="320">
                      <a:moveTo>
                        <a:pt x="0" y="0"/>
                      </a:moveTo>
                      <a:lnTo>
                        <a:pt x="122" y="116"/>
                      </a:lnTo>
                      <a:lnTo>
                        <a:pt x="118" y="110"/>
                      </a:lnTo>
                      <a:lnTo>
                        <a:pt x="113" y="103"/>
                      </a:lnTo>
                      <a:lnTo>
                        <a:pt x="107" y="98"/>
                      </a:lnTo>
                      <a:lnTo>
                        <a:pt x="101" y="92"/>
                      </a:lnTo>
                      <a:lnTo>
                        <a:pt x="111" y="99"/>
                      </a:lnTo>
                      <a:lnTo>
                        <a:pt x="119" y="106"/>
                      </a:lnTo>
                      <a:lnTo>
                        <a:pt x="126" y="113"/>
                      </a:lnTo>
                      <a:lnTo>
                        <a:pt x="133" y="118"/>
                      </a:lnTo>
                      <a:lnTo>
                        <a:pt x="137" y="124"/>
                      </a:lnTo>
                      <a:lnTo>
                        <a:pt x="142" y="129"/>
                      </a:lnTo>
                      <a:lnTo>
                        <a:pt x="145" y="136"/>
                      </a:lnTo>
                      <a:lnTo>
                        <a:pt x="149" y="141"/>
                      </a:lnTo>
                      <a:lnTo>
                        <a:pt x="335" y="320"/>
                      </a:lnTo>
                      <a:lnTo>
                        <a:pt x="338" y="316"/>
                      </a:lnTo>
                      <a:lnTo>
                        <a:pt x="341" y="312"/>
                      </a:lnTo>
                      <a:lnTo>
                        <a:pt x="343" y="308"/>
                      </a:lnTo>
                      <a:lnTo>
                        <a:pt x="346" y="305"/>
                      </a:lnTo>
                      <a:lnTo>
                        <a:pt x="29" y="2"/>
                      </a:lnTo>
                      <a:lnTo>
                        <a:pt x="22" y="2"/>
                      </a:lnTo>
                      <a:lnTo>
                        <a:pt x="15" y="1"/>
                      </a:lnTo>
                      <a:lnTo>
                        <a:pt x="7"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615080" y="4294080"/>
                  <a:ext cx="243000" cy="230400"/>
                </a:xfrm>
                <a:custGeom>
                  <a:avLst/>
                  <a:gdLst/>
                  <a:ahLst/>
                  <a:rect l="l" t="t" r="r" b="b"/>
                  <a:pathLst>
                    <a:path w="226" h="216">
                      <a:moveTo>
                        <a:pt x="0" y="24"/>
                      </a:moveTo>
                      <a:lnTo>
                        <a:pt x="200" y="216"/>
                      </a:lnTo>
                      <a:lnTo>
                        <a:pt x="206" y="216"/>
                      </a:lnTo>
                      <a:lnTo>
                        <a:pt x="213" y="214"/>
                      </a:lnTo>
                      <a:lnTo>
                        <a:pt x="220" y="214"/>
                      </a:lnTo>
                      <a:lnTo>
                        <a:pt x="226" y="214"/>
                      </a:lnTo>
                      <a:lnTo>
                        <a:pt x="1" y="0"/>
                      </a:lnTo>
                      <a:lnTo>
                        <a:pt x="1" y="7"/>
                      </a:lnTo>
                      <a:lnTo>
                        <a:pt x="1" y="13"/>
                      </a:lnTo>
                      <a:lnTo>
                        <a:pt x="1" y="19"/>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7129440" y="3824280"/>
                  <a:ext cx="200160" cy="209520"/>
                </a:xfrm>
                <a:custGeom>
                  <a:avLst/>
                  <a:gdLst/>
                  <a:ahLst/>
                  <a:rect l="l" t="t" r="r" b="b"/>
                  <a:pathLst>
                    <a:path w="186" h="195">
                      <a:moveTo>
                        <a:pt x="12" y="40"/>
                      </a:moveTo>
                      <a:lnTo>
                        <a:pt x="176" y="195"/>
                      </a:lnTo>
                      <a:lnTo>
                        <a:pt x="178" y="192"/>
                      </a:lnTo>
                      <a:lnTo>
                        <a:pt x="182" y="187"/>
                      </a:lnTo>
                      <a:lnTo>
                        <a:pt x="184" y="184"/>
                      </a:lnTo>
                      <a:lnTo>
                        <a:pt x="186" y="179"/>
                      </a:lnTo>
                      <a:lnTo>
                        <a:pt x="0" y="0"/>
                      </a:lnTo>
                      <a:lnTo>
                        <a:pt x="3" y="8"/>
                      </a:lnTo>
                      <a:lnTo>
                        <a:pt x="7" y="18"/>
                      </a:lnTo>
                      <a:lnTo>
                        <a:pt x="9" y="28"/>
                      </a:lnTo>
                      <a:lnTo>
                        <a:pt x="12" y="4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7342200" y="4038480"/>
                  <a:ext cx="272880" cy="277920"/>
                </a:xfrm>
                <a:custGeom>
                  <a:avLst/>
                  <a:gdLst/>
                  <a:ahLst/>
                  <a:rect l="l" t="t" r="r" b="b"/>
                  <a:pathLst>
                    <a:path w="256" h="259">
                      <a:moveTo>
                        <a:pt x="0" y="17"/>
                      </a:moveTo>
                      <a:lnTo>
                        <a:pt x="253" y="259"/>
                      </a:lnTo>
                      <a:lnTo>
                        <a:pt x="255" y="253"/>
                      </a:lnTo>
                      <a:lnTo>
                        <a:pt x="255" y="248"/>
                      </a:lnTo>
                      <a:lnTo>
                        <a:pt x="256" y="242"/>
                      </a:lnTo>
                      <a:lnTo>
                        <a:pt x="256" y="236"/>
                      </a:lnTo>
                      <a:lnTo>
                        <a:pt x="9" y="0"/>
                      </a:lnTo>
                      <a:lnTo>
                        <a:pt x="7" y="4"/>
                      </a:lnTo>
                      <a:lnTo>
                        <a:pt x="5"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6948360" y="3670200"/>
                  <a:ext cx="173160" cy="176400"/>
                </a:xfrm>
                <a:custGeom>
                  <a:avLst/>
                  <a:gdLst/>
                  <a:ahLst/>
                  <a:rect l="l" t="t" r="r" b="b"/>
                  <a:pathLst>
                    <a:path w="163" h="165">
                      <a:moveTo>
                        <a:pt x="0" y="0"/>
                      </a:moveTo>
                      <a:lnTo>
                        <a:pt x="0" y="3"/>
                      </a:lnTo>
                      <a:lnTo>
                        <a:pt x="0" y="5"/>
                      </a:lnTo>
                      <a:lnTo>
                        <a:pt x="0" y="7"/>
                      </a:lnTo>
                      <a:lnTo>
                        <a:pt x="0" y="9"/>
                      </a:lnTo>
                      <a:lnTo>
                        <a:pt x="80" y="85"/>
                      </a:lnTo>
                      <a:lnTo>
                        <a:pt x="87" y="90"/>
                      </a:lnTo>
                      <a:lnTo>
                        <a:pt x="93" y="95"/>
                      </a:lnTo>
                      <a:lnTo>
                        <a:pt x="98" y="100"/>
                      </a:lnTo>
                      <a:lnTo>
                        <a:pt x="103" y="107"/>
                      </a:lnTo>
                      <a:lnTo>
                        <a:pt x="163" y="165"/>
                      </a:lnTo>
                      <a:lnTo>
                        <a:pt x="159" y="153"/>
                      </a:lnTo>
                      <a:lnTo>
                        <a:pt x="156" y="142"/>
                      </a:lnTo>
                      <a:lnTo>
                        <a:pt x="150" y="132"/>
                      </a:lnTo>
                      <a:lnTo>
                        <a:pt x="143" y="120"/>
                      </a:lnTo>
                      <a:lnTo>
                        <a:pt x="21" y="4"/>
                      </a:lnTo>
                      <a:lnTo>
                        <a:pt x="16" y="3"/>
                      </a:lnTo>
                      <a:lnTo>
                        <a:pt x="11" y="1"/>
                      </a:lnTo>
                      <a:lnTo>
                        <a:pt x="6"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016760" y="3773520"/>
                  <a:ext cx="55440" cy="50760"/>
                </a:xfrm>
                <a:custGeom>
                  <a:avLst/>
                  <a:gdLst/>
                  <a:ahLst/>
                  <a:rect l="l" t="t" r="r" b="b"/>
                  <a:pathLst>
                    <a:path w="51" h="48">
                      <a:moveTo>
                        <a:pt x="0" y="0"/>
                      </a:moveTo>
                      <a:lnTo>
                        <a:pt x="51" y="48"/>
                      </a:lnTo>
                      <a:lnTo>
                        <a:pt x="48" y="39"/>
                      </a:lnTo>
                      <a:lnTo>
                        <a:pt x="45" y="31"/>
                      </a:lnTo>
                      <a:lnTo>
                        <a:pt x="39" y="24"/>
                      </a:lnTo>
                      <a:lnTo>
                        <a:pt x="33" y="17"/>
                      </a:lnTo>
                      <a:lnTo>
                        <a:pt x="26" y="12"/>
                      </a:lnTo>
                      <a:lnTo>
                        <a:pt x="18" y="7"/>
                      </a:lnTo>
                      <a:lnTo>
                        <a:pt x="9"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249" name=""/>
                <p:cNvSpPr/>
                <p:nvPr/>
              </p:nvSpPr>
              <p:spPr>
                <a:xfrm>
                  <a:off x="7613640" y="4319640"/>
                  <a:ext cx="219240" cy="204840"/>
                </a:xfrm>
                <a:custGeom>
                  <a:avLst/>
                  <a:gdLst/>
                  <a:ahLst/>
                  <a:rect l="l" t="t" r="r" b="b"/>
                  <a:pathLst>
                    <a:path w="203" h="193">
                      <a:moveTo>
                        <a:pt x="0" y="23"/>
                      </a:moveTo>
                      <a:lnTo>
                        <a:pt x="177" y="193"/>
                      </a:lnTo>
                      <a:lnTo>
                        <a:pt x="184" y="193"/>
                      </a:lnTo>
                      <a:lnTo>
                        <a:pt x="190" y="193"/>
                      </a:lnTo>
                      <a:lnTo>
                        <a:pt x="196" y="193"/>
                      </a:lnTo>
                      <a:lnTo>
                        <a:pt x="203" y="192"/>
                      </a:lnTo>
                      <a:lnTo>
                        <a:pt x="3" y="0"/>
                      </a:lnTo>
                      <a:lnTo>
                        <a:pt x="2" y="6"/>
                      </a:lnTo>
                      <a:lnTo>
                        <a:pt x="2" y="12"/>
                      </a:lnTo>
                      <a:lnTo>
                        <a:pt x="2" y="18"/>
                      </a:lnTo>
                      <a:lnTo>
                        <a:pt x="0"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058160" y="3784680"/>
                  <a:ext cx="69840" cy="95040"/>
                </a:xfrm>
                <a:custGeom>
                  <a:avLst/>
                  <a:gdLst/>
                  <a:ahLst/>
                  <a:rect l="l" t="t" r="r" b="b"/>
                  <a:pathLst>
                    <a:path w="64" h="89">
                      <a:moveTo>
                        <a:pt x="13" y="40"/>
                      </a:moveTo>
                      <a:lnTo>
                        <a:pt x="64" y="89"/>
                      </a:lnTo>
                      <a:lnTo>
                        <a:pt x="63" y="81"/>
                      </a:lnTo>
                      <a:lnTo>
                        <a:pt x="62" y="73"/>
                      </a:lnTo>
                      <a:lnTo>
                        <a:pt x="61" y="66"/>
                      </a:lnTo>
                      <a:lnTo>
                        <a:pt x="60" y="58"/>
                      </a:lnTo>
                      <a:lnTo>
                        <a:pt x="0" y="0"/>
                      </a:lnTo>
                      <a:lnTo>
                        <a:pt x="4" y="8"/>
                      </a:lnTo>
                      <a:lnTo>
                        <a:pt x="8" y="18"/>
                      </a:lnTo>
                      <a:lnTo>
                        <a:pt x="10" y="28"/>
                      </a:lnTo>
                      <a:lnTo>
                        <a:pt x="13" y="4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7143840" y="3867120"/>
                  <a:ext cx="174600" cy="184320"/>
                </a:xfrm>
                <a:custGeom>
                  <a:avLst/>
                  <a:gdLst/>
                  <a:ahLst/>
                  <a:rect l="l" t="t" r="r" b="b"/>
                  <a:pathLst>
                    <a:path w="164" h="171">
                      <a:moveTo>
                        <a:pt x="7" y="24"/>
                      </a:moveTo>
                      <a:lnTo>
                        <a:pt x="7" y="26"/>
                      </a:lnTo>
                      <a:lnTo>
                        <a:pt x="7" y="28"/>
                      </a:lnTo>
                      <a:lnTo>
                        <a:pt x="7" y="30"/>
                      </a:lnTo>
                      <a:lnTo>
                        <a:pt x="7" y="32"/>
                      </a:lnTo>
                      <a:lnTo>
                        <a:pt x="154" y="171"/>
                      </a:lnTo>
                      <a:lnTo>
                        <a:pt x="156" y="167"/>
                      </a:lnTo>
                      <a:lnTo>
                        <a:pt x="159" y="163"/>
                      </a:lnTo>
                      <a:lnTo>
                        <a:pt x="162" y="160"/>
                      </a:lnTo>
                      <a:lnTo>
                        <a:pt x="164" y="155"/>
                      </a:lnTo>
                      <a:lnTo>
                        <a:pt x="0" y="0"/>
                      </a:lnTo>
                      <a:lnTo>
                        <a:pt x="3" y="5"/>
                      </a:lnTo>
                      <a:lnTo>
                        <a:pt x="4" y="11"/>
                      </a:lnTo>
                      <a:lnTo>
                        <a:pt x="6" y="17"/>
                      </a:lnTo>
                      <a:lnTo>
                        <a:pt x="7"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926400" y="3678120"/>
                  <a:ext cx="107640" cy="82800"/>
                </a:xfrm>
                <a:custGeom>
                  <a:avLst/>
                  <a:gdLst/>
                  <a:ahLst/>
                  <a:rect l="l" t="t" r="r" b="b"/>
                  <a:pathLst>
                    <a:path w="100" h="76">
                      <a:moveTo>
                        <a:pt x="20" y="3"/>
                      </a:moveTo>
                      <a:lnTo>
                        <a:pt x="16" y="3"/>
                      </a:lnTo>
                      <a:lnTo>
                        <a:pt x="11" y="3"/>
                      </a:lnTo>
                      <a:lnTo>
                        <a:pt x="7" y="3"/>
                      </a:lnTo>
                      <a:lnTo>
                        <a:pt x="2" y="3"/>
                      </a:lnTo>
                      <a:lnTo>
                        <a:pt x="1" y="4"/>
                      </a:lnTo>
                      <a:lnTo>
                        <a:pt x="1" y="5"/>
                      </a:lnTo>
                      <a:lnTo>
                        <a:pt x="1" y="6"/>
                      </a:lnTo>
                      <a:lnTo>
                        <a:pt x="0" y="7"/>
                      </a:lnTo>
                      <a:lnTo>
                        <a:pt x="70" y="74"/>
                      </a:lnTo>
                      <a:lnTo>
                        <a:pt x="78" y="73"/>
                      </a:lnTo>
                      <a:lnTo>
                        <a:pt x="86" y="73"/>
                      </a:lnTo>
                      <a:lnTo>
                        <a:pt x="93" y="74"/>
                      </a:lnTo>
                      <a:lnTo>
                        <a:pt x="100" y="76"/>
                      </a:lnTo>
                      <a:lnTo>
                        <a:pt x="20" y="0"/>
                      </a:lnTo>
                      <a:lnTo>
                        <a:pt x="20" y="2"/>
                      </a:lnTo>
                      <a:lnTo>
                        <a:pt x="20" y="2"/>
                      </a:lnTo>
                      <a:lnTo>
                        <a:pt x="20" y="3"/>
                      </a:lnTo>
                      <a:lnTo>
                        <a:pt x="20" y="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253" name=""/>
                <p:cNvSpPr/>
                <p:nvPr/>
              </p:nvSpPr>
              <p:spPr>
                <a:xfrm>
                  <a:off x="7334280" y="4057560"/>
                  <a:ext cx="279360" cy="285840"/>
                </a:xfrm>
                <a:custGeom>
                  <a:avLst/>
                  <a:gdLst/>
                  <a:ahLst/>
                  <a:rect l="l" t="t" r="r" b="b"/>
                  <a:pathLst>
                    <a:path w="262" h="265">
                      <a:moveTo>
                        <a:pt x="0" y="16"/>
                      </a:moveTo>
                      <a:lnTo>
                        <a:pt x="259" y="265"/>
                      </a:lnTo>
                      <a:lnTo>
                        <a:pt x="260" y="259"/>
                      </a:lnTo>
                      <a:lnTo>
                        <a:pt x="261" y="254"/>
                      </a:lnTo>
                      <a:lnTo>
                        <a:pt x="261" y="248"/>
                      </a:lnTo>
                      <a:lnTo>
                        <a:pt x="262" y="242"/>
                      </a:lnTo>
                      <a:lnTo>
                        <a:pt x="9" y="0"/>
                      </a:lnTo>
                      <a:lnTo>
                        <a:pt x="7" y="4"/>
                      </a:lnTo>
                      <a:lnTo>
                        <a:pt x="4" y="8"/>
                      </a:lnTo>
                      <a:lnTo>
                        <a:pt x="2" y="12"/>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986520" y="3770280"/>
                  <a:ext cx="85680" cy="82440"/>
                </a:xfrm>
                <a:custGeom>
                  <a:avLst/>
                  <a:gdLst/>
                  <a:ahLst/>
                  <a:rect l="l" t="t" r="r" b="b"/>
                  <a:pathLst>
                    <a:path w="81" h="76">
                      <a:moveTo>
                        <a:pt x="80" y="50"/>
                      </a:moveTo>
                      <a:lnTo>
                        <a:pt x="29" y="2"/>
                      </a:lnTo>
                      <a:lnTo>
                        <a:pt x="22" y="1"/>
                      </a:lnTo>
                      <a:lnTo>
                        <a:pt x="15" y="0"/>
                      </a:lnTo>
                      <a:lnTo>
                        <a:pt x="7" y="0"/>
                      </a:lnTo>
                      <a:lnTo>
                        <a:pt x="0" y="1"/>
                      </a:lnTo>
                      <a:lnTo>
                        <a:pt x="78" y="76"/>
                      </a:lnTo>
                      <a:lnTo>
                        <a:pt x="80" y="69"/>
                      </a:lnTo>
                      <a:lnTo>
                        <a:pt x="81" y="63"/>
                      </a:lnTo>
                      <a:lnTo>
                        <a:pt x="81" y="56"/>
                      </a:lnTo>
                      <a:lnTo>
                        <a:pt x="80" y="5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55" name=""/>
                <p:cNvSpPr/>
                <p:nvPr/>
              </p:nvSpPr>
              <p:spPr>
                <a:xfrm>
                  <a:off x="7072200" y="3827520"/>
                  <a:ext cx="57240" cy="82440"/>
                </a:xfrm>
                <a:custGeom>
                  <a:avLst/>
                  <a:gdLst/>
                  <a:ahLst/>
                  <a:rect l="l" t="t" r="r" b="b"/>
                  <a:pathLst>
                    <a:path w="55" h="78">
                      <a:moveTo>
                        <a:pt x="3" y="27"/>
                      </a:moveTo>
                      <a:lnTo>
                        <a:pt x="55" y="78"/>
                      </a:lnTo>
                      <a:lnTo>
                        <a:pt x="54" y="70"/>
                      </a:lnTo>
                      <a:lnTo>
                        <a:pt x="54" y="63"/>
                      </a:lnTo>
                      <a:lnTo>
                        <a:pt x="53" y="56"/>
                      </a:lnTo>
                      <a:lnTo>
                        <a:pt x="51" y="49"/>
                      </a:lnTo>
                      <a:lnTo>
                        <a:pt x="0" y="0"/>
                      </a:lnTo>
                      <a:lnTo>
                        <a:pt x="1" y="6"/>
                      </a:lnTo>
                      <a:lnTo>
                        <a:pt x="2" y="13"/>
                      </a:lnTo>
                      <a:lnTo>
                        <a:pt x="2" y="20"/>
                      </a:lnTo>
                      <a:lnTo>
                        <a:pt x="3"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56" name=""/>
                <p:cNvSpPr/>
                <p:nvPr/>
              </p:nvSpPr>
              <p:spPr>
                <a:xfrm>
                  <a:off x="6916680" y="3687840"/>
                  <a:ext cx="85680" cy="75960"/>
                </a:xfrm>
                <a:custGeom>
                  <a:avLst/>
                  <a:gdLst/>
                  <a:ahLst/>
                  <a:rect l="l" t="t" r="r" b="b"/>
                  <a:pathLst>
                    <a:path w="81" h="73">
                      <a:moveTo>
                        <a:pt x="0" y="16"/>
                      </a:moveTo>
                      <a:lnTo>
                        <a:pt x="60" y="73"/>
                      </a:lnTo>
                      <a:lnTo>
                        <a:pt x="66" y="71"/>
                      </a:lnTo>
                      <a:lnTo>
                        <a:pt x="71" y="69"/>
                      </a:lnTo>
                      <a:lnTo>
                        <a:pt x="76" y="68"/>
                      </a:lnTo>
                      <a:lnTo>
                        <a:pt x="81" y="67"/>
                      </a:lnTo>
                      <a:lnTo>
                        <a:pt x="11" y="0"/>
                      </a:lnTo>
                      <a:lnTo>
                        <a:pt x="8" y="4"/>
                      </a:lnTo>
                      <a:lnTo>
                        <a:pt x="6" y="8"/>
                      </a:lnTo>
                      <a:lnTo>
                        <a:pt x="3" y="12"/>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7" name=""/>
                <p:cNvSpPr/>
                <p:nvPr/>
              </p:nvSpPr>
              <p:spPr>
                <a:xfrm>
                  <a:off x="7323120" y="4075200"/>
                  <a:ext cx="285840" cy="288720"/>
                </a:xfrm>
                <a:custGeom>
                  <a:avLst/>
                  <a:gdLst/>
                  <a:ahLst/>
                  <a:rect l="l" t="t" r="r" b="b"/>
                  <a:pathLst>
                    <a:path w="270" h="270">
                      <a:moveTo>
                        <a:pt x="0" y="16"/>
                      </a:moveTo>
                      <a:lnTo>
                        <a:pt x="265" y="270"/>
                      </a:lnTo>
                      <a:lnTo>
                        <a:pt x="267" y="264"/>
                      </a:lnTo>
                      <a:lnTo>
                        <a:pt x="268" y="259"/>
                      </a:lnTo>
                      <a:lnTo>
                        <a:pt x="269" y="254"/>
                      </a:lnTo>
                      <a:lnTo>
                        <a:pt x="270" y="249"/>
                      </a:lnTo>
                      <a:lnTo>
                        <a:pt x="11" y="0"/>
                      </a:lnTo>
                      <a:lnTo>
                        <a:pt x="8" y="5"/>
                      </a:lnTo>
                      <a:lnTo>
                        <a:pt x="6" y="8"/>
                      </a:lnTo>
                      <a:lnTo>
                        <a:pt x="3" y="12"/>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607160" y="4344840"/>
                  <a:ext cx="195480" cy="182880"/>
                </a:xfrm>
                <a:custGeom>
                  <a:avLst/>
                  <a:gdLst/>
                  <a:ahLst/>
                  <a:rect l="l" t="t" r="r" b="b"/>
                  <a:pathLst>
                    <a:path w="182" h="171">
                      <a:moveTo>
                        <a:pt x="0" y="21"/>
                      </a:moveTo>
                      <a:lnTo>
                        <a:pt x="156" y="171"/>
                      </a:lnTo>
                      <a:lnTo>
                        <a:pt x="163" y="171"/>
                      </a:lnTo>
                      <a:lnTo>
                        <a:pt x="169" y="171"/>
                      </a:lnTo>
                      <a:lnTo>
                        <a:pt x="176" y="171"/>
                      </a:lnTo>
                      <a:lnTo>
                        <a:pt x="182" y="170"/>
                      </a:lnTo>
                      <a:lnTo>
                        <a:pt x="5" y="0"/>
                      </a:lnTo>
                      <a:lnTo>
                        <a:pt x="4" y="5"/>
                      </a:lnTo>
                      <a:lnTo>
                        <a:pt x="3" y="11"/>
                      </a:lnTo>
                      <a:lnTo>
                        <a:pt x="1" y="15"/>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7151760" y="3902040"/>
                  <a:ext cx="155520" cy="166680"/>
                </a:xfrm>
                <a:custGeom>
                  <a:avLst/>
                  <a:gdLst/>
                  <a:ahLst/>
                  <a:rect l="l" t="t" r="r" b="b"/>
                  <a:pathLst>
                    <a:path w="147" h="155">
                      <a:moveTo>
                        <a:pt x="1" y="26"/>
                      </a:moveTo>
                      <a:lnTo>
                        <a:pt x="136" y="155"/>
                      </a:lnTo>
                      <a:lnTo>
                        <a:pt x="139" y="152"/>
                      </a:lnTo>
                      <a:lnTo>
                        <a:pt x="142" y="147"/>
                      </a:lnTo>
                      <a:lnTo>
                        <a:pt x="144" y="144"/>
                      </a:lnTo>
                      <a:lnTo>
                        <a:pt x="147" y="139"/>
                      </a:lnTo>
                      <a:lnTo>
                        <a:pt x="0" y="0"/>
                      </a:lnTo>
                      <a:lnTo>
                        <a:pt x="0" y="7"/>
                      </a:lnTo>
                      <a:lnTo>
                        <a:pt x="0" y="12"/>
                      </a:lnTo>
                      <a:lnTo>
                        <a:pt x="0" y="19"/>
                      </a:lnTo>
                      <a:lnTo>
                        <a:pt x="1"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6966000" y="3770280"/>
                  <a:ext cx="104760" cy="101520"/>
                </a:xfrm>
                <a:custGeom>
                  <a:avLst/>
                  <a:gdLst/>
                  <a:ahLst/>
                  <a:rect l="l" t="t" r="r" b="b"/>
                  <a:pathLst>
                    <a:path w="99" h="93">
                      <a:moveTo>
                        <a:pt x="99" y="75"/>
                      </a:moveTo>
                      <a:lnTo>
                        <a:pt x="21" y="0"/>
                      </a:lnTo>
                      <a:lnTo>
                        <a:pt x="16" y="0"/>
                      </a:lnTo>
                      <a:lnTo>
                        <a:pt x="11" y="1"/>
                      </a:lnTo>
                      <a:lnTo>
                        <a:pt x="6" y="3"/>
                      </a:lnTo>
                      <a:lnTo>
                        <a:pt x="0" y="6"/>
                      </a:lnTo>
                      <a:lnTo>
                        <a:pt x="91" y="93"/>
                      </a:lnTo>
                      <a:lnTo>
                        <a:pt x="94" y="89"/>
                      </a:lnTo>
                      <a:lnTo>
                        <a:pt x="96" y="84"/>
                      </a:lnTo>
                      <a:lnTo>
                        <a:pt x="97" y="79"/>
                      </a:lnTo>
                      <a:lnTo>
                        <a:pt x="99" y="7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6910560" y="3705120"/>
                  <a:ext cx="69840" cy="69840"/>
                </a:xfrm>
                <a:custGeom>
                  <a:avLst/>
                  <a:gdLst/>
                  <a:ahLst/>
                  <a:rect l="l" t="t" r="r" b="b"/>
                  <a:pathLst>
                    <a:path w="66" h="67">
                      <a:moveTo>
                        <a:pt x="0" y="20"/>
                      </a:moveTo>
                      <a:lnTo>
                        <a:pt x="50" y="67"/>
                      </a:lnTo>
                      <a:lnTo>
                        <a:pt x="55" y="64"/>
                      </a:lnTo>
                      <a:lnTo>
                        <a:pt x="58" y="62"/>
                      </a:lnTo>
                      <a:lnTo>
                        <a:pt x="63" y="59"/>
                      </a:lnTo>
                      <a:lnTo>
                        <a:pt x="66" y="57"/>
                      </a:lnTo>
                      <a:lnTo>
                        <a:pt x="6" y="0"/>
                      </a:lnTo>
                      <a:lnTo>
                        <a:pt x="4" y="5"/>
                      </a:lnTo>
                      <a:lnTo>
                        <a:pt x="2" y="10"/>
                      </a:lnTo>
                      <a:lnTo>
                        <a:pt x="0"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62" name=""/>
                <p:cNvSpPr/>
                <p:nvPr/>
              </p:nvSpPr>
              <p:spPr>
                <a:xfrm>
                  <a:off x="7311960" y="4092480"/>
                  <a:ext cx="293760" cy="293760"/>
                </a:xfrm>
                <a:custGeom>
                  <a:avLst/>
                  <a:gdLst/>
                  <a:ahLst/>
                  <a:rect l="l" t="t" r="r" b="b"/>
                  <a:pathLst>
                    <a:path w="274" h="273">
                      <a:moveTo>
                        <a:pt x="0" y="16"/>
                      </a:moveTo>
                      <a:lnTo>
                        <a:pt x="267" y="273"/>
                      </a:lnTo>
                      <a:lnTo>
                        <a:pt x="270" y="269"/>
                      </a:lnTo>
                      <a:lnTo>
                        <a:pt x="271" y="263"/>
                      </a:lnTo>
                      <a:lnTo>
                        <a:pt x="273" y="258"/>
                      </a:lnTo>
                      <a:lnTo>
                        <a:pt x="274" y="254"/>
                      </a:lnTo>
                      <a:lnTo>
                        <a:pt x="9" y="0"/>
                      </a:lnTo>
                      <a:lnTo>
                        <a:pt x="7" y="5"/>
                      </a:lnTo>
                      <a:lnTo>
                        <a:pt x="5" y="8"/>
                      </a:lnTo>
                      <a:lnTo>
                        <a:pt x="2" y="13"/>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7151760" y="3929040"/>
                  <a:ext cx="145800" cy="157320"/>
                </a:xfrm>
                <a:custGeom>
                  <a:avLst/>
                  <a:gdLst/>
                  <a:ahLst/>
                  <a:rect l="l" t="t" r="r" b="b"/>
                  <a:pathLst>
                    <a:path w="135" h="147">
                      <a:moveTo>
                        <a:pt x="3" y="29"/>
                      </a:moveTo>
                      <a:lnTo>
                        <a:pt x="126" y="147"/>
                      </a:lnTo>
                      <a:lnTo>
                        <a:pt x="128" y="142"/>
                      </a:lnTo>
                      <a:lnTo>
                        <a:pt x="131" y="137"/>
                      </a:lnTo>
                      <a:lnTo>
                        <a:pt x="133" y="134"/>
                      </a:lnTo>
                      <a:lnTo>
                        <a:pt x="135" y="129"/>
                      </a:lnTo>
                      <a:lnTo>
                        <a:pt x="0" y="0"/>
                      </a:lnTo>
                      <a:lnTo>
                        <a:pt x="0" y="8"/>
                      </a:lnTo>
                      <a:lnTo>
                        <a:pt x="2" y="15"/>
                      </a:lnTo>
                      <a:lnTo>
                        <a:pt x="2" y="22"/>
                      </a:lnTo>
                      <a:lnTo>
                        <a:pt x="3" y="2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7601040" y="4367160"/>
                  <a:ext cx="176040" cy="162000"/>
                </a:xfrm>
                <a:custGeom>
                  <a:avLst/>
                  <a:gdLst/>
                  <a:ahLst/>
                  <a:rect l="l" t="t" r="r" b="b"/>
                  <a:pathLst>
                    <a:path w="163" h="151">
                      <a:moveTo>
                        <a:pt x="0" y="20"/>
                      </a:moveTo>
                      <a:lnTo>
                        <a:pt x="138" y="151"/>
                      </a:lnTo>
                      <a:lnTo>
                        <a:pt x="144" y="151"/>
                      </a:lnTo>
                      <a:lnTo>
                        <a:pt x="151" y="151"/>
                      </a:lnTo>
                      <a:lnTo>
                        <a:pt x="158" y="151"/>
                      </a:lnTo>
                      <a:lnTo>
                        <a:pt x="163" y="150"/>
                      </a:lnTo>
                      <a:lnTo>
                        <a:pt x="7" y="0"/>
                      </a:lnTo>
                      <a:lnTo>
                        <a:pt x="6" y="5"/>
                      </a:lnTo>
                      <a:lnTo>
                        <a:pt x="4" y="9"/>
                      </a:lnTo>
                      <a:lnTo>
                        <a:pt x="2"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7074000" y="3855960"/>
                  <a:ext cx="61920" cy="85680"/>
                </a:xfrm>
                <a:custGeom>
                  <a:avLst/>
                  <a:gdLst/>
                  <a:ahLst/>
                  <a:rect l="l" t="t" r="r" b="b"/>
                  <a:pathLst>
                    <a:path w="57" h="81">
                      <a:moveTo>
                        <a:pt x="0" y="21"/>
                      </a:moveTo>
                      <a:lnTo>
                        <a:pt x="4" y="27"/>
                      </a:lnTo>
                      <a:lnTo>
                        <a:pt x="9" y="31"/>
                      </a:lnTo>
                      <a:lnTo>
                        <a:pt x="13" y="37"/>
                      </a:lnTo>
                      <a:lnTo>
                        <a:pt x="17" y="43"/>
                      </a:lnTo>
                      <a:lnTo>
                        <a:pt x="57" y="81"/>
                      </a:lnTo>
                      <a:lnTo>
                        <a:pt x="56" y="73"/>
                      </a:lnTo>
                      <a:lnTo>
                        <a:pt x="55" y="66"/>
                      </a:lnTo>
                      <a:lnTo>
                        <a:pt x="54" y="58"/>
                      </a:lnTo>
                      <a:lnTo>
                        <a:pt x="53" y="51"/>
                      </a:lnTo>
                      <a:lnTo>
                        <a:pt x="1" y="0"/>
                      </a:lnTo>
                      <a:lnTo>
                        <a:pt x="1" y="5"/>
                      </a:lnTo>
                      <a:lnTo>
                        <a:pt x="1" y="11"/>
                      </a:lnTo>
                      <a:lnTo>
                        <a:pt x="1" y="15"/>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66" name=""/>
                <p:cNvSpPr/>
                <p:nvPr/>
              </p:nvSpPr>
              <p:spPr>
                <a:xfrm>
                  <a:off x="6948360" y="3776760"/>
                  <a:ext cx="112680" cy="109440"/>
                </a:xfrm>
                <a:custGeom>
                  <a:avLst/>
                  <a:gdLst/>
                  <a:ahLst/>
                  <a:rect l="l" t="t" r="r" b="b"/>
                  <a:pathLst>
                    <a:path w="107" h="101">
                      <a:moveTo>
                        <a:pt x="100" y="98"/>
                      </a:moveTo>
                      <a:lnTo>
                        <a:pt x="103" y="95"/>
                      </a:lnTo>
                      <a:lnTo>
                        <a:pt x="104" y="92"/>
                      </a:lnTo>
                      <a:lnTo>
                        <a:pt x="106" y="89"/>
                      </a:lnTo>
                      <a:lnTo>
                        <a:pt x="107" y="87"/>
                      </a:lnTo>
                      <a:lnTo>
                        <a:pt x="16" y="0"/>
                      </a:lnTo>
                      <a:lnTo>
                        <a:pt x="12" y="2"/>
                      </a:lnTo>
                      <a:lnTo>
                        <a:pt x="8" y="4"/>
                      </a:lnTo>
                      <a:lnTo>
                        <a:pt x="4" y="7"/>
                      </a:lnTo>
                      <a:lnTo>
                        <a:pt x="0" y="10"/>
                      </a:lnTo>
                      <a:lnTo>
                        <a:pt x="95" y="101"/>
                      </a:lnTo>
                      <a:lnTo>
                        <a:pt x="96" y="100"/>
                      </a:lnTo>
                      <a:lnTo>
                        <a:pt x="98" y="99"/>
                      </a:lnTo>
                      <a:lnTo>
                        <a:pt x="99" y="99"/>
                      </a:lnTo>
                      <a:lnTo>
                        <a:pt x="100" y="9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7300800" y="4110120"/>
                  <a:ext cx="298440" cy="295200"/>
                </a:xfrm>
                <a:custGeom>
                  <a:avLst/>
                  <a:gdLst/>
                  <a:ahLst/>
                  <a:rect l="l" t="t" r="r" b="b"/>
                  <a:pathLst>
                    <a:path w="277" h="276">
                      <a:moveTo>
                        <a:pt x="0" y="18"/>
                      </a:moveTo>
                      <a:lnTo>
                        <a:pt x="269" y="276"/>
                      </a:lnTo>
                      <a:lnTo>
                        <a:pt x="272" y="271"/>
                      </a:lnTo>
                      <a:lnTo>
                        <a:pt x="274" y="267"/>
                      </a:lnTo>
                      <a:lnTo>
                        <a:pt x="275" y="262"/>
                      </a:lnTo>
                      <a:lnTo>
                        <a:pt x="277" y="257"/>
                      </a:lnTo>
                      <a:lnTo>
                        <a:pt x="10" y="0"/>
                      </a:lnTo>
                      <a:lnTo>
                        <a:pt x="8" y="5"/>
                      </a:lnTo>
                      <a:lnTo>
                        <a:pt x="6" y="9"/>
                      </a:lnTo>
                      <a:lnTo>
                        <a:pt x="2"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7593120" y="4387680"/>
                  <a:ext cx="155520" cy="141480"/>
                </a:xfrm>
                <a:custGeom>
                  <a:avLst/>
                  <a:gdLst/>
                  <a:ahLst/>
                  <a:rect l="l" t="t" r="r" b="b"/>
                  <a:pathLst>
                    <a:path w="146" h="132">
                      <a:moveTo>
                        <a:pt x="0" y="18"/>
                      </a:moveTo>
                      <a:lnTo>
                        <a:pt x="119" y="132"/>
                      </a:lnTo>
                      <a:lnTo>
                        <a:pt x="125" y="132"/>
                      </a:lnTo>
                      <a:lnTo>
                        <a:pt x="132" y="132"/>
                      </a:lnTo>
                      <a:lnTo>
                        <a:pt x="139" y="132"/>
                      </a:lnTo>
                      <a:lnTo>
                        <a:pt x="146" y="131"/>
                      </a:lnTo>
                      <a:lnTo>
                        <a:pt x="8" y="0"/>
                      </a:lnTo>
                      <a:lnTo>
                        <a:pt x="5" y="4"/>
                      </a:lnTo>
                      <a:lnTo>
                        <a:pt x="4" y="9"/>
                      </a:lnTo>
                      <a:lnTo>
                        <a:pt x="2" y="14"/>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7094520" y="3902040"/>
                  <a:ext cx="49320" cy="63360"/>
                </a:xfrm>
                <a:custGeom>
                  <a:avLst/>
                  <a:gdLst/>
                  <a:ahLst/>
                  <a:rect l="l" t="t" r="r" b="b"/>
                  <a:pathLst>
                    <a:path w="46" h="60">
                      <a:moveTo>
                        <a:pt x="46" y="60"/>
                      </a:moveTo>
                      <a:lnTo>
                        <a:pt x="45" y="54"/>
                      </a:lnTo>
                      <a:lnTo>
                        <a:pt x="43" y="48"/>
                      </a:lnTo>
                      <a:lnTo>
                        <a:pt x="42" y="44"/>
                      </a:lnTo>
                      <a:lnTo>
                        <a:pt x="40" y="38"/>
                      </a:lnTo>
                      <a:lnTo>
                        <a:pt x="0" y="0"/>
                      </a:lnTo>
                      <a:lnTo>
                        <a:pt x="6" y="7"/>
                      </a:lnTo>
                      <a:lnTo>
                        <a:pt x="12" y="15"/>
                      </a:lnTo>
                      <a:lnTo>
                        <a:pt x="17" y="23"/>
                      </a:lnTo>
                      <a:lnTo>
                        <a:pt x="23" y="31"/>
                      </a:lnTo>
                      <a:lnTo>
                        <a:pt x="29" y="38"/>
                      </a:lnTo>
                      <a:lnTo>
                        <a:pt x="35" y="46"/>
                      </a:lnTo>
                      <a:lnTo>
                        <a:pt x="40" y="53"/>
                      </a:lnTo>
                      <a:lnTo>
                        <a:pt x="46" y="6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270" name=""/>
                <p:cNvSpPr/>
                <p:nvPr/>
              </p:nvSpPr>
              <p:spPr>
                <a:xfrm>
                  <a:off x="7153200" y="3962520"/>
                  <a:ext cx="133560" cy="141120"/>
                </a:xfrm>
                <a:custGeom>
                  <a:avLst/>
                  <a:gdLst/>
                  <a:ahLst/>
                  <a:rect l="l" t="t" r="r" b="b"/>
                  <a:pathLst>
                    <a:path w="123" h="134">
                      <a:moveTo>
                        <a:pt x="5" y="31"/>
                      </a:moveTo>
                      <a:lnTo>
                        <a:pt x="114" y="134"/>
                      </a:lnTo>
                      <a:lnTo>
                        <a:pt x="116" y="130"/>
                      </a:lnTo>
                      <a:lnTo>
                        <a:pt x="118" y="126"/>
                      </a:lnTo>
                      <a:lnTo>
                        <a:pt x="121" y="122"/>
                      </a:lnTo>
                      <a:lnTo>
                        <a:pt x="123" y="118"/>
                      </a:lnTo>
                      <a:lnTo>
                        <a:pt x="0" y="0"/>
                      </a:lnTo>
                      <a:lnTo>
                        <a:pt x="1" y="8"/>
                      </a:lnTo>
                      <a:lnTo>
                        <a:pt x="3" y="15"/>
                      </a:lnTo>
                      <a:lnTo>
                        <a:pt x="4" y="23"/>
                      </a:lnTo>
                      <a:lnTo>
                        <a:pt x="5" y="3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6910560" y="3726000"/>
                  <a:ext cx="52200" cy="60120"/>
                </a:xfrm>
                <a:custGeom>
                  <a:avLst/>
                  <a:gdLst/>
                  <a:ahLst/>
                  <a:rect l="l" t="t" r="r" b="b"/>
                  <a:pathLst>
                    <a:path w="50" h="58">
                      <a:moveTo>
                        <a:pt x="6" y="15"/>
                      </a:moveTo>
                      <a:lnTo>
                        <a:pt x="6" y="19"/>
                      </a:lnTo>
                      <a:lnTo>
                        <a:pt x="6" y="23"/>
                      </a:lnTo>
                      <a:lnTo>
                        <a:pt x="6" y="27"/>
                      </a:lnTo>
                      <a:lnTo>
                        <a:pt x="5" y="31"/>
                      </a:lnTo>
                      <a:lnTo>
                        <a:pt x="34" y="58"/>
                      </a:lnTo>
                      <a:lnTo>
                        <a:pt x="39" y="55"/>
                      </a:lnTo>
                      <a:lnTo>
                        <a:pt x="42" y="52"/>
                      </a:lnTo>
                      <a:lnTo>
                        <a:pt x="45" y="50"/>
                      </a:lnTo>
                      <a:lnTo>
                        <a:pt x="50" y="47"/>
                      </a:lnTo>
                      <a:lnTo>
                        <a:pt x="0" y="0"/>
                      </a:lnTo>
                      <a:lnTo>
                        <a:pt x="0" y="4"/>
                      </a:lnTo>
                      <a:lnTo>
                        <a:pt x="2" y="7"/>
                      </a:lnTo>
                      <a:lnTo>
                        <a:pt x="4" y="12"/>
                      </a:lnTo>
                      <a:lnTo>
                        <a:pt x="6"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272" name=""/>
                <p:cNvSpPr/>
                <p:nvPr/>
              </p:nvSpPr>
              <p:spPr>
                <a:xfrm>
                  <a:off x="7159680" y="3994200"/>
                  <a:ext cx="115920" cy="128520"/>
                </a:xfrm>
                <a:custGeom>
                  <a:avLst/>
                  <a:gdLst/>
                  <a:ahLst/>
                  <a:rect l="l" t="t" r="r" b="b"/>
                  <a:pathLst>
                    <a:path w="109" h="120">
                      <a:moveTo>
                        <a:pt x="11" y="36"/>
                      </a:moveTo>
                      <a:lnTo>
                        <a:pt x="100" y="120"/>
                      </a:lnTo>
                      <a:lnTo>
                        <a:pt x="102" y="115"/>
                      </a:lnTo>
                      <a:lnTo>
                        <a:pt x="104" y="111"/>
                      </a:lnTo>
                      <a:lnTo>
                        <a:pt x="106" y="107"/>
                      </a:lnTo>
                      <a:lnTo>
                        <a:pt x="109" y="103"/>
                      </a:lnTo>
                      <a:lnTo>
                        <a:pt x="0" y="0"/>
                      </a:lnTo>
                      <a:lnTo>
                        <a:pt x="3" y="9"/>
                      </a:lnTo>
                      <a:lnTo>
                        <a:pt x="6" y="19"/>
                      </a:lnTo>
                      <a:lnTo>
                        <a:pt x="9" y="27"/>
                      </a:lnTo>
                      <a:lnTo>
                        <a:pt x="11" y="3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7291440" y="4129200"/>
                  <a:ext cx="298440" cy="295200"/>
                </a:xfrm>
                <a:custGeom>
                  <a:avLst/>
                  <a:gdLst/>
                  <a:ahLst/>
                  <a:rect l="l" t="t" r="r" b="b"/>
                  <a:pathLst>
                    <a:path w="278" h="275">
                      <a:moveTo>
                        <a:pt x="0" y="17"/>
                      </a:moveTo>
                      <a:lnTo>
                        <a:pt x="269" y="275"/>
                      </a:lnTo>
                      <a:lnTo>
                        <a:pt x="271" y="270"/>
                      </a:lnTo>
                      <a:lnTo>
                        <a:pt x="274" y="266"/>
                      </a:lnTo>
                      <a:lnTo>
                        <a:pt x="276" y="262"/>
                      </a:lnTo>
                      <a:lnTo>
                        <a:pt x="278" y="258"/>
                      </a:lnTo>
                      <a:lnTo>
                        <a:pt x="9" y="0"/>
                      </a:lnTo>
                      <a:lnTo>
                        <a:pt x="7" y="4"/>
                      </a:lnTo>
                      <a:lnTo>
                        <a:pt x="4" y="8"/>
                      </a:lnTo>
                      <a:lnTo>
                        <a:pt x="2" y="12"/>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6904080" y="3757680"/>
                  <a:ext cx="144360" cy="139680"/>
                </a:xfrm>
                <a:custGeom>
                  <a:avLst/>
                  <a:gdLst/>
                  <a:ahLst/>
                  <a:rect l="l" t="t" r="r" b="b"/>
                  <a:pathLst>
                    <a:path w="136" h="129">
                      <a:moveTo>
                        <a:pt x="10" y="11"/>
                      </a:moveTo>
                      <a:lnTo>
                        <a:pt x="8" y="12"/>
                      </a:lnTo>
                      <a:lnTo>
                        <a:pt x="5" y="13"/>
                      </a:lnTo>
                      <a:lnTo>
                        <a:pt x="2" y="14"/>
                      </a:lnTo>
                      <a:lnTo>
                        <a:pt x="0" y="15"/>
                      </a:lnTo>
                      <a:lnTo>
                        <a:pt x="118" y="129"/>
                      </a:lnTo>
                      <a:lnTo>
                        <a:pt x="123" y="127"/>
                      </a:lnTo>
                      <a:lnTo>
                        <a:pt x="128" y="125"/>
                      </a:lnTo>
                      <a:lnTo>
                        <a:pt x="131" y="122"/>
                      </a:lnTo>
                      <a:lnTo>
                        <a:pt x="136" y="120"/>
                      </a:lnTo>
                      <a:lnTo>
                        <a:pt x="41" y="29"/>
                      </a:lnTo>
                      <a:lnTo>
                        <a:pt x="39" y="31"/>
                      </a:lnTo>
                      <a:lnTo>
                        <a:pt x="37" y="34"/>
                      </a:lnTo>
                      <a:lnTo>
                        <a:pt x="34" y="36"/>
                      </a:lnTo>
                      <a:lnTo>
                        <a:pt x="32" y="39"/>
                      </a:lnTo>
                      <a:lnTo>
                        <a:pt x="32" y="37"/>
                      </a:lnTo>
                      <a:lnTo>
                        <a:pt x="32" y="36"/>
                      </a:lnTo>
                      <a:lnTo>
                        <a:pt x="32" y="34"/>
                      </a:lnTo>
                      <a:lnTo>
                        <a:pt x="32" y="32"/>
                      </a:lnTo>
                      <a:lnTo>
                        <a:pt x="34" y="31"/>
                      </a:lnTo>
                      <a:lnTo>
                        <a:pt x="35" y="30"/>
                      </a:lnTo>
                      <a:lnTo>
                        <a:pt x="38" y="28"/>
                      </a:lnTo>
                      <a:lnTo>
                        <a:pt x="39" y="27"/>
                      </a:lnTo>
                      <a:lnTo>
                        <a:pt x="10" y="0"/>
                      </a:lnTo>
                      <a:lnTo>
                        <a:pt x="10" y="2"/>
                      </a:lnTo>
                      <a:lnTo>
                        <a:pt x="10" y="5"/>
                      </a:lnTo>
                      <a:lnTo>
                        <a:pt x="10" y="8"/>
                      </a:lnTo>
                      <a:lnTo>
                        <a:pt x="10" y="1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7583400" y="4406760"/>
                  <a:ext cx="138240" cy="122400"/>
                </a:xfrm>
                <a:custGeom>
                  <a:avLst/>
                  <a:gdLst/>
                  <a:ahLst/>
                  <a:rect l="l" t="t" r="r" b="b"/>
                  <a:pathLst>
                    <a:path w="127" h="114">
                      <a:moveTo>
                        <a:pt x="0" y="17"/>
                      </a:moveTo>
                      <a:lnTo>
                        <a:pt x="100" y="114"/>
                      </a:lnTo>
                      <a:lnTo>
                        <a:pt x="107" y="114"/>
                      </a:lnTo>
                      <a:lnTo>
                        <a:pt x="114" y="114"/>
                      </a:lnTo>
                      <a:lnTo>
                        <a:pt x="121" y="114"/>
                      </a:lnTo>
                      <a:lnTo>
                        <a:pt x="127" y="114"/>
                      </a:lnTo>
                      <a:lnTo>
                        <a:pt x="8" y="0"/>
                      </a:lnTo>
                      <a:lnTo>
                        <a:pt x="5" y="5"/>
                      </a:lnTo>
                      <a:lnTo>
                        <a:pt x="4"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880320" y="3774960"/>
                  <a:ext cx="149040" cy="130320"/>
                </a:xfrm>
                <a:custGeom>
                  <a:avLst/>
                  <a:gdLst/>
                  <a:ahLst/>
                  <a:rect l="l" t="t" r="r" b="b"/>
                  <a:pathLst>
                    <a:path w="140" h="123">
                      <a:moveTo>
                        <a:pt x="0" y="5"/>
                      </a:moveTo>
                      <a:lnTo>
                        <a:pt x="123" y="123"/>
                      </a:lnTo>
                      <a:lnTo>
                        <a:pt x="128" y="121"/>
                      </a:lnTo>
                      <a:lnTo>
                        <a:pt x="132" y="119"/>
                      </a:lnTo>
                      <a:lnTo>
                        <a:pt x="137" y="117"/>
                      </a:lnTo>
                      <a:lnTo>
                        <a:pt x="140" y="114"/>
                      </a:lnTo>
                      <a:lnTo>
                        <a:pt x="22" y="0"/>
                      </a:lnTo>
                      <a:lnTo>
                        <a:pt x="16" y="1"/>
                      </a:lnTo>
                      <a:lnTo>
                        <a:pt x="11" y="2"/>
                      </a:lnTo>
                      <a:lnTo>
                        <a:pt x="6" y="4"/>
                      </a:lnTo>
                      <a:lnTo>
                        <a:pt x="0" y="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7574040" y="4425840"/>
                  <a:ext cx="117360" cy="103320"/>
                </a:xfrm>
                <a:custGeom>
                  <a:avLst/>
                  <a:gdLst/>
                  <a:ahLst/>
                  <a:rect l="l" t="t" r="r" b="b"/>
                  <a:pathLst>
                    <a:path w="110" h="97">
                      <a:moveTo>
                        <a:pt x="0" y="18"/>
                      </a:moveTo>
                      <a:lnTo>
                        <a:pt x="82" y="96"/>
                      </a:lnTo>
                      <a:lnTo>
                        <a:pt x="89" y="96"/>
                      </a:lnTo>
                      <a:lnTo>
                        <a:pt x="96" y="96"/>
                      </a:lnTo>
                      <a:lnTo>
                        <a:pt x="103" y="97"/>
                      </a:lnTo>
                      <a:lnTo>
                        <a:pt x="110" y="97"/>
                      </a:lnTo>
                      <a:lnTo>
                        <a:pt x="10" y="0"/>
                      </a:lnTo>
                      <a:lnTo>
                        <a:pt x="7" y="5"/>
                      </a:lnTo>
                      <a:lnTo>
                        <a:pt x="5" y="8"/>
                      </a:lnTo>
                      <a:lnTo>
                        <a:pt x="3"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7170840" y="4032360"/>
                  <a:ext cx="96840" cy="109440"/>
                </a:xfrm>
                <a:custGeom>
                  <a:avLst/>
                  <a:gdLst/>
                  <a:ahLst/>
                  <a:rect l="l" t="t" r="r" b="b"/>
                  <a:pathLst>
                    <a:path w="89" h="101">
                      <a:moveTo>
                        <a:pt x="17" y="41"/>
                      </a:moveTo>
                      <a:lnTo>
                        <a:pt x="79" y="101"/>
                      </a:lnTo>
                      <a:lnTo>
                        <a:pt x="82" y="97"/>
                      </a:lnTo>
                      <a:lnTo>
                        <a:pt x="84" y="92"/>
                      </a:lnTo>
                      <a:lnTo>
                        <a:pt x="86" y="89"/>
                      </a:lnTo>
                      <a:lnTo>
                        <a:pt x="89" y="84"/>
                      </a:lnTo>
                      <a:lnTo>
                        <a:pt x="0" y="0"/>
                      </a:lnTo>
                      <a:lnTo>
                        <a:pt x="4" y="10"/>
                      </a:lnTo>
                      <a:lnTo>
                        <a:pt x="8" y="21"/>
                      </a:lnTo>
                      <a:lnTo>
                        <a:pt x="13" y="31"/>
                      </a:lnTo>
                      <a:lnTo>
                        <a:pt x="17" y="4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7281720" y="4148280"/>
                  <a:ext cx="298440" cy="290520"/>
                </a:xfrm>
                <a:custGeom>
                  <a:avLst/>
                  <a:gdLst/>
                  <a:ahLst/>
                  <a:rect l="l" t="t" r="r" b="b"/>
                  <a:pathLst>
                    <a:path w="277" h="273">
                      <a:moveTo>
                        <a:pt x="0" y="17"/>
                      </a:moveTo>
                      <a:lnTo>
                        <a:pt x="267" y="273"/>
                      </a:lnTo>
                      <a:lnTo>
                        <a:pt x="270" y="270"/>
                      </a:lnTo>
                      <a:lnTo>
                        <a:pt x="273" y="265"/>
                      </a:lnTo>
                      <a:lnTo>
                        <a:pt x="275" y="262"/>
                      </a:lnTo>
                      <a:lnTo>
                        <a:pt x="277" y="258"/>
                      </a:lnTo>
                      <a:lnTo>
                        <a:pt x="8" y="0"/>
                      </a:lnTo>
                      <a:lnTo>
                        <a:pt x="5" y="5"/>
                      </a:lnTo>
                      <a:lnTo>
                        <a:pt x="4"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7562880" y="4443480"/>
                  <a:ext cx="98280" cy="85680"/>
                </a:xfrm>
                <a:custGeom>
                  <a:avLst/>
                  <a:gdLst/>
                  <a:ahLst/>
                  <a:rect l="l" t="t" r="r" b="b"/>
                  <a:pathLst>
                    <a:path w="92" h="78">
                      <a:moveTo>
                        <a:pt x="0" y="16"/>
                      </a:moveTo>
                      <a:lnTo>
                        <a:pt x="63" y="76"/>
                      </a:lnTo>
                      <a:lnTo>
                        <a:pt x="70" y="77"/>
                      </a:lnTo>
                      <a:lnTo>
                        <a:pt x="77" y="77"/>
                      </a:lnTo>
                      <a:lnTo>
                        <a:pt x="84" y="78"/>
                      </a:lnTo>
                      <a:lnTo>
                        <a:pt x="92" y="78"/>
                      </a:lnTo>
                      <a:lnTo>
                        <a:pt x="10" y="0"/>
                      </a:lnTo>
                      <a:lnTo>
                        <a:pt x="8" y="3"/>
                      </a:lnTo>
                      <a:lnTo>
                        <a:pt x="6" y="8"/>
                      </a:lnTo>
                      <a:lnTo>
                        <a:pt x="2" y="11"/>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81" name=""/>
                <p:cNvSpPr/>
                <p:nvPr/>
              </p:nvSpPr>
              <p:spPr>
                <a:xfrm>
                  <a:off x="7273800" y="4165560"/>
                  <a:ext cx="295560" cy="290520"/>
                </a:xfrm>
                <a:custGeom>
                  <a:avLst/>
                  <a:gdLst/>
                  <a:ahLst/>
                  <a:rect l="l" t="t" r="r" b="b"/>
                  <a:pathLst>
                    <a:path w="277" h="272">
                      <a:moveTo>
                        <a:pt x="0" y="18"/>
                      </a:moveTo>
                      <a:lnTo>
                        <a:pt x="266" y="272"/>
                      </a:lnTo>
                      <a:lnTo>
                        <a:pt x="269" y="268"/>
                      </a:lnTo>
                      <a:lnTo>
                        <a:pt x="272" y="264"/>
                      </a:lnTo>
                      <a:lnTo>
                        <a:pt x="274" y="261"/>
                      </a:lnTo>
                      <a:lnTo>
                        <a:pt x="277" y="256"/>
                      </a:lnTo>
                      <a:lnTo>
                        <a:pt x="10" y="0"/>
                      </a:lnTo>
                      <a:lnTo>
                        <a:pt x="7" y="5"/>
                      </a:lnTo>
                      <a:lnTo>
                        <a:pt x="5" y="8"/>
                      </a:lnTo>
                      <a:lnTo>
                        <a:pt x="3"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7189920" y="4076640"/>
                  <a:ext cx="66600" cy="82440"/>
                </a:xfrm>
                <a:custGeom>
                  <a:avLst/>
                  <a:gdLst/>
                  <a:ahLst/>
                  <a:rect l="l" t="t" r="r" b="b"/>
                  <a:pathLst>
                    <a:path w="62" h="78">
                      <a:moveTo>
                        <a:pt x="22" y="48"/>
                      </a:moveTo>
                      <a:lnTo>
                        <a:pt x="53" y="78"/>
                      </a:lnTo>
                      <a:lnTo>
                        <a:pt x="55" y="73"/>
                      </a:lnTo>
                      <a:lnTo>
                        <a:pt x="58" y="68"/>
                      </a:lnTo>
                      <a:lnTo>
                        <a:pt x="60" y="65"/>
                      </a:lnTo>
                      <a:lnTo>
                        <a:pt x="62" y="60"/>
                      </a:lnTo>
                      <a:lnTo>
                        <a:pt x="0" y="0"/>
                      </a:lnTo>
                      <a:lnTo>
                        <a:pt x="6" y="12"/>
                      </a:lnTo>
                      <a:lnTo>
                        <a:pt x="11" y="23"/>
                      </a:lnTo>
                      <a:lnTo>
                        <a:pt x="16" y="36"/>
                      </a:lnTo>
                      <a:lnTo>
                        <a:pt x="22" y="4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283" name=""/>
                <p:cNvSpPr/>
                <p:nvPr/>
              </p:nvSpPr>
              <p:spPr>
                <a:xfrm>
                  <a:off x="6869160" y="3780000"/>
                  <a:ext cx="142920" cy="136440"/>
                </a:xfrm>
                <a:custGeom>
                  <a:avLst/>
                  <a:gdLst/>
                  <a:ahLst/>
                  <a:rect l="l" t="t" r="r" b="b"/>
                  <a:pathLst>
                    <a:path w="132" h="128">
                      <a:moveTo>
                        <a:pt x="7" y="1"/>
                      </a:moveTo>
                      <a:lnTo>
                        <a:pt x="5" y="4"/>
                      </a:lnTo>
                      <a:lnTo>
                        <a:pt x="3" y="9"/>
                      </a:lnTo>
                      <a:lnTo>
                        <a:pt x="2" y="12"/>
                      </a:lnTo>
                      <a:lnTo>
                        <a:pt x="0" y="17"/>
                      </a:lnTo>
                      <a:lnTo>
                        <a:pt x="115" y="128"/>
                      </a:lnTo>
                      <a:lnTo>
                        <a:pt x="119" y="125"/>
                      </a:lnTo>
                      <a:lnTo>
                        <a:pt x="124" y="123"/>
                      </a:lnTo>
                      <a:lnTo>
                        <a:pt x="128" y="121"/>
                      </a:lnTo>
                      <a:lnTo>
                        <a:pt x="132" y="118"/>
                      </a:lnTo>
                      <a:lnTo>
                        <a:pt x="9" y="0"/>
                      </a:lnTo>
                      <a:lnTo>
                        <a:pt x="8" y="0"/>
                      </a:lnTo>
                      <a:lnTo>
                        <a:pt x="8" y="0"/>
                      </a:lnTo>
                      <a:lnTo>
                        <a:pt x="8" y="1"/>
                      </a:lnTo>
                      <a:lnTo>
                        <a:pt x="7"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856560" y="3798720"/>
                  <a:ext cx="136440" cy="127080"/>
                </a:xfrm>
                <a:custGeom>
                  <a:avLst/>
                  <a:gdLst/>
                  <a:ahLst/>
                  <a:rect l="l" t="t" r="r" b="b"/>
                  <a:pathLst>
                    <a:path w="128" h="120">
                      <a:moveTo>
                        <a:pt x="5" y="14"/>
                      </a:moveTo>
                      <a:lnTo>
                        <a:pt x="3" y="14"/>
                      </a:lnTo>
                      <a:lnTo>
                        <a:pt x="2" y="14"/>
                      </a:lnTo>
                      <a:lnTo>
                        <a:pt x="1" y="14"/>
                      </a:lnTo>
                      <a:lnTo>
                        <a:pt x="0" y="14"/>
                      </a:lnTo>
                      <a:lnTo>
                        <a:pt x="111" y="120"/>
                      </a:lnTo>
                      <a:lnTo>
                        <a:pt x="115" y="118"/>
                      </a:lnTo>
                      <a:lnTo>
                        <a:pt x="120" y="115"/>
                      </a:lnTo>
                      <a:lnTo>
                        <a:pt x="123" y="113"/>
                      </a:lnTo>
                      <a:lnTo>
                        <a:pt x="128" y="111"/>
                      </a:lnTo>
                      <a:lnTo>
                        <a:pt x="13" y="0"/>
                      </a:lnTo>
                      <a:lnTo>
                        <a:pt x="10" y="4"/>
                      </a:lnTo>
                      <a:lnTo>
                        <a:pt x="9" y="7"/>
                      </a:lnTo>
                      <a:lnTo>
                        <a:pt x="7" y="10"/>
                      </a:lnTo>
                      <a:lnTo>
                        <a:pt x="5" y="1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7559640" y="4460760"/>
                  <a:ext cx="71640" cy="63720"/>
                </a:xfrm>
                <a:custGeom>
                  <a:avLst/>
                  <a:gdLst/>
                  <a:ahLst/>
                  <a:rect l="l" t="t" r="r" b="b"/>
                  <a:pathLst>
                    <a:path w="64" h="60">
                      <a:moveTo>
                        <a:pt x="0" y="3"/>
                      </a:moveTo>
                      <a:lnTo>
                        <a:pt x="4" y="10"/>
                      </a:lnTo>
                      <a:lnTo>
                        <a:pt x="7" y="17"/>
                      </a:lnTo>
                      <a:lnTo>
                        <a:pt x="7" y="24"/>
                      </a:lnTo>
                      <a:lnTo>
                        <a:pt x="7" y="31"/>
                      </a:lnTo>
                      <a:lnTo>
                        <a:pt x="31" y="54"/>
                      </a:lnTo>
                      <a:lnTo>
                        <a:pt x="38" y="55"/>
                      </a:lnTo>
                      <a:lnTo>
                        <a:pt x="46" y="57"/>
                      </a:lnTo>
                      <a:lnTo>
                        <a:pt x="55" y="59"/>
                      </a:lnTo>
                      <a:lnTo>
                        <a:pt x="64" y="60"/>
                      </a:lnTo>
                      <a:lnTo>
                        <a:pt x="1" y="0"/>
                      </a:lnTo>
                      <a:lnTo>
                        <a:pt x="1" y="1"/>
                      </a:lnTo>
                      <a:lnTo>
                        <a:pt x="1" y="1"/>
                      </a:lnTo>
                      <a:lnTo>
                        <a:pt x="0" y="2"/>
                      </a:lnTo>
                      <a:lnTo>
                        <a:pt x="0" y="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286" name=""/>
                <p:cNvSpPr/>
                <p:nvPr/>
              </p:nvSpPr>
              <p:spPr>
                <a:xfrm>
                  <a:off x="7213680" y="4125960"/>
                  <a:ext cx="34920" cy="49320"/>
                </a:xfrm>
                <a:custGeom>
                  <a:avLst/>
                  <a:gdLst/>
                  <a:ahLst/>
                  <a:rect l="l" t="t" r="r" b="b"/>
                  <a:pathLst>
                    <a:path w="31" h="46">
                      <a:moveTo>
                        <a:pt x="22" y="46"/>
                      </a:moveTo>
                      <a:lnTo>
                        <a:pt x="24" y="41"/>
                      </a:lnTo>
                      <a:lnTo>
                        <a:pt x="27" y="38"/>
                      </a:lnTo>
                      <a:lnTo>
                        <a:pt x="29" y="33"/>
                      </a:lnTo>
                      <a:lnTo>
                        <a:pt x="31" y="30"/>
                      </a:lnTo>
                      <a:lnTo>
                        <a:pt x="0" y="0"/>
                      </a:lnTo>
                      <a:lnTo>
                        <a:pt x="6" y="10"/>
                      </a:lnTo>
                      <a:lnTo>
                        <a:pt x="12" y="22"/>
                      </a:lnTo>
                      <a:lnTo>
                        <a:pt x="16" y="33"/>
                      </a:lnTo>
                      <a:lnTo>
                        <a:pt x="22" y="4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7" name=""/>
                <p:cNvSpPr/>
                <p:nvPr/>
              </p:nvSpPr>
              <p:spPr>
                <a:xfrm>
                  <a:off x="7264440" y="4184640"/>
                  <a:ext cx="293760" cy="284040"/>
                </a:xfrm>
                <a:custGeom>
                  <a:avLst/>
                  <a:gdLst/>
                  <a:ahLst/>
                  <a:rect l="l" t="t" r="r" b="b"/>
                  <a:pathLst>
                    <a:path w="273" h="266">
                      <a:moveTo>
                        <a:pt x="0" y="18"/>
                      </a:moveTo>
                      <a:lnTo>
                        <a:pt x="257" y="265"/>
                      </a:lnTo>
                      <a:lnTo>
                        <a:pt x="258" y="266"/>
                      </a:lnTo>
                      <a:lnTo>
                        <a:pt x="261" y="266"/>
                      </a:lnTo>
                      <a:lnTo>
                        <a:pt x="262" y="266"/>
                      </a:lnTo>
                      <a:lnTo>
                        <a:pt x="263" y="266"/>
                      </a:lnTo>
                      <a:lnTo>
                        <a:pt x="265" y="263"/>
                      </a:lnTo>
                      <a:lnTo>
                        <a:pt x="269" y="260"/>
                      </a:lnTo>
                      <a:lnTo>
                        <a:pt x="271" y="256"/>
                      </a:lnTo>
                      <a:lnTo>
                        <a:pt x="273" y="254"/>
                      </a:lnTo>
                      <a:lnTo>
                        <a:pt x="7" y="0"/>
                      </a:lnTo>
                      <a:lnTo>
                        <a:pt x="6" y="4"/>
                      </a:lnTo>
                      <a:lnTo>
                        <a:pt x="4" y="9"/>
                      </a:lnTo>
                      <a:lnTo>
                        <a:pt x="3"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7564320" y="4494240"/>
                  <a:ext cx="30240" cy="23760"/>
                </a:xfrm>
                <a:custGeom>
                  <a:avLst/>
                  <a:gdLst/>
                  <a:ahLst/>
                  <a:rect l="l" t="t" r="r" b="b"/>
                  <a:pathLst>
                    <a:path w="28" h="23">
                      <a:moveTo>
                        <a:pt x="0" y="13"/>
                      </a:moveTo>
                      <a:lnTo>
                        <a:pt x="6" y="16"/>
                      </a:lnTo>
                      <a:lnTo>
                        <a:pt x="13" y="18"/>
                      </a:lnTo>
                      <a:lnTo>
                        <a:pt x="20" y="21"/>
                      </a:lnTo>
                      <a:lnTo>
                        <a:pt x="28" y="23"/>
                      </a:lnTo>
                      <a:lnTo>
                        <a:pt x="4" y="0"/>
                      </a:lnTo>
                      <a:lnTo>
                        <a:pt x="3" y="2"/>
                      </a:lnTo>
                      <a:lnTo>
                        <a:pt x="3" y="6"/>
                      </a:lnTo>
                      <a:lnTo>
                        <a:pt x="1" y="9"/>
                      </a:lnTo>
                      <a:lnTo>
                        <a:pt x="0" y="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289" name=""/>
                <p:cNvSpPr/>
                <p:nvPr/>
              </p:nvSpPr>
              <p:spPr>
                <a:xfrm>
                  <a:off x="6831000" y="3809880"/>
                  <a:ext cx="142920" cy="123840"/>
                </a:xfrm>
                <a:custGeom>
                  <a:avLst/>
                  <a:gdLst/>
                  <a:ahLst/>
                  <a:rect l="l" t="t" r="r" b="b"/>
                  <a:pathLst>
                    <a:path w="135" h="118">
                      <a:moveTo>
                        <a:pt x="4" y="0"/>
                      </a:moveTo>
                      <a:lnTo>
                        <a:pt x="3" y="2"/>
                      </a:lnTo>
                      <a:lnTo>
                        <a:pt x="2" y="3"/>
                      </a:lnTo>
                      <a:lnTo>
                        <a:pt x="1" y="5"/>
                      </a:lnTo>
                      <a:lnTo>
                        <a:pt x="0" y="6"/>
                      </a:lnTo>
                      <a:lnTo>
                        <a:pt x="117" y="118"/>
                      </a:lnTo>
                      <a:lnTo>
                        <a:pt x="122" y="116"/>
                      </a:lnTo>
                      <a:lnTo>
                        <a:pt x="126" y="113"/>
                      </a:lnTo>
                      <a:lnTo>
                        <a:pt x="130" y="112"/>
                      </a:lnTo>
                      <a:lnTo>
                        <a:pt x="135" y="110"/>
                      </a:lnTo>
                      <a:lnTo>
                        <a:pt x="24" y="4"/>
                      </a:lnTo>
                      <a:lnTo>
                        <a:pt x="19" y="3"/>
                      </a:lnTo>
                      <a:lnTo>
                        <a:pt x="15" y="2"/>
                      </a:lnTo>
                      <a:lnTo>
                        <a:pt x="9" y="2"/>
                      </a:lnTo>
                      <a:lnTo>
                        <a:pt x="4"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250040" y="4203720"/>
                  <a:ext cx="290520" cy="270000"/>
                </a:xfrm>
                <a:custGeom>
                  <a:avLst/>
                  <a:gdLst/>
                  <a:ahLst/>
                  <a:rect l="l" t="t" r="r" b="b"/>
                  <a:pathLst>
                    <a:path w="270" h="251">
                      <a:moveTo>
                        <a:pt x="10" y="10"/>
                      </a:moveTo>
                      <a:lnTo>
                        <a:pt x="7" y="10"/>
                      </a:lnTo>
                      <a:lnTo>
                        <a:pt x="4" y="10"/>
                      </a:lnTo>
                      <a:lnTo>
                        <a:pt x="2" y="10"/>
                      </a:lnTo>
                      <a:lnTo>
                        <a:pt x="0" y="10"/>
                      </a:lnTo>
                      <a:lnTo>
                        <a:pt x="0" y="12"/>
                      </a:lnTo>
                      <a:lnTo>
                        <a:pt x="0" y="12"/>
                      </a:lnTo>
                      <a:lnTo>
                        <a:pt x="0" y="13"/>
                      </a:lnTo>
                      <a:lnTo>
                        <a:pt x="0" y="13"/>
                      </a:lnTo>
                      <a:lnTo>
                        <a:pt x="230" y="234"/>
                      </a:lnTo>
                      <a:lnTo>
                        <a:pt x="231" y="229"/>
                      </a:lnTo>
                      <a:lnTo>
                        <a:pt x="231" y="225"/>
                      </a:lnTo>
                      <a:lnTo>
                        <a:pt x="231" y="220"/>
                      </a:lnTo>
                      <a:lnTo>
                        <a:pt x="231" y="215"/>
                      </a:lnTo>
                      <a:lnTo>
                        <a:pt x="233" y="217"/>
                      </a:lnTo>
                      <a:lnTo>
                        <a:pt x="236" y="219"/>
                      </a:lnTo>
                      <a:lnTo>
                        <a:pt x="237" y="220"/>
                      </a:lnTo>
                      <a:lnTo>
                        <a:pt x="239" y="222"/>
                      </a:lnTo>
                      <a:lnTo>
                        <a:pt x="238" y="227"/>
                      </a:lnTo>
                      <a:lnTo>
                        <a:pt x="238" y="230"/>
                      </a:lnTo>
                      <a:lnTo>
                        <a:pt x="237" y="235"/>
                      </a:lnTo>
                      <a:lnTo>
                        <a:pt x="236" y="240"/>
                      </a:lnTo>
                      <a:lnTo>
                        <a:pt x="248" y="251"/>
                      </a:lnTo>
                      <a:lnTo>
                        <a:pt x="253" y="248"/>
                      </a:lnTo>
                      <a:lnTo>
                        <a:pt x="258" y="245"/>
                      </a:lnTo>
                      <a:lnTo>
                        <a:pt x="262" y="245"/>
                      </a:lnTo>
                      <a:lnTo>
                        <a:pt x="270" y="247"/>
                      </a:lnTo>
                      <a:lnTo>
                        <a:pt x="13" y="0"/>
                      </a:lnTo>
                      <a:lnTo>
                        <a:pt x="12" y="2"/>
                      </a:lnTo>
                      <a:lnTo>
                        <a:pt x="12" y="5"/>
                      </a:lnTo>
                      <a:lnTo>
                        <a:pt x="11" y="8"/>
                      </a:lnTo>
                      <a:lnTo>
                        <a:pt x="10" y="1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7248600" y="4216320"/>
                  <a:ext cx="247680" cy="263520"/>
                </a:xfrm>
                <a:custGeom>
                  <a:avLst/>
                  <a:gdLst/>
                  <a:ahLst/>
                  <a:rect l="l" t="t" r="r" b="b"/>
                  <a:pathLst>
                    <a:path w="233" h="245">
                      <a:moveTo>
                        <a:pt x="0" y="24"/>
                      </a:moveTo>
                      <a:lnTo>
                        <a:pt x="232" y="245"/>
                      </a:lnTo>
                      <a:lnTo>
                        <a:pt x="232" y="239"/>
                      </a:lnTo>
                      <a:lnTo>
                        <a:pt x="233" y="232"/>
                      </a:lnTo>
                      <a:lnTo>
                        <a:pt x="233" y="227"/>
                      </a:lnTo>
                      <a:lnTo>
                        <a:pt x="233" y="221"/>
                      </a:lnTo>
                      <a:lnTo>
                        <a:pt x="3" y="0"/>
                      </a:lnTo>
                      <a:lnTo>
                        <a:pt x="1" y="7"/>
                      </a:lnTo>
                      <a:lnTo>
                        <a:pt x="1" y="12"/>
                      </a:lnTo>
                      <a:lnTo>
                        <a:pt x="1" y="18"/>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497720" y="4460760"/>
                  <a:ext cx="19080" cy="20880"/>
                </a:xfrm>
                <a:custGeom>
                  <a:avLst/>
                  <a:gdLst/>
                  <a:ahLst/>
                  <a:rect l="l" t="t" r="r" b="b"/>
                  <a:pathLst>
                    <a:path w="17" h="20">
                      <a:moveTo>
                        <a:pt x="0" y="20"/>
                      </a:moveTo>
                      <a:lnTo>
                        <a:pt x="6" y="18"/>
                      </a:lnTo>
                      <a:lnTo>
                        <a:pt x="11" y="16"/>
                      </a:lnTo>
                      <a:lnTo>
                        <a:pt x="15" y="13"/>
                      </a:lnTo>
                      <a:lnTo>
                        <a:pt x="17" y="11"/>
                      </a:lnTo>
                      <a:lnTo>
                        <a:pt x="5" y="0"/>
                      </a:lnTo>
                      <a:lnTo>
                        <a:pt x="4" y="4"/>
                      </a:lnTo>
                      <a:lnTo>
                        <a:pt x="2" y="10"/>
                      </a:lnTo>
                      <a:lnTo>
                        <a:pt x="1"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293" name=""/>
                <p:cNvSpPr/>
                <p:nvPr/>
              </p:nvSpPr>
              <p:spPr>
                <a:xfrm>
                  <a:off x="6818400" y="3816360"/>
                  <a:ext cx="137880" cy="128520"/>
                </a:xfrm>
                <a:custGeom>
                  <a:avLst/>
                  <a:gdLst/>
                  <a:ahLst/>
                  <a:rect l="l" t="t" r="r" b="b"/>
                  <a:pathLst>
                    <a:path w="129" h="121">
                      <a:moveTo>
                        <a:pt x="0" y="15"/>
                      </a:moveTo>
                      <a:lnTo>
                        <a:pt x="111" y="121"/>
                      </a:lnTo>
                      <a:lnTo>
                        <a:pt x="115" y="119"/>
                      </a:lnTo>
                      <a:lnTo>
                        <a:pt x="120" y="117"/>
                      </a:lnTo>
                      <a:lnTo>
                        <a:pt x="125" y="114"/>
                      </a:lnTo>
                      <a:lnTo>
                        <a:pt x="129" y="112"/>
                      </a:lnTo>
                      <a:lnTo>
                        <a:pt x="12" y="0"/>
                      </a:lnTo>
                      <a:lnTo>
                        <a:pt x="9" y="4"/>
                      </a:lnTo>
                      <a:lnTo>
                        <a:pt x="6" y="7"/>
                      </a:lnTo>
                      <a:lnTo>
                        <a:pt x="3"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805440" y="3830760"/>
                  <a:ext cx="130320" cy="123840"/>
                </a:xfrm>
                <a:custGeom>
                  <a:avLst/>
                  <a:gdLst/>
                  <a:ahLst/>
                  <a:rect l="l" t="t" r="r" b="b"/>
                  <a:pathLst>
                    <a:path w="122" h="115">
                      <a:moveTo>
                        <a:pt x="0" y="14"/>
                      </a:moveTo>
                      <a:lnTo>
                        <a:pt x="105" y="115"/>
                      </a:lnTo>
                      <a:lnTo>
                        <a:pt x="109" y="113"/>
                      </a:lnTo>
                      <a:lnTo>
                        <a:pt x="114" y="111"/>
                      </a:lnTo>
                      <a:lnTo>
                        <a:pt x="117" y="108"/>
                      </a:lnTo>
                      <a:lnTo>
                        <a:pt x="122" y="106"/>
                      </a:lnTo>
                      <a:lnTo>
                        <a:pt x="11" y="0"/>
                      </a:lnTo>
                      <a:lnTo>
                        <a:pt x="9" y="4"/>
                      </a:lnTo>
                      <a:lnTo>
                        <a:pt x="5" y="7"/>
                      </a:lnTo>
                      <a:lnTo>
                        <a:pt x="2" y="11"/>
                      </a:lnTo>
                      <a:lnTo>
                        <a:pt x="0" y="1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7248600" y="4241880"/>
                  <a:ext cx="247680" cy="263520"/>
                </a:xfrm>
                <a:custGeom>
                  <a:avLst/>
                  <a:gdLst/>
                  <a:ahLst/>
                  <a:rect l="l" t="t" r="r" b="b"/>
                  <a:pathLst>
                    <a:path w="233" h="244">
                      <a:moveTo>
                        <a:pt x="0" y="24"/>
                      </a:moveTo>
                      <a:lnTo>
                        <a:pt x="229" y="244"/>
                      </a:lnTo>
                      <a:lnTo>
                        <a:pt x="231" y="238"/>
                      </a:lnTo>
                      <a:lnTo>
                        <a:pt x="232" y="233"/>
                      </a:lnTo>
                      <a:lnTo>
                        <a:pt x="232" y="227"/>
                      </a:lnTo>
                      <a:lnTo>
                        <a:pt x="233" y="221"/>
                      </a:lnTo>
                      <a:lnTo>
                        <a:pt x="1" y="0"/>
                      </a:lnTo>
                      <a:lnTo>
                        <a:pt x="1" y="7"/>
                      </a:lnTo>
                      <a:lnTo>
                        <a:pt x="1" y="13"/>
                      </a:lnTo>
                      <a:lnTo>
                        <a:pt x="0" y="18"/>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791400" y="3846600"/>
                  <a:ext cx="127080" cy="117360"/>
                </a:xfrm>
                <a:custGeom>
                  <a:avLst/>
                  <a:gdLst/>
                  <a:ahLst/>
                  <a:rect l="l" t="t" r="r" b="b"/>
                  <a:pathLst>
                    <a:path w="118" h="111">
                      <a:moveTo>
                        <a:pt x="0" y="15"/>
                      </a:moveTo>
                      <a:lnTo>
                        <a:pt x="100" y="111"/>
                      </a:lnTo>
                      <a:lnTo>
                        <a:pt x="105" y="108"/>
                      </a:lnTo>
                      <a:lnTo>
                        <a:pt x="109" y="106"/>
                      </a:lnTo>
                      <a:lnTo>
                        <a:pt x="113" y="104"/>
                      </a:lnTo>
                      <a:lnTo>
                        <a:pt x="118" y="101"/>
                      </a:lnTo>
                      <a:lnTo>
                        <a:pt x="13" y="0"/>
                      </a:lnTo>
                      <a:lnTo>
                        <a:pt x="9" y="3"/>
                      </a:lnTo>
                      <a:lnTo>
                        <a:pt x="7" y="7"/>
                      </a:lnTo>
                      <a:lnTo>
                        <a:pt x="4"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7243920" y="4270320"/>
                  <a:ext cx="247320" cy="258840"/>
                </a:xfrm>
                <a:custGeom>
                  <a:avLst/>
                  <a:gdLst/>
                  <a:ahLst/>
                  <a:rect l="l" t="t" r="r" b="b"/>
                  <a:pathLst>
                    <a:path w="231" h="242">
                      <a:moveTo>
                        <a:pt x="0" y="24"/>
                      </a:moveTo>
                      <a:lnTo>
                        <a:pt x="228" y="242"/>
                      </a:lnTo>
                      <a:lnTo>
                        <a:pt x="229" y="236"/>
                      </a:lnTo>
                      <a:lnTo>
                        <a:pt x="230" y="230"/>
                      </a:lnTo>
                      <a:lnTo>
                        <a:pt x="230" y="226"/>
                      </a:lnTo>
                      <a:lnTo>
                        <a:pt x="231" y="220"/>
                      </a:lnTo>
                      <a:lnTo>
                        <a:pt x="2" y="0"/>
                      </a:lnTo>
                      <a:lnTo>
                        <a:pt x="1" y="7"/>
                      </a:lnTo>
                      <a:lnTo>
                        <a:pt x="1" y="13"/>
                      </a:lnTo>
                      <a:lnTo>
                        <a:pt x="1" y="19"/>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7243920" y="4295880"/>
                  <a:ext cx="244440" cy="255600"/>
                </a:xfrm>
                <a:custGeom>
                  <a:avLst/>
                  <a:gdLst/>
                  <a:ahLst/>
                  <a:rect l="l" t="t" r="r" b="b"/>
                  <a:pathLst>
                    <a:path w="228" h="240">
                      <a:moveTo>
                        <a:pt x="0" y="26"/>
                      </a:moveTo>
                      <a:lnTo>
                        <a:pt x="223" y="240"/>
                      </a:lnTo>
                      <a:lnTo>
                        <a:pt x="224" y="234"/>
                      </a:lnTo>
                      <a:lnTo>
                        <a:pt x="226" y="228"/>
                      </a:lnTo>
                      <a:lnTo>
                        <a:pt x="227" y="224"/>
                      </a:lnTo>
                      <a:lnTo>
                        <a:pt x="228" y="218"/>
                      </a:lnTo>
                      <a:lnTo>
                        <a:pt x="0" y="0"/>
                      </a:lnTo>
                      <a:lnTo>
                        <a:pt x="0" y="7"/>
                      </a:lnTo>
                      <a:lnTo>
                        <a:pt x="0" y="13"/>
                      </a:lnTo>
                      <a:lnTo>
                        <a:pt x="0" y="20"/>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781680" y="3860640"/>
                  <a:ext cx="117720" cy="114480"/>
                </a:xfrm>
                <a:custGeom>
                  <a:avLst/>
                  <a:gdLst/>
                  <a:ahLst/>
                  <a:rect l="l" t="t" r="r" b="b"/>
                  <a:pathLst>
                    <a:path w="110" h="105">
                      <a:moveTo>
                        <a:pt x="0" y="15"/>
                      </a:moveTo>
                      <a:lnTo>
                        <a:pt x="93" y="105"/>
                      </a:lnTo>
                      <a:lnTo>
                        <a:pt x="98" y="102"/>
                      </a:lnTo>
                      <a:lnTo>
                        <a:pt x="102" y="100"/>
                      </a:lnTo>
                      <a:lnTo>
                        <a:pt x="106" y="98"/>
                      </a:lnTo>
                      <a:lnTo>
                        <a:pt x="110" y="96"/>
                      </a:lnTo>
                      <a:lnTo>
                        <a:pt x="10" y="0"/>
                      </a:lnTo>
                      <a:lnTo>
                        <a:pt x="8" y="3"/>
                      </a:lnTo>
                      <a:lnTo>
                        <a:pt x="5" y="7"/>
                      </a:lnTo>
                      <a:lnTo>
                        <a:pt x="2"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769080" y="3878280"/>
                  <a:ext cx="112680" cy="106200"/>
                </a:xfrm>
                <a:custGeom>
                  <a:avLst/>
                  <a:gdLst/>
                  <a:ahLst/>
                  <a:rect l="l" t="t" r="r" b="b"/>
                  <a:pathLst>
                    <a:path w="105" h="100">
                      <a:moveTo>
                        <a:pt x="0" y="15"/>
                      </a:moveTo>
                      <a:lnTo>
                        <a:pt x="89" y="100"/>
                      </a:lnTo>
                      <a:lnTo>
                        <a:pt x="93" y="98"/>
                      </a:lnTo>
                      <a:lnTo>
                        <a:pt x="97" y="94"/>
                      </a:lnTo>
                      <a:lnTo>
                        <a:pt x="100" y="92"/>
                      </a:lnTo>
                      <a:lnTo>
                        <a:pt x="105" y="90"/>
                      </a:lnTo>
                      <a:lnTo>
                        <a:pt x="12" y="0"/>
                      </a:lnTo>
                      <a:lnTo>
                        <a:pt x="8" y="3"/>
                      </a:lnTo>
                      <a:lnTo>
                        <a:pt x="6" y="7"/>
                      </a:lnTo>
                      <a:lnTo>
                        <a:pt x="2"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7243920" y="4321080"/>
                  <a:ext cx="239400" cy="252360"/>
                </a:xfrm>
                <a:custGeom>
                  <a:avLst/>
                  <a:gdLst/>
                  <a:ahLst/>
                  <a:rect l="l" t="t" r="r" b="b"/>
                  <a:pathLst>
                    <a:path w="223" h="235">
                      <a:moveTo>
                        <a:pt x="1" y="26"/>
                      </a:moveTo>
                      <a:lnTo>
                        <a:pt x="219" y="235"/>
                      </a:lnTo>
                      <a:lnTo>
                        <a:pt x="220" y="229"/>
                      </a:lnTo>
                      <a:lnTo>
                        <a:pt x="221" y="224"/>
                      </a:lnTo>
                      <a:lnTo>
                        <a:pt x="222" y="218"/>
                      </a:lnTo>
                      <a:lnTo>
                        <a:pt x="223" y="214"/>
                      </a:lnTo>
                      <a:lnTo>
                        <a:pt x="0" y="0"/>
                      </a:lnTo>
                      <a:lnTo>
                        <a:pt x="0" y="7"/>
                      </a:lnTo>
                      <a:lnTo>
                        <a:pt x="0" y="13"/>
                      </a:lnTo>
                      <a:lnTo>
                        <a:pt x="0" y="20"/>
                      </a:lnTo>
                      <a:lnTo>
                        <a:pt x="1"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7245360" y="4351320"/>
                  <a:ext cx="233280" cy="244440"/>
                </a:xfrm>
                <a:custGeom>
                  <a:avLst/>
                  <a:gdLst/>
                  <a:ahLst/>
                  <a:rect l="l" t="t" r="r" b="b"/>
                  <a:pathLst>
                    <a:path w="218" h="229">
                      <a:moveTo>
                        <a:pt x="8" y="35"/>
                      </a:moveTo>
                      <a:lnTo>
                        <a:pt x="212" y="229"/>
                      </a:lnTo>
                      <a:lnTo>
                        <a:pt x="213" y="224"/>
                      </a:lnTo>
                      <a:lnTo>
                        <a:pt x="215" y="219"/>
                      </a:lnTo>
                      <a:lnTo>
                        <a:pt x="217" y="213"/>
                      </a:lnTo>
                      <a:lnTo>
                        <a:pt x="218" y="209"/>
                      </a:lnTo>
                      <a:lnTo>
                        <a:pt x="0" y="0"/>
                      </a:lnTo>
                      <a:lnTo>
                        <a:pt x="1" y="9"/>
                      </a:lnTo>
                      <a:lnTo>
                        <a:pt x="2" y="17"/>
                      </a:lnTo>
                      <a:lnTo>
                        <a:pt x="5" y="27"/>
                      </a:lnTo>
                      <a:lnTo>
                        <a:pt x="8" y="3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756480" y="3892680"/>
                  <a:ext cx="106200" cy="102960"/>
                </a:xfrm>
                <a:custGeom>
                  <a:avLst/>
                  <a:gdLst/>
                  <a:ahLst/>
                  <a:rect l="l" t="t" r="r" b="b"/>
                  <a:pathLst>
                    <a:path w="100" h="96">
                      <a:moveTo>
                        <a:pt x="0" y="16"/>
                      </a:moveTo>
                      <a:lnTo>
                        <a:pt x="84" y="96"/>
                      </a:lnTo>
                      <a:lnTo>
                        <a:pt x="87" y="93"/>
                      </a:lnTo>
                      <a:lnTo>
                        <a:pt x="92" y="90"/>
                      </a:lnTo>
                      <a:lnTo>
                        <a:pt x="95" y="87"/>
                      </a:lnTo>
                      <a:lnTo>
                        <a:pt x="100" y="85"/>
                      </a:lnTo>
                      <a:lnTo>
                        <a:pt x="11" y="0"/>
                      </a:lnTo>
                      <a:lnTo>
                        <a:pt x="9" y="5"/>
                      </a:lnTo>
                      <a:lnTo>
                        <a:pt x="5" y="8"/>
                      </a:lnTo>
                      <a:lnTo>
                        <a:pt x="2" y="11"/>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746760" y="3911760"/>
                  <a:ext cx="98640" cy="95040"/>
                </a:xfrm>
                <a:custGeom>
                  <a:avLst/>
                  <a:gdLst/>
                  <a:ahLst/>
                  <a:rect l="l" t="t" r="r" b="b"/>
                  <a:pathLst>
                    <a:path w="94" h="90">
                      <a:moveTo>
                        <a:pt x="0" y="15"/>
                      </a:moveTo>
                      <a:lnTo>
                        <a:pt x="78" y="90"/>
                      </a:lnTo>
                      <a:lnTo>
                        <a:pt x="82" y="88"/>
                      </a:lnTo>
                      <a:lnTo>
                        <a:pt x="86" y="84"/>
                      </a:lnTo>
                      <a:lnTo>
                        <a:pt x="89" y="82"/>
                      </a:lnTo>
                      <a:lnTo>
                        <a:pt x="94" y="80"/>
                      </a:lnTo>
                      <a:lnTo>
                        <a:pt x="10" y="0"/>
                      </a:lnTo>
                      <a:lnTo>
                        <a:pt x="7" y="3"/>
                      </a:lnTo>
                      <a:lnTo>
                        <a:pt x="5" y="7"/>
                      </a:lnTo>
                      <a:lnTo>
                        <a:pt x="3" y="12"/>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7254720" y="4387680"/>
                  <a:ext cx="217800" cy="231840"/>
                </a:xfrm>
                <a:custGeom>
                  <a:avLst/>
                  <a:gdLst/>
                  <a:ahLst/>
                  <a:rect l="l" t="t" r="r" b="b"/>
                  <a:pathLst>
                    <a:path w="204" h="215">
                      <a:moveTo>
                        <a:pt x="39" y="63"/>
                      </a:moveTo>
                      <a:lnTo>
                        <a:pt x="198" y="215"/>
                      </a:lnTo>
                      <a:lnTo>
                        <a:pt x="199" y="209"/>
                      </a:lnTo>
                      <a:lnTo>
                        <a:pt x="202" y="205"/>
                      </a:lnTo>
                      <a:lnTo>
                        <a:pt x="203" y="199"/>
                      </a:lnTo>
                      <a:lnTo>
                        <a:pt x="204" y="194"/>
                      </a:lnTo>
                      <a:lnTo>
                        <a:pt x="0" y="0"/>
                      </a:lnTo>
                      <a:lnTo>
                        <a:pt x="4" y="7"/>
                      </a:lnTo>
                      <a:lnTo>
                        <a:pt x="7" y="14"/>
                      </a:lnTo>
                      <a:lnTo>
                        <a:pt x="10" y="22"/>
                      </a:lnTo>
                      <a:lnTo>
                        <a:pt x="15" y="28"/>
                      </a:lnTo>
                      <a:lnTo>
                        <a:pt x="21" y="37"/>
                      </a:lnTo>
                      <a:lnTo>
                        <a:pt x="27" y="45"/>
                      </a:lnTo>
                      <a:lnTo>
                        <a:pt x="32" y="54"/>
                      </a:lnTo>
                      <a:lnTo>
                        <a:pt x="39" y="6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819840" y="4025880"/>
                  <a:ext cx="4680" cy="1440"/>
                </a:xfrm>
                <a:custGeom>
                  <a:avLst/>
                  <a:gdLst/>
                  <a:ahLst/>
                  <a:rect l="l" t="t" r="r" b="b"/>
                  <a:pathLst>
                    <a:path w="5" h="2">
                      <a:moveTo>
                        <a:pt x="5" y="0"/>
                      </a:moveTo>
                      <a:lnTo>
                        <a:pt x="4" y="0"/>
                      </a:lnTo>
                      <a:lnTo>
                        <a:pt x="3" y="0"/>
                      </a:lnTo>
                      <a:lnTo>
                        <a:pt x="2" y="0"/>
                      </a:lnTo>
                      <a:lnTo>
                        <a:pt x="0" y="0"/>
                      </a:lnTo>
                      <a:lnTo>
                        <a:pt x="4" y="2"/>
                      </a:lnTo>
                      <a:lnTo>
                        <a:pt x="4" y="2"/>
                      </a:lnTo>
                      <a:lnTo>
                        <a:pt x="5" y="1"/>
                      </a:lnTo>
                      <a:lnTo>
                        <a:pt x="5" y="1"/>
                      </a:lnTo>
                      <a:lnTo>
                        <a:pt x="5"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7" name=""/>
                <p:cNvSpPr/>
                <p:nvPr/>
              </p:nvSpPr>
              <p:spPr>
                <a:xfrm>
                  <a:off x="6735600" y="3927600"/>
                  <a:ext cx="92160" cy="91800"/>
                </a:xfrm>
                <a:custGeom>
                  <a:avLst/>
                  <a:gdLst/>
                  <a:ahLst/>
                  <a:rect l="l" t="t" r="r" b="b"/>
                  <a:pathLst>
                    <a:path w="88" h="86">
                      <a:moveTo>
                        <a:pt x="0" y="17"/>
                      </a:moveTo>
                      <a:lnTo>
                        <a:pt x="74" y="86"/>
                      </a:lnTo>
                      <a:lnTo>
                        <a:pt x="77" y="84"/>
                      </a:lnTo>
                      <a:lnTo>
                        <a:pt x="81" y="81"/>
                      </a:lnTo>
                      <a:lnTo>
                        <a:pt x="84" y="78"/>
                      </a:lnTo>
                      <a:lnTo>
                        <a:pt x="88" y="75"/>
                      </a:lnTo>
                      <a:lnTo>
                        <a:pt x="10" y="0"/>
                      </a:lnTo>
                      <a:lnTo>
                        <a:pt x="8" y="5"/>
                      </a:lnTo>
                      <a:lnTo>
                        <a:pt x="6"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8" name=""/>
                <p:cNvSpPr/>
                <p:nvPr/>
              </p:nvSpPr>
              <p:spPr>
                <a:xfrm>
                  <a:off x="7297560" y="4456080"/>
                  <a:ext cx="168480" cy="184320"/>
                </a:xfrm>
                <a:custGeom>
                  <a:avLst/>
                  <a:gdLst/>
                  <a:ahLst/>
                  <a:rect l="l" t="t" r="r" b="b"/>
                  <a:pathLst>
                    <a:path w="159" h="173">
                      <a:moveTo>
                        <a:pt x="38" y="47"/>
                      </a:moveTo>
                      <a:lnTo>
                        <a:pt x="41" y="53"/>
                      </a:lnTo>
                      <a:lnTo>
                        <a:pt x="43" y="58"/>
                      </a:lnTo>
                      <a:lnTo>
                        <a:pt x="45" y="63"/>
                      </a:lnTo>
                      <a:lnTo>
                        <a:pt x="47" y="70"/>
                      </a:lnTo>
                      <a:lnTo>
                        <a:pt x="153" y="173"/>
                      </a:lnTo>
                      <a:lnTo>
                        <a:pt x="155" y="167"/>
                      </a:lnTo>
                      <a:lnTo>
                        <a:pt x="157" y="162"/>
                      </a:lnTo>
                      <a:lnTo>
                        <a:pt x="158" y="157"/>
                      </a:lnTo>
                      <a:lnTo>
                        <a:pt x="159" y="152"/>
                      </a:lnTo>
                      <a:lnTo>
                        <a:pt x="0" y="0"/>
                      </a:lnTo>
                      <a:lnTo>
                        <a:pt x="4" y="6"/>
                      </a:lnTo>
                      <a:lnTo>
                        <a:pt x="8" y="10"/>
                      </a:lnTo>
                      <a:lnTo>
                        <a:pt x="13" y="16"/>
                      </a:lnTo>
                      <a:lnTo>
                        <a:pt x="17" y="22"/>
                      </a:lnTo>
                      <a:lnTo>
                        <a:pt x="22" y="28"/>
                      </a:lnTo>
                      <a:lnTo>
                        <a:pt x="28" y="35"/>
                      </a:lnTo>
                      <a:lnTo>
                        <a:pt x="32" y="40"/>
                      </a:lnTo>
                      <a:lnTo>
                        <a:pt x="38" y="4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727680" y="3946680"/>
                  <a:ext cx="93960" cy="98280"/>
                </a:xfrm>
                <a:custGeom>
                  <a:avLst/>
                  <a:gdLst/>
                  <a:ahLst/>
                  <a:rect l="l" t="t" r="r" b="b"/>
                  <a:pathLst>
                    <a:path w="90" h="94">
                      <a:moveTo>
                        <a:pt x="0" y="18"/>
                      </a:moveTo>
                      <a:lnTo>
                        <a:pt x="79" y="94"/>
                      </a:lnTo>
                      <a:lnTo>
                        <a:pt x="82" y="90"/>
                      </a:lnTo>
                      <a:lnTo>
                        <a:pt x="85" y="86"/>
                      </a:lnTo>
                      <a:lnTo>
                        <a:pt x="88" y="82"/>
                      </a:lnTo>
                      <a:lnTo>
                        <a:pt x="90" y="77"/>
                      </a:lnTo>
                      <a:lnTo>
                        <a:pt x="86" y="75"/>
                      </a:lnTo>
                      <a:lnTo>
                        <a:pt x="84" y="75"/>
                      </a:lnTo>
                      <a:lnTo>
                        <a:pt x="81" y="75"/>
                      </a:lnTo>
                      <a:lnTo>
                        <a:pt x="78" y="75"/>
                      </a:lnTo>
                      <a:lnTo>
                        <a:pt x="75" y="75"/>
                      </a:lnTo>
                      <a:lnTo>
                        <a:pt x="77" y="74"/>
                      </a:lnTo>
                      <a:lnTo>
                        <a:pt x="78" y="72"/>
                      </a:lnTo>
                      <a:lnTo>
                        <a:pt x="81" y="71"/>
                      </a:lnTo>
                      <a:lnTo>
                        <a:pt x="82" y="69"/>
                      </a:lnTo>
                      <a:lnTo>
                        <a:pt x="8" y="0"/>
                      </a:lnTo>
                      <a:lnTo>
                        <a:pt x="6" y="5"/>
                      </a:lnTo>
                      <a:lnTo>
                        <a:pt x="3" y="8"/>
                      </a:lnTo>
                      <a:lnTo>
                        <a:pt x="2"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7346880" y="4530600"/>
                  <a:ext cx="112680" cy="131760"/>
                </a:xfrm>
                <a:custGeom>
                  <a:avLst/>
                  <a:gdLst/>
                  <a:ahLst/>
                  <a:rect l="l" t="t" r="r" b="b"/>
                  <a:pathLst>
                    <a:path w="106" h="122">
                      <a:moveTo>
                        <a:pt x="7" y="33"/>
                      </a:moveTo>
                      <a:lnTo>
                        <a:pt x="101" y="122"/>
                      </a:lnTo>
                      <a:lnTo>
                        <a:pt x="102" y="118"/>
                      </a:lnTo>
                      <a:lnTo>
                        <a:pt x="104" y="112"/>
                      </a:lnTo>
                      <a:lnTo>
                        <a:pt x="105" y="107"/>
                      </a:lnTo>
                      <a:lnTo>
                        <a:pt x="106" y="103"/>
                      </a:lnTo>
                      <a:lnTo>
                        <a:pt x="0" y="0"/>
                      </a:lnTo>
                      <a:lnTo>
                        <a:pt x="3" y="7"/>
                      </a:lnTo>
                      <a:lnTo>
                        <a:pt x="4" y="15"/>
                      </a:lnTo>
                      <a:lnTo>
                        <a:pt x="6" y="24"/>
                      </a:lnTo>
                      <a:lnTo>
                        <a:pt x="7" y="3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7354800" y="4565520"/>
                  <a:ext cx="98640" cy="117720"/>
                </a:xfrm>
                <a:custGeom>
                  <a:avLst/>
                  <a:gdLst/>
                  <a:ahLst/>
                  <a:rect l="l" t="t" r="r" b="b"/>
                  <a:pathLst>
                    <a:path w="94" h="110">
                      <a:moveTo>
                        <a:pt x="5" y="30"/>
                      </a:moveTo>
                      <a:lnTo>
                        <a:pt x="88" y="110"/>
                      </a:lnTo>
                      <a:lnTo>
                        <a:pt x="89" y="104"/>
                      </a:lnTo>
                      <a:lnTo>
                        <a:pt x="91" y="100"/>
                      </a:lnTo>
                      <a:lnTo>
                        <a:pt x="93" y="94"/>
                      </a:lnTo>
                      <a:lnTo>
                        <a:pt x="94" y="89"/>
                      </a:lnTo>
                      <a:lnTo>
                        <a:pt x="0" y="0"/>
                      </a:lnTo>
                      <a:lnTo>
                        <a:pt x="2" y="8"/>
                      </a:lnTo>
                      <a:lnTo>
                        <a:pt x="3" y="15"/>
                      </a:lnTo>
                      <a:lnTo>
                        <a:pt x="4" y="21"/>
                      </a:lnTo>
                      <a:lnTo>
                        <a:pt x="5" y="3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719760" y="3963960"/>
                  <a:ext cx="92160" cy="98280"/>
                </a:xfrm>
                <a:custGeom>
                  <a:avLst/>
                  <a:gdLst/>
                  <a:ahLst/>
                  <a:rect l="l" t="t" r="r" b="b"/>
                  <a:pathLst>
                    <a:path w="86" h="92">
                      <a:moveTo>
                        <a:pt x="0" y="19"/>
                      </a:moveTo>
                      <a:lnTo>
                        <a:pt x="76" y="92"/>
                      </a:lnTo>
                      <a:lnTo>
                        <a:pt x="78" y="88"/>
                      </a:lnTo>
                      <a:lnTo>
                        <a:pt x="82" y="84"/>
                      </a:lnTo>
                      <a:lnTo>
                        <a:pt x="84" y="80"/>
                      </a:lnTo>
                      <a:lnTo>
                        <a:pt x="86" y="76"/>
                      </a:lnTo>
                      <a:lnTo>
                        <a:pt x="7" y="0"/>
                      </a:lnTo>
                      <a:lnTo>
                        <a:pt x="5" y="4"/>
                      </a:lnTo>
                      <a:lnTo>
                        <a:pt x="2" y="10"/>
                      </a:lnTo>
                      <a:lnTo>
                        <a:pt x="1" y="15"/>
                      </a:lnTo>
                      <a:lnTo>
                        <a:pt x="0" y="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7359480" y="4597560"/>
                  <a:ext cx="87480" cy="107640"/>
                </a:xfrm>
                <a:custGeom>
                  <a:avLst/>
                  <a:gdLst/>
                  <a:ahLst/>
                  <a:rect l="l" t="t" r="r" b="b"/>
                  <a:pathLst>
                    <a:path w="83" h="100">
                      <a:moveTo>
                        <a:pt x="2" y="28"/>
                      </a:moveTo>
                      <a:lnTo>
                        <a:pt x="77" y="100"/>
                      </a:lnTo>
                      <a:lnTo>
                        <a:pt x="78" y="95"/>
                      </a:lnTo>
                      <a:lnTo>
                        <a:pt x="81" y="89"/>
                      </a:lnTo>
                      <a:lnTo>
                        <a:pt x="82" y="85"/>
                      </a:lnTo>
                      <a:lnTo>
                        <a:pt x="83" y="80"/>
                      </a:lnTo>
                      <a:lnTo>
                        <a:pt x="0" y="0"/>
                      </a:lnTo>
                      <a:lnTo>
                        <a:pt x="1" y="8"/>
                      </a:lnTo>
                      <a:lnTo>
                        <a:pt x="1" y="14"/>
                      </a:lnTo>
                      <a:lnTo>
                        <a:pt x="2" y="21"/>
                      </a:lnTo>
                      <a:lnTo>
                        <a:pt x="2" y="2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6715080" y="3984480"/>
                  <a:ext cx="85680" cy="84240"/>
                </a:xfrm>
                <a:custGeom>
                  <a:avLst/>
                  <a:gdLst/>
                  <a:ahLst/>
                  <a:rect l="l" t="t" r="r" b="b"/>
                  <a:pathLst>
                    <a:path w="79" h="78">
                      <a:moveTo>
                        <a:pt x="0" y="23"/>
                      </a:moveTo>
                      <a:lnTo>
                        <a:pt x="55" y="75"/>
                      </a:lnTo>
                      <a:lnTo>
                        <a:pt x="60" y="76"/>
                      </a:lnTo>
                      <a:lnTo>
                        <a:pt x="64" y="77"/>
                      </a:lnTo>
                      <a:lnTo>
                        <a:pt x="70" y="78"/>
                      </a:lnTo>
                      <a:lnTo>
                        <a:pt x="76" y="78"/>
                      </a:lnTo>
                      <a:lnTo>
                        <a:pt x="77" y="77"/>
                      </a:lnTo>
                      <a:lnTo>
                        <a:pt x="78" y="76"/>
                      </a:lnTo>
                      <a:lnTo>
                        <a:pt x="78" y="74"/>
                      </a:lnTo>
                      <a:lnTo>
                        <a:pt x="79" y="73"/>
                      </a:lnTo>
                      <a:lnTo>
                        <a:pt x="3" y="0"/>
                      </a:lnTo>
                      <a:lnTo>
                        <a:pt x="2" y="6"/>
                      </a:lnTo>
                      <a:lnTo>
                        <a:pt x="1" y="12"/>
                      </a:lnTo>
                      <a:lnTo>
                        <a:pt x="0" y="17"/>
                      </a:lnTo>
                      <a:lnTo>
                        <a:pt x="0"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15" name=""/>
                <p:cNvSpPr/>
                <p:nvPr/>
              </p:nvSpPr>
              <p:spPr>
                <a:xfrm>
                  <a:off x="7361280" y="4627440"/>
                  <a:ext cx="81000" cy="98640"/>
                </a:xfrm>
                <a:custGeom>
                  <a:avLst/>
                  <a:gdLst/>
                  <a:ahLst/>
                  <a:rect l="l" t="t" r="r" b="b"/>
                  <a:pathLst>
                    <a:path w="75" h="91">
                      <a:moveTo>
                        <a:pt x="4" y="29"/>
                      </a:moveTo>
                      <a:lnTo>
                        <a:pt x="69" y="91"/>
                      </a:lnTo>
                      <a:lnTo>
                        <a:pt x="71" y="87"/>
                      </a:lnTo>
                      <a:lnTo>
                        <a:pt x="72" y="82"/>
                      </a:lnTo>
                      <a:lnTo>
                        <a:pt x="74" y="76"/>
                      </a:lnTo>
                      <a:lnTo>
                        <a:pt x="75" y="72"/>
                      </a:lnTo>
                      <a:lnTo>
                        <a:pt x="0" y="0"/>
                      </a:lnTo>
                      <a:lnTo>
                        <a:pt x="1" y="8"/>
                      </a:lnTo>
                      <a:lnTo>
                        <a:pt x="3" y="15"/>
                      </a:lnTo>
                      <a:lnTo>
                        <a:pt x="3" y="22"/>
                      </a:lnTo>
                      <a:lnTo>
                        <a:pt x="4" y="2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6715080" y="4011480"/>
                  <a:ext cx="60480" cy="55800"/>
                </a:xfrm>
                <a:custGeom>
                  <a:avLst/>
                  <a:gdLst/>
                  <a:ahLst/>
                  <a:rect l="l" t="t" r="r" b="b"/>
                  <a:pathLst>
                    <a:path w="55" h="52">
                      <a:moveTo>
                        <a:pt x="55" y="52"/>
                      </a:moveTo>
                      <a:lnTo>
                        <a:pt x="0" y="0"/>
                      </a:lnTo>
                      <a:lnTo>
                        <a:pt x="1" y="9"/>
                      </a:lnTo>
                      <a:lnTo>
                        <a:pt x="3" y="17"/>
                      </a:lnTo>
                      <a:lnTo>
                        <a:pt x="8" y="26"/>
                      </a:lnTo>
                      <a:lnTo>
                        <a:pt x="13" y="32"/>
                      </a:lnTo>
                      <a:lnTo>
                        <a:pt x="20" y="38"/>
                      </a:lnTo>
                      <a:lnTo>
                        <a:pt x="30" y="44"/>
                      </a:lnTo>
                      <a:lnTo>
                        <a:pt x="41" y="49"/>
                      </a:lnTo>
                      <a:lnTo>
                        <a:pt x="55" y="5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7" name=""/>
                <p:cNvSpPr/>
                <p:nvPr/>
              </p:nvSpPr>
              <p:spPr>
                <a:xfrm>
                  <a:off x="7365960" y="4659480"/>
                  <a:ext cx="69840" cy="88560"/>
                </a:xfrm>
                <a:custGeom>
                  <a:avLst/>
                  <a:gdLst/>
                  <a:ahLst/>
                  <a:rect l="l" t="t" r="r" b="b"/>
                  <a:pathLst>
                    <a:path w="65" h="83">
                      <a:moveTo>
                        <a:pt x="1" y="28"/>
                      </a:moveTo>
                      <a:lnTo>
                        <a:pt x="58" y="83"/>
                      </a:lnTo>
                      <a:lnTo>
                        <a:pt x="61" y="77"/>
                      </a:lnTo>
                      <a:lnTo>
                        <a:pt x="62" y="73"/>
                      </a:lnTo>
                      <a:lnTo>
                        <a:pt x="64" y="67"/>
                      </a:lnTo>
                      <a:lnTo>
                        <a:pt x="65" y="62"/>
                      </a:lnTo>
                      <a:lnTo>
                        <a:pt x="0" y="0"/>
                      </a:lnTo>
                      <a:lnTo>
                        <a:pt x="0" y="7"/>
                      </a:lnTo>
                      <a:lnTo>
                        <a:pt x="1" y="14"/>
                      </a:lnTo>
                      <a:lnTo>
                        <a:pt x="1" y="21"/>
                      </a:lnTo>
                      <a:lnTo>
                        <a:pt x="1" y="2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318" name=""/>
                <p:cNvSpPr/>
                <p:nvPr/>
              </p:nvSpPr>
              <p:spPr>
                <a:xfrm>
                  <a:off x="7365960" y="4687920"/>
                  <a:ext cx="61920" cy="81000"/>
                </a:xfrm>
                <a:custGeom>
                  <a:avLst/>
                  <a:gdLst/>
                  <a:ahLst/>
                  <a:rect l="l" t="t" r="r" b="b"/>
                  <a:pathLst>
                    <a:path w="57" h="75">
                      <a:moveTo>
                        <a:pt x="2" y="27"/>
                      </a:moveTo>
                      <a:lnTo>
                        <a:pt x="52" y="75"/>
                      </a:lnTo>
                      <a:lnTo>
                        <a:pt x="53" y="70"/>
                      </a:lnTo>
                      <a:lnTo>
                        <a:pt x="55" y="65"/>
                      </a:lnTo>
                      <a:lnTo>
                        <a:pt x="56" y="60"/>
                      </a:lnTo>
                      <a:lnTo>
                        <a:pt x="57" y="55"/>
                      </a:lnTo>
                      <a:lnTo>
                        <a:pt x="0" y="0"/>
                      </a:lnTo>
                      <a:lnTo>
                        <a:pt x="1" y="7"/>
                      </a:lnTo>
                      <a:lnTo>
                        <a:pt x="1" y="14"/>
                      </a:lnTo>
                      <a:lnTo>
                        <a:pt x="1" y="20"/>
                      </a:lnTo>
                      <a:lnTo>
                        <a:pt x="2"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9" name=""/>
                <p:cNvSpPr/>
                <p:nvPr/>
              </p:nvSpPr>
              <p:spPr>
                <a:xfrm>
                  <a:off x="7369200" y="4718160"/>
                  <a:ext cx="55440" cy="81000"/>
                </a:xfrm>
                <a:custGeom>
                  <a:avLst/>
                  <a:gdLst/>
                  <a:ahLst/>
                  <a:rect l="l" t="t" r="r" b="b"/>
                  <a:pathLst>
                    <a:path w="52" h="75">
                      <a:moveTo>
                        <a:pt x="1" y="28"/>
                      </a:moveTo>
                      <a:lnTo>
                        <a:pt x="52" y="75"/>
                      </a:lnTo>
                      <a:lnTo>
                        <a:pt x="51" y="68"/>
                      </a:lnTo>
                      <a:lnTo>
                        <a:pt x="51" y="61"/>
                      </a:lnTo>
                      <a:lnTo>
                        <a:pt x="51" y="56"/>
                      </a:lnTo>
                      <a:lnTo>
                        <a:pt x="50" y="49"/>
                      </a:lnTo>
                      <a:lnTo>
                        <a:pt x="50" y="49"/>
                      </a:lnTo>
                      <a:lnTo>
                        <a:pt x="50" y="48"/>
                      </a:lnTo>
                      <a:lnTo>
                        <a:pt x="50" y="48"/>
                      </a:lnTo>
                      <a:lnTo>
                        <a:pt x="50" y="48"/>
                      </a:lnTo>
                      <a:lnTo>
                        <a:pt x="0" y="0"/>
                      </a:lnTo>
                      <a:lnTo>
                        <a:pt x="0" y="7"/>
                      </a:lnTo>
                      <a:lnTo>
                        <a:pt x="1" y="14"/>
                      </a:lnTo>
                      <a:lnTo>
                        <a:pt x="1" y="21"/>
                      </a:lnTo>
                      <a:lnTo>
                        <a:pt x="1" y="2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0" name=""/>
                <p:cNvSpPr/>
                <p:nvPr/>
              </p:nvSpPr>
              <p:spPr>
                <a:xfrm>
                  <a:off x="7369200" y="4748040"/>
                  <a:ext cx="55440" cy="79560"/>
                </a:xfrm>
                <a:custGeom>
                  <a:avLst/>
                  <a:gdLst/>
                  <a:ahLst/>
                  <a:rect l="l" t="t" r="r" b="b"/>
                  <a:pathLst>
                    <a:path w="52" h="75">
                      <a:moveTo>
                        <a:pt x="3" y="27"/>
                      </a:moveTo>
                      <a:lnTo>
                        <a:pt x="52" y="75"/>
                      </a:lnTo>
                      <a:lnTo>
                        <a:pt x="52" y="68"/>
                      </a:lnTo>
                      <a:lnTo>
                        <a:pt x="52" y="61"/>
                      </a:lnTo>
                      <a:lnTo>
                        <a:pt x="51" y="54"/>
                      </a:lnTo>
                      <a:lnTo>
                        <a:pt x="51" y="47"/>
                      </a:lnTo>
                      <a:lnTo>
                        <a:pt x="0" y="0"/>
                      </a:lnTo>
                      <a:lnTo>
                        <a:pt x="1" y="7"/>
                      </a:lnTo>
                      <a:lnTo>
                        <a:pt x="1" y="14"/>
                      </a:lnTo>
                      <a:lnTo>
                        <a:pt x="1" y="21"/>
                      </a:lnTo>
                      <a:lnTo>
                        <a:pt x="3"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321" name=""/>
                <p:cNvSpPr/>
                <p:nvPr/>
              </p:nvSpPr>
              <p:spPr>
                <a:xfrm>
                  <a:off x="7372440" y="4775040"/>
                  <a:ext cx="55440" cy="82800"/>
                </a:xfrm>
                <a:custGeom>
                  <a:avLst/>
                  <a:gdLst/>
                  <a:ahLst/>
                  <a:rect l="l" t="t" r="r" b="b"/>
                  <a:pathLst>
                    <a:path w="51" h="76">
                      <a:moveTo>
                        <a:pt x="1" y="27"/>
                      </a:moveTo>
                      <a:lnTo>
                        <a:pt x="51" y="76"/>
                      </a:lnTo>
                      <a:lnTo>
                        <a:pt x="50" y="69"/>
                      </a:lnTo>
                      <a:lnTo>
                        <a:pt x="50" y="62"/>
                      </a:lnTo>
                      <a:lnTo>
                        <a:pt x="50" y="55"/>
                      </a:lnTo>
                      <a:lnTo>
                        <a:pt x="49" y="48"/>
                      </a:lnTo>
                      <a:lnTo>
                        <a:pt x="0" y="0"/>
                      </a:lnTo>
                      <a:lnTo>
                        <a:pt x="0" y="8"/>
                      </a:lnTo>
                      <a:lnTo>
                        <a:pt x="1" y="15"/>
                      </a:lnTo>
                      <a:lnTo>
                        <a:pt x="1" y="21"/>
                      </a:lnTo>
                      <a:lnTo>
                        <a:pt x="1"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322" name=""/>
                <p:cNvSpPr/>
                <p:nvPr/>
              </p:nvSpPr>
              <p:spPr>
                <a:xfrm>
                  <a:off x="7373880" y="4805280"/>
                  <a:ext cx="55800" cy="81000"/>
                </a:xfrm>
                <a:custGeom>
                  <a:avLst/>
                  <a:gdLst/>
                  <a:ahLst/>
                  <a:rect l="l" t="t" r="r" b="b"/>
                  <a:pathLst>
                    <a:path w="53" h="76">
                      <a:moveTo>
                        <a:pt x="2" y="26"/>
                      </a:moveTo>
                      <a:lnTo>
                        <a:pt x="4" y="26"/>
                      </a:lnTo>
                      <a:lnTo>
                        <a:pt x="7" y="26"/>
                      </a:lnTo>
                      <a:lnTo>
                        <a:pt x="9" y="26"/>
                      </a:lnTo>
                      <a:lnTo>
                        <a:pt x="12" y="26"/>
                      </a:lnTo>
                      <a:lnTo>
                        <a:pt x="12" y="29"/>
                      </a:lnTo>
                      <a:lnTo>
                        <a:pt x="12" y="31"/>
                      </a:lnTo>
                      <a:lnTo>
                        <a:pt x="12" y="35"/>
                      </a:lnTo>
                      <a:lnTo>
                        <a:pt x="12" y="38"/>
                      </a:lnTo>
                      <a:lnTo>
                        <a:pt x="53" y="76"/>
                      </a:lnTo>
                      <a:lnTo>
                        <a:pt x="52" y="69"/>
                      </a:lnTo>
                      <a:lnTo>
                        <a:pt x="52" y="62"/>
                      </a:lnTo>
                      <a:lnTo>
                        <a:pt x="52" y="55"/>
                      </a:lnTo>
                      <a:lnTo>
                        <a:pt x="50" y="49"/>
                      </a:lnTo>
                      <a:lnTo>
                        <a:pt x="0" y="0"/>
                      </a:lnTo>
                      <a:lnTo>
                        <a:pt x="1" y="7"/>
                      </a:lnTo>
                      <a:lnTo>
                        <a:pt x="1" y="14"/>
                      </a:lnTo>
                      <a:lnTo>
                        <a:pt x="1" y="20"/>
                      </a:lnTo>
                      <a:lnTo>
                        <a:pt x="2"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3" name=""/>
                <p:cNvSpPr/>
                <p:nvPr/>
              </p:nvSpPr>
              <p:spPr>
                <a:xfrm>
                  <a:off x="7386480" y="4846680"/>
                  <a:ext cx="47880" cy="73080"/>
                </a:xfrm>
                <a:custGeom>
                  <a:avLst/>
                  <a:gdLst/>
                  <a:ahLst/>
                  <a:rect l="l" t="t" r="r" b="b"/>
                  <a:pathLst>
                    <a:path w="43" h="67">
                      <a:moveTo>
                        <a:pt x="2" y="27"/>
                      </a:moveTo>
                      <a:lnTo>
                        <a:pt x="43" y="67"/>
                      </a:lnTo>
                      <a:lnTo>
                        <a:pt x="42" y="60"/>
                      </a:lnTo>
                      <a:lnTo>
                        <a:pt x="42" y="53"/>
                      </a:lnTo>
                      <a:lnTo>
                        <a:pt x="42" y="46"/>
                      </a:lnTo>
                      <a:lnTo>
                        <a:pt x="41" y="38"/>
                      </a:lnTo>
                      <a:lnTo>
                        <a:pt x="0" y="0"/>
                      </a:lnTo>
                      <a:lnTo>
                        <a:pt x="0" y="7"/>
                      </a:lnTo>
                      <a:lnTo>
                        <a:pt x="2" y="13"/>
                      </a:lnTo>
                      <a:lnTo>
                        <a:pt x="2" y="20"/>
                      </a:lnTo>
                      <a:lnTo>
                        <a:pt x="2"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24" name=""/>
                <p:cNvSpPr/>
                <p:nvPr/>
              </p:nvSpPr>
              <p:spPr>
                <a:xfrm>
                  <a:off x="7389720" y="4873680"/>
                  <a:ext cx="46080" cy="76320"/>
                </a:xfrm>
                <a:custGeom>
                  <a:avLst/>
                  <a:gdLst/>
                  <a:ahLst/>
                  <a:rect l="l" t="t" r="r" b="b"/>
                  <a:pathLst>
                    <a:path w="45" h="69">
                      <a:moveTo>
                        <a:pt x="0" y="26"/>
                      </a:moveTo>
                      <a:lnTo>
                        <a:pt x="45" y="69"/>
                      </a:lnTo>
                      <a:lnTo>
                        <a:pt x="43" y="62"/>
                      </a:lnTo>
                      <a:lnTo>
                        <a:pt x="43" y="54"/>
                      </a:lnTo>
                      <a:lnTo>
                        <a:pt x="42" y="47"/>
                      </a:lnTo>
                      <a:lnTo>
                        <a:pt x="41" y="40"/>
                      </a:lnTo>
                      <a:lnTo>
                        <a:pt x="0" y="0"/>
                      </a:lnTo>
                      <a:lnTo>
                        <a:pt x="0" y="7"/>
                      </a:lnTo>
                      <a:lnTo>
                        <a:pt x="0" y="12"/>
                      </a:lnTo>
                      <a:lnTo>
                        <a:pt x="0" y="19"/>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25" name=""/>
                <p:cNvSpPr/>
                <p:nvPr/>
              </p:nvSpPr>
              <p:spPr>
                <a:xfrm>
                  <a:off x="7389720" y="4903920"/>
                  <a:ext cx="50760" cy="74520"/>
                </a:xfrm>
                <a:custGeom>
                  <a:avLst/>
                  <a:gdLst/>
                  <a:ahLst/>
                  <a:rect l="l" t="t" r="r" b="b"/>
                  <a:pathLst>
                    <a:path w="48" h="72">
                      <a:moveTo>
                        <a:pt x="0" y="27"/>
                      </a:moveTo>
                      <a:lnTo>
                        <a:pt x="48" y="72"/>
                      </a:lnTo>
                      <a:lnTo>
                        <a:pt x="47" y="65"/>
                      </a:lnTo>
                      <a:lnTo>
                        <a:pt x="47" y="58"/>
                      </a:lnTo>
                      <a:lnTo>
                        <a:pt x="46" y="51"/>
                      </a:lnTo>
                      <a:lnTo>
                        <a:pt x="45" y="43"/>
                      </a:lnTo>
                      <a:lnTo>
                        <a:pt x="0" y="0"/>
                      </a:lnTo>
                      <a:lnTo>
                        <a:pt x="0" y="6"/>
                      </a:lnTo>
                      <a:lnTo>
                        <a:pt x="0" y="13"/>
                      </a:lnTo>
                      <a:lnTo>
                        <a:pt x="0" y="20"/>
                      </a:lnTo>
                      <a:lnTo>
                        <a:pt x="0"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26" name=""/>
                <p:cNvSpPr/>
                <p:nvPr/>
              </p:nvSpPr>
              <p:spPr>
                <a:xfrm>
                  <a:off x="7389720" y="4932360"/>
                  <a:ext cx="55800" cy="79200"/>
                </a:xfrm>
                <a:custGeom>
                  <a:avLst/>
                  <a:gdLst/>
                  <a:ahLst/>
                  <a:rect l="l" t="t" r="r" b="b"/>
                  <a:pathLst>
                    <a:path w="53" h="75">
                      <a:moveTo>
                        <a:pt x="1" y="25"/>
                      </a:moveTo>
                      <a:lnTo>
                        <a:pt x="53" y="75"/>
                      </a:lnTo>
                      <a:lnTo>
                        <a:pt x="51" y="68"/>
                      </a:lnTo>
                      <a:lnTo>
                        <a:pt x="50" y="60"/>
                      </a:lnTo>
                      <a:lnTo>
                        <a:pt x="49" y="53"/>
                      </a:lnTo>
                      <a:lnTo>
                        <a:pt x="48" y="45"/>
                      </a:lnTo>
                      <a:lnTo>
                        <a:pt x="0" y="0"/>
                      </a:lnTo>
                      <a:lnTo>
                        <a:pt x="1" y="5"/>
                      </a:lnTo>
                      <a:lnTo>
                        <a:pt x="1" y="12"/>
                      </a:lnTo>
                      <a:lnTo>
                        <a:pt x="1" y="19"/>
                      </a:lnTo>
                      <a:lnTo>
                        <a:pt x="1" y="2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27" name=""/>
                <p:cNvSpPr/>
                <p:nvPr/>
              </p:nvSpPr>
              <p:spPr>
                <a:xfrm>
                  <a:off x="7389720" y="4959360"/>
                  <a:ext cx="61920" cy="85680"/>
                </a:xfrm>
                <a:custGeom>
                  <a:avLst/>
                  <a:gdLst/>
                  <a:ahLst/>
                  <a:rect l="l" t="t" r="r" b="b"/>
                  <a:pathLst>
                    <a:path w="56" h="81">
                      <a:moveTo>
                        <a:pt x="0" y="27"/>
                      </a:moveTo>
                      <a:lnTo>
                        <a:pt x="56" y="81"/>
                      </a:lnTo>
                      <a:lnTo>
                        <a:pt x="55" y="73"/>
                      </a:lnTo>
                      <a:lnTo>
                        <a:pt x="54" y="65"/>
                      </a:lnTo>
                      <a:lnTo>
                        <a:pt x="53" y="58"/>
                      </a:lnTo>
                      <a:lnTo>
                        <a:pt x="52" y="50"/>
                      </a:lnTo>
                      <a:lnTo>
                        <a:pt x="0" y="0"/>
                      </a:lnTo>
                      <a:lnTo>
                        <a:pt x="0" y="7"/>
                      </a:lnTo>
                      <a:lnTo>
                        <a:pt x="0" y="13"/>
                      </a:lnTo>
                      <a:lnTo>
                        <a:pt x="0" y="20"/>
                      </a:lnTo>
                      <a:lnTo>
                        <a:pt x="0"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28" name=""/>
                <p:cNvSpPr/>
                <p:nvPr/>
              </p:nvSpPr>
              <p:spPr>
                <a:xfrm>
                  <a:off x="7389720" y="4987800"/>
                  <a:ext cx="65160" cy="88920"/>
                </a:xfrm>
                <a:custGeom>
                  <a:avLst/>
                  <a:gdLst/>
                  <a:ahLst/>
                  <a:rect l="l" t="t" r="r" b="b"/>
                  <a:pathLst>
                    <a:path w="61" h="85">
                      <a:moveTo>
                        <a:pt x="0" y="26"/>
                      </a:moveTo>
                      <a:lnTo>
                        <a:pt x="61" y="85"/>
                      </a:lnTo>
                      <a:lnTo>
                        <a:pt x="60" y="77"/>
                      </a:lnTo>
                      <a:lnTo>
                        <a:pt x="59" y="69"/>
                      </a:lnTo>
                      <a:lnTo>
                        <a:pt x="57" y="61"/>
                      </a:lnTo>
                      <a:lnTo>
                        <a:pt x="56" y="54"/>
                      </a:lnTo>
                      <a:lnTo>
                        <a:pt x="0" y="0"/>
                      </a:lnTo>
                      <a:lnTo>
                        <a:pt x="0" y="6"/>
                      </a:lnTo>
                      <a:lnTo>
                        <a:pt x="0" y="12"/>
                      </a:lnTo>
                      <a:lnTo>
                        <a:pt x="0" y="19"/>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29" name=""/>
                <p:cNvSpPr/>
                <p:nvPr/>
              </p:nvSpPr>
              <p:spPr>
                <a:xfrm>
                  <a:off x="7389720" y="5014800"/>
                  <a:ext cx="69840" cy="88920"/>
                </a:xfrm>
                <a:custGeom>
                  <a:avLst/>
                  <a:gdLst/>
                  <a:ahLst/>
                  <a:rect l="l" t="t" r="r" b="b"/>
                  <a:pathLst>
                    <a:path w="64" h="82">
                      <a:moveTo>
                        <a:pt x="1" y="27"/>
                      </a:moveTo>
                      <a:lnTo>
                        <a:pt x="59" y="82"/>
                      </a:lnTo>
                      <a:lnTo>
                        <a:pt x="60" y="80"/>
                      </a:lnTo>
                      <a:lnTo>
                        <a:pt x="62" y="78"/>
                      </a:lnTo>
                      <a:lnTo>
                        <a:pt x="63" y="76"/>
                      </a:lnTo>
                      <a:lnTo>
                        <a:pt x="64" y="75"/>
                      </a:lnTo>
                      <a:lnTo>
                        <a:pt x="63" y="70"/>
                      </a:lnTo>
                      <a:lnTo>
                        <a:pt x="63" y="67"/>
                      </a:lnTo>
                      <a:lnTo>
                        <a:pt x="62" y="62"/>
                      </a:lnTo>
                      <a:lnTo>
                        <a:pt x="61" y="59"/>
                      </a:lnTo>
                      <a:lnTo>
                        <a:pt x="0" y="0"/>
                      </a:lnTo>
                      <a:lnTo>
                        <a:pt x="1" y="6"/>
                      </a:lnTo>
                      <a:lnTo>
                        <a:pt x="1" y="13"/>
                      </a:lnTo>
                      <a:lnTo>
                        <a:pt x="1" y="20"/>
                      </a:lnTo>
                      <a:lnTo>
                        <a:pt x="1"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30" name=""/>
                <p:cNvSpPr/>
                <p:nvPr/>
              </p:nvSpPr>
              <p:spPr>
                <a:xfrm>
                  <a:off x="7391520" y="5043600"/>
                  <a:ext cx="61920" cy="74520"/>
                </a:xfrm>
                <a:custGeom>
                  <a:avLst/>
                  <a:gdLst/>
                  <a:ahLst/>
                  <a:rect l="l" t="t" r="r" b="b"/>
                  <a:pathLst>
                    <a:path w="58" h="70">
                      <a:moveTo>
                        <a:pt x="0" y="26"/>
                      </a:moveTo>
                      <a:lnTo>
                        <a:pt x="47" y="70"/>
                      </a:lnTo>
                      <a:lnTo>
                        <a:pt x="49" y="66"/>
                      </a:lnTo>
                      <a:lnTo>
                        <a:pt x="53" y="62"/>
                      </a:lnTo>
                      <a:lnTo>
                        <a:pt x="55" y="58"/>
                      </a:lnTo>
                      <a:lnTo>
                        <a:pt x="58" y="55"/>
                      </a:lnTo>
                      <a:lnTo>
                        <a:pt x="0" y="0"/>
                      </a:lnTo>
                      <a:lnTo>
                        <a:pt x="0" y="5"/>
                      </a:lnTo>
                      <a:lnTo>
                        <a:pt x="0" y="12"/>
                      </a:lnTo>
                      <a:lnTo>
                        <a:pt x="0" y="19"/>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1" name=""/>
                <p:cNvSpPr/>
                <p:nvPr/>
              </p:nvSpPr>
              <p:spPr>
                <a:xfrm>
                  <a:off x="7378560" y="5073480"/>
                  <a:ext cx="63720" cy="61920"/>
                </a:xfrm>
                <a:custGeom>
                  <a:avLst/>
                  <a:gdLst/>
                  <a:ahLst/>
                  <a:rect l="l" t="t" r="r" b="b"/>
                  <a:pathLst>
                    <a:path w="59" h="60">
                      <a:moveTo>
                        <a:pt x="12" y="3"/>
                      </a:moveTo>
                      <a:lnTo>
                        <a:pt x="10" y="6"/>
                      </a:lnTo>
                      <a:lnTo>
                        <a:pt x="6" y="8"/>
                      </a:lnTo>
                      <a:lnTo>
                        <a:pt x="3" y="10"/>
                      </a:lnTo>
                      <a:lnTo>
                        <a:pt x="0" y="14"/>
                      </a:lnTo>
                      <a:lnTo>
                        <a:pt x="48" y="60"/>
                      </a:lnTo>
                      <a:lnTo>
                        <a:pt x="50" y="55"/>
                      </a:lnTo>
                      <a:lnTo>
                        <a:pt x="53" y="52"/>
                      </a:lnTo>
                      <a:lnTo>
                        <a:pt x="56" y="47"/>
                      </a:lnTo>
                      <a:lnTo>
                        <a:pt x="59" y="44"/>
                      </a:lnTo>
                      <a:lnTo>
                        <a:pt x="12" y="0"/>
                      </a:lnTo>
                      <a:lnTo>
                        <a:pt x="12" y="1"/>
                      </a:lnTo>
                      <a:lnTo>
                        <a:pt x="12" y="1"/>
                      </a:lnTo>
                      <a:lnTo>
                        <a:pt x="12" y="2"/>
                      </a:lnTo>
                      <a:lnTo>
                        <a:pt x="12" y="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32" name=""/>
                <p:cNvSpPr/>
                <p:nvPr/>
              </p:nvSpPr>
              <p:spPr>
                <a:xfrm>
                  <a:off x="7365960" y="5086440"/>
                  <a:ext cx="63720" cy="68040"/>
                </a:xfrm>
                <a:custGeom>
                  <a:avLst/>
                  <a:gdLst/>
                  <a:ahLst/>
                  <a:rect l="l" t="t" r="r" b="b"/>
                  <a:pathLst>
                    <a:path w="60" h="62">
                      <a:moveTo>
                        <a:pt x="0" y="13"/>
                      </a:moveTo>
                      <a:lnTo>
                        <a:pt x="50" y="62"/>
                      </a:lnTo>
                      <a:lnTo>
                        <a:pt x="53" y="57"/>
                      </a:lnTo>
                      <a:lnTo>
                        <a:pt x="55" y="54"/>
                      </a:lnTo>
                      <a:lnTo>
                        <a:pt x="57" y="49"/>
                      </a:lnTo>
                      <a:lnTo>
                        <a:pt x="60" y="46"/>
                      </a:lnTo>
                      <a:lnTo>
                        <a:pt x="12" y="0"/>
                      </a:lnTo>
                      <a:lnTo>
                        <a:pt x="9" y="2"/>
                      </a:lnTo>
                      <a:lnTo>
                        <a:pt x="5" y="6"/>
                      </a:lnTo>
                      <a:lnTo>
                        <a:pt x="2" y="9"/>
                      </a:lnTo>
                      <a:lnTo>
                        <a:pt x="0" y="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33" name=""/>
                <p:cNvSpPr/>
                <p:nvPr/>
              </p:nvSpPr>
              <p:spPr>
                <a:xfrm>
                  <a:off x="7353360" y="5100480"/>
                  <a:ext cx="65160" cy="66960"/>
                </a:xfrm>
                <a:custGeom>
                  <a:avLst/>
                  <a:gdLst/>
                  <a:ahLst/>
                  <a:rect l="l" t="t" r="r" b="b"/>
                  <a:pathLst>
                    <a:path w="62" h="62">
                      <a:moveTo>
                        <a:pt x="0" y="14"/>
                      </a:moveTo>
                      <a:lnTo>
                        <a:pt x="46" y="59"/>
                      </a:lnTo>
                      <a:lnTo>
                        <a:pt x="49" y="61"/>
                      </a:lnTo>
                      <a:lnTo>
                        <a:pt x="51" y="61"/>
                      </a:lnTo>
                      <a:lnTo>
                        <a:pt x="52" y="61"/>
                      </a:lnTo>
                      <a:lnTo>
                        <a:pt x="54" y="62"/>
                      </a:lnTo>
                      <a:lnTo>
                        <a:pt x="57" y="58"/>
                      </a:lnTo>
                      <a:lnTo>
                        <a:pt x="59" y="55"/>
                      </a:lnTo>
                      <a:lnTo>
                        <a:pt x="60" y="51"/>
                      </a:lnTo>
                      <a:lnTo>
                        <a:pt x="62" y="49"/>
                      </a:lnTo>
                      <a:lnTo>
                        <a:pt x="12" y="0"/>
                      </a:lnTo>
                      <a:lnTo>
                        <a:pt x="8" y="4"/>
                      </a:lnTo>
                      <a:lnTo>
                        <a:pt x="6" y="8"/>
                      </a:lnTo>
                      <a:lnTo>
                        <a:pt x="3" y="11"/>
                      </a:lnTo>
                      <a:lnTo>
                        <a:pt x="0" y="1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334" name=""/>
                <p:cNvSpPr/>
                <p:nvPr/>
              </p:nvSpPr>
              <p:spPr>
                <a:xfrm>
                  <a:off x="7340760" y="5116680"/>
                  <a:ext cx="61920" cy="48960"/>
                </a:xfrm>
                <a:custGeom>
                  <a:avLst/>
                  <a:gdLst/>
                  <a:ahLst/>
                  <a:rect l="l" t="t" r="r" b="b"/>
                  <a:pathLst>
                    <a:path w="58" h="45">
                      <a:moveTo>
                        <a:pt x="0" y="15"/>
                      </a:moveTo>
                      <a:lnTo>
                        <a:pt x="10" y="17"/>
                      </a:lnTo>
                      <a:lnTo>
                        <a:pt x="19" y="20"/>
                      </a:lnTo>
                      <a:lnTo>
                        <a:pt x="25" y="27"/>
                      </a:lnTo>
                      <a:lnTo>
                        <a:pt x="28" y="36"/>
                      </a:lnTo>
                      <a:lnTo>
                        <a:pt x="35" y="39"/>
                      </a:lnTo>
                      <a:lnTo>
                        <a:pt x="43" y="41"/>
                      </a:lnTo>
                      <a:lnTo>
                        <a:pt x="50" y="43"/>
                      </a:lnTo>
                      <a:lnTo>
                        <a:pt x="58" y="45"/>
                      </a:lnTo>
                      <a:lnTo>
                        <a:pt x="12" y="0"/>
                      </a:lnTo>
                      <a:lnTo>
                        <a:pt x="9" y="5"/>
                      </a:lnTo>
                      <a:lnTo>
                        <a:pt x="6" y="9"/>
                      </a:lnTo>
                      <a:lnTo>
                        <a:pt x="3" y="12"/>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35" name=""/>
                <p:cNvSpPr/>
                <p:nvPr/>
              </p:nvSpPr>
              <p:spPr>
                <a:xfrm>
                  <a:off x="8524800" y="5210280"/>
                  <a:ext cx="77760" cy="47520"/>
                </a:xfrm>
                <a:custGeom>
                  <a:avLst/>
                  <a:gdLst/>
                  <a:ahLst/>
                  <a:rect l="l" t="t" r="r" b="b"/>
                  <a:pathLst>
                    <a:path w="71" h="45">
                      <a:moveTo>
                        <a:pt x="71" y="31"/>
                      </a:moveTo>
                      <a:lnTo>
                        <a:pt x="62" y="35"/>
                      </a:lnTo>
                      <a:lnTo>
                        <a:pt x="53" y="37"/>
                      </a:lnTo>
                      <a:lnTo>
                        <a:pt x="45" y="39"/>
                      </a:lnTo>
                      <a:lnTo>
                        <a:pt x="37" y="42"/>
                      </a:lnTo>
                      <a:lnTo>
                        <a:pt x="29" y="43"/>
                      </a:lnTo>
                      <a:lnTo>
                        <a:pt x="19" y="44"/>
                      </a:lnTo>
                      <a:lnTo>
                        <a:pt x="10" y="45"/>
                      </a:lnTo>
                      <a:lnTo>
                        <a:pt x="0" y="45"/>
                      </a:lnTo>
                      <a:lnTo>
                        <a:pt x="4" y="35"/>
                      </a:lnTo>
                      <a:lnTo>
                        <a:pt x="8" y="24"/>
                      </a:lnTo>
                      <a:lnTo>
                        <a:pt x="13" y="13"/>
                      </a:lnTo>
                      <a:lnTo>
                        <a:pt x="16" y="0"/>
                      </a:lnTo>
                      <a:lnTo>
                        <a:pt x="23" y="3"/>
                      </a:lnTo>
                      <a:lnTo>
                        <a:pt x="30" y="8"/>
                      </a:lnTo>
                      <a:lnTo>
                        <a:pt x="37" y="12"/>
                      </a:lnTo>
                      <a:lnTo>
                        <a:pt x="44" y="15"/>
                      </a:lnTo>
                      <a:lnTo>
                        <a:pt x="51" y="20"/>
                      </a:lnTo>
                      <a:lnTo>
                        <a:pt x="57" y="23"/>
                      </a:lnTo>
                      <a:lnTo>
                        <a:pt x="64" y="28"/>
                      </a:lnTo>
                      <a:lnTo>
                        <a:pt x="71" y="3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36" name=""/>
                <p:cNvSpPr/>
                <p:nvPr/>
              </p:nvSpPr>
              <p:spPr>
                <a:xfrm>
                  <a:off x="8118360" y="4487760"/>
                  <a:ext cx="244440" cy="660600"/>
                </a:xfrm>
                <a:custGeom>
                  <a:avLst/>
                  <a:gdLst/>
                  <a:ahLst/>
                  <a:rect l="l" t="t" r="r" b="b"/>
                  <a:pathLst>
                    <a:path w="228" h="616">
                      <a:moveTo>
                        <a:pt x="228" y="269"/>
                      </a:moveTo>
                      <a:lnTo>
                        <a:pt x="209" y="305"/>
                      </a:lnTo>
                      <a:lnTo>
                        <a:pt x="191" y="343"/>
                      </a:lnTo>
                      <a:lnTo>
                        <a:pt x="174" y="380"/>
                      </a:lnTo>
                      <a:lnTo>
                        <a:pt x="158" y="418"/>
                      </a:lnTo>
                      <a:lnTo>
                        <a:pt x="144" y="456"/>
                      </a:lnTo>
                      <a:lnTo>
                        <a:pt x="131" y="494"/>
                      </a:lnTo>
                      <a:lnTo>
                        <a:pt x="121" y="532"/>
                      </a:lnTo>
                      <a:lnTo>
                        <a:pt x="113" y="572"/>
                      </a:lnTo>
                      <a:lnTo>
                        <a:pt x="93" y="582"/>
                      </a:lnTo>
                      <a:lnTo>
                        <a:pt x="79" y="592"/>
                      </a:lnTo>
                      <a:lnTo>
                        <a:pt x="68" y="601"/>
                      </a:lnTo>
                      <a:lnTo>
                        <a:pt x="57" y="610"/>
                      </a:lnTo>
                      <a:lnTo>
                        <a:pt x="47" y="615"/>
                      </a:lnTo>
                      <a:lnTo>
                        <a:pt x="35" y="616"/>
                      </a:lnTo>
                      <a:lnTo>
                        <a:pt x="20" y="612"/>
                      </a:lnTo>
                      <a:lnTo>
                        <a:pt x="0" y="601"/>
                      </a:lnTo>
                      <a:lnTo>
                        <a:pt x="29" y="568"/>
                      </a:lnTo>
                      <a:lnTo>
                        <a:pt x="54" y="531"/>
                      </a:lnTo>
                      <a:lnTo>
                        <a:pt x="77" y="492"/>
                      </a:lnTo>
                      <a:lnTo>
                        <a:pt x="99" y="451"/>
                      </a:lnTo>
                      <a:lnTo>
                        <a:pt x="118" y="409"/>
                      </a:lnTo>
                      <a:lnTo>
                        <a:pt x="139" y="368"/>
                      </a:lnTo>
                      <a:lnTo>
                        <a:pt x="160" y="327"/>
                      </a:lnTo>
                      <a:lnTo>
                        <a:pt x="182" y="287"/>
                      </a:lnTo>
                      <a:lnTo>
                        <a:pt x="177" y="273"/>
                      </a:lnTo>
                      <a:lnTo>
                        <a:pt x="173" y="259"/>
                      </a:lnTo>
                      <a:lnTo>
                        <a:pt x="168" y="246"/>
                      </a:lnTo>
                      <a:lnTo>
                        <a:pt x="163" y="232"/>
                      </a:lnTo>
                      <a:lnTo>
                        <a:pt x="160" y="233"/>
                      </a:lnTo>
                      <a:lnTo>
                        <a:pt x="158" y="234"/>
                      </a:lnTo>
                      <a:lnTo>
                        <a:pt x="154" y="235"/>
                      </a:lnTo>
                      <a:lnTo>
                        <a:pt x="151" y="236"/>
                      </a:lnTo>
                      <a:lnTo>
                        <a:pt x="152" y="252"/>
                      </a:lnTo>
                      <a:lnTo>
                        <a:pt x="154" y="270"/>
                      </a:lnTo>
                      <a:lnTo>
                        <a:pt x="155" y="287"/>
                      </a:lnTo>
                      <a:lnTo>
                        <a:pt x="155" y="303"/>
                      </a:lnTo>
                      <a:lnTo>
                        <a:pt x="143" y="273"/>
                      </a:lnTo>
                      <a:lnTo>
                        <a:pt x="130" y="236"/>
                      </a:lnTo>
                      <a:lnTo>
                        <a:pt x="117" y="195"/>
                      </a:lnTo>
                      <a:lnTo>
                        <a:pt x="107" y="152"/>
                      </a:lnTo>
                      <a:lnTo>
                        <a:pt x="100" y="110"/>
                      </a:lnTo>
                      <a:lnTo>
                        <a:pt x="94" y="68"/>
                      </a:lnTo>
                      <a:lnTo>
                        <a:pt x="93" y="31"/>
                      </a:lnTo>
                      <a:lnTo>
                        <a:pt x="96" y="0"/>
                      </a:lnTo>
                      <a:lnTo>
                        <a:pt x="144" y="20"/>
                      </a:lnTo>
                      <a:lnTo>
                        <a:pt x="178" y="39"/>
                      </a:lnTo>
                      <a:lnTo>
                        <a:pt x="202" y="62"/>
                      </a:lnTo>
                      <a:lnTo>
                        <a:pt x="216" y="88"/>
                      </a:lnTo>
                      <a:lnTo>
                        <a:pt x="223" y="119"/>
                      </a:lnTo>
                      <a:lnTo>
                        <a:pt x="224" y="155"/>
                      </a:lnTo>
                      <a:lnTo>
                        <a:pt x="221" y="196"/>
                      </a:lnTo>
                      <a:lnTo>
                        <a:pt x="214" y="247"/>
                      </a:lnTo>
                      <a:lnTo>
                        <a:pt x="217" y="252"/>
                      </a:lnTo>
                      <a:lnTo>
                        <a:pt x="221" y="257"/>
                      </a:lnTo>
                      <a:lnTo>
                        <a:pt x="224" y="263"/>
                      </a:lnTo>
                      <a:lnTo>
                        <a:pt x="228" y="26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085240" y="5153040"/>
                  <a:ext cx="56880" cy="39600"/>
                </a:xfrm>
                <a:custGeom>
                  <a:avLst/>
                  <a:gdLst/>
                  <a:ahLst/>
                  <a:rect l="l" t="t" r="r" b="b"/>
                  <a:pathLst>
                    <a:path w="53" h="38">
                      <a:moveTo>
                        <a:pt x="53" y="19"/>
                      </a:moveTo>
                      <a:lnTo>
                        <a:pt x="43" y="32"/>
                      </a:lnTo>
                      <a:lnTo>
                        <a:pt x="35" y="37"/>
                      </a:lnTo>
                      <a:lnTo>
                        <a:pt x="28" y="38"/>
                      </a:lnTo>
                      <a:lnTo>
                        <a:pt x="0" y="37"/>
                      </a:lnTo>
                      <a:lnTo>
                        <a:pt x="19" y="2"/>
                      </a:lnTo>
                      <a:lnTo>
                        <a:pt x="25" y="0"/>
                      </a:lnTo>
                      <a:lnTo>
                        <a:pt x="53" y="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338" name=""/>
                <p:cNvSpPr/>
                <p:nvPr/>
              </p:nvSpPr>
              <p:spPr>
                <a:xfrm>
                  <a:off x="7477200" y="4530600"/>
                  <a:ext cx="128520" cy="600120"/>
                </a:xfrm>
                <a:custGeom>
                  <a:avLst/>
                  <a:gdLst/>
                  <a:ahLst/>
                  <a:rect l="l" t="t" r="r" b="b"/>
                  <a:pathLst>
                    <a:path w="120" h="560">
                      <a:moveTo>
                        <a:pt x="120" y="477"/>
                      </a:moveTo>
                      <a:lnTo>
                        <a:pt x="106" y="494"/>
                      </a:lnTo>
                      <a:lnTo>
                        <a:pt x="102" y="515"/>
                      </a:lnTo>
                      <a:lnTo>
                        <a:pt x="99" y="538"/>
                      </a:lnTo>
                      <a:lnTo>
                        <a:pt x="94" y="560"/>
                      </a:lnTo>
                      <a:lnTo>
                        <a:pt x="88" y="557"/>
                      </a:lnTo>
                      <a:lnTo>
                        <a:pt x="83" y="553"/>
                      </a:lnTo>
                      <a:lnTo>
                        <a:pt x="78" y="550"/>
                      </a:lnTo>
                      <a:lnTo>
                        <a:pt x="73" y="546"/>
                      </a:lnTo>
                      <a:lnTo>
                        <a:pt x="67" y="543"/>
                      </a:lnTo>
                      <a:lnTo>
                        <a:pt x="61" y="539"/>
                      </a:lnTo>
                      <a:lnTo>
                        <a:pt x="56" y="536"/>
                      </a:lnTo>
                      <a:lnTo>
                        <a:pt x="50" y="533"/>
                      </a:lnTo>
                      <a:lnTo>
                        <a:pt x="60" y="505"/>
                      </a:lnTo>
                      <a:lnTo>
                        <a:pt x="65" y="474"/>
                      </a:lnTo>
                      <a:lnTo>
                        <a:pt x="65" y="440"/>
                      </a:lnTo>
                      <a:lnTo>
                        <a:pt x="61" y="407"/>
                      </a:lnTo>
                      <a:lnTo>
                        <a:pt x="56" y="371"/>
                      </a:lnTo>
                      <a:lnTo>
                        <a:pt x="49" y="338"/>
                      </a:lnTo>
                      <a:lnTo>
                        <a:pt x="42" y="304"/>
                      </a:lnTo>
                      <a:lnTo>
                        <a:pt x="37" y="274"/>
                      </a:lnTo>
                      <a:lnTo>
                        <a:pt x="40" y="271"/>
                      </a:lnTo>
                      <a:lnTo>
                        <a:pt x="43" y="269"/>
                      </a:lnTo>
                      <a:lnTo>
                        <a:pt x="46" y="266"/>
                      </a:lnTo>
                      <a:lnTo>
                        <a:pt x="50" y="264"/>
                      </a:lnTo>
                      <a:lnTo>
                        <a:pt x="28" y="246"/>
                      </a:lnTo>
                      <a:lnTo>
                        <a:pt x="13" y="219"/>
                      </a:lnTo>
                      <a:lnTo>
                        <a:pt x="5" y="186"/>
                      </a:lnTo>
                      <a:lnTo>
                        <a:pt x="0" y="150"/>
                      </a:lnTo>
                      <a:lnTo>
                        <a:pt x="0" y="112"/>
                      </a:lnTo>
                      <a:lnTo>
                        <a:pt x="3" y="75"/>
                      </a:lnTo>
                      <a:lnTo>
                        <a:pt x="6" y="41"/>
                      </a:lnTo>
                      <a:lnTo>
                        <a:pt x="11" y="12"/>
                      </a:lnTo>
                      <a:lnTo>
                        <a:pt x="17" y="10"/>
                      </a:lnTo>
                      <a:lnTo>
                        <a:pt x="18" y="6"/>
                      </a:lnTo>
                      <a:lnTo>
                        <a:pt x="18" y="3"/>
                      </a:lnTo>
                      <a:lnTo>
                        <a:pt x="23" y="0"/>
                      </a:lnTo>
                      <a:lnTo>
                        <a:pt x="28" y="33"/>
                      </a:lnTo>
                      <a:lnTo>
                        <a:pt x="34" y="66"/>
                      </a:lnTo>
                      <a:lnTo>
                        <a:pt x="38" y="98"/>
                      </a:lnTo>
                      <a:lnTo>
                        <a:pt x="43" y="130"/>
                      </a:lnTo>
                      <a:lnTo>
                        <a:pt x="48" y="163"/>
                      </a:lnTo>
                      <a:lnTo>
                        <a:pt x="52" y="194"/>
                      </a:lnTo>
                      <a:lnTo>
                        <a:pt x="57" y="226"/>
                      </a:lnTo>
                      <a:lnTo>
                        <a:pt x="61" y="258"/>
                      </a:lnTo>
                      <a:lnTo>
                        <a:pt x="70" y="284"/>
                      </a:lnTo>
                      <a:lnTo>
                        <a:pt x="79" y="310"/>
                      </a:lnTo>
                      <a:lnTo>
                        <a:pt x="88" y="339"/>
                      </a:lnTo>
                      <a:lnTo>
                        <a:pt x="98" y="368"/>
                      </a:lnTo>
                      <a:lnTo>
                        <a:pt x="106" y="397"/>
                      </a:lnTo>
                      <a:lnTo>
                        <a:pt x="113" y="425"/>
                      </a:lnTo>
                      <a:lnTo>
                        <a:pt x="118" y="452"/>
                      </a:lnTo>
                      <a:lnTo>
                        <a:pt x="120" y="47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523280" y="3911760"/>
                  <a:ext cx="95040" cy="63360"/>
                </a:xfrm>
                <a:custGeom>
                  <a:avLst/>
                  <a:gdLst/>
                  <a:ahLst/>
                  <a:rect l="l" t="t" r="r" b="b"/>
                  <a:pathLst>
                    <a:path w="88" h="59">
                      <a:moveTo>
                        <a:pt x="88" y="59"/>
                      </a:moveTo>
                      <a:lnTo>
                        <a:pt x="8" y="15"/>
                      </a:lnTo>
                      <a:lnTo>
                        <a:pt x="0" y="0"/>
                      </a:lnTo>
                      <a:lnTo>
                        <a:pt x="81" y="37"/>
                      </a:lnTo>
                      <a:lnTo>
                        <a:pt x="88" y="5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340" name=""/>
                <p:cNvSpPr/>
                <p:nvPr/>
              </p:nvSpPr>
              <p:spPr>
                <a:xfrm>
                  <a:off x="7483320" y="5116680"/>
                  <a:ext cx="81000" cy="55440"/>
                </a:xfrm>
                <a:custGeom>
                  <a:avLst/>
                  <a:gdLst/>
                  <a:ahLst/>
                  <a:rect l="l" t="t" r="r" b="b"/>
                  <a:pathLst>
                    <a:path w="77" h="53">
                      <a:moveTo>
                        <a:pt x="77" y="45"/>
                      </a:moveTo>
                      <a:lnTo>
                        <a:pt x="73" y="48"/>
                      </a:lnTo>
                      <a:lnTo>
                        <a:pt x="64" y="50"/>
                      </a:lnTo>
                      <a:lnTo>
                        <a:pt x="53" y="51"/>
                      </a:lnTo>
                      <a:lnTo>
                        <a:pt x="42" y="51"/>
                      </a:lnTo>
                      <a:lnTo>
                        <a:pt x="29" y="52"/>
                      </a:lnTo>
                      <a:lnTo>
                        <a:pt x="17" y="52"/>
                      </a:lnTo>
                      <a:lnTo>
                        <a:pt x="7" y="52"/>
                      </a:lnTo>
                      <a:lnTo>
                        <a:pt x="0" y="53"/>
                      </a:lnTo>
                      <a:lnTo>
                        <a:pt x="2" y="38"/>
                      </a:lnTo>
                      <a:lnTo>
                        <a:pt x="9" y="25"/>
                      </a:lnTo>
                      <a:lnTo>
                        <a:pt x="17" y="13"/>
                      </a:lnTo>
                      <a:lnTo>
                        <a:pt x="27" y="0"/>
                      </a:lnTo>
                      <a:lnTo>
                        <a:pt x="34" y="6"/>
                      </a:lnTo>
                      <a:lnTo>
                        <a:pt x="39" y="11"/>
                      </a:lnTo>
                      <a:lnTo>
                        <a:pt x="46" y="16"/>
                      </a:lnTo>
                      <a:lnTo>
                        <a:pt x="52" y="22"/>
                      </a:lnTo>
                      <a:lnTo>
                        <a:pt x="58" y="28"/>
                      </a:lnTo>
                      <a:lnTo>
                        <a:pt x="65" y="34"/>
                      </a:lnTo>
                      <a:lnTo>
                        <a:pt x="70" y="40"/>
                      </a:lnTo>
                      <a:lnTo>
                        <a:pt x="77" y="4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41" name=""/>
                <p:cNvSpPr/>
                <p:nvPr/>
              </p:nvSpPr>
              <p:spPr>
                <a:xfrm>
                  <a:off x="7392960" y="3794040"/>
                  <a:ext cx="135000" cy="109800"/>
                </a:xfrm>
                <a:custGeom>
                  <a:avLst/>
                  <a:gdLst/>
                  <a:ahLst/>
                  <a:rect l="l" t="t" r="r" b="b"/>
                  <a:pathLst>
                    <a:path w="127" h="101">
                      <a:moveTo>
                        <a:pt x="127" y="101"/>
                      </a:moveTo>
                      <a:lnTo>
                        <a:pt x="118" y="99"/>
                      </a:lnTo>
                      <a:lnTo>
                        <a:pt x="109" y="97"/>
                      </a:lnTo>
                      <a:lnTo>
                        <a:pt x="99" y="94"/>
                      </a:lnTo>
                      <a:lnTo>
                        <a:pt x="91" y="91"/>
                      </a:lnTo>
                      <a:lnTo>
                        <a:pt x="83" y="88"/>
                      </a:lnTo>
                      <a:lnTo>
                        <a:pt x="74" y="85"/>
                      </a:lnTo>
                      <a:lnTo>
                        <a:pt x="66" y="83"/>
                      </a:lnTo>
                      <a:lnTo>
                        <a:pt x="58" y="79"/>
                      </a:lnTo>
                      <a:lnTo>
                        <a:pt x="57" y="75"/>
                      </a:lnTo>
                      <a:lnTo>
                        <a:pt x="54" y="70"/>
                      </a:lnTo>
                      <a:lnTo>
                        <a:pt x="53" y="65"/>
                      </a:lnTo>
                      <a:lnTo>
                        <a:pt x="53" y="61"/>
                      </a:lnTo>
                      <a:lnTo>
                        <a:pt x="58" y="61"/>
                      </a:lnTo>
                      <a:lnTo>
                        <a:pt x="62" y="61"/>
                      </a:lnTo>
                      <a:lnTo>
                        <a:pt x="67" y="60"/>
                      </a:lnTo>
                      <a:lnTo>
                        <a:pt x="72" y="60"/>
                      </a:lnTo>
                      <a:lnTo>
                        <a:pt x="76" y="60"/>
                      </a:lnTo>
                      <a:lnTo>
                        <a:pt x="81" y="58"/>
                      </a:lnTo>
                      <a:lnTo>
                        <a:pt x="85" y="58"/>
                      </a:lnTo>
                      <a:lnTo>
                        <a:pt x="90" y="58"/>
                      </a:lnTo>
                      <a:lnTo>
                        <a:pt x="82" y="57"/>
                      </a:lnTo>
                      <a:lnTo>
                        <a:pt x="74" y="56"/>
                      </a:lnTo>
                      <a:lnTo>
                        <a:pt x="66" y="54"/>
                      </a:lnTo>
                      <a:lnTo>
                        <a:pt x="58" y="53"/>
                      </a:lnTo>
                      <a:lnTo>
                        <a:pt x="50" y="52"/>
                      </a:lnTo>
                      <a:lnTo>
                        <a:pt x="42" y="49"/>
                      </a:lnTo>
                      <a:lnTo>
                        <a:pt x="35" y="48"/>
                      </a:lnTo>
                      <a:lnTo>
                        <a:pt x="27" y="47"/>
                      </a:lnTo>
                      <a:lnTo>
                        <a:pt x="21" y="35"/>
                      </a:lnTo>
                      <a:lnTo>
                        <a:pt x="14" y="24"/>
                      </a:lnTo>
                      <a:lnTo>
                        <a:pt x="7" y="11"/>
                      </a:lnTo>
                      <a:lnTo>
                        <a:pt x="0" y="0"/>
                      </a:lnTo>
                      <a:lnTo>
                        <a:pt x="22" y="4"/>
                      </a:lnTo>
                      <a:lnTo>
                        <a:pt x="43" y="11"/>
                      </a:lnTo>
                      <a:lnTo>
                        <a:pt x="62" y="19"/>
                      </a:lnTo>
                      <a:lnTo>
                        <a:pt x="80" y="31"/>
                      </a:lnTo>
                      <a:lnTo>
                        <a:pt x="95" y="46"/>
                      </a:lnTo>
                      <a:lnTo>
                        <a:pt x="109" y="62"/>
                      </a:lnTo>
                      <a:lnTo>
                        <a:pt x="119" y="80"/>
                      </a:lnTo>
                      <a:lnTo>
                        <a:pt x="127" y="10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7316640" y="3760920"/>
                  <a:ext cx="86040" cy="31680"/>
                </a:xfrm>
                <a:custGeom>
                  <a:avLst/>
                  <a:gdLst/>
                  <a:ahLst/>
                  <a:rect l="l" t="t" r="r" b="b"/>
                  <a:pathLst>
                    <a:path w="79" h="30">
                      <a:moveTo>
                        <a:pt x="79" y="17"/>
                      </a:moveTo>
                      <a:lnTo>
                        <a:pt x="50" y="30"/>
                      </a:lnTo>
                      <a:lnTo>
                        <a:pt x="0" y="0"/>
                      </a:lnTo>
                      <a:lnTo>
                        <a:pt x="79"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343" name=""/>
                <p:cNvSpPr/>
                <p:nvPr/>
              </p:nvSpPr>
              <p:spPr>
                <a:xfrm>
                  <a:off x="7292880" y="5156280"/>
                  <a:ext cx="98640" cy="48960"/>
                </a:xfrm>
                <a:custGeom>
                  <a:avLst/>
                  <a:gdLst/>
                  <a:ahLst/>
                  <a:rect l="l" t="t" r="r" b="b"/>
                  <a:pathLst>
                    <a:path w="91" h="48">
                      <a:moveTo>
                        <a:pt x="91" y="26"/>
                      </a:moveTo>
                      <a:lnTo>
                        <a:pt x="78" y="31"/>
                      </a:lnTo>
                      <a:lnTo>
                        <a:pt x="68" y="36"/>
                      </a:lnTo>
                      <a:lnTo>
                        <a:pt x="58" y="40"/>
                      </a:lnTo>
                      <a:lnTo>
                        <a:pt x="47" y="43"/>
                      </a:lnTo>
                      <a:lnTo>
                        <a:pt x="37" y="45"/>
                      </a:lnTo>
                      <a:lnTo>
                        <a:pt x="26" y="46"/>
                      </a:lnTo>
                      <a:lnTo>
                        <a:pt x="14" y="48"/>
                      </a:lnTo>
                      <a:lnTo>
                        <a:pt x="0" y="48"/>
                      </a:lnTo>
                      <a:lnTo>
                        <a:pt x="9" y="36"/>
                      </a:lnTo>
                      <a:lnTo>
                        <a:pt x="17" y="23"/>
                      </a:lnTo>
                      <a:lnTo>
                        <a:pt x="25" y="12"/>
                      </a:lnTo>
                      <a:lnTo>
                        <a:pt x="32" y="0"/>
                      </a:lnTo>
                      <a:lnTo>
                        <a:pt x="40" y="4"/>
                      </a:lnTo>
                      <a:lnTo>
                        <a:pt x="47" y="6"/>
                      </a:lnTo>
                      <a:lnTo>
                        <a:pt x="55" y="10"/>
                      </a:lnTo>
                      <a:lnTo>
                        <a:pt x="63" y="13"/>
                      </a:lnTo>
                      <a:lnTo>
                        <a:pt x="70" y="15"/>
                      </a:lnTo>
                      <a:lnTo>
                        <a:pt x="77" y="19"/>
                      </a:lnTo>
                      <a:lnTo>
                        <a:pt x="84" y="22"/>
                      </a:lnTo>
                      <a:lnTo>
                        <a:pt x="91"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4" name=""/>
                <p:cNvSpPr/>
                <p:nvPr/>
              </p:nvSpPr>
              <p:spPr>
                <a:xfrm>
                  <a:off x="7267680" y="3714840"/>
                  <a:ext cx="117360" cy="46080"/>
                </a:xfrm>
                <a:custGeom>
                  <a:avLst/>
                  <a:gdLst/>
                  <a:ahLst/>
                  <a:rect l="l" t="t" r="r" b="b"/>
                  <a:pathLst>
                    <a:path w="109" h="42">
                      <a:moveTo>
                        <a:pt x="109" y="42"/>
                      </a:moveTo>
                      <a:lnTo>
                        <a:pt x="32" y="32"/>
                      </a:lnTo>
                      <a:lnTo>
                        <a:pt x="0" y="6"/>
                      </a:lnTo>
                      <a:lnTo>
                        <a:pt x="11" y="3"/>
                      </a:lnTo>
                      <a:lnTo>
                        <a:pt x="24" y="1"/>
                      </a:lnTo>
                      <a:lnTo>
                        <a:pt x="37" y="1"/>
                      </a:lnTo>
                      <a:lnTo>
                        <a:pt x="48" y="0"/>
                      </a:lnTo>
                      <a:lnTo>
                        <a:pt x="58" y="0"/>
                      </a:lnTo>
                      <a:lnTo>
                        <a:pt x="67" y="1"/>
                      </a:lnTo>
                      <a:lnTo>
                        <a:pt x="72" y="1"/>
                      </a:lnTo>
                      <a:lnTo>
                        <a:pt x="75" y="1"/>
                      </a:lnTo>
                      <a:lnTo>
                        <a:pt x="69" y="16"/>
                      </a:lnTo>
                      <a:lnTo>
                        <a:pt x="109" y="4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45" name=""/>
                <p:cNvSpPr/>
                <p:nvPr/>
              </p:nvSpPr>
              <p:spPr>
                <a:xfrm>
                  <a:off x="7221600" y="3664080"/>
                  <a:ext cx="60120" cy="37800"/>
                </a:xfrm>
                <a:custGeom>
                  <a:avLst/>
                  <a:gdLst/>
                  <a:ahLst/>
                  <a:rect l="l" t="t" r="r" b="b"/>
                  <a:pathLst>
                    <a:path w="57" h="37">
                      <a:moveTo>
                        <a:pt x="53" y="30"/>
                      </a:moveTo>
                      <a:lnTo>
                        <a:pt x="46" y="35"/>
                      </a:lnTo>
                      <a:lnTo>
                        <a:pt x="39" y="37"/>
                      </a:lnTo>
                      <a:lnTo>
                        <a:pt x="32" y="37"/>
                      </a:lnTo>
                      <a:lnTo>
                        <a:pt x="25" y="34"/>
                      </a:lnTo>
                      <a:lnTo>
                        <a:pt x="19" y="30"/>
                      </a:lnTo>
                      <a:lnTo>
                        <a:pt x="13" y="25"/>
                      </a:lnTo>
                      <a:lnTo>
                        <a:pt x="6" y="20"/>
                      </a:lnTo>
                      <a:lnTo>
                        <a:pt x="0" y="14"/>
                      </a:lnTo>
                      <a:lnTo>
                        <a:pt x="6" y="6"/>
                      </a:lnTo>
                      <a:lnTo>
                        <a:pt x="13" y="2"/>
                      </a:lnTo>
                      <a:lnTo>
                        <a:pt x="22" y="0"/>
                      </a:lnTo>
                      <a:lnTo>
                        <a:pt x="30" y="3"/>
                      </a:lnTo>
                      <a:lnTo>
                        <a:pt x="39" y="7"/>
                      </a:lnTo>
                      <a:lnTo>
                        <a:pt x="46" y="13"/>
                      </a:lnTo>
                      <a:lnTo>
                        <a:pt x="53" y="19"/>
                      </a:lnTo>
                      <a:lnTo>
                        <a:pt x="57" y="25"/>
                      </a:lnTo>
                      <a:lnTo>
                        <a:pt x="55" y="26"/>
                      </a:lnTo>
                      <a:lnTo>
                        <a:pt x="54" y="27"/>
                      </a:lnTo>
                      <a:lnTo>
                        <a:pt x="53" y="29"/>
                      </a:lnTo>
                      <a:lnTo>
                        <a:pt x="53" y="3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46" name=""/>
                <p:cNvSpPr/>
                <p:nvPr/>
              </p:nvSpPr>
              <p:spPr>
                <a:xfrm>
                  <a:off x="7077240" y="3646440"/>
                  <a:ext cx="115560" cy="23760"/>
                </a:xfrm>
                <a:custGeom>
                  <a:avLst/>
                  <a:gdLst/>
                  <a:ahLst/>
                  <a:rect l="l" t="t" r="r" b="b"/>
                  <a:pathLst>
                    <a:path w="108" h="22">
                      <a:moveTo>
                        <a:pt x="108" y="22"/>
                      </a:moveTo>
                      <a:lnTo>
                        <a:pt x="0" y="8"/>
                      </a:lnTo>
                      <a:lnTo>
                        <a:pt x="98" y="0"/>
                      </a:lnTo>
                      <a:lnTo>
                        <a:pt x="108" y="2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47" name=""/>
                <p:cNvSpPr/>
                <p:nvPr/>
              </p:nvSpPr>
              <p:spPr>
                <a:xfrm>
                  <a:off x="6875640" y="3784680"/>
                  <a:ext cx="48960" cy="48960"/>
                </a:xfrm>
                <a:custGeom>
                  <a:avLst/>
                  <a:gdLst/>
                  <a:ahLst/>
                  <a:rect l="l" t="t" r="r" b="b"/>
                  <a:pathLst>
                    <a:path w="47" h="45">
                      <a:moveTo>
                        <a:pt x="43" y="27"/>
                      </a:moveTo>
                      <a:lnTo>
                        <a:pt x="32" y="27"/>
                      </a:lnTo>
                      <a:lnTo>
                        <a:pt x="21" y="45"/>
                      </a:lnTo>
                      <a:lnTo>
                        <a:pt x="0" y="37"/>
                      </a:lnTo>
                      <a:lnTo>
                        <a:pt x="24" y="0"/>
                      </a:lnTo>
                      <a:lnTo>
                        <a:pt x="47" y="15"/>
                      </a:lnTo>
                      <a:lnTo>
                        <a:pt x="43"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348" name=""/>
                <p:cNvSpPr/>
                <p:nvPr/>
              </p:nvSpPr>
              <p:spPr>
                <a:xfrm>
                  <a:off x="6783480" y="3656160"/>
                  <a:ext cx="117360" cy="136440"/>
                </a:xfrm>
                <a:custGeom>
                  <a:avLst/>
                  <a:gdLst/>
                  <a:ahLst/>
                  <a:rect l="l" t="t" r="r" b="b"/>
                  <a:pathLst>
                    <a:path w="109" h="127">
                      <a:moveTo>
                        <a:pt x="109" y="101"/>
                      </a:moveTo>
                      <a:lnTo>
                        <a:pt x="100" y="102"/>
                      </a:lnTo>
                      <a:lnTo>
                        <a:pt x="94" y="104"/>
                      </a:lnTo>
                      <a:lnTo>
                        <a:pt x="90" y="106"/>
                      </a:lnTo>
                      <a:lnTo>
                        <a:pt x="85" y="108"/>
                      </a:lnTo>
                      <a:lnTo>
                        <a:pt x="83" y="110"/>
                      </a:lnTo>
                      <a:lnTo>
                        <a:pt x="79" y="115"/>
                      </a:lnTo>
                      <a:lnTo>
                        <a:pt x="76" y="121"/>
                      </a:lnTo>
                      <a:lnTo>
                        <a:pt x="71" y="127"/>
                      </a:lnTo>
                      <a:lnTo>
                        <a:pt x="65" y="123"/>
                      </a:lnTo>
                      <a:lnTo>
                        <a:pt x="59" y="121"/>
                      </a:lnTo>
                      <a:lnTo>
                        <a:pt x="53" y="119"/>
                      </a:lnTo>
                      <a:lnTo>
                        <a:pt x="45" y="119"/>
                      </a:lnTo>
                      <a:lnTo>
                        <a:pt x="45" y="112"/>
                      </a:lnTo>
                      <a:lnTo>
                        <a:pt x="45" y="106"/>
                      </a:lnTo>
                      <a:lnTo>
                        <a:pt x="44" y="99"/>
                      </a:lnTo>
                      <a:lnTo>
                        <a:pt x="40" y="93"/>
                      </a:lnTo>
                      <a:lnTo>
                        <a:pt x="36" y="95"/>
                      </a:lnTo>
                      <a:lnTo>
                        <a:pt x="31" y="97"/>
                      </a:lnTo>
                      <a:lnTo>
                        <a:pt x="26" y="100"/>
                      </a:lnTo>
                      <a:lnTo>
                        <a:pt x="21" y="101"/>
                      </a:lnTo>
                      <a:lnTo>
                        <a:pt x="16" y="103"/>
                      </a:lnTo>
                      <a:lnTo>
                        <a:pt x="10" y="106"/>
                      </a:lnTo>
                      <a:lnTo>
                        <a:pt x="6" y="107"/>
                      </a:lnTo>
                      <a:lnTo>
                        <a:pt x="0" y="109"/>
                      </a:lnTo>
                      <a:lnTo>
                        <a:pt x="9" y="92"/>
                      </a:lnTo>
                      <a:lnTo>
                        <a:pt x="21" y="76"/>
                      </a:lnTo>
                      <a:lnTo>
                        <a:pt x="32" y="62"/>
                      </a:lnTo>
                      <a:lnTo>
                        <a:pt x="45" y="49"/>
                      </a:lnTo>
                      <a:lnTo>
                        <a:pt x="59" y="38"/>
                      </a:lnTo>
                      <a:lnTo>
                        <a:pt x="73" y="25"/>
                      </a:lnTo>
                      <a:lnTo>
                        <a:pt x="88" y="12"/>
                      </a:lnTo>
                      <a:lnTo>
                        <a:pt x="104" y="0"/>
                      </a:lnTo>
                      <a:lnTo>
                        <a:pt x="105" y="25"/>
                      </a:lnTo>
                      <a:lnTo>
                        <a:pt x="107" y="50"/>
                      </a:lnTo>
                      <a:lnTo>
                        <a:pt x="108" y="76"/>
                      </a:lnTo>
                      <a:lnTo>
                        <a:pt x="109" y="10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6826320" y="3622680"/>
                  <a:ext cx="41040" cy="41400"/>
                </a:xfrm>
                <a:custGeom>
                  <a:avLst/>
                  <a:gdLst/>
                  <a:ahLst/>
                  <a:rect l="l" t="t" r="r" b="b"/>
                  <a:pathLst>
                    <a:path w="37" h="36">
                      <a:moveTo>
                        <a:pt x="37" y="26"/>
                      </a:moveTo>
                      <a:lnTo>
                        <a:pt x="19" y="36"/>
                      </a:lnTo>
                      <a:lnTo>
                        <a:pt x="8" y="22"/>
                      </a:lnTo>
                      <a:lnTo>
                        <a:pt x="0" y="0"/>
                      </a:lnTo>
                      <a:lnTo>
                        <a:pt x="37"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350" name=""/>
                <p:cNvSpPr/>
                <p:nvPr/>
              </p:nvSpPr>
              <p:spPr>
                <a:xfrm>
                  <a:off x="6732720" y="3963960"/>
                  <a:ext cx="39600" cy="33480"/>
                </a:xfrm>
                <a:custGeom>
                  <a:avLst/>
                  <a:gdLst/>
                  <a:ahLst/>
                  <a:rect l="l" t="t" r="r" b="b"/>
                  <a:pathLst>
                    <a:path w="37" h="33">
                      <a:moveTo>
                        <a:pt x="34" y="22"/>
                      </a:moveTo>
                      <a:lnTo>
                        <a:pt x="0" y="33"/>
                      </a:lnTo>
                      <a:lnTo>
                        <a:pt x="18" y="0"/>
                      </a:lnTo>
                      <a:lnTo>
                        <a:pt x="37" y="8"/>
                      </a:lnTo>
                      <a:lnTo>
                        <a:pt x="34" y="2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51" name=""/>
                <p:cNvSpPr/>
                <p:nvPr/>
              </p:nvSpPr>
              <p:spPr>
                <a:xfrm>
                  <a:off x="6886440" y="3598920"/>
                  <a:ext cx="49320" cy="73080"/>
                </a:xfrm>
                <a:custGeom>
                  <a:avLst/>
                  <a:gdLst/>
                  <a:ahLst/>
                  <a:rect l="l" t="t" r="r" b="b"/>
                  <a:pathLst>
                    <a:path w="46" h="68">
                      <a:moveTo>
                        <a:pt x="24" y="68"/>
                      </a:moveTo>
                      <a:lnTo>
                        <a:pt x="46" y="46"/>
                      </a:lnTo>
                      <a:lnTo>
                        <a:pt x="0" y="0"/>
                      </a:lnTo>
                      <a:lnTo>
                        <a:pt x="24" y="6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52" name=""/>
                <p:cNvSpPr/>
                <p:nvPr/>
              </p:nvSpPr>
              <p:spPr>
                <a:xfrm>
                  <a:off x="6961320" y="3627360"/>
                  <a:ext cx="99720" cy="31680"/>
                </a:xfrm>
                <a:custGeom>
                  <a:avLst/>
                  <a:gdLst/>
                  <a:ahLst/>
                  <a:rect l="l" t="t" r="r" b="b"/>
                  <a:pathLst>
                    <a:path w="93" h="30">
                      <a:moveTo>
                        <a:pt x="0" y="21"/>
                      </a:moveTo>
                      <a:lnTo>
                        <a:pt x="56" y="0"/>
                      </a:lnTo>
                      <a:lnTo>
                        <a:pt x="56" y="19"/>
                      </a:lnTo>
                      <a:lnTo>
                        <a:pt x="93" y="30"/>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grpSp>
          <p:nvGrpSpPr>
            <p:cNvPr id="353" name=""/>
            <p:cNvGrpSpPr/>
            <p:nvPr/>
          </p:nvGrpSpPr>
          <p:grpSpPr>
            <a:xfrm>
              <a:off x="6095880" y="5381640"/>
              <a:ext cx="1328760" cy="1019160"/>
              <a:chOff x="6095880" y="5381640"/>
              <a:chExt cx="1328760" cy="1019160"/>
            </a:xfrm>
          </p:grpSpPr>
          <p:sp>
            <p:nvSpPr>
              <p:cNvPr id="354" name=""/>
              <p:cNvSpPr/>
              <p:nvPr/>
            </p:nvSpPr>
            <p:spPr>
              <a:xfrm>
                <a:off x="6095880" y="5381640"/>
                <a:ext cx="1328760" cy="1019160"/>
              </a:xfrm>
              <a:custGeom>
                <a:avLst/>
                <a:gdLst/>
                <a:ahLst/>
                <a:rect l="l" t="t" r="r" b="b"/>
                <a:pathLst>
                  <a:path w="2510" h="1926">
                    <a:moveTo>
                      <a:pt x="790" y="32"/>
                    </a:moveTo>
                    <a:lnTo>
                      <a:pt x="790" y="49"/>
                    </a:lnTo>
                    <a:lnTo>
                      <a:pt x="790" y="66"/>
                    </a:lnTo>
                    <a:lnTo>
                      <a:pt x="792" y="81"/>
                    </a:lnTo>
                    <a:lnTo>
                      <a:pt x="794" y="97"/>
                    </a:lnTo>
                    <a:lnTo>
                      <a:pt x="796" y="113"/>
                    </a:lnTo>
                    <a:lnTo>
                      <a:pt x="797" y="129"/>
                    </a:lnTo>
                    <a:lnTo>
                      <a:pt x="798" y="144"/>
                    </a:lnTo>
                    <a:lnTo>
                      <a:pt x="797" y="160"/>
                    </a:lnTo>
                    <a:lnTo>
                      <a:pt x="801" y="176"/>
                    </a:lnTo>
                    <a:lnTo>
                      <a:pt x="803" y="191"/>
                    </a:lnTo>
                    <a:lnTo>
                      <a:pt x="806" y="208"/>
                    </a:lnTo>
                    <a:lnTo>
                      <a:pt x="809" y="225"/>
                    </a:lnTo>
                    <a:lnTo>
                      <a:pt x="813" y="242"/>
                    </a:lnTo>
                    <a:lnTo>
                      <a:pt x="817" y="259"/>
                    </a:lnTo>
                    <a:lnTo>
                      <a:pt x="822" y="275"/>
                    </a:lnTo>
                    <a:lnTo>
                      <a:pt x="830" y="290"/>
                    </a:lnTo>
                    <a:lnTo>
                      <a:pt x="829" y="298"/>
                    </a:lnTo>
                    <a:lnTo>
                      <a:pt x="831" y="306"/>
                    </a:lnTo>
                    <a:lnTo>
                      <a:pt x="833" y="313"/>
                    </a:lnTo>
                    <a:lnTo>
                      <a:pt x="836" y="320"/>
                    </a:lnTo>
                    <a:lnTo>
                      <a:pt x="839" y="328"/>
                    </a:lnTo>
                    <a:lnTo>
                      <a:pt x="841" y="336"/>
                    </a:lnTo>
                    <a:lnTo>
                      <a:pt x="842" y="344"/>
                    </a:lnTo>
                    <a:lnTo>
                      <a:pt x="841" y="353"/>
                    </a:lnTo>
                    <a:lnTo>
                      <a:pt x="845" y="363"/>
                    </a:lnTo>
                    <a:lnTo>
                      <a:pt x="848" y="372"/>
                    </a:lnTo>
                    <a:lnTo>
                      <a:pt x="852" y="382"/>
                    </a:lnTo>
                    <a:lnTo>
                      <a:pt x="857" y="391"/>
                    </a:lnTo>
                    <a:lnTo>
                      <a:pt x="869" y="408"/>
                    </a:lnTo>
                    <a:lnTo>
                      <a:pt x="883" y="425"/>
                    </a:lnTo>
                    <a:lnTo>
                      <a:pt x="895" y="442"/>
                    </a:lnTo>
                    <a:lnTo>
                      <a:pt x="908" y="459"/>
                    </a:lnTo>
                    <a:lnTo>
                      <a:pt x="912" y="469"/>
                    </a:lnTo>
                    <a:lnTo>
                      <a:pt x="917" y="478"/>
                    </a:lnTo>
                    <a:lnTo>
                      <a:pt x="920" y="488"/>
                    </a:lnTo>
                    <a:lnTo>
                      <a:pt x="922" y="498"/>
                    </a:lnTo>
                    <a:lnTo>
                      <a:pt x="929" y="506"/>
                    </a:lnTo>
                    <a:lnTo>
                      <a:pt x="936" y="514"/>
                    </a:lnTo>
                    <a:lnTo>
                      <a:pt x="940" y="524"/>
                    </a:lnTo>
                    <a:lnTo>
                      <a:pt x="944" y="533"/>
                    </a:lnTo>
                    <a:lnTo>
                      <a:pt x="949" y="542"/>
                    </a:lnTo>
                    <a:lnTo>
                      <a:pt x="955" y="550"/>
                    </a:lnTo>
                    <a:lnTo>
                      <a:pt x="959" y="554"/>
                    </a:lnTo>
                    <a:lnTo>
                      <a:pt x="963" y="557"/>
                    </a:lnTo>
                    <a:lnTo>
                      <a:pt x="967" y="561"/>
                    </a:lnTo>
                    <a:lnTo>
                      <a:pt x="973" y="563"/>
                    </a:lnTo>
                    <a:lnTo>
                      <a:pt x="970" y="567"/>
                    </a:lnTo>
                    <a:lnTo>
                      <a:pt x="970" y="572"/>
                    </a:lnTo>
                    <a:lnTo>
                      <a:pt x="972" y="576"/>
                    </a:lnTo>
                    <a:lnTo>
                      <a:pt x="974" y="581"/>
                    </a:lnTo>
                    <a:lnTo>
                      <a:pt x="978" y="585"/>
                    </a:lnTo>
                    <a:lnTo>
                      <a:pt x="981" y="589"/>
                    </a:lnTo>
                    <a:lnTo>
                      <a:pt x="984" y="593"/>
                    </a:lnTo>
                    <a:lnTo>
                      <a:pt x="987" y="597"/>
                    </a:lnTo>
                    <a:lnTo>
                      <a:pt x="991" y="600"/>
                    </a:lnTo>
                    <a:lnTo>
                      <a:pt x="994" y="604"/>
                    </a:lnTo>
                    <a:lnTo>
                      <a:pt x="996" y="608"/>
                    </a:lnTo>
                    <a:lnTo>
                      <a:pt x="998" y="613"/>
                    </a:lnTo>
                    <a:lnTo>
                      <a:pt x="1000" y="619"/>
                    </a:lnTo>
                    <a:lnTo>
                      <a:pt x="1001" y="624"/>
                    </a:lnTo>
                    <a:lnTo>
                      <a:pt x="1004" y="629"/>
                    </a:lnTo>
                    <a:lnTo>
                      <a:pt x="1008" y="634"/>
                    </a:lnTo>
                    <a:lnTo>
                      <a:pt x="1010" y="641"/>
                    </a:lnTo>
                    <a:lnTo>
                      <a:pt x="1013" y="648"/>
                    </a:lnTo>
                    <a:lnTo>
                      <a:pt x="1017" y="655"/>
                    </a:lnTo>
                    <a:lnTo>
                      <a:pt x="1022" y="661"/>
                    </a:lnTo>
                    <a:lnTo>
                      <a:pt x="1028" y="667"/>
                    </a:lnTo>
                    <a:lnTo>
                      <a:pt x="1031" y="674"/>
                    </a:lnTo>
                    <a:lnTo>
                      <a:pt x="1033" y="677"/>
                    </a:lnTo>
                    <a:lnTo>
                      <a:pt x="1033" y="681"/>
                    </a:lnTo>
                    <a:lnTo>
                      <a:pt x="1034" y="685"/>
                    </a:lnTo>
                    <a:lnTo>
                      <a:pt x="1033" y="690"/>
                    </a:lnTo>
                    <a:lnTo>
                      <a:pt x="1041" y="703"/>
                    </a:lnTo>
                    <a:lnTo>
                      <a:pt x="1051" y="718"/>
                    </a:lnTo>
                    <a:lnTo>
                      <a:pt x="1059" y="732"/>
                    </a:lnTo>
                    <a:lnTo>
                      <a:pt x="1069" y="746"/>
                    </a:lnTo>
                    <a:lnTo>
                      <a:pt x="1079" y="759"/>
                    </a:lnTo>
                    <a:lnTo>
                      <a:pt x="1091" y="772"/>
                    </a:lnTo>
                    <a:lnTo>
                      <a:pt x="1103" y="785"/>
                    </a:lnTo>
                    <a:lnTo>
                      <a:pt x="1115" y="796"/>
                    </a:lnTo>
                    <a:lnTo>
                      <a:pt x="1129" y="802"/>
                    </a:lnTo>
                    <a:lnTo>
                      <a:pt x="1141" y="807"/>
                    </a:lnTo>
                    <a:lnTo>
                      <a:pt x="1154" y="814"/>
                    </a:lnTo>
                    <a:lnTo>
                      <a:pt x="1165" y="821"/>
                    </a:lnTo>
                    <a:lnTo>
                      <a:pt x="1178" y="827"/>
                    </a:lnTo>
                    <a:lnTo>
                      <a:pt x="1191" y="831"/>
                    </a:lnTo>
                    <a:lnTo>
                      <a:pt x="1198" y="833"/>
                    </a:lnTo>
                    <a:lnTo>
                      <a:pt x="1204" y="836"/>
                    </a:lnTo>
                    <a:lnTo>
                      <a:pt x="1212" y="837"/>
                    </a:lnTo>
                    <a:lnTo>
                      <a:pt x="1219" y="837"/>
                    </a:lnTo>
                    <a:lnTo>
                      <a:pt x="1223" y="841"/>
                    </a:lnTo>
                    <a:lnTo>
                      <a:pt x="1229" y="843"/>
                    </a:lnTo>
                    <a:lnTo>
                      <a:pt x="1233" y="846"/>
                    </a:lnTo>
                    <a:lnTo>
                      <a:pt x="1239" y="848"/>
                    </a:lnTo>
                    <a:lnTo>
                      <a:pt x="1250" y="851"/>
                    </a:lnTo>
                    <a:lnTo>
                      <a:pt x="1261" y="854"/>
                    </a:lnTo>
                    <a:lnTo>
                      <a:pt x="1267" y="856"/>
                    </a:lnTo>
                    <a:lnTo>
                      <a:pt x="1272" y="858"/>
                    </a:lnTo>
                    <a:lnTo>
                      <a:pt x="1277" y="860"/>
                    </a:lnTo>
                    <a:lnTo>
                      <a:pt x="1282" y="863"/>
                    </a:lnTo>
                    <a:lnTo>
                      <a:pt x="1286" y="866"/>
                    </a:lnTo>
                    <a:lnTo>
                      <a:pt x="1289" y="872"/>
                    </a:lnTo>
                    <a:lnTo>
                      <a:pt x="1291" y="877"/>
                    </a:lnTo>
                    <a:lnTo>
                      <a:pt x="1293" y="883"/>
                    </a:lnTo>
                    <a:lnTo>
                      <a:pt x="1305" y="893"/>
                    </a:lnTo>
                    <a:lnTo>
                      <a:pt x="1316" y="901"/>
                    </a:lnTo>
                    <a:lnTo>
                      <a:pt x="1328" y="909"/>
                    </a:lnTo>
                    <a:lnTo>
                      <a:pt x="1340" y="916"/>
                    </a:lnTo>
                    <a:lnTo>
                      <a:pt x="1365" y="930"/>
                    </a:lnTo>
                    <a:lnTo>
                      <a:pt x="1392" y="942"/>
                    </a:lnTo>
                    <a:lnTo>
                      <a:pt x="1418" y="955"/>
                    </a:lnTo>
                    <a:lnTo>
                      <a:pt x="1446" y="966"/>
                    </a:lnTo>
                    <a:lnTo>
                      <a:pt x="1472" y="977"/>
                    </a:lnTo>
                    <a:lnTo>
                      <a:pt x="1500" y="988"/>
                    </a:lnTo>
                    <a:lnTo>
                      <a:pt x="1511" y="993"/>
                    </a:lnTo>
                    <a:lnTo>
                      <a:pt x="1523" y="999"/>
                    </a:lnTo>
                    <a:lnTo>
                      <a:pt x="1534" y="1006"/>
                    </a:lnTo>
                    <a:lnTo>
                      <a:pt x="1546" y="1011"/>
                    </a:lnTo>
                    <a:lnTo>
                      <a:pt x="1558" y="1016"/>
                    </a:lnTo>
                    <a:lnTo>
                      <a:pt x="1570" y="1022"/>
                    </a:lnTo>
                    <a:lnTo>
                      <a:pt x="1583" y="1026"/>
                    </a:lnTo>
                    <a:lnTo>
                      <a:pt x="1596" y="1028"/>
                    </a:lnTo>
                    <a:lnTo>
                      <a:pt x="1596" y="1026"/>
                    </a:lnTo>
                    <a:lnTo>
                      <a:pt x="1597" y="1023"/>
                    </a:lnTo>
                    <a:lnTo>
                      <a:pt x="1599" y="1021"/>
                    </a:lnTo>
                    <a:lnTo>
                      <a:pt x="1600" y="1019"/>
                    </a:lnTo>
                    <a:lnTo>
                      <a:pt x="1603" y="1017"/>
                    </a:lnTo>
                    <a:lnTo>
                      <a:pt x="1605" y="1016"/>
                    </a:lnTo>
                    <a:lnTo>
                      <a:pt x="1607" y="1016"/>
                    </a:lnTo>
                    <a:lnTo>
                      <a:pt x="1611" y="1019"/>
                    </a:lnTo>
                    <a:lnTo>
                      <a:pt x="1629" y="1025"/>
                    </a:lnTo>
                    <a:lnTo>
                      <a:pt x="1648" y="1032"/>
                    </a:lnTo>
                    <a:lnTo>
                      <a:pt x="1666" y="1040"/>
                    </a:lnTo>
                    <a:lnTo>
                      <a:pt x="1684" y="1047"/>
                    </a:lnTo>
                    <a:lnTo>
                      <a:pt x="1702" y="1053"/>
                    </a:lnTo>
                    <a:lnTo>
                      <a:pt x="1721" y="1059"/>
                    </a:lnTo>
                    <a:lnTo>
                      <a:pt x="1730" y="1062"/>
                    </a:lnTo>
                    <a:lnTo>
                      <a:pt x="1740" y="1063"/>
                    </a:lnTo>
                    <a:lnTo>
                      <a:pt x="1749" y="1064"/>
                    </a:lnTo>
                    <a:lnTo>
                      <a:pt x="1760" y="1065"/>
                    </a:lnTo>
                    <a:lnTo>
                      <a:pt x="1768" y="1069"/>
                    </a:lnTo>
                    <a:lnTo>
                      <a:pt x="1777" y="1072"/>
                    </a:lnTo>
                    <a:lnTo>
                      <a:pt x="1785" y="1076"/>
                    </a:lnTo>
                    <a:lnTo>
                      <a:pt x="1794" y="1078"/>
                    </a:lnTo>
                    <a:lnTo>
                      <a:pt x="1812" y="1081"/>
                    </a:lnTo>
                    <a:lnTo>
                      <a:pt x="1830" y="1083"/>
                    </a:lnTo>
                    <a:lnTo>
                      <a:pt x="1849" y="1084"/>
                    </a:lnTo>
                    <a:lnTo>
                      <a:pt x="1867" y="1086"/>
                    </a:lnTo>
                    <a:lnTo>
                      <a:pt x="1886" y="1087"/>
                    </a:lnTo>
                    <a:lnTo>
                      <a:pt x="1905" y="1092"/>
                    </a:lnTo>
                    <a:lnTo>
                      <a:pt x="1921" y="1095"/>
                    </a:lnTo>
                    <a:lnTo>
                      <a:pt x="1938" y="1097"/>
                    </a:lnTo>
                    <a:lnTo>
                      <a:pt x="1953" y="1100"/>
                    </a:lnTo>
                    <a:lnTo>
                      <a:pt x="1970" y="1102"/>
                    </a:lnTo>
                    <a:lnTo>
                      <a:pt x="1987" y="1104"/>
                    </a:lnTo>
                    <a:lnTo>
                      <a:pt x="2004" y="1106"/>
                    </a:lnTo>
                    <a:lnTo>
                      <a:pt x="2021" y="1108"/>
                    </a:lnTo>
                    <a:lnTo>
                      <a:pt x="2038" y="1109"/>
                    </a:lnTo>
                    <a:lnTo>
                      <a:pt x="2049" y="1113"/>
                    </a:lnTo>
                    <a:lnTo>
                      <a:pt x="2059" y="1116"/>
                    </a:lnTo>
                    <a:lnTo>
                      <a:pt x="2071" y="1117"/>
                    </a:lnTo>
                    <a:lnTo>
                      <a:pt x="2083" y="1119"/>
                    </a:lnTo>
                    <a:lnTo>
                      <a:pt x="2094" y="1120"/>
                    </a:lnTo>
                    <a:lnTo>
                      <a:pt x="2106" y="1123"/>
                    </a:lnTo>
                    <a:lnTo>
                      <a:pt x="2116" y="1126"/>
                    </a:lnTo>
                    <a:lnTo>
                      <a:pt x="2127" y="1132"/>
                    </a:lnTo>
                    <a:lnTo>
                      <a:pt x="2129" y="1130"/>
                    </a:lnTo>
                    <a:lnTo>
                      <a:pt x="2131" y="1127"/>
                    </a:lnTo>
                    <a:lnTo>
                      <a:pt x="2133" y="1127"/>
                    </a:lnTo>
                    <a:lnTo>
                      <a:pt x="2135" y="1127"/>
                    </a:lnTo>
                    <a:lnTo>
                      <a:pt x="2138" y="1127"/>
                    </a:lnTo>
                    <a:lnTo>
                      <a:pt x="2140" y="1129"/>
                    </a:lnTo>
                    <a:lnTo>
                      <a:pt x="2142" y="1129"/>
                    </a:lnTo>
                    <a:lnTo>
                      <a:pt x="2145" y="1127"/>
                    </a:lnTo>
                    <a:lnTo>
                      <a:pt x="2148" y="1127"/>
                    </a:lnTo>
                    <a:lnTo>
                      <a:pt x="2151" y="1126"/>
                    </a:lnTo>
                    <a:lnTo>
                      <a:pt x="2154" y="1125"/>
                    </a:lnTo>
                    <a:lnTo>
                      <a:pt x="2157" y="1123"/>
                    </a:lnTo>
                    <a:lnTo>
                      <a:pt x="2160" y="1120"/>
                    </a:lnTo>
                    <a:lnTo>
                      <a:pt x="2162" y="1115"/>
                    </a:lnTo>
                    <a:lnTo>
                      <a:pt x="2164" y="1108"/>
                    </a:lnTo>
                    <a:lnTo>
                      <a:pt x="2166" y="1103"/>
                    </a:lnTo>
                    <a:lnTo>
                      <a:pt x="2168" y="1098"/>
                    </a:lnTo>
                    <a:lnTo>
                      <a:pt x="2171" y="1093"/>
                    </a:lnTo>
                    <a:lnTo>
                      <a:pt x="2170" y="1089"/>
                    </a:lnTo>
                    <a:lnTo>
                      <a:pt x="2170" y="1086"/>
                    </a:lnTo>
                    <a:lnTo>
                      <a:pt x="2172" y="1083"/>
                    </a:lnTo>
                    <a:lnTo>
                      <a:pt x="2176" y="1081"/>
                    </a:lnTo>
                    <a:lnTo>
                      <a:pt x="2178" y="1078"/>
                    </a:lnTo>
                    <a:lnTo>
                      <a:pt x="2181" y="1076"/>
                    </a:lnTo>
                    <a:lnTo>
                      <a:pt x="2183" y="1072"/>
                    </a:lnTo>
                    <a:lnTo>
                      <a:pt x="2185" y="1068"/>
                    </a:lnTo>
                    <a:lnTo>
                      <a:pt x="2190" y="1060"/>
                    </a:lnTo>
                    <a:lnTo>
                      <a:pt x="2195" y="1050"/>
                    </a:lnTo>
                    <a:lnTo>
                      <a:pt x="2199" y="1041"/>
                    </a:lnTo>
                    <a:lnTo>
                      <a:pt x="2203" y="1031"/>
                    </a:lnTo>
                    <a:lnTo>
                      <a:pt x="2207" y="1022"/>
                    </a:lnTo>
                    <a:lnTo>
                      <a:pt x="2213" y="1012"/>
                    </a:lnTo>
                    <a:lnTo>
                      <a:pt x="2217" y="1003"/>
                    </a:lnTo>
                    <a:lnTo>
                      <a:pt x="2223" y="994"/>
                    </a:lnTo>
                    <a:lnTo>
                      <a:pt x="2223" y="986"/>
                    </a:lnTo>
                    <a:lnTo>
                      <a:pt x="2224" y="978"/>
                    </a:lnTo>
                    <a:lnTo>
                      <a:pt x="2226" y="971"/>
                    </a:lnTo>
                    <a:lnTo>
                      <a:pt x="2230" y="964"/>
                    </a:lnTo>
                    <a:lnTo>
                      <a:pt x="2233" y="957"/>
                    </a:lnTo>
                    <a:lnTo>
                      <a:pt x="2236" y="950"/>
                    </a:lnTo>
                    <a:lnTo>
                      <a:pt x="2239" y="942"/>
                    </a:lnTo>
                    <a:lnTo>
                      <a:pt x="2241" y="935"/>
                    </a:lnTo>
                    <a:lnTo>
                      <a:pt x="2248" y="916"/>
                    </a:lnTo>
                    <a:lnTo>
                      <a:pt x="2254" y="896"/>
                    </a:lnTo>
                    <a:lnTo>
                      <a:pt x="2259" y="876"/>
                    </a:lnTo>
                    <a:lnTo>
                      <a:pt x="2265" y="856"/>
                    </a:lnTo>
                    <a:lnTo>
                      <a:pt x="2270" y="836"/>
                    </a:lnTo>
                    <a:lnTo>
                      <a:pt x="2275" y="815"/>
                    </a:lnTo>
                    <a:lnTo>
                      <a:pt x="2280" y="794"/>
                    </a:lnTo>
                    <a:lnTo>
                      <a:pt x="2286" y="774"/>
                    </a:lnTo>
                    <a:lnTo>
                      <a:pt x="2291" y="774"/>
                    </a:lnTo>
                    <a:lnTo>
                      <a:pt x="2294" y="773"/>
                    </a:lnTo>
                    <a:lnTo>
                      <a:pt x="2296" y="770"/>
                    </a:lnTo>
                    <a:lnTo>
                      <a:pt x="2297" y="767"/>
                    </a:lnTo>
                    <a:lnTo>
                      <a:pt x="2299" y="764"/>
                    </a:lnTo>
                    <a:lnTo>
                      <a:pt x="2302" y="760"/>
                    </a:lnTo>
                    <a:lnTo>
                      <a:pt x="2304" y="758"/>
                    </a:lnTo>
                    <a:lnTo>
                      <a:pt x="2308" y="758"/>
                    </a:lnTo>
                    <a:lnTo>
                      <a:pt x="2318" y="738"/>
                    </a:lnTo>
                    <a:lnTo>
                      <a:pt x="2322" y="738"/>
                    </a:lnTo>
                    <a:lnTo>
                      <a:pt x="2325" y="739"/>
                    </a:lnTo>
                    <a:lnTo>
                      <a:pt x="2328" y="741"/>
                    </a:lnTo>
                    <a:lnTo>
                      <a:pt x="2331" y="742"/>
                    </a:lnTo>
                    <a:lnTo>
                      <a:pt x="2334" y="744"/>
                    </a:lnTo>
                    <a:lnTo>
                      <a:pt x="2338" y="745"/>
                    </a:lnTo>
                    <a:lnTo>
                      <a:pt x="2341" y="745"/>
                    </a:lnTo>
                    <a:lnTo>
                      <a:pt x="2345" y="744"/>
                    </a:lnTo>
                    <a:lnTo>
                      <a:pt x="2354" y="762"/>
                    </a:lnTo>
                    <a:lnTo>
                      <a:pt x="2363" y="778"/>
                    </a:lnTo>
                    <a:lnTo>
                      <a:pt x="2369" y="796"/>
                    </a:lnTo>
                    <a:lnTo>
                      <a:pt x="2374" y="815"/>
                    </a:lnTo>
                    <a:lnTo>
                      <a:pt x="2377" y="834"/>
                    </a:lnTo>
                    <a:lnTo>
                      <a:pt x="2378" y="855"/>
                    </a:lnTo>
                    <a:lnTo>
                      <a:pt x="2378" y="874"/>
                    </a:lnTo>
                    <a:lnTo>
                      <a:pt x="2377" y="894"/>
                    </a:lnTo>
                    <a:lnTo>
                      <a:pt x="2375" y="913"/>
                    </a:lnTo>
                    <a:lnTo>
                      <a:pt x="2371" y="933"/>
                    </a:lnTo>
                    <a:lnTo>
                      <a:pt x="2367" y="952"/>
                    </a:lnTo>
                    <a:lnTo>
                      <a:pt x="2363" y="971"/>
                    </a:lnTo>
                    <a:lnTo>
                      <a:pt x="2357" y="990"/>
                    </a:lnTo>
                    <a:lnTo>
                      <a:pt x="2350" y="1008"/>
                    </a:lnTo>
                    <a:lnTo>
                      <a:pt x="2344" y="1026"/>
                    </a:lnTo>
                    <a:lnTo>
                      <a:pt x="2336" y="1043"/>
                    </a:lnTo>
                    <a:lnTo>
                      <a:pt x="2336" y="1045"/>
                    </a:lnTo>
                    <a:lnTo>
                      <a:pt x="2336" y="1047"/>
                    </a:lnTo>
                    <a:lnTo>
                      <a:pt x="2336" y="1050"/>
                    </a:lnTo>
                    <a:lnTo>
                      <a:pt x="2336" y="1052"/>
                    </a:lnTo>
                    <a:lnTo>
                      <a:pt x="2336" y="1056"/>
                    </a:lnTo>
                    <a:lnTo>
                      <a:pt x="2336" y="1058"/>
                    </a:lnTo>
                    <a:lnTo>
                      <a:pt x="2339" y="1059"/>
                    </a:lnTo>
                    <a:lnTo>
                      <a:pt x="2341" y="1061"/>
                    </a:lnTo>
                    <a:lnTo>
                      <a:pt x="2339" y="1071"/>
                    </a:lnTo>
                    <a:lnTo>
                      <a:pt x="2335" y="1082"/>
                    </a:lnTo>
                    <a:lnTo>
                      <a:pt x="2331" y="1093"/>
                    </a:lnTo>
                    <a:lnTo>
                      <a:pt x="2326" y="1103"/>
                    </a:lnTo>
                    <a:lnTo>
                      <a:pt x="2322" y="1114"/>
                    </a:lnTo>
                    <a:lnTo>
                      <a:pt x="2316" y="1124"/>
                    </a:lnTo>
                    <a:lnTo>
                      <a:pt x="2312" y="1135"/>
                    </a:lnTo>
                    <a:lnTo>
                      <a:pt x="2308" y="1145"/>
                    </a:lnTo>
                    <a:lnTo>
                      <a:pt x="2310" y="1148"/>
                    </a:lnTo>
                    <a:lnTo>
                      <a:pt x="2311" y="1151"/>
                    </a:lnTo>
                    <a:lnTo>
                      <a:pt x="2311" y="1153"/>
                    </a:lnTo>
                    <a:lnTo>
                      <a:pt x="2311" y="1156"/>
                    </a:lnTo>
                    <a:lnTo>
                      <a:pt x="2309" y="1161"/>
                    </a:lnTo>
                    <a:lnTo>
                      <a:pt x="2307" y="1167"/>
                    </a:lnTo>
                    <a:lnTo>
                      <a:pt x="2304" y="1172"/>
                    </a:lnTo>
                    <a:lnTo>
                      <a:pt x="2299" y="1177"/>
                    </a:lnTo>
                    <a:lnTo>
                      <a:pt x="2296" y="1182"/>
                    </a:lnTo>
                    <a:lnTo>
                      <a:pt x="2294" y="1188"/>
                    </a:lnTo>
                    <a:lnTo>
                      <a:pt x="2291" y="1197"/>
                    </a:lnTo>
                    <a:lnTo>
                      <a:pt x="2289" y="1207"/>
                    </a:lnTo>
                    <a:lnTo>
                      <a:pt x="2288" y="1217"/>
                    </a:lnTo>
                    <a:lnTo>
                      <a:pt x="2286" y="1228"/>
                    </a:lnTo>
                    <a:lnTo>
                      <a:pt x="2285" y="1237"/>
                    </a:lnTo>
                    <a:lnTo>
                      <a:pt x="2283" y="1248"/>
                    </a:lnTo>
                    <a:lnTo>
                      <a:pt x="2281" y="1258"/>
                    </a:lnTo>
                    <a:lnTo>
                      <a:pt x="2279" y="1266"/>
                    </a:lnTo>
                    <a:lnTo>
                      <a:pt x="2285" y="1269"/>
                    </a:lnTo>
                    <a:lnTo>
                      <a:pt x="2288" y="1273"/>
                    </a:lnTo>
                    <a:lnTo>
                      <a:pt x="2290" y="1278"/>
                    </a:lnTo>
                    <a:lnTo>
                      <a:pt x="2291" y="1283"/>
                    </a:lnTo>
                    <a:lnTo>
                      <a:pt x="2292" y="1289"/>
                    </a:lnTo>
                    <a:lnTo>
                      <a:pt x="2292" y="1295"/>
                    </a:lnTo>
                    <a:lnTo>
                      <a:pt x="2293" y="1300"/>
                    </a:lnTo>
                    <a:lnTo>
                      <a:pt x="2296" y="1304"/>
                    </a:lnTo>
                    <a:lnTo>
                      <a:pt x="2301" y="1315"/>
                    </a:lnTo>
                    <a:lnTo>
                      <a:pt x="2305" y="1324"/>
                    </a:lnTo>
                    <a:lnTo>
                      <a:pt x="2308" y="1335"/>
                    </a:lnTo>
                    <a:lnTo>
                      <a:pt x="2311" y="1346"/>
                    </a:lnTo>
                    <a:lnTo>
                      <a:pt x="2313" y="1357"/>
                    </a:lnTo>
                    <a:lnTo>
                      <a:pt x="2315" y="1368"/>
                    </a:lnTo>
                    <a:lnTo>
                      <a:pt x="2316" y="1379"/>
                    </a:lnTo>
                    <a:lnTo>
                      <a:pt x="2318" y="1390"/>
                    </a:lnTo>
                    <a:lnTo>
                      <a:pt x="2332" y="1393"/>
                    </a:lnTo>
                    <a:lnTo>
                      <a:pt x="2334" y="1402"/>
                    </a:lnTo>
                    <a:lnTo>
                      <a:pt x="2335" y="1412"/>
                    </a:lnTo>
                    <a:lnTo>
                      <a:pt x="2336" y="1421"/>
                    </a:lnTo>
                    <a:lnTo>
                      <a:pt x="2338" y="1431"/>
                    </a:lnTo>
                    <a:lnTo>
                      <a:pt x="2340" y="1439"/>
                    </a:lnTo>
                    <a:lnTo>
                      <a:pt x="2343" y="1448"/>
                    </a:lnTo>
                    <a:lnTo>
                      <a:pt x="2345" y="1451"/>
                    </a:lnTo>
                    <a:lnTo>
                      <a:pt x="2347" y="1454"/>
                    </a:lnTo>
                    <a:lnTo>
                      <a:pt x="2350" y="1457"/>
                    </a:lnTo>
                    <a:lnTo>
                      <a:pt x="2354" y="1460"/>
                    </a:lnTo>
                    <a:lnTo>
                      <a:pt x="2356" y="1468"/>
                    </a:lnTo>
                    <a:lnTo>
                      <a:pt x="2358" y="1475"/>
                    </a:lnTo>
                    <a:lnTo>
                      <a:pt x="2360" y="1483"/>
                    </a:lnTo>
                    <a:lnTo>
                      <a:pt x="2363" y="1490"/>
                    </a:lnTo>
                    <a:lnTo>
                      <a:pt x="2365" y="1497"/>
                    </a:lnTo>
                    <a:lnTo>
                      <a:pt x="2368" y="1504"/>
                    </a:lnTo>
                    <a:lnTo>
                      <a:pt x="2371" y="1511"/>
                    </a:lnTo>
                    <a:lnTo>
                      <a:pt x="2375" y="1519"/>
                    </a:lnTo>
                    <a:lnTo>
                      <a:pt x="2380" y="1523"/>
                    </a:lnTo>
                    <a:lnTo>
                      <a:pt x="2386" y="1527"/>
                    </a:lnTo>
                    <a:lnTo>
                      <a:pt x="2391" y="1529"/>
                    </a:lnTo>
                    <a:lnTo>
                      <a:pt x="2399" y="1531"/>
                    </a:lnTo>
                    <a:lnTo>
                      <a:pt x="2412" y="1534"/>
                    </a:lnTo>
                    <a:lnTo>
                      <a:pt x="2425" y="1534"/>
                    </a:lnTo>
                    <a:lnTo>
                      <a:pt x="2432" y="1535"/>
                    </a:lnTo>
                    <a:lnTo>
                      <a:pt x="2438" y="1536"/>
                    </a:lnTo>
                    <a:lnTo>
                      <a:pt x="2444" y="1537"/>
                    </a:lnTo>
                    <a:lnTo>
                      <a:pt x="2451" y="1539"/>
                    </a:lnTo>
                    <a:lnTo>
                      <a:pt x="2456" y="1542"/>
                    </a:lnTo>
                    <a:lnTo>
                      <a:pt x="2461" y="1546"/>
                    </a:lnTo>
                    <a:lnTo>
                      <a:pt x="2466" y="1552"/>
                    </a:lnTo>
                    <a:lnTo>
                      <a:pt x="2470" y="1559"/>
                    </a:lnTo>
                    <a:lnTo>
                      <a:pt x="2476" y="1575"/>
                    </a:lnTo>
                    <a:lnTo>
                      <a:pt x="2482" y="1591"/>
                    </a:lnTo>
                    <a:lnTo>
                      <a:pt x="2488" y="1608"/>
                    </a:lnTo>
                    <a:lnTo>
                      <a:pt x="2492" y="1625"/>
                    </a:lnTo>
                    <a:lnTo>
                      <a:pt x="2496" y="1641"/>
                    </a:lnTo>
                    <a:lnTo>
                      <a:pt x="2500" y="1658"/>
                    </a:lnTo>
                    <a:lnTo>
                      <a:pt x="2505" y="1675"/>
                    </a:lnTo>
                    <a:lnTo>
                      <a:pt x="2510" y="1692"/>
                    </a:lnTo>
                    <a:lnTo>
                      <a:pt x="2506" y="1695"/>
                    </a:lnTo>
                    <a:lnTo>
                      <a:pt x="2506" y="1773"/>
                    </a:lnTo>
                    <a:lnTo>
                      <a:pt x="2504" y="1773"/>
                    </a:lnTo>
                    <a:lnTo>
                      <a:pt x="2503" y="1773"/>
                    </a:lnTo>
                    <a:lnTo>
                      <a:pt x="2500" y="1773"/>
                    </a:lnTo>
                    <a:lnTo>
                      <a:pt x="2499" y="1773"/>
                    </a:lnTo>
                    <a:lnTo>
                      <a:pt x="2497" y="1772"/>
                    </a:lnTo>
                    <a:lnTo>
                      <a:pt x="2496" y="1772"/>
                    </a:lnTo>
                    <a:lnTo>
                      <a:pt x="2495" y="1771"/>
                    </a:lnTo>
                    <a:lnTo>
                      <a:pt x="2494" y="1768"/>
                    </a:lnTo>
                    <a:lnTo>
                      <a:pt x="2491" y="1771"/>
                    </a:lnTo>
                    <a:lnTo>
                      <a:pt x="2489" y="1774"/>
                    </a:lnTo>
                    <a:lnTo>
                      <a:pt x="2486" y="1777"/>
                    </a:lnTo>
                    <a:lnTo>
                      <a:pt x="2484" y="1780"/>
                    </a:lnTo>
                    <a:lnTo>
                      <a:pt x="2481" y="1783"/>
                    </a:lnTo>
                    <a:lnTo>
                      <a:pt x="2478" y="1785"/>
                    </a:lnTo>
                    <a:lnTo>
                      <a:pt x="2476" y="1789"/>
                    </a:lnTo>
                    <a:lnTo>
                      <a:pt x="2473" y="1791"/>
                    </a:lnTo>
                    <a:lnTo>
                      <a:pt x="2461" y="1784"/>
                    </a:lnTo>
                    <a:lnTo>
                      <a:pt x="2459" y="1787"/>
                    </a:lnTo>
                    <a:lnTo>
                      <a:pt x="2457" y="1791"/>
                    </a:lnTo>
                    <a:lnTo>
                      <a:pt x="2455" y="1794"/>
                    </a:lnTo>
                    <a:lnTo>
                      <a:pt x="2453" y="1798"/>
                    </a:lnTo>
                    <a:lnTo>
                      <a:pt x="2451" y="1801"/>
                    </a:lnTo>
                    <a:lnTo>
                      <a:pt x="2449" y="1803"/>
                    </a:lnTo>
                    <a:lnTo>
                      <a:pt x="2445" y="1804"/>
                    </a:lnTo>
                    <a:lnTo>
                      <a:pt x="2441" y="1804"/>
                    </a:lnTo>
                    <a:lnTo>
                      <a:pt x="2440" y="1800"/>
                    </a:lnTo>
                    <a:lnTo>
                      <a:pt x="2439" y="1797"/>
                    </a:lnTo>
                    <a:lnTo>
                      <a:pt x="2436" y="1795"/>
                    </a:lnTo>
                    <a:lnTo>
                      <a:pt x="2433" y="1794"/>
                    </a:lnTo>
                    <a:lnTo>
                      <a:pt x="2430" y="1794"/>
                    </a:lnTo>
                    <a:lnTo>
                      <a:pt x="2426" y="1794"/>
                    </a:lnTo>
                    <a:lnTo>
                      <a:pt x="2422" y="1795"/>
                    </a:lnTo>
                    <a:lnTo>
                      <a:pt x="2419" y="1797"/>
                    </a:lnTo>
                    <a:lnTo>
                      <a:pt x="2415" y="1800"/>
                    </a:lnTo>
                    <a:lnTo>
                      <a:pt x="2411" y="1803"/>
                    </a:lnTo>
                    <a:lnTo>
                      <a:pt x="2405" y="1805"/>
                    </a:lnTo>
                    <a:lnTo>
                      <a:pt x="2400" y="1809"/>
                    </a:lnTo>
                    <a:lnTo>
                      <a:pt x="2396" y="1811"/>
                    </a:lnTo>
                    <a:lnTo>
                      <a:pt x="2390" y="1814"/>
                    </a:lnTo>
                    <a:lnTo>
                      <a:pt x="2386" y="1818"/>
                    </a:lnTo>
                    <a:lnTo>
                      <a:pt x="2383" y="1822"/>
                    </a:lnTo>
                    <a:lnTo>
                      <a:pt x="2375" y="1822"/>
                    </a:lnTo>
                    <a:lnTo>
                      <a:pt x="2376" y="1818"/>
                    </a:lnTo>
                    <a:lnTo>
                      <a:pt x="2378" y="1814"/>
                    </a:lnTo>
                    <a:lnTo>
                      <a:pt x="2379" y="1810"/>
                    </a:lnTo>
                    <a:lnTo>
                      <a:pt x="2381" y="1805"/>
                    </a:lnTo>
                    <a:lnTo>
                      <a:pt x="2383" y="1801"/>
                    </a:lnTo>
                    <a:lnTo>
                      <a:pt x="2385" y="1797"/>
                    </a:lnTo>
                    <a:lnTo>
                      <a:pt x="2388" y="1793"/>
                    </a:lnTo>
                    <a:lnTo>
                      <a:pt x="2390" y="1789"/>
                    </a:lnTo>
                    <a:lnTo>
                      <a:pt x="2381" y="1790"/>
                    </a:lnTo>
                    <a:lnTo>
                      <a:pt x="2370" y="1792"/>
                    </a:lnTo>
                    <a:lnTo>
                      <a:pt x="2361" y="1796"/>
                    </a:lnTo>
                    <a:lnTo>
                      <a:pt x="2351" y="1801"/>
                    </a:lnTo>
                    <a:lnTo>
                      <a:pt x="2342" y="1806"/>
                    </a:lnTo>
                    <a:lnTo>
                      <a:pt x="2333" y="1813"/>
                    </a:lnTo>
                    <a:lnTo>
                      <a:pt x="2324" y="1818"/>
                    </a:lnTo>
                    <a:lnTo>
                      <a:pt x="2314" y="1822"/>
                    </a:lnTo>
                    <a:lnTo>
                      <a:pt x="2312" y="1821"/>
                    </a:lnTo>
                    <a:lnTo>
                      <a:pt x="2312" y="1819"/>
                    </a:lnTo>
                    <a:lnTo>
                      <a:pt x="2312" y="1817"/>
                    </a:lnTo>
                    <a:lnTo>
                      <a:pt x="2313" y="1816"/>
                    </a:lnTo>
                    <a:lnTo>
                      <a:pt x="2315" y="1814"/>
                    </a:lnTo>
                    <a:lnTo>
                      <a:pt x="2316" y="1813"/>
                    </a:lnTo>
                    <a:lnTo>
                      <a:pt x="2317" y="1811"/>
                    </a:lnTo>
                    <a:lnTo>
                      <a:pt x="2318" y="1809"/>
                    </a:lnTo>
                    <a:lnTo>
                      <a:pt x="2310" y="1810"/>
                    </a:lnTo>
                    <a:lnTo>
                      <a:pt x="2302" y="1811"/>
                    </a:lnTo>
                    <a:lnTo>
                      <a:pt x="2293" y="1814"/>
                    </a:lnTo>
                    <a:lnTo>
                      <a:pt x="2286" y="1817"/>
                    </a:lnTo>
                    <a:lnTo>
                      <a:pt x="2277" y="1819"/>
                    </a:lnTo>
                    <a:lnTo>
                      <a:pt x="2269" y="1822"/>
                    </a:lnTo>
                    <a:lnTo>
                      <a:pt x="2260" y="1826"/>
                    </a:lnTo>
                    <a:lnTo>
                      <a:pt x="2252" y="1827"/>
                    </a:lnTo>
                    <a:lnTo>
                      <a:pt x="2252" y="1823"/>
                    </a:lnTo>
                    <a:lnTo>
                      <a:pt x="2253" y="1820"/>
                    </a:lnTo>
                    <a:lnTo>
                      <a:pt x="2255" y="1818"/>
                    </a:lnTo>
                    <a:lnTo>
                      <a:pt x="2257" y="1815"/>
                    </a:lnTo>
                    <a:lnTo>
                      <a:pt x="2259" y="1813"/>
                    </a:lnTo>
                    <a:lnTo>
                      <a:pt x="2261" y="1811"/>
                    </a:lnTo>
                    <a:lnTo>
                      <a:pt x="2263" y="1808"/>
                    </a:lnTo>
                    <a:lnTo>
                      <a:pt x="2263" y="1804"/>
                    </a:lnTo>
                    <a:lnTo>
                      <a:pt x="2260" y="1803"/>
                    </a:lnTo>
                    <a:lnTo>
                      <a:pt x="2256" y="1802"/>
                    </a:lnTo>
                    <a:lnTo>
                      <a:pt x="2252" y="1803"/>
                    </a:lnTo>
                    <a:lnTo>
                      <a:pt x="2249" y="1804"/>
                    </a:lnTo>
                    <a:lnTo>
                      <a:pt x="2240" y="1809"/>
                    </a:lnTo>
                    <a:lnTo>
                      <a:pt x="2233" y="1814"/>
                    </a:lnTo>
                    <a:lnTo>
                      <a:pt x="2226" y="1818"/>
                    </a:lnTo>
                    <a:lnTo>
                      <a:pt x="2221" y="1819"/>
                    </a:lnTo>
                    <a:lnTo>
                      <a:pt x="2218" y="1818"/>
                    </a:lnTo>
                    <a:lnTo>
                      <a:pt x="2216" y="1816"/>
                    </a:lnTo>
                    <a:lnTo>
                      <a:pt x="2215" y="1813"/>
                    </a:lnTo>
                    <a:lnTo>
                      <a:pt x="2214" y="1806"/>
                    </a:lnTo>
                    <a:lnTo>
                      <a:pt x="2210" y="1809"/>
                    </a:lnTo>
                    <a:lnTo>
                      <a:pt x="2205" y="1810"/>
                    </a:lnTo>
                    <a:lnTo>
                      <a:pt x="2202" y="1812"/>
                    </a:lnTo>
                    <a:lnTo>
                      <a:pt x="2198" y="1814"/>
                    </a:lnTo>
                    <a:lnTo>
                      <a:pt x="2194" y="1815"/>
                    </a:lnTo>
                    <a:lnTo>
                      <a:pt x="2189" y="1816"/>
                    </a:lnTo>
                    <a:lnTo>
                      <a:pt x="2185" y="1816"/>
                    </a:lnTo>
                    <a:lnTo>
                      <a:pt x="2181" y="1815"/>
                    </a:lnTo>
                    <a:lnTo>
                      <a:pt x="2179" y="1812"/>
                    </a:lnTo>
                    <a:lnTo>
                      <a:pt x="2177" y="1811"/>
                    </a:lnTo>
                    <a:lnTo>
                      <a:pt x="2174" y="1809"/>
                    </a:lnTo>
                    <a:lnTo>
                      <a:pt x="2171" y="1809"/>
                    </a:lnTo>
                    <a:lnTo>
                      <a:pt x="2166" y="1809"/>
                    </a:lnTo>
                    <a:lnTo>
                      <a:pt x="2160" y="1811"/>
                    </a:lnTo>
                    <a:lnTo>
                      <a:pt x="2154" y="1813"/>
                    </a:lnTo>
                    <a:lnTo>
                      <a:pt x="2148" y="1813"/>
                    </a:lnTo>
                    <a:lnTo>
                      <a:pt x="2145" y="1813"/>
                    </a:lnTo>
                    <a:lnTo>
                      <a:pt x="2143" y="1812"/>
                    </a:lnTo>
                    <a:lnTo>
                      <a:pt x="2140" y="1811"/>
                    </a:lnTo>
                    <a:lnTo>
                      <a:pt x="2136" y="1809"/>
                    </a:lnTo>
                    <a:lnTo>
                      <a:pt x="2135" y="1812"/>
                    </a:lnTo>
                    <a:lnTo>
                      <a:pt x="2134" y="1815"/>
                    </a:lnTo>
                    <a:lnTo>
                      <a:pt x="2134" y="1818"/>
                    </a:lnTo>
                    <a:lnTo>
                      <a:pt x="2135" y="1821"/>
                    </a:lnTo>
                    <a:lnTo>
                      <a:pt x="2136" y="1824"/>
                    </a:lnTo>
                    <a:lnTo>
                      <a:pt x="2138" y="1828"/>
                    </a:lnTo>
                    <a:lnTo>
                      <a:pt x="2138" y="1830"/>
                    </a:lnTo>
                    <a:lnTo>
                      <a:pt x="2136" y="1833"/>
                    </a:lnTo>
                    <a:lnTo>
                      <a:pt x="2123" y="1835"/>
                    </a:lnTo>
                    <a:lnTo>
                      <a:pt x="2124" y="1840"/>
                    </a:lnTo>
                    <a:lnTo>
                      <a:pt x="2125" y="1846"/>
                    </a:lnTo>
                    <a:lnTo>
                      <a:pt x="2127" y="1851"/>
                    </a:lnTo>
                    <a:lnTo>
                      <a:pt x="2129" y="1856"/>
                    </a:lnTo>
                    <a:lnTo>
                      <a:pt x="2131" y="1860"/>
                    </a:lnTo>
                    <a:lnTo>
                      <a:pt x="2133" y="1866"/>
                    </a:lnTo>
                    <a:lnTo>
                      <a:pt x="2134" y="1872"/>
                    </a:lnTo>
                    <a:lnTo>
                      <a:pt x="2134" y="1877"/>
                    </a:lnTo>
                    <a:lnTo>
                      <a:pt x="2131" y="1877"/>
                    </a:lnTo>
                    <a:lnTo>
                      <a:pt x="2128" y="1877"/>
                    </a:lnTo>
                    <a:lnTo>
                      <a:pt x="2125" y="1875"/>
                    </a:lnTo>
                    <a:lnTo>
                      <a:pt x="2123" y="1873"/>
                    </a:lnTo>
                    <a:lnTo>
                      <a:pt x="2117" y="1868"/>
                    </a:lnTo>
                    <a:lnTo>
                      <a:pt x="2113" y="1861"/>
                    </a:lnTo>
                    <a:lnTo>
                      <a:pt x="2108" y="1856"/>
                    </a:lnTo>
                    <a:lnTo>
                      <a:pt x="2103" y="1853"/>
                    </a:lnTo>
                    <a:lnTo>
                      <a:pt x="2099" y="1853"/>
                    </a:lnTo>
                    <a:lnTo>
                      <a:pt x="2096" y="1854"/>
                    </a:lnTo>
                    <a:lnTo>
                      <a:pt x="2092" y="1855"/>
                    </a:lnTo>
                    <a:lnTo>
                      <a:pt x="2088" y="1859"/>
                    </a:lnTo>
                    <a:lnTo>
                      <a:pt x="2088" y="1857"/>
                    </a:lnTo>
                    <a:lnTo>
                      <a:pt x="2087" y="1856"/>
                    </a:lnTo>
                    <a:lnTo>
                      <a:pt x="2086" y="1855"/>
                    </a:lnTo>
                    <a:lnTo>
                      <a:pt x="2085" y="1854"/>
                    </a:lnTo>
                    <a:lnTo>
                      <a:pt x="2084" y="1853"/>
                    </a:lnTo>
                    <a:lnTo>
                      <a:pt x="2083" y="1852"/>
                    </a:lnTo>
                    <a:lnTo>
                      <a:pt x="2081" y="1851"/>
                    </a:lnTo>
                    <a:lnTo>
                      <a:pt x="2080" y="1849"/>
                    </a:lnTo>
                    <a:lnTo>
                      <a:pt x="2076" y="1854"/>
                    </a:lnTo>
                    <a:lnTo>
                      <a:pt x="2074" y="1858"/>
                    </a:lnTo>
                    <a:lnTo>
                      <a:pt x="2071" y="1864"/>
                    </a:lnTo>
                    <a:lnTo>
                      <a:pt x="2069" y="1870"/>
                    </a:lnTo>
                    <a:lnTo>
                      <a:pt x="2067" y="1875"/>
                    </a:lnTo>
                    <a:lnTo>
                      <a:pt x="2065" y="1881"/>
                    </a:lnTo>
                    <a:lnTo>
                      <a:pt x="2061" y="1887"/>
                    </a:lnTo>
                    <a:lnTo>
                      <a:pt x="2058" y="1891"/>
                    </a:lnTo>
                    <a:lnTo>
                      <a:pt x="2055" y="1892"/>
                    </a:lnTo>
                    <a:lnTo>
                      <a:pt x="2053" y="1892"/>
                    </a:lnTo>
                    <a:lnTo>
                      <a:pt x="2051" y="1891"/>
                    </a:lnTo>
                    <a:lnTo>
                      <a:pt x="2049" y="1890"/>
                    </a:lnTo>
                    <a:lnTo>
                      <a:pt x="2047" y="1889"/>
                    </a:lnTo>
                    <a:lnTo>
                      <a:pt x="2046" y="1887"/>
                    </a:lnTo>
                    <a:lnTo>
                      <a:pt x="2043" y="1885"/>
                    </a:lnTo>
                    <a:lnTo>
                      <a:pt x="2042" y="1884"/>
                    </a:lnTo>
                    <a:lnTo>
                      <a:pt x="2039" y="1861"/>
                    </a:lnTo>
                    <a:lnTo>
                      <a:pt x="2035" y="1863"/>
                    </a:lnTo>
                    <a:lnTo>
                      <a:pt x="2030" y="1866"/>
                    </a:lnTo>
                    <a:lnTo>
                      <a:pt x="2025" y="1869"/>
                    </a:lnTo>
                    <a:lnTo>
                      <a:pt x="2021" y="1873"/>
                    </a:lnTo>
                    <a:lnTo>
                      <a:pt x="2017" y="1877"/>
                    </a:lnTo>
                    <a:lnTo>
                      <a:pt x="2013" y="1882"/>
                    </a:lnTo>
                    <a:lnTo>
                      <a:pt x="2007" y="1884"/>
                    </a:lnTo>
                    <a:lnTo>
                      <a:pt x="2001" y="1886"/>
                    </a:lnTo>
                    <a:lnTo>
                      <a:pt x="1998" y="1884"/>
                    </a:lnTo>
                    <a:lnTo>
                      <a:pt x="1996" y="1882"/>
                    </a:lnTo>
                    <a:lnTo>
                      <a:pt x="1993" y="1881"/>
                    </a:lnTo>
                    <a:lnTo>
                      <a:pt x="1989" y="1881"/>
                    </a:lnTo>
                    <a:lnTo>
                      <a:pt x="1983" y="1882"/>
                    </a:lnTo>
                    <a:lnTo>
                      <a:pt x="1977" y="1885"/>
                    </a:lnTo>
                    <a:lnTo>
                      <a:pt x="1970" y="1888"/>
                    </a:lnTo>
                    <a:lnTo>
                      <a:pt x="1965" y="1892"/>
                    </a:lnTo>
                    <a:lnTo>
                      <a:pt x="1959" y="1896"/>
                    </a:lnTo>
                    <a:lnTo>
                      <a:pt x="1953" y="1900"/>
                    </a:lnTo>
                    <a:lnTo>
                      <a:pt x="1947" y="1904"/>
                    </a:lnTo>
                    <a:lnTo>
                      <a:pt x="1942" y="1908"/>
                    </a:lnTo>
                    <a:lnTo>
                      <a:pt x="1937" y="1913"/>
                    </a:lnTo>
                    <a:lnTo>
                      <a:pt x="1930" y="1918"/>
                    </a:lnTo>
                    <a:lnTo>
                      <a:pt x="1925" y="1921"/>
                    </a:lnTo>
                    <a:lnTo>
                      <a:pt x="1919" y="1923"/>
                    </a:lnTo>
                    <a:lnTo>
                      <a:pt x="1912" y="1925"/>
                    </a:lnTo>
                    <a:lnTo>
                      <a:pt x="1905" y="1926"/>
                    </a:lnTo>
                    <a:lnTo>
                      <a:pt x="1904" y="1922"/>
                    </a:lnTo>
                    <a:lnTo>
                      <a:pt x="1904" y="1918"/>
                    </a:lnTo>
                    <a:lnTo>
                      <a:pt x="1904" y="1913"/>
                    </a:lnTo>
                    <a:lnTo>
                      <a:pt x="1905" y="1909"/>
                    </a:lnTo>
                    <a:lnTo>
                      <a:pt x="1906" y="1905"/>
                    </a:lnTo>
                    <a:lnTo>
                      <a:pt x="1908" y="1901"/>
                    </a:lnTo>
                    <a:lnTo>
                      <a:pt x="1910" y="1897"/>
                    </a:lnTo>
                    <a:lnTo>
                      <a:pt x="1912" y="1893"/>
                    </a:lnTo>
                    <a:lnTo>
                      <a:pt x="1909" y="1893"/>
                    </a:lnTo>
                    <a:lnTo>
                      <a:pt x="1906" y="1894"/>
                    </a:lnTo>
                    <a:lnTo>
                      <a:pt x="1903" y="1895"/>
                    </a:lnTo>
                    <a:lnTo>
                      <a:pt x="1899" y="1896"/>
                    </a:lnTo>
                    <a:lnTo>
                      <a:pt x="1895" y="1897"/>
                    </a:lnTo>
                    <a:lnTo>
                      <a:pt x="1892" y="1899"/>
                    </a:lnTo>
                    <a:lnTo>
                      <a:pt x="1888" y="1901"/>
                    </a:lnTo>
                    <a:lnTo>
                      <a:pt x="1885" y="1902"/>
                    </a:lnTo>
                    <a:lnTo>
                      <a:pt x="1875" y="1899"/>
                    </a:lnTo>
                    <a:lnTo>
                      <a:pt x="1867" y="1896"/>
                    </a:lnTo>
                    <a:lnTo>
                      <a:pt x="1859" y="1895"/>
                    </a:lnTo>
                    <a:lnTo>
                      <a:pt x="1851" y="1895"/>
                    </a:lnTo>
                    <a:lnTo>
                      <a:pt x="1843" y="1896"/>
                    </a:lnTo>
                    <a:lnTo>
                      <a:pt x="1835" y="1899"/>
                    </a:lnTo>
                    <a:lnTo>
                      <a:pt x="1826" y="1901"/>
                    </a:lnTo>
                    <a:lnTo>
                      <a:pt x="1818" y="1904"/>
                    </a:lnTo>
                    <a:lnTo>
                      <a:pt x="1813" y="1904"/>
                    </a:lnTo>
                    <a:lnTo>
                      <a:pt x="1807" y="1904"/>
                    </a:lnTo>
                    <a:lnTo>
                      <a:pt x="1802" y="1904"/>
                    </a:lnTo>
                    <a:lnTo>
                      <a:pt x="1797" y="1904"/>
                    </a:lnTo>
                    <a:lnTo>
                      <a:pt x="1793" y="1903"/>
                    </a:lnTo>
                    <a:lnTo>
                      <a:pt x="1789" y="1900"/>
                    </a:lnTo>
                    <a:lnTo>
                      <a:pt x="1788" y="1897"/>
                    </a:lnTo>
                    <a:lnTo>
                      <a:pt x="1787" y="1895"/>
                    </a:lnTo>
                    <a:lnTo>
                      <a:pt x="1787" y="1893"/>
                    </a:lnTo>
                    <a:lnTo>
                      <a:pt x="1787" y="1889"/>
                    </a:lnTo>
                    <a:lnTo>
                      <a:pt x="1781" y="1893"/>
                    </a:lnTo>
                    <a:lnTo>
                      <a:pt x="1775" y="1896"/>
                    </a:lnTo>
                    <a:lnTo>
                      <a:pt x="1767" y="1899"/>
                    </a:lnTo>
                    <a:lnTo>
                      <a:pt x="1760" y="1901"/>
                    </a:lnTo>
                    <a:lnTo>
                      <a:pt x="1752" y="1902"/>
                    </a:lnTo>
                    <a:lnTo>
                      <a:pt x="1744" y="1902"/>
                    </a:lnTo>
                    <a:lnTo>
                      <a:pt x="1737" y="1902"/>
                    </a:lnTo>
                    <a:lnTo>
                      <a:pt x="1729" y="1902"/>
                    </a:lnTo>
                    <a:lnTo>
                      <a:pt x="1727" y="1897"/>
                    </a:lnTo>
                    <a:lnTo>
                      <a:pt x="1726" y="1895"/>
                    </a:lnTo>
                    <a:lnTo>
                      <a:pt x="1723" y="1893"/>
                    </a:lnTo>
                    <a:lnTo>
                      <a:pt x="1721" y="1892"/>
                    </a:lnTo>
                    <a:lnTo>
                      <a:pt x="1715" y="1891"/>
                    </a:lnTo>
                    <a:lnTo>
                      <a:pt x="1709" y="1893"/>
                    </a:lnTo>
                    <a:lnTo>
                      <a:pt x="1703" y="1894"/>
                    </a:lnTo>
                    <a:lnTo>
                      <a:pt x="1696" y="1896"/>
                    </a:lnTo>
                    <a:lnTo>
                      <a:pt x="1689" y="1899"/>
                    </a:lnTo>
                    <a:lnTo>
                      <a:pt x="1683" y="1897"/>
                    </a:lnTo>
                    <a:lnTo>
                      <a:pt x="1682" y="1896"/>
                    </a:lnTo>
                    <a:lnTo>
                      <a:pt x="1679" y="1895"/>
                    </a:lnTo>
                    <a:lnTo>
                      <a:pt x="1678" y="1895"/>
                    </a:lnTo>
                    <a:lnTo>
                      <a:pt x="1676" y="1894"/>
                    </a:lnTo>
                    <a:lnTo>
                      <a:pt x="1675" y="1894"/>
                    </a:lnTo>
                    <a:lnTo>
                      <a:pt x="1674" y="1893"/>
                    </a:lnTo>
                    <a:lnTo>
                      <a:pt x="1673" y="1891"/>
                    </a:lnTo>
                    <a:lnTo>
                      <a:pt x="1673" y="1889"/>
                    </a:lnTo>
                    <a:lnTo>
                      <a:pt x="1675" y="1887"/>
                    </a:lnTo>
                    <a:lnTo>
                      <a:pt x="1669" y="1886"/>
                    </a:lnTo>
                    <a:lnTo>
                      <a:pt x="1664" y="1885"/>
                    </a:lnTo>
                    <a:lnTo>
                      <a:pt x="1657" y="1884"/>
                    </a:lnTo>
                    <a:lnTo>
                      <a:pt x="1652" y="1883"/>
                    </a:lnTo>
                    <a:lnTo>
                      <a:pt x="1646" y="1882"/>
                    </a:lnTo>
                    <a:lnTo>
                      <a:pt x="1640" y="1882"/>
                    </a:lnTo>
                    <a:lnTo>
                      <a:pt x="1634" y="1881"/>
                    </a:lnTo>
                    <a:lnTo>
                      <a:pt x="1629" y="1882"/>
                    </a:lnTo>
                    <a:lnTo>
                      <a:pt x="1631" y="1877"/>
                    </a:lnTo>
                    <a:lnTo>
                      <a:pt x="1633" y="1873"/>
                    </a:lnTo>
                    <a:lnTo>
                      <a:pt x="1637" y="1869"/>
                    </a:lnTo>
                    <a:lnTo>
                      <a:pt x="1641" y="1866"/>
                    </a:lnTo>
                    <a:lnTo>
                      <a:pt x="1646" y="1863"/>
                    </a:lnTo>
                    <a:lnTo>
                      <a:pt x="1650" y="1859"/>
                    </a:lnTo>
                    <a:lnTo>
                      <a:pt x="1654" y="1856"/>
                    </a:lnTo>
                    <a:lnTo>
                      <a:pt x="1658" y="1853"/>
                    </a:lnTo>
                    <a:lnTo>
                      <a:pt x="1658" y="1851"/>
                    </a:lnTo>
                    <a:lnTo>
                      <a:pt x="1657" y="1850"/>
                    </a:lnTo>
                    <a:lnTo>
                      <a:pt x="1655" y="1849"/>
                    </a:lnTo>
                    <a:lnTo>
                      <a:pt x="1654" y="1848"/>
                    </a:lnTo>
                    <a:lnTo>
                      <a:pt x="1652" y="1848"/>
                    </a:lnTo>
                    <a:lnTo>
                      <a:pt x="1650" y="1847"/>
                    </a:lnTo>
                    <a:lnTo>
                      <a:pt x="1648" y="1847"/>
                    </a:lnTo>
                    <a:lnTo>
                      <a:pt x="1647" y="1845"/>
                    </a:lnTo>
                    <a:lnTo>
                      <a:pt x="1654" y="1837"/>
                    </a:lnTo>
                    <a:lnTo>
                      <a:pt x="1662" y="1830"/>
                    </a:lnTo>
                    <a:lnTo>
                      <a:pt x="1671" y="1823"/>
                    </a:lnTo>
                    <a:lnTo>
                      <a:pt x="1679" y="1817"/>
                    </a:lnTo>
                    <a:lnTo>
                      <a:pt x="1689" y="1812"/>
                    </a:lnTo>
                    <a:lnTo>
                      <a:pt x="1698" y="1806"/>
                    </a:lnTo>
                    <a:lnTo>
                      <a:pt x="1708" y="1801"/>
                    </a:lnTo>
                    <a:lnTo>
                      <a:pt x="1717" y="1797"/>
                    </a:lnTo>
                    <a:lnTo>
                      <a:pt x="1717" y="1793"/>
                    </a:lnTo>
                    <a:lnTo>
                      <a:pt x="1717" y="1787"/>
                    </a:lnTo>
                    <a:lnTo>
                      <a:pt x="1717" y="1783"/>
                    </a:lnTo>
                    <a:lnTo>
                      <a:pt x="1717" y="1779"/>
                    </a:lnTo>
                    <a:lnTo>
                      <a:pt x="1717" y="1775"/>
                    </a:lnTo>
                    <a:lnTo>
                      <a:pt x="1716" y="1771"/>
                    </a:lnTo>
                    <a:lnTo>
                      <a:pt x="1715" y="1766"/>
                    </a:lnTo>
                    <a:lnTo>
                      <a:pt x="1713" y="1762"/>
                    </a:lnTo>
                    <a:lnTo>
                      <a:pt x="1712" y="1764"/>
                    </a:lnTo>
                    <a:lnTo>
                      <a:pt x="1711" y="1766"/>
                    </a:lnTo>
                    <a:lnTo>
                      <a:pt x="1711" y="1768"/>
                    </a:lnTo>
                    <a:lnTo>
                      <a:pt x="1710" y="1771"/>
                    </a:lnTo>
                    <a:lnTo>
                      <a:pt x="1709" y="1773"/>
                    </a:lnTo>
                    <a:lnTo>
                      <a:pt x="1709" y="1775"/>
                    </a:lnTo>
                    <a:lnTo>
                      <a:pt x="1708" y="1777"/>
                    </a:lnTo>
                    <a:lnTo>
                      <a:pt x="1707" y="1779"/>
                    </a:lnTo>
                    <a:lnTo>
                      <a:pt x="1703" y="1780"/>
                    </a:lnTo>
                    <a:lnTo>
                      <a:pt x="1700" y="1779"/>
                    </a:lnTo>
                    <a:lnTo>
                      <a:pt x="1697" y="1776"/>
                    </a:lnTo>
                    <a:lnTo>
                      <a:pt x="1695" y="1773"/>
                    </a:lnTo>
                    <a:lnTo>
                      <a:pt x="1695" y="1768"/>
                    </a:lnTo>
                    <a:lnTo>
                      <a:pt x="1694" y="1764"/>
                    </a:lnTo>
                    <a:lnTo>
                      <a:pt x="1694" y="1760"/>
                    </a:lnTo>
                    <a:lnTo>
                      <a:pt x="1693" y="1756"/>
                    </a:lnTo>
                    <a:lnTo>
                      <a:pt x="1693" y="1751"/>
                    </a:lnTo>
                    <a:lnTo>
                      <a:pt x="1693" y="1746"/>
                    </a:lnTo>
                    <a:lnTo>
                      <a:pt x="1693" y="1741"/>
                    </a:lnTo>
                    <a:lnTo>
                      <a:pt x="1693" y="1737"/>
                    </a:lnTo>
                    <a:lnTo>
                      <a:pt x="1693" y="1731"/>
                    </a:lnTo>
                    <a:lnTo>
                      <a:pt x="1692" y="1726"/>
                    </a:lnTo>
                    <a:lnTo>
                      <a:pt x="1691" y="1722"/>
                    </a:lnTo>
                    <a:lnTo>
                      <a:pt x="1689" y="1718"/>
                    </a:lnTo>
                    <a:lnTo>
                      <a:pt x="1685" y="1722"/>
                    </a:lnTo>
                    <a:lnTo>
                      <a:pt x="1682" y="1726"/>
                    </a:lnTo>
                    <a:lnTo>
                      <a:pt x="1680" y="1731"/>
                    </a:lnTo>
                    <a:lnTo>
                      <a:pt x="1679" y="1736"/>
                    </a:lnTo>
                    <a:lnTo>
                      <a:pt x="1677" y="1741"/>
                    </a:lnTo>
                    <a:lnTo>
                      <a:pt x="1675" y="1745"/>
                    </a:lnTo>
                    <a:lnTo>
                      <a:pt x="1673" y="1746"/>
                    </a:lnTo>
                    <a:lnTo>
                      <a:pt x="1671" y="1747"/>
                    </a:lnTo>
                    <a:lnTo>
                      <a:pt x="1668" y="1748"/>
                    </a:lnTo>
                    <a:lnTo>
                      <a:pt x="1665" y="1748"/>
                    </a:lnTo>
                    <a:lnTo>
                      <a:pt x="1662" y="1741"/>
                    </a:lnTo>
                    <a:lnTo>
                      <a:pt x="1661" y="1734"/>
                    </a:lnTo>
                    <a:lnTo>
                      <a:pt x="1660" y="1726"/>
                    </a:lnTo>
                    <a:lnTo>
                      <a:pt x="1659" y="1719"/>
                    </a:lnTo>
                    <a:lnTo>
                      <a:pt x="1658" y="1711"/>
                    </a:lnTo>
                    <a:lnTo>
                      <a:pt x="1658" y="1703"/>
                    </a:lnTo>
                    <a:lnTo>
                      <a:pt x="1657" y="1695"/>
                    </a:lnTo>
                    <a:lnTo>
                      <a:pt x="1657" y="1688"/>
                    </a:lnTo>
                    <a:lnTo>
                      <a:pt x="1654" y="1693"/>
                    </a:lnTo>
                    <a:lnTo>
                      <a:pt x="1653" y="1700"/>
                    </a:lnTo>
                    <a:lnTo>
                      <a:pt x="1652" y="1705"/>
                    </a:lnTo>
                    <a:lnTo>
                      <a:pt x="1652" y="1711"/>
                    </a:lnTo>
                    <a:lnTo>
                      <a:pt x="1652" y="1718"/>
                    </a:lnTo>
                    <a:lnTo>
                      <a:pt x="1651" y="1723"/>
                    </a:lnTo>
                    <a:lnTo>
                      <a:pt x="1650" y="1728"/>
                    </a:lnTo>
                    <a:lnTo>
                      <a:pt x="1649" y="1735"/>
                    </a:lnTo>
                    <a:lnTo>
                      <a:pt x="1643" y="1735"/>
                    </a:lnTo>
                    <a:lnTo>
                      <a:pt x="1640" y="1734"/>
                    </a:lnTo>
                    <a:lnTo>
                      <a:pt x="1638" y="1731"/>
                    </a:lnTo>
                    <a:lnTo>
                      <a:pt x="1637" y="1727"/>
                    </a:lnTo>
                    <a:lnTo>
                      <a:pt x="1636" y="1724"/>
                    </a:lnTo>
                    <a:lnTo>
                      <a:pt x="1636" y="1720"/>
                    </a:lnTo>
                    <a:lnTo>
                      <a:pt x="1636" y="1716"/>
                    </a:lnTo>
                    <a:lnTo>
                      <a:pt x="1634" y="1712"/>
                    </a:lnTo>
                    <a:lnTo>
                      <a:pt x="1634" y="1704"/>
                    </a:lnTo>
                    <a:lnTo>
                      <a:pt x="1634" y="1694"/>
                    </a:lnTo>
                    <a:lnTo>
                      <a:pt x="1634" y="1686"/>
                    </a:lnTo>
                    <a:lnTo>
                      <a:pt x="1634" y="1676"/>
                    </a:lnTo>
                    <a:lnTo>
                      <a:pt x="1634" y="1668"/>
                    </a:lnTo>
                    <a:lnTo>
                      <a:pt x="1634" y="1659"/>
                    </a:lnTo>
                    <a:lnTo>
                      <a:pt x="1634" y="1651"/>
                    </a:lnTo>
                    <a:lnTo>
                      <a:pt x="1634" y="1644"/>
                    </a:lnTo>
                    <a:lnTo>
                      <a:pt x="1630" y="1647"/>
                    </a:lnTo>
                    <a:lnTo>
                      <a:pt x="1627" y="1651"/>
                    </a:lnTo>
                    <a:lnTo>
                      <a:pt x="1624" y="1657"/>
                    </a:lnTo>
                    <a:lnTo>
                      <a:pt x="1621" y="1663"/>
                    </a:lnTo>
                    <a:lnTo>
                      <a:pt x="1619" y="1668"/>
                    </a:lnTo>
                    <a:lnTo>
                      <a:pt x="1616" y="1672"/>
                    </a:lnTo>
                    <a:lnTo>
                      <a:pt x="1613" y="1676"/>
                    </a:lnTo>
                    <a:lnTo>
                      <a:pt x="1609" y="1677"/>
                    </a:lnTo>
                    <a:lnTo>
                      <a:pt x="1603" y="1669"/>
                    </a:lnTo>
                    <a:lnTo>
                      <a:pt x="1600" y="1661"/>
                    </a:lnTo>
                    <a:lnTo>
                      <a:pt x="1598" y="1651"/>
                    </a:lnTo>
                    <a:lnTo>
                      <a:pt x="1597" y="1641"/>
                    </a:lnTo>
                    <a:lnTo>
                      <a:pt x="1597" y="1632"/>
                    </a:lnTo>
                    <a:lnTo>
                      <a:pt x="1597" y="1622"/>
                    </a:lnTo>
                    <a:lnTo>
                      <a:pt x="1598" y="1613"/>
                    </a:lnTo>
                    <a:lnTo>
                      <a:pt x="1598" y="1603"/>
                    </a:lnTo>
                    <a:lnTo>
                      <a:pt x="1589" y="1610"/>
                    </a:lnTo>
                    <a:lnTo>
                      <a:pt x="1582" y="1618"/>
                    </a:lnTo>
                    <a:lnTo>
                      <a:pt x="1576" y="1627"/>
                    </a:lnTo>
                    <a:lnTo>
                      <a:pt x="1569" y="1635"/>
                    </a:lnTo>
                    <a:lnTo>
                      <a:pt x="1564" y="1644"/>
                    </a:lnTo>
                    <a:lnTo>
                      <a:pt x="1559" y="1653"/>
                    </a:lnTo>
                    <a:lnTo>
                      <a:pt x="1555" y="1663"/>
                    </a:lnTo>
                    <a:lnTo>
                      <a:pt x="1549" y="1671"/>
                    </a:lnTo>
                    <a:lnTo>
                      <a:pt x="1546" y="1672"/>
                    </a:lnTo>
                    <a:lnTo>
                      <a:pt x="1543" y="1671"/>
                    </a:lnTo>
                    <a:lnTo>
                      <a:pt x="1541" y="1669"/>
                    </a:lnTo>
                    <a:lnTo>
                      <a:pt x="1540" y="1667"/>
                    </a:lnTo>
                    <a:lnTo>
                      <a:pt x="1539" y="1664"/>
                    </a:lnTo>
                    <a:lnTo>
                      <a:pt x="1538" y="1661"/>
                    </a:lnTo>
                    <a:lnTo>
                      <a:pt x="1537" y="1658"/>
                    </a:lnTo>
                    <a:lnTo>
                      <a:pt x="1536" y="1655"/>
                    </a:lnTo>
                    <a:lnTo>
                      <a:pt x="1537" y="1652"/>
                    </a:lnTo>
                    <a:lnTo>
                      <a:pt x="1538" y="1649"/>
                    </a:lnTo>
                    <a:lnTo>
                      <a:pt x="1538" y="1645"/>
                    </a:lnTo>
                    <a:lnTo>
                      <a:pt x="1538" y="1641"/>
                    </a:lnTo>
                    <a:lnTo>
                      <a:pt x="1538" y="1637"/>
                    </a:lnTo>
                    <a:lnTo>
                      <a:pt x="1538" y="1634"/>
                    </a:lnTo>
                    <a:lnTo>
                      <a:pt x="1537" y="1631"/>
                    </a:lnTo>
                    <a:lnTo>
                      <a:pt x="1536" y="1628"/>
                    </a:lnTo>
                    <a:lnTo>
                      <a:pt x="1531" y="1632"/>
                    </a:lnTo>
                    <a:lnTo>
                      <a:pt x="1527" y="1636"/>
                    </a:lnTo>
                    <a:lnTo>
                      <a:pt x="1525" y="1641"/>
                    </a:lnTo>
                    <a:lnTo>
                      <a:pt x="1522" y="1647"/>
                    </a:lnTo>
                    <a:lnTo>
                      <a:pt x="1519" y="1652"/>
                    </a:lnTo>
                    <a:lnTo>
                      <a:pt x="1515" y="1656"/>
                    </a:lnTo>
                    <a:lnTo>
                      <a:pt x="1512" y="1659"/>
                    </a:lnTo>
                    <a:lnTo>
                      <a:pt x="1507" y="1662"/>
                    </a:lnTo>
                    <a:lnTo>
                      <a:pt x="1506" y="1655"/>
                    </a:lnTo>
                    <a:lnTo>
                      <a:pt x="1505" y="1648"/>
                    </a:lnTo>
                    <a:lnTo>
                      <a:pt x="1505" y="1640"/>
                    </a:lnTo>
                    <a:lnTo>
                      <a:pt x="1505" y="1633"/>
                    </a:lnTo>
                    <a:lnTo>
                      <a:pt x="1506" y="1625"/>
                    </a:lnTo>
                    <a:lnTo>
                      <a:pt x="1507" y="1617"/>
                    </a:lnTo>
                    <a:lnTo>
                      <a:pt x="1509" y="1610"/>
                    </a:lnTo>
                    <a:lnTo>
                      <a:pt x="1511" y="1603"/>
                    </a:lnTo>
                    <a:lnTo>
                      <a:pt x="1509" y="1601"/>
                    </a:lnTo>
                    <a:lnTo>
                      <a:pt x="1505" y="1606"/>
                    </a:lnTo>
                    <a:lnTo>
                      <a:pt x="1500" y="1610"/>
                    </a:lnTo>
                    <a:lnTo>
                      <a:pt x="1495" y="1615"/>
                    </a:lnTo>
                    <a:lnTo>
                      <a:pt x="1491" y="1620"/>
                    </a:lnTo>
                    <a:lnTo>
                      <a:pt x="1487" y="1626"/>
                    </a:lnTo>
                    <a:lnTo>
                      <a:pt x="1483" y="1631"/>
                    </a:lnTo>
                    <a:lnTo>
                      <a:pt x="1478" y="1636"/>
                    </a:lnTo>
                    <a:lnTo>
                      <a:pt x="1475" y="1641"/>
                    </a:lnTo>
                    <a:lnTo>
                      <a:pt x="1472" y="1640"/>
                    </a:lnTo>
                    <a:lnTo>
                      <a:pt x="1470" y="1638"/>
                    </a:lnTo>
                    <a:lnTo>
                      <a:pt x="1469" y="1636"/>
                    </a:lnTo>
                    <a:lnTo>
                      <a:pt x="1468" y="1634"/>
                    </a:lnTo>
                    <a:lnTo>
                      <a:pt x="1467" y="1629"/>
                    </a:lnTo>
                    <a:lnTo>
                      <a:pt x="1467" y="1624"/>
                    </a:lnTo>
                    <a:lnTo>
                      <a:pt x="1469" y="1617"/>
                    </a:lnTo>
                    <a:lnTo>
                      <a:pt x="1470" y="1611"/>
                    </a:lnTo>
                    <a:lnTo>
                      <a:pt x="1471" y="1604"/>
                    </a:lnTo>
                    <a:lnTo>
                      <a:pt x="1471" y="1599"/>
                    </a:lnTo>
                    <a:lnTo>
                      <a:pt x="1464" y="1602"/>
                    </a:lnTo>
                    <a:lnTo>
                      <a:pt x="1457" y="1608"/>
                    </a:lnTo>
                    <a:lnTo>
                      <a:pt x="1451" y="1613"/>
                    </a:lnTo>
                    <a:lnTo>
                      <a:pt x="1446" y="1619"/>
                    </a:lnTo>
                    <a:lnTo>
                      <a:pt x="1440" y="1627"/>
                    </a:lnTo>
                    <a:lnTo>
                      <a:pt x="1436" y="1634"/>
                    </a:lnTo>
                    <a:lnTo>
                      <a:pt x="1432" y="1641"/>
                    </a:lnTo>
                    <a:lnTo>
                      <a:pt x="1429" y="1650"/>
                    </a:lnTo>
                    <a:lnTo>
                      <a:pt x="1420" y="1655"/>
                    </a:lnTo>
                    <a:lnTo>
                      <a:pt x="1417" y="1653"/>
                    </a:lnTo>
                    <a:lnTo>
                      <a:pt x="1415" y="1650"/>
                    </a:lnTo>
                    <a:lnTo>
                      <a:pt x="1414" y="1647"/>
                    </a:lnTo>
                    <a:lnTo>
                      <a:pt x="1413" y="1644"/>
                    </a:lnTo>
                    <a:lnTo>
                      <a:pt x="1413" y="1637"/>
                    </a:lnTo>
                    <a:lnTo>
                      <a:pt x="1414" y="1630"/>
                    </a:lnTo>
                    <a:lnTo>
                      <a:pt x="1416" y="1622"/>
                    </a:lnTo>
                    <a:lnTo>
                      <a:pt x="1419" y="1616"/>
                    </a:lnTo>
                    <a:lnTo>
                      <a:pt x="1420" y="1610"/>
                    </a:lnTo>
                    <a:lnTo>
                      <a:pt x="1420" y="1603"/>
                    </a:lnTo>
                    <a:lnTo>
                      <a:pt x="1421" y="1602"/>
                    </a:lnTo>
                    <a:lnTo>
                      <a:pt x="1422" y="1601"/>
                    </a:lnTo>
                    <a:lnTo>
                      <a:pt x="1422" y="1601"/>
                    </a:lnTo>
                    <a:lnTo>
                      <a:pt x="1423" y="1600"/>
                    </a:lnTo>
                    <a:lnTo>
                      <a:pt x="1424" y="1600"/>
                    </a:lnTo>
                    <a:lnTo>
                      <a:pt x="1424" y="1599"/>
                    </a:lnTo>
                    <a:lnTo>
                      <a:pt x="1424" y="1598"/>
                    </a:lnTo>
                    <a:lnTo>
                      <a:pt x="1424" y="1597"/>
                    </a:lnTo>
                    <a:lnTo>
                      <a:pt x="1422" y="1595"/>
                    </a:lnTo>
                    <a:lnTo>
                      <a:pt x="1416" y="1600"/>
                    </a:lnTo>
                    <a:lnTo>
                      <a:pt x="1411" y="1606"/>
                    </a:lnTo>
                    <a:lnTo>
                      <a:pt x="1405" y="1613"/>
                    </a:lnTo>
                    <a:lnTo>
                      <a:pt x="1400" y="1619"/>
                    </a:lnTo>
                    <a:lnTo>
                      <a:pt x="1395" y="1627"/>
                    </a:lnTo>
                    <a:lnTo>
                      <a:pt x="1389" y="1632"/>
                    </a:lnTo>
                    <a:lnTo>
                      <a:pt x="1386" y="1634"/>
                    </a:lnTo>
                    <a:lnTo>
                      <a:pt x="1382" y="1636"/>
                    </a:lnTo>
                    <a:lnTo>
                      <a:pt x="1379" y="1638"/>
                    </a:lnTo>
                    <a:lnTo>
                      <a:pt x="1375" y="1639"/>
                    </a:lnTo>
                    <a:lnTo>
                      <a:pt x="1373" y="1636"/>
                    </a:lnTo>
                    <a:lnTo>
                      <a:pt x="1372" y="1632"/>
                    </a:lnTo>
                    <a:lnTo>
                      <a:pt x="1373" y="1628"/>
                    </a:lnTo>
                    <a:lnTo>
                      <a:pt x="1374" y="1624"/>
                    </a:lnTo>
                    <a:lnTo>
                      <a:pt x="1375" y="1619"/>
                    </a:lnTo>
                    <a:lnTo>
                      <a:pt x="1376" y="1615"/>
                    </a:lnTo>
                    <a:lnTo>
                      <a:pt x="1377" y="1611"/>
                    </a:lnTo>
                    <a:lnTo>
                      <a:pt x="1376" y="1608"/>
                    </a:lnTo>
                    <a:lnTo>
                      <a:pt x="1369" y="1611"/>
                    </a:lnTo>
                    <a:lnTo>
                      <a:pt x="1364" y="1615"/>
                    </a:lnTo>
                    <a:lnTo>
                      <a:pt x="1359" y="1620"/>
                    </a:lnTo>
                    <a:lnTo>
                      <a:pt x="1354" y="1626"/>
                    </a:lnTo>
                    <a:lnTo>
                      <a:pt x="1349" y="1631"/>
                    </a:lnTo>
                    <a:lnTo>
                      <a:pt x="1345" y="1637"/>
                    </a:lnTo>
                    <a:lnTo>
                      <a:pt x="1341" y="1643"/>
                    </a:lnTo>
                    <a:lnTo>
                      <a:pt x="1336" y="1647"/>
                    </a:lnTo>
                    <a:lnTo>
                      <a:pt x="1334" y="1648"/>
                    </a:lnTo>
                    <a:lnTo>
                      <a:pt x="1332" y="1648"/>
                    </a:lnTo>
                    <a:lnTo>
                      <a:pt x="1330" y="1648"/>
                    </a:lnTo>
                    <a:lnTo>
                      <a:pt x="1329" y="1647"/>
                    </a:lnTo>
                    <a:lnTo>
                      <a:pt x="1327" y="1647"/>
                    </a:lnTo>
                    <a:lnTo>
                      <a:pt x="1326" y="1646"/>
                    </a:lnTo>
                    <a:lnTo>
                      <a:pt x="1325" y="1645"/>
                    </a:lnTo>
                    <a:lnTo>
                      <a:pt x="1324" y="1644"/>
                    </a:lnTo>
                    <a:lnTo>
                      <a:pt x="1326" y="1638"/>
                    </a:lnTo>
                    <a:lnTo>
                      <a:pt x="1327" y="1634"/>
                    </a:lnTo>
                    <a:lnTo>
                      <a:pt x="1328" y="1629"/>
                    </a:lnTo>
                    <a:lnTo>
                      <a:pt x="1327" y="1625"/>
                    </a:lnTo>
                    <a:lnTo>
                      <a:pt x="1326" y="1620"/>
                    </a:lnTo>
                    <a:lnTo>
                      <a:pt x="1324" y="1617"/>
                    </a:lnTo>
                    <a:lnTo>
                      <a:pt x="1321" y="1614"/>
                    </a:lnTo>
                    <a:lnTo>
                      <a:pt x="1315" y="1611"/>
                    </a:lnTo>
                    <a:lnTo>
                      <a:pt x="1307" y="1617"/>
                    </a:lnTo>
                    <a:lnTo>
                      <a:pt x="1300" y="1626"/>
                    </a:lnTo>
                    <a:lnTo>
                      <a:pt x="1291" y="1633"/>
                    </a:lnTo>
                    <a:lnTo>
                      <a:pt x="1284" y="1643"/>
                    </a:lnTo>
                    <a:lnTo>
                      <a:pt x="1275" y="1651"/>
                    </a:lnTo>
                    <a:lnTo>
                      <a:pt x="1268" y="1659"/>
                    </a:lnTo>
                    <a:lnTo>
                      <a:pt x="1259" y="1667"/>
                    </a:lnTo>
                    <a:lnTo>
                      <a:pt x="1251" y="1673"/>
                    </a:lnTo>
                    <a:lnTo>
                      <a:pt x="1249" y="1671"/>
                    </a:lnTo>
                    <a:lnTo>
                      <a:pt x="1248" y="1669"/>
                    </a:lnTo>
                    <a:lnTo>
                      <a:pt x="1247" y="1667"/>
                    </a:lnTo>
                    <a:lnTo>
                      <a:pt x="1248" y="1664"/>
                    </a:lnTo>
                    <a:lnTo>
                      <a:pt x="1249" y="1662"/>
                    </a:lnTo>
                    <a:lnTo>
                      <a:pt x="1249" y="1658"/>
                    </a:lnTo>
                    <a:lnTo>
                      <a:pt x="1249" y="1656"/>
                    </a:lnTo>
                    <a:lnTo>
                      <a:pt x="1248" y="1653"/>
                    </a:lnTo>
                    <a:lnTo>
                      <a:pt x="1241" y="1657"/>
                    </a:lnTo>
                    <a:lnTo>
                      <a:pt x="1235" y="1663"/>
                    </a:lnTo>
                    <a:lnTo>
                      <a:pt x="1229" y="1668"/>
                    </a:lnTo>
                    <a:lnTo>
                      <a:pt x="1222" y="1674"/>
                    </a:lnTo>
                    <a:lnTo>
                      <a:pt x="1216" y="1681"/>
                    </a:lnTo>
                    <a:lnTo>
                      <a:pt x="1211" y="1687"/>
                    </a:lnTo>
                    <a:lnTo>
                      <a:pt x="1205" y="1693"/>
                    </a:lnTo>
                    <a:lnTo>
                      <a:pt x="1200" y="1700"/>
                    </a:lnTo>
                    <a:lnTo>
                      <a:pt x="1199" y="1698"/>
                    </a:lnTo>
                    <a:lnTo>
                      <a:pt x="1196" y="1700"/>
                    </a:lnTo>
                    <a:lnTo>
                      <a:pt x="1194" y="1701"/>
                    </a:lnTo>
                    <a:lnTo>
                      <a:pt x="1193" y="1703"/>
                    </a:lnTo>
                    <a:lnTo>
                      <a:pt x="1191" y="1706"/>
                    </a:lnTo>
                    <a:lnTo>
                      <a:pt x="1188" y="1711"/>
                    </a:lnTo>
                    <a:lnTo>
                      <a:pt x="1186" y="1718"/>
                    </a:lnTo>
                    <a:lnTo>
                      <a:pt x="1183" y="1723"/>
                    </a:lnTo>
                    <a:lnTo>
                      <a:pt x="1180" y="1726"/>
                    </a:lnTo>
                    <a:lnTo>
                      <a:pt x="1179" y="1726"/>
                    </a:lnTo>
                    <a:lnTo>
                      <a:pt x="1176" y="1727"/>
                    </a:lnTo>
                    <a:lnTo>
                      <a:pt x="1174" y="1726"/>
                    </a:lnTo>
                    <a:lnTo>
                      <a:pt x="1170" y="1724"/>
                    </a:lnTo>
                    <a:lnTo>
                      <a:pt x="1166" y="1730"/>
                    </a:lnTo>
                    <a:lnTo>
                      <a:pt x="1161" y="1737"/>
                    </a:lnTo>
                    <a:lnTo>
                      <a:pt x="1155" y="1742"/>
                    </a:lnTo>
                    <a:lnTo>
                      <a:pt x="1149" y="1748"/>
                    </a:lnTo>
                    <a:lnTo>
                      <a:pt x="1144" y="1755"/>
                    </a:lnTo>
                    <a:lnTo>
                      <a:pt x="1139" y="1761"/>
                    </a:lnTo>
                    <a:lnTo>
                      <a:pt x="1134" y="1768"/>
                    </a:lnTo>
                    <a:lnTo>
                      <a:pt x="1132" y="1777"/>
                    </a:lnTo>
                    <a:lnTo>
                      <a:pt x="1127" y="1777"/>
                    </a:lnTo>
                    <a:lnTo>
                      <a:pt x="1125" y="1776"/>
                    </a:lnTo>
                    <a:lnTo>
                      <a:pt x="1123" y="1774"/>
                    </a:lnTo>
                    <a:lnTo>
                      <a:pt x="1123" y="1771"/>
                    </a:lnTo>
                    <a:lnTo>
                      <a:pt x="1122" y="1767"/>
                    </a:lnTo>
                    <a:lnTo>
                      <a:pt x="1122" y="1764"/>
                    </a:lnTo>
                    <a:lnTo>
                      <a:pt x="1121" y="1761"/>
                    </a:lnTo>
                    <a:lnTo>
                      <a:pt x="1118" y="1759"/>
                    </a:lnTo>
                    <a:lnTo>
                      <a:pt x="1115" y="1764"/>
                    </a:lnTo>
                    <a:lnTo>
                      <a:pt x="1112" y="1769"/>
                    </a:lnTo>
                    <a:lnTo>
                      <a:pt x="1109" y="1776"/>
                    </a:lnTo>
                    <a:lnTo>
                      <a:pt x="1105" y="1781"/>
                    </a:lnTo>
                    <a:lnTo>
                      <a:pt x="1102" y="1786"/>
                    </a:lnTo>
                    <a:lnTo>
                      <a:pt x="1097" y="1792"/>
                    </a:lnTo>
                    <a:lnTo>
                      <a:pt x="1093" y="1797"/>
                    </a:lnTo>
                    <a:lnTo>
                      <a:pt x="1090" y="1802"/>
                    </a:lnTo>
                    <a:lnTo>
                      <a:pt x="1088" y="1803"/>
                    </a:lnTo>
                    <a:lnTo>
                      <a:pt x="1086" y="1803"/>
                    </a:lnTo>
                    <a:lnTo>
                      <a:pt x="1084" y="1802"/>
                    </a:lnTo>
                    <a:lnTo>
                      <a:pt x="1083" y="1802"/>
                    </a:lnTo>
                    <a:lnTo>
                      <a:pt x="1082" y="1799"/>
                    </a:lnTo>
                    <a:lnTo>
                      <a:pt x="1079" y="1796"/>
                    </a:lnTo>
                    <a:lnTo>
                      <a:pt x="1078" y="1794"/>
                    </a:lnTo>
                    <a:lnTo>
                      <a:pt x="1076" y="1792"/>
                    </a:lnTo>
                    <a:lnTo>
                      <a:pt x="1074" y="1792"/>
                    </a:lnTo>
                    <a:lnTo>
                      <a:pt x="1070" y="1795"/>
                    </a:lnTo>
                    <a:lnTo>
                      <a:pt x="1065" y="1797"/>
                    </a:lnTo>
                    <a:lnTo>
                      <a:pt x="1060" y="1800"/>
                    </a:lnTo>
                    <a:lnTo>
                      <a:pt x="1056" y="1804"/>
                    </a:lnTo>
                    <a:lnTo>
                      <a:pt x="1052" y="1808"/>
                    </a:lnTo>
                    <a:lnTo>
                      <a:pt x="1048" y="1811"/>
                    </a:lnTo>
                    <a:lnTo>
                      <a:pt x="1044" y="1814"/>
                    </a:lnTo>
                    <a:lnTo>
                      <a:pt x="1038" y="1817"/>
                    </a:lnTo>
                    <a:lnTo>
                      <a:pt x="1033" y="1819"/>
                    </a:lnTo>
                    <a:lnTo>
                      <a:pt x="1031" y="1816"/>
                    </a:lnTo>
                    <a:lnTo>
                      <a:pt x="1028" y="1815"/>
                    </a:lnTo>
                    <a:lnTo>
                      <a:pt x="1026" y="1814"/>
                    </a:lnTo>
                    <a:lnTo>
                      <a:pt x="1022" y="1814"/>
                    </a:lnTo>
                    <a:lnTo>
                      <a:pt x="1016" y="1815"/>
                    </a:lnTo>
                    <a:lnTo>
                      <a:pt x="1009" y="1817"/>
                    </a:lnTo>
                    <a:lnTo>
                      <a:pt x="1002" y="1819"/>
                    </a:lnTo>
                    <a:lnTo>
                      <a:pt x="995" y="1822"/>
                    </a:lnTo>
                    <a:lnTo>
                      <a:pt x="987" y="1823"/>
                    </a:lnTo>
                    <a:lnTo>
                      <a:pt x="981" y="1822"/>
                    </a:lnTo>
                    <a:lnTo>
                      <a:pt x="974" y="1826"/>
                    </a:lnTo>
                    <a:lnTo>
                      <a:pt x="966" y="1830"/>
                    </a:lnTo>
                    <a:lnTo>
                      <a:pt x="959" y="1835"/>
                    </a:lnTo>
                    <a:lnTo>
                      <a:pt x="951" y="1840"/>
                    </a:lnTo>
                    <a:lnTo>
                      <a:pt x="944" y="1845"/>
                    </a:lnTo>
                    <a:lnTo>
                      <a:pt x="938" y="1847"/>
                    </a:lnTo>
                    <a:lnTo>
                      <a:pt x="933" y="1847"/>
                    </a:lnTo>
                    <a:lnTo>
                      <a:pt x="930" y="1847"/>
                    </a:lnTo>
                    <a:lnTo>
                      <a:pt x="926" y="1846"/>
                    </a:lnTo>
                    <a:lnTo>
                      <a:pt x="922" y="1844"/>
                    </a:lnTo>
                    <a:lnTo>
                      <a:pt x="915" y="1848"/>
                    </a:lnTo>
                    <a:lnTo>
                      <a:pt x="908" y="1851"/>
                    </a:lnTo>
                    <a:lnTo>
                      <a:pt x="901" y="1853"/>
                    </a:lnTo>
                    <a:lnTo>
                      <a:pt x="892" y="1854"/>
                    </a:lnTo>
                    <a:lnTo>
                      <a:pt x="885" y="1856"/>
                    </a:lnTo>
                    <a:lnTo>
                      <a:pt x="877" y="1859"/>
                    </a:lnTo>
                    <a:lnTo>
                      <a:pt x="870" y="1863"/>
                    </a:lnTo>
                    <a:lnTo>
                      <a:pt x="864" y="1869"/>
                    </a:lnTo>
                    <a:lnTo>
                      <a:pt x="857" y="1872"/>
                    </a:lnTo>
                    <a:lnTo>
                      <a:pt x="851" y="1875"/>
                    </a:lnTo>
                    <a:lnTo>
                      <a:pt x="845" y="1879"/>
                    </a:lnTo>
                    <a:lnTo>
                      <a:pt x="838" y="1883"/>
                    </a:lnTo>
                    <a:lnTo>
                      <a:pt x="833" y="1887"/>
                    </a:lnTo>
                    <a:lnTo>
                      <a:pt x="826" y="1889"/>
                    </a:lnTo>
                    <a:lnTo>
                      <a:pt x="819" y="1891"/>
                    </a:lnTo>
                    <a:lnTo>
                      <a:pt x="812" y="1891"/>
                    </a:lnTo>
                    <a:lnTo>
                      <a:pt x="811" y="1884"/>
                    </a:lnTo>
                    <a:lnTo>
                      <a:pt x="811" y="1876"/>
                    </a:lnTo>
                    <a:lnTo>
                      <a:pt x="812" y="1869"/>
                    </a:lnTo>
                    <a:lnTo>
                      <a:pt x="813" y="1860"/>
                    </a:lnTo>
                    <a:lnTo>
                      <a:pt x="815" y="1853"/>
                    </a:lnTo>
                    <a:lnTo>
                      <a:pt x="816" y="1846"/>
                    </a:lnTo>
                    <a:lnTo>
                      <a:pt x="817" y="1838"/>
                    </a:lnTo>
                    <a:lnTo>
                      <a:pt x="817" y="1831"/>
                    </a:lnTo>
                    <a:lnTo>
                      <a:pt x="811" y="1835"/>
                    </a:lnTo>
                    <a:lnTo>
                      <a:pt x="803" y="1841"/>
                    </a:lnTo>
                    <a:lnTo>
                      <a:pt x="797" y="1847"/>
                    </a:lnTo>
                    <a:lnTo>
                      <a:pt x="791" y="1853"/>
                    </a:lnTo>
                    <a:lnTo>
                      <a:pt x="784" y="1857"/>
                    </a:lnTo>
                    <a:lnTo>
                      <a:pt x="777" y="1860"/>
                    </a:lnTo>
                    <a:lnTo>
                      <a:pt x="774" y="1861"/>
                    </a:lnTo>
                    <a:lnTo>
                      <a:pt x="769" y="1861"/>
                    </a:lnTo>
                    <a:lnTo>
                      <a:pt x="765" y="1860"/>
                    </a:lnTo>
                    <a:lnTo>
                      <a:pt x="761" y="1859"/>
                    </a:lnTo>
                    <a:lnTo>
                      <a:pt x="761" y="1856"/>
                    </a:lnTo>
                    <a:lnTo>
                      <a:pt x="762" y="1853"/>
                    </a:lnTo>
                    <a:lnTo>
                      <a:pt x="763" y="1850"/>
                    </a:lnTo>
                    <a:lnTo>
                      <a:pt x="764" y="1848"/>
                    </a:lnTo>
                    <a:lnTo>
                      <a:pt x="765" y="1845"/>
                    </a:lnTo>
                    <a:lnTo>
                      <a:pt x="766" y="1842"/>
                    </a:lnTo>
                    <a:lnTo>
                      <a:pt x="766" y="1839"/>
                    </a:lnTo>
                    <a:lnTo>
                      <a:pt x="765" y="1837"/>
                    </a:lnTo>
                    <a:lnTo>
                      <a:pt x="756" y="1840"/>
                    </a:lnTo>
                    <a:lnTo>
                      <a:pt x="746" y="1846"/>
                    </a:lnTo>
                    <a:lnTo>
                      <a:pt x="738" y="1852"/>
                    </a:lnTo>
                    <a:lnTo>
                      <a:pt x="728" y="1857"/>
                    </a:lnTo>
                    <a:lnTo>
                      <a:pt x="720" y="1864"/>
                    </a:lnTo>
                    <a:lnTo>
                      <a:pt x="710" y="1868"/>
                    </a:lnTo>
                    <a:lnTo>
                      <a:pt x="701" y="1871"/>
                    </a:lnTo>
                    <a:lnTo>
                      <a:pt x="690" y="1873"/>
                    </a:lnTo>
                    <a:lnTo>
                      <a:pt x="688" y="1870"/>
                    </a:lnTo>
                    <a:lnTo>
                      <a:pt x="686" y="1869"/>
                    </a:lnTo>
                    <a:lnTo>
                      <a:pt x="683" y="1868"/>
                    </a:lnTo>
                    <a:lnTo>
                      <a:pt x="678" y="1867"/>
                    </a:lnTo>
                    <a:lnTo>
                      <a:pt x="671" y="1868"/>
                    </a:lnTo>
                    <a:lnTo>
                      <a:pt x="663" y="1868"/>
                    </a:lnTo>
                    <a:lnTo>
                      <a:pt x="658" y="1869"/>
                    </a:lnTo>
                    <a:lnTo>
                      <a:pt x="655" y="1869"/>
                    </a:lnTo>
                    <a:lnTo>
                      <a:pt x="652" y="1868"/>
                    </a:lnTo>
                    <a:lnTo>
                      <a:pt x="650" y="1867"/>
                    </a:lnTo>
                    <a:lnTo>
                      <a:pt x="648" y="1865"/>
                    </a:lnTo>
                    <a:lnTo>
                      <a:pt x="647" y="1861"/>
                    </a:lnTo>
                    <a:lnTo>
                      <a:pt x="647" y="1857"/>
                    </a:lnTo>
                    <a:lnTo>
                      <a:pt x="648" y="1851"/>
                    </a:lnTo>
                    <a:lnTo>
                      <a:pt x="650" y="1849"/>
                    </a:lnTo>
                    <a:lnTo>
                      <a:pt x="644" y="1850"/>
                    </a:lnTo>
                    <a:lnTo>
                      <a:pt x="636" y="1852"/>
                    </a:lnTo>
                    <a:lnTo>
                      <a:pt x="629" y="1854"/>
                    </a:lnTo>
                    <a:lnTo>
                      <a:pt x="620" y="1856"/>
                    </a:lnTo>
                    <a:lnTo>
                      <a:pt x="613" y="1857"/>
                    </a:lnTo>
                    <a:lnTo>
                      <a:pt x="605" y="1857"/>
                    </a:lnTo>
                    <a:lnTo>
                      <a:pt x="597" y="1856"/>
                    </a:lnTo>
                    <a:lnTo>
                      <a:pt x="590" y="1853"/>
                    </a:lnTo>
                    <a:lnTo>
                      <a:pt x="584" y="1854"/>
                    </a:lnTo>
                    <a:lnTo>
                      <a:pt x="578" y="1855"/>
                    </a:lnTo>
                    <a:lnTo>
                      <a:pt x="571" y="1855"/>
                    </a:lnTo>
                    <a:lnTo>
                      <a:pt x="564" y="1856"/>
                    </a:lnTo>
                    <a:lnTo>
                      <a:pt x="557" y="1856"/>
                    </a:lnTo>
                    <a:lnTo>
                      <a:pt x="549" y="1856"/>
                    </a:lnTo>
                    <a:lnTo>
                      <a:pt x="543" y="1855"/>
                    </a:lnTo>
                    <a:lnTo>
                      <a:pt x="537" y="1853"/>
                    </a:lnTo>
                    <a:lnTo>
                      <a:pt x="541" y="1844"/>
                    </a:lnTo>
                    <a:lnTo>
                      <a:pt x="538" y="1842"/>
                    </a:lnTo>
                    <a:lnTo>
                      <a:pt x="534" y="1842"/>
                    </a:lnTo>
                    <a:lnTo>
                      <a:pt x="530" y="1844"/>
                    </a:lnTo>
                    <a:lnTo>
                      <a:pt x="526" y="1845"/>
                    </a:lnTo>
                    <a:lnTo>
                      <a:pt x="523" y="1845"/>
                    </a:lnTo>
                    <a:lnTo>
                      <a:pt x="519" y="1846"/>
                    </a:lnTo>
                    <a:lnTo>
                      <a:pt x="514" y="1845"/>
                    </a:lnTo>
                    <a:lnTo>
                      <a:pt x="511" y="1844"/>
                    </a:lnTo>
                    <a:lnTo>
                      <a:pt x="511" y="1835"/>
                    </a:lnTo>
                    <a:lnTo>
                      <a:pt x="514" y="1828"/>
                    </a:lnTo>
                    <a:lnTo>
                      <a:pt x="519" y="1820"/>
                    </a:lnTo>
                    <a:lnTo>
                      <a:pt x="523" y="1814"/>
                    </a:lnTo>
                    <a:lnTo>
                      <a:pt x="527" y="1808"/>
                    </a:lnTo>
                    <a:lnTo>
                      <a:pt x="531" y="1801"/>
                    </a:lnTo>
                    <a:lnTo>
                      <a:pt x="536" y="1794"/>
                    </a:lnTo>
                    <a:lnTo>
                      <a:pt x="537" y="1786"/>
                    </a:lnTo>
                    <a:lnTo>
                      <a:pt x="540" y="1784"/>
                    </a:lnTo>
                    <a:lnTo>
                      <a:pt x="542" y="1782"/>
                    </a:lnTo>
                    <a:lnTo>
                      <a:pt x="543" y="1780"/>
                    </a:lnTo>
                    <a:lnTo>
                      <a:pt x="545" y="1778"/>
                    </a:lnTo>
                    <a:lnTo>
                      <a:pt x="546" y="1776"/>
                    </a:lnTo>
                    <a:lnTo>
                      <a:pt x="548" y="1773"/>
                    </a:lnTo>
                    <a:lnTo>
                      <a:pt x="549" y="1771"/>
                    </a:lnTo>
                    <a:lnTo>
                      <a:pt x="551" y="1768"/>
                    </a:lnTo>
                    <a:lnTo>
                      <a:pt x="541" y="1764"/>
                    </a:lnTo>
                    <a:lnTo>
                      <a:pt x="545" y="1758"/>
                    </a:lnTo>
                    <a:lnTo>
                      <a:pt x="550" y="1754"/>
                    </a:lnTo>
                    <a:lnTo>
                      <a:pt x="557" y="1749"/>
                    </a:lnTo>
                    <a:lnTo>
                      <a:pt x="564" y="1745"/>
                    </a:lnTo>
                    <a:lnTo>
                      <a:pt x="571" y="1742"/>
                    </a:lnTo>
                    <a:lnTo>
                      <a:pt x="576" y="1738"/>
                    </a:lnTo>
                    <a:lnTo>
                      <a:pt x="578" y="1735"/>
                    </a:lnTo>
                    <a:lnTo>
                      <a:pt x="580" y="1731"/>
                    </a:lnTo>
                    <a:lnTo>
                      <a:pt x="582" y="1728"/>
                    </a:lnTo>
                    <a:lnTo>
                      <a:pt x="583" y="1724"/>
                    </a:lnTo>
                    <a:lnTo>
                      <a:pt x="587" y="1722"/>
                    </a:lnTo>
                    <a:lnTo>
                      <a:pt x="592" y="1720"/>
                    </a:lnTo>
                    <a:lnTo>
                      <a:pt x="596" y="1719"/>
                    </a:lnTo>
                    <a:lnTo>
                      <a:pt x="600" y="1717"/>
                    </a:lnTo>
                    <a:lnTo>
                      <a:pt x="604" y="1714"/>
                    </a:lnTo>
                    <a:lnTo>
                      <a:pt x="609" y="1712"/>
                    </a:lnTo>
                    <a:lnTo>
                      <a:pt x="612" y="1709"/>
                    </a:lnTo>
                    <a:lnTo>
                      <a:pt x="616" y="1706"/>
                    </a:lnTo>
                    <a:lnTo>
                      <a:pt x="622" y="1704"/>
                    </a:lnTo>
                    <a:lnTo>
                      <a:pt x="629" y="1702"/>
                    </a:lnTo>
                    <a:lnTo>
                      <a:pt x="636" y="1700"/>
                    </a:lnTo>
                    <a:lnTo>
                      <a:pt x="642" y="1696"/>
                    </a:lnTo>
                    <a:lnTo>
                      <a:pt x="649" y="1694"/>
                    </a:lnTo>
                    <a:lnTo>
                      <a:pt x="655" y="1692"/>
                    </a:lnTo>
                    <a:lnTo>
                      <a:pt x="662" y="1689"/>
                    </a:lnTo>
                    <a:lnTo>
                      <a:pt x="668" y="1686"/>
                    </a:lnTo>
                    <a:lnTo>
                      <a:pt x="667" y="1684"/>
                    </a:lnTo>
                    <a:lnTo>
                      <a:pt x="664" y="1683"/>
                    </a:lnTo>
                    <a:lnTo>
                      <a:pt x="662" y="1682"/>
                    </a:lnTo>
                    <a:lnTo>
                      <a:pt x="658" y="1681"/>
                    </a:lnTo>
                    <a:lnTo>
                      <a:pt x="655" y="1681"/>
                    </a:lnTo>
                    <a:lnTo>
                      <a:pt x="652" y="1679"/>
                    </a:lnTo>
                    <a:lnTo>
                      <a:pt x="651" y="1676"/>
                    </a:lnTo>
                    <a:lnTo>
                      <a:pt x="650" y="1673"/>
                    </a:lnTo>
                    <a:lnTo>
                      <a:pt x="681" y="1653"/>
                    </a:lnTo>
                    <a:lnTo>
                      <a:pt x="677" y="1651"/>
                    </a:lnTo>
                    <a:lnTo>
                      <a:pt x="675" y="1650"/>
                    </a:lnTo>
                    <a:lnTo>
                      <a:pt x="672" y="1648"/>
                    </a:lnTo>
                    <a:lnTo>
                      <a:pt x="669" y="1646"/>
                    </a:lnTo>
                    <a:lnTo>
                      <a:pt x="666" y="1645"/>
                    </a:lnTo>
                    <a:lnTo>
                      <a:pt x="663" y="1643"/>
                    </a:lnTo>
                    <a:lnTo>
                      <a:pt x="659" y="1641"/>
                    </a:lnTo>
                    <a:lnTo>
                      <a:pt x="656" y="1639"/>
                    </a:lnTo>
                    <a:lnTo>
                      <a:pt x="666" y="1627"/>
                    </a:lnTo>
                    <a:lnTo>
                      <a:pt x="676" y="1615"/>
                    </a:lnTo>
                    <a:lnTo>
                      <a:pt x="688" y="1603"/>
                    </a:lnTo>
                    <a:lnTo>
                      <a:pt x="699" y="1593"/>
                    </a:lnTo>
                    <a:lnTo>
                      <a:pt x="710" y="1582"/>
                    </a:lnTo>
                    <a:lnTo>
                      <a:pt x="722" y="1572"/>
                    </a:lnTo>
                    <a:lnTo>
                      <a:pt x="733" y="1561"/>
                    </a:lnTo>
                    <a:lnTo>
                      <a:pt x="745" y="1551"/>
                    </a:lnTo>
                    <a:lnTo>
                      <a:pt x="742" y="1551"/>
                    </a:lnTo>
                    <a:lnTo>
                      <a:pt x="739" y="1551"/>
                    </a:lnTo>
                    <a:lnTo>
                      <a:pt x="736" y="1551"/>
                    </a:lnTo>
                    <a:lnTo>
                      <a:pt x="731" y="1551"/>
                    </a:lnTo>
                    <a:lnTo>
                      <a:pt x="728" y="1549"/>
                    </a:lnTo>
                    <a:lnTo>
                      <a:pt x="726" y="1547"/>
                    </a:lnTo>
                    <a:lnTo>
                      <a:pt x="724" y="1544"/>
                    </a:lnTo>
                    <a:lnTo>
                      <a:pt x="724" y="1541"/>
                    </a:lnTo>
                    <a:lnTo>
                      <a:pt x="723" y="1541"/>
                    </a:lnTo>
                    <a:lnTo>
                      <a:pt x="721" y="1542"/>
                    </a:lnTo>
                    <a:lnTo>
                      <a:pt x="720" y="1543"/>
                    </a:lnTo>
                    <a:lnTo>
                      <a:pt x="718" y="1544"/>
                    </a:lnTo>
                    <a:lnTo>
                      <a:pt x="717" y="1544"/>
                    </a:lnTo>
                    <a:lnTo>
                      <a:pt x="714" y="1545"/>
                    </a:lnTo>
                    <a:lnTo>
                      <a:pt x="712" y="1545"/>
                    </a:lnTo>
                    <a:lnTo>
                      <a:pt x="710" y="1544"/>
                    </a:lnTo>
                    <a:lnTo>
                      <a:pt x="710" y="1538"/>
                    </a:lnTo>
                    <a:lnTo>
                      <a:pt x="712" y="1531"/>
                    </a:lnTo>
                    <a:lnTo>
                      <a:pt x="715" y="1526"/>
                    </a:lnTo>
                    <a:lnTo>
                      <a:pt x="719" y="1520"/>
                    </a:lnTo>
                    <a:lnTo>
                      <a:pt x="723" y="1514"/>
                    </a:lnTo>
                    <a:lnTo>
                      <a:pt x="727" y="1508"/>
                    </a:lnTo>
                    <a:lnTo>
                      <a:pt x="731" y="1502"/>
                    </a:lnTo>
                    <a:lnTo>
                      <a:pt x="735" y="1496"/>
                    </a:lnTo>
                    <a:lnTo>
                      <a:pt x="727" y="1490"/>
                    </a:lnTo>
                    <a:lnTo>
                      <a:pt x="730" y="1483"/>
                    </a:lnTo>
                    <a:lnTo>
                      <a:pt x="733" y="1475"/>
                    </a:lnTo>
                    <a:lnTo>
                      <a:pt x="738" y="1468"/>
                    </a:lnTo>
                    <a:lnTo>
                      <a:pt x="742" y="1461"/>
                    </a:lnTo>
                    <a:lnTo>
                      <a:pt x="745" y="1453"/>
                    </a:lnTo>
                    <a:lnTo>
                      <a:pt x="749" y="1446"/>
                    </a:lnTo>
                    <a:lnTo>
                      <a:pt x="751" y="1438"/>
                    </a:lnTo>
                    <a:lnTo>
                      <a:pt x="753" y="1430"/>
                    </a:lnTo>
                    <a:lnTo>
                      <a:pt x="743" y="1424"/>
                    </a:lnTo>
                    <a:lnTo>
                      <a:pt x="745" y="1416"/>
                    </a:lnTo>
                    <a:lnTo>
                      <a:pt x="748" y="1410"/>
                    </a:lnTo>
                    <a:lnTo>
                      <a:pt x="753" y="1402"/>
                    </a:lnTo>
                    <a:lnTo>
                      <a:pt x="756" y="1396"/>
                    </a:lnTo>
                    <a:lnTo>
                      <a:pt x="758" y="1389"/>
                    </a:lnTo>
                    <a:lnTo>
                      <a:pt x="760" y="1381"/>
                    </a:lnTo>
                    <a:lnTo>
                      <a:pt x="761" y="1374"/>
                    </a:lnTo>
                    <a:lnTo>
                      <a:pt x="761" y="1365"/>
                    </a:lnTo>
                    <a:lnTo>
                      <a:pt x="759" y="1364"/>
                    </a:lnTo>
                    <a:lnTo>
                      <a:pt x="757" y="1365"/>
                    </a:lnTo>
                    <a:lnTo>
                      <a:pt x="754" y="1365"/>
                    </a:lnTo>
                    <a:lnTo>
                      <a:pt x="751" y="1365"/>
                    </a:lnTo>
                    <a:lnTo>
                      <a:pt x="748" y="1365"/>
                    </a:lnTo>
                    <a:lnTo>
                      <a:pt x="746" y="1365"/>
                    </a:lnTo>
                    <a:lnTo>
                      <a:pt x="743" y="1364"/>
                    </a:lnTo>
                    <a:lnTo>
                      <a:pt x="741" y="1363"/>
                    </a:lnTo>
                    <a:lnTo>
                      <a:pt x="741" y="1355"/>
                    </a:lnTo>
                    <a:lnTo>
                      <a:pt x="741" y="1346"/>
                    </a:lnTo>
                    <a:lnTo>
                      <a:pt x="739" y="1338"/>
                    </a:lnTo>
                    <a:lnTo>
                      <a:pt x="738" y="1331"/>
                    </a:lnTo>
                    <a:lnTo>
                      <a:pt x="733" y="1316"/>
                    </a:lnTo>
                    <a:lnTo>
                      <a:pt x="727" y="1301"/>
                    </a:lnTo>
                    <a:lnTo>
                      <a:pt x="721" y="1286"/>
                    </a:lnTo>
                    <a:lnTo>
                      <a:pt x="714" y="1271"/>
                    </a:lnTo>
                    <a:lnTo>
                      <a:pt x="708" y="1257"/>
                    </a:lnTo>
                    <a:lnTo>
                      <a:pt x="703" y="1242"/>
                    </a:lnTo>
                    <a:lnTo>
                      <a:pt x="699" y="1240"/>
                    </a:lnTo>
                    <a:lnTo>
                      <a:pt x="695" y="1236"/>
                    </a:lnTo>
                    <a:lnTo>
                      <a:pt x="693" y="1233"/>
                    </a:lnTo>
                    <a:lnTo>
                      <a:pt x="692" y="1229"/>
                    </a:lnTo>
                    <a:lnTo>
                      <a:pt x="690" y="1222"/>
                    </a:lnTo>
                    <a:lnTo>
                      <a:pt x="689" y="1213"/>
                    </a:lnTo>
                    <a:lnTo>
                      <a:pt x="688" y="1205"/>
                    </a:lnTo>
                    <a:lnTo>
                      <a:pt x="687" y="1197"/>
                    </a:lnTo>
                    <a:lnTo>
                      <a:pt x="686" y="1193"/>
                    </a:lnTo>
                    <a:lnTo>
                      <a:pt x="685" y="1190"/>
                    </a:lnTo>
                    <a:lnTo>
                      <a:pt x="683" y="1187"/>
                    </a:lnTo>
                    <a:lnTo>
                      <a:pt x="681" y="1184"/>
                    </a:lnTo>
                    <a:lnTo>
                      <a:pt x="678" y="1178"/>
                    </a:lnTo>
                    <a:lnTo>
                      <a:pt x="676" y="1173"/>
                    </a:lnTo>
                    <a:lnTo>
                      <a:pt x="675" y="1168"/>
                    </a:lnTo>
                    <a:lnTo>
                      <a:pt x="674" y="1162"/>
                    </a:lnTo>
                    <a:lnTo>
                      <a:pt x="674" y="1152"/>
                    </a:lnTo>
                    <a:lnTo>
                      <a:pt x="675" y="1141"/>
                    </a:lnTo>
                    <a:lnTo>
                      <a:pt x="676" y="1131"/>
                    </a:lnTo>
                    <a:lnTo>
                      <a:pt x="676" y="1120"/>
                    </a:lnTo>
                    <a:lnTo>
                      <a:pt x="675" y="1109"/>
                    </a:lnTo>
                    <a:lnTo>
                      <a:pt x="672" y="1099"/>
                    </a:lnTo>
                    <a:lnTo>
                      <a:pt x="672" y="1094"/>
                    </a:lnTo>
                    <a:lnTo>
                      <a:pt x="672" y="1087"/>
                    </a:lnTo>
                    <a:lnTo>
                      <a:pt x="673" y="1081"/>
                    </a:lnTo>
                    <a:lnTo>
                      <a:pt x="675" y="1076"/>
                    </a:lnTo>
                    <a:lnTo>
                      <a:pt x="680" y="1064"/>
                    </a:lnTo>
                    <a:lnTo>
                      <a:pt x="685" y="1052"/>
                    </a:lnTo>
                    <a:lnTo>
                      <a:pt x="687" y="1047"/>
                    </a:lnTo>
                    <a:lnTo>
                      <a:pt x="688" y="1042"/>
                    </a:lnTo>
                    <a:lnTo>
                      <a:pt x="688" y="1037"/>
                    </a:lnTo>
                    <a:lnTo>
                      <a:pt x="688" y="1031"/>
                    </a:lnTo>
                    <a:lnTo>
                      <a:pt x="687" y="1026"/>
                    </a:lnTo>
                    <a:lnTo>
                      <a:pt x="684" y="1021"/>
                    </a:lnTo>
                    <a:lnTo>
                      <a:pt x="680" y="1016"/>
                    </a:lnTo>
                    <a:lnTo>
                      <a:pt x="674" y="1012"/>
                    </a:lnTo>
                    <a:lnTo>
                      <a:pt x="673" y="1007"/>
                    </a:lnTo>
                    <a:lnTo>
                      <a:pt x="674" y="1002"/>
                    </a:lnTo>
                    <a:lnTo>
                      <a:pt x="675" y="996"/>
                    </a:lnTo>
                    <a:lnTo>
                      <a:pt x="676" y="990"/>
                    </a:lnTo>
                    <a:lnTo>
                      <a:pt x="676" y="985"/>
                    </a:lnTo>
                    <a:lnTo>
                      <a:pt x="675" y="979"/>
                    </a:lnTo>
                    <a:lnTo>
                      <a:pt x="674" y="977"/>
                    </a:lnTo>
                    <a:lnTo>
                      <a:pt x="673" y="975"/>
                    </a:lnTo>
                    <a:lnTo>
                      <a:pt x="671" y="973"/>
                    </a:lnTo>
                    <a:lnTo>
                      <a:pt x="668" y="972"/>
                    </a:lnTo>
                    <a:lnTo>
                      <a:pt x="667" y="970"/>
                    </a:lnTo>
                    <a:lnTo>
                      <a:pt x="666" y="968"/>
                    </a:lnTo>
                    <a:lnTo>
                      <a:pt x="666" y="965"/>
                    </a:lnTo>
                    <a:lnTo>
                      <a:pt x="666" y="961"/>
                    </a:lnTo>
                    <a:lnTo>
                      <a:pt x="666" y="958"/>
                    </a:lnTo>
                    <a:lnTo>
                      <a:pt x="666" y="955"/>
                    </a:lnTo>
                    <a:lnTo>
                      <a:pt x="665" y="953"/>
                    </a:lnTo>
                    <a:lnTo>
                      <a:pt x="663" y="952"/>
                    </a:lnTo>
                    <a:lnTo>
                      <a:pt x="660" y="946"/>
                    </a:lnTo>
                    <a:lnTo>
                      <a:pt x="662" y="939"/>
                    </a:lnTo>
                    <a:lnTo>
                      <a:pt x="664" y="933"/>
                    </a:lnTo>
                    <a:lnTo>
                      <a:pt x="666" y="928"/>
                    </a:lnTo>
                    <a:lnTo>
                      <a:pt x="668" y="921"/>
                    </a:lnTo>
                    <a:lnTo>
                      <a:pt x="669" y="915"/>
                    </a:lnTo>
                    <a:lnTo>
                      <a:pt x="669" y="913"/>
                    </a:lnTo>
                    <a:lnTo>
                      <a:pt x="669" y="910"/>
                    </a:lnTo>
                    <a:lnTo>
                      <a:pt x="668" y="906"/>
                    </a:lnTo>
                    <a:lnTo>
                      <a:pt x="666" y="903"/>
                    </a:lnTo>
                    <a:lnTo>
                      <a:pt x="664" y="903"/>
                    </a:lnTo>
                    <a:lnTo>
                      <a:pt x="665" y="895"/>
                    </a:lnTo>
                    <a:lnTo>
                      <a:pt x="666" y="886"/>
                    </a:lnTo>
                    <a:lnTo>
                      <a:pt x="668" y="878"/>
                    </a:lnTo>
                    <a:lnTo>
                      <a:pt x="670" y="868"/>
                    </a:lnTo>
                    <a:lnTo>
                      <a:pt x="672" y="860"/>
                    </a:lnTo>
                    <a:lnTo>
                      <a:pt x="673" y="851"/>
                    </a:lnTo>
                    <a:lnTo>
                      <a:pt x="673" y="843"/>
                    </a:lnTo>
                    <a:lnTo>
                      <a:pt x="672" y="834"/>
                    </a:lnTo>
                    <a:lnTo>
                      <a:pt x="664" y="834"/>
                    </a:lnTo>
                    <a:lnTo>
                      <a:pt x="665" y="826"/>
                    </a:lnTo>
                    <a:lnTo>
                      <a:pt x="665" y="818"/>
                    </a:lnTo>
                    <a:lnTo>
                      <a:pt x="666" y="810"/>
                    </a:lnTo>
                    <a:lnTo>
                      <a:pt x="667" y="802"/>
                    </a:lnTo>
                    <a:lnTo>
                      <a:pt x="669" y="794"/>
                    </a:lnTo>
                    <a:lnTo>
                      <a:pt x="670" y="786"/>
                    </a:lnTo>
                    <a:lnTo>
                      <a:pt x="671" y="777"/>
                    </a:lnTo>
                    <a:lnTo>
                      <a:pt x="672" y="768"/>
                    </a:lnTo>
                    <a:lnTo>
                      <a:pt x="663" y="763"/>
                    </a:lnTo>
                    <a:lnTo>
                      <a:pt x="662" y="748"/>
                    </a:lnTo>
                    <a:lnTo>
                      <a:pt x="660" y="733"/>
                    </a:lnTo>
                    <a:lnTo>
                      <a:pt x="659" y="717"/>
                    </a:lnTo>
                    <a:lnTo>
                      <a:pt x="656" y="701"/>
                    </a:lnTo>
                    <a:lnTo>
                      <a:pt x="654" y="694"/>
                    </a:lnTo>
                    <a:lnTo>
                      <a:pt x="652" y="686"/>
                    </a:lnTo>
                    <a:lnTo>
                      <a:pt x="649" y="679"/>
                    </a:lnTo>
                    <a:lnTo>
                      <a:pt x="645" y="673"/>
                    </a:lnTo>
                    <a:lnTo>
                      <a:pt x="640" y="666"/>
                    </a:lnTo>
                    <a:lnTo>
                      <a:pt x="635" y="661"/>
                    </a:lnTo>
                    <a:lnTo>
                      <a:pt x="629" y="656"/>
                    </a:lnTo>
                    <a:lnTo>
                      <a:pt x="621" y="652"/>
                    </a:lnTo>
                    <a:lnTo>
                      <a:pt x="610" y="649"/>
                    </a:lnTo>
                    <a:lnTo>
                      <a:pt x="598" y="647"/>
                    </a:lnTo>
                    <a:lnTo>
                      <a:pt x="585" y="647"/>
                    </a:lnTo>
                    <a:lnTo>
                      <a:pt x="574" y="647"/>
                    </a:lnTo>
                    <a:lnTo>
                      <a:pt x="562" y="647"/>
                    </a:lnTo>
                    <a:lnTo>
                      <a:pt x="550" y="649"/>
                    </a:lnTo>
                    <a:lnTo>
                      <a:pt x="539" y="652"/>
                    </a:lnTo>
                    <a:lnTo>
                      <a:pt x="527" y="655"/>
                    </a:lnTo>
                    <a:lnTo>
                      <a:pt x="517" y="658"/>
                    </a:lnTo>
                    <a:lnTo>
                      <a:pt x="505" y="662"/>
                    </a:lnTo>
                    <a:lnTo>
                      <a:pt x="494" y="667"/>
                    </a:lnTo>
                    <a:lnTo>
                      <a:pt x="484" y="673"/>
                    </a:lnTo>
                    <a:lnTo>
                      <a:pt x="464" y="684"/>
                    </a:lnTo>
                    <a:lnTo>
                      <a:pt x="445" y="698"/>
                    </a:lnTo>
                    <a:lnTo>
                      <a:pt x="431" y="708"/>
                    </a:lnTo>
                    <a:lnTo>
                      <a:pt x="417" y="717"/>
                    </a:lnTo>
                    <a:lnTo>
                      <a:pt x="403" y="728"/>
                    </a:lnTo>
                    <a:lnTo>
                      <a:pt x="390" y="738"/>
                    </a:lnTo>
                    <a:lnTo>
                      <a:pt x="377" y="750"/>
                    </a:lnTo>
                    <a:lnTo>
                      <a:pt x="364" y="762"/>
                    </a:lnTo>
                    <a:lnTo>
                      <a:pt x="355" y="774"/>
                    </a:lnTo>
                    <a:lnTo>
                      <a:pt x="345" y="789"/>
                    </a:lnTo>
                    <a:lnTo>
                      <a:pt x="339" y="792"/>
                    </a:lnTo>
                    <a:lnTo>
                      <a:pt x="332" y="796"/>
                    </a:lnTo>
                    <a:lnTo>
                      <a:pt x="327" y="802"/>
                    </a:lnTo>
                    <a:lnTo>
                      <a:pt x="322" y="807"/>
                    </a:lnTo>
                    <a:lnTo>
                      <a:pt x="312" y="818"/>
                    </a:lnTo>
                    <a:lnTo>
                      <a:pt x="304" y="830"/>
                    </a:lnTo>
                    <a:lnTo>
                      <a:pt x="296" y="842"/>
                    </a:lnTo>
                    <a:lnTo>
                      <a:pt x="288" y="855"/>
                    </a:lnTo>
                    <a:lnTo>
                      <a:pt x="279" y="865"/>
                    </a:lnTo>
                    <a:lnTo>
                      <a:pt x="269" y="875"/>
                    </a:lnTo>
                    <a:lnTo>
                      <a:pt x="265" y="882"/>
                    </a:lnTo>
                    <a:lnTo>
                      <a:pt x="259" y="888"/>
                    </a:lnTo>
                    <a:lnTo>
                      <a:pt x="255" y="896"/>
                    </a:lnTo>
                    <a:lnTo>
                      <a:pt x="251" y="902"/>
                    </a:lnTo>
                    <a:lnTo>
                      <a:pt x="247" y="909"/>
                    </a:lnTo>
                    <a:lnTo>
                      <a:pt x="243" y="916"/>
                    </a:lnTo>
                    <a:lnTo>
                      <a:pt x="237" y="921"/>
                    </a:lnTo>
                    <a:lnTo>
                      <a:pt x="233" y="928"/>
                    </a:lnTo>
                    <a:lnTo>
                      <a:pt x="222" y="923"/>
                    </a:lnTo>
                    <a:lnTo>
                      <a:pt x="194" y="976"/>
                    </a:lnTo>
                    <a:lnTo>
                      <a:pt x="190" y="976"/>
                    </a:lnTo>
                    <a:lnTo>
                      <a:pt x="186" y="975"/>
                    </a:lnTo>
                    <a:lnTo>
                      <a:pt x="185" y="973"/>
                    </a:lnTo>
                    <a:lnTo>
                      <a:pt x="184" y="970"/>
                    </a:lnTo>
                    <a:lnTo>
                      <a:pt x="184" y="968"/>
                    </a:lnTo>
                    <a:lnTo>
                      <a:pt x="184" y="965"/>
                    </a:lnTo>
                    <a:lnTo>
                      <a:pt x="183" y="961"/>
                    </a:lnTo>
                    <a:lnTo>
                      <a:pt x="182" y="958"/>
                    </a:lnTo>
                    <a:lnTo>
                      <a:pt x="176" y="965"/>
                    </a:lnTo>
                    <a:lnTo>
                      <a:pt x="172" y="972"/>
                    </a:lnTo>
                    <a:lnTo>
                      <a:pt x="167" y="980"/>
                    </a:lnTo>
                    <a:lnTo>
                      <a:pt x="164" y="988"/>
                    </a:lnTo>
                    <a:lnTo>
                      <a:pt x="161" y="996"/>
                    </a:lnTo>
                    <a:lnTo>
                      <a:pt x="158" y="1005"/>
                    </a:lnTo>
                    <a:lnTo>
                      <a:pt x="155" y="1012"/>
                    </a:lnTo>
                    <a:lnTo>
                      <a:pt x="152" y="1021"/>
                    </a:lnTo>
                    <a:lnTo>
                      <a:pt x="149" y="1022"/>
                    </a:lnTo>
                    <a:lnTo>
                      <a:pt x="148" y="1023"/>
                    </a:lnTo>
                    <a:lnTo>
                      <a:pt x="146" y="1023"/>
                    </a:lnTo>
                    <a:lnTo>
                      <a:pt x="144" y="1022"/>
                    </a:lnTo>
                    <a:lnTo>
                      <a:pt x="142" y="1021"/>
                    </a:lnTo>
                    <a:lnTo>
                      <a:pt x="141" y="1019"/>
                    </a:lnTo>
                    <a:lnTo>
                      <a:pt x="140" y="1016"/>
                    </a:lnTo>
                    <a:lnTo>
                      <a:pt x="140" y="1014"/>
                    </a:lnTo>
                    <a:lnTo>
                      <a:pt x="140" y="1013"/>
                    </a:lnTo>
                    <a:lnTo>
                      <a:pt x="140" y="1012"/>
                    </a:lnTo>
                    <a:lnTo>
                      <a:pt x="140" y="1012"/>
                    </a:lnTo>
                    <a:lnTo>
                      <a:pt x="140" y="1011"/>
                    </a:lnTo>
                    <a:lnTo>
                      <a:pt x="140" y="1010"/>
                    </a:lnTo>
                    <a:lnTo>
                      <a:pt x="139" y="1009"/>
                    </a:lnTo>
                    <a:lnTo>
                      <a:pt x="139" y="1009"/>
                    </a:lnTo>
                    <a:lnTo>
                      <a:pt x="138" y="1008"/>
                    </a:lnTo>
                    <a:lnTo>
                      <a:pt x="120" y="1052"/>
                    </a:lnTo>
                    <a:lnTo>
                      <a:pt x="116" y="1053"/>
                    </a:lnTo>
                    <a:lnTo>
                      <a:pt x="112" y="1052"/>
                    </a:lnTo>
                    <a:lnTo>
                      <a:pt x="110" y="1050"/>
                    </a:lnTo>
                    <a:lnTo>
                      <a:pt x="109" y="1047"/>
                    </a:lnTo>
                    <a:lnTo>
                      <a:pt x="109" y="1043"/>
                    </a:lnTo>
                    <a:lnTo>
                      <a:pt x="108" y="1040"/>
                    </a:lnTo>
                    <a:lnTo>
                      <a:pt x="108" y="1035"/>
                    </a:lnTo>
                    <a:lnTo>
                      <a:pt x="107" y="1032"/>
                    </a:lnTo>
                    <a:lnTo>
                      <a:pt x="108" y="1028"/>
                    </a:lnTo>
                    <a:lnTo>
                      <a:pt x="108" y="1025"/>
                    </a:lnTo>
                    <a:lnTo>
                      <a:pt x="109" y="1022"/>
                    </a:lnTo>
                    <a:lnTo>
                      <a:pt x="109" y="1019"/>
                    </a:lnTo>
                    <a:lnTo>
                      <a:pt x="109" y="1015"/>
                    </a:lnTo>
                    <a:lnTo>
                      <a:pt x="109" y="1011"/>
                    </a:lnTo>
                    <a:lnTo>
                      <a:pt x="108" y="1008"/>
                    </a:lnTo>
                    <a:lnTo>
                      <a:pt x="107" y="1004"/>
                    </a:lnTo>
                    <a:lnTo>
                      <a:pt x="105" y="1007"/>
                    </a:lnTo>
                    <a:lnTo>
                      <a:pt x="104" y="1010"/>
                    </a:lnTo>
                    <a:lnTo>
                      <a:pt x="103" y="1014"/>
                    </a:lnTo>
                    <a:lnTo>
                      <a:pt x="102" y="1019"/>
                    </a:lnTo>
                    <a:lnTo>
                      <a:pt x="101" y="1022"/>
                    </a:lnTo>
                    <a:lnTo>
                      <a:pt x="100" y="1024"/>
                    </a:lnTo>
                    <a:lnTo>
                      <a:pt x="97" y="1025"/>
                    </a:lnTo>
                    <a:lnTo>
                      <a:pt x="91" y="1023"/>
                    </a:lnTo>
                    <a:lnTo>
                      <a:pt x="89" y="1020"/>
                    </a:lnTo>
                    <a:lnTo>
                      <a:pt x="88" y="1016"/>
                    </a:lnTo>
                    <a:lnTo>
                      <a:pt x="87" y="1013"/>
                    </a:lnTo>
                    <a:lnTo>
                      <a:pt x="86" y="1010"/>
                    </a:lnTo>
                    <a:lnTo>
                      <a:pt x="86" y="1007"/>
                    </a:lnTo>
                    <a:lnTo>
                      <a:pt x="85" y="1004"/>
                    </a:lnTo>
                    <a:lnTo>
                      <a:pt x="83" y="1001"/>
                    </a:lnTo>
                    <a:lnTo>
                      <a:pt x="81" y="998"/>
                    </a:lnTo>
                    <a:lnTo>
                      <a:pt x="79" y="1003"/>
                    </a:lnTo>
                    <a:lnTo>
                      <a:pt x="76" y="1008"/>
                    </a:lnTo>
                    <a:lnTo>
                      <a:pt x="75" y="1012"/>
                    </a:lnTo>
                    <a:lnTo>
                      <a:pt x="74" y="1017"/>
                    </a:lnTo>
                    <a:lnTo>
                      <a:pt x="74" y="1022"/>
                    </a:lnTo>
                    <a:lnTo>
                      <a:pt x="74" y="1027"/>
                    </a:lnTo>
                    <a:lnTo>
                      <a:pt x="73" y="1032"/>
                    </a:lnTo>
                    <a:lnTo>
                      <a:pt x="73" y="1039"/>
                    </a:lnTo>
                    <a:lnTo>
                      <a:pt x="70" y="1041"/>
                    </a:lnTo>
                    <a:lnTo>
                      <a:pt x="67" y="1041"/>
                    </a:lnTo>
                    <a:lnTo>
                      <a:pt x="65" y="1040"/>
                    </a:lnTo>
                    <a:lnTo>
                      <a:pt x="63" y="1039"/>
                    </a:lnTo>
                    <a:lnTo>
                      <a:pt x="62" y="1035"/>
                    </a:lnTo>
                    <a:lnTo>
                      <a:pt x="59" y="1033"/>
                    </a:lnTo>
                    <a:lnTo>
                      <a:pt x="58" y="1030"/>
                    </a:lnTo>
                    <a:lnTo>
                      <a:pt x="57" y="1028"/>
                    </a:lnTo>
                    <a:lnTo>
                      <a:pt x="54" y="1017"/>
                    </a:lnTo>
                    <a:lnTo>
                      <a:pt x="51" y="1006"/>
                    </a:lnTo>
                    <a:lnTo>
                      <a:pt x="48" y="994"/>
                    </a:lnTo>
                    <a:lnTo>
                      <a:pt x="45" y="983"/>
                    </a:lnTo>
                    <a:lnTo>
                      <a:pt x="41" y="971"/>
                    </a:lnTo>
                    <a:lnTo>
                      <a:pt x="39" y="959"/>
                    </a:lnTo>
                    <a:lnTo>
                      <a:pt x="36" y="948"/>
                    </a:lnTo>
                    <a:lnTo>
                      <a:pt x="35" y="935"/>
                    </a:lnTo>
                    <a:lnTo>
                      <a:pt x="31" y="937"/>
                    </a:lnTo>
                    <a:lnTo>
                      <a:pt x="29" y="939"/>
                    </a:lnTo>
                    <a:lnTo>
                      <a:pt x="29" y="942"/>
                    </a:lnTo>
                    <a:lnTo>
                      <a:pt x="29" y="947"/>
                    </a:lnTo>
                    <a:lnTo>
                      <a:pt x="29" y="951"/>
                    </a:lnTo>
                    <a:lnTo>
                      <a:pt x="29" y="954"/>
                    </a:lnTo>
                    <a:lnTo>
                      <a:pt x="28" y="957"/>
                    </a:lnTo>
                    <a:lnTo>
                      <a:pt x="25" y="959"/>
                    </a:lnTo>
                    <a:lnTo>
                      <a:pt x="21" y="953"/>
                    </a:lnTo>
                    <a:lnTo>
                      <a:pt x="19" y="944"/>
                    </a:lnTo>
                    <a:lnTo>
                      <a:pt x="18" y="937"/>
                    </a:lnTo>
                    <a:lnTo>
                      <a:pt x="18" y="929"/>
                    </a:lnTo>
                    <a:lnTo>
                      <a:pt x="18" y="920"/>
                    </a:lnTo>
                    <a:lnTo>
                      <a:pt x="19" y="912"/>
                    </a:lnTo>
                    <a:lnTo>
                      <a:pt x="19" y="903"/>
                    </a:lnTo>
                    <a:lnTo>
                      <a:pt x="18" y="895"/>
                    </a:lnTo>
                    <a:lnTo>
                      <a:pt x="16" y="897"/>
                    </a:lnTo>
                    <a:lnTo>
                      <a:pt x="14" y="896"/>
                    </a:lnTo>
                    <a:lnTo>
                      <a:pt x="13" y="895"/>
                    </a:lnTo>
                    <a:lnTo>
                      <a:pt x="12" y="893"/>
                    </a:lnTo>
                    <a:lnTo>
                      <a:pt x="11" y="891"/>
                    </a:lnTo>
                    <a:lnTo>
                      <a:pt x="10" y="888"/>
                    </a:lnTo>
                    <a:lnTo>
                      <a:pt x="8" y="887"/>
                    </a:lnTo>
                    <a:lnTo>
                      <a:pt x="4" y="887"/>
                    </a:lnTo>
                    <a:lnTo>
                      <a:pt x="4" y="877"/>
                    </a:lnTo>
                    <a:lnTo>
                      <a:pt x="4" y="865"/>
                    </a:lnTo>
                    <a:lnTo>
                      <a:pt x="6" y="855"/>
                    </a:lnTo>
                    <a:lnTo>
                      <a:pt x="7" y="843"/>
                    </a:lnTo>
                    <a:lnTo>
                      <a:pt x="8" y="832"/>
                    </a:lnTo>
                    <a:lnTo>
                      <a:pt x="10" y="821"/>
                    </a:lnTo>
                    <a:lnTo>
                      <a:pt x="11" y="810"/>
                    </a:lnTo>
                    <a:lnTo>
                      <a:pt x="13" y="801"/>
                    </a:lnTo>
                    <a:lnTo>
                      <a:pt x="11" y="800"/>
                    </a:lnTo>
                    <a:lnTo>
                      <a:pt x="9" y="800"/>
                    </a:lnTo>
                    <a:lnTo>
                      <a:pt x="7" y="800"/>
                    </a:lnTo>
                    <a:lnTo>
                      <a:pt x="4" y="801"/>
                    </a:lnTo>
                    <a:lnTo>
                      <a:pt x="2" y="803"/>
                    </a:lnTo>
                    <a:lnTo>
                      <a:pt x="1" y="804"/>
                    </a:lnTo>
                    <a:lnTo>
                      <a:pt x="0" y="806"/>
                    </a:lnTo>
                    <a:lnTo>
                      <a:pt x="0" y="808"/>
                    </a:lnTo>
                    <a:lnTo>
                      <a:pt x="0" y="796"/>
                    </a:lnTo>
                    <a:lnTo>
                      <a:pt x="1" y="782"/>
                    </a:lnTo>
                    <a:lnTo>
                      <a:pt x="3" y="766"/>
                    </a:lnTo>
                    <a:lnTo>
                      <a:pt x="8" y="749"/>
                    </a:lnTo>
                    <a:lnTo>
                      <a:pt x="12" y="732"/>
                    </a:lnTo>
                    <a:lnTo>
                      <a:pt x="18" y="715"/>
                    </a:lnTo>
                    <a:lnTo>
                      <a:pt x="25" y="699"/>
                    </a:lnTo>
                    <a:lnTo>
                      <a:pt x="31" y="683"/>
                    </a:lnTo>
                    <a:lnTo>
                      <a:pt x="27" y="668"/>
                    </a:lnTo>
                    <a:lnTo>
                      <a:pt x="22" y="654"/>
                    </a:lnTo>
                    <a:lnTo>
                      <a:pt x="19" y="639"/>
                    </a:lnTo>
                    <a:lnTo>
                      <a:pt x="17" y="625"/>
                    </a:lnTo>
                    <a:lnTo>
                      <a:pt x="14" y="610"/>
                    </a:lnTo>
                    <a:lnTo>
                      <a:pt x="10" y="595"/>
                    </a:lnTo>
                    <a:lnTo>
                      <a:pt x="6" y="582"/>
                    </a:lnTo>
                    <a:lnTo>
                      <a:pt x="0" y="567"/>
                    </a:lnTo>
                    <a:lnTo>
                      <a:pt x="2" y="562"/>
                    </a:lnTo>
                    <a:lnTo>
                      <a:pt x="3" y="555"/>
                    </a:lnTo>
                    <a:lnTo>
                      <a:pt x="4" y="550"/>
                    </a:lnTo>
                    <a:lnTo>
                      <a:pt x="7" y="544"/>
                    </a:lnTo>
                    <a:lnTo>
                      <a:pt x="9" y="538"/>
                    </a:lnTo>
                    <a:lnTo>
                      <a:pt x="12" y="534"/>
                    </a:lnTo>
                    <a:lnTo>
                      <a:pt x="16" y="531"/>
                    </a:lnTo>
                    <a:lnTo>
                      <a:pt x="22" y="529"/>
                    </a:lnTo>
                    <a:lnTo>
                      <a:pt x="47" y="522"/>
                    </a:lnTo>
                    <a:lnTo>
                      <a:pt x="70" y="514"/>
                    </a:lnTo>
                    <a:lnTo>
                      <a:pt x="92" y="506"/>
                    </a:lnTo>
                    <a:lnTo>
                      <a:pt x="115" y="495"/>
                    </a:lnTo>
                    <a:lnTo>
                      <a:pt x="137" y="484"/>
                    </a:lnTo>
                    <a:lnTo>
                      <a:pt x="159" y="475"/>
                    </a:lnTo>
                    <a:lnTo>
                      <a:pt x="181" y="464"/>
                    </a:lnTo>
                    <a:lnTo>
                      <a:pt x="204" y="456"/>
                    </a:lnTo>
                    <a:lnTo>
                      <a:pt x="226" y="447"/>
                    </a:lnTo>
                    <a:lnTo>
                      <a:pt x="248" y="438"/>
                    </a:lnTo>
                    <a:lnTo>
                      <a:pt x="269" y="429"/>
                    </a:lnTo>
                    <a:lnTo>
                      <a:pt x="290" y="420"/>
                    </a:lnTo>
                    <a:lnTo>
                      <a:pt x="312" y="412"/>
                    </a:lnTo>
                    <a:lnTo>
                      <a:pt x="335" y="404"/>
                    </a:lnTo>
                    <a:lnTo>
                      <a:pt x="357" y="397"/>
                    </a:lnTo>
                    <a:lnTo>
                      <a:pt x="380" y="391"/>
                    </a:lnTo>
                    <a:lnTo>
                      <a:pt x="386" y="388"/>
                    </a:lnTo>
                    <a:lnTo>
                      <a:pt x="394" y="386"/>
                    </a:lnTo>
                    <a:lnTo>
                      <a:pt x="401" y="385"/>
                    </a:lnTo>
                    <a:lnTo>
                      <a:pt x="409" y="383"/>
                    </a:lnTo>
                    <a:lnTo>
                      <a:pt x="416" y="382"/>
                    </a:lnTo>
                    <a:lnTo>
                      <a:pt x="423" y="380"/>
                    </a:lnTo>
                    <a:lnTo>
                      <a:pt x="430" y="377"/>
                    </a:lnTo>
                    <a:lnTo>
                      <a:pt x="436" y="373"/>
                    </a:lnTo>
                    <a:lnTo>
                      <a:pt x="428" y="369"/>
                    </a:lnTo>
                    <a:lnTo>
                      <a:pt x="419" y="366"/>
                    </a:lnTo>
                    <a:lnTo>
                      <a:pt x="411" y="365"/>
                    </a:lnTo>
                    <a:lnTo>
                      <a:pt x="401" y="365"/>
                    </a:lnTo>
                    <a:lnTo>
                      <a:pt x="392" y="366"/>
                    </a:lnTo>
                    <a:lnTo>
                      <a:pt x="382" y="369"/>
                    </a:lnTo>
                    <a:lnTo>
                      <a:pt x="373" y="371"/>
                    </a:lnTo>
                    <a:lnTo>
                      <a:pt x="363" y="374"/>
                    </a:lnTo>
                    <a:lnTo>
                      <a:pt x="364" y="370"/>
                    </a:lnTo>
                    <a:lnTo>
                      <a:pt x="366" y="367"/>
                    </a:lnTo>
                    <a:lnTo>
                      <a:pt x="370" y="364"/>
                    </a:lnTo>
                    <a:lnTo>
                      <a:pt x="374" y="363"/>
                    </a:lnTo>
                    <a:lnTo>
                      <a:pt x="378" y="362"/>
                    </a:lnTo>
                    <a:lnTo>
                      <a:pt x="382" y="360"/>
                    </a:lnTo>
                    <a:lnTo>
                      <a:pt x="386" y="357"/>
                    </a:lnTo>
                    <a:lnTo>
                      <a:pt x="390" y="355"/>
                    </a:lnTo>
                    <a:lnTo>
                      <a:pt x="384" y="354"/>
                    </a:lnTo>
                    <a:lnTo>
                      <a:pt x="380" y="353"/>
                    </a:lnTo>
                    <a:lnTo>
                      <a:pt x="376" y="354"/>
                    </a:lnTo>
                    <a:lnTo>
                      <a:pt x="372" y="355"/>
                    </a:lnTo>
                    <a:lnTo>
                      <a:pt x="363" y="359"/>
                    </a:lnTo>
                    <a:lnTo>
                      <a:pt x="355" y="363"/>
                    </a:lnTo>
                    <a:lnTo>
                      <a:pt x="347" y="367"/>
                    </a:lnTo>
                    <a:lnTo>
                      <a:pt x="339" y="371"/>
                    </a:lnTo>
                    <a:lnTo>
                      <a:pt x="335" y="372"/>
                    </a:lnTo>
                    <a:lnTo>
                      <a:pt x="330" y="373"/>
                    </a:lnTo>
                    <a:lnTo>
                      <a:pt x="326" y="373"/>
                    </a:lnTo>
                    <a:lnTo>
                      <a:pt x="321" y="373"/>
                    </a:lnTo>
                    <a:lnTo>
                      <a:pt x="327" y="367"/>
                    </a:lnTo>
                    <a:lnTo>
                      <a:pt x="334" y="363"/>
                    </a:lnTo>
                    <a:lnTo>
                      <a:pt x="341" y="359"/>
                    </a:lnTo>
                    <a:lnTo>
                      <a:pt x="348" y="354"/>
                    </a:lnTo>
                    <a:lnTo>
                      <a:pt x="356" y="351"/>
                    </a:lnTo>
                    <a:lnTo>
                      <a:pt x="363" y="348"/>
                    </a:lnTo>
                    <a:lnTo>
                      <a:pt x="371" y="344"/>
                    </a:lnTo>
                    <a:lnTo>
                      <a:pt x="378" y="338"/>
                    </a:lnTo>
                    <a:lnTo>
                      <a:pt x="371" y="338"/>
                    </a:lnTo>
                    <a:lnTo>
                      <a:pt x="363" y="338"/>
                    </a:lnTo>
                    <a:lnTo>
                      <a:pt x="356" y="340"/>
                    </a:lnTo>
                    <a:lnTo>
                      <a:pt x="349" y="342"/>
                    </a:lnTo>
                    <a:lnTo>
                      <a:pt x="338" y="347"/>
                    </a:lnTo>
                    <a:lnTo>
                      <a:pt x="326" y="355"/>
                    </a:lnTo>
                    <a:lnTo>
                      <a:pt x="314" y="364"/>
                    </a:lnTo>
                    <a:lnTo>
                      <a:pt x="304" y="373"/>
                    </a:lnTo>
                    <a:lnTo>
                      <a:pt x="292" y="382"/>
                    </a:lnTo>
                    <a:lnTo>
                      <a:pt x="281" y="389"/>
                    </a:lnTo>
                    <a:lnTo>
                      <a:pt x="279" y="387"/>
                    </a:lnTo>
                    <a:lnTo>
                      <a:pt x="279" y="385"/>
                    </a:lnTo>
                    <a:lnTo>
                      <a:pt x="280" y="383"/>
                    </a:lnTo>
                    <a:lnTo>
                      <a:pt x="281" y="381"/>
                    </a:lnTo>
                    <a:lnTo>
                      <a:pt x="283" y="379"/>
                    </a:lnTo>
                    <a:lnTo>
                      <a:pt x="285" y="378"/>
                    </a:lnTo>
                    <a:lnTo>
                      <a:pt x="286" y="375"/>
                    </a:lnTo>
                    <a:lnTo>
                      <a:pt x="287" y="373"/>
                    </a:lnTo>
                    <a:lnTo>
                      <a:pt x="365" y="320"/>
                    </a:lnTo>
                    <a:lnTo>
                      <a:pt x="368" y="316"/>
                    </a:lnTo>
                    <a:lnTo>
                      <a:pt x="372" y="312"/>
                    </a:lnTo>
                    <a:lnTo>
                      <a:pt x="375" y="309"/>
                    </a:lnTo>
                    <a:lnTo>
                      <a:pt x="378" y="306"/>
                    </a:lnTo>
                    <a:lnTo>
                      <a:pt x="386" y="300"/>
                    </a:lnTo>
                    <a:lnTo>
                      <a:pt x="397" y="297"/>
                    </a:lnTo>
                    <a:lnTo>
                      <a:pt x="407" y="295"/>
                    </a:lnTo>
                    <a:lnTo>
                      <a:pt x="417" y="293"/>
                    </a:lnTo>
                    <a:lnTo>
                      <a:pt x="427" y="290"/>
                    </a:lnTo>
                    <a:lnTo>
                      <a:pt x="436" y="287"/>
                    </a:lnTo>
                    <a:lnTo>
                      <a:pt x="452" y="276"/>
                    </a:lnTo>
                    <a:lnTo>
                      <a:pt x="448" y="269"/>
                    </a:lnTo>
                    <a:lnTo>
                      <a:pt x="458" y="267"/>
                    </a:lnTo>
                    <a:lnTo>
                      <a:pt x="469" y="265"/>
                    </a:lnTo>
                    <a:lnTo>
                      <a:pt x="481" y="263"/>
                    </a:lnTo>
                    <a:lnTo>
                      <a:pt x="491" y="261"/>
                    </a:lnTo>
                    <a:lnTo>
                      <a:pt x="503" y="259"/>
                    </a:lnTo>
                    <a:lnTo>
                      <a:pt x="514" y="256"/>
                    </a:lnTo>
                    <a:lnTo>
                      <a:pt x="525" y="253"/>
                    </a:lnTo>
                    <a:lnTo>
                      <a:pt x="536" y="247"/>
                    </a:lnTo>
                    <a:lnTo>
                      <a:pt x="545" y="244"/>
                    </a:lnTo>
                    <a:lnTo>
                      <a:pt x="555" y="243"/>
                    </a:lnTo>
                    <a:lnTo>
                      <a:pt x="564" y="244"/>
                    </a:lnTo>
                    <a:lnTo>
                      <a:pt x="574" y="245"/>
                    </a:lnTo>
                    <a:lnTo>
                      <a:pt x="582" y="247"/>
                    </a:lnTo>
                    <a:lnTo>
                      <a:pt x="592" y="250"/>
                    </a:lnTo>
                    <a:lnTo>
                      <a:pt x="601" y="252"/>
                    </a:lnTo>
                    <a:lnTo>
                      <a:pt x="612" y="253"/>
                    </a:lnTo>
                    <a:lnTo>
                      <a:pt x="613" y="255"/>
                    </a:lnTo>
                    <a:lnTo>
                      <a:pt x="615" y="256"/>
                    </a:lnTo>
                    <a:lnTo>
                      <a:pt x="617" y="256"/>
                    </a:lnTo>
                    <a:lnTo>
                      <a:pt x="620" y="256"/>
                    </a:lnTo>
                    <a:lnTo>
                      <a:pt x="622" y="256"/>
                    </a:lnTo>
                    <a:lnTo>
                      <a:pt x="625" y="256"/>
                    </a:lnTo>
                    <a:lnTo>
                      <a:pt x="628" y="256"/>
                    </a:lnTo>
                    <a:lnTo>
                      <a:pt x="630" y="256"/>
                    </a:lnTo>
                    <a:lnTo>
                      <a:pt x="628" y="250"/>
                    </a:lnTo>
                    <a:lnTo>
                      <a:pt x="627" y="243"/>
                    </a:lnTo>
                    <a:lnTo>
                      <a:pt x="626" y="236"/>
                    </a:lnTo>
                    <a:lnTo>
                      <a:pt x="625" y="228"/>
                    </a:lnTo>
                    <a:lnTo>
                      <a:pt x="625" y="222"/>
                    </a:lnTo>
                    <a:lnTo>
                      <a:pt x="623" y="215"/>
                    </a:lnTo>
                    <a:lnTo>
                      <a:pt x="623" y="207"/>
                    </a:lnTo>
                    <a:lnTo>
                      <a:pt x="623" y="200"/>
                    </a:lnTo>
                    <a:lnTo>
                      <a:pt x="621" y="188"/>
                    </a:lnTo>
                    <a:lnTo>
                      <a:pt x="620" y="179"/>
                    </a:lnTo>
                    <a:lnTo>
                      <a:pt x="619" y="169"/>
                    </a:lnTo>
                    <a:lnTo>
                      <a:pt x="619" y="160"/>
                    </a:lnTo>
                    <a:lnTo>
                      <a:pt x="618" y="150"/>
                    </a:lnTo>
                    <a:lnTo>
                      <a:pt x="617" y="141"/>
                    </a:lnTo>
                    <a:lnTo>
                      <a:pt x="616" y="130"/>
                    </a:lnTo>
                    <a:lnTo>
                      <a:pt x="614" y="120"/>
                    </a:lnTo>
                    <a:lnTo>
                      <a:pt x="613" y="110"/>
                    </a:lnTo>
                    <a:lnTo>
                      <a:pt x="614" y="102"/>
                    </a:lnTo>
                    <a:lnTo>
                      <a:pt x="617" y="94"/>
                    </a:lnTo>
                    <a:lnTo>
                      <a:pt x="619" y="87"/>
                    </a:lnTo>
                    <a:lnTo>
                      <a:pt x="621" y="79"/>
                    </a:lnTo>
                    <a:lnTo>
                      <a:pt x="622" y="72"/>
                    </a:lnTo>
                    <a:lnTo>
                      <a:pt x="622" y="68"/>
                    </a:lnTo>
                    <a:lnTo>
                      <a:pt x="621" y="63"/>
                    </a:lnTo>
                    <a:lnTo>
                      <a:pt x="620" y="59"/>
                    </a:lnTo>
                    <a:lnTo>
                      <a:pt x="618" y="55"/>
                    </a:lnTo>
                    <a:lnTo>
                      <a:pt x="616" y="50"/>
                    </a:lnTo>
                    <a:lnTo>
                      <a:pt x="615" y="44"/>
                    </a:lnTo>
                    <a:lnTo>
                      <a:pt x="615" y="39"/>
                    </a:lnTo>
                    <a:lnTo>
                      <a:pt x="614" y="34"/>
                    </a:lnTo>
                    <a:lnTo>
                      <a:pt x="614" y="29"/>
                    </a:lnTo>
                    <a:lnTo>
                      <a:pt x="613" y="23"/>
                    </a:lnTo>
                    <a:lnTo>
                      <a:pt x="613" y="18"/>
                    </a:lnTo>
                    <a:lnTo>
                      <a:pt x="612" y="13"/>
                    </a:lnTo>
                    <a:lnTo>
                      <a:pt x="614" y="14"/>
                    </a:lnTo>
                    <a:lnTo>
                      <a:pt x="617" y="15"/>
                    </a:lnTo>
                    <a:lnTo>
                      <a:pt x="618" y="17"/>
                    </a:lnTo>
                    <a:lnTo>
                      <a:pt x="620" y="19"/>
                    </a:lnTo>
                    <a:lnTo>
                      <a:pt x="622" y="23"/>
                    </a:lnTo>
                    <a:lnTo>
                      <a:pt x="623" y="30"/>
                    </a:lnTo>
                    <a:lnTo>
                      <a:pt x="623" y="36"/>
                    </a:lnTo>
                    <a:lnTo>
                      <a:pt x="623" y="42"/>
                    </a:lnTo>
                    <a:lnTo>
                      <a:pt x="625" y="49"/>
                    </a:lnTo>
                    <a:lnTo>
                      <a:pt x="626" y="55"/>
                    </a:lnTo>
                    <a:lnTo>
                      <a:pt x="633" y="68"/>
                    </a:lnTo>
                    <a:lnTo>
                      <a:pt x="639" y="81"/>
                    </a:lnTo>
                    <a:lnTo>
                      <a:pt x="645" y="95"/>
                    </a:lnTo>
                    <a:lnTo>
                      <a:pt x="649" y="110"/>
                    </a:lnTo>
                    <a:lnTo>
                      <a:pt x="656" y="139"/>
                    </a:lnTo>
                    <a:lnTo>
                      <a:pt x="664" y="168"/>
                    </a:lnTo>
                    <a:lnTo>
                      <a:pt x="668" y="182"/>
                    </a:lnTo>
                    <a:lnTo>
                      <a:pt x="672" y="197"/>
                    </a:lnTo>
                    <a:lnTo>
                      <a:pt x="678" y="210"/>
                    </a:lnTo>
                    <a:lnTo>
                      <a:pt x="685" y="223"/>
                    </a:lnTo>
                    <a:lnTo>
                      <a:pt x="692" y="236"/>
                    </a:lnTo>
                    <a:lnTo>
                      <a:pt x="702" y="247"/>
                    </a:lnTo>
                    <a:lnTo>
                      <a:pt x="712" y="258"/>
                    </a:lnTo>
                    <a:lnTo>
                      <a:pt x="724" y="269"/>
                    </a:lnTo>
                    <a:lnTo>
                      <a:pt x="728" y="269"/>
                    </a:lnTo>
                    <a:lnTo>
                      <a:pt x="730" y="269"/>
                    </a:lnTo>
                    <a:lnTo>
                      <a:pt x="731" y="267"/>
                    </a:lnTo>
                    <a:lnTo>
                      <a:pt x="732" y="264"/>
                    </a:lnTo>
                    <a:lnTo>
                      <a:pt x="733" y="262"/>
                    </a:lnTo>
                    <a:lnTo>
                      <a:pt x="733" y="260"/>
                    </a:lnTo>
                    <a:lnTo>
                      <a:pt x="735" y="258"/>
                    </a:lnTo>
                    <a:lnTo>
                      <a:pt x="737" y="256"/>
                    </a:lnTo>
                    <a:lnTo>
                      <a:pt x="739" y="251"/>
                    </a:lnTo>
                    <a:lnTo>
                      <a:pt x="741" y="245"/>
                    </a:lnTo>
                    <a:lnTo>
                      <a:pt x="742" y="239"/>
                    </a:lnTo>
                    <a:lnTo>
                      <a:pt x="742" y="234"/>
                    </a:lnTo>
                    <a:lnTo>
                      <a:pt x="742" y="227"/>
                    </a:lnTo>
                    <a:lnTo>
                      <a:pt x="742" y="221"/>
                    </a:lnTo>
                    <a:lnTo>
                      <a:pt x="740" y="216"/>
                    </a:lnTo>
                    <a:lnTo>
                      <a:pt x="739" y="209"/>
                    </a:lnTo>
                    <a:lnTo>
                      <a:pt x="741" y="182"/>
                    </a:lnTo>
                    <a:lnTo>
                      <a:pt x="745" y="154"/>
                    </a:lnTo>
                    <a:lnTo>
                      <a:pt x="750" y="128"/>
                    </a:lnTo>
                    <a:lnTo>
                      <a:pt x="757" y="103"/>
                    </a:lnTo>
                    <a:lnTo>
                      <a:pt x="764" y="77"/>
                    </a:lnTo>
                    <a:lnTo>
                      <a:pt x="772" y="52"/>
                    </a:lnTo>
                    <a:lnTo>
                      <a:pt x="779" y="26"/>
                    </a:lnTo>
                    <a:lnTo>
                      <a:pt x="787" y="0"/>
                    </a:lnTo>
                    <a:lnTo>
                      <a:pt x="790" y="1"/>
                    </a:lnTo>
                    <a:lnTo>
                      <a:pt x="792" y="2"/>
                    </a:lnTo>
                    <a:lnTo>
                      <a:pt x="793" y="3"/>
                    </a:lnTo>
                    <a:lnTo>
                      <a:pt x="794" y="5"/>
                    </a:lnTo>
                    <a:lnTo>
                      <a:pt x="794" y="8"/>
                    </a:lnTo>
                    <a:lnTo>
                      <a:pt x="793" y="13"/>
                    </a:lnTo>
                    <a:lnTo>
                      <a:pt x="792" y="18"/>
                    </a:lnTo>
                    <a:lnTo>
                      <a:pt x="791" y="23"/>
                    </a:lnTo>
                    <a:lnTo>
                      <a:pt x="790" y="27"/>
                    </a:lnTo>
                    <a:lnTo>
                      <a:pt x="790" y="32"/>
                    </a:lnTo>
                    <a:close/>
                    <a:moveTo>
                      <a:pt x="2114" y="1628"/>
                    </a:moveTo>
                    <a:lnTo>
                      <a:pt x="2119" y="1627"/>
                    </a:lnTo>
                    <a:lnTo>
                      <a:pt x="2121" y="1626"/>
                    </a:lnTo>
                    <a:lnTo>
                      <a:pt x="2124" y="1626"/>
                    </a:lnTo>
                    <a:lnTo>
                      <a:pt x="2127" y="1627"/>
                    </a:lnTo>
                    <a:lnTo>
                      <a:pt x="2131" y="1630"/>
                    </a:lnTo>
                    <a:lnTo>
                      <a:pt x="2135" y="1633"/>
                    </a:lnTo>
                    <a:lnTo>
                      <a:pt x="2140" y="1638"/>
                    </a:lnTo>
                    <a:lnTo>
                      <a:pt x="2144" y="1643"/>
                    </a:lnTo>
                    <a:lnTo>
                      <a:pt x="2149" y="1646"/>
                    </a:lnTo>
                    <a:lnTo>
                      <a:pt x="2154" y="1647"/>
                    </a:lnTo>
                    <a:lnTo>
                      <a:pt x="2154" y="1651"/>
                    </a:lnTo>
                    <a:lnTo>
                      <a:pt x="2156" y="1654"/>
                    </a:lnTo>
                    <a:lnTo>
                      <a:pt x="2158" y="1657"/>
                    </a:lnTo>
                    <a:lnTo>
                      <a:pt x="2159" y="1661"/>
                    </a:lnTo>
                    <a:lnTo>
                      <a:pt x="2161" y="1664"/>
                    </a:lnTo>
                    <a:lnTo>
                      <a:pt x="2162" y="1667"/>
                    </a:lnTo>
                    <a:lnTo>
                      <a:pt x="2163" y="1670"/>
                    </a:lnTo>
                    <a:lnTo>
                      <a:pt x="2163" y="1673"/>
                    </a:lnTo>
                    <a:lnTo>
                      <a:pt x="2147" y="1698"/>
                    </a:lnTo>
                    <a:lnTo>
                      <a:pt x="2146" y="1691"/>
                    </a:lnTo>
                    <a:lnTo>
                      <a:pt x="2146" y="1685"/>
                    </a:lnTo>
                    <a:lnTo>
                      <a:pt x="2147" y="1679"/>
                    </a:lnTo>
                    <a:lnTo>
                      <a:pt x="2147" y="1672"/>
                    </a:lnTo>
                    <a:lnTo>
                      <a:pt x="2147" y="1666"/>
                    </a:lnTo>
                    <a:lnTo>
                      <a:pt x="2145" y="1661"/>
                    </a:lnTo>
                    <a:lnTo>
                      <a:pt x="2142" y="1655"/>
                    </a:lnTo>
                    <a:lnTo>
                      <a:pt x="2136" y="1652"/>
                    </a:lnTo>
                    <a:lnTo>
                      <a:pt x="2138" y="1648"/>
                    </a:lnTo>
                    <a:lnTo>
                      <a:pt x="2136" y="1644"/>
                    </a:lnTo>
                    <a:lnTo>
                      <a:pt x="2136" y="1640"/>
                    </a:lnTo>
                    <a:lnTo>
                      <a:pt x="2135" y="1638"/>
                    </a:lnTo>
                    <a:lnTo>
                      <a:pt x="2133" y="1636"/>
                    </a:lnTo>
                    <a:lnTo>
                      <a:pt x="2131" y="1634"/>
                    </a:lnTo>
                    <a:lnTo>
                      <a:pt x="2129" y="1631"/>
                    </a:lnTo>
                    <a:lnTo>
                      <a:pt x="2127" y="1629"/>
                    </a:lnTo>
                    <a:lnTo>
                      <a:pt x="2125" y="1630"/>
                    </a:lnTo>
                    <a:lnTo>
                      <a:pt x="2124" y="1631"/>
                    </a:lnTo>
                    <a:lnTo>
                      <a:pt x="2123" y="1631"/>
                    </a:lnTo>
                    <a:lnTo>
                      <a:pt x="2121" y="1631"/>
                    </a:lnTo>
                    <a:lnTo>
                      <a:pt x="2120" y="1631"/>
                    </a:lnTo>
                    <a:lnTo>
                      <a:pt x="2117" y="1631"/>
                    </a:lnTo>
                    <a:lnTo>
                      <a:pt x="2116" y="1631"/>
                    </a:lnTo>
                    <a:lnTo>
                      <a:pt x="2114" y="1631"/>
                    </a:lnTo>
                    <a:lnTo>
                      <a:pt x="2115" y="1628"/>
                    </a:lnTo>
                    <a:lnTo>
                      <a:pt x="2114" y="1625"/>
                    </a:lnTo>
                    <a:lnTo>
                      <a:pt x="2112" y="1622"/>
                    </a:lnTo>
                    <a:lnTo>
                      <a:pt x="2109" y="1620"/>
                    </a:lnTo>
                    <a:lnTo>
                      <a:pt x="2107" y="1618"/>
                    </a:lnTo>
                    <a:lnTo>
                      <a:pt x="2105" y="1615"/>
                    </a:lnTo>
                    <a:lnTo>
                      <a:pt x="2104" y="1613"/>
                    </a:lnTo>
                    <a:lnTo>
                      <a:pt x="2105" y="1610"/>
                    </a:lnTo>
                    <a:lnTo>
                      <a:pt x="2106" y="1612"/>
                    </a:lnTo>
                    <a:lnTo>
                      <a:pt x="2107" y="1614"/>
                    </a:lnTo>
                    <a:lnTo>
                      <a:pt x="2109" y="1615"/>
                    </a:lnTo>
                    <a:lnTo>
                      <a:pt x="2111" y="1617"/>
                    </a:lnTo>
                    <a:lnTo>
                      <a:pt x="2113" y="1618"/>
                    </a:lnTo>
                    <a:lnTo>
                      <a:pt x="2115" y="1621"/>
                    </a:lnTo>
                    <a:lnTo>
                      <a:pt x="2115" y="1624"/>
                    </a:lnTo>
                    <a:lnTo>
                      <a:pt x="2114" y="162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6114960" y="5411880"/>
                <a:ext cx="1299960" cy="981000"/>
              </a:xfrm>
              <a:custGeom>
                <a:avLst/>
                <a:gdLst/>
                <a:ahLst/>
                <a:rect l="l" t="t" r="r" b="b"/>
                <a:pathLst>
                  <a:path w="2457" h="1855">
                    <a:moveTo>
                      <a:pt x="775" y="226"/>
                    </a:moveTo>
                    <a:lnTo>
                      <a:pt x="778" y="237"/>
                    </a:lnTo>
                    <a:lnTo>
                      <a:pt x="782" y="246"/>
                    </a:lnTo>
                    <a:lnTo>
                      <a:pt x="785" y="257"/>
                    </a:lnTo>
                    <a:lnTo>
                      <a:pt x="788" y="268"/>
                    </a:lnTo>
                    <a:lnTo>
                      <a:pt x="792" y="278"/>
                    </a:lnTo>
                    <a:lnTo>
                      <a:pt x="794" y="289"/>
                    </a:lnTo>
                    <a:lnTo>
                      <a:pt x="797" y="300"/>
                    </a:lnTo>
                    <a:lnTo>
                      <a:pt x="798" y="311"/>
                    </a:lnTo>
                    <a:lnTo>
                      <a:pt x="795" y="317"/>
                    </a:lnTo>
                    <a:lnTo>
                      <a:pt x="798" y="323"/>
                    </a:lnTo>
                    <a:lnTo>
                      <a:pt x="801" y="328"/>
                    </a:lnTo>
                    <a:lnTo>
                      <a:pt x="803" y="333"/>
                    </a:lnTo>
                    <a:lnTo>
                      <a:pt x="805" y="340"/>
                    </a:lnTo>
                    <a:lnTo>
                      <a:pt x="807" y="345"/>
                    </a:lnTo>
                    <a:lnTo>
                      <a:pt x="811" y="350"/>
                    </a:lnTo>
                    <a:lnTo>
                      <a:pt x="813" y="356"/>
                    </a:lnTo>
                    <a:lnTo>
                      <a:pt x="817" y="361"/>
                    </a:lnTo>
                    <a:lnTo>
                      <a:pt x="823" y="362"/>
                    </a:lnTo>
                    <a:lnTo>
                      <a:pt x="829" y="364"/>
                    </a:lnTo>
                    <a:lnTo>
                      <a:pt x="833" y="367"/>
                    </a:lnTo>
                    <a:lnTo>
                      <a:pt x="837" y="371"/>
                    </a:lnTo>
                    <a:lnTo>
                      <a:pt x="840" y="377"/>
                    </a:lnTo>
                    <a:lnTo>
                      <a:pt x="844" y="382"/>
                    </a:lnTo>
                    <a:lnTo>
                      <a:pt x="849" y="387"/>
                    </a:lnTo>
                    <a:lnTo>
                      <a:pt x="853" y="391"/>
                    </a:lnTo>
                    <a:lnTo>
                      <a:pt x="858" y="405"/>
                    </a:lnTo>
                    <a:lnTo>
                      <a:pt x="864" y="418"/>
                    </a:lnTo>
                    <a:lnTo>
                      <a:pt x="870" y="431"/>
                    </a:lnTo>
                    <a:lnTo>
                      <a:pt x="876" y="443"/>
                    </a:lnTo>
                    <a:lnTo>
                      <a:pt x="883" y="456"/>
                    </a:lnTo>
                    <a:lnTo>
                      <a:pt x="890" y="468"/>
                    </a:lnTo>
                    <a:lnTo>
                      <a:pt x="897" y="479"/>
                    </a:lnTo>
                    <a:lnTo>
                      <a:pt x="906" y="491"/>
                    </a:lnTo>
                    <a:lnTo>
                      <a:pt x="905" y="495"/>
                    </a:lnTo>
                    <a:lnTo>
                      <a:pt x="905" y="499"/>
                    </a:lnTo>
                    <a:lnTo>
                      <a:pt x="906" y="502"/>
                    </a:lnTo>
                    <a:lnTo>
                      <a:pt x="907" y="507"/>
                    </a:lnTo>
                    <a:lnTo>
                      <a:pt x="912" y="513"/>
                    </a:lnTo>
                    <a:lnTo>
                      <a:pt x="918" y="520"/>
                    </a:lnTo>
                    <a:lnTo>
                      <a:pt x="924" y="527"/>
                    </a:lnTo>
                    <a:lnTo>
                      <a:pt x="930" y="534"/>
                    </a:lnTo>
                    <a:lnTo>
                      <a:pt x="934" y="542"/>
                    </a:lnTo>
                    <a:lnTo>
                      <a:pt x="938" y="549"/>
                    </a:lnTo>
                    <a:lnTo>
                      <a:pt x="948" y="564"/>
                    </a:lnTo>
                    <a:lnTo>
                      <a:pt x="957" y="579"/>
                    </a:lnTo>
                    <a:lnTo>
                      <a:pt x="965" y="592"/>
                    </a:lnTo>
                    <a:lnTo>
                      <a:pt x="971" y="607"/>
                    </a:lnTo>
                    <a:lnTo>
                      <a:pt x="979" y="622"/>
                    </a:lnTo>
                    <a:lnTo>
                      <a:pt x="986" y="637"/>
                    </a:lnTo>
                    <a:lnTo>
                      <a:pt x="995" y="652"/>
                    </a:lnTo>
                    <a:lnTo>
                      <a:pt x="1004" y="666"/>
                    </a:lnTo>
                    <a:lnTo>
                      <a:pt x="1005" y="671"/>
                    </a:lnTo>
                    <a:lnTo>
                      <a:pt x="1006" y="676"/>
                    </a:lnTo>
                    <a:lnTo>
                      <a:pt x="1010" y="679"/>
                    </a:lnTo>
                    <a:lnTo>
                      <a:pt x="1013" y="683"/>
                    </a:lnTo>
                    <a:lnTo>
                      <a:pt x="1016" y="686"/>
                    </a:lnTo>
                    <a:lnTo>
                      <a:pt x="1019" y="691"/>
                    </a:lnTo>
                    <a:lnTo>
                      <a:pt x="1022" y="694"/>
                    </a:lnTo>
                    <a:lnTo>
                      <a:pt x="1024" y="698"/>
                    </a:lnTo>
                    <a:lnTo>
                      <a:pt x="1029" y="707"/>
                    </a:lnTo>
                    <a:lnTo>
                      <a:pt x="1035" y="714"/>
                    </a:lnTo>
                    <a:lnTo>
                      <a:pt x="1040" y="720"/>
                    </a:lnTo>
                    <a:lnTo>
                      <a:pt x="1047" y="728"/>
                    </a:lnTo>
                    <a:lnTo>
                      <a:pt x="1054" y="734"/>
                    </a:lnTo>
                    <a:lnTo>
                      <a:pt x="1060" y="740"/>
                    </a:lnTo>
                    <a:lnTo>
                      <a:pt x="1067" y="746"/>
                    </a:lnTo>
                    <a:lnTo>
                      <a:pt x="1073" y="752"/>
                    </a:lnTo>
                    <a:lnTo>
                      <a:pt x="1087" y="756"/>
                    </a:lnTo>
                    <a:lnTo>
                      <a:pt x="1099" y="763"/>
                    </a:lnTo>
                    <a:lnTo>
                      <a:pt x="1111" y="769"/>
                    </a:lnTo>
                    <a:lnTo>
                      <a:pt x="1124" y="776"/>
                    </a:lnTo>
                    <a:lnTo>
                      <a:pt x="1137" y="783"/>
                    </a:lnTo>
                    <a:lnTo>
                      <a:pt x="1149" y="788"/>
                    </a:lnTo>
                    <a:lnTo>
                      <a:pt x="1157" y="790"/>
                    </a:lnTo>
                    <a:lnTo>
                      <a:pt x="1163" y="791"/>
                    </a:lnTo>
                    <a:lnTo>
                      <a:pt x="1170" y="792"/>
                    </a:lnTo>
                    <a:lnTo>
                      <a:pt x="1178" y="793"/>
                    </a:lnTo>
                    <a:lnTo>
                      <a:pt x="1185" y="796"/>
                    </a:lnTo>
                    <a:lnTo>
                      <a:pt x="1192" y="800"/>
                    </a:lnTo>
                    <a:lnTo>
                      <a:pt x="1198" y="803"/>
                    </a:lnTo>
                    <a:lnTo>
                      <a:pt x="1205" y="806"/>
                    </a:lnTo>
                    <a:lnTo>
                      <a:pt x="1213" y="809"/>
                    </a:lnTo>
                    <a:lnTo>
                      <a:pt x="1219" y="811"/>
                    </a:lnTo>
                    <a:lnTo>
                      <a:pt x="1226" y="813"/>
                    </a:lnTo>
                    <a:lnTo>
                      <a:pt x="1234" y="816"/>
                    </a:lnTo>
                    <a:lnTo>
                      <a:pt x="1242" y="827"/>
                    </a:lnTo>
                    <a:lnTo>
                      <a:pt x="1251" y="838"/>
                    </a:lnTo>
                    <a:lnTo>
                      <a:pt x="1260" y="847"/>
                    </a:lnTo>
                    <a:lnTo>
                      <a:pt x="1270" y="856"/>
                    </a:lnTo>
                    <a:lnTo>
                      <a:pt x="1280" y="863"/>
                    </a:lnTo>
                    <a:lnTo>
                      <a:pt x="1291" y="869"/>
                    </a:lnTo>
                    <a:lnTo>
                      <a:pt x="1303" y="876"/>
                    </a:lnTo>
                    <a:lnTo>
                      <a:pt x="1314" y="881"/>
                    </a:lnTo>
                    <a:lnTo>
                      <a:pt x="1339" y="891"/>
                    </a:lnTo>
                    <a:lnTo>
                      <a:pt x="1362" y="900"/>
                    </a:lnTo>
                    <a:lnTo>
                      <a:pt x="1374" y="905"/>
                    </a:lnTo>
                    <a:lnTo>
                      <a:pt x="1385" y="911"/>
                    </a:lnTo>
                    <a:lnTo>
                      <a:pt x="1397" y="917"/>
                    </a:lnTo>
                    <a:lnTo>
                      <a:pt x="1407" y="924"/>
                    </a:lnTo>
                    <a:lnTo>
                      <a:pt x="1431" y="933"/>
                    </a:lnTo>
                    <a:lnTo>
                      <a:pt x="1454" y="942"/>
                    </a:lnTo>
                    <a:lnTo>
                      <a:pt x="1476" y="953"/>
                    </a:lnTo>
                    <a:lnTo>
                      <a:pt x="1499" y="963"/>
                    </a:lnTo>
                    <a:lnTo>
                      <a:pt x="1523" y="972"/>
                    </a:lnTo>
                    <a:lnTo>
                      <a:pt x="1546" y="982"/>
                    </a:lnTo>
                    <a:lnTo>
                      <a:pt x="1569" y="990"/>
                    </a:lnTo>
                    <a:lnTo>
                      <a:pt x="1594" y="996"/>
                    </a:lnTo>
                    <a:lnTo>
                      <a:pt x="1595" y="995"/>
                    </a:lnTo>
                    <a:lnTo>
                      <a:pt x="1595" y="995"/>
                    </a:lnTo>
                    <a:lnTo>
                      <a:pt x="1596" y="994"/>
                    </a:lnTo>
                    <a:lnTo>
                      <a:pt x="1597" y="993"/>
                    </a:lnTo>
                    <a:lnTo>
                      <a:pt x="1598" y="992"/>
                    </a:lnTo>
                    <a:lnTo>
                      <a:pt x="1599" y="991"/>
                    </a:lnTo>
                    <a:lnTo>
                      <a:pt x="1599" y="990"/>
                    </a:lnTo>
                    <a:lnTo>
                      <a:pt x="1599" y="988"/>
                    </a:lnTo>
                    <a:lnTo>
                      <a:pt x="1598" y="987"/>
                    </a:lnTo>
                    <a:lnTo>
                      <a:pt x="1614" y="991"/>
                    </a:lnTo>
                    <a:lnTo>
                      <a:pt x="1630" y="996"/>
                    </a:lnTo>
                    <a:lnTo>
                      <a:pt x="1644" y="1003"/>
                    </a:lnTo>
                    <a:lnTo>
                      <a:pt x="1660" y="1008"/>
                    </a:lnTo>
                    <a:lnTo>
                      <a:pt x="1676" y="1013"/>
                    </a:lnTo>
                    <a:lnTo>
                      <a:pt x="1692" y="1018"/>
                    </a:lnTo>
                    <a:lnTo>
                      <a:pt x="1709" y="1021"/>
                    </a:lnTo>
                    <a:lnTo>
                      <a:pt x="1726" y="1023"/>
                    </a:lnTo>
                    <a:lnTo>
                      <a:pt x="1735" y="1026"/>
                    </a:lnTo>
                    <a:lnTo>
                      <a:pt x="1744" y="1029"/>
                    </a:lnTo>
                    <a:lnTo>
                      <a:pt x="1753" y="1031"/>
                    </a:lnTo>
                    <a:lnTo>
                      <a:pt x="1762" y="1033"/>
                    </a:lnTo>
                    <a:lnTo>
                      <a:pt x="1771" y="1037"/>
                    </a:lnTo>
                    <a:lnTo>
                      <a:pt x="1781" y="1039"/>
                    </a:lnTo>
                    <a:lnTo>
                      <a:pt x="1790" y="1041"/>
                    </a:lnTo>
                    <a:lnTo>
                      <a:pt x="1799" y="1043"/>
                    </a:lnTo>
                    <a:lnTo>
                      <a:pt x="1823" y="1043"/>
                    </a:lnTo>
                    <a:lnTo>
                      <a:pt x="1847" y="1045"/>
                    </a:lnTo>
                    <a:lnTo>
                      <a:pt x="1869" y="1048"/>
                    </a:lnTo>
                    <a:lnTo>
                      <a:pt x="1891" y="1051"/>
                    </a:lnTo>
                    <a:lnTo>
                      <a:pt x="1913" y="1056"/>
                    </a:lnTo>
                    <a:lnTo>
                      <a:pt x="1935" y="1060"/>
                    </a:lnTo>
                    <a:lnTo>
                      <a:pt x="1959" y="1063"/>
                    </a:lnTo>
                    <a:lnTo>
                      <a:pt x="1983" y="1065"/>
                    </a:lnTo>
                    <a:lnTo>
                      <a:pt x="2032" y="1073"/>
                    </a:lnTo>
                    <a:lnTo>
                      <a:pt x="2031" y="1075"/>
                    </a:lnTo>
                    <a:lnTo>
                      <a:pt x="2028" y="1076"/>
                    </a:lnTo>
                    <a:lnTo>
                      <a:pt x="2027" y="1077"/>
                    </a:lnTo>
                    <a:lnTo>
                      <a:pt x="2026" y="1077"/>
                    </a:lnTo>
                    <a:lnTo>
                      <a:pt x="2024" y="1078"/>
                    </a:lnTo>
                    <a:lnTo>
                      <a:pt x="2024" y="1079"/>
                    </a:lnTo>
                    <a:lnTo>
                      <a:pt x="2023" y="1080"/>
                    </a:lnTo>
                    <a:lnTo>
                      <a:pt x="2023" y="1081"/>
                    </a:lnTo>
                    <a:lnTo>
                      <a:pt x="2030" y="1079"/>
                    </a:lnTo>
                    <a:lnTo>
                      <a:pt x="2035" y="1078"/>
                    </a:lnTo>
                    <a:lnTo>
                      <a:pt x="2041" y="1077"/>
                    </a:lnTo>
                    <a:lnTo>
                      <a:pt x="2048" y="1078"/>
                    </a:lnTo>
                    <a:lnTo>
                      <a:pt x="2054" y="1079"/>
                    </a:lnTo>
                    <a:lnTo>
                      <a:pt x="2060" y="1081"/>
                    </a:lnTo>
                    <a:lnTo>
                      <a:pt x="2068" y="1083"/>
                    </a:lnTo>
                    <a:lnTo>
                      <a:pt x="2074" y="1085"/>
                    </a:lnTo>
                    <a:lnTo>
                      <a:pt x="2084" y="1087"/>
                    </a:lnTo>
                    <a:lnTo>
                      <a:pt x="2082" y="1087"/>
                    </a:lnTo>
                    <a:lnTo>
                      <a:pt x="2081" y="1088"/>
                    </a:lnTo>
                    <a:lnTo>
                      <a:pt x="2080" y="1088"/>
                    </a:lnTo>
                    <a:lnTo>
                      <a:pt x="2079" y="1089"/>
                    </a:lnTo>
                    <a:lnTo>
                      <a:pt x="2078" y="1091"/>
                    </a:lnTo>
                    <a:lnTo>
                      <a:pt x="2077" y="1092"/>
                    </a:lnTo>
                    <a:lnTo>
                      <a:pt x="2076" y="1093"/>
                    </a:lnTo>
                    <a:lnTo>
                      <a:pt x="2075" y="1094"/>
                    </a:lnTo>
                    <a:lnTo>
                      <a:pt x="2078" y="1094"/>
                    </a:lnTo>
                    <a:lnTo>
                      <a:pt x="2080" y="1094"/>
                    </a:lnTo>
                    <a:lnTo>
                      <a:pt x="2082" y="1093"/>
                    </a:lnTo>
                    <a:lnTo>
                      <a:pt x="2085" y="1092"/>
                    </a:lnTo>
                    <a:lnTo>
                      <a:pt x="2088" y="1089"/>
                    </a:lnTo>
                    <a:lnTo>
                      <a:pt x="2090" y="1088"/>
                    </a:lnTo>
                    <a:lnTo>
                      <a:pt x="2093" y="1087"/>
                    </a:lnTo>
                    <a:lnTo>
                      <a:pt x="2095" y="1087"/>
                    </a:lnTo>
                    <a:lnTo>
                      <a:pt x="2094" y="1088"/>
                    </a:lnTo>
                    <a:lnTo>
                      <a:pt x="2093" y="1091"/>
                    </a:lnTo>
                    <a:lnTo>
                      <a:pt x="2091" y="1093"/>
                    </a:lnTo>
                    <a:lnTo>
                      <a:pt x="2090" y="1094"/>
                    </a:lnTo>
                    <a:lnTo>
                      <a:pt x="2088" y="1096"/>
                    </a:lnTo>
                    <a:lnTo>
                      <a:pt x="2087" y="1097"/>
                    </a:lnTo>
                    <a:lnTo>
                      <a:pt x="2086" y="1099"/>
                    </a:lnTo>
                    <a:lnTo>
                      <a:pt x="2084" y="1101"/>
                    </a:lnTo>
                    <a:lnTo>
                      <a:pt x="2086" y="1102"/>
                    </a:lnTo>
                    <a:lnTo>
                      <a:pt x="2088" y="1102"/>
                    </a:lnTo>
                    <a:lnTo>
                      <a:pt x="2090" y="1102"/>
                    </a:lnTo>
                    <a:lnTo>
                      <a:pt x="2092" y="1101"/>
                    </a:lnTo>
                    <a:lnTo>
                      <a:pt x="2094" y="1099"/>
                    </a:lnTo>
                    <a:lnTo>
                      <a:pt x="2095" y="1098"/>
                    </a:lnTo>
                    <a:lnTo>
                      <a:pt x="2097" y="1097"/>
                    </a:lnTo>
                    <a:lnTo>
                      <a:pt x="2099" y="1096"/>
                    </a:lnTo>
                    <a:lnTo>
                      <a:pt x="2095" y="1101"/>
                    </a:lnTo>
                    <a:lnTo>
                      <a:pt x="2089" y="1106"/>
                    </a:lnTo>
                    <a:lnTo>
                      <a:pt x="2082" y="1112"/>
                    </a:lnTo>
                    <a:lnTo>
                      <a:pt x="2076" y="1117"/>
                    </a:lnTo>
                    <a:lnTo>
                      <a:pt x="2070" y="1122"/>
                    </a:lnTo>
                    <a:lnTo>
                      <a:pt x="2063" y="1128"/>
                    </a:lnTo>
                    <a:lnTo>
                      <a:pt x="2058" y="1133"/>
                    </a:lnTo>
                    <a:lnTo>
                      <a:pt x="2053" y="1139"/>
                    </a:lnTo>
                    <a:lnTo>
                      <a:pt x="2059" y="1138"/>
                    </a:lnTo>
                    <a:lnTo>
                      <a:pt x="2066" y="1135"/>
                    </a:lnTo>
                    <a:lnTo>
                      <a:pt x="2071" y="1131"/>
                    </a:lnTo>
                    <a:lnTo>
                      <a:pt x="2076" y="1126"/>
                    </a:lnTo>
                    <a:lnTo>
                      <a:pt x="2081" y="1121"/>
                    </a:lnTo>
                    <a:lnTo>
                      <a:pt x="2087" y="1117"/>
                    </a:lnTo>
                    <a:lnTo>
                      <a:pt x="2093" y="1113"/>
                    </a:lnTo>
                    <a:lnTo>
                      <a:pt x="2099" y="1110"/>
                    </a:lnTo>
                    <a:lnTo>
                      <a:pt x="2097" y="1117"/>
                    </a:lnTo>
                    <a:lnTo>
                      <a:pt x="2093" y="1123"/>
                    </a:lnTo>
                    <a:lnTo>
                      <a:pt x="2088" y="1130"/>
                    </a:lnTo>
                    <a:lnTo>
                      <a:pt x="2082" y="1136"/>
                    </a:lnTo>
                    <a:lnTo>
                      <a:pt x="2077" y="1142"/>
                    </a:lnTo>
                    <a:lnTo>
                      <a:pt x="2072" y="1149"/>
                    </a:lnTo>
                    <a:lnTo>
                      <a:pt x="2068" y="1156"/>
                    </a:lnTo>
                    <a:lnTo>
                      <a:pt x="2066" y="1163"/>
                    </a:lnTo>
                    <a:lnTo>
                      <a:pt x="2066" y="1165"/>
                    </a:lnTo>
                    <a:lnTo>
                      <a:pt x="2066" y="1166"/>
                    </a:lnTo>
                    <a:lnTo>
                      <a:pt x="2066" y="1168"/>
                    </a:lnTo>
                    <a:lnTo>
                      <a:pt x="2066" y="1169"/>
                    </a:lnTo>
                    <a:lnTo>
                      <a:pt x="2066" y="1170"/>
                    </a:lnTo>
                    <a:lnTo>
                      <a:pt x="2066" y="1171"/>
                    </a:lnTo>
                    <a:lnTo>
                      <a:pt x="2067" y="1171"/>
                    </a:lnTo>
                    <a:lnTo>
                      <a:pt x="2068" y="1172"/>
                    </a:lnTo>
                    <a:lnTo>
                      <a:pt x="2071" y="1171"/>
                    </a:lnTo>
                    <a:lnTo>
                      <a:pt x="2075" y="1169"/>
                    </a:lnTo>
                    <a:lnTo>
                      <a:pt x="2077" y="1166"/>
                    </a:lnTo>
                    <a:lnTo>
                      <a:pt x="2080" y="1161"/>
                    </a:lnTo>
                    <a:lnTo>
                      <a:pt x="2082" y="1158"/>
                    </a:lnTo>
                    <a:lnTo>
                      <a:pt x="2085" y="1154"/>
                    </a:lnTo>
                    <a:lnTo>
                      <a:pt x="2087" y="1150"/>
                    </a:lnTo>
                    <a:lnTo>
                      <a:pt x="2090" y="1146"/>
                    </a:lnTo>
                    <a:lnTo>
                      <a:pt x="2097" y="1139"/>
                    </a:lnTo>
                    <a:lnTo>
                      <a:pt x="2106" y="1131"/>
                    </a:lnTo>
                    <a:lnTo>
                      <a:pt x="2112" y="1122"/>
                    </a:lnTo>
                    <a:lnTo>
                      <a:pt x="2118" y="1114"/>
                    </a:lnTo>
                    <a:lnTo>
                      <a:pt x="2125" y="1105"/>
                    </a:lnTo>
                    <a:lnTo>
                      <a:pt x="2131" y="1097"/>
                    </a:lnTo>
                    <a:lnTo>
                      <a:pt x="2137" y="1087"/>
                    </a:lnTo>
                    <a:lnTo>
                      <a:pt x="2144" y="1079"/>
                    </a:lnTo>
                    <a:lnTo>
                      <a:pt x="2142" y="1076"/>
                    </a:lnTo>
                    <a:lnTo>
                      <a:pt x="2141" y="1073"/>
                    </a:lnTo>
                    <a:lnTo>
                      <a:pt x="2141" y="1070"/>
                    </a:lnTo>
                    <a:lnTo>
                      <a:pt x="2141" y="1068"/>
                    </a:lnTo>
                    <a:lnTo>
                      <a:pt x="2143" y="1064"/>
                    </a:lnTo>
                    <a:lnTo>
                      <a:pt x="2146" y="1060"/>
                    </a:lnTo>
                    <a:lnTo>
                      <a:pt x="2149" y="1056"/>
                    </a:lnTo>
                    <a:lnTo>
                      <a:pt x="2152" y="1051"/>
                    </a:lnTo>
                    <a:lnTo>
                      <a:pt x="2153" y="1049"/>
                    </a:lnTo>
                    <a:lnTo>
                      <a:pt x="2154" y="1047"/>
                    </a:lnTo>
                    <a:lnTo>
                      <a:pt x="2154" y="1044"/>
                    </a:lnTo>
                    <a:lnTo>
                      <a:pt x="2154" y="1041"/>
                    </a:lnTo>
                    <a:lnTo>
                      <a:pt x="2157" y="1036"/>
                    </a:lnTo>
                    <a:lnTo>
                      <a:pt x="2160" y="1030"/>
                    </a:lnTo>
                    <a:lnTo>
                      <a:pt x="2163" y="1025"/>
                    </a:lnTo>
                    <a:lnTo>
                      <a:pt x="2167" y="1020"/>
                    </a:lnTo>
                    <a:lnTo>
                      <a:pt x="2169" y="1014"/>
                    </a:lnTo>
                    <a:lnTo>
                      <a:pt x="2171" y="1009"/>
                    </a:lnTo>
                    <a:lnTo>
                      <a:pt x="2171" y="1004"/>
                    </a:lnTo>
                    <a:lnTo>
                      <a:pt x="2170" y="998"/>
                    </a:lnTo>
                    <a:lnTo>
                      <a:pt x="2178" y="990"/>
                    </a:lnTo>
                    <a:lnTo>
                      <a:pt x="2183" y="982"/>
                    </a:lnTo>
                    <a:lnTo>
                      <a:pt x="2187" y="972"/>
                    </a:lnTo>
                    <a:lnTo>
                      <a:pt x="2190" y="963"/>
                    </a:lnTo>
                    <a:lnTo>
                      <a:pt x="2194" y="953"/>
                    </a:lnTo>
                    <a:lnTo>
                      <a:pt x="2197" y="945"/>
                    </a:lnTo>
                    <a:lnTo>
                      <a:pt x="2202" y="935"/>
                    </a:lnTo>
                    <a:lnTo>
                      <a:pt x="2208" y="927"/>
                    </a:lnTo>
                    <a:lnTo>
                      <a:pt x="2210" y="923"/>
                    </a:lnTo>
                    <a:lnTo>
                      <a:pt x="2212" y="921"/>
                    </a:lnTo>
                    <a:lnTo>
                      <a:pt x="2210" y="918"/>
                    </a:lnTo>
                    <a:lnTo>
                      <a:pt x="2208" y="916"/>
                    </a:lnTo>
                    <a:lnTo>
                      <a:pt x="2207" y="914"/>
                    </a:lnTo>
                    <a:lnTo>
                      <a:pt x="2206" y="912"/>
                    </a:lnTo>
                    <a:lnTo>
                      <a:pt x="2205" y="909"/>
                    </a:lnTo>
                    <a:lnTo>
                      <a:pt x="2206" y="905"/>
                    </a:lnTo>
                    <a:lnTo>
                      <a:pt x="2210" y="898"/>
                    </a:lnTo>
                    <a:lnTo>
                      <a:pt x="2215" y="891"/>
                    </a:lnTo>
                    <a:lnTo>
                      <a:pt x="2218" y="883"/>
                    </a:lnTo>
                    <a:lnTo>
                      <a:pt x="2222" y="876"/>
                    </a:lnTo>
                    <a:lnTo>
                      <a:pt x="2226" y="867"/>
                    </a:lnTo>
                    <a:lnTo>
                      <a:pt x="2230" y="860"/>
                    </a:lnTo>
                    <a:lnTo>
                      <a:pt x="2233" y="851"/>
                    </a:lnTo>
                    <a:lnTo>
                      <a:pt x="2235" y="843"/>
                    </a:lnTo>
                    <a:lnTo>
                      <a:pt x="2231" y="836"/>
                    </a:lnTo>
                    <a:lnTo>
                      <a:pt x="2234" y="824"/>
                    </a:lnTo>
                    <a:lnTo>
                      <a:pt x="2238" y="813"/>
                    </a:lnTo>
                    <a:lnTo>
                      <a:pt x="2242" y="802"/>
                    </a:lnTo>
                    <a:lnTo>
                      <a:pt x="2246" y="791"/>
                    </a:lnTo>
                    <a:lnTo>
                      <a:pt x="2250" y="780"/>
                    </a:lnTo>
                    <a:lnTo>
                      <a:pt x="2253" y="768"/>
                    </a:lnTo>
                    <a:lnTo>
                      <a:pt x="2256" y="756"/>
                    </a:lnTo>
                    <a:lnTo>
                      <a:pt x="2257" y="745"/>
                    </a:lnTo>
                    <a:lnTo>
                      <a:pt x="2260" y="745"/>
                    </a:lnTo>
                    <a:lnTo>
                      <a:pt x="2263" y="744"/>
                    </a:lnTo>
                    <a:lnTo>
                      <a:pt x="2266" y="743"/>
                    </a:lnTo>
                    <a:lnTo>
                      <a:pt x="2268" y="740"/>
                    </a:lnTo>
                    <a:lnTo>
                      <a:pt x="2270" y="735"/>
                    </a:lnTo>
                    <a:lnTo>
                      <a:pt x="2272" y="730"/>
                    </a:lnTo>
                    <a:lnTo>
                      <a:pt x="2274" y="725"/>
                    </a:lnTo>
                    <a:lnTo>
                      <a:pt x="2277" y="720"/>
                    </a:lnTo>
                    <a:lnTo>
                      <a:pt x="2280" y="719"/>
                    </a:lnTo>
                    <a:lnTo>
                      <a:pt x="2283" y="718"/>
                    </a:lnTo>
                    <a:lnTo>
                      <a:pt x="2287" y="719"/>
                    </a:lnTo>
                    <a:lnTo>
                      <a:pt x="2292" y="720"/>
                    </a:lnTo>
                    <a:lnTo>
                      <a:pt x="2304" y="700"/>
                    </a:lnTo>
                    <a:lnTo>
                      <a:pt x="2309" y="710"/>
                    </a:lnTo>
                    <a:lnTo>
                      <a:pt x="2314" y="720"/>
                    </a:lnTo>
                    <a:lnTo>
                      <a:pt x="2319" y="731"/>
                    </a:lnTo>
                    <a:lnTo>
                      <a:pt x="2323" y="741"/>
                    </a:lnTo>
                    <a:lnTo>
                      <a:pt x="2327" y="753"/>
                    </a:lnTo>
                    <a:lnTo>
                      <a:pt x="2329" y="765"/>
                    </a:lnTo>
                    <a:lnTo>
                      <a:pt x="2331" y="776"/>
                    </a:lnTo>
                    <a:lnTo>
                      <a:pt x="2333" y="788"/>
                    </a:lnTo>
                    <a:lnTo>
                      <a:pt x="2333" y="801"/>
                    </a:lnTo>
                    <a:lnTo>
                      <a:pt x="2334" y="812"/>
                    </a:lnTo>
                    <a:lnTo>
                      <a:pt x="2333" y="825"/>
                    </a:lnTo>
                    <a:lnTo>
                      <a:pt x="2332" y="837"/>
                    </a:lnTo>
                    <a:lnTo>
                      <a:pt x="2330" y="849"/>
                    </a:lnTo>
                    <a:lnTo>
                      <a:pt x="2328" y="861"/>
                    </a:lnTo>
                    <a:lnTo>
                      <a:pt x="2325" y="873"/>
                    </a:lnTo>
                    <a:lnTo>
                      <a:pt x="2322" y="884"/>
                    </a:lnTo>
                    <a:lnTo>
                      <a:pt x="2319" y="894"/>
                    </a:lnTo>
                    <a:lnTo>
                      <a:pt x="2317" y="903"/>
                    </a:lnTo>
                    <a:lnTo>
                      <a:pt x="2314" y="914"/>
                    </a:lnTo>
                    <a:lnTo>
                      <a:pt x="2311" y="923"/>
                    </a:lnTo>
                    <a:lnTo>
                      <a:pt x="2307" y="933"/>
                    </a:lnTo>
                    <a:lnTo>
                      <a:pt x="2303" y="943"/>
                    </a:lnTo>
                    <a:lnTo>
                      <a:pt x="2298" y="953"/>
                    </a:lnTo>
                    <a:lnTo>
                      <a:pt x="2293" y="963"/>
                    </a:lnTo>
                    <a:lnTo>
                      <a:pt x="2294" y="970"/>
                    </a:lnTo>
                    <a:lnTo>
                      <a:pt x="2293" y="978"/>
                    </a:lnTo>
                    <a:lnTo>
                      <a:pt x="2291" y="986"/>
                    </a:lnTo>
                    <a:lnTo>
                      <a:pt x="2288" y="993"/>
                    </a:lnTo>
                    <a:lnTo>
                      <a:pt x="2285" y="1001"/>
                    </a:lnTo>
                    <a:lnTo>
                      <a:pt x="2281" y="1008"/>
                    </a:lnTo>
                    <a:lnTo>
                      <a:pt x="2278" y="1015"/>
                    </a:lnTo>
                    <a:lnTo>
                      <a:pt x="2275" y="1023"/>
                    </a:lnTo>
                    <a:lnTo>
                      <a:pt x="2286" y="1033"/>
                    </a:lnTo>
                    <a:lnTo>
                      <a:pt x="2280" y="1046"/>
                    </a:lnTo>
                    <a:lnTo>
                      <a:pt x="2274" y="1059"/>
                    </a:lnTo>
                    <a:lnTo>
                      <a:pt x="2267" y="1073"/>
                    </a:lnTo>
                    <a:lnTo>
                      <a:pt x="2260" y="1085"/>
                    </a:lnTo>
                    <a:lnTo>
                      <a:pt x="2254" y="1098"/>
                    </a:lnTo>
                    <a:lnTo>
                      <a:pt x="2249" y="1111"/>
                    </a:lnTo>
                    <a:lnTo>
                      <a:pt x="2246" y="1118"/>
                    </a:lnTo>
                    <a:lnTo>
                      <a:pt x="2245" y="1124"/>
                    </a:lnTo>
                    <a:lnTo>
                      <a:pt x="2244" y="1131"/>
                    </a:lnTo>
                    <a:lnTo>
                      <a:pt x="2244" y="1138"/>
                    </a:lnTo>
                    <a:lnTo>
                      <a:pt x="2241" y="1146"/>
                    </a:lnTo>
                    <a:lnTo>
                      <a:pt x="2238" y="1152"/>
                    </a:lnTo>
                    <a:lnTo>
                      <a:pt x="2235" y="1159"/>
                    </a:lnTo>
                    <a:lnTo>
                      <a:pt x="2231" y="1167"/>
                    </a:lnTo>
                    <a:lnTo>
                      <a:pt x="2227" y="1174"/>
                    </a:lnTo>
                    <a:lnTo>
                      <a:pt x="2225" y="1181"/>
                    </a:lnTo>
                    <a:lnTo>
                      <a:pt x="2223" y="1189"/>
                    </a:lnTo>
                    <a:lnTo>
                      <a:pt x="2222" y="1196"/>
                    </a:lnTo>
                    <a:lnTo>
                      <a:pt x="2239" y="1180"/>
                    </a:lnTo>
                    <a:lnTo>
                      <a:pt x="2238" y="1188"/>
                    </a:lnTo>
                    <a:lnTo>
                      <a:pt x="2236" y="1196"/>
                    </a:lnTo>
                    <a:lnTo>
                      <a:pt x="2234" y="1206"/>
                    </a:lnTo>
                    <a:lnTo>
                      <a:pt x="2233" y="1215"/>
                    </a:lnTo>
                    <a:lnTo>
                      <a:pt x="2233" y="1225"/>
                    </a:lnTo>
                    <a:lnTo>
                      <a:pt x="2234" y="1233"/>
                    </a:lnTo>
                    <a:lnTo>
                      <a:pt x="2236" y="1238"/>
                    </a:lnTo>
                    <a:lnTo>
                      <a:pt x="2239" y="1241"/>
                    </a:lnTo>
                    <a:lnTo>
                      <a:pt x="2242" y="1244"/>
                    </a:lnTo>
                    <a:lnTo>
                      <a:pt x="2246" y="1247"/>
                    </a:lnTo>
                    <a:lnTo>
                      <a:pt x="2250" y="1251"/>
                    </a:lnTo>
                    <a:lnTo>
                      <a:pt x="2252" y="1255"/>
                    </a:lnTo>
                    <a:lnTo>
                      <a:pt x="2253" y="1260"/>
                    </a:lnTo>
                    <a:lnTo>
                      <a:pt x="2254" y="1264"/>
                    </a:lnTo>
                    <a:lnTo>
                      <a:pt x="2255" y="1272"/>
                    </a:lnTo>
                    <a:lnTo>
                      <a:pt x="2256" y="1281"/>
                    </a:lnTo>
                    <a:lnTo>
                      <a:pt x="2257" y="1289"/>
                    </a:lnTo>
                    <a:lnTo>
                      <a:pt x="2258" y="1298"/>
                    </a:lnTo>
                    <a:lnTo>
                      <a:pt x="2260" y="1302"/>
                    </a:lnTo>
                    <a:lnTo>
                      <a:pt x="2262" y="1305"/>
                    </a:lnTo>
                    <a:lnTo>
                      <a:pt x="2266" y="1309"/>
                    </a:lnTo>
                    <a:lnTo>
                      <a:pt x="2269" y="1313"/>
                    </a:lnTo>
                    <a:lnTo>
                      <a:pt x="2269" y="1321"/>
                    </a:lnTo>
                    <a:lnTo>
                      <a:pt x="2270" y="1328"/>
                    </a:lnTo>
                    <a:lnTo>
                      <a:pt x="2272" y="1336"/>
                    </a:lnTo>
                    <a:lnTo>
                      <a:pt x="2275" y="1342"/>
                    </a:lnTo>
                    <a:lnTo>
                      <a:pt x="2277" y="1349"/>
                    </a:lnTo>
                    <a:lnTo>
                      <a:pt x="2280" y="1355"/>
                    </a:lnTo>
                    <a:lnTo>
                      <a:pt x="2282" y="1362"/>
                    </a:lnTo>
                    <a:lnTo>
                      <a:pt x="2283" y="1370"/>
                    </a:lnTo>
                    <a:lnTo>
                      <a:pt x="2293" y="1374"/>
                    </a:lnTo>
                    <a:lnTo>
                      <a:pt x="2294" y="1381"/>
                    </a:lnTo>
                    <a:lnTo>
                      <a:pt x="2295" y="1390"/>
                    </a:lnTo>
                    <a:lnTo>
                      <a:pt x="2295" y="1397"/>
                    </a:lnTo>
                    <a:lnTo>
                      <a:pt x="2296" y="1406"/>
                    </a:lnTo>
                    <a:lnTo>
                      <a:pt x="2298" y="1413"/>
                    </a:lnTo>
                    <a:lnTo>
                      <a:pt x="2301" y="1420"/>
                    </a:lnTo>
                    <a:lnTo>
                      <a:pt x="2306" y="1426"/>
                    </a:lnTo>
                    <a:lnTo>
                      <a:pt x="2311" y="1430"/>
                    </a:lnTo>
                    <a:lnTo>
                      <a:pt x="2314" y="1435"/>
                    </a:lnTo>
                    <a:lnTo>
                      <a:pt x="2317" y="1441"/>
                    </a:lnTo>
                    <a:lnTo>
                      <a:pt x="2319" y="1446"/>
                    </a:lnTo>
                    <a:lnTo>
                      <a:pt x="2322" y="1451"/>
                    </a:lnTo>
                    <a:lnTo>
                      <a:pt x="2325" y="1456"/>
                    </a:lnTo>
                    <a:lnTo>
                      <a:pt x="2327" y="1462"/>
                    </a:lnTo>
                    <a:lnTo>
                      <a:pt x="2330" y="1467"/>
                    </a:lnTo>
                    <a:lnTo>
                      <a:pt x="2334" y="1472"/>
                    </a:lnTo>
                    <a:lnTo>
                      <a:pt x="2340" y="1478"/>
                    </a:lnTo>
                    <a:lnTo>
                      <a:pt x="2347" y="1481"/>
                    </a:lnTo>
                    <a:lnTo>
                      <a:pt x="2354" y="1484"/>
                    </a:lnTo>
                    <a:lnTo>
                      <a:pt x="2362" y="1485"/>
                    </a:lnTo>
                    <a:lnTo>
                      <a:pt x="2378" y="1487"/>
                    </a:lnTo>
                    <a:lnTo>
                      <a:pt x="2394" y="1488"/>
                    </a:lnTo>
                    <a:lnTo>
                      <a:pt x="2401" y="1489"/>
                    </a:lnTo>
                    <a:lnTo>
                      <a:pt x="2408" y="1491"/>
                    </a:lnTo>
                    <a:lnTo>
                      <a:pt x="2415" y="1493"/>
                    </a:lnTo>
                    <a:lnTo>
                      <a:pt x="2420" y="1498"/>
                    </a:lnTo>
                    <a:lnTo>
                      <a:pt x="2425" y="1503"/>
                    </a:lnTo>
                    <a:lnTo>
                      <a:pt x="2428" y="1509"/>
                    </a:lnTo>
                    <a:lnTo>
                      <a:pt x="2432" y="1518"/>
                    </a:lnTo>
                    <a:lnTo>
                      <a:pt x="2433" y="1529"/>
                    </a:lnTo>
                    <a:lnTo>
                      <a:pt x="2441" y="1550"/>
                    </a:lnTo>
                    <a:lnTo>
                      <a:pt x="2447" y="1570"/>
                    </a:lnTo>
                    <a:lnTo>
                      <a:pt x="2452" y="1590"/>
                    </a:lnTo>
                    <a:lnTo>
                      <a:pt x="2455" y="1611"/>
                    </a:lnTo>
                    <a:lnTo>
                      <a:pt x="2457" y="1632"/>
                    </a:lnTo>
                    <a:lnTo>
                      <a:pt x="2457" y="1653"/>
                    </a:lnTo>
                    <a:lnTo>
                      <a:pt x="2457" y="1675"/>
                    </a:lnTo>
                    <a:lnTo>
                      <a:pt x="2456" y="1697"/>
                    </a:lnTo>
                    <a:lnTo>
                      <a:pt x="2453" y="1697"/>
                    </a:lnTo>
                    <a:lnTo>
                      <a:pt x="2450" y="1699"/>
                    </a:lnTo>
                    <a:lnTo>
                      <a:pt x="2447" y="1701"/>
                    </a:lnTo>
                    <a:lnTo>
                      <a:pt x="2446" y="1704"/>
                    </a:lnTo>
                    <a:lnTo>
                      <a:pt x="2444" y="1707"/>
                    </a:lnTo>
                    <a:lnTo>
                      <a:pt x="2443" y="1710"/>
                    </a:lnTo>
                    <a:lnTo>
                      <a:pt x="2441" y="1713"/>
                    </a:lnTo>
                    <a:lnTo>
                      <a:pt x="2438" y="1717"/>
                    </a:lnTo>
                    <a:lnTo>
                      <a:pt x="2437" y="1715"/>
                    </a:lnTo>
                    <a:lnTo>
                      <a:pt x="2436" y="1713"/>
                    </a:lnTo>
                    <a:lnTo>
                      <a:pt x="2434" y="1712"/>
                    </a:lnTo>
                    <a:lnTo>
                      <a:pt x="2433" y="1711"/>
                    </a:lnTo>
                    <a:lnTo>
                      <a:pt x="2431" y="1710"/>
                    </a:lnTo>
                    <a:lnTo>
                      <a:pt x="2428" y="1710"/>
                    </a:lnTo>
                    <a:lnTo>
                      <a:pt x="2426" y="1710"/>
                    </a:lnTo>
                    <a:lnTo>
                      <a:pt x="2424" y="1710"/>
                    </a:lnTo>
                    <a:lnTo>
                      <a:pt x="2413" y="1726"/>
                    </a:lnTo>
                    <a:lnTo>
                      <a:pt x="2406" y="1726"/>
                    </a:lnTo>
                    <a:lnTo>
                      <a:pt x="2400" y="1726"/>
                    </a:lnTo>
                    <a:lnTo>
                      <a:pt x="2395" y="1727"/>
                    </a:lnTo>
                    <a:lnTo>
                      <a:pt x="2390" y="1728"/>
                    </a:lnTo>
                    <a:lnTo>
                      <a:pt x="2385" y="1730"/>
                    </a:lnTo>
                    <a:lnTo>
                      <a:pt x="2380" y="1733"/>
                    </a:lnTo>
                    <a:lnTo>
                      <a:pt x="2376" y="1735"/>
                    </a:lnTo>
                    <a:lnTo>
                      <a:pt x="2370" y="1737"/>
                    </a:lnTo>
                    <a:lnTo>
                      <a:pt x="2369" y="1736"/>
                    </a:lnTo>
                    <a:lnTo>
                      <a:pt x="2369" y="1735"/>
                    </a:lnTo>
                    <a:lnTo>
                      <a:pt x="2370" y="1734"/>
                    </a:lnTo>
                    <a:lnTo>
                      <a:pt x="2371" y="1733"/>
                    </a:lnTo>
                    <a:lnTo>
                      <a:pt x="2371" y="1730"/>
                    </a:lnTo>
                    <a:lnTo>
                      <a:pt x="2372" y="1728"/>
                    </a:lnTo>
                    <a:lnTo>
                      <a:pt x="2372" y="1726"/>
                    </a:lnTo>
                    <a:lnTo>
                      <a:pt x="2371" y="1724"/>
                    </a:lnTo>
                    <a:lnTo>
                      <a:pt x="2366" y="1722"/>
                    </a:lnTo>
                    <a:lnTo>
                      <a:pt x="2361" y="1721"/>
                    </a:lnTo>
                    <a:lnTo>
                      <a:pt x="2355" y="1720"/>
                    </a:lnTo>
                    <a:lnTo>
                      <a:pt x="2350" y="1721"/>
                    </a:lnTo>
                    <a:lnTo>
                      <a:pt x="2339" y="1724"/>
                    </a:lnTo>
                    <a:lnTo>
                      <a:pt x="2328" y="1728"/>
                    </a:lnTo>
                    <a:lnTo>
                      <a:pt x="2317" y="1733"/>
                    </a:lnTo>
                    <a:lnTo>
                      <a:pt x="2307" y="1737"/>
                    </a:lnTo>
                    <a:lnTo>
                      <a:pt x="2301" y="1739"/>
                    </a:lnTo>
                    <a:lnTo>
                      <a:pt x="2296" y="1740"/>
                    </a:lnTo>
                    <a:lnTo>
                      <a:pt x="2291" y="1740"/>
                    </a:lnTo>
                    <a:lnTo>
                      <a:pt x="2286" y="1739"/>
                    </a:lnTo>
                    <a:lnTo>
                      <a:pt x="2283" y="1740"/>
                    </a:lnTo>
                    <a:lnTo>
                      <a:pt x="2281" y="1740"/>
                    </a:lnTo>
                    <a:lnTo>
                      <a:pt x="2279" y="1741"/>
                    </a:lnTo>
                    <a:lnTo>
                      <a:pt x="2277" y="1741"/>
                    </a:lnTo>
                    <a:lnTo>
                      <a:pt x="2275" y="1742"/>
                    </a:lnTo>
                    <a:lnTo>
                      <a:pt x="2273" y="1742"/>
                    </a:lnTo>
                    <a:lnTo>
                      <a:pt x="2271" y="1742"/>
                    </a:lnTo>
                    <a:lnTo>
                      <a:pt x="2269" y="1742"/>
                    </a:lnTo>
                    <a:lnTo>
                      <a:pt x="2250" y="1750"/>
                    </a:lnTo>
                    <a:lnTo>
                      <a:pt x="2246" y="1737"/>
                    </a:lnTo>
                    <a:lnTo>
                      <a:pt x="2243" y="1736"/>
                    </a:lnTo>
                    <a:lnTo>
                      <a:pt x="2239" y="1735"/>
                    </a:lnTo>
                    <a:lnTo>
                      <a:pt x="2236" y="1735"/>
                    </a:lnTo>
                    <a:lnTo>
                      <a:pt x="2232" y="1736"/>
                    </a:lnTo>
                    <a:lnTo>
                      <a:pt x="2224" y="1738"/>
                    </a:lnTo>
                    <a:lnTo>
                      <a:pt x="2217" y="1740"/>
                    </a:lnTo>
                    <a:lnTo>
                      <a:pt x="2209" y="1742"/>
                    </a:lnTo>
                    <a:lnTo>
                      <a:pt x="2202" y="1742"/>
                    </a:lnTo>
                    <a:lnTo>
                      <a:pt x="2199" y="1742"/>
                    </a:lnTo>
                    <a:lnTo>
                      <a:pt x="2196" y="1741"/>
                    </a:lnTo>
                    <a:lnTo>
                      <a:pt x="2191" y="1739"/>
                    </a:lnTo>
                    <a:lnTo>
                      <a:pt x="2188" y="1737"/>
                    </a:lnTo>
                    <a:lnTo>
                      <a:pt x="2186" y="1738"/>
                    </a:lnTo>
                    <a:lnTo>
                      <a:pt x="2185" y="1739"/>
                    </a:lnTo>
                    <a:lnTo>
                      <a:pt x="2183" y="1739"/>
                    </a:lnTo>
                    <a:lnTo>
                      <a:pt x="2181" y="1739"/>
                    </a:lnTo>
                    <a:lnTo>
                      <a:pt x="2179" y="1739"/>
                    </a:lnTo>
                    <a:lnTo>
                      <a:pt x="2177" y="1739"/>
                    </a:lnTo>
                    <a:lnTo>
                      <a:pt x="2175" y="1739"/>
                    </a:lnTo>
                    <a:lnTo>
                      <a:pt x="2172" y="1739"/>
                    </a:lnTo>
                    <a:lnTo>
                      <a:pt x="2172" y="1738"/>
                    </a:lnTo>
                    <a:lnTo>
                      <a:pt x="2172" y="1737"/>
                    </a:lnTo>
                    <a:lnTo>
                      <a:pt x="2171" y="1736"/>
                    </a:lnTo>
                    <a:lnTo>
                      <a:pt x="2171" y="1736"/>
                    </a:lnTo>
                    <a:lnTo>
                      <a:pt x="2170" y="1735"/>
                    </a:lnTo>
                    <a:lnTo>
                      <a:pt x="2169" y="1734"/>
                    </a:lnTo>
                    <a:lnTo>
                      <a:pt x="2169" y="1734"/>
                    </a:lnTo>
                    <a:lnTo>
                      <a:pt x="2168" y="1733"/>
                    </a:lnTo>
                    <a:lnTo>
                      <a:pt x="2161" y="1735"/>
                    </a:lnTo>
                    <a:lnTo>
                      <a:pt x="2152" y="1738"/>
                    </a:lnTo>
                    <a:lnTo>
                      <a:pt x="2143" y="1741"/>
                    </a:lnTo>
                    <a:lnTo>
                      <a:pt x="2134" y="1743"/>
                    </a:lnTo>
                    <a:lnTo>
                      <a:pt x="2126" y="1744"/>
                    </a:lnTo>
                    <a:lnTo>
                      <a:pt x="2117" y="1744"/>
                    </a:lnTo>
                    <a:lnTo>
                      <a:pt x="2113" y="1743"/>
                    </a:lnTo>
                    <a:lnTo>
                      <a:pt x="2109" y="1741"/>
                    </a:lnTo>
                    <a:lnTo>
                      <a:pt x="2106" y="1738"/>
                    </a:lnTo>
                    <a:lnTo>
                      <a:pt x="2101" y="1735"/>
                    </a:lnTo>
                    <a:lnTo>
                      <a:pt x="2101" y="1726"/>
                    </a:lnTo>
                    <a:lnTo>
                      <a:pt x="2100" y="1719"/>
                    </a:lnTo>
                    <a:lnTo>
                      <a:pt x="2099" y="1710"/>
                    </a:lnTo>
                    <a:lnTo>
                      <a:pt x="2098" y="1703"/>
                    </a:lnTo>
                    <a:lnTo>
                      <a:pt x="2097" y="1695"/>
                    </a:lnTo>
                    <a:lnTo>
                      <a:pt x="2097" y="1688"/>
                    </a:lnTo>
                    <a:lnTo>
                      <a:pt x="2098" y="1681"/>
                    </a:lnTo>
                    <a:lnTo>
                      <a:pt x="2099" y="1672"/>
                    </a:lnTo>
                    <a:lnTo>
                      <a:pt x="2107" y="1667"/>
                    </a:lnTo>
                    <a:lnTo>
                      <a:pt x="2113" y="1662"/>
                    </a:lnTo>
                    <a:lnTo>
                      <a:pt x="2118" y="1655"/>
                    </a:lnTo>
                    <a:lnTo>
                      <a:pt x="2124" y="1648"/>
                    </a:lnTo>
                    <a:lnTo>
                      <a:pt x="2128" y="1642"/>
                    </a:lnTo>
                    <a:lnTo>
                      <a:pt x="2133" y="1634"/>
                    </a:lnTo>
                    <a:lnTo>
                      <a:pt x="2137" y="1627"/>
                    </a:lnTo>
                    <a:lnTo>
                      <a:pt x="2142" y="1619"/>
                    </a:lnTo>
                    <a:lnTo>
                      <a:pt x="2143" y="1615"/>
                    </a:lnTo>
                    <a:lnTo>
                      <a:pt x="2143" y="1610"/>
                    </a:lnTo>
                    <a:lnTo>
                      <a:pt x="2142" y="1605"/>
                    </a:lnTo>
                    <a:lnTo>
                      <a:pt x="2140" y="1599"/>
                    </a:lnTo>
                    <a:lnTo>
                      <a:pt x="2137" y="1594"/>
                    </a:lnTo>
                    <a:lnTo>
                      <a:pt x="2134" y="1589"/>
                    </a:lnTo>
                    <a:lnTo>
                      <a:pt x="2130" y="1583"/>
                    </a:lnTo>
                    <a:lnTo>
                      <a:pt x="2126" y="1579"/>
                    </a:lnTo>
                    <a:lnTo>
                      <a:pt x="2122" y="1579"/>
                    </a:lnTo>
                    <a:lnTo>
                      <a:pt x="2124" y="1577"/>
                    </a:lnTo>
                    <a:lnTo>
                      <a:pt x="2115" y="1571"/>
                    </a:lnTo>
                    <a:lnTo>
                      <a:pt x="2106" y="1563"/>
                    </a:lnTo>
                    <a:lnTo>
                      <a:pt x="2095" y="1557"/>
                    </a:lnTo>
                    <a:lnTo>
                      <a:pt x="2086" y="1550"/>
                    </a:lnTo>
                    <a:lnTo>
                      <a:pt x="2081" y="1545"/>
                    </a:lnTo>
                    <a:lnTo>
                      <a:pt x="2077" y="1540"/>
                    </a:lnTo>
                    <a:lnTo>
                      <a:pt x="2074" y="1536"/>
                    </a:lnTo>
                    <a:lnTo>
                      <a:pt x="2072" y="1530"/>
                    </a:lnTo>
                    <a:lnTo>
                      <a:pt x="2070" y="1525"/>
                    </a:lnTo>
                    <a:lnTo>
                      <a:pt x="2069" y="1519"/>
                    </a:lnTo>
                    <a:lnTo>
                      <a:pt x="2069" y="1511"/>
                    </a:lnTo>
                    <a:lnTo>
                      <a:pt x="2070" y="1505"/>
                    </a:lnTo>
                    <a:lnTo>
                      <a:pt x="2069" y="1499"/>
                    </a:lnTo>
                    <a:lnTo>
                      <a:pt x="2069" y="1492"/>
                    </a:lnTo>
                    <a:lnTo>
                      <a:pt x="2070" y="1487"/>
                    </a:lnTo>
                    <a:lnTo>
                      <a:pt x="2071" y="1481"/>
                    </a:lnTo>
                    <a:lnTo>
                      <a:pt x="2075" y="1470"/>
                    </a:lnTo>
                    <a:lnTo>
                      <a:pt x="2080" y="1459"/>
                    </a:lnTo>
                    <a:lnTo>
                      <a:pt x="2087" y="1448"/>
                    </a:lnTo>
                    <a:lnTo>
                      <a:pt x="2093" y="1438"/>
                    </a:lnTo>
                    <a:lnTo>
                      <a:pt x="2100" y="1428"/>
                    </a:lnTo>
                    <a:lnTo>
                      <a:pt x="2108" y="1418"/>
                    </a:lnTo>
                    <a:lnTo>
                      <a:pt x="2104" y="1414"/>
                    </a:lnTo>
                    <a:lnTo>
                      <a:pt x="2093" y="1423"/>
                    </a:lnTo>
                    <a:lnTo>
                      <a:pt x="2085" y="1432"/>
                    </a:lnTo>
                    <a:lnTo>
                      <a:pt x="2076" y="1443"/>
                    </a:lnTo>
                    <a:lnTo>
                      <a:pt x="2069" y="1453"/>
                    </a:lnTo>
                    <a:lnTo>
                      <a:pt x="2061" y="1465"/>
                    </a:lnTo>
                    <a:lnTo>
                      <a:pt x="2054" y="1477"/>
                    </a:lnTo>
                    <a:lnTo>
                      <a:pt x="2046" y="1488"/>
                    </a:lnTo>
                    <a:lnTo>
                      <a:pt x="2039" y="1499"/>
                    </a:lnTo>
                    <a:lnTo>
                      <a:pt x="2042" y="1504"/>
                    </a:lnTo>
                    <a:lnTo>
                      <a:pt x="2043" y="1509"/>
                    </a:lnTo>
                    <a:lnTo>
                      <a:pt x="2043" y="1515"/>
                    </a:lnTo>
                    <a:lnTo>
                      <a:pt x="2042" y="1520"/>
                    </a:lnTo>
                    <a:lnTo>
                      <a:pt x="2041" y="1525"/>
                    </a:lnTo>
                    <a:lnTo>
                      <a:pt x="2041" y="1530"/>
                    </a:lnTo>
                    <a:lnTo>
                      <a:pt x="2042" y="1533"/>
                    </a:lnTo>
                    <a:lnTo>
                      <a:pt x="2043" y="1536"/>
                    </a:lnTo>
                    <a:lnTo>
                      <a:pt x="2044" y="1538"/>
                    </a:lnTo>
                    <a:lnTo>
                      <a:pt x="2048" y="1539"/>
                    </a:lnTo>
                    <a:lnTo>
                      <a:pt x="2046" y="1542"/>
                    </a:lnTo>
                    <a:lnTo>
                      <a:pt x="2046" y="1544"/>
                    </a:lnTo>
                    <a:lnTo>
                      <a:pt x="2048" y="1546"/>
                    </a:lnTo>
                    <a:lnTo>
                      <a:pt x="2049" y="1547"/>
                    </a:lnTo>
                    <a:lnTo>
                      <a:pt x="2051" y="1548"/>
                    </a:lnTo>
                    <a:lnTo>
                      <a:pt x="2052" y="1550"/>
                    </a:lnTo>
                    <a:lnTo>
                      <a:pt x="2054" y="1550"/>
                    </a:lnTo>
                    <a:lnTo>
                      <a:pt x="2055" y="1548"/>
                    </a:lnTo>
                    <a:lnTo>
                      <a:pt x="2054" y="1555"/>
                    </a:lnTo>
                    <a:lnTo>
                      <a:pt x="2055" y="1559"/>
                    </a:lnTo>
                    <a:lnTo>
                      <a:pt x="2056" y="1563"/>
                    </a:lnTo>
                    <a:lnTo>
                      <a:pt x="2058" y="1568"/>
                    </a:lnTo>
                    <a:lnTo>
                      <a:pt x="2060" y="1572"/>
                    </a:lnTo>
                    <a:lnTo>
                      <a:pt x="2063" y="1575"/>
                    </a:lnTo>
                    <a:lnTo>
                      <a:pt x="2067" y="1578"/>
                    </a:lnTo>
                    <a:lnTo>
                      <a:pt x="2070" y="1581"/>
                    </a:lnTo>
                    <a:lnTo>
                      <a:pt x="2072" y="1582"/>
                    </a:lnTo>
                    <a:lnTo>
                      <a:pt x="2074" y="1581"/>
                    </a:lnTo>
                    <a:lnTo>
                      <a:pt x="2077" y="1581"/>
                    </a:lnTo>
                    <a:lnTo>
                      <a:pt x="2079" y="1581"/>
                    </a:lnTo>
                    <a:lnTo>
                      <a:pt x="2081" y="1581"/>
                    </a:lnTo>
                    <a:lnTo>
                      <a:pt x="2085" y="1582"/>
                    </a:lnTo>
                    <a:lnTo>
                      <a:pt x="2086" y="1583"/>
                    </a:lnTo>
                    <a:lnTo>
                      <a:pt x="2088" y="1585"/>
                    </a:lnTo>
                    <a:lnTo>
                      <a:pt x="2089" y="1590"/>
                    </a:lnTo>
                    <a:lnTo>
                      <a:pt x="2088" y="1595"/>
                    </a:lnTo>
                    <a:lnTo>
                      <a:pt x="2088" y="1600"/>
                    </a:lnTo>
                    <a:lnTo>
                      <a:pt x="2087" y="1606"/>
                    </a:lnTo>
                    <a:lnTo>
                      <a:pt x="2087" y="1610"/>
                    </a:lnTo>
                    <a:lnTo>
                      <a:pt x="2089" y="1614"/>
                    </a:lnTo>
                    <a:lnTo>
                      <a:pt x="2090" y="1615"/>
                    </a:lnTo>
                    <a:lnTo>
                      <a:pt x="2092" y="1616"/>
                    </a:lnTo>
                    <a:lnTo>
                      <a:pt x="2094" y="1617"/>
                    </a:lnTo>
                    <a:lnTo>
                      <a:pt x="2097" y="1617"/>
                    </a:lnTo>
                    <a:lnTo>
                      <a:pt x="2096" y="1632"/>
                    </a:lnTo>
                    <a:lnTo>
                      <a:pt x="2093" y="1646"/>
                    </a:lnTo>
                    <a:lnTo>
                      <a:pt x="2091" y="1658"/>
                    </a:lnTo>
                    <a:lnTo>
                      <a:pt x="2088" y="1672"/>
                    </a:lnTo>
                    <a:lnTo>
                      <a:pt x="2086" y="1685"/>
                    </a:lnTo>
                    <a:lnTo>
                      <a:pt x="2084" y="1699"/>
                    </a:lnTo>
                    <a:lnTo>
                      <a:pt x="2082" y="1711"/>
                    </a:lnTo>
                    <a:lnTo>
                      <a:pt x="2081" y="1724"/>
                    </a:lnTo>
                    <a:lnTo>
                      <a:pt x="2084" y="1728"/>
                    </a:lnTo>
                    <a:lnTo>
                      <a:pt x="2086" y="1733"/>
                    </a:lnTo>
                    <a:lnTo>
                      <a:pt x="2087" y="1737"/>
                    </a:lnTo>
                    <a:lnTo>
                      <a:pt x="2088" y="1742"/>
                    </a:lnTo>
                    <a:lnTo>
                      <a:pt x="2089" y="1746"/>
                    </a:lnTo>
                    <a:lnTo>
                      <a:pt x="2089" y="1750"/>
                    </a:lnTo>
                    <a:lnTo>
                      <a:pt x="2089" y="1755"/>
                    </a:lnTo>
                    <a:lnTo>
                      <a:pt x="2090" y="1759"/>
                    </a:lnTo>
                    <a:lnTo>
                      <a:pt x="2087" y="1757"/>
                    </a:lnTo>
                    <a:lnTo>
                      <a:pt x="2085" y="1755"/>
                    </a:lnTo>
                    <a:lnTo>
                      <a:pt x="2082" y="1752"/>
                    </a:lnTo>
                    <a:lnTo>
                      <a:pt x="2081" y="1749"/>
                    </a:lnTo>
                    <a:lnTo>
                      <a:pt x="2079" y="1746"/>
                    </a:lnTo>
                    <a:lnTo>
                      <a:pt x="2077" y="1744"/>
                    </a:lnTo>
                    <a:lnTo>
                      <a:pt x="2075" y="1743"/>
                    </a:lnTo>
                    <a:lnTo>
                      <a:pt x="2071" y="1742"/>
                    </a:lnTo>
                    <a:lnTo>
                      <a:pt x="2068" y="1746"/>
                    </a:lnTo>
                    <a:lnTo>
                      <a:pt x="2070" y="1753"/>
                    </a:lnTo>
                    <a:lnTo>
                      <a:pt x="2072" y="1759"/>
                    </a:lnTo>
                    <a:lnTo>
                      <a:pt x="2074" y="1765"/>
                    </a:lnTo>
                    <a:lnTo>
                      <a:pt x="2075" y="1772"/>
                    </a:lnTo>
                    <a:lnTo>
                      <a:pt x="2077" y="1778"/>
                    </a:lnTo>
                    <a:lnTo>
                      <a:pt x="2078" y="1784"/>
                    </a:lnTo>
                    <a:lnTo>
                      <a:pt x="2080" y="1791"/>
                    </a:lnTo>
                    <a:lnTo>
                      <a:pt x="2084" y="1797"/>
                    </a:lnTo>
                    <a:lnTo>
                      <a:pt x="2080" y="1795"/>
                    </a:lnTo>
                    <a:lnTo>
                      <a:pt x="2077" y="1793"/>
                    </a:lnTo>
                    <a:lnTo>
                      <a:pt x="2073" y="1790"/>
                    </a:lnTo>
                    <a:lnTo>
                      <a:pt x="2070" y="1788"/>
                    </a:lnTo>
                    <a:lnTo>
                      <a:pt x="2067" y="1784"/>
                    </a:lnTo>
                    <a:lnTo>
                      <a:pt x="2063" y="1781"/>
                    </a:lnTo>
                    <a:lnTo>
                      <a:pt x="2060" y="1778"/>
                    </a:lnTo>
                    <a:lnTo>
                      <a:pt x="2057" y="1775"/>
                    </a:lnTo>
                    <a:lnTo>
                      <a:pt x="2056" y="1776"/>
                    </a:lnTo>
                    <a:lnTo>
                      <a:pt x="2056" y="1777"/>
                    </a:lnTo>
                    <a:lnTo>
                      <a:pt x="2055" y="1778"/>
                    </a:lnTo>
                    <a:lnTo>
                      <a:pt x="2055" y="1779"/>
                    </a:lnTo>
                    <a:lnTo>
                      <a:pt x="2055" y="1780"/>
                    </a:lnTo>
                    <a:lnTo>
                      <a:pt x="2055" y="1781"/>
                    </a:lnTo>
                    <a:lnTo>
                      <a:pt x="2055" y="1782"/>
                    </a:lnTo>
                    <a:lnTo>
                      <a:pt x="2055" y="1783"/>
                    </a:lnTo>
                    <a:lnTo>
                      <a:pt x="2054" y="1781"/>
                    </a:lnTo>
                    <a:lnTo>
                      <a:pt x="2052" y="1779"/>
                    </a:lnTo>
                    <a:lnTo>
                      <a:pt x="2051" y="1777"/>
                    </a:lnTo>
                    <a:lnTo>
                      <a:pt x="2050" y="1774"/>
                    </a:lnTo>
                    <a:lnTo>
                      <a:pt x="2048" y="1772"/>
                    </a:lnTo>
                    <a:lnTo>
                      <a:pt x="2045" y="1770"/>
                    </a:lnTo>
                    <a:lnTo>
                      <a:pt x="2042" y="1768"/>
                    </a:lnTo>
                    <a:lnTo>
                      <a:pt x="2039" y="1770"/>
                    </a:lnTo>
                    <a:lnTo>
                      <a:pt x="2037" y="1776"/>
                    </a:lnTo>
                    <a:lnTo>
                      <a:pt x="2034" y="1782"/>
                    </a:lnTo>
                    <a:lnTo>
                      <a:pt x="2032" y="1790"/>
                    </a:lnTo>
                    <a:lnTo>
                      <a:pt x="2030" y="1797"/>
                    </a:lnTo>
                    <a:lnTo>
                      <a:pt x="2027" y="1803"/>
                    </a:lnTo>
                    <a:lnTo>
                      <a:pt x="2024" y="1810"/>
                    </a:lnTo>
                    <a:lnTo>
                      <a:pt x="2021" y="1816"/>
                    </a:lnTo>
                    <a:lnTo>
                      <a:pt x="2017" y="1821"/>
                    </a:lnTo>
                    <a:lnTo>
                      <a:pt x="2016" y="1816"/>
                    </a:lnTo>
                    <a:lnTo>
                      <a:pt x="2017" y="1810"/>
                    </a:lnTo>
                    <a:lnTo>
                      <a:pt x="2017" y="1804"/>
                    </a:lnTo>
                    <a:lnTo>
                      <a:pt x="2019" y="1798"/>
                    </a:lnTo>
                    <a:lnTo>
                      <a:pt x="2020" y="1793"/>
                    </a:lnTo>
                    <a:lnTo>
                      <a:pt x="2022" y="1786"/>
                    </a:lnTo>
                    <a:lnTo>
                      <a:pt x="2023" y="1781"/>
                    </a:lnTo>
                    <a:lnTo>
                      <a:pt x="2025" y="1775"/>
                    </a:lnTo>
                    <a:lnTo>
                      <a:pt x="2024" y="1774"/>
                    </a:lnTo>
                    <a:lnTo>
                      <a:pt x="2023" y="1773"/>
                    </a:lnTo>
                    <a:lnTo>
                      <a:pt x="2022" y="1773"/>
                    </a:lnTo>
                    <a:lnTo>
                      <a:pt x="2020" y="1773"/>
                    </a:lnTo>
                    <a:lnTo>
                      <a:pt x="2019" y="1773"/>
                    </a:lnTo>
                    <a:lnTo>
                      <a:pt x="2018" y="1773"/>
                    </a:lnTo>
                    <a:lnTo>
                      <a:pt x="2016" y="1773"/>
                    </a:lnTo>
                    <a:lnTo>
                      <a:pt x="2015" y="1773"/>
                    </a:lnTo>
                    <a:lnTo>
                      <a:pt x="1972" y="1817"/>
                    </a:lnTo>
                    <a:lnTo>
                      <a:pt x="1968" y="1801"/>
                    </a:lnTo>
                    <a:lnTo>
                      <a:pt x="1958" y="1807"/>
                    </a:lnTo>
                    <a:lnTo>
                      <a:pt x="1946" y="1813"/>
                    </a:lnTo>
                    <a:lnTo>
                      <a:pt x="1935" y="1819"/>
                    </a:lnTo>
                    <a:lnTo>
                      <a:pt x="1924" y="1827"/>
                    </a:lnTo>
                    <a:lnTo>
                      <a:pt x="1913" y="1833"/>
                    </a:lnTo>
                    <a:lnTo>
                      <a:pt x="1903" y="1840"/>
                    </a:lnTo>
                    <a:lnTo>
                      <a:pt x="1892" y="1848"/>
                    </a:lnTo>
                    <a:lnTo>
                      <a:pt x="1881" y="1855"/>
                    </a:lnTo>
                    <a:lnTo>
                      <a:pt x="1885" y="1848"/>
                    </a:lnTo>
                    <a:lnTo>
                      <a:pt x="1889" y="1840"/>
                    </a:lnTo>
                    <a:lnTo>
                      <a:pt x="1895" y="1834"/>
                    </a:lnTo>
                    <a:lnTo>
                      <a:pt x="1903" y="1829"/>
                    </a:lnTo>
                    <a:lnTo>
                      <a:pt x="1910" y="1823"/>
                    </a:lnTo>
                    <a:lnTo>
                      <a:pt x="1917" y="1818"/>
                    </a:lnTo>
                    <a:lnTo>
                      <a:pt x="1925" y="1813"/>
                    </a:lnTo>
                    <a:lnTo>
                      <a:pt x="1932" y="1808"/>
                    </a:lnTo>
                    <a:lnTo>
                      <a:pt x="1932" y="1807"/>
                    </a:lnTo>
                    <a:lnTo>
                      <a:pt x="1932" y="1804"/>
                    </a:lnTo>
                    <a:lnTo>
                      <a:pt x="1932" y="1803"/>
                    </a:lnTo>
                    <a:lnTo>
                      <a:pt x="1931" y="1803"/>
                    </a:lnTo>
                    <a:lnTo>
                      <a:pt x="1931" y="1802"/>
                    </a:lnTo>
                    <a:lnTo>
                      <a:pt x="1930" y="1801"/>
                    </a:lnTo>
                    <a:lnTo>
                      <a:pt x="1929" y="1800"/>
                    </a:lnTo>
                    <a:lnTo>
                      <a:pt x="1928" y="1799"/>
                    </a:lnTo>
                    <a:lnTo>
                      <a:pt x="1917" y="1800"/>
                    </a:lnTo>
                    <a:lnTo>
                      <a:pt x="1908" y="1802"/>
                    </a:lnTo>
                    <a:lnTo>
                      <a:pt x="1898" y="1807"/>
                    </a:lnTo>
                    <a:lnTo>
                      <a:pt x="1889" y="1812"/>
                    </a:lnTo>
                    <a:lnTo>
                      <a:pt x="1880" y="1817"/>
                    </a:lnTo>
                    <a:lnTo>
                      <a:pt x="1871" y="1823"/>
                    </a:lnTo>
                    <a:lnTo>
                      <a:pt x="1862" y="1829"/>
                    </a:lnTo>
                    <a:lnTo>
                      <a:pt x="1853" y="1833"/>
                    </a:lnTo>
                    <a:lnTo>
                      <a:pt x="1837" y="1831"/>
                    </a:lnTo>
                    <a:lnTo>
                      <a:pt x="1842" y="1827"/>
                    </a:lnTo>
                    <a:lnTo>
                      <a:pt x="1848" y="1823"/>
                    </a:lnTo>
                    <a:lnTo>
                      <a:pt x="1854" y="1820"/>
                    </a:lnTo>
                    <a:lnTo>
                      <a:pt x="1860" y="1818"/>
                    </a:lnTo>
                    <a:lnTo>
                      <a:pt x="1867" y="1816"/>
                    </a:lnTo>
                    <a:lnTo>
                      <a:pt x="1873" y="1814"/>
                    </a:lnTo>
                    <a:lnTo>
                      <a:pt x="1879" y="1812"/>
                    </a:lnTo>
                    <a:lnTo>
                      <a:pt x="1884" y="1808"/>
                    </a:lnTo>
                    <a:lnTo>
                      <a:pt x="1880" y="1803"/>
                    </a:lnTo>
                    <a:lnTo>
                      <a:pt x="1877" y="1801"/>
                    </a:lnTo>
                    <a:lnTo>
                      <a:pt x="1873" y="1801"/>
                    </a:lnTo>
                    <a:lnTo>
                      <a:pt x="1869" y="1801"/>
                    </a:lnTo>
                    <a:lnTo>
                      <a:pt x="1863" y="1802"/>
                    </a:lnTo>
                    <a:lnTo>
                      <a:pt x="1859" y="1804"/>
                    </a:lnTo>
                    <a:lnTo>
                      <a:pt x="1855" y="1805"/>
                    </a:lnTo>
                    <a:lnTo>
                      <a:pt x="1852" y="1808"/>
                    </a:lnTo>
                    <a:lnTo>
                      <a:pt x="1842" y="1813"/>
                    </a:lnTo>
                    <a:lnTo>
                      <a:pt x="1833" y="1817"/>
                    </a:lnTo>
                    <a:lnTo>
                      <a:pt x="1823" y="1822"/>
                    </a:lnTo>
                    <a:lnTo>
                      <a:pt x="1813" y="1827"/>
                    </a:lnTo>
                    <a:lnTo>
                      <a:pt x="1803" y="1830"/>
                    </a:lnTo>
                    <a:lnTo>
                      <a:pt x="1793" y="1833"/>
                    </a:lnTo>
                    <a:lnTo>
                      <a:pt x="1782" y="1836"/>
                    </a:lnTo>
                    <a:lnTo>
                      <a:pt x="1770" y="1837"/>
                    </a:lnTo>
                    <a:lnTo>
                      <a:pt x="1773" y="1832"/>
                    </a:lnTo>
                    <a:lnTo>
                      <a:pt x="1777" y="1829"/>
                    </a:lnTo>
                    <a:lnTo>
                      <a:pt x="1781" y="1826"/>
                    </a:lnTo>
                    <a:lnTo>
                      <a:pt x="1786" y="1823"/>
                    </a:lnTo>
                    <a:lnTo>
                      <a:pt x="1791" y="1820"/>
                    </a:lnTo>
                    <a:lnTo>
                      <a:pt x="1796" y="1817"/>
                    </a:lnTo>
                    <a:lnTo>
                      <a:pt x="1799" y="1813"/>
                    </a:lnTo>
                    <a:lnTo>
                      <a:pt x="1801" y="1808"/>
                    </a:lnTo>
                    <a:lnTo>
                      <a:pt x="1791" y="1809"/>
                    </a:lnTo>
                    <a:lnTo>
                      <a:pt x="1781" y="1811"/>
                    </a:lnTo>
                    <a:lnTo>
                      <a:pt x="1770" y="1813"/>
                    </a:lnTo>
                    <a:lnTo>
                      <a:pt x="1761" y="1817"/>
                    </a:lnTo>
                    <a:lnTo>
                      <a:pt x="1750" y="1821"/>
                    </a:lnTo>
                    <a:lnTo>
                      <a:pt x="1741" y="1827"/>
                    </a:lnTo>
                    <a:lnTo>
                      <a:pt x="1731" y="1833"/>
                    </a:lnTo>
                    <a:lnTo>
                      <a:pt x="1723" y="1839"/>
                    </a:lnTo>
                    <a:lnTo>
                      <a:pt x="1720" y="1839"/>
                    </a:lnTo>
                    <a:lnTo>
                      <a:pt x="1716" y="1839"/>
                    </a:lnTo>
                    <a:lnTo>
                      <a:pt x="1713" y="1839"/>
                    </a:lnTo>
                    <a:lnTo>
                      <a:pt x="1711" y="1840"/>
                    </a:lnTo>
                    <a:lnTo>
                      <a:pt x="1709" y="1840"/>
                    </a:lnTo>
                    <a:lnTo>
                      <a:pt x="1707" y="1840"/>
                    </a:lnTo>
                    <a:lnTo>
                      <a:pt x="1706" y="1838"/>
                    </a:lnTo>
                    <a:lnTo>
                      <a:pt x="1705" y="1835"/>
                    </a:lnTo>
                    <a:lnTo>
                      <a:pt x="1706" y="1835"/>
                    </a:lnTo>
                    <a:lnTo>
                      <a:pt x="1708" y="1834"/>
                    </a:lnTo>
                    <a:lnTo>
                      <a:pt x="1710" y="1832"/>
                    </a:lnTo>
                    <a:lnTo>
                      <a:pt x="1711" y="1831"/>
                    </a:lnTo>
                    <a:lnTo>
                      <a:pt x="1712" y="1829"/>
                    </a:lnTo>
                    <a:lnTo>
                      <a:pt x="1713" y="1828"/>
                    </a:lnTo>
                    <a:lnTo>
                      <a:pt x="1714" y="1826"/>
                    </a:lnTo>
                    <a:lnTo>
                      <a:pt x="1714" y="1823"/>
                    </a:lnTo>
                    <a:lnTo>
                      <a:pt x="1710" y="1822"/>
                    </a:lnTo>
                    <a:lnTo>
                      <a:pt x="1705" y="1821"/>
                    </a:lnTo>
                    <a:lnTo>
                      <a:pt x="1699" y="1821"/>
                    </a:lnTo>
                    <a:lnTo>
                      <a:pt x="1695" y="1822"/>
                    </a:lnTo>
                    <a:lnTo>
                      <a:pt x="1690" y="1822"/>
                    </a:lnTo>
                    <a:lnTo>
                      <a:pt x="1685" y="1825"/>
                    </a:lnTo>
                    <a:lnTo>
                      <a:pt x="1680" y="1826"/>
                    </a:lnTo>
                    <a:lnTo>
                      <a:pt x="1676" y="1828"/>
                    </a:lnTo>
                    <a:lnTo>
                      <a:pt x="1677" y="1826"/>
                    </a:lnTo>
                    <a:lnTo>
                      <a:pt x="1680" y="1825"/>
                    </a:lnTo>
                    <a:lnTo>
                      <a:pt x="1685" y="1822"/>
                    </a:lnTo>
                    <a:lnTo>
                      <a:pt x="1690" y="1820"/>
                    </a:lnTo>
                    <a:lnTo>
                      <a:pt x="1693" y="1818"/>
                    </a:lnTo>
                    <a:lnTo>
                      <a:pt x="1695" y="1815"/>
                    </a:lnTo>
                    <a:lnTo>
                      <a:pt x="1694" y="1814"/>
                    </a:lnTo>
                    <a:lnTo>
                      <a:pt x="1693" y="1812"/>
                    </a:lnTo>
                    <a:lnTo>
                      <a:pt x="1692" y="1810"/>
                    </a:lnTo>
                    <a:lnTo>
                      <a:pt x="1689" y="1808"/>
                    </a:lnTo>
                    <a:lnTo>
                      <a:pt x="1652" y="1817"/>
                    </a:lnTo>
                    <a:lnTo>
                      <a:pt x="1651" y="1816"/>
                    </a:lnTo>
                    <a:lnTo>
                      <a:pt x="1651" y="1814"/>
                    </a:lnTo>
                    <a:lnTo>
                      <a:pt x="1651" y="1811"/>
                    </a:lnTo>
                    <a:lnTo>
                      <a:pt x="1651" y="1809"/>
                    </a:lnTo>
                    <a:lnTo>
                      <a:pt x="1651" y="1807"/>
                    </a:lnTo>
                    <a:lnTo>
                      <a:pt x="1649" y="1803"/>
                    </a:lnTo>
                    <a:lnTo>
                      <a:pt x="1647" y="1802"/>
                    </a:lnTo>
                    <a:lnTo>
                      <a:pt x="1643" y="1801"/>
                    </a:lnTo>
                    <a:lnTo>
                      <a:pt x="1642" y="1802"/>
                    </a:lnTo>
                    <a:lnTo>
                      <a:pt x="1641" y="1802"/>
                    </a:lnTo>
                    <a:lnTo>
                      <a:pt x="1640" y="1803"/>
                    </a:lnTo>
                    <a:lnTo>
                      <a:pt x="1638" y="1803"/>
                    </a:lnTo>
                    <a:lnTo>
                      <a:pt x="1637" y="1803"/>
                    </a:lnTo>
                    <a:lnTo>
                      <a:pt x="1635" y="1803"/>
                    </a:lnTo>
                    <a:lnTo>
                      <a:pt x="1634" y="1803"/>
                    </a:lnTo>
                    <a:lnTo>
                      <a:pt x="1632" y="1803"/>
                    </a:lnTo>
                    <a:lnTo>
                      <a:pt x="1637" y="1800"/>
                    </a:lnTo>
                    <a:lnTo>
                      <a:pt x="1642" y="1797"/>
                    </a:lnTo>
                    <a:lnTo>
                      <a:pt x="1647" y="1794"/>
                    </a:lnTo>
                    <a:lnTo>
                      <a:pt x="1652" y="1791"/>
                    </a:lnTo>
                    <a:lnTo>
                      <a:pt x="1656" y="1786"/>
                    </a:lnTo>
                    <a:lnTo>
                      <a:pt x="1660" y="1782"/>
                    </a:lnTo>
                    <a:lnTo>
                      <a:pt x="1665" y="1778"/>
                    </a:lnTo>
                    <a:lnTo>
                      <a:pt x="1668" y="1773"/>
                    </a:lnTo>
                    <a:lnTo>
                      <a:pt x="1666" y="1772"/>
                    </a:lnTo>
                    <a:lnTo>
                      <a:pt x="1663" y="1773"/>
                    </a:lnTo>
                    <a:lnTo>
                      <a:pt x="1661" y="1773"/>
                    </a:lnTo>
                    <a:lnTo>
                      <a:pt x="1659" y="1775"/>
                    </a:lnTo>
                    <a:lnTo>
                      <a:pt x="1657" y="1776"/>
                    </a:lnTo>
                    <a:lnTo>
                      <a:pt x="1655" y="1777"/>
                    </a:lnTo>
                    <a:lnTo>
                      <a:pt x="1653" y="1778"/>
                    </a:lnTo>
                    <a:lnTo>
                      <a:pt x="1650" y="1777"/>
                    </a:lnTo>
                    <a:lnTo>
                      <a:pt x="1653" y="1772"/>
                    </a:lnTo>
                    <a:lnTo>
                      <a:pt x="1656" y="1767"/>
                    </a:lnTo>
                    <a:lnTo>
                      <a:pt x="1660" y="1763"/>
                    </a:lnTo>
                    <a:lnTo>
                      <a:pt x="1665" y="1760"/>
                    </a:lnTo>
                    <a:lnTo>
                      <a:pt x="1675" y="1754"/>
                    </a:lnTo>
                    <a:lnTo>
                      <a:pt x="1685" y="1747"/>
                    </a:lnTo>
                    <a:lnTo>
                      <a:pt x="1694" y="1740"/>
                    </a:lnTo>
                    <a:lnTo>
                      <a:pt x="1703" y="1731"/>
                    </a:lnTo>
                    <a:lnTo>
                      <a:pt x="1706" y="1727"/>
                    </a:lnTo>
                    <a:lnTo>
                      <a:pt x="1709" y="1722"/>
                    </a:lnTo>
                    <a:lnTo>
                      <a:pt x="1711" y="1716"/>
                    </a:lnTo>
                    <a:lnTo>
                      <a:pt x="1712" y="1708"/>
                    </a:lnTo>
                    <a:lnTo>
                      <a:pt x="1710" y="1705"/>
                    </a:lnTo>
                    <a:lnTo>
                      <a:pt x="1708" y="1704"/>
                    </a:lnTo>
                    <a:lnTo>
                      <a:pt x="1706" y="1703"/>
                    </a:lnTo>
                    <a:lnTo>
                      <a:pt x="1704" y="1703"/>
                    </a:lnTo>
                    <a:lnTo>
                      <a:pt x="1702" y="1704"/>
                    </a:lnTo>
                    <a:lnTo>
                      <a:pt x="1698" y="1705"/>
                    </a:lnTo>
                    <a:lnTo>
                      <a:pt x="1696" y="1707"/>
                    </a:lnTo>
                    <a:lnTo>
                      <a:pt x="1694" y="1708"/>
                    </a:lnTo>
                    <a:lnTo>
                      <a:pt x="1692" y="1702"/>
                    </a:lnTo>
                    <a:lnTo>
                      <a:pt x="1692" y="1695"/>
                    </a:lnTo>
                    <a:lnTo>
                      <a:pt x="1692" y="1689"/>
                    </a:lnTo>
                    <a:lnTo>
                      <a:pt x="1693" y="1682"/>
                    </a:lnTo>
                    <a:lnTo>
                      <a:pt x="1694" y="1675"/>
                    </a:lnTo>
                    <a:lnTo>
                      <a:pt x="1694" y="1669"/>
                    </a:lnTo>
                    <a:lnTo>
                      <a:pt x="1694" y="1664"/>
                    </a:lnTo>
                    <a:lnTo>
                      <a:pt x="1692" y="1657"/>
                    </a:lnTo>
                    <a:lnTo>
                      <a:pt x="1688" y="1660"/>
                    </a:lnTo>
                    <a:lnTo>
                      <a:pt x="1685" y="1663"/>
                    </a:lnTo>
                    <a:lnTo>
                      <a:pt x="1681" y="1666"/>
                    </a:lnTo>
                    <a:lnTo>
                      <a:pt x="1678" y="1670"/>
                    </a:lnTo>
                    <a:lnTo>
                      <a:pt x="1676" y="1675"/>
                    </a:lnTo>
                    <a:lnTo>
                      <a:pt x="1675" y="1680"/>
                    </a:lnTo>
                    <a:lnTo>
                      <a:pt x="1673" y="1684"/>
                    </a:lnTo>
                    <a:lnTo>
                      <a:pt x="1672" y="1688"/>
                    </a:lnTo>
                    <a:lnTo>
                      <a:pt x="1670" y="1682"/>
                    </a:lnTo>
                    <a:lnTo>
                      <a:pt x="1668" y="1674"/>
                    </a:lnTo>
                    <a:lnTo>
                      <a:pt x="1668" y="1667"/>
                    </a:lnTo>
                    <a:lnTo>
                      <a:pt x="1669" y="1660"/>
                    </a:lnTo>
                    <a:lnTo>
                      <a:pt x="1670" y="1651"/>
                    </a:lnTo>
                    <a:lnTo>
                      <a:pt x="1671" y="1644"/>
                    </a:lnTo>
                    <a:lnTo>
                      <a:pt x="1672" y="1635"/>
                    </a:lnTo>
                    <a:lnTo>
                      <a:pt x="1672" y="1628"/>
                    </a:lnTo>
                    <a:lnTo>
                      <a:pt x="1666" y="1621"/>
                    </a:lnTo>
                    <a:lnTo>
                      <a:pt x="1661" y="1627"/>
                    </a:lnTo>
                    <a:lnTo>
                      <a:pt x="1657" y="1632"/>
                    </a:lnTo>
                    <a:lnTo>
                      <a:pt x="1653" y="1637"/>
                    </a:lnTo>
                    <a:lnTo>
                      <a:pt x="1650" y="1643"/>
                    </a:lnTo>
                    <a:lnTo>
                      <a:pt x="1647" y="1649"/>
                    </a:lnTo>
                    <a:lnTo>
                      <a:pt x="1643" y="1655"/>
                    </a:lnTo>
                    <a:lnTo>
                      <a:pt x="1640" y="1661"/>
                    </a:lnTo>
                    <a:lnTo>
                      <a:pt x="1636" y="1666"/>
                    </a:lnTo>
                    <a:lnTo>
                      <a:pt x="1636" y="1656"/>
                    </a:lnTo>
                    <a:lnTo>
                      <a:pt x="1636" y="1647"/>
                    </a:lnTo>
                    <a:lnTo>
                      <a:pt x="1637" y="1638"/>
                    </a:lnTo>
                    <a:lnTo>
                      <a:pt x="1638" y="1630"/>
                    </a:lnTo>
                    <a:lnTo>
                      <a:pt x="1638" y="1621"/>
                    </a:lnTo>
                    <a:lnTo>
                      <a:pt x="1637" y="1613"/>
                    </a:lnTo>
                    <a:lnTo>
                      <a:pt x="1636" y="1605"/>
                    </a:lnTo>
                    <a:lnTo>
                      <a:pt x="1632" y="1596"/>
                    </a:lnTo>
                    <a:lnTo>
                      <a:pt x="1629" y="1598"/>
                    </a:lnTo>
                    <a:lnTo>
                      <a:pt x="1625" y="1601"/>
                    </a:lnTo>
                    <a:lnTo>
                      <a:pt x="1622" y="1605"/>
                    </a:lnTo>
                    <a:lnTo>
                      <a:pt x="1620" y="1609"/>
                    </a:lnTo>
                    <a:lnTo>
                      <a:pt x="1618" y="1613"/>
                    </a:lnTo>
                    <a:lnTo>
                      <a:pt x="1616" y="1617"/>
                    </a:lnTo>
                    <a:lnTo>
                      <a:pt x="1614" y="1621"/>
                    </a:lnTo>
                    <a:lnTo>
                      <a:pt x="1612" y="1626"/>
                    </a:lnTo>
                    <a:lnTo>
                      <a:pt x="1616" y="1555"/>
                    </a:lnTo>
                    <a:lnTo>
                      <a:pt x="1609" y="1548"/>
                    </a:lnTo>
                    <a:lnTo>
                      <a:pt x="1604" y="1554"/>
                    </a:lnTo>
                    <a:lnTo>
                      <a:pt x="1599" y="1560"/>
                    </a:lnTo>
                    <a:lnTo>
                      <a:pt x="1596" y="1566"/>
                    </a:lnTo>
                    <a:lnTo>
                      <a:pt x="1592" y="1573"/>
                    </a:lnTo>
                    <a:lnTo>
                      <a:pt x="1588" y="1580"/>
                    </a:lnTo>
                    <a:lnTo>
                      <a:pt x="1585" y="1587"/>
                    </a:lnTo>
                    <a:lnTo>
                      <a:pt x="1581" y="1593"/>
                    </a:lnTo>
                    <a:lnTo>
                      <a:pt x="1577" y="1599"/>
                    </a:lnTo>
                    <a:lnTo>
                      <a:pt x="1575" y="1591"/>
                    </a:lnTo>
                    <a:lnTo>
                      <a:pt x="1574" y="1582"/>
                    </a:lnTo>
                    <a:lnTo>
                      <a:pt x="1574" y="1573"/>
                    </a:lnTo>
                    <a:lnTo>
                      <a:pt x="1575" y="1564"/>
                    </a:lnTo>
                    <a:lnTo>
                      <a:pt x="1576" y="1555"/>
                    </a:lnTo>
                    <a:lnTo>
                      <a:pt x="1579" y="1545"/>
                    </a:lnTo>
                    <a:lnTo>
                      <a:pt x="1582" y="1537"/>
                    </a:lnTo>
                    <a:lnTo>
                      <a:pt x="1585" y="1529"/>
                    </a:lnTo>
                    <a:lnTo>
                      <a:pt x="1583" y="1526"/>
                    </a:lnTo>
                    <a:lnTo>
                      <a:pt x="1581" y="1525"/>
                    </a:lnTo>
                    <a:lnTo>
                      <a:pt x="1578" y="1525"/>
                    </a:lnTo>
                    <a:lnTo>
                      <a:pt x="1576" y="1526"/>
                    </a:lnTo>
                    <a:lnTo>
                      <a:pt x="1574" y="1527"/>
                    </a:lnTo>
                    <a:lnTo>
                      <a:pt x="1570" y="1529"/>
                    </a:lnTo>
                    <a:lnTo>
                      <a:pt x="1568" y="1530"/>
                    </a:lnTo>
                    <a:lnTo>
                      <a:pt x="1565" y="1530"/>
                    </a:lnTo>
                    <a:lnTo>
                      <a:pt x="1557" y="1537"/>
                    </a:lnTo>
                    <a:lnTo>
                      <a:pt x="1549" y="1544"/>
                    </a:lnTo>
                    <a:lnTo>
                      <a:pt x="1543" y="1552"/>
                    </a:lnTo>
                    <a:lnTo>
                      <a:pt x="1536" y="1559"/>
                    </a:lnTo>
                    <a:lnTo>
                      <a:pt x="1530" y="1566"/>
                    </a:lnTo>
                    <a:lnTo>
                      <a:pt x="1525" y="1575"/>
                    </a:lnTo>
                    <a:lnTo>
                      <a:pt x="1520" y="1583"/>
                    </a:lnTo>
                    <a:lnTo>
                      <a:pt x="1514" y="1591"/>
                    </a:lnTo>
                    <a:lnTo>
                      <a:pt x="1513" y="1587"/>
                    </a:lnTo>
                    <a:lnTo>
                      <a:pt x="1514" y="1580"/>
                    </a:lnTo>
                    <a:lnTo>
                      <a:pt x="1515" y="1575"/>
                    </a:lnTo>
                    <a:lnTo>
                      <a:pt x="1516" y="1570"/>
                    </a:lnTo>
                    <a:lnTo>
                      <a:pt x="1518" y="1563"/>
                    </a:lnTo>
                    <a:lnTo>
                      <a:pt x="1520" y="1557"/>
                    </a:lnTo>
                    <a:lnTo>
                      <a:pt x="1522" y="1551"/>
                    </a:lnTo>
                    <a:lnTo>
                      <a:pt x="1523" y="1545"/>
                    </a:lnTo>
                    <a:lnTo>
                      <a:pt x="1522" y="1544"/>
                    </a:lnTo>
                    <a:lnTo>
                      <a:pt x="1520" y="1543"/>
                    </a:lnTo>
                    <a:lnTo>
                      <a:pt x="1518" y="1543"/>
                    </a:lnTo>
                    <a:lnTo>
                      <a:pt x="1516" y="1542"/>
                    </a:lnTo>
                    <a:lnTo>
                      <a:pt x="1515" y="1541"/>
                    </a:lnTo>
                    <a:lnTo>
                      <a:pt x="1513" y="1541"/>
                    </a:lnTo>
                    <a:lnTo>
                      <a:pt x="1512" y="1542"/>
                    </a:lnTo>
                    <a:lnTo>
                      <a:pt x="1510" y="1543"/>
                    </a:lnTo>
                    <a:lnTo>
                      <a:pt x="1483" y="1573"/>
                    </a:lnTo>
                    <a:lnTo>
                      <a:pt x="1481" y="1566"/>
                    </a:lnTo>
                    <a:lnTo>
                      <a:pt x="1483" y="1560"/>
                    </a:lnTo>
                    <a:lnTo>
                      <a:pt x="1485" y="1553"/>
                    </a:lnTo>
                    <a:lnTo>
                      <a:pt x="1488" y="1546"/>
                    </a:lnTo>
                    <a:lnTo>
                      <a:pt x="1490" y="1539"/>
                    </a:lnTo>
                    <a:lnTo>
                      <a:pt x="1491" y="1533"/>
                    </a:lnTo>
                    <a:lnTo>
                      <a:pt x="1491" y="1529"/>
                    </a:lnTo>
                    <a:lnTo>
                      <a:pt x="1491" y="1526"/>
                    </a:lnTo>
                    <a:lnTo>
                      <a:pt x="1490" y="1524"/>
                    </a:lnTo>
                    <a:lnTo>
                      <a:pt x="1489" y="1521"/>
                    </a:lnTo>
                    <a:lnTo>
                      <a:pt x="1483" y="1523"/>
                    </a:lnTo>
                    <a:lnTo>
                      <a:pt x="1477" y="1526"/>
                    </a:lnTo>
                    <a:lnTo>
                      <a:pt x="1472" y="1530"/>
                    </a:lnTo>
                    <a:lnTo>
                      <a:pt x="1468" y="1535"/>
                    </a:lnTo>
                    <a:lnTo>
                      <a:pt x="1462" y="1539"/>
                    </a:lnTo>
                    <a:lnTo>
                      <a:pt x="1457" y="1543"/>
                    </a:lnTo>
                    <a:lnTo>
                      <a:pt x="1453" y="1548"/>
                    </a:lnTo>
                    <a:lnTo>
                      <a:pt x="1448" y="1554"/>
                    </a:lnTo>
                    <a:lnTo>
                      <a:pt x="1450" y="1552"/>
                    </a:lnTo>
                    <a:lnTo>
                      <a:pt x="1450" y="1550"/>
                    </a:lnTo>
                    <a:lnTo>
                      <a:pt x="1450" y="1545"/>
                    </a:lnTo>
                    <a:lnTo>
                      <a:pt x="1450" y="1541"/>
                    </a:lnTo>
                    <a:lnTo>
                      <a:pt x="1450" y="1537"/>
                    </a:lnTo>
                    <a:lnTo>
                      <a:pt x="1451" y="1533"/>
                    </a:lnTo>
                    <a:lnTo>
                      <a:pt x="1453" y="1528"/>
                    </a:lnTo>
                    <a:lnTo>
                      <a:pt x="1456" y="1525"/>
                    </a:lnTo>
                    <a:lnTo>
                      <a:pt x="1456" y="1523"/>
                    </a:lnTo>
                    <a:lnTo>
                      <a:pt x="1456" y="1522"/>
                    </a:lnTo>
                    <a:lnTo>
                      <a:pt x="1456" y="1521"/>
                    </a:lnTo>
                    <a:lnTo>
                      <a:pt x="1455" y="1519"/>
                    </a:lnTo>
                    <a:lnTo>
                      <a:pt x="1454" y="1519"/>
                    </a:lnTo>
                    <a:lnTo>
                      <a:pt x="1452" y="1518"/>
                    </a:lnTo>
                    <a:lnTo>
                      <a:pt x="1451" y="1516"/>
                    </a:lnTo>
                    <a:lnTo>
                      <a:pt x="1450" y="1515"/>
                    </a:lnTo>
                    <a:lnTo>
                      <a:pt x="1442" y="1520"/>
                    </a:lnTo>
                    <a:lnTo>
                      <a:pt x="1435" y="1525"/>
                    </a:lnTo>
                    <a:lnTo>
                      <a:pt x="1428" y="1530"/>
                    </a:lnTo>
                    <a:lnTo>
                      <a:pt x="1421" y="1537"/>
                    </a:lnTo>
                    <a:lnTo>
                      <a:pt x="1414" y="1543"/>
                    </a:lnTo>
                    <a:lnTo>
                      <a:pt x="1407" y="1550"/>
                    </a:lnTo>
                    <a:lnTo>
                      <a:pt x="1401" y="1556"/>
                    </a:lnTo>
                    <a:lnTo>
                      <a:pt x="1396" y="1563"/>
                    </a:lnTo>
                    <a:lnTo>
                      <a:pt x="1398" y="1557"/>
                    </a:lnTo>
                    <a:lnTo>
                      <a:pt x="1400" y="1552"/>
                    </a:lnTo>
                    <a:lnTo>
                      <a:pt x="1402" y="1545"/>
                    </a:lnTo>
                    <a:lnTo>
                      <a:pt x="1404" y="1539"/>
                    </a:lnTo>
                    <a:lnTo>
                      <a:pt x="1405" y="1533"/>
                    </a:lnTo>
                    <a:lnTo>
                      <a:pt x="1406" y="1526"/>
                    </a:lnTo>
                    <a:lnTo>
                      <a:pt x="1405" y="1521"/>
                    </a:lnTo>
                    <a:lnTo>
                      <a:pt x="1404" y="1515"/>
                    </a:lnTo>
                    <a:lnTo>
                      <a:pt x="1397" y="1516"/>
                    </a:lnTo>
                    <a:lnTo>
                      <a:pt x="1392" y="1519"/>
                    </a:lnTo>
                    <a:lnTo>
                      <a:pt x="1385" y="1523"/>
                    </a:lnTo>
                    <a:lnTo>
                      <a:pt x="1380" y="1528"/>
                    </a:lnTo>
                    <a:lnTo>
                      <a:pt x="1375" y="1535"/>
                    </a:lnTo>
                    <a:lnTo>
                      <a:pt x="1368" y="1540"/>
                    </a:lnTo>
                    <a:lnTo>
                      <a:pt x="1363" y="1546"/>
                    </a:lnTo>
                    <a:lnTo>
                      <a:pt x="1358" y="1552"/>
                    </a:lnTo>
                    <a:lnTo>
                      <a:pt x="1358" y="1548"/>
                    </a:lnTo>
                    <a:lnTo>
                      <a:pt x="1359" y="1545"/>
                    </a:lnTo>
                    <a:lnTo>
                      <a:pt x="1360" y="1541"/>
                    </a:lnTo>
                    <a:lnTo>
                      <a:pt x="1361" y="1538"/>
                    </a:lnTo>
                    <a:lnTo>
                      <a:pt x="1362" y="1535"/>
                    </a:lnTo>
                    <a:lnTo>
                      <a:pt x="1361" y="1532"/>
                    </a:lnTo>
                    <a:lnTo>
                      <a:pt x="1359" y="1529"/>
                    </a:lnTo>
                    <a:lnTo>
                      <a:pt x="1356" y="1527"/>
                    </a:lnTo>
                    <a:lnTo>
                      <a:pt x="1349" y="1530"/>
                    </a:lnTo>
                    <a:lnTo>
                      <a:pt x="1344" y="1534"/>
                    </a:lnTo>
                    <a:lnTo>
                      <a:pt x="1339" y="1538"/>
                    </a:lnTo>
                    <a:lnTo>
                      <a:pt x="1332" y="1541"/>
                    </a:lnTo>
                    <a:lnTo>
                      <a:pt x="1327" y="1545"/>
                    </a:lnTo>
                    <a:lnTo>
                      <a:pt x="1322" y="1550"/>
                    </a:lnTo>
                    <a:lnTo>
                      <a:pt x="1316" y="1555"/>
                    </a:lnTo>
                    <a:lnTo>
                      <a:pt x="1311" y="1559"/>
                    </a:lnTo>
                    <a:lnTo>
                      <a:pt x="1308" y="1555"/>
                    </a:lnTo>
                    <a:lnTo>
                      <a:pt x="1307" y="1551"/>
                    </a:lnTo>
                    <a:lnTo>
                      <a:pt x="1307" y="1545"/>
                    </a:lnTo>
                    <a:lnTo>
                      <a:pt x="1309" y="1540"/>
                    </a:lnTo>
                    <a:lnTo>
                      <a:pt x="1310" y="1535"/>
                    </a:lnTo>
                    <a:lnTo>
                      <a:pt x="1312" y="1530"/>
                    </a:lnTo>
                    <a:lnTo>
                      <a:pt x="1313" y="1525"/>
                    </a:lnTo>
                    <a:lnTo>
                      <a:pt x="1313" y="1521"/>
                    </a:lnTo>
                    <a:lnTo>
                      <a:pt x="1302" y="1527"/>
                    </a:lnTo>
                    <a:lnTo>
                      <a:pt x="1291" y="1534"/>
                    </a:lnTo>
                    <a:lnTo>
                      <a:pt x="1280" y="1542"/>
                    </a:lnTo>
                    <a:lnTo>
                      <a:pt x="1271" y="1551"/>
                    </a:lnTo>
                    <a:lnTo>
                      <a:pt x="1260" y="1559"/>
                    </a:lnTo>
                    <a:lnTo>
                      <a:pt x="1251" y="1569"/>
                    </a:lnTo>
                    <a:lnTo>
                      <a:pt x="1241" y="1577"/>
                    </a:lnTo>
                    <a:lnTo>
                      <a:pt x="1232" y="1585"/>
                    </a:lnTo>
                    <a:lnTo>
                      <a:pt x="1233" y="1579"/>
                    </a:lnTo>
                    <a:lnTo>
                      <a:pt x="1236" y="1574"/>
                    </a:lnTo>
                    <a:lnTo>
                      <a:pt x="1240" y="1569"/>
                    </a:lnTo>
                    <a:lnTo>
                      <a:pt x="1244" y="1564"/>
                    </a:lnTo>
                    <a:lnTo>
                      <a:pt x="1249" y="1559"/>
                    </a:lnTo>
                    <a:lnTo>
                      <a:pt x="1252" y="1554"/>
                    </a:lnTo>
                    <a:lnTo>
                      <a:pt x="1252" y="1552"/>
                    </a:lnTo>
                    <a:lnTo>
                      <a:pt x="1252" y="1548"/>
                    </a:lnTo>
                    <a:lnTo>
                      <a:pt x="1252" y="1546"/>
                    </a:lnTo>
                    <a:lnTo>
                      <a:pt x="1250" y="1543"/>
                    </a:lnTo>
                    <a:lnTo>
                      <a:pt x="1249" y="1542"/>
                    </a:lnTo>
                    <a:lnTo>
                      <a:pt x="1249" y="1541"/>
                    </a:lnTo>
                    <a:lnTo>
                      <a:pt x="1249" y="1540"/>
                    </a:lnTo>
                    <a:lnTo>
                      <a:pt x="1249" y="1539"/>
                    </a:lnTo>
                    <a:lnTo>
                      <a:pt x="1250" y="1537"/>
                    </a:lnTo>
                    <a:lnTo>
                      <a:pt x="1251" y="1536"/>
                    </a:lnTo>
                    <a:lnTo>
                      <a:pt x="1252" y="1535"/>
                    </a:lnTo>
                    <a:lnTo>
                      <a:pt x="1253" y="1533"/>
                    </a:lnTo>
                    <a:lnTo>
                      <a:pt x="1252" y="1532"/>
                    </a:lnTo>
                    <a:lnTo>
                      <a:pt x="1252" y="1530"/>
                    </a:lnTo>
                    <a:lnTo>
                      <a:pt x="1251" y="1529"/>
                    </a:lnTo>
                    <a:lnTo>
                      <a:pt x="1250" y="1528"/>
                    </a:lnTo>
                    <a:lnTo>
                      <a:pt x="1249" y="1527"/>
                    </a:lnTo>
                    <a:lnTo>
                      <a:pt x="1248" y="1526"/>
                    </a:lnTo>
                    <a:lnTo>
                      <a:pt x="1248" y="1526"/>
                    </a:lnTo>
                    <a:lnTo>
                      <a:pt x="1247" y="1525"/>
                    </a:lnTo>
                    <a:lnTo>
                      <a:pt x="1243" y="1525"/>
                    </a:lnTo>
                    <a:lnTo>
                      <a:pt x="1240" y="1526"/>
                    </a:lnTo>
                    <a:lnTo>
                      <a:pt x="1237" y="1528"/>
                    </a:lnTo>
                    <a:lnTo>
                      <a:pt x="1234" y="1529"/>
                    </a:lnTo>
                    <a:lnTo>
                      <a:pt x="1232" y="1532"/>
                    </a:lnTo>
                    <a:lnTo>
                      <a:pt x="1230" y="1535"/>
                    </a:lnTo>
                    <a:lnTo>
                      <a:pt x="1228" y="1537"/>
                    </a:lnTo>
                    <a:lnTo>
                      <a:pt x="1226" y="1539"/>
                    </a:lnTo>
                    <a:lnTo>
                      <a:pt x="1192" y="1565"/>
                    </a:lnTo>
                    <a:lnTo>
                      <a:pt x="1193" y="1560"/>
                    </a:lnTo>
                    <a:lnTo>
                      <a:pt x="1196" y="1556"/>
                    </a:lnTo>
                    <a:lnTo>
                      <a:pt x="1200" y="1552"/>
                    </a:lnTo>
                    <a:lnTo>
                      <a:pt x="1204" y="1547"/>
                    </a:lnTo>
                    <a:lnTo>
                      <a:pt x="1207" y="1543"/>
                    </a:lnTo>
                    <a:lnTo>
                      <a:pt x="1208" y="1539"/>
                    </a:lnTo>
                    <a:lnTo>
                      <a:pt x="1208" y="1537"/>
                    </a:lnTo>
                    <a:lnTo>
                      <a:pt x="1207" y="1534"/>
                    </a:lnTo>
                    <a:lnTo>
                      <a:pt x="1205" y="1532"/>
                    </a:lnTo>
                    <a:lnTo>
                      <a:pt x="1202" y="1529"/>
                    </a:lnTo>
                    <a:lnTo>
                      <a:pt x="1193" y="1536"/>
                    </a:lnTo>
                    <a:lnTo>
                      <a:pt x="1182" y="1542"/>
                    </a:lnTo>
                    <a:lnTo>
                      <a:pt x="1171" y="1547"/>
                    </a:lnTo>
                    <a:lnTo>
                      <a:pt x="1161" y="1554"/>
                    </a:lnTo>
                    <a:lnTo>
                      <a:pt x="1151" y="1559"/>
                    </a:lnTo>
                    <a:lnTo>
                      <a:pt x="1141" y="1565"/>
                    </a:lnTo>
                    <a:lnTo>
                      <a:pt x="1131" y="1572"/>
                    </a:lnTo>
                    <a:lnTo>
                      <a:pt x="1122" y="1579"/>
                    </a:lnTo>
                    <a:lnTo>
                      <a:pt x="1123" y="1577"/>
                    </a:lnTo>
                    <a:lnTo>
                      <a:pt x="1123" y="1574"/>
                    </a:lnTo>
                    <a:lnTo>
                      <a:pt x="1124" y="1571"/>
                    </a:lnTo>
                    <a:lnTo>
                      <a:pt x="1124" y="1566"/>
                    </a:lnTo>
                    <a:lnTo>
                      <a:pt x="1124" y="1561"/>
                    </a:lnTo>
                    <a:lnTo>
                      <a:pt x="1123" y="1557"/>
                    </a:lnTo>
                    <a:lnTo>
                      <a:pt x="1123" y="1553"/>
                    </a:lnTo>
                    <a:lnTo>
                      <a:pt x="1122" y="1548"/>
                    </a:lnTo>
                    <a:lnTo>
                      <a:pt x="1114" y="1554"/>
                    </a:lnTo>
                    <a:lnTo>
                      <a:pt x="1107" y="1559"/>
                    </a:lnTo>
                    <a:lnTo>
                      <a:pt x="1101" y="1565"/>
                    </a:lnTo>
                    <a:lnTo>
                      <a:pt x="1095" y="1572"/>
                    </a:lnTo>
                    <a:lnTo>
                      <a:pt x="1089" y="1578"/>
                    </a:lnTo>
                    <a:lnTo>
                      <a:pt x="1084" y="1585"/>
                    </a:lnTo>
                    <a:lnTo>
                      <a:pt x="1078" y="1593"/>
                    </a:lnTo>
                    <a:lnTo>
                      <a:pt x="1073" y="1599"/>
                    </a:lnTo>
                    <a:lnTo>
                      <a:pt x="1075" y="1598"/>
                    </a:lnTo>
                    <a:lnTo>
                      <a:pt x="1077" y="1596"/>
                    </a:lnTo>
                    <a:lnTo>
                      <a:pt x="1078" y="1594"/>
                    </a:lnTo>
                    <a:lnTo>
                      <a:pt x="1079" y="1592"/>
                    </a:lnTo>
                    <a:lnTo>
                      <a:pt x="1079" y="1587"/>
                    </a:lnTo>
                    <a:lnTo>
                      <a:pt x="1079" y="1582"/>
                    </a:lnTo>
                    <a:lnTo>
                      <a:pt x="1079" y="1577"/>
                    </a:lnTo>
                    <a:lnTo>
                      <a:pt x="1079" y="1573"/>
                    </a:lnTo>
                    <a:lnTo>
                      <a:pt x="1080" y="1571"/>
                    </a:lnTo>
                    <a:lnTo>
                      <a:pt x="1082" y="1569"/>
                    </a:lnTo>
                    <a:lnTo>
                      <a:pt x="1084" y="1566"/>
                    </a:lnTo>
                    <a:lnTo>
                      <a:pt x="1087" y="1565"/>
                    </a:lnTo>
                    <a:lnTo>
                      <a:pt x="1087" y="1562"/>
                    </a:lnTo>
                    <a:lnTo>
                      <a:pt x="1087" y="1560"/>
                    </a:lnTo>
                    <a:lnTo>
                      <a:pt x="1089" y="1557"/>
                    </a:lnTo>
                    <a:lnTo>
                      <a:pt x="1090" y="1555"/>
                    </a:lnTo>
                    <a:lnTo>
                      <a:pt x="1092" y="1553"/>
                    </a:lnTo>
                    <a:lnTo>
                      <a:pt x="1093" y="1551"/>
                    </a:lnTo>
                    <a:lnTo>
                      <a:pt x="1093" y="1547"/>
                    </a:lnTo>
                    <a:lnTo>
                      <a:pt x="1091" y="1545"/>
                    </a:lnTo>
                    <a:lnTo>
                      <a:pt x="1079" y="1558"/>
                    </a:lnTo>
                    <a:lnTo>
                      <a:pt x="1069" y="1572"/>
                    </a:lnTo>
                    <a:lnTo>
                      <a:pt x="1058" y="1585"/>
                    </a:lnTo>
                    <a:lnTo>
                      <a:pt x="1049" y="1599"/>
                    </a:lnTo>
                    <a:lnTo>
                      <a:pt x="1040" y="1614"/>
                    </a:lnTo>
                    <a:lnTo>
                      <a:pt x="1031" y="1629"/>
                    </a:lnTo>
                    <a:lnTo>
                      <a:pt x="1022" y="1644"/>
                    </a:lnTo>
                    <a:lnTo>
                      <a:pt x="1013" y="1657"/>
                    </a:lnTo>
                    <a:lnTo>
                      <a:pt x="1011" y="1606"/>
                    </a:lnTo>
                    <a:lnTo>
                      <a:pt x="1005" y="1620"/>
                    </a:lnTo>
                    <a:lnTo>
                      <a:pt x="1000" y="1635"/>
                    </a:lnTo>
                    <a:lnTo>
                      <a:pt x="995" y="1650"/>
                    </a:lnTo>
                    <a:lnTo>
                      <a:pt x="988" y="1665"/>
                    </a:lnTo>
                    <a:lnTo>
                      <a:pt x="981" y="1680"/>
                    </a:lnTo>
                    <a:lnTo>
                      <a:pt x="973" y="1693"/>
                    </a:lnTo>
                    <a:lnTo>
                      <a:pt x="964" y="1706"/>
                    </a:lnTo>
                    <a:lnTo>
                      <a:pt x="953" y="1719"/>
                    </a:lnTo>
                    <a:lnTo>
                      <a:pt x="953" y="1715"/>
                    </a:lnTo>
                    <a:lnTo>
                      <a:pt x="956" y="1710"/>
                    </a:lnTo>
                    <a:lnTo>
                      <a:pt x="958" y="1706"/>
                    </a:lnTo>
                    <a:lnTo>
                      <a:pt x="960" y="1702"/>
                    </a:lnTo>
                    <a:lnTo>
                      <a:pt x="962" y="1698"/>
                    </a:lnTo>
                    <a:lnTo>
                      <a:pt x="962" y="1694"/>
                    </a:lnTo>
                    <a:lnTo>
                      <a:pt x="961" y="1692"/>
                    </a:lnTo>
                    <a:lnTo>
                      <a:pt x="959" y="1691"/>
                    </a:lnTo>
                    <a:lnTo>
                      <a:pt x="957" y="1689"/>
                    </a:lnTo>
                    <a:lnTo>
                      <a:pt x="953" y="1688"/>
                    </a:lnTo>
                    <a:lnTo>
                      <a:pt x="949" y="1691"/>
                    </a:lnTo>
                    <a:lnTo>
                      <a:pt x="946" y="1694"/>
                    </a:lnTo>
                    <a:lnTo>
                      <a:pt x="943" y="1700"/>
                    </a:lnTo>
                    <a:lnTo>
                      <a:pt x="941" y="1705"/>
                    </a:lnTo>
                    <a:lnTo>
                      <a:pt x="939" y="1710"/>
                    </a:lnTo>
                    <a:lnTo>
                      <a:pt x="935" y="1715"/>
                    </a:lnTo>
                    <a:lnTo>
                      <a:pt x="933" y="1719"/>
                    </a:lnTo>
                    <a:lnTo>
                      <a:pt x="929" y="1721"/>
                    </a:lnTo>
                    <a:lnTo>
                      <a:pt x="925" y="1723"/>
                    </a:lnTo>
                    <a:lnTo>
                      <a:pt x="921" y="1727"/>
                    </a:lnTo>
                    <a:lnTo>
                      <a:pt x="918" y="1730"/>
                    </a:lnTo>
                    <a:lnTo>
                      <a:pt x="914" y="1736"/>
                    </a:lnTo>
                    <a:lnTo>
                      <a:pt x="909" y="1745"/>
                    </a:lnTo>
                    <a:lnTo>
                      <a:pt x="903" y="1755"/>
                    </a:lnTo>
                    <a:lnTo>
                      <a:pt x="901" y="1759"/>
                    </a:lnTo>
                    <a:lnTo>
                      <a:pt x="897" y="1763"/>
                    </a:lnTo>
                    <a:lnTo>
                      <a:pt x="894" y="1766"/>
                    </a:lnTo>
                    <a:lnTo>
                      <a:pt x="890" y="1770"/>
                    </a:lnTo>
                    <a:lnTo>
                      <a:pt x="886" y="1771"/>
                    </a:lnTo>
                    <a:lnTo>
                      <a:pt x="880" y="1772"/>
                    </a:lnTo>
                    <a:lnTo>
                      <a:pt x="875" y="1772"/>
                    </a:lnTo>
                    <a:lnTo>
                      <a:pt x="869" y="1771"/>
                    </a:lnTo>
                    <a:lnTo>
                      <a:pt x="858" y="1778"/>
                    </a:lnTo>
                    <a:lnTo>
                      <a:pt x="849" y="1784"/>
                    </a:lnTo>
                    <a:lnTo>
                      <a:pt x="839" y="1791"/>
                    </a:lnTo>
                    <a:lnTo>
                      <a:pt x="830" y="1797"/>
                    </a:lnTo>
                    <a:lnTo>
                      <a:pt x="819" y="1803"/>
                    </a:lnTo>
                    <a:lnTo>
                      <a:pt x="810" y="1810"/>
                    </a:lnTo>
                    <a:lnTo>
                      <a:pt x="799" y="1816"/>
                    </a:lnTo>
                    <a:lnTo>
                      <a:pt x="788" y="1821"/>
                    </a:lnTo>
                    <a:lnTo>
                      <a:pt x="788" y="1813"/>
                    </a:lnTo>
                    <a:lnTo>
                      <a:pt x="789" y="1804"/>
                    </a:lnTo>
                    <a:lnTo>
                      <a:pt x="792" y="1796"/>
                    </a:lnTo>
                    <a:lnTo>
                      <a:pt x="795" y="1786"/>
                    </a:lnTo>
                    <a:lnTo>
                      <a:pt x="798" y="1778"/>
                    </a:lnTo>
                    <a:lnTo>
                      <a:pt x="801" y="1770"/>
                    </a:lnTo>
                    <a:lnTo>
                      <a:pt x="804" y="1761"/>
                    </a:lnTo>
                    <a:lnTo>
                      <a:pt x="806" y="1753"/>
                    </a:lnTo>
                    <a:lnTo>
                      <a:pt x="803" y="1750"/>
                    </a:lnTo>
                    <a:lnTo>
                      <a:pt x="800" y="1749"/>
                    </a:lnTo>
                    <a:lnTo>
                      <a:pt x="796" y="1750"/>
                    </a:lnTo>
                    <a:lnTo>
                      <a:pt x="793" y="1753"/>
                    </a:lnTo>
                    <a:lnTo>
                      <a:pt x="789" y="1755"/>
                    </a:lnTo>
                    <a:lnTo>
                      <a:pt x="785" y="1757"/>
                    </a:lnTo>
                    <a:lnTo>
                      <a:pt x="782" y="1759"/>
                    </a:lnTo>
                    <a:lnTo>
                      <a:pt x="779" y="1761"/>
                    </a:lnTo>
                    <a:lnTo>
                      <a:pt x="746" y="1789"/>
                    </a:lnTo>
                    <a:lnTo>
                      <a:pt x="745" y="1786"/>
                    </a:lnTo>
                    <a:lnTo>
                      <a:pt x="745" y="1783"/>
                    </a:lnTo>
                    <a:lnTo>
                      <a:pt x="745" y="1781"/>
                    </a:lnTo>
                    <a:lnTo>
                      <a:pt x="747" y="1778"/>
                    </a:lnTo>
                    <a:lnTo>
                      <a:pt x="751" y="1774"/>
                    </a:lnTo>
                    <a:lnTo>
                      <a:pt x="756" y="1770"/>
                    </a:lnTo>
                    <a:lnTo>
                      <a:pt x="760" y="1765"/>
                    </a:lnTo>
                    <a:lnTo>
                      <a:pt x="763" y="1761"/>
                    </a:lnTo>
                    <a:lnTo>
                      <a:pt x="763" y="1759"/>
                    </a:lnTo>
                    <a:lnTo>
                      <a:pt x="763" y="1756"/>
                    </a:lnTo>
                    <a:lnTo>
                      <a:pt x="761" y="1754"/>
                    </a:lnTo>
                    <a:lnTo>
                      <a:pt x="758" y="1750"/>
                    </a:lnTo>
                    <a:lnTo>
                      <a:pt x="747" y="1756"/>
                    </a:lnTo>
                    <a:lnTo>
                      <a:pt x="737" y="1761"/>
                    </a:lnTo>
                    <a:lnTo>
                      <a:pt x="726" y="1767"/>
                    </a:lnTo>
                    <a:lnTo>
                      <a:pt x="715" y="1775"/>
                    </a:lnTo>
                    <a:lnTo>
                      <a:pt x="705" y="1780"/>
                    </a:lnTo>
                    <a:lnTo>
                      <a:pt x="693" y="1784"/>
                    </a:lnTo>
                    <a:lnTo>
                      <a:pt x="688" y="1786"/>
                    </a:lnTo>
                    <a:lnTo>
                      <a:pt x="682" y="1788"/>
                    </a:lnTo>
                    <a:lnTo>
                      <a:pt x="676" y="1788"/>
                    </a:lnTo>
                    <a:lnTo>
                      <a:pt x="670" y="1788"/>
                    </a:lnTo>
                    <a:lnTo>
                      <a:pt x="665" y="1790"/>
                    </a:lnTo>
                    <a:lnTo>
                      <a:pt x="659" y="1792"/>
                    </a:lnTo>
                    <a:lnTo>
                      <a:pt x="654" y="1794"/>
                    </a:lnTo>
                    <a:lnTo>
                      <a:pt x="649" y="1796"/>
                    </a:lnTo>
                    <a:lnTo>
                      <a:pt x="643" y="1798"/>
                    </a:lnTo>
                    <a:lnTo>
                      <a:pt x="638" y="1799"/>
                    </a:lnTo>
                    <a:lnTo>
                      <a:pt x="633" y="1800"/>
                    </a:lnTo>
                    <a:lnTo>
                      <a:pt x="628" y="1801"/>
                    </a:lnTo>
                    <a:lnTo>
                      <a:pt x="632" y="1794"/>
                    </a:lnTo>
                    <a:lnTo>
                      <a:pt x="637" y="1789"/>
                    </a:lnTo>
                    <a:lnTo>
                      <a:pt x="643" y="1783"/>
                    </a:lnTo>
                    <a:lnTo>
                      <a:pt x="651" y="1779"/>
                    </a:lnTo>
                    <a:lnTo>
                      <a:pt x="657" y="1776"/>
                    </a:lnTo>
                    <a:lnTo>
                      <a:pt x="665" y="1772"/>
                    </a:lnTo>
                    <a:lnTo>
                      <a:pt x="670" y="1766"/>
                    </a:lnTo>
                    <a:lnTo>
                      <a:pt x="675" y="1761"/>
                    </a:lnTo>
                    <a:lnTo>
                      <a:pt x="671" y="1757"/>
                    </a:lnTo>
                    <a:lnTo>
                      <a:pt x="666" y="1757"/>
                    </a:lnTo>
                    <a:lnTo>
                      <a:pt x="661" y="1757"/>
                    </a:lnTo>
                    <a:lnTo>
                      <a:pt x="657" y="1759"/>
                    </a:lnTo>
                    <a:lnTo>
                      <a:pt x="653" y="1762"/>
                    </a:lnTo>
                    <a:lnTo>
                      <a:pt x="648" y="1765"/>
                    </a:lnTo>
                    <a:lnTo>
                      <a:pt x="643" y="1767"/>
                    </a:lnTo>
                    <a:lnTo>
                      <a:pt x="639" y="1770"/>
                    </a:lnTo>
                    <a:lnTo>
                      <a:pt x="615" y="1775"/>
                    </a:lnTo>
                    <a:lnTo>
                      <a:pt x="615" y="1774"/>
                    </a:lnTo>
                    <a:lnTo>
                      <a:pt x="615" y="1773"/>
                    </a:lnTo>
                    <a:lnTo>
                      <a:pt x="615" y="1772"/>
                    </a:lnTo>
                    <a:lnTo>
                      <a:pt x="615" y="1771"/>
                    </a:lnTo>
                    <a:lnTo>
                      <a:pt x="614" y="1770"/>
                    </a:lnTo>
                    <a:lnTo>
                      <a:pt x="613" y="1768"/>
                    </a:lnTo>
                    <a:lnTo>
                      <a:pt x="612" y="1767"/>
                    </a:lnTo>
                    <a:lnTo>
                      <a:pt x="611" y="1766"/>
                    </a:lnTo>
                    <a:lnTo>
                      <a:pt x="600" y="1771"/>
                    </a:lnTo>
                    <a:lnTo>
                      <a:pt x="590" y="1774"/>
                    </a:lnTo>
                    <a:lnTo>
                      <a:pt x="579" y="1779"/>
                    </a:lnTo>
                    <a:lnTo>
                      <a:pt x="568" y="1782"/>
                    </a:lnTo>
                    <a:lnTo>
                      <a:pt x="558" y="1786"/>
                    </a:lnTo>
                    <a:lnTo>
                      <a:pt x="546" y="1789"/>
                    </a:lnTo>
                    <a:lnTo>
                      <a:pt x="534" y="1790"/>
                    </a:lnTo>
                    <a:lnTo>
                      <a:pt x="522" y="1789"/>
                    </a:lnTo>
                    <a:lnTo>
                      <a:pt x="525" y="1783"/>
                    </a:lnTo>
                    <a:lnTo>
                      <a:pt x="529" y="1778"/>
                    </a:lnTo>
                    <a:lnTo>
                      <a:pt x="534" y="1773"/>
                    </a:lnTo>
                    <a:lnTo>
                      <a:pt x="539" y="1768"/>
                    </a:lnTo>
                    <a:lnTo>
                      <a:pt x="544" y="1764"/>
                    </a:lnTo>
                    <a:lnTo>
                      <a:pt x="549" y="1760"/>
                    </a:lnTo>
                    <a:lnTo>
                      <a:pt x="555" y="1756"/>
                    </a:lnTo>
                    <a:lnTo>
                      <a:pt x="559" y="1750"/>
                    </a:lnTo>
                    <a:lnTo>
                      <a:pt x="552" y="1745"/>
                    </a:lnTo>
                    <a:lnTo>
                      <a:pt x="545" y="1749"/>
                    </a:lnTo>
                    <a:lnTo>
                      <a:pt x="538" y="1754"/>
                    </a:lnTo>
                    <a:lnTo>
                      <a:pt x="530" y="1759"/>
                    </a:lnTo>
                    <a:lnTo>
                      <a:pt x="522" y="1763"/>
                    </a:lnTo>
                    <a:lnTo>
                      <a:pt x="514" y="1767"/>
                    </a:lnTo>
                    <a:lnTo>
                      <a:pt x="507" y="1772"/>
                    </a:lnTo>
                    <a:lnTo>
                      <a:pt x="499" y="1775"/>
                    </a:lnTo>
                    <a:lnTo>
                      <a:pt x="490" y="1777"/>
                    </a:lnTo>
                    <a:lnTo>
                      <a:pt x="491" y="1772"/>
                    </a:lnTo>
                    <a:lnTo>
                      <a:pt x="493" y="1767"/>
                    </a:lnTo>
                    <a:lnTo>
                      <a:pt x="495" y="1763"/>
                    </a:lnTo>
                    <a:lnTo>
                      <a:pt x="499" y="1759"/>
                    </a:lnTo>
                    <a:lnTo>
                      <a:pt x="505" y="1753"/>
                    </a:lnTo>
                    <a:lnTo>
                      <a:pt x="512" y="1747"/>
                    </a:lnTo>
                    <a:lnTo>
                      <a:pt x="521" y="1742"/>
                    </a:lnTo>
                    <a:lnTo>
                      <a:pt x="529" y="1738"/>
                    </a:lnTo>
                    <a:lnTo>
                      <a:pt x="538" y="1734"/>
                    </a:lnTo>
                    <a:lnTo>
                      <a:pt x="546" y="1728"/>
                    </a:lnTo>
                    <a:lnTo>
                      <a:pt x="546" y="1727"/>
                    </a:lnTo>
                    <a:lnTo>
                      <a:pt x="546" y="1726"/>
                    </a:lnTo>
                    <a:lnTo>
                      <a:pt x="545" y="1725"/>
                    </a:lnTo>
                    <a:lnTo>
                      <a:pt x="544" y="1724"/>
                    </a:lnTo>
                    <a:lnTo>
                      <a:pt x="543" y="1723"/>
                    </a:lnTo>
                    <a:lnTo>
                      <a:pt x="542" y="1722"/>
                    </a:lnTo>
                    <a:lnTo>
                      <a:pt x="541" y="1722"/>
                    </a:lnTo>
                    <a:lnTo>
                      <a:pt x="541" y="1721"/>
                    </a:lnTo>
                    <a:lnTo>
                      <a:pt x="526" y="1723"/>
                    </a:lnTo>
                    <a:lnTo>
                      <a:pt x="530" y="1718"/>
                    </a:lnTo>
                    <a:lnTo>
                      <a:pt x="534" y="1712"/>
                    </a:lnTo>
                    <a:lnTo>
                      <a:pt x="541" y="1709"/>
                    </a:lnTo>
                    <a:lnTo>
                      <a:pt x="547" y="1706"/>
                    </a:lnTo>
                    <a:lnTo>
                      <a:pt x="555" y="1703"/>
                    </a:lnTo>
                    <a:lnTo>
                      <a:pt x="561" y="1701"/>
                    </a:lnTo>
                    <a:lnTo>
                      <a:pt x="568" y="1698"/>
                    </a:lnTo>
                    <a:lnTo>
                      <a:pt x="575" y="1694"/>
                    </a:lnTo>
                    <a:lnTo>
                      <a:pt x="575" y="1692"/>
                    </a:lnTo>
                    <a:lnTo>
                      <a:pt x="575" y="1691"/>
                    </a:lnTo>
                    <a:lnTo>
                      <a:pt x="575" y="1689"/>
                    </a:lnTo>
                    <a:lnTo>
                      <a:pt x="574" y="1688"/>
                    </a:lnTo>
                    <a:lnTo>
                      <a:pt x="573" y="1687"/>
                    </a:lnTo>
                    <a:lnTo>
                      <a:pt x="572" y="1686"/>
                    </a:lnTo>
                    <a:lnTo>
                      <a:pt x="570" y="1685"/>
                    </a:lnTo>
                    <a:lnTo>
                      <a:pt x="568" y="1684"/>
                    </a:lnTo>
                    <a:lnTo>
                      <a:pt x="555" y="1686"/>
                    </a:lnTo>
                    <a:lnTo>
                      <a:pt x="557" y="1685"/>
                    </a:lnTo>
                    <a:lnTo>
                      <a:pt x="560" y="1685"/>
                    </a:lnTo>
                    <a:lnTo>
                      <a:pt x="562" y="1684"/>
                    </a:lnTo>
                    <a:lnTo>
                      <a:pt x="565" y="1684"/>
                    </a:lnTo>
                    <a:lnTo>
                      <a:pt x="567" y="1683"/>
                    </a:lnTo>
                    <a:lnTo>
                      <a:pt x="570" y="1682"/>
                    </a:lnTo>
                    <a:lnTo>
                      <a:pt x="573" y="1680"/>
                    </a:lnTo>
                    <a:lnTo>
                      <a:pt x="575" y="1679"/>
                    </a:lnTo>
                    <a:lnTo>
                      <a:pt x="575" y="1670"/>
                    </a:lnTo>
                    <a:lnTo>
                      <a:pt x="580" y="1668"/>
                    </a:lnTo>
                    <a:lnTo>
                      <a:pt x="586" y="1668"/>
                    </a:lnTo>
                    <a:lnTo>
                      <a:pt x="593" y="1669"/>
                    </a:lnTo>
                    <a:lnTo>
                      <a:pt x="599" y="1670"/>
                    </a:lnTo>
                    <a:lnTo>
                      <a:pt x="605" y="1670"/>
                    </a:lnTo>
                    <a:lnTo>
                      <a:pt x="610" y="1669"/>
                    </a:lnTo>
                    <a:lnTo>
                      <a:pt x="612" y="1668"/>
                    </a:lnTo>
                    <a:lnTo>
                      <a:pt x="614" y="1666"/>
                    </a:lnTo>
                    <a:lnTo>
                      <a:pt x="616" y="1664"/>
                    </a:lnTo>
                    <a:lnTo>
                      <a:pt x="617" y="1661"/>
                    </a:lnTo>
                    <a:lnTo>
                      <a:pt x="604" y="1652"/>
                    </a:lnTo>
                    <a:lnTo>
                      <a:pt x="613" y="1648"/>
                    </a:lnTo>
                    <a:lnTo>
                      <a:pt x="621" y="1646"/>
                    </a:lnTo>
                    <a:lnTo>
                      <a:pt x="630" y="1644"/>
                    </a:lnTo>
                    <a:lnTo>
                      <a:pt x="638" y="1642"/>
                    </a:lnTo>
                    <a:lnTo>
                      <a:pt x="647" y="1638"/>
                    </a:lnTo>
                    <a:lnTo>
                      <a:pt x="655" y="1635"/>
                    </a:lnTo>
                    <a:lnTo>
                      <a:pt x="661" y="1631"/>
                    </a:lnTo>
                    <a:lnTo>
                      <a:pt x="668" y="1626"/>
                    </a:lnTo>
                    <a:lnTo>
                      <a:pt x="665" y="1623"/>
                    </a:lnTo>
                    <a:lnTo>
                      <a:pt x="661" y="1620"/>
                    </a:lnTo>
                    <a:lnTo>
                      <a:pt x="658" y="1619"/>
                    </a:lnTo>
                    <a:lnTo>
                      <a:pt x="655" y="1618"/>
                    </a:lnTo>
                    <a:lnTo>
                      <a:pt x="652" y="1617"/>
                    </a:lnTo>
                    <a:lnTo>
                      <a:pt x="648" y="1617"/>
                    </a:lnTo>
                    <a:lnTo>
                      <a:pt x="645" y="1616"/>
                    </a:lnTo>
                    <a:lnTo>
                      <a:pt x="641" y="1615"/>
                    </a:lnTo>
                    <a:lnTo>
                      <a:pt x="647" y="1611"/>
                    </a:lnTo>
                    <a:lnTo>
                      <a:pt x="652" y="1608"/>
                    </a:lnTo>
                    <a:lnTo>
                      <a:pt x="657" y="1605"/>
                    </a:lnTo>
                    <a:lnTo>
                      <a:pt x="663" y="1602"/>
                    </a:lnTo>
                    <a:lnTo>
                      <a:pt x="668" y="1599"/>
                    </a:lnTo>
                    <a:lnTo>
                      <a:pt x="674" y="1597"/>
                    </a:lnTo>
                    <a:lnTo>
                      <a:pt x="679" y="1594"/>
                    </a:lnTo>
                    <a:lnTo>
                      <a:pt x="686" y="1590"/>
                    </a:lnTo>
                    <a:lnTo>
                      <a:pt x="684" y="1585"/>
                    </a:lnTo>
                    <a:lnTo>
                      <a:pt x="682" y="1582"/>
                    </a:lnTo>
                    <a:lnTo>
                      <a:pt x="679" y="1581"/>
                    </a:lnTo>
                    <a:lnTo>
                      <a:pt x="675" y="1581"/>
                    </a:lnTo>
                    <a:lnTo>
                      <a:pt x="672" y="1582"/>
                    </a:lnTo>
                    <a:lnTo>
                      <a:pt x="668" y="1582"/>
                    </a:lnTo>
                    <a:lnTo>
                      <a:pt x="665" y="1583"/>
                    </a:lnTo>
                    <a:lnTo>
                      <a:pt x="661" y="1583"/>
                    </a:lnTo>
                    <a:lnTo>
                      <a:pt x="665" y="1581"/>
                    </a:lnTo>
                    <a:lnTo>
                      <a:pt x="669" y="1579"/>
                    </a:lnTo>
                    <a:lnTo>
                      <a:pt x="673" y="1577"/>
                    </a:lnTo>
                    <a:lnTo>
                      <a:pt x="677" y="1574"/>
                    </a:lnTo>
                    <a:lnTo>
                      <a:pt x="682" y="1571"/>
                    </a:lnTo>
                    <a:lnTo>
                      <a:pt x="686" y="1568"/>
                    </a:lnTo>
                    <a:lnTo>
                      <a:pt x="688" y="1563"/>
                    </a:lnTo>
                    <a:lnTo>
                      <a:pt x="689" y="1559"/>
                    </a:lnTo>
                    <a:lnTo>
                      <a:pt x="686" y="1557"/>
                    </a:lnTo>
                    <a:lnTo>
                      <a:pt x="682" y="1556"/>
                    </a:lnTo>
                    <a:lnTo>
                      <a:pt x="677" y="1556"/>
                    </a:lnTo>
                    <a:lnTo>
                      <a:pt x="673" y="1557"/>
                    </a:lnTo>
                    <a:lnTo>
                      <a:pt x="668" y="1559"/>
                    </a:lnTo>
                    <a:lnTo>
                      <a:pt x="664" y="1560"/>
                    </a:lnTo>
                    <a:lnTo>
                      <a:pt x="659" y="1562"/>
                    </a:lnTo>
                    <a:lnTo>
                      <a:pt x="655" y="1563"/>
                    </a:lnTo>
                    <a:lnTo>
                      <a:pt x="657" y="1559"/>
                    </a:lnTo>
                    <a:lnTo>
                      <a:pt x="659" y="1555"/>
                    </a:lnTo>
                    <a:lnTo>
                      <a:pt x="663" y="1552"/>
                    </a:lnTo>
                    <a:lnTo>
                      <a:pt x="666" y="1550"/>
                    </a:lnTo>
                    <a:lnTo>
                      <a:pt x="674" y="1544"/>
                    </a:lnTo>
                    <a:lnTo>
                      <a:pt x="683" y="1539"/>
                    </a:lnTo>
                    <a:lnTo>
                      <a:pt x="692" y="1535"/>
                    </a:lnTo>
                    <a:lnTo>
                      <a:pt x="702" y="1529"/>
                    </a:lnTo>
                    <a:lnTo>
                      <a:pt x="710" y="1524"/>
                    </a:lnTo>
                    <a:lnTo>
                      <a:pt x="718" y="1517"/>
                    </a:lnTo>
                    <a:lnTo>
                      <a:pt x="715" y="1514"/>
                    </a:lnTo>
                    <a:lnTo>
                      <a:pt x="714" y="1511"/>
                    </a:lnTo>
                    <a:lnTo>
                      <a:pt x="713" y="1508"/>
                    </a:lnTo>
                    <a:lnTo>
                      <a:pt x="714" y="1506"/>
                    </a:lnTo>
                    <a:lnTo>
                      <a:pt x="716" y="1501"/>
                    </a:lnTo>
                    <a:lnTo>
                      <a:pt x="722" y="1496"/>
                    </a:lnTo>
                    <a:lnTo>
                      <a:pt x="727" y="1491"/>
                    </a:lnTo>
                    <a:lnTo>
                      <a:pt x="732" y="1486"/>
                    </a:lnTo>
                    <a:lnTo>
                      <a:pt x="738" y="1481"/>
                    </a:lnTo>
                    <a:lnTo>
                      <a:pt x="740" y="1474"/>
                    </a:lnTo>
                    <a:lnTo>
                      <a:pt x="739" y="1472"/>
                    </a:lnTo>
                    <a:lnTo>
                      <a:pt x="738" y="1471"/>
                    </a:lnTo>
                    <a:lnTo>
                      <a:pt x="736" y="1470"/>
                    </a:lnTo>
                    <a:lnTo>
                      <a:pt x="734" y="1469"/>
                    </a:lnTo>
                    <a:lnTo>
                      <a:pt x="732" y="1469"/>
                    </a:lnTo>
                    <a:lnTo>
                      <a:pt x="730" y="1468"/>
                    </a:lnTo>
                    <a:lnTo>
                      <a:pt x="728" y="1468"/>
                    </a:lnTo>
                    <a:lnTo>
                      <a:pt x="726" y="1469"/>
                    </a:lnTo>
                    <a:lnTo>
                      <a:pt x="725" y="1470"/>
                    </a:lnTo>
                    <a:lnTo>
                      <a:pt x="724" y="1471"/>
                    </a:lnTo>
                    <a:lnTo>
                      <a:pt x="723" y="1471"/>
                    </a:lnTo>
                    <a:lnTo>
                      <a:pt x="722" y="1472"/>
                    </a:lnTo>
                    <a:lnTo>
                      <a:pt x="720" y="1472"/>
                    </a:lnTo>
                    <a:lnTo>
                      <a:pt x="719" y="1472"/>
                    </a:lnTo>
                    <a:lnTo>
                      <a:pt x="718" y="1472"/>
                    </a:lnTo>
                    <a:lnTo>
                      <a:pt x="715" y="1472"/>
                    </a:lnTo>
                    <a:lnTo>
                      <a:pt x="718" y="1469"/>
                    </a:lnTo>
                    <a:lnTo>
                      <a:pt x="721" y="1466"/>
                    </a:lnTo>
                    <a:lnTo>
                      <a:pt x="723" y="1463"/>
                    </a:lnTo>
                    <a:lnTo>
                      <a:pt x="726" y="1460"/>
                    </a:lnTo>
                    <a:lnTo>
                      <a:pt x="728" y="1456"/>
                    </a:lnTo>
                    <a:lnTo>
                      <a:pt x="730" y="1453"/>
                    </a:lnTo>
                    <a:lnTo>
                      <a:pt x="730" y="1450"/>
                    </a:lnTo>
                    <a:lnTo>
                      <a:pt x="730" y="1446"/>
                    </a:lnTo>
                    <a:lnTo>
                      <a:pt x="727" y="1444"/>
                    </a:lnTo>
                    <a:lnTo>
                      <a:pt x="725" y="1443"/>
                    </a:lnTo>
                    <a:lnTo>
                      <a:pt x="722" y="1444"/>
                    </a:lnTo>
                    <a:lnTo>
                      <a:pt x="720" y="1446"/>
                    </a:lnTo>
                    <a:lnTo>
                      <a:pt x="716" y="1448"/>
                    </a:lnTo>
                    <a:lnTo>
                      <a:pt x="713" y="1450"/>
                    </a:lnTo>
                    <a:lnTo>
                      <a:pt x="711" y="1451"/>
                    </a:lnTo>
                    <a:lnTo>
                      <a:pt x="708" y="1452"/>
                    </a:lnTo>
                    <a:lnTo>
                      <a:pt x="708" y="1453"/>
                    </a:lnTo>
                    <a:lnTo>
                      <a:pt x="708" y="1454"/>
                    </a:lnTo>
                    <a:lnTo>
                      <a:pt x="707" y="1455"/>
                    </a:lnTo>
                    <a:lnTo>
                      <a:pt x="707" y="1455"/>
                    </a:lnTo>
                    <a:lnTo>
                      <a:pt x="706" y="1456"/>
                    </a:lnTo>
                    <a:lnTo>
                      <a:pt x="705" y="1458"/>
                    </a:lnTo>
                    <a:lnTo>
                      <a:pt x="704" y="1458"/>
                    </a:lnTo>
                    <a:lnTo>
                      <a:pt x="704" y="1459"/>
                    </a:lnTo>
                    <a:lnTo>
                      <a:pt x="708" y="1450"/>
                    </a:lnTo>
                    <a:lnTo>
                      <a:pt x="714" y="1442"/>
                    </a:lnTo>
                    <a:lnTo>
                      <a:pt x="721" y="1433"/>
                    </a:lnTo>
                    <a:lnTo>
                      <a:pt x="727" y="1425"/>
                    </a:lnTo>
                    <a:lnTo>
                      <a:pt x="733" y="1416"/>
                    </a:lnTo>
                    <a:lnTo>
                      <a:pt x="739" y="1408"/>
                    </a:lnTo>
                    <a:lnTo>
                      <a:pt x="742" y="1398"/>
                    </a:lnTo>
                    <a:lnTo>
                      <a:pt x="744" y="1388"/>
                    </a:lnTo>
                    <a:lnTo>
                      <a:pt x="742" y="1385"/>
                    </a:lnTo>
                    <a:lnTo>
                      <a:pt x="741" y="1381"/>
                    </a:lnTo>
                    <a:lnTo>
                      <a:pt x="740" y="1378"/>
                    </a:lnTo>
                    <a:lnTo>
                      <a:pt x="740" y="1375"/>
                    </a:lnTo>
                    <a:lnTo>
                      <a:pt x="741" y="1369"/>
                    </a:lnTo>
                    <a:lnTo>
                      <a:pt x="743" y="1361"/>
                    </a:lnTo>
                    <a:lnTo>
                      <a:pt x="745" y="1355"/>
                    </a:lnTo>
                    <a:lnTo>
                      <a:pt x="747" y="1349"/>
                    </a:lnTo>
                    <a:lnTo>
                      <a:pt x="748" y="1344"/>
                    </a:lnTo>
                    <a:lnTo>
                      <a:pt x="748" y="1341"/>
                    </a:lnTo>
                    <a:lnTo>
                      <a:pt x="747" y="1338"/>
                    </a:lnTo>
                    <a:lnTo>
                      <a:pt x="746" y="1336"/>
                    </a:lnTo>
                    <a:lnTo>
                      <a:pt x="747" y="1330"/>
                    </a:lnTo>
                    <a:lnTo>
                      <a:pt x="747" y="1323"/>
                    </a:lnTo>
                    <a:lnTo>
                      <a:pt x="747" y="1316"/>
                    </a:lnTo>
                    <a:lnTo>
                      <a:pt x="746" y="1309"/>
                    </a:lnTo>
                    <a:lnTo>
                      <a:pt x="745" y="1302"/>
                    </a:lnTo>
                    <a:lnTo>
                      <a:pt x="744" y="1295"/>
                    </a:lnTo>
                    <a:lnTo>
                      <a:pt x="743" y="1287"/>
                    </a:lnTo>
                    <a:lnTo>
                      <a:pt x="742" y="1281"/>
                    </a:lnTo>
                    <a:lnTo>
                      <a:pt x="738" y="1277"/>
                    </a:lnTo>
                    <a:lnTo>
                      <a:pt x="738" y="1280"/>
                    </a:lnTo>
                    <a:lnTo>
                      <a:pt x="737" y="1282"/>
                    </a:lnTo>
                    <a:lnTo>
                      <a:pt x="736" y="1284"/>
                    </a:lnTo>
                    <a:lnTo>
                      <a:pt x="733" y="1285"/>
                    </a:lnTo>
                    <a:lnTo>
                      <a:pt x="732" y="1286"/>
                    </a:lnTo>
                    <a:lnTo>
                      <a:pt x="730" y="1287"/>
                    </a:lnTo>
                    <a:lnTo>
                      <a:pt x="728" y="1287"/>
                    </a:lnTo>
                    <a:lnTo>
                      <a:pt x="726" y="1287"/>
                    </a:lnTo>
                    <a:lnTo>
                      <a:pt x="722" y="1285"/>
                    </a:lnTo>
                    <a:lnTo>
                      <a:pt x="720" y="1283"/>
                    </a:lnTo>
                    <a:lnTo>
                      <a:pt x="716" y="1281"/>
                    </a:lnTo>
                    <a:lnTo>
                      <a:pt x="715" y="1278"/>
                    </a:lnTo>
                    <a:lnTo>
                      <a:pt x="713" y="1271"/>
                    </a:lnTo>
                    <a:lnTo>
                      <a:pt x="712" y="1263"/>
                    </a:lnTo>
                    <a:lnTo>
                      <a:pt x="712" y="1255"/>
                    </a:lnTo>
                    <a:lnTo>
                      <a:pt x="711" y="1248"/>
                    </a:lnTo>
                    <a:lnTo>
                      <a:pt x="710" y="1245"/>
                    </a:lnTo>
                    <a:lnTo>
                      <a:pt x="708" y="1242"/>
                    </a:lnTo>
                    <a:lnTo>
                      <a:pt x="706" y="1239"/>
                    </a:lnTo>
                    <a:lnTo>
                      <a:pt x="704" y="1236"/>
                    </a:lnTo>
                    <a:lnTo>
                      <a:pt x="697" y="1229"/>
                    </a:lnTo>
                    <a:lnTo>
                      <a:pt x="693" y="1220"/>
                    </a:lnTo>
                    <a:lnTo>
                      <a:pt x="689" y="1210"/>
                    </a:lnTo>
                    <a:lnTo>
                      <a:pt x="686" y="1199"/>
                    </a:lnTo>
                    <a:lnTo>
                      <a:pt x="683" y="1190"/>
                    </a:lnTo>
                    <a:lnTo>
                      <a:pt x="678" y="1180"/>
                    </a:lnTo>
                    <a:lnTo>
                      <a:pt x="676" y="1175"/>
                    </a:lnTo>
                    <a:lnTo>
                      <a:pt x="673" y="1171"/>
                    </a:lnTo>
                    <a:lnTo>
                      <a:pt x="670" y="1168"/>
                    </a:lnTo>
                    <a:lnTo>
                      <a:pt x="666" y="1163"/>
                    </a:lnTo>
                    <a:lnTo>
                      <a:pt x="666" y="1154"/>
                    </a:lnTo>
                    <a:lnTo>
                      <a:pt x="666" y="1143"/>
                    </a:lnTo>
                    <a:lnTo>
                      <a:pt x="666" y="1133"/>
                    </a:lnTo>
                    <a:lnTo>
                      <a:pt x="665" y="1122"/>
                    </a:lnTo>
                    <a:lnTo>
                      <a:pt x="665" y="1112"/>
                    </a:lnTo>
                    <a:lnTo>
                      <a:pt x="666" y="1101"/>
                    </a:lnTo>
                    <a:lnTo>
                      <a:pt x="668" y="1092"/>
                    </a:lnTo>
                    <a:lnTo>
                      <a:pt x="671" y="1081"/>
                    </a:lnTo>
                    <a:lnTo>
                      <a:pt x="670" y="1077"/>
                    </a:lnTo>
                    <a:lnTo>
                      <a:pt x="669" y="1073"/>
                    </a:lnTo>
                    <a:lnTo>
                      <a:pt x="670" y="1067"/>
                    </a:lnTo>
                    <a:lnTo>
                      <a:pt x="671" y="1063"/>
                    </a:lnTo>
                    <a:lnTo>
                      <a:pt x="672" y="1058"/>
                    </a:lnTo>
                    <a:lnTo>
                      <a:pt x="674" y="1052"/>
                    </a:lnTo>
                    <a:lnTo>
                      <a:pt x="676" y="1048"/>
                    </a:lnTo>
                    <a:lnTo>
                      <a:pt x="677" y="1043"/>
                    </a:lnTo>
                    <a:lnTo>
                      <a:pt x="684" y="1033"/>
                    </a:lnTo>
                    <a:lnTo>
                      <a:pt x="689" y="1023"/>
                    </a:lnTo>
                    <a:lnTo>
                      <a:pt x="696" y="1013"/>
                    </a:lnTo>
                    <a:lnTo>
                      <a:pt x="703" y="1004"/>
                    </a:lnTo>
                    <a:lnTo>
                      <a:pt x="710" y="994"/>
                    </a:lnTo>
                    <a:lnTo>
                      <a:pt x="718" y="985"/>
                    </a:lnTo>
                    <a:lnTo>
                      <a:pt x="725" y="976"/>
                    </a:lnTo>
                    <a:lnTo>
                      <a:pt x="731" y="967"/>
                    </a:lnTo>
                    <a:lnTo>
                      <a:pt x="728" y="964"/>
                    </a:lnTo>
                    <a:lnTo>
                      <a:pt x="727" y="960"/>
                    </a:lnTo>
                    <a:lnTo>
                      <a:pt x="728" y="958"/>
                    </a:lnTo>
                    <a:lnTo>
                      <a:pt x="730" y="955"/>
                    </a:lnTo>
                    <a:lnTo>
                      <a:pt x="732" y="953"/>
                    </a:lnTo>
                    <a:lnTo>
                      <a:pt x="736" y="951"/>
                    </a:lnTo>
                    <a:lnTo>
                      <a:pt x="738" y="949"/>
                    </a:lnTo>
                    <a:lnTo>
                      <a:pt x="738" y="946"/>
                    </a:lnTo>
                    <a:lnTo>
                      <a:pt x="764" y="916"/>
                    </a:lnTo>
                    <a:lnTo>
                      <a:pt x="758" y="908"/>
                    </a:lnTo>
                    <a:lnTo>
                      <a:pt x="786" y="885"/>
                    </a:lnTo>
                    <a:lnTo>
                      <a:pt x="786" y="879"/>
                    </a:lnTo>
                    <a:lnTo>
                      <a:pt x="779" y="881"/>
                    </a:lnTo>
                    <a:lnTo>
                      <a:pt x="771" y="884"/>
                    </a:lnTo>
                    <a:lnTo>
                      <a:pt x="764" y="888"/>
                    </a:lnTo>
                    <a:lnTo>
                      <a:pt x="758" y="894"/>
                    </a:lnTo>
                    <a:lnTo>
                      <a:pt x="751" y="899"/>
                    </a:lnTo>
                    <a:lnTo>
                      <a:pt x="745" y="904"/>
                    </a:lnTo>
                    <a:lnTo>
                      <a:pt x="739" y="911"/>
                    </a:lnTo>
                    <a:lnTo>
                      <a:pt x="731" y="916"/>
                    </a:lnTo>
                    <a:lnTo>
                      <a:pt x="733" y="918"/>
                    </a:lnTo>
                    <a:lnTo>
                      <a:pt x="736" y="919"/>
                    </a:lnTo>
                    <a:lnTo>
                      <a:pt x="738" y="920"/>
                    </a:lnTo>
                    <a:lnTo>
                      <a:pt x="740" y="920"/>
                    </a:lnTo>
                    <a:lnTo>
                      <a:pt x="742" y="920"/>
                    </a:lnTo>
                    <a:lnTo>
                      <a:pt x="744" y="919"/>
                    </a:lnTo>
                    <a:lnTo>
                      <a:pt x="746" y="918"/>
                    </a:lnTo>
                    <a:lnTo>
                      <a:pt x="748" y="918"/>
                    </a:lnTo>
                    <a:lnTo>
                      <a:pt x="744" y="927"/>
                    </a:lnTo>
                    <a:lnTo>
                      <a:pt x="738" y="934"/>
                    </a:lnTo>
                    <a:lnTo>
                      <a:pt x="731" y="941"/>
                    </a:lnTo>
                    <a:lnTo>
                      <a:pt x="724" y="948"/>
                    </a:lnTo>
                    <a:lnTo>
                      <a:pt x="715" y="955"/>
                    </a:lnTo>
                    <a:lnTo>
                      <a:pt x="708" y="961"/>
                    </a:lnTo>
                    <a:lnTo>
                      <a:pt x="702" y="969"/>
                    </a:lnTo>
                    <a:lnTo>
                      <a:pt x="695" y="976"/>
                    </a:lnTo>
                    <a:lnTo>
                      <a:pt x="698" y="978"/>
                    </a:lnTo>
                    <a:lnTo>
                      <a:pt x="701" y="978"/>
                    </a:lnTo>
                    <a:lnTo>
                      <a:pt x="703" y="977"/>
                    </a:lnTo>
                    <a:lnTo>
                      <a:pt x="705" y="976"/>
                    </a:lnTo>
                    <a:lnTo>
                      <a:pt x="707" y="975"/>
                    </a:lnTo>
                    <a:lnTo>
                      <a:pt x="709" y="973"/>
                    </a:lnTo>
                    <a:lnTo>
                      <a:pt x="711" y="971"/>
                    </a:lnTo>
                    <a:lnTo>
                      <a:pt x="713" y="970"/>
                    </a:lnTo>
                    <a:lnTo>
                      <a:pt x="709" y="979"/>
                    </a:lnTo>
                    <a:lnTo>
                      <a:pt x="704" y="988"/>
                    </a:lnTo>
                    <a:lnTo>
                      <a:pt x="697" y="995"/>
                    </a:lnTo>
                    <a:lnTo>
                      <a:pt x="691" y="1003"/>
                    </a:lnTo>
                    <a:lnTo>
                      <a:pt x="685" y="1010"/>
                    </a:lnTo>
                    <a:lnTo>
                      <a:pt x="677" y="1018"/>
                    </a:lnTo>
                    <a:lnTo>
                      <a:pt x="670" y="1025"/>
                    </a:lnTo>
                    <a:lnTo>
                      <a:pt x="661" y="1033"/>
                    </a:lnTo>
                    <a:lnTo>
                      <a:pt x="658" y="1030"/>
                    </a:lnTo>
                    <a:lnTo>
                      <a:pt x="657" y="1027"/>
                    </a:lnTo>
                    <a:lnTo>
                      <a:pt x="655" y="1024"/>
                    </a:lnTo>
                    <a:lnTo>
                      <a:pt x="655" y="1021"/>
                    </a:lnTo>
                    <a:lnTo>
                      <a:pt x="656" y="1013"/>
                    </a:lnTo>
                    <a:lnTo>
                      <a:pt x="658" y="1006"/>
                    </a:lnTo>
                    <a:lnTo>
                      <a:pt x="661" y="998"/>
                    </a:lnTo>
                    <a:lnTo>
                      <a:pt x="665" y="991"/>
                    </a:lnTo>
                    <a:lnTo>
                      <a:pt x="668" y="984"/>
                    </a:lnTo>
                    <a:lnTo>
                      <a:pt x="670" y="976"/>
                    </a:lnTo>
                    <a:lnTo>
                      <a:pt x="665" y="974"/>
                    </a:lnTo>
                    <a:lnTo>
                      <a:pt x="661" y="970"/>
                    </a:lnTo>
                    <a:lnTo>
                      <a:pt x="659" y="966"/>
                    </a:lnTo>
                    <a:lnTo>
                      <a:pt x="659" y="960"/>
                    </a:lnTo>
                    <a:lnTo>
                      <a:pt x="659" y="955"/>
                    </a:lnTo>
                    <a:lnTo>
                      <a:pt x="659" y="950"/>
                    </a:lnTo>
                    <a:lnTo>
                      <a:pt x="660" y="945"/>
                    </a:lnTo>
                    <a:lnTo>
                      <a:pt x="661" y="940"/>
                    </a:lnTo>
                    <a:lnTo>
                      <a:pt x="663" y="939"/>
                    </a:lnTo>
                    <a:lnTo>
                      <a:pt x="663" y="937"/>
                    </a:lnTo>
                    <a:lnTo>
                      <a:pt x="664" y="936"/>
                    </a:lnTo>
                    <a:lnTo>
                      <a:pt x="664" y="934"/>
                    </a:lnTo>
                    <a:lnTo>
                      <a:pt x="664" y="933"/>
                    </a:lnTo>
                    <a:lnTo>
                      <a:pt x="664" y="931"/>
                    </a:lnTo>
                    <a:lnTo>
                      <a:pt x="664" y="930"/>
                    </a:lnTo>
                    <a:lnTo>
                      <a:pt x="664" y="928"/>
                    </a:lnTo>
                    <a:lnTo>
                      <a:pt x="659" y="928"/>
                    </a:lnTo>
                    <a:lnTo>
                      <a:pt x="657" y="927"/>
                    </a:lnTo>
                    <a:lnTo>
                      <a:pt x="655" y="926"/>
                    </a:lnTo>
                    <a:lnTo>
                      <a:pt x="654" y="923"/>
                    </a:lnTo>
                    <a:lnTo>
                      <a:pt x="653" y="919"/>
                    </a:lnTo>
                    <a:lnTo>
                      <a:pt x="654" y="914"/>
                    </a:lnTo>
                    <a:lnTo>
                      <a:pt x="655" y="909"/>
                    </a:lnTo>
                    <a:lnTo>
                      <a:pt x="656" y="904"/>
                    </a:lnTo>
                    <a:lnTo>
                      <a:pt x="656" y="901"/>
                    </a:lnTo>
                    <a:lnTo>
                      <a:pt x="655" y="899"/>
                    </a:lnTo>
                    <a:lnTo>
                      <a:pt x="655" y="897"/>
                    </a:lnTo>
                    <a:lnTo>
                      <a:pt x="653" y="896"/>
                    </a:lnTo>
                    <a:lnTo>
                      <a:pt x="652" y="898"/>
                    </a:lnTo>
                    <a:lnTo>
                      <a:pt x="650" y="894"/>
                    </a:lnTo>
                    <a:lnTo>
                      <a:pt x="649" y="891"/>
                    </a:lnTo>
                    <a:lnTo>
                      <a:pt x="650" y="886"/>
                    </a:lnTo>
                    <a:lnTo>
                      <a:pt x="650" y="882"/>
                    </a:lnTo>
                    <a:lnTo>
                      <a:pt x="651" y="878"/>
                    </a:lnTo>
                    <a:lnTo>
                      <a:pt x="652" y="874"/>
                    </a:lnTo>
                    <a:lnTo>
                      <a:pt x="652" y="869"/>
                    </a:lnTo>
                    <a:lnTo>
                      <a:pt x="652" y="865"/>
                    </a:lnTo>
                    <a:lnTo>
                      <a:pt x="641" y="879"/>
                    </a:lnTo>
                    <a:lnTo>
                      <a:pt x="640" y="872"/>
                    </a:lnTo>
                    <a:lnTo>
                      <a:pt x="639" y="864"/>
                    </a:lnTo>
                    <a:lnTo>
                      <a:pt x="639" y="856"/>
                    </a:lnTo>
                    <a:lnTo>
                      <a:pt x="640" y="846"/>
                    </a:lnTo>
                    <a:lnTo>
                      <a:pt x="641" y="838"/>
                    </a:lnTo>
                    <a:lnTo>
                      <a:pt x="642" y="828"/>
                    </a:lnTo>
                    <a:lnTo>
                      <a:pt x="643" y="820"/>
                    </a:lnTo>
                    <a:lnTo>
                      <a:pt x="646" y="811"/>
                    </a:lnTo>
                    <a:lnTo>
                      <a:pt x="647" y="803"/>
                    </a:lnTo>
                    <a:lnTo>
                      <a:pt x="649" y="795"/>
                    </a:lnTo>
                    <a:lnTo>
                      <a:pt x="651" y="787"/>
                    </a:lnTo>
                    <a:lnTo>
                      <a:pt x="653" y="778"/>
                    </a:lnTo>
                    <a:lnTo>
                      <a:pt x="655" y="771"/>
                    </a:lnTo>
                    <a:lnTo>
                      <a:pt x="656" y="763"/>
                    </a:lnTo>
                    <a:lnTo>
                      <a:pt x="655" y="754"/>
                    </a:lnTo>
                    <a:lnTo>
                      <a:pt x="653" y="747"/>
                    </a:lnTo>
                    <a:lnTo>
                      <a:pt x="643" y="747"/>
                    </a:lnTo>
                    <a:lnTo>
                      <a:pt x="643" y="738"/>
                    </a:lnTo>
                    <a:lnTo>
                      <a:pt x="646" y="729"/>
                    </a:lnTo>
                    <a:lnTo>
                      <a:pt x="648" y="719"/>
                    </a:lnTo>
                    <a:lnTo>
                      <a:pt x="651" y="710"/>
                    </a:lnTo>
                    <a:lnTo>
                      <a:pt x="651" y="704"/>
                    </a:lnTo>
                    <a:lnTo>
                      <a:pt x="652" y="700"/>
                    </a:lnTo>
                    <a:lnTo>
                      <a:pt x="651" y="696"/>
                    </a:lnTo>
                    <a:lnTo>
                      <a:pt x="650" y="693"/>
                    </a:lnTo>
                    <a:lnTo>
                      <a:pt x="649" y="689"/>
                    </a:lnTo>
                    <a:lnTo>
                      <a:pt x="646" y="686"/>
                    </a:lnTo>
                    <a:lnTo>
                      <a:pt x="642" y="683"/>
                    </a:lnTo>
                    <a:lnTo>
                      <a:pt x="637" y="682"/>
                    </a:lnTo>
                    <a:lnTo>
                      <a:pt x="638" y="668"/>
                    </a:lnTo>
                    <a:lnTo>
                      <a:pt x="637" y="655"/>
                    </a:lnTo>
                    <a:lnTo>
                      <a:pt x="634" y="641"/>
                    </a:lnTo>
                    <a:lnTo>
                      <a:pt x="630" y="628"/>
                    </a:lnTo>
                    <a:lnTo>
                      <a:pt x="623" y="617"/>
                    </a:lnTo>
                    <a:lnTo>
                      <a:pt x="615" y="605"/>
                    </a:lnTo>
                    <a:lnTo>
                      <a:pt x="610" y="601"/>
                    </a:lnTo>
                    <a:lnTo>
                      <a:pt x="604" y="596"/>
                    </a:lnTo>
                    <a:lnTo>
                      <a:pt x="599" y="591"/>
                    </a:lnTo>
                    <a:lnTo>
                      <a:pt x="593" y="587"/>
                    </a:lnTo>
                    <a:lnTo>
                      <a:pt x="587" y="584"/>
                    </a:lnTo>
                    <a:lnTo>
                      <a:pt x="583" y="582"/>
                    </a:lnTo>
                    <a:lnTo>
                      <a:pt x="578" y="580"/>
                    </a:lnTo>
                    <a:lnTo>
                      <a:pt x="573" y="579"/>
                    </a:lnTo>
                    <a:lnTo>
                      <a:pt x="568" y="578"/>
                    </a:lnTo>
                    <a:lnTo>
                      <a:pt x="563" y="576"/>
                    </a:lnTo>
                    <a:lnTo>
                      <a:pt x="558" y="575"/>
                    </a:lnTo>
                    <a:lnTo>
                      <a:pt x="552" y="575"/>
                    </a:lnTo>
                    <a:lnTo>
                      <a:pt x="533" y="578"/>
                    </a:lnTo>
                    <a:lnTo>
                      <a:pt x="513" y="582"/>
                    </a:lnTo>
                    <a:lnTo>
                      <a:pt x="494" y="587"/>
                    </a:lnTo>
                    <a:lnTo>
                      <a:pt x="476" y="593"/>
                    </a:lnTo>
                    <a:lnTo>
                      <a:pt x="457" y="601"/>
                    </a:lnTo>
                    <a:lnTo>
                      <a:pt x="439" y="609"/>
                    </a:lnTo>
                    <a:lnTo>
                      <a:pt x="422" y="619"/>
                    </a:lnTo>
                    <a:lnTo>
                      <a:pt x="405" y="628"/>
                    </a:lnTo>
                    <a:lnTo>
                      <a:pt x="390" y="640"/>
                    </a:lnTo>
                    <a:lnTo>
                      <a:pt x="373" y="652"/>
                    </a:lnTo>
                    <a:lnTo>
                      <a:pt x="358" y="664"/>
                    </a:lnTo>
                    <a:lnTo>
                      <a:pt x="343" y="677"/>
                    </a:lnTo>
                    <a:lnTo>
                      <a:pt x="328" y="691"/>
                    </a:lnTo>
                    <a:lnTo>
                      <a:pt x="314" y="706"/>
                    </a:lnTo>
                    <a:lnTo>
                      <a:pt x="301" y="719"/>
                    </a:lnTo>
                    <a:lnTo>
                      <a:pt x="288" y="734"/>
                    </a:lnTo>
                    <a:lnTo>
                      <a:pt x="285" y="735"/>
                    </a:lnTo>
                    <a:lnTo>
                      <a:pt x="282" y="736"/>
                    </a:lnTo>
                    <a:lnTo>
                      <a:pt x="278" y="738"/>
                    </a:lnTo>
                    <a:lnTo>
                      <a:pt x="275" y="740"/>
                    </a:lnTo>
                    <a:lnTo>
                      <a:pt x="273" y="744"/>
                    </a:lnTo>
                    <a:lnTo>
                      <a:pt x="271" y="746"/>
                    </a:lnTo>
                    <a:lnTo>
                      <a:pt x="270" y="749"/>
                    </a:lnTo>
                    <a:lnTo>
                      <a:pt x="268" y="752"/>
                    </a:lnTo>
                    <a:lnTo>
                      <a:pt x="261" y="762"/>
                    </a:lnTo>
                    <a:lnTo>
                      <a:pt x="256" y="771"/>
                    </a:lnTo>
                    <a:lnTo>
                      <a:pt x="250" y="780"/>
                    </a:lnTo>
                    <a:lnTo>
                      <a:pt x="244" y="789"/>
                    </a:lnTo>
                    <a:lnTo>
                      <a:pt x="238" y="798"/>
                    </a:lnTo>
                    <a:lnTo>
                      <a:pt x="232" y="807"/>
                    </a:lnTo>
                    <a:lnTo>
                      <a:pt x="224" y="816"/>
                    </a:lnTo>
                    <a:lnTo>
                      <a:pt x="218" y="823"/>
                    </a:lnTo>
                    <a:lnTo>
                      <a:pt x="220" y="817"/>
                    </a:lnTo>
                    <a:lnTo>
                      <a:pt x="223" y="810"/>
                    </a:lnTo>
                    <a:lnTo>
                      <a:pt x="227" y="804"/>
                    </a:lnTo>
                    <a:lnTo>
                      <a:pt x="230" y="798"/>
                    </a:lnTo>
                    <a:lnTo>
                      <a:pt x="233" y="791"/>
                    </a:lnTo>
                    <a:lnTo>
                      <a:pt x="235" y="785"/>
                    </a:lnTo>
                    <a:lnTo>
                      <a:pt x="236" y="778"/>
                    </a:lnTo>
                    <a:lnTo>
                      <a:pt x="237" y="773"/>
                    </a:lnTo>
                    <a:lnTo>
                      <a:pt x="228" y="784"/>
                    </a:lnTo>
                    <a:lnTo>
                      <a:pt x="218" y="795"/>
                    </a:lnTo>
                    <a:lnTo>
                      <a:pt x="210" y="808"/>
                    </a:lnTo>
                    <a:lnTo>
                      <a:pt x="202" y="821"/>
                    </a:lnTo>
                    <a:lnTo>
                      <a:pt x="195" y="833"/>
                    </a:lnTo>
                    <a:lnTo>
                      <a:pt x="187" y="846"/>
                    </a:lnTo>
                    <a:lnTo>
                      <a:pt x="180" y="859"/>
                    </a:lnTo>
                    <a:lnTo>
                      <a:pt x="171" y="872"/>
                    </a:lnTo>
                    <a:lnTo>
                      <a:pt x="172" y="866"/>
                    </a:lnTo>
                    <a:lnTo>
                      <a:pt x="173" y="862"/>
                    </a:lnTo>
                    <a:lnTo>
                      <a:pt x="175" y="858"/>
                    </a:lnTo>
                    <a:lnTo>
                      <a:pt x="177" y="853"/>
                    </a:lnTo>
                    <a:lnTo>
                      <a:pt x="180" y="848"/>
                    </a:lnTo>
                    <a:lnTo>
                      <a:pt x="183" y="843"/>
                    </a:lnTo>
                    <a:lnTo>
                      <a:pt x="185" y="838"/>
                    </a:lnTo>
                    <a:lnTo>
                      <a:pt x="187" y="833"/>
                    </a:lnTo>
                    <a:lnTo>
                      <a:pt x="186" y="832"/>
                    </a:lnTo>
                    <a:lnTo>
                      <a:pt x="185" y="831"/>
                    </a:lnTo>
                    <a:lnTo>
                      <a:pt x="184" y="830"/>
                    </a:lnTo>
                    <a:lnTo>
                      <a:pt x="183" y="829"/>
                    </a:lnTo>
                    <a:lnTo>
                      <a:pt x="182" y="828"/>
                    </a:lnTo>
                    <a:lnTo>
                      <a:pt x="180" y="827"/>
                    </a:lnTo>
                    <a:lnTo>
                      <a:pt x="179" y="827"/>
                    </a:lnTo>
                    <a:lnTo>
                      <a:pt x="177" y="827"/>
                    </a:lnTo>
                    <a:lnTo>
                      <a:pt x="128" y="910"/>
                    </a:lnTo>
                    <a:lnTo>
                      <a:pt x="139" y="882"/>
                    </a:lnTo>
                    <a:lnTo>
                      <a:pt x="138" y="880"/>
                    </a:lnTo>
                    <a:lnTo>
                      <a:pt x="137" y="879"/>
                    </a:lnTo>
                    <a:lnTo>
                      <a:pt x="136" y="879"/>
                    </a:lnTo>
                    <a:lnTo>
                      <a:pt x="135" y="878"/>
                    </a:lnTo>
                    <a:lnTo>
                      <a:pt x="133" y="878"/>
                    </a:lnTo>
                    <a:lnTo>
                      <a:pt x="131" y="878"/>
                    </a:lnTo>
                    <a:lnTo>
                      <a:pt x="130" y="878"/>
                    </a:lnTo>
                    <a:lnTo>
                      <a:pt x="128" y="878"/>
                    </a:lnTo>
                    <a:lnTo>
                      <a:pt x="123" y="890"/>
                    </a:lnTo>
                    <a:lnTo>
                      <a:pt x="117" y="900"/>
                    </a:lnTo>
                    <a:lnTo>
                      <a:pt x="110" y="912"/>
                    </a:lnTo>
                    <a:lnTo>
                      <a:pt x="104" y="923"/>
                    </a:lnTo>
                    <a:lnTo>
                      <a:pt x="97" y="935"/>
                    </a:lnTo>
                    <a:lnTo>
                      <a:pt x="92" y="947"/>
                    </a:lnTo>
                    <a:lnTo>
                      <a:pt x="87" y="958"/>
                    </a:lnTo>
                    <a:lnTo>
                      <a:pt x="83" y="970"/>
                    </a:lnTo>
                    <a:lnTo>
                      <a:pt x="84" y="954"/>
                    </a:lnTo>
                    <a:lnTo>
                      <a:pt x="87" y="939"/>
                    </a:lnTo>
                    <a:lnTo>
                      <a:pt x="89" y="926"/>
                    </a:lnTo>
                    <a:lnTo>
                      <a:pt x="93" y="911"/>
                    </a:lnTo>
                    <a:lnTo>
                      <a:pt x="97" y="897"/>
                    </a:lnTo>
                    <a:lnTo>
                      <a:pt x="102" y="883"/>
                    </a:lnTo>
                    <a:lnTo>
                      <a:pt x="107" y="869"/>
                    </a:lnTo>
                    <a:lnTo>
                      <a:pt x="112" y="856"/>
                    </a:lnTo>
                    <a:lnTo>
                      <a:pt x="109" y="851"/>
                    </a:lnTo>
                    <a:lnTo>
                      <a:pt x="101" y="860"/>
                    </a:lnTo>
                    <a:lnTo>
                      <a:pt x="93" y="871"/>
                    </a:lnTo>
                    <a:lnTo>
                      <a:pt x="87" y="881"/>
                    </a:lnTo>
                    <a:lnTo>
                      <a:pt x="82" y="892"/>
                    </a:lnTo>
                    <a:lnTo>
                      <a:pt x="76" y="903"/>
                    </a:lnTo>
                    <a:lnTo>
                      <a:pt x="71" y="915"/>
                    </a:lnTo>
                    <a:lnTo>
                      <a:pt x="67" y="927"/>
                    </a:lnTo>
                    <a:lnTo>
                      <a:pt x="63" y="938"/>
                    </a:lnTo>
                    <a:lnTo>
                      <a:pt x="62" y="930"/>
                    </a:lnTo>
                    <a:lnTo>
                      <a:pt x="62" y="921"/>
                    </a:lnTo>
                    <a:lnTo>
                      <a:pt x="63" y="911"/>
                    </a:lnTo>
                    <a:lnTo>
                      <a:pt x="64" y="901"/>
                    </a:lnTo>
                    <a:lnTo>
                      <a:pt x="66" y="892"/>
                    </a:lnTo>
                    <a:lnTo>
                      <a:pt x="68" y="881"/>
                    </a:lnTo>
                    <a:lnTo>
                      <a:pt x="71" y="873"/>
                    </a:lnTo>
                    <a:lnTo>
                      <a:pt x="74" y="863"/>
                    </a:lnTo>
                    <a:lnTo>
                      <a:pt x="73" y="862"/>
                    </a:lnTo>
                    <a:lnTo>
                      <a:pt x="72" y="861"/>
                    </a:lnTo>
                    <a:lnTo>
                      <a:pt x="71" y="861"/>
                    </a:lnTo>
                    <a:lnTo>
                      <a:pt x="70" y="860"/>
                    </a:lnTo>
                    <a:lnTo>
                      <a:pt x="69" y="860"/>
                    </a:lnTo>
                    <a:lnTo>
                      <a:pt x="67" y="860"/>
                    </a:lnTo>
                    <a:lnTo>
                      <a:pt x="66" y="860"/>
                    </a:lnTo>
                    <a:lnTo>
                      <a:pt x="65" y="860"/>
                    </a:lnTo>
                    <a:lnTo>
                      <a:pt x="58" y="872"/>
                    </a:lnTo>
                    <a:lnTo>
                      <a:pt x="53" y="883"/>
                    </a:lnTo>
                    <a:lnTo>
                      <a:pt x="49" y="896"/>
                    </a:lnTo>
                    <a:lnTo>
                      <a:pt x="44" y="908"/>
                    </a:lnTo>
                    <a:lnTo>
                      <a:pt x="39" y="920"/>
                    </a:lnTo>
                    <a:lnTo>
                      <a:pt x="35" y="933"/>
                    </a:lnTo>
                    <a:lnTo>
                      <a:pt x="32" y="946"/>
                    </a:lnTo>
                    <a:lnTo>
                      <a:pt x="30" y="958"/>
                    </a:lnTo>
                    <a:lnTo>
                      <a:pt x="27" y="947"/>
                    </a:lnTo>
                    <a:lnTo>
                      <a:pt x="26" y="935"/>
                    </a:lnTo>
                    <a:lnTo>
                      <a:pt x="27" y="923"/>
                    </a:lnTo>
                    <a:lnTo>
                      <a:pt x="28" y="912"/>
                    </a:lnTo>
                    <a:lnTo>
                      <a:pt x="30" y="900"/>
                    </a:lnTo>
                    <a:lnTo>
                      <a:pt x="32" y="888"/>
                    </a:lnTo>
                    <a:lnTo>
                      <a:pt x="34" y="877"/>
                    </a:lnTo>
                    <a:lnTo>
                      <a:pt x="36" y="865"/>
                    </a:lnTo>
                    <a:lnTo>
                      <a:pt x="30" y="860"/>
                    </a:lnTo>
                    <a:lnTo>
                      <a:pt x="26" y="863"/>
                    </a:lnTo>
                    <a:lnTo>
                      <a:pt x="23" y="866"/>
                    </a:lnTo>
                    <a:lnTo>
                      <a:pt x="21" y="871"/>
                    </a:lnTo>
                    <a:lnTo>
                      <a:pt x="19" y="875"/>
                    </a:lnTo>
                    <a:lnTo>
                      <a:pt x="18" y="880"/>
                    </a:lnTo>
                    <a:lnTo>
                      <a:pt x="17" y="884"/>
                    </a:lnTo>
                    <a:lnTo>
                      <a:pt x="16" y="890"/>
                    </a:lnTo>
                    <a:lnTo>
                      <a:pt x="14" y="894"/>
                    </a:lnTo>
                    <a:lnTo>
                      <a:pt x="12" y="878"/>
                    </a:lnTo>
                    <a:lnTo>
                      <a:pt x="12" y="863"/>
                    </a:lnTo>
                    <a:lnTo>
                      <a:pt x="13" y="849"/>
                    </a:lnTo>
                    <a:lnTo>
                      <a:pt x="14" y="835"/>
                    </a:lnTo>
                    <a:lnTo>
                      <a:pt x="17" y="820"/>
                    </a:lnTo>
                    <a:lnTo>
                      <a:pt x="20" y="806"/>
                    </a:lnTo>
                    <a:lnTo>
                      <a:pt x="24" y="792"/>
                    </a:lnTo>
                    <a:lnTo>
                      <a:pt x="28" y="778"/>
                    </a:lnTo>
                    <a:lnTo>
                      <a:pt x="28" y="777"/>
                    </a:lnTo>
                    <a:lnTo>
                      <a:pt x="27" y="776"/>
                    </a:lnTo>
                    <a:lnTo>
                      <a:pt x="26" y="775"/>
                    </a:lnTo>
                    <a:lnTo>
                      <a:pt x="24" y="774"/>
                    </a:lnTo>
                    <a:lnTo>
                      <a:pt x="23" y="773"/>
                    </a:lnTo>
                    <a:lnTo>
                      <a:pt x="21" y="772"/>
                    </a:lnTo>
                    <a:lnTo>
                      <a:pt x="19" y="772"/>
                    </a:lnTo>
                    <a:lnTo>
                      <a:pt x="18" y="773"/>
                    </a:lnTo>
                    <a:lnTo>
                      <a:pt x="0" y="805"/>
                    </a:lnTo>
                    <a:lnTo>
                      <a:pt x="0" y="791"/>
                    </a:lnTo>
                    <a:lnTo>
                      <a:pt x="2" y="777"/>
                    </a:lnTo>
                    <a:lnTo>
                      <a:pt x="4" y="765"/>
                    </a:lnTo>
                    <a:lnTo>
                      <a:pt x="9" y="751"/>
                    </a:lnTo>
                    <a:lnTo>
                      <a:pt x="13" y="738"/>
                    </a:lnTo>
                    <a:lnTo>
                      <a:pt x="18" y="726"/>
                    </a:lnTo>
                    <a:lnTo>
                      <a:pt x="22" y="713"/>
                    </a:lnTo>
                    <a:lnTo>
                      <a:pt x="28" y="700"/>
                    </a:lnTo>
                    <a:lnTo>
                      <a:pt x="27" y="699"/>
                    </a:lnTo>
                    <a:lnTo>
                      <a:pt x="26" y="698"/>
                    </a:lnTo>
                    <a:lnTo>
                      <a:pt x="24" y="696"/>
                    </a:lnTo>
                    <a:lnTo>
                      <a:pt x="22" y="695"/>
                    </a:lnTo>
                    <a:lnTo>
                      <a:pt x="21" y="694"/>
                    </a:lnTo>
                    <a:lnTo>
                      <a:pt x="19" y="694"/>
                    </a:lnTo>
                    <a:lnTo>
                      <a:pt x="18" y="694"/>
                    </a:lnTo>
                    <a:lnTo>
                      <a:pt x="16" y="694"/>
                    </a:lnTo>
                    <a:lnTo>
                      <a:pt x="16" y="692"/>
                    </a:lnTo>
                    <a:lnTo>
                      <a:pt x="16" y="689"/>
                    </a:lnTo>
                    <a:lnTo>
                      <a:pt x="16" y="685"/>
                    </a:lnTo>
                    <a:lnTo>
                      <a:pt x="16" y="683"/>
                    </a:lnTo>
                    <a:lnTo>
                      <a:pt x="16" y="680"/>
                    </a:lnTo>
                    <a:lnTo>
                      <a:pt x="17" y="678"/>
                    </a:lnTo>
                    <a:lnTo>
                      <a:pt x="19" y="676"/>
                    </a:lnTo>
                    <a:lnTo>
                      <a:pt x="22" y="674"/>
                    </a:lnTo>
                    <a:lnTo>
                      <a:pt x="26" y="657"/>
                    </a:lnTo>
                    <a:lnTo>
                      <a:pt x="30" y="640"/>
                    </a:lnTo>
                    <a:lnTo>
                      <a:pt x="34" y="623"/>
                    </a:lnTo>
                    <a:lnTo>
                      <a:pt x="40" y="607"/>
                    </a:lnTo>
                    <a:lnTo>
                      <a:pt x="47" y="591"/>
                    </a:lnTo>
                    <a:lnTo>
                      <a:pt x="55" y="576"/>
                    </a:lnTo>
                    <a:lnTo>
                      <a:pt x="60" y="569"/>
                    </a:lnTo>
                    <a:lnTo>
                      <a:pt x="67" y="562"/>
                    </a:lnTo>
                    <a:lnTo>
                      <a:pt x="73" y="555"/>
                    </a:lnTo>
                    <a:lnTo>
                      <a:pt x="81" y="549"/>
                    </a:lnTo>
                    <a:lnTo>
                      <a:pt x="85" y="545"/>
                    </a:lnTo>
                    <a:lnTo>
                      <a:pt x="88" y="541"/>
                    </a:lnTo>
                    <a:lnTo>
                      <a:pt x="92" y="536"/>
                    </a:lnTo>
                    <a:lnTo>
                      <a:pt x="95" y="532"/>
                    </a:lnTo>
                    <a:lnTo>
                      <a:pt x="97" y="527"/>
                    </a:lnTo>
                    <a:lnTo>
                      <a:pt x="101" y="521"/>
                    </a:lnTo>
                    <a:lnTo>
                      <a:pt x="103" y="516"/>
                    </a:lnTo>
                    <a:lnTo>
                      <a:pt x="105" y="511"/>
                    </a:lnTo>
                    <a:lnTo>
                      <a:pt x="106" y="506"/>
                    </a:lnTo>
                    <a:lnTo>
                      <a:pt x="107" y="501"/>
                    </a:lnTo>
                    <a:lnTo>
                      <a:pt x="106" y="497"/>
                    </a:lnTo>
                    <a:lnTo>
                      <a:pt x="105" y="493"/>
                    </a:lnTo>
                    <a:lnTo>
                      <a:pt x="104" y="489"/>
                    </a:lnTo>
                    <a:lnTo>
                      <a:pt x="102" y="484"/>
                    </a:lnTo>
                    <a:lnTo>
                      <a:pt x="101" y="480"/>
                    </a:lnTo>
                    <a:lnTo>
                      <a:pt x="99" y="476"/>
                    </a:lnTo>
                    <a:lnTo>
                      <a:pt x="95" y="473"/>
                    </a:lnTo>
                    <a:lnTo>
                      <a:pt x="92" y="470"/>
                    </a:lnTo>
                    <a:lnTo>
                      <a:pt x="89" y="468"/>
                    </a:lnTo>
                    <a:lnTo>
                      <a:pt x="85" y="465"/>
                    </a:lnTo>
                    <a:lnTo>
                      <a:pt x="82" y="464"/>
                    </a:lnTo>
                    <a:lnTo>
                      <a:pt x="77" y="462"/>
                    </a:lnTo>
                    <a:lnTo>
                      <a:pt x="74" y="461"/>
                    </a:lnTo>
                    <a:lnTo>
                      <a:pt x="70" y="458"/>
                    </a:lnTo>
                    <a:lnTo>
                      <a:pt x="87" y="449"/>
                    </a:lnTo>
                    <a:lnTo>
                      <a:pt x="104" y="439"/>
                    </a:lnTo>
                    <a:lnTo>
                      <a:pt x="122" y="429"/>
                    </a:lnTo>
                    <a:lnTo>
                      <a:pt x="140" y="422"/>
                    </a:lnTo>
                    <a:lnTo>
                      <a:pt x="159" y="414"/>
                    </a:lnTo>
                    <a:lnTo>
                      <a:pt x="177" y="407"/>
                    </a:lnTo>
                    <a:lnTo>
                      <a:pt x="196" y="401"/>
                    </a:lnTo>
                    <a:lnTo>
                      <a:pt x="216" y="396"/>
                    </a:lnTo>
                    <a:lnTo>
                      <a:pt x="226" y="390"/>
                    </a:lnTo>
                    <a:lnTo>
                      <a:pt x="236" y="385"/>
                    </a:lnTo>
                    <a:lnTo>
                      <a:pt x="247" y="380"/>
                    </a:lnTo>
                    <a:lnTo>
                      <a:pt x="257" y="376"/>
                    </a:lnTo>
                    <a:lnTo>
                      <a:pt x="268" y="371"/>
                    </a:lnTo>
                    <a:lnTo>
                      <a:pt x="279" y="366"/>
                    </a:lnTo>
                    <a:lnTo>
                      <a:pt x="290" y="362"/>
                    </a:lnTo>
                    <a:lnTo>
                      <a:pt x="301" y="358"/>
                    </a:lnTo>
                    <a:lnTo>
                      <a:pt x="312" y="355"/>
                    </a:lnTo>
                    <a:lnTo>
                      <a:pt x="324" y="352"/>
                    </a:lnTo>
                    <a:lnTo>
                      <a:pt x="336" y="349"/>
                    </a:lnTo>
                    <a:lnTo>
                      <a:pt x="347" y="345"/>
                    </a:lnTo>
                    <a:lnTo>
                      <a:pt x="359" y="341"/>
                    </a:lnTo>
                    <a:lnTo>
                      <a:pt x="370" y="337"/>
                    </a:lnTo>
                    <a:lnTo>
                      <a:pt x="382" y="335"/>
                    </a:lnTo>
                    <a:lnTo>
                      <a:pt x="395" y="335"/>
                    </a:lnTo>
                    <a:lnTo>
                      <a:pt x="365" y="371"/>
                    </a:lnTo>
                    <a:lnTo>
                      <a:pt x="367" y="374"/>
                    </a:lnTo>
                    <a:lnTo>
                      <a:pt x="370" y="376"/>
                    </a:lnTo>
                    <a:lnTo>
                      <a:pt x="373" y="376"/>
                    </a:lnTo>
                    <a:lnTo>
                      <a:pt x="376" y="374"/>
                    </a:lnTo>
                    <a:lnTo>
                      <a:pt x="379" y="373"/>
                    </a:lnTo>
                    <a:lnTo>
                      <a:pt x="382" y="371"/>
                    </a:lnTo>
                    <a:lnTo>
                      <a:pt x="384" y="370"/>
                    </a:lnTo>
                    <a:lnTo>
                      <a:pt x="387" y="369"/>
                    </a:lnTo>
                    <a:lnTo>
                      <a:pt x="385" y="371"/>
                    </a:lnTo>
                    <a:lnTo>
                      <a:pt x="384" y="373"/>
                    </a:lnTo>
                    <a:lnTo>
                      <a:pt x="383" y="376"/>
                    </a:lnTo>
                    <a:lnTo>
                      <a:pt x="382" y="378"/>
                    </a:lnTo>
                    <a:lnTo>
                      <a:pt x="380" y="380"/>
                    </a:lnTo>
                    <a:lnTo>
                      <a:pt x="379" y="382"/>
                    </a:lnTo>
                    <a:lnTo>
                      <a:pt x="377" y="384"/>
                    </a:lnTo>
                    <a:lnTo>
                      <a:pt x="375" y="385"/>
                    </a:lnTo>
                    <a:lnTo>
                      <a:pt x="375" y="386"/>
                    </a:lnTo>
                    <a:lnTo>
                      <a:pt x="376" y="386"/>
                    </a:lnTo>
                    <a:lnTo>
                      <a:pt x="376" y="387"/>
                    </a:lnTo>
                    <a:lnTo>
                      <a:pt x="377" y="387"/>
                    </a:lnTo>
                    <a:lnTo>
                      <a:pt x="377" y="387"/>
                    </a:lnTo>
                    <a:lnTo>
                      <a:pt x="378" y="388"/>
                    </a:lnTo>
                    <a:lnTo>
                      <a:pt x="378" y="388"/>
                    </a:lnTo>
                    <a:lnTo>
                      <a:pt x="379" y="387"/>
                    </a:lnTo>
                    <a:lnTo>
                      <a:pt x="381" y="385"/>
                    </a:lnTo>
                    <a:lnTo>
                      <a:pt x="377" y="391"/>
                    </a:lnTo>
                    <a:lnTo>
                      <a:pt x="374" y="397"/>
                    </a:lnTo>
                    <a:lnTo>
                      <a:pt x="369" y="401"/>
                    </a:lnTo>
                    <a:lnTo>
                      <a:pt x="366" y="406"/>
                    </a:lnTo>
                    <a:lnTo>
                      <a:pt x="363" y="411"/>
                    </a:lnTo>
                    <a:lnTo>
                      <a:pt x="362" y="417"/>
                    </a:lnTo>
                    <a:lnTo>
                      <a:pt x="362" y="423"/>
                    </a:lnTo>
                    <a:lnTo>
                      <a:pt x="363" y="431"/>
                    </a:lnTo>
                    <a:lnTo>
                      <a:pt x="373" y="422"/>
                    </a:lnTo>
                    <a:lnTo>
                      <a:pt x="383" y="414"/>
                    </a:lnTo>
                    <a:lnTo>
                      <a:pt x="394" y="405"/>
                    </a:lnTo>
                    <a:lnTo>
                      <a:pt x="405" y="398"/>
                    </a:lnTo>
                    <a:lnTo>
                      <a:pt x="416" y="390"/>
                    </a:lnTo>
                    <a:lnTo>
                      <a:pt x="429" y="385"/>
                    </a:lnTo>
                    <a:lnTo>
                      <a:pt x="440" y="380"/>
                    </a:lnTo>
                    <a:lnTo>
                      <a:pt x="454" y="378"/>
                    </a:lnTo>
                    <a:lnTo>
                      <a:pt x="454" y="379"/>
                    </a:lnTo>
                    <a:lnTo>
                      <a:pt x="454" y="380"/>
                    </a:lnTo>
                    <a:lnTo>
                      <a:pt x="453" y="380"/>
                    </a:lnTo>
                    <a:lnTo>
                      <a:pt x="453" y="381"/>
                    </a:lnTo>
                    <a:lnTo>
                      <a:pt x="452" y="382"/>
                    </a:lnTo>
                    <a:lnTo>
                      <a:pt x="451" y="382"/>
                    </a:lnTo>
                    <a:lnTo>
                      <a:pt x="450" y="383"/>
                    </a:lnTo>
                    <a:lnTo>
                      <a:pt x="450" y="384"/>
                    </a:lnTo>
                    <a:lnTo>
                      <a:pt x="452" y="384"/>
                    </a:lnTo>
                    <a:lnTo>
                      <a:pt x="455" y="384"/>
                    </a:lnTo>
                    <a:lnTo>
                      <a:pt x="457" y="382"/>
                    </a:lnTo>
                    <a:lnTo>
                      <a:pt x="460" y="381"/>
                    </a:lnTo>
                    <a:lnTo>
                      <a:pt x="463" y="379"/>
                    </a:lnTo>
                    <a:lnTo>
                      <a:pt x="466" y="377"/>
                    </a:lnTo>
                    <a:lnTo>
                      <a:pt x="469" y="374"/>
                    </a:lnTo>
                    <a:lnTo>
                      <a:pt x="472" y="373"/>
                    </a:lnTo>
                    <a:lnTo>
                      <a:pt x="469" y="378"/>
                    </a:lnTo>
                    <a:lnTo>
                      <a:pt x="465" y="381"/>
                    </a:lnTo>
                    <a:lnTo>
                      <a:pt x="459" y="385"/>
                    </a:lnTo>
                    <a:lnTo>
                      <a:pt x="455" y="389"/>
                    </a:lnTo>
                    <a:lnTo>
                      <a:pt x="451" y="392"/>
                    </a:lnTo>
                    <a:lnTo>
                      <a:pt x="446" y="397"/>
                    </a:lnTo>
                    <a:lnTo>
                      <a:pt x="442" y="401"/>
                    </a:lnTo>
                    <a:lnTo>
                      <a:pt x="439" y="406"/>
                    </a:lnTo>
                    <a:lnTo>
                      <a:pt x="445" y="406"/>
                    </a:lnTo>
                    <a:lnTo>
                      <a:pt x="450" y="404"/>
                    </a:lnTo>
                    <a:lnTo>
                      <a:pt x="454" y="402"/>
                    </a:lnTo>
                    <a:lnTo>
                      <a:pt x="459" y="399"/>
                    </a:lnTo>
                    <a:lnTo>
                      <a:pt x="465" y="395"/>
                    </a:lnTo>
                    <a:lnTo>
                      <a:pt x="469" y="391"/>
                    </a:lnTo>
                    <a:lnTo>
                      <a:pt x="474" y="389"/>
                    </a:lnTo>
                    <a:lnTo>
                      <a:pt x="479" y="387"/>
                    </a:lnTo>
                    <a:lnTo>
                      <a:pt x="478" y="387"/>
                    </a:lnTo>
                    <a:lnTo>
                      <a:pt x="478" y="388"/>
                    </a:lnTo>
                    <a:lnTo>
                      <a:pt x="477" y="388"/>
                    </a:lnTo>
                    <a:lnTo>
                      <a:pt x="476" y="389"/>
                    </a:lnTo>
                    <a:lnTo>
                      <a:pt x="476" y="389"/>
                    </a:lnTo>
                    <a:lnTo>
                      <a:pt x="475" y="390"/>
                    </a:lnTo>
                    <a:lnTo>
                      <a:pt x="474" y="391"/>
                    </a:lnTo>
                    <a:lnTo>
                      <a:pt x="474" y="391"/>
                    </a:lnTo>
                    <a:lnTo>
                      <a:pt x="473" y="394"/>
                    </a:lnTo>
                    <a:lnTo>
                      <a:pt x="473" y="395"/>
                    </a:lnTo>
                    <a:lnTo>
                      <a:pt x="474" y="396"/>
                    </a:lnTo>
                    <a:lnTo>
                      <a:pt x="474" y="398"/>
                    </a:lnTo>
                    <a:lnTo>
                      <a:pt x="475" y="399"/>
                    </a:lnTo>
                    <a:lnTo>
                      <a:pt x="475" y="400"/>
                    </a:lnTo>
                    <a:lnTo>
                      <a:pt x="476" y="401"/>
                    </a:lnTo>
                    <a:lnTo>
                      <a:pt x="477" y="402"/>
                    </a:lnTo>
                    <a:lnTo>
                      <a:pt x="485" y="397"/>
                    </a:lnTo>
                    <a:lnTo>
                      <a:pt x="493" y="394"/>
                    </a:lnTo>
                    <a:lnTo>
                      <a:pt x="501" y="391"/>
                    </a:lnTo>
                    <a:lnTo>
                      <a:pt x="509" y="389"/>
                    </a:lnTo>
                    <a:lnTo>
                      <a:pt x="518" y="388"/>
                    </a:lnTo>
                    <a:lnTo>
                      <a:pt x="525" y="386"/>
                    </a:lnTo>
                    <a:lnTo>
                      <a:pt x="532" y="383"/>
                    </a:lnTo>
                    <a:lnTo>
                      <a:pt x="541" y="378"/>
                    </a:lnTo>
                    <a:lnTo>
                      <a:pt x="539" y="383"/>
                    </a:lnTo>
                    <a:lnTo>
                      <a:pt x="536" y="388"/>
                    </a:lnTo>
                    <a:lnTo>
                      <a:pt x="532" y="394"/>
                    </a:lnTo>
                    <a:lnTo>
                      <a:pt x="529" y="400"/>
                    </a:lnTo>
                    <a:lnTo>
                      <a:pt x="525" y="406"/>
                    </a:lnTo>
                    <a:lnTo>
                      <a:pt x="522" y="411"/>
                    </a:lnTo>
                    <a:lnTo>
                      <a:pt x="518" y="418"/>
                    </a:lnTo>
                    <a:lnTo>
                      <a:pt x="514" y="424"/>
                    </a:lnTo>
                    <a:lnTo>
                      <a:pt x="516" y="426"/>
                    </a:lnTo>
                    <a:lnTo>
                      <a:pt x="523" y="417"/>
                    </a:lnTo>
                    <a:lnTo>
                      <a:pt x="530" y="408"/>
                    </a:lnTo>
                    <a:lnTo>
                      <a:pt x="538" y="400"/>
                    </a:lnTo>
                    <a:lnTo>
                      <a:pt x="546" y="391"/>
                    </a:lnTo>
                    <a:lnTo>
                      <a:pt x="554" y="383"/>
                    </a:lnTo>
                    <a:lnTo>
                      <a:pt x="561" y="374"/>
                    </a:lnTo>
                    <a:lnTo>
                      <a:pt x="567" y="366"/>
                    </a:lnTo>
                    <a:lnTo>
                      <a:pt x="573" y="358"/>
                    </a:lnTo>
                    <a:lnTo>
                      <a:pt x="569" y="354"/>
                    </a:lnTo>
                    <a:lnTo>
                      <a:pt x="566" y="353"/>
                    </a:lnTo>
                    <a:lnTo>
                      <a:pt x="564" y="353"/>
                    </a:lnTo>
                    <a:lnTo>
                      <a:pt x="561" y="354"/>
                    </a:lnTo>
                    <a:lnTo>
                      <a:pt x="557" y="355"/>
                    </a:lnTo>
                    <a:lnTo>
                      <a:pt x="554" y="355"/>
                    </a:lnTo>
                    <a:lnTo>
                      <a:pt x="550" y="356"/>
                    </a:lnTo>
                    <a:lnTo>
                      <a:pt x="546" y="355"/>
                    </a:lnTo>
                    <a:lnTo>
                      <a:pt x="541" y="359"/>
                    </a:lnTo>
                    <a:lnTo>
                      <a:pt x="534" y="362"/>
                    </a:lnTo>
                    <a:lnTo>
                      <a:pt x="529" y="365"/>
                    </a:lnTo>
                    <a:lnTo>
                      <a:pt x="524" y="368"/>
                    </a:lnTo>
                    <a:lnTo>
                      <a:pt x="518" y="370"/>
                    </a:lnTo>
                    <a:lnTo>
                      <a:pt x="512" y="373"/>
                    </a:lnTo>
                    <a:lnTo>
                      <a:pt x="506" y="376"/>
                    </a:lnTo>
                    <a:lnTo>
                      <a:pt x="501" y="378"/>
                    </a:lnTo>
                    <a:lnTo>
                      <a:pt x="505" y="373"/>
                    </a:lnTo>
                    <a:lnTo>
                      <a:pt x="509" y="370"/>
                    </a:lnTo>
                    <a:lnTo>
                      <a:pt x="513" y="367"/>
                    </a:lnTo>
                    <a:lnTo>
                      <a:pt x="518" y="364"/>
                    </a:lnTo>
                    <a:lnTo>
                      <a:pt x="522" y="362"/>
                    </a:lnTo>
                    <a:lnTo>
                      <a:pt x="526" y="359"/>
                    </a:lnTo>
                    <a:lnTo>
                      <a:pt x="529" y="354"/>
                    </a:lnTo>
                    <a:lnTo>
                      <a:pt x="532" y="349"/>
                    </a:lnTo>
                    <a:lnTo>
                      <a:pt x="527" y="350"/>
                    </a:lnTo>
                    <a:lnTo>
                      <a:pt x="522" y="351"/>
                    </a:lnTo>
                    <a:lnTo>
                      <a:pt x="516" y="351"/>
                    </a:lnTo>
                    <a:lnTo>
                      <a:pt x="511" y="352"/>
                    </a:lnTo>
                    <a:lnTo>
                      <a:pt x="505" y="353"/>
                    </a:lnTo>
                    <a:lnTo>
                      <a:pt x="500" y="355"/>
                    </a:lnTo>
                    <a:lnTo>
                      <a:pt x="494" y="358"/>
                    </a:lnTo>
                    <a:lnTo>
                      <a:pt x="490" y="361"/>
                    </a:lnTo>
                    <a:lnTo>
                      <a:pt x="497" y="355"/>
                    </a:lnTo>
                    <a:lnTo>
                      <a:pt x="494" y="355"/>
                    </a:lnTo>
                    <a:lnTo>
                      <a:pt x="490" y="355"/>
                    </a:lnTo>
                    <a:lnTo>
                      <a:pt x="487" y="355"/>
                    </a:lnTo>
                    <a:lnTo>
                      <a:pt x="484" y="355"/>
                    </a:lnTo>
                    <a:lnTo>
                      <a:pt x="479" y="355"/>
                    </a:lnTo>
                    <a:lnTo>
                      <a:pt x="476" y="355"/>
                    </a:lnTo>
                    <a:lnTo>
                      <a:pt x="472" y="355"/>
                    </a:lnTo>
                    <a:lnTo>
                      <a:pt x="468" y="358"/>
                    </a:lnTo>
                    <a:lnTo>
                      <a:pt x="470" y="355"/>
                    </a:lnTo>
                    <a:lnTo>
                      <a:pt x="466" y="355"/>
                    </a:lnTo>
                    <a:lnTo>
                      <a:pt x="461" y="356"/>
                    </a:lnTo>
                    <a:lnTo>
                      <a:pt x="457" y="359"/>
                    </a:lnTo>
                    <a:lnTo>
                      <a:pt x="453" y="361"/>
                    </a:lnTo>
                    <a:lnTo>
                      <a:pt x="449" y="363"/>
                    </a:lnTo>
                    <a:lnTo>
                      <a:pt x="445" y="365"/>
                    </a:lnTo>
                    <a:lnTo>
                      <a:pt x="440" y="365"/>
                    </a:lnTo>
                    <a:lnTo>
                      <a:pt x="435" y="364"/>
                    </a:lnTo>
                    <a:lnTo>
                      <a:pt x="379" y="400"/>
                    </a:lnTo>
                    <a:lnTo>
                      <a:pt x="385" y="390"/>
                    </a:lnTo>
                    <a:lnTo>
                      <a:pt x="394" y="380"/>
                    </a:lnTo>
                    <a:lnTo>
                      <a:pt x="404" y="370"/>
                    </a:lnTo>
                    <a:lnTo>
                      <a:pt x="416" y="361"/>
                    </a:lnTo>
                    <a:lnTo>
                      <a:pt x="429" y="352"/>
                    </a:lnTo>
                    <a:lnTo>
                      <a:pt x="442" y="344"/>
                    </a:lnTo>
                    <a:lnTo>
                      <a:pt x="455" y="337"/>
                    </a:lnTo>
                    <a:lnTo>
                      <a:pt x="468" y="331"/>
                    </a:lnTo>
                    <a:lnTo>
                      <a:pt x="472" y="325"/>
                    </a:lnTo>
                    <a:lnTo>
                      <a:pt x="464" y="327"/>
                    </a:lnTo>
                    <a:lnTo>
                      <a:pt x="454" y="329"/>
                    </a:lnTo>
                    <a:lnTo>
                      <a:pt x="446" y="331"/>
                    </a:lnTo>
                    <a:lnTo>
                      <a:pt x="436" y="333"/>
                    </a:lnTo>
                    <a:lnTo>
                      <a:pt x="427" y="336"/>
                    </a:lnTo>
                    <a:lnTo>
                      <a:pt x="417" y="339"/>
                    </a:lnTo>
                    <a:lnTo>
                      <a:pt x="408" y="342"/>
                    </a:lnTo>
                    <a:lnTo>
                      <a:pt x="399" y="345"/>
                    </a:lnTo>
                    <a:lnTo>
                      <a:pt x="402" y="342"/>
                    </a:lnTo>
                    <a:lnTo>
                      <a:pt x="404" y="340"/>
                    </a:lnTo>
                    <a:lnTo>
                      <a:pt x="408" y="337"/>
                    </a:lnTo>
                    <a:lnTo>
                      <a:pt x="411" y="335"/>
                    </a:lnTo>
                    <a:lnTo>
                      <a:pt x="414" y="333"/>
                    </a:lnTo>
                    <a:lnTo>
                      <a:pt x="416" y="332"/>
                    </a:lnTo>
                    <a:lnTo>
                      <a:pt x="420" y="331"/>
                    </a:lnTo>
                    <a:lnTo>
                      <a:pt x="423" y="329"/>
                    </a:lnTo>
                    <a:lnTo>
                      <a:pt x="424" y="330"/>
                    </a:lnTo>
                    <a:lnTo>
                      <a:pt x="424" y="331"/>
                    </a:lnTo>
                    <a:lnTo>
                      <a:pt x="425" y="331"/>
                    </a:lnTo>
                    <a:lnTo>
                      <a:pt x="425" y="332"/>
                    </a:lnTo>
                    <a:lnTo>
                      <a:pt x="427" y="333"/>
                    </a:lnTo>
                    <a:lnTo>
                      <a:pt x="428" y="333"/>
                    </a:lnTo>
                    <a:lnTo>
                      <a:pt x="429" y="333"/>
                    </a:lnTo>
                    <a:lnTo>
                      <a:pt x="430" y="333"/>
                    </a:lnTo>
                    <a:lnTo>
                      <a:pt x="431" y="332"/>
                    </a:lnTo>
                    <a:lnTo>
                      <a:pt x="432" y="331"/>
                    </a:lnTo>
                    <a:lnTo>
                      <a:pt x="433" y="330"/>
                    </a:lnTo>
                    <a:lnTo>
                      <a:pt x="433" y="329"/>
                    </a:lnTo>
                    <a:lnTo>
                      <a:pt x="433" y="328"/>
                    </a:lnTo>
                    <a:lnTo>
                      <a:pt x="434" y="326"/>
                    </a:lnTo>
                    <a:lnTo>
                      <a:pt x="434" y="325"/>
                    </a:lnTo>
                    <a:lnTo>
                      <a:pt x="434" y="324"/>
                    </a:lnTo>
                    <a:lnTo>
                      <a:pt x="425" y="318"/>
                    </a:lnTo>
                    <a:lnTo>
                      <a:pt x="418" y="313"/>
                    </a:lnTo>
                    <a:lnTo>
                      <a:pt x="411" y="307"/>
                    </a:lnTo>
                    <a:lnTo>
                      <a:pt x="402" y="301"/>
                    </a:lnTo>
                    <a:lnTo>
                      <a:pt x="394" y="297"/>
                    </a:lnTo>
                    <a:lnTo>
                      <a:pt x="384" y="295"/>
                    </a:lnTo>
                    <a:lnTo>
                      <a:pt x="380" y="294"/>
                    </a:lnTo>
                    <a:lnTo>
                      <a:pt x="375" y="294"/>
                    </a:lnTo>
                    <a:lnTo>
                      <a:pt x="369" y="295"/>
                    </a:lnTo>
                    <a:lnTo>
                      <a:pt x="365" y="297"/>
                    </a:lnTo>
                    <a:lnTo>
                      <a:pt x="375" y="289"/>
                    </a:lnTo>
                    <a:lnTo>
                      <a:pt x="372" y="288"/>
                    </a:lnTo>
                    <a:lnTo>
                      <a:pt x="369" y="287"/>
                    </a:lnTo>
                    <a:lnTo>
                      <a:pt x="367" y="284"/>
                    </a:lnTo>
                    <a:lnTo>
                      <a:pt x="366" y="281"/>
                    </a:lnTo>
                    <a:lnTo>
                      <a:pt x="365" y="278"/>
                    </a:lnTo>
                    <a:lnTo>
                      <a:pt x="364" y="276"/>
                    </a:lnTo>
                    <a:lnTo>
                      <a:pt x="362" y="274"/>
                    </a:lnTo>
                    <a:lnTo>
                      <a:pt x="359" y="273"/>
                    </a:lnTo>
                    <a:lnTo>
                      <a:pt x="330" y="271"/>
                    </a:lnTo>
                    <a:lnTo>
                      <a:pt x="336" y="270"/>
                    </a:lnTo>
                    <a:lnTo>
                      <a:pt x="341" y="268"/>
                    </a:lnTo>
                    <a:lnTo>
                      <a:pt x="345" y="266"/>
                    </a:lnTo>
                    <a:lnTo>
                      <a:pt x="349" y="263"/>
                    </a:lnTo>
                    <a:lnTo>
                      <a:pt x="352" y="261"/>
                    </a:lnTo>
                    <a:lnTo>
                      <a:pt x="357" y="259"/>
                    </a:lnTo>
                    <a:lnTo>
                      <a:pt x="362" y="258"/>
                    </a:lnTo>
                    <a:lnTo>
                      <a:pt x="367" y="257"/>
                    </a:lnTo>
                    <a:lnTo>
                      <a:pt x="368" y="253"/>
                    </a:lnTo>
                    <a:lnTo>
                      <a:pt x="370" y="250"/>
                    </a:lnTo>
                    <a:lnTo>
                      <a:pt x="374" y="249"/>
                    </a:lnTo>
                    <a:lnTo>
                      <a:pt x="378" y="248"/>
                    </a:lnTo>
                    <a:lnTo>
                      <a:pt x="382" y="246"/>
                    </a:lnTo>
                    <a:lnTo>
                      <a:pt x="386" y="246"/>
                    </a:lnTo>
                    <a:lnTo>
                      <a:pt x="390" y="244"/>
                    </a:lnTo>
                    <a:lnTo>
                      <a:pt x="393" y="242"/>
                    </a:lnTo>
                    <a:lnTo>
                      <a:pt x="409" y="235"/>
                    </a:lnTo>
                    <a:lnTo>
                      <a:pt x="425" y="227"/>
                    </a:lnTo>
                    <a:lnTo>
                      <a:pt x="441" y="221"/>
                    </a:lnTo>
                    <a:lnTo>
                      <a:pt x="458" y="215"/>
                    </a:lnTo>
                    <a:lnTo>
                      <a:pt x="475" y="209"/>
                    </a:lnTo>
                    <a:lnTo>
                      <a:pt x="493" y="205"/>
                    </a:lnTo>
                    <a:lnTo>
                      <a:pt x="510" y="201"/>
                    </a:lnTo>
                    <a:lnTo>
                      <a:pt x="528" y="198"/>
                    </a:lnTo>
                    <a:lnTo>
                      <a:pt x="547" y="202"/>
                    </a:lnTo>
                    <a:lnTo>
                      <a:pt x="566" y="206"/>
                    </a:lnTo>
                    <a:lnTo>
                      <a:pt x="586" y="209"/>
                    </a:lnTo>
                    <a:lnTo>
                      <a:pt x="606" y="212"/>
                    </a:lnTo>
                    <a:lnTo>
                      <a:pt x="625" y="215"/>
                    </a:lnTo>
                    <a:lnTo>
                      <a:pt x="645" y="219"/>
                    </a:lnTo>
                    <a:lnTo>
                      <a:pt x="664" y="224"/>
                    </a:lnTo>
                    <a:lnTo>
                      <a:pt x="682" y="231"/>
                    </a:lnTo>
                    <a:lnTo>
                      <a:pt x="694" y="231"/>
                    </a:lnTo>
                    <a:lnTo>
                      <a:pt x="691" y="236"/>
                    </a:lnTo>
                    <a:lnTo>
                      <a:pt x="689" y="241"/>
                    </a:lnTo>
                    <a:lnTo>
                      <a:pt x="686" y="248"/>
                    </a:lnTo>
                    <a:lnTo>
                      <a:pt x="683" y="253"/>
                    </a:lnTo>
                    <a:lnTo>
                      <a:pt x="680" y="258"/>
                    </a:lnTo>
                    <a:lnTo>
                      <a:pt x="678" y="264"/>
                    </a:lnTo>
                    <a:lnTo>
                      <a:pt x="676" y="270"/>
                    </a:lnTo>
                    <a:lnTo>
                      <a:pt x="675" y="275"/>
                    </a:lnTo>
                    <a:lnTo>
                      <a:pt x="679" y="275"/>
                    </a:lnTo>
                    <a:lnTo>
                      <a:pt x="683" y="274"/>
                    </a:lnTo>
                    <a:lnTo>
                      <a:pt x="686" y="273"/>
                    </a:lnTo>
                    <a:lnTo>
                      <a:pt x="688" y="271"/>
                    </a:lnTo>
                    <a:lnTo>
                      <a:pt x="691" y="267"/>
                    </a:lnTo>
                    <a:lnTo>
                      <a:pt x="693" y="260"/>
                    </a:lnTo>
                    <a:lnTo>
                      <a:pt x="695" y="255"/>
                    </a:lnTo>
                    <a:lnTo>
                      <a:pt x="697" y="249"/>
                    </a:lnTo>
                    <a:lnTo>
                      <a:pt x="700" y="243"/>
                    </a:lnTo>
                    <a:lnTo>
                      <a:pt x="704" y="239"/>
                    </a:lnTo>
                    <a:lnTo>
                      <a:pt x="704" y="234"/>
                    </a:lnTo>
                    <a:lnTo>
                      <a:pt x="705" y="231"/>
                    </a:lnTo>
                    <a:lnTo>
                      <a:pt x="707" y="226"/>
                    </a:lnTo>
                    <a:lnTo>
                      <a:pt x="709" y="223"/>
                    </a:lnTo>
                    <a:lnTo>
                      <a:pt x="711" y="219"/>
                    </a:lnTo>
                    <a:lnTo>
                      <a:pt x="712" y="215"/>
                    </a:lnTo>
                    <a:lnTo>
                      <a:pt x="713" y="211"/>
                    </a:lnTo>
                    <a:lnTo>
                      <a:pt x="712" y="206"/>
                    </a:lnTo>
                    <a:lnTo>
                      <a:pt x="715" y="204"/>
                    </a:lnTo>
                    <a:lnTo>
                      <a:pt x="718" y="201"/>
                    </a:lnTo>
                    <a:lnTo>
                      <a:pt x="719" y="199"/>
                    </a:lnTo>
                    <a:lnTo>
                      <a:pt x="720" y="196"/>
                    </a:lnTo>
                    <a:lnTo>
                      <a:pt x="720" y="190"/>
                    </a:lnTo>
                    <a:lnTo>
                      <a:pt x="719" y="184"/>
                    </a:lnTo>
                    <a:lnTo>
                      <a:pt x="716" y="178"/>
                    </a:lnTo>
                    <a:lnTo>
                      <a:pt x="714" y="171"/>
                    </a:lnTo>
                    <a:lnTo>
                      <a:pt x="713" y="164"/>
                    </a:lnTo>
                    <a:lnTo>
                      <a:pt x="713" y="158"/>
                    </a:lnTo>
                    <a:lnTo>
                      <a:pt x="715" y="148"/>
                    </a:lnTo>
                    <a:lnTo>
                      <a:pt x="718" y="138"/>
                    </a:lnTo>
                    <a:lnTo>
                      <a:pt x="718" y="127"/>
                    </a:lnTo>
                    <a:lnTo>
                      <a:pt x="719" y="117"/>
                    </a:lnTo>
                    <a:lnTo>
                      <a:pt x="720" y="107"/>
                    </a:lnTo>
                    <a:lnTo>
                      <a:pt x="721" y="96"/>
                    </a:lnTo>
                    <a:lnTo>
                      <a:pt x="723" y="86"/>
                    </a:lnTo>
                    <a:lnTo>
                      <a:pt x="726" y="75"/>
                    </a:lnTo>
                    <a:lnTo>
                      <a:pt x="726" y="67"/>
                    </a:lnTo>
                    <a:lnTo>
                      <a:pt x="728" y="57"/>
                    </a:lnTo>
                    <a:lnTo>
                      <a:pt x="730" y="49"/>
                    </a:lnTo>
                    <a:lnTo>
                      <a:pt x="733" y="39"/>
                    </a:lnTo>
                    <a:lnTo>
                      <a:pt x="737" y="30"/>
                    </a:lnTo>
                    <a:lnTo>
                      <a:pt x="740" y="20"/>
                    </a:lnTo>
                    <a:lnTo>
                      <a:pt x="743" y="11"/>
                    </a:lnTo>
                    <a:lnTo>
                      <a:pt x="744" y="0"/>
                    </a:lnTo>
                    <a:lnTo>
                      <a:pt x="745" y="31"/>
                    </a:lnTo>
                    <a:lnTo>
                      <a:pt x="748" y="59"/>
                    </a:lnTo>
                    <a:lnTo>
                      <a:pt x="751" y="88"/>
                    </a:lnTo>
                    <a:lnTo>
                      <a:pt x="756" y="115"/>
                    </a:lnTo>
                    <a:lnTo>
                      <a:pt x="761" y="144"/>
                    </a:lnTo>
                    <a:lnTo>
                      <a:pt x="765" y="170"/>
                    </a:lnTo>
                    <a:lnTo>
                      <a:pt x="770" y="199"/>
                    </a:lnTo>
                    <a:lnTo>
                      <a:pt x="775" y="22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6364080" y="5575320"/>
                <a:ext cx="14400" cy="7920"/>
              </a:xfrm>
              <a:custGeom>
                <a:avLst/>
                <a:gdLst/>
                <a:ahLst/>
                <a:rect l="l" t="t" r="r" b="b"/>
                <a:pathLst>
                  <a:path w="27" h="15">
                    <a:moveTo>
                      <a:pt x="2" y="15"/>
                    </a:moveTo>
                    <a:lnTo>
                      <a:pt x="2" y="14"/>
                    </a:lnTo>
                    <a:lnTo>
                      <a:pt x="2" y="13"/>
                    </a:lnTo>
                    <a:lnTo>
                      <a:pt x="2" y="13"/>
                    </a:lnTo>
                    <a:lnTo>
                      <a:pt x="1" y="12"/>
                    </a:lnTo>
                    <a:lnTo>
                      <a:pt x="1" y="12"/>
                    </a:lnTo>
                    <a:lnTo>
                      <a:pt x="1" y="10"/>
                    </a:lnTo>
                    <a:lnTo>
                      <a:pt x="0" y="10"/>
                    </a:lnTo>
                    <a:lnTo>
                      <a:pt x="0" y="9"/>
                    </a:lnTo>
                    <a:lnTo>
                      <a:pt x="27" y="0"/>
                    </a:lnTo>
                    <a:lnTo>
                      <a:pt x="2" y="1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57" name=""/>
              <p:cNvSpPr/>
              <p:nvPr/>
            </p:nvSpPr>
            <p:spPr>
              <a:xfrm>
                <a:off x="6376680" y="5583240"/>
                <a:ext cx="19080" cy="9720"/>
              </a:xfrm>
              <a:custGeom>
                <a:avLst/>
                <a:gdLst/>
                <a:ahLst/>
                <a:rect l="l" t="t" r="r" b="b"/>
                <a:pathLst>
                  <a:path w="38" h="17">
                    <a:moveTo>
                      <a:pt x="0" y="17"/>
                    </a:moveTo>
                    <a:lnTo>
                      <a:pt x="38" y="0"/>
                    </a:lnTo>
                    <a:lnTo>
                      <a:pt x="12" y="15"/>
                    </a:lnTo>
                    <a:lnTo>
                      <a:pt x="0" y="1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58" name=""/>
              <p:cNvSpPr/>
              <p:nvPr/>
            </p:nvSpPr>
            <p:spPr>
              <a:xfrm>
                <a:off x="6411600" y="5607360"/>
                <a:ext cx="7920" cy="9360"/>
              </a:xfrm>
              <a:custGeom>
                <a:avLst/>
                <a:gdLst/>
                <a:ahLst/>
                <a:rect l="l" t="t" r="r" b="b"/>
                <a:pathLst>
                  <a:path w="16" h="20">
                    <a:moveTo>
                      <a:pt x="0" y="20"/>
                    </a:moveTo>
                    <a:lnTo>
                      <a:pt x="14" y="0"/>
                    </a:lnTo>
                    <a:lnTo>
                      <a:pt x="16" y="0"/>
                    </a:lnTo>
                    <a:lnTo>
                      <a:pt x="0" y="2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59" name=""/>
              <p:cNvSpPr/>
              <p:nvPr/>
            </p:nvSpPr>
            <p:spPr>
              <a:xfrm>
                <a:off x="6430680" y="5612040"/>
                <a:ext cx="7920" cy="9360"/>
              </a:xfrm>
              <a:custGeom>
                <a:avLst/>
                <a:gdLst/>
                <a:ahLst/>
                <a:rect l="l" t="t" r="r" b="b"/>
                <a:pathLst>
                  <a:path w="16" h="16">
                    <a:moveTo>
                      <a:pt x="0" y="16"/>
                    </a:moveTo>
                    <a:lnTo>
                      <a:pt x="1" y="14"/>
                    </a:lnTo>
                    <a:lnTo>
                      <a:pt x="2" y="11"/>
                    </a:lnTo>
                    <a:lnTo>
                      <a:pt x="4" y="9"/>
                    </a:lnTo>
                    <a:lnTo>
                      <a:pt x="6" y="8"/>
                    </a:lnTo>
                    <a:lnTo>
                      <a:pt x="9" y="6"/>
                    </a:lnTo>
                    <a:lnTo>
                      <a:pt x="12" y="4"/>
                    </a:lnTo>
                    <a:lnTo>
                      <a:pt x="14" y="2"/>
                    </a:lnTo>
                    <a:lnTo>
                      <a:pt x="16" y="0"/>
                    </a:lnTo>
                    <a:lnTo>
                      <a:pt x="0" y="1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0" name=""/>
              <p:cNvSpPr/>
              <p:nvPr/>
            </p:nvSpPr>
            <p:spPr>
              <a:xfrm>
                <a:off x="6449760" y="5653080"/>
                <a:ext cx="55440" cy="57240"/>
              </a:xfrm>
              <a:custGeom>
                <a:avLst/>
                <a:gdLst/>
                <a:ahLst/>
                <a:rect l="l" t="t" r="r" b="b"/>
                <a:pathLst>
                  <a:path w="105" h="109">
                    <a:moveTo>
                      <a:pt x="104" y="67"/>
                    </a:moveTo>
                    <a:lnTo>
                      <a:pt x="101" y="67"/>
                    </a:lnTo>
                    <a:lnTo>
                      <a:pt x="100" y="67"/>
                    </a:lnTo>
                    <a:lnTo>
                      <a:pt x="99" y="67"/>
                    </a:lnTo>
                    <a:lnTo>
                      <a:pt x="97" y="67"/>
                    </a:lnTo>
                    <a:lnTo>
                      <a:pt x="96" y="67"/>
                    </a:lnTo>
                    <a:lnTo>
                      <a:pt x="95" y="67"/>
                    </a:lnTo>
                    <a:lnTo>
                      <a:pt x="94" y="65"/>
                    </a:lnTo>
                    <a:lnTo>
                      <a:pt x="93" y="64"/>
                    </a:lnTo>
                    <a:lnTo>
                      <a:pt x="92" y="67"/>
                    </a:lnTo>
                    <a:lnTo>
                      <a:pt x="91" y="68"/>
                    </a:lnTo>
                    <a:lnTo>
                      <a:pt x="89" y="69"/>
                    </a:lnTo>
                    <a:lnTo>
                      <a:pt x="88" y="70"/>
                    </a:lnTo>
                    <a:lnTo>
                      <a:pt x="87" y="72"/>
                    </a:lnTo>
                    <a:lnTo>
                      <a:pt x="87" y="73"/>
                    </a:lnTo>
                    <a:lnTo>
                      <a:pt x="87" y="75"/>
                    </a:lnTo>
                    <a:lnTo>
                      <a:pt x="87" y="77"/>
                    </a:lnTo>
                    <a:lnTo>
                      <a:pt x="85" y="81"/>
                    </a:lnTo>
                    <a:lnTo>
                      <a:pt x="81" y="85"/>
                    </a:lnTo>
                    <a:lnTo>
                      <a:pt x="78" y="88"/>
                    </a:lnTo>
                    <a:lnTo>
                      <a:pt x="75" y="90"/>
                    </a:lnTo>
                    <a:lnTo>
                      <a:pt x="68" y="92"/>
                    </a:lnTo>
                    <a:lnTo>
                      <a:pt x="59" y="94"/>
                    </a:lnTo>
                    <a:lnTo>
                      <a:pt x="52" y="94"/>
                    </a:lnTo>
                    <a:lnTo>
                      <a:pt x="44" y="96"/>
                    </a:lnTo>
                    <a:lnTo>
                      <a:pt x="40" y="97"/>
                    </a:lnTo>
                    <a:lnTo>
                      <a:pt x="37" y="99"/>
                    </a:lnTo>
                    <a:lnTo>
                      <a:pt x="34" y="101"/>
                    </a:lnTo>
                    <a:lnTo>
                      <a:pt x="31" y="105"/>
                    </a:lnTo>
                    <a:lnTo>
                      <a:pt x="26" y="106"/>
                    </a:lnTo>
                    <a:lnTo>
                      <a:pt x="23" y="107"/>
                    </a:lnTo>
                    <a:lnTo>
                      <a:pt x="19" y="108"/>
                    </a:lnTo>
                    <a:lnTo>
                      <a:pt x="15" y="109"/>
                    </a:lnTo>
                    <a:lnTo>
                      <a:pt x="10" y="109"/>
                    </a:lnTo>
                    <a:lnTo>
                      <a:pt x="7" y="109"/>
                    </a:lnTo>
                    <a:lnTo>
                      <a:pt x="3" y="108"/>
                    </a:lnTo>
                    <a:lnTo>
                      <a:pt x="0" y="105"/>
                    </a:lnTo>
                    <a:lnTo>
                      <a:pt x="5" y="105"/>
                    </a:lnTo>
                    <a:lnTo>
                      <a:pt x="12" y="104"/>
                    </a:lnTo>
                    <a:lnTo>
                      <a:pt x="16" y="103"/>
                    </a:lnTo>
                    <a:lnTo>
                      <a:pt x="21" y="100"/>
                    </a:lnTo>
                    <a:lnTo>
                      <a:pt x="26" y="98"/>
                    </a:lnTo>
                    <a:lnTo>
                      <a:pt x="31" y="96"/>
                    </a:lnTo>
                    <a:lnTo>
                      <a:pt x="36" y="93"/>
                    </a:lnTo>
                    <a:lnTo>
                      <a:pt x="40" y="91"/>
                    </a:lnTo>
                    <a:lnTo>
                      <a:pt x="38" y="89"/>
                    </a:lnTo>
                    <a:lnTo>
                      <a:pt x="44" y="87"/>
                    </a:lnTo>
                    <a:lnTo>
                      <a:pt x="51" y="85"/>
                    </a:lnTo>
                    <a:lnTo>
                      <a:pt x="57" y="82"/>
                    </a:lnTo>
                    <a:lnTo>
                      <a:pt x="63" y="80"/>
                    </a:lnTo>
                    <a:lnTo>
                      <a:pt x="70" y="79"/>
                    </a:lnTo>
                    <a:lnTo>
                      <a:pt x="75" y="77"/>
                    </a:lnTo>
                    <a:lnTo>
                      <a:pt x="81" y="74"/>
                    </a:lnTo>
                    <a:lnTo>
                      <a:pt x="87" y="71"/>
                    </a:lnTo>
                    <a:lnTo>
                      <a:pt x="87" y="69"/>
                    </a:lnTo>
                    <a:lnTo>
                      <a:pt x="87" y="68"/>
                    </a:lnTo>
                    <a:lnTo>
                      <a:pt x="87" y="65"/>
                    </a:lnTo>
                    <a:lnTo>
                      <a:pt x="86" y="64"/>
                    </a:lnTo>
                    <a:lnTo>
                      <a:pt x="85" y="63"/>
                    </a:lnTo>
                    <a:lnTo>
                      <a:pt x="85" y="61"/>
                    </a:lnTo>
                    <a:lnTo>
                      <a:pt x="83" y="60"/>
                    </a:lnTo>
                    <a:lnTo>
                      <a:pt x="82" y="59"/>
                    </a:lnTo>
                    <a:lnTo>
                      <a:pt x="87" y="59"/>
                    </a:lnTo>
                    <a:lnTo>
                      <a:pt x="90" y="58"/>
                    </a:lnTo>
                    <a:lnTo>
                      <a:pt x="93" y="57"/>
                    </a:lnTo>
                    <a:lnTo>
                      <a:pt x="94" y="56"/>
                    </a:lnTo>
                    <a:lnTo>
                      <a:pt x="95" y="51"/>
                    </a:lnTo>
                    <a:lnTo>
                      <a:pt x="95" y="45"/>
                    </a:lnTo>
                    <a:lnTo>
                      <a:pt x="93" y="39"/>
                    </a:lnTo>
                    <a:lnTo>
                      <a:pt x="93" y="32"/>
                    </a:lnTo>
                    <a:lnTo>
                      <a:pt x="93" y="28"/>
                    </a:lnTo>
                    <a:lnTo>
                      <a:pt x="94" y="25"/>
                    </a:lnTo>
                    <a:lnTo>
                      <a:pt x="95" y="23"/>
                    </a:lnTo>
                    <a:lnTo>
                      <a:pt x="97" y="20"/>
                    </a:lnTo>
                    <a:lnTo>
                      <a:pt x="105" y="0"/>
                    </a:lnTo>
                    <a:lnTo>
                      <a:pt x="103" y="7"/>
                    </a:lnTo>
                    <a:lnTo>
                      <a:pt x="100" y="15"/>
                    </a:lnTo>
                    <a:lnTo>
                      <a:pt x="99" y="23"/>
                    </a:lnTo>
                    <a:lnTo>
                      <a:pt x="98" y="32"/>
                    </a:lnTo>
                    <a:lnTo>
                      <a:pt x="99" y="40"/>
                    </a:lnTo>
                    <a:lnTo>
                      <a:pt x="99" y="50"/>
                    </a:lnTo>
                    <a:lnTo>
                      <a:pt x="101" y="58"/>
                    </a:lnTo>
                    <a:lnTo>
                      <a:pt x="104" y="6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1" name=""/>
              <p:cNvSpPr/>
              <p:nvPr/>
            </p:nvSpPr>
            <p:spPr>
              <a:xfrm>
                <a:off x="6103800" y="5662800"/>
                <a:ext cx="41040" cy="20520"/>
              </a:xfrm>
              <a:custGeom>
                <a:avLst/>
                <a:gdLst/>
                <a:ahLst/>
                <a:rect l="l" t="t" r="r" b="b"/>
                <a:pathLst>
                  <a:path w="78" h="40">
                    <a:moveTo>
                      <a:pt x="78" y="3"/>
                    </a:moveTo>
                    <a:lnTo>
                      <a:pt x="75" y="9"/>
                    </a:lnTo>
                    <a:lnTo>
                      <a:pt x="71" y="16"/>
                    </a:lnTo>
                    <a:lnTo>
                      <a:pt x="66" y="22"/>
                    </a:lnTo>
                    <a:lnTo>
                      <a:pt x="60" y="27"/>
                    </a:lnTo>
                    <a:lnTo>
                      <a:pt x="54" y="33"/>
                    </a:lnTo>
                    <a:lnTo>
                      <a:pt x="46" y="36"/>
                    </a:lnTo>
                    <a:lnTo>
                      <a:pt x="39" y="39"/>
                    </a:lnTo>
                    <a:lnTo>
                      <a:pt x="32" y="40"/>
                    </a:lnTo>
                    <a:lnTo>
                      <a:pt x="27" y="40"/>
                    </a:lnTo>
                    <a:lnTo>
                      <a:pt x="23" y="40"/>
                    </a:lnTo>
                    <a:lnTo>
                      <a:pt x="19" y="39"/>
                    </a:lnTo>
                    <a:lnTo>
                      <a:pt x="15" y="38"/>
                    </a:lnTo>
                    <a:lnTo>
                      <a:pt x="12" y="35"/>
                    </a:lnTo>
                    <a:lnTo>
                      <a:pt x="8" y="33"/>
                    </a:lnTo>
                    <a:lnTo>
                      <a:pt x="5" y="31"/>
                    </a:lnTo>
                    <a:lnTo>
                      <a:pt x="2" y="27"/>
                    </a:lnTo>
                    <a:lnTo>
                      <a:pt x="0" y="23"/>
                    </a:lnTo>
                    <a:lnTo>
                      <a:pt x="1" y="20"/>
                    </a:lnTo>
                    <a:lnTo>
                      <a:pt x="2" y="17"/>
                    </a:lnTo>
                    <a:lnTo>
                      <a:pt x="5" y="14"/>
                    </a:lnTo>
                    <a:lnTo>
                      <a:pt x="8" y="12"/>
                    </a:lnTo>
                    <a:lnTo>
                      <a:pt x="12" y="11"/>
                    </a:lnTo>
                    <a:lnTo>
                      <a:pt x="15" y="8"/>
                    </a:lnTo>
                    <a:lnTo>
                      <a:pt x="18" y="7"/>
                    </a:lnTo>
                    <a:lnTo>
                      <a:pt x="25" y="6"/>
                    </a:lnTo>
                    <a:lnTo>
                      <a:pt x="34" y="4"/>
                    </a:lnTo>
                    <a:lnTo>
                      <a:pt x="41" y="3"/>
                    </a:lnTo>
                    <a:lnTo>
                      <a:pt x="50" y="1"/>
                    </a:lnTo>
                    <a:lnTo>
                      <a:pt x="57" y="0"/>
                    </a:lnTo>
                    <a:lnTo>
                      <a:pt x="64" y="0"/>
                    </a:lnTo>
                    <a:lnTo>
                      <a:pt x="72" y="1"/>
                    </a:lnTo>
                    <a:lnTo>
                      <a:pt x="78"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362" name=""/>
              <p:cNvSpPr/>
              <p:nvPr/>
            </p:nvSpPr>
            <p:spPr>
              <a:xfrm>
                <a:off x="6475320" y="5767560"/>
                <a:ext cx="2880" cy="4680"/>
              </a:xfrm>
              <a:custGeom>
                <a:avLst/>
                <a:gdLst/>
                <a:ahLst/>
                <a:rect l="l" t="t" r="r" b="b"/>
                <a:pathLst>
                  <a:path w="6" h="8">
                    <a:moveTo>
                      <a:pt x="6" y="2"/>
                    </a:moveTo>
                    <a:lnTo>
                      <a:pt x="5" y="3"/>
                    </a:lnTo>
                    <a:lnTo>
                      <a:pt x="4" y="3"/>
                    </a:lnTo>
                    <a:lnTo>
                      <a:pt x="4" y="4"/>
                    </a:lnTo>
                    <a:lnTo>
                      <a:pt x="4" y="5"/>
                    </a:lnTo>
                    <a:lnTo>
                      <a:pt x="4" y="5"/>
                    </a:lnTo>
                    <a:lnTo>
                      <a:pt x="4" y="6"/>
                    </a:lnTo>
                    <a:lnTo>
                      <a:pt x="4" y="7"/>
                    </a:lnTo>
                    <a:lnTo>
                      <a:pt x="4" y="8"/>
                    </a:lnTo>
                    <a:lnTo>
                      <a:pt x="0" y="0"/>
                    </a:lnTo>
                    <a:lnTo>
                      <a:pt x="6" y="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363" name=""/>
              <p:cNvSpPr/>
              <p:nvPr/>
            </p:nvSpPr>
            <p:spPr>
              <a:xfrm>
                <a:off x="6481440" y="5769000"/>
                <a:ext cx="1800" cy="3240"/>
              </a:xfrm>
              <a:custGeom>
                <a:avLst/>
                <a:gdLst/>
                <a:ahLst/>
                <a:rect l="l" t="t" r="r" b="b"/>
                <a:pathLst>
                  <a:path w="1" h="6">
                    <a:moveTo>
                      <a:pt x="1" y="0"/>
                    </a:moveTo>
                    <a:lnTo>
                      <a:pt x="1" y="1"/>
                    </a:lnTo>
                    <a:lnTo>
                      <a:pt x="1" y="2"/>
                    </a:lnTo>
                    <a:lnTo>
                      <a:pt x="1" y="2"/>
                    </a:lnTo>
                    <a:lnTo>
                      <a:pt x="1" y="3"/>
                    </a:lnTo>
                    <a:lnTo>
                      <a:pt x="1" y="4"/>
                    </a:lnTo>
                    <a:lnTo>
                      <a:pt x="1" y="5"/>
                    </a:lnTo>
                    <a:lnTo>
                      <a:pt x="0" y="5"/>
                    </a:lnTo>
                    <a:lnTo>
                      <a:pt x="0" y="6"/>
                    </a:lnTo>
                    <a:lnTo>
                      <a:pt x="0"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64" name=""/>
              <p:cNvSpPr/>
              <p:nvPr/>
            </p:nvSpPr>
            <p:spPr>
              <a:xfrm>
                <a:off x="6484680" y="5774040"/>
                <a:ext cx="7920" cy="9360"/>
              </a:xfrm>
              <a:custGeom>
                <a:avLst/>
                <a:gdLst/>
                <a:ahLst/>
                <a:rect l="l" t="t" r="r" b="b"/>
                <a:pathLst>
                  <a:path w="13" h="20">
                    <a:moveTo>
                      <a:pt x="0" y="20"/>
                    </a:moveTo>
                    <a:lnTo>
                      <a:pt x="0" y="19"/>
                    </a:lnTo>
                    <a:lnTo>
                      <a:pt x="1" y="17"/>
                    </a:lnTo>
                    <a:lnTo>
                      <a:pt x="2" y="15"/>
                    </a:lnTo>
                    <a:lnTo>
                      <a:pt x="4" y="12"/>
                    </a:lnTo>
                    <a:lnTo>
                      <a:pt x="6" y="8"/>
                    </a:lnTo>
                    <a:lnTo>
                      <a:pt x="8" y="5"/>
                    </a:lnTo>
                    <a:lnTo>
                      <a:pt x="11" y="2"/>
                    </a:lnTo>
                    <a:lnTo>
                      <a:pt x="13" y="0"/>
                    </a:lnTo>
                    <a:lnTo>
                      <a:pt x="0" y="2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365" name=""/>
              <p:cNvSpPr/>
              <p:nvPr/>
            </p:nvSpPr>
            <p:spPr>
              <a:xfrm>
                <a:off x="6476760" y="5780160"/>
                <a:ext cx="84240" cy="100080"/>
              </a:xfrm>
              <a:custGeom>
                <a:avLst/>
                <a:gdLst/>
                <a:ahLst/>
                <a:rect l="l" t="t" r="r" b="b"/>
                <a:pathLst>
                  <a:path w="160" h="190">
                    <a:moveTo>
                      <a:pt x="22" y="44"/>
                    </a:moveTo>
                    <a:lnTo>
                      <a:pt x="25" y="42"/>
                    </a:lnTo>
                    <a:lnTo>
                      <a:pt x="27" y="39"/>
                    </a:lnTo>
                    <a:lnTo>
                      <a:pt x="29" y="36"/>
                    </a:lnTo>
                    <a:lnTo>
                      <a:pt x="32" y="33"/>
                    </a:lnTo>
                    <a:lnTo>
                      <a:pt x="35" y="30"/>
                    </a:lnTo>
                    <a:lnTo>
                      <a:pt x="38" y="26"/>
                    </a:lnTo>
                    <a:lnTo>
                      <a:pt x="41" y="23"/>
                    </a:lnTo>
                    <a:lnTo>
                      <a:pt x="44" y="20"/>
                    </a:lnTo>
                    <a:lnTo>
                      <a:pt x="42" y="25"/>
                    </a:lnTo>
                    <a:lnTo>
                      <a:pt x="39" y="31"/>
                    </a:lnTo>
                    <a:lnTo>
                      <a:pt x="35" y="37"/>
                    </a:lnTo>
                    <a:lnTo>
                      <a:pt x="30" y="43"/>
                    </a:lnTo>
                    <a:lnTo>
                      <a:pt x="27" y="50"/>
                    </a:lnTo>
                    <a:lnTo>
                      <a:pt x="24" y="57"/>
                    </a:lnTo>
                    <a:lnTo>
                      <a:pt x="22" y="63"/>
                    </a:lnTo>
                    <a:lnTo>
                      <a:pt x="22" y="71"/>
                    </a:lnTo>
                    <a:lnTo>
                      <a:pt x="76" y="4"/>
                    </a:lnTo>
                    <a:lnTo>
                      <a:pt x="72" y="13"/>
                    </a:lnTo>
                    <a:lnTo>
                      <a:pt x="66" y="21"/>
                    </a:lnTo>
                    <a:lnTo>
                      <a:pt x="61" y="31"/>
                    </a:lnTo>
                    <a:lnTo>
                      <a:pt x="56" y="39"/>
                    </a:lnTo>
                    <a:lnTo>
                      <a:pt x="49" y="48"/>
                    </a:lnTo>
                    <a:lnTo>
                      <a:pt x="44" y="57"/>
                    </a:lnTo>
                    <a:lnTo>
                      <a:pt x="39" y="66"/>
                    </a:lnTo>
                    <a:lnTo>
                      <a:pt x="34" y="75"/>
                    </a:lnTo>
                    <a:lnTo>
                      <a:pt x="36" y="77"/>
                    </a:lnTo>
                    <a:lnTo>
                      <a:pt x="40" y="72"/>
                    </a:lnTo>
                    <a:lnTo>
                      <a:pt x="44" y="67"/>
                    </a:lnTo>
                    <a:lnTo>
                      <a:pt x="48" y="62"/>
                    </a:lnTo>
                    <a:lnTo>
                      <a:pt x="52" y="57"/>
                    </a:lnTo>
                    <a:lnTo>
                      <a:pt x="56" y="52"/>
                    </a:lnTo>
                    <a:lnTo>
                      <a:pt x="59" y="48"/>
                    </a:lnTo>
                    <a:lnTo>
                      <a:pt x="63" y="42"/>
                    </a:lnTo>
                    <a:lnTo>
                      <a:pt x="68" y="38"/>
                    </a:lnTo>
                    <a:lnTo>
                      <a:pt x="64" y="48"/>
                    </a:lnTo>
                    <a:lnTo>
                      <a:pt x="59" y="56"/>
                    </a:lnTo>
                    <a:lnTo>
                      <a:pt x="54" y="65"/>
                    </a:lnTo>
                    <a:lnTo>
                      <a:pt x="47" y="73"/>
                    </a:lnTo>
                    <a:lnTo>
                      <a:pt x="40" y="81"/>
                    </a:lnTo>
                    <a:lnTo>
                      <a:pt x="35" y="91"/>
                    </a:lnTo>
                    <a:lnTo>
                      <a:pt x="28" y="99"/>
                    </a:lnTo>
                    <a:lnTo>
                      <a:pt x="24" y="109"/>
                    </a:lnTo>
                    <a:lnTo>
                      <a:pt x="26" y="111"/>
                    </a:lnTo>
                    <a:lnTo>
                      <a:pt x="36" y="104"/>
                    </a:lnTo>
                    <a:lnTo>
                      <a:pt x="38" y="105"/>
                    </a:lnTo>
                    <a:lnTo>
                      <a:pt x="68" y="62"/>
                    </a:lnTo>
                    <a:lnTo>
                      <a:pt x="63" y="70"/>
                    </a:lnTo>
                    <a:lnTo>
                      <a:pt x="59" y="77"/>
                    </a:lnTo>
                    <a:lnTo>
                      <a:pt x="55" y="86"/>
                    </a:lnTo>
                    <a:lnTo>
                      <a:pt x="52" y="93"/>
                    </a:lnTo>
                    <a:lnTo>
                      <a:pt x="48" y="102"/>
                    </a:lnTo>
                    <a:lnTo>
                      <a:pt x="44" y="110"/>
                    </a:lnTo>
                    <a:lnTo>
                      <a:pt x="40" y="117"/>
                    </a:lnTo>
                    <a:lnTo>
                      <a:pt x="36" y="125"/>
                    </a:lnTo>
                    <a:lnTo>
                      <a:pt x="38" y="127"/>
                    </a:lnTo>
                    <a:lnTo>
                      <a:pt x="82" y="71"/>
                    </a:lnTo>
                    <a:lnTo>
                      <a:pt x="77" y="79"/>
                    </a:lnTo>
                    <a:lnTo>
                      <a:pt x="72" y="88"/>
                    </a:lnTo>
                    <a:lnTo>
                      <a:pt x="65" y="96"/>
                    </a:lnTo>
                    <a:lnTo>
                      <a:pt x="60" y="105"/>
                    </a:lnTo>
                    <a:lnTo>
                      <a:pt x="54" y="112"/>
                    </a:lnTo>
                    <a:lnTo>
                      <a:pt x="48" y="121"/>
                    </a:lnTo>
                    <a:lnTo>
                      <a:pt x="44" y="129"/>
                    </a:lnTo>
                    <a:lnTo>
                      <a:pt x="40" y="137"/>
                    </a:lnTo>
                    <a:lnTo>
                      <a:pt x="46" y="134"/>
                    </a:lnTo>
                    <a:lnTo>
                      <a:pt x="52" y="130"/>
                    </a:lnTo>
                    <a:lnTo>
                      <a:pt x="56" y="125"/>
                    </a:lnTo>
                    <a:lnTo>
                      <a:pt x="59" y="120"/>
                    </a:lnTo>
                    <a:lnTo>
                      <a:pt x="63" y="113"/>
                    </a:lnTo>
                    <a:lnTo>
                      <a:pt x="66" y="108"/>
                    </a:lnTo>
                    <a:lnTo>
                      <a:pt x="71" y="103"/>
                    </a:lnTo>
                    <a:lnTo>
                      <a:pt x="76" y="98"/>
                    </a:lnTo>
                    <a:lnTo>
                      <a:pt x="91" y="82"/>
                    </a:lnTo>
                    <a:lnTo>
                      <a:pt x="90" y="85"/>
                    </a:lnTo>
                    <a:lnTo>
                      <a:pt x="90" y="86"/>
                    </a:lnTo>
                    <a:lnTo>
                      <a:pt x="89" y="87"/>
                    </a:lnTo>
                    <a:lnTo>
                      <a:pt x="87" y="88"/>
                    </a:lnTo>
                    <a:lnTo>
                      <a:pt x="86" y="89"/>
                    </a:lnTo>
                    <a:lnTo>
                      <a:pt x="85" y="91"/>
                    </a:lnTo>
                    <a:lnTo>
                      <a:pt x="85" y="92"/>
                    </a:lnTo>
                    <a:lnTo>
                      <a:pt x="84" y="93"/>
                    </a:lnTo>
                    <a:lnTo>
                      <a:pt x="89" y="97"/>
                    </a:lnTo>
                    <a:lnTo>
                      <a:pt x="92" y="94"/>
                    </a:lnTo>
                    <a:lnTo>
                      <a:pt x="95" y="91"/>
                    </a:lnTo>
                    <a:lnTo>
                      <a:pt x="98" y="87"/>
                    </a:lnTo>
                    <a:lnTo>
                      <a:pt x="101" y="84"/>
                    </a:lnTo>
                    <a:lnTo>
                      <a:pt x="103" y="79"/>
                    </a:lnTo>
                    <a:lnTo>
                      <a:pt x="107" y="76"/>
                    </a:lnTo>
                    <a:lnTo>
                      <a:pt x="110" y="73"/>
                    </a:lnTo>
                    <a:lnTo>
                      <a:pt x="113" y="71"/>
                    </a:lnTo>
                    <a:lnTo>
                      <a:pt x="110" y="78"/>
                    </a:lnTo>
                    <a:lnTo>
                      <a:pt x="107" y="86"/>
                    </a:lnTo>
                    <a:lnTo>
                      <a:pt x="102" y="94"/>
                    </a:lnTo>
                    <a:lnTo>
                      <a:pt x="98" y="102"/>
                    </a:lnTo>
                    <a:lnTo>
                      <a:pt x="93" y="110"/>
                    </a:lnTo>
                    <a:lnTo>
                      <a:pt x="86" y="117"/>
                    </a:lnTo>
                    <a:lnTo>
                      <a:pt x="81" y="126"/>
                    </a:lnTo>
                    <a:lnTo>
                      <a:pt x="76" y="133"/>
                    </a:lnTo>
                    <a:lnTo>
                      <a:pt x="75" y="136"/>
                    </a:lnTo>
                    <a:lnTo>
                      <a:pt x="73" y="141"/>
                    </a:lnTo>
                    <a:lnTo>
                      <a:pt x="72" y="144"/>
                    </a:lnTo>
                    <a:lnTo>
                      <a:pt x="71" y="148"/>
                    </a:lnTo>
                    <a:lnTo>
                      <a:pt x="70" y="151"/>
                    </a:lnTo>
                    <a:lnTo>
                      <a:pt x="68" y="154"/>
                    </a:lnTo>
                    <a:lnTo>
                      <a:pt x="68" y="159"/>
                    </a:lnTo>
                    <a:lnTo>
                      <a:pt x="68" y="162"/>
                    </a:lnTo>
                    <a:lnTo>
                      <a:pt x="72" y="161"/>
                    </a:lnTo>
                    <a:lnTo>
                      <a:pt x="75" y="158"/>
                    </a:lnTo>
                    <a:lnTo>
                      <a:pt x="77" y="155"/>
                    </a:lnTo>
                    <a:lnTo>
                      <a:pt x="78" y="151"/>
                    </a:lnTo>
                    <a:lnTo>
                      <a:pt x="79" y="148"/>
                    </a:lnTo>
                    <a:lnTo>
                      <a:pt x="80" y="144"/>
                    </a:lnTo>
                    <a:lnTo>
                      <a:pt x="82" y="141"/>
                    </a:lnTo>
                    <a:lnTo>
                      <a:pt x="84" y="137"/>
                    </a:lnTo>
                    <a:lnTo>
                      <a:pt x="118" y="93"/>
                    </a:lnTo>
                    <a:lnTo>
                      <a:pt x="116" y="99"/>
                    </a:lnTo>
                    <a:lnTo>
                      <a:pt x="114" y="105"/>
                    </a:lnTo>
                    <a:lnTo>
                      <a:pt x="111" y="111"/>
                    </a:lnTo>
                    <a:lnTo>
                      <a:pt x="108" y="116"/>
                    </a:lnTo>
                    <a:lnTo>
                      <a:pt x="104" y="122"/>
                    </a:lnTo>
                    <a:lnTo>
                      <a:pt x="102" y="128"/>
                    </a:lnTo>
                    <a:lnTo>
                      <a:pt x="100" y="133"/>
                    </a:lnTo>
                    <a:lnTo>
                      <a:pt x="98" y="140"/>
                    </a:lnTo>
                    <a:lnTo>
                      <a:pt x="105" y="133"/>
                    </a:lnTo>
                    <a:lnTo>
                      <a:pt x="112" y="126"/>
                    </a:lnTo>
                    <a:lnTo>
                      <a:pt x="116" y="118"/>
                    </a:lnTo>
                    <a:lnTo>
                      <a:pt x="120" y="110"/>
                    </a:lnTo>
                    <a:lnTo>
                      <a:pt x="125" y="100"/>
                    </a:lnTo>
                    <a:lnTo>
                      <a:pt x="130" y="92"/>
                    </a:lnTo>
                    <a:lnTo>
                      <a:pt x="135" y="84"/>
                    </a:lnTo>
                    <a:lnTo>
                      <a:pt x="143" y="77"/>
                    </a:lnTo>
                    <a:lnTo>
                      <a:pt x="143" y="80"/>
                    </a:lnTo>
                    <a:lnTo>
                      <a:pt x="141" y="85"/>
                    </a:lnTo>
                    <a:lnTo>
                      <a:pt x="140" y="88"/>
                    </a:lnTo>
                    <a:lnTo>
                      <a:pt x="138" y="91"/>
                    </a:lnTo>
                    <a:lnTo>
                      <a:pt x="134" y="98"/>
                    </a:lnTo>
                    <a:lnTo>
                      <a:pt x="129" y="105"/>
                    </a:lnTo>
                    <a:lnTo>
                      <a:pt x="122" y="112"/>
                    </a:lnTo>
                    <a:lnTo>
                      <a:pt x="118" y="120"/>
                    </a:lnTo>
                    <a:lnTo>
                      <a:pt x="116" y="124"/>
                    </a:lnTo>
                    <a:lnTo>
                      <a:pt x="114" y="128"/>
                    </a:lnTo>
                    <a:lnTo>
                      <a:pt x="113" y="132"/>
                    </a:lnTo>
                    <a:lnTo>
                      <a:pt x="113" y="137"/>
                    </a:lnTo>
                    <a:lnTo>
                      <a:pt x="114" y="140"/>
                    </a:lnTo>
                    <a:lnTo>
                      <a:pt x="118" y="135"/>
                    </a:lnTo>
                    <a:lnTo>
                      <a:pt x="121" y="131"/>
                    </a:lnTo>
                    <a:lnTo>
                      <a:pt x="126" y="126"/>
                    </a:lnTo>
                    <a:lnTo>
                      <a:pt x="129" y="121"/>
                    </a:lnTo>
                    <a:lnTo>
                      <a:pt x="133" y="115"/>
                    </a:lnTo>
                    <a:lnTo>
                      <a:pt x="137" y="110"/>
                    </a:lnTo>
                    <a:lnTo>
                      <a:pt x="141" y="106"/>
                    </a:lnTo>
                    <a:lnTo>
                      <a:pt x="147" y="100"/>
                    </a:lnTo>
                    <a:lnTo>
                      <a:pt x="146" y="104"/>
                    </a:lnTo>
                    <a:lnTo>
                      <a:pt x="144" y="107"/>
                    </a:lnTo>
                    <a:lnTo>
                      <a:pt x="143" y="110"/>
                    </a:lnTo>
                    <a:lnTo>
                      <a:pt x="140" y="113"/>
                    </a:lnTo>
                    <a:lnTo>
                      <a:pt x="139" y="116"/>
                    </a:lnTo>
                    <a:lnTo>
                      <a:pt x="138" y="120"/>
                    </a:lnTo>
                    <a:lnTo>
                      <a:pt x="139" y="124"/>
                    </a:lnTo>
                    <a:lnTo>
                      <a:pt x="140" y="127"/>
                    </a:lnTo>
                    <a:lnTo>
                      <a:pt x="160" y="104"/>
                    </a:lnTo>
                    <a:lnTo>
                      <a:pt x="159" y="108"/>
                    </a:lnTo>
                    <a:lnTo>
                      <a:pt x="158" y="111"/>
                    </a:lnTo>
                    <a:lnTo>
                      <a:pt x="156" y="115"/>
                    </a:lnTo>
                    <a:lnTo>
                      <a:pt x="154" y="118"/>
                    </a:lnTo>
                    <a:lnTo>
                      <a:pt x="151" y="123"/>
                    </a:lnTo>
                    <a:lnTo>
                      <a:pt x="148" y="126"/>
                    </a:lnTo>
                    <a:lnTo>
                      <a:pt x="146" y="129"/>
                    </a:lnTo>
                    <a:lnTo>
                      <a:pt x="143" y="133"/>
                    </a:lnTo>
                    <a:lnTo>
                      <a:pt x="145" y="135"/>
                    </a:lnTo>
                    <a:lnTo>
                      <a:pt x="143" y="136"/>
                    </a:lnTo>
                    <a:lnTo>
                      <a:pt x="140" y="139"/>
                    </a:lnTo>
                    <a:lnTo>
                      <a:pt x="138" y="140"/>
                    </a:lnTo>
                    <a:lnTo>
                      <a:pt x="136" y="143"/>
                    </a:lnTo>
                    <a:lnTo>
                      <a:pt x="135" y="145"/>
                    </a:lnTo>
                    <a:lnTo>
                      <a:pt x="134" y="147"/>
                    </a:lnTo>
                    <a:lnTo>
                      <a:pt x="134" y="150"/>
                    </a:lnTo>
                    <a:lnTo>
                      <a:pt x="135" y="153"/>
                    </a:lnTo>
                    <a:lnTo>
                      <a:pt x="130" y="153"/>
                    </a:lnTo>
                    <a:lnTo>
                      <a:pt x="125" y="154"/>
                    </a:lnTo>
                    <a:lnTo>
                      <a:pt x="121" y="155"/>
                    </a:lnTo>
                    <a:lnTo>
                      <a:pt x="118" y="158"/>
                    </a:lnTo>
                    <a:lnTo>
                      <a:pt x="114" y="161"/>
                    </a:lnTo>
                    <a:lnTo>
                      <a:pt x="110" y="162"/>
                    </a:lnTo>
                    <a:lnTo>
                      <a:pt x="105" y="164"/>
                    </a:lnTo>
                    <a:lnTo>
                      <a:pt x="100" y="164"/>
                    </a:lnTo>
                    <a:lnTo>
                      <a:pt x="96" y="168"/>
                    </a:lnTo>
                    <a:lnTo>
                      <a:pt x="93" y="172"/>
                    </a:lnTo>
                    <a:lnTo>
                      <a:pt x="90" y="178"/>
                    </a:lnTo>
                    <a:lnTo>
                      <a:pt x="85" y="182"/>
                    </a:lnTo>
                    <a:lnTo>
                      <a:pt x="81" y="185"/>
                    </a:lnTo>
                    <a:lnTo>
                      <a:pt x="77" y="186"/>
                    </a:lnTo>
                    <a:lnTo>
                      <a:pt x="74" y="187"/>
                    </a:lnTo>
                    <a:lnTo>
                      <a:pt x="71" y="186"/>
                    </a:lnTo>
                    <a:lnTo>
                      <a:pt x="67" y="185"/>
                    </a:lnTo>
                    <a:lnTo>
                      <a:pt x="64" y="183"/>
                    </a:lnTo>
                    <a:lnTo>
                      <a:pt x="61" y="182"/>
                    </a:lnTo>
                    <a:lnTo>
                      <a:pt x="59" y="183"/>
                    </a:lnTo>
                    <a:lnTo>
                      <a:pt x="58" y="184"/>
                    </a:lnTo>
                    <a:lnTo>
                      <a:pt x="56" y="186"/>
                    </a:lnTo>
                    <a:lnTo>
                      <a:pt x="54" y="188"/>
                    </a:lnTo>
                    <a:lnTo>
                      <a:pt x="52" y="189"/>
                    </a:lnTo>
                    <a:lnTo>
                      <a:pt x="49" y="190"/>
                    </a:lnTo>
                    <a:lnTo>
                      <a:pt x="46" y="189"/>
                    </a:lnTo>
                    <a:lnTo>
                      <a:pt x="42" y="178"/>
                    </a:lnTo>
                    <a:lnTo>
                      <a:pt x="41" y="179"/>
                    </a:lnTo>
                    <a:lnTo>
                      <a:pt x="39" y="180"/>
                    </a:lnTo>
                    <a:lnTo>
                      <a:pt x="38" y="181"/>
                    </a:lnTo>
                    <a:lnTo>
                      <a:pt x="36" y="181"/>
                    </a:lnTo>
                    <a:lnTo>
                      <a:pt x="35" y="182"/>
                    </a:lnTo>
                    <a:lnTo>
                      <a:pt x="32" y="182"/>
                    </a:lnTo>
                    <a:lnTo>
                      <a:pt x="30" y="182"/>
                    </a:lnTo>
                    <a:lnTo>
                      <a:pt x="28" y="182"/>
                    </a:lnTo>
                    <a:lnTo>
                      <a:pt x="28" y="180"/>
                    </a:lnTo>
                    <a:lnTo>
                      <a:pt x="27" y="178"/>
                    </a:lnTo>
                    <a:lnTo>
                      <a:pt x="27" y="177"/>
                    </a:lnTo>
                    <a:lnTo>
                      <a:pt x="25" y="176"/>
                    </a:lnTo>
                    <a:lnTo>
                      <a:pt x="24" y="173"/>
                    </a:lnTo>
                    <a:lnTo>
                      <a:pt x="23" y="172"/>
                    </a:lnTo>
                    <a:lnTo>
                      <a:pt x="21" y="172"/>
                    </a:lnTo>
                    <a:lnTo>
                      <a:pt x="20" y="171"/>
                    </a:lnTo>
                    <a:lnTo>
                      <a:pt x="21" y="166"/>
                    </a:lnTo>
                    <a:lnTo>
                      <a:pt x="22" y="162"/>
                    </a:lnTo>
                    <a:lnTo>
                      <a:pt x="23" y="158"/>
                    </a:lnTo>
                    <a:lnTo>
                      <a:pt x="24" y="153"/>
                    </a:lnTo>
                    <a:lnTo>
                      <a:pt x="24" y="149"/>
                    </a:lnTo>
                    <a:lnTo>
                      <a:pt x="24" y="145"/>
                    </a:lnTo>
                    <a:lnTo>
                      <a:pt x="24" y="141"/>
                    </a:lnTo>
                    <a:lnTo>
                      <a:pt x="22" y="135"/>
                    </a:lnTo>
                    <a:lnTo>
                      <a:pt x="24" y="133"/>
                    </a:lnTo>
                    <a:lnTo>
                      <a:pt x="20" y="129"/>
                    </a:lnTo>
                    <a:lnTo>
                      <a:pt x="19" y="131"/>
                    </a:lnTo>
                    <a:lnTo>
                      <a:pt x="19" y="132"/>
                    </a:lnTo>
                    <a:lnTo>
                      <a:pt x="18" y="133"/>
                    </a:lnTo>
                    <a:lnTo>
                      <a:pt x="17" y="134"/>
                    </a:lnTo>
                    <a:lnTo>
                      <a:pt x="14" y="135"/>
                    </a:lnTo>
                    <a:lnTo>
                      <a:pt x="13" y="135"/>
                    </a:lnTo>
                    <a:lnTo>
                      <a:pt x="11" y="135"/>
                    </a:lnTo>
                    <a:lnTo>
                      <a:pt x="10" y="135"/>
                    </a:lnTo>
                    <a:lnTo>
                      <a:pt x="8" y="132"/>
                    </a:lnTo>
                    <a:lnTo>
                      <a:pt x="8" y="130"/>
                    </a:lnTo>
                    <a:lnTo>
                      <a:pt x="8" y="127"/>
                    </a:lnTo>
                    <a:lnTo>
                      <a:pt x="8" y="125"/>
                    </a:lnTo>
                    <a:lnTo>
                      <a:pt x="10" y="120"/>
                    </a:lnTo>
                    <a:lnTo>
                      <a:pt x="12" y="114"/>
                    </a:lnTo>
                    <a:lnTo>
                      <a:pt x="16" y="109"/>
                    </a:lnTo>
                    <a:lnTo>
                      <a:pt x="17" y="105"/>
                    </a:lnTo>
                    <a:lnTo>
                      <a:pt x="17" y="102"/>
                    </a:lnTo>
                    <a:lnTo>
                      <a:pt x="16" y="99"/>
                    </a:lnTo>
                    <a:lnTo>
                      <a:pt x="13" y="97"/>
                    </a:lnTo>
                    <a:lnTo>
                      <a:pt x="11" y="95"/>
                    </a:lnTo>
                    <a:lnTo>
                      <a:pt x="12" y="92"/>
                    </a:lnTo>
                    <a:lnTo>
                      <a:pt x="14" y="89"/>
                    </a:lnTo>
                    <a:lnTo>
                      <a:pt x="17" y="86"/>
                    </a:lnTo>
                    <a:lnTo>
                      <a:pt x="18" y="82"/>
                    </a:lnTo>
                    <a:lnTo>
                      <a:pt x="20" y="79"/>
                    </a:lnTo>
                    <a:lnTo>
                      <a:pt x="20" y="77"/>
                    </a:lnTo>
                    <a:lnTo>
                      <a:pt x="21" y="74"/>
                    </a:lnTo>
                    <a:lnTo>
                      <a:pt x="20" y="71"/>
                    </a:lnTo>
                    <a:lnTo>
                      <a:pt x="19" y="73"/>
                    </a:lnTo>
                    <a:lnTo>
                      <a:pt x="17" y="75"/>
                    </a:lnTo>
                    <a:lnTo>
                      <a:pt x="14" y="77"/>
                    </a:lnTo>
                    <a:lnTo>
                      <a:pt x="12" y="79"/>
                    </a:lnTo>
                    <a:lnTo>
                      <a:pt x="10" y="80"/>
                    </a:lnTo>
                    <a:lnTo>
                      <a:pt x="8" y="80"/>
                    </a:lnTo>
                    <a:lnTo>
                      <a:pt x="6" y="79"/>
                    </a:lnTo>
                    <a:lnTo>
                      <a:pt x="4" y="77"/>
                    </a:lnTo>
                    <a:lnTo>
                      <a:pt x="5" y="75"/>
                    </a:lnTo>
                    <a:lnTo>
                      <a:pt x="5" y="74"/>
                    </a:lnTo>
                    <a:lnTo>
                      <a:pt x="6" y="72"/>
                    </a:lnTo>
                    <a:lnTo>
                      <a:pt x="6" y="70"/>
                    </a:lnTo>
                    <a:lnTo>
                      <a:pt x="7" y="69"/>
                    </a:lnTo>
                    <a:lnTo>
                      <a:pt x="7" y="67"/>
                    </a:lnTo>
                    <a:lnTo>
                      <a:pt x="7" y="65"/>
                    </a:lnTo>
                    <a:lnTo>
                      <a:pt x="8" y="62"/>
                    </a:lnTo>
                    <a:lnTo>
                      <a:pt x="5" y="62"/>
                    </a:lnTo>
                    <a:lnTo>
                      <a:pt x="3" y="62"/>
                    </a:lnTo>
                    <a:lnTo>
                      <a:pt x="2" y="60"/>
                    </a:lnTo>
                    <a:lnTo>
                      <a:pt x="1" y="58"/>
                    </a:lnTo>
                    <a:lnTo>
                      <a:pt x="0" y="56"/>
                    </a:lnTo>
                    <a:lnTo>
                      <a:pt x="0" y="54"/>
                    </a:lnTo>
                    <a:lnTo>
                      <a:pt x="0" y="51"/>
                    </a:lnTo>
                    <a:lnTo>
                      <a:pt x="2" y="49"/>
                    </a:lnTo>
                    <a:lnTo>
                      <a:pt x="3" y="48"/>
                    </a:lnTo>
                    <a:lnTo>
                      <a:pt x="3" y="47"/>
                    </a:lnTo>
                    <a:lnTo>
                      <a:pt x="4" y="45"/>
                    </a:lnTo>
                    <a:lnTo>
                      <a:pt x="4" y="44"/>
                    </a:lnTo>
                    <a:lnTo>
                      <a:pt x="5" y="43"/>
                    </a:lnTo>
                    <a:lnTo>
                      <a:pt x="6" y="42"/>
                    </a:lnTo>
                    <a:lnTo>
                      <a:pt x="6" y="41"/>
                    </a:lnTo>
                    <a:lnTo>
                      <a:pt x="8" y="40"/>
                    </a:lnTo>
                    <a:lnTo>
                      <a:pt x="4" y="38"/>
                    </a:lnTo>
                    <a:lnTo>
                      <a:pt x="1" y="36"/>
                    </a:lnTo>
                    <a:lnTo>
                      <a:pt x="1" y="33"/>
                    </a:lnTo>
                    <a:lnTo>
                      <a:pt x="2" y="30"/>
                    </a:lnTo>
                    <a:lnTo>
                      <a:pt x="3" y="25"/>
                    </a:lnTo>
                    <a:lnTo>
                      <a:pt x="5" y="22"/>
                    </a:lnTo>
                    <a:lnTo>
                      <a:pt x="7" y="19"/>
                    </a:lnTo>
                    <a:lnTo>
                      <a:pt x="10" y="16"/>
                    </a:lnTo>
                    <a:lnTo>
                      <a:pt x="11" y="14"/>
                    </a:lnTo>
                    <a:lnTo>
                      <a:pt x="11" y="17"/>
                    </a:lnTo>
                    <a:lnTo>
                      <a:pt x="10" y="19"/>
                    </a:lnTo>
                    <a:lnTo>
                      <a:pt x="8" y="21"/>
                    </a:lnTo>
                    <a:lnTo>
                      <a:pt x="7" y="23"/>
                    </a:lnTo>
                    <a:lnTo>
                      <a:pt x="6" y="25"/>
                    </a:lnTo>
                    <a:lnTo>
                      <a:pt x="6" y="29"/>
                    </a:lnTo>
                    <a:lnTo>
                      <a:pt x="7" y="31"/>
                    </a:lnTo>
                    <a:lnTo>
                      <a:pt x="10" y="33"/>
                    </a:lnTo>
                    <a:lnTo>
                      <a:pt x="14" y="30"/>
                    </a:lnTo>
                    <a:lnTo>
                      <a:pt x="19" y="25"/>
                    </a:lnTo>
                    <a:lnTo>
                      <a:pt x="23" y="21"/>
                    </a:lnTo>
                    <a:lnTo>
                      <a:pt x="26" y="17"/>
                    </a:lnTo>
                    <a:lnTo>
                      <a:pt x="28" y="13"/>
                    </a:lnTo>
                    <a:lnTo>
                      <a:pt x="31" y="7"/>
                    </a:lnTo>
                    <a:lnTo>
                      <a:pt x="35" y="3"/>
                    </a:lnTo>
                    <a:lnTo>
                      <a:pt x="38" y="0"/>
                    </a:lnTo>
                    <a:lnTo>
                      <a:pt x="35" y="5"/>
                    </a:lnTo>
                    <a:lnTo>
                      <a:pt x="30" y="11"/>
                    </a:lnTo>
                    <a:lnTo>
                      <a:pt x="26" y="16"/>
                    </a:lnTo>
                    <a:lnTo>
                      <a:pt x="23" y="21"/>
                    </a:lnTo>
                    <a:lnTo>
                      <a:pt x="20" y="26"/>
                    </a:lnTo>
                    <a:lnTo>
                      <a:pt x="19" y="33"/>
                    </a:lnTo>
                    <a:lnTo>
                      <a:pt x="19" y="35"/>
                    </a:lnTo>
                    <a:lnTo>
                      <a:pt x="19" y="38"/>
                    </a:lnTo>
                    <a:lnTo>
                      <a:pt x="20" y="41"/>
                    </a:lnTo>
                    <a:lnTo>
                      <a:pt x="22" y="4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6516360" y="5789880"/>
                <a:ext cx="5040" cy="6120"/>
              </a:xfrm>
              <a:custGeom>
                <a:avLst/>
                <a:gdLst/>
                <a:ahLst/>
                <a:rect l="l" t="t" r="r" b="b"/>
                <a:pathLst>
                  <a:path w="8" h="13">
                    <a:moveTo>
                      <a:pt x="8" y="0"/>
                    </a:moveTo>
                    <a:lnTo>
                      <a:pt x="0" y="13"/>
                    </a:lnTo>
                    <a:lnTo>
                      <a:pt x="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367" name=""/>
              <p:cNvSpPr/>
              <p:nvPr/>
            </p:nvSpPr>
            <p:spPr>
              <a:xfrm>
                <a:off x="6570360" y="5816880"/>
                <a:ext cx="122400" cy="21960"/>
              </a:xfrm>
              <a:custGeom>
                <a:avLst/>
                <a:gdLst/>
                <a:ahLst/>
                <a:rect l="l" t="t" r="r" b="b"/>
                <a:pathLst>
                  <a:path w="230" h="40">
                    <a:moveTo>
                      <a:pt x="226" y="16"/>
                    </a:moveTo>
                    <a:lnTo>
                      <a:pt x="230" y="20"/>
                    </a:lnTo>
                    <a:lnTo>
                      <a:pt x="227" y="21"/>
                    </a:lnTo>
                    <a:lnTo>
                      <a:pt x="224" y="20"/>
                    </a:lnTo>
                    <a:lnTo>
                      <a:pt x="222" y="19"/>
                    </a:lnTo>
                    <a:lnTo>
                      <a:pt x="219" y="18"/>
                    </a:lnTo>
                    <a:lnTo>
                      <a:pt x="217" y="17"/>
                    </a:lnTo>
                    <a:lnTo>
                      <a:pt x="215" y="16"/>
                    </a:lnTo>
                    <a:lnTo>
                      <a:pt x="213" y="17"/>
                    </a:lnTo>
                    <a:lnTo>
                      <a:pt x="210" y="18"/>
                    </a:lnTo>
                    <a:lnTo>
                      <a:pt x="211" y="21"/>
                    </a:lnTo>
                    <a:lnTo>
                      <a:pt x="213" y="23"/>
                    </a:lnTo>
                    <a:lnTo>
                      <a:pt x="215" y="24"/>
                    </a:lnTo>
                    <a:lnTo>
                      <a:pt x="217" y="26"/>
                    </a:lnTo>
                    <a:lnTo>
                      <a:pt x="221" y="27"/>
                    </a:lnTo>
                    <a:lnTo>
                      <a:pt x="224" y="28"/>
                    </a:lnTo>
                    <a:lnTo>
                      <a:pt x="226" y="31"/>
                    </a:lnTo>
                    <a:lnTo>
                      <a:pt x="228" y="33"/>
                    </a:lnTo>
                    <a:lnTo>
                      <a:pt x="224" y="28"/>
                    </a:lnTo>
                    <a:lnTo>
                      <a:pt x="217" y="25"/>
                    </a:lnTo>
                    <a:lnTo>
                      <a:pt x="211" y="22"/>
                    </a:lnTo>
                    <a:lnTo>
                      <a:pt x="204" y="20"/>
                    </a:lnTo>
                    <a:lnTo>
                      <a:pt x="196" y="19"/>
                    </a:lnTo>
                    <a:lnTo>
                      <a:pt x="189" y="17"/>
                    </a:lnTo>
                    <a:lnTo>
                      <a:pt x="180" y="16"/>
                    </a:lnTo>
                    <a:lnTo>
                      <a:pt x="174" y="14"/>
                    </a:lnTo>
                    <a:lnTo>
                      <a:pt x="168" y="18"/>
                    </a:lnTo>
                    <a:lnTo>
                      <a:pt x="148" y="17"/>
                    </a:lnTo>
                    <a:lnTo>
                      <a:pt x="128" y="17"/>
                    </a:lnTo>
                    <a:lnTo>
                      <a:pt x="108" y="19"/>
                    </a:lnTo>
                    <a:lnTo>
                      <a:pt x="89" y="21"/>
                    </a:lnTo>
                    <a:lnTo>
                      <a:pt x="70" y="24"/>
                    </a:lnTo>
                    <a:lnTo>
                      <a:pt x="52" y="28"/>
                    </a:lnTo>
                    <a:lnTo>
                      <a:pt x="34" y="34"/>
                    </a:lnTo>
                    <a:lnTo>
                      <a:pt x="16" y="40"/>
                    </a:lnTo>
                    <a:lnTo>
                      <a:pt x="14" y="40"/>
                    </a:lnTo>
                    <a:lnTo>
                      <a:pt x="12" y="40"/>
                    </a:lnTo>
                    <a:lnTo>
                      <a:pt x="10" y="40"/>
                    </a:lnTo>
                    <a:lnTo>
                      <a:pt x="8" y="40"/>
                    </a:lnTo>
                    <a:lnTo>
                      <a:pt x="6" y="40"/>
                    </a:lnTo>
                    <a:lnTo>
                      <a:pt x="4" y="40"/>
                    </a:lnTo>
                    <a:lnTo>
                      <a:pt x="1" y="39"/>
                    </a:lnTo>
                    <a:lnTo>
                      <a:pt x="0" y="38"/>
                    </a:lnTo>
                    <a:lnTo>
                      <a:pt x="6" y="38"/>
                    </a:lnTo>
                    <a:lnTo>
                      <a:pt x="11" y="37"/>
                    </a:lnTo>
                    <a:lnTo>
                      <a:pt x="16" y="36"/>
                    </a:lnTo>
                    <a:lnTo>
                      <a:pt x="23" y="33"/>
                    </a:lnTo>
                    <a:lnTo>
                      <a:pt x="28" y="29"/>
                    </a:lnTo>
                    <a:lnTo>
                      <a:pt x="33" y="26"/>
                    </a:lnTo>
                    <a:lnTo>
                      <a:pt x="39" y="22"/>
                    </a:lnTo>
                    <a:lnTo>
                      <a:pt x="43" y="18"/>
                    </a:lnTo>
                    <a:lnTo>
                      <a:pt x="45" y="18"/>
                    </a:lnTo>
                    <a:lnTo>
                      <a:pt x="48" y="18"/>
                    </a:lnTo>
                    <a:lnTo>
                      <a:pt x="50" y="17"/>
                    </a:lnTo>
                    <a:lnTo>
                      <a:pt x="53" y="15"/>
                    </a:lnTo>
                    <a:lnTo>
                      <a:pt x="57" y="15"/>
                    </a:lnTo>
                    <a:lnTo>
                      <a:pt x="59" y="15"/>
                    </a:lnTo>
                    <a:lnTo>
                      <a:pt x="61" y="16"/>
                    </a:lnTo>
                    <a:lnTo>
                      <a:pt x="63" y="20"/>
                    </a:lnTo>
                    <a:lnTo>
                      <a:pt x="65" y="20"/>
                    </a:lnTo>
                    <a:lnTo>
                      <a:pt x="68" y="19"/>
                    </a:lnTo>
                    <a:lnTo>
                      <a:pt x="70" y="19"/>
                    </a:lnTo>
                    <a:lnTo>
                      <a:pt x="72" y="19"/>
                    </a:lnTo>
                    <a:lnTo>
                      <a:pt x="74" y="18"/>
                    </a:lnTo>
                    <a:lnTo>
                      <a:pt x="77" y="17"/>
                    </a:lnTo>
                    <a:lnTo>
                      <a:pt x="79" y="16"/>
                    </a:lnTo>
                    <a:lnTo>
                      <a:pt x="81" y="14"/>
                    </a:lnTo>
                    <a:lnTo>
                      <a:pt x="74" y="8"/>
                    </a:lnTo>
                    <a:lnTo>
                      <a:pt x="81" y="8"/>
                    </a:lnTo>
                    <a:lnTo>
                      <a:pt x="87" y="8"/>
                    </a:lnTo>
                    <a:lnTo>
                      <a:pt x="95" y="8"/>
                    </a:lnTo>
                    <a:lnTo>
                      <a:pt x="102" y="8"/>
                    </a:lnTo>
                    <a:lnTo>
                      <a:pt x="109" y="8"/>
                    </a:lnTo>
                    <a:lnTo>
                      <a:pt x="117" y="7"/>
                    </a:lnTo>
                    <a:lnTo>
                      <a:pt x="124" y="7"/>
                    </a:lnTo>
                    <a:lnTo>
                      <a:pt x="132" y="6"/>
                    </a:lnTo>
                    <a:lnTo>
                      <a:pt x="133" y="4"/>
                    </a:lnTo>
                    <a:lnTo>
                      <a:pt x="134" y="3"/>
                    </a:lnTo>
                    <a:lnTo>
                      <a:pt x="136" y="2"/>
                    </a:lnTo>
                    <a:lnTo>
                      <a:pt x="138" y="2"/>
                    </a:lnTo>
                    <a:lnTo>
                      <a:pt x="143" y="3"/>
                    </a:lnTo>
                    <a:lnTo>
                      <a:pt x="150" y="4"/>
                    </a:lnTo>
                    <a:lnTo>
                      <a:pt x="156" y="5"/>
                    </a:lnTo>
                    <a:lnTo>
                      <a:pt x="161" y="6"/>
                    </a:lnTo>
                    <a:lnTo>
                      <a:pt x="163" y="5"/>
                    </a:lnTo>
                    <a:lnTo>
                      <a:pt x="165" y="4"/>
                    </a:lnTo>
                    <a:lnTo>
                      <a:pt x="168" y="2"/>
                    </a:lnTo>
                    <a:lnTo>
                      <a:pt x="170" y="0"/>
                    </a:lnTo>
                    <a:lnTo>
                      <a:pt x="177" y="2"/>
                    </a:lnTo>
                    <a:lnTo>
                      <a:pt x="183" y="4"/>
                    </a:lnTo>
                    <a:lnTo>
                      <a:pt x="191" y="6"/>
                    </a:lnTo>
                    <a:lnTo>
                      <a:pt x="197" y="9"/>
                    </a:lnTo>
                    <a:lnTo>
                      <a:pt x="204" y="11"/>
                    </a:lnTo>
                    <a:lnTo>
                      <a:pt x="211" y="14"/>
                    </a:lnTo>
                    <a:lnTo>
                      <a:pt x="218" y="16"/>
                    </a:lnTo>
                    <a:lnTo>
                      <a:pt x="226" y="1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368" name=""/>
              <p:cNvSpPr/>
              <p:nvPr/>
            </p:nvSpPr>
            <p:spPr>
              <a:xfrm>
                <a:off x="6543360" y="5819760"/>
                <a:ext cx="3240" cy="6480"/>
              </a:xfrm>
              <a:custGeom>
                <a:avLst/>
                <a:gdLst/>
                <a:ahLst/>
                <a:rect l="l" t="t" r="r" b="b"/>
                <a:pathLst>
                  <a:path w="8" h="12">
                    <a:moveTo>
                      <a:pt x="8" y="0"/>
                    </a:moveTo>
                    <a:lnTo>
                      <a:pt x="0" y="12"/>
                    </a:lnTo>
                    <a:lnTo>
                      <a:pt x="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69" name=""/>
              <p:cNvSpPr/>
              <p:nvPr/>
            </p:nvSpPr>
            <p:spPr>
              <a:xfrm>
                <a:off x="6686280" y="5835960"/>
                <a:ext cx="36720" cy="15840"/>
              </a:xfrm>
              <a:custGeom>
                <a:avLst/>
                <a:gdLst/>
                <a:ahLst/>
                <a:rect l="l" t="t" r="r" b="b"/>
                <a:pathLst>
                  <a:path w="70" h="28">
                    <a:moveTo>
                      <a:pt x="70" y="22"/>
                    </a:moveTo>
                    <a:lnTo>
                      <a:pt x="70" y="28"/>
                    </a:lnTo>
                    <a:lnTo>
                      <a:pt x="0" y="0"/>
                    </a:lnTo>
                    <a:lnTo>
                      <a:pt x="9" y="2"/>
                    </a:lnTo>
                    <a:lnTo>
                      <a:pt x="18" y="5"/>
                    </a:lnTo>
                    <a:lnTo>
                      <a:pt x="27" y="9"/>
                    </a:lnTo>
                    <a:lnTo>
                      <a:pt x="35" y="14"/>
                    </a:lnTo>
                    <a:lnTo>
                      <a:pt x="44" y="17"/>
                    </a:lnTo>
                    <a:lnTo>
                      <a:pt x="52" y="20"/>
                    </a:lnTo>
                    <a:lnTo>
                      <a:pt x="62" y="22"/>
                    </a:lnTo>
                    <a:lnTo>
                      <a:pt x="70"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70" name=""/>
              <p:cNvSpPr/>
              <p:nvPr/>
            </p:nvSpPr>
            <p:spPr>
              <a:xfrm>
                <a:off x="6460920" y="5962680"/>
                <a:ext cx="6480" cy="19080"/>
              </a:xfrm>
              <a:custGeom>
                <a:avLst/>
                <a:gdLst/>
                <a:ahLst/>
                <a:rect l="l" t="t" r="r" b="b"/>
                <a:pathLst>
                  <a:path w="13" h="38">
                    <a:moveTo>
                      <a:pt x="13" y="4"/>
                    </a:moveTo>
                    <a:lnTo>
                      <a:pt x="0" y="38"/>
                    </a:lnTo>
                    <a:lnTo>
                      <a:pt x="0" y="34"/>
                    </a:lnTo>
                    <a:lnTo>
                      <a:pt x="0" y="29"/>
                    </a:lnTo>
                    <a:lnTo>
                      <a:pt x="0" y="24"/>
                    </a:lnTo>
                    <a:lnTo>
                      <a:pt x="2" y="19"/>
                    </a:lnTo>
                    <a:lnTo>
                      <a:pt x="3" y="14"/>
                    </a:lnTo>
                    <a:lnTo>
                      <a:pt x="5" y="8"/>
                    </a:lnTo>
                    <a:lnTo>
                      <a:pt x="6" y="4"/>
                    </a:lnTo>
                    <a:lnTo>
                      <a:pt x="8" y="0"/>
                    </a:lnTo>
                    <a:lnTo>
                      <a:pt x="13"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71" name=""/>
              <p:cNvSpPr/>
              <p:nvPr/>
            </p:nvSpPr>
            <p:spPr>
              <a:xfrm>
                <a:off x="7211880" y="5994360"/>
                <a:ext cx="6120" cy="6480"/>
              </a:xfrm>
              <a:custGeom>
                <a:avLst/>
                <a:gdLst/>
                <a:ahLst/>
                <a:rect l="l" t="t" r="r" b="b"/>
                <a:pathLst>
                  <a:path w="10" h="11">
                    <a:moveTo>
                      <a:pt x="10" y="0"/>
                    </a:moveTo>
                    <a:lnTo>
                      <a:pt x="0" y="11"/>
                    </a:lnTo>
                    <a:lnTo>
                      <a:pt x="1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372" name=""/>
              <p:cNvSpPr/>
              <p:nvPr/>
            </p:nvSpPr>
            <p:spPr>
              <a:xfrm>
                <a:off x="7259400" y="6080400"/>
                <a:ext cx="12600" cy="19080"/>
              </a:xfrm>
              <a:custGeom>
                <a:avLst/>
                <a:gdLst/>
                <a:ahLst/>
                <a:rect l="l" t="t" r="r" b="b"/>
                <a:pathLst>
                  <a:path w="22" h="37">
                    <a:moveTo>
                      <a:pt x="22" y="5"/>
                    </a:moveTo>
                    <a:lnTo>
                      <a:pt x="22" y="9"/>
                    </a:lnTo>
                    <a:lnTo>
                      <a:pt x="21" y="15"/>
                    </a:lnTo>
                    <a:lnTo>
                      <a:pt x="20" y="19"/>
                    </a:lnTo>
                    <a:lnTo>
                      <a:pt x="18" y="23"/>
                    </a:lnTo>
                    <a:lnTo>
                      <a:pt x="16" y="27"/>
                    </a:lnTo>
                    <a:lnTo>
                      <a:pt x="13" y="31"/>
                    </a:lnTo>
                    <a:lnTo>
                      <a:pt x="9" y="34"/>
                    </a:lnTo>
                    <a:lnTo>
                      <a:pt x="6" y="37"/>
                    </a:lnTo>
                    <a:lnTo>
                      <a:pt x="2" y="37"/>
                    </a:lnTo>
                    <a:lnTo>
                      <a:pt x="0" y="32"/>
                    </a:lnTo>
                    <a:lnTo>
                      <a:pt x="0" y="26"/>
                    </a:lnTo>
                    <a:lnTo>
                      <a:pt x="1" y="22"/>
                    </a:lnTo>
                    <a:lnTo>
                      <a:pt x="3" y="18"/>
                    </a:lnTo>
                    <a:lnTo>
                      <a:pt x="5" y="14"/>
                    </a:lnTo>
                    <a:lnTo>
                      <a:pt x="8" y="9"/>
                    </a:lnTo>
                    <a:lnTo>
                      <a:pt x="12" y="5"/>
                    </a:lnTo>
                    <a:lnTo>
                      <a:pt x="15" y="1"/>
                    </a:lnTo>
                    <a:lnTo>
                      <a:pt x="16" y="0"/>
                    </a:lnTo>
                    <a:lnTo>
                      <a:pt x="17" y="0"/>
                    </a:lnTo>
                    <a:lnTo>
                      <a:pt x="18" y="1"/>
                    </a:lnTo>
                    <a:lnTo>
                      <a:pt x="19" y="1"/>
                    </a:lnTo>
                    <a:lnTo>
                      <a:pt x="20" y="2"/>
                    </a:lnTo>
                    <a:lnTo>
                      <a:pt x="21" y="3"/>
                    </a:lnTo>
                    <a:lnTo>
                      <a:pt x="21" y="4"/>
                    </a:lnTo>
                    <a:lnTo>
                      <a:pt x="22" y="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73" name=""/>
              <p:cNvSpPr/>
              <p:nvPr/>
            </p:nvSpPr>
            <p:spPr>
              <a:xfrm>
                <a:off x="7211880" y="6142320"/>
                <a:ext cx="102960" cy="118800"/>
              </a:xfrm>
              <a:custGeom>
                <a:avLst/>
                <a:gdLst/>
                <a:ahLst/>
                <a:rect l="l" t="t" r="r" b="b"/>
                <a:pathLst>
                  <a:path w="195" h="225">
                    <a:moveTo>
                      <a:pt x="39" y="65"/>
                    </a:moveTo>
                    <a:lnTo>
                      <a:pt x="49" y="59"/>
                    </a:lnTo>
                    <a:lnTo>
                      <a:pt x="56" y="52"/>
                    </a:lnTo>
                    <a:lnTo>
                      <a:pt x="65" y="45"/>
                    </a:lnTo>
                    <a:lnTo>
                      <a:pt x="72" y="37"/>
                    </a:lnTo>
                    <a:lnTo>
                      <a:pt x="79" y="30"/>
                    </a:lnTo>
                    <a:lnTo>
                      <a:pt x="87" y="23"/>
                    </a:lnTo>
                    <a:lnTo>
                      <a:pt x="93" y="15"/>
                    </a:lnTo>
                    <a:lnTo>
                      <a:pt x="101" y="7"/>
                    </a:lnTo>
                    <a:lnTo>
                      <a:pt x="101" y="13"/>
                    </a:lnTo>
                    <a:lnTo>
                      <a:pt x="92" y="20"/>
                    </a:lnTo>
                    <a:lnTo>
                      <a:pt x="84" y="29"/>
                    </a:lnTo>
                    <a:lnTo>
                      <a:pt x="75" y="37"/>
                    </a:lnTo>
                    <a:lnTo>
                      <a:pt x="67" y="47"/>
                    </a:lnTo>
                    <a:lnTo>
                      <a:pt x="59" y="55"/>
                    </a:lnTo>
                    <a:lnTo>
                      <a:pt x="52" y="65"/>
                    </a:lnTo>
                    <a:lnTo>
                      <a:pt x="44" y="73"/>
                    </a:lnTo>
                    <a:lnTo>
                      <a:pt x="38" y="83"/>
                    </a:lnTo>
                    <a:lnTo>
                      <a:pt x="39" y="85"/>
                    </a:lnTo>
                    <a:lnTo>
                      <a:pt x="98" y="25"/>
                    </a:lnTo>
                    <a:lnTo>
                      <a:pt x="91" y="34"/>
                    </a:lnTo>
                    <a:lnTo>
                      <a:pt x="85" y="43"/>
                    </a:lnTo>
                    <a:lnTo>
                      <a:pt x="77" y="53"/>
                    </a:lnTo>
                    <a:lnTo>
                      <a:pt x="71" y="63"/>
                    </a:lnTo>
                    <a:lnTo>
                      <a:pt x="63" y="73"/>
                    </a:lnTo>
                    <a:lnTo>
                      <a:pt x="56" y="83"/>
                    </a:lnTo>
                    <a:lnTo>
                      <a:pt x="49" y="92"/>
                    </a:lnTo>
                    <a:lnTo>
                      <a:pt x="39" y="102"/>
                    </a:lnTo>
                    <a:lnTo>
                      <a:pt x="44" y="103"/>
                    </a:lnTo>
                    <a:lnTo>
                      <a:pt x="48" y="102"/>
                    </a:lnTo>
                    <a:lnTo>
                      <a:pt x="50" y="100"/>
                    </a:lnTo>
                    <a:lnTo>
                      <a:pt x="53" y="97"/>
                    </a:lnTo>
                    <a:lnTo>
                      <a:pt x="55" y="92"/>
                    </a:lnTo>
                    <a:lnTo>
                      <a:pt x="57" y="89"/>
                    </a:lnTo>
                    <a:lnTo>
                      <a:pt x="60" y="86"/>
                    </a:lnTo>
                    <a:lnTo>
                      <a:pt x="63" y="83"/>
                    </a:lnTo>
                    <a:lnTo>
                      <a:pt x="71" y="78"/>
                    </a:lnTo>
                    <a:lnTo>
                      <a:pt x="78" y="71"/>
                    </a:lnTo>
                    <a:lnTo>
                      <a:pt x="85" y="65"/>
                    </a:lnTo>
                    <a:lnTo>
                      <a:pt x="90" y="60"/>
                    </a:lnTo>
                    <a:lnTo>
                      <a:pt x="96" y="53"/>
                    </a:lnTo>
                    <a:lnTo>
                      <a:pt x="103" y="47"/>
                    </a:lnTo>
                    <a:lnTo>
                      <a:pt x="108" y="41"/>
                    </a:lnTo>
                    <a:lnTo>
                      <a:pt x="114" y="33"/>
                    </a:lnTo>
                    <a:lnTo>
                      <a:pt x="106" y="46"/>
                    </a:lnTo>
                    <a:lnTo>
                      <a:pt x="97" y="57"/>
                    </a:lnTo>
                    <a:lnTo>
                      <a:pt x="89" y="68"/>
                    </a:lnTo>
                    <a:lnTo>
                      <a:pt x="79" y="79"/>
                    </a:lnTo>
                    <a:lnTo>
                      <a:pt x="71" y="88"/>
                    </a:lnTo>
                    <a:lnTo>
                      <a:pt x="62" y="99"/>
                    </a:lnTo>
                    <a:lnTo>
                      <a:pt x="53" y="110"/>
                    </a:lnTo>
                    <a:lnTo>
                      <a:pt x="43" y="122"/>
                    </a:lnTo>
                    <a:lnTo>
                      <a:pt x="45" y="124"/>
                    </a:lnTo>
                    <a:lnTo>
                      <a:pt x="55" y="116"/>
                    </a:lnTo>
                    <a:lnTo>
                      <a:pt x="63" y="108"/>
                    </a:lnTo>
                    <a:lnTo>
                      <a:pt x="71" y="100"/>
                    </a:lnTo>
                    <a:lnTo>
                      <a:pt x="78" y="92"/>
                    </a:lnTo>
                    <a:lnTo>
                      <a:pt x="86" y="84"/>
                    </a:lnTo>
                    <a:lnTo>
                      <a:pt x="92" y="77"/>
                    </a:lnTo>
                    <a:lnTo>
                      <a:pt x="99" y="68"/>
                    </a:lnTo>
                    <a:lnTo>
                      <a:pt x="106" y="59"/>
                    </a:lnTo>
                    <a:lnTo>
                      <a:pt x="106" y="62"/>
                    </a:lnTo>
                    <a:lnTo>
                      <a:pt x="104" y="66"/>
                    </a:lnTo>
                    <a:lnTo>
                      <a:pt x="101" y="69"/>
                    </a:lnTo>
                    <a:lnTo>
                      <a:pt x="97" y="72"/>
                    </a:lnTo>
                    <a:lnTo>
                      <a:pt x="95" y="77"/>
                    </a:lnTo>
                    <a:lnTo>
                      <a:pt x="93" y="81"/>
                    </a:lnTo>
                    <a:lnTo>
                      <a:pt x="93" y="85"/>
                    </a:lnTo>
                    <a:lnTo>
                      <a:pt x="94" y="89"/>
                    </a:lnTo>
                    <a:lnTo>
                      <a:pt x="88" y="96"/>
                    </a:lnTo>
                    <a:lnTo>
                      <a:pt x="81" y="102"/>
                    </a:lnTo>
                    <a:lnTo>
                      <a:pt x="75" y="109"/>
                    </a:lnTo>
                    <a:lnTo>
                      <a:pt x="69" y="116"/>
                    </a:lnTo>
                    <a:lnTo>
                      <a:pt x="62" y="123"/>
                    </a:lnTo>
                    <a:lnTo>
                      <a:pt x="57" y="129"/>
                    </a:lnTo>
                    <a:lnTo>
                      <a:pt x="52" y="135"/>
                    </a:lnTo>
                    <a:lnTo>
                      <a:pt x="48" y="140"/>
                    </a:lnTo>
                    <a:lnTo>
                      <a:pt x="52" y="144"/>
                    </a:lnTo>
                    <a:lnTo>
                      <a:pt x="58" y="137"/>
                    </a:lnTo>
                    <a:lnTo>
                      <a:pt x="65" y="130"/>
                    </a:lnTo>
                    <a:lnTo>
                      <a:pt x="70" y="124"/>
                    </a:lnTo>
                    <a:lnTo>
                      <a:pt x="75" y="118"/>
                    </a:lnTo>
                    <a:lnTo>
                      <a:pt x="80" y="111"/>
                    </a:lnTo>
                    <a:lnTo>
                      <a:pt x="86" y="105"/>
                    </a:lnTo>
                    <a:lnTo>
                      <a:pt x="93" y="99"/>
                    </a:lnTo>
                    <a:lnTo>
                      <a:pt x="101" y="91"/>
                    </a:lnTo>
                    <a:lnTo>
                      <a:pt x="101" y="94"/>
                    </a:lnTo>
                    <a:lnTo>
                      <a:pt x="101" y="97"/>
                    </a:lnTo>
                    <a:lnTo>
                      <a:pt x="103" y="98"/>
                    </a:lnTo>
                    <a:lnTo>
                      <a:pt x="105" y="98"/>
                    </a:lnTo>
                    <a:lnTo>
                      <a:pt x="107" y="98"/>
                    </a:lnTo>
                    <a:lnTo>
                      <a:pt x="110" y="98"/>
                    </a:lnTo>
                    <a:lnTo>
                      <a:pt x="112" y="99"/>
                    </a:lnTo>
                    <a:lnTo>
                      <a:pt x="114" y="100"/>
                    </a:lnTo>
                    <a:lnTo>
                      <a:pt x="115" y="102"/>
                    </a:lnTo>
                    <a:lnTo>
                      <a:pt x="115" y="104"/>
                    </a:lnTo>
                    <a:lnTo>
                      <a:pt x="114" y="106"/>
                    </a:lnTo>
                    <a:lnTo>
                      <a:pt x="112" y="107"/>
                    </a:lnTo>
                    <a:lnTo>
                      <a:pt x="111" y="109"/>
                    </a:lnTo>
                    <a:lnTo>
                      <a:pt x="109" y="111"/>
                    </a:lnTo>
                    <a:lnTo>
                      <a:pt x="107" y="114"/>
                    </a:lnTo>
                    <a:lnTo>
                      <a:pt x="106" y="116"/>
                    </a:lnTo>
                    <a:lnTo>
                      <a:pt x="109" y="118"/>
                    </a:lnTo>
                    <a:lnTo>
                      <a:pt x="130" y="98"/>
                    </a:lnTo>
                    <a:lnTo>
                      <a:pt x="126" y="107"/>
                    </a:lnTo>
                    <a:lnTo>
                      <a:pt x="121" y="116"/>
                    </a:lnTo>
                    <a:lnTo>
                      <a:pt x="114" y="124"/>
                    </a:lnTo>
                    <a:lnTo>
                      <a:pt x="107" y="133"/>
                    </a:lnTo>
                    <a:lnTo>
                      <a:pt x="101" y="140"/>
                    </a:lnTo>
                    <a:lnTo>
                      <a:pt x="92" y="148"/>
                    </a:lnTo>
                    <a:lnTo>
                      <a:pt x="85" y="156"/>
                    </a:lnTo>
                    <a:lnTo>
                      <a:pt x="76" y="164"/>
                    </a:lnTo>
                    <a:lnTo>
                      <a:pt x="76" y="165"/>
                    </a:lnTo>
                    <a:lnTo>
                      <a:pt x="76" y="167"/>
                    </a:lnTo>
                    <a:lnTo>
                      <a:pt x="76" y="169"/>
                    </a:lnTo>
                    <a:lnTo>
                      <a:pt x="76" y="171"/>
                    </a:lnTo>
                    <a:lnTo>
                      <a:pt x="76" y="172"/>
                    </a:lnTo>
                    <a:lnTo>
                      <a:pt x="76" y="174"/>
                    </a:lnTo>
                    <a:lnTo>
                      <a:pt x="77" y="175"/>
                    </a:lnTo>
                    <a:lnTo>
                      <a:pt x="78" y="176"/>
                    </a:lnTo>
                    <a:lnTo>
                      <a:pt x="87" y="167"/>
                    </a:lnTo>
                    <a:lnTo>
                      <a:pt x="96" y="158"/>
                    </a:lnTo>
                    <a:lnTo>
                      <a:pt x="106" y="148"/>
                    </a:lnTo>
                    <a:lnTo>
                      <a:pt x="116" y="139"/>
                    </a:lnTo>
                    <a:lnTo>
                      <a:pt x="126" y="129"/>
                    </a:lnTo>
                    <a:lnTo>
                      <a:pt x="136" y="120"/>
                    </a:lnTo>
                    <a:lnTo>
                      <a:pt x="147" y="111"/>
                    </a:lnTo>
                    <a:lnTo>
                      <a:pt x="157" y="102"/>
                    </a:lnTo>
                    <a:lnTo>
                      <a:pt x="151" y="109"/>
                    </a:lnTo>
                    <a:lnTo>
                      <a:pt x="146" y="117"/>
                    </a:lnTo>
                    <a:lnTo>
                      <a:pt x="141" y="124"/>
                    </a:lnTo>
                    <a:lnTo>
                      <a:pt x="134" y="130"/>
                    </a:lnTo>
                    <a:lnTo>
                      <a:pt x="129" y="138"/>
                    </a:lnTo>
                    <a:lnTo>
                      <a:pt x="123" y="145"/>
                    </a:lnTo>
                    <a:lnTo>
                      <a:pt x="115" y="153"/>
                    </a:lnTo>
                    <a:lnTo>
                      <a:pt x="109" y="160"/>
                    </a:lnTo>
                    <a:lnTo>
                      <a:pt x="116" y="157"/>
                    </a:lnTo>
                    <a:lnTo>
                      <a:pt x="125" y="153"/>
                    </a:lnTo>
                    <a:lnTo>
                      <a:pt x="131" y="147"/>
                    </a:lnTo>
                    <a:lnTo>
                      <a:pt x="139" y="141"/>
                    </a:lnTo>
                    <a:lnTo>
                      <a:pt x="146" y="135"/>
                    </a:lnTo>
                    <a:lnTo>
                      <a:pt x="152" y="128"/>
                    </a:lnTo>
                    <a:lnTo>
                      <a:pt x="160" y="122"/>
                    </a:lnTo>
                    <a:lnTo>
                      <a:pt x="167" y="116"/>
                    </a:lnTo>
                    <a:lnTo>
                      <a:pt x="167" y="114"/>
                    </a:lnTo>
                    <a:lnTo>
                      <a:pt x="170" y="114"/>
                    </a:lnTo>
                    <a:lnTo>
                      <a:pt x="169" y="119"/>
                    </a:lnTo>
                    <a:lnTo>
                      <a:pt x="166" y="124"/>
                    </a:lnTo>
                    <a:lnTo>
                      <a:pt x="163" y="128"/>
                    </a:lnTo>
                    <a:lnTo>
                      <a:pt x="160" y="134"/>
                    </a:lnTo>
                    <a:lnTo>
                      <a:pt x="151" y="141"/>
                    </a:lnTo>
                    <a:lnTo>
                      <a:pt x="143" y="148"/>
                    </a:lnTo>
                    <a:lnTo>
                      <a:pt x="133" y="155"/>
                    </a:lnTo>
                    <a:lnTo>
                      <a:pt x="126" y="163"/>
                    </a:lnTo>
                    <a:lnTo>
                      <a:pt x="123" y="167"/>
                    </a:lnTo>
                    <a:lnTo>
                      <a:pt x="121" y="172"/>
                    </a:lnTo>
                    <a:lnTo>
                      <a:pt x="120" y="177"/>
                    </a:lnTo>
                    <a:lnTo>
                      <a:pt x="118" y="182"/>
                    </a:lnTo>
                    <a:lnTo>
                      <a:pt x="189" y="122"/>
                    </a:lnTo>
                    <a:lnTo>
                      <a:pt x="186" y="127"/>
                    </a:lnTo>
                    <a:lnTo>
                      <a:pt x="182" y="134"/>
                    </a:lnTo>
                    <a:lnTo>
                      <a:pt x="178" y="139"/>
                    </a:lnTo>
                    <a:lnTo>
                      <a:pt x="174" y="144"/>
                    </a:lnTo>
                    <a:lnTo>
                      <a:pt x="163" y="154"/>
                    </a:lnTo>
                    <a:lnTo>
                      <a:pt x="152" y="162"/>
                    </a:lnTo>
                    <a:lnTo>
                      <a:pt x="141" y="172"/>
                    </a:lnTo>
                    <a:lnTo>
                      <a:pt x="130" y="180"/>
                    </a:lnTo>
                    <a:lnTo>
                      <a:pt x="121" y="191"/>
                    </a:lnTo>
                    <a:lnTo>
                      <a:pt x="112" y="202"/>
                    </a:lnTo>
                    <a:lnTo>
                      <a:pt x="114" y="204"/>
                    </a:lnTo>
                    <a:lnTo>
                      <a:pt x="125" y="197"/>
                    </a:lnTo>
                    <a:lnTo>
                      <a:pt x="134" y="189"/>
                    </a:lnTo>
                    <a:lnTo>
                      <a:pt x="145" y="181"/>
                    </a:lnTo>
                    <a:lnTo>
                      <a:pt x="156" y="173"/>
                    </a:lnTo>
                    <a:lnTo>
                      <a:pt x="165" y="165"/>
                    </a:lnTo>
                    <a:lnTo>
                      <a:pt x="176" y="157"/>
                    </a:lnTo>
                    <a:lnTo>
                      <a:pt x="185" y="149"/>
                    </a:lnTo>
                    <a:lnTo>
                      <a:pt x="195" y="142"/>
                    </a:lnTo>
                    <a:lnTo>
                      <a:pt x="194" y="145"/>
                    </a:lnTo>
                    <a:lnTo>
                      <a:pt x="193" y="148"/>
                    </a:lnTo>
                    <a:lnTo>
                      <a:pt x="189" y="151"/>
                    </a:lnTo>
                    <a:lnTo>
                      <a:pt x="187" y="154"/>
                    </a:lnTo>
                    <a:lnTo>
                      <a:pt x="184" y="155"/>
                    </a:lnTo>
                    <a:lnTo>
                      <a:pt x="181" y="157"/>
                    </a:lnTo>
                    <a:lnTo>
                      <a:pt x="179" y="160"/>
                    </a:lnTo>
                    <a:lnTo>
                      <a:pt x="177" y="162"/>
                    </a:lnTo>
                    <a:lnTo>
                      <a:pt x="166" y="170"/>
                    </a:lnTo>
                    <a:lnTo>
                      <a:pt x="158" y="178"/>
                    </a:lnTo>
                    <a:lnTo>
                      <a:pt x="148" y="187"/>
                    </a:lnTo>
                    <a:lnTo>
                      <a:pt x="140" y="196"/>
                    </a:lnTo>
                    <a:lnTo>
                      <a:pt x="131" y="204"/>
                    </a:lnTo>
                    <a:lnTo>
                      <a:pt x="122" y="212"/>
                    </a:lnTo>
                    <a:lnTo>
                      <a:pt x="116" y="216"/>
                    </a:lnTo>
                    <a:lnTo>
                      <a:pt x="111" y="219"/>
                    </a:lnTo>
                    <a:lnTo>
                      <a:pt x="105" y="222"/>
                    </a:lnTo>
                    <a:lnTo>
                      <a:pt x="98" y="225"/>
                    </a:lnTo>
                    <a:lnTo>
                      <a:pt x="97" y="222"/>
                    </a:lnTo>
                    <a:lnTo>
                      <a:pt x="98" y="221"/>
                    </a:lnTo>
                    <a:lnTo>
                      <a:pt x="98" y="220"/>
                    </a:lnTo>
                    <a:lnTo>
                      <a:pt x="99" y="219"/>
                    </a:lnTo>
                    <a:lnTo>
                      <a:pt x="101" y="218"/>
                    </a:lnTo>
                    <a:lnTo>
                      <a:pt x="101" y="217"/>
                    </a:lnTo>
                    <a:lnTo>
                      <a:pt x="101" y="216"/>
                    </a:lnTo>
                    <a:lnTo>
                      <a:pt x="98" y="215"/>
                    </a:lnTo>
                    <a:lnTo>
                      <a:pt x="96" y="216"/>
                    </a:lnTo>
                    <a:lnTo>
                      <a:pt x="95" y="217"/>
                    </a:lnTo>
                    <a:lnTo>
                      <a:pt x="93" y="217"/>
                    </a:lnTo>
                    <a:lnTo>
                      <a:pt x="92" y="217"/>
                    </a:lnTo>
                    <a:lnTo>
                      <a:pt x="90" y="218"/>
                    </a:lnTo>
                    <a:lnTo>
                      <a:pt x="88" y="217"/>
                    </a:lnTo>
                    <a:lnTo>
                      <a:pt x="86" y="217"/>
                    </a:lnTo>
                    <a:lnTo>
                      <a:pt x="85" y="216"/>
                    </a:lnTo>
                    <a:lnTo>
                      <a:pt x="88" y="210"/>
                    </a:lnTo>
                    <a:lnTo>
                      <a:pt x="92" y="204"/>
                    </a:lnTo>
                    <a:lnTo>
                      <a:pt x="97" y="200"/>
                    </a:lnTo>
                    <a:lnTo>
                      <a:pt x="103" y="195"/>
                    </a:lnTo>
                    <a:lnTo>
                      <a:pt x="107" y="190"/>
                    </a:lnTo>
                    <a:lnTo>
                      <a:pt x="111" y="185"/>
                    </a:lnTo>
                    <a:lnTo>
                      <a:pt x="112" y="182"/>
                    </a:lnTo>
                    <a:lnTo>
                      <a:pt x="112" y="179"/>
                    </a:lnTo>
                    <a:lnTo>
                      <a:pt x="113" y="176"/>
                    </a:lnTo>
                    <a:lnTo>
                      <a:pt x="112" y="173"/>
                    </a:lnTo>
                    <a:lnTo>
                      <a:pt x="108" y="176"/>
                    </a:lnTo>
                    <a:lnTo>
                      <a:pt x="104" y="180"/>
                    </a:lnTo>
                    <a:lnTo>
                      <a:pt x="101" y="184"/>
                    </a:lnTo>
                    <a:lnTo>
                      <a:pt x="96" y="190"/>
                    </a:lnTo>
                    <a:lnTo>
                      <a:pt x="92" y="194"/>
                    </a:lnTo>
                    <a:lnTo>
                      <a:pt x="88" y="198"/>
                    </a:lnTo>
                    <a:lnTo>
                      <a:pt x="83" y="201"/>
                    </a:lnTo>
                    <a:lnTo>
                      <a:pt x="76" y="202"/>
                    </a:lnTo>
                    <a:lnTo>
                      <a:pt x="72" y="198"/>
                    </a:lnTo>
                    <a:lnTo>
                      <a:pt x="74" y="196"/>
                    </a:lnTo>
                    <a:lnTo>
                      <a:pt x="73" y="195"/>
                    </a:lnTo>
                    <a:lnTo>
                      <a:pt x="72" y="193"/>
                    </a:lnTo>
                    <a:lnTo>
                      <a:pt x="71" y="192"/>
                    </a:lnTo>
                    <a:lnTo>
                      <a:pt x="70" y="191"/>
                    </a:lnTo>
                    <a:lnTo>
                      <a:pt x="69" y="190"/>
                    </a:lnTo>
                    <a:lnTo>
                      <a:pt x="68" y="188"/>
                    </a:lnTo>
                    <a:lnTo>
                      <a:pt x="66" y="187"/>
                    </a:lnTo>
                    <a:lnTo>
                      <a:pt x="63" y="184"/>
                    </a:lnTo>
                    <a:lnTo>
                      <a:pt x="61" y="188"/>
                    </a:lnTo>
                    <a:lnTo>
                      <a:pt x="58" y="191"/>
                    </a:lnTo>
                    <a:lnTo>
                      <a:pt x="56" y="192"/>
                    </a:lnTo>
                    <a:lnTo>
                      <a:pt x="53" y="192"/>
                    </a:lnTo>
                    <a:lnTo>
                      <a:pt x="49" y="190"/>
                    </a:lnTo>
                    <a:lnTo>
                      <a:pt x="44" y="185"/>
                    </a:lnTo>
                    <a:lnTo>
                      <a:pt x="40" y="181"/>
                    </a:lnTo>
                    <a:lnTo>
                      <a:pt x="36" y="176"/>
                    </a:lnTo>
                    <a:lnTo>
                      <a:pt x="33" y="175"/>
                    </a:lnTo>
                    <a:lnTo>
                      <a:pt x="31" y="174"/>
                    </a:lnTo>
                    <a:lnTo>
                      <a:pt x="27" y="174"/>
                    </a:lnTo>
                    <a:lnTo>
                      <a:pt x="23" y="174"/>
                    </a:lnTo>
                    <a:lnTo>
                      <a:pt x="18" y="170"/>
                    </a:lnTo>
                    <a:lnTo>
                      <a:pt x="13" y="164"/>
                    </a:lnTo>
                    <a:lnTo>
                      <a:pt x="10" y="159"/>
                    </a:lnTo>
                    <a:lnTo>
                      <a:pt x="6" y="153"/>
                    </a:lnTo>
                    <a:lnTo>
                      <a:pt x="4" y="146"/>
                    </a:lnTo>
                    <a:lnTo>
                      <a:pt x="2" y="140"/>
                    </a:lnTo>
                    <a:lnTo>
                      <a:pt x="1" y="133"/>
                    </a:lnTo>
                    <a:lnTo>
                      <a:pt x="0" y="125"/>
                    </a:lnTo>
                    <a:lnTo>
                      <a:pt x="0" y="114"/>
                    </a:lnTo>
                    <a:lnTo>
                      <a:pt x="1" y="103"/>
                    </a:lnTo>
                    <a:lnTo>
                      <a:pt x="4" y="91"/>
                    </a:lnTo>
                    <a:lnTo>
                      <a:pt x="8" y="82"/>
                    </a:lnTo>
                    <a:lnTo>
                      <a:pt x="14" y="72"/>
                    </a:lnTo>
                    <a:lnTo>
                      <a:pt x="20" y="63"/>
                    </a:lnTo>
                    <a:lnTo>
                      <a:pt x="26" y="53"/>
                    </a:lnTo>
                    <a:lnTo>
                      <a:pt x="34" y="45"/>
                    </a:lnTo>
                    <a:lnTo>
                      <a:pt x="36" y="47"/>
                    </a:lnTo>
                    <a:lnTo>
                      <a:pt x="41" y="39"/>
                    </a:lnTo>
                    <a:lnTo>
                      <a:pt x="47" y="33"/>
                    </a:lnTo>
                    <a:lnTo>
                      <a:pt x="53" y="28"/>
                    </a:lnTo>
                    <a:lnTo>
                      <a:pt x="60" y="24"/>
                    </a:lnTo>
                    <a:lnTo>
                      <a:pt x="67" y="18"/>
                    </a:lnTo>
                    <a:lnTo>
                      <a:pt x="73" y="13"/>
                    </a:lnTo>
                    <a:lnTo>
                      <a:pt x="78" y="8"/>
                    </a:lnTo>
                    <a:lnTo>
                      <a:pt x="85" y="0"/>
                    </a:lnTo>
                    <a:lnTo>
                      <a:pt x="77" y="8"/>
                    </a:lnTo>
                    <a:lnTo>
                      <a:pt x="71" y="15"/>
                    </a:lnTo>
                    <a:lnTo>
                      <a:pt x="65" y="24"/>
                    </a:lnTo>
                    <a:lnTo>
                      <a:pt x="58" y="31"/>
                    </a:lnTo>
                    <a:lnTo>
                      <a:pt x="53" y="39"/>
                    </a:lnTo>
                    <a:lnTo>
                      <a:pt x="48" y="48"/>
                    </a:lnTo>
                    <a:lnTo>
                      <a:pt x="43" y="56"/>
                    </a:lnTo>
                    <a:lnTo>
                      <a:pt x="39" y="6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7259400" y="6228000"/>
                <a:ext cx="58680" cy="66600"/>
              </a:xfrm>
              <a:custGeom>
                <a:avLst/>
                <a:gdLst/>
                <a:ahLst/>
                <a:rect l="l" t="t" r="r" b="b"/>
                <a:pathLst>
                  <a:path w="111" h="125">
                    <a:moveTo>
                      <a:pt x="109" y="0"/>
                    </a:moveTo>
                    <a:lnTo>
                      <a:pt x="104" y="9"/>
                    </a:lnTo>
                    <a:lnTo>
                      <a:pt x="97" y="16"/>
                    </a:lnTo>
                    <a:lnTo>
                      <a:pt x="90" y="22"/>
                    </a:lnTo>
                    <a:lnTo>
                      <a:pt x="81" y="29"/>
                    </a:lnTo>
                    <a:lnTo>
                      <a:pt x="74" y="35"/>
                    </a:lnTo>
                    <a:lnTo>
                      <a:pt x="67" y="42"/>
                    </a:lnTo>
                    <a:lnTo>
                      <a:pt x="60" y="50"/>
                    </a:lnTo>
                    <a:lnTo>
                      <a:pt x="55" y="58"/>
                    </a:lnTo>
                    <a:lnTo>
                      <a:pt x="57" y="60"/>
                    </a:lnTo>
                    <a:lnTo>
                      <a:pt x="89" y="36"/>
                    </a:lnTo>
                    <a:lnTo>
                      <a:pt x="62" y="63"/>
                    </a:lnTo>
                    <a:lnTo>
                      <a:pt x="64" y="65"/>
                    </a:lnTo>
                    <a:lnTo>
                      <a:pt x="66" y="66"/>
                    </a:lnTo>
                    <a:lnTo>
                      <a:pt x="64" y="67"/>
                    </a:lnTo>
                    <a:lnTo>
                      <a:pt x="63" y="68"/>
                    </a:lnTo>
                    <a:lnTo>
                      <a:pt x="61" y="70"/>
                    </a:lnTo>
                    <a:lnTo>
                      <a:pt x="60" y="71"/>
                    </a:lnTo>
                    <a:lnTo>
                      <a:pt x="59" y="73"/>
                    </a:lnTo>
                    <a:lnTo>
                      <a:pt x="59" y="74"/>
                    </a:lnTo>
                    <a:lnTo>
                      <a:pt x="61" y="76"/>
                    </a:lnTo>
                    <a:lnTo>
                      <a:pt x="111" y="38"/>
                    </a:lnTo>
                    <a:lnTo>
                      <a:pt x="99" y="51"/>
                    </a:lnTo>
                    <a:lnTo>
                      <a:pt x="88" y="62"/>
                    </a:lnTo>
                    <a:lnTo>
                      <a:pt x="74" y="72"/>
                    </a:lnTo>
                    <a:lnTo>
                      <a:pt x="61" y="83"/>
                    </a:lnTo>
                    <a:lnTo>
                      <a:pt x="48" y="93"/>
                    </a:lnTo>
                    <a:lnTo>
                      <a:pt x="34" y="104"/>
                    </a:lnTo>
                    <a:lnTo>
                      <a:pt x="21" y="114"/>
                    </a:lnTo>
                    <a:lnTo>
                      <a:pt x="8" y="125"/>
                    </a:lnTo>
                    <a:lnTo>
                      <a:pt x="0" y="125"/>
                    </a:lnTo>
                    <a:lnTo>
                      <a:pt x="5" y="122"/>
                    </a:lnTo>
                    <a:lnTo>
                      <a:pt x="9" y="120"/>
                    </a:lnTo>
                    <a:lnTo>
                      <a:pt x="13" y="115"/>
                    </a:lnTo>
                    <a:lnTo>
                      <a:pt x="16" y="112"/>
                    </a:lnTo>
                    <a:lnTo>
                      <a:pt x="20" y="105"/>
                    </a:lnTo>
                    <a:lnTo>
                      <a:pt x="23" y="97"/>
                    </a:lnTo>
                    <a:lnTo>
                      <a:pt x="26" y="90"/>
                    </a:lnTo>
                    <a:lnTo>
                      <a:pt x="32" y="82"/>
                    </a:lnTo>
                    <a:lnTo>
                      <a:pt x="34" y="78"/>
                    </a:lnTo>
                    <a:lnTo>
                      <a:pt x="38" y="75"/>
                    </a:lnTo>
                    <a:lnTo>
                      <a:pt x="42" y="72"/>
                    </a:lnTo>
                    <a:lnTo>
                      <a:pt x="46" y="69"/>
                    </a:lnTo>
                    <a:lnTo>
                      <a:pt x="38" y="65"/>
                    </a:lnTo>
                    <a:lnTo>
                      <a:pt x="45" y="55"/>
                    </a:lnTo>
                    <a:lnTo>
                      <a:pt x="54" y="47"/>
                    </a:lnTo>
                    <a:lnTo>
                      <a:pt x="62" y="39"/>
                    </a:lnTo>
                    <a:lnTo>
                      <a:pt x="72" y="31"/>
                    </a:lnTo>
                    <a:lnTo>
                      <a:pt x="81" y="23"/>
                    </a:lnTo>
                    <a:lnTo>
                      <a:pt x="91" y="16"/>
                    </a:lnTo>
                    <a:lnTo>
                      <a:pt x="100" y="9"/>
                    </a:lnTo>
                    <a:lnTo>
                      <a:pt x="10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75" name=""/>
              <p:cNvSpPr/>
              <p:nvPr/>
            </p:nvSpPr>
            <p:spPr>
              <a:xfrm>
                <a:off x="7272000" y="6266160"/>
                <a:ext cx="34920" cy="36360"/>
              </a:xfrm>
              <a:custGeom>
                <a:avLst/>
                <a:gdLst/>
                <a:ahLst/>
                <a:rect l="l" t="t" r="r" b="b"/>
                <a:pathLst>
                  <a:path w="67" h="69">
                    <a:moveTo>
                      <a:pt x="67" y="6"/>
                    </a:moveTo>
                    <a:lnTo>
                      <a:pt x="59" y="15"/>
                    </a:lnTo>
                    <a:lnTo>
                      <a:pt x="52" y="23"/>
                    </a:lnTo>
                    <a:lnTo>
                      <a:pt x="44" y="32"/>
                    </a:lnTo>
                    <a:lnTo>
                      <a:pt x="36" y="40"/>
                    </a:lnTo>
                    <a:lnTo>
                      <a:pt x="28" y="48"/>
                    </a:lnTo>
                    <a:lnTo>
                      <a:pt x="20" y="55"/>
                    </a:lnTo>
                    <a:lnTo>
                      <a:pt x="12" y="63"/>
                    </a:lnTo>
                    <a:lnTo>
                      <a:pt x="4" y="69"/>
                    </a:lnTo>
                    <a:lnTo>
                      <a:pt x="0" y="66"/>
                    </a:lnTo>
                    <a:lnTo>
                      <a:pt x="9" y="57"/>
                    </a:lnTo>
                    <a:lnTo>
                      <a:pt x="17" y="49"/>
                    </a:lnTo>
                    <a:lnTo>
                      <a:pt x="27" y="41"/>
                    </a:lnTo>
                    <a:lnTo>
                      <a:pt x="36" y="34"/>
                    </a:lnTo>
                    <a:lnTo>
                      <a:pt x="46" y="27"/>
                    </a:lnTo>
                    <a:lnTo>
                      <a:pt x="54" y="18"/>
                    </a:lnTo>
                    <a:lnTo>
                      <a:pt x="62" y="10"/>
                    </a:lnTo>
                    <a:lnTo>
                      <a:pt x="67" y="0"/>
                    </a:lnTo>
                    <a:lnTo>
                      <a:pt x="67" y="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6151320" y="5516640"/>
                <a:ext cx="701640" cy="425520"/>
              </a:xfrm>
              <a:custGeom>
                <a:avLst/>
                <a:gdLst/>
                <a:ahLst/>
                <a:rect l="l" t="t" r="r" b="b"/>
                <a:pathLst>
                  <a:path w="1324" h="804">
                    <a:moveTo>
                      <a:pt x="36" y="311"/>
                    </a:moveTo>
                    <a:lnTo>
                      <a:pt x="43" y="304"/>
                    </a:lnTo>
                    <a:lnTo>
                      <a:pt x="51" y="298"/>
                    </a:lnTo>
                    <a:lnTo>
                      <a:pt x="58" y="290"/>
                    </a:lnTo>
                    <a:lnTo>
                      <a:pt x="67" y="282"/>
                    </a:lnTo>
                    <a:lnTo>
                      <a:pt x="75" y="275"/>
                    </a:lnTo>
                    <a:lnTo>
                      <a:pt x="83" y="268"/>
                    </a:lnTo>
                    <a:lnTo>
                      <a:pt x="90" y="263"/>
                    </a:lnTo>
                    <a:lnTo>
                      <a:pt x="97" y="259"/>
                    </a:lnTo>
                    <a:lnTo>
                      <a:pt x="97" y="264"/>
                    </a:lnTo>
                    <a:lnTo>
                      <a:pt x="99" y="268"/>
                    </a:lnTo>
                    <a:lnTo>
                      <a:pt x="102" y="271"/>
                    </a:lnTo>
                    <a:lnTo>
                      <a:pt x="104" y="272"/>
                    </a:lnTo>
                    <a:lnTo>
                      <a:pt x="107" y="272"/>
                    </a:lnTo>
                    <a:lnTo>
                      <a:pt x="111" y="271"/>
                    </a:lnTo>
                    <a:lnTo>
                      <a:pt x="114" y="268"/>
                    </a:lnTo>
                    <a:lnTo>
                      <a:pt x="118" y="265"/>
                    </a:lnTo>
                    <a:lnTo>
                      <a:pt x="127" y="259"/>
                    </a:lnTo>
                    <a:lnTo>
                      <a:pt x="135" y="251"/>
                    </a:lnTo>
                    <a:lnTo>
                      <a:pt x="143" y="244"/>
                    </a:lnTo>
                    <a:lnTo>
                      <a:pt x="147" y="239"/>
                    </a:lnTo>
                    <a:lnTo>
                      <a:pt x="148" y="240"/>
                    </a:lnTo>
                    <a:lnTo>
                      <a:pt x="149" y="242"/>
                    </a:lnTo>
                    <a:lnTo>
                      <a:pt x="150" y="244"/>
                    </a:lnTo>
                    <a:lnTo>
                      <a:pt x="152" y="246"/>
                    </a:lnTo>
                    <a:lnTo>
                      <a:pt x="154" y="248"/>
                    </a:lnTo>
                    <a:lnTo>
                      <a:pt x="156" y="249"/>
                    </a:lnTo>
                    <a:lnTo>
                      <a:pt x="157" y="252"/>
                    </a:lnTo>
                    <a:lnTo>
                      <a:pt x="158" y="254"/>
                    </a:lnTo>
                    <a:lnTo>
                      <a:pt x="163" y="248"/>
                    </a:lnTo>
                    <a:lnTo>
                      <a:pt x="176" y="240"/>
                    </a:lnTo>
                    <a:lnTo>
                      <a:pt x="195" y="227"/>
                    </a:lnTo>
                    <a:lnTo>
                      <a:pt x="217" y="215"/>
                    </a:lnTo>
                    <a:lnTo>
                      <a:pt x="240" y="201"/>
                    </a:lnTo>
                    <a:lnTo>
                      <a:pt x="261" y="189"/>
                    </a:lnTo>
                    <a:lnTo>
                      <a:pt x="277" y="182"/>
                    </a:lnTo>
                    <a:lnTo>
                      <a:pt x="288" y="179"/>
                    </a:lnTo>
                    <a:lnTo>
                      <a:pt x="293" y="173"/>
                    </a:lnTo>
                    <a:lnTo>
                      <a:pt x="297" y="168"/>
                    </a:lnTo>
                    <a:lnTo>
                      <a:pt x="297" y="164"/>
                    </a:lnTo>
                    <a:lnTo>
                      <a:pt x="297" y="158"/>
                    </a:lnTo>
                    <a:lnTo>
                      <a:pt x="300" y="158"/>
                    </a:lnTo>
                    <a:lnTo>
                      <a:pt x="302" y="157"/>
                    </a:lnTo>
                    <a:lnTo>
                      <a:pt x="303" y="157"/>
                    </a:lnTo>
                    <a:lnTo>
                      <a:pt x="303" y="156"/>
                    </a:lnTo>
                    <a:lnTo>
                      <a:pt x="303" y="155"/>
                    </a:lnTo>
                    <a:lnTo>
                      <a:pt x="304" y="154"/>
                    </a:lnTo>
                    <a:lnTo>
                      <a:pt x="305" y="154"/>
                    </a:lnTo>
                    <a:lnTo>
                      <a:pt x="308" y="153"/>
                    </a:lnTo>
                    <a:lnTo>
                      <a:pt x="308" y="144"/>
                    </a:lnTo>
                    <a:lnTo>
                      <a:pt x="312" y="144"/>
                    </a:lnTo>
                    <a:lnTo>
                      <a:pt x="312" y="137"/>
                    </a:lnTo>
                    <a:lnTo>
                      <a:pt x="302" y="139"/>
                    </a:lnTo>
                    <a:lnTo>
                      <a:pt x="291" y="143"/>
                    </a:lnTo>
                    <a:lnTo>
                      <a:pt x="281" y="146"/>
                    </a:lnTo>
                    <a:lnTo>
                      <a:pt x="271" y="149"/>
                    </a:lnTo>
                    <a:lnTo>
                      <a:pt x="261" y="152"/>
                    </a:lnTo>
                    <a:lnTo>
                      <a:pt x="252" y="155"/>
                    </a:lnTo>
                    <a:lnTo>
                      <a:pt x="241" y="157"/>
                    </a:lnTo>
                    <a:lnTo>
                      <a:pt x="231" y="160"/>
                    </a:lnTo>
                    <a:lnTo>
                      <a:pt x="220" y="164"/>
                    </a:lnTo>
                    <a:lnTo>
                      <a:pt x="209" y="168"/>
                    </a:lnTo>
                    <a:lnTo>
                      <a:pt x="198" y="173"/>
                    </a:lnTo>
                    <a:lnTo>
                      <a:pt x="187" y="178"/>
                    </a:lnTo>
                    <a:lnTo>
                      <a:pt x="177" y="182"/>
                    </a:lnTo>
                    <a:lnTo>
                      <a:pt x="166" y="187"/>
                    </a:lnTo>
                    <a:lnTo>
                      <a:pt x="156" y="192"/>
                    </a:lnTo>
                    <a:lnTo>
                      <a:pt x="146" y="198"/>
                    </a:lnTo>
                    <a:lnTo>
                      <a:pt x="126" y="203"/>
                    </a:lnTo>
                    <a:lnTo>
                      <a:pt x="107" y="209"/>
                    </a:lnTo>
                    <a:lnTo>
                      <a:pt x="89" y="216"/>
                    </a:lnTo>
                    <a:lnTo>
                      <a:pt x="70" y="224"/>
                    </a:lnTo>
                    <a:lnTo>
                      <a:pt x="52" y="231"/>
                    </a:lnTo>
                    <a:lnTo>
                      <a:pt x="34" y="241"/>
                    </a:lnTo>
                    <a:lnTo>
                      <a:pt x="17" y="251"/>
                    </a:lnTo>
                    <a:lnTo>
                      <a:pt x="0" y="260"/>
                    </a:lnTo>
                    <a:lnTo>
                      <a:pt x="4" y="263"/>
                    </a:lnTo>
                    <a:lnTo>
                      <a:pt x="7" y="264"/>
                    </a:lnTo>
                    <a:lnTo>
                      <a:pt x="12" y="266"/>
                    </a:lnTo>
                    <a:lnTo>
                      <a:pt x="15" y="267"/>
                    </a:lnTo>
                    <a:lnTo>
                      <a:pt x="19" y="270"/>
                    </a:lnTo>
                    <a:lnTo>
                      <a:pt x="22" y="272"/>
                    </a:lnTo>
                    <a:lnTo>
                      <a:pt x="25" y="275"/>
                    </a:lnTo>
                    <a:lnTo>
                      <a:pt x="29" y="278"/>
                    </a:lnTo>
                    <a:lnTo>
                      <a:pt x="31" y="282"/>
                    </a:lnTo>
                    <a:lnTo>
                      <a:pt x="32" y="286"/>
                    </a:lnTo>
                    <a:lnTo>
                      <a:pt x="34" y="290"/>
                    </a:lnTo>
                    <a:lnTo>
                      <a:pt x="35" y="294"/>
                    </a:lnTo>
                    <a:lnTo>
                      <a:pt x="36" y="298"/>
                    </a:lnTo>
                    <a:lnTo>
                      <a:pt x="37" y="302"/>
                    </a:lnTo>
                    <a:lnTo>
                      <a:pt x="37" y="307"/>
                    </a:lnTo>
                    <a:lnTo>
                      <a:pt x="36" y="311"/>
                    </a:lnTo>
                    <a:close/>
                    <a:moveTo>
                      <a:pt x="295" y="98"/>
                    </a:moveTo>
                    <a:lnTo>
                      <a:pt x="295" y="98"/>
                    </a:lnTo>
                    <a:lnTo>
                      <a:pt x="296" y="98"/>
                    </a:lnTo>
                    <a:lnTo>
                      <a:pt x="296" y="98"/>
                    </a:lnTo>
                    <a:lnTo>
                      <a:pt x="296" y="98"/>
                    </a:lnTo>
                    <a:lnTo>
                      <a:pt x="296" y="98"/>
                    </a:lnTo>
                    <a:lnTo>
                      <a:pt x="296" y="98"/>
                    </a:lnTo>
                    <a:lnTo>
                      <a:pt x="296" y="98"/>
                    </a:lnTo>
                    <a:lnTo>
                      <a:pt x="296" y="98"/>
                    </a:lnTo>
                    <a:lnTo>
                      <a:pt x="295" y="99"/>
                    </a:lnTo>
                    <a:lnTo>
                      <a:pt x="295" y="99"/>
                    </a:lnTo>
                    <a:lnTo>
                      <a:pt x="295" y="99"/>
                    </a:lnTo>
                    <a:lnTo>
                      <a:pt x="295" y="98"/>
                    </a:lnTo>
                    <a:lnTo>
                      <a:pt x="295" y="98"/>
                    </a:lnTo>
                    <a:lnTo>
                      <a:pt x="295" y="98"/>
                    </a:lnTo>
                    <a:lnTo>
                      <a:pt x="295" y="98"/>
                    </a:lnTo>
                    <a:lnTo>
                      <a:pt x="295" y="98"/>
                    </a:lnTo>
                    <a:lnTo>
                      <a:pt x="295" y="98"/>
                    </a:lnTo>
                    <a:close/>
                    <a:moveTo>
                      <a:pt x="300" y="90"/>
                    </a:moveTo>
                    <a:lnTo>
                      <a:pt x="300" y="88"/>
                    </a:lnTo>
                    <a:lnTo>
                      <a:pt x="302" y="87"/>
                    </a:lnTo>
                    <a:lnTo>
                      <a:pt x="302" y="86"/>
                    </a:lnTo>
                    <a:lnTo>
                      <a:pt x="302" y="83"/>
                    </a:lnTo>
                    <a:lnTo>
                      <a:pt x="303" y="82"/>
                    </a:lnTo>
                    <a:lnTo>
                      <a:pt x="303" y="81"/>
                    </a:lnTo>
                    <a:lnTo>
                      <a:pt x="303" y="80"/>
                    </a:lnTo>
                    <a:lnTo>
                      <a:pt x="303" y="78"/>
                    </a:lnTo>
                    <a:lnTo>
                      <a:pt x="305" y="76"/>
                    </a:lnTo>
                    <a:lnTo>
                      <a:pt x="308" y="73"/>
                    </a:lnTo>
                    <a:lnTo>
                      <a:pt x="311" y="70"/>
                    </a:lnTo>
                    <a:lnTo>
                      <a:pt x="315" y="66"/>
                    </a:lnTo>
                    <a:lnTo>
                      <a:pt x="318" y="63"/>
                    </a:lnTo>
                    <a:lnTo>
                      <a:pt x="323" y="61"/>
                    </a:lnTo>
                    <a:lnTo>
                      <a:pt x="325" y="59"/>
                    </a:lnTo>
                    <a:lnTo>
                      <a:pt x="328" y="58"/>
                    </a:lnTo>
                    <a:lnTo>
                      <a:pt x="328" y="89"/>
                    </a:lnTo>
                    <a:lnTo>
                      <a:pt x="332" y="83"/>
                    </a:lnTo>
                    <a:lnTo>
                      <a:pt x="336" y="79"/>
                    </a:lnTo>
                    <a:lnTo>
                      <a:pt x="342" y="75"/>
                    </a:lnTo>
                    <a:lnTo>
                      <a:pt x="348" y="72"/>
                    </a:lnTo>
                    <a:lnTo>
                      <a:pt x="353" y="69"/>
                    </a:lnTo>
                    <a:lnTo>
                      <a:pt x="359" y="65"/>
                    </a:lnTo>
                    <a:lnTo>
                      <a:pt x="363" y="62"/>
                    </a:lnTo>
                    <a:lnTo>
                      <a:pt x="367" y="58"/>
                    </a:lnTo>
                    <a:lnTo>
                      <a:pt x="369" y="62"/>
                    </a:lnTo>
                    <a:lnTo>
                      <a:pt x="369" y="68"/>
                    </a:lnTo>
                    <a:lnTo>
                      <a:pt x="368" y="75"/>
                    </a:lnTo>
                    <a:lnTo>
                      <a:pt x="367" y="84"/>
                    </a:lnTo>
                    <a:lnTo>
                      <a:pt x="365" y="93"/>
                    </a:lnTo>
                    <a:lnTo>
                      <a:pt x="364" y="101"/>
                    </a:lnTo>
                    <a:lnTo>
                      <a:pt x="363" y="109"/>
                    </a:lnTo>
                    <a:lnTo>
                      <a:pt x="363" y="113"/>
                    </a:lnTo>
                    <a:lnTo>
                      <a:pt x="369" y="112"/>
                    </a:lnTo>
                    <a:lnTo>
                      <a:pt x="377" y="108"/>
                    </a:lnTo>
                    <a:lnTo>
                      <a:pt x="386" y="102"/>
                    </a:lnTo>
                    <a:lnTo>
                      <a:pt x="395" y="96"/>
                    </a:lnTo>
                    <a:lnTo>
                      <a:pt x="404" y="90"/>
                    </a:lnTo>
                    <a:lnTo>
                      <a:pt x="414" y="84"/>
                    </a:lnTo>
                    <a:lnTo>
                      <a:pt x="421" y="80"/>
                    </a:lnTo>
                    <a:lnTo>
                      <a:pt x="427" y="78"/>
                    </a:lnTo>
                    <a:lnTo>
                      <a:pt x="425" y="81"/>
                    </a:lnTo>
                    <a:lnTo>
                      <a:pt x="423" y="83"/>
                    </a:lnTo>
                    <a:lnTo>
                      <a:pt x="421" y="88"/>
                    </a:lnTo>
                    <a:lnTo>
                      <a:pt x="418" y="92"/>
                    </a:lnTo>
                    <a:lnTo>
                      <a:pt x="416" y="96"/>
                    </a:lnTo>
                    <a:lnTo>
                      <a:pt x="415" y="100"/>
                    </a:lnTo>
                    <a:lnTo>
                      <a:pt x="413" y="105"/>
                    </a:lnTo>
                    <a:lnTo>
                      <a:pt x="413" y="109"/>
                    </a:lnTo>
                    <a:lnTo>
                      <a:pt x="403" y="113"/>
                    </a:lnTo>
                    <a:lnTo>
                      <a:pt x="402" y="115"/>
                    </a:lnTo>
                    <a:lnTo>
                      <a:pt x="402" y="116"/>
                    </a:lnTo>
                    <a:lnTo>
                      <a:pt x="402" y="118"/>
                    </a:lnTo>
                    <a:lnTo>
                      <a:pt x="401" y="120"/>
                    </a:lnTo>
                    <a:lnTo>
                      <a:pt x="401" y="123"/>
                    </a:lnTo>
                    <a:lnTo>
                      <a:pt x="400" y="124"/>
                    </a:lnTo>
                    <a:lnTo>
                      <a:pt x="399" y="126"/>
                    </a:lnTo>
                    <a:lnTo>
                      <a:pt x="399" y="128"/>
                    </a:lnTo>
                    <a:lnTo>
                      <a:pt x="399" y="128"/>
                    </a:lnTo>
                    <a:lnTo>
                      <a:pt x="399" y="128"/>
                    </a:lnTo>
                    <a:lnTo>
                      <a:pt x="399" y="128"/>
                    </a:lnTo>
                    <a:lnTo>
                      <a:pt x="399" y="128"/>
                    </a:lnTo>
                    <a:lnTo>
                      <a:pt x="399" y="128"/>
                    </a:lnTo>
                    <a:lnTo>
                      <a:pt x="399" y="128"/>
                    </a:lnTo>
                    <a:lnTo>
                      <a:pt x="398" y="128"/>
                    </a:lnTo>
                    <a:lnTo>
                      <a:pt x="398" y="128"/>
                    </a:lnTo>
                    <a:lnTo>
                      <a:pt x="401" y="121"/>
                    </a:lnTo>
                    <a:lnTo>
                      <a:pt x="404" y="116"/>
                    </a:lnTo>
                    <a:lnTo>
                      <a:pt x="409" y="111"/>
                    </a:lnTo>
                    <a:lnTo>
                      <a:pt x="416" y="106"/>
                    </a:lnTo>
                    <a:lnTo>
                      <a:pt x="431" y="97"/>
                    </a:lnTo>
                    <a:lnTo>
                      <a:pt x="448" y="89"/>
                    </a:lnTo>
                    <a:lnTo>
                      <a:pt x="464" y="81"/>
                    </a:lnTo>
                    <a:lnTo>
                      <a:pt x="479" y="74"/>
                    </a:lnTo>
                    <a:lnTo>
                      <a:pt x="486" y="71"/>
                    </a:lnTo>
                    <a:lnTo>
                      <a:pt x="491" y="66"/>
                    </a:lnTo>
                    <a:lnTo>
                      <a:pt x="495" y="63"/>
                    </a:lnTo>
                    <a:lnTo>
                      <a:pt x="497" y="58"/>
                    </a:lnTo>
                    <a:lnTo>
                      <a:pt x="499" y="61"/>
                    </a:lnTo>
                    <a:lnTo>
                      <a:pt x="500" y="64"/>
                    </a:lnTo>
                    <a:lnTo>
                      <a:pt x="502" y="70"/>
                    </a:lnTo>
                    <a:lnTo>
                      <a:pt x="503" y="74"/>
                    </a:lnTo>
                    <a:lnTo>
                      <a:pt x="503" y="79"/>
                    </a:lnTo>
                    <a:lnTo>
                      <a:pt x="503" y="84"/>
                    </a:lnTo>
                    <a:lnTo>
                      <a:pt x="503" y="90"/>
                    </a:lnTo>
                    <a:lnTo>
                      <a:pt x="503" y="94"/>
                    </a:lnTo>
                    <a:lnTo>
                      <a:pt x="505" y="90"/>
                    </a:lnTo>
                    <a:lnTo>
                      <a:pt x="508" y="86"/>
                    </a:lnTo>
                    <a:lnTo>
                      <a:pt x="511" y="81"/>
                    </a:lnTo>
                    <a:lnTo>
                      <a:pt x="514" y="77"/>
                    </a:lnTo>
                    <a:lnTo>
                      <a:pt x="517" y="73"/>
                    </a:lnTo>
                    <a:lnTo>
                      <a:pt x="521" y="69"/>
                    </a:lnTo>
                    <a:lnTo>
                      <a:pt x="522" y="65"/>
                    </a:lnTo>
                    <a:lnTo>
                      <a:pt x="523" y="63"/>
                    </a:lnTo>
                    <a:lnTo>
                      <a:pt x="532" y="62"/>
                    </a:lnTo>
                    <a:lnTo>
                      <a:pt x="541" y="59"/>
                    </a:lnTo>
                    <a:lnTo>
                      <a:pt x="550" y="55"/>
                    </a:lnTo>
                    <a:lnTo>
                      <a:pt x="560" y="50"/>
                    </a:lnTo>
                    <a:lnTo>
                      <a:pt x="569" y="43"/>
                    </a:lnTo>
                    <a:lnTo>
                      <a:pt x="579" y="37"/>
                    </a:lnTo>
                    <a:lnTo>
                      <a:pt x="588" y="32"/>
                    </a:lnTo>
                    <a:lnTo>
                      <a:pt x="598" y="27"/>
                    </a:lnTo>
                    <a:lnTo>
                      <a:pt x="581" y="22"/>
                    </a:lnTo>
                    <a:lnTo>
                      <a:pt x="564" y="19"/>
                    </a:lnTo>
                    <a:lnTo>
                      <a:pt x="546" y="16"/>
                    </a:lnTo>
                    <a:lnTo>
                      <a:pt x="529" y="13"/>
                    </a:lnTo>
                    <a:lnTo>
                      <a:pt x="511" y="10"/>
                    </a:lnTo>
                    <a:lnTo>
                      <a:pt x="493" y="7"/>
                    </a:lnTo>
                    <a:lnTo>
                      <a:pt x="475" y="4"/>
                    </a:lnTo>
                    <a:lnTo>
                      <a:pt x="458" y="0"/>
                    </a:lnTo>
                    <a:lnTo>
                      <a:pt x="440" y="3"/>
                    </a:lnTo>
                    <a:lnTo>
                      <a:pt x="423" y="7"/>
                    </a:lnTo>
                    <a:lnTo>
                      <a:pt x="405" y="11"/>
                    </a:lnTo>
                    <a:lnTo>
                      <a:pt x="388" y="17"/>
                    </a:lnTo>
                    <a:lnTo>
                      <a:pt x="371" y="23"/>
                    </a:lnTo>
                    <a:lnTo>
                      <a:pt x="355" y="29"/>
                    </a:lnTo>
                    <a:lnTo>
                      <a:pt x="339" y="37"/>
                    </a:lnTo>
                    <a:lnTo>
                      <a:pt x="323" y="44"/>
                    </a:lnTo>
                    <a:lnTo>
                      <a:pt x="320" y="46"/>
                    </a:lnTo>
                    <a:lnTo>
                      <a:pt x="316" y="48"/>
                    </a:lnTo>
                    <a:lnTo>
                      <a:pt x="312" y="48"/>
                    </a:lnTo>
                    <a:lnTo>
                      <a:pt x="308" y="50"/>
                    </a:lnTo>
                    <a:lnTo>
                      <a:pt x="304" y="51"/>
                    </a:lnTo>
                    <a:lnTo>
                      <a:pt x="300" y="52"/>
                    </a:lnTo>
                    <a:lnTo>
                      <a:pt x="298" y="55"/>
                    </a:lnTo>
                    <a:lnTo>
                      <a:pt x="297" y="59"/>
                    </a:lnTo>
                    <a:lnTo>
                      <a:pt x="292" y="60"/>
                    </a:lnTo>
                    <a:lnTo>
                      <a:pt x="287" y="61"/>
                    </a:lnTo>
                    <a:lnTo>
                      <a:pt x="282" y="63"/>
                    </a:lnTo>
                    <a:lnTo>
                      <a:pt x="279" y="65"/>
                    </a:lnTo>
                    <a:lnTo>
                      <a:pt x="275" y="68"/>
                    </a:lnTo>
                    <a:lnTo>
                      <a:pt x="271" y="70"/>
                    </a:lnTo>
                    <a:lnTo>
                      <a:pt x="266" y="72"/>
                    </a:lnTo>
                    <a:lnTo>
                      <a:pt x="260" y="73"/>
                    </a:lnTo>
                    <a:lnTo>
                      <a:pt x="289" y="75"/>
                    </a:lnTo>
                    <a:lnTo>
                      <a:pt x="292" y="76"/>
                    </a:lnTo>
                    <a:lnTo>
                      <a:pt x="293" y="77"/>
                    </a:lnTo>
                    <a:lnTo>
                      <a:pt x="294" y="79"/>
                    </a:lnTo>
                    <a:lnTo>
                      <a:pt x="295" y="81"/>
                    </a:lnTo>
                    <a:lnTo>
                      <a:pt x="296" y="83"/>
                    </a:lnTo>
                    <a:lnTo>
                      <a:pt x="297" y="86"/>
                    </a:lnTo>
                    <a:lnTo>
                      <a:pt x="298" y="88"/>
                    </a:lnTo>
                    <a:lnTo>
                      <a:pt x="300" y="90"/>
                    </a:lnTo>
                    <a:close/>
                    <a:moveTo>
                      <a:pt x="398" y="133"/>
                    </a:moveTo>
                    <a:lnTo>
                      <a:pt x="398" y="133"/>
                    </a:lnTo>
                    <a:lnTo>
                      <a:pt x="398" y="133"/>
                    </a:lnTo>
                    <a:lnTo>
                      <a:pt x="398" y="133"/>
                    </a:lnTo>
                    <a:lnTo>
                      <a:pt x="398" y="133"/>
                    </a:lnTo>
                    <a:lnTo>
                      <a:pt x="398" y="133"/>
                    </a:lnTo>
                    <a:lnTo>
                      <a:pt x="398" y="133"/>
                    </a:lnTo>
                    <a:lnTo>
                      <a:pt x="398" y="133"/>
                    </a:lnTo>
                    <a:lnTo>
                      <a:pt x="398" y="133"/>
                    </a:lnTo>
                    <a:lnTo>
                      <a:pt x="397" y="133"/>
                    </a:lnTo>
                    <a:lnTo>
                      <a:pt x="398" y="133"/>
                    </a:lnTo>
                    <a:lnTo>
                      <a:pt x="398" y="133"/>
                    </a:lnTo>
                    <a:lnTo>
                      <a:pt x="398" y="133"/>
                    </a:lnTo>
                    <a:lnTo>
                      <a:pt x="398" y="133"/>
                    </a:lnTo>
                    <a:lnTo>
                      <a:pt x="398" y="133"/>
                    </a:lnTo>
                    <a:lnTo>
                      <a:pt x="398" y="133"/>
                    </a:lnTo>
                    <a:lnTo>
                      <a:pt x="398" y="133"/>
                    </a:lnTo>
                    <a:lnTo>
                      <a:pt x="398" y="133"/>
                    </a:lnTo>
                    <a:lnTo>
                      <a:pt x="398" y="133"/>
                    </a:lnTo>
                    <a:lnTo>
                      <a:pt x="398" y="133"/>
                    </a:lnTo>
                    <a:close/>
                    <a:moveTo>
                      <a:pt x="721" y="75"/>
                    </a:moveTo>
                    <a:lnTo>
                      <a:pt x="721" y="79"/>
                    </a:lnTo>
                    <a:lnTo>
                      <a:pt x="722" y="84"/>
                    </a:lnTo>
                    <a:lnTo>
                      <a:pt x="723" y="90"/>
                    </a:lnTo>
                    <a:lnTo>
                      <a:pt x="724" y="95"/>
                    </a:lnTo>
                    <a:lnTo>
                      <a:pt x="725" y="100"/>
                    </a:lnTo>
                    <a:lnTo>
                      <a:pt x="726" y="105"/>
                    </a:lnTo>
                    <a:lnTo>
                      <a:pt x="727" y="110"/>
                    </a:lnTo>
                    <a:lnTo>
                      <a:pt x="728" y="114"/>
                    </a:lnTo>
                    <a:lnTo>
                      <a:pt x="728" y="113"/>
                    </a:lnTo>
                    <a:lnTo>
                      <a:pt x="728" y="108"/>
                    </a:lnTo>
                    <a:lnTo>
                      <a:pt x="727" y="103"/>
                    </a:lnTo>
                    <a:lnTo>
                      <a:pt x="726" y="98"/>
                    </a:lnTo>
                    <a:lnTo>
                      <a:pt x="725" y="94"/>
                    </a:lnTo>
                    <a:lnTo>
                      <a:pt x="724" y="89"/>
                    </a:lnTo>
                    <a:lnTo>
                      <a:pt x="723" y="84"/>
                    </a:lnTo>
                    <a:lnTo>
                      <a:pt x="722" y="79"/>
                    </a:lnTo>
                    <a:lnTo>
                      <a:pt x="721" y="75"/>
                    </a:lnTo>
                    <a:close/>
                    <a:moveTo>
                      <a:pt x="733" y="135"/>
                    </a:moveTo>
                    <a:lnTo>
                      <a:pt x="737" y="228"/>
                    </a:lnTo>
                    <a:lnTo>
                      <a:pt x="740" y="230"/>
                    </a:lnTo>
                    <a:lnTo>
                      <a:pt x="742" y="233"/>
                    </a:lnTo>
                    <a:lnTo>
                      <a:pt x="744" y="234"/>
                    </a:lnTo>
                    <a:lnTo>
                      <a:pt x="746" y="236"/>
                    </a:lnTo>
                    <a:lnTo>
                      <a:pt x="747" y="237"/>
                    </a:lnTo>
                    <a:lnTo>
                      <a:pt x="749" y="238"/>
                    </a:lnTo>
                    <a:lnTo>
                      <a:pt x="751" y="238"/>
                    </a:lnTo>
                    <a:lnTo>
                      <a:pt x="753" y="239"/>
                    </a:lnTo>
                    <a:lnTo>
                      <a:pt x="753" y="241"/>
                    </a:lnTo>
                    <a:lnTo>
                      <a:pt x="754" y="243"/>
                    </a:lnTo>
                    <a:lnTo>
                      <a:pt x="757" y="245"/>
                    </a:lnTo>
                    <a:lnTo>
                      <a:pt x="758" y="248"/>
                    </a:lnTo>
                    <a:lnTo>
                      <a:pt x="760" y="251"/>
                    </a:lnTo>
                    <a:lnTo>
                      <a:pt x="762" y="252"/>
                    </a:lnTo>
                    <a:lnTo>
                      <a:pt x="763" y="253"/>
                    </a:lnTo>
                    <a:lnTo>
                      <a:pt x="763" y="254"/>
                    </a:lnTo>
                    <a:lnTo>
                      <a:pt x="763" y="262"/>
                    </a:lnTo>
                    <a:lnTo>
                      <a:pt x="764" y="272"/>
                    </a:lnTo>
                    <a:lnTo>
                      <a:pt x="766" y="280"/>
                    </a:lnTo>
                    <a:lnTo>
                      <a:pt x="768" y="290"/>
                    </a:lnTo>
                    <a:lnTo>
                      <a:pt x="774" y="308"/>
                    </a:lnTo>
                    <a:lnTo>
                      <a:pt x="783" y="326"/>
                    </a:lnTo>
                    <a:lnTo>
                      <a:pt x="791" y="344"/>
                    </a:lnTo>
                    <a:lnTo>
                      <a:pt x="802" y="362"/>
                    </a:lnTo>
                    <a:lnTo>
                      <a:pt x="814" y="380"/>
                    </a:lnTo>
                    <a:lnTo>
                      <a:pt x="825" y="398"/>
                    </a:lnTo>
                    <a:lnTo>
                      <a:pt x="837" y="417"/>
                    </a:lnTo>
                    <a:lnTo>
                      <a:pt x="849" y="436"/>
                    </a:lnTo>
                    <a:lnTo>
                      <a:pt x="859" y="455"/>
                    </a:lnTo>
                    <a:lnTo>
                      <a:pt x="869" y="474"/>
                    </a:lnTo>
                    <a:lnTo>
                      <a:pt x="876" y="494"/>
                    </a:lnTo>
                    <a:lnTo>
                      <a:pt x="882" y="513"/>
                    </a:lnTo>
                    <a:lnTo>
                      <a:pt x="885" y="523"/>
                    </a:lnTo>
                    <a:lnTo>
                      <a:pt x="887" y="533"/>
                    </a:lnTo>
                    <a:lnTo>
                      <a:pt x="888" y="543"/>
                    </a:lnTo>
                    <a:lnTo>
                      <a:pt x="888" y="554"/>
                    </a:lnTo>
                    <a:lnTo>
                      <a:pt x="892" y="554"/>
                    </a:lnTo>
                    <a:lnTo>
                      <a:pt x="897" y="557"/>
                    </a:lnTo>
                    <a:lnTo>
                      <a:pt x="901" y="560"/>
                    </a:lnTo>
                    <a:lnTo>
                      <a:pt x="906" y="565"/>
                    </a:lnTo>
                    <a:lnTo>
                      <a:pt x="910" y="569"/>
                    </a:lnTo>
                    <a:lnTo>
                      <a:pt x="913" y="573"/>
                    </a:lnTo>
                    <a:lnTo>
                      <a:pt x="914" y="576"/>
                    </a:lnTo>
                    <a:lnTo>
                      <a:pt x="913" y="578"/>
                    </a:lnTo>
                    <a:lnTo>
                      <a:pt x="919" y="579"/>
                    </a:lnTo>
                    <a:lnTo>
                      <a:pt x="925" y="579"/>
                    </a:lnTo>
                    <a:lnTo>
                      <a:pt x="929" y="580"/>
                    </a:lnTo>
                    <a:lnTo>
                      <a:pt x="932" y="583"/>
                    </a:lnTo>
                    <a:lnTo>
                      <a:pt x="933" y="585"/>
                    </a:lnTo>
                    <a:lnTo>
                      <a:pt x="933" y="587"/>
                    </a:lnTo>
                    <a:lnTo>
                      <a:pt x="931" y="590"/>
                    </a:lnTo>
                    <a:lnTo>
                      <a:pt x="928" y="593"/>
                    </a:lnTo>
                    <a:lnTo>
                      <a:pt x="932" y="594"/>
                    </a:lnTo>
                    <a:lnTo>
                      <a:pt x="936" y="595"/>
                    </a:lnTo>
                    <a:lnTo>
                      <a:pt x="941" y="596"/>
                    </a:lnTo>
                    <a:lnTo>
                      <a:pt x="945" y="597"/>
                    </a:lnTo>
                    <a:lnTo>
                      <a:pt x="951" y="603"/>
                    </a:lnTo>
                    <a:lnTo>
                      <a:pt x="958" y="609"/>
                    </a:lnTo>
                    <a:lnTo>
                      <a:pt x="964" y="615"/>
                    </a:lnTo>
                    <a:lnTo>
                      <a:pt x="969" y="623"/>
                    </a:lnTo>
                    <a:lnTo>
                      <a:pt x="976" y="631"/>
                    </a:lnTo>
                    <a:lnTo>
                      <a:pt x="983" y="639"/>
                    </a:lnTo>
                    <a:lnTo>
                      <a:pt x="988" y="639"/>
                    </a:lnTo>
                    <a:lnTo>
                      <a:pt x="994" y="639"/>
                    </a:lnTo>
                    <a:lnTo>
                      <a:pt x="1006" y="651"/>
                    </a:lnTo>
                    <a:lnTo>
                      <a:pt x="1022" y="664"/>
                    </a:lnTo>
                    <a:lnTo>
                      <a:pt x="1039" y="678"/>
                    </a:lnTo>
                    <a:lnTo>
                      <a:pt x="1058" y="692"/>
                    </a:lnTo>
                    <a:lnTo>
                      <a:pt x="1078" y="705"/>
                    </a:lnTo>
                    <a:lnTo>
                      <a:pt x="1099" y="719"/>
                    </a:lnTo>
                    <a:lnTo>
                      <a:pt x="1123" y="733"/>
                    </a:lnTo>
                    <a:lnTo>
                      <a:pt x="1145" y="745"/>
                    </a:lnTo>
                    <a:lnTo>
                      <a:pt x="1168" y="757"/>
                    </a:lnTo>
                    <a:lnTo>
                      <a:pt x="1192" y="769"/>
                    </a:lnTo>
                    <a:lnTo>
                      <a:pt x="1216" y="778"/>
                    </a:lnTo>
                    <a:lnTo>
                      <a:pt x="1239" y="787"/>
                    </a:lnTo>
                    <a:lnTo>
                      <a:pt x="1261" y="794"/>
                    </a:lnTo>
                    <a:lnTo>
                      <a:pt x="1283" y="799"/>
                    </a:lnTo>
                    <a:lnTo>
                      <a:pt x="1304" y="803"/>
                    </a:lnTo>
                    <a:lnTo>
                      <a:pt x="1324" y="804"/>
                    </a:lnTo>
                    <a:lnTo>
                      <a:pt x="1323" y="792"/>
                    </a:lnTo>
                    <a:lnTo>
                      <a:pt x="1322" y="780"/>
                    </a:lnTo>
                    <a:lnTo>
                      <a:pt x="1319" y="770"/>
                    </a:lnTo>
                    <a:lnTo>
                      <a:pt x="1317" y="758"/>
                    </a:lnTo>
                    <a:lnTo>
                      <a:pt x="1314" y="748"/>
                    </a:lnTo>
                    <a:lnTo>
                      <a:pt x="1313" y="736"/>
                    </a:lnTo>
                    <a:lnTo>
                      <a:pt x="1312" y="724"/>
                    </a:lnTo>
                    <a:lnTo>
                      <a:pt x="1312" y="712"/>
                    </a:lnTo>
                    <a:lnTo>
                      <a:pt x="1292" y="702"/>
                    </a:lnTo>
                    <a:lnTo>
                      <a:pt x="1272" y="694"/>
                    </a:lnTo>
                    <a:lnTo>
                      <a:pt x="1251" y="685"/>
                    </a:lnTo>
                    <a:lnTo>
                      <a:pt x="1231" y="677"/>
                    </a:lnTo>
                    <a:lnTo>
                      <a:pt x="1221" y="671"/>
                    </a:lnTo>
                    <a:lnTo>
                      <a:pt x="1211" y="666"/>
                    </a:lnTo>
                    <a:lnTo>
                      <a:pt x="1203" y="660"/>
                    </a:lnTo>
                    <a:lnTo>
                      <a:pt x="1195" y="652"/>
                    </a:lnTo>
                    <a:lnTo>
                      <a:pt x="1186" y="645"/>
                    </a:lnTo>
                    <a:lnTo>
                      <a:pt x="1178" y="637"/>
                    </a:lnTo>
                    <a:lnTo>
                      <a:pt x="1171" y="627"/>
                    </a:lnTo>
                    <a:lnTo>
                      <a:pt x="1164" y="618"/>
                    </a:lnTo>
                    <a:lnTo>
                      <a:pt x="1156" y="615"/>
                    </a:lnTo>
                    <a:lnTo>
                      <a:pt x="1149" y="613"/>
                    </a:lnTo>
                    <a:lnTo>
                      <a:pt x="1143" y="611"/>
                    </a:lnTo>
                    <a:lnTo>
                      <a:pt x="1135" y="608"/>
                    </a:lnTo>
                    <a:lnTo>
                      <a:pt x="1128" y="605"/>
                    </a:lnTo>
                    <a:lnTo>
                      <a:pt x="1122" y="602"/>
                    </a:lnTo>
                    <a:lnTo>
                      <a:pt x="1115" y="598"/>
                    </a:lnTo>
                    <a:lnTo>
                      <a:pt x="1108" y="595"/>
                    </a:lnTo>
                    <a:lnTo>
                      <a:pt x="1100" y="594"/>
                    </a:lnTo>
                    <a:lnTo>
                      <a:pt x="1093" y="593"/>
                    </a:lnTo>
                    <a:lnTo>
                      <a:pt x="1087" y="592"/>
                    </a:lnTo>
                    <a:lnTo>
                      <a:pt x="1079" y="590"/>
                    </a:lnTo>
                    <a:lnTo>
                      <a:pt x="1067" y="585"/>
                    </a:lnTo>
                    <a:lnTo>
                      <a:pt x="1054" y="578"/>
                    </a:lnTo>
                    <a:lnTo>
                      <a:pt x="1041" y="571"/>
                    </a:lnTo>
                    <a:lnTo>
                      <a:pt x="1029" y="565"/>
                    </a:lnTo>
                    <a:lnTo>
                      <a:pt x="1017" y="558"/>
                    </a:lnTo>
                    <a:lnTo>
                      <a:pt x="1003" y="554"/>
                    </a:lnTo>
                    <a:lnTo>
                      <a:pt x="997" y="548"/>
                    </a:lnTo>
                    <a:lnTo>
                      <a:pt x="990" y="542"/>
                    </a:lnTo>
                    <a:lnTo>
                      <a:pt x="984" y="536"/>
                    </a:lnTo>
                    <a:lnTo>
                      <a:pt x="977" y="530"/>
                    </a:lnTo>
                    <a:lnTo>
                      <a:pt x="970" y="522"/>
                    </a:lnTo>
                    <a:lnTo>
                      <a:pt x="965" y="516"/>
                    </a:lnTo>
                    <a:lnTo>
                      <a:pt x="959" y="509"/>
                    </a:lnTo>
                    <a:lnTo>
                      <a:pt x="954" y="500"/>
                    </a:lnTo>
                    <a:lnTo>
                      <a:pt x="952" y="496"/>
                    </a:lnTo>
                    <a:lnTo>
                      <a:pt x="949" y="493"/>
                    </a:lnTo>
                    <a:lnTo>
                      <a:pt x="946" y="488"/>
                    </a:lnTo>
                    <a:lnTo>
                      <a:pt x="943" y="485"/>
                    </a:lnTo>
                    <a:lnTo>
                      <a:pt x="940" y="481"/>
                    </a:lnTo>
                    <a:lnTo>
                      <a:pt x="936" y="478"/>
                    </a:lnTo>
                    <a:lnTo>
                      <a:pt x="935" y="473"/>
                    </a:lnTo>
                    <a:lnTo>
                      <a:pt x="934" y="468"/>
                    </a:lnTo>
                    <a:lnTo>
                      <a:pt x="925" y="454"/>
                    </a:lnTo>
                    <a:lnTo>
                      <a:pt x="916" y="439"/>
                    </a:lnTo>
                    <a:lnTo>
                      <a:pt x="909" y="424"/>
                    </a:lnTo>
                    <a:lnTo>
                      <a:pt x="901" y="409"/>
                    </a:lnTo>
                    <a:lnTo>
                      <a:pt x="895" y="394"/>
                    </a:lnTo>
                    <a:lnTo>
                      <a:pt x="887" y="381"/>
                    </a:lnTo>
                    <a:lnTo>
                      <a:pt x="878" y="366"/>
                    </a:lnTo>
                    <a:lnTo>
                      <a:pt x="868" y="351"/>
                    </a:lnTo>
                    <a:lnTo>
                      <a:pt x="864" y="344"/>
                    </a:lnTo>
                    <a:lnTo>
                      <a:pt x="860" y="336"/>
                    </a:lnTo>
                    <a:lnTo>
                      <a:pt x="854" y="329"/>
                    </a:lnTo>
                    <a:lnTo>
                      <a:pt x="848" y="322"/>
                    </a:lnTo>
                    <a:lnTo>
                      <a:pt x="842" y="315"/>
                    </a:lnTo>
                    <a:lnTo>
                      <a:pt x="837" y="309"/>
                    </a:lnTo>
                    <a:lnTo>
                      <a:pt x="836" y="304"/>
                    </a:lnTo>
                    <a:lnTo>
                      <a:pt x="835" y="301"/>
                    </a:lnTo>
                    <a:lnTo>
                      <a:pt x="835" y="297"/>
                    </a:lnTo>
                    <a:lnTo>
                      <a:pt x="836" y="293"/>
                    </a:lnTo>
                    <a:lnTo>
                      <a:pt x="827" y="281"/>
                    </a:lnTo>
                    <a:lnTo>
                      <a:pt x="820" y="270"/>
                    </a:lnTo>
                    <a:lnTo>
                      <a:pt x="813" y="258"/>
                    </a:lnTo>
                    <a:lnTo>
                      <a:pt x="806" y="245"/>
                    </a:lnTo>
                    <a:lnTo>
                      <a:pt x="800" y="233"/>
                    </a:lnTo>
                    <a:lnTo>
                      <a:pt x="794" y="220"/>
                    </a:lnTo>
                    <a:lnTo>
                      <a:pt x="788" y="207"/>
                    </a:lnTo>
                    <a:lnTo>
                      <a:pt x="783" y="193"/>
                    </a:lnTo>
                    <a:lnTo>
                      <a:pt x="779" y="189"/>
                    </a:lnTo>
                    <a:lnTo>
                      <a:pt x="774" y="184"/>
                    </a:lnTo>
                    <a:lnTo>
                      <a:pt x="770" y="179"/>
                    </a:lnTo>
                    <a:lnTo>
                      <a:pt x="767" y="173"/>
                    </a:lnTo>
                    <a:lnTo>
                      <a:pt x="763" y="169"/>
                    </a:lnTo>
                    <a:lnTo>
                      <a:pt x="759" y="166"/>
                    </a:lnTo>
                    <a:lnTo>
                      <a:pt x="753" y="164"/>
                    </a:lnTo>
                    <a:lnTo>
                      <a:pt x="747" y="163"/>
                    </a:lnTo>
                    <a:lnTo>
                      <a:pt x="744" y="160"/>
                    </a:lnTo>
                    <a:lnTo>
                      <a:pt x="742" y="156"/>
                    </a:lnTo>
                    <a:lnTo>
                      <a:pt x="741" y="153"/>
                    </a:lnTo>
                    <a:lnTo>
                      <a:pt x="739" y="149"/>
                    </a:lnTo>
                    <a:lnTo>
                      <a:pt x="737" y="146"/>
                    </a:lnTo>
                    <a:lnTo>
                      <a:pt x="736" y="143"/>
                    </a:lnTo>
                    <a:lnTo>
                      <a:pt x="734" y="138"/>
                    </a:lnTo>
                    <a:lnTo>
                      <a:pt x="733" y="13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806880" y="5781960"/>
                <a:ext cx="530280" cy="228600"/>
              </a:xfrm>
              <a:custGeom>
                <a:avLst/>
                <a:gdLst/>
                <a:ahLst/>
                <a:rect l="l" t="t" r="r" b="b"/>
                <a:pathLst>
                  <a:path w="1001" h="433">
                    <a:moveTo>
                      <a:pt x="0" y="292"/>
                    </a:moveTo>
                    <a:lnTo>
                      <a:pt x="34" y="301"/>
                    </a:lnTo>
                    <a:lnTo>
                      <a:pt x="71" y="311"/>
                    </a:lnTo>
                    <a:lnTo>
                      <a:pt x="110" y="324"/>
                    </a:lnTo>
                    <a:lnTo>
                      <a:pt x="151" y="338"/>
                    </a:lnTo>
                    <a:lnTo>
                      <a:pt x="238" y="365"/>
                    </a:lnTo>
                    <a:lnTo>
                      <a:pt x="329" y="393"/>
                    </a:lnTo>
                    <a:lnTo>
                      <a:pt x="376" y="405"/>
                    </a:lnTo>
                    <a:lnTo>
                      <a:pt x="421" y="416"/>
                    </a:lnTo>
                    <a:lnTo>
                      <a:pt x="443" y="420"/>
                    </a:lnTo>
                    <a:lnTo>
                      <a:pt x="465" y="424"/>
                    </a:lnTo>
                    <a:lnTo>
                      <a:pt x="488" y="428"/>
                    </a:lnTo>
                    <a:lnTo>
                      <a:pt x="510" y="430"/>
                    </a:lnTo>
                    <a:lnTo>
                      <a:pt x="531" y="432"/>
                    </a:lnTo>
                    <a:lnTo>
                      <a:pt x="552" y="433"/>
                    </a:lnTo>
                    <a:lnTo>
                      <a:pt x="572" y="433"/>
                    </a:lnTo>
                    <a:lnTo>
                      <a:pt x="592" y="433"/>
                    </a:lnTo>
                    <a:lnTo>
                      <a:pt x="612" y="431"/>
                    </a:lnTo>
                    <a:lnTo>
                      <a:pt x="631" y="429"/>
                    </a:lnTo>
                    <a:lnTo>
                      <a:pt x="649" y="425"/>
                    </a:lnTo>
                    <a:lnTo>
                      <a:pt x="665" y="420"/>
                    </a:lnTo>
                    <a:lnTo>
                      <a:pt x="671" y="420"/>
                    </a:lnTo>
                    <a:lnTo>
                      <a:pt x="677" y="421"/>
                    </a:lnTo>
                    <a:lnTo>
                      <a:pt x="685" y="421"/>
                    </a:lnTo>
                    <a:lnTo>
                      <a:pt x="693" y="422"/>
                    </a:lnTo>
                    <a:lnTo>
                      <a:pt x="701" y="422"/>
                    </a:lnTo>
                    <a:lnTo>
                      <a:pt x="710" y="422"/>
                    </a:lnTo>
                    <a:lnTo>
                      <a:pt x="716" y="421"/>
                    </a:lnTo>
                    <a:lnTo>
                      <a:pt x="720" y="420"/>
                    </a:lnTo>
                    <a:lnTo>
                      <a:pt x="720" y="415"/>
                    </a:lnTo>
                    <a:lnTo>
                      <a:pt x="726" y="413"/>
                    </a:lnTo>
                    <a:lnTo>
                      <a:pt x="731" y="412"/>
                    </a:lnTo>
                    <a:lnTo>
                      <a:pt x="736" y="411"/>
                    </a:lnTo>
                    <a:lnTo>
                      <a:pt x="743" y="411"/>
                    </a:lnTo>
                    <a:lnTo>
                      <a:pt x="750" y="411"/>
                    </a:lnTo>
                    <a:lnTo>
                      <a:pt x="756" y="412"/>
                    </a:lnTo>
                    <a:lnTo>
                      <a:pt x="764" y="413"/>
                    </a:lnTo>
                    <a:lnTo>
                      <a:pt x="770" y="415"/>
                    </a:lnTo>
                    <a:lnTo>
                      <a:pt x="773" y="412"/>
                    </a:lnTo>
                    <a:lnTo>
                      <a:pt x="777" y="410"/>
                    </a:lnTo>
                    <a:lnTo>
                      <a:pt x="780" y="407"/>
                    </a:lnTo>
                    <a:lnTo>
                      <a:pt x="782" y="405"/>
                    </a:lnTo>
                    <a:lnTo>
                      <a:pt x="785" y="403"/>
                    </a:lnTo>
                    <a:lnTo>
                      <a:pt x="787" y="400"/>
                    </a:lnTo>
                    <a:lnTo>
                      <a:pt x="789" y="398"/>
                    </a:lnTo>
                    <a:lnTo>
                      <a:pt x="791" y="396"/>
                    </a:lnTo>
                    <a:lnTo>
                      <a:pt x="789" y="397"/>
                    </a:lnTo>
                    <a:lnTo>
                      <a:pt x="787" y="398"/>
                    </a:lnTo>
                    <a:lnTo>
                      <a:pt x="786" y="399"/>
                    </a:lnTo>
                    <a:lnTo>
                      <a:pt x="784" y="401"/>
                    </a:lnTo>
                    <a:lnTo>
                      <a:pt x="782" y="402"/>
                    </a:lnTo>
                    <a:lnTo>
                      <a:pt x="780" y="402"/>
                    </a:lnTo>
                    <a:lnTo>
                      <a:pt x="778" y="402"/>
                    </a:lnTo>
                    <a:lnTo>
                      <a:pt x="776" y="401"/>
                    </a:lnTo>
                    <a:lnTo>
                      <a:pt x="778" y="399"/>
                    </a:lnTo>
                    <a:lnTo>
                      <a:pt x="779" y="397"/>
                    </a:lnTo>
                    <a:lnTo>
                      <a:pt x="780" y="396"/>
                    </a:lnTo>
                    <a:lnTo>
                      <a:pt x="782" y="394"/>
                    </a:lnTo>
                    <a:lnTo>
                      <a:pt x="783" y="393"/>
                    </a:lnTo>
                    <a:lnTo>
                      <a:pt x="785" y="391"/>
                    </a:lnTo>
                    <a:lnTo>
                      <a:pt x="786" y="388"/>
                    </a:lnTo>
                    <a:lnTo>
                      <a:pt x="787" y="387"/>
                    </a:lnTo>
                    <a:lnTo>
                      <a:pt x="785" y="387"/>
                    </a:lnTo>
                    <a:lnTo>
                      <a:pt x="782" y="388"/>
                    </a:lnTo>
                    <a:lnTo>
                      <a:pt x="780" y="389"/>
                    </a:lnTo>
                    <a:lnTo>
                      <a:pt x="777" y="392"/>
                    </a:lnTo>
                    <a:lnTo>
                      <a:pt x="774" y="393"/>
                    </a:lnTo>
                    <a:lnTo>
                      <a:pt x="772" y="394"/>
                    </a:lnTo>
                    <a:lnTo>
                      <a:pt x="770" y="394"/>
                    </a:lnTo>
                    <a:lnTo>
                      <a:pt x="767" y="394"/>
                    </a:lnTo>
                    <a:lnTo>
                      <a:pt x="768" y="393"/>
                    </a:lnTo>
                    <a:lnTo>
                      <a:pt x="769" y="392"/>
                    </a:lnTo>
                    <a:lnTo>
                      <a:pt x="770" y="391"/>
                    </a:lnTo>
                    <a:lnTo>
                      <a:pt x="771" y="389"/>
                    </a:lnTo>
                    <a:lnTo>
                      <a:pt x="772" y="388"/>
                    </a:lnTo>
                    <a:lnTo>
                      <a:pt x="773" y="388"/>
                    </a:lnTo>
                    <a:lnTo>
                      <a:pt x="774" y="387"/>
                    </a:lnTo>
                    <a:lnTo>
                      <a:pt x="776" y="387"/>
                    </a:lnTo>
                    <a:lnTo>
                      <a:pt x="766" y="385"/>
                    </a:lnTo>
                    <a:lnTo>
                      <a:pt x="760" y="383"/>
                    </a:lnTo>
                    <a:lnTo>
                      <a:pt x="752" y="381"/>
                    </a:lnTo>
                    <a:lnTo>
                      <a:pt x="746" y="379"/>
                    </a:lnTo>
                    <a:lnTo>
                      <a:pt x="740" y="378"/>
                    </a:lnTo>
                    <a:lnTo>
                      <a:pt x="733" y="377"/>
                    </a:lnTo>
                    <a:lnTo>
                      <a:pt x="727" y="378"/>
                    </a:lnTo>
                    <a:lnTo>
                      <a:pt x="722" y="379"/>
                    </a:lnTo>
                    <a:lnTo>
                      <a:pt x="715" y="381"/>
                    </a:lnTo>
                    <a:lnTo>
                      <a:pt x="715" y="380"/>
                    </a:lnTo>
                    <a:lnTo>
                      <a:pt x="716" y="379"/>
                    </a:lnTo>
                    <a:lnTo>
                      <a:pt x="716" y="378"/>
                    </a:lnTo>
                    <a:lnTo>
                      <a:pt x="718" y="377"/>
                    </a:lnTo>
                    <a:lnTo>
                      <a:pt x="719" y="377"/>
                    </a:lnTo>
                    <a:lnTo>
                      <a:pt x="720" y="376"/>
                    </a:lnTo>
                    <a:lnTo>
                      <a:pt x="723" y="375"/>
                    </a:lnTo>
                    <a:lnTo>
                      <a:pt x="724" y="373"/>
                    </a:lnTo>
                    <a:lnTo>
                      <a:pt x="675" y="365"/>
                    </a:lnTo>
                    <a:lnTo>
                      <a:pt x="651" y="363"/>
                    </a:lnTo>
                    <a:lnTo>
                      <a:pt x="627" y="360"/>
                    </a:lnTo>
                    <a:lnTo>
                      <a:pt x="605" y="356"/>
                    </a:lnTo>
                    <a:lnTo>
                      <a:pt x="583" y="351"/>
                    </a:lnTo>
                    <a:lnTo>
                      <a:pt x="561" y="348"/>
                    </a:lnTo>
                    <a:lnTo>
                      <a:pt x="539" y="345"/>
                    </a:lnTo>
                    <a:lnTo>
                      <a:pt x="515" y="343"/>
                    </a:lnTo>
                    <a:lnTo>
                      <a:pt x="491" y="343"/>
                    </a:lnTo>
                    <a:lnTo>
                      <a:pt x="482" y="341"/>
                    </a:lnTo>
                    <a:lnTo>
                      <a:pt x="473" y="339"/>
                    </a:lnTo>
                    <a:lnTo>
                      <a:pt x="463" y="337"/>
                    </a:lnTo>
                    <a:lnTo>
                      <a:pt x="454" y="333"/>
                    </a:lnTo>
                    <a:lnTo>
                      <a:pt x="445" y="331"/>
                    </a:lnTo>
                    <a:lnTo>
                      <a:pt x="436" y="329"/>
                    </a:lnTo>
                    <a:lnTo>
                      <a:pt x="427" y="326"/>
                    </a:lnTo>
                    <a:lnTo>
                      <a:pt x="418" y="323"/>
                    </a:lnTo>
                    <a:lnTo>
                      <a:pt x="401" y="321"/>
                    </a:lnTo>
                    <a:lnTo>
                      <a:pt x="384" y="318"/>
                    </a:lnTo>
                    <a:lnTo>
                      <a:pt x="368" y="313"/>
                    </a:lnTo>
                    <a:lnTo>
                      <a:pt x="352" y="308"/>
                    </a:lnTo>
                    <a:lnTo>
                      <a:pt x="336" y="303"/>
                    </a:lnTo>
                    <a:lnTo>
                      <a:pt x="322" y="296"/>
                    </a:lnTo>
                    <a:lnTo>
                      <a:pt x="306" y="291"/>
                    </a:lnTo>
                    <a:lnTo>
                      <a:pt x="290" y="287"/>
                    </a:lnTo>
                    <a:lnTo>
                      <a:pt x="291" y="288"/>
                    </a:lnTo>
                    <a:lnTo>
                      <a:pt x="291" y="290"/>
                    </a:lnTo>
                    <a:lnTo>
                      <a:pt x="291" y="291"/>
                    </a:lnTo>
                    <a:lnTo>
                      <a:pt x="290" y="292"/>
                    </a:lnTo>
                    <a:lnTo>
                      <a:pt x="289" y="293"/>
                    </a:lnTo>
                    <a:lnTo>
                      <a:pt x="288" y="294"/>
                    </a:lnTo>
                    <a:lnTo>
                      <a:pt x="287" y="295"/>
                    </a:lnTo>
                    <a:lnTo>
                      <a:pt x="287" y="295"/>
                    </a:lnTo>
                    <a:lnTo>
                      <a:pt x="286" y="296"/>
                    </a:lnTo>
                    <a:lnTo>
                      <a:pt x="261" y="290"/>
                    </a:lnTo>
                    <a:lnTo>
                      <a:pt x="238" y="282"/>
                    </a:lnTo>
                    <a:lnTo>
                      <a:pt x="215" y="272"/>
                    </a:lnTo>
                    <a:lnTo>
                      <a:pt x="191" y="263"/>
                    </a:lnTo>
                    <a:lnTo>
                      <a:pt x="168" y="253"/>
                    </a:lnTo>
                    <a:lnTo>
                      <a:pt x="146" y="242"/>
                    </a:lnTo>
                    <a:lnTo>
                      <a:pt x="123" y="233"/>
                    </a:lnTo>
                    <a:lnTo>
                      <a:pt x="99" y="224"/>
                    </a:lnTo>
                    <a:lnTo>
                      <a:pt x="93" y="220"/>
                    </a:lnTo>
                    <a:lnTo>
                      <a:pt x="87" y="216"/>
                    </a:lnTo>
                    <a:lnTo>
                      <a:pt x="80" y="213"/>
                    </a:lnTo>
                    <a:lnTo>
                      <a:pt x="73" y="209"/>
                    </a:lnTo>
                    <a:lnTo>
                      <a:pt x="67" y="205"/>
                    </a:lnTo>
                    <a:lnTo>
                      <a:pt x="59" y="202"/>
                    </a:lnTo>
                    <a:lnTo>
                      <a:pt x="52" y="199"/>
                    </a:lnTo>
                    <a:lnTo>
                      <a:pt x="44" y="197"/>
                    </a:lnTo>
                    <a:lnTo>
                      <a:pt x="41" y="211"/>
                    </a:lnTo>
                    <a:lnTo>
                      <a:pt x="39" y="224"/>
                    </a:lnTo>
                    <a:lnTo>
                      <a:pt x="38" y="238"/>
                    </a:lnTo>
                    <a:lnTo>
                      <a:pt x="38" y="252"/>
                    </a:lnTo>
                    <a:lnTo>
                      <a:pt x="38" y="266"/>
                    </a:lnTo>
                    <a:lnTo>
                      <a:pt x="39" y="279"/>
                    </a:lnTo>
                    <a:lnTo>
                      <a:pt x="40" y="293"/>
                    </a:lnTo>
                    <a:lnTo>
                      <a:pt x="40" y="307"/>
                    </a:lnTo>
                    <a:lnTo>
                      <a:pt x="40" y="307"/>
                    </a:lnTo>
                    <a:lnTo>
                      <a:pt x="38" y="306"/>
                    </a:lnTo>
                    <a:lnTo>
                      <a:pt x="33" y="305"/>
                    </a:lnTo>
                    <a:lnTo>
                      <a:pt x="26" y="303"/>
                    </a:lnTo>
                    <a:lnTo>
                      <a:pt x="19" y="302"/>
                    </a:lnTo>
                    <a:lnTo>
                      <a:pt x="12" y="298"/>
                    </a:lnTo>
                    <a:lnTo>
                      <a:pt x="5" y="295"/>
                    </a:lnTo>
                    <a:lnTo>
                      <a:pt x="0" y="292"/>
                    </a:lnTo>
                    <a:close/>
                    <a:moveTo>
                      <a:pt x="780" y="416"/>
                    </a:moveTo>
                    <a:lnTo>
                      <a:pt x="781" y="417"/>
                    </a:lnTo>
                    <a:lnTo>
                      <a:pt x="782" y="417"/>
                    </a:lnTo>
                    <a:lnTo>
                      <a:pt x="783" y="417"/>
                    </a:lnTo>
                    <a:lnTo>
                      <a:pt x="784" y="417"/>
                    </a:lnTo>
                    <a:lnTo>
                      <a:pt x="785" y="417"/>
                    </a:lnTo>
                    <a:lnTo>
                      <a:pt x="786" y="417"/>
                    </a:lnTo>
                    <a:lnTo>
                      <a:pt x="787" y="418"/>
                    </a:lnTo>
                    <a:lnTo>
                      <a:pt x="788" y="418"/>
                    </a:lnTo>
                    <a:lnTo>
                      <a:pt x="789" y="417"/>
                    </a:lnTo>
                    <a:lnTo>
                      <a:pt x="789" y="416"/>
                    </a:lnTo>
                    <a:lnTo>
                      <a:pt x="790" y="415"/>
                    </a:lnTo>
                    <a:lnTo>
                      <a:pt x="790" y="414"/>
                    </a:lnTo>
                    <a:lnTo>
                      <a:pt x="790" y="413"/>
                    </a:lnTo>
                    <a:lnTo>
                      <a:pt x="791" y="412"/>
                    </a:lnTo>
                    <a:lnTo>
                      <a:pt x="791" y="411"/>
                    </a:lnTo>
                    <a:lnTo>
                      <a:pt x="791" y="410"/>
                    </a:lnTo>
                    <a:lnTo>
                      <a:pt x="790" y="411"/>
                    </a:lnTo>
                    <a:lnTo>
                      <a:pt x="788" y="411"/>
                    </a:lnTo>
                    <a:lnTo>
                      <a:pt x="787" y="412"/>
                    </a:lnTo>
                    <a:lnTo>
                      <a:pt x="785" y="413"/>
                    </a:lnTo>
                    <a:lnTo>
                      <a:pt x="784" y="414"/>
                    </a:lnTo>
                    <a:lnTo>
                      <a:pt x="783" y="415"/>
                    </a:lnTo>
                    <a:lnTo>
                      <a:pt x="781" y="415"/>
                    </a:lnTo>
                    <a:lnTo>
                      <a:pt x="780" y="416"/>
                    </a:lnTo>
                    <a:close/>
                    <a:moveTo>
                      <a:pt x="806" y="419"/>
                    </a:moveTo>
                    <a:lnTo>
                      <a:pt x="809" y="419"/>
                    </a:lnTo>
                    <a:lnTo>
                      <a:pt x="813" y="419"/>
                    </a:lnTo>
                    <a:lnTo>
                      <a:pt x="815" y="419"/>
                    </a:lnTo>
                    <a:lnTo>
                      <a:pt x="817" y="418"/>
                    </a:lnTo>
                    <a:lnTo>
                      <a:pt x="820" y="418"/>
                    </a:lnTo>
                    <a:lnTo>
                      <a:pt x="822" y="417"/>
                    </a:lnTo>
                    <a:lnTo>
                      <a:pt x="824" y="416"/>
                    </a:lnTo>
                    <a:lnTo>
                      <a:pt x="826" y="415"/>
                    </a:lnTo>
                    <a:lnTo>
                      <a:pt x="826" y="410"/>
                    </a:lnTo>
                    <a:lnTo>
                      <a:pt x="836" y="410"/>
                    </a:lnTo>
                    <a:lnTo>
                      <a:pt x="838" y="407"/>
                    </a:lnTo>
                    <a:lnTo>
                      <a:pt x="840" y="403"/>
                    </a:lnTo>
                    <a:lnTo>
                      <a:pt x="843" y="399"/>
                    </a:lnTo>
                    <a:lnTo>
                      <a:pt x="846" y="395"/>
                    </a:lnTo>
                    <a:lnTo>
                      <a:pt x="850" y="391"/>
                    </a:lnTo>
                    <a:lnTo>
                      <a:pt x="854" y="387"/>
                    </a:lnTo>
                    <a:lnTo>
                      <a:pt x="857" y="385"/>
                    </a:lnTo>
                    <a:lnTo>
                      <a:pt x="861" y="384"/>
                    </a:lnTo>
                    <a:lnTo>
                      <a:pt x="878" y="346"/>
                    </a:lnTo>
                    <a:lnTo>
                      <a:pt x="898" y="300"/>
                    </a:lnTo>
                    <a:lnTo>
                      <a:pt x="919" y="249"/>
                    </a:lnTo>
                    <a:lnTo>
                      <a:pt x="941" y="195"/>
                    </a:lnTo>
                    <a:lnTo>
                      <a:pt x="951" y="167"/>
                    </a:lnTo>
                    <a:lnTo>
                      <a:pt x="961" y="141"/>
                    </a:lnTo>
                    <a:lnTo>
                      <a:pt x="969" y="116"/>
                    </a:lnTo>
                    <a:lnTo>
                      <a:pt x="977" y="91"/>
                    </a:lnTo>
                    <a:lnTo>
                      <a:pt x="983" y="69"/>
                    </a:lnTo>
                    <a:lnTo>
                      <a:pt x="987" y="48"/>
                    </a:lnTo>
                    <a:lnTo>
                      <a:pt x="990" y="29"/>
                    </a:lnTo>
                    <a:lnTo>
                      <a:pt x="991" y="13"/>
                    </a:lnTo>
                    <a:lnTo>
                      <a:pt x="996" y="13"/>
                    </a:lnTo>
                    <a:lnTo>
                      <a:pt x="1001" y="13"/>
                    </a:lnTo>
                    <a:lnTo>
                      <a:pt x="1001" y="10"/>
                    </a:lnTo>
                    <a:lnTo>
                      <a:pt x="1001" y="9"/>
                    </a:lnTo>
                    <a:lnTo>
                      <a:pt x="1000" y="8"/>
                    </a:lnTo>
                    <a:lnTo>
                      <a:pt x="999" y="7"/>
                    </a:lnTo>
                    <a:lnTo>
                      <a:pt x="999" y="6"/>
                    </a:lnTo>
                    <a:lnTo>
                      <a:pt x="998" y="3"/>
                    </a:lnTo>
                    <a:lnTo>
                      <a:pt x="997" y="2"/>
                    </a:lnTo>
                    <a:lnTo>
                      <a:pt x="996" y="1"/>
                    </a:lnTo>
                    <a:lnTo>
                      <a:pt x="996" y="0"/>
                    </a:lnTo>
                    <a:lnTo>
                      <a:pt x="984" y="20"/>
                    </a:lnTo>
                    <a:lnTo>
                      <a:pt x="979" y="19"/>
                    </a:lnTo>
                    <a:lnTo>
                      <a:pt x="975" y="18"/>
                    </a:lnTo>
                    <a:lnTo>
                      <a:pt x="972" y="19"/>
                    </a:lnTo>
                    <a:lnTo>
                      <a:pt x="969" y="20"/>
                    </a:lnTo>
                    <a:lnTo>
                      <a:pt x="966" y="25"/>
                    </a:lnTo>
                    <a:lnTo>
                      <a:pt x="964" y="30"/>
                    </a:lnTo>
                    <a:lnTo>
                      <a:pt x="962" y="35"/>
                    </a:lnTo>
                    <a:lnTo>
                      <a:pt x="960" y="40"/>
                    </a:lnTo>
                    <a:lnTo>
                      <a:pt x="958" y="43"/>
                    </a:lnTo>
                    <a:lnTo>
                      <a:pt x="955" y="44"/>
                    </a:lnTo>
                    <a:lnTo>
                      <a:pt x="952" y="45"/>
                    </a:lnTo>
                    <a:lnTo>
                      <a:pt x="949" y="45"/>
                    </a:lnTo>
                    <a:lnTo>
                      <a:pt x="948" y="56"/>
                    </a:lnTo>
                    <a:lnTo>
                      <a:pt x="945" y="68"/>
                    </a:lnTo>
                    <a:lnTo>
                      <a:pt x="942" y="80"/>
                    </a:lnTo>
                    <a:lnTo>
                      <a:pt x="938" y="91"/>
                    </a:lnTo>
                    <a:lnTo>
                      <a:pt x="934" y="102"/>
                    </a:lnTo>
                    <a:lnTo>
                      <a:pt x="930" y="113"/>
                    </a:lnTo>
                    <a:lnTo>
                      <a:pt x="926" y="124"/>
                    </a:lnTo>
                    <a:lnTo>
                      <a:pt x="923" y="136"/>
                    </a:lnTo>
                    <a:lnTo>
                      <a:pt x="927" y="143"/>
                    </a:lnTo>
                    <a:lnTo>
                      <a:pt x="925" y="151"/>
                    </a:lnTo>
                    <a:lnTo>
                      <a:pt x="922" y="160"/>
                    </a:lnTo>
                    <a:lnTo>
                      <a:pt x="918" y="167"/>
                    </a:lnTo>
                    <a:lnTo>
                      <a:pt x="914" y="176"/>
                    </a:lnTo>
                    <a:lnTo>
                      <a:pt x="910" y="183"/>
                    </a:lnTo>
                    <a:lnTo>
                      <a:pt x="907" y="191"/>
                    </a:lnTo>
                    <a:lnTo>
                      <a:pt x="902" y="198"/>
                    </a:lnTo>
                    <a:lnTo>
                      <a:pt x="898" y="205"/>
                    </a:lnTo>
                    <a:lnTo>
                      <a:pt x="897" y="209"/>
                    </a:lnTo>
                    <a:lnTo>
                      <a:pt x="898" y="212"/>
                    </a:lnTo>
                    <a:lnTo>
                      <a:pt x="899" y="214"/>
                    </a:lnTo>
                    <a:lnTo>
                      <a:pt x="900" y="216"/>
                    </a:lnTo>
                    <a:lnTo>
                      <a:pt x="902" y="218"/>
                    </a:lnTo>
                    <a:lnTo>
                      <a:pt x="904" y="221"/>
                    </a:lnTo>
                    <a:lnTo>
                      <a:pt x="902" y="223"/>
                    </a:lnTo>
                    <a:lnTo>
                      <a:pt x="900" y="227"/>
                    </a:lnTo>
                    <a:lnTo>
                      <a:pt x="894" y="235"/>
                    </a:lnTo>
                    <a:lnTo>
                      <a:pt x="889" y="245"/>
                    </a:lnTo>
                    <a:lnTo>
                      <a:pt x="886" y="253"/>
                    </a:lnTo>
                    <a:lnTo>
                      <a:pt x="882" y="263"/>
                    </a:lnTo>
                    <a:lnTo>
                      <a:pt x="879" y="272"/>
                    </a:lnTo>
                    <a:lnTo>
                      <a:pt x="875" y="282"/>
                    </a:lnTo>
                    <a:lnTo>
                      <a:pt x="870" y="290"/>
                    </a:lnTo>
                    <a:lnTo>
                      <a:pt x="862" y="298"/>
                    </a:lnTo>
                    <a:lnTo>
                      <a:pt x="863" y="304"/>
                    </a:lnTo>
                    <a:lnTo>
                      <a:pt x="863" y="309"/>
                    </a:lnTo>
                    <a:lnTo>
                      <a:pt x="861" y="314"/>
                    </a:lnTo>
                    <a:lnTo>
                      <a:pt x="859" y="320"/>
                    </a:lnTo>
                    <a:lnTo>
                      <a:pt x="855" y="325"/>
                    </a:lnTo>
                    <a:lnTo>
                      <a:pt x="852" y="330"/>
                    </a:lnTo>
                    <a:lnTo>
                      <a:pt x="849" y="336"/>
                    </a:lnTo>
                    <a:lnTo>
                      <a:pt x="846" y="341"/>
                    </a:lnTo>
                    <a:lnTo>
                      <a:pt x="846" y="344"/>
                    </a:lnTo>
                    <a:lnTo>
                      <a:pt x="846" y="347"/>
                    </a:lnTo>
                    <a:lnTo>
                      <a:pt x="845" y="349"/>
                    </a:lnTo>
                    <a:lnTo>
                      <a:pt x="844" y="351"/>
                    </a:lnTo>
                    <a:lnTo>
                      <a:pt x="841" y="356"/>
                    </a:lnTo>
                    <a:lnTo>
                      <a:pt x="838" y="360"/>
                    </a:lnTo>
                    <a:lnTo>
                      <a:pt x="835" y="364"/>
                    </a:lnTo>
                    <a:lnTo>
                      <a:pt x="833" y="368"/>
                    </a:lnTo>
                    <a:lnTo>
                      <a:pt x="833" y="370"/>
                    </a:lnTo>
                    <a:lnTo>
                      <a:pt x="833" y="373"/>
                    </a:lnTo>
                    <a:lnTo>
                      <a:pt x="834" y="376"/>
                    </a:lnTo>
                    <a:lnTo>
                      <a:pt x="836" y="379"/>
                    </a:lnTo>
                    <a:lnTo>
                      <a:pt x="833" y="384"/>
                    </a:lnTo>
                    <a:lnTo>
                      <a:pt x="828" y="389"/>
                    </a:lnTo>
                    <a:lnTo>
                      <a:pt x="825" y="394"/>
                    </a:lnTo>
                    <a:lnTo>
                      <a:pt x="821" y="399"/>
                    </a:lnTo>
                    <a:lnTo>
                      <a:pt x="818" y="404"/>
                    </a:lnTo>
                    <a:lnTo>
                      <a:pt x="814" y="410"/>
                    </a:lnTo>
                    <a:lnTo>
                      <a:pt x="810" y="415"/>
                    </a:lnTo>
                    <a:lnTo>
                      <a:pt x="806" y="4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6114960" y="5708880"/>
                <a:ext cx="384120" cy="249120"/>
              </a:xfrm>
              <a:custGeom>
                <a:avLst/>
                <a:gdLst/>
                <a:ahLst/>
                <a:rect l="l" t="t" r="r" b="b"/>
                <a:pathLst>
                  <a:path w="726" h="472">
                    <a:moveTo>
                      <a:pt x="34" y="62"/>
                    </a:moveTo>
                    <a:lnTo>
                      <a:pt x="33" y="69"/>
                    </a:lnTo>
                    <a:lnTo>
                      <a:pt x="31" y="77"/>
                    </a:lnTo>
                    <a:lnTo>
                      <a:pt x="30" y="84"/>
                    </a:lnTo>
                    <a:lnTo>
                      <a:pt x="29" y="92"/>
                    </a:lnTo>
                    <a:lnTo>
                      <a:pt x="27" y="98"/>
                    </a:lnTo>
                    <a:lnTo>
                      <a:pt x="26" y="105"/>
                    </a:lnTo>
                    <a:lnTo>
                      <a:pt x="26" y="112"/>
                    </a:lnTo>
                    <a:lnTo>
                      <a:pt x="26" y="118"/>
                    </a:lnTo>
                    <a:lnTo>
                      <a:pt x="26" y="117"/>
                    </a:lnTo>
                    <a:lnTo>
                      <a:pt x="28" y="116"/>
                    </a:lnTo>
                    <a:lnTo>
                      <a:pt x="30" y="113"/>
                    </a:lnTo>
                    <a:lnTo>
                      <a:pt x="33" y="110"/>
                    </a:lnTo>
                    <a:lnTo>
                      <a:pt x="35" y="105"/>
                    </a:lnTo>
                    <a:lnTo>
                      <a:pt x="38" y="102"/>
                    </a:lnTo>
                    <a:lnTo>
                      <a:pt x="39" y="100"/>
                    </a:lnTo>
                    <a:lnTo>
                      <a:pt x="40" y="98"/>
                    </a:lnTo>
                    <a:lnTo>
                      <a:pt x="46" y="96"/>
                    </a:lnTo>
                    <a:lnTo>
                      <a:pt x="45" y="109"/>
                    </a:lnTo>
                    <a:lnTo>
                      <a:pt x="44" y="121"/>
                    </a:lnTo>
                    <a:lnTo>
                      <a:pt x="42" y="134"/>
                    </a:lnTo>
                    <a:lnTo>
                      <a:pt x="40" y="147"/>
                    </a:lnTo>
                    <a:lnTo>
                      <a:pt x="38" y="160"/>
                    </a:lnTo>
                    <a:lnTo>
                      <a:pt x="37" y="173"/>
                    </a:lnTo>
                    <a:lnTo>
                      <a:pt x="35" y="186"/>
                    </a:lnTo>
                    <a:lnTo>
                      <a:pt x="35" y="198"/>
                    </a:lnTo>
                    <a:lnTo>
                      <a:pt x="37" y="192"/>
                    </a:lnTo>
                    <a:lnTo>
                      <a:pt x="39" y="186"/>
                    </a:lnTo>
                    <a:lnTo>
                      <a:pt x="41" y="179"/>
                    </a:lnTo>
                    <a:lnTo>
                      <a:pt x="45" y="173"/>
                    </a:lnTo>
                    <a:lnTo>
                      <a:pt x="48" y="168"/>
                    </a:lnTo>
                    <a:lnTo>
                      <a:pt x="52" y="161"/>
                    </a:lnTo>
                    <a:lnTo>
                      <a:pt x="55" y="156"/>
                    </a:lnTo>
                    <a:lnTo>
                      <a:pt x="60" y="151"/>
                    </a:lnTo>
                    <a:lnTo>
                      <a:pt x="55" y="283"/>
                    </a:lnTo>
                    <a:lnTo>
                      <a:pt x="58" y="276"/>
                    </a:lnTo>
                    <a:lnTo>
                      <a:pt x="64" y="266"/>
                    </a:lnTo>
                    <a:lnTo>
                      <a:pt x="70" y="255"/>
                    </a:lnTo>
                    <a:lnTo>
                      <a:pt x="75" y="243"/>
                    </a:lnTo>
                    <a:lnTo>
                      <a:pt x="81" y="231"/>
                    </a:lnTo>
                    <a:lnTo>
                      <a:pt x="86" y="221"/>
                    </a:lnTo>
                    <a:lnTo>
                      <a:pt x="89" y="211"/>
                    </a:lnTo>
                    <a:lnTo>
                      <a:pt x="90" y="204"/>
                    </a:lnTo>
                    <a:lnTo>
                      <a:pt x="90" y="242"/>
                    </a:lnTo>
                    <a:lnTo>
                      <a:pt x="89" y="262"/>
                    </a:lnTo>
                    <a:lnTo>
                      <a:pt x="89" y="265"/>
                    </a:lnTo>
                    <a:lnTo>
                      <a:pt x="89" y="266"/>
                    </a:lnTo>
                    <a:lnTo>
                      <a:pt x="89" y="264"/>
                    </a:lnTo>
                    <a:lnTo>
                      <a:pt x="89" y="261"/>
                    </a:lnTo>
                    <a:lnTo>
                      <a:pt x="92" y="248"/>
                    </a:lnTo>
                    <a:lnTo>
                      <a:pt x="96" y="234"/>
                    </a:lnTo>
                    <a:lnTo>
                      <a:pt x="100" y="228"/>
                    </a:lnTo>
                    <a:lnTo>
                      <a:pt x="104" y="223"/>
                    </a:lnTo>
                    <a:lnTo>
                      <a:pt x="106" y="221"/>
                    </a:lnTo>
                    <a:lnTo>
                      <a:pt x="109" y="220"/>
                    </a:lnTo>
                    <a:lnTo>
                      <a:pt x="112" y="219"/>
                    </a:lnTo>
                    <a:lnTo>
                      <a:pt x="115" y="219"/>
                    </a:lnTo>
                    <a:lnTo>
                      <a:pt x="115" y="217"/>
                    </a:lnTo>
                    <a:lnTo>
                      <a:pt x="115" y="216"/>
                    </a:lnTo>
                    <a:lnTo>
                      <a:pt x="115" y="215"/>
                    </a:lnTo>
                    <a:lnTo>
                      <a:pt x="117" y="214"/>
                    </a:lnTo>
                    <a:lnTo>
                      <a:pt x="117" y="213"/>
                    </a:lnTo>
                    <a:lnTo>
                      <a:pt x="118" y="212"/>
                    </a:lnTo>
                    <a:lnTo>
                      <a:pt x="118" y="211"/>
                    </a:lnTo>
                    <a:lnTo>
                      <a:pt x="118" y="211"/>
                    </a:lnTo>
                    <a:lnTo>
                      <a:pt x="118" y="222"/>
                    </a:lnTo>
                    <a:lnTo>
                      <a:pt x="119" y="233"/>
                    </a:lnTo>
                    <a:lnTo>
                      <a:pt x="120" y="245"/>
                    </a:lnTo>
                    <a:lnTo>
                      <a:pt x="122" y="257"/>
                    </a:lnTo>
                    <a:lnTo>
                      <a:pt x="123" y="268"/>
                    </a:lnTo>
                    <a:lnTo>
                      <a:pt x="124" y="279"/>
                    </a:lnTo>
                    <a:lnTo>
                      <a:pt x="125" y="290"/>
                    </a:lnTo>
                    <a:lnTo>
                      <a:pt x="125" y="301"/>
                    </a:lnTo>
                    <a:lnTo>
                      <a:pt x="126" y="295"/>
                    </a:lnTo>
                    <a:lnTo>
                      <a:pt x="127" y="288"/>
                    </a:lnTo>
                    <a:lnTo>
                      <a:pt x="130" y="282"/>
                    </a:lnTo>
                    <a:lnTo>
                      <a:pt x="133" y="276"/>
                    </a:lnTo>
                    <a:lnTo>
                      <a:pt x="142" y="262"/>
                    </a:lnTo>
                    <a:lnTo>
                      <a:pt x="151" y="248"/>
                    </a:lnTo>
                    <a:lnTo>
                      <a:pt x="161" y="233"/>
                    </a:lnTo>
                    <a:lnTo>
                      <a:pt x="169" y="220"/>
                    </a:lnTo>
                    <a:lnTo>
                      <a:pt x="173" y="212"/>
                    </a:lnTo>
                    <a:lnTo>
                      <a:pt x="176" y="206"/>
                    </a:lnTo>
                    <a:lnTo>
                      <a:pt x="177" y="200"/>
                    </a:lnTo>
                    <a:lnTo>
                      <a:pt x="178" y="193"/>
                    </a:lnTo>
                    <a:lnTo>
                      <a:pt x="178" y="235"/>
                    </a:lnTo>
                    <a:lnTo>
                      <a:pt x="179" y="235"/>
                    </a:lnTo>
                    <a:lnTo>
                      <a:pt x="180" y="237"/>
                    </a:lnTo>
                    <a:lnTo>
                      <a:pt x="180" y="237"/>
                    </a:lnTo>
                    <a:lnTo>
                      <a:pt x="181" y="238"/>
                    </a:lnTo>
                    <a:lnTo>
                      <a:pt x="182" y="238"/>
                    </a:lnTo>
                    <a:lnTo>
                      <a:pt x="182" y="239"/>
                    </a:lnTo>
                    <a:lnTo>
                      <a:pt x="182" y="240"/>
                    </a:lnTo>
                    <a:lnTo>
                      <a:pt x="183" y="241"/>
                    </a:lnTo>
                    <a:lnTo>
                      <a:pt x="184" y="237"/>
                    </a:lnTo>
                    <a:lnTo>
                      <a:pt x="186" y="231"/>
                    </a:lnTo>
                    <a:lnTo>
                      <a:pt x="190" y="227"/>
                    </a:lnTo>
                    <a:lnTo>
                      <a:pt x="193" y="222"/>
                    </a:lnTo>
                    <a:lnTo>
                      <a:pt x="195" y="216"/>
                    </a:lnTo>
                    <a:lnTo>
                      <a:pt x="198" y="211"/>
                    </a:lnTo>
                    <a:lnTo>
                      <a:pt x="199" y="206"/>
                    </a:lnTo>
                    <a:lnTo>
                      <a:pt x="200" y="201"/>
                    </a:lnTo>
                    <a:lnTo>
                      <a:pt x="202" y="198"/>
                    </a:lnTo>
                    <a:lnTo>
                      <a:pt x="205" y="195"/>
                    </a:lnTo>
                    <a:lnTo>
                      <a:pt x="209" y="190"/>
                    </a:lnTo>
                    <a:lnTo>
                      <a:pt x="212" y="184"/>
                    </a:lnTo>
                    <a:lnTo>
                      <a:pt x="215" y="178"/>
                    </a:lnTo>
                    <a:lnTo>
                      <a:pt x="218" y="173"/>
                    </a:lnTo>
                    <a:lnTo>
                      <a:pt x="219" y="169"/>
                    </a:lnTo>
                    <a:lnTo>
                      <a:pt x="220" y="166"/>
                    </a:lnTo>
                    <a:lnTo>
                      <a:pt x="220" y="171"/>
                    </a:lnTo>
                    <a:lnTo>
                      <a:pt x="220" y="175"/>
                    </a:lnTo>
                    <a:lnTo>
                      <a:pt x="221" y="180"/>
                    </a:lnTo>
                    <a:lnTo>
                      <a:pt x="221" y="186"/>
                    </a:lnTo>
                    <a:lnTo>
                      <a:pt x="222" y="190"/>
                    </a:lnTo>
                    <a:lnTo>
                      <a:pt x="222" y="195"/>
                    </a:lnTo>
                    <a:lnTo>
                      <a:pt x="222" y="200"/>
                    </a:lnTo>
                    <a:lnTo>
                      <a:pt x="222" y="204"/>
                    </a:lnTo>
                    <a:lnTo>
                      <a:pt x="230" y="196"/>
                    </a:lnTo>
                    <a:lnTo>
                      <a:pt x="236" y="189"/>
                    </a:lnTo>
                    <a:lnTo>
                      <a:pt x="241" y="180"/>
                    </a:lnTo>
                    <a:lnTo>
                      <a:pt x="247" y="172"/>
                    </a:lnTo>
                    <a:lnTo>
                      <a:pt x="256" y="155"/>
                    </a:lnTo>
                    <a:lnTo>
                      <a:pt x="266" y="138"/>
                    </a:lnTo>
                    <a:lnTo>
                      <a:pt x="276" y="121"/>
                    </a:lnTo>
                    <a:lnTo>
                      <a:pt x="287" y="104"/>
                    </a:lnTo>
                    <a:lnTo>
                      <a:pt x="293" y="96"/>
                    </a:lnTo>
                    <a:lnTo>
                      <a:pt x="300" y="88"/>
                    </a:lnTo>
                    <a:lnTo>
                      <a:pt x="307" y="80"/>
                    </a:lnTo>
                    <a:lnTo>
                      <a:pt x="315" y="74"/>
                    </a:lnTo>
                    <a:lnTo>
                      <a:pt x="313" y="78"/>
                    </a:lnTo>
                    <a:lnTo>
                      <a:pt x="311" y="83"/>
                    </a:lnTo>
                    <a:lnTo>
                      <a:pt x="310" y="88"/>
                    </a:lnTo>
                    <a:lnTo>
                      <a:pt x="308" y="95"/>
                    </a:lnTo>
                    <a:lnTo>
                      <a:pt x="307" y="101"/>
                    </a:lnTo>
                    <a:lnTo>
                      <a:pt x="306" y="107"/>
                    </a:lnTo>
                    <a:lnTo>
                      <a:pt x="306" y="113"/>
                    </a:lnTo>
                    <a:lnTo>
                      <a:pt x="305" y="118"/>
                    </a:lnTo>
                    <a:lnTo>
                      <a:pt x="310" y="111"/>
                    </a:lnTo>
                    <a:lnTo>
                      <a:pt x="315" y="103"/>
                    </a:lnTo>
                    <a:lnTo>
                      <a:pt x="322" y="96"/>
                    </a:lnTo>
                    <a:lnTo>
                      <a:pt x="328" y="88"/>
                    </a:lnTo>
                    <a:lnTo>
                      <a:pt x="336" y="81"/>
                    </a:lnTo>
                    <a:lnTo>
                      <a:pt x="342" y="75"/>
                    </a:lnTo>
                    <a:lnTo>
                      <a:pt x="348" y="67"/>
                    </a:lnTo>
                    <a:lnTo>
                      <a:pt x="356" y="61"/>
                    </a:lnTo>
                    <a:lnTo>
                      <a:pt x="356" y="62"/>
                    </a:lnTo>
                    <a:lnTo>
                      <a:pt x="356" y="63"/>
                    </a:lnTo>
                    <a:lnTo>
                      <a:pt x="356" y="63"/>
                    </a:lnTo>
                    <a:lnTo>
                      <a:pt x="357" y="64"/>
                    </a:lnTo>
                    <a:lnTo>
                      <a:pt x="357" y="65"/>
                    </a:lnTo>
                    <a:lnTo>
                      <a:pt x="358" y="66"/>
                    </a:lnTo>
                    <a:lnTo>
                      <a:pt x="358" y="67"/>
                    </a:lnTo>
                    <a:lnTo>
                      <a:pt x="358" y="68"/>
                    </a:lnTo>
                    <a:lnTo>
                      <a:pt x="359" y="67"/>
                    </a:lnTo>
                    <a:lnTo>
                      <a:pt x="360" y="65"/>
                    </a:lnTo>
                    <a:lnTo>
                      <a:pt x="361" y="64"/>
                    </a:lnTo>
                    <a:lnTo>
                      <a:pt x="363" y="62"/>
                    </a:lnTo>
                    <a:lnTo>
                      <a:pt x="364" y="61"/>
                    </a:lnTo>
                    <a:lnTo>
                      <a:pt x="365" y="60"/>
                    </a:lnTo>
                    <a:lnTo>
                      <a:pt x="366" y="59"/>
                    </a:lnTo>
                    <a:lnTo>
                      <a:pt x="367" y="58"/>
                    </a:lnTo>
                    <a:lnTo>
                      <a:pt x="368" y="58"/>
                    </a:lnTo>
                    <a:lnTo>
                      <a:pt x="368" y="57"/>
                    </a:lnTo>
                    <a:lnTo>
                      <a:pt x="369" y="56"/>
                    </a:lnTo>
                    <a:lnTo>
                      <a:pt x="370" y="55"/>
                    </a:lnTo>
                    <a:lnTo>
                      <a:pt x="372" y="54"/>
                    </a:lnTo>
                    <a:lnTo>
                      <a:pt x="372" y="52"/>
                    </a:lnTo>
                    <a:lnTo>
                      <a:pt x="373" y="51"/>
                    </a:lnTo>
                    <a:lnTo>
                      <a:pt x="373" y="50"/>
                    </a:lnTo>
                    <a:lnTo>
                      <a:pt x="376" y="50"/>
                    </a:lnTo>
                    <a:lnTo>
                      <a:pt x="378" y="50"/>
                    </a:lnTo>
                    <a:lnTo>
                      <a:pt x="380" y="46"/>
                    </a:lnTo>
                    <a:lnTo>
                      <a:pt x="383" y="46"/>
                    </a:lnTo>
                    <a:lnTo>
                      <a:pt x="385" y="46"/>
                    </a:lnTo>
                    <a:lnTo>
                      <a:pt x="386" y="44"/>
                    </a:lnTo>
                    <a:lnTo>
                      <a:pt x="391" y="41"/>
                    </a:lnTo>
                    <a:lnTo>
                      <a:pt x="396" y="39"/>
                    </a:lnTo>
                    <a:lnTo>
                      <a:pt x="402" y="36"/>
                    </a:lnTo>
                    <a:lnTo>
                      <a:pt x="409" y="33"/>
                    </a:lnTo>
                    <a:lnTo>
                      <a:pt x="415" y="31"/>
                    </a:lnTo>
                    <a:lnTo>
                      <a:pt x="420" y="29"/>
                    </a:lnTo>
                    <a:lnTo>
                      <a:pt x="422" y="28"/>
                    </a:lnTo>
                    <a:lnTo>
                      <a:pt x="422" y="26"/>
                    </a:lnTo>
                    <a:lnTo>
                      <a:pt x="437" y="20"/>
                    </a:lnTo>
                    <a:lnTo>
                      <a:pt x="453" y="14"/>
                    </a:lnTo>
                    <a:lnTo>
                      <a:pt x="469" y="10"/>
                    </a:lnTo>
                    <a:lnTo>
                      <a:pt x="486" y="6"/>
                    </a:lnTo>
                    <a:lnTo>
                      <a:pt x="503" y="4"/>
                    </a:lnTo>
                    <a:lnTo>
                      <a:pt x="520" y="2"/>
                    </a:lnTo>
                    <a:lnTo>
                      <a:pt x="537" y="1"/>
                    </a:lnTo>
                    <a:lnTo>
                      <a:pt x="552" y="0"/>
                    </a:lnTo>
                    <a:lnTo>
                      <a:pt x="582" y="0"/>
                    </a:lnTo>
                    <a:lnTo>
                      <a:pt x="607" y="2"/>
                    </a:lnTo>
                    <a:lnTo>
                      <a:pt x="617" y="3"/>
                    </a:lnTo>
                    <a:lnTo>
                      <a:pt x="625" y="5"/>
                    </a:lnTo>
                    <a:lnTo>
                      <a:pt x="632" y="6"/>
                    </a:lnTo>
                    <a:lnTo>
                      <a:pt x="635" y="8"/>
                    </a:lnTo>
                    <a:lnTo>
                      <a:pt x="636" y="13"/>
                    </a:lnTo>
                    <a:lnTo>
                      <a:pt x="637" y="20"/>
                    </a:lnTo>
                    <a:lnTo>
                      <a:pt x="638" y="27"/>
                    </a:lnTo>
                    <a:lnTo>
                      <a:pt x="640" y="36"/>
                    </a:lnTo>
                    <a:lnTo>
                      <a:pt x="642" y="42"/>
                    </a:lnTo>
                    <a:lnTo>
                      <a:pt x="645" y="49"/>
                    </a:lnTo>
                    <a:lnTo>
                      <a:pt x="648" y="55"/>
                    </a:lnTo>
                    <a:lnTo>
                      <a:pt x="651" y="58"/>
                    </a:lnTo>
                    <a:lnTo>
                      <a:pt x="652" y="58"/>
                    </a:lnTo>
                    <a:lnTo>
                      <a:pt x="653" y="58"/>
                    </a:lnTo>
                    <a:lnTo>
                      <a:pt x="654" y="57"/>
                    </a:lnTo>
                    <a:lnTo>
                      <a:pt x="655" y="56"/>
                    </a:lnTo>
                    <a:lnTo>
                      <a:pt x="656" y="55"/>
                    </a:lnTo>
                    <a:lnTo>
                      <a:pt x="656" y="54"/>
                    </a:lnTo>
                    <a:lnTo>
                      <a:pt x="657" y="54"/>
                    </a:lnTo>
                    <a:lnTo>
                      <a:pt x="658" y="54"/>
                    </a:lnTo>
                    <a:lnTo>
                      <a:pt x="660" y="129"/>
                    </a:lnTo>
                    <a:lnTo>
                      <a:pt x="663" y="129"/>
                    </a:lnTo>
                    <a:lnTo>
                      <a:pt x="666" y="129"/>
                    </a:lnTo>
                    <a:lnTo>
                      <a:pt x="667" y="128"/>
                    </a:lnTo>
                    <a:lnTo>
                      <a:pt x="668" y="125"/>
                    </a:lnTo>
                    <a:lnTo>
                      <a:pt x="668" y="124"/>
                    </a:lnTo>
                    <a:lnTo>
                      <a:pt x="669" y="122"/>
                    </a:lnTo>
                    <a:lnTo>
                      <a:pt x="670" y="121"/>
                    </a:lnTo>
                    <a:lnTo>
                      <a:pt x="671" y="119"/>
                    </a:lnTo>
                    <a:lnTo>
                      <a:pt x="672" y="118"/>
                    </a:lnTo>
                    <a:lnTo>
                      <a:pt x="673" y="118"/>
                    </a:lnTo>
                    <a:lnTo>
                      <a:pt x="673" y="235"/>
                    </a:lnTo>
                    <a:lnTo>
                      <a:pt x="673" y="235"/>
                    </a:lnTo>
                    <a:lnTo>
                      <a:pt x="674" y="233"/>
                    </a:lnTo>
                    <a:lnTo>
                      <a:pt x="675" y="230"/>
                    </a:lnTo>
                    <a:lnTo>
                      <a:pt x="676" y="227"/>
                    </a:lnTo>
                    <a:lnTo>
                      <a:pt x="678" y="223"/>
                    </a:lnTo>
                    <a:lnTo>
                      <a:pt x="679" y="220"/>
                    </a:lnTo>
                    <a:lnTo>
                      <a:pt x="680" y="217"/>
                    </a:lnTo>
                    <a:lnTo>
                      <a:pt x="680" y="215"/>
                    </a:lnTo>
                    <a:lnTo>
                      <a:pt x="683" y="219"/>
                    </a:lnTo>
                    <a:lnTo>
                      <a:pt x="684" y="223"/>
                    </a:lnTo>
                    <a:lnTo>
                      <a:pt x="686" y="229"/>
                    </a:lnTo>
                    <a:lnTo>
                      <a:pt x="686" y="235"/>
                    </a:lnTo>
                    <a:lnTo>
                      <a:pt x="687" y="251"/>
                    </a:lnTo>
                    <a:lnTo>
                      <a:pt x="687" y="268"/>
                    </a:lnTo>
                    <a:lnTo>
                      <a:pt x="687" y="286"/>
                    </a:lnTo>
                    <a:lnTo>
                      <a:pt x="687" y="303"/>
                    </a:lnTo>
                    <a:lnTo>
                      <a:pt x="687" y="318"/>
                    </a:lnTo>
                    <a:lnTo>
                      <a:pt x="688" y="329"/>
                    </a:lnTo>
                    <a:lnTo>
                      <a:pt x="690" y="326"/>
                    </a:lnTo>
                    <a:lnTo>
                      <a:pt x="691" y="324"/>
                    </a:lnTo>
                    <a:lnTo>
                      <a:pt x="693" y="321"/>
                    </a:lnTo>
                    <a:lnTo>
                      <a:pt x="694" y="317"/>
                    </a:lnTo>
                    <a:lnTo>
                      <a:pt x="696" y="314"/>
                    </a:lnTo>
                    <a:lnTo>
                      <a:pt x="698" y="310"/>
                    </a:lnTo>
                    <a:lnTo>
                      <a:pt x="701" y="307"/>
                    </a:lnTo>
                    <a:lnTo>
                      <a:pt x="703" y="305"/>
                    </a:lnTo>
                    <a:lnTo>
                      <a:pt x="704" y="314"/>
                    </a:lnTo>
                    <a:lnTo>
                      <a:pt x="705" y="321"/>
                    </a:lnTo>
                    <a:lnTo>
                      <a:pt x="706" y="330"/>
                    </a:lnTo>
                    <a:lnTo>
                      <a:pt x="708" y="338"/>
                    </a:lnTo>
                    <a:lnTo>
                      <a:pt x="710" y="347"/>
                    </a:lnTo>
                    <a:lnTo>
                      <a:pt x="711" y="355"/>
                    </a:lnTo>
                    <a:lnTo>
                      <a:pt x="712" y="363"/>
                    </a:lnTo>
                    <a:lnTo>
                      <a:pt x="713" y="371"/>
                    </a:lnTo>
                    <a:lnTo>
                      <a:pt x="714" y="370"/>
                    </a:lnTo>
                    <a:lnTo>
                      <a:pt x="715" y="369"/>
                    </a:lnTo>
                    <a:lnTo>
                      <a:pt x="718" y="366"/>
                    </a:lnTo>
                    <a:lnTo>
                      <a:pt x="720" y="363"/>
                    </a:lnTo>
                    <a:lnTo>
                      <a:pt x="721" y="360"/>
                    </a:lnTo>
                    <a:lnTo>
                      <a:pt x="723" y="358"/>
                    </a:lnTo>
                    <a:lnTo>
                      <a:pt x="724" y="356"/>
                    </a:lnTo>
                    <a:lnTo>
                      <a:pt x="726" y="356"/>
                    </a:lnTo>
                    <a:lnTo>
                      <a:pt x="725" y="358"/>
                    </a:lnTo>
                    <a:lnTo>
                      <a:pt x="725" y="361"/>
                    </a:lnTo>
                    <a:lnTo>
                      <a:pt x="725" y="366"/>
                    </a:lnTo>
                    <a:lnTo>
                      <a:pt x="725" y="370"/>
                    </a:lnTo>
                    <a:lnTo>
                      <a:pt x="724" y="374"/>
                    </a:lnTo>
                    <a:lnTo>
                      <a:pt x="724" y="378"/>
                    </a:lnTo>
                    <a:lnTo>
                      <a:pt x="723" y="384"/>
                    </a:lnTo>
                    <a:lnTo>
                      <a:pt x="722" y="388"/>
                    </a:lnTo>
                    <a:lnTo>
                      <a:pt x="719" y="391"/>
                    </a:lnTo>
                    <a:lnTo>
                      <a:pt x="714" y="395"/>
                    </a:lnTo>
                    <a:lnTo>
                      <a:pt x="711" y="398"/>
                    </a:lnTo>
                    <a:lnTo>
                      <a:pt x="707" y="402"/>
                    </a:lnTo>
                    <a:lnTo>
                      <a:pt x="704" y="405"/>
                    </a:lnTo>
                    <a:lnTo>
                      <a:pt x="701" y="408"/>
                    </a:lnTo>
                    <a:lnTo>
                      <a:pt x="698" y="412"/>
                    </a:lnTo>
                    <a:lnTo>
                      <a:pt x="695" y="415"/>
                    </a:lnTo>
                    <a:lnTo>
                      <a:pt x="698" y="417"/>
                    </a:lnTo>
                    <a:lnTo>
                      <a:pt x="701" y="417"/>
                    </a:lnTo>
                    <a:lnTo>
                      <a:pt x="703" y="416"/>
                    </a:lnTo>
                    <a:lnTo>
                      <a:pt x="705" y="415"/>
                    </a:lnTo>
                    <a:lnTo>
                      <a:pt x="707" y="414"/>
                    </a:lnTo>
                    <a:lnTo>
                      <a:pt x="709" y="412"/>
                    </a:lnTo>
                    <a:lnTo>
                      <a:pt x="711" y="410"/>
                    </a:lnTo>
                    <a:lnTo>
                      <a:pt x="713" y="409"/>
                    </a:lnTo>
                    <a:lnTo>
                      <a:pt x="709" y="418"/>
                    </a:lnTo>
                    <a:lnTo>
                      <a:pt x="704" y="427"/>
                    </a:lnTo>
                    <a:lnTo>
                      <a:pt x="697" y="434"/>
                    </a:lnTo>
                    <a:lnTo>
                      <a:pt x="691" y="442"/>
                    </a:lnTo>
                    <a:lnTo>
                      <a:pt x="685" y="449"/>
                    </a:lnTo>
                    <a:lnTo>
                      <a:pt x="677" y="457"/>
                    </a:lnTo>
                    <a:lnTo>
                      <a:pt x="670" y="464"/>
                    </a:lnTo>
                    <a:lnTo>
                      <a:pt x="661" y="472"/>
                    </a:lnTo>
                    <a:lnTo>
                      <a:pt x="658" y="469"/>
                    </a:lnTo>
                    <a:lnTo>
                      <a:pt x="657" y="466"/>
                    </a:lnTo>
                    <a:lnTo>
                      <a:pt x="655" y="463"/>
                    </a:lnTo>
                    <a:lnTo>
                      <a:pt x="655" y="460"/>
                    </a:lnTo>
                    <a:lnTo>
                      <a:pt x="656" y="452"/>
                    </a:lnTo>
                    <a:lnTo>
                      <a:pt x="658" y="445"/>
                    </a:lnTo>
                    <a:lnTo>
                      <a:pt x="661" y="437"/>
                    </a:lnTo>
                    <a:lnTo>
                      <a:pt x="665" y="430"/>
                    </a:lnTo>
                    <a:lnTo>
                      <a:pt x="668" y="423"/>
                    </a:lnTo>
                    <a:lnTo>
                      <a:pt x="670" y="415"/>
                    </a:lnTo>
                    <a:lnTo>
                      <a:pt x="665" y="413"/>
                    </a:lnTo>
                    <a:lnTo>
                      <a:pt x="661" y="409"/>
                    </a:lnTo>
                    <a:lnTo>
                      <a:pt x="659" y="405"/>
                    </a:lnTo>
                    <a:lnTo>
                      <a:pt x="659" y="399"/>
                    </a:lnTo>
                    <a:lnTo>
                      <a:pt x="659" y="394"/>
                    </a:lnTo>
                    <a:lnTo>
                      <a:pt x="659" y="389"/>
                    </a:lnTo>
                    <a:lnTo>
                      <a:pt x="660" y="384"/>
                    </a:lnTo>
                    <a:lnTo>
                      <a:pt x="661" y="379"/>
                    </a:lnTo>
                    <a:lnTo>
                      <a:pt x="663" y="378"/>
                    </a:lnTo>
                    <a:lnTo>
                      <a:pt x="663" y="376"/>
                    </a:lnTo>
                    <a:lnTo>
                      <a:pt x="664" y="375"/>
                    </a:lnTo>
                    <a:lnTo>
                      <a:pt x="664" y="373"/>
                    </a:lnTo>
                    <a:lnTo>
                      <a:pt x="664" y="372"/>
                    </a:lnTo>
                    <a:lnTo>
                      <a:pt x="664" y="370"/>
                    </a:lnTo>
                    <a:lnTo>
                      <a:pt x="664" y="369"/>
                    </a:lnTo>
                    <a:lnTo>
                      <a:pt x="664" y="367"/>
                    </a:lnTo>
                    <a:lnTo>
                      <a:pt x="659" y="367"/>
                    </a:lnTo>
                    <a:lnTo>
                      <a:pt x="657" y="366"/>
                    </a:lnTo>
                    <a:lnTo>
                      <a:pt x="655" y="365"/>
                    </a:lnTo>
                    <a:lnTo>
                      <a:pt x="654" y="362"/>
                    </a:lnTo>
                    <a:lnTo>
                      <a:pt x="653" y="358"/>
                    </a:lnTo>
                    <a:lnTo>
                      <a:pt x="654" y="353"/>
                    </a:lnTo>
                    <a:lnTo>
                      <a:pt x="655" y="348"/>
                    </a:lnTo>
                    <a:lnTo>
                      <a:pt x="656" y="343"/>
                    </a:lnTo>
                    <a:lnTo>
                      <a:pt x="656" y="340"/>
                    </a:lnTo>
                    <a:lnTo>
                      <a:pt x="655" y="338"/>
                    </a:lnTo>
                    <a:lnTo>
                      <a:pt x="655" y="336"/>
                    </a:lnTo>
                    <a:lnTo>
                      <a:pt x="653" y="335"/>
                    </a:lnTo>
                    <a:lnTo>
                      <a:pt x="652" y="337"/>
                    </a:lnTo>
                    <a:lnTo>
                      <a:pt x="650" y="333"/>
                    </a:lnTo>
                    <a:lnTo>
                      <a:pt x="649" y="330"/>
                    </a:lnTo>
                    <a:lnTo>
                      <a:pt x="650" y="325"/>
                    </a:lnTo>
                    <a:lnTo>
                      <a:pt x="650" y="321"/>
                    </a:lnTo>
                    <a:lnTo>
                      <a:pt x="651" y="317"/>
                    </a:lnTo>
                    <a:lnTo>
                      <a:pt x="652" y="313"/>
                    </a:lnTo>
                    <a:lnTo>
                      <a:pt x="652" y="308"/>
                    </a:lnTo>
                    <a:lnTo>
                      <a:pt x="652" y="304"/>
                    </a:lnTo>
                    <a:lnTo>
                      <a:pt x="641" y="318"/>
                    </a:lnTo>
                    <a:lnTo>
                      <a:pt x="640" y="311"/>
                    </a:lnTo>
                    <a:lnTo>
                      <a:pt x="639" y="303"/>
                    </a:lnTo>
                    <a:lnTo>
                      <a:pt x="639" y="295"/>
                    </a:lnTo>
                    <a:lnTo>
                      <a:pt x="640" y="285"/>
                    </a:lnTo>
                    <a:lnTo>
                      <a:pt x="641" y="277"/>
                    </a:lnTo>
                    <a:lnTo>
                      <a:pt x="642" y="267"/>
                    </a:lnTo>
                    <a:lnTo>
                      <a:pt x="643" y="259"/>
                    </a:lnTo>
                    <a:lnTo>
                      <a:pt x="646" y="250"/>
                    </a:lnTo>
                    <a:lnTo>
                      <a:pt x="647" y="242"/>
                    </a:lnTo>
                    <a:lnTo>
                      <a:pt x="649" y="234"/>
                    </a:lnTo>
                    <a:lnTo>
                      <a:pt x="651" y="226"/>
                    </a:lnTo>
                    <a:lnTo>
                      <a:pt x="653" y="217"/>
                    </a:lnTo>
                    <a:lnTo>
                      <a:pt x="655" y="210"/>
                    </a:lnTo>
                    <a:lnTo>
                      <a:pt x="656" y="202"/>
                    </a:lnTo>
                    <a:lnTo>
                      <a:pt x="655" y="193"/>
                    </a:lnTo>
                    <a:lnTo>
                      <a:pt x="653" y="186"/>
                    </a:lnTo>
                    <a:lnTo>
                      <a:pt x="643" y="186"/>
                    </a:lnTo>
                    <a:lnTo>
                      <a:pt x="643" y="177"/>
                    </a:lnTo>
                    <a:lnTo>
                      <a:pt x="646" y="168"/>
                    </a:lnTo>
                    <a:lnTo>
                      <a:pt x="648" y="158"/>
                    </a:lnTo>
                    <a:lnTo>
                      <a:pt x="651" y="149"/>
                    </a:lnTo>
                    <a:lnTo>
                      <a:pt x="651" y="143"/>
                    </a:lnTo>
                    <a:lnTo>
                      <a:pt x="652" y="139"/>
                    </a:lnTo>
                    <a:lnTo>
                      <a:pt x="651" y="135"/>
                    </a:lnTo>
                    <a:lnTo>
                      <a:pt x="650" y="132"/>
                    </a:lnTo>
                    <a:lnTo>
                      <a:pt x="649" y="128"/>
                    </a:lnTo>
                    <a:lnTo>
                      <a:pt x="646" y="125"/>
                    </a:lnTo>
                    <a:lnTo>
                      <a:pt x="642" y="122"/>
                    </a:lnTo>
                    <a:lnTo>
                      <a:pt x="637" y="121"/>
                    </a:lnTo>
                    <a:lnTo>
                      <a:pt x="638" y="107"/>
                    </a:lnTo>
                    <a:lnTo>
                      <a:pt x="637" y="94"/>
                    </a:lnTo>
                    <a:lnTo>
                      <a:pt x="634" y="80"/>
                    </a:lnTo>
                    <a:lnTo>
                      <a:pt x="630" y="67"/>
                    </a:lnTo>
                    <a:lnTo>
                      <a:pt x="623" y="56"/>
                    </a:lnTo>
                    <a:lnTo>
                      <a:pt x="615" y="44"/>
                    </a:lnTo>
                    <a:lnTo>
                      <a:pt x="610" y="40"/>
                    </a:lnTo>
                    <a:lnTo>
                      <a:pt x="604" y="35"/>
                    </a:lnTo>
                    <a:lnTo>
                      <a:pt x="599" y="30"/>
                    </a:lnTo>
                    <a:lnTo>
                      <a:pt x="593" y="26"/>
                    </a:lnTo>
                    <a:lnTo>
                      <a:pt x="587" y="23"/>
                    </a:lnTo>
                    <a:lnTo>
                      <a:pt x="583" y="21"/>
                    </a:lnTo>
                    <a:lnTo>
                      <a:pt x="578" y="19"/>
                    </a:lnTo>
                    <a:lnTo>
                      <a:pt x="573" y="18"/>
                    </a:lnTo>
                    <a:lnTo>
                      <a:pt x="568" y="17"/>
                    </a:lnTo>
                    <a:lnTo>
                      <a:pt x="563" y="15"/>
                    </a:lnTo>
                    <a:lnTo>
                      <a:pt x="558" y="14"/>
                    </a:lnTo>
                    <a:lnTo>
                      <a:pt x="552" y="14"/>
                    </a:lnTo>
                    <a:lnTo>
                      <a:pt x="533" y="17"/>
                    </a:lnTo>
                    <a:lnTo>
                      <a:pt x="513" y="21"/>
                    </a:lnTo>
                    <a:lnTo>
                      <a:pt x="494" y="26"/>
                    </a:lnTo>
                    <a:lnTo>
                      <a:pt x="476" y="32"/>
                    </a:lnTo>
                    <a:lnTo>
                      <a:pt x="457" y="40"/>
                    </a:lnTo>
                    <a:lnTo>
                      <a:pt x="439" y="48"/>
                    </a:lnTo>
                    <a:lnTo>
                      <a:pt x="422" y="58"/>
                    </a:lnTo>
                    <a:lnTo>
                      <a:pt x="405" y="67"/>
                    </a:lnTo>
                    <a:lnTo>
                      <a:pt x="390" y="79"/>
                    </a:lnTo>
                    <a:lnTo>
                      <a:pt x="373" y="91"/>
                    </a:lnTo>
                    <a:lnTo>
                      <a:pt x="358" y="103"/>
                    </a:lnTo>
                    <a:lnTo>
                      <a:pt x="343" y="116"/>
                    </a:lnTo>
                    <a:lnTo>
                      <a:pt x="328" y="130"/>
                    </a:lnTo>
                    <a:lnTo>
                      <a:pt x="314" y="145"/>
                    </a:lnTo>
                    <a:lnTo>
                      <a:pt x="301" y="158"/>
                    </a:lnTo>
                    <a:lnTo>
                      <a:pt x="288" y="173"/>
                    </a:lnTo>
                    <a:lnTo>
                      <a:pt x="285" y="174"/>
                    </a:lnTo>
                    <a:lnTo>
                      <a:pt x="282" y="175"/>
                    </a:lnTo>
                    <a:lnTo>
                      <a:pt x="278" y="177"/>
                    </a:lnTo>
                    <a:lnTo>
                      <a:pt x="275" y="179"/>
                    </a:lnTo>
                    <a:lnTo>
                      <a:pt x="273" y="183"/>
                    </a:lnTo>
                    <a:lnTo>
                      <a:pt x="271" y="185"/>
                    </a:lnTo>
                    <a:lnTo>
                      <a:pt x="270" y="188"/>
                    </a:lnTo>
                    <a:lnTo>
                      <a:pt x="268" y="191"/>
                    </a:lnTo>
                    <a:lnTo>
                      <a:pt x="261" y="201"/>
                    </a:lnTo>
                    <a:lnTo>
                      <a:pt x="256" y="210"/>
                    </a:lnTo>
                    <a:lnTo>
                      <a:pt x="250" y="219"/>
                    </a:lnTo>
                    <a:lnTo>
                      <a:pt x="244" y="228"/>
                    </a:lnTo>
                    <a:lnTo>
                      <a:pt x="238" y="237"/>
                    </a:lnTo>
                    <a:lnTo>
                      <a:pt x="232" y="246"/>
                    </a:lnTo>
                    <a:lnTo>
                      <a:pt x="224" y="255"/>
                    </a:lnTo>
                    <a:lnTo>
                      <a:pt x="218" y="262"/>
                    </a:lnTo>
                    <a:lnTo>
                      <a:pt x="220" y="256"/>
                    </a:lnTo>
                    <a:lnTo>
                      <a:pt x="223" y="249"/>
                    </a:lnTo>
                    <a:lnTo>
                      <a:pt x="227" y="243"/>
                    </a:lnTo>
                    <a:lnTo>
                      <a:pt x="230" y="237"/>
                    </a:lnTo>
                    <a:lnTo>
                      <a:pt x="233" y="230"/>
                    </a:lnTo>
                    <a:lnTo>
                      <a:pt x="235" y="224"/>
                    </a:lnTo>
                    <a:lnTo>
                      <a:pt x="236" y="217"/>
                    </a:lnTo>
                    <a:lnTo>
                      <a:pt x="237" y="212"/>
                    </a:lnTo>
                    <a:lnTo>
                      <a:pt x="228" y="223"/>
                    </a:lnTo>
                    <a:lnTo>
                      <a:pt x="218" y="234"/>
                    </a:lnTo>
                    <a:lnTo>
                      <a:pt x="210" y="247"/>
                    </a:lnTo>
                    <a:lnTo>
                      <a:pt x="202" y="260"/>
                    </a:lnTo>
                    <a:lnTo>
                      <a:pt x="195" y="272"/>
                    </a:lnTo>
                    <a:lnTo>
                      <a:pt x="187" y="285"/>
                    </a:lnTo>
                    <a:lnTo>
                      <a:pt x="180" y="298"/>
                    </a:lnTo>
                    <a:lnTo>
                      <a:pt x="171" y="311"/>
                    </a:lnTo>
                    <a:lnTo>
                      <a:pt x="172" y="305"/>
                    </a:lnTo>
                    <a:lnTo>
                      <a:pt x="173" y="301"/>
                    </a:lnTo>
                    <a:lnTo>
                      <a:pt x="175" y="297"/>
                    </a:lnTo>
                    <a:lnTo>
                      <a:pt x="177" y="292"/>
                    </a:lnTo>
                    <a:lnTo>
                      <a:pt x="180" y="287"/>
                    </a:lnTo>
                    <a:lnTo>
                      <a:pt x="183" y="282"/>
                    </a:lnTo>
                    <a:lnTo>
                      <a:pt x="185" y="277"/>
                    </a:lnTo>
                    <a:lnTo>
                      <a:pt x="187" y="272"/>
                    </a:lnTo>
                    <a:lnTo>
                      <a:pt x="186" y="271"/>
                    </a:lnTo>
                    <a:lnTo>
                      <a:pt x="185" y="270"/>
                    </a:lnTo>
                    <a:lnTo>
                      <a:pt x="184" y="269"/>
                    </a:lnTo>
                    <a:lnTo>
                      <a:pt x="183" y="268"/>
                    </a:lnTo>
                    <a:lnTo>
                      <a:pt x="182" y="267"/>
                    </a:lnTo>
                    <a:lnTo>
                      <a:pt x="180" y="266"/>
                    </a:lnTo>
                    <a:lnTo>
                      <a:pt x="179" y="266"/>
                    </a:lnTo>
                    <a:lnTo>
                      <a:pt x="177" y="266"/>
                    </a:lnTo>
                    <a:lnTo>
                      <a:pt x="128" y="349"/>
                    </a:lnTo>
                    <a:lnTo>
                      <a:pt x="139" y="321"/>
                    </a:lnTo>
                    <a:lnTo>
                      <a:pt x="138" y="319"/>
                    </a:lnTo>
                    <a:lnTo>
                      <a:pt x="137" y="318"/>
                    </a:lnTo>
                    <a:lnTo>
                      <a:pt x="136" y="318"/>
                    </a:lnTo>
                    <a:lnTo>
                      <a:pt x="135" y="317"/>
                    </a:lnTo>
                    <a:lnTo>
                      <a:pt x="133" y="317"/>
                    </a:lnTo>
                    <a:lnTo>
                      <a:pt x="131" y="317"/>
                    </a:lnTo>
                    <a:lnTo>
                      <a:pt x="130" y="317"/>
                    </a:lnTo>
                    <a:lnTo>
                      <a:pt x="128" y="317"/>
                    </a:lnTo>
                    <a:lnTo>
                      <a:pt x="123" y="329"/>
                    </a:lnTo>
                    <a:lnTo>
                      <a:pt x="117" y="339"/>
                    </a:lnTo>
                    <a:lnTo>
                      <a:pt x="110" y="351"/>
                    </a:lnTo>
                    <a:lnTo>
                      <a:pt x="104" y="362"/>
                    </a:lnTo>
                    <a:lnTo>
                      <a:pt x="97" y="374"/>
                    </a:lnTo>
                    <a:lnTo>
                      <a:pt x="92" y="386"/>
                    </a:lnTo>
                    <a:lnTo>
                      <a:pt x="87" y="397"/>
                    </a:lnTo>
                    <a:lnTo>
                      <a:pt x="83" y="409"/>
                    </a:lnTo>
                    <a:lnTo>
                      <a:pt x="84" y="393"/>
                    </a:lnTo>
                    <a:lnTo>
                      <a:pt x="87" y="378"/>
                    </a:lnTo>
                    <a:lnTo>
                      <a:pt x="89" y="365"/>
                    </a:lnTo>
                    <a:lnTo>
                      <a:pt x="93" y="350"/>
                    </a:lnTo>
                    <a:lnTo>
                      <a:pt x="97" y="336"/>
                    </a:lnTo>
                    <a:lnTo>
                      <a:pt x="102" y="322"/>
                    </a:lnTo>
                    <a:lnTo>
                      <a:pt x="107" y="308"/>
                    </a:lnTo>
                    <a:lnTo>
                      <a:pt x="112" y="295"/>
                    </a:lnTo>
                    <a:lnTo>
                      <a:pt x="109" y="290"/>
                    </a:lnTo>
                    <a:lnTo>
                      <a:pt x="101" y="299"/>
                    </a:lnTo>
                    <a:lnTo>
                      <a:pt x="93" y="310"/>
                    </a:lnTo>
                    <a:lnTo>
                      <a:pt x="87" y="320"/>
                    </a:lnTo>
                    <a:lnTo>
                      <a:pt x="82" y="331"/>
                    </a:lnTo>
                    <a:lnTo>
                      <a:pt x="76" y="342"/>
                    </a:lnTo>
                    <a:lnTo>
                      <a:pt x="71" y="354"/>
                    </a:lnTo>
                    <a:lnTo>
                      <a:pt x="67" y="366"/>
                    </a:lnTo>
                    <a:lnTo>
                      <a:pt x="63" y="377"/>
                    </a:lnTo>
                    <a:lnTo>
                      <a:pt x="62" y="369"/>
                    </a:lnTo>
                    <a:lnTo>
                      <a:pt x="62" y="360"/>
                    </a:lnTo>
                    <a:lnTo>
                      <a:pt x="63" y="350"/>
                    </a:lnTo>
                    <a:lnTo>
                      <a:pt x="64" y="340"/>
                    </a:lnTo>
                    <a:lnTo>
                      <a:pt x="66" y="331"/>
                    </a:lnTo>
                    <a:lnTo>
                      <a:pt x="68" y="320"/>
                    </a:lnTo>
                    <a:lnTo>
                      <a:pt x="71" y="312"/>
                    </a:lnTo>
                    <a:lnTo>
                      <a:pt x="74" y="302"/>
                    </a:lnTo>
                    <a:lnTo>
                      <a:pt x="73" y="301"/>
                    </a:lnTo>
                    <a:lnTo>
                      <a:pt x="72" y="300"/>
                    </a:lnTo>
                    <a:lnTo>
                      <a:pt x="71" y="300"/>
                    </a:lnTo>
                    <a:lnTo>
                      <a:pt x="70" y="299"/>
                    </a:lnTo>
                    <a:lnTo>
                      <a:pt x="69" y="299"/>
                    </a:lnTo>
                    <a:lnTo>
                      <a:pt x="67" y="299"/>
                    </a:lnTo>
                    <a:lnTo>
                      <a:pt x="66" y="299"/>
                    </a:lnTo>
                    <a:lnTo>
                      <a:pt x="65" y="299"/>
                    </a:lnTo>
                    <a:lnTo>
                      <a:pt x="58" y="311"/>
                    </a:lnTo>
                    <a:lnTo>
                      <a:pt x="53" y="322"/>
                    </a:lnTo>
                    <a:lnTo>
                      <a:pt x="49" y="335"/>
                    </a:lnTo>
                    <a:lnTo>
                      <a:pt x="44" y="347"/>
                    </a:lnTo>
                    <a:lnTo>
                      <a:pt x="39" y="359"/>
                    </a:lnTo>
                    <a:lnTo>
                      <a:pt x="35" y="372"/>
                    </a:lnTo>
                    <a:lnTo>
                      <a:pt x="32" y="385"/>
                    </a:lnTo>
                    <a:lnTo>
                      <a:pt x="30" y="397"/>
                    </a:lnTo>
                    <a:lnTo>
                      <a:pt x="27" y="386"/>
                    </a:lnTo>
                    <a:lnTo>
                      <a:pt x="26" y="374"/>
                    </a:lnTo>
                    <a:lnTo>
                      <a:pt x="27" y="362"/>
                    </a:lnTo>
                    <a:lnTo>
                      <a:pt x="28" y="351"/>
                    </a:lnTo>
                    <a:lnTo>
                      <a:pt x="30" y="339"/>
                    </a:lnTo>
                    <a:lnTo>
                      <a:pt x="32" y="327"/>
                    </a:lnTo>
                    <a:lnTo>
                      <a:pt x="34" y="316"/>
                    </a:lnTo>
                    <a:lnTo>
                      <a:pt x="36" y="304"/>
                    </a:lnTo>
                    <a:lnTo>
                      <a:pt x="30" y="299"/>
                    </a:lnTo>
                    <a:lnTo>
                      <a:pt x="26" y="302"/>
                    </a:lnTo>
                    <a:lnTo>
                      <a:pt x="23" y="305"/>
                    </a:lnTo>
                    <a:lnTo>
                      <a:pt x="21" y="310"/>
                    </a:lnTo>
                    <a:lnTo>
                      <a:pt x="19" y="314"/>
                    </a:lnTo>
                    <a:lnTo>
                      <a:pt x="18" y="319"/>
                    </a:lnTo>
                    <a:lnTo>
                      <a:pt x="17" y="323"/>
                    </a:lnTo>
                    <a:lnTo>
                      <a:pt x="16" y="329"/>
                    </a:lnTo>
                    <a:lnTo>
                      <a:pt x="14" y="333"/>
                    </a:lnTo>
                    <a:lnTo>
                      <a:pt x="12" y="317"/>
                    </a:lnTo>
                    <a:lnTo>
                      <a:pt x="12" y="302"/>
                    </a:lnTo>
                    <a:lnTo>
                      <a:pt x="13" y="288"/>
                    </a:lnTo>
                    <a:lnTo>
                      <a:pt x="14" y="274"/>
                    </a:lnTo>
                    <a:lnTo>
                      <a:pt x="17" y="259"/>
                    </a:lnTo>
                    <a:lnTo>
                      <a:pt x="20" y="245"/>
                    </a:lnTo>
                    <a:lnTo>
                      <a:pt x="24" y="231"/>
                    </a:lnTo>
                    <a:lnTo>
                      <a:pt x="28" y="217"/>
                    </a:lnTo>
                    <a:lnTo>
                      <a:pt x="28" y="216"/>
                    </a:lnTo>
                    <a:lnTo>
                      <a:pt x="27" y="215"/>
                    </a:lnTo>
                    <a:lnTo>
                      <a:pt x="26" y="214"/>
                    </a:lnTo>
                    <a:lnTo>
                      <a:pt x="24" y="213"/>
                    </a:lnTo>
                    <a:lnTo>
                      <a:pt x="23" y="212"/>
                    </a:lnTo>
                    <a:lnTo>
                      <a:pt x="21" y="211"/>
                    </a:lnTo>
                    <a:lnTo>
                      <a:pt x="19" y="211"/>
                    </a:lnTo>
                    <a:lnTo>
                      <a:pt x="18" y="212"/>
                    </a:lnTo>
                    <a:lnTo>
                      <a:pt x="0" y="244"/>
                    </a:lnTo>
                    <a:lnTo>
                      <a:pt x="0" y="230"/>
                    </a:lnTo>
                    <a:lnTo>
                      <a:pt x="2" y="216"/>
                    </a:lnTo>
                    <a:lnTo>
                      <a:pt x="4" y="204"/>
                    </a:lnTo>
                    <a:lnTo>
                      <a:pt x="9" y="190"/>
                    </a:lnTo>
                    <a:lnTo>
                      <a:pt x="13" y="177"/>
                    </a:lnTo>
                    <a:lnTo>
                      <a:pt x="18" y="165"/>
                    </a:lnTo>
                    <a:lnTo>
                      <a:pt x="22" y="152"/>
                    </a:lnTo>
                    <a:lnTo>
                      <a:pt x="28" y="139"/>
                    </a:lnTo>
                    <a:lnTo>
                      <a:pt x="27" y="138"/>
                    </a:lnTo>
                    <a:lnTo>
                      <a:pt x="26" y="137"/>
                    </a:lnTo>
                    <a:lnTo>
                      <a:pt x="24" y="135"/>
                    </a:lnTo>
                    <a:lnTo>
                      <a:pt x="22" y="134"/>
                    </a:lnTo>
                    <a:lnTo>
                      <a:pt x="21" y="133"/>
                    </a:lnTo>
                    <a:lnTo>
                      <a:pt x="19" y="133"/>
                    </a:lnTo>
                    <a:lnTo>
                      <a:pt x="18" y="133"/>
                    </a:lnTo>
                    <a:lnTo>
                      <a:pt x="16" y="133"/>
                    </a:lnTo>
                    <a:lnTo>
                      <a:pt x="16" y="131"/>
                    </a:lnTo>
                    <a:lnTo>
                      <a:pt x="16" y="128"/>
                    </a:lnTo>
                    <a:lnTo>
                      <a:pt x="16" y="124"/>
                    </a:lnTo>
                    <a:lnTo>
                      <a:pt x="16" y="122"/>
                    </a:lnTo>
                    <a:lnTo>
                      <a:pt x="16" y="119"/>
                    </a:lnTo>
                    <a:lnTo>
                      <a:pt x="17" y="117"/>
                    </a:lnTo>
                    <a:lnTo>
                      <a:pt x="19" y="115"/>
                    </a:lnTo>
                    <a:lnTo>
                      <a:pt x="22" y="113"/>
                    </a:lnTo>
                    <a:lnTo>
                      <a:pt x="23" y="106"/>
                    </a:lnTo>
                    <a:lnTo>
                      <a:pt x="24" y="100"/>
                    </a:lnTo>
                    <a:lnTo>
                      <a:pt x="27" y="94"/>
                    </a:lnTo>
                    <a:lnTo>
                      <a:pt x="28" y="87"/>
                    </a:lnTo>
                    <a:lnTo>
                      <a:pt x="30" y="81"/>
                    </a:lnTo>
                    <a:lnTo>
                      <a:pt x="31" y="75"/>
                    </a:lnTo>
                    <a:lnTo>
                      <a:pt x="33" y="68"/>
                    </a:lnTo>
                    <a:lnTo>
                      <a:pt x="34" y="6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6373440" y="5924520"/>
                <a:ext cx="462240" cy="451080"/>
              </a:xfrm>
              <a:custGeom>
                <a:avLst/>
                <a:gdLst/>
                <a:ahLst/>
                <a:rect l="l" t="t" r="r" b="b"/>
                <a:pathLst>
                  <a:path w="871" h="851">
                    <a:moveTo>
                      <a:pt x="223" y="0"/>
                    </a:moveTo>
                    <a:lnTo>
                      <a:pt x="223" y="1"/>
                    </a:lnTo>
                    <a:lnTo>
                      <a:pt x="223" y="1"/>
                    </a:lnTo>
                    <a:lnTo>
                      <a:pt x="223" y="1"/>
                    </a:lnTo>
                    <a:lnTo>
                      <a:pt x="223" y="1"/>
                    </a:lnTo>
                    <a:lnTo>
                      <a:pt x="223" y="1"/>
                    </a:lnTo>
                    <a:lnTo>
                      <a:pt x="223" y="1"/>
                    </a:lnTo>
                    <a:lnTo>
                      <a:pt x="223" y="1"/>
                    </a:lnTo>
                    <a:lnTo>
                      <a:pt x="223" y="1"/>
                    </a:lnTo>
                    <a:lnTo>
                      <a:pt x="220" y="7"/>
                    </a:lnTo>
                    <a:lnTo>
                      <a:pt x="216" y="13"/>
                    </a:lnTo>
                    <a:lnTo>
                      <a:pt x="213" y="19"/>
                    </a:lnTo>
                    <a:lnTo>
                      <a:pt x="208" y="24"/>
                    </a:lnTo>
                    <a:lnTo>
                      <a:pt x="205" y="28"/>
                    </a:lnTo>
                    <a:lnTo>
                      <a:pt x="201" y="34"/>
                    </a:lnTo>
                    <a:lnTo>
                      <a:pt x="196" y="39"/>
                    </a:lnTo>
                    <a:lnTo>
                      <a:pt x="192" y="43"/>
                    </a:lnTo>
                    <a:lnTo>
                      <a:pt x="194" y="41"/>
                    </a:lnTo>
                    <a:lnTo>
                      <a:pt x="196" y="38"/>
                    </a:lnTo>
                    <a:lnTo>
                      <a:pt x="198" y="35"/>
                    </a:lnTo>
                    <a:lnTo>
                      <a:pt x="200" y="32"/>
                    </a:lnTo>
                    <a:lnTo>
                      <a:pt x="201" y="28"/>
                    </a:lnTo>
                    <a:lnTo>
                      <a:pt x="203" y="26"/>
                    </a:lnTo>
                    <a:lnTo>
                      <a:pt x="204" y="23"/>
                    </a:lnTo>
                    <a:lnTo>
                      <a:pt x="205" y="20"/>
                    </a:lnTo>
                    <a:lnTo>
                      <a:pt x="207" y="19"/>
                    </a:lnTo>
                    <a:lnTo>
                      <a:pt x="210" y="18"/>
                    </a:lnTo>
                    <a:lnTo>
                      <a:pt x="212" y="16"/>
                    </a:lnTo>
                    <a:lnTo>
                      <a:pt x="214" y="14"/>
                    </a:lnTo>
                    <a:lnTo>
                      <a:pt x="217" y="11"/>
                    </a:lnTo>
                    <a:lnTo>
                      <a:pt x="219" y="7"/>
                    </a:lnTo>
                    <a:lnTo>
                      <a:pt x="221" y="4"/>
                    </a:lnTo>
                    <a:lnTo>
                      <a:pt x="223" y="1"/>
                    </a:lnTo>
                    <a:lnTo>
                      <a:pt x="223" y="1"/>
                    </a:lnTo>
                    <a:lnTo>
                      <a:pt x="223" y="1"/>
                    </a:lnTo>
                    <a:lnTo>
                      <a:pt x="223" y="1"/>
                    </a:lnTo>
                    <a:lnTo>
                      <a:pt x="223" y="1"/>
                    </a:lnTo>
                    <a:lnTo>
                      <a:pt x="223" y="1"/>
                    </a:lnTo>
                    <a:lnTo>
                      <a:pt x="223" y="1"/>
                    </a:lnTo>
                    <a:lnTo>
                      <a:pt x="223" y="1"/>
                    </a:lnTo>
                    <a:lnTo>
                      <a:pt x="223" y="0"/>
                    </a:lnTo>
                    <a:close/>
                    <a:moveTo>
                      <a:pt x="217" y="30"/>
                    </a:moveTo>
                    <a:lnTo>
                      <a:pt x="215" y="36"/>
                    </a:lnTo>
                    <a:lnTo>
                      <a:pt x="214" y="42"/>
                    </a:lnTo>
                    <a:lnTo>
                      <a:pt x="213" y="49"/>
                    </a:lnTo>
                    <a:lnTo>
                      <a:pt x="212" y="56"/>
                    </a:lnTo>
                    <a:lnTo>
                      <a:pt x="212" y="62"/>
                    </a:lnTo>
                    <a:lnTo>
                      <a:pt x="211" y="69"/>
                    </a:lnTo>
                    <a:lnTo>
                      <a:pt x="211" y="76"/>
                    </a:lnTo>
                    <a:lnTo>
                      <a:pt x="211" y="83"/>
                    </a:lnTo>
                    <a:lnTo>
                      <a:pt x="213" y="78"/>
                    </a:lnTo>
                    <a:lnTo>
                      <a:pt x="213" y="83"/>
                    </a:lnTo>
                    <a:lnTo>
                      <a:pt x="212" y="91"/>
                    </a:lnTo>
                    <a:lnTo>
                      <a:pt x="210" y="99"/>
                    </a:lnTo>
                    <a:lnTo>
                      <a:pt x="208" y="108"/>
                    </a:lnTo>
                    <a:lnTo>
                      <a:pt x="207" y="116"/>
                    </a:lnTo>
                    <a:lnTo>
                      <a:pt x="207" y="125"/>
                    </a:lnTo>
                    <a:lnTo>
                      <a:pt x="208" y="128"/>
                    </a:lnTo>
                    <a:lnTo>
                      <a:pt x="210" y="131"/>
                    </a:lnTo>
                    <a:lnTo>
                      <a:pt x="211" y="133"/>
                    </a:lnTo>
                    <a:lnTo>
                      <a:pt x="213" y="134"/>
                    </a:lnTo>
                    <a:lnTo>
                      <a:pt x="211" y="192"/>
                    </a:lnTo>
                    <a:lnTo>
                      <a:pt x="212" y="192"/>
                    </a:lnTo>
                    <a:lnTo>
                      <a:pt x="213" y="191"/>
                    </a:lnTo>
                    <a:lnTo>
                      <a:pt x="214" y="190"/>
                    </a:lnTo>
                    <a:lnTo>
                      <a:pt x="215" y="189"/>
                    </a:lnTo>
                    <a:lnTo>
                      <a:pt x="216" y="188"/>
                    </a:lnTo>
                    <a:lnTo>
                      <a:pt x="217" y="187"/>
                    </a:lnTo>
                    <a:lnTo>
                      <a:pt x="218" y="186"/>
                    </a:lnTo>
                    <a:lnTo>
                      <a:pt x="218" y="185"/>
                    </a:lnTo>
                    <a:lnTo>
                      <a:pt x="218" y="191"/>
                    </a:lnTo>
                    <a:lnTo>
                      <a:pt x="218" y="197"/>
                    </a:lnTo>
                    <a:lnTo>
                      <a:pt x="219" y="202"/>
                    </a:lnTo>
                    <a:lnTo>
                      <a:pt x="220" y="207"/>
                    </a:lnTo>
                    <a:lnTo>
                      <a:pt x="222" y="210"/>
                    </a:lnTo>
                    <a:lnTo>
                      <a:pt x="224" y="214"/>
                    </a:lnTo>
                    <a:lnTo>
                      <a:pt x="228" y="215"/>
                    </a:lnTo>
                    <a:lnTo>
                      <a:pt x="231" y="216"/>
                    </a:lnTo>
                    <a:lnTo>
                      <a:pt x="231" y="220"/>
                    </a:lnTo>
                    <a:lnTo>
                      <a:pt x="232" y="226"/>
                    </a:lnTo>
                    <a:lnTo>
                      <a:pt x="233" y="235"/>
                    </a:lnTo>
                    <a:lnTo>
                      <a:pt x="234" y="243"/>
                    </a:lnTo>
                    <a:lnTo>
                      <a:pt x="235" y="252"/>
                    </a:lnTo>
                    <a:lnTo>
                      <a:pt x="236" y="259"/>
                    </a:lnTo>
                    <a:lnTo>
                      <a:pt x="236" y="264"/>
                    </a:lnTo>
                    <a:lnTo>
                      <a:pt x="236" y="266"/>
                    </a:lnTo>
                    <a:lnTo>
                      <a:pt x="236" y="266"/>
                    </a:lnTo>
                    <a:lnTo>
                      <a:pt x="237" y="266"/>
                    </a:lnTo>
                    <a:lnTo>
                      <a:pt x="237" y="268"/>
                    </a:lnTo>
                    <a:lnTo>
                      <a:pt x="238" y="269"/>
                    </a:lnTo>
                    <a:lnTo>
                      <a:pt x="238" y="271"/>
                    </a:lnTo>
                    <a:lnTo>
                      <a:pt x="238" y="272"/>
                    </a:lnTo>
                    <a:lnTo>
                      <a:pt x="238" y="273"/>
                    </a:lnTo>
                    <a:lnTo>
                      <a:pt x="238" y="274"/>
                    </a:lnTo>
                    <a:lnTo>
                      <a:pt x="236" y="274"/>
                    </a:lnTo>
                    <a:lnTo>
                      <a:pt x="236" y="283"/>
                    </a:lnTo>
                    <a:lnTo>
                      <a:pt x="237" y="284"/>
                    </a:lnTo>
                    <a:lnTo>
                      <a:pt x="238" y="284"/>
                    </a:lnTo>
                    <a:lnTo>
                      <a:pt x="238" y="284"/>
                    </a:lnTo>
                    <a:lnTo>
                      <a:pt x="238" y="285"/>
                    </a:lnTo>
                    <a:lnTo>
                      <a:pt x="238" y="285"/>
                    </a:lnTo>
                    <a:lnTo>
                      <a:pt x="238" y="287"/>
                    </a:lnTo>
                    <a:lnTo>
                      <a:pt x="239" y="287"/>
                    </a:lnTo>
                    <a:lnTo>
                      <a:pt x="240" y="287"/>
                    </a:lnTo>
                    <a:lnTo>
                      <a:pt x="240" y="289"/>
                    </a:lnTo>
                    <a:lnTo>
                      <a:pt x="240" y="292"/>
                    </a:lnTo>
                    <a:lnTo>
                      <a:pt x="241" y="293"/>
                    </a:lnTo>
                    <a:lnTo>
                      <a:pt x="242" y="294"/>
                    </a:lnTo>
                    <a:lnTo>
                      <a:pt x="244" y="296"/>
                    </a:lnTo>
                    <a:lnTo>
                      <a:pt x="246" y="297"/>
                    </a:lnTo>
                    <a:lnTo>
                      <a:pt x="247" y="299"/>
                    </a:lnTo>
                    <a:lnTo>
                      <a:pt x="248" y="300"/>
                    </a:lnTo>
                    <a:lnTo>
                      <a:pt x="248" y="301"/>
                    </a:lnTo>
                    <a:lnTo>
                      <a:pt x="248" y="301"/>
                    </a:lnTo>
                    <a:lnTo>
                      <a:pt x="248" y="302"/>
                    </a:lnTo>
                    <a:lnTo>
                      <a:pt x="248" y="303"/>
                    </a:lnTo>
                    <a:lnTo>
                      <a:pt x="248" y="303"/>
                    </a:lnTo>
                    <a:lnTo>
                      <a:pt x="248" y="305"/>
                    </a:lnTo>
                    <a:lnTo>
                      <a:pt x="248" y="306"/>
                    </a:lnTo>
                    <a:lnTo>
                      <a:pt x="248" y="307"/>
                    </a:lnTo>
                    <a:lnTo>
                      <a:pt x="248" y="307"/>
                    </a:lnTo>
                    <a:lnTo>
                      <a:pt x="248" y="308"/>
                    </a:lnTo>
                    <a:lnTo>
                      <a:pt x="248" y="310"/>
                    </a:lnTo>
                    <a:lnTo>
                      <a:pt x="247" y="312"/>
                    </a:lnTo>
                    <a:lnTo>
                      <a:pt x="246" y="314"/>
                    </a:lnTo>
                    <a:lnTo>
                      <a:pt x="243" y="315"/>
                    </a:lnTo>
                    <a:lnTo>
                      <a:pt x="242" y="316"/>
                    </a:lnTo>
                    <a:lnTo>
                      <a:pt x="240" y="317"/>
                    </a:lnTo>
                    <a:lnTo>
                      <a:pt x="238" y="317"/>
                    </a:lnTo>
                    <a:lnTo>
                      <a:pt x="236" y="317"/>
                    </a:lnTo>
                    <a:lnTo>
                      <a:pt x="232" y="315"/>
                    </a:lnTo>
                    <a:lnTo>
                      <a:pt x="230" y="313"/>
                    </a:lnTo>
                    <a:lnTo>
                      <a:pt x="226" y="311"/>
                    </a:lnTo>
                    <a:lnTo>
                      <a:pt x="225" y="308"/>
                    </a:lnTo>
                    <a:lnTo>
                      <a:pt x="223" y="301"/>
                    </a:lnTo>
                    <a:lnTo>
                      <a:pt x="222" y="293"/>
                    </a:lnTo>
                    <a:lnTo>
                      <a:pt x="222" y="285"/>
                    </a:lnTo>
                    <a:lnTo>
                      <a:pt x="221" y="278"/>
                    </a:lnTo>
                    <a:lnTo>
                      <a:pt x="220" y="275"/>
                    </a:lnTo>
                    <a:lnTo>
                      <a:pt x="218" y="272"/>
                    </a:lnTo>
                    <a:lnTo>
                      <a:pt x="216" y="269"/>
                    </a:lnTo>
                    <a:lnTo>
                      <a:pt x="214" y="266"/>
                    </a:lnTo>
                    <a:lnTo>
                      <a:pt x="207" y="259"/>
                    </a:lnTo>
                    <a:lnTo>
                      <a:pt x="203" y="250"/>
                    </a:lnTo>
                    <a:lnTo>
                      <a:pt x="199" y="240"/>
                    </a:lnTo>
                    <a:lnTo>
                      <a:pt x="196" y="229"/>
                    </a:lnTo>
                    <a:lnTo>
                      <a:pt x="193" y="220"/>
                    </a:lnTo>
                    <a:lnTo>
                      <a:pt x="188" y="210"/>
                    </a:lnTo>
                    <a:lnTo>
                      <a:pt x="186" y="205"/>
                    </a:lnTo>
                    <a:lnTo>
                      <a:pt x="183" y="201"/>
                    </a:lnTo>
                    <a:lnTo>
                      <a:pt x="180" y="198"/>
                    </a:lnTo>
                    <a:lnTo>
                      <a:pt x="176" y="193"/>
                    </a:lnTo>
                    <a:lnTo>
                      <a:pt x="176" y="184"/>
                    </a:lnTo>
                    <a:lnTo>
                      <a:pt x="176" y="173"/>
                    </a:lnTo>
                    <a:lnTo>
                      <a:pt x="176" y="163"/>
                    </a:lnTo>
                    <a:lnTo>
                      <a:pt x="175" y="152"/>
                    </a:lnTo>
                    <a:lnTo>
                      <a:pt x="175" y="142"/>
                    </a:lnTo>
                    <a:lnTo>
                      <a:pt x="176" y="131"/>
                    </a:lnTo>
                    <a:lnTo>
                      <a:pt x="178" y="122"/>
                    </a:lnTo>
                    <a:lnTo>
                      <a:pt x="181" y="111"/>
                    </a:lnTo>
                    <a:lnTo>
                      <a:pt x="180" y="107"/>
                    </a:lnTo>
                    <a:lnTo>
                      <a:pt x="179" y="103"/>
                    </a:lnTo>
                    <a:lnTo>
                      <a:pt x="180" y="97"/>
                    </a:lnTo>
                    <a:lnTo>
                      <a:pt x="181" y="93"/>
                    </a:lnTo>
                    <a:lnTo>
                      <a:pt x="182" y="88"/>
                    </a:lnTo>
                    <a:lnTo>
                      <a:pt x="184" y="82"/>
                    </a:lnTo>
                    <a:lnTo>
                      <a:pt x="186" y="78"/>
                    </a:lnTo>
                    <a:lnTo>
                      <a:pt x="187" y="73"/>
                    </a:lnTo>
                    <a:lnTo>
                      <a:pt x="190" y="68"/>
                    </a:lnTo>
                    <a:lnTo>
                      <a:pt x="194" y="61"/>
                    </a:lnTo>
                    <a:lnTo>
                      <a:pt x="197" y="56"/>
                    </a:lnTo>
                    <a:lnTo>
                      <a:pt x="201" y="51"/>
                    </a:lnTo>
                    <a:lnTo>
                      <a:pt x="204" y="45"/>
                    </a:lnTo>
                    <a:lnTo>
                      <a:pt x="208" y="40"/>
                    </a:lnTo>
                    <a:lnTo>
                      <a:pt x="213" y="35"/>
                    </a:lnTo>
                    <a:lnTo>
                      <a:pt x="217" y="30"/>
                    </a:lnTo>
                    <a:close/>
                    <a:moveTo>
                      <a:pt x="174" y="660"/>
                    </a:moveTo>
                    <a:lnTo>
                      <a:pt x="174" y="660"/>
                    </a:lnTo>
                    <a:lnTo>
                      <a:pt x="174" y="660"/>
                    </a:lnTo>
                    <a:lnTo>
                      <a:pt x="175" y="660"/>
                    </a:lnTo>
                    <a:lnTo>
                      <a:pt x="175" y="660"/>
                    </a:lnTo>
                    <a:lnTo>
                      <a:pt x="175" y="660"/>
                    </a:lnTo>
                    <a:lnTo>
                      <a:pt x="175" y="660"/>
                    </a:lnTo>
                    <a:lnTo>
                      <a:pt x="176" y="660"/>
                    </a:lnTo>
                    <a:lnTo>
                      <a:pt x="176" y="660"/>
                    </a:lnTo>
                    <a:lnTo>
                      <a:pt x="170" y="664"/>
                    </a:lnTo>
                    <a:lnTo>
                      <a:pt x="164" y="668"/>
                    </a:lnTo>
                    <a:lnTo>
                      <a:pt x="158" y="673"/>
                    </a:lnTo>
                    <a:lnTo>
                      <a:pt x="150" y="675"/>
                    </a:lnTo>
                    <a:lnTo>
                      <a:pt x="143" y="678"/>
                    </a:lnTo>
                    <a:lnTo>
                      <a:pt x="135" y="681"/>
                    </a:lnTo>
                    <a:lnTo>
                      <a:pt x="128" y="683"/>
                    </a:lnTo>
                    <a:lnTo>
                      <a:pt x="121" y="686"/>
                    </a:lnTo>
                    <a:lnTo>
                      <a:pt x="114" y="682"/>
                    </a:lnTo>
                    <a:lnTo>
                      <a:pt x="122" y="679"/>
                    </a:lnTo>
                    <a:lnTo>
                      <a:pt x="129" y="676"/>
                    </a:lnTo>
                    <a:lnTo>
                      <a:pt x="138" y="674"/>
                    </a:lnTo>
                    <a:lnTo>
                      <a:pt x="145" y="672"/>
                    </a:lnTo>
                    <a:lnTo>
                      <a:pt x="153" y="669"/>
                    </a:lnTo>
                    <a:lnTo>
                      <a:pt x="161" y="667"/>
                    </a:lnTo>
                    <a:lnTo>
                      <a:pt x="167" y="664"/>
                    </a:lnTo>
                    <a:lnTo>
                      <a:pt x="174" y="660"/>
                    </a:lnTo>
                    <a:close/>
                    <a:moveTo>
                      <a:pt x="100" y="698"/>
                    </a:moveTo>
                    <a:lnTo>
                      <a:pt x="98" y="699"/>
                    </a:lnTo>
                    <a:lnTo>
                      <a:pt x="96" y="701"/>
                    </a:lnTo>
                    <a:lnTo>
                      <a:pt x="95" y="702"/>
                    </a:lnTo>
                    <a:lnTo>
                      <a:pt x="93" y="703"/>
                    </a:lnTo>
                    <a:lnTo>
                      <a:pt x="92" y="705"/>
                    </a:lnTo>
                    <a:lnTo>
                      <a:pt x="91" y="708"/>
                    </a:lnTo>
                    <a:lnTo>
                      <a:pt x="89" y="709"/>
                    </a:lnTo>
                    <a:lnTo>
                      <a:pt x="88" y="711"/>
                    </a:lnTo>
                    <a:lnTo>
                      <a:pt x="133" y="711"/>
                    </a:lnTo>
                    <a:lnTo>
                      <a:pt x="129" y="715"/>
                    </a:lnTo>
                    <a:lnTo>
                      <a:pt x="125" y="719"/>
                    </a:lnTo>
                    <a:lnTo>
                      <a:pt x="121" y="723"/>
                    </a:lnTo>
                    <a:lnTo>
                      <a:pt x="117" y="728"/>
                    </a:lnTo>
                    <a:lnTo>
                      <a:pt x="113" y="733"/>
                    </a:lnTo>
                    <a:lnTo>
                      <a:pt x="109" y="738"/>
                    </a:lnTo>
                    <a:lnTo>
                      <a:pt x="106" y="743"/>
                    </a:lnTo>
                    <a:lnTo>
                      <a:pt x="103" y="749"/>
                    </a:lnTo>
                    <a:lnTo>
                      <a:pt x="117" y="752"/>
                    </a:lnTo>
                    <a:lnTo>
                      <a:pt x="132" y="752"/>
                    </a:lnTo>
                    <a:lnTo>
                      <a:pt x="148" y="752"/>
                    </a:lnTo>
                    <a:lnTo>
                      <a:pt x="164" y="750"/>
                    </a:lnTo>
                    <a:lnTo>
                      <a:pt x="181" y="748"/>
                    </a:lnTo>
                    <a:lnTo>
                      <a:pt x="197" y="745"/>
                    </a:lnTo>
                    <a:lnTo>
                      <a:pt x="213" y="742"/>
                    </a:lnTo>
                    <a:lnTo>
                      <a:pt x="228" y="741"/>
                    </a:lnTo>
                    <a:lnTo>
                      <a:pt x="226" y="743"/>
                    </a:lnTo>
                    <a:lnTo>
                      <a:pt x="224" y="746"/>
                    </a:lnTo>
                    <a:lnTo>
                      <a:pt x="221" y="748"/>
                    </a:lnTo>
                    <a:lnTo>
                      <a:pt x="219" y="750"/>
                    </a:lnTo>
                    <a:lnTo>
                      <a:pt x="218" y="752"/>
                    </a:lnTo>
                    <a:lnTo>
                      <a:pt x="216" y="755"/>
                    </a:lnTo>
                    <a:lnTo>
                      <a:pt x="214" y="757"/>
                    </a:lnTo>
                    <a:lnTo>
                      <a:pt x="213" y="759"/>
                    </a:lnTo>
                    <a:lnTo>
                      <a:pt x="220" y="758"/>
                    </a:lnTo>
                    <a:lnTo>
                      <a:pt x="229" y="755"/>
                    </a:lnTo>
                    <a:lnTo>
                      <a:pt x="238" y="752"/>
                    </a:lnTo>
                    <a:lnTo>
                      <a:pt x="249" y="747"/>
                    </a:lnTo>
                    <a:lnTo>
                      <a:pt x="259" y="742"/>
                    </a:lnTo>
                    <a:lnTo>
                      <a:pt x="269" y="737"/>
                    </a:lnTo>
                    <a:lnTo>
                      <a:pt x="277" y="734"/>
                    </a:lnTo>
                    <a:lnTo>
                      <a:pt x="283" y="731"/>
                    </a:lnTo>
                    <a:lnTo>
                      <a:pt x="283" y="736"/>
                    </a:lnTo>
                    <a:lnTo>
                      <a:pt x="283" y="742"/>
                    </a:lnTo>
                    <a:lnTo>
                      <a:pt x="280" y="749"/>
                    </a:lnTo>
                    <a:lnTo>
                      <a:pt x="279" y="755"/>
                    </a:lnTo>
                    <a:lnTo>
                      <a:pt x="277" y="761"/>
                    </a:lnTo>
                    <a:lnTo>
                      <a:pt x="274" y="767"/>
                    </a:lnTo>
                    <a:lnTo>
                      <a:pt x="272" y="772"/>
                    </a:lnTo>
                    <a:lnTo>
                      <a:pt x="268" y="776"/>
                    </a:lnTo>
                    <a:lnTo>
                      <a:pt x="275" y="776"/>
                    </a:lnTo>
                    <a:lnTo>
                      <a:pt x="281" y="770"/>
                    </a:lnTo>
                    <a:lnTo>
                      <a:pt x="290" y="764"/>
                    </a:lnTo>
                    <a:lnTo>
                      <a:pt x="298" y="759"/>
                    </a:lnTo>
                    <a:lnTo>
                      <a:pt x="308" y="755"/>
                    </a:lnTo>
                    <a:lnTo>
                      <a:pt x="317" y="751"/>
                    </a:lnTo>
                    <a:lnTo>
                      <a:pt x="327" y="747"/>
                    </a:lnTo>
                    <a:lnTo>
                      <a:pt x="337" y="743"/>
                    </a:lnTo>
                    <a:lnTo>
                      <a:pt x="346" y="738"/>
                    </a:lnTo>
                    <a:lnTo>
                      <a:pt x="347" y="735"/>
                    </a:lnTo>
                    <a:lnTo>
                      <a:pt x="348" y="731"/>
                    </a:lnTo>
                    <a:lnTo>
                      <a:pt x="351" y="728"/>
                    </a:lnTo>
                    <a:lnTo>
                      <a:pt x="353" y="723"/>
                    </a:lnTo>
                    <a:lnTo>
                      <a:pt x="357" y="720"/>
                    </a:lnTo>
                    <a:lnTo>
                      <a:pt x="360" y="717"/>
                    </a:lnTo>
                    <a:lnTo>
                      <a:pt x="363" y="714"/>
                    </a:lnTo>
                    <a:lnTo>
                      <a:pt x="365" y="711"/>
                    </a:lnTo>
                    <a:lnTo>
                      <a:pt x="364" y="717"/>
                    </a:lnTo>
                    <a:lnTo>
                      <a:pt x="363" y="723"/>
                    </a:lnTo>
                    <a:lnTo>
                      <a:pt x="362" y="731"/>
                    </a:lnTo>
                    <a:lnTo>
                      <a:pt x="361" y="738"/>
                    </a:lnTo>
                    <a:lnTo>
                      <a:pt x="361" y="746"/>
                    </a:lnTo>
                    <a:lnTo>
                      <a:pt x="361" y="753"/>
                    </a:lnTo>
                    <a:lnTo>
                      <a:pt x="361" y="759"/>
                    </a:lnTo>
                    <a:lnTo>
                      <a:pt x="361" y="767"/>
                    </a:lnTo>
                    <a:lnTo>
                      <a:pt x="368" y="757"/>
                    </a:lnTo>
                    <a:lnTo>
                      <a:pt x="377" y="748"/>
                    </a:lnTo>
                    <a:lnTo>
                      <a:pt x="386" y="738"/>
                    </a:lnTo>
                    <a:lnTo>
                      <a:pt x="396" y="729"/>
                    </a:lnTo>
                    <a:lnTo>
                      <a:pt x="405" y="718"/>
                    </a:lnTo>
                    <a:lnTo>
                      <a:pt x="415" y="709"/>
                    </a:lnTo>
                    <a:lnTo>
                      <a:pt x="423" y="698"/>
                    </a:lnTo>
                    <a:lnTo>
                      <a:pt x="431" y="687"/>
                    </a:lnTo>
                    <a:lnTo>
                      <a:pt x="431" y="692"/>
                    </a:lnTo>
                    <a:lnTo>
                      <a:pt x="431" y="696"/>
                    </a:lnTo>
                    <a:lnTo>
                      <a:pt x="430" y="700"/>
                    </a:lnTo>
                    <a:lnTo>
                      <a:pt x="430" y="704"/>
                    </a:lnTo>
                    <a:lnTo>
                      <a:pt x="429" y="709"/>
                    </a:lnTo>
                    <a:lnTo>
                      <a:pt x="429" y="713"/>
                    </a:lnTo>
                    <a:lnTo>
                      <a:pt x="429" y="717"/>
                    </a:lnTo>
                    <a:lnTo>
                      <a:pt x="429" y="721"/>
                    </a:lnTo>
                    <a:lnTo>
                      <a:pt x="434" y="712"/>
                    </a:lnTo>
                    <a:lnTo>
                      <a:pt x="439" y="703"/>
                    </a:lnTo>
                    <a:lnTo>
                      <a:pt x="444" y="695"/>
                    </a:lnTo>
                    <a:lnTo>
                      <a:pt x="449" y="685"/>
                    </a:lnTo>
                    <a:lnTo>
                      <a:pt x="453" y="676"/>
                    </a:lnTo>
                    <a:lnTo>
                      <a:pt x="457" y="667"/>
                    </a:lnTo>
                    <a:lnTo>
                      <a:pt x="461" y="659"/>
                    </a:lnTo>
                    <a:lnTo>
                      <a:pt x="466" y="649"/>
                    </a:lnTo>
                    <a:lnTo>
                      <a:pt x="466" y="683"/>
                    </a:lnTo>
                    <a:lnTo>
                      <a:pt x="523" y="591"/>
                    </a:lnTo>
                    <a:lnTo>
                      <a:pt x="524" y="595"/>
                    </a:lnTo>
                    <a:lnTo>
                      <a:pt x="524" y="599"/>
                    </a:lnTo>
                    <a:lnTo>
                      <a:pt x="525" y="602"/>
                    </a:lnTo>
                    <a:lnTo>
                      <a:pt x="526" y="605"/>
                    </a:lnTo>
                    <a:lnTo>
                      <a:pt x="527" y="608"/>
                    </a:lnTo>
                    <a:lnTo>
                      <a:pt x="528" y="611"/>
                    </a:lnTo>
                    <a:lnTo>
                      <a:pt x="529" y="613"/>
                    </a:lnTo>
                    <a:lnTo>
                      <a:pt x="530" y="617"/>
                    </a:lnTo>
                    <a:lnTo>
                      <a:pt x="539" y="611"/>
                    </a:lnTo>
                    <a:lnTo>
                      <a:pt x="548" y="602"/>
                    </a:lnTo>
                    <a:lnTo>
                      <a:pt x="560" y="589"/>
                    </a:lnTo>
                    <a:lnTo>
                      <a:pt x="571" y="574"/>
                    </a:lnTo>
                    <a:lnTo>
                      <a:pt x="581" y="559"/>
                    </a:lnTo>
                    <a:lnTo>
                      <a:pt x="590" y="545"/>
                    </a:lnTo>
                    <a:lnTo>
                      <a:pt x="594" y="538"/>
                    </a:lnTo>
                    <a:lnTo>
                      <a:pt x="596" y="532"/>
                    </a:lnTo>
                    <a:lnTo>
                      <a:pt x="598" y="527"/>
                    </a:lnTo>
                    <a:lnTo>
                      <a:pt x="598" y="522"/>
                    </a:lnTo>
                    <a:lnTo>
                      <a:pt x="598" y="555"/>
                    </a:lnTo>
                    <a:lnTo>
                      <a:pt x="609" y="549"/>
                    </a:lnTo>
                    <a:lnTo>
                      <a:pt x="622" y="544"/>
                    </a:lnTo>
                    <a:lnTo>
                      <a:pt x="634" y="537"/>
                    </a:lnTo>
                    <a:lnTo>
                      <a:pt x="647" y="532"/>
                    </a:lnTo>
                    <a:lnTo>
                      <a:pt x="658" y="526"/>
                    </a:lnTo>
                    <a:lnTo>
                      <a:pt x="670" y="519"/>
                    </a:lnTo>
                    <a:lnTo>
                      <a:pt x="680" y="511"/>
                    </a:lnTo>
                    <a:lnTo>
                      <a:pt x="691" y="502"/>
                    </a:lnTo>
                    <a:lnTo>
                      <a:pt x="690" y="508"/>
                    </a:lnTo>
                    <a:lnTo>
                      <a:pt x="689" y="514"/>
                    </a:lnTo>
                    <a:lnTo>
                      <a:pt x="687" y="520"/>
                    </a:lnTo>
                    <a:lnTo>
                      <a:pt x="686" y="527"/>
                    </a:lnTo>
                    <a:lnTo>
                      <a:pt x="685" y="534"/>
                    </a:lnTo>
                    <a:lnTo>
                      <a:pt x="684" y="540"/>
                    </a:lnTo>
                    <a:lnTo>
                      <a:pt x="684" y="547"/>
                    </a:lnTo>
                    <a:lnTo>
                      <a:pt x="684" y="553"/>
                    </a:lnTo>
                    <a:lnTo>
                      <a:pt x="688" y="548"/>
                    </a:lnTo>
                    <a:lnTo>
                      <a:pt x="694" y="541"/>
                    </a:lnTo>
                    <a:lnTo>
                      <a:pt x="702" y="535"/>
                    </a:lnTo>
                    <a:lnTo>
                      <a:pt x="710" y="529"/>
                    </a:lnTo>
                    <a:lnTo>
                      <a:pt x="720" y="522"/>
                    </a:lnTo>
                    <a:lnTo>
                      <a:pt x="729" y="517"/>
                    </a:lnTo>
                    <a:lnTo>
                      <a:pt x="736" y="513"/>
                    </a:lnTo>
                    <a:lnTo>
                      <a:pt x="743" y="510"/>
                    </a:lnTo>
                    <a:lnTo>
                      <a:pt x="744" y="509"/>
                    </a:lnTo>
                    <a:lnTo>
                      <a:pt x="744" y="508"/>
                    </a:lnTo>
                    <a:lnTo>
                      <a:pt x="745" y="507"/>
                    </a:lnTo>
                    <a:lnTo>
                      <a:pt x="746" y="505"/>
                    </a:lnTo>
                    <a:lnTo>
                      <a:pt x="747" y="504"/>
                    </a:lnTo>
                    <a:lnTo>
                      <a:pt x="748" y="503"/>
                    </a:lnTo>
                    <a:lnTo>
                      <a:pt x="750" y="502"/>
                    </a:lnTo>
                    <a:lnTo>
                      <a:pt x="751" y="502"/>
                    </a:lnTo>
                    <a:lnTo>
                      <a:pt x="750" y="503"/>
                    </a:lnTo>
                    <a:lnTo>
                      <a:pt x="748" y="505"/>
                    </a:lnTo>
                    <a:lnTo>
                      <a:pt x="747" y="509"/>
                    </a:lnTo>
                    <a:lnTo>
                      <a:pt x="746" y="512"/>
                    </a:lnTo>
                    <a:lnTo>
                      <a:pt x="745" y="515"/>
                    </a:lnTo>
                    <a:lnTo>
                      <a:pt x="744" y="518"/>
                    </a:lnTo>
                    <a:lnTo>
                      <a:pt x="744" y="520"/>
                    </a:lnTo>
                    <a:lnTo>
                      <a:pt x="743" y="522"/>
                    </a:lnTo>
                    <a:lnTo>
                      <a:pt x="747" y="522"/>
                    </a:lnTo>
                    <a:lnTo>
                      <a:pt x="752" y="520"/>
                    </a:lnTo>
                    <a:lnTo>
                      <a:pt x="757" y="517"/>
                    </a:lnTo>
                    <a:lnTo>
                      <a:pt x="762" y="514"/>
                    </a:lnTo>
                    <a:lnTo>
                      <a:pt x="766" y="510"/>
                    </a:lnTo>
                    <a:lnTo>
                      <a:pt x="771" y="507"/>
                    </a:lnTo>
                    <a:lnTo>
                      <a:pt x="775" y="504"/>
                    </a:lnTo>
                    <a:lnTo>
                      <a:pt x="779" y="502"/>
                    </a:lnTo>
                    <a:lnTo>
                      <a:pt x="779" y="540"/>
                    </a:lnTo>
                    <a:lnTo>
                      <a:pt x="786" y="539"/>
                    </a:lnTo>
                    <a:lnTo>
                      <a:pt x="795" y="537"/>
                    </a:lnTo>
                    <a:lnTo>
                      <a:pt x="802" y="535"/>
                    </a:lnTo>
                    <a:lnTo>
                      <a:pt x="811" y="533"/>
                    </a:lnTo>
                    <a:lnTo>
                      <a:pt x="818" y="530"/>
                    </a:lnTo>
                    <a:lnTo>
                      <a:pt x="824" y="527"/>
                    </a:lnTo>
                    <a:lnTo>
                      <a:pt x="832" y="522"/>
                    </a:lnTo>
                    <a:lnTo>
                      <a:pt x="838" y="517"/>
                    </a:lnTo>
                    <a:lnTo>
                      <a:pt x="838" y="519"/>
                    </a:lnTo>
                    <a:lnTo>
                      <a:pt x="838" y="521"/>
                    </a:lnTo>
                    <a:lnTo>
                      <a:pt x="838" y="523"/>
                    </a:lnTo>
                    <a:lnTo>
                      <a:pt x="837" y="525"/>
                    </a:lnTo>
                    <a:lnTo>
                      <a:pt x="837" y="527"/>
                    </a:lnTo>
                    <a:lnTo>
                      <a:pt x="836" y="528"/>
                    </a:lnTo>
                    <a:lnTo>
                      <a:pt x="836" y="529"/>
                    </a:lnTo>
                    <a:lnTo>
                      <a:pt x="836" y="530"/>
                    </a:lnTo>
                    <a:lnTo>
                      <a:pt x="841" y="529"/>
                    </a:lnTo>
                    <a:lnTo>
                      <a:pt x="845" y="528"/>
                    </a:lnTo>
                    <a:lnTo>
                      <a:pt x="850" y="527"/>
                    </a:lnTo>
                    <a:lnTo>
                      <a:pt x="854" y="525"/>
                    </a:lnTo>
                    <a:lnTo>
                      <a:pt x="858" y="523"/>
                    </a:lnTo>
                    <a:lnTo>
                      <a:pt x="862" y="521"/>
                    </a:lnTo>
                    <a:lnTo>
                      <a:pt x="867" y="519"/>
                    </a:lnTo>
                    <a:lnTo>
                      <a:pt x="871" y="517"/>
                    </a:lnTo>
                    <a:lnTo>
                      <a:pt x="870" y="520"/>
                    </a:lnTo>
                    <a:lnTo>
                      <a:pt x="869" y="525"/>
                    </a:lnTo>
                    <a:lnTo>
                      <a:pt x="868" y="530"/>
                    </a:lnTo>
                    <a:lnTo>
                      <a:pt x="866" y="535"/>
                    </a:lnTo>
                    <a:lnTo>
                      <a:pt x="863" y="540"/>
                    </a:lnTo>
                    <a:lnTo>
                      <a:pt x="861" y="548"/>
                    </a:lnTo>
                    <a:lnTo>
                      <a:pt x="859" y="554"/>
                    </a:lnTo>
                    <a:lnTo>
                      <a:pt x="857" y="562"/>
                    </a:lnTo>
                    <a:lnTo>
                      <a:pt x="852" y="565"/>
                    </a:lnTo>
                    <a:lnTo>
                      <a:pt x="848" y="568"/>
                    </a:lnTo>
                    <a:lnTo>
                      <a:pt x="843" y="571"/>
                    </a:lnTo>
                    <a:lnTo>
                      <a:pt x="839" y="574"/>
                    </a:lnTo>
                    <a:lnTo>
                      <a:pt x="834" y="578"/>
                    </a:lnTo>
                    <a:lnTo>
                      <a:pt x="830" y="582"/>
                    </a:lnTo>
                    <a:lnTo>
                      <a:pt x="825" y="585"/>
                    </a:lnTo>
                    <a:lnTo>
                      <a:pt x="821" y="589"/>
                    </a:lnTo>
                    <a:lnTo>
                      <a:pt x="818" y="585"/>
                    </a:lnTo>
                    <a:lnTo>
                      <a:pt x="817" y="581"/>
                    </a:lnTo>
                    <a:lnTo>
                      <a:pt x="817" y="575"/>
                    </a:lnTo>
                    <a:lnTo>
                      <a:pt x="819" y="570"/>
                    </a:lnTo>
                    <a:lnTo>
                      <a:pt x="820" y="565"/>
                    </a:lnTo>
                    <a:lnTo>
                      <a:pt x="822" y="560"/>
                    </a:lnTo>
                    <a:lnTo>
                      <a:pt x="823" y="555"/>
                    </a:lnTo>
                    <a:lnTo>
                      <a:pt x="823" y="551"/>
                    </a:lnTo>
                    <a:lnTo>
                      <a:pt x="812" y="557"/>
                    </a:lnTo>
                    <a:lnTo>
                      <a:pt x="801" y="564"/>
                    </a:lnTo>
                    <a:lnTo>
                      <a:pt x="790" y="572"/>
                    </a:lnTo>
                    <a:lnTo>
                      <a:pt x="781" y="581"/>
                    </a:lnTo>
                    <a:lnTo>
                      <a:pt x="770" y="589"/>
                    </a:lnTo>
                    <a:lnTo>
                      <a:pt x="761" y="599"/>
                    </a:lnTo>
                    <a:lnTo>
                      <a:pt x="751" y="607"/>
                    </a:lnTo>
                    <a:lnTo>
                      <a:pt x="742" y="615"/>
                    </a:lnTo>
                    <a:lnTo>
                      <a:pt x="743" y="609"/>
                    </a:lnTo>
                    <a:lnTo>
                      <a:pt x="746" y="604"/>
                    </a:lnTo>
                    <a:lnTo>
                      <a:pt x="750" y="599"/>
                    </a:lnTo>
                    <a:lnTo>
                      <a:pt x="754" y="594"/>
                    </a:lnTo>
                    <a:lnTo>
                      <a:pt x="759" y="589"/>
                    </a:lnTo>
                    <a:lnTo>
                      <a:pt x="762" y="584"/>
                    </a:lnTo>
                    <a:lnTo>
                      <a:pt x="762" y="582"/>
                    </a:lnTo>
                    <a:lnTo>
                      <a:pt x="762" y="578"/>
                    </a:lnTo>
                    <a:lnTo>
                      <a:pt x="762" y="576"/>
                    </a:lnTo>
                    <a:lnTo>
                      <a:pt x="760" y="573"/>
                    </a:lnTo>
                    <a:lnTo>
                      <a:pt x="759" y="572"/>
                    </a:lnTo>
                    <a:lnTo>
                      <a:pt x="759" y="571"/>
                    </a:lnTo>
                    <a:lnTo>
                      <a:pt x="759" y="570"/>
                    </a:lnTo>
                    <a:lnTo>
                      <a:pt x="759" y="569"/>
                    </a:lnTo>
                    <a:lnTo>
                      <a:pt x="760" y="567"/>
                    </a:lnTo>
                    <a:lnTo>
                      <a:pt x="761" y="566"/>
                    </a:lnTo>
                    <a:lnTo>
                      <a:pt x="762" y="565"/>
                    </a:lnTo>
                    <a:lnTo>
                      <a:pt x="763" y="563"/>
                    </a:lnTo>
                    <a:lnTo>
                      <a:pt x="762" y="562"/>
                    </a:lnTo>
                    <a:lnTo>
                      <a:pt x="762" y="560"/>
                    </a:lnTo>
                    <a:lnTo>
                      <a:pt x="761" y="559"/>
                    </a:lnTo>
                    <a:lnTo>
                      <a:pt x="760" y="558"/>
                    </a:lnTo>
                    <a:lnTo>
                      <a:pt x="759" y="557"/>
                    </a:lnTo>
                    <a:lnTo>
                      <a:pt x="758" y="556"/>
                    </a:lnTo>
                    <a:lnTo>
                      <a:pt x="758" y="556"/>
                    </a:lnTo>
                    <a:lnTo>
                      <a:pt x="757" y="555"/>
                    </a:lnTo>
                    <a:lnTo>
                      <a:pt x="753" y="555"/>
                    </a:lnTo>
                    <a:lnTo>
                      <a:pt x="750" y="556"/>
                    </a:lnTo>
                    <a:lnTo>
                      <a:pt x="747" y="558"/>
                    </a:lnTo>
                    <a:lnTo>
                      <a:pt x="744" y="559"/>
                    </a:lnTo>
                    <a:lnTo>
                      <a:pt x="742" y="562"/>
                    </a:lnTo>
                    <a:lnTo>
                      <a:pt x="740" y="565"/>
                    </a:lnTo>
                    <a:lnTo>
                      <a:pt x="738" y="567"/>
                    </a:lnTo>
                    <a:lnTo>
                      <a:pt x="736" y="569"/>
                    </a:lnTo>
                    <a:lnTo>
                      <a:pt x="702" y="595"/>
                    </a:lnTo>
                    <a:lnTo>
                      <a:pt x="703" y="590"/>
                    </a:lnTo>
                    <a:lnTo>
                      <a:pt x="706" y="586"/>
                    </a:lnTo>
                    <a:lnTo>
                      <a:pt x="710" y="582"/>
                    </a:lnTo>
                    <a:lnTo>
                      <a:pt x="714" y="577"/>
                    </a:lnTo>
                    <a:lnTo>
                      <a:pt x="717" y="573"/>
                    </a:lnTo>
                    <a:lnTo>
                      <a:pt x="718" y="569"/>
                    </a:lnTo>
                    <a:lnTo>
                      <a:pt x="718" y="567"/>
                    </a:lnTo>
                    <a:lnTo>
                      <a:pt x="717" y="564"/>
                    </a:lnTo>
                    <a:lnTo>
                      <a:pt x="715" y="562"/>
                    </a:lnTo>
                    <a:lnTo>
                      <a:pt x="712" y="559"/>
                    </a:lnTo>
                    <a:lnTo>
                      <a:pt x="703" y="566"/>
                    </a:lnTo>
                    <a:lnTo>
                      <a:pt x="692" y="572"/>
                    </a:lnTo>
                    <a:lnTo>
                      <a:pt x="681" y="577"/>
                    </a:lnTo>
                    <a:lnTo>
                      <a:pt x="671" y="584"/>
                    </a:lnTo>
                    <a:lnTo>
                      <a:pt x="661" y="589"/>
                    </a:lnTo>
                    <a:lnTo>
                      <a:pt x="651" y="595"/>
                    </a:lnTo>
                    <a:lnTo>
                      <a:pt x="641" y="602"/>
                    </a:lnTo>
                    <a:lnTo>
                      <a:pt x="632" y="609"/>
                    </a:lnTo>
                    <a:lnTo>
                      <a:pt x="633" y="607"/>
                    </a:lnTo>
                    <a:lnTo>
                      <a:pt x="633" y="604"/>
                    </a:lnTo>
                    <a:lnTo>
                      <a:pt x="634" y="601"/>
                    </a:lnTo>
                    <a:lnTo>
                      <a:pt x="634" y="596"/>
                    </a:lnTo>
                    <a:lnTo>
                      <a:pt x="634" y="591"/>
                    </a:lnTo>
                    <a:lnTo>
                      <a:pt x="633" y="587"/>
                    </a:lnTo>
                    <a:lnTo>
                      <a:pt x="633" y="583"/>
                    </a:lnTo>
                    <a:lnTo>
                      <a:pt x="632" y="578"/>
                    </a:lnTo>
                    <a:lnTo>
                      <a:pt x="624" y="584"/>
                    </a:lnTo>
                    <a:lnTo>
                      <a:pt x="617" y="589"/>
                    </a:lnTo>
                    <a:lnTo>
                      <a:pt x="611" y="595"/>
                    </a:lnTo>
                    <a:lnTo>
                      <a:pt x="605" y="602"/>
                    </a:lnTo>
                    <a:lnTo>
                      <a:pt x="599" y="608"/>
                    </a:lnTo>
                    <a:lnTo>
                      <a:pt x="594" y="615"/>
                    </a:lnTo>
                    <a:lnTo>
                      <a:pt x="588" y="623"/>
                    </a:lnTo>
                    <a:lnTo>
                      <a:pt x="583" y="629"/>
                    </a:lnTo>
                    <a:lnTo>
                      <a:pt x="585" y="628"/>
                    </a:lnTo>
                    <a:lnTo>
                      <a:pt x="587" y="626"/>
                    </a:lnTo>
                    <a:lnTo>
                      <a:pt x="588" y="624"/>
                    </a:lnTo>
                    <a:lnTo>
                      <a:pt x="589" y="622"/>
                    </a:lnTo>
                    <a:lnTo>
                      <a:pt x="589" y="617"/>
                    </a:lnTo>
                    <a:lnTo>
                      <a:pt x="589" y="612"/>
                    </a:lnTo>
                    <a:lnTo>
                      <a:pt x="589" y="607"/>
                    </a:lnTo>
                    <a:lnTo>
                      <a:pt x="589" y="603"/>
                    </a:lnTo>
                    <a:lnTo>
                      <a:pt x="590" y="601"/>
                    </a:lnTo>
                    <a:lnTo>
                      <a:pt x="592" y="599"/>
                    </a:lnTo>
                    <a:lnTo>
                      <a:pt x="594" y="596"/>
                    </a:lnTo>
                    <a:lnTo>
                      <a:pt x="597" y="595"/>
                    </a:lnTo>
                    <a:lnTo>
                      <a:pt x="597" y="592"/>
                    </a:lnTo>
                    <a:lnTo>
                      <a:pt x="597" y="590"/>
                    </a:lnTo>
                    <a:lnTo>
                      <a:pt x="599" y="587"/>
                    </a:lnTo>
                    <a:lnTo>
                      <a:pt x="600" y="585"/>
                    </a:lnTo>
                    <a:lnTo>
                      <a:pt x="602" y="583"/>
                    </a:lnTo>
                    <a:lnTo>
                      <a:pt x="603" y="581"/>
                    </a:lnTo>
                    <a:lnTo>
                      <a:pt x="603" y="577"/>
                    </a:lnTo>
                    <a:lnTo>
                      <a:pt x="601" y="575"/>
                    </a:lnTo>
                    <a:lnTo>
                      <a:pt x="589" y="588"/>
                    </a:lnTo>
                    <a:lnTo>
                      <a:pt x="579" y="602"/>
                    </a:lnTo>
                    <a:lnTo>
                      <a:pt x="568" y="615"/>
                    </a:lnTo>
                    <a:lnTo>
                      <a:pt x="559" y="629"/>
                    </a:lnTo>
                    <a:lnTo>
                      <a:pt x="550" y="644"/>
                    </a:lnTo>
                    <a:lnTo>
                      <a:pt x="541" y="659"/>
                    </a:lnTo>
                    <a:lnTo>
                      <a:pt x="532" y="674"/>
                    </a:lnTo>
                    <a:lnTo>
                      <a:pt x="523" y="687"/>
                    </a:lnTo>
                    <a:lnTo>
                      <a:pt x="521" y="636"/>
                    </a:lnTo>
                    <a:lnTo>
                      <a:pt x="515" y="650"/>
                    </a:lnTo>
                    <a:lnTo>
                      <a:pt x="510" y="665"/>
                    </a:lnTo>
                    <a:lnTo>
                      <a:pt x="505" y="680"/>
                    </a:lnTo>
                    <a:lnTo>
                      <a:pt x="498" y="695"/>
                    </a:lnTo>
                    <a:lnTo>
                      <a:pt x="491" y="710"/>
                    </a:lnTo>
                    <a:lnTo>
                      <a:pt x="483" y="723"/>
                    </a:lnTo>
                    <a:lnTo>
                      <a:pt x="474" y="736"/>
                    </a:lnTo>
                    <a:lnTo>
                      <a:pt x="463" y="749"/>
                    </a:lnTo>
                    <a:lnTo>
                      <a:pt x="463" y="745"/>
                    </a:lnTo>
                    <a:lnTo>
                      <a:pt x="466" y="740"/>
                    </a:lnTo>
                    <a:lnTo>
                      <a:pt x="468" y="736"/>
                    </a:lnTo>
                    <a:lnTo>
                      <a:pt x="470" y="732"/>
                    </a:lnTo>
                    <a:lnTo>
                      <a:pt x="472" y="728"/>
                    </a:lnTo>
                    <a:lnTo>
                      <a:pt x="472" y="724"/>
                    </a:lnTo>
                    <a:lnTo>
                      <a:pt x="471" y="722"/>
                    </a:lnTo>
                    <a:lnTo>
                      <a:pt x="469" y="721"/>
                    </a:lnTo>
                    <a:lnTo>
                      <a:pt x="467" y="719"/>
                    </a:lnTo>
                    <a:lnTo>
                      <a:pt x="463" y="718"/>
                    </a:lnTo>
                    <a:lnTo>
                      <a:pt x="459" y="721"/>
                    </a:lnTo>
                    <a:lnTo>
                      <a:pt x="456" y="724"/>
                    </a:lnTo>
                    <a:lnTo>
                      <a:pt x="453" y="730"/>
                    </a:lnTo>
                    <a:lnTo>
                      <a:pt x="451" y="735"/>
                    </a:lnTo>
                    <a:lnTo>
                      <a:pt x="449" y="740"/>
                    </a:lnTo>
                    <a:lnTo>
                      <a:pt x="445" y="745"/>
                    </a:lnTo>
                    <a:lnTo>
                      <a:pt x="443" y="749"/>
                    </a:lnTo>
                    <a:lnTo>
                      <a:pt x="439" y="751"/>
                    </a:lnTo>
                    <a:lnTo>
                      <a:pt x="435" y="753"/>
                    </a:lnTo>
                    <a:lnTo>
                      <a:pt x="431" y="757"/>
                    </a:lnTo>
                    <a:lnTo>
                      <a:pt x="428" y="760"/>
                    </a:lnTo>
                    <a:lnTo>
                      <a:pt x="424" y="766"/>
                    </a:lnTo>
                    <a:lnTo>
                      <a:pt x="419" y="775"/>
                    </a:lnTo>
                    <a:lnTo>
                      <a:pt x="413" y="785"/>
                    </a:lnTo>
                    <a:lnTo>
                      <a:pt x="411" y="789"/>
                    </a:lnTo>
                    <a:lnTo>
                      <a:pt x="407" y="793"/>
                    </a:lnTo>
                    <a:lnTo>
                      <a:pt x="404" y="796"/>
                    </a:lnTo>
                    <a:lnTo>
                      <a:pt x="400" y="800"/>
                    </a:lnTo>
                    <a:lnTo>
                      <a:pt x="396" y="801"/>
                    </a:lnTo>
                    <a:lnTo>
                      <a:pt x="390" y="802"/>
                    </a:lnTo>
                    <a:lnTo>
                      <a:pt x="385" y="802"/>
                    </a:lnTo>
                    <a:lnTo>
                      <a:pt x="379" y="801"/>
                    </a:lnTo>
                    <a:lnTo>
                      <a:pt x="368" y="808"/>
                    </a:lnTo>
                    <a:lnTo>
                      <a:pt x="359" y="814"/>
                    </a:lnTo>
                    <a:lnTo>
                      <a:pt x="349" y="821"/>
                    </a:lnTo>
                    <a:lnTo>
                      <a:pt x="340" y="827"/>
                    </a:lnTo>
                    <a:lnTo>
                      <a:pt x="329" y="833"/>
                    </a:lnTo>
                    <a:lnTo>
                      <a:pt x="320" y="840"/>
                    </a:lnTo>
                    <a:lnTo>
                      <a:pt x="309" y="846"/>
                    </a:lnTo>
                    <a:lnTo>
                      <a:pt x="298" y="851"/>
                    </a:lnTo>
                    <a:lnTo>
                      <a:pt x="298" y="843"/>
                    </a:lnTo>
                    <a:lnTo>
                      <a:pt x="299" y="834"/>
                    </a:lnTo>
                    <a:lnTo>
                      <a:pt x="302" y="826"/>
                    </a:lnTo>
                    <a:lnTo>
                      <a:pt x="305" y="816"/>
                    </a:lnTo>
                    <a:lnTo>
                      <a:pt x="308" y="808"/>
                    </a:lnTo>
                    <a:lnTo>
                      <a:pt x="311" y="800"/>
                    </a:lnTo>
                    <a:lnTo>
                      <a:pt x="314" y="791"/>
                    </a:lnTo>
                    <a:lnTo>
                      <a:pt x="316" y="783"/>
                    </a:lnTo>
                    <a:lnTo>
                      <a:pt x="313" y="780"/>
                    </a:lnTo>
                    <a:lnTo>
                      <a:pt x="310" y="779"/>
                    </a:lnTo>
                    <a:lnTo>
                      <a:pt x="306" y="780"/>
                    </a:lnTo>
                    <a:lnTo>
                      <a:pt x="303" y="783"/>
                    </a:lnTo>
                    <a:lnTo>
                      <a:pt x="299" y="785"/>
                    </a:lnTo>
                    <a:lnTo>
                      <a:pt x="295" y="787"/>
                    </a:lnTo>
                    <a:lnTo>
                      <a:pt x="292" y="789"/>
                    </a:lnTo>
                    <a:lnTo>
                      <a:pt x="289" y="791"/>
                    </a:lnTo>
                    <a:lnTo>
                      <a:pt x="256" y="819"/>
                    </a:lnTo>
                    <a:lnTo>
                      <a:pt x="255" y="816"/>
                    </a:lnTo>
                    <a:lnTo>
                      <a:pt x="255" y="813"/>
                    </a:lnTo>
                    <a:lnTo>
                      <a:pt x="255" y="811"/>
                    </a:lnTo>
                    <a:lnTo>
                      <a:pt x="257" y="808"/>
                    </a:lnTo>
                    <a:lnTo>
                      <a:pt x="261" y="804"/>
                    </a:lnTo>
                    <a:lnTo>
                      <a:pt x="266" y="800"/>
                    </a:lnTo>
                    <a:lnTo>
                      <a:pt x="270" y="795"/>
                    </a:lnTo>
                    <a:lnTo>
                      <a:pt x="273" y="791"/>
                    </a:lnTo>
                    <a:lnTo>
                      <a:pt x="273" y="789"/>
                    </a:lnTo>
                    <a:lnTo>
                      <a:pt x="273" y="786"/>
                    </a:lnTo>
                    <a:lnTo>
                      <a:pt x="271" y="784"/>
                    </a:lnTo>
                    <a:lnTo>
                      <a:pt x="268" y="780"/>
                    </a:lnTo>
                    <a:lnTo>
                      <a:pt x="257" y="786"/>
                    </a:lnTo>
                    <a:lnTo>
                      <a:pt x="247" y="791"/>
                    </a:lnTo>
                    <a:lnTo>
                      <a:pt x="236" y="797"/>
                    </a:lnTo>
                    <a:lnTo>
                      <a:pt x="225" y="805"/>
                    </a:lnTo>
                    <a:lnTo>
                      <a:pt x="215" y="810"/>
                    </a:lnTo>
                    <a:lnTo>
                      <a:pt x="203" y="814"/>
                    </a:lnTo>
                    <a:lnTo>
                      <a:pt x="198" y="816"/>
                    </a:lnTo>
                    <a:lnTo>
                      <a:pt x="192" y="818"/>
                    </a:lnTo>
                    <a:lnTo>
                      <a:pt x="186" y="818"/>
                    </a:lnTo>
                    <a:lnTo>
                      <a:pt x="180" y="818"/>
                    </a:lnTo>
                    <a:lnTo>
                      <a:pt x="175" y="820"/>
                    </a:lnTo>
                    <a:lnTo>
                      <a:pt x="169" y="822"/>
                    </a:lnTo>
                    <a:lnTo>
                      <a:pt x="164" y="824"/>
                    </a:lnTo>
                    <a:lnTo>
                      <a:pt x="159" y="826"/>
                    </a:lnTo>
                    <a:lnTo>
                      <a:pt x="153" y="828"/>
                    </a:lnTo>
                    <a:lnTo>
                      <a:pt x="148" y="829"/>
                    </a:lnTo>
                    <a:lnTo>
                      <a:pt x="143" y="830"/>
                    </a:lnTo>
                    <a:lnTo>
                      <a:pt x="138" y="831"/>
                    </a:lnTo>
                    <a:lnTo>
                      <a:pt x="142" y="824"/>
                    </a:lnTo>
                    <a:lnTo>
                      <a:pt x="147" y="819"/>
                    </a:lnTo>
                    <a:lnTo>
                      <a:pt x="153" y="813"/>
                    </a:lnTo>
                    <a:lnTo>
                      <a:pt x="161" y="809"/>
                    </a:lnTo>
                    <a:lnTo>
                      <a:pt x="167" y="806"/>
                    </a:lnTo>
                    <a:lnTo>
                      <a:pt x="175" y="802"/>
                    </a:lnTo>
                    <a:lnTo>
                      <a:pt x="180" y="796"/>
                    </a:lnTo>
                    <a:lnTo>
                      <a:pt x="185" y="791"/>
                    </a:lnTo>
                    <a:lnTo>
                      <a:pt x="181" y="787"/>
                    </a:lnTo>
                    <a:lnTo>
                      <a:pt x="176" y="787"/>
                    </a:lnTo>
                    <a:lnTo>
                      <a:pt x="171" y="787"/>
                    </a:lnTo>
                    <a:lnTo>
                      <a:pt x="167" y="789"/>
                    </a:lnTo>
                    <a:lnTo>
                      <a:pt x="163" y="792"/>
                    </a:lnTo>
                    <a:lnTo>
                      <a:pt x="158" y="795"/>
                    </a:lnTo>
                    <a:lnTo>
                      <a:pt x="153" y="797"/>
                    </a:lnTo>
                    <a:lnTo>
                      <a:pt x="149" y="800"/>
                    </a:lnTo>
                    <a:lnTo>
                      <a:pt x="125" y="805"/>
                    </a:lnTo>
                    <a:lnTo>
                      <a:pt x="125" y="804"/>
                    </a:lnTo>
                    <a:lnTo>
                      <a:pt x="125" y="803"/>
                    </a:lnTo>
                    <a:lnTo>
                      <a:pt x="125" y="802"/>
                    </a:lnTo>
                    <a:lnTo>
                      <a:pt x="125" y="801"/>
                    </a:lnTo>
                    <a:lnTo>
                      <a:pt x="124" y="800"/>
                    </a:lnTo>
                    <a:lnTo>
                      <a:pt x="123" y="798"/>
                    </a:lnTo>
                    <a:lnTo>
                      <a:pt x="122" y="797"/>
                    </a:lnTo>
                    <a:lnTo>
                      <a:pt x="121" y="796"/>
                    </a:lnTo>
                    <a:lnTo>
                      <a:pt x="110" y="801"/>
                    </a:lnTo>
                    <a:lnTo>
                      <a:pt x="100" y="804"/>
                    </a:lnTo>
                    <a:lnTo>
                      <a:pt x="89" y="809"/>
                    </a:lnTo>
                    <a:lnTo>
                      <a:pt x="78" y="812"/>
                    </a:lnTo>
                    <a:lnTo>
                      <a:pt x="68" y="816"/>
                    </a:lnTo>
                    <a:lnTo>
                      <a:pt x="56" y="819"/>
                    </a:lnTo>
                    <a:lnTo>
                      <a:pt x="44" y="820"/>
                    </a:lnTo>
                    <a:lnTo>
                      <a:pt x="32" y="819"/>
                    </a:lnTo>
                    <a:lnTo>
                      <a:pt x="35" y="813"/>
                    </a:lnTo>
                    <a:lnTo>
                      <a:pt x="39" y="808"/>
                    </a:lnTo>
                    <a:lnTo>
                      <a:pt x="44" y="803"/>
                    </a:lnTo>
                    <a:lnTo>
                      <a:pt x="49" y="798"/>
                    </a:lnTo>
                    <a:lnTo>
                      <a:pt x="54" y="794"/>
                    </a:lnTo>
                    <a:lnTo>
                      <a:pt x="59" y="790"/>
                    </a:lnTo>
                    <a:lnTo>
                      <a:pt x="65" y="786"/>
                    </a:lnTo>
                    <a:lnTo>
                      <a:pt x="69" y="780"/>
                    </a:lnTo>
                    <a:lnTo>
                      <a:pt x="62" y="775"/>
                    </a:lnTo>
                    <a:lnTo>
                      <a:pt x="55" y="779"/>
                    </a:lnTo>
                    <a:lnTo>
                      <a:pt x="48" y="784"/>
                    </a:lnTo>
                    <a:lnTo>
                      <a:pt x="40" y="789"/>
                    </a:lnTo>
                    <a:lnTo>
                      <a:pt x="32" y="793"/>
                    </a:lnTo>
                    <a:lnTo>
                      <a:pt x="24" y="797"/>
                    </a:lnTo>
                    <a:lnTo>
                      <a:pt x="17" y="802"/>
                    </a:lnTo>
                    <a:lnTo>
                      <a:pt x="9" y="805"/>
                    </a:lnTo>
                    <a:lnTo>
                      <a:pt x="0" y="807"/>
                    </a:lnTo>
                    <a:lnTo>
                      <a:pt x="1" y="802"/>
                    </a:lnTo>
                    <a:lnTo>
                      <a:pt x="3" y="797"/>
                    </a:lnTo>
                    <a:lnTo>
                      <a:pt x="5" y="793"/>
                    </a:lnTo>
                    <a:lnTo>
                      <a:pt x="9" y="789"/>
                    </a:lnTo>
                    <a:lnTo>
                      <a:pt x="15" y="783"/>
                    </a:lnTo>
                    <a:lnTo>
                      <a:pt x="22" y="777"/>
                    </a:lnTo>
                    <a:lnTo>
                      <a:pt x="31" y="772"/>
                    </a:lnTo>
                    <a:lnTo>
                      <a:pt x="39" y="768"/>
                    </a:lnTo>
                    <a:lnTo>
                      <a:pt x="48" y="764"/>
                    </a:lnTo>
                    <a:lnTo>
                      <a:pt x="56" y="758"/>
                    </a:lnTo>
                    <a:lnTo>
                      <a:pt x="56" y="757"/>
                    </a:lnTo>
                    <a:lnTo>
                      <a:pt x="56" y="756"/>
                    </a:lnTo>
                    <a:lnTo>
                      <a:pt x="55" y="755"/>
                    </a:lnTo>
                    <a:lnTo>
                      <a:pt x="54" y="754"/>
                    </a:lnTo>
                    <a:lnTo>
                      <a:pt x="53" y="753"/>
                    </a:lnTo>
                    <a:lnTo>
                      <a:pt x="52" y="752"/>
                    </a:lnTo>
                    <a:lnTo>
                      <a:pt x="51" y="752"/>
                    </a:lnTo>
                    <a:lnTo>
                      <a:pt x="51" y="751"/>
                    </a:lnTo>
                    <a:lnTo>
                      <a:pt x="36" y="753"/>
                    </a:lnTo>
                    <a:lnTo>
                      <a:pt x="40" y="748"/>
                    </a:lnTo>
                    <a:lnTo>
                      <a:pt x="44" y="742"/>
                    </a:lnTo>
                    <a:lnTo>
                      <a:pt x="51" y="739"/>
                    </a:lnTo>
                    <a:lnTo>
                      <a:pt x="57" y="736"/>
                    </a:lnTo>
                    <a:lnTo>
                      <a:pt x="65" y="733"/>
                    </a:lnTo>
                    <a:lnTo>
                      <a:pt x="71" y="731"/>
                    </a:lnTo>
                    <a:lnTo>
                      <a:pt x="78" y="728"/>
                    </a:lnTo>
                    <a:lnTo>
                      <a:pt x="85" y="724"/>
                    </a:lnTo>
                    <a:lnTo>
                      <a:pt x="85" y="722"/>
                    </a:lnTo>
                    <a:lnTo>
                      <a:pt x="85" y="721"/>
                    </a:lnTo>
                    <a:lnTo>
                      <a:pt x="85" y="719"/>
                    </a:lnTo>
                    <a:lnTo>
                      <a:pt x="84" y="718"/>
                    </a:lnTo>
                    <a:lnTo>
                      <a:pt x="83" y="717"/>
                    </a:lnTo>
                    <a:lnTo>
                      <a:pt x="82" y="716"/>
                    </a:lnTo>
                    <a:lnTo>
                      <a:pt x="80" y="715"/>
                    </a:lnTo>
                    <a:lnTo>
                      <a:pt x="78" y="714"/>
                    </a:lnTo>
                    <a:lnTo>
                      <a:pt x="65" y="716"/>
                    </a:lnTo>
                    <a:lnTo>
                      <a:pt x="67" y="715"/>
                    </a:lnTo>
                    <a:lnTo>
                      <a:pt x="70" y="715"/>
                    </a:lnTo>
                    <a:lnTo>
                      <a:pt x="72" y="714"/>
                    </a:lnTo>
                    <a:lnTo>
                      <a:pt x="75" y="714"/>
                    </a:lnTo>
                    <a:lnTo>
                      <a:pt x="77" y="713"/>
                    </a:lnTo>
                    <a:lnTo>
                      <a:pt x="80" y="712"/>
                    </a:lnTo>
                    <a:lnTo>
                      <a:pt x="83" y="710"/>
                    </a:lnTo>
                    <a:lnTo>
                      <a:pt x="85" y="709"/>
                    </a:lnTo>
                    <a:lnTo>
                      <a:pt x="85" y="700"/>
                    </a:lnTo>
                    <a:lnTo>
                      <a:pt x="87" y="699"/>
                    </a:lnTo>
                    <a:lnTo>
                      <a:pt x="88" y="699"/>
                    </a:lnTo>
                    <a:lnTo>
                      <a:pt x="90" y="698"/>
                    </a:lnTo>
                    <a:lnTo>
                      <a:pt x="92" y="698"/>
                    </a:lnTo>
                    <a:lnTo>
                      <a:pt x="94" y="698"/>
                    </a:lnTo>
                    <a:lnTo>
                      <a:pt x="95" y="698"/>
                    </a:lnTo>
                    <a:lnTo>
                      <a:pt x="97" y="698"/>
                    </a:lnTo>
                    <a:lnTo>
                      <a:pt x="100" y="69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6822720" y="6193080"/>
                <a:ext cx="406440" cy="199800"/>
              </a:xfrm>
              <a:custGeom>
                <a:avLst/>
                <a:gdLst/>
                <a:ahLst/>
                <a:rect l="l" t="t" r="r" b="b"/>
                <a:pathLst>
                  <a:path w="770" h="378">
                    <a:moveTo>
                      <a:pt x="6" y="30"/>
                    </a:moveTo>
                    <a:lnTo>
                      <a:pt x="11" y="26"/>
                    </a:lnTo>
                    <a:lnTo>
                      <a:pt x="15" y="23"/>
                    </a:lnTo>
                    <a:lnTo>
                      <a:pt x="20" y="19"/>
                    </a:lnTo>
                    <a:lnTo>
                      <a:pt x="24" y="15"/>
                    </a:lnTo>
                    <a:lnTo>
                      <a:pt x="29" y="11"/>
                    </a:lnTo>
                    <a:lnTo>
                      <a:pt x="33" y="8"/>
                    </a:lnTo>
                    <a:lnTo>
                      <a:pt x="39" y="5"/>
                    </a:lnTo>
                    <a:lnTo>
                      <a:pt x="44" y="3"/>
                    </a:lnTo>
                    <a:lnTo>
                      <a:pt x="44" y="27"/>
                    </a:lnTo>
                    <a:lnTo>
                      <a:pt x="50" y="26"/>
                    </a:lnTo>
                    <a:lnTo>
                      <a:pt x="58" y="24"/>
                    </a:lnTo>
                    <a:lnTo>
                      <a:pt x="66" y="22"/>
                    </a:lnTo>
                    <a:lnTo>
                      <a:pt x="74" y="20"/>
                    </a:lnTo>
                    <a:lnTo>
                      <a:pt x="82" y="16"/>
                    </a:lnTo>
                    <a:lnTo>
                      <a:pt x="89" y="14"/>
                    </a:lnTo>
                    <a:lnTo>
                      <a:pt x="97" y="12"/>
                    </a:lnTo>
                    <a:lnTo>
                      <a:pt x="104" y="10"/>
                    </a:lnTo>
                    <a:lnTo>
                      <a:pt x="104" y="12"/>
                    </a:lnTo>
                    <a:lnTo>
                      <a:pt x="103" y="14"/>
                    </a:lnTo>
                    <a:lnTo>
                      <a:pt x="103" y="16"/>
                    </a:lnTo>
                    <a:lnTo>
                      <a:pt x="102" y="19"/>
                    </a:lnTo>
                    <a:lnTo>
                      <a:pt x="102" y="21"/>
                    </a:lnTo>
                    <a:lnTo>
                      <a:pt x="102" y="23"/>
                    </a:lnTo>
                    <a:lnTo>
                      <a:pt x="101" y="25"/>
                    </a:lnTo>
                    <a:lnTo>
                      <a:pt x="101" y="27"/>
                    </a:lnTo>
                    <a:lnTo>
                      <a:pt x="164" y="0"/>
                    </a:lnTo>
                    <a:lnTo>
                      <a:pt x="164" y="4"/>
                    </a:lnTo>
                    <a:lnTo>
                      <a:pt x="164" y="7"/>
                    </a:lnTo>
                    <a:lnTo>
                      <a:pt x="164" y="11"/>
                    </a:lnTo>
                    <a:lnTo>
                      <a:pt x="162" y="14"/>
                    </a:lnTo>
                    <a:lnTo>
                      <a:pt x="162" y="19"/>
                    </a:lnTo>
                    <a:lnTo>
                      <a:pt x="161" y="23"/>
                    </a:lnTo>
                    <a:lnTo>
                      <a:pt x="161" y="26"/>
                    </a:lnTo>
                    <a:lnTo>
                      <a:pt x="161" y="30"/>
                    </a:lnTo>
                    <a:lnTo>
                      <a:pt x="168" y="27"/>
                    </a:lnTo>
                    <a:lnTo>
                      <a:pt x="174" y="24"/>
                    </a:lnTo>
                    <a:lnTo>
                      <a:pt x="180" y="21"/>
                    </a:lnTo>
                    <a:lnTo>
                      <a:pt x="188" y="18"/>
                    </a:lnTo>
                    <a:lnTo>
                      <a:pt x="195" y="14"/>
                    </a:lnTo>
                    <a:lnTo>
                      <a:pt x="203" y="12"/>
                    </a:lnTo>
                    <a:lnTo>
                      <a:pt x="210" y="10"/>
                    </a:lnTo>
                    <a:lnTo>
                      <a:pt x="216" y="10"/>
                    </a:lnTo>
                    <a:lnTo>
                      <a:pt x="214" y="12"/>
                    </a:lnTo>
                    <a:lnTo>
                      <a:pt x="213" y="16"/>
                    </a:lnTo>
                    <a:lnTo>
                      <a:pt x="213" y="21"/>
                    </a:lnTo>
                    <a:lnTo>
                      <a:pt x="211" y="24"/>
                    </a:lnTo>
                    <a:lnTo>
                      <a:pt x="210" y="28"/>
                    </a:lnTo>
                    <a:lnTo>
                      <a:pt x="209" y="32"/>
                    </a:lnTo>
                    <a:lnTo>
                      <a:pt x="208" y="37"/>
                    </a:lnTo>
                    <a:lnTo>
                      <a:pt x="207" y="41"/>
                    </a:lnTo>
                    <a:lnTo>
                      <a:pt x="207" y="45"/>
                    </a:lnTo>
                    <a:lnTo>
                      <a:pt x="212" y="42"/>
                    </a:lnTo>
                    <a:lnTo>
                      <a:pt x="219" y="39"/>
                    </a:lnTo>
                    <a:lnTo>
                      <a:pt x="226" y="34"/>
                    </a:lnTo>
                    <a:lnTo>
                      <a:pt x="232" y="30"/>
                    </a:lnTo>
                    <a:lnTo>
                      <a:pt x="239" y="26"/>
                    </a:lnTo>
                    <a:lnTo>
                      <a:pt x="245" y="22"/>
                    </a:lnTo>
                    <a:lnTo>
                      <a:pt x="251" y="18"/>
                    </a:lnTo>
                    <a:lnTo>
                      <a:pt x="257" y="12"/>
                    </a:lnTo>
                    <a:lnTo>
                      <a:pt x="257" y="32"/>
                    </a:lnTo>
                    <a:lnTo>
                      <a:pt x="263" y="33"/>
                    </a:lnTo>
                    <a:lnTo>
                      <a:pt x="270" y="31"/>
                    </a:lnTo>
                    <a:lnTo>
                      <a:pt x="278" y="28"/>
                    </a:lnTo>
                    <a:lnTo>
                      <a:pt x="287" y="25"/>
                    </a:lnTo>
                    <a:lnTo>
                      <a:pt x="296" y="20"/>
                    </a:lnTo>
                    <a:lnTo>
                      <a:pt x="304" y="15"/>
                    </a:lnTo>
                    <a:lnTo>
                      <a:pt x="312" y="11"/>
                    </a:lnTo>
                    <a:lnTo>
                      <a:pt x="319" y="7"/>
                    </a:lnTo>
                    <a:lnTo>
                      <a:pt x="317" y="16"/>
                    </a:lnTo>
                    <a:lnTo>
                      <a:pt x="315" y="26"/>
                    </a:lnTo>
                    <a:lnTo>
                      <a:pt x="314" y="36"/>
                    </a:lnTo>
                    <a:lnTo>
                      <a:pt x="312" y="45"/>
                    </a:lnTo>
                    <a:lnTo>
                      <a:pt x="311" y="55"/>
                    </a:lnTo>
                    <a:lnTo>
                      <a:pt x="310" y="65"/>
                    </a:lnTo>
                    <a:lnTo>
                      <a:pt x="310" y="75"/>
                    </a:lnTo>
                    <a:lnTo>
                      <a:pt x="308" y="85"/>
                    </a:lnTo>
                    <a:lnTo>
                      <a:pt x="311" y="84"/>
                    </a:lnTo>
                    <a:lnTo>
                      <a:pt x="312" y="82"/>
                    </a:lnTo>
                    <a:lnTo>
                      <a:pt x="314" y="80"/>
                    </a:lnTo>
                    <a:lnTo>
                      <a:pt x="315" y="78"/>
                    </a:lnTo>
                    <a:lnTo>
                      <a:pt x="317" y="76"/>
                    </a:lnTo>
                    <a:lnTo>
                      <a:pt x="319" y="74"/>
                    </a:lnTo>
                    <a:lnTo>
                      <a:pt x="320" y="71"/>
                    </a:lnTo>
                    <a:lnTo>
                      <a:pt x="321" y="69"/>
                    </a:lnTo>
                    <a:lnTo>
                      <a:pt x="321" y="120"/>
                    </a:lnTo>
                    <a:lnTo>
                      <a:pt x="328" y="118"/>
                    </a:lnTo>
                    <a:lnTo>
                      <a:pt x="333" y="115"/>
                    </a:lnTo>
                    <a:lnTo>
                      <a:pt x="338" y="112"/>
                    </a:lnTo>
                    <a:lnTo>
                      <a:pt x="343" y="107"/>
                    </a:lnTo>
                    <a:lnTo>
                      <a:pt x="349" y="103"/>
                    </a:lnTo>
                    <a:lnTo>
                      <a:pt x="354" y="99"/>
                    </a:lnTo>
                    <a:lnTo>
                      <a:pt x="359" y="95"/>
                    </a:lnTo>
                    <a:lnTo>
                      <a:pt x="363" y="89"/>
                    </a:lnTo>
                    <a:lnTo>
                      <a:pt x="363" y="160"/>
                    </a:lnTo>
                    <a:lnTo>
                      <a:pt x="366" y="158"/>
                    </a:lnTo>
                    <a:lnTo>
                      <a:pt x="368" y="156"/>
                    </a:lnTo>
                    <a:lnTo>
                      <a:pt x="371" y="154"/>
                    </a:lnTo>
                    <a:lnTo>
                      <a:pt x="373" y="153"/>
                    </a:lnTo>
                    <a:lnTo>
                      <a:pt x="376" y="152"/>
                    </a:lnTo>
                    <a:lnTo>
                      <a:pt x="379" y="151"/>
                    </a:lnTo>
                    <a:lnTo>
                      <a:pt x="383" y="150"/>
                    </a:lnTo>
                    <a:lnTo>
                      <a:pt x="387" y="150"/>
                    </a:lnTo>
                    <a:lnTo>
                      <a:pt x="387" y="157"/>
                    </a:lnTo>
                    <a:lnTo>
                      <a:pt x="386" y="165"/>
                    </a:lnTo>
                    <a:lnTo>
                      <a:pt x="385" y="172"/>
                    </a:lnTo>
                    <a:lnTo>
                      <a:pt x="385" y="179"/>
                    </a:lnTo>
                    <a:lnTo>
                      <a:pt x="384" y="187"/>
                    </a:lnTo>
                    <a:lnTo>
                      <a:pt x="384" y="193"/>
                    </a:lnTo>
                    <a:lnTo>
                      <a:pt x="384" y="199"/>
                    </a:lnTo>
                    <a:lnTo>
                      <a:pt x="384" y="205"/>
                    </a:lnTo>
                    <a:lnTo>
                      <a:pt x="386" y="205"/>
                    </a:lnTo>
                    <a:lnTo>
                      <a:pt x="388" y="204"/>
                    </a:lnTo>
                    <a:lnTo>
                      <a:pt x="390" y="204"/>
                    </a:lnTo>
                    <a:lnTo>
                      <a:pt x="393" y="203"/>
                    </a:lnTo>
                    <a:lnTo>
                      <a:pt x="395" y="202"/>
                    </a:lnTo>
                    <a:lnTo>
                      <a:pt x="397" y="201"/>
                    </a:lnTo>
                    <a:lnTo>
                      <a:pt x="399" y="201"/>
                    </a:lnTo>
                    <a:lnTo>
                      <a:pt x="402" y="199"/>
                    </a:lnTo>
                    <a:lnTo>
                      <a:pt x="402" y="209"/>
                    </a:lnTo>
                    <a:lnTo>
                      <a:pt x="401" y="218"/>
                    </a:lnTo>
                    <a:lnTo>
                      <a:pt x="398" y="228"/>
                    </a:lnTo>
                    <a:lnTo>
                      <a:pt x="396" y="238"/>
                    </a:lnTo>
                    <a:lnTo>
                      <a:pt x="393" y="247"/>
                    </a:lnTo>
                    <a:lnTo>
                      <a:pt x="390" y="257"/>
                    </a:lnTo>
                    <a:lnTo>
                      <a:pt x="386" y="265"/>
                    </a:lnTo>
                    <a:lnTo>
                      <a:pt x="381" y="272"/>
                    </a:lnTo>
                    <a:lnTo>
                      <a:pt x="384" y="271"/>
                    </a:lnTo>
                    <a:lnTo>
                      <a:pt x="387" y="270"/>
                    </a:lnTo>
                    <a:lnTo>
                      <a:pt x="390" y="268"/>
                    </a:lnTo>
                    <a:lnTo>
                      <a:pt x="394" y="266"/>
                    </a:lnTo>
                    <a:lnTo>
                      <a:pt x="397" y="263"/>
                    </a:lnTo>
                    <a:lnTo>
                      <a:pt x="401" y="261"/>
                    </a:lnTo>
                    <a:lnTo>
                      <a:pt x="403" y="259"/>
                    </a:lnTo>
                    <a:lnTo>
                      <a:pt x="404" y="258"/>
                    </a:lnTo>
                    <a:lnTo>
                      <a:pt x="403" y="265"/>
                    </a:lnTo>
                    <a:lnTo>
                      <a:pt x="401" y="272"/>
                    </a:lnTo>
                    <a:lnTo>
                      <a:pt x="397" y="279"/>
                    </a:lnTo>
                    <a:lnTo>
                      <a:pt x="394" y="286"/>
                    </a:lnTo>
                    <a:lnTo>
                      <a:pt x="391" y="293"/>
                    </a:lnTo>
                    <a:lnTo>
                      <a:pt x="387" y="299"/>
                    </a:lnTo>
                    <a:lnTo>
                      <a:pt x="383" y="306"/>
                    </a:lnTo>
                    <a:lnTo>
                      <a:pt x="379" y="313"/>
                    </a:lnTo>
                    <a:lnTo>
                      <a:pt x="384" y="312"/>
                    </a:lnTo>
                    <a:lnTo>
                      <a:pt x="388" y="311"/>
                    </a:lnTo>
                    <a:lnTo>
                      <a:pt x="393" y="308"/>
                    </a:lnTo>
                    <a:lnTo>
                      <a:pt x="398" y="305"/>
                    </a:lnTo>
                    <a:lnTo>
                      <a:pt x="409" y="297"/>
                    </a:lnTo>
                    <a:lnTo>
                      <a:pt x="421" y="287"/>
                    </a:lnTo>
                    <a:lnTo>
                      <a:pt x="431" y="278"/>
                    </a:lnTo>
                    <a:lnTo>
                      <a:pt x="442" y="267"/>
                    </a:lnTo>
                    <a:lnTo>
                      <a:pt x="450" y="258"/>
                    </a:lnTo>
                    <a:lnTo>
                      <a:pt x="457" y="250"/>
                    </a:lnTo>
                    <a:lnTo>
                      <a:pt x="439" y="318"/>
                    </a:lnTo>
                    <a:lnTo>
                      <a:pt x="444" y="317"/>
                    </a:lnTo>
                    <a:lnTo>
                      <a:pt x="448" y="315"/>
                    </a:lnTo>
                    <a:lnTo>
                      <a:pt x="451" y="313"/>
                    </a:lnTo>
                    <a:lnTo>
                      <a:pt x="456" y="309"/>
                    </a:lnTo>
                    <a:lnTo>
                      <a:pt x="459" y="307"/>
                    </a:lnTo>
                    <a:lnTo>
                      <a:pt x="463" y="305"/>
                    </a:lnTo>
                    <a:lnTo>
                      <a:pt x="467" y="303"/>
                    </a:lnTo>
                    <a:lnTo>
                      <a:pt x="471" y="302"/>
                    </a:lnTo>
                    <a:lnTo>
                      <a:pt x="471" y="304"/>
                    </a:lnTo>
                    <a:lnTo>
                      <a:pt x="471" y="306"/>
                    </a:lnTo>
                    <a:lnTo>
                      <a:pt x="470" y="308"/>
                    </a:lnTo>
                    <a:lnTo>
                      <a:pt x="470" y="309"/>
                    </a:lnTo>
                    <a:lnTo>
                      <a:pt x="470" y="312"/>
                    </a:lnTo>
                    <a:lnTo>
                      <a:pt x="469" y="314"/>
                    </a:lnTo>
                    <a:lnTo>
                      <a:pt x="469" y="316"/>
                    </a:lnTo>
                    <a:lnTo>
                      <a:pt x="469" y="318"/>
                    </a:lnTo>
                    <a:lnTo>
                      <a:pt x="478" y="317"/>
                    </a:lnTo>
                    <a:lnTo>
                      <a:pt x="487" y="316"/>
                    </a:lnTo>
                    <a:lnTo>
                      <a:pt x="497" y="314"/>
                    </a:lnTo>
                    <a:lnTo>
                      <a:pt x="507" y="312"/>
                    </a:lnTo>
                    <a:lnTo>
                      <a:pt x="516" y="308"/>
                    </a:lnTo>
                    <a:lnTo>
                      <a:pt x="525" y="306"/>
                    </a:lnTo>
                    <a:lnTo>
                      <a:pt x="533" y="303"/>
                    </a:lnTo>
                    <a:lnTo>
                      <a:pt x="539" y="300"/>
                    </a:lnTo>
                    <a:lnTo>
                      <a:pt x="539" y="301"/>
                    </a:lnTo>
                    <a:lnTo>
                      <a:pt x="539" y="302"/>
                    </a:lnTo>
                    <a:lnTo>
                      <a:pt x="538" y="304"/>
                    </a:lnTo>
                    <a:lnTo>
                      <a:pt x="538" y="306"/>
                    </a:lnTo>
                    <a:lnTo>
                      <a:pt x="537" y="308"/>
                    </a:lnTo>
                    <a:lnTo>
                      <a:pt x="537" y="309"/>
                    </a:lnTo>
                    <a:lnTo>
                      <a:pt x="537" y="312"/>
                    </a:lnTo>
                    <a:lnTo>
                      <a:pt x="537" y="313"/>
                    </a:lnTo>
                    <a:lnTo>
                      <a:pt x="543" y="312"/>
                    </a:lnTo>
                    <a:lnTo>
                      <a:pt x="550" y="309"/>
                    </a:lnTo>
                    <a:lnTo>
                      <a:pt x="558" y="308"/>
                    </a:lnTo>
                    <a:lnTo>
                      <a:pt x="567" y="306"/>
                    </a:lnTo>
                    <a:lnTo>
                      <a:pt x="574" y="305"/>
                    </a:lnTo>
                    <a:lnTo>
                      <a:pt x="581" y="304"/>
                    </a:lnTo>
                    <a:lnTo>
                      <a:pt x="589" y="304"/>
                    </a:lnTo>
                    <a:lnTo>
                      <a:pt x="594" y="305"/>
                    </a:lnTo>
                    <a:lnTo>
                      <a:pt x="594" y="306"/>
                    </a:lnTo>
                    <a:lnTo>
                      <a:pt x="594" y="307"/>
                    </a:lnTo>
                    <a:lnTo>
                      <a:pt x="593" y="308"/>
                    </a:lnTo>
                    <a:lnTo>
                      <a:pt x="593" y="309"/>
                    </a:lnTo>
                    <a:lnTo>
                      <a:pt x="592" y="312"/>
                    </a:lnTo>
                    <a:lnTo>
                      <a:pt x="592" y="313"/>
                    </a:lnTo>
                    <a:lnTo>
                      <a:pt x="592" y="314"/>
                    </a:lnTo>
                    <a:lnTo>
                      <a:pt x="592" y="315"/>
                    </a:lnTo>
                    <a:lnTo>
                      <a:pt x="598" y="311"/>
                    </a:lnTo>
                    <a:lnTo>
                      <a:pt x="607" y="304"/>
                    </a:lnTo>
                    <a:lnTo>
                      <a:pt x="615" y="298"/>
                    </a:lnTo>
                    <a:lnTo>
                      <a:pt x="624" y="291"/>
                    </a:lnTo>
                    <a:lnTo>
                      <a:pt x="633" y="285"/>
                    </a:lnTo>
                    <a:lnTo>
                      <a:pt x="642" y="279"/>
                    </a:lnTo>
                    <a:lnTo>
                      <a:pt x="649" y="273"/>
                    </a:lnTo>
                    <a:lnTo>
                      <a:pt x="657" y="270"/>
                    </a:lnTo>
                    <a:lnTo>
                      <a:pt x="654" y="273"/>
                    </a:lnTo>
                    <a:lnTo>
                      <a:pt x="653" y="278"/>
                    </a:lnTo>
                    <a:lnTo>
                      <a:pt x="652" y="283"/>
                    </a:lnTo>
                    <a:lnTo>
                      <a:pt x="650" y="287"/>
                    </a:lnTo>
                    <a:lnTo>
                      <a:pt x="649" y="293"/>
                    </a:lnTo>
                    <a:lnTo>
                      <a:pt x="648" y="297"/>
                    </a:lnTo>
                    <a:lnTo>
                      <a:pt x="648" y="301"/>
                    </a:lnTo>
                    <a:lnTo>
                      <a:pt x="647" y="305"/>
                    </a:lnTo>
                    <a:lnTo>
                      <a:pt x="651" y="303"/>
                    </a:lnTo>
                    <a:lnTo>
                      <a:pt x="658" y="299"/>
                    </a:lnTo>
                    <a:lnTo>
                      <a:pt x="665" y="294"/>
                    </a:lnTo>
                    <a:lnTo>
                      <a:pt x="672" y="286"/>
                    </a:lnTo>
                    <a:lnTo>
                      <a:pt x="681" y="279"/>
                    </a:lnTo>
                    <a:lnTo>
                      <a:pt x="688" y="272"/>
                    </a:lnTo>
                    <a:lnTo>
                      <a:pt x="695" y="266"/>
                    </a:lnTo>
                    <a:lnTo>
                      <a:pt x="699" y="262"/>
                    </a:lnTo>
                    <a:lnTo>
                      <a:pt x="699" y="287"/>
                    </a:lnTo>
                    <a:lnTo>
                      <a:pt x="701" y="283"/>
                    </a:lnTo>
                    <a:lnTo>
                      <a:pt x="704" y="276"/>
                    </a:lnTo>
                    <a:lnTo>
                      <a:pt x="708" y="266"/>
                    </a:lnTo>
                    <a:lnTo>
                      <a:pt x="713" y="256"/>
                    </a:lnTo>
                    <a:lnTo>
                      <a:pt x="718" y="246"/>
                    </a:lnTo>
                    <a:lnTo>
                      <a:pt x="722" y="238"/>
                    </a:lnTo>
                    <a:lnTo>
                      <a:pt x="725" y="232"/>
                    </a:lnTo>
                    <a:lnTo>
                      <a:pt x="726" y="230"/>
                    </a:lnTo>
                    <a:lnTo>
                      <a:pt x="726" y="232"/>
                    </a:lnTo>
                    <a:lnTo>
                      <a:pt x="727" y="234"/>
                    </a:lnTo>
                    <a:lnTo>
                      <a:pt x="727" y="236"/>
                    </a:lnTo>
                    <a:lnTo>
                      <a:pt x="727" y="239"/>
                    </a:lnTo>
                    <a:lnTo>
                      <a:pt x="729" y="241"/>
                    </a:lnTo>
                    <a:lnTo>
                      <a:pt x="729" y="243"/>
                    </a:lnTo>
                    <a:lnTo>
                      <a:pt x="730" y="245"/>
                    </a:lnTo>
                    <a:lnTo>
                      <a:pt x="730" y="247"/>
                    </a:lnTo>
                    <a:lnTo>
                      <a:pt x="729" y="245"/>
                    </a:lnTo>
                    <a:lnTo>
                      <a:pt x="729" y="242"/>
                    </a:lnTo>
                    <a:lnTo>
                      <a:pt x="730" y="236"/>
                    </a:lnTo>
                    <a:lnTo>
                      <a:pt x="731" y="230"/>
                    </a:lnTo>
                    <a:lnTo>
                      <a:pt x="732" y="225"/>
                    </a:lnTo>
                    <a:lnTo>
                      <a:pt x="733" y="218"/>
                    </a:lnTo>
                    <a:lnTo>
                      <a:pt x="734" y="213"/>
                    </a:lnTo>
                    <a:lnTo>
                      <a:pt x="734" y="210"/>
                    </a:lnTo>
                    <a:lnTo>
                      <a:pt x="737" y="210"/>
                    </a:lnTo>
                    <a:lnTo>
                      <a:pt x="739" y="210"/>
                    </a:lnTo>
                    <a:lnTo>
                      <a:pt x="739" y="211"/>
                    </a:lnTo>
                    <a:lnTo>
                      <a:pt x="740" y="212"/>
                    </a:lnTo>
                    <a:lnTo>
                      <a:pt x="741" y="214"/>
                    </a:lnTo>
                    <a:lnTo>
                      <a:pt x="741" y="216"/>
                    </a:lnTo>
                    <a:lnTo>
                      <a:pt x="742" y="218"/>
                    </a:lnTo>
                    <a:lnTo>
                      <a:pt x="743" y="221"/>
                    </a:lnTo>
                    <a:lnTo>
                      <a:pt x="744" y="223"/>
                    </a:lnTo>
                    <a:lnTo>
                      <a:pt x="744" y="225"/>
                    </a:lnTo>
                    <a:lnTo>
                      <a:pt x="747" y="227"/>
                    </a:lnTo>
                    <a:lnTo>
                      <a:pt x="745" y="229"/>
                    </a:lnTo>
                    <a:lnTo>
                      <a:pt x="745" y="232"/>
                    </a:lnTo>
                    <a:lnTo>
                      <a:pt x="745" y="234"/>
                    </a:lnTo>
                    <a:lnTo>
                      <a:pt x="745" y="238"/>
                    </a:lnTo>
                    <a:lnTo>
                      <a:pt x="744" y="240"/>
                    </a:lnTo>
                    <a:lnTo>
                      <a:pt x="744" y="242"/>
                    </a:lnTo>
                    <a:lnTo>
                      <a:pt x="744" y="245"/>
                    </a:lnTo>
                    <a:lnTo>
                      <a:pt x="744" y="247"/>
                    </a:lnTo>
                    <a:lnTo>
                      <a:pt x="747" y="251"/>
                    </a:lnTo>
                    <a:lnTo>
                      <a:pt x="749" y="256"/>
                    </a:lnTo>
                    <a:lnTo>
                      <a:pt x="750" y="260"/>
                    </a:lnTo>
                    <a:lnTo>
                      <a:pt x="751" y="265"/>
                    </a:lnTo>
                    <a:lnTo>
                      <a:pt x="752" y="269"/>
                    </a:lnTo>
                    <a:lnTo>
                      <a:pt x="752" y="273"/>
                    </a:lnTo>
                    <a:lnTo>
                      <a:pt x="752" y="278"/>
                    </a:lnTo>
                    <a:lnTo>
                      <a:pt x="753" y="282"/>
                    </a:lnTo>
                    <a:lnTo>
                      <a:pt x="750" y="280"/>
                    </a:lnTo>
                    <a:lnTo>
                      <a:pt x="748" y="278"/>
                    </a:lnTo>
                    <a:lnTo>
                      <a:pt x="745" y="275"/>
                    </a:lnTo>
                    <a:lnTo>
                      <a:pt x="744" y="272"/>
                    </a:lnTo>
                    <a:lnTo>
                      <a:pt x="742" y="269"/>
                    </a:lnTo>
                    <a:lnTo>
                      <a:pt x="740" y="267"/>
                    </a:lnTo>
                    <a:lnTo>
                      <a:pt x="738" y="266"/>
                    </a:lnTo>
                    <a:lnTo>
                      <a:pt x="734" y="265"/>
                    </a:lnTo>
                    <a:lnTo>
                      <a:pt x="731" y="269"/>
                    </a:lnTo>
                    <a:lnTo>
                      <a:pt x="733" y="276"/>
                    </a:lnTo>
                    <a:lnTo>
                      <a:pt x="735" y="282"/>
                    </a:lnTo>
                    <a:lnTo>
                      <a:pt x="737" y="288"/>
                    </a:lnTo>
                    <a:lnTo>
                      <a:pt x="738" y="295"/>
                    </a:lnTo>
                    <a:lnTo>
                      <a:pt x="740" y="301"/>
                    </a:lnTo>
                    <a:lnTo>
                      <a:pt x="741" y="307"/>
                    </a:lnTo>
                    <a:lnTo>
                      <a:pt x="743" y="314"/>
                    </a:lnTo>
                    <a:lnTo>
                      <a:pt x="747" y="320"/>
                    </a:lnTo>
                    <a:lnTo>
                      <a:pt x="743" y="318"/>
                    </a:lnTo>
                    <a:lnTo>
                      <a:pt x="740" y="316"/>
                    </a:lnTo>
                    <a:lnTo>
                      <a:pt x="736" y="313"/>
                    </a:lnTo>
                    <a:lnTo>
                      <a:pt x="733" y="311"/>
                    </a:lnTo>
                    <a:lnTo>
                      <a:pt x="730" y="307"/>
                    </a:lnTo>
                    <a:lnTo>
                      <a:pt x="726" y="304"/>
                    </a:lnTo>
                    <a:lnTo>
                      <a:pt x="723" y="301"/>
                    </a:lnTo>
                    <a:lnTo>
                      <a:pt x="720" y="298"/>
                    </a:lnTo>
                    <a:lnTo>
                      <a:pt x="719" y="299"/>
                    </a:lnTo>
                    <a:lnTo>
                      <a:pt x="719" y="300"/>
                    </a:lnTo>
                    <a:lnTo>
                      <a:pt x="718" y="301"/>
                    </a:lnTo>
                    <a:lnTo>
                      <a:pt x="718" y="302"/>
                    </a:lnTo>
                    <a:lnTo>
                      <a:pt x="718" y="303"/>
                    </a:lnTo>
                    <a:lnTo>
                      <a:pt x="718" y="304"/>
                    </a:lnTo>
                    <a:lnTo>
                      <a:pt x="718" y="305"/>
                    </a:lnTo>
                    <a:lnTo>
                      <a:pt x="718" y="306"/>
                    </a:lnTo>
                    <a:lnTo>
                      <a:pt x="717" y="304"/>
                    </a:lnTo>
                    <a:lnTo>
                      <a:pt x="715" y="302"/>
                    </a:lnTo>
                    <a:lnTo>
                      <a:pt x="714" y="300"/>
                    </a:lnTo>
                    <a:lnTo>
                      <a:pt x="713" y="297"/>
                    </a:lnTo>
                    <a:lnTo>
                      <a:pt x="711" y="295"/>
                    </a:lnTo>
                    <a:lnTo>
                      <a:pt x="708" y="293"/>
                    </a:lnTo>
                    <a:lnTo>
                      <a:pt x="705" y="291"/>
                    </a:lnTo>
                    <a:lnTo>
                      <a:pt x="702" y="293"/>
                    </a:lnTo>
                    <a:lnTo>
                      <a:pt x="700" y="299"/>
                    </a:lnTo>
                    <a:lnTo>
                      <a:pt x="697" y="305"/>
                    </a:lnTo>
                    <a:lnTo>
                      <a:pt x="695" y="313"/>
                    </a:lnTo>
                    <a:lnTo>
                      <a:pt x="693" y="320"/>
                    </a:lnTo>
                    <a:lnTo>
                      <a:pt x="690" y="326"/>
                    </a:lnTo>
                    <a:lnTo>
                      <a:pt x="687" y="333"/>
                    </a:lnTo>
                    <a:lnTo>
                      <a:pt x="684" y="339"/>
                    </a:lnTo>
                    <a:lnTo>
                      <a:pt x="680" y="344"/>
                    </a:lnTo>
                    <a:lnTo>
                      <a:pt x="679" y="339"/>
                    </a:lnTo>
                    <a:lnTo>
                      <a:pt x="680" y="333"/>
                    </a:lnTo>
                    <a:lnTo>
                      <a:pt x="680" y="327"/>
                    </a:lnTo>
                    <a:lnTo>
                      <a:pt x="682" y="321"/>
                    </a:lnTo>
                    <a:lnTo>
                      <a:pt x="683" y="316"/>
                    </a:lnTo>
                    <a:lnTo>
                      <a:pt x="685" y="309"/>
                    </a:lnTo>
                    <a:lnTo>
                      <a:pt x="686" y="304"/>
                    </a:lnTo>
                    <a:lnTo>
                      <a:pt x="688" y="298"/>
                    </a:lnTo>
                    <a:lnTo>
                      <a:pt x="687" y="297"/>
                    </a:lnTo>
                    <a:lnTo>
                      <a:pt x="686" y="296"/>
                    </a:lnTo>
                    <a:lnTo>
                      <a:pt x="685" y="296"/>
                    </a:lnTo>
                    <a:lnTo>
                      <a:pt x="683" y="296"/>
                    </a:lnTo>
                    <a:lnTo>
                      <a:pt x="682" y="296"/>
                    </a:lnTo>
                    <a:lnTo>
                      <a:pt x="681" y="296"/>
                    </a:lnTo>
                    <a:lnTo>
                      <a:pt x="679" y="296"/>
                    </a:lnTo>
                    <a:lnTo>
                      <a:pt x="678" y="296"/>
                    </a:lnTo>
                    <a:lnTo>
                      <a:pt x="635" y="340"/>
                    </a:lnTo>
                    <a:lnTo>
                      <a:pt x="631" y="324"/>
                    </a:lnTo>
                    <a:lnTo>
                      <a:pt x="621" y="330"/>
                    </a:lnTo>
                    <a:lnTo>
                      <a:pt x="609" y="336"/>
                    </a:lnTo>
                    <a:lnTo>
                      <a:pt x="598" y="342"/>
                    </a:lnTo>
                    <a:lnTo>
                      <a:pt x="587" y="350"/>
                    </a:lnTo>
                    <a:lnTo>
                      <a:pt x="576" y="356"/>
                    </a:lnTo>
                    <a:lnTo>
                      <a:pt x="566" y="363"/>
                    </a:lnTo>
                    <a:lnTo>
                      <a:pt x="555" y="371"/>
                    </a:lnTo>
                    <a:lnTo>
                      <a:pt x="544" y="378"/>
                    </a:lnTo>
                    <a:lnTo>
                      <a:pt x="548" y="371"/>
                    </a:lnTo>
                    <a:lnTo>
                      <a:pt x="552" y="363"/>
                    </a:lnTo>
                    <a:lnTo>
                      <a:pt x="558" y="357"/>
                    </a:lnTo>
                    <a:lnTo>
                      <a:pt x="566" y="352"/>
                    </a:lnTo>
                    <a:lnTo>
                      <a:pt x="573" y="346"/>
                    </a:lnTo>
                    <a:lnTo>
                      <a:pt x="580" y="341"/>
                    </a:lnTo>
                    <a:lnTo>
                      <a:pt x="588" y="336"/>
                    </a:lnTo>
                    <a:lnTo>
                      <a:pt x="595" y="331"/>
                    </a:lnTo>
                    <a:lnTo>
                      <a:pt x="595" y="330"/>
                    </a:lnTo>
                    <a:lnTo>
                      <a:pt x="595" y="327"/>
                    </a:lnTo>
                    <a:lnTo>
                      <a:pt x="595" y="326"/>
                    </a:lnTo>
                    <a:lnTo>
                      <a:pt x="594" y="326"/>
                    </a:lnTo>
                    <a:lnTo>
                      <a:pt x="594" y="325"/>
                    </a:lnTo>
                    <a:lnTo>
                      <a:pt x="593" y="324"/>
                    </a:lnTo>
                    <a:lnTo>
                      <a:pt x="592" y="323"/>
                    </a:lnTo>
                    <a:lnTo>
                      <a:pt x="591" y="322"/>
                    </a:lnTo>
                    <a:lnTo>
                      <a:pt x="580" y="323"/>
                    </a:lnTo>
                    <a:lnTo>
                      <a:pt x="571" y="325"/>
                    </a:lnTo>
                    <a:lnTo>
                      <a:pt x="561" y="330"/>
                    </a:lnTo>
                    <a:lnTo>
                      <a:pt x="552" y="335"/>
                    </a:lnTo>
                    <a:lnTo>
                      <a:pt x="543" y="340"/>
                    </a:lnTo>
                    <a:lnTo>
                      <a:pt x="534" y="346"/>
                    </a:lnTo>
                    <a:lnTo>
                      <a:pt x="525" y="352"/>
                    </a:lnTo>
                    <a:lnTo>
                      <a:pt x="516" y="356"/>
                    </a:lnTo>
                    <a:lnTo>
                      <a:pt x="500" y="354"/>
                    </a:lnTo>
                    <a:lnTo>
                      <a:pt x="505" y="350"/>
                    </a:lnTo>
                    <a:lnTo>
                      <a:pt x="511" y="346"/>
                    </a:lnTo>
                    <a:lnTo>
                      <a:pt x="517" y="343"/>
                    </a:lnTo>
                    <a:lnTo>
                      <a:pt x="523" y="341"/>
                    </a:lnTo>
                    <a:lnTo>
                      <a:pt x="530" y="339"/>
                    </a:lnTo>
                    <a:lnTo>
                      <a:pt x="536" y="337"/>
                    </a:lnTo>
                    <a:lnTo>
                      <a:pt x="542" y="335"/>
                    </a:lnTo>
                    <a:lnTo>
                      <a:pt x="547" y="331"/>
                    </a:lnTo>
                    <a:lnTo>
                      <a:pt x="543" y="326"/>
                    </a:lnTo>
                    <a:lnTo>
                      <a:pt x="540" y="324"/>
                    </a:lnTo>
                    <a:lnTo>
                      <a:pt x="536" y="324"/>
                    </a:lnTo>
                    <a:lnTo>
                      <a:pt x="532" y="324"/>
                    </a:lnTo>
                    <a:lnTo>
                      <a:pt x="526" y="325"/>
                    </a:lnTo>
                    <a:lnTo>
                      <a:pt x="522" y="327"/>
                    </a:lnTo>
                    <a:lnTo>
                      <a:pt x="518" y="328"/>
                    </a:lnTo>
                    <a:lnTo>
                      <a:pt x="515" y="331"/>
                    </a:lnTo>
                    <a:lnTo>
                      <a:pt x="505" y="336"/>
                    </a:lnTo>
                    <a:lnTo>
                      <a:pt x="496" y="340"/>
                    </a:lnTo>
                    <a:lnTo>
                      <a:pt x="486" y="345"/>
                    </a:lnTo>
                    <a:lnTo>
                      <a:pt x="476" y="350"/>
                    </a:lnTo>
                    <a:lnTo>
                      <a:pt x="466" y="353"/>
                    </a:lnTo>
                    <a:lnTo>
                      <a:pt x="456" y="356"/>
                    </a:lnTo>
                    <a:lnTo>
                      <a:pt x="445" y="359"/>
                    </a:lnTo>
                    <a:lnTo>
                      <a:pt x="433" y="360"/>
                    </a:lnTo>
                    <a:lnTo>
                      <a:pt x="436" y="355"/>
                    </a:lnTo>
                    <a:lnTo>
                      <a:pt x="440" y="352"/>
                    </a:lnTo>
                    <a:lnTo>
                      <a:pt x="444" y="349"/>
                    </a:lnTo>
                    <a:lnTo>
                      <a:pt x="449" y="346"/>
                    </a:lnTo>
                    <a:lnTo>
                      <a:pt x="454" y="343"/>
                    </a:lnTo>
                    <a:lnTo>
                      <a:pt x="459" y="340"/>
                    </a:lnTo>
                    <a:lnTo>
                      <a:pt x="462" y="336"/>
                    </a:lnTo>
                    <a:lnTo>
                      <a:pt x="464" y="331"/>
                    </a:lnTo>
                    <a:lnTo>
                      <a:pt x="454" y="332"/>
                    </a:lnTo>
                    <a:lnTo>
                      <a:pt x="444" y="334"/>
                    </a:lnTo>
                    <a:lnTo>
                      <a:pt x="433" y="336"/>
                    </a:lnTo>
                    <a:lnTo>
                      <a:pt x="424" y="340"/>
                    </a:lnTo>
                    <a:lnTo>
                      <a:pt x="413" y="344"/>
                    </a:lnTo>
                    <a:lnTo>
                      <a:pt x="404" y="350"/>
                    </a:lnTo>
                    <a:lnTo>
                      <a:pt x="394" y="356"/>
                    </a:lnTo>
                    <a:lnTo>
                      <a:pt x="386" y="362"/>
                    </a:lnTo>
                    <a:lnTo>
                      <a:pt x="383" y="362"/>
                    </a:lnTo>
                    <a:lnTo>
                      <a:pt x="379" y="362"/>
                    </a:lnTo>
                    <a:lnTo>
                      <a:pt x="376" y="362"/>
                    </a:lnTo>
                    <a:lnTo>
                      <a:pt x="374" y="363"/>
                    </a:lnTo>
                    <a:lnTo>
                      <a:pt x="372" y="363"/>
                    </a:lnTo>
                    <a:lnTo>
                      <a:pt x="370" y="363"/>
                    </a:lnTo>
                    <a:lnTo>
                      <a:pt x="369" y="361"/>
                    </a:lnTo>
                    <a:lnTo>
                      <a:pt x="368" y="358"/>
                    </a:lnTo>
                    <a:lnTo>
                      <a:pt x="369" y="358"/>
                    </a:lnTo>
                    <a:lnTo>
                      <a:pt x="371" y="357"/>
                    </a:lnTo>
                    <a:lnTo>
                      <a:pt x="373" y="355"/>
                    </a:lnTo>
                    <a:lnTo>
                      <a:pt x="374" y="354"/>
                    </a:lnTo>
                    <a:lnTo>
                      <a:pt x="375" y="352"/>
                    </a:lnTo>
                    <a:lnTo>
                      <a:pt x="376" y="351"/>
                    </a:lnTo>
                    <a:lnTo>
                      <a:pt x="377" y="349"/>
                    </a:lnTo>
                    <a:lnTo>
                      <a:pt x="377" y="346"/>
                    </a:lnTo>
                    <a:lnTo>
                      <a:pt x="373" y="345"/>
                    </a:lnTo>
                    <a:lnTo>
                      <a:pt x="368" y="344"/>
                    </a:lnTo>
                    <a:lnTo>
                      <a:pt x="362" y="344"/>
                    </a:lnTo>
                    <a:lnTo>
                      <a:pt x="358" y="345"/>
                    </a:lnTo>
                    <a:lnTo>
                      <a:pt x="353" y="345"/>
                    </a:lnTo>
                    <a:lnTo>
                      <a:pt x="348" y="348"/>
                    </a:lnTo>
                    <a:lnTo>
                      <a:pt x="343" y="349"/>
                    </a:lnTo>
                    <a:lnTo>
                      <a:pt x="339" y="351"/>
                    </a:lnTo>
                    <a:lnTo>
                      <a:pt x="340" y="349"/>
                    </a:lnTo>
                    <a:lnTo>
                      <a:pt x="343" y="348"/>
                    </a:lnTo>
                    <a:lnTo>
                      <a:pt x="348" y="345"/>
                    </a:lnTo>
                    <a:lnTo>
                      <a:pt x="353" y="343"/>
                    </a:lnTo>
                    <a:lnTo>
                      <a:pt x="356" y="341"/>
                    </a:lnTo>
                    <a:lnTo>
                      <a:pt x="358" y="338"/>
                    </a:lnTo>
                    <a:lnTo>
                      <a:pt x="357" y="337"/>
                    </a:lnTo>
                    <a:lnTo>
                      <a:pt x="356" y="335"/>
                    </a:lnTo>
                    <a:lnTo>
                      <a:pt x="355" y="333"/>
                    </a:lnTo>
                    <a:lnTo>
                      <a:pt x="352" y="331"/>
                    </a:lnTo>
                    <a:lnTo>
                      <a:pt x="315" y="340"/>
                    </a:lnTo>
                    <a:lnTo>
                      <a:pt x="314" y="339"/>
                    </a:lnTo>
                    <a:lnTo>
                      <a:pt x="314" y="337"/>
                    </a:lnTo>
                    <a:lnTo>
                      <a:pt x="314" y="334"/>
                    </a:lnTo>
                    <a:lnTo>
                      <a:pt x="314" y="332"/>
                    </a:lnTo>
                    <a:lnTo>
                      <a:pt x="314" y="330"/>
                    </a:lnTo>
                    <a:lnTo>
                      <a:pt x="312" y="326"/>
                    </a:lnTo>
                    <a:lnTo>
                      <a:pt x="310" y="325"/>
                    </a:lnTo>
                    <a:lnTo>
                      <a:pt x="306" y="324"/>
                    </a:lnTo>
                    <a:lnTo>
                      <a:pt x="305" y="325"/>
                    </a:lnTo>
                    <a:lnTo>
                      <a:pt x="304" y="325"/>
                    </a:lnTo>
                    <a:lnTo>
                      <a:pt x="303" y="326"/>
                    </a:lnTo>
                    <a:lnTo>
                      <a:pt x="301" y="326"/>
                    </a:lnTo>
                    <a:lnTo>
                      <a:pt x="300" y="326"/>
                    </a:lnTo>
                    <a:lnTo>
                      <a:pt x="298" y="326"/>
                    </a:lnTo>
                    <a:lnTo>
                      <a:pt x="297" y="326"/>
                    </a:lnTo>
                    <a:lnTo>
                      <a:pt x="295" y="326"/>
                    </a:lnTo>
                    <a:lnTo>
                      <a:pt x="300" y="323"/>
                    </a:lnTo>
                    <a:lnTo>
                      <a:pt x="305" y="320"/>
                    </a:lnTo>
                    <a:lnTo>
                      <a:pt x="310" y="317"/>
                    </a:lnTo>
                    <a:lnTo>
                      <a:pt x="315" y="314"/>
                    </a:lnTo>
                    <a:lnTo>
                      <a:pt x="319" y="309"/>
                    </a:lnTo>
                    <a:lnTo>
                      <a:pt x="323" y="305"/>
                    </a:lnTo>
                    <a:lnTo>
                      <a:pt x="328" y="301"/>
                    </a:lnTo>
                    <a:lnTo>
                      <a:pt x="331" y="296"/>
                    </a:lnTo>
                    <a:lnTo>
                      <a:pt x="329" y="295"/>
                    </a:lnTo>
                    <a:lnTo>
                      <a:pt x="326" y="296"/>
                    </a:lnTo>
                    <a:lnTo>
                      <a:pt x="324" y="296"/>
                    </a:lnTo>
                    <a:lnTo>
                      <a:pt x="322" y="298"/>
                    </a:lnTo>
                    <a:lnTo>
                      <a:pt x="320" y="299"/>
                    </a:lnTo>
                    <a:lnTo>
                      <a:pt x="318" y="300"/>
                    </a:lnTo>
                    <a:lnTo>
                      <a:pt x="316" y="301"/>
                    </a:lnTo>
                    <a:lnTo>
                      <a:pt x="313" y="300"/>
                    </a:lnTo>
                    <a:lnTo>
                      <a:pt x="316" y="295"/>
                    </a:lnTo>
                    <a:lnTo>
                      <a:pt x="319" y="290"/>
                    </a:lnTo>
                    <a:lnTo>
                      <a:pt x="323" y="286"/>
                    </a:lnTo>
                    <a:lnTo>
                      <a:pt x="328" y="283"/>
                    </a:lnTo>
                    <a:lnTo>
                      <a:pt x="338" y="277"/>
                    </a:lnTo>
                    <a:lnTo>
                      <a:pt x="348" y="270"/>
                    </a:lnTo>
                    <a:lnTo>
                      <a:pt x="357" y="263"/>
                    </a:lnTo>
                    <a:lnTo>
                      <a:pt x="366" y="254"/>
                    </a:lnTo>
                    <a:lnTo>
                      <a:pt x="369" y="250"/>
                    </a:lnTo>
                    <a:lnTo>
                      <a:pt x="372" y="245"/>
                    </a:lnTo>
                    <a:lnTo>
                      <a:pt x="374" y="239"/>
                    </a:lnTo>
                    <a:lnTo>
                      <a:pt x="375" y="231"/>
                    </a:lnTo>
                    <a:lnTo>
                      <a:pt x="373" y="228"/>
                    </a:lnTo>
                    <a:lnTo>
                      <a:pt x="371" y="227"/>
                    </a:lnTo>
                    <a:lnTo>
                      <a:pt x="369" y="226"/>
                    </a:lnTo>
                    <a:lnTo>
                      <a:pt x="367" y="226"/>
                    </a:lnTo>
                    <a:lnTo>
                      <a:pt x="365" y="227"/>
                    </a:lnTo>
                    <a:lnTo>
                      <a:pt x="361" y="228"/>
                    </a:lnTo>
                    <a:lnTo>
                      <a:pt x="359" y="230"/>
                    </a:lnTo>
                    <a:lnTo>
                      <a:pt x="357" y="231"/>
                    </a:lnTo>
                    <a:lnTo>
                      <a:pt x="355" y="225"/>
                    </a:lnTo>
                    <a:lnTo>
                      <a:pt x="355" y="218"/>
                    </a:lnTo>
                    <a:lnTo>
                      <a:pt x="355" y="212"/>
                    </a:lnTo>
                    <a:lnTo>
                      <a:pt x="356" y="205"/>
                    </a:lnTo>
                    <a:lnTo>
                      <a:pt x="357" y="198"/>
                    </a:lnTo>
                    <a:lnTo>
                      <a:pt x="357" y="192"/>
                    </a:lnTo>
                    <a:lnTo>
                      <a:pt x="357" y="187"/>
                    </a:lnTo>
                    <a:lnTo>
                      <a:pt x="355" y="180"/>
                    </a:lnTo>
                    <a:lnTo>
                      <a:pt x="351" y="183"/>
                    </a:lnTo>
                    <a:lnTo>
                      <a:pt x="348" y="186"/>
                    </a:lnTo>
                    <a:lnTo>
                      <a:pt x="344" y="189"/>
                    </a:lnTo>
                    <a:lnTo>
                      <a:pt x="341" y="193"/>
                    </a:lnTo>
                    <a:lnTo>
                      <a:pt x="339" y="198"/>
                    </a:lnTo>
                    <a:lnTo>
                      <a:pt x="338" y="203"/>
                    </a:lnTo>
                    <a:lnTo>
                      <a:pt x="336" y="207"/>
                    </a:lnTo>
                    <a:lnTo>
                      <a:pt x="335" y="211"/>
                    </a:lnTo>
                    <a:lnTo>
                      <a:pt x="333" y="205"/>
                    </a:lnTo>
                    <a:lnTo>
                      <a:pt x="331" y="197"/>
                    </a:lnTo>
                    <a:lnTo>
                      <a:pt x="331" y="190"/>
                    </a:lnTo>
                    <a:lnTo>
                      <a:pt x="332" y="183"/>
                    </a:lnTo>
                    <a:lnTo>
                      <a:pt x="333" y="174"/>
                    </a:lnTo>
                    <a:lnTo>
                      <a:pt x="334" y="167"/>
                    </a:lnTo>
                    <a:lnTo>
                      <a:pt x="335" y="158"/>
                    </a:lnTo>
                    <a:lnTo>
                      <a:pt x="335" y="151"/>
                    </a:lnTo>
                    <a:lnTo>
                      <a:pt x="329" y="144"/>
                    </a:lnTo>
                    <a:lnTo>
                      <a:pt x="324" y="150"/>
                    </a:lnTo>
                    <a:lnTo>
                      <a:pt x="320" y="155"/>
                    </a:lnTo>
                    <a:lnTo>
                      <a:pt x="316" y="160"/>
                    </a:lnTo>
                    <a:lnTo>
                      <a:pt x="313" y="166"/>
                    </a:lnTo>
                    <a:lnTo>
                      <a:pt x="310" y="172"/>
                    </a:lnTo>
                    <a:lnTo>
                      <a:pt x="306" y="178"/>
                    </a:lnTo>
                    <a:lnTo>
                      <a:pt x="303" y="184"/>
                    </a:lnTo>
                    <a:lnTo>
                      <a:pt x="299" y="189"/>
                    </a:lnTo>
                    <a:lnTo>
                      <a:pt x="299" y="179"/>
                    </a:lnTo>
                    <a:lnTo>
                      <a:pt x="299" y="170"/>
                    </a:lnTo>
                    <a:lnTo>
                      <a:pt x="300" y="161"/>
                    </a:lnTo>
                    <a:lnTo>
                      <a:pt x="301" y="153"/>
                    </a:lnTo>
                    <a:lnTo>
                      <a:pt x="301" y="144"/>
                    </a:lnTo>
                    <a:lnTo>
                      <a:pt x="300" y="136"/>
                    </a:lnTo>
                    <a:lnTo>
                      <a:pt x="299" y="128"/>
                    </a:lnTo>
                    <a:lnTo>
                      <a:pt x="295" y="119"/>
                    </a:lnTo>
                    <a:lnTo>
                      <a:pt x="292" y="121"/>
                    </a:lnTo>
                    <a:lnTo>
                      <a:pt x="288" y="124"/>
                    </a:lnTo>
                    <a:lnTo>
                      <a:pt x="285" y="128"/>
                    </a:lnTo>
                    <a:lnTo>
                      <a:pt x="283" y="132"/>
                    </a:lnTo>
                    <a:lnTo>
                      <a:pt x="281" y="136"/>
                    </a:lnTo>
                    <a:lnTo>
                      <a:pt x="279" y="140"/>
                    </a:lnTo>
                    <a:lnTo>
                      <a:pt x="277" y="144"/>
                    </a:lnTo>
                    <a:lnTo>
                      <a:pt x="275" y="149"/>
                    </a:lnTo>
                    <a:lnTo>
                      <a:pt x="279" y="78"/>
                    </a:lnTo>
                    <a:lnTo>
                      <a:pt x="272" y="71"/>
                    </a:lnTo>
                    <a:lnTo>
                      <a:pt x="267" y="77"/>
                    </a:lnTo>
                    <a:lnTo>
                      <a:pt x="262" y="83"/>
                    </a:lnTo>
                    <a:lnTo>
                      <a:pt x="259" y="89"/>
                    </a:lnTo>
                    <a:lnTo>
                      <a:pt x="255" y="96"/>
                    </a:lnTo>
                    <a:lnTo>
                      <a:pt x="251" y="103"/>
                    </a:lnTo>
                    <a:lnTo>
                      <a:pt x="248" y="110"/>
                    </a:lnTo>
                    <a:lnTo>
                      <a:pt x="244" y="116"/>
                    </a:lnTo>
                    <a:lnTo>
                      <a:pt x="240" y="122"/>
                    </a:lnTo>
                    <a:lnTo>
                      <a:pt x="238" y="114"/>
                    </a:lnTo>
                    <a:lnTo>
                      <a:pt x="237" y="105"/>
                    </a:lnTo>
                    <a:lnTo>
                      <a:pt x="237" y="96"/>
                    </a:lnTo>
                    <a:lnTo>
                      <a:pt x="238" y="87"/>
                    </a:lnTo>
                    <a:lnTo>
                      <a:pt x="239" y="78"/>
                    </a:lnTo>
                    <a:lnTo>
                      <a:pt x="242" y="68"/>
                    </a:lnTo>
                    <a:lnTo>
                      <a:pt x="245" y="60"/>
                    </a:lnTo>
                    <a:lnTo>
                      <a:pt x="248" y="52"/>
                    </a:lnTo>
                    <a:lnTo>
                      <a:pt x="246" y="49"/>
                    </a:lnTo>
                    <a:lnTo>
                      <a:pt x="244" y="48"/>
                    </a:lnTo>
                    <a:lnTo>
                      <a:pt x="241" y="48"/>
                    </a:lnTo>
                    <a:lnTo>
                      <a:pt x="239" y="49"/>
                    </a:lnTo>
                    <a:lnTo>
                      <a:pt x="237" y="50"/>
                    </a:lnTo>
                    <a:lnTo>
                      <a:pt x="233" y="52"/>
                    </a:lnTo>
                    <a:lnTo>
                      <a:pt x="231" y="53"/>
                    </a:lnTo>
                    <a:lnTo>
                      <a:pt x="228" y="53"/>
                    </a:lnTo>
                    <a:lnTo>
                      <a:pt x="220" y="60"/>
                    </a:lnTo>
                    <a:lnTo>
                      <a:pt x="212" y="67"/>
                    </a:lnTo>
                    <a:lnTo>
                      <a:pt x="206" y="75"/>
                    </a:lnTo>
                    <a:lnTo>
                      <a:pt x="199" y="82"/>
                    </a:lnTo>
                    <a:lnTo>
                      <a:pt x="193" y="89"/>
                    </a:lnTo>
                    <a:lnTo>
                      <a:pt x="188" y="98"/>
                    </a:lnTo>
                    <a:lnTo>
                      <a:pt x="183" y="106"/>
                    </a:lnTo>
                    <a:lnTo>
                      <a:pt x="177" y="114"/>
                    </a:lnTo>
                    <a:lnTo>
                      <a:pt x="176" y="110"/>
                    </a:lnTo>
                    <a:lnTo>
                      <a:pt x="177" y="103"/>
                    </a:lnTo>
                    <a:lnTo>
                      <a:pt x="178" y="98"/>
                    </a:lnTo>
                    <a:lnTo>
                      <a:pt x="179" y="93"/>
                    </a:lnTo>
                    <a:lnTo>
                      <a:pt x="181" y="86"/>
                    </a:lnTo>
                    <a:lnTo>
                      <a:pt x="183" y="80"/>
                    </a:lnTo>
                    <a:lnTo>
                      <a:pt x="185" y="74"/>
                    </a:lnTo>
                    <a:lnTo>
                      <a:pt x="186" y="68"/>
                    </a:lnTo>
                    <a:lnTo>
                      <a:pt x="185" y="67"/>
                    </a:lnTo>
                    <a:lnTo>
                      <a:pt x="183" y="66"/>
                    </a:lnTo>
                    <a:lnTo>
                      <a:pt x="181" y="66"/>
                    </a:lnTo>
                    <a:lnTo>
                      <a:pt x="179" y="65"/>
                    </a:lnTo>
                    <a:lnTo>
                      <a:pt x="178" y="64"/>
                    </a:lnTo>
                    <a:lnTo>
                      <a:pt x="176" y="64"/>
                    </a:lnTo>
                    <a:lnTo>
                      <a:pt x="175" y="65"/>
                    </a:lnTo>
                    <a:lnTo>
                      <a:pt x="173" y="66"/>
                    </a:lnTo>
                    <a:lnTo>
                      <a:pt x="146" y="96"/>
                    </a:lnTo>
                    <a:lnTo>
                      <a:pt x="144" y="89"/>
                    </a:lnTo>
                    <a:lnTo>
                      <a:pt x="146" y="83"/>
                    </a:lnTo>
                    <a:lnTo>
                      <a:pt x="148" y="76"/>
                    </a:lnTo>
                    <a:lnTo>
                      <a:pt x="151" y="69"/>
                    </a:lnTo>
                    <a:lnTo>
                      <a:pt x="153" y="62"/>
                    </a:lnTo>
                    <a:lnTo>
                      <a:pt x="154" y="56"/>
                    </a:lnTo>
                    <a:lnTo>
                      <a:pt x="154" y="52"/>
                    </a:lnTo>
                    <a:lnTo>
                      <a:pt x="154" y="49"/>
                    </a:lnTo>
                    <a:lnTo>
                      <a:pt x="153" y="47"/>
                    </a:lnTo>
                    <a:lnTo>
                      <a:pt x="152" y="44"/>
                    </a:lnTo>
                    <a:lnTo>
                      <a:pt x="146" y="46"/>
                    </a:lnTo>
                    <a:lnTo>
                      <a:pt x="140" y="49"/>
                    </a:lnTo>
                    <a:lnTo>
                      <a:pt x="135" y="53"/>
                    </a:lnTo>
                    <a:lnTo>
                      <a:pt x="131" y="58"/>
                    </a:lnTo>
                    <a:lnTo>
                      <a:pt x="125" y="62"/>
                    </a:lnTo>
                    <a:lnTo>
                      <a:pt x="120" y="66"/>
                    </a:lnTo>
                    <a:lnTo>
                      <a:pt x="116" y="71"/>
                    </a:lnTo>
                    <a:lnTo>
                      <a:pt x="111" y="77"/>
                    </a:lnTo>
                    <a:lnTo>
                      <a:pt x="113" y="75"/>
                    </a:lnTo>
                    <a:lnTo>
                      <a:pt x="113" y="73"/>
                    </a:lnTo>
                    <a:lnTo>
                      <a:pt x="113" y="68"/>
                    </a:lnTo>
                    <a:lnTo>
                      <a:pt x="113" y="64"/>
                    </a:lnTo>
                    <a:lnTo>
                      <a:pt x="113" y="60"/>
                    </a:lnTo>
                    <a:lnTo>
                      <a:pt x="114" y="56"/>
                    </a:lnTo>
                    <a:lnTo>
                      <a:pt x="116" y="51"/>
                    </a:lnTo>
                    <a:lnTo>
                      <a:pt x="119" y="48"/>
                    </a:lnTo>
                    <a:lnTo>
                      <a:pt x="119" y="46"/>
                    </a:lnTo>
                    <a:lnTo>
                      <a:pt x="119" y="45"/>
                    </a:lnTo>
                    <a:lnTo>
                      <a:pt x="119" y="44"/>
                    </a:lnTo>
                    <a:lnTo>
                      <a:pt x="118" y="42"/>
                    </a:lnTo>
                    <a:lnTo>
                      <a:pt x="117" y="42"/>
                    </a:lnTo>
                    <a:lnTo>
                      <a:pt x="115" y="41"/>
                    </a:lnTo>
                    <a:lnTo>
                      <a:pt x="114" y="39"/>
                    </a:lnTo>
                    <a:lnTo>
                      <a:pt x="113" y="38"/>
                    </a:lnTo>
                    <a:lnTo>
                      <a:pt x="105" y="43"/>
                    </a:lnTo>
                    <a:lnTo>
                      <a:pt x="98" y="48"/>
                    </a:lnTo>
                    <a:lnTo>
                      <a:pt x="91" y="53"/>
                    </a:lnTo>
                    <a:lnTo>
                      <a:pt x="84" y="60"/>
                    </a:lnTo>
                    <a:lnTo>
                      <a:pt x="77" y="66"/>
                    </a:lnTo>
                    <a:lnTo>
                      <a:pt x="70" y="73"/>
                    </a:lnTo>
                    <a:lnTo>
                      <a:pt x="64" y="79"/>
                    </a:lnTo>
                    <a:lnTo>
                      <a:pt x="59" y="86"/>
                    </a:lnTo>
                    <a:lnTo>
                      <a:pt x="61" y="80"/>
                    </a:lnTo>
                    <a:lnTo>
                      <a:pt x="63" y="75"/>
                    </a:lnTo>
                    <a:lnTo>
                      <a:pt x="65" y="68"/>
                    </a:lnTo>
                    <a:lnTo>
                      <a:pt x="67" y="62"/>
                    </a:lnTo>
                    <a:lnTo>
                      <a:pt x="68" y="56"/>
                    </a:lnTo>
                    <a:lnTo>
                      <a:pt x="69" y="49"/>
                    </a:lnTo>
                    <a:lnTo>
                      <a:pt x="68" y="44"/>
                    </a:lnTo>
                    <a:lnTo>
                      <a:pt x="67" y="38"/>
                    </a:lnTo>
                    <a:lnTo>
                      <a:pt x="60" y="39"/>
                    </a:lnTo>
                    <a:lnTo>
                      <a:pt x="55" y="42"/>
                    </a:lnTo>
                    <a:lnTo>
                      <a:pt x="48" y="46"/>
                    </a:lnTo>
                    <a:lnTo>
                      <a:pt x="43" y="51"/>
                    </a:lnTo>
                    <a:lnTo>
                      <a:pt x="38" y="58"/>
                    </a:lnTo>
                    <a:lnTo>
                      <a:pt x="31" y="63"/>
                    </a:lnTo>
                    <a:lnTo>
                      <a:pt x="26" y="69"/>
                    </a:lnTo>
                    <a:lnTo>
                      <a:pt x="21" y="75"/>
                    </a:lnTo>
                    <a:lnTo>
                      <a:pt x="21" y="71"/>
                    </a:lnTo>
                    <a:lnTo>
                      <a:pt x="22" y="68"/>
                    </a:lnTo>
                    <a:lnTo>
                      <a:pt x="23" y="64"/>
                    </a:lnTo>
                    <a:lnTo>
                      <a:pt x="24" y="61"/>
                    </a:lnTo>
                    <a:lnTo>
                      <a:pt x="25" y="58"/>
                    </a:lnTo>
                    <a:lnTo>
                      <a:pt x="24" y="55"/>
                    </a:lnTo>
                    <a:lnTo>
                      <a:pt x="22" y="52"/>
                    </a:lnTo>
                    <a:lnTo>
                      <a:pt x="19" y="50"/>
                    </a:lnTo>
                    <a:lnTo>
                      <a:pt x="15" y="51"/>
                    </a:lnTo>
                    <a:lnTo>
                      <a:pt x="13" y="52"/>
                    </a:lnTo>
                    <a:lnTo>
                      <a:pt x="11" y="55"/>
                    </a:lnTo>
                    <a:lnTo>
                      <a:pt x="9" y="56"/>
                    </a:lnTo>
                    <a:lnTo>
                      <a:pt x="6" y="57"/>
                    </a:lnTo>
                    <a:lnTo>
                      <a:pt x="4" y="59"/>
                    </a:lnTo>
                    <a:lnTo>
                      <a:pt x="2" y="60"/>
                    </a:lnTo>
                    <a:lnTo>
                      <a:pt x="0" y="62"/>
                    </a:lnTo>
                    <a:lnTo>
                      <a:pt x="1" y="56"/>
                    </a:lnTo>
                    <a:lnTo>
                      <a:pt x="1" y="49"/>
                    </a:lnTo>
                    <a:lnTo>
                      <a:pt x="2" y="44"/>
                    </a:lnTo>
                    <a:lnTo>
                      <a:pt x="3" y="39"/>
                    </a:lnTo>
                    <a:lnTo>
                      <a:pt x="4" y="33"/>
                    </a:lnTo>
                    <a:lnTo>
                      <a:pt x="5" y="30"/>
                    </a:lnTo>
                    <a:lnTo>
                      <a:pt x="5" y="27"/>
                    </a:lnTo>
                    <a:lnTo>
                      <a:pt x="6" y="25"/>
                    </a:lnTo>
                    <a:lnTo>
                      <a:pt x="9" y="25"/>
                    </a:lnTo>
                    <a:lnTo>
                      <a:pt x="6" y="30"/>
                    </a:lnTo>
                    <a:close/>
                    <a:moveTo>
                      <a:pt x="761" y="205"/>
                    </a:moveTo>
                    <a:lnTo>
                      <a:pt x="761" y="211"/>
                    </a:lnTo>
                    <a:lnTo>
                      <a:pt x="762" y="218"/>
                    </a:lnTo>
                    <a:lnTo>
                      <a:pt x="763" y="226"/>
                    </a:lnTo>
                    <a:lnTo>
                      <a:pt x="764" y="233"/>
                    </a:lnTo>
                    <a:lnTo>
                      <a:pt x="766" y="240"/>
                    </a:lnTo>
                    <a:lnTo>
                      <a:pt x="768" y="247"/>
                    </a:lnTo>
                    <a:lnTo>
                      <a:pt x="769" y="254"/>
                    </a:lnTo>
                    <a:lnTo>
                      <a:pt x="770" y="262"/>
                    </a:lnTo>
                    <a:lnTo>
                      <a:pt x="769" y="262"/>
                    </a:lnTo>
                    <a:lnTo>
                      <a:pt x="769" y="261"/>
                    </a:lnTo>
                    <a:lnTo>
                      <a:pt x="768" y="261"/>
                    </a:lnTo>
                    <a:lnTo>
                      <a:pt x="768" y="260"/>
                    </a:lnTo>
                    <a:lnTo>
                      <a:pt x="767" y="260"/>
                    </a:lnTo>
                    <a:lnTo>
                      <a:pt x="766" y="259"/>
                    </a:lnTo>
                    <a:lnTo>
                      <a:pt x="766" y="259"/>
                    </a:lnTo>
                    <a:lnTo>
                      <a:pt x="764" y="258"/>
                    </a:lnTo>
                    <a:lnTo>
                      <a:pt x="764" y="250"/>
                    </a:lnTo>
                    <a:lnTo>
                      <a:pt x="763" y="244"/>
                    </a:lnTo>
                    <a:lnTo>
                      <a:pt x="762" y="236"/>
                    </a:lnTo>
                    <a:lnTo>
                      <a:pt x="762" y="230"/>
                    </a:lnTo>
                    <a:lnTo>
                      <a:pt x="761" y="224"/>
                    </a:lnTo>
                    <a:lnTo>
                      <a:pt x="760" y="217"/>
                    </a:lnTo>
                    <a:lnTo>
                      <a:pt x="760" y="211"/>
                    </a:lnTo>
                    <a:lnTo>
                      <a:pt x="761" y="20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7227720" y="5810400"/>
                <a:ext cx="187200" cy="527040"/>
              </a:xfrm>
              <a:custGeom>
                <a:avLst/>
                <a:gdLst/>
                <a:ahLst/>
                <a:rect l="l" t="t" r="r" b="b"/>
                <a:pathLst>
                  <a:path w="354" h="996">
                    <a:moveTo>
                      <a:pt x="30" y="885"/>
                    </a:moveTo>
                    <a:lnTo>
                      <a:pt x="29" y="892"/>
                    </a:lnTo>
                    <a:lnTo>
                      <a:pt x="27" y="899"/>
                    </a:lnTo>
                    <a:lnTo>
                      <a:pt x="25" y="908"/>
                    </a:lnTo>
                    <a:lnTo>
                      <a:pt x="22" y="915"/>
                    </a:lnTo>
                    <a:lnTo>
                      <a:pt x="20" y="924"/>
                    </a:lnTo>
                    <a:lnTo>
                      <a:pt x="18" y="931"/>
                    </a:lnTo>
                    <a:lnTo>
                      <a:pt x="16" y="938"/>
                    </a:lnTo>
                    <a:lnTo>
                      <a:pt x="15" y="946"/>
                    </a:lnTo>
                    <a:lnTo>
                      <a:pt x="20" y="945"/>
                    </a:lnTo>
                    <a:lnTo>
                      <a:pt x="24" y="941"/>
                    </a:lnTo>
                    <a:lnTo>
                      <a:pt x="29" y="938"/>
                    </a:lnTo>
                    <a:lnTo>
                      <a:pt x="34" y="934"/>
                    </a:lnTo>
                    <a:lnTo>
                      <a:pt x="40" y="930"/>
                    </a:lnTo>
                    <a:lnTo>
                      <a:pt x="45" y="926"/>
                    </a:lnTo>
                    <a:lnTo>
                      <a:pt x="49" y="922"/>
                    </a:lnTo>
                    <a:lnTo>
                      <a:pt x="54" y="920"/>
                    </a:lnTo>
                    <a:lnTo>
                      <a:pt x="54" y="924"/>
                    </a:lnTo>
                    <a:lnTo>
                      <a:pt x="52" y="927"/>
                    </a:lnTo>
                    <a:lnTo>
                      <a:pt x="51" y="931"/>
                    </a:lnTo>
                    <a:lnTo>
                      <a:pt x="50" y="934"/>
                    </a:lnTo>
                    <a:lnTo>
                      <a:pt x="50" y="938"/>
                    </a:lnTo>
                    <a:lnTo>
                      <a:pt x="49" y="941"/>
                    </a:lnTo>
                    <a:lnTo>
                      <a:pt x="48" y="945"/>
                    </a:lnTo>
                    <a:lnTo>
                      <a:pt x="48" y="948"/>
                    </a:lnTo>
                    <a:lnTo>
                      <a:pt x="50" y="948"/>
                    </a:lnTo>
                    <a:lnTo>
                      <a:pt x="54" y="947"/>
                    </a:lnTo>
                    <a:lnTo>
                      <a:pt x="58" y="946"/>
                    </a:lnTo>
                    <a:lnTo>
                      <a:pt x="62" y="944"/>
                    </a:lnTo>
                    <a:lnTo>
                      <a:pt x="65" y="941"/>
                    </a:lnTo>
                    <a:lnTo>
                      <a:pt x="69" y="939"/>
                    </a:lnTo>
                    <a:lnTo>
                      <a:pt x="72" y="937"/>
                    </a:lnTo>
                    <a:lnTo>
                      <a:pt x="74" y="935"/>
                    </a:lnTo>
                    <a:lnTo>
                      <a:pt x="75" y="935"/>
                    </a:lnTo>
                    <a:lnTo>
                      <a:pt x="75" y="935"/>
                    </a:lnTo>
                    <a:lnTo>
                      <a:pt x="76" y="934"/>
                    </a:lnTo>
                    <a:lnTo>
                      <a:pt x="77" y="934"/>
                    </a:lnTo>
                    <a:lnTo>
                      <a:pt x="78" y="934"/>
                    </a:lnTo>
                    <a:lnTo>
                      <a:pt x="79" y="933"/>
                    </a:lnTo>
                    <a:lnTo>
                      <a:pt x="80" y="933"/>
                    </a:lnTo>
                    <a:lnTo>
                      <a:pt x="81" y="933"/>
                    </a:lnTo>
                    <a:lnTo>
                      <a:pt x="81" y="935"/>
                    </a:lnTo>
                    <a:lnTo>
                      <a:pt x="80" y="937"/>
                    </a:lnTo>
                    <a:lnTo>
                      <a:pt x="80" y="940"/>
                    </a:lnTo>
                    <a:lnTo>
                      <a:pt x="80" y="943"/>
                    </a:lnTo>
                    <a:lnTo>
                      <a:pt x="79" y="946"/>
                    </a:lnTo>
                    <a:lnTo>
                      <a:pt x="79" y="948"/>
                    </a:lnTo>
                    <a:lnTo>
                      <a:pt x="78" y="951"/>
                    </a:lnTo>
                    <a:lnTo>
                      <a:pt x="78" y="953"/>
                    </a:lnTo>
                    <a:lnTo>
                      <a:pt x="82" y="952"/>
                    </a:lnTo>
                    <a:lnTo>
                      <a:pt x="87" y="951"/>
                    </a:lnTo>
                    <a:lnTo>
                      <a:pt x="92" y="948"/>
                    </a:lnTo>
                    <a:lnTo>
                      <a:pt x="96" y="945"/>
                    </a:lnTo>
                    <a:lnTo>
                      <a:pt x="105" y="935"/>
                    </a:lnTo>
                    <a:lnTo>
                      <a:pt x="114" y="926"/>
                    </a:lnTo>
                    <a:lnTo>
                      <a:pt x="123" y="915"/>
                    </a:lnTo>
                    <a:lnTo>
                      <a:pt x="132" y="907"/>
                    </a:lnTo>
                    <a:lnTo>
                      <a:pt x="136" y="903"/>
                    </a:lnTo>
                    <a:lnTo>
                      <a:pt x="140" y="900"/>
                    </a:lnTo>
                    <a:lnTo>
                      <a:pt x="145" y="898"/>
                    </a:lnTo>
                    <a:lnTo>
                      <a:pt x="149" y="898"/>
                    </a:lnTo>
                    <a:lnTo>
                      <a:pt x="140" y="946"/>
                    </a:lnTo>
                    <a:lnTo>
                      <a:pt x="150" y="943"/>
                    </a:lnTo>
                    <a:lnTo>
                      <a:pt x="158" y="940"/>
                    </a:lnTo>
                    <a:lnTo>
                      <a:pt x="167" y="936"/>
                    </a:lnTo>
                    <a:lnTo>
                      <a:pt x="175" y="932"/>
                    </a:lnTo>
                    <a:lnTo>
                      <a:pt x="184" y="928"/>
                    </a:lnTo>
                    <a:lnTo>
                      <a:pt x="192" y="924"/>
                    </a:lnTo>
                    <a:lnTo>
                      <a:pt x="200" y="919"/>
                    </a:lnTo>
                    <a:lnTo>
                      <a:pt x="208" y="915"/>
                    </a:lnTo>
                    <a:lnTo>
                      <a:pt x="208" y="920"/>
                    </a:lnTo>
                    <a:lnTo>
                      <a:pt x="208" y="927"/>
                    </a:lnTo>
                    <a:lnTo>
                      <a:pt x="207" y="933"/>
                    </a:lnTo>
                    <a:lnTo>
                      <a:pt x="207" y="939"/>
                    </a:lnTo>
                    <a:lnTo>
                      <a:pt x="206" y="946"/>
                    </a:lnTo>
                    <a:lnTo>
                      <a:pt x="205" y="952"/>
                    </a:lnTo>
                    <a:lnTo>
                      <a:pt x="204" y="957"/>
                    </a:lnTo>
                    <a:lnTo>
                      <a:pt x="204" y="963"/>
                    </a:lnTo>
                    <a:lnTo>
                      <a:pt x="210" y="954"/>
                    </a:lnTo>
                    <a:lnTo>
                      <a:pt x="215" y="945"/>
                    </a:lnTo>
                    <a:lnTo>
                      <a:pt x="220" y="934"/>
                    </a:lnTo>
                    <a:lnTo>
                      <a:pt x="223" y="924"/>
                    </a:lnTo>
                    <a:lnTo>
                      <a:pt x="225" y="912"/>
                    </a:lnTo>
                    <a:lnTo>
                      <a:pt x="228" y="901"/>
                    </a:lnTo>
                    <a:lnTo>
                      <a:pt x="231" y="891"/>
                    </a:lnTo>
                    <a:lnTo>
                      <a:pt x="236" y="880"/>
                    </a:lnTo>
                    <a:lnTo>
                      <a:pt x="238" y="894"/>
                    </a:lnTo>
                    <a:lnTo>
                      <a:pt x="241" y="903"/>
                    </a:lnTo>
                    <a:lnTo>
                      <a:pt x="244" y="910"/>
                    </a:lnTo>
                    <a:lnTo>
                      <a:pt x="247" y="913"/>
                    </a:lnTo>
                    <a:lnTo>
                      <a:pt x="248" y="914"/>
                    </a:lnTo>
                    <a:lnTo>
                      <a:pt x="250" y="913"/>
                    </a:lnTo>
                    <a:lnTo>
                      <a:pt x="252" y="913"/>
                    </a:lnTo>
                    <a:lnTo>
                      <a:pt x="255" y="912"/>
                    </a:lnTo>
                    <a:lnTo>
                      <a:pt x="258" y="908"/>
                    </a:lnTo>
                    <a:lnTo>
                      <a:pt x="262" y="901"/>
                    </a:lnTo>
                    <a:lnTo>
                      <a:pt x="270" y="885"/>
                    </a:lnTo>
                    <a:lnTo>
                      <a:pt x="278" y="866"/>
                    </a:lnTo>
                    <a:lnTo>
                      <a:pt x="284" y="847"/>
                    </a:lnTo>
                    <a:lnTo>
                      <a:pt x="288" y="830"/>
                    </a:lnTo>
                    <a:lnTo>
                      <a:pt x="291" y="837"/>
                    </a:lnTo>
                    <a:lnTo>
                      <a:pt x="293" y="845"/>
                    </a:lnTo>
                    <a:lnTo>
                      <a:pt x="296" y="856"/>
                    </a:lnTo>
                    <a:lnTo>
                      <a:pt x="298" y="866"/>
                    </a:lnTo>
                    <a:lnTo>
                      <a:pt x="300" y="878"/>
                    </a:lnTo>
                    <a:lnTo>
                      <a:pt x="303" y="888"/>
                    </a:lnTo>
                    <a:lnTo>
                      <a:pt x="304" y="897"/>
                    </a:lnTo>
                    <a:lnTo>
                      <a:pt x="306" y="902"/>
                    </a:lnTo>
                    <a:lnTo>
                      <a:pt x="310" y="899"/>
                    </a:lnTo>
                    <a:lnTo>
                      <a:pt x="313" y="894"/>
                    </a:lnTo>
                    <a:lnTo>
                      <a:pt x="315" y="886"/>
                    </a:lnTo>
                    <a:lnTo>
                      <a:pt x="318" y="878"/>
                    </a:lnTo>
                    <a:lnTo>
                      <a:pt x="320" y="869"/>
                    </a:lnTo>
                    <a:lnTo>
                      <a:pt x="322" y="859"/>
                    </a:lnTo>
                    <a:lnTo>
                      <a:pt x="323" y="847"/>
                    </a:lnTo>
                    <a:lnTo>
                      <a:pt x="324" y="836"/>
                    </a:lnTo>
                    <a:lnTo>
                      <a:pt x="325" y="824"/>
                    </a:lnTo>
                    <a:lnTo>
                      <a:pt x="324" y="812"/>
                    </a:lnTo>
                    <a:lnTo>
                      <a:pt x="323" y="801"/>
                    </a:lnTo>
                    <a:lnTo>
                      <a:pt x="322" y="789"/>
                    </a:lnTo>
                    <a:lnTo>
                      <a:pt x="319" y="779"/>
                    </a:lnTo>
                    <a:lnTo>
                      <a:pt x="316" y="769"/>
                    </a:lnTo>
                    <a:lnTo>
                      <a:pt x="312" y="761"/>
                    </a:lnTo>
                    <a:lnTo>
                      <a:pt x="306" y="753"/>
                    </a:lnTo>
                    <a:lnTo>
                      <a:pt x="305" y="754"/>
                    </a:lnTo>
                    <a:lnTo>
                      <a:pt x="304" y="756"/>
                    </a:lnTo>
                    <a:lnTo>
                      <a:pt x="303" y="759"/>
                    </a:lnTo>
                    <a:lnTo>
                      <a:pt x="301" y="761"/>
                    </a:lnTo>
                    <a:lnTo>
                      <a:pt x="299" y="763"/>
                    </a:lnTo>
                    <a:lnTo>
                      <a:pt x="298" y="765"/>
                    </a:lnTo>
                    <a:lnTo>
                      <a:pt x="296" y="767"/>
                    </a:lnTo>
                    <a:lnTo>
                      <a:pt x="296" y="768"/>
                    </a:lnTo>
                    <a:lnTo>
                      <a:pt x="294" y="768"/>
                    </a:lnTo>
                    <a:lnTo>
                      <a:pt x="293" y="767"/>
                    </a:lnTo>
                    <a:lnTo>
                      <a:pt x="292" y="765"/>
                    </a:lnTo>
                    <a:lnTo>
                      <a:pt x="289" y="764"/>
                    </a:lnTo>
                    <a:lnTo>
                      <a:pt x="288" y="762"/>
                    </a:lnTo>
                    <a:lnTo>
                      <a:pt x="287" y="761"/>
                    </a:lnTo>
                    <a:lnTo>
                      <a:pt x="286" y="759"/>
                    </a:lnTo>
                    <a:lnTo>
                      <a:pt x="286" y="757"/>
                    </a:lnTo>
                    <a:lnTo>
                      <a:pt x="282" y="757"/>
                    </a:lnTo>
                    <a:lnTo>
                      <a:pt x="276" y="756"/>
                    </a:lnTo>
                    <a:lnTo>
                      <a:pt x="268" y="754"/>
                    </a:lnTo>
                    <a:lnTo>
                      <a:pt x="261" y="752"/>
                    </a:lnTo>
                    <a:lnTo>
                      <a:pt x="253" y="750"/>
                    </a:lnTo>
                    <a:lnTo>
                      <a:pt x="246" y="747"/>
                    </a:lnTo>
                    <a:lnTo>
                      <a:pt x="240" y="745"/>
                    </a:lnTo>
                    <a:lnTo>
                      <a:pt x="236" y="743"/>
                    </a:lnTo>
                    <a:lnTo>
                      <a:pt x="236" y="741"/>
                    </a:lnTo>
                    <a:lnTo>
                      <a:pt x="236" y="738"/>
                    </a:lnTo>
                    <a:lnTo>
                      <a:pt x="236" y="736"/>
                    </a:lnTo>
                    <a:lnTo>
                      <a:pt x="234" y="734"/>
                    </a:lnTo>
                    <a:lnTo>
                      <a:pt x="234" y="732"/>
                    </a:lnTo>
                    <a:lnTo>
                      <a:pt x="233" y="731"/>
                    </a:lnTo>
                    <a:lnTo>
                      <a:pt x="233" y="729"/>
                    </a:lnTo>
                    <a:lnTo>
                      <a:pt x="233" y="728"/>
                    </a:lnTo>
                    <a:lnTo>
                      <a:pt x="232" y="728"/>
                    </a:lnTo>
                    <a:lnTo>
                      <a:pt x="231" y="728"/>
                    </a:lnTo>
                    <a:lnTo>
                      <a:pt x="230" y="728"/>
                    </a:lnTo>
                    <a:lnTo>
                      <a:pt x="230" y="728"/>
                    </a:lnTo>
                    <a:lnTo>
                      <a:pt x="229" y="727"/>
                    </a:lnTo>
                    <a:lnTo>
                      <a:pt x="229" y="727"/>
                    </a:lnTo>
                    <a:lnTo>
                      <a:pt x="228" y="726"/>
                    </a:lnTo>
                    <a:lnTo>
                      <a:pt x="228" y="726"/>
                    </a:lnTo>
                    <a:lnTo>
                      <a:pt x="221" y="726"/>
                    </a:lnTo>
                    <a:lnTo>
                      <a:pt x="213" y="717"/>
                    </a:lnTo>
                    <a:lnTo>
                      <a:pt x="207" y="710"/>
                    </a:lnTo>
                    <a:lnTo>
                      <a:pt x="202" y="701"/>
                    </a:lnTo>
                    <a:lnTo>
                      <a:pt x="197" y="694"/>
                    </a:lnTo>
                    <a:lnTo>
                      <a:pt x="191" y="679"/>
                    </a:lnTo>
                    <a:lnTo>
                      <a:pt x="187" y="663"/>
                    </a:lnTo>
                    <a:lnTo>
                      <a:pt x="183" y="647"/>
                    </a:lnTo>
                    <a:lnTo>
                      <a:pt x="179" y="632"/>
                    </a:lnTo>
                    <a:lnTo>
                      <a:pt x="174" y="615"/>
                    </a:lnTo>
                    <a:lnTo>
                      <a:pt x="166" y="598"/>
                    </a:lnTo>
                    <a:lnTo>
                      <a:pt x="155" y="577"/>
                    </a:lnTo>
                    <a:lnTo>
                      <a:pt x="147" y="556"/>
                    </a:lnTo>
                    <a:lnTo>
                      <a:pt x="139" y="536"/>
                    </a:lnTo>
                    <a:lnTo>
                      <a:pt x="133" y="516"/>
                    </a:lnTo>
                    <a:lnTo>
                      <a:pt x="129" y="497"/>
                    </a:lnTo>
                    <a:lnTo>
                      <a:pt x="125" y="477"/>
                    </a:lnTo>
                    <a:lnTo>
                      <a:pt x="123" y="458"/>
                    </a:lnTo>
                    <a:lnTo>
                      <a:pt x="123" y="438"/>
                    </a:lnTo>
                    <a:lnTo>
                      <a:pt x="136" y="426"/>
                    </a:lnTo>
                    <a:lnTo>
                      <a:pt x="135" y="434"/>
                    </a:lnTo>
                    <a:lnTo>
                      <a:pt x="133" y="442"/>
                    </a:lnTo>
                    <a:lnTo>
                      <a:pt x="131" y="452"/>
                    </a:lnTo>
                    <a:lnTo>
                      <a:pt x="130" y="461"/>
                    </a:lnTo>
                    <a:lnTo>
                      <a:pt x="130" y="471"/>
                    </a:lnTo>
                    <a:lnTo>
                      <a:pt x="131" y="479"/>
                    </a:lnTo>
                    <a:lnTo>
                      <a:pt x="133" y="484"/>
                    </a:lnTo>
                    <a:lnTo>
                      <a:pt x="136" y="487"/>
                    </a:lnTo>
                    <a:lnTo>
                      <a:pt x="139" y="490"/>
                    </a:lnTo>
                    <a:lnTo>
                      <a:pt x="143" y="493"/>
                    </a:lnTo>
                    <a:lnTo>
                      <a:pt x="147" y="497"/>
                    </a:lnTo>
                    <a:lnTo>
                      <a:pt x="149" y="501"/>
                    </a:lnTo>
                    <a:lnTo>
                      <a:pt x="150" y="506"/>
                    </a:lnTo>
                    <a:lnTo>
                      <a:pt x="151" y="510"/>
                    </a:lnTo>
                    <a:lnTo>
                      <a:pt x="152" y="518"/>
                    </a:lnTo>
                    <a:lnTo>
                      <a:pt x="153" y="527"/>
                    </a:lnTo>
                    <a:lnTo>
                      <a:pt x="154" y="535"/>
                    </a:lnTo>
                    <a:lnTo>
                      <a:pt x="155" y="544"/>
                    </a:lnTo>
                    <a:lnTo>
                      <a:pt x="157" y="548"/>
                    </a:lnTo>
                    <a:lnTo>
                      <a:pt x="159" y="551"/>
                    </a:lnTo>
                    <a:lnTo>
                      <a:pt x="163" y="555"/>
                    </a:lnTo>
                    <a:lnTo>
                      <a:pt x="166" y="559"/>
                    </a:lnTo>
                    <a:lnTo>
                      <a:pt x="166" y="567"/>
                    </a:lnTo>
                    <a:lnTo>
                      <a:pt x="167" y="574"/>
                    </a:lnTo>
                    <a:lnTo>
                      <a:pt x="169" y="582"/>
                    </a:lnTo>
                    <a:lnTo>
                      <a:pt x="172" y="588"/>
                    </a:lnTo>
                    <a:lnTo>
                      <a:pt x="174" y="595"/>
                    </a:lnTo>
                    <a:lnTo>
                      <a:pt x="177" y="601"/>
                    </a:lnTo>
                    <a:lnTo>
                      <a:pt x="179" y="608"/>
                    </a:lnTo>
                    <a:lnTo>
                      <a:pt x="180" y="616"/>
                    </a:lnTo>
                    <a:lnTo>
                      <a:pt x="190" y="620"/>
                    </a:lnTo>
                    <a:lnTo>
                      <a:pt x="191" y="627"/>
                    </a:lnTo>
                    <a:lnTo>
                      <a:pt x="192" y="636"/>
                    </a:lnTo>
                    <a:lnTo>
                      <a:pt x="192" y="643"/>
                    </a:lnTo>
                    <a:lnTo>
                      <a:pt x="193" y="652"/>
                    </a:lnTo>
                    <a:lnTo>
                      <a:pt x="195" y="659"/>
                    </a:lnTo>
                    <a:lnTo>
                      <a:pt x="198" y="666"/>
                    </a:lnTo>
                    <a:lnTo>
                      <a:pt x="203" y="672"/>
                    </a:lnTo>
                    <a:lnTo>
                      <a:pt x="208" y="676"/>
                    </a:lnTo>
                    <a:lnTo>
                      <a:pt x="211" y="681"/>
                    </a:lnTo>
                    <a:lnTo>
                      <a:pt x="214" y="687"/>
                    </a:lnTo>
                    <a:lnTo>
                      <a:pt x="216" y="692"/>
                    </a:lnTo>
                    <a:lnTo>
                      <a:pt x="219" y="697"/>
                    </a:lnTo>
                    <a:lnTo>
                      <a:pt x="222" y="702"/>
                    </a:lnTo>
                    <a:lnTo>
                      <a:pt x="224" y="708"/>
                    </a:lnTo>
                    <a:lnTo>
                      <a:pt x="227" y="713"/>
                    </a:lnTo>
                    <a:lnTo>
                      <a:pt x="231" y="718"/>
                    </a:lnTo>
                    <a:lnTo>
                      <a:pt x="237" y="724"/>
                    </a:lnTo>
                    <a:lnTo>
                      <a:pt x="244" y="727"/>
                    </a:lnTo>
                    <a:lnTo>
                      <a:pt x="251" y="730"/>
                    </a:lnTo>
                    <a:lnTo>
                      <a:pt x="259" y="731"/>
                    </a:lnTo>
                    <a:lnTo>
                      <a:pt x="275" y="733"/>
                    </a:lnTo>
                    <a:lnTo>
                      <a:pt x="291" y="734"/>
                    </a:lnTo>
                    <a:lnTo>
                      <a:pt x="298" y="735"/>
                    </a:lnTo>
                    <a:lnTo>
                      <a:pt x="305" y="737"/>
                    </a:lnTo>
                    <a:lnTo>
                      <a:pt x="312" y="739"/>
                    </a:lnTo>
                    <a:lnTo>
                      <a:pt x="317" y="744"/>
                    </a:lnTo>
                    <a:lnTo>
                      <a:pt x="322" y="749"/>
                    </a:lnTo>
                    <a:lnTo>
                      <a:pt x="325" y="755"/>
                    </a:lnTo>
                    <a:lnTo>
                      <a:pt x="329" y="764"/>
                    </a:lnTo>
                    <a:lnTo>
                      <a:pt x="330" y="775"/>
                    </a:lnTo>
                    <a:lnTo>
                      <a:pt x="338" y="796"/>
                    </a:lnTo>
                    <a:lnTo>
                      <a:pt x="344" y="816"/>
                    </a:lnTo>
                    <a:lnTo>
                      <a:pt x="349" y="836"/>
                    </a:lnTo>
                    <a:lnTo>
                      <a:pt x="352" y="857"/>
                    </a:lnTo>
                    <a:lnTo>
                      <a:pt x="354" y="878"/>
                    </a:lnTo>
                    <a:lnTo>
                      <a:pt x="354" y="899"/>
                    </a:lnTo>
                    <a:lnTo>
                      <a:pt x="354" y="921"/>
                    </a:lnTo>
                    <a:lnTo>
                      <a:pt x="353" y="943"/>
                    </a:lnTo>
                    <a:lnTo>
                      <a:pt x="350" y="943"/>
                    </a:lnTo>
                    <a:lnTo>
                      <a:pt x="347" y="945"/>
                    </a:lnTo>
                    <a:lnTo>
                      <a:pt x="344" y="947"/>
                    </a:lnTo>
                    <a:lnTo>
                      <a:pt x="343" y="950"/>
                    </a:lnTo>
                    <a:lnTo>
                      <a:pt x="341" y="953"/>
                    </a:lnTo>
                    <a:lnTo>
                      <a:pt x="340" y="956"/>
                    </a:lnTo>
                    <a:lnTo>
                      <a:pt x="338" y="959"/>
                    </a:lnTo>
                    <a:lnTo>
                      <a:pt x="335" y="963"/>
                    </a:lnTo>
                    <a:lnTo>
                      <a:pt x="334" y="961"/>
                    </a:lnTo>
                    <a:lnTo>
                      <a:pt x="333" y="959"/>
                    </a:lnTo>
                    <a:lnTo>
                      <a:pt x="331" y="958"/>
                    </a:lnTo>
                    <a:lnTo>
                      <a:pt x="330" y="957"/>
                    </a:lnTo>
                    <a:lnTo>
                      <a:pt x="328" y="956"/>
                    </a:lnTo>
                    <a:lnTo>
                      <a:pt x="325" y="956"/>
                    </a:lnTo>
                    <a:lnTo>
                      <a:pt x="323" y="956"/>
                    </a:lnTo>
                    <a:lnTo>
                      <a:pt x="321" y="956"/>
                    </a:lnTo>
                    <a:lnTo>
                      <a:pt x="310" y="972"/>
                    </a:lnTo>
                    <a:lnTo>
                      <a:pt x="303" y="972"/>
                    </a:lnTo>
                    <a:lnTo>
                      <a:pt x="297" y="972"/>
                    </a:lnTo>
                    <a:lnTo>
                      <a:pt x="292" y="973"/>
                    </a:lnTo>
                    <a:lnTo>
                      <a:pt x="287" y="974"/>
                    </a:lnTo>
                    <a:lnTo>
                      <a:pt x="282" y="976"/>
                    </a:lnTo>
                    <a:lnTo>
                      <a:pt x="277" y="979"/>
                    </a:lnTo>
                    <a:lnTo>
                      <a:pt x="273" y="981"/>
                    </a:lnTo>
                    <a:lnTo>
                      <a:pt x="267" y="983"/>
                    </a:lnTo>
                    <a:lnTo>
                      <a:pt x="266" y="982"/>
                    </a:lnTo>
                    <a:lnTo>
                      <a:pt x="266" y="981"/>
                    </a:lnTo>
                    <a:lnTo>
                      <a:pt x="267" y="980"/>
                    </a:lnTo>
                    <a:lnTo>
                      <a:pt x="268" y="979"/>
                    </a:lnTo>
                    <a:lnTo>
                      <a:pt x="268" y="976"/>
                    </a:lnTo>
                    <a:lnTo>
                      <a:pt x="269" y="974"/>
                    </a:lnTo>
                    <a:lnTo>
                      <a:pt x="269" y="972"/>
                    </a:lnTo>
                    <a:lnTo>
                      <a:pt x="268" y="970"/>
                    </a:lnTo>
                    <a:lnTo>
                      <a:pt x="263" y="968"/>
                    </a:lnTo>
                    <a:lnTo>
                      <a:pt x="258" y="967"/>
                    </a:lnTo>
                    <a:lnTo>
                      <a:pt x="252" y="966"/>
                    </a:lnTo>
                    <a:lnTo>
                      <a:pt x="247" y="967"/>
                    </a:lnTo>
                    <a:lnTo>
                      <a:pt x="236" y="970"/>
                    </a:lnTo>
                    <a:lnTo>
                      <a:pt x="225" y="974"/>
                    </a:lnTo>
                    <a:lnTo>
                      <a:pt x="214" y="979"/>
                    </a:lnTo>
                    <a:lnTo>
                      <a:pt x="204" y="983"/>
                    </a:lnTo>
                    <a:lnTo>
                      <a:pt x="198" y="985"/>
                    </a:lnTo>
                    <a:lnTo>
                      <a:pt x="193" y="986"/>
                    </a:lnTo>
                    <a:lnTo>
                      <a:pt x="188" y="986"/>
                    </a:lnTo>
                    <a:lnTo>
                      <a:pt x="183" y="985"/>
                    </a:lnTo>
                    <a:lnTo>
                      <a:pt x="180" y="986"/>
                    </a:lnTo>
                    <a:lnTo>
                      <a:pt x="178" y="986"/>
                    </a:lnTo>
                    <a:lnTo>
                      <a:pt x="176" y="987"/>
                    </a:lnTo>
                    <a:lnTo>
                      <a:pt x="174" y="987"/>
                    </a:lnTo>
                    <a:lnTo>
                      <a:pt x="172" y="988"/>
                    </a:lnTo>
                    <a:lnTo>
                      <a:pt x="170" y="988"/>
                    </a:lnTo>
                    <a:lnTo>
                      <a:pt x="168" y="988"/>
                    </a:lnTo>
                    <a:lnTo>
                      <a:pt x="166" y="988"/>
                    </a:lnTo>
                    <a:lnTo>
                      <a:pt x="147" y="996"/>
                    </a:lnTo>
                    <a:lnTo>
                      <a:pt x="143" y="983"/>
                    </a:lnTo>
                    <a:lnTo>
                      <a:pt x="140" y="982"/>
                    </a:lnTo>
                    <a:lnTo>
                      <a:pt x="136" y="981"/>
                    </a:lnTo>
                    <a:lnTo>
                      <a:pt x="133" y="981"/>
                    </a:lnTo>
                    <a:lnTo>
                      <a:pt x="129" y="982"/>
                    </a:lnTo>
                    <a:lnTo>
                      <a:pt x="121" y="984"/>
                    </a:lnTo>
                    <a:lnTo>
                      <a:pt x="114" y="986"/>
                    </a:lnTo>
                    <a:lnTo>
                      <a:pt x="106" y="988"/>
                    </a:lnTo>
                    <a:lnTo>
                      <a:pt x="99" y="988"/>
                    </a:lnTo>
                    <a:lnTo>
                      <a:pt x="96" y="988"/>
                    </a:lnTo>
                    <a:lnTo>
                      <a:pt x="93" y="987"/>
                    </a:lnTo>
                    <a:lnTo>
                      <a:pt x="88" y="985"/>
                    </a:lnTo>
                    <a:lnTo>
                      <a:pt x="85" y="983"/>
                    </a:lnTo>
                    <a:lnTo>
                      <a:pt x="83" y="984"/>
                    </a:lnTo>
                    <a:lnTo>
                      <a:pt x="82" y="985"/>
                    </a:lnTo>
                    <a:lnTo>
                      <a:pt x="80" y="985"/>
                    </a:lnTo>
                    <a:lnTo>
                      <a:pt x="78" y="985"/>
                    </a:lnTo>
                    <a:lnTo>
                      <a:pt x="76" y="985"/>
                    </a:lnTo>
                    <a:lnTo>
                      <a:pt x="74" y="985"/>
                    </a:lnTo>
                    <a:lnTo>
                      <a:pt x="72" y="985"/>
                    </a:lnTo>
                    <a:lnTo>
                      <a:pt x="69" y="985"/>
                    </a:lnTo>
                    <a:lnTo>
                      <a:pt x="69" y="984"/>
                    </a:lnTo>
                    <a:lnTo>
                      <a:pt x="69" y="983"/>
                    </a:lnTo>
                    <a:lnTo>
                      <a:pt x="68" y="982"/>
                    </a:lnTo>
                    <a:lnTo>
                      <a:pt x="68" y="982"/>
                    </a:lnTo>
                    <a:lnTo>
                      <a:pt x="67" y="981"/>
                    </a:lnTo>
                    <a:lnTo>
                      <a:pt x="66" y="980"/>
                    </a:lnTo>
                    <a:lnTo>
                      <a:pt x="66" y="980"/>
                    </a:lnTo>
                    <a:lnTo>
                      <a:pt x="65" y="979"/>
                    </a:lnTo>
                    <a:lnTo>
                      <a:pt x="58" y="981"/>
                    </a:lnTo>
                    <a:lnTo>
                      <a:pt x="50" y="984"/>
                    </a:lnTo>
                    <a:lnTo>
                      <a:pt x="42" y="987"/>
                    </a:lnTo>
                    <a:lnTo>
                      <a:pt x="34" y="989"/>
                    </a:lnTo>
                    <a:lnTo>
                      <a:pt x="26" y="990"/>
                    </a:lnTo>
                    <a:lnTo>
                      <a:pt x="18" y="990"/>
                    </a:lnTo>
                    <a:lnTo>
                      <a:pt x="14" y="990"/>
                    </a:lnTo>
                    <a:lnTo>
                      <a:pt x="10" y="989"/>
                    </a:lnTo>
                    <a:lnTo>
                      <a:pt x="6" y="987"/>
                    </a:lnTo>
                    <a:lnTo>
                      <a:pt x="3" y="985"/>
                    </a:lnTo>
                    <a:lnTo>
                      <a:pt x="0" y="916"/>
                    </a:lnTo>
                    <a:lnTo>
                      <a:pt x="4" y="913"/>
                    </a:lnTo>
                    <a:lnTo>
                      <a:pt x="7" y="910"/>
                    </a:lnTo>
                    <a:lnTo>
                      <a:pt x="11" y="907"/>
                    </a:lnTo>
                    <a:lnTo>
                      <a:pt x="14" y="902"/>
                    </a:lnTo>
                    <a:lnTo>
                      <a:pt x="18" y="898"/>
                    </a:lnTo>
                    <a:lnTo>
                      <a:pt x="21" y="894"/>
                    </a:lnTo>
                    <a:lnTo>
                      <a:pt x="24" y="890"/>
                    </a:lnTo>
                    <a:lnTo>
                      <a:pt x="27" y="884"/>
                    </a:lnTo>
                    <a:lnTo>
                      <a:pt x="30" y="885"/>
                    </a:lnTo>
                    <a:close/>
                    <a:moveTo>
                      <a:pt x="124" y="421"/>
                    </a:moveTo>
                    <a:lnTo>
                      <a:pt x="125" y="408"/>
                    </a:lnTo>
                    <a:lnTo>
                      <a:pt x="128" y="395"/>
                    </a:lnTo>
                    <a:lnTo>
                      <a:pt x="130" y="381"/>
                    </a:lnTo>
                    <a:lnTo>
                      <a:pt x="133" y="367"/>
                    </a:lnTo>
                    <a:lnTo>
                      <a:pt x="136" y="353"/>
                    </a:lnTo>
                    <a:lnTo>
                      <a:pt x="140" y="339"/>
                    </a:lnTo>
                    <a:lnTo>
                      <a:pt x="146" y="325"/>
                    </a:lnTo>
                    <a:lnTo>
                      <a:pt x="151" y="310"/>
                    </a:lnTo>
                    <a:lnTo>
                      <a:pt x="151" y="305"/>
                    </a:lnTo>
                    <a:lnTo>
                      <a:pt x="154" y="302"/>
                    </a:lnTo>
                    <a:lnTo>
                      <a:pt x="157" y="297"/>
                    </a:lnTo>
                    <a:lnTo>
                      <a:pt x="160" y="294"/>
                    </a:lnTo>
                    <a:lnTo>
                      <a:pt x="163" y="289"/>
                    </a:lnTo>
                    <a:lnTo>
                      <a:pt x="166" y="285"/>
                    </a:lnTo>
                    <a:lnTo>
                      <a:pt x="168" y="279"/>
                    </a:lnTo>
                    <a:lnTo>
                      <a:pt x="170" y="274"/>
                    </a:lnTo>
                    <a:lnTo>
                      <a:pt x="172" y="269"/>
                    </a:lnTo>
                    <a:lnTo>
                      <a:pt x="183" y="279"/>
                    </a:lnTo>
                    <a:lnTo>
                      <a:pt x="177" y="292"/>
                    </a:lnTo>
                    <a:lnTo>
                      <a:pt x="171" y="305"/>
                    </a:lnTo>
                    <a:lnTo>
                      <a:pt x="164" y="319"/>
                    </a:lnTo>
                    <a:lnTo>
                      <a:pt x="157" y="331"/>
                    </a:lnTo>
                    <a:lnTo>
                      <a:pt x="151" y="344"/>
                    </a:lnTo>
                    <a:lnTo>
                      <a:pt x="146" y="357"/>
                    </a:lnTo>
                    <a:lnTo>
                      <a:pt x="143" y="364"/>
                    </a:lnTo>
                    <a:lnTo>
                      <a:pt x="142" y="370"/>
                    </a:lnTo>
                    <a:lnTo>
                      <a:pt x="141" y="377"/>
                    </a:lnTo>
                    <a:lnTo>
                      <a:pt x="141" y="384"/>
                    </a:lnTo>
                    <a:lnTo>
                      <a:pt x="139" y="388"/>
                    </a:lnTo>
                    <a:lnTo>
                      <a:pt x="137" y="394"/>
                    </a:lnTo>
                    <a:lnTo>
                      <a:pt x="135" y="398"/>
                    </a:lnTo>
                    <a:lnTo>
                      <a:pt x="133" y="402"/>
                    </a:lnTo>
                    <a:lnTo>
                      <a:pt x="131" y="407"/>
                    </a:lnTo>
                    <a:lnTo>
                      <a:pt x="129" y="412"/>
                    </a:lnTo>
                    <a:lnTo>
                      <a:pt x="125" y="417"/>
                    </a:lnTo>
                    <a:lnTo>
                      <a:pt x="124" y="421"/>
                    </a:lnTo>
                    <a:close/>
                    <a:moveTo>
                      <a:pt x="174" y="261"/>
                    </a:moveTo>
                    <a:lnTo>
                      <a:pt x="180" y="238"/>
                    </a:lnTo>
                    <a:lnTo>
                      <a:pt x="186" y="213"/>
                    </a:lnTo>
                    <a:lnTo>
                      <a:pt x="190" y="185"/>
                    </a:lnTo>
                    <a:lnTo>
                      <a:pt x="193" y="159"/>
                    </a:lnTo>
                    <a:lnTo>
                      <a:pt x="196" y="132"/>
                    </a:lnTo>
                    <a:lnTo>
                      <a:pt x="201" y="107"/>
                    </a:lnTo>
                    <a:lnTo>
                      <a:pt x="205" y="85"/>
                    </a:lnTo>
                    <a:lnTo>
                      <a:pt x="211" y="66"/>
                    </a:lnTo>
                    <a:lnTo>
                      <a:pt x="212" y="59"/>
                    </a:lnTo>
                    <a:lnTo>
                      <a:pt x="214" y="52"/>
                    </a:lnTo>
                    <a:lnTo>
                      <a:pt x="216" y="44"/>
                    </a:lnTo>
                    <a:lnTo>
                      <a:pt x="219" y="35"/>
                    </a:lnTo>
                    <a:lnTo>
                      <a:pt x="220" y="27"/>
                    </a:lnTo>
                    <a:lnTo>
                      <a:pt x="221" y="17"/>
                    </a:lnTo>
                    <a:lnTo>
                      <a:pt x="223" y="9"/>
                    </a:lnTo>
                    <a:lnTo>
                      <a:pt x="224" y="0"/>
                    </a:lnTo>
                    <a:lnTo>
                      <a:pt x="227" y="16"/>
                    </a:lnTo>
                    <a:lnTo>
                      <a:pt x="229" y="32"/>
                    </a:lnTo>
                    <a:lnTo>
                      <a:pt x="230" y="49"/>
                    </a:lnTo>
                    <a:lnTo>
                      <a:pt x="230" y="65"/>
                    </a:lnTo>
                    <a:lnTo>
                      <a:pt x="229" y="82"/>
                    </a:lnTo>
                    <a:lnTo>
                      <a:pt x="227" y="99"/>
                    </a:lnTo>
                    <a:lnTo>
                      <a:pt x="223" y="114"/>
                    </a:lnTo>
                    <a:lnTo>
                      <a:pt x="219" y="130"/>
                    </a:lnTo>
                    <a:lnTo>
                      <a:pt x="216" y="140"/>
                    </a:lnTo>
                    <a:lnTo>
                      <a:pt x="214" y="149"/>
                    </a:lnTo>
                    <a:lnTo>
                      <a:pt x="211" y="160"/>
                    </a:lnTo>
                    <a:lnTo>
                      <a:pt x="208" y="169"/>
                    </a:lnTo>
                    <a:lnTo>
                      <a:pt x="204" y="179"/>
                    </a:lnTo>
                    <a:lnTo>
                      <a:pt x="200" y="189"/>
                    </a:lnTo>
                    <a:lnTo>
                      <a:pt x="195" y="199"/>
                    </a:lnTo>
                    <a:lnTo>
                      <a:pt x="190" y="209"/>
                    </a:lnTo>
                    <a:lnTo>
                      <a:pt x="191" y="215"/>
                    </a:lnTo>
                    <a:lnTo>
                      <a:pt x="190" y="222"/>
                    </a:lnTo>
                    <a:lnTo>
                      <a:pt x="188" y="229"/>
                    </a:lnTo>
                    <a:lnTo>
                      <a:pt x="186" y="235"/>
                    </a:lnTo>
                    <a:lnTo>
                      <a:pt x="184" y="242"/>
                    </a:lnTo>
                    <a:lnTo>
                      <a:pt x="180" y="249"/>
                    </a:lnTo>
                    <a:lnTo>
                      <a:pt x="177" y="255"/>
                    </a:lnTo>
                    <a:lnTo>
                      <a:pt x="174" y="26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ccffff"/>
                </a:solidFill>
                <a:latin typeface="Verdana"/>
              </a:rPr>
              <a:t>Click to edit the title text format</a:t>
            </a:r>
            <a:endParaRPr b="1" lang="en-US" sz="3300" spc="-1" strike="noStrike">
              <a:solidFill>
                <a:srgbClr val="ccffff"/>
              </a:solidFill>
              <a:latin typeface="Verdana"/>
            </a:endParaRPr>
          </a:p>
        </p:txBody>
      </p:sp>
      <p:sp>
        <p:nvSpPr>
          <p:cNvPr id="383" name="PlaceHolder 2"/>
          <p:cNvSpPr>
            <a:spLocks noGrp="1"/>
          </p:cNvSpPr>
          <p:nvPr>
            <p:ph type="body"/>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Click to edit the outline text format</a:t>
            </a:r>
            <a:endParaRPr b="0" lang="en-US" sz="3100" spc="-1" strike="noStrike">
              <a:solidFill>
                <a:srgbClr val="ffffcc"/>
              </a:solidFill>
              <a:latin typeface="Verdana"/>
            </a:endParaRPr>
          </a:p>
          <a:p>
            <a:pPr lvl="1" marL="743040" indent="-285840">
              <a:spcBef>
                <a:spcPts val="774"/>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Second Outline Level</a:t>
            </a:r>
            <a:endParaRPr b="0" lang="en-US" sz="3100" spc="-1" strike="noStrike">
              <a:solidFill>
                <a:srgbClr val="ffffcc"/>
              </a:solidFill>
              <a:latin typeface="Verdana"/>
            </a:endParaRPr>
          </a:p>
          <a:p>
            <a:pPr lvl="2" marL="1143000" indent="-228600">
              <a:spcBef>
                <a:spcPts val="774"/>
              </a:spcBef>
              <a:buClr>
                <a:srgbClr val="33cccc"/>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Third Outline Level</a:t>
            </a:r>
            <a:endParaRPr b="0" lang="en-US" sz="3100" spc="-1" strike="noStrike">
              <a:solidFill>
                <a:srgbClr val="ffffcc"/>
              </a:solidFill>
              <a:latin typeface="Verdana"/>
            </a:endParaRPr>
          </a:p>
          <a:p>
            <a:pPr lvl="3" marL="1600200" indent="-228600">
              <a:spcBef>
                <a:spcPts val="774"/>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Fourth Outline Level</a:t>
            </a:r>
            <a:endParaRPr b="0" lang="en-US" sz="3100" spc="-1" strike="noStrike">
              <a:solidFill>
                <a:srgbClr val="ffffcc"/>
              </a:solidFill>
              <a:latin typeface="Verdana"/>
            </a:endParaRPr>
          </a:p>
          <a:p>
            <a:pPr lvl="4" marL="2057400" indent="-228600">
              <a:spcBef>
                <a:spcPts val="774"/>
              </a:spcBef>
              <a:buClr>
                <a:srgbClr val="33cccc"/>
              </a:buClr>
              <a:buSzPct val="15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Fifth Outline Level</a:t>
            </a:r>
            <a:endParaRPr b="0" lang="en-US" sz="3100" spc="-1" strike="noStrike">
              <a:solidFill>
                <a:srgbClr val="ffffcc"/>
              </a:solidFill>
              <a:latin typeface="Verdana"/>
            </a:endParaRPr>
          </a:p>
          <a:p>
            <a:pPr lvl="5" marL="2057400" indent="-228600">
              <a:spcBef>
                <a:spcPts val="774"/>
              </a:spcBef>
              <a:buClr>
                <a:srgbClr val="ffffff"/>
              </a:buClr>
              <a:buSzPct val="15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Sixth Outline Level</a:t>
            </a:r>
            <a:endParaRPr b="0" lang="en-US" sz="3100" spc="-1" strike="noStrike">
              <a:solidFill>
                <a:srgbClr val="ffffcc"/>
              </a:solidFill>
              <a:latin typeface="Verdana"/>
            </a:endParaRPr>
          </a:p>
          <a:p>
            <a:pPr lvl="6" marL="2057400" indent="-228600">
              <a:spcBef>
                <a:spcPts val="774"/>
              </a:spcBef>
              <a:buClr>
                <a:srgbClr val="ffffff"/>
              </a:buClr>
              <a:buSzPct val="15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Verdana"/>
              </a:rPr>
              <a:t>Seventh Outline Level</a:t>
            </a:r>
            <a:endParaRPr b="0" lang="en-US" sz="3100" spc="-1" strike="noStrike">
              <a:solidFill>
                <a:srgbClr val="ffffcc"/>
              </a:solidFill>
              <a:latin typeface="Verdana"/>
            </a:endParaRPr>
          </a:p>
        </p:txBody>
      </p:sp>
      <p:pic>
        <p:nvPicPr>
          <p:cNvPr id="384" name="" descr=""/>
          <p:cNvPicPr/>
          <p:nvPr/>
        </p:nvPicPr>
        <p:blipFill>
          <a:blip r:embed="rId2">
            <a:lum bright="70000" contrast="-70000"/>
          </a:blip>
          <a:stretch/>
        </p:blipFill>
        <p:spPr>
          <a:xfrm>
            <a:off x="7848720" y="0"/>
            <a:ext cx="1295280" cy="10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grpSp>
        <p:nvGrpSpPr>
          <p:cNvPr id="421" name=""/>
          <p:cNvGrpSpPr/>
          <p:nvPr/>
        </p:nvGrpSpPr>
        <p:grpSpPr>
          <a:xfrm>
            <a:off x="0" y="747720"/>
            <a:ext cx="9144000" cy="6110280"/>
            <a:chOff x="0" y="747720"/>
            <a:chExt cx="9144000" cy="6110280"/>
          </a:xfrm>
        </p:grpSpPr>
        <p:grpSp>
          <p:nvGrpSpPr>
            <p:cNvPr id="422" name=""/>
            <p:cNvGrpSpPr/>
            <p:nvPr/>
          </p:nvGrpSpPr>
          <p:grpSpPr>
            <a:xfrm>
              <a:off x="0" y="747720"/>
              <a:ext cx="9144000" cy="6110280"/>
              <a:chOff x="0" y="747720"/>
              <a:chExt cx="9144000" cy="6110280"/>
            </a:xfrm>
          </p:grpSpPr>
          <p:grpSp>
            <p:nvGrpSpPr>
              <p:cNvPr id="423" name=""/>
              <p:cNvGrpSpPr/>
              <p:nvPr/>
            </p:nvGrpSpPr>
            <p:grpSpPr>
              <a:xfrm>
                <a:off x="325440" y="747720"/>
                <a:ext cx="1492200" cy="1677960"/>
                <a:chOff x="325440" y="747720"/>
                <a:chExt cx="1492200" cy="1677960"/>
              </a:xfrm>
            </p:grpSpPr>
            <p:sp>
              <p:nvSpPr>
                <p:cNvPr id="424" name=""/>
                <p:cNvSpPr/>
                <p:nvPr/>
              </p:nvSpPr>
              <p:spPr>
                <a:xfrm>
                  <a:off x="476280" y="2185920"/>
                  <a:ext cx="392040" cy="219240"/>
                </a:xfrm>
                <a:custGeom>
                  <a:avLst/>
                  <a:gdLst/>
                  <a:ahLst/>
                  <a:rect l="l" t="t" r="r" b="b"/>
                  <a:pathLst>
                    <a:path w="494" h="274">
                      <a:moveTo>
                        <a:pt x="3" y="157"/>
                      </a:moveTo>
                      <a:lnTo>
                        <a:pt x="0" y="188"/>
                      </a:lnTo>
                      <a:lnTo>
                        <a:pt x="79" y="216"/>
                      </a:lnTo>
                      <a:lnTo>
                        <a:pt x="111" y="242"/>
                      </a:lnTo>
                      <a:lnTo>
                        <a:pt x="159" y="251"/>
                      </a:lnTo>
                      <a:lnTo>
                        <a:pt x="189" y="245"/>
                      </a:lnTo>
                      <a:lnTo>
                        <a:pt x="211" y="268"/>
                      </a:lnTo>
                      <a:lnTo>
                        <a:pt x="258" y="274"/>
                      </a:lnTo>
                      <a:lnTo>
                        <a:pt x="314" y="273"/>
                      </a:lnTo>
                      <a:lnTo>
                        <a:pt x="383" y="230"/>
                      </a:lnTo>
                      <a:lnTo>
                        <a:pt x="434" y="234"/>
                      </a:lnTo>
                      <a:lnTo>
                        <a:pt x="494" y="44"/>
                      </a:lnTo>
                      <a:lnTo>
                        <a:pt x="371" y="27"/>
                      </a:lnTo>
                      <a:lnTo>
                        <a:pt x="280" y="0"/>
                      </a:lnTo>
                      <a:lnTo>
                        <a:pt x="231" y="4"/>
                      </a:lnTo>
                      <a:lnTo>
                        <a:pt x="3" y="15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1063800" y="1630440"/>
                  <a:ext cx="514080" cy="349200"/>
                </a:xfrm>
                <a:custGeom>
                  <a:avLst/>
                  <a:gdLst/>
                  <a:ahLst/>
                  <a:rect l="l" t="t" r="r" b="b"/>
                  <a:pathLst>
                    <a:path w="648" h="442">
                      <a:moveTo>
                        <a:pt x="129" y="0"/>
                      </a:moveTo>
                      <a:lnTo>
                        <a:pt x="293" y="144"/>
                      </a:lnTo>
                      <a:lnTo>
                        <a:pt x="486" y="164"/>
                      </a:lnTo>
                      <a:lnTo>
                        <a:pt x="548" y="206"/>
                      </a:lnTo>
                      <a:lnTo>
                        <a:pt x="576" y="233"/>
                      </a:lnTo>
                      <a:lnTo>
                        <a:pt x="599" y="251"/>
                      </a:lnTo>
                      <a:lnTo>
                        <a:pt x="648" y="288"/>
                      </a:lnTo>
                      <a:lnTo>
                        <a:pt x="646" y="324"/>
                      </a:lnTo>
                      <a:lnTo>
                        <a:pt x="617" y="308"/>
                      </a:lnTo>
                      <a:lnTo>
                        <a:pt x="530" y="306"/>
                      </a:lnTo>
                      <a:lnTo>
                        <a:pt x="496" y="311"/>
                      </a:lnTo>
                      <a:lnTo>
                        <a:pt x="528" y="341"/>
                      </a:lnTo>
                      <a:lnTo>
                        <a:pt x="528" y="366"/>
                      </a:lnTo>
                      <a:lnTo>
                        <a:pt x="435" y="341"/>
                      </a:lnTo>
                      <a:lnTo>
                        <a:pt x="324" y="343"/>
                      </a:lnTo>
                      <a:lnTo>
                        <a:pt x="320" y="344"/>
                      </a:lnTo>
                      <a:lnTo>
                        <a:pt x="308" y="347"/>
                      </a:lnTo>
                      <a:lnTo>
                        <a:pt x="291" y="352"/>
                      </a:lnTo>
                      <a:lnTo>
                        <a:pt x="270" y="359"/>
                      </a:lnTo>
                      <a:lnTo>
                        <a:pt x="249" y="370"/>
                      </a:lnTo>
                      <a:lnTo>
                        <a:pt x="228" y="384"/>
                      </a:lnTo>
                      <a:lnTo>
                        <a:pt x="210" y="402"/>
                      </a:lnTo>
                      <a:lnTo>
                        <a:pt x="196" y="423"/>
                      </a:lnTo>
                      <a:lnTo>
                        <a:pt x="115" y="442"/>
                      </a:lnTo>
                      <a:lnTo>
                        <a:pt x="0" y="261"/>
                      </a:lnTo>
                      <a:lnTo>
                        <a:pt x="28" y="142"/>
                      </a:lnTo>
                      <a:lnTo>
                        <a:pt x="88" y="91"/>
                      </a:lnTo>
                      <a:lnTo>
                        <a:pt x="139" y="52"/>
                      </a:lnTo>
                      <a:lnTo>
                        <a:pt x="129"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30120" y="1589040"/>
                  <a:ext cx="1270080" cy="836640"/>
                </a:xfrm>
                <a:custGeom>
                  <a:avLst/>
                  <a:gdLst/>
                  <a:ahLst/>
                  <a:rect l="l" t="t" r="r" b="b"/>
                  <a:pathLst>
                    <a:path w="1599" h="1055">
                      <a:moveTo>
                        <a:pt x="1428" y="0"/>
                      </a:moveTo>
                      <a:lnTo>
                        <a:pt x="1426" y="9"/>
                      </a:lnTo>
                      <a:lnTo>
                        <a:pt x="1423" y="17"/>
                      </a:lnTo>
                      <a:lnTo>
                        <a:pt x="1419" y="24"/>
                      </a:lnTo>
                      <a:lnTo>
                        <a:pt x="1415" y="32"/>
                      </a:lnTo>
                      <a:lnTo>
                        <a:pt x="1409" y="39"/>
                      </a:lnTo>
                      <a:lnTo>
                        <a:pt x="1405" y="47"/>
                      </a:lnTo>
                      <a:lnTo>
                        <a:pt x="1400" y="53"/>
                      </a:lnTo>
                      <a:lnTo>
                        <a:pt x="1397" y="59"/>
                      </a:lnTo>
                      <a:lnTo>
                        <a:pt x="1387" y="72"/>
                      </a:lnTo>
                      <a:lnTo>
                        <a:pt x="1371" y="88"/>
                      </a:lnTo>
                      <a:lnTo>
                        <a:pt x="1353" y="105"/>
                      </a:lnTo>
                      <a:lnTo>
                        <a:pt x="1333" y="123"/>
                      </a:lnTo>
                      <a:lnTo>
                        <a:pt x="1314" y="140"/>
                      </a:lnTo>
                      <a:lnTo>
                        <a:pt x="1297" y="155"/>
                      </a:lnTo>
                      <a:lnTo>
                        <a:pt x="1283" y="168"/>
                      </a:lnTo>
                      <a:lnTo>
                        <a:pt x="1277" y="177"/>
                      </a:lnTo>
                      <a:lnTo>
                        <a:pt x="1292" y="183"/>
                      </a:lnTo>
                      <a:lnTo>
                        <a:pt x="1308" y="189"/>
                      </a:lnTo>
                      <a:lnTo>
                        <a:pt x="1323" y="193"/>
                      </a:lnTo>
                      <a:lnTo>
                        <a:pt x="1340" y="197"/>
                      </a:lnTo>
                      <a:lnTo>
                        <a:pt x="1357" y="200"/>
                      </a:lnTo>
                      <a:lnTo>
                        <a:pt x="1374" y="204"/>
                      </a:lnTo>
                      <a:lnTo>
                        <a:pt x="1391" y="207"/>
                      </a:lnTo>
                      <a:lnTo>
                        <a:pt x="1407" y="210"/>
                      </a:lnTo>
                      <a:lnTo>
                        <a:pt x="1423" y="215"/>
                      </a:lnTo>
                      <a:lnTo>
                        <a:pt x="1438" y="221"/>
                      </a:lnTo>
                      <a:lnTo>
                        <a:pt x="1452" y="227"/>
                      </a:lnTo>
                      <a:lnTo>
                        <a:pt x="1464" y="234"/>
                      </a:lnTo>
                      <a:lnTo>
                        <a:pt x="1476" y="244"/>
                      </a:lnTo>
                      <a:lnTo>
                        <a:pt x="1486" y="255"/>
                      </a:lnTo>
                      <a:lnTo>
                        <a:pt x="1493" y="269"/>
                      </a:lnTo>
                      <a:lnTo>
                        <a:pt x="1499" y="285"/>
                      </a:lnTo>
                      <a:lnTo>
                        <a:pt x="1515" y="288"/>
                      </a:lnTo>
                      <a:lnTo>
                        <a:pt x="1530" y="293"/>
                      </a:lnTo>
                      <a:lnTo>
                        <a:pt x="1545" y="299"/>
                      </a:lnTo>
                      <a:lnTo>
                        <a:pt x="1559" y="306"/>
                      </a:lnTo>
                      <a:lnTo>
                        <a:pt x="1571" y="315"/>
                      </a:lnTo>
                      <a:lnTo>
                        <a:pt x="1582" y="326"/>
                      </a:lnTo>
                      <a:lnTo>
                        <a:pt x="1589" y="339"/>
                      </a:lnTo>
                      <a:lnTo>
                        <a:pt x="1595" y="354"/>
                      </a:lnTo>
                      <a:lnTo>
                        <a:pt x="1595" y="370"/>
                      </a:lnTo>
                      <a:lnTo>
                        <a:pt x="1593" y="383"/>
                      </a:lnTo>
                      <a:lnTo>
                        <a:pt x="1587" y="394"/>
                      </a:lnTo>
                      <a:lnTo>
                        <a:pt x="1580" y="403"/>
                      </a:lnTo>
                      <a:lnTo>
                        <a:pt x="1574" y="404"/>
                      </a:lnTo>
                      <a:lnTo>
                        <a:pt x="1567" y="406"/>
                      </a:lnTo>
                      <a:lnTo>
                        <a:pt x="1562" y="406"/>
                      </a:lnTo>
                      <a:lnTo>
                        <a:pt x="1557" y="403"/>
                      </a:lnTo>
                      <a:lnTo>
                        <a:pt x="1557" y="394"/>
                      </a:lnTo>
                      <a:lnTo>
                        <a:pt x="1556" y="386"/>
                      </a:lnTo>
                      <a:lnTo>
                        <a:pt x="1552" y="378"/>
                      </a:lnTo>
                      <a:lnTo>
                        <a:pt x="1548" y="374"/>
                      </a:lnTo>
                      <a:lnTo>
                        <a:pt x="1534" y="373"/>
                      </a:lnTo>
                      <a:lnTo>
                        <a:pt x="1521" y="371"/>
                      </a:lnTo>
                      <a:lnTo>
                        <a:pt x="1508" y="368"/>
                      </a:lnTo>
                      <a:lnTo>
                        <a:pt x="1494" y="366"/>
                      </a:lnTo>
                      <a:lnTo>
                        <a:pt x="1480" y="365"/>
                      </a:lnTo>
                      <a:lnTo>
                        <a:pt x="1468" y="365"/>
                      </a:lnTo>
                      <a:lnTo>
                        <a:pt x="1455" y="366"/>
                      </a:lnTo>
                      <a:lnTo>
                        <a:pt x="1442" y="370"/>
                      </a:lnTo>
                      <a:lnTo>
                        <a:pt x="1451" y="377"/>
                      </a:lnTo>
                      <a:lnTo>
                        <a:pt x="1460" y="385"/>
                      </a:lnTo>
                      <a:lnTo>
                        <a:pt x="1469" y="392"/>
                      </a:lnTo>
                      <a:lnTo>
                        <a:pt x="1478" y="399"/>
                      </a:lnTo>
                      <a:lnTo>
                        <a:pt x="1489" y="405"/>
                      </a:lnTo>
                      <a:lnTo>
                        <a:pt x="1498" y="411"/>
                      </a:lnTo>
                      <a:lnTo>
                        <a:pt x="1509" y="416"/>
                      </a:lnTo>
                      <a:lnTo>
                        <a:pt x="1521" y="420"/>
                      </a:lnTo>
                      <a:lnTo>
                        <a:pt x="1523" y="426"/>
                      </a:lnTo>
                      <a:lnTo>
                        <a:pt x="1524" y="431"/>
                      </a:lnTo>
                      <a:lnTo>
                        <a:pt x="1523" y="437"/>
                      </a:lnTo>
                      <a:lnTo>
                        <a:pt x="1521" y="443"/>
                      </a:lnTo>
                      <a:lnTo>
                        <a:pt x="1499" y="439"/>
                      </a:lnTo>
                      <a:lnTo>
                        <a:pt x="1478" y="434"/>
                      </a:lnTo>
                      <a:lnTo>
                        <a:pt x="1456" y="428"/>
                      </a:lnTo>
                      <a:lnTo>
                        <a:pt x="1435" y="422"/>
                      </a:lnTo>
                      <a:lnTo>
                        <a:pt x="1412" y="417"/>
                      </a:lnTo>
                      <a:lnTo>
                        <a:pt x="1390" y="411"/>
                      </a:lnTo>
                      <a:lnTo>
                        <a:pt x="1368" y="407"/>
                      </a:lnTo>
                      <a:lnTo>
                        <a:pt x="1347" y="404"/>
                      </a:lnTo>
                      <a:lnTo>
                        <a:pt x="1325" y="402"/>
                      </a:lnTo>
                      <a:lnTo>
                        <a:pt x="1303" y="401"/>
                      </a:lnTo>
                      <a:lnTo>
                        <a:pt x="1282" y="401"/>
                      </a:lnTo>
                      <a:lnTo>
                        <a:pt x="1262" y="403"/>
                      </a:lnTo>
                      <a:lnTo>
                        <a:pt x="1241" y="408"/>
                      </a:lnTo>
                      <a:lnTo>
                        <a:pt x="1222" y="414"/>
                      </a:lnTo>
                      <a:lnTo>
                        <a:pt x="1203" y="424"/>
                      </a:lnTo>
                      <a:lnTo>
                        <a:pt x="1184" y="437"/>
                      </a:lnTo>
                      <a:lnTo>
                        <a:pt x="1174" y="442"/>
                      </a:lnTo>
                      <a:lnTo>
                        <a:pt x="1166" y="448"/>
                      </a:lnTo>
                      <a:lnTo>
                        <a:pt x="1156" y="457"/>
                      </a:lnTo>
                      <a:lnTo>
                        <a:pt x="1149" y="466"/>
                      </a:lnTo>
                      <a:lnTo>
                        <a:pt x="1141" y="477"/>
                      </a:lnTo>
                      <a:lnTo>
                        <a:pt x="1136" y="489"/>
                      </a:lnTo>
                      <a:lnTo>
                        <a:pt x="1134" y="500"/>
                      </a:lnTo>
                      <a:lnTo>
                        <a:pt x="1133" y="513"/>
                      </a:lnTo>
                      <a:lnTo>
                        <a:pt x="1130" y="514"/>
                      </a:lnTo>
                      <a:lnTo>
                        <a:pt x="1126" y="514"/>
                      </a:lnTo>
                      <a:lnTo>
                        <a:pt x="1123" y="514"/>
                      </a:lnTo>
                      <a:lnTo>
                        <a:pt x="1119" y="513"/>
                      </a:lnTo>
                      <a:lnTo>
                        <a:pt x="1108" y="498"/>
                      </a:lnTo>
                      <a:lnTo>
                        <a:pt x="1098" y="505"/>
                      </a:lnTo>
                      <a:lnTo>
                        <a:pt x="1095" y="516"/>
                      </a:lnTo>
                      <a:lnTo>
                        <a:pt x="1090" y="528"/>
                      </a:lnTo>
                      <a:lnTo>
                        <a:pt x="1085" y="539"/>
                      </a:lnTo>
                      <a:lnTo>
                        <a:pt x="1081" y="551"/>
                      </a:lnTo>
                      <a:lnTo>
                        <a:pt x="1079" y="563"/>
                      </a:lnTo>
                      <a:lnTo>
                        <a:pt x="1078" y="576"/>
                      </a:lnTo>
                      <a:lnTo>
                        <a:pt x="1080" y="588"/>
                      </a:lnTo>
                      <a:lnTo>
                        <a:pt x="1085" y="601"/>
                      </a:lnTo>
                      <a:lnTo>
                        <a:pt x="1092" y="603"/>
                      </a:lnTo>
                      <a:lnTo>
                        <a:pt x="1100" y="605"/>
                      </a:lnTo>
                      <a:lnTo>
                        <a:pt x="1107" y="607"/>
                      </a:lnTo>
                      <a:lnTo>
                        <a:pt x="1114" y="610"/>
                      </a:lnTo>
                      <a:lnTo>
                        <a:pt x="1120" y="614"/>
                      </a:lnTo>
                      <a:lnTo>
                        <a:pt x="1126" y="617"/>
                      </a:lnTo>
                      <a:lnTo>
                        <a:pt x="1133" y="621"/>
                      </a:lnTo>
                      <a:lnTo>
                        <a:pt x="1139" y="625"/>
                      </a:lnTo>
                      <a:lnTo>
                        <a:pt x="1143" y="637"/>
                      </a:lnTo>
                      <a:lnTo>
                        <a:pt x="1144" y="650"/>
                      </a:lnTo>
                      <a:lnTo>
                        <a:pt x="1145" y="663"/>
                      </a:lnTo>
                      <a:lnTo>
                        <a:pt x="1150" y="675"/>
                      </a:lnTo>
                      <a:lnTo>
                        <a:pt x="1145" y="681"/>
                      </a:lnTo>
                      <a:lnTo>
                        <a:pt x="1141" y="688"/>
                      </a:lnTo>
                      <a:lnTo>
                        <a:pt x="1137" y="691"/>
                      </a:lnTo>
                      <a:lnTo>
                        <a:pt x="1131" y="689"/>
                      </a:lnTo>
                      <a:lnTo>
                        <a:pt x="1127" y="680"/>
                      </a:lnTo>
                      <a:lnTo>
                        <a:pt x="1124" y="671"/>
                      </a:lnTo>
                      <a:lnTo>
                        <a:pt x="1119" y="662"/>
                      </a:lnTo>
                      <a:lnTo>
                        <a:pt x="1109" y="657"/>
                      </a:lnTo>
                      <a:lnTo>
                        <a:pt x="1103" y="657"/>
                      </a:lnTo>
                      <a:lnTo>
                        <a:pt x="1099" y="659"/>
                      </a:lnTo>
                      <a:lnTo>
                        <a:pt x="1093" y="660"/>
                      </a:lnTo>
                      <a:lnTo>
                        <a:pt x="1090" y="663"/>
                      </a:lnTo>
                      <a:lnTo>
                        <a:pt x="1086" y="667"/>
                      </a:lnTo>
                      <a:lnTo>
                        <a:pt x="1083" y="670"/>
                      </a:lnTo>
                      <a:lnTo>
                        <a:pt x="1080" y="674"/>
                      </a:lnTo>
                      <a:lnTo>
                        <a:pt x="1075" y="678"/>
                      </a:lnTo>
                      <a:lnTo>
                        <a:pt x="1081" y="694"/>
                      </a:lnTo>
                      <a:lnTo>
                        <a:pt x="1087" y="710"/>
                      </a:lnTo>
                      <a:lnTo>
                        <a:pt x="1095" y="725"/>
                      </a:lnTo>
                      <a:lnTo>
                        <a:pt x="1102" y="740"/>
                      </a:lnTo>
                      <a:lnTo>
                        <a:pt x="1110" y="755"/>
                      </a:lnTo>
                      <a:lnTo>
                        <a:pt x="1120" y="768"/>
                      </a:lnTo>
                      <a:lnTo>
                        <a:pt x="1131" y="782"/>
                      </a:lnTo>
                      <a:lnTo>
                        <a:pt x="1141" y="794"/>
                      </a:lnTo>
                      <a:lnTo>
                        <a:pt x="1153" y="807"/>
                      </a:lnTo>
                      <a:lnTo>
                        <a:pt x="1166" y="817"/>
                      </a:lnTo>
                      <a:lnTo>
                        <a:pt x="1179" y="827"/>
                      </a:lnTo>
                      <a:lnTo>
                        <a:pt x="1194" y="836"/>
                      </a:lnTo>
                      <a:lnTo>
                        <a:pt x="1209" y="844"/>
                      </a:lnTo>
                      <a:lnTo>
                        <a:pt x="1226" y="850"/>
                      </a:lnTo>
                      <a:lnTo>
                        <a:pt x="1243" y="855"/>
                      </a:lnTo>
                      <a:lnTo>
                        <a:pt x="1262" y="860"/>
                      </a:lnTo>
                      <a:lnTo>
                        <a:pt x="1272" y="860"/>
                      </a:lnTo>
                      <a:lnTo>
                        <a:pt x="1281" y="858"/>
                      </a:lnTo>
                      <a:lnTo>
                        <a:pt x="1290" y="856"/>
                      </a:lnTo>
                      <a:lnTo>
                        <a:pt x="1298" y="854"/>
                      </a:lnTo>
                      <a:lnTo>
                        <a:pt x="1307" y="852"/>
                      </a:lnTo>
                      <a:lnTo>
                        <a:pt x="1314" y="849"/>
                      </a:lnTo>
                      <a:lnTo>
                        <a:pt x="1320" y="846"/>
                      </a:lnTo>
                      <a:lnTo>
                        <a:pt x="1325" y="843"/>
                      </a:lnTo>
                      <a:lnTo>
                        <a:pt x="1328" y="834"/>
                      </a:lnTo>
                      <a:lnTo>
                        <a:pt x="1331" y="827"/>
                      </a:lnTo>
                      <a:lnTo>
                        <a:pt x="1335" y="820"/>
                      </a:lnTo>
                      <a:lnTo>
                        <a:pt x="1340" y="814"/>
                      </a:lnTo>
                      <a:lnTo>
                        <a:pt x="1346" y="809"/>
                      </a:lnTo>
                      <a:lnTo>
                        <a:pt x="1352" y="803"/>
                      </a:lnTo>
                      <a:lnTo>
                        <a:pt x="1359" y="798"/>
                      </a:lnTo>
                      <a:lnTo>
                        <a:pt x="1367" y="794"/>
                      </a:lnTo>
                      <a:lnTo>
                        <a:pt x="1376" y="791"/>
                      </a:lnTo>
                      <a:lnTo>
                        <a:pt x="1386" y="792"/>
                      </a:lnTo>
                      <a:lnTo>
                        <a:pt x="1393" y="795"/>
                      </a:lnTo>
                      <a:lnTo>
                        <a:pt x="1402" y="798"/>
                      </a:lnTo>
                      <a:lnTo>
                        <a:pt x="1408" y="802"/>
                      </a:lnTo>
                      <a:lnTo>
                        <a:pt x="1416" y="802"/>
                      </a:lnTo>
                      <a:lnTo>
                        <a:pt x="1422" y="799"/>
                      </a:lnTo>
                      <a:lnTo>
                        <a:pt x="1429" y="791"/>
                      </a:lnTo>
                      <a:lnTo>
                        <a:pt x="1439" y="781"/>
                      </a:lnTo>
                      <a:lnTo>
                        <a:pt x="1449" y="772"/>
                      </a:lnTo>
                      <a:lnTo>
                        <a:pt x="1458" y="762"/>
                      </a:lnTo>
                      <a:lnTo>
                        <a:pt x="1469" y="752"/>
                      </a:lnTo>
                      <a:lnTo>
                        <a:pt x="1478" y="744"/>
                      </a:lnTo>
                      <a:lnTo>
                        <a:pt x="1490" y="738"/>
                      </a:lnTo>
                      <a:lnTo>
                        <a:pt x="1503" y="732"/>
                      </a:lnTo>
                      <a:lnTo>
                        <a:pt x="1517" y="730"/>
                      </a:lnTo>
                      <a:lnTo>
                        <a:pt x="1526" y="732"/>
                      </a:lnTo>
                      <a:lnTo>
                        <a:pt x="1533" y="734"/>
                      </a:lnTo>
                      <a:lnTo>
                        <a:pt x="1541" y="738"/>
                      </a:lnTo>
                      <a:lnTo>
                        <a:pt x="1548" y="741"/>
                      </a:lnTo>
                      <a:lnTo>
                        <a:pt x="1554" y="745"/>
                      </a:lnTo>
                      <a:lnTo>
                        <a:pt x="1560" y="750"/>
                      </a:lnTo>
                      <a:lnTo>
                        <a:pt x="1564" y="757"/>
                      </a:lnTo>
                      <a:lnTo>
                        <a:pt x="1567" y="764"/>
                      </a:lnTo>
                      <a:lnTo>
                        <a:pt x="1574" y="766"/>
                      </a:lnTo>
                      <a:lnTo>
                        <a:pt x="1580" y="767"/>
                      </a:lnTo>
                      <a:lnTo>
                        <a:pt x="1584" y="771"/>
                      </a:lnTo>
                      <a:lnTo>
                        <a:pt x="1589" y="773"/>
                      </a:lnTo>
                      <a:lnTo>
                        <a:pt x="1593" y="777"/>
                      </a:lnTo>
                      <a:lnTo>
                        <a:pt x="1596" y="781"/>
                      </a:lnTo>
                      <a:lnTo>
                        <a:pt x="1598" y="787"/>
                      </a:lnTo>
                      <a:lnTo>
                        <a:pt x="1599" y="794"/>
                      </a:lnTo>
                      <a:lnTo>
                        <a:pt x="1594" y="821"/>
                      </a:lnTo>
                      <a:lnTo>
                        <a:pt x="1587" y="840"/>
                      </a:lnTo>
                      <a:lnTo>
                        <a:pt x="1579" y="852"/>
                      </a:lnTo>
                      <a:lnTo>
                        <a:pt x="1571" y="857"/>
                      </a:lnTo>
                      <a:lnTo>
                        <a:pt x="1563" y="860"/>
                      </a:lnTo>
                      <a:lnTo>
                        <a:pt x="1557" y="858"/>
                      </a:lnTo>
                      <a:lnTo>
                        <a:pt x="1552" y="857"/>
                      </a:lnTo>
                      <a:lnTo>
                        <a:pt x="1550" y="856"/>
                      </a:lnTo>
                      <a:lnTo>
                        <a:pt x="1553" y="846"/>
                      </a:lnTo>
                      <a:lnTo>
                        <a:pt x="1557" y="834"/>
                      </a:lnTo>
                      <a:lnTo>
                        <a:pt x="1557" y="824"/>
                      </a:lnTo>
                      <a:lnTo>
                        <a:pt x="1550" y="814"/>
                      </a:lnTo>
                      <a:lnTo>
                        <a:pt x="1543" y="810"/>
                      </a:lnTo>
                      <a:lnTo>
                        <a:pt x="1535" y="811"/>
                      </a:lnTo>
                      <a:lnTo>
                        <a:pt x="1528" y="813"/>
                      </a:lnTo>
                      <a:lnTo>
                        <a:pt x="1521" y="815"/>
                      </a:lnTo>
                      <a:lnTo>
                        <a:pt x="1512" y="814"/>
                      </a:lnTo>
                      <a:lnTo>
                        <a:pt x="1504" y="815"/>
                      </a:lnTo>
                      <a:lnTo>
                        <a:pt x="1496" y="816"/>
                      </a:lnTo>
                      <a:lnTo>
                        <a:pt x="1489" y="818"/>
                      </a:lnTo>
                      <a:lnTo>
                        <a:pt x="1482" y="821"/>
                      </a:lnTo>
                      <a:lnTo>
                        <a:pt x="1475" y="826"/>
                      </a:lnTo>
                      <a:lnTo>
                        <a:pt x="1468" y="830"/>
                      </a:lnTo>
                      <a:lnTo>
                        <a:pt x="1460" y="834"/>
                      </a:lnTo>
                      <a:lnTo>
                        <a:pt x="1461" y="850"/>
                      </a:lnTo>
                      <a:lnTo>
                        <a:pt x="1468" y="862"/>
                      </a:lnTo>
                      <a:lnTo>
                        <a:pt x="1474" y="873"/>
                      </a:lnTo>
                      <a:lnTo>
                        <a:pt x="1476" y="887"/>
                      </a:lnTo>
                      <a:lnTo>
                        <a:pt x="1479" y="907"/>
                      </a:lnTo>
                      <a:lnTo>
                        <a:pt x="1479" y="929"/>
                      </a:lnTo>
                      <a:lnTo>
                        <a:pt x="1475" y="950"/>
                      </a:lnTo>
                      <a:lnTo>
                        <a:pt x="1467" y="967"/>
                      </a:lnTo>
                      <a:lnTo>
                        <a:pt x="1462" y="970"/>
                      </a:lnTo>
                      <a:lnTo>
                        <a:pt x="1458" y="973"/>
                      </a:lnTo>
                      <a:lnTo>
                        <a:pt x="1454" y="976"/>
                      </a:lnTo>
                      <a:lnTo>
                        <a:pt x="1450" y="978"/>
                      </a:lnTo>
                      <a:lnTo>
                        <a:pt x="1445" y="980"/>
                      </a:lnTo>
                      <a:lnTo>
                        <a:pt x="1440" y="982"/>
                      </a:lnTo>
                      <a:lnTo>
                        <a:pt x="1435" y="982"/>
                      </a:lnTo>
                      <a:lnTo>
                        <a:pt x="1429" y="982"/>
                      </a:lnTo>
                      <a:lnTo>
                        <a:pt x="1430" y="971"/>
                      </a:lnTo>
                      <a:lnTo>
                        <a:pt x="1437" y="960"/>
                      </a:lnTo>
                      <a:lnTo>
                        <a:pt x="1442" y="949"/>
                      </a:lnTo>
                      <a:lnTo>
                        <a:pt x="1438" y="935"/>
                      </a:lnTo>
                      <a:lnTo>
                        <a:pt x="1428" y="929"/>
                      </a:lnTo>
                      <a:lnTo>
                        <a:pt x="1422" y="924"/>
                      </a:lnTo>
                      <a:lnTo>
                        <a:pt x="1415" y="918"/>
                      </a:lnTo>
                      <a:lnTo>
                        <a:pt x="1408" y="910"/>
                      </a:lnTo>
                      <a:lnTo>
                        <a:pt x="1404" y="911"/>
                      </a:lnTo>
                      <a:lnTo>
                        <a:pt x="1397" y="913"/>
                      </a:lnTo>
                      <a:lnTo>
                        <a:pt x="1391" y="917"/>
                      </a:lnTo>
                      <a:lnTo>
                        <a:pt x="1391" y="925"/>
                      </a:lnTo>
                      <a:lnTo>
                        <a:pt x="1393" y="933"/>
                      </a:lnTo>
                      <a:lnTo>
                        <a:pt x="1400" y="936"/>
                      </a:lnTo>
                      <a:lnTo>
                        <a:pt x="1407" y="939"/>
                      </a:lnTo>
                      <a:lnTo>
                        <a:pt x="1414" y="943"/>
                      </a:lnTo>
                      <a:lnTo>
                        <a:pt x="1425" y="943"/>
                      </a:lnTo>
                      <a:lnTo>
                        <a:pt x="1421" y="954"/>
                      </a:lnTo>
                      <a:lnTo>
                        <a:pt x="1416" y="964"/>
                      </a:lnTo>
                      <a:lnTo>
                        <a:pt x="1408" y="973"/>
                      </a:lnTo>
                      <a:lnTo>
                        <a:pt x="1397" y="976"/>
                      </a:lnTo>
                      <a:lnTo>
                        <a:pt x="1386" y="975"/>
                      </a:lnTo>
                      <a:lnTo>
                        <a:pt x="1376" y="971"/>
                      </a:lnTo>
                      <a:lnTo>
                        <a:pt x="1367" y="963"/>
                      </a:lnTo>
                      <a:lnTo>
                        <a:pt x="1356" y="956"/>
                      </a:lnTo>
                      <a:lnTo>
                        <a:pt x="1347" y="950"/>
                      </a:lnTo>
                      <a:lnTo>
                        <a:pt x="1335" y="945"/>
                      </a:lnTo>
                      <a:lnTo>
                        <a:pt x="1321" y="945"/>
                      </a:lnTo>
                      <a:lnTo>
                        <a:pt x="1307" y="952"/>
                      </a:lnTo>
                      <a:lnTo>
                        <a:pt x="1296" y="958"/>
                      </a:lnTo>
                      <a:lnTo>
                        <a:pt x="1287" y="968"/>
                      </a:lnTo>
                      <a:lnTo>
                        <a:pt x="1282" y="980"/>
                      </a:lnTo>
                      <a:lnTo>
                        <a:pt x="1279" y="992"/>
                      </a:lnTo>
                      <a:lnTo>
                        <a:pt x="1278" y="1005"/>
                      </a:lnTo>
                      <a:lnTo>
                        <a:pt x="1280" y="1015"/>
                      </a:lnTo>
                      <a:lnTo>
                        <a:pt x="1285" y="1024"/>
                      </a:lnTo>
                      <a:lnTo>
                        <a:pt x="1294" y="1027"/>
                      </a:lnTo>
                      <a:lnTo>
                        <a:pt x="1300" y="1024"/>
                      </a:lnTo>
                      <a:lnTo>
                        <a:pt x="1308" y="1024"/>
                      </a:lnTo>
                      <a:lnTo>
                        <a:pt x="1314" y="1027"/>
                      </a:lnTo>
                      <a:lnTo>
                        <a:pt x="1317" y="1032"/>
                      </a:lnTo>
                      <a:lnTo>
                        <a:pt x="1318" y="1043"/>
                      </a:lnTo>
                      <a:lnTo>
                        <a:pt x="1314" y="1048"/>
                      </a:lnTo>
                      <a:lnTo>
                        <a:pt x="1307" y="1051"/>
                      </a:lnTo>
                      <a:lnTo>
                        <a:pt x="1298" y="1052"/>
                      </a:lnTo>
                      <a:lnTo>
                        <a:pt x="1273" y="1053"/>
                      </a:lnTo>
                      <a:lnTo>
                        <a:pt x="1252" y="1050"/>
                      </a:lnTo>
                      <a:lnTo>
                        <a:pt x="1237" y="1043"/>
                      </a:lnTo>
                      <a:lnTo>
                        <a:pt x="1225" y="1033"/>
                      </a:lnTo>
                      <a:lnTo>
                        <a:pt x="1215" y="1023"/>
                      </a:lnTo>
                      <a:lnTo>
                        <a:pt x="1209" y="1010"/>
                      </a:lnTo>
                      <a:lnTo>
                        <a:pt x="1206" y="999"/>
                      </a:lnTo>
                      <a:lnTo>
                        <a:pt x="1204" y="989"/>
                      </a:lnTo>
                      <a:lnTo>
                        <a:pt x="1206" y="978"/>
                      </a:lnTo>
                      <a:lnTo>
                        <a:pt x="1208" y="968"/>
                      </a:lnTo>
                      <a:lnTo>
                        <a:pt x="1211" y="958"/>
                      </a:lnTo>
                      <a:lnTo>
                        <a:pt x="1215" y="949"/>
                      </a:lnTo>
                      <a:lnTo>
                        <a:pt x="1222" y="941"/>
                      </a:lnTo>
                      <a:lnTo>
                        <a:pt x="1228" y="934"/>
                      </a:lnTo>
                      <a:lnTo>
                        <a:pt x="1237" y="927"/>
                      </a:lnTo>
                      <a:lnTo>
                        <a:pt x="1246" y="922"/>
                      </a:lnTo>
                      <a:lnTo>
                        <a:pt x="1240" y="917"/>
                      </a:lnTo>
                      <a:lnTo>
                        <a:pt x="1232" y="913"/>
                      </a:lnTo>
                      <a:lnTo>
                        <a:pt x="1223" y="908"/>
                      </a:lnTo>
                      <a:lnTo>
                        <a:pt x="1213" y="905"/>
                      </a:lnTo>
                      <a:lnTo>
                        <a:pt x="1202" y="903"/>
                      </a:lnTo>
                      <a:lnTo>
                        <a:pt x="1191" y="900"/>
                      </a:lnTo>
                      <a:lnTo>
                        <a:pt x="1179" y="897"/>
                      </a:lnTo>
                      <a:lnTo>
                        <a:pt x="1170" y="893"/>
                      </a:lnTo>
                      <a:lnTo>
                        <a:pt x="1166" y="895"/>
                      </a:lnTo>
                      <a:lnTo>
                        <a:pt x="1163" y="899"/>
                      </a:lnTo>
                      <a:lnTo>
                        <a:pt x="1162" y="903"/>
                      </a:lnTo>
                      <a:lnTo>
                        <a:pt x="1159" y="906"/>
                      </a:lnTo>
                      <a:lnTo>
                        <a:pt x="1136" y="901"/>
                      </a:lnTo>
                      <a:lnTo>
                        <a:pt x="1136" y="907"/>
                      </a:lnTo>
                      <a:lnTo>
                        <a:pt x="1135" y="914"/>
                      </a:lnTo>
                      <a:lnTo>
                        <a:pt x="1133" y="921"/>
                      </a:lnTo>
                      <a:lnTo>
                        <a:pt x="1130" y="925"/>
                      </a:lnTo>
                      <a:lnTo>
                        <a:pt x="1122" y="928"/>
                      </a:lnTo>
                      <a:lnTo>
                        <a:pt x="1114" y="928"/>
                      </a:lnTo>
                      <a:lnTo>
                        <a:pt x="1104" y="928"/>
                      </a:lnTo>
                      <a:lnTo>
                        <a:pt x="1096" y="927"/>
                      </a:lnTo>
                      <a:lnTo>
                        <a:pt x="1086" y="926"/>
                      </a:lnTo>
                      <a:lnTo>
                        <a:pt x="1079" y="928"/>
                      </a:lnTo>
                      <a:lnTo>
                        <a:pt x="1073" y="933"/>
                      </a:lnTo>
                      <a:lnTo>
                        <a:pt x="1070" y="942"/>
                      </a:lnTo>
                      <a:lnTo>
                        <a:pt x="1063" y="949"/>
                      </a:lnTo>
                      <a:lnTo>
                        <a:pt x="1054" y="951"/>
                      </a:lnTo>
                      <a:lnTo>
                        <a:pt x="1045" y="952"/>
                      </a:lnTo>
                      <a:lnTo>
                        <a:pt x="1035" y="950"/>
                      </a:lnTo>
                      <a:lnTo>
                        <a:pt x="1026" y="946"/>
                      </a:lnTo>
                      <a:lnTo>
                        <a:pt x="1016" y="943"/>
                      </a:lnTo>
                      <a:lnTo>
                        <a:pt x="1007" y="939"/>
                      </a:lnTo>
                      <a:lnTo>
                        <a:pt x="997" y="936"/>
                      </a:lnTo>
                      <a:lnTo>
                        <a:pt x="991" y="931"/>
                      </a:lnTo>
                      <a:lnTo>
                        <a:pt x="984" y="928"/>
                      </a:lnTo>
                      <a:lnTo>
                        <a:pt x="977" y="928"/>
                      </a:lnTo>
                      <a:lnTo>
                        <a:pt x="970" y="931"/>
                      </a:lnTo>
                      <a:lnTo>
                        <a:pt x="962" y="933"/>
                      </a:lnTo>
                      <a:lnTo>
                        <a:pt x="955" y="935"/>
                      </a:lnTo>
                      <a:lnTo>
                        <a:pt x="947" y="936"/>
                      </a:lnTo>
                      <a:lnTo>
                        <a:pt x="940" y="934"/>
                      </a:lnTo>
                      <a:lnTo>
                        <a:pt x="933" y="931"/>
                      </a:lnTo>
                      <a:lnTo>
                        <a:pt x="926" y="928"/>
                      </a:lnTo>
                      <a:lnTo>
                        <a:pt x="920" y="925"/>
                      </a:lnTo>
                      <a:lnTo>
                        <a:pt x="913" y="922"/>
                      </a:lnTo>
                      <a:lnTo>
                        <a:pt x="907" y="919"/>
                      </a:lnTo>
                      <a:lnTo>
                        <a:pt x="902" y="915"/>
                      </a:lnTo>
                      <a:lnTo>
                        <a:pt x="899" y="909"/>
                      </a:lnTo>
                      <a:lnTo>
                        <a:pt x="895" y="903"/>
                      </a:lnTo>
                      <a:lnTo>
                        <a:pt x="894" y="893"/>
                      </a:lnTo>
                      <a:lnTo>
                        <a:pt x="895" y="882"/>
                      </a:lnTo>
                      <a:lnTo>
                        <a:pt x="894" y="873"/>
                      </a:lnTo>
                      <a:lnTo>
                        <a:pt x="888" y="869"/>
                      </a:lnTo>
                      <a:lnTo>
                        <a:pt x="883" y="897"/>
                      </a:lnTo>
                      <a:lnTo>
                        <a:pt x="877" y="897"/>
                      </a:lnTo>
                      <a:lnTo>
                        <a:pt x="873" y="896"/>
                      </a:lnTo>
                      <a:lnTo>
                        <a:pt x="868" y="893"/>
                      </a:lnTo>
                      <a:lnTo>
                        <a:pt x="865" y="891"/>
                      </a:lnTo>
                      <a:lnTo>
                        <a:pt x="860" y="889"/>
                      </a:lnTo>
                      <a:lnTo>
                        <a:pt x="857" y="886"/>
                      </a:lnTo>
                      <a:lnTo>
                        <a:pt x="853" y="883"/>
                      </a:lnTo>
                      <a:lnTo>
                        <a:pt x="850" y="880"/>
                      </a:lnTo>
                      <a:lnTo>
                        <a:pt x="846" y="834"/>
                      </a:lnTo>
                      <a:lnTo>
                        <a:pt x="824" y="856"/>
                      </a:lnTo>
                      <a:lnTo>
                        <a:pt x="818" y="853"/>
                      </a:lnTo>
                      <a:lnTo>
                        <a:pt x="812" y="847"/>
                      </a:lnTo>
                      <a:lnTo>
                        <a:pt x="806" y="844"/>
                      </a:lnTo>
                      <a:lnTo>
                        <a:pt x="798" y="847"/>
                      </a:lnTo>
                      <a:lnTo>
                        <a:pt x="795" y="854"/>
                      </a:lnTo>
                      <a:lnTo>
                        <a:pt x="794" y="862"/>
                      </a:lnTo>
                      <a:lnTo>
                        <a:pt x="794" y="870"/>
                      </a:lnTo>
                      <a:lnTo>
                        <a:pt x="794" y="879"/>
                      </a:lnTo>
                      <a:lnTo>
                        <a:pt x="799" y="884"/>
                      </a:lnTo>
                      <a:lnTo>
                        <a:pt x="804" y="888"/>
                      </a:lnTo>
                      <a:lnTo>
                        <a:pt x="808" y="891"/>
                      </a:lnTo>
                      <a:lnTo>
                        <a:pt x="808" y="898"/>
                      </a:lnTo>
                      <a:lnTo>
                        <a:pt x="802" y="897"/>
                      </a:lnTo>
                      <a:lnTo>
                        <a:pt x="795" y="896"/>
                      </a:lnTo>
                      <a:lnTo>
                        <a:pt x="787" y="895"/>
                      </a:lnTo>
                      <a:lnTo>
                        <a:pt x="780" y="893"/>
                      </a:lnTo>
                      <a:lnTo>
                        <a:pt x="773" y="890"/>
                      </a:lnTo>
                      <a:lnTo>
                        <a:pt x="768" y="887"/>
                      </a:lnTo>
                      <a:lnTo>
                        <a:pt x="763" y="881"/>
                      </a:lnTo>
                      <a:lnTo>
                        <a:pt x="761" y="873"/>
                      </a:lnTo>
                      <a:lnTo>
                        <a:pt x="761" y="851"/>
                      </a:lnTo>
                      <a:lnTo>
                        <a:pt x="757" y="831"/>
                      </a:lnTo>
                      <a:lnTo>
                        <a:pt x="755" y="813"/>
                      </a:lnTo>
                      <a:lnTo>
                        <a:pt x="766" y="795"/>
                      </a:lnTo>
                      <a:lnTo>
                        <a:pt x="768" y="789"/>
                      </a:lnTo>
                      <a:lnTo>
                        <a:pt x="771" y="782"/>
                      </a:lnTo>
                      <a:lnTo>
                        <a:pt x="772" y="777"/>
                      </a:lnTo>
                      <a:lnTo>
                        <a:pt x="769" y="771"/>
                      </a:lnTo>
                      <a:lnTo>
                        <a:pt x="760" y="773"/>
                      </a:lnTo>
                      <a:lnTo>
                        <a:pt x="750" y="778"/>
                      </a:lnTo>
                      <a:lnTo>
                        <a:pt x="743" y="785"/>
                      </a:lnTo>
                      <a:lnTo>
                        <a:pt x="740" y="796"/>
                      </a:lnTo>
                      <a:lnTo>
                        <a:pt x="740" y="800"/>
                      </a:lnTo>
                      <a:lnTo>
                        <a:pt x="736" y="802"/>
                      </a:lnTo>
                      <a:lnTo>
                        <a:pt x="731" y="804"/>
                      </a:lnTo>
                      <a:lnTo>
                        <a:pt x="726" y="805"/>
                      </a:lnTo>
                      <a:lnTo>
                        <a:pt x="720" y="802"/>
                      </a:lnTo>
                      <a:lnTo>
                        <a:pt x="716" y="799"/>
                      </a:lnTo>
                      <a:lnTo>
                        <a:pt x="710" y="798"/>
                      </a:lnTo>
                      <a:lnTo>
                        <a:pt x="702" y="801"/>
                      </a:lnTo>
                      <a:lnTo>
                        <a:pt x="699" y="824"/>
                      </a:lnTo>
                      <a:lnTo>
                        <a:pt x="696" y="849"/>
                      </a:lnTo>
                      <a:lnTo>
                        <a:pt x="691" y="875"/>
                      </a:lnTo>
                      <a:lnTo>
                        <a:pt x="686" y="902"/>
                      </a:lnTo>
                      <a:lnTo>
                        <a:pt x="678" y="928"/>
                      </a:lnTo>
                      <a:lnTo>
                        <a:pt x="671" y="952"/>
                      </a:lnTo>
                      <a:lnTo>
                        <a:pt x="661" y="972"/>
                      </a:lnTo>
                      <a:lnTo>
                        <a:pt x="649" y="987"/>
                      </a:lnTo>
                      <a:lnTo>
                        <a:pt x="638" y="994"/>
                      </a:lnTo>
                      <a:lnTo>
                        <a:pt x="626" y="1002"/>
                      </a:lnTo>
                      <a:lnTo>
                        <a:pt x="616" y="1008"/>
                      </a:lnTo>
                      <a:lnTo>
                        <a:pt x="606" y="1012"/>
                      </a:lnTo>
                      <a:lnTo>
                        <a:pt x="596" y="1014"/>
                      </a:lnTo>
                      <a:lnTo>
                        <a:pt x="587" y="1013"/>
                      </a:lnTo>
                      <a:lnTo>
                        <a:pt x="578" y="1007"/>
                      </a:lnTo>
                      <a:lnTo>
                        <a:pt x="571" y="996"/>
                      </a:lnTo>
                      <a:lnTo>
                        <a:pt x="560" y="1003"/>
                      </a:lnTo>
                      <a:lnTo>
                        <a:pt x="550" y="1012"/>
                      </a:lnTo>
                      <a:lnTo>
                        <a:pt x="540" y="1022"/>
                      </a:lnTo>
                      <a:lnTo>
                        <a:pt x="531" y="1031"/>
                      </a:lnTo>
                      <a:lnTo>
                        <a:pt x="520" y="1040"/>
                      </a:lnTo>
                      <a:lnTo>
                        <a:pt x="510" y="1045"/>
                      </a:lnTo>
                      <a:lnTo>
                        <a:pt x="497" y="1046"/>
                      </a:lnTo>
                      <a:lnTo>
                        <a:pt x="484" y="1041"/>
                      </a:lnTo>
                      <a:lnTo>
                        <a:pt x="474" y="1039"/>
                      </a:lnTo>
                      <a:lnTo>
                        <a:pt x="468" y="1037"/>
                      </a:lnTo>
                      <a:lnTo>
                        <a:pt x="466" y="1032"/>
                      </a:lnTo>
                      <a:lnTo>
                        <a:pt x="467" y="1028"/>
                      </a:lnTo>
                      <a:lnTo>
                        <a:pt x="470" y="1025"/>
                      </a:lnTo>
                      <a:lnTo>
                        <a:pt x="476" y="1021"/>
                      </a:lnTo>
                      <a:lnTo>
                        <a:pt x="480" y="1017"/>
                      </a:lnTo>
                      <a:lnTo>
                        <a:pt x="484" y="1015"/>
                      </a:lnTo>
                      <a:lnTo>
                        <a:pt x="510" y="1009"/>
                      </a:lnTo>
                      <a:lnTo>
                        <a:pt x="532" y="999"/>
                      </a:lnTo>
                      <a:lnTo>
                        <a:pt x="551" y="986"/>
                      </a:lnTo>
                      <a:lnTo>
                        <a:pt x="568" y="969"/>
                      </a:lnTo>
                      <a:lnTo>
                        <a:pt x="583" y="950"/>
                      </a:lnTo>
                      <a:lnTo>
                        <a:pt x="595" y="929"/>
                      </a:lnTo>
                      <a:lnTo>
                        <a:pt x="607" y="909"/>
                      </a:lnTo>
                      <a:lnTo>
                        <a:pt x="618" y="888"/>
                      </a:lnTo>
                      <a:lnTo>
                        <a:pt x="623" y="848"/>
                      </a:lnTo>
                      <a:lnTo>
                        <a:pt x="616" y="848"/>
                      </a:lnTo>
                      <a:lnTo>
                        <a:pt x="608" y="849"/>
                      </a:lnTo>
                      <a:lnTo>
                        <a:pt x="601" y="851"/>
                      </a:lnTo>
                      <a:lnTo>
                        <a:pt x="593" y="854"/>
                      </a:lnTo>
                      <a:lnTo>
                        <a:pt x="586" y="857"/>
                      </a:lnTo>
                      <a:lnTo>
                        <a:pt x="581" y="863"/>
                      </a:lnTo>
                      <a:lnTo>
                        <a:pt x="575" y="868"/>
                      </a:lnTo>
                      <a:lnTo>
                        <a:pt x="571" y="875"/>
                      </a:lnTo>
                      <a:lnTo>
                        <a:pt x="568" y="885"/>
                      </a:lnTo>
                      <a:lnTo>
                        <a:pt x="565" y="896"/>
                      </a:lnTo>
                      <a:lnTo>
                        <a:pt x="560" y="908"/>
                      </a:lnTo>
                      <a:lnTo>
                        <a:pt x="557" y="920"/>
                      </a:lnTo>
                      <a:lnTo>
                        <a:pt x="547" y="936"/>
                      </a:lnTo>
                      <a:lnTo>
                        <a:pt x="536" y="952"/>
                      </a:lnTo>
                      <a:lnTo>
                        <a:pt x="525" y="968"/>
                      </a:lnTo>
                      <a:lnTo>
                        <a:pt x="515" y="982"/>
                      </a:lnTo>
                      <a:lnTo>
                        <a:pt x="502" y="996"/>
                      </a:lnTo>
                      <a:lnTo>
                        <a:pt x="489" y="1010"/>
                      </a:lnTo>
                      <a:lnTo>
                        <a:pt x="475" y="1022"/>
                      </a:lnTo>
                      <a:lnTo>
                        <a:pt x="459" y="1032"/>
                      </a:lnTo>
                      <a:lnTo>
                        <a:pt x="451" y="1037"/>
                      </a:lnTo>
                      <a:lnTo>
                        <a:pt x="446" y="1042"/>
                      </a:lnTo>
                      <a:lnTo>
                        <a:pt x="441" y="1046"/>
                      </a:lnTo>
                      <a:lnTo>
                        <a:pt x="435" y="1050"/>
                      </a:lnTo>
                      <a:lnTo>
                        <a:pt x="429" y="1053"/>
                      </a:lnTo>
                      <a:lnTo>
                        <a:pt x="423" y="1055"/>
                      </a:lnTo>
                      <a:lnTo>
                        <a:pt x="414" y="1053"/>
                      </a:lnTo>
                      <a:lnTo>
                        <a:pt x="405" y="1050"/>
                      </a:lnTo>
                      <a:lnTo>
                        <a:pt x="401" y="1045"/>
                      </a:lnTo>
                      <a:lnTo>
                        <a:pt x="396" y="1040"/>
                      </a:lnTo>
                      <a:lnTo>
                        <a:pt x="389" y="1037"/>
                      </a:lnTo>
                      <a:lnTo>
                        <a:pt x="380" y="1033"/>
                      </a:lnTo>
                      <a:lnTo>
                        <a:pt x="373" y="1030"/>
                      </a:lnTo>
                      <a:lnTo>
                        <a:pt x="367" y="1026"/>
                      </a:lnTo>
                      <a:lnTo>
                        <a:pt x="363" y="1020"/>
                      </a:lnTo>
                      <a:lnTo>
                        <a:pt x="364" y="1011"/>
                      </a:lnTo>
                      <a:lnTo>
                        <a:pt x="371" y="1008"/>
                      </a:lnTo>
                      <a:lnTo>
                        <a:pt x="380" y="1006"/>
                      </a:lnTo>
                      <a:lnTo>
                        <a:pt x="391" y="1006"/>
                      </a:lnTo>
                      <a:lnTo>
                        <a:pt x="401" y="1006"/>
                      </a:lnTo>
                      <a:lnTo>
                        <a:pt x="413" y="1006"/>
                      </a:lnTo>
                      <a:lnTo>
                        <a:pt x="423" y="1004"/>
                      </a:lnTo>
                      <a:lnTo>
                        <a:pt x="431" y="1002"/>
                      </a:lnTo>
                      <a:lnTo>
                        <a:pt x="438" y="996"/>
                      </a:lnTo>
                      <a:lnTo>
                        <a:pt x="447" y="991"/>
                      </a:lnTo>
                      <a:lnTo>
                        <a:pt x="463" y="977"/>
                      </a:lnTo>
                      <a:lnTo>
                        <a:pt x="482" y="957"/>
                      </a:lnTo>
                      <a:lnTo>
                        <a:pt x="503" y="934"/>
                      </a:lnTo>
                      <a:lnTo>
                        <a:pt x="523" y="907"/>
                      </a:lnTo>
                      <a:lnTo>
                        <a:pt x="540" y="881"/>
                      </a:lnTo>
                      <a:lnTo>
                        <a:pt x="550" y="856"/>
                      </a:lnTo>
                      <a:lnTo>
                        <a:pt x="552" y="836"/>
                      </a:lnTo>
                      <a:lnTo>
                        <a:pt x="536" y="844"/>
                      </a:lnTo>
                      <a:lnTo>
                        <a:pt x="522" y="853"/>
                      </a:lnTo>
                      <a:lnTo>
                        <a:pt x="510" y="864"/>
                      </a:lnTo>
                      <a:lnTo>
                        <a:pt x="498" y="876"/>
                      </a:lnTo>
                      <a:lnTo>
                        <a:pt x="487" y="889"/>
                      </a:lnTo>
                      <a:lnTo>
                        <a:pt x="477" y="903"/>
                      </a:lnTo>
                      <a:lnTo>
                        <a:pt x="465" y="917"/>
                      </a:lnTo>
                      <a:lnTo>
                        <a:pt x="453" y="931"/>
                      </a:lnTo>
                      <a:lnTo>
                        <a:pt x="439" y="946"/>
                      </a:lnTo>
                      <a:lnTo>
                        <a:pt x="424" y="963"/>
                      </a:lnTo>
                      <a:lnTo>
                        <a:pt x="409" y="979"/>
                      </a:lnTo>
                      <a:lnTo>
                        <a:pt x="392" y="994"/>
                      </a:lnTo>
                      <a:lnTo>
                        <a:pt x="374" y="1007"/>
                      </a:lnTo>
                      <a:lnTo>
                        <a:pt x="354" y="1017"/>
                      </a:lnTo>
                      <a:lnTo>
                        <a:pt x="332" y="1024"/>
                      </a:lnTo>
                      <a:lnTo>
                        <a:pt x="306" y="1026"/>
                      </a:lnTo>
                      <a:lnTo>
                        <a:pt x="302" y="1023"/>
                      </a:lnTo>
                      <a:lnTo>
                        <a:pt x="294" y="1018"/>
                      </a:lnTo>
                      <a:lnTo>
                        <a:pt x="287" y="1013"/>
                      </a:lnTo>
                      <a:lnTo>
                        <a:pt x="280" y="1008"/>
                      </a:lnTo>
                      <a:lnTo>
                        <a:pt x="272" y="1003"/>
                      </a:lnTo>
                      <a:lnTo>
                        <a:pt x="266" y="996"/>
                      </a:lnTo>
                      <a:lnTo>
                        <a:pt x="262" y="991"/>
                      </a:lnTo>
                      <a:lnTo>
                        <a:pt x="261" y="986"/>
                      </a:lnTo>
                      <a:lnTo>
                        <a:pt x="264" y="980"/>
                      </a:lnTo>
                      <a:lnTo>
                        <a:pt x="269" y="976"/>
                      </a:lnTo>
                      <a:lnTo>
                        <a:pt x="276" y="974"/>
                      </a:lnTo>
                      <a:lnTo>
                        <a:pt x="284" y="974"/>
                      </a:lnTo>
                      <a:lnTo>
                        <a:pt x="292" y="978"/>
                      </a:lnTo>
                      <a:lnTo>
                        <a:pt x="304" y="979"/>
                      </a:lnTo>
                      <a:lnTo>
                        <a:pt x="317" y="978"/>
                      </a:lnTo>
                      <a:lnTo>
                        <a:pt x="330" y="973"/>
                      </a:lnTo>
                      <a:lnTo>
                        <a:pt x="346" y="967"/>
                      </a:lnTo>
                      <a:lnTo>
                        <a:pt x="362" y="957"/>
                      </a:lnTo>
                      <a:lnTo>
                        <a:pt x="378" y="947"/>
                      </a:lnTo>
                      <a:lnTo>
                        <a:pt x="394" y="937"/>
                      </a:lnTo>
                      <a:lnTo>
                        <a:pt x="410" y="925"/>
                      </a:lnTo>
                      <a:lnTo>
                        <a:pt x="426" y="914"/>
                      </a:lnTo>
                      <a:lnTo>
                        <a:pt x="440" y="902"/>
                      </a:lnTo>
                      <a:lnTo>
                        <a:pt x="451" y="892"/>
                      </a:lnTo>
                      <a:lnTo>
                        <a:pt x="462" y="883"/>
                      </a:lnTo>
                      <a:lnTo>
                        <a:pt x="470" y="875"/>
                      </a:lnTo>
                      <a:lnTo>
                        <a:pt x="477" y="870"/>
                      </a:lnTo>
                      <a:lnTo>
                        <a:pt x="479" y="868"/>
                      </a:lnTo>
                      <a:lnTo>
                        <a:pt x="472" y="868"/>
                      </a:lnTo>
                      <a:lnTo>
                        <a:pt x="464" y="870"/>
                      </a:lnTo>
                      <a:lnTo>
                        <a:pt x="453" y="873"/>
                      </a:lnTo>
                      <a:lnTo>
                        <a:pt x="442" y="879"/>
                      </a:lnTo>
                      <a:lnTo>
                        <a:pt x="430" y="884"/>
                      </a:lnTo>
                      <a:lnTo>
                        <a:pt x="416" y="890"/>
                      </a:lnTo>
                      <a:lnTo>
                        <a:pt x="403" y="898"/>
                      </a:lnTo>
                      <a:lnTo>
                        <a:pt x="388" y="906"/>
                      </a:lnTo>
                      <a:lnTo>
                        <a:pt x="373" y="914"/>
                      </a:lnTo>
                      <a:lnTo>
                        <a:pt x="359" y="922"/>
                      </a:lnTo>
                      <a:lnTo>
                        <a:pt x="344" y="931"/>
                      </a:lnTo>
                      <a:lnTo>
                        <a:pt x="332" y="938"/>
                      </a:lnTo>
                      <a:lnTo>
                        <a:pt x="319" y="945"/>
                      </a:lnTo>
                      <a:lnTo>
                        <a:pt x="307" y="953"/>
                      </a:lnTo>
                      <a:lnTo>
                        <a:pt x="298" y="958"/>
                      </a:lnTo>
                      <a:lnTo>
                        <a:pt x="289" y="963"/>
                      </a:lnTo>
                      <a:lnTo>
                        <a:pt x="261" y="986"/>
                      </a:lnTo>
                      <a:lnTo>
                        <a:pt x="248" y="985"/>
                      </a:lnTo>
                      <a:lnTo>
                        <a:pt x="236" y="982"/>
                      </a:lnTo>
                      <a:lnTo>
                        <a:pt x="223" y="979"/>
                      </a:lnTo>
                      <a:lnTo>
                        <a:pt x="212" y="976"/>
                      </a:lnTo>
                      <a:lnTo>
                        <a:pt x="201" y="972"/>
                      </a:lnTo>
                      <a:lnTo>
                        <a:pt x="191" y="967"/>
                      </a:lnTo>
                      <a:lnTo>
                        <a:pt x="181" y="960"/>
                      </a:lnTo>
                      <a:lnTo>
                        <a:pt x="173" y="953"/>
                      </a:lnTo>
                      <a:lnTo>
                        <a:pt x="173" y="942"/>
                      </a:lnTo>
                      <a:lnTo>
                        <a:pt x="175" y="933"/>
                      </a:lnTo>
                      <a:lnTo>
                        <a:pt x="180" y="924"/>
                      </a:lnTo>
                      <a:lnTo>
                        <a:pt x="186" y="919"/>
                      </a:lnTo>
                      <a:lnTo>
                        <a:pt x="192" y="919"/>
                      </a:lnTo>
                      <a:lnTo>
                        <a:pt x="197" y="921"/>
                      </a:lnTo>
                      <a:lnTo>
                        <a:pt x="202" y="925"/>
                      </a:lnTo>
                      <a:lnTo>
                        <a:pt x="207" y="929"/>
                      </a:lnTo>
                      <a:lnTo>
                        <a:pt x="212" y="936"/>
                      </a:lnTo>
                      <a:lnTo>
                        <a:pt x="216" y="941"/>
                      </a:lnTo>
                      <a:lnTo>
                        <a:pt x="221" y="945"/>
                      </a:lnTo>
                      <a:lnTo>
                        <a:pt x="228" y="947"/>
                      </a:lnTo>
                      <a:lnTo>
                        <a:pt x="245" y="952"/>
                      </a:lnTo>
                      <a:lnTo>
                        <a:pt x="259" y="951"/>
                      </a:lnTo>
                      <a:lnTo>
                        <a:pt x="273" y="946"/>
                      </a:lnTo>
                      <a:lnTo>
                        <a:pt x="285" y="938"/>
                      </a:lnTo>
                      <a:lnTo>
                        <a:pt x="297" y="929"/>
                      </a:lnTo>
                      <a:lnTo>
                        <a:pt x="308" y="919"/>
                      </a:lnTo>
                      <a:lnTo>
                        <a:pt x="319" y="909"/>
                      </a:lnTo>
                      <a:lnTo>
                        <a:pt x="330" y="901"/>
                      </a:lnTo>
                      <a:lnTo>
                        <a:pt x="332" y="893"/>
                      </a:lnTo>
                      <a:lnTo>
                        <a:pt x="328" y="889"/>
                      </a:lnTo>
                      <a:lnTo>
                        <a:pt x="325" y="884"/>
                      </a:lnTo>
                      <a:lnTo>
                        <a:pt x="326" y="878"/>
                      </a:lnTo>
                      <a:lnTo>
                        <a:pt x="336" y="867"/>
                      </a:lnTo>
                      <a:lnTo>
                        <a:pt x="350" y="852"/>
                      </a:lnTo>
                      <a:lnTo>
                        <a:pt x="367" y="837"/>
                      </a:lnTo>
                      <a:lnTo>
                        <a:pt x="385" y="820"/>
                      </a:lnTo>
                      <a:lnTo>
                        <a:pt x="401" y="805"/>
                      </a:lnTo>
                      <a:lnTo>
                        <a:pt x="416" y="793"/>
                      </a:lnTo>
                      <a:lnTo>
                        <a:pt x="426" y="784"/>
                      </a:lnTo>
                      <a:lnTo>
                        <a:pt x="430" y="781"/>
                      </a:lnTo>
                      <a:lnTo>
                        <a:pt x="426" y="779"/>
                      </a:lnTo>
                      <a:lnTo>
                        <a:pt x="422" y="778"/>
                      </a:lnTo>
                      <a:lnTo>
                        <a:pt x="417" y="779"/>
                      </a:lnTo>
                      <a:lnTo>
                        <a:pt x="413" y="780"/>
                      </a:lnTo>
                      <a:lnTo>
                        <a:pt x="409" y="782"/>
                      </a:lnTo>
                      <a:lnTo>
                        <a:pt x="405" y="784"/>
                      </a:lnTo>
                      <a:lnTo>
                        <a:pt x="400" y="786"/>
                      </a:lnTo>
                      <a:lnTo>
                        <a:pt x="396" y="787"/>
                      </a:lnTo>
                      <a:lnTo>
                        <a:pt x="387" y="793"/>
                      </a:lnTo>
                      <a:lnTo>
                        <a:pt x="375" y="801"/>
                      </a:lnTo>
                      <a:lnTo>
                        <a:pt x="361" y="811"/>
                      </a:lnTo>
                      <a:lnTo>
                        <a:pt x="346" y="821"/>
                      </a:lnTo>
                      <a:lnTo>
                        <a:pt x="329" y="833"/>
                      </a:lnTo>
                      <a:lnTo>
                        <a:pt x="312" y="846"/>
                      </a:lnTo>
                      <a:lnTo>
                        <a:pt x="293" y="858"/>
                      </a:lnTo>
                      <a:lnTo>
                        <a:pt x="275" y="871"/>
                      </a:lnTo>
                      <a:lnTo>
                        <a:pt x="256" y="883"/>
                      </a:lnTo>
                      <a:lnTo>
                        <a:pt x="237" y="895"/>
                      </a:lnTo>
                      <a:lnTo>
                        <a:pt x="219" y="903"/>
                      </a:lnTo>
                      <a:lnTo>
                        <a:pt x="202" y="911"/>
                      </a:lnTo>
                      <a:lnTo>
                        <a:pt x="186" y="917"/>
                      </a:lnTo>
                      <a:lnTo>
                        <a:pt x="172" y="919"/>
                      </a:lnTo>
                      <a:lnTo>
                        <a:pt x="159" y="919"/>
                      </a:lnTo>
                      <a:lnTo>
                        <a:pt x="148" y="915"/>
                      </a:lnTo>
                      <a:lnTo>
                        <a:pt x="138" y="907"/>
                      </a:lnTo>
                      <a:lnTo>
                        <a:pt x="126" y="900"/>
                      </a:lnTo>
                      <a:lnTo>
                        <a:pt x="113" y="893"/>
                      </a:lnTo>
                      <a:lnTo>
                        <a:pt x="102" y="887"/>
                      </a:lnTo>
                      <a:lnTo>
                        <a:pt x="90" y="879"/>
                      </a:lnTo>
                      <a:lnTo>
                        <a:pt x="83" y="868"/>
                      </a:lnTo>
                      <a:lnTo>
                        <a:pt x="78" y="855"/>
                      </a:lnTo>
                      <a:lnTo>
                        <a:pt x="79" y="838"/>
                      </a:lnTo>
                      <a:lnTo>
                        <a:pt x="83" y="834"/>
                      </a:lnTo>
                      <a:lnTo>
                        <a:pt x="85" y="830"/>
                      </a:lnTo>
                      <a:lnTo>
                        <a:pt x="85" y="825"/>
                      </a:lnTo>
                      <a:lnTo>
                        <a:pt x="83" y="818"/>
                      </a:lnTo>
                      <a:lnTo>
                        <a:pt x="76" y="812"/>
                      </a:lnTo>
                      <a:lnTo>
                        <a:pt x="70" y="808"/>
                      </a:lnTo>
                      <a:lnTo>
                        <a:pt x="63" y="803"/>
                      </a:lnTo>
                      <a:lnTo>
                        <a:pt x="57" y="799"/>
                      </a:lnTo>
                      <a:lnTo>
                        <a:pt x="51" y="796"/>
                      </a:lnTo>
                      <a:lnTo>
                        <a:pt x="45" y="793"/>
                      </a:lnTo>
                      <a:lnTo>
                        <a:pt x="39" y="790"/>
                      </a:lnTo>
                      <a:lnTo>
                        <a:pt x="34" y="785"/>
                      </a:lnTo>
                      <a:lnTo>
                        <a:pt x="24" y="769"/>
                      </a:lnTo>
                      <a:lnTo>
                        <a:pt x="18" y="752"/>
                      </a:lnTo>
                      <a:lnTo>
                        <a:pt x="15" y="733"/>
                      </a:lnTo>
                      <a:lnTo>
                        <a:pt x="15" y="713"/>
                      </a:lnTo>
                      <a:lnTo>
                        <a:pt x="24" y="703"/>
                      </a:lnTo>
                      <a:lnTo>
                        <a:pt x="44" y="690"/>
                      </a:lnTo>
                      <a:lnTo>
                        <a:pt x="72" y="677"/>
                      </a:lnTo>
                      <a:lnTo>
                        <a:pt x="106" y="663"/>
                      </a:lnTo>
                      <a:lnTo>
                        <a:pt x="146" y="649"/>
                      </a:lnTo>
                      <a:lnTo>
                        <a:pt x="191" y="635"/>
                      </a:lnTo>
                      <a:lnTo>
                        <a:pt x="237" y="620"/>
                      </a:lnTo>
                      <a:lnTo>
                        <a:pt x="286" y="606"/>
                      </a:lnTo>
                      <a:lnTo>
                        <a:pt x="335" y="594"/>
                      </a:lnTo>
                      <a:lnTo>
                        <a:pt x="381" y="581"/>
                      </a:lnTo>
                      <a:lnTo>
                        <a:pt x="426" y="569"/>
                      </a:lnTo>
                      <a:lnTo>
                        <a:pt x="466" y="560"/>
                      </a:lnTo>
                      <a:lnTo>
                        <a:pt x="502" y="552"/>
                      </a:lnTo>
                      <a:lnTo>
                        <a:pt x="530" y="546"/>
                      </a:lnTo>
                      <a:lnTo>
                        <a:pt x="551" y="542"/>
                      </a:lnTo>
                      <a:lnTo>
                        <a:pt x="562" y="541"/>
                      </a:lnTo>
                      <a:lnTo>
                        <a:pt x="562" y="537"/>
                      </a:lnTo>
                      <a:lnTo>
                        <a:pt x="542" y="536"/>
                      </a:lnTo>
                      <a:lnTo>
                        <a:pt x="522" y="537"/>
                      </a:lnTo>
                      <a:lnTo>
                        <a:pt x="502" y="539"/>
                      </a:lnTo>
                      <a:lnTo>
                        <a:pt x="482" y="542"/>
                      </a:lnTo>
                      <a:lnTo>
                        <a:pt x="461" y="543"/>
                      </a:lnTo>
                      <a:lnTo>
                        <a:pt x="442" y="541"/>
                      </a:lnTo>
                      <a:lnTo>
                        <a:pt x="423" y="536"/>
                      </a:lnTo>
                      <a:lnTo>
                        <a:pt x="405" y="527"/>
                      </a:lnTo>
                      <a:lnTo>
                        <a:pt x="408" y="518"/>
                      </a:lnTo>
                      <a:lnTo>
                        <a:pt x="412" y="514"/>
                      </a:lnTo>
                      <a:lnTo>
                        <a:pt x="418" y="512"/>
                      </a:lnTo>
                      <a:lnTo>
                        <a:pt x="427" y="511"/>
                      </a:lnTo>
                      <a:lnTo>
                        <a:pt x="435" y="511"/>
                      </a:lnTo>
                      <a:lnTo>
                        <a:pt x="444" y="511"/>
                      </a:lnTo>
                      <a:lnTo>
                        <a:pt x="452" y="510"/>
                      </a:lnTo>
                      <a:lnTo>
                        <a:pt x="460" y="508"/>
                      </a:lnTo>
                      <a:lnTo>
                        <a:pt x="457" y="505"/>
                      </a:lnTo>
                      <a:lnTo>
                        <a:pt x="449" y="502"/>
                      </a:lnTo>
                      <a:lnTo>
                        <a:pt x="440" y="501"/>
                      </a:lnTo>
                      <a:lnTo>
                        <a:pt x="427" y="500"/>
                      </a:lnTo>
                      <a:lnTo>
                        <a:pt x="412" y="500"/>
                      </a:lnTo>
                      <a:lnTo>
                        <a:pt x="395" y="499"/>
                      </a:lnTo>
                      <a:lnTo>
                        <a:pt x="377" y="499"/>
                      </a:lnTo>
                      <a:lnTo>
                        <a:pt x="357" y="498"/>
                      </a:lnTo>
                      <a:lnTo>
                        <a:pt x="337" y="497"/>
                      </a:lnTo>
                      <a:lnTo>
                        <a:pt x="317" y="496"/>
                      </a:lnTo>
                      <a:lnTo>
                        <a:pt x="297" y="494"/>
                      </a:lnTo>
                      <a:lnTo>
                        <a:pt x="276" y="491"/>
                      </a:lnTo>
                      <a:lnTo>
                        <a:pt x="257" y="488"/>
                      </a:lnTo>
                      <a:lnTo>
                        <a:pt x="239" y="482"/>
                      </a:lnTo>
                      <a:lnTo>
                        <a:pt x="223" y="477"/>
                      </a:lnTo>
                      <a:lnTo>
                        <a:pt x="209" y="470"/>
                      </a:lnTo>
                      <a:lnTo>
                        <a:pt x="201" y="461"/>
                      </a:lnTo>
                      <a:lnTo>
                        <a:pt x="198" y="454"/>
                      </a:lnTo>
                      <a:lnTo>
                        <a:pt x="198" y="445"/>
                      </a:lnTo>
                      <a:lnTo>
                        <a:pt x="198" y="432"/>
                      </a:lnTo>
                      <a:lnTo>
                        <a:pt x="201" y="430"/>
                      </a:lnTo>
                      <a:lnTo>
                        <a:pt x="203" y="428"/>
                      </a:lnTo>
                      <a:lnTo>
                        <a:pt x="205" y="426"/>
                      </a:lnTo>
                      <a:lnTo>
                        <a:pt x="208" y="423"/>
                      </a:lnTo>
                      <a:lnTo>
                        <a:pt x="197" y="418"/>
                      </a:lnTo>
                      <a:lnTo>
                        <a:pt x="180" y="410"/>
                      </a:lnTo>
                      <a:lnTo>
                        <a:pt x="160" y="402"/>
                      </a:lnTo>
                      <a:lnTo>
                        <a:pt x="138" y="391"/>
                      </a:lnTo>
                      <a:lnTo>
                        <a:pt x="117" y="381"/>
                      </a:lnTo>
                      <a:lnTo>
                        <a:pt x="101" y="368"/>
                      </a:lnTo>
                      <a:lnTo>
                        <a:pt x="91" y="354"/>
                      </a:lnTo>
                      <a:lnTo>
                        <a:pt x="89" y="340"/>
                      </a:lnTo>
                      <a:lnTo>
                        <a:pt x="96" y="335"/>
                      </a:lnTo>
                      <a:lnTo>
                        <a:pt x="110" y="339"/>
                      </a:lnTo>
                      <a:lnTo>
                        <a:pt x="124" y="343"/>
                      </a:lnTo>
                      <a:lnTo>
                        <a:pt x="138" y="348"/>
                      </a:lnTo>
                      <a:lnTo>
                        <a:pt x="151" y="352"/>
                      </a:lnTo>
                      <a:lnTo>
                        <a:pt x="164" y="355"/>
                      </a:lnTo>
                      <a:lnTo>
                        <a:pt x="179" y="358"/>
                      </a:lnTo>
                      <a:lnTo>
                        <a:pt x="193" y="359"/>
                      </a:lnTo>
                      <a:lnTo>
                        <a:pt x="209" y="360"/>
                      </a:lnTo>
                      <a:lnTo>
                        <a:pt x="207" y="356"/>
                      </a:lnTo>
                      <a:lnTo>
                        <a:pt x="202" y="354"/>
                      </a:lnTo>
                      <a:lnTo>
                        <a:pt x="197" y="352"/>
                      </a:lnTo>
                      <a:lnTo>
                        <a:pt x="191" y="351"/>
                      </a:lnTo>
                      <a:lnTo>
                        <a:pt x="184" y="351"/>
                      </a:lnTo>
                      <a:lnTo>
                        <a:pt x="178" y="350"/>
                      </a:lnTo>
                      <a:lnTo>
                        <a:pt x="172" y="348"/>
                      </a:lnTo>
                      <a:lnTo>
                        <a:pt x="167" y="345"/>
                      </a:lnTo>
                      <a:lnTo>
                        <a:pt x="154" y="340"/>
                      </a:lnTo>
                      <a:lnTo>
                        <a:pt x="139" y="336"/>
                      </a:lnTo>
                      <a:lnTo>
                        <a:pt x="123" y="332"/>
                      </a:lnTo>
                      <a:lnTo>
                        <a:pt x="108" y="326"/>
                      </a:lnTo>
                      <a:lnTo>
                        <a:pt x="94" y="320"/>
                      </a:lnTo>
                      <a:lnTo>
                        <a:pt x="81" y="312"/>
                      </a:lnTo>
                      <a:lnTo>
                        <a:pt x="71" y="302"/>
                      </a:lnTo>
                      <a:lnTo>
                        <a:pt x="63" y="288"/>
                      </a:lnTo>
                      <a:lnTo>
                        <a:pt x="53" y="270"/>
                      </a:lnTo>
                      <a:lnTo>
                        <a:pt x="40" y="245"/>
                      </a:lnTo>
                      <a:lnTo>
                        <a:pt x="27" y="213"/>
                      </a:lnTo>
                      <a:lnTo>
                        <a:pt x="15" y="176"/>
                      </a:lnTo>
                      <a:lnTo>
                        <a:pt x="5" y="135"/>
                      </a:lnTo>
                      <a:lnTo>
                        <a:pt x="0" y="91"/>
                      </a:lnTo>
                      <a:lnTo>
                        <a:pt x="0" y="46"/>
                      </a:lnTo>
                      <a:lnTo>
                        <a:pt x="6" y="0"/>
                      </a:lnTo>
                      <a:lnTo>
                        <a:pt x="730" y="0"/>
                      </a:lnTo>
                      <a:lnTo>
                        <a:pt x="729" y="6"/>
                      </a:lnTo>
                      <a:lnTo>
                        <a:pt x="727" y="12"/>
                      </a:lnTo>
                      <a:lnTo>
                        <a:pt x="724" y="18"/>
                      </a:lnTo>
                      <a:lnTo>
                        <a:pt x="719" y="24"/>
                      </a:lnTo>
                      <a:lnTo>
                        <a:pt x="714" y="44"/>
                      </a:lnTo>
                      <a:lnTo>
                        <a:pt x="706" y="63"/>
                      </a:lnTo>
                      <a:lnTo>
                        <a:pt x="697" y="81"/>
                      </a:lnTo>
                      <a:lnTo>
                        <a:pt x="689" y="99"/>
                      </a:lnTo>
                      <a:lnTo>
                        <a:pt x="682" y="118"/>
                      </a:lnTo>
                      <a:lnTo>
                        <a:pt x="678" y="138"/>
                      </a:lnTo>
                      <a:lnTo>
                        <a:pt x="679" y="160"/>
                      </a:lnTo>
                      <a:lnTo>
                        <a:pt x="686" y="183"/>
                      </a:lnTo>
                      <a:lnTo>
                        <a:pt x="695" y="196"/>
                      </a:lnTo>
                      <a:lnTo>
                        <a:pt x="706" y="208"/>
                      </a:lnTo>
                      <a:lnTo>
                        <a:pt x="717" y="217"/>
                      </a:lnTo>
                      <a:lnTo>
                        <a:pt x="731" y="226"/>
                      </a:lnTo>
                      <a:lnTo>
                        <a:pt x="744" y="232"/>
                      </a:lnTo>
                      <a:lnTo>
                        <a:pt x="755" y="236"/>
                      </a:lnTo>
                      <a:lnTo>
                        <a:pt x="766" y="239"/>
                      </a:lnTo>
                      <a:lnTo>
                        <a:pt x="776" y="237"/>
                      </a:lnTo>
                      <a:lnTo>
                        <a:pt x="785" y="233"/>
                      </a:lnTo>
                      <a:lnTo>
                        <a:pt x="797" y="228"/>
                      </a:lnTo>
                      <a:lnTo>
                        <a:pt x="809" y="221"/>
                      </a:lnTo>
                      <a:lnTo>
                        <a:pt x="824" y="213"/>
                      </a:lnTo>
                      <a:lnTo>
                        <a:pt x="840" y="205"/>
                      </a:lnTo>
                      <a:lnTo>
                        <a:pt x="856" y="198"/>
                      </a:lnTo>
                      <a:lnTo>
                        <a:pt x="872" y="194"/>
                      </a:lnTo>
                      <a:lnTo>
                        <a:pt x="888" y="192"/>
                      </a:lnTo>
                      <a:lnTo>
                        <a:pt x="900" y="189"/>
                      </a:lnTo>
                      <a:lnTo>
                        <a:pt x="913" y="186"/>
                      </a:lnTo>
                      <a:lnTo>
                        <a:pt x="927" y="182"/>
                      </a:lnTo>
                      <a:lnTo>
                        <a:pt x="942" y="179"/>
                      </a:lnTo>
                      <a:lnTo>
                        <a:pt x="958" y="177"/>
                      </a:lnTo>
                      <a:lnTo>
                        <a:pt x="973" y="176"/>
                      </a:lnTo>
                      <a:lnTo>
                        <a:pt x="988" y="176"/>
                      </a:lnTo>
                      <a:lnTo>
                        <a:pt x="1001" y="178"/>
                      </a:lnTo>
                      <a:lnTo>
                        <a:pt x="1003" y="187"/>
                      </a:lnTo>
                      <a:lnTo>
                        <a:pt x="1000" y="193"/>
                      </a:lnTo>
                      <a:lnTo>
                        <a:pt x="994" y="199"/>
                      </a:lnTo>
                      <a:lnTo>
                        <a:pt x="986" y="206"/>
                      </a:lnTo>
                      <a:lnTo>
                        <a:pt x="980" y="213"/>
                      </a:lnTo>
                      <a:lnTo>
                        <a:pt x="975" y="222"/>
                      </a:lnTo>
                      <a:lnTo>
                        <a:pt x="974" y="231"/>
                      </a:lnTo>
                      <a:lnTo>
                        <a:pt x="978" y="244"/>
                      </a:lnTo>
                      <a:lnTo>
                        <a:pt x="983" y="249"/>
                      </a:lnTo>
                      <a:lnTo>
                        <a:pt x="991" y="252"/>
                      </a:lnTo>
                      <a:lnTo>
                        <a:pt x="998" y="252"/>
                      </a:lnTo>
                      <a:lnTo>
                        <a:pt x="1006" y="249"/>
                      </a:lnTo>
                      <a:lnTo>
                        <a:pt x="1011" y="241"/>
                      </a:lnTo>
                      <a:lnTo>
                        <a:pt x="1016" y="235"/>
                      </a:lnTo>
                      <a:lnTo>
                        <a:pt x="1024" y="232"/>
                      </a:lnTo>
                      <a:lnTo>
                        <a:pt x="1030" y="230"/>
                      </a:lnTo>
                      <a:lnTo>
                        <a:pt x="1031" y="243"/>
                      </a:lnTo>
                      <a:lnTo>
                        <a:pt x="1035" y="253"/>
                      </a:lnTo>
                      <a:lnTo>
                        <a:pt x="1043" y="263"/>
                      </a:lnTo>
                      <a:lnTo>
                        <a:pt x="1052" y="268"/>
                      </a:lnTo>
                      <a:lnTo>
                        <a:pt x="1057" y="270"/>
                      </a:lnTo>
                      <a:lnTo>
                        <a:pt x="1062" y="270"/>
                      </a:lnTo>
                      <a:lnTo>
                        <a:pt x="1067" y="270"/>
                      </a:lnTo>
                      <a:lnTo>
                        <a:pt x="1071" y="269"/>
                      </a:lnTo>
                      <a:lnTo>
                        <a:pt x="1075" y="268"/>
                      </a:lnTo>
                      <a:lnTo>
                        <a:pt x="1080" y="269"/>
                      </a:lnTo>
                      <a:lnTo>
                        <a:pt x="1083" y="271"/>
                      </a:lnTo>
                      <a:lnTo>
                        <a:pt x="1085" y="277"/>
                      </a:lnTo>
                      <a:lnTo>
                        <a:pt x="1081" y="284"/>
                      </a:lnTo>
                      <a:lnTo>
                        <a:pt x="1075" y="288"/>
                      </a:lnTo>
                      <a:lnTo>
                        <a:pt x="1069" y="293"/>
                      </a:lnTo>
                      <a:lnTo>
                        <a:pt x="1062" y="295"/>
                      </a:lnTo>
                      <a:lnTo>
                        <a:pt x="1054" y="296"/>
                      </a:lnTo>
                      <a:lnTo>
                        <a:pt x="1047" y="296"/>
                      </a:lnTo>
                      <a:lnTo>
                        <a:pt x="1039" y="295"/>
                      </a:lnTo>
                      <a:lnTo>
                        <a:pt x="1033" y="294"/>
                      </a:lnTo>
                      <a:lnTo>
                        <a:pt x="1026" y="292"/>
                      </a:lnTo>
                      <a:lnTo>
                        <a:pt x="1019" y="288"/>
                      </a:lnTo>
                      <a:lnTo>
                        <a:pt x="1013" y="284"/>
                      </a:lnTo>
                      <a:lnTo>
                        <a:pt x="1007" y="279"/>
                      </a:lnTo>
                      <a:lnTo>
                        <a:pt x="1008" y="275"/>
                      </a:lnTo>
                      <a:lnTo>
                        <a:pt x="1007" y="271"/>
                      </a:lnTo>
                      <a:lnTo>
                        <a:pt x="1003" y="270"/>
                      </a:lnTo>
                      <a:lnTo>
                        <a:pt x="1001" y="268"/>
                      </a:lnTo>
                      <a:lnTo>
                        <a:pt x="994" y="269"/>
                      </a:lnTo>
                      <a:lnTo>
                        <a:pt x="986" y="272"/>
                      </a:lnTo>
                      <a:lnTo>
                        <a:pt x="981" y="279"/>
                      </a:lnTo>
                      <a:lnTo>
                        <a:pt x="979" y="286"/>
                      </a:lnTo>
                      <a:lnTo>
                        <a:pt x="980" y="297"/>
                      </a:lnTo>
                      <a:lnTo>
                        <a:pt x="983" y="306"/>
                      </a:lnTo>
                      <a:lnTo>
                        <a:pt x="989" y="314"/>
                      </a:lnTo>
                      <a:lnTo>
                        <a:pt x="998" y="318"/>
                      </a:lnTo>
                      <a:lnTo>
                        <a:pt x="1003" y="317"/>
                      </a:lnTo>
                      <a:lnTo>
                        <a:pt x="1008" y="315"/>
                      </a:lnTo>
                      <a:lnTo>
                        <a:pt x="1012" y="312"/>
                      </a:lnTo>
                      <a:lnTo>
                        <a:pt x="1015" y="308"/>
                      </a:lnTo>
                      <a:lnTo>
                        <a:pt x="1018" y="306"/>
                      </a:lnTo>
                      <a:lnTo>
                        <a:pt x="1021" y="304"/>
                      </a:lnTo>
                      <a:lnTo>
                        <a:pt x="1025" y="304"/>
                      </a:lnTo>
                      <a:lnTo>
                        <a:pt x="1030" y="307"/>
                      </a:lnTo>
                      <a:lnTo>
                        <a:pt x="1027" y="316"/>
                      </a:lnTo>
                      <a:lnTo>
                        <a:pt x="1028" y="324"/>
                      </a:lnTo>
                      <a:lnTo>
                        <a:pt x="1032" y="332"/>
                      </a:lnTo>
                      <a:lnTo>
                        <a:pt x="1035" y="341"/>
                      </a:lnTo>
                      <a:lnTo>
                        <a:pt x="1041" y="346"/>
                      </a:lnTo>
                      <a:lnTo>
                        <a:pt x="1047" y="349"/>
                      </a:lnTo>
                      <a:lnTo>
                        <a:pt x="1053" y="351"/>
                      </a:lnTo>
                      <a:lnTo>
                        <a:pt x="1061" y="354"/>
                      </a:lnTo>
                      <a:lnTo>
                        <a:pt x="1066" y="356"/>
                      </a:lnTo>
                      <a:lnTo>
                        <a:pt x="1071" y="360"/>
                      </a:lnTo>
                      <a:lnTo>
                        <a:pt x="1074" y="366"/>
                      </a:lnTo>
                      <a:lnTo>
                        <a:pt x="1075" y="373"/>
                      </a:lnTo>
                      <a:lnTo>
                        <a:pt x="1061" y="378"/>
                      </a:lnTo>
                      <a:lnTo>
                        <a:pt x="1064" y="388"/>
                      </a:lnTo>
                      <a:lnTo>
                        <a:pt x="1070" y="395"/>
                      </a:lnTo>
                      <a:lnTo>
                        <a:pt x="1079" y="401"/>
                      </a:lnTo>
                      <a:lnTo>
                        <a:pt x="1088" y="405"/>
                      </a:lnTo>
                      <a:lnTo>
                        <a:pt x="1098" y="408"/>
                      </a:lnTo>
                      <a:lnTo>
                        <a:pt x="1106" y="411"/>
                      </a:lnTo>
                      <a:lnTo>
                        <a:pt x="1115" y="414"/>
                      </a:lnTo>
                      <a:lnTo>
                        <a:pt x="1121" y="419"/>
                      </a:lnTo>
                      <a:lnTo>
                        <a:pt x="1117" y="423"/>
                      </a:lnTo>
                      <a:lnTo>
                        <a:pt x="1112" y="425"/>
                      </a:lnTo>
                      <a:lnTo>
                        <a:pt x="1105" y="427"/>
                      </a:lnTo>
                      <a:lnTo>
                        <a:pt x="1099" y="428"/>
                      </a:lnTo>
                      <a:lnTo>
                        <a:pt x="1092" y="428"/>
                      </a:lnTo>
                      <a:lnTo>
                        <a:pt x="1085" y="428"/>
                      </a:lnTo>
                      <a:lnTo>
                        <a:pt x="1078" y="428"/>
                      </a:lnTo>
                      <a:lnTo>
                        <a:pt x="1071" y="427"/>
                      </a:lnTo>
                      <a:lnTo>
                        <a:pt x="1066" y="425"/>
                      </a:lnTo>
                      <a:lnTo>
                        <a:pt x="1060" y="423"/>
                      </a:lnTo>
                      <a:lnTo>
                        <a:pt x="1053" y="422"/>
                      </a:lnTo>
                      <a:lnTo>
                        <a:pt x="1048" y="425"/>
                      </a:lnTo>
                      <a:lnTo>
                        <a:pt x="1046" y="432"/>
                      </a:lnTo>
                      <a:lnTo>
                        <a:pt x="1045" y="440"/>
                      </a:lnTo>
                      <a:lnTo>
                        <a:pt x="1046" y="447"/>
                      </a:lnTo>
                      <a:lnTo>
                        <a:pt x="1051" y="453"/>
                      </a:lnTo>
                      <a:lnTo>
                        <a:pt x="1056" y="457"/>
                      </a:lnTo>
                      <a:lnTo>
                        <a:pt x="1062" y="461"/>
                      </a:lnTo>
                      <a:lnTo>
                        <a:pt x="1068" y="463"/>
                      </a:lnTo>
                      <a:lnTo>
                        <a:pt x="1075" y="465"/>
                      </a:lnTo>
                      <a:lnTo>
                        <a:pt x="1083" y="466"/>
                      </a:lnTo>
                      <a:lnTo>
                        <a:pt x="1090" y="466"/>
                      </a:lnTo>
                      <a:lnTo>
                        <a:pt x="1097" y="465"/>
                      </a:lnTo>
                      <a:lnTo>
                        <a:pt x="1104" y="463"/>
                      </a:lnTo>
                      <a:lnTo>
                        <a:pt x="1118" y="446"/>
                      </a:lnTo>
                      <a:lnTo>
                        <a:pt x="1133" y="431"/>
                      </a:lnTo>
                      <a:lnTo>
                        <a:pt x="1149" y="418"/>
                      </a:lnTo>
                      <a:lnTo>
                        <a:pt x="1166" y="407"/>
                      </a:lnTo>
                      <a:lnTo>
                        <a:pt x="1185" y="397"/>
                      </a:lnTo>
                      <a:lnTo>
                        <a:pt x="1204" y="389"/>
                      </a:lnTo>
                      <a:lnTo>
                        <a:pt x="1225" y="382"/>
                      </a:lnTo>
                      <a:lnTo>
                        <a:pt x="1246" y="376"/>
                      </a:lnTo>
                      <a:lnTo>
                        <a:pt x="1259" y="373"/>
                      </a:lnTo>
                      <a:lnTo>
                        <a:pt x="1272" y="371"/>
                      </a:lnTo>
                      <a:lnTo>
                        <a:pt x="1284" y="370"/>
                      </a:lnTo>
                      <a:lnTo>
                        <a:pt x="1297" y="370"/>
                      </a:lnTo>
                      <a:lnTo>
                        <a:pt x="1310" y="370"/>
                      </a:lnTo>
                      <a:lnTo>
                        <a:pt x="1322" y="371"/>
                      </a:lnTo>
                      <a:lnTo>
                        <a:pt x="1334" y="373"/>
                      </a:lnTo>
                      <a:lnTo>
                        <a:pt x="1347" y="375"/>
                      </a:lnTo>
                      <a:lnTo>
                        <a:pt x="1359" y="378"/>
                      </a:lnTo>
                      <a:lnTo>
                        <a:pt x="1371" y="382"/>
                      </a:lnTo>
                      <a:lnTo>
                        <a:pt x="1384" y="385"/>
                      </a:lnTo>
                      <a:lnTo>
                        <a:pt x="1396" y="388"/>
                      </a:lnTo>
                      <a:lnTo>
                        <a:pt x="1407" y="391"/>
                      </a:lnTo>
                      <a:lnTo>
                        <a:pt x="1419" y="394"/>
                      </a:lnTo>
                      <a:lnTo>
                        <a:pt x="1430" y="397"/>
                      </a:lnTo>
                      <a:lnTo>
                        <a:pt x="1442" y="401"/>
                      </a:lnTo>
                      <a:lnTo>
                        <a:pt x="1436" y="393"/>
                      </a:lnTo>
                      <a:lnTo>
                        <a:pt x="1429" y="388"/>
                      </a:lnTo>
                      <a:lnTo>
                        <a:pt x="1421" y="385"/>
                      </a:lnTo>
                      <a:lnTo>
                        <a:pt x="1412" y="382"/>
                      </a:lnTo>
                      <a:lnTo>
                        <a:pt x="1404" y="379"/>
                      </a:lnTo>
                      <a:lnTo>
                        <a:pt x="1394" y="377"/>
                      </a:lnTo>
                      <a:lnTo>
                        <a:pt x="1386" y="375"/>
                      </a:lnTo>
                      <a:lnTo>
                        <a:pt x="1378" y="373"/>
                      </a:lnTo>
                      <a:lnTo>
                        <a:pt x="1378" y="366"/>
                      </a:lnTo>
                      <a:lnTo>
                        <a:pt x="1392" y="357"/>
                      </a:lnTo>
                      <a:lnTo>
                        <a:pt x="1408" y="351"/>
                      </a:lnTo>
                      <a:lnTo>
                        <a:pt x="1426" y="347"/>
                      </a:lnTo>
                      <a:lnTo>
                        <a:pt x="1444" y="345"/>
                      </a:lnTo>
                      <a:lnTo>
                        <a:pt x="1463" y="343"/>
                      </a:lnTo>
                      <a:lnTo>
                        <a:pt x="1482" y="343"/>
                      </a:lnTo>
                      <a:lnTo>
                        <a:pt x="1500" y="346"/>
                      </a:lnTo>
                      <a:lnTo>
                        <a:pt x="1517" y="349"/>
                      </a:lnTo>
                      <a:lnTo>
                        <a:pt x="1524" y="348"/>
                      </a:lnTo>
                      <a:lnTo>
                        <a:pt x="1529" y="347"/>
                      </a:lnTo>
                      <a:lnTo>
                        <a:pt x="1534" y="347"/>
                      </a:lnTo>
                      <a:lnTo>
                        <a:pt x="1540" y="347"/>
                      </a:lnTo>
                      <a:lnTo>
                        <a:pt x="1545" y="348"/>
                      </a:lnTo>
                      <a:lnTo>
                        <a:pt x="1550" y="350"/>
                      </a:lnTo>
                      <a:lnTo>
                        <a:pt x="1554" y="352"/>
                      </a:lnTo>
                      <a:lnTo>
                        <a:pt x="1559" y="356"/>
                      </a:lnTo>
                      <a:lnTo>
                        <a:pt x="1558" y="346"/>
                      </a:lnTo>
                      <a:lnTo>
                        <a:pt x="1551" y="337"/>
                      </a:lnTo>
                      <a:lnTo>
                        <a:pt x="1543" y="331"/>
                      </a:lnTo>
                      <a:lnTo>
                        <a:pt x="1533" y="325"/>
                      </a:lnTo>
                      <a:lnTo>
                        <a:pt x="1523" y="321"/>
                      </a:lnTo>
                      <a:lnTo>
                        <a:pt x="1512" y="317"/>
                      </a:lnTo>
                      <a:lnTo>
                        <a:pt x="1501" y="314"/>
                      </a:lnTo>
                      <a:lnTo>
                        <a:pt x="1490" y="311"/>
                      </a:lnTo>
                      <a:lnTo>
                        <a:pt x="1479" y="308"/>
                      </a:lnTo>
                      <a:lnTo>
                        <a:pt x="1469" y="307"/>
                      </a:lnTo>
                      <a:lnTo>
                        <a:pt x="1457" y="307"/>
                      </a:lnTo>
                      <a:lnTo>
                        <a:pt x="1446" y="308"/>
                      </a:lnTo>
                      <a:lnTo>
                        <a:pt x="1443" y="315"/>
                      </a:lnTo>
                      <a:lnTo>
                        <a:pt x="1439" y="321"/>
                      </a:lnTo>
                      <a:lnTo>
                        <a:pt x="1434" y="326"/>
                      </a:lnTo>
                      <a:lnTo>
                        <a:pt x="1425" y="329"/>
                      </a:lnTo>
                      <a:lnTo>
                        <a:pt x="1420" y="330"/>
                      </a:lnTo>
                      <a:lnTo>
                        <a:pt x="1414" y="330"/>
                      </a:lnTo>
                      <a:lnTo>
                        <a:pt x="1408" y="329"/>
                      </a:lnTo>
                      <a:lnTo>
                        <a:pt x="1404" y="328"/>
                      </a:lnTo>
                      <a:lnTo>
                        <a:pt x="1400" y="325"/>
                      </a:lnTo>
                      <a:lnTo>
                        <a:pt x="1396" y="322"/>
                      </a:lnTo>
                      <a:lnTo>
                        <a:pt x="1391" y="319"/>
                      </a:lnTo>
                      <a:lnTo>
                        <a:pt x="1388" y="316"/>
                      </a:lnTo>
                      <a:lnTo>
                        <a:pt x="1388" y="307"/>
                      </a:lnTo>
                      <a:lnTo>
                        <a:pt x="1386" y="301"/>
                      </a:lnTo>
                      <a:lnTo>
                        <a:pt x="1382" y="295"/>
                      </a:lnTo>
                      <a:lnTo>
                        <a:pt x="1376" y="290"/>
                      </a:lnTo>
                      <a:lnTo>
                        <a:pt x="1371" y="289"/>
                      </a:lnTo>
                      <a:lnTo>
                        <a:pt x="1367" y="289"/>
                      </a:lnTo>
                      <a:lnTo>
                        <a:pt x="1362" y="288"/>
                      </a:lnTo>
                      <a:lnTo>
                        <a:pt x="1357" y="287"/>
                      </a:lnTo>
                      <a:lnTo>
                        <a:pt x="1353" y="285"/>
                      </a:lnTo>
                      <a:lnTo>
                        <a:pt x="1349" y="283"/>
                      </a:lnTo>
                      <a:lnTo>
                        <a:pt x="1346" y="281"/>
                      </a:lnTo>
                      <a:lnTo>
                        <a:pt x="1344" y="277"/>
                      </a:lnTo>
                      <a:lnTo>
                        <a:pt x="1344" y="266"/>
                      </a:lnTo>
                      <a:lnTo>
                        <a:pt x="1362" y="266"/>
                      </a:lnTo>
                      <a:lnTo>
                        <a:pt x="1372" y="270"/>
                      </a:lnTo>
                      <a:lnTo>
                        <a:pt x="1385" y="275"/>
                      </a:lnTo>
                      <a:lnTo>
                        <a:pt x="1397" y="278"/>
                      </a:lnTo>
                      <a:lnTo>
                        <a:pt x="1409" y="281"/>
                      </a:lnTo>
                      <a:lnTo>
                        <a:pt x="1422" y="283"/>
                      </a:lnTo>
                      <a:lnTo>
                        <a:pt x="1435" y="285"/>
                      </a:lnTo>
                      <a:lnTo>
                        <a:pt x="1447" y="286"/>
                      </a:lnTo>
                      <a:lnTo>
                        <a:pt x="1459" y="288"/>
                      </a:lnTo>
                      <a:lnTo>
                        <a:pt x="1461" y="287"/>
                      </a:lnTo>
                      <a:lnTo>
                        <a:pt x="1463" y="285"/>
                      </a:lnTo>
                      <a:lnTo>
                        <a:pt x="1465" y="283"/>
                      </a:lnTo>
                      <a:lnTo>
                        <a:pt x="1467" y="280"/>
                      </a:lnTo>
                      <a:lnTo>
                        <a:pt x="1458" y="270"/>
                      </a:lnTo>
                      <a:lnTo>
                        <a:pt x="1443" y="262"/>
                      </a:lnTo>
                      <a:lnTo>
                        <a:pt x="1423" y="252"/>
                      </a:lnTo>
                      <a:lnTo>
                        <a:pt x="1400" y="244"/>
                      </a:lnTo>
                      <a:lnTo>
                        <a:pt x="1373" y="235"/>
                      </a:lnTo>
                      <a:lnTo>
                        <a:pt x="1344" y="228"/>
                      </a:lnTo>
                      <a:lnTo>
                        <a:pt x="1313" y="219"/>
                      </a:lnTo>
                      <a:lnTo>
                        <a:pt x="1282" y="213"/>
                      </a:lnTo>
                      <a:lnTo>
                        <a:pt x="1251" y="207"/>
                      </a:lnTo>
                      <a:lnTo>
                        <a:pt x="1223" y="200"/>
                      </a:lnTo>
                      <a:lnTo>
                        <a:pt x="1195" y="196"/>
                      </a:lnTo>
                      <a:lnTo>
                        <a:pt x="1171" y="192"/>
                      </a:lnTo>
                      <a:lnTo>
                        <a:pt x="1151" y="188"/>
                      </a:lnTo>
                      <a:lnTo>
                        <a:pt x="1135" y="186"/>
                      </a:lnTo>
                      <a:lnTo>
                        <a:pt x="1124" y="184"/>
                      </a:lnTo>
                      <a:lnTo>
                        <a:pt x="1121" y="183"/>
                      </a:lnTo>
                      <a:lnTo>
                        <a:pt x="1113" y="186"/>
                      </a:lnTo>
                      <a:lnTo>
                        <a:pt x="1103" y="188"/>
                      </a:lnTo>
                      <a:lnTo>
                        <a:pt x="1093" y="189"/>
                      </a:lnTo>
                      <a:lnTo>
                        <a:pt x="1084" y="191"/>
                      </a:lnTo>
                      <a:lnTo>
                        <a:pt x="1074" y="193"/>
                      </a:lnTo>
                      <a:lnTo>
                        <a:pt x="1067" y="198"/>
                      </a:lnTo>
                      <a:lnTo>
                        <a:pt x="1062" y="205"/>
                      </a:lnTo>
                      <a:lnTo>
                        <a:pt x="1059" y="214"/>
                      </a:lnTo>
                      <a:lnTo>
                        <a:pt x="1059" y="239"/>
                      </a:lnTo>
                      <a:lnTo>
                        <a:pt x="1050" y="236"/>
                      </a:lnTo>
                      <a:lnTo>
                        <a:pt x="1042" y="233"/>
                      </a:lnTo>
                      <a:lnTo>
                        <a:pt x="1035" y="229"/>
                      </a:lnTo>
                      <a:lnTo>
                        <a:pt x="1032" y="219"/>
                      </a:lnTo>
                      <a:lnTo>
                        <a:pt x="1035" y="209"/>
                      </a:lnTo>
                      <a:lnTo>
                        <a:pt x="1041" y="198"/>
                      </a:lnTo>
                      <a:lnTo>
                        <a:pt x="1047" y="189"/>
                      </a:lnTo>
                      <a:lnTo>
                        <a:pt x="1055" y="181"/>
                      </a:lnTo>
                      <a:lnTo>
                        <a:pt x="1045" y="174"/>
                      </a:lnTo>
                      <a:lnTo>
                        <a:pt x="1034" y="170"/>
                      </a:lnTo>
                      <a:lnTo>
                        <a:pt x="1021" y="169"/>
                      </a:lnTo>
                      <a:lnTo>
                        <a:pt x="1009" y="169"/>
                      </a:lnTo>
                      <a:lnTo>
                        <a:pt x="996" y="170"/>
                      </a:lnTo>
                      <a:lnTo>
                        <a:pt x="982" y="171"/>
                      </a:lnTo>
                      <a:lnTo>
                        <a:pt x="968" y="171"/>
                      </a:lnTo>
                      <a:lnTo>
                        <a:pt x="955" y="169"/>
                      </a:lnTo>
                      <a:lnTo>
                        <a:pt x="947" y="169"/>
                      </a:lnTo>
                      <a:lnTo>
                        <a:pt x="940" y="170"/>
                      </a:lnTo>
                      <a:lnTo>
                        <a:pt x="933" y="172"/>
                      </a:lnTo>
                      <a:lnTo>
                        <a:pt x="927" y="174"/>
                      </a:lnTo>
                      <a:lnTo>
                        <a:pt x="921" y="176"/>
                      </a:lnTo>
                      <a:lnTo>
                        <a:pt x="915" y="176"/>
                      </a:lnTo>
                      <a:lnTo>
                        <a:pt x="910" y="174"/>
                      </a:lnTo>
                      <a:lnTo>
                        <a:pt x="905" y="170"/>
                      </a:lnTo>
                      <a:lnTo>
                        <a:pt x="905" y="155"/>
                      </a:lnTo>
                      <a:lnTo>
                        <a:pt x="904" y="141"/>
                      </a:lnTo>
                      <a:lnTo>
                        <a:pt x="906" y="129"/>
                      </a:lnTo>
                      <a:lnTo>
                        <a:pt x="920" y="122"/>
                      </a:lnTo>
                      <a:lnTo>
                        <a:pt x="925" y="124"/>
                      </a:lnTo>
                      <a:lnTo>
                        <a:pt x="933" y="125"/>
                      </a:lnTo>
                      <a:lnTo>
                        <a:pt x="945" y="125"/>
                      </a:lnTo>
                      <a:lnTo>
                        <a:pt x="957" y="126"/>
                      </a:lnTo>
                      <a:lnTo>
                        <a:pt x="970" y="126"/>
                      </a:lnTo>
                      <a:lnTo>
                        <a:pt x="981" y="126"/>
                      </a:lnTo>
                      <a:lnTo>
                        <a:pt x="991" y="127"/>
                      </a:lnTo>
                      <a:lnTo>
                        <a:pt x="997" y="128"/>
                      </a:lnTo>
                      <a:lnTo>
                        <a:pt x="989" y="122"/>
                      </a:lnTo>
                      <a:lnTo>
                        <a:pt x="980" y="118"/>
                      </a:lnTo>
                      <a:lnTo>
                        <a:pt x="973" y="111"/>
                      </a:lnTo>
                      <a:lnTo>
                        <a:pt x="968" y="103"/>
                      </a:lnTo>
                      <a:lnTo>
                        <a:pt x="975" y="93"/>
                      </a:lnTo>
                      <a:lnTo>
                        <a:pt x="980" y="81"/>
                      </a:lnTo>
                      <a:lnTo>
                        <a:pt x="984" y="69"/>
                      </a:lnTo>
                      <a:lnTo>
                        <a:pt x="988" y="56"/>
                      </a:lnTo>
                      <a:lnTo>
                        <a:pt x="991" y="53"/>
                      </a:lnTo>
                      <a:lnTo>
                        <a:pt x="995" y="49"/>
                      </a:lnTo>
                      <a:lnTo>
                        <a:pt x="1000" y="48"/>
                      </a:lnTo>
                      <a:lnTo>
                        <a:pt x="1006" y="49"/>
                      </a:lnTo>
                      <a:lnTo>
                        <a:pt x="1010" y="56"/>
                      </a:lnTo>
                      <a:lnTo>
                        <a:pt x="1013" y="64"/>
                      </a:lnTo>
                      <a:lnTo>
                        <a:pt x="1016" y="71"/>
                      </a:lnTo>
                      <a:lnTo>
                        <a:pt x="1019" y="79"/>
                      </a:lnTo>
                      <a:lnTo>
                        <a:pt x="1024" y="86"/>
                      </a:lnTo>
                      <a:lnTo>
                        <a:pt x="1028" y="92"/>
                      </a:lnTo>
                      <a:lnTo>
                        <a:pt x="1033" y="99"/>
                      </a:lnTo>
                      <a:lnTo>
                        <a:pt x="1039" y="104"/>
                      </a:lnTo>
                      <a:lnTo>
                        <a:pt x="1036" y="90"/>
                      </a:lnTo>
                      <a:lnTo>
                        <a:pt x="1031" y="77"/>
                      </a:lnTo>
                      <a:lnTo>
                        <a:pt x="1024" y="65"/>
                      </a:lnTo>
                      <a:lnTo>
                        <a:pt x="1016" y="52"/>
                      </a:lnTo>
                      <a:lnTo>
                        <a:pt x="1010" y="39"/>
                      </a:lnTo>
                      <a:lnTo>
                        <a:pt x="1004" y="27"/>
                      </a:lnTo>
                      <a:lnTo>
                        <a:pt x="1001" y="14"/>
                      </a:lnTo>
                      <a:lnTo>
                        <a:pt x="1002" y="0"/>
                      </a:lnTo>
                      <a:lnTo>
                        <a:pt x="1428"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25440" y="747720"/>
                  <a:ext cx="585720" cy="841320"/>
                </a:xfrm>
                <a:custGeom>
                  <a:avLst/>
                  <a:gdLst/>
                  <a:ahLst/>
                  <a:rect l="l" t="t" r="r" b="b"/>
                  <a:pathLst>
                    <a:path w="738" h="1059">
                      <a:moveTo>
                        <a:pt x="14" y="1059"/>
                      </a:moveTo>
                      <a:lnTo>
                        <a:pt x="10" y="1037"/>
                      </a:lnTo>
                      <a:lnTo>
                        <a:pt x="10" y="1011"/>
                      </a:lnTo>
                      <a:lnTo>
                        <a:pt x="14" y="989"/>
                      </a:lnTo>
                      <a:lnTo>
                        <a:pt x="23" y="975"/>
                      </a:lnTo>
                      <a:lnTo>
                        <a:pt x="28" y="973"/>
                      </a:lnTo>
                      <a:lnTo>
                        <a:pt x="33" y="974"/>
                      </a:lnTo>
                      <a:lnTo>
                        <a:pt x="38" y="977"/>
                      </a:lnTo>
                      <a:lnTo>
                        <a:pt x="42" y="982"/>
                      </a:lnTo>
                      <a:lnTo>
                        <a:pt x="46" y="987"/>
                      </a:lnTo>
                      <a:lnTo>
                        <a:pt x="50" y="992"/>
                      </a:lnTo>
                      <a:lnTo>
                        <a:pt x="54" y="998"/>
                      </a:lnTo>
                      <a:lnTo>
                        <a:pt x="59" y="1002"/>
                      </a:lnTo>
                      <a:lnTo>
                        <a:pt x="91" y="1026"/>
                      </a:lnTo>
                      <a:lnTo>
                        <a:pt x="96" y="1021"/>
                      </a:lnTo>
                      <a:lnTo>
                        <a:pt x="82" y="1008"/>
                      </a:lnTo>
                      <a:lnTo>
                        <a:pt x="69" y="993"/>
                      </a:lnTo>
                      <a:lnTo>
                        <a:pt x="58" y="979"/>
                      </a:lnTo>
                      <a:lnTo>
                        <a:pt x="47" y="962"/>
                      </a:lnTo>
                      <a:lnTo>
                        <a:pt x="40" y="944"/>
                      </a:lnTo>
                      <a:lnTo>
                        <a:pt x="34" y="926"/>
                      </a:lnTo>
                      <a:lnTo>
                        <a:pt x="33" y="905"/>
                      </a:lnTo>
                      <a:lnTo>
                        <a:pt x="35" y="885"/>
                      </a:lnTo>
                      <a:lnTo>
                        <a:pt x="39" y="874"/>
                      </a:lnTo>
                      <a:lnTo>
                        <a:pt x="44" y="867"/>
                      </a:lnTo>
                      <a:lnTo>
                        <a:pt x="50" y="867"/>
                      </a:lnTo>
                      <a:lnTo>
                        <a:pt x="60" y="873"/>
                      </a:lnTo>
                      <a:lnTo>
                        <a:pt x="66" y="884"/>
                      </a:lnTo>
                      <a:lnTo>
                        <a:pt x="74" y="894"/>
                      </a:lnTo>
                      <a:lnTo>
                        <a:pt x="81" y="903"/>
                      </a:lnTo>
                      <a:lnTo>
                        <a:pt x="89" y="912"/>
                      </a:lnTo>
                      <a:lnTo>
                        <a:pt x="97" y="920"/>
                      </a:lnTo>
                      <a:lnTo>
                        <a:pt x="106" y="928"/>
                      </a:lnTo>
                      <a:lnTo>
                        <a:pt x="116" y="935"/>
                      </a:lnTo>
                      <a:lnTo>
                        <a:pt x="125" y="943"/>
                      </a:lnTo>
                      <a:lnTo>
                        <a:pt x="130" y="939"/>
                      </a:lnTo>
                      <a:lnTo>
                        <a:pt x="134" y="936"/>
                      </a:lnTo>
                      <a:lnTo>
                        <a:pt x="135" y="932"/>
                      </a:lnTo>
                      <a:lnTo>
                        <a:pt x="132" y="928"/>
                      </a:lnTo>
                      <a:lnTo>
                        <a:pt x="125" y="920"/>
                      </a:lnTo>
                      <a:lnTo>
                        <a:pt x="114" y="909"/>
                      </a:lnTo>
                      <a:lnTo>
                        <a:pt x="101" y="893"/>
                      </a:lnTo>
                      <a:lnTo>
                        <a:pt x="86" y="876"/>
                      </a:lnTo>
                      <a:lnTo>
                        <a:pt x="71" y="857"/>
                      </a:lnTo>
                      <a:lnTo>
                        <a:pt x="59" y="838"/>
                      </a:lnTo>
                      <a:lnTo>
                        <a:pt x="48" y="820"/>
                      </a:lnTo>
                      <a:lnTo>
                        <a:pt x="42" y="804"/>
                      </a:lnTo>
                      <a:lnTo>
                        <a:pt x="40" y="789"/>
                      </a:lnTo>
                      <a:lnTo>
                        <a:pt x="41" y="778"/>
                      </a:lnTo>
                      <a:lnTo>
                        <a:pt x="47" y="772"/>
                      </a:lnTo>
                      <a:lnTo>
                        <a:pt x="58" y="770"/>
                      </a:lnTo>
                      <a:lnTo>
                        <a:pt x="66" y="771"/>
                      </a:lnTo>
                      <a:lnTo>
                        <a:pt x="78" y="777"/>
                      </a:lnTo>
                      <a:lnTo>
                        <a:pt x="91" y="786"/>
                      </a:lnTo>
                      <a:lnTo>
                        <a:pt x="104" y="796"/>
                      </a:lnTo>
                      <a:lnTo>
                        <a:pt x="118" y="807"/>
                      </a:lnTo>
                      <a:lnTo>
                        <a:pt x="130" y="816"/>
                      </a:lnTo>
                      <a:lnTo>
                        <a:pt x="140" y="824"/>
                      </a:lnTo>
                      <a:lnTo>
                        <a:pt x="148" y="827"/>
                      </a:lnTo>
                      <a:lnTo>
                        <a:pt x="140" y="820"/>
                      </a:lnTo>
                      <a:lnTo>
                        <a:pt x="128" y="806"/>
                      </a:lnTo>
                      <a:lnTo>
                        <a:pt x="111" y="788"/>
                      </a:lnTo>
                      <a:lnTo>
                        <a:pt x="91" y="767"/>
                      </a:lnTo>
                      <a:lnTo>
                        <a:pt x="71" y="745"/>
                      </a:lnTo>
                      <a:lnTo>
                        <a:pt x="52" y="724"/>
                      </a:lnTo>
                      <a:lnTo>
                        <a:pt x="38" y="706"/>
                      </a:lnTo>
                      <a:lnTo>
                        <a:pt x="27" y="691"/>
                      </a:lnTo>
                      <a:lnTo>
                        <a:pt x="13" y="665"/>
                      </a:lnTo>
                      <a:lnTo>
                        <a:pt x="5" y="642"/>
                      </a:lnTo>
                      <a:lnTo>
                        <a:pt x="0" y="621"/>
                      </a:lnTo>
                      <a:lnTo>
                        <a:pt x="0" y="606"/>
                      </a:lnTo>
                      <a:lnTo>
                        <a:pt x="3" y="592"/>
                      </a:lnTo>
                      <a:lnTo>
                        <a:pt x="6" y="581"/>
                      </a:lnTo>
                      <a:lnTo>
                        <a:pt x="11" y="573"/>
                      </a:lnTo>
                      <a:lnTo>
                        <a:pt x="16" y="567"/>
                      </a:lnTo>
                      <a:lnTo>
                        <a:pt x="22" y="574"/>
                      </a:lnTo>
                      <a:lnTo>
                        <a:pt x="30" y="584"/>
                      </a:lnTo>
                      <a:lnTo>
                        <a:pt x="42" y="598"/>
                      </a:lnTo>
                      <a:lnTo>
                        <a:pt x="53" y="614"/>
                      </a:lnTo>
                      <a:lnTo>
                        <a:pt x="66" y="630"/>
                      </a:lnTo>
                      <a:lnTo>
                        <a:pt x="78" y="646"/>
                      </a:lnTo>
                      <a:lnTo>
                        <a:pt x="88" y="660"/>
                      </a:lnTo>
                      <a:lnTo>
                        <a:pt x="97" y="669"/>
                      </a:lnTo>
                      <a:lnTo>
                        <a:pt x="104" y="663"/>
                      </a:lnTo>
                      <a:lnTo>
                        <a:pt x="92" y="648"/>
                      </a:lnTo>
                      <a:lnTo>
                        <a:pt x="74" y="622"/>
                      </a:lnTo>
                      <a:lnTo>
                        <a:pt x="54" y="589"/>
                      </a:lnTo>
                      <a:lnTo>
                        <a:pt x="35" y="549"/>
                      </a:lnTo>
                      <a:lnTo>
                        <a:pt x="18" y="507"/>
                      </a:lnTo>
                      <a:lnTo>
                        <a:pt x="8" y="465"/>
                      </a:lnTo>
                      <a:lnTo>
                        <a:pt x="5" y="423"/>
                      </a:lnTo>
                      <a:lnTo>
                        <a:pt x="13" y="386"/>
                      </a:lnTo>
                      <a:lnTo>
                        <a:pt x="17" y="382"/>
                      </a:lnTo>
                      <a:lnTo>
                        <a:pt x="21" y="379"/>
                      </a:lnTo>
                      <a:lnTo>
                        <a:pt x="26" y="375"/>
                      </a:lnTo>
                      <a:lnTo>
                        <a:pt x="30" y="371"/>
                      </a:lnTo>
                      <a:lnTo>
                        <a:pt x="35" y="369"/>
                      </a:lnTo>
                      <a:lnTo>
                        <a:pt x="40" y="368"/>
                      </a:lnTo>
                      <a:lnTo>
                        <a:pt x="45" y="367"/>
                      </a:lnTo>
                      <a:lnTo>
                        <a:pt x="50" y="367"/>
                      </a:lnTo>
                      <a:lnTo>
                        <a:pt x="56" y="380"/>
                      </a:lnTo>
                      <a:lnTo>
                        <a:pt x="56" y="395"/>
                      </a:lnTo>
                      <a:lnTo>
                        <a:pt x="59" y="406"/>
                      </a:lnTo>
                      <a:lnTo>
                        <a:pt x="71" y="404"/>
                      </a:lnTo>
                      <a:lnTo>
                        <a:pt x="71" y="400"/>
                      </a:lnTo>
                      <a:lnTo>
                        <a:pt x="70" y="396"/>
                      </a:lnTo>
                      <a:lnTo>
                        <a:pt x="69" y="391"/>
                      </a:lnTo>
                      <a:lnTo>
                        <a:pt x="68" y="390"/>
                      </a:lnTo>
                      <a:lnTo>
                        <a:pt x="60" y="338"/>
                      </a:lnTo>
                      <a:lnTo>
                        <a:pt x="60" y="299"/>
                      </a:lnTo>
                      <a:lnTo>
                        <a:pt x="67" y="271"/>
                      </a:lnTo>
                      <a:lnTo>
                        <a:pt x="78" y="252"/>
                      </a:lnTo>
                      <a:lnTo>
                        <a:pt x="92" y="239"/>
                      </a:lnTo>
                      <a:lnTo>
                        <a:pt x="104" y="233"/>
                      </a:lnTo>
                      <a:lnTo>
                        <a:pt x="115" y="228"/>
                      </a:lnTo>
                      <a:lnTo>
                        <a:pt x="120" y="227"/>
                      </a:lnTo>
                      <a:lnTo>
                        <a:pt x="122" y="239"/>
                      </a:lnTo>
                      <a:lnTo>
                        <a:pt x="120" y="254"/>
                      </a:lnTo>
                      <a:lnTo>
                        <a:pt x="119" y="270"/>
                      </a:lnTo>
                      <a:lnTo>
                        <a:pt x="120" y="284"/>
                      </a:lnTo>
                      <a:lnTo>
                        <a:pt x="118" y="320"/>
                      </a:lnTo>
                      <a:lnTo>
                        <a:pt x="123" y="356"/>
                      </a:lnTo>
                      <a:lnTo>
                        <a:pt x="133" y="390"/>
                      </a:lnTo>
                      <a:lnTo>
                        <a:pt x="142" y="423"/>
                      </a:lnTo>
                      <a:lnTo>
                        <a:pt x="141" y="417"/>
                      </a:lnTo>
                      <a:lnTo>
                        <a:pt x="139" y="400"/>
                      </a:lnTo>
                      <a:lnTo>
                        <a:pt x="137" y="375"/>
                      </a:lnTo>
                      <a:lnTo>
                        <a:pt x="135" y="343"/>
                      </a:lnTo>
                      <a:lnTo>
                        <a:pt x="135" y="308"/>
                      </a:lnTo>
                      <a:lnTo>
                        <a:pt x="138" y="271"/>
                      </a:lnTo>
                      <a:lnTo>
                        <a:pt x="146" y="234"/>
                      </a:lnTo>
                      <a:lnTo>
                        <a:pt x="157" y="200"/>
                      </a:lnTo>
                      <a:lnTo>
                        <a:pt x="163" y="188"/>
                      </a:lnTo>
                      <a:lnTo>
                        <a:pt x="169" y="176"/>
                      </a:lnTo>
                      <a:lnTo>
                        <a:pt x="176" y="165"/>
                      </a:lnTo>
                      <a:lnTo>
                        <a:pt x="184" y="155"/>
                      </a:lnTo>
                      <a:lnTo>
                        <a:pt x="193" y="147"/>
                      </a:lnTo>
                      <a:lnTo>
                        <a:pt x="204" y="139"/>
                      </a:lnTo>
                      <a:lnTo>
                        <a:pt x="217" y="135"/>
                      </a:lnTo>
                      <a:lnTo>
                        <a:pt x="233" y="134"/>
                      </a:lnTo>
                      <a:lnTo>
                        <a:pt x="239" y="140"/>
                      </a:lnTo>
                      <a:lnTo>
                        <a:pt x="230" y="154"/>
                      </a:lnTo>
                      <a:lnTo>
                        <a:pt x="223" y="169"/>
                      </a:lnTo>
                      <a:lnTo>
                        <a:pt x="217" y="185"/>
                      </a:lnTo>
                      <a:lnTo>
                        <a:pt x="211" y="201"/>
                      </a:lnTo>
                      <a:lnTo>
                        <a:pt x="207" y="218"/>
                      </a:lnTo>
                      <a:lnTo>
                        <a:pt x="204" y="234"/>
                      </a:lnTo>
                      <a:lnTo>
                        <a:pt x="201" y="252"/>
                      </a:lnTo>
                      <a:lnTo>
                        <a:pt x="199" y="269"/>
                      </a:lnTo>
                      <a:lnTo>
                        <a:pt x="206" y="277"/>
                      </a:lnTo>
                      <a:lnTo>
                        <a:pt x="213" y="269"/>
                      </a:lnTo>
                      <a:lnTo>
                        <a:pt x="219" y="258"/>
                      </a:lnTo>
                      <a:lnTo>
                        <a:pt x="222" y="245"/>
                      </a:lnTo>
                      <a:lnTo>
                        <a:pt x="225" y="233"/>
                      </a:lnTo>
                      <a:lnTo>
                        <a:pt x="247" y="158"/>
                      </a:lnTo>
                      <a:lnTo>
                        <a:pt x="270" y="105"/>
                      </a:lnTo>
                      <a:lnTo>
                        <a:pt x="291" y="69"/>
                      </a:lnTo>
                      <a:lnTo>
                        <a:pt x="311" y="47"/>
                      </a:lnTo>
                      <a:lnTo>
                        <a:pt x="330" y="35"/>
                      </a:lnTo>
                      <a:lnTo>
                        <a:pt x="347" y="32"/>
                      </a:lnTo>
                      <a:lnTo>
                        <a:pt x="361" y="33"/>
                      </a:lnTo>
                      <a:lnTo>
                        <a:pt x="371" y="35"/>
                      </a:lnTo>
                      <a:lnTo>
                        <a:pt x="377" y="39"/>
                      </a:lnTo>
                      <a:lnTo>
                        <a:pt x="378" y="45"/>
                      </a:lnTo>
                      <a:lnTo>
                        <a:pt x="376" y="50"/>
                      </a:lnTo>
                      <a:lnTo>
                        <a:pt x="371" y="54"/>
                      </a:lnTo>
                      <a:lnTo>
                        <a:pt x="362" y="67"/>
                      </a:lnTo>
                      <a:lnTo>
                        <a:pt x="352" y="80"/>
                      </a:lnTo>
                      <a:lnTo>
                        <a:pt x="342" y="93"/>
                      </a:lnTo>
                      <a:lnTo>
                        <a:pt x="333" y="106"/>
                      </a:lnTo>
                      <a:lnTo>
                        <a:pt x="324" y="120"/>
                      </a:lnTo>
                      <a:lnTo>
                        <a:pt x="316" y="134"/>
                      </a:lnTo>
                      <a:lnTo>
                        <a:pt x="310" y="148"/>
                      </a:lnTo>
                      <a:lnTo>
                        <a:pt x="305" y="161"/>
                      </a:lnTo>
                      <a:lnTo>
                        <a:pt x="307" y="170"/>
                      </a:lnTo>
                      <a:lnTo>
                        <a:pt x="312" y="167"/>
                      </a:lnTo>
                      <a:lnTo>
                        <a:pt x="319" y="158"/>
                      </a:lnTo>
                      <a:lnTo>
                        <a:pt x="328" y="147"/>
                      </a:lnTo>
                      <a:lnTo>
                        <a:pt x="338" y="131"/>
                      </a:lnTo>
                      <a:lnTo>
                        <a:pt x="350" y="114"/>
                      </a:lnTo>
                      <a:lnTo>
                        <a:pt x="363" y="95"/>
                      </a:lnTo>
                      <a:lnTo>
                        <a:pt x="378" y="76"/>
                      </a:lnTo>
                      <a:lnTo>
                        <a:pt x="394" y="58"/>
                      </a:lnTo>
                      <a:lnTo>
                        <a:pt x="409" y="41"/>
                      </a:lnTo>
                      <a:lnTo>
                        <a:pt x="428" y="25"/>
                      </a:lnTo>
                      <a:lnTo>
                        <a:pt x="447" y="13"/>
                      </a:lnTo>
                      <a:lnTo>
                        <a:pt x="466" y="5"/>
                      </a:lnTo>
                      <a:lnTo>
                        <a:pt x="486" y="0"/>
                      </a:lnTo>
                      <a:lnTo>
                        <a:pt x="507" y="3"/>
                      </a:lnTo>
                      <a:lnTo>
                        <a:pt x="528" y="11"/>
                      </a:lnTo>
                      <a:lnTo>
                        <a:pt x="550" y="27"/>
                      </a:lnTo>
                      <a:lnTo>
                        <a:pt x="550" y="45"/>
                      </a:lnTo>
                      <a:lnTo>
                        <a:pt x="529" y="51"/>
                      </a:lnTo>
                      <a:lnTo>
                        <a:pt x="510" y="59"/>
                      </a:lnTo>
                      <a:lnTo>
                        <a:pt x="493" y="67"/>
                      </a:lnTo>
                      <a:lnTo>
                        <a:pt x="477" y="77"/>
                      </a:lnTo>
                      <a:lnTo>
                        <a:pt x="462" y="88"/>
                      </a:lnTo>
                      <a:lnTo>
                        <a:pt x="450" y="101"/>
                      </a:lnTo>
                      <a:lnTo>
                        <a:pt x="437" y="114"/>
                      </a:lnTo>
                      <a:lnTo>
                        <a:pt x="426" y="129"/>
                      </a:lnTo>
                      <a:lnTo>
                        <a:pt x="417" y="143"/>
                      </a:lnTo>
                      <a:lnTo>
                        <a:pt x="407" y="159"/>
                      </a:lnTo>
                      <a:lnTo>
                        <a:pt x="400" y="176"/>
                      </a:lnTo>
                      <a:lnTo>
                        <a:pt x="393" y="193"/>
                      </a:lnTo>
                      <a:lnTo>
                        <a:pt x="385" y="211"/>
                      </a:lnTo>
                      <a:lnTo>
                        <a:pt x="379" y="229"/>
                      </a:lnTo>
                      <a:lnTo>
                        <a:pt x="372" y="247"/>
                      </a:lnTo>
                      <a:lnTo>
                        <a:pt x="367" y="266"/>
                      </a:lnTo>
                      <a:lnTo>
                        <a:pt x="358" y="306"/>
                      </a:lnTo>
                      <a:lnTo>
                        <a:pt x="354" y="351"/>
                      </a:lnTo>
                      <a:lnTo>
                        <a:pt x="357" y="400"/>
                      </a:lnTo>
                      <a:lnTo>
                        <a:pt x="364" y="450"/>
                      </a:lnTo>
                      <a:lnTo>
                        <a:pt x="376" y="501"/>
                      </a:lnTo>
                      <a:lnTo>
                        <a:pt x="393" y="548"/>
                      </a:lnTo>
                      <a:lnTo>
                        <a:pt x="414" y="593"/>
                      </a:lnTo>
                      <a:lnTo>
                        <a:pt x="438" y="631"/>
                      </a:lnTo>
                      <a:lnTo>
                        <a:pt x="450" y="647"/>
                      </a:lnTo>
                      <a:lnTo>
                        <a:pt x="464" y="663"/>
                      </a:lnTo>
                      <a:lnTo>
                        <a:pt x="476" y="678"/>
                      </a:lnTo>
                      <a:lnTo>
                        <a:pt x="491" y="692"/>
                      </a:lnTo>
                      <a:lnTo>
                        <a:pt x="505" y="707"/>
                      </a:lnTo>
                      <a:lnTo>
                        <a:pt x="521" y="721"/>
                      </a:lnTo>
                      <a:lnTo>
                        <a:pt x="536" y="735"/>
                      </a:lnTo>
                      <a:lnTo>
                        <a:pt x="550" y="750"/>
                      </a:lnTo>
                      <a:lnTo>
                        <a:pt x="566" y="763"/>
                      </a:lnTo>
                      <a:lnTo>
                        <a:pt x="581" y="777"/>
                      </a:lnTo>
                      <a:lnTo>
                        <a:pt x="596" y="792"/>
                      </a:lnTo>
                      <a:lnTo>
                        <a:pt x="611" y="807"/>
                      </a:lnTo>
                      <a:lnTo>
                        <a:pt x="625" y="822"/>
                      </a:lnTo>
                      <a:lnTo>
                        <a:pt x="638" y="837"/>
                      </a:lnTo>
                      <a:lnTo>
                        <a:pt x="651" y="852"/>
                      </a:lnTo>
                      <a:lnTo>
                        <a:pt x="664" y="868"/>
                      </a:lnTo>
                      <a:lnTo>
                        <a:pt x="682" y="895"/>
                      </a:lnTo>
                      <a:lnTo>
                        <a:pt x="697" y="923"/>
                      </a:lnTo>
                      <a:lnTo>
                        <a:pt x="710" y="952"/>
                      </a:lnTo>
                      <a:lnTo>
                        <a:pt x="721" y="980"/>
                      </a:lnTo>
                      <a:lnTo>
                        <a:pt x="730" y="1005"/>
                      </a:lnTo>
                      <a:lnTo>
                        <a:pt x="735" y="1027"/>
                      </a:lnTo>
                      <a:lnTo>
                        <a:pt x="738" y="1045"/>
                      </a:lnTo>
                      <a:lnTo>
                        <a:pt x="738" y="1059"/>
                      </a:lnTo>
                      <a:lnTo>
                        <a:pt x="14" y="105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1127160" y="979560"/>
                  <a:ext cx="690480" cy="609480"/>
                </a:xfrm>
                <a:custGeom>
                  <a:avLst/>
                  <a:gdLst/>
                  <a:ahLst/>
                  <a:rect l="l" t="t" r="r" b="b"/>
                  <a:pathLst>
                    <a:path w="871" h="767">
                      <a:moveTo>
                        <a:pt x="0" y="767"/>
                      </a:moveTo>
                      <a:lnTo>
                        <a:pt x="2" y="762"/>
                      </a:lnTo>
                      <a:lnTo>
                        <a:pt x="6" y="755"/>
                      </a:lnTo>
                      <a:lnTo>
                        <a:pt x="10" y="749"/>
                      </a:lnTo>
                      <a:lnTo>
                        <a:pt x="16" y="742"/>
                      </a:lnTo>
                      <a:lnTo>
                        <a:pt x="24" y="737"/>
                      </a:lnTo>
                      <a:lnTo>
                        <a:pt x="29" y="732"/>
                      </a:lnTo>
                      <a:lnTo>
                        <a:pt x="34" y="730"/>
                      </a:lnTo>
                      <a:lnTo>
                        <a:pt x="41" y="733"/>
                      </a:lnTo>
                      <a:lnTo>
                        <a:pt x="41" y="726"/>
                      </a:lnTo>
                      <a:lnTo>
                        <a:pt x="37" y="719"/>
                      </a:lnTo>
                      <a:lnTo>
                        <a:pt x="31" y="713"/>
                      </a:lnTo>
                      <a:lnTo>
                        <a:pt x="26" y="707"/>
                      </a:lnTo>
                      <a:lnTo>
                        <a:pt x="34" y="648"/>
                      </a:lnTo>
                      <a:lnTo>
                        <a:pt x="51" y="598"/>
                      </a:lnTo>
                      <a:lnTo>
                        <a:pt x="76" y="554"/>
                      </a:lnTo>
                      <a:lnTo>
                        <a:pt x="103" y="519"/>
                      </a:lnTo>
                      <a:lnTo>
                        <a:pt x="132" y="491"/>
                      </a:lnTo>
                      <a:lnTo>
                        <a:pt x="158" y="469"/>
                      </a:lnTo>
                      <a:lnTo>
                        <a:pt x="181" y="453"/>
                      </a:lnTo>
                      <a:lnTo>
                        <a:pt x="194" y="445"/>
                      </a:lnTo>
                      <a:lnTo>
                        <a:pt x="195" y="433"/>
                      </a:lnTo>
                      <a:lnTo>
                        <a:pt x="200" y="423"/>
                      </a:lnTo>
                      <a:lnTo>
                        <a:pt x="206" y="413"/>
                      </a:lnTo>
                      <a:lnTo>
                        <a:pt x="213" y="406"/>
                      </a:lnTo>
                      <a:lnTo>
                        <a:pt x="221" y="397"/>
                      </a:lnTo>
                      <a:lnTo>
                        <a:pt x="228" y="390"/>
                      </a:lnTo>
                      <a:lnTo>
                        <a:pt x="234" y="380"/>
                      </a:lnTo>
                      <a:lnTo>
                        <a:pt x="238" y="371"/>
                      </a:lnTo>
                      <a:lnTo>
                        <a:pt x="245" y="367"/>
                      </a:lnTo>
                      <a:lnTo>
                        <a:pt x="254" y="364"/>
                      </a:lnTo>
                      <a:lnTo>
                        <a:pt x="261" y="362"/>
                      </a:lnTo>
                      <a:lnTo>
                        <a:pt x="268" y="361"/>
                      </a:lnTo>
                      <a:lnTo>
                        <a:pt x="277" y="347"/>
                      </a:lnTo>
                      <a:lnTo>
                        <a:pt x="285" y="334"/>
                      </a:lnTo>
                      <a:lnTo>
                        <a:pt x="295" y="320"/>
                      </a:lnTo>
                      <a:lnTo>
                        <a:pt x="306" y="307"/>
                      </a:lnTo>
                      <a:lnTo>
                        <a:pt x="316" y="296"/>
                      </a:lnTo>
                      <a:lnTo>
                        <a:pt x="329" y="285"/>
                      </a:lnTo>
                      <a:lnTo>
                        <a:pt x="342" y="276"/>
                      </a:lnTo>
                      <a:lnTo>
                        <a:pt x="355" y="269"/>
                      </a:lnTo>
                      <a:lnTo>
                        <a:pt x="362" y="275"/>
                      </a:lnTo>
                      <a:lnTo>
                        <a:pt x="374" y="257"/>
                      </a:lnTo>
                      <a:lnTo>
                        <a:pt x="387" y="239"/>
                      </a:lnTo>
                      <a:lnTo>
                        <a:pt x="401" y="221"/>
                      </a:lnTo>
                      <a:lnTo>
                        <a:pt x="414" y="203"/>
                      </a:lnTo>
                      <a:lnTo>
                        <a:pt x="428" y="186"/>
                      </a:lnTo>
                      <a:lnTo>
                        <a:pt x="443" y="170"/>
                      </a:lnTo>
                      <a:lnTo>
                        <a:pt x="459" y="155"/>
                      </a:lnTo>
                      <a:lnTo>
                        <a:pt x="477" y="141"/>
                      </a:lnTo>
                      <a:lnTo>
                        <a:pt x="477" y="135"/>
                      </a:lnTo>
                      <a:lnTo>
                        <a:pt x="480" y="132"/>
                      </a:lnTo>
                      <a:lnTo>
                        <a:pt x="485" y="129"/>
                      </a:lnTo>
                      <a:lnTo>
                        <a:pt x="491" y="128"/>
                      </a:lnTo>
                      <a:lnTo>
                        <a:pt x="498" y="126"/>
                      </a:lnTo>
                      <a:lnTo>
                        <a:pt x="506" y="125"/>
                      </a:lnTo>
                      <a:lnTo>
                        <a:pt x="512" y="123"/>
                      </a:lnTo>
                      <a:lnTo>
                        <a:pt x="519" y="120"/>
                      </a:lnTo>
                      <a:lnTo>
                        <a:pt x="537" y="127"/>
                      </a:lnTo>
                      <a:lnTo>
                        <a:pt x="552" y="112"/>
                      </a:lnTo>
                      <a:lnTo>
                        <a:pt x="569" y="97"/>
                      </a:lnTo>
                      <a:lnTo>
                        <a:pt x="586" y="83"/>
                      </a:lnTo>
                      <a:lnTo>
                        <a:pt x="604" y="70"/>
                      </a:lnTo>
                      <a:lnTo>
                        <a:pt x="623" y="57"/>
                      </a:lnTo>
                      <a:lnTo>
                        <a:pt x="644" y="45"/>
                      </a:lnTo>
                      <a:lnTo>
                        <a:pt x="665" y="36"/>
                      </a:lnTo>
                      <a:lnTo>
                        <a:pt x="687" y="28"/>
                      </a:lnTo>
                      <a:lnTo>
                        <a:pt x="702" y="24"/>
                      </a:lnTo>
                      <a:lnTo>
                        <a:pt x="718" y="20"/>
                      </a:lnTo>
                      <a:lnTo>
                        <a:pt x="733" y="16"/>
                      </a:lnTo>
                      <a:lnTo>
                        <a:pt x="747" y="12"/>
                      </a:lnTo>
                      <a:lnTo>
                        <a:pt x="762" y="8"/>
                      </a:lnTo>
                      <a:lnTo>
                        <a:pt x="777" y="6"/>
                      </a:lnTo>
                      <a:lnTo>
                        <a:pt x="792" y="5"/>
                      </a:lnTo>
                      <a:lnTo>
                        <a:pt x="808" y="4"/>
                      </a:lnTo>
                      <a:lnTo>
                        <a:pt x="814" y="2"/>
                      </a:lnTo>
                      <a:lnTo>
                        <a:pt x="821" y="1"/>
                      </a:lnTo>
                      <a:lnTo>
                        <a:pt x="829" y="1"/>
                      </a:lnTo>
                      <a:lnTo>
                        <a:pt x="838" y="0"/>
                      </a:lnTo>
                      <a:lnTo>
                        <a:pt x="846" y="1"/>
                      </a:lnTo>
                      <a:lnTo>
                        <a:pt x="855" y="2"/>
                      </a:lnTo>
                      <a:lnTo>
                        <a:pt x="862" y="3"/>
                      </a:lnTo>
                      <a:lnTo>
                        <a:pt x="868" y="5"/>
                      </a:lnTo>
                      <a:lnTo>
                        <a:pt x="871" y="15"/>
                      </a:lnTo>
                      <a:lnTo>
                        <a:pt x="870" y="23"/>
                      </a:lnTo>
                      <a:lnTo>
                        <a:pt x="867" y="28"/>
                      </a:lnTo>
                      <a:lnTo>
                        <a:pt x="863" y="34"/>
                      </a:lnTo>
                      <a:lnTo>
                        <a:pt x="856" y="37"/>
                      </a:lnTo>
                      <a:lnTo>
                        <a:pt x="848" y="39"/>
                      </a:lnTo>
                      <a:lnTo>
                        <a:pt x="841" y="41"/>
                      </a:lnTo>
                      <a:lnTo>
                        <a:pt x="834" y="42"/>
                      </a:lnTo>
                      <a:lnTo>
                        <a:pt x="809" y="46"/>
                      </a:lnTo>
                      <a:lnTo>
                        <a:pt x="784" y="52"/>
                      </a:lnTo>
                      <a:lnTo>
                        <a:pt x="759" y="59"/>
                      </a:lnTo>
                      <a:lnTo>
                        <a:pt x="735" y="68"/>
                      </a:lnTo>
                      <a:lnTo>
                        <a:pt x="711" y="77"/>
                      </a:lnTo>
                      <a:lnTo>
                        <a:pt x="689" y="88"/>
                      </a:lnTo>
                      <a:lnTo>
                        <a:pt x="667" y="101"/>
                      </a:lnTo>
                      <a:lnTo>
                        <a:pt x="646" y="113"/>
                      </a:lnTo>
                      <a:lnTo>
                        <a:pt x="626" y="127"/>
                      </a:lnTo>
                      <a:lnTo>
                        <a:pt x="607" y="142"/>
                      </a:lnTo>
                      <a:lnTo>
                        <a:pt x="587" y="158"/>
                      </a:lnTo>
                      <a:lnTo>
                        <a:pt x="569" y="174"/>
                      </a:lnTo>
                      <a:lnTo>
                        <a:pt x="552" y="191"/>
                      </a:lnTo>
                      <a:lnTo>
                        <a:pt x="537" y="209"/>
                      </a:lnTo>
                      <a:lnTo>
                        <a:pt x="522" y="227"/>
                      </a:lnTo>
                      <a:lnTo>
                        <a:pt x="508" y="246"/>
                      </a:lnTo>
                      <a:lnTo>
                        <a:pt x="473" y="293"/>
                      </a:lnTo>
                      <a:lnTo>
                        <a:pt x="444" y="347"/>
                      </a:lnTo>
                      <a:lnTo>
                        <a:pt x="421" y="407"/>
                      </a:lnTo>
                      <a:lnTo>
                        <a:pt x="404" y="470"/>
                      </a:lnTo>
                      <a:lnTo>
                        <a:pt x="396" y="536"/>
                      </a:lnTo>
                      <a:lnTo>
                        <a:pt x="395" y="603"/>
                      </a:lnTo>
                      <a:lnTo>
                        <a:pt x="403" y="669"/>
                      </a:lnTo>
                      <a:lnTo>
                        <a:pt x="420" y="733"/>
                      </a:lnTo>
                      <a:lnTo>
                        <a:pt x="424" y="743"/>
                      </a:lnTo>
                      <a:lnTo>
                        <a:pt x="426" y="751"/>
                      </a:lnTo>
                      <a:lnTo>
                        <a:pt x="426" y="760"/>
                      </a:lnTo>
                      <a:lnTo>
                        <a:pt x="426" y="767"/>
                      </a:lnTo>
                      <a:lnTo>
                        <a:pt x="0" y="76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1420920" y="1120680"/>
                  <a:ext cx="88920" cy="147600"/>
                </a:xfrm>
                <a:custGeom>
                  <a:avLst/>
                  <a:gdLst/>
                  <a:ahLst/>
                  <a:rect l="l" t="t" r="r" b="b"/>
                  <a:pathLst>
                    <a:path w="112" h="185">
                      <a:moveTo>
                        <a:pt x="18" y="156"/>
                      </a:moveTo>
                      <a:lnTo>
                        <a:pt x="3" y="185"/>
                      </a:lnTo>
                      <a:lnTo>
                        <a:pt x="0" y="184"/>
                      </a:lnTo>
                      <a:lnTo>
                        <a:pt x="12" y="159"/>
                      </a:lnTo>
                      <a:lnTo>
                        <a:pt x="23" y="133"/>
                      </a:lnTo>
                      <a:lnTo>
                        <a:pt x="34" y="108"/>
                      </a:lnTo>
                      <a:lnTo>
                        <a:pt x="47" y="85"/>
                      </a:lnTo>
                      <a:lnTo>
                        <a:pt x="60" y="61"/>
                      </a:lnTo>
                      <a:lnTo>
                        <a:pt x="74" y="40"/>
                      </a:lnTo>
                      <a:lnTo>
                        <a:pt x="91" y="19"/>
                      </a:lnTo>
                      <a:lnTo>
                        <a:pt x="112" y="0"/>
                      </a:lnTo>
                      <a:lnTo>
                        <a:pt x="99" y="18"/>
                      </a:lnTo>
                      <a:lnTo>
                        <a:pt x="86" y="36"/>
                      </a:lnTo>
                      <a:lnTo>
                        <a:pt x="73" y="55"/>
                      </a:lnTo>
                      <a:lnTo>
                        <a:pt x="61" y="74"/>
                      </a:lnTo>
                      <a:lnTo>
                        <a:pt x="49" y="93"/>
                      </a:lnTo>
                      <a:lnTo>
                        <a:pt x="38" y="113"/>
                      </a:lnTo>
                      <a:lnTo>
                        <a:pt x="28" y="134"/>
                      </a:lnTo>
                      <a:lnTo>
                        <a:pt x="18" y="156"/>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1380960" y="1251000"/>
                  <a:ext cx="3240" cy="7920"/>
                </a:xfrm>
                <a:custGeom>
                  <a:avLst/>
                  <a:gdLst/>
                  <a:ahLst/>
                  <a:rect l="l" t="t" r="r" b="b"/>
                  <a:pathLst>
                    <a:path w="5" h="11">
                      <a:moveTo>
                        <a:pt x="5" y="0"/>
                      </a:moveTo>
                      <a:lnTo>
                        <a:pt x="0" y="11"/>
                      </a:lnTo>
                      <a:lnTo>
                        <a:pt x="5"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31" name=""/>
                <p:cNvSpPr/>
                <p:nvPr/>
              </p:nvSpPr>
              <p:spPr>
                <a:xfrm>
                  <a:off x="1359000" y="1273320"/>
                  <a:ext cx="11160" cy="23760"/>
                </a:xfrm>
                <a:custGeom>
                  <a:avLst/>
                  <a:gdLst/>
                  <a:ahLst/>
                  <a:rect l="l" t="t" r="r" b="b"/>
                  <a:pathLst>
                    <a:path w="14" h="29">
                      <a:moveTo>
                        <a:pt x="0" y="29"/>
                      </a:moveTo>
                      <a:lnTo>
                        <a:pt x="1" y="24"/>
                      </a:lnTo>
                      <a:lnTo>
                        <a:pt x="4" y="16"/>
                      </a:lnTo>
                      <a:lnTo>
                        <a:pt x="8" y="7"/>
                      </a:lnTo>
                      <a:lnTo>
                        <a:pt x="14" y="0"/>
                      </a:lnTo>
                      <a:lnTo>
                        <a:pt x="13" y="8"/>
                      </a:lnTo>
                      <a:lnTo>
                        <a:pt x="9" y="16"/>
                      </a:lnTo>
                      <a:lnTo>
                        <a:pt x="4" y="22"/>
                      </a:lnTo>
                      <a:lnTo>
                        <a:pt x="0"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2" name=""/>
                <p:cNvSpPr/>
                <p:nvPr/>
              </p:nvSpPr>
              <p:spPr>
                <a:xfrm>
                  <a:off x="1193760" y="1501920"/>
                  <a:ext cx="9720" cy="34920"/>
                </a:xfrm>
                <a:custGeom>
                  <a:avLst/>
                  <a:gdLst/>
                  <a:ahLst/>
                  <a:rect l="l" t="t" r="r" b="b"/>
                  <a:pathLst>
                    <a:path w="13" h="43">
                      <a:moveTo>
                        <a:pt x="8" y="43"/>
                      </a:moveTo>
                      <a:lnTo>
                        <a:pt x="6" y="32"/>
                      </a:lnTo>
                      <a:lnTo>
                        <a:pt x="1" y="20"/>
                      </a:lnTo>
                      <a:lnTo>
                        <a:pt x="0" y="8"/>
                      </a:lnTo>
                      <a:lnTo>
                        <a:pt x="8" y="0"/>
                      </a:lnTo>
                      <a:lnTo>
                        <a:pt x="13" y="11"/>
                      </a:lnTo>
                      <a:lnTo>
                        <a:pt x="11" y="21"/>
                      </a:lnTo>
                      <a:lnTo>
                        <a:pt x="8" y="32"/>
                      </a:lnTo>
                      <a:lnTo>
                        <a:pt x="8" y="43"/>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433" name=""/>
                <p:cNvSpPr/>
                <p:nvPr/>
              </p:nvSpPr>
              <p:spPr>
                <a:xfrm>
                  <a:off x="1166760" y="1573200"/>
                  <a:ext cx="9720" cy="23760"/>
                </a:xfrm>
                <a:custGeom>
                  <a:avLst/>
                  <a:gdLst/>
                  <a:ahLst/>
                  <a:rect l="l" t="t" r="r" b="b"/>
                  <a:pathLst>
                    <a:path w="13" h="30">
                      <a:moveTo>
                        <a:pt x="13" y="21"/>
                      </a:moveTo>
                      <a:lnTo>
                        <a:pt x="13" y="25"/>
                      </a:lnTo>
                      <a:lnTo>
                        <a:pt x="12" y="27"/>
                      </a:lnTo>
                      <a:lnTo>
                        <a:pt x="10" y="28"/>
                      </a:lnTo>
                      <a:lnTo>
                        <a:pt x="7" y="30"/>
                      </a:lnTo>
                      <a:lnTo>
                        <a:pt x="2" y="25"/>
                      </a:lnTo>
                      <a:lnTo>
                        <a:pt x="1" y="17"/>
                      </a:lnTo>
                      <a:lnTo>
                        <a:pt x="1" y="8"/>
                      </a:lnTo>
                      <a:lnTo>
                        <a:pt x="0" y="0"/>
                      </a:lnTo>
                      <a:lnTo>
                        <a:pt x="5" y="2"/>
                      </a:lnTo>
                      <a:lnTo>
                        <a:pt x="8" y="7"/>
                      </a:lnTo>
                      <a:lnTo>
                        <a:pt x="10" y="15"/>
                      </a:lnTo>
                      <a:lnTo>
                        <a:pt x="13" y="21"/>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34" name=""/>
                <p:cNvSpPr/>
                <p:nvPr/>
              </p:nvSpPr>
              <p:spPr>
                <a:xfrm>
                  <a:off x="1176480" y="1616040"/>
                  <a:ext cx="17280" cy="33480"/>
                </a:xfrm>
                <a:custGeom>
                  <a:avLst/>
                  <a:gdLst/>
                  <a:ahLst/>
                  <a:rect l="l" t="t" r="r" b="b"/>
                  <a:pathLst>
                    <a:path w="20" h="42">
                      <a:moveTo>
                        <a:pt x="20" y="42"/>
                      </a:moveTo>
                      <a:lnTo>
                        <a:pt x="12" y="35"/>
                      </a:lnTo>
                      <a:lnTo>
                        <a:pt x="4" y="27"/>
                      </a:lnTo>
                      <a:lnTo>
                        <a:pt x="0" y="16"/>
                      </a:lnTo>
                      <a:lnTo>
                        <a:pt x="1" y="0"/>
                      </a:lnTo>
                      <a:lnTo>
                        <a:pt x="7" y="9"/>
                      </a:lnTo>
                      <a:lnTo>
                        <a:pt x="13" y="20"/>
                      </a:lnTo>
                      <a:lnTo>
                        <a:pt x="17" y="32"/>
                      </a:lnTo>
                      <a:lnTo>
                        <a:pt x="20" y="42"/>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435" name=""/>
                <p:cNvSpPr/>
                <p:nvPr/>
              </p:nvSpPr>
              <p:spPr>
                <a:xfrm>
                  <a:off x="1189080" y="1704960"/>
                  <a:ext cx="19080" cy="15840"/>
                </a:xfrm>
                <a:custGeom>
                  <a:avLst/>
                  <a:gdLst/>
                  <a:ahLst/>
                  <a:rect l="l" t="t" r="r" b="b"/>
                  <a:pathLst>
                    <a:path w="24" h="19">
                      <a:moveTo>
                        <a:pt x="24" y="17"/>
                      </a:moveTo>
                      <a:lnTo>
                        <a:pt x="19" y="19"/>
                      </a:lnTo>
                      <a:lnTo>
                        <a:pt x="14" y="18"/>
                      </a:lnTo>
                      <a:lnTo>
                        <a:pt x="6" y="16"/>
                      </a:lnTo>
                      <a:lnTo>
                        <a:pt x="0" y="13"/>
                      </a:lnTo>
                      <a:lnTo>
                        <a:pt x="0" y="8"/>
                      </a:lnTo>
                      <a:lnTo>
                        <a:pt x="2" y="5"/>
                      </a:lnTo>
                      <a:lnTo>
                        <a:pt x="5" y="3"/>
                      </a:lnTo>
                      <a:lnTo>
                        <a:pt x="8" y="0"/>
                      </a:lnTo>
                      <a:lnTo>
                        <a:pt x="15" y="4"/>
                      </a:lnTo>
                      <a:lnTo>
                        <a:pt x="18" y="8"/>
                      </a:lnTo>
                      <a:lnTo>
                        <a:pt x="21" y="13"/>
                      </a:lnTo>
                      <a:lnTo>
                        <a:pt x="24" y="1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436" name=""/>
                <p:cNvSpPr/>
                <p:nvPr/>
              </p:nvSpPr>
              <p:spPr>
                <a:xfrm>
                  <a:off x="1111320" y="1862280"/>
                  <a:ext cx="54000" cy="52200"/>
                </a:xfrm>
                <a:custGeom>
                  <a:avLst/>
                  <a:gdLst/>
                  <a:ahLst/>
                  <a:rect l="l" t="t" r="r" b="b"/>
                  <a:pathLst>
                    <a:path w="69" h="65">
                      <a:moveTo>
                        <a:pt x="46" y="29"/>
                      </a:moveTo>
                      <a:lnTo>
                        <a:pt x="69" y="32"/>
                      </a:lnTo>
                      <a:lnTo>
                        <a:pt x="64" y="40"/>
                      </a:lnTo>
                      <a:lnTo>
                        <a:pt x="64" y="50"/>
                      </a:lnTo>
                      <a:lnTo>
                        <a:pt x="62" y="60"/>
                      </a:lnTo>
                      <a:lnTo>
                        <a:pt x="53" y="65"/>
                      </a:lnTo>
                      <a:lnTo>
                        <a:pt x="46" y="65"/>
                      </a:lnTo>
                      <a:lnTo>
                        <a:pt x="38" y="64"/>
                      </a:lnTo>
                      <a:lnTo>
                        <a:pt x="32" y="62"/>
                      </a:lnTo>
                      <a:lnTo>
                        <a:pt x="27" y="59"/>
                      </a:lnTo>
                      <a:lnTo>
                        <a:pt x="21" y="55"/>
                      </a:lnTo>
                      <a:lnTo>
                        <a:pt x="16" y="50"/>
                      </a:lnTo>
                      <a:lnTo>
                        <a:pt x="12" y="46"/>
                      </a:lnTo>
                      <a:lnTo>
                        <a:pt x="7" y="41"/>
                      </a:lnTo>
                      <a:lnTo>
                        <a:pt x="7" y="32"/>
                      </a:lnTo>
                      <a:lnTo>
                        <a:pt x="3" y="25"/>
                      </a:lnTo>
                      <a:lnTo>
                        <a:pt x="0" y="19"/>
                      </a:lnTo>
                      <a:lnTo>
                        <a:pt x="0" y="9"/>
                      </a:lnTo>
                      <a:lnTo>
                        <a:pt x="3" y="6"/>
                      </a:lnTo>
                      <a:lnTo>
                        <a:pt x="8" y="3"/>
                      </a:lnTo>
                      <a:lnTo>
                        <a:pt x="12" y="1"/>
                      </a:lnTo>
                      <a:lnTo>
                        <a:pt x="15" y="0"/>
                      </a:lnTo>
                      <a:lnTo>
                        <a:pt x="21" y="9"/>
                      </a:lnTo>
                      <a:lnTo>
                        <a:pt x="28" y="18"/>
                      </a:lnTo>
                      <a:lnTo>
                        <a:pt x="36" y="24"/>
                      </a:lnTo>
                      <a:lnTo>
                        <a:pt x="46"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437" name=""/>
                <p:cNvSpPr/>
                <p:nvPr/>
              </p:nvSpPr>
              <p:spPr>
                <a:xfrm>
                  <a:off x="1100160" y="2071800"/>
                  <a:ext cx="84240" cy="48960"/>
                </a:xfrm>
                <a:custGeom>
                  <a:avLst/>
                  <a:gdLst/>
                  <a:ahLst/>
                  <a:rect l="l" t="t" r="r" b="b"/>
                  <a:pathLst>
                    <a:path w="107" h="64">
                      <a:moveTo>
                        <a:pt x="104" y="29"/>
                      </a:moveTo>
                      <a:lnTo>
                        <a:pt x="98" y="37"/>
                      </a:lnTo>
                      <a:lnTo>
                        <a:pt x="88" y="43"/>
                      </a:lnTo>
                      <a:lnTo>
                        <a:pt x="78" y="46"/>
                      </a:lnTo>
                      <a:lnTo>
                        <a:pt x="66" y="47"/>
                      </a:lnTo>
                      <a:lnTo>
                        <a:pt x="54" y="49"/>
                      </a:lnTo>
                      <a:lnTo>
                        <a:pt x="44" y="51"/>
                      </a:lnTo>
                      <a:lnTo>
                        <a:pt x="34" y="57"/>
                      </a:lnTo>
                      <a:lnTo>
                        <a:pt x="28" y="64"/>
                      </a:lnTo>
                      <a:lnTo>
                        <a:pt x="18" y="64"/>
                      </a:lnTo>
                      <a:lnTo>
                        <a:pt x="11" y="60"/>
                      </a:lnTo>
                      <a:lnTo>
                        <a:pt x="5" y="54"/>
                      </a:lnTo>
                      <a:lnTo>
                        <a:pt x="0" y="47"/>
                      </a:lnTo>
                      <a:lnTo>
                        <a:pt x="5" y="43"/>
                      </a:lnTo>
                      <a:lnTo>
                        <a:pt x="11" y="40"/>
                      </a:lnTo>
                      <a:lnTo>
                        <a:pt x="18" y="37"/>
                      </a:lnTo>
                      <a:lnTo>
                        <a:pt x="26" y="35"/>
                      </a:lnTo>
                      <a:lnTo>
                        <a:pt x="33" y="34"/>
                      </a:lnTo>
                      <a:lnTo>
                        <a:pt x="41" y="32"/>
                      </a:lnTo>
                      <a:lnTo>
                        <a:pt x="48" y="29"/>
                      </a:lnTo>
                      <a:lnTo>
                        <a:pt x="53" y="25"/>
                      </a:lnTo>
                      <a:lnTo>
                        <a:pt x="60" y="23"/>
                      </a:lnTo>
                      <a:lnTo>
                        <a:pt x="67" y="17"/>
                      </a:lnTo>
                      <a:lnTo>
                        <a:pt x="75" y="11"/>
                      </a:lnTo>
                      <a:lnTo>
                        <a:pt x="82" y="6"/>
                      </a:lnTo>
                      <a:lnTo>
                        <a:pt x="89" y="1"/>
                      </a:lnTo>
                      <a:lnTo>
                        <a:pt x="96" y="0"/>
                      </a:lnTo>
                      <a:lnTo>
                        <a:pt x="102" y="5"/>
                      </a:lnTo>
                      <a:lnTo>
                        <a:pt x="107" y="15"/>
                      </a:lnTo>
                      <a:lnTo>
                        <a:pt x="104"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438" name=""/>
                <p:cNvSpPr/>
                <p:nvPr/>
              </p:nvSpPr>
              <p:spPr>
                <a:xfrm>
                  <a:off x="396720" y="2101680"/>
                  <a:ext cx="233640" cy="130320"/>
                </a:xfrm>
                <a:custGeom>
                  <a:avLst/>
                  <a:gdLst/>
                  <a:ahLst/>
                  <a:rect l="l" t="t" r="r" b="b"/>
                  <a:pathLst>
                    <a:path w="293" h="164">
                      <a:moveTo>
                        <a:pt x="293" y="27"/>
                      </a:moveTo>
                      <a:lnTo>
                        <a:pt x="289" y="32"/>
                      </a:lnTo>
                      <a:lnTo>
                        <a:pt x="281" y="40"/>
                      </a:lnTo>
                      <a:lnTo>
                        <a:pt x="271" y="49"/>
                      </a:lnTo>
                      <a:lnTo>
                        <a:pt x="258" y="60"/>
                      </a:lnTo>
                      <a:lnTo>
                        <a:pt x="242" y="72"/>
                      </a:lnTo>
                      <a:lnTo>
                        <a:pt x="225" y="84"/>
                      </a:lnTo>
                      <a:lnTo>
                        <a:pt x="207" y="97"/>
                      </a:lnTo>
                      <a:lnTo>
                        <a:pt x="188" y="109"/>
                      </a:lnTo>
                      <a:lnTo>
                        <a:pt x="168" y="121"/>
                      </a:lnTo>
                      <a:lnTo>
                        <a:pt x="149" y="133"/>
                      </a:lnTo>
                      <a:lnTo>
                        <a:pt x="129" y="143"/>
                      </a:lnTo>
                      <a:lnTo>
                        <a:pt x="110" y="151"/>
                      </a:lnTo>
                      <a:lnTo>
                        <a:pt x="93" y="158"/>
                      </a:lnTo>
                      <a:lnTo>
                        <a:pt x="77" y="163"/>
                      </a:lnTo>
                      <a:lnTo>
                        <a:pt x="62" y="164"/>
                      </a:lnTo>
                      <a:lnTo>
                        <a:pt x="50" y="163"/>
                      </a:lnTo>
                      <a:lnTo>
                        <a:pt x="41" y="157"/>
                      </a:lnTo>
                      <a:lnTo>
                        <a:pt x="31" y="151"/>
                      </a:lnTo>
                      <a:lnTo>
                        <a:pt x="22" y="145"/>
                      </a:lnTo>
                      <a:lnTo>
                        <a:pt x="14" y="136"/>
                      </a:lnTo>
                      <a:lnTo>
                        <a:pt x="8" y="128"/>
                      </a:lnTo>
                      <a:lnTo>
                        <a:pt x="3" y="119"/>
                      </a:lnTo>
                      <a:lnTo>
                        <a:pt x="0" y="109"/>
                      </a:lnTo>
                      <a:lnTo>
                        <a:pt x="0" y="97"/>
                      </a:lnTo>
                      <a:lnTo>
                        <a:pt x="7" y="92"/>
                      </a:lnTo>
                      <a:lnTo>
                        <a:pt x="20" y="86"/>
                      </a:lnTo>
                      <a:lnTo>
                        <a:pt x="36" y="80"/>
                      </a:lnTo>
                      <a:lnTo>
                        <a:pt x="54" y="73"/>
                      </a:lnTo>
                      <a:lnTo>
                        <a:pt x="75" y="65"/>
                      </a:lnTo>
                      <a:lnTo>
                        <a:pt x="98" y="58"/>
                      </a:lnTo>
                      <a:lnTo>
                        <a:pt x="122" y="49"/>
                      </a:lnTo>
                      <a:lnTo>
                        <a:pt x="147" y="42"/>
                      </a:lnTo>
                      <a:lnTo>
                        <a:pt x="170" y="33"/>
                      </a:lnTo>
                      <a:lnTo>
                        <a:pt x="193" y="27"/>
                      </a:lnTo>
                      <a:lnTo>
                        <a:pt x="216" y="20"/>
                      </a:lnTo>
                      <a:lnTo>
                        <a:pt x="235" y="13"/>
                      </a:lnTo>
                      <a:lnTo>
                        <a:pt x="252" y="8"/>
                      </a:lnTo>
                      <a:lnTo>
                        <a:pt x="266" y="4"/>
                      </a:lnTo>
                      <a:lnTo>
                        <a:pt x="274" y="2"/>
                      </a:lnTo>
                      <a:lnTo>
                        <a:pt x="278" y="0"/>
                      </a:lnTo>
                      <a:lnTo>
                        <a:pt x="290" y="1"/>
                      </a:lnTo>
                      <a:lnTo>
                        <a:pt x="292" y="8"/>
                      </a:lnTo>
                      <a:lnTo>
                        <a:pt x="291" y="19"/>
                      </a:lnTo>
                      <a:lnTo>
                        <a:pt x="293" y="2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1025640" y="2101680"/>
                  <a:ext cx="71280" cy="38160"/>
                </a:xfrm>
                <a:custGeom>
                  <a:avLst/>
                  <a:gdLst/>
                  <a:ahLst/>
                  <a:rect l="l" t="t" r="r" b="b"/>
                  <a:pathLst>
                    <a:path w="90" h="47">
                      <a:moveTo>
                        <a:pt x="86" y="20"/>
                      </a:moveTo>
                      <a:lnTo>
                        <a:pt x="87" y="23"/>
                      </a:lnTo>
                      <a:lnTo>
                        <a:pt x="87" y="27"/>
                      </a:lnTo>
                      <a:lnTo>
                        <a:pt x="87" y="31"/>
                      </a:lnTo>
                      <a:lnTo>
                        <a:pt x="90" y="33"/>
                      </a:lnTo>
                      <a:lnTo>
                        <a:pt x="87" y="40"/>
                      </a:lnTo>
                      <a:lnTo>
                        <a:pt x="82" y="45"/>
                      </a:lnTo>
                      <a:lnTo>
                        <a:pt x="76" y="47"/>
                      </a:lnTo>
                      <a:lnTo>
                        <a:pt x="70" y="45"/>
                      </a:lnTo>
                      <a:lnTo>
                        <a:pt x="65" y="41"/>
                      </a:lnTo>
                      <a:lnTo>
                        <a:pt x="59" y="38"/>
                      </a:lnTo>
                      <a:lnTo>
                        <a:pt x="53" y="34"/>
                      </a:lnTo>
                      <a:lnTo>
                        <a:pt x="48" y="31"/>
                      </a:lnTo>
                      <a:lnTo>
                        <a:pt x="41" y="29"/>
                      </a:lnTo>
                      <a:lnTo>
                        <a:pt x="35" y="27"/>
                      </a:lnTo>
                      <a:lnTo>
                        <a:pt x="28" y="26"/>
                      </a:lnTo>
                      <a:lnTo>
                        <a:pt x="21" y="25"/>
                      </a:lnTo>
                      <a:lnTo>
                        <a:pt x="16" y="28"/>
                      </a:lnTo>
                      <a:lnTo>
                        <a:pt x="11" y="29"/>
                      </a:lnTo>
                      <a:lnTo>
                        <a:pt x="5" y="28"/>
                      </a:lnTo>
                      <a:lnTo>
                        <a:pt x="0" y="27"/>
                      </a:lnTo>
                      <a:lnTo>
                        <a:pt x="5" y="19"/>
                      </a:lnTo>
                      <a:lnTo>
                        <a:pt x="12" y="9"/>
                      </a:lnTo>
                      <a:lnTo>
                        <a:pt x="19" y="2"/>
                      </a:lnTo>
                      <a:lnTo>
                        <a:pt x="31" y="0"/>
                      </a:lnTo>
                      <a:lnTo>
                        <a:pt x="39" y="1"/>
                      </a:lnTo>
                      <a:lnTo>
                        <a:pt x="46" y="3"/>
                      </a:lnTo>
                      <a:lnTo>
                        <a:pt x="53" y="5"/>
                      </a:lnTo>
                      <a:lnTo>
                        <a:pt x="59" y="7"/>
                      </a:lnTo>
                      <a:lnTo>
                        <a:pt x="66" y="10"/>
                      </a:lnTo>
                      <a:lnTo>
                        <a:pt x="72" y="13"/>
                      </a:lnTo>
                      <a:lnTo>
                        <a:pt x="79" y="16"/>
                      </a:lnTo>
                      <a:lnTo>
                        <a:pt x="86" y="2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 name=""/>
                <p:cNvSpPr/>
                <p:nvPr/>
              </p:nvSpPr>
              <p:spPr>
                <a:xfrm>
                  <a:off x="942840" y="2139840"/>
                  <a:ext cx="142920" cy="104760"/>
                </a:xfrm>
                <a:custGeom>
                  <a:avLst/>
                  <a:gdLst/>
                  <a:ahLst/>
                  <a:rect l="l" t="t" r="r" b="b"/>
                  <a:pathLst>
                    <a:path w="180" h="133">
                      <a:moveTo>
                        <a:pt x="180" y="29"/>
                      </a:moveTo>
                      <a:lnTo>
                        <a:pt x="177" y="33"/>
                      </a:lnTo>
                      <a:lnTo>
                        <a:pt x="173" y="36"/>
                      </a:lnTo>
                      <a:lnTo>
                        <a:pt x="168" y="38"/>
                      </a:lnTo>
                      <a:lnTo>
                        <a:pt x="161" y="39"/>
                      </a:lnTo>
                      <a:lnTo>
                        <a:pt x="155" y="40"/>
                      </a:lnTo>
                      <a:lnTo>
                        <a:pt x="149" y="40"/>
                      </a:lnTo>
                      <a:lnTo>
                        <a:pt x="143" y="40"/>
                      </a:lnTo>
                      <a:lnTo>
                        <a:pt x="138" y="39"/>
                      </a:lnTo>
                      <a:lnTo>
                        <a:pt x="133" y="35"/>
                      </a:lnTo>
                      <a:lnTo>
                        <a:pt x="126" y="31"/>
                      </a:lnTo>
                      <a:lnTo>
                        <a:pt x="120" y="29"/>
                      </a:lnTo>
                      <a:lnTo>
                        <a:pt x="112" y="31"/>
                      </a:lnTo>
                      <a:lnTo>
                        <a:pt x="108" y="34"/>
                      </a:lnTo>
                      <a:lnTo>
                        <a:pt x="108" y="38"/>
                      </a:lnTo>
                      <a:lnTo>
                        <a:pt x="109" y="43"/>
                      </a:lnTo>
                      <a:lnTo>
                        <a:pt x="113" y="47"/>
                      </a:lnTo>
                      <a:lnTo>
                        <a:pt x="115" y="52"/>
                      </a:lnTo>
                      <a:lnTo>
                        <a:pt x="116" y="56"/>
                      </a:lnTo>
                      <a:lnTo>
                        <a:pt x="114" y="61"/>
                      </a:lnTo>
                      <a:lnTo>
                        <a:pt x="107" y="64"/>
                      </a:lnTo>
                      <a:lnTo>
                        <a:pt x="98" y="68"/>
                      </a:lnTo>
                      <a:lnTo>
                        <a:pt x="90" y="68"/>
                      </a:lnTo>
                      <a:lnTo>
                        <a:pt x="84" y="66"/>
                      </a:lnTo>
                      <a:lnTo>
                        <a:pt x="77" y="64"/>
                      </a:lnTo>
                      <a:lnTo>
                        <a:pt x="61" y="100"/>
                      </a:lnTo>
                      <a:lnTo>
                        <a:pt x="53" y="104"/>
                      </a:lnTo>
                      <a:lnTo>
                        <a:pt x="47" y="109"/>
                      </a:lnTo>
                      <a:lnTo>
                        <a:pt x="41" y="114"/>
                      </a:lnTo>
                      <a:lnTo>
                        <a:pt x="34" y="119"/>
                      </a:lnTo>
                      <a:lnTo>
                        <a:pt x="27" y="124"/>
                      </a:lnTo>
                      <a:lnTo>
                        <a:pt x="20" y="127"/>
                      </a:lnTo>
                      <a:lnTo>
                        <a:pt x="13" y="131"/>
                      </a:lnTo>
                      <a:lnTo>
                        <a:pt x="5" y="133"/>
                      </a:lnTo>
                      <a:lnTo>
                        <a:pt x="0" y="123"/>
                      </a:lnTo>
                      <a:lnTo>
                        <a:pt x="4" y="114"/>
                      </a:lnTo>
                      <a:lnTo>
                        <a:pt x="9" y="105"/>
                      </a:lnTo>
                      <a:lnTo>
                        <a:pt x="12" y="97"/>
                      </a:lnTo>
                      <a:lnTo>
                        <a:pt x="16" y="91"/>
                      </a:lnTo>
                      <a:lnTo>
                        <a:pt x="20" y="87"/>
                      </a:lnTo>
                      <a:lnTo>
                        <a:pt x="27" y="83"/>
                      </a:lnTo>
                      <a:lnTo>
                        <a:pt x="32" y="80"/>
                      </a:lnTo>
                      <a:lnTo>
                        <a:pt x="38" y="75"/>
                      </a:lnTo>
                      <a:lnTo>
                        <a:pt x="46" y="72"/>
                      </a:lnTo>
                      <a:lnTo>
                        <a:pt x="52" y="69"/>
                      </a:lnTo>
                      <a:lnTo>
                        <a:pt x="59" y="66"/>
                      </a:lnTo>
                      <a:lnTo>
                        <a:pt x="64" y="51"/>
                      </a:lnTo>
                      <a:lnTo>
                        <a:pt x="73" y="38"/>
                      </a:lnTo>
                      <a:lnTo>
                        <a:pt x="82" y="27"/>
                      </a:lnTo>
                      <a:lnTo>
                        <a:pt x="88" y="13"/>
                      </a:lnTo>
                      <a:lnTo>
                        <a:pt x="111" y="19"/>
                      </a:lnTo>
                      <a:lnTo>
                        <a:pt x="114" y="14"/>
                      </a:lnTo>
                      <a:lnTo>
                        <a:pt x="114" y="7"/>
                      </a:lnTo>
                      <a:lnTo>
                        <a:pt x="115" y="1"/>
                      </a:lnTo>
                      <a:lnTo>
                        <a:pt x="121" y="0"/>
                      </a:lnTo>
                      <a:lnTo>
                        <a:pt x="131" y="1"/>
                      </a:lnTo>
                      <a:lnTo>
                        <a:pt x="139" y="3"/>
                      </a:lnTo>
                      <a:lnTo>
                        <a:pt x="148" y="6"/>
                      </a:lnTo>
                      <a:lnTo>
                        <a:pt x="155" y="10"/>
                      </a:lnTo>
                      <a:lnTo>
                        <a:pt x="161" y="13"/>
                      </a:lnTo>
                      <a:lnTo>
                        <a:pt x="169" y="18"/>
                      </a:lnTo>
                      <a:lnTo>
                        <a:pt x="175" y="24"/>
                      </a:lnTo>
                      <a:lnTo>
                        <a:pt x="180" y="2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23720" y="2141640"/>
                  <a:ext cx="262080" cy="150840"/>
                </a:xfrm>
                <a:custGeom>
                  <a:avLst/>
                  <a:gdLst/>
                  <a:ahLst/>
                  <a:rect l="l" t="t" r="r" b="b"/>
                  <a:pathLst>
                    <a:path w="330" h="190">
                      <a:moveTo>
                        <a:pt x="330" y="9"/>
                      </a:moveTo>
                      <a:lnTo>
                        <a:pt x="317" y="18"/>
                      </a:lnTo>
                      <a:lnTo>
                        <a:pt x="303" y="28"/>
                      </a:lnTo>
                      <a:lnTo>
                        <a:pt x="286" y="41"/>
                      </a:lnTo>
                      <a:lnTo>
                        <a:pt x="266" y="53"/>
                      </a:lnTo>
                      <a:lnTo>
                        <a:pt x="247" y="67"/>
                      </a:lnTo>
                      <a:lnTo>
                        <a:pt x="227" y="81"/>
                      </a:lnTo>
                      <a:lnTo>
                        <a:pt x="206" y="95"/>
                      </a:lnTo>
                      <a:lnTo>
                        <a:pt x="186" y="110"/>
                      </a:lnTo>
                      <a:lnTo>
                        <a:pt x="166" y="123"/>
                      </a:lnTo>
                      <a:lnTo>
                        <a:pt x="146" y="137"/>
                      </a:lnTo>
                      <a:lnTo>
                        <a:pt x="128" y="150"/>
                      </a:lnTo>
                      <a:lnTo>
                        <a:pt x="111" y="160"/>
                      </a:lnTo>
                      <a:lnTo>
                        <a:pt x="95" y="171"/>
                      </a:lnTo>
                      <a:lnTo>
                        <a:pt x="82" y="179"/>
                      </a:lnTo>
                      <a:lnTo>
                        <a:pt x="70" y="186"/>
                      </a:lnTo>
                      <a:lnTo>
                        <a:pt x="63" y="190"/>
                      </a:lnTo>
                      <a:lnTo>
                        <a:pt x="52" y="190"/>
                      </a:lnTo>
                      <a:lnTo>
                        <a:pt x="44" y="188"/>
                      </a:lnTo>
                      <a:lnTo>
                        <a:pt x="35" y="184"/>
                      </a:lnTo>
                      <a:lnTo>
                        <a:pt x="29" y="178"/>
                      </a:lnTo>
                      <a:lnTo>
                        <a:pt x="23" y="173"/>
                      </a:lnTo>
                      <a:lnTo>
                        <a:pt x="15" y="168"/>
                      </a:lnTo>
                      <a:lnTo>
                        <a:pt x="9" y="163"/>
                      </a:lnTo>
                      <a:lnTo>
                        <a:pt x="0" y="157"/>
                      </a:lnTo>
                      <a:lnTo>
                        <a:pt x="2" y="151"/>
                      </a:lnTo>
                      <a:lnTo>
                        <a:pt x="5" y="147"/>
                      </a:lnTo>
                      <a:lnTo>
                        <a:pt x="10" y="145"/>
                      </a:lnTo>
                      <a:lnTo>
                        <a:pt x="15" y="142"/>
                      </a:lnTo>
                      <a:lnTo>
                        <a:pt x="22" y="142"/>
                      </a:lnTo>
                      <a:lnTo>
                        <a:pt x="29" y="141"/>
                      </a:lnTo>
                      <a:lnTo>
                        <a:pt x="34" y="139"/>
                      </a:lnTo>
                      <a:lnTo>
                        <a:pt x="40" y="137"/>
                      </a:lnTo>
                      <a:lnTo>
                        <a:pt x="51" y="133"/>
                      </a:lnTo>
                      <a:lnTo>
                        <a:pt x="66" y="127"/>
                      </a:lnTo>
                      <a:lnTo>
                        <a:pt x="83" y="119"/>
                      </a:lnTo>
                      <a:lnTo>
                        <a:pt x="101" y="111"/>
                      </a:lnTo>
                      <a:lnTo>
                        <a:pt x="120" y="101"/>
                      </a:lnTo>
                      <a:lnTo>
                        <a:pt x="141" y="90"/>
                      </a:lnTo>
                      <a:lnTo>
                        <a:pt x="163" y="80"/>
                      </a:lnTo>
                      <a:lnTo>
                        <a:pt x="184" y="68"/>
                      </a:lnTo>
                      <a:lnTo>
                        <a:pt x="206" y="58"/>
                      </a:lnTo>
                      <a:lnTo>
                        <a:pt x="226" y="47"/>
                      </a:lnTo>
                      <a:lnTo>
                        <a:pt x="246" y="36"/>
                      </a:lnTo>
                      <a:lnTo>
                        <a:pt x="264" y="27"/>
                      </a:lnTo>
                      <a:lnTo>
                        <a:pt x="281" y="18"/>
                      </a:lnTo>
                      <a:lnTo>
                        <a:pt x="296" y="11"/>
                      </a:lnTo>
                      <a:lnTo>
                        <a:pt x="309" y="5"/>
                      </a:lnTo>
                      <a:lnTo>
                        <a:pt x="318" y="0"/>
                      </a:lnTo>
                      <a:lnTo>
                        <a:pt x="330" y="1"/>
                      </a:lnTo>
                      <a:lnTo>
                        <a:pt x="330" y="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1096920" y="2141640"/>
                  <a:ext cx="12600" cy="33120"/>
                </a:xfrm>
                <a:custGeom>
                  <a:avLst/>
                  <a:gdLst/>
                  <a:ahLst/>
                  <a:rect l="l" t="t" r="r" b="b"/>
                  <a:pathLst>
                    <a:path w="17" h="42">
                      <a:moveTo>
                        <a:pt x="15" y="28"/>
                      </a:moveTo>
                      <a:lnTo>
                        <a:pt x="12" y="31"/>
                      </a:lnTo>
                      <a:lnTo>
                        <a:pt x="9" y="37"/>
                      </a:lnTo>
                      <a:lnTo>
                        <a:pt x="6" y="42"/>
                      </a:lnTo>
                      <a:lnTo>
                        <a:pt x="0" y="39"/>
                      </a:lnTo>
                      <a:lnTo>
                        <a:pt x="4" y="29"/>
                      </a:lnTo>
                      <a:lnTo>
                        <a:pt x="1" y="17"/>
                      </a:lnTo>
                      <a:lnTo>
                        <a:pt x="0" y="8"/>
                      </a:lnTo>
                      <a:lnTo>
                        <a:pt x="9" y="0"/>
                      </a:lnTo>
                      <a:lnTo>
                        <a:pt x="14" y="6"/>
                      </a:lnTo>
                      <a:lnTo>
                        <a:pt x="17" y="13"/>
                      </a:lnTo>
                      <a:lnTo>
                        <a:pt x="17" y="21"/>
                      </a:lnTo>
                      <a:lnTo>
                        <a:pt x="15" y="28"/>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443" name=""/>
                <p:cNvSpPr/>
                <p:nvPr/>
              </p:nvSpPr>
              <p:spPr>
                <a:xfrm>
                  <a:off x="1057320" y="2182680"/>
                  <a:ext cx="55440" cy="57240"/>
                </a:xfrm>
                <a:custGeom>
                  <a:avLst/>
                  <a:gdLst/>
                  <a:ahLst/>
                  <a:rect l="l" t="t" r="r" b="b"/>
                  <a:pathLst>
                    <a:path w="70" h="71">
                      <a:moveTo>
                        <a:pt x="54" y="32"/>
                      </a:moveTo>
                      <a:lnTo>
                        <a:pt x="70" y="41"/>
                      </a:lnTo>
                      <a:lnTo>
                        <a:pt x="68" y="49"/>
                      </a:lnTo>
                      <a:lnTo>
                        <a:pt x="63" y="59"/>
                      </a:lnTo>
                      <a:lnTo>
                        <a:pt x="57" y="67"/>
                      </a:lnTo>
                      <a:lnTo>
                        <a:pt x="47" y="71"/>
                      </a:lnTo>
                      <a:lnTo>
                        <a:pt x="37" y="69"/>
                      </a:lnTo>
                      <a:lnTo>
                        <a:pt x="29" y="64"/>
                      </a:lnTo>
                      <a:lnTo>
                        <a:pt x="22" y="56"/>
                      </a:lnTo>
                      <a:lnTo>
                        <a:pt x="14" y="48"/>
                      </a:lnTo>
                      <a:lnTo>
                        <a:pt x="9" y="40"/>
                      </a:lnTo>
                      <a:lnTo>
                        <a:pt x="5" y="30"/>
                      </a:lnTo>
                      <a:lnTo>
                        <a:pt x="1" y="23"/>
                      </a:lnTo>
                      <a:lnTo>
                        <a:pt x="0" y="17"/>
                      </a:lnTo>
                      <a:lnTo>
                        <a:pt x="3" y="10"/>
                      </a:lnTo>
                      <a:lnTo>
                        <a:pt x="10" y="6"/>
                      </a:lnTo>
                      <a:lnTo>
                        <a:pt x="17" y="3"/>
                      </a:lnTo>
                      <a:lnTo>
                        <a:pt x="26" y="0"/>
                      </a:lnTo>
                      <a:lnTo>
                        <a:pt x="35" y="6"/>
                      </a:lnTo>
                      <a:lnTo>
                        <a:pt x="41" y="16"/>
                      </a:lnTo>
                      <a:lnTo>
                        <a:pt x="45" y="26"/>
                      </a:lnTo>
                      <a:lnTo>
                        <a:pt x="54" y="32"/>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44" name=""/>
                <p:cNvSpPr/>
                <p:nvPr/>
              </p:nvSpPr>
              <p:spPr>
                <a:xfrm>
                  <a:off x="801720" y="2212920"/>
                  <a:ext cx="34920" cy="39600"/>
                </a:xfrm>
                <a:custGeom>
                  <a:avLst/>
                  <a:gdLst/>
                  <a:ahLst/>
                  <a:rect l="l" t="t" r="r" b="b"/>
                  <a:pathLst>
                    <a:path w="44" h="51">
                      <a:moveTo>
                        <a:pt x="42" y="19"/>
                      </a:moveTo>
                      <a:lnTo>
                        <a:pt x="37" y="24"/>
                      </a:lnTo>
                      <a:lnTo>
                        <a:pt x="33" y="27"/>
                      </a:lnTo>
                      <a:lnTo>
                        <a:pt x="28" y="31"/>
                      </a:lnTo>
                      <a:lnTo>
                        <a:pt x="23" y="35"/>
                      </a:lnTo>
                      <a:lnTo>
                        <a:pt x="17" y="40"/>
                      </a:lnTo>
                      <a:lnTo>
                        <a:pt x="12" y="44"/>
                      </a:lnTo>
                      <a:lnTo>
                        <a:pt x="6" y="48"/>
                      </a:lnTo>
                      <a:lnTo>
                        <a:pt x="0" y="51"/>
                      </a:lnTo>
                      <a:lnTo>
                        <a:pt x="3" y="44"/>
                      </a:lnTo>
                      <a:lnTo>
                        <a:pt x="7" y="38"/>
                      </a:lnTo>
                      <a:lnTo>
                        <a:pt x="12" y="32"/>
                      </a:lnTo>
                      <a:lnTo>
                        <a:pt x="16" y="26"/>
                      </a:lnTo>
                      <a:lnTo>
                        <a:pt x="21" y="21"/>
                      </a:lnTo>
                      <a:lnTo>
                        <a:pt x="26" y="14"/>
                      </a:lnTo>
                      <a:lnTo>
                        <a:pt x="30" y="8"/>
                      </a:lnTo>
                      <a:lnTo>
                        <a:pt x="32" y="0"/>
                      </a:lnTo>
                      <a:lnTo>
                        <a:pt x="36" y="4"/>
                      </a:lnTo>
                      <a:lnTo>
                        <a:pt x="42" y="8"/>
                      </a:lnTo>
                      <a:lnTo>
                        <a:pt x="44" y="13"/>
                      </a:lnTo>
                      <a:lnTo>
                        <a:pt x="42" y="19"/>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445" name=""/>
                <p:cNvSpPr/>
                <p:nvPr/>
              </p:nvSpPr>
              <p:spPr>
                <a:xfrm>
                  <a:off x="1119240" y="2214720"/>
                  <a:ext cx="22320" cy="23760"/>
                </a:xfrm>
                <a:custGeom>
                  <a:avLst/>
                  <a:gdLst/>
                  <a:ahLst/>
                  <a:rect l="l" t="t" r="r" b="b"/>
                  <a:pathLst>
                    <a:path w="27" h="28">
                      <a:moveTo>
                        <a:pt x="8" y="28"/>
                      </a:moveTo>
                      <a:lnTo>
                        <a:pt x="0" y="28"/>
                      </a:lnTo>
                      <a:lnTo>
                        <a:pt x="3" y="19"/>
                      </a:lnTo>
                      <a:lnTo>
                        <a:pt x="9" y="9"/>
                      </a:lnTo>
                      <a:lnTo>
                        <a:pt x="17" y="3"/>
                      </a:lnTo>
                      <a:lnTo>
                        <a:pt x="27" y="0"/>
                      </a:lnTo>
                      <a:lnTo>
                        <a:pt x="27" y="10"/>
                      </a:lnTo>
                      <a:lnTo>
                        <a:pt x="23" y="17"/>
                      </a:lnTo>
                      <a:lnTo>
                        <a:pt x="16" y="23"/>
                      </a:lnTo>
                      <a:lnTo>
                        <a:pt x="8" y="28"/>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446" name=""/>
                <p:cNvSpPr/>
                <p:nvPr/>
              </p:nvSpPr>
              <p:spPr>
                <a:xfrm>
                  <a:off x="790560" y="2227320"/>
                  <a:ext cx="79560" cy="146160"/>
                </a:xfrm>
                <a:custGeom>
                  <a:avLst/>
                  <a:gdLst/>
                  <a:ahLst/>
                  <a:rect l="l" t="t" r="r" b="b"/>
                  <a:pathLst>
                    <a:path w="100" h="185">
                      <a:moveTo>
                        <a:pt x="100" y="0"/>
                      </a:moveTo>
                      <a:lnTo>
                        <a:pt x="99" y="15"/>
                      </a:lnTo>
                      <a:lnTo>
                        <a:pt x="96" y="32"/>
                      </a:lnTo>
                      <a:lnTo>
                        <a:pt x="91" y="48"/>
                      </a:lnTo>
                      <a:lnTo>
                        <a:pt x="87" y="60"/>
                      </a:lnTo>
                      <a:lnTo>
                        <a:pt x="79" y="72"/>
                      </a:lnTo>
                      <a:lnTo>
                        <a:pt x="73" y="86"/>
                      </a:lnTo>
                      <a:lnTo>
                        <a:pt x="67" y="101"/>
                      </a:lnTo>
                      <a:lnTo>
                        <a:pt x="63" y="116"/>
                      </a:lnTo>
                      <a:lnTo>
                        <a:pt x="59" y="131"/>
                      </a:lnTo>
                      <a:lnTo>
                        <a:pt x="52" y="143"/>
                      </a:lnTo>
                      <a:lnTo>
                        <a:pt x="44" y="155"/>
                      </a:lnTo>
                      <a:lnTo>
                        <a:pt x="33" y="165"/>
                      </a:lnTo>
                      <a:lnTo>
                        <a:pt x="30" y="168"/>
                      </a:lnTo>
                      <a:lnTo>
                        <a:pt x="27" y="171"/>
                      </a:lnTo>
                      <a:lnTo>
                        <a:pt x="24" y="174"/>
                      </a:lnTo>
                      <a:lnTo>
                        <a:pt x="20" y="177"/>
                      </a:lnTo>
                      <a:lnTo>
                        <a:pt x="15" y="181"/>
                      </a:lnTo>
                      <a:lnTo>
                        <a:pt x="11" y="183"/>
                      </a:lnTo>
                      <a:lnTo>
                        <a:pt x="6" y="185"/>
                      </a:lnTo>
                      <a:lnTo>
                        <a:pt x="0" y="185"/>
                      </a:lnTo>
                      <a:lnTo>
                        <a:pt x="15" y="166"/>
                      </a:lnTo>
                      <a:lnTo>
                        <a:pt x="30" y="148"/>
                      </a:lnTo>
                      <a:lnTo>
                        <a:pt x="45" y="129"/>
                      </a:lnTo>
                      <a:lnTo>
                        <a:pt x="59" y="109"/>
                      </a:lnTo>
                      <a:lnTo>
                        <a:pt x="69" y="87"/>
                      </a:lnTo>
                      <a:lnTo>
                        <a:pt x="78" y="64"/>
                      </a:lnTo>
                      <a:lnTo>
                        <a:pt x="83" y="39"/>
                      </a:lnTo>
                      <a:lnTo>
                        <a:pt x="84" y="11"/>
                      </a:lnTo>
                      <a:lnTo>
                        <a:pt x="88" y="9"/>
                      </a:lnTo>
                      <a:lnTo>
                        <a:pt x="92" y="5"/>
                      </a:lnTo>
                      <a:lnTo>
                        <a:pt x="96" y="1"/>
                      </a:lnTo>
                      <a:lnTo>
                        <a:pt x="100" y="0"/>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1409760" y="2241720"/>
                  <a:ext cx="71280" cy="61920"/>
                </a:xfrm>
                <a:custGeom>
                  <a:avLst/>
                  <a:gdLst/>
                  <a:ahLst/>
                  <a:rect l="l" t="t" r="r" b="b"/>
                  <a:pathLst>
                    <a:path w="92" h="79">
                      <a:moveTo>
                        <a:pt x="85" y="47"/>
                      </a:moveTo>
                      <a:lnTo>
                        <a:pt x="86" y="56"/>
                      </a:lnTo>
                      <a:lnTo>
                        <a:pt x="91" y="64"/>
                      </a:lnTo>
                      <a:lnTo>
                        <a:pt x="92" y="71"/>
                      </a:lnTo>
                      <a:lnTo>
                        <a:pt x="85" y="79"/>
                      </a:lnTo>
                      <a:lnTo>
                        <a:pt x="79" y="79"/>
                      </a:lnTo>
                      <a:lnTo>
                        <a:pt x="72" y="77"/>
                      </a:lnTo>
                      <a:lnTo>
                        <a:pt x="67" y="74"/>
                      </a:lnTo>
                      <a:lnTo>
                        <a:pt x="63" y="68"/>
                      </a:lnTo>
                      <a:lnTo>
                        <a:pt x="58" y="62"/>
                      </a:lnTo>
                      <a:lnTo>
                        <a:pt x="53" y="57"/>
                      </a:lnTo>
                      <a:lnTo>
                        <a:pt x="48" y="50"/>
                      </a:lnTo>
                      <a:lnTo>
                        <a:pt x="43" y="46"/>
                      </a:lnTo>
                      <a:lnTo>
                        <a:pt x="36" y="43"/>
                      </a:lnTo>
                      <a:lnTo>
                        <a:pt x="30" y="40"/>
                      </a:lnTo>
                      <a:lnTo>
                        <a:pt x="25" y="35"/>
                      </a:lnTo>
                      <a:lnTo>
                        <a:pt x="21" y="31"/>
                      </a:lnTo>
                      <a:lnTo>
                        <a:pt x="15" y="27"/>
                      </a:lnTo>
                      <a:lnTo>
                        <a:pt x="11" y="23"/>
                      </a:lnTo>
                      <a:lnTo>
                        <a:pt x="6" y="18"/>
                      </a:lnTo>
                      <a:lnTo>
                        <a:pt x="0" y="15"/>
                      </a:lnTo>
                      <a:lnTo>
                        <a:pt x="1" y="10"/>
                      </a:lnTo>
                      <a:lnTo>
                        <a:pt x="4" y="6"/>
                      </a:lnTo>
                      <a:lnTo>
                        <a:pt x="6" y="4"/>
                      </a:lnTo>
                      <a:lnTo>
                        <a:pt x="10" y="0"/>
                      </a:lnTo>
                      <a:lnTo>
                        <a:pt x="23" y="2"/>
                      </a:lnTo>
                      <a:lnTo>
                        <a:pt x="34" y="4"/>
                      </a:lnTo>
                      <a:lnTo>
                        <a:pt x="45" y="9"/>
                      </a:lnTo>
                      <a:lnTo>
                        <a:pt x="56" y="14"/>
                      </a:lnTo>
                      <a:lnTo>
                        <a:pt x="64" y="22"/>
                      </a:lnTo>
                      <a:lnTo>
                        <a:pt x="71" y="29"/>
                      </a:lnTo>
                      <a:lnTo>
                        <a:pt x="79" y="38"/>
                      </a:lnTo>
                      <a:lnTo>
                        <a:pt x="85" y="47"/>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448" name=""/>
                <p:cNvSpPr/>
                <p:nvPr/>
              </p:nvSpPr>
              <p:spPr>
                <a:xfrm>
                  <a:off x="1409760" y="2278080"/>
                  <a:ext cx="7920" cy="11160"/>
                </a:xfrm>
                <a:custGeom>
                  <a:avLst/>
                  <a:gdLst/>
                  <a:ahLst/>
                  <a:rect l="l" t="t" r="r" b="b"/>
                  <a:pathLst>
                    <a:path w="11" h="14">
                      <a:moveTo>
                        <a:pt x="11" y="11"/>
                      </a:moveTo>
                      <a:lnTo>
                        <a:pt x="10" y="13"/>
                      </a:lnTo>
                      <a:lnTo>
                        <a:pt x="7" y="14"/>
                      </a:lnTo>
                      <a:lnTo>
                        <a:pt x="5" y="13"/>
                      </a:lnTo>
                      <a:lnTo>
                        <a:pt x="1" y="11"/>
                      </a:lnTo>
                      <a:lnTo>
                        <a:pt x="0" y="0"/>
                      </a:lnTo>
                      <a:lnTo>
                        <a:pt x="6" y="0"/>
                      </a:lnTo>
                      <a:lnTo>
                        <a:pt x="8" y="3"/>
                      </a:lnTo>
                      <a:lnTo>
                        <a:pt x="10" y="6"/>
                      </a:lnTo>
                      <a:lnTo>
                        <a:pt x="11" y="11"/>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449" name=""/>
                <p:cNvSpPr/>
                <p:nvPr/>
              </p:nvSpPr>
              <p:spPr>
                <a:xfrm>
                  <a:off x="1311120" y="2346480"/>
                  <a:ext cx="9720" cy="21960"/>
                </a:xfrm>
                <a:custGeom>
                  <a:avLst/>
                  <a:gdLst/>
                  <a:ahLst/>
                  <a:rect l="l" t="t" r="r" b="b"/>
                  <a:pathLst>
                    <a:path w="13" h="27">
                      <a:moveTo>
                        <a:pt x="9" y="25"/>
                      </a:moveTo>
                      <a:lnTo>
                        <a:pt x="7" y="26"/>
                      </a:lnTo>
                      <a:lnTo>
                        <a:pt x="6" y="26"/>
                      </a:lnTo>
                      <a:lnTo>
                        <a:pt x="5" y="27"/>
                      </a:lnTo>
                      <a:lnTo>
                        <a:pt x="4" y="25"/>
                      </a:lnTo>
                      <a:lnTo>
                        <a:pt x="0" y="19"/>
                      </a:lnTo>
                      <a:lnTo>
                        <a:pt x="3" y="13"/>
                      </a:lnTo>
                      <a:lnTo>
                        <a:pt x="6" y="6"/>
                      </a:lnTo>
                      <a:lnTo>
                        <a:pt x="10" y="0"/>
                      </a:lnTo>
                      <a:lnTo>
                        <a:pt x="13" y="6"/>
                      </a:lnTo>
                      <a:lnTo>
                        <a:pt x="13" y="13"/>
                      </a:lnTo>
                      <a:lnTo>
                        <a:pt x="11" y="19"/>
                      </a:lnTo>
                      <a:lnTo>
                        <a:pt x="9" y="25"/>
                      </a:lnTo>
                      <a:close/>
                    </a:path>
                  </a:pathLst>
                </a:custGeom>
                <a:gradFill rotWithShape="0">
                  <a:gsLst>
                    <a:gs pos="0">
                      <a:srgbClr val="0b0b22"/>
                    </a:gs>
                    <a:gs pos="100000">
                      <a:srgbClr val="333399"/>
                    </a:gs>
                  </a:gsLst>
                  <a:path path="rect">
                    <a:fillToRect l="50000" t="50000" r="50000" b="50000"/>
                  </a:path>
                </a:gra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grpSp>
          <p:grpSp>
            <p:nvGrpSpPr>
              <p:cNvPr id="450" name=""/>
              <p:cNvGrpSpPr/>
              <p:nvPr/>
            </p:nvGrpSpPr>
            <p:grpSpPr>
              <a:xfrm>
                <a:off x="0" y="1568520"/>
                <a:ext cx="9144000" cy="5289480"/>
                <a:chOff x="0" y="1568520"/>
                <a:chExt cx="9144000" cy="5289480"/>
              </a:xfrm>
            </p:grpSpPr>
            <p:grpSp>
              <p:nvGrpSpPr>
                <p:cNvPr id="451" name=""/>
                <p:cNvGrpSpPr/>
                <p:nvPr/>
              </p:nvGrpSpPr>
              <p:grpSpPr>
                <a:xfrm>
                  <a:off x="0" y="1568520"/>
                  <a:ext cx="9144000" cy="5289480"/>
                  <a:chOff x="0" y="1568520"/>
                  <a:chExt cx="9144000" cy="5289480"/>
                </a:xfrm>
              </p:grpSpPr>
              <p:sp>
                <p:nvSpPr>
                  <p:cNvPr id="452" name=""/>
                  <p:cNvSpPr/>
                  <p:nvPr/>
                </p:nvSpPr>
                <p:spPr>
                  <a:xfrm>
                    <a:off x="4792680" y="2001960"/>
                    <a:ext cx="1119240" cy="412560"/>
                  </a:xfrm>
                  <a:custGeom>
                    <a:avLst/>
                    <a:gdLst/>
                    <a:ahLst/>
                    <a:rect l="l" t="t" r="r" b="b"/>
                    <a:pathLst>
                      <a:path w="705" h="260">
                        <a:moveTo>
                          <a:pt x="179" y="159"/>
                        </a:moveTo>
                        <a:lnTo>
                          <a:pt x="171" y="173"/>
                        </a:lnTo>
                        <a:lnTo>
                          <a:pt x="163" y="202"/>
                        </a:lnTo>
                        <a:lnTo>
                          <a:pt x="167" y="215"/>
                        </a:lnTo>
                        <a:lnTo>
                          <a:pt x="173" y="219"/>
                        </a:lnTo>
                        <a:lnTo>
                          <a:pt x="183" y="223"/>
                        </a:lnTo>
                        <a:lnTo>
                          <a:pt x="212" y="226"/>
                        </a:lnTo>
                        <a:lnTo>
                          <a:pt x="256" y="219"/>
                        </a:lnTo>
                        <a:lnTo>
                          <a:pt x="262" y="223"/>
                        </a:lnTo>
                        <a:lnTo>
                          <a:pt x="269" y="228"/>
                        </a:lnTo>
                        <a:lnTo>
                          <a:pt x="277" y="234"/>
                        </a:lnTo>
                        <a:lnTo>
                          <a:pt x="285" y="239"/>
                        </a:lnTo>
                        <a:lnTo>
                          <a:pt x="298" y="246"/>
                        </a:lnTo>
                        <a:lnTo>
                          <a:pt x="312" y="251"/>
                        </a:lnTo>
                        <a:lnTo>
                          <a:pt x="327" y="255"/>
                        </a:lnTo>
                        <a:lnTo>
                          <a:pt x="362" y="260"/>
                        </a:lnTo>
                        <a:lnTo>
                          <a:pt x="400" y="255"/>
                        </a:lnTo>
                        <a:lnTo>
                          <a:pt x="420" y="247"/>
                        </a:lnTo>
                        <a:lnTo>
                          <a:pt x="443" y="236"/>
                        </a:lnTo>
                        <a:lnTo>
                          <a:pt x="454" y="228"/>
                        </a:lnTo>
                        <a:lnTo>
                          <a:pt x="466" y="221"/>
                        </a:lnTo>
                        <a:lnTo>
                          <a:pt x="489" y="201"/>
                        </a:lnTo>
                        <a:lnTo>
                          <a:pt x="518" y="207"/>
                        </a:lnTo>
                        <a:lnTo>
                          <a:pt x="549" y="213"/>
                        </a:lnTo>
                        <a:lnTo>
                          <a:pt x="585" y="218"/>
                        </a:lnTo>
                        <a:lnTo>
                          <a:pt x="655" y="218"/>
                        </a:lnTo>
                        <a:lnTo>
                          <a:pt x="682" y="207"/>
                        </a:lnTo>
                        <a:lnTo>
                          <a:pt x="699" y="190"/>
                        </a:lnTo>
                        <a:lnTo>
                          <a:pt x="705" y="144"/>
                        </a:lnTo>
                        <a:lnTo>
                          <a:pt x="699" y="122"/>
                        </a:lnTo>
                        <a:lnTo>
                          <a:pt x="685" y="104"/>
                        </a:lnTo>
                        <a:lnTo>
                          <a:pt x="668" y="86"/>
                        </a:lnTo>
                        <a:lnTo>
                          <a:pt x="655" y="80"/>
                        </a:lnTo>
                        <a:lnTo>
                          <a:pt x="643" y="73"/>
                        </a:lnTo>
                        <a:lnTo>
                          <a:pt x="628" y="67"/>
                        </a:lnTo>
                        <a:lnTo>
                          <a:pt x="612" y="63"/>
                        </a:lnTo>
                        <a:lnTo>
                          <a:pt x="576" y="56"/>
                        </a:lnTo>
                        <a:lnTo>
                          <a:pt x="574" y="39"/>
                        </a:lnTo>
                        <a:lnTo>
                          <a:pt x="566" y="23"/>
                        </a:lnTo>
                        <a:lnTo>
                          <a:pt x="560" y="16"/>
                        </a:lnTo>
                        <a:lnTo>
                          <a:pt x="549" y="9"/>
                        </a:lnTo>
                        <a:lnTo>
                          <a:pt x="537" y="4"/>
                        </a:lnTo>
                        <a:lnTo>
                          <a:pt x="520" y="0"/>
                        </a:lnTo>
                        <a:lnTo>
                          <a:pt x="477" y="3"/>
                        </a:lnTo>
                        <a:lnTo>
                          <a:pt x="414" y="19"/>
                        </a:lnTo>
                        <a:lnTo>
                          <a:pt x="395" y="25"/>
                        </a:lnTo>
                        <a:lnTo>
                          <a:pt x="377" y="33"/>
                        </a:lnTo>
                        <a:lnTo>
                          <a:pt x="354" y="43"/>
                        </a:lnTo>
                        <a:lnTo>
                          <a:pt x="331" y="53"/>
                        </a:lnTo>
                        <a:lnTo>
                          <a:pt x="321" y="51"/>
                        </a:lnTo>
                        <a:lnTo>
                          <a:pt x="289" y="41"/>
                        </a:lnTo>
                        <a:lnTo>
                          <a:pt x="271" y="37"/>
                        </a:lnTo>
                        <a:lnTo>
                          <a:pt x="246" y="32"/>
                        </a:lnTo>
                        <a:lnTo>
                          <a:pt x="221" y="28"/>
                        </a:lnTo>
                        <a:lnTo>
                          <a:pt x="196" y="23"/>
                        </a:lnTo>
                        <a:lnTo>
                          <a:pt x="142" y="19"/>
                        </a:lnTo>
                        <a:lnTo>
                          <a:pt x="88" y="20"/>
                        </a:lnTo>
                        <a:lnTo>
                          <a:pt x="44" y="32"/>
                        </a:lnTo>
                        <a:lnTo>
                          <a:pt x="25" y="43"/>
                        </a:lnTo>
                        <a:lnTo>
                          <a:pt x="13" y="56"/>
                        </a:lnTo>
                        <a:lnTo>
                          <a:pt x="0" y="85"/>
                        </a:lnTo>
                        <a:lnTo>
                          <a:pt x="11" y="108"/>
                        </a:lnTo>
                        <a:lnTo>
                          <a:pt x="21" y="117"/>
                        </a:lnTo>
                        <a:lnTo>
                          <a:pt x="36" y="126"/>
                        </a:lnTo>
                        <a:lnTo>
                          <a:pt x="52" y="133"/>
                        </a:lnTo>
                        <a:lnTo>
                          <a:pt x="71" y="140"/>
                        </a:lnTo>
                        <a:lnTo>
                          <a:pt x="90" y="145"/>
                        </a:lnTo>
                        <a:lnTo>
                          <a:pt x="108" y="149"/>
                        </a:lnTo>
                        <a:lnTo>
                          <a:pt x="144" y="155"/>
                        </a:lnTo>
                        <a:lnTo>
                          <a:pt x="179" y="159"/>
                        </a:lnTo>
                        <a:lnTo>
                          <a:pt x="179" y="15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2693880" y="3498840"/>
                    <a:ext cx="236520" cy="106200"/>
                  </a:xfrm>
                  <a:custGeom>
                    <a:avLst/>
                    <a:gdLst/>
                    <a:ahLst/>
                    <a:rect l="l" t="t" r="r" b="b"/>
                    <a:pathLst>
                      <a:path w="149" h="67">
                        <a:moveTo>
                          <a:pt x="110" y="1"/>
                        </a:moveTo>
                        <a:lnTo>
                          <a:pt x="18" y="16"/>
                        </a:lnTo>
                        <a:lnTo>
                          <a:pt x="43" y="26"/>
                        </a:lnTo>
                        <a:lnTo>
                          <a:pt x="0" y="45"/>
                        </a:lnTo>
                        <a:lnTo>
                          <a:pt x="62" y="47"/>
                        </a:lnTo>
                        <a:lnTo>
                          <a:pt x="58" y="67"/>
                        </a:lnTo>
                        <a:lnTo>
                          <a:pt x="147" y="41"/>
                        </a:lnTo>
                        <a:lnTo>
                          <a:pt x="149" y="17"/>
                        </a:lnTo>
                        <a:lnTo>
                          <a:pt x="137" y="4"/>
                        </a:lnTo>
                        <a:lnTo>
                          <a:pt x="127" y="0"/>
                        </a:lnTo>
                        <a:lnTo>
                          <a:pt x="110" y="1"/>
                        </a:lnTo>
                        <a:lnTo>
                          <a:pt x="110" y="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5856120" y="3646440"/>
                    <a:ext cx="217800" cy="128520"/>
                  </a:xfrm>
                  <a:custGeom>
                    <a:avLst/>
                    <a:gdLst/>
                    <a:ahLst/>
                    <a:rect l="l" t="t" r="r" b="b"/>
                    <a:pathLst>
                      <a:path w="137" h="81">
                        <a:moveTo>
                          <a:pt x="27" y="14"/>
                        </a:moveTo>
                        <a:lnTo>
                          <a:pt x="40" y="12"/>
                        </a:lnTo>
                        <a:lnTo>
                          <a:pt x="71" y="6"/>
                        </a:lnTo>
                        <a:lnTo>
                          <a:pt x="104" y="1"/>
                        </a:lnTo>
                        <a:lnTo>
                          <a:pt x="125" y="0"/>
                        </a:lnTo>
                        <a:lnTo>
                          <a:pt x="98" y="22"/>
                        </a:lnTo>
                        <a:lnTo>
                          <a:pt x="137" y="34"/>
                        </a:lnTo>
                        <a:lnTo>
                          <a:pt x="75" y="51"/>
                        </a:lnTo>
                        <a:lnTo>
                          <a:pt x="104" y="81"/>
                        </a:lnTo>
                        <a:lnTo>
                          <a:pt x="0" y="77"/>
                        </a:lnTo>
                        <a:lnTo>
                          <a:pt x="27" y="14"/>
                        </a:lnTo>
                        <a:lnTo>
                          <a:pt x="27" y="1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862280" y="1568520"/>
                    <a:ext cx="5219640" cy="1325520"/>
                  </a:xfrm>
                  <a:custGeom>
                    <a:avLst/>
                    <a:gdLst/>
                    <a:ahLst/>
                    <a:rect l="l" t="t" r="r" b="b"/>
                    <a:pathLst>
                      <a:path w="3288" h="835">
                        <a:moveTo>
                          <a:pt x="1152" y="37"/>
                        </a:moveTo>
                        <a:lnTo>
                          <a:pt x="336" y="297"/>
                        </a:lnTo>
                        <a:lnTo>
                          <a:pt x="0" y="411"/>
                        </a:lnTo>
                        <a:lnTo>
                          <a:pt x="407" y="417"/>
                        </a:lnTo>
                        <a:lnTo>
                          <a:pt x="621" y="389"/>
                        </a:lnTo>
                        <a:lnTo>
                          <a:pt x="723" y="451"/>
                        </a:lnTo>
                        <a:lnTo>
                          <a:pt x="779" y="405"/>
                        </a:lnTo>
                        <a:lnTo>
                          <a:pt x="788" y="369"/>
                        </a:lnTo>
                        <a:lnTo>
                          <a:pt x="1046" y="340"/>
                        </a:lnTo>
                        <a:lnTo>
                          <a:pt x="1098" y="394"/>
                        </a:lnTo>
                        <a:lnTo>
                          <a:pt x="1152" y="405"/>
                        </a:lnTo>
                        <a:lnTo>
                          <a:pt x="1212" y="379"/>
                        </a:lnTo>
                        <a:lnTo>
                          <a:pt x="1220" y="318"/>
                        </a:lnTo>
                        <a:lnTo>
                          <a:pt x="1422" y="297"/>
                        </a:lnTo>
                        <a:lnTo>
                          <a:pt x="1532" y="638"/>
                        </a:lnTo>
                        <a:lnTo>
                          <a:pt x="1212" y="804"/>
                        </a:lnTo>
                        <a:lnTo>
                          <a:pt x="1628" y="774"/>
                        </a:lnTo>
                        <a:lnTo>
                          <a:pt x="1713" y="835"/>
                        </a:lnTo>
                        <a:lnTo>
                          <a:pt x="1859" y="764"/>
                        </a:lnTo>
                        <a:lnTo>
                          <a:pt x="2264" y="787"/>
                        </a:lnTo>
                        <a:lnTo>
                          <a:pt x="1954" y="629"/>
                        </a:lnTo>
                        <a:lnTo>
                          <a:pt x="2067" y="293"/>
                        </a:lnTo>
                        <a:lnTo>
                          <a:pt x="2192" y="309"/>
                        </a:lnTo>
                        <a:lnTo>
                          <a:pt x="2219" y="395"/>
                        </a:lnTo>
                        <a:lnTo>
                          <a:pt x="2314" y="402"/>
                        </a:lnTo>
                        <a:lnTo>
                          <a:pt x="2350" y="326"/>
                        </a:lnTo>
                        <a:lnTo>
                          <a:pt x="2601" y="355"/>
                        </a:lnTo>
                        <a:lnTo>
                          <a:pt x="2632" y="417"/>
                        </a:lnTo>
                        <a:lnTo>
                          <a:pt x="2707" y="426"/>
                        </a:lnTo>
                        <a:lnTo>
                          <a:pt x="2747" y="373"/>
                        </a:lnTo>
                        <a:lnTo>
                          <a:pt x="3003" y="403"/>
                        </a:lnTo>
                        <a:lnTo>
                          <a:pt x="3288" y="318"/>
                        </a:lnTo>
                        <a:lnTo>
                          <a:pt x="2574" y="119"/>
                        </a:lnTo>
                        <a:lnTo>
                          <a:pt x="2069" y="0"/>
                        </a:lnTo>
                        <a:lnTo>
                          <a:pt x="1152" y="37"/>
                        </a:lnTo>
                        <a:lnTo>
                          <a:pt x="1152" y="3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0" y="3030480"/>
                    <a:ext cx="9144000" cy="3827520"/>
                  </a:xfrm>
                  <a:custGeom>
                    <a:avLst/>
                    <a:gdLst/>
                    <a:ahLst/>
                    <a:rect l="l" t="t" r="r" b="b"/>
                    <a:pathLst>
                      <a:path w="4599" h="1995">
                        <a:moveTo>
                          <a:pt x="11" y="1378"/>
                        </a:moveTo>
                        <a:lnTo>
                          <a:pt x="0" y="1965"/>
                        </a:lnTo>
                        <a:lnTo>
                          <a:pt x="3199" y="1995"/>
                        </a:lnTo>
                        <a:lnTo>
                          <a:pt x="4582" y="1947"/>
                        </a:lnTo>
                        <a:lnTo>
                          <a:pt x="4599" y="1337"/>
                        </a:lnTo>
                        <a:lnTo>
                          <a:pt x="2328" y="0"/>
                        </a:lnTo>
                        <a:lnTo>
                          <a:pt x="11" y="1378"/>
                        </a:lnTo>
                        <a:lnTo>
                          <a:pt x="11" y="137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4097160" y="5483160"/>
                    <a:ext cx="824040" cy="750960"/>
                  </a:xfrm>
                  <a:custGeom>
                    <a:avLst/>
                    <a:gdLst/>
                    <a:ahLst/>
                    <a:rect l="l" t="t" r="r" b="b"/>
                    <a:pathLst>
                      <a:path w="519" h="473">
                        <a:moveTo>
                          <a:pt x="0" y="442"/>
                        </a:moveTo>
                        <a:lnTo>
                          <a:pt x="151" y="12"/>
                        </a:lnTo>
                        <a:lnTo>
                          <a:pt x="370" y="0"/>
                        </a:lnTo>
                        <a:lnTo>
                          <a:pt x="519" y="473"/>
                        </a:lnTo>
                        <a:lnTo>
                          <a:pt x="0" y="442"/>
                        </a:lnTo>
                        <a:lnTo>
                          <a:pt x="0" y="44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4010040" y="3191040"/>
                    <a:ext cx="423720" cy="276120"/>
                  </a:xfrm>
                  <a:custGeom>
                    <a:avLst/>
                    <a:gdLst/>
                    <a:ahLst/>
                    <a:rect l="l" t="t" r="r" b="b"/>
                    <a:pathLst>
                      <a:path w="267" h="174">
                        <a:moveTo>
                          <a:pt x="0" y="85"/>
                        </a:moveTo>
                        <a:lnTo>
                          <a:pt x="48" y="115"/>
                        </a:lnTo>
                        <a:lnTo>
                          <a:pt x="129" y="118"/>
                        </a:lnTo>
                        <a:lnTo>
                          <a:pt x="181" y="170"/>
                        </a:lnTo>
                        <a:lnTo>
                          <a:pt x="267" y="174"/>
                        </a:lnTo>
                        <a:lnTo>
                          <a:pt x="267" y="138"/>
                        </a:lnTo>
                        <a:lnTo>
                          <a:pt x="262" y="127"/>
                        </a:lnTo>
                        <a:lnTo>
                          <a:pt x="248" y="111"/>
                        </a:lnTo>
                        <a:lnTo>
                          <a:pt x="229" y="91"/>
                        </a:lnTo>
                        <a:lnTo>
                          <a:pt x="265" y="42"/>
                        </a:lnTo>
                        <a:lnTo>
                          <a:pt x="240" y="0"/>
                        </a:lnTo>
                        <a:lnTo>
                          <a:pt x="146" y="4"/>
                        </a:lnTo>
                        <a:lnTo>
                          <a:pt x="55" y="25"/>
                        </a:lnTo>
                        <a:lnTo>
                          <a:pt x="3" y="50"/>
                        </a:lnTo>
                        <a:lnTo>
                          <a:pt x="0" y="85"/>
                        </a:lnTo>
                        <a:lnTo>
                          <a:pt x="0" y="8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5259240" y="5156280"/>
                    <a:ext cx="600120" cy="353880"/>
                  </a:xfrm>
                  <a:custGeom>
                    <a:avLst/>
                    <a:gdLst/>
                    <a:ahLst/>
                    <a:rect l="l" t="t" r="r" b="b"/>
                    <a:pathLst>
                      <a:path w="378" h="223">
                        <a:moveTo>
                          <a:pt x="0" y="172"/>
                        </a:moveTo>
                        <a:lnTo>
                          <a:pt x="66" y="223"/>
                        </a:lnTo>
                        <a:lnTo>
                          <a:pt x="260" y="120"/>
                        </a:lnTo>
                        <a:lnTo>
                          <a:pt x="378" y="11"/>
                        </a:lnTo>
                        <a:lnTo>
                          <a:pt x="341" y="0"/>
                        </a:lnTo>
                        <a:lnTo>
                          <a:pt x="268" y="11"/>
                        </a:lnTo>
                        <a:lnTo>
                          <a:pt x="160" y="38"/>
                        </a:lnTo>
                        <a:lnTo>
                          <a:pt x="0" y="172"/>
                        </a:lnTo>
                        <a:lnTo>
                          <a:pt x="0" y="17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898720" y="3398760"/>
                    <a:ext cx="3016440" cy="1017720"/>
                  </a:xfrm>
                  <a:custGeom>
                    <a:avLst/>
                    <a:gdLst/>
                    <a:ahLst/>
                    <a:rect l="l" t="t" r="r" b="b"/>
                    <a:pathLst>
                      <a:path w="1900" h="641">
                        <a:moveTo>
                          <a:pt x="0" y="63"/>
                        </a:moveTo>
                        <a:lnTo>
                          <a:pt x="147" y="31"/>
                        </a:lnTo>
                        <a:lnTo>
                          <a:pt x="397" y="0"/>
                        </a:lnTo>
                        <a:lnTo>
                          <a:pt x="644" y="33"/>
                        </a:lnTo>
                        <a:lnTo>
                          <a:pt x="730" y="88"/>
                        </a:lnTo>
                        <a:lnTo>
                          <a:pt x="871" y="40"/>
                        </a:lnTo>
                        <a:lnTo>
                          <a:pt x="1193" y="61"/>
                        </a:lnTo>
                        <a:lnTo>
                          <a:pt x="1462" y="145"/>
                        </a:lnTo>
                        <a:lnTo>
                          <a:pt x="1647" y="185"/>
                        </a:lnTo>
                        <a:lnTo>
                          <a:pt x="1898" y="173"/>
                        </a:lnTo>
                        <a:lnTo>
                          <a:pt x="1900" y="202"/>
                        </a:lnTo>
                        <a:lnTo>
                          <a:pt x="1888" y="227"/>
                        </a:lnTo>
                        <a:lnTo>
                          <a:pt x="1875" y="239"/>
                        </a:lnTo>
                        <a:lnTo>
                          <a:pt x="1865" y="245"/>
                        </a:lnTo>
                        <a:lnTo>
                          <a:pt x="1855" y="249"/>
                        </a:lnTo>
                        <a:lnTo>
                          <a:pt x="1680" y="275"/>
                        </a:lnTo>
                        <a:lnTo>
                          <a:pt x="1339" y="267"/>
                        </a:lnTo>
                        <a:lnTo>
                          <a:pt x="1260" y="272"/>
                        </a:lnTo>
                        <a:lnTo>
                          <a:pt x="1146" y="369"/>
                        </a:lnTo>
                        <a:lnTo>
                          <a:pt x="1056" y="538"/>
                        </a:lnTo>
                        <a:lnTo>
                          <a:pt x="407" y="641"/>
                        </a:lnTo>
                        <a:lnTo>
                          <a:pt x="411" y="514"/>
                        </a:lnTo>
                        <a:lnTo>
                          <a:pt x="511" y="258"/>
                        </a:lnTo>
                        <a:lnTo>
                          <a:pt x="567" y="170"/>
                        </a:lnTo>
                        <a:lnTo>
                          <a:pt x="440" y="116"/>
                        </a:lnTo>
                        <a:lnTo>
                          <a:pt x="185" y="88"/>
                        </a:lnTo>
                        <a:lnTo>
                          <a:pt x="18" y="104"/>
                        </a:lnTo>
                        <a:lnTo>
                          <a:pt x="0" y="63"/>
                        </a:lnTo>
                        <a:lnTo>
                          <a:pt x="0" y="6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2901960" y="3398760"/>
                    <a:ext cx="1758960" cy="1001880"/>
                  </a:xfrm>
                  <a:custGeom>
                    <a:avLst/>
                    <a:gdLst/>
                    <a:ahLst/>
                    <a:rect l="l" t="t" r="r" b="b"/>
                    <a:pathLst>
                      <a:path w="1108" h="631">
                        <a:moveTo>
                          <a:pt x="821" y="64"/>
                        </a:moveTo>
                        <a:lnTo>
                          <a:pt x="813" y="72"/>
                        </a:lnTo>
                        <a:lnTo>
                          <a:pt x="794" y="95"/>
                        </a:lnTo>
                        <a:lnTo>
                          <a:pt x="775" y="129"/>
                        </a:lnTo>
                        <a:lnTo>
                          <a:pt x="769" y="173"/>
                        </a:lnTo>
                        <a:lnTo>
                          <a:pt x="775" y="198"/>
                        </a:lnTo>
                        <a:lnTo>
                          <a:pt x="782" y="211"/>
                        </a:lnTo>
                        <a:lnTo>
                          <a:pt x="788" y="225"/>
                        </a:lnTo>
                        <a:lnTo>
                          <a:pt x="798" y="238"/>
                        </a:lnTo>
                        <a:lnTo>
                          <a:pt x="811" y="253"/>
                        </a:lnTo>
                        <a:lnTo>
                          <a:pt x="825" y="267"/>
                        </a:lnTo>
                        <a:lnTo>
                          <a:pt x="834" y="274"/>
                        </a:lnTo>
                        <a:lnTo>
                          <a:pt x="844" y="280"/>
                        </a:lnTo>
                        <a:lnTo>
                          <a:pt x="852" y="288"/>
                        </a:lnTo>
                        <a:lnTo>
                          <a:pt x="865" y="295"/>
                        </a:lnTo>
                        <a:lnTo>
                          <a:pt x="875" y="303"/>
                        </a:lnTo>
                        <a:lnTo>
                          <a:pt x="888" y="310"/>
                        </a:lnTo>
                        <a:lnTo>
                          <a:pt x="902" y="318"/>
                        </a:lnTo>
                        <a:lnTo>
                          <a:pt x="915" y="324"/>
                        </a:lnTo>
                        <a:lnTo>
                          <a:pt x="931" y="332"/>
                        </a:lnTo>
                        <a:lnTo>
                          <a:pt x="946" y="339"/>
                        </a:lnTo>
                        <a:lnTo>
                          <a:pt x="963" y="345"/>
                        </a:lnTo>
                        <a:lnTo>
                          <a:pt x="981" y="353"/>
                        </a:lnTo>
                        <a:lnTo>
                          <a:pt x="998" y="360"/>
                        </a:lnTo>
                        <a:lnTo>
                          <a:pt x="1019" y="368"/>
                        </a:lnTo>
                        <a:lnTo>
                          <a:pt x="1040" y="375"/>
                        </a:lnTo>
                        <a:lnTo>
                          <a:pt x="1062" y="381"/>
                        </a:lnTo>
                        <a:lnTo>
                          <a:pt x="1083" y="389"/>
                        </a:lnTo>
                        <a:lnTo>
                          <a:pt x="1108" y="396"/>
                        </a:lnTo>
                        <a:lnTo>
                          <a:pt x="1056" y="534"/>
                        </a:lnTo>
                        <a:lnTo>
                          <a:pt x="414" y="631"/>
                        </a:lnTo>
                        <a:lnTo>
                          <a:pt x="393" y="514"/>
                        </a:lnTo>
                        <a:lnTo>
                          <a:pt x="501" y="253"/>
                        </a:lnTo>
                        <a:lnTo>
                          <a:pt x="576" y="168"/>
                        </a:lnTo>
                        <a:lnTo>
                          <a:pt x="455" y="118"/>
                        </a:lnTo>
                        <a:lnTo>
                          <a:pt x="301" y="93"/>
                        </a:lnTo>
                        <a:lnTo>
                          <a:pt x="166" y="88"/>
                        </a:lnTo>
                        <a:lnTo>
                          <a:pt x="20" y="101"/>
                        </a:lnTo>
                        <a:lnTo>
                          <a:pt x="0" y="64"/>
                        </a:lnTo>
                        <a:lnTo>
                          <a:pt x="166" y="26"/>
                        </a:lnTo>
                        <a:lnTo>
                          <a:pt x="345" y="0"/>
                        </a:lnTo>
                        <a:lnTo>
                          <a:pt x="520" y="10"/>
                        </a:lnTo>
                        <a:lnTo>
                          <a:pt x="725" y="69"/>
                        </a:lnTo>
                        <a:lnTo>
                          <a:pt x="821" y="64"/>
                        </a:lnTo>
                        <a:lnTo>
                          <a:pt x="821" y="6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2590920" y="4138560"/>
                    <a:ext cx="3133440" cy="1679760"/>
                  </a:xfrm>
                  <a:custGeom>
                    <a:avLst/>
                    <a:gdLst/>
                    <a:ahLst/>
                    <a:rect l="l" t="t" r="r" b="b"/>
                    <a:pathLst>
                      <a:path w="1974" h="1058">
                        <a:moveTo>
                          <a:pt x="160" y="538"/>
                        </a:moveTo>
                        <a:lnTo>
                          <a:pt x="431" y="687"/>
                        </a:lnTo>
                        <a:lnTo>
                          <a:pt x="375" y="462"/>
                        </a:lnTo>
                        <a:lnTo>
                          <a:pt x="545" y="211"/>
                        </a:lnTo>
                        <a:lnTo>
                          <a:pt x="653" y="106"/>
                        </a:lnTo>
                        <a:lnTo>
                          <a:pt x="894" y="18"/>
                        </a:lnTo>
                        <a:lnTo>
                          <a:pt x="1098" y="0"/>
                        </a:lnTo>
                        <a:lnTo>
                          <a:pt x="1221" y="45"/>
                        </a:lnTo>
                        <a:lnTo>
                          <a:pt x="1344" y="93"/>
                        </a:lnTo>
                        <a:lnTo>
                          <a:pt x="1689" y="140"/>
                        </a:lnTo>
                        <a:lnTo>
                          <a:pt x="1949" y="235"/>
                        </a:lnTo>
                        <a:lnTo>
                          <a:pt x="1974" y="357"/>
                        </a:lnTo>
                        <a:lnTo>
                          <a:pt x="1889" y="656"/>
                        </a:lnTo>
                        <a:lnTo>
                          <a:pt x="1868" y="679"/>
                        </a:lnTo>
                        <a:lnTo>
                          <a:pt x="1847" y="703"/>
                        </a:lnTo>
                        <a:lnTo>
                          <a:pt x="1820" y="730"/>
                        </a:lnTo>
                        <a:lnTo>
                          <a:pt x="1791" y="758"/>
                        </a:lnTo>
                        <a:lnTo>
                          <a:pt x="1782" y="765"/>
                        </a:lnTo>
                        <a:lnTo>
                          <a:pt x="1774" y="772"/>
                        </a:lnTo>
                        <a:lnTo>
                          <a:pt x="1758" y="784"/>
                        </a:lnTo>
                        <a:lnTo>
                          <a:pt x="1751" y="789"/>
                        </a:lnTo>
                        <a:lnTo>
                          <a:pt x="1743" y="794"/>
                        </a:lnTo>
                        <a:lnTo>
                          <a:pt x="1726" y="803"/>
                        </a:lnTo>
                        <a:lnTo>
                          <a:pt x="1712" y="810"/>
                        </a:lnTo>
                        <a:lnTo>
                          <a:pt x="1699" y="814"/>
                        </a:lnTo>
                        <a:lnTo>
                          <a:pt x="1599" y="680"/>
                        </a:lnTo>
                        <a:lnTo>
                          <a:pt x="1556" y="505"/>
                        </a:lnTo>
                        <a:lnTo>
                          <a:pt x="1329" y="545"/>
                        </a:lnTo>
                        <a:lnTo>
                          <a:pt x="998" y="599"/>
                        </a:lnTo>
                        <a:lnTo>
                          <a:pt x="838" y="798"/>
                        </a:lnTo>
                        <a:lnTo>
                          <a:pt x="493" y="1058"/>
                        </a:lnTo>
                        <a:lnTo>
                          <a:pt x="289" y="1058"/>
                        </a:lnTo>
                        <a:lnTo>
                          <a:pt x="71" y="949"/>
                        </a:lnTo>
                        <a:lnTo>
                          <a:pt x="0" y="853"/>
                        </a:lnTo>
                        <a:lnTo>
                          <a:pt x="148" y="668"/>
                        </a:lnTo>
                        <a:lnTo>
                          <a:pt x="160" y="538"/>
                        </a:lnTo>
                        <a:lnTo>
                          <a:pt x="160" y="53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550960" y="4457880"/>
                    <a:ext cx="2776680" cy="1390320"/>
                  </a:xfrm>
                  <a:custGeom>
                    <a:avLst/>
                    <a:gdLst/>
                    <a:ahLst/>
                    <a:rect l="l" t="t" r="r" b="b"/>
                    <a:pathLst>
                      <a:path w="1749" h="876">
                        <a:moveTo>
                          <a:pt x="539" y="59"/>
                        </a:moveTo>
                        <a:lnTo>
                          <a:pt x="560" y="66"/>
                        </a:lnTo>
                        <a:lnTo>
                          <a:pt x="587" y="73"/>
                        </a:lnTo>
                        <a:lnTo>
                          <a:pt x="622" y="81"/>
                        </a:lnTo>
                        <a:lnTo>
                          <a:pt x="668" y="89"/>
                        </a:lnTo>
                        <a:lnTo>
                          <a:pt x="724" y="97"/>
                        </a:lnTo>
                        <a:lnTo>
                          <a:pt x="791" y="103"/>
                        </a:lnTo>
                        <a:lnTo>
                          <a:pt x="863" y="109"/>
                        </a:lnTo>
                        <a:lnTo>
                          <a:pt x="1038" y="111"/>
                        </a:lnTo>
                        <a:lnTo>
                          <a:pt x="1246" y="98"/>
                        </a:lnTo>
                        <a:lnTo>
                          <a:pt x="1302" y="91"/>
                        </a:lnTo>
                        <a:lnTo>
                          <a:pt x="1360" y="83"/>
                        </a:lnTo>
                        <a:lnTo>
                          <a:pt x="1421" y="74"/>
                        </a:lnTo>
                        <a:lnTo>
                          <a:pt x="1483" y="62"/>
                        </a:lnTo>
                        <a:lnTo>
                          <a:pt x="1514" y="57"/>
                        </a:lnTo>
                        <a:lnTo>
                          <a:pt x="1548" y="50"/>
                        </a:lnTo>
                        <a:lnTo>
                          <a:pt x="1581" y="42"/>
                        </a:lnTo>
                        <a:lnTo>
                          <a:pt x="1614" y="34"/>
                        </a:lnTo>
                        <a:lnTo>
                          <a:pt x="1647" y="28"/>
                        </a:lnTo>
                        <a:lnTo>
                          <a:pt x="1681" y="18"/>
                        </a:lnTo>
                        <a:lnTo>
                          <a:pt x="1716" y="9"/>
                        </a:lnTo>
                        <a:lnTo>
                          <a:pt x="1749" y="0"/>
                        </a:lnTo>
                        <a:lnTo>
                          <a:pt x="1739" y="54"/>
                        </a:lnTo>
                        <a:lnTo>
                          <a:pt x="1724" y="115"/>
                        </a:lnTo>
                        <a:lnTo>
                          <a:pt x="1712" y="192"/>
                        </a:lnTo>
                        <a:lnTo>
                          <a:pt x="1695" y="279"/>
                        </a:lnTo>
                        <a:lnTo>
                          <a:pt x="1683" y="369"/>
                        </a:lnTo>
                        <a:lnTo>
                          <a:pt x="1664" y="544"/>
                        </a:lnTo>
                        <a:lnTo>
                          <a:pt x="1608" y="444"/>
                        </a:lnTo>
                        <a:lnTo>
                          <a:pt x="1581" y="304"/>
                        </a:lnTo>
                        <a:lnTo>
                          <a:pt x="1292" y="357"/>
                        </a:lnTo>
                        <a:lnTo>
                          <a:pt x="1023" y="398"/>
                        </a:lnTo>
                        <a:lnTo>
                          <a:pt x="865" y="608"/>
                        </a:lnTo>
                        <a:lnTo>
                          <a:pt x="562" y="840"/>
                        </a:lnTo>
                        <a:lnTo>
                          <a:pt x="293" y="876"/>
                        </a:lnTo>
                        <a:lnTo>
                          <a:pt x="85" y="738"/>
                        </a:lnTo>
                        <a:lnTo>
                          <a:pt x="0" y="626"/>
                        </a:lnTo>
                        <a:lnTo>
                          <a:pt x="202" y="357"/>
                        </a:lnTo>
                        <a:lnTo>
                          <a:pt x="456" y="486"/>
                        </a:lnTo>
                        <a:lnTo>
                          <a:pt x="379" y="305"/>
                        </a:lnTo>
                        <a:lnTo>
                          <a:pt x="539" y="59"/>
                        </a:lnTo>
                        <a:lnTo>
                          <a:pt x="539" y="5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2303640" y="4824360"/>
                    <a:ext cx="568080" cy="739800"/>
                  </a:xfrm>
                  <a:custGeom>
                    <a:avLst/>
                    <a:gdLst/>
                    <a:ahLst/>
                    <a:rect l="l" t="t" r="r" b="b"/>
                    <a:pathLst>
                      <a:path w="358" h="466">
                        <a:moveTo>
                          <a:pt x="44" y="151"/>
                        </a:moveTo>
                        <a:lnTo>
                          <a:pt x="0" y="293"/>
                        </a:lnTo>
                        <a:lnTo>
                          <a:pt x="0" y="398"/>
                        </a:lnTo>
                        <a:lnTo>
                          <a:pt x="58" y="466"/>
                        </a:lnTo>
                        <a:lnTo>
                          <a:pt x="156" y="395"/>
                        </a:lnTo>
                        <a:lnTo>
                          <a:pt x="302" y="289"/>
                        </a:lnTo>
                        <a:lnTo>
                          <a:pt x="358" y="126"/>
                        </a:lnTo>
                        <a:lnTo>
                          <a:pt x="304" y="22"/>
                        </a:lnTo>
                        <a:lnTo>
                          <a:pt x="248" y="0"/>
                        </a:lnTo>
                        <a:lnTo>
                          <a:pt x="167" y="32"/>
                        </a:lnTo>
                        <a:lnTo>
                          <a:pt x="88" y="78"/>
                        </a:lnTo>
                        <a:lnTo>
                          <a:pt x="71" y="98"/>
                        </a:lnTo>
                        <a:lnTo>
                          <a:pt x="56" y="121"/>
                        </a:lnTo>
                        <a:lnTo>
                          <a:pt x="44" y="151"/>
                        </a:lnTo>
                        <a:lnTo>
                          <a:pt x="44" y="15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3591000" y="4815000"/>
                    <a:ext cx="1515960" cy="287280"/>
                  </a:xfrm>
                  <a:custGeom>
                    <a:avLst/>
                    <a:gdLst/>
                    <a:ahLst/>
                    <a:rect l="l" t="t" r="r" b="b"/>
                    <a:pathLst>
                      <a:path w="955" h="181">
                        <a:moveTo>
                          <a:pt x="0" y="0"/>
                        </a:moveTo>
                        <a:lnTo>
                          <a:pt x="7" y="15"/>
                        </a:lnTo>
                        <a:lnTo>
                          <a:pt x="19" y="32"/>
                        </a:lnTo>
                        <a:lnTo>
                          <a:pt x="36" y="52"/>
                        </a:lnTo>
                        <a:lnTo>
                          <a:pt x="59" y="75"/>
                        </a:lnTo>
                        <a:lnTo>
                          <a:pt x="67" y="81"/>
                        </a:lnTo>
                        <a:lnTo>
                          <a:pt x="73" y="88"/>
                        </a:lnTo>
                        <a:lnTo>
                          <a:pt x="81" y="93"/>
                        </a:lnTo>
                        <a:lnTo>
                          <a:pt x="90" y="100"/>
                        </a:lnTo>
                        <a:lnTo>
                          <a:pt x="108" y="111"/>
                        </a:lnTo>
                        <a:lnTo>
                          <a:pt x="119" y="117"/>
                        </a:lnTo>
                        <a:lnTo>
                          <a:pt x="129" y="123"/>
                        </a:lnTo>
                        <a:lnTo>
                          <a:pt x="140" y="128"/>
                        </a:lnTo>
                        <a:lnTo>
                          <a:pt x="150" y="133"/>
                        </a:lnTo>
                        <a:lnTo>
                          <a:pt x="163" y="138"/>
                        </a:lnTo>
                        <a:lnTo>
                          <a:pt x="175" y="144"/>
                        </a:lnTo>
                        <a:lnTo>
                          <a:pt x="202" y="153"/>
                        </a:lnTo>
                        <a:lnTo>
                          <a:pt x="233" y="162"/>
                        </a:lnTo>
                        <a:lnTo>
                          <a:pt x="264" y="169"/>
                        </a:lnTo>
                        <a:lnTo>
                          <a:pt x="300" y="174"/>
                        </a:lnTo>
                        <a:lnTo>
                          <a:pt x="377" y="181"/>
                        </a:lnTo>
                        <a:lnTo>
                          <a:pt x="466" y="178"/>
                        </a:lnTo>
                        <a:lnTo>
                          <a:pt x="568" y="168"/>
                        </a:lnTo>
                        <a:lnTo>
                          <a:pt x="624" y="158"/>
                        </a:lnTo>
                        <a:lnTo>
                          <a:pt x="653" y="152"/>
                        </a:lnTo>
                        <a:lnTo>
                          <a:pt x="682" y="145"/>
                        </a:lnTo>
                        <a:lnTo>
                          <a:pt x="714" y="137"/>
                        </a:lnTo>
                        <a:lnTo>
                          <a:pt x="745" y="129"/>
                        </a:lnTo>
                        <a:lnTo>
                          <a:pt x="778" y="120"/>
                        </a:lnTo>
                        <a:lnTo>
                          <a:pt x="811" y="111"/>
                        </a:lnTo>
                        <a:lnTo>
                          <a:pt x="828" y="105"/>
                        </a:lnTo>
                        <a:lnTo>
                          <a:pt x="847" y="99"/>
                        </a:lnTo>
                        <a:lnTo>
                          <a:pt x="863" y="93"/>
                        </a:lnTo>
                        <a:lnTo>
                          <a:pt x="882" y="88"/>
                        </a:lnTo>
                        <a:lnTo>
                          <a:pt x="901" y="81"/>
                        </a:lnTo>
                        <a:lnTo>
                          <a:pt x="917" y="75"/>
                        </a:lnTo>
                        <a:lnTo>
                          <a:pt x="936" y="68"/>
                        </a:lnTo>
                        <a:lnTo>
                          <a:pt x="955" y="60"/>
                        </a:lnTo>
                        <a:lnTo>
                          <a:pt x="920" y="68"/>
                        </a:lnTo>
                        <a:lnTo>
                          <a:pt x="876" y="76"/>
                        </a:lnTo>
                        <a:lnTo>
                          <a:pt x="820" y="87"/>
                        </a:lnTo>
                        <a:lnTo>
                          <a:pt x="789" y="92"/>
                        </a:lnTo>
                        <a:lnTo>
                          <a:pt x="755" y="97"/>
                        </a:lnTo>
                        <a:lnTo>
                          <a:pt x="718" y="103"/>
                        </a:lnTo>
                        <a:lnTo>
                          <a:pt x="680" y="108"/>
                        </a:lnTo>
                        <a:lnTo>
                          <a:pt x="601" y="117"/>
                        </a:lnTo>
                        <a:lnTo>
                          <a:pt x="516" y="124"/>
                        </a:lnTo>
                        <a:lnTo>
                          <a:pt x="431" y="128"/>
                        </a:lnTo>
                        <a:lnTo>
                          <a:pt x="348" y="129"/>
                        </a:lnTo>
                        <a:lnTo>
                          <a:pt x="267" y="125"/>
                        </a:lnTo>
                        <a:lnTo>
                          <a:pt x="192" y="115"/>
                        </a:lnTo>
                        <a:lnTo>
                          <a:pt x="158" y="108"/>
                        </a:lnTo>
                        <a:lnTo>
                          <a:pt x="127" y="99"/>
                        </a:lnTo>
                        <a:lnTo>
                          <a:pt x="98" y="88"/>
                        </a:lnTo>
                        <a:lnTo>
                          <a:pt x="84" y="81"/>
                        </a:lnTo>
                        <a:lnTo>
                          <a:pt x="71" y="75"/>
                        </a:lnTo>
                        <a:lnTo>
                          <a:pt x="59" y="67"/>
                        </a:lnTo>
                        <a:lnTo>
                          <a:pt x="48" y="59"/>
                        </a:lnTo>
                        <a:lnTo>
                          <a:pt x="27" y="39"/>
                        </a:lnTo>
                        <a:lnTo>
                          <a:pt x="0" y="0"/>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4562640" y="4300560"/>
                    <a:ext cx="1174680" cy="880920"/>
                  </a:xfrm>
                  <a:custGeom>
                    <a:avLst/>
                    <a:gdLst/>
                    <a:ahLst/>
                    <a:rect l="l" t="t" r="r" b="b"/>
                    <a:pathLst>
                      <a:path w="740" h="555">
                        <a:moveTo>
                          <a:pt x="87" y="7"/>
                        </a:moveTo>
                        <a:lnTo>
                          <a:pt x="226" y="14"/>
                        </a:lnTo>
                        <a:lnTo>
                          <a:pt x="299" y="22"/>
                        </a:lnTo>
                        <a:lnTo>
                          <a:pt x="372" y="34"/>
                        </a:lnTo>
                        <a:lnTo>
                          <a:pt x="407" y="40"/>
                        </a:lnTo>
                        <a:lnTo>
                          <a:pt x="441" y="50"/>
                        </a:lnTo>
                        <a:lnTo>
                          <a:pt x="474" y="59"/>
                        </a:lnTo>
                        <a:lnTo>
                          <a:pt x="505" y="70"/>
                        </a:lnTo>
                        <a:lnTo>
                          <a:pt x="522" y="75"/>
                        </a:lnTo>
                        <a:lnTo>
                          <a:pt x="536" y="81"/>
                        </a:lnTo>
                        <a:lnTo>
                          <a:pt x="549" y="88"/>
                        </a:lnTo>
                        <a:lnTo>
                          <a:pt x="563" y="95"/>
                        </a:lnTo>
                        <a:lnTo>
                          <a:pt x="576" y="101"/>
                        </a:lnTo>
                        <a:lnTo>
                          <a:pt x="588" y="109"/>
                        </a:lnTo>
                        <a:lnTo>
                          <a:pt x="601" y="117"/>
                        </a:lnTo>
                        <a:lnTo>
                          <a:pt x="611" y="125"/>
                        </a:lnTo>
                        <a:lnTo>
                          <a:pt x="651" y="162"/>
                        </a:lnTo>
                        <a:lnTo>
                          <a:pt x="674" y="206"/>
                        </a:lnTo>
                        <a:lnTo>
                          <a:pt x="669" y="348"/>
                        </a:lnTo>
                        <a:lnTo>
                          <a:pt x="663" y="405"/>
                        </a:lnTo>
                        <a:lnTo>
                          <a:pt x="655" y="461"/>
                        </a:lnTo>
                        <a:lnTo>
                          <a:pt x="642" y="510"/>
                        </a:lnTo>
                        <a:lnTo>
                          <a:pt x="628" y="555"/>
                        </a:lnTo>
                        <a:lnTo>
                          <a:pt x="651" y="524"/>
                        </a:lnTo>
                        <a:lnTo>
                          <a:pt x="669" y="486"/>
                        </a:lnTo>
                        <a:lnTo>
                          <a:pt x="680" y="454"/>
                        </a:lnTo>
                        <a:lnTo>
                          <a:pt x="690" y="420"/>
                        </a:lnTo>
                        <a:lnTo>
                          <a:pt x="699" y="392"/>
                        </a:lnTo>
                        <a:lnTo>
                          <a:pt x="709" y="359"/>
                        </a:lnTo>
                        <a:lnTo>
                          <a:pt x="719" y="328"/>
                        </a:lnTo>
                        <a:lnTo>
                          <a:pt x="730" y="294"/>
                        </a:lnTo>
                        <a:lnTo>
                          <a:pt x="740" y="204"/>
                        </a:lnTo>
                        <a:lnTo>
                          <a:pt x="736" y="188"/>
                        </a:lnTo>
                        <a:lnTo>
                          <a:pt x="730" y="174"/>
                        </a:lnTo>
                        <a:lnTo>
                          <a:pt x="719" y="157"/>
                        </a:lnTo>
                        <a:lnTo>
                          <a:pt x="703" y="139"/>
                        </a:lnTo>
                        <a:lnTo>
                          <a:pt x="680" y="119"/>
                        </a:lnTo>
                        <a:lnTo>
                          <a:pt x="674" y="113"/>
                        </a:lnTo>
                        <a:lnTo>
                          <a:pt x="665" y="108"/>
                        </a:lnTo>
                        <a:lnTo>
                          <a:pt x="659" y="103"/>
                        </a:lnTo>
                        <a:lnTo>
                          <a:pt x="651" y="97"/>
                        </a:lnTo>
                        <a:lnTo>
                          <a:pt x="640" y="92"/>
                        </a:lnTo>
                        <a:lnTo>
                          <a:pt x="632" y="87"/>
                        </a:lnTo>
                        <a:lnTo>
                          <a:pt x="622" y="81"/>
                        </a:lnTo>
                        <a:lnTo>
                          <a:pt x="611" y="76"/>
                        </a:lnTo>
                        <a:lnTo>
                          <a:pt x="599" y="71"/>
                        </a:lnTo>
                        <a:lnTo>
                          <a:pt x="586" y="67"/>
                        </a:lnTo>
                        <a:lnTo>
                          <a:pt x="561" y="56"/>
                        </a:lnTo>
                        <a:lnTo>
                          <a:pt x="532" y="47"/>
                        </a:lnTo>
                        <a:lnTo>
                          <a:pt x="501" y="39"/>
                        </a:lnTo>
                        <a:lnTo>
                          <a:pt x="468" y="31"/>
                        </a:lnTo>
                        <a:lnTo>
                          <a:pt x="428" y="23"/>
                        </a:lnTo>
                        <a:lnTo>
                          <a:pt x="389" y="16"/>
                        </a:lnTo>
                        <a:lnTo>
                          <a:pt x="343" y="11"/>
                        </a:lnTo>
                        <a:lnTo>
                          <a:pt x="297" y="7"/>
                        </a:lnTo>
                        <a:lnTo>
                          <a:pt x="245" y="3"/>
                        </a:lnTo>
                        <a:lnTo>
                          <a:pt x="131" y="0"/>
                        </a:lnTo>
                        <a:lnTo>
                          <a:pt x="0" y="3"/>
                        </a:lnTo>
                        <a:lnTo>
                          <a:pt x="87" y="7"/>
                        </a:lnTo>
                        <a:lnTo>
                          <a:pt x="87" y="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590920" y="5108400"/>
                    <a:ext cx="1571400" cy="809640"/>
                  </a:xfrm>
                  <a:custGeom>
                    <a:avLst/>
                    <a:gdLst/>
                    <a:ahLst/>
                    <a:rect l="l" t="t" r="r" b="b"/>
                    <a:pathLst>
                      <a:path w="990" h="510">
                        <a:moveTo>
                          <a:pt x="0" y="242"/>
                        </a:moveTo>
                        <a:lnTo>
                          <a:pt x="15" y="272"/>
                        </a:lnTo>
                        <a:lnTo>
                          <a:pt x="23" y="287"/>
                        </a:lnTo>
                        <a:lnTo>
                          <a:pt x="33" y="304"/>
                        </a:lnTo>
                        <a:lnTo>
                          <a:pt x="46" y="323"/>
                        </a:lnTo>
                        <a:lnTo>
                          <a:pt x="60" y="342"/>
                        </a:lnTo>
                        <a:lnTo>
                          <a:pt x="75" y="362"/>
                        </a:lnTo>
                        <a:lnTo>
                          <a:pt x="94" y="384"/>
                        </a:lnTo>
                        <a:lnTo>
                          <a:pt x="112" y="405"/>
                        </a:lnTo>
                        <a:lnTo>
                          <a:pt x="135" y="425"/>
                        </a:lnTo>
                        <a:lnTo>
                          <a:pt x="146" y="434"/>
                        </a:lnTo>
                        <a:lnTo>
                          <a:pt x="158" y="443"/>
                        </a:lnTo>
                        <a:lnTo>
                          <a:pt x="171" y="453"/>
                        </a:lnTo>
                        <a:lnTo>
                          <a:pt x="183" y="462"/>
                        </a:lnTo>
                        <a:lnTo>
                          <a:pt x="198" y="470"/>
                        </a:lnTo>
                        <a:lnTo>
                          <a:pt x="212" y="477"/>
                        </a:lnTo>
                        <a:lnTo>
                          <a:pt x="227" y="484"/>
                        </a:lnTo>
                        <a:lnTo>
                          <a:pt x="241" y="490"/>
                        </a:lnTo>
                        <a:lnTo>
                          <a:pt x="256" y="495"/>
                        </a:lnTo>
                        <a:lnTo>
                          <a:pt x="273" y="500"/>
                        </a:lnTo>
                        <a:lnTo>
                          <a:pt x="306" y="507"/>
                        </a:lnTo>
                        <a:lnTo>
                          <a:pt x="341" y="510"/>
                        </a:lnTo>
                        <a:lnTo>
                          <a:pt x="379" y="508"/>
                        </a:lnTo>
                        <a:lnTo>
                          <a:pt x="460" y="492"/>
                        </a:lnTo>
                        <a:lnTo>
                          <a:pt x="481" y="484"/>
                        </a:lnTo>
                        <a:lnTo>
                          <a:pt x="503" y="475"/>
                        </a:lnTo>
                        <a:lnTo>
                          <a:pt x="526" y="465"/>
                        </a:lnTo>
                        <a:lnTo>
                          <a:pt x="537" y="459"/>
                        </a:lnTo>
                        <a:lnTo>
                          <a:pt x="549" y="453"/>
                        </a:lnTo>
                        <a:lnTo>
                          <a:pt x="562" y="446"/>
                        </a:lnTo>
                        <a:lnTo>
                          <a:pt x="572" y="439"/>
                        </a:lnTo>
                        <a:lnTo>
                          <a:pt x="585" y="431"/>
                        </a:lnTo>
                        <a:lnTo>
                          <a:pt x="597" y="423"/>
                        </a:lnTo>
                        <a:lnTo>
                          <a:pt x="610" y="415"/>
                        </a:lnTo>
                        <a:lnTo>
                          <a:pt x="622" y="406"/>
                        </a:lnTo>
                        <a:lnTo>
                          <a:pt x="634" y="397"/>
                        </a:lnTo>
                        <a:lnTo>
                          <a:pt x="647" y="388"/>
                        </a:lnTo>
                        <a:lnTo>
                          <a:pt x="659" y="377"/>
                        </a:lnTo>
                        <a:lnTo>
                          <a:pt x="672" y="366"/>
                        </a:lnTo>
                        <a:lnTo>
                          <a:pt x="699" y="344"/>
                        </a:lnTo>
                        <a:lnTo>
                          <a:pt x="726" y="320"/>
                        </a:lnTo>
                        <a:lnTo>
                          <a:pt x="753" y="293"/>
                        </a:lnTo>
                        <a:lnTo>
                          <a:pt x="780" y="264"/>
                        </a:lnTo>
                        <a:lnTo>
                          <a:pt x="809" y="234"/>
                        </a:lnTo>
                        <a:lnTo>
                          <a:pt x="822" y="218"/>
                        </a:lnTo>
                        <a:lnTo>
                          <a:pt x="838" y="200"/>
                        </a:lnTo>
                        <a:lnTo>
                          <a:pt x="853" y="183"/>
                        </a:lnTo>
                        <a:lnTo>
                          <a:pt x="867" y="165"/>
                        </a:lnTo>
                        <a:lnTo>
                          <a:pt x="882" y="146"/>
                        </a:lnTo>
                        <a:lnTo>
                          <a:pt x="897" y="127"/>
                        </a:lnTo>
                        <a:lnTo>
                          <a:pt x="911" y="107"/>
                        </a:lnTo>
                        <a:lnTo>
                          <a:pt x="928" y="88"/>
                        </a:lnTo>
                        <a:lnTo>
                          <a:pt x="942" y="66"/>
                        </a:lnTo>
                        <a:lnTo>
                          <a:pt x="957" y="45"/>
                        </a:lnTo>
                        <a:lnTo>
                          <a:pt x="973" y="22"/>
                        </a:lnTo>
                        <a:lnTo>
                          <a:pt x="990" y="0"/>
                        </a:lnTo>
                        <a:lnTo>
                          <a:pt x="982" y="9"/>
                        </a:lnTo>
                        <a:lnTo>
                          <a:pt x="963" y="33"/>
                        </a:lnTo>
                        <a:lnTo>
                          <a:pt x="951" y="49"/>
                        </a:lnTo>
                        <a:lnTo>
                          <a:pt x="934" y="69"/>
                        </a:lnTo>
                        <a:lnTo>
                          <a:pt x="913" y="90"/>
                        </a:lnTo>
                        <a:lnTo>
                          <a:pt x="892" y="114"/>
                        </a:lnTo>
                        <a:lnTo>
                          <a:pt x="867" y="139"/>
                        </a:lnTo>
                        <a:lnTo>
                          <a:pt x="842" y="165"/>
                        </a:lnTo>
                        <a:lnTo>
                          <a:pt x="813" y="192"/>
                        </a:lnTo>
                        <a:lnTo>
                          <a:pt x="784" y="219"/>
                        </a:lnTo>
                        <a:lnTo>
                          <a:pt x="753" y="247"/>
                        </a:lnTo>
                        <a:lnTo>
                          <a:pt x="745" y="253"/>
                        </a:lnTo>
                        <a:lnTo>
                          <a:pt x="736" y="260"/>
                        </a:lnTo>
                        <a:lnTo>
                          <a:pt x="728" y="267"/>
                        </a:lnTo>
                        <a:lnTo>
                          <a:pt x="720" y="273"/>
                        </a:lnTo>
                        <a:lnTo>
                          <a:pt x="711" y="280"/>
                        </a:lnTo>
                        <a:lnTo>
                          <a:pt x="701" y="287"/>
                        </a:lnTo>
                        <a:lnTo>
                          <a:pt x="693" y="293"/>
                        </a:lnTo>
                        <a:lnTo>
                          <a:pt x="684" y="299"/>
                        </a:lnTo>
                        <a:lnTo>
                          <a:pt x="676" y="305"/>
                        </a:lnTo>
                        <a:lnTo>
                          <a:pt x="668" y="312"/>
                        </a:lnTo>
                        <a:lnTo>
                          <a:pt x="657" y="319"/>
                        </a:lnTo>
                        <a:lnTo>
                          <a:pt x="649" y="324"/>
                        </a:lnTo>
                        <a:lnTo>
                          <a:pt x="639" y="329"/>
                        </a:lnTo>
                        <a:lnTo>
                          <a:pt x="630" y="336"/>
                        </a:lnTo>
                        <a:lnTo>
                          <a:pt x="612" y="346"/>
                        </a:lnTo>
                        <a:lnTo>
                          <a:pt x="601" y="353"/>
                        </a:lnTo>
                        <a:lnTo>
                          <a:pt x="593" y="358"/>
                        </a:lnTo>
                        <a:lnTo>
                          <a:pt x="582" y="364"/>
                        </a:lnTo>
                        <a:lnTo>
                          <a:pt x="572" y="368"/>
                        </a:lnTo>
                        <a:lnTo>
                          <a:pt x="553" y="378"/>
                        </a:lnTo>
                        <a:lnTo>
                          <a:pt x="533" y="388"/>
                        </a:lnTo>
                        <a:lnTo>
                          <a:pt x="514" y="396"/>
                        </a:lnTo>
                        <a:lnTo>
                          <a:pt x="493" y="403"/>
                        </a:lnTo>
                        <a:lnTo>
                          <a:pt x="472" y="410"/>
                        </a:lnTo>
                        <a:lnTo>
                          <a:pt x="454" y="415"/>
                        </a:lnTo>
                        <a:lnTo>
                          <a:pt x="433" y="421"/>
                        </a:lnTo>
                        <a:lnTo>
                          <a:pt x="412" y="426"/>
                        </a:lnTo>
                        <a:lnTo>
                          <a:pt x="370" y="431"/>
                        </a:lnTo>
                        <a:lnTo>
                          <a:pt x="329" y="433"/>
                        </a:lnTo>
                        <a:lnTo>
                          <a:pt x="243" y="421"/>
                        </a:lnTo>
                        <a:lnTo>
                          <a:pt x="223" y="414"/>
                        </a:lnTo>
                        <a:lnTo>
                          <a:pt x="202" y="406"/>
                        </a:lnTo>
                        <a:lnTo>
                          <a:pt x="181" y="397"/>
                        </a:lnTo>
                        <a:lnTo>
                          <a:pt x="160" y="386"/>
                        </a:lnTo>
                        <a:lnTo>
                          <a:pt x="150" y="381"/>
                        </a:lnTo>
                        <a:lnTo>
                          <a:pt x="140" y="374"/>
                        </a:lnTo>
                        <a:lnTo>
                          <a:pt x="129" y="368"/>
                        </a:lnTo>
                        <a:lnTo>
                          <a:pt x="119" y="361"/>
                        </a:lnTo>
                        <a:lnTo>
                          <a:pt x="108" y="353"/>
                        </a:lnTo>
                        <a:lnTo>
                          <a:pt x="100" y="345"/>
                        </a:lnTo>
                        <a:lnTo>
                          <a:pt x="90" y="337"/>
                        </a:lnTo>
                        <a:lnTo>
                          <a:pt x="79" y="328"/>
                        </a:lnTo>
                        <a:lnTo>
                          <a:pt x="58" y="309"/>
                        </a:lnTo>
                        <a:lnTo>
                          <a:pt x="40" y="289"/>
                        </a:lnTo>
                        <a:lnTo>
                          <a:pt x="19" y="267"/>
                        </a:lnTo>
                        <a:lnTo>
                          <a:pt x="0" y="242"/>
                        </a:lnTo>
                        <a:lnTo>
                          <a:pt x="0" y="24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5060880" y="4940280"/>
                    <a:ext cx="819360" cy="595440"/>
                  </a:xfrm>
                  <a:custGeom>
                    <a:avLst/>
                    <a:gdLst/>
                    <a:ahLst/>
                    <a:rect l="l" t="t" r="r" b="b"/>
                    <a:pathLst>
                      <a:path w="516" h="375">
                        <a:moveTo>
                          <a:pt x="0" y="0"/>
                        </a:moveTo>
                        <a:lnTo>
                          <a:pt x="6" y="33"/>
                        </a:lnTo>
                        <a:lnTo>
                          <a:pt x="14" y="69"/>
                        </a:lnTo>
                        <a:lnTo>
                          <a:pt x="23" y="91"/>
                        </a:lnTo>
                        <a:lnTo>
                          <a:pt x="33" y="115"/>
                        </a:lnTo>
                        <a:lnTo>
                          <a:pt x="43" y="142"/>
                        </a:lnTo>
                        <a:lnTo>
                          <a:pt x="58" y="170"/>
                        </a:lnTo>
                        <a:lnTo>
                          <a:pt x="75" y="198"/>
                        </a:lnTo>
                        <a:lnTo>
                          <a:pt x="95" y="227"/>
                        </a:lnTo>
                        <a:lnTo>
                          <a:pt x="106" y="241"/>
                        </a:lnTo>
                        <a:lnTo>
                          <a:pt x="118" y="257"/>
                        </a:lnTo>
                        <a:lnTo>
                          <a:pt x="131" y="272"/>
                        </a:lnTo>
                        <a:lnTo>
                          <a:pt x="143" y="286"/>
                        </a:lnTo>
                        <a:lnTo>
                          <a:pt x="174" y="316"/>
                        </a:lnTo>
                        <a:lnTo>
                          <a:pt x="208" y="345"/>
                        </a:lnTo>
                        <a:lnTo>
                          <a:pt x="212" y="342"/>
                        </a:lnTo>
                        <a:lnTo>
                          <a:pt x="226" y="333"/>
                        </a:lnTo>
                        <a:lnTo>
                          <a:pt x="237" y="328"/>
                        </a:lnTo>
                        <a:lnTo>
                          <a:pt x="247" y="320"/>
                        </a:lnTo>
                        <a:lnTo>
                          <a:pt x="262" y="312"/>
                        </a:lnTo>
                        <a:lnTo>
                          <a:pt x="274" y="304"/>
                        </a:lnTo>
                        <a:lnTo>
                          <a:pt x="289" y="294"/>
                        </a:lnTo>
                        <a:lnTo>
                          <a:pt x="306" y="284"/>
                        </a:lnTo>
                        <a:lnTo>
                          <a:pt x="320" y="275"/>
                        </a:lnTo>
                        <a:lnTo>
                          <a:pt x="328" y="269"/>
                        </a:lnTo>
                        <a:lnTo>
                          <a:pt x="337" y="263"/>
                        </a:lnTo>
                        <a:lnTo>
                          <a:pt x="345" y="257"/>
                        </a:lnTo>
                        <a:lnTo>
                          <a:pt x="353" y="252"/>
                        </a:lnTo>
                        <a:lnTo>
                          <a:pt x="362" y="247"/>
                        </a:lnTo>
                        <a:lnTo>
                          <a:pt x="370" y="241"/>
                        </a:lnTo>
                        <a:lnTo>
                          <a:pt x="376" y="236"/>
                        </a:lnTo>
                        <a:lnTo>
                          <a:pt x="385" y="229"/>
                        </a:lnTo>
                        <a:lnTo>
                          <a:pt x="391" y="225"/>
                        </a:lnTo>
                        <a:lnTo>
                          <a:pt x="399" y="219"/>
                        </a:lnTo>
                        <a:lnTo>
                          <a:pt x="414" y="208"/>
                        </a:lnTo>
                        <a:lnTo>
                          <a:pt x="424" y="199"/>
                        </a:lnTo>
                        <a:lnTo>
                          <a:pt x="447" y="179"/>
                        </a:lnTo>
                        <a:lnTo>
                          <a:pt x="464" y="151"/>
                        </a:lnTo>
                        <a:lnTo>
                          <a:pt x="455" y="143"/>
                        </a:lnTo>
                        <a:lnTo>
                          <a:pt x="437" y="142"/>
                        </a:lnTo>
                        <a:lnTo>
                          <a:pt x="349" y="158"/>
                        </a:lnTo>
                        <a:lnTo>
                          <a:pt x="370" y="151"/>
                        </a:lnTo>
                        <a:lnTo>
                          <a:pt x="391" y="147"/>
                        </a:lnTo>
                        <a:lnTo>
                          <a:pt x="430" y="138"/>
                        </a:lnTo>
                        <a:lnTo>
                          <a:pt x="455" y="136"/>
                        </a:lnTo>
                        <a:lnTo>
                          <a:pt x="503" y="139"/>
                        </a:lnTo>
                        <a:lnTo>
                          <a:pt x="516" y="158"/>
                        </a:lnTo>
                        <a:lnTo>
                          <a:pt x="507" y="175"/>
                        </a:lnTo>
                        <a:lnTo>
                          <a:pt x="484" y="198"/>
                        </a:lnTo>
                        <a:lnTo>
                          <a:pt x="468" y="212"/>
                        </a:lnTo>
                        <a:lnTo>
                          <a:pt x="457" y="220"/>
                        </a:lnTo>
                        <a:lnTo>
                          <a:pt x="447" y="229"/>
                        </a:lnTo>
                        <a:lnTo>
                          <a:pt x="434" y="239"/>
                        </a:lnTo>
                        <a:lnTo>
                          <a:pt x="422" y="248"/>
                        </a:lnTo>
                        <a:lnTo>
                          <a:pt x="407" y="257"/>
                        </a:lnTo>
                        <a:lnTo>
                          <a:pt x="399" y="263"/>
                        </a:lnTo>
                        <a:lnTo>
                          <a:pt x="391" y="269"/>
                        </a:lnTo>
                        <a:lnTo>
                          <a:pt x="374" y="280"/>
                        </a:lnTo>
                        <a:lnTo>
                          <a:pt x="366" y="285"/>
                        </a:lnTo>
                        <a:lnTo>
                          <a:pt x="355" y="292"/>
                        </a:lnTo>
                        <a:lnTo>
                          <a:pt x="345" y="297"/>
                        </a:lnTo>
                        <a:lnTo>
                          <a:pt x="337" y="304"/>
                        </a:lnTo>
                        <a:lnTo>
                          <a:pt x="326" y="310"/>
                        </a:lnTo>
                        <a:lnTo>
                          <a:pt x="316" y="317"/>
                        </a:lnTo>
                        <a:lnTo>
                          <a:pt x="303" y="324"/>
                        </a:lnTo>
                        <a:lnTo>
                          <a:pt x="293" y="330"/>
                        </a:lnTo>
                        <a:lnTo>
                          <a:pt x="281" y="337"/>
                        </a:lnTo>
                        <a:lnTo>
                          <a:pt x="268" y="345"/>
                        </a:lnTo>
                        <a:lnTo>
                          <a:pt x="258" y="352"/>
                        </a:lnTo>
                        <a:lnTo>
                          <a:pt x="243" y="359"/>
                        </a:lnTo>
                        <a:lnTo>
                          <a:pt x="231" y="367"/>
                        </a:lnTo>
                        <a:lnTo>
                          <a:pt x="216" y="375"/>
                        </a:lnTo>
                        <a:lnTo>
                          <a:pt x="202" y="375"/>
                        </a:lnTo>
                        <a:lnTo>
                          <a:pt x="174" y="367"/>
                        </a:lnTo>
                        <a:lnTo>
                          <a:pt x="158" y="359"/>
                        </a:lnTo>
                        <a:lnTo>
                          <a:pt x="141" y="348"/>
                        </a:lnTo>
                        <a:lnTo>
                          <a:pt x="104" y="314"/>
                        </a:lnTo>
                        <a:lnTo>
                          <a:pt x="83" y="292"/>
                        </a:lnTo>
                        <a:lnTo>
                          <a:pt x="64" y="265"/>
                        </a:lnTo>
                        <a:lnTo>
                          <a:pt x="33" y="198"/>
                        </a:lnTo>
                        <a:lnTo>
                          <a:pt x="10" y="110"/>
                        </a:lnTo>
                        <a:lnTo>
                          <a:pt x="0" y="0"/>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3125880" y="4373640"/>
                    <a:ext cx="465120" cy="855720"/>
                  </a:xfrm>
                  <a:custGeom>
                    <a:avLst/>
                    <a:gdLst/>
                    <a:ahLst/>
                    <a:rect l="l" t="t" r="r" b="b"/>
                    <a:pathLst>
                      <a:path w="293" h="539">
                        <a:moveTo>
                          <a:pt x="293" y="0"/>
                        </a:moveTo>
                        <a:lnTo>
                          <a:pt x="281" y="13"/>
                        </a:lnTo>
                        <a:lnTo>
                          <a:pt x="268" y="26"/>
                        </a:lnTo>
                        <a:lnTo>
                          <a:pt x="252" y="46"/>
                        </a:lnTo>
                        <a:lnTo>
                          <a:pt x="231" y="70"/>
                        </a:lnTo>
                        <a:lnTo>
                          <a:pt x="210" y="99"/>
                        </a:lnTo>
                        <a:lnTo>
                          <a:pt x="187" y="131"/>
                        </a:lnTo>
                        <a:lnTo>
                          <a:pt x="177" y="150"/>
                        </a:lnTo>
                        <a:lnTo>
                          <a:pt x="164" y="167"/>
                        </a:lnTo>
                        <a:lnTo>
                          <a:pt x="154" y="187"/>
                        </a:lnTo>
                        <a:lnTo>
                          <a:pt x="144" y="207"/>
                        </a:lnTo>
                        <a:lnTo>
                          <a:pt x="123" y="248"/>
                        </a:lnTo>
                        <a:lnTo>
                          <a:pt x="106" y="293"/>
                        </a:lnTo>
                        <a:lnTo>
                          <a:pt x="94" y="339"/>
                        </a:lnTo>
                        <a:lnTo>
                          <a:pt x="81" y="438"/>
                        </a:lnTo>
                        <a:lnTo>
                          <a:pt x="83" y="488"/>
                        </a:lnTo>
                        <a:lnTo>
                          <a:pt x="94" y="539"/>
                        </a:lnTo>
                        <a:lnTo>
                          <a:pt x="81" y="529"/>
                        </a:lnTo>
                        <a:lnTo>
                          <a:pt x="52" y="504"/>
                        </a:lnTo>
                        <a:lnTo>
                          <a:pt x="35" y="484"/>
                        </a:lnTo>
                        <a:lnTo>
                          <a:pt x="21" y="462"/>
                        </a:lnTo>
                        <a:lnTo>
                          <a:pt x="0" y="402"/>
                        </a:lnTo>
                        <a:lnTo>
                          <a:pt x="2" y="325"/>
                        </a:lnTo>
                        <a:lnTo>
                          <a:pt x="8" y="304"/>
                        </a:lnTo>
                        <a:lnTo>
                          <a:pt x="19" y="281"/>
                        </a:lnTo>
                        <a:lnTo>
                          <a:pt x="29" y="257"/>
                        </a:lnTo>
                        <a:lnTo>
                          <a:pt x="44" y="233"/>
                        </a:lnTo>
                        <a:lnTo>
                          <a:pt x="62" y="208"/>
                        </a:lnTo>
                        <a:lnTo>
                          <a:pt x="83" y="180"/>
                        </a:lnTo>
                        <a:lnTo>
                          <a:pt x="108" y="154"/>
                        </a:lnTo>
                        <a:lnTo>
                          <a:pt x="135" y="124"/>
                        </a:lnTo>
                        <a:lnTo>
                          <a:pt x="169" y="95"/>
                        </a:lnTo>
                        <a:lnTo>
                          <a:pt x="177" y="87"/>
                        </a:lnTo>
                        <a:lnTo>
                          <a:pt x="187" y="81"/>
                        </a:lnTo>
                        <a:lnTo>
                          <a:pt x="196" y="73"/>
                        </a:lnTo>
                        <a:lnTo>
                          <a:pt x="206" y="65"/>
                        </a:lnTo>
                        <a:lnTo>
                          <a:pt x="214" y="57"/>
                        </a:lnTo>
                        <a:lnTo>
                          <a:pt x="225" y="49"/>
                        </a:lnTo>
                        <a:lnTo>
                          <a:pt x="235" y="41"/>
                        </a:lnTo>
                        <a:lnTo>
                          <a:pt x="248" y="33"/>
                        </a:lnTo>
                        <a:lnTo>
                          <a:pt x="258" y="25"/>
                        </a:lnTo>
                        <a:lnTo>
                          <a:pt x="268" y="17"/>
                        </a:lnTo>
                        <a:lnTo>
                          <a:pt x="281" y="9"/>
                        </a:lnTo>
                        <a:lnTo>
                          <a:pt x="293" y="0"/>
                        </a:lnTo>
                        <a:lnTo>
                          <a:pt x="293"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2224080" y="5025960"/>
                    <a:ext cx="650880" cy="566640"/>
                  </a:xfrm>
                  <a:custGeom>
                    <a:avLst/>
                    <a:gdLst/>
                    <a:ahLst/>
                    <a:rect l="l" t="t" r="r" b="b"/>
                    <a:pathLst>
                      <a:path w="410" h="357">
                        <a:moveTo>
                          <a:pt x="94" y="24"/>
                        </a:moveTo>
                        <a:lnTo>
                          <a:pt x="86" y="39"/>
                        </a:lnTo>
                        <a:lnTo>
                          <a:pt x="77" y="55"/>
                        </a:lnTo>
                        <a:lnTo>
                          <a:pt x="65" y="74"/>
                        </a:lnTo>
                        <a:lnTo>
                          <a:pt x="40" y="126"/>
                        </a:lnTo>
                        <a:lnTo>
                          <a:pt x="29" y="155"/>
                        </a:lnTo>
                        <a:lnTo>
                          <a:pt x="17" y="186"/>
                        </a:lnTo>
                        <a:lnTo>
                          <a:pt x="2" y="247"/>
                        </a:lnTo>
                        <a:lnTo>
                          <a:pt x="0" y="275"/>
                        </a:lnTo>
                        <a:lnTo>
                          <a:pt x="2" y="300"/>
                        </a:lnTo>
                        <a:lnTo>
                          <a:pt x="11" y="321"/>
                        </a:lnTo>
                        <a:lnTo>
                          <a:pt x="25" y="340"/>
                        </a:lnTo>
                        <a:lnTo>
                          <a:pt x="34" y="347"/>
                        </a:lnTo>
                        <a:lnTo>
                          <a:pt x="46" y="352"/>
                        </a:lnTo>
                        <a:lnTo>
                          <a:pt x="75" y="357"/>
                        </a:lnTo>
                        <a:lnTo>
                          <a:pt x="140" y="355"/>
                        </a:lnTo>
                        <a:lnTo>
                          <a:pt x="198" y="339"/>
                        </a:lnTo>
                        <a:lnTo>
                          <a:pt x="225" y="327"/>
                        </a:lnTo>
                        <a:lnTo>
                          <a:pt x="237" y="320"/>
                        </a:lnTo>
                        <a:lnTo>
                          <a:pt x="250" y="312"/>
                        </a:lnTo>
                        <a:lnTo>
                          <a:pt x="262" y="303"/>
                        </a:lnTo>
                        <a:lnTo>
                          <a:pt x="273" y="295"/>
                        </a:lnTo>
                        <a:lnTo>
                          <a:pt x="296" y="275"/>
                        </a:lnTo>
                        <a:lnTo>
                          <a:pt x="314" y="254"/>
                        </a:lnTo>
                        <a:lnTo>
                          <a:pt x="333" y="230"/>
                        </a:lnTo>
                        <a:lnTo>
                          <a:pt x="350" y="206"/>
                        </a:lnTo>
                        <a:lnTo>
                          <a:pt x="364" y="179"/>
                        </a:lnTo>
                        <a:lnTo>
                          <a:pt x="387" y="124"/>
                        </a:lnTo>
                        <a:lnTo>
                          <a:pt x="402" y="65"/>
                        </a:lnTo>
                        <a:lnTo>
                          <a:pt x="410" y="0"/>
                        </a:lnTo>
                        <a:lnTo>
                          <a:pt x="400" y="11"/>
                        </a:lnTo>
                        <a:lnTo>
                          <a:pt x="385" y="51"/>
                        </a:lnTo>
                        <a:lnTo>
                          <a:pt x="379" y="74"/>
                        </a:lnTo>
                        <a:lnTo>
                          <a:pt x="371" y="84"/>
                        </a:lnTo>
                        <a:lnTo>
                          <a:pt x="350" y="109"/>
                        </a:lnTo>
                        <a:lnTo>
                          <a:pt x="335" y="126"/>
                        </a:lnTo>
                        <a:lnTo>
                          <a:pt x="319" y="145"/>
                        </a:lnTo>
                        <a:lnTo>
                          <a:pt x="302" y="166"/>
                        </a:lnTo>
                        <a:lnTo>
                          <a:pt x="281" y="186"/>
                        </a:lnTo>
                        <a:lnTo>
                          <a:pt x="260" y="207"/>
                        </a:lnTo>
                        <a:lnTo>
                          <a:pt x="237" y="228"/>
                        </a:lnTo>
                        <a:lnTo>
                          <a:pt x="217" y="247"/>
                        </a:lnTo>
                        <a:lnTo>
                          <a:pt x="204" y="256"/>
                        </a:lnTo>
                        <a:lnTo>
                          <a:pt x="194" y="264"/>
                        </a:lnTo>
                        <a:lnTo>
                          <a:pt x="183" y="272"/>
                        </a:lnTo>
                        <a:lnTo>
                          <a:pt x="173" y="279"/>
                        </a:lnTo>
                        <a:lnTo>
                          <a:pt x="163" y="286"/>
                        </a:lnTo>
                        <a:lnTo>
                          <a:pt x="152" y="291"/>
                        </a:lnTo>
                        <a:lnTo>
                          <a:pt x="131" y="299"/>
                        </a:lnTo>
                        <a:lnTo>
                          <a:pt x="113" y="303"/>
                        </a:lnTo>
                        <a:lnTo>
                          <a:pt x="96" y="300"/>
                        </a:lnTo>
                        <a:lnTo>
                          <a:pt x="86" y="292"/>
                        </a:lnTo>
                        <a:lnTo>
                          <a:pt x="71" y="262"/>
                        </a:lnTo>
                        <a:lnTo>
                          <a:pt x="69" y="166"/>
                        </a:lnTo>
                        <a:lnTo>
                          <a:pt x="75" y="114"/>
                        </a:lnTo>
                        <a:lnTo>
                          <a:pt x="84" y="69"/>
                        </a:lnTo>
                        <a:lnTo>
                          <a:pt x="94" y="24"/>
                        </a:lnTo>
                        <a:lnTo>
                          <a:pt x="94" y="2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2389320" y="4808520"/>
                    <a:ext cx="485640" cy="255600"/>
                  </a:xfrm>
                  <a:custGeom>
                    <a:avLst/>
                    <a:gdLst/>
                    <a:ahLst/>
                    <a:rect l="l" t="t" r="r" b="b"/>
                    <a:pathLst>
                      <a:path w="306" h="161">
                        <a:moveTo>
                          <a:pt x="0" y="113"/>
                        </a:moveTo>
                        <a:lnTo>
                          <a:pt x="21" y="91"/>
                        </a:lnTo>
                        <a:lnTo>
                          <a:pt x="44" y="68"/>
                        </a:lnTo>
                        <a:lnTo>
                          <a:pt x="50" y="61"/>
                        </a:lnTo>
                        <a:lnTo>
                          <a:pt x="59" y="56"/>
                        </a:lnTo>
                        <a:lnTo>
                          <a:pt x="67" y="50"/>
                        </a:lnTo>
                        <a:lnTo>
                          <a:pt x="73" y="44"/>
                        </a:lnTo>
                        <a:lnTo>
                          <a:pt x="83" y="38"/>
                        </a:lnTo>
                        <a:lnTo>
                          <a:pt x="92" y="32"/>
                        </a:lnTo>
                        <a:lnTo>
                          <a:pt x="100" y="27"/>
                        </a:lnTo>
                        <a:lnTo>
                          <a:pt x="108" y="22"/>
                        </a:lnTo>
                        <a:lnTo>
                          <a:pt x="127" y="12"/>
                        </a:lnTo>
                        <a:lnTo>
                          <a:pt x="148" y="6"/>
                        </a:lnTo>
                        <a:lnTo>
                          <a:pt x="167" y="2"/>
                        </a:lnTo>
                        <a:lnTo>
                          <a:pt x="187" y="0"/>
                        </a:lnTo>
                        <a:lnTo>
                          <a:pt x="227" y="11"/>
                        </a:lnTo>
                        <a:lnTo>
                          <a:pt x="244" y="20"/>
                        </a:lnTo>
                        <a:lnTo>
                          <a:pt x="260" y="30"/>
                        </a:lnTo>
                        <a:lnTo>
                          <a:pt x="283" y="51"/>
                        </a:lnTo>
                        <a:lnTo>
                          <a:pt x="306" y="95"/>
                        </a:lnTo>
                        <a:lnTo>
                          <a:pt x="306" y="134"/>
                        </a:lnTo>
                        <a:lnTo>
                          <a:pt x="294" y="161"/>
                        </a:lnTo>
                        <a:lnTo>
                          <a:pt x="289" y="141"/>
                        </a:lnTo>
                        <a:lnTo>
                          <a:pt x="275" y="96"/>
                        </a:lnTo>
                        <a:lnTo>
                          <a:pt x="264" y="72"/>
                        </a:lnTo>
                        <a:lnTo>
                          <a:pt x="250" y="50"/>
                        </a:lnTo>
                        <a:lnTo>
                          <a:pt x="233" y="34"/>
                        </a:lnTo>
                        <a:lnTo>
                          <a:pt x="225" y="28"/>
                        </a:lnTo>
                        <a:lnTo>
                          <a:pt x="215" y="26"/>
                        </a:lnTo>
                        <a:lnTo>
                          <a:pt x="190" y="27"/>
                        </a:lnTo>
                        <a:lnTo>
                          <a:pt x="156" y="36"/>
                        </a:lnTo>
                        <a:lnTo>
                          <a:pt x="140" y="43"/>
                        </a:lnTo>
                        <a:lnTo>
                          <a:pt x="121" y="50"/>
                        </a:lnTo>
                        <a:lnTo>
                          <a:pt x="104" y="59"/>
                        </a:lnTo>
                        <a:lnTo>
                          <a:pt x="86" y="67"/>
                        </a:lnTo>
                        <a:lnTo>
                          <a:pt x="69" y="75"/>
                        </a:lnTo>
                        <a:lnTo>
                          <a:pt x="52" y="84"/>
                        </a:lnTo>
                        <a:lnTo>
                          <a:pt x="38" y="92"/>
                        </a:lnTo>
                        <a:lnTo>
                          <a:pt x="25" y="99"/>
                        </a:lnTo>
                        <a:lnTo>
                          <a:pt x="15" y="104"/>
                        </a:lnTo>
                        <a:lnTo>
                          <a:pt x="7" y="109"/>
                        </a:lnTo>
                        <a:lnTo>
                          <a:pt x="0" y="113"/>
                        </a:lnTo>
                        <a:lnTo>
                          <a:pt x="0" y="11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2379600" y="5049720"/>
                    <a:ext cx="425520" cy="93960"/>
                  </a:xfrm>
                  <a:custGeom>
                    <a:avLst/>
                    <a:gdLst/>
                    <a:ahLst/>
                    <a:rect l="l" t="t" r="r" b="b"/>
                    <a:pathLst>
                      <a:path w="268" h="59">
                        <a:moveTo>
                          <a:pt x="0" y="2"/>
                        </a:moveTo>
                        <a:lnTo>
                          <a:pt x="6" y="4"/>
                        </a:lnTo>
                        <a:lnTo>
                          <a:pt x="29" y="9"/>
                        </a:lnTo>
                        <a:lnTo>
                          <a:pt x="67" y="14"/>
                        </a:lnTo>
                        <a:lnTo>
                          <a:pt x="110" y="22"/>
                        </a:lnTo>
                        <a:lnTo>
                          <a:pt x="158" y="32"/>
                        </a:lnTo>
                        <a:lnTo>
                          <a:pt x="204" y="41"/>
                        </a:lnTo>
                        <a:lnTo>
                          <a:pt x="243" y="50"/>
                        </a:lnTo>
                        <a:lnTo>
                          <a:pt x="268" y="59"/>
                        </a:lnTo>
                        <a:lnTo>
                          <a:pt x="264" y="53"/>
                        </a:lnTo>
                        <a:lnTo>
                          <a:pt x="256" y="48"/>
                        </a:lnTo>
                        <a:lnTo>
                          <a:pt x="245" y="41"/>
                        </a:lnTo>
                        <a:lnTo>
                          <a:pt x="233" y="34"/>
                        </a:lnTo>
                        <a:lnTo>
                          <a:pt x="218" y="28"/>
                        </a:lnTo>
                        <a:lnTo>
                          <a:pt x="200" y="21"/>
                        </a:lnTo>
                        <a:lnTo>
                          <a:pt x="179" y="14"/>
                        </a:lnTo>
                        <a:lnTo>
                          <a:pt x="156" y="9"/>
                        </a:lnTo>
                        <a:lnTo>
                          <a:pt x="131" y="4"/>
                        </a:lnTo>
                        <a:lnTo>
                          <a:pt x="71" y="0"/>
                        </a:lnTo>
                        <a:lnTo>
                          <a:pt x="0" y="2"/>
                        </a:lnTo>
                        <a:lnTo>
                          <a:pt x="0" y="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3" name=""/>
                  <p:cNvSpPr/>
                  <p:nvPr/>
                </p:nvSpPr>
                <p:spPr>
                  <a:xfrm>
                    <a:off x="3511440" y="3483000"/>
                    <a:ext cx="770040" cy="842760"/>
                  </a:xfrm>
                  <a:custGeom>
                    <a:avLst/>
                    <a:gdLst/>
                    <a:ahLst/>
                    <a:rect l="l" t="t" r="r" b="b"/>
                    <a:pathLst>
                      <a:path w="485" h="531">
                        <a:moveTo>
                          <a:pt x="2" y="531"/>
                        </a:moveTo>
                        <a:lnTo>
                          <a:pt x="11" y="510"/>
                        </a:lnTo>
                        <a:lnTo>
                          <a:pt x="23" y="486"/>
                        </a:lnTo>
                        <a:lnTo>
                          <a:pt x="38" y="456"/>
                        </a:lnTo>
                        <a:lnTo>
                          <a:pt x="54" y="419"/>
                        </a:lnTo>
                        <a:lnTo>
                          <a:pt x="65" y="399"/>
                        </a:lnTo>
                        <a:lnTo>
                          <a:pt x="75" y="377"/>
                        </a:lnTo>
                        <a:lnTo>
                          <a:pt x="86" y="355"/>
                        </a:lnTo>
                        <a:lnTo>
                          <a:pt x="98" y="334"/>
                        </a:lnTo>
                        <a:lnTo>
                          <a:pt x="111" y="311"/>
                        </a:lnTo>
                        <a:lnTo>
                          <a:pt x="123" y="287"/>
                        </a:lnTo>
                        <a:lnTo>
                          <a:pt x="136" y="265"/>
                        </a:lnTo>
                        <a:lnTo>
                          <a:pt x="150" y="242"/>
                        </a:lnTo>
                        <a:lnTo>
                          <a:pt x="163" y="219"/>
                        </a:lnTo>
                        <a:lnTo>
                          <a:pt x="177" y="197"/>
                        </a:lnTo>
                        <a:lnTo>
                          <a:pt x="192" y="176"/>
                        </a:lnTo>
                        <a:lnTo>
                          <a:pt x="204" y="156"/>
                        </a:lnTo>
                        <a:lnTo>
                          <a:pt x="219" y="136"/>
                        </a:lnTo>
                        <a:lnTo>
                          <a:pt x="233" y="117"/>
                        </a:lnTo>
                        <a:lnTo>
                          <a:pt x="248" y="101"/>
                        </a:lnTo>
                        <a:lnTo>
                          <a:pt x="262" y="85"/>
                        </a:lnTo>
                        <a:lnTo>
                          <a:pt x="289" y="60"/>
                        </a:lnTo>
                        <a:lnTo>
                          <a:pt x="298" y="55"/>
                        </a:lnTo>
                        <a:lnTo>
                          <a:pt x="304" y="50"/>
                        </a:lnTo>
                        <a:lnTo>
                          <a:pt x="317" y="43"/>
                        </a:lnTo>
                        <a:lnTo>
                          <a:pt x="329" y="38"/>
                        </a:lnTo>
                        <a:lnTo>
                          <a:pt x="344" y="35"/>
                        </a:lnTo>
                        <a:lnTo>
                          <a:pt x="356" y="30"/>
                        </a:lnTo>
                        <a:lnTo>
                          <a:pt x="373" y="26"/>
                        </a:lnTo>
                        <a:lnTo>
                          <a:pt x="391" y="20"/>
                        </a:lnTo>
                        <a:lnTo>
                          <a:pt x="412" y="15"/>
                        </a:lnTo>
                        <a:lnTo>
                          <a:pt x="437" y="12"/>
                        </a:lnTo>
                        <a:lnTo>
                          <a:pt x="485" y="14"/>
                        </a:lnTo>
                        <a:lnTo>
                          <a:pt x="470" y="10"/>
                        </a:lnTo>
                        <a:lnTo>
                          <a:pt x="454" y="6"/>
                        </a:lnTo>
                        <a:lnTo>
                          <a:pt x="431" y="2"/>
                        </a:lnTo>
                        <a:lnTo>
                          <a:pt x="377" y="0"/>
                        </a:lnTo>
                        <a:lnTo>
                          <a:pt x="314" y="14"/>
                        </a:lnTo>
                        <a:lnTo>
                          <a:pt x="296" y="22"/>
                        </a:lnTo>
                        <a:lnTo>
                          <a:pt x="275" y="32"/>
                        </a:lnTo>
                        <a:lnTo>
                          <a:pt x="262" y="39"/>
                        </a:lnTo>
                        <a:lnTo>
                          <a:pt x="252" y="47"/>
                        </a:lnTo>
                        <a:lnTo>
                          <a:pt x="240" y="55"/>
                        </a:lnTo>
                        <a:lnTo>
                          <a:pt x="225" y="64"/>
                        </a:lnTo>
                        <a:lnTo>
                          <a:pt x="210" y="75"/>
                        </a:lnTo>
                        <a:lnTo>
                          <a:pt x="198" y="85"/>
                        </a:lnTo>
                        <a:lnTo>
                          <a:pt x="169" y="109"/>
                        </a:lnTo>
                        <a:lnTo>
                          <a:pt x="142" y="136"/>
                        </a:lnTo>
                        <a:lnTo>
                          <a:pt x="115" y="168"/>
                        </a:lnTo>
                        <a:lnTo>
                          <a:pt x="88" y="201"/>
                        </a:lnTo>
                        <a:lnTo>
                          <a:pt x="75" y="219"/>
                        </a:lnTo>
                        <a:lnTo>
                          <a:pt x="63" y="238"/>
                        </a:lnTo>
                        <a:lnTo>
                          <a:pt x="52" y="258"/>
                        </a:lnTo>
                        <a:lnTo>
                          <a:pt x="42" y="279"/>
                        </a:lnTo>
                        <a:lnTo>
                          <a:pt x="25" y="322"/>
                        </a:lnTo>
                        <a:lnTo>
                          <a:pt x="2" y="420"/>
                        </a:lnTo>
                        <a:lnTo>
                          <a:pt x="0" y="474"/>
                        </a:lnTo>
                        <a:lnTo>
                          <a:pt x="2" y="531"/>
                        </a:lnTo>
                        <a:lnTo>
                          <a:pt x="2" y="53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4776840" y="3714840"/>
                    <a:ext cx="1066680" cy="158760"/>
                  </a:xfrm>
                  <a:custGeom>
                    <a:avLst/>
                    <a:gdLst/>
                    <a:ahLst/>
                    <a:rect l="l" t="t" r="r" b="b"/>
                    <a:pathLst>
                      <a:path w="672" h="100">
                        <a:moveTo>
                          <a:pt x="10" y="61"/>
                        </a:moveTo>
                        <a:lnTo>
                          <a:pt x="23" y="65"/>
                        </a:lnTo>
                        <a:lnTo>
                          <a:pt x="62" y="75"/>
                        </a:lnTo>
                        <a:lnTo>
                          <a:pt x="91" y="80"/>
                        </a:lnTo>
                        <a:lnTo>
                          <a:pt x="127" y="85"/>
                        </a:lnTo>
                        <a:lnTo>
                          <a:pt x="164" y="91"/>
                        </a:lnTo>
                        <a:lnTo>
                          <a:pt x="208" y="95"/>
                        </a:lnTo>
                        <a:lnTo>
                          <a:pt x="306" y="100"/>
                        </a:lnTo>
                        <a:lnTo>
                          <a:pt x="418" y="96"/>
                        </a:lnTo>
                        <a:lnTo>
                          <a:pt x="543" y="80"/>
                        </a:lnTo>
                        <a:lnTo>
                          <a:pt x="574" y="73"/>
                        </a:lnTo>
                        <a:lnTo>
                          <a:pt x="607" y="67"/>
                        </a:lnTo>
                        <a:lnTo>
                          <a:pt x="638" y="59"/>
                        </a:lnTo>
                        <a:lnTo>
                          <a:pt x="672" y="50"/>
                        </a:lnTo>
                        <a:lnTo>
                          <a:pt x="655" y="52"/>
                        </a:lnTo>
                        <a:lnTo>
                          <a:pt x="609" y="58"/>
                        </a:lnTo>
                        <a:lnTo>
                          <a:pt x="539" y="63"/>
                        </a:lnTo>
                        <a:lnTo>
                          <a:pt x="449" y="67"/>
                        </a:lnTo>
                        <a:lnTo>
                          <a:pt x="345" y="65"/>
                        </a:lnTo>
                        <a:lnTo>
                          <a:pt x="233" y="56"/>
                        </a:lnTo>
                        <a:lnTo>
                          <a:pt x="175" y="47"/>
                        </a:lnTo>
                        <a:lnTo>
                          <a:pt x="116" y="35"/>
                        </a:lnTo>
                        <a:lnTo>
                          <a:pt x="87" y="28"/>
                        </a:lnTo>
                        <a:lnTo>
                          <a:pt x="58" y="20"/>
                        </a:lnTo>
                        <a:lnTo>
                          <a:pt x="29" y="11"/>
                        </a:lnTo>
                        <a:lnTo>
                          <a:pt x="0" y="0"/>
                        </a:lnTo>
                        <a:lnTo>
                          <a:pt x="10" y="61"/>
                        </a:lnTo>
                        <a:lnTo>
                          <a:pt x="10" y="6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
                  <p:cNvSpPr/>
                  <p:nvPr/>
                </p:nvSpPr>
                <p:spPr>
                  <a:xfrm>
                    <a:off x="4281480" y="3456000"/>
                    <a:ext cx="1515960" cy="250920"/>
                  </a:xfrm>
                  <a:custGeom>
                    <a:avLst/>
                    <a:gdLst/>
                    <a:ahLst/>
                    <a:rect l="l" t="t" r="r" b="b"/>
                    <a:pathLst>
                      <a:path w="955" h="158">
                        <a:moveTo>
                          <a:pt x="0" y="4"/>
                        </a:moveTo>
                        <a:lnTo>
                          <a:pt x="52" y="8"/>
                        </a:lnTo>
                        <a:lnTo>
                          <a:pt x="110" y="13"/>
                        </a:lnTo>
                        <a:lnTo>
                          <a:pt x="181" y="23"/>
                        </a:lnTo>
                        <a:lnTo>
                          <a:pt x="218" y="29"/>
                        </a:lnTo>
                        <a:lnTo>
                          <a:pt x="260" y="35"/>
                        </a:lnTo>
                        <a:lnTo>
                          <a:pt x="299" y="43"/>
                        </a:lnTo>
                        <a:lnTo>
                          <a:pt x="339" y="51"/>
                        </a:lnTo>
                        <a:lnTo>
                          <a:pt x="378" y="60"/>
                        </a:lnTo>
                        <a:lnTo>
                          <a:pt x="416" y="70"/>
                        </a:lnTo>
                        <a:lnTo>
                          <a:pt x="451" y="82"/>
                        </a:lnTo>
                        <a:lnTo>
                          <a:pt x="466" y="88"/>
                        </a:lnTo>
                        <a:lnTo>
                          <a:pt x="482" y="94"/>
                        </a:lnTo>
                        <a:lnTo>
                          <a:pt x="497" y="101"/>
                        </a:lnTo>
                        <a:lnTo>
                          <a:pt x="514" y="106"/>
                        </a:lnTo>
                        <a:lnTo>
                          <a:pt x="528" y="113"/>
                        </a:lnTo>
                        <a:lnTo>
                          <a:pt x="543" y="118"/>
                        </a:lnTo>
                        <a:lnTo>
                          <a:pt x="574" y="128"/>
                        </a:lnTo>
                        <a:lnTo>
                          <a:pt x="603" y="136"/>
                        </a:lnTo>
                        <a:lnTo>
                          <a:pt x="634" y="142"/>
                        </a:lnTo>
                        <a:lnTo>
                          <a:pt x="663" y="149"/>
                        </a:lnTo>
                        <a:lnTo>
                          <a:pt x="724" y="155"/>
                        </a:lnTo>
                        <a:lnTo>
                          <a:pt x="842" y="158"/>
                        </a:lnTo>
                        <a:lnTo>
                          <a:pt x="955" y="142"/>
                        </a:lnTo>
                        <a:lnTo>
                          <a:pt x="915" y="144"/>
                        </a:lnTo>
                        <a:lnTo>
                          <a:pt x="813" y="141"/>
                        </a:lnTo>
                        <a:lnTo>
                          <a:pt x="747" y="133"/>
                        </a:lnTo>
                        <a:lnTo>
                          <a:pt x="709" y="126"/>
                        </a:lnTo>
                        <a:lnTo>
                          <a:pt x="672" y="118"/>
                        </a:lnTo>
                        <a:lnTo>
                          <a:pt x="634" y="109"/>
                        </a:lnTo>
                        <a:lnTo>
                          <a:pt x="614" y="104"/>
                        </a:lnTo>
                        <a:lnTo>
                          <a:pt x="595" y="97"/>
                        </a:lnTo>
                        <a:lnTo>
                          <a:pt x="574" y="90"/>
                        </a:lnTo>
                        <a:lnTo>
                          <a:pt x="555" y="84"/>
                        </a:lnTo>
                        <a:lnTo>
                          <a:pt x="534" y="76"/>
                        </a:lnTo>
                        <a:lnTo>
                          <a:pt x="516" y="68"/>
                        </a:lnTo>
                        <a:lnTo>
                          <a:pt x="495" y="59"/>
                        </a:lnTo>
                        <a:lnTo>
                          <a:pt x="476" y="51"/>
                        </a:lnTo>
                        <a:lnTo>
                          <a:pt x="455" y="44"/>
                        </a:lnTo>
                        <a:lnTo>
                          <a:pt x="435" y="37"/>
                        </a:lnTo>
                        <a:lnTo>
                          <a:pt x="412" y="32"/>
                        </a:lnTo>
                        <a:lnTo>
                          <a:pt x="391" y="27"/>
                        </a:lnTo>
                        <a:lnTo>
                          <a:pt x="347" y="17"/>
                        </a:lnTo>
                        <a:lnTo>
                          <a:pt x="304" y="11"/>
                        </a:lnTo>
                        <a:lnTo>
                          <a:pt x="260" y="5"/>
                        </a:lnTo>
                        <a:lnTo>
                          <a:pt x="179" y="0"/>
                        </a:lnTo>
                        <a:lnTo>
                          <a:pt x="52" y="0"/>
                        </a:lnTo>
                        <a:lnTo>
                          <a:pt x="0" y="4"/>
                        </a:lnTo>
                        <a:lnTo>
                          <a:pt x="0"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
                  <p:cNvSpPr/>
                  <p:nvPr/>
                </p:nvSpPr>
                <p:spPr>
                  <a:xfrm>
                    <a:off x="2973240" y="3527280"/>
                    <a:ext cx="865440" cy="131760"/>
                  </a:xfrm>
                  <a:custGeom>
                    <a:avLst/>
                    <a:gdLst/>
                    <a:ahLst/>
                    <a:rect l="l" t="t" r="r" b="b"/>
                    <a:pathLst>
                      <a:path w="545" h="83">
                        <a:moveTo>
                          <a:pt x="483" y="83"/>
                        </a:moveTo>
                        <a:lnTo>
                          <a:pt x="479" y="79"/>
                        </a:lnTo>
                        <a:lnTo>
                          <a:pt x="470" y="75"/>
                        </a:lnTo>
                        <a:lnTo>
                          <a:pt x="462" y="69"/>
                        </a:lnTo>
                        <a:lnTo>
                          <a:pt x="448" y="64"/>
                        </a:lnTo>
                        <a:lnTo>
                          <a:pt x="431" y="57"/>
                        </a:lnTo>
                        <a:lnTo>
                          <a:pt x="410" y="49"/>
                        </a:lnTo>
                        <a:lnTo>
                          <a:pt x="385" y="43"/>
                        </a:lnTo>
                        <a:lnTo>
                          <a:pt x="356" y="36"/>
                        </a:lnTo>
                        <a:lnTo>
                          <a:pt x="321" y="29"/>
                        </a:lnTo>
                        <a:lnTo>
                          <a:pt x="283" y="24"/>
                        </a:lnTo>
                        <a:lnTo>
                          <a:pt x="238" y="20"/>
                        </a:lnTo>
                        <a:lnTo>
                          <a:pt x="131" y="16"/>
                        </a:lnTo>
                        <a:lnTo>
                          <a:pt x="0" y="19"/>
                        </a:lnTo>
                        <a:lnTo>
                          <a:pt x="15" y="16"/>
                        </a:lnTo>
                        <a:lnTo>
                          <a:pt x="52" y="10"/>
                        </a:lnTo>
                        <a:lnTo>
                          <a:pt x="111" y="4"/>
                        </a:lnTo>
                        <a:lnTo>
                          <a:pt x="186" y="0"/>
                        </a:lnTo>
                        <a:lnTo>
                          <a:pt x="271" y="3"/>
                        </a:lnTo>
                        <a:lnTo>
                          <a:pt x="362" y="14"/>
                        </a:lnTo>
                        <a:lnTo>
                          <a:pt x="408" y="24"/>
                        </a:lnTo>
                        <a:lnTo>
                          <a:pt x="431" y="31"/>
                        </a:lnTo>
                        <a:lnTo>
                          <a:pt x="456" y="37"/>
                        </a:lnTo>
                        <a:lnTo>
                          <a:pt x="477" y="45"/>
                        </a:lnTo>
                        <a:lnTo>
                          <a:pt x="500" y="55"/>
                        </a:lnTo>
                        <a:lnTo>
                          <a:pt x="522" y="65"/>
                        </a:lnTo>
                        <a:lnTo>
                          <a:pt x="533" y="71"/>
                        </a:lnTo>
                        <a:lnTo>
                          <a:pt x="545" y="76"/>
                        </a:lnTo>
                        <a:lnTo>
                          <a:pt x="483" y="83"/>
                        </a:lnTo>
                        <a:lnTo>
                          <a:pt x="483" y="8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
                  <p:cNvSpPr/>
                  <p:nvPr/>
                </p:nvSpPr>
                <p:spPr>
                  <a:xfrm>
                    <a:off x="2997360" y="3382920"/>
                    <a:ext cx="1091880" cy="141480"/>
                  </a:xfrm>
                  <a:custGeom>
                    <a:avLst/>
                    <a:gdLst/>
                    <a:ahLst/>
                    <a:rect l="l" t="t" r="r" b="b"/>
                    <a:pathLst>
                      <a:path w="688" h="89">
                        <a:moveTo>
                          <a:pt x="634" y="86"/>
                        </a:moveTo>
                        <a:lnTo>
                          <a:pt x="620" y="81"/>
                        </a:lnTo>
                        <a:lnTo>
                          <a:pt x="603" y="75"/>
                        </a:lnTo>
                        <a:lnTo>
                          <a:pt x="582" y="69"/>
                        </a:lnTo>
                        <a:lnTo>
                          <a:pt x="555" y="61"/>
                        </a:lnTo>
                        <a:lnTo>
                          <a:pt x="522" y="53"/>
                        </a:lnTo>
                        <a:lnTo>
                          <a:pt x="485" y="45"/>
                        </a:lnTo>
                        <a:lnTo>
                          <a:pt x="443" y="38"/>
                        </a:lnTo>
                        <a:lnTo>
                          <a:pt x="397" y="32"/>
                        </a:lnTo>
                        <a:lnTo>
                          <a:pt x="347" y="28"/>
                        </a:lnTo>
                        <a:lnTo>
                          <a:pt x="241" y="28"/>
                        </a:lnTo>
                        <a:lnTo>
                          <a:pt x="123" y="41"/>
                        </a:lnTo>
                        <a:lnTo>
                          <a:pt x="94" y="46"/>
                        </a:lnTo>
                        <a:lnTo>
                          <a:pt x="62" y="53"/>
                        </a:lnTo>
                        <a:lnTo>
                          <a:pt x="31" y="61"/>
                        </a:lnTo>
                        <a:lnTo>
                          <a:pt x="0" y="71"/>
                        </a:lnTo>
                        <a:lnTo>
                          <a:pt x="12" y="65"/>
                        </a:lnTo>
                        <a:lnTo>
                          <a:pt x="29" y="57"/>
                        </a:lnTo>
                        <a:lnTo>
                          <a:pt x="50" y="47"/>
                        </a:lnTo>
                        <a:lnTo>
                          <a:pt x="64" y="42"/>
                        </a:lnTo>
                        <a:lnTo>
                          <a:pt x="79" y="38"/>
                        </a:lnTo>
                        <a:lnTo>
                          <a:pt x="94" y="33"/>
                        </a:lnTo>
                        <a:lnTo>
                          <a:pt x="112" y="28"/>
                        </a:lnTo>
                        <a:lnTo>
                          <a:pt x="131" y="22"/>
                        </a:lnTo>
                        <a:lnTo>
                          <a:pt x="150" y="18"/>
                        </a:lnTo>
                        <a:lnTo>
                          <a:pt x="193" y="10"/>
                        </a:lnTo>
                        <a:lnTo>
                          <a:pt x="241" y="4"/>
                        </a:lnTo>
                        <a:lnTo>
                          <a:pt x="293" y="0"/>
                        </a:lnTo>
                        <a:lnTo>
                          <a:pt x="410" y="5"/>
                        </a:lnTo>
                        <a:lnTo>
                          <a:pt x="472" y="14"/>
                        </a:lnTo>
                        <a:lnTo>
                          <a:pt x="505" y="21"/>
                        </a:lnTo>
                        <a:lnTo>
                          <a:pt x="539" y="29"/>
                        </a:lnTo>
                        <a:lnTo>
                          <a:pt x="574" y="38"/>
                        </a:lnTo>
                        <a:lnTo>
                          <a:pt x="591" y="43"/>
                        </a:lnTo>
                        <a:lnTo>
                          <a:pt x="609" y="50"/>
                        </a:lnTo>
                        <a:lnTo>
                          <a:pt x="626" y="57"/>
                        </a:lnTo>
                        <a:lnTo>
                          <a:pt x="645" y="63"/>
                        </a:lnTo>
                        <a:lnTo>
                          <a:pt x="663" y="70"/>
                        </a:lnTo>
                        <a:lnTo>
                          <a:pt x="680" y="78"/>
                        </a:lnTo>
                        <a:lnTo>
                          <a:pt x="688" y="86"/>
                        </a:lnTo>
                        <a:lnTo>
                          <a:pt x="672" y="89"/>
                        </a:lnTo>
                        <a:lnTo>
                          <a:pt x="634" y="86"/>
                        </a:lnTo>
                        <a:lnTo>
                          <a:pt x="634" y="8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4591080" y="3808440"/>
                    <a:ext cx="341280" cy="455760"/>
                  </a:xfrm>
                  <a:custGeom>
                    <a:avLst/>
                    <a:gdLst/>
                    <a:ahLst/>
                    <a:rect l="l" t="t" r="r" b="b"/>
                    <a:pathLst>
                      <a:path w="215" h="287">
                        <a:moveTo>
                          <a:pt x="215" y="0"/>
                        </a:moveTo>
                        <a:lnTo>
                          <a:pt x="204" y="9"/>
                        </a:lnTo>
                        <a:lnTo>
                          <a:pt x="179" y="33"/>
                        </a:lnTo>
                        <a:lnTo>
                          <a:pt x="163" y="50"/>
                        </a:lnTo>
                        <a:lnTo>
                          <a:pt x="144" y="70"/>
                        </a:lnTo>
                        <a:lnTo>
                          <a:pt x="123" y="91"/>
                        </a:lnTo>
                        <a:lnTo>
                          <a:pt x="104" y="114"/>
                        </a:lnTo>
                        <a:lnTo>
                          <a:pt x="84" y="137"/>
                        </a:lnTo>
                        <a:lnTo>
                          <a:pt x="65" y="162"/>
                        </a:lnTo>
                        <a:lnTo>
                          <a:pt x="48" y="186"/>
                        </a:lnTo>
                        <a:lnTo>
                          <a:pt x="34" y="208"/>
                        </a:lnTo>
                        <a:lnTo>
                          <a:pt x="15" y="252"/>
                        </a:lnTo>
                        <a:lnTo>
                          <a:pt x="15" y="287"/>
                        </a:lnTo>
                        <a:lnTo>
                          <a:pt x="0" y="198"/>
                        </a:lnTo>
                        <a:lnTo>
                          <a:pt x="7" y="176"/>
                        </a:lnTo>
                        <a:lnTo>
                          <a:pt x="17" y="154"/>
                        </a:lnTo>
                        <a:lnTo>
                          <a:pt x="34" y="130"/>
                        </a:lnTo>
                        <a:lnTo>
                          <a:pt x="55" y="106"/>
                        </a:lnTo>
                        <a:lnTo>
                          <a:pt x="84" y="79"/>
                        </a:lnTo>
                        <a:lnTo>
                          <a:pt x="92" y="73"/>
                        </a:lnTo>
                        <a:lnTo>
                          <a:pt x="100" y="66"/>
                        </a:lnTo>
                        <a:lnTo>
                          <a:pt x="109" y="60"/>
                        </a:lnTo>
                        <a:lnTo>
                          <a:pt x="119" y="53"/>
                        </a:lnTo>
                        <a:lnTo>
                          <a:pt x="129" y="46"/>
                        </a:lnTo>
                        <a:lnTo>
                          <a:pt x="140" y="40"/>
                        </a:lnTo>
                        <a:lnTo>
                          <a:pt x="150" y="33"/>
                        </a:lnTo>
                        <a:lnTo>
                          <a:pt x="163" y="26"/>
                        </a:lnTo>
                        <a:lnTo>
                          <a:pt x="173" y="20"/>
                        </a:lnTo>
                        <a:lnTo>
                          <a:pt x="188" y="13"/>
                        </a:lnTo>
                        <a:lnTo>
                          <a:pt x="200" y="6"/>
                        </a:lnTo>
                        <a:lnTo>
                          <a:pt x="215" y="0"/>
                        </a:lnTo>
                        <a:lnTo>
                          <a:pt x="21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548160" y="4106880"/>
                    <a:ext cx="1000080" cy="254160"/>
                  </a:xfrm>
                  <a:custGeom>
                    <a:avLst/>
                    <a:gdLst/>
                    <a:ahLst/>
                    <a:rect l="l" t="t" r="r" b="b"/>
                    <a:pathLst>
                      <a:path w="630" h="160">
                        <a:moveTo>
                          <a:pt x="0" y="160"/>
                        </a:moveTo>
                        <a:lnTo>
                          <a:pt x="17" y="150"/>
                        </a:lnTo>
                        <a:lnTo>
                          <a:pt x="38" y="140"/>
                        </a:lnTo>
                        <a:lnTo>
                          <a:pt x="50" y="134"/>
                        </a:lnTo>
                        <a:lnTo>
                          <a:pt x="63" y="128"/>
                        </a:lnTo>
                        <a:lnTo>
                          <a:pt x="79" y="121"/>
                        </a:lnTo>
                        <a:lnTo>
                          <a:pt x="96" y="113"/>
                        </a:lnTo>
                        <a:lnTo>
                          <a:pt x="115" y="107"/>
                        </a:lnTo>
                        <a:lnTo>
                          <a:pt x="133" y="99"/>
                        </a:lnTo>
                        <a:lnTo>
                          <a:pt x="154" y="91"/>
                        </a:lnTo>
                        <a:lnTo>
                          <a:pt x="175" y="83"/>
                        </a:lnTo>
                        <a:lnTo>
                          <a:pt x="198" y="76"/>
                        </a:lnTo>
                        <a:lnTo>
                          <a:pt x="221" y="68"/>
                        </a:lnTo>
                        <a:lnTo>
                          <a:pt x="246" y="61"/>
                        </a:lnTo>
                        <a:lnTo>
                          <a:pt x="271" y="56"/>
                        </a:lnTo>
                        <a:lnTo>
                          <a:pt x="296" y="49"/>
                        </a:lnTo>
                        <a:lnTo>
                          <a:pt x="321" y="44"/>
                        </a:lnTo>
                        <a:lnTo>
                          <a:pt x="373" y="38"/>
                        </a:lnTo>
                        <a:lnTo>
                          <a:pt x="425" y="34"/>
                        </a:lnTo>
                        <a:lnTo>
                          <a:pt x="479" y="36"/>
                        </a:lnTo>
                        <a:lnTo>
                          <a:pt x="531" y="43"/>
                        </a:lnTo>
                        <a:lnTo>
                          <a:pt x="581" y="56"/>
                        </a:lnTo>
                        <a:lnTo>
                          <a:pt x="605" y="65"/>
                        </a:lnTo>
                        <a:lnTo>
                          <a:pt x="630" y="77"/>
                        </a:lnTo>
                        <a:lnTo>
                          <a:pt x="624" y="68"/>
                        </a:lnTo>
                        <a:lnTo>
                          <a:pt x="605" y="48"/>
                        </a:lnTo>
                        <a:lnTo>
                          <a:pt x="599" y="42"/>
                        </a:lnTo>
                        <a:lnTo>
                          <a:pt x="591" y="36"/>
                        </a:lnTo>
                        <a:lnTo>
                          <a:pt x="581" y="30"/>
                        </a:lnTo>
                        <a:lnTo>
                          <a:pt x="570" y="24"/>
                        </a:lnTo>
                        <a:lnTo>
                          <a:pt x="558" y="19"/>
                        </a:lnTo>
                        <a:lnTo>
                          <a:pt x="545" y="14"/>
                        </a:lnTo>
                        <a:lnTo>
                          <a:pt x="514" y="6"/>
                        </a:lnTo>
                        <a:lnTo>
                          <a:pt x="477" y="0"/>
                        </a:lnTo>
                        <a:lnTo>
                          <a:pt x="433" y="2"/>
                        </a:lnTo>
                        <a:lnTo>
                          <a:pt x="323" y="19"/>
                        </a:lnTo>
                        <a:lnTo>
                          <a:pt x="289" y="28"/>
                        </a:lnTo>
                        <a:lnTo>
                          <a:pt x="256" y="40"/>
                        </a:lnTo>
                        <a:lnTo>
                          <a:pt x="237" y="47"/>
                        </a:lnTo>
                        <a:lnTo>
                          <a:pt x="219" y="53"/>
                        </a:lnTo>
                        <a:lnTo>
                          <a:pt x="200" y="61"/>
                        </a:lnTo>
                        <a:lnTo>
                          <a:pt x="179" y="69"/>
                        </a:lnTo>
                        <a:lnTo>
                          <a:pt x="160" y="79"/>
                        </a:lnTo>
                        <a:lnTo>
                          <a:pt x="138" y="88"/>
                        </a:lnTo>
                        <a:lnTo>
                          <a:pt x="117" y="97"/>
                        </a:lnTo>
                        <a:lnTo>
                          <a:pt x="106" y="103"/>
                        </a:lnTo>
                        <a:lnTo>
                          <a:pt x="96" y="109"/>
                        </a:lnTo>
                        <a:lnTo>
                          <a:pt x="83" y="115"/>
                        </a:lnTo>
                        <a:lnTo>
                          <a:pt x="73" y="120"/>
                        </a:lnTo>
                        <a:lnTo>
                          <a:pt x="61" y="126"/>
                        </a:lnTo>
                        <a:lnTo>
                          <a:pt x="48" y="133"/>
                        </a:lnTo>
                        <a:lnTo>
                          <a:pt x="38" y="138"/>
                        </a:lnTo>
                        <a:lnTo>
                          <a:pt x="25" y="145"/>
                        </a:lnTo>
                        <a:lnTo>
                          <a:pt x="13" y="152"/>
                        </a:lnTo>
                        <a:lnTo>
                          <a:pt x="0" y="160"/>
                        </a:lnTo>
                        <a:lnTo>
                          <a:pt x="0" y="16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4010040" y="3165480"/>
                    <a:ext cx="463680" cy="219240"/>
                  </a:xfrm>
                  <a:custGeom>
                    <a:avLst/>
                    <a:gdLst/>
                    <a:ahLst/>
                    <a:rect l="l" t="t" r="r" b="b"/>
                    <a:pathLst>
                      <a:path w="292" h="138">
                        <a:moveTo>
                          <a:pt x="3" y="66"/>
                        </a:moveTo>
                        <a:lnTo>
                          <a:pt x="13" y="61"/>
                        </a:lnTo>
                        <a:lnTo>
                          <a:pt x="23" y="56"/>
                        </a:lnTo>
                        <a:lnTo>
                          <a:pt x="38" y="49"/>
                        </a:lnTo>
                        <a:lnTo>
                          <a:pt x="55" y="42"/>
                        </a:lnTo>
                        <a:lnTo>
                          <a:pt x="73" y="34"/>
                        </a:lnTo>
                        <a:lnTo>
                          <a:pt x="94" y="26"/>
                        </a:lnTo>
                        <a:lnTo>
                          <a:pt x="117" y="19"/>
                        </a:lnTo>
                        <a:lnTo>
                          <a:pt x="140" y="12"/>
                        </a:lnTo>
                        <a:lnTo>
                          <a:pt x="165" y="7"/>
                        </a:lnTo>
                        <a:lnTo>
                          <a:pt x="208" y="0"/>
                        </a:lnTo>
                        <a:lnTo>
                          <a:pt x="248" y="5"/>
                        </a:lnTo>
                        <a:lnTo>
                          <a:pt x="265" y="12"/>
                        </a:lnTo>
                        <a:lnTo>
                          <a:pt x="277" y="24"/>
                        </a:lnTo>
                        <a:lnTo>
                          <a:pt x="292" y="48"/>
                        </a:lnTo>
                        <a:lnTo>
                          <a:pt x="287" y="70"/>
                        </a:lnTo>
                        <a:lnTo>
                          <a:pt x="269" y="90"/>
                        </a:lnTo>
                        <a:lnTo>
                          <a:pt x="256" y="98"/>
                        </a:lnTo>
                        <a:lnTo>
                          <a:pt x="242" y="107"/>
                        </a:lnTo>
                        <a:lnTo>
                          <a:pt x="225" y="114"/>
                        </a:lnTo>
                        <a:lnTo>
                          <a:pt x="206" y="121"/>
                        </a:lnTo>
                        <a:lnTo>
                          <a:pt x="186" y="126"/>
                        </a:lnTo>
                        <a:lnTo>
                          <a:pt x="167" y="130"/>
                        </a:lnTo>
                        <a:lnTo>
                          <a:pt x="125" y="137"/>
                        </a:lnTo>
                        <a:lnTo>
                          <a:pt x="88" y="138"/>
                        </a:lnTo>
                        <a:lnTo>
                          <a:pt x="34" y="131"/>
                        </a:lnTo>
                        <a:lnTo>
                          <a:pt x="9" y="118"/>
                        </a:lnTo>
                        <a:lnTo>
                          <a:pt x="0" y="97"/>
                        </a:lnTo>
                        <a:lnTo>
                          <a:pt x="11" y="105"/>
                        </a:lnTo>
                        <a:lnTo>
                          <a:pt x="23" y="113"/>
                        </a:lnTo>
                        <a:lnTo>
                          <a:pt x="42" y="119"/>
                        </a:lnTo>
                        <a:lnTo>
                          <a:pt x="65" y="125"/>
                        </a:lnTo>
                        <a:lnTo>
                          <a:pt x="94" y="126"/>
                        </a:lnTo>
                        <a:lnTo>
                          <a:pt x="167" y="113"/>
                        </a:lnTo>
                        <a:lnTo>
                          <a:pt x="186" y="105"/>
                        </a:lnTo>
                        <a:lnTo>
                          <a:pt x="202" y="98"/>
                        </a:lnTo>
                        <a:lnTo>
                          <a:pt x="215" y="90"/>
                        </a:lnTo>
                        <a:lnTo>
                          <a:pt x="225" y="84"/>
                        </a:lnTo>
                        <a:lnTo>
                          <a:pt x="246" y="56"/>
                        </a:lnTo>
                        <a:lnTo>
                          <a:pt x="246" y="44"/>
                        </a:lnTo>
                        <a:lnTo>
                          <a:pt x="238" y="34"/>
                        </a:lnTo>
                        <a:lnTo>
                          <a:pt x="225" y="29"/>
                        </a:lnTo>
                        <a:lnTo>
                          <a:pt x="210" y="26"/>
                        </a:lnTo>
                        <a:lnTo>
                          <a:pt x="111" y="36"/>
                        </a:lnTo>
                        <a:lnTo>
                          <a:pt x="50" y="48"/>
                        </a:lnTo>
                        <a:lnTo>
                          <a:pt x="25" y="56"/>
                        </a:lnTo>
                        <a:lnTo>
                          <a:pt x="3" y="66"/>
                        </a:lnTo>
                        <a:lnTo>
                          <a:pt x="3" y="6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1" name=""/>
                  <p:cNvSpPr/>
                  <p:nvPr/>
                </p:nvSpPr>
                <p:spPr>
                  <a:xfrm>
                    <a:off x="4199040" y="3373560"/>
                    <a:ext cx="122040" cy="90360"/>
                  </a:xfrm>
                  <a:custGeom>
                    <a:avLst/>
                    <a:gdLst/>
                    <a:ahLst/>
                    <a:rect l="l" t="t" r="r" b="b"/>
                    <a:pathLst>
                      <a:path w="77" h="57">
                        <a:moveTo>
                          <a:pt x="0" y="3"/>
                        </a:moveTo>
                        <a:lnTo>
                          <a:pt x="19" y="23"/>
                        </a:lnTo>
                        <a:lnTo>
                          <a:pt x="35" y="55"/>
                        </a:lnTo>
                        <a:lnTo>
                          <a:pt x="77" y="57"/>
                        </a:lnTo>
                        <a:lnTo>
                          <a:pt x="12" y="0"/>
                        </a:lnTo>
                        <a:lnTo>
                          <a:pt x="0" y="3"/>
                        </a:lnTo>
                        <a:lnTo>
                          <a:pt x="0"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82" name=""/>
                  <p:cNvSpPr/>
                  <p:nvPr/>
                </p:nvSpPr>
                <p:spPr>
                  <a:xfrm>
                    <a:off x="4361040" y="3332160"/>
                    <a:ext cx="82440" cy="135000"/>
                  </a:xfrm>
                  <a:custGeom>
                    <a:avLst/>
                    <a:gdLst/>
                    <a:ahLst/>
                    <a:rect l="l" t="t" r="r" b="b"/>
                    <a:pathLst>
                      <a:path w="52" h="85">
                        <a:moveTo>
                          <a:pt x="52" y="85"/>
                        </a:moveTo>
                        <a:lnTo>
                          <a:pt x="44" y="58"/>
                        </a:lnTo>
                        <a:lnTo>
                          <a:pt x="37" y="45"/>
                        </a:lnTo>
                        <a:lnTo>
                          <a:pt x="27" y="30"/>
                        </a:lnTo>
                        <a:lnTo>
                          <a:pt x="14" y="16"/>
                        </a:lnTo>
                        <a:lnTo>
                          <a:pt x="0" y="0"/>
                        </a:lnTo>
                        <a:lnTo>
                          <a:pt x="52" y="85"/>
                        </a:lnTo>
                        <a:lnTo>
                          <a:pt x="52" y="8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3691080" y="3198960"/>
                    <a:ext cx="458640" cy="99720"/>
                  </a:xfrm>
                  <a:custGeom>
                    <a:avLst/>
                    <a:gdLst/>
                    <a:ahLst/>
                    <a:rect l="l" t="t" r="r" b="b"/>
                    <a:pathLst>
                      <a:path w="289" h="63">
                        <a:moveTo>
                          <a:pt x="256" y="17"/>
                        </a:moveTo>
                        <a:lnTo>
                          <a:pt x="152" y="28"/>
                        </a:lnTo>
                        <a:lnTo>
                          <a:pt x="108" y="33"/>
                        </a:lnTo>
                        <a:lnTo>
                          <a:pt x="66" y="41"/>
                        </a:lnTo>
                        <a:lnTo>
                          <a:pt x="29" y="51"/>
                        </a:lnTo>
                        <a:lnTo>
                          <a:pt x="0" y="63"/>
                        </a:lnTo>
                        <a:lnTo>
                          <a:pt x="6" y="60"/>
                        </a:lnTo>
                        <a:lnTo>
                          <a:pt x="25" y="52"/>
                        </a:lnTo>
                        <a:lnTo>
                          <a:pt x="39" y="47"/>
                        </a:lnTo>
                        <a:lnTo>
                          <a:pt x="54" y="40"/>
                        </a:lnTo>
                        <a:lnTo>
                          <a:pt x="73" y="35"/>
                        </a:lnTo>
                        <a:lnTo>
                          <a:pt x="91" y="28"/>
                        </a:lnTo>
                        <a:lnTo>
                          <a:pt x="112" y="21"/>
                        </a:lnTo>
                        <a:lnTo>
                          <a:pt x="135" y="16"/>
                        </a:lnTo>
                        <a:lnTo>
                          <a:pt x="160" y="11"/>
                        </a:lnTo>
                        <a:lnTo>
                          <a:pt x="185" y="7"/>
                        </a:lnTo>
                        <a:lnTo>
                          <a:pt x="237" y="0"/>
                        </a:lnTo>
                        <a:lnTo>
                          <a:pt x="289" y="2"/>
                        </a:lnTo>
                        <a:lnTo>
                          <a:pt x="256" y="17"/>
                        </a:lnTo>
                        <a:lnTo>
                          <a:pt x="256" y="1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3733920" y="3281400"/>
                    <a:ext cx="379440" cy="63360"/>
                  </a:xfrm>
                  <a:custGeom>
                    <a:avLst/>
                    <a:gdLst/>
                    <a:ahLst/>
                    <a:rect l="l" t="t" r="r" b="b"/>
                    <a:pathLst>
                      <a:path w="239" h="40">
                        <a:moveTo>
                          <a:pt x="239" y="0"/>
                        </a:moveTo>
                        <a:lnTo>
                          <a:pt x="160" y="1"/>
                        </a:lnTo>
                        <a:lnTo>
                          <a:pt x="83" y="12"/>
                        </a:lnTo>
                        <a:lnTo>
                          <a:pt x="41" y="24"/>
                        </a:lnTo>
                        <a:lnTo>
                          <a:pt x="21" y="30"/>
                        </a:lnTo>
                        <a:lnTo>
                          <a:pt x="0" y="40"/>
                        </a:lnTo>
                        <a:lnTo>
                          <a:pt x="25" y="34"/>
                        </a:lnTo>
                        <a:lnTo>
                          <a:pt x="52" y="30"/>
                        </a:lnTo>
                        <a:lnTo>
                          <a:pt x="83" y="25"/>
                        </a:lnTo>
                        <a:lnTo>
                          <a:pt x="120" y="21"/>
                        </a:lnTo>
                        <a:lnTo>
                          <a:pt x="156" y="19"/>
                        </a:lnTo>
                        <a:lnTo>
                          <a:pt x="220" y="23"/>
                        </a:lnTo>
                        <a:lnTo>
                          <a:pt x="239" y="0"/>
                        </a:lnTo>
                        <a:lnTo>
                          <a:pt x="23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485" name=""/>
                  <p:cNvSpPr/>
                  <p:nvPr/>
                </p:nvSpPr>
                <p:spPr>
                  <a:xfrm>
                    <a:off x="3960720" y="1584360"/>
                    <a:ext cx="1262160" cy="1373040"/>
                  </a:xfrm>
                  <a:custGeom>
                    <a:avLst/>
                    <a:gdLst/>
                    <a:ahLst/>
                    <a:rect l="l" t="t" r="r" b="b"/>
                    <a:pathLst>
                      <a:path w="795" h="865">
                        <a:moveTo>
                          <a:pt x="0" y="28"/>
                        </a:moveTo>
                        <a:lnTo>
                          <a:pt x="6" y="55"/>
                        </a:lnTo>
                        <a:lnTo>
                          <a:pt x="15" y="85"/>
                        </a:lnTo>
                        <a:lnTo>
                          <a:pt x="25" y="126"/>
                        </a:lnTo>
                        <a:lnTo>
                          <a:pt x="38" y="176"/>
                        </a:lnTo>
                        <a:lnTo>
                          <a:pt x="54" y="231"/>
                        </a:lnTo>
                        <a:lnTo>
                          <a:pt x="73" y="292"/>
                        </a:lnTo>
                        <a:lnTo>
                          <a:pt x="83" y="324"/>
                        </a:lnTo>
                        <a:lnTo>
                          <a:pt x="94" y="357"/>
                        </a:lnTo>
                        <a:lnTo>
                          <a:pt x="106" y="391"/>
                        </a:lnTo>
                        <a:lnTo>
                          <a:pt x="117" y="424"/>
                        </a:lnTo>
                        <a:lnTo>
                          <a:pt x="129" y="458"/>
                        </a:lnTo>
                        <a:lnTo>
                          <a:pt x="144" y="493"/>
                        </a:lnTo>
                        <a:lnTo>
                          <a:pt x="156" y="526"/>
                        </a:lnTo>
                        <a:lnTo>
                          <a:pt x="171" y="559"/>
                        </a:lnTo>
                        <a:lnTo>
                          <a:pt x="185" y="592"/>
                        </a:lnTo>
                        <a:lnTo>
                          <a:pt x="202" y="624"/>
                        </a:lnTo>
                        <a:lnTo>
                          <a:pt x="208" y="640"/>
                        </a:lnTo>
                        <a:lnTo>
                          <a:pt x="217" y="656"/>
                        </a:lnTo>
                        <a:lnTo>
                          <a:pt x="233" y="685"/>
                        </a:lnTo>
                        <a:lnTo>
                          <a:pt x="250" y="715"/>
                        </a:lnTo>
                        <a:lnTo>
                          <a:pt x="266" y="742"/>
                        </a:lnTo>
                        <a:lnTo>
                          <a:pt x="285" y="768"/>
                        </a:lnTo>
                        <a:lnTo>
                          <a:pt x="302" y="791"/>
                        </a:lnTo>
                        <a:lnTo>
                          <a:pt x="321" y="813"/>
                        </a:lnTo>
                        <a:lnTo>
                          <a:pt x="339" y="831"/>
                        </a:lnTo>
                        <a:lnTo>
                          <a:pt x="350" y="842"/>
                        </a:lnTo>
                        <a:lnTo>
                          <a:pt x="356" y="847"/>
                        </a:lnTo>
                        <a:lnTo>
                          <a:pt x="364" y="851"/>
                        </a:lnTo>
                        <a:lnTo>
                          <a:pt x="381" y="859"/>
                        </a:lnTo>
                        <a:lnTo>
                          <a:pt x="402" y="865"/>
                        </a:lnTo>
                        <a:lnTo>
                          <a:pt x="427" y="865"/>
                        </a:lnTo>
                        <a:lnTo>
                          <a:pt x="454" y="855"/>
                        </a:lnTo>
                        <a:lnTo>
                          <a:pt x="468" y="846"/>
                        </a:lnTo>
                        <a:lnTo>
                          <a:pt x="483" y="835"/>
                        </a:lnTo>
                        <a:lnTo>
                          <a:pt x="495" y="821"/>
                        </a:lnTo>
                        <a:lnTo>
                          <a:pt x="512" y="802"/>
                        </a:lnTo>
                        <a:lnTo>
                          <a:pt x="533" y="777"/>
                        </a:lnTo>
                        <a:lnTo>
                          <a:pt x="558" y="745"/>
                        </a:lnTo>
                        <a:lnTo>
                          <a:pt x="570" y="728"/>
                        </a:lnTo>
                        <a:lnTo>
                          <a:pt x="585" y="708"/>
                        </a:lnTo>
                        <a:lnTo>
                          <a:pt x="599" y="685"/>
                        </a:lnTo>
                        <a:lnTo>
                          <a:pt x="614" y="663"/>
                        </a:lnTo>
                        <a:lnTo>
                          <a:pt x="628" y="638"/>
                        </a:lnTo>
                        <a:lnTo>
                          <a:pt x="643" y="611"/>
                        </a:lnTo>
                        <a:lnTo>
                          <a:pt x="657" y="583"/>
                        </a:lnTo>
                        <a:lnTo>
                          <a:pt x="672" y="554"/>
                        </a:lnTo>
                        <a:lnTo>
                          <a:pt x="687" y="523"/>
                        </a:lnTo>
                        <a:lnTo>
                          <a:pt x="701" y="491"/>
                        </a:lnTo>
                        <a:lnTo>
                          <a:pt x="716" y="458"/>
                        </a:lnTo>
                        <a:lnTo>
                          <a:pt x="728" y="422"/>
                        </a:lnTo>
                        <a:lnTo>
                          <a:pt x="751" y="349"/>
                        </a:lnTo>
                        <a:lnTo>
                          <a:pt x="770" y="270"/>
                        </a:lnTo>
                        <a:lnTo>
                          <a:pt x="784" y="185"/>
                        </a:lnTo>
                        <a:lnTo>
                          <a:pt x="795" y="0"/>
                        </a:lnTo>
                        <a:lnTo>
                          <a:pt x="795" y="0"/>
                        </a:lnTo>
                        <a:lnTo>
                          <a:pt x="778" y="84"/>
                        </a:lnTo>
                        <a:lnTo>
                          <a:pt x="770" y="125"/>
                        </a:lnTo>
                        <a:lnTo>
                          <a:pt x="757" y="174"/>
                        </a:lnTo>
                        <a:lnTo>
                          <a:pt x="743" y="227"/>
                        </a:lnTo>
                        <a:lnTo>
                          <a:pt x="726" y="286"/>
                        </a:lnTo>
                        <a:lnTo>
                          <a:pt x="716" y="315"/>
                        </a:lnTo>
                        <a:lnTo>
                          <a:pt x="705" y="345"/>
                        </a:lnTo>
                        <a:lnTo>
                          <a:pt x="695" y="376"/>
                        </a:lnTo>
                        <a:lnTo>
                          <a:pt x="682" y="408"/>
                        </a:lnTo>
                        <a:lnTo>
                          <a:pt x="670" y="440"/>
                        </a:lnTo>
                        <a:lnTo>
                          <a:pt x="655" y="470"/>
                        </a:lnTo>
                        <a:lnTo>
                          <a:pt x="641" y="502"/>
                        </a:lnTo>
                        <a:lnTo>
                          <a:pt x="635" y="518"/>
                        </a:lnTo>
                        <a:lnTo>
                          <a:pt x="626" y="533"/>
                        </a:lnTo>
                        <a:lnTo>
                          <a:pt x="618" y="549"/>
                        </a:lnTo>
                        <a:lnTo>
                          <a:pt x="610" y="563"/>
                        </a:lnTo>
                        <a:lnTo>
                          <a:pt x="593" y="594"/>
                        </a:lnTo>
                        <a:lnTo>
                          <a:pt x="574" y="623"/>
                        </a:lnTo>
                        <a:lnTo>
                          <a:pt x="556" y="652"/>
                        </a:lnTo>
                        <a:lnTo>
                          <a:pt x="535" y="680"/>
                        </a:lnTo>
                        <a:lnTo>
                          <a:pt x="514" y="707"/>
                        </a:lnTo>
                        <a:lnTo>
                          <a:pt x="491" y="730"/>
                        </a:lnTo>
                        <a:lnTo>
                          <a:pt x="468" y="754"/>
                        </a:lnTo>
                        <a:lnTo>
                          <a:pt x="460" y="761"/>
                        </a:lnTo>
                        <a:lnTo>
                          <a:pt x="449" y="769"/>
                        </a:lnTo>
                        <a:lnTo>
                          <a:pt x="439" y="777"/>
                        </a:lnTo>
                        <a:lnTo>
                          <a:pt x="425" y="782"/>
                        </a:lnTo>
                        <a:lnTo>
                          <a:pt x="412" y="785"/>
                        </a:lnTo>
                        <a:lnTo>
                          <a:pt x="397" y="785"/>
                        </a:lnTo>
                        <a:lnTo>
                          <a:pt x="385" y="781"/>
                        </a:lnTo>
                        <a:lnTo>
                          <a:pt x="373" y="770"/>
                        </a:lnTo>
                        <a:lnTo>
                          <a:pt x="356" y="749"/>
                        </a:lnTo>
                        <a:lnTo>
                          <a:pt x="343" y="733"/>
                        </a:lnTo>
                        <a:lnTo>
                          <a:pt x="329" y="712"/>
                        </a:lnTo>
                        <a:lnTo>
                          <a:pt x="312" y="687"/>
                        </a:lnTo>
                        <a:lnTo>
                          <a:pt x="291" y="656"/>
                        </a:lnTo>
                        <a:lnTo>
                          <a:pt x="281" y="639"/>
                        </a:lnTo>
                        <a:lnTo>
                          <a:pt x="271" y="620"/>
                        </a:lnTo>
                        <a:lnTo>
                          <a:pt x="258" y="602"/>
                        </a:lnTo>
                        <a:lnTo>
                          <a:pt x="248" y="580"/>
                        </a:lnTo>
                        <a:lnTo>
                          <a:pt x="235" y="558"/>
                        </a:lnTo>
                        <a:lnTo>
                          <a:pt x="223" y="534"/>
                        </a:lnTo>
                        <a:lnTo>
                          <a:pt x="198" y="481"/>
                        </a:lnTo>
                        <a:lnTo>
                          <a:pt x="183" y="453"/>
                        </a:lnTo>
                        <a:lnTo>
                          <a:pt x="171" y="422"/>
                        </a:lnTo>
                        <a:lnTo>
                          <a:pt x="156" y="391"/>
                        </a:lnTo>
                        <a:lnTo>
                          <a:pt x="144" y="357"/>
                        </a:lnTo>
                        <a:lnTo>
                          <a:pt x="131" y="323"/>
                        </a:lnTo>
                        <a:lnTo>
                          <a:pt x="117" y="286"/>
                        </a:lnTo>
                        <a:lnTo>
                          <a:pt x="104" y="247"/>
                        </a:lnTo>
                        <a:lnTo>
                          <a:pt x="90" y="206"/>
                        </a:lnTo>
                        <a:lnTo>
                          <a:pt x="77" y="164"/>
                        </a:lnTo>
                        <a:lnTo>
                          <a:pt x="65" y="120"/>
                        </a:lnTo>
                        <a:lnTo>
                          <a:pt x="50" y="73"/>
                        </a:lnTo>
                        <a:lnTo>
                          <a:pt x="38" y="26"/>
                        </a:lnTo>
                        <a:lnTo>
                          <a:pt x="29" y="15"/>
                        </a:lnTo>
                        <a:lnTo>
                          <a:pt x="17" y="18"/>
                        </a:lnTo>
                        <a:lnTo>
                          <a:pt x="4" y="23"/>
                        </a:lnTo>
                        <a:lnTo>
                          <a:pt x="0" y="28"/>
                        </a:lnTo>
                        <a:lnTo>
                          <a:pt x="0" y="2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1862280" y="1568520"/>
                    <a:ext cx="2065320" cy="662040"/>
                  </a:xfrm>
                  <a:custGeom>
                    <a:avLst/>
                    <a:gdLst/>
                    <a:ahLst/>
                    <a:rect l="l" t="t" r="r" b="b"/>
                    <a:pathLst>
                      <a:path w="1301" h="417">
                        <a:moveTo>
                          <a:pt x="1301" y="0"/>
                        </a:moveTo>
                        <a:lnTo>
                          <a:pt x="1260" y="10"/>
                        </a:lnTo>
                        <a:lnTo>
                          <a:pt x="1237" y="16"/>
                        </a:lnTo>
                        <a:lnTo>
                          <a:pt x="1210" y="21"/>
                        </a:lnTo>
                        <a:lnTo>
                          <a:pt x="1181" y="29"/>
                        </a:lnTo>
                        <a:lnTo>
                          <a:pt x="1145" y="37"/>
                        </a:lnTo>
                        <a:lnTo>
                          <a:pt x="1108" y="46"/>
                        </a:lnTo>
                        <a:lnTo>
                          <a:pt x="1066" y="57"/>
                        </a:lnTo>
                        <a:lnTo>
                          <a:pt x="1046" y="62"/>
                        </a:lnTo>
                        <a:lnTo>
                          <a:pt x="1023" y="67"/>
                        </a:lnTo>
                        <a:lnTo>
                          <a:pt x="1002" y="74"/>
                        </a:lnTo>
                        <a:lnTo>
                          <a:pt x="977" y="79"/>
                        </a:lnTo>
                        <a:lnTo>
                          <a:pt x="954" y="86"/>
                        </a:lnTo>
                        <a:lnTo>
                          <a:pt x="929" y="93"/>
                        </a:lnTo>
                        <a:lnTo>
                          <a:pt x="904" y="99"/>
                        </a:lnTo>
                        <a:lnTo>
                          <a:pt x="879" y="106"/>
                        </a:lnTo>
                        <a:lnTo>
                          <a:pt x="854" y="113"/>
                        </a:lnTo>
                        <a:lnTo>
                          <a:pt x="829" y="119"/>
                        </a:lnTo>
                        <a:lnTo>
                          <a:pt x="802" y="127"/>
                        </a:lnTo>
                        <a:lnTo>
                          <a:pt x="775" y="134"/>
                        </a:lnTo>
                        <a:lnTo>
                          <a:pt x="748" y="142"/>
                        </a:lnTo>
                        <a:lnTo>
                          <a:pt x="721" y="148"/>
                        </a:lnTo>
                        <a:lnTo>
                          <a:pt x="694" y="156"/>
                        </a:lnTo>
                        <a:lnTo>
                          <a:pt x="667" y="164"/>
                        </a:lnTo>
                        <a:lnTo>
                          <a:pt x="640" y="172"/>
                        </a:lnTo>
                        <a:lnTo>
                          <a:pt x="613" y="180"/>
                        </a:lnTo>
                        <a:lnTo>
                          <a:pt x="586" y="190"/>
                        </a:lnTo>
                        <a:lnTo>
                          <a:pt x="559" y="197"/>
                        </a:lnTo>
                        <a:lnTo>
                          <a:pt x="530" y="205"/>
                        </a:lnTo>
                        <a:lnTo>
                          <a:pt x="503" y="215"/>
                        </a:lnTo>
                        <a:lnTo>
                          <a:pt x="476" y="223"/>
                        </a:lnTo>
                        <a:lnTo>
                          <a:pt x="449" y="231"/>
                        </a:lnTo>
                        <a:lnTo>
                          <a:pt x="422" y="240"/>
                        </a:lnTo>
                        <a:lnTo>
                          <a:pt x="397" y="249"/>
                        </a:lnTo>
                        <a:lnTo>
                          <a:pt x="370" y="257"/>
                        </a:lnTo>
                        <a:lnTo>
                          <a:pt x="345" y="267"/>
                        </a:lnTo>
                        <a:lnTo>
                          <a:pt x="318" y="276"/>
                        </a:lnTo>
                        <a:lnTo>
                          <a:pt x="293" y="284"/>
                        </a:lnTo>
                        <a:lnTo>
                          <a:pt x="268" y="293"/>
                        </a:lnTo>
                        <a:lnTo>
                          <a:pt x="243" y="302"/>
                        </a:lnTo>
                        <a:lnTo>
                          <a:pt x="220" y="312"/>
                        </a:lnTo>
                        <a:lnTo>
                          <a:pt x="197" y="321"/>
                        </a:lnTo>
                        <a:lnTo>
                          <a:pt x="174" y="329"/>
                        </a:lnTo>
                        <a:lnTo>
                          <a:pt x="151" y="338"/>
                        </a:lnTo>
                        <a:lnTo>
                          <a:pt x="131" y="347"/>
                        </a:lnTo>
                        <a:lnTo>
                          <a:pt x="110" y="357"/>
                        </a:lnTo>
                        <a:lnTo>
                          <a:pt x="89" y="366"/>
                        </a:lnTo>
                        <a:lnTo>
                          <a:pt x="70" y="375"/>
                        </a:lnTo>
                        <a:lnTo>
                          <a:pt x="52" y="385"/>
                        </a:lnTo>
                        <a:lnTo>
                          <a:pt x="33" y="393"/>
                        </a:lnTo>
                        <a:lnTo>
                          <a:pt x="16" y="402"/>
                        </a:lnTo>
                        <a:lnTo>
                          <a:pt x="0" y="411"/>
                        </a:lnTo>
                        <a:lnTo>
                          <a:pt x="407" y="417"/>
                        </a:lnTo>
                        <a:lnTo>
                          <a:pt x="89" y="395"/>
                        </a:lnTo>
                        <a:lnTo>
                          <a:pt x="1301" y="0"/>
                        </a:lnTo>
                        <a:lnTo>
                          <a:pt x="1301"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5156280" y="1569960"/>
                    <a:ext cx="2023920" cy="596880"/>
                  </a:xfrm>
                  <a:custGeom>
                    <a:avLst/>
                    <a:gdLst/>
                    <a:ahLst/>
                    <a:rect l="l" t="t" r="r" b="b"/>
                    <a:pathLst>
                      <a:path w="1275" h="376">
                        <a:moveTo>
                          <a:pt x="0" y="0"/>
                        </a:moveTo>
                        <a:lnTo>
                          <a:pt x="33" y="5"/>
                        </a:lnTo>
                        <a:lnTo>
                          <a:pt x="73" y="12"/>
                        </a:lnTo>
                        <a:lnTo>
                          <a:pt x="125" y="23"/>
                        </a:lnTo>
                        <a:lnTo>
                          <a:pt x="156" y="28"/>
                        </a:lnTo>
                        <a:lnTo>
                          <a:pt x="189" y="35"/>
                        </a:lnTo>
                        <a:lnTo>
                          <a:pt x="227" y="41"/>
                        </a:lnTo>
                        <a:lnTo>
                          <a:pt x="264" y="49"/>
                        </a:lnTo>
                        <a:lnTo>
                          <a:pt x="306" y="57"/>
                        </a:lnTo>
                        <a:lnTo>
                          <a:pt x="347" y="66"/>
                        </a:lnTo>
                        <a:lnTo>
                          <a:pt x="393" y="76"/>
                        </a:lnTo>
                        <a:lnTo>
                          <a:pt x="439" y="86"/>
                        </a:lnTo>
                        <a:lnTo>
                          <a:pt x="487" y="96"/>
                        </a:lnTo>
                        <a:lnTo>
                          <a:pt x="512" y="102"/>
                        </a:lnTo>
                        <a:lnTo>
                          <a:pt x="537" y="108"/>
                        </a:lnTo>
                        <a:lnTo>
                          <a:pt x="562" y="113"/>
                        </a:lnTo>
                        <a:lnTo>
                          <a:pt x="587" y="119"/>
                        </a:lnTo>
                        <a:lnTo>
                          <a:pt x="614" y="125"/>
                        </a:lnTo>
                        <a:lnTo>
                          <a:pt x="639" y="131"/>
                        </a:lnTo>
                        <a:lnTo>
                          <a:pt x="666" y="138"/>
                        </a:lnTo>
                        <a:lnTo>
                          <a:pt x="693" y="145"/>
                        </a:lnTo>
                        <a:lnTo>
                          <a:pt x="718" y="151"/>
                        </a:lnTo>
                        <a:lnTo>
                          <a:pt x="745" y="158"/>
                        </a:lnTo>
                        <a:lnTo>
                          <a:pt x="772" y="165"/>
                        </a:lnTo>
                        <a:lnTo>
                          <a:pt x="799" y="173"/>
                        </a:lnTo>
                        <a:lnTo>
                          <a:pt x="826" y="179"/>
                        </a:lnTo>
                        <a:lnTo>
                          <a:pt x="853" y="187"/>
                        </a:lnTo>
                        <a:lnTo>
                          <a:pt x="880" y="194"/>
                        </a:lnTo>
                        <a:lnTo>
                          <a:pt x="907" y="202"/>
                        </a:lnTo>
                        <a:lnTo>
                          <a:pt x="934" y="210"/>
                        </a:lnTo>
                        <a:lnTo>
                          <a:pt x="961" y="218"/>
                        </a:lnTo>
                        <a:lnTo>
                          <a:pt x="988" y="226"/>
                        </a:lnTo>
                        <a:lnTo>
                          <a:pt x="1015" y="234"/>
                        </a:lnTo>
                        <a:lnTo>
                          <a:pt x="1042" y="242"/>
                        </a:lnTo>
                        <a:lnTo>
                          <a:pt x="1069" y="250"/>
                        </a:lnTo>
                        <a:lnTo>
                          <a:pt x="1094" y="259"/>
                        </a:lnTo>
                        <a:lnTo>
                          <a:pt x="1121" y="267"/>
                        </a:lnTo>
                        <a:lnTo>
                          <a:pt x="1148" y="275"/>
                        </a:lnTo>
                        <a:lnTo>
                          <a:pt x="1173" y="284"/>
                        </a:lnTo>
                        <a:lnTo>
                          <a:pt x="1200" y="293"/>
                        </a:lnTo>
                        <a:lnTo>
                          <a:pt x="1225" y="303"/>
                        </a:lnTo>
                        <a:lnTo>
                          <a:pt x="1250" y="312"/>
                        </a:lnTo>
                        <a:lnTo>
                          <a:pt x="1275" y="321"/>
                        </a:lnTo>
                        <a:lnTo>
                          <a:pt x="978" y="376"/>
                        </a:lnTo>
                        <a:lnTo>
                          <a:pt x="1167" y="308"/>
                        </a:lnTo>
                        <a:lnTo>
                          <a:pt x="0" y="0"/>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3684600" y="2581200"/>
                    <a:ext cx="762120" cy="274680"/>
                  </a:xfrm>
                  <a:custGeom>
                    <a:avLst/>
                    <a:gdLst/>
                    <a:ahLst/>
                    <a:rect l="l" t="t" r="r" b="b"/>
                    <a:pathLst>
                      <a:path w="480" h="173">
                        <a:moveTo>
                          <a:pt x="384" y="0"/>
                        </a:moveTo>
                        <a:lnTo>
                          <a:pt x="372" y="6"/>
                        </a:lnTo>
                        <a:lnTo>
                          <a:pt x="359" y="11"/>
                        </a:lnTo>
                        <a:lnTo>
                          <a:pt x="347" y="16"/>
                        </a:lnTo>
                        <a:lnTo>
                          <a:pt x="332" y="23"/>
                        </a:lnTo>
                        <a:lnTo>
                          <a:pt x="318" y="28"/>
                        </a:lnTo>
                        <a:lnTo>
                          <a:pt x="303" y="33"/>
                        </a:lnTo>
                        <a:lnTo>
                          <a:pt x="287" y="40"/>
                        </a:lnTo>
                        <a:lnTo>
                          <a:pt x="272" y="47"/>
                        </a:lnTo>
                        <a:lnTo>
                          <a:pt x="255" y="52"/>
                        </a:lnTo>
                        <a:lnTo>
                          <a:pt x="241" y="57"/>
                        </a:lnTo>
                        <a:lnTo>
                          <a:pt x="224" y="64"/>
                        </a:lnTo>
                        <a:lnTo>
                          <a:pt x="210" y="71"/>
                        </a:lnTo>
                        <a:lnTo>
                          <a:pt x="193" y="76"/>
                        </a:lnTo>
                        <a:lnTo>
                          <a:pt x="178" y="83"/>
                        </a:lnTo>
                        <a:lnTo>
                          <a:pt x="164" y="88"/>
                        </a:lnTo>
                        <a:lnTo>
                          <a:pt x="149" y="94"/>
                        </a:lnTo>
                        <a:lnTo>
                          <a:pt x="133" y="100"/>
                        </a:lnTo>
                        <a:lnTo>
                          <a:pt x="120" y="105"/>
                        </a:lnTo>
                        <a:lnTo>
                          <a:pt x="106" y="112"/>
                        </a:lnTo>
                        <a:lnTo>
                          <a:pt x="93" y="117"/>
                        </a:lnTo>
                        <a:lnTo>
                          <a:pt x="68" y="128"/>
                        </a:lnTo>
                        <a:lnTo>
                          <a:pt x="45" y="138"/>
                        </a:lnTo>
                        <a:lnTo>
                          <a:pt x="29" y="148"/>
                        </a:lnTo>
                        <a:lnTo>
                          <a:pt x="14" y="157"/>
                        </a:lnTo>
                        <a:lnTo>
                          <a:pt x="0" y="173"/>
                        </a:lnTo>
                        <a:lnTo>
                          <a:pt x="89" y="171"/>
                        </a:lnTo>
                        <a:lnTo>
                          <a:pt x="212" y="162"/>
                        </a:lnTo>
                        <a:lnTo>
                          <a:pt x="280" y="156"/>
                        </a:lnTo>
                        <a:lnTo>
                          <a:pt x="349" y="148"/>
                        </a:lnTo>
                        <a:lnTo>
                          <a:pt x="418" y="141"/>
                        </a:lnTo>
                        <a:lnTo>
                          <a:pt x="480" y="136"/>
                        </a:lnTo>
                        <a:lnTo>
                          <a:pt x="189" y="130"/>
                        </a:lnTo>
                        <a:lnTo>
                          <a:pt x="384" y="0"/>
                        </a:lnTo>
                        <a:lnTo>
                          <a:pt x="384"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9" name=""/>
                  <p:cNvSpPr/>
                  <p:nvPr/>
                </p:nvSpPr>
                <p:spPr>
                  <a:xfrm>
                    <a:off x="4813200" y="2567160"/>
                    <a:ext cx="765360" cy="272880"/>
                  </a:xfrm>
                  <a:custGeom>
                    <a:avLst/>
                    <a:gdLst/>
                    <a:ahLst/>
                    <a:rect l="l" t="t" r="r" b="b"/>
                    <a:pathLst>
                      <a:path w="482" h="172">
                        <a:moveTo>
                          <a:pt x="95" y="0"/>
                        </a:moveTo>
                        <a:lnTo>
                          <a:pt x="106" y="5"/>
                        </a:lnTo>
                        <a:lnTo>
                          <a:pt x="120" y="11"/>
                        </a:lnTo>
                        <a:lnTo>
                          <a:pt x="133" y="16"/>
                        </a:lnTo>
                        <a:lnTo>
                          <a:pt x="147" y="22"/>
                        </a:lnTo>
                        <a:lnTo>
                          <a:pt x="162" y="28"/>
                        </a:lnTo>
                        <a:lnTo>
                          <a:pt x="177" y="34"/>
                        </a:lnTo>
                        <a:lnTo>
                          <a:pt x="191" y="40"/>
                        </a:lnTo>
                        <a:lnTo>
                          <a:pt x="208" y="46"/>
                        </a:lnTo>
                        <a:lnTo>
                          <a:pt x="222" y="52"/>
                        </a:lnTo>
                        <a:lnTo>
                          <a:pt x="239" y="58"/>
                        </a:lnTo>
                        <a:lnTo>
                          <a:pt x="254" y="64"/>
                        </a:lnTo>
                        <a:lnTo>
                          <a:pt x="270" y="70"/>
                        </a:lnTo>
                        <a:lnTo>
                          <a:pt x="285" y="76"/>
                        </a:lnTo>
                        <a:lnTo>
                          <a:pt x="301" y="82"/>
                        </a:lnTo>
                        <a:lnTo>
                          <a:pt x="316" y="88"/>
                        </a:lnTo>
                        <a:lnTo>
                          <a:pt x="330" y="94"/>
                        </a:lnTo>
                        <a:lnTo>
                          <a:pt x="345" y="99"/>
                        </a:lnTo>
                        <a:lnTo>
                          <a:pt x="360" y="106"/>
                        </a:lnTo>
                        <a:lnTo>
                          <a:pt x="374" y="111"/>
                        </a:lnTo>
                        <a:lnTo>
                          <a:pt x="387" y="117"/>
                        </a:lnTo>
                        <a:lnTo>
                          <a:pt x="412" y="127"/>
                        </a:lnTo>
                        <a:lnTo>
                          <a:pt x="432" y="138"/>
                        </a:lnTo>
                        <a:lnTo>
                          <a:pt x="451" y="147"/>
                        </a:lnTo>
                        <a:lnTo>
                          <a:pt x="466" y="157"/>
                        </a:lnTo>
                        <a:lnTo>
                          <a:pt x="482" y="172"/>
                        </a:lnTo>
                        <a:lnTo>
                          <a:pt x="391" y="172"/>
                        </a:lnTo>
                        <a:lnTo>
                          <a:pt x="268" y="162"/>
                        </a:lnTo>
                        <a:lnTo>
                          <a:pt x="199" y="155"/>
                        </a:lnTo>
                        <a:lnTo>
                          <a:pt x="131" y="149"/>
                        </a:lnTo>
                        <a:lnTo>
                          <a:pt x="62" y="141"/>
                        </a:lnTo>
                        <a:lnTo>
                          <a:pt x="0" y="135"/>
                        </a:lnTo>
                        <a:lnTo>
                          <a:pt x="291" y="130"/>
                        </a:lnTo>
                        <a:lnTo>
                          <a:pt x="95" y="0"/>
                        </a:lnTo>
                        <a:lnTo>
                          <a:pt x="9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0" name=""/>
                  <p:cNvSpPr/>
                  <p:nvPr/>
                </p:nvSpPr>
                <p:spPr>
                  <a:xfrm>
                    <a:off x="5965920" y="2013120"/>
                    <a:ext cx="349200" cy="260280"/>
                  </a:xfrm>
                  <a:custGeom>
                    <a:avLst/>
                    <a:gdLst/>
                    <a:ahLst/>
                    <a:rect l="l" t="t" r="r" b="b"/>
                    <a:pathLst>
                      <a:path w="220" h="164">
                        <a:moveTo>
                          <a:pt x="8" y="9"/>
                        </a:moveTo>
                        <a:lnTo>
                          <a:pt x="0" y="69"/>
                        </a:lnTo>
                        <a:lnTo>
                          <a:pt x="2" y="111"/>
                        </a:lnTo>
                        <a:lnTo>
                          <a:pt x="18" y="142"/>
                        </a:lnTo>
                        <a:lnTo>
                          <a:pt x="50" y="160"/>
                        </a:lnTo>
                        <a:lnTo>
                          <a:pt x="66" y="164"/>
                        </a:lnTo>
                        <a:lnTo>
                          <a:pt x="108" y="164"/>
                        </a:lnTo>
                        <a:lnTo>
                          <a:pt x="164" y="151"/>
                        </a:lnTo>
                        <a:lnTo>
                          <a:pt x="189" y="137"/>
                        </a:lnTo>
                        <a:lnTo>
                          <a:pt x="206" y="117"/>
                        </a:lnTo>
                        <a:lnTo>
                          <a:pt x="220" y="66"/>
                        </a:lnTo>
                        <a:lnTo>
                          <a:pt x="220" y="20"/>
                        </a:lnTo>
                        <a:lnTo>
                          <a:pt x="218" y="0"/>
                        </a:lnTo>
                        <a:lnTo>
                          <a:pt x="210" y="18"/>
                        </a:lnTo>
                        <a:lnTo>
                          <a:pt x="201" y="38"/>
                        </a:lnTo>
                        <a:lnTo>
                          <a:pt x="187" y="61"/>
                        </a:lnTo>
                        <a:lnTo>
                          <a:pt x="170" y="83"/>
                        </a:lnTo>
                        <a:lnTo>
                          <a:pt x="149" y="105"/>
                        </a:lnTo>
                        <a:lnTo>
                          <a:pt x="137" y="114"/>
                        </a:lnTo>
                        <a:lnTo>
                          <a:pt x="124" y="121"/>
                        </a:lnTo>
                        <a:lnTo>
                          <a:pt x="110" y="127"/>
                        </a:lnTo>
                        <a:lnTo>
                          <a:pt x="95" y="130"/>
                        </a:lnTo>
                        <a:lnTo>
                          <a:pt x="68" y="129"/>
                        </a:lnTo>
                        <a:lnTo>
                          <a:pt x="47" y="117"/>
                        </a:lnTo>
                        <a:lnTo>
                          <a:pt x="20" y="74"/>
                        </a:lnTo>
                        <a:lnTo>
                          <a:pt x="8" y="9"/>
                        </a:lnTo>
                        <a:lnTo>
                          <a:pt x="8" y="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1" name=""/>
                  <p:cNvSpPr/>
                  <p:nvPr/>
                </p:nvSpPr>
                <p:spPr>
                  <a:xfrm>
                    <a:off x="5299200" y="1897200"/>
                    <a:ext cx="392040" cy="355320"/>
                  </a:xfrm>
                  <a:custGeom>
                    <a:avLst/>
                    <a:gdLst/>
                    <a:ahLst/>
                    <a:rect l="l" t="t" r="r" b="b"/>
                    <a:pathLst>
                      <a:path w="247" h="224">
                        <a:moveTo>
                          <a:pt x="20" y="0"/>
                        </a:moveTo>
                        <a:lnTo>
                          <a:pt x="0" y="77"/>
                        </a:lnTo>
                        <a:lnTo>
                          <a:pt x="4" y="129"/>
                        </a:lnTo>
                        <a:lnTo>
                          <a:pt x="20" y="174"/>
                        </a:lnTo>
                        <a:lnTo>
                          <a:pt x="29" y="191"/>
                        </a:lnTo>
                        <a:lnTo>
                          <a:pt x="41" y="204"/>
                        </a:lnTo>
                        <a:lnTo>
                          <a:pt x="49" y="211"/>
                        </a:lnTo>
                        <a:lnTo>
                          <a:pt x="58" y="215"/>
                        </a:lnTo>
                        <a:lnTo>
                          <a:pt x="76" y="221"/>
                        </a:lnTo>
                        <a:lnTo>
                          <a:pt x="101" y="224"/>
                        </a:lnTo>
                        <a:lnTo>
                          <a:pt x="149" y="217"/>
                        </a:lnTo>
                        <a:lnTo>
                          <a:pt x="170" y="210"/>
                        </a:lnTo>
                        <a:lnTo>
                          <a:pt x="187" y="199"/>
                        </a:lnTo>
                        <a:lnTo>
                          <a:pt x="214" y="172"/>
                        </a:lnTo>
                        <a:lnTo>
                          <a:pt x="232" y="140"/>
                        </a:lnTo>
                        <a:lnTo>
                          <a:pt x="247" y="67"/>
                        </a:lnTo>
                        <a:lnTo>
                          <a:pt x="245" y="33"/>
                        </a:lnTo>
                        <a:lnTo>
                          <a:pt x="237" y="0"/>
                        </a:lnTo>
                        <a:lnTo>
                          <a:pt x="226" y="28"/>
                        </a:lnTo>
                        <a:lnTo>
                          <a:pt x="214" y="56"/>
                        </a:lnTo>
                        <a:lnTo>
                          <a:pt x="205" y="71"/>
                        </a:lnTo>
                        <a:lnTo>
                          <a:pt x="197" y="89"/>
                        </a:lnTo>
                        <a:lnTo>
                          <a:pt x="189" y="105"/>
                        </a:lnTo>
                        <a:lnTo>
                          <a:pt x="176" y="121"/>
                        </a:lnTo>
                        <a:lnTo>
                          <a:pt x="166" y="137"/>
                        </a:lnTo>
                        <a:lnTo>
                          <a:pt x="153" y="150"/>
                        </a:lnTo>
                        <a:lnTo>
                          <a:pt x="141" y="162"/>
                        </a:lnTo>
                        <a:lnTo>
                          <a:pt x="135" y="166"/>
                        </a:lnTo>
                        <a:lnTo>
                          <a:pt x="128" y="171"/>
                        </a:lnTo>
                        <a:lnTo>
                          <a:pt x="116" y="176"/>
                        </a:lnTo>
                        <a:lnTo>
                          <a:pt x="101" y="179"/>
                        </a:lnTo>
                        <a:lnTo>
                          <a:pt x="76" y="172"/>
                        </a:lnTo>
                        <a:lnTo>
                          <a:pt x="56" y="156"/>
                        </a:lnTo>
                        <a:lnTo>
                          <a:pt x="31" y="101"/>
                        </a:lnTo>
                        <a:lnTo>
                          <a:pt x="20" y="40"/>
                        </a:lnTo>
                        <a:lnTo>
                          <a:pt x="20" y="0"/>
                        </a:lnTo>
                        <a:lnTo>
                          <a:pt x="2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2" name=""/>
                  <p:cNvSpPr/>
                  <p:nvPr/>
                </p:nvSpPr>
                <p:spPr>
                  <a:xfrm>
                    <a:off x="2795760" y="2041560"/>
                    <a:ext cx="345960" cy="262080"/>
                  </a:xfrm>
                  <a:custGeom>
                    <a:avLst/>
                    <a:gdLst/>
                    <a:ahLst/>
                    <a:rect l="l" t="t" r="r" b="b"/>
                    <a:pathLst>
                      <a:path w="218" h="165">
                        <a:moveTo>
                          <a:pt x="212" y="10"/>
                        </a:moveTo>
                        <a:lnTo>
                          <a:pt x="218" y="89"/>
                        </a:lnTo>
                        <a:lnTo>
                          <a:pt x="210" y="124"/>
                        </a:lnTo>
                        <a:lnTo>
                          <a:pt x="198" y="149"/>
                        </a:lnTo>
                        <a:lnTo>
                          <a:pt x="171" y="161"/>
                        </a:lnTo>
                        <a:lnTo>
                          <a:pt x="154" y="165"/>
                        </a:lnTo>
                        <a:lnTo>
                          <a:pt x="112" y="165"/>
                        </a:lnTo>
                        <a:lnTo>
                          <a:pt x="56" y="152"/>
                        </a:lnTo>
                        <a:lnTo>
                          <a:pt x="31" y="138"/>
                        </a:lnTo>
                        <a:lnTo>
                          <a:pt x="15" y="117"/>
                        </a:lnTo>
                        <a:lnTo>
                          <a:pt x="0" y="67"/>
                        </a:lnTo>
                        <a:lnTo>
                          <a:pt x="0" y="20"/>
                        </a:lnTo>
                        <a:lnTo>
                          <a:pt x="2" y="0"/>
                        </a:lnTo>
                        <a:lnTo>
                          <a:pt x="11" y="19"/>
                        </a:lnTo>
                        <a:lnTo>
                          <a:pt x="21" y="39"/>
                        </a:lnTo>
                        <a:lnTo>
                          <a:pt x="33" y="61"/>
                        </a:lnTo>
                        <a:lnTo>
                          <a:pt x="50" y="84"/>
                        </a:lnTo>
                        <a:lnTo>
                          <a:pt x="71" y="105"/>
                        </a:lnTo>
                        <a:lnTo>
                          <a:pt x="83" y="115"/>
                        </a:lnTo>
                        <a:lnTo>
                          <a:pt x="96" y="122"/>
                        </a:lnTo>
                        <a:lnTo>
                          <a:pt x="110" y="128"/>
                        </a:lnTo>
                        <a:lnTo>
                          <a:pt x="125" y="130"/>
                        </a:lnTo>
                        <a:lnTo>
                          <a:pt x="152" y="129"/>
                        </a:lnTo>
                        <a:lnTo>
                          <a:pt x="173" y="117"/>
                        </a:lnTo>
                        <a:lnTo>
                          <a:pt x="200" y="75"/>
                        </a:lnTo>
                        <a:lnTo>
                          <a:pt x="212" y="10"/>
                        </a:lnTo>
                        <a:lnTo>
                          <a:pt x="212" y="1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3440160" y="1922400"/>
                    <a:ext cx="382680" cy="354240"/>
                  </a:xfrm>
                  <a:custGeom>
                    <a:avLst/>
                    <a:gdLst/>
                    <a:ahLst/>
                    <a:rect l="l" t="t" r="r" b="b"/>
                    <a:pathLst>
                      <a:path w="241" h="223">
                        <a:moveTo>
                          <a:pt x="237" y="46"/>
                        </a:moveTo>
                        <a:lnTo>
                          <a:pt x="241" y="113"/>
                        </a:lnTo>
                        <a:lnTo>
                          <a:pt x="235" y="154"/>
                        </a:lnTo>
                        <a:lnTo>
                          <a:pt x="228" y="172"/>
                        </a:lnTo>
                        <a:lnTo>
                          <a:pt x="220" y="190"/>
                        </a:lnTo>
                        <a:lnTo>
                          <a:pt x="208" y="204"/>
                        </a:lnTo>
                        <a:lnTo>
                          <a:pt x="199" y="209"/>
                        </a:lnTo>
                        <a:lnTo>
                          <a:pt x="191" y="215"/>
                        </a:lnTo>
                        <a:lnTo>
                          <a:pt x="170" y="221"/>
                        </a:lnTo>
                        <a:lnTo>
                          <a:pt x="147" y="223"/>
                        </a:lnTo>
                        <a:lnTo>
                          <a:pt x="99" y="216"/>
                        </a:lnTo>
                        <a:lnTo>
                          <a:pt x="79" y="208"/>
                        </a:lnTo>
                        <a:lnTo>
                          <a:pt x="62" y="197"/>
                        </a:lnTo>
                        <a:lnTo>
                          <a:pt x="33" y="172"/>
                        </a:lnTo>
                        <a:lnTo>
                          <a:pt x="14" y="139"/>
                        </a:lnTo>
                        <a:lnTo>
                          <a:pt x="0" y="67"/>
                        </a:lnTo>
                        <a:lnTo>
                          <a:pt x="2" y="32"/>
                        </a:lnTo>
                        <a:lnTo>
                          <a:pt x="10" y="0"/>
                        </a:lnTo>
                        <a:lnTo>
                          <a:pt x="20" y="26"/>
                        </a:lnTo>
                        <a:lnTo>
                          <a:pt x="33" y="55"/>
                        </a:lnTo>
                        <a:lnTo>
                          <a:pt x="41" y="71"/>
                        </a:lnTo>
                        <a:lnTo>
                          <a:pt x="50" y="87"/>
                        </a:lnTo>
                        <a:lnTo>
                          <a:pt x="60" y="105"/>
                        </a:lnTo>
                        <a:lnTo>
                          <a:pt x="70" y="121"/>
                        </a:lnTo>
                        <a:lnTo>
                          <a:pt x="83" y="135"/>
                        </a:lnTo>
                        <a:lnTo>
                          <a:pt x="93" y="148"/>
                        </a:lnTo>
                        <a:lnTo>
                          <a:pt x="106" y="160"/>
                        </a:lnTo>
                        <a:lnTo>
                          <a:pt x="112" y="164"/>
                        </a:lnTo>
                        <a:lnTo>
                          <a:pt x="120" y="170"/>
                        </a:lnTo>
                        <a:lnTo>
                          <a:pt x="133" y="175"/>
                        </a:lnTo>
                        <a:lnTo>
                          <a:pt x="147" y="178"/>
                        </a:lnTo>
                        <a:lnTo>
                          <a:pt x="172" y="172"/>
                        </a:lnTo>
                        <a:lnTo>
                          <a:pt x="191" y="155"/>
                        </a:lnTo>
                        <a:lnTo>
                          <a:pt x="218" y="101"/>
                        </a:lnTo>
                        <a:lnTo>
                          <a:pt x="222" y="61"/>
                        </a:lnTo>
                        <a:lnTo>
                          <a:pt x="228" y="0"/>
                        </a:lnTo>
                        <a:lnTo>
                          <a:pt x="237" y="46"/>
                        </a:lnTo>
                        <a:lnTo>
                          <a:pt x="237" y="4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4" name=""/>
                  <p:cNvSpPr/>
                  <p:nvPr/>
                </p:nvSpPr>
                <p:spPr>
                  <a:xfrm>
                    <a:off x="2651040" y="3502080"/>
                    <a:ext cx="208080" cy="122040"/>
                  </a:xfrm>
                  <a:custGeom>
                    <a:avLst/>
                    <a:gdLst/>
                    <a:ahLst/>
                    <a:rect l="l" t="t" r="r" b="b"/>
                    <a:pathLst>
                      <a:path w="131" h="77">
                        <a:moveTo>
                          <a:pt x="116" y="0"/>
                        </a:moveTo>
                        <a:lnTo>
                          <a:pt x="14" y="18"/>
                        </a:lnTo>
                        <a:lnTo>
                          <a:pt x="60" y="26"/>
                        </a:lnTo>
                        <a:lnTo>
                          <a:pt x="0" y="51"/>
                        </a:lnTo>
                        <a:lnTo>
                          <a:pt x="83" y="45"/>
                        </a:lnTo>
                        <a:lnTo>
                          <a:pt x="68" y="77"/>
                        </a:lnTo>
                        <a:lnTo>
                          <a:pt x="131" y="55"/>
                        </a:lnTo>
                        <a:lnTo>
                          <a:pt x="91" y="56"/>
                        </a:lnTo>
                        <a:lnTo>
                          <a:pt x="108" y="41"/>
                        </a:lnTo>
                        <a:lnTo>
                          <a:pt x="47" y="39"/>
                        </a:lnTo>
                        <a:lnTo>
                          <a:pt x="93" y="24"/>
                        </a:lnTo>
                        <a:lnTo>
                          <a:pt x="60" y="20"/>
                        </a:lnTo>
                        <a:lnTo>
                          <a:pt x="116" y="0"/>
                        </a:lnTo>
                        <a:lnTo>
                          <a:pt x="116"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5923080" y="3630600"/>
                    <a:ext cx="193680" cy="163440"/>
                  </a:xfrm>
                  <a:custGeom>
                    <a:avLst/>
                    <a:gdLst/>
                    <a:ahLst/>
                    <a:rect l="l" t="t" r="r" b="b"/>
                    <a:pathLst>
                      <a:path w="122" h="103">
                        <a:moveTo>
                          <a:pt x="27" y="14"/>
                        </a:moveTo>
                        <a:lnTo>
                          <a:pt x="116" y="0"/>
                        </a:lnTo>
                        <a:lnTo>
                          <a:pt x="66" y="31"/>
                        </a:lnTo>
                        <a:lnTo>
                          <a:pt x="122" y="37"/>
                        </a:lnTo>
                        <a:lnTo>
                          <a:pt x="56" y="63"/>
                        </a:lnTo>
                        <a:lnTo>
                          <a:pt x="77" y="103"/>
                        </a:lnTo>
                        <a:lnTo>
                          <a:pt x="0" y="88"/>
                        </a:lnTo>
                        <a:lnTo>
                          <a:pt x="52" y="84"/>
                        </a:lnTo>
                        <a:lnTo>
                          <a:pt x="16" y="56"/>
                        </a:lnTo>
                        <a:lnTo>
                          <a:pt x="72" y="43"/>
                        </a:lnTo>
                        <a:lnTo>
                          <a:pt x="37" y="32"/>
                        </a:lnTo>
                        <a:lnTo>
                          <a:pt x="70" y="15"/>
                        </a:lnTo>
                        <a:lnTo>
                          <a:pt x="27" y="14"/>
                        </a:lnTo>
                        <a:lnTo>
                          <a:pt x="27" y="1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6" name=""/>
                  <p:cNvSpPr/>
                  <p:nvPr/>
                </p:nvSpPr>
                <p:spPr>
                  <a:xfrm>
                    <a:off x="6880320" y="2316240"/>
                    <a:ext cx="1201680" cy="747720"/>
                  </a:xfrm>
                  <a:custGeom>
                    <a:avLst/>
                    <a:gdLst/>
                    <a:ahLst/>
                    <a:rect l="l" t="t" r="r" b="b"/>
                    <a:pathLst>
                      <a:path w="757" h="471">
                        <a:moveTo>
                          <a:pt x="89" y="0"/>
                        </a:moveTo>
                        <a:lnTo>
                          <a:pt x="757" y="471"/>
                        </a:lnTo>
                        <a:lnTo>
                          <a:pt x="0" y="26"/>
                        </a:lnTo>
                        <a:lnTo>
                          <a:pt x="89" y="0"/>
                        </a:lnTo>
                        <a:lnTo>
                          <a:pt x="8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
                  <p:cNvSpPr/>
                  <p:nvPr/>
                </p:nvSpPr>
                <p:spPr>
                  <a:xfrm>
                    <a:off x="6516720" y="2405160"/>
                    <a:ext cx="434880" cy="528480"/>
                  </a:xfrm>
                  <a:custGeom>
                    <a:avLst/>
                    <a:gdLst/>
                    <a:ahLst/>
                    <a:rect l="l" t="t" r="r" b="b"/>
                    <a:pathLst>
                      <a:path w="274" h="333">
                        <a:moveTo>
                          <a:pt x="0" y="36"/>
                        </a:moveTo>
                        <a:lnTo>
                          <a:pt x="274" y="333"/>
                        </a:lnTo>
                        <a:lnTo>
                          <a:pt x="19" y="0"/>
                        </a:lnTo>
                        <a:lnTo>
                          <a:pt x="0" y="36"/>
                        </a:lnTo>
                        <a:lnTo>
                          <a:pt x="0" y="3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1438200" y="2362320"/>
                    <a:ext cx="1036800" cy="801720"/>
                  </a:xfrm>
                  <a:custGeom>
                    <a:avLst/>
                    <a:gdLst/>
                    <a:ahLst/>
                    <a:rect l="l" t="t" r="r" b="b"/>
                    <a:pathLst>
                      <a:path w="653" h="505">
                        <a:moveTo>
                          <a:pt x="570" y="0"/>
                        </a:moveTo>
                        <a:lnTo>
                          <a:pt x="0" y="505"/>
                        </a:lnTo>
                        <a:lnTo>
                          <a:pt x="653" y="8"/>
                        </a:lnTo>
                        <a:lnTo>
                          <a:pt x="570" y="0"/>
                        </a:lnTo>
                        <a:lnTo>
                          <a:pt x="57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2446200" y="2405160"/>
                    <a:ext cx="452520" cy="431640"/>
                  </a:xfrm>
                  <a:custGeom>
                    <a:avLst/>
                    <a:gdLst/>
                    <a:ahLst/>
                    <a:rect l="l" t="t" r="r" b="b"/>
                    <a:pathLst>
                      <a:path w="285" h="272">
                        <a:moveTo>
                          <a:pt x="218" y="0"/>
                        </a:moveTo>
                        <a:lnTo>
                          <a:pt x="0" y="272"/>
                        </a:lnTo>
                        <a:lnTo>
                          <a:pt x="285" y="6"/>
                        </a:lnTo>
                        <a:lnTo>
                          <a:pt x="218" y="0"/>
                        </a:lnTo>
                        <a:lnTo>
                          <a:pt x="21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00" name=""/>
                <p:cNvGrpSpPr/>
                <p:nvPr/>
              </p:nvGrpSpPr>
              <p:grpSpPr>
                <a:xfrm>
                  <a:off x="5105520" y="2590920"/>
                  <a:ext cx="1963440" cy="988920"/>
                  <a:chOff x="5105520" y="2590920"/>
                  <a:chExt cx="1963440" cy="988920"/>
                </a:xfrm>
              </p:grpSpPr>
              <p:sp>
                <p:nvSpPr>
                  <p:cNvPr id="501" name=""/>
                  <p:cNvSpPr/>
                  <p:nvPr/>
                </p:nvSpPr>
                <p:spPr>
                  <a:xfrm>
                    <a:off x="6102360" y="2949480"/>
                    <a:ext cx="162000" cy="71640"/>
                  </a:xfrm>
                  <a:custGeom>
                    <a:avLst/>
                    <a:gdLst/>
                    <a:ahLst/>
                    <a:rect l="l" t="t" r="r" b="b"/>
                    <a:pathLst>
                      <a:path w="202" h="89">
                        <a:moveTo>
                          <a:pt x="101" y="73"/>
                        </a:moveTo>
                        <a:lnTo>
                          <a:pt x="86" y="71"/>
                        </a:lnTo>
                        <a:lnTo>
                          <a:pt x="71" y="68"/>
                        </a:lnTo>
                        <a:lnTo>
                          <a:pt x="58" y="61"/>
                        </a:lnTo>
                        <a:lnTo>
                          <a:pt x="47" y="53"/>
                        </a:lnTo>
                        <a:lnTo>
                          <a:pt x="35" y="44"/>
                        </a:lnTo>
                        <a:lnTo>
                          <a:pt x="27" y="32"/>
                        </a:lnTo>
                        <a:lnTo>
                          <a:pt x="20" y="18"/>
                        </a:lnTo>
                        <a:lnTo>
                          <a:pt x="16" y="5"/>
                        </a:lnTo>
                        <a:lnTo>
                          <a:pt x="0" y="9"/>
                        </a:lnTo>
                        <a:lnTo>
                          <a:pt x="5" y="25"/>
                        </a:lnTo>
                        <a:lnTo>
                          <a:pt x="14" y="40"/>
                        </a:lnTo>
                        <a:lnTo>
                          <a:pt x="24" y="54"/>
                        </a:lnTo>
                        <a:lnTo>
                          <a:pt x="37" y="66"/>
                        </a:lnTo>
                        <a:lnTo>
                          <a:pt x="50" y="75"/>
                        </a:lnTo>
                        <a:lnTo>
                          <a:pt x="67" y="83"/>
                        </a:lnTo>
                        <a:lnTo>
                          <a:pt x="83" y="88"/>
                        </a:lnTo>
                        <a:lnTo>
                          <a:pt x="101" y="89"/>
                        </a:lnTo>
                        <a:lnTo>
                          <a:pt x="119" y="88"/>
                        </a:lnTo>
                        <a:lnTo>
                          <a:pt x="137" y="82"/>
                        </a:lnTo>
                        <a:lnTo>
                          <a:pt x="153" y="75"/>
                        </a:lnTo>
                        <a:lnTo>
                          <a:pt x="168" y="65"/>
                        </a:lnTo>
                        <a:lnTo>
                          <a:pt x="179" y="52"/>
                        </a:lnTo>
                        <a:lnTo>
                          <a:pt x="190" y="37"/>
                        </a:lnTo>
                        <a:lnTo>
                          <a:pt x="198" y="21"/>
                        </a:lnTo>
                        <a:lnTo>
                          <a:pt x="202" y="3"/>
                        </a:lnTo>
                        <a:lnTo>
                          <a:pt x="186" y="0"/>
                        </a:lnTo>
                        <a:lnTo>
                          <a:pt x="183" y="15"/>
                        </a:lnTo>
                        <a:lnTo>
                          <a:pt x="176" y="29"/>
                        </a:lnTo>
                        <a:lnTo>
                          <a:pt x="168" y="40"/>
                        </a:lnTo>
                        <a:lnTo>
                          <a:pt x="158" y="52"/>
                        </a:lnTo>
                        <a:lnTo>
                          <a:pt x="145" y="60"/>
                        </a:lnTo>
                        <a:lnTo>
                          <a:pt x="131" y="67"/>
                        </a:lnTo>
                        <a:lnTo>
                          <a:pt x="117" y="71"/>
                        </a:lnTo>
                        <a:lnTo>
                          <a:pt x="101" y="7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02" name=""/>
                  <p:cNvSpPr/>
                  <p:nvPr/>
                </p:nvSpPr>
                <p:spPr>
                  <a:xfrm>
                    <a:off x="6100920" y="2855880"/>
                    <a:ext cx="163440" cy="101520"/>
                  </a:xfrm>
                  <a:custGeom>
                    <a:avLst/>
                    <a:gdLst/>
                    <a:ahLst/>
                    <a:rect l="l" t="t" r="r" b="b"/>
                    <a:pathLst>
                      <a:path w="207" h="128">
                        <a:moveTo>
                          <a:pt x="104" y="0"/>
                        </a:moveTo>
                        <a:lnTo>
                          <a:pt x="83" y="3"/>
                        </a:lnTo>
                        <a:lnTo>
                          <a:pt x="64" y="8"/>
                        </a:lnTo>
                        <a:lnTo>
                          <a:pt x="46" y="18"/>
                        </a:lnTo>
                        <a:lnTo>
                          <a:pt x="30" y="30"/>
                        </a:lnTo>
                        <a:lnTo>
                          <a:pt x="18" y="46"/>
                        </a:lnTo>
                        <a:lnTo>
                          <a:pt x="8" y="64"/>
                        </a:lnTo>
                        <a:lnTo>
                          <a:pt x="3" y="83"/>
                        </a:lnTo>
                        <a:lnTo>
                          <a:pt x="0" y="104"/>
                        </a:lnTo>
                        <a:lnTo>
                          <a:pt x="0" y="110"/>
                        </a:lnTo>
                        <a:lnTo>
                          <a:pt x="2" y="116"/>
                        </a:lnTo>
                        <a:lnTo>
                          <a:pt x="2" y="122"/>
                        </a:lnTo>
                        <a:lnTo>
                          <a:pt x="3" y="128"/>
                        </a:lnTo>
                        <a:lnTo>
                          <a:pt x="19" y="124"/>
                        </a:lnTo>
                        <a:lnTo>
                          <a:pt x="18" y="119"/>
                        </a:lnTo>
                        <a:lnTo>
                          <a:pt x="18" y="113"/>
                        </a:lnTo>
                        <a:lnTo>
                          <a:pt x="17" y="109"/>
                        </a:lnTo>
                        <a:lnTo>
                          <a:pt x="17" y="104"/>
                        </a:lnTo>
                        <a:lnTo>
                          <a:pt x="19" y="87"/>
                        </a:lnTo>
                        <a:lnTo>
                          <a:pt x="23" y="69"/>
                        </a:lnTo>
                        <a:lnTo>
                          <a:pt x="31" y="54"/>
                        </a:lnTo>
                        <a:lnTo>
                          <a:pt x="42" y="42"/>
                        </a:lnTo>
                        <a:lnTo>
                          <a:pt x="55" y="31"/>
                        </a:lnTo>
                        <a:lnTo>
                          <a:pt x="70" y="23"/>
                        </a:lnTo>
                        <a:lnTo>
                          <a:pt x="87" y="19"/>
                        </a:lnTo>
                        <a:lnTo>
                          <a:pt x="104" y="16"/>
                        </a:lnTo>
                        <a:lnTo>
                          <a:pt x="121" y="19"/>
                        </a:lnTo>
                        <a:lnTo>
                          <a:pt x="137" y="23"/>
                        </a:lnTo>
                        <a:lnTo>
                          <a:pt x="152" y="31"/>
                        </a:lnTo>
                        <a:lnTo>
                          <a:pt x="165" y="42"/>
                        </a:lnTo>
                        <a:lnTo>
                          <a:pt x="177" y="54"/>
                        </a:lnTo>
                        <a:lnTo>
                          <a:pt x="185" y="69"/>
                        </a:lnTo>
                        <a:lnTo>
                          <a:pt x="189" y="87"/>
                        </a:lnTo>
                        <a:lnTo>
                          <a:pt x="192" y="104"/>
                        </a:lnTo>
                        <a:lnTo>
                          <a:pt x="192" y="107"/>
                        </a:lnTo>
                        <a:lnTo>
                          <a:pt x="190" y="111"/>
                        </a:lnTo>
                        <a:lnTo>
                          <a:pt x="190" y="114"/>
                        </a:lnTo>
                        <a:lnTo>
                          <a:pt x="189" y="119"/>
                        </a:lnTo>
                        <a:lnTo>
                          <a:pt x="205" y="122"/>
                        </a:lnTo>
                        <a:lnTo>
                          <a:pt x="207" y="118"/>
                        </a:lnTo>
                        <a:lnTo>
                          <a:pt x="207" y="113"/>
                        </a:lnTo>
                        <a:lnTo>
                          <a:pt x="207" y="109"/>
                        </a:lnTo>
                        <a:lnTo>
                          <a:pt x="207" y="104"/>
                        </a:lnTo>
                        <a:lnTo>
                          <a:pt x="204" y="83"/>
                        </a:lnTo>
                        <a:lnTo>
                          <a:pt x="199" y="64"/>
                        </a:lnTo>
                        <a:lnTo>
                          <a:pt x="189" y="46"/>
                        </a:lnTo>
                        <a:lnTo>
                          <a:pt x="177" y="30"/>
                        </a:lnTo>
                        <a:lnTo>
                          <a:pt x="162" y="18"/>
                        </a:lnTo>
                        <a:lnTo>
                          <a:pt x="144" y="8"/>
                        </a:lnTo>
                        <a:lnTo>
                          <a:pt x="125" y="3"/>
                        </a:lnTo>
                        <a:lnTo>
                          <a:pt x="104"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45200" y="2901960"/>
                    <a:ext cx="76320" cy="44280"/>
                  </a:xfrm>
                  <a:custGeom>
                    <a:avLst/>
                    <a:gdLst/>
                    <a:ahLst/>
                    <a:rect l="l" t="t" r="r" b="b"/>
                    <a:pathLst>
                      <a:path w="94" h="55">
                        <a:moveTo>
                          <a:pt x="47" y="0"/>
                        </a:moveTo>
                        <a:lnTo>
                          <a:pt x="38" y="1"/>
                        </a:lnTo>
                        <a:lnTo>
                          <a:pt x="29" y="3"/>
                        </a:lnTo>
                        <a:lnTo>
                          <a:pt x="21" y="8"/>
                        </a:lnTo>
                        <a:lnTo>
                          <a:pt x="14" y="14"/>
                        </a:lnTo>
                        <a:lnTo>
                          <a:pt x="8" y="21"/>
                        </a:lnTo>
                        <a:lnTo>
                          <a:pt x="3" y="29"/>
                        </a:lnTo>
                        <a:lnTo>
                          <a:pt x="1" y="38"/>
                        </a:lnTo>
                        <a:lnTo>
                          <a:pt x="0" y="47"/>
                        </a:lnTo>
                        <a:lnTo>
                          <a:pt x="0" y="49"/>
                        </a:lnTo>
                        <a:lnTo>
                          <a:pt x="0" y="51"/>
                        </a:lnTo>
                        <a:lnTo>
                          <a:pt x="0" y="53"/>
                        </a:lnTo>
                        <a:lnTo>
                          <a:pt x="1" y="55"/>
                        </a:lnTo>
                        <a:lnTo>
                          <a:pt x="16" y="51"/>
                        </a:lnTo>
                        <a:lnTo>
                          <a:pt x="16" y="49"/>
                        </a:lnTo>
                        <a:lnTo>
                          <a:pt x="16" y="48"/>
                        </a:lnTo>
                        <a:lnTo>
                          <a:pt x="16" y="48"/>
                        </a:lnTo>
                        <a:lnTo>
                          <a:pt x="16" y="47"/>
                        </a:lnTo>
                        <a:lnTo>
                          <a:pt x="18" y="34"/>
                        </a:lnTo>
                        <a:lnTo>
                          <a:pt x="25" y="25"/>
                        </a:lnTo>
                        <a:lnTo>
                          <a:pt x="34" y="18"/>
                        </a:lnTo>
                        <a:lnTo>
                          <a:pt x="47" y="16"/>
                        </a:lnTo>
                        <a:lnTo>
                          <a:pt x="59" y="18"/>
                        </a:lnTo>
                        <a:lnTo>
                          <a:pt x="68" y="25"/>
                        </a:lnTo>
                        <a:lnTo>
                          <a:pt x="75" y="34"/>
                        </a:lnTo>
                        <a:lnTo>
                          <a:pt x="78" y="46"/>
                        </a:lnTo>
                        <a:lnTo>
                          <a:pt x="93" y="51"/>
                        </a:lnTo>
                        <a:lnTo>
                          <a:pt x="93" y="49"/>
                        </a:lnTo>
                        <a:lnTo>
                          <a:pt x="94" y="48"/>
                        </a:lnTo>
                        <a:lnTo>
                          <a:pt x="94" y="48"/>
                        </a:lnTo>
                        <a:lnTo>
                          <a:pt x="94" y="47"/>
                        </a:lnTo>
                        <a:lnTo>
                          <a:pt x="93" y="38"/>
                        </a:lnTo>
                        <a:lnTo>
                          <a:pt x="91" y="29"/>
                        </a:lnTo>
                        <a:lnTo>
                          <a:pt x="86" y="21"/>
                        </a:lnTo>
                        <a:lnTo>
                          <a:pt x="80" y="14"/>
                        </a:lnTo>
                        <a:lnTo>
                          <a:pt x="74" y="8"/>
                        </a:lnTo>
                        <a:lnTo>
                          <a:pt x="65" y="3"/>
                        </a:lnTo>
                        <a:lnTo>
                          <a:pt x="56" y="1"/>
                        </a:lnTo>
                        <a:lnTo>
                          <a:pt x="47"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04" name=""/>
                  <p:cNvSpPr/>
                  <p:nvPr/>
                </p:nvSpPr>
                <p:spPr>
                  <a:xfrm>
                    <a:off x="6146640" y="2938320"/>
                    <a:ext cx="73080" cy="38160"/>
                  </a:xfrm>
                  <a:custGeom>
                    <a:avLst/>
                    <a:gdLst/>
                    <a:ahLst/>
                    <a:rect l="l" t="t" r="r" b="b"/>
                    <a:pathLst>
                      <a:path w="92" h="48">
                        <a:moveTo>
                          <a:pt x="77" y="1"/>
                        </a:moveTo>
                        <a:lnTo>
                          <a:pt x="75" y="14"/>
                        </a:lnTo>
                        <a:lnTo>
                          <a:pt x="68" y="23"/>
                        </a:lnTo>
                        <a:lnTo>
                          <a:pt x="59" y="30"/>
                        </a:lnTo>
                        <a:lnTo>
                          <a:pt x="46" y="32"/>
                        </a:lnTo>
                        <a:lnTo>
                          <a:pt x="35" y="30"/>
                        </a:lnTo>
                        <a:lnTo>
                          <a:pt x="25" y="24"/>
                        </a:lnTo>
                        <a:lnTo>
                          <a:pt x="18" y="16"/>
                        </a:lnTo>
                        <a:lnTo>
                          <a:pt x="15" y="5"/>
                        </a:lnTo>
                        <a:lnTo>
                          <a:pt x="0" y="9"/>
                        </a:lnTo>
                        <a:lnTo>
                          <a:pt x="2" y="17"/>
                        </a:lnTo>
                        <a:lnTo>
                          <a:pt x="6" y="24"/>
                        </a:lnTo>
                        <a:lnTo>
                          <a:pt x="10" y="31"/>
                        </a:lnTo>
                        <a:lnTo>
                          <a:pt x="16" y="37"/>
                        </a:lnTo>
                        <a:lnTo>
                          <a:pt x="22" y="41"/>
                        </a:lnTo>
                        <a:lnTo>
                          <a:pt x="30" y="45"/>
                        </a:lnTo>
                        <a:lnTo>
                          <a:pt x="38" y="47"/>
                        </a:lnTo>
                        <a:lnTo>
                          <a:pt x="46" y="48"/>
                        </a:lnTo>
                        <a:lnTo>
                          <a:pt x="55" y="47"/>
                        </a:lnTo>
                        <a:lnTo>
                          <a:pt x="63" y="45"/>
                        </a:lnTo>
                        <a:lnTo>
                          <a:pt x="71" y="41"/>
                        </a:lnTo>
                        <a:lnTo>
                          <a:pt x="78" y="36"/>
                        </a:lnTo>
                        <a:lnTo>
                          <a:pt x="83" y="29"/>
                        </a:lnTo>
                        <a:lnTo>
                          <a:pt x="88" y="22"/>
                        </a:lnTo>
                        <a:lnTo>
                          <a:pt x="91" y="14"/>
                        </a:lnTo>
                        <a:lnTo>
                          <a:pt x="92" y="5"/>
                        </a:lnTo>
                        <a:lnTo>
                          <a:pt x="77" y="0"/>
                        </a:lnTo>
                        <a:lnTo>
                          <a:pt x="77" y="1"/>
                        </a:lnTo>
                        <a:lnTo>
                          <a:pt x="77" y="1"/>
                        </a:lnTo>
                        <a:lnTo>
                          <a:pt x="77" y="1"/>
                        </a:lnTo>
                        <a:lnTo>
                          <a:pt x="77" y="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05" name=""/>
                  <p:cNvSpPr/>
                  <p:nvPr/>
                </p:nvSpPr>
                <p:spPr>
                  <a:xfrm>
                    <a:off x="6762600" y="2841480"/>
                    <a:ext cx="165240" cy="149400"/>
                  </a:xfrm>
                  <a:custGeom>
                    <a:avLst/>
                    <a:gdLst/>
                    <a:ahLst/>
                    <a:rect l="l" t="t" r="r" b="b"/>
                    <a:pathLst>
                      <a:path w="208" h="188">
                        <a:moveTo>
                          <a:pt x="208" y="104"/>
                        </a:moveTo>
                        <a:lnTo>
                          <a:pt x="205" y="83"/>
                        </a:lnTo>
                        <a:lnTo>
                          <a:pt x="200" y="63"/>
                        </a:lnTo>
                        <a:lnTo>
                          <a:pt x="189" y="46"/>
                        </a:lnTo>
                        <a:lnTo>
                          <a:pt x="177" y="31"/>
                        </a:lnTo>
                        <a:lnTo>
                          <a:pt x="162" y="18"/>
                        </a:lnTo>
                        <a:lnTo>
                          <a:pt x="144" y="8"/>
                        </a:lnTo>
                        <a:lnTo>
                          <a:pt x="125" y="2"/>
                        </a:lnTo>
                        <a:lnTo>
                          <a:pt x="104" y="0"/>
                        </a:lnTo>
                        <a:lnTo>
                          <a:pt x="83" y="2"/>
                        </a:lnTo>
                        <a:lnTo>
                          <a:pt x="64" y="8"/>
                        </a:lnTo>
                        <a:lnTo>
                          <a:pt x="46" y="18"/>
                        </a:lnTo>
                        <a:lnTo>
                          <a:pt x="30" y="31"/>
                        </a:lnTo>
                        <a:lnTo>
                          <a:pt x="18" y="46"/>
                        </a:lnTo>
                        <a:lnTo>
                          <a:pt x="8" y="63"/>
                        </a:lnTo>
                        <a:lnTo>
                          <a:pt x="3" y="83"/>
                        </a:lnTo>
                        <a:lnTo>
                          <a:pt x="0" y="104"/>
                        </a:lnTo>
                        <a:lnTo>
                          <a:pt x="0" y="109"/>
                        </a:lnTo>
                        <a:lnTo>
                          <a:pt x="2" y="114"/>
                        </a:lnTo>
                        <a:lnTo>
                          <a:pt x="2" y="120"/>
                        </a:lnTo>
                        <a:lnTo>
                          <a:pt x="3" y="126"/>
                        </a:lnTo>
                        <a:lnTo>
                          <a:pt x="19" y="122"/>
                        </a:lnTo>
                        <a:lnTo>
                          <a:pt x="18" y="118"/>
                        </a:lnTo>
                        <a:lnTo>
                          <a:pt x="18" y="113"/>
                        </a:lnTo>
                        <a:lnTo>
                          <a:pt x="16" y="108"/>
                        </a:lnTo>
                        <a:lnTo>
                          <a:pt x="16" y="104"/>
                        </a:lnTo>
                        <a:lnTo>
                          <a:pt x="19" y="86"/>
                        </a:lnTo>
                        <a:lnTo>
                          <a:pt x="23" y="69"/>
                        </a:lnTo>
                        <a:lnTo>
                          <a:pt x="31" y="54"/>
                        </a:lnTo>
                        <a:lnTo>
                          <a:pt x="42" y="41"/>
                        </a:lnTo>
                        <a:lnTo>
                          <a:pt x="54" y="31"/>
                        </a:lnTo>
                        <a:lnTo>
                          <a:pt x="69" y="23"/>
                        </a:lnTo>
                        <a:lnTo>
                          <a:pt x="87" y="18"/>
                        </a:lnTo>
                        <a:lnTo>
                          <a:pt x="104" y="16"/>
                        </a:lnTo>
                        <a:lnTo>
                          <a:pt x="121" y="18"/>
                        </a:lnTo>
                        <a:lnTo>
                          <a:pt x="139" y="23"/>
                        </a:lnTo>
                        <a:lnTo>
                          <a:pt x="154" y="31"/>
                        </a:lnTo>
                        <a:lnTo>
                          <a:pt x="166" y="41"/>
                        </a:lnTo>
                        <a:lnTo>
                          <a:pt x="177" y="54"/>
                        </a:lnTo>
                        <a:lnTo>
                          <a:pt x="185" y="69"/>
                        </a:lnTo>
                        <a:lnTo>
                          <a:pt x="189" y="86"/>
                        </a:lnTo>
                        <a:lnTo>
                          <a:pt x="192" y="104"/>
                        </a:lnTo>
                        <a:lnTo>
                          <a:pt x="190" y="115"/>
                        </a:lnTo>
                        <a:lnTo>
                          <a:pt x="189" y="126"/>
                        </a:lnTo>
                        <a:lnTo>
                          <a:pt x="186" y="135"/>
                        </a:lnTo>
                        <a:lnTo>
                          <a:pt x="181" y="144"/>
                        </a:lnTo>
                        <a:lnTo>
                          <a:pt x="175" y="153"/>
                        </a:lnTo>
                        <a:lnTo>
                          <a:pt x="170" y="161"/>
                        </a:lnTo>
                        <a:lnTo>
                          <a:pt x="162" y="168"/>
                        </a:lnTo>
                        <a:lnTo>
                          <a:pt x="154" y="175"/>
                        </a:lnTo>
                        <a:lnTo>
                          <a:pt x="164" y="188"/>
                        </a:lnTo>
                        <a:lnTo>
                          <a:pt x="173" y="180"/>
                        </a:lnTo>
                        <a:lnTo>
                          <a:pt x="182" y="172"/>
                        </a:lnTo>
                        <a:lnTo>
                          <a:pt x="189" y="162"/>
                        </a:lnTo>
                        <a:lnTo>
                          <a:pt x="196" y="152"/>
                        </a:lnTo>
                        <a:lnTo>
                          <a:pt x="201" y="141"/>
                        </a:lnTo>
                        <a:lnTo>
                          <a:pt x="204" y="129"/>
                        </a:lnTo>
                        <a:lnTo>
                          <a:pt x="207" y="116"/>
                        </a:lnTo>
                        <a:lnTo>
                          <a:pt x="208" y="10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6" name=""/>
                  <p:cNvSpPr/>
                  <p:nvPr/>
                </p:nvSpPr>
                <p:spPr>
                  <a:xfrm>
                    <a:off x="6764400" y="2940120"/>
                    <a:ext cx="128520" cy="66600"/>
                  </a:xfrm>
                  <a:custGeom>
                    <a:avLst/>
                    <a:gdLst/>
                    <a:ahLst/>
                    <a:rect l="l" t="t" r="r" b="b"/>
                    <a:pathLst>
                      <a:path w="161" h="85">
                        <a:moveTo>
                          <a:pt x="101" y="69"/>
                        </a:moveTo>
                        <a:lnTo>
                          <a:pt x="86" y="68"/>
                        </a:lnTo>
                        <a:lnTo>
                          <a:pt x="71" y="64"/>
                        </a:lnTo>
                        <a:lnTo>
                          <a:pt x="58" y="58"/>
                        </a:lnTo>
                        <a:lnTo>
                          <a:pt x="46" y="50"/>
                        </a:lnTo>
                        <a:lnTo>
                          <a:pt x="35" y="39"/>
                        </a:lnTo>
                        <a:lnTo>
                          <a:pt x="26" y="28"/>
                        </a:lnTo>
                        <a:lnTo>
                          <a:pt x="20" y="14"/>
                        </a:lnTo>
                        <a:lnTo>
                          <a:pt x="16" y="0"/>
                        </a:lnTo>
                        <a:lnTo>
                          <a:pt x="0" y="4"/>
                        </a:lnTo>
                        <a:lnTo>
                          <a:pt x="5" y="21"/>
                        </a:lnTo>
                        <a:lnTo>
                          <a:pt x="13" y="36"/>
                        </a:lnTo>
                        <a:lnTo>
                          <a:pt x="23" y="50"/>
                        </a:lnTo>
                        <a:lnTo>
                          <a:pt x="35" y="61"/>
                        </a:lnTo>
                        <a:lnTo>
                          <a:pt x="50" y="72"/>
                        </a:lnTo>
                        <a:lnTo>
                          <a:pt x="65" y="80"/>
                        </a:lnTo>
                        <a:lnTo>
                          <a:pt x="83" y="84"/>
                        </a:lnTo>
                        <a:lnTo>
                          <a:pt x="101" y="85"/>
                        </a:lnTo>
                        <a:lnTo>
                          <a:pt x="109" y="85"/>
                        </a:lnTo>
                        <a:lnTo>
                          <a:pt x="117" y="84"/>
                        </a:lnTo>
                        <a:lnTo>
                          <a:pt x="125" y="83"/>
                        </a:lnTo>
                        <a:lnTo>
                          <a:pt x="133" y="81"/>
                        </a:lnTo>
                        <a:lnTo>
                          <a:pt x="140" y="77"/>
                        </a:lnTo>
                        <a:lnTo>
                          <a:pt x="147" y="74"/>
                        </a:lnTo>
                        <a:lnTo>
                          <a:pt x="154" y="70"/>
                        </a:lnTo>
                        <a:lnTo>
                          <a:pt x="161" y="66"/>
                        </a:lnTo>
                        <a:lnTo>
                          <a:pt x="151" y="53"/>
                        </a:lnTo>
                        <a:lnTo>
                          <a:pt x="145" y="57"/>
                        </a:lnTo>
                        <a:lnTo>
                          <a:pt x="139" y="60"/>
                        </a:lnTo>
                        <a:lnTo>
                          <a:pt x="133" y="62"/>
                        </a:lnTo>
                        <a:lnTo>
                          <a:pt x="128" y="65"/>
                        </a:lnTo>
                        <a:lnTo>
                          <a:pt x="121" y="67"/>
                        </a:lnTo>
                        <a:lnTo>
                          <a:pt x="115" y="68"/>
                        </a:lnTo>
                        <a:lnTo>
                          <a:pt x="108" y="69"/>
                        </a:lnTo>
                        <a:lnTo>
                          <a:pt x="101" y="6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07" name=""/>
                  <p:cNvSpPr/>
                  <p:nvPr/>
                </p:nvSpPr>
                <p:spPr>
                  <a:xfrm>
                    <a:off x="6808680" y="2932200"/>
                    <a:ext cx="57240" cy="30240"/>
                  </a:xfrm>
                  <a:custGeom>
                    <a:avLst/>
                    <a:gdLst/>
                    <a:ahLst/>
                    <a:rect l="l" t="t" r="r" b="b"/>
                    <a:pathLst>
                      <a:path w="71" h="38">
                        <a:moveTo>
                          <a:pt x="46" y="22"/>
                        </a:moveTo>
                        <a:lnTo>
                          <a:pt x="36" y="21"/>
                        </a:lnTo>
                        <a:lnTo>
                          <a:pt x="28" y="16"/>
                        </a:lnTo>
                        <a:lnTo>
                          <a:pt x="21" y="9"/>
                        </a:lnTo>
                        <a:lnTo>
                          <a:pt x="16" y="0"/>
                        </a:lnTo>
                        <a:lnTo>
                          <a:pt x="0" y="2"/>
                        </a:lnTo>
                        <a:lnTo>
                          <a:pt x="2" y="9"/>
                        </a:lnTo>
                        <a:lnTo>
                          <a:pt x="7" y="16"/>
                        </a:lnTo>
                        <a:lnTo>
                          <a:pt x="11" y="23"/>
                        </a:lnTo>
                        <a:lnTo>
                          <a:pt x="17" y="28"/>
                        </a:lnTo>
                        <a:lnTo>
                          <a:pt x="23" y="32"/>
                        </a:lnTo>
                        <a:lnTo>
                          <a:pt x="30" y="36"/>
                        </a:lnTo>
                        <a:lnTo>
                          <a:pt x="38" y="37"/>
                        </a:lnTo>
                        <a:lnTo>
                          <a:pt x="46" y="38"/>
                        </a:lnTo>
                        <a:lnTo>
                          <a:pt x="53" y="37"/>
                        </a:lnTo>
                        <a:lnTo>
                          <a:pt x="60" y="36"/>
                        </a:lnTo>
                        <a:lnTo>
                          <a:pt x="66" y="33"/>
                        </a:lnTo>
                        <a:lnTo>
                          <a:pt x="71" y="30"/>
                        </a:lnTo>
                        <a:lnTo>
                          <a:pt x="62" y="17"/>
                        </a:lnTo>
                        <a:lnTo>
                          <a:pt x="59" y="18"/>
                        </a:lnTo>
                        <a:lnTo>
                          <a:pt x="54" y="21"/>
                        </a:lnTo>
                        <a:lnTo>
                          <a:pt x="51" y="22"/>
                        </a:lnTo>
                        <a:lnTo>
                          <a:pt x="46"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08" name=""/>
                  <p:cNvSpPr/>
                  <p:nvPr/>
                </p:nvSpPr>
                <p:spPr>
                  <a:xfrm>
                    <a:off x="6807240" y="2887560"/>
                    <a:ext cx="76320" cy="68400"/>
                  </a:xfrm>
                  <a:custGeom>
                    <a:avLst/>
                    <a:gdLst/>
                    <a:ahLst/>
                    <a:rect l="l" t="t" r="r" b="b"/>
                    <a:pathLst>
                      <a:path w="94" h="87">
                        <a:moveTo>
                          <a:pt x="94" y="48"/>
                        </a:moveTo>
                        <a:lnTo>
                          <a:pt x="93" y="38"/>
                        </a:lnTo>
                        <a:lnTo>
                          <a:pt x="91" y="29"/>
                        </a:lnTo>
                        <a:lnTo>
                          <a:pt x="86" y="21"/>
                        </a:lnTo>
                        <a:lnTo>
                          <a:pt x="80" y="14"/>
                        </a:lnTo>
                        <a:lnTo>
                          <a:pt x="74" y="9"/>
                        </a:lnTo>
                        <a:lnTo>
                          <a:pt x="65" y="4"/>
                        </a:lnTo>
                        <a:lnTo>
                          <a:pt x="56" y="2"/>
                        </a:lnTo>
                        <a:lnTo>
                          <a:pt x="47" y="0"/>
                        </a:lnTo>
                        <a:lnTo>
                          <a:pt x="38" y="2"/>
                        </a:lnTo>
                        <a:lnTo>
                          <a:pt x="29" y="4"/>
                        </a:lnTo>
                        <a:lnTo>
                          <a:pt x="21" y="9"/>
                        </a:lnTo>
                        <a:lnTo>
                          <a:pt x="14" y="14"/>
                        </a:lnTo>
                        <a:lnTo>
                          <a:pt x="8" y="21"/>
                        </a:lnTo>
                        <a:lnTo>
                          <a:pt x="3" y="29"/>
                        </a:lnTo>
                        <a:lnTo>
                          <a:pt x="1" y="38"/>
                        </a:lnTo>
                        <a:lnTo>
                          <a:pt x="0" y="48"/>
                        </a:lnTo>
                        <a:lnTo>
                          <a:pt x="0" y="51"/>
                        </a:lnTo>
                        <a:lnTo>
                          <a:pt x="1" y="53"/>
                        </a:lnTo>
                        <a:lnTo>
                          <a:pt x="1" y="57"/>
                        </a:lnTo>
                        <a:lnTo>
                          <a:pt x="1" y="59"/>
                        </a:lnTo>
                        <a:lnTo>
                          <a:pt x="17" y="57"/>
                        </a:lnTo>
                        <a:lnTo>
                          <a:pt x="16" y="55"/>
                        </a:lnTo>
                        <a:lnTo>
                          <a:pt x="16" y="52"/>
                        </a:lnTo>
                        <a:lnTo>
                          <a:pt x="16" y="50"/>
                        </a:lnTo>
                        <a:lnTo>
                          <a:pt x="16" y="48"/>
                        </a:lnTo>
                        <a:lnTo>
                          <a:pt x="18" y="35"/>
                        </a:lnTo>
                        <a:lnTo>
                          <a:pt x="25" y="26"/>
                        </a:lnTo>
                        <a:lnTo>
                          <a:pt x="34" y="19"/>
                        </a:lnTo>
                        <a:lnTo>
                          <a:pt x="47" y="17"/>
                        </a:lnTo>
                        <a:lnTo>
                          <a:pt x="60" y="19"/>
                        </a:lnTo>
                        <a:lnTo>
                          <a:pt x="69" y="26"/>
                        </a:lnTo>
                        <a:lnTo>
                          <a:pt x="76" y="35"/>
                        </a:lnTo>
                        <a:lnTo>
                          <a:pt x="78" y="48"/>
                        </a:lnTo>
                        <a:lnTo>
                          <a:pt x="77" y="56"/>
                        </a:lnTo>
                        <a:lnTo>
                          <a:pt x="75" y="63"/>
                        </a:lnTo>
                        <a:lnTo>
                          <a:pt x="69" y="70"/>
                        </a:lnTo>
                        <a:lnTo>
                          <a:pt x="63" y="74"/>
                        </a:lnTo>
                        <a:lnTo>
                          <a:pt x="72" y="87"/>
                        </a:lnTo>
                        <a:lnTo>
                          <a:pt x="82" y="80"/>
                        </a:lnTo>
                        <a:lnTo>
                          <a:pt x="88" y="71"/>
                        </a:lnTo>
                        <a:lnTo>
                          <a:pt x="93" y="59"/>
                        </a:lnTo>
                        <a:lnTo>
                          <a:pt x="94" y="4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09" name=""/>
                  <p:cNvSpPr/>
                  <p:nvPr/>
                </p:nvSpPr>
                <p:spPr>
                  <a:xfrm>
                    <a:off x="6346800" y="2658960"/>
                    <a:ext cx="177840" cy="90720"/>
                  </a:xfrm>
                  <a:custGeom>
                    <a:avLst/>
                    <a:gdLst/>
                    <a:ahLst/>
                    <a:rect l="l" t="t" r="r" b="b"/>
                    <a:pathLst>
                      <a:path w="226" h="115">
                        <a:moveTo>
                          <a:pt x="4" y="103"/>
                        </a:moveTo>
                        <a:lnTo>
                          <a:pt x="9" y="106"/>
                        </a:lnTo>
                        <a:lnTo>
                          <a:pt x="17" y="109"/>
                        </a:lnTo>
                        <a:lnTo>
                          <a:pt x="28" y="111"/>
                        </a:lnTo>
                        <a:lnTo>
                          <a:pt x="42" y="112"/>
                        </a:lnTo>
                        <a:lnTo>
                          <a:pt x="57" y="113"/>
                        </a:lnTo>
                        <a:lnTo>
                          <a:pt x="73" y="115"/>
                        </a:lnTo>
                        <a:lnTo>
                          <a:pt x="90" y="115"/>
                        </a:lnTo>
                        <a:lnTo>
                          <a:pt x="108" y="115"/>
                        </a:lnTo>
                        <a:lnTo>
                          <a:pt x="126" y="113"/>
                        </a:lnTo>
                        <a:lnTo>
                          <a:pt x="143" y="112"/>
                        </a:lnTo>
                        <a:lnTo>
                          <a:pt x="160" y="112"/>
                        </a:lnTo>
                        <a:lnTo>
                          <a:pt x="176" y="111"/>
                        </a:lnTo>
                        <a:lnTo>
                          <a:pt x="190" y="110"/>
                        </a:lnTo>
                        <a:lnTo>
                          <a:pt x="202" y="108"/>
                        </a:lnTo>
                        <a:lnTo>
                          <a:pt x="212" y="106"/>
                        </a:lnTo>
                        <a:lnTo>
                          <a:pt x="219" y="105"/>
                        </a:lnTo>
                        <a:lnTo>
                          <a:pt x="226" y="104"/>
                        </a:lnTo>
                        <a:lnTo>
                          <a:pt x="226" y="0"/>
                        </a:lnTo>
                        <a:lnTo>
                          <a:pt x="210" y="2"/>
                        </a:lnTo>
                        <a:lnTo>
                          <a:pt x="210" y="27"/>
                        </a:lnTo>
                        <a:lnTo>
                          <a:pt x="210" y="55"/>
                        </a:lnTo>
                        <a:lnTo>
                          <a:pt x="210" y="78"/>
                        </a:lnTo>
                        <a:lnTo>
                          <a:pt x="210" y="92"/>
                        </a:lnTo>
                        <a:lnTo>
                          <a:pt x="201" y="93"/>
                        </a:lnTo>
                        <a:lnTo>
                          <a:pt x="190" y="94"/>
                        </a:lnTo>
                        <a:lnTo>
                          <a:pt x="177" y="95"/>
                        </a:lnTo>
                        <a:lnTo>
                          <a:pt x="165" y="96"/>
                        </a:lnTo>
                        <a:lnTo>
                          <a:pt x="150" y="97"/>
                        </a:lnTo>
                        <a:lnTo>
                          <a:pt x="136" y="97"/>
                        </a:lnTo>
                        <a:lnTo>
                          <a:pt x="121" y="97"/>
                        </a:lnTo>
                        <a:lnTo>
                          <a:pt x="105" y="98"/>
                        </a:lnTo>
                        <a:lnTo>
                          <a:pt x="90" y="98"/>
                        </a:lnTo>
                        <a:lnTo>
                          <a:pt x="76" y="98"/>
                        </a:lnTo>
                        <a:lnTo>
                          <a:pt x="62" y="98"/>
                        </a:lnTo>
                        <a:lnTo>
                          <a:pt x="50" y="97"/>
                        </a:lnTo>
                        <a:lnTo>
                          <a:pt x="39" y="96"/>
                        </a:lnTo>
                        <a:lnTo>
                          <a:pt x="30" y="95"/>
                        </a:lnTo>
                        <a:lnTo>
                          <a:pt x="22" y="94"/>
                        </a:lnTo>
                        <a:lnTo>
                          <a:pt x="17" y="93"/>
                        </a:lnTo>
                        <a:lnTo>
                          <a:pt x="21" y="86"/>
                        </a:lnTo>
                        <a:lnTo>
                          <a:pt x="25" y="78"/>
                        </a:lnTo>
                        <a:lnTo>
                          <a:pt x="32" y="67"/>
                        </a:lnTo>
                        <a:lnTo>
                          <a:pt x="40" y="55"/>
                        </a:lnTo>
                        <a:lnTo>
                          <a:pt x="50" y="42"/>
                        </a:lnTo>
                        <a:lnTo>
                          <a:pt x="59" y="29"/>
                        </a:lnTo>
                        <a:lnTo>
                          <a:pt x="69" y="15"/>
                        </a:lnTo>
                        <a:lnTo>
                          <a:pt x="78" y="3"/>
                        </a:lnTo>
                        <a:lnTo>
                          <a:pt x="59" y="4"/>
                        </a:lnTo>
                        <a:lnTo>
                          <a:pt x="50" y="15"/>
                        </a:lnTo>
                        <a:lnTo>
                          <a:pt x="40" y="28"/>
                        </a:lnTo>
                        <a:lnTo>
                          <a:pt x="31" y="41"/>
                        </a:lnTo>
                        <a:lnTo>
                          <a:pt x="22" y="53"/>
                        </a:lnTo>
                        <a:lnTo>
                          <a:pt x="14" y="66"/>
                        </a:lnTo>
                        <a:lnTo>
                          <a:pt x="7" y="77"/>
                        </a:lnTo>
                        <a:lnTo>
                          <a:pt x="2" y="86"/>
                        </a:lnTo>
                        <a:lnTo>
                          <a:pt x="0" y="93"/>
                        </a:lnTo>
                        <a:lnTo>
                          <a:pt x="0" y="95"/>
                        </a:lnTo>
                        <a:lnTo>
                          <a:pt x="0" y="97"/>
                        </a:lnTo>
                        <a:lnTo>
                          <a:pt x="2" y="101"/>
                        </a:lnTo>
                        <a:lnTo>
                          <a:pt x="4" y="10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10" name=""/>
                  <p:cNvSpPr/>
                  <p:nvPr/>
                </p:nvSpPr>
                <p:spPr>
                  <a:xfrm>
                    <a:off x="6392880" y="2629080"/>
                    <a:ext cx="131760" cy="33120"/>
                  </a:xfrm>
                  <a:custGeom>
                    <a:avLst/>
                    <a:gdLst/>
                    <a:ahLst/>
                    <a:rect l="l" t="t" r="r" b="b"/>
                    <a:pathLst>
                      <a:path w="167" h="43">
                        <a:moveTo>
                          <a:pt x="32" y="27"/>
                        </a:moveTo>
                        <a:lnTo>
                          <a:pt x="41" y="23"/>
                        </a:lnTo>
                        <a:lnTo>
                          <a:pt x="54" y="21"/>
                        </a:lnTo>
                        <a:lnTo>
                          <a:pt x="70" y="19"/>
                        </a:lnTo>
                        <a:lnTo>
                          <a:pt x="86" y="18"/>
                        </a:lnTo>
                        <a:lnTo>
                          <a:pt x="105" y="16"/>
                        </a:lnTo>
                        <a:lnTo>
                          <a:pt x="121" y="16"/>
                        </a:lnTo>
                        <a:lnTo>
                          <a:pt x="137" y="16"/>
                        </a:lnTo>
                        <a:lnTo>
                          <a:pt x="151" y="16"/>
                        </a:lnTo>
                        <a:lnTo>
                          <a:pt x="151" y="20"/>
                        </a:lnTo>
                        <a:lnTo>
                          <a:pt x="151" y="26"/>
                        </a:lnTo>
                        <a:lnTo>
                          <a:pt x="151" y="33"/>
                        </a:lnTo>
                        <a:lnTo>
                          <a:pt x="151" y="41"/>
                        </a:lnTo>
                        <a:lnTo>
                          <a:pt x="167" y="39"/>
                        </a:lnTo>
                        <a:lnTo>
                          <a:pt x="167" y="1"/>
                        </a:lnTo>
                        <a:lnTo>
                          <a:pt x="159" y="1"/>
                        </a:lnTo>
                        <a:lnTo>
                          <a:pt x="151" y="1"/>
                        </a:lnTo>
                        <a:lnTo>
                          <a:pt x="137" y="0"/>
                        </a:lnTo>
                        <a:lnTo>
                          <a:pt x="118" y="0"/>
                        </a:lnTo>
                        <a:lnTo>
                          <a:pt x="98" y="0"/>
                        </a:lnTo>
                        <a:lnTo>
                          <a:pt x="76" y="3"/>
                        </a:lnTo>
                        <a:lnTo>
                          <a:pt x="54" y="5"/>
                        </a:lnTo>
                        <a:lnTo>
                          <a:pt x="37" y="8"/>
                        </a:lnTo>
                        <a:lnTo>
                          <a:pt x="23" y="14"/>
                        </a:lnTo>
                        <a:lnTo>
                          <a:pt x="22" y="14"/>
                        </a:lnTo>
                        <a:lnTo>
                          <a:pt x="21" y="15"/>
                        </a:lnTo>
                        <a:lnTo>
                          <a:pt x="17" y="20"/>
                        </a:lnTo>
                        <a:lnTo>
                          <a:pt x="13" y="26"/>
                        </a:lnTo>
                        <a:lnTo>
                          <a:pt x="7" y="34"/>
                        </a:lnTo>
                        <a:lnTo>
                          <a:pt x="0" y="43"/>
                        </a:lnTo>
                        <a:lnTo>
                          <a:pt x="19" y="42"/>
                        </a:lnTo>
                        <a:lnTo>
                          <a:pt x="23" y="38"/>
                        </a:lnTo>
                        <a:lnTo>
                          <a:pt x="26" y="34"/>
                        </a:lnTo>
                        <a:lnTo>
                          <a:pt x="29" y="30"/>
                        </a:lnTo>
                        <a:lnTo>
                          <a:pt x="32" y="2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511" name=""/>
                  <p:cNvSpPr/>
                  <p:nvPr/>
                </p:nvSpPr>
                <p:spPr>
                  <a:xfrm>
                    <a:off x="6575400" y="2655720"/>
                    <a:ext cx="166680" cy="87480"/>
                  </a:xfrm>
                  <a:custGeom>
                    <a:avLst/>
                    <a:gdLst/>
                    <a:ahLst/>
                    <a:rect l="l" t="t" r="r" b="b"/>
                    <a:pathLst>
                      <a:path w="210" h="109">
                        <a:moveTo>
                          <a:pt x="210" y="105"/>
                        </a:moveTo>
                        <a:lnTo>
                          <a:pt x="193" y="0"/>
                        </a:lnTo>
                        <a:lnTo>
                          <a:pt x="176" y="0"/>
                        </a:lnTo>
                        <a:lnTo>
                          <a:pt x="180" y="24"/>
                        </a:lnTo>
                        <a:lnTo>
                          <a:pt x="185" y="51"/>
                        </a:lnTo>
                        <a:lnTo>
                          <a:pt x="188" y="75"/>
                        </a:lnTo>
                        <a:lnTo>
                          <a:pt x="190" y="89"/>
                        </a:lnTo>
                        <a:lnTo>
                          <a:pt x="179" y="89"/>
                        </a:lnTo>
                        <a:lnTo>
                          <a:pt x="159" y="90"/>
                        </a:lnTo>
                        <a:lnTo>
                          <a:pt x="134" y="90"/>
                        </a:lnTo>
                        <a:lnTo>
                          <a:pt x="105" y="91"/>
                        </a:lnTo>
                        <a:lnTo>
                          <a:pt x="76" y="92"/>
                        </a:lnTo>
                        <a:lnTo>
                          <a:pt x="51" y="92"/>
                        </a:lnTo>
                        <a:lnTo>
                          <a:pt x="31" y="93"/>
                        </a:lnTo>
                        <a:lnTo>
                          <a:pt x="21" y="93"/>
                        </a:lnTo>
                        <a:lnTo>
                          <a:pt x="21" y="80"/>
                        </a:lnTo>
                        <a:lnTo>
                          <a:pt x="19" y="55"/>
                        </a:lnTo>
                        <a:lnTo>
                          <a:pt x="18" y="28"/>
                        </a:lnTo>
                        <a:lnTo>
                          <a:pt x="16" y="2"/>
                        </a:lnTo>
                        <a:lnTo>
                          <a:pt x="0" y="3"/>
                        </a:lnTo>
                        <a:lnTo>
                          <a:pt x="6" y="109"/>
                        </a:lnTo>
                        <a:lnTo>
                          <a:pt x="210" y="10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512" name=""/>
                  <p:cNvSpPr/>
                  <p:nvPr/>
                </p:nvSpPr>
                <p:spPr>
                  <a:xfrm>
                    <a:off x="6573960" y="2631960"/>
                    <a:ext cx="153720" cy="27000"/>
                  </a:xfrm>
                  <a:custGeom>
                    <a:avLst/>
                    <a:gdLst/>
                    <a:ahLst/>
                    <a:rect l="l" t="t" r="r" b="b"/>
                    <a:pathLst>
                      <a:path w="195" h="34">
                        <a:moveTo>
                          <a:pt x="17" y="16"/>
                        </a:moveTo>
                        <a:lnTo>
                          <a:pt x="28" y="16"/>
                        </a:lnTo>
                        <a:lnTo>
                          <a:pt x="46" y="16"/>
                        </a:lnTo>
                        <a:lnTo>
                          <a:pt x="70" y="16"/>
                        </a:lnTo>
                        <a:lnTo>
                          <a:pt x="97" y="16"/>
                        </a:lnTo>
                        <a:lnTo>
                          <a:pt x="124" y="16"/>
                        </a:lnTo>
                        <a:lnTo>
                          <a:pt x="147" y="16"/>
                        </a:lnTo>
                        <a:lnTo>
                          <a:pt x="166" y="16"/>
                        </a:lnTo>
                        <a:lnTo>
                          <a:pt x="176" y="16"/>
                        </a:lnTo>
                        <a:lnTo>
                          <a:pt x="176" y="18"/>
                        </a:lnTo>
                        <a:lnTo>
                          <a:pt x="177" y="22"/>
                        </a:lnTo>
                        <a:lnTo>
                          <a:pt x="177" y="26"/>
                        </a:lnTo>
                        <a:lnTo>
                          <a:pt x="178" y="31"/>
                        </a:lnTo>
                        <a:lnTo>
                          <a:pt x="195" y="31"/>
                        </a:lnTo>
                        <a:lnTo>
                          <a:pt x="190" y="0"/>
                        </a:lnTo>
                        <a:lnTo>
                          <a:pt x="183" y="0"/>
                        </a:lnTo>
                        <a:lnTo>
                          <a:pt x="0" y="0"/>
                        </a:lnTo>
                        <a:lnTo>
                          <a:pt x="2" y="34"/>
                        </a:lnTo>
                        <a:lnTo>
                          <a:pt x="18" y="33"/>
                        </a:lnTo>
                        <a:lnTo>
                          <a:pt x="17" y="28"/>
                        </a:lnTo>
                        <a:lnTo>
                          <a:pt x="17" y="23"/>
                        </a:lnTo>
                        <a:lnTo>
                          <a:pt x="17" y="18"/>
                        </a:lnTo>
                        <a:lnTo>
                          <a:pt x="17" y="1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13" name=""/>
                  <p:cNvSpPr/>
                  <p:nvPr/>
                </p:nvSpPr>
                <p:spPr>
                  <a:xfrm>
                    <a:off x="5964120" y="2637000"/>
                    <a:ext cx="1104840" cy="290520"/>
                  </a:xfrm>
                  <a:custGeom>
                    <a:avLst/>
                    <a:gdLst/>
                    <a:ahLst/>
                    <a:rect l="l" t="t" r="r" b="b"/>
                    <a:pathLst>
                      <a:path w="1391" h="365">
                        <a:moveTo>
                          <a:pt x="1383" y="269"/>
                        </a:moveTo>
                        <a:lnTo>
                          <a:pt x="1381" y="260"/>
                        </a:lnTo>
                        <a:lnTo>
                          <a:pt x="1379" y="245"/>
                        </a:lnTo>
                        <a:lnTo>
                          <a:pt x="1379" y="226"/>
                        </a:lnTo>
                        <a:lnTo>
                          <a:pt x="1377" y="207"/>
                        </a:lnTo>
                        <a:lnTo>
                          <a:pt x="1376" y="177"/>
                        </a:lnTo>
                        <a:lnTo>
                          <a:pt x="1375" y="149"/>
                        </a:lnTo>
                        <a:lnTo>
                          <a:pt x="1371" y="126"/>
                        </a:lnTo>
                        <a:lnTo>
                          <a:pt x="1364" y="109"/>
                        </a:lnTo>
                        <a:lnTo>
                          <a:pt x="1360" y="106"/>
                        </a:lnTo>
                        <a:lnTo>
                          <a:pt x="1357" y="102"/>
                        </a:lnTo>
                        <a:lnTo>
                          <a:pt x="1353" y="100"/>
                        </a:lnTo>
                        <a:lnTo>
                          <a:pt x="1349" y="99"/>
                        </a:lnTo>
                        <a:lnTo>
                          <a:pt x="1341" y="99"/>
                        </a:lnTo>
                        <a:lnTo>
                          <a:pt x="1334" y="102"/>
                        </a:lnTo>
                        <a:lnTo>
                          <a:pt x="1327" y="106"/>
                        </a:lnTo>
                        <a:lnTo>
                          <a:pt x="1321" y="110"/>
                        </a:lnTo>
                        <a:lnTo>
                          <a:pt x="1318" y="113"/>
                        </a:lnTo>
                        <a:lnTo>
                          <a:pt x="1313" y="115"/>
                        </a:lnTo>
                        <a:lnTo>
                          <a:pt x="1309" y="117"/>
                        </a:lnTo>
                        <a:lnTo>
                          <a:pt x="1306" y="117"/>
                        </a:lnTo>
                        <a:lnTo>
                          <a:pt x="1305" y="117"/>
                        </a:lnTo>
                        <a:lnTo>
                          <a:pt x="1304" y="116"/>
                        </a:lnTo>
                        <a:lnTo>
                          <a:pt x="1303" y="115"/>
                        </a:lnTo>
                        <a:lnTo>
                          <a:pt x="1301" y="114"/>
                        </a:lnTo>
                        <a:lnTo>
                          <a:pt x="1296" y="108"/>
                        </a:lnTo>
                        <a:lnTo>
                          <a:pt x="1290" y="103"/>
                        </a:lnTo>
                        <a:lnTo>
                          <a:pt x="1284" y="102"/>
                        </a:lnTo>
                        <a:lnTo>
                          <a:pt x="1278" y="102"/>
                        </a:lnTo>
                        <a:lnTo>
                          <a:pt x="1273" y="103"/>
                        </a:lnTo>
                        <a:lnTo>
                          <a:pt x="1267" y="105"/>
                        </a:lnTo>
                        <a:lnTo>
                          <a:pt x="1261" y="107"/>
                        </a:lnTo>
                        <a:lnTo>
                          <a:pt x="1256" y="109"/>
                        </a:lnTo>
                        <a:lnTo>
                          <a:pt x="1247" y="114"/>
                        </a:lnTo>
                        <a:lnTo>
                          <a:pt x="1240" y="116"/>
                        </a:lnTo>
                        <a:lnTo>
                          <a:pt x="1236" y="115"/>
                        </a:lnTo>
                        <a:lnTo>
                          <a:pt x="1231" y="113"/>
                        </a:lnTo>
                        <a:lnTo>
                          <a:pt x="1221" y="105"/>
                        </a:lnTo>
                        <a:lnTo>
                          <a:pt x="1210" y="99"/>
                        </a:lnTo>
                        <a:lnTo>
                          <a:pt x="1200" y="96"/>
                        </a:lnTo>
                        <a:lnTo>
                          <a:pt x="1191" y="95"/>
                        </a:lnTo>
                        <a:lnTo>
                          <a:pt x="1180" y="95"/>
                        </a:lnTo>
                        <a:lnTo>
                          <a:pt x="1172" y="96"/>
                        </a:lnTo>
                        <a:lnTo>
                          <a:pt x="1163" y="99"/>
                        </a:lnTo>
                        <a:lnTo>
                          <a:pt x="1155" y="101"/>
                        </a:lnTo>
                        <a:lnTo>
                          <a:pt x="1148" y="102"/>
                        </a:lnTo>
                        <a:lnTo>
                          <a:pt x="1142" y="103"/>
                        </a:lnTo>
                        <a:lnTo>
                          <a:pt x="1137" y="105"/>
                        </a:lnTo>
                        <a:lnTo>
                          <a:pt x="1132" y="103"/>
                        </a:lnTo>
                        <a:lnTo>
                          <a:pt x="1130" y="101"/>
                        </a:lnTo>
                        <a:lnTo>
                          <a:pt x="1125" y="96"/>
                        </a:lnTo>
                        <a:lnTo>
                          <a:pt x="1121" y="90"/>
                        </a:lnTo>
                        <a:lnTo>
                          <a:pt x="1115" y="80"/>
                        </a:lnTo>
                        <a:lnTo>
                          <a:pt x="1108" y="71"/>
                        </a:lnTo>
                        <a:lnTo>
                          <a:pt x="1102" y="62"/>
                        </a:lnTo>
                        <a:lnTo>
                          <a:pt x="1095" y="52"/>
                        </a:lnTo>
                        <a:lnTo>
                          <a:pt x="1088" y="41"/>
                        </a:lnTo>
                        <a:lnTo>
                          <a:pt x="1081" y="30"/>
                        </a:lnTo>
                        <a:lnTo>
                          <a:pt x="1074" y="18"/>
                        </a:lnTo>
                        <a:lnTo>
                          <a:pt x="1068" y="9"/>
                        </a:lnTo>
                        <a:lnTo>
                          <a:pt x="1062" y="0"/>
                        </a:lnTo>
                        <a:lnTo>
                          <a:pt x="1043" y="1"/>
                        </a:lnTo>
                        <a:lnTo>
                          <a:pt x="1051" y="13"/>
                        </a:lnTo>
                        <a:lnTo>
                          <a:pt x="1059" y="26"/>
                        </a:lnTo>
                        <a:lnTo>
                          <a:pt x="1068" y="38"/>
                        </a:lnTo>
                        <a:lnTo>
                          <a:pt x="1074" y="49"/>
                        </a:lnTo>
                        <a:lnTo>
                          <a:pt x="1084" y="63"/>
                        </a:lnTo>
                        <a:lnTo>
                          <a:pt x="1092" y="76"/>
                        </a:lnTo>
                        <a:lnTo>
                          <a:pt x="1099" y="87"/>
                        </a:lnTo>
                        <a:lnTo>
                          <a:pt x="1106" y="96"/>
                        </a:lnTo>
                        <a:lnTo>
                          <a:pt x="1111" y="103"/>
                        </a:lnTo>
                        <a:lnTo>
                          <a:pt x="1116" y="110"/>
                        </a:lnTo>
                        <a:lnTo>
                          <a:pt x="1121" y="114"/>
                        </a:lnTo>
                        <a:lnTo>
                          <a:pt x="1124" y="117"/>
                        </a:lnTo>
                        <a:lnTo>
                          <a:pt x="1127" y="120"/>
                        </a:lnTo>
                        <a:lnTo>
                          <a:pt x="1132" y="120"/>
                        </a:lnTo>
                        <a:lnTo>
                          <a:pt x="1137" y="121"/>
                        </a:lnTo>
                        <a:lnTo>
                          <a:pt x="1141" y="120"/>
                        </a:lnTo>
                        <a:lnTo>
                          <a:pt x="1146" y="120"/>
                        </a:lnTo>
                        <a:lnTo>
                          <a:pt x="1150" y="118"/>
                        </a:lnTo>
                        <a:lnTo>
                          <a:pt x="1155" y="117"/>
                        </a:lnTo>
                        <a:lnTo>
                          <a:pt x="1160" y="116"/>
                        </a:lnTo>
                        <a:lnTo>
                          <a:pt x="1167" y="114"/>
                        </a:lnTo>
                        <a:lnTo>
                          <a:pt x="1175" y="113"/>
                        </a:lnTo>
                        <a:lnTo>
                          <a:pt x="1182" y="111"/>
                        </a:lnTo>
                        <a:lnTo>
                          <a:pt x="1190" y="111"/>
                        </a:lnTo>
                        <a:lnTo>
                          <a:pt x="1197" y="113"/>
                        </a:lnTo>
                        <a:lnTo>
                          <a:pt x="1205" y="115"/>
                        </a:lnTo>
                        <a:lnTo>
                          <a:pt x="1212" y="118"/>
                        </a:lnTo>
                        <a:lnTo>
                          <a:pt x="1220" y="124"/>
                        </a:lnTo>
                        <a:lnTo>
                          <a:pt x="1225" y="129"/>
                        </a:lnTo>
                        <a:lnTo>
                          <a:pt x="1231" y="131"/>
                        </a:lnTo>
                        <a:lnTo>
                          <a:pt x="1237" y="132"/>
                        </a:lnTo>
                        <a:lnTo>
                          <a:pt x="1243" y="131"/>
                        </a:lnTo>
                        <a:lnTo>
                          <a:pt x="1248" y="130"/>
                        </a:lnTo>
                        <a:lnTo>
                          <a:pt x="1253" y="128"/>
                        </a:lnTo>
                        <a:lnTo>
                          <a:pt x="1259" y="125"/>
                        </a:lnTo>
                        <a:lnTo>
                          <a:pt x="1263" y="123"/>
                        </a:lnTo>
                        <a:lnTo>
                          <a:pt x="1273" y="118"/>
                        </a:lnTo>
                        <a:lnTo>
                          <a:pt x="1280" y="117"/>
                        </a:lnTo>
                        <a:lnTo>
                          <a:pt x="1284" y="118"/>
                        </a:lnTo>
                        <a:lnTo>
                          <a:pt x="1289" y="123"/>
                        </a:lnTo>
                        <a:lnTo>
                          <a:pt x="1292" y="126"/>
                        </a:lnTo>
                        <a:lnTo>
                          <a:pt x="1296" y="130"/>
                        </a:lnTo>
                        <a:lnTo>
                          <a:pt x="1299" y="132"/>
                        </a:lnTo>
                        <a:lnTo>
                          <a:pt x="1304" y="133"/>
                        </a:lnTo>
                        <a:lnTo>
                          <a:pt x="1312" y="133"/>
                        </a:lnTo>
                        <a:lnTo>
                          <a:pt x="1319" y="131"/>
                        </a:lnTo>
                        <a:lnTo>
                          <a:pt x="1326" y="128"/>
                        </a:lnTo>
                        <a:lnTo>
                          <a:pt x="1331" y="123"/>
                        </a:lnTo>
                        <a:lnTo>
                          <a:pt x="1335" y="120"/>
                        </a:lnTo>
                        <a:lnTo>
                          <a:pt x="1339" y="117"/>
                        </a:lnTo>
                        <a:lnTo>
                          <a:pt x="1343" y="116"/>
                        </a:lnTo>
                        <a:lnTo>
                          <a:pt x="1346" y="115"/>
                        </a:lnTo>
                        <a:lnTo>
                          <a:pt x="1347" y="115"/>
                        </a:lnTo>
                        <a:lnTo>
                          <a:pt x="1349" y="116"/>
                        </a:lnTo>
                        <a:lnTo>
                          <a:pt x="1350" y="118"/>
                        </a:lnTo>
                        <a:lnTo>
                          <a:pt x="1351" y="120"/>
                        </a:lnTo>
                        <a:lnTo>
                          <a:pt x="1357" y="133"/>
                        </a:lnTo>
                        <a:lnTo>
                          <a:pt x="1360" y="155"/>
                        </a:lnTo>
                        <a:lnTo>
                          <a:pt x="1361" y="181"/>
                        </a:lnTo>
                        <a:lnTo>
                          <a:pt x="1361" y="207"/>
                        </a:lnTo>
                        <a:lnTo>
                          <a:pt x="1362" y="232"/>
                        </a:lnTo>
                        <a:lnTo>
                          <a:pt x="1364" y="252"/>
                        </a:lnTo>
                        <a:lnTo>
                          <a:pt x="1366" y="268"/>
                        </a:lnTo>
                        <a:lnTo>
                          <a:pt x="1369" y="277"/>
                        </a:lnTo>
                        <a:lnTo>
                          <a:pt x="1373" y="284"/>
                        </a:lnTo>
                        <a:lnTo>
                          <a:pt x="1375" y="295"/>
                        </a:lnTo>
                        <a:lnTo>
                          <a:pt x="1376" y="306"/>
                        </a:lnTo>
                        <a:lnTo>
                          <a:pt x="1373" y="318"/>
                        </a:lnTo>
                        <a:lnTo>
                          <a:pt x="1369" y="324"/>
                        </a:lnTo>
                        <a:lnTo>
                          <a:pt x="1364" y="327"/>
                        </a:lnTo>
                        <a:lnTo>
                          <a:pt x="1357" y="330"/>
                        </a:lnTo>
                        <a:lnTo>
                          <a:pt x="1349" y="332"/>
                        </a:lnTo>
                        <a:lnTo>
                          <a:pt x="1336" y="333"/>
                        </a:lnTo>
                        <a:lnTo>
                          <a:pt x="1322" y="334"/>
                        </a:lnTo>
                        <a:lnTo>
                          <a:pt x="1306" y="335"/>
                        </a:lnTo>
                        <a:lnTo>
                          <a:pt x="1291" y="335"/>
                        </a:lnTo>
                        <a:lnTo>
                          <a:pt x="1276" y="336"/>
                        </a:lnTo>
                        <a:lnTo>
                          <a:pt x="1262" y="336"/>
                        </a:lnTo>
                        <a:lnTo>
                          <a:pt x="1252" y="336"/>
                        </a:lnTo>
                        <a:lnTo>
                          <a:pt x="1245" y="336"/>
                        </a:lnTo>
                        <a:lnTo>
                          <a:pt x="1244" y="333"/>
                        </a:lnTo>
                        <a:lnTo>
                          <a:pt x="1243" y="328"/>
                        </a:lnTo>
                        <a:lnTo>
                          <a:pt x="1241" y="325"/>
                        </a:lnTo>
                        <a:lnTo>
                          <a:pt x="1240" y="322"/>
                        </a:lnTo>
                        <a:lnTo>
                          <a:pt x="1236" y="309"/>
                        </a:lnTo>
                        <a:lnTo>
                          <a:pt x="1230" y="292"/>
                        </a:lnTo>
                        <a:lnTo>
                          <a:pt x="1223" y="275"/>
                        </a:lnTo>
                        <a:lnTo>
                          <a:pt x="1212" y="258"/>
                        </a:lnTo>
                        <a:lnTo>
                          <a:pt x="1198" y="243"/>
                        </a:lnTo>
                        <a:lnTo>
                          <a:pt x="1179" y="230"/>
                        </a:lnTo>
                        <a:lnTo>
                          <a:pt x="1156" y="222"/>
                        </a:lnTo>
                        <a:lnTo>
                          <a:pt x="1129" y="219"/>
                        </a:lnTo>
                        <a:lnTo>
                          <a:pt x="1087" y="221"/>
                        </a:lnTo>
                        <a:lnTo>
                          <a:pt x="1054" y="228"/>
                        </a:lnTo>
                        <a:lnTo>
                          <a:pt x="1028" y="239"/>
                        </a:lnTo>
                        <a:lnTo>
                          <a:pt x="1009" y="254"/>
                        </a:lnTo>
                        <a:lnTo>
                          <a:pt x="995" y="271"/>
                        </a:lnTo>
                        <a:lnTo>
                          <a:pt x="986" y="290"/>
                        </a:lnTo>
                        <a:lnTo>
                          <a:pt x="980" y="311"/>
                        </a:lnTo>
                        <a:lnTo>
                          <a:pt x="978" y="332"/>
                        </a:lnTo>
                        <a:lnTo>
                          <a:pt x="970" y="332"/>
                        </a:lnTo>
                        <a:lnTo>
                          <a:pt x="950" y="333"/>
                        </a:lnTo>
                        <a:lnTo>
                          <a:pt x="921" y="333"/>
                        </a:lnTo>
                        <a:lnTo>
                          <a:pt x="886" y="334"/>
                        </a:lnTo>
                        <a:lnTo>
                          <a:pt x="843" y="335"/>
                        </a:lnTo>
                        <a:lnTo>
                          <a:pt x="797" y="336"/>
                        </a:lnTo>
                        <a:lnTo>
                          <a:pt x="746" y="339"/>
                        </a:lnTo>
                        <a:lnTo>
                          <a:pt x="696" y="340"/>
                        </a:lnTo>
                        <a:lnTo>
                          <a:pt x="644" y="341"/>
                        </a:lnTo>
                        <a:lnTo>
                          <a:pt x="594" y="343"/>
                        </a:lnTo>
                        <a:lnTo>
                          <a:pt x="547" y="344"/>
                        </a:lnTo>
                        <a:lnTo>
                          <a:pt x="504" y="345"/>
                        </a:lnTo>
                        <a:lnTo>
                          <a:pt x="469" y="347"/>
                        </a:lnTo>
                        <a:lnTo>
                          <a:pt x="440" y="348"/>
                        </a:lnTo>
                        <a:lnTo>
                          <a:pt x="420" y="349"/>
                        </a:lnTo>
                        <a:lnTo>
                          <a:pt x="411" y="349"/>
                        </a:lnTo>
                        <a:lnTo>
                          <a:pt x="411" y="348"/>
                        </a:lnTo>
                        <a:lnTo>
                          <a:pt x="411" y="348"/>
                        </a:lnTo>
                        <a:lnTo>
                          <a:pt x="411" y="348"/>
                        </a:lnTo>
                        <a:lnTo>
                          <a:pt x="411" y="348"/>
                        </a:lnTo>
                        <a:lnTo>
                          <a:pt x="410" y="332"/>
                        </a:lnTo>
                        <a:lnTo>
                          <a:pt x="406" y="311"/>
                        </a:lnTo>
                        <a:lnTo>
                          <a:pt x="396" y="288"/>
                        </a:lnTo>
                        <a:lnTo>
                          <a:pt x="380" y="266"/>
                        </a:lnTo>
                        <a:lnTo>
                          <a:pt x="368" y="257"/>
                        </a:lnTo>
                        <a:lnTo>
                          <a:pt x="356" y="249"/>
                        </a:lnTo>
                        <a:lnTo>
                          <a:pt x="342" y="242"/>
                        </a:lnTo>
                        <a:lnTo>
                          <a:pt x="327" y="237"/>
                        </a:lnTo>
                        <a:lnTo>
                          <a:pt x="310" y="235"/>
                        </a:lnTo>
                        <a:lnTo>
                          <a:pt x="291" y="232"/>
                        </a:lnTo>
                        <a:lnTo>
                          <a:pt x="272" y="232"/>
                        </a:lnTo>
                        <a:lnTo>
                          <a:pt x="251" y="235"/>
                        </a:lnTo>
                        <a:lnTo>
                          <a:pt x="221" y="242"/>
                        </a:lnTo>
                        <a:lnTo>
                          <a:pt x="198" y="253"/>
                        </a:lnTo>
                        <a:lnTo>
                          <a:pt x="178" y="268"/>
                        </a:lnTo>
                        <a:lnTo>
                          <a:pt x="164" y="285"/>
                        </a:lnTo>
                        <a:lnTo>
                          <a:pt x="154" y="304"/>
                        </a:lnTo>
                        <a:lnTo>
                          <a:pt x="147" y="321"/>
                        </a:lnTo>
                        <a:lnTo>
                          <a:pt x="143" y="336"/>
                        </a:lnTo>
                        <a:lnTo>
                          <a:pt x="140" y="348"/>
                        </a:lnTo>
                        <a:lnTo>
                          <a:pt x="132" y="347"/>
                        </a:lnTo>
                        <a:lnTo>
                          <a:pt x="120" y="345"/>
                        </a:lnTo>
                        <a:lnTo>
                          <a:pt x="102" y="344"/>
                        </a:lnTo>
                        <a:lnTo>
                          <a:pt x="84" y="342"/>
                        </a:lnTo>
                        <a:lnTo>
                          <a:pt x="67" y="341"/>
                        </a:lnTo>
                        <a:lnTo>
                          <a:pt x="52" y="339"/>
                        </a:lnTo>
                        <a:lnTo>
                          <a:pt x="40" y="337"/>
                        </a:lnTo>
                        <a:lnTo>
                          <a:pt x="34" y="337"/>
                        </a:lnTo>
                        <a:lnTo>
                          <a:pt x="30" y="333"/>
                        </a:lnTo>
                        <a:lnTo>
                          <a:pt x="24" y="325"/>
                        </a:lnTo>
                        <a:lnTo>
                          <a:pt x="18" y="313"/>
                        </a:lnTo>
                        <a:lnTo>
                          <a:pt x="16" y="299"/>
                        </a:lnTo>
                        <a:lnTo>
                          <a:pt x="15" y="299"/>
                        </a:lnTo>
                        <a:lnTo>
                          <a:pt x="15" y="299"/>
                        </a:lnTo>
                        <a:lnTo>
                          <a:pt x="15" y="299"/>
                        </a:lnTo>
                        <a:lnTo>
                          <a:pt x="15" y="298"/>
                        </a:lnTo>
                        <a:lnTo>
                          <a:pt x="16" y="288"/>
                        </a:lnTo>
                        <a:lnTo>
                          <a:pt x="21" y="277"/>
                        </a:lnTo>
                        <a:lnTo>
                          <a:pt x="27" y="267"/>
                        </a:lnTo>
                        <a:lnTo>
                          <a:pt x="37" y="258"/>
                        </a:lnTo>
                        <a:lnTo>
                          <a:pt x="39" y="256"/>
                        </a:lnTo>
                        <a:lnTo>
                          <a:pt x="39" y="253"/>
                        </a:lnTo>
                        <a:lnTo>
                          <a:pt x="41" y="245"/>
                        </a:lnTo>
                        <a:lnTo>
                          <a:pt x="45" y="235"/>
                        </a:lnTo>
                        <a:lnTo>
                          <a:pt x="48" y="223"/>
                        </a:lnTo>
                        <a:lnTo>
                          <a:pt x="53" y="211"/>
                        </a:lnTo>
                        <a:lnTo>
                          <a:pt x="59" y="199"/>
                        </a:lnTo>
                        <a:lnTo>
                          <a:pt x="64" y="188"/>
                        </a:lnTo>
                        <a:lnTo>
                          <a:pt x="71" y="178"/>
                        </a:lnTo>
                        <a:lnTo>
                          <a:pt x="78" y="171"/>
                        </a:lnTo>
                        <a:lnTo>
                          <a:pt x="83" y="168"/>
                        </a:lnTo>
                        <a:lnTo>
                          <a:pt x="90" y="166"/>
                        </a:lnTo>
                        <a:lnTo>
                          <a:pt x="99" y="162"/>
                        </a:lnTo>
                        <a:lnTo>
                          <a:pt x="110" y="159"/>
                        </a:lnTo>
                        <a:lnTo>
                          <a:pt x="123" y="155"/>
                        </a:lnTo>
                        <a:lnTo>
                          <a:pt x="138" y="152"/>
                        </a:lnTo>
                        <a:lnTo>
                          <a:pt x="153" y="148"/>
                        </a:lnTo>
                        <a:lnTo>
                          <a:pt x="169" y="144"/>
                        </a:lnTo>
                        <a:lnTo>
                          <a:pt x="186" y="140"/>
                        </a:lnTo>
                        <a:lnTo>
                          <a:pt x="205" y="137"/>
                        </a:lnTo>
                        <a:lnTo>
                          <a:pt x="223" y="132"/>
                        </a:lnTo>
                        <a:lnTo>
                          <a:pt x="242" y="129"/>
                        </a:lnTo>
                        <a:lnTo>
                          <a:pt x="261" y="125"/>
                        </a:lnTo>
                        <a:lnTo>
                          <a:pt x="280" y="122"/>
                        </a:lnTo>
                        <a:lnTo>
                          <a:pt x="298" y="118"/>
                        </a:lnTo>
                        <a:lnTo>
                          <a:pt x="315" y="115"/>
                        </a:lnTo>
                        <a:lnTo>
                          <a:pt x="378" y="102"/>
                        </a:lnTo>
                        <a:lnTo>
                          <a:pt x="390" y="99"/>
                        </a:lnTo>
                        <a:lnTo>
                          <a:pt x="403" y="93"/>
                        </a:lnTo>
                        <a:lnTo>
                          <a:pt x="417" y="86"/>
                        </a:lnTo>
                        <a:lnTo>
                          <a:pt x="431" y="77"/>
                        </a:lnTo>
                        <a:lnTo>
                          <a:pt x="444" y="66"/>
                        </a:lnTo>
                        <a:lnTo>
                          <a:pt x="458" y="55"/>
                        </a:lnTo>
                        <a:lnTo>
                          <a:pt x="472" y="42"/>
                        </a:lnTo>
                        <a:lnTo>
                          <a:pt x="486" y="31"/>
                        </a:lnTo>
                        <a:lnTo>
                          <a:pt x="461" y="32"/>
                        </a:lnTo>
                        <a:lnTo>
                          <a:pt x="449" y="41"/>
                        </a:lnTo>
                        <a:lnTo>
                          <a:pt x="437" y="50"/>
                        </a:lnTo>
                        <a:lnTo>
                          <a:pt x="426" y="60"/>
                        </a:lnTo>
                        <a:lnTo>
                          <a:pt x="416" y="68"/>
                        </a:lnTo>
                        <a:lnTo>
                          <a:pt x="404" y="75"/>
                        </a:lnTo>
                        <a:lnTo>
                          <a:pt x="394" y="80"/>
                        </a:lnTo>
                        <a:lnTo>
                          <a:pt x="383" y="85"/>
                        </a:lnTo>
                        <a:lnTo>
                          <a:pt x="374" y="87"/>
                        </a:lnTo>
                        <a:lnTo>
                          <a:pt x="312" y="99"/>
                        </a:lnTo>
                        <a:lnTo>
                          <a:pt x="289" y="103"/>
                        </a:lnTo>
                        <a:lnTo>
                          <a:pt x="267" y="108"/>
                        </a:lnTo>
                        <a:lnTo>
                          <a:pt x="245" y="111"/>
                        </a:lnTo>
                        <a:lnTo>
                          <a:pt x="224" y="116"/>
                        </a:lnTo>
                        <a:lnTo>
                          <a:pt x="205" y="121"/>
                        </a:lnTo>
                        <a:lnTo>
                          <a:pt x="186" y="124"/>
                        </a:lnTo>
                        <a:lnTo>
                          <a:pt x="168" y="128"/>
                        </a:lnTo>
                        <a:lnTo>
                          <a:pt x="152" y="132"/>
                        </a:lnTo>
                        <a:lnTo>
                          <a:pt x="136" y="136"/>
                        </a:lnTo>
                        <a:lnTo>
                          <a:pt x="122" y="139"/>
                        </a:lnTo>
                        <a:lnTo>
                          <a:pt x="109" y="143"/>
                        </a:lnTo>
                        <a:lnTo>
                          <a:pt x="98" y="146"/>
                        </a:lnTo>
                        <a:lnTo>
                          <a:pt x="88" y="149"/>
                        </a:lnTo>
                        <a:lnTo>
                          <a:pt x="80" y="153"/>
                        </a:lnTo>
                        <a:lnTo>
                          <a:pt x="73" y="155"/>
                        </a:lnTo>
                        <a:lnTo>
                          <a:pt x="69" y="159"/>
                        </a:lnTo>
                        <a:lnTo>
                          <a:pt x="60" y="168"/>
                        </a:lnTo>
                        <a:lnTo>
                          <a:pt x="50" y="179"/>
                        </a:lnTo>
                        <a:lnTo>
                          <a:pt x="44" y="193"/>
                        </a:lnTo>
                        <a:lnTo>
                          <a:pt x="37" y="207"/>
                        </a:lnTo>
                        <a:lnTo>
                          <a:pt x="32" y="221"/>
                        </a:lnTo>
                        <a:lnTo>
                          <a:pt x="29" y="234"/>
                        </a:lnTo>
                        <a:lnTo>
                          <a:pt x="25" y="243"/>
                        </a:lnTo>
                        <a:lnTo>
                          <a:pt x="24" y="249"/>
                        </a:lnTo>
                        <a:lnTo>
                          <a:pt x="14" y="261"/>
                        </a:lnTo>
                        <a:lnTo>
                          <a:pt x="6" y="273"/>
                        </a:lnTo>
                        <a:lnTo>
                          <a:pt x="1" y="285"/>
                        </a:lnTo>
                        <a:lnTo>
                          <a:pt x="0" y="298"/>
                        </a:lnTo>
                        <a:lnTo>
                          <a:pt x="0" y="299"/>
                        </a:lnTo>
                        <a:lnTo>
                          <a:pt x="0" y="299"/>
                        </a:lnTo>
                        <a:lnTo>
                          <a:pt x="0" y="299"/>
                        </a:lnTo>
                        <a:lnTo>
                          <a:pt x="0" y="300"/>
                        </a:lnTo>
                        <a:lnTo>
                          <a:pt x="4" y="321"/>
                        </a:lnTo>
                        <a:lnTo>
                          <a:pt x="14" y="336"/>
                        </a:lnTo>
                        <a:lnTo>
                          <a:pt x="22" y="347"/>
                        </a:lnTo>
                        <a:lnTo>
                          <a:pt x="26" y="351"/>
                        </a:lnTo>
                        <a:lnTo>
                          <a:pt x="29" y="352"/>
                        </a:lnTo>
                        <a:lnTo>
                          <a:pt x="154" y="365"/>
                        </a:lnTo>
                        <a:lnTo>
                          <a:pt x="154" y="357"/>
                        </a:lnTo>
                        <a:lnTo>
                          <a:pt x="155" y="352"/>
                        </a:lnTo>
                        <a:lnTo>
                          <a:pt x="158" y="340"/>
                        </a:lnTo>
                        <a:lnTo>
                          <a:pt x="162" y="325"/>
                        </a:lnTo>
                        <a:lnTo>
                          <a:pt x="170" y="306"/>
                        </a:lnTo>
                        <a:lnTo>
                          <a:pt x="183" y="288"/>
                        </a:lnTo>
                        <a:lnTo>
                          <a:pt x="199" y="271"/>
                        </a:lnTo>
                        <a:lnTo>
                          <a:pt x="222" y="258"/>
                        </a:lnTo>
                        <a:lnTo>
                          <a:pt x="252" y="251"/>
                        </a:lnTo>
                        <a:lnTo>
                          <a:pt x="272" y="249"/>
                        </a:lnTo>
                        <a:lnTo>
                          <a:pt x="289" y="249"/>
                        </a:lnTo>
                        <a:lnTo>
                          <a:pt x="306" y="250"/>
                        </a:lnTo>
                        <a:lnTo>
                          <a:pt x="321" y="252"/>
                        </a:lnTo>
                        <a:lnTo>
                          <a:pt x="335" y="257"/>
                        </a:lnTo>
                        <a:lnTo>
                          <a:pt x="348" y="262"/>
                        </a:lnTo>
                        <a:lnTo>
                          <a:pt x="359" y="269"/>
                        </a:lnTo>
                        <a:lnTo>
                          <a:pt x="368" y="277"/>
                        </a:lnTo>
                        <a:lnTo>
                          <a:pt x="386" y="303"/>
                        </a:lnTo>
                        <a:lnTo>
                          <a:pt x="394" y="328"/>
                        </a:lnTo>
                        <a:lnTo>
                          <a:pt x="395" y="348"/>
                        </a:lnTo>
                        <a:lnTo>
                          <a:pt x="395" y="356"/>
                        </a:lnTo>
                        <a:lnTo>
                          <a:pt x="394" y="365"/>
                        </a:lnTo>
                        <a:lnTo>
                          <a:pt x="993" y="348"/>
                        </a:lnTo>
                        <a:lnTo>
                          <a:pt x="993" y="340"/>
                        </a:lnTo>
                        <a:lnTo>
                          <a:pt x="995" y="320"/>
                        </a:lnTo>
                        <a:lnTo>
                          <a:pt x="998" y="302"/>
                        </a:lnTo>
                        <a:lnTo>
                          <a:pt x="1005" y="284"/>
                        </a:lnTo>
                        <a:lnTo>
                          <a:pt x="1018" y="268"/>
                        </a:lnTo>
                        <a:lnTo>
                          <a:pt x="1034" y="254"/>
                        </a:lnTo>
                        <a:lnTo>
                          <a:pt x="1058" y="244"/>
                        </a:lnTo>
                        <a:lnTo>
                          <a:pt x="1088" y="237"/>
                        </a:lnTo>
                        <a:lnTo>
                          <a:pt x="1129" y="235"/>
                        </a:lnTo>
                        <a:lnTo>
                          <a:pt x="1153" y="237"/>
                        </a:lnTo>
                        <a:lnTo>
                          <a:pt x="1172" y="245"/>
                        </a:lnTo>
                        <a:lnTo>
                          <a:pt x="1187" y="256"/>
                        </a:lnTo>
                        <a:lnTo>
                          <a:pt x="1200" y="268"/>
                        </a:lnTo>
                        <a:lnTo>
                          <a:pt x="1209" y="283"/>
                        </a:lnTo>
                        <a:lnTo>
                          <a:pt x="1216" y="299"/>
                        </a:lnTo>
                        <a:lnTo>
                          <a:pt x="1222" y="314"/>
                        </a:lnTo>
                        <a:lnTo>
                          <a:pt x="1225" y="327"/>
                        </a:lnTo>
                        <a:lnTo>
                          <a:pt x="1228" y="336"/>
                        </a:lnTo>
                        <a:lnTo>
                          <a:pt x="1230" y="343"/>
                        </a:lnTo>
                        <a:lnTo>
                          <a:pt x="1233" y="349"/>
                        </a:lnTo>
                        <a:lnTo>
                          <a:pt x="1238" y="351"/>
                        </a:lnTo>
                        <a:lnTo>
                          <a:pt x="1244" y="352"/>
                        </a:lnTo>
                        <a:lnTo>
                          <a:pt x="1252" y="352"/>
                        </a:lnTo>
                        <a:lnTo>
                          <a:pt x="1262" y="352"/>
                        </a:lnTo>
                        <a:lnTo>
                          <a:pt x="1275" y="352"/>
                        </a:lnTo>
                        <a:lnTo>
                          <a:pt x="1290" y="351"/>
                        </a:lnTo>
                        <a:lnTo>
                          <a:pt x="1307" y="351"/>
                        </a:lnTo>
                        <a:lnTo>
                          <a:pt x="1327" y="349"/>
                        </a:lnTo>
                        <a:lnTo>
                          <a:pt x="1350" y="348"/>
                        </a:lnTo>
                        <a:lnTo>
                          <a:pt x="1358" y="347"/>
                        </a:lnTo>
                        <a:lnTo>
                          <a:pt x="1365" y="344"/>
                        </a:lnTo>
                        <a:lnTo>
                          <a:pt x="1371" y="342"/>
                        </a:lnTo>
                        <a:lnTo>
                          <a:pt x="1375" y="339"/>
                        </a:lnTo>
                        <a:lnTo>
                          <a:pt x="1379" y="335"/>
                        </a:lnTo>
                        <a:lnTo>
                          <a:pt x="1382" y="332"/>
                        </a:lnTo>
                        <a:lnTo>
                          <a:pt x="1384" y="328"/>
                        </a:lnTo>
                        <a:lnTo>
                          <a:pt x="1387" y="325"/>
                        </a:lnTo>
                        <a:lnTo>
                          <a:pt x="1391" y="309"/>
                        </a:lnTo>
                        <a:lnTo>
                          <a:pt x="1391" y="294"/>
                        </a:lnTo>
                        <a:lnTo>
                          <a:pt x="1388" y="279"/>
                        </a:lnTo>
                        <a:lnTo>
                          <a:pt x="1383" y="26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330960" y="2590920"/>
                    <a:ext cx="476280" cy="71280"/>
                  </a:xfrm>
                  <a:custGeom>
                    <a:avLst/>
                    <a:gdLst/>
                    <a:ahLst/>
                    <a:rect l="l" t="t" r="r" b="b"/>
                    <a:pathLst>
                      <a:path w="601" h="90">
                        <a:moveTo>
                          <a:pt x="40" y="76"/>
                        </a:moveTo>
                        <a:lnTo>
                          <a:pt x="48" y="69"/>
                        </a:lnTo>
                        <a:lnTo>
                          <a:pt x="55" y="62"/>
                        </a:lnTo>
                        <a:lnTo>
                          <a:pt x="63" y="55"/>
                        </a:lnTo>
                        <a:lnTo>
                          <a:pt x="70" y="50"/>
                        </a:lnTo>
                        <a:lnTo>
                          <a:pt x="76" y="44"/>
                        </a:lnTo>
                        <a:lnTo>
                          <a:pt x="82" y="39"/>
                        </a:lnTo>
                        <a:lnTo>
                          <a:pt x="88" y="35"/>
                        </a:lnTo>
                        <a:lnTo>
                          <a:pt x="93" y="31"/>
                        </a:lnTo>
                        <a:lnTo>
                          <a:pt x="95" y="30"/>
                        </a:lnTo>
                        <a:lnTo>
                          <a:pt x="99" y="29"/>
                        </a:lnTo>
                        <a:lnTo>
                          <a:pt x="103" y="28"/>
                        </a:lnTo>
                        <a:lnTo>
                          <a:pt x="110" y="27"/>
                        </a:lnTo>
                        <a:lnTo>
                          <a:pt x="117" y="25"/>
                        </a:lnTo>
                        <a:lnTo>
                          <a:pt x="127" y="24"/>
                        </a:lnTo>
                        <a:lnTo>
                          <a:pt x="139" y="23"/>
                        </a:lnTo>
                        <a:lnTo>
                          <a:pt x="153" y="22"/>
                        </a:lnTo>
                        <a:lnTo>
                          <a:pt x="168" y="21"/>
                        </a:lnTo>
                        <a:lnTo>
                          <a:pt x="186" y="20"/>
                        </a:lnTo>
                        <a:lnTo>
                          <a:pt x="207" y="18"/>
                        </a:lnTo>
                        <a:lnTo>
                          <a:pt x="231" y="18"/>
                        </a:lnTo>
                        <a:lnTo>
                          <a:pt x="258" y="17"/>
                        </a:lnTo>
                        <a:lnTo>
                          <a:pt x="287" y="17"/>
                        </a:lnTo>
                        <a:lnTo>
                          <a:pt x="320" y="16"/>
                        </a:lnTo>
                        <a:lnTo>
                          <a:pt x="357" y="16"/>
                        </a:lnTo>
                        <a:lnTo>
                          <a:pt x="375" y="16"/>
                        </a:lnTo>
                        <a:lnTo>
                          <a:pt x="395" y="16"/>
                        </a:lnTo>
                        <a:lnTo>
                          <a:pt x="414" y="16"/>
                        </a:lnTo>
                        <a:lnTo>
                          <a:pt x="436" y="16"/>
                        </a:lnTo>
                        <a:lnTo>
                          <a:pt x="458" y="16"/>
                        </a:lnTo>
                        <a:lnTo>
                          <a:pt x="481" y="16"/>
                        </a:lnTo>
                        <a:lnTo>
                          <a:pt x="504" y="17"/>
                        </a:lnTo>
                        <a:lnTo>
                          <a:pt x="529" y="17"/>
                        </a:lnTo>
                        <a:lnTo>
                          <a:pt x="547" y="17"/>
                        </a:lnTo>
                        <a:lnTo>
                          <a:pt x="550" y="18"/>
                        </a:lnTo>
                        <a:lnTo>
                          <a:pt x="554" y="21"/>
                        </a:lnTo>
                        <a:lnTo>
                          <a:pt x="557" y="25"/>
                        </a:lnTo>
                        <a:lnTo>
                          <a:pt x="562" y="30"/>
                        </a:lnTo>
                        <a:lnTo>
                          <a:pt x="566" y="37"/>
                        </a:lnTo>
                        <a:lnTo>
                          <a:pt x="572" y="43"/>
                        </a:lnTo>
                        <a:lnTo>
                          <a:pt x="577" y="51"/>
                        </a:lnTo>
                        <a:lnTo>
                          <a:pt x="582" y="59"/>
                        </a:lnTo>
                        <a:lnTo>
                          <a:pt x="601" y="58"/>
                        </a:lnTo>
                        <a:lnTo>
                          <a:pt x="592" y="44"/>
                        </a:lnTo>
                        <a:lnTo>
                          <a:pt x="584" y="32"/>
                        </a:lnTo>
                        <a:lnTo>
                          <a:pt x="575" y="23"/>
                        </a:lnTo>
                        <a:lnTo>
                          <a:pt x="569" y="15"/>
                        </a:lnTo>
                        <a:lnTo>
                          <a:pt x="563" y="9"/>
                        </a:lnTo>
                        <a:lnTo>
                          <a:pt x="557" y="5"/>
                        </a:lnTo>
                        <a:lnTo>
                          <a:pt x="551" y="2"/>
                        </a:lnTo>
                        <a:lnTo>
                          <a:pt x="547" y="1"/>
                        </a:lnTo>
                        <a:lnTo>
                          <a:pt x="529" y="1"/>
                        </a:lnTo>
                        <a:lnTo>
                          <a:pt x="508" y="1"/>
                        </a:lnTo>
                        <a:lnTo>
                          <a:pt x="487" y="0"/>
                        </a:lnTo>
                        <a:lnTo>
                          <a:pt x="466" y="0"/>
                        </a:lnTo>
                        <a:lnTo>
                          <a:pt x="445" y="0"/>
                        </a:lnTo>
                        <a:lnTo>
                          <a:pt x="426" y="0"/>
                        </a:lnTo>
                        <a:lnTo>
                          <a:pt x="407" y="0"/>
                        </a:lnTo>
                        <a:lnTo>
                          <a:pt x="389" y="0"/>
                        </a:lnTo>
                        <a:lnTo>
                          <a:pt x="370" y="0"/>
                        </a:lnTo>
                        <a:lnTo>
                          <a:pt x="339" y="0"/>
                        </a:lnTo>
                        <a:lnTo>
                          <a:pt x="309" y="0"/>
                        </a:lnTo>
                        <a:lnTo>
                          <a:pt x="282" y="1"/>
                        </a:lnTo>
                        <a:lnTo>
                          <a:pt x="255" y="1"/>
                        </a:lnTo>
                        <a:lnTo>
                          <a:pt x="231" y="1"/>
                        </a:lnTo>
                        <a:lnTo>
                          <a:pt x="209" y="2"/>
                        </a:lnTo>
                        <a:lnTo>
                          <a:pt x="188" y="3"/>
                        </a:lnTo>
                        <a:lnTo>
                          <a:pt x="170" y="5"/>
                        </a:lnTo>
                        <a:lnTo>
                          <a:pt x="153" y="6"/>
                        </a:lnTo>
                        <a:lnTo>
                          <a:pt x="138" y="7"/>
                        </a:lnTo>
                        <a:lnTo>
                          <a:pt x="125" y="8"/>
                        </a:lnTo>
                        <a:lnTo>
                          <a:pt x="114" y="10"/>
                        </a:lnTo>
                        <a:lnTo>
                          <a:pt x="103" y="12"/>
                        </a:lnTo>
                        <a:lnTo>
                          <a:pt x="95" y="14"/>
                        </a:lnTo>
                        <a:lnTo>
                          <a:pt x="89" y="16"/>
                        </a:lnTo>
                        <a:lnTo>
                          <a:pt x="85" y="18"/>
                        </a:lnTo>
                        <a:lnTo>
                          <a:pt x="79" y="22"/>
                        </a:lnTo>
                        <a:lnTo>
                          <a:pt x="73" y="27"/>
                        </a:lnTo>
                        <a:lnTo>
                          <a:pt x="67" y="31"/>
                        </a:lnTo>
                        <a:lnTo>
                          <a:pt x="61" y="37"/>
                        </a:lnTo>
                        <a:lnTo>
                          <a:pt x="53" y="43"/>
                        </a:lnTo>
                        <a:lnTo>
                          <a:pt x="46" y="50"/>
                        </a:lnTo>
                        <a:lnTo>
                          <a:pt x="38" y="56"/>
                        </a:lnTo>
                        <a:lnTo>
                          <a:pt x="29" y="63"/>
                        </a:lnTo>
                        <a:lnTo>
                          <a:pt x="21" y="70"/>
                        </a:lnTo>
                        <a:lnTo>
                          <a:pt x="14" y="76"/>
                        </a:lnTo>
                        <a:lnTo>
                          <a:pt x="8" y="83"/>
                        </a:lnTo>
                        <a:lnTo>
                          <a:pt x="0" y="90"/>
                        </a:lnTo>
                        <a:lnTo>
                          <a:pt x="25" y="89"/>
                        </a:lnTo>
                        <a:lnTo>
                          <a:pt x="29" y="85"/>
                        </a:lnTo>
                        <a:lnTo>
                          <a:pt x="33" y="82"/>
                        </a:lnTo>
                        <a:lnTo>
                          <a:pt x="36" y="78"/>
                        </a:lnTo>
                        <a:lnTo>
                          <a:pt x="40" y="7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15" name=""/>
                  <p:cNvSpPr/>
                  <p:nvPr/>
                </p:nvSpPr>
                <p:spPr>
                  <a:xfrm>
                    <a:off x="6024600" y="2838600"/>
                    <a:ext cx="522360" cy="323640"/>
                  </a:xfrm>
                  <a:custGeom>
                    <a:avLst/>
                    <a:gdLst/>
                    <a:ahLst/>
                    <a:rect l="l" t="t" r="r" b="b"/>
                    <a:pathLst>
                      <a:path w="658" h="408">
                        <a:moveTo>
                          <a:pt x="424" y="314"/>
                        </a:moveTo>
                        <a:lnTo>
                          <a:pt x="408" y="298"/>
                        </a:lnTo>
                        <a:lnTo>
                          <a:pt x="613" y="225"/>
                        </a:lnTo>
                        <a:lnTo>
                          <a:pt x="569" y="128"/>
                        </a:lnTo>
                        <a:lnTo>
                          <a:pt x="311" y="227"/>
                        </a:lnTo>
                        <a:lnTo>
                          <a:pt x="236" y="242"/>
                        </a:lnTo>
                        <a:lnTo>
                          <a:pt x="123" y="50"/>
                        </a:lnTo>
                        <a:lnTo>
                          <a:pt x="133" y="15"/>
                        </a:lnTo>
                        <a:lnTo>
                          <a:pt x="32" y="0"/>
                        </a:lnTo>
                        <a:lnTo>
                          <a:pt x="0" y="7"/>
                        </a:lnTo>
                        <a:lnTo>
                          <a:pt x="10" y="353"/>
                        </a:lnTo>
                        <a:lnTo>
                          <a:pt x="48" y="405"/>
                        </a:lnTo>
                        <a:lnTo>
                          <a:pt x="162" y="408"/>
                        </a:lnTo>
                        <a:lnTo>
                          <a:pt x="159" y="369"/>
                        </a:lnTo>
                        <a:lnTo>
                          <a:pt x="114" y="353"/>
                        </a:lnTo>
                        <a:lnTo>
                          <a:pt x="55" y="82"/>
                        </a:lnTo>
                        <a:lnTo>
                          <a:pt x="87" y="75"/>
                        </a:lnTo>
                        <a:lnTo>
                          <a:pt x="269" y="394"/>
                        </a:lnTo>
                        <a:lnTo>
                          <a:pt x="511" y="398"/>
                        </a:lnTo>
                        <a:lnTo>
                          <a:pt x="507" y="349"/>
                        </a:lnTo>
                        <a:lnTo>
                          <a:pt x="658" y="324"/>
                        </a:lnTo>
                        <a:lnTo>
                          <a:pt x="633" y="270"/>
                        </a:lnTo>
                        <a:lnTo>
                          <a:pt x="424" y="31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
                  <p:cNvSpPr/>
                  <p:nvPr/>
                </p:nvSpPr>
                <p:spPr>
                  <a:xfrm>
                    <a:off x="6477120" y="2806560"/>
                    <a:ext cx="438120" cy="584280"/>
                  </a:xfrm>
                  <a:custGeom>
                    <a:avLst/>
                    <a:gdLst/>
                    <a:ahLst/>
                    <a:rect l="l" t="t" r="r" b="b"/>
                    <a:pathLst>
                      <a:path w="552" h="737">
                        <a:moveTo>
                          <a:pt x="396" y="424"/>
                        </a:moveTo>
                        <a:lnTo>
                          <a:pt x="419" y="372"/>
                        </a:lnTo>
                        <a:lnTo>
                          <a:pt x="321" y="205"/>
                        </a:lnTo>
                        <a:lnTo>
                          <a:pt x="330" y="179"/>
                        </a:lnTo>
                        <a:lnTo>
                          <a:pt x="435" y="123"/>
                        </a:lnTo>
                        <a:lnTo>
                          <a:pt x="471" y="59"/>
                        </a:lnTo>
                        <a:lnTo>
                          <a:pt x="472" y="57"/>
                        </a:lnTo>
                        <a:lnTo>
                          <a:pt x="474" y="51"/>
                        </a:lnTo>
                        <a:lnTo>
                          <a:pt x="474" y="39"/>
                        </a:lnTo>
                        <a:lnTo>
                          <a:pt x="467" y="21"/>
                        </a:lnTo>
                        <a:lnTo>
                          <a:pt x="461" y="12"/>
                        </a:lnTo>
                        <a:lnTo>
                          <a:pt x="454" y="5"/>
                        </a:lnTo>
                        <a:lnTo>
                          <a:pt x="446" y="1"/>
                        </a:lnTo>
                        <a:lnTo>
                          <a:pt x="439" y="0"/>
                        </a:lnTo>
                        <a:lnTo>
                          <a:pt x="432" y="1"/>
                        </a:lnTo>
                        <a:lnTo>
                          <a:pt x="426" y="2"/>
                        </a:lnTo>
                        <a:lnTo>
                          <a:pt x="423" y="3"/>
                        </a:lnTo>
                        <a:lnTo>
                          <a:pt x="421" y="3"/>
                        </a:lnTo>
                        <a:lnTo>
                          <a:pt x="0" y="167"/>
                        </a:lnTo>
                        <a:lnTo>
                          <a:pt x="44" y="264"/>
                        </a:lnTo>
                        <a:lnTo>
                          <a:pt x="237" y="195"/>
                        </a:lnTo>
                        <a:lnTo>
                          <a:pt x="276" y="266"/>
                        </a:lnTo>
                        <a:lnTo>
                          <a:pt x="64" y="309"/>
                        </a:lnTo>
                        <a:lnTo>
                          <a:pt x="89" y="363"/>
                        </a:lnTo>
                        <a:lnTo>
                          <a:pt x="189" y="346"/>
                        </a:lnTo>
                        <a:lnTo>
                          <a:pt x="251" y="445"/>
                        </a:lnTo>
                        <a:lnTo>
                          <a:pt x="253" y="463"/>
                        </a:lnTo>
                        <a:lnTo>
                          <a:pt x="409" y="518"/>
                        </a:lnTo>
                        <a:lnTo>
                          <a:pt x="428" y="637"/>
                        </a:lnTo>
                        <a:lnTo>
                          <a:pt x="328" y="641"/>
                        </a:lnTo>
                        <a:lnTo>
                          <a:pt x="334" y="709"/>
                        </a:lnTo>
                        <a:lnTo>
                          <a:pt x="419" y="702"/>
                        </a:lnTo>
                        <a:lnTo>
                          <a:pt x="420" y="703"/>
                        </a:lnTo>
                        <a:lnTo>
                          <a:pt x="424" y="707"/>
                        </a:lnTo>
                        <a:lnTo>
                          <a:pt x="428" y="711"/>
                        </a:lnTo>
                        <a:lnTo>
                          <a:pt x="435" y="716"/>
                        </a:lnTo>
                        <a:lnTo>
                          <a:pt x="443" y="722"/>
                        </a:lnTo>
                        <a:lnTo>
                          <a:pt x="451" y="727"/>
                        </a:lnTo>
                        <a:lnTo>
                          <a:pt x="461" y="732"/>
                        </a:lnTo>
                        <a:lnTo>
                          <a:pt x="471" y="735"/>
                        </a:lnTo>
                        <a:lnTo>
                          <a:pt x="481" y="737"/>
                        </a:lnTo>
                        <a:lnTo>
                          <a:pt x="494" y="735"/>
                        </a:lnTo>
                        <a:lnTo>
                          <a:pt x="507" y="733"/>
                        </a:lnTo>
                        <a:lnTo>
                          <a:pt x="519" y="730"/>
                        </a:lnTo>
                        <a:lnTo>
                          <a:pt x="531" y="726"/>
                        </a:lnTo>
                        <a:lnTo>
                          <a:pt x="540" y="723"/>
                        </a:lnTo>
                        <a:lnTo>
                          <a:pt x="546" y="720"/>
                        </a:lnTo>
                        <a:lnTo>
                          <a:pt x="548" y="719"/>
                        </a:lnTo>
                        <a:lnTo>
                          <a:pt x="552" y="671"/>
                        </a:lnTo>
                        <a:lnTo>
                          <a:pt x="396" y="42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6227640" y="2808360"/>
                    <a:ext cx="621000" cy="341280"/>
                  </a:xfrm>
                  <a:custGeom>
                    <a:avLst/>
                    <a:gdLst/>
                    <a:ahLst/>
                    <a:rect l="l" t="t" r="r" b="b"/>
                    <a:pathLst>
                      <a:path w="780" h="430">
                        <a:moveTo>
                          <a:pt x="748" y="0"/>
                        </a:moveTo>
                        <a:lnTo>
                          <a:pt x="761" y="0"/>
                        </a:lnTo>
                        <a:lnTo>
                          <a:pt x="780" y="20"/>
                        </a:lnTo>
                        <a:lnTo>
                          <a:pt x="62" y="291"/>
                        </a:lnTo>
                        <a:lnTo>
                          <a:pt x="26" y="296"/>
                        </a:lnTo>
                        <a:lnTo>
                          <a:pt x="152" y="427"/>
                        </a:lnTo>
                        <a:lnTo>
                          <a:pt x="71" y="430"/>
                        </a:lnTo>
                        <a:lnTo>
                          <a:pt x="0" y="323"/>
                        </a:lnTo>
                        <a:lnTo>
                          <a:pt x="0" y="280"/>
                        </a:lnTo>
                        <a:lnTo>
                          <a:pt x="67" y="265"/>
                        </a:lnTo>
                        <a:lnTo>
                          <a:pt x="74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550200" y="3013200"/>
                    <a:ext cx="260280" cy="163440"/>
                  </a:xfrm>
                  <a:custGeom>
                    <a:avLst/>
                    <a:gdLst/>
                    <a:ahLst/>
                    <a:rect l="l" t="t" r="r" b="b"/>
                    <a:pathLst>
                      <a:path w="327" h="205">
                        <a:moveTo>
                          <a:pt x="261" y="0"/>
                        </a:moveTo>
                        <a:lnTo>
                          <a:pt x="327" y="111"/>
                        </a:lnTo>
                        <a:lnTo>
                          <a:pt x="304" y="163"/>
                        </a:lnTo>
                        <a:lnTo>
                          <a:pt x="233" y="36"/>
                        </a:lnTo>
                        <a:lnTo>
                          <a:pt x="193" y="53"/>
                        </a:lnTo>
                        <a:lnTo>
                          <a:pt x="249" y="205"/>
                        </a:lnTo>
                        <a:lnTo>
                          <a:pt x="217" y="202"/>
                        </a:lnTo>
                        <a:lnTo>
                          <a:pt x="158" y="40"/>
                        </a:lnTo>
                        <a:lnTo>
                          <a:pt x="0" y="73"/>
                        </a:lnTo>
                        <a:lnTo>
                          <a:pt x="0" y="50"/>
                        </a:lnTo>
                        <a:lnTo>
                          <a:pt x="261"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850080" y="3243240"/>
                    <a:ext cx="65160" cy="139680"/>
                  </a:xfrm>
                  <a:custGeom>
                    <a:avLst/>
                    <a:gdLst/>
                    <a:ahLst/>
                    <a:rect l="l" t="t" r="r" b="b"/>
                    <a:pathLst>
                      <a:path w="81" h="175">
                        <a:moveTo>
                          <a:pt x="0" y="0"/>
                        </a:moveTo>
                        <a:lnTo>
                          <a:pt x="81" y="121"/>
                        </a:lnTo>
                        <a:lnTo>
                          <a:pt x="77" y="169"/>
                        </a:lnTo>
                        <a:lnTo>
                          <a:pt x="29" y="175"/>
                        </a:lnTo>
                        <a:lnTo>
                          <a:pt x="32" y="107"/>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6114960" y="2884320"/>
                    <a:ext cx="81000" cy="123840"/>
                  </a:xfrm>
                  <a:custGeom>
                    <a:avLst/>
                    <a:gdLst/>
                    <a:ahLst/>
                    <a:rect l="l" t="t" r="r" b="b"/>
                    <a:pathLst>
                      <a:path w="100" h="156">
                        <a:moveTo>
                          <a:pt x="9" y="0"/>
                        </a:moveTo>
                        <a:lnTo>
                          <a:pt x="0" y="13"/>
                        </a:lnTo>
                        <a:lnTo>
                          <a:pt x="80" y="156"/>
                        </a:lnTo>
                        <a:lnTo>
                          <a:pt x="100" y="152"/>
                        </a:lnTo>
                        <a:lnTo>
                          <a:pt x="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5221440" y="3168720"/>
                    <a:ext cx="298440" cy="182520"/>
                  </a:xfrm>
                  <a:custGeom>
                    <a:avLst/>
                    <a:gdLst/>
                    <a:ahLst/>
                    <a:rect l="l" t="t" r="r" b="b"/>
                    <a:pathLst>
                      <a:path w="377" h="232">
                        <a:moveTo>
                          <a:pt x="377" y="229"/>
                        </a:moveTo>
                        <a:lnTo>
                          <a:pt x="377" y="211"/>
                        </a:lnTo>
                        <a:lnTo>
                          <a:pt x="377" y="170"/>
                        </a:lnTo>
                        <a:lnTo>
                          <a:pt x="373" y="126"/>
                        </a:lnTo>
                        <a:lnTo>
                          <a:pt x="367" y="95"/>
                        </a:lnTo>
                        <a:lnTo>
                          <a:pt x="363" y="90"/>
                        </a:lnTo>
                        <a:lnTo>
                          <a:pt x="360" y="84"/>
                        </a:lnTo>
                        <a:lnTo>
                          <a:pt x="354" y="78"/>
                        </a:lnTo>
                        <a:lnTo>
                          <a:pt x="347" y="69"/>
                        </a:lnTo>
                        <a:lnTo>
                          <a:pt x="339" y="61"/>
                        </a:lnTo>
                        <a:lnTo>
                          <a:pt x="331" y="53"/>
                        </a:lnTo>
                        <a:lnTo>
                          <a:pt x="321" y="45"/>
                        </a:lnTo>
                        <a:lnTo>
                          <a:pt x="309" y="36"/>
                        </a:lnTo>
                        <a:lnTo>
                          <a:pt x="296" y="28"/>
                        </a:lnTo>
                        <a:lnTo>
                          <a:pt x="281" y="21"/>
                        </a:lnTo>
                        <a:lnTo>
                          <a:pt x="266" y="14"/>
                        </a:lnTo>
                        <a:lnTo>
                          <a:pt x="250" y="10"/>
                        </a:lnTo>
                        <a:lnTo>
                          <a:pt x="233" y="5"/>
                        </a:lnTo>
                        <a:lnTo>
                          <a:pt x="213" y="1"/>
                        </a:lnTo>
                        <a:lnTo>
                          <a:pt x="194" y="0"/>
                        </a:lnTo>
                        <a:lnTo>
                          <a:pt x="172" y="1"/>
                        </a:lnTo>
                        <a:lnTo>
                          <a:pt x="132" y="7"/>
                        </a:lnTo>
                        <a:lnTo>
                          <a:pt x="98" y="18"/>
                        </a:lnTo>
                        <a:lnTo>
                          <a:pt x="71" y="31"/>
                        </a:lnTo>
                        <a:lnTo>
                          <a:pt x="49" y="45"/>
                        </a:lnTo>
                        <a:lnTo>
                          <a:pt x="31" y="59"/>
                        </a:lnTo>
                        <a:lnTo>
                          <a:pt x="21" y="71"/>
                        </a:lnTo>
                        <a:lnTo>
                          <a:pt x="14" y="79"/>
                        </a:lnTo>
                        <a:lnTo>
                          <a:pt x="12" y="82"/>
                        </a:lnTo>
                        <a:lnTo>
                          <a:pt x="0" y="205"/>
                        </a:lnTo>
                        <a:lnTo>
                          <a:pt x="52" y="232"/>
                        </a:lnTo>
                        <a:lnTo>
                          <a:pt x="377" y="22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6469200" y="3209760"/>
                    <a:ext cx="285480" cy="306720"/>
                  </a:xfrm>
                  <a:custGeom>
                    <a:avLst/>
                    <a:gdLst/>
                    <a:ahLst/>
                    <a:rect l="l" t="t" r="r" b="b"/>
                    <a:pathLst>
                      <a:path w="359" h="385">
                        <a:moveTo>
                          <a:pt x="282" y="353"/>
                        </a:moveTo>
                        <a:lnTo>
                          <a:pt x="337" y="385"/>
                        </a:lnTo>
                        <a:lnTo>
                          <a:pt x="341" y="385"/>
                        </a:lnTo>
                        <a:lnTo>
                          <a:pt x="350" y="382"/>
                        </a:lnTo>
                        <a:lnTo>
                          <a:pt x="357" y="369"/>
                        </a:lnTo>
                        <a:lnTo>
                          <a:pt x="359" y="344"/>
                        </a:lnTo>
                        <a:lnTo>
                          <a:pt x="358" y="292"/>
                        </a:lnTo>
                        <a:lnTo>
                          <a:pt x="358" y="222"/>
                        </a:lnTo>
                        <a:lnTo>
                          <a:pt x="359" y="159"/>
                        </a:lnTo>
                        <a:lnTo>
                          <a:pt x="359" y="133"/>
                        </a:lnTo>
                        <a:lnTo>
                          <a:pt x="337" y="133"/>
                        </a:lnTo>
                        <a:lnTo>
                          <a:pt x="290" y="37"/>
                        </a:lnTo>
                        <a:lnTo>
                          <a:pt x="289" y="36"/>
                        </a:lnTo>
                        <a:lnTo>
                          <a:pt x="285" y="31"/>
                        </a:lnTo>
                        <a:lnTo>
                          <a:pt x="278" y="25"/>
                        </a:lnTo>
                        <a:lnTo>
                          <a:pt x="270" y="18"/>
                        </a:lnTo>
                        <a:lnTo>
                          <a:pt x="260" y="11"/>
                        </a:lnTo>
                        <a:lnTo>
                          <a:pt x="247" y="5"/>
                        </a:lnTo>
                        <a:lnTo>
                          <a:pt x="233" y="1"/>
                        </a:lnTo>
                        <a:lnTo>
                          <a:pt x="217" y="0"/>
                        </a:lnTo>
                        <a:lnTo>
                          <a:pt x="197" y="1"/>
                        </a:lnTo>
                        <a:lnTo>
                          <a:pt x="170" y="4"/>
                        </a:lnTo>
                        <a:lnTo>
                          <a:pt x="141" y="6"/>
                        </a:lnTo>
                        <a:lnTo>
                          <a:pt x="112" y="8"/>
                        </a:lnTo>
                        <a:lnTo>
                          <a:pt x="86" y="10"/>
                        </a:lnTo>
                        <a:lnTo>
                          <a:pt x="63" y="12"/>
                        </a:lnTo>
                        <a:lnTo>
                          <a:pt x="48" y="13"/>
                        </a:lnTo>
                        <a:lnTo>
                          <a:pt x="42" y="13"/>
                        </a:lnTo>
                        <a:lnTo>
                          <a:pt x="0" y="149"/>
                        </a:lnTo>
                        <a:lnTo>
                          <a:pt x="282" y="35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5556240" y="3354480"/>
                    <a:ext cx="479520" cy="61920"/>
                  </a:xfrm>
                  <a:custGeom>
                    <a:avLst/>
                    <a:gdLst/>
                    <a:ahLst/>
                    <a:rect l="l" t="t" r="r" b="b"/>
                    <a:pathLst>
                      <a:path w="603" h="79">
                        <a:moveTo>
                          <a:pt x="0" y="0"/>
                        </a:moveTo>
                        <a:lnTo>
                          <a:pt x="0" y="3"/>
                        </a:lnTo>
                        <a:lnTo>
                          <a:pt x="1" y="11"/>
                        </a:lnTo>
                        <a:lnTo>
                          <a:pt x="3" y="21"/>
                        </a:lnTo>
                        <a:lnTo>
                          <a:pt x="8" y="33"/>
                        </a:lnTo>
                        <a:lnTo>
                          <a:pt x="15" y="46"/>
                        </a:lnTo>
                        <a:lnTo>
                          <a:pt x="25" y="58"/>
                        </a:lnTo>
                        <a:lnTo>
                          <a:pt x="38" y="68"/>
                        </a:lnTo>
                        <a:lnTo>
                          <a:pt x="55" y="75"/>
                        </a:lnTo>
                        <a:lnTo>
                          <a:pt x="537" y="79"/>
                        </a:lnTo>
                        <a:lnTo>
                          <a:pt x="540" y="78"/>
                        </a:lnTo>
                        <a:lnTo>
                          <a:pt x="547" y="76"/>
                        </a:lnTo>
                        <a:lnTo>
                          <a:pt x="559" y="72"/>
                        </a:lnTo>
                        <a:lnTo>
                          <a:pt x="571" y="66"/>
                        </a:lnTo>
                        <a:lnTo>
                          <a:pt x="584" y="57"/>
                        </a:lnTo>
                        <a:lnTo>
                          <a:pt x="594" y="46"/>
                        </a:lnTo>
                        <a:lnTo>
                          <a:pt x="601" y="31"/>
                        </a:lnTo>
                        <a:lnTo>
                          <a:pt x="603" y="14"/>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524" name=""/>
                  <p:cNvSpPr/>
                  <p:nvPr/>
                </p:nvSpPr>
                <p:spPr>
                  <a:xfrm>
                    <a:off x="5519880" y="3346560"/>
                    <a:ext cx="50760" cy="95040"/>
                  </a:xfrm>
                  <a:custGeom>
                    <a:avLst/>
                    <a:gdLst/>
                    <a:ahLst/>
                    <a:rect l="l" t="t" r="r" b="b"/>
                    <a:pathLst>
                      <a:path w="63" h="120">
                        <a:moveTo>
                          <a:pt x="0" y="120"/>
                        </a:moveTo>
                        <a:lnTo>
                          <a:pt x="61" y="68"/>
                        </a:lnTo>
                        <a:lnTo>
                          <a:pt x="62" y="61"/>
                        </a:lnTo>
                        <a:lnTo>
                          <a:pt x="63" y="43"/>
                        </a:lnTo>
                        <a:lnTo>
                          <a:pt x="62" y="21"/>
                        </a:lnTo>
                        <a:lnTo>
                          <a:pt x="58" y="0"/>
                        </a:lnTo>
                        <a:lnTo>
                          <a:pt x="2" y="13"/>
                        </a:lnTo>
                        <a:lnTo>
                          <a:pt x="0" y="12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6326280" y="3338640"/>
                    <a:ext cx="156960" cy="128520"/>
                  </a:xfrm>
                  <a:custGeom>
                    <a:avLst/>
                    <a:gdLst/>
                    <a:ahLst/>
                    <a:rect l="l" t="t" r="r" b="b"/>
                    <a:pathLst>
                      <a:path w="198" h="161">
                        <a:moveTo>
                          <a:pt x="162" y="161"/>
                        </a:moveTo>
                        <a:lnTo>
                          <a:pt x="155" y="161"/>
                        </a:lnTo>
                        <a:lnTo>
                          <a:pt x="137" y="159"/>
                        </a:lnTo>
                        <a:lnTo>
                          <a:pt x="110" y="153"/>
                        </a:lnTo>
                        <a:lnTo>
                          <a:pt x="82" y="143"/>
                        </a:lnTo>
                        <a:lnTo>
                          <a:pt x="52" y="123"/>
                        </a:lnTo>
                        <a:lnTo>
                          <a:pt x="25" y="94"/>
                        </a:lnTo>
                        <a:lnTo>
                          <a:pt x="7" y="54"/>
                        </a:lnTo>
                        <a:lnTo>
                          <a:pt x="0" y="0"/>
                        </a:lnTo>
                        <a:lnTo>
                          <a:pt x="148" y="1"/>
                        </a:lnTo>
                        <a:lnTo>
                          <a:pt x="198" y="29"/>
                        </a:lnTo>
                        <a:lnTo>
                          <a:pt x="162" y="16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5113440" y="2832120"/>
                    <a:ext cx="1703160" cy="557280"/>
                  </a:xfrm>
                  <a:custGeom>
                    <a:avLst/>
                    <a:gdLst/>
                    <a:ahLst/>
                    <a:rect l="l" t="t" r="r" b="b"/>
                    <a:pathLst>
                      <a:path w="2147" h="701">
                        <a:moveTo>
                          <a:pt x="1142" y="7"/>
                        </a:moveTo>
                        <a:lnTo>
                          <a:pt x="1143" y="7"/>
                        </a:lnTo>
                        <a:lnTo>
                          <a:pt x="1147" y="8"/>
                        </a:lnTo>
                        <a:lnTo>
                          <a:pt x="1152" y="12"/>
                        </a:lnTo>
                        <a:lnTo>
                          <a:pt x="1159" y="16"/>
                        </a:lnTo>
                        <a:lnTo>
                          <a:pt x="1166" y="25"/>
                        </a:lnTo>
                        <a:lnTo>
                          <a:pt x="1171" y="36"/>
                        </a:lnTo>
                        <a:lnTo>
                          <a:pt x="1175" y="52"/>
                        </a:lnTo>
                        <a:lnTo>
                          <a:pt x="1176" y="73"/>
                        </a:lnTo>
                        <a:lnTo>
                          <a:pt x="1176" y="143"/>
                        </a:lnTo>
                        <a:lnTo>
                          <a:pt x="1176" y="238"/>
                        </a:lnTo>
                        <a:lnTo>
                          <a:pt x="1176" y="321"/>
                        </a:lnTo>
                        <a:lnTo>
                          <a:pt x="1176" y="356"/>
                        </a:lnTo>
                        <a:lnTo>
                          <a:pt x="1209" y="405"/>
                        </a:lnTo>
                        <a:lnTo>
                          <a:pt x="1260" y="405"/>
                        </a:lnTo>
                        <a:lnTo>
                          <a:pt x="1969" y="405"/>
                        </a:lnTo>
                        <a:lnTo>
                          <a:pt x="1972" y="431"/>
                        </a:lnTo>
                        <a:lnTo>
                          <a:pt x="2128" y="486"/>
                        </a:lnTo>
                        <a:lnTo>
                          <a:pt x="2147" y="605"/>
                        </a:lnTo>
                        <a:lnTo>
                          <a:pt x="2047" y="609"/>
                        </a:lnTo>
                        <a:lnTo>
                          <a:pt x="2013" y="504"/>
                        </a:lnTo>
                        <a:lnTo>
                          <a:pt x="2010" y="503"/>
                        </a:lnTo>
                        <a:lnTo>
                          <a:pt x="2004" y="501"/>
                        </a:lnTo>
                        <a:lnTo>
                          <a:pt x="1996" y="496"/>
                        </a:lnTo>
                        <a:lnTo>
                          <a:pt x="1984" y="491"/>
                        </a:lnTo>
                        <a:lnTo>
                          <a:pt x="1970" y="488"/>
                        </a:lnTo>
                        <a:lnTo>
                          <a:pt x="1954" y="483"/>
                        </a:lnTo>
                        <a:lnTo>
                          <a:pt x="1935" y="481"/>
                        </a:lnTo>
                        <a:lnTo>
                          <a:pt x="1917" y="480"/>
                        </a:lnTo>
                        <a:lnTo>
                          <a:pt x="1895" y="480"/>
                        </a:lnTo>
                        <a:lnTo>
                          <a:pt x="1870" y="481"/>
                        </a:lnTo>
                        <a:lnTo>
                          <a:pt x="1842" y="483"/>
                        </a:lnTo>
                        <a:lnTo>
                          <a:pt x="1816" y="484"/>
                        </a:lnTo>
                        <a:lnTo>
                          <a:pt x="1790" y="486"/>
                        </a:lnTo>
                        <a:lnTo>
                          <a:pt x="1771" y="488"/>
                        </a:lnTo>
                        <a:lnTo>
                          <a:pt x="1757" y="489"/>
                        </a:lnTo>
                        <a:lnTo>
                          <a:pt x="1752" y="489"/>
                        </a:lnTo>
                        <a:lnTo>
                          <a:pt x="1700" y="641"/>
                        </a:lnTo>
                        <a:lnTo>
                          <a:pt x="1691" y="655"/>
                        </a:lnTo>
                        <a:lnTo>
                          <a:pt x="1668" y="648"/>
                        </a:lnTo>
                        <a:lnTo>
                          <a:pt x="1536" y="648"/>
                        </a:lnTo>
                        <a:lnTo>
                          <a:pt x="1535" y="670"/>
                        </a:lnTo>
                        <a:lnTo>
                          <a:pt x="1536" y="701"/>
                        </a:lnTo>
                        <a:lnTo>
                          <a:pt x="1264" y="700"/>
                        </a:lnTo>
                        <a:lnTo>
                          <a:pt x="1264" y="673"/>
                        </a:lnTo>
                        <a:lnTo>
                          <a:pt x="1138" y="673"/>
                        </a:lnTo>
                        <a:lnTo>
                          <a:pt x="507" y="673"/>
                        </a:lnTo>
                        <a:lnTo>
                          <a:pt x="510" y="596"/>
                        </a:lnTo>
                        <a:lnTo>
                          <a:pt x="510" y="589"/>
                        </a:lnTo>
                        <a:lnTo>
                          <a:pt x="509" y="572"/>
                        </a:lnTo>
                        <a:lnTo>
                          <a:pt x="506" y="548"/>
                        </a:lnTo>
                        <a:lnTo>
                          <a:pt x="496" y="519"/>
                        </a:lnTo>
                        <a:lnTo>
                          <a:pt x="478" y="490"/>
                        </a:lnTo>
                        <a:lnTo>
                          <a:pt x="451" y="464"/>
                        </a:lnTo>
                        <a:lnTo>
                          <a:pt x="410" y="444"/>
                        </a:lnTo>
                        <a:lnTo>
                          <a:pt x="355" y="434"/>
                        </a:lnTo>
                        <a:lnTo>
                          <a:pt x="354" y="434"/>
                        </a:lnTo>
                        <a:lnTo>
                          <a:pt x="349" y="434"/>
                        </a:lnTo>
                        <a:lnTo>
                          <a:pt x="343" y="433"/>
                        </a:lnTo>
                        <a:lnTo>
                          <a:pt x="335" y="433"/>
                        </a:lnTo>
                        <a:lnTo>
                          <a:pt x="325" y="434"/>
                        </a:lnTo>
                        <a:lnTo>
                          <a:pt x="312" y="435"/>
                        </a:lnTo>
                        <a:lnTo>
                          <a:pt x="300" y="436"/>
                        </a:lnTo>
                        <a:lnTo>
                          <a:pt x="285" y="438"/>
                        </a:lnTo>
                        <a:lnTo>
                          <a:pt x="269" y="442"/>
                        </a:lnTo>
                        <a:lnTo>
                          <a:pt x="252" y="446"/>
                        </a:lnTo>
                        <a:lnTo>
                          <a:pt x="235" y="453"/>
                        </a:lnTo>
                        <a:lnTo>
                          <a:pt x="217" y="460"/>
                        </a:lnTo>
                        <a:lnTo>
                          <a:pt x="199" y="469"/>
                        </a:lnTo>
                        <a:lnTo>
                          <a:pt x="181" y="481"/>
                        </a:lnTo>
                        <a:lnTo>
                          <a:pt x="164" y="495"/>
                        </a:lnTo>
                        <a:lnTo>
                          <a:pt x="147" y="510"/>
                        </a:lnTo>
                        <a:lnTo>
                          <a:pt x="151" y="514"/>
                        </a:lnTo>
                        <a:lnTo>
                          <a:pt x="160" y="526"/>
                        </a:lnTo>
                        <a:lnTo>
                          <a:pt x="168" y="547"/>
                        </a:lnTo>
                        <a:lnTo>
                          <a:pt x="167" y="577"/>
                        </a:lnTo>
                        <a:lnTo>
                          <a:pt x="164" y="593"/>
                        </a:lnTo>
                        <a:lnTo>
                          <a:pt x="159" y="605"/>
                        </a:lnTo>
                        <a:lnTo>
                          <a:pt x="155" y="617"/>
                        </a:lnTo>
                        <a:lnTo>
                          <a:pt x="149" y="626"/>
                        </a:lnTo>
                        <a:lnTo>
                          <a:pt x="142" y="634"/>
                        </a:lnTo>
                        <a:lnTo>
                          <a:pt x="134" y="640"/>
                        </a:lnTo>
                        <a:lnTo>
                          <a:pt x="125" y="645"/>
                        </a:lnTo>
                        <a:lnTo>
                          <a:pt x="112" y="648"/>
                        </a:lnTo>
                        <a:lnTo>
                          <a:pt x="98" y="650"/>
                        </a:lnTo>
                        <a:lnTo>
                          <a:pt x="83" y="653"/>
                        </a:lnTo>
                        <a:lnTo>
                          <a:pt x="68" y="653"/>
                        </a:lnTo>
                        <a:lnTo>
                          <a:pt x="53" y="652"/>
                        </a:lnTo>
                        <a:lnTo>
                          <a:pt x="39" y="647"/>
                        </a:lnTo>
                        <a:lnTo>
                          <a:pt x="27" y="640"/>
                        </a:lnTo>
                        <a:lnTo>
                          <a:pt x="16" y="628"/>
                        </a:lnTo>
                        <a:lnTo>
                          <a:pt x="8" y="612"/>
                        </a:lnTo>
                        <a:lnTo>
                          <a:pt x="5" y="601"/>
                        </a:lnTo>
                        <a:lnTo>
                          <a:pt x="3" y="588"/>
                        </a:lnTo>
                        <a:lnTo>
                          <a:pt x="0" y="574"/>
                        </a:lnTo>
                        <a:lnTo>
                          <a:pt x="0" y="562"/>
                        </a:lnTo>
                        <a:lnTo>
                          <a:pt x="0" y="547"/>
                        </a:lnTo>
                        <a:lnTo>
                          <a:pt x="3" y="533"/>
                        </a:lnTo>
                        <a:lnTo>
                          <a:pt x="6" y="520"/>
                        </a:lnTo>
                        <a:lnTo>
                          <a:pt x="12" y="507"/>
                        </a:lnTo>
                        <a:lnTo>
                          <a:pt x="19" y="498"/>
                        </a:lnTo>
                        <a:lnTo>
                          <a:pt x="29" y="489"/>
                        </a:lnTo>
                        <a:lnTo>
                          <a:pt x="41" y="483"/>
                        </a:lnTo>
                        <a:lnTo>
                          <a:pt x="54" y="481"/>
                        </a:lnTo>
                        <a:lnTo>
                          <a:pt x="53" y="324"/>
                        </a:lnTo>
                        <a:lnTo>
                          <a:pt x="54" y="323"/>
                        </a:lnTo>
                        <a:lnTo>
                          <a:pt x="58" y="318"/>
                        </a:lnTo>
                        <a:lnTo>
                          <a:pt x="64" y="313"/>
                        </a:lnTo>
                        <a:lnTo>
                          <a:pt x="73" y="305"/>
                        </a:lnTo>
                        <a:lnTo>
                          <a:pt x="85" y="297"/>
                        </a:lnTo>
                        <a:lnTo>
                          <a:pt x="102" y="288"/>
                        </a:lnTo>
                        <a:lnTo>
                          <a:pt x="121" y="282"/>
                        </a:lnTo>
                        <a:lnTo>
                          <a:pt x="144" y="276"/>
                        </a:lnTo>
                        <a:lnTo>
                          <a:pt x="170" y="271"/>
                        </a:lnTo>
                        <a:lnTo>
                          <a:pt x="193" y="267"/>
                        </a:lnTo>
                        <a:lnTo>
                          <a:pt x="216" y="264"/>
                        </a:lnTo>
                        <a:lnTo>
                          <a:pt x="239" y="261"/>
                        </a:lnTo>
                        <a:lnTo>
                          <a:pt x="259" y="260"/>
                        </a:lnTo>
                        <a:lnTo>
                          <a:pt x="281" y="258"/>
                        </a:lnTo>
                        <a:lnTo>
                          <a:pt x="302" y="258"/>
                        </a:lnTo>
                        <a:lnTo>
                          <a:pt x="323" y="260"/>
                        </a:lnTo>
                        <a:lnTo>
                          <a:pt x="334" y="260"/>
                        </a:lnTo>
                        <a:lnTo>
                          <a:pt x="348" y="260"/>
                        </a:lnTo>
                        <a:lnTo>
                          <a:pt x="363" y="260"/>
                        </a:lnTo>
                        <a:lnTo>
                          <a:pt x="380" y="260"/>
                        </a:lnTo>
                        <a:lnTo>
                          <a:pt x="399" y="260"/>
                        </a:lnTo>
                        <a:lnTo>
                          <a:pt x="417" y="260"/>
                        </a:lnTo>
                        <a:lnTo>
                          <a:pt x="436" y="260"/>
                        </a:lnTo>
                        <a:lnTo>
                          <a:pt x="455" y="258"/>
                        </a:lnTo>
                        <a:lnTo>
                          <a:pt x="472" y="258"/>
                        </a:lnTo>
                        <a:lnTo>
                          <a:pt x="490" y="257"/>
                        </a:lnTo>
                        <a:lnTo>
                          <a:pt x="505" y="257"/>
                        </a:lnTo>
                        <a:lnTo>
                          <a:pt x="519" y="257"/>
                        </a:lnTo>
                        <a:lnTo>
                          <a:pt x="530" y="256"/>
                        </a:lnTo>
                        <a:lnTo>
                          <a:pt x="539" y="256"/>
                        </a:lnTo>
                        <a:lnTo>
                          <a:pt x="544" y="256"/>
                        </a:lnTo>
                        <a:lnTo>
                          <a:pt x="546" y="256"/>
                        </a:lnTo>
                        <a:lnTo>
                          <a:pt x="779" y="57"/>
                        </a:lnTo>
                        <a:lnTo>
                          <a:pt x="782" y="54"/>
                        </a:lnTo>
                        <a:lnTo>
                          <a:pt x="793" y="48"/>
                        </a:lnTo>
                        <a:lnTo>
                          <a:pt x="810" y="38"/>
                        </a:lnTo>
                        <a:lnTo>
                          <a:pt x="831" y="28"/>
                        </a:lnTo>
                        <a:lnTo>
                          <a:pt x="856" y="18"/>
                        </a:lnTo>
                        <a:lnTo>
                          <a:pt x="884" y="8"/>
                        </a:lnTo>
                        <a:lnTo>
                          <a:pt x="913" y="3"/>
                        </a:lnTo>
                        <a:lnTo>
                          <a:pt x="942" y="0"/>
                        </a:lnTo>
                        <a:lnTo>
                          <a:pt x="945" y="0"/>
                        </a:lnTo>
                        <a:lnTo>
                          <a:pt x="947" y="0"/>
                        </a:lnTo>
                        <a:lnTo>
                          <a:pt x="948" y="1"/>
                        </a:lnTo>
                        <a:lnTo>
                          <a:pt x="951" y="1"/>
                        </a:lnTo>
                        <a:lnTo>
                          <a:pt x="1142" y="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6004080" y="2838600"/>
                    <a:ext cx="42840" cy="230040"/>
                  </a:xfrm>
                  <a:custGeom>
                    <a:avLst/>
                    <a:gdLst/>
                    <a:ahLst/>
                    <a:rect l="l" t="t" r="r" b="b"/>
                    <a:pathLst>
                      <a:path w="54" h="291">
                        <a:moveTo>
                          <a:pt x="0" y="0"/>
                        </a:moveTo>
                        <a:lnTo>
                          <a:pt x="5" y="5"/>
                        </a:lnTo>
                        <a:lnTo>
                          <a:pt x="16" y="19"/>
                        </a:lnTo>
                        <a:lnTo>
                          <a:pt x="27" y="41"/>
                        </a:lnTo>
                        <a:lnTo>
                          <a:pt x="31" y="68"/>
                        </a:lnTo>
                        <a:lnTo>
                          <a:pt x="31" y="118"/>
                        </a:lnTo>
                        <a:lnTo>
                          <a:pt x="31" y="186"/>
                        </a:lnTo>
                        <a:lnTo>
                          <a:pt x="31" y="247"/>
                        </a:lnTo>
                        <a:lnTo>
                          <a:pt x="31" y="272"/>
                        </a:lnTo>
                        <a:lnTo>
                          <a:pt x="54" y="291"/>
                        </a:lnTo>
                        <a:lnTo>
                          <a:pt x="54" y="66"/>
                        </a:lnTo>
                        <a:lnTo>
                          <a:pt x="54" y="57"/>
                        </a:lnTo>
                        <a:lnTo>
                          <a:pt x="53" y="35"/>
                        </a:lnTo>
                        <a:lnTo>
                          <a:pt x="45" y="15"/>
                        </a:lnTo>
                        <a:lnTo>
                          <a:pt x="28" y="7"/>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5510160" y="3152880"/>
                    <a:ext cx="604800" cy="214200"/>
                  </a:xfrm>
                  <a:custGeom>
                    <a:avLst/>
                    <a:gdLst/>
                    <a:ahLst/>
                    <a:rect l="l" t="t" r="r" b="b"/>
                    <a:pathLst>
                      <a:path w="764" h="268">
                        <a:moveTo>
                          <a:pt x="0" y="127"/>
                        </a:moveTo>
                        <a:lnTo>
                          <a:pt x="689" y="127"/>
                        </a:lnTo>
                        <a:lnTo>
                          <a:pt x="689" y="0"/>
                        </a:lnTo>
                        <a:lnTo>
                          <a:pt x="764" y="204"/>
                        </a:lnTo>
                        <a:lnTo>
                          <a:pt x="760" y="268"/>
                        </a:lnTo>
                        <a:lnTo>
                          <a:pt x="16" y="268"/>
                        </a:lnTo>
                        <a:lnTo>
                          <a:pt x="17" y="251"/>
                        </a:lnTo>
                        <a:lnTo>
                          <a:pt x="19" y="210"/>
                        </a:lnTo>
                        <a:lnTo>
                          <a:pt x="14" y="162"/>
                        </a:lnTo>
                        <a:lnTo>
                          <a:pt x="0" y="12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9" name=""/>
                  <p:cNvSpPr/>
                  <p:nvPr/>
                </p:nvSpPr>
                <p:spPr>
                  <a:xfrm>
                    <a:off x="5116680" y="3133800"/>
                    <a:ext cx="233280" cy="216000"/>
                  </a:xfrm>
                  <a:custGeom>
                    <a:avLst/>
                    <a:gdLst/>
                    <a:ahLst/>
                    <a:rect l="l" t="t" r="r" b="b"/>
                    <a:pathLst>
                      <a:path w="295" h="273">
                        <a:moveTo>
                          <a:pt x="84" y="129"/>
                        </a:moveTo>
                        <a:lnTo>
                          <a:pt x="86" y="131"/>
                        </a:lnTo>
                        <a:lnTo>
                          <a:pt x="91" y="138"/>
                        </a:lnTo>
                        <a:lnTo>
                          <a:pt x="98" y="149"/>
                        </a:lnTo>
                        <a:lnTo>
                          <a:pt x="105" y="162"/>
                        </a:lnTo>
                        <a:lnTo>
                          <a:pt x="109" y="177"/>
                        </a:lnTo>
                        <a:lnTo>
                          <a:pt x="113" y="193"/>
                        </a:lnTo>
                        <a:lnTo>
                          <a:pt x="113" y="209"/>
                        </a:lnTo>
                        <a:lnTo>
                          <a:pt x="107" y="223"/>
                        </a:lnTo>
                        <a:lnTo>
                          <a:pt x="95" y="233"/>
                        </a:lnTo>
                        <a:lnTo>
                          <a:pt x="80" y="237"/>
                        </a:lnTo>
                        <a:lnTo>
                          <a:pt x="63" y="237"/>
                        </a:lnTo>
                        <a:lnTo>
                          <a:pt x="45" y="233"/>
                        </a:lnTo>
                        <a:lnTo>
                          <a:pt x="27" y="228"/>
                        </a:lnTo>
                        <a:lnTo>
                          <a:pt x="14" y="222"/>
                        </a:lnTo>
                        <a:lnTo>
                          <a:pt x="3" y="219"/>
                        </a:lnTo>
                        <a:lnTo>
                          <a:pt x="0" y="216"/>
                        </a:lnTo>
                        <a:lnTo>
                          <a:pt x="1" y="219"/>
                        </a:lnTo>
                        <a:lnTo>
                          <a:pt x="3" y="224"/>
                        </a:lnTo>
                        <a:lnTo>
                          <a:pt x="7" y="232"/>
                        </a:lnTo>
                        <a:lnTo>
                          <a:pt x="12" y="243"/>
                        </a:lnTo>
                        <a:lnTo>
                          <a:pt x="19" y="252"/>
                        </a:lnTo>
                        <a:lnTo>
                          <a:pt x="29" y="261"/>
                        </a:lnTo>
                        <a:lnTo>
                          <a:pt x="39" y="268"/>
                        </a:lnTo>
                        <a:lnTo>
                          <a:pt x="52" y="272"/>
                        </a:lnTo>
                        <a:lnTo>
                          <a:pt x="67" y="273"/>
                        </a:lnTo>
                        <a:lnTo>
                          <a:pt x="84" y="273"/>
                        </a:lnTo>
                        <a:lnTo>
                          <a:pt x="101" y="270"/>
                        </a:lnTo>
                        <a:lnTo>
                          <a:pt x="120" y="266"/>
                        </a:lnTo>
                        <a:lnTo>
                          <a:pt x="135" y="257"/>
                        </a:lnTo>
                        <a:lnTo>
                          <a:pt x="148" y="243"/>
                        </a:lnTo>
                        <a:lnTo>
                          <a:pt x="158" y="223"/>
                        </a:lnTo>
                        <a:lnTo>
                          <a:pt x="162" y="197"/>
                        </a:lnTo>
                        <a:lnTo>
                          <a:pt x="162" y="187"/>
                        </a:lnTo>
                        <a:lnTo>
                          <a:pt x="161" y="167"/>
                        </a:lnTo>
                        <a:lnTo>
                          <a:pt x="155" y="144"/>
                        </a:lnTo>
                        <a:lnTo>
                          <a:pt x="142" y="130"/>
                        </a:lnTo>
                        <a:lnTo>
                          <a:pt x="145" y="126"/>
                        </a:lnTo>
                        <a:lnTo>
                          <a:pt x="155" y="118"/>
                        </a:lnTo>
                        <a:lnTo>
                          <a:pt x="171" y="108"/>
                        </a:lnTo>
                        <a:lnTo>
                          <a:pt x="191" y="94"/>
                        </a:lnTo>
                        <a:lnTo>
                          <a:pt x="215" y="80"/>
                        </a:lnTo>
                        <a:lnTo>
                          <a:pt x="241" y="68"/>
                        </a:lnTo>
                        <a:lnTo>
                          <a:pt x="267" y="57"/>
                        </a:lnTo>
                        <a:lnTo>
                          <a:pt x="295" y="51"/>
                        </a:lnTo>
                        <a:lnTo>
                          <a:pt x="290" y="53"/>
                        </a:lnTo>
                        <a:lnTo>
                          <a:pt x="276" y="54"/>
                        </a:lnTo>
                        <a:lnTo>
                          <a:pt x="258" y="56"/>
                        </a:lnTo>
                        <a:lnTo>
                          <a:pt x="235" y="57"/>
                        </a:lnTo>
                        <a:lnTo>
                          <a:pt x="211" y="58"/>
                        </a:lnTo>
                        <a:lnTo>
                          <a:pt x="189" y="58"/>
                        </a:lnTo>
                        <a:lnTo>
                          <a:pt x="169" y="56"/>
                        </a:lnTo>
                        <a:lnTo>
                          <a:pt x="155" y="51"/>
                        </a:lnTo>
                        <a:lnTo>
                          <a:pt x="139" y="36"/>
                        </a:lnTo>
                        <a:lnTo>
                          <a:pt x="130" y="19"/>
                        </a:lnTo>
                        <a:lnTo>
                          <a:pt x="124" y="5"/>
                        </a:lnTo>
                        <a:lnTo>
                          <a:pt x="123" y="0"/>
                        </a:lnTo>
                        <a:lnTo>
                          <a:pt x="122" y="11"/>
                        </a:lnTo>
                        <a:lnTo>
                          <a:pt x="121" y="39"/>
                        </a:lnTo>
                        <a:lnTo>
                          <a:pt x="118" y="69"/>
                        </a:lnTo>
                        <a:lnTo>
                          <a:pt x="116" y="89"/>
                        </a:lnTo>
                        <a:lnTo>
                          <a:pt x="110" y="102"/>
                        </a:lnTo>
                        <a:lnTo>
                          <a:pt x="99" y="115"/>
                        </a:lnTo>
                        <a:lnTo>
                          <a:pt x="89" y="125"/>
                        </a:lnTo>
                        <a:lnTo>
                          <a:pt x="84" y="12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0" name=""/>
                  <p:cNvSpPr/>
                  <p:nvPr/>
                </p:nvSpPr>
                <p:spPr>
                  <a:xfrm>
                    <a:off x="5672160" y="2865600"/>
                    <a:ext cx="304920" cy="201600"/>
                  </a:xfrm>
                  <a:custGeom>
                    <a:avLst/>
                    <a:gdLst/>
                    <a:ahLst/>
                    <a:rect l="l" t="t" r="r" b="b"/>
                    <a:pathLst>
                      <a:path w="385" h="253">
                        <a:moveTo>
                          <a:pt x="0" y="243"/>
                        </a:moveTo>
                        <a:lnTo>
                          <a:pt x="308" y="250"/>
                        </a:lnTo>
                        <a:lnTo>
                          <a:pt x="310" y="251"/>
                        </a:lnTo>
                        <a:lnTo>
                          <a:pt x="317" y="252"/>
                        </a:lnTo>
                        <a:lnTo>
                          <a:pt x="327" y="253"/>
                        </a:lnTo>
                        <a:lnTo>
                          <a:pt x="338" y="253"/>
                        </a:lnTo>
                        <a:lnTo>
                          <a:pt x="350" y="250"/>
                        </a:lnTo>
                        <a:lnTo>
                          <a:pt x="361" y="243"/>
                        </a:lnTo>
                        <a:lnTo>
                          <a:pt x="369" y="229"/>
                        </a:lnTo>
                        <a:lnTo>
                          <a:pt x="374" y="210"/>
                        </a:lnTo>
                        <a:lnTo>
                          <a:pt x="378" y="183"/>
                        </a:lnTo>
                        <a:lnTo>
                          <a:pt x="381" y="152"/>
                        </a:lnTo>
                        <a:lnTo>
                          <a:pt x="384" y="119"/>
                        </a:lnTo>
                        <a:lnTo>
                          <a:pt x="385" y="84"/>
                        </a:lnTo>
                        <a:lnTo>
                          <a:pt x="385" y="54"/>
                        </a:lnTo>
                        <a:lnTo>
                          <a:pt x="381" y="27"/>
                        </a:lnTo>
                        <a:lnTo>
                          <a:pt x="374" y="9"/>
                        </a:lnTo>
                        <a:lnTo>
                          <a:pt x="363" y="1"/>
                        </a:lnTo>
                        <a:lnTo>
                          <a:pt x="355" y="0"/>
                        </a:lnTo>
                        <a:lnTo>
                          <a:pt x="344" y="0"/>
                        </a:lnTo>
                        <a:lnTo>
                          <a:pt x="332" y="0"/>
                        </a:lnTo>
                        <a:lnTo>
                          <a:pt x="318" y="0"/>
                        </a:lnTo>
                        <a:lnTo>
                          <a:pt x="303" y="0"/>
                        </a:lnTo>
                        <a:lnTo>
                          <a:pt x="288" y="1"/>
                        </a:lnTo>
                        <a:lnTo>
                          <a:pt x="272" y="1"/>
                        </a:lnTo>
                        <a:lnTo>
                          <a:pt x="256" y="2"/>
                        </a:lnTo>
                        <a:lnTo>
                          <a:pt x="240" y="3"/>
                        </a:lnTo>
                        <a:lnTo>
                          <a:pt x="225" y="4"/>
                        </a:lnTo>
                        <a:lnTo>
                          <a:pt x="212" y="6"/>
                        </a:lnTo>
                        <a:lnTo>
                          <a:pt x="199" y="6"/>
                        </a:lnTo>
                        <a:lnTo>
                          <a:pt x="189" y="7"/>
                        </a:lnTo>
                        <a:lnTo>
                          <a:pt x="182" y="8"/>
                        </a:lnTo>
                        <a:lnTo>
                          <a:pt x="176" y="8"/>
                        </a:lnTo>
                        <a:lnTo>
                          <a:pt x="175" y="8"/>
                        </a:lnTo>
                        <a:lnTo>
                          <a:pt x="173" y="9"/>
                        </a:lnTo>
                        <a:lnTo>
                          <a:pt x="166" y="10"/>
                        </a:lnTo>
                        <a:lnTo>
                          <a:pt x="156" y="12"/>
                        </a:lnTo>
                        <a:lnTo>
                          <a:pt x="144" y="17"/>
                        </a:lnTo>
                        <a:lnTo>
                          <a:pt x="131" y="22"/>
                        </a:lnTo>
                        <a:lnTo>
                          <a:pt x="119" y="26"/>
                        </a:lnTo>
                        <a:lnTo>
                          <a:pt x="107" y="33"/>
                        </a:lnTo>
                        <a:lnTo>
                          <a:pt x="98" y="40"/>
                        </a:lnTo>
                        <a:lnTo>
                          <a:pt x="89" y="49"/>
                        </a:lnTo>
                        <a:lnTo>
                          <a:pt x="75" y="61"/>
                        </a:lnTo>
                        <a:lnTo>
                          <a:pt x="61" y="75"/>
                        </a:lnTo>
                        <a:lnTo>
                          <a:pt x="45" y="87"/>
                        </a:lnTo>
                        <a:lnTo>
                          <a:pt x="31" y="100"/>
                        </a:lnTo>
                        <a:lnTo>
                          <a:pt x="18" y="110"/>
                        </a:lnTo>
                        <a:lnTo>
                          <a:pt x="10" y="119"/>
                        </a:lnTo>
                        <a:lnTo>
                          <a:pt x="7" y="121"/>
                        </a:lnTo>
                        <a:lnTo>
                          <a:pt x="9" y="135"/>
                        </a:lnTo>
                        <a:lnTo>
                          <a:pt x="13" y="167"/>
                        </a:lnTo>
                        <a:lnTo>
                          <a:pt x="10" y="207"/>
                        </a:lnTo>
                        <a:lnTo>
                          <a:pt x="0" y="24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1" name=""/>
                  <p:cNvSpPr/>
                  <p:nvPr/>
                </p:nvSpPr>
                <p:spPr>
                  <a:xfrm>
                    <a:off x="5597640" y="2957400"/>
                    <a:ext cx="82440" cy="111240"/>
                  </a:xfrm>
                  <a:custGeom>
                    <a:avLst/>
                    <a:gdLst/>
                    <a:ahLst/>
                    <a:rect l="l" t="t" r="r" b="b"/>
                    <a:pathLst>
                      <a:path w="104" h="142">
                        <a:moveTo>
                          <a:pt x="99" y="6"/>
                        </a:moveTo>
                        <a:lnTo>
                          <a:pt x="100" y="10"/>
                        </a:lnTo>
                        <a:lnTo>
                          <a:pt x="101" y="22"/>
                        </a:lnTo>
                        <a:lnTo>
                          <a:pt x="102" y="39"/>
                        </a:lnTo>
                        <a:lnTo>
                          <a:pt x="104" y="60"/>
                        </a:lnTo>
                        <a:lnTo>
                          <a:pt x="101" y="81"/>
                        </a:lnTo>
                        <a:lnTo>
                          <a:pt x="98" y="100"/>
                        </a:lnTo>
                        <a:lnTo>
                          <a:pt x="91" y="115"/>
                        </a:lnTo>
                        <a:lnTo>
                          <a:pt x="79" y="125"/>
                        </a:lnTo>
                        <a:lnTo>
                          <a:pt x="15" y="142"/>
                        </a:lnTo>
                        <a:lnTo>
                          <a:pt x="10" y="136"/>
                        </a:lnTo>
                        <a:lnTo>
                          <a:pt x="3" y="121"/>
                        </a:lnTo>
                        <a:lnTo>
                          <a:pt x="0" y="106"/>
                        </a:lnTo>
                        <a:lnTo>
                          <a:pt x="9" y="95"/>
                        </a:lnTo>
                        <a:lnTo>
                          <a:pt x="16" y="89"/>
                        </a:lnTo>
                        <a:lnTo>
                          <a:pt x="22" y="80"/>
                        </a:lnTo>
                        <a:lnTo>
                          <a:pt x="26" y="67"/>
                        </a:lnTo>
                        <a:lnTo>
                          <a:pt x="30" y="52"/>
                        </a:lnTo>
                        <a:lnTo>
                          <a:pt x="34" y="38"/>
                        </a:lnTo>
                        <a:lnTo>
                          <a:pt x="39" y="24"/>
                        </a:lnTo>
                        <a:lnTo>
                          <a:pt x="46" y="13"/>
                        </a:lnTo>
                        <a:lnTo>
                          <a:pt x="54" y="6"/>
                        </a:lnTo>
                        <a:lnTo>
                          <a:pt x="63" y="2"/>
                        </a:lnTo>
                        <a:lnTo>
                          <a:pt x="71" y="0"/>
                        </a:lnTo>
                        <a:lnTo>
                          <a:pt x="79" y="0"/>
                        </a:lnTo>
                        <a:lnTo>
                          <a:pt x="86" y="1"/>
                        </a:lnTo>
                        <a:lnTo>
                          <a:pt x="91" y="2"/>
                        </a:lnTo>
                        <a:lnTo>
                          <a:pt x="95" y="4"/>
                        </a:lnTo>
                        <a:lnTo>
                          <a:pt x="98" y="6"/>
                        </a:lnTo>
                        <a:lnTo>
                          <a:pt x="99" y="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602320" y="2989440"/>
                    <a:ext cx="71280" cy="71280"/>
                  </a:xfrm>
                  <a:custGeom>
                    <a:avLst/>
                    <a:gdLst/>
                    <a:ahLst/>
                    <a:rect l="l" t="t" r="r" b="b"/>
                    <a:pathLst>
                      <a:path w="89" h="89">
                        <a:moveTo>
                          <a:pt x="70" y="0"/>
                        </a:moveTo>
                        <a:lnTo>
                          <a:pt x="72" y="5"/>
                        </a:lnTo>
                        <a:lnTo>
                          <a:pt x="74" y="19"/>
                        </a:lnTo>
                        <a:lnTo>
                          <a:pt x="73" y="36"/>
                        </a:lnTo>
                        <a:lnTo>
                          <a:pt x="61" y="50"/>
                        </a:lnTo>
                        <a:lnTo>
                          <a:pt x="50" y="56"/>
                        </a:lnTo>
                        <a:lnTo>
                          <a:pt x="40" y="59"/>
                        </a:lnTo>
                        <a:lnTo>
                          <a:pt x="30" y="63"/>
                        </a:lnTo>
                        <a:lnTo>
                          <a:pt x="20" y="65"/>
                        </a:lnTo>
                        <a:lnTo>
                          <a:pt x="12" y="66"/>
                        </a:lnTo>
                        <a:lnTo>
                          <a:pt x="5" y="68"/>
                        </a:lnTo>
                        <a:lnTo>
                          <a:pt x="1" y="68"/>
                        </a:lnTo>
                        <a:lnTo>
                          <a:pt x="0" y="68"/>
                        </a:lnTo>
                        <a:lnTo>
                          <a:pt x="16" y="89"/>
                        </a:lnTo>
                        <a:lnTo>
                          <a:pt x="19" y="89"/>
                        </a:lnTo>
                        <a:lnTo>
                          <a:pt x="27" y="87"/>
                        </a:lnTo>
                        <a:lnTo>
                          <a:pt x="38" y="85"/>
                        </a:lnTo>
                        <a:lnTo>
                          <a:pt x="51" y="80"/>
                        </a:lnTo>
                        <a:lnTo>
                          <a:pt x="64" y="74"/>
                        </a:lnTo>
                        <a:lnTo>
                          <a:pt x="77" y="66"/>
                        </a:lnTo>
                        <a:lnTo>
                          <a:pt x="85" y="57"/>
                        </a:lnTo>
                        <a:lnTo>
                          <a:pt x="89" y="45"/>
                        </a:lnTo>
                        <a:lnTo>
                          <a:pt x="88" y="23"/>
                        </a:lnTo>
                        <a:lnTo>
                          <a:pt x="81" y="9"/>
                        </a:lnTo>
                        <a:lnTo>
                          <a:pt x="73" y="2"/>
                        </a:lnTo>
                        <a:lnTo>
                          <a:pt x="7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33" name=""/>
                  <p:cNvSpPr/>
                  <p:nvPr/>
                </p:nvSpPr>
                <p:spPr>
                  <a:xfrm>
                    <a:off x="6434280" y="3276720"/>
                    <a:ext cx="291960" cy="296640"/>
                  </a:xfrm>
                  <a:custGeom>
                    <a:avLst/>
                    <a:gdLst/>
                    <a:ahLst/>
                    <a:rect l="l" t="t" r="r" b="b"/>
                    <a:pathLst>
                      <a:path w="367" h="374">
                        <a:moveTo>
                          <a:pt x="367" y="187"/>
                        </a:moveTo>
                        <a:lnTo>
                          <a:pt x="366" y="207"/>
                        </a:lnTo>
                        <a:lnTo>
                          <a:pt x="364" y="225"/>
                        </a:lnTo>
                        <a:lnTo>
                          <a:pt x="359" y="243"/>
                        </a:lnTo>
                        <a:lnTo>
                          <a:pt x="352" y="260"/>
                        </a:lnTo>
                        <a:lnTo>
                          <a:pt x="345" y="276"/>
                        </a:lnTo>
                        <a:lnTo>
                          <a:pt x="336" y="292"/>
                        </a:lnTo>
                        <a:lnTo>
                          <a:pt x="325" y="306"/>
                        </a:lnTo>
                        <a:lnTo>
                          <a:pt x="313" y="320"/>
                        </a:lnTo>
                        <a:lnTo>
                          <a:pt x="300" y="331"/>
                        </a:lnTo>
                        <a:lnTo>
                          <a:pt x="285" y="342"/>
                        </a:lnTo>
                        <a:lnTo>
                          <a:pt x="270" y="352"/>
                        </a:lnTo>
                        <a:lnTo>
                          <a:pt x="254" y="359"/>
                        </a:lnTo>
                        <a:lnTo>
                          <a:pt x="237" y="366"/>
                        </a:lnTo>
                        <a:lnTo>
                          <a:pt x="220" y="370"/>
                        </a:lnTo>
                        <a:lnTo>
                          <a:pt x="201" y="373"/>
                        </a:lnTo>
                        <a:lnTo>
                          <a:pt x="183" y="374"/>
                        </a:lnTo>
                        <a:lnTo>
                          <a:pt x="183" y="374"/>
                        </a:lnTo>
                        <a:lnTo>
                          <a:pt x="182" y="374"/>
                        </a:lnTo>
                        <a:lnTo>
                          <a:pt x="182" y="374"/>
                        </a:lnTo>
                        <a:lnTo>
                          <a:pt x="181" y="374"/>
                        </a:lnTo>
                        <a:lnTo>
                          <a:pt x="144" y="369"/>
                        </a:lnTo>
                        <a:lnTo>
                          <a:pt x="110" y="359"/>
                        </a:lnTo>
                        <a:lnTo>
                          <a:pt x="79" y="342"/>
                        </a:lnTo>
                        <a:lnTo>
                          <a:pt x="53" y="319"/>
                        </a:lnTo>
                        <a:lnTo>
                          <a:pt x="31" y="291"/>
                        </a:lnTo>
                        <a:lnTo>
                          <a:pt x="14" y="260"/>
                        </a:lnTo>
                        <a:lnTo>
                          <a:pt x="3" y="224"/>
                        </a:lnTo>
                        <a:lnTo>
                          <a:pt x="0" y="187"/>
                        </a:lnTo>
                        <a:lnTo>
                          <a:pt x="3" y="149"/>
                        </a:lnTo>
                        <a:lnTo>
                          <a:pt x="14" y="115"/>
                        </a:lnTo>
                        <a:lnTo>
                          <a:pt x="31" y="82"/>
                        </a:lnTo>
                        <a:lnTo>
                          <a:pt x="54" y="55"/>
                        </a:lnTo>
                        <a:lnTo>
                          <a:pt x="80" y="33"/>
                        </a:lnTo>
                        <a:lnTo>
                          <a:pt x="111" y="15"/>
                        </a:lnTo>
                        <a:lnTo>
                          <a:pt x="146" y="4"/>
                        </a:lnTo>
                        <a:lnTo>
                          <a:pt x="183" y="0"/>
                        </a:lnTo>
                        <a:lnTo>
                          <a:pt x="201" y="2"/>
                        </a:lnTo>
                        <a:lnTo>
                          <a:pt x="220" y="4"/>
                        </a:lnTo>
                        <a:lnTo>
                          <a:pt x="237" y="9"/>
                        </a:lnTo>
                        <a:lnTo>
                          <a:pt x="254" y="15"/>
                        </a:lnTo>
                        <a:lnTo>
                          <a:pt x="270" y="22"/>
                        </a:lnTo>
                        <a:lnTo>
                          <a:pt x="285" y="33"/>
                        </a:lnTo>
                        <a:lnTo>
                          <a:pt x="300" y="43"/>
                        </a:lnTo>
                        <a:lnTo>
                          <a:pt x="313" y="55"/>
                        </a:lnTo>
                        <a:lnTo>
                          <a:pt x="325" y="68"/>
                        </a:lnTo>
                        <a:lnTo>
                          <a:pt x="336" y="82"/>
                        </a:lnTo>
                        <a:lnTo>
                          <a:pt x="345" y="98"/>
                        </a:lnTo>
                        <a:lnTo>
                          <a:pt x="352" y="115"/>
                        </a:lnTo>
                        <a:lnTo>
                          <a:pt x="359" y="132"/>
                        </a:lnTo>
                        <a:lnTo>
                          <a:pt x="364" y="149"/>
                        </a:lnTo>
                        <a:lnTo>
                          <a:pt x="366" y="168"/>
                        </a:lnTo>
                        <a:lnTo>
                          <a:pt x="367" y="18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4" name=""/>
                  <p:cNvSpPr/>
                  <p:nvPr/>
                </p:nvSpPr>
                <p:spPr>
                  <a:xfrm>
                    <a:off x="6548400" y="3440160"/>
                    <a:ext cx="176400" cy="128520"/>
                  </a:xfrm>
                  <a:custGeom>
                    <a:avLst/>
                    <a:gdLst/>
                    <a:ahLst/>
                    <a:rect l="l" t="t" r="r" b="b"/>
                    <a:pathLst>
                      <a:path w="222" h="161">
                        <a:moveTo>
                          <a:pt x="76" y="159"/>
                        </a:moveTo>
                        <a:lnTo>
                          <a:pt x="96" y="155"/>
                        </a:lnTo>
                        <a:lnTo>
                          <a:pt x="118" y="148"/>
                        </a:lnTo>
                        <a:lnTo>
                          <a:pt x="139" y="138"/>
                        </a:lnTo>
                        <a:lnTo>
                          <a:pt x="160" y="124"/>
                        </a:lnTo>
                        <a:lnTo>
                          <a:pt x="179" y="107"/>
                        </a:lnTo>
                        <a:lnTo>
                          <a:pt x="195" y="83"/>
                        </a:lnTo>
                        <a:lnTo>
                          <a:pt x="210" y="54"/>
                        </a:lnTo>
                        <a:lnTo>
                          <a:pt x="222" y="18"/>
                        </a:lnTo>
                        <a:lnTo>
                          <a:pt x="182" y="0"/>
                        </a:lnTo>
                        <a:lnTo>
                          <a:pt x="182" y="4"/>
                        </a:lnTo>
                        <a:lnTo>
                          <a:pt x="181" y="17"/>
                        </a:lnTo>
                        <a:lnTo>
                          <a:pt x="176" y="37"/>
                        </a:lnTo>
                        <a:lnTo>
                          <a:pt x="167" y="60"/>
                        </a:lnTo>
                        <a:lnTo>
                          <a:pt x="151" y="84"/>
                        </a:lnTo>
                        <a:lnTo>
                          <a:pt x="128" y="108"/>
                        </a:lnTo>
                        <a:lnTo>
                          <a:pt x="94" y="130"/>
                        </a:lnTo>
                        <a:lnTo>
                          <a:pt x="50" y="146"/>
                        </a:lnTo>
                        <a:lnTo>
                          <a:pt x="45" y="147"/>
                        </a:lnTo>
                        <a:lnTo>
                          <a:pt x="39" y="149"/>
                        </a:lnTo>
                        <a:lnTo>
                          <a:pt x="33" y="151"/>
                        </a:lnTo>
                        <a:lnTo>
                          <a:pt x="27" y="152"/>
                        </a:lnTo>
                        <a:lnTo>
                          <a:pt x="20" y="153"/>
                        </a:lnTo>
                        <a:lnTo>
                          <a:pt x="13" y="153"/>
                        </a:lnTo>
                        <a:lnTo>
                          <a:pt x="7" y="154"/>
                        </a:lnTo>
                        <a:lnTo>
                          <a:pt x="0" y="155"/>
                        </a:lnTo>
                        <a:lnTo>
                          <a:pt x="1" y="155"/>
                        </a:lnTo>
                        <a:lnTo>
                          <a:pt x="5" y="156"/>
                        </a:lnTo>
                        <a:lnTo>
                          <a:pt x="12" y="158"/>
                        </a:lnTo>
                        <a:lnTo>
                          <a:pt x="23" y="159"/>
                        </a:lnTo>
                        <a:lnTo>
                          <a:pt x="33" y="160"/>
                        </a:lnTo>
                        <a:lnTo>
                          <a:pt x="47" y="161"/>
                        </a:lnTo>
                        <a:lnTo>
                          <a:pt x="61" y="160"/>
                        </a:lnTo>
                        <a:lnTo>
                          <a:pt x="76" y="15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6496200" y="3340080"/>
                    <a:ext cx="166680" cy="169920"/>
                  </a:xfrm>
                  <a:custGeom>
                    <a:avLst/>
                    <a:gdLst/>
                    <a:ahLst/>
                    <a:rect l="l" t="t" r="r" b="b"/>
                    <a:pathLst>
                      <a:path w="210" h="214">
                        <a:moveTo>
                          <a:pt x="210" y="107"/>
                        </a:moveTo>
                        <a:lnTo>
                          <a:pt x="207" y="129"/>
                        </a:lnTo>
                        <a:lnTo>
                          <a:pt x="202" y="149"/>
                        </a:lnTo>
                        <a:lnTo>
                          <a:pt x="192" y="167"/>
                        </a:lnTo>
                        <a:lnTo>
                          <a:pt x="180" y="183"/>
                        </a:lnTo>
                        <a:lnTo>
                          <a:pt x="164" y="196"/>
                        </a:lnTo>
                        <a:lnTo>
                          <a:pt x="146" y="206"/>
                        </a:lnTo>
                        <a:lnTo>
                          <a:pt x="127" y="212"/>
                        </a:lnTo>
                        <a:lnTo>
                          <a:pt x="105" y="214"/>
                        </a:lnTo>
                        <a:lnTo>
                          <a:pt x="84" y="212"/>
                        </a:lnTo>
                        <a:lnTo>
                          <a:pt x="65" y="206"/>
                        </a:lnTo>
                        <a:lnTo>
                          <a:pt x="46" y="196"/>
                        </a:lnTo>
                        <a:lnTo>
                          <a:pt x="31" y="183"/>
                        </a:lnTo>
                        <a:lnTo>
                          <a:pt x="18" y="167"/>
                        </a:lnTo>
                        <a:lnTo>
                          <a:pt x="8" y="149"/>
                        </a:lnTo>
                        <a:lnTo>
                          <a:pt x="2" y="129"/>
                        </a:lnTo>
                        <a:lnTo>
                          <a:pt x="0" y="107"/>
                        </a:lnTo>
                        <a:lnTo>
                          <a:pt x="2" y="85"/>
                        </a:lnTo>
                        <a:lnTo>
                          <a:pt x="8" y="66"/>
                        </a:lnTo>
                        <a:lnTo>
                          <a:pt x="18" y="47"/>
                        </a:lnTo>
                        <a:lnTo>
                          <a:pt x="31" y="31"/>
                        </a:lnTo>
                        <a:lnTo>
                          <a:pt x="46" y="18"/>
                        </a:lnTo>
                        <a:lnTo>
                          <a:pt x="65" y="8"/>
                        </a:lnTo>
                        <a:lnTo>
                          <a:pt x="84" y="2"/>
                        </a:lnTo>
                        <a:lnTo>
                          <a:pt x="105" y="0"/>
                        </a:lnTo>
                        <a:lnTo>
                          <a:pt x="127" y="2"/>
                        </a:lnTo>
                        <a:lnTo>
                          <a:pt x="146" y="8"/>
                        </a:lnTo>
                        <a:lnTo>
                          <a:pt x="164" y="18"/>
                        </a:lnTo>
                        <a:lnTo>
                          <a:pt x="180" y="31"/>
                        </a:lnTo>
                        <a:lnTo>
                          <a:pt x="192" y="47"/>
                        </a:lnTo>
                        <a:lnTo>
                          <a:pt x="202" y="66"/>
                        </a:lnTo>
                        <a:lnTo>
                          <a:pt x="207" y="85"/>
                        </a:lnTo>
                        <a:lnTo>
                          <a:pt x="210" y="10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6537240" y="3379680"/>
                    <a:ext cx="46080" cy="47880"/>
                  </a:xfrm>
                  <a:custGeom>
                    <a:avLst/>
                    <a:gdLst/>
                    <a:ahLst/>
                    <a:rect l="l" t="t" r="r" b="b"/>
                    <a:pathLst>
                      <a:path w="58" h="59">
                        <a:moveTo>
                          <a:pt x="58" y="29"/>
                        </a:moveTo>
                        <a:lnTo>
                          <a:pt x="55" y="40"/>
                        </a:lnTo>
                        <a:lnTo>
                          <a:pt x="50" y="49"/>
                        </a:lnTo>
                        <a:lnTo>
                          <a:pt x="40" y="56"/>
                        </a:lnTo>
                        <a:lnTo>
                          <a:pt x="29" y="59"/>
                        </a:lnTo>
                        <a:lnTo>
                          <a:pt x="17" y="56"/>
                        </a:lnTo>
                        <a:lnTo>
                          <a:pt x="8" y="49"/>
                        </a:lnTo>
                        <a:lnTo>
                          <a:pt x="2" y="40"/>
                        </a:lnTo>
                        <a:lnTo>
                          <a:pt x="0" y="29"/>
                        </a:lnTo>
                        <a:lnTo>
                          <a:pt x="2" y="17"/>
                        </a:lnTo>
                        <a:lnTo>
                          <a:pt x="8" y="8"/>
                        </a:lnTo>
                        <a:lnTo>
                          <a:pt x="17" y="2"/>
                        </a:lnTo>
                        <a:lnTo>
                          <a:pt x="29" y="0"/>
                        </a:lnTo>
                        <a:lnTo>
                          <a:pt x="40" y="2"/>
                        </a:lnTo>
                        <a:lnTo>
                          <a:pt x="50" y="8"/>
                        </a:lnTo>
                        <a:lnTo>
                          <a:pt x="55" y="17"/>
                        </a:lnTo>
                        <a:lnTo>
                          <a:pt x="58" y="2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37" name=""/>
                  <p:cNvSpPr/>
                  <p:nvPr/>
                </p:nvSpPr>
                <p:spPr>
                  <a:xfrm>
                    <a:off x="6556320" y="3387600"/>
                    <a:ext cx="17640" cy="17640"/>
                  </a:xfrm>
                  <a:custGeom>
                    <a:avLst/>
                    <a:gdLst/>
                    <a:ahLst/>
                    <a:rect l="l" t="t" r="r" b="b"/>
                    <a:pathLst>
                      <a:path w="22" h="22">
                        <a:moveTo>
                          <a:pt x="22" y="11"/>
                        </a:moveTo>
                        <a:lnTo>
                          <a:pt x="21" y="16"/>
                        </a:lnTo>
                        <a:lnTo>
                          <a:pt x="18" y="18"/>
                        </a:lnTo>
                        <a:lnTo>
                          <a:pt x="15" y="21"/>
                        </a:lnTo>
                        <a:lnTo>
                          <a:pt x="10" y="22"/>
                        </a:lnTo>
                        <a:lnTo>
                          <a:pt x="6" y="21"/>
                        </a:lnTo>
                        <a:lnTo>
                          <a:pt x="3" y="18"/>
                        </a:lnTo>
                        <a:lnTo>
                          <a:pt x="1" y="16"/>
                        </a:lnTo>
                        <a:lnTo>
                          <a:pt x="0" y="11"/>
                        </a:lnTo>
                        <a:lnTo>
                          <a:pt x="1" y="7"/>
                        </a:lnTo>
                        <a:lnTo>
                          <a:pt x="3" y="3"/>
                        </a:lnTo>
                        <a:lnTo>
                          <a:pt x="6" y="1"/>
                        </a:lnTo>
                        <a:lnTo>
                          <a:pt x="10" y="0"/>
                        </a:lnTo>
                        <a:lnTo>
                          <a:pt x="15" y="1"/>
                        </a:lnTo>
                        <a:lnTo>
                          <a:pt x="18" y="3"/>
                        </a:lnTo>
                        <a:lnTo>
                          <a:pt x="21" y="7"/>
                        </a:lnTo>
                        <a:lnTo>
                          <a:pt x="22" y="1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38" name=""/>
                  <p:cNvSpPr/>
                  <p:nvPr/>
                </p:nvSpPr>
                <p:spPr>
                  <a:xfrm>
                    <a:off x="6583320" y="3384720"/>
                    <a:ext cx="17640" cy="17280"/>
                  </a:xfrm>
                  <a:custGeom>
                    <a:avLst/>
                    <a:gdLst/>
                    <a:ahLst/>
                    <a:rect l="l" t="t" r="r" b="b"/>
                    <a:pathLst>
                      <a:path w="21" h="22">
                        <a:moveTo>
                          <a:pt x="19" y="19"/>
                        </a:moveTo>
                        <a:lnTo>
                          <a:pt x="16" y="21"/>
                        </a:lnTo>
                        <a:lnTo>
                          <a:pt x="11" y="22"/>
                        </a:lnTo>
                        <a:lnTo>
                          <a:pt x="7" y="21"/>
                        </a:lnTo>
                        <a:lnTo>
                          <a:pt x="3" y="19"/>
                        </a:lnTo>
                        <a:lnTo>
                          <a:pt x="1" y="15"/>
                        </a:lnTo>
                        <a:lnTo>
                          <a:pt x="0" y="12"/>
                        </a:lnTo>
                        <a:lnTo>
                          <a:pt x="1" y="7"/>
                        </a:lnTo>
                        <a:lnTo>
                          <a:pt x="3" y="4"/>
                        </a:lnTo>
                        <a:lnTo>
                          <a:pt x="7" y="2"/>
                        </a:lnTo>
                        <a:lnTo>
                          <a:pt x="11" y="0"/>
                        </a:lnTo>
                        <a:lnTo>
                          <a:pt x="16" y="2"/>
                        </a:lnTo>
                        <a:lnTo>
                          <a:pt x="19" y="4"/>
                        </a:lnTo>
                        <a:lnTo>
                          <a:pt x="21" y="7"/>
                        </a:lnTo>
                        <a:lnTo>
                          <a:pt x="21" y="12"/>
                        </a:lnTo>
                        <a:lnTo>
                          <a:pt x="21" y="15"/>
                        </a:lnTo>
                        <a:lnTo>
                          <a:pt x="19" y="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39" name=""/>
                  <p:cNvSpPr/>
                  <p:nvPr/>
                </p:nvSpPr>
                <p:spPr>
                  <a:xfrm>
                    <a:off x="6605640" y="3402000"/>
                    <a:ext cx="17280" cy="17640"/>
                  </a:xfrm>
                  <a:custGeom>
                    <a:avLst/>
                    <a:gdLst/>
                    <a:ahLst/>
                    <a:rect l="l" t="t" r="r" b="b"/>
                    <a:pathLst>
                      <a:path w="22" h="22">
                        <a:moveTo>
                          <a:pt x="12" y="22"/>
                        </a:moveTo>
                        <a:lnTo>
                          <a:pt x="7" y="21"/>
                        </a:lnTo>
                        <a:lnTo>
                          <a:pt x="4" y="19"/>
                        </a:lnTo>
                        <a:lnTo>
                          <a:pt x="1" y="17"/>
                        </a:lnTo>
                        <a:lnTo>
                          <a:pt x="0" y="12"/>
                        </a:lnTo>
                        <a:lnTo>
                          <a:pt x="1" y="7"/>
                        </a:lnTo>
                        <a:lnTo>
                          <a:pt x="4" y="4"/>
                        </a:lnTo>
                        <a:lnTo>
                          <a:pt x="7" y="2"/>
                        </a:lnTo>
                        <a:lnTo>
                          <a:pt x="12" y="0"/>
                        </a:lnTo>
                        <a:lnTo>
                          <a:pt x="16" y="2"/>
                        </a:lnTo>
                        <a:lnTo>
                          <a:pt x="19" y="4"/>
                        </a:lnTo>
                        <a:lnTo>
                          <a:pt x="21" y="7"/>
                        </a:lnTo>
                        <a:lnTo>
                          <a:pt x="22" y="12"/>
                        </a:lnTo>
                        <a:lnTo>
                          <a:pt x="21" y="17"/>
                        </a:lnTo>
                        <a:lnTo>
                          <a:pt x="19" y="19"/>
                        </a:lnTo>
                        <a:lnTo>
                          <a:pt x="16" y="21"/>
                        </a:lnTo>
                        <a:lnTo>
                          <a:pt x="12"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0" name=""/>
                  <p:cNvSpPr/>
                  <p:nvPr/>
                </p:nvSpPr>
                <p:spPr>
                  <a:xfrm>
                    <a:off x="6608880" y="3430440"/>
                    <a:ext cx="17280" cy="17640"/>
                  </a:xfrm>
                  <a:custGeom>
                    <a:avLst/>
                    <a:gdLst/>
                    <a:ahLst/>
                    <a:rect l="l" t="t" r="r" b="b"/>
                    <a:pathLst>
                      <a:path w="22" h="22">
                        <a:moveTo>
                          <a:pt x="2" y="19"/>
                        </a:moveTo>
                        <a:lnTo>
                          <a:pt x="0" y="15"/>
                        </a:lnTo>
                        <a:lnTo>
                          <a:pt x="0" y="12"/>
                        </a:lnTo>
                        <a:lnTo>
                          <a:pt x="0" y="7"/>
                        </a:lnTo>
                        <a:lnTo>
                          <a:pt x="2" y="4"/>
                        </a:lnTo>
                        <a:lnTo>
                          <a:pt x="6" y="1"/>
                        </a:lnTo>
                        <a:lnTo>
                          <a:pt x="10" y="0"/>
                        </a:lnTo>
                        <a:lnTo>
                          <a:pt x="15" y="1"/>
                        </a:lnTo>
                        <a:lnTo>
                          <a:pt x="18" y="4"/>
                        </a:lnTo>
                        <a:lnTo>
                          <a:pt x="21" y="7"/>
                        </a:lnTo>
                        <a:lnTo>
                          <a:pt x="22" y="12"/>
                        </a:lnTo>
                        <a:lnTo>
                          <a:pt x="21" y="15"/>
                        </a:lnTo>
                        <a:lnTo>
                          <a:pt x="18" y="19"/>
                        </a:lnTo>
                        <a:lnTo>
                          <a:pt x="15" y="21"/>
                        </a:lnTo>
                        <a:lnTo>
                          <a:pt x="10" y="22"/>
                        </a:lnTo>
                        <a:lnTo>
                          <a:pt x="6" y="21"/>
                        </a:lnTo>
                        <a:lnTo>
                          <a:pt x="2" y="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1" name=""/>
                  <p:cNvSpPr/>
                  <p:nvPr/>
                </p:nvSpPr>
                <p:spPr>
                  <a:xfrm>
                    <a:off x="6591240" y="3452760"/>
                    <a:ext cx="17640" cy="17640"/>
                  </a:xfrm>
                  <a:custGeom>
                    <a:avLst/>
                    <a:gdLst/>
                    <a:ahLst/>
                    <a:rect l="l" t="t" r="r" b="b"/>
                    <a:pathLst>
                      <a:path w="22" h="22">
                        <a:moveTo>
                          <a:pt x="0" y="11"/>
                        </a:moveTo>
                        <a:lnTo>
                          <a:pt x="1" y="7"/>
                        </a:lnTo>
                        <a:lnTo>
                          <a:pt x="3" y="3"/>
                        </a:lnTo>
                        <a:lnTo>
                          <a:pt x="7" y="1"/>
                        </a:lnTo>
                        <a:lnTo>
                          <a:pt x="11" y="0"/>
                        </a:lnTo>
                        <a:lnTo>
                          <a:pt x="16" y="1"/>
                        </a:lnTo>
                        <a:lnTo>
                          <a:pt x="18" y="3"/>
                        </a:lnTo>
                        <a:lnTo>
                          <a:pt x="21" y="7"/>
                        </a:lnTo>
                        <a:lnTo>
                          <a:pt x="22" y="11"/>
                        </a:lnTo>
                        <a:lnTo>
                          <a:pt x="21" y="16"/>
                        </a:lnTo>
                        <a:lnTo>
                          <a:pt x="18" y="18"/>
                        </a:lnTo>
                        <a:lnTo>
                          <a:pt x="16" y="21"/>
                        </a:lnTo>
                        <a:lnTo>
                          <a:pt x="11" y="22"/>
                        </a:lnTo>
                        <a:lnTo>
                          <a:pt x="7" y="21"/>
                        </a:lnTo>
                        <a:lnTo>
                          <a:pt x="3" y="18"/>
                        </a:lnTo>
                        <a:lnTo>
                          <a:pt x="1" y="16"/>
                        </a:lnTo>
                        <a:lnTo>
                          <a:pt x="0" y="1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2" name=""/>
                  <p:cNvSpPr/>
                  <p:nvPr/>
                </p:nvSpPr>
                <p:spPr>
                  <a:xfrm>
                    <a:off x="6564240" y="3456000"/>
                    <a:ext cx="17640" cy="17280"/>
                  </a:xfrm>
                  <a:custGeom>
                    <a:avLst/>
                    <a:gdLst/>
                    <a:ahLst/>
                    <a:rect l="l" t="t" r="r" b="b"/>
                    <a:pathLst>
                      <a:path w="22" h="22">
                        <a:moveTo>
                          <a:pt x="3" y="4"/>
                        </a:moveTo>
                        <a:lnTo>
                          <a:pt x="6" y="1"/>
                        </a:lnTo>
                        <a:lnTo>
                          <a:pt x="11" y="0"/>
                        </a:lnTo>
                        <a:lnTo>
                          <a:pt x="15" y="1"/>
                        </a:lnTo>
                        <a:lnTo>
                          <a:pt x="19" y="4"/>
                        </a:lnTo>
                        <a:lnTo>
                          <a:pt x="21" y="7"/>
                        </a:lnTo>
                        <a:lnTo>
                          <a:pt x="22" y="12"/>
                        </a:lnTo>
                        <a:lnTo>
                          <a:pt x="21" y="16"/>
                        </a:lnTo>
                        <a:lnTo>
                          <a:pt x="19" y="20"/>
                        </a:lnTo>
                        <a:lnTo>
                          <a:pt x="15" y="22"/>
                        </a:lnTo>
                        <a:lnTo>
                          <a:pt x="11" y="22"/>
                        </a:lnTo>
                        <a:lnTo>
                          <a:pt x="7" y="22"/>
                        </a:lnTo>
                        <a:lnTo>
                          <a:pt x="4" y="20"/>
                        </a:lnTo>
                        <a:lnTo>
                          <a:pt x="1" y="16"/>
                        </a:lnTo>
                        <a:lnTo>
                          <a:pt x="0" y="12"/>
                        </a:lnTo>
                        <a:lnTo>
                          <a:pt x="0" y="7"/>
                        </a:lnTo>
                        <a:lnTo>
                          <a:pt x="3"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3" name=""/>
                  <p:cNvSpPr/>
                  <p:nvPr/>
                </p:nvSpPr>
                <p:spPr>
                  <a:xfrm>
                    <a:off x="6541920" y="3438360"/>
                    <a:ext cx="17640" cy="17640"/>
                  </a:xfrm>
                  <a:custGeom>
                    <a:avLst/>
                    <a:gdLst/>
                    <a:ahLst/>
                    <a:rect l="l" t="t" r="r" b="b"/>
                    <a:pathLst>
                      <a:path w="21" h="22">
                        <a:moveTo>
                          <a:pt x="10" y="0"/>
                        </a:moveTo>
                        <a:lnTo>
                          <a:pt x="15" y="1"/>
                        </a:lnTo>
                        <a:lnTo>
                          <a:pt x="18" y="4"/>
                        </a:lnTo>
                        <a:lnTo>
                          <a:pt x="20" y="7"/>
                        </a:lnTo>
                        <a:lnTo>
                          <a:pt x="21" y="12"/>
                        </a:lnTo>
                        <a:lnTo>
                          <a:pt x="20" y="16"/>
                        </a:lnTo>
                        <a:lnTo>
                          <a:pt x="18" y="19"/>
                        </a:lnTo>
                        <a:lnTo>
                          <a:pt x="15" y="21"/>
                        </a:lnTo>
                        <a:lnTo>
                          <a:pt x="10" y="22"/>
                        </a:lnTo>
                        <a:lnTo>
                          <a:pt x="5" y="21"/>
                        </a:lnTo>
                        <a:lnTo>
                          <a:pt x="3" y="19"/>
                        </a:lnTo>
                        <a:lnTo>
                          <a:pt x="1" y="16"/>
                        </a:lnTo>
                        <a:lnTo>
                          <a:pt x="0" y="12"/>
                        </a:lnTo>
                        <a:lnTo>
                          <a:pt x="1" y="7"/>
                        </a:lnTo>
                        <a:lnTo>
                          <a:pt x="3" y="4"/>
                        </a:lnTo>
                        <a:lnTo>
                          <a:pt x="5" y="1"/>
                        </a:lnTo>
                        <a:lnTo>
                          <a:pt x="1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4" name=""/>
                  <p:cNvSpPr/>
                  <p:nvPr/>
                </p:nvSpPr>
                <p:spPr>
                  <a:xfrm>
                    <a:off x="6537240" y="3409920"/>
                    <a:ext cx="17640" cy="17640"/>
                  </a:xfrm>
                  <a:custGeom>
                    <a:avLst/>
                    <a:gdLst/>
                    <a:ahLst/>
                    <a:rect l="l" t="t" r="r" b="b"/>
                    <a:pathLst>
                      <a:path w="22" h="21">
                        <a:moveTo>
                          <a:pt x="20" y="2"/>
                        </a:moveTo>
                        <a:lnTo>
                          <a:pt x="22" y="6"/>
                        </a:lnTo>
                        <a:lnTo>
                          <a:pt x="22" y="10"/>
                        </a:lnTo>
                        <a:lnTo>
                          <a:pt x="22" y="15"/>
                        </a:lnTo>
                        <a:lnTo>
                          <a:pt x="20" y="18"/>
                        </a:lnTo>
                        <a:lnTo>
                          <a:pt x="16" y="21"/>
                        </a:lnTo>
                        <a:lnTo>
                          <a:pt x="12" y="21"/>
                        </a:lnTo>
                        <a:lnTo>
                          <a:pt x="7" y="21"/>
                        </a:lnTo>
                        <a:lnTo>
                          <a:pt x="3" y="18"/>
                        </a:lnTo>
                        <a:lnTo>
                          <a:pt x="1" y="15"/>
                        </a:lnTo>
                        <a:lnTo>
                          <a:pt x="0" y="10"/>
                        </a:lnTo>
                        <a:lnTo>
                          <a:pt x="1" y="6"/>
                        </a:lnTo>
                        <a:lnTo>
                          <a:pt x="3" y="2"/>
                        </a:lnTo>
                        <a:lnTo>
                          <a:pt x="7" y="0"/>
                        </a:lnTo>
                        <a:lnTo>
                          <a:pt x="12" y="0"/>
                        </a:lnTo>
                        <a:lnTo>
                          <a:pt x="16" y="0"/>
                        </a:lnTo>
                        <a:lnTo>
                          <a:pt x="20" y="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45" name=""/>
                  <p:cNvSpPr/>
                  <p:nvPr/>
                </p:nvSpPr>
                <p:spPr>
                  <a:xfrm>
                    <a:off x="5241960" y="3252960"/>
                    <a:ext cx="291960" cy="295200"/>
                  </a:xfrm>
                  <a:custGeom>
                    <a:avLst/>
                    <a:gdLst/>
                    <a:ahLst/>
                    <a:rect l="l" t="t" r="r" b="b"/>
                    <a:pathLst>
                      <a:path w="367" h="374">
                        <a:moveTo>
                          <a:pt x="367" y="187"/>
                        </a:moveTo>
                        <a:lnTo>
                          <a:pt x="364" y="224"/>
                        </a:lnTo>
                        <a:lnTo>
                          <a:pt x="353" y="259"/>
                        </a:lnTo>
                        <a:lnTo>
                          <a:pt x="336" y="290"/>
                        </a:lnTo>
                        <a:lnTo>
                          <a:pt x="314" y="317"/>
                        </a:lnTo>
                        <a:lnTo>
                          <a:pt x="288" y="340"/>
                        </a:lnTo>
                        <a:lnTo>
                          <a:pt x="258" y="358"/>
                        </a:lnTo>
                        <a:lnTo>
                          <a:pt x="223" y="369"/>
                        </a:lnTo>
                        <a:lnTo>
                          <a:pt x="187" y="374"/>
                        </a:lnTo>
                        <a:lnTo>
                          <a:pt x="186" y="374"/>
                        </a:lnTo>
                        <a:lnTo>
                          <a:pt x="186" y="374"/>
                        </a:lnTo>
                        <a:lnTo>
                          <a:pt x="185" y="374"/>
                        </a:lnTo>
                        <a:lnTo>
                          <a:pt x="184" y="374"/>
                        </a:lnTo>
                        <a:lnTo>
                          <a:pt x="166" y="373"/>
                        </a:lnTo>
                        <a:lnTo>
                          <a:pt x="147" y="370"/>
                        </a:lnTo>
                        <a:lnTo>
                          <a:pt x="130" y="366"/>
                        </a:lnTo>
                        <a:lnTo>
                          <a:pt x="113" y="359"/>
                        </a:lnTo>
                        <a:lnTo>
                          <a:pt x="96" y="352"/>
                        </a:lnTo>
                        <a:lnTo>
                          <a:pt x="81" y="342"/>
                        </a:lnTo>
                        <a:lnTo>
                          <a:pt x="66" y="331"/>
                        </a:lnTo>
                        <a:lnTo>
                          <a:pt x="54" y="320"/>
                        </a:lnTo>
                        <a:lnTo>
                          <a:pt x="42" y="306"/>
                        </a:lnTo>
                        <a:lnTo>
                          <a:pt x="31" y="292"/>
                        </a:lnTo>
                        <a:lnTo>
                          <a:pt x="22" y="276"/>
                        </a:lnTo>
                        <a:lnTo>
                          <a:pt x="15" y="260"/>
                        </a:lnTo>
                        <a:lnTo>
                          <a:pt x="8" y="242"/>
                        </a:lnTo>
                        <a:lnTo>
                          <a:pt x="3" y="225"/>
                        </a:lnTo>
                        <a:lnTo>
                          <a:pt x="1" y="207"/>
                        </a:lnTo>
                        <a:lnTo>
                          <a:pt x="0" y="187"/>
                        </a:lnTo>
                        <a:lnTo>
                          <a:pt x="1" y="167"/>
                        </a:lnTo>
                        <a:lnTo>
                          <a:pt x="3" y="149"/>
                        </a:lnTo>
                        <a:lnTo>
                          <a:pt x="8" y="132"/>
                        </a:lnTo>
                        <a:lnTo>
                          <a:pt x="15" y="114"/>
                        </a:lnTo>
                        <a:lnTo>
                          <a:pt x="22" y="98"/>
                        </a:lnTo>
                        <a:lnTo>
                          <a:pt x="31" y="82"/>
                        </a:lnTo>
                        <a:lnTo>
                          <a:pt x="42" y="68"/>
                        </a:lnTo>
                        <a:lnTo>
                          <a:pt x="54" y="55"/>
                        </a:lnTo>
                        <a:lnTo>
                          <a:pt x="66" y="43"/>
                        </a:lnTo>
                        <a:lnTo>
                          <a:pt x="81" y="33"/>
                        </a:lnTo>
                        <a:lnTo>
                          <a:pt x="96" y="22"/>
                        </a:lnTo>
                        <a:lnTo>
                          <a:pt x="113" y="15"/>
                        </a:lnTo>
                        <a:lnTo>
                          <a:pt x="130" y="8"/>
                        </a:lnTo>
                        <a:lnTo>
                          <a:pt x="147" y="4"/>
                        </a:lnTo>
                        <a:lnTo>
                          <a:pt x="166" y="2"/>
                        </a:lnTo>
                        <a:lnTo>
                          <a:pt x="184" y="0"/>
                        </a:lnTo>
                        <a:lnTo>
                          <a:pt x="221" y="4"/>
                        </a:lnTo>
                        <a:lnTo>
                          <a:pt x="255" y="15"/>
                        </a:lnTo>
                        <a:lnTo>
                          <a:pt x="286" y="33"/>
                        </a:lnTo>
                        <a:lnTo>
                          <a:pt x="313" y="55"/>
                        </a:lnTo>
                        <a:lnTo>
                          <a:pt x="336" y="82"/>
                        </a:lnTo>
                        <a:lnTo>
                          <a:pt x="352" y="114"/>
                        </a:lnTo>
                        <a:lnTo>
                          <a:pt x="364" y="149"/>
                        </a:lnTo>
                        <a:lnTo>
                          <a:pt x="367" y="18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5356080" y="3414600"/>
                    <a:ext cx="176400" cy="127080"/>
                  </a:xfrm>
                  <a:custGeom>
                    <a:avLst/>
                    <a:gdLst/>
                    <a:ahLst/>
                    <a:rect l="l" t="t" r="r" b="b"/>
                    <a:pathLst>
                      <a:path w="221" h="160">
                        <a:moveTo>
                          <a:pt x="57" y="160"/>
                        </a:moveTo>
                        <a:lnTo>
                          <a:pt x="79" y="157"/>
                        </a:lnTo>
                        <a:lnTo>
                          <a:pt x="102" y="153"/>
                        </a:lnTo>
                        <a:lnTo>
                          <a:pt x="126" y="145"/>
                        </a:lnTo>
                        <a:lnTo>
                          <a:pt x="150" y="131"/>
                        </a:lnTo>
                        <a:lnTo>
                          <a:pt x="171" y="112"/>
                        </a:lnTo>
                        <a:lnTo>
                          <a:pt x="191" y="88"/>
                        </a:lnTo>
                        <a:lnTo>
                          <a:pt x="208" y="57"/>
                        </a:lnTo>
                        <a:lnTo>
                          <a:pt x="221" y="18"/>
                        </a:lnTo>
                        <a:lnTo>
                          <a:pt x="181" y="0"/>
                        </a:lnTo>
                        <a:lnTo>
                          <a:pt x="181" y="1"/>
                        </a:lnTo>
                        <a:lnTo>
                          <a:pt x="181" y="5"/>
                        </a:lnTo>
                        <a:lnTo>
                          <a:pt x="179" y="12"/>
                        </a:lnTo>
                        <a:lnTo>
                          <a:pt x="178" y="21"/>
                        </a:lnTo>
                        <a:lnTo>
                          <a:pt x="176" y="32"/>
                        </a:lnTo>
                        <a:lnTo>
                          <a:pt x="173" y="43"/>
                        </a:lnTo>
                        <a:lnTo>
                          <a:pt x="167" y="57"/>
                        </a:lnTo>
                        <a:lnTo>
                          <a:pt x="160" y="70"/>
                        </a:lnTo>
                        <a:lnTo>
                          <a:pt x="150" y="84"/>
                        </a:lnTo>
                        <a:lnTo>
                          <a:pt x="138" y="97"/>
                        </a:lnTo>
                        <a:lnTo>
                          <a:pt x="123" y="111"/>
                        </a:lnTo>
                        <a:lnTo>
                          <a:pt x="106" y="123"/>
                        </a:lnTo>
                        <a:lnTo>
                          <a:pt x="85" y="134"/>
                        </a:lnTo>
                        <a:lnTo>
                          <a:pt x="61" y="144"/>
                        </a:lnTo>
                        <a:lnTo>
                          <a:pt x="32" y="151"/>
                        </a:lnTo>
                        <a:lnTo>
                          <a:pt x="0" y="155"/>
                        </a:lnTo>
                        <a:lnTo>
                          <a:pt x="1" y="155"/>
                        </a:lnTo>
                        <a:lnTo>
                          <a:pt x="4" y="156"/>
                        </a:lnTo>
                        <a:lnTo>
                          <a:pt x="9" y="157"/>
                        </a:lnTo>
                        <a:lnTo>
                          <a:pt x="16" y="157"/>
                        </a:lnTo>
                        <a:lnTo>
                          <a:pt x="24" y="159"/>
                        </a:lnTo>
                        <a:lnTo>
                          <a:pt x="34" y="160"/>
                        </a:lnTo>
                        <a:lnTo>
                          <a:pt x="46" y="160"/>
                        </a:lnTo>
                        <a:lnTo>
                          <a:pt x="57" y="16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5303880" y="3314880"/>
                    <a:ext cx="166680" cy="171360"/>
                  </a:xfrm>
                  <a:custGeom>
                    <a:avLst/>
                    <a:gdLst/>
                    <a:ahLst/>
                    <a:rect l="l" t="t" r="r" b="b"/>
                    <a:pathLst>
                      <a:path w="211" h="214">
                        <a:moveTo>
                          <a:pt x="211" y="107"/>
                        </a:moveTo>
                        <a:lnTo>
                          <a:pt x="208" y="129"/>
                        </a:lnTo>
                        <a:lnTo>
                          <a:pt x="203" y="149"/>
                        </a:lnTo>
                        <a:lnTo>
                          <a:pt x="192" y="167"/>
                        </a:lnTo>
                        <a:lnTo>
                          <a:pt x="180" y="183"/>
                        </a:lnTo>
                        <a:lnTo>
                          <a:pt x="165" y="196"/>
                        </a:lnTo>
                        <a:lnTo>
                          <a:pt x="146" y="206"/>
                        </a:lnTo>
                        <a:lnTo>
                          <a:pt x="127" y="212"/>
                        </a:lnTo>
                        <a:lnTo>
                          <a:pt x="106" y="214"/>
                        </a:lnTo>
                        <a:lnTo>
                          <a:pt x="84" y="212"/>
                        </a:lnTo>
                        <a:lnTo>
                          <a:pt x="64" y="206"/>
                        </a:lnTo>
                        <a:lnTo>
                          <a:pt x="46" y="196"/>
                        </a:lnTo>
                        <a:lnTo>
                          <a:pt x="31" y="183"/>
                        </a:lnTo>
                        <a:lnTo>
                          <a:pt x="18" y="167"/>
                        </a:lnTo>
                        <a:lnTo>
                          <a:pt x="8" y="149"/>
                        </a:lnTo>
                        <a:lnTo>
                          <a:pt x="2" y="129"/>
                        </a:lnTo>
                        <a:lnTo>
                          <a:pt x="0" y="107"/>
                        </a:lnTo>
                        <a:lnTo>
                          <a:pt x="2" y="85"/>
                        </a:lnTo>
                        <a:lnTo>
                          <a:pt x="8" y="66"/>
                        </a:lnTo>
                        <a:lnTo>
                          <a:pt x="18" y="47"/>
                        </a:lnTo>
                        <a:lnTo>
                          <a:pt x="31" y="31"/>
                        </a:lnTo>
                        <a:lnTo>
                          <a:pt x="46" y="18"/>
                        </a:lnTo>
                        <a:lnTo>
                          <a:pt x="64" y="8"/>
                        </a:lnTo>
                        <a:lnTo>
                          <a:pt x="84" y="2"/>
                        </a:lnTo>
                        <a:lnTo>
                          <a:pt x="106" y="0"/>
                        </a:lnTo>
                        <a:lnTo>
                          <a:pt x="127" y="2"/>
                        </a:lnTo>
                        <a:lnTo>
                          <a:pt x="146" y="8"/>
                        </a:lnTo>
                        <a:lnTo>
                          <a:pt x="165" y="18"/>
                        </a:lnTo>
                        <a:lnTo>
                          <a:pt x="180" y="31"/>
                        </a:lnTo>
                        <a:lnTo>
                          <a:pt x="192" y="47"/>
                        </a:lnTo>
                        <a:lnTo>
                          <a:pt x="203" y="66"/>
                        </a:lnTo>
                        <a:lnTo>
                          <a:pt x="208" y="85"/>
                        </a:lnTo>
                        <a:lnTo>
                          <a:pt x="211" y="10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5345280" y="3355920"/>
                    <a:ext cx="45720" cy="46080"/>
                  </a:xfrm>
                  <a:custGeom>
                    <a:avLst/>
                    <a:gdLst/>
                    <a:ahLst/>
                    <a:rect l="l" t="t" r="r" b="b"/>
                    <a:pathLst>
                      <a:path w="58" h="57">
                        <a:moveTo>
                          <a:pt x="58" y="28"/>
                        </a:moveTo>
                        <a:lnTo>
                          <a:pt x="55" y="40"/>
                        </a:lnTo>
                        <a:lnTo>
                          <a:pt x="49" y="49"/>
                        </a:lnTo>
                        <a:lnTo>
                          <a:pt x="40" y="55"/>
                        </a:lnTo>
                        <a:lnTo>
                          <a:pt x="29" y="57"/>
                        </a:lnTo>
                        <a:lnTo>
                          <a:pt x="17" y="55"/>
                        </a:lnTo>
                        <a:lnTo>
                          <a:pt x="8" y="49"/>
                        </a:lnTo>
                        <a:lnTo>
                          <a:pt x="2" y="40"/>
                        </a:lnTo>
                        <a:lnTo>
                          <a:pt x="0" y="28"/>
                        </a:lnTo>
                        <a:lnTo>
                          <a:pt x="2" y="17"/>
                        </a:lnTo>
                        <a:lnTo>
                          <a:pt x="8" y="8"/>
                        </a:lnTo>
                        <a:lnTo>
                          <a:pt x="17" y="2"/>
                        </a:lnTo>
                        <a:lnTo>
                          <a:pt x="29" y="0"/>
                        </a:lnTo>
                        <a:lnTo>
                          <a:pt x="40" y="2"/>
                        </a:lnTo>
                        <a:lnTo>
                          <a:pt x="49" y="8"/>
                        </a:lnTo>
                        <a:lnTo>
                          <a:pt x="55" y="17"/>
                        </a:lnTo>
                        <a:lnTo>
                          <a:pt x="58" y="2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9" name=""/>
                  <p:cNvSpPr/>
                  <p:nvPr/>
                </p:nvSpPr>
                <p:spPr>
                  <a:xfrm>
                    <a:off x="6041880" y="2809800"/>
                    <a:ext cx="93960" cy="50760"/>
                  </a:xfrm>
                  <a:custGeom>
                    <a:avLst/>
                    <a:gdLst/>
                    <a:ahLst/>
                    <a:rect l="l" t="t" r="r" b="b"/>
                    <a:pathLst>
                      <a:path w="117" h="65">
                        <a:moveTo>
                          <a:pt x="109" y="65"/>
                        </a:moveTo>
                        <a:lnTo>
                          <a:pt x="10" y="65"/>
                        </a:lnTo>
                        <a:lnTo>
                          <a:pt x="0" y="7"/>
                        </a:lnTo>
                        <a:lnTo>
                          <a:pt x="116" y="0"/>
                        </a:lnTo>
                        <a:lnTo>
                          <a:pt x="117" y="50"/>
                        </a:lnTo>
                        <a:lnTo>
                          <a:pt x="109" y="6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550" name=""/>
                  <p:cNvSpPr/>
                  <p:nvPr/>
                </p:nvSpPr>
                <p:spPr>
                  <a:xfrm>
                    <a:off x="5105520" y="2800440"/>
                    <a:ext cx="1814400" cy="779400"/>
                  </a:xfrm>
                  <a:custGeom>
                    <a:avLst/>
                    <a:gdLst/>
                    <a:ahLst/>
                    <a:rect l="l" t="t" r="r" b="b"/>
                    <a:pathLst>
                      <a:path w="2286" h="982">
                        <a:moveTo>
                          <a:pt x="2148" y="6"/>
                        </a:moveTo>
                        <a:lnTo>
                          <a:pt x="2133" y="13"/>
                        </a:lnTo>
                        <a:lnTo>
                          <a:pt x="2106" y="23"/>
                        </a:lnTo>
                        <a:lnTo>
                          <a:pt x="2070" y="38"/>
                        </a:lnTo>
                        <a:lnTo>
                          <a:pt x="2025" y="55"/>
                        </a:lnTo>
                        <a:lnTo>
                          <a:pt x="1973" y="75"/>
                        </a:lnTo>
                        <a:lnTo>
                          <a:pt x="1917" y="97"/>
                        </a:lnTo>
                        <a:lnTo>
                          <a:pt x="1858" y="120"/>
                        </a:lnTo>
                        <a:lnTo>
                          <a:pt x="1798" y="143"/>
                        </a:lnTo>
                        <a:lnTo>
                          <a:pt x="1738" y="166"/>
                        </a:lnTo>
                        <a:lnTo>
                          <a:pt x="1681" y="189"/>
                        </a:lnTo>
                        <a:lnTo>
                          <a:pt x="1628" y="210"/>
                        </a:lnTo>
                        <a:lnTo>
                          <a:pt x="1579" y="228"/>
                        </a:lnTo>
                        <a:lnTo>
                          <a:pt x="1539" y="243"/>
                        </a:lnTo>
                        <a:lnTo>
                          <a:pt x="1508" y="255"/>
                        </a:lnTo>
                        <a:lnTo>
                          <a:pt x="1487" y="263"/>
                        </a:lnTo>
                        <a:lnTo>
                          <a:pt x="1479" y="266"/>
                        </a:lnTo>
                        <a:lnTo>
                          <a:pt x="1473" y="267"/>
                        </a:lnTo>
                        <a:lnTo>
                          <a:pt x="1459" y="271"/>
                        </a:lnTo>
                        <a:lnTo>
                          <a:pt x="1439" y="277"/>
                        </a:lnTo>
                        <a:lnTo>
                          <a:pt x="1415" y="282"/>
                        </a:lnTo>
                        <a:lnTo>
                          <a:pt x="1390" y="289"/>
                        </a:lnTo>
                        <a:lnTo>
                          <a:pt x="1371" y="294"/>
                        </a:lnTo>
                        <a:lnTo>
                          <a:pt x="1356" y="298"/>
                        </a:lnTo>
                        <a:lnTo>
                          <a:pt x="1350" y="300"/>
                        </a:lnTo>
                        <a:lnTo>
                          <a:pt x="1340" y="302"/>
                        </a:lnTo>
                        <a:lnTo>
                          <a:pt x="1423" y="448"/>
                        </a:lnTo>
                        <a:lnTo>
                          <a:pt x="1688" y="448"/>
                        </a:lnTo>
                        <a:lnTo>
                          <a:pt x="1666" y="396"/>
                        </a:lnTo>
                        <a:lnTo>
                          <a:pt x="1662" y="395"/>
                        </a:lnTo>
                        <a:lnTo>
                          <a:pt x="1654" y="391"/>
                        </a:lnTo>
                        <a:lnTo>
                          <a:pt x="1643" y="384"/>
                        </a:lnTo>
                        <a:lnTo>
                          <a:pt x="1629" y="377"/>
                        </a:lnTo>
                        <a:lnTo>
                          <a:pt x="1613" y="368"/>
                        </a:lnTo>
                        <a:lnTo>
                          <a:pt x="1598" y="360"/>
                        </a:lnTo>
                        <a:lnTo>
                          <a:pt x="1585" y="353"/>
                        </a:lnTo>
                        <a:lnTo>
                          <a:pt x="1575" y="347"/>
                        </a:lnTo>
                        <a:lnTo>
                          <a:pt x="1584" y="343"/>
                        </a:lnTo>
                        <a:lnTo>
                          <a:pt x="1599" y="338"/>
                        </a:lnTo>
                        <a:lnTo>
                          <a:pt x="1621" y="331"/>
                        </a:lnTo>
                        <a:lnTo>
                          <a:pt x="1646" y="322"/>
                        </a:lnTo>
                        <a:lnTo>
                          <a:pt x="1675" y="311"/>
                        </a:lnTo>
                        <a:lnTo>
                          <a:pt x="1707" y="300"/>
                        </a:lnTo>
                        <a:lnTo>
                          <a:pt x="1740" y="288"/>
                        </a:lnTo>
                        <a:lnTo>
                          <a:pt x="1775" y="275"/>
                        </a:lnTo>
                        <a:lnTo>
                          <a:pt x="1808" y="264"/>
                        </a:lnTo>
                        <a:lnTo>
                          <a:pt x="1841" y="252"/>
                        </a:lnTo>
                        <a:lnTo>
                          <a:pt x="1872" y="241"/>
                        </a:lnTo>
                        <a:lnTo>
                          <a:pt x="1899" y="232"/>
                        </a:lnTo>
                        <a:lnTo>
                          <a:pt x="1924" y="224"/>
                        </a:lnTo>
                        <a:lnTo>
                          <a:pt x="1942" y="217"/>
                        </a:lnTo>
                        <a:lnTo>
                          <a:pt x="1955" y="212"/>
                        </a:lnTo>
                        <a:lnTo>
                          <a:pt x="1961" y="210"/>
                        </a:lnTo>
                        <a:lnTo>
                          <a:pt x="1966" y="221"/>
                        </a:lnTo>
                        <a:lnTo>
                          <a:pt x="1975" y="239"/>
                        </a:lnTo>
                        <a:lnTo>
                          <a:pt x="1986" y="257"/>
                        </a:lnTo>
                        <a:lnTo>
                          <a:pt x="1994" y="271"/>
                        </a:lnTo>
                        <a:lnTo>
                          <a:pt x="1986" y="272"/>
                        </a:lnTo>
                        <a:lnTo>
                          <a:pt x="1972" y="275"/>
                        </a:lnTo>
                        <a:lnTo>
                          <a:pt x="1952" y="279"/>
                        </a:lnTo>
                        <a:lnTo>
                          <a:pt x="1927" y="284"/>
                        </a:lnTo>
                        <a:lnTo>
                          <a:pt x="1899" y="289"/>
                        </a:lnTo>
                        <a:lnTo>
                          <a:pt x="1868" y="296"/>
                        </a:lnTo>
                        <a:lnTo>
                          <a:pt x="1835" y="302"/>
                        </a:lnTo>
                        <a:lnTo>
                          <a:pt x="1802" y="309"/>
                        </a:lnTo>
                        <a:lnTo>
                          <a:pt x="1768" y="316"/>
                        </a:lnTo>
                        <a:lnTo>
                          <a:pt x="1736" y="323"/>
                        </a:lnTo>
                        <a:lnTo>
                          <a:pt x="1706" y="328"/>
                        </a:lnTo>
                        <a:lnTo>
                          <a:pt x="1679" y="333"/>
                        </a:lnTo>
                        <a:lnTo>
                          <a:pt x="1656" y="338"/>
                        </a:lnTo>
                        <a:lnTo>
                          <a:pt x="1639" y="341"/>
                        </a:lnTo>
                        <a:lnTo>
                          <a:pt x="1628" y="343"/>
                        </a:lnTo>
                        <a:lnTo>
                          <a:pt x="1624" y="345"/>
                        </a:lnTo>
                        <a:lnTo>
                          <a:pt x="1712" y="395"/>
                        </a:lnTo>
                        <a:lnTo>
                          <a:pt x="1714" y="395"/>
                        </a:lnTo>
                        <a:lnTo>
                          <a:pt x="1720" y="394"/>
                        </a:lnTo>
                        <a:lnTo>
                          <a:pt x="1730" y="393"/>
                        </a:lnTo>
                        <a:lnTo>
                          <a:pt x="1743" y="391"/>
                        </a:lnTo>
                        <a:lnTo>
                          <a:pt x="1757" y="388"/>
                        </a:lnTo>
                        <a:lnTo>
                          <a:pt x="1774" y="386"/>
                        </a:lnTo>
                        <a:lnTo>
                          <a:pt x="1791" y="383"/>
                        </a:lnTo>
                        <a:lnTo>
                          <a:pt x="1811" y="380"/>
                        </a:lnTo>
                        <a:lnTo>
                          <a:pt x="1829" y="377"/>
                        </a:lnTo>
                        <a:lnTo>
                          <a:pt x="1848" y="375"/>
                        </a:lnTo>
                        <a:lnTo>
                          <a:pt x="1865" y="371"/>
                        </a:lnTo>
                        <a:lnTo>
                          <a:pt x="1880" y="369"/>
                        </a:lnTo>
                        <a:lnTo>
                          <a:pt x="1894" y="366"/>
                        </a:lnTo>
                        <a:lnTo>
                          <a:pt x="1905" y="365"/>
                        </a:lnTo>
                        <a:lnTo>
                          <a:pt x="1913" y="364"/>
                        </a:lnTo>
                        <a:lnTo>
                          <a:pt x="1917" y="363"/>
                        </a:lnTo>
                        <a:lnTo>
                          <a:pt x="1920" y="369"/>
                        </a:lnTo>
                        <a:lnTo>
                          <a:pt x="1928" y="380"/>
                        </a:lnTo>
                        <a:lnTo>
                          <a:pt x="1937" y="394"/>
                        </a:lnTo>
                        <a:lnTo>
                          <a:pt x="1948" y="409"/>
                        </a:lnTo>
                        <a:lnTo>
                          <a:pt x="1959" y="424"/>
                        </a:lnTo>
                        <a:lnTo>
                          <a:pt x="1969" y="438"/>
                        </a:lnTo>
                        <a:lnTo>
                          <a:pt x="1975" y="448"/>
                        </a:lnTo>
                        <a:lnTo>
                          <a:pt x="1979" y="453"/>
                        </a:lnTo>
                        <a:lnTo>
                          <a:pt x="1979" y="459"/>
                        </a:lnTo>
                        <a:lnTo>
                          <a:pt x="1979" y="469"/>
                        </a:lnTo>
                        <a:lnTo>
                          <a:pt x="1979" y="478"/>
                        </a:lnTo>
                        <a:lnTo>
                          <a:pt x="1979" y="482"/>
                        </a:lnTo>
                        <a:lnTo>
                          <a:pt x="1985" y="484"/>
                        </a:lnTo>
                        <a:lnTo>
                          <a:pt x="2001" y="489"/>
                        </a:lnTo>
                        <a:lnTo>
                          <a:pt x="2024" y="496"/>
                        </a:lnTo>
                        <a:lnTo>
                          <a:pt x="2050" y="505"/>
                        </a:lnTo>
                        <a:lnTo>
                          <a:pt x="2078" y="513"/>
                        </a:lnTo>
                        <a:lnTo>
                          <a:pt x="2102" y="521"/>
                        </a:lnTo>
                        <a:lnTo>
                          <a:pt x="2119" y="527"/>
                        </a:lnTo>
                        <a:lnTo>
                          <a:pt x="2129" y="529"/>
                        </a:lnTo>
                        <a:lnTo>
                          <a:pt x="2132" y="547"/>
                        </a:lnTo>
                        <a:lnTo>
                          <a:pt x="2138" y="582"/>
                        </a:lnTo>
                        <a:lnTo>
                          <a:pt x="2145" y="617"/>
                        </a:lnTo>
                        <a:lnTo>
                          <a:pt x="2148" y="640"/>
                        </a:lnTo>
                        <a:lnTo>
                          <a:pt x="2141" y="640"/>
                        </a:lnTo>
                        <a:lnTo>
                          <a:pt x="2130" y="640"/>
                        </a:lnTo>
                        <a:lnTo>
                          <a:pt x="2116" y="641"/>
                        </a:lnTo>
                        <a:lnTo>
                          <a:pt x="2102" y="641"/>
                        </a:lnTo>
                        <a:lnTo>
                          <a:pt x="2087" y="641"/>
                        </a:lnTo>
                        <a:lnTo>
                          <a:pt x="2075" y="642"/>
                        </a:lnTo>
                        <a:lnTo>
                          <a:pt x="2064" y="642"/>
                        </a:lnTo>
                        <a:lnTo>
                          <a:pt x="2058" y="642"/>
                        </a:lnTo>
                        <a:lnTo>
                          <a:pt x="2056" y="635"/>
                        </a:lnTo>
                        <a:lnTo>
                          <a:pt x="2052" y="622"/>
                        </a:lnTo>
                        <a:lnTo>
                          <a:pt x="2046" y="607"/>
                        </a:lnTo>
                        <a:lnTo>
                          <a:pt x="2039" y="589"/>
                        </a:lnTo>
                        <a:lnTo>
                          <a:pt x="2032" y="573"/>
                        </a:lnTo>
                        <a:lnTo>
                          <a:pt x="2027" y="558"/>
                        </a:lnTo>
                        <a:lnTo>
                          <a:pt x="2023" y="547"/>
                        </a:lnTo>
                        <a:lnTo>
                          <a:pt x="2022" y="544"/>
                        </a:lnTo>
                        <a:lnTo>
                          <a:pt x="2020" y="543"/>
                        </a:lnTo>
                        <a:lnTo>
                          <a:pt x="2018" y="542"/>
                        </a:lnTo>
                        <a:lnTo>
                          <a:pt x="2013" y="537"/>
                        </a:lnTo>
                        <a:lnTo>
                          <a:pt x="2005" y="532"/>
                        </a:lnTo>
                        <a:lnTo>
                          <a:pt x="1995" y="527"/>
                        </a:lnTo>
                        <a:lnTo>
                          <a:pt x="1982" y="521"/>
                        </a:lnTo>
                        <a:lnTo>
                          <a:pt x="1966" y="516"/>
                        </a:lnTo>
                        <a:lnTo>
                          <a:pt x="1947" y="513"/>
                        </a:lnTo>
                        <a:lnTo>
                          <a:pt x="1926" y="512"/>
                        </a:lnTo>
                        <a:lnTo>
                          <a:pt x="1903" y="512"/>
                        </a:lnTo>
                        <a:lnTo>
                          <a:pt x="1876" y="513"/>
                        </a:lnTo>
                        <a:lnTo>
                          <a:pt x="1849" y="515"/>
                        </a:lnTo>
                        <a:lnTo>
                          <a:pt x="1822" y="516"/>
                        </a:lnTo>
                        <a:lnTo>
                          <a:pt x="1798" y="517"/>
                        </a:lnTo>
                        <a:lnTo>
                          <a:pt x="1779" y="520"/>
                        </a:lnTo>
                        <a:lnTo>
                          <a:pt x="1765" y="521"/>
                        </a:lnTo>
                        <a:lnTo>
                          <a:pt x="1760" y="521"/>
                        </a:lnTo>
                        <a:lnTo>
                          <a:pt x="1755" y="522"/>
                        </a:lnTo>
                        <a:lnTo>
                          <a:pt x="1706" y="656"/>
                        </a:lnTo>
                        <a:lnTo>
                          <a:pt x="1719" y="665"/>
                        </a:lnTo>
                        <a:lnTo>
                          <a:pt x="1720" y="663"/>
                        </a:lnTo>
                        <a:lnTo>
                          <a:pt x="1724" y="658"/>
                        </a:lnTo>
                        <a:lnTo>
                          <a:pt x="1731" y="652"/>
                        </a:lnTo>
                        <a:lnTo>
                          <a:pt x="1740" y="644"/>
                        </a:lnTo>
                        <a:lnTo>
                          <a:pt x="1752" y="636"/>
                        </a:lnTo>
                        <a:lnTo>
                          <a:pt x="1764" y="629"/>
                        </a:lnTo>
                        <a:lnTo>
                          <a:pt x="1777" y="622"/>
                        </a:lnTo>
                        <a:lnTo>
                          <a:pt x="1791" y="617"/>
                        </a:lnTo>
                        <a:lnTo>
                          <a:pt x="1802" y="613"/>
                        </a:lnTo>
                        <a:lnTo>
                          <a:pt x="1817" y="611"/>
                        </a:lnTo>
                        <a:lnTo>
                          <a:pt x="1835" y="607"/>
                        </a:lnTo>
                        <a:lnTo>
                          <a:pt x="1856" y="606"/>
                        </a:lnTo>
                        <a:lnTo>
                          <a:pt x="1879" y="607"/>
                        </a:lnTo>
                        <a:lnTo>
                          <a:pt x="1902" y="611"/>
                        </a:lnTo>
                        <a:lnTo>
                          <a:pt x="1926" y="619"/>
                        </a:lnTo>
                        <a:lnTo>
                          <a:pt x="1950" y="632"/>
                        </a:lnTo>
                        <a:lnTo>
                          <a:pt x="1965" y="643"/>
                        </a:lnTo>
                        <a:lnTo>
                          <a:pt x="1979" y="656"/>
                        </a:lnTo>
                        <a:lnTo>
                          <a:pt x="1992" y="670"/>
                        </a:lnTo>
                        <a:lnTo>
                          <a:pt x="2002" y="686"/>
                        </a:lnTo>
                        <a:lnTo>
                          <a:pt x="2010" y="704"/>
                        </a:lnTo>
                        <a:lnTo>
                          <a:pt x="2018" y="725"/>
                        </a:lnTo>
                        <a:lnTo>
                          <a:pt x="2023" y="748"/>
                        </a:lnTo>
                        <a:lnTo>
                          <a:pt x="2027" y="773"/>
                        </a:lnTo>
                        <a:lnTo>
                          <a:pt x="2022" y="773"/>
                        </a:lnTo>
                        <a:lnTo>
                          <a:pt x="2013" y="773"/>
                        </a:lnTo>
                        <a:lnTo>
                          <a:pt x="2003" y="775"/>
                        </a:lnTo>
                        <a:lnTo>
                          <a:pt x="1994" y="775"/>
                        </a:lnTo>
                        <a:lnTo>
                          <a:pt x="1985" y="775"/>
                        </a:lnTo>
                        <a:lnTo>
                          <a:pt x="1977" y="776"/>
                        </a:lnTo>
                        <a:lnTo>
                          <a:pt x="1972" y="776"/>
                        </a:lnTo>
                        <a:lnTo>
                          <a:pt x="1970" y="776"/>
                        </a:lnTo>
                        <a:lnTo>
                          <a:pt x="1969" y="784"/>
                        </a:lnTo>
                        <a:lnTo>
                          <a:pt x="1969" y="790"/>
                        </a:lnTo>
                        <a:lnTo>
                          <a:pt x="1966" y="802"/>
                        </a:lnTo>
                        <a:lnTo>
                          <a:pt x="1962" y="821"/>
                        </a:lnTo>
                        <a:lnTo>
                          <a:pt x="1954" y="840"/>
                        </a:lnTo>
                        <a:lnTo>
                          <a:pt x="1941" y="860"/>
                        </a:lnTo>
                        <a:lnTo>
                          <a:pt x="1924" y="878"/>
                        </a:lnTo>
                        <a:lnTo>
                          <a:pt x="1899" y="891"/>
                        </a:lnTo>
                        <a:lnTo>
                          <a:pt x="1868" y="897"/>
                        </a:lnTo>
                        <a:lnTo>
                          <a:pt x="1855" y="897"/>
                        </a:lnTo>
                        <a:lnTo>
                          <a:pt x="1842" y="894"/>
                        </a:lnTo>
                        <a:lnTo>
                          <a:pt x="1829" y="891"/>
                        </a:lnTo>
                        <a:lnTo>
                          <a:pt x="1818" y="885"/>
                        </a:lnTo>
                        <a:lnTo>
                          <a:pt x="1807" y="878"/>
                        </a:lnTo>
                        <a:lnTo>
                          <a:pt x="1797" y="870"/>
                        </a:lnTo>
                        <a:lnTo>
                          <a:pt x="1789" y="861"/>
                        </a:lnTo>
                        <a:lnTo>
                          <a:pt x="1781" y="849"/>
                        </a:lnTo>
                        <a:lnTo>
                          <a:pt x="1769" y="821"/>
                        </a:lnTo>
                        <a:lnTo>
                          <a:pt x="1766" y="791"/>
                        </a:lnTo>
                        <a:lnTo>
                          <a:pt x="1772" y="760"/>
                        </a:lnTo>
                        <a:lnTo>
                          <a:pt x="1784" y="731"/>
                        </a:lnTo>
                        <a:lnTo>
                          <a:pt x="1789" y="723"/>
                        </a:lnTo>
                        <a:lnTo>
                          <a:pt x="1686" y="680"/>
                        </a:lnTo>
                        <a:lnTo>
                          <a:pt x="1683" y="680"/>
                        </a:lnTo>
                        <a:lnTo>
                          <a:pt x="1671" y="680"/>
                        </a:lnTo>
                        <a:lnTo>
                          <a:pt x="1654" y="680"/>
                        </a:lnTo>
                        <a:lnTo>
                          <a:pt x="1632" y="680"/>
                        </a:lnTo>
                        <a:lnTo>
                          <a:pt x="1606" y="681"/>
                        </a:lnTo>
                        <a:lnTo>
                          <a:pt x="1577" y="681"/>
                        </a:lnTo>
                        <a:lnTo>
                          <a:pt x="1546" y="681"/>
                        </a:lnTo>
                        <a:lnTo>
                          <a:pt x="1512" y="681"/>
                        </a:lnTo>
                        <a:lnTo>
                          <a:pt x="1480" y="682"/>
                        </a:lnTo>
                        <a:lnTo>
                          <a:pt x="1448" y="682"/>
                        </a:lnTo>
                        <a:lnTo>
                          <a:pt x="1418" y="682"/>
                        </a:lnTo>
                        <a:lnTo>
                          <a:pt x="1390" y="683"/>
                        </a:lnTo>
                        <a:lnTo>
                          <a:pt x="1367" y="683"/>
                        </a:lnTo>
                        <a:lnTo>
                          <a:pt x="1348" y="683"/>
                        </a:lnTo>
                        <a:lnTo>
                          <a:pt x="1335" y="683"/>
                        </a:lnTo>
                        <a:lnTo>
                          <a:pt x="1328" y="683"/>
                        </a:lnTo>
                        <a:lnTo>
                          <a:pt x="1328" y="635"/>
                        </a:lnTo>
                        <a:lnTo>
                          <a:pt x="1328" y="543"/>
                        </a:lnTo>
                        <a:lnTo>
                          <a:pt x="1328" y="453"/>
                        </a:lnTo>
                        <a:lnTo>
                          <a:pt x="1328" y="413"/>
                        </a:lnTo>
                        <a:lnTo>
                          <a:pt x="1326" y="411"/>
                        </a:lnTo>
                        <a:lnTo>
                          <a:pt x="1321" y="410"/>
                        </a:lnTo>
                        <a:lnTo>
                          <a:pt x="1314" y="407"/>
                        </a:lnTo>
                        <a:lnTo>
                          <a:pt x="1306" y="405"/>
                        </a:lnTo>
                        <a:lnTo>
                          <a:pt x="1297" y="401"/>
                        </a:lnTo>
                        <a:lnTo>
                          <a:pt x="1289" y="398"/>
                        </a:lnTo>
                        <a:lnTo>
                          <a:pt x="1283" y="395"/>
                        </a:lnTo>
                        <a:lnTo>
                          <a:pt x="1279" y="393"/>
                        </a:lnTo>
                        <a:lnTo>
                          <a:pt x="1276" y="380"/>
                        </a:lnTo>
                        <a:lnTo>
                          <a:pt x="1269" y="352"/>
                        </a:lnTo>
                        <a:lnTo>
                          <a:pt x="1261" y="312"/>
                        </a:lnTo>
                        <a:lnTo>
                          <a:pt x="1251" y="267"/>
                        </a:lnTo>
                        <a:lnTo>
                          <a:pt x="1242" y="221"/>
                        </a:lnTo>
                        <a:lnTo>
                          <a:pt x="1233" y="181"/>
                        </a:lnTo>
                        <a:lnTo>
                          <a:pt x="1226" y="150"/>
                        </a:lnTo>
                        <a:lnTo>
                          <a:pt x="1222" y="135"/>
                        </a:lnTo>
                        <a:lnTo>
                          <a:pt x="1228" y="134"/>
                        </a:lnTo>
                        <a:lnTo>
                          <a:pt x="1235" y="134"/>
                        </a:lnTo>
                        <a:lnTo>
                          <a:pt x="1241" y="133"/>
                        </a:lnTo>
                        <a:lnTo>
                          <a:pt x="1245" y="133"/>
                        </a:lnTo>
                        <a:lnTo>
                          <a:pt x="1250" y="142"/>
                        </a:lnTo>
                        <a:lnTo>
                          <a:pt x="1260" y="159"/>
                        </a:lnTo>
                        <a:lnTo>
                          <a:pt x="1274" y="183"/>
                        </a:lnTo>
                        <a:lnTo>
                          <a:pt x="1289" y="210"/>
                        </a:lnTo>
                        <a:lnTo>
                          <a:pt x="1303" y="236"/>
                        </a:lnTo>
                        <a:lnTo>
                          <a:pt x="1315" y="259"/>
                        </a:lnTo>
                        <a:lnTo>
                          <a:pt x="1325" y="275"/>
                        </a:lnTo>
                        <a:lnTo>
                          <a:pt x="1328" y="281"/>
                        </a:lnTo>
                        <a:lnTo>
                          <a:pt x="1389" y="265"/>
                        </a:lnTo>
                        <a:lnTo>
                          <a:pt x="1386" y="258"/>
                        </a:lnTo>
                        <a:lnTo>
                          <a:pt x="1374" y="240"/>
                        </a:lnTo>
                        <a:lnTo>
                          <a:pt x="1359" y="213"/>
                        </a:lnTo>
                        <a:lnTo>
                          <a:pt x="1342" y="183"/>
                        </a:lnTo>
                        <a:lnTo>
                          <a:pt x="1325" y="153"/>
                        </a:lnTo>
                        <a:lnTo>
                          <a:pt x="1309" y="126"/>
                        </a:lnTo>
                        <a:lnTo>
                          <a:pt x="1297" y="105"/>
                        </a:lnTo>
                        <a:lnTo>
                          <a:pt x="1291" y="96"/>
                        </a:lnTo>
                        <a:lnTo>
                          <a:pt x="1296" y="89"/>
                        </a:lnTo>
                        <a:lnTo>
                          <a:pt x="1302" y="78"/>
                        </a:lnTo>
                        <a:lnTo>
                          <a:pt x="1306" y="69"/>
                        </a:lnTo>
                        <a:lnTo>
                          <a:pt x="1309" y="66"/>
                        </a:lnTo>
                        <a:lnTo>
                          <a:pt x="1305" y="5"/>
                        </a:lnTo>
                        <a:lnTo>
                          <a:pt x="1176" y="5"/>
                        </a:lnTo>
                        <a:lnTo>
                          <a:pt x="1176" y="9"/>
                        </a:lnTo>
                        <a:lnTo>
                          <a:pt x="1175" y="20"/>
                        </a:lnTo>
                        <a:lnTo>
                          <a:pt x="1174" y="32"/>
                        </a:lnTo>
                        <a:lnTo>
                          <a:pt x="1173" y="43"/>
                        </a:lnTo>
                        <a:lnTo>
                          <a:pt x="1160" y="41"/>
                        </a:lnTo>
                        <a:lnTo>
                          <a:pt x="1143" y="40"/>
                        </a:lnTo>
                        <a:lnTo>
                          <a:pt x="1122" y="38"/>
                        </a:lnTo>
                        <a:lnTo>
                          <a:pt x="1098" y="37"/>
                        </a:lnTo>
                        <a:lnTo>
                          <a:pt x="1071" y="35"/>
                        </a:lnTo>
                        <a:lnTo>
                          <a:pt x="1044" y="33"/>
                        </a:lnTo>
                        <a:lnTo>
                          <a:pt x="1016" y="32"/>
                        </a:lnTo>
                        <a:lnTo>
                          <a:pt x="989" y="32"/>
                        </a:lnTo>
                        <a:lnTo>
                          <a:pt x="983" y="32"/>
                        </a:lnTo>
                        <a:lnTo>
                          <a:pt x="974" y="32"/>
                        </a:lnTo>
                        <a:lnTo>
                          <a:pt x="968" y="32"/>
                        </a:lnTo>
                        <a:lnTo>
                          <a:pt x="962" y="32"/>
                        </a:lnTo>
                        <a:lnTo>
                          <a:pt x="955" y="32"/>
                        </a:lnTo>
                        <a:lnTo>
                          <a:pt x="948" y="32"/>
                        </a:lnTo>
                        <a:lnTo>
                          <a:pt x="942" y="33"/>
                        </a:lnTo>
                        <a:lnTo>
                          <a:pt x="936" y="33"/>
                        </a:lnTo>
                        <a:lnTo>
                          <a:pt x="904" y="38"/>
                        </a:lnTo>
                        <a:lnTo>
                          <a:pt x="875" y="44"/>
                        </a:lnTo>
                        <a:lnTo>
                          <a:pt x="850" y="52"/>
                        </a:lnTo>
                        <a:lnTo>
                          <a:pt x="827" y="61"/>
                        </a:lnTo>
                        <a:lnTo>
                          <a:pt x="809" y="70"/>
                        </a:lnTo>
                        <a:lnTo>
                          <a:pt x="792" y="79"/>
                        </a:lnTo>
                        <a:lnTo>
                          <a:pt x="781" y="86"/>
                        </a:lnTo>
                        <a:lnTo>
                          <a:pt x="773" y="92"/>
                        </a:lnTo>
                        <a:lnTo>
                          <a:pt x="758" y="104"/>
                        </a:lnTo>
                        <a:lnTo>
                          <a:pt x="735" y="123"/>
                        </a:lnTo>
                        <a:lnTo>
                          <a:pt x="706" y="147"/>
                        </a:lnTo>
                        <a:lnTo>
                          <a:pt x="676" y="174"/>
                        </a:lnTo>
                        <a:lnTo>
                          <a:pt x="646" y="199"/>
                        </a:lnTo>
                        <a:lnTo>
                          <a:pt x="620" y="221"/>
                        </a:lnTo>
                        <a:lnTo>
                          <a:pt x="601" y="239"/>
                        </a:lnTo>
                        <a:lnTo>
                          <a:pt x="592" y="245"/>
                        </a:lnTo>
                        <a:lnTo>
                          <a:pt x="604" y="258"/>
                        </a:lnTo>
                        <a:lnTo>
                          <a:pt x="610" y="251"/>
                        </a:lnTo>
                        <a:lnTo>
                          <a:pt x="629" y="236"/>
                        </a:lnTo>
                        <a:lnTo>
                          <a:pt x="654" y="213"/>
                        </a:lnTo>
                        <a:lnTo>
                          <a:pt x="684" y="188"/>
                        </a:lnTo>
                        <a:lnTo>
                          <a:pt x="715" y="161"/>
                        </a:lnTo>
                        <a:lnTo>
                          <a:pt x="744" y="136"/>
                        </a:lnTo>
                        <a:lnTo>
                          <a:pt x="768" y="116"/>
                        </a:lnTo>
                        <a:lnTo>
                          <a:pt x="783" y="105"/>
                        </a:lnTo>
                        <a:lnTo>
                          <a:pt x="796" y="96"/>
                        </a:lnTo>
                        <a:lnTo>
                          <a:pt x="811" y="88"/>
                        </a:lnTo>
                        <a:lnTo>
                          <a:pt x="828" y="78"/>
                        </a:lnTo>
                        <a:lnTo>
                          <a:pt x="847" y="70"/>
                        </a:lnTo>
                        <a:lnTo>
                          <a:pt x="867" y="63"/>
                        </a:lnTo>
                        <a:lnTo>
                          <a:pt x="889" y="58"/>
                        </a:lnTo>
                        <a:lnTo>
                          <a:pt x="913" y="53"/>
                        </a:lnTo>
                        <a:lnTo>
                          <a:pt x="938" y="50"/>
                        </a:lnTo>
                        <a:lnTo>
                          <a:pt x="953" y="48"/>
                        </a:lnTo>
                        <a:lnTo>
                          <a:pt x="970" y="48"/>
                        </a:lnTo>
                        <a:lnTo>
                          <a:pt x="987" y="48"/>
                        </a:lnTo>
                        <a:lnTo>
                          <a:pt x="1007" y="48"/>
                        </a:lnTo>
                        <a:lnTo>
                          <a:pt x="1026" y="48"/>
                        </a:lnTo>
                        <a:lnTo>
                          <a:pt x="1046" y="50"/>
                        </a:lnTo>
                        <a:lnTo>
                          <a:pt x="1067" y="51"/>
                        </a:lnTo>
                        <a:lnTo>
                          <a:pt x="1086" y="52"/>
                        </a:lnTo>
                        <a:lnTo>
                          <a:pt x="1105" y="53"/>
                        </a:lnTo>
                        <a:lnTo>
                          <a:pt x="1122" y="54"/>
                        </a:lnTo>
                        <a:lnTo>
                          <a:pt x="1137" y="55"/>
                        </a:lnTo>
                        <a:lnTo>
                          <a:pt x="1151" y="56"/>
                        </a:lnTo>
                        <a:lnTo>
                          <a:pt x="1162" y="58"/>
                        </a:lnTo>
                        <a:lnTo>
                          <a:pt x="1171" y="58"/>
                        </a:lnTo>
                        <a:lnTo>
                          <a:pt x="1177" y="59"/>
                        </a:lnTo>
                        <a:lnTo>
                          <a:pt x="1180" y="59"/>
                        </a:lnTo>
                        <a:lnTo>
                          <a:pt x="1188" y="60"/>
                        </a:lnTo>
                        <a:lnTo>
                          <a:pt x="1188" y="55"/>
                        </a:lnTo>
                        <a:lnTo>
                          <a:pt x="1189" y="44"/>
                        </a:lnTo>
                        <a:lnTo>
                          <a:pt x="1190" y="31"/>
                        </a:lnTo>
                        <a:lnTo>
                          <a:pt x="1191" y="21"/>
                        </a:lnTo>
                        <a:lnTo>
                          <a:pt x="1198" y="21"/>
                        </a:lnTo>
                        <a:lnTo>
                          <a:pt x="1209" y="22"/>
                        </a:lnTo>
                        <a:lnTo>
                          <a:pt x="1224" y="22"/>
                        </a:lnTo>
                        <a:lnTo>
                          <a:pt x="1241" y="22"/>
                        </a:lnTo>
                        <a:lnTo>
                          <a:pt x="1257" y="22"/>
                        </a:lnTo>
                        <a:lnTo>
                          <a:pt x="1272" y="22"/>
                        </a:lnTo>
                        <a:lnTo>
                          <a:pt x="1283" y="22"/>
                        </a:lnTo>
                        <a:lnTo>
                          <a:pt x="1290" y="22"/>
                        </a:lnTo>
                        <a:lnTo>
                          <a:pt x="1291" y="31"/>
                        </a:lnTo>
                        <a:lnTo>
                          <a:pt x="1291" y="44"/>
                        </a:lnTo>
                        <a:lnTo>
                          <a:pt x="1292" y="55"/>
                        </a:lnTo>
                        <a:lnTo>
                          <a:pt x="1292" y="62"/>
                        </a:lnTo>
                        <a:lnTo>
                          <a:pt x="1289" y="69"/>
                        </a:lnTo>
                        <a:lnTo>
                          <a:pt x="1282" y="81"/>
                        </a:lnTo>
                        <a:lnTo>
                          <a:pt x="1275" y="91"/>
                        </a:lnTo>
                        <a:lnTo>
                          <a:pt x="1273" y="96"/>
                        </a:lnTo>
                        <a:lnTo>
                          <a:pt x="1276" y="101"/>
                        </a:lnTo>
                        <a:lnTo>
                          <a:pt x="1285" y="119"/>
                        </a:lnTo>
                        <a:lnTo>
                          <a:pt x="1299" y="142"/>
                        </a:lnTo>
                        <a:lnTo>
                          <a:pt x="1315" y="169"/>
                        </a:lnTo>
                        <a:lnTo>
                          <a:pt x="1332" y="198"/>
                        </a:lnTo>
                        <a:lnTo>
                          <a:pt x="1347" y="224"/>
                        </a:lnTo>
                        <a:lnTo>
                          <a:pt x="1358" y="244"/>
                        </a:lnTo>
                        <a:lnTo>
                          <a:pt x="1365" y="256"/>
                        </a:lnTo>
                        <a:lnTo>
                          <a:pt x="1357" y="258"/>
                        </a:lnTo>
                        <a:lnTo>
                          <a:pt x="1349" y="259"/>
                        </a:lnTo>
                        <a:lnTo>
                          <a:pt x="1342" y="262"/>
                        </a:lnTo>
                        <a:lnTo>
                          <a:pt x="1336" y="264"/>
                        </a:lnTo>
                        <a:lnTo>
                          <a:pt x="1332" y="255"/>
                        </a:lnTo>
                        <a:lnTo>
                          <a:pt x="1321" y="236"/>
                        </a:lnTo>
                        <a:lnTo>
                          <a:pt x="1307" y="212"/>
                        </a:lnTo>
                        <a:lnTo>
                          <a:pt x="1294" y="186"/>
                        </a:lnTo>
                        <a:lnTo>
                          <a:pt x="1279" y="159"/>
                        </a:lnTo>
                        <a:lnTo>
                          <a:pt x="1266" y="137"/>
                        </a:lnTo>
                        <a:lnTo>
                          <a:pt x="1258" y="121"/>
                        </a:lnTo>
                        <a:lnTo>
                          <a:pt x="1254" y="115"/>
                        </a:lnTo>
                        <a:lnTo>
                          <a:pt x="1203" y="120"/>
                        </a:lnTo>
                        <a:lnTo>
                          <a:pt x="1265" y="405"/>
                        </a:lnTo>
                        <a:lnTo>
                          <a:pt x="1266" y="406"/>
                        </a:lnTo>
                        <a:lnTo>
                          <a:pt x="1271" y="407"/>
                        </a:lnTo>
                        <a:lnTo>
                          <a:pt x="1277" y="410"/>
                        </a:lnTo>
                        <a:lnTo>
                          <a:pt x="1285" y="413"/>
                        </a:lnTo>
                        <a:lnTo>
                          <a:pt x="1294" y="416"/>
                        </a:lnTo>
                        <a:lnTo>
                          <a:pt x="1302" y="420"/>
                        </a:lnTo>
                        <a:lnTo>
                          <a:pt x="1307" y="422"/>
                        </a:lnTo>
                        <a:lnTo>
                          <a:pt x="1312" y="424"/>
                        </a:lnTo>
                        <a:lnTo>
                          <a:pt x="1312" y="471"/>
                        </a:lnTo>
                        <a:lnTo>
                          <a:pt x="1312" y="566"/>
                        </a:lnTo>
                        <a:lnTo>
                          <a:pt x="1312" y="658"/>
                        </a:lnTo>
                        <a:lnTo>
                          <a:pt x="1312" y="700"/>
                        </a:lnTo>
                        <a:lnTo>
                          <a:pt x="1317" y="700"/>
                        </a:lnTo>
                        <a:lnTo>
                          <a:pt x="1328" y="700"/>
                        </a:lnTo>
                        <a:lnTo>
                          <a:pt x="1347" y="700"/>
                        </a:lnTo>
                        <a:lnTo>
                          <a:pt x="1370" y="700"/>
                        </a:lnTo>
                        <a:lnTo>
                          <a:pt x="1397" y="698"/>
                        </a:lnTo>
                        <a:lnTo>
                          <a:pt x="1428" y="698"/>
                        </a:lnTo>
                        <a:lnTo>
                          <a:pt x="1462" y="698"/>
                        </a:lnTo>
                        <a:lnTo>
                          <a:pt x="1496" y="697"/>
                        </a:lnTo>
                        <a:lnTo>
                          <a:pt x="1531" y="697"/>
                        </a:lnTo>
                        <a:lnTo>
                          <a:pt x="1564" y="697"/>
                        </a:lnTo>
                        <a:lnTo>
                          <a:pt x="1595" y="697"/>
                        </a:lnTo>
                        <a:lnTo>
                          <a:pt x="1624" y="696"/>
                        </a:lnTo>
                        <a:lnTo>
                          <a:pt x="1648" y="696"/>
                        </a:lnTo>
                        <a:lnTo>
                          <a:pt x="1667" y="696"/>
                        </a:lnTo>
                        <a:lnTo>
                          <a:pt x="1678" y="696"/>
                        </a:lnTo>
                        <a:lnTo>
                          <a:pt x="1683" y="696"/>
                        </a:lnTo>
                        <a:lnTo>
                          <a:pt x="1688" y="697"/>
                        </a:lnTo>
                        <a:lnTo>
                          <a:pt x="1696" y="702"/>
                        </a:lnTo>
                        <a:lnTo>
                          <a:pt x="1708" y="707"/>
                        </a:lnTo>
                        <a:lnTo>
                          <a:pt x="1722" y="712"/>
                        </a:lnTo>
                        <a:lnTo>
                          <a:pt x="1736" y="718"/>
                        </a:lnTo>
                        <a:lnTo>
                          <a:pt x="1749" y="724"/>
                        </a:lnTo>
                        <a:lnTo>
                          <a:pt x="1760" y="728"/>
                        </a:lnTo>
                        <a:lnTo>
                          <a:pt x="1767" y="731"/>
                        </a:lnTo>
                        <a:lnTo>
                          <a:pt x="1760" y="746"/>
                        </a:lnTo>
                        <a:lnTo>
                          <a:pt x="1754" y="762"/>
                        </a:lnTo>
                        <a:lnTo>
                          <a:pt x="1751" y="777"/>
                        </a:lnTo>
                        <a:lnTo>
                          <a:pt x="1750" y="793"/>
                        </a:lnTo>
                        <a:lnTo>
                          <a:pt x="1751" y="810"/>
                        </a:lnTo>
                        <a:lnTo>
                          <a:pt x="1754" y="826"/>
                        </a:lnTo>
                        <a:lnTo>
                          <a:pt x="1759" y="843"/>
                        </a:lnTo>
                        <a:lnTo>
                          <a:pt x="1767" y="858"/>
                        </a:lnTo>
                        <a:lnTo>
                          <a:pt x="1776" y="870"/>
                        </a:lnTo>
                        <a:lnTo>
                          <a:pt x="1787" y="882"/>
                        </a:lnTo>
                        <a:lnTo>
                          <a:pt x="1797" y="891"/>
                        </a:lnTo>
                        <a:lnTo>
                          <a:pt x="1810" y="899"/>
                        </a:lnTo>
                        <a:lnTo>
                          <a:pt x="1823" y="905"/>
                        </a:lnTo>
                        <a:lnTo>
                          <a:pt x="1838" y="909"/>
                        </a:lnTo>
                        <a:lnTo>
                          <a:pt x="1853" y="912"/>
                        </a:lnTo>
                        <a:lnTo>
                          <a:pt x="1870" y="913"/>
                        </a:lnTo>
                        <a:lnTo>
                          <a:pt x="1901" y="908"/>
                        </a:lnTo>
                        <a:lnTo>
                          <a:pt x="1926" y="896"/>
                        </a:lnTo>
                        <a:lnTo>
                          <a:pt x="1946" y="879"/>
                        </a:lnTo>
                        <a:lnTo>
                          <a:pt x="1961" y="861"/>
                        </a:lnTo>
                        <a:lnTo>
                          <a:pt x="1971" y="840"/>
                        </a:lnTo>
                        <a:lnTo>
                          <a:pt x="1979" y="821"/>
                        </a:lnTo>
                        <a:lnTo>
                          <a:pt x="1982" y="804"/>
                        </a:lnTo>
                        <a:lnTo>
                          <a:pt x="1985" y="792"/>
                        </a:lnTo>
                        <a:lnTo>
                          <a:pt x="1990" y="792"/>
                        </a:lnTo>
                        <a:lnTo>
                          <a:pt x="1999" y="791"/>
                        </a:lnTo>
                        <a:lnTo>
                          <a:pt x="2009" y="791"/>
                        </a:lnTo>
                        <a:lnTo>
                          <a:pt x="2019" y="790"/>
                        </a:lnTo>
                        <a:lnTo>
                          <a:pt x="2030" y="790"/>
                        </a:lnTo>
                        <a:lnTo>
                          <a:pt x="2038" y="788"/>
                        </a:lnTo>
                        <a:lnTo>
                          <a:pt x="2043" y="788"/>
                        </a:lnTo>
                        <a:lnTo>
                          <a:pt x="2046" y="788"/>
                        </a:lnTo>
                        <a:lnTo>
                          <a:pt x="2046" y="779"/>
                        </a:lnTo>
                        <a:lnTo>
                          <a:pt x="2041" y="750"/>
                        </a:lnTo>
                        <a:lnTo>
                          <a:pt x="2035" y="724"/>
                        </a:lnTo>
                        <a:lnTo>
                          <a:pt x="2027" y="701"/>
                        </a:lnTo>
                        <a:lnTo>
                          <a:pt x="2018" y="680"/>
                        </a:lnTo>
                        <a:lnTo>
                          <a:pt x="2007" y="663"/>
                        </a:lnTo>
                        <a:lnTo>
                          <a:pt x="1993" y="647"/>
                        </a:lnTo>
                        <a:lnTo>
                          <a:pt x="1977" y="632"/>
                        </a:lnTo>
                        <a:lnTo>
                          <a:pt x="1959" y="619"/>
                        </a:lnTo>
                        <a:lnTo>
                          <a:pt x="1933" y="605"/>
                        </a:lnTo>
                        <a:lnTo>
                          <a:pt x="1906" y="596"/>
                        </a:lnTo>
                        <a:lnTo>
                          <a:pt x="1881" y="591"/>
                        </a:lnTo>
                        <a:lnTo>
                          <a:pt x="1856" y="590"/>
                        </a:lnTo>
                        <a:lnTo>
                          <a:pt x="1834" y="591"/>
                        </a:lnTo>
                        <a:lnTo>
                          <a:pt x="1814" y="594"/>
                        </a:lnTo>
                        <a:lnTo>
                          <a:pt x="1798" y="597"/>
                        </a:lnTo>
                        <a:lnTo>
                          <a:pt x="1787" y="600"/>
                        </a:lnTo>
                        <a:lnTo>
                          <a:pt x="1780" y="603"/>
                        </a:lnTo>
                        <a:lnTo>
                          <a:pt x="1772" y="606"/>
                        </a:lnTo>
                        <a:lnTo>
                          <a:pt x="1765" y="610"/>
                        </a:lnTo>
                        <a:lnTo>
                          <a:pt x="1759" y="613"/>
                        </a:lnTo>
                        <a:lnTo>
                          <a:pt x="1752" y="618"/>
                        </a:lnTo>
                        <a:lnTo>
                          <a:pt x="1746" y="621"/>
                        </a:lnTo>
                        <a:lnTo>
                          <a:pt x="1740" y="626"/>
                        </a:lnTo>
                        <a:lnTo>
                          <a:pt x="1735" y="629"/>
                        </a:lnTo>
                        <a:lnTo>
                          <a:pt x="1745" y="602"/>
                        </a:lnTo>
                        <a:lnTo>
                          <a:pt x="1754" y="573"/>
                        </a:lnTo>
                        <a:lnTo>
                          <a:pt x="1762" y="550"/>
                        </a:lnTo>
                        <a:lnTo>
                          <a:pt x="1767" y="537"/>
                        </a:lnTo>
                        <a:lnTo>
                          <a:pt x="1777" y="536"/>
                        </a:lnTo>
                        <a:lnTo>
                          <a:pt x="1793" y="535"/>
                        </a:lnTo>
                        <a:lnTo>
                          <a:pt x="1813" y="534"/>
                        </a:lnTo>
                        <a:lnTo>
                          <a:pt x="1836" y="531"/>
                        </a:lnTo>
                        <a:lnTo>
                          <a:pt x="1859" y="530"/>
                        </a:lnTo>
                        <a:lnTo>
                          <a:pt x="1883" y="529"/>
                        </a:lnTo>
                        <a:lnTo>
                          <a:pt x="1905" y="528"/>
                        </a:lnTo>
                        <a:lnTo>
                          <a:pt x="1926" y="528"/>
                        </a:lnTo>
                        <a:lnTo>
                          <a:pt x="1944" y="529"/>
                        </a:lnTo>
                        <a:lnTo>
                          <a:pt x="1959" y="531"/>
                        </a:lnTo>
                        <a:lnTo>
                          <a:pt x="1973" y="535"/>
                        </a:lnTo>
                        <a:lnTo>
                          <a:pt x="1985" y="539"/>
                        </a:lnTo>
                        <a:lnTo>
                          <a:pt x="1994" y="544"/>
                        </a:lnTo>
                        <a:lnTo>
                          <a:pt x="2001" y="549"/>
                        </a:lnTo>
                        <a:lnTo>
                          <a:pt x="2007" y="551"/>
                        </a:lnTo>
                        <a:lnTo>
                          <a:pt x="2009" y="553"/>
                        </a:lnTo>
                        <a:lnTo>
                          <a:pt x="2011" y="559"/>
                        </a:lnTo>
                        <a:lnTo>
                          <a:pt x="2016" y="572"/>
                        </a:lnTo>
                        <a:lnTo>
                          <a:pt x="2022" y="589"/>
                        </a:lnTo>
                        <a:lnTo>
                          <a:pt x="2028" y="607"/>
                        </a:lnTo>
                        <a:lnTo>
                          <a:pt x="2037" y="626"/>
                        </a:lnTo>
                        <a:lnTo>
                          <a:pt x="2042" y="642"/>
                        </a:lnTo>
                        <a:lnTo>
                          <a:pt x="2047" y="653"/>
                        </a:lnTo>
                        <a:lnTo>
                          <a:pt x="2048" y="658"/>
                        </a:lnTo>
                        <a:lnTo>
                          <a:pt x="2168" y="655"/>
                        </a:lnTo>
                        <a:lnTo>
                          <a:pt x="2142" y="517"/>
                        </a:lnTo>
                        <a:lnTo>
                          <a:pt x="2137" y="515"/>
                        </a:lnTo>
                        <a:lnTo>
                          <a:pt x="2121" y="511"/>
                        </a:lnTo>
                        <a:lnTo>
                          <a:pt x="2099" y="504"/>
                        </a:lnTo>
                        <a:lnTo>
                          <a:pt x="2072" y="494"/>
                        </a:lnTo>
                        <a:lnTo>
                          <a:pt x="2046" y="486"/>
                        </a:lnTo>
                        <a:lnTo>
                          <a:pt x="2022" y="478"/>
                        </a:lnTo>
                        <a:lnTo>
                          <a:pt x="2004" y="473"/>
                        </a:lnTo>
                        <a:lnTo>
                          <a:pt x="1995" y="469"/>
                        </a:lnTo>
                        <a:lnTo>
                          <a:pt x="1995" y="462"/>
                        </a:lnTo>
                        <a:lnTo>
                          <a:pt x="1995" y="455"/>
                        </a:lnTo>
                        <a:lnTo>
                          <a:pt x="1995" y="449"/>
                        </a:lnTo>
                        <a:lnTo>
                          <a:pt x="1995" y="447"/>
                        </a:lnTo>
                        <a:lnTo>
                          <a:pt x="1924" y="346"/>
                        </a:lnTo>
                        <a:lnTo>
                          <a:pt x="1921" y="346"/>
                        </a:lnTo>
                        <a:lnTo>
                          <a:pt x="1914" y="347"/>
                        </a:lnTo>
                        <a:lnTo>
                          <a:pt x="1905" y="348"/>
                        </a:lnTo>
                        <a:lnTo>
                          <a:pt x="1891" y="350"/>
                        </a:lnTo>
                        <a:lnTo>
                          <a:pt x="1876" y="353"/>
                        </a:lnTo>
                        <a:lnTo>
                          <a:pt x="1859" y="356"/>
                        </a:lnTo>
                        <a:lnTo>
                          <a:pt x="1841" y="358"/>
                        </a:lnTo>
                        <a:lnTo>
                          <a:pt x="1821" y="362"/>
                        </a:lnTo>
                        <a:lnTo>
                          <a:pt x="1803" y="364"/>
                        </a:lnTo>
                        <a:lnTo>
                          <a:pt x="1783" y="368"/>
                        </a:lnTo>
                        <a:lnTo>
                          <a:pt x="1766" y="370"/>
                        </a:lnTo>
                        <a:lnTo>
                          <a:pt x="1750" y="372"/>
                        </a:lnTo>
                        <a:lnTo>
                          <a:pt x="1737" y="375"/>
                        </a:lnTo>
                        <a:lnTo>
                          <a:pt x="1726" y="377"/>
                        </a:lnTo>
                        <a:lnTo>
                          <a:pt x="1719" y="378"/>
                        </a:lnTo>
                        <a:lnTo>
                          <a:pt x="1715" y="378"/>
                        </a:lnTo>
                        <a:lnTo>
                          <a:pt x="1713" y="377"/>
                        </a:lnTo>
                        <a:lnTo>
                          <a:pt x="1709" y="375"/>
                        </a:lnTo>
                        <a:lnTo>
                          <a:pt x="1704" y="372"/>
                        </a:lnTo>
                        <a:lnTo>
                          <a:pt x="1698" y="369"/>
                        </a:lnTo>
                        <a:lnTo>
                          <a:pt x="1691" y="364"/>
                        </a:lnTo>
                        <a:lnTo>
                          <a:pt x="1684" y="361"/>
                        </a:lnTo>
                        <a:lnTo>
                          <a:pt x="1676" y="356"/>
                        </a:lnTo>
                        <a:lnTo>
                          <a:pt x="1669" y="352"/>
                        </a:lnTo>
                        <a:lnTo>
                          <a:pt x="1679" y="349"/>
                        </a:lnTo>
                        <a:lnTo>
                          <a:pt x="1694" y="347"/>
                        </a:lnTo>
                        <a:lnTo>
                          <a:pt x="1715" y="342"/>
                        </a:lnTo>
                        <a:lnTo>
                          <a:pt x="1739" y="338"/>
                        </a:lnTo>
                        <a:lnTo>
                          <a:pt x="1766" y="332"/>
                        </a:lnTo>
                        <a:lnTo>
                          <a:pt x="1796" y="326"/>
                        </a:lnTo>
                        <a:lnTo>
                          <a:pt x="1827" y="320"/>
                        </a:lnTo>
                        <a:lnTo>
                          <a:pt x="1858" y="313"/>
                        </a:lnTo>
                        <a:lnTo>
                          <a:pt x="1888" y="308"/>
                        </a:lnTo>
                        <a:lnTo>
                          <a:pt x="1918" y="302"/>
                        </a:lnTo>
                        <a:lnTo>
                          <a:pt x="1944" y="296"/>
                        </a:lnTo>
                        <a:lnTo>
                          <a:pt x="1969" y="292"/>
                        </a:lnTo>
                        <a:lnTo>
                          <a:pt x="1989" y="287"/>
                        </a:lnTo>
                        <a:lnTo>
                          <a:pt x="2004" y="284"/>
                        </a:lnTo>
                        <a:lnTo>
                          <a:pt x="2015" y="282"/>
                        </a:lnTo>
                        <a:lnTo>
                          <a:pt x="2018" y="281"/>
                        </a:lnTo>
                        <a:lnTo>
                          <a:pt x="1969" y="190"/>
                        </a:lnTo>
                        <a:lnTo>
                          <a:pt x="1535" y="343"/>
                        </a:lnTo>
                        <a:lnTo>
                          <a:pt x="1540" y="346"/>
                        </a:lnTo>
                        <a:lnTo>
                          <a:pt x="1553" y="353"/>
                        </a:lnTo>
                        <a:lnTo>
                          <a:pt x="1571" y="363"/>
                        </a:lnTo>
                        <a:lnTo>
                          <a:pt x="1593" y="375"/>
                        </a:lnTo>
                        <a:lnTo>
                          <a:pt x="1614" y="386"/>
                        </a:lnTo>
                        <a:lnTo>
                          <a:pt x="1632" y="396"/>
                        </a:lnTo>
                        <a:lnTo>
                          <a:pt x="1646" y="405"/>
                        </a:lnTo>
                        <a:lnTo>
                          <a:pt x="1653" y="408"/>
                        </a:lnTo>
                        <a:lnTo>
                          <a:pt x="1654" y="411"/>
                        </a:lnTo>
                        <a:lnTo>
                          <a:pt x="1656" y="418"/>
                        </a:lnTo>
                        <a:lnTo>
                          <a:pt x="1660" y="425"/>
                        </a:lnTo>
                        <a:lnTo>
                          <a:pt x="1663" y="432"/>
                        </a:lnTo>
                        <a:lnTo>
                          <a:pt x="1658" y="432"/>
                        </a:lnTo>
                        <a:lnTo>
                          <a:pt x="1648" y="432"/>
                        </a:lnTo>
                        <a:lnTo>
                          <a:pt x="1635" y="432"/>
                        </a:lnTo>
                        <a:lnTo>
                          <a:pt x="1620" y="432"/>
                        </a:lnTo>
                        <a:lnTo>
                          <a:pt x="1602" y="432"/>
                        </a:lnTo>
                        <a:lnTo>
                          <a:pt x="1584" y="432"/>
                        </a:lnTo>
                        <a:lnTo>
                          <a:pt x="1563" y="432"/>
                        </a:lnTo>
                        <a:lnTo>
                          <a:pt x="1544" y="432"/>
                        </a:lnTo>
                        <a:lnTo>
                          <a:pt x="1523" y="432"/>
                        </a:lnTo>
                        <a:lnTo>
                          <a:pt x="1504" y="432"/>
                        </a:lnTo>
                        <a:lnTo>
                          <a:pt x="1486" y="432"/>
                        </a:lnTo>
                        <a:lnTo>
                          <a:pt x="1470" y="432"/>
                        </a:lnTo>
                        <a:lnTo>
                          <a:pt x="1456" y="432"/>
                        </a:lnTo>
                        <a:lnTo>
                          <a:pt x="1444" y="432"/>
                        </a:lnTo>
                        <a:lnTo>
                          <a:pt x="1436" y="432"/>
                        </a:lnTo>
                        <a:lnTo>
                          <a:pt x="1433" y="432"/>
                        </a:lnTo>
                        <a:lnTo>
                          <a:pt x="1429" y="425"/>
                        </a:lnTo>
                        <a:lnTo>
                          <a:pt x="1421" y="413"/>
                        </a:lnTo>
                        <a:lnTo>
                          <a:pt x="1411" y="395"/>
                        </a:lnTo>
                        <a:lnTo>
                          <a:pt x="1400" y="376"/>
                        </a:lnTo>
                        <a:lnTo>
                          <a:pt x="1388" y="355"/>
                        </a:lnTo>
                        <a:lnTo>
                          <a:pt x="1378" y="337"/>
                        </a:lnTo>
                        <a:lnTo>
                          <a:pt x="1368" y="322"/>
                        </a:lnTo>
                        <a:lnTo>
                          <a:pt x="1364" y="312"/>
                        </a:lnTo>
                        <a:lnTo>
                          <a:pt x="1374" y="310"/>
                        </a:lnTo>
                        <a:lnTo>
                          <a:pt x="1390" y="305"/>
                        </a:lnTo>
                        <a:lnTo>
                          <a:pt x="1409" y="300"/>
                        </a:lnTo>
                        <a:lnTo>
                          <a:pt x="1431" y="294"/>
                        </a:lnTo>
                        <a:lnTo>
                          <a:pt x="1450" y="289"/>
                        </a:lnTo>
                        <a:lnTo>
                          <a:pt x="1467" y="285"/>
                        </a:lnTo>
                        <a:lnTo>
                          <a:pt x="1479" y="281"/>
                        </a:lnTo>
                        <a:lnTo>
                          <a:pt x="1484" y="280"/>
                        </a:lnTo>
                        <a:lnTo>
                          <a:pt x="1495" y="275"/>
                        </a:lnTo>
                        <a:lnTo>
                          <a:pt x="1518" y="267"/>
                        </a:lnTo>
                        <a:lnTo>
                          <a:pt x="1552" y="255"/>
                        </a:lnTo>
                        <a:lnTo>
                          <a:pt x="1593" y="239"/>
                        </a:lnTo>
                        <a:lnTo>
                          <a:pt x="1641" y="220"/>
                        </a:lnTo>
                        <a:lnTo>
                          <a:pt x="1696" y="199"/>
                        </a:lnTo>
                        <a:lnTo>
                          <a:pt x="1752" y="177"/>
                        </a:lnTo>
                        <a:lnTo>
                          <a:pt x="1812" y="154"/>
                        </a:lnTo>
                        <a:lnTo>
                          <a:pt x="1871" y="133"/>
                        </a:lnTo>
                        <a:lnTo>
                          <a:pt x="1929" y="109"/>
                        </a:lnTo>
                        <a:lnTo>
                          <a:pt x="1984" y="89"/>
                        </a:lnTo>
                        <a:lnTo>
                          <a:pt x="2034" y="69"/>
                        </a:lnTo>
                        <a:lnTo>
                          <a:pt x="2078" y="52"/>
                        </a:lnTo>
                        <a:lnTo>
                          <a:pt x="2114" y="37"/>
                        </a:lnTo>
                        <a:lnTo>
                          <a:pt x="2140" y="26"/>
                        </a:lnTo>
                        <a:lnTo>
                          <a:pt x="2155" y="20"/>
                        </a:lnTo>
                        <a:lnTo>
                          <a:pt x="2162" y="17"/>
                        </a:lnTo>
                        <a:lnTo>
                          <a:pt x="2168" y="16"/>
                        </a:lnTo>
                        <a:lnTo>
                          <a:pt x="2174" y="16"/>
                        </a:lnTo>
                        <a:lnTo>
                          <a:pt x="2178" y="18"/>
                        </a:lnTo>
                        <a:lnTo>
                          <a:pt x="2185" y="25"/>
                        </a:lnTo>
                        <a:lnTo>
                          <a:pt x="2190" y="36"/>
                        </a:lnTo>
                        <a:lnTo>
                          <a:pt x="2193" y="46"/>
                        </a:lnTo>
                        <a:lnTo>
                          <a:pt x="2194" y="55"/>
                        </a:lnTo>
                        <a:lnTo>
                          <a:pt x="2192" y="60"/>
                        </a:lnTo>
                        <a:lnTo>
                          <a:pt x="2187" y="68"/>
                        </a:lnTo>
                        <a:lnTo>
                          <a:pt x="2182" y="79"/>
                        </a:lnTo>
                        <a:lnTo>
                          <a:pt x="2175" y="92"/>
                        </a:lnTo>
                        <a:lnTo>
                          <a:pt x="2168" y="106"/>
                        </a:lnTo>
                        <a:lnTo>
                          <a:pt x="2162" y="118"/>
                        </a:lnTo>
                        <a:lnTo>
                          <a:pt x="2157" y="126"/>
                        </a:lnTo>
                        <a:lnTo>
                          <a:pt x="2155" y="130"/>
                        </a:lnTo>
                        <a:lnTo>
                          <a:pt x="2149" y="133"/>
                        </a:lnTo>
                        <a:lnTo>
                          <a:pt x="2136" y="138"/>
                        </a:lnTo>
                        <a:lnTo>
                          <a:pt x="2117" y="146"/>
                        </a:lnTo>
                        <a:lnTo>
                          <a:pt x="2098" y="154"/>
                        </a:lnTo>
                        <a:lnTo>
                          <a:pt x="2077" y="162"/>
                        </a:lnTo>
                        <a:lnTo>
                          <a:pt x="2060" y="169"/>
                        </a:lnTo>
                        <a:lnTo>
                          <a:pt x="2047" y="174"/>
                        </a:lnTo>
                        <a:lnTo>
                          <a:pt x="2042" y="176"/>
                        </a:lnTo>
                        <a:lnTo>
                          <a:pt x="2042" y="215"/>
                        </a:lnTo>
                        <a:lnTo>
                          <a:pt x="2046" y="222"/>
                        </a:lnTo>
                        <a:lnTo>
                          <a:pt x="2057" y="240"/>
                        </a:lnTo>
                        <a:lnTo>
                          <a:pt x="2072" y="266"/>
                        </a:lnTo>
                        <a:lnTo>
                          <a:pt x="2090" y="295"/>
                        </a:lnTo>
                        <a:lnTo>
                          <a:pt x="2107" y="325"/>
                        </a:lnTo>
                        <a:lnTo>
                          <a:pt x="2123" y="352"/>
                        </a:lnTo>
                        <a:lnTo>
                          <a:pt x="2134" y="371"/>
                        </a:lnTo>
                        <a:lnTo>
                          <a:pt x="2139" y="380"/>
                        </a:lnTo>
                        <a:lnTo>
                          <a:pt x="2134" y="392"/>
                        </a:lnTo>
                        <a:lnTo>
                          <a:pt x="2125" y="410"/>
                        </a:lnTo>
                        <a:lnTo>
                          <a:pt x="2117" y="426"/>
                        </a:lnTo>
                        <a:lnTo>
                          <a:pt x="2114" y="434"/>
                        </a:lnTo>
                        <a:lnTo>
                          <a:pt x="2121" y="445"/>
                        </a:lnTo>
                        <a:lnTo>
                          <a:pt x="2138" y="473"/>
                        </a:lnTo>
                        <a:lnTo>
                          <a:pt x="2163" y="512"/>
                        </a:lnTo>
                        <a:lnTo>
                          <a:pt x="2191" y="556"/>
                        </a:lnTo>
                        <a:lnTo>
                          <a:pt x="2220" y="602"/>
                        </a:lnTo>
                        <a:lnTo>
                          <a:pt x="2245" y="641"/>
                        </a:lnTo>
                        <a:lnTo>
                          <a:pt x="2263" y="670"/>
                        </a:lnTo>
                        <a:lnTo>
                          <a:pt x="2270" y="681"/>
                        </a:lnTo>
                        <a:lnTo>
                          <a:pt x="2270" y="688"/>
                        </a:lnTo>
                        <a:lnTo>
                          <a:pt x="2269" y="701"/>
                        </a:lnTo>
                        <a:lnTo>
                          <a:pt x="2268" y="715"/>
                        </a:lnTo>
                        <a:lnTo>
                          <a:pt x="2268" y="724"/>
                        </a:lnTo>
                        <a:lnTo>
                          <a:pt x="2263" y="725"/>
                        </a:lnTo>
                        <a:lnTo>
                          <a:pt x="2258" y="727"/>
                        </a:lnTo>
                        <a:lnTo>
                          <a:pt x="2251" y="728"/>
                        </a:lnTo>
                        <a:lnTo>
                          <a:pt x="2243" y="731"/>
                        </a:lnTo>
                        <a:lnTo>
                          <a:pt x="2235" y="732"/>
                        </a:lnTo>
                        <a:lnTo>
                          <a:pt x="2225" y="733"/>
                        </a:lnTo>
                        <a:lnTo>
                          <a:pt x="2217" y="734"/>
                        </a:lnTo>
                        <a:lnTo>
                          <a:pt x="2209" y="734"/>
                        </a:lnTo>
                        <a:lnTo>
                          <a:pt x="2199" y="733"/>
                        </a:lnTo>
                        <a:lnTo>
                          <a:pt x="2189" y="731"/>
                        </a:lnTo>
                        <a:lnTo>
                          <a:pt x="2178" y="726"/>
                        </a:lnTo>
                        <a:lnTo>
                          <a:pt x="2168" y="722"/>
                        </a:lnTo>
                        <a:lnTo>
                          <a:pt x="2160" y="718"/>
                        </a:lnTo>
                        <a:lnTo>
                          <a:pt x="2153" y="713"/>
                        </a:lnTo>
                        <a:lnTo>
                          <a:pt x="2148" y="711"/>
                        </a:lnTo>
                        <a:lnTo>
                          <a:pt x="2147" y="710"/>
                        </a:lnTo>
                        <a:lnTo>
                          <a:pt x="2145" y="709"/>
                        </a:lnTo>
                        <a:lnTo>
                          <a:pt x="2071" y="709"/>
                        </a:lnTo>
                        <a:lnTo>
                          <a:pt x="2071" y="876"/>
                        </a:lnTo>
                        <a:lnTo>
                          <a:pt x="2071" y="882"/>
                        </a:lnTo>
                        <a:lnTo>
                          <a:pt x="2070" y="887"/>
                        </a:lnTo>
                        <a:lnTo>
                          <a:pt x="2069" y="891"/>
                        </a:lnTo>
                        <a:lnTo>
                          <a:pt x="2066" y="893"/>
                        </a:lnTo>
                        <a:lnTo>
                          <a:pt x="2063" y="894"/>
                        </a:lnTo>
                        <a:lnTo>
                          <a:pt x="2060" y="894"/>
                        </a:lnTo>
                        <a:lnTo>
                          <a:pt x="2055" y="894"/>
                        </a:lnTo>
                        <a:lnTo>
                          <a:pt x="2053" y="893"/>
                        </a:lnTo>
                        <a:lnTo>
                          <a:pt x="2047" y="890"/>
                        </a:lnTo>
                        <a:lnTo>
                          <a:pt x="2037" y="883"/>
                        </a:lnTo>
                        <a:lnTo>
                          <a:pt x="2025" y="876"/>
                        </a:lnTo>
                        <a:lnTo>
                          <a:pt x="2019" y="872"/>
                        </a:lnTo>
                        <a:lnTo>
                          <a:pt x="2013" y="868"/>
                        </a:lnTo>
                        <a:lnTo>
                          <a:pt x="2008" y="877"/>
                        </a:lnTo>
                        <a:lnTo>
                          <a:pt x="2005" y="884"/>
                        </a:lnTo>
                        <a:lnTo>
                          <a:pt x="2001" y="891"/>
                        </a:lnTo>
                        <a:lnTo>
                          <a:pt x="1995" y="899"/>
                        </a:lnTo>
                        <a:lnTo>
                          <a:pt x="1988" y="908"/>
                        </a:lnTo>
                        <a:lnTo>
                          <a:pt x="1979" y="917"/>
                        </a:lnTo>
                        <a:lnTo>
                          <a:pt x="1970" y="926"/>
                        </a:lnTo>
                        <a:lnTo>
                          <a:pt x="1958" y="934"/>
                        </a:lnTo>
                        <a:lnTo>
                          <a:pt x="1946" y="942"/>
                        </a:lnTo>
                        <a:lnTo>
                          <a:pt x="1941" y="944"/>
                        </a:lnTo>
                        <a:lnTo>
                          <a:pt x="1935" y="947"/>
                        </a:lnTo>
                        <a:lnTo>
                          <a:pt x="1928" y="950"/>
                        </a:lnTo>
                        <a:lnTo>
                          <a:pt x="1921" y="953"/>
                        </a:lnTo>
                        <a:lnTo>
                          <a:pt x="1914" y="955"/>
                        </a:lnTo>
                        <a:lnTo>
                          <a:pt x="1906" y="958"/>
                        </a:lnTo>
                        <a:lnTo>
                          <a:pt x="1898" y="960"/>
                        </a:lnTo>
                        <a:lnTo>
                          <a:pt x="1889" y="962"/>
                        </a:lnTo>
                        <a:lnTo>
                          <a:pt x="1881" y="964"/>
                        </a:lnTo>
                        <a:lnTo>
                          <a:pt x="1873" y="965"/>
                        </a:lnTo>
                        <a:lnTo>
                          <a:pt x="1865" y="966"/>
                        </a:lnTo>
                        <a:lnTo>
                          <a:pt x="1856" y="966"/>
                        </a:lnTo>
                        <a:lnTo>
                          <a:pt x="1846" y="966"/>
                        </a:lnTo>
                        <a:lnTo>
                          <a:pt x="1837" y="965"/>
                        </a:lnTo>
                        <a:lnTo>
                          <a:pt x="1828" y="962"/>
                        </a:lnTo>
                        <a:lnTo>
                          <a:pt x="1818" y="960"/>
                        </a:lnTo>
                        <a:lnTo>
                          <a:pt x="1784" y="946"/>
                        </a:lnTo>
                        <a:lnTo>
                          <a:pt x="1755" y="929"/>
                        </a:lnTo>
                        <a:lnTo>
                          <a:pt x="1731" y="908"/>
                        </a:lnTo>
                        <a:lnTo>
                          <a:pt x="1713" y="886"/>
                        </a:lnTo>
                        <a:lnTo>
                          <a:pt x="1699" y="867"/>
                        </a:lnTo>
                        <a:lnTo>
                          <a:pt x="1689" y="849"/>
                        </a:lnTo>
                        <a:lnTo>
                          <a:pt x="1683" y="838"/>
                        </a:lnTo>
                        <a:lnTo>
                          <a:pt x="1681" y="833"/>
                        </a:lnTo>
                        <a:lnTo>
                          <a:pt x="1678" y="830"/>
                        </a:lnTo>
                        <a:lnTo>
                          <a:pt x="1675" y="830"/>
                        </a:lnTo>
                        <a:lnTo>
                          <a:pt x="1643" y="823"/>
                        </a:lnTo>
                        <a:lnTo>
                          <a:pt x="1616" y="810"/>
                        </a:lnTo>
                        <a:lnTo>
                          <a:pt x="1595" y="796"/>
                        </a:lnTo>
                        <a:lnTo>
                          <a:pt x="1579" y="780"/>
                        </a:lnTo>
                        <a:lnTo>
                          <a:pt x="1567" y="765"/>
                        </a:lnTo>
                        <a:lnTo>
                          <a:pt x="1558" y="751"/>
                        </a:lnTo>
                        <a:lnTo>
                          <a:pt x="1554" y="742"/>
                        </a:lnTo>
                        <a:lnTo>
                          <a:pt x="1553" y="738"/>
                        </a:lnTo>
                        <a:lnTo>
                          <a:pt x="1552" y="731"/>
                        </a:lnTo>
                        <a:lnTo>
                          <a:pt x="1548" y="731"/>
                        </a:lnTo>
                        <a:lnTo>
                          <a:pt x="1540" y="731"/>
                        </a:lnTo>
                        <a:lnTo>
                          <a:pt x="1527" y="731"/>
                        </a:lnTo>
                        <a:lnTo>
                          <a:pt x="1511" y="731"/>
                        </a:lnTo>
                        <a:lnTo>
                          <a:pt x="1492" y="731"/>
                        </a:lnTo>
                        <a:lnTo>
                          <a:pt x="1470" y="731"/>
                        </a:lnTo>
                        <a:lnTo>
                          <a:pt x="1446" y="731"/>
                        </a:lnTo>
                        <a:lnTo>
                          <a:pt x="1421" y="731"/>
                        </a:lnTo>
                        <a:lnTo>
                          <a:pt x="1396" y="731"/>
                        </a:lnTo>
                        <a:lnTo>
                          <a:pt x="1372" y="731"/>
                        </a:lnTo>
                        <a:lnTo>
                          <a:pt x="1349" y="731"/>
                        </a:lnTo>
                        <a:lnTo>
                          <a:pt x="1328" y="731"/>
                        </a:lnTo>
                        <a:lnTo>
                          <a:pt x="1311" y="731"/>
                        </a:lnTo>
                        <a:lnTo>
                          <a:pt x="1296" y="731"/>
                        </a:lnTo>
                        <a:lnTo>
                          <a:pt x="1285" y="731"/>
                        </a:lnTo>
                        <a:lnTo>
                          <a:pt x="1280" y="731"/>
                        </a:lnTo>
                        <a:lnTo>
                          <a:pt x="1280" y="679"/>
                        </a:lnTo>
                        <a:lnTo>
                          <a:pt x="1280" y="577"/>
                        </a:lnTo>
                        <a:lnTo>
                          <a:pt x="1280" y="479"/>
                        </a:lnTo>
                        <a:lnTo>
                          <a:pt x="1280" y="436"/>
                        </a:lnTo>
                        <a:lnTo>
                          <a:pt x="1191" y="436"/>
                        </a:lnTo>
                        <a:lnTo>
                          <a:pt x="1191" y="453"/>
                        </a:lnTo>
                        <a:lnTo>
                          <a:pt x="1191" y="493"/>
                        </a:lnTo>
                        <a:lnTo>
                          <a:pt x="1191" y="537"/>
                        </a:lnTo>
                        <a:lnTo>
                          <a:pt x="1191" y="562"/>
                        </a:lnTo>
                        <a:lnTo>
                          <a:pt x="1182" y="562"/>
                        </a:lnTo>
                        <a:lnTo>
                          <a:pt x="1161" y="562"/>
                        </a:lnTo>
                        <a:lnTo>
                          <a:pt x="1130" y="562"/>
                        </a:lnTo>
                        <a:lnTo>
                          <a:pt x="1091" y="562"/>
                        </a:lnTo>
                        <a:lnTo>
                          <a:pt x="1045" y="562"/>
                        </a:lnTo>
                        <a:lnTo>
                          <a:pt x="994" y="562"/>
                        </a:lnTo>
                        <a:lnTo>
                          <a:pt x="940" y="562"/>
                        </a:lnTo>
                        <a:lnTo>
                          <a:pt x="885" y="562"/>
                        </a:lnTo>
                        <a:lnTo>
                          <a:pt x="829" y="562"/>
                        </a:lnTo>
                        <a:lnTo>
                          <a:pt x="775" y="562"/>
                        </a:lnTo>
                        <a:lnTo>
                          <a:pt x="726" y="562"/>
                        </a:lnTo>
                        <a:lnTo>
                          <a:pt x="681" y="562"/>
                        </a:lnTo>
                        <a:lnTo>
                          <a:pt x="643" y="562"/>
                        </a:lnTo>
                        <a:lnTo>
                          <a:pt x="614" y="562"/>
                        </a:lnTo>
                        <a:lnTo>
                          <a:pt x="596" y="562"/>
                        </a:lnTo>
                        <a:lnTo>
                          <a:pt x="589" y="562"/>
                        </a:lnTo>
                        <a:lnTo>
                          <a:pt x="589" y="571"/>
                        </a:lnTo>
                        <a:lnTo>
                          <a:pt x="591" y="587"/>
                        </a:lnTo>
                        <a:lnTo>
                          <a:pt x="596" y="607"/>
                        </a:lnTo>
                        <a:lnTo>
                          <a:pt x="604" y="632"/>
                        </a:lnTo>
                        <a:lnTo>
                          <a:pt x="613" y="656"/>
                        </a:lnTo>
                        <a:lnTo>
                          <a:pt x="621" y="680"/>
                        </a:lnTo>
                        <a:lnTo>
                          <a:pt x="629" y="700"/>
                        </a:lnTo>
                        <a:lnTo>
                          <a:pt x="635" y="713"/>
                        </a:lnTo>
                        <a:lnTo>
                          <a:pt x="637" y="720"/>
                        </a:lnTo>
                        <a:lnTo>
                          <a:pt x="639" y="725"/>
                        </a:lnTo>
                        <a:lnTo>
                          <a:pt x="645" y="725"/>
                        </a:lnTo>
                        <a:lnTo>
                          <a:pt x="661" y="725"/>
                        </a:lnTo>
                        <a:lnTo>
                          <a:pt x="687" y="725"/>
                        </a:lnTo>
                        <a:lnTo>
                          <a:pt x="720" y="725"/>
                        </a:lnTo>
                        <a:lnTo>
                          <a:pt x="758" y="725"/>
                        </a:lnTo>
                        <a:lnTo>
                          <a:pt x="802" y="725"/>
                        </a:lnTo>
                        <a:lnTo>
                          <a:pt x="849" y="725"/>
                        </a:lnTo>
                        <a:lnTo>
                          <a:pt x="897" y="725"/>
                        </a:lnTo>
                        <a:lnTo>
                          <a:pt x="946" y="725"/>
                        </a:lnTo>
                        <a:lnTo>
                          <a:pt x="993" y="725"/>
                        </a:lnTo>
                        <a:lnTo>
                          <a:pt x="1038" y="725"/>
                        </a:lnTo>
                        <a:lnTo>
                          <a:pt x="1078" y="725"/>
                        </a:lnTo>
                        <a:lnTo>
                          <a:pt x="1113" y="725"/>
                        </a:lnTo>
                        <a:lnTo>
                          <a:pt x="1139" y="725"/>
                        </a:lnTo>
                        <a:lnTo>
                          <a:pt x="1159" y="725"/>
                        </a:lnTo>
                        <a:lnTo>
                          <a:pt x="1167" y="725"/>
                        </a:lnTo>
                        <a:lnTo>
                          <a:pt x="1162" y="736"/>
                        </a:lnTo>
                        <a:lnTo>
                          <a:pt x="1155" y="746"/>
                        </a:lnTo>
                        <a:lnTo>
                          <a:pt x="1146" y="753"/>
                        </a:lnTo>
                        <a:lnTo>
                          <a:pt x="1136" y="758"/>
                        </a:lnTo>
                        <a:lnTo>
                          <a:pt x="1127" y="762"/>
                        </a:lnTo>
                        <a:lnTo>
                          <a:pt x="1118" y="764"/>
                        </a:lnTo>
                        <a:lnTo>
                          <a:pt x="1113" y="766"/>
                        </a:lnTo>
                        <a:lnTo>
                          <a:pt x="1110" y="766"/>
                        </a:lnTo>
                        <a:lnTo>
                          <a:pt x="645" y="766"/>
                        </a:lnTo>
                        <a:lnTo>
                          <a:pt x="631" y="765"/>
                        </a:lnTo>
                        <a:lnTo>
                          <a:pt x="621" y="764"/>
                        </a:lnTo>
                        <a:lnTo>
                          <a:pt x="612" y="762"/>
                        </a:lnTo>
                        <a:lnTo>
                          <a:pt x="605" y="758"/>
                        </a:lnTo>
                        <a:lnTo>
                          <a:pt x="600" y="755"/>
                        </a:lnTo>
                        <a:lnTo>
                          <a:pt x="597" y="753"/>
                        </a:lnTo>
                        <a:lnTo>
                          <a:pt x="594" y="751"/>
                        </a:lnTo>
                        <a:lnTo>
                          <a:pt x="594" y="750"/>
                        </a:lnTo>
                        <a:lnTo>
                          <a:pt x="589" y="743"/>
                        </a:lnTo>
                        <a:lnTo>
                          <a:pt x="582" y="749"/>
                        </a:lnTo>
                        <a:lnTo>
                          <a:pt x="530" y="795"/>
                        </a:lnTo>
                        <a:lnTo>
                          <a:pt x="529" y="798"/>
                        </a:lnTo>
                        <a:lnTo>
                          <a:pt x="523" y="817"/>
                        </a:lnTo>
                        <a:lnTo>
                          <a:pt x="516" y="836"/>
                        </a:lnTo>
                        <a:lnTo>
                          <a:pt x="508" y="853"/>
                        </a:lnTo>
                        <a:lnTo>
                          <a:pt x="498" y="868"/>
                        </a:lnTo>
                        <a:lnTo>
                          <a:pt x="486" y="882"/>
                        </a:lnTo>
                        <a:lnTo>
                          <a:pt x="473" y="894"/>
                        </a:lnTo>
                        <a:lnTo>
                          <a:pt x="458" y="905"/>
                        </a:lnTo>
                        <a:lnTo>
                          <a:pt x="442" y="913"/>
                        </a:lnTo>
                        <a:lnTo>
                          <a:pt x="432" y="917"/>
                        </a:lnTo>
                        <a:lnTo>
                          <a:pt x="422" y="922"/>
                        </a:lnTo>
                        <a:lnTo>
                          <a:pt x="410" y="924"/>
                        </a:lnTo>
                        <a:lnTo>
                          <a:pt x="400" y="927"/>
                        </a:lnTo>
                        <a:lnTo>
                          <a:pt x="388" y="929"/>
                        </a:lnTo>
                        <a:lnTo>
                          <a:pt x="377" y="930"/>
                        </a:lnTo>
                        <a:lnTo>
                          <a:pt x="366" y="931"/>
                        </a:lnTo>
                        <a:lnTo>
                          <a:pt x="356" y="931"/>
                        </a:lnTo>
                        <a:lnTo>
                          <a:pt x="346" y="931"/>
                        </a:lnTo>
                        <a:lnTo>
                          <a:pt x="336" y="930"/>
                        </a:lnTo>
                        <a:lnTo>
                          <a:pt x="327" y="929"/>
                        </a:lnTo>
                        <a:lnTo>
                          <a:pt x="318" y="928"/>
                        </a:lnTo>
                        <a:lnTo>
                          <a:pt x="310" y="926"/>
                        </a:lnTo>
                        <a:lnTo>
                          <a:pt x="302" y="924"/>
                        </a:lnTo>
                        <a:lnTo>
                          <a:pt x="295" y="922"/>
                        </a:lnTo>
                        <a:lnTo>
                          <a:pt x="289" y="920"/>
                        </a:lnTo>
                        <a:lnTo>
                          <a:pt x="271" y="911"/>
                        </a:lnTo>
                        <a:lnTo>
                          <a:pt x="252" y="898"/>
                        </a:lnTo>
                        <a:lnTo>
                          <a:pt x="235" y="882"/>
                        </a:lnTo>
                        <a:lnTo>
                          <a:pt x="219" y="863"/>
                        </a:lnTo>
                        <a:lnTo>
                          <a:pt x="204" y="841"/>
                        </a:lnTo>
                        <a:lnTo>
                          <a:pt x="194" y="816"/>
                        </a:lnTo>
                        <a:lnTo>
                          <a:pt x="185" y="788"/>
                        </a:lnTo>
                        <a:lnTo>
                          <a:pt x="183" y="757"/>
                        </a:lnTo>
                        <a:lnTo>
                          <a:pt x="183" y="743"/>
                        </a:lnTo>
                        <a:lnTo>
                          <a:pt x="185" y="728"/>
                        </a:lnTo>
                        <a:lnTo>
                          <a:pt x="188" y="712"/>
                        </a:lnTo>
                        <a:lnTo>
                          <a:pt x="192" y="697"/>
                        </a:lnTo>
                        <a:lnTo>
                          <a:pt x="196" y="687"/>
                        </a:lnTo>
                        <a:lnTo>
                          <a:pt x="199" y="677"/>
                        </a:lnTo>
                        <a:lnTo>
                          <a:pt x="204" y="667"/>
                        </a:lnTo>
                        <a:lnTo>
                          <a:pt x="210" y="659"/>
                        </a:lnTo>
                        <a:lnTo>
                          <a:pt x="215" y="650"/>
                        </a:lnTo>
                        <a:lnTo>
                          <a:pt x="221" y="643"/>
                        </a:lnTo>
                        <a:lnTo>
                          <a:pt x="228" y="635"/>
                        </a:lnTo>
                        <a:lnTo>
                          <a:pt x="235" y="628"/>
                        </a:lnTo>
                        <a:lnTo>
                          <a:pt x="238" y="634"/>
                        </a:lnTo>
                        <a:lnTo>
                          <a:pt x="243" y="642"/>
                        </a:lnTo>
                        <a:lnTo>
                          <a:pt x="249" y="650"/>
                        </a:lnTo>
                        <a:lnTo>
                          <a:pt x="255" y="659"/>
                        </a:lnTo>
                        <a:lnTo>
                          <a:pt x="260" y="668"/>
                        </a:lnTo>
                        <a:lnTo>
                          <a:pt x="265" y="677"/>
                        </a:lnTo>
                        <a:lnTo>
                          <a:pt x="270" y="683"/>
                        </a:lnTo>
                        <a:lnTo>
                          <a:pt x="272" y="687"/>
                        </a:lnTo>
                        <a:lnTo>
                          <a:pt x="261" y="703"/>
                        </a:lnTo>
                        <a:lnTo>
                          <a:pt x="253" y="720"/>
                        </a:lnTo>
                        <a:lnTo>
                          <a:pt x="248" y="739"/>
                        </a:lnTo>
                        <a:lnTo>
                          <a:pt x="247" y="758"/>
                        </a:lnTo>
                        <a:lnTo>
                          <a:pt x="249" y="781"/>
                        </a:lnTo>
                        <a:lnTo>
                          <a:pt x="256" y="803"/>
                        </a:lnTo>
                        <a:lnTo>
                          <a:pt x="266" y="823"/>
                        </a:lnTo>
                        <a:lnTo>
                          <a:pt x="280" y="840"/>
                        </a:lnTo>
                        <a:lnTo>
                          <a:pt x="296" y="855"/>
                        </a:lnTo>
                        <a:lnTo>
                          <a:pt x="316" y="866"/>
                        </a:lnTo>
                        <a:lnTo>
                          <a:pt x="336" y="872"/>
                        </a:lnTo>
                        <a:lnTo>
                          <a:pt x="359" y="875"/>
                        </a:lnTo>
                        <a:lnTo>
                          <a:pt x="382" y="872"/>
                        </a:lnTo>
                        <a:lnTo>
                          <a:pt x="403" y="866"/>
                        </a:lnTo>
                        <a:lnTo>
                          <a:pt x="422" y="855"/>
                        </a:lnTo>
                        <a:lnTo>
                          <a:pt x="439" y="840"/>
                        </a:lnTo>
                        <a:lnTo>
                          <a:pt x="453" y="823"/>
                        </a:lnTo>
                        <a:lnTo>
                          <a:pt x="462" y="803"/>
                        </a:lnTo>
                        <a:lnTo>
                          <a:pt x="469" y="781"/>
                        </a:lnTo>
                        <a:lnTo>
                          <a:pt x="471" y="758"/>
                        </a:lnTo>
                        <a:lnTo>
                          <a:pt x="470" y="743"/>
                        </a:lnTo>
                        <a:lnTo>
                          <a:pt x="468" y="728"/>
                        </a:lnTo>
                        <a:lnTo>
                          <a:pt x="462" y="713"/>
                        </a:lnTo>
                        <a:lnTo>
                          <a:pt x="456" y="701"/>
                        </a:lnTo>
                        <a:lnTo>
                          <a:pt x="448" y="688"/>
                        </a:lnTo>
                        <a:lnTo>
                          <a:pt x="438" y="677"/>
                        </a:lnTo>
                        <a:lnTo>
                          <a:pt x="427" y="666"/>
                        </a:lnTo>
                        <a:lnTo>
                          <a:pt x="415" y="658"/>
                        </a:lnTo>
                        <a:lnTo>
                          <a:pt x="419" y="647"/>
                        </a:lnTo>
                        <a:lnTo>
                          <a:pt x="426" y="630"/>
                        </a:lnTo>
                        <a:lnTo>
                          <a:pt x="433" y="612"/>
                        </a:lnTo>
                        <a:lnTo>
                          <a:pt x="439" y="599"/>
                        </a:lnTo>
                        <a:lnTo>
                          <a:pt x="457" y="612"/>
                        </a:lnTo>
                        <a:lnTo>
                          <a:pt x="473" y="625"/>
                        </a:lnTo>
                        <a:lnTo>
                          <a:pt x="487" y="639"/>
                        </a:lnTo>
                        <a:lnTo>
                          <a:pt x="498" y="651"/>
                        </a:lnTo>
                        <a:lnTo>
                          <a:pt x="506" y="664"/>
                        </a:lnTo>
                        <a:lnTo>
                          <a:pt x="513" y="673"/>
                        </a:lnTo>
                        <a:lnTo>
                          <a:pt x="516" y="680"/>
                        </a:lnTo>
                        <a:lnTo>
                          <a:pt x="517" y="682"/>
                        </a:lnTo>
                        <a:lnTo>
                          <a:pt x="532" y="679"/>
                        </a:lnTo>
                        <a:lnTo>
                          <a:pt x="529" y="603"/>
                        </a:lnTo>
                        <a:lnTo>
                          <a:pt x="526" y="587"/>
                        </a:lnTo>
                        <a:lnTo>
                          <a:pt x="522" y="571"/>
                        </a:lnTo>
                        <a:lnTo>
                          <a:pt x="516" y="557"/>
                        </a:lnTo>
                        <a:lnTo>
                          <a:pt x="508" y="543"/>
                        </a:lnTo>
                        <a:lnTo>
                          <a:pt x="499" y="530"/>
                        </a:lnTo>
                        <a:lnTo>
                          <a:pt x="487" y="517"/>
                        </a:lnTo>
                        <a:lnTo>
                          <a:pt x="475" y="507"/>
                        </a:lnTo>
                        <a:lnTo>
                          <a:pt x="462" y="498"/>
                        </a:lnTo>
                        <a:lnTo>
                          <a:pt x="447" y="490"/>
                        </a:lnTo>
                        <a:lnTo>
                          <a:pt x="432" y="482"/>
                        </a:lnTo>
                        <a:lnTo>
                          <a:pt x="416" y="476"/>
                        </a:lnTo>
                        <a:lnTo>
                          <a:pt x="399" y="471"/>
                        </a:lnTo>
                        <a:lnTo>
                          <a:pt x="381" y="468"/>
                        </a:lnTo>
                        <a:lnTo>
                          <a:pt x="363" y="466"/>
                        </a:lnTo>
                        <a:lnTo>
                          <a:pt x="346" y="464"/>
                        </a:lnTo>
                        <a:lnTo>
                          <a:pt x="327" y="464"/>
                        </a:lnTo>
                        <a:lnTo>
                          <a:pt x="291" y="470"/>
                        </a:lnTo>
                        <a:lnTo>
                          <a:pt x="259" y="479"/>
                        </a:lnTo>
                        <a:lnTo>
                          <a:pt x="230" y="492"/>
                        </a:lnTo>
                        <a:lnTo>
                          <a:pt x="206" y="506"/>
                        </a:lnTo>
                        <a:lnTo>
                          <a:pt x="187" y="520"/>
                        </a:lnTo>
                        <a:lnTo>
                          <a:pt x="172" y="532"/>
                        </a:lnTo>
                        <a:lnTo>
                          <a:pt x="161" y="541"/>
                        </a:lnTo>
                        <a:lnTo>
                          <a:pt x="158" y="545"/>
                        </a:lnTo>
                        <a:lnTo>
                          <a:pt x="156" y="550"/>
                        </a:lnTo>
                        <a:lnTo>
                          <a:pt x="160" y="554"/>
                        </a:lnTo>
                        <a:lnTo>
                          <a:pt x="162" y="558"/>
                        </a:lnTo>
                        <a:lnTo>
                          <a:pt x="167" y="568"/>
                        </a:lnTo>
                        <a:lnTo>
                          <a:pt x="169" y="589"/>
                        </a:lnTo>
                        <a:lnTo>
                          <a:pt x="167" y="620"/>
                        </a:lnTo>
                        <a:lnTo>
                          <a:pt x="164" y="637"/>
                        </a:lnTo>
                        <a:lnTo>
                          <a:pt x="159" y="652"/>
                        </a:lnTo>
                        <a:lnTo>
                          <a:pt x="153" y="663"/>
                        </a:lnTo>
                        <a:lnTo>
                          <a:pt x="144" y="671"/>
                        </a:lnTo>
                        <a:lnTo>
                          <a:pt x="132" y="677"/>
                        </a:lnTo>
                        <a:lnTo>
                          <a:pt x="115" y="681"/>
                        </a:lnTo>
                        <a:lnTo>
                          <a:pt x="94" y="682"/>
                        </a:lnTo>
                        <a:lnTo>
                          <a:pt x="67" y="683"/>
                        </a:lnTo>
                        <a:lnTo>
                          <a:pt x="61" y="683"/>
                        </a:lnTo>
                        <a:lnTo>
                          <a:pt x="56" y="682"/>
                        </a:lnTo>
                        <a:lnTo>
                          <a:pt x="52" y="680"/>
                        </a:lnTo>
                        <a:lnTo>
                          <a:pt x="47" y="678"/>
                        </a:lnTo>
                        <a:lnTo>
                          <a:pt x="43" y="675"/>
                        </a:lnTo>
                        <a:lnTo>
                          <a:pt x="38" y="672"/>
                        </a:lnTo>
                        <a:lnTo>
                          <a:pt x="35" y="667"/>
                        </a:lnTo>
                        <a:lnTo>
                          <a:pt x="31" y="663"/>
                        </a:lnTo>
                        <a:lnTo>
                          <a:pt x="24" y="650"/>
                        </a:lnTo>
                        <a:lnTo>
                          <a:pt x="21" y="636"/>
                        </a:lnTo>
                        <a:lnTo>
                          <a:pt x="17" y="621"/>
                        </a:lnTo>
                        <a:lnTo>
                          <a:pt x="16" y="606"/>
                        </a:lnTo>
                        <a:lnTo>
                          <a:pt x="16" y="605"/>
                        </a:lnTo>
                        <a:lnTo>
                          <a:pt x="16" y="604"/>
                        </a:lnTo>
                        <a:lnTo>
                          <a:pt x="16" y="604"/>
                        </a:lnTo>
                        <a:lnTo>
                          <a:pt x="16" y="603"/>
                        </a:lnTo>
                        <a:lnTo>
                          <a:pt x="17" y="590"/>
                        </a:lnTo>
                        <a:lnTo>
                          <a:pt x="18" y="579"/>
                        </a:lnTo>
                        <a:lnTo>
                          <a:pt x="21" y="569"/>
                        </a:lnTo>
                        <a:lnTo>
                          <a:pt x="23" y="561"/>
                        </a:lnTo>
                        <a:lnTo>
                          <a:pt x="29" y="551"/>
                        </a:lnTo>
                        <a:lnTo>
                          <a:pt x="35" y="542"/>
                        </a:lnTo>
                        <a:lnTo>
                          <a:pt x="41" y="535"/>
                        </a:lnTo>
                        <a:lnTo>
                          <a:pt x="48" y="530"/>
                        </a:lnTo>
                        <a:lnTo>
                          <a:pt x="54" y="526"/>
                        </a:lnTo>
                        <a:lnTo>
                          <a:pt x="59" y="523"/>
                        </a:lnTo>
                        <a:lnTo>
                          <a:pt x="62" y="522"/>
                        </a:lnTo>
                        <a:lnTo>
                          <a:pt x="63" y="521"/>
                        </a:lnTo>
                        <a:lnTo>
                          <a:pt x="68" y="520"/>
                        </a:lnTo>
                        <a:lnTo>
                          <a:pt x="68" y="514"/>
                        </a:lnTo>
                        <a:lnTo>
                          <a:pt x="68" y="491"/>
                        </a:lnTo>
                        <a:lnTo>
                          <a:pt x="70" y="439"/>
                        </a:lnTo>
                        <a:lnTo>
                          <a:pt x="71" y="387"/>
                        </a:lnTo>
                        <a:lnTo>
                          <a:pt x="71" y="361"/>
                        </a:lnTo>
                        <a:lnTo>
                          <a:pt x="81" y="350"/>
                        </a:lnTo>
                        <a:lnTo>
                          <a:pt x="94" y="341"/>
                        </a:lnTo>
                        <a:lnTo>
                          <a:pt x="112" y="333"/>
                        </a:lnTo>
                        <a:lnTo>
                          <a:pt x="134" y="326"/>
                        </a:lnTo>
                        <a:lnTo>
                          <a:pt x="158" y="322"/>
                        </a:lnTo>
                        <a:lnTo>
                          <a:pt x="184" y="317"/>
                        </a:lnTo>
                        <a:lnTo>
                          <a:pt x="213" y="313"/>
                        </a:lnTo>
                        <a:lnTo>
                          <a:pt x="243" y="310"/>
                        </a:lnTo>
                        <a:lnTo>
                          <a:pt x="274" y="308"/>
                        </a:lnTo>
                        <a:lnTo>
                          <a:pt x="304" y="307"/>
                        </a:lnTo>
                        <a:lnTo>
                          <a:pt x="335" y="305"/>
                        </a:lnTo>
                        <a:lnTo>
                          <a:pt x="364" y="305"/>
                        </a:lnTo>
                        <a:lnTo>
                          <a:pt x="393" y="305"/>
                        </a:lnTo>
                        <a:lnTo>
                          <a:pt x="418" y="305"/>
                        </a:lnTo>
                        <a:lnTo>
                          <a:pt x="442" y="305"/>
                        </a:lnTo>
                        <a:lnTo>
                          <a:pt x="462" y="305"/>
                        </a:lnTo>
                        <a:lnTo>
                          <a:pt x="492" y="305"/>
                        </a:lnTo>
                        <a:lnTo>
                          <a:pt x="511" y="305"/>
                        </a:lnTo>
                        <a:lnTo>
                          <a:pt x="531" y="304"/>
                        </a:lnTo>
                        <a:lnTo>
                          <a:pt x="548" y="304"/>
                        </a:lnTo>
                        <a:lnTo>
                          <a:pt x="564" y="303"/>
                        </a:lnTo>
                        <a:lnTo>
                          <a:pt x="579" y="302"/>
                        </a:lnTo>
                        <a:lnTo>
                          <a:pt x="593" y="300"/>
                        </a:lnTo>
                        <a:lnTo>
                          <a:pt x="604" y="298"/>
                        </a:lnTo>
                        <a:lnTo>
                          <a:pt x="613" y="297"/>
                        </a:lnTo>
                        <a:lnTo>
                          <a:pt x="612" y="300"/>
                        </a:lnTo>
                        <a:lnTo>
                          <a:pt x="612" y="302"/>
                        </a:lnTo>
                        <a:lnTo>
                          <a:pt x="610" y="304"/>
                        </a:lnTo>
                        <a:lnTo>
                          <a:pt x="610" y="307"/>
                        </a:lnTo>
                        <a:lnTo>
                          <a:pt x="613" y="324"/>
                        </a:lnTo>
                        <a:lnTo>
                          <a:pt x="617" y="338"/>
                        </a:lnTo>
                        <a:lnTo>
                          <a:pt x="623" y="348"/>
                        </a:lnTo>
                        <a:lnTo>
                          <a:pt x="625" y="353"/>
                        </a:lnTo>
                        <a:lnTo>
                          <a:pt x="629" y="358"/>
                        </a:lnTo>
                        <a:lnTo>
                          <a:pt x="635" y="356"/>
                        </a:lnTo>
                        <a:lnTo>
                          <a:pt x="637" y="355"/>
                        </a:lnTo>
                        <a:lnTo>
                          <a:pt x="642" y="354"/>
                        </a:lnTo>
                        <a:lnTo>
                          <a:pt x="650" y="350"/>
                        </a:lnTo>
                        <a:lnTo>
                          <a:pt x="660" y="348"/>
                        </a:lnTo>
                        <a:lnTo>
                          <a:pt x="670" y="345"/>
                        </a:lnTo>
                        <a:lnTo>
                          <a:pt x="682" y="341"/>
                        </a:lnTo>
                        <a:lnTo>
                          <a:pt x="692" y="339"/>
                        </a:lnTo>
                        <a:lnTo>
                          <a:pt x="703" y="338"/>
                        </a:lnTo>
                        <a:lnTo>
                          <a:pt x="707" y="337"/>
                        </a:lnTo>
                        <a:lnTo>
                          <a:pt x="712" y="334"/>
                        </a:lnTo>
                        <a:lnTo>
                          <a:pt x="716" y="331"/>
                        </a:lnTo>
                        <a:lnTo>
                          <a:pt x="720" y="326"/>
                        </a:lnTo>
                        <a:lnTo>
                          <a:pt x="727" y="315"/>
                        </a:lnTo>
                        <a:lnTo>
                          <a:pt x="730" y="298"/>
                        </a:lnTo>
                        <a:lnTo>
                          <a:pt x="733" y="281"/>
                        </a:lnTo>
                        <a:lnTo>
                          <a:pt x="734" y="264"/>
                        </a:lnTo>
                        <a:lnTo>
                          <a:pt x="734" y="247"/>
                        </a:lnTo>
                        <a:lnTo>
                          <a:pt x="731" y="229"/>
                        </a:lnTo>
                        <a:lnTo>
                          <a:pt x="730" y="217"/>
                        </a:lnTo>
                        <a:lnTo>
                          <a:pt x="729" y="206"/>
                        </a:lnTo>
                        <a:lnTo>
                          <a:pt x="736" y="202"/>
                        </a:lnTo>
                        <a:lnTo>
                          <a:pt x="748" y="191"/>
                        </a:lnTo>
                        <a:lnTo>
                          <a:pt x="764" y="177"/>
                        </a:lnTo>
                        <a:lnTo>
                          <a:pt x="782" y="161"/>
                        </a:lnTo>
                        <a:lnTo>
                          <a:pt x="801" y="146"/>
                        </a:lnTo>
                        <a:lnTo>
                          <a:pt x="816" y="134"/>
                        </a:lnTo>
                        <a:lnTo>
                          <a:pt x="826" y="124"/>
                        </a:lnTo>
                        <a:lnTo>
                          <a:pt x="831" y="121"/>
                        </a:lnTo>
                        <a:lnTo>
                          <a:pt x="847" y="111"/>
                        </a:lnTo>
                        <a:lnTo>
                          <a:pt x="867" y="104"/>
                        </a:lnTo>
                        <a:lnTo>
                          <a:pt x="890" y="98"/>
                        </a:lnTo>
                        <a:lnTo>
                          <a:pt x="916" y="94"/>
                        </a:lnTo>
                        <a:lnTo>
                          <a:pt x="941" y="92"/>
                        </a:lnTo>
                        <a:lnTo>
                          <a:pt x="968" y="91"/>
                        </a:lnTo>
                        <a:lnTo>
                          <a:pt x="992" y="91"/>
                        </a:lnTo>
                        <a:lnTo>
                          <a:pt x="1014" y="91"/>
                        </a:lnTo>
                        <a:lnTo>
                          <a:pt x="1055" y="91"/>
                        </a:lnTo>
                        <a:lnTo>
                          <a:pt x="1065" y="91"/>
                        </a:lnTo>
                        <a:lnTo>
                          <a:pt x="1075" y="93"/>
                        </a:lnTo>
                        <a:lnTo>
                          <a:pt x="1080" y="98"/>
                        </a:lnTo>
                        <a:lnTo>
                          <a:pt x="1085" y="103"/>
                        </a:lnTo>
                        <a:lnTo>
                          <a:pt x="1089" y="108"/>
                        </a:lnTo>
                        <a:lnTo>
                          <a:pt x="1090" y="113"/>
                        </a:lnTo>
                        <a:lnTo>
                          <a:pt x="1091" y="116"/>
                        </a:lnTo>
                        <a:lnTo>
                          <a:pt x="1091" y="119"/>
                        </a:lnTo>
                        <a:lnTo>
                          <a:pt x="1091" y="145"/>
                        </a:lnTo>
                        <a:lnTo>
                          <a:pt x="1090" y="205"/>
                        </a:lnTo>
                        <a:lnTo>
                          <a:pt x="1087" y="265"/>
                        </a:lnTo>
                        <a:lnTo>
                          <a:pt x="1087" y="292"/>
                        </a:lnTo>
                        <a:lnTo>
                          <a:pt x="1086" y="300"/>
                        </a:lnTo>
                        <a:lnTo>
                          <a:pt x="1085" y="307"/>
                        </a:lnTo>
                        <a:lnTo>
                          <a:pt x="1082" y="313"/>
                        </a:lnTo>
                        <a:lnTo>
                          <a:pt x="1078" y="318"/>
                        </a:lnTo>
                        <a:lnTo>
                          <a:pt x="1070" y="323"/>
                        </a:lnTo>
                        <a:lnTo>
                          <a:pt x="1062" y="325"/>
                        </a:lnTo>
                        <a:lnTo>
                          <a:pt x="1055" y="325"/>
                        </a:lnTo>
                        <a:lnTo>
                          <a:pt x="1052" y="325"/>
                        </a:lnTo>
                        <a:lnTo>
                          <a:pt x="784" y="325"/>
                        </a:lnTo>
                        <a:lnTo>
                          <a:pt x="784" y="340"/>
                        </a:lnTo>
                        <a:lnTo>
                          <a:pt x="1051" y="340"/>
                        </a:lnTo>
                        <a:lnTo>
                          <a:pt x="1052" y="340"/>
                        </a:lnTo>
                        <a:lnTo>
                          <a:pt x="1054" y="341"/>
                        </a:lnTo>
                        <a:lnTo>
                          <a:pt x="1059" y="341"/>
                        </a:lnTo>
                        <a:lnTo>
                          <a:pt x="1063" y="340"/>
                        </a:lnTo>
                        <a:lnTo>
                          <a:pt x="1069" y="339"/>
                        </a:lnTo>
                        <a:lnTo>
                          <a:pt x="1076" y="338"/>
                        </a:lnTo>
                        <a:lnTo>
                          <a:pt x="1083" y="334"/>
                        </a:lnTo>
                        <a:lnTo>
                          <a:pt x="1089" y="330"/>
                        </a:lnTo>
                        <a:lnTo>
                          <a:pt x="1095" y="323"/>
                        </a:lnTo>
                        <a:lnTo>
                          <a:pt x="1100" y="313"/>
                        </a:lnTo>
                        <a:lnTo>
                          <a:pt x="1102" y="303"/>
                        </a:lnTo>
                        <a:lnTo>
                          <a:pt x="1104" y="292"/>
                        </a:lnTo>
                        <a:lnTo>
                          <a:pt x="1107" y="118"/>
                        </a:lnTo>
                        <a:lnTo>
                          <a:pt x="1106" y="111"/>
                        </a:lnTo>
                        <a:lnTo>
                          <a:pt x="1104" y="104"/>
                        </a:lnTo>
                        <a:lnTo>
                          <a:pt x="1100" y="96"/>
                        </a:lnTo>
                        <a:lnTo>
                          <a:pt x="1094" y="89"/>
                        </a:lnTo>
                        <a:lnTo>
                          <a:pt x="1087" y="83"/>
                        </a:lnTo>
                        <a:lnTo>
                          <a:pt x="1078" y="78"/>
                        </a:lnTo>
                        <a:lnTo>
                          <a:pt x="1067" y="75"/>
                        </a:lnTo>
                        <a:lnTo>
                          <a:pt x="1054" y="75"/>
                        </a:lnTo>
                        <a:lnTo>
                          <a:pt x="1014" y="75"/>
                        </a:lnTo>
                        <a:lnTo>
                          <a:pt x="1002" y="75"/>
                        </a:lnTo>
                        <a:lnTo>
                          <a:pt x="989" y="75"/>
                        </a:lnTo>
                        <a:lnTo>
                          <a:pt x="977" y="75"/>
                        </a:lnTo>
                        <a:lnTo>
                          <a:pt x="964" y="75"/>
                        </a:lnTo>
                        <a:lnTo>
                          <a:pt x="950" y="76"/>
                        </a:lnTo>
                        <a:lnTo>
                          <a:pt x="936" y="76"/>
                        </a:lnTo>
                        <a:lnTo>
                          <a:pt x="924" y="77"/>
                        </a:lnTo>
                        <a:lnTo>
                          <a:pt x="910" y="78"/>
                        </a:lnTo>
                        <a:lnTo>
                          <a:pt x="896" y="81"/>
                        </a:lnTo>
                        <a:lnTo>
                          <a:pt x="883" y="83"/>
                        </a:lnTo>
                        <a:lnTo>
                          <a:pt x="871" y="85"/>
                        </a:lnTo>
                        <a:lnTo>
                          <a:pt x="859" y="89"/>
                        </a:lnTo>
                        <a:lnTo>
                          <a:pt x="848" y="92"/>
                        </a:lnTo>
                        <a:lnTo>
                          <a:pt x="837" y="97"/>
                        </a:lnTo>
                        <a:lnTo>
                          <a:pt x="828" y="103"/>
                        </a:lnTo>
                        <a:lnTo>
                          <a:pt x="820" y="108"/>
                        </a:lnTo>
                        <a:lnTo>
                          <a:pt x="816" y="112"/>
                        </a:lnTo>
                        <a:lnTo>
                          <a:pt x="803" y="122"/>
                        </a:lnTo>
                        <a:lnTo>
                          <a:pt x="786" y="137"/>
                        </a:lnTo>
                        <a:lnTo>
                          <a:pt x="766" y="154"/>
                        </a:lnTo>
                        <a:lnTo>
                          <a:pt x="746" y="172"/>
                        </a:lnTo>
                        <a:lnTo>
                          <a:pt x="729" y="186"/>
                        </a:lnTo>
                        <a:lnTo>
                          <a:pt x="716" y="197"/>
                        </a:lnTo>
                        <a:lnTo>
                          <a:pt x="712" y="201"/>
                        </a:lnTo>
                        <a:lnTo>
                          <a:pt x="713" y="205"/>
                        </a:lnTo>
                        <a:lnTo>
                          <a:pt x="714" y="217"/>
                        </a:lnTo>
                        <a:lnTo>
                          <a:pt x="716" y="232"/>
                        </a:lnTo>
                        <a:lnTo>
                          <a:pt x="718" y="248"/>
                        </a:lnTo>
                        <a:lnTo>
                          <a:pt x="718" y="265"/>
                        </a:lnTo>
                        <a:lnTo>
                          <a:pt x="718" y="280"/>
                        </a:lnTo>
                        <a:lnTo>
                          <a:pt x="715" y="295"/>
                        </a:lnTo>
                        <a:lnTo>
                          <a:pt x="712" y="308"/>
                        </a:lnTo>
                        <a:lnTo>
                          <a:pt x="707" y="317"/>
                        </a:lnTo>
                        <a:lnTo>
                          <a:pt x="706" y="319"/>
                        </a:lnTo>
                        <a:lnTo>
                          <a:pt x="704" y="320"/>
                        </a:lnTo>
                        <a:lnTo>
                          <a:pt x="703" y="322"/>
                        </a:lnTo>
                        <a:lnTo>
                          <a:pt x="700" y="322"/>
                        </a:lnTo>
                        <a:lnTo>
                          <a:pt x="692" y="323"/>
                        </a:lnTo>
                        <a:lnTo>
                          <a:pt x="684" y="325"/>
                        </a:lnTo>
                        <a:lnTo>
                          <a:pt x="675" y="327"/>
                        </a:lnTo>
                        <a:lnTo>
                          <a:pt x="666" y="330"/>
                        </a:lnTo>
                        <a:lnTo>
                          <a:pt x="657" y="332"/>
                        </a:lnTo>
                        <a:lnTo>
                          <a:pt x="649" y="334"/>
                        </a:lnTo>
                        <a:lnTo>
                          <a:pt x="642" y="337"/>
                        </a:lnTo>
                        <a:lnTo>
                          <a:pt x="636" y="339"/>
                        </a:lnTo>
                        <a:lnTo>
                          <a:pt x="632" y="333"/>
                        </a:lnTo>
                        <a:lnTo>
                          <a:pt x="630" y="325"/>
                        </a:lnTo>
                        <a:lnTo>
                          <a:pt x="628" y="316"/>
                        </a:lnTo>
                        <a:lnTo>
                          <a:pt x="627" y="307"/>
                        </a:lnTo>
                        <a:lnTo>
                          <a:pt x="627" y="302"/>
                        </a:lnTo>
                        <a:lnTo>
                          <a:pt x="628" y="298"/>
                        </a:lnTo>
                        <a:lnTo>
                          <a:pt x="629" y="295"/>
                        </a:lnTo>
                        <a:lnTo>
                          <a:pt x="630" y="292"/>
                        </a:lnTo>
                        <a:lnTo>
                          <a:pt x="637" y="279"/>
                        </a:lnTo>
                        <a:lnTo>
                          <a:pt x="621" y="280"/>
                        </a:lnTo>
                        <a:lnTo>
                          <a:pt x="619" y="280"/>
                        </a:lnTo>
                        <a:lnTo>
                          <a:pt x="610" y="281"/>
                        </a:lnTo>
                        <a:lnTo>
                          <a:pt x="599" y="284"/>
                        </a:lnTo>
                        <a:lnTo>
                          <a:pt x="583" y="285"/>
                        </a:lnTo>
                        <a:lnTo>
                          <a:pt x="564" y="286"/>
                        </a:lnTo>
                        <a:lnTo>
                          <a:pt x="543" y="288"/>
                        </a:lnTo>
                        <a:lnTo>
                          <a:pt x="518" y="289"/>
                        </a:lnTo>
                        <a:lnTo>
                          <a:pt x="492" y="289"/>
                        </a:lnTo>
                        <a:lnTo>
                          <a:pt x="463" y="289"/>
                        </a:lnTo>
                        <a:lnTo>
                          <a:pt x="428" y="289"/>
                        </a:lnTo>
                        <a:lnTo>
                          <a:pt x="394" y="289"/>
                        </a:lnTo>
                        <a:lnTo>
                          <a:pt x="361" y="289"/>
                        </a:lnTo>
                        <a:lnTo>
                          <a:pt x="327" y="289"/>
                        </a:lnTo>
                        <a:lnTo>
                          <a:pt x="294" y="290"/>
                        </a:lnTo>
                        <a:lnTo>
                          <a:pt x="263" y="293"/>
                        </a:lnTo>
                        <a:lnTo>
                          <a:pt x="232" y="295"/>
                        </a:lnTo>
                        <a:lnTo>
                          <a:pt x="203" y="297"/>
                        </a:lnTo>
                        <a:lnTo>
                          <a:pt x="176" y="302"/>
                        </a:lnTo>
                        <a:lnTo>
                          <a:pt x="151" y="305"/>
                        </a:lnTo>
                        <a:lnTo>
                          <a:pt x="128" y="311"/>
                        </a:lnTo>
                        <a:lnTo>
                          <a:pt x="108" y="318"/>
                        </a:lnTo>
                        <a:lnTo>
                          <a:pt x="90" y="325"/>
                        </a:lnTo>
                        <a:lnTo>
                          <a:pt x="76" y="333"/>
                        </a:lnTo>
                        <a:lnTo>
                          <a:pt x="65" y="343"/>
                        </a:lnTo>
                        <a:lnTo>
                          <a:pt x="56" y="354"/>
                        </a:lnTo>
                        <a:lnTo>
                          <a:pt x="55" y="356"/>
                        </a:lnTo>
                        <a:lnTo>
                          <a:pt x="55" y="378"/>
                        </a:lnTo>
                        <a:lnTo>
                          <a:pt x="54" y="429"/>
                        </a:lnTo>
                        <a:lnTo>
                          <a:pt x="53" y="481"/>
                        </a:lnTo>
                        <a:lnTo>
                          <a:pt x="53" y="508"/>
                        </a:lnTo>
                        <a:lnTo>
                          <a:pt x="48" y="511"/>
                        </a:lnTo>
                        <a:lnTo>
                          <a:pt x="44" y="513"/>
                        </a:lnTo>
                        <a:lnTo>
                          <a:pt x="38" y="517"/>
                        </a:lnTo>
                        <a:lnTo>
                          <a:pt x="32" y="522"/>
                        </a:lnTo>
                        <a:lnTo>
                          <a:pt x="25" y="528"/>
                        </a:lnTo>
                        <a:lnTo>
                          <a:pt x="20" y="536"/>
                        </a:lnTo>
                        <a:lnTo>
                          <a:pt x="14" y="544"/>
                        </a:lnTo>
                        <a:lnTo>
                          <a:pt x="9" y="554"/>
                        </a:lnTo>
                        <a:lnTo>
                          <a:pt x="6" y="564"/>
                        </a:lnTo>
                        <a:lnTo>
                          <a:pt x="2" y="575"/>
                        </a:lnTo>
                        <a:lnTo>
                          <a:pt x="1" y="589"/>
                        </a:lnTo>
                        <a:lnTo>
                          <a:pt x="0" y="603"/>
                        </a:lnTo>
                        <a:lnTo>
                          <a:pt x="1" y="621"/>
                        </a:lnTo>
                        <a:lnTo>
                          <a:pt x="5" y="639"/>
                        </a:lnTo>
                        <a:lnTo>
                          <a:pt x="9" y="656"/>
                        </a:lnTo>
                        <a:lnTo>
                          <a:pt x="17" y="672"/>
                        </a:lnTo>
                        <a:lnTo>
                          <a:pt x="22" y="679"/>
                        </a:lnTo>
                        <a:lnTo>
                          <a:pt x="28" y="683"/>
                        </a:lnTo>
                        <a:lnTo>
                          <a:pt x="33" y="689"/>
                        </a:lnTo>
                        <a:lnTo>
                          <a:pt x="39" y="693"/>
                        </a:lnTo>
                        <a:lnTo>
                          <a:pt x="45" y="696"/>
                        </a:lnTo>
                        <a:lnTo>
                          <a:pt x="52" y="697"/>
                        </a:lnTo>
                        <a:lnTo>
                          <a:pt x="59" y="700"/>
                        </a:lnTo>
                        <a:lnTo>
                          <a:pt x="67" y="700"/>
                        </a:lnTo>
                        <a:lnTo>
                          <a:pt x="96" y="698"/>
                        </a:lnTo>
                        <a:lnTo>
                          <a:pt x="120" y="696"/>
                        </a:lnTo>
                        <a:lnTo>
                          <a:pt x="138" y="692"/>
                        </a:lnTo>
                        <a:lnTo>
                          <a:pt x="153" y="685"/>
                        </a:lnTo>
                        <a:lnTo>
                          <a:pt x="164" y="674"/>
                        </a:lnTo>
                        <a:lnTo>
                          <a:pt x="172" y="662"/>
                        </a:lnTo>
                        <a:lnTo>
                          <a:pt x="179" y="644"/>
                        </a:lnTo>
                        <a:lnTo>
                          <a:pt x="183" y="622"/>
                        </a:lnTo>
                        <a:lnTo>
                          <a:pt x="184" y="614"/>
                        </a:lnTo>
                        <a:lnTo>
                          <a:pt x="184" y="606"/>
                        </a:lnTo>
                        <a:lnTo>
                          <a:pt x="185" y="599"/>
                        </a:lnTo>
                        <a:lnTo>
                          <a:pt x="185" y="592"/>
                        </a:lnTo>
                        <a:lnTo>
                          <a:pt x="184" y="575"/>
                        </a:lnTo>
                        <a:lnTo>
                          <a:pt x="182" y="562"/>
                        </a:lnTo>
                        <a:lnTo>
                          <a:pt x="179" y="554"/>
                        </a:lnTo>
                        <a:lnTo>
                          <a:pt x="175" y="547"/>
                        </a:lnTo>
                        <a:lnTo>
                          <a:pt x="181" y="541"/>
                        </a:lnTo>
                        <a:lnTo>
                          <a:pt x="192" y="531"/>
                        </a:lnTo>
                        <a:lnTo>
                          <a:pt x="207" y="521"/>
                        </a:lnTo>
                        <a:lnTo>
                          <a:pt x="226" y="511"/>
                        </a:lnTo>
                        <a:lnTo>
                          <a:pt x="249" y="500"/>
                        </a:lnTo>
                        <a:lnTo>
                          <a:pt x="273" y="491"/>
                        </a:lnTo>
                        <a:lnTo>
                          <a:pt x="299" y="484"/>
                        </a:lnTo>
                        <a:lnTo>
                          <a:pt x="328" y="481"/>
                        </a:lnTo>
                        <a:lnTo>
                          <a:pt x="344" y="481"/>
                        </a:lnTo>
                        <a:lnTo>
                          <a:pt x="361" y="481"/>
                        </a:lnTo>
                        <a:lnTo>
                          <a:pt x="378" y="483"/>
                        </a:lnTo>
                        <a:lnTo>
                          <a:pt x="393" y="486"/>
                        </a:lnTo>
                        <a:lnTo>
                          <a:pt x="409" y="491"/>
                        </a:lnTo>
                        <a:lnTo>
                          <a:pt x="424" y="496"/>
                        </a:lnTo>
                        <a:lnTo>
                          <a:pt x="438" y="503"/>
                        </a:lnTo>
                        <a:lnTo>
                          <a:pt x="452" y="511"/>
                        </a:lnTo>
                        <a:lnTo>
                          <a:pt x="463" y="519"/>
                        </a:lnTo>
                        <a:lnTo>
                          <a:pt x="475" y="528"/>
                        </a:lnTo>
                        <a:lnTo>
                          <a:pt x="485" y="538"/>
                        </a:lnTo>
                        <a:lnTo>
                          <a:pt x="494" y="550"/>
                        </a:lnTo>
                        <a:lnTo>
                          <a:pt x="501" y="562"/>
                        </a:lnTo>
                        <a:lnTo>
                          <a:pt x="507" y="575"/>
                        </a:lnTo>
                        <a:lnTo>
                          <a:pt x="510" y="589"/>
                        </a:lnTo>
                        <a:lnTo>
                          <a:pt x="513" y="603"/>
                        </a:lnTo>
                        <a:lnTo>
                          <a:pt x="513" y="607"/>
                        </a:lnTo>
                        <a:lnTo>
                          <a:pt x="514" y="618"/>
                        </a:lnTo>
                        <a:lnTo>
                          <a:pt x="514" y="632"/>
                        </a:lnTo>
                        <a:lnTo>
                          <a:pt x="515" y="648"/>
                        </a:lnTo>
                        <a:lnTo>
                          <a:pt x="509" y="640"/>
                        </a:lnTo>
                        <a:lnTo>
                          <a:pt x="502" y="632"/>
                        </a:lnTo>
                        <a:lnTo>
                          <a:pt x="494" y="622"/>
                        </a:lnTo>
                        <a:lnTo>
                          <a:pt x="485" y="613"/>
                        </a:lnTo>
                        <a:lnTo>
                          <a:pt x="476" y="605"/>
                        </a:lnTo>
                        <a:lnTo>
                          <a:pt x="464" y="596"/>
                        </a:lnTo>
                        <a:lnTo>
                          <a:pt x="452" y="588"/>
                        </a:lnTo>
                        <a:lnTo>
                          <a:pt x="439" y="581"/>
                        </a:lnTo>
                        <a:lnTo>
                          <a:pt x="432" y="577"/>
                        </a:lnTo>
                        <a:lnTo>
                          <a:pt x="394" y="665"/>
                        </a:lnTo>
                        <a:lnTo>
                          <a:pt x="401" y="668"/>
                        </a:lnTo>
                        <a:lnTo>
                          <a:pt x="412" y="675"/>
                        </a:lnTo>
                        <a:lnTo>
                          <a:pt x="424" y="683"/>
                        </a:lnTo>
                        <a:lnTo>
                          <a:pt x="433" y="694"/>
                        </a:lnTo>
                        <a:lnTo>
                          <a:pt x="441" y="705"/>
                        </a:lnTo>
                        <a:lnTo>
                          <a:pt x="447" y="718"/>
                        </a:lnTo>
                        <a:lnTo>
                          <a:pt x="453" y="731"/>
                        </a:lnTo>
                        <a:lnTo>
                          <a:pt x="455" y="745"/>
                        </a:lnTo>
                        <a:lnTo>
                          <a:pt x="456" y="758"/>
                        </a:lnTo>
                        <a:lnTo>
                          <a:pt x="454" y="779"/>
                        </a:lnTo>
                        <a:lnTo>
                          <a:pt x="448" y="798"/>
                        </a:lnTo>
                        <a:lnTo>
                          <a:pt x="440" y="815"/>
                        </a:lnTo>
                        <a:lnTo>
                          <a:pt x="427" y="829"/>
                        </a:lnTo>
                        <a:lnTo>
                          <a:pt x="414" y="841"/>
                        </a:lnTo>
                        <a:lnTo>
                          <a:pt x="397" y="851"/>
                        </a:lnTo>
                        <a:lnTo>
                          <a:pt x="379" y="856"/>
                        </a:lnTo>
                        <a:lnTo>
                          <a:pt x="359" y="859"/>
                        </a:lnTo>
                        <a:lnTo>
                          <a:pt x="340" y="856"/>
                        </a:lnTo>
                        <a:lnTo>
                          <a:pt x="321" y="851"/>
                        </a:lnTo>
                        <a:lnTo>
                          <a:pt x="305" y="841"/>
                        </a:lnTo>
                        <a:lnTo>
                          <a:pt x="290" y="829"/>
                        </a:lnTo>
                        <a:lnTo>
                          <a:pt x="279" y="815"/>
                        </a:lnTo>
                        <a:lnTo>
                          <a:pt x="271" y="798"/>
                        </a:lnTo>
                        <a:lnTo>
                          <a:pt x="265" y="779"/>
                        </a:lnTo>
                        <a:lnTo>
                          <a:pt x="263" y="758"/>
                        </a:lnTo>
                        <a:lnTo>
                          <a:pt x="264" y="740"/>
                        </a:lnTo>
                        <a:lnTo>
                          <a:pt x="268" y="723"/>
                        </a:lnTo>
                        <a:lnTo>
                          <a:pt x="276" y="707"/>
                        </a:lnTo>
                        <a:lnTo>
                          <a:pt x="287" y="692"/>
                        </a:lnTo>
                        <a:lnTo>
                          <a:pt x="290" y="687"/>
                        </a:lnTo>
                        <a:lnTo>
                          <a:pt x="237" y="603"/>
                        </a:lnTo>
                        <a:lnTo>
                          <a:pt x="230" y="609"/>
                        </a:lnTo>
                        <a:lnTo>
                          <a:pt x="221" y="617"/>
                        </a:lnTo>
                        <a:lnTo>
                          <a:pt x="213" y="626"/>
                        </a:lnTo>
                        <a:lnTo>
                          <a:pt x="205" y="635"/>
                        </a:lnTo>
                        <a:lnTo>
                          <a:pt x="198" y="645"/>
                        </a:lnTo>
                        <a:lnTo>
                          <a:pt x="191" y="656"/>
                        </a:lnTo>
                        <a:lnTo>
                          <a:pt x="185" y="667"/>
                        </a:lnTo>
                        <a:lnTo>
                          <a:pt x="181" y="680"/>
                        </a:lnTo>
                        <a:lnTo>
                          <a:pt x="176" y="693"/>
                        </a:lnTo>
                        <a:lnTo>
                          <a:pt x="167" y="740"/>
                        </a:lnTo>
                        <a:lnTo>
                          <a:pt x="168" y="783"/>
                        </a:lnTo>
                        <a:lnTo>
                          <a:pt x="177" y="821"/>
                        </a:lnTo>
                        <a:lnTo>
                          <a:pt x="192" y="854"/>
                        </a:lnTo>
                        <a:lnTo>
                          <a:pt x="213" y="882"/>
                        </a:lnTo>
                        <a:lnTo>
                          <a:pt x="235" y="905"/>
                        </a:lnTo>
                        <a:lnTo>
                          <a:pt x="259" y="922"/>
                        </a:lnTo>
                        <a:lnTo>
                          <a:pt x="282" y="934"/>
                        </a:lnTo>
                        <a:lnTo>
                          <a:pt x="289" y="936"/>
                        </a:lnTo>
                        <a:lnTo>
                          <a:pt x="297" y="938"/>
                        </a:lnTo>
                        <a:lnTo>
                          <a:pt x="305" y="941"/>
                        </a:lnTo>
                        <a:lnTo>
                          <a:pt x="314" y="943"/>
                        </a:lnTo>
                        <a:lnTo>
                          <a:pt x="324" y="944"/>
                        </a:lnTo>
                        <a:lnTo>
                          <a:pt x="334" y="946"/>
                        </a:lnTo>
                        <a:lnTo>
                          <a:pt x="344" y="946"/>
                        </a:lnTo>
                        <a:lnTo>
                          <a:pt x="356" y="947"/>
                        </a:lnTo>
                        <a:lnTo>
                          <a:pt x="367" y="947"/>
                        </a:lnTo>
                        <a:lnTo>
                          <a:pt x="379" y="946"/>
                        </a:lnTo>
                        <a:lnTo>
                          <a:pt x="390" y="945"/>
                        </a:lnTo>
                        <a:lnTo>
                          <a:pt x="403" y="943"/>
                        </a:lnTo>
                        <a:lnTo>
                          <a:pt x="415" y="941"/>
                        </a:lnTo>
                        <a:lnTo>
                          <a:pt x="426" y="937"/>
                        </a:lnTo>
                        <a:lnTo>
                          <a:pt x="438" y="932"/>
                        </a:lnTo>
                        <a:lnTo>
                          <a:pt x="449" y="928"/>
                        </a:lnTo>
                        <a:lnTo>
                          <a:pt x="467" y="919"/>
                        </a:lnTo>
                        <a:lnTo>
                          <a:pt x="483" y="907"/>
                        </a:lnTo>
                        <a:lnTo>
                          <a:pt x="496" y="894"/>
                        </a:lnTo>
                        <a:lnTo>
                          <a:pt x="509" y="879"/>
                        </a:lnTo>
                        <a:lnTo>
                          <a:pt x="519" y="863"/>
                        </a:lnTo>
                        <a:lnTo>
                          <a:pt x="530" y="845"/>
                        </a:lnTo>
                        <a:lnTo>
                          <a:pt x="537" y="825"/>
                        </a:lnTo>
                        <a:lnTo>
                          <a:pt x="544" y="804"/>
                        </a:lnTo>
                        <a:lnTo>
                          <a:pt x="546" y="802"/>
                        </a:lnTo>
                        <a:lnTo>
                          <a:pt x="551" y="799"/>
                        </a:lnTo>
                        <a:lnTo>
                          <a:pt x="556" y="793"/>
                        </a:lnTo>
                        <a:lnTo>
                          <a:pt x="563" y="787"/>
                        </a:lnTo>
                        <a:lnTo>
                          <a:pt x="570" y="780"/>
                        </a:lnTo>
                        <a:lnTo>
                          <a:pt x="577" y="775"/>
                        </a:lnTo>
                        <a:lnTo>
                          <a:pt x="583" y="769"/>
                        </a:lnTo>
                        <a:lnTo>
                          <a:pt x="587" y="765"/>
                        </a:lnTo>
                        <a:lnTo>
                          <a:pt x="591" y="768"/>
                        </a:lnTo>
                        <a:lnTo>
                          <a:pt x="596" y="771"/>
                        </a:lnTo>
                        <a:lnTo>
                          <a:pt x="600" y="773"/>
                        </a:lnTo>
                        <a:lnTo>
                          <a:pt x="607" y="777"/>
                        </a:lnTo>
                        <a:lnTo>
                          <a:pt x="614" y="779"/>
                        </a:lnTo>
                        <a:lnTo>
                          <a:pt x="623" y="780"/>
                        </a:lnTo>
                        <a:lnTo>
                          <a:pt x="634" y="783"/>
                        </a:lnTo>
                        <a:lnTo>
                          <a:pt x="645" y="783"/>
                        </a:lnTo>
                        <a:lnTo>
                          <a:pt x="1112" y="783"/>
                        </a:lnTo>
                        <a:lnTo>
                          <a:pt x="1116" y="781"/>
                        </a:lnTo>
                        <a:lnTo>
                          <a:pt x="1124" y="779"/>
                        </a:lnTo>
                        <a:lnTo>
                          <a:pt x="1137" y="776"/>
                        </a:lnTo>
                        <a:lnTo>
                          <a:pt x="1150" y="770"/>
                        </a:lnTo>
                        <a:lnTo>
                          <a:pt x="1163" y="761"/>
                        </a:lnTo>
                        <a:lnTo>
                          <a:pt x="1174" y="750"/>
                        </a:lnTo>
                        <a:lnTo>
                          <a:pt x="1182" y="735"/>
                        </a:lnTo>
                        <a:lnTo>
                          <a:pt x="1185" y="717"/>
                        </a:lnTo>
                        <a:lnTo>
                          <a:pt x="1185" y="709"/>
                        </a:lnTo>
                        <a:lnTo>
                          <a:pt x="1180" y="709"/>
                        </a:lnTo>
                        <a:lnTo>
                          <a:pt x="1162" y="709"/>
                        </a:lnTo>
                        <a:lnTo>
                          <a:pt x="1137" y="709"/>
                        </a:lnTo>
                        <a:lnTo>
                          <a:pt x="1104" y="709"/>
                        </a:lnTo>
                        <a:lnTo>
                          <a:pt x="1063" y="709"/>
                        </a:lnTo>
                        <a:lnTo>
                          <a:pt x="1018" y="709"/>
                        </a:lnTo>
                        <a:lnTo>
                          <a:pt x="971" y="709"/>
                        </a:lnTo>
                        <a:lnTo>
                          <a:pt x="922" y="709"/>
                        </a:lnTo>
                        <a:lnTo>
                          <a:pt x="872" y="709"/>
                        </a:lnTo>
                        <a:lnTo>
                          <a:pt x="824" y="709"/>
                        </a:lnTo>
                        <a:lnTo>
                          <a:pt x="779" y="709"/>
                        </a:lnTo>
                        <a:lnTo>
                          <a:pt x="737" y="709"/>
                        </a:lnTo>
                        <a:lnTo>
                          <a:pt x="703" y="709"/>
                        </a:lnTo>
                        <a:lnTo>
                          <a:pt x="676" y="709"/>
                        </a:lnTo>
                        <a:lnTo>
                          <a:pt x="658" y="709"/>
                        </a:lnTo>
                        <a:lnTo>
                          <a:pt x="650" y="709"/>
                        </a:lnTo>
                        <a:lnTo>
                          <a:pt x="644" y="695"/>
                        </a:lnTo>
                        <a:lnTo>
                          <a:pt x="638" y="680"/>
                        </a:lnTo>
                        <a:lnTo>
                          <a:pt x="631" y="662"/>
                        </a:lnTo>
                        <a:lnTo>
                          <a:pt x="624" y="643"/>
                        </a:lnTo>
                        <a:lnTo>
                          <a:pt x="619" y="625"/>
                        </a:lnTo>
                        <a:lnTo>
                          <a:pt x="613" y="607"/>
                        </a:lnTo>
                        <a:lnTo>
                          <a:pt x="608" y="591"/>
                        </a:lnTo>
                        <a:lnTo>
                          <a:pt x="606" y="579"/>
                        </a:lnTo>
                        <a:lnTo>
                          <a:pt x="615" y="579"/>
                        </a:lnTo>
                        <a:lnTo>
                          <a:pt x="637" y="579"/>
                        </a:lnTo>
                        <a:lnTo>
                          <a:pt x="668" y="579"/>
                        </a:lnTo>
                        <a:lnTo>
                          <a:pt x="707" y="579"/>
                        </a:lnTo>
                        <a:lnTo>
                          <a:pt x="753" y="579"/>
                        </a:lnTo>
                        <a:lnTo>
                          <a:pt x="804" y="579"/>
                        </a:lnTo>
                        <a:lnTo>
                          <a:pt x="858" y="579"/>
                        </a:lnTo>
                        <a:lnTo>
                          <a:pt x="913" y="579"/>
                        </a:lnTo>
                        <a:lnTo>
                          <a:pt x="969" y="579"/>
                        </a:lnTo>
                        <a:lnTo>
                          <a:pt x="1022" y="579"/>
                        </a:lnTo>
                        <a:lnTo>
                          <a:pt x="1071" y="579"/>
                        </a:lnTo>
                        <a:lnTo>
                          <a:pt x="1116" y="579"/>
                        </a:lnTo>
                        <a:lnTo>
                          <a:pt x="1153" y="579"/>
                        </a:lnTo>
                        <a:lnTo>
                          <a:pt x="1182" y="579"/>
                        </a:lnTo>
                        <a:lnTo>
                          <a:pt x="1200" y="579"/>
                        </a:lnTo>
                        <a:lnTo>
                          <a:pt x="1207" y="579"/>
                        </a:lnTo>
                        <a:lnTo>
                          <a:pt x="1207" y="560"/>
                        </a:lnTo>
                        <a:lnTo>
                          <a:pt x="1207" y="520"/>
                        </a:lnTo>
                        <a:lnTo>
                          <a:pt x="1207" y="477"/>
                        </a:lnTo>
                        <a:lnTo>
                          <a:pt x="1207" y="452"/>
                        </a:lnTo>
                        <a:lnTo>
                          <a:pt x="1213" y="452"/>
                        </a:lnTo>
                        <a:lnTo>
                          <a:pt x="1220" y="452"/>
                        </a:lnTo>
                        <a:lnTo>
                          <a:pt x="1228" y="452"/>
                        </a:lnTo>
                        <a:lnTo>
                          <a:pt x="1236" y="452"/>
                        </a:lnTo>
                        <a:lnTo>
                          <a:pt x="1244" y="452"/>
                        </a:lnTo>
                        <a:lnTo>
                          <a:pt x="1252" y="452"/>
                        </a:lnTo>
                        <a:lnTo>
                          <a:pt x="1259" y="452"/>
                        </a:lnTo>
                        <a:lnTo>
                          <a:pt x="1264" y="452"/>
                        </a:lnTo>
                        <a:lnTo>
                          <a:pt x="1264" y="504"/>
                        </a:lnTo>
                        <a:lnTo>
                          <a:pt x="1264" y="605"/>
                        </a:lnTo>
                        <a:lnTo>
                          <a:pt x="1264" y="703"/>
                        </a:lnTo>
                        <a:lnTo>
                          <a:pt x="1264" y="747"/>
                        </a:lnTo>
                        <a:lnTo>
                          <a:pt x="1267" y="747"/>
                        </a:lnTo>
                        <a:lnTo>
                          <a:pt x="1275" y="747"/>
                        </a:lnTo>
                        <a:lnTo>
                          <a:pt x="1288" y="747"/>
                        </a:lnTo>
                        <a:lnTo>
                          <a:pt x="1305" y="747"/>
                        </a:lnTo>
                        <a:lnTo>
                          <a:pt x="1325" y="747"/>
                        </a:lnTo>
                        <a:lnTo>
                          <a:pt x="1348" y="747"/>
                        </a:lnTo>
                        <a:lnTo>
                          <a:pt x="1372" y="747"/>
                        </a:lnTo>
                        <a:lnTo>
                          <a:pt x="1397" y="747"/>
                        </a:lnTo>
                        <a:lnTo>
                          <a:pt x="1423" y="747"/>
                        </a:lnTo>
                        <a:lnTo>
                          <a:pt x="1447" y="747"/>
                        </a:lnTo>
                        <a:lnTo>
                          <a:pt x="1470" y="747"/>
                        </a:lnTo>
                        <a:lnTo>
                          <a:pt x="1491" y="747"/>
                        </a:lnTo>
                        <a:lnTo>
                          <a:pt x="1509" y="747"/>
                        </a:lnTo>
                        <a:lnTo>
                          <a:pt x="1524" y="747"/>
                        </a:lnTo>
                        <a:lnTo>
                          <a:pt x="1534" y="747"/>
                        </a:lnTo>
                        <a:lnTo>
                          <a:pt x="1539" y="747"/>
                        </a:lnTo>
                        <a:lnTo>
                          <a:pt x="1542" y="756"/>
                        </a:lnTo>
                        <a:lnTo>
                          <a:pt x="1549" y="769"/>
                        </a:lnTo>
                        <a:lnTo>
                          <a:pt x="1560" y="784"/>
                        </a:lnTo>
                        <a:lnTo>
                          <a:pt x="1573" y="799"/>
                        </a:lnTo>
                        <a:lnTo>
                          <a:pt x="1591" y="814"/>
                        </a:lnTo>
                        <a:lnTo>
                          <a:pt x="1613" y="826"/>
                        </a:lnTo>
                        <a:lnTo>
                          <a:pt x="1638" y="838"/>
                        </a:lnTo>
                        <a:lnTo>
                          <a:pt x="1668" y="845"/>
                        </a:lnTo>
                        <a:lnTo>
                          <a:pt x="1673" y="854"/>
                        </a:lnTo>
                        <a:lnTo>
                          <a:pt x="1681" y="868"/>
                        </a:lnTo>
                        <a:lnTo>
                          <a:pt x="1692" y="885"/>
                        </a:lnTo>
                        <a:lnTo>
                          <a:pt x="1708" y="906"/>
                        </a:lnTo>
                        <a:lnTo>
                          <a:pt x="1727" y="927"/>
                        </a:lnTo>
                        <a:lnTo>
                          <a:pt x="1751" y="946"/>
                        </a:lnTo>
                        <a:lnTo>
                          <a:pt x="1780" y="964"/>
                        </a:lnTo>
                        <a:lnTo>
                          <a:pt x="1813" y="976"/>
                        </a:lnTo>
                        <a:lnTo>
                          <a:pt x="1819" y="977"/>
                        </a:lnTo>
                        <a:lnTo>
                          <a:pt x="1825" y="979"/>
                        </a:lnTo>
                        <a:lnTo>
                          <a:pt x="1830" y="980"/>
                        </a:lnTo>
                        <a:lnTo>
                          <a:pt x="1836" y="981"/>
                        </a:lnTo>
                        <a:lnTo>
                          <a:pt x="1842" y="981"/>
                        </a:lnTo>
                        <a:lnTo>
                          <a:pt x="1848" y="982"/>
                        </a:lnTo>
                        <a:lnTo>
                          <a:pt x="1853" y="982"/>
                        </a:lnTo>
                        <a:lnTo>
                          <a:pt x="1859" y="982"/>
                        </a:lnTo>
                        <a:lnTo>
                          <a:pt x="1871" y="982"/>
                        </a:lnTo>
                        <a:lnTo>
                          <a:pt x="1883" y="981"/>
                        </a:lnTo>
                        <a:lnTo>
                          <a:pt x="1895" y="979"/>
                        </a:lnTo>
                        <a:lnTo>
                          <a:pt x="1906" y="975"/>
                        </a:lnTo>
                        <a:lnTo>
                          <a:pt x="1919" y="972"/>
                        </a:lnTo>
                        <a:lnTo>
                          <a:pt x="1931" y="967"/>
                        </a:lnTo>
                        <a:lnTo>
                          <a:pt x="1942" y="961"/>
                        </a:lnTo>
                        <a:lnTo>
                          <a:pt x="1954" y="955"/>
                        </a:lnTo>
                        <a:lnTo>
                          <a:pt x="1965" y="949"/>
                        </a:lnTo>
                        <a:lnTo>
                          <a:pt x="1975" y="942"/>
                        </a:lnTo>
                        <a:lnTo>
                          <a:pt x="1985" y="934"/>
                        </a:lnTo>
                        <a:lnTo>
                          <a:pt x="1994" y="924"/>
                        </a:lnTo>
                        <a:lnTo>
                          <a:pt x="2002" y="916"/>
                        </a:lnTo>
                        <a:lnTo>
                          <a:pt x="2009" y="908"/>
                        </a:lnTo>
                        <a:lnTo>
                          <a:pt x="2013" y="899"/>
                        </a:lnTo>
                        <a:lnTo>
                          <a:pt x="2018" y="891"/>
                        </a:lnTo>
                        <a:lnTo>
                          <a:pt x="2026" y="896"/>
                        </a:lnTo>
                        <a:lnTo>
                          <a:pt x="2035" y="901"/>
                        </a:lnTo>
                        <a:lnTo>
                          <a:pt x="2042" y="906"/>
                        </a:lnTo>
                        <a:lnTo>
                          <a:pt x="2046" y="908"/>
                        </a:lnTo>
                        <a:lnTo>
                          <a:pt x="2050" y="909"/>
                        </a:lnTo>
                        <a:lnTo>
                          <a:pt x="2058" y="911"/>
                        </a:lnTo>
                        <a:lnTo>
                          <a:pt x="2068" y="911"/>
                        </a:lnTo>
                        <a:lnTo>
                          <a:pt x="2077" y="907"/>
                        </a:lnTo>
                        <a:lnTo>
                          <a:pt x="2081" y="902"/>
                        </a:lnTo>
                        <a:lnTo>
                          <a:pt x="2085" y="897"/>
                        </a:lnTo>
                        <a:lnTo>
                          <a:pt x="2086" y="890"/>
                        </a:lnTo>
                        <a:lnTo>
                          <a:pt x="2087" y="881"/>
                        </a:lnTo>
                        <a:lnTo>
                          <a:pt x="2087" y="879"/>
                        </a:lnTo>
                        <a:lnTo>
                          <a:pt x="2087" y="878"/>
                        </a:lnTo>
                        <a:lnTo>
                          <a:pt x="2087" y="876"/>
                        </a:lnTo>
                        <a:lnTo>
                          <a:pt x="2086" y="875"/>
                        </a:lnTo>
                        <a:lnTo>
                          <a:pt x="2086" y="854"/>
                        </a:lnTo>
                        <a:lnTo>
                          <a:pt x="2086" y="806"/>
                        </a:lnTo>
                        <a:lnTo>
                          <a:pt x="2086" y="755"/>
                        </a:lnTo>
                        <a:lnTo>
                          <a:pt x="2086" y="725"/>
                        </a:lnTo>
                        <a:lnTo>
                          <a:pt x="2092" y="725"/>
                        </a:lnTo>
                        <a:lnTo>
                          <a:pt x="2099" y="725"/>
                        </a:lnTo>
                        <a:lnTo>
                          <a:pt x="2108" y="725"/>
                        </a:lnTo>
                        <a:lnTo>
                          <a:pt x="2116" y="725"/>
                        </a:lnTo>
                        <a:lnTo>
                          <a:pt x="2124" y="725"/>
                        </a:lnTo>
                        <a:lnTo>
                          <a:pt x="2132" y="725"/>
                        </a:lnTo>
                        <a:lnTo>
                          <a:pt x="2137" y="725"/>
                        </a:lnTo>
                        <a:lnTo>
                          <a:pt x="2140" y="725"/>
                        </a:lnTo>
                        <a:lnTo>
                          <a:pt x="2145" y="727"/>
                        </a:lnTo>
                        <a:lnTo>
                          <a:pt x="2151" y="732"/>
                        </a:lnTo>
                        <a:lnTo>
                          <a:pt x="2159" y="735"/>
                        </a:lnTo>
                        <a:lnTo>
                          <a:pt x="2168" y="740"/>
                        </a:lnTo>
                        <a:lnTo>
                          <a:pt x="2177" y="743"/>
                        </a:lnTo>
                        <a:lnTo>
                          <a:pt x="2187" y="747"/>
                        </a:lnTo>
                        <a:lnTo>
                          <a:pt x="2199" y="749"/>
                        </a:lnTo>
                        <a:lnTo>
                          <a:pt x="2209" y="750"/>
                        </a:lnTo>
                        <a:lnTo>
                          <a:pt x="2221" y="750"/>
                        </a:lnTo>
                        <a:lnTo>
                          <a:pt x="2232" y="748"/>
                        </a:lnTo>
                        <a:lnTo>
                          <a:pt x="2243" y="747"/>
                        </a:lnTo>
                        <a:lnTo>
                          <a:pt x="2254" y="743"/>
                        </a:lnTo>
                        <a:lnTo>
                          <a:pt x="2263" y="741"/>
                        </a:lnTo>
                        <a:lnTo>
                          <a:pt x="2270" y="740"/>
                        </a:lnTo>
                        <a:lnTo>
                          <a:pt x="2276" y="738"/>
                        </a:lnTo>
                        <a:lnTo>
                          <a:pt x="2278" y="738"/>
                        </a:lnTo>
                        <a:lnTo>
                          <a:pt x="2283" y="735"/>
                        </a:lnTo>
                        <a:lnTo>
                          <a:pt x="2286" y="677"/>
                        </a:lnTo>
                        <a:lnTo>
                          <a:pt x="2280" y="666"/>
                        </a:lnTo>
                        <a:lnTo>
                          <a:pt x="2263" y="640"/>
                        </a:lnTo>
                        <a:lnTo>
                          <a:pt x="2239" y="602"/>
                        </a:lnTo>
                        <a:lnTo>
                          <a:pt x="2212" y="558"/>
                        </a:lnTo>
                        <a:lnTo>
                          <a:pt x="2183" y="513"/>
                        </a:lnTo>
                        <a:lnTo>
                          <a:pt x="2159" y="474"/>
                        </a:lnTo>
                        <a:lnTo>
                          <a:pt x="2140" y="446"/>
                        </a:lnTo>
                        <a:lnTo>
                          <a:pt x="2132" y="433"/>
                        </a:lnTo>
                        <a:lnTo>
                          <a:pt x="2138" y="422"/>
                        </a:lnTo>
                        <a:lnTo>
                          <a:pt x="2146" y="405"/>
                        </a:lnTo>
                        <a:lnTo>
                          <a:pt x="2154" y="387"/>
                        </a:lnTo>
                        <a:lnTo>
                          <a:pt x="2157" y="380"/>
                        </a:lnTo>
                        <a:lnTo>
                          <a:pt x="2153" y="373"/>
                        </a:lnTo>
                        <a:lnTo>
                          <a:pt x="2142" y="354"/>
                        </a:lnTo>
                        <a:lnTo>
                          <a:pt x="2126" y="327"/>
                        </a:lnTo>
                        <a:lnTo>
                          <a:pt x="2109" y="297"/>
                        </a:lnTo>
                        <a:lnTo>
                          <a:pt x="2091" y="266"/>
                        </a:lnTo>
                        <a:lnTo>
                          <a:pt x="2075" y="239"/>
                        </a:lnTo>
                        <a:lnTo>
                          <a:pt x="2063" y="219"/>
                        </a:lnTo>
                        <a:lnTo>
                          <a:pt x="2058" y="211"/>
                        </a:lnTo>
                        <a:lnTo>
                          <a:pt x="2058" y="206"/>
                        </a:lnTo>
                        <a:lnTo>
                          <a:pt x="2058" y="201"/>
                        </a:lnTo>
                        <a:lnTo>
                          <a:pt x="2058" y="192"/>
                        </a:lnTo>
                        <a:lnTo>
                          <a:pt x="2058" y="187"/>
                        </a:lnTo>
                        <a:lnTo>
                          <a:pt x="2065" y="184"/>
                        </a:lnTo>
                        <a:lnTo>
                          <a:pt x="2079" y="179"/>
                        </a:lnTo>
                        <a:lnTo>
                          <a:pt x="2096" y="172"/>
                        </a:lnTo>
                        <a:lnTo>
                          <a:pt x="2116" y="164"/>
                        </a:lnTo>
                        <a:lnTo>
                          <a:pt x="2134" y="156"/>
                        </a:lnTo>
                        <a:lnTo>
                          <a:pt x="2151" y="150"/>
                        </a:lnTo>
                        <a:lnTo>
                          <a:pt x="2162" y="145"/>
                        </a:lnTo>
                        <a:lnTo>
                          <a:pt x="2167" y="143"/>
                        </a:lnTo>
                        <a:lnTo>
                          <a:pt x="2210" y="59"/>
                        </a:lnTo>
                        <a:lnTo>
                          <a:pt x="2210" y="56"/>
                        </a:lnTo>
                        <a:lnTo>
                          <a:pt x="2209" y="48"/>
                        </a:lnTo>
                        <a:lnTo>
                          <a:pt x="2207" y="35"/>
                        </a:lnTo>
                        <a:lnTo>
                          <a:pt x="2199" y="18"/>
                        </a:lnTo>
                        <a:lnTo>
                          <a:pt x="2186" y="5"/>
                        </a:lnTo>
                        <a:lnTo>
                          <a:pt x="2183" y="2"/>
                        </a:lnTo>
                        <a:lnTo>
                          <a:pt x="2178" y="1"/>
                        </a:lnTo>
                        <a:lnTo>
                          <a:pt x="2174" y="1"/>
                        </a:lnTo>
                        <a:lnTo>
                          <a:pt x="2169" y="0"/>
                        </a:lnTo>
                        <a:lnTo>
                          <a:pt x="2164" y="1"/>
                        </a:lnTo>
                        <a:lnTo>
                          <a:pt x="2159" y="2"/>
                        </a:lnTo>
                        <a:lnTo>
                          <a:pt x="2154" y="3"/>
                        </a:lnTo>
                        <a:lnTo>
                          <a:pt x="2148" y="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6058080" y="2820960"/>
                    <a:ext cx="63360" cy="28440"/>
                  </a:xfrm>
                  <a:custGeom>
                    <a:avLst/>
                    <a:gdLst/>
                    <a:ahLst/>
                    <a:rect l="l" t="t" r="r" b="b"/>
                    <a:pathLst>
                      <a:path w="82" h="35">
                        <a:moveTo>
                          <a:pt x="5" y="0"/>
                        </a:moveTo>
                        <a:lnTo>
                          <a:pt x="0" y="33"/>
                        </a:lnTo>
                        <a:lnTo>
                          <a:pt x="82" y="35"/>
                        </a:lnTo>
                        <a:lnTo>
                          <a:pt x="81" y="21"/>
                        </a:lnTo>
                        <a:lnTo>
                          <a:pt x="23" y="19"/>
                        </a:lnTo>
                        <a:lnTo>
                          <a:pt x="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52" name=""/>
                  <p:cNvSpPr/>
                  <p:nvPr/>
                </p:nvSpPr>
                <p:spPr>
                  <a:xfrm>
                    <a:off x="6086520" y="2820960"/>
                    <a:ext cx="38160" cy="11160"/>
                  </a:xfrm>
                  <a:custGeom>
                    <a:avLst/>
                    <a:gdLst/>
                    <a:ahLst/>
                    <a:rect l="l" t="t" r="r" b="b"/>
                    <a:pathLst>
                      <a:path w="48" h="14">
                        <a:moveTo>
                          <a:pt x="0" y="0"/>
                        </a:moveTo>
                        <a:lnTo>
                          <a:pt x="43" y="6"/>
                        </a:lnTo>
                        <a:lnTo>
                          <a:pt x="48" y="14"/>
                        </a:lnTo>
                        <a:lnTo>
                          <a:pt x="15" y="14"/>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553" name=""/>
                  <p:cNvSpPr/>
                  <p:nvPr/>
                </p:nvSpPr>
                <p:spPr>
                  <a:xfrm>
                    <a:off x="5364000" y="3362400"/>
                    <a:ext cx="17640" cy="17280"/>
                  </a:xfrm>
                  <a:custGeom>
                    <a:avLst/>
                    <a:gdLst/>
                    <a:ahLst/>
                    <a:rect l="l" t="t" r="r" b="b"/>
                    <a:pathLst>
                      <a:path w="22" h="22">
                        <a:moveTo>
                          <a:pt x="22" y="11"/>
                        </a:moveTo>
                        <a:lnTo>
                          <a:pt x="21" y="16"/>
                        </a:lnTo>
                        <a:lnTo>
                          <a:pt x="18" y="18"/>
                        </a:lnTo>
                        <a:lnTo>
                          <a:pt x="15" y="21"/>
                        </a:lnTo>
                        <a:lnTo>
                          <a:pt x="10" y="22"/>
                        </a:lnTo>
                        <a:lnTo>
                          <a:pt x="6" y="21"/>
                        </a:lnTo>
                        <a:lnTo>
                          <a:pt x="3" y="18"/>
                        </a:lnTo>
                        <a:lnTo>
                          <a:pt x="1" y="16"/>
                        </a:lnTo>
                        <a:lnTo>
                          <a:pt x="0" y="11"/>
                        </a:lnTo>
                        <a:lnTo>
                          <a:pt x="1" y="7"/>
                        </a:lnTo>
                        <a:lnTo>
                          <a:pt x="3" y="3"/>
                        </a:lnTo>
                        <a:lnTo>
                          <a:pt x="6" y="1"/>
                        </a:lnTo>
                        <a:lnTo>
                          <a:pt x="10" y="0"/>
                        </a:lnTo>
                        <a:lnTo>
                          <a:pt x="15" y="1"/>
                        </a:lnTo>
                        <a:lnTo>
                          <a:pt x="18" y="3"/>
                        </a:lnTo>
                        <a:lnTo>
                          <a:pt x="21" y="7"/>
                        </a:lnTo>
                        <a:lnTo>
                          <a:pt x="22" y="1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4" name=""/>
                  <p:cNvSpPr/>
                  <p:nvPr/>
                </p:nvSpPr>
                <p:spPr>
                  <a:xfrm>
                    <a:off x="5392800" y="3360600"/>
                    <a:ext cx="15840" cy="17640"/>
                  </a:xfrm>
                  <a:custGeom>
                    <a:avLst/>
                    <a:gdLst/>
                    <a:ahLst/>
                    <a:rect l="l" t="t" r="r" b="b"/>
                    <a:pathLst>
                      <a:path w="20" h="22">
                        <a:moveTo>
                          <a:pt x="18" y="19"/>
                        </a:moveTo>
                        <a:lnTo>
                          <a:pt x="15" y="21"/>
                        </a:lnTo>
                        <a:lnTo>
                          <a:pt x="10" y="22"/>
                        </a:lnTo>
                        <a:lnTo>
                          <a:pt x="5" y="21"/>
                        </a:lnTo>
                        <a:lnTo>
                          <a:pt x="2" y="19"/>
                        </a:lnTo>
                        <a:lnTo>
                          <a:pt x="0" y="15"/>
                        </a:lnTo>
                        <a:lnTo>
                          <a:pt x="0" y="12"/>
                        </a:lnTo>
                        <a:lnTo>
                          <a:pt x="0" y="7"/>
                        </a:lnTo>
                        <a:lnTo>
                          <a:pt x="2" y="4"/>
                        </a:lnTo>
                        <a:lnTo>
                          <a:pt x="5" y="2"/>
                        </a:lnTo>
                        <a:lnTo>
                          <a:pt x="10" y="0"/>
                        </a:lnTo>
                        <a:lnTo>
                          <a:pt x="15" y="2"/>
                        </a:lnTo>
                        <a:lnTo>
                          <a:pt x="18" y="4"/>
                        </a:lnTo>
                        <a:lnTo>
                          <a:pt x="20" y="7"/>
                        </a:lnTo>
                        <a:lnTo>
                          <a:pt x="20" y="12"/>
                        </a:lnTo>
                        <a:lnTo>
                          <a:pt x="20" y="15"/>
                        </a:lnTo>
                        <a:lnTo>
                          <a:pt x="18" y="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5" name=""/>
                  <p:cNvSpPr/>
                  <p:nvPr/>
                </p:nvSpPr>
                <p:spPr>
                  <a:xfrm>
                    <a:off x="5413320" y="3378240"/>
                    <a:ext cx="17640" cy="17280"/>
                  </a:xfrm>
                  <a:custGeom>
                    <a:avLst/>
                    <a:gdLst/>
                    <a:ahLst/>
                    <a:rect l="l" t="t" r="r" b="b"/>
                    <a:pathLst>
                      <a:path w="22" h="22">
                        <a:moveTo>
                          <a:pt x="12" y="22"/>
                        </a:moveTo>
                        <a:lnTo>
                          <a:pt x="7" y="21"/>
                        </a:lnTo>
                        <a:lnTo>
                          <a:pt x="4" y="19"/>
                        </a:lnTo>
                        <a:lnTo>
                          <a:pt x="1" y="16"/>
                        </a:lnTo>
                        <a:lnTo>
                          <a:pt x="0" y="12"/>
                        </a:lnTo>
                        <a:lnTo>
                          <a:pt x="1" y="7"/>
                        </a:lnTo>
                        <a:lnTo>
                          <a:pt x="4" y="4"/>
                        </a:lnTo>
                        <a:lnTo>
                          <a:pt x="7" y="1"/>
                        </a:lnTo>
                        <a:lnTo>
                          <a:pt x="12" y="0"/>
                        </a:lnTo>
                        <a:lnTo>
                          <a:pt x="16" y="1"/>
                        </a:lnTo>
                        <a:lnTo>
                          <a:pt x="19" y="4"/>
                        </a:lnTo>
                        <a:lnTo>
                          <a:pt x="21" y="7"/>
                        </a:lnTo>
                        <a:lnTo>
                          <a:pt x="22" y="12"/>
                        </a:lnTo>
                        <a:lnTo>
                          <a:pt x="21" y="16"/>
                        </a:lnTo>
                        <a:lnTo>
                          <a:pt x="19" y="19"/>
                        </a:lnTo>
                        <a:lnTo>
                          <a:pt x="16" y="21"/>
                        </a:lnTo>
                        <a:lnTo>
                          <a:pt x="12"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6" name=""/>
                  <p:cNvSpPr/>
                  <p:nvPr/>
                </p:nvSpPr>
                <p:spPr>
                  <a:xfrm>
                    <a:off x="5416560" y="3405240"/>
                    <a:ext cx="17280" cy="17280"/>
                  </a:xfrm>
                  <a:custGeom>
                    <a:avLst/>
                    <a:gdLst/>
                    <a:ahLst/>
                    <a:rect l="l" t="t" r="r" b="b"/>
                    <a:pathLst>
                      <a:path w="22" h="22">
                        <a:moveTo>
                          <a:pt x="3" y="18"/>
                        </a:moveTo>
                        <a:lnTo>
                          <a:pt x="1" y="15"/>
                        </a:lnTo>
                        <a:lnTo>
                          <a:pt x="0" y="10"/>
                        </a:lnTo>
                        <a:lnTo>
                          <a:pt x="1" y="7"/>
                        </a:lnTo>
                        <a:lnTo>
                          <a:pt x="3" y="3"/>
                        </a:lnTo>
                        <a:lnTo>
                          <a:pt x="7" y="1"/>
                        </a:lnTo>
                        <a:lnTo>
                          <a:pt x="10" y="0"/>
                        </a:lnTo>
                        <a:lnTo>
                          <a:pt x="15" y="1"/>
                        </a:lnTo>
                        <a:lnTo>
                          <a:pt x="18" y="3"/>
                        </a:lnTo>
                        <a:lnTo>
                          <a:pt x="21" y="7"/>
                        </a:lnTo>
                        <a:lnTo>
                          <a:pt x="22" y="10"/>
                        </a:lnTo>
                        <a:lnTo>
                          <a:pt x="21" y="15"/>
                        </a:lnTo>
                        <a:lnTo>
                          <a:pt x="18" y="18"/>
                        </a:lnTo>
                        <a:lnTo>
                          <a:pt x="15" y="21"/>
                        </a:lnTo>
                        <a:lnTo>
                          <a:pt x="10" y="22"/>
                        </a:lnTo>
                        <a:lnTo>
                          <a:pt x="7" y="21"/>
                        </a:lnTo>
                        <a:lnTo>
                          <a:pt x="3" y="1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7" name=""/>
                  <p:cNvSpPr/>
                  <p:nvPr/>
                </p:nvSpPr>
                <p:spPr>
                  <a:xfrm>
                    <a:off x="5398920" y="3427560"/>
                    <a:ext cx="17640" cy="17280"/>
                  </a:xfrm>
                  <a:custGeom>
                    <a:avLst/>
                    <a:gdLst/>
                    <a:ahLst/>
                    <a:rect l="l" t="t" r="r" b="b"/>
                    <a:pathLst>
                      <a:path w="21" h="22">
                        <a:moveTo>
                          <a:pt x="0" y="10"/>
                        </a:moveTo>
                        <a:lnTo>
                          <a:pt x="1" y="5"/>
                        </a:lnTo>
                        <a:lnTo>
                          <a:pt x="3" y="3"/>
                        </a:lnTo>
                        <a:lnTo>
                          <a:pt x="6" y="1"/>
                        </a:lnTo>
                        <a:lnTo>
                          <a:pt x="10" y="0"/>
                        </a:lnTo>
                        <a:lnTo>
                          <a:pt x="15" y="1"/>
                        </a:lnTo>
                        <a:lnTo>
                          <a:pt x="17" y="3"/>
                        </a:lnTo>
                        <a:lnTo>
                          <a:pt x="19" y="5"/>
                        </a:lnTo>
                        <a:lnTo>
                          <a:pt x="21" y="10"/>
                        </a:lnTo>
                        <a:lnTo>
                          <a:pt x="21" y="15"/>
                        </a:lnTo>
                        <a:lnTo>
                          <a:pt x="18" y="18"/>
                        </a:lnTo>
                        <a:lnTo>
                          <a:pt x="15" y="20"/>
                        </a:lnTo>
                        <a:lnTo>
                          <a:pt x="10" y="22"/>
                        </a:lnTo>
                        <a:lnTo>
                          <a:pt x="6" y="20"/>
                        </a:lnTo>
                        <a:lnTo>
                          <a:pt x="2" y="18"/>
                        </a:lnTo>
                        <a:lnTo>
                          <a:pt x="0" y="15"/>
                        </a:lnTo>
                        <a:lnTo>
                          <a:pt x="0" y="1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58" name=""/>
                  <p:cNvSpPr/>
                  <p:nvPr/>
                </p:nvSpPr>
                <p:spPr>
                  <a:xfrm>
                    <a:off x="5372280" y="3430440"/>
                    <a:ext cx="17280" cy="17640"/>
                  </a:xfrm>
                  <a:custGeom>
                    <a:avLst/>
                    <a:gdLst/>
                    <a:ahLst/>
                    <a:rect l="l" t="t" r="r" b="b"/>
                    <a:pathLst>
                      <a:path w="22" h="22">
                        <a:moveTo>
                          <a:pt x="4" y="4"/>
                        </a:moveTo>
                        <a:lnTo>
                          <a:pt x="7" y="1"/>
                        </a:lnTo>
                        <a:lnTo>
                          <a:pt x="11" y="0"/>
                        </a:lnTo>
                        <a:lnTo>
                          <a:pt x="15" y="1"/>
                        </a:lnTo>
                        <a:lnTo>
                          <a:pt x="19" y="4"/>
                        </a:lnTo>
                        <a:lnTo>
                          <a:pt x="21" y="7"/>
                        </a:lnTo>
                        <a:lnTo>
                          <a:pt x="22" y="12"/>
                        </a:lnTo>
                        <a:lnTo>
                          <a:pt x="21" y="15"/>
                        </a:lnTo>
                        <a:lnTo>
                          <a:pt x="19" y="19"/>
                        </a:lnTo>
                        <a:lnTo>
                          <a:pt x="15" y="21"/>
                        </a:lnTo>
                        <a:lnTo>
                          <a:pt x="11" y="22"/>
                        </a:lnTo>
                        <a:lnTo>
                          <a:pt x="7" y="21"/>
                        </a:lnTo>
                        <a:lnTo>
                          <a:pt x="4" y="19"/>
                        </a:lnTo>
                        <a:lnTo>
                          <a:pt x="1" y="15"/>
                        </a:lnTo>
                        <a:lnTo>
                          <a:pt x="0" y="12"/>
                        </a:lnTo>
                        <a:lnTo>
                          <a:pt x="1" y="7"/>
                        </a:lnTo>
                        <a:lnTo>
                          <a:pt x="4"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559" name=""/>
                  <p:cNvSpPr/>
                  <p:nvPr/>
                </p:nvSpPr>
                <p:spPr>
                  <a:xfrm>
                    <a:off x="5349960" y="3413160"/>
                    <a:ext cx="17280" cy="17280"/>
                  </a:xfrm>
                  <a:custGeom>
                    <a:avLst/>
                    <a:gdLst/>
                    <a:ahLst/>
                    <a:rect l="l" t="t" r="r" b="b"/>
                    <a:pathLst>
                      <a:path w="21" h="22">
                        <a:moveTo>
                          <a:pt x="10" y="0"/>
                        </a:moveTo>
                        <a:lnTo>
                          <a:pt x="15" y="1"/>
                        </a:lnTo>
                        <a:lnTo>
                          <a:pt x="18" y="4"/>
                        </a:lnTo>
                        <a:lnTo>
                          <a:pt x="20" y="6"/>
                        </a:lnTo>
                        <a:lnTo>
                          <a:pt x="21" y="11"/>
                        </a:lnTo>
                        <a:lnTo>
                          <a:pt x="20" y="15"/>
                        </a:lnTo>
                        <a:lnTo>
                          <a:pt x="18" y="19"/>
                        </a:lnTo>
                        <a:lnTo>
                          <a:pt x="15" y="21"/>
                        </a:lnTo>
                        <a:lnTo>
                          <a:pt x="10" y="22"/>
                        </a:lnTo>
                        <a:lnTo>
                          <a:pt x="5" y="21"/>
                        </a:lnTo>
                        <a:lnTo>
                          <a:pt x="3" y="19"/>
                        </a:lnTo>
                        <a:lnTo>
                          <a:pt x="1" y="15"/>
                        </a:lnTo>
                        <a:lnTo>
                          <a:pt x="0" y="11"/>
                        </a:lnTo>
                        <a:lnTo>
                          <a:pt x="1" y="6"/>
                        </a:lnTo>
                        <a:lnTo>
                          <a:pt x="3" y="4"/>
                        </a:lnTo>
                        <a:lnTo>
                          <a:pt x="5" y="1"/>
                        </a:lnTo>
                        <a:lnTo>
                          <a:pt x="1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0" name=""/>
                  <p:cNvSpPr/>
                  <p:nvPr/>
                </p:nvSpPr>
                <p:spPr>
                  <a:xfrm>
                    <a:off x="5346720" y="3384720"/>
                    <a:ext cx="17280" cy="17280"/>
                  </a:xfrm>
                  <a:custGeom>
                    <a:avLst/>
                    <a:gdLst/>
                    <a:ahLst/>
                    <a:rect l="l" t="t" r="r" b="b"/>
                    <a:pathLst>
                      <a:path w="22" h="22">
                        <a:moveTo>
                          <a:pt x="19" y="4"/>
                        </a:moveTo>
                        <a:lnTo>
                          <a:pt x="21" y="7"/>
                        </a:lnTo>
                        <a:lnTo>
                          <a:pt x="22" y="12"/>
                        </a:lnTo>
                        <a:lnTo>
                          <a:pt x="21" y="17"/>
                        </a:lnTo>
                        <a:lnTo>
                          <a:pt x="19" y="20"/>
                        </a:lnTo>
                        <a:lnTo>
                          <a:pt x="15" y="22"/>
                        </a:lnTo>
                        <a:lnTo>
                          <a:pt x="10" y="22"/>
                        </a:lnTo>
                        <a:lnTo>
                          <a:pt x="6" y="22"/>
                        </a:lnTo>
                        <a:lnTo>
                          <a:pt x="2" y="20"/>
                        </a:lnTo>
                        <a:lnTo>
                          <a:pt x="0" y="17"/>
                        </a:lnTo>
                        <a:lnTo>
                          <a:pt x="0" y="12"/>
                        </a:lnTo>
                        <a:lnTo>
                          <a:pt x="0" y="7"/>
                        </a:lnTo>
                        <a:lnTo>
                          <a:pt x="2" y="4"/>
                        </a:lnTo>
                        <a:lnTo>
                          <a:pt x="6" y="2"/>
                        </a:lnTo>
                        <a:lnTo>
                          <a:pt x="10" y="0"/>
                        </a:lnTo>
                        <a:lnTo>
                          <a:pt x="15" y="2"/>
                        </a:lnTo>
                        <a:lnTo>
                          <a:pt x="19"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61" name=""/>
                  <p:cNvSpPr/>
                  <p:nvPr/>
                </p:nvSpPr>
                <p:spPr>
                  <a:xfrm>
                    <a:off x="5753160" y="2900520"/>
                    <a:ext cx="193680" cy="129960"/>
                  </a:xfrm>
                  <a:custGeom>
                    <a:avLst/>
                    <a:gdLst/>
                    <a:ahLst/>
                    <a:rect l="l" t="t" r="r" b="b"/>
                    <a:pathLst>
                      <a:path w="243" h="164">
                        <a:moveTo>
                          <a:pt x="87" y="3"/>
                        </a:moveTo>
                        <a:lnTo>
                          <a:pt x="84" y="9"/>
                        </a:lnTo>
                        <a:lnTo>
                          <a:pt x="76" y="23"/>
                        </a:lnTo>
                        <a:lnTo>
                          <a:pt x="63" y="43"/>
                        </a:lnTo>
                        <a:lnTo>
                          <a:pt x="49" y="68"/>
                        </a:lnTo>
                        <a:lnTo>
                          <a:pt x="33" y="93"/>
                        </a:lnTo>
                        <a:lnTo>
                          <a:pt x="19" y="117"/>
                        </a:lnTo>
                        <a:lnTo>
                          <a:pt x="8" y="138"/>
                        </a:lnTo>
                        <a:lnTo>
                          <a:pt x="0" y="152"/>
                        </a:lnTo>
                        <a:lnTo>
                          <a:pt x="0" y="156"/>
                        </a:lnTo>
                        <a:lnTo>
                          <a:pt x="7" y="159"/>
                        </a:lnTo>
                        <a:lnTo>
                          <a:pt x="17" y="161"/>
                        </a:lnTo>
                        <a:lnTo>
                          <a:pt x="31" y="163"/>
                        </a:lnTo>
                        <a:lnTo>
                          <a:pt x="48" y="163"/>
                        </a:lnTo>
                        <a:lnTo>
                          <a:pt x="68" y="164"/>
                        </a:lnTo>
                        <a:lnTo>
                          <a:pt x="90" y="164"/>
                        </a:lnTo>
                        <a:lnTo>
                          <a:pt x="111" y="163"/>
                        </a:lnTo>
                        <a:lnTo>
                          <a:pt x="134" y="163"/>
                        </a:lnTo>
                        <a:lnTo>
                          <a:pt x="156" y="162"/>
                        </a:lnTo>
                        <a:lnTo>
                          <a:pt x="177" y="161"/>
                        </a:lnTo>
                        <a:lnTo>
                          <a:pt x="196" y="160"/>
                        </a:lnTo>
                        <a:lnTo>
                          <a:pt x="210" y="159"/>
                        </a:lnTo>
                        <a:lnTo>
                          <a:pt x="223" y="159"/>
                        </a:lnTo>
                        <a:lnTo>
                          <a:pt x="231" y="158"/>
                        </a:lnTo>
                        <a:lnTo>
                          <a:pt x="234" y="158"/>
                        </a:lnTo>
                        <a:lnTo>
                          <a:pt x="243" y="16"/>
                        </a:lnTo>
                        <a:lnTo>
                          <a:pt x="243" y="15"/>
                        </a:lnTo>
                        <a:lnTo>
                          <a:pt x="243" y="13"/>
                        </a:lnTo>
                        <a:lnTo>
                          <a:pt x="243" y="11"/>
                        </a:lnTo>
                        <a:lnTo>
                          <a:pt x="242" y="8"/>
                        </a:lnTo>
                        <a:lnTo>
                          <a:pt x="239" y="4"/>
                        </a:lnTo>
                        <a:lnTo>
                          <a:pt x="234" y="2"/>
                        </a:lnTo>
                        <a:lnTo>
                          <a:pt x="225" y="1"/>
                        </a:lnTo>
                        <a:lnTo>
                          <a:pt x="214" y="0"/>
                        </a:lnTo>
                        <a:lnTo>
                          <a:pt x="198" y="0"/>
                        </a:lnTo>
                        <a:lnTo>
                          <a:pt x="179" y="0"/>
                        </a:lnTo>
                        <a:lnTo>
                          <a:pt x="159" y="1"/>
                        </a:lnTo>
                        <a:lnTo>
                          <a:pt x="137" y="1"/>
                        </a:lnTo>
                        <a:lnTo>
                          <a:pt x="118" y="2"/>
                        </a:lnTo>
                        <a:lnTo>
                          <a:pt x="102" y="3"/>
                        </a:lnTo>
                        <a:lnTo>
                          <a:pt x="91" y="3"/>
                        </a:lnTo>
                        <a:lnTo>
                          <a:pt x="87"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702400" y="2916360"/>
                    <a:ext cx="74520" cy="106200"/>
                  </a:xfrm>
                  <a:custGeom>
                    <a:avLst/>
                    <a:gdLst/>
                    <a:ahLst/>
                    <a:rect l="l" t="t" r="r" b="b"/>
                    <a:pathLst>
                      <a:path w="95" h="135">
                        <a:moveTo>
                          <a:pt x="95" y="0"/>
                        </a:moveTo>
                        <a:lnTo>
                          <a:pt x="95" y="0"/>
                        </a:lnTo>
                        <a:lnTo>
                          <a:pt x="93" y="2"/>
                        </a:lnTo>
                        <a:lnTo>
                          <a:pt x="91" y="8"/>
                        </a:lnTo>
                        <a:lnTo>
                          <a:pt x="88" y="20"/>
                        </a:lnTo>
                        <a:lnTo>
                          <a:pt x="82" y="30"/>
                        </a:lnTo>
                        <a:lnTo>
                          <a:pt x="73" y="45"/>
                        </a:lnTo>
                        <a:lnTo>
                          <a:pt x="60" y="65"/>
                        </a:lnTo>
                        <a:lnTo>
                          <a:pt x="46" y="84"/>
                        </a:lnTo>
                        <a:lnTo>
                          <a:pt x="34" y="104"/>
                        </a:lnTo>
                        <a:lnTo>
                          <a:pt x="22" y="120"/>
                        </a:lnTo>
                        <a:lnTo>
                          <a:pt x="14" y="130"/>
                        </a:lnTo>
                        <a:lnTo>
                          <a:pt x="11" y="135"/>
                        </a:lnTo>
                        <a:lnTo>
                          <a:pt x="0" y="133"/>
                        </a:lnTo>
                        <a:lnTo>
                          <a:pt x="0" y="68"/>
                        </a:lnTo>
                        <a:lnTo>
                          <a:pt x="95"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846760" y="2887560"/>
                    <a:ext cx="84240" cy="160560"/>
                  </a:xfrm>
                  <a:custGeom>
                    <a:avLst/>
                    <a:gdLst/>
                    <a:ahLst/>
                    <a:rect l="l" t="t" r="r" b="b"/>
                    <a:pathLst>
                      <a:path w="107" h="203">
                        <a:moveTo>
                          <a:pt x="20" y="0"/>
                        </a:moveTo>
                        <a:lnTo>
                          <a:pt x="107" y="203"/>
                        </a:lnTo>
                        <a:lnTo>
                          <a:pt x="62" y="203"/>
                        </a:lnTo>
                        <a:lnTo>
                          <a:pt x="0" y="0"/>
                        </a:lnTo>
                        <a:lnTo>
                          <a:pt x="2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5792760" y="2892600"/>
                    <a:ext cx="46080" cy="142560"/>
                  </a:xfrm>
                  <a:custGeom>
                    <a:avLst/>
                    <a:gdLst/>
                    <a:ahLst/>
                    <a:rect l="l" t="t" r="r" b="b"/>
                    <a:pathLst>
                      <a:path w="59" h="181">
                        <a:moveTo>
                          <a:pt x="0" y="0"/>
                        </a:moveTo>
                        <a:lnTo>
                          <a:pt x="59" y="181"/>
                        </a:lnTo>
                        <a:lnTo>
                          <a:pt x="20" y="181"/>
                        </a:lnTo>
                        <a:lnTo>
                          <a:pt x="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5133960" y="3251160"/>
                    <a:ext cx="23760" cy="23760"/>
                  </a:xfrm>
                  <a:custGeom>
                    <a:avLst/>
                    <a:gdLst/>
                    <a:ahLst/>
                    <a:rect l="l" t="t" r="r" b="b"/>
                    <a:pathLst>
                      <a:path w="29" h="29">
                        <a:moveTo>
                          <a:pt x="29" y="15"/>
                        </a:moveTo>
                        <a:lnTo>
                          <a:pt x="28" y="21"/>
                        </a:lnTo>
                        <a:lnTo>
                          <a:pt x="25" y="26"/>
                        </a:lnTo>
                        <a:lnTo>
                          <a:pt x="21" y="28"/>
                        </a:lnTo>
                        <a:lnTo>
                          <a:pt x="15" y="29"/>
                        </a:lnTo>
                        <a:lnTo>
                          <a:pt x="9" y="28"/>
                        </a:lnTo>
                        <a:lnTo>
                          <a:pt x="4" y="26"/>
                        </a:lnTo>
                        <a:lnTo>
                          <a:pt x="1" y="21"/>
                        </a:lnTo>
                        <a:lnTo>
                          <a:pt x="0" y="15"/>
                        </a:lnTo>
                        <a:lnTo>
                          <a:pt x="1" y="9"/>
                        </a:lnTo>
                        <a:lnTo>
                          <a:pt x="4" y="5"/>
                        </a:lnTo>
                        <a:lnTo>
                          <a:pt x="9" y="1"/>
                        </a:lnTo>
                        <a:lnTo>
                          <a:pt x="15" y="0"/>
                        </a:lnTo>
                        <a:lnTo>
                          <a:pt x="21" y="1"/>
                        </a:lnTo>
                        <a:lnTo>
                          <a:pt x="25" y="5"/>
                        </a:lnTo>
                        <a:lnTo>
                          <a:pt x="28" y="9"/>
                        </a:lnTo>
                        <a:lnTo>
                          <a:pt x="29" y="1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66" name=""/>
                  <p:cNvSpPr/>
                  <p:nvPr/>
                </p:nvSpPr>
                <p:spPr>
                  <a:xfrm>
                    <a:off x="5207040" y="3057480"/>
                    <a:ext cx="349200" cy="30240"/>
                  </a:xfrm>
                  <a:custGeom>
                    <a:avLst/>
                    <a:gdLst/>
                    <a:ahLst/>
                    <a:rect l="l" t="t" r="r" b="b"/>
                    <a:pathLst>
                      <a:path w="440" h="37">
                        <a:moveTo>
                          <a:pt x="0" y="36"/>
                        </a:moveTo>
                        <a:lnTo>
                          <a:pt x="2" y="35"/>
                        </a:lnTo>
                        <a:lnTo>
                          <a:pt x="10" y="30"/>
                        </a:lnTo>
                        <a:lnTo>
                          <a:pt x="23" y="24"/>
                        </a:lnTo>
                        <a:lnTo>
                          <a:pt x="41" y="17"/>
                        </a:lnTo>
                        <a:lnTo>
                          <a:pt x="63" y="10"/>
                        </a:lnTo>
                        <a:lnTo>
                          <a:pt x="90" y="6"/>
                        </a:lnTo>
                        <a:lnTo>
                          <a:pt x="121" y="2"/>
                        </a:lnTo>
                        <a:lnTo>
                          <a:pt x="155" y="3"/>
                        </a:lnTo>
                        <a:lnTo>
                          <a:pt x="175" y="5"/>
                        </a:lnTo>
                        <a:lnTo>
                          <a:pt x="196" y="6"/>
                        </a:lnTo>
                        <a:lnTo>
                          <a:pt x="218" y="6"/>
                        </a:lnTo>
                        <a:lnTo>
                          <a:pt x="241" y="6"/>
                        </a:lnTo>
                        <a:lnTo>
                          <a:pt x="265" y="6"/>
                        </a:lnTo>
                        <a:lnTo>
                          <a:pt x="288" y="6"/>
                        </a:lnTo>
                        <a:lnTo>
                          <a:pt x="311" y="5"/>
                        </a:lnTo>
                        <a:lnTo>
                          <a:pt x="334" y="5"/>
                        </a:lnTo>
                        <a:lnTo>
                          <a:pt x="356" y="3"/>
                        </a:lnTo>
                        <a:lnTo>
                          <a:pt x="375" y="3"/>
                        </a:lnTo>
                        <a:lnTo>
                          <a:pt x="394" y="2"/>
                        </a:lnTo>
                        <a:lnTo>
                          <a:pt x="409" y="1"/>
                        </a:lnTo>
                        <a:lnTo>
                          <a:pt x="421" y="1"/>
                        </a:lnTo>
                        <a:lnTo>
                          <a:pt x="432" y="0"/>
                        </a:lnTo>
                        <a:lnTo>
                          <a:pt x="438" y="0"/>
                        </a:lnTo>
                        <a:lnTo>
                          <a:pt x="440" y="0"/>
                        </a:lnTo>
                        <a:lnTo>
                          <a:pt x="439" y="1"/>
                        </a:lnTo>
                        <a:lnTo>
                          <a:pt x="434" y="5"/>
                        </a:lnTo>
                        <a:lnTo>
                          <a:pt x="428" y="10"/>
                        </a:lnTo>
                        <a:lnTo>
                          <a:pt x="421" y="16"/>
                        </a:lnTo>
                        <a:lnTo>
                          <a:pt x="412" y="22"/>
                        </a:lnTo>
                        <a:lnTo>
                          <a:pt x="403" y="28"/>
                        </a:lnTo>
                        <a:lnTo>
                          <a:pt x="394" y="31"/>
                        </a:lnTo>
                        <a:lnTo>
                          <a:pt x="385" y="32"/>
                        </a:lnTo>
                        <a:lnTo>
                          <a:pt x="378" y="32"/>
                        </a:lnTo>
                        <a:lnTo>
                          <a:pt x="367" y="31"/>
                        </a:lnTo>
                        <a:lnTo>
                          <a:pt x="352" y="31"/>
                        </a:lnTo>
                        <a:lnTo>
                          <a:pt x="335" y="30"/>
                        </a:lnTo>
                        <a:lnTo>
                          <a:pt x="314" y="29"/>
                        </a:lnTo>
                        <a:lnTo>
                          <a:pt x="291" y="28"/>
                        </a:lnTo>
                        <a:lnTo>
                          <a:pt x="267" y="27"/>
                        </a:lnTo>
                        <a:lnTo>
                          <a:pt x="243" y="25"/>
                        </a:lnTo>
                        <a:lnTo>
                          <a:pt x="218" y="25"/>
                        </a:lnTo>
                        <a:lnTo>
                          <a:pt x="192" y="24"/>
                        </a:lnTo>
                        <a:lnTo>
                          <a:pt x="167" y="24"/>
                        </a:lnTo>
                        <a:lnTo>
                          <a:pt x="144" y="24"/>
                        </a:lnTo>
                        <a:lnTo>
                          <a:pt x="122" y="24"/>
                        </a:lnTo>
                        <a:lnTo>
                          <a:pt x="102" y="25"/>
                        </a:lnTo>
                        <a:lnTo>
                          <a:pt x="86" y="27"/>
                        </a:lnTo>
                        <a:lnTo>
                          <a:pt x="74" y="29"/>
                        </a:lnTo>
                        <a:lnTo>
                          <a:pt x="54" y="33"/>
                        </a:lnTo>
                        <a:lnTo>
                          <a:pt x="38" y="36"/>
                        </a:lnTo>
                        <a:lnTo>
                          <a:pt x="25" y="37"/>
                        </a:lnTo>
                        <a:lnTo>
                          <a:pt x="15" y="37"/>
                        </a:lnTo>
                        <a:lnTo>
                          <a:pt x="8" y="37"/>
                        </a:lnTo>
                        <a:lnTo>
                          <a:pt x="3" y="37"/>
                        </a:lnTo>
                        <a:lnTo>
                          <a:pt x="1" y="36"/>
                        </a:lnTo>
                        <a:lnTo>
                          <a:pt x="0" y="3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567" name=""/>
                  <p:cNvSpPr/>
                  <p:nvPr/>
                </p:nvSpPr>
                <p:spPr>
                  <a:xfrm>
                    <a:off x="5918040" y="3044880"/>
                    <a:ext cx="87480" cy="54000"/>
                  </a:xfrm>
                  <a:custGeom>
                    <a:avLst/>
                    <a:gdLst/>
                    <a:ahLst/>
                    <a:rect l="l" t="t" r="r" b="b"/>
                    <a:pathLst>
                      <a:path w="111" h="67">
                        <a:moveTo>
                          <a:pt x="111" y="0"/>
                        </a:moveTo>
                        <a:lnTo>
                          <a:pt x="109" y="2"/>
                        </a:lnTo>
                        <a:lnTo>
                          <a:pt x="107" y="8"/>
                        </a:lnTo>
                        <a:lnTo>
                          <a:pt x="103" y="16"/>
                        </a:lnTo>
                        <a:lnTo>
                          <a:pt x="94" y="25"/>
                        </a:lnTo>
                        <a:lnTo>
                          <a:pt x="82" y="36"/>
                        </a:lnTo>
                        <a:lnTo>
                          <a:pt x="66" y="44"/>
                        </a:lnTo>
                        <a:lnTo>
                          <a:pt x="44" y="49"/>
                        </a:lnTo>
                        <a:lnTo>
                          <a:pt x="16" y="52"/>
                        </a:lnTo>
                        <a:lnTo>
                          <a:pt x="0" y="61"/>
                        </a:lnTo>
                        <a:lnTo>
                          <a:pt x="5" y="62"/>
                        </a:lnTo>
                        <a:lnTo>
                          <a:pt x="18" y="64"/>
                        </a:lnTo>
                        <a:lnTo>
                          <a:pt x="37" y="67"/>
                        </a:lnTo>
                        <a:lnTo>
                          <a:pt x="58" y="66"/>
                        </a:lnTo>
                        <a:lnTo>
                          <a:pt x="78" y="61"/>
                        </a:lnTo>
                        <a:lnTo>
                          <a:pt x="96" y="49"/>
                        </a:lnTo>
                        <a:lnTo>
                          <a:pt x="107" y="30"/>
                        </a:lnTo>
                        <a:lnTo>
                          <a:pt x="111"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568" name=""/>
                  <p:cNvSpPr/>
                  <p:nvPr/>
                </p:nvSpPr>
                <p:spPr>
                  <a:xfrm>
                    <a:off x="5591160" y="3127320"/>
                    <a:ext cx="425520" cy="69840"/>
                  </a:xfrm>
                  <a:custGeom>
                    <a:avLst/>
                    <a:gdLst/>
                    <a:ahLst/>
                    <a:rect l="l" t="t" r="r" b="b"/>
                    <a:pathLst>
                      <a:path w="534" h="87">
                        <a:moveTo>
                          <a:pt x="12" y="3"/>
                        </a:moveTo>
                        <a:lnTo>
                          <a:pt x="391" y="0"/>
                        </a:lnTo>
                        <a:lnTo>
                          <a:pt x="534" y="87"/>
                        </a:lnTo>
                        <a:lnTo>
                          <a:pt x="463" y="80"/>
                        </a:lnTo>
                        <a:lnTo>
                          <a:pt x="298" y="28"/>
                        </a:lnTo>
                        <a:lnTo>
                          <a:pt x="0" y="23"/>
                        </a:lnTo>
                        <a:lnTo>
                          <a:pt x="12"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69" name=""/>
                  <p:cNvSpPr/>
                  <p:nvPr/>
                </p:nvSpPr>
                <p:spPr>
                  <a:xfrm>
                    <a:off x="6202440" y="3166920"/>
                    <a:ext cx="414360" cy="104760"/>
                  </a:xfrm>
                  <a:custGeom>
                    <a:avLst/>
                    <a:gdLst/>
                    <a:ahLst/>
                    <a:rect l="l" t="t" r="r" b="b"/>
                    <a:pathLst>
                      <a:path w="522" h="133">
                        <a:moveTo>
                          <a:pt x="0" y="3"/>
                        </a:moveTo>
                        <a:lnTo>
                          <a:pt x="522" y="0"/>
                        </a:lnTo>
                        <a:lnTo>
                          <a:pt x="502" y="16"/>
                        </a:lnTo>
                        <a:lnTo>
                          <a:pt x="52" y="39"/>
                        </a:lnTo>
                        <a:lnTo>
                          <a:pt x="243" y="133"/>
                        </a:lnTo>
                        <a:lnTo>
                          <a:pt x="104" y="130"/>
                        </a:lnTo>
                        <a:lnTo>
                          <a:pt x="7" y="78"/>
                        </a:lnTo>
                        <a:lnTo>
                          <a:pt x="0"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570" name=""/>
              <p:cNvGrpSpPr/>
              <p:nvPr/>
            </p:nvGrpSpPr>
            <p:grpSpPr>
              <a:xfrm>
                <a:off x="0" y="3786120"/>
                <a:ext cx="2736720" cy="760320"/>
                <a:chOff x="0" y="3786120"/>
                <a:chExt cx="2736720" cy="760320"/>
              </a:xfrm>
            </p:grpSpPr>
            <p:sp>
              <p:nvSpPr>
                <p:cNvPr id="571" name=""/>
                <p:cNvSpPr/>
                <p:nvPr/>
              </p:nvSpPr>
              <p:spPr>
                <a:xfrm>
                  <a:off x="0" y="3786120"/>
                  <a:ext cx="2736720" cy="760320"/>
                </a:xfrm>
                <a:custGeom>
                  <a:avLst/>
                  <a:gdLst/>
                  <a:ahLst/>
                  <a:rect l="l" t="t" r="r" b="b"/>
                  <a:pathLst>
                    <a:path w="3447" h="957">
                      <a:moveTo>
                        <a:pt x="3413" y="476"/>
                      </a:moveTo>
                      <a:lnTo>
                        <a:pt x="3382" y="457"/>
                      </a:lnTo>
                      <a:lnTo>
                        <a:pt x="3346" y="438"/>
                      </a:lnTo>
                      <a:lnTo>
                        <a:pt x="3306" y="421"/>
                      </a:lnTo>
                      <a:lnTo>
                        <a:pt x="3266" y="405"/>
                      </a:lnTo>
                      <a:lnTo>
                        <a:pt x="3230" y="393"/>
                      </a:lnTo>
                      <a:lnTo>
                        <a:pt x="3197" y="381"/>
                      </a:lnTo>
                      <a:lnTo>
                        <a:pt x="3171" y="374"/>
                      </a:lnTo>
                      <a:lnTo>
                        <a:pt x="3156" y="369"/>
                      </a:lnTo>
                      <a:lnTo>
                        <a:pt x="3149" y="364"/>
                      </a:lnTo>
                      <a:lnTo>
                        <a:pt x="3137" y="357"/>
                      </a:lnTo>
                      <a:lnTo>
                        <a:pt x="3123" y="348"/>
                      </a:lnTo>
                      <a:lnTo>
                        <a:pt x="3106" y="338"/>
                      </a:lnTo>
                      <a:lnTo>
                        <a:pt x="3087" y="326"/>
                      </a:lnTo>
                      <a:lnTo>
                        <a:pt x="3066" y="314"/>
                      </a:lnTo>
                      <a:lnTo>
                        <a:pt x="3042" y="302"/>
                      </a:lnTo>
                      <a:lnTo>
                        <a:pt x="3016" y="288"/>
                      </a:lnTo>
                      <a:lnTo>
                        <a:pt x="2989" y="276"/>
                      </a:lnTo>
                      <a:lnTo>
                        <a:pt x="2961" y="264"/>
                      </a:lnTo>
                      <a:lnTo>
                        <a:pt x="2930" y="252"/>
                      </a:lnTo>
                      <a:lnTo>
                        <a:pt x="2901" y="240"/>
                      </a:lnTo>
                      <a:lnTo>
                        <a:pt x="2870" y="231"/>
                      </a:lnTo>
                      <a:lnTo>
                        <a:pt x="2839" y="222"/>
                      </a:lnTo>
                      <a:lnTo>
                        <a:pt x="2808" y="215"/>
                      </a:lnTo>
                      <a:lnTo>
                        <a:pt x="2777" y="212"/>
                      </a:lnTo>
                      <a:lnTo>
                        <a:pt x="2771" y="212"/>
                      </a:lnTo>
                      <a:lnTo>
                        <a:pt x="2759" y="212"/>
                      </a:lnTo>
                      <a:lnTo>
                        <a:pt x="2737" y="212"/>
                      </a:lnTo>
                      <a:lnTo>
                        <a:pt x="2708" y="212"/>
                      </a:lnTo>
                      <a:lnTo>
                        <a:pt x="2671" y="212"/>
                      </a:lnTo>
                      <a:lnTo>
                        <a:pt x="2630" y="212"/>
                      </a:lnTo>
                      <a:lnTo>
                        <a:pt x="2582" y="212"/>
                      </a:lnTo>
                      <a:lnTo>
                        <a:pt x="2526" y="212"/>
                      </a:lnTo>
                      <a:lnTo>
                        <a:pt x="2468" y="212"/>
                      </a:lnTo>
                      <a:lnTo>
                        <a:pt x="2406" y="212"/>
                      </a:lnTo>
                      <a:lnTo>
                        <a:pt x="2340" y="212"/>
                      </a:lnTo>
                      <a:lnTo>
                        <a:pt x="2270" y="212"/>
                      </a:lnTo>
                      <a:lnTo>
                        <a:pt x="2197" y="212"/>
                      </a:lnTo>
                      <a:lnTo>
                        <a:pt x="2123" y="212"/>
                      </a:lnTo>
                      <a:lnTo>
                        <a:pt x="2049" y="212"/>
                      </a:lnTo>
                      <a:lnTo>
                        <a:pt x="1971" y="212"/>
                      </a:lnTo>
                      <a:lnTo>
                        <a:pt x="1895" y="212"/>
                      </a:lnTo>
                      <a:lnTo>
                        <a:pt x="1819" y="212"/>
                      </a:lnTo>
                      <a:lnTo>
                        <a:pt x="1744" y="212"/>
                      </a:lnTo>
                      <a:lnTo>
                        <a:pt x="1668" y="212"/>
                      </a:lnTo>
                      <a:lnTo>
                        <a:pt x="1595" y="212"/>
                      </a:lnTo>
                      <a:lnTo>
                        <a:pt x="1526" y="212"/>
                      </a:lnTo>
                      <a:lnTo>
                        <a:pt x="1459" y="212"/>
                      </a:lnTo>
                      <a:lnTo>
                        <a:pt x="1395" y="212"/>
                      </a:lnTo>
                      <a:lnTo>
                        <a:pt x="1337" y="212"/>
                      </a:lnTo>
                      <a:lnTo>
                        <a:pt x="1281" y="212"/>
                      </a:lnTo>
                      <a:lnTo>
                        <a:pt x="1231" y="212"/>
                      </a:lnTo>
                      <a:lnTo>
                        <a:pt x="1188" y="212"/>
                      </a:lnTo>
                      <a:lnTo>
                        <a:pt x="1150" y="212"/>
                      </a:lnTo>
                      <a:lnTo>
                        <a:pt x="1121" y="212"/>
                      </a:lnTo>
                      <a:lnTo>
                        <a:pt x="1099" y="212"/>
                      </a:lnTo>
                      <a:lnTo>
                        <a:pt x="1083" y="212"/>
                      </a:lnTo>
                      <a:lnTo>
                        <a:pt x="626" y="1"/>
                      </a:lnTo>
                      <a:lnTo>
                        <a:pt x="0" y="0"/>
                      </a:lnTo>
                      <a:lnTo>
                        <a:pt x="164" y="127"/>
                      </a:lnTo>
                      <a:lnTo>
                        <a:pt x="443" y="165"/>
                      </a:lnTo>
                      <a:lnTo>
                        <a:pt x="605" y="441"/>
                      </a:lnTo>
                      <a:lnTo>
                        <a:pt x="607" y="450"/>
                      </a:lnTo>
                      <a:lnTo>
                        <a:pt x="612" y="462"/>
                      </a:lnTo>
                      <a:lnTo>
                        <a:pt x="619" y="474"/>
                      </a:lnTo>
                      <a:lnTo>
                        <a:pt x="628" y="488"/>
                      </a:lnTo>
                      <a:lnTo>
                        <a:pt x="642" y="503"/>
                      </a:lnTo>
                      <a:lnTo>
                        <a:pt x="659" y="521"/>
                      </a:lnTo>
                      <a:lnTo>
                        <a:pt x="681" y="536"/>
                      </a:lnTo>
                      <a:lnTo>
                        <a:pt x="709" y="554"/>
                      </a:lnTo>
                      <a:lnTo>
                        <a:pt x="742" y="571"/>
                      </a:lnTo>
                      <a:lnTo>
                        <a:pt x="779" y="586"/>
                      </a:lnTo>
                      <a:lnTo>
                        <a:pt x="826" y="602"/>
                      </a:lnTo>
                      <a:lnTo>
                        <a:pt x="880" y="617"/>
                      </a:lnTo>
                      <a:lnTo>
                        <a:pt x="940" y="629"/>
                      </a:lnTo>
                      <a:lnTo>
                        <a:pt x="1011" y="642"/>
                      </a:lnTo>
                      <a:lnTo>
                        <a:pt x="1090" y="650"/>
                      </a:lnTo>
                      <a:lnTo>
                        <a:pt x="1178" y="657"/>
                      </a:lnTo>
                      <a:lnTo>
                        <a:pt x="1202" y="659"/>
                      </a:lnTo>
                      <a:lnTo>
                        <a:pt x="1228" y="659"/>
                      </a:lnTo>
                      <a:lnTo>
                        <a:pt x="1255" y="660"/>
                      </a:lnTo>
                      <a:lnTo>
                        <a:pt x="1287" y="662"/>
                      </a:lnTo>
                      <a:lnTo>
                        <a:pt x="1319" y="662"/>
                      </a:lnTo>
                      <a:lnTo>
                        <a:pt x="1352" y="664"/>
                      </a:lnTo>
                      <a:lnTo>
                        <a:pt x="1388" y="664"/>
                      </a:lnTo>
                      <a:lnTo>
                        <a:pt x="1424" y="666"/>
                      </a:lnTo>
                      <a:lnTo>
                        <a:pt x="1462" y="666"/>
                      </a:lnTo>
                      <a:lnTo>
                        <a:pt x="1500" y="666"/>
                      </a:lnTo>
                      <a:lnTo>
                        <a:pt x="1538" y="667"/>
                      </a:lnTo>
                      <a:lnTo>
                        <a:pt x="1576" y="667"/>
                      </a:lnTo>
                      <a:lnTo>
                        <a:pt x="1614" y="667"/>
                      </a:lnTo>
                      <a:lnTo>
                        <a:pt x="1652" y="669"/>
                      </a:lnTo>
                      <a:lnTo>
                        <a:pt x="1688" y="669"/>
                      </a:lnTo>
                      <a:lnTo>
                        <a:pt x="1725" y="669"/>
                      </a:lnTo>
                      <a:lnTo>
                        <a:pt x="1725" y="859"/>
                      </a:lnTo>
                      <a:lnTo>
                        <a:pt x="1688" y="859"/>
                      </a:lnTo>
                      <a:lnTo>
                        <a:pt x="1683" y="852"/>
                      </a:lnTo>
                      <a:lnTo>
                        <a:pt x="1678" y="845"/>
                      </a:lnTo>
                      <a:lnTo>
                        <a:pt x="1673" y="838"/>
                      </a:lnTo>
                      <a:lnTo>
                        <a:pt x="1666" y="833"/>
                      </a:lnTo>
                      <a:lnTo>
                        <a:pt x="1657" y="828"/>
                      </a:lnTo>
                      <a:lnTo>
                        <a:pt x="1650" y="826"/>
                      </a:lnTo>
                      <a:lnTo>
                        <a:pt x="1640" y="823"/>
                      </a:lnTo>
                      <a:lnTo>
                        <a:pt x="1631" y="823"/>
                      </a:lnTo>
                      <a:lnTo>
                        <a:pt x="1618" y="824"/>
                      </a:lnTo>
                      <a:lnTo>
                        <a:pt x="1606" y="828"/>
                      </a:lnTo>
                      <a:lnTo>
                        <a:pt x="1595" y="833"/>
                      </a:lnTo>
                      <a:lnTo>
                        <a:pt x="1587" y="842"/>
                      </a:lnTo>
                      <a:lnTo>
                        <a:pt x="1578" y="852"/>
                      </a:lnTo>
                      <a:lnTo>
                        <a:pt x="1573" y="862"/>
                      </a:lnTo>
                      <a:lnTo>
                        <a:pt x="1569" y="874"/>
                      </a:lnTo>
                      <a:lnTo>
                        <a:pt x="1568" y="888"/>
                      </a:lnTo>
                      <a:lnTo>
                        <a:pt x="1569" y="902"/>
                      </a:lnTo>
                      <a:lnTo>
                        <a:pt x="1573" y="914"/>
                      </a:lnTo>
                      <a:lnTo>
                        <a:pt x="1578" y="924"/>
                      </a:lnTo>
                      <a:lnTo>
                        <a:pt x="1587" y="935"/>
                      </a:lnTo>
                      <a:lnTo>
                        <a:pt x="1595" y="943"/>
                      </a:lnTo>
                      <a:lnTo>
                        <a:pt x="1606" y="949"/>
                      </a:lnTo>
                      <a:lnTo>
                        <a:pt x="1618" y="952"/>
                      </a:lnTo>
                      <a:lnTo>
                        <a:pt x="1631" y="954"/>
                      </a:lnTo>
                      <a:lnTo>
                        <a:pt x="1640" y="954"/>
                      </a:lnTo>
                      <a:lnTo>
                        <a:pt x="1650" y="950"/>
                      </a:lnTo>
                      <a:lnTo>
                        <a:pt x="1657" y="949"/>
                      </a:lnTo>
                      <a:lnTo>
                        <a:pt x="1666" y="943"/>
                      </a:lnTo>
                      <a:lnTo>
                        <a:pt x="1673" y="938"/>
                      </a:lnTo>
                      <a:lnTo>
                        <a:pt x="1678" y="931"/>
                      </a:lnTo>
                      <a:lnTo>
                        <a:pt x="1683" y="924"/>
                      </a:lnTo>
                      <a:lnTo>
                        <a:pt x="1688" y="918"/>
                      </a:lnTo>
                      <a:lnTo>
                        <a:pt x="1813" y="918"/>
                      </a:lnTo>
                      <a:lnTo>
                        <a:pt x="1818" y="924"/>
                      </a:lnTo>
                      <a:lnTo>
                        <a:pt x="1823" y="931"/>
                      </a:lnTo>
                      <a:lnTo>
                        <a:pt x="1830" y="938"/>
                      </a:lnTo>
                      <a:lnTo>
                        <a:pt x="1837" y="943"/>
                      </a:lnTo>
                      <a:lnTo>
                        <a:pt x="1844" y="949"/>
                      </a:lnTo>
                      <a:lnTo>
                        <a:pt x="1852" y="950"/>
                      </a:lnTo>
                      <a:lnTo>
                        <a:pt x="1861" y="954"/>
                      </a:lnTo>
                      <a:lnTo>
                        <a:pt x="1869" y="954"/>
                      </a:lnTo>
                      <a:lnTo>
                        <a:pt x="1883" y="952"/>
                      </a:lnTo>
                      <a:lnTo>
                        <a:pt x="1895" y="949"/>
                      </a:lnTo>
                      <a:lnTo>
                        <a:pt x="1906" y="943"/>
                      </a:lnTo>
                      <a:lnTo>
                        <a:pt x="1916" y="935"/>
                      </a:lnTo>
                      <a:lnTo>
                        <a:pt x="1925" y="924"/>
                      </a:lnTo>
                      <a:lnTo>
                        <a:pt x="1930" y="914"/>
                      </a:lnTo>
                      <a:lnTo>
                        <a:pt x="1933" y="902"/>
                      </a:lnTo>
                      <a:lnTo>
                        <a:pt x="1935" y="888"/>
                      </a:lnTo>
                      <a:lnTo>
                        <a:pt x="1933" y="874"/>
                      </a:lnTo>
                      <a:lnTo>
                        <a:pt x="1930" y="862"/>
                      </a:lnTo>
                      <a:lnTo>
                        <a:pt x="1925" y="852"/>
                      </a:lnTo>
                      <a:lnTo>
                        <a:pt x="1916" y="842"/>
                      </a:lnTo>
                      <a:lnTo>
                        <a:pt x="1906" y="833"/>
                      </a:lnTo>
                      <a:lnTo>
                        <a:pt x="1895" y="828"/>
                      </a:lnTo>
                      <a:lnTo>
                        <a:pt x="1883" y="824"/>
                      </a:lnTo>
                      <a:lnTo>
                        <a:pt x="1869" y="823"/>
                      </a:lnTo>
                      <a:lnTo>
                        <a:pt x="1861" y="823"/>
                      </a:lnTo>
                      <a:lnTo>
                        <a:pt x="1852" y="826"/>
                      </a:lnTo>
                      <a:lnTo>
                        <a:pt x="1844" y="828"/>
                      </a:lnTo>
                      <a:lnTo>
                        <a:pt x="1837" y="833"/>
                      </a:lnTo>
                      <a:lnTo>
                        <a:pt x="1830" y="838"/>
                      </a:lnTo>
                      <a:lnTo>
                        <a:pt x="1823" y="845"/>
                      </a:lnTo>
                      <a:lnTo>
                        <a:pt x="1818" y="852"/>
                      </a:lnTo>
                      <a:lnTo>
                        <a:pt x="1813" y="859"/>
                      </a:lnTo>
                      <a:lnTo>
                        <a:pt x="1785" y="859"/>
                      </a:lnTo>
                      <a:lnTo>
                        <a:pt x="1785" y="669"/>
                      </a:lnTo>
                      <a:lnTo>
                        <a:pt x="1825" y="669"/>
                      </a:lnTo>
                      <a:lnTo>
                        <a:pt x="1866" y="669"/>
                      </a:lnTo>
                      <a:lnTo>
                        <a:pt x="1907" y="669"/>
                      </a:lnTo>
                      <a:lnTo>
                        <a:pt x="1950" y="671"/>
                      </a:lnTo>
                      <a:lnTo>
                        <a:pt x="1994" y="671"/>
                      </a:lnTo>
                      <a:lnTo>
                        <a:pt x="2037" y="671"/>
                      </a:lnTo>
                      <a:lnTo>
                        <a:pt x="2083" y="671"/>
                      </a:lnTo>
                      <a:lnTo>
                        <a:pt x="2128" y="671"/>
                      </a:lnTo>
                      <a:lnTo>
                        <a:pt x="2175" y="671"/>
                      </a:lnTo>
                      <a:lnTo>
                        <a:pt x="2223" y="671"/>
                      </a:lnTo>
                      <a:lnTo>
                        <a:pt x="2271" y="671"/>
                      </a:lnTo>
                      <a:lnTo>
                        <a:pt x="2321" y="671"/>
                      </a:lnTo>
                      <a:lnTo>
                        <a:pt x="2371" y="671"/>
                      </a:lnTo>
                      <a:lnTo>
                        <a:pt x="2421" y="671"/>
                      </a:lnTo>
                      <a:lnTo>
                        <a:pt x="2473" y="671"/>
                      </a:lnTo>
                      <a:lnTo>
                        <a:pt x="2526" y="671"/>
                      </a:lnTo>
                      <a:lnTo>
                        <a:pt x="2537" y="673"/>
                      </a:lnTo>
                      <a:lnTo>
                        <a:pt x="2539" y="671"/>
                      </a:lnTo>
                      <a:lnTo>
                        <a:pt x="2547" y="671"/>
                      </a:lnTo>
                      <a:lnTo>
                        <a:pt x="2556" y="671"/>
                      </a:lnTo>
                      <a:lnTo>
                        <a:pt x="2563" y="671"/>
                      </a:lnTo>
                      <a:lnTo>
                        <a:pt x="2571" y="671"/>
                      </a:lnTo>
                      <a:lnTo>
                        <a:pt x="2580" y="671"/>
                      </a:lnTo>
                      <a:lnTo>
                        <a:pt x="2587" y="671"/>
                      </a:lnTo>
                      <a:lnTo>
                        <a:pt x="2595" y="671"/>
                      </a:lnTo>
                      <a:lnTo>
                        <a:pt x="2604" y="671"/>
                      </a:lnTo>
                      <a:lnTo>
                        <a:pt x="2602" y="676"/>
                      </a:lnTo>
                      <a:lnTo>
                        <a:pt x="2601" y="683"/>
                      </a:lnTo>
                      <a:lnTo>
                        <a:pt x="2599" y="690"/>
                      </a:lnTo>
                      <a:lnTo>
                        <a:pt x="2599" y="697"/>
                      </a:lnTo>
                      <a:lnTo>
                        <a:pt x="2599" y="885"/>
                      </a:lnTo>
                      <a:lnTo>
                        <a:pt x="2601" y="897"/>
                      </a:lnTo>
                      <a:lnTo>
                        <a:pt x="2604" y="911"/>
                      </a:lnTo>
                      <a:lnTo>
                        <a:pt x="2611" y="923"/>
                      </a:lnTo>
                      <a:lnTo>
                        <a:pt x="2620" y="933"/>
                      </a:lnTo>
                      <a:lnTo>
                        <a:pt x="2625" y="938"/>
                      </a:lnTo>
                      <a:lnTo>
                        <a:pt x="2632" y="942"/>
                      </a:lnTo>
                      <a:lnTo>
                        <a:pt x="2639" y="947"/>
                      </a:lnTo>
                      <a:lnTo>
                        <a:pt x="2645" y="949"/>
                      </a:lnTo>
                      <a:lnTo>
                        <a:pt x="2654" y="952"/>
                      </a:lnTo>
                      <a:lnTo>
                        <a:pt x="2661" y="954"/>
                      </a:lnTo>
                      <a:lnTo>
                        <a:pt x="2670" y="956"/>
                      </a:lnTo>
                      <a:lnTo>
                        <a:pt x="2678" y="956"/>
                      </a:lnTo>
                      <a:lnTo>
                        <a:pt x="2702" y="956"/>
                      </a:lnTo>
                      <a:lnTo>
                        <a:pt x="2711" y="956"/>
                      </a:lnTo>
                      <a:lnTo>
                        <a:pt x="2720" y="954"/>
                      </a:lnTo>
                      <a:lnTo>
                        <a:pt x="2727" y="952"/>
                      </a:lnTo>
                      <a:lnTo>
                        <a:pt x="2735" y="949"/>
                      </a:lnTo>
                      <a:lnTo>
                        <a:pt x="2742" y="947"/>
                      </a:lnTo>
                      <a:lnTo>
                        <a:pt x="2749" y="942"/>
                      </a:lnTo>
                      <a:lnTo>
                        <a:pt x="2756" y="938"/>
                      </a:lnTo>
                      <a:lnTo>
                        <a:pt x="2761" y="933"/>
                      </a:lnTo>
                      <a:lnTo>
                        <a:pt x="2770" y="923"/>
                      </a:lnTo>
                      <a:lnTo>
                        <a:pt x="2777" y="911"/>
                      </a:lnTo>
                      <a:lnTo>
                        <a:pt x="2780" y="897"/>
                      </a:lnTo>
                      <a:lnTo>
                        <a:pt x="2782" y="885"/>
                      </a:lnTo>
                      <a:lnTo>
                        <a:pt x="2782" y="697"/>
                      </a:lnTo>
                      <a:lnTo>
                        <a:pt x="2782" y="690"/>
                      </a:lnTo>
                      <a:lnTo>
                        <a:pt x="2780" y="683"/>
                      </a:lnTo>
                      <a:lnTo>
                        <a:pt x="2778" y="676"/>
                      </a:lnTo>
                      <a:lnTo>
                        <a:pt x="2777" y="669"/>
                      </a:lnTo>
                      <a:lnTo>
                        <a:pt x="2956" y="669"/>
                      </a:lnTo>
                      <a:lnTo>
                        <a:pt x="2956" y="828"/>
                      </a:lnTo>
                      <a:lnTo>
                        <a:pt x="2944" y="830"/>
                      </a:lnTo>
                      <a:lnTo>
                        <a:pt x="2932" y="835"/>
                      </a:lnTo>
                      <a:lnTo>
                        <a:pt x="2921" y="840"/>
                      </a:lnTo>
                      <a:lnTo>
                        <a:pt x="2913" y="849"/>
                      </a:lnTo>
                      <a:lnTo>
                        <a:pt x="2904" y="857"/>
                      </a:lnTo>
                      <a:lnTo>
                        <a:pt x="2899" y="869"/>
                      </a:lnTo>
                      <a:lnTo>
                        <a:pt x="2896" y="881"/>
                      </a:lnTo>
                      <a:lnTo>
                        <a:pt x="2894" y="893"/>
                      </a:lnTo>
                      <a:lnTo>
                        <a:pt x="2896" y="907"/>
                      </a:lnTo>
                      <a:lnTo>
                        <a:pt x="2899" y="919"/>
                      </a:lnTo>
                      <a:lnTo>
                        <a:pt x="2904" y="930"/>
                      </a:lnTo>
                      <a:lnTo>
                        <a:pt x="2913" y="938"/>
                      </a:lnTo>
                      <a:lnTo>
                        <a:pt x="2923" y="947"/>
                      </a:lnTo>
                      <a:lnTo>
                        <a:pt x="2933" y="952"/>
                      </a:lnTo>
                      <a:lnTo>
                        <a:pt x="2946" y="956"/>
                      </a:lnTo>
                      <a:lnTo>
                        <a:pt x="2958" y="957"/>
                      </a:lnTo>
                      <a:lnTo>
                        <a:pt x="2971" y="956"/>
                      </a:lnTo>
                      <a:lnTo>
                        <a:pt x="2983" y="952"/>
                      </a:lnTo>
                      <a:lnTo>
                        <a:pt x="2994" y="947"/>
                      </a:lnTo>
                      <a:lnTo>
                        <a:pt x="3004" y="938"/>
                      </a:lnTo>
                      <a:lnTo>
                        <a:pt x="3013" y="930"/>
                      </a:lnTo>
                      <a:lnTo>
                        <a:pt x="3018" y="919"/>
                      </a:lnTo>
                      <a:lnTo>
                        <a:pt x="3021" y="907"/>
                      </a:lnTo>
                      <a:lnTo>
                        <a:pt x="3023" y="893"/>
                      </a:lnTo>
                      <a:lnTo>
                        <a:pt x="3023" y="885"/>
                      </a:lnTo>
                      <a:lnTo>
                        <a:pt x="3021" y="876"/>
                      </a:lnTo>
                      <a:lnTo>
                        <a:pt x="3018" y="869"/>
                      </a:lnTo>
                      <a:lnTo>
                        <a:pt x="3015" y="862"/>
                      </a:lnTo>
                      <a:lnTo>
                        <a:pt x="3016" y="667"/>
                      </a:lnTo>
                      <a:lnTo>
                        <a:pt x="3166" y="667"/>
                      </a:lnTo>
                      <a:lnTo>
                        <a:pt x="3192" y="667"/>
                      </a:lnTo>
                      <a:lnTo>
                        <a:pt x="3218" y="666"/>
                      </a:lnTo>
                      <a:lnTo>
                        <a:pt x="3242" y="662"/>
                      </a:lnTo>
                      <a:lnTo>
                        <a:pt x="3266" y="659"/>
                      </a:lnTo>
                      <a:lnTo>
                        <a:pt x="3289" y="655"/>
                      </a:lnTo>
                      <a:lnTo>
                        <a:pt x="3311" y="650"/>
                      </a:lnTo>
                      <a:lnTo>
                        <a:pt x="3332" y="643"/>
                      </a:lnTo>
                      <a:lnTo>
                        <a:pt x="3351" y="636"/>
                      </a:lnTo>
                      <a:lnTo>
                        <a:pt x="3370" y="629"/>
                      </a:lnTo>
                      <a:lnTo>
                        <a:pt x="3385" y="621"/>
                      </a:lnTo>
                      <a:lnTo>
                        <a:pt x="3401" y="612"/>
                      </a:lnTo>
                      <a:lnTo>
                        <a:pt x="3413" y="602"/>
                      </a:lnTo>
                      <a:lnTo>
                        <a:pt x="3425" y="593"/>
                      </a:lnTo>
                      <a:lnTo>
                        <a:pt x="3434" y="581"/>
                      </a:lnTo>
                      <a:lnTo>
                        <a:pt x="3440" y="571"/>
                      </a:lnTo>
                      <a:lnTo>
                        <a:pt x="3446" y="559"/>
                      </a:lnTo>
                      <a:lnTo>
                        <a:pt x="3447" y="545"/>
                      </a:lnTo>
                      <a:lnTo>
                        <a:pt x="3447" y="524"/>
                      </a:lnTo>
                      <a:lnTo>
                        <a:pt x="3437" y="500"/>
                      </a:lnTo>
                      <a:lnTo>
                        <a:pt x="3413" y="476"/>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1087560" y="4162320"/>
                  <a:ext cx="723600" cy="109800"/>
                </a:xfrm>
                <a:custGeom>
                  <a:avLst/>
                  <a:gdLst/>
                  <a:ahLst/>
                  <a:rect l="l" t="t" r="r" b="b"/>
                  <a:pathLst>
                    <a:path w="913" h="138">
                      <a:moveTo>
                        <a:pt x="373" y="137"/>
                      </a:moveTo>
                      <a:lnTo>
                        <a:pt x="366" y="137"/>
                      </a:lnTo>
                      <a:lnTo>
                        <a:pt x="361" y="137"/>
                      </a:lnTo>
                      <a:lnTo>
                        <a:pt x="356" y="137"/>
                      </a:lnTo>
                      <a:lnTo>
                        <a:pt x="350" y="137"/>
                      </a:lnTo>
                      <a:lnTo>
                        <a:pt x="0" y="0"/>
                      </a:lnTo>
                      <a:lnTo>
                        <a:pt x="342" y="0"/>
                      </a:lnTo>
                      <a:lnTo>
                        <a:pt x="913" y="138"/>
                      </a:lnTo>
                      <a:lnTo>
                        <a:pt x="875" y="138"/>
                      </a:lnTo>
                      <a:lnTo>
                        <a:pt x="838" y="138"/>
                      </a:lnTo>
                      <a:lnTo>
                        <a:pt x="800" y="138"/>
                      </a:lnTo>
                      <a:lnTo>
                        <a:pt x="766" y="138"/>
                      </a:lnTo>
                      <a:lnTo>
                        <a:pt x="730" y="138"/>
                      </a:lnTo>
                      <a:lnTo>
                        <a:pt x="695" y="138"/>
                      </a:lnTo>
                      <a:lnTo>
                        <a:pt x="659" y="138"/>
                      </a:lnTo>
                      <a:lnTo>
                        <a:pt x="626" y="138"/>
                      </a:lnTo>
                      <a:lnTo>
                        <a:pt x="592" y="138"/>
                      </a:lnTo>
                      <a:lnTo>
                        <a:pt x="559" y="138"/>
                      </a:lnTo>
                      <a:lnTo>
                        <a:pt x="526" y="138"/>
                      </a:lnTo>
                      <a:lnTo>
                        <a:pt x="495" y="138"/>
                      </a:lnTo>
                      <a:lnTo>
                        <a:pt x="464" y="137"/>
                      </a:lnTo>
                      <a:lnTo>
                        <a:pt x="433" y="137"/>
                      </a:lnTo>
                      <a:lnTo>
                        <a:pt x="402" y="137"/>
                      </a:lnTo>
                      <a:lnTo>
                        <a:pt x="373" y="137"/>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765000" y="4086360"/>
                  <a:ext cx="513000" cy="95040"/>
                </a:xfrm>
                <a:custGeom>
                  <a:avLst/>
                  <a:gdLst/>
                  <a:ahLst/>
                  <a:rect l="l" t="t" r="r" b="b"/>
                  <a:pathLst>
                    <a:path w="647" h="119">
                      <a:moveTo>
                        <a:pt x="98" y="119"/>
                      </a:moveTo>
                      <a:lnTo>
                        <a:pt x="0" y="82"/>
                      </a:lnTo>
                      <a:lnTo>
                        <a:pt x="0" y="25"/>
                      </a:lnTo>
                      <a:lnTo>
                        <a:pt x="97" y="0"/>
                      </a:lnTo>
                      <a:lnTo>
                        <a:pt x="635" y="0"/>
                      </a:lnTo>
                      <a:lnTo>
                        <a:pt x="638" y="0"/>
                      </a:lnTo>
                      <a:lnTo>
                        <a:pt x="640" y="1"/>
                      </a:lnTo>
                      <a:lnTo>
                        <a:pt x="642" y="1"/>
                      </a:lnTo>
                      <a:lnTo>
                        <a:pt x="643" y="3"/>
                      </a:lnTo>
                      <a:lnTo>
                        <a:pt x="645" y="3"/>
                      </a:lnTo>
                      <a:lnTo>
                        <a:pt x="645" y="5"/>
                      </a:lnTo>
                      <a:lnTo>
                        <a:pt x="647" y="8"/>
                      </a:lnTo>
                      <a:lnTo>
                        <a:pt x="647" y="10"/>
                      </a:lnTo>
                      <a:lnTo>
                        <a:pt x="647" y="34"/>
                      </a:lnTo>
                      <a:lnTo>
                        <a:pt x="172" y="29"/>
                      </a:lnTo>
                      <a:lnTo>
                        <a:pt x="343" y="119"/>
                      </a:lnTo>
                      <a:lnTo>
                        <a:pt x="98" y="119"/>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2111400" y="4330800"/>
                  <a:ext cx="49320" cy="168120"/>
                </a:xfrm>
                <a:custGeom>
                  <a:avLst/>
                  <a:gdLst/>
                  <a:ahLst/>
                  <a:rect l="l" t="t" r="r" b="b"/>
                  <a:pathLst>
                    <a:path w="62" h="212">
                      <a:moveTo>
                        <a:pt x="62" y="200"/>
                      </a:moveTo>
                      <a:lnTo>
                        <a:pt x="61" y="203"/>
                      </a:lnTo>
                      <a:lnTo>
                        <a:pt x="57" y="208"/>
                      </a:lnTo>
                      <a:lnTo>
                        <a:pt x="52" y="210"/>
                      </a:lnTo>
                      <a:lnTo>
                        <a:pt x="43" y="212"/>
                      </a:lnTo>
                      <a:lnTo>
                        <a:pt x="19" y="212"/>
                      </a:lnTo>
                      <a:lnTo>
                        <a:pt x="14" y="212"/>
                      </a:lnTo>
                      <a:lnTo>
                        <a:pt x="9" y="210"/>
                      </a:lnTo>
                      <a:lnTo>
                        <a:pt x="5" y="207"/>
                      </a:lnTo>
                      <a:lnTo>
                        <a:pt x="2" y="205"/>
                      </a:lnTo>
                      <a:lnTo>
                        <a:pt x="2" y="203"/>
                      </a:lnTo>
                      <a:lnTo>
                        <a:pt x="2" y="202"/>
                      </a:lnTo>
                      <a:lnTo>
                        <a:pt x="0" y="202"/>
                      </a:lnTo>
                      <a:lnTo>
                        <a:pt x="0" y="200"/>
                      </a:lnTo>
                      <a:lnTo>
                        <a:pt x="0" y="12"/>
                      </a:lnTo>
                      <a:lnTo>
                        <a:pt x="0" y="10"/>
                      </a:lnTo>
                      <a:lnTo>
                        <a:pt x="2" y="8"/>
                      </a:lnTo>
                      <a:lnTo>
                        <a:pt x="2" y="8"/>
                      </a:lnTo>
                      <a:lnTo>
                        <a:pt x="2" y="7"/>
                      </a:lnTo>
                      <a:lnTo>
                        <a:pt x="5" y="5"/>
                      </a:lnTo>
                      <a:lnTo>
                        <a:pt x="9" y="1"/>
                      </a:lnTo>
                      <a:lnTo>
                        <a:pt x="14" y="0"/>
                      </a:lnTo>
                      <a:lnTo>
                        <a:pt x="19" y="0"/>
                      </a:lnTo>
                      <a:lnTo>
                        <a:pt x="43" y="0"/>
                      </a:lnTo>
                      <a:lnTo>
                        <a:pt x="49" y="0"/>
                      </a:lnTo>
                      <a:lnTo>
                        <a:pt x="54" y="1"/>
                      </a:lnTo>
                      <a:lnTo>
                        <a:pt x="57" y="5"/>
                      </a:lnTo>
                      <a:lnTo>
                        <a:pt x="61" y="7"/>
                      </a:lnTo>
                      <a:lnTo>
                        <a:pt x="62" y="8"/>
                      </a:lnTo>
                      <a:lnTo>
                        <a:pt x="62" y="8"/>
                      </a:lnTo>
                      <a:lnTo>
                        <a:pt x="62" y="10"/>
                      </a:lnTo>
                      <a:lnTo>
                        <a:pt x="62" y="12"/>
                      </a:lnTo>
                      <a:lnTo>
                        <a:pt x="62" y="20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138240" y="3835440"/>
                  <a:ext cx="2550960" cy="438120"/>
                </a:xfrm>
                <a:custGeom>
                  <a:avLst/>
                  <a:gdLst/>
                  <a:ahLst/>
                  <a:rect l="l" t="t" r="r" b="b"/>
                  <a:pathLst>
                    <a:path w="3215" h="554">
                      <a:moveTo>
                        <a:pt x="2992" y="547"/>
                      </a:moveTo>
                      <a:lnTo>
                        <a:pt x="2987" y="547"/>
                      </a:lnTo>
                      <a:lnTo>
                        <a:pt x="2973" y="547"/>
                      </a:lnTo>
                      <a:lnTo>
                        <a:pt x="2953" y="547"/>
                      </a:lnTo>
                      <a:lnTo>
                        <a:pt x="2927" y="547"/>
                      </a:lnTo>
                      <a:lnTo>
                        <a:pt x="2894" y="547"/>
                      </a:lnTo>
                      <a:lnTo>
                        <a:pt x="2858" y="549"/>
                      </a:lnTo>
                      <a:lnTo>
                        <a:pt x="2820" y="549"/>
                      </a:lnTo>
                      <a:lnTo>
                        <a:pt x="2780" y="549"/>
                      </a:lnTo>
                      <a:lnTo>
                        <a:pt x="2740" y="549"/>
                      </a:lnTo>
                      <a:lnTo>
                        <a:pt x="2703" y="549"/>
                      </a:lnTo>
                      <a:lnTo>
                        <a:pt x="2666" y="550"/>
                      </a:lnTo>
                      <a:lnTo>
                        <a:pt x="2634" y="550"/>
                      </a:lnTo>
                      <a:lnTo>
                        <a:pt x="2608" y="550"/>
                      </a:lnTo>
                      <a:lnTo>
                        <a:pt x="2587" y="550"/>
                      </a:lnTo>
                      <a:lnTo>
                        <a:pt x="2573" y="550"/>
                      </a:lnTo>
                      <a:lnTo>
                        <a:pt x="2568" y="550"/>
                      </a:lnTo>
                      <a:lnTo>
                        <a:pt x="2568" y="552"/>
                      </a:lnTo>
                      <a:lnTo>
                        <a:pt x="2568" y="552"/>
                      </a:lnTo>
                      <a:lnTo>
                        <a:pt x="2568" y="552"/>
                      </a:lnTo>
                      <a:lnTo>
                        <a:pt x="2568" y="549"/>
                      </a:lnTo>
                      <a:lnTo>
                        <a:pt x="2568" y="342"/>
                      </a:lnTo>
                      <a:lnTo>
                        <a:pt x="2565" y="326"/>
                      </a:lnTo>
                      <a:lnTo>
                        <a:pt x="2556" y="312"/>
                      </a:lnTo>
                      <a:lnTo>
                        <a:pt x="2542" y="304"/>
                      </a:lnTo>
                      <a:lnTo>
                        <a:pt x="2527" y="300"/>
                      </a:lnTo>
                      <a:lnTo>
                        <a:pt x="2489" y="300"/>
                      </a:lnTo>
                      <a:lnTo>
                        <a:pt x="2473" y="304"/>
                      </a:lnTo>
                      <a:lnTo>
                        <a:pt x="2459" y="312"/>
                      </a:lnTo>
                      <a:lnTo>
                        <a:pt x="2451" y="326"/>
                      </a:lnTo>
                      <a:lnTo>
                        <a:pt x="2447" y="342"/>
                      </a:lnTo>
                      <a:lnTo>
                        <a:pt x="2447" y="549"/>
                      </a:lnTo>
                      <a:lnTo>
                        <a:pt x="2446" y="550"/>
                      </a:lnTo>
                      <a:lnTo>
                        <a:pt x="2439" y="552"/>
                      </a:lnTo>
                      <a:lnTo>
                        <a:pt x="2428" y="554"/>
                      </a:lnTo>
                      <a:lnTo>
                        <a:pt x="2416" y="552"/>
                      </a:lnTo>
                      <a:lnTo>
                        <a:pt x="2402" y="552"/>
                      </a:lnTo>
                      <a:lnTo>
                        <a:pt x="2387" y="552"/>
                      </a:lnTo>
                      <a:lnTo>
                        <a:pt x="2373" y="550"/>
                      </a:lnTo>
                      <a:lnTo>
                        <a:pt x="2359" y="550"/>
                      </a:lnTo>
                      <a:lnTo>
                        <a:pt x="1747" y="402"/>
                      </a:lnTo>
                      <a:lnTo>
                        <a:pt x="1756" y="395"/>
                      </a:lnTo>
                      <a:lnTo>
                        <a:pt x="1764" y="385"/>
                      </a:lnTo>
                      <a:lnTo>
                        <a:pt x="1768" y="373"/>
                      </a:lnTo>
                      <a:lnTo>
                        <a:pt x="1770" y="361"/>
                      </a:lnTo>
                      <a:lnTo>
                        <a:pt x="1766" y="342"/>
                      </a:lnTo>
                      <a:lnTo>
                        <a:pt x="1756" y="324"/>
                      </a:lnTo>
                      <a:lnTo>
                        <a:pt x="1740" y="314"/>
                      </a:lnTo>
                      <a:lnTo>
                        <a:pt x="1721" y="311"/>
                      </a:lnTo>
                      <a:lnTo>
                        <a:pt x="1702" y="314"/>
                      </a:lnTo>
                      <a:lnTo>
                        <a:pt x="1687" y="324"/>
                      </a:lnTo>
                      <a:lnTo>
                        <a:pt x="1676" y="342"/>
                      </a:lnTo>
                      <a:lnTo>
                        <a:pt x="1673" y="361"/>
                      </a:lnTo>
                      <a:lnTo>
                        <a:pt x="1673" y="368"/>
                      </a:lnTo>
                      <a:lnTo>
                        <a:pt x="1675" y="373"/>
                      </a:lnTo>
                      <a:lnTo>
                        <a:pt x="1676" y="380"/>
                      </a:lnTo>
                      <a:lnTo>
                        <a:pt x="1680" y="385"/>
                      </a:lnTo>
                      <a:lnTo>
                        <a:pt x="1544" y="352"/>
                      </a:lnTo>
                      <a:lnTo>
                        <a:pt x="1497" y="352"/>
                      </a:lnTo>
                      <a:lnTo>
                        <a:pt x="1497" y="328"/>
                      </a:lnTo>
                      <a:lnTo>
                        <a:pt x="1495" y="314"/>
                      </a:lnTo>
                      <a:lnTo>
                        <a:pt x="1492" y="300"/>
                      </a:lnTo>
                      <a:lnTo>
                        <a:pt x="1485" y="288"/>
                      </a:lnTo>
                      <a:lnTo>
                        <a:pt x="1476" y="278"/>
                      </a:lnTo>
                      <a:lnTo>
                        <a:pt x="1471" y="273"/>
                      </a:lnTo>
                      <a:lnTo>
                        <a:pt x="1464" y="269"/>
                      </a:lnTo>
                      <a:lnTo>
                        <a:pt x="1459" y="266"/>
                      </a:lnTo>
                      <a:lnTo>
                        <a:pt x="1452" y="262"/>
                      </a:lnTo>
                      <a:lnTo>
                        <a:pt x="1445" y="261"/>
                      </a:lnTo>
                      <a:lnTo>
                        <a:pt x="1438" y="259"/>
                      </a:lnTo>
                      <a:lnTo>
                        <a:pt x="1432" y="257"/>
                      </a:lnTo>
                      <a:lnTo>
                        <a:pt x="1425" y="257"/>
                      </a:lnTo>
                      <a:lnTo>
                        <a:pt x="878" y="257"/>
                      </a:lnTo>
                      <a:lnTo>
                        <a:pt x="730" y="299"/>
                      </a:lnTo>
                      <a:lnTo>
                        <a:pt x="730" y="442"/>
                      </a:lnTo>
                      <a:lnTo>
                        <a:pt x="878" y="497"/>
                      </a:lnTo>
                      <a:lnTo>
                        <a:pt x="1245" y="497"/>
                      </a:lnTo>
                      <a:lnTo>
                        <a:pt x="1375" y="547"/>
                      </a:lnTo>
                      <a:lnTo>
                        <a:pt x="1347" y="547"/>
                      </a:lnTo>
                      <a:lnTo>
                        <a:pt x="1321" y="547"/>
                      </a:lnTo>
                      <a:lnTo>
                        <a:pt x="1295" y="545"/>
                      </a:lnTo>
                      <a:lnTo>
                        <a:pt x="1268" y="545"/>
                      </a:lnTo>
                      <a:lnTo>
                        <a:pt x="1242" y="545"/>
                      </a:lnTo>
                      <a:lnTo>
                        <a:pt x="1218" y="544"/>
                      </a:lnTo>
                      <a:lnTo>
                        <a:pt x="1192" y="544"/>
                      </a:lnTo>
                      <a:lnTo>
                        <a:pt x="1168" y="544"/>
                      </a:lnTo>
                      <a:lnTo>
                        <a:pt x="1144" y="542"/>
                      </a:lnTo>
                      <a:lnTo>
                        <a:pt x="1121" y="542"/>
                      </a:lnTo>
                      <a:lnTo>
                        <a:pt x="1100" y="542"/>
                      </a:lnTo>
                      <a:lnTo>
                        <a:pt x="1078" y="540"/>
                      </a:lnTo>
                      <a:lnTo>
                        <a:pt x="1059" y="540"/>
                      </a:lnTo>
                      <a:lnTo>
                        <a:pt x="1040" y="538"/>
                      </a:lnTo>
                      <a:lnTo>
                        <a:pt x="1023" y="538"/>
                      </a:lnTo>
                      <a:lnTo>
                        <a:pt x="1007" y="537"/>
                      </a:lnTo>
                      <a:lnTo>
                        <a:pt x="921" y="530"/>
                      </a:lnTo>
                      <a:lnTo>
                        <a:pt x="845" y="521"/>
                      </a:lnTo>
                      <a:lnTo>
                        <a:pt x="778" y="511"/>
                      </a:lnTo>
                      <a:lnTo>
                        <a:pt x="719" y="499"/>
                      </a:lnTo>
                      <a:lnTo>
                        <a:pt x="671" y="485"/>
                      </a:lnTo>
                      <a:lnTo>
                        <a:pt x="628" y="471"/>
                      </a:lnTo>
                      <a:lnTo>
                        <a:pt x="593" y="457"/>
                      </a:lnTo>
                      <a:lnTo>
                        <a:pt x="566" y="442"/>
                      </a:lnTo>
                      <a:lnTo>
                        <a:pt x="542" y="428"/>
                      </a:lnTo>
                      <a:lnTo>
                        <a:pt x="524" y="414"/>
                      </a:lnTo>
                      <a:lnTo>
                        <a:pt x="511" y="402"/>
                      </a:lnTo>
                      <a:lnTo>
                        <a:pt x="502" y="392"/>
                      </a:lnTo>
                      <a:lnTo>
                        <a:pt x="495" y="383"/>
                      </a:lnTo>
                      <a:lnTo>
                        <a:pt x="492" y="376"/>
                      </a:lnTo>
                      <a:lnTo>
                        <a:pt x="490" y="371"/>
                      </a:lnTo>
                      <a:lnTo>
                        <a:pt x="490" y="369"/>
                      </a:lnTo>
                      <a:lnTo>
                        <a:pt x="490" y="361"/>
                      </a:lnTo>
                      <a:lnTo>
                        <a:pt x="490" y="361"/>
                      </a:lnTo>
                      <a:lnTo>
                        <a:pt x="488" y="359"/>
                      </a:lnTo>
                      <a:lnTo>
                        <a:pt x="487" y="357"/>
                      </a:lnTo>
                      <a:lnTo>
                        <a:pt x="487" y="357"/>
                      </a:lnTo>
                      <a:lnTo>
                        <a:pt x="345" y="114"/>
                      </a:lnTo>
                      <a:lnTo>
                        <a:pt x="497" y="133"/>
                      </a:lnTo>
                      <a:lnTo>
                        <a:pt x="435" y="60"/>
                      </a:lnTo>
                      <a:lnTo>
                        <a:pt x="217" y="36"/>
                      </a:lnTo>
                      <a:lnTo>
                        <a:pt x="217" y="36"/>
                      </a:lnTo>
                      <a:lnTo>
                        <a:pt x="14" y="10"/>
                      </a:lnTo>
                      <a:lnTo>
                        <a:pt x="0" y="0"/>
                      </a:lnTo>
                      <a:lnTo>
                        <a:pt x="438" y="0"/>
                      </a:lnTo>
                      <a:lnTo>
                        <a:pt x="897" y="212"/>
                      </a:lnTo>
                      <a:lnTo>
                        <a:pt x="2601" y="212"/>
                      </a:lnTo>
                      <a:lnTo>
                        <a:pt x="2628" y="216"/>
                      </a:lnTo>
                      <a:lnTo>
                        <a:pt x="2656" y="221"/>
                      </a:lnTo>
                      <a:lnTo>
                        <a:pt x="2684" y="230"/>
                      </a:lnTo>
                      <a:lnTo>
                        <a:pt x="2711" y="238"/>
                      </a:lnTo>
                      <a:lnTo>
                        <a:pt x="2739" y="249"/>
                      </a:lnTo>
                      <a:lnTo>
                        <a:pt x="2766" y="259"/>
                      </a:lnTo>
                      <a:lnTo>
                        <a:pt x="2792" y="271"/>
                      </a:lnTo>
                      <a:lnTo>
                        <a:pt x="2818" y="283"/>
                      </a:lnTo>
                      <a:lnTo>
                        <a:pt x="2627" y="288"/>
                      </a:lnTo>
                      <a:lnTo>
                        <a:pt x="2696" y="357"/>
                      </a:lnTo>
                      <a:lnTo>
                        <a:pt x="2947" y="354"/>
                      </a:lnTo>
                      <a:lnTo>
                        <a:pt x="2960" y="357"/>
                      </a:lnTo>
                      <a:lnTo>
                        <a:pt x="2984" y="366"/>
                      </a:lnTo>
                      <a:lnTo>
                        <a:pt x="3016" y="376"/>
                      </a:lnTo>
                      <a:lnTo>
                        <a:pt x="3054" y="392"/>
                      </a:lnTo>
                      <a:lnTo>
                        <a:pt x="3096" y="409"/>
                      </a:lnTo>
                      <a:lnTo>
                        <a:pt x="3135" y="426"/>
                      </a:lnTo>
                      <a:lnTo>
                        <a:pt x="3173" y="445"/>
                      </a:lnTo>
                      <a:lnTo>
                        <a:pt x="3203" y="464"/>
                      </a:lnTo>
                      <a:lnTo>
                        <a:pt x="3208" y="468"/>
                      </a:lnTo>
                      <a:lnTo>
                        <a:pt x="3211" y="471"/>
                      </a:lnTo>
                      <a:lnTo>
                        <a:pt x="3215" y="476"/>
                      </a:lnTo>
                      <a:lnTo>
                        <a:pt x="3215" y="481"/>
                      </a:lnTo>
                      <a:lnTo>
                        <a:pt x="3208" y="490"/>
                      </a:lnTo>
                      <a:lnTo>
                        <a:pt x="3196" y="500"/>
                      </a:lnTo>
                      <a:lnTo>
                        <a:pt x="3175" y="512"/>
                      </a:lnTo>
                      <a:lnTo>
                        <a:pt x="3151" y="523"/>
                      </a:lnTo>
                      <a:lnTo>
                        <a:pt x="3118" y="531"/>
                      </a:lnTo>
                      <a:lnTo>
                        <a:pt x="3082" y="540"/>
                      </a:lnTo>
                      <a:lnTo>
                        <a:pt x="3039" y="545"/>
                      </a:lnTo>
                      <a:lnTo>
                        <a:pt x="2992" y="547"/>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1913040" y="4081320"/>
                  <a:ext cx="77760" cy="77760"/>
                </a:xfrm>
                <a:custGeom>
                  <a:avLst/>
                  <a:gdLst/>
                  <a:ahLst/>
                  <a:rect l="l" t="t" r="r" b="b"/>
                  <a:pathLst>
                    <a:path w="98" h="98">
                      <a:moveTo>
                        <a:pt x="50" y="0"/>
                      </a:moveTo>
                      <a:lnTo>
                        <a:pt x="31" y="3"/>
                      </a:lnTo>
                      <a:lnTo>
                        <a:pt x="16" y="13"/>
                      </a:lnTo>
                      <a:lnTo>
                        <a:pt x="4" y="31"/>
                      </a:lnTo>
                      <a:lnTo>
                        <a:pt x="0" y="50"/>
                      </a:lnTo>
                      <a:lnTo>
                        <a:pt x="4" y="69"/>
                      </a:lnTo>
                      <a:lnTo>
                        <a:pt x="16" y="84"/>
                      </a:lnTo>
                      <a:lnTo>
                        <a:pt x="31" y="95"/>
                      </a:lnTo>
                      <a:lnTo>
                        <a:pt x="50" y="98"/>
                      </a:lnTo>
                      <a:lnTo>
                        <a:pt x="69" y="95"/>
                      </a:lnTo>
                      <a:lnTo>
                        <a:pt x="85" y="84"/>
                      </a:lnTo>
                      <a:lnTo>
                        <a:pt x="95" y="69"/>
                      </a:lnTo>
                      <a:lnTo>
                        <a:pt x="98" y="50"/>
                      </a:lnTo>
                      <a:lnTo>
                        <a:pt x="95" y="31"/>
                      </a:lnTo>
                      <a:lnTo>
                        <a:pt x="85" y="13"/>
                      </a:lnTo>
                      <a:lnTo>
                        <a:pt x="69" y="3"/>
                      </a:lnTo>
                      <a:lnTo>
                        <a:pt x="50" y="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77" name=""/>
                <p:cNvSpPr/>
                <p:nvPr/>
              </p:nvSpPr>
              <p:spPr>
                <a:xfrm>
                  <a:off x="1771560" y="4081320"/>
                  <a:ext cx="77760" cy="77760"/>
                </a:xfrm>
                <a:custGeom>
                  <a:avLst/>
                  <a:gdLst/>
                  <a:ahLst/>
                  <a:rect l="l" t="t" r="r" b="b"/>
                  <a:pathLst>
                    <a:path w="98" h="98">
                      <a:moveTo>
                        <a:pt x="48" y="0"/>
                      </a:moveTo>
                      <a:lnTo>
                        <a:pt x="29" y="3"/>
                      </a:lnTo>
                      <a:lnTo>
                        <a:pt x="13" y="13"/>
                      </a:lnTo>
                      <a:lnTo>
                        <a:pt x="3" y="31"/>
                      </a:lnTo>
                      <a:lnTo>
                        <a:pt x="0" y="50"/>
                      </a:lnTo>
                      <a:lnTo>
                        <a:pt x="3" y="69"/>
                      </a:lnTo>
                      <a:lnTo>
                        <a:pt x="13" y="84"/>
                      </a:lnTo>
                      <a:lnTo>
                        <a:pt x="29" y="95"/>
                      </a:lnTo>
                      <a:lnTo>
                        <a:pt x="48" y="98"/>
                      </a:lnTo>
                      <a:lnTo>
                        <a:pt x="67" y="95"/>
                      </a:lnTo>
                      <a:lnTo>
                        <a:pt x="84" y="84"/>
                      </a:lnTo>
                      <a:lnTo>
                        <a:pt x="94" y="69"/>
                      </a:lnTo>
                      <a:lnTo>
                        <a:pt x="98" y="50"/>
                      </a:lnTo>
                      <a:lnTo>
                        <a:pt x="94" y="31"/>
                      </a:lnTo>
                      <a:lnTo>
                        <a:pt x="84" y="13"/>
                      </a:lnTo>
                      <a:lnTo>
                        <a:pt x="67" y="3"/>
                      </a:lnTo>
                      <a:lnTo>
                        <a:pt x="48" y="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578" name=""/>
                <p:cNvSpPr/>
                <p:nvPr/>
              </p:nvSpPr>
              <p:spPr>
                <a:xfrm>
                  <a:off x="1625760" y="4081320"/>
                  <a:ext cx="77760" cy="77760"/>
                </a:xfrm>
                <a:custGeom>
                  <a:avLst/>
                  <a:gdLst/>
                  <a:ahLst/>
                  <a:rect l="l" t="t" r="r" b="b"/>
                  <a:pathLst>
                    <a:path w="96" h="98">
                      <a:moveTo>
                        <a:pt x="48" y="0"/>
                      </a:moveTo>
                      <a:lnTo>
                        <a:pt x="29" y="3"/>
                      </a:lnTo>
                      <a:lnTo>
                        <a:pt x="14" y="13"/>
                      </a:lnTo>
                      <a:lnTo>
                        <a:pt x="3" y="31"/>
                      </a:lnTo>
                      <a:lnTo>
                        <a:pt x="0" y="50"/>
                      </a:lnTo>
                      <a:lnTo>
                        <a:pt x="3" y="69"/>
                      </a:lnTo>
                      <a:lnTo>
                        <a:pt x="14" y="84"/>
                      </a:lnTo>
                      <a:lnTo>
                        <a:pt x="29" y="95"/>
                      </a:lnTo>
                      <a:lnTo>
                        <a:pt x="48" y="98"/>
                      </a:lnTo>
                      <a:lnTo>
                        <a:pt x="67" y="95"/>
                      </a:lnTo>
                      <a:lnTo>
                        <a:pt x="83" y="84"/>
                      </a:lnTo>
                      <a:lnTo>
                        <a:pt x="93" y="69"/>
                      </a:lnTo>
                      <a:lnTo>
                        <a:pt x="96" y="50"/>
                      </a:lnTo>
                      <a:lnTo>
                        <a:pt x="93" y="31"/>
                      </a:lnTo>
                      <a:lnTo>
                        <a:pt x="83" y="13"/>
                      </a:lnTo>
                      <a:lnTo>
                        <a:pt x="67" y="3"/>
                      </a:lnTo>
                      <a:lnTo>
                        <a:pt x="48" y="0"/>
                      </a:lnTo>
                      <a:close/>
                    </a:path>
                  </a:pathLst>
                </a:custGeom>
                <a:gradFill rotWithShape="0">
                  <a:gsLst>
                    <a:gs pos="0">
                      <a:srgbClr val="333399"/>
                    </a:gs>
                    <a:gs pos="100000">
                      <a:srgbClr val="0f0f2e"/>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grpSp>
          <p:grpSp>
            <p:nvGrpSpPr>
              <p:cNvPr id="579" name=""/>
              <p:cNvGrpSpPr/>
              <p:nvPr/>
            </p:nvGrpSpPr>
            <p:grpSpPr>
              <a:xfrm>
                <a:off x="6699240" y="3578400"/>
                <a:ext cx="2444760" cy="1699920"/>
                <a:chOff x="6699240" y="3578400"/>
                <a:chExt cx="2444760" cy="1699920"/>
              </a:xfrm>
            </p:grpSpPr>
            <p:sp>
              <p:nvSpPr>
                <p:cNvPr id="580" name=""/>
                <p:cNvSpPr/>
                <p:nvPr/>
              </p:nvSpPr>
              <p:spPr>
                <a:xfrm>
                  <a:off x="6699240" y="3578400"/>
                  <a:ext cx="2444760" cy="1699920"/>
                </a:xfrm>
                <a:custGeom>
                  <a:avLst/>
                  <a:gdLst/>
                  <a:ahLst/>
                  <a:rect l="l" t="t" r="r" b="b"/>
                  <a:pathLst>
                    <a:path w="2283" h="1587">
                      <a:moveTo>
                        <a:pt x="893" y="386"/>
                      </a:moveTo>
                      <a:lnTo>
                        <a:pt x="906" y="394"/>
                      </a:lnTo>
                      <a:lnTo>
                        <a:pt x="919" y="401"/>
                      </a:lnTo>
                      <a:lnTo>
                        <a:pt x="933" y="407"/>
                      </a:lnTo>
                      <a:lnTo>
                        <a:pt x="948" y="412"/>
                      </a:lnTo>
                      <a:lnTo>
                        <a:pt x="962" y="417"/>
                      </a:lnTo>
                      <a:lnTo>
                        <a:pt x="977" y="420"/>
                      </a:lnTo>
                      <a:lnTo>
                        <a:pt x="991" y="425"/>
                      </a:lnTo>
                      <a:lnTo>
                        <a:pt x="1005" y="427"/>
                      </a:lnTo>
                      <a:lnTo>
                        <a:pt x="1020" y="430"/>
                      </a:lnTo>
                      <a:lnTo>
                        <a:pt x="1035" y="432"/>
                      </a:lnTo>
                      <a:lnTo>
                        <a:pt x="1050" y="434"/>
                      </a:lnTo>
                      <a:lnTo>
                        <a:pt x="1065" y="435"/>
                      </a:lnTo>
                      <a:lnTo>
                        <a:pt x="1080" y="437"/>
                      </a:lnTo>
                      <a:lnTo>
                        <a:pt x="1095" y="438"/>
                      </a:lnTo>
                      <a:lnTo>
                        <a:pt x="1109" y="438"/>
                      </a:lnTo>
                      <a:lnTo>
                        <a:pt x="1124" y="439"/>
                      </a:lnTo>
                      <a:lnTo>
                        <a:pt x="1167" y="437"/>
                      </a:lnTo>
                      <a:lnTo>
                        <a:pt x="1207" y="431"/>
                      </a:lnTo>
                      <a:lnTo>
                        <a:pt x="1246" y="424"/>
                      </a:lnTo>
                      <a:lnTo>
                        <a:pt x="1284" y="416"/>
                      </a:lnTo>
                      <a:lnTo>
                        <a:pt x="1321" y="407"/>
                      </a:lnTo>
                      <a:lnTo>
                        <a:pt x="1358" y="397"/>
                      </a:lnTo>
                      <a:lnTo>
                        <a:pt x="1394" y="388"/>
                      </a:lnTo>
                      <a:lnTo>
                        <a:pt x="1429" y="379"/>
                      </a:lnTo>
                      <a:lnTo>
                        <a:pt x="1464" y="372"/>
                      </a:lnTo>
                      <a:lnTo>
                        <a:pt x="1500" y="366"/>
                      </a:lnTo>
                      <a:lnTo>
                        <a:pt x="1534" y="363"/>
                      </a:lnTo>
                      <a:lnTo>
                        <a:pt x="1570" y="362"/>
                      </a:lnTo>
                      <a:lnTo>
                        <a:pt x="1607" y="365"/>
                      </a:lnTo>
                      <a:lnTo>
                        <a:pt x="1644" y="371"/>
                      </a:lnTo>
                      <a:lnTo>
                        <a:pt x="1682" y="381"/>
                      </a:lnTo>
                      <a:lnTo>
                        <a:pt x="1721" y="397"/>
                      </a:lnTo>
                      <a:lnTo>
                        <a:pt x="1772" y="395"/>
                      </a:lnTo>
                      <a:lnTo>
                        <a:pt x="1816" y="395"/>
                      </a:lnTo>
                      <a:lnTo>
                        <a:pt x="1856" y="397"/>
                      </a:lnTo>
                      <a:lnTo>
                        <a:pt x="1891" y="402"/>
                      </a:lnTo>
                      <a:lnTo>
                        <a:pt x="1921" y="409"/>
                      </a:lnTo>
                      <a:lnTo>
                        <a:pt x="1949" y="418"/>
                      </a:lnTo>
                      <a:lnTo>
                        <a:pt x="1972" y="430"/>
                      </a:lnTo>
                      <a:lnTo>
                        <a:pt x="1994" y="445"/>
                      </a:lnTo>
                      <a:lnTo>
                        <a:pt x="2012" y="461"/>
                      </a:lnTo>
                      <a:lnTo>
                        <a:pt x="2030" y="480"/>
                      </a:lnTo>
                      <a:lnTo>
                        <a:pt x="2046" y="501"/>
                      </a:lnTo>
                      <a:lnTo>
                        <a:pt x="2061" y="525"/>
                      </a:lnTo>
                      <a:lnTo>
                        <a:pt x="2076" y="552"/>
                      </a:lnTo>
                      <a:lnTo>
                        <a:pt x="2091" y="581"/>
                      </a:lnTo>
                      <a:lnTo>
                        <a:pt x="2106" y="612"/>
                      </a:lnTo>
                      <a:lnTo>
                        <a:pt x="2123" y="645"/>
                      </a:lnTo>
                      <a:lnTo>
                        <a:pt x="2144" y="668"/>
                      </a:lnTo>
                      <a:lnTo>
                        <a:pt x="2163" y="693"/>
                      </a:lnTo>
                      <a:lnTo>
                        <a:pt x="2184" y="719"/>
                      </a:lnTo>
                      <a:lnTo>
                        <a:pt x="2205" y="744"/>
                      </a:lnTo>
                      <a:lnTo>
                        <a:pt x="2224" y="771"/>
                      </a:lnTo>
                      <a:lnTo>
                        <a:pt x="2244" y="796"/>
                      </a:lnTo>
                      <a:lnTo>
                        <a:pt x="2263" y="821"/>
                      </a:lnTo>
                      <a:lnTo>
                        <a:pt x="2283" y="847"/>
                      </a:lnTo>
                      <a:lnTo>
                        <a:pt x="2282" y="851"/>
                      </a:lnTo>
                      <a:lnTo>
                        <a:pt x="2280" y="855"/>
                      </a:lnTo>
                      <a:lnTo>
                        <a:pt x="2278" y="858"/>
                      </a:lnTo>
                      <a:lnTo>
                        <a:pt x="2278" y="861"/>
                      </a:lnTo>
                      <a:lnTo>
                        <a:pt x="2265" y="861"/>
                      </a:lnTo>
                      <a:lnTo>
                        <a:pt x="2252" y="859"/>
                      </a:lnTo>
                      <a:lnTo>
                        <a:pt x="2238" y="856"/>
                      </a:lnTo>
                      <a:lnTo>
                        <a:pt x="2224" y="850"/>
                      </a:lnTo>
                      <a:lnTo>
                        <a:pt x="2209" y="843"/>
                      </a:lnTo>
                      <a:lnTo>
                        <a:pt x="2195" y="835"/>
                      </a:lnTo>
                      <a:lnTo>
                        <a:pt x="2180" y="826"/>
                      </a:lnTo>
                      <a:lnTo>
                        <a:pt x="2166" y="814"/>
                      </a:lnTo>
                      <a:lnTo>
                        <a:pt x="2154" y="813"/>
                      </a:lnTo>
                      <a:lnTo>
                        <a:pt x="2142" y="812"/>
                      </a:lnTo>
                      <a:lnTo>
                        <a:pt x="2131" y="812"/>
                      </a:lnTo>
                      <a:lnTo>
                        <a:pt x="2119" y="813"/>
                      </a:lnTo>
                      <a:lnTo>
                        <a:pt x="2107" y="813"/>
                      </a:lnTo>
                      <a:lnTo>
                        <a:pt x="2095" y="814"/>
                      </a:lnTo>
                      <a:lnTo>
                        <a:pt x="2083" y="816"/>
                      </a:lnTo>
                      <a:lnTo>
                        <a:pt x="2071" y="816"/>
                      </a:lnTo>
                      <a:lnTo>
                        <a:pt x="2063" y="795"/>
                      </a:lnTo>
                      <a:lnTo>
                        <a:pt x="2054" y="772"/>
                      </a:lnTo>
                      <a:lnTo>
                        <a:pt x="2042" y="748"/>
                      </a:lnTo>
                      <a:lnTo>
                        <a:pt x="2028" y="722"/>
                      </a:lnTo>
                      <a:lnTo>
                        <a:pt x="2015" y="696"/>
                      </a:lnTo>
                      <a:lnTo>
                        <a:pt x="2000" y="669"/>
                      </a:lnTo>
                      <a:lnTo>
                        <a:pt x="1982" y="644"/>
                      </a:lnTo>
                      <a:lnTo>
                        <a:pt x="1965" y="617"/>
                      </a:lnTo>
                      <a:lnTo>
                        <a:pt x="1947" y="593"/>
                      </a:lnTo>
                      <a:lnTo>
                        <a:pt x="1927" y="570"/>
                      </a:lnTo>
                      <a:lnTo>
                        <a:pt x="1906" y="548"/>
                      </a:lnTo>
                      <a:lnTo>
                        <a:pt x="1887" y="530"/>
                      </a:lnTo>
                      <a:lnTo>
                        <a:pt x="1866" y="514"/>
                      </a:lnTo>
                      <a:lnTo>
                        <a:pt x="1844" y="501"/>
                      </a:lnTo>
                      <a:lnTo>
                        <a:pt x="1823" y="492"/>
                      </a:lnTo>
                      <a:lnTo>
                        <a:pt x="1801" y="487"/>
                      </a:lnTo>
                      <a:lnTo>
                        <a:pt x="1816" y="546"/>
                      </a:lnTo>
                      <a:lnTo>
                        <a:pt x="1822" y="602"/>
                      </a:lnTo>
                      <a:lnTo>
                        <a:pt x="1822" y="658"/>
                      </a:lnTo>
                      <a:lnTo>
                        <a:pt x="1815" y="711"/>
                      </a:lnTo>
                      <a:lnTo>
                        <a:pt x="1805" y="765"/>
                      </a:lnTo>
                      <a:lnTo>
                        <a:pt x="1790" y="819"/>
                      </a:lnTo>
                      <a:lnTo>
                        <a:pt x="1774" y="875"/>
                      </a:lnTo>
                      <a:lnTo>
                        <a:pt x="1755" y="934"/>
                      </a:lnTo>
                      <a:lnTo>
                        <a:pt x="1766" y="961"/>
                      </a:lnTo>
                      <a:lnTo>
                        <a:pt x="1784" y="990"/>
                      </a:lnTo>
                      <a:lnTo>
                        <a:pt x="1806" y="1019"/>
                      </a:lnTo>
                      <a:lnTo>
                        <a:pt x="1830" y="1051"/>
                      </a:lnTo>
                      <a:lnTo>
                        <a:pt x="1853" y="1082"/>
                      </a:lnTo>
                      <a:lnTo>
                        <a:pt x="1874" y="1113"/>
                      </a:lnTo>
                      <a:lnTo>
                        <a:pt x="1888" y="1143"/>
                      </a:lnTo>
                      <a:lnTo>
                        <a:pt x="1892" y="1172"/>
                      </a:lnTo>
                      <a:lnTo>
                        <a:pt x="1878" y="1205"/>
                      </a:lnTo>
                      <a:lnTo>
                        <a:pt x="1865" y="1235"/>
                      </a:lnTo>
                      <a:lnTo>
                        <a:pt x="1853" y="1263"/>
                      </a:lnTo>
                      <a:lnTo>
                        <a:pt x="1845" y="1290"/>
                      </a:lnTo>
                      <a:lnTo>
                        <a:pt x="1838" y="1318"/>
                      </a:lnTo>
                      <a:lnTo>
                        <a:pt x="1836" y="1348"/>
                      </a:lnTo>
                      <a:lnTo>
                        <a:pt x="1837" y="1381"/>
                      </a:lnTo>
                      <a:lnTo>
                        <a:pt x="1842" y="1419"/>
                      </a:lnTo>
                      <a:lnTo>
                        <a:pt x="1842" y="1440"/>
                      </a:lnTo>
                      <a:lnTo>
                        <a:pt x="1837" y="1458"/>
                      </a:lnTo>
                      <a:lnTo>
                        <a:pt x="1830" y="1476"/>
                      </a:lnTo>
                      <a:lnTo>
                        <a:pt x="1821" y="1492"/>
                      </a:lnTo>
                      <a:lnTo>
                        <a:pt x="1813" y="1508"/>
                      </a:lnTo>
                      <a:lnTo>
                        <a:pt x="1806" y="1524"/>
                      </a:lnTo>
                      <a:lnTo>
                        <a:pt x="1803" y="1539"/>
                      </a:lnTo>
                      <a:lnTo>
                        <a:pt x="1804" y="1555"/>
                      </a:lnTo>
                      <a:lnTo>
                        <a:pt x="1791" y="1566"/>
                      </a:lnTo>
                      <a:lnTo>
                        <a:pt x="1777" y="1572"/>
                      </a:lnTo>
                      <a:lnTo>
                        <a:pt x="1761" y="1579"/>
                      </a:lnTo>
                      <a:lnTo>
                        <a:pt x="1745" y="1584"/>
                      </a:lnTo>
                      <a:lnTo>
                        <a:pt x="1727" y="1586"/>
                      </a:lnTo>
                      <a:lnTo>
                        <a:pt x="1709" y="1587"/>
                      </a:lnTo>
                      <a:lnTo>
                        <a:pt x="1693" y="1587"/>
                      </a:lnTo>
                      <a:lnTo>
                        <a:pt x="1678" y="1585"/>
                      </a:lnTo>
                      <a:lnTo>
                        <a:pt x="1694" y="1560"/>
                      </a:lnTo>
                      <a:lnTo>
                        <a:pt x="1708" y="1531"/>
                      </a:lnTo>
                      <a:lnTo>
                        <a:pt x="1722" y="1498"/>
                      </a:lnTo>
                      <a:lnTo>
                        <a:pt x="1732" y="1462"/>
                      </a:lnTo>
                      <a:lnTo>
                        <a:pt x="1742" y="1424"/>
                      </a:lnTo>
                      <a:lnTo>
                        <a:pt x="1748" y="1383"/>
                      </a:lnTo>
                      <a:lnTo>
                        <a:pt x="1753" y="1343"/>
                      </a:lnTo>
                      <a:lnTo>
                        <a:pt x="1754" y="1302"/>
                      </a:lnTo>
                      <a:lnTo>
                        <a:pt x="1752" y="1260"/>
                      </a:lnTo>
                      <a:lnTo>
                        <a:pt x="1746" y="1220"/>
                      </a:lnTo>
                      <a:lnTo>
                        <a:pt x="1736" y="1181"/>
                      </a:lnTo>
                      <a:lnTo>
                        <a:pt x="1722" y="1144"/>
                      </a:lnTo>
                      <a:lnTo>
                        <a:pt x="1704" y="1110"/>
                      </a:lnTo>
                      <a:lnTo>
                        <a:pt x="1679" y="1079"/>
                      </a:lnTo>
                      <a:lnTo>
                        <a:pt x="1652" y="1053"/>
                      </a:lnTo>
                      <a:lnTo>
                        <a:pt x="1617" y="1031"/>
                      </a:lnTo>
                      <a:lnTo>
                        <a:pt x="1616" y="1019"/>
                      </a:lnTo>
                      <a:lnTo>
                        <a:pt x="1613" y="1009"/>
                      </a:lnTo>
                      <a:lnTo>
                        <a:pt x="1607" y="999"/>
                      </a:lnTo>
                      <a:lnTo>
                        <a:pt x="1600" y="990"/>
                      </a:lnTo>
                      <a:lnTo>
                        <a:pt x="1593" y="981"/>
                      </a:lnTo>
                      <a:lnTo>
                        <a:pt x="1584" y="972"/>
                      </a:lnTo>
                      <a:lnTo>
                        <a:pt x="1576" y="964"/>
                      </a:lnTo>
                      <a:lnTo>
                        <a:pt x="1568" y="956"/>
                      </a:lnTo>
                      <a:lnTo>
                        <a:pt x="1568" y="996"/>
                      </a:lnTo>
                      <a:lnTo>
                        <a:pt x="1571" y="1031"/>
                      </a:lnTo>
                      <a:lnTo>
                        <a:pt x="1576" y="1066"/>
                      </a:lnTo>
                      <a:lnTo>
                        <a:pt x="1584" y="1105"/>
                      </a:lnTo>
                      <a:lnTo>
                        <a:pt x="1564" y="1146"/>
                      </a:lnTo>
                      <a:lnTo>
                        <a:pt x="1546" y="1185"/>
                      </a:lnTo>
                      <a:lnTo>
                        <a:pt x="1528" y="1225"/>
                      </a:lnTo>
                      <a:lnTo>
                        <a:pt x="1512" y="1263"/>
                      </a:lnTo>
                      <a:lnTo>
                        <a:pt x="1497" y="1302"/>
                      </a:lnTo>
                      <a:lnTo>
                        <a:pt x="1485" y="1342"/>
                      </a:lnTo>
                      <a:lnTo>
                        <a:pt x="1473" y="1385"/>
                      </a:lnTo>
                      <a:lnTo>
                        <a:pt x="1465" y="1430"/>
                      </a:lnTo>
                      <a:lnTo>
                        <a:pt x="1449" y="1441"/>
                      </a:lnTo>
                      <a:lnTo>
                        <a:pt x="1434" y="1448"/>
                      </a:lnTo>
                      <a:lnTo>
                        <a:pt x="1420" y="1455"/>
                      </a:lnTo>
                      <a:lnTo>
                        <a:pt x="1408" y="1461"/>
                      </a:lnTo>
                      <a:lnTo>
                        <a:pt x="1395" y="1470"/>
                      </a:lnTo>
                      <a:lnTo>
                        <a:pt x="1384" y="1481"/>
                      </a:lnTo>
                      <a:lnTo>
                        <a:pt x="1374" y="1500"/>
                      </a:lnTo>
                      <a:lnTo>
                        <a:pt x="1365" y="1524"/>
                      </a:lnTo>
                      <a:lnTo>
                        <a:pt x="1348" y="1524"/>
                      </a:lnTo>
                      <a:lnTo>
                        <a:pt x="1333" y="1524"/>
                      </a:lnTo>
                      <a:lnTo>
                        <a:pt x="1320" y="1524"/>
                      </a:lnTo>
                      <a:lnTo>
                        <a:pt x="1308" y="1522"/>
                      </a:lnTo>
                      <a:lnTo>
                        <a:pt x="1297" y="1519"/>
                      </a:lnTo>
                      <a:lnTo>
                        <a:pt x="1284" y="1516"/>
                      </a:lnTo>
                      <a:lnTo>
                        <a:pt x="1272" y="1510"/>
                      </a:lnTo>
                      <a:lnTo>
                        <a:pt x="1257" y="1502"/>
                      </a:lnTo>
                      <a:lnTo>
                        <a:pt x="1289" y="1469"/>
                      </a:lnTo>
                      <a:lnTo>
                        <a:pt x="1317" y="1436"/>
                      </a:lnTo>
                      <a:lnTo>
                        <a:pt x="1343" y="1403"/>
                      </a:lnTo>
                      <a:lnTo>
                        <a:pt x="1365" y="1371"/>
                      </a:lnTo>
                      <a:lnTo>
                        <a:pt x="1384" y="1339"/>
                      </a:lnTo>
                      <a:lnTo>
                        <a:pt x="1402" y="1305"/>
                      </a:lnTo>
                      <a:lnTo>
                        <a:pt x="1414" y="1272"/>
                      </a:lnTo>
                      <a:lnTo>
                        <a:pt x="1425" y="1237"/>
                      </a:lnTo>
                      <a:lnTo>
                        <a:pt x="1433" y="1203"/>
                      </a:lnTo>
                      <a:lnTo>
                        <a:pt x="1436" y="1167"/>
                      </a:lnTo>
                      <a:lnTo>
                        <a:pt x="1437" y="1130"/>
                      </a:lnTo>
                      <a:lnTo>
                        <a:pt x="1435" y="1092"/>
                      </a:lnTo>
                      <a:lnTo>
                        <a:pt x="1431" y="1052"/>
                      </a:lnTo>
                      <a:lnTo>
                        <a:pt x="1422" y="1010"/>
                      </a:lnTo>
                      <a:lnTo>
                        <a:pt x="1411" y="966"/>
                      </a:lnTo>
                      <a:lnTo>
                        <a:pt x="1396" y="922"/>
                      </a:lnTo>
                      <a:lnTo>
                        <a:pt x="1395" y="899"/>
                      </a:lnTo>
                      <a:lnTo>
                        <a:pt x="1394" y="879"/>
                      </a:lnTo>
                      <a:lnTo>
                        <a:pt x="1388" y="862"/>
                      </a:lnTo>
                      <a:lnTo>
                        <a:pt x="1378" y="844"/>
                      </a:lnTo>
                      <a:lnTo>
                        <a:pt x="1382" y="842"/>
                      </a:lnTo>
                      <a:lnTo>
                        <a:pt x="1387" y="839"/>
                      </a:lnTo>
                      <a:lnTo>
                        <a:pt x="1391" y="835"/>
                      </a:lnTo>
                      <a:lnTo>
                        <a:pt x="1396" y="832"/>
                      </a:lnTo>
                      <a:lnTo>
                        <a:pt x="1396" y="831"/>
                      </a:lnTo>
                      <a:lnTo>
                        <a:pt x="1396" y="829"/>
                      </a:lnTo>
                      <a:lnTo>
                        <a:pt x="1396" y="827"/>
                      </a:lnTo>
                      <a:lnTo>
                        <a:pt x="1396" y="826"/>
                      </a:lnTo>
                      <a:lnTo>
                        <a:pt x="1373" y="835"/>
                      </a:lnTo>
                      <a:lnTo>
                        <a:pt x="1351" y="843"/>
                      </a:lnTo>
                      <a:lnTo>
                        <a:pt x="1328" y="852"/>
                      </a:lnTo>
                      <a:lnTo>
                        <a:pt x="1306" y="862"/>
                      </a:lnTo>
                      <a:lnTo>
                        <a:pt x="1284" y="871"/>
                      </a:lnTo>
                      <a:lnTo>
                        <a:pt x="1261" y="880"/>
                      </a:lnTo>
                      <a:lnTo>
                        <a:pt x="1239" y="888"/>
                      </a:lnTo>
                      <a:lnTo>
                        <a:pt x="1216" y="897"/>
                      </a:lnTo>
                      <a:lnTo>
                        <a:pt x="1190" y="896"/>
                      </a:lnTo>
                      <a:lnTo>
                        <a:pt x="1164" y="896"/>
                      </a:lnTo>
                      <a:lnTo>
                        <a:pt x="1138" y="895"/>
                      </a:lnTo>
                      <a:lnTo>
                        <a:pt x="1111" y="894"/>
                      </a:lnTo>
                      <a:lnTo>
                        <a:pt x="1085" y="894"/>
                      </a:lnTo>
                      <a:lnTo>
                        <a:pt x="1058" y="894"/>
                      </a:lnTo>
                      <a:lnTo>
                        <a:pt x="1032" y="893"/>
                      </a:lnTo>
                      <a:lnTo>
                        <a:pt x="1005" y="893"/>
                      </a:lnTo>
                      <a:lnTo>
                        <a:pt x="978" y="893"/>
                      </a:lnTo>
                      <a:lnTo>
                        <a:pt x="951" y="894"/>
                      </a:lnTo>
                      <a:lnTo>
                        <a:pt x="925" y="894"/>
                      </a:lnTo>
                      <a:lnTo>
                        <a:pt x="898" y="895"/>
                      </a:lnTo>
                      <a:lnTo>
                        <a:pt x="872" y="896"/>
                      </a:lnTo>
                      <a:lnTo>
                        <a:pt x="845" y="897"/>
                      </a:lnTo>
                      <a:lnTo>
                        <a:pt x="820" y="899"/>
                      </a:lnTo>
                      <a:lnTo>
                        <a:pt x="794" y="901"/>
                      </a:lnTo>
                      <a:lnTo>
                        <a:pt x="789" y="947"/>
                      </a:lnTo>
                      <a:lnTo>
                        <a:pt x="789" y="1002"/>
                      </a:lnTo>
                      <a:lnTo>
                        <a:pt x="794" y="1063"/>
                      </a:lnTo>
                      <a:lnTo>
                        <a:pt x="803" y="1127"/>
                      </a:lnTo>
                      <a:lnTo>
                        <a:pt x="813" y="1190"/>
                      </a:lnTo>
                      <a:lnTo>
                        <a:pt x="828" y="1249"/>
                      </a:lnTo>
                      <a:lnTo>
                        <a:pt x="844" y="1302"/>
                      </a:lnTo>
                      <a:lnTo>
                        <a:pt x="863" y="1344"/>
                      </a:lnTo>
                      <a:lnTo>
                        <a:pt x="860" y="1352"/>
                      </a:lnTo>
                      <a:lnTo>
                        <a:pt x="856" y="1365"/>
                      </a:lnTo>
                      <a:lnTo>
                        <a:pt x="850" y="1381"/>
                      </a:lnTo>
                      <a:lnTo>
                        <a:pt x="845" y="1400"/>
                      </a:lnTo>
                      <a:lnTo>
                        <a:pt x="841" y="1424"/>
                      </a:lnTo>
                      <a:lnTo>
                        <a:pt x="837" y="1450"/>
                      </a:lnTo>
                      <a:lnTo>
                        <a:pt x="837" y="1480"/>
                      </a:lnTo>
                      <a:lnTo>
                        <a:pt x="841" y="1515"/>
                      </a:lnTo>
                      <a:lnTo>
                        <a:pt x="828" y="1510"/>
                      </a:lnTo>
                      <a:lnTo>
                        <a:pt x="814" y="1508"/>
                      </a:lnTo>
                      <a:lnTo>
                        <a:pt x="799" y="1507"/>
                      </a:lnTo>
                      <a:lnTo>
                        <a:pt x="784" y="1507"/>
                      </a:lnTo>
                      <a:lnTo>
                        <a:pt x="769" y="1506"/>
                      </a:lnTo>
                      <a:lnTo>
                        <a:pt x="752" y="1503"/>
                      </a:lnTo>
                      <a:lnTo>
                        <a:pt x="735" y="1498"/>
                      </a:lnTo>
                      <a:lnTo>
                        <a:pt x="716" y="1488"/>
                      </a:lnTo>
                      <a:lnTo>
                        <a:pt x="720" y="1473"/>
                      </a:lnTo>
                      <a:lnTo>
                        <a:pt x="724" y="1460"/>
                      </a:lnTo>
                      <a:lnTo>
                        <a:pt x="730" y="1447"/>
                      </a:lnTo>
                      <a:lnTo>
                        <a:pt x="737" y="1435"/>
                      </a:lnTo>
                      <a:lnTo>
                        <a:pt x="744" y="1424"/>
                      </a:lnTo>
                      <a:lnTo>
                        <a:pt x="753" y="1412"/>
                      </a:lnTo>
                      <a:lnTo>
                        <a:pt x="761" y="1400"/>
                      </a:lnTo>
                      <a:lnTo>
                        <a:pt x="769" y="1387"/>
                      </a:lnTo>
                      <a:lnTo>
                        <a:pt x="768" y="1345"/>
                      </a:lnTo>
                      <a:lnTo>
                        <a:pt x="764" y="1305"/>
                      </a:lnTo>
                      <a:lnTo>
                        <a:pt x="757" y="1265"/>
                      </a:lnTo>
                      <a:lnTo>
                        <a:pt x="747" y="1225"/>
                      </a:lnTo>
                      <a:lnTo>
                        <a:pt x="738" y="1184"/>
                      </a:lnTo>
                      <a:lnTo>
                        <a:pt x="727" y="1144"/>
                      </a:lnTo>
                      <a:lnTo>
                        <a:pt x="716" y="1102"/>
                      </a:lnTo>
                      <a:lnTo>
                        <a:pt x="706" y="1062"/>
                      </a:lnTo>
                      <a:lnTo>
                        <a:pt x="704" y="1104"/>
                      </a:lnTo>
                      <a:lnTo>
                        <a:pt x="705" y="1145"/>
                      </a:lnTo>
                      <a:lnTo>
                        <a:pt x="707" y="1187"/>
                      </a:lnTo>
                      <a:lnTo>
                        <a:pt x="713" y="1228"/>
                      </a:lnTo>
                      <a:lnTo>
                        <a:pt x="720" y="1269"/>
                      </a:lnTo>
                      <a:lnTo>
                        <a:pt x="727" y="1312"/>
                      </a:lnTo>
                      <a:lnTo>
                        <a:pt x="734" y="1354"/>
                      </a:lnTo>
                      <a:lnTo>
                        <a:pt x="741" y="1395"/>
                      </a:lnTo>
                      <a:lnTo>
                        <a:pt x="735" y="1411"/>
                      </a:lnTo>
                      <a:lnTo>
                        <a:pt x="727" y="1424"/>
                      </a:lnTo>
                      <a:lnTo>
                        <a:pt x="719" y="1434"/>
                      </a:lnTo>
                      <a:lnTo>
                        <a:pt x="711" y="1443"/>
                      </a:lnTo>
                      <a:lnTo>
                        <a:pt x="701" y="1454"/>
                      </a:lnTo>
                      <a:lnTo>
                        <a:pt x="694" y="1466"/>
                      </a:lnTo>
                      <a:lnTo>
                        <a:pt x="689" y="1484"/>
                      </a:lnTo>
                      <a:lnTo>
                        <a:pt x="684" y="1507"/>
                      </a:lnTo>
                      <a:lnTo>
                        <a:pt x="662" y="1516"/>
                      </a:lnTo>
                      <a:lnTo>
                        <a:pt x="643" y="1522"/>
                      </a:lnTo>
                      <a:lnTo>
                        <a:pt x="623" y="1526"/>
                      </a:lnTo>
                      <a:lnTo>
                        <a:pt x="603" y="1529"/>
                      </a:lnTo>
                      <a:lnTo>
                        <a:pt x="584" y="1530"/>
                      </a:lnTo>
                      <a:lnTo>
                        <a:pt x="565" y="1531"/>
                      </a:lnTo>
                      <a:lnTo>
                        <a:pt x="546" y="1533"/>
                      </a:lnTo>
                      <a:lnTo>
                        <a:pt x="525" y="1537"/>
                      </a:lnTo>
                      <a:lnTo>
                        <a:pt x="538" y="1518"/>
                      </a:lnTo>
                      <a:lnTo>
                        <a:pt x="550" y="1499"/>
                      </a:lnTo>
                      <a:lnTo>
                        <a:pt x="563" y="1480"/>
                      </a:lnTo>
                      <a:lnTo>
                        <a:pt x="577" y="1462"/>
                      </a:lnTo>
                      <a:lnTo>
                        <a:pt x="590" y="1443"/>
                      </a:lnTo>
                      <a:lnTo>
                        <a:pt x="603" y="1425"/>
                      </a:lnTo>
                      <a:lnTo>
                        <a:pt x="617" y="1407"/>
                      </a:lnTo>
                      <a:lnTo>
                        <a:pt x="631" y="1388"/>
                      </a:lnTo>
                      <a:lnTo>
                        <a:pt x="633" y="1324"/>
                      </a:lnTo>
                      <a:lnTo>
                        <a:pt x="631" y="1260"/>
                      </a:lnTo>
                      <a:lnTo>
                        <a:pt x="626" y="1196"/>
                      </a:lnTo>
                      <a:lnTo>
                        <a:pt x="621" y="1131"/>
                      </a:lnTo>
                      <a:lnTo>
                        <a:pt x="612" y="1068"/>
                      </a:lnTo>
                      <a:lnTo>
                        <a:pt x="603" y="1003"/>
                      </a:lnTo>
                      <a:lnTo>
                        <a:pt x="594" y="939"/>
                      </a:lnTo>
                      <a:lnTo>
                        <a:pt x="585" y="874"/>
                      </a:lnTo>
                      <a:lnTo>
                        <a:pt x="569" y="855"/>
                      </a:lnTo>
                      <a:lnTo>
                        <a:pt x="554" y="837"/>
                      </a:lnTo>
                      <a:lnTo>
                        <a:pt x="540" y="821"/>
                      </a:lnTo>
                      <a:lnTo>
                        <a:pt x="527" y="805"/>
                      </a:lnTo>
                      <a:lnTo>
                        <a:pt x="516" y="788"/>
                      </a:lnTo>
                      <a:lnTo>
                        <a:pt x="504" y="771"/>
                      </a:lnTo>
                      <a:lnTo>
                        <a:pt x="495" y="751"/>
                      </a:lnTo>
                      <a:lnTo>
                        <a:pt x="487" y="729"/>
                      </a:lnTo>
                      <a:lnTo>
                        <a:pt x="480" y="704"/>
                      </a:lnTo>
                      <a:lnTo>
                        <a:pt x="484" y="661"/>
                      </a:lnTo>
                      <a:lnTo>
                        <a:pt x="487" y="615"/>
                      </a:lnTo>
                      <a:lnTo>
                        <a:pt x="482" y="576"/>
                      </a:lnTo>
                      <a:lnTo>
                        <a:pt x="468" y="541"/>
                      </a:lnTo>
                      <a:lnTo>
                        <a:pt x="454" y="503"/>
                      </a:lnTo>
                      <a:lnTo>
                        <a:pt x="438" y="465"/>
                      </a:lnTo>
                      <a:lnTo>
                        <a:pt x="421" y="427"/>
                      </a:lnTo>
                      <a:lnTo>
                        <a:pt x="403" y="391"/>
                      </a:lnTo>
                      <a:lnTo>
                        <a:pt x="381" y="356"/>
                      </a:lnTo>
                      <a:lnTo>
                        <a:pt x="357" y="326"/>
                      </a:lnTo>
                      <a:lnTo>
                        <a:pt x="327" y="302"/>
                      </a:lnTo>
                      <a:lnTo>
                        <a:pt x="312" y="309"/>
                      </a:lnTo>
                      <a:lnTo>
                        <a:pt x="298" y="317"/>
                      </a:lnTo>
                      <a:lnTo>
                        <a:pt x="283" y="325"/>
                      </a:lnTo>
                      <a:lnTo>
                        <a:pt x="268" y="332"/>
                      </a:lnTo>
                      <a:lnTo>
                        <a:pt x="253" y="341"/>
                      </a:lnTo>
                      <a:lnTo>
                        <a:pt x="239" y="349"/>
                      </a:lnTo>
                      <a:lnTo>
                        <a:pt x="226" y="358"/>
                      </a:lnTo>
                      <a:lnTo>
                        <a:pt x="212" y="367"/>
                      </a:lnTo>
                      <a:lnTo>
                        <a:pt x="198" y="377"/>
                      </a:lnTo>
                      <a:lnTo>
                        <a:pt x="184" y="387"/>
                      </a:lnTo>
                      <a:lnTo>
                        <a:pt x="173" y="397"/>
                      </a:lnTo>
                      <a:lnTo>
                        <a:pt x="160" y="409"/>
                      </a:lnTo>
                      <a:lnTo>
                        <a:pt x="148" y="420"/>
                      </a:lnTo>
                      <a:lnTo>
                        <a:pt x="138" y="433"/>
                      </a:lnTo>
                      <a:lnTo>
                        <a:pt x="129" y="447"/>
                      </a:lnTo>
                      <a:lnTo>
                        <a:pt x="120" y="461"/>
                      </a:lnTo>
                      <a:lnTo>
                        <a:pt x="114" y="462"/>
                      </a:lnTo>
                      <a:lnTo>
                        <a:pt x="108" y="463"/>
                      </a:lnTo>
                      <a:lnTo>
                        <a:pt x="102" y="464"/>
                      </a:lnTo>
                      <a:lnTo>
                        <a:pt x="98" y="464"/>
                      </a:lnTo>
                      <a:lnTo>
                        <a:pt x="94" y="469"/>
                      </a:lnTo>
                      <a:lnTo>
                        <a:pt x="92" y="472"/>
                      </a:lnTo>
                      <a:lnTo>
                        <a:pt x="89" y="477"/>
                      </a:lnTo>
                      <a:lnTo>
                        <a:pt x="85" y="482"/>
                      </a:lnTo>
                      <a:lnTo>
                        <a:pt x="78" y="482"/>
                      </a:lnTo>
                      <a:lnTo>
                        <a:pt x="72" y="479"/>
                      </a:lnTo>
                      <a:lnTo>
                        <a:pt x="67" y="478"/>
                      </a:lnTo>
                      <a:lnTo>
                        <a:pt x="62" y="475"/>
                      </a:lnTo>
                      <a:lnTo>
                        <a:pt x="56" y="472"/>
                      </a:lnTo>
                      <a:lnTo>
                        <a:pt x="52" y="469"/>
                      </a:lnTo>
                      <a:lnTo>
                        <a:pt x="46" y="464"/>
                      </a:lnTo>
                      <a:lnTo>
                        <a:pt x="40" y="461"/>
                      </a:lnTo>
                      <a:lnTo>
                        <a:pt x="10" y="435"/>
                      </a:lnTo>
                      <a:lnTo>
                        <a:pt x="0" y="404"/>
                      </a:lnTo>
                      <a:lnTo>
                        <a:pt x="4" y="369"/>
                      </a:lnTo>
                      <a:lnTo>
                        <a:pt x="19" y="331"/>
                      </a:lnTo>
                      <a:lnTo>
                        <a:pt x="41" y="293"/>
                      </a:lnTo>
                      <a:lnTo>
                        <a:pt x="67" y="256"/>
                      </a:lnTo>
                      <a:lnTo>
                        <a:pt x="91" y="221"/>
                      </a:lnTo>
                      <a:lnTo>
                        <a:pt x="109" y="192"/>
                      </a:lnTo>
                      <a:lnTo>
                        <a:pt x="109" y="191"/>
                      </a:lnTo>
                      <a:lnTo>
                        <a:pt x="108" y="189"/>
                      </a:lnTo>
                      <a:lnTo>
                        <a:pt x="107" y="185"/>
                      </a:lnTo>
                      <a:lnTo>
                        <a:pt x="107" y="182"/>
                      </a:lnTo>
                      <a:lnTo>
                        <a:pt x="99" y="185"/>
                      </a:lnTo>
                      <a:lnTo>
                        <a:pt x="92" y="188"/>
                      </a:lnTo>
                      <a:lnTo>
                        <a:pt x="84" y="189"/>
                      </a:lnTo>
                      <a:lnTo>
                        <a:pt x="76" y="190"/>
                      </a:lnTo>
                      <a:lnTo>
                        <a:pt x="68" y="191"/>
                      </a:lnTo>
                      <a:lnTo>
                        <a:pt x="60" y="191"/>
                      </a:lnTo>
                      <a:lnTo>
                        <a:pt x="53" y="191"/>
                      </a:lnTo>
                      <a:lnTo>
                        <a:pt x="45" y="191"/>
                      </a:lnTo>
                      <a:lnTo>
                        <a:pt x="55" y="181"/>
                      </a:lnTo>
                      <a:lnTo>
                        <a:pt x="65" y="170"/>
                      </a:lnTo>
                      <a:lnTo>
                        <a:pt x="77" y="159"/>
                      </a:lnTo>
                      <a:lnTo>
                        <a:pt x="87" y="147"/>
                      </a:lnTo>
                      <a:lnTo>
                        <a:pt x="98" y="136"/>
                      </a:lnTo>
                      <a:lnTo>
                        <a:pt x="108" y="123"/>
                      </a:lnTo>
                      <a:lnTo>
                        <a:pt x="117" y="111"/>
                      </a:lnTo>
                      <a:lnTo>
                        <a:pt x="125" y="97"/>
                      </a:lnTo>
                      <a:lnTo>
                        <a:pt x="121" y="85"/>
                      </a:lnTo>
                      <a:lnTo>
                        <a:pt x="117" y="74"/>
                      </a:lnTo>
                      <a:lnTo>
                        <a:pt x="113" y="63"/>
                      </a:lnTo>
                      <a:lnTo>
                        <a:pt x="108" y="52"/>
                      </a:lnTo>
                      <a:lnTo>
                        <a:pt x="105" y="40"/>
                      </a:lnTo>
                      <a:lnTo>
                        <a:pt x="100" y="29"/>
                      </a:lnTo>
                      <a:lnTo>
                        <a:pt x="95" y="17"/>
                      </a:lnTo>
                      <a:lnTo>
                        <a:pt x="91" y="6"/>
                      </a:lnTo>
                      <a:lnTo>
                        <a:pt x="101" y="12"/>
                      </a:lnTo>
                      <a:lnTo>
                        <a:pt x="110" y="16"/>
                      </a:lnTo>
                      <a:lnTo>
                        <a:pt x="120" y="22"/>
                      </a:lnTo>
                      <a:lnTo>
                        <a:pt x="130" y="28"/>
                      </a:lnTo>
                      <a:lnTo>
                        <a:pt x="139" y="35"/>
                      </a:lnTo>
                      <a:lnTo>
                        <a:pt x="148" y="40"/>
                      </a:lnTo>
                      <a:lnTo>
                        <a:pt x="158" y="45"/>
                      </a:lnTo>
                      <a:lnTo>
                        <a:pt x="168" y="51"/>
                      </a:lnTo>
                      <a:lnTo>
                        <a:pt x="163" y="37"/>
                      </a:lnTo>
                      <a:lnTo>
                        <a:pt x="161" y="25"/>
                      </a:lnTo>
                      <a:lnTo>
                        <a:pt x="159" y="14"/>
                      </a:lnTo>
                      <a:lnTo>
                        <a:pt x="160" y="0"/>
                      </a:lnTo>
                      <a:lnTo>
                        <a:pt x="170" y="6"/>
                      </a:lnTo>
                      <a:lnTo>
                        <a:pt x="180" y="13"/>
                      </a:lnTo>
                      <a:lnTo>
                        <a:pt x="189" y="20"/>
                      </a:lnTo>
                      <a:lnTo>
                        <a:pt x="197" y="26"/>
                      </a:lnTo>
                      <a:lnTo>
                        <a:pt x="205" y="36"/>
                      </a:lnTo>
                      <a:lnTo>
                        <a:pt x="212" y="44"/>
                      </a:lnTo>
                      <a:lnTo>
                        <a:pt x="220" y="52"/>
                      </a:lnTo>
                      <a:lnTo>
                        <a:pt x="227" y="61"/>
                      </a:lnTo>
                      <a:lnTo>
                        <a:pt x="238" y="59"/>
                      </a:lnTo>
                      <a:lnTo>
                        <a:pt x="250" y="56"/>
                      </a:lnTo>
                      <a:lnTo>
                        <a:pt x="261" y="53"/>
                      </a:lnTo>
                      <a:lnTo>
                        <a:pt x="273" y="51"/>
                      </a:lnTo>
                      <a:lnTo>
                        <a:pt x="284" y="48"/>
                      </a:lnTo>
                      <a:lnTo>
                        <a:pt x="296" y="45"/>
                      </a:lnTo>
                      <a:lnTo>
                        <a:pt x="307" y="41"/>
                      </a:lnTo>
                      <a:lnTo>
                        <a:pt x="319" y="38"/>
                      </a:lnTo>
                      <a:lnTo>
                        <a:pt x="318" y="43"/>
                      </a:lnTo>
                      <a:lnTo>
                        <a:pt x="317" y="46"/>
                      </a:lnTo>
                      <a:lnTo>
                        <a:pt x="315" y="50"/>
                      </a:lnTo>
                      <a:lnTo>
                        <a:pt x="314" y="53"/>
                      </a:lnTo>
                      <a:lnTo>
                        <a:pt x="328" y="53"/>
                      </a:lnTo>
                      <a:lnTo>
                        <a:pt x="350" y="52"/>
                      </a:lnTo>
                      <a:lnTo>
                        <a:pt x="377" y="52"/>
                      </a:lnTo>
                      <a:lnTo>
                        <a:pt x="405" y="53"/>
                      </a:lnTo>
                      <a:lnTo>
                        <a:pt x="433" y="54"/>
                      </a:lnTo>
                      <a:lnTo>
                        <a:pt x="457" y="58"/>
                      </a:lnTo>
                      <a:lnTo>
                        <a:pt x="473" y="62"/>
                      </a:lnTo>
                      <a:lnTo>
                        <a:pt x="478" y="70"/>
                      </a:lnTo>
                      <a:lnTo>
                        <a:pt x="493" y="66"/>
                      </a:lnTo>
                      <a:lnTo>
                        <a:pt x="511" y="67"/>
                      </a:lnTo>
                      <a:lnTo>
                        <a:pt x="530" y="70"/>
                      </a:lnTo>
                      <a:lnTo>
                        <a:pt x="547" y="77"/>
                      </a:lnTo>
                      <a:lnTo>
                        <a:pt x="561" y="85"/>
                      </a:lnTo>
                      <a:lnTo>
                        <a:pt x="569" y="94"/>
                      </a:lnTo>
                      <a:lnTo>
                        <a:pt x="570" y="103"/>
                      </a:lnTo>
                      <a:lnTo>
                        <a:pt x="562" y="109"/>
                      </a:lnTo>
                      <a:lnTo>
                        <a:pt x="570" y="113"/>
                      </a:lnTo>
                      <a:lnTo>
                        <a:pt x="577" y="115"/>
                      </a:lnTo>
                      <a:lnTo>
                        <a:pt x="585" y="119"/>
                      </a:lnTo>
                      <a:lnTo>
                        <a:pt x="593" y="121"/>
                      </a:lnTo>
                      <a:lnTo>
                        <a:pt x="601" y="124"/>
                      </a:lnTo>
                      <a:lnTo>
                        <a:pt x="609" y="127"/>
                      </a:lnTo>
                      <a:lnTo>
                        <a:pt x="617" y="129"/>
                      </a:lnTo>
                      <a:lnTo>
                        <a:pt x="625" y="131"/>
                      </a:lnTo>
                      <a:lnTo>
                        <a:pt x="624" y="135"/>
                      </a:lnTo>
                      <a:lnTo>
                        <a:pt x="623" y="138"/>
                      </a:lnTo>
                      <a:lnTo>
                        <a:pt x="622" y="143"/>
                      </a:lnTo>
                      <a:lnTo>
                        <a:pt x="621" y="146"/>
                      </a:lnTo>
                      <a:lnTo>
                        <a:pt x="641" y="158"/>
                      </a:lnTo>
                      <a:lnTo>
                        <a:pt x="660" y="172"/>
                      </a:lnTo>
                      <a:lnTo>
                        <a:pt x="679" y="185"/>
                      </a:lnTo>
                      <a:lnTo>
                        <a:pt x="698" y="202"/>
                      </a:lnTo>
                      <a:lnTo>
                        <a:pt x="715" y="217"/>
                      </a:lnTo>
                      <a:lnTo>
                        <a:pt x="732" y="230"/>
                      </a:lnTo>
                      <a:lnTo>
                        <a:pt x="750" y="243"/>
                      </a:lnTo>
                      <a:lnTo>
                        <a:pt x="767" y="253"/>
                      </a:lnTo>
                      <a:lnTo>
                        <a:pt x="767" y="255"/>
                      </a:lnTo>
                      <a:lnTo>
                        <a:pt x="767" y="257"/>
                      </a:lnTo>
                      <a:lnTo>
                        <a:pt x="767" y="258"/>
                      </a:lnTo>
                      <a:lnTo>
                        <a:pt x="767" y="259"/>
                      </a:lnTo>
                      <a:lnTo>
                        <a:pt x="773" y="271"/>
                      </a:lnTo>
                      <a:lnTo>
                        <a:pt x="777" y="283"/>
                      </a:lnTo>
                      <a:lnTo>
                        <a:pt x="780" y="293"/>
                      </a:lnTo>
                      <a:lnTo>
                        <a:pt x="781" y="296"/>
                      </a:lnTo>
                      <a:lnTo>
                        <a:pt x="795" y="303"/>
                      </a:lnTo>
                      <a:lnTo>
                        <a:pt x="812" y="312"/>
                      </a:lnTo>
                      <a:lnTo>
                        <a:pt x="830" y="325"/>
                      </a:lnTo>
                      <a:lnTo>
                        <a:pt x="849" y="338"/>
                      </a:lnTo>
                      <a:lnTo>
                        <a:pt x="866" y="351"/>
                      </a:lnTo>
                      <a:lnTo>
                        <a:pt x="880" y="364"/>
                      </a:lnTo>
                      <a:lnTo>
                        <a:pt x="890" y="377"/>
                      </a:lnTo>
                      <a:lnTo>
                        <a:pt x="893" y="38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8567640" y="4014720"/>
                  <a:ext cx="538200" cy="465120"/>
                </a:xfrm>
                <a:custGeom>
                  <a:avLst/>
                  <a:gdLst/>
                  <a:ahLst/>
                  <a:rect l="l" t="t" r="r" b="b"/>
                  <a:pathLst>
                    <a:path w="501" h="433">
                      <a:moveTo>
                        <a:pt x="501" y="427"/>
                      </a:moveTo>
                      <a:lnTo>
                        <a:pt x="501" y="428"/>
                      </a:lnTo>
                      <a:lnTo>
                        <a:pt x="501" y="431"/>
                      </a:lnTo>
                      <a:lnTo>
                        <a:pt x="501" y="432"/>
                      </a:lnTo>
                      <a:lnTo>
                        <a:pt x="501" y="433"/>
                      </a:lnTo>
                      <a:lnTo>
                        <a:pt x="490" y="426"/>
                      </a:lnTo>
                      <a:lnTo>
                        <a:pt x="478" y="419"/>
                      </a:lnTo>
                      <a:lnTo>
                        <a:pt x="467" y="412"/>
                      </a:lnTo>
                      <a:lnTo>
                        <a:pt x="455" y="407"/>
                      </a:lnTo>
                      <a:lnTo>
                        <a:pt x="442" y="400"/>
                      </a:lnTo>
                      <a:lnTo>
                        <a:pt x="431" y="393"/>
                      </a:lnTo>
                      <a:lnTo>
                        <a:pt x="419" y="387"/>
                      </a:lnTo>
                      <a:lnTo>
                        <a:pt x="408" y="380"/>
                      </a:lnTo>
                      <a:lnTo>
                        <a:pt x="387" y="381"/>
                      </a:lnTo>
                      <a:lnTo>
                        <a:pt x="366" y="374"/>
                      </a:lnTo>
                      <a:lnTo>
                        <a:pt x="346" y="359"/>
                      </a:lnTo>
                      <a:lnTo>
                        <a:pt x="324" y="339"/>
                      </a:lnTo>
                      <a:lnTo>
                        <a:pt x="303" y="313"/>
                      </a:lnTo>
                      <a:lnTo>
                        <a:pt x="281" y="284"/>
                      </a:lnTo>
                      <a:lnTo>
                        <a:pt x="260" y="252"/>
                      </a:lnTo>
                      <a:lnTo>
                        <a:pt x="240" y="220"/>
                      </a:lnTo>
                      <a:lnTo>
                        <a:pt x="219" y="188"/>
                      </a:lnTo>
                      <a:lnTo>
                        <a:pt x="198" y="155"/>
                      </a:lnTo>
                      <a:lnTo>
                        <a:pt x="179" y="127"/>
                      </a:lnTo>
                      <a:lnTo>
                        <a:pt x="159" y="101"/>
                      </a:lnTo>
                      <a:lnTo>
                        <a:pt x="141" y="82"/>
                      </a:lnTo>
                      <a:lnTo>
                        <a:pt x="122" y="67"/>
                      </a:lnTo>
                      <a:lnTo>
                        <a:pt x="105" y="60"/>
                      </a:lnTo>
                      <a:lnTo>
                        <a:pt x="89" y="62"/>
                      </a:lnTo>
                      <a:lnTo>
                        <a:pt x="67" y="59"/>
                      </a:lnTo>
                      <a:lnTo>
                        <a:pt x="47" y="56"/>
                      </a:lnTo>
                      <a:lnTo>
                        <a:pt x="32" y="54"/>
                      </a:lnTo>
                      <a:lnTo>
                        <a:pt x="21" y="51"/>
                      </a:lnTo>
                      <a:lnTo>
                        <a:pt x="12" y="45"/>
                      </a:lnTo>
                      <a:lnTo>
                        <a:pt x="6" y="36"/>
                      </a:lnTo>
                      <a:lnTo>
                        <a:pt x="1" y="22"/>
                      </a:lnTo>
                      <a:lnTo>
                        <a:pt x="0" y="1"/>
                      </a:lnTo>
                      <a:lnTo>
                        <a:pt x="46" y="0"/>
                      </a:lnTo>
                      <a:lnTo>
                        <a:pt x="88" y="2"/>
                      </a:lnTo>
                      <a:lnTo>
                        <a:pt x="126" y="7"/>
                      </a:lnTo>
                      <a:lnTo>
                        <a:pt x="159" y="14"/>
                      </a:lnTo>
                      <a:lnTo>
                        <a:pt x="188" y="23"/>
                      </a:lnTo>
                      <a:lnTo>
                        <a:pt x="214" y="36"/>
                      </a:lnTo>
                      <a:lnTo>
                        <a:pt x="238" y="49"/>
                      </a:lnTo>
                      <a:lnTo>
                        <a:pt x="259" y="67"/>
                      </a:lnTo>
                      <a:lnTo>
                        <a:pt x="279" y="86"/>
                      </a:lnTo>
                      <a:lnTo>
                        <a:pt x="296" y="108"/>
                      </a:lnTo>
                      <a:lnTo>
                        <a:pt x="313" y="131"/>
                      </a:lnTo>
                      <a:lnTo>
                        <a:pt x="328" y="158"/>
                      </a:lnTo>
                      <a:lnTo>
                        <a:pt x="344" y="187"/>
                      </a:lnTo>
                      <a:lnTo>
                        <a:pt x="361" y="218"/>
                      </a:lnTo>
                      <a:lnTo>
                        <a:pt x="377" y="250"/>
                      </a:lnTo>
                      <a:lnTo>
                        <a:pt x="394" y="286"/>
                      </a:lnTo>
                      <a:lnTo>
                        <a:pt x="406" y="298"/>
                      </a:lnTo>
                      <a:lnTo>
                        <a:pt x="421" y="314"/>
                      </a:lnTo>
                      <a:lnTo>
                        <a:pt x="439" y="334"/>
                      </a:lnTo>
                      <a:lnTo>
                        <a:pt x="456" y="355"/>
                      </a:lnTo>
                      <a:lnTo>
                        <a:pt x="473" y="375"/>
                      </a:lnTo>
                      <a:lnTo>
                        <a:pt x="487" y="395"/>
                      </a:lnTo>
                      <a:lnTo>
                        <a:pt x="498" y="413"/>
                      </a:lnTo>
                      <a:lnTo>
                        <a:pt x="501" y="4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7115040" y="3672000"/>
                  <a:ext cx="1003320" cy="839520"/>
                </a:xfrm>
                <a:custGeom>
                  <a:avLst/>
                  <a:gdLst/>
                  <a:ahLst/>
                  <a:rect l="l" t="t" r="r" b="b"/>
                  <a:pathLst>
                    <a:path w="939" h="783">
                      <a:moveTo>
                        <a:pt x="257" y="134"/>
                      </a:moveTo>
                      <a:lnTo>
                        <a:pt x="244" y="128"/>
                      </a:lnTo>
                      <a:lnTo>
                        <a:pt x="231" y="120"/>
                      </a:lnTo>
                      <a:lnTo>
                        <a:pt x="219" y="113"/>
                      </a:lnTo>
                      <a:lnTo>
                        <a:pt x="206" y="105"/>
                      </a:lnTo>
                      <a:lnTo>
                        <a:pt x="193" y="96"/>
                      </a:lnTo>
                      <a:lnTo>
                        <a:pt x="182" y="88"/>
                      </a:lnTo>
                      <a:lnTo>
                        <a:pt x="169" y="81"/>
                      </a:lnTo>
                      <a:lnTo>
                        <a:pt x="157" y="73"/>
                      </a:lnTo>
                      <a:lnTo>
                        <a:pt x="136" y="53"/>
                      </a:lnTo>
                      <a:lnTo>
                        <a:pt x="115" y="37"/>
                      </a:lnTo>
                      <a:lnTo>
                        <a:pt x="95" y="24"/>
                      </a:lnTo>
                      <a:lnTo>
                        <a:pt x="76" y="14"/>
                      </a:lnTo>
                      <a:lnTo>
                        <a:pt x="56" y="8"/>
                      </a:lnTo>
                      <a:lnTo>
                        <a:pt x="38" y="3"/>
                      </a:lnTo>
                      <a:lnTo>
                        <a:pt x="18" y="1"/>
                      </a:lnTo>
                      <a:lnTo>
                        <a:pt x="0" y="0"/>
                      </a:lnTo>
                      <a:lnTo>
                        <a:pt x="819" y="783"/>
                      </a:lnTo>
                      <a:lnTo>
                        <a:pt x="828" y="783"/>
                      </a:lnTo>
                      <a:lnTo>
                        <a:pt x="837" y="783"/>
                      </a:lnTo>
                      <a:lnTo>
                        <a:pt x="847" y="781"/>
                      </a:lnTo>
                      <a:lnTo>
                        <a:pt x="857" y="778"/>
                      </a:lnTo>
                      <a:lnTo>
                        <a:pt x="866" y="776"/>
                      </a:lnTo>
                      <a:lnTo>
                        <a:pt x="877" y="772"/>
                      </a:lnTo>
                      <a:lnTo>
                        <a:pt x="887" y="766"/>
                      </a:lnTo>
                      <a:lnTo>
                        <a:pt x="898" y="760"/>
                      </a:lnTo>
                      <a:lnTo>
                        <a:pt x="900" y="761"/>
                      </a:lnTo>
                      <a:lnTo>
                        <a:pt x="900" y="763"/>
                      </a:lnTo>
                      <a:lnTo>
                        <a:pt x="900" y="767"/>
                      </a:lnTo>
                      <a:lnTo>
                        <a:pt x="900" y="769"/>
                      </a:lnTo>
                      <a:lnTo>
                        <a:pt x="905" y="767"/>
                      </a:lnTo>
                      <a:lnTo>
                        <a:pt x="910" y="765"/>
                      </a:lnTo>
                      <a:lnTo>
                        <a:pt x="916" y="762"/>
                      </a:lnTo>
                      <a:lnTo>
                        <a:pt x="920" y="760"/>
                      </a:lnTo>
                      <a:lnTo>
                        <a:pt x="925" y="758"/>
                      </a:lnTo>
                      <a:lnTo>
                        <a:pt x="930" y="755"/>
                      </a:lnTo>
                      <a:lnTo>
                        <a:pt x="934" y="753"/>
                      </a:lnTo>
                      <a:lnTo>
                        <a:pt x="939" y="751"/>
                      </a:lnTo>
                      <a:lnTo>
                        <a:pt x="465" y="298"/>
                      </a:lnTo>
                      <a:lnTo>
                        <a:pt x="446" y="290"/>
                      </a:lnTo>
                      <a:lnTo>
                        <a:pt x="427" y="282"/>
                      </a:lnTo>
                      <a:lnTo>
                        <a:pt x="409" y="273"/>
                      </a:lnTo>
                      <a:lnTo>
                        <a:pt x="390" y="263"/>
                      </a:lnTo>
                      <a:lnTo>
                        <a:pt x="373" y="254"/>
                      </a:lnTo>
                      <a:lnTo>
                        <a:pt x="357" y="245"/>
                      </a:lnTo>
                      <a:lnTo>
                        <a:pt x="341" y="235"/>
                      </a:lnTo>
                      <a:lnTo>
                        <a:pt x="327" y="224"/>
                      </a:lnTo>
                      <a:lnTo>
                        <a:pt x="313" y="214"/>
                      </a:lnTo>
                      <a:lnTo>
                        <a:pt x="301" y="204"/>
                      </a:lnTo>
                      <a:lnTo>
                        <a:pt x="289" y="192"/>
                      </a:lnTo>
                      <a:lnTo>
                        <a:pt x="280" y="182"/>
                      </a:lnTo>
                      <a:lnTo>
                        <a:pt x="272" y="170"/>
                      </a:lnTo>
                      <a:lnTo>
                        <a:pt x="265" y="159"/>
                      </a:lnTo>
                      <a:lnTo>
                        <a:pt x="260" y="146"/>
                      </a:lnTo>
                      <a:lnTo>
                        <a:pt x="257" y="13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8583480" y="4923000"/>
                  <a:ext cx="74880" cy="210960"/>
                </a:xfrm>
                <a:custGeom>
                  <a:avLst/>
                  <a:gdLst/>
                  <a:ahLst/>
                  <a:rect l="l" t="t" r="r" b="b"/>
                  <a:pathLst>
                    <a:path w="70" h="195">
                      <a:moveTo>
                        <a:pt x="9" y="155"/>
                      </a:moveTo>
                      <a:lnTo>
                        <a:pt x="51" y="195"/>
                      </a:lnTo>
                      <a:lnTo>
                        <a:pt x="57" y="163"/>
                      </a:lnTo>
                      <a:lnTo>
                        <a:pt x="62" y="131"/>
                      </a:lnTo>
                      <a:lnTo>
                        <a:pt x="67" y="99"/>
                      </a:lnTo>
                      <a:lnTo>
                        <a:pt x="70" y="66"/>
                      </a:lnTo>
                      <a:lnTo>
                        <a:pt x="0" y="0"/>
                      </a:lnTo>
                      <a:lnTo>
                        <a:pt x="2" y="36"/>
                      </a:lnTo>
                      <a:lnTo>
                        <a:pt x="7" y="75"/>
                      </a:lnTo>
                      <a:lnTo>
                        <a:pt x="9" y="114"/>
                      </a:lnTo>
                      <a:lnTo>
                        <a:pt x="9" y="15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8583480" y="4903920"/>
                  <a:ext cx="76320" cy="90360"/>
                </a:xfrm>
                <a:custGeom>
                  <a:avLst/>
                  <a:gdLst/>
                  <a:ahLst/>
                  <a:rect l="l" t="t" r="r" b="b"/>
                  <a:pathLst>
                    <a:path w="72" h="84">
                      <a:moveTo>
                        <a:pt x="0" y="18"/>
                      </a:moveTo>
                      <a:lnTo>
                        <a:pt x="70" y="84"/>
                      </a:lnTo>
                      <a:lnTo>
                        <a:pt x="71" y="81"/>
                      </a:lnTo>
                      <a:lnTo>
                        <a:pt x="71" y="78"/>
                      </a:lnTo>
                      <a:lnTo>
                        <a:pt x="71" y="74"/>
                      </a:lnTo>
                      <a:lnTo>
                        <a:pt x="72" y="69"/>
                      </a:lnTo>
                      <a:lnTo>
                        <a:pt x="0" y="0"/>
                      </a:lnTo>
                      <a:lnTo>
                        <a:pt x="0" y="5"/>
                      </a:lnTo>
                      <a:lnTo>
                        <a:pt x="0" y="8"/>
                      </a:lnTo>
                      <a:lnTo>
                        <a:pt x="0"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585" name=""/>
                <p:cNvSpPr/>
                <p:nvPr/>
              </p:nvSpPr>
              <p:spPr>
                <a:xfrm>
                  <a:off x="7613640" y="3994200"/>
                  <a:ext cx="517680" cy="484200"/>
                </a:xfrm>
                <a:custGeom>
                  <a:avLst/>
                  <a:gdLst/>
                  <a:ahLst/>
                  <a:rect l="l" t="t" r="r" b="b"/>
                  <a:pathLst>
                    <a:path w="484" h="453">
                      <a:moveTo>
                        <a:pt x="0" y="0"/>
                      </a:moveTo>
                      <a:lnTo>
                        <a:pt x="474" y="453"/>
                      </a:lnTo>
                      <a:lnTo>
                        <a:pt x="476" y="452"/>
                      </a:lnTo>
                      <a:lnTo>
                        <a:pt x="479" y="450"/>
                      </a:lnTo>
                      <a:lnTo>
                        <a:pt x="482" y="448"/>
                      </a:lnTo>
                      <a:lnTo>
                        <a:pt x="484" y="447"/>
                      </a:lnTo>
                      <a:lnTo>
                        <a:pt x="30" y="12"/>
                      </a:lnTo>
                      <a:lnTo>
                        <a:pt x="22" y="9"/>
                      </a:lnTo>
                      <a:lnTo>
                        <a:pt x="15" y="6"/>
                      </a:lnTo>
                      <a:lnTo>
                        <a:pt x="8"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8583480" y="4886280"/>
                  <a:ext cx="79560" cy="92160"/>
                </a:xfrm>
                <a:custGeom>
                  <a:avLst/>
                  <a:gdLst/>
                  <a:ahLst/>
                  <a:rect l="l" t="t" r="r" b="b"/>
                  <a:pathLst>
                    <a:path w="74" h="85">
                      <a:moveTo>
                        <a:pt x="1" y="0"/>
                      </a:moveTo>
                      <a:lnTo>
                        <a:pt x="0" y="5"/>
                      </a:lnTo>
                      <a:lnTo>
                        <a:pt x="0" y="8"/>
                      </a:lnTo>
                      <a:lnTo>
                        <a:pt x="0" y="12"/>
                      </a:lnTo>
                      <a:lnTo>
                        <a:pt x="0" y="16"/>
                      </a:lnTo>
                      <a:lnTo>
                        <a:pt x="72" y="85"/>
                      </a:lnTo>
                      <a:lnTo>
                        <a:pt x="72" y="82"/>
                      </a:lnTo>
                      <a:lnTo>
                        <a:pt x="74" y="77"/>
                      </a:lnTo>
                      <a:lnTo>
                        <a:pt x="74" y="74"/>
                      </a:lnTo>
                      <a:lnTo>
                        <a:pt x="74" y="70"/>
                      </a:lnTo>
                      <a:lnTo>
                        <a:pt x="1"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87" name=""/>
                <p:cNvSpPr/>
                <p:nvPr/>
              </p:nvSpPr>
              <p:spPr>
                <a:xfrm>
                  <a:off x="7645320" y="4005360"/>
                  <a:ext cx="498600" cy="466560"/>
                </a:xfrm>
                <a:custGeom>
                  <a:avLst/>
                  <a:gdLst/>
                  <a:ahLst/>
                  <a:rect l="l" t="t" r="r" b="b"/>
                  <a:pathLst>
                    <a:path w="467" h="435">
                      <a:moveTo>
                        <a:pt x="0" y="0"/>
                      </a:moveTo>
                      <a:lnTo>
                        <a:pt x="454" y="435"/>
                      </a:lnTo>
                      <a:lnTo>
                        <a:pt x="458" y="434"/>
                      </a:lnTo>
                      <a:lnTo>
                        <a:pt x="461" y="433"/>
                      </a:lnTo>
                      <a:lnTo>
                        <a:pt x="463" y="430"/>
                      </a:lnTo>
                      <a:lnTo>
                        <a:pt x="467" y="429"/>
                      </a:lnTo>
                      <a:lnTo>
                        <a:pt x="28" y="10"/>
                      </a:lnTo>
                      <a:lnTo>
                        <a:pt x="21" y="8"/>
                      </a:lnTo>
                      <a:lnTo>
                        <a:pt x="14" y="4"/>
                      </a:lnTo>
                      <a:lnTo>
                        <a:pt x="7"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7674120" y="4014720"/>
                  <a:ext cx="484200" cy="451080"/>
                </a:xfrm>
                <a:custGeom>
                  <a:avLst/>
                  <a:gdLst/>
                  <a:ahLst/>
                  <a:rect l="l" t="t" r="r" b="b"/>
                  <a:pathLst>
                    <a:path w="450" h="419">
                      <a:moveTo>
                        <a:pt x="0" y="0"/>
                      </a:moveTo>
                      <a:lnTo>
                        <a:pt x="439" y="419"/>
                      </a:lnTo>
                      <a:lnTo>
                        <a:pt x="441" y="418"/>
                      </a:lnTo>
                      <a:lnTo>
                        <a:pt x="445" y="417"/>
                      </a:lnTo>
                      <a:lnTo>
                        <a:pt x="447" y="415"/>
                      </a:lnTo>
                      <a:lnTo>
                        <a:pt x="450" y="413"/>
                      </a:lnTo>
                      <a:lnTo>
                        <a:pt x="28" y="8"/>
                      </a:lnTo>
                      <a:lnTo>
                        <a:pt x="21" y="6"/>
                      </a:lnTo>
                      <a:lnTo>
                        <a:pt x="14" y="3"/>
                      </a:lnTo>
                      <a:lnTo>
                        <a:pt x="7"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8585280" y="4871880"/>
                  <a:ext cx="79200" cy="90720"/>
                </a:xfrm>
                <a:custGeom>
                  <a:avLst/>
                  <a:gdLst/>
                  <a:ahLst/>
                  <a:rect l="l" t="t" r="r" b="b"/>
                  <a:pathLst>
                    <a:path w="75" h="85">
                      <a:moveTo>
                        <a:pt x="75" y="71"/>
                      </a:moveTo>
                      <a:lnTo>
                        <a:pt x="2" y="0"/>
                      </a:lnTo>
                      <a:lnTo>
                        <a:pt x="1" y="5"/>
                      </a:lnTo>
                      <a:lnTo>
                        <a:pt x="1" y="8"/>
                      </a:lnTo>
                      <a:lnTo>
                        <a:pt x="0" y="12"/>
                      </a:lnTo>
                      <a:lnTo>
                        <a:pt x="0" y="15"/>
                      </a:lnTo>
                      <a:lnTo>
                        <a:pt x="73" y="85"/>
                      </a:lnTo>
                      <a:lnTo>
                        <a:pt x="74" y="82"/>
                      </a:lnTo>
                      <a:lnTo>
                        <a:pt x="74" y="77"/>
                      </a:lnTo>
                      <a:lnTo>
                        <a:pt x="75" y="74"/>
                      </a:lnTo>
                      <a:lnTo>
                        <a:pt x="75" y="7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590" name=""/>
                <p:cNvSpPr/>
                <p:nvPr/>
              </p:nvSpPr>
              <p:spPr>
                <a:xfrm>
                  <a:off x="7704000" y="4025880"/>
                  <a:ext cx="463680" cy="433440"/>
                </a:xfrm>
                <a:custGeom>
                  <a:avLst/>
                  <a:gdLst/>
                  <a:ahLst/>
                  <a:rect l="l" t="t" r="r" b="b"/>
                  <a:pathLst>
                    <a:path w="433" h="405">
                      <a:moveTo>
                        <a:pt x="0" y="0"/>
                      </a:moveTo>
                      <a:lnTo>
                        <a:pt x="422" y="405"/>
                      </a:lnTo>
                      <a:lnTo>
                        <a:pt x="425" y="404"/>
                      </a:lnTo>
                      <a:lnTo>
                        <a:pt x="428" y="403"/>
                      </a:lnTo>
                      <a:lnTo>
                        <a:pt x="430" y="401"/>
                      </a:lnTo>
                      <a:lnTo>
                        <a:pt x="433" y="400"/>
                      </a:lnTo>
                      <a:lnTo>
                        <a:pt x="26" y="8"/>
                      </a:lnTo>
                      <a:lnTo>
                        <a:pt x="19" y="6"/>
                      </a:lnTo>
                      <a:lnTo>
                        <a:pt x="13" y="5"/>
                      </a:lnTo>
                      <a:lnTo>
                        <a:pt x="6"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8574120" y="4842000"/>
                  <a:ext cx="4680" cy="4680"/>
                </a:xfrm>
                <a:custGeom>
                  <a:avLst/>
                  <a:gdLst/>
                  <a:ahLst/>
                  <a:rect l="l" t="t" r="r" b="b"/>
                  <a:pathLst>
                    <a:path w="4" h="3">
                      <a:moveTo>
                        <a:pt x="2" y="2"/>
                      </a:moveTo>
                      <a:lnTo>
                        <a:pt x="2" y="3"/>
                      </a:lnTo>
                      <a:lnTo>
                        <a:pt x="3" y="3"/>
                      </a:lnTo>
                      <a:lnTo>
                        <a:pt x="3" y="3"/>
                      </a:lnTo>
                      <a:lnTo>
                        <a:pt x="4" y="3"/>
                      </a:lnTo>
                      <a:lnTo>
                        <a:pt x="0" y="0"/>
                      </a:lnTo>
                      <a:lnTo>
                        <a:pt x="1" y="1"/>
                      </a:lnTo>
                      <a:lnTo>
                        <a:pt x="1" y="1"/>
                      </a:lnTo>
                      <a:lnTo>
                        <a:pt x="1" y="2"/>
                      </a:lnTo>
                      <a:lnTo>
                        <a:pt x="2" y="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92" name=""/>
                <p:cNvSpPr/>
                <p:nvPr/>
              </p:nvSpPr>
              <p:spPr>
                <a:xfrm>
                  <a:off x="8586720" y="4857840"/>
                  <a:ext cx="79560" cy="88920"/>
                </a:xfrm>
                <a:custGeom>
                  <a:avLst/>
                  <a:gdLst/>
                  <a:ahLst/>
                  <a:rect l="l" t="t" r="r" b="b"/>
                  <a:pathLst>
                    <a:path w="75" h="85">
                      <a:moveTo>
                        <a:pt x="75" y="70"/>
                      </a:moveTo>
                      <a:lnTo>
                        <a:pt x="3" y="0"/>
                      </a:lnTo>
                      <a:lnTo>
                        <a:pt x="1" y="4"/>
                      </a:lnTo>
                      <a:lnTo>
                        <a:pt x="1" y="7"/>
                      </a:lnTo>
                      <a:lnTo>
                        <a:pt x="0" y="11"/>
                      </a:lnTo>
                      <a:lnTo>
                        <a:pt x="0" y="14"/>
                      </a:lnTo>
                      <a:lnTo>
                        <a:pt x="73" y="85"/>
                      </a:lnTo>
                      <a:lnTo>
                        <a:pt x="74" y="81"/>
                      </a:lnTo>
                      <a:lnTo>
                        <a:pt x="74" y="78"/>
                      </a:lnTo>
                      <a:lnTo>
                        <a:pt x="74" y="74"/>
                      </a:lnTo>
                      <a:lnTo>
                        <a:pt x="75" y="7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593" name=""/>
                <p:cNvSpPr/>
                <p:nvPr/>
              </p:nvSpPr>
              <p:spPr>
                <a:xfrm>
                  <a:off x="7734240" y="4033800"/>
                  <a:ext cx="446040" cy="417600"/>
                </a:xfrm>
                <a:custGeom>
                  <a:avLst/>
                  <a:gdLst/>
                  <a:ahLst/>
                  <a:rect l="l" t="t" r="r" b="b"/>
                  <a:pathLst>
                    <a:path w="418" h="392">
                      <a:moveTo>
                        <a:pt x="0" y="0"/>
                      </a:moveTo>
                      <a:lnTo>
                        <a:pt x="407" y="392"/>
                      </a:lnTo>
                      <a:lnTo>
                        <a:pt x="410" y="389"/>
                      </a:lnTo>
                      <a:lnTo>
                        <a:pt x="412" y="388"/>
                      </a:lnTo>
                      <a:lnTo>
                        <a:pt x="416" y="386"/>
                      </a:lnTo>
                      <a:lnTo>
                        <a:pt x="418" y="385"/>
                      </a:lnTo>
                      <a:lnTo>
                        <a:pt x="24" y="8"/>
                      </a:lnTo>
                      <a:lnTo>
                        <a:pt x="18" y="6"/>
                      </a:lnTo>
                      <a:lnTo>
                        <a:pt x="13" y="5"/>
                      </a:lnTo>
                      <a:lnTo>
                        <a:pt x="6"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8553600" y="4803840"/>
                  <a:ext cx="115560" cy="125280"/>
                </a:xfrm>
                <a:custGeom>
                  <a:avLst/>
                  <a:gdLst/>
                  <a:ahLst/>
                  <a:rect l="l" t="t" r="r" b="b"/>
                  <a:pathLst>
                    <a:path w="108" h="119">
                      <a:moveTo>
                        <a:pt x="108" y="105"/>
                      </a:moveTo>
                      <a:lnTo>
                        <a:pt x="0" y="0"/>
                      </a:lnTo>
                      <a:lnTo>
                        <a:pt x="5" y="9"/>
                      </a:lnTo>
                      <a:lnTo>
                        <a:pt x="11" y="18"/>
                      </a:lnTo>
                      <a:lnTo>
                        <a:pt x="15" y="28"/>
                      </a:lnTo>
                      <a:lnTo>
                        <a:pt x="20" y="37"/>
                      </a:lnTo>
                      <a:lnTo>
                        <a:pt x="24" y="40"/>
                      </a:lnTo>
                      <a:lnTo>
                        <a:pt x="28" y="41"/>
                      </a:lnTo>
                      <a:lnTo>
                        <a:pt x="30" y="41"/>
                      </a:lnTo>
                      <a:lnTo>
                        <a:pt x="34" y="43"/>
                      </a:lnTo>
                      <a:lnTo>
                        <a:pt x="36" y="44"/>
                      </a:lnTo>
                      <a:lnTo>
                        <a:pt x="35" y="45"/>
                      </a:lnTo>
                      <a:lnTo>
                        <a:pt x="35" y="47"/>
                      </a:lnTo>
                      <a:lnTo>
                        <a:pt x="35" y="48"/>
                      </a:lnTo>
                      <a:lnTo>
                        <a:pt x="34" y="49"/>
                      </a:lnTo>
                      <a:lnTo>
                        <a:pt x="106" y="119"/>
                      </a:lnTo>
                      <a:lnTo>
                        <a:pt x="107" y="115"/>
                      </a:lnTo>
                      <a:lnTo>
                        <a:pt x="107" y="112"/>
                      </a:lnTo>
                      <a:lnTo>
                        <a:pt x="107" y="108"/>
                      </a:lnTo>
                      <a:lnTo>
                        <a:pt x="108" y="10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7759800" y="4043520"/>
                  <a:ext cx="431640" cy="401400"/>
                </a:xfrm>
                <a:custGeom>
                  <a:avLst/>
                  <a:gdLst/>
                  <a:ahLst/>
                  <a:rect l="l" t="t" r="r" b="b"/>
                  <a:pathLst>
                    <a:path w="405" h="377">
                      <a:moveTo>
                        <a:pt x="0" y="0"/>
                      </a:moveTo>
                      <a:lnTo>
                        <a:pt x="394" y="377"/>
                      </a:lnTo>
                      <a:lnTo>
                        <a:pt x="396" y="375"/>
                      </a:lnTo>
                      <a:lnTo>
                        <a:pt x="400" y="373"/>
                      </a:lnTo>
                      <a:lnTo>
                        <a:pt x="402" y="371"/>
                      </a:lnTo>
                      <a:lnTo>
                        <a:pt x="405" y="370"/>
                      </a:lnTo>
                      <a:lnTo>
                        <a:pt x="26" y="6"/>
                      </a:lnTo>
                      <a:lnTo>
                        <a:pt x="20" y="5"/>
                      </a:lnTo>
                      <a:lnTo>
                        <a:pt x="13" y="4"/>
                      </a:lnTo>
                      <a:lnTo>
                        <a:pt x="7"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8523360" y="4757760"/>
                  <a:ext cx="149040" cy="157320"/>
                </a:xfrm>
                <a:custGeom>
                  <a:avLst/>
                  <a:gdLst/>
                  <a:ahLst/>
                  <a:rect l="l" t="t" r="r" b="b"/>
                  <a:pathLst>
                    <a:path w="139" h="148">
                      <a:moveTo>
                        <a:pt x="139" y="133"/>
                      </a:moveTo>
                      <a:lnTo>
                        <a:pt x="0" y="0"/>
                      </a:lnTo>
                      <a:lnTo>
                        <a:pt x="6" y="11"/>
                      </a:lnTo>
                      <a:lnTo>
                        <a:pt x="13" y="21"/>
                      </a:lnTo>
                      <a:lnTo>
                        <a:pt x="20" y="31"/>
                      </a:lnTo>
                      <a:lnTo>
                        <a:pt x="27" y="43"/>
                      </a:lnTo>
                      <a:lnTo>
                        <a:pt x="135" y="148"/>
                      </a:lnTo>
                      <a:lnTo>
                        <a:pt x="137" y="144"/>
                      </a:lnTo>
                      <a:lnTo>
                        <a:pt x="138" y="140"/>
                      </a:lnTo>
                      <a:lnTo>
                        <a:pt x="138" y="136"/>
                      </a:lnTo>
                      <a:lnTo>
                        <a:pt x="139" y="13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7785000" y="4046400"/>
                  <a:ext cx="414360" cy="390600"/>
                </a:xfrm>
                <a:custGeom>
                  <a:avLst/>
                  <a:gdLst/>
                  <a:ahLst/>
                  <a:rect l="l" t="t" r="r" b="b"/>
                  <a:pathLst>
                    <a:path w="388" h="364">
                      <a:moveTo>
                        <a:pt x="0" y="0"/>
                      </a:moveTo>
                      <a:lnTo>
                        <a:pt x="379" y="364"/>
                      </a:lnTo>
                      <a:lnTo>
                        <a:pt x="381" y="362"/>
                      </a:lnTo>
                      <a:lnTo>
                        <a:pt x="383" y="359"/>
                      </a:lnTo>
                      <a:lnTo>
                        <a:pt x="385" y="358"/>
                      </a:lnTo>
                      <a:lnTo>
                        <a:pt x="388" y="356"/>
                      </a:lnTo>
                      <a:lnTo>
                        <a:pt x="23" y="6"/>
                      </a:lnTo>
                      <a:lnTo>
                        <a:pt x="17" y="5"/>
                      </a:lnTo>
                      <a:lnTo>
                        <a:pt x="11" y="3"/>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8480520" y="4695840"/>
                  <a:ext cx="195120" cy="203040"/>
                </a:xfrm>
                <a:custGeom>
                  <a:avLst/>
                  <a:gdLst/>
                  <a:ahLst/>
                  <a:rect l="l" t="t" r="r" b="b"/>
                  <a:pathLst>
                    <a:path w="183" h="189">
                      <a:moveTo>
                        <a:pt x="183" y="175"/>
                      </a:moveTo>
                      <a:lnTo>
                        <a:pt x="0" y="0"/>
                      </a:lnTo>
                      <a:lnTo>
                        <a:pt x="6" y="7"/>
                      </a:lnTo>
                      <a:lnTo>
                        <a:pt x="10" y="14"/>
                      </a:lnTo>
                      <a:lnTo>
                        <a:pt x="16" y="21"/>
                      </a:lnTo>
                      <a:lnTo>
                        <a:pt x="21" y="27"/>
                      </a:lnTo>
                      <a:lnTo>
                        <a:pt x="27" y="34"/>
                      </a:lnTo>
                      <a:lnTo>
                        <a:pt x="31" y="41"/>
                      </a:lnTo>
                      <a:lnTo>
                        <a:pt x="37" y="49"/>
                      </a:lnTo>
                      <a:lnTo>
                        <a:pt x="42" y="56"/>
                      </a:lnTo>
                      <a:lnTo>
                        <a:pt x="181" y="189"/>
                      </a:lnTo>
                      <a:lnTo>
                        <a:pt x="181" y="185"/>
                      </a:lnTo>
                      <a:lnTo>
                        <a:pt x="182" y="182"/>
                      </a:lnTo>
                      <a:lnTo>
                        <a:pt x="182" y="178"/>
                      </a:lnTo>
                      <a:lnTo>
                        <a:pt x="183" y="17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810560" y="4054320"/>
                  <a:ext cx="398520" cy="374760"/>
                </a:xfrm>
                <a:custGeom>
                  <a:avLst/>
                  <a:gdLst/>
                  <a:ahLst/>
                  <a:rect l="l" t="t" r="r" b="b"/>
                  <a:pathLst>
                    <a:path w="372" h="350">
                      <a:moveTo>
                        <a:pt x="0" y="0"/>
                      </a:moveTo>
                      <a:lnTo>
                        <a:pt x="365" y="350"/>
                      </a:lnTo>
                      <a:lnTo>
                        <a:pt x="367" y="348"/>
                      </a:lnTo>
                      <a:lnTo>
                        <a:pt x="368" y="345"/>
                      </a:lnTo>
                      <a:lnTo>
                        <a:pt x="371" y="343"/>
                      </a:lnTo>
                      <a:lnTo>
                        <a:pt x="372" y="341"/>
                      </a:lnTo>
                      <a:lnTo>
                        <a:pt x="23" y="4"/>
                      </a:lnTo>
                      <a:lnTo>
                        <a:pt x="17" y="3"/>
                      </a:lnTo>
                      <a:lnTo>
                        <a:pt x="11" y="2"/>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8410680" y="4610160"/>
                  <a:ext cx="268200" cy="274680"/>
                </a:xfrm>
                <a:custGeom>
                  <a:avLst/>
                  <a:gdLst/>
                  <a:ahLst/>
                  <a:rect l="l" t="t" r="r" b="b"/>
                  <a:pathLst>
                    <a:path w="253" h="256">
                      <a:moveTo>
                        <a:pt x="253" y="242"/>
                      </a:moveTo>
                      <a:lnTo>
                        <a:pt x="0" y="0"/>
                      </a:lnTo>
                      <a:lnTo>
                        <a:pt x="8" y="11"/>
                      </a:lnTo>
                      <a:lnTo>
                        <a:pt x="18" y="21"/>
                      </a:lnTo>
                      <a:lnTo>
                        <a:pt x="26" y="30"/>
                      </a:lnTo>
                      <a:lnTo>
                        <a:pt x="34" y="41"/>
                      </a:lnTo>
                      <a:lnTo>
                        <a:pt x="42" y="51"/>
                      </a:lnTo>
                      <a:lnTo>
                        <a:pt x="50" y="60"/>
                      </a:lnTo>
                      <a:lnTo>
                        <a:pt x="58" y="70"/>
                      </a:lnTo>
                      <a:lnTo>
                        <a:pt x="66" y="81"/>
                      </a:lnTo>
                      <a:lnTo>
                        <a:pt x="249" y="256"/>
                      </a:lnTo>
                      <a:lnTo>
                        <a:pt x="250" y="252"/>
                      </a:lnTo>
                      <a:lnTo>
                        <a:pt x="252" y="249"/>
                      </a:lnTo>
                      <a:lnTo>
                        <a:pt x="252" y="246"/>
                      </a:lnTo>
                      <a:lnTo>
                        <a:pt x="253" y="24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834320" y="4060800"/>
                  <a:ext cx="380880" cy="358920"/>
                </a:xfrm>
                <a:custGeom>
                  <a:avLst/>
                  <a:gdLst/>
                  <a:ahLst/>
                  <a:rect l="l" t="t" r="r" b="b"/>
                  <a:pathLst>
                    <a:path w="356" h="337">
                      <a:moveTo>
                        <a:pt x="0" y="0"/>
                      </a:moveTo>
                      <a:lnTo>
                        <a:pt x="349" y="337"/>
                      </a:lnTo>
                      <a:lnTo>
                        <a:pt x="351" y="334"/>
                      </a:lnTo>
                      <a:lnTo>
                        <a:pt x="352" y="331"/>
                      </a:lnTo>
                      <a:lnTo>
                        <a:pt x="354" y="329"/>
                      </a:lnTo>
                      <a:lnTo>
                        <a:pt x="356" y="325"/>
                      </a:lnTo>
                      <a:lnTo>
                        <a:pt x="22" y="5"/>
                      </a:lnTo>
                      <a:lnTo>
                        <a:pt x="16" y="4"/>
                      </a:lnTo>
                      <a:lnTo>
                        <a:pt x="11" y="3"/>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8377200" y="4565520"/>
                  <a:ext cx="306360" cy="304920"/>
                </a:xfrm>
                <a:custGeom>
                  <a:avLst/>
                  <a:gdLst/>
                  <a:ahLst/>
                  <a:rect l="l" t="t" r="r" b="b"/>
                  <a:pathLst>
                    <a:path w="284" h="284">
                      <a:moveTo>
                        <a:pt x="284" y="270"/>
                      </a:moveTo>
                      <a:lnTo>
                        <a:pt x="1" y="0"/>
                      </a:lnTo>
                      <a:lnTo>
                        <a:pt x="1" y="2"/>
                      </a:lnTo>
                      <a:lnTo>
                        <a:pt x="1" y="4"/>
                      </a:lnTo>
                      <a:lnTo>
                        <a:pt x="1" y="8"/>
                      </a:lnTo>
                      <a:lnTo>
                        <a:pt x="0" y="10"/>
                      </a:lnTo>
                      <a:lnTo>
                        <a:pt x="8" y="18"/>
                      </a:lnTo>
                      <a:lnTo>
                        <a:pt x="15" y="26"/>
                      </a:lnTo>
                      <a:lnTo>
                        <a:pt x="22" y="34"/>
                      </a:lnTo>
                      <a:lnTo>
                        <a:pt x="28" y="42"/>
                      </a:lnTo>
                      <a:lnTo>
                        <a:pt x="281" y="284"/>
                      </a:lnTo>
                      <a:lnTo>
                        <a:pt x="282" y="281"/>
                      </a:lnTo>
                      <a:lnTo>
                        <a:pt x="283" y="277"/>
                      </a:lnTo>
                      <a:lnTo>
                        <a:pt x="283" y="274"/>
                      </a:lnTo>
                      <a:lnTo>
                        <a:pt x="284" y="27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8256600" y="4429080"/>
                  <a:ext cx="114120" cy="112680"/>
                </a:xfrm>
                <a:custGeom>
                  <a:avLst/>
                  <a:gdLst/>
                  <a:ahLst/>
                  <a:rect l="l" t="t" r="r" b="b"/>
                  <a:pathLst>
                    <a:path w="110" h="107">
                      <a:moveTo>
                        <a:pt x="108" y="107"/>
                      </a:moveTo>
                      <a:lnTo>
                        <a:pt x="109" y="106"/>
                      </a:lnTo>
                      <a:lnTo>
                        <a:pt x="109" y="105"/>
                      </a:lnTo>
                      <a:lnTo>
                        <a:pt x="109" y="105"/>
                      </a:lnTo>
                      <a:lnTo>
                        <a:pt x="110" y="103"/>
                      </a:lnTo>
                      <a:lnTo>
                        <a:pt x="0" y="0"/>
                      </a:lnTo>
                      <a:lnTo>
                        <a:pt x="13" y="15"/>
                      </a:lnTo>
                      <a:lnTo>
                        <a:pt x="26" y="28"/>
                      </a:lnTo>
                      <a:lnTo>
                        <a:pt x="38" y="43"/>
                      </a:lnTo>
                      <a:lnTo>
                        <a:pt x="51" y="57"/>
                      </a:lnTo>
                      <a:lnTo>
                        <a:pt x="65" y="71"/>
                      </a:lnTo>
                      <a:lnTo>
                        <a:pt x="79" y="84"/>
                      </a:lnTo>
                      <a:lnTo>
                        <a:pt x="93" y="96"/>
                      </a:lnTo>
                      <a:lnTo>
                        <a:pt x="108" y="10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7858080" y="4064040"/>
                  <a:ext cx="362160" cy="342720"/>
                </a:xfrm>
                <a:custGeom>
                  <a:avLst/>
                  <a:gdLst/>
                  <a:ahLst/>
                  <a:rect l="l" t="t" r="r" b="b"/>
                  <a:pathLst>
                    <a:path w="337" h="320">
                      <a:moveTo>
                        <a:pt x="0" y="0"/>
                      </a:moveTo>
                      <a:lnTo>
                        <a:pt x="334" y="320"/>
                      </a:lnTo>
                      <a:lnTo>
                        <a:pt x="335" y="318"/>
                      </a:lnTo>
                      <a:lnTo>
                        <a:pt x="336" y="314"/>
                      </a:lnTo>
                      <a:lnTo>
                        <a:pt x="336" y="311"/>
                      </a:lnTo>
                      <a:lnTo>
                        <a:pt x="337" y="307"/>
                      </a:lnTo>
                      <a:lnTo>
                        <a:pt x="20" y="3"/>
                      </a:lnTo>
                      <a:lnTo>
                        <a:pt x="16" y="2"/>
                      </a:lnTo>
                      <a:lnTo>
                        <a:pt x="10" y="1"/>
                      </a:lnTo>
                      <a:lnTo>
                        <a:pt x="5"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8380440" y="4548240"/>
                  <a:ext cx="306360" cy="306360"/>
                </a:xfrm>
                <a:custGeom>
                  <a:avLst/>
                  <a:gdLst/>
                  <a:ahLst/>
                  <a:rect l="l" t="t" r="r" b="b"/>
                  <a:pathLst>
                    <a:path w="287" h="285">
                      <a:moveTo>
                        <a:pt x="287" y="271"/>
                      </a:moveTo>
                      <a:lnTo>
                        <a:pt x="2" y="0"/>
                      </a:lnTo>
                      <a:lnTo>
                        <a:pt x="1" y="3"/>
                      </a:lnTo>
                      <a:lnTo>
                        <a:pt x="1" y="6"/>
                      </a:lnTo>
                      <a:lnTo>
                        <a:pt x="1" y="11"/>
                      </a:lnTo>
                      <a:lnTo>
                        <a:pt x="0" y="15"/>
                      </a:lnTo>
                      <a:lnTo>
                        <a:pt x="283" y="285"/>
                      </a:lnTo>
                      <a:lnTo>
                        <a:pt x="284" y="282"/>
                      </a:lnTo>
                      <a:lnTo>
                        <a:pt x="285" y="278"/>
                      </a:lnTo>
                      <a:lnTo>
                        <a:pt x="285" y="275"/>
                      </a:lnTo>
                      <a:lnTo>
                        <a:pt x="287" y="27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8688240" y="4824360"/>
                  <a:ext cx="12960" cy="17640"/>
                </a:xfrm>
                <a:custGeom>
                  <a:avLst/>
                  <a:gdLst/>
                  <a:ahLst/>
                  <a:rect l="l" t="t" r="r" b="b"/>
                  <a:pathLst>
                    <a:path w="10" h="15">
                      <a:moveTo>
                        <a:pt x="7" y="15"/>
                      </a:moveTo>
                      <a:lnTo>
                        <a:pt x="7" y="13"/>
                      </a:lnTo>
                      <a:lnTo>
                        <a:pt x="8" y="11"/>
                      </a:lnTo>
                      <a:lnTo>
                        <a:pt x="9" y="10"/>
                      </a:lnTo>
                      <a:lnTo>
                        <a:pt x="10" y="9"/>
                      </a:lnTo>
                      <a:lnTo>
                        <a:pt x="0" y="0"/>
                      </a:lnTo>
                      <a:lnTo>
                        <a:pt x="2" y="3"/>
                      </a:lnTo>
                      <a:lnTo>
                        <a:pt x="3" y="7"/>
                      </a:lnTo>
                      <a:lnTo>
                        <a:pt x="6" y="10"/>
                      </a:lnTo>
                      <a:lnTo>
                        <a:pt x="7"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07" name=""/>
                <p:cNvSpPr/>
                <p:nvPr/>
              </p:nvSpPr>
              <p:spPr>
                <a:xfrm>
                  <a:off x="8238960" y="4394160"/>
                  <a:ext cx="136800" cy="146160"/>
                </a:xfrm>
                <a:custGeom>
                  <a:avLst/>
                  <a:gdLst/>
                  <a:ahLst/>
                  <a:rect l="l" t="t" r="r" b="b"/>
                  <a:pathLst>
                    <a:path w="129" h="136">
                      <a:moveTo>
                        <a:pt x="6" y="20"/>
                      </a:moveTo>
                      <a:lnTo>
                        <a:pt x="8" y="23"/>
                      </a:lnTo>
                      <a:lnTo>
                        <a:pt x="12" y="26"/>
                      </a:lnTo>
                      <a:lnTo>
                        <a:pt x="14" y="29"/>
                      </a:lnTo>
                      <a:lnTo>
                        <a:pt x="16" y="33"/>
                      </a:lnTo>
                      <a:lnTo>
                        <a:pt x="126" y="136"/>
                      </a:lnTo>
                      <a:lnTo>
                        <a:pt x="127" y="133"/>
                      </a:lnTo>
                      <a:lnTo>
                        <a:pt x="128" y="129"/>
                      </a:lnTo>
                      <a:lnTo>
                        <a:pt x="128" y="126"/>
                      </a:lnTo>
                      <a:lnTo>
                        <a:pt x="129" y="124"/>
                      </a:lnTo>
                      <a:lnTo>
                        <a:pt x="0" y="0"/>
                      </a:lnTo>
                      <a:lnTo>
                        <a:pt x="1" y="5"/>
                      </a:lnTo>
                      <a:lnTo>
                        <a:pt x="4" y="11"/>
                      </a:lnTo>
                      <a:lnTo>
                        <a:pt x="5" y="15"/>
                      </a:lnTo>
                      <a:lnTo>
                        <a:pt x="6"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7881840" y="4068720"/>
                  <a:ext cx="339840" cy="325440"/>
                </a:xfrm>
                <a:custGeom>
                  <a:avLst/>
                  <a:gdLst/>
                  <a:ahLst/>
                  <a:rect l="l" t="t" r="r" b="b"/>
                  <a:pathLst>
                    <a:path w="318" h="304">
                      <a:moveTo>
                        <a:pt x="0" y="0"/>
                      </a:moveTo>
                      <a:lnTo>
                        <a:pt x="317" y="304"/>
                      </a:lnTo>
                      <a:lnTo>
                        <a:pt x="318" y="300"/>
                      </a:lnTo>
                      <a:lnTo>
                        <a:pt x="318" y="296"/>
                      </a:lnTo>
                      <a:lnTo>
                        <a:pt x="318" y="293"/>
                      </a:lnTo>
                      <a:lnTo>
                        <a:pt x="318" y="288"/>
                      </a:lnTo>
                      <a:lnTo>
                        <a:pt x="20" y="1"/>
                      </a:lnTo>
                      <a:lnTo>
                        <a:pt x="15" y="1"/>
                      </a:lnTo>
                      <a:lnTo>
                        <a:pt x="11" y="0"/>
                      </a:lnTo>
                      <a:lnTo>
                        <a:pt x="5" y="0"/>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8381880" y="4533840"/>
                  <a:ext cx="306360" cy="306360"/>
                </a:xfrm>
                <a:custGeom>
                  <a:avLst/>
                  <a:gdLst/>
                  <a:ahLst/>
                  <a:rect l="l" t="t" r="r" b="b"/>
                  <a:pathLst>
                    <a:path w="286" h="286">
                      <a:moveTo>
                        <a:pt x="286" y="283"/>
                      </a:moveTo>
                      <a:lnTo>
                        <a:pt x="279" y="276"/>
                      </a:lnTo>
                      <a:lnTo>
                        <a:pt x="275" y="273"/>
                      </a:lnTo>
                      <a:lnTo>
                        <a:pt x="273" y="268"/>
                      </a:lnTo>
                      <a:lnTo>
                        <a:pt x="273" y="259"/>
                      </a:lnTo>
                      <a:lnTo>
                        <a:pt x="1" y="0"/>
                      </a:lnTo>
                      <a:lnTo>
                        <a:pt x="1" y="3"/>
                      </a:lnTo>
                      <a:lnTo>
                        <a:pt x="1" y="7"/>
                      </a:lnTo>
                      <a:lnTo>
                        <a:pt x="0" y="11"/>
                      </a:lnTo>
                      <a:lnTo>
                        <a:pt x="0" y="15"/>
                      </a:lnTo>
                      <a:lnTo>
                        <a:pt x="285" y="286"/>
                      </a:lnTo>
                      <a:lnTo>
                        <a:pt x="285" y="285"/>
                      </a:lnTo>
                      <a:lnTo>
                        <a:pt x="285" y="284"/>
                      </a:lnTo>
                      <a:lnTo>
                        <a:pt x="285" y="284"/>
                      </a:lnTo>
                      <a:lnTo>
                        <a:pt x="286" y="28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900920" y="4068720"/>
                  <a:ext cx="320760" cy="308160"/>
                </a:xfrm>
                <a:custGeom>
                  <a:avLst/>
                  <a:gdLst/>
                  <a:ahLst/>
                  <a:rect l="l" t="t" r="r" b="b"/>
                  <a:pathLst>
                    <a:path w="298" h="288">
                      <a:moveTo>
                        <a:pt x="1" y="1"/>
                      </a:moveTo>
                      <a:lnTo>
                        <a:pt x="0" y="1"/>
                      </a:lnTo>
                      <a:lnTo>
                        <a:pt x="0" y="1"/>
                      </a:lnTo>
                      <a:lnTo>
                        <a:pt x="0" y="1"/>
                      </a:lnTo>
                      <a:lnTo>
                        <a:pt x="0" y="1"/>
                      </a:lnTo>
                      <a:lnTo>
                        <a:pt x="298" y="288"/>
                      </a:lnTo>
                      <a:lnTo>
                        <a:pt x="298" y="284"/>
                      </a:lnTo>
                      <a:lnTo>
                        <a:pt x="297" y="279"/>
                      </a:lnTo>
                      <a:lnTo>
                        <a:pt x="297" y="273"/>
                      </a:lnTo>
                      <a:lnTo>
                        <a:pt x="296" y="269"/>
                      </a:lnTo>
                      <a:lnTo>
                        <a:pt x="16" y="0"/>
                      </a:lnTo>
                      <a:lnTo>
                        <a:pt x="11" y="1"/>
                      </a:lnTo>
                      <a:lnTo>
                        <a:pt x="8" y="1"/>
                      </a:lnTo>
                      <a:lnTo>
                        <a:pt x="4" y="1"/>
                      </a:lnTo>
                      <a:lnTo>
                        <a:pt x="1"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32840" y="4368960"/>
                  <a:ext cx="474480" cy="466560"/>
                </a:xfrm>
                <a:custGeom>
                  <a:avLst/>
                  <a:gdLst/>
                  <a:ahLst/>
                  <a:rect l="l" t="t" r="r" b="b"/>
                  <a:pathLst>
                    <a:path w="444" h="436">
                      <a:moveTo>
                        <a:pt x="413" y="413"/>
                      </a:moveTo>
                      <a:lnTo>
                        <a:pt x="417" y="413"/>
                      </a:lnTo>
                      <a:lnTo>
                        <a:pt x="418" y="413"/>
                      </a:lnTo>
                      <a:lnTo>
                        <a:pt x="420" y="413"/>
                      </a:lnTo>
                      <a:lnTo>
                        <a:pt x="421" y="413"/>
                      </a:lnTo>
                      <a:lnTo>
                        <a:pt x="422" y="416"/>
                      </a:lnTo>
                      <a:lnTo>
                        <a:pt x="425" y="420"/>
                      </a:lnTo>
                      <a:lnTo>
                        <a:pt x="426" y="423"/>
                      </a:lnTo>
                      <a:lnTo>
                        <a:pt x="427" y="427"/>
                      </a:lnTo>
                      <a:lnTo>
                        <a:pt x="437" y="436"/>
                      </a:lnTo>
                      <a:lnTo>
                        <a:pt x="440" y="435"/>
                      </a:lnTo>
                      <a:lnTo>
                        <a:pt x="441" y="434"/>
                      </a:lnTo>
                      <a:lnTo>
                        <a:pt x="443" y="432"/>
                      </a:lnTo>
                      <a:lnTo>
                        <a:pt x="444" y="431"/>
                      </a:lnTo>
                      <a:lnTo>
                        <a:pt x="443" y="430"/>
                      </a:lnTo>
                      <a:lnTo>
                        <a:pt x="443" y="428"/>
                      </a:lnTo>
                      <a:lnTo>
                        <a:pt x="443" y="427"/>
                      </a:lnTo>
                      <a:lnTo>
                        <a:pt x="443" y="425"/>
                      </a:lnTo>
                      <a:lnTo>
                        <a:pt x="0" y="0"/>
                      </a:lnTo>
                      <a:lnTo>
                        <a:pt x="1" y="6"/>
                      </a:lnTo>
                      <a:lnTo>
                        <a:pt x="3" y="12"/>
                      </a:lnTo>
                      <a:lnTo>
                        <a:pt x="4" y="18"/>
                      </a:lnTo>
                      <a:lnTo>
                        <a:pt x="5" y="23"/>
                      </a:lnTo>
                      <a:lnTo>
                        <a:pt x="134" y="147"/>
                      </a:lnTo>
                      <a:lnTo>
                        <a:pt x="135" y="144"/>
                      </a:lnTo>
                      <a:lnTo>
                        <a:pt x="135" y="141"/>
                      </a:lnTo>
                      <a:lnTo>
                        <a:pt x="137" y="137"/>
                      </a:lnTo>
                      <a:lnTo>
                        <a:pt x="137" y="135"/>
                      </a:lnTo>
                      <a:lnTo>
                        <a:pt x="139" y="136"/>
                      </a:lnTo>
                      <a:lnTo>
                        <a:pt x="140" y="136"/>
                      </a:lnTo>
                      <a:lnTo>
                        <a:pt x="142" y="137"/>
                      </a:lnTo>
                      <a:lnTo>
                        <a:pt x="144" y="139"/>
                      </a:lnTo>
                      <a:lnTo>
                        <a:pt x="142" y="142"/>
                      </a:lnTo>
                      <a:lnTo>
                        <a:pt x="142" y="146"/>
                      </a:lnTo>
                      <a:lnTo>
                        <a:pt x="142" y="150"/>
                      </a:lnTo>
                      <a:lnTo>
                        <a:pt x="141" y="154"/>
                      </a:lnTo>
                      <a:lnTo>
                        <a:pt x="413" y="413"/>
                      </a:lnTo>
                      <a:lnTo>
                        <a:pt x="413" y="413"/>
                      </a:lnTo>
                      <a:lnTo>
                        <a:pt x="413" y="413"/>
                      </a:lnTo>
                      <a:lnTo>
                        <a:pt x="413" y="413"/>
                      </a:lnTo>
                      <a:lnTo>
                        <a:pt x="413" y="4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7918560" y="4067280"/>
                  <a:ext cx="298440" cy="288720"/>
                </a:xfrm>
                <a:custGeom>
                  <a:avLst/>
                  <a:gdLst/>
                  <a:ahLst/>
                  <a:rect l="l" t="t" r="r" b="b"/>
                  <a:pathLst>
                    <a:path w="280" h="271">
                      <a:moveTo>
                        <a:pt x="0" y="2"/>
                      </a:moveTo>
                      <a:lnTo>
                        <a:pt x="280" y="271"/>
                      </a:lnTo>
                      <a:lnTo>
                        <a:pt x="279" y="265"/>
                      </a:lnTo>
                      <a:lnTo>
                        <a:pt x="278" y="260"/>
                      </a:lnTo>
                      <a:lnTo>
                        <a:pt x="275" y="255"/>
                      </a:lnTo>
                      <a:lnTo>
                        <a:pt x="274" y="249"/>
                      </a:lnTo>
                      <a:lnTo>
                        <a:pt x="15" y="0"/>
                      </a:lnTo>
                      <a:lnTo>
                        <a:pt x="11" y="1"/>
                      </a:lnTo>
                      <a:lnTo>
                        <a:pt x="8" y="1"/>
                      </a:lnTo>
                      <a:lnTo>
                        <a:pt x="3" y="2"/>
                      </a:lnTo>
                      <a:lnTo>
                        <a:pt x="0" y="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8226360" y="4344840"/>
                  <a:ext cx="480960" cy="479520"/>
                </a:xfrm>
                <a:custGeom>
                  <a:avLst/>
                  <a:gdLst/>
                  <a:ahLst/>
                  <a:rect l="l" t="t" r="r" b="b"/>
                  <a:pathLst>
                    <a:path w="449" h="446">
                      <a:moveTo>
                        <a:pt x="443" y="423"/>
                      </a:moveTo>
                      <a:lnTo>
                        <a:pt x="0" y="0"/>
                      </a:lnTo>
                      <a:lnTo>
                        <a:pt x="1" y="5"/>
                      </a:lnTo>
                      <a:lnTo>
                        <a:pt x="3" y="10"/>
                      </a:lnTo>
                      <a:lnTo>
                        <a:pt x="4" y="16"/>
                      </a:lnTo>
                      <a:lnTo>
                        <a:pt x="6" y="21"/>
                      </a:lnTo>
                      <a:lnTo>
                        <a:pt x="449" y="446"/>
                      </a:lnTo>
                      <a:lnTo>
                        <a:pt x="448" y="441"/>
                      </a:lnTo>
                      <a:lnTo>
                        <a:pt x="447" y="435"/>
                      </a:lnTo>
                      <a:lnTo>
                        <a:pt x="446" y="429"/>
                      </a:lnTo>
                      <a:lnTo>
                        <a:pt x="443" y="4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7934400" y="4062240"/>
                  <a:ext cx="279360" cy="270000"/>
                </a:xfrm>
                <a:custGeom>
                  <a:avLst/>
                  <a:gdLst/>
                  <a:ahLst/>
                  <a:rect l="l" t="t" r="r" b="b"/>
                  <a:pathLst>
                    <a:path w="259" h="251">
                      <a:moveTo>
                        <a:pt x="0" y="2"/>
                      </a:moveTo>
                      <a:lnTo>
                        <a:pt x="259" y="251"/>
                      </a:lnTo>
                      <a:lnTo>
                        <a:pt x="257" y="245"/>
                      </a:lnTo>
                      <a:lnTo>
                        <a:pt x="256" y="238"/>
                      </a:lnTo>
                      <a:lnTo>
                        <a:pt x="253" y="232"/>
                      </a:lnTo>
                      <a:lnTo>
                        <a:pt x="251" y="226"/>
                      </a:lnTo>
                      <a:lnTo>
                        <a:pt x="15" y="0"/>
                      </a:lnTo>
                      <a:lnTo>
                        <a:pt x="11" y="1"/>
                      </a:lnTo>
                      <a:lnTo>
                        <a:pt x="8" y="1"/>
                      </a:lnTo>
                      <a:lnTo>
                        <a:pt x="5" y="2"/>
                      </a:lnTo>
                      <a:lnTo>
                        <a:pt x="0" y="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8217000" y="4319640"/>
                  <a:ext cx="484200" cy="479520"/>
                </a:xfrm>
                <a:custGeom>
                  <a:avLst/>
                  <a:gdLst/>
                  <a:ahLst/>
                  <a:rect l="l" t="t" r="r" b="b"/>
                  <a:pathLst>
                    <a:path w="451" h="449">
                      <a:moveTo>
                        <a:pt x="437" y="419"/>
                      </a:moveTo>
                      <a:lnTo>
                        <a:pt x="0" y="0"/>
                      </a:lnTo>
                      <a:lnTo>
                        <a:pt x="2" y="6"/>
                      </a:lnTo>
                      <a:lnTo>
                        <a:pt x="4" y="13"/>
                      </a:lnTo>
                      <a:lnTo>
                        <a:pt x="5" y="19"/>
                      </a:lnTo>
                      <a:lnTo>
                        <a:pt x="8" y="26"/>
                      </a:lnTo>
                      <a:lnTo>
                        <a:pt x="451" y="449"/>
                      </a:lnTo>
                      <a:lnTo>
                        <a:pt x="449" y="443"/>
                      </a:lnTo>
                      <a:lnTo>
                        <a:pt x="446" y="434"/>
                      </a:lnTo>
                      <a:lnTo>
                        <a:pt x="442" y="428"/>
                      </a:lnTo>
                      <a:lnTo>
                        <a:pt x="437" y="4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7950240" y="4060800"/>
                  <a:ext cx="736560" cy="706320"/>
                </a:xfrm>
                <a:custGeom>
                  <a:avLst/>
                  <a:gdLst/>
                  <a:ahLst/>
                  <a:rect l="l" t="t" r="r" b="b"/>
                  <a:pathLst>
                    <a:path w="686" h="661">
                      <a:moveTo>
                        <a:pt x="660" y="619"/>
                      </a:moveTo>
                      <a:lnTo>
                        <a:pt x="15" y="0"/>
                      </a:lnTo>
                      <a:lnTo>
                        <a:pt x="11" y="1"/>
                      </a:lnTo>
                      <a:lnTo>
                        <a:pt x="8" y="1"/>
                      </a:lnTo>
                      <a:lnTo>
                        <a:pt x="3" y="3"/>
                      </a:lnTo>
                      <a:lnTo>
                        <a:pt x="0" y="4"/>
                      </a:lnTo>
                      <a:lnTo>
                        <a:pt x="236" y="230"/>
                      </a:lnTo>
                      <a:lnTo>
                        <a:pt x="234" y="224"/>
                      </a:lnTo>
                      <a:lnTo>
                        <a:pt x="231" y="217"/>
                      </a:lnTo>
                      <a:lnTo>
                        <a:pt x="228" y="211"/>
                      </a:lnTo>
                      <a:lnTo>
                        <a:pt x="226" y="204"/>
                      </a:lnTo>
                      <a:lnTo>
                        <a:pt x="233" y="212"/>
                      </a:lnTo>
                      <a:lnTo>
                        <a:pt x="238" y="221"/>
                      </a:lnTo>
                      <a:lnTo>
                        <a:pt x="243" y="232"/>
                      </a:lnTo>
                      <a:lnTo>
                        <a:pt x="249" y="242"/>
                      </a:lnTo>
                      <a:lnTo>
                        <a:pt x="686" y="661"/>
                      </a:lnTo>
                      <a:lnTo>
                        <a:pt x="681" y="651"/>
                      </a:lnTo>
                      <a:lnTo>
                        <a:pt x="674" y="640"/>
                      </a:lnTo>
                      <a:lnTo>
                        <a:pt x="667" y="629"/>
                      </a:lnTo>
                      <a:lnTo>
                        <a:pt x="660" y="6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7967520" y="4056120"/>
                  <a:ext cx="689040" cy="665280"/>
                </a:xfrm>
                <a:custGeom>
                  <a:avLst/>
                  <a:gdLst/>
                  <a:ahLst/>
                  <a:rect l="l" t="t" r="r" b="b"/>
                  <a:pathLst>
                    <a:path w="645" h="621">
                      <a:moveTo>
                        <a:pt x="608" y="569"/>
                      </a:moveTo>
                      <a:lnTo>
                        <a:pt x="15" y="0"/>
                      </a:lnTo>
                      <a:lnTo>
                        <a:pt x="10" y="1"/>
                      </a:lnTo>
                      <a:lnTo>
                        <a:pt x="7" y="1"/>
                      </a:lnTo>
                      <a:lnTo>
                        <a:pt x="3" y="2"/>
                      </a:lnTo>
                      <a:lnTo>
                        <a:pt x="0" y="2"/>
                      </a:lnTo>
                      <a:lnTo>
                        <a:pt x="645" y="621"/>
                      </a:lnTo>
                      <a:lnTo>
                        <a:pt x="640" y="614"/>
                      </a:lnTo>
                      <a:lnTo>
                        <a:pt x="636" y="608"/>
                      </a:lnTo>
                      <a:lnTo>
                        <a:pt x="631" y="601"/>
                      </a:lnTo>
                      <a:lnTo>
                        <a:pt x="627" y="594"/>
                      </a:lnTo>
                      <a:lnTo>
                        <a:pt x="622" y="589"/>
                      </a:lnTo>
                      <a:lnTo>
                        <a:pt x="617" y="582"/>
                      </a:lnTo>
                      <a:lnTo>
                        <a:pt x="613" y="576"/>
                      </a:lnTo>
                      <a:lnTo>
                        <a:pt x="608" y="56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7981920" y="4054320"/>
                  <a:ext cx="635040" cy="611280"/>
                </a:xfrm>
                <a:custGeom>
                  <a:avLst/>
                  <a:gdLst/>
                  <a:ahLst/>
                  <a:rect l="l" t="t" r="r" b="b"/>
                  <a:pathLst>
                    <a:path w="593" h="572">
                      <a:moveTo>
                        <a:pt x="563" y="526"/>
                      </a:moveTo>
                      <a:lnTo>
                        <a:pt x="14" y="0"/>
                      </a:lnTo>
                      <a:lnTo>
                        <a:pt x="10" y="1"/>
                      </a:lnTo>
                      <a:lnTo>
                        <a:pt x="7" y="1"/>
                      </a:lnTo>
                      <a:lnTo>
                        <a:pt x="3" y="2"/>
                      </a:lnTo>
                      <a:lnTo>
                        <a:pt x="0" y="3"/>
                      </a:lnTo>
                      <a:lnTo>
                        <a:pt x="593" y="572"/>
                      </a:lnTo>
                      <a:lnTo>
                        <a:pt x="585" y="561"/>
                      </a:lnTo>
                      <a:lnTo>
                        <a:pt x="577" y="549"/>
                      </a:lnTo>
                      <a:lnTo>
                        <a:pt x="570" y="537"/>
                      </a:lnTo>
                      <a:lnTo>
                        <a:pt x="563" y="5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7996320" y="4049640"/>
                  <a:ext cx="588960" cy="566640"/>
                </a:xfrm>
                <a:custGeom>
                  <a:avLst/>
                  <a:gdLst/>
                  <a:ahLst/>
                  <a:rect l="l" t="t" r="r" b="b"/>
                  <a:pathLst>
                    <a:path w="549" h="530">
                      <a:moveTo>
                        <a:pt x="532" y="497"/>
                      </a:moveTo>
                      <a:lnTo>
                        <a:pt x="15" y="0"/>
                      </a:lnTo>
                      <a:lnTo>
                        <a:pt x="10" y="1"/>
                      </a:lnTo>
                      <a:lnTo>
                        <a:pt x="7" y="1"/>
                      </a:lnTo>
                      <a:lnTo>
                        <a:pt x="3" y="2"/>
                      </a:lnTo>
                      <a:lnTo>
                        <a:pt x="0" y="4"/>
                      </a:lnTo>
                      <a:lnTo>
                        <a:pt x="549" y="530"/>
                      </a:lnTo>
                      <a:lnTo>
                        <a:pt x="545" y="522"/>
                      </a:lnTo>
                      <a:lnTo>
                        <a:pt x="540" y="513"/>
                      </a:lnTo>
                      <a:lnTo>
                        <a:pt x="535" y="505"/>
                      </a:lnTo>
                      <a:lnTo>
                        <a:pt x="532" y="49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8013600" y="4046400"/>
                  <a:ext cx="552600" cy="533520"/>
                </a:xfrm>
                <a:custGeom>
                  <a:avLst/>
                  <a:gdLst/>
                  <a:ahLst/>
                  <a:rect l="l" t="t" r="r" b="b"/>
                  <a:pathLst>
                    <a:path w="517" h="499">
                      <a:moveTo>
                        <a:pt x="513" y="489"/>
                      </a:moveTo>
                      <a:lnTo>
                        <a:pt x="515" y="487"/>
                      </a:lnTo>
                      <a:lnTo>
                        <a:pt x="515" y="485"/>
                      </a:lnTo>
                      <a:lnTo>
                        <a:pt x="516" y="484"/>
                      </a:lnTo>
                      <a:lnTo>
                        <a:pt x="516" y="481"/>
                      </a:lnTo>
                      <a:lnTo>
                        <a:pt x="13" y="0"/>
                      </a:lnTo>
                      <a:lnTo>
                        <a:pt x="10" y="1"/>
                      </a:lnTo>
                      <a:lnTo>
                        <a:pt x="7" y="1"/>
                      </a:lnTo>
                      <a:lnTo>
                        <a:pt x="3" y="1"/>
                      </a:lnTo>
                      <a:lnTo>
                        <a:pt x="0" y="2"/>
                      </a:lnTo>
                      <a:lnTo>
                        <a:pt x="517" y="499"/>
                      </a:lnTo>
                      <a:lnTo>
                        <a:pt x="516" y="496"/>
                      </a:lnTo>
                      <a:lnTo>
                        <a:pt x="516" y="494"/>
                      </a:lnTo>
                      <a:lnTo>
                        <a:pt x="515" y="492"/>
                      </a:lnTo>
                      <a:lnTo>
                        <a:pt x="513" y="48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8029440" y="4043520"/>
                  <a:ext cx="541440" cy="520560"/>
                </a:xfrm>
                <a:custGeom>
                  <a:avLst/>
                  <a:gdLst/>
                  <a:ahLst/>
                  <a:rect l="l" t="t" r="r" b="b"/>
                  <a:pathLst>
                    <a:path w="507" h="485">
                      <a:moveTo>
                        <a:pt x="507" y="471"/>
                      </a:moveTo>
                      <a:lnTo>
                        <a:pt x="14" y="0"/>
                      </a:lnTo>
                      <a:lnTo>
                        <a:pt x="11" y="1"/>
                      </a:lnTo>
                      <a:lnTo>
                        <a:pt x="7" y="1"/>
                      </a:lnTo>
                      <a:lnTo>
                        <a:pt x="4" y="3"/>
                      </a:lnTo>
                      <a:lnTo>
                        <a:pt x="0" y="4"/>
                      </a:lnTo>
                      <a:lnTo>
                        <a:pt x="503" y="485"/>
                      </a:lnTo>
                      <a:lnTo>
                        <a:pt x="504" y="482"/>
                      </a:lnTo>
                      <a:lnTo>
                        <a:pt x="505" y="478"/>
                      </a:lnTo>
                      <a:lnTo>
                        <a:pt x="506" y="475"/>
                      </a:lnTo>
                      <a:lnTo>
                        <a:pt x="507" y="47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8043840" y="4038480"/>
                  <a:ext cx="530280" cy="509760"/>
                </a:xfrm>
                <a:custGeom>
                  <a:avLst/>
                  <a:gdLst/>
                  <a:ahLst/>
                  <a:rect l="l" t="t" r="r" b="b"/>
                  <a:pathLst>
                    <a:path w="497" h="474">
                      <a:moveTo>
                        <a:pt x="497" y="462"/>
                      </a:moveTo>
                      <a:lnTo>
                        <a:pt x="15" y="0"/>
                      </a:lnTo>
                      <a:lnTo>
                        <a:pt x="12" y="1"/>
                      </a:lnTo>
                      <a:lnTo>
                        <a:pt x="8" y="1"/>
                      </a:lnTo>
                      <a:lnTo>
                        <a:pt x="5" y="2"/>
                      </a:lnTo>
                      <a:lnTo>
                        <a:pt x="0" y="3"/>
                      </a:lnTo>
                      <a:lnTo>
                        <a:pt x="493" y="474"/>
                      </a:lnTo>
                      <a:lnTo>
                        <a:pt x="494" y="472"/>
                      </a:lnTo>
                      <a:lnTo>
                        <a:pt x="496" y="469"/>
                      </a:lnTo>
                      <a:lnTo>
                        <a:pt x="496" y="465"/>
                      </a:lnTo>
                      <a:lnTo>
                        <a:pt x="497" y="46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8059680" y="4037040"/>
                  <a:ext cx="519120" cy="496800"/>
                </a:xfrm>
                <a:custGeom>
                  <a:avLst/>
                  <a:gdLst/>
                  <a:ahLst/>
                  <a:rect l="l" t="t" r="r" b="b"/>
                  <a:pathLst>
                    <a:path w="485" h="466">
                      <a:moveTo>
                        <a:pt x="485" y="453"/>
                      </a:moveTo>
                      <a:lnTo>
                        <a:pt x="14" y="0"/>
                      </a:lnTo>
                      <a:lnTo>
                        <a:pt x="11" y="2"/>
                      </a:lnTo>
                      <a:lnTo>
                        <a:pt x="7" y="2"/>
                      </a:lnTo>
                      <a:lnTo>
                        <a:pt x="4" y="3"/>
                      </a:lnTo>
                      <a:lnTo>
                        <a:pt x="0" y="4"/>
                      </a:lnTo>
                      <a:lnTo>
                        <a:pt x="482" y="466"/>
                      </a:lnTo>
                      <a:lnTo>
                        <a:pt x="483" y="462"/>
                      </a:lnTo>
                      <a:lnTo>
                        <a:pt x="484" y="459"/>
                      </a:lnTo>
                      <a:lnTo>
                        <a:pt x="484" y="455"/>
                      </a:lnTo>
                      <a:lnTo>
                        <a:pt x="485" y="45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8074080" y="4032360"/>
                  <a:ext cx="509400" cy="488880"/>
                </a:xfrm>
                <a:custGeom>
                  <a:avLst/>
                  <a:gdLst/>
                  <a:ahLst/>
                  <a:rect l="l" t="t" r="r" b="b"/>
                  <a:pathLst>
                    <a:path w="476" h="456">
                      <a:moveTo>
                        <a:pt x="476" y="442"/>
                      </a:moveTo>
                      <a:lnTo>
                        <a:pt x="15" y="0"/>
                      </a:lnTo>
                      <a:lnTo>
                        <a:pt x="10" y="1"/>
                      </a:lnTo>
                      <a:lnTo>
                        <a:pt x="7" y="1"/>
                      </a:lnTo>
                      <a:lnTo>
                        <a:pt x="4" y="2"/>
                      </a:lnTo>
                      <a:lnTo>
                        <a:pt x="0" y="3"/>
                      </a:lnTo>
                      <a:lnTo>
                        <a:pt x="471" y="456"/>
                      </a:lnTo>
                      <a:lnTo>
                        <a:pt x="472" y="453"/>
                      </a:lnTo>
                      <a:lnTo>
                        <a:pt x="474" y="449"/>
                      </a:lnTo>
                      <a:lnTo>
                        <a:pt x="475" y="446"/>
                      </a:lnTo>
                      <a:lnTo>
                        <a:pt x="476" y="44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091360" y="4030560"/>
                  <a:ext cx="495360" cy="474840"/>
                </a:xfrm>
                <a:custGeom>
                  <a:avLst/>
                  <a:gdLst/>
                  <a:ahLst/>
                  <a:rect l="l" t="t" r="r" b="b"/>
                  <a:pathLst>
                    <a:path w="465" h="444">
                      <a:moveTo>
                        <a:pt x="465" y="432"/>
                      </a:moveTo>
                      <a:lnTo>
                        <a:pt x="14" y="0"/>
                      </a:lnTo>
                      <a:lnTo>
                        <a:pt x="10" y="1"/>
                      </a:lnTo>
                      <a:lnTo>
                        <a:pt x="7" y="1"/>
                      </a:lnTo>
                      <a:lnTo>
                        <a:pt x="4" y="1"/>
                      </a:lnTo>
                      <a:lnTo>
                        <a:pt x="0" y="2"/>
                      </a:lnTo>
                      <a:lnTo>
                        <a:pt x="461" y="444"/>
                      </a:lnTo>
                      <a:lnTo>
                        <a:pt x="462" y="442"/>
                      </a:lnTo>
                      <a:lnTo>
                        <a:pt x="463" y="439"/>
                      </a:lnTo>
                      <a:lnTo>
                        <a:pt x="464" y="435"/>
                      </a:lnTo>
                      <a:lnTo>
                        <a:pt x="465" y="43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8104320" y="4025880"/>
                  <a:ext cx="487080" cy="466920"/>
                </a:xfrm>
                <a:custGeom>
                  <a:avLst/>
                  <a:gdLst/>
                  <a:ahLst/>
                  <a:rect l="l" t="t" r="r" b="b"/>
                  <a:pathLst>
                    <a:path w="455" h="436">
                      <a:moveTo>
                        <a:pt x="455" y="423"/>
                      </a:moveTo>
                      <a:lnTo>
                        <a:pt x="15" y="0"/>
                      </a:lnTo>
                      <a:lnTo>
                        <a:pt x="10" y="1"/>
                      </a:lnTo>
                      <a:lnTo>
                        <a:pt x="7" y="1"/>
                      </a:lnTo>
                      <a:lnTo>
                        <a:pt x="3" y="2"/>
                      </a:lnTo>
                      <a:lnTo>
                        <a:pt x="0" y="4"/>
                      </a:lnTo>
                      <a:lnTo>
                        <a:pt x="451" y="436"/>
                      </a:lnTo>
                      <a:lnTo>
                        <a:pt x="453" y="432"/>
                      </a:lnTo>
                      <a:lnTo>
                        <a:pt x="454" y="429"/>
                      </a:lnTo>
                      <a:lnTo>
                        <a:pt x="454" y="426"/>
                      </a:lnTo>
                      <a:lnTo>
                        <a:pt x="455" y="4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8121600" y="4021200"/>
                  <a:ext cx="474840" cy="457200"/>
                </a:xfrm>
                <a:custGeom>
                  <a:avLst/>
                  <a:gdLst/>
                  <a:ahLst/>
                  <a:rect l="l" t="t" r="r" b="b"/>
                  <a:pathLst>
                    <a:path w="445" h="426">
                      <a:moveTo>
                        <a:pt x="445" y="413"/>
                      </a:moveTo>
                      <a:lnTo>
                        <a:pt x="13" y="0"/>
                      </a:lnTo>
                      <a:lnTo>
                        <a:pt x="9" y="1"/>
                      </a:lnTo>
                      <a:lnTo>
                        <a:pt x="6" y="1"/>
                      </a:lnTo>
                      <a:lnTo>
                        <a:pt x="2" y="2"/>
                      </a:lnTo>
                      <a:lnTo>
                        <a:pt x="0" y="3"/>
                      </a:lnTo>
                      <a:lnTo>
                        <a:pt x="440" y="426"/>
                      </a:lnTo>
                      <a:lnTo>
                        <a:pt x="441" y="422"/>
                      </a:lnTo>
                      <a:lnTo>
                        <a:pt x="442" y="419"/>
                      </a:lnTo>
                      <a:lnTo>
                        <a:pt x="443" y="416"/>
                      </a:lnTo>
                      <a:lnTo>
                        <a:pt x="445" y="4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8134200" y="4019400"/>
                  <a:ext cx="466920" cy="446400"/>
                </a:xfrm>
                <a:custGeom>
                  <a:avLst/>
                  <a:gdLst/>
                  <a:ahLst/>
                  <a:rect l="l" t="t" r="r" b="b"/>
                  <a:pathLst>
                    <a:path w="435" h="417">
                      <a:moveTo>
                        <a:pt x="435" y="403"/>
                      </a:moveTo>
                      <a:lnTo>
                        <a:pt x="15" y="0"/>
                      </a:lnTo>
                      <a:lnTo>
                        <a:pt x="10" y="1"/>
                      </a:lnTo>
                      <a:lnTo>
                        <a:pt x="6" y="1"/>
                      </a:lnTo>
                      <a:lnTo>
                        <a:pt x="3" y="3"/>
                      </a:lnTo>
                      <a:lnTo>
                        <a:pt x="0" y="4"/>
                      </a:lnTo>
                      <a:lnTo>
                        <a:pt x="432" y="417"/>
                      </a:lnTo>
                      <a:lnTo>
                        <a:pt x="433" y="414"/>
                      </a:lnTo>
                      <a:lnTo>
                        <a:pt x="434" y="410"/>
                      </a:lnTo>
                      <a:lnTo>
                        <a:pt x="434" y="407"/>
                      </a:lnTo>
                      <a:lnTo>
                        <a:pt x="435" y="40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8150400" y="4014720"/>
                  <a:ext cx="453960" cy="434880"/>
                </a:xfrm>
                <a:custGeom>
                  <a:avLst/>
                  <a:gdLst/>
                  <a:ahLst/>
                  <a:rect l="l" t="t" r="r" b="b"/>
                  <a:pathLst>
                    <a:path w="425" h="405">
                      <a:moveTo>
                        <a:pt x="425" y="393"/>
                      </a:moveTo>
                      <a:lnTo>
                        <a:pt x="13" y="0"/>
                      </a:lnTo>
                      <a:lnTo>
                        <a:pt x="10" y="1"/>
                      </a:lnTo>
                      <a:lnTo>
                        <a:pt x="6" y="1"/>
                      </a:lnTo>
                      <a:lnTo>
                        <a:pt x="3" y="2"/>
                      </a:lnTo>
                      <a:lnTo>
                        <a:pt x="0" y="2"/>
                      </a:lnTo>
                      <a:lnTo>
                        <a:pt x="420" y="405"/>
                      </a:lnTo>
                      <a:lnTo>
                        <a:pt x="421" y="403"/>
                      </a:lnTo>
                      <a:lnTo>
                        <a:pt x="422" y="400"/>
                      </a:lnTo>
                      <a:lnTo>
                        <a:pt x="423" y="396"/>
                      </a:lnTo>
                      <a:lnTo>
                        <a:pt x="425" y="39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8166240" y="4013280"/>
                  <a:ext cx="442800" cy="423720"/>
                </a:xfrm>
                <a:custGeom>
                  <a:avLst/>
                  <a:gdLst/>
                  <a:ahLst/>
                  <a:rect l="l" t="t" r="r" b="b"/>
                  <a:pathLst>
                    <a:path w="415" h="397">
                      <a:moveTo>
                        <a:pt x="415" y="384"/>
                      </a:moveTo>
                      <a:lnTo>
                        <a:pt x="15" y="0"/>
                      </a:lnTo>
                      <a:lnTo>
                        <a:pt x="12" y="2"/>
                      </a:lnTo>
                      <a:lnTo>
                        <a:pt x="8" y="2"/>
                      </a:lnTo>
                      <a:lnTo>
                        <a:pt x="4" y="3"/>
                      </a:lnTo>
                      <a:lnTo>
                        <a:pt x="0" y="4"/>
                      </a:lnTo>
                      <a:lnTo>
                        <a:pt x="412" y="397"/>
                      </a:lnTo>
                      <a:lnTo>
                        <a:pt x="413" y="393"/>
                      </a:lnTo>
                      <a:lnTo>
                        <a:pt x="414" y="390"/>
                      </a:lnTo>
                      <a:lnTo>
                        <a:pt x="414" y="386"/>
                      </a:lnTo>
                      <a:lnTo>
                        <a:pt x="415" y="38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8180280" y="4011480"/>
                  <a:ext cx="433440" cy="412920"/>
                </a:xfrm>
                <a:custGeom>
                  <a:avLst/>
                  <a:gdLst/>
                  <a:ahLst/>
                  <a:rect l="l" t="t" r="r" b="b"/>
                  <a:pathLst>
                    <a:path w="404" h="386">
                      <a:moveTo>
                        <a:pt x="404" y="372"/>
                      </a:moveTo>
                      <a:lnTo>
                        <a:pt x="15" y="0"/>
                      </a:lnTo>
                      <a:lnTo>
                        <a:pt x="11" y="1"/>
                      </a:lnTo>
                      <a:lnTo>
                        <a:pt x="7" y="1"/>
                      </a:lnTo>
                      <a:lnTo>
                        <a:pt x="4" y="1"/>
                      </a:lnTo>
                      <a:lnTo>
                        <a:pt x="0" y="2"/>
                      </a:lnTo>
                      <a:lnTo>
                        <a:pt x="400" y="386"/>
                      </a:lnTo>
                      <a:lnTo>
                        <a:pt x="401" y="383"/>
                      </a:lnTo>
                      <a:lnTo>
                        <a:pt x="402" y="379"/>
                      </a:lnTo>
                      <a:lnTo>
                        <a:pt x="402" y="376"/>
                      </a:lnTo>
                      <a:lnTo>
                        <a:pt x="404" y="37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8197920" y="4006800"/>
                  <a:ext cx="419040" cy="403200"/>
                </a:xfrm>
                <a:custGeom>
                  <a:avLst/>
                  <a:gdLst/>
                  <a:ahLst/>
                  <a:rect l="l" t="t" r="r" b="b"/>
                  <a:pathLst>
                    <a:path w="393" h="375">
                      <a:moveTo>
                        <a:pt x="393" y="361"/>
                      </a:moveTo>
                      <a:lnTo>
                        <a:pt x="14" y="0"/>
                      </a:lnTo>
                      <a:lnTo>
                        <a:pt x="11" y="1"/>
                      </a:lnTo>
                      <a:lnTo>
                        <a:pt x="7" y="1"/>
                      </a:lnTo>
                      <a:lnTo>
                        <a:pt x="4" y="2"/>
                      </a:lnTo>
                      <a:lnTo>
                        <a:pt x="0" y="3"/>
                      </a:lnTo>
                      <a:lnTo>
                        <a:pt x="389" y="375"/>
                      </a:lnTo>
                      <a:lnTo>
                        <a:pt x="390" y="372"/>
                      </a:lnTo>
                      <a:lnTo>
                        <a:pt x="391" y="368"/>
                      </a:lnTo>
                      <a:lnTo>
                        <a:pt x="392" y="365"/>
                      </a:lnTo>
                      <a:lnTo>
                        <a:pt x="393" y="36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8213760" y="4005360"/>
                  <a:ext cx="407880" cy="388800"/>
                </a:xfrm>
                <a:custGeom>
                  <a:avLst/>
                  <a:gdLst/>
                  <a:ahLst/>
                  <a:rect l="l" t="t" r="r" b="b"/>
                  <a:pathLst>
                    <a:path w="383" h="364">
                      <a:moveTo>
                        <a:pt x="383" y="352"/>
                      </a:moveTo>
                      <a:lnTo>
                        <a:pt x="15" y="0"/>
                      </a:lnTo>
                      <a:lnTo>
                        <a:pt x="12" y="2"/>
                      </a:lnTo>
                      <a:lnTo>
                        <a:pt x="8" y="2"/>
                      </a:lnTo>
                      <a:lnTo>
                        <a:pt x="5" y="3"/>
                      </a:lnTo>
                      <a:lnTo>
                        <a:pt x="0" y="3"/>
                      </a:lnTo>
                      <a:lnTo>
                        <a:pt x="379" y="364"/>
                      </a:lnTo>
                      <a:lnTo>
                        <a:pt x="380" y="362"/>
                      </a:lnTo>
                      <a:lnTo>
                        <a:pt x="381" y="359"/>
                      </a:lnTo>
                      <a:lnTo>
                        <a:pt x="381" y="355"/>
                      </a:lnTo>
                      <a:lnTo>
                        <a:pt x="383" y="35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8228160" y="4002120"/>
                  <a:ext cx="395280" cy="377640"/>
                </a:xfrm>
                <a:custGeom>
                  <a:avLst/>
                  <a:gdLst/>
                  <a:ahLst/>
                  <a:rect l="l" t="t" r="r" b="b"/>
                  <a:pathLst>
                    <a:path w="370" h="354">
                      <a:moveTo>
                        <a:pt x="370" y="340"/>
                      </a:moveTo>
                      <a:lnTo>
                        <a:pt x="15" y="0"/>
                      </a:lnTo>
                      <a:lnTo>
                        <a:pt x="12" y="1"/>
                      </a:lnTo>
                      <a:lnTo>
                        <a:pt x="8" y="1"/>
                      </a:lnTo>
                      <a:lnTo>
                        <a:pt x="5" y="1"/>
                      </a:lnTo>
                      <a:lnTo>
                        <a:pt x="0" y="2"/>
                      </a:lnTo>
                      <a:lnTo>
                        <a:pt x="368" y="354"/>
                      </a:lnTo>
                      <a:lnTo>
                        <a:pt x="369" y="350"/>
                      </a:lnTo>
                      <a:lnTo>
                        <a:pt x="369" y="347"/>
                      </a:lnTo>
                      <a:lnTo>
                        <a:pt x="370" y="343"/>
                      </a:lnTo>
                      <a:lnTo>
                        <a:pt x="370" y="34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8245440" y="3997440"/>
                  <a:ext cx="382680" cy="366480"/>
                </a:xfrm>
                <a:custGeom>
                  <a:avLst/>
                  <a:gdLst/>
                  <a:ahLst/>
                  <a:rect l="l" t="t" r="r" b="b"/>
                  <a:pathLst>
                    <a:path w="358" h="342">
                      <a:moveTo>
                        <a:pt x="358" y="327"/>
                      </a:moveTo>
                      <a:lnTo>
                        <a:pt x="16" y="0"/>
                      </a:lnTo>
                      <a:lnTo>
                        <a:pt x="12" y="0"/>
                      </a:lnTo>
                      <a:lnTo>
                        <a:pt x="8" y="1"/>
                      </a:lnTo>
                      <a:lnTo>
                        <a:pt x="5" y="1"/>
                      </a:lnTo>
                      <a:lnTo>
                        <a:pt x="0" y="2"/>
                      </a:lnTo>
                      <a:lnTo>
                        <a:pt x="355" y="342"/>
                      </a:lnTo>
                      <a:lnTo>
                        <a:pt x="356" y="338"/>
                      </a:lnTo>
                      <a:lnTo>
                        <a:pt x="357" y="335"/>
                      </a:lnTo>
                      <a:lnTo>
                        <a:pt x="357" y="332"/>
                      </a:lnTo>
                      <a:lnTo>
                        <a:pt x="358" y="3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8263080" y="3995640"/>
                  <a:ext cx="366480" cy="354240"/>
                </a:xfrm>
                <a:custGeom>
                  <a:avLst/>
                  <a:gdLst/>
                  <a:ahLst/>
                  <a:rect l="l" t="t" r="r" b="b"/>
                  <a:pathLst>
                    <a:path w="345" h="329">
                      <a:moveTo>
                        <a:pt x="345" y="315"/>
                      </a:moveTo>
                      <a:lnTo>
                        <a:pt x="15" y="0"/>
                      </a:lnTo>
                      <a:lnTo>
                        <a:pt x="11" y="0"/>
                      </a:lnTo>
                      <a:lnTo>
                        <a:pt x="7" y="1"/>
                      </a:lnTo>
                      <a:lnTo>
                        <a:pt x="4" y="1"/>
                      </a:lnTo>
                      <a:lnTo>
                        <a:pt x="0" y="2"/>
                      </a:lnTo>
                      <a:lnTo>
                        <a:pt x="342" y="329"/>
                      </a:lnTo>
                      <a:lnTo>
                        <a:pt x="343" y="326"/>
                      </a:lnTo>
                      <a:lnTo>
                        <a:pt x="343" y="322"/>
                      </a:lnTo>
                      <a:lnTo>
                        <a:pt x="345" y="319"/>
                      </a:lnTo>
                      <a:lnTo>
                        <a:pt x="345" y="3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8277120" y="3994200"/>
                  <a:ext cx="355680" cy="339840"/>
                </a:xfrm>
                <a:custGeom>
                  <a:avLst/>
                  <a:gdLst/>
                  <a:ahLst/>
                  <a:rect l="l" t="t" r="r" b="b"/>
                  <a:pathLst>
                    <a:path w="332" h="318">
                      <a:moveTo>
                        <a:pt x="332" y="303"/>
                      </a:moveTo>
                      <a:lnTo>
                        <a:pt x="15" y="0"/>
                      </a:lnTo>
                      <a:lnTo>
                        <a:pt x="12" y="1"/>
                      </a:lnTo>
                      <a:lnTo>
                        <a:pt x="8" y="1"/>
                      </a:lnTo>
                      <a:lnTo>
                        <a:pt x="4" y="1"/>
                      </a:lnTo>
                      <a:lnTo>
                        <a:pt x="0" y="3"/>
                      </a:lnTo>
                      <a:lnTo>
                        <a:pt x="330" y="318"/>
                      </a:lnTo>
                      <a:lnTo>
                        <a:pt x="331" y="315"/>
                      </a:lnTo>
                      <a:lnTo>
                        <a:pt x="331" y="310"/>
                      </a:lnTo>
                      <a:lnTo>
                        <a:pt x="332" y="307"/>
                      </a:lnTo>
                      <a:lnTo>
                        <a:pt x="332" y="30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8294760" y="3990960"/>
                  <a:ext cx="339480" cy="328680"/>
                </a:xfrm>
                <a:custGeom>
                  <a:avLst/>
                  <a:gdLst/>
                  <a:ahLst/>
                  <a:rect l="l" t="t" r="r" b="b"/>
                  <a:pathLst>
                    <a:path w="319" h="305">
                      <a:moveTo>
                        <a:pt x="319" y="290"/>
                      </a:moveTo>
                      <a:lnTo>
                        <a:pt x="16" y="0"/>
                      </a:lnTo>
                      <a:lnTo>
                        <a:pt x="12" y="1"/>
                      </a:lnTo>
                      <a:lnTo>
                        <a:pt x="8" y="1"/>
                      </a:lnTo>
                      <a:lnTo>
                        <a:pt x="5" y="1"/>
                      </a:lnTo>
                      <a:lnTo>
                        <a:pt x="0" y="2"/>
                      </a:lnTo>
                      <a:lnTo>
                        <a:pt x="317" y="305"/>
                      </a:lnTo>
                      <a:lnTo>
                        <a:pt x="318" y="302"/>
                      </a:lnTo>
                      <a:lnTo>
                        <a:pt x="318" y="297"/>
                      </a:lnTo>
                      <a:lnTo>
                        <a:pt x="318" y="294"/>
                      </a:lnTo>
                      <a:lnTo>
                        <a:pt x="319" y="29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8312040" y="3989520"/>
                  <a:ext cx="325440" cy="312480"/>
                </a:xfrm>
                <a:custGeom>
                  <a:avLst/>
                  <a:gdLst/>
                  <a:ahLst/>
                  <a:rect l="l" t="t" r="r" b="b"/>
                  <a:pathLst>
                    <a:path w="304" h="291">
                      <a:moveTo>
                        <a:pt x="304" y="275"/>
                      </a:moveTo>
                      <a:lnTo>
                        <a:pt x="16" y="0"/>
                      </a:lnTo>
                      <a:lnTo>
                        <a:pt x="12" y="0"/>
                      </a:lnTo>
                      <a:lnTo>
                        <a:pt x="8" y="0"/>
                      </a:lnTo>
                      <a:lnTo>
                        <a:pt x="4" y="1"/>
                      </a:lnTo>
                      <a:lnTo>
                        <a:pt x="0" y="1"/>
                      </a:lnTo>
                      <a:lnTo>
                        <a:pt x="303" y="291"/>
                      </a:lnTo>
                      <a:lnTo>
                        <a:pt x="303" y="287"/>
                      </a:lnTo>
                      <a:lnTo>
                        <a:pt x="304" y="283"/>
                      </a:lnTo>
                      <a:lnTo>
                        <a:pt x="304" y="280"/>
                      </a:lnTo>
                      <a:lnTo>
                        <a:pt x="304" y="27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8327880" y="3989520"/>
                  <a:ext cx="309600" cy="295200"/>
                </a:xfrm>
                <a:custGeom>
                  <a:avLst/>
                  <a:gdLst/>
                  <a:ahLst/>
                  <a:rect l="l" t="t" r="r" b="b"/>
                  <a:pathLst>
                    <a:path w="288" h="276">
                      <a:moveTo>
                        <a:pt x="288" y="260"/>
                      </a:moveTo>
                      <a:lnTo>
                        <a:pt x="17" y="0"/>
                      </a:lnTo>
                      <a:lnTo>
                        <a:pt x="12" y="0"/>
                      </a:lnTo>
                      <a:lnTo>
                        <a:pt x="8" y="0"/>
                      </a:lnTo>
                      <a:lnTo>
                        <a:pt x="4" y="0"/>
                      </a:lnTo>
                      <a:lnTo>
                        <a:pt x="0" y="1"/>
                      </a:lnTo>
                      <a:lnTo>
                        <a:pt x="288" y="276"/>
                      </a:lnTo>
                      <a:lnTo>
                        <a:pt x="288" y="273"/>
                      </a:lnTo>
                      <a:lnTo>
                        <a:pt x="288" y="268"/>
                      </a:lnTo>
                      <a:lnTo>
                        <a:pt x="288" y="265"/>
                      </a:lnTo>
                      <a:lnTo>
                        <a:pt x="288" y="26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8345520" y="3987720"/>
                  <a:ext cx="291960" cy="279360"/>
                </a:xfrm>
                <a:custGeom>
                  <a:avLst/>
                  <a:gdLst/>
                  <a:ahLst/>
                  <a:rect l="l" t="t" r="r" b="b"/>
                  <a:pathLst>
                    <a:path w="271" h="262">
                      <a:moveTo>
                        <a:pt x="271" y="245"/>
                      </a:moveTo>
                      <a:lnTo>
                        <a:pt x="16" y="0"/>
                      </a:lnTo>
                      <a:lnTo>
                        <a:pt x="11" y="0"/>
                      </a:lnTo>
                      <a:lnTo>
                        <a:pt x="8" y="0"/>
                      </a:lnTo>
                      <a:lnTo>
                        <a:pt x="3" y="0"/>
                      </a:lnTo>
                      <a:lnTo>
                        <a:pt x="0" y="2"/>
                      </a:lnTo>
                      <a:lnTo>
                        <a:pt x="271" y="262"/>
                      </a:lnTo>
                      <a:lnTo>
                        <a:pt x="271" y="257"/>
                      </a:lnTo>
                      <a:lnTo>
                        <a:pt x="271" y="253"/>
                      </a:lnTo>
                      <a:lnTo>
                        <a:pt x="271" y="249"/>
                      </a:lnTo>
                      <a:lnTo>
                        <a:pt x="271" y="24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8362800" y="3987720"/>
                  <a:ext cx="274680" cy="260280"/>
                </a:xfrm>
                <a:custGeom>
                  <a:avLst/>
                  <a:gdLst/>
                  <a:ahLst/>
                  <a:rect l="l" t="t" r="r" b="b"/>
                  <a:pathLst>
                    <a:path w="255" h="246">
                      <a:moveTo>
                        <a:pt x="253" y="227"/>
                      </a:moveTo>
                      <a:lnTo>
                        <a:pt x="16" y="0"/>
                      </a:lnTo>
                      <a:lnTo>
                        <a:pt x="12" y="0"/>
                      </a:lnTo>
                      <a:lnTo>
                        <a:pt x="8" y="0"/>
                      </a:lnTo>
                      <a:lnTo>
                        <a:pt x="4" y="0"/>
                      </a:lnTo>
                      <a:lnTo>
                        <a:pt x="0" y="1"/>
                      </a:lnTo>
                      <a:lnTo>
                        <a:pt x="255" y="246"/>
                      </a:lnTo>
                      <a:lnTo>
                        <a:pt x="255" y="241"/>
                      </a:lnTo>
                      <a:lnTo>
                        <a:pt x="254" y="236"/>
                      </a:lnTo>
                      <a:lnTo>
                        <a:pt x="254" y="232"/>
                      </a:lnTo>
                      <a:lnTo>
                        <a:pt x="253" y="2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8380440" y="3987720"/>
                  <a:ext cx="253800" cy="241560"/>
                </a:xfrm>
                <a:custGeom>
                  <a:avLst/>
                  <a:gdLst/>
                  <a:ahLst/>
                  <a:rect l="l" t="t" r="r" b="b"/>
                  <a:pathLst>
                    <a:path w="237" h="227">
                      <a:moveTo>
                        <a:pt x="235" y="208"/>
                      </a:moveTo>
                      <a:lnTo>
                        <a:pt x="18" y="0"/>
                      </a:lnTo>
                      <a:lnTo>
                        <a:pt x="14" y="0"/>
                      </a:lnTo>
                      <a:lnTo>
                        <a:pt x="9" y="0"/>
                      </a:lnTo>
                      <a:lnTo>
                        <a:pt x="4" y="0"/>
                      </a:lnTo>
                      <a:lnTo>
                        <a:pt x="0" y="0"/>
                      </a:lnTo>
                      <a:lnTo>
                        <a:pt x="237" y="227"/>
                      </a:lnTo>
                      <a:lnTo>
                        <a:pt x="237" y="223"/>
                      </a:lnTo>
                      <a:lnTo>
                        <a:pt x="236" y="217"/>
                      </a:lnTo>
                      <a:lnTo>
                        <a:pt x="236" y="212"/>
                      </a:lnTo>
                      <a:lnTo>
                        <a:pt x="235" y="20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8399520" y="3987720"/>
                  <a:ext cx="230040" cy="220680"/>
                </a:xfrm>
                <a:custGeom>
                  <a:avLst/>
                  <a:gdLst/>
                  <a:ahLst/>
                  <a:rect l="l" t="t" r="r" b="b"/>
                  <a:pathLst>
                    <a:path w="217" h="208">
                      <a:moveTo>
                        <a:pt x="211" y="186"/>
                      </a:moveTo>
                      <a:lnTo>
                        <a:pt x="17" y="0"/>
                      </a:lnTo>
                      <a:lnTo>
                        <a:pt x="13" y="0"/>
                      </a:lnTo>
                      <a:lnTo>
                        <a:pt x="9" y="0"/>
                      </a:lnTo>
                      <a:lnTo>
                        <a:pt x="5" y="0"/>
                      </a:lnTo>
                      <a:lnTo>
                        <a:pt x="0" y="0"/>
                      </a:lnTo>
                      <a:lnTo>
                        <a:pt x="217" y="208"/>
                      </a:lnTo>
                      <a:lnTo>
                        <a:pt x="216" y="202"/>
                      </a:lnTo>
                      <a:lnTo>
                        <a:pt x="214" y="196"/>
                      </a:lnTo>
                      <a:lnTo>
                        <a:pt x="212" y="192"/>
                      </a:lnTo>
                      <a:lnTo>
                        <a:pt x="211" y="18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418600" y="3987720"/>
                  <a:ext cx="207720" cy="196920"/>
                </a:xfrm>
                <a:custGeom>
                  <a:avLst/>
                  <a:gdLst/>
                  <a:ahLst/>
                  <a:rect l="l" t="t" r="r" b="b"/>
                  <a:pathLst>
                    <a:path w="194" h="186">
                      <a:moveTo>
                        <a:pt x="185" y="160"/>
                      </a:moveTo>
                      <a:lnTo>
                        <a:pt x="20" y="1"/>
                      </a:lnTo>
                      <a:lnTo>
                        <a:pt x="15" y="1"/>
                      </a:lnTo>
                      <a:lnTo>
                        <a:pt x="11" y="0"/>
                      </a:lnTo>
                      <a:lnTo>
                        <a:pt x="5" y="0"/>
                      </a:lnTo>
                      <a:lnTo>
                        <a:pt x="0" y="0"/>
                      </a:lnTo>
                      <a:lnTo>
                        <a:pt x="194" y="186"/>
                      </a:lnTo>
                      <a:lnTo>
                        <a:pt x="192" y="179"/>
                      </a:lnTo>
                      <a:lnTo>
                        <a:pt x="189" y="173"/>
                      </a:lnTo>
                      <a:lnTo>
                        <a:pt x="187" y="166"/>
                      </a:lnTo>
                      <a:lnTo>
                        <a:pt x="185" y="16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439120" y="3987720"/>
                  <a:ext cx="176400" cy="171360"/>
                </a:xfrm>
                <a:custGeom>
                  <a:avLst/>
                  <a:gdLst/>
                  <a:ahLst/>
                  <a:rect l="l" t="t" r="r" b="b"/>
                  <a:pathLst>
                    <a:path w="165" h="159">
                      <a:moveTo>
                        <a:pt x="150" y="127"/>
                      </a:moveTo>
                      <a:lnTo>
                        <a:pt x="21" y="4"/>
                      </a:lnTo>
                      <a:lnTo>
                        <a:pt x="16" y="3"/>
                      </a:lnTo>
                      <a:lnTo>
                        <a:pt x="10" y="2"/>
                      </a:lnTo>
                      <a:lnTo>
                        <a:pt x="6" y="2"/>
                      </a:lnTo>
                      <a:lnTo>
                        <a:pt x="0" y="0"/>
                      </a:lnTo>
                      <a:lnTo>
                        <a:pt x="165" y="159"/>
                      </a:lnTo>
                      <a:lnTo>
                        <a:pt x="161" y="151"/>
                      </a:lnTo>
                      <a:lnTo>
                        <a:pt x="158" y="143"/>
                      </a:lnTo>
                      <a:lnTo>
                        <a:pt x="154" y="135"/>
                      </a:lnTo>
                      <a:lnTo>
                        <a:pt x="150" y="1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8461440" y="3990960"/>
                  <a:ext cx="136440" cy="133200"/>
                </a:xfrm>
                <a:custGeom>
                  <a:avLst/>
                  <a:gdLst/>
                  <a:ahLst/>
                  <a:rect l="l" t="t" r="r" b="b"/>
                  <a:pathLst>
                    <a:path w="129" h="123">
                      <a:moveTo>
                        <a:pt x="87" y="67"/>
                      </a:moveTo>
                      <a:lnTo>
                        <a:pt x="23" y="5"/>
                      </a:lnTo>
                      <a:lnTo>
                        <a:pt x="17" y="3"/>
                      </a:lnTo>
                      <a:lnTo>
                        <a:pt x="11" y="2"/>
                      </a:lnTo>
                      <a:lnTo>
                        <a:pt x="6" y="1"/>
                      </a:lnTo>
                      <a:lnTo>
                        <a:pt x="0" y="0"/>
                      </a:lnTo>
                      <a:lnTo>
                        <a:pt x="129" y="123"/>
                      </a:lnTo>
                      <a:lnTo>
                        <a:pt x="124" y="116"/>
                      </a:lnTo>
                      <a:lnTo>
                        <a:pt x="121" y="109"/>
                      </a:lnTo>
                      <a:lnTo>
                        <a:pt x="116" y="102"/>
                      </a:lnTo>
                      <a:lnTo>
                        <a:pt x="110" y="94"/>
                      </a:lnTo>
                      <a:lnTo>
                        <a:pt x="106" y="87"/>
                      </a:lnTo>
                      <a:lnTo>
                        <a:pt x="100" y="81"/>
                      </a:lnTo>
                      <a:lnTo>
                        <a:pt x="93" y="74"/>
                      </a:lnTo>
                      <a:lnTo>
                        <a:pt x="87" y="6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8485200" y="3995640"/>
                  <a:ext cx="69840" cy="66600"/>
                </a:xfrm>
                <a:custGeom>
                  <a:avLst/>
                  <a:gdLst/>
                  <a:ahLst/>
                  <a:rect l="l" t="t" r="r" b="b"/>
                  <a:pathLst>
                    <a:path w="64" h="62">
                      <a:moveTo>
                        <a:pt x="62" y="59"/>
                      </a:moveTo>
                      <a:lnTo>
                        <a:pt x="59" y="48"/>
                      </a:lnTo>
                      <a:lnTo>
                        <a:pt x="55" y="39"/>
                      </a:lnTo>
                      <a:lnTo>
                        <a:pt x="48" y="29"/>
                      </a:lnTo>
                      <a:lnTo>
                        <a:pt x="41" y="21"/>
                      </a:lnTo>
                      <a:lnTo>
                        <a:pt x="33" y="14"/>
                      </a:lnTo>
                      <a:lnTo>
                        <a:pt x="23" y="9"/>
                      </a:lnTo>
                      <a:lnTo>
                        <a:pt x="11" y="4"/>
                      </a:lnTo>
                      <a:lnTo>
                        <a:pt x="0" y="0"/>
                      </a:lnTo>
                      <a:lnTo>
                        <a:pt x="64" y="62"/>
                      </a:lnTo>
                      <a:lnTo>
                        <a:pt x="63" y="61"/>
                      </a:lnTo>
                      <a:lnTo>
                        <a:pt x="63" y="61"/>
                      </a:lnTo>
                      <a:lnTo>
                        <a:pt x="63" y="61"/>
                      </a:lnTo>
                      <a:lnTo>
                        <a:pt x="62" y="5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49" name=""/>
                <p:cNvSpPr/>
                <p:nvPr/>
              </p:nvSpPr>
              <p:spPr>
                <a:xfrm>
                  <a:off x="8589960" y="5091120"/>
                  <a:ext cx="47520" cy="63360"/>
                </a:xfrm>
                <a:custGeom>
                  <a:avLst/>
                  <a:gdLst/>
                  <a:ahLst/>
                  <a:rect l="l" t="t" r="r" b="b"/>
                  <a:pathLst>
                    <a:path w="45" h="61">
                      <a:moveTo>
                        <a:pt x="0" y="23"/>
                      </a:moveTo>
                      <a:lnTo>
                        <a:pt x="39" y="61"/>
                      </a:lnTo>
                      <a:lnTo>
                        <a:pt x="40" y="55"/>
                      </a:lnTo>
                      <a:lnTo>
                        <a:pt x="42" y="51"/>
                      </a:lnTo>
                      <a:lnTo>
                        <a:pt x="43" y="45"/>
                      </a:lnTo>
                      <a:lnTo>
                        <a:pt x="45" y="40"/>
                      </a:lnTo>
                      <a:lnTo>
                        <a:pt x="3" y="0"/>
                      </a:lnTo>
                      <a:lnTo>
                        <a:pt x="2" y="6"/>
                      </a:lnTo>
                      <a:lnTo>
                        <a:pt x="2" y="12"/>
                      </a:lnTo>
                      <a:lnTo>
                        <a:pt x="1" y="17"/>
                      </a:lnTo>
                      <a:lnTo>
                        <a:pt x="0"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0" name=""/>
                <p:cNvSpPr/>
                <p:nvPr/>
              </p:nvSpPr>
              <p:spPr>
                <a:xfrm>
                  <a:off x="7086600" y="3672000"/>
                  <a:ext cx="903240" cy="839520"/>
                </a:xfrm>
                <a:custGeom>
                  <a:avLst/>
                  <a:gdLst/>
                  <a:ahLst/>
                  <a:rect l="l" t="t" r="r" b="b"/>
                  <a:pathLst>
                    <a:path w="846" h="783">
                      <a:moveTo>
                        <a:pt x="0" y="0"/>
                      </a:moveTo>
                      <a:lnTo>
                        <a:pt x="283" y="270"/>
                      </a:lnTo>
                      <a:lnTo>
                        <a:pt x="283" y="270"/>
                      </a:lnTo>
                      <a:lnTo>
                        <a:pt x="284" y="270"/>
                      </a:lnTo>
                      <a:lnTo>
                        <a:pt x="284" y="270"/>
                      </a:lnTo>
                      <a:lnTo>
                        <a:pt x="284" y="270"/>
                      </a:lnTo>
                      <a:lnTo>
                        <a:pt x="284" y="270"/>
                      </a:lnTo>
                      <a:lnTo>
                        <a:pt x="284" y="270"/>
                      </a:lnTo>
                      <a:lnTo>
                        <a:pt x="284" y="270"/>
                      </a:lnTo>
                      <a:lnTo>
                        <a:pt x="284" y="270"/>
                      </a:lnTo>
                      <a:lnTo>
                        <a:pt x="814" y="778"/>
                      </a:lnTo>
                      <a:lnTo>
                        <a:pt x="822" y="780"/>
                      </a:lnTo>
                      <a:lnTo>
                        <a:pt x="830" y="782"/>
                      </a:lnTo>
                      <a:lnTo>
                        <a:pt x="838" y="783"/>
                      </a:lnTo>
                      <a:lnTo>
                        <a:pt x="846" y="783"/>
                      </a:lnTo>
                      <a:lnTo>
                        <a:pt x="27" y="0"/>
                      </a:lnTo>
                      <a:lnTo>
                        <a:pt x="20" y="0"/>
                      </a:lnTo>
                      <a:lnTo>
                        <a:pt x="13" y="0"/>
                      </a:lnTo>
                      <a:lnTo>
                        <a:pt x="6" y="0"/>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7058160" y="3672000"/>
                  <a:ext cx="331560" cy="303120"/>
                </a:xfrm>
                <a:custGeom>
                  <a:avLst/>
                  <a:gdLst/>
                  <a:ahLst/>
                  <a:rect l="l" t="t" r="r" b="b"/>
                  <a:pathLst>
                    <a:path w="309" h="281">
                      <a:moveTo>
                        <a:pt x="0" y="1"/>
                      </a:moveTo>
                      <a:lnTo>
                        <a:pt x="292" y="281"/>
                      </a:lnTo>
                      <a:lnTo>
                        <a:pt x="296" y="278"/>
                      </a:lnTo>
                      <a:lnTo>
                        <a:pt x="301" y="276"/>
                      </a:lnTo>
                      <a:lnTo>
                        <a:pt x="304" y="274"/>
                      </a:lnTo>
                      <a:lnTo>
                        <a:pt x="309" y="270"/>
                      </a:lnTo>
                      <a:lnTo>
                        <a:pt x="26" y="0"/>
                      </a:lnTo>
                      <a:lnTo>
                        <a:pt x="19" y="0"/>
                      </a:lnTo>
                      <a:lnTo>
                        <a:pt x="14" y="0"/>
                      </a:lnTo>
                      <a:lnTo>
                        <a:pt x="7" y="1"/>
                      </a:lnTo>
                      <a:lnTo>
                        <a:pt x="0"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8585280" y="5113440"/>
                  <a:ext cx="44280" cy="63360"/>
                </a:xfrm>
                <a:custGeom>
                  <a:avLst/>
                  <a:gdLst/>
                  <a:ahLst/>
                  <a:rect l="l" t="t" r="r" b="b"/>
                  <a:pathLst>
                    <a:path w="43" h="58">
                      <a:moveTo>
                        <a:pt x="0" y="22"/>
                      </a:moveTo>
                      <a:lnTo>
                        <a:pt x="37" y="58"/>
                      </a:lnTo>
                      <a:lnTo>
                        <a:pt x="38" y="53"/>
                      </a:lnTo>
                      <a:lnTo>
                        <a:pt x="40" y="47"/>
                      </a:lnTo>
                      <a:lnTo>
                        <a:pt x="42" y="43"/>
                      </a:lnTo>
                      <a:lnTo>
                        <a:pt x="43" y="38"/>
                      </a:lnTo>
                      <a:lnTo>
                        <a:pt x="4" y="0"/>
                      </a:lnTo>
                      <a:lnTo>
                        <a:pt x="2" y="6"/>
                      </a:lnTo>
                      <a:lnTo>
                        <a:pt x="2" y="12"/>
                      </a:lnTo>
                      <a:lnTo>
                        <a:pt x="1" y="16"/>
                      </a:lnTo>
                      <a:lnTo>
                        <a:pt x="0" y="2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53" name=""/>
                <p:cNvSpPr/>
                <p:nvPr/>
              </p:nvSpPr>
              <p:spPr>
                <a:xfrm>
                  <a:off x="7383600" y="3963960"/>
                  <a:ext cx="573120" cy="544680"/>
                </a:xfrm>
                <a:custGeom>
                  <a:avLst/>
                  <a:gdLst/>
                  <a:ahLst/>
                  <a:rect l="l" t="t" r="r" b="b"/>
                  <a:pathLst>
                    <a:path w="537" h="508">
                      <a:moveTo>
                        <a:pt x="0" y="20"/>
                      </a:moveTo>
                      <a:lnTo>
                        <a:pt x="496" y="496"/>
                      </a:lnTo>
                      <a:lnTo>
                        <a:pt x="501" y="497"/>
                      </a:lnTo>
                      <a:lnTo>
                        <a:pt x="506" y="499"/>
                      </a:lnTo>
                      <a:lnTo>
                        <a:pt x="511" y="500"/>
                      </a:lnTo>
                      <a:lnTo>
                        <a:pt x="516" y="503"/>
                      </a:lnTo>
                      <a:lnTo>
                        <a:pt x="522" y="504"/>
                      </a:lnTo>
                      <a:lnTo>
                        <a:pt x="526" y="506"/>
                      </a:lnTo>
                      <a:lnTo>
                        <a:pt x="532" y="507"/>
                      </a:lnTo>
                      <a:lnTo>
                        <a:pt x="537" y="508"/>
                      </a:lnTo>
                      <a:lnTo>
                        <a:pt x="7" y="0"/>
                      </a:lnTo>
                      <a:lnTo>
                        <a:pt x="6" y="5"/>
                      </a:lnTo>
                      <a:lnTo>
                        <a:pt x="3" y="10"/>
                      </a:lnTo>
                      <a:lnTo>
                        <a:pt x="2"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8578800" y="5137200"/>
                  <a:ext cx="47520" cy="60120"/>
                </a:xfrm>
                <a:custGeom>
                  <a:avLst/>
                  <a:gdLst/>
                  <a:ahLst/>
                  <a:rect l="l" t="t" r="r" b="b"/>
                  <a:pathLst>
                    <a:path w="43" h="55">
                      <a:moveTo>
                        <a:pt x="0" y="21"/>
                      </a:moveTo>
                      <a:lnTo>
                        <a:pt x="36" y="55"/>
                      </a:lnTo>
                      <a:lnTo>
                        <a:pt x="38" y="51"/>
                      </a:lnTo>
                      <a:lnTo>
                        <a:pt x="40" y="45"/>
                      </a:lnTo>
                      <a:lnTo>
                        <a:pt x="42" y="40"/>
                      </a:lnTo>
                      <a:lnTo>
                        <a:pt x="43" y="36"/>
                      </a:lnTo>
                      <a:lnTo>
                        <a:pt x="6" y="0"/>
                      </a:lnTo>
                      <a:lnTo>
                        <a:pt x="5" y="5"/>
                      </a:lnTo>
                      <a:lnTo>
                        <a:pt x="4" y="10"/>
                      </a:lnTo>
                      <a:lnTo>
                        <a:pt x="2" y="15"/>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55" name=""/>
                <p:cNvSpPr/>
                <p:nvPr/>
              </p:nvSpPr>
              <p:spPr>
                <a:xfrm>
                  <a:off x="7373880" y="3983040"/>
                  <a:ext cx="539640" cy="509760"/>
                </a:xfrm>
                <a:custGeom>
                  <a:avLst/>
                  <a:gdLst/>
                  <a:ahLst/>
                  <a:rect l="l" t="t" r="r" b="b"/>
                  <a:pathLst>
                    <a:path w="504" h="476">
                      <a:moveTo>
                        <a:pt x="0" y="18"/>
                      </a:moveTo>
                      <a:lnTo>
                        <a:pt x="461" y="460"/>
                      </a:lnTo>
                      <a:lnTo>
                        <a:pt x="466" y="462"/>
                      </a:lnTo>
                      <a:lnTo>
                        <a:pt x="472" y="463"/>
                      </a:lnTo>
                      <a:lnTo>
                        <a:pt x="477" y="465"/>
                      </a:lnTo>
                      <a:lnTo>
                        <a:pt x="482" y="468"/>
                      </a:lnTo>
                      <a:lnTo>
                        <a:pt x="488" y="469"/>
                      </a:lnTo>
                      <a:lnTo>
                        <a:pt x="493" y="471"/>
                      </a:lnTo>
                      <a:lnTo>
                        <a:pt x="499" y="473"/>
                      </a:lnTo>
                      <a:lnTo>
                        <a:pt x="504" y="476"/>
                      </a:lnTo>
                      <a:lnTo>
                        <a:pt x="8" y="0"/>
                      </a:lnTo>
                      <a:lnTo>
                        <a:pt x="6" y="5"/>
                      </a:lnTo>
                      <a:lnTo>
                        <a:pt x="4" y="9"/>
                      </a:lnTo>
                      <a:lnTo>
                        <a:pt x="2" y="14"/>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7031160" y="3675240"/>
                  <a:ext cx="341280" cy="307800"/>
                </a:xfrm>
                <a:custGeom>
                  <a:avLst/>
                  <a:gdLst/>
                  <a:ahLst/>
                  <a:rect l="l" t="t" r="r" b="b"/>
                  <a:pathLst>
                    <a:path w="317" h="289">
                      <a:moveTo>
                        <a:pt x="0" y="1"/>
                      </a:moveTo>
                      <a:lnTo>
                        <a:pt x="300" y="289"/>
                      </a:lnTo>
                      <a:lnTo>
                        <a:pt x="301" y="287"/>
                      </a:lnTo>
                      <a:lnTo>
                        <a:pt x="304" y="286"/>
                      </a:lnTo>
                      <a:lnTo>
                        <a:pt x="305" y="283"/>
                      </a:lnTo>
                      <a:lnTo>
                        <a:pt x="306" y="281"/>
                      </a:lnTo>
                      <a:lnTo>
                        <a:pt x="309" y="281"/>
                      </a:lnTo>
                      <a:lnTo>
                        <a:pt x="313" y="281"/>
                      </a:lnTo>
                      <a:lnTo>
                        <a:pt x="315" y="281"/>
                      </a:lnTo>
                      <a:lnTo>
                        <a:pt x="317" y="280"/>
                      </a:lnTo>
                      <a:lnTo>
                        <a:pt x="25" y="0"/>
                      </a:lnTo>
                      <a:lnTo>
                        <a:pt x="19" y="1"/>
                      </a:lnTo>
                      <a:lnTo>
                        <a:pt x="12" y="1"/>
                      </a:lnTo>
                      <a:lnTo>
                        <a:pt x="5" y="1"/>
                      </a:lnTo>
                      <a:lnTo>
                        <a:pt x="0"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859880" y="4497480"/>
                  <a:ext cx="44280" cy="25200"/>
                </a:xfrm>
                <a:custGeom>
                  <a:avLst/>
                  <a:gdLst/>
                  <a:ahLst/>
                  <a:rect l="l" t="t" r="r" b="b"/>
                  <a:pathLst>
                    <a:path w="41" h="23">
                      <a:moveTo>
                        <a:pt x="41" y="23"/>
                      </a:moveTo>
                      <a:lnTo>
                        <a:pt x="37" y="20"/>
                      </a:lnTo>
                      <a:lnTo>
                        <a:pt x="31" y="17"/>
                      </a:lnTo>
                      <a:lnTo>
                        <a:pt x="26" y="14"/>
                      </a:lnTo>
                      <a:lnTo>
                        <a:pt x="20" y="12"/>
                      </a:lnTo>
                      <a:lnTo>
                        <a:pt x="16" y="9"/>
                      </a:lnTo>
                      <a:lnTo>
                        <a:pt x="10" y="6"/>
                      </a:lnTo>
                      <a:lnTo>
                        <a:pt x="5" y="4"/>
                      </a:lnTo>
                      <a:lnTo>
                        <a:pt x="0" y="0"/>
                      </a:lnTo>
                      <a:lnTo>
                        <a:pt x="24" y="23"/>
                      </a:lnTo>
                      <a:lnTo>
                        <a:pt x="28" y="23"/>
                      </a:lnTo>
                      <a:lnTo>
                        <a:pt x="33" y="23"/>
                      </a:lnTo>
                      <a:lnTo>
                        <a:pt x="38" y="23"/>
                      </a:lnTo>
                      <a:lnTo>
                        <a:pt x="41"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58" name=""/>
                <p:cNvSpPr/>
                <p:nvPr/>
              </p:nvSpPr>
              <p:spPr>
                <a:xfrm>
                  <a:off x="7002360" y="3676680"/>
                  <a:ext cx="351000" cy="324000"/>
                </a:xfrm>
                <a:custGeom>
                  <a:avLst/>
                  <a:gdLst/>
                  <a:ahLst/>
                  <a:rect l="l" t="t" r="r" b="b"/>
                  <a:pathLst>
                    <a:path w="328" h="303">
                      <a:moveTo>
                        <a:pt x="0" y="0"/>
                      </a:moveTo>
                      <a:lnTo>
                        <a:pt x="317" y="303"/>
                      </a:lnTo>
                      <a:lnTo>
                        <a:pt x="319" y="300"/>
                      </a:lnTo>
                      <a:lnTo>
                        <a:pt x="322" y="295"/>
                      </a:lnTo>
                      <a:lnTo>
                        <a:pt x="326" y="291"/>
                      </a:lnTo>
                      <a:lnTo>
                        <a:pt x="328" y="288"/>
                      </a:lnTo>
                      <a:lnTo>
                        <a:pt x="28" y="0"/>
                      </a:lnTo>
                      <a:lnTo>
                        <a:pt x="21" y="0"/>
                      </a:lnTo>
                      <a:lnTo>
                        <a:pt x="14" y="0"/>
                      </a:lnTo>
                      <a:lnTo>
                        <a:pt x="7" y="0"/>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7362720" y="4005360"/>
                  <a:ext cx="503280" cy="469800"/>
                </a:xfrm>
                <a:custGeom>
                  <a:avLst/>
                  <a:gdLst/>
                  <a:ahLst/>
                  <a:rect l="l" t="t" r="r" b="b"/>
                  <a:pathLst>
                    <a:path w="470" h="442">
                      <a:moveTo>
                        <a:pt x="0" y="18"/>
                      </a:moveTo>
                      <a:lnTo>
                        <a:pt x="238" y="246"/>
                      </a:lnTo>
                      <a:lnTo>
                        <a:pt x="238" y="242"/>
                      </a:lnTo>
                      <a:lnTo>
                        <a:pt x="238" y="239"/>
                      </a:lnTo>
                      <a:lnTo>
                        <a:pt x="238" y="235"/>
                      </a:lnTo>
                      <a:lnTo>
                        <a:pt x="239" y="232"/>
                      </a:lnTo>
                      <a:lnTo>
                        <a:pt x="238" y="235"/>
                      </a:lnTo>
                      <a:lnTo>
                        <a:pt x="238" y="239"/>
                      </a:lnTo>
                      <a:lnTo>
                        <a:pt x="238" y="242"/>
                      </a:lnTo>
                      <a:lnTo>
                        <a:pt x="238" y="246"/>
                      </a:lnTo>
                      <a:lnTo>
                        <a:pt x="435" y="435"/>
                      </a:lnTo>
                      <a:lnTo>
                        <a:pt x="440" y="435"/>
                      </a:lnTo>
                      <a:lnTo>
                        <a:pt x="444" y="436"/>
                      </a:lnTo>
                      <a:lnTo>
                        <a:pt x="449" y="437"/>
                      </a:lnTo>
                      <a:lnTo>
                        <a:pt x="453" y="438"/>
                      </a:lnTo>
                      <a:lnTo>
                        <a:pt x="457" y="438"/>
                      </a:lnTo>
                      <a:lnTo>
                        <a:pt x="462" y="439"/>
                      </a:lnTo>
                      <a:lnTo>
                        <a:pt x="466" y="440"/>
                      </a:lnTo>
                      <a:lnTo>
                        <a:pt x="470" y="442"/>
                      </a:lnTo>
                      <a:lnTo>
                        <a:pt x="9" y="0"/>
                      </a:lnTo>
                      <a:lnTo>
                        <a:pt x="6" y="5"/>
                      </a:lnTo>
                      <a:lnTo>
                        <a:pt x="4" y="8"/>
                      </a:lnTo>
                      <a:lnTo>
                        <a:pt x="2"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8570880" y="5159520"/>
                  <a:ext cx="46080" cy="48960"/>
                </a:xfrm>
                <a:custGeom>
                  <a:avLst/>
                  <a:gdLst/>
                  <a:ahLst/>
                  <a:rect l="l" t="t" r="r" b="b"/>
                  <a:pathLst>
                    <a:path w="44" h="46">
                      <a:moveTo>
                        <a:pt x="0" y="18"/>
                      </a:moveTo>
                      <a:lnTo>
                        <a:pt x="20" y="38"/>
                      </a:lnTo>
                      <a:lnTo>
                        <a:pt x="26" y="40"/>
                      </a:lnTo>
                      <a:lnTo>
                        <a:pt x="30" y="41"/>
                      </a:lnTo>
                      <a:lnTo>
                        <a:pt x="36" y="44"/>
                      </a:lnTo>
                      <a:lnTo>
                        <a:pt x="41" y="46"/>
                      </a:lnTo>
                      <a:lnTo>
                        <a:pt x="42" y="42"/>
                      </a:lnTo>
                      <a:lnTo>
                        <a:pt x="43" y="40"/>
                      </a:lnTo>
                      <a:lnTo>
                        <a:pt x="43" y="37"/>
                      </a:lnTo>
                      <a:lnTo>
                        <a:pt x="44" y="34"/>
                      </a:lnTo>
                      <a:lnTo>
                        <a:pt x="8" y="0"/>
                      </a:lnTo>
                      <a:lnTo>
                        <a:pt x="6" y="4"/>
                      </a:lnTo>
                      <a:lnTo>
                        <a:pt x="5" y="9"/>
                      </a:lnTo>
                      <a:lnTo>
                        <a:pt x="3" y="14"/>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661" name=""/>
                <p:cNvSpPr/>
                <p:nvPr/>
              </p:nvSpPr>
              <p:spPr>
                <a:xfrm>
                  <a:off x="8566200" y="5180040"/>
                  <a:ext cx="25200" cy="19080"/>
                </a:xfrm>
                <a:custGeom>
                  <a:avLst/>
                  <a:gdLst/>
                  <a:ahLst/>
                  <a:rect l="l" t="t" r="r" b="b"/>
                  <a:pathLst>
                    <a:path w="24" h="20">
                      <a:moveTo>
                        <a:pt x="0" y="12"/>
                      </a:moveTo>
                      <a:lnTo>
                        <a:pt x="7" y="13"/>
                      </a:lnTo>
                      <a:lnTo>
                        <a:pt x="12" y="15"/>
                      </a:lnTo>
                      <a:lnTo>
                        <a:pt x="18" y="18"/>
                      </a:lnTo>
                      <a:lnTo>
                        <a:pt x="24" y="20"/>
                      </a:lnTo>
                      <a:lnTo>
                        <a:pt x="4" y="0"/>
                      </a:lnTo>
                      <a:lnTo>
                        <a:pt x="3" y="3"/>
                      </a:lnTo>
                      <a:lnTo>
                        <a:pt x="2" y="6"/>
                      </a:lnTo>
                      <a:lnTo>
                        <a:pt x="1" y="8"/>
                      </a:lnTo>
                      <a:lnTo>
                        <a:pt x="0" y="1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2" name=""/>
                <p:cNvSpPr/>
                <p:nvPr/>
              </p:nvSpPr>
              <p:spPr>
                <a:xfrm>
                  <a:off x="7353360" y="4021200"/>
                  <a:ext cx="266760" cy="269640"/>
                </a:xfrm>
                <a:custGeom>
                  <a:avLst/>
                  <a:gdLst/>
                  <a:ahLst/>
                  <a:rect l="l" t="t" r="r" b="b"/>
                  <a:pathLst>
                    <a:path w="249" h="252">
                      <a:moveTo>
                        <a:pt x="0" y="16"/>
                      </a:moveTo>
                      <a:lnTo>
                        <a:pt x="247" y="252"/>
                      </a:lnTo>
                      <a:lnTo>
                        <a:pt x="248" y="246"/>
                      </a:lnTo>
                      <a:lnTo>
                        <a:pt x="248" y="239"/>
                      </a:lnTo>
                      <a:lnTo>
                        <a:pt x="248" y="234"/>
                      </a:lnTo>
                      <a:lnTo>
                        <a:pt x="249" y="228"/>
                      </a:lnTo>
                      <a:lnTo>
                        <a:pt x="11" y="0"/>
                      </a:lnTo>
                      <a:lnTo>
                        <a:pt x="8" y="3"/>
                      </a:lnTo>
                      <a:lnTo>
                        <a:pt x="6" y="8"/>
                      </a:lnTo>
                      <a:lnTo>
                        <a:pt x="3" y="11"/>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18320" y="4265640"/>
                  <a:ext cx="266760" cy="257040"/>
                </a:xfrm>
                <a:custGeom>
                  <a:avLst/>
                  <a:gdLst/>
                  <a:ahLst/>
                  <a:rect l="l" t="t" r="r" b="b"/>
                  <a:pathLst>
                    <a:path w="250" h="239">
                      <a:moveTo>
                        <a:pt x="0" y="25"/>
                      </a:moveTo>
                      <a:lnTo>
                        <a:pt x="225" y="239"/>
                      </a:lnTo>
                      <a:lnTo>
                        <a:pt x="231" y="239"/>
                      </a:lnTo>
                      <a:lnTo>
                        <a:pt x="237" y="238"/>
                      </a:lnTo>
                      <a:lnTo>
                        <a:pt x="244" y="238"/>
                      </a:lnTo>
                      <a:lnTo>
                        <a:pt x="250" y="238"/>
                      </a:lnTo>
                      <a:lnTo>
                        <a:pt x="226" y="215"/>
                      </a:lnTo>
                      <a:lnTo>
                        <a:pt x="220" y="212"/>
                      </a:lnTo>
                      <a:lnTo>
                        <a:pt x="214" y="208"/>
                      </a:lnTo>
                      <a:lnTo>
                        <a:pt x="208" y="205"/>
                      </a:lnTo>
                      <a:lnTo>
                        <a:pt x="203" y="201"/>
                      </a:lnTo>
                      <a:lnTo>
                        <a:pt x="196" y="198"/>
                      </a:lnTo>
                      <a:lnTo>
                        <a:pt x="190" y="194"/>
                      </a:lnTo>
                      <a:lnTo>
                        <a:pt x="184" y="191"/>
                      </a:lnTo>
                      <a:lnTo>
                        <a:pt x="178" y="188"/>
                      </a:lnTo>
                      <a:lnTo>
                        <a:pt x="183" y="188"/>
                      </a:lnTo>
                      <a:lnTo>
                        <a:pt x="189" y="188"/>
                      </a:lnTo>
                      <a:lnTo>
                        <a:pt x="193" y="188"/>
                      </a:lnTo>
                      <a:lnTo>
                        <a:pt x="198" y="189"/>
                      </a:lnTo>
                      <a:lnTo>
                        <a:pt x="1" y="0"/>
                      </a:lnTo>
                      <a:lnTo>
                        <a:pt x="1" y="7"/>
                      </a:lnTo>
                      <a:lnTo>
                        <a:pt x="1" y="12"/>
                      </a:lnTo>
                      <a:lnTo>
                        <a:pt x="1" y="19"/>
                      </a:lnTo>
                      <a:lnTo>
                        <a:pt x="0" y="2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6972480" y="3672000"/>
                  <a:ext cx="368280" cy="342720"/>
                </a:xfrm>
                <a:custGeom>
                  <a:avLst/>
                  <a:gdLst/>
                  <a:ahLst/>
                  <a:rect l="l" t="t" r="r" b="b"/>
                  <a:pathLst>
                    <a:path w="346" h="320">
                      <a:moveTo>
                        <a:pt x="0" y="0"/>
                      </a:moveTo>
                      <a:lnTo>
                        <a:pt x="122" y="116"/>
                      </a:lnTo>
                      <a:lnTo>
                        <a:pt x="118" y="110"/>
                      </a:lnTo>
                      <a:lnTo>
                        <a:pt x="113" y="103"/>
                      </a:lnTo>
                      <a:lnTo>
                        <a:pt x="107" y="98"/>
                      </a:lnTo>
                      <a:lnTo>
                        <a:pt x="101" y="92"/>
                      </a:lnTo>
                      <a:lnTo>
                        <a:pt x="111" y="99"/>
                      </a:lnTo>
                      <a:lnTo>
                        <a:pt x="119" y="106"/>
                      </a:lnTo>
                      <a:lnTo>
                        <a:pt x="126" y="113"/>
                      </a:lnTo>
                      <a:lnTo>
                        <a:pt x="133" y="118"/>
                      </a:lnTo>
                      <a:lnTo>
                        <a:pt x="137" y="124"/>
                      </a:lnTo>
                      <a:lnTo>
                        <a:pt x="142" y="129"/>
                      </a:lnTo>
                      <a:lnTo>
                        <a:pt x="145" y="136"/>
                      </a:lnTo>
                      <a:lnTo>
                        <a:pt x="149" y="141"/>
                      </a:lnTo>
                      <a:lnTo>
                        <a:pt x="335" y="320"/>
                      </a:lnTo>
                      <a:lnTo>
                        <a:pt x="338" y="316"/>
                      </a:lnTo>
                      <a:lnTo>
                        <a:pt x="341" y="312"/>
                      </a:lnTo>
                      <a:lnTo>
                        <a:pt x="343" y="308"/>
                      </a:lnTo>
                      <a:lnTo>
                        <a:pt x="346" y="305"/>
                      </a:lnTo>
                      <a:lnTo>
                        <a:pt x="29" y="2"/>
                      </a:lnTo>
                      <a:lnTo>
                        <a:pt x="22" y="2"/>
                      </a:lnTo>
                      <a:lnTo>
                        <a:pt x="15" y="1"/>
                      </a:lnTo>
                      <a:lnTo>
                        <a:pt x="7"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7615080" y="4294080"/>
                  <a:ext cx="243000" cy="230400"/>
                </a:xfrm>
                <a:custGeom>
                  <a:avLst/>
                  <a:gdLst/>
                  <a:ahLst/>
                  <a:rect l="l" t="t" r="r" b="b"/>
                  <a:pathLst>
                    <a:path w="226" h="216">
                      <a:moveTo>
                        <a:pt x="0" y="24"/>
                      </a:moveTo>
                      <a:lnTo>
                        <a:pt x="200" y="216"/>
                      </a:lnTo>
                      <a:lnTo>
                        <a:pt x="206" y="216"/>
                      </a:lnTo>
                      <a:lnTo>
                        <a:pt x="213" y="214"/>
                      </a:lnTo>
                      <a:lnTo>
                        <a:pt x="220" y="214"/>
                      </a:lnTo>
                      <a:lnTo>
                        <a:pt x="226" y="214"/>
                      </a:lnTo>
                      <a:lnTo>
                        <a:pt x="1" y="0"/>
                      </a:lnTo>
                      <a:lnTo>
                        <a:pt x="1" y="7"/>
                      </a:lnTo>
                      <a:lnTo>
                        <a:pt x="1" y="13"/>
                      </a:lnTo>
                      <a:lnTo>
                        <a:pt x="1" y="19"/>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7129440" y="3824280"/>
                  <a:ext cx="200160" cy="209520"/>
                </a:xfrm>
                <a:custGeom>
                  <a:avLst/>
                  <a:gdLst/>
                  <a:ahLst/>
                  <a:rect l="l" t="t" r="r" b="b"/>
                  <a:pathLst>
                    <a:path w="186" h="195">
                      <a:moveTo>
                        <a:pt x="12" y="40"/>
                      </a:moveTo>
                      <a:lnTo>
                        <a:pt x="176" y="195"/>
                      </a:lnTo>
                      <a:lnTo>
                        <a:pt x="178" y="192"/>
                      </a:lnTo>
                      <a:lnTo>
                        <a:pt x="182" y="187"/>
                      </a:lnTo>
                      <a:lnTo>
                        <a:pt x="184" y="184"/>
                      </a:lnTo>
                      <a:lnTo>
                        <a:pt x="186" y="179"/>
                      </a:lnTo>
                      <a:lnTo>
                        <a:pt x="0" y="0"/>
                      </a:lnTo>
                      <a:lnTo>
                        <a:pt x="3" y="8"/>
                      </a:lnTo>
                      <a:lnTo>
                        <a:pt x="7" y="18"/>
                      </a:lnTo>
                      <a:lnTo>
                        <a:pt x="9" y="28"/>
                      </a:lnTo>
                      <a:lnTo>
                        <a:pt x="12" y="4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42200" y="4038480"/>
                  <a:ext cx="272880" cy="277920"/>
                </a:xfrm>
                <a:custGeom>
                  <a:avLst/>
                  <a:gdLst/>
                  <a:ahLst/>
                  <a:rect l="l" t="t" r="r" b="b"/>
                  <a:pathLst>
                    <a:path w="256" h="259">
                      <a:moveTo>
                        <a:pt x="0" y="17"/>
                      </a:moveTo>
                      <a:lnTo>
                        <a:pt x="253" y="259"/>
                      </a:lnTo>
                      <a:lnTo>
                        <a:pt x="255" y="253"/>
                      </a:lnTo>
                      <a:lnTo>
                        <a:pt x="255" y="248"/>
                      </a:lnTo>
                      <a:lnTo>
                        <a:pt x="256" y="242"/>
                      </a:lnTo>
                      <a:lnTo>
                        <a:pt x="256" y="236"/>
                      </a:lnTo>
                      <a:lnTo>
                        <a:pt x="9" y="0"/>
                      </a:lnTo>
                      <a:lnTo>
                        <a:pt x="7" y="4"/>
                      </a:lnTo>
                      <a:lnTo>
                        <a:pt x="5"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948360" y="3670200"/>
                  <a:ext cx="173160" cy="176400"/>
                </a:xfrm>
                <a:custGeom>
                  <a:avLst/>
                  <a:gdLst/>
                  <a:ahLst/>
                  <a:rect l="l" t="t" r="r" b="b"/>
                  <a:pathLst>
                    <a:path w="163" h="165">
                      <a:moveTo>
                        <a:pt x="0" y="0"/>
                      </a:moveTo>
                      <a:lnTo>
                        <a:pt x="0" y="3"/>
                      </a:lnTo>
                      <a:lnTo>
                        <a:pt x="0" y="5"/>
                      </a:lnTo>
                      <a:lnTo>
                        <a:pt x="0" y="7"/>
                      </a:lnTo>
                      <a:lnTo>
                        <a:pt x="0" y="9"/>
                      </a:lnTo>
                      <a:lnTo>
                        <a:pt x="80" y="85"/>
                      </a:lnTo>
                      <a:lnTo>
                        <a:pt x="87" y="90"/>
                      </a:lnTo>
                      <a:lnTo>
                        <a:pt x="93" y="95"/>
                      </a:lnTo>
                      <a:lnTo>
                        <a:pt x="98" y="100"/>
                      </a:lnTo>
                      <a:lnTo>
                        <a:pt x="103" y="107"/>
                      </a:lnTo>
                      <a:lnTo>
                        <a:pt x="163" y="165"/>
                      </a:lnTo>
                      <a:lnTo>
                        <a:pt x="159" y="153"/>
                      </a:lnTo>
                      <a:lnTo>
                        <a:pt x="156" y="142"/>
                      </a:lnTo>
                      <a:lnTo>
                        <a:pt x="150" y="132"/>
                      </a:lnTo>
                      <a:lnTo>
                        <a:pt x="143" y="120"/>
                      </a:lnTo>
                      <a:lnTo>
                        <a:pt x="21" y="4"/>
                      </a:lnTo>
                      <a:lnTo>
                        <a:pt x="16" y="3"/>
                      </a:lnTo>
                      <a:lnTo>
                        <a:pt x="11" y="1"/>
                      </a:lnTo>
                      <a:lnTo>
                        <a:pt x="6" y="1"/>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7016760" y="3773520"/>
                  <a:ext cx="55440" cy="50760"/>
                </a:xfrm>
                <a:custGeom>
                  <a:avLst/>
                  <a:gdLst/>
                  <a:ahLst/>
                  <a:rect l="l" t="t" r="r" b="b"/>
                  <a:pathLst>
                    <a:path w="51" h="48">
                      <a:moveTo>
                        <a:pt x="0" y="0"/>
                      </a:moveTo>
                      <a:lnTo>
                        <a:pt x="51" y="48"/>
                      </a:lnTo>
                      <a:lnTo>
                        <a:pt x="48" y="39"/>
                      </a:lnTo>
                      <a:lnTo>
                        <a:pt x="45" y="31"/>
                      </a:lnTo>
                      <a:lnTo>
                        <a:pt x="39" y="24"/>
                      </a:lnTo>
                      <a:lnTo>
                        <a:pt x="33" y="17"/>
                      </a:lnTo>
                      <a:lnTo>
                        <a:pt x="26" y="12"/>
                      </a:lnTo>
                      <a:lnTo>
                        <a:pt x="18" y="7"/>
                      </a:lnTo>
                      <a:lnTo>
                        <a:pt x="9" y="2"/>
                      </a:lnTo>
                      <a:lnTo>
                        <a:pt x="0"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0" name=""/>
                <p:cNvSpPr/>
                <p:nvPr/>
              </p:nvSpPr>
              <p:spPr>
                <a:xfrm>
                  <a:off x="7613640" y="4319640"/>
                  <a:ext cx="219240" cy="204840"/>
                </a:xfrm>
                <a:custGeom>
                  <a:avLst/>
                  <a:gdLst/>
                  <a:ahLst/>
                  <a:rect l="l" t="t" r="r" b="b"/>
                  <a:pathLst>
                    <a:path w="203" h="193">
                      <a:moveTo>
                        <a:pt x="0" y="23"/>
                      </a:moveTo>
                      <a:lnTo>
                        <a:pt x="177" y="193"/>
                      </a:lnTo>
                      <a:lnTo>
                        <a:pt x="184" y="193"/>
                      </a:lnTo>
                      <a:lnTo>
                        <a:pt x="190" y="193"/>
                      </a:lnTo>
                      <a:lnTo>
                        <a:pt x="196" y="193"/>
                      </a:lnTo>
                      <a:lnTo>
                        <a:pt x="203" y="192"/>
                      </a:lnTo>
                      <a:lnTo>
                        <a:pt x="3" y="0"/>
                      </a:lnTo>
                      <a:lnTo>
                        <a:pt x="2" y="6"/>
                      </a:lnTo>
                      <a:lnTo>
                        <a:pt x="2" y="12"/>
                      </a:lnTo>
                      <a:lnTo>
                        <a:pt x="2" y="18"/>
                      </a:lnTo>
                      <a:lnTo>
                        <a:pt x="0"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7058160" y="3784680"/>
                  <a:ext cx="69840" cy="95040"/>
                </a:xfrm>
                <a:custGeom>
                  <a:avLst/>
                  <a:gdLst/>
                  <a:ahLst/>
                  <a:rect l="l" t="t" r="r" b="b"/>
                  <a:pathLst>
                    <a:path w="64" h="89">
                      <a:moveTo>
                        <a:pt x="13" y="40"/>
                      </a:moveTo>
                      <a:lnTo>
                        <a:pt x="64" y="89"/>
                      </a:lnTo>
                      <a:lnTo>
                        <a:pt x="63" y="81"/>
                      </a:lnTo>
                      <a:lnTo>
                        <a:pt x="62" y="73"/>
                      </a:lnTo>
                      <a:lnTo>
                        <a:pt x="61" y="66"/>
                      </a:lnTo>
                      <a:lnTo>
                        <a:pt x="60" y="58"/>
                      </a:lnTo>
                      <a:lnTo>
                        <a:pt x="0" y="0"/>
                      </a:lnTo>
                      <a:lnTo>
                        <a:pt x="4" y="8"/>
                      </a:lnTo>
                      <a:lnTo>
                        <a:pt x="8" y="18"/>
                      </a:lnTo>
                      <a:lnTo>
                        <a:pt x="10" y="28"/>
                      </a:lnTo>
                      <a:lnTo>
                        <a:pt x="13" y="4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7143840" y="3867120"/>
                  <a:ext cx="174600" cy="184320"/>
                </a:xfrm>
                <a:custGeom>
                  <a:avLst/>
                  <a:gdLst/>
                  <a:ahLst/>
                  <a:rect l="l" t="t" r="r" b="b"/>
                  <a:pathLst>
                    <a:path w="164" h="171">
                      <a:moveTo>
                        <a:pt x="7" y="24"/>
                      </a:moveTo>
                      <a:lnTo>
                        <a:pt x="7" y="26"/>
                      </a:lnTo>
                      <a:lnTo>
                        <a:pt x="7" y="28"/>
                      </a:lnTo>
                      <a:lnTo>
                        <a:pt x="7" y="30"/>
                      </a:lnTo>
                      <a:lnTo>
                        <a:pt x="7" y="32"/>
                      </a:lnTo>
                      <a:lnTo>
                        <a:pt x="154" y="171"/>
                      </a:lnTo>
                      <a:lnTo>
                        <a:pt x="156" y="167"/>
                      </a:lnTo>
                      <a:lnTo>
                        <a:pt x="159" y="163"/>
                      </a:lnTo>
                      <a:lnTo>
                        <a:pt x="162" y="160"/>
                      </a:lnTo>
                      <a:lnTo>
                        <a:pt x="164" y="155"/>
                      </a:lnTo>
                      <a:lnTo>
                        <a:pt x="0" y="0"/>
                      </a:lnTo>
                      <a:lnTo>
                        <a:pt x="3" y="5"/>
                      </a:lnTo>
                      <a:lnTo>
                        <a:pt x="4" y="11"/>
                      </a:lnTo>
                      <a:lnTo>
                        <a:pt x="6" y="17"/>
                      </a:lnTo>
                      <a:lnTo>
                        <a:pt x="7"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926400" y="3678120"/>
                  <a:ext cx="107640" cy="82800"/>
                </a:xfrm>
                <a:custGeom>
                  <a:avLst/>
                  <a:gdLst/>
                  <a:ahLst/>
                  <a:rect l="l" t="t" r="r" b="b"/>
                  <a:pathLst>
                    <a:path w="100" h="76">
                      <a:moveTo>
                        <a:pt x="20" y="3"/>
                      </a:moveTo>
                      <a:lnTo>
                        <a:pt x="16" y="3"/>
                      </a:lnTo>
                      <a:lnTo>
                        <a:pt x="11" y="3"/>
                      </a:lnTo>
                      <a:lnTo>
                        <a:pt x="7" y="3"/>
                      </a:lnTo>
                      <a:lnTo>
                        <a:pt x="2" y="3"/>
                      </a:lnTo>
                      <a:lnTo>
                        <a:pt x="1" y="4"/>
                      </a:lnTo>
                      <a:lnTo>
                        <a:pt x="1" y="5"/>
                      </a:lnTo>
                      <a:lnTo>
                        <a:pt x="1" y="6"/>
                      </a:lnTo>
                      <a:lnTo>
                        <a:pt x="0" y="7"/>
                      </a:lnTo>
                      <a:lnTo>
                        <a:pt x="70" y="74"/>
                      </a:lnTo>
                      <a:lnTo>
                        <a:pt x="78" y="73"/>
                      </a:lnTo>
                      <a:lnTo>
                        <a:pt x="86" y="73"/>
                      </a:lnTo>
                      <a:lnTo>
                        <a:pt x="93" y="74"/>
                      </a:lnTo>
                      <a:lnTo>
                        <a:pt x="100" y="76"/>
                      </a:lnTo>
                      <a:lnTo>
                        <a:pt x="20" y="0"/>
                      </a:lnTo>
                      <a:lnTo>
                        <a:pt x="20" y="2"/>
                      </a:lnTo>
                      <a:lnTo>
                        <a:pt x="20" y="2"/>
                      </a:lnTo>
                      <a:lnTo>
                        <a:pt x="20" y="3"/>
                      </a:lnTo>
                      <a:lnTo>
                        <a:pt x="20" y="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674" name=""/>
                <p:cNvSpPr/>
                <p:nvPr/>
              </p:nvSpPr>
              <p:spPr>
                <a:xfrm>
                  <a:off x="7334280" y="4057560"/>
                  <a:ext cx="279360" cy="285840"/>
                </a:xfrm>
                <a:custGeom>
                  <a:avLst/>
                  <a:gdLst/>
                  <a:ahLst/>
                  <a:rect l="l" t="t" r="r" b="b"/>
                  <a:pathLst>
                    <a:path w="262" h="265">
                      <a:moveTo>
                        <a:pt x="0" y="16"/>
                      </a:moveTo>
                      <a:lnTo>
                        <a:pt x="259" y="265"/>
                      </a:lnTo>
                      <a:lnTo>
                        <a:pt x="260" y="259"/>
                      </a:lnTo>
                      <a:lnTo>
                        <a:pt x="261" y="254"/>
                      </a:lnTo>
                      <a:lnTo>
                        <a:pt x="261" y="248"/>
                      </a:lnTo>
                      <a:lnTo>
                        <a:pt x="262" y="242"/>
                      </a:lnTo>
                      <a:lnTo>
                        <a:pt x="9" y="0"/>
                      </a:lnTo>
                      <a:lnTo>
                        <a:pt x="7" y="4"/>
                      </a:lnTo>
                      <a:lnTo>
                        <a:pt x="4" y="8"/>
                      </a:lnTo>
                      <a:lnTo>
                        <a:pt x="2" y="12"/>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986520" y="3770280"/>
                  <a:ext cx="85680" cy="82440"/>
                </a:xfrm>
                <a:custGeom>
                  <a:avLst/>
                  <a:gdLst/>
                  <a:ahLst/>
                  <a:rect l="l" t="t" r="r" b="b"/>
                  <a:pathLst>
                    <a:path w="81" h="76">
                      <a:moveTo>
                        <a:pt x="80" y="50"/>
                      </a:moveTo>
                      <a:lnTo>
                        <a:pt x="29" y="2"/>
                      </a:lnTo>
                      <a:lnTo>
                        <a:pt x="22" y="1"/>
                      </a:lnTo>
                      <a:lnTo>
                        <a:pt x="15" y="0"/>
                      </a:lnTo>
                      <a:lnTo>
                        <a:pt x="7" y="0"/>
                      </a:lnTo>
                      <a:lnTo>
                        <a:pt x="0" y="1"/>
                      </a:lnTo>
                      <a:lnTo>
                        <a:pt x="78" y="76"/>
                      </a:lnTo>
                      <a:lnTo>
                        <a:pt x="80" y="69"/>
                      </a:lnTo>
                      <a:lnTo>
                        <a:pt x="81" y="63"/>
                      </a:lnTo>
                      <a:lnTo>
                        <a:pt x="81" y="56"/>
                      </a:lnTo>
                      <a:lnTo>
                        <a:pt x="80" y="5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76" name=""/>
                <p:cNvSpPr/>
                <p:nvPr/>
              </p:nvSpPr>
              <p:spPr>
                <a:xfrm>
                  <a:off x="7072200" y="3827520"/>
                  <a:ext cx="57240" cy="82440"/>
                </a:xfrm>
                <a:custGeom>
                  <a:avLst/>
                  <a:gdLst/>
                  <a:ahLst/>
                  <a:rect l="l" t="t" r="r" b="b"/>
                  <a:pathLst>
                    <a:path w="55" h="78">
                      <a:moveTo>
                        <a:pt x="3" y="27"/>
                      </a:moveTo>
                      <a:lnTo>
                        <a:pt x="55" y="78"/>
                      </a:lnTo>
                      <a:lnTo>
                        <a:pt x="54" y="70"/>
                      </a:lnTo>
                      <a:lnTo>
                        <a:pt x="54" y="63"/>
                      </a:lnTo>
                      <a:lnTo>
                        <a:pt x="53" y="56"/>
                      </a:lnTo>
                      <a:lnTo>
                        <a:pt x="51" y="49"/>
                      </a:lnTo>
                      <a:lnTo>
                        <a:pt x="0" y="0"/>
                      </a:lnTo>
                      <a:lnTo>
                        <a:pt x="1" y="6"/>
                      </a:lnTo>
                      <a:lnTo>
                        <a:pt x="2" y="13"/>
                      </a:lnTo>
                      <a:lnTo>
                        <a:pt x="2" y="20"/>
                      </a:lnTo>
                      <a:lnTo>
                        <a:pt x="3"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677" name=""/>
                <p:cNvSpPr/>
                <p:nvPr/>
              </p:nvSpPr>
              <p:spPr>
                <a:xfrm>
                  <a:off x="6916680" y="3687840"/>
                  <a:ext cx="85680" cy="75960"/>
                </a:xfrm>
                <a:custGeom>
                  <a:avLst/>
                  <a:gdLst/>
                  <a:ahLst/>
                  <a:rect l="l" t="t" r="r" b="b"/>
                  <a:pathLst>
                    <a:path w="81" h="73">
                      <a:moveTo>
                        <a:pt x="0" y="16"/>
                      </a:moveTo>
                      <a:lnTo>
                        <a:pt x="60" y="73"/>
                      </a:lnTo>
                      <a:lnTo>
                        <a:pt x="66" y="71"/>
                      </a:lnTo>
                      <a:lnTo>
                        <a:pt x="71" y="69"/>
                      </a:lnTo>
                      <a:lnTo>
                        <a:pt x="76" y="68"/>
                      </a:lnTo>
                      <a:lnTo>
                        <a:pt x="81" y="67"/>
                      </a:lnTo>
                      <a:lnTo>
                        <a:pt x="11" y="0"/>
                      </a:lnTo>
                      <a:lnTo>
                        <a:pt x="8" y="4"/>
                      </a:lnTo>
                      <a:lnTo>
                        <a:pt x="6" y="8"/>
                      </a:lnTo>
                      <a:lnTo>
                        <a:pt x="3" y="12"/>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678" name=""/>
                <p:cNvSpPr/>
                <p:nvPr/>
              </p:nvSpPr>
              <p:spPr>
                <a:xfrm>
                  <a:off x="7323120" y="4075200"/>
                  <a:ext cx="285840" cy="288720"/>
                </a:xfrm>
                <a:custGeom>
                  <a:avLst/>
                  <a:gdLst/>
                  <a:ahLst/>
                  <a:rect l="l" t="t" r="r" b="b"/>
                  <a:pathLst>
                    <a:path w="270" h="270">
                      <a:moveTo>
                        <a:pt x="0" y="16"/>
                      </a:moveTo>
                      <a:lnTo>
                        <a:pt x="265" y="270"/>
                      </a:lnTo>
                      <a:lnTo>
                        <a:pt x="267" y="264"/>
                      </a:lnTo>
                      <a:lnTo>
                        <a:pt x="268" y="259"/>
                      </a:lnTo>
                      <a:lnTo>
                        <a:pt x="269" y="254"/>
                      </a:lnTo>
                      <a:lnTo>
                        <a:pt x="270" y="249"/>
                      </a:lnTo>
                      <a:lnTo>
                        <a:pt x="11" y="0"/>
                      </a:lnTo>
                      <a:lnTo>
                        <a:pt x="8" y="5"/>
                      </a:lnTo>
                      <a:lnTo>
                        <a:pt x="6" y="8"/>
                      </a:lnTo>
                      <a:lnTo>
                        <a:pt x="3" y="12"/>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7607160" y="4344840"/>
                  <a:ext cx="195480" cy="182880"/>
                </a:xfrm>
                <a:custGeom>
                  <a:avLst/>
                  <a:gdLst/>
                  <a:ahLst/>
                  <a:rect l="l" t="t" r="r" b="b"/>
                  <a:pathLst>
                    <a:path w="182" h="171">
                      <a:moveTo>
                        <a:pt x="0" y="21"/>
                      </a:moveTo>
                      <a:lnTo>
                        <a:pt x="156" y="171"/>
                      </a:lnTo>
                      <a:lnTo>
                        <a:pt x="163" y="171"/>
                      </a:lnTo>
                      <a:lnTo>
                        <a:pt x="169" y="171"/>
                      </a:lnTo>
                      <a:lnTo>
                        <a:pt x="176" y="171"/>
                      </a:lnTo>
                      <a:lnTo>
                        <a:pt x="182" y="170"/>
                      </a:lnTo>
                      <a:lnTo>
                        <a:pt x="5" y="0"/>
                      </a:lnTo>
                      <a:lnTo>
                        <a:pt x="4" y="5"/>
                      </a:lnTo>
                      <a:lnTo>
                        <a:pt x="3" y="11"/>
                      </a:lnTo>
                      <a:lnTo>
                        <a:pt x="1" y="15"/>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7151760" y="3902040"/>
                  <a:ext cx="155520" cy="166680"/>
                </a:xfrm>
                <a:custGeom>
                  <a:avLst/>
                  <a:gdLst/>
                  <a:ahLst/>
                  <a:rect l="l" t="t" r="r" b="b"/>
                  <a:pathLst>
                    <a:path w="147" h="155">
                      <a:moveTo>
                        <a:pt x="1" y="26"/>
                      </a:moveTo>
                      <a:lnTo>
                        <a:pt x="136" y="155"/>
                      </a:lnTo>
                      <a:lnTo>
                        <a:pt x="139" y="152"/>
                      </a:lnTo>
                      <a:lnTo>
                        <a:pt x="142" y="147"/>
                      </a:lnTo>
                      <a:lnTo>
                        <a:pt x="144" y="144"/>
                      </a:lnTo>
                      <a:lnTo>
                        <a:pt x="147" y="139"/>
                      </a:lnTo>
                      <a:lnTo>
                        <a:pt x="0" y="0"/>
                      </a:lnTo>
                      <a:lnTo>
                        <a:pt x="0" y="7"/>
                      </a:lnTo>
                      <a:lnTo>
                        <a:pt x="0" y="12"/>
                      </a:lnTo>
                      <a:lnTo>
                        <a:pt x="0" y="19"/>
                      </a:lnTo>
                      <a:lnTo>
                        <a:pt x="1"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6966000" y="3770280"/>
                  <a:ext cx="104760" cy="101520"/>
                </a:xfrm>
                <a:custGeom>
                  <a:avLst/>
                  <a:gdLst/>
                  <a:ahLst/>
                  <a:rect l="l" t="t" r="r" b="b"/>
                  <a:pathLst>
                    <a:path w="99" h="93">
                      <a:moveTo>
                        <a:pt x="99" y="75"/>
                      </a:moveTo>
                      <a:lnTo>
                        <a:pt x="21" y="0"/>
                      </a:lnTo>
                      <a:lnTo>
                        <a:pt x="16" y="0"/>
                      </a:lnTo>
                      <a:lnTo>
                        <a:pt x="11" y="1"/>
                      </a:lnTo>
                      <a:lnTo>
                        <a:pt x="6" y="3"/>
                      </a:lnTo>
                      <a:lnTo>
                        <a:pt x="0" y="6"/>
                      </a:lnTo>
                      <a:lnTo>
                        <a:pt x="91" y="93"/>
                      </a:lnTo>
                      <a:lnTo>
                        <a:pt x="94" y="89"/>
                      </a:lnTo>
                      <a:lnTo>
                        <a:pt x="96" y="84"/>
                      </a:lnTo>
                      <a:lnTo>
                        <a:pt x="97" y="79"/>
                      </a:lnTo>
                      <a:lnTo>
                        <a:pt x="99" y="7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6910560" y="3705120"/>
                  <a:ext cx="69840" cy="69840"/>
                </a:xfrm>
                <a:custGeom>
                  <a:avLst/>
                  <a:gdLst/>
                  <a:ahLst/>
                  <a:rect l="l" t="t" r="r" b="b"/>
                  <a:pathLst>
                    <a:path w="66" h="67">
                      <a:moveTo>
                        <a:pt x="0" y="20"/>
                      </a:moveTo>
                      <a:lnTo>
                        <a:pt x="50" y="67"/>
                      </a:lnTo>
                      <a:lnTo>
                        <a:pt x="55" y="64"/>
                      </a:lnTo>
                      <a:lnTo>
                        <a:pt x="58" y="62"/>
                      </a:lnTo>
                      <a:lnTo>
                        <a:pt x="63" y="59"/>
                      </a:lnTo>
                      <a:lnTo>
                        <a:pt x="66" y="57"/>
                      </a:lnTo>
                      <a:lnTo>
                        <a:pt x="6" y="0"/>
                      </a:lnTo>
                      <a:lnTo>
                        <a:pt x="4" y="5"/>
                      </a:lnTo>
                      <a:lnTo>
                        <a:pt x="2" y="10"/>
                      </a:lnTo>
                      <a:lnTo>
                        <a:pt x="0"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683" name=""/>
                <p:cNvSpPr/>
                <p:nvPr/>
              </p:nvSpPr>
              <p:spPr>
                <a:xfrm>
                  <a:off x="7311960" y="4092480"/>
                  <a:ext cx="293760" cy="293760"/>
                </a:xfrm>
                <a:custGeom>
                  <a:avLst/>
                  <a:gdLst/>
                  <a:ahLst/>
                  <a:rect l="l" t="t" r="r" b="b"/>
                  <a:pathLst>
                    <a:path w="274" h="273">
                      <a:moveTo>
                        <a:pt x="0" y="16"/>
                      </a:moveTo>
                      <a:lnTo>
                        <a:pt x="267" y="273"/>
                      </a:lnTo>
                      <a:lnTo>
                        <a:pt x="270" y="269"/>
                      </a:lnTo>
                      <a:lnTo>
                        <a:pt x="271" y="263"/>
                      </a:lnTo>
                      <a:lnTo>
                        <a:pt x="273" y="258"/>
                      </a:lnTo>
                      <a:lnTo>
                        <a:pt x="274" y="254"/>
                      </a:lnTo>
                      <a:lnTo>
                        <a:pt x="9" y="0"/>
                      </a:lnTo>
                      <a:lnTo>
                        <a:pt x="7" y="5"/>
                      </a:lnTo>
                      <a:lnTo>
                        <a:pt x="5" y="8"/>
                      </a:lnTo>
                      <a:lnTo>
                        <a:pt x="2" y="13"/>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151760" y="3929040"/>
                  <a:ext cx="145800" cy="157320"/>
                </a:xfrm>
                <a:custGeom>
                  <a:avLst/>
                  <a:gdLst/>
                  <a:ahLst/>
                  <a:rect l="l" t="t" r="r" b="b"/>
                  <a:pathLst>
                    <a:path w="135" h="147">
                      <a:moveTo>
                        <a:pt x="3" y="29"/>
                      </a:moveTo>
                      <a:lnTo>
                        <a:pt x="126" y="147"/>
                      </a:lnTo>
                      <a:lnTo>
                        <a:pt x="128" y="142"/>
                      </a:lnTo>
                      <a:lnTo>
                        <a:pt x="131" y="137"/>
                      </a:lnTo>
                      <a:lnTo>
                        <a:pt x="133" y="134"/>
                      </a:lnTo>
                      <a:lnTo>
                        <a:pt x="135" y="129"/>
                      </a:lnTo>
                      <a:lnTo>
                        <a:pt x="0" y="0"/>
                      </a:lnTo>
                      <a:lnTo>
                        <a:pt x="0" y="8"/>
                      </a:lnTo>
                      <a:lnTo>
                        <a:pt x="2" y="15"/>
                      </a:lnTo>
                      <a:lnTo>
                        <a:pt x="2" y="22"/>
                      </a:lnTo>
                      <a:lnTo>
                        <a:pt x="3" y="2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7601040" y="4367160"/>
                  <a:ext cx="176040" cy="162000"/>
                </a:xfrm>
                <a:custGeom>
                  <a:avLst/>
                  <a:gdLst/>
                  <a:ahLst/>
                  <a:rect l="l" t="t" r="r" b="b"/>
                  <a:pathLst>
                    <a:path w="163" h="151">
                      <a:moveTo>
                        <a:pt x="0" y="20"/>
                      </a:moveTo>
                      <a:lnTo>
                        <a:pt x="138" y="151"/>
                      </a:lnTo>
                      <a:lnTo>
                        <a:pt x="144" y="151"/>
                      </a:lnTo>
                      <a:lnTo>
                        <a:pt x="151" y="151"/>
                      </a:lnTo>
                      <a:lnTo>
                        <a:pt x="158" y="151"/>
                      </a:lnTo>
                      <a:lnTo>
                        <a:pt x="163" y="150"/>
                      </a:lnTo>
                      <a:lnTo>
                        <a:pt x="7" y="0"/>
                      </a:lnTo>
                      <a:lnTo>
                        <a:pt x="6" y="5"/>
                      </a:lnTo>
                      <a:lnTo>
                        <a:pt x="4" y="9"/>
                      </a:lnTo>
                      <a:lnTo>
                        <a:pt x="2"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7074000" y="3855960"/>
                  <a:ext cx="61920" cy="85680"/>
                </a:xfrm>
                <a:custGeom>
                  <a:avLst/>
                  <a:gdLst/>
                  <a:ahLst/>
                  <a:rect l="l" t="t" r="r" b="b"/>
                  <a:pathLst>
                    <a:path w="57" h="81">
                      <a:moveTo>
                        <a:pt x="0" y="21"/>
                      </a:moveTo>
                      <a:lnTo>
                        <a:pt x="4" y="27"/>
                      </a:lnTo>
                      <a:lnTo>
                        <a:pt x="9" y="31"/>
                      </a:lnTo>
                      <a:lnTo>
                        <a:pt x="13" y="37"/>
                      </a:lnTo>
                      <a:lnTo>
                        <a:pt x="17" y="43"/>
                      </a:lnTo>
                      <a:lnTo>
                        <a:pt x="57" y="81"/>
                      </a:lnTo>
                      <a:lnTo>
                        <a:pt x="56" y="73"/>
                      </a:lnTo>
                      <a:lnTo>
                        <a:pt x="55" y="66"/>
                      </a:lnTo>
                      <a:lnTo>
                        <a:pt x="54" y="58"/>
                      </a:lnTo>
                      <a:lnTo>
                        <a:pt x="53" y="51"/>
                      </a:lnTo>
                      <a:lnTo>
                        <a:pt x="1" y="0"/>
                      </a:lnTo>
                      <a:lnTo>
                        <a:pt x="1" y="5"/>
                      </a:lnTo>
                      <a:lnTo>
                        <a:pt x="1" y="11"/>
                      </a:lnTo>
                      <a:lnTo>
                        <a:pt x="1" y="15"/>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87" name=""/>
                <p:cNvSpPr/>
                <p:nvPr/>
              </p:nvSpPr>
              <p:spPr>
                <a:xfrm>
                  <a:off x="6948360" y="3776760"/>
                  <a:ext cx="112680" cy="109440"/>
                </a:xfrm>
                <a:custGeom>
                  <a:avLst/>
                  <a:gdLst/>
                  <a:ahLst/>
                  <a:rect l="l" t="t" r="r" b="b"/>
                  <a:pathLst>
                    <a:path w="107" h="101">
                      <a:moveTo>
                        <a:pt x="100" y="98"/>
                      </a:moveTo>
                      <a:lnTo>
                        <a:pt x="103" y="95"/>
                      </a:lnTo>
                      <a:lnTo>
                        <a:pt x="104" y="92"/>
                      </a:lnTo>
                      <a:lnTo>
                        <a:pt x="106" y="89"/>
                      </a:lnTo>
                      <a:lnTo>
                        <a:pt x="107" y="87"/>
                      </a:lnTo>
                      <a:lnTo>
                        <a:pt x="16" y="0"/>
                      </a:lnTo>
                      <a:lnTo>
                        <a:pt x="12" y="2"/>
                      </a:lnTo>
                      <a:lnTo>
                        <a:pt x="8" y="4"/>
                      </a:lnTo>
                      <a:lnTo>
                        <a:pt x="4" y="7"/>
                      </a:lnTo>
                      <a:lnTo>
                        <a:pt x="0" y="10"/>
                      </a:lnTo>
                      <a:lnTo>
                        <a:pt x="95" y="101"/>
                      </a:lnTo>
                      <a:lnTo>
                        <a:pt x="96" y="100"/>
                      </a:lnTo>
                      <a:lnTo>
                        <a:pt x="98" y="99"/>
                      </a:lnTo>
                      <a:lnTo>
                        <a:pt x="99" y="99"/>
                      </a:lnTo>
                      <a:lnTo>
                        <a:pt x="100" y="9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7300800" y="4110120"/>
                  <a:ext cx="298440" cy="295200"/>
                </a:xfrm>
                <a:custGeom>
                  <a:avLst/>
                  <a:gdLst/>
                  <a:ahLst/>
                  <a:rect l="l" t="t" r="r" b="b"/>
                  <a:pathLst>
                    <a:path w="277" h="276">
                      <a:moveTo>
                        <a:pt x="0" y="18"/>
                      </a:moveTo>
                      <a:lnTo>
                        <a:pt x="269" y="276"/>
                      </a:lnTo>
                      <a:lnTo>
                        <a:pt x="272" y="271"/>
                      </a:lnTo>
                      <a:lnTo>
                        <a:pt x="274" y="267"/>
                      </a:lnTo>
                      <a:lnTo>
                        <a:pt x="275" y="262"/>
                      </a:lnTo>
                      <a:lnTo>
                        <a:pt x="277" y="257"/>
                      </a:lnTo>
                      <a:lnTo>
                        <a:pt x="10" y="0"/>
                      </a:lnTo>
                      <a:lnTo>
                        <a:pt x="8" y="5"/>
                      </a:lnTo>
                      <a:lnTo>
                        <a:pt x="6" y="9"/>
                      </a:lnTo>
                      <a:lnTo>
                        <a:pt x="2"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7593120" y="4387680"/>
                  <a:ext cx="155520" cy="141480"/>
                </a:xfrm>
                <a:custGeom>
                  <a:avLst/>
                  <a:gdLst/>
                  <a:ahLst/>
                  <a:rect l="l" t="t" r="r" b="b"/>
                  <a:pathLst>
                    <a:path w="146" h="132">
                      <a:moveTo>
                        <a:pt x="0" y="18"/>
                      </a:moveTo>
                      <a:lnTo>
                        <a:pt x="119" y="132"/>
                      </a:lnTo>
                      <a:lnTo>
                        <a:pt x="125" y="132"/>
                      </a:lnTo>
                      <a:lnTo>
                        <a:pt x="132" y="132"/>
                      </a:lnTo>
                      <a:lnTo>
                        <a:pt x="139" y="132"/>
                      </a:lnTo>
                      <a:lnTo>
                        <a:pt x="146" y="131"/>
                      </a:lnTo>
                      <a:lnTo>
                        <a:pt x="8" y="0"/>
                      </a:lnTo>
                      <a:lnTo>
                        <a:pt x="5" y="4"/>
                      </a:lnTo>
                      <a:lnTo>
                        <a:pt x="4" y="9"/>
                      </a:lnTo>
                      <a:lnTo>
                        <a:pt x="2" y="14"/>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7094520" y="3902040"/>
                  <a:ext cx="49320" cy="63360"/>
                </a:xfrm>
                <a:custGeom>
                  <a:avLst/>
                  <a:gdLst/>
                  <a:ahLst/>
                  <a:rect l="l" t="t" r="r" b="b"/>
                  <a:pathLst>
                    <a:path w="46" h="60">
                      <a:moveTo>
                        <a:pt x="46" y="60"/>
                      </a:moveTo>
                      <a:lnTo>
                        <a:pt x="45" y="54"/>
                      </a:lnTo>
                      <a:lnTo>
                        <a:pt x="43" y="48"/>
                      </a:lnTo>
                      <a:lnTo>
                        <a:pt x="42" y="44"/>
                      </a:lnTo>
                      <a:lnTo>
                        <a:pt x="40" y="38"/>
                      </a:lnTo>
                      <a:lnTo>
                        <a:pt x="0" y="0"/>
                      </a:lnTo>
                      <a:lnTo>
                        <a:pt x="6" y="7"/>
                      </a:lnTo>
                      <a:lnTo>
                        <a:pt x="12" y="15"/>
                      </a:lnTo>
                      <a:lnTo>
                        <a:pt x="17" y="23"/>
                      </a:lnTo>
                      <a:lnTo>
                        <a:pt x="23" y="31"/>
                      </a:lnTo>
                      <a:lnTo>
                        <a:pt x="29" y="38"/>
                      </a:lnTo>
                      <a:lnTo>
                        <a:pt x="35" y="46"/>
                      </a:lnTo>
                      <a:lnTo>
                        <a:pt x="40" y="53"/>
                      </a:lnTo>
                      <a:lnTo>
                        <a:pt x="46" y="6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691" name=""/>
                <p:cNvSpPr/>
                <p:nvPr/>
              </p:nvSpPr>
              <p:spPr>
                <a:xfrm>
                  <a:off x="7153200" y="3962520"/>
                  <a:ext cx="133560" cy="141120"/>
                </a:xfrm>
                <a:custGeom>
                  <a:avLst/>
                  <a:gdLst/>
                  <a:ahLst/>
                  <a:rect l="l" t="t" r="r" b="b"/>
                  <a:pathLst>
                    <a:path w="123" h="134">
                      <a:moveTo>
                        <a:pt x="5" y="31"/>
                      </a:moveTo>
                      <a:lnTo>
                        <a:pt x="114" y="134"/>
                      </a:lnTo>
                      <a:lnTo>
                        <a:pt x="116" y="130"/>
                      </a:lnTo>
                      <a:lnTo>
                        <a:pt x="118" y="126"/>
                      </a:lnTo>
                      <a:lnTo>
                        <a:pt x="121" y="122"/>
                      </a:lnTo>
                      <a:lnTo>
                        <a:pt x="123" y="118"/>
                      </a:lnTo>
                      <a:lnTo>
                        <a:pt x="0" y="0"/>
                      </a:lnTo>
                      <a:lnTo>
                        <a:pt x="1" y="8"/>
                      </a:lnTo>
                      <a:lnTo>
                        <a:pt x="3" y="15"/>
                      </a:lnTo>
                      <a:lnTo>
                        <a:pt x="4" y="23"/>
                      </a:lnTo>
                      <a:lnTo>
                        <a:pt x="5" y="3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6910560" y="3726000"/>
                  <a:ext cx="52200" cy="60120"/>
                </a:xfrm>
                <a:custGeom>
                  <a:avLst/>
                  <a:gdLst/>
                  <a:ahLst/>
                  <a:rect l="l" t="t" r="r" b="b"/>
                  <a:pathLst>
                    <a:path w="50" h="58">
                      <a:moveTo>
                        <a:pt x="6" y="15"/>
                      </a:moveTo>
                      <a:lnTo>
                        <a:pt x="6" y="19"/>
                      </a:lnTo>
                      <a:lnTo>
                        <a:pt x="6" y="23"/>
                      </a:lnTo>
                      <a:lnTo>
                        <a:pt x="6" y="27"/>
                      </a:lnTo>
                      <a:lnTo>
                        <a:pt x="5" y="31"/>
                      </a:lnTo>
                      <a:lnTo>
                        <a:pt x="34" y="58"/>
                      </a:lnTo>
                      <a:lnTo>
                        <a:pt x="39" y="55"/>
                      </a:lnTo>
                      <a:lnTo>
                        <a:pt x="42" y="52"/>
                      </a:lnTo>
                      <a:lnTo>
                        <a:pt x="45" y="50"/>
                      </a:lnTo>
                      <a:lnTo>
                        <a:pt x="50" y="47"/>
                      </a:lnTo>
                      <a:lnTo>
                        <a:pt x="0" y="0"/>
                      </a:lnTo>
                      <a:lnTo>
                        <a:pt x="0" y="4"/>
                      </a:lnTo>
                      <a:lnTo>
                        <a:pt x="2" y="7"/>
                      </a:lnTo>
                      <a:lnTo>
                        <a:pt x="4" y="12"/>
                      </a:lnTo>
                      <a:lnTo>
                        <a:pt x="6"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693" name=""/>
                <p:cNvSpPr/>
                <p:nvPr/>
              </p:nvSpPr>
              <p:spPr>
                <a:xfrm>
                  <a:off x="7159680" y="3994200"/>
                  <a:ext cx="115920" cy="128520"/>
                </a:xfrm>
                <a:custGeom>
                  <a:avLst/>
                  <a:gdLst/>
                  <a:ahLst/>
                  <a:rect l="l" t="t" r="r" b="b"/>
                  <a:pathLst>
                    <a:path w="109" h="120">
                      <a:moveTo>
                        <a:pt x="11" y="36"/>
                      </a:moveTo>
                      <a:lnTo>
                        <a:pt x="100" y="120"/>
                      </a:lnTo>
                      <a:lnTo>
                        <a:pt x="102" y="115"/>
                      </a:lnTo>
                      <a:lnTo>
                        <a:pt x="104" y="111"/>
                      </a:lnTo>
                      <a:lnTo>
                        <a:pt x="106" y="107"/>
                      </a:lnTo>
                      <a:lnTo>
                        <a:pt x="109" y="103"/>
                      </a:lnTo>
                      <a:lnTo>
                        <a:pt x="0" y="0"/>
                      </a:lnTo>
                      <a:lnTo>
                        <a:pt x="3" y="9"/>
                      </a:lnTo>
                      <a:lnTo>
                        <a:pt x="6" y="19"/>
                      </a:lnTo>
                      <a:lnTo>
                        <a:pt x="9" y="27"/>
                      </a:lnTo>
                      <a:lnTo>
                        <a:pt x="11" y="3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7291440" y="4129200"/>
                  <a:ext cx="298440" cy="295200"/>
                </a:xfrm>
                <a:custGeom>
                  <a:avLst/>
                  <a:gdLst/>
                  <a:ahLst/>
                  <a:rect l="l" t="t" r="r" b="b"/>
                  <a:pathLst>
                    <a:path w="278" h="275">
                      <a:moveTo>
                        <a:pt x="0" y="17"/>
                      </a:moveTo>
                      <a:lnTo>
                        <a:pt x="269" y="275"/>
                      </a:lnTo>
                      <a:lnTo>
                        <a:pt x="271" y="270"/>
                      </a:lnTo>
                      <a:lnTo>
                        <a:pt x="274" y="266"/>
                      </a:lnTo>
                      <a:lnTo>
                        <a:pt x="276" y="262"/>
                      </a:lnTo>
                      <a:lnTo>
                        <a:pt x="278" y="258"/>
                      </a:lnTo>
                      <a:lnTo>
                        <a:pt x="9" y="0"/>
                      </a:lnTo>
                      <a:lnTo>
                        <a:pt x="7" y="4"/>
                      </a:lnTo>
                      <a:lnTo>
                        <a:pt x="4" y="8"/>
                      </a:lnTo>
                      <a:lnTo>
                        <a:pt x="2" y="12"/>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6904080" y="3757680"/>
                  <a:ext cx="144360" cy="139680"/>
                </a:xfrm>
                <a:custGeom>
                  <a:avLst/>
                  <a:gdLst/>
                  <a:ahLst/>
                  <a:rect l="l" t="t" r="r" b="b"/>
                  <a:pathLst>
                    <a:path w="136" h="129">
                      <a:moveTo>
                        <a:pt x="10" y="11"/>
                      </a:moveTo>
                      <a:lnTo>
                        <a:pt x="8" y="12"/>
                      </a:lnTo>
                      <a:lnTo>
                        <a:pt x="5" y="13"/>
                      </a:lnTo>
                      <a:lnTo>
                        <a:pt x="2" y="14"/>
                      </a:lnTo>
                      <a:lnTo>
                        <a:pt x="0" y="15"/>
                      </a:lnTo>
                      <a:lnTo>
                        <a:pt x="118" y="129"/>
                      </a:lnTo>
                      <a:lnTo>
                        <a:pt x="123" y="127"/>
                      </a:lnTo>
                      <a:lnTo>
                        <a:pt x="128" y="125"/>
                      </a:lnTo>
                      <a:lnTo>
                        <a:pt x="131" y="122"/>
                      </a:lnTo>
                      <a:lnTo>
                        <a:pt x="136" y="120"/>
                      </a:lnTo>
                      <a:lnTo>
                        <a:pt x="41" y="29"/>
                      </a:lnTo>
                      <a:lnTo>
                        <a:pt x="39" y="31"/>
                      </a:lnTo>
                      <a:lnTo>
                        <a:pt x="37" y="34"/>
                      </a:lnTo>
                      <a:lnTo>
                        <a:pt x="34" y="36"/>
                      </a:lnTo>
                      <a:lnTo>
                        <a:pt x="32" y="39"/>
                      </a:lnTo>
                      <a:lnTo>
                        <a:pt x="32" y="37"/>
                      </a:lnTo>
                      <a:lnTo>
                        <a:pt x="32" y="36"/>
                      </a:lnTo>
                      <a:lnTo>
                        <a:pt x="32" y="34"/>
                      </a:lnTo>
                      <a:lnTo>
                        <a:pt x="32" y="32"/>
                      </a:lnTo>
                      <a:lnTo>
                        <a:pt x="34" y="31"/>
                      </a:lnTo>
                      <a:lnTo>
                        <a:pt x="35" y="30"/>
                      </a:lnTo>
                      <a:lnTo>
                        <a:pt x="38" y="28"/>
                      </a:lnTo>
                      <a:lnTo>
                        <a:pt x="39" y="27"/>
                      </a:lnTo>
                      <a:lnTo>
                        <a:pt x="10" y="0"/>
                      </a:lnTo>
                      <a:lnTo>
                        <a:pt x="10" y="2"/>
                      </a:lnTo>
                      <a:lnTo>
                        <a:pt x="10" y="5"/>
                      </a:lnTo>
                      <a:lnTo>
                        <a:pt x="10" y="8"/>
                      </a:lnTo>
                      <a:lnTo>
                        <a:pt x="10" y="1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7583400" y="4406760"/>
                  <a:ext cx="138240" cy="122400"/>
                </a:xfrm>
                <a:custGeom>
                  <a:avLst/>
                  <a:gdLst/>
                  <a:ahLst/>
                  <a:rect l="l" t="t" r="r" b="b"/>
                  <a:pathLst>
                    <a:path w="127" h="114">
                      <a:moveTo>
                        <a:pt x="0" y="17"/>
                      </a:moveTo>
                      <a:lnTo>
                        <a:pt x="100" y="114"/>
                      </a:lnTo>
                      <a:lnTo>
                        <a:pt x="107" y="114"/>
                      </a:lnTo>
                      <a:lnTo>
                        <a:pt x="114" y="114"/>
                      </a:lnTo>
                      <a:lnTo>
                        <a:pt x="121" y="114"/>
                      </a:lnTo>
                      <a:lnTo>
                        <a:pt x="127" y="114"/>
                      </a:lnTo>
                      <a:lnTo>
                        <a:pt x="8" y="0"/>
                      </a:lnTo>
                      <a:lnTo>
                        <a:pt x="5" y="5"/>
                      </a:lnTo>
                      <a:lnTo>
                        <a:pt x="4"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6880320" y="3774960"/>
                  <a:ext cx="149040" cy="130320"/>
                </a:xfrm>
                <a:custGeom>
                  <a:avLst/>
                  <a:gdLst/>
                  <a:ahLst/>
                  <a:rect l="l" t="t" r="r" b="b"/>
                  <a:pathLst>
                    <a:path w="140" h="123">
                      <a:moveTo>
                        <a:pt x="0" y="5"/>
                      </a:moveTo>
                      <a:lnTo>
                        <a:pt x="123" y="123"/>
                      </a:lnTo>
                      <a:lnTo>
                        <a:pt x="128" y="121"/>
                      </a:lnTo>
                      <a:lnTo>
                        <a:pt x="132" y="119"/>
                      </a:lnTo>
                      <a:lnTo>
                        <a:pt x="137" y="117"/>
                      </a:lnTo>
                      <a:lnTo>
                        <a:pt x="140" y="114"/>
                      </a:lnTo>
                      <a:lnTo>
                        <a:pt x="22" y="0"/>
                      </a:lnTo>
                      <a:lnTo>
                        <a:pt x="16" y="1"/>
                      </a:lnTo>
                      <a:lnTo>
                        <a:pt x="11" y="2"/>
                      </a:lnTo>
                      <a:lnTo>
                        <a:pt x="6" y="4"/>
                      </a:lnTo>
                      <a:lnTo>
                        <a:pt x="0" y="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
                <p:cNvSpPr/>
                <p:nvPr/>
              </p:nvSpPr>
              <p:spPr>
                <a:xfrm>
                  <a:off x="7574040" y="4425840"/>
                  <a:ext cx="117360" cy="103320"/>
                </a:xfrm>
                <a:custGeom>
                  <a:avLst/>
                  <a:gdLst/>
                  <a:ahLst/>
                  <a:rect l="l" t="t" r="r" b="b"/>
                  <a:pathLst>
                    <a:path w="110" h="97">
                      <a:moveTo>
                        <a:pt x="0" y="18"/>
                      </a:moveTo>
                      <a:lnTo>
                        <a:pt x="82" y="96"/>
                      </a:lnTo>
                      <a:lnTo>
                        <a:pt x="89" y="96"/>
                      </a:lnTo>
                      <a:lnTo>
                        <a:pt x="96" y="96"/>
                      </a:lnTo>
                      <a:lnTo>
                        <a:pt x="103" y="97"/>
                      </a:lnTo>
                      <a:lnTo>
                        <a:pt x="110" y="97"/>
                      </a:lnTo>
                      <a:lnTo>
                        <a:pt x="10" y="0"/>
                      </a:lnTo>
                      <a:lnTo>
                        <a:pt x="7" y="5"/>
                      </a:lnTo>
                      <a:lnTo>
                        <a:pt x="5" y="8"/>
                      </a:lnTo>
                      <a:lnTo>
                        <a:pt x="3"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
                <p:cNvSpPr/>
                <p:nvPr/>
              </p:nvSpPr>
              <p:spPr>
                <a:xfrm>
                  <a:off x="7170840" y="4032360"/>
                  <a:ext cx="96840" cy="109440"/>
                </a:xfrm>
                <a:custGeom>
                  <a:avLst/>
                  <a:gdLst/>
                  <a:ahLst/>
                  <a:rect l="l" t="t" r="r" b="b"/>
                  <a:pathLst>
                    <a:path w="89" h="101">
                      <a:moveTo>
                        <a:pt x="17" y="41"/>
                      </a:moveTo>
                      <a:lnTo>
                        <a:pt x="79" y="101"/>
                      </a:lnTo>
                      <a:lnTo>
                        <a:pt x="82" y="97"/>
                      </a:lnTo>
                      <a:lnTo>
                        <a:pt x="84" y="92"/>
                      </a:lnTo>
                      <a:lnTo>
                        <a:pt x="86" y="89"/>
                      </a:lnTo>
                      <a:lnTo>
                        <a:pt x="89" y="84"/>
                      </a:lnTo>
                      <a:lnTo>
                        <a:pt x="0" y="0"/>
                      </a:lnTo>
                      <a:lnTo>
                        <a:pt x="4" y="10"/>
                      </a:lnTo>
                      <a:lnTo>
                        <a:pt x="8" y="21"/>
                      </a:lnTo>
                      <a:lnTo>
                        <a:pt x="13" y="31"/>
                      </a:lnTo>
                      <a:lnTo>
                        <a:pt x="17" y="4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7281720" y="4148280"/>
                  <a:ext cx="298440" cy="290520"/>
                </a:xfrm>
                <a:custGeom>
                  <a:avLst/>
                  <a:gdLst/>
                  <a:ahLst/>
                  <a:rect l="l" t="t" r="r" b="b"/>
                  <a:pathLst>
                    <a:path w="277" h="273">
                      <a:moveTo>
                        <a:pt x="0" y="17"/>
                      </a:moveTo>
                      <a:lnTo>
                        <a:pt x="267" y="273"/>
                      </a:lnTo>
                      <a:lnTo>
                        <a:pt x="270" y="270"/>
                      </a:lnTo>
                      <a:lnTo>
                        <a:pt x="273" y="265"/>
                      </a:lnTo>
                      <a:lnTo>
                        <a:pt x="275" y="262"/>
                      </a:lnTo>
                      <a:lnTo>
                        <a:pt x="277" y="258"/>
                      </a:lnTo>
                      <a:lnTo>
                        <a:pt x="8" y="0"/>
                      </a:lnTo>
                      <a:lnTo>
                        <a:pt x="5" y="5"/>
                      </a:lnTo>
                      <a:lnTo>
                        <a:pt x="4"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562880" y="4443480"/>
                  <a:ext cx="98280" cy="85680"/>
                </a:xfrm>
                <a:custGeom>
                  <a:avLst/>
                  <a:gdLst/>
                  <a:ahLst/>
                  <a:rect l="l" t="t" r="r" b="b"/>
                  <a:pathLst>
                    <a:path w="92" h="78">
                      <a:moveTo>
                        <a:pt x="0" y="16"/>
                      </a:moveTo>
                      <a:lnTo>
                        <a:pt x="63" y="76"/>
                      </a:lnTo>
                      <a:lnTo>
                        <a:pt x="70" y="77"/>
                      </a:lnTo>
                      <a:lnTo>
                        <a:pt x="77" y="77"/>
                      </a:lnTo>
                      <a:lnTo>
                        <a:pt x="84" y="78"/>
                      </a:lnTo>
                      <a:lnTo>
                        <a:pt x="92" y="78"/>
                      </a:lnTo>
                      <a:lnTo>
                        <a:pt x="10" y="0"/>
                      </a:lnTo>
                      <a:lnTo>
                        <a:pt x="8" y="3"/>
                      </a:lnTo>
                      <a:lnTo>
                        <a:pt x="6" y="8"/>
                      </a:lnTo>
                      <a:lnTo>
                        <a:pt x="2" y="11"/>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02" name=""/>
                <p:cNvSpPr/>
                <p:nvPr/>
              </p:nvSpPr>
              <p:spPr>
                <a:xfrm>
                  <a:off x="7273800" y="4165560"/>
                  <a:ext cx="295560" cy="290520"/>
                </a:xfrm>
                <a:custGeom>
                  <a:avLst/>
                  <a:gdLst/>
                  <a:ahLst/>
                  <a:rect l="l" t="t" r="r" b="b"/>
                  <a:pathLst>
                    <a:path w="277" h="272">
                      <a:moveTo>
                        <a:pt x="0" y="18"/>
                      </a:moveTo>
                      <a:lnTo>
                        <a:pt x="266" y="272"/>
                      </a:lnTo>
                      <a:lnTo>
                        <a:pt x="269" y="268"/>
                      </a:lnTo>
                      <a:lnTo>
                        <a:pt x="272" y="264"/>
                      </a:lnTo>
                      <a:lnTo>
                        <a:pt x="274" y="261"/>
                      </a:lnTo>
                      <a:lnTo>
                        <a:pt x="277" y="256"/>
                      </a:lnTo>
                      <a:lnTo>
                        <a:pt x="10" y="0"/>
                      </a:lnTo>
                      <a:lnTo>
                        <a:pt x="7" y="5"/>
                      </a:lnTo>
                      <a:lnTo>
                        <a:pt x="5" y="8"/>
                      </a:lnTo>
                      <a:lnTo>
                        <a:pt x="3"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7189920" y="4076640"/>
                  <a:ext cx="66600" cy="82440"/>
                </a:xfrm>
                <a:custGeom>
                  <a:avLst/>
                  <a:gdLst/>
                  <a:ahLst/>
                  <a:rect l="l" t="t" r="r" b="b"/>
                  <a:pathLst>
                    <a:path w="62" h="78">
                      <a:moveTo>
                        <a:pt x="22" y="48"/>
                      </a:moveTo>
                      <a:lnTo>
                        <a:pt x="53" y="78"/>
                      </a:lnTo>
                      <a:lnTo>
                        <a:pt x="55" y="73"/>
                      </a:lnTo>
                      <a:lnTo>
                        <a:pt x="58" y="68"/>
                      </a:lnTo>
                      <a:lnTo>
                        <a:pt x="60" y="65"/>
                      </a:lnTo>
                      <a:lnTo>
                        <a:pt x="62" y="60"/>
                      </a:lnTo>
                      <a:lnTo>
                        <a:pt x="0" y="0"/>
                      </a:lnTo>
                      <a:lnTo>
                        <a:pt x="6" y="12"/>
                      </a:lnTo>
                      <a:lnTo>
                        <a:pt x="11" y="23"/>
                      </a:lnTo>
                      <a:lnTo>
                        <a:pt x="16" y="36"/>
                      </a:lnTo>
                      <a:lnTo>
                        <a:pt x="22" y="4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5640" bIns="35640" anchor="t">
                  <a:noAutofit/>
                </a:bodyPr>
                <a:p>
                  <a:endParaRPr b="0" lang="en-US" sz="1800" spc="-1" strike="noStrike">
                    <a:solidFill>
                      <a:srgbClr val="ffffff"/>
                    </a:solidFill>
                    <a:latin typeface="Arial"/>
                  </a:endParaRPr>
                </a:p>
              </p:txBody>
            </p:sp>
            <p:sp>
              <p:nvSpPr>
                <p:cNvPr id="704" name=""/>
                <p:cNvSpPr/>
                <p:nvPr/>
              </p:nvSpPr>
              <p:spPr>
                <a:xfrm>
                  <a:off x="6869160" y="3780000"/>
                  <a:ext cx="142920" cy="136440"/>
                </a:xfrm>
                <a:custGeom>
                  <a:avLst/>
                  <a:gdLst/>
                  <a:ahLst/>
                  <a:rect l="l" t="t" r="r" b="b"/>
                  <a:pathLst>
                    <a:path w="132" h="128">
                      <a:moveTo>
                        <a:pt x="7" y="1"/>
                      </a:moveTo>
                      <a:lnTo>
                        <a:pt x="5" y="4"/>
                      </a:lnTo>
                      <a:lnTo>
                        <a:pt x="3" y="9"/>
                      </a:lnTo>
                      <a:lnTo>
                        <a:pt x="2" y="12"/>
                      </a:lnTo>
                      <a:lnTo>
                        <a:pt x="0" y="17"/>
                      </a:lnTo>
                      <a:lnTo>
                        <a:pt x="115" y="128"/>
                      </a:lnTo>
                      <a:lnTo>
                        <a:pt x="119" y="125"/>
                      </a:lnTo>
                      <a:lnTo>
                        <a:pt x="124" y="123"/>
                      </a:lnTo>
                      <a:lnTo>
                        <a:pt x="128" y="121"/>
                      </a:lnTo>
                      <a:lnTo>
                        <a:pt x="132" y="118"/>
                      </a:lnTo>
                      <a:lnTo>
                        <a:pt x="9" y="0"/>
                      </a:lnTo>
                      <a:lnTo>
                        <a:pt x="8" y="0"/>
                      </a:lnTo>
                      <a:lnTo>
                        <a:pt x="8" y="0"/>
                      </a:lnTo>
                      <a:lnTo>
                        <a:pt x="8" y="1"/>
                      </a:lnTo>
                      <a:lnTo>
                        <a:pt x="7" y="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6856560" y="3798720"/>
                  <a:ext cx="136440" cy="127080"/>
                </a:xfrm>
                <a:custGeom>
                  <a:avLst/>
                  <a:gdLst/>
                  <a:ahLst/>
                  <a:rect l="l" t="t" r="r" b="b"/>
                  <a:pathLst>
                    <a:path w="128" h="120">
                      <a:moveTo>
                        <a:pt x="5" y="14"/>
                      </a:moveTo>
                      <a:lnTo>
                        <a:pt x="3" y="14"/>
                      </a:lnTo>
                      <a:lnTo>
                        <a:pt x="2" y="14"/>
                      </a:lnTo>
                      <a:lnTo>
                        <a:pt x="1" y="14"/>
                      </a:lnTo>
                      <a:lnTo>
                        <a:pt x="0" y="14"/>
                      </a:lnTo>
                      <a:lnTo>
                        <a:pt x="111" y="120"/>
                      </a:lnTo>
                      <a:lnTo>
                        <a:pt x="115" y="118"/>
                      </a:lnTo>
                      <a:lnTo>
                        <a:pt x="120" y="115"/>
                      </a:lnTo>
                      <a:lnTo>
                        <a:pt x="123" y="113"/>
                      </a:lnTo>
                      <a:lnTo>
                        <a:pt x="128" y="111"/>
                      </a:lnTo>
                      <a:lnTo>
                        <a:pt x="13" y="0"/>
                      </a:lnTo>
                      <a:lnTo>
                        <a:pt x="10" y="4"/>
                      </a:lnTo>
                      <a:lnTo>
                        <a:pt x="9" y="7"/>
                      </a:lnTo>
                      <a:lnTo>
                        <a:pt x="7" y="10"/>
                      </a:lnTo>
                      <a:lnTo>
                        <a:pt x="5" y="1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7559640" y="4460760"/>
                  <a:ext cx="71640" cy="63720"/>
                </a:xfrm>
                <a:custGeom>
                  <a:avLst/>
                  <a:gdLst/>
                  <a:ahLst/>
                  <a:rect l="l" t="t" r="r" b="b"/>
                  <a:pathLst>
                    <a:path w="64" h="60">
                      <a:moveTo>
                        <a:pt x="0" y="3"/>
                      </a:moveTo>
                      <a:lnTo>
                        <a:pt x="4" y="10"/>
                      </a:lnTo>
                      <a:lnTo>
                        <a:pt x="7" y="17"/>
                      </a:lnTo>
                      <a:lnTo>
                        <a:pt x="7" y="24"/>
                      </a:lnTo>
                      <a:lnTo>
                        <a:pt x="7" y="31"/>
                      </a:lnTo>
                      <a:lnTo>
                        <a:pt x="31" y="54"/>
                      </a:lnTo>
                      <a:lnTo>
                        <a:pt x="38" y="55"/>
                      </a:lnTo>
                      <a:lnTo>
                        <a:pt x="46" y="57"/>
                      </a:lnTo>
                      <a:lnTo>
                        <a:pt x="55" y="59"/>
                      </a:lnTo>
                      <a:lnTo>
                        <a:pt x="64" y="60"/>
                      </a:lnTo>
                      <a:lnTo>
                        <a:pt x="1" y="0"/>
                      </a:lnTo>
                      <a:lnTo>
                        <a:pt x="1" y="1"/>
                      </a:lnTo>
                      <a:lnTo>
                        <a:pt x="1" y="1"/>
                      </a:lnTo>
                      <a:lnTo>
                        <a:pt x="0" y="2"/>
                      </a:lnTo>
                      <a:lnTo>
                        <a:pt x="0" y="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1800" spc="-1" strike="noStrike">
                    <a:solidFill>
                      <a:srgbClr val="ffffff"/>
                    </a:solidFill>
                    <a:latin typeface="Arial"/>
                  </a:endParaRPr>
                </a:p>
              </p:txBody>
            </p:sp>
            <p:sp>
              <p:nvSpPr>
                <p:cNvPr id="707" name=""/>
                <p:cNvSpPr/>
                <p:nvPr/>
              </p:nvSpPr>
              <p:spPr>
                <a:xfrm>
                  <a:off x="7213680" y="4125960"/>
                  <a:ext cx="34920" cy="49320"/>
                </a:xfrm>
                <a:custGeom>
                  <a:avLst/>
                  <a:gdLst/>
                  <a:ahLst/>
                  <a:rect l="l" t="t" r="r" b="b"/>
                  <a:pathLst>
                    <a:path w="31" h="46">
                      <a:moveTo>
                        <a:pt x="22" y="46"/>
                      </a:moveTo>
                      <a:lnTo>
                        <a:pt x="24" y="41"/>
                      </a:lnTo>
                      <a:lnTo>
                        <a:pt x="27" y="38"/>
                      </a:lnTo>
                      <a:lnTo>
                        <a:pt x="29" y="33"/>
                      </a:lnTo>
                      <a:lnTo>
                        <a:pt x="31" y="30"/>
                      </a:lnTo>
                      <a:lnTo>
                        <a:pt x="0" y="0"/>
                      </a:lnTo>
                      <a:lnTo>
                        <a:pt x="6" y="10"/>
                      </a:lnTo>
                      <a:lnTo>
                        <a:pt x="12" y="22"/>
                      </a:lnTo>
                      <a:lnTo>
                        <a:pt x="16" y="33"/>
                      </a:lnTo>
                      <a:lnTo>
                        <a:pt x="22" y="4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708" name=""/>
                <p:cNvSpPr/>
                <p:nvPr/>
              </p:nvSpPr>
              <p:spPr>
                <a:xfrm>
                  <a:off x="7264440" y="4184640"/>
                  <a:ext cx="293760" cy="284040"/>
                </a:xfrm>
                <a:custGeom>
                  <a:avLst/>
                  <a:gdLst/>
                  <a:ahLst/>
                  <a:rect l="l" t="t" r="r" b="b"/>
                  <a:pathLst>
                    <a:path w="273" h="266">
                      <a:moveTo>
                        <a:pt x="0" y="18"/>
                      </a:moveTo>
                      <a:lnTo>
                        <a:pt x="257" y="265"/>
                      </a:lnTo>
                      <a:lnTo>
                        <a:pt x="258" y="266"/>
                      </a:lnTo>
                      <a:lnTo>
                        <a:pt x="261" y="266"/>
                      </a:lnTo>
                      <a:lnTo>
                        <a:pt x="262" y="266"/>
                      </a:lnTo>
                      <a:lnTo>
                        <a:pt x="263" y="266"/>
                      </a:lnTo>
                      <a:lnTo>
                        <a:pt x="265" y="263"/>
                      </a:lnTo>
                      <a:lnTo>
                        <a:pt x="269" y="260"/>
                      </a:lnTo>
                      <a:lnTo>
                        <a:pt x="271" y="256"/>
                      </a:lnTo>
                      <a:lnTo>
                        <a:pt x="273" y="254"/>
                      </a:lnTo>
                      <a:lnTo>
                        <a:pt x="7" y="0"/>
                      </a:lnTo>
                      <a:lnTo>
                        <a:pt x="6" y="4"/>
                      </a:lnTo>
                      <a:lnTo>
                        <a:pt x="4" y="9"/>
                      </a:lnTo>
                      <a:lnTo>
                        <a:pt x="3"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7564320" y="4494240"/>
                  <a:ext cx="30240" cy="23760"/>
                </a:xfrm>
                <a:custGeom>
                  <a:avLst/>
                  <a:gdLst/>
                  <a:ahLst/>
                  <a:rect l="l" t="t" r="r" b="b"/>
                  <a:pathLst>
                    <a:path w="28" h="23">
                      <a:moveTo>
                        <a:pt x="0" y="13"/>
                      </a:moveTo>
                      <a:lnTo>
                        <a:pt x="6" y="16"/>
                      </a:lnTo>
                      <a:lnTo>
                        <a:pt x="13" y="18"/>
                      </a:lnTo>
                      <a:lnTo>
                        <a:pt x="20" y="21"/>
                      </a:lnTo>
                      <a:lnTo>
                        <a:pt x="28" y="23"/>
                      </a:lnTo>
                      <a:lnTo>
                        <a:pt x="4" y="0"/>
                      </a:lnTo>
                      <a:lnTo>
                        <a:pt x="3" y="2"/>
                      </a:lnTo>
                      <a:lnTo>
                        <a:pt x="3" y="6"/>
                      </a:lnTo>
                      <a:lnTo>
                        <a:pt x="1" y="9"/>
                      </a:lnTo>
                      <a:lnTo>
                        <a:pt x="0" y="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10" name=""/>
                <p:cNvSpPr/>
                <p:nvPr/>
              </p:nvSpPr>
              <p:spPr>
                <a:xfrm>
                  <a:off x="6831000" y="3809880"/>
                  <a:ext cx="142920" cy="123840"/>
                </a:xfrm>
                <a:custGeom>
                  <a:avLst/>
                  <a:gdLst/>
                  <a:ahLst/>
                  <a:rect l="l" t="t" r="r" b="b"/>
                  <a:pathLst>
                    <a:path w="135" h="118">
                      <a:moveTo>
                        <a:pt x="4" y="0"/>
                      </a:moveTo>
                      <a:lnTo>
                        <a:pt x="3" y="2"/>
                      </a:lnTo>
                      <a:lnTo>
                        <a:pt x="2" y="3"/>
                      </a:lnTo>
                      <a:lnTo>
                        <a:pt x="1" y="5"/>
                      </a:lnTo>
                      <a:lnTo>
                        <a:pt x="0" y="6"/>
                      </a:lnTo>
                      <a:lnTo>
                        <a:pt x="117" y="118"/>
                      </a:lnTo>
                      <a:lnTo>
                        <a:pt x="122" y="116"/>
                      </a:lnTo>
                      <a:lnTo>
                        <a:pt x="126" y="113"/>
                      </a:lnTo>
                      <a:lnTo>
                        <a:pt x="130" y="112"/>
                      </a:lnTo>
                      <a:lnTo>
                        <a:pt x="135" y="110"/>
                      </a:lnTo>
                      <a:lnTo>
                        <a:pt x="24" y="4"/>
                      </a:lnTo>
                      <a:lnTo>
                        <a:pt x="19" y="3"/>
                      </a:lnTo>
                      <a:lnTo>
                        <a:pt x="15" y="2"/>
                      </a:lnTo>
                      <a:lnTo>
                        <a:pt x="9" y="2"/>
                      </a:lnTo>
                      <a:lnTo>
                        <a:pt x="4"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7250040" y="4203720"/>
                  <a:ext cx="290520" cy="270000"/>
                </a:xfrm>
                <a:custGeom>
                  <a:avLst/>
                  <a:gdLst/>
                  <a:ahLst/>
                  <a:rect l="l" t="t" r="r" b="b"/>
                  <a:pathLst>
                    <a:path w="270" h="251">
                      <a:moveTo>
                        <a:pt x="10" y="10"/>
                      </a:moveTo>
                      <a:lnTo>
                        <a:pt x="7" y="10"/>
                      </a:lnTo>
                      <a:lnTo>
                        <a:pt x="4" y="10"/>
                      </a:lnTo>
                      <a:lnTo>
                        <a:pt x="2" y="10"/>
                      </a:lnTo>
                      <a:lnTo>
                        <a:pt x="0" y="10"/>
                      </a:lnTo>
                      <a:lnTo>
                        <a:pt x="0" y="12"/>
                      </a:lnTo>
                      <a:lnTo>
                        <a:pt x="0" y="12"/>
                      </a:lnTo>
                      <a:lnTo>
                        <a:pt x="0" y="13"/>
                      </a:lnTo>
                      <a:lnTo>
                        <a:pt x="0" y="13"/>
                      </a:lnTo>
                      <a:lnTo>
                        <a:pt x="230" y="234"/>
                      </a:lnTo>
                      <a:lnTo>
                        <a:pt x="231" y="229"/>
                      </a:lnTo>
                      <a:lnTo>
                        <a:pt x="231" y="225"/>
                      </a:lnTo>
                      <a:lnTo>
                        <a:pt x="231" y="220"/>
                      </a:lnTo>
                      <a:lnTo>
                        <a:pt x="231" y="215"/>
                      </a:lnTo>
                      <a:lnTo>
                        <a:pt x="233" y="217"/>
                      </a:lnTo>
                      <a:lnTo>
                        <a:pt x="236" y="219"/>
                      </a:lnTo>
                      <a:lnTo>
                        <a:pt x="237" y="220"/>
                      </a:lnTo>
                      <a:lnTo>
                        <a:pt x="239" y="222"/>
                      </a:lnTo>
                      <a:lnTo>
                        <a:pt x="238" y="227"/>
                      </a:lnTo>
                      <a:lnTo>
                        <a:pt x="238" y="230"/>
                      </a:lnTo>
                      <a:lnTo>
                        <a:pt x="237" y="235"/>
                      </a:lnTo>
                      <a:lnTo>
                        <a:pt x="236" y="240"/>
                      </a:lnTo>
                      <a:lnTo>
                        <a:pt x="248" y="251"/>
                      </a:lnTo>
                      <a:lnTo>
                        <a:pt x="253" y="248"/>
                      </a:lnTo>
                      <a:lnTo>
                        <a:pt x="258" y="245"/>
                      </a:lnTo>
                      <a:lnTo>
                        <a:pt x="262" y="245"/>
                      </a:lnTo>
                      <a:lnTo>
                        <a:pt x="270" y="247"/>
                      </a:lnTo>
                      <a:lnTo>
                        <a:pt x="13" y="0"/>
                      </a:lnTo>
                      <a:lnTo>
                        <a:pt x="12" y="2"/>
                      </a:lnTo>
                      <a:lnTo>
                        <a:pt x="12" y="5"/>
                      </a:lnTo>
                      <a:lnTo>
                        <a:pt x="11" y="8"/>
                      </a:lnTo>
                      <a:lnTo>
                        <a:pt x="10" y="1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248600" y="4216320"/>
                  <a:ext cx="247680" cy="263520"/>
                </a:xfrm>
                <a:custGeom>
                  <a:avLst/>
                  <a:gdLst/>
                  <a:ahLst/>
                  <a:rect l="l" t="t" r="r" b="b"/>
                  <a:pathLst>
                    <a:path w="233" h="245">
                      <a:moveTo>
                        <a:pt x="0" y="24"/>
                      </a:moveTo>
                      <a:lnTo>
                        <a:pt x="232" y="245"/>
                      </a:lnTo>
                      <a:lnTo>
                        <a:pt x="232" y="239"/>
                      </a:lnTo>
                      <a:lnTo>
                        <a:pt x="233" y="232"/>
                      </a:lnTo>
                      <a:lnTo>
                        <a:pt x="233" y="227"/>
                      </a:lnTo>
                      <a:lnTo>
                        <a:pt x="233" y="221"/>
                      </a:lnTo>
                      <a:lnTo>
                        <a:pt x="3" y="0"/>
                      </a:lnTo>
                      <a:lnTo>
                        <a:pt x="1" y="7"/>
                      </a:lnTo>
                      <a:lnTo>
                        <a:pt x="1" y="12"/>
                      </a:lnTo>
                      <a:lnTo>
                        <a:pt x="1" y="18"/>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7497720" y="4460760"/>
                  <a:ext cx="19080" cy="20880"/>
                </a:xfrm>
                <a:custGeom>
                  <a:avLst/>
                  <a:gdLst/>
                  <a:ahLst/>
                  <a:rect l="l" t="t" r="r" b="b"/>
                  <a:pathLst>
                    <a:path w="17" h="20">
                      <a:moveTo>
                        <a:pt x="0" y="20"/>
                      </a:moveTo>
                      <a:lnTo>
                        <a:pt x="6" y="18"/>
                      </a:lnTo>
                      <a:lnTo>
                        <a:pt x="11" y="16"/>
                      </a:lnTo>
                      <a:lnTo>
                        <a:pt x="15" y="13"/>
                      </a:lnTo>
                      <a:lnTo>
                        <a:pt x="17" y="11"/>
                      </a:lnTo>
                      <a:lnTo>
                        <a:pt x="5" y="0"/>
                      </a:lnTo>
                      <a:lnTo>
                        <a:pt x="4" y="4"/>
                      </a:lnTo>
                      <a:lnTo>
                        <a:pt x="2" y="10"/>
                      </a:lnTo>
                      <a:lnTo>
                        <a:pt x="1" y="15"/>
                      </a:lnTo>
                      <a:lnTo>
                        <a:pt x="0" y="2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14" name=""/>
                <p:cNvSpPr/>
                <p:nvPr/>
              </p:nvSpPr>
              <p:spPr>
                <a:xfrm>
                  <a:off x="6818400" y="3816360"/>
                  <a:ext cx="137880" cy="128520"/>
                </a:xfrm>
                <a:custGeom>
                  <a:avLst/>
                  <a:gdLst/>
                  <a:ahLst/>
                  <a:rect l="l" t="t" r="r" b="b"/>
                  <a:pathLst>
                    <a:path w="129" h="121">
                      <a:moveTo>
                        <a:pt x="0" y="15"/>
                      </a:moveTo>
                      <a:lnTo>
                        <a:pt x="111" y="121"/>
                      </a:lnTo>
                      <a:lnTo>
                        <a:pt x="115" y="119"/>
                      </a:lnTo>
                      <a:lnTo>
                        <a:pt x="120" y="117"/>
                      </a:lnTo>
                      <a:lnTo>
                        <a:pt x="125" y="114"/>
                      </a:lnTo>
                      <a:lnTo>
                        <a:pt x="129" y="112"/>
                      </a:lnTo>
                      <a:lnTo>
                        <a:pt x="12" y="0"/>
                      </a:lnTo>
                      <a:lnTo>
                        <a:pt x="9" y="4"/>
                      </a:lnTo>
                      <a:lnTo>
                        <a:pt x="6" y="7"/>
                      </a:lnTo>
                      <a:lnTo>
                        <a:pt x="3"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6805440" y="3830760"/>
                  <a:ext cx="130320" cy="123840"/>
                </a:xfrm>
                <a:custGeom>
                  <a:avLst/>
                  <a:gdLst/>
                  <a:ahLst/>
                  <a:rect l="l" t="t" r="r" b="b"/>
                  <a:pathLst>
                    <a:path w="122" h="115">
                      <a:moveTo>
                        <a:pt x="0" y="14"/>
                      </a:moveTo>
                      <a:lnTo>
                        <a:pt x="105" y="115"/>
                      </a:lnTo>
                      <a:lnTo>
                        <a:pt x="109" y="113"/>
                      </a:lnTo>
                      <a:lnTo>
                        <a:pt x="114" y="111"/>
                      </a:lnTo>
                      <a:lnTo>
                        <a:pt x="117" y="108"/>
                      </a:lnTo>
                      <a:lnTo>
                        <a:pt x="122" y="106"/>
                      </a:lnTo>
                      <a:lnTo>
                        <a:pt x="11" y="0"/>
                      </a:lnTo>
                      <a:lnTo>
                        <a:pt x="9" y="4"/>
                      </a:lnTo>
                      <a:lnTo>
                        <a:pt x="5" y="7"/>
                      </a:lnTo>
                      <a:lnTo>
                        <a:pt x="2" y="11"/>
                      </a:lnTo>
                      <a:lnTo>
                        <a:pt x="0" y="1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7248600" y="4241880"/>
                  <a:ext cx="247680" cy="263520"/>
                </a:xfrm>
                <a:custGeom>
                  <a:avLst/>
                  <a:gdLst/>
                  <a:ahLst/>
                  <a:rect l="l" t="t" r="r" b="b"/>
                  <a:pathLst>
                    <a:path w="233" h="244">
                      <a:moveTo>
                        <a:pt x="0" y="24"/>
                      </a:moveTo>
                      <a:lnTo>
                        <a:pt x="229" y="244"/>
                      </a:lnTo>
                      <a:lnTo>
                        <a:pt x="231" y="238"/>
                      </a:lnTo>
                      <a:lnTo>
                        <a:pt x="232" y="233"/>
                      </a:lnTo>
                      <a:lnTo>
                        <a:pt x="232" y="227"/>
                      </a:lnTo>
                      <a:lnTo>
                        <a:pt x="233" y="221"/>
                      </a:lnTo>
                      <a:lnTo>
                        <a:pt x="1" y="0"/>
                      </a:lnTo>
                      <a:lnTo>
                        <a:pt x="1" y="7"/>
                      </a:lnTo>
                      <a:lnTo>
                        <a:pt x="1" y="13"/>
                      </a:lnTo>
                      <a:lnTo>
                        <a:pt x="0" y="18"/>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6791400" y="3846600"/>
                  <a:ext cx="127080" cy="117360"/>
                </a:xfrm>
                <a:custGeom>
                  <a:avLst/>
                  <a:gdLst/>
                  <a:ahLst/>
                  <a:rect l="l" t="t" r="r" b="b"/>
                  <a:pathLst>
                    <a:path w="118" h="111">
                      <a:moveTo>
                        <a:pt x="0" y="15"/>
                      </a:moveTo>
                      <a:lnTo>
                        <a:pt x="100" y="111"/>
                      </a:lnTo>
                      <a:lnTo>
                        <a:pt x="105" y="108"/>
                      </a:lnTo>
                      <a:lnTo>
                        <a:pt x="109" y="106"/>
                      </a:lnTo>
                      <a:lnTo>
                        <a:pt x="113" y="104"/>
                      </a:lnTo>
                      <a:lnTo>
                        <a:pt x="118" y="101"/>
                      </a:lnTo>
                      <a:lnTo>
                        <a:pt x="13" y="0"/>
                      </a:lnTo>
                      <a:lnTo>
                        <a:pt x="9" y="3"/>
                      </a:lnTo>
                      <a:lnTo>
                        <a:pt x="7" y="7"/>
                      </a:lnTo>
                      <a:lnTo>
                        <a:pt x="4"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7243920" y="4270320"/>
                  <a:ext cx="247320" cy="258840"/>
                </a:xfrm>
                <a:custGeom>
                  <a:avLst/>
                  <a:gdLst/>
                  <a:ahLst/>
                  <a:rect l="l" t="t" r="r" b="b"/>
                  <a:pathLst>
                    <a:path w="231" h="242">
                      <a:moveTo>
                        <a:pt x="0" y="24"/>
                      </a:moveTo>
                      <a:lnTo>
                        <a:pt x="228" y="242"/>
                      </a:lnTo>
                      <a:lnTo>
                        <a:pt x="229" y="236"/>
                      </a:lnTo>
                      <a:lnTo>
                        <a:pt x="230" y="230"/>
                      </a:lnTo>
                      <a:lnTo>
                        <a:pt x="230" y="226"/>
                      </a:lnTo>
                      <a:lnTo>
                        <a:pt x="231" y="220"/>
                      </a:lnTo>
                      <a:lnTo>
                        <a:pt x="2" y="0"/>
                      </a:lnTo>
                      <a:lnTo>
                        <a:pt x="1" y="7"/>
                      </a:lnTo>
                      <a:lnTo>
                        <a:pt x="1" y="13"/>
                      </a:lnTo>
                      <a:lnTo>
                        <a:pt x="1" y="19"/>
                      </a:lnTo>
                      <a:lnTo>
                        <a:pt x="0" y="2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243920" y="4295880"/>
                  <a:ext cx="244440" cy="255600"/>
                </a:xfrm>
                <a:custGeom>
                  <a:avLst/>
                  <a:gdLst/>
                  <a:ahLst/>
                  <a:rect l="l" t="t" r="r" b="b"/>
                  <a:pathLst>
                    <a:path w="228" h="240">
                      <a:moveTo>
                        <a:pt x="0" y="26"/>
                      </a:moveTo>
                      <a:lnTo>
                        <a:pt x="223" y="240"/>
                      </a:lnTo>
                      <a:lnTo>
                        <a:pt x="224" y="234"/>
                      </a:lnTo>
                      <a:lnTo>
                        <a:pt x="226" y="228"/>
                      </a:lnTo>
                      <a:lnTo>
                        <a:pt x="227" y="224"/>
                      </a:lnTo>
                      <a:lnTo>
                        <a:pt x="228" y="218"/>
                      </a:lnTo>
                      <a:lnTo>
                        <a:pt x="0" y="0"/>
                      </a:lnTo>
                      <a:lnTo>
                        <a:pt x="0" y="7"/>
                      </a:lnTo>
                      <a:lnTo>
                        <a:pt x="0" y="13"/>
                      </a:lnTo>
                      <a:lnTo>
                        <a:pt x="0" y="20"/>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6781680" y="3860640"/>
                  <a:ext cx="117720" cy="114480"/>
                </a:xfrm>
                <a:custGeom>
                  <a:avLst/>
                  <a:gdLst/>
                  <a:ahLst/>
                  <a:rect l="l" t="t" r="r" b="b"/>
                  <a:pathLst>
                    <a:path w="110" h="105">
                      <a:moveTo>
                        <a:pt x="0" y="15"/>
                      </a:moveTo>
                      <a:lnTo>
                        <a:pt x="93" y="105"/>
                      </a:lnTo>
                      <a:lnTo>
                        <a:pt x="98" y="102"/>
                      </a:lnTo>
                      <a:lnTo>
                        <a:pt x="102" y="100"/>
                      </a:lnTo>
                      <a:lnTo>
                        <a:pt x="106" y="98"/>
                      </a:lnTo>
                      <a:lnTo>
                        <a:pt x="110" y="96"/>
                      </a:lnTo>
                      <a:lnTo>
                        <a:pt x="10" y="0"/>
                      </a:lnTo>
                      <a:lnTo>
                        <a:pt x="8" y="3"/>
                      </a:lnTo>
                      <a:lnTo>
                        <a:pt x="5" y="7"/>
                      </a:lnTo>
                      <a:lnTo>
                        <a:pt x="2"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6769080" y="3878280"/>
                  <a:ext cx="112680" cy="106200"/>
                </a:xfrm>
                <a:custGeom>
                  <a:avLst/>
                  <a:gdLst/>
                  <a:ahLst/>
                  <a:rect l="l" t="t" r="r" b="b"/>
                  <a:pathLst>
                    <a:path w="105" h="100">
                      <a:moveTo>
                        <a:pt x="0" y="15"/>
                      </a:moveTo>
                      <a:lnTo>
                        <a:pt x="89" y="100"/>
                      </a:lnTo>
                      <a:lnTo>
                        <a:pt x="93" y="98"/>
                      </a:lnTo>
                      <a:lnTo>
                        <a:pt x="97" y="94"/>
                      </a:lnTo>
                      <a:lnTo>
                        <a:pt x="100" y="92"/>
                      </a:lnTo>
                      <a:lnTo>
                        <a:pt x="105" y="90"/>
                      </a:lnTo>
                      <a:lnTo>
                        <a:pt x="12" y="0"/>
                      </a:lnTo>
                      <a:lnTo>
                        <a:pt x="8" y="3"/>
                      </a:lnTo>
                      <a:lnTo>
                        <a:pt x="6" y="7"/>
                      </a:lnTo>
                      <a:lnTo>
                        <a:pt x="2" y="11"/>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7243920" y="4321080"/>
                  <a:ext cx="239400" cy="252360"/>
                </a:xfrm>
                <a:custGeom>
                  <a:avLst/>
                  <a:gdLst/>
                  <a:ahLst/>
                  <a:rect l="l" t="t" r="r" b="b"/>
                  <a:pathLst>
                    <a:path w="223" h="235">
                      <a:moveTo>
                        <a:pt x="1" y="26"/>
                      </a:moveTo>
                      <a:lnTo>
                        <a:pt x="219" y="235"/>
                      </a:lnTo>
                      <a:lnTo>
                        <a:pt x="220" y="229"/>
                      </a:lnTo>
                      <a:lnTo>
                        <a:pt x="221" y="224"/>
                      </a:lnTo>
                      <a:lnTo>
                        <a:pt x="222" y="218"/>
                      </a:lnTo>
                      <a:lnTo>
                        <a:pt x="223" y="214"/>
                      </a:lnTo>
                      <a:lnTo>
                        <a:pt x="0" y="0"/>
                      </a:lnTo>
                      <a:lnTo>
                        <a:pt x="0" y="7"/>
                      </a:lnTo>
                      <a:lnTo>
                        <a:pt x="0" y="13"/>
                      </a:lnTo>
                      <a:lnTo>
                        <a:pt x="0" y="20"/>
                      </a:lnTo>
                      <a:lnTo>
                        <a:pt x="1"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245360" y="4351320"/>
                  <a:ext cx="233280" cy="244440"/>
                </a:xfrm>
                <a:custGeom>
                  <a:avLst/>
                  <a:gdLst/>
                  <a:ahLst/>
                  <a:rect l="l" t="t" r="r" b="b"/>
                  <a:pathLst>
                    <a:path w="218" h="229">
                      <a:moveTo>
                        <a:pt x="8" y="35"/>
                      </a:moveTo>
                      <a:lnTo>
                        <a:pt x="212" y="229"/>
                      </a:lnTo>
                      <a:lnTo>
                        <a:pt x="213" y="224"/>
                      </a:lnTo>
                      <a:lnTo>
                        <a:pt x="215" y="219"/>
                      </a:lnTo>
                      <a:lnTo>
                        <a:pt x="217" y="213"/>
                      </a:lnTo>
                      <a:lnTo>
                        <a:pt x="218" y="209"/>
                      </a:lnTo>
                      <a:lnTo>
                        <a:pt x="0" y="0"/>
                      </a:lnTo>
                      <a:lnTo>
                        <a:pt x="1" y="9"/>
                      </a:lnTo>
                      <a:lnTo>
                        <a:pt x="2" y="17"/>
                      </a:lnTo>
                      <a:lnTo>
                        <a:pt x="5" y="27"/>
                      </a:lnTo>
                      <a:lnTo>
                        <a:pt x="8" y="3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6756480" y="3892680"/>
                  <a:ext cx="106200" cy="102960"/>
                </a:xfrm>
                <a:custGeom>
                  <a:avLst/>
                  <a:gdLst/>
                  <a:ahLst/>
                  <a:rect l="l" t="t" r="r" b="b"/>
                  <a:pathLst>
                    <a:path w="100" h="96">
                      <a:moveTo>
                        <a:pt x="0" y="16"/>
                      </a:moveTo>
                      <a:lnTo>
                        <a:pt x="84" y="96"/>
                      </a:lnTo>
                      <a:lnTo>
                        <a:pt x="87" y="93"/>
                      </a:lnTo>
                      <a:lnTo>
                        <a:pt x="92" y="90"/>
                      </a:lnTo>
                      <a:lnTo>
                        <a:pt x="95" y="87"/>
                      </a:lnTo>
                      <a:lnTo>
                        <a:pt x="100" y="85"/>
                      </a:lnTo>
                      <a:lnTo>
                        <a:pt x="11" y="0"/>
                      </a:lnTo>
                      <a:lnTo>
                        <a:pt x="9" y="5"/>
                      </a:lnTo>
                      <a:lnTo>
                        <a:pt x="5" y="8"/>
                      </a:lnTo>
                      <a:lnTo>
                        <a:pt x="2" y="11"/>
                      </a:lnTo>
                      <a:lnTo>
                        <a:pt x="0" y="1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6746760" y="3911760"/>
                  <a:ext cx="98640" cy="95040"/>
                </a:xfrm>
                <a:custGeom>
                  <a:avLst/>
                  <a:gdLst/>
                  <a:ahLst/>
                  <a:rect l="l" t="t" r="r" b="b"/>
                  <a:pathLst>
                    <a:path w="94" h="90">
                      <a:moveTo>
                        <a:pt x="0" y="15"/>
                      </a:moveTo>
                      <a:lnTo>
                        <a:pt x="78" y="90"/>
                      </a:lnTo>
                      <a:lnTo>
                        <a:pt x="82" y="88"/>
                      </a:lnTo>
                      <a:lnTo>
                        <a:pt x="86" y="84"/>
                      </a:lnTo>
                      <a:lnTo>
                        <a:pt x="89" y="82"/>
                      </a:lnTo>
                      <a:lnTo>
                        <a:pt x="94" y="80"/>
                      </a:lnTo>
                      <a:lnTo>
                        <a:pt x="10" y="0"/>
                      </a:lnTo>
                      <a:lnTo>
                        <a:pt x="7" y="3"/>
                      </a:lnTo>
                      <a:lnTo>
                        <a:pt x="5" y="7"/>
                      </a:lnTo>
                      <a:lnTo>
                        <a:pt x="3" y="12"/>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7254720" y="4387680"/>
                  <a:ext cx="217800" cy="231840"/>
                </a:xfrm>
                <a:custGeom>
                  <a:avLst/>
                  <a:gdLst/>
                  <a:ahLst/>
                  <a:rect l="l" t="t" r="r" b="b"/>
                  <a:pathLst>
                    <a:path w="204" h="215">
                      <a:moveTo>
                        <a:pt x="39" y="63"/>
                      </a:moveTo>
                      <a:lnTo>
                        <a:pt x="198" y="215"/>
                      </a:lnTo>
                      <a:lnTo>
                        <a:pt x="199" y="209"/>
                      </a:lnTo>
                      <a:lnTo>
                        <a:pt x="202" y="205"/>
                      </a:lnTo>
                      <a:lnTo>
                        <a:pt x="203" y="199"/>
                      </a:lnTo>
                      <a:lnTo>
                        <a:pt x="204" y="194"/>
                      </a:lnTo>
                      <a:lnTo>
                        <a:pt x="0" y="0"/>
                      </a:lnTo>
                      <a:lnTo>
                        <a:pt x="4" y="7"/>
                      </a:lnTo>
                      <a:lnTo>
                        <a:pt x="7" y="14"/>
                      </a:lnTo>
                      <a:lnTo>
                        <a:pt x="10" y="22"/>
                      </a:lnTo>
                      <a:lnTo>
                        <a:pt x="15" y="28"/>
                      </a:lnTo>
                      <a:lnTo>
                        <a:pt x="21" y="37"/>
                      </a:lnTo>
                      <a:lnTo>
                        <a:pt x="27" y="45"/>
                      </a:lnTo>
                      <a:lnTo>
                        <a:pt x="32" y="54"/>
                      </a:lnTo>
                      <a:lnTo>
                        <a:pt x="39" y="6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6819840" y="4025880"/>
                  <a:ext cx="4680" cy="1440"/>
                </a:xfrm>
                <a:custGeom>
                  <a:avLst/>
                  <a:gdLst/>
                  <a:ahLst/>
                  <a:rect l="l" t="t" r="r" b="b"/>
                  <a:pathLst>
                    <a:path w="5" h="2">
                      <a:moveTo>
                        <a:pt x="5" y="0"/>
                      </a:moveTo>
                      <a:lnTo>
                        <a:pt x="4" y="0"/>
                      </a:lnTo>
                      <a:lnTo>
                        <a:pt x="3" y="0"/>
                      </a:lnTo>
                      <a:lnTo>
                        <a:pt x="2" y="0"/>
                      </a:lnTo>
                      <a:lnTo>
                        <a:pt x="0" y="0"/>
                      </a:lnTo>
                      <a:lnTo>
                        <a:pt x="4" y="2"/>
                      </a:lnTo>
                      <a:lnTo>
                        <a:pt x="4" y="2"/>
                      </a:lnTo>
                      <a:lnTo>
                        <a:pt x="5" y="1"/>
                      </a:lnTo>
                      <a:lnTo>
                        <a:pt x="5" y="1"/>
                      </a:lnTo>
                      <a:lnTo>
                        <a:pt x="5" y="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8" name=""/>
                <p:cNvSpPr/>
                <p:nvPr/>
              </p:nvSpPr>
              <p:spPr>
                <a:xfrm>
                  <a:off x="6735600" y="3927600"/>
                  <a:ext cx="92160" cy="91800"/>
                </a:xfrm>
                <a:custGeom>
                  <a:avLst/>
                  <a:gdLst/>
                  <a:ahLst/>
                  <a:rect l="l" t="t" r="r" b="b"/>
                  <a:pathLst>
                    <a:path w="88" h="86">
                      <a:moveTo>
                        <a:pt x="0" y="17"/>
                      </a:moveTo>
                      <a:lnTo>
                        <a:pt x="74" y="86"/>
                      </a:lnTo>
                      <a:lnTo>
                        <a:pt x="77" y="84"/>
                      </a:lnTo>
                      <a:lnTo>
                        <a:pt x="81" y="81"/>
                      </a:lnTo>
                      <a:lnTo>
                        <a:pt x="84" y="78"/>
                      </a:lnTo>
                      <a:lnTo>
                        <a:pt x="88" y="75"/>
                      </a:lnTo>
                      <a:lnTo>
                        <a:pt x="10" y="0"/>
                      </a:lnTo>
                      <a:lnTo>
                        <a:pt x="8" y="5"/>
                      </a:lnTo>
                      <a:lnTo>
                        <a:pt x="6" y="8"/>
                      </a:lnTo>
                      <a:lnTo>
                        <a:pt x="2" y="13"/>
                      </a:lnTo>
                      <a:lnTo>
                        <a:pt x="0"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29" name=""/>
                <p:cNvSpPr/>
                <p:nvPr/>
              </p:nvSpPr>
              <p:spPr>
                <a:xfrm>
                  <a:off x="7297560" y="4456080"/>
                  <a:ext cx="168480" cy="184320"/>
                </a:xfrm>
                <a:custGeom>
                  <a:avLst/>
                  <a:gdLst/>
                  <a:ahLst/>
                  <a:rect l="l" t="t" r="r" b="b"/>
                  <a:pathLst>
                    <a:path w="159" h="173">
                      <a:moveTo>
                        <a:pt x="38" y="47"/>
                      </a:moveTo>
                      <a:lnTo>
                        <a:pt x="41" y="53"/>
                      </a:lnTo>
                      <a:lnTo>
                        <a:pt x="43" y="58"/>
                      </a:lnTo>
                      <a:lnTo>
                        <a:pt x="45" y="63"/>
                      </a:lnTo>
                      <a:lnTo>
                        <a:pt x="47" y="70"/>
                      </a:lnTo>
                      <a:lnTo>
                        <a:pt x="153" y="173"/>
                      </a:lnTo>
                      <a:lnTo>
                        <a:pt x="155" y="167"/>
                      </a:lnTo>
                      <a:lnTo>
                        <a:pt x="157" y="162"/>
                      </a:lnTo>
                      <a:lnTo>
                        <a:pt x="158" y="157"/>
                      </a:lnTo>
                      <a:lnTo>
                        <a:pt x="159" y="152"/>
                      </a:lnTo>
                      <a:lnTo>
                        <a:pt x="0" y="0"/>
                      </a:lnTo>
                      <a:lnTo>
                        <a:pt x="4" y="6"/>
                      </a:lnTo>
                      <a:lnTo>
                        <a:pt x="8" y="10"/>
                      </a:lnTo>
                      <a:lnTo>
                        <a:pt x="13" y="16"/>
                      </a:lnTo>
                      <a:lnTo>
                        <a:pt x="17" y="22"/>
                      </a:lnTo>
                      <a:lnTo>
                        <a:pt x="22" y="28"/>
                      </a:lnTo>
                      <a:lnTo>
                        <a:pt x="28" y="35"/>
                      </a:lnTo>
                      <a:lnTo>
                        <a:pt x="32" y="40"/>
                      </a:lnTo>
                      <a:lnTo>
                        <a:pt x="38" y="4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6727680" y="3946680"/>
                  <a:ext cx="93960" cy="98280"/>
                </a:xfrm>
                <a:custGeom>
                  <a:avLst/>
                  <a:gdLst/>
                  <a:ahLst/>
                  <a:rect l="l" t="t" r="r" b="b"/>
                  <a:pathLst>
                    <a:path w="90" h="94">
                      <a:moveTo>
                        <a:pt x="0" y="18"/>
                      </a:moveTo>
                      <a:lnTo>
                        <a:pt x="79" y="94"/>
                      </a:lnTo>
                      <a:lnTo>
                        <a:pt x="82" y="90"/>
                      </a:lnTo>
                      <a:lnTo>
                        <a:pt x="85" y="86"/>
                      </a:lnTo>
                      <a:lnTo>
                        <a:pt x="88" y="82"/>
                      </a:lnTo>
                      <a:lnTo>
                        <a:pt x="90" y="77"/>
                      </a:lnTo>
                      <a:lnTo>
                        <a:pt x="86" y="75"/>
                      </a:lnTo>
                      <a:lnTo>
                        <a:pt x="84" y="75"/>
                      </a:lnTo>
                      <a:lnTo>
                        <a:pt x="81" y="75"/>
                      </a:lnTo>
                      <a:lnTo>
                        <a:pt x="78" y="75"/>
                      </a:lnTo>
                      <a:lnTo>
                        <a:pt x="75" y="75"/>
                      </a:lnTo>
                      <a:lnTo>
                        <a:pt x="77" y="74"/>
                      </a:lnTo>
                      <a:lnTo>
                        <a:pt x="78" y="72"/>
                      </a:lnTo>
                      <a:lnTo>
                        <a:pt x="81" y="71"/>
                      </a:lnTo>
                      <a:lnTo>
                        <a:pt x="82" y="69"/>
                      </a:lnTo>
                      <a:lnTo>
                        <a:pt x="8" y="0"/>
                      </a:lnTo>
                      <a:lnTo>
                        <a:pt x="6" y="5"/>
                      </a:lnTo>
                      <a:lnTo>
                        <a:pt x="3" y="8"/>
                      </a:lnTo>
                      <a:lnTo>
                        <a:pt x="2" y="13"/>
                      </a:lnTo>
                      <a:lnTo>
                        <a:pt x="0" y="1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7346880" y="4530600"/>
                  <a:ext cx="112680" cy="131760"/>
                </a:xfrm>
                <a:custGeom>
                  <a:avLst/>
                  <a:gdLst/>
                  <a:ahLst/>
                  <a:rect l="l" t="t" r="r" b="b"/>
                  <a:pathLst>
                    <a:path w="106" h="122">
                      <a:moveTo>
                        <a:pt x="7" y="33"/>
                      </a:moveTo>
                      <a:lnTo>
                        <a:pt x="101" y="122"/>
                      </a:lnTo>
                      <a:lnTo>
                        <a:pt x="102" y="118"/>
                      </a:lnTo>
                      <a:lnTo>
                        <a:pt x="104" y="112"/>
                      </a:lnTo>
                      <a:lnTo>
                        <a:pt x="105" y="107"/>
                      </a:lnTo>
                      <a:lnTo>
                        <a:pt x="106" y="103"/>
                      </a:lnTo>
                      <a:lnTo>
                        <a:pt x="0" y="0"/>
                      </a:lnTo>
                      <a:lnTo>
                        <a:pt x="3" y="7"/>
                      </a:lnTo>
                      <a:lnTo>
                        <a:pt x="4" y="15"/>
                      </a:lnTo>
                      <a:lnTo>
                        <a:pt x="6" y="24"/>
                      </a:lnTo>
                      <a:lnTo>
                        <a:pt x="7" y="3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7354800" y="4565520"/>
                  <a:ext cx="98640" cy="117720"/>
                </a:xfrm>
                <a:custGeom>
                  <a:avLst/>
                  <a:gdLst/>
                  <a:ahLst/>
                  <a:rect l="l" t="t" r="r" b="b"/>
                  <a:pathLst>
                    <a:path w="94" h="110">
                      <a:moveTo>
                        <a:pt x="5" y="30"/>
                      </a:moveTo>
                      <a:lnTo>
                        <a:pt x="88" y="110"/>
                      </a:lnTo>
                      <a:lnTo>
                        <a:pt x="89" y="104"/>
                      </a:lnTo>
                      <a:lnTo>
                        <a:pt x="91" y="100"/>
                      </a:lnTo>
                      <a:lnTo>
                        <a:pt x="93" y="94"/>
                      </a:lnTo>
                      <a:lnTo>
                        <a:pt x="94" y="89"/>
                      </a:lnTo>
                      <a:lnTo>
                        <a:pt x="0" y="0"/>
                      </a:lnTo>
                      <a:lnTo>
                        <a:pt x="2" y="8"/>
                      </a:lnTo>
                      <a:lnTo>
                        <a:pt x="3" y="15"/>
                      </a:lnTo>
                      <a:lnTo>
                        <a:pt x="4" y="21"/>
                      </a:lnTo>
                      <a:lnTo>
                        <a:pt x="5" y="3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6719760" y="3963960"/>
                  <a:ext cx="92160" cy="98280"/>
                </a:xfrm>
                <a:custGeom>
                  <a:avLst/>
                  <a:gdLst/>
                  <a:ahLst/>
                  <a:rect l="l" t="t" r="r" b="b"/>
                  <a:pathLst>
                    <a:path w="86" h="92">
                      <a:moveTo>
                        <a:pt x="0" y="19"/>
                      </a:moveTo>
                      <a:lnTo>
                        <a:pt x="76" y="92"/>
                      </a:lnTo>
                      <a:lnTo>
                        <a:pt x="78" y="88"/>
                      </a:lnTo>
                      <a:lnTo>
                        <a:pt x="82" y="84"/>
                      </a:lnTo>
                      <a:lnTo>
                        <a:pt x="84" y="80"/>
                      </a:lnTo>
                      <a:lnTo>
                        <a:pt x="86" y="76"/>
                      </a:lnTo>
                      <a:lnTo>
                        <a:pt x="7" y="0"/>
                      </a:lnTo>
                      <a:lnTo>
                        <a:pt x="5" y="4"/>
                      </a:lnTo>
                      <a:lnTo>
                        <a:pt x="2" y="10"/>
                      </a:lnTo>
                      <a:lnTo>
                        <a:pt x="1" y="15"/>
                      </a:lnTo>
                      <a:lnTo>
                        <a:pt x="0" y="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7359480" y="4597560"/>
                  <a:ext cx="87480" cy="107640"/>
                </a:xfrm>
                <a:custGeom>
                  <a:avLst/>
                  <a:gdLst/>
                  <a:ahLst/>
                  <a:rect l="l" t="t" r="r" b="b"/>
                  <a:pathLst>
                    <a:path w="83" h="100">
                      <a:moveTo>
                        <a:pt x="2" y="28"/>
                      </a:moveTo>
                      <a:lnTo>
                        <a:pt x="77" y="100"/>
                      </a:lnTo>
                      <a:lnTo>
                        <a:pt x="78" y="95"/>
                      </a:lnTo>
                      <a:lnTo>
                        <a:pt x="81" y="89"/>
                      </a:lnTo>
                      <a:lnTo>
                        <a:pt x="82" y="85"/>
                      </a:lnTo>
                      <a:lnTo>
                        <a:pt x="83" y="80"/>
                      </a:lnTo>
                      <a:lnTo>
                        <a:pt x="0" y="0"/>
                      </a:lnTo>
                      <a:lnTo>
                        <a:pt x="1" y="8"/>
                      </a:lnTo>
                      <a:lnTo>
                        <a:pt x="1" y="14"/>
                      </a:lnTo>
                      <a:lnTo>
                        <a:pt x="2" y="21"/>
                      </a:lnTo>
                      <a:lnTo>
                        <a:pt x="2" y="2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6715080" y="3984480"/>
                  <a:ext cx="85680" cy="84240"/>
                </a:xfrm>
                <a:custGeom>
                  <a:avLst/>
                  <a:gdLst/>
                  <a:ahLst/>
                  <a:rect l="l" t="t" r="r" b="b"/>
                  <a:pathLst>
                    <a:path w="79" h="78">
                      <a:moveTo>
                        <a:pt x="0" y="23"/>
                      </a:moveTo>
                      <a:lnTo>
                        <a:pt x="55" y="75"/>
                      </a:lnTo>
                      <a:lnTo>
                        <a:pt x="60" y="76"/>
                      </a:lnTo>
                      <a:lnTo>
                        <a:pt x="64" y="77"/>
                      </a:lnTo>
                      <a:lnTo>
                        <a:pt x="70" y="78"/>
                      </a:lnTo>
                      <a:lnTo>
                        <a:pt x="76" y="78"/>
                      </a:lnTo>
                      <a:lnTo>
                        <a:pt x="77" y="77"/>
                      </a:lnTo>
                      <a:lnTo>
                        <a:pt x="78" y="76"/>
                      </a:lnTo>
                      <a:lnTo>
                        <a:pt x="78" y="74"/>
                      </a:lnTo>
                      <a:lnTo>
                        <a:pt x="79" y="73"/>
                      </a:lnTo>
                      <a:lnTo>
                        <a:pt x="3" y="0"/>
                      </a:lnTo>
                      <a:lnTo>
                        <a:pt x="2" y="6"/>
                      </a:lnTo>
                      <a:lnTo>
                        <a:pt x="1" y="12"/>
                      </a:lnTo>
                      <a:lnTo>
                        <a:pt x="0" y="17"/>
                      </a:lnTo>
                      <a:lnTo>
                        <a:pt x="0" y="2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36" name=""/>
                <p:cNvSpPr/>
                <p:nvPr/>
              </p:nvSpPr>
              <p:spPr>
                <a:xfrm>
                  <a:off x="7361280" y="4627440"/>
                  <a:ext cx="81000" cy="98640"/>
                </a:xfrm>
                <a:custGeom>
                  <a:avLst/>
                  <a:gdLst/>
                  <a:ahLst/>
                  <a:rect l="l" t="t" r="r" b="b"/>
                  <a:pathLst>
                    <a:path w="75" h="91">
                      <a:moveTo>
                        <a:pt x="4" y="29"/>
                      </a:moveTo>
                      <a:lnTo>
                        <a:pt x="69" y="91"/>
                      </a:lnTo>
                      <a:lnTo>
                        <a:pt x="71" y="87"/>
                      </a:lnTo>
                      <a:lnTo>
                        <a:pt x="72" y="82"/>
                      </a:lnTo>
                      <a:lnTo>
                        <a:pt x="74" y="76"/>
                      </a:lnTo>
                      <a:lnTo>
                        <a:pt x="75" y="72"/>
                      </a:lnTo>
                      <a:lnTo>
                        <a:pt x="0" y="0"/>
                      </a:lnTo>
                      <a:lnTo>
                        <a:pt x="1" y="8"/>
                      </a:lnTo>
                      <a:lnTo>
                        <a:pt x="3" y="15"/>
                      </a:lnTo>
                      <a:lnTo>
                        <a:pt x="3" y="22"/>
                      </a:lnTo>
                      <a:lnTo>
                        <a:pt x="4" y="2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715080" y="4011480"/>
                  <a:ext cx="60480" cy="55800"/>
                </a:xfrm>
                <a:custGeom>
                  <a:avLst/>
                  <a:gdLst/>
                  <a:ahLst/>
                  <a:rect l="l" t="t" r="r" b="b"/>
                  <a:pathLst>
                    <a:path w="55" h="52">
                      <a:moveTo>
                        <a:pt x="55" y="52"/>
                      </a:moveTo>
                      <a:lnTo>
                        <a:pt x="0" y="0"/>
                      </a:lnTo>
                      <a:lnTo>
                        <a:pt x="1" y="9"/>
                      </a:lnTo>
                      <a:lnTo>
                        <a:pt x="3" y="17"/>
                      </a:lnTo>
                      <a:lnTo>
                        <a:pt x="8" y="26"/>
                      </a:lnTo>
                      <a:lnTo>
                        <a:pt x="13" y="32"/>
                      </a:lnTo>
                      <a:lnTo>
                        <a:pt x="20" y="38"/>
                      </a:lnTo>
                      <a:lnTo>
                        <a:pt x="30" y="44"/>
                      </a:lnTo>
                      <a:lnTo>
                        <a:pt x="41" y="49"/>
                      </a:lnTo>
                      <a:lnTo>
                        <a:pt x="55" y="5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8" name=""/>
                <p:cNvSpPr/>
                <p:nvPr/>
              </p:nvSpPr>
              <p:spPr>
                <a:xfrm>
                  <a:off x="7365960" y="4659480"/>
                  <a:ext cx="69840" cy="88560"/>
                </a:xfrm>
                <a:custGeom>
                  <a:avLst/>
                  <a:gdLst/>
                  <a:ahLst/>
                  <a:rect l="l" t="t" r="r" b="b"/>
                  <a:pathLst>
                    <a:path w="65" h="83">
                      <a:moveTo>
                        <a:pt x="1" y="28"/>
                      </a:moveTo>
                      <a:lnTo>
                        <a:pt x="58" y="83"/>
                      </a:lnTo>
                      <a:lnTo>
                        <a:pt x="61" y="77"/>
                      </a:lnTo>
                      <a:lnTo>
                        <a:pt x="62" y="73"/>
                      </a:lnTo>
                      <a:lnTo>
                        <a:pt x="64" y="67"/>
                      </a:lnTo>
                      <a:lnTo>
                        <a:pt x="65" y="62"/>
                      </a:lnTo>
                      <a:lnTo>
                        <a:pt x="0" y="0"/>
                      </a:lnTo>
                      <a:lnTo>
                        <a:pt x="0" y="7"/>
                      </a:lnTo>
                      <a:lnTo>
                        <a:pt x="1" y="14"/>
                      </a:lnTo>
                      <a:lnTo>
                        <a:pt x="1" y="21"/>
                      </a:lnTo>
                      <a:lnTo>
                        <a:pt x="1" y="2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1760" bIns="41760" anchor="t">
                  <a:noAutofit/>
                </a:bodyPr>
                <a:p>
                  <a:endParaRPr b="0" lang="en-US" sz="1800" spc="-1" strike="noStrike">
                    <a:solidFill>
                      <a:srgbClr val="ffffff"/>
                    </a:solidFill>
                    <a:latin typeface="Arial"/>
                  </a:endParaRPr>
                </a:p>
              </p:txBody>
            </p:sp>
            <p:sp>
              <p:nvSpPr>
                <p:cNvPr id="739" name=""/>
                <p:cNvSpPr/>
                <p:nvPr/>
              </p:nvSpPr>
              <p:spPr>
                <a:xfrm>
                  <a:off x="7365960" y="4687920"/>
                  <a:ext cx="61920" cy="81000"/>
                </a:xfrm>
                <a:custGeom>
                  <a:avLst/>
                  <a:gdLst/>
                  <a:ahLst/>
                  <a:rect l="l" t="t" r="r" b="b"/>
                  <a:pathLst>
                    <a:path w="57" h="75">
                      <a:moveTo>
                        <a:pt x="2" y="27"/>
                      </a:moveTo>
                      <a:lnTo>
                        <a:pt x="52" y="75"/>
                      </a:lnTo>
                      <a:lnTo>
                        <a:pt x="53" y="70"/>
                      </a:lnTo>
                      <a:lnTo>
                        <a:pt x="55" y="65"/>
                      </a:lnTo>
                      <a:lnTo>
                        <a:pt x="56" y="60"/>
                      </a:lnTo>
                      <a:lnTo>
                        <a:pt x="57" y="55"/>
                      </a:lnTo>
                      <a:lnTo>
                        <a:pt x="0" y="0"/>
                      </a:lnTo>
                      <a:lnTo>
                        <a:pt x="1" y="7"/>
                      </a:lnTo>
                      <a:lnTo>
                        <a:pt x="1" y="14"/>
                      </a:lnTo>
                      <a:lnTo>
                        <a:pt x="1" y="20"/>
                      </a:lnTo>
                      <a:lnTo>
                        <a:pt x="2"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40" name=""/>
                <p:cNvSpPr/>
                <p:nvPr/>
              </p:nvSpPr>
              <p:spPr>
                <a:xfrm>
                  <a:off x="7369200" y="4718160"/>
                  <a:ext cx="55440" cy="81000"/>
                </a:xfrm>
                <a:custGeom>
                  <a:avLst/>
                  <a:gdLst/>
                  <a:ahLst/>
                  <a:rect l="l" t="t" r="r" b="b"/>
                  <a:pathLst>
                    <a:path w="52" h="75">
                      <a:moveTo>
                        <a:pt x="1" y="28"/>
                      </a:moveTo>
                      <a:lnTo>
                        <a:pt x="52" y="75"/>
                      </a:lnTo>
                      <a:lnTo>
                        <a:pt x="51" y="68"/>
                      </a:lnTo>
                      <a:lnTo>
                        <a:pt x="51" y="61"/>
                      </a:lnTo>
                      <a:lnTo>
                        <a:pt x="51" y="56"/>
                      </a:lnTo>
                      <a:lnTo>
                        <a:pt x="50" y="49"/>
                      </a:lnTo>
                      <a:lnTo>
                        <a:pt x="50" y="49"/>
                      </a:lnTo>
                      <a:lnTo>
                        <a:pt x="50" y="48"/>
                      </a:lnTo>
                      <a:lnTo>
                        <a:pt x="50" y="48"/>
                      </a:lnTo>
                      <a:lnTo>
                        <a:pt x="50" y="48"/>
                      </a:lnTo>
                      <a:lnTo>
                        <a:pt x="0" y="0"/>
                      </a:lnTo>
                      <a:lnTo>
                        <a:pt x="0" y="7"/>
                      </a:lnTo>
                      <a:lnTo>
                        <a:pt x="1" y="14"/>
                      </a:lnTo>
                      <a:lnTo>
                        <a:pt x="1" y="21"/>
                      </a:lnTo>
                      <a:lnTo>
                        <a:pt x="1" y="2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41" name=""/>
                <p:cNvSpPr/>
                <p:nvPr/>
              </p:nvSpPr>
              <p:spPr>
                <a:xfrm>
                  <a:off x="7369200" y="4748040"/>
                  <a:ext cx="55440" cy="79560"/>
                </a:xfrm>
                <a:custGeom>
                  <a:avLst/>
                  <a:gdLst/>
                  <a:ahLst/>
                  <a:rect l="l" t="t" r="r" b="b"/>
                  <a:pathLst>
                    <a:path w="52" h="75">
                      <a:moveTo>
                        <a:pt x="3" y="27"/>
                      </a:moveTo>
                      <a:lnTo>
                        <a:pt x="52" y="75"/>
                      </a:lnTo>
                      <a:lnTo>
                        <a:pt x="52" y="68"/>
                      </a:lnTo>
                      <a:lnTo>
                        <a:pt x="52" y="61"/>
                      </a:lnTo>
                      <a:lnTo>
                        <a:pt x="51" y="54"/>
                      </a:lnTo>
                      <a:lnTo>
                        <a:pt x="51" y="47"/>
                      </a:lnTo>
                      <a:lnTo>
                        <a:pt x="0" y="0"/>
                      </a:lnTo>
                      <a:lnTo>
                        <a:pt x="1" y="7"/>
                      </a:lnTo>
                      <a:lnTo>
                        <a:pt x="1" y="14"/>
                      </a:lnTo>
                      <a:lnTo>
                        <a:pt x="1" y="21"/>
                      </a:lnTo>
                      <a:lnTo>
                        <a:pt x="3"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2760" bIns="32760" anchor="t">
                  <a:noAutofit/>
                </a:bodyPr>
                <a:p>
                  <a:endParaRPr b="0" lang="en-US" sz="1800" spc="-1" strike="noStrike">
                    <a:solidFill>
                      <a:srgbClr val="ffffff"/>
                    </a:solidFill>
                    <a:latin typeface="Arial"/>
                  </a:endParaRPr>
                </a:p>
              </p:txBody>
            </p:sp>
            <p:sp>
              <p:nvSpPr>
                <p:cNvPr id="742" name=""/>
                <p:cNvSpPr/>
                <p:nvPr/>
              </p:nvSpPr>
              <p:spPr>
                <a:xfrm>
                  <a:off x="7372440" y="4775040"/>
                  <a:ext cx="55440" cy="82800"/>
                </a:xfrm>
                <a:custGeom>
                  <a:avLst/>
                  <a:gdLst/>
                  <a:ahLst/>
                  <a:rect l="l" t="t" r="r" b="b"/>
                  <a:pathLst>
                    <a:path w="51" h="76">
                      <a:moveTo>
                        <a:pt x="1" y="27"/>
                      </a:moveTo>
                      <a:lnTo>
                        <a:pt x="51" y="76"/>
                      </a:lnTo>
                      <a:lnTo>
                        <a:pt x="50" y="69"/>
                      </a:lnTo>
                      <a:lnTo>
                        <a:pt x="50" y="62"/>
                      </a:lnTo>
                      <a:lnTo>
                        <a:pt x="50" y="55"/>
                      </a:lnTo>
                      <a:lnTo>
                        <a:pt x="49" y="48"/>
                      </a:lnTo>
                      <a:lnTo>
                        <a:pt x="0" y="0"/>
                      </a:lnTo>
                      <a:lnTo>
                        <a:pt x="0" y="8"/>
                      </a:lnTo>
                      <a:lnTo>
                        <a:pt x="1" y="15"/>
                      </a:lnTo>
                      <a:lnTo>
                        <a:pt x="1" y="21"/>
                      </a:lnTo>
                      <a:lnTo>
                        <a:pt x="1"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sp>
              <p:nvSpPr>
                <p:cNvPr id="743" name=""/>
                <p:cNvSpPr/>
                <p:nvPr/>
              </p:nvSpPr>
              <p:spPr>
                <a:xfrm>
                  <a:off x="7373880" y="4805280"/>
                  <a:ext cx="55800" cy="81000"/>
                </a:xfrm>
                <a:custGeom>
                  <a:avLst/>
                  <a:gdLst/>
                  <a:ahLst/>
                  <a:rect l="l" t="t" r="r" b="b"/>
                  <a:pathLst>
                    <a:path w="53" h="76">
                      <a:moveTo>
                        <a:pt x="2" y="26"/>
                      </a:moveTo>
                      <a:lnTo>
                        <a:pt x="4" y="26"/>
                      </a:lnTo>
                      <a:lnTo>
                        <a:pt x="7" y="26"/>
                      </a:lnTo>
                      <a:lnTo>
                        <a:pt x="9" y="26"/>
                      </a:lnTo>
                      <a:lnTo>
                        <a:pt x="12" y="26"/>
                      </a:lnTo>
                      <a:lnTo>
                        <a:pt x="12" y="29"/>
                      </a:lnTo>
                      <a:lnTo>
                        <a:pt x="12" y="31"/>
                      </a:lnTo>
                      <a:lnTo>
                        <a:pt x="12" y="35"/>
                      </a:lnTo>
                      <a:lnTo>
                        <a:pt x="12" y="38"/>
                      </a:lnTo>
                      <a:lnTo>
                        <a:pt x="53" y="76"/>
                      </a:lnTo>
                      <a:lnTo>
                        <a:pt x="52" y="69"/>
                      </a:lnTo>
                      <a:lnTo>
                        <a:pt x="52" y="62"/>
                      </a:lnTo>
                      <a:lnTo>
                        <a:pt x="52" y="55"/>
                      </a:lnTo>
                      <a:lnTo>
                        <a:pt x="50" y="49"/>
                      </a:lnTo>
                      <a:lnTo>
                        <a:pt x="0" y="0"/>
                      </a:lnTo>
                      <a:lnTo>
                        <a:pt x="1" y="7"/>
                      </a:lnTo>
                      <a:lnTo>
                        <a:pt x="1" y="14"/>
                      </a:lnTo>
                      <a:lnTo>
                        <a:pt x="1" y="20"/>
                      </a:lnTo>
                      <a:lnTo>
                        <a:pt x="2"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44" name=""/>
                <p:cNvSpPr/>
                <p:nvPr/>
              </p:nvSpPr>
              <p:spPr>
                <a:xfrm>
                  <a:off x="7386480" y="4846680"/>
                  <a:ext cx="47880" cy="73080"/>
                </a:xfrm>
                <a:custGeom>
                  <a:avLst/>
                  <a:gdLst/>
                  <a:ahLst/>
                  <a:rect l="l" t="t" r="r" b="b"/>
                  <a:pathLst>
                    <a:path w="43" h="67">
                      <a:moveTo>
                        <a:pt x="2" y="27"/>
                      </a:moveTo>
                      <a:lnTo>
                        <a:pt x="43" y="67"/>
                      </a:lnTo>
                      <a:lnTo>
                        <a:pt x="42" y="60"/>
                      </a:lnTo>
                      <a:lnTo>
                        <a:pt x="42" y="53"/>
                      </a:lnTo>
                      <a:lnTo>
                        <a:pt x="42" y="46"/>
                      </a:lnTo>
                      <a:lnTo>
                        <a:pt x="41" y="38"/>
                      </a:lnTo>
                      <a:lnTo>
                        <a:pt x="0" y="0"/>
                      </a:lnTo>
                      <a:lnTo>
                        <a:pt x="0" y="7"/>
                      </a:lnTo>
                      <a:lnTo>
                        <a:pt x="2" y="13"/>
                      </a:lnTo>
                      <a:lnTo>
                        <a:pt x="2" y="20"/>
                      </a:lnTo>
                      <a:lnTo>
                        <a:pt x="2"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45" name=""/>
                <p:cNvSpPr/>
                <p:nvPr/>
              </p:nvSpPr>
              <p:spPr>
                <a:xfrm>
                  <a:off x="7389720" y="4873680"/>
                  <a:ext cx="46080" cy="76320"/>
                </a:xfrm>
                <a:custGeom>
                  <a:avLst/>
                  <a:gdLst/>
                  <a:ahLst/>
                  <a:rect l="l" t="t" r="r" b="b"/>
                  <a:pathLst>
                    <a:path w="45" h="69">
                      <a:moveTo>
                        <a:pt x="0" y="26"/>
                      </a:moveTo>
                      <a:lnTo>
                        <a:pt x="45" y="69"/>
                      </a:lnTo>
                      <a:lnTo>
                        <a:pt x="43" y="62"/>
                      </a:lnTo>
                      <a:lnTo>
                        <a:pt x="43" y="54"/>
                      </a:lnTo>
                      <a:lnTo>
                        <a:pt x="42" y="47"/>
                      </a:lnTo>
                      <a:lnTo>
                        <a:pt x="41" y="40"/>
                      </a:lnTo>
                      <a:lnTo>
                        <a:pt x="0" y="0"/>
                      </a:lnTo>
                      <a:lnTo>
                        <a:pt x="0" y="7"/>
                      </a:lnTo>
                      <a:lnTo>
                        <a:pt x="0" y="12"/>
                      </a:lnTo>
                      <a:lnTo>
                        <a:pt x="0" y="19"/>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46" name=""/>
                <p:cNvSpPr/>
                <p:nvPr/>
              </p:nvSpPr>
              <p:spPr>
                <a:xfrm>
                  <a:off x="7389720" y="4903920"/>
                  <a:ext cx="50760" cy="74520"/>
                </a:xfrm>
                <a:custGeom>
                  <a:avLst/>
                  <a:gdLst/>
                  <a:ahLst/>
                  <a:rect l="l" t="t" r="r" b="b"/>
                  <a:pathLst>
                    <a:path w="48" h="72">
                      <a:moveTo>
                        <a:pt x="0" y="27"/>
                      </a:moveTo>
                      <a:lnTo>
                        <a:pt x="48" y="72"/>
                      </a:lnTo>
                      <a:lnTo>
                        <a:pt x="47" y="65"/>
                      </a:lnTo>
                      <a:lnTo>
                        <a:pt x="47" y="58"/>
                      </a:lnTo>
                      <a:lnTo>
                        <a:pt x="46" y="51"/>
                      </a:lnTo>
                      <a:lnTo>
                        <a:pt x="45" y="43"/>
                      </a:lnTo>
                      <a:lnTo>
                        <a:pt x="0" y="0"/>
                      </a:lnTo>
                      <a:lnTo>
                        <a:pt x="0" y="6"/>
                      </a:lnTo>
                      <a:lnTo>
                        <a:pt x="0" y="13"/>
                      </a:lnTo>
                      <a:lnTo>
                        <a:pt x="0" y="20"/>
                      </a:lnTo>
                      <a:lnTo>
                        <a:pt x="0"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47" name=""/>
                <p:cNvSpPr/>
                <p:nvPr/>
              </p:nvSpPr>
              <p:spPr>
                <a:xfrm>
                  <a:off x="7389720" y="4932360"/>
                  <a:ext cx="55800" cy="79200"/>
                </a:xfrm>
                <a:custGeom>
                  <a:avLst/>
                  <a:gdLst/>
                  <a:ahLst/>
                  <a:rect l="l" t="t" r="r" b="b"/>
                  <a:pathLst>
                    <a:path w="53" h="75">
                      <a:moveTo>
                        <a:pt x="1" y="25"/>
                      </a:moveTo>
                      <a:lnTo>
                        <a:pt x="53" y="75"/>
                      </a:lnTo>
                      <a:lnTo>
                        <a:pt x="51" y="68"/>
                      </a:lnTo>
                      <a:lnTo>
                        <a:pt x="50" y="60"/>
                      </a:lnTo>
                      <a:lnTo>
                        <a:pt x="49" y="53"/>
                      </a:lnTo>
                      <a:lnTo>
                        <a:pt x="48" y="45"/>
                      </a:lnTo>
                      <a:lnTo>
                        <a:pt x="0" y="0"/>
                      </a:lnTo>
                      <a:lnTo>
                        <a:pt x="1" y="5"/>
                      </a:lnTo>
                      <a:lnTo>
                        <a:pt x="1" y="12"/>
                      </a:lnTo>
                      <a:lnTo>
                        <a:pt x="1" y="19"/>
                      </a:lnTo>
                      <a:lnTo>
                        <a:pt x="1" y="2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748" name=""/>
                <p:cNvSpPr/>
                <p:nvPr/>
              </p:nvSpPr>
              <p:spPr>
                <a:xfrm>
                  <a:off x="7389720" y="4959360"/>
                  <a:ext cx="61920" cy="85680"/>
                </a:xfrm>
                <a:custGeom>
                  <a:avLst/>
                  <a:gdLst/>
                  <a:ahLst/>
                  <a:rect l="l" t="t" r="r" b="b"/>
                  <a:pathLst>
                    <a:path w="56" h="81">
                      <a:moveTo>
                        <a:pt x="0" y="27"/>
                      </a:moveTo>
                      <a:lnTo>
                        <a:pt x="56" y="81"/>
                      </a:lnTo>
                      <a:lnTo>
                        <a:pt x="55" y="73"/>
                      </a:lnTo>
                      <a:lnTo>
                        <a:pt x="54" y="65"/>
                      </a:lnTo>
                      <a:lnTo>
                        <a:pt x="53" y="58"/>
                      </a:lnTo>
                      <a:lnTo>
                        <a:pt x="52" y="50"/>
                      </a:lnTo>
                      <a:lnTo>
                        <a:pt x="0" y="0"/>
                      </a:lnTo>
                      <a:lnTo>
                        <a:pt x="0" y="7"/>
                      </a:lnTo>
                      <a:lnTo>
                        <a:pt x="0" y="13"/>
                      </a:lnTo>
                      <a:lnTo>
                        <a:pt x="0" y="20"/>
                      </a:lnTo>
                      <a:lnTo>
                        <a:pt x="0"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49" name=""/>
                <p:cNvSpPr/>
                <p:nvPr/>
              </p:nvSpPr>
              <p:spPr>
                <a:xfrm>
                  <a:off x="7389720" y="4987800"/>
                  <a:ext cx="65160" cy="88920"/>
                </a:xfrm>
                <a:custGeom>
                  <a:avLst/>
                  <a:gdLst/>
                  <a:ahLst/>
                  <a:rect l="l" t="t" r="r" b="b"/>
                  <a:pathLst>
                    <a:path w="61" h="85">
                      <a:moveTo>
                        <a:pt x="0" y="26"/>
                      </a:moveTo>
                      <a:lnTo>
                        <a:pt x="61" y="85"/>
                      </a:lnTo>
                      <a:lnTo>
                        <a:pt x="60" y="77"/>
                      </a:lnTo>
                      <a:lnTo>
                        <a:pt x="59" y="69"/>
                      </a:lnTo>
                      <a:lnTo>
                        <a:pt x="57" y="61"/>
                      </a:lnTo>
                      <a:lnTo>
                        <a:pt x="56" y="54"/>
                      </a:lnTo>
                      <a:lnTo>
                        <a:pt x="0" y="0"/>
                      </a:lnTo>
                      <a:lnTo>
                        <a:pt x="0" y="6"/>
                      </a:lnTo>
                      <a:lnTo>
                        <a:pt x="0" y="12"/>
                      </a:lnTo>
                      <a:lnTo>
                        <a:pt x="0" y="19"/>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0" name=""/>
                <p:cNvSpPr/>
                <p:nvPr/>
              </p:nvSpPr>
              <p:spPr>
                <a:xfrm>
                  <a:off x="7389720" y="5014800"/>
                  <a:ext cx="69840" cy="88920"/>
                </a:xfrm>
                <a:custGeom>
                  <a:avLst/>
                  <a:gdLst/>
                  <a:ahLst/>
                  <a:rect l="l" t="t" r="r" b="b"/>
                  <a:pathLst>
                    <a:path w="64" h="82">
                      <a:moveTo>
                        <a:pt x="1" y="27"/>
                      </a:moveTo>
                      <a:lnTo>
                        <a:pt x="59" y="82"/>
                      </a:lnTo>
                      <a:lnTo>
                        <a:pt x="60" y="80"/>
                      </a:lnTo>
                      <a:lnTo>
                        <a:pt x="62" y="78"/>
                      </a:lnTo>
                      <a:lnTo>
                        <a:pt x="63" y="76"/>
                      </a:lnTo>
                      <a:lnTo>
                        <a:pt x="64" y="75"/>
                      </a:lnTo>
                      <a:lnTo>
                        <a:pt x="63" y="70"/>
                      </a:lnTo>
                      <a:lnTo>
                        <a:pt x="63" y="67"/>
                      </a:lnTo>
                      <a:lnTo>
                        <a:pt x="62" y="62"/>
                      </a:lnTo>
                      <a:lnTo>
                        <a:pt x="61" y="59"/>
                      </a:lnTo>
                      <a:lnTo>
                        <a:pt x="0" y="0"/>
                      </a:lnTo>
                      <a:lnTo>
                        <a:pt x="1" y="6"/>
                      </a:lnTo>
                      <a:lnTo>
                        <a:pt x="1" y="13"/>
                      </a:lnTo>
                      <a:lnTo>
                        <a:pt x="1" y="20"/>
                      </a:lnTo>
                      <a:lnTo>
                        <a:pt x="1"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51" name=""/>
                <p:cNvSpPr/>
                <p:nvPr/>
              </p:nvSpPr>
              <p:spPr>
                <a:xfrm>
                  <a:off x="7391520" y="5043600"/>
                  <a:ext cx="61920" cy="74520"/>
                </a:xfrm>
                <a:custGeom>
                  <a:avLst/>
                  <a:gdLst/>
                  <a:ahLst/>
                  <a:rect l="l" t="t" r="r" b="b"/>
                  <a:pathLst>
                    <a:path w="58" h="70">
                      <a:moveTo>
                        <a:pt x="0" y="26"/>
                      </a:moveTo>
                      <a:lnTo>
                        <a:pt x="47" y="70"/>
                      </a:lnTo>
                      <a:lnTo>
                        <a:pt x="49" y="66"/>
                      </a:lnTo>
                      <a:lnTo>
                        <a:pt x="53" y="62"/>
                      </a:lnTo>
                      <a:lnTo>
                        <a:pt x="55" y="58"/>
                      </a:lnTo>
                      <a:lnTo>
                        <a:pt x="58" y="55"/>
                      </a:lnTo>
                      <a:lnTo>
                        <a:pt x="0" y="0"/>
                      </a:lnTo>
                      <a:lnTo>
                        <a:pt x="0" y="5"/>
                      </a:lnTo>
                      <a:lnTo>
                        <a:pt x="0" y="12"/>
                      </a:lnTo>
                      <a:lnTo>
                        <a:pt x="0" y="19"/>
                      </a:lnTo>
                      <a:lnTo>
                        <a:pt x="0"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52" name=""/>
                <p:cNvSpPr/>
                <p:nvPr/>
              </p:nvSpPr>
              <p:spPr>
                <a:xfrm>
                  <a:off x="7378560" y="5073480"/>
                  <a:ext cx="63720" cy="61920"/>
                </a:xfrm>
                <a:custGeom>
                  <a:avLst/>
                  <a:gdLst/>
                  <a:ahLst/>
                  <a:rect l="l" t="t" r="r" b="b"/>
                  <a:pathLst>
                    <a:path w="59" h="60">
                      <a:moveTo>
                        <a:pt x="12" y="3"/>
                      </a:moveTo>
                      <a:lnTo>
                        <a:pt x="10" y="6"/>
                      </a:lnTo>
                      <a:lnTo>
                        <a:pt x="6" y="8"/>
                      </a:lnTo>
                      <a:lnTo>
                        <a:pt x="3" y="10"/>
                      </a:lnTo>
                      <a:lnTo>
                        <a:pt x="0" y="14"/>
                      </a:lnTo>
                      <a:lnTo>
                        <a:pt x="48" y="60"/>
                      </a:lnTo>
                      <a:lnTo>
                        <a:pt x="50" y="55"/>
                      </a:lnTo>
                      <a:lnTo>
                        <a:pt x="53" y="52"/>
                      </a:lnTo>
                      <a:lnTo>
                        <a:pt x="56" y="47"/>
                      </a:lnTo>
                      <a:lnTo>
                        <a:pt x="59" y="44"/>
                      </a:lnTo>
                      <a:lnTo>
                        <a:pt x="12" y="0"/>
                      </a:lnTo>
                      <a:lnTo>
                        <a:pt x="12" y="1"/>
                      </a:lnTo>
                      <a:lnTo>
                        <a:pt x="12" y="1"/>
                      </a:lnTo>
                      <a:lnTo>
                        <a:pt x="12" y="2"/>
                      </a:lnTo>
                      <a:lnTo>
                        <a:pt x="12" y="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53" name=""/>
                <p:cNvSpPr/>
                <p:nvPr/>
              </p:nvSpPr>
              <p:spPr>
                <a:xfrm>
                  <a:off x="7365960" y="5086440"/>
                  <a:ext cx="63720" cy="68040"/>
                </a:xfrm>
                <a:custGeom>
                  <a:avLst/>
                  <a:gdLst/>
                  <a:ahLst/>
                  <a:rect l="l" t="t" r="r" b="b"/>
                  <a:pathLst>
                    <a:path w="60" h="62">
                      <a:moveTo>
                        <a:pt x="0" y="13"/>
                      </a:moveTo>
                      <a:lnTo>
                        <a:pt x="50" y="62"/>
                      </a:lnTo>
                      <a:lnTo>
                        <a:pt x="53" y="57"/>
                      </a:lnTo>
                      <a:lnTo>
                        <a:pt x="55" y="54"/>
                      </a:lnTo>
                      <a:lnTo>
                        <a:pt x="57" y="49"/>
                      </a:lnTo>
                      <a:lnTo>
                        <a:pt x="60" y="46"/>
                      </a:lnTo>
                      <a:lnTo>
                        <a:pt x="12" y="0"/>
                      </a:lnTo>
                      <a:lnTo>
                        <a:pt x="9" y="2"/>
                      </a:lnTo>
                      <a:lnTo>
                        <a:pt x="5" y="6"/>
                      </a:lnTo>
                      <a:lnTo>
                        <a:pt x="2" y="9"/>
                      </a:lnTo>
                      <a:lnTo>
                        <a:pt x="0" y="13"/>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754" name=""/>
                <p:cNvSpPr/>
                <p:nvPr/>
              </p:nvSpPr>
              <p:spPr>
                <a:xfrm>
                  <a:off x="7353360" y="5100480"/>
                  <a:ext cx="65160" cy="66960"/>
                </a:xfrm>
                <a:custGeom>
                  <a:avLst/>
                  <a:gdLst/>
                  <a:ahLst/>
                  <a:rect l="l" t="t" r="r" b="b"/>
                  <a:pathLst>
                    <a:path w="62" h="62">
                      <a:moveTo>
                        <a:pt x="0" y="14"/>
                      </a:moveTo>
                      <a:lnTo>
                        <a:pt x="46" y="59"/>
                      </a:lnTo>
                      <a:lnTo>
                        <a:pt x="49" y="61"/>
                      </a:lnTo>
                      <a:lnTo>
                        <a:pt x="51" y="61"/>
                      </a:lnTo>
                      <a:lnTo>
                        <a:pt x="52" y="61"/>
                      </a:lnTo>
                      <a:lnTo>
                        <a:pt x="54" y="62"/>
                      </a:lnTo>
                      <a:lnTo>
                        <a:pt x="57" y="58"/>
                      </a:lnTo>
                      <a:lnTo>
                        <a:pt x="59" y="55"/>
                      </a:lnTo>
                      <a:lnTo>
                        <a:pt x="60" y="51"/>
                      </a:lnTo>
                      <a:lnTo>
                        <a:pt x="62" y="49"/>
                      </a:lnTo>
                      <a:lnTo>
                        <a:pt x="12" y="0"/>
                      </a:lnTo>
                      <a:lnTo>
                        <a:pt x="8" y="4"/>
                      </a:lnTo>
                      <a:lnTo>
                        <a:pt x="6" y="8"/>
                      </a:lnTo>
                      <a:lnTo>
                        <a:pt x="3" y="11"/>
                      </a:lnTo>
                      <a:lnTo>
                        <a:pt x="0" y="14"/>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755" name=""/>
                <p:cNvSpPr/>
                <p:nvPr/>
              </p:nvSpPr>
              <p:spPr>
                <a:xfrm>
                  <a:off x="7340760" y="5116680"/>
                  <a:ext cx="61920" cy="48960"/>
                </a:xfrm>
                <a:custGeom>
                  <a:avLst/>
                  <a:gdLst/>
                  <a:ahLst/>
                  <a:rect l="l" t="t" r="r" b="b"/>
                  <a:pathLst>
                    <a:path w="58" h="45">
                      <a:moveTo>
                        <a:pt x="0" y="15"/>
                      </a:moveTo>
                      <a:lnTo>
                        <a:pt x="10" y="17"/>
                      </a:lnTo>
                      <a:lnTo>
                        <a:pt x="19" y="20"/>
                      </a:lnTo>
                      <a:lnTo>
                        <a:pt x="25" y="27"/>
                      </a:lnTo>
                      <a:lnTo>
                        <a:pt x="28" y="36"/>
                      </a:lnTo>
                      <a:lnTo>
                        <a:pt x="35" y="39"/>
                      </a:lnTo>
                      <a:lnTo>
                        <a:pt x="43" y="41"/>
                      </a:lnTo>
                      <a:lnTo>
                        <a:pt x="50" y="43"/>
                      </a:lnTo>
                      <a:lnTo>
                        <a:pt x="58" y="45"/>
                      </a:lnTo>
                      <a:lnTo>
                        <a:pt x="12" y="0"/>
                      </a:lnTo>
                      <a:lnTo>
                        <a:pt x="9" y="5"/>
                      </a:lnTo>
                      <a:lnTo>
                        <a:pt x="6" y="9"/>
                      </a:lnTo>
                      <a:lnTo>
                        <a:pt x="3" y="12"/>
                      </a:lnTo>
                      <a:lnTo>
                        <a:pt x="0" y="1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56" name=""/>
                <p:cNvSpPr/>
                <p:nvPr/>
              </p:nvSpPr>
              <p:spPr>
                <a:xfrm>
                  <a:off x="8524800" y="5210280"/>
                  <a:ext cx="77760" cy="47520"/>
                </a:xfrm>
                <a:custGeom>
                  <a:avLst/>
                  <a:gdLst/>
                  <a:ahLst/>
                  <a:rect l="l" t="t" r="r" b="b"/>
                  <a:pathLst>
                    <a:path w="71" h="45">
                      <a:moveTo>
                        <a:pt x="71" y="31"/>
                      </a:moveTo>
                      <a:lnTo>
                        <a:pt x="62" y="35"/>
                      </a:lnTo>
                      <a:lnTo>
                        <a:pt x="53" y="37"/>
                      </a:lnTo>
                      <a:lnTo>
                        <a:pt x="45" y="39"/>
                      </a:lnTo>
                      <a:lnTo>
                        <a:pt x="37" y="42"/>
                      </a:lnTo>
                      <a:lnTo>
                        <a:pt x="29" y="43"/>
                      </a:lnTo>
                      <a:lnTo>
                        <a:pt x="19" y="44"/>
                      </a:lnTo>
                      <a:lnTo>
                        <a:pt x="10" y="45"/>
                      </a:lnTo>
                      <a:lnTo>
                        <a:pt x="0" y="45"/>
                      </a:lnTo>
                      <a:lnTo>
                        <a:pt x="4" y="35"/>
                      </a:lnTo>
                      <a:lnTo>
                        <a:pt x="8" y="24"/>
                      </a:lnTo>
                      <a:lnTo>
                        <a:pt x="13" y="13"/>
                      </a:lnTo>
                      <a:lnTo>
                        <a:pt x="16" y="0"/>
                      </a:lnTo>
                      <a:lnTo>
                        <a:pt x="23" y="3"/>
                      </a:lnTo>
                      <a:lnTo>
                        <a:pt x="30" y="8"/>
                      </a:lnTo>
                      <a:lnTo>
                        <a:pt x="37" y="12"/>
                      </a:lnTo>
                      <a:lnTo>
                        <a:pt x="44" y="15"/>
                      </a:lnTo>
                      <a:lnTo>
                        <a:pt x="51" y="20"/>
                      </a:lnTo>
                      <a:lnTo>
                        <a:pt x="57" y="23"/>
                      </a:lnTo>
                      <a:lnTo>
                        <a:pt x="64" y="28"/>
                      </a:lnTo>
                      <a:lnTo>
                        <a:pt x="71" y="3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57" name=""/>
                <p:cNvSpPr/>
                <p:nvPr/>
              </p:nvSpPr>
              <p:spPr>
                <a:xfrm>
                  <a:off x="8118360" y="4487760"/>
                  <a:ext cx="244440" cy="660600"/>
                </a:xfrm>
                <a:custGeom>
                  <a:avLst/>
                  <a:gdLst/>
                  <a:ahLst/>
                  <a:rect l="l" t="t" r="r" b="b"/>
                  <a:pathLst>
                    <a:path w="228" h="616">
                      <a:moveTo>
                        <a:pt x="228" y="269"/>
                      </a:moveTo>
                      <a:lnTo>
                        <a:pt x="209" y="305"/>
                      </a:lnTo>
                      <a:lnTo>
                        <a:pt x="191" y="343"/>
                      </a:lnTo>
                      <a:lnTo>
                        <a:pt x="174" y="380"/>
                      </a:lnTo>
                      <a:lnTo>
                        <a:pt x="158" y="418"/>
                      </a:lnTo>
                      <a:lnTo>
                        <a:pt x="144" y="456"/>
                      </a:lnTo>
                      <a:lnTo>
                        <a:pt x="131" y="494"/>
                      </a:lnTo>
                      <a:lnTo>
                        <a:pt x="121" y="532"/>
                      </a:lnTo>
                      <a:lnTo>
                        <a:pt x="113" y="572"/>
                      </a:lnTo>
                      <a:lnTo>
                        <a:pt x="93" y="582"/>
                      </a:lnTo>
                      <a:lnTo>
                        <a:pt x="79" y="592"/>
                      </a:lnTo>
                      <a:lnTo>
                        <a:pt x="68" y="601"/>
                      </a:lnTo>
                      <a:lnTo>
                        <a:pt x="57" y="610"/>
                      </a:lnTo>
                      <a:lnTo>
                        <a:pt x="47" y="615"/>
                      </a:lnTo>
                      <a:lnTo>
                        <a:pt x="35" y="616"/>
                      </a:lnTo>
                      <a:lnTo>
                        <a:pt x="20" y="612"/>
                      </a:lnTo>
                      <a:lnTo>
                        <a:pt x="0" y="601"/>
                      </a:lnTo>
                      <a:lnTo>
                        <a:pt x="29" y="568"/>
                      </a:lnTo>
                      <a:lnTo>
                        <a:pt x="54" y="531"/>
                      </a:lnTo>
                      <a:lnTo>
                        <a:pt x="77" y="492"/>
                      </a:lnTo>
                      <a:lnTo>
                        <a:pt x="99" y="451"/>
                      </a:lnTo>
                      <a:lnTo>
                        <a:pt x="118" y="409"/>
                      </a:lnTo>
                      <a:lnTo>
                        <a:pt x="139" y="368"/>
                      </a:lnTo>
                      <a:lnTo>
                        <a:pt x="160" y="327"/>
                      </a:lnTo>
                      <a:lnTo>
                        <a:pt x="182" y="287"/>
                      </a:lnTo>
                      <a:lnTo>
                        <a:pt x="177" y="273"/>
                      </a:lnTo>
                      <a:lnTo>
                        <a:pt x="173" y="259"/>
                      </a:lnTo>
                      <a:lnTo>
                        <a:pt x="168" y="246"/>
                      </a:lnTo>
                      <a:lnTo>
                        <a:pt x="163" y="232"/>
                      </a:lnTo>
                      <a:lnTo>
                        <a:pt x="160" y="233"/>
                      </a:lnTo>
                      <a:lnTo>
                        <a:pt x="158" y="234"/>
                      </a:lnTo>
                      <a:lnTo>
                        <a:pt x="154" y="235"/>
                      </a:lnTo>
                      <a:lnTo>
                        <a:pt x="151" y="236"/>
                      </a:lnTo>
                      <a:lnTo>
                        <a:pt x="152" y="252"/>
                      </a:lnTo>
                      <a:lnTo>
                        <a:pt x="154" y="270"/>
                      </a:lnTo>
                      <a:lnTo>
                        <a:pt x="155" y="287"/>
                      </a:lnTo>
                      <a:lnTo>
                        <a:pt x="155" y="303"/>
                      </a:lnTo>
                      <a:lnTo>
                        <a:pt x="143" y="273"/>
                      </a:lnTo>
                      <a:lnTo>
                        <a:pt x="130" y="236"/>
                      </a:lnTo>
                      <a:lnTo>
                        <a:pt x="117" y="195"/>
                      </a:lnTo>
                      <a:lnTo>
                        <a:pt x="107" y="152"/>
                      </a:lnTo>
                      <a:lnTo>
                        <a:pt x="100" y="110"/>
                      </a:lnTo>
                      <a:lnTo>
                        <a:pt x="94" y="68"/>
                      </a:lnTo>
                      <a:lnTo>
                        <a:pt x="93" y="31"/>
                      </a:lnTo>
                      <a:lnTo>
                        <a:pt x="96" y="0"/>
                      </a:lnTo>
                      <a:lnTo>
                        <a:pt x="144" y="20"/>
                      </a:lnTo>
                      <a:lnTo>
                        <a:pt x="178" y="39"/>
                      </a:lnTo>
                      <a:lnTo>
                        <a:pt x="202" y="62"/>
                      </a:lnTo>
                      <a:lnTo>
                        <a:pt x="216" y="88"/>
                      </a:lnTo>
                      <a:lnTo>
                        <a:pt x="223" y="119"/>
                      </a:lnTo>
                      <a:lnTo>
                        <a:pt x="224" y="155"/>
                      </a:lnTo>
                      <a:lnTo>
                        <a:pt x="221" y="196"/>
                      </a:lnTo>
                      <a:lnTo>
                        <a:pt x="214" y="247"/>
                      </a:lnTo>
                      <a:lnTo>
                        <a:pt x="217" y="252"/>
                      </a:lnTo>
                      <a:lnTo>
                        <a:pt x="221" y="257"/>
                      </a:lnTo>
                      <a:lnTo>
                        <a:pt x="224" y="263"/>
                      </a:lnTo>
                      <a:lnTo>
                        <a:pt x="228" y="26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8" name=""/>
                <p:cNvSpPr/>
                <p:nvPr/>
              </p:nvSpPr>
              <p:spPr>
                <a:xfrm>
                  <a:off x="8085240" y="5153040"/>
                  <a:ext cx="56880" cy="39600"/>
                </a:xfrm>
                <a:custGeom>
                  <a:avLst/>
                  <a:gdLst/>
                  <a:ahLst/>
                  <a:rect l="l" t="t" r="r" b="b"/>
                  <a:pathLst>
                    <a:path w="53" h="38">
                      <a:moveTo>
                        <a:pt x="53" y="19"/>
                      </a:moveTo>
                      <a:lnTo>
                        <a:pt x="43" y="32"/>
                      </a:lnTo>
                      <a:lnTo>
                        <a:pt x="35" y="37"/>
                      </a:lnTo>
                      <a:lnTo>
                        <a:pt x="28" y="38"/>
                      </a:lnTo>
                      <a:lnTo>
                        <a:pt x="0" y="37"/>
                      </a:lnTo>
                      <a:lnTo>
                        <a:pt x="19" y="2"/>
                      </a:lnTo>
                      <a:lnTo>
                        <a:pt x="25" y="0"/>
                      </a:lnTo>
                      <a:lnTo>
                        <a:pt x="53" y="1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59" name=""/>
                <p:cNvSpPr/>
                <p:nvPr/>
              </p:nvSpPr>
              <p:spPr>
                <a:xfrm>
                  <a:off x="7477200" y="4530600"/>
                  <a:ext cx="128520" cy="600120"/>
                </a:xfrm>
                <a:custGeom>
                  <a:avLst/>
                  <a:gdLst/>
                  <a:ahLst/>
                  <a:rect l="l" t="t" r="r" b="b"/>
                  <a:pathLst>
                    <a:path w="120" h="560">
                      <a:moveTo>
                        <a:pt x="120" y="477"/>
                      </a:moveTo>
                      <a:lnTo>
                        <a:pt x="106" y="494"/>
                      </a:lnTo>
                      <a:lnTo>
                        <a:pt x="102" y="515"/>
                      </a:lnTo>
                      <a:lnTo>
                        <a:pt x="99" y="538"/>
                      </a:lnTo>
                      <a:lnTo>
                        <a:pt x="94" y="560"/>
                      </a:lnTo>
                      <a:lnTo>
                        <a:pt x="88" y="557"/>
                      </a:lnTo>
                      <a:lnTo>
                        <a:pt x="83" y="553"/>
                      </a:lnTo>
                      <a:lnTo>
                        <a:pt x="78" y="550"/>
                      </a:lnTo>
                      <a:lnTo>
                        <a:pt x="73" y="546"/>
                      </a:lnTo>
                      <a:lnTo>
                        <a:pt x="67" y="543"/>
                      </a:lnTo>
                      <a:lnTo>
                        <a:pt x="61" y="539"/>
                      </a:lnTo>
                      <a:lnTo>
                        <a:pt x="56" y="536"/>
                      </a:lnTo>
                      <a:lnTo>
                        <a:pt x="50" y="533"/>
                      </a:lnTo>
                      <a:lnTo>
                        <a:pt x="60" y="505"/>
                      </a:lnTo>
                      <a:lnTo>
                        <a:pt x="65" y="474"/>
                      </a:lnTo>
                      <a:lnTo>
                        <a:pt x="65" y="440"/>
                      </a:lnTo>
                      <a:lnTo>
                        <a:pt x="61" y="407"/>
                      </a:lnTo>
                      <a:lnTo>
                        <a:pt x="56" y="371"/>
                      </a:lnTo>
                      <a:lnTo>
                        <a:pt x="49" y="338"/>
                      </a:lnTo>
                      <a:lnTo>
                        <a:pt x="42" y="304"/>
                      </a:lnTo>
                      <a:lnTo>
                        <a:pt x="37" y="274"/>
                      </a:lnTo>
                      <a:lnTo>
                        <a:pt x="40" y="271"/>
                      </a:lnTo>
                      <a:lnTo>
                        <a:pt x="43" y="269"/>
                      </a:lnTo>
                      <a:lnTo>
                        <a:pt x="46" y="266"/>
                      </a:lnTo>
                      <a:lnTo>
                        <a:pt x="50" y="264"/>
                      </a:lnTo>
                      <a:lnTo>
                        <a:pt x="28" y="246"/>
                      </a:lnTo>
                      <a:lnTo>
                        <a:pt x="13" y="219"/>
                      </a:lnTo>
                      <a:lnTo>
                        <a:pt x="5" y="186"/>
                      </a:lnTo>
                      <a:lnTo>
                        <a:pt x="0" y="150"/>
                      </a:lnTo>
                      <a:lnTo>
                        <a:pt x="0" y="112"/>
                      </a:lnTo>
                      <a:lnTo>
                        <a:pt x="3" y="75"/>
                      </a:lnTo>
                      <a:lnTo>
                        <a:pt x="6" y="41"/>
                      </a:lnTo>
                      <a:lnTo>
                        <a:pt x="11" y="12"/>
                      </a:lnTo>
                      <a:lnTo>
                        <a:pt x="17" y="10"/>
                      </a:lnTo>
                      <a:lnTo>
                        <a:pt x="18" y="6"/>
                      </a:lnTo>
                      <a:lnTo>
                        <a:pt x="18" y="3"/>
                      </a:lnTo>
                      <a:lnTo>
                        <a:pt x="23" y="0"/>
                      </a:lnTo>
                      <a:lnTo>
                        <a:pt x="28" y="33"/>
                      </a:lnTo>
                      <a:lnTo>
                        <a:pt x="34" y="66"/>
                      </a:lnTo>
                      <a:lnTo>
                        <a:pt x="38" y="98"/>
                      </a:lnTo>
                      <a:lnTo>
                        <a:pt x="43" y="130"/>
                      </a:lnTo>
                      <a:lnTo>
                        <a:pt x="48" y="163"/>
                      </a:lnTo>
                      <a:lnTo>
                        <a:pt x="52" y="194"/>
                      </a:lnTo>
                      <a:lnTo>
                        <a:pt x="57" y="226"/>
                      </a:lnTo>
                      <a:lnTo>
                        <a:pt x="61" y="258"/>
                      </a:lnTo>
                      <a:lnTo>
                        <a:pt x="70" y="284"/>
                      </a:lnTo>
                      <a:lnTo>
                        <a:pt x="79" y="310"/>
                      </a:lnTo>
                      <a:lnTo>
                        <a:pt x="88" y="339"/>
                      </a:lnTo>
                      <a:lnTo>
                        <a:pt x="98" y="368"/>
                      </a:lnTo>
                      <a:lnTo>
                        <a:pt x="106" y="397"/>
                      </a:lnTo>
                      <a:lnTo>
                        <a:pt x="113" y="425"/>
                      </a:lnTo>
                      <a:lnTo>
                        <a:pt x="118" y="452"/>
                      </a:lnTo>
                      <a:lnTo>
                        <a:pt x="120" y="47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7523280" y="3911760"/>
                  <a:ext cx="95040" cy="63360"/>
                </a:xfrm>
                <a:custGeom>
                  <a:avLst/>
                  <a:gdLst/>
                  <a:ahLst/>
                  <a:rect l="l" t="t" r="r" b="b"/>
                  <a:pathLst>
                    <a:path w="88" h="59">
                      <a:moveTo>
                        <a:pt x="88" y="59"/>
                      </a:moveTo>
                      <a:lnTo>
                        <a:pt x="8" y="15"/>
                      </a:lnTo>
                      <a:lnTo>
                        <a:pt x="0" y="0"/>
                      </a:lnTo>
                      <a:lnTo>
                        <a:pt x="81" y="37"/>
                      </a:lnTo>
                      <a:lnTo>
                        <a:pt x="88" y="59"/>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ffffff"/>
                    </a:solidFill>
                    <a:latin typeface="Arial"/>
                  </a:endParaRPr>
                </a:p>
              </p:txBody>
            </p:sp>
            <p:sp>
              <p:nvSpPr>
                <p:cNvPr id="761" name=""/>
                <p:cNvSpPr/>
                <p:nvPr/>
              </p:nvSpPr>
              <p:spPr>
                <a:xfrm>
                  <a:off x="7483320" y="5116680"/>
                  <a:ext cx="81000" cy="55440"/>
                </a:xfrm>
                <a:custGeom>
                  <a:avLst/>
                  <a:gdLst/>
                  <a:ahLst/>
                  <a:rect l="l" t="t" r="r" b="b"/>
                  <a:pathLst>
                    <a:path w="77" h="53">
                      <a:moveTo>
                        <a:pt x="77" y="45"/>
                      </a:moveTo>
                      <a:lnTo>
                        <a:pt x="73" y="48"/>
                      </a:lnTo>
                      <a:lnTo>
                        <a:pt x="64" y="50"/>
                      </a:lnTo>
                      <a:lnTo>
                        <a:pt x="53" y="51"/>
                      </a:lnTo>
                      <a:lnTo>
                        <a:pt x="42" y="51"/>
                      </a:lnTo>
                      <a:lnTo>
                        <a:pt x="29" y="52"/>
                      </a:lnTo>
                      <a:lnTo>
                        <a:pt x="17" y="52"/>
                      </a:lnTo>
                      <a:lnTo>
                        <a:pt x="7" y="52"/>
                      </a:lnTo>
                      <a:lnTo>
                        <a:pt x="0" y="53"/>
                      </a:lnTo>
                      <a:lnTo>
                        <a:pt x="2" y="38"/>
                      </a:lnTo>
                      <a:lnTo>
                        <a:pt x="9" y="25"/>
                      </a:lnTo>
                      <a:lnTo>
                        <a:pt x="17" y="13"/>
                      </a:lnTo>
                      <a:lnTo>
                        <a:pt x="27" y="0"/>
                      </a:lnTo>
                      <a:lnTo>
                        <a:pt x="34" y="6"/>
                      </a:lnTo>
                      <a:lnTo>
                        <a:pt x="39" y="11"/>
                      </a:lnTo>
                      <a:lnTo>
                        <a:pt x="46" y="16"/>
                      </a:lnTo>
                      <a:lnTo>
                        <a:pt x="52" y="22"/>
                      </a:lnTo>
                      <a:lnTo>
                        <a:pt x="58" y="28"/>
                      </a:lnTo>
                      <a:lnTo>
                        <a:pt x="65" y="34"/>
                      </a:lnTo>
                      <a:lnTo>
                        <a:pt x="70" y="40"/>
                      </a:lnTo>
                      <a:lnTo>
                        <a:pt x="77" y="45"/>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2" name=""/>
                <p:cNvSpPr/>
                <p:nvPr/>
              </p:nvSpPr>
              <p:spPr>
                <a:xfrm>
                  <a:off x="7392960" y="3794040"/>
                  <a:ext cx="135000" cy="109800"/>
                </a:xfrm>
                <a:custGeom>
                  <a:avLst/>
                  <a:gdLst/>
                  <a:ahLst/>
                  <a:rect l="l" t="t" r="r" b="b"/>
                  <a:pathLst>
                    <a:path w="127" h="101">
                      <a:moveTo>
                        <a:pt x="127" y="101"/>
                      </a:moveTo>
                      <a:lnTo>
                        <a:pt x="118" y="99"/>
                      </a:lnTo>
                      <a:lnTo>
                        <a:pt x="109" y="97"/>
                      </a:lnTo>
                      <a:lnTo>
                        <a:pt x="99" y="94"/>
                      </a:lnTo>
                      <a:lnTo>
                        <a:pt x="91" y="91"/>
                      </a:lnTo>
                      <a:lnTo>
                        <a:pt x="83" y="88"/>
                      </a:lnTo>
                      <a:lnTo>
                        <a:pt x="74" y="85"/>
                      </a:lnTo>
                      <a:lnTo>
                        <a:pt x="66" y="83"/>
                      </a:lnTo>
                      <a:lnTo>
                        <a:pt x="58" y="79"/>
                      </a:lnTo>
                      <a:lnTo>
                        <a:pt x="57" y="75"/>
                      </a:lnTo>
                      <a:lnTo>
                        <a:pt x="54" y="70"/>
                      </a:lnTo>
                      <a:lnTo>
                        <a:pt x="53" y="65"/>
                      </a:lnTo>
                      <a:lnTo>
                        <a:pt x="53" y="61"/>
                      </a:lnTo>
                      <a:lnTo>
                        <a:pt x="58" y="61"/>
                      </a:lnTo>
                      <a:lnTo>
                        <a:pt x="62" y="61"/>
                      </a:lnTo>
                      <a:lnTo>
                        <a:pt x="67" y="60"/>
                      </a:lnTo>
                      <a:lnTo>
                        <a:pt x="72" y="60"/>
                      </a:lnTo>
                      <a:lnTo>
                        <a:pt x="76" y="60"/>
                      </a:lnTo>
                      <a:lnTo>
                        <a:pt x="81" y="58"/>
                      </a:lnTo>
                      <a:lnTo>
                        <a:pt x="85" y="58"/>
                      </a:lnTo>
                      <a:lnTo>
                        <a:pt x="90" y="58"/>
                      </a:lnTo>
                      <a:lnTo>
                        <a:pt x="82" y="57"/>
                      </a:lnTo>
                      <a:lnTo>
                        <a:pt x="74" y="56"/>
                      </a:lnTo>
                      <a:lnTo>
                        <a:pt x="66" y="54"/>
                      </a:lnTo>
                      <a:lnTo>
                        <a:pt x="58" y="53"/>
                      </a:lnTo>
                      <a:lnTo>
                        <a:pt x="50" y="52"/>
                      </a:lnTo>
                      <a:lnTo>
                        <a:pt x="42" y="49"/>
                      </a:lnTo>
                      <a:lnTo>
                        <a:pt x="35" y="48"/>
                      </a:lnTo>
                      <a:lnTo>
                        <a:pt x="27" y="47"/>
                      </a:lnTo>
                      <a:lnTo>
                        <a:pt x="21" y="35"/>
                      </a:lnTo>
                      <a:lnTo>
                        <a:pt x="14" y="24"/>
                      </a:lnTo>
                      <a:lnTo>
                        <a:pt x="7" y="11"/>
                      </a:lnTo>
                      <a:lnTo>
                        <a:pt x="0" y="0"/>
                      </a:lnTo>
                      <a:lnTo>
                        <a:pt x="22" y="4"/>
                      </a:lnTo>
                      <a:lnTo>
                        <a:pt x="43" y="11"/>
                      </a:lnTo>
                      <a:lnTo>
                        <a:pt x="62" y="19"/>
                      </a:lnTo>
                      <a:lnTo>
                        <a:pt x="80" y="31"/>
                      </a:lnTo>
                      <a:lnTo>
                        <a:pt x="95" y="46"/>
                      </a:lnTo>
                      <a:lnTo>
                        <a:pt x="109" y="62"/>
                      </a:lnTo>
                      <a:lnTo>
                        <a:pt x="119" y="80"/>
                      </a:lnTo>
                      <a:lnTo>
                        <a:pt x="127" y="10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7316640" y="3760920"/>
                  <a:ext cx="86040" cy="31680"/>
                </a:xfrm>
                <a:custGeom>
                  <a:avLst/>
                  <a:gdLst/>
                  <a:ahLst/>
                  <a:rect l="l" t="t" r="r" b="b"/>
                  <a:pathLst>
                    <a:path w="79" h="30">
                      <a:moveTo>
                        <a:pt x="79" y="17"/>
                      </a:moveTo>
                      <a:lnTo>
                        <a:pt x="50" y="30"/>
                      </a:lnTo>
                      <a:lnTo>
                        <a:pt x="0" y="0"/>
                      </a:lnTo>
                      <a:lnTo>
                        <a:pt x="79" y="1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764" name=""/>
                <p:cNvSpPr/>
                <p:nvPr/>
              </p:nvSpPr>
              <p:spPr>
                <a:xfrm>
                  <a:off x="7292880" y="5156280"/>
                  <a:ext cx="98640" cy="48960"/>
                </a:xfrm>
                <a:custGeom>
                  <a:avLst/>
                  <a:gdLst/>
                  <a:ahLst/>
                  <a:rect l="l" t="t" r="r" b="b"/>
                  <a:pathLst>
                    <a:path w="91" h="48">
                      <a:moveTo>
                        <a:pt x="91" y="26"/>
                      </a:moveTo>
                      <a:lnTo>
                        <a:pt x="78" y="31"/>
                      </a:lnTo>
                      <a:lnTo>
                        <a:pt x="68" y="36"/>
                      </a:lnTo>
                      <a:lnTo>
                        <a:pt x="58" y="40"/>
                      </a:lnTo>
                      <a:lnTo>
                        <a:pt x="47" y="43"/>
                      </a:lnTo>
                      <a:lnTo>
                        <a:pt x="37" y="45"/>
                      </a:lnTo>
                      <a:lnTo>
                        <a:pt x="26" y="46"/>
                      </a:lnTo>
                      <a:lnTo>
                        <a:pt x="14" y="48"/>
                      </a:lnTo>
                      <a:lnTo>
                        <a:pt x="0" y="48"/>
                      </a:lnTo>
                      <a:lnTo>
                        <a:pt x="9" y="36"/>
                      </a:lnTo>
                      <a:lnTo>
                        <a:pt x="17" y="23"/>
                      </a:lnTo>
                      <a:lnTo>
                        <a:pt x="25" y="12"/>
                      </a:lnTo>
                      <a:lnTo>
                        <a:pt x="32" y="0"/>
                      </a:lnTo>
                      <a:lnTo>
                        <a:pt x="40" y="4"/>
                      </a:lnTo>
                      <a:lnTo>
                        <a:pt x="47" y="6"/>
                      </a:lnTo>
                      <a:lnTo>
                        <a:pt x="55" y="10"/>
                      </a:lnTo>
                      <a:lnTo>
                        <a:pt x="63" y="13"/>
                      </a:lnTo>
                      <a:lnTo>
                        <a:pt x="70" y="15"/>
                      </a:lnTo>
                      <a:lnTo>
                        <a:pt x="77" y="19"/>
                      </a:lnTo>
                      <a:lnTo>
                        <a:pt x="84" y="22"/>
                      </a:lnTo>
                      <a:lnTo>
                        <a:pt x="91"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65" name=""/>
                <p:cNvSpPr/>
                <p:nvPr/>
              </p:nvSpPr>
              <p:spPr>
                <a:xfrm>
                  <a:off x="7267680" y="3714840"/>
                  <a:ext cx="117360" cy="46080"/>
                </a:xfrm>
                <a:custGeom>
                  <a:avLst/>
                  <a:gdLst/>
                  <a:ahLst/>
                  <a:rect l="l" t="t" r="r" b="b"/>
                  <a:pathLst>
                    <a:path w="109" h="42">
                      <a:moveTo>
                        <a:pt x="109" y="42"/>
                      </a:moveTo>
                      <a:lnTo>
                        <a:pt x="32" y="32"/>
                      </a:lnTo>
                      <a:lnTo>
                        <a:pt x="0" y="6"/>
                      </a:lnTo>
                      <a:lnTo>
                        <a:pt x="11" y="3"/>
                      </a:lnTo>
                      <a:lnTo>
                        <a:pt x="24" y="1"/>
                      </a:lnTo>
                      <a:lnTo>
                        <a:pt x="37" y="1"/>
                      </a:lnTo>
                      <a:lnTo>
                        <a:pt x="48" y="0"/>
                      </a:lnTo>
                      <a:lnTo>
                        <a:pt x="58" y="0"/>
                      </a:lnTo>
                      <a:lnTo>
                        <a:pt x="67" y="1"/>
                      </a:lnTo>
                      <a:lnTo>
                        <a:pt x="72" y="1"/>
                      </a:lnTo>
                      <a:lnTo>
                        <a:pt x="75" y="1"/>
                      </a:lnTo>
                      <a:lnTo>
                        <a:pt x="69" y="16"/>
                      </a:lnTo>
                      <a:lnTo>
                        <a:pt x="109" y="4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66" name=""/>
                <p:cNvSpPr/>
                <p:nvPr/>
              </p:nvSpPr>
              <p:spPr>
                <a:xfrm>
                  <a:off x="7221600" y="3664080"/>
                  <a:ext cx="60120" cy="37800"/>
                </a:xfrm>
                <a:custGeom>
                  <a:avLst/>
                  <a:gdLst/>
                  <a:ahLst/>
                  <a:rect l="l" t="t" r="r" b="b"/>
                  <a:pathLst>
                    <a:path w="57" h="37">
                      <a:moveTo>
                        <a:pt x="53" y="30"/>
                      </a:moveTo>
                      <a:lnTo>
                        <a:pt x="46" y="35"/>
                      </a:lnTo>
                      <a:lnTo>
                        <a:pt x="39" y="37"/>
                      </a:lnTo>
                      <a:lnTo>
                        <a:pt x="32" y="37"/>
                      </a:lnTo>
                      <a:lnTo>
                        <a:pt x="25" y="34"/>
                      </a:lnTo>
                      <a:lnTo>
                        <a:pt x="19" y="30"/>
                      </a:lnTo>
                      <a:lnTo>
                        <a:pt x="13" y="25"/>
                      </a:lnTo>
                      <a:lnTo>
                        <a:pt x="6" y="20"/>
                      </a:lnTo>
                      <a:lnTo>
                        <a:pt x="0" y="14"/>
                      </a:lnTo>
                      <a:lnTo>
                        <a:pt x="6" y="6"/>
                      </a:lnTo>
                      <a:lnTo>
                        <a:pt x="13" y="2"/>
                      </a:lnTo>
                      <a:lnTo>
                        <a:pt x="22" y="0"/>
                      </a:lnTo>
                      <a:lnTo>
                        <a:pt x="30" y="3"/>
                      </a:lnTo>
                      <a:lnTo>
                        <a:pt x="39" y="7"/>
                      </a:lnTo>
                      <a:lnTo>
                        <a:pt x="46" y="13"/>
                      </a:lnTo>
                      <a:lnTo>
                        <a:pt x="53" y="19"/>
                      </a:lnTo>
                      <a:lnTo>
                        <a:pt x="57" y="25"/>
                      </a:lnTo>
                      <a:lnTo>
                        <a:pt x="55" y="26"/>
                      </a:lnTo>
                      <a:lnTo>
                        <a:pt x="54" y="27"/>
                      </a:lnTo>
                      <a:lnTo>
                        <a:pt x="53" y="29"/>
                      </a:lnTo>
                      <a:lnTo>
                        <a:pt x="53" y="30"/>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7" name=""/>
                <p:cNvSpPr/>
                <p:nvPr/>
              </p:nvSpPr>
              <p:spPr>
                <a:xfrm>
                  <a:off x="7077240" y="3646440"/>
                  <a:ext cx="115560" cy="23760"/>
                </a:xfrm>
                <a:custGeom>
                  <a:avLst/>
                  <a:gdLst/>
                  <a:ahLst/>
                  <a:rect l="l" t="t" r="r" b="b"/>
                  <a:pathLst>
                    <a:path w="108" h="22">
                      <a:moveTo>
                        <a:pt x="108" y="22"/>
                      </a:moveTo>
                      <a:lnTo>
                        <a:pt x="0" y="8"/>
                      </a:lnTo>
                      <a:lnTo>
                        <a:pt x="98" y="0"/>
                      </a:lnTo>
                      <a:lnTo>
                        <a:pt x="108" y="2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768" name=""/>
                <p:cNvSpPr/>
                <p:nvPr/>
              </p:nvSpPr>
              <p:spPr>
                <a:xfrm>
                  <a:off x="6875640" y="3784680"/>
                  <a:ext cx="48960" cy="48960"/>
                </a:xfrm>
                <a:custGeom>
                  <a:avLst/>
                  <a:gdLst/>
                  <a:ahLst/>
                  <a:rect l="l" t="t" r="r" b="b"/>
                  <a:pathLst>
                    <a:path w="47" h="45">
                      <a:moveTo>
                        <a:pt x="43" y="27"/>
                      </a:moveTo>
                      <a:lnTo>
                        <a:pt x="32" y="27"/>
                      </a:lnTo>
                      <a:lnTo>
                        <a:pt x="21" y="45"/>
                      </a:lnTo>
                      <a:lnTo>
                        <a:pt x="0" y="37"/>
                      </a:lnTo>
                      <a:lnTo>
                        <a:pt x="24" y="0"/>
                      </a:lnTo>
                      <a:lnTo>
                        <a:pt x="47" y="15"/>
                      </a:lnTo>
                      <a:lnTo>
                        <a:pt x="43" y="27"/>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ffffff"/>
                    </a:solidFill>
                    <a:latin typeface="Arial"/>
                  </a:endParaRPr>
                </a:p>
              </p:txBody>
            </p:sp>
            <p:sp>
              <p:nvSpPr>
                <p:cNvPr id="769" name=""/>
                <p:cNvSpPr/>
                <p:nvPr/>
              </p:nvSpPr>
              <p:spPr>
                <a:xfrm>
                  <a:off x="6783480" y="3656160"/>
                  <a:ext cx="117360" cy="136440"/>
                </a:xfrm>
                <a:custGeom>
                  <a:avLst/>
                  <a:gdLst/>
                  <a:ahLst/>
                  <a:rect l="l" t="t" r="r" b="b"/>
                  <a:pathLst>
                    <a:path w="109" h="127">
                      <a:moveTo>
                        <a:pt x="109" y="101"/>
                      </a:moveTo>
                      <a:lnTo>
                        <a:pt x="100" y="102"/>
                      </a:lnTo>
                      <a:lnTo>
                        <a:pt x="94" y="104"/>
                      </a:lnTo>
                      <a:lnTo>
                        <a:pt x="90" y="106"/>
                      </a:lnTo>
                      <a:lnTo>
                        <a:pt x="85" y="108"/>
                      </a:lnTo>
                      <a:lnTo>
                        <a:pt x="83" y="110"/>
                      </a:lnTo>
                      <a:lnTo>
                        <a:pt x="79" y="115"/>
                      </a:lnTo>
                      <a:lnTo>
                        <a:pt x="76" y="121"/>
                      </a:lnTo>
                      <a:lnTo>
                        <a:pt x="71" y="127"/>
                      </a:lnTo>
                      <a:lnTo>
                        <a:pt x="65" y="123"/>
                      </a:lnTo>
                      <a:lnTo>
                        <a:pt x="59" y="121"/>
                      </a:lnTo>
                      <a:lnTo>
                        <a:pt x="53" y="119"/>
                      </a:lnTo>
                      <a:lnTo>
                        <a:pt x="45" y="119"/>
                      </a:lnTo>
                      <a:lnTo>
                        <a:pt x="45" y="112"/>
                      </a:lnTo>
                      <a:lnTo>
                        <a:pt x="45" y="106"/>
                      </a:lnTo>
                      <a:lnTo>
                        <a:pt x="44" y="99"/>
                      </a:lnTo>
                      <a:lnTo>
                        <a:pt x="40" y="93"/>
                      </a:lnTo>
                      <a:lnTo>
                        <a:pt x="36" y="95"/>
                      </a:lnTo>
                      <a:lnTo>
                        <a:pt x="31" y="97"/>
                      </a:lnTo>
                      <a:lnTo>
                        <a:pt x="26" y="100"/>
                      </a:lnTo>
                      <a:lnTo>
                        <a:pt x="21" y="101"/>
                      </a:lnTo>
                      <a:lnTo>
                        <a:pt x="16" y="103"/>
                      </a:lnTo>
                      <a:lnTo>
                        <a:pt x="10" y="106"/>
                      </a:lnTo>
                      <a:lnTo>
                        <a:pt x="6" y="107"/>
                      </a:lnTo>
                      <a:lnTo>
                        <a:pt x="0" y="109"/>
                      </a:lnTo>
                      <a:lnTo>
                        <a:pt x="9" y="92"/>
                      </a:lnTo>
                      <a:lnTo>
                        <a:pt x="21" y="76"/>
                      </a:lnTo>
                      <a:lnTo>
                        <a:pt x="32" y="62"/>
                      </a:lnTo>
                      <a:lnTo>
                        <a:pt x="45" y="49"/>
                      </a:lnTo>
                      <a:lnTo>
                        <a:pt x="59" y="38"/>
                      </a:lnTo>
                      <a:lnTo>
                        <a:pt x="73" y="25"/>
                      </a:lnTo>
                      <a:lnTo>
                        <a:pt x="88" y="12"/>
                      </a:lnTo>
                      <a:lnTo>
                        <a:pt x="104" y="0"/>
                      </a:lnTo>
                      <a:lnTo>
                        <a:pt x="105" y="25"/>
                      </a:lnTo>
                      <a:lnTo>
                        <a:pt x="107" y="50"/>
                      </a:lnTo>
                      <a:lnTo>
                        <a:pt x="108" y="76"/>
                      </a:lnTo>
                      <a:lnTo>
                        <a:pt x="109" y="10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6826320" y="3622680"/>
                  <a:ext cx="41040" cy="41400"/>
                </a:xfrm>
                <a:custGeom>
                  <a:avLst/>
                  <a:gdLst/>
                  <a:ahLst/>
                  <a:rect l="l" t="t" r="r" b="b"/>
                  <a:pathLst>
                    <a:path w="37" h="36">
                      <a:moveTo>
                        <a:pt x="37" y="26"/>
                      </a:moveTo>
                      <a:lnTo>
                        <a:pt x="19" y="36"/>
                      </a:lnTo>
                      <a:lnTo>
                        <a:pt x="8" y="22"/>
                      </a:lnTo>
                      <a:lnTo>
                        <a:pt x="0" y="0"/>
                      </a:lnTo>
                      <a:lnTo>
                        <a:pt x="37" y="26"/>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771" name=""/>
                <p:cNvSpPr/>
                <p:nvPr/>
              </p:nvSpPr>
              <p:spPr>
                <a:xfrm>
                  <a:off x="6732720" y="3963960"/>
                  <a:ext cx="39600" cy="33480"/>
                </a:xfrm>
                <a:custGeom>
                  <a:avLst/>
                  <a:gdLst/>
                  <a:ahLst/>
                  <a:rect l="l" t="t" r="r" b="b"/>
                  <a:pathLst>
                    <a:path w="37" h="33">
                      <a:moveTo>
                        <a:pt x="34" y="22"/>
                      </a:moveTo>
                      <a:lnTo>
                        <a:pt x="0" y="33"/>
                      </a:lnTo>
                      <a:lnTo>
                        <a:pt x="18" y="0"/>
                      </a:lnTo>
                      <a:lnTo>
                        <a:pt x="37" y="8"/>
                      </a:lnTo>
                      <a:lnTo>
                        <a:pt x="34" y="22"/>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772" name=""/>
                <p:cNvSpPr/>
                <p:nvPr/>
              </p:nvSpPr>
              <p:spPr>
                <a:xfrm>
                  <a:off x="6886440" y="3598920"/>
                  <a:ext cx="49320" cy="73080"/>
                </a:xfrm>
                <a:custGeom>
                  <a:avLst/>
                  <a:gdLst/>
                  <a:ahLst/>
                  <a:rect l="l" t="t" r="r" b="b"/>
                  <a:pathLst>
                    <a:path w="46" h="68">
                      <a:moveTo>
                        <a:pt x="24" y="68"/>
                      </a:moveTo>
                      <a:lnTo>
                        <a:pt x="46" y="46"/>
                      </a:lnTo>
                      <a:lnTo>
                        <a:pt x="0" y="0"/>
                      </a:lnTo>
                      <a:lnTo>
                        <a:pt x="24" y="68"/>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73" name=""/>
                <p:cNvSpPr/>
                <p:nvPr/>
              </p:nvSpPr>
              <p:spPr>
                <a:xfrm>
                  <a:off x="6961320" y="3627360"/>
                  <a:ext cx="99720" cy="31680"/>
                </a:xfrm>
                <a:custGeom>
                  <a:avLst/>
                  <a:gdLst/>
                  <a:ahLst/>
                  <a:rect l="l" t="t" r="r" b="b"/>
                  <a:pathLst>
                    <a:path w="93" h="30">
                      <a:moveTo>
                        <a:pt x="0" y="21"/>
                      </a:moveTo>
                      <a:lnTo>
                        <a:pt x="56" y="0"/>
                      </a:lnTo>
                      <a:lnTo>
                        <a:pt x="56" y="19"/>
                      </a:lnTo>
                      <a:lnTo>
                        <a:pt x="93" y="30"/>
                      </a:lnTo>
                      <a:lnTo>
                        <a:pt x="0" y="21"/>
                      </a:lnTo>
                      <a:close/>
                    </a:path>
                  </a:pathLst>
                </a:custGeom>
                <a:gradFill rotWithShape="0">
                  <a:gsLst>
                    <a:gs pos="0">
                      <a:srgbClr val="333399"/>
                    </a:gs>
                    <a:gs pos="100000">
                      <a:srgbClr val="0c0c26"/>
                    </a:gs>
                  </a:gsLst>
                  <a:path path="rect">
                    <a:fillToRect l="50000" t="50000" r="50000" b="50000"/>
                  </a:path>
                </a:gradFill>
                <a:ln w="0">
                  <a:noFill/>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grpSp>
        </p:grpSp>
        <p:grpSp>
          <p:nvGrpSpPr>
            <p:cNvPr id="774" name=""/>
            <p:cNvGrpSpPr/>
            <p:nvPr/>
          </p:nvGrpSpPr>
          <p:grpSpPr>
            <a:xfrm>
              <a:off x="6095880" y="5381640"/>
              <a:ext cx="1328760" cy="1019160"/>
              <a:chOff x="6095880" y="5381640"/>
              <a:chExt cx="1328760" cy="1019160"/>
            </a:xfrm>
          </p:grpSpPr>
          <p:sp>
            <p:nvSpPr>
              <p:cNvPr id="775" name=""/>
              <p:cNvSpPr/>
              <p:nvPr/>
            </p:nvSpPr>
            <p:spPr>
              <a:xfrm>
                <a:off x="6095880" y="5381640"/>
                <a:ext cx="1328760" cy="1019160"/>
              </a:xfrm>
              <a:custGeom>
                <a:avLst/>
                <a:gdLst/>
                <a:ahLst/>
                <a:rect l="l" t="t" r="r" b="b"/>
                <a:pathLst>
                  <a:path w="2510" h="1926">
                    <a:moveTo>
                      <a:pt x="790" y="32"/>
                    </a:moveTo>
                    <a:lnTo>
                      <a:pt x="790" y="49"/>
                    </a:lnTo>
                    <a:lnTo>
                      <a:pt x="790" y="66"/>
                    </a:lnTo>
                    <a:lnTo>
                      <a:pt x="792" y="81"/>
                    </a:lnTo>
                    <a:lnTo>
                      <a:pt x="794" y="97"/>
                    </a:lnTo>
                    <a:lnTo>
                      <a:pt x="796" y="113"/>
                    </a:lnTo>
                    <a:lnTo>
                      <a:pt x="797" y="129"/>
                    </a:lnTo>
                    <a:lnTo>
                      <a:pt x="798" y="144"/>
                    </a:lnTo>
                    <a:lnTo>
                      <a:pt x="797" y="160"/>
                    </a:lnTo>
                    <a:lnTo>
                      <a:pt x="801" y="176"/>
                    </a:lnTo>
                    <a:lnTo>
                      <a:pt x="803" y="191"/>
                    </a:lnTo>
                    <a:lnTo>
                      <a:pt x="806" y="208"/>
                    </a:lnTo>
                    <a:lnTo>
                      <a:pt x="809" y="225"/>
                    </a:lnTo>
                    <a:lnTo>
                      <a:pt x="813" y="242"/>
                    </a:lnTo>
                    <a:lnTo>
                      <a:pt x="817" y="259"/>
                    </a:lnTo>
                    <a:lnTo>
                      <a:pt x="822" y="275"/>
                    </a:lnTo>
                    <a:lnTo>
                      <a:pt x="830" y="290"/>
                    </a:lnTo>
                    <a:lnTo>
                      <a:pt x="829" y="298"/>
                    </a:lnTo>
                    <a:lnTo>
                      <a:pt x="831" y="306"/>
                    </a:lnTo>
                    <a:lnTo>
                      <a:pt x="833" y="313"/>
                    </a:lnTo>
                    <a:lnTo>
                      <a:pt x="836" y="320"/>
                    </a:lnTo>
                    <a:lnTo>
                      <a:pt x="839" y="328"/>
                    </a:lnTo>
                    <a:lnTo>
                      <a:pt x="841" y="336"/>
                    </a:lnTo>
                    <a:lnTo>
                      <a:pt x="842" y="344"/>
                    </a:lnTo>
                    <a:lnTo>
                      <a:pt x="841" y="353"/>
                    </a:lnTo>
                    <a:lnTo>
                      <a:pt x="845" y="363"/>
                    </a:lnTo>
                    <a:lnTo>
                      <a:pt x="848" y="372"/>
                    </a:lnTo>
                    <a:lnTo>
                      <a:pt x="852" y="382"/>
                    </a:lnTo>
                    <a:lnTo>
                      <a:pt x="857" y="391"/>
                    </a:lnTo>
                    <a:lnTo>
                      <a:pt x="869" y="408"/>
                    </a:lnTo>
                    <a:lnTo>
                      <a:pt x="883" y="425"/>
                    </a:lnTo>
                    <a:lnTo>
                      <a:pt x="895" y="442"/>
                    </a:lnTo>
                    <a:lnTo>
                      <a:pt x="908" y="459"/>
                    </a:lnTo>
                    <a:lnTo>
                      <a:pt x="912" y="469"/>
                    </a:lnTo>
                    <a:lnTo>
                      <a:pt x="917" y="478"/>
                    </a:lnTo>
                    <a:lnTo>
                      <a:pt x="920" y="488"/>
                    </a:lnTo>
                    <a:lnTo>
                      <a:pt x="922" y="498"/>
                    </a:lnTo>
                    <a:lnTo>
                      <a:pt x="929" y="506"/>
                    </a:lnTo>
                    <a:lnTo>
                      <a:pt x="936" y="514"/>
                    </a:lnTo>
                    <a:lnTo>
                      <a:pt x="940" y="524"/>
                    </a:lnTo>
                    <a:lnTo>
                      <a:pt x="944" y="533"/>
                    </a:lnTo>
                    <a:lnTo>
                      <a:pt x="949" y="542"/>
                    </a:lnTo>
                    <a:lnTo>
                      <a:pt x="955" y="550"/>
                    </a:lnTo>
                    <a:lnTo>
                      <a:pt x="959" y="554"/>
                    </a:lnTo>
                    <a:lnTo>
                      <a:pt x="963" y="557"/>
                    </a:lnTo>
                    <a:lnTo>
                      <a:pt x="967" y="561"/>
                    </a:lnTo>
                    <a:lnTo>
                      <a:pt x="973" y="563"/>
                    </a:lnTo>
                    <a:lnTo>
                      <a:pt x="970" y="567"/>
                    </a:lnTo>
                    <a:lnTo>
                      <a:pt x="970" y="572"/>
                    </a:lnTo>
                    <a:lnTo>
                      <a:pt x="972" y="576"/>
                    </a:lnTo>
                    <a:lnTo>
                      <a:pt x="974" y="581"/>
                    </a:lnTo>
                    <a:lnTo>
                      <a:pt x="978" y="585"/>
                    </a:lnTo>
                    <a:lnTo>
                      <a:pt x="981" y="589"/>
                    </a:lnTo>
                    <a:lnTo>
                      <a:pt x="984" y="593"/>
                    </a:lnTo>
                    <a:lnTo>
                      <a:pt x="987" y="597"/>
                    </a:lnTo>
                    <a:lnTo>
                      <a:pt x="991" y="600"/>
                    </a:lnTo>
                    <a:lnTo>
                      <a:pt x="994" y="604"/>
                    </a:lnTo>
                    <a:lnTo>
                      <a:pt x="996" y="608"/>
                    </a:lnTo>
                    <a:lnTo>
                      <a:pt x="998" y="613"/>
                    </a:lnTo>
                    <a:lnTo>
                      <a:pt x="1000" y="619"/>
                    </a:lnTo>
                    <a:lnTo>
                      <a:pt x="1001" y="624"/>
                    </a:lnTo>
                    <a:lnTo>
                      <a:pt x="1004" y="629"/>
                    </a:lnTo>
                    <a:lnTo>
                      <a:pt x="1008" y="634"/>
                    </a:lnTo>
                    <a:lnTo>
                      <a:pt x="1010" y="641"/>
                    </a:lnTo>
                    <a:lnTo>
                      <a:pt x="1013" y="648"/>
                    </a:lnTo>
                    <a:lnTo>
                      <a:pt x="1017" y="655"/>
                    </a:lnTo>
                    <a:lnTo>
                      <a:pt x="1022" y="661"/>
                    </a:lnTo>
                    <a:lnTo>
                      <a:pt x="1028" y="667"/>
                    </a:lnTo>
                    <a:lnTo>
                      <a:pt x="1031" y="674"/>
                    </a:lnTo>
                    <a:lnTo>
                      <a:pt x="1033" y="677"/>
                    </a:lnTo>
                    <a:lnTo>
                      <a:pt x="1033" y="681"/>
                    </a:lnTo>
                    <a:lnTo>
                      <a:pt x="1034" y="685"/>
                    </a:lnTo>
                    <a:lnTo>
                      <a:pt x="1033" y="690"/>
                    </a:lnTo>
                    <a:lnTo>
                      <a:pt x="1041" y="703"/>
                    </a:lnTo>
                    <a:lnTo>
                      <a:pt x="1051" y="718"/>
                    </a:lnTo>
                    <a:lnTo>
                      <a:pt x="1059" y="732"/>
                    </a:lnTo>
                    <a:lnTo>
                      <a:pt x="1069" y="746"/>
                    </a:lnTo>
                    <a:lnTo>
                      <a:pt x="1079" y="759"/>
                    </a:lnTo>
                    <a:lnTo>
                      <a:pt x="1091" y="772"/>
                    </a:lnTo>
                    <a:lnTo>
                      <a:pt x="1103" y="785"/>
                    </a:lnTo>
                    <a:lnTo>
                      <a:pt x="1115" y="796"/>
                    </a:lnTo>
                    <a:lnTo>
                      <a:pt x="1129" y="802"/>
                    </a:lnTo>
                    <a:lnTo>
                      <a:pt x="1141" y="807"/>
                    </a:lnTo>
                    <a:lnTo>
                      <a:pt x="1154" y="814"/>
                    </a:lnTo>
                    <a:lnTo>
                      <a:pt x="1165" y="821"/>
                    </a:lnTo>
                    <a:lnTo>
                      <a:pt x="1178" y="827"/>
                    </a:lnTo>
                    <a:lnTo>
                      <a:pt x="1191" y="831"/>
                    </a:lnTo>
                    <a:lnTo>
                      <a:pt x="1198" y="833"/>
                    </a:lnTo>
                    <a:lnTo>
                      <a:pt x="1204" y="836"/>
                    </a:lnTo>
                    <a:lnTo>
                      <a:pt x="1212" y="837"/>
                    </a:lnTo>
                    <a:lnTo>
                      <a:pt x="1219" y="837"/>
                    </a:lnTo>
                    <a:lnTo>
                      <a:pt x="1223" y="841"/>
                    </a:lnTo>
                    <a:lnTo>
                      <a:pt x="1229" y="843"/>
                    </a:lnTo>
                    <a:lnTo>
                      <a:pt x="1233" y="846"/>
                    </a:lnTo>
                    <a:lnTo>
                      <a:pt x="1239" y="848"/>
                    </a:lnTo>
                    <a:lnTo>
                      <a:pt x="1250" y="851"/>
                    </a:lnTo>
                    <a:lnTo>
                      <a:pt x="1261" y="854"/>
                    </a:lnTo>
                    <a:lnTo>
                      <a:pt x="1267" y="856"/>
                    </a:lnTo>
                    <a:lnTo>
                      <a:pt x="1272" y="858"/>
                    </a:lnTo>
                    <a:lnTo>
                      <a:pt x="1277" y="860"/>
                    </a:lnTo>
                    <a:lnTo>
                      <a:pt x="1282" y="863"/>
                    </a:lnTo>
                    <a:lnTo>
                      <a:pt x="1286" y="866"/>
                    </a:lnTo>
                    <a:lnTo>
                      <a:pt x="1289" y="872"/>
                    </a:lnTo>
                    <a:lnTo>
                      <a:pt x="1291" y="877"/>
                    </a:lnTo>
                    <a:lnTo>
                      <a:pt x="1293" y="883"/>
                    </a:lnTo>
                    <a:lnTo>
                      <a:pt x="1305" y="893"/>
                    </a:lnTo>
                    <a:lnTo>
                      <a:pt x="1316" y="901"/>
                    </a:lnTo>
                    <a:lnTo>
                      <a:pt x="1328" y="909"/>
                    </a:lnTo>
                    <a:lnTo>
                      <a:pt x="1340" y="916"/>
                    </a:lnTo>
                    <a:lnTo>
                      <a:pt x="1365" y="930"/>
                    </a:lnTo>
                    <a:lnTo>
                      <a:pt x="1392" y="942"/>
                    </a:lnTo>
                    <a:lnTo>
                      <a:pt x="1418" y="955"/>
                    </a:lnTo>
                    <a:lnTo>
                      <a:pt x="1446" y="966"/>
                    </a:lnTo>
                    <a:lnTo>
                      <a:pt x="1472" y="977"/>
                    </a:lnTo>
                    <a:lnTo>
                      <a:pt x="1500" y="988"/>
                    </a:lnTo>
                    <a:lnTo>
                      <a:pt x="1511" y="993"/>
                    </a:lnTo>
                    <a:lnTo>
                      <a:pt x="1523" y="999"/>
                    </a:lnTo>
                    <a:lnTo>
                      <a:pt x="1534" y="1006"/>
                    </a:lnTo>
                    <a:lnTo>
                      <a:pt x="1546" y="1011"/>
                    </a:lnTo>
                    <a:lnTo>
                      <a:pt x="1558" y="1016"/>
                    </a:lnTo>
                    <a:lnTo>
                      <a:pt x="1570" y="1022"/>
                    </a:lnTo>
                    <a:lnTo>
                      <a:pt x="1583" y="1026"/>
                    </a:lnTo>
                    <a:lnTo>
                      <a:pt x="1596" y="1028"/>
                    </a:lnTo>
                    <a:lnTo>
                      <a:pt x="1596" y="1026"/>
                    </a:lnTo>
                    <a:lnTo>
                      <a:pt x="1597" y="1023"/>
                    </a:lnTo>
                    <a:lnTo>
                      <a:pt x="1599" y="1021"/>
                    </a:lnTo>
                    <a:lnTo>
                      <a:pt x="1600" y="1019"/>
                    </a:lnTo>
                    <a:lnTo>
                      <a:pt x="1603" y="1017"/>
                    </a:lnTo>
                    <a:lnTo>
                      <a:pt x="1605" y="1016"/>
                    </a:lnTo>
                    <a:lnTo>
                      <a:pt x="1607" y="1016"/>
                    </a:lnTo>
                    <a:lnTo>
                      <a:pt x="1611" y="1019"/>
                    </a:lnTo>
                    <a:lnTo>
                      <a:pt x="1629" y="1025"/>
                    </a:lnTo>
                    <a:lnTo>
                      <a:pt x="1648" y="1032"/>
                    </a:lnTo>
                    <a:lnTo>
                      <a:pt x="1666" y="1040"/>
                    </a:lnTo>
                    <a:lnTo>
                      <a:pt x="1684" y="1047"/>
                    </a:lnTo>
                    <a:lnTo>
                      <a:pt x="1702" y="1053"/>
                    </a:lnTo>
                    <a:lnTo>
                      <a:pt x="1721" y="1059"/>
                    </a:lnTo>
                    <a:lnTo>
                      <a:pt x="1730" y="1062"/>
                    </a:lnTo>
                    <a:lnTo>
                      <a:pt x="1740" y="1063"/>
                    </a:lnTo>
                    <a:lnTo>
                      <a:pt x="1749" y="1064"/>
                    </a:lnTo>
                    <a:lnTo>
                      <a:pt x="1760" y="1065"/>
                    </a:lnTo>
                    <a:lnTo>
                      <a:pt x="1768" y="1069"/>
                    </a:lnTo>
                    <a:lnTo>
                      <a:pt x="1777" y="1072"/>
                    </a:lnTo>
                    <a:lnTo>
                      <a:pt x="1785" y="1076"/>
                    </a:lnTo>
                    <a:lnTo>
                      <a:pt x="1794" y="1078"/>
                    </a:lnTo>
                    <a:lnTo>
                      <a:pt x="1812" y="1081"/>
                    </a:lnTo>
                    <a:lnTo>
                      <a:pt x="1830" y="1083"/>
                    </a:lnTo>
                    <a:lnTo>
                      <a:pt x="1849" y="1084"/>
                    </a:lnTo>
                    <a:lnTo>
                      <a:pt x="1867" y="1086"/>
                    </a:lnTo>
                    <a:lnTo>
                      <a:pt x="1886" y="1087"/>
                    </a:lnTo>
                    <a:lnTo>
                      <a:pt x="1905" y="1092"/>
                    </a:lnTo>
                    <a:lnTo>
                      <a:pt x="1921" y="1095"/>
                    </a:lnTo>
                    <a:lnTo>
                      <a:pt x="1938" y="1097"/>
                    </a:lnTo>
                    <a:lnTo>
                      <a:pt x="1953" y="1100"/>
                    </a:lnTo>
                    <a:lnTo>
                      <a:pt x="1970" y="1102"/>
                    </a:lnTo>
                    <a:lnTo>
                      <a:pt x="1987" y="1104"/>
                    </a:lnTo>
                    <a:lnTo>
                      <a:pt x="2004" y="1106"/>
                    </a:lnTo>
                    <a:lnTo>
                      <a:pt x="2021" y="1108"/>
                    </a:lnTo>
                    <a:lnTo>
                      <a:pt x="2038" y="1109"/>
                    </a:lnTo>
                    <a:lnTo>
                      <a:pt x="2049" y="1113"/>
                    </a:lnTo>
                    <a:lnTo>
                      <a:pt x="2059" y="1116"/>
                    </a:lnTo>
                    <a:lnTo>
                      <a:pt x="2071" y="1117"/>
                    </a:lnTo>
                    <a:lnTo>
                      <a:pt x="2083" y="1119"/>
                    </a:lnTo>
                    <a:lnTo>
                      <a:pt x="2094" y="1120"/>
                    </a:lnTo>
                    <a:lnTo>
                      <a:pt x="2106" y="1123"/>
                    </a:lnTo>
                    <a:lnTo>
                      <a:pt x="2116" y="1126"/>
                    </a:lnTo>
                    <a:lnTo>
                      <a:pt x="2127" y="1132"/>
                    </a:lnTo>
                    <a:lnTo>
                      <a:pt x="2129" y="1130"/>
                    </a:lnTo>
                    <a:lnTo>
                      <a:pt x="2131" y="1127"/>
                    </a:lnTo>
                    <a:lnTo>
                      <a:pt x="2133" y="1127"/>
                    </a:lnTo>
                    <a:lnTo>
                      <a:pt x="2135" y="1127"/>
                    </a:lnTo>
                    <a:lnTo>
                      <a:pt x="2138" y="1127"/>
                    </a:lnTo>
                    <a:lnTo>
                      <a:pt x="2140" y="1129"/>
                    </a:lnTo>
                    <a:lnTo>
                      <a:pt x="2142" y="1129"/>
                    </a:lnTo>
                    <a:lnTo>
                      <a:pt x="2145" y="1127"/>
                    </a:lnTo>
                    <a:lnTo>
                      <a:pt x="2148" y="1127"/>
                    </a:lnTo>
                    <a:lnTo>
                      <a:pt x="2151" y="1126"/>
                    </a:lnTo>
                    <a:lnTo>
                      <a:pt x="2154" y="1125"/>
                    </a:lnTo>
                    <a:lnTo>
                      <a:pt x="2157" y="1123"/>
                    </a:lnTo>
                    <a:lnTo>
                      <a:pt x="2160" y="1120"/>
                    </a:lnTo>
                    <a:lnTo>
                      <a:pt x="2162" y="1115"/>
                    </a:lnTo>
                    <a:lnTo>
                      <a:pt x="2164" y="1108"/>
                    </a:lnTo>
                    <a:lnTo>
                      <a:pt x="2166" y="1103"/>
                    </a:lnTo>
                    <a:lnTo>
                      <a:pt x="2168" y="1098"/>
                    </a:lnTo>
                    <a:lnTo>
                      <a:pt x="2171" y="1093"/>
                    </a:lnTo>
                    <a:lnTo>
                      <a:pt x="2170" y="1089"/>
                    </a:lnTo>
                    <a:lnTo>
                      <a:pt x="2170" y="1086"/>
                    </a:lnTo>
                    <a:lnTo>
                      <a:pt x="2172" y="1083"/>
                    </a:lnTo>
                    <a:lnTo>
                      <a:pt x="2176" y="1081"/>
                    </a:lnTo>
                    <a:lnTo>
                      <a:pt x="2178" y="1078"/>
                    </a:lnTo>
                    <a:lnTo>
                      <a:pt x="2181" y="1076"/>
                    </a:lnTo>
                    <a:lnTo>
                      <a:pt x="2183" y="1072"/>
                    </a:lnTo>
                    <a:lnTo>
                      <a:pt x="2185" y="1068"/>
                    </a:lnTo>
                    <a:lnTo>
                      <a:pt x="2190" y="1060"/>
                    </a:lnTo>
                    <a:lnTo>
                      <a:pt x="2195" y="1050"/>
                    </a:lnTo>
                    <a:lnTo>
                      <a:pt x="2199" y="1041"/>
                    </a:lnTo>
                    <a:lnTo>
                      <a:pt x="2203" y="1031"/>
                    </a:lnTo>
                    <a:lnTo>
                      <a:pt x="2207" y="1022"/>
                    </a:lnTo>
                    <a:lnTo>
                      <a:pt x="2213" y="1012"/>
                    </a:lnTo>
                    <a:lnTo>
                      <a:pt x="2217" y="1003"/>
                    </a:lnTo>
                    <a:lnTo>
                      <a:pt x="2223" y="994"/>
                    </a:lnTo>
                    <a:lnTo>
                      <a:pt x="2223" y="986"/>
                    </a:lnTo>
                    <a:lnTo>
                      <a:pt x="2224" y="978"/>
                    </a:lnTo>
                    <a:lnTo>
                      <a:pt x="2226" y="971"/>
                    </a:lnTo>
                    <a:lnTo>
                      <a:pt x="2230" y="964"/>
                    </a:lnTo>
                    <a:lnTo>
                      <a:pt x="2233" y="957"/>
                    </a:lnTo>
                    <a:lnTo>
                      <a:pt x="2236" y="950"/>
                    </a:lnTo>
                    <a:lnTo>
                      <a:pt x="2239" y="942"/>
                    </a:lnTo>
                    <a:lnTo>
                      <a:pt x="2241" y="935"/>
                    </a:lnTo>
                    <a:lnTo>
                      <a:pt x="2248" y="916"/>
                    </a:lnTo>
                    <a:lnTo>
                      <a:pt x="2254" y="896"/>
                    </a:lnTo>
                    <a:lnTo>
                      <a:pt x="2259" y="876"/>
                    </a:lnTo>
                    <a:lnTo>
                      <a:pt x="2265" y="856"/>
                    </a:lnTo>
                    <a:lnTo>
                      <a:pt x="2270" y="836"/>
                    </a:lnTo>
                    <a:lnTo>
                      <a:pt x="2275" y="815"/>
                    </a:lnTo>
                    <a:lnTo>
                      <a:pt x="2280" y="794"/>
                    </a:lnTo>
                    <a:lnTo>
                      <a:pt x="2286" y="774"/>
                    </a:lnTo>
                    <a:lnTo>
                      <a:pt x="2291" y="774"/>
                    </a:lnTo>
                    <a:lnTo>
                      <a:pt x="2294" y="773"/>
                    </a:lnTo>
                    <a:lnTo>
                      <a:pt x="2296" y="770"/>
                    </a:lnTo>
                    <a:lnTo>
                      <a:pt x="2297" y="767"/>
                    </a:lnTo>
                    <a:lnTo>
                      <a:pt x="2299" y="764"/>
                    </a:lnTo>
                    <a:lnTo>
                      <a:pt x="2302" y="760"/>
                    </a:lnTo>
                    <a:lnTo>
                      <a:pt x="2304" y="758"/>
                    </a:lnTo>
                    <a:lnTo>
                      <a:pt x="2308" y="758"/>
                    </a:lnTo>
                    <a:lnTo>
                      <a:pt x="2318" y="738"/>
                    </a:lnTo>
                    <a:lnTo>
                      <a:pt x="2322" y="738"/>
                    </a:lnTo>
                    <a:lnTo>
                      <a:pt x="2325" y="739"/>
                    </a:lnTo>
                    <a:lnTo>
                      <a:pt x="2328" y="741"/>
                    </a:lnTo>
                    <a:lnTo>
                      <a:pt x="2331" y="742"/>
                    </a:lnTo>
                    <a:lnTo>
                      <a:pt x="2334" y="744"/>
                    </a:lnTo>
                    <a:lnTo>
                      <a:pt x="2338" y="745"/>
                    </a:lnTo>
                    <a:lnTo>
                      <a:pt x="2341" y="745"/>
                    </a:lnTo>
                    <a:lnTo>
                      <a:pt x="2345" y="744"/>
                    </a:lnTo>
                    <a:lnTo>
                      <a:pt x="2354" y="762"/>
                    </a:lnTo>
                    <a:lnTo>
                      <a:pt x="2363" y="778"/>
                    </a:lnTo>
                    <a:lnTo>
                      <a:pt x="2369" y="796"/>
                    </a:lnTo>
                    <a:lnTo>
                      <a:pt x="2374" y="815"/>
                    </a:lnTo>
                    <a:lnTo>
                      <a:pt x="2377" y="834"/>
                    </a:lnTo>
                    <a:lnTo>
                      <a:pt x="2378" y="855"/>
                    </a:lnTo>
                    <a:lnTo>
                      <a:pt x="2378" y="874"/>
                    </a:lnTo>
                    <a:lnTo>
                      <a:pt x="2377" y="894"/>
                    </a:lnTo>
                    <a:lnTo>
                      <a:pt x="2375" y="913"/>
                    </a:lnTo>
                    <a:lnTo>
                      <a:pt x="2371" y="933"/>
                    </a:lnTo>
                    <a:lnTo>
                      <a:pt x="2367" y="952"/>
                    </a:lnTo>
                    <a:lnTo>
                      <a:pt x="2363" y="971"/>
                    </a:lnTo>
                    <a:lnTo>
                      <a:pt x="2357" y="990"/>
                    </a:lnTo>
                    <a:lnTo>
                      <a:pt x="2350" y="1008"/>
                    </a:lnTo>
                    <a:lnTo>
                      <a:pt x="2344" y="1026"/>
                    </a:lnTo>
                    <a:lnTo>
                      <a:pt x="2336" y="1043"/>
                    </a:lnTo>
                    <a:lnTo>
                      <a:pt x="2336" y="1045"/>
                    </a:lnTo>
                    <a:lnTo>
                      <a:pt x="2336" y="1047"/>
                    </a:lnTo>
                    <a:lnTo>
                      <a:pt x="2336" y="1050"/>
                    </a:lnTo>
                    <a:lnTo>
                      <a:pt x="2336" y="1052"/>
                    </a:lnTo>
                    <a:lnTo>
                      <a:pt x="2336" y="1056"/>
                    </a:lnTo>
                    <a:lnTo>
                      <a:pt x="2336" y="1058"/>
                    </a:lnTo>
                    <a:lnTo>
                      <a:pt x="2339" y="1059"/>
                    </a:lnTo>
                    <a:lnTo>
                      <a:pt x="2341" y="1061"/>
                    </a:lnTo>
                    <a:lnTo>
                      <a:pt x="2339" y="1071"/>
                    </a:lnTo>
                    <a:lnTo>
                      <a:pt x="2335" y="1082"/>
                    </a:lnTo>
                    <a:lnTo>
                      <a:pt x="2331" y="1093"/>
                    </a:lnTo>
                    <a:lnTo>
                      <a:pt x="2326" y="1103"/>
                    </a:lnTo>
                    <a:lnTo>
                      <a:pt x="2322" y="1114"/>
                    </a:lnTo>
                    <a:lnTo>
                      <a:pt x="2316" y="1124"/>
                    </a:lnTo>
                    <a:lnTo>
                      <a:pt x="2312" y="1135"/>
                    </a:lnTo>
                    <a:lnTo>
                      <a:pt x="2308" y="1145"/>
                    </a:lnTo>
                    <a:lnTo>
                      <a:pt x="2310" y="1148"/>
                    </a:lnTo>
                    <a:lnTo>
                      <a:pt x="2311" y="1151"/>
                    </a:lnTo>
                    <a:lnTo>
                      <a:pt x="2311" y="1153"/>
                    </a:lnTo>
                    <a:lnTo>
                      <a:pt x="2311" y="1156"/>
                    </a:lnTo>
                    <a:lnTo>
                      <a:pt x="2309" y="1161"/>
                    </a:lnTo>
                    <a:lnTo>
                      <a:pt x="2307" y="1167"/>
                    </a:lnTo>
                    <a:lnTo>
                      <a:pt x="2304" y="1172"/>
                    </a:lnTo>
                    <a:lnTo>
                      <a:pt x="2299" y="1177"/>
                    </a:lnTo>
                    <a:lnTo>
                      <a:pt x="2296" y="1182"/>
                    </a:lnTo>
                    <a:lnTo>
                      <a:pt x="2294" y="1188"/>
                    </a:lnTo>
                    <a:lnTo>
                      <a:pt x="2291" y="1197"/>
                    </a:lnTo>
                    <a:lnTo>
                      <a:pt x="2289" y="1207"/>
                    </a:lnTo>
                    <a:lnTo>
                      <a:pt x="2288" y="1217"/>
                    </a:lnTo>
                    <a:lnTo>
                      <a:pt x="2286" y="1228"/>
                    </a:lnTo>
                    <a:lnTo>
                      <a:pt x="2285" y="1237"/>
                    </a:lnTo>
                    <a:lnTo>
                      <a:pt x="2283" y="1248"/>
                    </a:lnTo>
                    <a:lnTo>
                      <a:pt x="2281" y="1258"/>
                    </a:lnTo>
                    <a:lnTo>
                      <a:pt x="2279" y="1266"/>
                    </a:lnTo>
                    <a:lnTo>
                      <a:pt x="2285" y="1269"/>
                    </a:lnTo>
                    <a:lnTo>
                      <a:pt x="2288" y="1273"/>
                    </a:lnTo>
                    <a:lnTo>
                      <a:pt x="2290" y="1278"/>
                    </a:lnTo>
                    <a:lnTo>
                      <a:pt x="2291" y="1283"/>
                    </a:lnTo>
                    <a:lnTo>
                      <a:pt x="2292" y="1289"/>
                    </a:lnTo>
                    <a:lnTo>
                      <a:pt x="2292" y="1295"/>
                    </a:lnTo>
                    <a:lnTo>
                      <a:pt x="2293" y="1300"/>
                    </a:lnTo>
                    <a:lnTo>
                      <a:pt x="2296" y="1304"/>
                    </a:lnTo>
                    <a:lnTo>
                      <a:pt x="2301" y="1315"/>
                    </a:lnTo>
                    <a:lnTo>
                      <a:pt x="2305" y="1324"/>
                    </a:lnTo>
                    <a:lnTo>
                      <a:pt x="2308" y="1335"/>
                    </a:lnTo>
                    <a:lnTo>
                      <a:pt x="2311" y="1346"/>
                    </a:lnTo>
                    <a:lnTo>
                      <a:pt x="2313" y="1357"/>
                    </a:lnTo>
                    <a:lnTo>
                      <a:pt x="2315" y="1368"/>
                    </a:lnTo>
                    <a:lnTo>
                      <a:pt x="2316" y="1379"/>
                    </a:lnTo>
                    <a:lnTo>
                      <a:pt x="2318" y="1390"/>
                    </a:lnTo>
                    <a:lnTo>
                      <a:pt x="2332" y="1393"/>
                    </a:lnTo>
                    <a:lnTo>
                      <a:pt x="2334" y="1402"/>
                    </a:lnTo>
                    <a:lnTo>
                      <a:pt x="2335" y="1412"/>
                    </a:lnTo>
                    <a:lnTo>
                      <a:pt x="2336" y="1421"/>
                    </a:lnTo>
                    <a:lnTo>
                      <a:pt x="2338" y="1431"/>
                    </a:lnTo>
                    <a:lnTo>
                      <a:pt x="2340" y="1439"/>
                    </a:lnTo>
                    <a:lnTo>
                      <a:pt x="2343" y="1448"/>
                    </a:lnTo>
                    <a:lnTo>
                      <a:pt x="2345" y="1451"/>
                    </a:lnTo>
                    <a:lnTo>
                      <a:pt x="2347" y="1454"/>
                    </a:lnTo>
                    <a:lnTo>
                      <a:pt x="2350" y="1457"/>
                    </a:lnTo>
                    <a:lnTo>
                      <a:pt x="2354" y="1460"/>
                    </a:lnTo>
                    <a:lnTo>
                      <a:pt x="2356" y="1468"/>
                    </a:lnTo>
                    <a:lnTo>
                      <a:pt x="2358" y="1475"/>
                    </a:lnTo>
                    <a:lnTo>
                      <a:pt x="2360" y="1483"/>
                    </a:lnTo>
                    <a:lnTo>
                      <a:pt x="2363" y="1490"/>
                    </a:lnTo>
                    <a:lnTo>
                      <a:pt x="2365" y="1497"/>
                    </a:lnTo>
                    <a:lnTo>
                      <a:pt x="2368" y="1504"/>
                    </a:lnTo>
                    <a:lnTo>
                      <a:pt x="2371" y="1511"/>
                    </a:lnTo>
                    <a:lnTo>
                      <a:pt x="2375" y="1519"/>
                    </a:lnTo>
                    <a:lnTo>
                      <a:pt x="2380" y="1523"/>
                    </a:lnTo>
                    <a:lnTo>
                      <a:pt x="2386" y="1527"/>
                    </a:lnTo>
                    <a:lnTo>
                      <a:pt x="2391" y="1529"/>
                    </a:lnTo>
                    <a:lnTo>
                      <a:pt x="2399" y="1531"/>
                    </a:lnTo>
                    <a:lnTo>
                      <a:pt x="2412" y="1534"/>
                    </a:lnTo>
                    <a:lnTo>
                      <a:pt x="2425" y="1534"/>
                    </a:lnTo>
                    <a:lnTo>
                      <a:pt x="2432" y="1535"/>
                    </a:lnTo>
                    <a:lnTo>
                      <a:pt x="2438" y="1536"/>
                    </a:lnTo>
                    <a:lnTo>
                      <a:pt x="2444" y="1537"/>
                    </a:lnTo>
                    <a:lnTo>
                      <a:pt x="2451" y="1539"/>
                    </a:lnTo>
                    <a:lnTo>
                      <a:pt x="2456" y="1542"/>
                    </a:lnTo>
                    <a:lnTo>
                      <a:pt x="2461" y="1546"/>
                    </a:lnTo>
                    <a:lnTo>
                      <a:pt x="2466" y="1552"/>
                    </a:lnTo>
                    <a:lnTo>
                      <a:pt x="2470" y="1559"/>
                    </a:lnTo>
                    <a:lnTo>
                      <a:pt x="2476" y="1575"/>
                    </a:lnTo>
                    <a:lnTo>
                      <a:pt x="2482" y="1591"/>
                    </a:lnTo>
                    <a:lnTo>
                      <a:pt x="2488" y="1608"/>
                    </a:lnTo>
                    <a:lnTo>
                      <a:pt x="2492" y="1625"/>
                    </a:lnTo>
                    <a:lnTo>
                      <a:pt x="2496" y="1641"/>
                    </a:lnTo>
                    <a:lnTo>
                      <a:pt x="2500" y="1658"/>
                    </a:lnTo>
                    <a:lnTo>
                      <a:pt x="2505" y="1675"/>
                    </a:lnTo>
                    <a:lnTo>
                      <a:pt x="2510" y="1692"/>
                    </a:lnTo>
                    <a:lnTo>
                      <a:pt x="2506" y="1695"/>
                    </a:lnTo>
                    <a:lnTo>
                      <a:pt x="2506" y="1773"/>
                    </a:lnTo>
                    <a:lnTo>
                      <a:pt x="2504" y="1773"/>
                    </a:lnTo>
                    <a:lnTo>
                      <a:pt x="2503" y="1773"/>
                    </a:lnTo>
                    <a:lnTo>
                      <a:pt x="2500" y="1773"/>
                    </a:lnTo>
                    <a:lnTo>
                      <a:pt x="2499" y="1773"/>
                    </a:lnTo>
                    <a:lnTo>
                      <a:pt x="2497" y="1772"/>
                    </a:lnTo>
                    <a:lnTo>
                      <a:pt x="2496" y="1772"/>
                    </a:lnTo>
                    <a:lnTo>
                      <a:pt x="2495" y="1771"/>
                    </a:lnTo>
                    <a:lnTo>
                      <a:pt x="2494" y="1768"/>
                    </a:lnTo>
                    <a:lnTo>
                      <a:pt x="2491" y="1771"/>
                    </a:lnTo>
                    <a:lnTo>
                      <a:pt x="2489" y="1774"/>
                    </a:lnTo>
                    <a:lnTo>
                      <a:pt x="2486" y="1777"/>
                    </a:lnTo>
                    <a:lnTo>
                      <a:pt x="2484" y="1780"/>
                    </a:lnTo>
                    <a:lnTo>
                      <a:pt x="2481" y="1783"/>
                    </a:lnTo>
                    <a:lnTo>
                      <a:pt x="2478" y="1785"/>
                    </a:lnTo>
                    <a:lnTo>
                      <a:pt x="2476" y="1789"/>
                    </a:lnTo>
                    <a:lnTo>
                      <a:pt x="2473" y="1791"/>
                    </a:lnTo>
                    <a:lnTo>
                      <a:pt x="2461" y="1784"/>
                    </a:lnTo>
                    <a:lnTo>
                      <a:pt x="2459" y="1787"/>
                    </a:lnTo>
                    <a:lnTo>
                      <a:pt x="2457" y="1791"/>
                    </a:lnTo>
                    <a:lnTo>
                      <a:pt x="2455" y="1794"/>
                    </a:lnTo>
                    <a:lnTo>
                      <a:pt x="2453" y="1798"/>
                    </a:lnTo>
                    <a:lnTo>
                      <a:pt x="2451" y="1801"/>
                    </a:lnTo>
                    <a:lnTo>
                      <a:pt x="2449" y="1803"/>
                    </a:lnTo>
                    <a:lnTo>
                      <a:pt x="2445" y="1804"/>
                    </a:lnTo>
                    <a:lnTo>
                      <a:pt x="2441" y="1804"/>
                    </a:lnTo>
                    <a:lnTo>
                      <a:pt x="2440" y="1800"/>
                    </a:lnTo>
                    <a:lnTo>
                      <a:pt x="2439" y="1797"/>
                    </a:lnTo>
                    <a:lnTo>
                      <a:pt x="2436" y="1795"/>
                    </a:lnTo>
                    <a:lnTo>
                      <a:pt x="2433" y="1794"/>
                    </a:lnTo>
                    <a:lnTo>
                      <a:pt x="2430" y="1794"/>
                    </a:lnTo>
                    <a:lnTo>
                      <a:pt x="2426" y="1794"/>
                    </a:lnTo>
                    <a:lnTo>
                      <a:pt x="2422" y="1795"/>
                    </a:lnTo>
                    <a:lnTo>
                      <a:pt x="2419" y="1797"/>
                    </a:lnTo>
                    <a:lnTo>
                      <a:pt x="2415" y="1800"/>
                    </a:lnTo>
                    <a:lnTo>
                      <a:pt x="2411" y="1803"/>
                    </a:lnTo>
                    <a:lnTo>
                      <a:pt x="2405" y="1805"/>
                    </a:lnTo>
                    <a:lnTo>
                      <a:pt x="2400" y="1809"/>
                    </a:lnTo>
                    <a:lnTo>
                      <a:pt x="2396" y="1811"/>
                    </a:lnTo>
                    <a:lnTo>
                      <a:pt x="2390" y="1814"/>
                    </a:lnTo>
                    <a:lnTo>
                      <a:pt x="2386" y="1818"/>
                    </a:lnTo>
                    <a:lnTo>
                      <a:pt x="2383" y="1822"/>
                    </a:lnTo>
                    <a:lnTo>
                      <a:pt x="2375" y="1822"/>
                    </a:lnTo>
                    <a:lnTo>
                      <a:pt x="2376" y="1818"/>
                    </a:lnTo>
                    <a:lnTo>
                      <a:pt x="2378" y="1814"/>
                    </a:lnTo>
                    <a:lnTo>
                      <a:pt x="2379" y="1810"/>
                    </a:lnTo>
                    <a:lnTo>
                      <a:pt x="2381" y="1805"/>
                    </a:lnTo>
                    <a:lnTo>
                      <a:pt x="2383" y="1801"/>
                    </a:lnTo>
                    <a:lnTo>
                      <a:pt x="2385" y="1797"/>
                    </a:lnTo>
                    <a:lnTo>
                      <a:pt x="2388" y="1793"/>
                    </a:lnTo>
                    <a:lnTo>
                      <a:pt x="2390" y="1789"/>
                    </a:lnTo>
                    <a:lnTo>
                      <a:pt x="2381" y="1790"/>
                    </a:lnTo>
                    <a:lnTo>
                      <a:pt x="2370" y="1792"/>
                    </a:lnTo>
                    <a:lnTo>
                      <a:pt x="2361" y="1796"/>
                    </a:lnTo>
                    <a:lnTo>
                      <a:pt x="2351" y="1801"/>
                    </a:lnTo>
                    <a:lnTo>
                      <a:pt x="2342" y="1806"/>
                    </a:lnTo>
                    <a:lnTo>
                      <a:pt x="2333" y="1813"/>
                    </a:lnTo>
                    <a:lnTo>
                      <a:pt x="2324" y="1818"/>
                    </a:lnTo>
                    <a:lnTo>
                      <a:pt x="2314" y="1822"/>
                    </a:lnTo>
                    <a:lnTo>
                      <a:pt x="2312" y="1821"/>
                    </a:lnTo>
                    <a:lnTo>
                      <a:pt x="2312" y="1819"/>
                    </a:lnTo>
                    <a:lnTo>
                      <a:pt x="2312" y="1817"/>
                    </a:lnTo>
                    <a:lnTo>
                      <a:pt x="2313" y="1816"/>
                    </a:lnTo>
                    <a:lnTo>
                      <a:pt x="2315" y="1814"/>
                    </a:lnTo>
                    <a:lnTo>
                      <a:pt x="2316" y="1813"/>
                    </a:lnTo>
                    <a:lnTo>
                      <a:pt x="2317" y="1811"/>
                    </a:lnTo>
                    <a:lnTo>
                      <a:pt x="2318" y="1809"/>
                    </a:lnTo>
                    <a:lnTo>
                      <a:pt x="2310" y="1810"/>
                    </a:lnTo>
                    <a:lnTo>
                      <a:pt x="2302" y="1811"/>
                    </a:lnTo>
                    <a:lnTo>
                      <a:pt x="2293" y="1814"/>
                    </a:lnTo>
                    <a:lnTo>
                      <a:pt x="2286" y="1817"/>
                    </a:lnTo>
                    <a:lnTo>
                      <a:pt x="2277" y="1819"/>
                    </a:lnTo>
                    <a:lnTo>
                      <a:pt x="2269" y="1822"/>
                    </a:lnTo>
                    <a:lnTo>
                      <a:pt x="2260" y="1826"/>
                    </a:lnTo>
                    <a:lnTo>
                      <a:pt x="2252" y="1827"/>
                    </a:lnTo>
                    <a:lnTo>
                      <a:pt x="2252" y="1823"/>
                    </a:lnTo>
                    <a:lnTo>
                      <a:pt x="2253" y="1820"/>
                    </a:lnTo>
                    <a:lnTo>
                      <a:pt x="2255" y="1818"/>
                    </a:lnTo>
                    <a:lnTo>
                      <a:pt x="2257" y="1815"/>
                    </a:lnTo>
                    <a:lnTo>
                      <a:pt x="2259" y="1813"/>
                    </a:lnTo>
                    <a:lnTo>
                      <a:pt x="2261" y="1811"/>
                    </a:lnTo>
                    <a:lnTo>
                      <a:pt x="2263" y="1808"/>
                    </a:lnTo>
                    <a:lnTo>
                      <a:pt x="2263" y="1804"/>
                    </a:lnTo>
                    <a:lnTo>
                      <a:pt x="2260" y="1803"/>
                    </a:lnTo>
                    <a:lnTo>
                      <a:pt x="2256" y="1802"/>
                    </a:lnTo>
                    <a:lnTo>
                      <a:pt x="2252" y="1803"/>
                    </a:lnTo>
                    <a:lnTo>
                      <a:pt x="2249" y="1804"/>
                    </a:lnTo>
                    <a:lnTo>
                      <a:pt x="2240" y="1809"/>
                    </a:lnTo>
                    <a:lnTo>
                      <a:pt x="2233" y="1814"/>
                    </a:lnTo>
                    <a:lnTo>
                      <a:pt x="2226" y="1818"/>
                    </a:lnTo>
                    <a:lnTo>
                      <a:pt x="2221" y="1819"/>
                    </a:lnTo>
                    <a:lnTo>
                      <a:pt x="2218" y="1818"/>
                    </a:lnTo>
                    <a:lnTo>
                      <a:pt x="2216" y="1816"/>
                    </a:lnTo>
                    <a:lnTo>
                      <a:pt x="2215" y="1813"/>
                    </a:lnTo>
                    <a:lnTo>
                      <a:pt x="2214" y="1806"/>
                    </a:lnTo>
                    <a:lnTo>
                      <a:pt x="2210" y="1809"/>
                    </a:lnTo>
                    <a:lnTo>
                      <a:pt x="2205" y="1810"/>
                    </a:lnTo>
                    <a:lnTo>
                      <a:pt x="2202" y="1812"/>
                    </a:lnTo>
                    <a:lnTo>
                      <a:pt x="2198" y="1814"/>
                    </a:lnTo>
                    <a:lnTo>
                      <a:pt x="2194" y="1815"/>
                    </a:lnTo>
                    <a:lnTo>
                      <a:pt x="2189" y="1816"/>
                    </a:lnTo>
                    <a:lnTo>
                      <a:pt x="2185" y="1816"/>
                    </a:lnTo>
                    <a:lnTo>
                      <a:pt x="2181" y="1815"/>
                    </a:lnTo>
                    <a:lnTo>
                      <a:pt x="2179" y="1812"/>
                    </a:lnTo>
                    <a:lnTo>
                      <a:pt x="2177" y="1811"/>
                    </a:lnTo>
                    <a:lnTo>
                      <a:pt x="2174" y="1809"/>
                    </a:lnTo>
                    <a:lnTo>
                      <a:pt x="2171" y="1809"/>
                    </a:lnTo>
                    <a:lnTo>
                      <a:pt x="2166" y="1809"/>
                    </a:lnTo>
                    <a:lnTo>
                      <a:pt x="2160" y="1811"/>
                    </a:lnTo>
                    <a:lnTo>
                      <a:pt x="2154" y="1813"/>
                    </a:lnTo>
                    <a:lnTo>
                      <a:pt x="2148" y="1813"/>
                    </a:lnTo>
                    <a:lnTo>
                      <a:pt x="2145" y="1813"/>
                    </a:lnTo>
                    <a:lnTo>
                      <a:pt x="2143" y="1812"/>
                    </a:lnTo>
                    <a:lnTo>
                      <a:pt x="2140" y="1811"/>
                    </a:lnTo>
                    <a:lnTo>
                      <a:pt x="2136" y="1809"/>
                    </a:lnTo>
                    <a:lnTo>
                      <a:pt x="2135" y="1812"/>
                    </a:lnTo>
                    <a:lnTo>
                      <a:pt x="2134" y="1815"/>
                    </a:lnTo>
                    <a:lnTo>
                      <a:pt x="2134" y="1818"/>
                    </a:lnTo>
                    <a:lnTo>
                      <a:pt x="2135" y="1821"/>
                    </a:lnTo>
                    <a:lnTo>
                      <a:pt x="2136" y="1824"/>
                    </a:lnTo>
                    <a:lnTo>
                      <a:pt x="2138" y="1828"/>
                    </a:lnTo>
                    <a:lnTo>
                      <a:pt x="2138" y="1830"/>
                    </a:lnTo>
                    <a:lnTo>
                      <a:pt x="2136" y="1833"/>
                    </a:lnTo>
                    <a:lnTo>
                      <a:pt x="2123" y="1835"/>
                    </a:lnTo>
                    <a:lnTo>
                      <a:pt x="2124" y="1840"/>
                    </a:lnTo>
                    <a:lnTo>
                      <a:pt x="2125" y="1846"/>
                    </a:lnTo>
                    <a:lnTo>
                      <a:pt x="2127" y="1851"/>
                    </a:lnTo>
                    <a:lnTo>
                      <a:pt x="2129" y="1856"/>
                    </a:lnTo>
                    <a:lnTo>
                      <a:pt x="2131" y="1860"/>
                    </a:lnTo>
                    <a:lnTo>
                      <a:pt x="2133" y="1866"/>
                    </a:lnTo>
                    <a:lnTo>
                      <a:pt x="2134" y="1872"/>
                    </a:lnTo>
                    <a:lnTo>
                      <a:pt x="2134" y="1877"/>
                    </a:lnTo>
                    <a:lnTo>
                      <a:pt x="2131" y="1877"/>
                    </a:lnTo>
                    <a:lnTo>
                      <a:pt x="2128" y="1877"/>
                    </a:lnTo>
                    <a:lnTo>
                      <a:pt x="2125" y="1875"/>
                    </a:lnTo>
                    <a:lnTo>
                      <a:pt x="2123" y="1873"/>
                    </a:lnTo>
                    <a:lnTo>
                      <a:pt x="2117" y="1868"/>
                    </a:lnTo>
                    <a:lnTo>
                      <a:pt x="2113" y="1861"/>
                    </a:lnTo>
                    <a:lnTo>
                      <a:pt x="2108" y="1856"/>
                    </a:lnTo>
                    <a:lnTo>
                      <a:pt x="2103" y="1853"/>
                    </a:lnTo>
                    <a:lnTo>
                      <a:pt x="2099" y="1853"/>
                    </a:lnTo>
                    <a:lnTo>
                      <a:pt x="2096" y="1854"/>
                    </a:lnTo>
                    <a:lnTo>
                      <a:pt x="2092" y="1855"/>
                    </a:lnTo>
                    <a:lnTo>
                      <a:pt x="2088" y="1859"/>
                    </a:lnTo>
                    <a:lnTo>
                      <a:pt x="2088" y="1857"/>
                    </a:lnTo>
                    <a:lnTo>
                      <a:pt x="2087" y="1856"/>
                    </a:lnTo>
                    <a:lnTo>
                      <a:pt x="2086" y="1855"/>
                    </a:lnTo>
                    <a:lnTo>
                      <a:pt x="2085" y="1854"/>
                    </a:lnTo>
                    <a:lnTo>
                      <a:pt x="2084" y="1853"/>
                    </a:lnTo>
                    <a:lnTo>
                      <a:pt x="2083" y="1852"/>
                    </a:lnTo>
                    <a:lnTo>
                      <a:pt x="2081" y="1851"/>
                    </a:lnTo>
                    <a:lnTo>
                      <a:pt x="2080" y="1849"/>
                    </a:lnTo>
                    <a:lnTo>
                      <a:pt x="2076" y="1854"/>
                    </a:lnTo>
                    <a:lnTo>
                      <a:pt x="2074" y="1858"/>
                    </a:lnTo>
                    <a:lnTo>
                      <a:pt x="2071" y="1864"/>
                    </a:lnTo>
                    <a:lnTo>
                      <a:pt x="2069" y="1870"/>
                    </a:lnTo>
                    <a:lnTo>
                      <a:pt x="2067" y="1875"/>
                    </a:lnTo>
                    <a:lnTo>
                      <a:pt x="2065" y="1881"/>
                    </a:lnTo>
                    <a:lnTo>
                      <a:pt x="2061" y="1887"/>
                    </a:lnTo>
                    <a:lnTo>
                      <a:pt x="2058" y="1891"/>
                    </a:lnTo>
                    <a:lnTo>
                      <a:pt x="2055" y="1892"/>
                    </a:lnTo>
                    <a:lnTo>
                      <a:pt x="2053" y="1892"/>
                    </a:lnTo>
                    <a:lnTo>
                      <a:pt x="2051" y="1891"/>
                    </a:lnTo>
                    <a:lnTo>
                      <a:pt x="2049" y="1890"/>
                    </a:lnTo>
                    <a:lnTo>
                      <a:pt x="2047" y="1889"/>
                    </a:lnTo>
                    <a:lnTo>
                      <a:pt x="2046" y="1887"/>
                    </a:lnTo>
                    <a:lnTo>
                      <a:pt x="2043" y="1885"/>
                    </a:lnTo>
                    <a:lnTo>
                      <a:pt x="2042" y="1884"/>
                    </a:lnTo>
                    <a:lnTo>
                      <a:pt x="2039" y="1861"/>
                    </a:lnTo>
                    <a:lnTo>
                      <a:pt x="2035" y="1863"/>
                    </a:lnTo>
                    <a:lnTo>
                      <a:pt x="2030" y="1866"/>
                    </a:lnTo>
                    <a:lnTo>
                      <a:pt x="2025" y="1869"/>
                    </a:lnTo>
                    <a:lnTo>
                      <a:pt x="2021" y="1873"/>
                    </a:lnTo>
                    <a:lnTo>
                      <a:pt x="2017" y="1877"/>
                    </a:lnTo>
                    <a:lnTo>
                      <a:pt x="2013" y="1882"/>
                    </a:lnTo>
                    <a:lnTo>
                      <a:pt x="2007" y="1884"/>
                    </a:lnTo>
                    <a:lnTo>
                      <a:pt x="2001" y="1886"/>
                    </a:lnTo>
                    <a:lnTo>
                      <a:pt x="1998" y="1884"/>
                    </a:lnTo>
                    <a:lnTo>
                      <a:pt x="1996" y="1882"/>
                    </a:lnTo>
                    <a:lnTo>
                      <a:pt x="1993" y="1881"/>
                    </a:lnTo>
                    <a:lnTo>
                      <a:pt x="1989" y="1881"/>
                    </a:lnTo>
                    <a:lnTo>
                      <a:pt x="1983" y="1882"/>
                    </a:lnTo>
                    <a:lnTo>
                      <a:pt x="1977" y="1885"/>
                    </a:lnTo>
                    <a:lnTo>
                      <a:pt x="1970" y="1888"/>
                    </a:lnTo>
                    <a:lnTo>
                      <a:pt x="1965" y="1892"/>
                    </a:lnTo>
                    <a:lnTo>
                      <a:pt x="1959" y="1896"/>
                    </a:lnTo>
                    <a:lnTo>
                      <a:pt x="1953" y="1900"/>
                    </a:lnTo>
                    <a:lnTo>
                      <a:pt x="1947" y="1904"/>
                    </a:lnTo>
                    <a:lnTo>
                      <a:pt x="1942" y="1908"/>
                    </a:lnTo>
                    <a:lnTo>
                      <a:pt x="1937" y="1913"/>
                    </a:lnTo>
                    <a:lnTo>
                      <a:pt x="1930" y="1918"/>
                    </a:lnTo>
                    <a:lnTo>
                      <a:pt x="1925" y="1921"/>
                    </a:lnTo>
                    <a:lnTo>
                      <a:pt x="1919" y="1923"/>
                    </a:lnTo>
                    <a:lnTo>
                      <a:pt x="1912" y="1925"/>
                    </a:lnTo>
                    <a:lnTo>
                      <a:pt x="1905" y="1926"/>
                    </a:lnTo>
                    <a:lnTo>
                      <a:pt x="1904" y="1922"/>
                    </a:lnTo>
                    <a:lnTo>
                      <a:pt x="1904" y="1918"/>
                    </a:lnTo>
                    <a:lnTo>
                      <a:pt x="1904" y="1913"/>
                    </a:lnTo>
                    <a:lnTo>
                      <a:pt x="1905" y="1909"/>
                    </a:lnTo>
                    <a:lnTo>
                      <a:pt x="1906" y="1905"/>
                    </a:lnTo>
                    <a:lnTo>
                      <a:pt x="1908" y="1901"/>
                    </a:lnTo>
                    <a:lnTo>
                      <a:pt x="1910" y="1897"/>
                    </a:lnTo>
                    <a:lnTo>
                      <a:pt x="1912" y="1893"/>
                    </a:lnTo>
                    <a:lnTo>
                      <a:pt x="1909" y="1893"/>
                    </a:lnTo>
                    <a:lnTo>
                      <a:pt x="1906" y="1894"/>
                    </a:lnTo>
                    <a:lnTo>
                      <a:pt x="1903" y="1895"/>
                    </a:lnTo>
                    <a:lnTo>
                      <a:pt x="1899" y="1896"/>
                    </a:lnTo>
                    <a:lnTo>
                      <a:pt x="1895" y="1897"/>
                    </a:lnTo>
                    <a:lnTo>
                      <a:pt x="1892" y="1899"/>
                    </a:lnTo>
                    <a:lnTo>
                      <a:pt x="1888" y="1901"/>
                    </a:lnTo>
                    <a:lnTo>
                      <a:pt x="1885" y="1902"/>
                    </a:lnTo>
                    <a:lnTo>
                      <a:pt x="1875" y="1899"/>
                    </a:lnTo>
                    <a:lnTo>
                      <a:pt x="1867" y="1896"/>
                    </a:lnTo>
                    <a:lnTo>
                      <a:pt x="1859" y="1895"/>
                    </a:lnTo>
                    <a:lnTo>
                      <a:pt x="1851" y="1895"/>
                    </a:lnTo>
                    <a:lnTo>
                      <a:pt x="1843" y="1896"/>
                    </a:lnTo>
                    <a:lnTo>
                      <a:pt x="1835" y="1899"/>
                    </a:lnTo>
                    <a:lnTo>
                      <a:pt x="1826" y="1901"/>
                    </a:lnTo>
                    <a:lnTo>
                      <a:pt x="1818" y="1904"/>
                    </a:lnTo>
                    <a:lnTo>
                      <a:pt x="1813" y="1904"/>
                    </a:lnTo>
                    <a:lnTo>
                      <a:pt x="1807" y="1904"/>
                    </a:lnTo>
                    <a:lnTo>
                      <a:pt x="1802" y="1904"/>
                    </a:lnTo>
                    <a:lnTo>
                      <a:pt x="1797" y="1904"/>
                    </a:lnTo>
                    <a:lnTo>
                      <a:pt x="1793" y="1903"/>
                    </a:lnTo>
                    <a:lnTo>
                      <a:pt x="1789" y="1900"/>
                    </a:lnTo>
                    <a:lnTo>
                      <a:pt x="1788" y="1897"/>
                    </a:lnTo>
                    <a:lnTo>
                      <a:pt x="1787" y="1895"/>
                    </a:lnTo>
                    <a:lnTo>
                      <a:pt x="1787" y="1893"/>
                    </a:lnTo>
                    <a:lnTo>
                      <a:pt x="1787" y="1889"/>
                    </a:lnTo>
                    <a:lnTo>
                      <a:pt x="1781" y="1893"/>
                    </a:lnTo>
                    <a:lnTo>
                      <a:pt x="1775" y="1896"/>
                    </a:lnTo>
                    <a:lnTo>
                      <a:pt x="1767" y="1899"/>
                    </a:lnTo>
                    <a:lnTo>
                      <a:pt x="1760" y="1901"/>
                    </a:lnTo>
                    <a:lnTo>
                      <a:pt x="1752" y="1902"/>
                    </a:lnTo>
                    <a:lnTo>
                      <a:pt x="1744" y="1902"/>
                    </a:lnTo>
                    <a:lnTo>
                      <a:pt x="1737" y="1902"/>
                    </a:lnTo>
                    <a:lnTo>
                      <a:pt x="1729" y="1902"/>
                    </a:lnTo>
                    <a:lnTo>
                      <a:pt x="1727" y="1897"/>
                    </a:lnTo>
                    <a:lnTo>
                      <a:pt x="1726" y="1895"/>
                    </a:lnTo>
                    <a:lnTo>
                      <a:pt x="1723" y="1893"/>
                    </a:lnTo>
                    <a:lnTo>
                      <a:pt x="1721" y="1892"/>
                    </a:lnTo>
                    <a:lnTo>
                      <a:pt x="1715" y="1891"/>
                    </a:lnTo>
                    <a:lnTo>
                      <a:pt x="1709" y="1893"/>
                    </a:lnTo>
                    <a:lnTo>
                      <a:pt x="1703" y="1894"/>
                    </a:lnTo>
                    <a:lnTo>
                      <a:pt x="1696" y="1896"/>
                    </a:lnTo>
                    <a:lnTo>
                      <a:pt x="1689" y="1899"/>
                    </a:lnTo>
                    <a:lnTo>
                      <a:pt x="1683" y="1897"/>
                    </a:lnTo>
                    <a:lnTo>
                      <a:pt x="1682" y="1896"/>
                    </a:lnTo>
                    <a:lnTo>
                      <a:pt x="1679" y="1895"/>
                    </a:lnTo>
                    <a:lnTo>
                      <a:pt x="1678" y="1895"/>
                    </a:lnTo>
                    <a:lnTo>
                      <a:pt x="1676" y="1894"/>
                    </a:lnTo>
                    <a:lnTo>
                      <a:pt x="1675" y="1894"/>
                    </a:lnTo>
                    <a:lnTo>
                      <a:pt x="1674" y="1893"/>
                    </a:lnTo>
                    <a:lnTo>
                      <a:pt x="1673" y="1891"/>
                    </a:lnTo>
                    <a:lnTo>
                      <a:pt x="1673" y="1889"/>
                    </a:lnTo>
                    <a:lnTo>
                      <a:pt x="1675" y="1887"/>
                    </a:lnTo>
                    <a:lnTo>
                      <a:pt x="1669" y="1886"/>
                    </a:lnTo>
                    <a:lnTo>
                      <a:pt x="1664" y="1885"/>
                    </a:lnTo>
                    <a:lnTo>
                      <a:pt x="1657" y="1884"/>
                    </a:lnTo>
                    <a:lnTo>
                      <a:pt x="1652" y="1883"/>
                    </a:lnTo>
                    <a:lnTo>
                      <a:pt x="1646" y="1882"/>
                    </a:lnTo>
                    <a:lnTo>
                      <a:pt x="1640" y="1882"/>
                    </a:lnTo>
                    <a:lnTo>
                      <a:pt x="1634" y="1881"/>
                    </a:lnTo>
                    <a:lnTo>
                      <a:pt x="1629" y="1882"/>
                    </a:lnTo>
                    <a:lnTo>
                      <a:pt x="1631" y="1877"/>
                    </a:lnTo>
                    <a:lnTo>
                      <a:pt x="1633" y="1873"/>
                    </a:lnTo>
                    <a:lnTo>
                      <a:pt x="1637" y="1869"/>
                    </a:lnTo>
                    <a:lnTo>
                      <a:pt x="1641" y="1866"/>
                    </a:lnTo>
                    <a:lnTo>
                      <a:pt x="1646" y="1863"/>
                    </a:lnTo>
                    <a:lnTo>
                      <a:pt x="1650" y="1859"/>
                    </a:lnTo>
                    <a:lnTo>
                      <a:pt x="1654" y="1856"/>
                    </a:lnTo>
                    <a:lnTo>
                      <a:pt x="1658" y="1853"/>
                    </a:lnTo>
                    <a:lnTo>
                      <a:pt x="1658" y="1851"/>
                    </a:lnTo>
                    <a:lnTo>
                      <a:pt x="1657" y="1850"/>
                    </a:lnTo>
                    <a:lnTo>
                      <a:pt x="1655" y="1849"/>
                    </a:lnTo>
                    <a:lnTo>
                      <a:pt x="1654" y="1848"/>
                    </a:lnTo>
                    <a:lnTo>
                      <a:pt x="1652" y="1848"/>
                    </a:lnTo>
                    <a:lnTo>
                      <a:pt x="1650" y="1847"/>
                    </a:lnTo>
                    <a:lnTo>
                      <a:pt x="1648" y="1847"/>
                    </a:lnTo>
                    <a:lnTo>
                      <a:pt x="1647" y="1845"/>
                    </a:lnTo>
                    <a:lnTo>
                      <a:pt x="1654" y="1837"/>
                    </a:lnTo>
                    <a:lnTo>
                      <a:pt x="1662" y="1830"/>
                    </a:lnTo>
                    <a:lnTo>
                      <a:pt x="1671" y="1823"/>
                    </a:lnTo>
                    <a:lnTo>
                      <a:pt x="1679" y="1817"/>
                    </a:lnTo>
                    <a:lnTo>
                      <a:pt x="1689" y="1812"/>
                    </a:lnTo>
                    <a:lnTo>
                      <a:pt x="1698" y="1806"/>
                    </a:lnTo>
                    <a:lnTo>
                      <a:pt x="1708" y="1801"/>
                    </a:lnTo>
                    <a:lnTo>
                      <a:pt x="1717" y="1797"/>
                    </a:lnTo>
                    <a:lnTo>
                      <a:pt x="1717" y="1793"/>
                    </a:lnTo>
                    <a:lnTo>
                      <a:pt x="1717" y="1787"/>
                    </a:lnTo>
                    <a:lnTo>
                      <a:pt x="1717" y="1783"/>
                    </a:lnTo>
                    <a:lnTo>
                      <a:pt x="1717" y="1779"/>
                    </a:lnTo>
                    <a:lnTo>
                      <a:pt x="1717" y="1775"/>
                    </a:lnTo>
                    <a:lnTo>
                      <a:pt x="1716" y="1771"/>
                    </a:lnTo>
                    <a:lnTo>
                      <a:pt x="1715" y="1766"/>
                    </a:lnTo>
                    <a:lnTo>
                      <a:pt x="1713" y="1762"/>
                    </a:lnTo>
                    <a:lnTo>
                      <a:pt x="1712" y="1764"/>
                    </a:lnTo>
                    <a:lnTo>
                      <a:pt x="1711" y="1766"/>
                    </a:lnTo>
                    <a:lnTo>
                      <a:pt x="1711" y="1768"/>
                    </a:lnTo>
                    <a:lnTo>
                      <a:pt x="1710" y="1771"/>
                    </a:lnTo>
                    <a:lnTo>
                      <a:pt x="1709" y="1773"/>
                    </a:lnTo>
                    <a:lnTo>
                      <a:pt x="1709" y="1775"/>
                    </a:lnTo>
                    <a:lnTo>
                      <a:pt x="1708" y="1777"/>
                    </a:lnTo>
                    <a:lnTo>
                      <a:pt x="1707" y="1779"/>
                    </a:lnTo>
                    <a:lnTo>
                      <a:pt x="1703" y="1780"/>
                    </a:lnTo>
                    <a:lnTo>
                      <a:pt x="1700" y="1779"/>
                    </a:lnTo>
                    <a:lnTo>
                      <a:pt x="1697" y="1776"/>
                    </a:lnTo>
                    <a:lnTo>
                      <a:pt x="1695" y="1773"/>
                    </a:lnTo>
                    <a:lnTo>
                      <a:pt x="1695" y="1768"/>
                    </a:lnTo>
                    <a:lnTo>
                      <a:pt x="1694" y="1764"/>
                    </a:lnTo>
                    <a:lnTo>
                      <a:pt x="1694" y="1760"/>
                    </a:lnTo>
                    <a:lnTo>
                      <a:pt x="1693" y="1756"/>
                    </a:lnTo>
                    <a:lnTo>
                      <a:pt x="1693" y="1751"/>
                    </a:lnTo>
                    <a:lnTo>
                      <a:pt x="1693" y="1746"/>
                    </a:lnTo>
                    <a:lnTo>
                      <a:pt x="1693" y="1741"/>
                    </a:lnTo>
                    <a:lnTo>
                      <a:pt x="1693" y="1737"/>
                    </a:lnTo>
                    <a:lnTo>
                      <a:pt x="1693" y="1731"/>
                    </a:lnTo>
                    <a:lnTo>
                      <a:pt x="1692" y="1726"/>
                    </a:lnTo>
                    <a:lnTo>
                      <a:pt x="1691" y="1722"/>
                    </a:lnTo>
                    <a:lnTo>
                      <a:pt x="1689" y="1718"/>
                    </a:lnTo>
                    <a:lnTo>
                      <a:pt x="1685" y="1722"/>
                    </a:lnTo>
                    <a:lnTo>
                      <a:pt x="1682" y="1726"/>
                    </a:lnTo>
                    <a:lnTo>
                      <a:pt x="1680" y="1731"/>
                    </a:lnTo>
                    <a:lnTo>
                      <a:pt x="1679" y="1736"/>
                    </a:lnTo>
                    <a:lnTo>
                      <a:pt x="1677" y="1741"/>
                    </a:lnTo>
                    <a:lnTo>
                      <a:pt x="1675" y="1745"/>
                    </a:lnTo>
                    <a:lnTo>
                      <a:pt x="1673" y="1746"/>
                    </a:lnTo>
                    <a:lnTo>
                      <a:pt x="1671" y="1747"/>
                    </a:lnTo>
                    <a:lnTo>
                      <a:pt x="1668" y="1748"/>
                    </a:lnTo>
                    <a:lnTo>
                      <a:pt x="1665" y="1748"/>
                    </a:lnTo>
                    <a:lnTo>
                      <a:pt x="1662" y="1741"/>
                    </a:lnTo>
                    <a:lnTo>
                      <a:pt x="1661" y="1734"/>
                    </a:lnTo>
                    <a:lnTo>
                      <a:pt x="1660" y="1726"/>
                    </a:lnTo>
                    <a:lnTo>
                      <a:pt x="1659" y="1719"/>
                    </a:lnTo>
                    <a:lnTo>
                      <a:pt x="1658" y="1711"/>
                    </a:lnTo>
                    <a:lnTo>
                      <a:pt x="1658" y="1703"/>
                    </a:lnTo>
                    <a:lnTo>
                      <a:pt x="1657" y="1695"/>
                    </a:lnTo>
                    <a:lnTo>
                      <a:pt x="1657" y="1688"/>
                    </a:lnTo>
                    <a:lnTo>
                      <a:pt x="1654" y="1693"/>
                    </a:lnTo>
                    <a:lnTo>
                      <a:pt x="1653" y="1700"/>
                    </a:lnTo>
                    <a:lnTo>
                      <a:pt x="1652" y="1705"/>
                    </a:lnTo>
                    <a:lnTo>
                      <a:pt x="1652" y="1711"/>
                    </a:lnTo>
                    <a:lnTo>
                      <a:pt x="1652" y="1718"/>
                    </a:lnTo>
                    <a:lnTo>
                      <a:pt x="1651" y="1723"/>
                    </a:lnTo>
                    <a:lnTo>
                      <a:pt x="1650" y="1728"/>
                    </a:lnTo>
                    <a:lnTo>
                      <a:pt x="1649" y="1735"/>
                    </a:lnTo>
                    <a:lnTo>
                      <a:pt x="1643" y="1735"/>
                    </a:lnTo>
                    <a:lnTo>
                      <a:pt x="1640" y="1734"/>
                    </a:lnTo>
                    <a:lnTo>
                      <a:pt x="1638" y="1731"/>
                    </a:lnTo>
                    <a:lnTo>
                      <a:pt x="1637" y="1727"/>
                    </a:lnTo>
                    <a:lnTo>
                      <a:pt x="1636" y="1724"/>
                    </a:lnTo>
                    <a:lnTo>
                      <a:pt x="1636" y="1720"/>
                    </a:lnTo>
                    <a:lnTo>
                      <a:pt x="1636" y="1716"/>
                    </a:lnTo>
                    <a:lnTo>
                      <a:pt x="1634" y="1712"/>
                    </a:lnTo>
                    <a:lnTo>
                      <a:pt x="1634" y="1704"/>
                    </a:lnTo>
                    <a:lnTo>
                      <a:pt x="1634" y="1694"/>
                    </a:lnTo>
                    <a:lnTo>
                      <a:pt x="1634" y="1686"/>
                    </a:lnTo>
                    <a:lnTo>
                      <a:pt x="1634" y="1676"/>
                    </a:lnTo>
                    <a:lnTo>
                      <a:pt x="1634" y="1668"/>
                    </a:lnTo>
                    <a:lnTo>
                      <a:pt x="1634" y="1659"/>
                    </a:lnTo>
                    <a:lnTo>
                      <a:pt x="1634" y="1651"/>
                    </a:lnTo>
                    <a:lnTo>
                      <a:pt x="1634" y="1644"/>
                    </a:lnTo>
                    <a:lnTo>
                      <a:pt x="1630" y="1647"/>
                    </a:lnTo>
                    <a:lnTo>
                      <a:pt x="1627" y="1651"/>
                    </a:lnTo>
                    <a:lnTo>
                      <a:pt x="1624" y="1657"/>
                    </a:lnTo>
                    <a:lnTo>
                      <a:pt x="1621" y="1663"/>
                    </a:lnTo>
                    <a:lnTo>
                      <a:pt x="1619" y="1668"/>
                    </a:lnTo>
                    <a:lnTo>
                      <a:pt x="1616" y="1672"/>
                    </a:lnTo>
                    <a:lnTo>
                      <a:pt x="1613" y="1676"/>
                    </a:lnTo>
                    <a:lnTo>
                      <a:pt x="1609" y="1677"/>
                    </a:lnTo>
                    <a:lnTo>
                      <a:pt x="1603" y="1669"/>
                    </a:lnTo>
                    <a:lnTo>
                      <a:pt x="1600" y="1661"/>
                    </a:lnTo>
                    <a:lnTo>
                      <a:pt x="1598" y="1651"/>
                    </a:lnTo>
                    <a:lnTo>
                      <a:pt x="1597" y="1641"/>
                    </a:lnTo>
                    <a:lnTo>
                      <a:pt x="1597" y="1632"/>
                    </a:lnTo>
                    <a:lnTo>
                      <a:pt x="1597" y="1622"/>
                    </a:lnTo>
                    <a:lnTo>
                      <a:pt x="1598" y="1613"/>
                    </a:lnTo>
                    <a:lnTo>
                      <a:pt x="1598" y="1603"/>
                    </a:lnTo>
                    <a:lnTo>
                      <a:pt x="1589" y="1610"/>
                    </a:lnTo>
                    <a:lnTo>
                      <a:pt x="1582" y="1618"/>
                    </a:lnTo>
                    <a:lnTo>
                      <a:pt x="1576" y="1627"/>
                    </a:lnTo>
                    <a:lnTo>
                      <a:pt x="1569" y="1635"/>
                    </a:lnTo>
                    <a:lnTo>
                      <a:pt x="1564" y="1644"/>
                    </a:lnTo>
                    <a:lnTo>
                      <a:pt x="1559" y="1653"/>
                    </a:lnTo>
                    <a:lnTo>
                      <a:pt x="1555" y="1663"/>
                    </a:lnTo>
                    <a:lnTo>
                      <a:pt x="1549" y="1671"/>
                    </a:lnTo>
                    <a:lnTo>
                      <a:pt x="1546" y="1672"/>
                    </a:lnTo>
                    <a:lnTo>
                      <a:pt x="1543" y="1671"/>
                    </a:lnTo>
                    <a:lnTo>
                      <a:pt x="1541" y="1669"/>
                    </a:lnTo>
                    <a:lnTo>
                      <a:pt x="1540" y="1667"/>
                    </a:lnTo>
                    <a:lnTo>
                      <a:pt x="1539" y="1664"/>
                    </a:lnTo>
                    <a:lnTo>
                      <a:pt x="1538" y="1661"/>
                    </a:lnTo>
                    <a:lnTo>
                      <a:pt x="1537" y="1658"/>
                    </a:lnTo>
                    <a:lnTo>
                      <a:pt x="1536" y="1655"/>
                    </a:lnTo>
                    <a:lnTo>
                      <a:pt x="1537" y="1652"/>
                    </a:lnTo>
                    <a:lnTo>
                      <a:pt x="1538" y="1649"/>
                    </a:lnTo>
                    <a:lnTo>
                      <a:pt x="1538" y="1645"/>
                    </a:lnTo>
                    <a:lnTo>
                      <a:pt x="1538" y="1641"/>
                    </a:lnTo>
                    <a:lnTo>
                      <a:pt x="1538" y="1637"/>
                    </a:lnTo>
                    <a:lnTo>
                      <a:pt x="1538" y="1634"/>
                    </a:lnTo>
                    <a:lnTo>
                      <a:pt x="1537" y="1631"/>
                    </a:lnTo>
                    <a:lnTo>
                      <a:pt x="1536" y="1628"/>
                    </a:lnTo>
                    <a:lnTo>
                      <a:pt x="1531" y="1632"/>
                    </a:lnTo>
                    <a:lnTo>
                      <a:pt x="1527" y="1636"/>
                    </a:lnTo>
                    <a:lnTo>
                      <a:pt x="1525" y="1641"/>
                    </a:lnTo>
                    <a:lnTo>
                      <a:pt x="1522" y="1647"/>
                    </a:lnTo>
                    <a:lnTo>
                      <a:pt x="1519" y="1652"/>
                    </a:lnTo>
                    <a:lnTo>
                      <a:pt x="1515" y="1656"/>
                    </a:lnTo>
                    <a:lnTo>
                      <a:pt x="1512" y="1659"/>
                    </a:lnTo>
                    <a:lnTo>
                      <a:pt x="1507" y="1662"/>
                    </a:lnTo>
                    <a:lnTo>
                      <a:pt x="1506" y="1655"/>
                    </a:lnTo>
                    <a:lnTo>
                      <a:pt x="1505" y="1648"/>
                    </a:lnTo>
                    <a:lnTo>
                      <a:pt x="1505" y="1640"/>
                    </a:lnTo>
                    <a:lnTo>
                      <a:pt x="1505" y="1633"/>
                    </a:lnTo>
                    <a:lnTo>
                      <a:pt x="1506" y="1625"/>
                    </a:lnTo>
                    <a:lnTo>
                      <a:pt x="1507" y="1617"/>
                    </a:lnTo>
                    <a:lnTo>
                      <a:pt x="1509" y="1610"/>
                    </a:lnTo>
                    <a:lnTo>
                      <a:pt x="1511" y="1603"/>
                    </a:lnTo>
                    <a:lnTo>
                      <a:pt x="1509" y="1601"/>
                    </a:lnTo>
                    <a:lnTo>
                      <a:pt x="1505" y="1606"/>
                    </a:lnTo>
                    <a:lnTo>
                      <a:pt x="1500" y="1610"/>
                    </a:lnTo>
                    <a:lnTo>
                      <a:pt x="1495" y="1615"/>
                    </a:lnTo>
                    <a:lnTo>
                      <a:pt x="1491" y="1620"/>
                    </a:lnTo>
                    <a:lnTo>
                      <a:pt x="1487" y="1626"/>
                    </a:lnTo>
                    <a:lnTo>
                      <a:pt x="1483" y="1631"/>
                    </a:lnTo>
                    <a:lnTo>
                      <a:pt x="1478" y="1636"/>
                    </a:lnTo>
                    <a:lnTo>
                      <a:pt x="1475" y="1641"/>
                    </a:lnTo>
                    <a:lnTo>
                      <a:pt x="1472" y="1640"/>
                    </a:lnTo>
                    <a:lnTo>
                      <a:pt x="1470" y="1638"/>
                    </a:lnTo>
                    <a:lnTo>
                      <a:pt x="1469" y="1636"/>
                    </a:lnTo>
                    <a:lnTo>
                      <a:pt x="1468" y="1634"/>
                    </a:lnTo>
                    <a:lnTo>
                      <a:pt x="1467" y="1629"/>
                    </a:lnTo>
                    <a:lnTo>
                      <a:pt x="1467" y="1624"/>
                    </a:lnTo>
                    <a:lnTo>
                      <a:pt x="1469" y="1617"/>
                    </a:lnTo>
                    <a:lnTo>
                      <a:pt x="1470" y="1611"/>
                    </a:lnTo>
                    <a:lnTo>
                      <a:pt x="1471" y="1604"/>
                    </a:lnTo>
                    <a:lnTo>
                      <a:pt x="1471" y="1599"/>
                    </a:lnTo>
                    <a:lnTo>
                      <a:pt x="1464" y="1602"/>
                    </a:lnTo>
                    <a:lnTo>
                      <a:pt x="1457" y="1608"/>
                    </a:lnTo>
                    <a:lnTo>
                      <a:pt x="1451" y="1613"/>
                    </a:lnTo>
                    <a:lnTo>
                      <a:pt x="1446" y="1619"/>
                    </a:lnTo>
                    <a:lnTo>
                      <a:pt x="1440" y="1627"/>
                    </a:lnTo>
                    <a:lnTo>
                      <a:pt x="1436" y="1634"/>
                    </a:lnTo>
                    <a:lnTo>
                      <a:pt x="1432" y="1641"/>
                    </a:lnTo>
                    <a:lnTo>
                      <a:pt x="1429" y="1650"/>
                    </a:lnTo>
                    <a:lnTo>
                      <a:pt x="1420" y="1655"/>
                    </a:lnTo>
                    <a:lnTo>
                      <a:pt x="1417" y="1653"/>
                    </a:lnTo>
                    <a:lnTo>
                      <a:pt x="1415" y="1650"/>
                    </a:lnTo>
                    <a:lnTo>
                      <a:pt x="1414" y="1647"/>
                    </a:lnTo>
                    <a:lnTo>
                      <a:pt x="1413" y="1644"/>
                    </a:lnTo>
                    <a:lnTo>
                      <a:pt x="1413" y="1637"/>
                    </a:lnTo>
                    <a:lnTo>
                      <a:pt x="1414" y="1630"/>
                    </a:lnTo>
                    <a:lnTo>
                      <a:pt x="1416" y="1622"/>
                    </a:lnTo>
                    <a:lnTo>
                      <a:pt x="1419" y="1616"/>
                    </a:lnTo>
                    <a:lnTo>
                      <a:pt x="1420" y="1610"/>
                    </a:lnTo>
                    <a:lnTo>
                      <a:pt x="1420" y="1603"/>
                    </a:lnTo>
                    <a:lnTo>
                      <a:pt x="1421" y="1602"/>
                    </a:lnTo>
                    <a:lnTo>
                      <a:pt x="1422" y="1601"/>
                    </a:lnTo>
                    <a:lnTo>
                      <a:pt x="1422" y="1601"/>
                    </a:lnTo>
                    <a:lnTo>
                      <a:pt x="1423" y="1600"/>
                    </a:lnTo>
                    <a:lnTo>
                      <a:pt x="1424" y="1600"/>
                    </a:lnTo>
                    <a:lnTo>
                      <a:pt x="1424" y="1599"/>
                    </a:lnTo>
                    <a:lnTo>
                      <a:pt x="1424" y="1598"/>
                    </a:lnTo>
                    <a:lnTo>
                      <a:pt x="1424" y="1597"/>
                    </a:lnTo>
                    <a:lnTo>
                      <a:pt x="1422" y="1595"/>
                    </a:lnTo>
                    <a:lnTo>
                      <a:pt x="1416" y="1600"/>
                    </a:lnTo>
                    <a:lnTo>
                      <a:pt x="1411" y="1606"/>
                    </a:lnTo>
                    <a:lnTo>
                      <a:pt x="1405" y="1613"/>
                    </a:lnTo>
                    <a:lnTo>
                      <a:pt x="1400" y="1619"/>
                    </a:lnTo>
                    <a:lnTo>
                      <a:pt x="1395" y="1627"/>
                    </a:lnTo>
                    <a:lnTo>
                      <a:pt x="1389" y="1632"/>
                    </a:lnTo>
                    <a:lnTo>
                      <a:pt x="1386" y="1634"/>
                    </a:lnTo>
                    <a:lnTo>
                      <a:pt x="1382" y="1636"/>
                    </a:lnTo>
                    <a:lnTo>
                      <a:pt x="1379" y="1638"/>
                    </a:lnTo>
                    <a:lnTo>
                      <a:pt x="1375" y="1639"/>
                    </a:lnTo>
                    <a:lnTo>
                      <a:pt x="1373" y="1636"/>
                    </a:lnTo>
                    <a:lnTo>
                      <a:pt x="1372" y="1632"/>
                    </a:lnTo>
                    <a:lnTo>
                      <a:pt x="1373" y="1628"/>
                    </a:lnTo>
                    <a:lnTo>
                      <a:pt x="1374" y="1624"/>
                    </a:lnTo>
                    <a:lnTo>
                      <a:pt x="1375" y="1619"/>
                    </a:lnTo>
                    <a:lnTo>
                      <a:pt x="1376" y="1615"/>
                    </a:lnTo>
                    <a:lnTo>
                      <a:pt x="1377" y="1611"/>
                    </a:lnTo>
                    <a:lnTo>
                      <a:pt x="1376" y="1608"/>
                    </a:lnTo>
                    <a:lnTo>
                      <a:pt x="1369" y="1611"/>
                    </a:lnTo>
                    <a:lnTo>
                      <a:pt x="1364" y="1615"/>
                    </a:lnTo>
                    <a:lnTo>
                      <a:pt x="1359" y="1620"/>
                    </a:lnTo>
                    <a:lnTo>
                      <a:pt x="1354" y="1626"/>
                    </a:lnTo>
                    <a:lnTo>
                      <a:pt x="1349" y="1631"/>
                    </a:lnTo>
                    <a:lnTo>
                      <a:pt x="1345" y="1637"/>
                    </a:lnTo>
                    <a:lnTo>
                      <a:pt x="1341" y="1643"/>
                    </a:lnTo>
                    <a:lnTo>
                      <a:pt x="1336" y="1647"/>
                    </a:lnTo>
                    <a:lnTo>
                      <a:pt x="1334" y="1648"/>
                    </a:lnTo>
                    <a:lnTo>
                      <a:pt x="1332" y="1648"/>
                    </a:lnTo>
                    <a:lnTo>
                      <a:pt x="1330" y="1648"/>
                    </a:lnTo>
                    <a:lnTo>
                      <a:pt x="1329" y="1647"/>
                    </a:lnTo>
                    <a:lnTo>
                      <a:pt x="1327" y="1647"/>
                    </a:lnTo>
                    <a:lnTo>
                      <a:pt x="1326" y="1646"/>
                    </a:lnTo>
                    <a:lnTo>
                      <a:pt x="1325" y="1645"/>
                    </a:lnTo>
                    <a:lnTo>
                      <a:pt x="1324" y="1644"/>
                    </a:lnTo>
                    <a:lnTo>
                      <a:pt x="1326" y="1638"/>
                    </a:lnTo>
                    <a:lnTo>
                      <a:pt x="1327" y="1634"/>
                    </a:lnTo>
                    <a:lnTo>
                      <a:pt x="1328" y="1629"/>
                    </a:lnTo>
                    <a:lnTo>
                      <a:pt x="1327" y="1625"/>
                    </a:lnTo>
                    <a:lnTo>
                      <a:pt x="1326" y="1620"/>
                    </a:lnTo>
                    <a:lnTo>
                      <a:pt x="1324" y="1617"/>
                    </a:lnTo>
                    <a:lnTo>
                      <a:pt x="1321" y="1614"/>
                    </a:lnTo>
                    <a:lnTo>
                      <a:pt x="1315" y="1611"/>
                    </a:lnTo>
                    <a:lnTo>
                      <a:pt x="1307" y="1617"/>
                    </a:lnTo>
                    <a:lnTo>
                      <a:pt x="1300" y="1626"/>
                    </a:lnTo>
                    <a:lnTo>
                      <a:pt x="1291" y="1633"/>
                    </a:lnTo>
                    <a:lnTo>
                      <a:pt x="1284" y="1643"/>
                    </a:lnTo>
                    <a:lnTo>
                      <a:pt x="1275" y="1651"/>
                    </a:lnTo>
                    <a:lnTo>
                      <a:pt x="1268" y="1659"/>
                    </a:lnTo>
                    <a:lnTo>
                      <a:pt x="1259" y="1667"/>
                    </a:lnTo>
                    <a:lnTo>
                      <a:pt x="1251" y="1673"/>
                    </a:lnTo>
                    <a:lnTo>
                      <a:pt x="1249" y="1671"/>
                    </a:lnTo>
                    <a:lnTo>
                      <a:pt x="1248" y="1669"/>
                    </a:lnTo>
                    <a:lnTo>
                      <a:pt x="1247" y="1667"/>
                    </a:lnTo>
                    <a:lnTo>
                      <a:pt x="1248" y="1664"/>
                    </a:lnTo>
                    <a:lnTo>
                      <a:pt x="1249" y="1662"/>
                    </a:lnTo>
                    <a:lnTo>
                      <a:pt x="1249" y="1658"/>
                    </a:lnTo>
                    <a:lnTo>
                      <a:pt x="1249" y="1656"/>
                    </a:lnTo>
                    <a:lnTo>
                      <a:pt x="1248" y="1653"/>
                    </a:lnTo>
                    <a:lnTo>
                      <a:pt x="1241" y="1657"/>
                    </a:lnTo>
                    <a:lnTo>
                      <a:pt x="1235" y="1663"/>
                    </a:lnTo>
                    <a:lnTo>
                      <a:pt x="1229" y="1668"/>
                    </a:lnTo>
                    <a:lnTo>
                      <a:pt x="1222" y="1674"/>
                    </a:lnTo>
                    <a:lnTo>
                      <a:pt x="1216" y="1681"/>
                    </a:lnTo>
                    <a:lnTo>
                      <a:pt x="1211" y="1687"/>
                    </a:lnTo>
                    <a:lnTo>
                      <a:pt x="1205" y="1693"/>
                    </a:lnTo>
                    <a:lnTo>
                      <a:pt x="1200" y="1700"/>
                    </a:lnTo>
                    <a:lnTo>
                      <a:pt x="1199" y="1698"/>
                    </a:lnTo>
                    <a:lnTo>
                      <a:pt x="1196" y="1700"/>
                    </a:lnTo>
                    <a:lnTo>
                      <a:pt x="1194" y="1701"/>
                    </a:lnTo>
                    <a:lnTo>
                      <a:pt x="1193" y="1703"/>
                    </a:lnTo>
                    <a:lnTo>
                      <a:pt x="1191" y="1706"/>
                    </a:lnTo>
                    <a:lnTo>
                      <a:pt x="1188" y="1711"/>
                    </a:lnTo>
                    <a:lnTo>
                      <a:pt x="1186" y="1718"/>
                    </a:lnTo>
                    <a:lnTo>
                      <a:pt x="1183" y="1723"/>
                    </a:lnTo>
                    <a:lnTo>
                      <a:pt x="1180" y="1726"/>
                    </a:lnTo>
                    <a:lnTo>
                      <a:pt x="1179" y="1726"/>
                    </a:lnTo>
                    <a:lnTo>
                      <a:pt x="1176" y="1727"/>
                    </a:lnTo>
                    <a:lnTo>
                      <a:pt x="1174" y="1726"/>
                    </a:lnTo>
                    <a:lnTo>
                      <a:pt x="1170" y="1724"/>
                    </a:lnTo>
                    <a:lnTo>
                      <a:pt x="1166" y="1730"/>
                    </a:lnTo>
                    <a:lnTo>
                      <a:pt x="1161" y="1737"/>
                    </a:lnTo>
                    <a:lnTo>
                      <a:pt x="1155" y="1742"/>
                    </a:lnTo>
                    <a:lnTo>
                      <a:pt x="1149" y="1748"/>
                    </a:lnTo>
                    <a:lnTo>
                      <a:pt x="1144" y="1755"/>
                    </a:lnTo>
                    <a:lnTo>
                      <a:pt x="1139" y="1761"/>
                    </a:lnTo>
                    <a:lnTo>
                      <a:pt x="1134" y="1768"/>
                    </a:lnTo>
                    <a:lnTo>
                      <a:pt x="1132" y="1777"/>
                    </a:lnTo>
                    <a:lnTo>
                      <a:pt x="1127" y="1777"/>
                    </a:lnTo>
                    <a:lnTo>
                      <a:pt x="1125" y="1776"/>
                    </a:lnTo>
                    <a:lnTo>
                      <a:pt x="1123" y="1774"/>
                    </a:lnTo>
                    <a:lnTo>
                      <a:pt x="1123" y="1771"/>
                    </a:lnTo>
                    <a:lnTo>
                      <a:pt x="1122" y="1767"/>
                    </a:lnTo>
                    <a:lnTo>
                      <a:pt x="1122" y="1764"/>
                    </a:lnTo>
                    <a:lnTo>
                      <a:pt x="1121" y="1761"/>
                    </a:lnTo>
                    <a:lnTo>
                      <a:pt x="1118" y="1759"/>
                    </a:lnTo>
                    <a:lnTo>
                      <a:pt x="1115" y="1764"/>
                    </a:lnTo>
                    <a:lnTo>
                      <a:pt x="1112" y="1769"/>
                    </a:lnTo>
                    <a:lnTo>
                      <a:pt x="1109" y="1776"/>
                    </a:lnTo>
                    <a:lnTo>
                      <a:pt x="1105" y="1781"/>
                    </a:lnTo>
                    <a:lnTo>
                      <a:pt x="1102" y="1786"/>
                    </a:lnTo>
                    <a:lnTo>
                      <a:pt x="1097" y="1792"/>
                    </a:lnTo>
                    <a:lnTo>
                      <a:pt x="1093" y="1797"/>
                    </a:lnTo>
                    <a:lnTo>
                      <a:pt x="1090" y="1802"/>
                    </a:lnTo>
                    <a:lnTo>
                      <a:pt x="1088" y="1803"/>
                    </a:lnTo>
                    <a:lnTo>
                      <a:pt x="1086" y="1803"/>
                    </a:lnTo>
                    <a:lnTo>
                      <a:pt x="1084" y="1802"/>
                    </a:lnTo>
                    <a:lnTo>
                      <a:pt x="1083" y="1802"/>
                    </a:lnTo>
                    <a:lnTo>
                      <a:pt x="1082" y="1799"/>
                    </a:lnTo>
                    <a:lnTo>
                      <a:pt x="1079" y="1796"/>
                    </a:lnTo>
                    <a:lnTo>
                      <a:pt x="1078" y="1794"/>
                    </a:lnTo>
                    <a:lnTo>
                      <a:pt x="1076" y="1792"/>
                    </a:lnTo>
                    <a:lnTo>
                      <a:pt x="1074" y="1792"/>
                    </a:lnTo>
                    <a:lnTo>
                      <a:pt x="1070" y="1795"/>
                    </a:lnTo>
                    <a:lnTo>
                      <a:pt x="1065" y="1797"/>
                    </a:lnTo>
                    <a:lnTo>
                      <a:pt x="1060" y="1800"/>
                    </a:lnTo>
                    <a:lnTo>
                      <a:pt x="1056" y="1804"/>
                    </a:lnTo>
                    <a:lnTo>
                      <a:pt x="1052" y="1808"/>
                    </a:lnTo>
                    <a:lnTo>
                      <a:pt x="1048" y="1811"/>
                    </a:lnTo>
                    <a:lnTo>
                      <a:pt x="1044" y="1814"/>
                    </a:lnTo>
                    <a:lnTo>
                      <a:pt x="1038" y="1817"/>
                    </a:lnTo>
                    <a:lnTo>
                      <a:pt x="1033" y="1819"/>
                    </a:lnTo>
                    <a:lnTo>
                      <a:pt x="1031" y="1816"/>
                    </a:lnTo>
                    <a:lnTo>
                      <a:pt x="1028" y="1815"/>
                    </a:lnTo>
                    <a:lnTo>
                      <a:pt x="1026" y="1814"/>
                    </a:lnTo>
                    <a:lnTo>
                      <a:pt x="1022" y="1814"/>
                    </a:lnTo>
                    <a:lnTo>
                      <a:pt x="1016" y="1815"/>
                    </a:lnTo>
                    <a:lnTo>
                      <a:pt x="1009" y="1817"/>
                    </a:lnTo>
                    <a:lnTo>
                      <a:pt x="1002" y="1819"/>
                    </a:lnTo>
                    <a:lnTo>
                      <a:pt x="995" y="1822"/>
                    </a:lnTo>
                    <a:lnTo>
                      <a:pt x="987" y="1823"/>
                    </a:lnTo>
                    <a:lnTo>
                      <a:pt x="981" y="1822"/>
                    </a:lnTo>
                    <a:lnTo>
                      <a:pt x="974" y="1826"/>
                    </a:lnTo>
                    <a:lnTo>
                      <a:pt x="966" y="1830"/>
                    </a:lnTo>
                    <a:lnTo>
                      <a:pt x="959" y="1835"/>
                    </a:lnTo>
                    <a:lnTo>
                      <a:pt x="951" y="1840"/>
                    </a:lnTo>
                    <a:lnTo>
                      <a:pt x="944" y="1845"/>
                    </a:lnTo>
                    <a:lnTo>
                      <a:pt x="938" y="1847"/>
                    </a:lnTo>
                    <a:lnTo>
                      <a:pt x="933" y="1847"/>
                    </a:lnTo>
                    <a:lnTo>
                      <a:pt x="930" y="1847"/>
                    </a:lnTo>
                    <a:lnTo>
                      <a:pt x="926" y="1846"/>
                    </a:lnTo>
                    <a:lnTo>
                      <a:pt x="922" y="1844"/>
                    </a:lnTo>
                    <a:lnTo>
                      <a:pt x="915" y="1848"/>
                    </a:lnTo>
                    <a:lnTo>
                      <a:pt x="908" y="1851"/>
                    </a:lnTo>
                    <a:lnTo>
                      <a:pt x="901" y="1853"/>
                    </a:lnTo>
                    <a:lnTo>
                      <a:pt x="892" y="1854"/>
                    </a:lnTo>
                    <a:lnTo>
                      <a:pt x="885" y="1856"/>
                    </a:lnTo>
                    <a:lnTo>
                      <a:pt x="877" y="1859"/>
                    </a:lnTo>
                    <a:lnTo>
                      <a:pt x="870" y="1863"/>
                    </a:lnTo>
                    <a:lnTo>
                      <a:pt x="864" y="1869"/>
                    </a:lnTo>
                    <a:lnTo>
                      <a:pt x="857" y="1872"/>
                    </a:lnTo>
                    <a:lnTo>
                      <a:pt x="851" y="1875"/>
                    </a:lnTo>
                    <a:lnTo>
                      <a:pt x="845" y="1879"/>
                    </a:lnTo>
                    <a:lnTo>
                      <a:pt x="838" y="1883"/>
                    </a:lnTo>
                    <a:lnTo>
                      <a:pt x="833" y="1887"/>
                    </a:lnTo>
                    <a:lnTo>
                      <a:pt x="826" y="1889"/>
                    </a:lnTo>
                    <a:lnTo>
                      <a:pt x="819" y="1891"/>
                    </a:lnTo>
                    <a:lnTo>
                      <a:pt x="812" y="1891"/>
                    </a:lnTo>
                    <a:lnTo>
                      <a:pt x="811" y="1884"/>
                    </a:lnTo>
                    <a:lnTo>
                      <a:pt x="811" y="1876"/>
                    </a:lnTo>
                    <a:lnTo>
                      <a:pt x="812" y="1869"/>
                    </a:lnTo>
                    <a:lnTo>
                      <a:pt x="813" y="1860"/>
                    </a:lnTo>
                    <a:lnTo>
                      <a:pt x="815" y="1853"/>
                    </a:lnTo>
                    <a:lnTo>
                      <a:pt x="816" y="1846"/>
                    </a:lnTo>
                    <a:lnTo>
                      <a:pt x="817" y="1838"/>
                    </a:lnTo>
                    <a:lnTo>
                      <a:pt x="817" y="1831"/>
                    </a:lnTo>
                    <a:lnTo>
                      <a:pt x="811" y="1835"/>
                    </a:lnTo>
                    <a:lnTo>
                      <a:pt x="803" y="1841"/>
                    </a:lnTo>
                    <a:lnTo>
                      <a:pt x="797" y="1847"/>
                    </a:lnTo>
                    <a:lnTo>
                      <a:pt x="791" y="1853"/>
                    </a:lnTo>
                    <a:lnTo>
                      <a:pt x="784" y="1857"/>
                    </a:lnTo>
                    <a:lnTo>
                      <a:pt x="777" y="1860"/>
                    </a:lnTo>
                    <a:lnTo>
                      <a:pt x="774" y="1861"/>
                    </a:lnTo>
                    <a:lnTo>
                      <a:pt x="769" y="1861"/>
                    </a:lnTo>
                    <a:lnTo>
                      <a:pt x="765" y="1860"/>
                    </a:lnTo>
                    <a:lnTo>
                      <a:pt x="761" y="1859"/>
                    </a:lnTo>
                    <a:lnTo>
                      <a:pt x="761" y="1856"/>
                    </a:lnTo>
                    <a:lnTo>
                      <a:pt x="762" y="1853"/>
                    </a:lnTo>
                    <a:lnTo>
                      <a:pt x="763" y="1850"/>
                    </a:lnTo>
                    <a:lnTo>
                      <a:pt x="764" y="1848"/>
                    </a:lnTo>
                    <a:lnTo>
                      <a:pt x="765" y="1845"/>
                    </a:lnTo>
                    <a:lnTo>
                      <a:pt x="766" y="1842"/>
                    </a:lnTo>
                    <a:lnTo>
                      <a:pt x="766" y="1839"/>
                    </a:lnTo>
                    <a:lnTo>
                      <a:pt x="765" y="1837"/>
                    </a:lnTo>
                    <a:lnTo>
                      <a:pt x="756" y="1840"/>
                    </a:lnTo>
                    <a:lnTo>
                      <a:pt x="746" y="1846"/>
                    </a:lnTo>
                    <a:lnTo>
                      <a:pt x="738" y="1852"/>
                    </a:lnTo>
                    <a:lnTo>
                      <a:pt x="728" y="1857"/>
                    </a:lnTo>
                    <a:lnTo>
                      <a:pt x="720" y="1864"/>
                    </a:lnTo>
                    <a:lnTo>
                      <a:pt x="710" y="1868"/>
                    </a:lnTo>
                    <a:lnTo>
                      <a:pt x="701" y="1871"/>
                    </a:lnTo>
                    <a:lnTo>
                      <a:pt x="690" y="1873"/>
                    </a:lnTo>
                    <a:lnTo>
                      <a:pt x="688" y="1870"/>
                    </a:lnTo>
                    <a:lnTo>
                      <a:pt x="686" y="1869"/>
                    </a:lnTo>
                    <a:lnTo>
                      <a:pt x="683" y="1868"/>
                    </a:lnTo>
                    <a:lnTo>
                      <a:pt x="678" y="1867"/>
                    </a:lnTo>
                    <a:lnTo>
                      <a:pt x="671" y="1868"/>
                    </a:lnTo>
                    <a:lnTo>
                      <a:pt x="663" y="1868"/>
                    </a:lnTo>
                    <a:lnTo>
                      <a:pt x="658" y="1869"/>
                    </a:lnTo>
                    <a:lnTo>
                      <a:pt x="655" y="1869"/>
                    </a:lnTo>
                    <a:lnTo>
                      <a:pt x="652" y="1868"/>
                    </a:lnTo>
                    <a:lnTo>
                      <a:pt x="650" y="1867"/>
                    </a:lnTo>
                    <a:lnTo>
                      <a:pt x="648" y="1865"/>
                    </a:lnTo>
                    <a:lnTo>
                      <a:pt x="647" y="1861"/>
                    </a:lnTo>
                    <a:lnTo>
                      <a:pt x="647" y="1857"/>
                    </a:lnTo>
                    <a:lnTo>
                      <a:pt x="648" y="1851"/>
                    </a:lnTo>
                    <a:lnTo>
                      <a:pt x="650" y="1849"/>
                    </a:lnTo>
                    <a:lnTo>
                      <a:pt x="644" y="1850"/>
                    </a:lnTo>
                    <a:lnTo>
                      <a:pt x="636" y="1852"/>
                    </a:lnTo>
                    <a:lnTo>
                      <a:pt x="629" y="1854"/>
                    </a:lnTo>
                    <a:lnTo>
                      <a:pt x="620" y="1856"/>
                    </a:lnTo>
                    <a:lnTo>
                      <a:pt x="613" y="1857"/>
                    </a:lnTo>
                    <a:lnTo>
                      <a:pt x="605" y="1857"/>
                    </a:lnTo>
                    <a:lnTo>
                      <a:pt x="597" y="1856"/>
                    </a:lnTo>
                    <a:lnTo>
                      <a:pt x="590" y="1853"/>
                    </a:lnTo>
                    <a:lnTo>
                      <a:pt x="584" y="1854"/>
                    </a:lnTo>
                    <a:lnTo>
                      <a:pt x="578" y="1855"/>
                    </a:lnTo>
                    <a:lnTo>
                      <a:pt x="571" y="1855"/>
                    </a:lnTo>
                    <a:lnTo>
                      <a:pt x="564" y="1856"/>
                    </a:lnTo>
                    <a:lnTo>
                      <a:pt x="557" y="1856"/>
                    </a:lnTo>
                    <a:lnTo>
                      <a:pt x="549" y="1856"/>
                    </a:lnTo>
                    <a:lnTo>
                      <a:pt x="543" y="1855"/>
                    </a:lnTo>
                    <a:lnTo>
                      <a:pt x="537" y="1853"/>
                    </a:lnTo>
                    <a:lnTo>
                      <a:pt x="541" y="1844"/>
                    </a:lnTo>
                    <a:lnTo>
                      <a:pt x="538" y="1842"/>
                    </a:lnTo>
                    <a:lnTo>
                      <a:pt x="534" y="1842"/>
                    </a:lnTo>
                    <a:lnTo>
                      <a:pt x="530" y="1844"/>
                    </a:lnTo>
                    <a:lnTo>
                      <a:pt x="526" y="1845"/>
                    </a:lnTo>
                    <a:lnTo>
                      <a:pt x="523" y="1845"/>
                    </a:lnTo>
                    <a:lnTo>
                      <a:pt x="519" y="1846"/>
                    </a:lnTo>
                    <a:lnTo>
                      <a:pt x="514" y="1845"/>
                    </a:lnTo>
                    <a:lnTo>
                      <a:pt x="511" y="1844"/>
                    </a:lnTo>
                    <a:lnTo>
                      <a:pt x="511" y="1835"/>
                    </a:lnTo>
                    <a:lnTo>
                      <a:pt x="514" y="1828"/>
                    </a:lnTo>
                    <a:lnTo>
                      <a:pt x="519" y="1820"/>
                    </a:lnTo>
                    <a:lnTo>
                      <a:pt x="523" y="1814"/>
                    </a:lnTo>
                    <a:lnTo>
                      <a:pt x="527" y="1808"/>
                    </a:lnTo>
                    <a:lnTo>
                      <a:pt x="531" y="1801"/>
                    </a:lnTo>
                    <a:lnTo>
                      <a:pt x="536" y="1794"/>
                    </a:lnTo>
                    <a:lnTo>
                      <a:pt x="537" y="1786"/>
                    </a:lnTo>
                    <a:lnTo>
                      <a:pt x="540" y="1784"/>
                    </a:lnTo>
                    <a:lnTo>
                      <a:pt x="542" y="1782"/>
                    </a:lnTo>
                    <a:lnTo>
                      <a:pt x="543" y="1780"/>
                    </a:lnTo>
                    <a:lnTo>
                      <a:pt x="545" y="1778"/>
                    </a:lnTo>
                    <a:lnTo>
                      <a:pt x="546" y="1776"/>
                    </a:lnTo>
                    <a:lnTo>
                      <a:pt x="548" y="1773"/>
                    </a:lnTo>
                    <a:lnTo>
                      <a:pt x="549" y="1771"/>
                    </a:lnTo>
                    <a:lnTo>
                      <a:pt x="551" y="1768"/>
                    </a:lnTo>
                    <a:lnTo>
                      <a:pt x="541" y="1764"/>
                    </a:lnTo>
                    <a:lnTo>
                      <a:pt x="545" y="1758"/>
                    </a:lnTo>
                    <a:lnTo>
                      <a:pt x="550" y="1754"/>
                    </a:lnTo>
                    <a:lnTo>
                      <a:pt x="557" y="1749"/>
                    </a:lnTo>
                    <a:lnTo>
                      <a:pt x="564" y="1745"/>
                    </a:lnTo>
                    <a:lnTo>
                      <a:pt x="571" y="1742"/>
                    </a:lnTo>
                    <a:lnTo>
                      <a:pt x="576" y="1738"/>
                    </a:lnTo>
                    <a:lnTo>
                      <a:pt x="578" y="1735"/>
                    </a:lnTo>
                    <a:lnTo>
                      <a:pt x="580" y="1731"/>
                    </a:lnTo>
                    <a:lnTo>
                      <a:pt x="582" y="1728"/>
                    </a:lnTo>
                    <a:lnTo>
                      <a:pt x="583" y="1724"/>
                    </a:lnTo>
                    <a:lnTo>
                      <a:pt x="587" y="1722"/>
                    </a:lnTo>
                    <a:lnTo>
                      <a:pt x="592" y="1720"/>
                    </a:lnTo>
                    <a:lnTo>
                      <a:pt x="596" y="1719"/>
                    </a:lnTo>
                    <a:lnTo>
                      <a:pt x="600" y="1717"/>
                    </a:lnTo>
                    <a:lnTo>
                      <a:pt x="604" y="1714"/>
                    </a:lnTo>
                    <a:lnTo>
                      <a:pt x="609" y="1712"/>
                    </a:lnTo>
                    <a:lnTo>
                      <a:pt x="612" y="1709"/>
                    </a:lnTo>
                    <a:lnTo>
                      <a:pt x="616" y="1706"/>
                    </a:lnTo>
                    <a:lnTo>
                      <a:pt x="622" y="1704"/>
                    </a:lnTo>
                    <a:lnTo>
                      <a:pt x="629" y="1702"/>
                    </a:lnTo>
                    <a:lnTo>
                      <a:pt x="636" y="1700"/>
                    </a:lnTo>
                    <a:lnTo>
                      <a:pt x="642" y="1696"/>
                    </a:lnTo>
                    <a:lnTo>
                      <a:pt x="649" y="1694"/>
                    </a:lnTo>
                    <a:lnTo>
                      <a:pt x="655" y="1692"/>
                    </a:lnTo>
                    <a:lnTo>
                      <a:pt x="662" y="1689"/>
                    </a:lnTo>
                    <a:lnTo>
                      <a:pt x="668" y="1686"/>
                    </a:lnTo>
                    <a:lnTo>
                      <a:pt x="667" y="1684"/>
                    </a:lnTo>
                    <a:lnTo>
                      <a:pt x="664" y="1683"/>
                    </a:lnTo>
                    <a:lnTo>
                      <a:pt x="662" y="1682"/>
                    </a:lnTo>
                    <a:lnTo>
                      <a:pt x="658" y="1681"/>
                    </a:lnTo>
                    <a:lnTo>
                      <a:pt x="655" y="1681"/>
                    </a:lnTo>
                    <a:lnTo>
                      <a:pt x="652" y="1679"/>
                    </a:lnTo>
                    <a:lnTo>
                      <a:pt x="651" y="1676"/>
                    </a:lnTo>
                    <a:lnTo>
                      <a:pt x="650" y="1673"/>
                    </a:lnTo>
                    <a:lnTo>
                      <a:pt x="681" y="1653"/>
                    </a:lnTo>
                    <a:lnTo>
                      <a:pt x="677" y="1651"/>
                    </a:lnTo>
                    <a:lnTo>
                      <a:pt x="675" y="1650"/>
                    </a:lnTo>
                    <a:lnTo>
                      <a:pt x="672" y="1648"/>
                    </a:lnTo>
                    <a:lnTo>
                      <a:pt x="669" y="1646"/>
                    </a:lnTo>
                    <a:lnTo>
                      <a:pt x="666" y="1645"/>
                    </a:lnTo>
                    <a:lnTo>
                      <a:pt x="663" y="1643"/>
                    </a:lnTo>
                    <a:lnTo>
                      <a:pt x="659" y="1641"/>
                    </a:lnTo>
                    <a:lnTo>
                      <a:pt x="656" y="1639"/>
                    </a:lnTo>
                    <a:lnTo>
                      <a:pt x="666" y="1627"/>
                    </a:lnTo>
                    <a:lnTo>
                      <a:pt x="676" y="1615"/>
                    </a:lnTo>
                    <a:lnTo>
                      <a:pt x="688" y="1603"/>
                    </a:lnTo>
                    <a:lnTo>
                      <a:pt x="699" y="1593"/>
                    </a:lnTo>
                    <a:lnTo>
                      <a:pt x="710" y="1582"/>
                    </a:lnTo>
                    <a:lnTo>
                      <a:pt x="722" y="1572"/>
                    </a:lnTo>
                    <a:lnTo>
                      <a:pt x="733" y="1561"/>
                    </a:lnTo>
                    <a:lnTo>
                      <a:pt x="745" y="1551"/>
                    </a:lnTo>
                    <a:lnTo>
                      <a:pt x="742" y="1551"/>
                    </a:lnTo>
                    <a:lnTo>
                      <a:pt x="739" y="1551"/>
                    </a:lnTo>
                    <a:lnTo>
                      <a:pt x="736" y="1551"/>
                    </a:lnTo>
                    <a:lnTo>
                      <a:pt x="731" y="1551"/>
                    </a:lnTo>
                    <a:lnTo>
                      <a:pt x="728" y="1549"/>
                    </a:lnTo>
                    <a:lnTo>
                      <a:pt x="726" y="1547"/>
                    </a:lnTo>
                    <a:lnTo>
                      <a:pt x="724" y="1544"/>
                    </a:lnTo>
                    <a:lnTo>
                      <a:pt x="724" y="1541"/>
                    </a:lnTo>
                    <a:lnTo>
                      <a:pt x="723" y="1541"/>
                    </a:lnTo>
                    <a:lnTo>
                      <a:pt x="721" y="1542"/>
                    </a:lnTo>
                    <a:lnTo>
                      <a:pt x="720" y="1543"/>
                    </a:lnTo>
                    <a:lnTo>
                      <a:pt x="718" y="1544"/>
                    </a:lnTo>
                    <a:lnTo>
                      <a:pt x="717" y="1544"/>
                    </a:lnTo>
                    <a:lnTo>
                      <a:pt x="714" y="1545"/>
                    </a:lnTo>
                    <a:lnTo>
                      <a:pt x="712" y="1545"/>
                    </a:lnTo>
                    <a:lnTo>
                      <a:pt x="710" y="1544"/>
                    </a:lnTo>
                    <a:lnTo>
                      <a:pt x="710" y="1538"/>
                    </a:lnTo>
                    <a:lnTo>
                      <a:pt x="712" y="1531"/>
                    </a:lnTo>
                    <a:lnTo>
                      <a:pt x="715" y="1526"/>
                    </a:lnTo>
                    <a:lnTo>
                      <a:pt x="719" y="1520"/>
                    </a:lnTo>
                    <a:lnTo>
                      <a:pt x="723" y="1514"/>
                    </a:lnTo>
                    <a:lnTo>
                      <a:pt x="727" y="1508"/>
                    </a:lnTo>
                    <a:lnTo>
                      <a:pt x="731" y="1502"/>
                    </a:lnTo>
                    <a:lnTo>
                      <a:pt x="735" y="1496"/>
                    </a:lnTo>
                    <a:lnTo>
                      <a:pt x="727" y="1490"/>
                    </a:lnTo>
                    <a:lnTo>
                      <a:pt x="730" y="1483"/>
                    </a:lnTo>
                    <a:lnTo>
                      <a:pt x="733" y="1475"/>
                    </a:lnTo>
                    <a:lnTo>
                      <a:pt x="738" y="1468"/>
                    </a:lnTo>
                    <a:lnTo>
                      <a:pt x="742" y="1461"/>
                    </a:lnTo>
                    <a:lnTo>
                      <a:pt x="745" y="1453"/>
                    </a:lnTo>
                    <a:lnTo>
                      <a:pt x="749" y="1446"/>
                    </a:lnTo>
                    <a:lnTo>
                      <a:pt x="751" y="1438"/>
                    </a:lnTo>
                    <a:lnTo>
                      <a:pt x="753" y="1430"/>
                    </a:lnTo>
                    <a:lnTo>
                      <a:pt x="743" y="1424"/>
                    </a:lnTo>
                    <a:lnTo>
                      <a:pt x="745" y="1416"/>
                    </a:lnTo>
                    <a:lnTo>
                      <a:pt x="748" y="1410"/>
                    </a:lnTo>
                    <a:lnTo>
                      <a:pt x="753" y="1402"/>
                    </a:lnTo>
                    <a:lnTo>
                      <a:pt x="756" y="1396"/>
                    </a:lnTo>
                    <a:lnTo>
                      <a:pt x="758" y="1389"/>
                    </a:lnTo>
                    <a:lnTo>
                      <a:pt x="760" y="1381"/>
                    </a:lnTo>
                    <a:lnTo>
                      <a:pt x="761" y="1374"/>
                    </a:lnTo>
                    <a:lnTo>
                      <a:pt x="761" y="1365"/>
                    </a:lnTo>
                    <a:lnTo>
                      <a:pt x="759" y="1364"/>
                    </a:lnTo>
                    <a:lnTo>
                      <a:pt x="757" y="1365"/>
                    </a:lnTo>
                    <a:lnTo>
                      <a:pt x="754" y="1365"/>
                    </a:lnTo>
                    <a:lnTo>
                      <a:pt x="751" y="1365"/>
                    </a:lnTo>
                    <a:lnTo>
                      <a:pt x="748" y="1365"/>
                    </a:lnTo>
                    <a:lnTo>
                      <a:pt x="746" y="1365"/>
                    </a:lnTo>
                    <a:lnTo>
                      <a:pt x="743" y="1364"/>
                    </a:lnTo>
                    <a:lnTo>
                      <a:pt x="741" y="1363"/>
                    </a:lnTo>
                    <a:lnTo>
                      <a:pt x="741" y="1355"/>
                    </a:lnTo>
                    <a:lnTo>
                      <a:pt x="741" y="1346"/>
                    </a:lnTo>
                    <a:lnTo>
                      <a:pt x="739" y="1338"/>
                    </a:lnTo>
                    <a:lnTo>
                      <a:pt x="738" y="1331"/>
                    </a:lnTo>
                    <a:lnTo>
                      <a:pt x="733" y="1316"/>
                    </a:lnTo>
                    <a:lnTo>
                      <a:pt x="727" y="1301"/>
                    </a:lnTo>
                    <a:lnTo>
                      <a:pt x="721" y="1286"/>
                    </a:lnTo>
                    <a:lnTo>
                      <a:pt x="714" y="1271"/>
                    </a:lnTo>
                    <a:lnTo>
                      <a:pt x="708" y="1257"/>
                    </a:lnTo>
                    <a:lnTo>
                      <a:pt x="703" y="1242"/>
                    </a:lnTo>
                    <a:lnTo>
                      <a:pt x="699" y="1240"/>
                    </a:lnTo>
                    <a:lnTo>
                      <a:pt x="695" y="1236"/>
                    </a:lnTo>
                    <a:lnTo>
                      <a:pt x="693" y="1233"/>
                    </a:lnTo>
                    <a:lnTo>
                      <a:pt x="692" y="1229"/>
                    </a:lnTo>
                    <a:lnTo>
                      <a:pt x="690" y="1222"/>
                    </a:lnTo>
                    <a:lnTo>
                      <a:pt x="689" y="1213"/>
                    </a:lnTo>
                    <a:lnTo>
                      <a:pt x="688" y="1205"/>
                    </a:lnTo>
                    <a:lnTo>
                      <a:pt x="687" y="1197"/>
                    </a:lnTo>
                    <a:lnTo>
                      <a:pt x="686" y="1193"/>
                    </a:lnTo>
                    <a:lnTo>
                      <a:pt x="685" y="1190"/>
                    </a:lnTo>
                    <a:lnTo>
                      <a:pt x="683" y="1187"/>
                    </a:lnTo>
                    <a:lnTo>
                      <a:pt x="681" y="1184"/>
                    </a:lnTo>
                    <a:lnTo>
                      <a:pt x="678" y="1178"/>
                    </a:lnTo>
                    <a:lnTo>
                      <a:pt x="676" y="1173"/>
                    </a:lnTo>
                    <a:lnTo>
                      <a:pt x="675" y="1168"/>
                    </a:lnTo>
                    <a:lnTo>
                      <a:pt x="674" y="1162"/>
                    </a:lnTo>
                    <a:lnTo>
                      <a:pt x="674" y="1152"/>
                    </a:lnTo>
                    <a:lnTo>
                      <a:pt x="675" y="1141"/>
                    </a:lnTo>
                    <a:lnTo>
                      <a:pt x="676" y="1131"/>
                    </a:lnTo>
                    <a:lnTo>
                      <a:pt x="676" y="1120"/>
                    </a:lnTo>
                    <a:lnTo>
                      <a:pt x="675" y="1109"/>
                    </a:lnTo>
                    <a:lnTo>
                      <a:pt x="672" y="1099"/>
                    </a:lnTo>
                    <a:lnTo>
                      <a:pt x="672" y="1094"/>
                    </a:lnTo>
                    <a:lnTo>
                      <a:pt x="672" y="1087"/>
                    </a:lnTo>
                    <a:lnTo>
                      <a:pt x="673" y="1081"/>
                    </a:lnTo>
                    <a:lnTo>
                      <a:pt x="675" y="1076"/>
                    </a:lnTo>
                    <a:lnTo>
                      <a:pt x="680" y="1064"/>
                    </a:lnTo>
                    <a:lnTo>
                      <a:pt x="685" y="1052"/>
                    </a:lnTo>
                    <a:lnTo>
                      <a:pt x="687" y="1047"/>
                    </a:lnTo>
                    <a:lnTo>
                      <a:pt x="688" y="1042"/>
                    </a:lnTo>
                    <a:lnTo>
                      <a:pt x="688" y="1037"/>
                    </a:lnTo>
                    <a:lnTo>
                      <a:pt x="688" y="1031"/>
                    </a:lnTo>
                    <a:lnTo>
                      <a:pt x="687" y="1026"/>
                    </a:lnTo>
                    <a:lnTo>
                      <a:pt x="684" y="1021"/>
                    </a:lnTo>
                    <a:lnTo>
                      <a:pt x="680" y="1016"/>
                    </a:lnTo>
                    <a:lnTo>
                      <a:pt x="674" y="1012"/>
                    </a:lnTo>
                    <a:lnTo>
                      <a:pt x="673" y="1007"/>
                    </a:lnTo>
                    <a:lnTo>
                      <a:pt x="674" y="1002"/>
                    </a:lnTo>
                    <a:lnTo>
                      <a:pt x="675" y="996"/>
                    </a:lnTo>
                    <a:lnTo>
                      <a:pt x="676" y="990"/>
                    </a:lnTo>
                    <a:lnTo>
                      <a:pt x="676" y="985"/>
                    </a:lnTo>
                    <a:lnTo>
                      <a:pt x="675" y="979"/>
                    </a:lnTo>
                    <a:lnTo>
                      <a:pt x="674" y="977"/>
                    </a:lnTo>
                    <a:lnTo>
                      <a:pt x="673" y="975"/>
                    </a:lnTo>
                    <a:lnTo>
                      <a:pt x="671" y="973"/>
                    </a:lnTo>
                    <a:lnTo>
                      <a:pt x="668" y="972"/>
                    </a:lnTo>
                    <a:lnTo>
                      <a:pt x="667" y="970"/>
                    </a:lnTo>
                    <a:lnTo>
                      <a:pt x="666" y="968"/>
                    </a:lnTo>
                    <a:lnTo>
                      <a:pt x="666" y="965"/>
                    </a:lnTo>
                    <a:lnTo>
                      <a:pt x="666" y="961"/>
                    </a:lnTo>
                    <a:lnTo>
                      <a:pt x="666" y="958"/>
                    </a:lnTo>
                    <a:lnTo>
                      <a:pt x="666" y="955"/>
                    </a:lnTo>
                    <a:lnTo>
                      <a:pt x="665" y="953"/>
                    </a:lnTo>
                    <a:lnTo>
                      <a:pt x="663" y="952"/>
                    </a:lnTo>
                    <a:lnTo>
                      <a:pt x="660" y="946"/>
                    </a:lnTo>
                    <a:lnTo>
                      <a:pt x="662" y="939"/>
                    </a:lnTo>
                    <a:lnTo>
                      <a:pt x="664" y="933"/>
                    </a:lnTo>
                    <a:lnTo>
                      <a:pt x="666" y="928"/>
                    </a:lnTo>
                    <a:lnTo>
                      <a:pt x="668" y="921"/>
                    </a:lnTo>
                    <a:lnTo>
                      <a:pt x="669" y="915"/>
                    </a:lnTo>
                    <a:lnTo>
                      <a:pt x="669" y="913"/>
                    </a:lnTo>
                    <a:lnTo>
                      <a:pt x="669" y="910"/>
                    </a:lnTo>
                    <a:lnTo>
                      <a:pt x="668" y="906"/>
                    </a:lnTo>
                    <a:lnTo>
                      <a:pt x="666" y="903"/>
                    </a:lnTo>
                    <a:lnTo>
                      <a:pt x="664" y="903"/>
                    </a:lnTo>
                    <a:lnTo>
                      <a:pt x="665" y="895"/>
                    </a:lnTo>
                    <a:lnTo>
                      <a:pt x="666" y="886"/>
                    </a:lnTo>
                    <a:lnTo>
                      <a:pt x="668" y="878"/>
                    </a:lnTo>
                    <a:lnTo>
                      <a:pt x="670" y="868"/>
                    </a:lnTo>
                    <a:lnTo>
                      <a:pt x="672" y="860"/>
                    </a:lnTo>
                    <a:lnTo>
                      <a:pt x="673" y="851"/>
                    </a:lnTo>
                    <a:lnTo>
                      <a:pt x="673" y="843"/>
                    </a:lnTo>
                    <a:lnTo>
                      <a:pt x="672" y="834"/>
                    </a:lnTo>
                    <a:lnTo>
                      <a:pt x="664" y="834"/>
                    </a:lnTo>
                    <a:lnTo>
                      <a:pt x="665" y="826"/>
                    </a:lnTo>
                    <a:lnTo>
                      <a:pt x="665" y="818"/>
                    </a:lnTo>
                    <a:lnTo>
                      <a:pt x="666" y="810"/>
                    </a:lnTo>
                    <a:lnTo>
                      <a:pt x="667" y="802"/>
                    </a:lnTo>
                    <a:lnTo>
                      <a:pt x="669" y="794"/>
                    </a:lnTo>
                    <a:lnTo>
                      <a:pt x="670" y="786"/>
                    </a:lnTo>
                    <a:lnTo>
                      <a:pt x="671" y="777"/>
                    </a:lnTo>
                    <a:lnTo>
                      <a:pt x="672" y="768"/>
                    </a:lnTo>
                    <a:lnTo>
                      <a:pt x="663" y="763"/>
                    </a:lnTo>
                    <a:lnTo>
                      <a:pt x="662" y="748"/>
                    </a:lnTo>
                    <a:lnTo>
                      <a:pt x="660" y="733"/>
                    </a:lnTo>
                    <a:lnTo>
                      <a:pt x="659" y="717"/>
                    </a:lnTo>
                    <a:lnTo>
                      <a:pt x="656" y="701"/>
                    </a:lnTo>
                    <a:lnTo>
                      <a:pt x="654" y="694"/>
                    </a:lnTo>
                    <a:lnTo>
                      <a:pt x="652" y="686"/>
                    </a:lnTo>
                    <a:lnTo>
                      <a:pt x="649" y="679"/>
                    </a:lnTo>
                    <a:lnTo>
                      <a:pt x="645" y="673"/>
                    </a:lnTo>
                    <a:lnTo>
                      <a:pt x="640" y="666"/>
                    </a:lnTo>
                    <a:lnTo>
                      <a:pt x="635" y="661"/>
                    </a:lnTo>
                    <a:lnTo>
                      <a:pt x="629" y="656"/>
                    </a:lnTo>
                    <a:lnTo>
                      <a:pt x="621" y="652"/>
                    </a:lnTo>
                    <a:lnTo>
                      <a:pt x="610" y="649"/>
                    </a:lnTo>
                    <a:lnTo>
                      <a:pt x="598" y="647"/>
                    </a:lnTo>
                    <a:lnTo>
                      <a:pt x="585" y="647"/>
                    </a:lnTo>
                    <a:lnTo>
                      <a:pt x="574" y="647"/>
                    </a:lnTo>
                    <a:lnTo>
                      <a:pt x="562" y="647"/>
                    </a:lnTo>
                    <a:lnTo>
                      <a:pt x="550" y="649"/>
                    </a:lnTo>
                    <a:lnTo>
                      <a:pt x="539" y="652"/>
                    </a:lnTo>
                    <a:lnTo>
                      <a:pt x="527" y="655"/>
                    </a:lnTo>
                    <a:lnTo>
                      <a:pt x="517" y="658"/>
                    </a:lnTo>
                    <a:lnTo>
                      <a:pt x="505" y="662"/>
                    </a:lnTo>
                    <a:lnTo>
                      <a:pt x="494" y="667"/>
                    </a:lnTo>
                    <a:lnTo>
                      <a:pt x="484" y="673"/>
                    </a:lnTo>
                    <a:lnTo>
                      <a:pt x="464" y="684"/>
                    </a:lnTo>
                    <a:lnTo>
                      <a:pt x="445" y="698"/>
                    </a:lnTo>
                    <a:lnTo>
                      <a:pt x="431" y="708"/>
                    </a:lnTo>
                    <a:lnTo>
                      <a:pt x="417" y="717"/>
                    </a:lnTo>
                    <a:lnTo>
                      <a:pt x="403" y="728"/>
                    </a:lnTo>
                    <a:lnTo>
                      <a:pt x="390" y="738"/>
                    </a:lnTo>
                    <a:lnTo>
                      <a:pt x="377" y="750"/>
                    </a:lnTo>
                    <a:lnTo>
                      <a:pt x="364" y="762"/>
                    </a:lnTo>
                    <a:lnTo>
                      <a:pt x="355" y="774"/>
                    </a:lnTo>
                    <a:lnTo>
                      <a:pt x="345" y="789"/>
                    </a:lnTo>
                    <a:lnTo>
                      <a:pt x="339" y="792"/>
                    </a:lnTo>
                    <a:lnTo>
                      <a:pt x="332" y="796"/>
                    </a:lnTo>
                    <a:lnTo>
                      <a:pt x="327" y="802"/>
                    </a:lnTo>
                    <a:lnTo>
                      <a:pt x="322" y="807"/>
                    </a:lnTo>
                    <a:lnTo>
                      <a:pt x="312" y="818"/>
                    </a:lnTo>
                    <a:lnTo>
                      <a:pt x="304" y="830"/>
                    </a:lnTo>
                    <a:lnTo>
                      <a:pt x="296" y="842"/>
                    </a:lnTo>
                    <a:lnTo>
                      <a:pt x="288" y="855"/>
                    </a:lnTo>
                    <a:lnTo>
                      <a:pt x="279" y="865"/>
                    </a:lnTo>
                    <a:lnTo>
                      <a:pt x="269" y="875"/>
                    </a:lnTo>
                    <a:lnTo>
                      <a:pt x="265" y="882"/>
                    </a:lnTo>
                    <a:lnTo>
                      <a:pt x="259" y="888"/>
                    </a:lnTo>
                    <a:lnTo>
                      <a:pt x="255" y="896"/>
                    </a:lnTo>
                    <a:lnTo>
                      <a:pt x="251" y="902"/>
                    </a:lnTo>
                    <a:lnTo>
                      <a:pt x="247" y="909"/>
                    </a:lnTo>
                    <a:lnTo>
                      <a:pt x="243" y="916"/>
                    </a:lnTo>
                    <a:lnTo>
                      <a:pt x="237" y="921"/>
                    </a:lnTo>
                    <a:lnTo>
                      <a:pt x="233" y="928"/>
                    </a:lnTo>
                    <a:lnTo>
                      <a:pt x="222" y="923"/>
                    </a:lnTo>
                    <a:lnTo>
                      <a:pt x="194" y="976"/>
                    </a:lnTo>
                    <a:lnTo>
                      <a:pt x="190" y="976"/>
                    </a:lnTo>
                    <a:lnTo>
                      <a:pt x="186" y="975"/>
                    </a:lnTo>
                    <a:lnTo>
                      <a:pt x="185" y="973"/>
                    </a:lnTo>
                    <a:lnTo>
                      <a:pt x="184" y="970"/>
                    </a:lnTo>
                    <a:lnTo>
                      <a:pt x="184" y="968"/>
                    </a:lnTo>
                    <a:lnTo>
                      <a:pt x="184" y="965"/>
                    </a:lnTo>
                    <a:lnTo>
                      <a:pt x="183" y="961"/>
                    </a:lnTo>
                    <a:lnTo>
                      <a:pt x="182" y="958"/>
                    </a:lnTo>
                    <a:lnTo>
                      <a:pt x="176" y="965"/>
                    </a:lnTo>
                    <a:lnTo>
                      <a:pt x="172" y="972"/>
                    </a:lnTo>
                    <a:lnTo>
                      <a:pt x="167" y="980"/>
                    </a:lnTo>
                    <a:lnTo>
                      <a:pt x="164" y="988"/>
                    </a:lnTo>
                    <a:lnTo>
                      <a:pt x="161" y="996"/>
                    </a:lnTo>
                    <a:lnTo>
                      <a:pt x="158" y="1005"/>
                    </a:lnTo>
                    <a:lnTo>
                      <a:pt x="155" y="1012"/>
                    </a:lnTo>
                    <a:lnTo>
                      <a:pt x="152" y="1021"/>
                    </a:lnTo>
                    <a:lnTo>
                      <a:pt x="149" y="1022"/>
                    </a:lnTo>
                    <a:lnTo>
                      <a:pt x="148" y="1023"/>
                    </a:lnTo>
                    <a:lnTo>
                      <a:pt x="146" y="1023"/>
                    </a:lnTo>
                    <a:lnTo>
                      <a:pt x="144" y="1022"/>
                    </a:lnTo>
                    <a:lnTo>
                      <a:pt x="142" y="1021"/>
                    </a:lnTo>
                    <a:lnTo>
                      <a:pt x="141" y="1019"/>
                    </a:lnTo>
                    <a:lnTo>
                      <a:pt x="140" y="1016"/>
                    </a:lnTo>
                    <a:lnTo>
                      <a:pt x="140" y="1014"/>
                    </a:lnTo>
                    <a:lnTo>
                      <a:pt x="140" y="1013"/>
                    </a:lnTo>
                    <a:lnTo>
                      <a:pt x="140" y="1012"/>
                    </a:lnTo>
                    <a:lnTo>
                      <a:pt x="140" y="1012"/>
                    </a:lnTo>
                    <a:lnTo>
                      <a:pt x="140" y="1011"/>
                    </a:lnTo>
                    <a:lnTo>
                      <a:pt x="140" y="1010"/>
                    </a:lnTo>
                    <a:lnTo>
                      <a:pt x="139" y="1009"/>
                    </a:lnTo>
                    <a:lnTo>
                      <a:pt x="139" y="1009"/>
                    </a:lnTo>
                    <a:lnTo>
                      <a:pt x="138" y="1008"/>
                    </a:lnTo>
                    <a:lnTo>
                      <a:pt x="120" y="1052"/>
                    </a:lnTo>
                    <a:lnTo>
                      <a:pt x="116" y="1053"/>
                    </a:lnTo>
                    <a:lnTo>
                      <a:pt x="112" y="1052"/>
                    </a:lnTo>
                    <a:lnTo>
                      <a:pt x="110" y="1050"/>
                    </a:lnTo>
                    <a:lnTo>
                      <a:pt x="109" y="1047"/>
                    </a:lnTo>
                    <a:lnTo>
                      <a:pt x="109" y="1043"/>
                    </a:lnTo>
                    <a:lnTo>
                      <a:pt x="108" y="1040"/>
                    </a:lnTo>
                    <a:lnTo>
                      <a:pt x="108" y="1035"/>
                    </a:lnTo>
                    <a:lnTo>
                      <a:pt x="107" y="1032"/>
                    </a:lnTo>
                    <a:lnTo>
                      <a:pt x="108" y="1028"/>
                    </a:lnTo>
                    <a:lnTo>
                      <a:pt x="108" y="1025"/>
                    </a:lnTo>
                    <a:lnTo>
                      <a:pt x="109" y="1022"/>
                    </a:lnTo>
                    <a:lnTo>
                      <a:pt x="109" y="1019"/>
                    </a:lnTo>
                    <a:lnTo>
                      <a:pt x="109" y="1015"/>
                    </a:lnTo>
                    <a:lnTo>
                      <a:pt x="109" y="1011"/>
                    </a:lnTo>
                    <a:lnTo>
                      <a:pt x="108" y="1008"/>
                    </a:lnTo>
                    <a:lnTo>
                      <a:pt x="107" y="1004"/>
                    </a:lnTo>
                    <a:lnTo>
                      <a:pt x="105" y="1007"/>
                    </a:lnTo>
                    <a:lnTo>
                      <a:pt x="104" y="1010"/>
                    </a:lnTo>
                    <a:lnTo>
                      <a:pt x="103" y="1014"/>
                    </a:lnTo>
                    <a:lnTo>
                      <a:pt x="102" y="1019"/>
                    </a:lnTo>
                    <a:lnTo>
                      <a:pt x="101" y="1022"/>
                    </a:lnTo>
                    <a:lnTo>
                      <a:pt x="100" y="1024"/>
                    </a:lnTo>
                    <a:lnTo>
                      <a:pt x="97" y="1025"/>
                    </a:lnTo>
                    <a:lnTo>
                      <a:pt x="91" y="1023"/>
                    </a:lnTo>
                    <a:lnTo>
                      <a:pt x="89" y="1020"/>
                    </a:lnTo>
                    <a:lnTo>
                      <a:pt x="88" y="1016"/>
                    </a:lnTo>
                    <a:lnTo>
                      <a:pt x="87" y="1013"/>
                    </a:lnTo>
                    <a:lnTo>
                      <a:pt x="86" y="1010"/>
                    </a:lnTo>
                    <a:lnTo>
                      <a:pt x="86" y="1007"/>
                    </a:lnTo>
                    <a:lnTo>
                      <a:pt x="85" y="1004"/>
                    </a:lnTo>
                    <a:lnTo>
                      <a:pt x="83" y="1001"/>
                    </a:lnTo>
                    <a:lnTo>
                      <a:pt x="81" y="998"/>
                    </a:lnTo>
                    <a:lnTo>
                      <a:pt x="79" y="1003"/>
                    </a:lnTo>
                    <a:lnTo>
                      <a:pt x="76" y="1008"/>
                    </a:lnTo>
                    <a:lnTo>
                      <a:pt x="75" y="1012"/>
                    </a:lnTo>
                    <a:lnTo>
                      <a:pt x="74" y="1017"/>
                    </a:lnTo>
                    <a:lnTo>
                      <a:pt x="74" y="1022"/>
                    </a:lnTo>
                    <a:lnTo>
                      <a:pt x="74" y="1027"/>
                    </a:lnTo>
                    <a:lnTo>
                      <a:pt x="73" y="1032"/>
                    </a:lnTo>
                    <a:lnTo>
                      <a:pt x="73" y="1039"/>
                    </a:lnTo>
                    <a:lnTo>
                      <a:pt x="70" y="1041"/>
                    </a:lnTo>
                    <a:lnTo>
                      <a:pt x="67" y="1041"/>
                    </a:lnTo>
                    <a:lnTo>
                      <a:pt x="65" y="1040"/>
                    </a:lnTo>
                    <a:lnTo>
                      <a:pt x="63" y="1039"/>
                    </a:lnTo>
                    <a:lnTo>
                      <a:pt x="62" y="1035"/>
                    </a:lnTo>
                    <a:lnTo>
                      <a:pt x="59" y="1033"/>
                    </a:lnTo>
                    <a:lnTo>
                      <a:pt x="58" y="1030"/>
                    </a:lnTo>
                    <a:lnTo>
                      <a:pt x="57" y="1028"/>
                    </a:lnTo>
                    <a:lnTo>
                      <a:pt x="54" y="1017"/>
                    </a:lnTo>
                    <a:lnTo>
                      <a:pt x="51" y="1006"/>
                    </a:lnTo>
                    <a:lnTo>
                      <a:pt x="48" y="994"/>
                    </a:lnTo>
                    <a:lnTo>
                      <a:pt x="45" y="983"/>
                    </a:lnTo>
                    <a:lnTo>
                      <a:pt x="41" y="971"/>
                    </a:lnTo>
                    <a:lnTo>
                      <a:pt x="39" y="959"/>
                    </a:lnTo>
                    <a:lnTo>
                      <a:pt x="36" y="948"/>
                    </a:lnTo>
                    <a:lnTo>
                      <a:pt x="35" y="935"/>
                    </a:lnTo>
                    <a:lnTo>
                      <a:pt x="31" y="937"/>
                    </a:lnTo>
                    <a:lnTo>
                      <a:pt x="29" y="939"/>
                    </a:lnTo>
                    <a:lnTo>
                      <a:pt x="29" y="942"/>
                    </a:lnTo>
                    <a:lnTo>
                      <a:pt x="29" y="947"/>
                    </a:lnTo>
                    <a:lnTo>
                      <a:pt x="29" y="951"/>
                    </a:lnTo>
                    <a:lnTo>
                      <a:pt x="29" y="954"/>
                    </a:lnTo>
                    <a:lnTo>
                      <a:pt x="28" y="957"/>
                    </a:lnTo>
                    <a:lnTo>
                      <a:pt x="25" y="959"/>
                    </a:lnTo>
                    <a:lnTo>
                      <a:pt x="21" y="953"/>
                    </a:lnTo>
                    <a:lnTo>
                      <a:pt x="19" y="944"/>
                    </a:lnTo>
                    <a:lnTo>
                      <a:pt x="18" y="937"/>
                    </a:lnTo>
                    <a:lnTo>
                      <a:pt x="18" y="929"/>
                    </a:lnTo>
                    <a:lnTo>
                      <a:pt x="18" y="920"/>
                    </a:lnTo>
                    <a:lnTo>
                      <a:pt x="19" y="912"/>
                    </a:lnTo>
                    <a:lnTo>
                      <a:pt x="19" y="903"/>
                    </a:lnTo>
                    <a:lnTo>
                      <a:pt x="18" y="895"/>
                    </a:lnTo>
                    <a:lnTo>
                      <a:pt x="16" y="897"/>
                    </a:lnTo>
                    <a:lnTo>
                      <a:pt x="14" y="896"/>
                    </a:lnTo>
                    <a:lnTo>
                      <a:pt x="13" y="895"/>
                    </a:lnTo>
                    <a:lnTo>
                      <a:pt x="12" y="893"/>
                    </a:lnTo>
                    <a:lnTo>
                      <a:pt x="11" y="891"/>
                    </a:lnTo>
                    <a:lnTo>
                      <a:pt x="10" y="888"/>
                    </a:lnTo>
                    <a:lnTo>
                      <a:pt x="8" y="887"/>
                    </a:lnTo>
                    <a:lnTo>
                      <a:pt x="4" y="887"/>
                    </a:lnTo>
                    <a:lnTo>
                      <a:pt x="4" y="877"/>
                    </a:lnTo>
                    <a:lnTo>
                      <a:pt x="4" y="865"/>
                    </a:lnTo>
                    <a:lnTo>
                      <a:pt x="6" y="855"/>
                    </a:lnTo>
                    <a:lnTo>
                      <a:pt x="7" y="843"/>
                    </a:lnTo>
                    <a:lnTo>
                      <a:pt x="8" y="832"/>
                    </a:lnTo>
                    <a:lnTo>
                      <a:pt x="10" y="821"/>
                    </a:lnTo>
                    <a:lnTo>
                      <a:pt x="11" y="810"/>
                    </a:lnTo>
                    <a:lnTo>
                      <a:pt x="13" y="801"/>
                    </a:lnTo>
                    <a:lnTo>
                      <a:pt x="11" y="800"/>
                    </a:lnTo>
                    <a:lnTo>
                      <a:pt x="9" y="800"/>
                    </a:lnTo>
                    <a:lnTo>
                      <a:pt x="7" y="800"/>
                    </a:lnTo>
                    <a:lnTo>
                      <a:pt x="4" y="801"/>
                    </a:lnTo>
                    <a:lnTo>
                      <a:pt x="2" y="803"/>
                    </a:lnTo>
                    <a:lnTo>
                      <a:pt x="1" y="804"/>
                    </a:lnTo>
                    <a:lnTo>
                      <a:pt x="0" y="806"/>
                    </a:lnTo>
                    <a:lnTo>
                      <a:pt x="0" y="808"/>
                    </a:lnTo>
                    <a:lnTo>
                      <a:pt x="0" y="796"/>
                    </a:lnTo>
                    <a:lnTo>
                      <a:pt x="1" y="782"/>
                    </a:lnTo>
                    <a:lnTo>
                      <a:pt x="3" y="766"/>
                    </a:lnTo>
                    <a:lnTo>
                      <a:pt x="8" y="749"/>
                    </a:lnTo>
                    <a:lnTo>
                      <a:pt x="12" y="732"/>
                    </a:lnTo>
                    <a:lnTo>
                      <a:pt x="18" y="715"/>
                    </a:lnTo>
                    <a:lnTo>
                      <a:pt x="25" y="699"/>
                    </a:lnTo>
                    <a:lnTo>
                      <a:pt x="31" y="683"/>
                    </a:lnTo>
                    <a:lnTo>
                      <a:pt x="27" y="668"/>
                    </a:lnTo>
                    <a:lnTo>
                      <a:pt x="22" y="654"/>
                    </a:lnTo>
                    <a:lnTo>
                      <a:pt x="19" y="639"/>
                    </a:lnTo>
                    <a:lnTo>
                      <a:pt x="17" y="625"/>
                    </a:lnTo>
                    <a:lnTo>
                      <a:pt x="14" y="610"/>
                    </a:lnTo>
                    <a:lnTo>
                      <a:pt x="10" y="595"/>
                    </a:lnTo>
                    <a:lnTo>
                      <a:pt x="6" y="582"/>
                    </a:lnTo>
                    <a:lnTo>
                      <a:pt x="0" y="567"/>
                    </a:lnTo>
                    <a:lnTo>
                      <a:pt x="2" y="562"/>
                    </a:lnTo>
                    <a:lnTo>
                      <a:pt x="3" y="555"/>
                    </a:lnTo>
                    <a:lnTo>
                      <a:pt x="4" y="550"/>
                    </a:lnTo>
                    <a:lnTo>
                      <a:pt x="7" y="544"/>
                    </a:lnTo>
                    <a:lnTo>
                      <a:pt x="9" y="538"/>
                    </a:lnTo>
                    <a:lnTo>
                      <a:pt x="12" y="534"/>
                    </a:lnTo>
                    <a:lnTo>
                      <a:pt x="16" y="531"/>
                    </a:lnTo>
                    <a:lnTo>
                      <a:pt x="22" y="529"/>
                    </a:lnTo>
                    <a:lnTo>
                      <a:pt x="47" y="522"/>
                    </a:lnTo>
                    <a:lnTo>
                      <a:pt x="70" y="514"/>
                    </a:lnTo>
                    <a:lnTo>
                      <a:pt x="92" y="506"/>
                    </a:lnTo>
                    <a:lnTo>
                      <a:pt x="115" y="495"/>
                    </a:lnTo>
                    <a:lnTo>
                      <a:pt x="137" y="484"/>
                    </a:lnTo>
                    <a:lnTo>
                      <a:pt x="159" y="475"/>
                    </a:lnTo>
                    <a:lnTo>
                      <a:pt x="181" y="464"/>
                    </a:lnTo>
                    <a:lnTo>
                      <a:pt x="204" y="456"/>
                    </a:lnTo>
                    <a:lnTo>
                      <a:pt x="226" y="447"/>
                    </a:lnTo>
                    <a:lnTo>
                      <a:pt x="248" y="438"/>
                    </a:lnTo>
                    <a:lnTo>
                      <a:pt x="269" y="429"/>
                    </a:lnTo>
                    <a:lnTo>
                      <a:pt x="290" y="420"/>
                    </a:lnTo>
                    <a:lnTo>
                      <a:pt x="312" y="412"/>
                    </a:lnTo>
                    <a:lnTo>
                      <a:pt x="335" y="404"/>
                    </a:lnTo>
                    <a:lnTo>
                      <a:pt x="357" y="397"/>
                    </a:lnTo>
                    <a:lnTo>
                      <a:pt x="380" y="391"/>
                    </a:lnTo>
                    <a:lnTo>
                      <a:pt x="386" y="388"/>
                    </a:lnTo>
                    <a:lnTo>
                      <a:pt x="394" y="386"/>
                    </a:lnTo>
                    <a:lnTo>
                      <a:pt x="401" y="385"/>
                    </a:lnTo>
                    <a:lnTo>
                      <a:pt x="409" y="383"/>
                    </a:lnTo>
                    <a:lnTo>
                      <a:pt x="416" y="382"/>
                    </a:lnTo>
                    <a:lnTo>
                      <a:pt x="423" y="380"/>
                    </a:lnTo>
                    <a:lnTo>
                      <a:pt x="430" y="377"/>
                    </a:lnTo>
                    <a:lnTo>
                      <a:pt x="436" y="373"/>
                    </a:lnTo>
                    <a:lnTo>
                      <a:pt x="428" y="369"/>
                    </a:lnTo>
                    <a:lnTo>
                      <a:pt x="419" y="366"/>
                    </a:lnTo>
                    <a:lnTo>
                      <a:pt x="411" y="365"/>
                    </a:lnTo>
                    <a:lnTo>
                      <a:pt x="401" y="365"/>
                    </a:lnTo>
                    <a:lnTo>
                      <a:pt x="392" y="366"/>
                    </a:lnTo>
                    <a:lnTo>
                      <a:pt x="382" y="369"/>
                    </a:lnTo>
                    <a:lnTo>
                      <a:pt x="373" y="371"/>
                    </a:lnTo>
                    <a:lnTo>
                      <a:pt x="363" y="374"/>
                    </a:lnTo>
                    <a:lnTo>
                      <a:pt x="364" y="370"/>
                    </a:lnTo>
                    <a:lnTo>
                      <a:pt x="366" y="367"/>
                    </a:lnTo>
                    <a:lnTo>
                      <a:pt x="370" y="364"/>
                    </a:lnTo>
                    <a:lnTo>
                      <a:pt x="374" y="363"/>
                    </a:lnTo>
                    <a:lnTo>
                      <a:pt x="378" y="362"/>
                    </a:lnTo>
                    <a:lnTo>
                      <a:pt x="382" y="360"/>
                    </a:lnTo>
                    <a:lnTo>
                      <a:pt x="386" y="357"/>
                    </a:lnTo>
                    <a:lnTo>
                      <a:pt x="390" y="355"/>
                    </a:lnTo>
                    <a:lnTo>
                      <a:pt x="384" y="354"/>
                    </a:lnTo>
                    <a:lnTo>
                      <a:pt x="380" y="353"/>
                    </a:lnTo>
                    <a:lnTo>
                      <a:pt x="376" y="354"/>
                    </a:lnTo>
                    <a:lnTo>
                      <a:pt x="372" y="355"/>
                    </a:lnTo>
                    <a:lnTo>
                      <a:pt x="363" y="359"/>
                    </a:lnTo>
                    <a:lnTo>
                      <a:pt x="355" y="363"/>
                    </a:lnTo>
                    <a:lnTo>
                      <a:pt x="347" y="367"/>
                    </a:lnTo>
                    <a:lnTo>
                      <a:pt x="339" y="371"/>
                    </a:lnTo>
                    <a:lnTo>
                      <a:pt x="335" y="372"/>
                    </a:lnTo>
                    <a:lnTo>
                      <a:pt x="330" y="373"/>
                    </a:lnTo>
                    <a:lnTo>
                      <a:pt x="326" y="373"/>
                    </a:lnTo>
                    <a:lnTo>
                      <a:pt x="321" y="373"/>
                    </a:lnTo>
                    <a:lnTo>
                      <a:pt x="327" y="367"/>
                    </a:lnTo>
                    <a:lnTo>
                      <a:pt x="334" y="363"/>
                    </a:lnTo>
                    <a:lnTo>
                      <a:pt x="341" y="359"/>
                    </a:lnTo>
                    <a:lnTo>
                      <a:pt x="348" y="354"/>
                    </a:lnTo>
                    <a:lnTo>
                      <a:pt x="356" y="351"/>
                    </a:lnTo>
                    <a:lnTo>
                      <a:pt x="363" y="348"/>
                    </a:lnTo>
                    <a:lnTo>
                      <a:pt x="371" y="344"/>
                    </a:lnTo>
                    <a:lnTo>
                      <a:pt x="378" y="338"/>
                    </a:lnTo>
                    <a:lnTo>
                      <a:pt x="371" y="338"/>
                    </a:lnTo>
                    <a:lnTo>
                      <a:pt x="363" y="338"/>
                    </a:lnTo>
                    <a:lnTo>
                      <a:pt x="356" y="340"/>
                    </a:lnTo>
                    <a:lnTo>
                      <a:pt x="349" y="342"/>
                    </a:lnTo>
                    <a:lnTo>
                      <a:pt x="338" y="347"/>
                    </a:lnTo>
                    <a:lnTo>
                      <a:pt x="326" y="355"/>
                    </a:lnTo>
                    <a:lnTo>
                      <a:pt x="314" y="364"/>
                    </a:lnTo>
                    <a:lnTo>
                      <a:pt x="304" y="373"/>
                    </a:lnTo>
                    <a:lnTo>
                      <a:pt x="292" y="382"/>
                    </a:lnTo>
                    <a:lnTo>
                      <a:pt x="281" y="389"/>
                    </a:lnTo>
                    <a:lnTo>
                      <a:pt x="279" y="387"/>
                    </a:lnTo>
                    <a:lnTo>
                      <a:pt x="279" y="385"/>
                    </a:lnTo>
                    <a:lnTo>
                      <a:pt x="280" y="383"/>
                    </a:lnTo>
                    <a:lnTo>
                      <a:pt x="281" y="381"/>
                    </a:lnTo>
                    <a:lnTo>
                      <a:pt x="283" y="379"/>
                    </a:lnTo>
                    <a:lnTo>
                      <a:pt x="285" y="378"/>
                    </a:lnTo>
                    <a:lnTo>
                      <a:pt x="286" y="375"/>
                    </a:lnTo>
                    <a:lnTo>
                      <a:pt x="287" y="373"/>
                    </a:lnTo>
                    <a:lnTo>
                      <a:pt x="365" y="320"/>
                    </a:lnTo>
                    <a:lnTo>
                      <a:pt x="368" y="316"/>
                    </a:lnTo>
                    <a:lnTo>
                      <a:pt x="372" y="312"/>
                    </a:lnTo>
                    <a:lnTo>
                      <a:pt x="375" y="309"/>
                    </a:lnTo>
                    <a:lnTo>
                      <a:pt x="378" y="306"/>
                    </a:lnTo>
                    <a:lnTo>
                      <a:pt x="386" y="300"/>
                    </a:lnTo>
                    <a:lnTo>
                      <a:pt x="397" y="297"/>
                    </a:lnTo>
                    <a:lnTo>
                      <a:pt x="407" y="295"/>
                    </a:lnTo>
                    <a:lnTo>
                      <a:pt x="417" y="293"/>
                    </a:lnTo>
                    <a:lnTo>
                      <a:pt x="427" y="290"/>
                    </a:lnTo>
                    <a:lnTo>
                      <a:pt x="436" y="287"/>
                    </a:lnTo>
                    <a:lnTo>
                      <a:pt x="452" y="276"/>
                    </a:lnTo>
                    <a:lnTo>
                      <a:pt x="448" y="269"/>
                    </a:lnTo>
                    <a:lnTo>
                      <a:pt x="458" y="267"/>
                    </a:lnTo>
                    <a:lnTo>
                      <a:pt x="469" y="265"/>
                    </a:lnTo>
                    <a:lnTo>
                      <a:pt x="481" y="263"/>
                    </a:lnTo>
                    <a:lnTo>
                      <a:pt x="491" y="261"/>
                    </a:lnTo>
                    <a:lnTo>
                      <a:pt x="503" y="259"/>
                    </a:lnTo>
                    <a:lnTo>
                      <a:pt x="514" y="256"/>
                    </a:lnTo>
                    <a:lnTo>
                      <a:pt x="525" y="253"/>
                    </a:lnTo>
                    <a:lnTo>
                      <a:pt x="536" y="247"/>
                    </a:lnTo>
                    <a:lnTo>
                      <a:pt x="545" y="244"/>
                    </a:lnTo>
                    <a:lnTo>
                      <a:pt x="555" y="243"/>
                    </a:lnTo>
                    <a:lnTo>
                      <a:pt x="564" y="244"/>
                    </a:lnTo>
                    <a:lnTo>
                      <a:pt x="574" y="245"/>
                    </a:lnTo>
                    <a:lnTo>
                      <a:pt x="582" y="247"/>
                    </a:lnTo>
                    <a:lnTo>
                      <a:pt x="592" y="250"/>
                    </a:lnTo>
                    <a:lnTo>
                      <a:pt x="601" y="252"/>
                    </a:lnTo>
                    <a:lnTo>
                      <a:pt x="612" y="253"/>
                    </a:lnTo>
                    <a:lnTo>
                      <a:pt x="613" y="255"/>
                    </a:lnTo>
                    <a:lnTo>
                      <a:pt x="615" y="256"/>
                    </a:lnTo>
                    <a:lnTo>
                      <a:pt x="617" y="256"/>
                    </a:lnTo>
                    <a:lnTo>
                      <a:pt x="620" y="256"/>
                    </a:lnTo>
                    <a:lnTo>
                      <a:pt x="622" y="256"/>
                    </a:lnTo>
                    <a:lnTo>
                      <a:pt x="625" y="256"/>
                    </a:lnTo>
                    <a:lnTo>
                      <a:pt x="628" y="256"/>
                    </a:lnTo>
                    <a:lnTo>
                      <a:pt x="630" y="256"/>
                    </a:lnTo>
                    <a:lnTo>
                      <a:pt x="628" y="250"/>
                    </a:lnTo>
                    <a:lnTo>
                      <a:pt x="627" y="243"/>
                    </a:lnTo>
                    <a:lnTo>
                      <a:pt x="626" y="236"/>
                    </a:lnTo>
                    <a:lnTo>
                      <a:pt x="625" y="228"/>
                    </a:lnTo>
                    <a:lnTo>
                      <a:pt x="625" y="222"/>
                    </a:lnTo>
                    <a:lnTo>
                      <a:pt x="623" y="215"/>
                    </a:lnTo>
                    <a:lnTo>
                      <a:pt x="623" y="207"/>
                    </a:lnTo>
                    <a:lnTo>
                      <a:pt x="623" y="200"/>
                    </a:lnTo>
                    <a:lnTo>
                      <a:pt x="621" y="188"/>
                    </a:lnTo>
                    <a:lnTo>
                      <a:pt x="620" y="179"/>
                    </a:lnTo>
                    <a:lnTo>
                      <a:pt x="619" y="169"/>
                    </a:lnTo>
                    <a:lnTo>
                      <a:pt x="619" y="160"/>
                    </a:lnTo>
                    <a:lnTo>
                      <a:pt x="618" y="150"/>
                    </a:lnTo>
                    <a:lnTo>
                      <a:pt x="617" y="141"/>
                    </a:lnTo>
                    <a:lnTo>
                      <a:pt x="616" y="130"/>
                    </a:lnTo>
                    <a:lnTo>
                      <a:pt x="614" y="120"/>
                    </a:lnTo>
                    <a:lnTo>
                      <a:pt x="613" y="110"/>
                    </a:lnTo>
                    <a:lnTo>
                      <a:pt x="614" y="102"/>
                    </a:lnTo>
                    <a:lnTo>
                      <a:pt x="617" y="94"/>
                    </a:lnTo>
                    <a:lnTo>
                      <a:pt x="619" y="87"/>
                    </a:lnTo>
                    <a:lnTo>
                      <a:pt x="621" y="79"/>
                    </a:lnTo>
                    <a:lnTo>
                      <a:pt x="622" y="72"/>
                    </a:lnTo>
                    <a:lnTo>
                      <a:pt x="622" y="68"/>
                    </a:lnTo>
                    <a:lnTo>
                      <a:pt x="621" y="63"/>
                    </a:lnTo>
                    <a:lnTo>
                      <a:pt x="620" y="59"/>
                    </a:lnTo>
                    <a:lnTo>
                      <a:pt x="618" y="55"/>
                    </a:lnTo>
                    <a:lnTo>
                      <a:pt x="616" y="50"/>
                    </a:lnTo>
                    <a:lnTo>
                      <a:pt x="615" y="44"/>
                    </a:lnTo>
                    <a:lnTo>
                      <a:pt x="615" y="39"/>
                    </a:lnTo>
                    <a:lnTo>
                      <a:pt x="614" y="34"/>
                    </a:lnTo>
                    <a:lnTo>
                      <a:pt x="614" y="29"/>
                    </a:lnTo>
                    <a:lnTo>
                      <a:pt x="613" y="23"/>
                    </a:lnTo>
                    <a:lnTo>
                      <a:pt x="613" y="18"/>
                    </a:lnTo>
                    <a:lnTo>
                      <a:pt x="612" y="13"/>
                    </a:lnTo>
                    <a:lnTo>
                      <a:pt x="614" y="14"/>
                    </a:lnTo>
                    <a:lnTo>
                      <a:pt x="617" y="15"/>
                    </a:lnTo>
                    <a:lnTo>
                      <a:pt x="618" y="17"/>
                    </a:lnTo>
                    <a:lnTo>
                      <a:pt x="620" y="19"/>
                    </a:lnTo>
                    <a:lnTo>
                      <a:pt x="622" y="23"/>
                    </a:lnTo>
                    <a:lnTo>
                      <a:pt x="623" y="30"/>
                    </a:lnTo>
                    <a:lnTo>
                      <a:pt x="623" y="36"/>
                    </a:lnTo>
                    <a:lnTo>
                      <a:pt x="623" y="42"/>
                    </a:lnTo>
                    <a:lnTo>
                      <a:pt x="625" y="49"/>
                    </a:lnTo>
                    <a:lnTo>
                      <a:pt x="626" y="55"/>
                    </a:lnTo>
                    <a:lnTo>
                      <a:pt x="633" y="68"/>
                    </a:lnTo>
                    <a:lnTo>
                      <a:pt x="639" y="81"/>
                    </a:lnTo>
                    <a:lnTo>
                      <a:pt x="645" y="95"/>
                    </a:lnTo>
                    <a:lnTo>
                      <a:pt x="649" y="110"/>
                    </a:lnTo>
                    <a:lnTo>
                      <a:pt x="656" y="139"/>
                    </a:lnTo>
                    <a:lnTo>
                      <a:pt x="664" y="168"/>
                    </a:lnTo>
                    <a:lnTo>
                      <a:pt x="668" y="182"/>
                    </a:lnTo>
                    <a:lnTo>
                      <a:pt x="672" y="197"/>
                    </a:lnTo>
                    <a:lnTo>
                      <a:pt x="678" y="210"/>
                    </a:lnTo>
                    <a:lnTo>
                      <a:pt x="685" y="223"/>
                    </a:lnTo>
                    <a:lnTo>
                      <a:pt x="692" y="236"/>
                    </a:lnTo>
                    <a:lnTo>
                      <a:pt x="702" y="247"/>
                    </a:lnTo>
                    <a:lnTo>
                      <a:pt x="712" y="258"/>
                    </a:lnTo>
                    <a:lnTo>
                      <a:pt x="724" y="269"/>
                    </a:lnTo>
                    <a:lnTo>
                      <a:pt x="728" y="269"/>
                    </a:lnTo>
                    <a:lnTo>
                      <a:pt x="730" y="269"/>
                    </a:lnTo>
                    <a:lnTo>
                      <a:pt x="731" y="267"/>
                    </a:lnTo>
                    <a:lnTo>
                      <a:pt x="732" y="264"/>
                    </a:lnTo>
                    <a:lnTo>
                      <a:pt x="733" y="262"/>
                    </a:lnTo>
                    <a:lnTo>
                      <a:pt x="733" y="260"/>
                    </a:lnTo>
                    <a:lnTo>
                      <a:pt x="735" y="258"/>
                    </a:lnTo>
                    <a:lnTo>
                      <a:pt x="737" y="256"/>
                    </a:lnTo>
                    <a:lnTo>
                      <a:pt x="739" y="251"/>
                    </a:lnTo>
                    <a:lnTo>
                      <a:pt x="741" y="245"/>
                    </a:lnTo>
                    <a:lnTo>
                      <a:pt x="742" y="239"/>
                    </a:lnTo>
                    <a:lnTo>
                      <a:pt x="742" y="234"/>
                    </a:lnTo>
                    <a:lnTo>
                      <a:pt x="742" y="227"/>
                    </a:lnTo>
                    <a:lnTo>
                      <a:pt x="742" y="221"/>
                    </a:lnTo>
                    <a:lnTo>
                      <a:pt x="740" y="216"/>
                    </a:lnTo>
                    <a:lnTo>
                      <a:pt x="739" y="209"/>
                    </a:lnTo>
                    <a:lnTo>
                      <a:pt x="741" y="182"/>
                    </a:lnTo>
                    <a:lnTo>
                      <a:pt x="745" y="154"/>
                    </a:lnTo>
                    <a:lnTo>
                      <a:pt x="750" y="128"/>
                    </a:lnTo>
                    <a:lnTo>
                      <a:pt x="757" y="103"/>
                    </a:lnTo>
                    <a:lnTo>
                      <a:pt x="764" y="77"/>
                    </a:lnTo>
                    <a:lnTo>
                      <a:pt x="772" y="52"/>
                    </a:lnTo>
                    <a:lnTo>
                      <a:pt x="779" y="26"/>
                    </a:lnTo>
                    <a:lnTo>
                      <a:pt x="787" y="0"/>
                    </a:lnTo>
                    <a:lnTo>
                      <a:pt x="790" y="1"/>
                    </a:lnTo>
                    <a:lnTo>
                      <a:pt x="792" y="2"/>
                    </a:lnTo>
                    <a:lnTo>
                      <a:pt x="793" y="3"/>
                    </a:lnTo>
                    <a:lnTo>
                      <a:pt x="794" y="5"/>
                    </a:lnTo>
                    <a:lnTo>
                      <a:pt x="794" y="8"/>
                    </a:lnTo>
                    <a:lnTo>
                      <a:pt x="793" y="13"/>
                    </a:lnTo>
                    <a:lnTo>
                      <a:pt x="792" y="18"/>
                    </a:lnTo>
                    <a:lnTo>
                      <a:pt x="791" y="23"/>
                    </a:lnTo>
                    <a:lnTo>
                      <a:pt x="790" y="27"/>
                    </a:lnTo>
                    <a:lnTo>
                      <a:pt x="790" y="32"/>
                    </a:lnTo>
                    <a:close/>
                    <a:moveTo>
                      <a:pt x="2114" y="1628"/>
                    </a:moveTo>
                    <a:lnTo>
                      <a:pt x="2119" y="1627"/>
                    </a:lnTo>
                    <a:lnTo>
                      <a:pt x="2121" y="1626"/>
                    </a:lnTo>
                    <a:lnTo>
                      <a:pt x="2124" y="1626"/>
                    </a:lnTo>
                    <a:lnTo>
                      <a:pt x="2127" y="1627"/>
                    </a:lnTo>
                    <a:lnTo>
                      <a:pt x="2131" y="1630"/>
                    </a:lnTo>
                    <a:lnTo>
                      <a:pt x="2135" y="1633"/>
                    </a:lnTo>
                    <a:lnTo>
                      <a:pt x="2140" y="1638"/>
                    </a:lnTo>
                    <a:lnTo>
                      <a:pt x="2144" y="1643"/>
                    </a:lnTo>
                    <a:lnTo>
                      <a:pt x="2149" y="1646"/>
                    </a:lnTo>
                    <a:lnTo>
                      <a:pt x="2154" y="1647"/>
                    </a:lnTo>
                    <a:lnTo>
                      <a:pt x="2154" y="1651"/>
                    </a:lnTo>
                    <a:lnTo>
                      <a:pt x="2156" y="1654"/>
                    </a:lnTo>
                    <a:lnTo>
                      <a:pt x="2158" y="1657"/>
                    </a:lnTo>
                    <a:lnTo>
                      <a:pt x="2159" y="1661"/>
                    </a:lnTo>
                    <a:lnTo>
                      <a:pt x="2161" y="1664"/>
                    </a:lnTo>
                    <a:lnTo>
                      <a:pt x="2162" y="1667"/>
                    </a:lnTo>
                    <a:lnTo>
                      <a:pt x="2163" y="1670"/>
                    </a:lnTo>
                    <a:lnTo>
                      <a:pt x="2163" y="1673"/>
                    </a:lnTo>
                    <a:lnTo>
                      <a:pt x="2147" y="1698"/>
                    </a:lnTo>
                    <a:lnTo>
                      <a:pt x="2146" y="1691"/>
                    </a:lnTo>
                    <a:lnTo>
                      <a:pt x="2146" y="1685"/>
                    </a:lnTo>
                    <a:lnTo>
                      <a:pt x="2147" y="1679"/>
                    </a:lnTo>
                    <a:lnTo>
                      <a:pt x="2147" y="1672"/>
                    </a:lnTo>
                    <a:lnTo>
                      <a:pt x="2147" y="1666"/>
                    </a:lnTo>
                    <a:lnTo>
                      <a:pt x="2145" y="1661"/>
                    </a:lnTo>
                    <a:lnTo>
                      <a:pt x="2142" y="1655"/>
                    </a:lnTo>
                    <a:lnTo>
                      <a:pt x="2136" y="1652"/>
                    </a:lnTo>
                    <a:lnTo>
                      <a:pt x="2138" y="1648"/>
                    </a:lnTo>
                    <a:lnTo>
                      <a:pt x="2136" y="1644"/>
                    </a:lnTo>
                    <a:lnTo>
                      <a:pt x="2136" y="1640"/>
                    </a:lnTo>
                    <a:lnTo>
                      <a:pt x="2135" y="1638"/>
                    </a:lnTo>
                    <a:lnTo>
                      <a:pt x="2133" y="1636"/>
                    </a:lnTo>
                    <a:lnTo>
                      <a:pt x="2131" y="1634"/>
                    </a:lnTo>
                    <a:lnTo>
                      <a:pt x="2129" y="1631"/>
                    </a:lnTo>
                    <a:lnTo>
                      <a:pt x="2127" y="1629"/>
                    </a:lnTo>
                    <a:lnTo>
                      <a:pt x="2125" y="1630"/>
                    </a:lnTo>
                    <a:lnTo>
                      <a:pt x="2124" y="1631"/>
                    </a:lnTo>
                    <a:lnTo>
                      <a:pt x="2123" y="1631"/>
                    </a:lnTo>
                    <a:lnTo>
                      <a:pt x="2121" y="1631"/>
                    </a:lnTo>
                    <a:lnTo>
                      <a:pt x="2120" y="1631"/>
                    </a:lnTo>
                    <a:lnTo>
                      <a:pt x="2117" y="1631"/>
                    </a:lnTo>
                    <a:lnTo>
                      <a:pt x="2116" y="1631"/>
                    </a:lnTo>
                    <a:lnTo>
                      <a:pt x="2114" y="1631"/>
                    </a:lnTo>
                    <a:lnTo>
                      <a:pt x="2115" y="1628"/>
                    </a:lnTo>
                    <a:lnTo>
                      <a:pt x="2114" y="1625"/>
                    </a:lnTo>
                    <a:lnTo>
                      <a:pt x="2112" y="1622"/>
                    </a:lnTo>
                    <a:lnTo>
                      <a:pt x="2109" y="1620"/>
                    </a:lnTo>
                    <a:lnTo>
                      <a:pt x="2107" y="1618"/>
                    </a:lnTo>
                    <a:lnTo>
                      <a:pt x="2105" y="1615"/>
                    </a:lnTo>
                    <a:lnTo>
                      <a:pt x="2104" y="1613"/>
                    </a:lnTo>
                    <a:lnTo>
                      <a:pt x="2105" y="1610"/>
                    </a:lnTo>
                    <a:lnTo>
                      <a:pt x="2106" y="1612"/>
                    </a:lnTo>
                    <a:lnTo>
                      <a:pt x="2107" y="1614"/>
                    </a:lnTo>
                    <a:lnTo>
                      <a:pt x="2109" y="1615"/>
                    </a:lnTo>
                    <a:lnTo>
                      <a:pt x="2111" y="1617"/>
                    </a:lnTo>
                    <a:lnTo>
                      <a:pt x="2113" y="1618"/>
                    </a:lnTo>
                    <a:lnTo>
                      <a:pt x="2115" y="1621"/>
                    </a:lnTo>
                    <a:lnTo>
                      <a:pt x="2115" y="1624"/>
                    </a:lnTo>
                    <a:lnTo>
                      <a:pt x="2114" y="162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6114960" y="5411880"/>
                <a:ext cx="1299960" cy="981000"/>
              </a:xfrm>
              <a:custGeom>
                <a:avLst/>
                <a:gdLst/>
                <a:ahLst/>
                <a:rect l="l" t="t" r="r" b="b"/>
                <a:pathLst>
                  <a:path w="2457" h="1855">
                    <a:moveTo>
                      <a:pt x="775" y="226"/>
                    </a:moveTo>
                    <a:lnTo>
                      <a:pt x="778" y="237"/>
                    </a:lnTo>
                    <a:lnTo>
                      <a:pt x="782" y="246"/>
                    </a:lnTo>
                    <a:lnTo>
                      <a:pt x="785" y="257"/>
                    </a:lnTo>
                    <a:lnTo>
                      <a:pt x="788" y="268"/>
                    </a:lnTo>
                    <a:lnTo>
                      <a:pt x="792" y="278"/>
                    </a:lnTo>
                    <a:lnTo>
                      <a:pt x="794" y="289"/>
                    </a:lnTo>
                    <a:lnTo>
                      <a:pt x="797" y="300"/>
                    </a:lnTo>
                    <a:lnTo>
                      <a:pt x="798" y="311"/>
                    </a:lnTo>
                    <a:lnTo>
                      <a:pt x="795" y="317"/>
                    </a:lnTo>
                    <a:lnTo>
                      <a:pt x="798" y="323"/>
                    </a:lnTo>
                    <a:lnTo>
                      <a:pt x="801" y="328"/>
                    </a:lnTo>
                    <a:lnTo>
                      <a:pt x="803" y="333"/>
                    </a:lnTo>
                    <a:lnTo>
                      <a:pt x="805" y="340"/>
                    </a:lnTo>
                    <a:lnTo>
                      <a:pt x="807" y="345"/>
                    </a:lnTo>
                    <a:lnTo>
                      <a:pt x="811" y="350"/>
                    </a:lnTo>
                    <a:lnTo>
                      <a:pt x="813" y="356"/>
                    </a:lnTo>
                    <a:lnTo>
                      <a:pt x="817" y="361"/>
                    </a:lnTo>
                    <a:lnTo>
                      <a:pt x="823" y="362"/>
                    </a:lnTo>
                    <a:lnTo>
                      <a:pt x="829" y="364"/>
                    </a:lnTo>
                    <a:lnTo>
                      <a:pt x="833" y="367"/>
                    </a:lnTo>
                    <a:lnTo>
                      <a:pt x="837" y="371"/>
                    </a:lnTo>
                    <a:lnTo>
                      <a:pt x="840" y="377"/>
                    </a:lnTo>
                    <a:lnTo>
                      <a:pt x="844" y="382"/>
                    </a:lnTo>
                    <a:lnTo>
                      <a:pt x="849" y="387"/>
                    </a:lnTo>
                    <a:lnTo>
                      <a:pt x="853" y="391"/>
                    </a:lnTo>
                    <a:lnTo>
                      <a:pt x="858" y="405"/>
                    </a:lnTo>
                    <a:lnTo>
                      <a:pt x="864" y="418"/>
                    </a:lnTo>
                    <a:lnTo>
                      <a:pt x="870" y="431"/>
                    </a:lnTo>
                    <a:lnTo>
                      <a:pt x="876" y="443"/>
                    </a:lnTo>
                    <a:lnTo>
                      <a:pt x="883" y="456"/>
                    </a:lnTo>
                    <a:lnTo>
                      <a:pt x="890" y="468"/>
                    </a:lnTo>
                    <a:lnTo>
                      <a:pt x="897" y="479"/>
                    </a:lnTo>
                    <a:lnTo>
                      <a:pt x="906" y="491"/>
                    </a:lnTo>
                    <a:lnTo>
                      <a:pt x="905" y="495"/>
                    </a:lnTo>
                    <a:lnTo>
                      <a:pt x="905" y="499"/>
                    </a:lnTo>
                    <a:lnTo>
                      <a:pt x="906" y="502"/>
                    </a:lnTo>
                    <a:lnTo>
                      <a:pt x="907" y="507"/>
                    </a:lnTo>
                    <a:lnTo>
                      <a:pt x="912" y="513"/>
                    </a:lnTo>
                    <a:lnTo>
                      <a:pt x="918" y="520"/>
                    </a:lnTo>
                    <a:lnTo>
                      <a:pt x="924" y="527"/>
                    </a:lnTo>
                    <a:lnTo>
                      <a:pt x="930" y="534"/>
                    </a:lnTo>
                    <a:lnTo>
                      <a:pt x="934" y="542"/>
                    </a:lnTo>
                    <a:lnTo>
                      <a:pt x="938" y="549"/>
                    </a:lnTo>
                    <a:lnTo>
                      <a:pt x="948" y="564"/>
                    </a:lnTo>
                    <a:lnTo>
                      <a:pt x="957" y="579"/>
                    </a:lnTo>
                    <a:lnTo>
                      <a:pt x="965" y="592"/>
                    </a:lnTo>
                    <a:lnTo>
                      <a:pt x="971" y="607"/>
                    </a:lnTo>
                    <a:lnTo>
                      <a:pt x="979" y="622"/>
                    </a:lnTo>
                    <a:lnTo>
                      <a:pt x="986" y="637"/>
                    </a:lnTo>
                    <a:lnTo>
                      <a:pt x="995" y="652"/>
                    </a:lnTo>
                    <a:lnTo>
                      <a:pt x="1004" y="666"/>
                    </a:lnTo>
                    <a:lnTo>
                      <a:pt x="1005" y="671"/>
                    </a:lnTo>
                    <a:lnTo>
                      <a:pt x="1006" y="676"/>
                    </a:lnTo>
                    <a:lnTo>
                      <a:pt x="1010" y="679"/>
                    </a:lnTo>
                    <a:lnTo>
                      <a:pt x="1013" y="683"/>
                    </a:lnTo>
                    <a:lnTo>
                      <a:pt x="1016" y="686"/>
                    </a:lnTo>
                    <a:lnTo>
                      <a:pt x="1019" y="691"/>
                    </a:lnTo>
                    <a:lnTo>
                      <a:pt x="1022" y="694"/>
                    </a:lnTo>
                    <a:lnTo>
                      <a:pt x="1024" y="698"/>
                    </a:lnTo>
                    <a:lnTo>
                      <a:pt x="1029" y="707"/>
                    </a:lnTo>
                    <a:lnTo>
                      <a:pt x="1035" y="714"/>
                    </a:lnTo>
                    <a:lnTo>
                      <a:pt x="1040" y="720"/>
                    </a:lnTo>
                    <a:lnTo>
                      <a:pt x="1047" y="728"/>
                    </a:lnTo>
                    <a:lnTo>
                      <a:pt x="1054" y="734"/>
                    </a:lnTo>
                    <a:lnTo>
                      <a:pt x="1060" y="740"/>
                    </a:lnTo>
                    <a:lnTo>
                      <a:pt x="1067" y="746"/>
                    </a:lnTo>
                    <a:lnTo>
                      <a:pt x="1073" y="752"/>
                    </a:lnTo>
                    <a:lnTo>
                      <a:pt x="1087" y="756"/>
                    </a:lnTo>
                    <a:lnTo>
                      <a:pt x="1099" y="763"/>
                    </a:lnTo>
                    <a:lnTo>
                      <a:pt x="1111" y="769"/>
                    </a:lnTo>
                    <a:lnTo>
                      <a:pt x="1124" y="776"/>
                    </a:lnTo>
                    <a:lnTo>
                      <a:pt x="1137" y="783"/>
                    </a:lnTo>
                    <a:lnTo>
                      <a:pt x="1149" y="788"/>
                    </a:lnTo>
                    <a:lnTo>
                      <a:pt x="1157" y="790"/>
                    </a:lnTo>
                    <a:lnTo>
                      <a:pt x="1163" y="791"/>
                    </a:lnTo>
                    <a:lnTo>
                      <a:pt x="1170" y="792"/>
                    </a:lnTo>
                    <a:lnTo>
                      <a:pt x="1178" y="793"/>
                    </a:lnTo>
                    <a:lnTo>
                      <a:pt x="1185" y="796"/>
                    </a:lnTo>
                    <a:lnTo>
                      <a:pt x="1192" y="800"/>
                    </a:lnTo>
                    <a:lnTo>
                      <a:pt x="1198" y="803"/>
                    </a:lnTo>
                    <a:lnTo>
                      <a:pt x="1205" y="806"/>
                    </a:lnTo>
                    <a:lnTo>
                      <a:pt x="1213" y="809"/>
                    </a:lnTo>
                    <a:lnTo>
                      <a:pt x="1219" y="811"/>
                    </a:lnTo>
                    <a:lnTo>
                      <a:pt x="1226" y="813"/>
                    </a:lnTo>
                    <a:lnTo>
                      <a:pt x="1234" y="816"/>
                    </a:lnTo>
                    <a:lnTo>
                      <a:pt x="1242" y="827"/>
                    </a:lnTo>
                    <a:lnTo>
                      <a:pt x="1251" y="838"/>
                    </a:lnTo>
                    <a:lnTo>
                      <a:pt x="1260" y="847"/>
                    </a:lnTo>
                    <a:lnTo>
                      <a:pt x="1270" y="856"/>
                    </a:lnTo>
                    <a:lnTo>
                      <a:pt x="1280" y="863"/>
                    </a:lnTo>
                    <a:lnTo>
                      <a:pt x="1291" y="869"/>
                    </a:lnTo>
                    <a:lnTo>
                      <a:pt x="1303" y="876"/>
                    </a:lnTo>
                    <a:lnTo>
                      <a:pt x="1314" y="881"/>
                    </a:lnTo>
                    <a:lnTo>
                      <a:pt x="1339" y="891"/>
                    </a:lnTo>
                    <a:lnTo>
                      <a:pt x="1362" y="900"/>
                    </a:lnTo>
                    <a:lnTo>
                      <a:pt x="1374" y="905"/>
                    </a:lnTo>
                    <a:lnTo>
                      <a:pt x="1385" y="911"/>
                    </a:lnTo>
                    <a:lnTo>
                      <a:pt x="1397" y="917"/>
                    </a:lnTo>
                    <a:lnTo>
                      <a:pt x="1407" y="924"/>
                    </a:lnTo>
                    <a:lnTo>
                      <a:pt x="1431" y="933"/>
                    </a:lnTo>
                    <a:lnTo>
                      <a:pt x="1454" y="942"/>
                    </a:lnTo>
                    <a:lnTo>
                      <a:pt x="1476" y="953"/>
                    </a:lnTo>
                    <a:lnTo>
                      <a:pt x="1499" y="963"/>
                    </a:lnTo>
                    <a:lnTo>
                      <a:pt x="1523" y="972"/>
                    </a:lnTo>
                    <a:lnTo>
                      <a:pt x="1546" y="982"/>
                    </a:lnTo>
                    <a:lnTo>
                      <a:pt x="1569" y="990"/>
                    </a:lnTo>
                    <a:lnTo>
                      <a:pt x="1594" y="996"/>
                    </a:lnTo>
                    <a:lnTo>
                      <a:pt x="1595" y="995"/>
                    </a:lnTo>
                    <a:lnTo>
                      <a:pt x="1595" y="995"/>
                    </a:lnTo>
                    <a:lnTo>
                      <a:pt x="1596" y="994"/>
                    </a:lnTo>
                    <a:lnTo>
                      <a:pt x="1597" y="993"/>
                    </a:lnTo>
                    <a:lnTo>
                      <a:pt x="1598" y="992"/>
                    </a:lnTo>
                    <a:lnTo>
                      <a:pt x="1599" y="991"/>
                    </a:lnTo>
                    <a:lnTo>
                      <a:pt x="1599" y="990"/>
                    </a:lnTo>
                    <a:lnTo>
                      <a:pt x="1599" y="988"/>
                    </a:lnTo>
                    <a:lnTo>
                      <a:pt x="1598" y="987"/>
                    </a:lnTo>
                    <a:lnTo>
                      <a:pt x="1614" y="991"/>
                    </a:lnTo>
                    <a:lnTo>
                      <a:pt x="1630" y="996"/>
                    </a:lnTo>
                    <a:lnTo>
                      <a:pt x="1644" y="1003"/>
                    </a:lnTo>
                    <a:lnTo>
                      <a:pt x="1660" y="1008"/>
                    </a:lnTo>
                    <a:lnTo>
                      <a:pt x="1676" y="1013"/>
                    </a:lnTo>
                    <a:lnTo>
                      <a:pt x="1692" y="1018"/>
                    </a:lnTo>
                    <a:lnTo>
                      <a:pt x="1709" y="1021"/>
                    </a:lnTo>
                    <a:lnTo>
                      <a:pt x="1726" y="1023"/>
                    </a:lnTo>
                    <a:lnTo>
                      <a:pt x="1735" y="1026"/>
                    </a:lnTo>
                    <a:lnTo>
                      <a:pt x="1744" y="1029"/>
                    </a:lnTo>
                    <a:lnTo>
                      <a:pt x="1753" y="1031"/>
                    </a:lnTo>
                    <a:lnTo>
                      <a:pt x="1762" y="1033"/>
                    </a:lnTo>
                    <a:lnTo>
                      <a:pt x="1771" y="1037"/>
                    </a:lnTo>
                    <a:lnTo>
                      <a:pt x="1781" y="1039"/>
                    </a:lnTo>
                    <a:lnTo>
                      <a:pt x="1790" y="1041"/>
                    </a:lnTo>
                    <a:lnTo>
                      <a:pt x="1799" y="1043"/>
                    </a:lnTo>
                    <a:lnTo>
                      <a:pt x="1823" y="1043"/>
                    </a:lnTo>
                    <a:lnTo>
                      <a:pt x="1847" y="1045"/>
                    </a:lnTo>
                    <a:lnTo>
                      <a:pt x="1869" y="1048"/>
                    </a:lnTo>
                    <a:lnTo>
                      <a:pt x="1891" y="1051"/>
                    </a:lnTo>
                    <a:lnTo>
                      <a:pt x="1913" y="1056"/>
                    </a:lnTo>
                    <a:lnTo>
                      <a:pt x="1935" y="1060"/>
                    </a:lnTo>
                    <a:lnTo>
                      <a:pt x="1959" y="1063"/>
                    </a:lnTo>
                    <a:lnTo>
                      <a:pt x="1983" y="1065"/>
                    </a:lnTo>
                    <a:lnTo>
                      <a:pt x="2032" y="1073"/>
                    </a:lnTo>
                    <a:lnTo>
                      <a:pt x="2031" y="1075"/>
                    </a:lnTo>
                    <a:lnTo>
                      <a:pt x="2028" y="1076"/>
                    </a:lnTo>
                    <a:lnTo>
                      <a:pt x="2027" y="1077"/>
                    </a:lnTo>
                    <a:lnTo>
                      <a:pt x="2026" y="1077"/>
                    </a:lnTo>
                    <a:lnTo>
                      <a:pt x="2024" y="1078"/>
                    </a:lnTo>
                    <a:lnTo>
                      <a:pt x="2024" y="1079"/>
                    </a:lnTo>
                    <a:lnTo>
                      <a:pt x="2023" y="1080"/>
                    </a:lnTo>
                    <a:lnTo>
                      <a:pt x="2023" y="1081"/>
                    </a:lnTo>
                    <a:lnTo>
                      <a:pt x="2030" y="1079"/>
                    </a:lnTo>
                    <a:lnTo>
                      <a:pt x="2035" y="1078"/>
                    </a:lnTo>
                    <a:lnTo>
                      <a:pt x="2041" y="1077"/>
                    </a:lnTo>
                    <a:lnTo>
                      <a:pt x="2048" y="1078"/>
                    </a:lnTo>
                    <a:lnTo>
                      <a:pt x="2054" y="1079"/>
                    </a:lnTo>
                    <a:lnTo>
                      <a:pt x="2060" y="1081"/>
                    </a:lnTo>
                    <a:lnTo>
                      <a:pt x="2068" y="1083"/>
                    </a:lnTo>
                    <a:lnTo>
                      <a:pt x="2074" y="1085"/>
                    </a:lnTo>
                    <a:lnTo>
                      <a:pt x="2084" y="1087"/>
                    </a:lnTo>
                    <a:lnTo>
                      <a:pt x="2082" y="1087"/>
                    </a:lnTo>
                    <a:lnTo>
                      <a:pt x="2081" y="1088"/>
                    </a:lnTo>
                    <a:lnTo>
                      <a:pt x="2080" y="1088"/>
                    </a:lnTo>
                    <a:lnTo>
                      <a:pt x="2079" y="1089"/>
                    </a:lnTo>
                    <a:lnTo>
                      <a:pt x="2078" y="1091"/>
                    </a:lnTo>
                    <a:lnTo>
                      <a:pt x="2077" y="1092"/>
                    </a:lnTo>
                    <a:lnTo>
                      <a:pt x="2076" y="1093"/>
                    </a:lnTo>
                    <a:lnTo>
                      <a:pt x="2075" y="1094"/>
                    </a:lnTo>
                    <a:lnTo>
                      <a:pt x="2078" y="1094"/>
                    </a:lnTo>
                    <a:lnTo>
                      <a:pt x="2080" y="1094"/>
                    </a:lnTo>
                    <a:lnTo>
                      <a:pt x="2082" y="1093"/>
                    </a:lnTo>
                    <a:lnTo>
                      <a:pt x="2085" y="1092"/>
                    </a:lnTo>
                    <a:lnTo>
                      <a:pt x="2088" y="1089"/>
                    </a:lnTo>
                    <a:lnTo>
                      <a:pt x="2090" y="1088"/>
                    </a:lnTo>
                    <a:lnTo>
                      <a:pt x="2093" y="1087"/>
                    </a:lnTo>
                    <a:lnTo>
                      <a:pt x="2095" y="1087"/>
                    </a:lnTo>
                    <a:lnTo>
                      <a:pt x="2094" y="1088"/>
                    </a:lnTo>
                    <a:lnTo>
                      <a:pt x="2093" y="1091"/>
                    </a:lnTo>
                    <a:lnTo>
                      <a:pt x="2091" y="1093"/>
                    </a:lnTo>
                    <a:lnTo>
                      <a:pt x="2090" y="1094"/>
                    </a:lnTo>
                    <a:lnTo>
                      <a:pt x="2088" y="1096"/>
                    </a:lnTo>
                    <a:lnTo>
                      <a:pt x="2087" y="1097"/>
                    </a:lnTo>
                    <a:lnTo>
                      <a:pt x="2086" y="1099"/>
                    </a:lnTo>
                    <a:lnTo>
                      <a:pt x="2084" y="1101"/>
                    </a:lnTo>
                    <a:lnTo>
                      <a:pt x="2086" y="1102"/>
                    </a:lnTo>
                    <a:lnTo>
                      <a:pt x="2088" y="1102"/>
                    </a:lnTo>
                    <a:lnTo>
                      <a:pt x="2090" y="1102"/>
                    </a:lnTo>
                    <a:lnTo>
                      <a:pt x="2092" y="1101"/>
                    </a:lnTo>
                    <a:lnTo>
                      <a:pt x="2094" y="1099"/>
                    </a:lnTo>
                    <a:lnTo>
                      <a:pt x="2095" y="1098"/>
                    </a:lnTo>
                    <a:lnTo>
                      <a:pt x="2097" y="1097"/>
                    </a:lnTo>
                    <a:lnTo>
                      <a:pt x="2099" y="1096"/>
                    </a:lnTo>
                    <a:lnTo>
                      <a:pt x="2095" y="1101"/>
                    </a:lnTo>
                    <a:lnTo>
                      <a:pt x="2089" y="1106"/>
                    </a:lnTo>
                    <a:lnTo>
                      <a:pt x="2082" y="1112"/>
                    </a:lnTo>
                    <a:lnTo>
                      <a:pt x="2076" y="1117"/>
                    </a:lnTo>
                    <a:lnTo>
                      <a:pt x="2070" y="1122"/>
                    </a:lnTo>
                    <a:lnTo>
                      <a:pt x="2063" y="1128"/>
                    </a:lnTo>
                    <a:lnTo>
                      <a:pt x="2058" y="1133"/>
                    </a:lnTo>
                    <a:lnTo>
                      <a:pt x="2053" y="1139"/>
                    </a:lnTo>
                    <a:lnTo>
                      <a:pt x="2059" y="1138"/>
                    </a:lnTo>
                    <a:lnTo>
                      <a:pt x="2066" y="1135"/>
                    </a:lnTo>
                    <a:lnTo>
                      <a:pt x="2071" y="1131"/>
                    </a:lnTo>
                    <a:lnTo>
                      <a:pt x="2076" y="1126"/>
                    </a:lnTo>
                    <a:lnTo>
                      <a:pt x="2081" y="1121"/>
                    </a:lnTo>
                    <a:lnTo>
                      <a:pt x="2087" y="1117"/>
                    </a:lnTo>
                    <a:lnTo>
                      <a:pt x="2093" y="1113"/>
                    </a:lnTo>
                    <a:lnTo>
                      <a:pt x="2099" y="1110"/>
                    </a:lnTo>
                    <a:lnTo>
                      <a:pt x="2097" y="1117"/>
                    </a:lnTo>
                    <a:lnTo>
                      <a:pt x="2093" y="1123"/>
                    </a:lnTo>
                    <a:lnTo>
                      <a:pt x="2088" y="1130"/>
                    </a:lnTo>
                    <a:lnTo>
                      <a:pt x="2082" y="1136"/>
                    </a:lnTo>
                    <a:lnTo>
                      <a:pt x="2077" y="1142"/>
                    </a:lnTo>
                    <a:lnTo>
                      <a:pt x="2072" y="1149"/>
                    </a:lnTo>
                    <a:lnTo>
                      <a:pt x="2068" y="1156"/>
                    </a:lnTo>
                    <a:lnTo>
                      <a:pt x="2066" y="1163"/>
                    </a:lnTo>
                    <a:lnTo>
                      <a:pt x="2066" y="1165"/>
                    </a:lnTo>
                    <a:lnTo>
                      <a:pt x="2066" y="1166"/>
                    </a:lnTo>
                    <a:lnTo>
                      <a:pt x="2066" y="1168"/>
                    </a:lnTo>
                    <a:lnTo>
                      <a:pt x="2066" y="1169"/>
                    </a:lnTo>
                    <a:lnTo>
                      <a:pt x="2066" y="1170"/>
                    </a:lnTo>
                    <a:lnTo>
                      <a:pt x="2066" y="1171"/>
                    </a:lnTo>
                    <a:lnTo>
                      <a:pt x="2067" y="1171"/>
                    </a:lnTo>
                    <a:lnTo>
                      <a:pt x="2068" y="1172"/>
                    </a:lnTo>
                    <a:lnTo>
                      <a:pt x="2071" y="1171"/>
                    </a:lnTo>
                    <a:lnTo>
                      <a:pt x="2075" y="1169"/>
                    </a:lnTo>
                    <a:lnTo>
                      <a:pt x="2077" y="1166"/>
                    </a:lnTo>
                    <a:lnTo>
                      <a:pt x="2080" y="1161"/>
                    </a:lnTo>
                    <a:lnTo>
                      <a:pt x="2082" y="1158"/>
                    </a:lnTo>
                    <a:lnTo>
                      <a:pt x="2085" y="1154"/>
                    </a:lnTo>
                    <a:lnTo>
                      <a:pt x="2087" y="1150"/>
                    </a:lnTo>
                    <a:lnTo>
                      <a:pt x="2090" y="1146"/>
                    </a:lnTo>
                    <a:lnTo>
                      <a:pt x="2097" y="1139"/>
                    </a:lnTo>
                    <a:lnTo>
                      <a:pt x="2106" y="1131"/>
                    </a:lnTo>
                    <a:lnTo>
                      <a:pt x="2112" y="1122"/>
                    </a:lnTo>
                    <a:lnTo>
                      <a:pt x="2118" y="1114"/>
                    </a:lnTo>
                    <a:lnTo>
                      <a:pt x="2125" y="1105"/>
                    </a:lnTo>
                    <a:lnTo>
                      <a:pt x="2131" y="1097"/>
                    </a:lnTo>
                    <a:lnTo>
                      <a:pt x="2137" y="1087"/>
                    </a:lnTo>
                    <a:lnTo>
                      <a:pt x="2144" y="1079"/>
                    </a:lnTo>
                    <a:lnTo>
                      <a:pt x="2142" y="1076"/>
                    </a:lnTo>
                    <a:lnTo>
                      <a:pt x="2141" y="1073"/>
                    </a:lnTo>
                    <a:lnTo>
                      <a:pt x="2141" y="1070"/>
                    </a:lnTo>
                    <a:lnTo>
                      <a:pt x="2141" y="1068"/>
                    </a:lnTo>
                    <a:lnTo>
                      <a:pt x="2143" y="1064"/>
                    </a:lnTo>
                    <a:lnTo>
                      <a:pt x="2146" y="1060"/>
                    </a:lnTo>
                    <a:lnTo>
                      <a:pt x="2149" y="1056"/>
                    </a:lnTo>
                    <a:lnTo>
                      <a:pt x="2152" y="1051"/>
                    </a:lnTo>
                    <a:lnTo>
                      <a:pt x="2153" y="1049"/>
                    </a:lnTo>
                    <a:lnTo>
                      <a:pt x="2154" y="1047"/>
                    </a:lnTo>
                    <a:lnTo>
                      <a:pt x="2154" y="1044"/>
                    </a:lnTo>
                    <a:lnTo>
                      <a:pt x="2154" y="1041"/>
                    </a:lnTo>
                    <a:lnTo>
                      <a:pt x="2157" y="1036"/>
                    </a:lnTo>
                    <a:lnTo>
                      <a:pt x="2160" y="1030"/>
                    </a:lnTo>
                    <a:lnTo>
                      <a:pt x="2163" y="1025"/>
                    </a:lnTo>
                    <a:lnTo>
                      <a:pt x="2167" y="1020"/>
                    </a:lnTo>
                    <a:lnTo>
                      <a:pt x="2169" y="1014"/>
                    </a:lnTo>
                    <a:lnTo>
                      <a:pt x="2171" y="1009"/>
                    </a:lnTo>
                    <a:lnTo>
                      <a:pt x="2171" y="1004"/>
                    </a:lnTo>
                    <a:lnTo>
                      <a:pt x="2170" y="998"/>
                    </a:lnTo>
                    <a:lnTo>
                      <a:pt x="2178" y="990"/>
                    </a:lnTo>
                    <a:lnTo>
                      <a:pt x="2183" y="982"/>
                    </a:lnTo>
                    <a:lnTo>
                      <a:pt x="2187" y="972"/>
                    </a:lnTo>
                    <a:lnTo>
                      <a:pt x="2190" y="963"/>
                    </a:lnTo>
                    <a:lnTo>
                      <a:pt x="2194" y="953"/>
                    </a:lnTo>
                    <a:lnTo>
                      <a:pt x="2197" y="945"/>
                    </a:lnTo>
                    <a:lnTo>
                      <a:pt x="2202" y="935"/>
                    </a:lnTo>
                    <a:lnTo>
                      <a:pt x="2208" y="927"/>
                    </a:lnTo>
                    <a:lnTo>
                      <a:pt x="2210" y="923"/>
                    </a:lnTo>
                    <a:lnTo>
                      <a:pt x="2212" y="921"/>
                    </a:lnTo>
                    <a:lnTo>
                      <a:pt x="2210" y="918"/>
                    </a:lnTo>
                    <a:lnTo>
                      <a:pt x="2208" y="916"/>
                    </a:lnTo>
                    <a:lnTo>
                      <a:pt x="2207" y="914"/>
                    </a:lnTo>
                    <a:lnTo>
                      <a:pt x="2206" y="912"/>
                    </a:lnTo>
                    <a:lnTo>
                      <a:pt x="2205" y="909"/>
                    </a:lnTo>
                    <a:lnTo>
                      <a:pt x="2206" y="905"/>
                    </a:lnTo>
                    <a:lnTo>
                      <a:pt x="2210" y="898"/>
                    </a:lnTo>
                    <a:lnTo>
                      <a:pt x="2215" y="891"/>
                    </a:lnTo>
                    <a:lnTo>
                      <a:pt x="2218" y="883"/>
                    </a:lnTo>
                    <a:lnTo>
                      <a:pt x="2222" y="876"/>
                    </a:lnTo>
                    <a:lnTo>
                      <a:pt x="2226" y="867"/>
                    </a:lnTo>
                    <a:lnTo>
                      <a:pt x="2230" y="860"/>
                    </a:lnTo>
                    <a:lnTo>
                      <a:pt x="2233" y="851"/>
                    </a:lnTo>
                    <a:lnTo>
                      <a:pt x="2235" y="843"/>
                    </a:lnTo>
                    <a:lnTo>
                      <a:pt x="2231" y="836"/>
                    </a:lnTo>
                    <a:lnTo>
                      <a:pt x="2234" y="824"/>
                    </a:lnTo>
                    <a:lnTo>
                      <a:pt x="2238" y="813"/>
                    </a:lnTo>
                    <a:lnTo>
                      <a:pt x="2242" y="802"/>
                    </a:lnTo>
                    <a:lnTo>
                      <a:pt x="2246" y="791"/>
                    </a:lnTo>
                    <a:lnTo>
                      <a:pt x="2250" y="780"/>
                    </a:lnTo>
                    <a:lnTo>
                      <a:pt x="2253" y="768"/>
                    </a:lnTo>
                    <a:lnTo>
                      <a:pt x="2256" y="756"/>
                    </a:lnTo>
                    <a:lnTo>
                      <a:pt x="2257" y="745"/>
                    </a:lnTo>
                    <a:lnTo>
                      <a:pt x="2260" y="745"/>
                    </a:lnTo>
                    <a:lnTo>
                      <a:pt x="2263" y="744"/>
                    </a:lnTo>
                    <a:lnTo>
                      <a:pt x="2266" y="743"/>
                    </a:lnTo>
                    <a:lnTo>
                      <a:pt x="2268" y="740"/>
                    </a:lnTo>
                    <a:lnTo>
                      <a:pt x="2270" y="735"/>
                    </a:lnTo>
                    <a:lnTo>
                      <a:pt x="2272" y="730"/>
                    </a:lnTo>
                    <a:lnTo>
                      <a:pt x="2274" y="725"/>
                    </a:lnTo>
                    <a:lnTo>
                      <a:pt x="2277" y="720"/>
                    </a:lnTo>
                    <a:lnTo>
                      <a:pt x="2280" y="719"/>
                    </a:lnTo>
                    <a:lnTo>
                      <a:pt x="2283" y="718"/>
                    </a:lnTo>
                    <a:lnTo>
                      <a:pt x="2287" y="719"/>
                    </a:lnTo>
                    <a:lnTo>
                      <a:pt x="2292" y="720"/>
                    </a:lnTo>
                    <a:lnTo>
                      <a:pt x="2304" y="700"/>
                    </a:lnTo>
                    <a:lnTo>
                      <a:pt x="2309" y="710"/>
                    </a:lnTo>
                    <a:lnTo>
                      <a:pt x="2314" y="720"/>
                    </a:lnTo>
                    <a:lnTo>
                      <a:pt x="2319" y="731"/>
                    </a:lnTo>
                    <a:lnTo>
                      <a:pt x="2323" y="741"/>
                    </a:lnTo>
                    <a:lnTo>
                      <a:pt x="2327" y="753"/>
                    </a:lnTo>
                    <a:lnTo>
                      <a:pt x="2329" y="765"/>
                    </a:lnTo>
                    <a:lnTo>
                      <a:pt x="2331" y="776"/>
                    </a:lnTo>
                    <a:lnTo>
                      <a:pt x="2333" y="788"/>
                    </a:lnTo>
                    <a:lnTo>
                      <a:pt x="2333" y="801"/>
                    </a:lnTo>
                    <a:lnTo>
                      <a:pt x="2334" y="812"/>
                    </a:lnTo>
                    <a:lnTo>
                      <a:pt x="2333" y="825"/>
                    </a:lnTo>
                    <a:lnTo>
                      <a:pt x="2332" y="837"/>
                    </a:lnTo>
                    <a:lnTo>
                      <a:pt x="2330" y="849"/>
                    </a:lnTo>
                    <a:lnTo>
                      <a:pt x="2328" y="861"/>
                    </a:lnTo>
                    <a:lnTo>
                      <a:pt x="2325" y="873"/>
                    </a:lnTo>
                    <a:lnTo>
                      <a:pt x="2322" y="884"/>
                    </a:lnTo>
                    <a:lnTo>
                      <a:pt x="2319" y="894"/>
                    </a:lnTo>
                    <a:lnTo>
                      <a:pt x="2317" y="903"/>
                    </a:lnTo>
                    <a:lnTo>
                      <a:pt x="2314" y="914"/>
                    </a:lnTo>
                    <a:lnTo>
                      <a:pt x="2311" y="923"/>
                    </a:lnTo>
                    <a:lnTo>
                      <a:pt x="2307" y="933"/>
                    </a:lnTo>
                    <a:lnTo>
                      <a:pt x="2303" y="943"/>
                    </a:lnTo>
                    <a:lnTo>
                      <a:pt x="2298" y="953"/>
                    </a:lnTo>
                    <a:lnTo>
                      <a:pt x="2293" y="963"/>
                    </a:lnTo>
                    <a:lnTo>
                      <a:pt x="2294" y="970"/>
                    </a:lnTo>
                    <a:lnTo>
                      <a:pt x="2293" y="978"/>
                    </a:lnTo>
                    <a:lnTo>
                      <a:pt x="2291" y="986"/>
                    </a:lnTo>
                    <a:lnTo>
                      <a:pt x="2288" y="993"/>
                    </a:lnTo>
                    <a:lnTo>
                      <a:pt x="2285" y="1001"/>
                    </a:lnTo>
                    <a:lnTo>
                      <a:pt x="2281" y="1008"/>
                    </a:lnTo>
                    <a:lnTo>
                      <a:pt x="2278" y="1015"/>
                    </a:lnTo>
                    <a:lnTo>
                      <a:pt x="2275" y="1023"/>
                    </a:lnTo>
                    <a:lnTo>
                      <a:pt x="2286" y="1033"/>
                    </a:lnTo>
                    <a:lnTo>
                      <a:pt x="2280" y="1046"/>
                    </a:lnTo>
                    <a:lnTo>
                      <a:pt x="2274" y="1059"/>
                    </a:lnTo>
                    <a:lnTo>
                      <a:pt x="2267" y="1073"/>
                    </a:lnTo>
                    <a:lnTo>
                      <a:pt x="2260" y="1085"/>
                    </a:lnTo>
                    <a:lnTo>
                      <a:pt x="2254" y="1098"/>
                    </a:lnTo>
                    <a:lnTo>
                      <a:pt x="2249" y="1111"/>
                    </a:lnTo>
                    <a:lnTo>
                      <a:pt x="2246" y="1118"/>
                    </a:lnTo>
                    <a:lnTo>
                      <a:pt x="2245" y="1124"/>
                    </a:lnTo>
                    <a:lnTo>
                      <a:pt x="2244" y="1131"/>
                    </a:lnTo>
                    <a:lnTo>
                      <a:pt x="2244" y="1138"/>
                    </a:lnTo>
                    <a:lnTo>
                      <a:pt x="2241" y="1146"/>
                    </a:lnTo>
                    <a:lnTo>
                      <a:pt x="2238" y="1152"/>
                    </a:lnTo>
                    <a:lnTo>
                      <a:pt x="2235" y="1159"/>
                    </a:lnTo>
                    <a:lnTo>
                      <a:pt x="2231" y="1167"/>
                    </a:lnTo>
                    <a:lnTo>
                      <a:pt x="2227" y="1174"/>
                    </a:lnTo>
                    <a:lnTo>
                      <a:pt x="2225" y="1181"/>
                    </a:lnTo>
                    <a:lnTo>
                      <a:pt x="2223" y="1189"/>
                    </a:lnTo>
                    <a:lnTo>
                      <a:pt x="2222" y="1196"/>
                    </a:lnTo>
                    <a:lnTo>
                      <a:pt x="2239" y="1180"/>
                    </a:lnTo>
                    <a:lnTo>
                      <a:pt x="2238" y="1188"/>
                    </a:lnTo>
                    <a:lnTo>
                      <a:pt x="2236" y="1196"/>
                    </a:lnTo>
                    <a:lnTo>
                      <a:pt x="2234" y="1206"/>
                    </a:lnTo>
                    <a:lnTo>
                      <a:pt x="2233" y="1215"/>
                    </a:lnTo>
                    <a:lnTo>
                      <a:pt x="2233" y="1225"/>
                    </a:lnTo>
                    <a:lnTo>
                      <a:pt x="2234" y="1233"/>
                    </a:lnTo>
                    <a:lnTo>
                      <a:pt x="2236" y="1238"/>
                    </a:lnTo>
                    <a:lnTo>
                      <a:pt x="2239" y="1241"/>
                    </a:lnTo>
                    <a:lnTo>
                      <a:pt x="2242" y="1244"/>
                    </a:lnTo>
                    <a:lnTo>
                      <a:pt x="2246" y="1247"/>
                    </a:lnTo>
                    <a:lnTo>
                      <a:pt x="2250" y="1251"/>
                    </a:lnTo>
                    <a:lnTo>
                      <a:pt x="2252" y="1255"/>
                    </a:lnTo>
                    <a:lnTo>
                      <a:pt x="2253" y="1260"/>
                    </a:lnTo>
                    <a:lnTo>
                      <a:pt x="2254" y="1264"/>
                    </a:lnTo>
                    <a:lnTo>
                      <a:pt x="2255" y="1272"/>
                    </a:lnTo>
                    <a:lnTo>
                      <a:pt x="2256" y="1281"/>
                    </a:lnTo>
                    <a:lnTo>
                      <a:pt x="2257" y="1289"/>
                    </a:lnTo>
                    <a:lnTo>
                      <a:pt x="2258" y="1298"/>
                    </a:lnTo>
                    <a:lnTo>
                      <a:pt x="2260" y="1302"/>
                    </a:lnTo>
                    <a:lnTo>
                      <a:pt x="2262" y="1305"/>
                    </a:lnTo>
                    <a:lnTo>
                      <a:pt x="2266" y="1309"/>
                    </a:lnTo>
                    <a:lnTo>
                      <a:pt x="2269" y="1313"/>
                    </a:lnTo>
                    <a:lnTo>
                      <a:pt x="2269" y="1321"/>
                    </a:lnTo>
                    <a:lnTo>
                      <a:pt x="2270" y="1328"/>
                    </a:lnTo>
                    <a:lnTo>
                      <a:pt x="2272" y="1336"/>
                    </a:lnTo>
                    <a:lnTo>
                      <a:pt x="2275" y="1342"/>
                    </a:lnTo>
                    <a:lnTo>
                      <a:pt x="2277" y="1349"/>
                    </a:lnTo>
                    <a:lnTo>
                      <a:pt x="2280" y="1355"/>
                    </a:lnTo>
                    <a:lnTo>
                      <a:pt x="2282" y="1362"/>
                    </a:lnTo>
                    <a:lnTo>
                      <a:pt x="2283" y="1370"/>
                    </a:lnTo>
                    <a:lnTo>
                      <a:pt x="2293" y="1374"/>
                    </a:lnTo>
                    <a:lnTo>
                      <a:pt x="2294" y="1381"/>
                    </a:lnTo>
                    <a:lnTo>
                      <a:pt x="2295" y="1390"/>
                    </a:lnTo>
                    <a:lnTo>
                      <a:pt x="2295" y="1397"/>
                    </a:lnTo>
                    <a:lnTo>
                      <a:pt x="2296" y="1406"/>
                    </a:lnTo>
                    <a:lnTo>
                      <a:pt x="2298" y="1413"/>
                    </a:lnTo>
                    <a:lnTo>
                      <a:pt x="2301" y="1420"/>
                    </a:lnTo>
                    <a:lnTo>
                      <a:pt x="2306" y="1426"/>
                    </a:lnTo>
                    <a:lnTo>
                      <a:pt x="2311" y="1430"/>
                    </a:lnTo>
                    <a:lnTo>
                      <a:pt x="2314" y="1435"/>
                    </a:lnTo>
                    <a:lnTo>
                      <a:pt x="2317" y="1441"/>
                    </a:lnTo>
                    <a:lnTo>
                      <a:pt x="2319" y="1446"/>
                    </a:lnTo>
                    <a:lnTo>
                      <a:pt x="2322" y="1451"/>
                    </a:lnTo>
                    <a:lnTo>
                      <a:pt x="2325" y="1456"/>
                    </a:lnTo>
                    <a:lnTo>
                      <a:pt x="2327" y="1462"/>
                    </a:lnTo>
                    <a:lnTo>
                      <a:pt x="2330" y="1467"/>
                    </a:lnTo>
                    <a:lnTo>
                      <a:pt x="2334" y="1472"/>
                    </a:lnTo>
                    <a:lnTo>
                      <a:pt x="2340" y="1478"/>
                    </a:lnTo>
                    <a:lnTo>
                      <a:pt x="2347" y="1481"/>
                    </a:lnTo>
                    <a:lnTo>
                      <a:pt x="2354" y="1484"/>
                    </a:lnTo>
                    <a:lnTo>
                      <a:pt x="2362" y="1485"/>
                    </a:lnTo>
                    <a:lnTo>
                      <a:pt x="2378" y="1487"/>
                    </a:lnTo>
                    <a:lnTo>
                      <a:pt x="2394" y="1488"/>
                    </a:lnTo>
                    <a:lnTo>
                      <a:pt x="2401" y="1489"/>
                    </a:lnTo>
                    <a:lnTo>
                      <a:pt x="2408" y="1491"/>
                    </a:lnTo>
                    <a:lnTo>
                      <a:pt x="2415" y="1493"/>
                    </a:lnTo>
                    <a:lnTo>
                      <a:pt x="2420" y="1498"/>
                    </a:lnTo>
                    <a:lnTo>
                      <a:pt x="2425" y="1503"/>
                    </a:lnTo>
                    <a:lnTo>
                      <a:pt x="2428" y="1509"/>
                    </a:lnTo>
                    <a:lnTo>
                      <a:pt x="2432" y="1518"/>
                    </a:lnTo>
                    <a:lnTo>
                      <a:pt x="2433" y="1529"/>
                    </a:lnTo>
                    <a:lnTo>
                      <a:pt x="2441" y="1550"/>
                    </a:lnTo>
                    <a:lnTo>
                      <a:pt x="2447" y="1570"/>
                    </a:lnTo>
                    <a:lnTo>
                      <a:pt x="2452" y="1590"/>
                    </a:lnTo>
                    <a:lnTo>
                      <a:pt x="2455" y="1611"/>
                    </a:lnTo>
                    <a:lnTo>
                      <a:pt x="2457" y="1632"/>
                    </a:lnTo>
                    <a:lnTo>
                      <a:pt x="2457" y="1653"/>
                    </a:lnTo>
                    <a:lnTo>
                      <a:pt x="2457" y="1675"/>
                    </a:lnTo>
                    <a:lnTo>
                      <a:pt x="2456" y="1697"/>
                    </a:lnTo>
                    <a:lnTo>
                      <a:pt x="2453" y="1697"/>
                    </a:lnTo>
                    <a:lnTo>
                      <a:pt x="2450" y="1699"/>
                    </a:lnTo>
                    <a:lnTo>
                      <a:pt x="2447" y="1701"/>
                    </a:lnTo>
                    <a:lnTo>
                      <a:pt x="2446" y="1704"/>
                    </a:lnTo>
                    <a:lnTo>
                      <a:pt x="2444" y="1707"/>
                    </a:lnTo>
                    <a:lnTo>
                      <a:pt x="2443" y="1710"/>
                    </a:lnTo>
                    <a:lnTo>
                      <a:pt x="2441" y="1713"/>
                    </a:lnTo>
                    <a:lnTo>
                      <a:pt x="2438" y="1717"/>
                    </a:lnTo>
                    <a:lnTo>
                      <a:pt x="2437" y="1715"/>
                    </a:lnTo>
                    <a:lnTo>
                      <a:pt x="2436" y="1713"/>
                    </a:lnTo>
                    <a:lnTo>
                      <a:pt x="2434" y="1712"/>
                    </a:lnTo>
                    <a:lnTo>
                      <a:pt x="2433" y="1711"/>
                    </a:lnTo>
                    <a:lnTo>
                      <a:pt x="2431" y="1710"/>
                    </a:lnTo>
                    <a:lnTo>
                      <a:pt x="2428" y="1710"/>
                    </a:lnTo>
                    <a:lnTo>
                      <a:pt x="2426" y="1710"/>
                    </a:lnTo>
                    <a:lnTo>
                      <a:pt x="2424" y="1710"/>
                    </a:lnTo>
                    <a:lnTo>
                      <a:pt x="2413" y="1726"/>
                    </a:lnTo>
                    <a:lnTo>
                      <a:pt x="2406" y="1726"/>
                    </a:lnTo>
                    <a:lnTo>
                      <a:pt x="2400" y="1726"/>
                    </a:lnTo>
                    <a:lnTo>
                      <a:pt x="2395" y="1727"/>
                    </a:lnTo>
                    <a:lnTo>
                      <a:pt x="2390" y="1728"/>
                    </a:lnTo>
                    <a:lnTo>
                      <a:pt x="2385" y="1730"/>
                    </a:lnTo>
                    <a:lnTo>
                      <a:pt x="2380" y="1733"/>
                    </a:lnTo>
                    <a:lnTo>
                      <a:pt x="2376" y="1735"/>
                    </a:lnTo>
                    <a:lnTo>
                      <a:pt x="2370" y="1737"/>
                    </a:lnTo>
                    <a:lnTo>
                      <a:pt x="2369" y="1736"/>
                    </a:lnTo>
                    <a:lnTo>
                      <a:pt x="2369" y="1735"/>
                    </a:lnTo>
                    <a:lnTo>
                      <a:pt x="2370" y="1734"/>
                    </a:lnTo>
                    <a:lnTo>
                      <a:pt x="2371" y="1733"/>
                    </a:lnTo>
                    <a:lnTo>
                      <a:pt x="2371" y="1730"/>
                    </a:lnTo>
                    <a:lnTo>
                      <a:pt x="2372" y="1728"/>
                    </a:lnTo>
                    <a:lnTo>
                      <a:pt x="2372" y="1726"/>
                    </a:lnTo>
                    <a:lnTo>
                      <a:pt x="2371" y="1724"/>
                    </a:lnTo>
                    <a:lnTo>
                      <a:pt x="2366" y="1722"/>
                    </a:lnTo>
                    <a:lnTo>
                      <a:pt x="2361" y="1721"/>
                    </a:lnTo>
                    <a:lnTo>
                      <a:pt x="2355" y="1720"/>
                    </a:lnTo>
                    <a:lnTo>
                      <a:pt x="2350" y="1721"/>
                    </a:lnTo>
                    <a:lnTo>
                      <a:pt x="2339" y="1724"/>
                    </a:lnTo>
                    <a:lnTo>
                      <a:pt x="2328" y="1728"/>
                    </a:lnTo>
                    <a:lnTo>
                      <a:pt x="2317" y="1733"/>
                    </a:lnTo>
                    <a:lnTo>
                      <a:pt x="2307" y="1737"/>
                    </a:lnTo>
                    <a:lnTo>
                      <a:pt x="2301" y="1739"/>
                    </a:lnTo>
                    <a:lnTo>
                      <a:pt x="2296" y="1740"/>
                    </a:lnTo>
                    <a:lnTo>
                      <a:pt x="2291" y="1740"/>
                    </a:lnTo>
                    <a:lnTo>
                      <a:pt x="2286" y="1739"/>
                    </a:lnTo>
                    <a:lnTo>
                      <a:pt x="2283" y="1740"/>
                    </a:lnTo>
                    <a:lnTo>
                      <a:pt x="2281" y="1740"/>
                    </a:lnTo>
                    <a:lnTo>
                      <a:pt x="2279" y="1741"/>
                    </a:lnTo>
                    <a:lnTo>
                      <a:pt x="2277" y="1741"/>
                    </a:lnTo>
                    <a:lnTo>
                      <a:pt x="2275" y="1742"/>
                    </a:lnTo>
                    <a:lnTo>
                      <a:pt x="2273" y="1742"/>
                    </a:lnTo>
                    <a:lnTo>
                      <a:pt x="2271" y="1742"/>
                    </a:lnTo>
                    <a:lnTo>
                      <a:pt x="2269" y="1742"/>
                    </a:lnTo>
                    <a:lnTo>
                      <a:pt x="2250" y="1750"/>
                    </a:lnTo>
                    <a:lnTo>
                      <a:pt x="2246" y="1737"/>
                    </a:lnTo>
                    <a:lnTo>
                      <a:pt x="2243" y="1736"/>
                    </a:lnTo>
                    <a:lnTo>
                      <a:pt x="2239" y="1735"/>
                    </a:lnTo>
                    <a:lnTo>
                      <a:pt x="2236" y="1735"/>
                    </a:lnTo>
                    <a:lnTo>
                      <a:pt x="2232" y="1736"/>
                    </a:lnTo>
                    <a:lnTo>
                      <a:pt x="2224" y="1738"/>
                    </a:lnTo>
                    <a:lnTo>
                      <a:pt x="2217" y="1740"/>
                    </a:lnTo>
                    <a:lnTo>
                      <a:pt x="2209" y="1742"/>
                    </a:lnTo>
                    <a:lnTo>
                      <a:pt x="2202" y="1742"/>
                    </a:lnTo>
                    <a:lnTo>
                      <a:pt x="2199" y="1742"/>
                    </a:lnTo>
                    <a:lnTo>
                      <a:pt x="2196" y="1741"/>
                    </a:lnTo>
                    <a:lnTo>
                      <a:pt x="2191" y="1739"/>
                    </a:lnTo>
                    <a:lnTo>
                      <a:pt x="2188" y="1737"/>
                    </a:lnTo>
                    <a:lnTo>
                      <a:pt x="2186" y="1738"/>
                    </a:lnTo>
                    <a:lnTo>
                      <a:pt x="2185" y="1739"/>
                    </a:lnTo>
                    <a:lnTo>
                      <a:pt x="2183" y="1739"/>
                    </a:lnTo>
                    <a:lnTo>
                      <a:pt x="2181" y="1739"/>
                    </a:lnTo>
                    <a:lnTo>
                      <a:pt x="2179" y="1739"/>
                    </a:lnTo>
                    <a:lnTo>
                      <a:pt x="2177" y="1739"/>
                    </a:lnTo>
                    <a:lnTo>
                      <a:pt x="2175" y="1739"/>
                    </a:lnTo>
                    <a:lnTo>
                      <a:pt x="2172" y="1739"/>
                    </a:lnTo>
                    <a:lnTo>
                      <a:pt x="2172" y="1738"/>
                    </a:lnTo>
                    <a:lnTo>
                      <a:pt x="2172" y="1737"/>
                    </a:lnTo>
                    <a:lnTo>
                      <a:pt x="2171" y="1736"/>
                    </a:lnTo>
                    <a:lnTo>
                      <a:pt x="2171" y="1736"/>
                    </a:lnTo>
                    <a:lnTo>
                      <a:pt x="2170" y="1735"/>
                    </a:lnTo>
                    <a:lnTo>
                      <a:pt x="2169" y="1734"/>
                    </a:lnTo>
                    <a:lnTo>
                      <a:pt x="2169" y="1734"/>
                    </a:lnTo>
                    <a:lnTo>
                      <a:pt x="2168" y="1733"/>
                    </a:lnTo>
                    <a:lnTo>
                      <a:pt x="2161" y="1735"/>
                    </a:lnTo>
                    <a:lnTo>
                      <a:pt x="2152" y="1738"/>
                    </a:lnTo>
                    <a:lnTo>
                      <a:pt x="2143" y="1741"/>
                    </a:lnTo>
                    <a:lnTo>
                      <a:pt x="2134" y="1743"/>
                    </a:lnTo>
                    <a:lnTo>
                      <a:pt x="2126" y="1744"/>
                    </a:lnTo>
                    <a:lnTo>
                      <a:pt x="2117" y="1744"/>
                    </a:lnTo>
                    <a:lnTo>
                      <a:pt x="2113" y="1743"/>
                    </a:lnTo>
                    <a:lnTo>
                      <a:pt x="2109" y="1741"/>
                    </a:lnTo>
                    <a:lnTo>
                      <a:pt x="2106" y="1738"/>
                    </a:lnTo>
                    <a:lnTo>
                      <a:pt x="2101" y="1735"/>
                    </a:lnTo>
                    <a:lnTo>
                      <a:pt x="2101" y="1726"/>
                    </a:lnTo>
                    <a:lnTo>
                      <a:pt x="2100" y="1719"/>
                    </a:lnTo>
                    <a:lnTo>
                      <a:pt x="2099" y="1710"/>
                    </a:lnTo>
                    <a:lnTo>
                      <a:pt x="2098" y="1703"/>
                    </a:lnTo>
                    <a:lnTo>
                      <a:pt x="2097" y="1695"/>
                    </a:lnTo>
                    <a:lnTo>
                      <a:pt x="2097" y="1688"/>
                    </a:lnTo>
                    <a:lnTo>
                      <a:pt x="2098" y="1681"/>
                    </a:lnTo>
                    <a:lnTo>
                      <a:pt x="2099" y="1672"/>
                    </a:lnTo>
                    <a:lnTo>
                      <a:pt x="2107" y="1667"/>
                    </a:lnTo>
                    <a:lnTo>
                      <a:pt x="2113" y="1662"/>
                    </a:lnTo>
                    <a:lnTo>
                      <a:pt x="2118" y="1655"/>
                    </a:lnTo>
                    <a:lnTo>
                      <a:pt x="2124" y="1648"/>
                    </a:lnTo>
                    <a:lnTo>
                      <a:pt x="2128" y="1642"/>
                    </a:lnTo>
                    <a:lnTo>
                      <a:pt x="2133" y="1634"/>
                    </a:lnTo>
                    <a:lnTo>
                      <a:pt x="2137" y="1627"/>
                    </a:lnTo>
                    <a:lnTo>
                      <a:pt x="2142" y="1619"/>
                    </a:lnTo>
                    <a:lnTo>
                      <a:pt x="2143" y="1615"/>
                    </a:lnTo>
                    <a:lnTo>
                      <a:pt x="2143" y="1610"/>
                    </a:lnTo>
                    <a:lnTo>
                      <a:pt x="2142" y="1605"/>
                    </a:lnTo>
                    <a:lnTo>
                      <a:pt x="2140" y="1599"/>
                    </a:lnTo>
                    <a:lnTo>
                      <a:pt x="2137" y="1594"/>
                    </a:lnTo>
                    <a:lnTo>
                      <a:pt x="2134" y="1589"/>
                    </a:lnTo>
                    <a:lnTo>
                      <a:pt x="2130" y="1583"/>
                    </a:lnTo>
                    <a:lnTo>
                      <a:pt x="2126" y="1579"/>
                    </a:lnTo>
                    <a:lnTo>
                      <a:pt x="2122" y="1579"/>
                    </a:lnTo>
                    <a:lnTo>
                      <a:pt x="2124" y="1577"/>
                    </a:lnTo>
                    <a:lnTo>
                      <a:pt x="2115" y="1571"/>
                    </a:lnTo>
                    <a:lnTo>
                      <a:pt x="2106" y="1563"/>
                    </a:lnTo>
                    <a:lnTo>
                      <a:pt x="2095" y="1557"/>
                    </a:lnTo>
                    <a:lnTo>
                      <a:pt x="2086" y="1550"/>
                    </a:lnTo>
                    <a:lnTo>
                      <a:pt x="2081" y="1545"/>
                    </a:lnTo>
                    <a:lnTo>
                      <a:pt x="2077" y="1540"/>
                    </a:lnTo>
                    <a:lnTo>
                      <a:pt x="2074" y="1536"/>
                    </a:lnTo>
                    <a:lnTo>
                      <a:pt x="2072" y="1530"/>
                    </a:lnTo>
                    <a:lnTo>
                      <a:pt x="2070" y="1525"/>
                    </a:lnTo>
                    <a:lnTo>
                      <a:pt x="2069" y="1519"/>
                    </a:lnTo>
                    <a:lnTo>
                      <a:pt x="2069" y="1511"/>
                    </a:lnTo>
                    <a:lnTo>
                      <a:pt x="2070" y="1505"/>
                    </a:lnTo>
                    <a:lnTo>
                      <a:pt x="2069" y="1499"/>
                    </a:lnTo>
                    <a:lnTo>
                      <a:pt x="2069" y="1492"/>
                    </a:lnTo>
                    <a:lnTo>
                      <a:pt x="2070" y="1487"/>
                    </a:lnTo>
                    <a:lnTo>
                      <a:pt x="2071" y="1481"/>
                    </a:lnTo>
                    <a:lnTo>
                      <a:pt x="2075" y="1470"/>
                    </a:lnTo>
                    <a:lnTo>
                      <a:pt x="2080" y="1459"/>
                    </a:lnTo>
                    <a:lnTo>
                      <a:pt x="2087" y="1448"/>
                    </a:lnTo>
                    <a:lnTo>
                      <a:pt x="2093" y="1438"/>
                    </a:lnTo>
                    <a:lnTo>
                      <a:pt x="2100" y="1428"/>
                    </a:lnTo>
                    <a:lnTo>
                      <a:pt x="2108" y="1418"/>
                    </a:lnTo>
                    <a:lnTo>
                      <a:pt x="2104" y="1414"/>
                    </a:lnTo>
                    <a:lnTo>
                      <a:pt x="2093" y="1423"/>
                    </a:lnTo>
                    <a:lnTo>
                      <a:pt x="2085" y="1432"/>
                    </a:lnTo>
                    <a:lnTo>
                      <a:pt x="2076" y="1443"/>
                    </a:lnTo>
                    <a:lnTo>
                      <a:pt x="2069" y="1453"/>
                    </a:lnTo>
                    <a:lnTo>
                      <a:pt x="2061" y="1465"/>
                    </a:lnTo>
                    <a:lnTo>
                      <a:pt x="2054" y="1477"/>
                    </a:lnTo>
                    <a:lnTo>
                      <a:pt x="2046" y="1488"/>
                    </a:lnTo>
                    <a:lnTo>
                      <a:pt x="2039" y="1499"/>
                    </a:lnTo>
                    <a:lnTo>
                      <a:pt x="2042" y="1504"/>
                    </a:lnTo>
                    <a:lnTo>
                      <a:pt x="2043" y="1509"/>
                    </a:lnTo>
                    <a:lnTo>
                      <a:pt x="2043" y="1515"/>
                    </a:lnTo>
                    <a:lnTo>
                      <a:pt x="2042" y="1520"/>
                    </a:lnTo>
                    <a:lnTo>
                      <a:pt x="2041" y="1525"/>
                    </a:lnTo>
                    <a:lnTo>
                      <a:pt x="2041" y="1530"/>
                    </a:lnTo>
                    <a:lnTo>
                      <a:pt x="2042" y="1533"/>
                    </a:lnTo>
                    <a:lnTo>
                      <a:pt x="2043" y="1536"/>
                    </a:lnTo>
                    <a:lnTo>
                      <a:pt x="2044" y="1538"/>
                    </a:lnTo>
                    <a:lnTo>
                      <a:pt x="2048" y="1539"/>
                    </a:lnTo>
                    <a:lnTo>
                      <a:pt x="2046" y="1542"/>
                    </a:lnTo>
                    <a:lnTo>
                      <a:pt x="2046" y="1544"/>
                    </a:lnTo>
                    <a:lnTo>
                      <a:pt x="2048" y="1546"/>
                    </a:lnTo>
                    <a:lnTo>
                      <a:pt x="2049" y="1547"/>
                    </a:lnTo>
                    <a:lnTo>
                      <a:pt x="2051" y="1548"/>
                    </a:lnTo>
                    <a:lnTo>
                      <a:pt x="2052" y="1550"/>
                    </a:lnTo>
                    <a:lnTo>
                      <a:pt x="2054" y="1550"/>
                    </a:lnTo>
                    <a:lnTo>
                      <a:pt x="2055" y="1548"/>
                    </a:lnTo>
                    <a:lnTo>
                      <a:pt x="2054" y="1555"/>
                    </a:lnTo>
                    <a:lnTo>
                      <a:pt x="2055" y="1559"/>
                    </a:lnTo>
                    <a:lnTo>
                      <a:pt x="2056" y="1563"/>
                    </a:lnTo>
                    <a:lnTo>
                      <a:pt x="2058" y="1568"/>
                    </a:lnTo>
                    <a:lnTo>
                      <a:pt x="2060" y="1572"/>
                    </a:lnTo>
                    <a:lnTo>
                      <a:pt x="2063" y="1575"/>
                    </a:lnTo>
                    <a:lnTo>
                      <a:pt x="2067" y="1578"/>
                    </a:lnTo>
                    <a:lnTo>
                      <a:pt x="2070" y="1581"/>
                    </a:lnTo>
                    <a:lnTo>
                      <a:pt x="2072" y="1582"/>
                    </a:lnTo>
                    <a:lnTo>
                      <a:pt x="2074" y="1581"/>
                    </a:lnTo>
                    <a:lnTo>
                      <a:pt x="2077" y="1581"/>
                    </a:lnTo>
                    <a:lnTo>
                      <a:pt x="2079" y="1581"/>
                    </a:lnTo>
                    <a:lnTo>
                      <a:pt x="2081" y="1581"/>
                    </a:lnTo>
                    <a:lnTo>
                      <a:pt x="2085" y="1582"/>
                    </a:lnTo>
                    <a:lnTo>
                      <a:pt x="2086" y="1583"/>
                    </a:lnTo>
                    <a:lnTo>
                      <a:pt x="2088" y="1585"/>
                    </a:lnTo>
                    <a:lnTo>
                      <a:pt x="2089" y="1590"/>
                    </a:lnTo>
                    <a:lnTo>
                      <a:pt x="2088" y="1595"/>
                    </a:lnTo>
                    <a:lnTo>
                      <a:pt x="2088" y="1600"/>
                    </a:lnTo>
                    <a:lnTo>
                      <a:pt x="2087" y="1606"/>
                    </a:lnTo>
                    <a:lnTo>
                      <a:pt x="2087" y="1610"/>
                    </a:lnTo>
                    <a:lnTo>
                      <a:pt x="2089" y="1614"/>
                    </a:lnTo>
                    <a:lnTo>
                      <a:pt x="2090" y="1615"/>
                    </a:lnTo>
                    <a:lnTo>
                      <a:pt x="2092" y="1616"/>
                    </a:lnTo>
                    <a:lnTo>
                      <a:pt x="2094" y="1617"/>
                    </a:lnTo>
                    <a:lnTo>
                      <a:pt x="2097" y="1617"/>
                    </a:lnTo>
                    <a:lnTo>
                      <a:pt x="2096" y="1632"/>
                    </a:lnTo>
                    <a:lnTo>
                      <a:pt x="2093" y="1646"/>
                    </a:lnTo>
                    <a:lnTo>
                      <a:pt x="2091" y="1658"/>
                    </a:lnTo>
                    <a:lnTo>
                      <a:pt x="2088" y="1672"/>
                    </a:lnTo>
                    <a:lnTo>
                      <a:pt x="2086" y="1685"/>
                    </a:lnTo>
                    <a:lnTo>
                      <a:pt x="2084" y="1699"/>
                    </a:lnTo>
                    <a:lnTo>
                      <a:pt x="2082" y="1711"/>
                    </a:lnTo>
                    <a:lnTo>
                      <a:pt x="2081" y="1724"/>
                    </a:lnTo>
                    <a:lnTo>
                      <a:pt x="2084" y="1728"/>
                    </a:lnTo>
                    <a:lnTo>
                      <a:pt x="2086" y="1733"/>
                    </a:lnTo>
                    <a:lnTo>
                      <a:pt x="2087" y="1737"/>
                    </a:lnTo>
                    <a:lnTo>
                      <a:pt x="2088" y="1742"/>
                    </a:lnTo>
                    <a:lnTo>
                      <a:pt x="2089" y="1746"/>
                    </a:lnTo>
                    <a:lnTo>
                      <a:pt x="2089" y="1750"/>
                    </a:lnTo>
                    <a:lnTo>
                      <a:pt x="2089" y="1755"/>
                    </a:lnTo>
                    <a:lnTo>
                      <a:pt x="2090" y="1759"/>
                    </a:lnTo>
                    <a:lnTo>
                      <a:pt x="2087" y="1757"/>
                    </a:lnTo>
                    <a:lnTo>
                      <a:pt x="2085" y="1755"/>
                    </a:lnTo>
                    <a:lnTo>
                      <a:pt x="2082" y="1752"/>
                    </a:lnTo>
                    <a:lnTo>
                      <a:pt x="2081" y="1749"/>
                    </a:lnTo>
                    <a:lnTo>
                      <a:pt x="2079" y="1746"/>
                    </a:lnTo>
                    <a:lnTo>
                      <a:pt x="2077" y="1744"/>
                    </a:lnTo>
                    <a:lnTo>
                      <a:pt x="2075" y="1743"/>
                    </a:lnTo>
                    <a:lnTo>
                      <a:pt x="2071" y="1742"/>
                    </a:lnTo>
                    <a:lnTo>
                      <a:pt x="2068" y="1746"/>
                    </a:lnTo>
                    <a:lnTo>
                      <a:pt x="2070" y="1753"/>
                    </a:lnTo>
                    <a:lnTo>
                      <a:pt x="2072" y="1759"/>
                    </a:lnTo>
                    <a:lnTo>
                      <a:pt x="2074" y="1765"/>
                    </a:lnTo>
                    <a:lnTo>
                      <a:pt x="2075" y="1772"/>
                    </a:lnTo>
                    <a:lnTo>
                      <a:pt x="2077" y="1778"/>
                    </a:lnTo>
                    <a:lnTo>
                      <a:pt x="2078" y="1784"/>
                    </a:lnTo>
                    <a:lnTo>
                      <a:pt x="2080" y="1791"/>
                    </a:lnTo>
                    <a:lnTo>
                      <a:pt x="2084" y="1797"/>
                    </a:lnTo>
                    <a:lnTo>
                      <a:pt x="2080" y="1795"/>
                    </a:lnTo>
                    <a:lnTo>
                      <a:pt x="2077" y="1793"/>
                    </a:lnTo>
                    <a:lnTo>
                      <a:pt x="2073" y="1790"/>
                    </a:lnTo>
                    <a:lnTo>
                      <a:pt x="2070" y="1788"/>
                    </a:lnTo>
                    <a:lnTo>
                      <a:pt x="2067" y="1784"/>
                    </a:lnTo>
                    <a:lnTo>
                      <a:pt x="2063" y="1781"/>
                    </a:lnTo>
                    <a:lnTo>
                      <a:pt x="2060" y="1778"/>
                    </a:lnTo>
                    <a:lnTo>
                      <a:pt x="2057" y="1775"/>
                    </a:lnTo>
                    <a:lnTo>
                      <a:pt x="2056" y="1776"/>
                    </a:lnTo>
                    <a:lnTo>
                      <a:pt x="2056" y="1777"/>
                    </a:lnTo>
                    <a:lnTo>
                      <a:pt x="2055" y="1778"/>
                    </a:lnTo>
                    <a:lnTo>
                      <a:pt x="2055" y="1779"/>
                    </a:lnTo>
                    <a:lnTo>
                      <a:pt x="2055" y="1780"/>
                    </a:lnTo>
                    <a:lnTo>
                      <a:pt x="2055" y="1781"/>
                    </a:lnTo>
                    <a:lnTo>
                      <a:pt x="2055" y="1782"/>
                    </a:lnTo>
                    <a:lnTo>
                      <a:pt x="2055" y="1783"/>
                    </a:lnTo>
                    <a:lnTo>
                      <a:pt x="2054" y="1781"/>
                    </a:lnTo>
                    <a:lnTo>
                      <a:pt x="2052" y="1779"/>
                    </a:lnTo>
                    <a:lnTo>
                      <a:pt x="2051" y="1777"/>
                    </a:lnTo>
                    <a:lnTo>
                      <a:pt x="2050" y="1774"/>
                    </a:lnTo>
                    <a:lnTo>
                      <a:pt x="2048" y="1772"/>
                    </a:lnTo>
                    <a:lnTo>
                      <a:pt x="2045" y="1770"/>
                    </a:lnTo>
                    <a:lnTo>
                      <a:pt x="2042" y="1768"/>
                    </a:lnTo>
                    <a:lnTo>
                      <a:pt x="2039" y="1770"/>
                    </a:lnTo>
                    <a:lnTo>
                      <a:pt x="2037" y="1776"/>
                    </a:lnTo>
                    <a:lnTo>
                      <a:pt x="2034" y="1782"/>
                    </a:lnTo>
                    <a:lnTo>
                      <a:pt x="2032" y="1790"/>
                    </a:lnTo>
                    <a:lnTo>
                      <a:pt x="2030" y="1797"/>
                    </a:lnTo>
                    <a:lnTo>
                      <a:pt x="2027" y="1803"/>
                    </a:lnTo>
                    <a:lnTo>
                      <a:pt x="2024" y="1810"/>
                    </a:lnTo>
                    <a:lnTo>
                      <a:pt x="2021" y="1816"/>
                    </a:lnTo>
                    <a:lnTo>
                      <a:pt x="2017" y="1821"/>
                    </a:lnTo>
                    <a:lnTo>
                      <a:pt x="2016" y="1816"/>
                    </a:lnTo>
                    <a:lnTo>
                      <a:pt x="2017" y="1810"/>
                    </a:lnTo>
                    <a:lnTo>
                      <a:pt x="2017" y="1804"/>
                    </a:lnTo>
                    <a:lnTo>
                      <a:pt x="2019" y="1798"/>
                    </a:lnTo>
                    <a:lnTo>
                      <a:pt x="2020" y="1793"/>
                    </a:lnTo>
                    <a:lnTo>
                      <a:pt x="2022" y="1786"/>
                    </a:lnTo>
                    <a:lnTo>
                      <a:pt x="2023" y="1781"/>
                    </a:lnTo>
                    <a:lnTo>
                      <a:pt x="2025" y="1775"/>
                    </a:lnTo>
                    <a:lnTo>
                      <a:pt x="2024" y="1774"/>
                    </a:lnTo>
                    <a:lnTo>
                      <a:pt x="2023" y="1773"/>
                    </a:lnTo>
                    <a:lnTo>
                      <a:pt x="2022" y="1773"/>
                    </a:lnTo>
                    <a:lnTo>
                      <a:pt x="2020" y="1773"/>
                    </a:lnTo>
                    <a:lnTo>
                      <a:pt x="2019" y="1773"/>
                    </a:lnTo>
                    <a:lnTo>
                      <a:pt x="2018" y="1773"/>
                    </a:lnTo>
                    <a:lnTo>
                      <a:pt x="2016" y="1773"/>
                    </a:lnTo>
                    <a:lnTo>
                      <a:pt x="2015" y="1773"/>
                    </a:lnTo>
                    <a:lnTo>
                      <a:pt x="1972" y="1817"/>
                    </a:lnTo>
                    <a:lnTo>
                      <a:pt x="1968" y="1801"/>
                    </a:lnTo>
                    <a:lnTo>
                      <a:pt x="1958" y="1807"/>
                    </a:lnTo>
                    <a:lnTo>
                      <a:pt x="1946" y="1813"/>
                    </a:lnTo>
                    <a:lnTo>
                      <a:pt x="1935" y="1819"/>
                    </a:lnTo>
                    <a:lnTo>
                      <a:pt x="1924" y="1827"/>
                    </a:lnTo>
                    <a:lnTo>
                      <a:pt x="1913" y="1833"/>
                    </a:lnTo>
                    <a:lnTo>
                      <a:pt x="1903" y="1840"/>
                    </a:lnTo>
                    <a:lnTo>
                      <a:pt x="1892" y="1848"/>
                    </a:lnTo>
                    <a:lnTo>
                      <a:pt x="1881" y="1855"/>
                    </a:lnTo>
                    <a:lnTo>
                      <a:pt x="1885" y="1848"/>
                    </a:lnTo>
                    <a:lnTo>
                      <a:pt x="1889" y="1840"/>
                    </a:lnTo>
                    <a:lnTo>
                      <a:pt x="1895" y="1834"/>
                    </a:lnTo>
                    <a:lnTo>
                      <a:pt x="1903" y="1829"/>
                    </a:lnTo>
                    <a:lnTo>
                      <a:pt x="1910" y="1823"/>
                    </a:lnTo>
                    <a:lnTo>
                      <a:pt x="1917" y="1818"/>
                    </a:lnTo>
                    <a:lnTo>
                      <a:pt x="1925" y="1813"/>
                    </a:lnTo>
                    <a:lnTo>
                      <a:pt x="1932" y="1808"/>
                    </a:lnTo>
                    <a:lnTo>
                      <a:pt x="1932" y="1807"/>
                    </a:lnTo>
                    <a:lnTo>
                      <a:pt x="1932" y="1804"/>
                    </a:lnTo>
                    <a:lnTo>
                      <a:pt x="1932" y="1803"/>
                    </a:lnTo>
                    <a:lnTo>
                      <a:pt x="1931" y="1803"/>
                    </a:lnTo>
                    <a:lnTo>
                      <a:pt x="1931" y="1802"/>
                    </a:lnTo>
                    <a:lnTo>
                      <a:pt x="1930" y="1801"/>
                    </a:lnTo>
                    <a:lnTo>
                      <a:pt x="1929" y="1800"/>
                    </a:lnTo>
                    <a:lnTo>
                      <a:pt x="1928" y="1799"/>
                    </a:lnTo>
                    <a:lnTo>
                      <a:pt x="1917" y="1800"/>
                    </a:lnTo>
                    <a:lnTo>
                      <a:pt x="1908" y="1802"/>
                    </a:lnTo>
                    <a:lnTo>
                      <a:pt x="1898" y="1807"/>
                    </a:lnTo>
                    <a:lnTo>
                      <a:pt x="1889" y="1812"/>
                    </a:lnTo>
                    <a:lnTo>
                      <a:pt x="1880" y="1817"/>
                    </a:lnTo>
                    <a:lnTo>
                      <a:pt x="1871" y="1823"/>
                    </a:lnTo>
                    <a:lnTo>
                      <a:pt x="1862" y="1829"/>
                    </a:lnTo>
                    <a:lnTo>
                      <a:pt x="1853" y="1833"/>
                    </a:lnTo>
                    <a:lnTo>
                      <a:pt x="1837" y="1831"/>
                    </a:lnTo>
                    <a:lnTo>
                      <a:pt x="1842" y="1827"/>
                    </a:lnTo>
                    <a:lnTo>
                      <a:pt x="1848" y="1823"/>
                    </a:lnTo>
                    <a:lnTo>
                      <a:pt x="1854" y="1820"/>
                    </a:lnTo>
                    <a:lnTo>
                      <a:pt x="1860" y="1818"/>
                    </a:lnTo>
                    <a:lnTo>
                      <a:pt x="1867" y="1816"/>
                    </a:lnTo>
                    <a:lnTo>
                      <a:pt x="1873" y="1814"/>
                    </a:lnTo>
                    <a:lnTo>
                      <a:pt x="1879" y="1812"/>
                    </a:lnTo>
                    <a:lnTo>
                      <a:pt x="1884" y="1808"/>
                    </a:lnTo>
                    <a:lnTo>
                      <a:pt x="1880" y="1803"/>
                    </a:lnTo>
                    <a:lnTo>
                      <a:pt x="1877" y="1801"/>
                    </a:lnTo>
                    <a:lnTo>
                      <a:pt x="1873" y="1801"/>
                    </a:lnTo>
                    <a:lnTo>
                      <a:pt x="1869" y="1801"/>
                    </a:lnTo>
                    <a:lnTo>
                      <a:pt x="1863" y="1802"/>
                    </a:lnTo>
                    <a:lnTo>
                      <a:pt x="1859" y="1804"/>
                    </a:lnTo>
                    <a:lnTo>
                      <a:pt x="1855" y="1805"/>
                    </a:lnTo>
                    <a:lnTo>
                      <a:pt x="1852" y="1808"/>
                    </a:lnTo>
                    <a:lnTo>
                      <a:pt x="1842" y="1813"/>
                    </a:lnTo>
                    <a:lnTo>
                      <a:pt x="1833" y="1817"/>
                    </a:lnTo>
                    <a:lnTo>
                      <a:pt x="1823" y="1822"/>
                    </a:lnTo>
                    <a:lnTo>
                      <a:pt x="1813" y="1827"/>
                    </a:lnTo>
                    <a:lnTo>
                      <a:pt x="1803" y="1830"/>
                    </a:lnTo>
                    <a:lnTo>
                      <a:pt x="1793" y="1833"/>
                    </a:lnTo>
                    <a:lnTo>
                      <a:pt x="1782" y="1836"/>
                    </a:lnTo>
                    <a:lnTo>
                      <a:pt x="1770" y="1837"/>
                    </a:lnTo>
                    <a:lnTo>
                      <a:pt x="1773" y="1832"/>
                    </a:lnTo>
                    <a:lnTo>
                      <a:pt x="1777" y="1829"/>
                    </a:lnTo>
                    <a:lnTo>
                      <a:pt x="1781" y="1826"/>
                    </a:lnTo>
                    <a:lnTo>
                      <a:pt x="1786" y="1823"/>
                    </a:lnTo>
                    <a:lnTo>
                      <a:pt x="1791" y="1820"/>
                    </a:lnTo>
                    <a:lnTo>
                      <a:pt x="1796" y="1817"/>
                    </a:lnTo>
                    <a:lnTo>
                      <a:pt x="1799" y="1813"/>
                    </a:lnTo>
                    <a:lnTo>
                      <a:pt x="1801" y="1808"/>
                    </a:lnTo>
                    <a:lnTo>
                      <a:pt x="1791" y="1809"/>
                    </a:lnTo>
                    <a:lnTo>
                      <a:pt x="1781" y="1811"/>
                    </a:lnTo>
                    <a:lnTo>
                      <a:pt x="1770" y="1813"/>
                    </a:lnTo>
                    <a:lnTo>
                      <a:pt x="1761" y="1817"/>
                    </a:lnTo>
                    <a:lnTo>
                      <a:pt x="1750" y="1821"/>
                    </a:lnTo>
                    <a:lnTo>
                      <a:pt x="1741" y="1827"/>
                    </a:lnTo>
                    <a:lnTo>
                      <a:pt x="1731" y="1833"/>
                    </a:lnTo>
                    <a:lnTo>
                      <a:pt x="1723" y="1839"/>
                    </a:lnTo>
                    <a:lnTo>
                      <a:pt x="1720" y="1839"/>
                    </a:lnTo>
                    <a:lnTo>
                      <a:pt x="1716" y="1839"/>
                    </a:lnTo>
                    <a:lnTo>
                      <a:pt x="1713" y="1839"/>
                    </a:lnTo>
                    <a:lnTo>
                      <a:pt x="1711" y="1840"/>
                    </a:lnTo>
                    <a:lnTo>
                      <a:pt x="1709" y="1840"/>
                    </a:lnTo>
                    <a:lnTo>
                      <a:pt x="1707" y="1840"/>
                    </a:lnTo>
                    <a:lnTo>
                      <a:pt x="1706" y="1838"/>
                    </a:lnTo>
                    <a:lnTo>
                      <a:pt x="1705" y="1835"/>
                    </a:lnTo>
                    <a:lnTo>
                      <a:pt x="1706" y="1835"/>
                    </a:lnTo>
                    <a:lnTo>
                      <a:pt x="1708" y="1834"/>
                    </a:lnTo>
                    <a:lnTo>
                      <a:pt x="1710" y="1832"/>
                    </a:lnTo>
                    <a:lnTo>
                      <a:pt x="1711" y="1831"/>
                    </a:lnTo>
                    <a:lnTo>
                      <a:pt x="1712" y="1829"/>
                    </a:lnTo>
                    <a:lnTo>
                      <a:pt x="1713" y="1828"/>
                    </a:lnTo>
                    <a:lnTo>
                      <a:pt x="1714" y="1826"/>
                    </a:lnTo>
                    <a:lnTo>
                      <a:pt x="1714" y="1823"/>
                    </a:lnTo>
                    <a:lnTo>
                      <a:pt x="1710" y="1822"/>
                    </a:lnTo>
                    <a:lnTo>
                      <a:pt x="1705" y="1821"/>
                    </a:lnTo>
                    <a:lnTo>
                      <a:pt x="1699" y="1821"/>
                    </a:lnTo>
                    <a:lnTo>
                      <a:pt x="1695" y="1822"/>
                    </a:lnTo>
                    <a:lnTo>
                      <a:pt x="1690" y="1822"/>
                    </a:lnTo>
                    <a:lnTo>
                      <a:pt x="1685" y="1825"/>
                    </a:lnTo>
                    <a:lnTo>
                      <a:pt x="1680" y="1826"/>
                    </a:lnTo>
                    <a:lnTo>
                      <a:pt x="1676" y="1828"/>
                    </a:lnTo>
                    <a:lnTo>
                      <a:pt x="1677" y="1826"/>
                    </a:lnTo>
                    <a:lnTo>
                      <a:pt x="1680" y="1825"/>
                    </a:lnTo>
                    <a:lnTo>
                      <a:pt x="1685" y="1822"/>
                    </a:lnTo>
                    <a:lnTo>
                      <a:pt x="1690" y="1820"/>
                    </a:lnTo>
                    <a:lnTo>
                      <a:pt x="1693" y="1818"/>
                    </a:lnTo>
                    <a:lnTo>
                      <a:pt x="1695" y="1815"/>
                    </a:lnTo>
                    <a:lnTo>
                      <a:pt x="1694" y="1814"/>
                    </a:lnTo>
                    <a:lnTo>
                      <a:pt x="1693" y="1812"/>
                    </a:lnTo>
                    <a:lnTo>
                      <a:pt x="1692" y="1810"/>
                    </a:lnTo>
                    <a:lnTo>
                      <a:pt x="1689" y="1808"/>
                    </a:lnTo>
                    <a:lnTo>
                      <a:pt x="1652" y="1817"/>
                    </a:lnTo>
                    <a:lnTo>
                      <a:pt x="1651" y="1816"/>
                    </a:lnTo>
                    <a:lnTo>
                      <a:pt x="1651" y="1814"/>
                    </a:lnTo>
                    <a:lnTo>
                      <a:pt x="1651" y="1811"/>
                    </a:lnTo>
                    <a:lnTo>
                      <a:pt x="1651" y="1809"/>
                    </a:lnTo>
                    <a:lnTo>
                      <a:pt x="1651" y="1807"/>
                    </a:lnTo>
                    <a:lnTo>
                      <a:pt x="1649" y="1803"/>
                    </a:lnTo>
                    <a:lnTo>
                      <a:pt x="1647" y="1802"/>
                    </a:lnTo>
                    <a:lnTo>
                      <a:pt x="1643" y="1801"/>
                    </a:lnTo>
                    <a:lnTo>
                      <a:pt x="1642" y="1802"/>
                    </a:lnTo>
                    <a:lnTo>
                      <a:pt x="1641" y="1802"/>
                    </a:lnTo>
                    <a:lnTo>
                      <a:pt x="1640" y="1803"/>
                    </a:lnTo>
                    <a:lnTo>
                      <a:pt x="1638" y="1803"/>
                    </a:lnTo>
                    <a:lnTo>
                      <a:pt x="1637" y="1803"/>
                    </a:lnTo>
                    <a:lnTo>
                      <a:pt x="1635" y="1803"/>
                    </a:lnTo>
                    <a:lnTo>
                      <a:pt x="1634" y="1803"/>
                    </a:lnTo>
                    <a:lnTo>
                      <a:pt x="1632" y="1803"/>
                    </a:lnTo>
                    <a:lnTo>
                      <a:pt x="1637" y="1800"/>
                    </a:lnTo>
                    <a:lnTo>
                      <a:pt x="1642" y="1797"/>
                    </a:lnTo>
                    <a:lnTo>
                      <a:pt x="1647" y="1794"/>
                    </a:lnTo>
                    <a:lnTo>
                      <a:pt x="1652" y="1791"/>
                    </a:lnTo>
                    <a:lnTo>
                      <a:pt x="1656" y="1786"/>
                    </a:lnTo>
                    <a:lnTo>
                      <a:pt x="1660" y="1782"/>
                    </a:lnTo>
                    <a:lnTo>
                      <a:pt x="1665" y="1778"/>
                    </a:lnTo>
                    <a:lnTo>
                      <a:pt x="1668" y="1773"/>
                    </a:lnTo>
                    <a:lnTo>
                      <a:pt x="1666" y="1772"/>
                    </a:lnTo>
                    <a:lnTo>
                      <a:pt x="1663" y="1773"/>
                    </a:lnTo>
                    <a:lnTo>
                      <a:pt x="1661" y="1773"/>
                    </a:lnTo>
                    <a:lnTo>
                      <a:pt x="1659" y="1775"/>
                    </a:lnTo>
                    <a:lnTo>
                      <a:pt x="1657" y="1776"/>
                    </a:lnTo>
                    <a:lnTo>
                      <a:pt x="1655" y="1777"/>
                    </a:lnTo>
                    <a:lnTo>
                      <a:pt x="1653" y="1778"/>
                    </a:lnTo>
                    <a:lnTo>
                      <a:pt x="1650" y="1777"/>
                    </a:lnTo>
                    <a:lnTo>
                      <a:pt x="1653" y="1772"/>
                    </a:lnTo>
                    <a:lnTo>
                      <a:pt x="1656" y="1767"/>
                    </a:lnTo>
                    <a:lnTo>
                      <a:pt x="1660" y="1763"/>
                    </a:lnTo>
                    <a:lnTo>
                      <a:pt x="1665" y="1760"/>
                    </a:lnTo>
                    <a:lnTo>
                      <a:pt x="1675" y="1754"/>
                    </a:lnTo>
                    <a:lnTo>
                      <a:pt x="1685" y="1747"/>
                    </a:lnTo>
                    <a:lnTo>
                      <a:pt x="1694" y="1740"/>
                    </a:lnTo>
                    <a:lnTo>
                      <a:pt x="1703" y="1731"/>
                    </a:lnTo>
                    <a:lnTo>
                      <a:pt x="1706" y="1727"/>
                    </a:lnTo>
                    <a:lnTo>
                      <a:pt x="1709" y="1722"/>
                    </a:lnTo>
                    <a:lnTo>
                      <a:pt x="1711" y="1716"/>
                    </a:lnTo>
                    <a:lnTo>
                      <a:pt x="1712" y="1708"/>
                    </a:lnTo>
                    <a:lnTo>
                      <a:pt x="1710" y="1705"/>
                    </a:lnTo>
                    <a:lnTo>
                      <a:pt x="1708" y="1704"/>
                    </a:lnTo>
                    <a:lnTo>
                      <a:pt x="1706" y="1703"/>
                    </a:lnTo>
                    <a:lnTo>
                      <a:pt x="1704" y="1703"/>
                    </a:lnTo>
                    <a:lnTo>
                      <a:pt x="1702" y="1704"/>
                    </a:lnTo>
                    <a:lnTo>
                      <a:pt x="1698" y="1705"/>
                    </a:lnTo>
                    <a:lnTo>
                      <a:pt x="1696" y="1707"/>
                    </a:lnTo>
                    <a:lnTo>
                      <a:pt x="1694" y="1708"/>
                    </a:lnTo>
                    <a:lnTo>
                      <a:pt x="1692" y="1702"/>
                    </a:lnTo>
                    <a:lnTo>
                      <a:pt x="1692" y="1695"/>
                    </a:lnTo>
                    <a:lnTo>
                      <a:pt x="1692" y="1689"/>
                    </a:lnTo>
                    <a:lnTo>
                      <a:pt x="1693" y="1682"/>
                    </a:lnTo>
                    <a:lnTo>
                      <a:pt x="1694" y="1675"/>
                    </a:lnTo>
                    <a:lnTo>
                      <a:pt x="1694" y="1669"/>
                    </a:lnTo>
                    <a:lnTo>
                      <a:pt x="1694" y="1664"/>
                    </a:lnTo>
                    <a:lnTo>
                      <a:pt x="1692" y="1657"/>
                    </a:lnTo>
                    <a:lnTo>
                      <a:pt x="1688" y="1660"/>
                    </a:lnTo>
                    <a:lnTo>
                      <a:pt x="1685" y="1663"/>
                    </a:lnTo>
                    <a:lnTo>
                      <a:pt x="1681" y="1666"/>
                    </a:lnTo>
                    <a:lnTo>
                      <a:pt x="1678" y="1670"/>
                    </a:lnTo>
                    <a:lnTo>
                      <a:pt x="1676" y="1675"/>
                    </a:lnTo>
                    <a:lnTo>
                      <a:pt x="1675" y="1680"/>
                    </a:lnTo>
                    <a:lnTo>
                      <a:pt x="1673" y="1684"/>
                    </a:lnTo>
                    <a:lnTo>
                      <a:pt x="1672" y="1688"/>
                    </a:lnTo>
                    <a:lnTo>
                      <a:pt x="1670" y="1682"/>
                    </a:lnTo>
                    <a:lnTo>
                      <a:pt x="1668" y="1674"/>
                    </a:lnTo>
                    <a:lnTo>
                      <a:pt x="1668" y="1667"/>
                    </a:lnTo>
                    <a:lnTo>
                      <a:pt x="1669" y="1660"/>
                    </a:lnTo>
                    <a:lnTo>
                      <a:pt x="1670" y="1651"/>
                    </a:lnTo>
                    <a:lnTo>
                      <a:pt x="1671" y="1644"/>
                    </a:lnTo>
                    <a:lnTo>
                      <a:pt x="1672" y="1635"/>
                    </a:lnTo>
                    <a:lnTo>
                      <a:pt x="1672" y="1628"/>
                    </a:lnTo>
                    <a:lnTo>
                      <a:pt x="1666" y="1621"/>
                    </a:lnTo>
                    <a:lnTo>
                      <a:pt x="1661" y="1627"/>
                    </a:lnTo>
                    <a:lnTo>
                      <a:pt x="1657" y="1632"/>
                    </a:lnTo>
                    <a:lnTo>
                      <a:pt x="1653" y="1637"/>
                    </a:lnTo>
                    <a:lnTo>
                      <a:pt x="1650" y="1643"/>
                    </a:lnTo>
                    <a:lnTo>
                      <a:pt x="1647" y="1649"/>
                    </a:lnTo>
                    <a:lnTo>
                      <a:pt x="1643" y="1655"/>
                    </a:lnTo>
                    <a:lnTo>
                      <a:pt x="1640" y="1661"/>
                    </a:lnTo>
                    <a:lnTo>
                      <a:pt x="1636" y="1666"/>
                    </a:lnTo>
                    <a:lnTo>
                      <a:pt x="1636" y="1656"/>
                    </a:lnTo>
                    <a:lnTo>
                      <a:pt x="1636" y="1647"/>
                    </a:lnTo>
                    <a:lnTo>
                      <a:pt x="1637" y="1638"/>
                    </a:lnTo>
                    <a:lnTo>
                      <a:pt x="1638" y="1630"/>
                    </a:lnTo>
                    <a:lnTo>
                      <a:pt x="1638" y="1621"/>
                    </a:lnTo>
                    <a:lnTo>
                      <a:pt x="1637" y="1613"/>
                    </a:lnTo>
                    <a:lnTo>
                      <a:pt x="1636" y="1605"/>
                    </a:lnTo>
                    <a:lnTo>
                      <a:pt x="1632" y="1596"/>
                    </a:lnTo>
                    <a:lnTo>
                      <a:pt x="1629" y="1598"/>
                    </a:lnTo>
                    <a:lnTo>
                      <a:pt x="1625" y="1601"/>
                    </a:lnTo>
                    <a:lnTo>
                      <a:pt x="1622" y="1605"/>
                    </a:lnTo>
                    <a:lnTo>
                      <a:pt x="1620" y="1609"/>
                    </a:lnTo>
                    <a:lnTo>
                      <a:pt x="1618" y="1613"/>
                    </a:lnTo>
                    <a:lnTo>
                      <a:pt x="1616" y="1617"/>
                    </a:lnTo>
                    <a:lnTo>
                      <a:pt x="1614" y="1621"/>
                    </a:lnTo>
                    <a:lnTo>
                      <a:pt x="1612" y="1626"/>
                    </a:lnTo>
                    <a:lnTo>
                      <a:pt x="1616" y="1555"/>
                    </a:lnTo>
                    <a:lnTo>
                      <a:pt x="1609" y="1548"/>
                    </a:lnTo>
                    <a:lnTo>
                      <a:pt x="1604" y="1554"/>
                    </a:lnTo>
                    <a:lnTo>
                      <a:pt x="1599" y="1560"/>
                    </a:lnTo>
                    <a:lnTo>
                      <a:pt x="1596" y="1566"/>
                    </a:lnTo>
                    <a:lnTo>
                      <a:pt x="1592" y="1573"/>
                    </a:lnTo>
                    <a:lnTo>
                      <a:pt x="1588" y="1580"/>
                    </a:lnTo>
                    <a:lnTo>
                      <a:pt x="1585" y="1587"/>
                    </a:lnTo>
                    <a:lnTo>
                      <a:pt x="1581" y="1593"/>
                    </a:lnTo>
                    <a:lnTo>
                      <a:pt x="1577" y="1599"/>
                    </a:lnTo>
                    <a:lnTo>
                      <a:pt x="1575" y="1591"/>
                    </a:lnTo>
                    <a:lnTo>
                      <a:pt x="1574" y="1582"/>
                    </a:lnTo>
                    <a:lnTo>
                      <a:pt x="1574" y="1573"/>
                    </a:lnTo>
                    <a:lnTo>
                      <a:pt x="1575" y="1564"/>
                    </a:lnTo>
                    <a:lnTo>
                      <a:pt x="1576" y="1555"/>
                    </a:lnTo>
                    <a:lnTo>
                      <a:pt x="1579" y="1545"/>
                    </a:lnTo>
                    <a:lnTo>
                      <a:pt x="1582" y="1537"/>
                    </a:lnTo>
                    <a:lnTo>
                      <a:pt x="1585" y="1529"/>
                    </a:lnTo>
                    <a:lnTo>
                      <a:pt x="1583" y="1526"/>
                    </a:lnTo>
                    <a:lnTo>
                      <a:pt x="1581" y="1525"/>
                    </a:lnTo>
                    <a:lnTo>
                      <a:pt x="1578" y="1525"/>
                    </a:lnTo>
                    <a:lnTo>
                      <a:pt x="1576" y="1526"/>
                    </a:lnTo>
                    <a:lnTo>
                      <a:pt x="1574" y="1527"/>
                    </a:lnTo>
                    <a:lnTo>
                      <a:pt x="1570" y="1529"/>
                    </a:lnTo>
                    <a:lnTo>
                      <a:pt x="1568" y="1530"/>
                    </a:lnTo>
                    <a:lnTo>
                      <a:pt x="1565" y="1530"/>
                    </a:lnTo>
                    <a:lnTo>
                      <a:pt x="1557" y="1537"/>
                    </a:lnTo>
                    <a:lnTo>
                      <a:pt x="1549" y="1544"/>
                    </a:lnTo>
                    <a:lnTo>
                      <a:pt x="1543" y="1552"/>
                    </a:lnTo>
                    <a:lnTo>
                      <a:pt x="1536" y="1559"/>
                    </a:lnTo>
                    <a:lnTo>
                      <a:pt x="1530" y="1566"/>
                    </a:lnTo>
                    <a:lnTo>
                      <a:pt x="1525" y="1575"/>
                    </a:lnTo>
                    <a:lnTo>
                      <a:pt x="1520" y="1583"/>
                    </a:lnTo>
                    <a:lnTo>
                      <a:pt x="1514" y="1591"/>
                    </a:lnTo>
                    <a:lnTo>
                      <a:pt x="1513" y="1587"/>
                    </a:lnTo>
                    <a:lnTo>
                      <a:pt x="1514" y="1580"/>
                    </a:lnTo>
                    <a:lnTo>
                      <a:pt x="1515" y="1575"/>
                    </a:lnTo>
                    <a:lnTo>
                      <a:pt x="1516" y="1570"/>
                    </a:lnTo>
                    <a:lnTo>
                      <a:pt x="1518" y="1563"/>
                    </a:lnTo>
                    <a:lnTo>
                      <a:pt x="1520" y="1557"/>
                    </a:lnTo>
                    <a:lnTo>
                      <a:pt x="1522" y="1551"/>
                    </a:lnTo>
                    <a:lnTo>
                      <a:pt x="1523" y="1545"/>
                    </a:lnTo>
                    <a:lnTo>
                      <a:pt x="1522" y="1544"/>
                    </a:lnTo>
                    <a:lnTo>
                      <a:pt x="1520" y="1543"/>
                    </a:lnTo>
                    <a:lnTo>
                      <a:pt x="1518" y="1543"/>
                    </a:lnTo>
                    <a:lnTo>
                      <a:pt x="1516" y="1542"/>
                    </a:lnTo>
                    <a:lnTo>
                      <a:pt x="1515" y="1541"/>
                    </a:lnTo>
                    <a:lnTo>
                      <a:pt x="1513" y="1541"/>
                    </a:lnTo>
                    <a:lnTo>
                      <a:pt x="1512" y="1542"/>
                    </a:lnTo>
                    <a:lnTo>
                      <a:pt x="1510" y="1543"/>
                    </a:lnTo>
                    <a:lnTo>
                      <a:pt x="1483" y="1573"/>
                    </a:lnTo>
                    <a:lnTo>
                      <a:pt x="1481" y="1566"/>
                    </a:lnTo>
                    <a:lnTo>
                      <a:pt x="1483" y="1560"/>
                    </a:lnTo>
                    <a:lnTo>
                      <a:pt x="1485" y="1553"/>
                    </a:lnTo>
                    <a:lnTo>
                      <a:pt x="1488" y="1546"/>
                    </a:lnTo>
                    <a:lnTo>
                      <a:pt x="1490" y="1539"/>
                    </a:lnTo>
                    <a:lnTo>
                      <a:pt x="1491" y="1533"/>
                    </a:lnTo>
                    <a:lnTo>
                      <a:pt x="1491" y="1529"/>
                    </a:lnTo>
                    <a:lnTo>
                      <a:pt x="1491" y="1526"/>
                    </a:lnTo>
                    <a:lnTo>
                      <a:pt x="1490" y="1524"/>
                    </a:lnTo>
                    <a:lnTo>
                      <a:pt x="1489" y="1521"/>
                    </a:lnTo>
                    <a:lnTo>
                      <a:pt x="1483" y="1523"/>
                    </a:lnTo>
                    <a:lnTo>
                      <a:pt x="1477" y="1526"/>
                    </a:lnTo>
                    <a:lnTo>
                      <a:pt x="1472" y="1530"/>
                    </a:lnTo>
                    <a:lnTo>
                      <a:pt x="1468" y="1535"/>
                    </a:lnTo>
                    <a:lnTo>
                      <a:pt x="1462" y="1539"/>
                    </a:lnTo>
                    <a:lnTo>
                      <a:pt x="1457" y="1543"/>
                    </a:lnTo>
                    <a:lnTo>
                      <a:pt x="1453" y="1548"/>
                    </a:lnTo>
                    <a:lnTo>
                      <a:pt x="1448" y="1554"/>
                    </a:lnTo>
                    <a:lnTo>
                      <a:pt x="1450" y="1552"/>
                    </a:lnTo>
                    <a:lnTo>
                      <a:pt x="1450" y="1550"/>
                    </a:lnTo>
                    <a:lnTo>
                      <a:pt x="1450" y="1545"/>
                    </a:lnTo>
                    <a:lnTo>
                      <a:pt x="1450" y="1541"/>
                    </a:lnTo>
                    <a:lnTo>
                      <a:pt x="1450" y="1537"/>
                    </a:lnTo>
                    <a:lnTo>
                      <a:pt x="1451" y="1533"/>
                    </a:lnTo>
                    <a:lnTo>
                      <a:pt x="1453" y="1528"/>
                    </a:lnTo>
                    <a:lnTo>
                      <a:pt x="1456" y="1525"/>
                    </a:lnTo>
                    <a:lnTo>
                      <a:pt x="1456" y="1523"/>
                    </a:lnTo>
                    <a:lnTo>
                      <a:pt x="1456" y="1522"/>
                    </a:lnTo>
                    <a:lnTo>
                      <a:pt x="1456" y="1521"/>
                    </a:lnTo>
                    <a:lnTo>
                      <a:pt x="1455" y="1519"/>
                    </a:lnTo>
                    <a:lnTo>
                      <a:pt x="1454" y="1519"/>
                    </a:lnTo>
                    <a:lnTo>
                      <a:pt x="1452" y="1518"/>
                    </a:lnTo>
                    <a:lnTo>
                      <a:pt x="1451" y="1516"/>
                    </a:lnTo>
                    <a:lnTo>
                      <a:pt x="1450" y="1515"/>
                    </a:lnTo>
                    <a:lnTo>
                      <a:pt x="1442" y="1520"/>
                    </a:lnTo>
                    <a:lnTo>
                      <a:pt x="1435" y="1525"/>
                    </a:lnTo>
                    <a:lnTo>
                      <a:pt x="1428" y="1530"/>
                    </a:lnTo>
                    <a:lnTo>
                      <a:pt x="1421" y="1537"/>
                    </a:lnTo>
                    <a:lnTo>
                      <a:pt x="1414" y="1543"/>
                    </a:lnTo>
                    <a:lnTo>
                      <a:pt x="1407" y="1550"/>
                    </a:lnTo>
                    <a:lnTo>
                      <a:pt x="1401" y="1556"/>
                    </a:lnTo>
                    <a:lnTo>
                      <a:pt x="1396" y="1563"/>
                    </a:lnTo>
                    <a:lnTo>
                      <a:pt x="1398" y="1557"/>
                    </a:lnTo>
                    <a:lnTo>
                      <a:pt x="1400" y="1552"/>
                    </a:lnTo>
                    <a:lnTo>
                      <a:pt x="1402" y="1545"/>
                    </a:lnTo>
                    <a:lnTo>
                      <a:pt x="1404" y="1539"/>
                    </a:lnTo>
                    <a:lnTo>
                      <a:pt x="1405" y="1533"/>
                    </a:lnTo>
                    <a:lnTo>
                      <a:pt x="1406" y="1526"/>
                    </a:lnTo>
                    <a:lnTo>
                      <a:pt x="1405" y="1521"/>
                    </a:lnTo>
                    <a:lnTo>
                      <a:pt x="1404" y="1515"/>
                    </a:lnTo>
                    <a:lnTo>
                      <a:pt x="1397" y="1516"/>
                    </a:lnTo>
                    <a:lnTo>
                      <a:pt x="1392" y="1519"/>
                    </a:lnTo>
                    <a:lnTo>
                      <a:pt x="1385" y="1523"/>
                    </a:lnTo>
                    <a:lnTo>
                      <a:pt x="1380" y="1528"/>
                    </a:lnTo>
                    <a:lnTo>
                      <a:pt x="1375" y="1535"/>
                    </a:lnTo>
                    <a:lnTo>
                      <a:pt x="1368" y="1540"/>
                    </a:lnTo>
                    <a:lnTo>
                      <a:pt x="1363" y="1546"/>
                    </a:lnTo>
                    <a:lnTo>
                      <a:pt x="1358" y="1552"/>
                    </a:lnTo>
                    <a:lnTo>
                      <a:pt x="1358" y="1548"/>
                    </a:lnTo>
                    <a:lnTo>
                      <a:pt x="1359" y="1545"/>
                    </a:lnTo>
                    <a:lnTo>
                      <a:pt x="1360" y="1541"/>
                    </a:lnTo>
                    <a:lnTo>
                      <a:pt x="1361" y="1538"/>
                    </a:lnTo>
                    <a:lnTo>
                      <a:pt x="1362" y="1535"/>
                    </a:lnTo>
                    <a:lnTo>
                      <a:pt x="1361" y="1532"/>
                    </a:lnTo>
                    <a:lnTo>
                      <a:pt x="1359" y="1529"/>
                    </a:lnTo>
                    <a:lnTo>
                      <a:pt x="1356" y="1527"/>
                    </a:lnTo>
                    <a:lnTo>
                      <a:pt x="1349" y="1530"/>
                    </a:lnTo>
                    <a:lnTo>
                      <a:pt x="1344" y="1534"/>
                    </a:lnTo>
                    <a:lnTo>
                      <a:pt x="1339" y="1538"/>
                    </a:lnTo>
                    <a:lnTo>
                      <a:pt x="1332" y="1541"/>
                    </a:lnTo>
                    <a:lnTo>
                      <a:pt x="1327" y="1545"/>
                    </a:lnTo>
                    <a:lnTo>
                      <a:pt x="1322" y="1550"/>
                    </a:lnTo>
                    <a:lnTo>
                      <a:pt x="1316" y="1555"/>
                    </a:lnTo>
                    <a:lnTo>
                      <a:pt x="1311" y="1559"/>
                    </a:lnTo>
                    <a:lnTo>
                      <a:pt x="1308" y="1555"/>
                    </a:lnTo>
                    <a:lnTo>
                      <a:pt x="1307" y="1551"/>
                    </a:lnTo>
                    <a:lnTo>
                      <a:pt x="1307" y="1545"/>
                    </a:lnTo>
                    <a:lnTo>
                      <a:pt x="1309" y="1540"/>
                    </a:lnTo>
                    <a:lnTo>
                      <a:pt x="1310" y="1535"/>
                    </a:lnTo>
                    <a:lnTo>
                      <a:pt x="1312" y="1530"/>
                    </a:lnTo>
                    <a:lnTo>
                      <a:pt x="1313" y="1525"/>
                    </a:lnTo>
                    <a:lnTo>
                      <a:pt x="1313" y="1521"/>
                    </a:lnTo>
                    <a:lnTo>
                      <a:pt x="1302" y="1527"/>
                    </a:lnTo>
                    <a:lnTo>
                      <a:pt x="1291" y="1534"/>
                    </a:lnTo>
                    <a:lnTo>
                      <a:pt x="1280" y="1542"/>
                    </a:lnTo>
                    <a:lnTo>
                      <a:pt x="1271" y="1551"/>
                    </a:lnTo>
                    <a:lnTo>
                      <a:pt x="1260" y="1559"/>
                    </a:lnTo>
                    <a:lnTo>
                      <a:pt x="1251" y="1569"/>
                    </a:lnTo>
                    <a:lnTo>
                      <a:pt x="1241" y="1577"/>
                    </a:lnTo>
                    <a:lnTo>
                      <a:pt x="1232" y="1585"/>
                    </a:lnTo>
                    <a:lnTo>
                      <a:pt x="1233" y="1579"/>
                    </a:lnTo>
                    <a:lnTo>
                      <a:pt x="1236" y="1574"/>
                    </a:lnTo>
                    <a:lnTo>
                      <a:pt x="1240" y="1569"/>
                    </a:lnTo>
                    <a:lnTo>
                      <a:pt x="1244" y="1564"/>
                    </a:lnTo>
                    <a:lnTo>
                      <a:pt x="1249" y="1559"/>
                    </a:lnTo>
                    <a:lnTo>
                      <a:pt x="1252" y="1554"/>
                    </a:lnTo>
                    <a:lnTo>
                      <a:pt x="1252" y="1552"/>
                    </a:lnTo>
                    <a:lnTo>
                      <a:pt x="1252" y="1548"/>
                    </a:lnTo>
                    <a:lnTo>
                      <a:pt x="1252" y="1546"/>
                    </a:lnTo>
                    <a:lnTo>
                      <a:pt x="1250" y="1543"/>
                    </a:lnTo>
                    <a:lnTo>
                      <a:pt x="1249" y="1542"/>
                    </a:lnTo>
                    <a:lnTo>
                      <a:pt x="1249" y="1541"/>
                    </a:lnTo>
                    <a:lnTo>
                      <a:pt x="1249" y="1540"/>
                    </a:lnTo>
                    <a:lnTo>
                      <a:pt x="1249" y="1539"/>
                    </a:lnTo>
                    <a:lnTo>
                      <a:pt x="1250" y="1537"/>
                    </a:lnTo>
                    <a:lnTo>
                      <a:pt x="1251" y="1536"/>
                    </a:lnTo>
                    <a:lnTo>
                      <a:pt x="1252" y="1535"/>
                    </a:lnTo>
                    <a:lnTo>
                      <a:pt x="1253" y="1533"/>
                    </a:lnTo>
                    <a:lnTo>
                      <a:pt x="1252" y="1532"/>
                    </a:lnTo>
                    <a:lnTo>
                      <a:pt x="1252" y="1530"/>
                    </a:lnTo>
                    <a:lnTo>
                      <a:pt x="1251" y="1529"/>
                    </a:lnTo>
                    <a:lnTo>
                      <a:pt x="1250" y="1528"/>
                    </a:lnTo>
                    <a:lnTo>
                      <a:pt x="1249" y="1527"/>
                    </a:lnTo>
                    <a:lnTo>
                      <a:pt x="1248" y="1526"/>
                    </a:lnTo>
                    <a:lnTo>
                      <a:pt x="1248" y="1526"/>
                    </a:lnTo>
                    <a:lnTo>
                      <a:pt x="1247" y="1525"/>
                    </a:lnTo>
                    <a:lnTo>
                      <a:pt x="1243" y="1525"/>
                    </a:lnTo>
                    <a:lnTo>
                      <a:pt x="1240" y="1526"/>
                    </a:lnTo>
                    <a:lnTo>
                      <a:pt x="1237" y="1528"/>
                    </a:lnTo>
                    <a:lnTo>
                      <a:pt x="1234" y="1529"/>
                    </a:lnTo>
                    <a:lnTo>
                      <a:pt x="1232" y="1532"/>
                    </a:lnTo>
                    <a:lnTo>
                      <a:pt x="1230" y="1535"/>
                    </a:lnTo>
                    <a:lnTo>
                      <a:pt x="1228" y="1537"/>
                    </a:lnTo>
                    <a:lnTo>
                      <a:pt x="1226" y="1539"/>
                    </a:lnTo>
                    <a:lnTo>
                      <a:pt x="1192" y="1565"/>
                    </a:lnTo>
                    <a:lnTo>
                      <a:pt x="1193" y="1560"/>
                    </a:lnTo>
                    <a:lnTo>
                      <a:pt x="1196" y="1556"/>
                    </a:lnTo>
                    <a:lnTo>
                      <a:pt x="1200" y="1552"/>
                    </a:lnTo>
                    <a:lnTo>
                      <a:pt x="1204" y="1547"/>
                    </a:lnTo>
                    <a:lnTo>
                      <a:pt x="1207" y="1543"/>
                    </a:lnTo>
                    <a:lnTo>
                      <a:pt x="1208" y="1539"/>
                    </a:lnTo>
                    <a:lnTo>
                      <a:pt x="1208" y="1537"/>
                    </a:lnTo>
                    <a:lnTo>
                      <a:pt x="1207" y="1534"/>
                    </a:lnTo>
                    <a:lnTo>
                      <a:pt x="1205" y="1532"/>
                    </a:lnTo>
                    <a:lnTo>
                      <a:pt x="1202" y="1529"/>
                    </a:lnTo>
                    <a:lnTo>
                      <a:pt x="1193" y="1536"/>
                    </a:lnTo>
                    <a:lnTo>
                      <a:pt x="1182" y="1542"/>
                    </a:lnTo>
                    <a:lnTo>
                      <a:pt x="1171" y="1547"/>
                    </a:lnTo>
                    <a:lnTo>
                      <a:pt x="1161" y="1554"/>
                    </a:lnTo>
                    <a:lnTo>
                      <a:pt x="1151" y="1559"/>
                    </a:lnTo>
                    <a:lnTo>
                      <a:pt x="1141" y="1565"/>
                    </a:lnTo>
                    <a:lnTo>
                      <a:pt x="1131" y="1572"/>
                    </a:lnTo>
                    <a:lnTo>
                      <a:pt x="1122" y="1579"/>
                    </a:lnTo>
                    <a:lnTo>
                      <a:pt x="1123" y="1577"/>
                    </a:lnTo>
                    <a:lnTo>
                      <a:pt x="1123" y="1574"/>
                    </a:lnTo>
                    <a:lnTo>
                      <a:pt x="1124" y="1571"/>
                    </a:lnTo>
                    <a:lnTo>
                      <a:pt x="1124" y="1566"/>
                    </a:lnTo>
                    <a:lnTo>
                      <a:pt x="1124" y="1561"/>
                    </a:lnTo>
                    <a:lnTo>
                      <a:pt x="1123" y="1557"/>
                    </a:lnTo>
                    <a:lnTo>
                      <a:pt x="1123" y="1553"/>
                    </a:lnTo>
                    <a:lnTo>
                      <a:pt x="1122" y="1548"/>
                    </a:lnTo>
                    <a:lnTo>
                      <a:pt x="1114" y="1554"/>
                    </a:lnTo>
                    <a:lnTo>
                      <a:pt x="1107" y="1559"/>
                    </a:lnTo>
                    <a:lnTo>
                      <a:pt x="1101" y="1565"/>
                    </a:lnTo>
                    <a:lnTo>
                      <a:pt x="1095" y="1572"/>
                    </a:lnTo>
                    <a:lnTo>
                      <a:pt x="1089" y="1578"/>
                    </a:lnTo>
                    <a:lnTo>
                      <a:pt x="1084" y="1585"/>
                    </a:lnTo>
                    <a:lnTo>
                      <a:pt x="1078" y="1593"/>
                    </a:lnTo>
                    <a:lnTo>
                      <a:pt x="1073" y="1599"/>
                    </a:lnTo>
                    <a:lnTo>
                      <a:pt x="1075" y="1598"/>
                    </a:lnTo>
                    <a:lnTo>
                      <a:pt x="1077" y="1596"/>
                    </a:lnTo>
                    <a:lnTo>
                      <a:pt x="1078" y="1594"/>
                    </a:lnTo>
                    <a:lnTo>
                      <a:pt x="1079" y="1592"/>
                    </a:lnTo>
                    <a:lnTo>
                      <a:pt x="1079" y="1587"/>
                    </a:lnTo>
                    <a:lnTo>
                      <a:pt x="1079" y="1582"/>
                    </a:lnTo>
                    <a:lnTo>
                      <a:pt x="1079" y="1577"/>
                    </a:lnTo>
                    <a:lnTo>
                      <a:pt x="1079" y="1573"/>
                    </a:lnTo>
                    <a:lnTo>
                      <a:pt x="1080" y="1571"/>
                    </a:lnTo>
                    <a:lnTo>
                      <a:pt x="1082" y="1569"/>
                    </a:lnTo>
                    <a:lnTo>
                      <a:pt x="1084" y="1566"/>
                    </a:lnTo>
                    <a:lnTo>
                      <a:pt x="1087" y="1565"/>
                    </a:lnTo>
                    <a:lnTo>
                      <a:pt x="1087" y="1562"/>
                    </a:lnTo>
                    <a:lnTo>
                      <a:pt x="1087" y="1560"/>
                    </a:lnTo>
                    <a:lnTo>
                      <a:pt x="1089" y="1557"/>
                    </a:lnTo>
                    <a:lnTo>
                      <a:pt x="1090" y="1555"/>
                    </a:lnTo>
                    <a:lnTo>
                      <a:pt x="1092" y="1553"/>
                    </a:lnTo>
                    <a:lnTo>
                      <a:pt x="1093" y="1551"/>
                    </a:lnTo>
                    <a:lnTo>
                      <a:pt x="1093" y="1547"/>
                    </a:lnTo>
                    <a:lnTo>
                      <a:pt x="1091" y="1545"/>
                    </a:lnTo>
                    <a:lnTo>
                      <a:pt x="1079" y="1558"/>
                    </a:lnTo>
                    <a:lnTo>
                      <a:pt x="1069" y="1572"/>
                    </a:lnTo>
                    <a:lnTo>
                      <a:pt x="1058" y="1585"/>
                    </a:lnTo>
                    <a:lnTo>
                      <a:pt x="1049" y="1599"/>
                    </a:lnTo>
                    <a:lnTo>
                      <a:pt x="1040" y="1614"/>
                    </a:lnTo>
                    <a:lnTo>
                      <a:pt x="1031" y="1629"/>
                    </a:lnTo>
                    <a:lnTo>
                      <a:pt x="1022" y="1644"/>
                    </a:lnTo>
                    <a:lnTo>
                      <a:pt x="1013" y="1657"/>
                    </a:lnTo>
                    <a:lnTo>
                      <a:pt x="1011" y="1606"/>
                    </a:lnTo>
                    <a:lnTo>
                      <a:pt x="1005" y="1620"/>
                    </a:lnTo>
                    <a:lnTo>
                      <a:pt x="1000" y="1635"/>
                    </a:lnTo>
                    <a:lnTo>
                      <a:pt x="995" y="1650"/>
                    </a:lnTo>
                    <a:lnTo>
                      <a:pt x="988" y="1665"/>
                    </a:lnTo>
                    <a:lnTo>
                      <a:pt x="981" y="1680"/>
                    </a:lnTo>
                    <a:lnTo>
                      <a:pt x="973" y="1693"/>
                    </a:lnTo>
                    <a:lnTo>
                      <a:pt x="964" y="1706"/>
                    </a:lnTo>
                    <a:lnTo>
                      <a:pt x="953" y="1719"/>
                    </a:lnTo>
                    <a:lnTo>
                      <a:pt x="953" y="1715"/>
                    </a:lnTo>
                    <a:lnTo>
                      <a:pt x="956" y="1710"/>
                    </a:lnTo>
                    <a:lnTo>
                      <a:pt x="958" y="1706"/>
                    </a:lnTo>
                    <a:lnTo>
                      <a:pt x="960" y="1702"/>
                    </a:lnTo>
                    <a:lnTo>
                      <a:pt x="962" y="1698"/>
                    </a:lnTo>
                    <a:lnTo>
                      <a:pt x="962" y="1694"/>
                    </a:lnTo>
                    <a:lnTo>
                      <a:pt x="961" y="1692"/>
                    </a:lnTo>
                    <a:lnTo>
                      <a:pt x="959" y="1691"/>
                    </a:lnTo>
                    <a:lnTo>
                      <a:pt x="957" y="1689"/>
                    </a:lnTo>
                    <a:lnTo>
                      <a:pt x="953" y="1688"/>
                    </a:lnTo>
                    <a:lnTo>
                      <a:pt x="949" y="1691"/>
                    </a:lnTo>
                    <a:lnTo>
                      <a:pt x="946" y="1694"/>
                    </a:lnTo>
                    <a:lnTo>
                      <a:pt x="943" y="1700"/>
                    </a:lnTo>
                    <a:lnTo>
                      <a:pt x="941" y="1705"/>
                    </a:lnTo>
                    <a:lnTo>
                      <a:pt x="939" y="1710"/>
                    </a:lnTo>
                    <a:lnTo>
                      <a:pt x="935" y="1715"/>
                    </a:lnTo>
                    <a:lnTo>
                      <a:pt x="933" y="1719"/>
                    </a:lnTo>
                    <a:lnTo>
                      <a:pt x="929" y="1721"/>
                    </a:lnTo>
                    <a:lnTo>
                      <a:pt x="925" y="1723"/>
                    </a:lnTo>
                    <a:lnTo>
                      <a:pt x="921" y="1727"/>
                    </a:lnTo>
                    <a:lnTo>
                      <a:pt x="918" y="1730"/>
                    </a:lnTo>
                    <a:lnTo>
                      <a:pt x="914" y="1736"/>
                    </a:lnTo>
                    <a:lnTo>
                      <a:pt x="909" y="1745"/>
                    </a:lnTo>
                    <a:lnTo>
                      <a:pt x="903" y="1755"/>
                    </a:lnTo>
                    <a:lnTo>
                      <a:pt x="901" y="1759"/>
                    </a:lnTo>
                    <a:lnTo>
                      <a:pt x="897" y="1763"/>
                    </a:lnTo>
                    <a:lnTo>
                      <a:pt x="894" y="1766"/>
                    </a:lnTo>
                    <a:lnTo>
                      <a:pt x="890" y="1770"/>
                    </a:lnTo>
                    <a:lnTo>
                      <a:pt x="886" y="1771"/>
                    </a:lnTo>
                    <a:lnTo>
                      <a:pt x="880" y="1772"/>
                    </a:lnTo>
                    <a:lnTo>
                      <a:pt x="875" y="1772"/>
                    </a:lnTo>
                    <a:lnTo>
                      <a:pt x="869" y="1771"/>
                    </a:lnTo>
                    <a:lnTo>
                      <a:pt x="858" y="1778"/>
                    </a:lnTo>
                    <a:lnTo>
                      <a:pt x="849" y="1784"/>
                    </a:lnTo>
                    <a:lnTo>
                      <a:pt x="839" y="1791"/>
                    </a:lnTo>
                    <a:lnTo>
                      <a:pt x="830" y="1797"/>
                    </a:lnTo>
                    <a:lnTo>
                      <a:pt x="819" y="1803"/>
                    </a:lnTo>
                    <a:lnTo>
                      <a:pt x="810" y="1810"/>
                    </a:lnTo>
                    <a:lnTo>
                      <a:pt x="799" y="1816"/>
                    </a:lnTo>
                    <a:lnTo>
                      <a:pt x="788" y="1821"/>
                    </a:lnTo>
                    <a:lnTo>
                      <a:pt x="788" y="1813"/>
                    </a:lnTo>
                    <a:lnTo>
                      <a:pt x="789" y="1804"/>
                    </a:lnTo>
                    <a:lnTo>
                      <a:pt x="792" y="1796"/>
                    </a:lnTo>
                    <a:lnTo>
                      <a:pt x="795" y="1786"/>
                    </a:lnTo>
                    <a:lnTo>
                      <a:pt x="798" y="1778"/>
                    </a:lnTo>
                    <a:lnTo>
                      <a:pt x="801" y="1770"/>
                    </a:lnTo>
                    <a:lnTo>
                      <a:pt x="804" y="1761"/>
                    </a:lnTo>
                    <a:lnTo>
                      <a:pt x="806" y="1753"/>
                    </a:lnTo>
                    <a:lnTo>
                      <a:pt x="803" y="1750"/>
                    </a:lnTo>
                    <a:lnTo>
                      <a:pt x="800" y="1749"/>
                    </a:lnTo>
                    <a:lnTo>
                      <a:pt x="796" y="1750"/>
                    </a:lnTo>
                    <a:lnTo>
                      <a:pt x="793" y="1753"/>
                    </a:lnTo>
                    <a:lnTo>
                      <a:pt x="789" y="1755"/>
                    </a:lnTo>
                    <a:lnTo>
                      <a:pt x="785" y="1757"/>
                    </a:lnTo>
                    <a:lnTo>
                      <a:pt x="782" y="1759"/>
                    </a:lnTo>
                    <a:lnTo>
                      <a:pt x="779" y="1761"/>
                    </a:lnTo>
                    <a:lnTo>
                      <a:pt x="746" y="1789"/>
                    </a:lnTo>
                    <a:lnTo>
                      <a:pt x="745" y="1786"/>
                    </a:lnTo>
                    <a:lnTo>
                      <a:pt x="745" y="1783"/>
                    </a:lnTo>
                    <a:lnTo>
                      <a:pt x="745" y="1781"/>
                    </a:lnTo>
                    <a:lnTo>
                      <a:pt x="747" y="1778"/>
                    </a:lnTo>
                    <a:lnTo>
                      <a:pt x="751" y="1774"/>
                    </a:lnTo>
                    <a:lnTo>
                      <a:pt x="756" y="1770"/>
                    </a:lnTo>
                    <a:lnTo>
                      <a:pt x="760" y="1765"/>
                    </a:lnTo>
                    <a:lnTo>
                      <a:pt x="763" y="1761"/>
                    </a:lnTo>
                    <a:lnTo>
                      <a:pt x="763" y="1759"/>
                    </a:lnTo>
                    <a:lnTo>
                      <a:pt x="763" y="1756"/>
                    </a:lnTo>
                    <a:lnTo>
                      <a:pt x="761" y="1754"/>
                    </a:lnTo>
                    <a:lnTo>
                      <a:pt x="758" y="1750"/>
                    </a:lnTo>
                    <a:lnTo>
                      <a:pt x="747" y="1756"/>
                    </a:lnTo>
                    <a:lnTo>
                      <a:pt x="737" y="1761"/>
                    </a:lnTo>
                    <a:lnTo>
                      <a:pt x="726" y="1767"/>
                    </a:lnTo>
                    <a:lnTo>
                      <a:pt x="715" y="1775"/>
                    </a:lnTo>
                    <a:lnTo>
                      <a:pt x="705" y="1780"/>
                    </a:lnTo>
                    <a:lnTo>
                      <a:pt x="693" y="1784"/>
                    </a:lnTo>
                    <a:lnTo>
                      <a:pt x="688" y="1786"/>
                    </a:lnTo>
                    <a:lnTo>
                      <a:pt x="682" y="1788"/>
                    </a:lnTo>
                    <a:lnTo>
                      <a:pt x="676" y="1788"/>
                    </a:lnTo>
                    <a:lnTo>
                      <a:pt x="670" y="1788"/>
                    </a:lnTo>
                    <a:lnTo>
                      <a:pt x="665" y="1790"/>
                    </a:lnTo>
                    <a:lnTo>
                      <a:pt x="659" y="1792"/>
                    </a:lnTo>
                    <a:lnTo>
                      <a:pt x="654" y="1794"/>
                    </a:lnTo>
                    <a:lnTo>
                      <a:pt x="649" y="1796"/>
                    </a:lnTo>
                    <a:lnTo>
                      <a:pt x="643" y="1798"/>
                    </a:lnTo>
                    <a:lnTo>
                      <a:pt x="638" y="1799"/>
                    </a:lnTo>
                    <a:lnTo>
                      <a:pt x="633" y="1800"/>
                    </a:lnTo>
                    <a:lnTo>
                      <a:pt x="628" y="1801"/>
                    </a:lnTo>
                    <a:lnTo>
                      <a:pt x="632" y="1794"/>
                    </a:lnTo>
                    <a:lnTo>
                      <a:pt x="637" y="1789"/>
                    </a:lnTo>
                    <a:lnTo>
                      <a:pt x="643" y="1783"/>
                    </a:lnTo>
                    <a:lnTo>
                      <a:pt x="651" y="1779"/>
                    </a:lnTo>
                    <a:lnTo>
                      <a:pt x="657" y="1776"/>
                    </a:lnTo>
                    <a:lnTo>
                      <a:pt x="665" y="1772"/>
                    </a:lnTo>
                    <a:lnTo>
                      <a:pt x="670" y="1766"/>
                    </a:lnTo>
                    <a:lnTo>
                      <a:pt x="675" y="1761"/>
                    </a:lnTo>
                    <a:lnTo>
                      <a:pt x="671" y="1757"/>
                    </a:lnTo>
                    <a:lnTo>
                      <a:pt x="666" y="1757"/>
                    </a:lnTo>
                    <a:lnTo>
                      <a:pt x="661" y="1757"/>
                    </a:lnTo>
                    <a:lnTo>
                      <a:pt x="657" y="1759"/>
                    </a:lnTo>
                    <a:lnTo>
                      <a:pt x="653" y="1762"/>
                    </a:lnTo>
                    <a:lnTo>
                      <a:pt x="648" y="1765"/>
                    </a:lnTo>
                    <a:lnTo>
                      <a:pt x="643" y="1767"/>
                    </a:lnTo>
                    <a:lnTo>
                      <a:pt x="639" y="1770"/>
                    </a:lnTo>
                    <a:lnTo>
                      <a:pt x="615" y="1775"/>
                    </a:lnTo>
                    <a:lnTo>
                      <a:pt x="615" y="1774"/>
                    </a:lnTo>
                    <a:lnTo>
                      <a:pt x="615" y="1773"/>
                    </a:lnTo>
                    <a:lnTo>
                      <a:pt x="615" y="1772"/>
                    </a:lnTo>
                    <a:lnTo>
                      <a:pt x="615" y="1771"/>
                    </a:lnTo>
                    <a:lnTo>
                      <a:pt x="614" y="1770"/>
                    </a:lnTo>
                    <a:lnTo>
                      <a:pt x="613" y="1768"/>
                    </a:lnTo>
                    <a:lnTo>
                      <a:pt x="612" y="1767"/>
                    </a:lnTo>
                    <a:lnTo>
                      <a:pt x="611" y="1766"/>
                    </a:lnTo>
                    <a:lnTo>
                      <a:pt x="600" y="1771"/>
                    </a:lnTo>
                    <a:lnTo>
                      <a:pt x="590" y="1774"/>
                    </a:lnTo>
                    <a:lnTo>
                      <a:pt x="579" y="1779"/>
                    </a:lnTo>
                    <a:lnTo>
                      <a:pt x="568" y="1782"/>
                    </a:lnTo>
                    <a:lnTo>
                      <a:pt x="558" y="1786"/>
                    </a:lnTo>
                    <a:lnTo>
                      <a:pt x="546" y="1789"/>
                    </a:lnTo>
                    <a:lnTo>
                      <a:pt x="534" y="1790"/>
                    </a:lnTo>
                    <a:lnTo>
                      <a:pt x="522" y="1789"/>
                    </a:lnTo>
                    <a:lnTo>
                      <a:pt x="525" y="1783"/>
                    </a:lnTo>
                    <a:lnTo>
                      <a:pt x="529" y="1778"/>
                    </a:lnTo>
                    <a:lnTo>
                      <a:pt x="534" y="1773"/>
                    </a:lnTo>
                    <a:lnTo>
                      <a:pt x="539" y="1768"/>
                    </a:lnTo>
                    <a:lnTo>
                      <a:pt x="544" y="1764"/>
                    </a:lnTo>
                    <a:lnTo>
                      <a:pt x="549" y="1760"/>
                    </a:lnTo>
                    <a:lnTo>
                      <a:pt x="555" y="1756"/>
                    </a:lnTo>
                    <a:lnTo>
                      <a:pt x="559" y="1750"/>
                    </a:lnTo>
                    <a:lnTo>
                      <a:pt x="552" y="1745"/>
                    </a:lnTo>
                    <a:lnTo>
                      <a:pt x="545" y="1749"/>
                    </a:lnTo>
                    <a:lnTo>
                      <a:pt x="538" y="1754"/>
                    </a:lnTo>
                    <a:lnTo>
                      <a:pt x="530" y="1759"/>
                    </a:lnTo>
                    <a:lnTo>
                      <a:pt x="522" y="1763"/>
                    </a:lnTo>
                    <a:lnTo>
                      <a:pt x="514" y="1767"/>
                    </a:lnTo>
                    <a:lnTo>
                      <a:pt x="507" y="1772"/>
                    </a:lnTo>
                    <a:lnTo>
                      <a:pt x="499" y="1775"/>
                    </a:lnTo>
                    <a:lnTo>
                      <a:pt x="490" y="1777"/>
                    </a:lnTo>
                    <a:lnTo>
                      <a:pt x="491" y="1772"/>
                    </a:lnTo>
                    <a:lnTo>
                      <a:pt x="493" y="1767"/>
                    </a:lnTo>
                    <a:lnTo>
                      <a:pt x="495" y="1763"/>
                    </a:lnTo>
                    <a:lnTo>
                      <a:pt x="499" y="1759"/>
                    </a:lnTo>
                    <a:lnTo>
                      <a:pt x="505" y="1753"/>
                    </a:lnTo>
                    <a:lnTo>
                      <a:pt x="512" y="1747"/>
                    </a:lnTo>
                    <a:lnTo>
                      <a:pt x="521" y="1742"/>
                    </a:lnTo>
                    <a:lnTo>
                      <a:pt x="529" y="1738"/>
                    </a:lnTo>
                    <a:lnTo>
                      <a:pt x="538" y="1734"/>
                    </a:lnTo>
                    <a:lnTo>
                      <a:pt x="546" y="1728"/>
                    </a:lnTo>
                    <a:lnTo>
                      <a:pt x="546" y="1727"/>
                    </a:lnTo>
                    <a:lnTo>
                      <a:pt x="546" y="1726"/>
                    </a:lnTo>
                    <a:lnTo>
                      <a:pt x="545" y="1725"/>
                    </a:lnTo>
                    <a:lnTo>
                      <a:pt x="544" y="1724"/>
                    </a:lnTo>
                    <a:lnTo>
                      <a:pt x="543" y="1723"/>
                    </a:lnTo>
                    <a:lnTo>
                      <a:pt x="542" y="1722"/>
                    </a:lnTo>
                    <a:lnTo>
                      <a:pt x="541" y="1722"/>
                    </a:lnTo>
                    <a:lnTo>
                      <a:pt x="541" y="1721"/>
                    </a:lnTo>
                    <a:lnTo>
                      <a:pt x="526" y="1723"/>
                    </a:lnTo>
                    <a:lnTo>
                      <a:pt x="530" y="1718"/>
                    </a:lnTo>
                    <a:lnTo>
                      <a:pt x="534" y="1712"/>
                    </a:lnTo>
                    <a:lnTo>
                      <a:pt x="541" y="1709"/>
                    </a:lnTo>
                    <a:lnTo>
                      <a:pt x="547" y="1706"/>
                    </a:lnTo>
                    <a:lnTo>
                      <a:pt x="555" y="1703"/>
                    </a:lnTo>
                    <a:lnTo>
                      <a:pt x="561" y="1701"/>
                    </a:lnTo>
                    <a:lnTo>
                      <a:pt x="568" y="1698"/>
                    </a:lnTo>
                    <a:lnTo>
                      <a:pt x="575" y="1694"/>
                    </a:lnTo>
                    <a:lnTo>
                      <a:pt x="575" y="1692"/>
                    </a:lnTo>
                    <a:lnTo>
                      <a:pt x="575" y="1691"/>
                    </a:lnTo>
                    <a:lnTo>
                      <a:pt x="575" y="1689"/>
                    </a:lnTo>
                    <a:lnTo>
                      <a:pt x="574" y="1688"/>
                    </a:lnTo>
                    <a:lnTo>
                      <a:pt x="573" y="1687"/>
                    </a:lnTo>
                    <a:lnTo>
                      <a:pt x="572" y="1686"/>
                    </a:lnTo>
                    <a:lnTo>
                      <a:pt x="570" y="1685"/>
                    </a:lnTo>
                    <a:lnTo>
                      <a:pt x="568" y="1684"/>
                    </a:lnTo>
                    <a:lnTo>
                      <a:pt x="555" y="1686"/>
                    </a:lnTo>
                    <a:lnTo>
                      <a:pt x="557" y="1685"/>
                    </a:lnTo>
                    <a:lnTo>
                      <a:pt x="560" y="1685"/>
                    </a:lnTo>
                    <a:lnTo>
                      <a:pt x="562" y="1684"/>
                    </a:lnTo>
                    <a:lnTo>
                      <a:pt x="565" y="1684"/>
                    </a:lnTo>
                    <a:lnTo>
                      <a:pt x="567" y="1683"/>
                    </a:lnTo>
                    <a:lnTo>
                      <a:pt x="570" y="1682"/>
                    </a:lnTo>
                    <a:lnTo>
                      <a:pt x="573" y="1680"/>
                    </a:lnTo>
                    <a:lnTo>
                      <a:pt x="575" y="1679"/>
                    </a:lnTo>
                    <a:lnTo>
                      <a:pt x="575" y="1670"/>
                    </a:lnTo>
                    <a:lnTo>
                      <a:pt x="580" y="1668"/>
                    </a:lnTo>
                    <a:lnTo>
                      <a:pt x="586" y="1668"/>
                    </a:lnTo>
                    <a:lnTo>
                      <a:pt x="593" y="1669"/>
                    </a:lnTo>
                    <a:lnTo>
                      <a:pt x="599" y="1670"/>
                    </a:lnTo>
                    <a:lnTo>
                      <a:pt x="605" y="1670"/>
                    </a:lnTo>
                    <a:lnTo>
                      <a:pt x="610" y="1669"/>
                    </a:lnTo>
                    <a:lnTo>
                      <a:pt x="612" y="1668"/>
                    </a:lnTo>
                    <a:lnTo>
                      <a:pt x="614" y="1666"/>
                    </a:lnTo>
                    <a:lnTo>
                      <a:pt x="616" y="1664"/>
                    </a:lnTo>
                    <a:lnTo>
                      <a:pt x="617" y="1661"/>
                    </a:lnTo>
                    <a:lnTo>
                      <a:pt x="604" y="1652"/>
                    </a:lnTo>
                    <a:lnTo>
                      <a:pt x="613" y="1648"/>
                    </a:lnTo>
                    <a:lnTo>
                      <a:pt x="621" y="1646"/>
                    </a:lnTo>
                    <a:lnTo>
                      <a:pt x="630" y="1644"/>
                    </a:lnTo>
                    <a:lnTo>
                      <a:pt x="638" y="1642"/>
                    </a:lnTo>
                    <a:lnTo>
                      <a:pt x="647" y="1638"/>
                    </a:lnTo>
                    <a:lnTo>
                      <a:pt x="655" y="1635"/>
                    </a:lnTo>
                    <a:lnTo>
                      <a:pt x="661" y="1631"/>
                    </a:lnTo>
                    <a:lnTo>
                      <a:pt x="668" y="1626"/>
                    </a:lnTo>
                    <a:lnTo>
                      <a:pt x="665" y="1623"/>
                    </a:lnTo>
                    <a:lnTo>
                      <a:pt x="661" y="1620"/>
                    </a:lnTo>
                    <a:lnTo>
                      <a:pt x="658" y="1619"/>
                    </a:lnTo>
                    <a:lnTo>
                      <a:pt x="655" y="1618"/>
                    </a:lnTo>
                    <a:lnTo>
                      <a:pt x="652" y="1617"/>
                    </a:lnTo>
                    <a:lnTo>
                      <a:pt x="648" y="1617"/>
                    </a:lnTo>
                    <a:lnTo>
                      <a:pt x="645" y="1616"/>
                    </a:lnTo>
                    <a:lnTo>
                      <a:pt x="641" y="1615"/>
                    </a:lnTo>
                    <a:lnTo>
                      <a:pt x="647" y="1611"/>
                    </a:lnTo>
                    <a:lnTo>
                      <a:pt x="652" y="1608"/>
                    </a:lnTo>
                    <a:lnTo>
                      <a:pt x="657" y="1605"/>
                    </a:lnTo>
                    <a:lnTo>
                      <a:pt x="663" y="1602"/>
                    </a:lnTo>
                    <a:lnTo>
                      <a:pt x="668" y="1599"/>
                    </a:lnTo>
                    <a:lnTo>
                      <a:pt x="674" y="1597"/>
                    </a:lnTo>
                    <a:lnTo>
                      <a:pt x="679" y="1594"/>
                    </a:lnTo>
                    <a:lnTo>
                      <a:pt x="686" y="1590"/>
                    </a:lnTo>
                    <a:lnTo>
                      <a:pt x="684" y="1585"/>
                    </a:lnTo>
                    <a:lnTo>
                      <a:pt x="682" y="1582"/>
                    </a:lnTo>
                    <a:lnTo>
                      <a:pt x="679" y="1581"/>
                    </a:lnTo>
                    <a:lnTo>
                      <a:pt x="675" y="1581"/>
                    </a:lnTo>
                    <a:lnTo>
                      <a:pt x="672" y="1582"/>
                    </a:lnTo>
                    <a:lnTo>
                      <a:pt x="668" y="1582"/>
                    </a:lnTo>
                    <a:lnTo>
                      <a:pt x="665" y="1583"/>
                    </a:lnTo>
                    <a:lnTo>
                      <a:pt x="661" y="1583"/>
                    </a:lnTo>
                    <a:lnTo>
                      <a:pt x="665" y="1581"/>
                    </a:lnTo>
                    <a:lnTo>
                      <a:pt x="669" y="1579"/>
                    </a:lnTo>
                    <a:lnTo>
                      <a:pt x="673" y="1577"/>
                    </a:lnTo>
                    <a:lnTo>
                      <a:pt x="677" y="1574"/>
                    </a:lnTo>
                    <a:lnTo>
                      <a:pt x="682" y="1571"/>
                    </a:lnTo>
                    <a:lnTo>
                      <a:pt x="686" y="1568"/>
                    </a:lnTo>
                    <a:lnTo>
                      <a:pt x="688" y="1563"/>
                    </a:lnTo>
                    <a:lnTo>
                      <a:pt x="689" y="1559"/>
                    </a:lnTo>
                    <a:lnTo>
                      <a:pt x="686" y="1557"/>
                    </a:lnTo>
                    <a:lnTo>
                      <a:pt x="682" y="1556"/>
                    </a:lnTo>
                    <a:lnTo>
                      <a:pt x="677" y="1556"/>
                    </a:lnTo>
                    <a:lnTo>
                      <a:pt x="673" y="1557"/>
                    </a:lnTo>
                    <a:lnTo>
                      <a:pt x="668" y="1559"/>
                    </a:lnTo>
                    <a:lnTo>
                      <a:pt x="664" y="1560"/>
                    </a:lnTo>
                    <a:lnTo>
                      <a:pt x="659" y="1562"/>
                    </a:lnTo>
                    <a:lnTo>
                      <a:pt x="655" y="1563"/>
                    </a:lnTo>
                    <a:lnTo>
                      <a:pt x="657" y="1559"/>
                    </a:lnTo>
                    <a:lnTo>
                      <a:pt x="659" y="1555"/>
                    </a:lnTo>
                    <a:lnTo>
                      <a:pt x="663" y="1552"/>
                    </a:lnTo>
                    <a:lnTo>
                      <a:pt x="666" y="1550"/>
                    </a:lnTo>
                    <a:lnTo>
                      <a:pt x="674" y="1544"/>
                    </a:lnTo>
                    <a:lnTo>
                      <a:pt x="683" y="1539"/>
                    </a:lnTo>
                    <a:lnTo>
                      <a:pt x="692" y="1535"/>
                    </a:lnTo>
                    <a:lnTo>
                      <a:pt x="702" y="1529"/>
                    </a:lnTo>
                    <a:lnTo>
                      <a:pt x="710" y="1524"/>
                    </a:lnTo>
                    <a:lnTo>
                      <a:pt x="718" y="1517"/>
                    </a:lnTo>
                    <a:lnTo>
                      <a:pt x="715" y="1514"/>
                    </a:lnTo>
                    <a:lnTo>
                      <a:pt x="714" y="1511"/>
                    </a:lnTo>
                    <a:lnTo>
                      <a:pt x="713" y="1508"/>
                    </a:lnTo>
                    <a:lnTo>
                      <a:pt x="714" y="1506"/>
                    </a:lnTo>
                    <a:lnTo>
                      <a:pt x="716" y="1501"/>
                    </a:lnTo>
                    <a:lnTo>
                      <a:pt x="722" y="1496"/>
                    </a:lnTo>
                    <a:lnTo>
                      <a:pt x="727" y="1491"/>
                    </a:lnTo>
                    <a:lnTo>
                      <a:pt x="732" y="1486"/>
                    </a:lnTo>
                    <a:lnTo>
                      <a:pt x="738" y="1481"/>
                    </a:lnTo>
                    <a:lnTo>
                      <a:pt x="740" y="1474"/>
                    </a:lnTo>
                    <a:lnTo>
                      <a:pt x="739" y="1472"/>
                    </a:lnTo>
                    <a:lnTo>
                      <a:pt x="738" y="1471"/>
                    </a:lnTo>
                    <a:lnTo>
                      <a:pt x="736" y="1470"/>
                    </a:lnTo>
                    <a:lnTo>
                      <a:pt x="734" y="1469"/>
                    </a:lnTo>
                    <a:lnTo>
                      <a:pt x="732" y="1469"/>
                    </a:lnTo>
                    <a:lnTo>
                      <a:pt x="730" y="1468"/>
                    </a:lnTo>
                    <a:lnTo>
                      <a:pt x="728" y="1468"/>
                    </a:lnTo>
                    <a:lnTo>
                      <a:pt x="726" y="1469"/>
                    </a:lnTo>
                    <a:lnTo>
                      <a:pt x="725" y="1470"/>
                    </a:lnTo>
                    <a:lnTo>
                      <a:pt x="724" y="1471"/>
                    </a:lnTo>
                    <a:lnTo>
                      <a:pt x="723" y="1471"/>
                    </a:lnTo>
                    <a:lnTo>
                      <a:pt x="722" y="1472"/>
                    </a:lnTo>
                    <a:lnTo>
                      <a:pt x="720" y="1472"/>
                    </a:lnTo>
                    <a:lnTo>
                      <a:pt x="719" y="1472"/>
                    </a:lnTo>
                    <a:lnTo>
                      <a:pt x="718" y="1472"/>
                    </a:lnTo>
                    <a:lnTo>
                      <a:pt x="715" y="1472"/>
                    </a:lnTo>
                    <a:lnTo>
                      <a:pt x="718" y="1469"/>
                    </a:lnTo>
                    <a:lnTo>
                      <a:pt x="721" y="1466"/>
                    </a:lnTo>
                    <a:lnTo>
                      <a:pt x="723" y="1463"/>
                    </a:lnTo>
                    <a:lnTo>
                      <a:pt x="726" y="1460"/>
                    </a:lnTo>
                    <a:lnTo>
                      <a:pt x="728" y="1456"/>
                    </a:lnTo>
                    <a:lnTo>
                      <a:pt x="730" y="1453"/>
                    </a:lnTo>
                    <a:lnTo>
                      <a:pt x="730" y="1450"/>
                    </a:lnTo>
                    <a:lnTo>
                      <a:pt x="730" y="1446"/>
                    </a:lnTo>
                    <a:lnTo>
                      <a:pt x="727" y="1444"/>
                    </a:lnTo>
                    <a:lnTo>
                      <a:pt x="725" y="1443"/>
                    </a:lnTo>
                    <a:lnTo>
                      <a:pt x="722" y="1444"/>
                    </a:lnTo>
                    <a:lnTo>
                      <a:pt x="720" y="1446"/>
                    </a:lnTo>
                    <a:lnTo>
                      <a:pt x="716" y="1448"/>
                    </a:lnTo>
                    <a:lnTo>
                      <a:pt x="713" y="1450"/>
                    </a:lnTo>
                    <a:lnTo>
                      <a:pt x="711" y="1451"/>
                    </a:lnTo>
                    <a:lnTo>
                      <a:pt x="708" y="1452"/>
                    </a:lnTo>
                    <a:lnTo>
                      <a:pt x="708" y="1453"/>
                    </a:lnTo>
                    <a:lnTo>
                      <a:pt x="708" y="1454"/>
                    </a:lnTo>
                    <a:lnTo>
                      <a:pt x="707" y="1455"/>
                    </a:lnTo>
                    <a:lnTo>
                      <a:pt x="707" y="1455"/>
                    </a:lnTo>
                    <a:lnTo>
                      <a:pt x="706" y="1456"/>
                    </a:lnTo>
                    <a:lnTo>
                      <a:pt x="705" y="1458"/>
                    </a:lnTo>
                    <a:lnTo>
                      <a:pt x="704" y="1458"/>
                    </a:lnTo>
                    <a:lnTo>
                      <a:pt x="704" y="1459"/>
                    </a:lnTo>
                    <a:lnTo>
                      <a:pt x="708" y="1450"/>
                    </a:lnTo>
                    <a:lnTo>
                      <a:pt x="714" y="1442"/>
                    </a:lnTo>
                    <a:lnTo>
                      <a:pt x="721" y="1433"/>
                    </a:lnTo>
                    <a:lnTo>
                      <a:pt x="727" y="1425"/>
                    </a:lnTo>
                    <a:lnTo>
                      <a:pt x="733" y="1416"/>
                    </a:lnTo>
                    <a:lnTo>
                      <a:pt x="739" y="1408"/>
                    </a:lnTo>
                    <a:lnTo>
                      <a:pt x="742" y="1398"/>
                    </a:lnTo>
                    <a:lnTo>
                      <a:pt x="744" y="1388"/>
                    </a:lnTo>
                    <a:lnTo>
                      <a:pt x="742" y="1385"/>
                    </a:lnTo>
                    <a:lnTo>
                      <a:pt x="741" y="1381"/>
                    </a:lnTo>
                    <a:lnTo>
                      <a:pt x="740" y="1378"/>
                    </a:lnTo>
                    <a:lnTo>
                      <a:pt x="740" y="1375"/>
                    </a:lnTo>
                    <a:lnTo>
                      <a:pt x="741" y="1369"/>
                    </a:lnTo>
                    <a:lnTo>
                      <a:pt x="743" y="1361"/>
                    </a:lnTo>
                    <a:lnTo>
                      <a:pt x="745" y="1355"/>
                    </a:lnTo>
                    <a:lnTo>
                      <a:pt x="747" y="1349"/>
                    </a:lnTo>
                    <a:lnTo>
                      <a:pt x="748" y="1344"/>
                    </a:lnTo>
                    <a:lnTo>
                      <a:pt x="748" y="1341"/>
                    </a:lnTo>
                    <a:lnTo>
                      <a:pt x="747" y="1338"/>
                    </a:lnTo>
                    <a:lnTo>
                      <a:pt x="746" y="1336"/>
                    </a:lnTo>
                    <a:lnTo>
                      <a:pt x="747" y="1330"/>
                    </a:lnTo>
                    <a:lnTo>
                      <a:pt x="747" y="1323"/>
                    </a:lnTo>
                    <a:lnTo>
                      <a:pt x="747" y="1316"/>
                    </a:lnTo>
                    <a:lnTo>
                      <a:pt x="746" y="1309"/>
                    </a:lnTo>
                    <a:lnTo>
                      <a:pt x="745" y="1302"/>
                    </a:lnTo>
                    <a:lnTo>
                      <a:pt x="744" y="1295"/>
                    </a:lnTo>
                    <a:lnTo>
                      <a:pt x="743" y="1287"/>
                    </a:lnTo>
                    <a:lnTo>
                      <a:pt x="742" y="1281"/>
                    </a:lnTo>
                    <a:lnTo>
                      <a:pt x="738" y="1277"/>
                    </a:lnTo>
                    <a:lnTo>
                      <a:pt x="738" y="1280"/>
                    </a:lnTo>
                    <a:lnTo>
                      <a:pt x="737" y="1282"/>
                    </a:lnTo>
                    <a:lnTo>
                      <a:pt x="736" y="1284"/>
                    </a:lnTo>
                    <a:lnTo>
                      <a:pt x="733" y="1285"/>
                    </a:lnTo>
                    <a:lnTo>
                      <a:pt x="732" y="1286"/>
                    </a:lnTo>
                    <a:lnTo>
                      <a:pt x="730" y="1287"/>
                    </a:lnTo>
                    <a:lnTo>
                      <a:pt x="728" y="1287"/>
                    </a:lnTo>
                    <a:lnTo>
                      <a:pt x="726" y="1287"/>
                    </a:lnTo>
                    <a:lnTo>
                      <a:pt x="722" y="1285"/>
                    </a:lnTo>
                    <a:lnTo>
                      <a:pt x="720" y="1283"/>
                    </a:lnTo>
                    <a:lnTo>
                      <a:pt x="716" y="1281"/>
                    </a:lnTo>
                    <a:lnTo>
                      <a:pt x="715" y="1278"/>
                    </a:lnTo>
                    <a:lnTo>
                      <a:pt x="713" y="1271"/>
                    </a:lnTo>
                    <a:lnTo>
                      <a:pt x="712" y="1263"/>
                    </a:lnTo>
                    <a:lnTo>
                      <a:pt x="712" y="1255"/>
                    </a:lnTo>
                    <a:lnTo>
                      <a:pt x="711" y="1248"/>
                    </a:lnTo>
                    <a:lnTo>
                      <a:pt x="710" y="1245"/>
                    </a:lnTo>
                    <a:lnTo>
                      <a:pt x="708" y="1242"/>
                    </a:lnTo>
                    <a:lnTo>
                      <a:pt x="706" y="1239"/>
                    </a:lnTo>
                    <a:lnTo>
                      <a:pt x="704" y="1236"/>
                    </a:lnTo>
                    <a:lnTo>
                      <a:pt x="697" y="1229"/>
                    </a:lnTo>
                    <a:lnTo>
                      <a:pt x="693" y="1220"/>
                    </a:lnTo>
                    <a:lnTo>
                      <a:pt x="689" y="1210"/>
                    </a:lnTo>
                    <a:lnTo>
                      <a:pt x="686" y="1199"/>
                    </a:lnTo>
                    <a:lnTo>
                      <a:pt x="683" y="1190"/>
                    </a:lnTo>
                    <a:lnTo>
                      <a:pt x="678" y="1180"/>
                    </a:lnTo>
                    <a:lnTo>
                      <a:pt x="676" y="1175"/>
                    </a:lnTo>
                    <a:lnTo>
                      <a:pt x="673" y="1171"/>
                    </a:lnTo>
                    <a:lnTo>
                      <a:pt x="670" y="1168"/>
                    </a:lnTo>
                    <a:lnTo>
                      <a:pt x="666" y="1163"/>
                    </a:lnTo>
                    <a:lnTo>
                      <a:pt x="666" y="1154"/>
                    </a:lnTo>
                    <a:lnTo>
                      <a:pt x="666" y="1143"/>
                    </a:lnTo>
                    <a:lnTo>
                      <a:pt x="666" y="1133"/>
                    </a:lnTo>
                    <a:lnTo>
                      <a:pt x="665" y="1122"/>
                    </a:lnTo>
                    <a:lnTo>
                      <a:pt x="665" y="1112"/>
                    </a:lnTo>
                    <a:lnTo>
                      <a:pt x="666" y="1101"/>
                    </a:lnTo>
                    <a:lnTo>
                      <a:pt x="668" y="1092"/>
                    </a:lnTo>
                    <a:lnTo>
                      <a:pt x="671" y="1081"/>
                    </a:lnTo>
                    <a:lnTo>
                      <a:pt x="670" y="1077"/>
                    </a:lnTo>
                    <a:lnTo>
                      <a:pt x="669" y="1073"/>
                    </a:lnTo>
                    <a:lnTo>
                      <a:pt x="670" y="1067"/>
                    </a:lnTo>
                    <a:lnTo>
                      <a:pt x="671" y="1063"/>
                    </a:lnTo>
                    <a:lnTo>
                      <a:pt x="672" y="1058"/>
                    </a:lnTo>
                    <a:lnTo>
                      <a:pt x="674" y="1052"/>
                    </a:lnTo>
                    <a:lnTo>
                      <a:pt x="676" y="1048"/>
                    </a:lnTo>
                    <a:lnTo>
                      <a:pt x="677" y="1043"/>
                    </a:lnTo>
                    <a:lnTo>
                      <a:pt x="684" y="1033"/>
                    </a:lnTo>
                    <a:lnTo>
                      <a:pt x="689" y="1023"/>
                    </a:lnTo>
                    <a:lnTo>
                      <a:pt x="696" y="1013"/>
                    </a:lnTo>
                    <a:lnTo>
                      <a:pt x="703" y="1004"/>
                    </a:lnTo>
                    <a:lnTo>
                      <a:pt x="710" y="994"/>
                    </a:lnTo>
                    <a:lnTo>
                      <a:pt x="718" y="985"/>
                    </a:lnTo>
                    <a:lnTo>
                      <a:pt x="725" y="976"/>
                    </a:lnTo>
                    <a:lnTo>
                      <a:pt x="731" y="967"/>
                    </a:lnTo>
                    <a:lnTo>
                      <a:pt x="728" y="964"/>
                    </a:lnTo>
                    <a:lnTo>
                      <a:pt x="727" y="960"/>
                    </a:lnTo>
                    <a:lnTo>
                      <a:pt x="728" y="958"/>
                    </a:lnTo>
                    <a:lnTo>
                      <a:pt x="730" y="955"/>
                    </a:lnTo>
                    <a:lnTo>
                      <a:pt x="732" y="953"/>
                    </a:lnTo>
                    <a:lnTo>
                      <a:pt x="736" y="951"/>
                    </a:lnTo>
                    <a:lnTo>
                      <a:pt x="738" y="949"/>
                    </a:lnTo>
                    <a:lnTo>
                      <a:pt x="738" y="946"/>
                    </a:lnTo>
                    <a:lnTo>
                      <a:pt x="764" y="916"/>
                    </a:lnTo>
                    <a:lnTo>
                      <a:pt x="758" y="908"/>
                    </a:lnTo>
                    <a:lnTo>
                      <a:pt x="786" y="885"/>
                    </a:lnTo>
                    <a:lnTo>
                      <a:pt x="786" y="879"/>
                    </a:lnTo>
                    <a:lnTo>
                      <a:pt x="779" y="881"/>
                    </a:lnTo>
                    <a:lnTo>
                      <a:pt x="771" y="884"/>
                    </a:lnTo>
                    <a:lnTo>
                      <a:pt x="764" y="888"/>
                    </a:lnTo>
                    <a:lnTo>
                      <a:pt x="758" y="894"/>
                    </a:lnTo>
                    <a:lnTo>
                      <a:pt x="751" y="899"/>
                    </a:lnTo>
                    <a:lnTo>
                      <a:pt x="745" y="904"/>
                    </a:lnTo>
                    <a:lnTo>
                      <a:pt x="739" y="911"/>
                    </a:lnTo>
                    <a:lnTo>
                      <a:pt x="731" y="916"/>
                    </a:lnTo>
                    <a:lnTo>
                      <a:pt x="733" y="918"/>
                    </a:lnTo>
                    <a:lnTo>
                      <a:pt x="736" y="919"/>
                    </a:lnTo>
                    <a:lnTo>
                      <a:pt x="738" y="920"/>
                    </a:lnTo>
                    <a:lnTo>
                      <a:pt x="740" y="920"/>
                    </a:lnTo>
                    <a:lnTo>
                      <a:pt x="742" y="920"/>
                    </a:lnTo>
                    <a:lnTo>
                      <a:pt x="744" y="919"/>
                    </a:lnTo>
                    <a:lnTo>
                      <a:pt x="746" y="918"/>
                    </a:lnTo>
                    <a:lnTo>
                      <a:pt x="748" y="918"/>
                    </a:lnTo>
                    <a:lnTo>
                      <a:pt x="744" y="927"/>
                    </a:lnTo>
                    <a:lnTo>
                      <a:pt x="738" y="934"/>
                    </a:lnTo>
                    <a:lnTo>
                      <a:pt x="731" y="941"/>
                    </a:lnTo>
                    <a:lnTo>
                      <a:pt x="724" y="948"/>
                    </a:lnTo>
                    <a:lnTo>
                      <a:pt x="715" y="955"/>
                    </a:lnTo>
                    <a:lnTo>
                      <a:pt x="708" y="961"/>
                    </a:lnTo>
                    <a:lnTo>
                      <a:pt x="702" y="969"/>
                    </a:lnTo>
                    <a:lnTo>
                      <a:pt x="695" y="976"/>
                    </a:lnTo>
                    <a:lnTo>
                      <a:pt x="698" y="978"/>
                    </a:lnTo>
                    <a:lnTo>
                      <a:pt x="701" y="978"/>
                    </a:lnTo>
                    <a:lnTo>
                      <a:pt x="703" y="977"/>
                    </a:lnTo>
                    <a:lnTo>
                      <a:pt x="705" y="976"/>
                    </a:lnTo>
                    <a:lnTo>
                      <a:pt x="707" y="975"/>
                    </a:lnTo>
                    <a:lnTo>
                      <a:pt x="709" y="973"/>
                    </a:lnTo>
                    <a:lnTo>
                      <a:pt x="711" y="971"/>
                    </a:lnTo>
                    <a:lnTo>
                      <a:pt x="713" y="970"/>
                    </a:lnTo>
                    <a:lnTo>
                      <a:pt x="709" y="979"/>
                    </a:lnTo>
                    <a:lnTo>
                      <a:pt x="704" y="988"/>
                    </a:lnTo>
                    <a:lnTo>
                      <a:pt x="697" y="995"/>
                    </a:lnTo>
                    <a:lnTo>
                      <a:pt x="691" y="1003"/>
                    </a:lnTo>
                    <a:lnTo>
                      <a:pt x="685" y="1010"/>
                    </a:lnTo>
                    <a:lnTo>
                      <a:pt x="677" y="1018"/>
                    </a:lnTo>
                    <a:lnTo>
                      <a:pt x="670" y="1025"/>
                    </a:lnTo>
                    <a:lnTo>
                      <a:pt x="661" y="1033"/>
                    </a:lnTo>
                    <a:lnTo>
                      <a:pt x="658" y="1030"/>
                    </a:lnTo>
                    <a:lnTo>
                      <a:pt x="657" y="1027"/>
                    </a:lnTo>
                    <a:lnTo>
                      <a:pt x="655" y="1024"/>
                    </a:lnTo>
                    <a:lnTo>
                      <a:pt x="655" y="1021"/>
                    </a:lnTo>
                    <a:lnTo>
                      <a:pt x="656" y="1013"/>
                    </a:lnTo>
                    <a:lnTo>
                      <a:pt x="658" y="1006"/>
                    </a:lnTo>
                    <a:lnTo>
                      <a:pt x="661" y="998"/>
                    </a:lnTo>
                    <a:lnTo>
                      <a:pt x="665" y="991"/>
                    </a:lnTo>
                    <a:lnTo>
                      <a:pt x="668" y="984"/>
                    </a:lnTo>
                    <a:lnTo>
                      <a:pt x="670" y="976"/>
                    </a:lnTo>
                    <a:lnTo>
                      <a:pt x="665" y="974"/>
                    </a:lnTo>
                    <a:lnTo>
                      <a:pt x="661" y="970"/>
                    </a:lnTo>
                    <a:lnTo>
                      <a:pt x="659" y="966"/>
                    </a:lnTo>
                    <a:lnTo>
                      <a:pt x="659" y="960"/>
                    </a:lnTo>
                    <a:lnTo>
                      <a:pt x="659" y="955"/>
                    </a:lnTo>
                    <a:lnTo>
                      <a:pt x="659" y="950"/>
                    </a:lnTo>
                    <a:lnTo>
                      <a:pt x="660" y="945"/>
                    </a:lnTo>
                    <a:lnTo>
                      <a:pt x="661" y="940"/>
                    </a:lnTo>
                    <a:lnTo>
                      <a:pt x="663" y="939"/>
                    </a:lnTo>
                    <a:lnTo>
                      <a:pt x="663" y="937"/>
                    </a:lnTo>
                    <a:lnTo>
                      <a:pt x="664" y="936"/>
                    </a:lnTo>
                    <a:lnTo>
                      <a:pt x="664" y="934"/>
                    </a:lnTo>
                    <a:lnTo>
                      <a:pt x="664" y="933"/>
                    </a:lnTo>
                    <a:lnTo>
                      <a:pt x="664" y="931"/>
                    </a:lnTo>
                    <a:lnTo>
                      <a:pt x="664" y="930"/>
                    </a:lnTo>
                    <a:lnTo>
                      <a:pt x="664" y="928"/>
                    </a:lnTo>
                    <a:lnTo>
                      <a:pt x="659" y="928"/>
                    </a:lnTo>
                    <a:lnTo>
                      <a:pt x="657" y="927"/>
                    </a:lnTo>
                    <a:lnTo>
                      <a:pt x="655" y="926"/>
                    </a:lnTo>
                    <a:lnTo>
                      <a:pt x="654" y="923"/>
                    </a:lnTo>
                    <a:lnTo>
                      <a:pt x="653" y="919"/>
                    </a:lnTo>
                    <a:lnTo>
                      <a:pt x="654" y="914"/>
                    </a:lnTo>
                    <a:lnTo>
                      <a:pt x="655" y="909"/>
                    </a:lnTo>
                    <a:lnTo>
                      <a:pt x="656" y="904"/>
                    </a:lnTo>
                    <a:lnTo>
                      <a:pt x="656" y="901"/>
                    </a:lnTo>
                    <a:lnTo>
                      <a:pt x="655" y="899"/>
                    </a:lnTo>
                    <a:lnTo>
                      <a:pt x="655" y="897"/>
                    </a:lnTo>
                    <a:lnTo>
                      <a:pt x="653" y="896"/>
                    </a:lnTo>
                    <a:lnTo>
                      <a:pt x="652" y="898"/>
                    </a:lnTo>
                    <a:lnTo>
                      <a:pt x="650" y="894"/>
                    </a:lnTo>
                    <a:lnTo>
                      <a:pt x="649" y="891"/>
                    </a:lnTo>
                    <a:lnTo>
                      <a:pt x="650" y="886"/>
                    </a:lnTo>
                    <a:lnTo>
                      <a:pt x="650" y="882"/>
                    </a:lnTo>
                    <a:lnTo>
                      <a:pt x="651" y="878"/>
                    </a:lnTo>
                    <a:lnTo>
                      <a:pt x="652" y="874"/>
                    </a:lnTo>
                    <a:lnTo>
                      <a:pt x="652" y="869"/>
                    </a:lnTo>
                    <a:lnTo>
                      <a:pt x="652" y="865"/>
                    </a:lnTo>
                    <a:lnTo>
                      <a:pt x="641" y="879"/>
                    </a:lnTo>
                    <a:lnTo>
                      <a:pt x="640" y="872"/>
                    </a:lnTo>
                    <a:lnTo>
                      <a:pt x="639" y="864"/>
                    </a:lnTo>
                    <a:lnTo>
                      <a:pt x="639" y="856"/>
                    </a:lnTo>
                    <a:lnTo>
                      <a:pt x="640" y="846"/>
                    </a:lnTo>
                    <a:lnTo>
                      <a:pt x="641" y="838"/>
                    </a:lnTo>
                    <a:lnTo>
                      <a:pt x="642" y="828"/>
                    </a:lnTo>
                    <a:lnTo>
                      <a:pt x="643" y="820"/>
                    </a:lnTo>
                    <a:lnTo>
                      <a:pt x="646" y="811"/>
                    </a:lnTo>
                    <a:lnTo>
                      <a:pt x="647" y="803"/>
                    </a:lnTo>
                    <a:lnTo>
                      <a:pt x="649" y="795"/>
                    </a:lnTo>
                    <a:lnTo>
                      <a:pt x="651" y="787"/>
                    </a:lnTo>
                    <a:lnTo>
                      <a:pt x="653" y="778"/>
                    </a:lnTo>
                    <a:lnTo>
                      <a:pt x="655" y="771"/>
                    </a:lnTo>
                    <a:lnTo>
                      <a:pt x="656" y="763"/>
                    </a:lnTo>
                    <a:lnTo>
                      <a:pt x="655" y="754"/>
                    </a:lnTo>
                    <a:lnTo>
                      <a:pt x="653" y="747"/>
                    </a:lnTo>
                    <a:lnTo>
                      <a:pt x="643" y="747"/>
                    </a:lnTo>
                    <a:lnTo>
                      <a:pt x="643" y="738"/>
                    </a:lnTo>
                    <a:lnTo>
                      <a:pt x="646" y="729"/>
                    </a:lnTo>
                    <a:lnTo>
                      <a:pt x="648" y="719"/>
                    </a:lnTo>
                    <a:lnTo>
                      <a:pt x="651" y="710"/>
                    </a:lnTo>
                    <a:lnTo>
                      <a:pt x="651" y="704"/>
                    </a:lnTo>
                    <a:lnTo>
                      <a:pt x="652" y="700"/>
                    </a:lnTo>
                    <a:lnTo>
                      <a:pt x="651" y="696"/>
                    </a:lnTo>
                    <a:lnTo>
                      <a:pt x="650" y="693"/>
                    </a:lnTo>
                    <a:lnTo>
                      <a:pt x="649" y="689"/>
                    </a:lnTo>
                    <a:lnTo>
                      <a:pt x="646" y="686"/>
                    </a:lnTo>
                    <a:lnTo>
                      <a:pt x="642" y="683"/>
                    </a:lnTo>
                    <a:lnTo>
                      <a:pt x="637" y="682"/>
                    </a:lnTo>
                    <a:lnTo>
                      <a:pt x="638" y="668"/>
                    </a:lnTo>
                    <a:lnTo>
                      <a:pt x="637" y="655"/>
                    </a:lnTo>
                    <a:lnTo>
                      <a:pt x="634" y="641"/>
                    </a:lnTo>
                    <a:lnTo>
                      <a:pt x="630" y="628"/>
                    </a:lnTo>
                    <a:lnTo>
                      <a:pt x="623" y="617"/>
                    </a:lnTo>
                    <a:lnTo>
                      <a:pt x="615" y="605"/>
                    </a:lnTo>
                    <a:lnTo>
                      <a:pt x="610" y="601"/>
                    </a:lnTo>
                    <a:lnTo>
                      <a:pt x="604" y="596"/>
                    </a:lnTo>
                    <a:lnTo>
                      <a:pt x="599" y="591"/>
                    </a:lnTo>
                    <a:lnTo>
                      <a:pt x="593" y="587"/>
                    </a:lnTo>
                    <a:lnTo>
                      <a:pt x="587" y="584"/>
                    </a:lnTo>
                    <a:lnTo>
                      <a:pt x="583" y="582"/>
                    </a:lnTo>
                    <a:lnTo>
                      <a:pt x="578" y="580"/>
                    </a:lnTo>
                    <a:lnTo>
                      <a:pt x="573" y="579"/>
                    </a:lnTo>
                    <a:lnTo>
                      <a:pt x="568" y="578"/>
                    </a:lnTo>
                    <a:lnTo>
                      <a:pt x="563" y="576"/>
                    </a:lnTo>
                    <a:lnTo>
                      <a:pt x="558" y="575"/>
                    </a:lnTo>
                    <a:lnTo>
                      <a:pt x="552" y="575"/>
                    </a:lnTo>
                    <a:lnTo>
                      <a:pt x="533" y="578"/>
                    </a:lnTo>
                    <a:lnTo>
                      <a:pt x="513" y="582"/>
                    </a:lnTo>
                    <a:lnTo>
                      <a:pt x="494" y="587"/>
                    </a:lnTo>
                    <a:lnTo>
                      <a:pt x="476" y="593"/>
                    </a:lnTo>
                    <a:lnTo>
                      <a:pt x="457" y="601"/>
                    </a:lnTo>
                    <a:lnTo>
                      <a:pt x="439" y="609"/>
                    </a:lnTo>
                    <a:lnTo>
                      <a:pt x="422" y="619"/>
                    </a:lnTo>
                    <a:lnTo>
                      <a:pt x="405" y="628"/>
                    </a:lnTo>
                    <a:lnTo>
                      <a:pt x="390" y="640"/>
                    </a:lnTo>
                    <a:lnTo>
                      <a:pt x="373" y="652"/>
                    </a:lnTo>
                    <a:lnTo>
                      <a:pt x="358" y="664"/>
                    </a:lnTo>
                    <a:lnTo>
                      <a:pt x="343" y="677"/>
                    </a:lnTo>
                    <a:lnTo>
                      <a:pt x="328" y="691"/>
                    </a:lnTo>
                    <a:lnTo>
                      <a:pt x="314" y="706"/>
                    </a:lnTo>
                    <a:lnTo>
                      <a:pt x="301" y="719"/>
                    </a:lnTo>
                    <a:lnTo>
                      <a:pt x="288" y="734"/>
                    </a:lnTo>
                    <a:lnTo>
                      <a:pt x="285" y="735"/>
                    </a:lnTo>
                    <a:lnTo>
                      <a:pt x="282" y="736"/>
                    </a:lnTo>
                    <a:lnTo>
                      <a:pt x="278" y="738"/>
                    </a:lnTo>
                    <a:lnTo>
                      <a:pt x="275" y="740"/>
                    </a:lnTo>
                    <a:lnTo>
                      <a:pt x="273" y="744"/>
                    </a:lnTo>
                    <a:lnTo>
                      <a:pt x="271" y="746"/>
                    </a:lnTo>
                    <a:lnTo>
                      <a:pt x="270" y="749"/>
                    </a:lnTo>
                    <a:lnTo>
                      <a:pt x="268" y="752"/>
                    </a:lnTo>
                    <a:lnTo>
                      <a:pt x="261" y="762"/>
                    </a:lnTo>
                    <a:lnTo>
                      <a:pt x="256" y="771"/>
                    </a:lnTo>
                    <a:lnTo>
                      <a:pt x="250" y="780"/>
                    </a:lnTo>
                    <a:lnTo>
                      <a:pt x="244" y="789"/>
                    </a:lnTo>
                    <a:lnTo>
                      <a:pt x="238" y="798"/>
                    </a:lnTo>
                    <a:lnTo>
                      <a:pt x="232" y="807"/>
                    </a:lnTo>
                    <a:lnTo>
                      <a:pt x="224" y="816"/>
                    </a:lnTo>
                    <a:lnTo>
                      <a:pt x="218" y="823"/>
                    </a:lnTo>
                    <a:lnTo>
                      <a:pt x="220" y="817"/>
                    </a:lnTo>
                    <a:lnTo>
                      <a:pt x="223" y="810"/>
                    </a:lnTo>
                    <a:lnTo>
                      <a:pt x="227" y="804"/>
                    </a:lnTo>
                    <a:lnTo>
                      <a:pt x="230" y="798"/>
                    </a:lnTo>
                    <a:lnTo>
                      <a:pt x="233" y="791"/>
                    </a:lnTo>
                    <a:lnTo>
                      <a:pt x="235" y="785"/>
                    </a:lnTo>
                    <a:lnTo>
                      <a:pt x="236" y="778"/>
                    </a:lnTo>
                    <a:lnTo>
                      <a:pt x="237" y="773"/>
                    </a:lnTo>
                    <a:lnTo>
                      <a:pt x="228" y="784"/>
                    </a:lnTo>
                    <a:lnTo>
                      <a:pt x="218" y="795"/>
                    </a:lnTo>
                    <a:lnTo>
                      <a:pt x="210" y="808"/>
                    </a:lnTo>
                    <a:lnTo>
                      <a:pt x="202" y="821"/>
                    </a:lnTo>
                    <a:lnTo>
                      <a:pt x="195" y="833"/>
                    </a:lnTo>
                    <a:lnTo>
                      <a:pt x="187" y="846"/>
                    </a:lnTo>
                    <a:lnTo>
                      <a:pt x="180" y="859"/>
                    </a:lnTo>
                    <a:lnTo>
                      <a:pt x="171" y="872"/>
                    </a:lnTo>
                    <a:lnTo>
                      <a:pt x="172" y="866"/>
                    </a:lnTo>
                    <a:lnTo>
                      <a:pt x="173" y="862"/>
                    </a:lnTo>
                    <a:lnTo>
                      <a:pt x="175" y="858"/>
                    </a:lnTo>
                    <a:lnTo>
                      <a:pt x="177" y="853"/>
                    </a:lnTo>
                    <a:lnTo>
                      <a:pt x="180" y="848"/>
                    </a:lnTo>
                    <a:lnTo>
                      <a:pt x="183" y="843"/>
                    </a:lnTo>
                    <a:lnTo>
                      <a:pt x="185" y="838"/>
                    </a:lnTo>
                    <a:lnTo>
                      <a:pt x="187" y="833"/>
                    </a:lnTo>
                    <a:lnTo>
                      <a:pt x="186" y="832"/>
                    </a:lnTo>
                    <a:lnTo>
                      <a:pt x="185" y="831"/>
                    </a:lnTo>
                    <a:lnTo>
                      <a:pt x="184" y="830"/>
                    </a:lnTo>
                    <a:lnTo>
                      <a:pt x="183" y="829"/>
                    </a:lnTo>
                    <a:lnTo>
                      <a:pt x="182" y="828"/>
                    </a:lnTo>
                    <a:lnTo>
                      <a:pt x="180" y="827"/>
                    </a:lnTo>
                    <a:lnTo>
                      <a:pt x="179" y="827"/>
                    </a:lnTo>
                    <a:lnTo>
                      <a:pt x="177" y="827"/>
                    </a:lnTo>
                    <a:lnTo>
                      <a:pt x="128" y="910"/>
                    </a:lnTo>
                    <a:lnTo>
                      <a:pt x="139" y="882"/>
                    </a:lnTo>
                    <a:lnTo>
                      <a:pt x="138" y="880"/>
                    </a:lnTo>
                    <a:lnTo>
                      <a:pt x="137" y="879"/>
                    </a:lnTo>
                    <a:lnTo>
                      <a:pt x="136" y="879"/>
                    </a:lnTo>
                    <a:lnTo>
                      <a:pt x="135" y="878"/>
                    </a:lnTo>
                    <a:lnTo>
                      <a:pt x="133" y="878"/>
                    </a:lnTo>
                    <a:lnTo>
                      <a:pt x="131" y="878"/>
                    </a:lnTo>
                    <a:lnTo>
                      <a:pt x="130" y="878"/>
                    </a:lnTo>
                    <a:lnTo>
                      <a:pt x="128" y="878"/>
                    </a:lnTo>
                    <a:lnTo>
                      <a:pt x="123" y="890"/>
                    </a:lnTo>
                    <a:lnTo>
                      <a:pt x="117" y="900"/>
                    </a:lnTo>
                    <a:lnTo>
                      <a:pt x="110" y="912"/>
                    </a:lnTo>
                    <a:lnTo>
                      <a:pt x="104" y="923"/>
                    </a:lnTo>
                    <a:lnTo>
                      <a:pt x="97" y="935"/>
                    </a:lnTo>
                    <a:lnTo>
                      <a:pt x="92" y="947"/>
                    </a:lnTo>
                    <a:lnTo>
                      <a:pt x="87" y="958"/>
                    </a:lnTo>
                    <a:lnTo>
                      <a:pt x="83" y="970"/>
                    </a:lnTo>
                    <a:lnTo>
                      <a:pt x="84" y="954"/>
                    </a:lnTo>
                    <a:lnTo>
                      <a:pt x="87" y="939"/>
                    </a:lnTo>
                    <a:lnTo>
                      <a:pt x="89" y="926"/>
                    </a:lnTo>
                    <a:lnTo>
                      <a:pt x="93" y="911"/>
                    </a:lnTo>
                    <a:lnTo>
                      <a:pt x="97" y="897"/>
                    </a:lnTo>
                    <a:lnTo>
                      <a:pt x="102" y="883"/>
                    </a:lnTo>
                    <a:lnTo>
                      <a:pt x="107" y="869"/>
                    </a:lnTo>
                    <a:lnTo>
                      <a:pt x="112" y="856"/>
                    </a:lnTo>
                    <a:lnTo>
                      <a:pt x="109" y="851"/>
                    </a:lnTo>
                    <a:lnTo>
                      <a:pt x="101" y="860"/>
                    </a:lnTo>
                    <a:lnTo>
                      <a:pt x="93" y="871"/>
                    </a:lnTo>
                    <a:lnTo>
                      <a:pt x="87" y="881"/>
                    </a:lnTo>
                    <a:lnTo>
                      <a:pt x="82" y="892"/>
                    </a:lnTo>
                    <a:lnTo>
                      <a:pt x="76" y="903"/>
                    </a:lnTo>
                    <a:lnTo>
                      <a:pt x="71" y="915"/>
                    </a:lnTo>
                    <a:lnTo>
                      <a:pt x="67" y="927"/>
                    </a:lnTo>
                    <a:lnTo>
                      <a:pt x="63" y="938"/>
                    </a:lnTo>
                    <a:lnTo>
                      <a:pt x="62" y="930"/>
                    </a:lnTo>
                    <a:lnTo>
                      <a:pt x="62" y="921"/>
                    </a:lnTo>
                    <a:lnTo>
                      <a:pt x="63" y="911"/>
                    </a:lnTo>
                    <a:lnTo>
                      <a:pt x="64" y="901"/>
                    </a:lnTo>
                    <a:lnTo>
                      <a:pt x="66" y="892"/>
                    </a:lnTo>
                    <a:lnTo>
                      <a:pt x="68" y="881"/>
                    </a:lnTo>
                    <a:lnTo>
                      <a:pt x="71" y="873"/>
                    </a:lnTo>
                    <a:lnTo>
                      <a:pt x="74" y="863"/>
                    </a:lnTo>
                    <a:lnTo>
                      <a:pt x="73" y="862"/>
                    </a:lnTo>
                    <a:lnTo>
                      <a:pt x="72" y="861"/>
                    </a:lnTo>
                    <a:lnTo>
                      <a:pt x="71" y="861"/>
                    </a:lnTo>
                    <a:lnTo>
                      <a:pt x="70" y="860"/>
                    </a:lnTo>
                    <a:lnTo>
                      <a:pt x="69" y="860"/>
                    </a:lnTo>
                    <a:lnTo>
                      <a:pt x="67" y="860"/>
                    </a:lnTo>
                    <a:lnTo>
                      <a:pt x="66" y="860"/>
                    </a:lnTo>
                    <a:lnTo>
                      <a:pt x="65" y="860"/>
                    </a:lnTo>
                    <a:lnTo>
                      <a:pt x="58" y="872"/>
                    </a:lnTo>
                    <a:lnTo>
                      <a:pt x="53" y="883"/>
                    </a:lnTo>
                    <a:lnTo>
                      <a:pt x="49" y="896"/>
                    </a:lnTo>
                    <a:lnTo>
                      <a:pt x="44" y="908"/>
                    </a:lnTo>
                    <a:lnTo>
                      <a:pt x="39" y="920"/>
                    </a:lnTo>
                    <a:lnTo>
                      <a:pt x="35" y="933"/>
                    </a:lnTo>
                    <a:lnTo>
                      <a:pt x="32" y="946"/>
                    </a:lnTo>
                    <a:lnTo>
                      <a:pt x="30" y="958"/>
                    </a:lnTo>
                    <a:lnTo>
                      <a:pt x="27" y="947"/>
                    </a:lnTo>
                    <a:lnTo>
                      <a:pt x="26" y="935"/>
                    </a:lnTo>
                    <a:lnTo>
                      <a:pt x="27" y="923"/>
                    </a:lnTo>
                    <a:lnTo>
                      <a:pt x="28" y="912"/>
                    </a:lnTo>
                    <a:lnTo>
                      <a:pt x="30" y="900"/>
                    </a:lnTo>
                    <a:lnTo>
                      <a:pt x="32" y="888"/>
                    </a:lnTo>
                    <a:lnTo>
                      <a:pt x="34" y="877"/>
                    </a:lnTo>
                    <a:lnTo>
                      <a:pt x="36" y="865"/>
                    </a:lnTo>
                    <a:lnTo>
                      <a:pt x="30" y="860"/>
                    </a:lnTo>
                    <a:lnTo>
                      <a:pt x="26" y="863"/>
                    </a:lnTo>
                    <a:lnTo>
                      <a:pt x="23" y="866"/>
                    </a:lnTo>
                    <a:lnTo>
                      <a:pt x="21" y="871"/>
                    </a:lnTo>
                    <a:lnTo>
                      <a:pt x="19" y="875"/>
                    </a:lnTo>
                    <a:lnTo>
                      <a:pt x="18" y="880"/>
                    </a:lnTo>
                    <a:lnTo>
                      <a:pt x="17" y="884"/>
                    </a:lnTo>
                    <a:lnTo>
                      <a:pt x="16" y="890"/>
                    </a:lnTo>
                    <a:lnTo>
                      <a:pt x="14" y="894"/>
                    </a:lnTo>
                    <a:lnTo>
                      <a:pt x="12" y="878"/>
                    </a:lnTo>
                    <a:lnTo>
                      <a:pt x="12" y="863"/>
                    </a:lnTo>
                    <a:lnTo>
                      <a:pt x="13" y="849"/>
                    </a:lnTo>
                    <a:lnTo>
                      <a:pt x="14" y="835"/>
                    </a:lnTo>
                    <a:lnTo>
                      <a:pt x="17" y="820"/>
                    </a:lnTo>
                    <a:lnTo>
                      <a:pt x="20" y="806"/>
                    </a:lnTo>
                    <a:lnTo>
                      <a:pt x="24" y="792"/>
                    </a:lnTo>
                    <a:lnTo>
                      <a:pt x="28" y="778"/>
                    </a:lnTo>
                    <a:lnTo>
                      <a:pt x="28" y="777"/>
                    </a:lnTo>
                    <a:lnTo>
                      <a:pt x="27" y="776"/>
                    </a:lnTo>
                    <a:lnTo>
                      <a:pt x="26" y="775"/>
                    </a:lnTo>
                    <a:lnTo>
                      <a:pt x="24" y="774"/>
                    </a:lnTo>
                    <a:lnTo>
                      <a:pt x="23" y="773"/>
                    </a:lnTo>
                    <a:lnTo>
                      <a:pt x="21" y="772"/>
                    </a:lnTo>
                    <a:lnTo>
                      <a:pt x="19" y="772"/>
                    </a:lnTo>
                    <a:lnTo>
                      <a:pt x="18" y="773"/>
                    </a:lnTo>
                    <a:lnTo>
                      <a:pt x="0" y="805"/>
                    </a:lnTo>
                    <a:lnTo>
                      <a:pt x="0" y="791"/>
                    </a:lnTo>
                    <a:lnTo>
                      <a:pt x="2" y="777"/>
                    </a:lnTo>
                    <a:lnTo>
                      <a:pt x="4" y="765"/>
                    </a:lnTo>
                    <a:lnTo>
                      <a:pt x="9" y="751"/>
                    </a:lnTo>
                    <a:lnTo>
                      <a:pt x="13" y="738"/>
                    </a:lnTo>
                    <a:lnTo>
                      <a:pt x="18" y="726"/>
                    </a:lnTo>
                    <a:lnTo>
                      <a:pt x="22" y="713"/>
                    </a:lnTo>
                    <a:lnTo>
                      <a:pt x="28" y="700"/>
                    </a:lnTo>
                    <a:lnTo>
                      <a:pt x="27" y="699"/>
                    </a:lnTo>
                    <a:lnTo>
                      <a:pt x="26" y="698"/>
                    </a:lnTo>
                    <a:lnTo>
                      <a:pt x="24" y="696"/>
                    </a:lnTo>
                    <a:lnTo>
                      <a:pt x="22" y="695"/>
                    </a:lnTo>
                    <a:lnTo>
                      <a:pt x="21" y="694"/>
                    </a:lnTo>
                    <a:lnTo>
                      <a:pt x="19" y="694"/>
                    </a:lnTo>
                    <a:lnTo>
                      <a:pt x="18" y="694"/>
                    </a:lnTo>
                    <a:lnTo>
                      <a:pt x="16" y="694"/>
                    </a:lnTo>
                    <a:lnTo>
                      <a:pt x="16" y="692"/>
                    </a:lnTo>
                    <a:lnTo>
                      <a:pt x="16" y="689"/>
                    </a:lnTo>
                    <a:lnTo>
                      <a:pt x="16" y="685"/>
                    </a:lnTo>
                    <a:lnTo>
                      <a:pt x="16" y="683"/>
                    </a:lnTo>
                    <a:lnTo>
                      <a:pt x="16" y="680"/>
                    </a:lnTo>
                    <a:lnTo>
                      <a:pt x="17" y="678"/>
                    </a:lnTo>
                    <a:lnTo>
                      <a:pt x="19" y="676"/>
                    </a:lnTo>
                    <a:lnTo>
                      <a:pt x="22" y="674"/>
                    </a:lnTo>
                    <a:lnTo>
                      <a:pt x="26" y="657"/>
                    </a:lnTo>
                    <a:lnTo>
                      <a:pt x="30" y="640"/>
                    </a:lnTo>
                    <a:lnTo>
                      <a:pt x="34" y="623"/>
                    </a:lnTo>
                    <a:lnTo>
                      <a:pt x="40" y="607"/>
                    </a:lnTo>
                    <a:lnTo>
                      <a:pt x="47" y="591"/>
                    </a:lnTo>
                    <a:lnTo>
                      <a:pt x="55" y="576"/>
                    </a:lnTo>
                    <a:lnTo>
                      <a:pt x="60" y="569"/>
                    </a:lnTo>
                    <a:lnTo>
                      <a:pt x="67" y="562"/>
                    </a:lnTo>
                    <a:lnTo>
                      <a:pt x="73" y="555"/>
                    </a:lnTo>
                    <a:lnTo>
                      <a:pt x="81" y="549"/>
                    </a:lnTo>
                    <a:lnTo>
                      <a:pt x="85" y="545"/>
                    </a:lnTo>
                    <a:lnTo>
                      <a:pt x="88" y="541"/>
                    </a:lnTo>
                    <a:lnTo>
                      <a:pt x="92" y="536"/>
                    </a:lnTo>
                    <a:lnTo>
                      <a:pt x="95" y="532"/>
                    </a:lnTo>
                    <a:lnTo>
                      <a:pt x="97" y="527"/>
                    </a:lnTo>
                    <a:lnTo>
                      <a:pt x="101" y="521"/>
                    </a:lnTo>
                    <a:lnTo>
                      <a:pt x="103" y="516"/>
                    </a:lnTo>
                    <a:lnTo>
                      <a:pt x="105" y="511"/>
                    </a:lnTo>
                    <a:lnTo>
                      <a:pt x="106" y="506"/>
                    </a:lnTo>
                    <a:lnTo>
                      <a:pt x="107" y="501"/>
                    </a:lnTo>
                    <a:lnTo>
                      <a:pt x="106" y="497"/>
                    </a:lnTo>
                    <a:lnTo>
                      <a:pt x="105" y="493"/>
                    </a:lnTo>
                    <a:lnTo>
                      <a:pt x="104" y="489"/>
                    </a:lnTo>
                    <a:lnTo>
                      <a:pt x="102" y="484"/>
                    </a:lnTo>
                    <a:lnTo>
                      <a:pt x="101" y="480"/>
                    </a:lnTo>
                    <a:lnTo>
                      <a:pt x="99" y="476"/>
                    </a:lnTo>
                    <a:lnTo>
                      <a:pt x="95" y="473"/>
                    </a:lnTo>
                    <a:lnTo>
                      <a:pt x="92" y="470"/>
                    </a:lnTo>
                    <a:lnTo>
                      <a:pt x="89" y="468"/>
                    </a:lnTo>
                    <a:lnTo>
                      <a:pt x="85" y="465"/>
                    </a:lnTo>
                    <a:lnTo>
                      <a:pt x="82" y="464"/>
                    </a:lnTo>
                    <a:lnTo>
                      <a:pt x="77" y="462"/>
                    </a:lnTo>
                    <a:lnTo>
                      <a:pt x="74" y="461"/>
                    </a:lnTo>
                    <a:lnTo>
                      <a:pt x="70" y="458"/>
                    </a:lnTo>
                    <a:lnTo>
                      <a:pt x="87" y="449"/>
                    </a:lnTo>
                    <a:lnTo>
                      <a:pt x="104" y="439"/>
                    </a:lnTo>
                    <a:lnTo>
                      <a:pt x="122" y="429"/>
                    </a:lnTo>
                    <a:lnTo>
                      <a:pt x="140" y="422"/>
                    </a:lnTo>
                    <a:lnTo>
                      <a:pt x="159" y="414"/>
                    </a:lnTo>
                    <a:lnTo>
                      <a:pt x="177" y="407"/>
                    </a:lnTo>
                    <a:lnTo>
                      <a:pt x="196" y="401"/>
                    </a:lnTo>
                    <a:lnTo>
                      <a:pt x="216" y="396"/>
                    </a:lnTo>
                    <a:lnTo>
                      <a:pt x="226" y="390"/>
                    </a:lnTo>
                    <a:lnTo>
                      <a:pt x="236" y="385"/>
                    </a:lnTo>
                    <a:lnTo>
                      <a:pt x="247" y="380"/>
                    </a:lnTo>
                    <a:lnTo>
                      <a:pt x="257" y="376"/>
                    </a:lnTo>
                    <a:lnTo>
                      <a:pt x="268" y="371"/>
                    </a:lnTo>
                    <a:lnTo>
                      <a:pt x="279" y="366"/>
                    </a:lnTo>
                    <a:lnTo>
                      <a:pt x="290" y="362"/>
                    </a:lnTo>
                    <a:lnTo>
                      <a:pt x="301" y="358"/>
                    </a:lnTo>
                    <a:lnTo>
                      <a:pt x="312" y="355"/>
                    </a:lnTo>
                    <a:lnTo>
                      <a:pt x="324" y="352"/>
                    </a:lnTo>
                    <a:lnTo>
                      <a:pt x="336" y="349"/>
                    </a:lnTo>
                    <a:lnTo>
                      <a:pt x="347" y="345"/>
                    </a:lnTo>
                    <a:lnTo>
                      <a:pt x="359" y="341"/>
                    </a:lnTo>
                    <a:lnTo>
                      <a:pt x="370" y="337"/>
                    </a:lnTo>
                    <a:lnTo>
                      <a:pt x="382" y="335"/>
                    </a:lnTo>
                    <a:lnTo>
                      <a:pt x="395" y="335"/>
                    </a:lnTo>
                    <a:lnTo>
                      <a:pt x="365" y="371"/>
                    </a:lnTo>
                    <a:lnTo>
                      <a:pt x="367" y="374"/>
                    </a:lnTo>
                    <a:lnTo>
                      <a:pt x="370" y="376"/>
                    </a:lnTo>
                    <a:lnTo>
                      <a:pt x="373" y="376"/>
                    </a:lnTo>
                    <a:lnTo>
                      <a:pt x="376" y="374"/>
                    </a:lnTo>
                    <a:lnTo>
                      <a:pt x="379" y="373"/>
                    </a:lnTo>
                    <a:lnTo>
                      <a:pt x="382" y="371"/>
                    </a:lnTo>
                    <a:lnTo>
                      <a:pt x="384" y="370"/>
                    </a:lnTo>
                    <a:lnTo>
                      <a:pt x="387" y="369"/>
                    </a:lnTo>
                    <a:lnTo>
                      <a:pt x="385" y="371"/>
                    </a:lnTo>
                    <a:lnTo>
                      <a:pt x="384" y="373"/>
                    </a:lnTo>
                    <a:lnTo>
                      <a:pt x="383" y="376"/>
                    </a:lnTo>
                    <a:lnTo>
                      <a:pt x="382" y="378"/>
                    </a:lnTo>
                    <a:lnTo>
                      <a:pt x="380" y="380"/>
                    </a:lnTo>
                    <a:lnTo>
                      <a:pt x="379" y="382"/>
                    </a:lnTo>
                    <a:lnTo>
                      <a:pt x="377" y="384"/>
                    </a:lnTo>
                    <a:lnTo>
                      <a:pt x="375" y="385"/>
                    </a:lnTo>
                    <a:lnTo>
                      <a:pt x="375" y="386"/>
                    </a:lnTo>
                    <a:lnTo>
                      <a:pt x="376" y="386"/>
                    </a:lnTo>
                    <a:lnTo>
                      <a:pt x="376" y="387"/>
                    </a:lnTo>
                    <a:lnTo>
                      <a:pt x="377" y="387"/>
                    </a:lnTo>
                    <a:lnTo>
                      <a:pt x="377" y="387"/>
                    </a:lnTo>
                    <a:lnTo>
                      <a:pt x="378" y="388"/>
                    </a:lnTo>
                    <a:lnTo>
                      <a:pt x="378" y="388"/>
                    </a:lnTo>
                    <a:lnTo>
                      <a:pt x="379" y="387"/>
                    </a:lnTo>
                    <a:lnTo>
                      <a:pt x="381" y="385"/>
                    </a:lnTo>
                    <a:lnTo>
                      <a:pt x="377" y="391"/>
                    </a:lnTo>
                    <a:lnTo>
                      <a:pt x="374" y="397"/>
                    </a:lnTo>
                    <a:lnTo>
                      <a:pt x="369" y="401"/>
                    </a:lnTo>
                    <a:lnTo>
                      <a:pt x="366" y="406"/>
                    </a:lnTo>
                    <a:lnTo>
                      <a:pt x="363" y="411"/>
                    </a:lnTo>
                    <a:lnTo>
                      <a:pt x="362" y="417"/>
                    </a:lnTo>
                    <a:lnTo>
                      <a:pt x="362" y="423"/>
                    </a:lnTo>
                    <a:lnTo>
                      <a:pt x="363" y="431"/>
                    </a:lnTo>
                    <a:lnTo>
                      <a:pt x="373" y="422"/>
                    </a:lnTo>
                    <a:lnTo>
                      <a:pt x="383" y="414"/>
                    </a:lnTo>
                    <a:lnTo>
                      <a:pt x="394" y="405"/>
                    </a:lnTo>
                    <a:lnTo>
                      <a:pt x="405" y="398"/>
                    </a:lnTo>
                    <a:lnTo>
                      <a:pt x="416" y="390"/>
                    </a:lnTo>
                    <a:lnTo>
                      <a:pt x="429" y="385"/>
                    </a:lnTo>
                    <a:lnTo>
                      <a:pt x="440" y="380"/>
                    </a:lnTo>
                    <a:lnTo>
                      <a:pt x="454" y="378"/>
                    </a:lnTo>
                    <a:lnTo>
                      <a:pt x="454" y="379"/>
                    </a:lnTo>
                    <a:lnTo>
                      <a:pt x="454" y="380"/>
                    </a:lnTo>
                    <a:lnTo>
                      <a:pt x="453" y="380"/>
                    </a:lnTo>
                    <a:lnTo>
                      <a:pt x="453" y="381"/>
                    </a:lnTo>
                    <a:lnTo>
                      <a:pt x="452" y="382"/>
                    </a:lnTo>
                    <a:lnTo>
                      <a:pt x="451" y="382"/>
                    </a:lnTo>
                    <a:lnTo>
                      <a:pt x="450" y="383"/>
                    </a:lnTo>
                    <a:lnTo>
                      <a:pt x="450" y="384"/>
                    </a:lnTo>
                    <a:lnTo>
                      <a:pt x="452" y="384"/>
                    </a:lnTo>
                    <a:lnTo>
                      <a:pt x="455" y="384"/>
                    </a:lnTo>
                    <a:lnTo>
                      <a:pt x="457" y="382"/>
                    </a:lnTo>
                    <a:lnTo>
                      <a:pt x="460" y="381"/>
                    </a:lnTo>
                    <a:lnTo>
                      <a:pt x="463" y="379"/>
                    </a:lnTo>
                    <a:lnTo>
                      <a:pt x="466" y="377"/>
                    </a:lnTo>
                    <a:lnTo>
                      <a:pt x="469" y="374"/>
                    </a:lnTo>
                    <a:lnTo>
                      <a:pt x="472" y="373"/>
                    </a:lnTo>
                    <a:lnTo>
                      <a:pt x="469" y="378"/>
                    </a:lnTo>
                    <a:lnTo>
                      <a:pt x="465" y="381"/>
                    </a:lnTo>
                    <a:lnTo>
                      <a:pt x="459" y="385"/>
                    </a:lnTo>
                    <a:lnTo>
                      <a:pt x="455" y="389"/>
                    </a:lnTo>
                    <a:lnTo>
                      <a:pt x="451" y="392"/>
                    </a:lnTo>
                    <a:lnTo>
                      <a:pt x="446" y="397"/>
                    </a:lnTo>
                    <a:lnTo>
                      <a:pt x="442" y="401"/>
                    </a:lnTo>
                    <a:lnTo>
                      <a:pt x="439" y="406"/>
                    </a:lnTo>
                    <a:lnTo>
                      <a:pt x="445" y="406"/>
                    </a:lnTo>
                    <a:lnTo>
                      <a:pt x="450" y="404"/>
                    </a:lnTo>
                    <a:lnTo>
                      <a:pt x="454" y="402"/>
                    </a:lnTo>
                    <a:lnTo>
                      <a:pt x="459" y="399"/>
                    </a:lnTo>
                    <a:lnTo>
                      <a:pt x="465" y="395"/>
                    </a:lnTo>
                    <a:lnTo>
                      <a:pt x="469" y="391"/>
                    </a:lnTo>
                    <a:lnTo>
                      <a:pt x="474" y="389"/>
                    </a:lnTo>
                    <a:lnTo>
                      <a:pt x="479" y="387"/>
                    </a:lnTo>
                    <a:lnTo>
                      <a:pt x="478" y="387"/>
                    </a:lnTo>
                    <a:lnTo>
                      <a:pt x="478" y="388"/>
                    </a:lnTo>
                    <a:lnTo>
                      <a:pt x="477" y="388"/>
                    </a:lnTo>
                    <a:lnTo>
                      <a:pt x="476" y="389"/>
                    </a:lnTo>
                    <a:lnTo>
                      <a:pt x="476" y="389"/>
                    </a:lnTo>
                    <a:lnTo>
                      <a:pt x="475" y="390"/>
                    </a:lnTo>
                    <a:lnTo>
                      <a:pt x="474" y="391"/>
                    </a:lnTo>
                    <a:lnTo>
                      <a:pt x="474" y="391"/>
                    </a:lnTo>
                    <a:lnTo>
                      <a:pt x="473" y="394"/>
                    </a:lnTo>
                    <a:lnTo>
                      <a:pt x="473" y="395"/>
                    </a:lnTo>
                    <a:lnTo>
                      <a:pt x="474" y="396"/>
                    </a:lnTo>
                    <a:lnTo>
                      <a:pt x="474" y="398"/>
                    </a:lnTo>
                    <a:lnTo>
                      <a:pt x="475" y="399"/>
                    </a:lnTo>
                    <a:lnTo>
                      <a:pt x="475" y="400"/>
                    </a:lnTo>
                    <a:lnTo>
                      <a:pt x="476" y="401"/>
                    </a:lnTo>
                    <a:lnTo>
                      <a:pt x="477" y="402"/>
                    </a:lnTo>
                    <a:lnTo>
                      <a:pt x="485" y="397"/>
                    </a:lnTo>
                    <a:lnTo>
                      <a:pt x="493" y="394"/>
                    </a:lnTo>
                    <a:lnTo>
                      <a:pt x="501" y="391"/>
                    </a:lnTo>
                    <a:lnTo>
                      <a:pt x="509" y="389"/>
                    </a:lnTo>
                    <a:lnTo>
                      <a:pt x="518" y="388"/>
                    </a:lnTo>
                    <a:lnTo>
                      <a:pt x="525" y="386"/>
                    </a:lnTo>
                    <a:lnTo>
                      <a:pt x="532" y="383"/>
                    </a:lnTo>
                    <a:lnTo>
                      <a:pt x="541" y="378"/>
                    </a:lnTo>
                    <a:lnTo>
                      <a:pt x="539" y="383"/>
                    </a:lnTo>
                    <a:lnTo>
                      <a:pt x="536" y="388"/>
                    </a:lnTo>
                    <a:lnTo>
                      <a:pt x="532" y="394"/>
                    </a:lnTo>
                    <a:lnTo>
                      <a:pt x="529" y="400"/>
                    </a:lnTo>
                    <a:lnTo>
                      <a:pt x="525" y="406"/>
                    </a:lnTo>
                    <a:lnTo>
                      <a:pt x="522" y="411"/>
                    </a:lnTo>
                    <a:lnTo>
                      <a:pt x="518" y="418"/>
                    </a:lnTo>
                    <a:lnTo>
                      <a:pt x="514" y="424"/>
                    </a:lnTo>
                    <a:lnTo>
                      <a:pt x="516" y="426"/>
                    </a:lnTo>
                    <a:lnTo>
                      <a:pt x="523" y="417"/>
                    </a:lnTo>
                    <a:lnTo>
                      <a:pt x="530" y="408"/>
                    </a:lnTo>
                    <a:lnTo>
                      <a:pt x="538" y="400"/>
                    </a:lnTo>
                    <a:lnTo>
                      <a:pt x="546" y="391"/>
                    </a:lnTo>
                    <a:lnTo>
                      <a:pt x="554" y="383"/>
                    </a:lnTo>
                    <a:lnTo>
                      <a:pt x="561" y="374"/>
                    </a:lnTo>
                    <a:lnTo>
                      <a:pt x="567" y="366"/>
                    </a:lnTo>
                    <a:lnTo>
                      <a:pt x="573" y="358"/>
                    </a:lnTo>
                    <a:lnTo>
                      <a:pt x="569" y="354"/>
                    </a:lnTo>
                    <a:lnTo>
                      <a:pt x="566" y="353"/>
                    </a:lnTo>
                    <a:lnTo>
                      <a:pt x="564" y="353"/>
                    </a:lnTo>
                    <a:lnTo>
                      <a:pt x="561" y="354"/>
                    </a:lnTo>
                    <a:lnTo>
                      <a:pt x="557" y="355"/>
                    </a:lnTo>
                    <a:lnTo>
                      <a:pt x="554" y="355"/>
                    </a:lnTo>
                    <a:lnTo>
                      <a:pt x="550" y="356"/>
                    </a:lnTo>
                    <a:lnTo>
                      <a:pt x="546" y="355"/>
                    </a:lnTo>
                    <a:lnTo>
                      <a:pt x="541" y="359"/>
                    </a:lnTo>
                    <a:lnTo>
                      <a:pt x="534" y="362"/>
                    </a:lnTo>
                    <a:lnTo>
                      <a:pt x="529" y="365"/>
                    </a:lnTo>
                    <a:lnTo>
                      <a:pt x="524" y="368"/>
                    </a:lnTo>
                    <a:lnTo>
                      <a:pt x="518" y="370"/>
                    </a:lnTo>
                    <a:lnTo>
                      <a:pt x="512" y="373"/>
                    </a:lnTo>
                    <a:lnTo>
                      <a:pt x="506" y="376"/>
                    </a:lnTo>
                    <a:lnTo>
                      <a:pt x="501" y="378"/>
                    </a:lnTo>
                    <a:lnTo>
                      <a:pt x="505" y="373"/>
                    </a:lnTo>
                    <a:lnTo>
                      <a:pt x="509" y="370"/>
                    </a:lnTo>
                    <a:lnTo>
                      <a:pt x="513" y="367"/>
                    </a:lnTo>
                    <a:lnTo>
                      <a:pt x="518" y="364"/>
                    </a:lnTo>
                    <a:lnTo>
                      <a:pt x="522" y="362"/>
                    </a:lnTo>
                    <a:lnTo>
                      <a:pt x="526" y="359"/>
                    </a:lnTo>
                    <a:lnTo>
                      <a:pt x="529" y="354"/>
                    </a:lnTo>
                    <a:lnTo>
                      <a:pt x="532" y="349"/>
                    </a:lnTo>
                    <a:lnTo>
                      <a:pt x="527" y="350"/>
                    </a:lnTo>
                    <a:lnTo>
                      <a:pt x="522" y="351"/>
                    </a:lnTo>
                    <a:lnTo>
                      <a:pt x="516" y="351"/>
                    </a:lnTo>
                    <a:lnTo>
                      <a:pt x="511" y="352"/>
                    </a:lnTo>
                    <a:lnTo>
                      <a:pt x="505" y="353"/>
                    </a:lnTo>
                    <a:lnTo>
                      <a:pt x="500" y="355"/>
                    </a:lnTo>
                    <a:lnTo>
                      <a:pt x="494" y="358"/>
                    </a:lnTo>
                    <a:lnTo>
                      <a:pt x="490" y="361"/>
                    </a:lnTo>
                    <a:lnTo>
                      <a:pt x="497" y="355"/>
                    </a:lnTo>
                    <a:lnTo>
                      <a:pt x="494" y="355"/>
                    </a:lnTo>
                    <a:lnTo>
                      <a:pt x="490" y="355"/>
                    </a:lnTo>
                    <a:lnTo>
                      <a:pt x="487" y="355"/>
                    </a:lnTo>
                    <a:lnTo>
                      <a:pt x="484" y="355"/>
                    </a:lnTo>
                    <a:lnTo>
                      <a:pt x="479" y="355"/>
                    </a:lnTo>
                    <a:lnTo>
                      <a:pt x="476" y="355"/>
                    </a:lnTo>
                    <a:lnTo>
                      <a:pt x="472" y="355"/>
                    </a:lnTo>
                    <a:lnTo>
                      <a:pt x="468" y="358"/>
                    </a:lnTo>
                    <a:lnTo>
                      <a:pt x="470" y="355"/>
                    </a:lnTo>
                    <a:lnTo>
                      <a:pt x="466" y="355"/>
                    </a:lnTo>
                    <a:lnTo>
                      <a:pt x="461" y="356"/>
                    </a:lnTo>
                    <a:lnTo>
                      <a:pt x="457" y="359"/>
                    </a:lnTo>
                    <a:lnTo>
                      <a:pt x="453" y="361"/>
                    </a:lnTo>
                    <a:lnTo>
                      <a:pt x="449" y="363"/>
                    </a:lnTo>
                    <a:lnTo>
                      <a:pt x="445" y="365"/>
                    </a:lnTo>
                    <a:lnTo>
                      <a:pt x="440" y="365"/>
                    </a:lnTo>
                    <a:lnTo>
                      <a:pt x="435" y="364"/>
                    </a:lnTo>
                    <a:lnTo>
                      <a:pt x="379" y="400"/>
                    </a:lnTo>
                    <a:lnTo>
                      <a:pt x="385" y="390"/>
                    </a:lnTo>
                    <a:lnTo>
                      <a:pt x="394" y="380"/>
                    </a:lnTo>
                    <a:lnTo>
                      <a:pt x="404" y="370"/>
                    </a:lnTo>
                    <a:lnTo>
                      <a:pt x="416" y="361"/>
                    </a:lnTo>
                    <a:lnTo>
                      <a:pt x="429" y="352"/>
                    </a:lnTo>
                    <a:lnTo>
                      <a:pt x="442" y="344"/>
                    </a:lnTo>
                    <a:lnTo>
                      <a:pt x="455" y="337"/>
                    </a:lnTo>
                    <a:lnTo>
                      <a:pt x="468" y="331"/>
                    </a:lnTo>
                    <a:lnTo>
                      <a:pt x="472" y="325"/>
                    </a:lnTo>
                    <a:lnTo>
                      <a:pt x="464" y="327"/>
                    </a:lnTo>
                    <a:lnTo>
                      <a:pt x="454" y="329"/>
                    </a:lnTo>
                    <a:lnTo>
                      <a:pt x="446" y="331"/>
                    </a:lnTo>
                    <a:lnTo>
                      <a:pt x="436" y="333"/>
                    </a:lnTo>
                    <a:lnTo>
                      <a:pt x="427" y="336"/>
                    </a:lnTo>
                    <a:lnTo>
                      <a:pt x="417" y="339"/>
                    </a:lnTo>
                    <a:lnTo>
                      <a:pt x="408" y="342"/>
                    </a:lnTo>
                    <a:lnTo>
                      <a:pt x="399" y="345"/>
                    </a:lnTo>
                    <a:lnTo>
                      <a:pt x="402" y="342"/>
                    </a:lnTo>
                    <a:lnTo>
                      <a:pt x="404" y="340"/>
                    </a:lnTo>
                    <a:lnTo>
                      <a:pt x="408" y="337"/>
                    </a:lnTo>
                    <a:lnTo>
                      <a:pt x="411" y="335"/>
                    </a:lnTo>
                    <a:lnTo>
                      <a:pt x="414" y="333"/>
                    </a:lnTo>
                    <a:lnTo>
                      <a:pt x="416" y="332"/>
                    </a:lnTo>
                    <a:lnTo>
                      <a:pt x="420" y="331"/>
                    </a:lnTo>
                    <a:lnTo>
                      <a:pt x="423" y="329"/>
                    </a:lnTo>
                    <a:lnTo>
                      <a:pt x="424" y="330"/>
                    </a:lnTo>
                    <a:lnTo>
                      <a:pt x="424" y="331"/>
                    </a:lnTo>
                    <a:lnTo>
                      <a:pt x="425" y="331"/>
                    </a:lnTo>
                    <a:lnTo>
                      <a:pt x="425" y="332"/>
                    </a:lnTo>
                    <a:lnTo>
                      <a:pt x="427" y="333"/>
                    </a:lnTo>
                    <a:lnTo>
                      <a:pt x="428" y="333"/>
                    </a:lnTo>
                    <a:lnTo>
                      <a:pt x="429" y="333"/>
                    </a:lnTo>
                    <a:lnTo>
                      <a:pt x="430" y="333"/>
                    </a:lnTo>
                    <a:lnTo>
                      <a:pt x="431" y="332"/>
                    </a:lnTo>
                    <a:lnTo>
                      <a:pt x="432" y="331"/>
                    </a:lnTo>
                    <a:lnTo>
                      <a:pt x="433" y="330"/>
                    </a:lnTo>
                    <a:lnTo>
                      <a:pt x="433" y="329"/>
                    </a:lnTo>
                    <a:lnTo>
                      <a:pt x="433" y="328"/>
                    </a:lnTo>
                    <a:lnTo>
                      <a:pt x="434" y="326"/>
                    </a:lnTo>
                    <a:lnTo>
                      <a:pt x="434" y="325"/>
                    </a:lnTo>
                    <a:lnTo>
                      <a:pt x="434" y="324"/>
                    </a:lnTo>
                    <a:lnTo>
                      <a:pt x="425" y="318"/>
                    </a:lnTo>
                    <a:lnTo>
                      <a:pt x="418" y="313"/>
                    </a:lnTo>
                    <a:lnTo>
                      <a:pt x="411" y="307"/>
                    </a:lnTo>
                    <a:lnTo>
                      <a:pt x="402" y="301"/>
                    </a:lnTo>
                    <a:lnTo>
                      <a:pt x="394" y="297"/>
                    </a:lnTo>
                    <a:lnTo>
                      <a:pt x="384" y="295"/>
                    </a:lnTo>
                    <a:lnTo>
                      <a:pt x="380" y="294"/>
                    </a:lnTo>
                    <a:lnTo>
                      <a:pt x="375" y="294"/>
                    </a:lnTo>
                    <a:lnTo>
                      <a:pt x="369" y="295"/>
                    </a:lnTo>
                    <a:lnTo>
                      <a:pt x="365" y="297"/>
                    </a:lnTo>
                    <a:lnTo>
                      <a:pt x="375" y="289"/>
                    </a:lnTo>
                    <a:lnTo>
                      <a:pt x="372" y="288"/>
                    </a:lnTo>
                    <a:lnTo>
                      <a:pt x="369" y="287"/>
                    </a:lnTo>
                    <a:lnTo>
                      <a:pt x="367" y="284"/>
                    </a:lnTo>
                    <a:lnTo>
                      <a:pt x="366" y="281"/>
                    </a:lnTo>
                    <a:lnTo>
                      <a:pt x="365" y="278"/>
                    </a:lnTo>
                    <a:lnTo>
                      <a:pt x="364" y="276"/>
                    </a:lnTo>
                    <a:lnTo>
                      <a:pt x="362" y="274"/>
                    </a:lnTo>
                    <a:lnTo>
                      <a:pt x="359" y="273"/>
                    </a:lnTo>
                    <a:lnTo>
                      <a:pt x="330" y="271"/>
                    </a:lnTo>
                    <a:lnTo>
                      <a:pt x="336" y="270"/>
                    </a:lnTo>
                    <a:lnTo>
                      <a:pt x="341" y="268"/>
                    </a:lnTo>
                    <a:lnTo>
                      <a:pt x="345" y="266"/>
                    </a:lnTo>
                    <a:lnTo>
                      <a:pt x="349" y="263"/>
                    </a:lnTo>
                    <a:lnTo>
                      <a:pt x="352" y="261"/>
                    </a:lnTo>
                    <a:lnTo>
                      <a:pt x="357" y="259"/>
                    </a:lnTo>
                    <a:lnTo>
                      <a:pt x="362" y="258"/>
                    </a:lnTo>
                    <a:lnTo>
                      <a:pt x="367" y="257"/>
                    </a:lnTo>
                    <a:lnTo>
                      <a:pt x="368" y="253"/>
                    </a:lnTo>
                    <a:lnTo>
                      <a:pt x="370" y="250"/>
                    </a:lnTo>
                    <a:lnTo>
                      <a:pt x="374" y="249"/>
                    </a:lnTo>
                    <a:lnTo>
                      <a:pt x="378" y="248"/>
                    </a:lnTo>
                    <a:lnTo>
                      <a:pt x="382" y="246"/>
                    </a:lnTo>
                    <a:lnTo>
                      <a:pt x="386" y="246"/>
                    </a:lnTo>
                    <a:lnTo>
                      <a:pt x="390" y="244"/>
                    </a:lnTo>
                    <a:lnTo>
                      <a:pt x="393" y="242"/>
                    </a:lnTo>
                    <a:lnTo>
                      <a:pt x="409" y="235"/>
                    </a:lnTo>
                    <a:lnTo>
                      <a:pt x="425" y="227"/>
                    </a:lnTo>
                    <a:lnTo>
                      <a:pt x="441" y="221"/>
                    </a:lnTo>
                    <a:lnTo>
                      <a:pt x="458" y="215"/>
                    </a:lnTo>
                    <a:lnTo>
                      <a:pt x="475" y="209"/>
                    </a:lnTo>
                    <a:lnTo>
                      <a:pt x="493" y="205"/>
                    </a:lnTo>
                    <a:lnTo>
                      <a:pt x="510" y="201"/>
                    </a:lnTo>
                    <a:lnTo>
                      <a:pt x="528" y="198"/>
                    </a:lnTo>
                    <a:lnTo>
                      <a:pt x="547" y="202"/>
                    </a:lnTo>
                    <a:lnTo>
                      <a:pt x="566" y="206"/>
                    </a:lnTo>
                    <a:lnTo>
                      <a:pt x="586" y="209"/>
                    </a:lnTo>
                    <a:lnTo>
                      <a:pt x="606" y="212"/>
                    </a:lnTo>
                    <a:lnTo>
                      <a:pt x="625" y="215"/>
                    </a:lnTo>
                    <a:lnTo>
                      <a:pt x="645" y="219"/>
                    </a:lnTo>
                    <a:lnTo>
                      <a:pt x="664" y="224"/>
                    </a:lnTo>
                    <a:lnTo>
                      <a:pt x="682" y="231"/>
                    </a:lnTo>
                    <a:lnTo>
                      <a:pt x="694" y="231"/>
                    </a:lnTo>
                    <a:lnTo>
                      <a:pt x="691" y="236"/>
                    </a:lnTo>
                    <a:lnTo>
                      <a:pt x="689" y="241"/>
                    </a:lnTo>
                    <a:lnTo>
                      <a:pt x="686" y="248"/>
                    </a:lnTo>
                    <a:lnTo>
                      <a:pt x="683" y="253"/>
                    </a:lnTo>
                    <a:lnTo>
                      <a:pt x="680" y="258"/>
                    </a:lnTo>
                    <a:lnTo>
                      <a:pt x="678" y="264"/>
                    </a:lnTo>
                    <a:lnTo>
                      <a:pt x="676" y="270"/>
                    </a:lnTo>
                    <a:lnTo>
                      <a:pt x="675" y="275"/>
                    </a:lnTo>
                    <a:lnTo>
                      <a:pt x="679" y="275"/>
                    </a:lnTo>
                    <a:lnTo>
                      <a:pt x="683" y="274"/>
                    </a:lnTo>
                    <a:lnTo>
                      <a:pt x="686" y="273"/>
                    </a:lnTo>
                    <a:lnTo>
                      <a:pt x="688" y="271"/>
                    </a:lnTo>
                    <a:lnTo>
                      <a:pt x="691" y="267"/>
                    </a:lnTo>
                    <a:lnTo>
                      <a:pt x="693" y="260"/>
                    </a:lnTo>
                    <a:lnTo>
                      <a:pt x="695" y="255"/>
                    </a:lnTo>
                    <a:lnTo>
                      <a:pt x="697" y="249"/>
                    </a:lnTo>
                    <a:lnTo>
                      <a:pt x="700" y="243"/>
                    </a:lnTo>
                    <a:lnTo>
                      <a:pt x="704" y="239"/>
                    </a:lnTo>
                    <a:lnTo>
                      <a:pt x="704" y="234"/>
                    </a:lnTo>
                    <a:lnTo>
                      <a:pt x="705" y="231"/>
                    </a:lnTo>
                    <a:lnTo>
                      <a:pt x="707" y="226"/>
                    </a:lnTo>
                    <a:lnTo>
                      <a:pt x="709" y="223"/>
                    </a:lnTo>
                    <a:lnTo>
                      <a:pt x="711" y="219"/>
                    </a:lnTo>
                    <a:lnTo>
                      <a:pt x="712" y="215"/>
                    </a:lnTo>
                    <a:lnTo>
                      <a:pt x="713" y="211"/>
                    </a:lnTo>
                    <a:lnTo>
                      <a:pt x="712" y="206"/>
                    </a:lnTo>
                    <a:lnTo>
                      <a:pt x="715" y="204"/>
                    </a:lnTo>
                    <a:lnTo>
                      <a:pt x="718" y="201"/>
                    </a:lnTo>
                    <a:lnTo>
                      <a:pt x="719" y="199"/>
                    </a:lnTo>
                    <a:lnTo>
                      <a:pt x="720" y="196"/>
                    </a:lnTo>
                    <a:lnTo>
                      <a:pt x="720" y="190"/>
                    </a:lnTo>
                    <a:lnTo>
                      <a:pt x="719" y="184"/>
                    </a:lnTo>
                    <a:lnTo>
                      <a:pt x="716" y="178"/>
                    </a:lnTo>
                    <a:lnTo>
                      <a:pt x="714" y="171"/>
                    </a:lnTo>
                    <a:lnTo>
                      <a:pt x="713" y="164"/>
                    </a:lnTo>
                    <a:lnTo>
                      <a:pt x="713" y="158"/>
                    </a:lnTo>
                    <a:lnTo>
                      <a:pt x="715" y="148"/>
                    </a:lnTo>
                    <a:lnTo>
                      <a:pt x="718" y="138"/>
                    </a:lnTo>
                    <a:lnTo>
                      <a:pt x="718" y="127"/>
                    </a:lnTo>
                    <a:lnTo>
                      <a:pt x="719" y="117"/>
                    </a:lnTo>
                    <a:lnTo>
                      <a:pt x="720" y="107"/>
                    </a:lnTo>
                    <a:lnTo>
                      <a:pt x="721" y="96"/>
                    </a:lnTo>
                    <a:lnTo>
                      <a:pt x="723" y="86"/>
                    </a:lnTo>
                    <a:lnTo>
                      <a:pt x="726" y="75"/>
                    </a:lnTo>
                    <a:lnTo>
                      <a:pt x="726" y="67"/>
                    </a:lnTo>
                    <a:lnTo>
                      <a:pt x="728" y="57"/>
                    </a:lnTo>
                    <a:lnTo>
                      <a:pt x="730" y="49"/>
                    </a:lnTo>
                    <a:lnTo>
                      <a:pt x="733" y="39"/>
                    </a:lnTo>
                    <a:lnTo>
                      <a:pt x="737" y="30"/>
                    </a:lnTo>
                    <a:lnTo>
                      <a:pt x="740" y="20"/>
                    </a:lnTo>
                    <a:lnTo>
                      <a:pt x="743" y="11"/>
                    </a:lnTo>
                    <a:lnTo>
                      <a:pt x="744" y="0"/>
                    </a:lnTo>
                    <a:lnTo>
                      <a:pt x="745" y="31"/>
                    </a:lnTo>
                    <a:lnTo>
                      <a:pt x="748" y="59"/>
                    </a:lnTo>
                    <a:lnTo>
                      <a:pt x="751" y="88"/>
                    </a:lnTo>
                    <a:lnTo>
                      <a:pt x="756" y="115"/>
                    </a:lnTo>
                    <a:lnTo>
                      <a:pt x="761" y="144"/>
                    </a:lnTo>
                    <a:lnTo>
                      <a:pt x="765" y="170"/>
                    </a:lnTo>
                    <a:lnTo>
                      <a:pt x="770" y="199"/>
                    </a:lnTo>
                    <a:lnTo>
                      <a:pt x="775" y="22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
              <p:cNvSpPr/>
              <p:nvPr/>
            </p:nvSpPr>
            <p:spPr>
              <a:xfrm>
                <a:off x="6364080" y="5575320"/>
                <a:ext cx="14400" cy="7920"/>
              </a:xfrm>
              <a:custGeom>
                <a:avLst/>
                <a:gdLst/>
                <a:ahLst/>
                <a:rect l="l" t="t" r="r" b="b"/>
                <a:pathLst>
                  <a:path w="27" h="15">
                    <a:moveTo>
                      <a:pt x="2" y="15"/>
                    </a:moveTo>
                    <a:lnTo>
                      <a:pt x="2" y="14"/>
                    </a:lnTo>
                    <a:lnTo>
                      <a:pt x="2" y="13"/>
                    </a:lnTo>
                    <a:lnTo>
                      <a:pt x="2" y="13"/>
                    </a:lnTo>
                    <a:lnTo>
                      <a:pt x="1" y="12"/>
                    </a:lnTo>
                    <a:lnTo>
                      <a:pt x="1" y="12"/>
                    </a:lnTo>
                    <a:lnTo>
                      <a:pt x="1" y="10"/>
                    </a:lnTo>
                    <a:lnTo>
                      <a:pt x="0" y="10"/>
                    </a:lnTo>
                    <a:lnTo>
                      <a:pt x="0" y="9"/>
                    </a:lnTo>
                    <a:lnTo>
                      <a:pt x="27" y="0"/>
                    </a:lnTo>
                    <a:lnTo>
                      <a:pt x="2" y="1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778" name=""/>
              <p:cNvSpPr/>
              <p:nvPr/>
            </p:nvSpPr>
            <p:spPr>
              <a:xfrm>
                <a:off x="6376680" y="5583240"/>
                <a:ext cx="19080" cy="9720"/>
              </a:xfrm>
              <a:custGeom>
                <a:avLst/>
                <a:gdLst/>
                <a:ahLst/>
                <a:rect l="l" t="t" r="r" b="b"/>
                <a:pathLst>
                  <a:path w="38" h="17">
                    <a:moveTo>
                      <a:pt x="0" y="17"/>
                    </a:moveTo>
                    <a:lnTo>
                      <a:pt x="38" y="0"/>
                    </a:lnTo>
                    <a:lnTo>
                      <a:pt x="12" y="15"/>
                    </a:lnTo>
                    <a:lnTo>
                      <a:pt x="0" y="1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79" name=""/>
              <p:cNvSpPr/>
              <p:nvPr/>
            </p:nvSpPr>
            <p:spPr>
              <a:xfrm>
                <a:off x="6411600" y="5607360"/>
                <a:ext cx="7920" cy="9360"/>
              </a:xfrm>
              <a:custGeom>
                <a:avLst/>
                <a:gdLst/>
                <a:ahLst/>
                <a:rect l="l" t="t" r="r" b="b"/>
                <a:pathLst>
                  <a:path w="16" h="20">
                    <a:moveTo>
                      <a:pt x="0" y="20"/>
                    </a:moveTo>
                    <a:lnTo>
                      <a:pt x="14" y="0"/>
                    </a:lnTo>
                    <a:lnTo>
                      <a:pt x="16" y="0"/>
                    </a:lnTo>
                    <a:lnTo>
                      <a:pt x="0" y="2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0" name=""/>
              <p:cNvSpPr/>
              <p:nvPr/>
            </p:nvSpPr>
            <p:spPr>
              <a:xfrm>
                <a:off x="6430680" y="5612040"/>
                <a:ext cx="7920" cy="9360"/>
              </a:xfrm>
              <a:custGeom>
                <a:avLst/>
                <a:gdLst/>
                <a:ahLst/>
                <a:rect l="l" t="t" r="r" b="b"/>
                <a:pathLst>
                  <a:path w="16" h="16">
                    <a:moveTo>
                      <a:pt x="0" y="16"/>
                    </a:moveTo>
                    <a:lnTo>
                      <a:pt x="1" y="14"/>
                    </a:lnTo>
                    <a:lnTo>
                      <a:pt x="2" y="11"/>
                    </a:lnTo>
                    <a:lnTo>
                      <a:pt x="4" y="9"/>
                    </a:lnTo>
                    <a:lnTo>
                      <a:pt x="6" y="8"/>
                    </a:lnTo>
                    <a:lnTo>
                      <a:pt x="9" y="6"/>
                    </a:lnTo>
                    <a:lnTo>
                      <a:pt x="12" y="4"/>
                    </a:lnTo>
                    <a:lnTo>
                      <a:pt x="14" y="2"/>
                    </a:lnTo>
                    <a:lnTo>
                      <a:pt x="16" y="0"/>
                    </a:lnTo>
                    <a:lnTo>
                      <a:pt x="0" y="1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1" name=""/>
              <p:cNvSpPr/>
              <p:nvPr/>
            </p:nvSpPr>
            <p:spPr>
              <a:xfrm>
                <a:off x="6449760" y="5653080"/>
                <a:ext cx="55440" cy="57240"/>
              </a:xfrm>
              <a:custGeom>
                <a:avLst/>
                <a:gdLst/>
                <a:ahLst/>
                <a:rect l="l" t="t" r="r" b="b"/>
                <a:pathLst>
                  <a:path w="105" h="109">
                    <a:moveTo>
                      <a:pt x="104" y="67"/>
                    </a:moveTo>
                    <a:lnTo>
                      <a:pt x="101" y="67"/>
                    </a:lnTo>
                    <a:lnTo>
                      <a:pt x="100" y="67"/>
                    </a:lnTo>
                    <a:lnTo>
                      <a:pt x="99" y="67"/>
                    </a:lnTo>
                    <a:lnTo>
                      <a:pt x="97" y="67"/>
                    </a:lnTo>
                    <a:lnTo>
                      <a:pt x="96" y="67"/>
                    </a:lnTo>
                    <a:lnTo>
                      <a:pt x="95" y="67"/>
                    </a:lnTo>
                    <a:lnTo>
                      <a:pt x="94" y="65"/>
                    </a:lnTo>
                    <a:lnTo>
                      <a:pt x="93" y="64"/>
                    </a:lnTo>
                    <a:lnTo>
                      <a:pt x="92" y="67"/>
                    </a:lnTo>
                    <a:lnTo>
                      <a:pt x="91" y="68"/>
                    </a:lnTo>
                    <a:lnTo>
                      <a:pt x="89" y="69"/>
                    </a:lnTo>
                    <a:lnTo>
                      <a:pt x="88" y="70"/>
                    </a:lnTo>
                    <a:lnTo>
                      <a:pt x="87" y="72"/>
                    </a:lnTo>
                    <a:lnTo>
                      <a:pt x="87" y="73"/>
                    </a:lnTo>
                    <a:lnTo>
                      <a:pt x="87" y="75"/>
                    </a:lnTo>
                    <a:lnTo>
                      <a:pt x="87" y="77"/>
                    </a:lnTo>
                    <a:lnTo>
                      <a:pt x="85" y="81"/>
                    </a:lnTo>
                    <a:lnTo>
                      <a:pt x="81" y="85"/>
                    </a:lnTo>
                    <a:lnTo>
                      <a:pt x="78" y="88"/>
                    </a:lnTo>
                    <a:lnTo>
                      <a:pt x="75" y="90"/>
                    </a:lnTo>
                    <a:lnTo>
                      <a:pt x="68" y="92"/>
                    </a:lnTo>
                    <a:lnTo>
                      <a:pt x="59" y="94"/>
                    </a:lnTo>
                    <a:lnTo>
                      <a:pt x="52" y="94"/>
                    </a:lnTo>
                    <a:lnTo>
                      <a:pt x="44" y="96"/>
                    </a:lnTo>
                    <a:lnTo>
                      <a:pt x="40" y="97"/>
                    </a:lnTo>
                    <a:lnTo>
                      <a:pt x="37" y="99"/>
                    </a:lnTo>
                    <a:lnTo>
                      <a:pt x="34" y="101"/>
                    </a:lnTo>
                    <a:lnTo>
                      <a:pt x="31" y="105"/>
                    </a:lnTo>
                    <a:lnTo>
                      <a:pt x="26" y="106"/>
                    </a:lnTo>
                    <a:lnTo>
                      <a:pt x="23" y="107"/>
                    </a:lnTo>
                    <a:lnTo>
                      <a:pt x="19" y="108"/>
                    </a:lnTo>
                    <a:lnTo>
                      <a:pt x="15" y="109"/>
                    </a:lnTo>
                    <a:lnTo>
                      <a:pt x="10" y="109"/>
                    </a:lnTo>
                    <a:lnTo>
                      <a:pt x="7" y="109"/>
                    </a:lnTo>
                    <a:lnTo>
                      <a:pt x="3" y="108"/>
                    </a:lnTo>
                    <a:lnTo>
                      <a:pt x="0" y="105"/>
                    </a:lnTo>
                    <a:lnTo>
                      <a:pt x="5" y="105"/>
                    </a:lnTo>
                    <a:lnTo>
                      <a:pt x="12" y="104"/>
                    </a:lnTo>
                    <a:lnTo>
                      <a:pt x="16" y="103"/>
                    </a:lnTo>
                    <a:lnTo>
                      <a:pt x="21" y="100"/>
                    </a:lnTo>
                    <a:lnTo>
                      <a:pt x="26" y="98"/>
                    </a:lnTo>
                    <a:lnTo>
                      <a:pt x="31" y="96"/>
                    </a:lnTo>
                    <a:lnTo>
                      <a:pt x="36" y="93"/>
                    </a:lnTo>
                    <a:lnTo>
                      <a:pt x="40" y="91"/>
                    </a:lnTo>
                    <a:lnTo>
                      <a:pt x="38" y="89"/>
                    </a:lnTo>
                    <a:lnTo>
                      <a:pt x="44" y="87"/>
                    </a:lnTo>
                    <a:lnTo>
                      <a:pt x="51" y="85"/>
                    </a:lnTo>
                    <a:lnTo>
                      <a:pt x="57" y="82"/>
                    </a:lnTo>
                    <a:lnTo>
                      <a:pt x="63" y="80"/>
                    </a:lnTo>
                    <a:lnTo>
                      <a:pt x="70" y="79"/>
                    </a:lnTo>
                    <a:lnTo>
                      <a:pt x="75" y="77"/>
                    </a:lnTo>
                    <a:lnTo>
                      <a:pt x="81" y="74"/>
                    </a:lnTo>
                    <a:lnTo>
                      <a:pt x="87" y="71"/>
                    </a:lnTo>
                    <a:lnTo>
                      <a:pt x="87" y="69"/>
                    </a:lnTo>
                    <a:lnTo>
                      <a:pt x="87" y="68"/>
                    </a:lnTo>
                    <a:lnTo>
                      <a:pt x="87" y="65"/>
                    </a:lnTo>
                    <a:lnTo>
                      <a:pt x="86" y="64"/>
                    </a:lnTo>
                    <a:lnTo>
                      <a:pt x="85" y="63"/>
                    </a:lnTo>
                    <a:lnTo>
                      <a:pt x="85" y="61"/>
                    </a:lnTo>
                    <a:lnTo>
                      <a:pt x="83" y="60"/>
                    </a:lnTo>
                    <a:lnTo>
                      <a:pt x="82" y="59"/>
                    </a:lnTo>
                    <a:lnTo>
                      <a:pt x="87" y="59"/>
                    </a:lnTo>
                    <a:lnTo>
                      <a:pt x="90" y="58"/>
                    </a:lnTo>
                    <a:lnTo>
                      <a:pt x="93" y="57"/>
                    </a:lnTo>
                    <a:lnTo>
                      <a:pt x="94" y="56"/>
                    </a:lnTo>
                    <a:lnTo>
                      <a:pt x="95" y="51"/>
                    </a:lnTo>
                    <a:lnTo>
                      <a:pt x="95" y="45"/>
                    </a:lnTo>
                    <a:lnTo>
                      <a:pt x="93" y="39"/>
                    </a:lnTo>
                    <a:lnTo>
                      <a:pt x="93" y="32"/>
                    </a:lnTo>
                    <a:lnTo>
                      <a:pt x="93" y="28"/>
                    </a:lnTo>
                    <a:lnTo>
                      <a:pt x="94" y="25"/>
                    </a:lnTo>
                    <a:lnTo>
                      <a:pt x="95" y="23"/>
                    </a:lnTo>
                    <a:lnTo>
                      <a:pt x="97" y="20"/>
                    </a:lnTo>
                    <a:lnTo>
                      <a:pt x="105" y="0"/>
                    </a:lnTo>
                    <a:lnTo>
                      <a:pt x="103" y="7"/>
                    </a:lnTo>
                    <a:lnTo>
                      <a:pt x="100" y="15"/>
                    </a:lnTo>
                    <a:lnTo>
                      <a:pt x="99" y="23"/>
                    </a:lnTo>
                    <a:lnTo>
                      <a:pt x="98" y="32"/>
                    </a:lnTo>
                    <a:lnTo>
                      <a:pt x="99" y="40"/>
                    </a:lnTo>
                    <a:lnTo>
                      <a:pt x="99" y="50"/>
                    </a:lnTo>
                    <a:lnTo>
                      <a:pt x="101" y="58"/>
                    </a:lnTo>
                    <a:lnTo>
                      <a:pt x="104" y="67"/>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82" name=""/>
              <p:cNvSpPr/>
              <p:nvPr/>
            </p:nvSpPr>
            <p:spPr>
              <a:xfrm>
                <a:off x="6103800" y="5662800"/>
                <a:ext cx="41040" cy="20520"/>
              </a:xfrm>
              <a:custGeom>
                <a:avLst/>
                <a:gdLst/>
                <a:ahLst/>
                <a:rect l="l" t="t" r="r" b="b"/>
                <a:pathLst>
                  <a:path w="78" h="40">
                    <a:moveTo>
                      <a:pt x="78" y="3"/>
                    </a:moveTo>
                    <a:lnTo>
                      <a:pt x="75" y="9"/>
                    </a:lnTo>
                    <a:lnTo>
                      <a:pt x="71" y="16"/>
                    </a:lnTo>
                    <a:lnTo>
                      <a:pt x="66" y="22"/>
                    </a:lnTo>
                    <a:lnTo>
                      <a:pt x="60" y="27"/>
                    </a:lnTo>
                    <a:lnTo>
                      <a:pt x="54" y="33"/>
                    </a:lnTo>
                    <a:lnTo>
                      <a:pt x="46" y="36"/>
                    </a:lnTo>
                    <a:lnTo>
                      <a:pt x="39" y="39"/>
                    </a:lnTo>
                    <a:lnTo>
                      <a:pt x="32" y="40"/>
                    </a:lnTo>
                    <a:lnTo>
                      <a:pt x="27" y="40"/>
                    </a:lnTo>
                    <a:lnTo>
                      <a:pt x="23" y="40"/>
                    </a:lnTo>
                    <a:lnTo>
                      <a:pt x="19" y="39"/>
                    </a:lnTo>
                    <a:lnTo>
                      <a:pt x="15" y="38"/>
                    </a:lnTo>
                    <a:lnTo>
                      <a:pt x="12" y="35"/>
                    </a:lnTo>
                    <a:lnTo>
                      <a:pt x="8" y="33"/>
                    </a:lnTo>
                    <a:lnTo>
                      <a:pt x="5" y="31"/>
                    </a:lnTo>
                    <a:lnTo>
                      <a:pt x="2" y="27"/>
                    </a:lnTo>
                    <a:lnTo>
                      <a:pt x="0" y="23"/>
                    </a:lnTo>
                    <a:lnTo>
                      <a:pt x="1" y="20"/>
                    </a:lnTo>
                    <a:lnTo>
                      <a:pt x="2" y="17"/>
                    </a:lnTo>
                    <a:lnTo>
                      <a:pt x="5" y="14"/>
                    </a:lnTo>
                    <a:lnTo>
                      <a:pt x="8" y="12"/>
                    </a:lnTo>
                    <a:lnTo>
                      <a:pt x="12" y="11"/>
                    </a:lnTo>
                    <a:lnTo>
                      <a:pt x="15" y="8"/>
                    </a:lnTo>
                    <a:lnTo>
                      <a:pt x="18" y="7"/>
                    </a:lnTo>
                    <a:lnTo>
                      <a:pt x="25" y="6"/>
                    </a:lnTo>
                    <a:lnTo>
                      <a:pt x="34" y="4"/>
                    </a:lnTo>
                    <a:lnTo>
                      <a:pt x="41" y="3"/>
                    </a:lnTo>
                    <a:lnTo>
                      <a:pt x="50" y="1"/>
                    </a:lnTo>
                    <a:lnTo>
                      <a:pt x="57" y="0"/>
                    </a:lnTo>
                    <a:lnTo>
                      <a:pt x="64" y="0"/>
                    </a:lnTo>
                    <a:lnTo>
                      <a:pt x="72" y="1"/>
                    </a:lnTo>
                    <a:lnTo>
                      <a:pt x="78" y="3"/>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783" name=""/>
              <p:cNvSpPr/>
              <p:nvPr/>
            </p:nvSpPr>
            <p:spPr>
              <a:xfrm>
                <a:off x="6475320" y="5767560"/>
                <a:ext cx="2880" cy="4680"/>
              </a:xfrm>
              <a:custGeom>
                <a:avLst/>
                <a:gdLst/>
                <a:ahLst/>
                <a:rect l="l" t="t" r="r" b="b"/>
                <a:pathLst>
                  <a:path w="6" h="8">
                    <a:moveTo>
                      <a:pt x="6" y="2"/>
                    </a:moveTo>
                    <a:lnTo>
                      <a:pt x="5" y="3"/>
                    </a:lnTo>
                    <a:lnTo>
                      <a:pt x="4" y="3"/>
                    </a:lnTo>
                    <a:lnTo>
                      <a:pt x="4" y="4"/>
                    </a:lnTo>
                    <a:lnTo>
                      <a:pt x="4" y="5"/>
                    </a:lnTo>
                    <a:lnTo>
                      <a:pt x="4" y="5"/>
                    </a:lnTo>
                    <a:lnTo>
                      <a:pt x="4" y="6"/>
                    </a:lnTo>
                    <a:lnTo>
                      <a:pt x="4" y="7"/>
                    </a:lnTo>
                    <a:lnTo>
                      <a:pt x="4" y="8"/>
                    </a:lnTo>
                    <a:lnTo>
                      <a:pt x="0" y="0"/>
                    </a:lnTo>
                    <a:lnTo>
                      <a:pt x="6" y="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784" name=""/>
              <p:cNvSpPr/>
              <p:nvPr/>
            </p:nvSpPr>
            <p:spPr>
              <a:xfrm>
                <a:off x="6481440" y="5769000"/>
                <a:ext cx="1800" cy="3240"/>
              </a:xfrm>
              <a:custGeom>
                <a:avLst/>
                <a:gdLst/>
                <a:ahLst/>
                <a:rect l="l" t="t" r="r" b="b"/>
                <a:pathLst>
                  <a:path w="1" h="6">
                    <a:moveTo>
                      <a:pt x="1" y="0"/>
                    </a:moveTo>
                    <a:lnTo>
                      <a:pt x="1" y="1"/>
                    </a:lnTo>
                    <a:lnTo>
                      <a:pt x="1" y="2"/>
                    </a:lnTo>
                    <a:lnTo>
                      <a:pt x="1" y="2"/>
                    </a:lnTo>
                    <a:lnTo>
                      <a:pt x="1" y="3"/>
                    </a:lnTo>
                    <a:lnTo>
                      <a:pt x="1" y="4"/>
                    </a:lnTo>
                    <a:lnTo>
                      <a:pt x="1" y="5"/>
                    </a:lnTo>
                    <a:lnTo>
                      <a:pt x="0" y="5"/>
                    </a:lnTo>
                    <a:lnTo>
                      <a:pt x="0" y="6"/>
                    </a:lnTo>
                    <a:lnTo>
                      <a:pt x="0" y="0"/>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785" name=""/>
              <p:cNvSpPr/>
              <p:nvPr/>
            </p:nvSpPr>
            <p:spPr>
              <a:xfrm>
                <a:off x="6484680" y="5774040"/>
                <a:ext cx="7920" cy="9360"/>
              </a:xfrm>
              <a:custGeom>
                <a:avLst/>
                <a:gdLst/>
                <a:ahLst/>
                <a:rect l="l" t="t" r="r" b="b"/>
                <a:pathLst>
                  <a:path w="13" h="20">
                    <a:moveTo>
                      <a:pt x="0" y="20"/>
                    </a:moveTo>
                    <a:lnTo>
                      <a:pt x="0" y="19"/>
                    </a:lnTo>
                    <a:lnTo>
                      <a:pt x="1" y="17"/>
                    </a:lnTo>
                    <a:lnTo>
                      <a:pt x="2" y="15"/>
                    </a:lnTo>
                    <a:lnTo>
                      <a:pt x="4" y="12"/>
                    </a:lnTo>
                    <a:lnTo>
                      <a:pt x="6" y="8"/>
                    </a:lnTo>
                    <a:lnTo>
                      <a:pt x="8" y="5"/>
                    </a:lnTo>
                    <a:lnTo>
                      <a:pt x="11" y="2"/>
                    </a:lnTo>
                    <a:lnTo>
                      <a:pt x="13" y="0"/>
                    </a:lnTo>
                    <a:lnTo>
                      <a:pt x="0" y="2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786" name=""/>
              <p:cNvSpPr/>
              <p:nvPr/>
            </p:nvSpPr>
            <p:spPr>
              <a:xfrm>
                <a:off x="6476760" y="5780160"/>
                <a:ext cx="84240" cy="100080"/>
              </a:xfrm>
              <a:custGeom>
                <a:avLst/>
                <a:gdLst/>
                <a:ahLst/>
                <a:rect l="l" t="t" r="r" b="b"/>
                <a:pathLst>
                  <a:path w="160" h="190">
                    <a:moveTo>
                      <a:pt x="22" y="44"/>
                    </a:moveTo>
                    <a:lnTo>
                      <a:pt x="25" y="42"/>
                    </a:lnTo>
                    <a:lnTo>
                      <a:pt x="27" y="39"/>
                    </a:lnTo>
                    <a:lnTo>
                      <a:pt x="29" y="36"/>
                    </a:lnTo>
                    <a:lnTo>
                      <a:pt x="32" y="33"/>
                    </a:lnTo>
                    <a:lnTo>
                      <a:pt x="35" y="30"/>
                    </a:lnTo>
                    <a:lnTo>
                      <a:pt x="38" y="26"/>
                    </a:lnTo>
                    <a:lnTo>
                      <a:pt x="41" y="23"/>
                    </a:lnTo>
                    <a:lnTo>
                      <a:pt x="44" y="20"/>
                    </a:lnTo>
                    <a:lnTo>
                      <a:pt x="42" y="25"/>
                    </a:lnTo>
                    <a:lnTo>
                      <a:pt x="39" y="31"/>
                    </a:lnTo>
                    <a:lnTo>
                      <a:pt x="35" y="37"/>
                    </a:lnTo>
                    <a:lnTo>
                      <a:pt x="30" y="43"/>
                    </a:lnTo>
                    <a:lnTo>
                      <a:pt x="27" y="50"/>
                    </a:lnTo>
                    <a:lnTo>
                      <a:pt x="24" y="57"/>
                    </a:lnTo>
                    <a:lnTo>
                      <a:pt x="22" y="63"/>
                    </a:lnTo>
                    <a:lnTo>
                      <a:pt x="22" y="71"/>
                    </a:lnTo>
                    <a:lnTo>
                      <a:pt x="76" y="4"/>
                    </a:lnTo>
                    <a:lnTo>
                      <a:pt x="72" y="13"/>
                    </a:lnTo>
                    <a:lnTo>
                      <a:pt x="66" y="21"/>
                    </a:lnTo>
                    <a:lnTo>
                      <a:pt x="61" y="31"/>
                    </a:lnTo>
                    <a:lnTo>
                      <a:pt x="56" y="39"/>
                    </a:lnTo>
                    <a:lnTo>
                      <a:pt x="49" y="48"/>
                    </a:lnTo>
                    <a:lnTo>
                      <a:pt x="44" y="57"/>
                    </a:lnTo>
                    <a:lnTo>
                      <a:pt x="39" y="66"/>
                    </a:lnTo>
                    <a:lnTo>
                      <a:pt x="34" y="75"/>
                    </a:lnTo>
                    <a:lnTo>
                      <a:pt x="36" y="77"/>
                    </a:lnTo>
                    <a:lnTo>
                      <a:pt x="40" y="72"/>
                    </a:lnTo>
                    <a:lnTo>
                      <a:pt x="44" y="67"/>
                    </a:lnTo>
                    <a:lnTo>
                      <a:pt x="48" y="62"/>
                    </a:lnTo>
                    <a:lnTo>
                      <a:pt x="52" y="57"/>
                    </a:lnTo>
                    <a:lnTo>
                      <a:pt x="56" y="52"/>
                    </a:lnTo>
                    <a:lnTo>
                      <a:pt x="59" y="48"/>
                    </a:lnTo>
                    <a:lnTo>
                      <a:pt x="63" y="42"/>
                    </a:lnTo>
                    <a:lnTo>
                      <a:pt x="68" y="38"/>
                    </a:lnTo>
                    <a:lnTo>
                      <a:pt x="64" y="48"/>
                    </a:lnTo>
                    <a:lnTo>
                      <a:pt x="59" y="56"/>
                    </a:lnTo>
                    <a:lnTo>
                      <a:pt x="54" y="65"/>
                    </a:lnTo>
                    <a:lnTo>
                      <a:pt x="47" y="73"/>
                    </a:lnTo>
                    <a:lnTo>
                      <a:pt x="40" y="81"/>
                    </a:lnTo>
                    <a:lnTo>
                      <a:pt x="35" y="91"/>
                    </a:lnTo>
                    <a:lnTo>
                      <a:pt x="28" y="99"/>
                    </a:lnTo>
                    <a:lnTo>
                      <a:pt x="24" y="109"/>
                    </a:lnTo>
                    <a:lnTo>
                      <a:pt x="26" y="111"/>
                    </a:lnTo>
                    <a:lnTo>
                      <a:pt x="36" y="104"/>
                    </a:lnTo>
                    <a:lnTo>
                      <a:pt x="38" y="105"/>
                    </a:lnTo>
                    <a:lnTo>
                      <a:pt x="68" y="62"/>
                    </a:lnTo>
                    <a:lnTo>
                      <a:pt x="63" y="70"/>
                    </a:lnTo>
                    <a:lnTo>
                      <a:pt x="59" y="77"/>
                    </a:lnTo>
                    <a:lnTo>
                      <a:pt x="55" y="86"/>
                    </a:lnTo>
                    <a:lnTo>
                      <a:pt x="52" y="93"/>
                    </a:lnTo>
                    <a:lnTo>
                      <a:pt x="48" y="102"/>
                    </a:lnTo>
                    <a:lnTo>
                      <a:pt x="44" y="110"/>
                    </a:lnTo>
                    <a:lnTo>
                      <a:pt x="40" y="117"/>
                    </a:lnTo>
                    <a:lnTo>
                      <a:pt x="36" y="125"/>
                    </a:lnTo>
                    <a:lnTo>
                      <a:pt x="38" y="127"/>
                    </a:lnTo>
                    <a:lnTo>
                      <a:pt x="82" y="71"/>
                    </a:lnTo>
                    <a:lnTo>
                      <a:pt x="77" y="79"/>
                    </a:lnTo>
                    <a:lnTo>
                      <a:pt x="72" y="88"/>
                    </a:lnTo>
                    <a:lnTo>
                      <a:pt x="65" y="96"/>
                    </a:lnTo>
                    <a:lnTo>
                      <a:pt x="60" y="105"/>
                    </a:lnTo>
                    <a:lnTo>
                      <a:pt x="54" y="112"/>
                    </a:lnTo>
                    <a:lnTo>
                      <a:pt x="48" y="121"/>
                    </a:lnTo>
                    <a:lnTo>
                      <a:pt x="44" y="129"/>
                    </a:lnTo>
                    <a:lnTo>
                      <a:pt x="40" y="137"/>
                    </a:lnTo>
                    <a:lnTo>
                      <a:pt x="46" y="134"/>
                    </a:lnTo>
                    <a:lnTo>
                      <a:pt x="52" y="130"/>
                    </a:lnTo>
                    <a:lnTo>
                      <a:pt x="56" y="125"/>
                    </a:lnTo>
                    <a:lnTo>
                      <a:pt x="59" y="120"/>
                    </a:lnTo>
                    <a:lnTo>
                      <a:pt x="63" y="113"/>
                    </a:lnTo>
                    <a:lnTo>
                      <a:pt x="66" y="108"/>
                    </a:lnTo>
                    <a:lnTo>
                      <a:pt x="71" y="103"/>
                    </a:lnTo>
                    <a:lnTo>
                      <a:pt x="76" y="98"/>
                    </a:lnTo>
                    <a:lnTo>
                      <a:pt x="91" y="82"/>
                    </a:lnTo>
                    <a:lnTo>
                      <a:pt x="90" y="85"/>
                    </a:lnTo>
                    <a:lnTo>
                      <a:pt x="90" y="86"/>
                    </a:lnTo>
                    <a:lnTo>
                      <a:pt x="89" y="87"/>
                    </a:lnTo>
                    <a:lnTo>
                      <a:pt x="87" y="88"/>
                    </a:lnTo>
                    <a:lnTo>
                      <a:pt x="86" y="89"/>
                    </a:lnTo>
                    <a:lnTo>
                      <a:pt x="85" y="91"/>
                    </a:lnTo>
                    <a:lnTo>
                      <a:pt x="85" y="92"/>
                    </a:lnTo>
                    <a:lnTo>
                      <a:pt x="84" y="93"/>
                    </a:lnTo>
                    <a:lnTo>
                      <a:pt x="89" y="97"/>
                    </a:lnTo>
                    <a:lnTo>
                      <a:pt x="92" y="94"/>
                    </a:lnTo>
                    <a:lnTo>
                      <a:pt x="95" y="91"/>
                    </a:lnTo>
                    <a:lnTo>
                      <a:pt x="98" y="87"/>
                    </a:lnTo>
                    <a:lnTo>
                      <a:pt x="101" y="84"/>
                    </a:lnTo>
                    <a:lnTo>
                      <a:pt x="103" y="79"/>
                    </a:lnTo>
                    <a:lnTo>
                      <a:pt x="107" y="76"/>
                    </a:lnTo>
                    <a:lnTo>
                      <a:pt x="110" y="73"/>
                    </a:lnTo>
                    <a:lnTo>
                      <a:pt x="113" y="71"/>
                    </a:lnTo>
                    <a:lnTo>
                      <a:pt x="110" y="78"/>
                    </a:lnTo>
                    <a:lnTo>
                      <a:pt x="107" y="86"/>
                    </a:lnTo>
                    <a:lnTo>
                      <a:pt x="102" y="94"/>
                    </a:lnTo>
                    <a:lnTo>
                      <a:pt x="98" y="102"/>
                    </a:lnTo>
                    <a:lnTo>
                      <a:pt x="93" y="110"/>
                    </a:lnTo>
                    <a:lnTo>
                      <a:pt x="86" y="117"/>
                    </a:lnTo>
                    <a:lnTo>
                      <a:pt x="81" y="126"/>
                    </a:lnTo>
                    <a:lnTo>
                      <a:pt x="76" y="133"/>
                    </a:lnTo>
                    <a:lnTo>
                      <a:pt x="75" y="136"/>
                    </a:lnTo>
                    <a:lnTo>
                      <a:pt x="73" y="141"/>
                    </a:lnTo>
                    <a:lnTo>
                      <a:pt x="72" y="144"/>
                    </a:lnTo>
                    <a:lnTo>
                      <a:pt x="71" y="148"/>
                    </a:lnTo>
                    <a:lnTo>
                      <a:pt x="70" y="151"/>
                    </a:lnTo>
                    <a:lnTo>
                      <a:pt x="68" y="154"/>
                    </a:lnTo>
                    <a:lnTo>
                      <a:pt x="68" y="159"/>
                    </a:lnTo>
                    <a:lnTo>
                      <a:pt x="68" y="162"/>
                    </a:lnTo>
                    <a:lnTo>
                      <a:pt x="72" y="161"/>
                    </a:lnTo>
                    <a:lnTo>
                      <a:pt x="75" y="158"/>
                    </a:lnTo>
                    <a:lnTo>
                      <a:pt x="77" y="155"/>
                    </a:lnTo>
                    <a:lnTo>
                      <a:pt x="78" y="151"/>
                    </a:lnTo>
                    <a:lnTo>
                      <a:pt x="79" y="148"/>
                    </a:lnTo>
                    <a:lnTo>
                      <a:pt x="80" y="144"/>
                    </a:lnTo>
                    <a:lnTo>
                      <a:pt x="82" y="141"/>
                    </a:lnTo>
                    <a:lnTo>
                      <a:pt x="84" y="137"/>
                    </a:lnTo>
                    <a:lnTo>
                      <a:pt x="118" y="93"/>
                    </a:lnTo>
                    <a:lnTo>
                      <a:pt x="116" y="99"/>
                    </a:lnTo>
                    <a:lnTo>
                      <a:pt x="114" y="105"/>
                    </a:lnTo>
                    <a:lnTo>
                      <a:pt x="111" y="111"/>
                    </a:lnTo>
                    <a:lnTo>
                      <a:pt x="108" y="116"/>
                    </a:lnTo>
                    <a:lnTo>
                      <a:pt x="104" y="122"/>
                    </a:lnTo>
                    <a:lnTo>
                      <a:pt x="102" y="128"/>
                    </a:lnTo>
                    <a:lnTo>
                      <a:pt x="100" y="133"/>
                    </a:lnTo>
                    <a:lnTo>
                      <a:pt x="98" y="140"/>
                    </a:lnTo>
                    <a:lnTo>
                      <a:pt x="105" y="133"/>
                    </a:lnTo>
                    <a:lnTo>
                      <a:pt x="112" y="126"/>
                    </a:lnTo>
                    <a:lnTo>
                      <a:pt x="116" y="118"/>
                    </a:lnTo>
                    <a:lnTo>
                      <a:pt x="120" y="110"/>
                    </a:lnTo>
                    <a:lnTo>
                      <a:pt x="125" y="100"/>
                    </a:lnTo>
                    <a:lnTo>
                      <a:pt x="130" y="92"/>
                    </a:lnTo>
                    <a:lnTo>
                      <a:pt x="135" y="84"/>
                    </a:lnTo>
                    <a:lnTo>
                      <a:pt x="143" y="77"/>
                    </a:lnTo>
                    <a:lnTo>
                      <a:pt x="143" y="80"/>
                    </a:lnTo>
                    <a:lnTo>
                      <a:pt x="141" y="85"/>
                    </a:lnTo>
                    <a:lnTo>
                      <a:pt x="140" y="88"/>
                    </a:lnTo>
                    <a:lnTo>
                      <a:pt x="138" y="91"/>
                    </a:lnTo>
                    <a:lnTo>
                      <a:pt x="134" y="98"/>
                    </a:lnTo>
                    <a:lnTo>
                      <a:pt x="129" y="105"/>
                    </a:lnTo>
                    <a:lnTo>
                      <a:pt x="122" y="112"/>
                    </a:lnTo>
                    <a:lnTo>
                      <a:pt x="118" y="120"/>
                    </a:lnTo>
                    <a:lnTo>
                      <a:pt x="116" y="124"/>
                    </a:lnTo>
                    <a:lnTo>
                      <a:pt x="114" y="128"/>
                    </a:lnTo>
                    <a:lnTo>
                      <a:pt x="113" y="132"/>
                    </a:lnTo>
                    <a:lnTo>
                      <a:pt x="113" y="137"/>
                    </a:lnTo>
                    <a:lnTo>
                      <a:pt x="114" y="140"/>
                    </a:lnTo>
                    <a:lnTo>
                      <a:pt x="118" y="135"/>
                    </a:lnTo>
                    <a:lnTo>
                      <a:pt x="121" y="131"/>
                    </a:lnTo>
                    <a:lnTo>
                      <a:pt x="126" y="126"/>
                    </a:lnTo>
                    <a:lnTo>
                      <a:pt x="129" y="121"/>
                    </a:lnTo>
                    <a:lnTo>
                      <a:pt x="133" y="115"/>
                    </a:lnTo>
                    <a:lnTo>
                      <a:pt x="137" y="110"/>
                    </a:lnTo>
                    <a:lnTo>
                      <a:pt x="141" y="106"/>
                    </a:lnTo>
                    <a:lnTo>
                      <a:pt x="147" y="100"/>
                    </a:lnTo>
                    <a:lnTo>
                      <a:pt x="146" y="104"/>
                    </a:lnTo>
                    <a:lnTo>
                      <a:pt x="144" y="107"/>
                    </a:lnTo>
                    <a:lnTo>
                      <a:pt x="143" y="110"/>
                    </a:lnTo>
                    <a:lnTo>
                      <a:pt x="140" y="113"/>
                    </a:lnTo>
                    <a:lnTo>
                      <a:pt x="139" y="116"/>
                    </a:lnTo>
                    <a:lnTo>
                      <a:pt x="138" y="120"/>
                    </a:lnTo>
                    <a:lnTo>
                      <a:pt x="139" y="124"/>
                    </a:lnTo>
                    <a:lnTo>
                      <a:pt x="140" y="127"/>
                    </a:lnTo>
                    <a:lnTo>
                      <a:pt x="160" y="104"/>
                    </a:lnTo>
                    <a:lnTo>
                      <a:pt x="159" y="108"/>
                    </a:lnTo>
                    <a:lnTo>
                      <a:pt x="158" y="111"/>
                    </a:lnTo>
                    <a:lnTo>
                      <a:pt x="156" y="115"/>
                    </a:lnTo>
                    <a:lnTo>
                      <a:pt x="154" y="118"/>
                    </a:lnTo>
                    <a:lnTo>
                      <a:pt x="151" y="123"/>
                    </a:lnTo>
                    <a:lnTo>
                      <a:pt x="148" y="126"/>
                    </a:lnTo>
                    <a:lnTo>
                      <a:pt x="146" y="129"/>
                    </a:lnTo>
                    <a:lnTo>
                      <a:pt x="143" y="133"/>
                    </a:lnTo>
                    <a:lnTo>
                      <a:pt x="145" y="135"/>
                    </a:lnTo>
                    <a:lnTo>
                      <a:pt x="143" y="136"/>
                    </a:lnTo>
                    <a:lnTo>
                      <a:pt x="140" y="139"/>
                    </a:lnTo>
                    <a:lnTo>
                      <a:pt x="138" y="140"/>
                    </a:lnTo>
                    <a:lnTo>
                      <a:pt x="136" y="143"/>
                    </a:lnTo>
                    <a:lnTo>
                      <a:pt x="135" y="145"/>
                    </a:lnTo>
                    <a:lnTo>
                      <a:pt x="134" y="147"/>
                    </a:lnTo>
                    <a:lnTo>
                      <a:pt x="134" y="150"/>
                    </a:lnTo>
                    <a:lnTo>
                      <a:pt x="135" y="153"/>
                    </a:lnTo>
                    <a:lnTo>
                      <a:pt x="130" y="153"/>
                    </a:lnTo>
                    <a:lnTo>
                      <a:pt x="125" y="154"/>
                    </a:lnTo>
                    <a:lnTo>
                      <a:pt x="121" y="155"/>
                    </a:lnTo>
                    <a:lnTo>
                      <a:pt x="118" y="158"/>
                    </a:lnTo>
                    <a:lnTo>
                      <a:pt x="114" y="161"/>
                    </a:lnTo>
                    <a:lnTo>
                      <a:pt x="110" y="162"/>
                    </a:lnTo>
                    <a:lnTo>
                      <a:pt x="105" y="164"/>
                    </a:lnTo>
                    <a:lnTo>
                      <a:pt x="100" y="164"/>
                    </a:lnTo>
                    <a:lnTo>
                      <a:pt x="96" y="168"/>
                    </a:lnTo>
                    <a:lnTo>
                      <a:pt x="93" y="172"/>
                    </a:lnTo>
                    <a:lnTo>
                      <a:pt x="90" y="178"/>
                    </a:lnTo>
                    <a:lnTo>
                      <a:pt x="85" y="182"/>
                    </a:lnTo>
                    <a:lnTo>
                      <a:pt x="81" y="185"/>
                    </a:lnTo>
                    <a:lnTo>
                      <a:pt x="77" y="186"/>
                    </a:lnTo>
                    <a:lnTo>
                      <a:pt x="74" y="187"/>
                    </a:lnTo>
                    <a:lnTo>
                      <a:pt x="71" y="186"/>
                    </a:lnTo>
                    <a:lnTo>
                      <a:pt x="67" y="185"/>
                    </a:lnTo>
                    <a:lnTo>
                      <a:pt x="64" y="183"/>
                    </a:lnTo>
                    <a:lnTo>
                      <a:pt x="61" y="182"/>
                    </a:lnTo>
                    <a:lnTo>
                      <a:pt x="59" y="183"/>
                    </a:lnTo>
                    <a:lnTo>
                      <a:pt x="58" y="184"/>
                    </a:lnTo>
                    <a:lnTo>
                      <a:pt x="56" y="186"/>
                    </a:lnTo>
                    <a:lnTo>
                      <a:pt x="54" y="188"/>
                    </a:lnTo>
                    <a:lnTo>
                      <a:pt x="52" y="189"/>
                    </a:lnTo>
                    <a:lnTo>
                      <a:pt x="49" y="190"/>
                    </a:lnTo>
                    <a:lnTo>
                      <a:pt x="46" y="189"/>
                    </a:lnTo>
                    <a:lnTo>
                      <a:pt x="42" y="178"/>
                    </a:lnTo>
                    <a:lnTo>
                      <a:pt x="41" y="179"/>
                    </a:lnTo>
                    <a:lnTo>
                      <a:pt x="39" y="180"/>
                    </a:lnTo>
                    <a:lnTo>
                      <a:pt x="38" y="181"/>
                    </a:lnTo>
                    <a:lnTo>
                      <a:pt x="36" y="181"/>
                    </a:lnTo>
                    <a:lnTo>
                      <a:pt x="35" y="182"/>
                    </a:lnTo>
                    <a:lnTo>
                      <a:pt x="32" y="182"/>
                    </a:lnTo>
                    <a:lnTo>
                      <a:pt x="30" y="182"/>
                    </a:lnTo>
                    <a:lnTo>
                      <a:pt x="28" y="182"/>
                    </a:lnTo>
                    <a:lnTo>
                      <a:pt x="28" y="180"/>
                    </a:lnTo>
                    <a:lnTo>
                      <a:pt x="27" y="178"/>
                    </a:lnTo>
                    <a:lnTo>
                      <a:pt x="27" y="177"/>
                    </a:lnTo>
                    <a:lnTo>
                      <a:pt x="25" y="176"/>
                    </a:lnTo>
                    <a:lnTo>
                      <a:pt x="24" y="173"/>
                    </a:lnTo>
                    <a:lnTo>
                      <a:pt x="23" y="172"/>
                    </a:lnTo>
                    <a:lnTo>
                      <a:pt x="21" y="172"/>
                    </a:lnTo>
                    <a:lnTo>
                      <a:pt x="20" y="171"/>
                    </a:lnTo>
                    <a:lnTo>
                      <a:pt x="21" y="166"/>
                    </a:lnTo>
                    <a:lnTo>
                      <a:pt x="22" y="162"/>
                    </a:lnTo>
                    <a:lnTo>
                      <a:pt x="23" y="158"/>
                    </a:lnTo>
                    <a:lnTo>
                      <a:pt x="24" y="153"/>
                    </a:lnTo>
                    <a:lnTo>
                      <a:pt x="24" y="149"/>
                    </a:lnTo>
                    <a:lnTo>
                      <a:pt x="24" y="145"/>
                    </a:lnTo>
                    <a:lnTo>
                      <a:pt x="24" y="141"/>
                    </a:lnTo>
                    <a:lnTo>
                      <a:pt x="22" y="135"/>
                    </a:lnTo>
                    <a:lnTo>
                      <a:pt x="24" y="133"/>
                    </a:lnTo>
                    <a:lnTo>
                      <a:pt x="20" y="129"/>
                    </a:lnTo>
                    <a:lnTo>
                      <a:pt x="19" y="131"/>
                    </a:lnTo>
                    <a:lnTo>
                      <a:pt x="19" y="132"/>
                    </a:lnTo>
                    <a:lnTo>
                      <a:pt x="18" y="133"/>
                    </a:lnTo>
                    <a:lnTo>
                      <a:pt x="17" y="134"/>
                    </a:lnTo>
                    <a:lnTo>
                      <a:pt x="14" y="135"/>
                    </a:lnTo>
                    <a:lnTo>
                      <a:pt x="13" y="135"/>
                    </a:lnTo>
                    <a:lnTo>
                      <a:pt x="11" y="135"/>
                    </a:lnTo>
                    <a:lnTo>
                      <a:pt x="10" y="135"/>
                    </a:lnTo>
                    <a:lnTo>
                      <a:pt x="8" y="132"/>
                    </a:lnTo>
                    <a:lnTo>
                      <a:pt x="8" y="130"/>
                    </a:lnTo>
                    <a:lnTo>
                      <a:pt x="8" y="127"/>
                    </a:lnTo>
                    <a:lnTo>
                      <a:pt x="8" y="125"/>
                    </a:lnTo>
                    <a:lnTo>
                      <a:pt x="10" y="120"/>
                    </a:lnTo>
                    <a:lnTo>
                      <a:pt x="12" y="114"/>
                    </a:lnTo>
                    <a:lnTo>
                      <a:pt x="16" y="109"/>
                    </a:lnTo>
                    <a:lnTo>
                      <a:pt x="17" y="105"/>
                    </a:lnTo>
                    <a:lnTo>
                      <a:pt x="17" y="102"/>
                    </a:lnTo>
                    <a:lnTo>
                      <a:pt x="16" y="99"/>
                    </a:lnTo>
                    <a:lnTo>
                      <a:pt x="13" y="97"/>
                    </a:lnTo>
                    <a:lnTo>
                      <a:pt x="11" y="95"/>
                    </a:lnTo>
                    <a:lnTo>
                      <a:pt x="12" y="92"/>
                    </a:lnTo>
                    <a:lnTo>
                      <a:pt x="14" y="89"/>
                    </a:lnTo>
                    <a:lnTo>
                      <a:pt x="17" y="86"/>
                    </a:lnTo>
                    <a:lnTo>
                      <a:pt x="18" y="82"/>
                    </a:lnTo>
                    <a:lnTo>
                      <a:pt x="20" y="79"/>
                    </a:lnTo>
                    <a:lnTo>
                      <a:pt x="20" y="77"/>
                    </a:lnTo>
                    <a:lnTo>
                      <a:pt x="21" y="74"/>
                    </a:lnTo>
                    <a:lnTo>
                      <a:pt x="20" y="71"/>
                    </a:lnTo>
                    <a:lnTo>
                      <a:pt x="19" y="73"/>
                    </a:lnTo>
                    <a:lnTo>
                      <a:pt x="17" y="75"/>
                    </a:lnTo>
                    <a:lnTo>
                      <a:pt x="14" y="77"/>
                    </a:lnTo>
                    <a:lnTo>
                      <a:pt x="12" y="79"/>
                    </a:lnTo>
                    <a:lnTo>
                      <a:pt x="10" y="80"/>
                    </a:lnTo>
                    <a:lnTo>
                      <a:pt x="8" y="80"/>
                    </a:lnTo>
                    <a:lnTo>
                      <a:pt x="6" y="79"/>
                    </a:lnTo>
                    <a:lnTo>
                      <a:pt x="4" y="77"/>
                    </a:lnTo>
                    <a:lnTo>
                      <a:pt x="5" y="75"/>
                    </a:lnTo>
                    <a:lnTo>
                      <a:pt x="5" y="74"/>
                    </a:lnTo>
                    <a:lnTo>
                      <a:pt x="6" y="72"/>
                    </a:lnTo>
                    <a:lnTo>
                      <a:pt x="6" y="70"/>
                    </a:lnTo>
                    <a:lnTo>
                      <a:pt x="7" y="69"/>
                    </a:lnTo>
                    <a:lnTo>
                      <a:pt x="7" y="67"/>
                    </a:lnTo>
                    <a:lnTo>
                      <a:pt x="7" y="65"/>
                    </a:lnTo>
                    <a:lnTo>
                      <a:pt x="8" y="62"/>
                    </a:lnTo>
                    <a:lnTo>
                      <a:pt x="5" y="62"/>
                    </a:lnTo>
                    <a:lnTo>
                      <a:pt x="3" y="62"/>
                    </a:lnTo>
                    <a:lnTo>
                      <a:pt x="2" y="60"/>
                    </a:lnTo>
                    <a:lnTo>
                      <a:pt x="1" y="58"/>
                    </a:lnTo>
                    <a:lnTo>
                      <a:pt x="0" y="56"/>
                    </a:lnTo>
                    <a:lnTo>
                      <a:pt x="0" y="54"/>
                    </a:lnTo>
                    <a:lnTo>
                      <a:pt x="0" y="51"/>
                    </a:lnTo>
                    <a:lnTo>
                      <a:pt x="2" y="49"/>
                    </a:lnTo>
                    <a:lnTo>
                      <a:pt x="3" y="48"/>
                    </a:lnTo>
                    <a:lnTo>
                      <a:pt x="3" y="47"/>
                    </a:lnTo>
                    <a:lnTo>
                      <a:pt x="4" y="45"/>
                    </a:lnTo>
                    <a:lnTo>
                      <a:pt x="4" y="44"/>
                    </a:lnTo>
                    <a:lnTo>
                      <a:pt x="5" y="43"/>
                    </a:lnTo>
                    <a:lnTo>
                      <a:pt x="6" y="42"/>
                    </a:lnTo>
                    <a:lnTo>
                      <a:pt x="6" y="41"/>
                    </a:lnTo>
                    <a:lnTo>
                      <a:pt x="8" y="40"/>
                    </a:lnTo>
                    <a:lnTo>
                      <a:pt x="4" y="38"/>
                    </a:lnTo>
                    <a:lnTo>
                      <a:pt x="1" y="36"/>
                    </a:lnTo>
                    <a:lnTo>
                      <a:pt x="1" y="33"/>
                    </a:lnTo>
                    <a:lnTo>
                      <a:pt x="2" y="30"/>
                    </a:lnTo>
                    <a:lnTo>
                      <a:pt x="3" y="25"/>
                    </a:lnTo>
                    <a:lnTo>
                      <a:pt x="5" y="22"/>
                    </a:lnTo>
                    <a:lnTo>
                      <a:pt x="7" y="19"/>
                    </a:lnTo>
                    <a:lnTo>
                      <a:pt x="10" y="16"/>
                    </a:lnTo>
                    <a:lnTo>
                      <a:pt x="11" y="14"/>
                    </a:lnTo>
                    <a:lnTo>
                      <a:pt x="11" y="17"/>
                    </a:lnTo>
                    <a:lnTo>
                      <a:pt x="10" y="19"/>
                    </a:lnTo>
                    <a:lnTo>
                      <a:pt x="8" y="21"/>
                    </a:lnTo>
                    <a:lnTo>
                      <a:pt x="7" y="23"/>
                    </a:lnTo>
                    <a:lnTo>
                      <a:pt x="6" y="25"/>
                    </a:lnTo>
                    <a:lnTo>
                      <a:pt x="6" y="29"/>
                    </a:lnTo>
                    <a:lnTo>
                      <a:pt x="7" y="31"/>
                    </a:lnTo>
                    <a:lnTo>
                      <a:pt x="10" y="33"/>
                    </a:lnTo>
                    <a:lnTo>
                      <a:pt x="14" y="30"/>
                    </a:lnTo>
                    <a:lnTo>
                      <a:pt x="19" y="25"/>
                    </a:lnTo>
                    <a:lnTo>
                      <a:pt x="23" y="21"/>
                    </a:lnTo>
                    <a:lnTo>
                      <a:pt x="26" y="17"/>
                    </a:lnTo>
                    <a:lnTo>
                      <a:pt x="28" y="13"/>
                    </a:lnTo>
                    <a:lnTo>
                      <a:pt x="31" y="7"/>
                    </a:lnTo>
                    <a:lnTo>
                      <a:pt x="35" y="3"/>
                    </a:lnTo>
                    <a:lnTo>
                      <a:pt x="38" y="0"/>
                    </a:lnTo>
                    <a:lnTo>
                      <a:pt x="35" y="5"/>
                    </a:lnTo>
                    <a:lnTo>
                      <a:pt x="30" y="11"/>
                    </a:lnTo>
                    <a:lnTo>
                      <a:pt x="26" y="16"/>
                    </a:lnTo>
                    <a:lnTo>
                      <a:pt x="23" y="21"/>
                    </a:lnTo>
                    <a:lnTo>
                      <a:pt x="20" y="26"/>
                    </a:lnTo>
                    <a:lnTo>
                      <a:pt x="19" y="33"/>
                    </a:lnTo>
                    <a:lnTo>
                      <a:pt x="19" y="35"/>
                    </a:lnTo>
                    <a:lnTo>
                      <a:pt x="19" y="38"/>
                    </a:lnTo>
                    <a:lnTo>
                      <a:pt x="20" y="41"/>
                    </a:lnTo>
                    <a:lnTo>
                      <a:pt x="22" y="4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6516360" y="5789880"/>
                <a:ext cx="5040" cy="6120"/>
              </a:xfrm>
              <a:custGeom>
                <a:avLst/>
                <a:gdLst/>
                <a:ahLst/>
                <a:rect l="l" t="t" r="r" b="b"/>
                <a:pathLst>
                  <a:path w="8" h="13">
                    <a:moveTo>
                      <a:pt x="8" y="0"/>
                    </a:moveTo>
                    <a:lnTo>
                      <a:pt x="0" y="13"/>
                    </a:lnTo>
                    <a:lnTo>
                      <a:pt x="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ffffff"/>
                  </a:solidFill>
                  <a:latin typeface="Arial"/>
                </a:endParaRPr>
              </a:p>
            </p:txBody>
          </p:sp>
          <p:sp>
            <p:nvSpPr>
              <p:cNvPr id="788" name=""/>
              <p:cNvSpPr/>
              <p:nvPr/>
            </p:nvSpPr>
            <p:spPr>
              <a:xfrm>
                <a:off x="6570360" y="5816880"/>
                <a:ext cx="122400" cy="21960"/>
              </a:xfrm>
              <a:custGeom>
                <a:avLst/>
                <a:gdLst/>
                <a:ahLst/>
                <a:rect l="l" t="t" r="r" b="b"/>
                <a:pathLst>
                  <a:path w="230" h="40">
                    <a:moveTo>
                      <a:pt x="226" y="16"/>
                    </a:moveTo>
                    <a:lnTo>
                      <a:pt x="230" y="20"/>
                    </a:lnTo>
                    <a:lnTo>
                      <a:pt x="227" y="21"/>
                    </a:lnTo>
                    <a:lnTo>
                      <a:pt x="224" y="20"/>
                    </a:lnTo>
                    <a:lnTo>
                      <a:pt x="222" y="19"/>
                    </a:lnTo>
                    <a:lnTo>
                      <a:pt x="219" y="18"/>
                    </a:lnTo>
                    <a:lnTo>
                      <a:pt x="217" y="17"/>
                    </a:lnTo>
                    <a:lnTo>
                      <a:pt x="215" y="16"/>
                    </a:lnTo>
                    <a:lnTo>
                      <a:pt x="213" y="17"/>
                    </a:lnTo>
                    <a:lnTo>
                      <a:pt x="210" y="18"/>
                    </a:lnTo>
                    <a:lnTo>
                      <a:pt x="211" y="21"/>
                    </a:lnTo>
                    <a:lnTo>
                      <a:pt x="213" y="23"/>
                    </a:lnTo>
                    <a:lnTo>
                      <a:pt x="215" y="24"/>
                    </a:lnTo>
                    <a:lnTo>
                      <a:pt x="217" y="26"/>
                    </a:lnTo>
                    <a:lnTo>
                      <a:pt x="221" y="27"/>
                    </a:lnTo>
                    <a:lnTo>
                      <a:pt x="224" y="28"/>
                    </a:lnTo>
                    <a:lnTo>
                      <a:pt x="226" y="31"/>
                    </a:lnTo>
                    <a:lnTo>
                      <a:pt x="228" y="33"/>
                    </a:lnTo>
                    <a:lnTo>
                      <a:pt x="224" y="28"/>
                    </a:lnTo>
                    <a:lnTo>
                      <a:pt x="217" y="25"/>
                    </a:lnTo>
                    <a:lnTo>
                      <a:pt x="211" y="22"/>
                    </a:lnTo>
                    <a:lnTo>
                      <a:pt x="204" y="20"/>
                    </a:lnTo>
                    <a:lnTo>
                      <a:pt x="196" y="19"/>
                    </a:lnTo>
                    <a:lnTo>
                      <a:pt x="189" y="17"/>
                    </a:lnTo>
                    <a:lnTo>
                      <a:pt x="180" y="16"/>
                    </a:lnTo>
                    <a:lnTo>
                      <a:pt x="174" y="14"/>
                    </a:lnTo>
                    <a:lnTo>
                      <a:pt x="168" y="18"/>
                    </a:lnTo>
                    <a:lnTo>
                      <a:pt x="148" y="17"/>
                    </a:lnTo>
                    <a:lnTo>
                      <a:pt x="128" y="17"/>
                    </a:lnTo>
                    <a:lnTo>
                      <a:pt x="108" y="19"/>
                    </a:lnTo>
                    <a:lnTo>
                      <a:pt x="89" y="21"/>
                    </a:lnTo>
                    <a:lnTo>
                      <a:pt x="70" y="24"/>
                    </a:lnTo>
                    <a:lnTo>
                      <a:pt x="52" y="28"/>
                    </a:lnTo>
                    <a:lnTo>
                      <a:pt x="34" y="34"/>
                    </a:lnTo>
                    <a:lnTo>
                      <a:pt x="16" y="40"/>
                    </a:lnTo>
                    <a:lnTo>
                      <a:pt x="14" y="40"/>
                    </a:lnTo>
                    <a:lnTo>
                      <a:pt x="12" y="40"/>
                    </a:lnTo>
                    <a:lnTo>
                      <a:pt x="10" y="40"/>
                    </a:lnTo>
                    <a:lnTo>
                      <a:pt x="8" y="40"/>
                    </a:lnTo>
                    <a:lnTo>
                      <a:pt x="6" y="40"/>
                    </a:lnTo>
                    <a:lnTo>
                      <a:pt x="4" y="40"/>
                    </a:lnTo>
                    <a:lnTo>
                      <a:pt x="1" y="39"/>
                    </a:lnTo>
                    <a:lnTo>
                      <a:pt x="0" y="38"/>
                    </a:lnTo>
                    <a:lnTo>
                      <a:pt x="6" y="38"/>
                    </a:lnTo>
                    <a:lnTo>
                      <a:pt x="11" y="37"/>
                    </a:lnTo>
                    <a:lnTo>
                      <a:pt x="16" y="36"/>
                    </a:lnTo>
                    <a:lnTo>
                      <a:pt x="23" y="33"/>
                    </a:lnTo>
                    <a:lnTo>
                      <a:pt x="28" y="29"/>
                    </a:lnTo>
                    <a:lnTo>
                      <a:pt x="33" y="26"/>
                    </a:lnTo>
                    <a:lnTo>
                      <a:pt x="39" y="22"/>
                    </a:lnTo>
                    <a:lnTo>
                      <a:pt x="43" y="18"/>
                    </a:lnTo>
                    <a:lnTo>
                      <a:pt x="45" y="18"/>
                    </a:lnTo>
                    <a:lnTo>
                      <a:pt x="48" y="18"/>
                    </a:lnTo>
                    <a:lnTo>
                      <a:pt x="50" y="17"/>
                    </a:lnTo>
                    <a:lnTo>
                      <a:pt x="53" y="15"/>
                    </a:lnTo>
                    <a:lnTo>
                      <a:pt x="57" y="15"/>
                    </a:lnTo>
                    <a:lnTo>
                      <a:pt x="59" y="15"/>
                    </a:lnTo>
                    <a:lnTo>
                      <a:pt x="61" y="16"/>
                    </a:lnTo>
                    <a:lnTo>
                      <a:pt x="63" y="20"/>
                    </a:lnTo>
                    <a:lnTo>
                      <a:pt x="65" y="20"/>
                    </a:lnTo>
                    <a:lnTo>
                      <a:pt x="68" y="19"/>
                    </a:lnTo>
                    <a:lnTo>
                      <a:pt x="70" y="19"/>
                    </a:lnTo>
                    <a:lnTo>
                      <a:pt x="72" y="19"/>
                    </a:lnTo>
                    <a:lnTo>
                      <a:pt x="74" y="18"/>
                    </a:lnTo>
                    <a:lnTo>
                      <a:pt x="77" y="17"/>
                    </a:lnTo>
                    <a:lnTo>
                      <a:pt x="79" y="16"/>
                    </a:lnTo>
                    <a:lnTo>
                      <a:pt x="81" y="14"/>
                    </a:lnTo>
                    <a:lnTo>
                      <a:pt x="74" y="8"/>
                    </a:lnTo>
                    <a:lnTo>
                      <a:pt x="81" y="8"/>
                    </a:lnTo>
                    <a:lnTo>
                      <a:pt x="87" y="8"/>
                    </a:lnTo>
                    <a:lnTo>
                      <a:pt x="95" y="8"/>
                    </a:lnTo>
                    <a:lnTo>
                      <a:pt x="102" y="8"/>
                    </a:lnTo>
                    <a:lnTo>
                      <a:pt x="109" y="8"/>
                    </a:lnTo>
                    <a:lnTo>
                      <a:pt x="117" y="7"/>
                    </a:lnTo>
                    <a:lnTo>
                      <a:pt x="124" y="7"/>
                    </a:lnTo>
                    <a:lnTo>
                      <a:pt x="132" y="6"/>
                    </a:lnTo>
                    <a:lnTo>
                      <a:pt x="133" y="4"/>
                    </a:lnTo>
                    <a:lnTo>
                      <a:pt x="134" y="3"/>
                    </a:lnTo>
                    <a:lnTo>
                      <a:pt x="136" y="2"/>
                    </a:lnTo>
                    <a:lnTo>
                      <a:pt x="138" y="2"/>
                    </a:lnTo>
                    <a:lnTo>
                      <a:pt x="143" y="3"/>
                    </a:lnTo>
                    <a:lnTo>
                      <a:pt x="150" y="4"/>
                    </a:lnTo>
                    <a:lnTo>
                      <a:pt x="156" y="5"/>
                    </a:lnTo>
                    <a:lnTo>
                      <a:pt x="161" y="6"/>
                    </a:lnTo>
                    <a:lnTo>
                      <a:pt x="163" y="5"/>
                    </a:lnTo>
                    <a:lnTo>
                      <a:pt x="165" y="4"/>
                    </a:lnTo>
                    <a:lnTo>
                      <a:pt x="168" y="2"/>
                    </a:lnTo>
                    <a:lnTo>
                      <a:pt x="170" y="0"/>
                    </a:lnTo>
                    <a:lnTo>
                      <a:pt x="177" y="2"/>
                    </a:lnTo>
                    <a:lnTo>
                      <a:pt x="183" y="4"/>
                    </a:lnTo>
                    <a:lnTo>
                      <a:pt x="191" y="6"/>
                    </a:lnTo>
                    <a:lnTo>
                      <a:pt x="197" y="9"/>
                    </a:lnTo>
                    <a:lnTo>
                      <a:pt x="204" y="11"/>
                    </a:lnTo>
                    <a:lnTo>
                      <a:pt x="211" y="14"/>
                    </a:lnTo>
                    <a:lnTo>
                      <a:pt x="218" y="16"/>
                    </a:lnTo>
                    <a:lnTo>
                      <a:pt x="226" y="1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789" name=""/>
              <p:cNvSpPr/>
              <p:nvPr/>
            </p:nvSpPr>
            <p:spPr>
              <a:xfrm>
                <a:off x="6543360" y="5819760"/>
                <a:ext cx="3240" cy="6480"/>
              </a:xfrm>
              <a:custGeom>
                <a:avLst/>
                <a:gdLst/>
                <a:ahLst/>
                <a:rect l="l" t="t" r="r" b="b"/>
                <a:pathLst>
                  <a:path w="8" h="12">
                    <a:moveTo>
                      <a:pt x="8" y="0"/>
                    </a:moveTo>
                    <a:lnTo>
                      <a:pt x="0" y="12"/>
                    </a:lnTo>
                    <a:lnTo>
                      <a:pt x="8"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90" name=""/>
              <p:cNvSpPr/>
              <p:nvPr/>
            </p:nvSpPr>
            <p:spPr>
              <a:xfrm>
                <a:off x="6686280" y="5835960"/>
                <a:ext cx="36720" cy="15840"/>
              </a:xfrm>
              <a:custGeom>
                <a:avLst/>
                <a:gdLst/>
                <a:ahLst/>
                <a:rect l="l" t="t" r="r" b="b"/>
                <a:pathLst>
                  <a:path w="70" h="28">
                    <a:moveTo>
                      <a:pt x="70" y="22"/>
                    </a:moveTo>
                    <a:lnTo>
                      <a:pt x="70" y="28"/>
                    </a:lnTo>
                    <a:lnTo>
                      <a:pt x="0" y="0"/>
                    </a:lnTo>
                    <a:lnTo>
                      <a:pt x="9" y="2"/>
                    </a:lnTo>
                    <a:lnTo>
                      <a:pt x="18" y="5"/>
                    </a:lnTo>
                    <a:lnTo>
                      <a:pt x="27" y="9"/>
                    </a:lnTo>
                    <a:lnTo>
                      <a:pt x="35" y="14"/>
                    </a:lnTo>
                    <a:lnTo>
                      <a:pt x="44" y="17"/>
                    </a:lnTo>
                    <a:lnTo>
                      <a:pt x="52" y="20"/>
                    </a:lnTo>
                    <a:lnTo>
                      <a:pt x="62" y="22"/>
                    </a:lnTo>
                    <a:lnTo>
                      <a:pt x="70" y="2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791" name=""/>
              <p:cNvSpPr/>
              <p:nvPr/>
            </p:nvSpPr>
            <p:spPr>
              <a:xfrm>
                <a:off x="6460920" y="5962680"/>
                <a:ext cx="6480" cy="19080"/>
              </a:xfrm>
              <a:custGeom>
                <a:avLst/>
                <a:gdLst/>
                <a:ahLst/>
                <a:rect l="l" t="t" r="r" b="b"/>
                <a:pathLst>
                  <a:path w="13" h="38">
                    <a:moveTo>
                      <a:pt x="13" y="4"/>
                    </a:moveTo>
                    <a:lnTo>
                      <a:pt x="0" y="38"/>
                    </a:lnTo>
                    <a:lnTo>
                      <a:pt x="0" y="34"/>
                    </a:lnTo>
                    <a:lnTo>
                      <a:pt x="0" y="29"/>
                    </a:lnTo>
                    <a:lnTo>
                      <a:pt x="0" y="24"/>
                    </a:lnTo>
                    <a:lnTo>
                      <a:pt x="2" y="19"/>
                    </a:lnTo>
                    <a:lnTo>
                      <a:pt x="3" y="14"/>
                    </a:lnTo>
                    <a:lnTo>
                      <a:pt x="5" y="8"/>
                    </a:lnTo>
                    <a:lnTo>
                      <a:pt x="6" y="4"/>
                    </a:lnTo>
                    <a:lnTo>
                      <a:pt x="8" y="0"/>
                    </a:lnTo>
                    <a:lnTo>
                      <a:pt x="13" y="4"/>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92" name=""/>
              <p:cNvSpPr/>
              <p:nvPr/>
            </p:nvSpPr>
            <p:spPr>
              <a:xfrm>
                <a:off x="7211880" y="5994360"/>
                <a:ext cx="6120" cy="6480"/>
              </a:xfrm>
              <a:custGeom>
                <a:avLst/>
                <a:gdLst/>
                <a:ahLst/>
                <a:rect l="l" t="t" r="r" b="b"/>
                <a:pathLst>
                  <a:path w="10" h="11">
                    <a:moveTo>
                      <a:pt x="10" y="0"/>
                    </a:moveTo>
                    <a:lnTo>
                      <a:pt x="0" y="11"/>
                    </a:lnTo>
                    <a:lnTo>
                      <a:pt x="10"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793" name=""/>
              <p:cNvSpPr/>
              <p:nvPr/>
            </p:nvSpPr>
            <p:spPr>
              <a:xfrm>
                <a:off x="7259400" y="6080400"/>
                <a:ext cx="12600" cy="19080"/>
              </a:xfrm>
              <a:custGeom>
                <a:avLst/>
                <a:gdLst/>
                <a:ahLst/>
                <a:rect l="l" t="t" r="r" b="b"/>
                <a:pathLst>
                  <a:path w="22" h="37">
                    <a:moveTo>
                      <a:pt x="22" y="5"/>
                    </a:moveTo>
                    <a:lnTo>
                      <a:pt x="22" y="9"/>
                    </a:lnTo>
                    <a:lnTo>
                      <a:pt x="21" y="15"/>
                    </a:lnTo>
                    <a:lnTo>
                      <a:pt x="20" y="19"/>
                    </a:lnTo>
                    <a:lnTo>
                      <a:pt x="18" y="23"/>
                    </a:lnTo>
                    <a:lnTo>
                      <a:pt x="16" y="27"/>
                    </a:lnTo>
                    <a:lnTo>
                      <a:pt x="13" y="31"/>
                    </a:lnTo>
                    <a:lnTo>
                      <a:pt x="9" y="34"/>
                    </a:lnTo>
                    <a:lnTo>
                      <a:pt x="6" y="37"/>
                    </a:lnTo>
                    <a:lnTo>
                      <a:pt x="2" y="37"/>
                    </a:lnTo>
                    <a:lnTo>
                      <a:pt x="0" y="32"/>
                    </a:lnTo>
                    <a:lnTo>
                      <a:pt x="0" y="26"/>
                    </a:lnTo>
                    <a:lnTo>
                      <a:pt x="1" y="22"/>
                    </a:lnTo>
                    <a:lnTo>
                      <a:pt x="3" y="18"/>
                    </a:lnTo>
                    <a:lnTo>
                      <a:pt x="5" y="14"/>
                    </a:lnTo>
                    <a:lnTo>
                      <a:pt x="8" y="9"/>
                    </a:lnTo>
                    <a:lnTo>
                      <a:pt x="12" y="5"/>
                    </a:lnTo>
                    <a:lnTo>
                      <a:pt x="15" y="1"/>
                    </a:lnTo>
                    <a:lnTo>
                      <a:pt x="16" y="0"/>
                    </a:lnTo>
                    <a:lnTo>
                      <a:pt x="17" y="0"/>
                    </a:lnTo>
                    <a:lnTo>
                      <a:pt x="18" y="1"/>
                    </a:lnTo>
                    <a:lnTo>
                      <a:pt x="19" y="1"/>
                    </a:lnTo>
                    <a:lnTo>
                      <a:pt x="20" y="2"/>
                    </a:lnTo>
                    <a:lnTo>
                      <a:pt x="21" y="3"/>
                    </a:lnTo>
                    <a:lnTo>
                      <a:pt x="21" y="4"/>
                    </a:lnTo>
                    <a:lnTo>
                      <a:pt x="22" y="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94" name=""/>
              <p:cNvSpPr/>
              <p:nvPr/>
            </p:nvSpPr>
            <p:spPr>
              <a:xfrm>
                <a:off x="7211880" y="6142320"/>
                <a:ext cx="102960" cy="118800"/>
              </a:xfrm>
              <a:custGeom>
                <a:avLst/>
                <a:gdLst/>
                <a:ahLst/>
                <a:rect l="l" t="t" r="r" b="b"/>
                <a:pathLst>
                  <a:path w="195" h="225">
                    <a:moveTo>
                      <a:pt x="39" y="65"/>
                    </a:moveTo>
                    <a:lnTo>
                      <a:pt x="49" y="59"/>
                    </a:lnTo>
                    <a:lnTo>
                      <a:pt x="56" y="52"/>
                    </a:lnTo>
                    <a:lnTo>
                      <a:pt x="65" y="45"/>
                    </a:lnTo>
                    <a:lnTo>
                      <a:pt x="72" y="37"/>
                    </a:lnTo>
                    <a:lnTo>
                      <a:pt x="79" y="30"/>
                    </a:lnTo>
                    <a:lnTo>
                      <a:pt x="87" y="23"/>
                    </a:lnTo>
                    <a:lnTo>
                      <a:pt x="93" y="15"/>
                    </a:lnTo>
                    <a:lnTo>
                      <a:pt x="101" y="7"/>
                    </a:lnTo>
                    <a:lnTo>
                      <a:pt x="101" y="13"/>
                    </a:lnTo>
                    <a:lnTo>
                      <a:pt x="92" y="20"/>
                    </a:lnTo>
                    <a:lnTo>
                      <a:pt x="84" y="29"/>
                    </a:lnTo>
                    <a:lnTo>
                      <a:pt x="75" y="37"/>
                    </a:lnTo>
                    <a:lnTo>
                      <a:pt x="67" y="47"/>
                    </a:lnTo>
                    <a:lnTo>
                      <a:pt x="59" y="55"/>
                    </a:lnTo>
                    <a:lnTo>
                      <a:pt x="52" y="65"/>
                    </a:lnTo>
                    <a:lnTo>
                      <a:pt x="44" y="73"/>
                    </a:lnTo>
                    <a:lnTo>
                      <a:pt x="38" y="83"/>
                    </a:lnTo>
                    <a:lnTo>
                      <a:pt x="39" y="85"/>
                    </a:lnTo>
                    <a:lnTo>
                      <a:pt x="98" y="25"/>
                    </a:lnTo>
                    <a:lnTo>
                      <a:pt x="91" y="34"/>
                    </a:lnTo>
                    <a:lnTo>
                      <a:pt x="85" y="43"/>
                    </a:lnTo>
                    <a:lnTo>
                      <a:pt x="77" y="53"/>
                    </a:lnTo>
                    <a:lnTo>
                      <a:pt x="71" y="63"/>
                    </a:lnTo>
                    <a:lnTo>
                      <a:pt x="63" y="73"/>
                    </a:lnTo>
                    <a:lnTo>
                      <a:pt x="56" y="83"/>
                    </a:lnTo>
                    <a:lnTo>
                      <a:pt x="49" y="92"/>
                    </a:lnTo>
                    <a:lnTo>
                      <a:pt x="39" y="102"/>
                    </a:lnTo>
                    <a:lnTo>
                      <a:pt x="44" y="103"/>
                    </a:lnTo>
                    <a:lnTo>
                      <a:pt x="48" y="102"/>
                    </a:lnTo>
                    <a:lnTo>
                      <a:pt x="50" y="100"/>
                    </a:lnTo>
                    <a:lnTo>
                      <a:pt x="53" y="97"/>
                    </a:lnTo>
                    <a:lnTo>
                      <a:pt x="55" y="92"/>
                    </a:lnTo>
                    <a:lnTo>
                      <a:pt x="57" y="89"/>
                    </a:lnTo>
                    <a:lnTo>
                      <a:pt x="60" y="86"/>
                    </a:lnTo>
                    <a:lnTo>
                      <a:pt x="63" y="83"/>
                    </a:lnTo>
                    <a:lnTo>
                      <a:pt x="71" y="78"/>
                    </a:lnTo>
                    <a:lnTo>
                      <a:pt x="78" y="71"/>
                    </a:lnTo>
                    <a:lnTo>
                      <a:pt x="85" y="65"/>
                    </a:lnTo>
                    <a:lnTo>
                      <a:pt x="90" y="60"/>
                    </a:lnTo>
                    <a:lnTo>
                      <a:pt x="96" y="53"/>
                    </a:lnTo>
                    <a:lnTo>
                      <a:pt x="103" y="47"/>
                    </a:lnTo>
                    <a:lnTo>
                      <a:pt x="108" y="41"/>
                    </a:lnTo>
                    <a:lnTo>
                      <a:pt x="114" y="33"/>
                    </a:lnTo>
                    <a:lnTo>
                      <a:pt x="106" y="46"/>
                    </a:lnTo>
                    <a:lnTo>
                      <a:pt x="97" y="57"/>
                    </a:lnTo>
                    <a:lnTo>
                      <a:pt x="89" y="68"/>
                    </a:lnTo>
                    <a:lnTo>
                      <a:pt x="79" y="79"/>
                    </a:lnTo>
                    <a:lnTo>
                      <a:pt x="71" y="88"/>
                    </a:lnTo>
                    <a:lnTo>
                      <a:pt x="62" y="99"/>
                    </a:lnTo>
                    <a:lnTo>
                      <a:pt x="53" y="110"/>
                    </a:lnTo>
                    <a:lnTo>
                      <a:pt x="43" y="122"/>
                    </a:lnTo>
                    <a:lnTo>
                      <a:pt x="45" y="124"/>
                    </a:lnTo>
                    <a:lnTo>
                      <a:pt x="55" y="116"/>
                    </a:lnTo>
                    <a:lnTo>
                      <a:pt x="63" y="108"/>
                    </a:lnTo>
                    <a:lnTo>
                      <a:pt x="71" y="100"/>
                    </a:lnTo>
                    <a:lnTo>
                      <a:pt x="78" y="92"/>
                    </a:lnTo>
                    <a:lnTo>
                      <a:pt x="86" y="84"/>
                    </a:lnTo>
                    <a:lnTo>
                      <a:pt x="92" y="77"/>
                    </a:lnTo>
                    <a:lnTo>
                      <a:pt x="99" y="68"/>
                    </a:lnTo>
                    <a:lnTo>
                      <a:pt x="106" y="59"/>
                    </a:lnTo>
                    <a:lnTo>
                      <a:pt x="106" y="62"/>
                    </a:lnTo>
                    <a:lnTo>
                      <a:pt x="104" y="66"/>
                    </a:lnTo>
                    <a:lnTo>
                      <a:pt x="101" y="69"/>
                    </a:lnTo>
                    <a:lnTo>
                      <a:pt x="97" y="72"/>
                    </a:lnTo>
                    <a:lnTo>
                      <a:pt x="95" y="77"/>
                    </a:lnTo>
                    <a:lnTo>
                      <a:pt x="93" y="81"/>
                    </a:lnTo>
                    <a:lnTo>
                      <a:pt x="93" y="85"/>
                    </a:lnTo>
                    <a:lnTo>
                      <a:pt x="94" y="89"/>
                    </a:lnTo>
                    <a:lnTo>
                      <a:pt x="88" y="96"/>
                    </a:lnTo>
                    <a:lnTo>
                      <a:pt x="81" y="102"/>
                    </a:lnTo>
                    <a:lnTo>
                      <a:pt x="75" y="109"/>
                    </a:lnTo>
                    <a:lnTo>
                      <a:pt x="69" y="116"/>
                    </a:lnTo>
                    <a:lnTo>
                      <a:pt x="62" y="123"/>
                    </a:lnTo>
                    <a:lnTo>
                      <a:pt x="57" y="129"/>
                    </a:lnTo>
                    <a:lnTo>
                      <a:pt x="52" y="135"/>
                    </a:lnTo>
                    <a:lnTo>
                      <a:pt x="48" y="140"/>
                    </a:lnTo>
                    <a:lnTo>
                      <a:pt x="52" y="144"/>
                    </a:lnTo>
                    <a:lnTo>
                      <a:pt x="58" y="137"/>
                    </a:lnTo>
                    <a:lnTo>
                      <a:pt x="65" y="130"/>
                    </a:lnTo>
                    <a:lnTo>
                      <a:pt x="70" y="124"/>
                    </a:lnTo>
                    <a:lnTo>
                      <a:pt x="75" y="118"/>
                    </a:lnTo>
                    <a:lnTo>
                      <a:pt x="80" y="111"/>
                    </a:lnTo>
                    <a:lnTo>
                      <a:pt x="86" y="105"/>
                    </a:lnTo>
                    <a:lnTo>
                      <a:pt x="93" y="99"/>
                    </a:lnTo>
                    <a:lnTo>
                      <a:pt x="101" y="91"/>
                    </a:lnTo>
                    <a:lnTo>
                      <a:pt x="101" y="94"/>
                    </a:lnTo>
                    <a:lnTo>
                      <a:pt x="101" y="97"/>
                    </a:lnTo>
                    <a:lnTo>
                      <a:pt x="103" y="98"/>
                    </a:lnTo>
                    <a:lnTo>
                      <a:pt x="105" y="98"/>
                    </a:lnTo>
                    <a:lnTo>
                      <a:pt x="107" y="98"/>
                    </a:lnTo>
                    <a:lnTo>
                      <a:pt x="110" y="98"/>
                    </a:lnTo>
                    <a:lnTo>
                      <a:pt x="112" y="99"/>
                    </a:lnTo>
                    <a:lnTo>
                      <a:pt x="114" y="100"/>
                    </a:lnTo>
                    <a:lnTo>
                      <a:pt x="115" y="102"/>
                    </a:lnTo>
                    <a:lnTo>
                      <a:pt x="115" y="104"/>
                    </a:lnTo>
                    <a:lnTo>
                      <a:pt x="114" y="106"/>
                    </a:lnTo>
                    <a:lnTo>
                      <a:pt x="112" y="107"/>
                    </a:lnTo>
                    <a:lnTo>
                      <a:pt x="111" y="109"/>
                    </a:lnTo>
                    <a:lnTo>
                      <a:pt x="109" y="111"/>
                    </a:lnTo>
                    <a:lnTo>
                      <a:pt x="107" y="114"/>
                    </a:lnTo>
                    <a:lnTo>
                      <a:pt x="106" y="116"/>
                    </a:lnTo>
                    <a:lnTo>
                      <a:pt x="109" y="118"/>
                    </a:lnTo>
                    <a:lnTo>
                      <a:pt x="130" y="98"/>
                    </a:lnTo>
                    <a:lnTo>
                      <a:pt x="126" y="107"/>
                    </a:lnTo>
                    <a:lnTo>
                      <a:pt x="121" y="116"/>
                    </a:lnTo>
                    <a:lnTo>
                      <a:pt x="114" y="124"/>
                    </a:lnTo>
                    <a:lnTo>
                      <a:pt x="107" y="133"/>
                    </a:lnTo>
                    <a:lnTo>
                      <a:pt x="101" y="140"/>
                    </a:lnTo>
                    <a:lnTo>
                      <a:pt x="92" y="148"/>
                    </a:lnTo>
                    <a:lnTo>
                      <a:pt x="85" y="156"/>
                    </a:lnTo>
                    <a:lnTo>
                      <a:pt x="76" y="164"/>
                    </a:lnTo>
                    <a:lnTo>
                      <a:pt x="76" y="165"/>
                    </a:lnTo>
                    <a:lnTo>
                      <a:pt x="76" y="167"/>
                    </a:lnTo>
                    <a:lnTo>
                      <a:pt x="76" y="169"/>
                    </a:lnTo>
                    <a:lnTo>
                      <a:pt x="76" y="171"/>
                    </a:lnTo>
                    <a:lnTo>
                      <a:pt x="76" y="172"/>
                    </a:lnTo>
                    <a:lnTo>
                      <a:pt x="76" y="174"/>
                    </a:lnTo>
                    <a:lnTo>
                      <a:pt x="77" y="175"/>
                    </a:lnTo>
                    <a:lnTo>
                      <a:pt x="78" y="176"/>
                    </a:lnTo>
                    <a:lnTo>
                      <a:pt x="87" y="167"/>
                    </a:lnTo>
                    <a:lnTo>
                      <a:pt x="96" y="158"/>
                    </a:lnTo>
                    <a:lnTo>
                      <a:pt x="106" y="148"/>
                    </a:lnTo>
                    <a:lnTo>
                      <a:pt x="116" y="139"/>
                    </a:lnTo>
                    <a:lnTo>
                      <a:pt x="126" y="129"/>
                    </a:lnTo>
                    <a:lnTo>
                      <a:pt x="136" y="120"/>
                    </a:lnTo>
                    <a:lnTo>
                      <a:pt x="147" y="111"/>
                    </a:lnTo>
                    <a:lnTo>
                      <a:pt x="157" y="102"/>
                    </a:lnTo>
                    <a:lnTo>
                      <a:pt x="151" y="109"/>
                    </a:lnTo>
                    <a:lnTo>
                      <a:pt x="146" y="117"/>
                    </a:lnTo>
                    <a:lnTo>
                      <a:pt x="141" y="124"/>
                    </a:lnTo>
                    <a:lnTo>
                      <a:pt x="134" y="130"/>
                    </a:lnTo>
                    <a:lnTo>
                      <a:pt x="129" y="138"/>
                    </a:lnTo>
                    <a:lnTo>
                      <a:pt x="123" y="145"/>
                    </a:lnTo>
                    <a:lnTo>
                      <a:pt x="115" y="153"/>
                    </a:lnTo>
                    <a:lnTo>
                      <a:pt x="109" y="160"/>
                    </a:lnTo>
                    <a:lnTo>
                      <a:pt x="116" y="157"/>
                    </a:lnTo>
                    <a:lnTo>
                      <a:pt x="125" y="153"/>
                    </a:lnTo>
                    <a:lnTo>
                      <a:pt x="131" y="147"/>
                    </a:lnTo>
                    <a:lnTo>
                      <a:pt x="139" y="141"/>
                    </a:lnTo>
                    <a:lnTo>
                      <a:pt x="146" y="135"/>
                    </a:lnTo>
                    <a:lnTo>
                      <a:pt x="152" y="128"/>
                    </a:lnTo>
                    <a:lnTo>
                      <a:pt x="160" y="122"/>
                    </a:lnTo>
                    <a:lnTo>
                      <a:pt x="167" y="116"/>
                    </a:lnTo>
                    <a:lnTo>
                      <a:pt x="167" y="114"/>
                    </a:lnTo>
                    <a:lnTo>
                      <a:pt x="170" y="114"/>
                    </a:lnTo>
                    <a:lnTo>
                      <a:pt x="169" y="119"/>
                    </a:lnTo>
                    <a:lnTo>
                      <a:pt x="166" y="124"/>
                    </a:lnTo>
                    <a:lnTo>
                      <a:pt x="163" y="128"/>
                    </a:lnTo>
                    <a:lnTo>
                      <a:pt x="160" y="134"/>
                    </a:lnTo>
                    <a:lnTo>
                      <a:pt x="151" y="141"/>
                    </a:lnTo>
                    <a:lnTo>
                      <a:pt x="143" y="148"/>
                    </a:lnTo>
                    <a:lnTo>
                      <a:pt x="133" y="155"/>
                    </a:lnTo>
                    <a:lnTo>
                      <a:pt x="126" y="163"/>
                    </a:lnTo>
                    <a:lnTo>
                      <a:pt x="123" y="167"/>
                    </a:lnTo>
                    <a:lnTo>
                      <a:pt x="121" y="172"/>
                    </a:lnTo>
                    <a:lnTo>
                      <a:pt x="120" y="177"/>
                    </a:lnTo>
                    <a:lnTo>
                      <a:pt x="118" y="182"/>
                    </a:lnTo>
                    <a:lnTo>
                      <a:pt x="189" y="122"/>
                    </a:lnTo>
                    <a:lnTo>
                      <a:pt x="186" y="127"/>
                    </a:lnTo>
                    <a:lnTo>
                      <a:pt x="182" y="134"/>
                    </a:lnTo>
                    <a:lnTo>
                      <a:pt x="178" y="139"/>
                    </a:lnTo>
                    <a:lnTo>
                      <a:pt x="174" y="144"/>
                    </a:lnTo>
                    <a:lnTo>
                      <a:pt x="163" y="154"/>
                    </a:lnTo>
                    <a:lnTo>
                      <a:pt x="152" y="162"/>
                    </a:lnTo>
                    <a:lnTo>
                      <a:pt x="141" y="172"/>
                    </a:lnTo>
                    <a:lnTo>
                      <a:pt x="130" y="180"/>
                    </a:lnTo>
                    <a:lnTo>
                      <a:pt x="121" y="191"/>
                    </a:lnTo>
                    <a:lnTo>
                      <a:pt x="112" y="202"/>
                    </a:lnTo>
                    <a:lnTo>
                      <a:pt x="114" y="204"/>
                    </a:lnTo>
                    <a:lnTo>
                      <a:pt x="125" y="197"/>
                    </a:lnTo>
                    <a:lnTo>
                      <a:pt x="134" y="189"/>
                    </a:lnTo>
                    <a:lnTo>
                      <a:pt x="145" y="181"/>
                    </a:lnTo>
                    <a:lnTo>
                      <a:pt x="156" y="173"/>
                    </a:lnTo>
                    <a:lnTo>
                      <a:pt x="165" y="165"/>
                    </a:lnTo>
                    <a:lnTo>
                      <a:pt x="176" y="157"/>
                    </a:lnTo>
                    <a:lnTo>
                      <a:pt x="185" y="149"/>
                    </a:lnTo>
                    <a:lnTo>
                      <a:pt x="195" y="142"/>
                    </a:lnTo>
                    <a:lnTo>
                      <a:pt x="194" y="145"/>
                    </a:lnTo>
                    <a:lnTo>
                      <a:pt x="193" y="148"/>
                    </a:lnTo>
                    <a:lnTo>
                      <a:pt x="189" y="151"/>
                    </a:lnTo>
                    <a:lnTo>
                      <a:pt x="187" y="154"/>
                    </a:lnTo>
                    <a:lnTo>
                      <a:pt x="184" y="155"/>
                    </a:lnTo>
                    <a:lnTo>
                      <a:pt x="181" y="157"/>
                    </a:lnTo>
                    <a:lnTo>
                      <a:pt x="179" y="160"/>
                    </a:lnTo>
                    <a:lnTo>
                      <a:pt x="177" y="162"/>
                    </a:lnTo>
                    <a:lnTo>
                      <a:pt x="166" y="170"/>
                    </a:lnTo>
                    <a:lnTo>
                      <a:pt x="158" y="178"/>
                    </a:lnTo>
                    <a:lnTo>
                      <a:pt x="148" y="187"/>
                    </a:lnTo>
                    <a:lnTo>
                      <a:pt x="140" y="196"/>
                    </a:lnTo>
                    <a:lnTo>
                      <a:pt x="131" y="204"/>
                    </a:lnTo>
                    <a:lnTo>
                      <a:pt x="122" y="212"/>
                    </a:lnTo>
                    <a:lnTo>
                      <a:pt x="116" y="216"/>
                    </a:lnTo>
                    <a:lnTo>
                      <a:pt x="111" y="219"/>
                    </a:lnTo>
                    <a:lnTo>
                      <a:pt x="105" y="222"/>
                    </a:lnTo>
                    <a:lnTo>
                      <a:pt x="98" y="225"/>
                    </a:lnTo>
                    <a:lnTo>
                      <a:pt x="97" y="222"/>
                    </a:lnTo>
                    <a:lnTo>
                      <a:pt x="98" y="221"/>
                    </a:lnTo>
                    <a:lnTo>
                      <a:pt x="98" y="220"/>
                    </a:lnTo>
                    <a:lnTo>
                      <a:pt x="99" y="219"/>
                    </a:lnTo>
                    <a:lnTo>
                      <a:pt x="101" y="218"/>
                    </a:lnTo>
                    <a:lnTo>
                      <a:pt x="101" y="217"/>
                    </a:lnTo>
                    <a:lnTo>
                      <a:pt x="101" y="216"/>
                    </a:lnTo>
                    <a:lnTo>
                      <a:pt x="98" y="215"/>
                    </a:lnTo>
                    <a:lnTo>
                      <a:pt x="96" y="216"/>
                    </a:lnTo>
                    <a:lnTo>
                      <a:pt x="95" y="217"/>
                    </a:lnTo>
                    <a:lnTo>
                      <a:pt x="93" y="217"/>
                    </a:lnTo>
                    <a:lnTo>
                      <a:pt x="92" y="217"/>
                    </a:lnTo>
                    <a:lnTo>
                      <a:pt x="90" y="218"/>
                    </a:lnTo>
                    <a:lnTo>
                      <a:pt x="88" y="217"/>
                    </a:lnTo>
                    <a:lnTo>
                      <a:pt x="86" y="217"/>
                    </a:lnTo>
                    <a:lnTo>
                      <a:pt x="85" y="216"/>
                    </a:lnTo>
                    <a:lnTo>
                      <a:pt x="88" y="210"/>
                    </a:lnTo>
                    <a:lnTo>
                      <a:pt x="92" y="204"/>
                    </a:lnTo>
                    <a:lnTo>
                      <a:pt x="97" y="200"/>
                    </a:lnTo>
                    <a:lnTo>
                      <a:pt x="103" y="195"/>
                    </a:lnTo>
                    <a:lnTo>
                      <a:pt x="107" y="190"/>
                    </a:lnTo>
                    <a:lnTo>
                      <a:pt x="111" y="185"/>
                    </a:lnTo>
                    <a:lnTo>
                      <a:pt x="112" y="182"/>
                    </a:lnTo>
                    <a:lnTo>
                      <a:pt x="112" y="179"/>
                    </a:lnTo>
                    <a:lnTo>
                      <a:pt x="113" y="176"/>
                    </a:lnTo>
                    <a:lnTo>
                      <a:pt x="112" y="173"/>
                    </a:lnTo>
                    <a:lnTo>
                      <a:pt x="108" y="176"/>
                    </a:lnTo>
                    <a:lnTo>
                      <a:pt x="104" y="180"/>
                    </a:lnTo>
                    <a:lnTo>
                      <a:pt x="101" y="184"/>
                    </a:lnTo>
                    <a:lnTo>
                      <a:pt x="96" y="190"/>
                    </a:lnTo>
                    <a:lnTo>
                      <a:pt x="92" y="194"/>
                    </a:lnTo>
                    <a:lnTo>
                      <a:pt x="88" y="198"/>
                    </a:lnTo>
                    <a:lnTo>
                      <a:pt x="83" y="201"/>
                    </a:lnTo>
                    <a:lnTo>
                      <a:pt x="76" y="202"/>
                    </a:lnTo>
                    <a:lnTo>
                      <a:pt x="72" y="198"/>
                    </a:lnTo>
                    <a:lnTo>
                      <a:pt x="74" y="196"/>
                    </a:lnTo>
                    <a:lnTo>
                      <a:pt x="73" y="195"/>
                    </a:lnTo>
                    <a:lnTo>
                      <a:pt x="72" y="193"/>
                    </a:lnTo>
                    <a:lnTo>
                      <a:pt x="71" y="192"/>
                    </a:lnTo>
                    <a:lnTo>
                      <a:pt x="70" y="191"/>
                    </a:lnTo>
                    <a:lnTo>
                      <a:pt x="69" y="190"/>
                    </a:lnTo>
                    <a:lnTo>
                      <a:pt x="68" y="188"/>
                    </a:lnTo>
                    <a:lnTo>
                      <a:pt x="66" y="187"/>
                    </a:lnTo>
                    <a:lnTo>
                      <a:pt x="63" y="184"/>
                    </a:lnTo>
                    <a:lnTo>
                      <a:pt x="61" y="188"/>
                    </a:lnTo>
                    <a:lnTo>
                      <a:pt x="58" y="191"/>
                    </a:lnTo>
                    <a:lnTo>
                      <a:pt x="56" y="192"/>
                    </a:lnTo>
                    <a:lnTo>
                      <a:pt x="53" y="192"/>
                    </a:lnTo>
                    <a:lnTo>
                      <a:pt x="49" y="190"/>
                    </a:lnTo>
                    <a:lnTo>
                      <a:pt x="44" y="185"/>
                    </a:lnTo>
                    <a:lnTo>
                      <a:pt x="40" y="181"/>
                    </a:lnTo>
                    <a:lnTo>
                      <a:pt x="36" y="176"/>
                    </a:lnTo>
                    <a:lnTo>
                      <a:pt x="33" y="175"/>
                    </a:lnTo>
                    <a:lnTo>
                      <a:pt x="31" y="174"/>
                    </a:lnTo>
                    <a:lnTo>
                      <a:pt x="27" y="174"/>
                    </a:lnTo>
                    <a:lnTo>
                      <a:pt x="23" y="174"/>
                    </a:lnTo>
                    <a:lnTo>
                      <a:pt x="18" y="170"/>
                    </a:lnTo>
                    <a:lnTo>
                      <a:pt x="13" y="164"/>
                    </a:lnTo>
                    <a:lnTo>
                      <a:pt x="10" y="159"/>
                    </a:lnTo>
                    <a:lnTo>
                      <a:pt x="6" y="153"/>
                    </a:lnTo>
                    <a:lnTo>
                      <a:pt x="4" y="146"/>
                    </a:lnTo>
                    <a:lnTo>
                      <a:pt x="2" y="140"/>
                    </a:lnTo>
                    <a:lnTo>
                      <a:pt x="1" y="133"/>
                    </a:lnTo>
                    <a:lnTo>
                      <a:pt x="0" y="125"/>
                    </a:lnTo>
                    <a:lnTo>
                      <a:pt x="0" y="114"/>
                    </a:lnTo>
                    <a:lnTo>
                      <a:pt x="1" y="103"/>
                    </a:lnTo>
                    <a:lnTo>
                      <a:pt x="4" y="91"/>
                    </a:lnTo>
                    <a:lnTo>
                      <a:pt x="8" y="82"/>
                    </a:lnTo>
                    <a:lnTo>
                      <a:pt x="14" y="72"/>
                    </a:lnTo>
                    <a:lnTo>
                      <a:pt x="20" y="63"/>
                    </a:lnTo>
                    <a:lnTo>
                      <a:pt x="26" y="53"/>
                    </a:lnTo>
                    <a:lnTo>
                      <a:pt x="34" y="45"/>
                    </a:lnTo>
                    <a:lnTo>
                      <a:pt x="36" y="47"/>
                    </a:lnTo>
                    <a:lnTo>
                      <a:pt x="41" y="39"/>
                    </a:lnTo>
                    <a:lnTo>
                      <a:pt x="47" y="33"/>
                    </a:lnTo>
                    <a:lnTo>
                      <a:pt x="53" y="28"/>
                    </a:lnTo>
                    <a:lnTo>
                      <a:pt x="60" y="24"/>
                    </a:lnTo>
                    <a:lnTo>
                      <a:pt x="67" y="18"/>
                    </a:lnTo>
                    <a:lnTo>
                      <a:pt x="73" y="13"/>
                    </a:lnTo>
                    <a:lnTo>
                      <a:pt x="78" y="8"/>
                    </a:lnTo>
                    <a:lnTo>
                      <a:pt x="85" y="0"/>
                    </a:lnTo>
                    <a:lnTo>
                      <a:pt x="77" y="8"/>
                    </a:lnTo>
                    <a:lnTo>
                      <a:pt x="71" y="15"/>
                    </a:lnTo>
                    <a:lnTo>
                      <a:pt x="65" y="24"/>
                    </a:lnTo>
                    <a:lnTo>
                      <a:pt x="58" y="31"/>
                    </a:lnTo>
                    <a:lnTo>
                      <a:pt x="53" y="39"/>
                    </a:lnTo>
                    <a:lnTo>
                      <a:pt x="48" y="48"/>
                    </a:lnTo>
                    <a:lnTo>
                      <a:pt x="43" y="56"/>
                    </a:lnTo>
                    <a:lnTo>
                      <a:pt x="39" y="6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7259400" y="6228000"/>
                <a:ext cx="58680" cy="66600"/>
              </a:xfrm>
              <a:custGeom>
                <a:avLst/>
                <a:gdLst/>
                <a:ahLst/>
                <a:rect l="l" t="t" r="r" b="b"/>
                <a:pathLst>
                  <a:path w="111" h="125">
                    <a:moveTo>
                      <a:pt x="109" y="0"/>
                    </a:moveTo>
                    <a:lnTo>
                      <a:pt x="104" y="9"/>
                    </a:lnTo>
                    <a:lnTo>
                      <a:pt x="97" y="16"/>
                    </a:lnTo>
                    <a:lnTo>
                      <a:pt x="90" y="22"/>
                    </a:lnTo>
                    <a:lnTo>
                      <a:pt x="81" y="29"/>
                    </a:lnTo>
                    <a:lnTo>
                      <a:pt x="74" y="35"/>
                    </a:lnTo>
                    <a:lnTo>
                      <a:pt x="67" y="42"/>
                    </a:lnTo>
                    <a:lnTo>
                      <a:pt x="60" y="50"/>
                    </a:lnTo>
                    <a:lnTo>
                      <a:pt x="55" y="58"/>
                    </a:lnTo>
                    <a:lnTo>
                      <a:pt x="57" y="60"/>
                    </a:lnTo>
                    <a:lnTo>
                      <a:pt x="89" y="36"/>
                    </a:lnTo>
                    <a:lnTo>
                      <a:pt x="62" y="63"/>
                    </a:lnTo>
                    <a:lnTo>
                      <a:pt x="64" y="65"/>
                    </a:lnTo>
                    <a:lnTo>
                      <a:pt x="66" y="66"/>
                    </a:lnTo>
                    <a:lnTo>
                      <a:pt x="64" y="67"/>
                    </a:lnTo>
                    <a:lnTo>
                      <a:pt x="63" y="68"/>
                    </a:lnTo>
                    <a:lnTo>
                      <a:pt x="61" y="70"/>
                    </a:lnTo>
                    <a:lnTo>
                      <a:pt x="60" y="71"/>
                    </a:lnTo>
                    <a:lnTo>
                      <a:pt x="59" y="73"/>
                    </a:lnTo>
                    <a:lnTo>
                      <a:pt x="59" y="74"/>
                    </a:lnTo>
                    <a:lnTo>
                      <a:pt x="61" y="76"/>
                    </a:lnTo>
                    <a:lnTo>
                      <a:pt x="111" y="38"/>
                    </a:lnTo>
                    <a:lnTo>
                      <a:pt x="99" y="51"/>
                    </a:lnTo>
                    <a:lnTo>
                      <a:pt x="88" y="62"/>
                    </a:lnTo>
                    <a:lnTo>
                      <a:pt x="74" y="72"/>
                    </a:lnTo>
                    <a:lnTo>
                      <a:pt x="61" y="83"/>
                    </a:lnTo>
                    <a:lnTo>
                      <a:pt x="48" y="93"/>
                    </a:lnTo>
                    <a:lnTo>
                      <a:pt x="34" y="104"/>
                    </a:lnTo>
                    <a:lnTo>
                      <a:pt x="21" y="114"/>
                    </a:lnTo>
                    <a:lnTo>
                      <a:pt x="8" y="125"/>
                    </a:lnTo>
                    <a:lnTo>
                      <a:pt x="0" y="125"/>
                    </a:lnTo>
                    <a:lnTo>
                      <a:pt x="5" y="122"/>
                    </a:lnTo>
                    <a:lnTo>
                      <a:pt x="9" y="120"/>
                    </a:lnTo>
                    <a:lnTo>
                      <a:pt x="13" y="115"/>
                    </a:lnTo>
                    <a:lnTo>
                      <a:pt x="16" y="112"/>
                    </a:lnTo>
                    <a:lnTo>
                      <a:pt x="20" y="105"/>
                    </a:lnTo>
                    <a:lnTo>
                      <a:pt x="23" y="97"/>
                    </a:lnTo>
                    <a:lnTo>
                      <a:pt x="26" y="90"/>
                    </a:lnTo>
                    <a:lnTo>
                      <a:pt x="32" y="82"/>
                    </a:lnTo>
                    <a:lnTo>
                      <a:pt x="34" y="78"/>
                    </a:lnTo>
                    <a:lnTo>
                      <a:pt x="38" y="75"/>
                    </a:lnTo>
                    <a:lnTo>
                      <a:pt x="42" y="72"/>
                    </a:lnTo>
                    <a:lnTo>
                      <a:pt x="46" y="69"/>
                    </a:lnTo>
                    <a:lnTo>
                      <a:pt x="38" y="65"/>
                    </a:lnTo>
                    <a:lnTo>
                      <a:pt x="45" y="55"/>
                    </a:lnTo>
                    <a:lnTo>
                      <a:pt x="54" y="47"/>
                    </a:lnTo>
                    <a:lnTo>
                      <a:pt x="62" y="39"/>
                    </a:lnTo>
                    <a:lnTo>
                      <a:pt x="72" y="31"/>
                    </a:lnTo>
                    <a:lnTo>
                      <a:pt x="81" y="23"/>
                    </a:lnTo>
                    <a:lnTo>
                      <a:pt x="91" y="16"/>
                    </a:lnTo>
                    <a:lnTo>
                      <a:pt x="100" y="9"/>
                    </a:lnTo>
                    <a:lnTo>
                      <a:pt x="109" y="0"/>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796" name=""/>
              <p:cNvSpPr/>
              <p:nvPr/>
            </p:nvSpPr>
            <p:spPr>
              <a:xfrm>
                <a:off x="7272000" y="6266160"/>
                <a:ext cx="34920" cy="36360"/>
              </a:xfrm>
              <a:custGeom>
                <a:avLst/>
                <a:gdLst/>
                <a:ahLst/>
                <a:rect l="l" t="t" r="r" b="b"/>
                <a:pathLst>
                  <a:path w="67" h="69">
                    <a:moveTo>
                      <a:pt x="67" y="6"/>
                    </a:moveTo>
                    <a:lnTo>
                      <a:pt x="59" y="15"/>
                    </a:lnTo>
                    <a:lnTo>
                      <a:pt x="52" y="23"/>
                    </a:lnTo>
                    <a:lnTo>
                      <a:pt x="44" y="32"/>
                    </a:lnTo>
                    <a:lnTo>
                      <a:pt x="36" y="40"/>
                    </a:lnTo>
                    <a:lnTo>
                      <a:pt x="28" y="48"/>
                    </a:lnTo>
                    <a:lnTo>
                      <a:pt x="20" y="55"/>
                    </a:lnTo>
                    <a:lnTo>
                      <a:pt x="12" y="63"/>
                    </a:lnTo>
                    <a:lnTo>
                      <a:pt x="4" y="69"/>
                    </a:lnTo>
                    <a:lnTo>
                      <a:pt x="0" y="66"/>
                    </a:lnTo>
                    <a:lnTo>
                      <a:pt x="9" y="57"/>
                    </a:lnTo>
                    <a:lnTo>
                      <a:pt x="17" y="49"/>
                    </a:lnTo>
                    <a:lnTo>
                      <a:pt x="27" y="41"/>
                    </a:lnTo>
                    <a:lnTo>
                      <a:pt x="36" y="34"/>
                    </a:lnTo>
                    <a:lnTo>
                      <a:pt x="46" y="27"/>
                    </a:lnTo>
                    <a:lnTo>
                      <a:pt x="54" y="18"/>
                    </a:lnTo>
                    <a:lnTo>
                      <a:pt x="62" y="10"/>
                    </a:lnTo>
                    <a:lnTo>
                      <a:pt x="67" y="0"/>
                    </a:lnTo>
                    <a:lnTo>
                      <a:pt x="67" y="6"/>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97" name=""/>
              <p:cNvSpPr/>
              <p:nvPr/>
            </p:nvSpPr>
            <p:spPr>
              <a:xfrm>
                <a:off x="6151320" y="5516640"/>
                <a:ext cx="701640" cy="425520"/>
              </a:xfrm>
              <a:custGeom>
                <a:avLst/>
                <a:gdLst/>
                <a:ahLst/>
                <a:rect l="l" t="t" r="r" b="b"/>
                <a:pathLst>
                  <a:path w="1324" h="804">
                    <a:moveTo>
                      <a:pt x="36" y="311"/>
                    </a:moveTo>
                    <a:lnTo>
                      <a:pt x="43" y="304"/>
                    </a:lnTo>
                    <a:lnTo>
                      <a:pt x="51" y="298"/>
                    </a:lnTo>
                    <a:lnTo>
                      <a:pt x="58" y="290"/>
                    </a:lnTo>
                    <a:lnTo>
                      <a:pt x="67" y="282"/>
                    </a:lnTo>
                    <a:lnTo>
                      <a:pt x="75" y="275"/>
                    </a:lnTo>
                    <a:lnTo>
                      <a:pt x="83" y="268"/>
                    </a:lnTo>
                    <a:lnTo>
                      <a:pt x="90" y="263"/>
                    </a:lnTo>
                    <a:lnTo>
                      <a:pt x="97" y="259"/>
                    </a:lnTo>
                    <a:lnTo>
                      <a:pt x="97" y="264"/>
                    </a:lnTo>
                    <a:lnTo>
                      <a:pt x="99" y="268"/>
                    </a:lnTo>
                    <a:lnTo>
                      <a:pt x="102" y="271"/>
                    </a:lnTo>
                    <a:lnTo>
                      <a:pt x="104" y="272"/>
                    </a:lnTo>
                    <a:lnTo>
                      <a:pt x="107" y="272"/>
                    </a:lnTo>
                    <a:lnTo>
                      <a:pt x="111" y="271"/>
                    </a:lnTo>
                    <a:lnTo>
                      <a:pt x="114" y="268"/>
                    </a:lnTo>
                    <a:lnTo>
                      <a:pt x="118" y="265"/>
                    </a:lnTo>
                    <a:lnTo>
                      <a:pt x="127" y="259"/>
                    </a:lnTo>
                    <a:lnTo>
                      <a:pt x="135" y="251"/>
                    </a:lnTo>
                    <a:lnTo>
                      <a:pt x="143" y="244"/>
                    </a:lnTo>
                    <a:lnTo>
                      <a:pt x="147" y="239"/>
                    </a:lnTo>
                    <a:lnTo>
                      <a:pt x="148" y="240"/>
                    </a:lnTo>
                    <a:lnTo>
                      <a:pt x="149" y="242"/>
                    </a:lnTo>
                    <a:lnTo>
                      <a:pt x="150" y="244"/>
                    </a:lnTo>
                    <a:lnTo>
                      <a:pt x="152" y="246"/>
                    </a:lnTo>
                    <a:lnTo>
                      <a:pt x="154" y="248"/>
                    </a:lnTo>
                    <a:lnTo>
                      <a:pt x="156" y="249"/>
                    </a:lnTo>
                    <a:lnTo>
                      <a:pt x="157" y="252"/>
                    </a:lnTo>
                    <a:lnTo>
                      <a:pt x="158" y="254"/>
                    </a:lnTo>
                    <a:lnTo>
                      <a:pt x="163" y="248"/>
                    </a:lnTo>
                    <a:lnTo>
                      <a:pt x="176" y="240"/>
                    </a:lnTo>
                    <a:lnTo>
                      <a:pt x="195" y="227"/>
                    </a:lnTo>
                    <a:lnTo>
                      <a:pt x="217" y="215"/>
                    </a:lnTo>
                    <a:lnTo>
                      <a:pt x="240" y="201"/>
                    </a:lnTo>
                    <a:lnTo>
                      <a:pt x="261" y="189"/>
                    </a:lnTo>
                    <a:lnTo>
                      <a:pt x="277" y="182"/>
                    </a:lnTo>
                    <a:lnTo>
                      <a:pt x="288" y="179"/>
                    </a:lnTo>
                    <a:lnTo>
                      <a:pt x="293" y="173"/>
                    </a:lnTo>
                    <a:lnTo>
                      <a:pt x="297" y="168"/>
                    </a:lnTo>
                    <a:lnTo>
                      <a:pt x="297" y="164"/>
                    </a:lnTo>
                    <a:lnTo>
                      <a:pt x="297" y="158"/>
                    </a:lnTo>
                    <a:lnTo>
                      <a:pt x="300" y="158"/>
                    </a:lnTo>
                    <a:lnTo>
                      <a:pt x="302" y="157"/>
                    </a:lnTo>
                    <a:lnTo>
                      <a:pt x="303" y="157"/>
                    </a:lnTo>
                    <a:lnTo>
                      <a:pt x="303" y="156"/>
                    </a:lnTo>
                    <a:lnTo>
                      <a:pt x="303" y="155"/>
                    </a:lnTo>
                    <a:lnTo>
                      <a:pt x="304" y="154"/>
                    </a:lnTo>
                    <a:lnTo>
                      <a:pt x="305" y="154"/>
                    </a:lnTo>
                    <a:lnTo>
                      <a:pt x="308" y="153"/>
                    </a:lnTo>
                    <a:lnTo>
                      <a:pt x="308" y="144"/>
                    </a:lnTo>
                    <a:lnTo>
                      <a:pt x="312" y="144"/>
                    </a:lnTo>
                    <a:lnTo>
                      <a:pt x="312" y="137"/>
                    </a:lnTo>
                    <a:lnTo>
                      <a:pt x="302" y="139"/>
                    </a:lnTo>
                    <a:lnTo>
                      <a:pt x="291" y="143"/>
                    </a:lnTo>
                    <a:lnTo>
                      <a:pt x="281" y="146"/>
                    </a:lnTo>
                    <a:lnTo>
                      <a:pt x="271" y="149"/>
                    </a:lnTo>
                    <a:lnTo>
                      <a:pt x="261" y="152"/>
                    </a:lnTo>
                    <a:lnTo>
                      <a:pt x="252" y="155"/>
                    </a:lnTo>
                    <a:lnTo>
                      <a:pt x="241" y="157"/>
                    </a:lnTo>
                    <a:lnTo>
                      <a:pt x="231" y="160"/>
                    </a:lnTo>
                    <a:lnTo>
                      <a:pt x="220" y="164"/>
                    </a:lnTo>
                    <a:lnTo>
                      <a:pt x="209" y="168"/>
                    </a:lnTo>
                    <a:lnTo>
                      <a:pt x="198" y="173"/>
                    </a:lnTo>
                    <a:lnTo>
                      <a:pt x="187" y="178"/>
                    </a:lnTo>
                    <a:lnTo>
                      <a:pt x="177" y="182"/>
                    </a:lnTo>
                    <a:lnTo>
                      <a:pt x="166" y="187"/>
                    </a:lnTo>
                    <a:lnTo>
                      <a:pt x="156" y="192"/>
                    </a:lnTo>
                    <a:lnTo>
                      <a:pt x="146" y="198"/>
                    </a:lnTo>
                    <a:lnTo>
                      <a:pt x="126" y="203"/>
                    </a:lnTo>
                    <a:lnTo>
                      <a:pt x="107" y="209"/>
                    </a:lnTo>
                    <a:lnTo>
                      <a:pt x="89" y="216"/>
                    </a:lnTo>
                    <a:lnTo>
                      <a:pt x="70" y="224"/>
                    </a:lnTo>
                    <a:lnTo>
                      <a:pt x="52" y="231"/>
                    </a:lnTo>
                    <a:lnTo>
                      <a:pt x="34" y="241"/>
                    </a:lnTo>
                    <a:lnTo>
                      <a:pt x="17" y="251"/>
                    </a:lnTo>
                    <a:lnTo>
                      <a:pt x="0" y="260"/>
                    </a:lnTo>
                    <a:lnTo>
                      <a:pt x="4" y="263"/>
                    </a:lnTo>
                    <a:lnTo>
                      <a:pt x="7" y="264"/>
                    </a:lnTo>
                    <a:lnTo>
                      <a:pt x="12" y="266"/>
                    </a:lnTo>
                    <a:lnTo>
                      <a:pt x="15" y="267"/>
                    </a:lnTo>
                    <a:lnTo>
                      <a:pt x="19" y="270"/>
                    </a:lnTo>
                    <a:lnTo>
                      <a:pt x="22" y="272"/>
                    </a:lnTo>
                    <a:lnTo>
                      <a:pt x="25" y="275"/>
                    </a:lnTo>
                    <a:lnTo>
                      <a:pt x="29" y="278"/>
                    </a:lnTo>
                    <a:lnTo>
                      <a:pt x="31" y="282"/>
                    </a:lnTo>
                    <a:lnTo>
                      <a:pt x="32" y="286"/>
                    </a:lnTo>
                    <a:lnTo>
                      <a:pt x="34" y="290"/>
                    </a:lnTo>
                    <a:lnTo>
                      <a:pt x="35" y="294"/>
                    </a:lnTo>
                    <a:lnTo>
                      <a:pt x="36" y="298"/>
                    </a:lnTo>
                    <a:lnTo>
                      <a:pt x="37" y="302"/>
                    </a:lnTo>
                    <a:lnTo>
                      <a:pt x="37" y="307"/>
                    </a:lnTo>
                    <a:lnTo>
                      <a:pt x="36" y="311"/>
                    </a:lnTo>
                    <a:close/>
                    <a:moveTo>
                      <a:pt x="295" y="98"/>
                    </a:moveTo>
                    <a:lnTo>
                      <a:pt x="295" y="98"/>
                    </a:lnTo>
                    <a:lnTo>
                      <a:pt x="296" y="98"/>
                    </a:lnTo>
                    <a:lnTo>
                      <a:pt x="296" y="98"/>
                    </a:lnTo>
                    <a:lnTo>
                      <a:pt x="296" y="98"/>
                    </a:lnTo>
                    <a:lnTo>
                      <a:pt x="296" y="98"/>
                    </a:lnTo>
                    <a:lnTo>
                      <a:pt x="296" y="98"/>
                    </a:lnTo>
                    <a:lnTo>
                      <a:pt x="296" y="98"/>
                    </a:lnTo>
                    <a:lnTo>
                      <a:pt x="296" y="98"/>
                    </a:lnTo>
                    <a:lnTo>
                      <a:pt x="295" y="99"/>
                    </a:lnTo>
                    <a:lnTo>
                      <a:pt x="295" y="99"/>
                    </a:lnTo>
                    <a:lnTo>
                      <a:pt x="295" y="99"/>
                    </a:lnTo>
                    <a:lnTo>
                      <a:pt x="295" y="98"/>
                    </a:lnTo>
                    <a:lnTo>
                      <a:pt x="295" y="98"/>
                    </a:lnTo>
                    <a:lnTo>
                      <a:pt x="295" y="98"/>
                    </a:lnTo>
                    <a:lnTo>
                      <a:pt x="295" y="98"/>
                    </a:lnTo>
                    <a:lnTo>
                      <a:pt x="295" y="98"/>
                    </a:lnTo>
                    <a:lnTo>
                      <a:pt x="295" y="98"/>
                    </a:lnTo>
                    <a:close/>
                    <a:moveTo>
                      <a:pt x="300" y="90"/>
                    </a:moveTo>
                    <a:lnTo>
                      <a:pt x="300" y="88"/>
                    </a:lnTo>
                    <a:lnTo>
                      <a:pt x="302" y="87"/>
                    </a:lnTo>
                    <a:lnTo>
                      <a:pt x="302" y="86"/>
                    </a:lnTo>
                    <a:lnTo>
                      <a:pt x="302" y="83"/>
                    </a:lnTo>
                    <a:lnTo>
                      <a:pt x="303" y="82"/>
                    </a:lnTo>
                    <a:lnTo>
                      <a:pt x="303" y="81"/>
                    </a:lnTo>
                    <a:lnTo>
                      <a:pt x="303" y="80"/>
                    </a:lnTo>
                    <a:lnTo>
                      <a:pt x="303" y="78"/>
                    </a:lnTo>
                    <a:lnTo>
                      <a:pt x="305" y="76"/>
                    </a:lnTo>
                    <a:lnTo>
                      <a:pt x="308" y="73"/>
                    </a:lnTo>
                    <a:lnTo>
                      <a:pt x="311" y="70"/>
                    </a:lnTo>
                    <a:lnTo>
                      <a:pt x="315" y="66"/>
                    </a:lnTo>
                    <a:lnTo>
                      <a:pt x="318" y="63"/>
                    </a:lnTo>
                    <a:lnTo>
                      <a:pt x="323" y="61"/>
                    </a:lnTo>
                    <a:lnTo>
                      <a:pt x="325" y="59"/>
                    </a:lnTo>
                    <a:lnTo>
                      <a:pt x="328" y="58"/>
                    </a:lnTo>
                    <a:lnTo>
                      <a:pt x="328" y="89"/>
                    </a:lnTo>
                    <a:lnTo>
                      <a:pt x="332" y="83"/>
                    </a:lnTo>
                    <a:lnTo>
                      <a:pt x="336" y="79"/>
                    </a:lnTo>
                    <a:lnTo>
                      <a:pt x="342" y="75"/>
                    </a:lnTo>
                    <a:lnTo>
                      <a:pt x="348" y="72"/>
                    </a:lnTo>
                    <a:lnTo>
                      <a:pt x="353" y="69"/>
                    </a:lnTo>
                    <a:lnTo>
                      <a:pt x="359" y="65"/>
                    </a:lnTo>
                    <a:lnTo>
                      <a:pt x="363" y="62"/>
                    </a:lnTo>
                    <a:lnTo>
                      <a:pt x="367" y="58"/>
                    </a:lnTo>
                    <a:lnTo>
                      <a:pt x="369" y="62"/>
                    </a:lnTo>
                    <a:lnTo>
                      <a:pt x="369" y="68"/>
                    </a:lnTo>
                    <a:lnTo>
                      <a:pt x="368" y="75"/>
                    </a:lnTo>
                    <a:lnTo>
                      <a:pt x="367" y="84"/>
                    </a:lnTo>
                    <a:lnTo>
                      <a:pt x="365" y="93"/>
                    </a:lnTo>
                    <a:lnTo>
                      <a:pt x="364" y="101"/>
                    </a:lnTo>
                    <a:lnTo>
                      <a:pt x="363" y="109"/>
                    </a:lnTo>
                    <a:lnTo>
                      <a:pt x="363" y="113"/>
                    </a:lnTo>
                    <a:lnTo>
                      <a:pt x="369" y="112"/>
                    </a:lnTo>
                    <a:lnTo>
                      <a:pt x="377" y="108"/>
                    </a:lnTo>
                    <a:lnTo>
                      <a:pt x="386" y="102"/>
                    </a:lnTo>
                    <a:lnTo>
                      <a:pt x="395" y="96"/>
                    </a:lnTo>
                    <a:lnTo>
                      <a:pt x="404" y="90"/>
                    </a:lnTo>
                    <a:lnTo>
                      <a:pt x="414" y="84"/>
                    </a:lnTo>
                    <a:lnTo>
                      <a:pt x="421" y="80"/>
                    </a:lnTo>
                    <a:lnTo>
                      <a:pt x="427" y="78"/>
                    </a:lnTo>
                    <a:lnTo>
                      <a:pt x="425" y="81"/>
                    </a:lnTo>
                    <a:lnTo>
                      <a:pt x="423" y="83"/>
                    </a:lnTo>
                    <a:lnTo>
                      <a:pt x="421" y="88"/>
                    </a:lnTo>
                    <a:lnTo>
                      <a:pt x="418" y="92"/>
                    </a:lnTo>
                    <a:lnTo>
                      <a:pt x="416" y="96"/>
                    </a:lnTo>
                    <a:lnTo>
                      <a:pt x="415" y="100"/>
                    </a:lnTo>
                    <a:lnTo>
                      <a:pt x="413" y="105"/>
                    </a:lnTo>
                    <a:lnTo>
                      <a:pt x="413" y="109"/>
                    </a:lnTo>
                    <a:lnTo>
                      <a:pt x="403" y="113"/>
                    </a:lnTo>
                    <a:lnTo>
                      <a:pt x="402" y="115"/>
                    </a:lnTo>
                    <a:lnTo>
                      <a:pt x="402" y="116"/>
                    </a:lnTo>
                    <a:lnTo>
                      <a:pt x="402" y="118"/>
                    </a:lnTo>
                    <a:lnTo>
                      <a:pt x="401" y="120"/>
                    </a:lnTo>
                    <a:lnTo>
                      <a:pt x="401" y="123"/>
                    </a:lnTo>
                    <a:lnTo>
                      <a:pt x="400" y="124"/>
                    </a:lnTo>
                    <a:lnTo>
                      <a:pt x="399" y="126"/>
                    </a:lnTo>
                    <a:lnTo>
                      <a:pt x="399" y="128"/>
                    </a:lnTo>
                    <a:lnTo>
                      <a:pt x="399" y="128"/>
                    </a:lnTo>
                    <a:lnTo>
                      <a:pt x="399" y="128"/>
                    </a:lnTo>
                    <a:lnTo>
                      <a:pt x="399" y="128"/>
                    </a:lnTo>
                    <a:lnTo>
                      <a:pt x="399" y="128"/>
                    </a:lnTo>
                    <a:lnTo>
                      <a:pt x="399" y="128"/>
                    </a:lnTo>
                    <a:lnTo>
                      <a:pt x="399" y="128"/>
                    </a:lnTo>
                    <a:lnTo>
                      <a:pt x="398" y="128"/>
                    </a:lnTo>
                    <a:lnTo>
                      <a:pt x="398" y="128"/>
                    </a:lnTo>
                    <a:lnTo>
                      <a:pt x="401" y="121"/>
                    </a:lnTo>
                    <a:lnTo>
                      <a:pt x="404" y="116"/>
                    </a:lnTo>
                    <a:lnTo>
                      <a:pt x="409" y="111"/>
                    </a:lnTo>
                    <a:lnTo>
                      <a:pt x="416" y="106"/>
                    </a:lnTo>
                    <a:lnTo>
                      <a:pt x="431" y="97"/>
                    </a:lnTo>
                    <a:lnTo>
                      <a:pt x="448" y="89"/>
                    </a:lnTo>
                    <a:lnTo>
                      <a:pt x="464" y="81"/>
                    </a:lnTo>
                    <a:lnTo>
                      <a:pt x="479" y="74"/>
                    </a:lnTo>
                    <a:lnTo>
                      <a:pt x="486" y="71"/>
                    </a:lnTo>
                    <a:lnTo>
                      <a:pt x="491" y="66"/>
                    </a:lnTo>
                    <a:lnTo>
                      <a:pt x="495" y="63"/>
                    </a:lnTo>
                    <a:lnTo>
                      <a:pt x="497" y="58"/>
                    </a:lnTo>
                    <a:lnTo>
                      <a:pt x="499" y="61"/>
                    </a:lnTo>
                    <a:lnTo>
                      <a:pt x="500" y="64"/>
                    </a:lnTo>
                    <a:lnTo>
                      <a:pt x="502" y="70"/>
                    </a:lnTo>
                    <a:lnTo>
                      <a:pt x="503" y="74"/>
                    </a:lnTo>
                    <a:lnTo>
                      <a:pt x="503" y="79"/>
                    </a:lnTo>
                    <a:lnTo>
                      <a:pt x="503" y="84"/>
                    </a:lnTo>
                    <a:lnTo>
                      <a:pt x="503" y="90"/>
                    </a:lnTo>
                    <a:lnTo>
                      <a:pt x="503" y="94"/>
                    </a:lnTo>
                    <a:lnTo>
                      <a:pt x="505" y="90"/>
                    </a:lnTo>
                    <a:lnTo>
                      <a:pt x="508" y="86"/>
                    </a:lnTo>
                    <a:lnTo>
                      <a:pt x="511" y="81"/>
                    </a:lnTo>
                    <a:lnTo>
                      <a:pt x="514" y="77"/>
                    </a:lnTo>
                    <a:lnTo>
                      <a:pt x="517" y="73"/>
                    </a:lnTo>
                    <a:lnTo>
                      <a:pt x="521" y="69"/>
                    </a:lnTo>
                    <a:lnTo>
                      <a:pt x="522" y="65"/>
                    </a:lnTo>
                    <a:lnTo>
                      <a:pt x="523" y="63"/>
                    </a:lnTo>
                    <a:lnTo>
                      <a:pt x="532" y="62"/>
                    </a:lnTo>
                    <a:lnTo>
                      <a:pt x="541" y="59"/>
                    </a:lnTo>
                    <a:lnTo>
                      <a:pt x="550" y="55"/>
                    </a:lnTo>
                    <a:lnTo>
                      <a:pt x="560" y="50"/>
                    </a:lnTo>
                    <a:lnTo>
                      <a:pt x="569" y="43"/>
                    </a:lnTo>
                    <a:lnTo>
                      <a:pt x="579" y="37"/>
                    </a:lnTo>
                    <a:lnTo>
                      <a:pt x="588" y="32"/>
                    </a:lnTo>
                    <a:lnTo>
                      <a:pt x="598" y="27"/>
                    </a:lnTo>
                    <a:lnTo>
                      <a:pt x="581" y="22"/>
                    </a:lnTo>
                    <a:lnTo>
                      <a:pt x="564" y="19"/>
                    </a:lnTo>
                    <a:lnTo>
                      <a:pt x="546" y="16"/>
                    </a:lnTo>
                    <a:lnTo>
                      <a:pt x="529" y="13"/>
                    </a:lnTo>
                    <a:lnTo>
                      <a:pt x="511" y="10"/>
                    </a:lnTo>
                    <a:lnTo>
                      <a:pt x="493" y="7"/>
                    </a:lnTo>
                    <a:lnTo>
                      <a:pt x="475" y="4"/>
                    </a:lnTo>
                    <a:lnTo>
                      <a:pt x="458" y="0"/>
                    </a:lnTo>
                    <a:lnTo>
                      <a:pt x="440" y="3"/>
                    </a:lnTo>
                    <a:lnTo>
                      <a:pt x="423" y="7"/>
                    </a:lnTo>
                    <a:lnTo>
                      <a:pt x="405" y="11"/>
                    </a:lnTo>
                    <a:lnTo>
                      <a:pt x="388" y="17"/>
                    </a:lnTo>
                    <a:lnTo>
                      <a:pt x="371" y="23"/>
                    </a:lnTo>
                    <a:lnTo>
                      <a:pt x="355" y="29"/>
                    </a:lnTo>
                    <a:lnTo>
                      <a:pt x="339" y="37"/>
                    </a:lnTo>
                    <a:lnTo>
                      <a:pt x="323" y="44"/>
                    </a:lnTo>
                    <a:lnTo>
                      <a:pt x="320" y="46"/>
                    </a:lnTo>
                    <a:lnTo>
                      <a:pt x="316" y="48"/>
                    </a:lnTo>
                    <a:lnTo>
                      <a:pt x="312" y="48"/>
                    </a:lnTo>
                    <a:lnTo>
                      <a:pt x="308" y="50"/>
                    </a:lnTo>
                    <a:lnTo>
                      <a:pt x="304" y="51"/>
                    </a:lnTo>
                    <a:lnTo>
                      <a:pt x="300" y="52"/>
                    </a:lnTo>
                    <a:lnTo>
                      <a:pt x="298" y="55"/>
                    </a:lnTo>
                    <a:lnTo>
                      <a:pt x="297" y="59"/>
                    </a:lnTo>
                    <a:lnTo>
                      <a:pt x="292" y="60"/>
                    </a:lnTo>
                    <a:lnTo>
                      <a:pt x="287" y="61"/>
                    </a:lnTo>
                    <a:lnTo>
                      <a:pt x="282" y="63"/>
                    </a:lnTo>
                    <a:lnTo>
                      <a:pt x="279" y="65"/>
                    </a:lnTo>
                    <a:lnTo>
                      <a:pt x="275" y="68"/>
                    </a:lnTo>
                    <a:lnTo>
                      <a:pt x="271" y="70"/>
                    </a:lnTo>
                    <a:lnTo>
                      <a:pt x="266" y="72"/>
                    </a:lnTo>
                    <a:lnTo>
                      <a:pt x="260" y="73"/>
                    </a:lnTo>
                    <a:lnTo>
                      <a:pt x="289" y="75"/>
                    </a:lnTo>
                    <a:lnTo>
                      <a:pt x="292" y="76"/>
                    </a:lnTo>
                    <a:lnTo>
                      <a:pt x="293" y="77"/>
                    </a:lnTo>
                    <a:lnTo>
                      <a:pt x="294" y="79"/>
                    </a:lnTo>
                    <a:lnTo>
                      <a:pt x="295" y="81"/>
                    </a:lnTo>
                    <a:lnTo>
                      <a:pt x="296" y="83"/>
                    </a:lnTo>
                    <a:lnTo>
                      <a:pt x="297" y="86"/>
                    </a:lnTo>
                    <a:lnTo>
                      <a:pt x="298" y="88"/>
                    </a:lnTo>
                    <a:lnTo>
                      <a:pt x="300" y="90"/>
                    </a:lnTo>
                    <a:close/>
                    <a:moveTo>
                      <a:pt x="398" y="133"/>
                    </a:moveTo>
                    <a:lnTo>
                      <a:pt x="398" y="133"/>
                    </a:lnTo>
                    <a:lnTo>
                      <a:pt x="398" y="133"/>
                    </a:lnTo>
                    <a:lnTo>
                      <a:pt x="398" y="133"/>
                    </a:lnTo>
                    <a:lnTo>
                      <a:pt x="398" y="133"/>
                    </a:lnTo>
                    <a:lnTo>
                      <a:pt x="398" y="133"/>
                    </a:lnTo>
                    <a:lnTo>
                      <a:pt x="398" y="133"/>
                    </a:lnTo>
                    <a:lnTo>
                      <a:pt x="398" y="133"/>
                    </a:lnTo>
                    <a:lnTo>
                      <a:pt x="398" y="133"/>
                    </a:lnTo>
                    <a:lnTo>
                      <a:pt x="397" y="133"/>
                    </a:lnTo>
                    <a:lnTo>
                      <a:pt x="398" y="133"/>
                    </a:lnTo>
                    <a:lnTo>
                      <a:pt x="398" y="133"/>
                    </a:lnTo>
                    <a:lnTo>
                      <a:pt x="398" y="133"/>
                    </a:lnTo>
                    <a:lnTo>
                      <a:pt x="398" y="133"/>
                    </a:lnTo>
                    <a:lnTo>
                      <a:pt x="398" y="133"/>
                    </a:lnTo>
                    <a:lnTo>
                      <a:pt x="398" y="133"/>
                    </a:lnTo>
                    <a:lnTo>
                      <a:pt x="398" y="133"/>
                    </a:lnTo>
                    <a:lnTo>
                      <a:pt x="398" y="133"/>
                    </a:lnTo>
                    <a:lnTo>
                      <a:pt x="398" y="133"/>
                    </a:lnTo>
                    <a:lnTo>
                      <a:pt x="398" y="133"/>
                    </a:lnTo>
                    <a:close/>
                    <a:moveTo>
                      <a:pt x="721" y="75"/>
                    </a:moveTo>
                    <a:lnTo>
                      <a:pt x="721" y="79"/>
                    </a:lnTo>
                    <a:lnTo>
                      <a:pt x="722" y="84"/>
                    </a:lnTo>
                    <a:lnTo>
                      <a:pt x="723" y="90"/>
                    </a:lnTo>
                    <a:lnTo>
                      <a:pt x="724" y="95"/>
                    </a:lnTo>
                    <a:lnTo>
                      <a:pt x="725" y="100"/>
                    </a:lnTo>
                    <a:lnTo>
                      <a:pt x="726" y="105"/>
                    </a:lnTo>
                    <a:lnTo>
                      <a:pt x="727" y="110"/>
                    </a:lnTo>
                    <a:lnTo>
                      <a:pt x="728" y="114"/>
                    </a:lnTo>
                    <a:lnTo>
                      <a:pt x="728" y="113"/>
                    </a:lnTo>
                    <a:lnTo>
                      <a:pt x="728" y="108"/>
                    </a:lnTo>
                    <a:lnTo>
                      <a:pt x="727" y="103"/>
                    </a:lnTo>
                    <a:lnTo>
                      <a:pt x="726" y="98"/>
                    </a:lnTo>
                    <a:lnTo>
                      <a:pt x="725" y="94"/>
                    </a:lnTo>
                    <a:lnTo>
                      <a:pt x="724" y="89"/>
                    </a:lnTo>
                    <a:lnTo>
                      <a:pt x="723" y="84"/>
                    </a:lnTo>
                    <a:lnTo>
                      <a:pt x="722" y="79"/>
                    </a:lnTo>
                    <a:lnTo>
                      <a:pt x="721" y="75"/>
                    </a:lnTo>
                    <a:close/>
                    <a:moveTo>
                      <a:pt x="733" y="135"/>
                    </a:moveTo>
                    <a:lnTo>
                      <a:pt x="737" y="228"/>
                    </a:lnTo>
                    <a:lnTo>
                      <a:pt x="740" y="230"/>
                    </a:lnTo>
                    <a:lnTo>
                      <a:pt x="742" y="233"/>
                    </a:lnTo>
                    <a:lnTo>
                      <a:pt x="744" y="234"/>
                    </a:lnTo>
                    <a:lnTo>
                      <a:pt x="746" y="236"/>
                    </a:lnTo>
                    <a:lnTo>
                      <a:pt x="747" y="237"/>
                    </a:lnTo>
                    <a:lnTo>
                      <a:pt x="749" y="238"/>
                    </a:lnTo>
                    <a:lnTo>
                      <a:pt x="751" y="238"/>
                    </a:lnTo>
                    <a:lnTo>
                      <a:pt x="753" y="239"/>
                    </a:lnTo>
                    <a:lnTo>
                      <a:pt x="753" y="241"/>
                    </a:lnTo>
                    <a:lnTo>
                      <a:pt x="754" y="243"/>
                    </a:lnTo>
                    <a:lnTo>
                      <a:pt x="757" y="245"/>
                    </a:lnTo>
                    <a:lnTo>
                      <a:pt x="758" y="248"/>
                    </a:lnTo>
                    <a:lnTo>
                      <a:pt x="760" y="251"/>
                    </a:lnTo>
                    <a:lnTo>
                      <a:pt x="762" y="252"/>
                    </a:lnTo>
                    <a:lnTo>
                      <a:pt x="763" y="253"/>
                    </a:lnTo>
                    <a:lnTo>
                      <a:pt x="763" y="254"/>
                    </a:lnTo>
                    <a:lnTo>
                      <a:pt x="763" y="262"/>
                    </a:lnTo>
                    <a:lnTo>
                      <a:pt x="764" y="272"/>
                    </a:lnTo>
                    <a:lnTo>
                      <a:pt x="766" y="280"/>
                    </a:lnTo>
                    <a:lnTo>
                      <a:pt x="768" y="290"/>
                    </a:lnTo>
                    <a:lnTo>
                      <a:pt x="774" y="308"/>
                    </a:lnTo>
                    <a:lnTo>
                      <a:pt x="783" y="326"/>
                    </a:lnTo>
                    <a:lnTo>
                      <a:pt x="791" y="344"/>
                    </a:lnTo>
                    <a:lnTo>
                      <a:pt x="802" y="362"/>
                    </a:lnTo>
                    <a:lnTo>
                      <a:pt x="814" y="380"/>
                    </a:lnTo>
                    <a:lnTo>
                      <a:pt x="825" y="398"/>
                    </a:lnTo>
                    <a:lnTo>
                      <a:pt x="837" y="417"/>
                    </a:lnTo>
                    <a:lnTo>
                      <a:pt x="849" y="436"/>
                    </a:lnTo>
                    <a:lnTo>
                      <a:pt x="859" y="455"/>
                    </a:lnTo>
                    <a:lnTo>
                      <a:pt x="869" y="474"/>
                    </a:lnTo>
                    <a:lnTo>
                      <a:pt x="876" y="494"/>
                    </a:lnTo>
                    <a:lnTo>
                      <a:pt x="882" y="513"/>
                    </a:lnTo>
                    <a:lnTo>
                      <a:pt x="885" y="523"/>
                    </a:lnTo>
                    <a:lnTo>
                      <a:pt x="887" y="533"/>
                    </a:lnTo>
                    <a:lnTo>
                      <a:pt x="888" y="543"/>
                    </a:lnTo>
                    <a:lnTo>
                      <a:pt x="888" y="554"/>
                    </a:lnTo>
                    <a:lnTo>
                      <a:pt x="892" y="554"/>
                    </a:lnTo>
                    <a:lnTo>
                      <a:pt x="897" y="557"/>
                    </a:lnTo>
                    <a:lnTo>
                      <a:pt x="901" y="560"/>
                    </a:lnTo>
                    <a:lnTo>
                      <a:pt x="906" y="565"/>
                    </a:lnTo>
                    <a:lnTo>
                      <a:pt x="910" y="569"/>
                    </a:lnTo>
                    <a:lnTo>
                      <a:pt x="913" y="573"/>
                    </a:lnTo>
                    <a:lnTo>
                      <a:pt x="914" y="576"/>
                    </a:lnTo>
                    <a:lnTo>
                      <a:pt x="913" y="578"/>
                    </a:lnTo>
                    <a:lnTo>
                      <a:pt x="919" y="579"/>
                    </a:lnTo>
                    <a:lnTo>
                      <a:pt x="925" y="579"/>
                    </a:lnTo>
                    <a:lnTo>
                      <a:pt x="929" y="580"/>
                    </a:lnTo>
                    <a:lnTo>
                      <a:pt x="932" y="583"/>
                    </a:lnTo>
                    <a:lnTo>
                      <a:pt x="933" y="585"/>
                    </a:lnTo>
                    <a:lnTo>
                      <a:pt x="933" y="587"/>
                    </a:lnTo>
                    <a:lnTo>
                      <a:pt x="931" y="590"/>
                    </a:lnTo>
                    <a:lnTo>
                      <a:pt x="928" y="593"/>
                    </a:lnTo>
                    <a:lnTo>
                      <a:pt x="932" y="594"/>
                    </a:lnTo>
                    <a:lnTo>
                      <a:pt x="936" y="595"/>
                    </a:lnTo>
                    <a:lnTo>
                      <a:pt x="941" y="596"/>
                    </a:lnTo>
                    <a:lnTo>
                      <a:pt x="945" y="597"/>
                    </a:lnTo>
                    <a:lnTo>
                      <a:pt x="951" y="603"/>
                    </a:lnTo>
                    <a:lnTo>
                      <a:pt x="958" y="609"/>
                    </a:lnTo>
                    <a:lnTo>
                      <a:pt x="964" y="615"/>
                    </a:lnTo>
                    <a:lnTo>
                      <a:pt x="969" y="623"/>
                    </a:lnTo>
                    <a:lnTo>
                      <a:pt x="976" y="631"/>
                    </a:lnTo>
                    <a:lnTo>
                      <a:pt x="983" y="639"/>
                    </a:lnTo>
                    <a:lnTo>
                      <a:pt x="988" y="639"/>
                    </a:lnTo>
                    <a:lnTo>
                      <a:pt x="994" y="639"/>
                    </a:lnTo>
                    <a:lnTo>
                      <a:pt x="1006" y="651"/>
                    </a:lnTo>
                    <a:lnTo>
                      <a:pt x="1022" y="664"/>
                    </a:lnTo>
                    <a:lnTo>
                      <a:pt x="1039" y="678"/>
                    </a:lnTo>
                    <a:lnTo>
                      <a:pt x="1058" y="692"/>
                    </a:lnTo>
                    <a:lnTo>
                      <a:pt x="1078" y="705"/>
                    </a:lnTo>
                    <a:lnTo>
                      <a:pt x="1099" y="719"/>
                    </a:lnTo>
                    <a:lnTo>
                      <a:pt x="1123" y="733"/>
                    </a:lnTo>
                    <a:lnTo>
                      <a:pt x="1145" y="745"/>
                    </a:lnTo>
                    <a:lnTo>
                      <a:pt x="1168" y="757"/>
                    </a:lnTo>
                    <a:lnTo>
                      <a:pt x="1192" y="769"/>
                    </a:lnTo>
                    <a:lnTo>
                      <a:pt x="1216" y="778"/>
                    </a:lnTo>
                    <a:lnTo>
                      <a:pt x="1239" y="787"/>
                    </a:lnTo>
                    <a:lnTo>
                      <a:pt x="1261" y="794"/>
                    </a:lnTo>
                    <a:lnTo>
                      <a:pt x="1283" y="799"/>
                    </a:lnTo>
                    <a:lnTo>
                      <a:pt x="1304" y="803"/>
                    </a:lnTo>
                    <a:lnTo>
                      <a:pt x="1324" y="804"/>
                    </a:lnTo>
                    <a:lnTo>
                      <a:pt x="1323" y="792"/>
                    </a:lnTo>
                    <a:lnTo>
                      <a:pt x="1322" y="780"/>
                    </a:lnTo>
                    <a:lnTo>
                      <a:pt x="1319" y="770"/>
                    </a:lnTo>
                    <a:lnTo>
                      <a:pt x="1317" y="758"/>
                    </a:lnTo>
                    <a:lnTo>
                      <a:pt x="1314" y="748"/>
                    </a:lnTo>
                    <a:lnTo>
                      <a:pt x="1313" y="736"/>
                    </a:lnTo>
                    <a:lnTo>
                      <a:pt x="1312" y="724"/>
                    </a:lnTo>
                    <a:lnTo>
                      <a:pt x="1312" y="712"/>
                    </a:lnTo>
                    <a:lnTo>
                      <a:pt x="1292" y="702"/>
                    </a:lnTo>
                    <a:lnTo>
                      <a:pt x="1272" y="694"/>
                    </a:lnTo>
                    <a:lnTo>
                      <a:pt x="1251" y="685"/>
                    </a:lnTo>
                    <a:lnTo>
                      <a:pt x="1231" y="677"/>
                    </a:lnTo>
                    <a:lnTo>
                      <a:pt x="1221" y="671"/>
                    </a:lnTo>
                    <a:lnTo>
                      <a:pt x="1211" y="666"/>
                    </a:lnTo>
                    <a:lnTo>
                      <a:pt x="1203" y="660"/>
                    </a:lnTo>
                    <a:lnTo>
                      <a:pt x="1195" y="652"/>
                    </a:lnTo>
                    <a:lnTo>
                      <a:pt x="1186" y="645"/>
                    </a:lnTo>
                    <a:lnTo>
                      <a:pt x="1178" y="637"/>
                    </a:lnTo>
                    <a:lnTo>
                      <a:pt x="1171" y="627"/>
                    </a:lnTo>
                    <a:lnTo>
                      <a:pt x="1164" y="618"/>
                    </a:lnTo>
                    <a:lnTo>
                      <a:pt x="1156" y="615"/>
                    </a:lnTo>
                    <a:lnTo>
                      <a:pt x="1149" y="613"/>
                    </a:lnTo>
                    <a:lnTo>
                      <a:pt x="1143" y="611"/>
                    </a:lnTo>
                    <a:lnTo>
                      <a:pt x="1135" y="608"/>
                    </a:lnTo>
                    <a:lnTo>
                      <a:pt x="1128" y="605"/>
                    </a:lnTo>
                    <a:lnTo>
                      <a:pt x="1122" y="602"/>
                    </a:lnTo>
                    <a:lnTo>
                      <a:pt x="1115" y="598"/>
                    </a:lnTo>
                    <a:lnTo>
                      <a:pt x="1108" y="595"/>
                    </a:lnTo>
                    <a:lnTo>
                      <a:pt x="1100" y="594"/>
                    </a:lnTo>
                    <a:lnTo>
                      <a:pt x="1093" y="593"/>
                    </a:lnTo>
                    <a:lnTo>
                      <a:pt x="1087" y="592"/>
                    </a:lnTo>
                    <a:lnTo>
                      <a:pt x="1079" y="590"/>
                    </a:lnTo>
                    <a:lnTo>
                      <a:pt x="1067" y="585"/>
                    </a:lnTo>
                    <a:lnTo>
                      <a:pt x="1054" y="578"/>
                    </a:lnTo>
                    <a:lnTo>
                      <a:pt x="1041" y="571"/>
                    </a:lnTo>
                    <a:lnTo>
                      <a:pt x="1029" y="565"/>
                    </a:lnTo>
                    <a:lnTo>
                      <a:pt x="1017" y="558"/>
                    </a:lnTo>
                    <a:lnTo>
                      <a:pt x="1003" y="554"/>
                    </a:lnTo>
                    <a:lnTo>
                      <a:pt x="997" y="548"/>
                    </a:lnTo>
                    <a:lnTo>
                      <a:pt x="990" y="542"/>
                    </a:lnTo>
                    <a:lnTo>
                      <a:pt x="984" y="536"/>
                    </a:lnTo>
                    <a:lnTo>
                      <a:pt x="977" y="530"/>
                    </a:lnTo>
                    <a:lnTo>
                      <a:pt x="970" y="522"/>
                    </a:lnTo>
                    <a:lnTo>
                      <a:pt x="965" y="516"/>
                    </a:lnTo>
                    <a:lnTo>
                      <a:pt x="959" y="509"/>
                    </a:lnTo>
                    <a:lnTo>
                      <a:pt x="954" y="500"/>
                    </a:lnTo>
                    <a:lnTo>
                      <a:pt x="952" y="496"/>
                    </a:lnTo>
                    <a:lnTo>
                      <a:pt x="949" y="493"/>
                    </a:lnTo>
                    <a:lnTo>
                      <a:pt x="946" y="488"/>
                    </a:lnTo>
                    <a:lnTo>
                      <a:pt x="943" y="485"/>
                    </a:lnTo>
                    <a:lnTo>
                      <a:pt x="940" y="481"/>
                    </a:lnTo>
                    <a:lnTo>
                      <a:pt x="936" y="478"/>
                    </a:lnTo>
                    <a:lnTo>
                      <a:pt x="935" y="473"/>
                    </a:lnTo>
                    <a:lnTo>
                      <a:pt x="934" y="468"/>
                    </a:lnTo>
                    <a:lnTo>
                      <a:pt x="925" y="454"/>
                    </a:lnTo>
                    <a:lnTo>
                      <a:pt x="916" y="439"/>
                    </a:lnTo>
                    <a:lnTo>
                      <a:pt x="909" y="424"/>
                    </a:lnTo>
                    <a:lnTo>
                      <a:pt x="901" y="409"/>
                    </a:lnTo>
                    <a:lnTo>
                      <a:pt x="895" y="394"/>
                    </a:lnTo>
                    <a:lnTo>
                      <a:pt x="887" y="381"/>
                    </a:lnTo>
                    <a:lnTo>
                      <a:pt x="878" y="366"/>
                    </a:lnTo>
                    <a:lnTo>
                      <a:pt x="868" y="351"/>
                    </a:lnTo>
                    <a:lnTo>
                      <a:pt x="864" y="344"/>
                    </a:lnTo>
                    <a:lnTo>
                      <a:pt x="860" y="336"/>
                    </a:lnTo>
                    <a:lnTo>
                      <a:pt x="854" y="329"/>
                    </a:lnTo>
                    <a:lnTo>
                      <a:pt x="848" y="322"/>
                    </a:lnTo>
                    <a:lnTo>
                      <a:pt x="842" y="315"/>
                    </a:lnTo>
                    <a:lnTo>
                      <a:pt x="837" y="309"/>
                    </a:lnTo>
                    <a:lnTo>
                      <a:pt x="836" y="304"/>
                    </a:lnTo>
                    <a:lnTo>
                      <a:pt x="835" y="301"/>
                    </a:lnTo>
                    <a:lnTo>
                      <a:pt x="835" y="297"/>
                    </a:lnTo>
                    <a:lnTo>
                      <a:pt x="836" y="293"/>
                    </a:lnTo>
                    <a:lnTo>
                      <a:pt x="827" y="281"/>
                    </a:lnTo>
                    <a:lnTo>
                      <a:pt x="820" y="270"/>
                    </a:lnTo>
                    <a:lnTo>
                      <a:pt x="813" y="258"/>
                    </a:lnTo>
                    <a:lnTo>
                      <a:pt x="806" y="245"/>
                    </a:lnTo>
                    <a:lnTo>
                      <a:pt x="800" y="233"/>
                    </a:lnTo>
                    <a:lnTo>
                      <a:pt x="794" y="220"/>
                    </a:lnTo>
                    <a:lnTo>
                      <a:pt x="788" y="207"/>
                    </a:lnTo>
                    <a:lnTo>
                      <a:pt x="783" y="193"/>
                    </a:lnTo>
                    <a:lnTo>
                      <a:pt x="779" y="189"/>
                    </a:lnTo>
                    <a:lnTo>
                      <a:pt x="774" y="184"/>
                    </a:lnTo>
                    <a:lnTo>
                      <a:pt x="770" y="179"/>
                    </a:lnTo>
                    <a:lnTo>
                      <a:pt x="767" y="173"/>
                    </a:lnTo>
                    <a:lnTo>
                      <a:pt x="763" y="169"/>
                    </a:lnTo>
                    <a:lnTo>
                      <a:pt x="759" y="166"/>
                    </a:lnTo>
                    <a:lnTo>
                      <a:pt x="753" y="164"/>
                    </a:lnTo>
                    <a:lnTo>
                      <a:pt x="747" y="163"/>
                    </a:lnTo>
                    <a:lnTo>
                      <a:pt x="744" y="160"/>
                    </a:lnTo>
                    <a:lnTo>
                      <a:pt x="742" y="156"/>
                    </a:lnTo>
                    <a:lnTo>
                      <a:pt x="741" y="153"/>
                    </a:lnTo>
                    <a:lnTo>
                      <a:pt x="739" y="149"/>
                    </a:lnTo>
                    <a:lnTo>
                      <a:pt x="737" y="146"/>
                    </a:lnTo>
                    <a:lnTo>
                      <a:pt x="736" y="143"/>
                    </a:lnTo>
                    <a:lnTo>
                      <a:pt x="734" y="138"/>
                    </a:lnTo>
                    <a:lnTo>
                      <a:pt x="733" y="13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a:off x="6806880" y="5781960"/>
                <a:ext cx="530280" cy="228600"/>
              </a:xfrm>
              <a:custGeom>
                <a:avLst/>
                <a:gdLst/>
                <a:ahLst/>
                <a:rect l="l" t="t" r="r" b="b"/>
                <a:pathLst>
                  <a:path w="1001" h="433">
                    <a:moveTo>
                      <a:pt x="0" y="292"/>
                    </a:moveTo>
                    <a:lnTo>
                      <a:pt x="34" y="301"/>
                    </a:lnTo>
                    <a:lnTo>
                      <a:pt x="71" y="311"/>
                    </a:lnTo>
                    <a:lnTo>
                      <a:pt x="110" y="324"/>
                    </a:lnTo>
                    <a:lnTo>
                      <a:pt x="151" y="338"/>
                    </a:lnTo>
                    <a:lnTo>
                      <a:pt x="238" y="365"/>
                    </a:lnTo>
                    <a:lnTo>
                      <a:pt x="329" y="393"/>
                    </a:lnTo>
                    <a:lnTo>
                      <a:pt x="376" y="405"/>
                    </a:lnTo>
                    <a:lnTo>
                      <a:pt x="421" y="416"/>
                    </a:lnTo>
                    <a:lnTo>
                      <a:pt x="443" y="420"/>
                    </a:lnTo>
                    <a:lnTo>
                      <a:pt x="465" y="424"/>
                    </a:lnTo>
                    <a:lnTo>
                      <a:pt x="488" y="428"/>
                    </a:lnTo>
                    <a:lnTo>
                      <a:pt x="510" y="430"/>
                    </a:lnTo>
                    <a:lnTo>
                      <a:pt x="531" y="432"/>
                    </a:lnTo>
                    <a:lnTo>
                      <a:pt x="552" y="433"/>
                    </a:lnTo>
                    <a:lnTo>
                      <a:pt x="572" y="433"/>
                    </a:lnTo>
                    <a:lnTo>
                      <a:pt x="592" y="433"/>
                    </a:lnTo>
                    <a:lnTo>
                      <a:pt x="612" y="431"/>
                    </a:lnTo>
                    <a:lnTo>
                      <a:pt x="631" y="429"/>
                    </a:lnTo>
                    <a:lnTo>
                      <a:pt x="649" y="425"/>
                    </a:lnTo>
                    <a:lnTo>
                      <a:pt x="665" y="420"/>
                    </a:lnTo>
                    <a:lnTo>
                      <a:pt x="671" y="420"/>
                    </a:lnTo>
                    <a:lnTo>
                      <a:pt x="677" y="421"/>
                    </a:lnTo>
                    <a:lnTo>
                      <a:pt x="685" y="421"/>
                    </a:lnTo>
                    <a:lnTo>
                      <a:pt x="693" y="422"/>
                    </a:lnTo>
                    <a:lnTo>
                      <a:pt x="701" y="422"/>
                    </a:lnTo>
                    <a:lnTo>
                      <a:pt x="710" y="422"/>
                    </a:lnTo>
                    <a:lnTo>
                      <a:pt x="716" y="421"/>
                    </a:lnTo>
                    <a:lnTo>
                      <a:pt x="720" y="420"/>
                    </a:lnTo>
                    <a:lnTo>
                      <a:pt x="720" y="415"/>
                    </a:lnTo>
                    <a:lnTo>
                      <a:pt x="726" y="413"/>
                    </a:lnTo>
                    <a:lnTo>
                      <a:pt x="731" y="412"/>
                    </a:lnTo>
                    <a:lnTo>
                      <a:pt x="736" y="411"/>
                    </a:lnTo>
                    <a:lnTo>
                      <a:pt x="743" y="411"/>
                    </a:lnTo>
                    <a:lnTo>
                      <a:pt x="750" y="411"/>
                    </a:lnTo>
                    <a:lnTo>
                      <a:pt x="756" y="412"/>
                    </a:lnTo>
                    <a:lnTo>
                      <a:pt x="764" y="413"/>
                    </a:lnTo>
                    <a:lnTo>
                      <a:pt x="770" y="415"/>
                    </a:lnTo>
                    <a:lnTo>
                      <a:pt x="773" y="412"/>
                    </a:lnTo>
                    <a:lnTo>
                      <a:pt x="777" y="410"/>
                    </a:lnTo>
                    <a:lnTo>
                      <a:pt x="780" y="407"/>
                    </a:lnTo>
                    <a:lnTo>
                      <a:pt x="782" y="405"/>
                    </a:lnTo>
                    <a:lnTo>
                      <a:pt x="785" y="403"/>
                    </a:lnTo>
                    <a:lnTo>
                      <a:pt x="787" y="400"/>
                    </a:lnTo>
                    <a:lnTo>
                      <a:pt x="789" y="398"/>
                    </a:lnTo>
                    <a:lnTo>
                      <a:pt x="791" y="396"/>
                    </a:lnTo>
                    <a:lnTo>
                      <a:pt x="789" y="397"/>
                    </a:lnTo>
                    <a:lnTo>
                      <a:pt x="787" y="398"/>
                    </a:lnTo>
                    <a:lnTo>
                      <a:pt x="786" y="399"/>
                    </a:lnTo>
                    <a:lnTo>
                      <a:pt x="784" y="401"/>
                    </a:lnTo>
                    <a:lnTo>
                      <a:pt x="782" y="402"/>
                    </a:lnTo>
                    <a:lnTo>
                      <a:pt x="780" y="402"/>
                    </a:lnTo>
                    <a:lnTo>
                      <a:pt x="778" y="402"/>
                    </a:lnTo>
                    <a:lnTo>
                      <a:pt x="776" y="401"/>
                    </a:lnTo>
                    <a:lnTo>
                      <a:pt x="778" y="399"/>
                    </a:lnTo>
                    <a:lnTo>
                      <a:pt x="779" y="397"/>
                    </a:lnTo>
                    <a:lnTo>
                      <a:pt x="780" y="396"/>
                    </a:lnTo>
                    <a:lnTo>
                      <a:pt x="782" y="394"/>
                    </a:lnTo>
                    <a:lnTo>
                      <a:pt x="783" y="393"/>
                    </a:lnTo>
                    <a:lnTo>
                      <a:pt x="785" y="391"/>
                    </a:lnTo>
                    <a:lnTo>
                      <a:pt x="786" y="388"/>
                    </a:lnTo>
                    <a:lnTo>
                      <a:pt x="787" y="387"/>
                    </a:lnTo>
                    <a:lnTo>
                      <a:pt x="785" y="387"/>
                    </a:lnTo>
                    <a:lnTo>
                      <a:pt x="782" y="388"/>
                    </a:lnTo>
                    <a:lnTo>
                      <a:pt x="780" y="389"/>
                    </a:lnTo>
                    <a:lnTo>
                      <a:pt x="777" y="392"/>
                    </a:lnTo>
                    <a:lnTo>
                      <a:pt x="774" y="393"/>
                    </a:lnTo>
                    <a:lnTo>
                      <a:pt x="772" y="394"/>
                    </a:lnTo>
                    <a:lnTo>
                      <a:pt x="770" y="394"/>
                    </a:lnTo>
                    <a:lnTo>
                      <a:pt x="767" y="394"/>
                    </a:lnTo>
                    <a:lnTo>
                      <a:pt x="768" y="393"/>
                    </a:lnTo>
                    <a:lnTo>
                      <a:pt x="769" y="392"/>
                    </a:lnTo>
                    <a:lnTo>
                      <a:pt x="770" y="391"/>
                    </a:lnTo>
                    <a:lnTo>
                      <a:pt x="771" y="389"/>
                    </a:lnTo>
                    <a:lnTo>
                      <a:pt x="772" y="388"/>
                    </a:lnTo>
                    <a:lnTo>
                      <a:pt x="773" y="388"/>
                    </a:lnTo>
                    <a:lnTo>
                      <a:pt x="774" y="387"/>
                    </a:lnTo>
                    <a:lnTo>
                      <a:pt x="776" y="387"/>
                    </a:lnTo>
                    <a:lnTo>
                      <a:pt x="766" y="385"/>
                    </a:lnTo>
                    <a:lnTo>
                      <a:pt x="760" y="383"/>
                    </a:lnTo>
                    <a:lnTo>
                      <a:pt x="752" y="381"/>
                    </a:lnTo>
                    <a:lnTo>
                      <a:pt x="746" y="379"/>
                    </a:lnTo>
                    <a:lnTo>
                      <a:pt x="740" y="378"/>
                    </a:lnTo>
                    <a:lnTo>
                      <a:pt x="733" y="377"/>
                    </a:lnTo>
                    <a:lnTo>
                      <a:pt x="727" y="378"/>
                    </a:lnTo>
                    <a:lnTo>
                      <a:pt x="722" y="379"/>
                    </a:lnTo>
                    <a:lnTo>
                      <a:pt x="715" y="381"/>
                    </a:lnTo>
                    <a:lnTo>
                      <a:pt x="715" y="380"/>
                    </a:lnTo>
                    <a:lnTo>
                      <a:pt x="716" y="379"/>
                    </a:lnTo>
                    <a:lnTo>
                      <a:pt x="716" y="378"/>
                    </a:lnTo>
                    <a:lnTo>
                      <a:pt x="718" y="377"/>
                    </a:lnTo>
                    <a:lnTo>
                      <a:pt x="719" y="377"/>
                    </a:lnTo>
                    <a:lnTo>
                      <a:pt x="720" y="376"/>
                    </a:lnTo>
                    <a:lnTo>
                      <a:pt x="723" y="375"/>
                    </a:lnTo>
                    <a:lnTo>
                      <a:pt x="724" y="373"/>
                    </a:lnTo>
                    <a:lnTo>
                      <a:pt x="675" y="365"/>
                    </a:lnTo>
                    <a:lnTo>
                      <a:pt x="651" y="363"/>
                    </a:lnTo>
                    <a:lnTo>
                      <a:pt x="627" y="360"/>
                    </a:lnTo>
                    <a:lnTo>
                      <a:pt x="605" y="356"/>
                    </a:lnTo>
                    <a:lnTo>
                      <a:pt x="583" y="351"/>
                    </a:lnTo>
                    <a:lnTo>
                      <a:pt x="561" y="348"/>
                    </a:lnTo>
                    <a:lnTo>
                      <a:pt x="539" y="345"/>
                    </a:lnTo>
                    <a:lnTo>
                      <a:pt x="515" y="343"/>
                    </a:lnTo>
                    <a:lnTo>
                      <a:pt x="491" y="343"/>
                    </a:lnTo>
                    <a:lnTo>
                      <a:pt x="482" y="341"/>
                    </a:lnTo>
                    <a:lnTo>
                      <a:pt x="473" y="339"/>
                    </a:lnTo>
                    <a:lnTo>
                      <a:pt x="463" y="337"/>
                    </a:lnTo>
                    <a:lnTo>
                      <a:pt x="454" y="333"/>
                    </a:lnTo>
                    <a:lnTo>
                      <a:pt x="445" y="331"/>
                    </a:lnTo>
                    <a:lnTo>
                      <a:pt x="436" y="329"/>
                    </a:lnTo>
                    <a:lnTo>
                      <a:pt x="427" y="326"/>
                    </a:lnTo>
                    <a:lnTo>
                      <a:pt x="418" y="323"/>
                    </a:lnTo>
                    <a:lnTo>
                      <a:pt x="401" y="321"/>
                    </a:lnTo>
                    <a:lnTo>
                      <a:pt x="384" y="318"/>
                    </a:lnTo>
                    <a:lnTo>
                      <a:pt x="368" y="313"/>
                    </a:lnTo>
                    <a:lnTo>
                      <a:pt x="352" y="308"/>
                    </a:lnTo>
                    <a:lnTo>
                      <a:pt x="336" y="303"/>
                    </a:lnTo>
                    <a:lnTo>
                      <a:pt x="322" y="296"/>
                    </a:lnTo>
                    <a:lnTo>
                      <a:pt x="306" y="291"/>
                    </a:lnTo>
                    <a:lnTo>
                      <a:pt x="290" y="287"/>
                    </a:lnTo>
                    <a:lnTo>
                      <a:pt x="291" y="288"/>
                    </a:lnTo>
                    <a:lnTo>
                      <a:pt x="291" y="290"/>
                    </a:lnTo>
                    <a:lnTo>
                      <a:pt x="291" y="291"/>
                    </a:lnTo>
                    <a:lnTo>
                      <a:pt x="290" y="292"/>
                    </a:lnTo>
                    <a:lnTo>
                      <a:pt x="289" y="293"/>
                    </a:lnTo>
                    <a:lnTo>
                      <a:pt x="288" y="294"/>
                    </a:lnTo>
                    <a:lnTo>
                      <a:pt x="287" y="295"/>
                    </a:lnTo>
                    <a:lnTo>
                      <a:pt x="287" y="295"/>
                    </a:lnTo>
                    <a:lnTo>
                      <a:pt x="286" y="296"/>
                    </a:lnTo>
                    <a:lnTo>
                      <a:pt x="261" y="290"/>
                    </a:lnTo>
                    <a:lnTo>
                      <a:pt x="238" y="282"/>
                    </a:lnTo>
                    <a:lnTo>
                      <a:pt x="215" y="272"/>
                    </a:lnTo>
                    <a:lnTo>
                      <a:pt x="191" y="263"/>
                    </a:lnTo>
                    <a:lnTo>
                      <a:pt x="168" y="253"/>
                    </a:lnTo>
                    <a:lnTo>
                      <a:pt x="146" y="242"/>
                    </a:lnTo>
                    <a:lnTo>
                      <a:pt x="123" y="233"/>
                    </a:lnTo>
                    <a:lnTo>
                      <a:pt x="99" y="224"/>
                    </a:lnTo>
                    <a:lnTo>
                      <a:pt x="93" y="220"/>
                    </a:lnTo>
                    <a:lnTo>
                      <a:pt x="87" y="216"/>
                    </a:lnTo>
                    <a:lnTo>
                      <a:pt x="80" y="213"/>
                    </a:lnTo>
                    <a:lnTo>
                      <a:pt x="73" y="209"/>
                    </a:lnTo>
                    <a:lnTo>
                      <a:pt x="67" y="205"/>
                    </a:lnTo>
                    <a:lnTo>
                      <a:pt x="59" y="202"/>
                    </a:lnTo>
                    <a:lnTo>
                      <a:pt x="52" y="199"/>
                    </a:lnTo>
                    <a:lnTo>
                      <a:pt x="44" y="197"/>
                    </a:lnTo>
                    <a:lnTo>
                      <a:pt x="41" y="211"/>
                    </a:lnTo>
                    <a:lnTo>
                      <a:pt x="39" y="224"/>
                    </a:lnTo>
                    <a:lnTo>
                      <a:pt x="38" y="238"/>
                    </a:lnTo>
                    <a:lnTo>
                      <a:pt x="38" y="252"/>
                    </a:lnTo>
                    <a:lnTo>
                      <a:pt x="38" y="266"/>
                    </a:lnTo>
                    <a:lnTo>
                      <a:pt x="39" y="279"/>
                    </a:lnTo>
                    <a:lnTo>
                      <a:pt x="40" y="293"/>
                    </a:lnTo>
                    <a:lnTo>
                      <a:pt x="40" y="307"/>
                    </a:lnTo>
                    <a:lnTo>
                      <a:pt x="40" y="307"/>
                    </a:lnTo>
                    <a:lnTo>
                      <a:pt x="38" y="306"/>
                    </a:lnTo>
                    <a:lnTo>
                      <a:pt x="33" y="305"/>
                    </a:lnTo>
                    <a:lnTo>
                      <a:pt x="26" y="303"/>
                    </a:lnTo>
                    <a:lnTo>
                      <a:pt x="19" y="302"/>
                    </a:lnTo>
                    <a:lnTo>
                      <a:pt x="12" y="298"/>
                    </a:lnTo>
                    <a:lnTo>
                      <a:pt x="5" y="295"/>
                    </a:lnTo>
                    <a:lnTo>
                      <a:pt x="0" y="292"/>
                    </a:lnTo>
                    <a:close/>
                    <a:moveTo>
                      <a:pt x="780" y="416"/>
                    </a:moveTo>
                    <a:lnTo>
                      <a:pt x="781" y="417"/>
                    </a:lnTo>
                    <a:lnTo>
                      <a:pt x="782" y="417"/>
                    </a:lnTo>
                    <a:lnTo>
                      <a:pt x="783" y="417"/>
                    </a:lnTo>
                    <a:lnTo>
                      <a:pt x="784" y="417"/>
                    </a:lnTo>
                    <a:lnTo>
                      <a:pt x="785" y="417"/>
                    </a:lnTo>
                    <a:lnTo>
                      <a:pt x="786" y="417"/>
                    </a:lnTo>
                    <a:lnTo>
                      <a:pt x="787" y="418"/>
                    </a:lnTo>
                    <a:lnTo>
                      <a:pt x="788" y="418"/>
                    </a:lnTo>
                    <a:lnTo>
                      <a:pt x="789" y="417"/>
                    </a:lnTo>
                    <a:lnTo>
                      <a:pt x="789" y="416"/>
                    </a:lnTo>
                    <a:lnTo>
                      <a:pt x="790" y="415"/>
                    </a:lnTo>
                    <a:lnTo>
                      <a:pt x="790" y="414"/>
                    </a:lnTo>
                    <a:lnTo>
                      <a:pt x="790" y="413"/>
                    </a:lnTo>
                    <a:lnTo>
                      <a:pt x="791" y="412"/>
                    </a:lnTo>
                    <a:lnTo>
                      <a:pt x="791" y="411"/>
                    </a:lnTo>
                    <a:lnTo>
                      <a:pt x="791" y="410"/>
                    </a:lnTo>
                    <a:lnTo>
                      <a:pt x="790" y="411"/>
                    </a:lnTo>
                    <a:lnTo>
                      <a:pt x="788" y="411"/>
                    </a:lnTo>
                    <a:lnTo>
                      <a:pt x="787" y="412"/>
                    </a:lnTo>
                    <a:lnTo>
                      <a:pt x="785" y="413"/>
                    </a:lnTo>
                    <a:lnTo>
                      <a:pt x="784" y="414"/>
                    </a:lnTo>
                    <a:lnTo>
                      <a:pt x="783" y="415"/>
                    </a:lnTo>
                    <a:lnTo>
                      <a:pt x="781" y="415"/>
                    </a:lnTo>
                    <a:lnTo>
                      <a:pt x="780" y="416"/>
                    </a:lnTo>
                    <a:close/>
                    <a:moveTo>
                      <a:pt x="806" y="419"/>
                    </a:moveTo>
                    <a:lnTo>
                      <a:pt x="809" y="419"/>
                    </a:lnTo>
                    <a:lnTo>
                      <a:pt x="813" y="419"/>
                    </a:lnTo>
                    <a:lnTo>
                      <a:pt x="815" y="419"/>
                    </a:lnTo>
                    <a:lnTo>
                      <a:pt x="817" y="418"/>
                    </a:lnTo>
                    <a:lnTo>
                      <a:pt x="820" y="418"/>
                    </a:lnTo>
                    <a:lnTo>
                      <a:pt x="822" y="417"/>
                    </a:lnTo>
                    <a:lnTo>
                      <a:pt x="824" y="416"/>
                    </a:lnTo>
                    <a:lnTo>
                      <a:pt x="826" y="415"/>
                    </a:lnTo>
                    <a:lnTo>
                      <a:pt x="826" y="410"/>
                    </a:lnTo>
                    <a:lnTo>
                      <a:pt x="836" y="410"/>
                    </a:lnTo>
                    <a:lnTo>
                      <a:pt x="838" y="407"/>
                    </a:lnTo>
                    <a:lnTo>
                      <a:pt x="840" y="403"/>
                    </a:lnTo>
                    <a:lnTo>
                      <a:pt x="843" y="399"/>
                    </a:lnTo>
                    <a:lnTo>
                      <a:pt x="846" y="395"/>
                    </a:lnTo>
                    <a:lnTo>
                      <a:pt x="850" y="391"/>
                    </a:lnTo>
                    <a:lnTo>
                      <a:pt x="854" y="387"/>
                    </a:lnTo>
                    <a:lnTo>
                      <a:pt x="857" y="385"/>
                    </a:lnTo>
                    <a:lnTo>
                      <a:pt x="861" y="384"/>
                    </a:lnTo>
                    <a:lnTo>
                      <a:pt x="878" y="346"/>
                    </a:lnTo>
                    <a:lnTo>
                      <a:pt x="898" y="300"/>
                    </a:lnTo>
                    <a:lnTo>
                      <a:pt x="919" y="249"/>
                    </a:lnTo>
                    <a:lnTo>
                      <a:pt x="941" y="195"/>
                    </a:lnTo>
                    <a:lnTo>
                      <a:pt x="951" y="167"/>
                    </a:lnTo>
                    <a:lnTo>
                      <a:pt x="961" y="141"/>
                    </a:lnTo>
                    <a:lnTo>
                      <a:pt x="969" y="116"/>
                    </a:lnTo>
                    <a:lnTo>
                      <a:pt x="977" y="91"/>
                    </a:lnTo>
                    <a:lnTo>
                      <a:pt x="983" y="69"/>
                    </a:lnTo>
                    <a:lnTo>
                      <a:pt x="987" y="48"/>
                    </a:lnTo>
                    <a:lnTo>
                      <a:pt x="990" y="29"/>
                    </a:lnTo>
                    <a:lnTo>
                      <a:pt x="991" y="13"/>
                    </a:lnTo>
                    <a:lnTo>
                      <a:pt x="996" y="13"/>
                    </a:lnTo>
                    <a:lnTo>
                      <a:pt x="1001" y="13"/>
                    </a:lnTo>
                    <a:lnTo>
                      <a:pt x="1001" y="10"/>
                    </a:lnTo>
                    <a:lnTo>
                      <a:pt x="1001" y="9"/>
                    </a:lnTo>
                    <a:lnTo>
                      <a:pt x="1000" y="8"/>
                    </a:lnTo>
                    <a:lnTo>
                      <a:pt x="999" y="7"/>
                    </a:lnTo>
                    <a:lnTo>
                      <a:pt x="999" y="6"/>
                    </a:lnTo>
                    <a:lnTo>
                      <a:pt x="998" y="3"/>
                    </a:lnTo>
                    <a:lnTo>
                      <a:pt x="997" y="2"/>
                    </a:lnTo>
                    <a:lnTo>
                      <a:pt x="996" y="1"/>
                    </a:lnTo>
                    <a:lnTo>
                      <a:pt x="996" y="0"/>
                    </a:lnTo>
                    <a:lnTo>
                      <a:pt x="984" y="20"/>
                    </a:lnTo>
                    <a:lnTo>
                      <a:pt x="979" y="19"/>
                    </a:lnTo>
                    <a:lnTo>
                      <a:pt x="975" y="18"/>
                    </a:lnTo>
                    <a:lnTo>
                      <a:pt x="972" y="19"/>
                    </a:lnTo>
                    <a:lnTo>
                      <a:pt x="969" y="20"/>
                    </a:lnTo>
                    <a:lnTo>
                      <a:pt x="966" y="25"/>
                    </a:lnTo>
                    <a:lnTo>
                      <a:pt x="964" y="30"/>
                    </a:lnTo>
                    <a:lnTo>
                      <a:pt x="962" y="35"/>
                    </a:lnTo>
                    <a:lnTo>
                      <a:pt x="960" y="40"/>
                    </a:lnTo>
                    <a:lnTo>
                      <a:pt x="958" y="43"/>
                    </a:lnTo>
                    <a:lnTo>
                      <a:pt x="955" y="44"/>
                    </a:lnTo>
                    <a:lnTo>
                      <a:pt x="952" y="45"/>
                    </a:lnTo>
                    <a:lnTo>
                      <a:pt x="949" y="45"/>
                    </a:lnTo>
                    <a:lnTo>
                      <a:pt x="948" y="56"/>
                    </a:lnTo>
                    <a:lnTo>
                      <a:pt x="945" y="68"/>
                    </a:lnTo>
                    <a:lnTo>
                      <a:pt x="942" y="80"/>
                    </a:lnTo>
                    <a:lnTo>
                      <a:pt x="938" y="91"/>
                    </a:lnTo>
                    <a:lnTo>
                      <a:pt x="934" y="102"/>
                    </a:lnTo>
                    <a:lnTo>
                      <a:pt x="930" y="113"/>
                    </a:lnTo>
                    <a:lnTo>
                      <a:pt x="926" y="124"/>
                    </a:lnTo>
                    <a:lnTo>
                      <a:pt x="923" y="136"/>
                    </a:lnTo>
                    <a:lnTo>
                      <a:pt x="927" y="143"/>
                    </a:lnTo>
                    <a:lnTo>
                      <a:pt x="925" y="151"/>
                    </a:lnTo>
                    <a:lnTo>
                      <a:pt x="922" y="160"/>
                    </a:lnTo>
                    <a:lnTo>
                      <a:pt x="918" y="167"/>
                    </a:lnTo>
                    <a:lnTo>
                      <a:pt x="914" y="176"/>
                    </a:lnTo>
                    <a:lnTo>
                      <a:pt x="910" y="183"/>
                    </a:lnTo>
                    <a:lnTo>
                      <a:pt x="907" y="191"/>
                    </a:lnTo>
                    <a:lnTo>
                      <a:pt x="902" y="198"/>
                    </a:lnTo>
                    <a:lnTo>
                      <a:pt x="898" y="205"/>
                    </a:lnTo>
                    <a:lnTo>
                      <a:pt x="897" y="209"/>
                    </a:lnTo>
                    <a:lnTo>
                      <a:pt x="898" y="212"/>
                    </a:lnTo>
                    <a:lnTo>
                      <a:pt x="899" y="214"/>
                    </a:lnTo>
                    <a:lnTo>
                      <a:pt x="900" y="216"/>
                    </a:lnTo>
                    <a:lnTo>
                      <a:pt x="902" y="218"/>
                    </a:lnTo>
                    <a:lnTo>
                      <a:pt x="904" y="221"/>
                    </a:lnTo>
                    <a:lnTo>
                      <a:pt x="902" y="223"/>
                    </a:lnTo>
                    <a:lnTo>
                      <a:pt x="900" y="227"/>
                    </a:lnTo>
                    <a:lnTo>
                      <a:pt x="894" y="235"/>
                    </a:lnTo>
                    <a:lnTo>
                      <a:pt x="889" y="245"/>
                    </a:lnTo>
                    <a:lnTo>
                      <a:pt x="886" y="253"/>
                    </a:lnTo>
                    <a:lnTo>
                      <a:pt x="882" y="263"/>
                    </a:lnTo>
                    <a:lnTo>
                      <a:pt x="879" y="272"/>
                    </a:lnTo>
                    <a:lnTo>
                      <a:pt x="875" y="282"/>
                    </a:lnTo>
                    <a:lnTo>
                      <a:pt x="870" y="290"/>
                    </a:lnTo>
                    <a:lnTo>
                      <a:pt x="862" y="298"/>
                    </a:lnTo>
                    <a:lnTo>
                      <a:pt x="863" y="304"/>
                    </a:lnTo>
                    <a:lnTo>
                      <a:pt x="863" y="309"/>
                    </a:lnTo>
                    <a:lnTo>
                      <a:pt x="861" y="314"/>
                    </a:lnTo>
                    <a:lnTo>
                      <a:pt x="859" y="320"/>
                    </a:lnTo>
                    <a:lnTo>
                      <a:pt x="855" y="325"/>
                    </a:lnTo>
                    <a:lnTo>
                      <a:pt x="852" y="330"/>
                    </a:lnTo>
                    <a:lnTo>
                      <a:pt x="849" y="336"/>
                    </a:lnTo>
                    <a:lnTo>
                      <a:pt x="846" y="341"/>
                    </a:lnTo>
                    <a:lnTo>
                      <a:pt x="846" y="344"/>
                    </a:lnTo>
                    <a:lnTo>
                      <a:pt x="846" y="347"/>
                    </a:lnTo>
                    <a:lnTo>
                      <a:pt x="845" y="349"/>
                    </a:lnTo>
                    <a:lnTo>
                      <a:pt x="844" y="351"/>
                    </a:lnTo>
                    <a:lnTo>
                      <a:pt x="841" y="356"/>
                    </a:lnTo>
                    <a:lnTo>
                      <a:pt x="838" y="360"/>
                    </a:lnTo>
                    <a:lnTo>
                      <a:pt x="835" y="364"/>
                    </a:lnTo>
                    <a:lnTo>
                      <a:pt x="833" y="368"/>
                    </a:lnTo>
                    <a:lnTo>
                      <a:pt x="833" y="370"/>
                    </a:lnTo>
                    <a:lnTo>
                      <a:pt x="833" y="373"/>
                    </a:lnTo>
                    <a:lnTo>
                      <a:pt x="834" y="376"/>
                    </a:lnTo>
                    <a:lnTo>
                      <a:pt x="836" y="379"/>
                    </a:lnTo>
                    <a:lnTo>
                      <a:pt x="833" y="384"/>
                    </a:lnTo>
                    <a:lnTo>
                      <a:pt x="828" y="389"/>
                    </a:lnTo>
                    <a:lnTo>
                      <a:pt x="825" y="394"/>
                    </a:lnTo>
                    <a:lnTo>
                      <a:pt x="821" y="399"/>
                    </a:lnTo>
                    <a:lnTo>
                      <a:pt x="818" y="404"/>
                    </a:lnTo>
                    <a:lnTo>
                      <a:pt x="814" y="410"/>
                    </a:lnTo>
                    <a:lnTo>
                      <a:pt x="810" y="415"/>
                    </a:lnTo>
                    <a:lnTo>
                      <a:pt x="806" y="419"/>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6114960" y="5708880"/>
                <a:ext cx="384120" cy="249120"/>
              </a:xfrm>
              <a:custGeom>
                <a:avLst/>
                <a:gdLst/>
                <a:ahLst/>
                <a:rect l="l" t="t" r="r" b="b"/>
                <a:pathLst>
                  <a:path w="726" h="472">
                    <a:moveTo>
                      <a:pt x="34" y="62"/>
                    </a:moveTo>
                    <a:lnTo>
                      <a:pt x="33" y="69"/>
                    </a:lnTo>
                    <a:lnTo>
                      <a:pt x="31" y="77"/>
                    </a:lnTo>
                    <a:lnTo>
                      <a:pt x="30" y="84"/>
                    </a:lnTo>
                    <a:lnTo>
                      <a:pt x="29" y="92"/>
                    </a:lnTo>
                    <a:lnTo>
                      <a:pt x="27" y="98"/>
                    </a:lnTo>
                    <a:lnTo>
                      <a:pt x="26" y="105"/>
                    </a:lnTo>
                    <a:lnTo>
                      <a:pt x="26" y="112"/>
                    </a:lnTo>
                    <a:lnTo>
                      <a:pt x="26" y="118"/>
                    </a:lnTo>
                    <a:lnTo>
                      <a:pt x="26" y="117"/>
                    </a:lnTo>
                    <a:lnTo>
                      <a:pt x="28" y="116"/>
                    </a:lnTo>
                    <a:lnTo>
                      <a:pt x="30" y="113"/>
                    </a:lnTo>
                    <a:lnTo>
                      <a:pt x="33" y="110"/>
                    </a:lnTo>
                    <a:lnTo>
                      <a:pt x="35" y="105"/>
                    </a:lnTo>
                    <a:lnTo>
                      <a:pt x="38" y="102"/>
                    </a:lnTo>
                    <a:lnTo>
                      <a:pt x="39" y="100"/>
                    </a:lnTo>
                    <a:lnTo>
                      <a:pt x="40" y="98"/>
                    </a:lnTo>
                    <a:lnTo>
                      <a:pt x="46" y="96"/>
                    </a:lnTo>
                    <a:lnTo>
                      <a:pt x="45" y="109"/>
                    </a:lnTo>
                    <a:lnTo>
                      <a:pt x="44" y="121"/>
                    </a:lnTo>
                    <a:lnTo>
                      <a:pt x="42" y="134"/>
                    </a:lnTo>
                    <a:lnTo>
                      <a:pt x="40" y="147"/>
                    </a:lnTo>
                    <a:lnTo>
                      <a:pt x="38" y="160"/>
                    </a:lnTo>
                    <a:lnTo>
                      <a:pt x="37" y="173"/>
                    </a:lnTo>
                    <a:lnTo>
                      <a:pt x="35" y="186"/>
                    </a:lnTo>
                    <a:lnTo>
                      <a:pt x="35" y="198"/>
                    </a:lnTo>
                    <a:lnTo>
                      <a:pt x="37" y="192"/>
                    </a:lnTo>
                    <a:lnTo>
                      <a:pt x="39" y="186"/>
                    </a:lnTo>
                    <a:lnTo>
                      <a:pt x="41" y="179"/>
                    </a:lnTo>
                    <a:lnTo>
                      <a:pt x="45" y="173"/>
                    </a:lnTo>
                    <a:lnTo>
                      <a:pt x="48" y="168"/>
                    </a:lnTo>
                    <a:lnTo>
                      <a:pt x="52" y="161"/>
                    </a:lnTo>
                    <a:lnTo>
                      <a:pt x="55" y="156"/>
                    </a:lnTo>
                    <a:lnTo>
                      <a:pt x="60" y="151"/>
                    </a:lnTo>
                    <a:lnTo>
                      <a:pt x="55" y="283"/>
                    </a:lnTo>
                    <a:lnTo>
                      <a:pt x="58" y="276"/>
                    </a:lnTo>
                    <a:lnTo>
                      <a:pt x="64" y="266"/>
                    </a:lnTo>
                    <a:lnTo>
                      <a:pt x="70" y="255"/>
                    </a:lnTo>
                    <a:lnTo>
                      <a:pt x="75" y="243"/>
                    </a:lnTo>
                    <a:lnTo>
                      <a:pt x="81" y="231"/>
                    </a:lnTo>
                    <a:lnTo>
                      <a:pt x="86" y="221"/>
                    </a:lnTo>
                    <a:lnTo>
                      <a:pt x="89" y="211"/>
                    </a:lnTo>
                    <a:lnTo>
                      <a:pt x="90" y="204"/>
                    </a:lnTo>
                    <a:lnTo>
                      <a:pt x="90" y="242"/>
                    </a:lnTo>
                    <a:lnTo>
                      <a:pt x="89" y="262"/>
                    </a:lnTo>
                    <a:lnTo>
                      <a:pt x="89" y="265"/>
                    </a:lnTo>
                    <a:lnTo>
                      <a:pt x="89" y="266"/>
                    </a:lnTo>
                    <a:lnTo>
                      <a:pt x="89" y="264"/>
                    </a:lnTo>
                    <a:lnTo>
                      <a:pt x="89" y="261"/>
                    </a:lnTo>
                    <a:lnTo>
                      <a:pt x="92" y="248"/>
                    </a:lnTo>
                    <a:lnTo>
                      <a:pt x="96" y="234"/>
                    </a:lnTo>
                    <a:lnTo>
                      <a:pt x="100" y="228"/>
                    </a:lnTo>
                    <a:lnTo>
                      <a:pt x="104" y="223"/>
                    </a:lnTo>
                    <a:lnTo>
                      <a:pt x="106" y="221"/>
                    </a:lnTo>
                    <a:lnTo>
                      <a:pt x="109" y="220"/>
                    </a:lnTo>
                    <a:lnTo>
                      <a:pt x="112" y="219"/>
                    </a:lnTo>
                    <a:lnTo>
                      <a:pt x="115" y="219"/>
                    </a:lnTo>
                    <a:lnTo>
                      <a:pt x="115" y="217"/>
                    </a:lnTo>
                    <a:lnTo>
                      <a:pt x="115" y="216"/>
                    </a:lnTo>
                    <a:lnTo>
                      <a:pt x="115" y="215"/>
                    </a:lnTo>
                    <a:lnTo>
                      <a:pt x="117" y="214"/>
                    </a:lnTo>
                    <a:lnTo>
                      <a:pt x="117" y="213"/>
                    </a:lnTo>
                    <a:lnTo>
                      <a:pt x="118" y="212"/>
                    </a:lnTo>
                    <a:lnTo>
                      <a:pt x="118" y="211"/>
                    </a:lnTo>
                    <a:lnTo>
                      <a:pt x="118" y="211"/>
                    </a:lnTo>
                    <a:lnTo>
                      <a:pt x="118" y="222"/>
                    </a:lnTo>
                    <a:lnTo>
                      <a:pt x="119" y="233"/>
                    </a:lnTo>
                    <a:lnTo>
                      <a:pt x="120" y="245"/>
                    </a:lnTo>
                    <a:lnTo>
                      <a:pt x="122" y="257"/>
                    </a:lnTo>
                    <a:lnTo>
                      <a:pt x="123" y="268"/>
                    </a:lnTo>
                    <a:lnTo>
                      <a:pt x="124" y="279"/>
                    </a:lnTo>
                    <a:lnTo>
                      <a:pt x="125" y="290"/>
                    </a:lnTo>
                    <a:lnTo>
                      <a:pt x="125" y="301"/>
                    </a:lnTo>
                    <a:lnTo>
                      <a:pt x="126" y="295"/>
                    </a:lnTo>
                    <a:lnTo>
                      <a:pt x="127" y="288"/>
                    </a:lnTo>
                    <a:lnTo>
                      <a:pt x="130" y="282"/>
                    </a:lnTo>
                    <a:lnTo>
                      <a:pt x="133" y="276"/>
                    </a:lnTo>
                    <a:lnTo>
                      <a:pt x="142" y="262"/>
                    </a:lnTo>
                    <a:lnTo>
                      <a:pt x="151" y="248"/>
                    </a:lnTo>
                    <a:lnTo>
                      <a:pt x="161" y="233"/>
                    </a:lnTo>
                    <a:lnTo>
                      <a:pt x="169" y="220"/>
                    </a:lnTo>
                    <a:lnTo>
                      <a:pt x="173" y="212"/>
                    </a:lnTo>
                    <a:lnTo>
                      <a:pt x="176" y="206"/>
                    </a:lnTo>
                    <a:lnTo>
                      <a:pt x="177" y="200"/>
                    </a:lnTo>
                    <a:lnTo>
                      <a:pt x="178" y="193"/>
                    </a:lnTo>
                    <a:lnTo>
                      <a:pt x="178" y="235"/>
                    </a:lnTo>
                    <a:lnTo>
                      <a:pt x="179" y="235"/>
                    </a:lnTo>
                    <a:lnTo>
                      <a:pt x="180" y="237"/>
                    </a:lnTo>
                    <a:lnTo>
                      <a:pt x="180" y="237"/>
                    </a:lnTo>
                    <a:lnTo>
                      <a:pt x="181" y="238"/>
                    </a:lnTo>
                    <a:lnTo>
                      <a:pt x="182" y="238"/>
                    </a:lnTo>
                    <a:lnTo>
                      <a:pt x="182" y="239"/>
                    </a:lnTo>
                    <a:lnTo>
                      <a:pt x="182" y="240"/>
                    </a:lnTo>
                    <a:lnTo>
                      <a:pt x="183" y="241"/>
                    </a:lnTo>
                    <a:lnTo>
                      <a:pt x="184" y="237"/>
                    </a:lnTo>
                    <a:lnTo>
                      <a:pt x="186" y="231"/>
                    </a:lnTo>
                    <a:lnTo>
                      <a:pt x="190" y="227"/>
                    </a:lnTo>
                    <a:lnTo>
                      <a:pt x="193" y="222"/>
                    </a:lnTo>
                    <a:lnTo>
                      <a:pt x="195" y="216"/>
                    </a:lnTo>
                    <a:lnTo>
                      <a:pt x="198" y="211"/>
                    </a:lnTo>
                    <a:lnTo>
                      <a:pt x="199" y="206"/>
                    </a:lnTo>
                    <a:lnTo>
                      <a:pt x="200" y="201"/>
                    </a:lnTo>
                    <a:lnTo>
                      <a:pt x="202" y="198"/>
                    </a:lnTo>
                    <a:lnTo>
                      <a:pt x="205" y="195"/>
                    </a:lnTo>
                    <a:lnTo>
                      <a:pt x="209" y="190"/>
                    </a:lnTo>
                    <a:lnTo>
                      <a:pt x="212" y="184"/>
                    </a:lnTo>
                    <a:lnTo>
                      <a:pt x="215" y="178"/>
                    </a:lnTo>
                    <a:lnTo>
                      <a:pt x="218" y="173"/>
                    </a:lnTo>
                    <a:lnTo>
                      <a:pt x="219" y="169"/>
                    </a:lnTo>
                    <a:lnTo>
                      <a:pt x="220" y="166"/>
                    </a:lnTo>
                    <a:lnTo>
                      <a:pt x="220" y="171"/>
                    </a:lnTo>
                    <a:lnTo>
                      <a:pt x="220" y="175"/>
                    </a:lnTo>
                    <a:lnTo>
                      <a:pt x="221" y="180"/>
                    </a:lnTo>
                    <a:lnTo>
                      <a:pt x="221" y="186"/>
                    </a:lnTo>
                    <a:lnTo>
                      <a:pt x="222" y="190"/>
                    </a:lnTo>
                    <a:lnTo>
                      <a:pt x="222" y="195"/>
                    </a:lnTo>
                    <a:lnTo>
                      <a:pt x="222" y="200"/>
                    </a:lnTo>
                    <a:lnTo>
                      <a:pt x="222" y="204"/>
                    </a:lnTo>
                    <a:lnTo>
                      <a:pt x="230" y="196"/>
                    </a:lnTo>
                    <a:lnTo>
                      <a:pt x="236" y="189"/>
                    </a:lnTo>
                    <a:lnTo>
                      <a:pt x="241" y="180"/>
                    </a:lnTo>
                    <a:lnTo>
                      <a:pt x="247" y="172"/>
                    </a:lnTo>
                    <a:lnTo>
                      <a:pt x="256" y="155"/>
                    </a:lnTo>
                    <a:lnTo>
                      <a:pt x="266" y="138"/>
                    </a:lnTo>
                    <a:lnTo>
                      <a:pt x="276" y="121"/>
                    </a:lnTo>
                    <a:lnTo>
                      <a:pt x="287" y="104"/>
                    </a:lnTo>
                    <a:lnTo>
                      <a:pt x="293" y="96"/>
                    </a:lnTo>
                    <a:lnTo>
                      <a:pt x="300" y="88"/>
                    </a:lnTo>
                    <a:lnTo>
                      <a:pt x="307" y="80"/>
                    </a:lnTo>
                    <a:lnTo>
                      <a:pt x="315" y="74"/>
                    </a:lnTo>
                    <a:lnTo>
                      <a:pt x="313" y="78"/>
                    </a:lnTo>
                    <a:lnTo>
                      <a:pt x="311" y="83"/>
                    </a:lnTo>
                    <a:lnTo>
                      <a:pt x="310" y="88"/>
                    </a:lnTo>
                    <a:lnTo>
                      <a:pt x="308" y="95"/>
                    </a:lnTo>
                    <a:lnTo>
                      <a:pt x="307" y="101"/>
                    </a:lnTo>
                    <a:lnTo>
                      <a:pt x="306" y="107"/>
                    </a:lnTo>
                    <a:lnTo>
                      <a:pt x="306" y="113"/>
                    </a:lnTo>
                    <a:lnTo>
                      <a:pt x="305" y="118"/>
                    </a:lnTo>
                    <a:lnTo>
                      <a:pt x="310" y="111"/>
                    </a:lnTo>
                    <a:lnTo>
                      <a:pt x="315" y="103"/>
                    </a:lnTo>
                    <a:lnTo>
                      <a:pt x="322" y="96"/>
                    </a:lnTo>
                    <a:lnTo>
                      <a:pt x="328" y="88"/>
                    </a:lnTo>
                    <a:lnTo>
                      <a:pt x="336" y="81"/>
                    </a:lnTo>
                    <a:lnTo>
                      <a:pt x="342" y="75"/>
                    </a:lnTo>
                    <a:lnTo>
                      <a:pt x="348" y="67"/>
                    </a:lnTo>
                    <a:lnTo>
                      <a:pt x="356" y="61"/>
                    </a:lnTo>
                    <a:lnTo>
                      <a:pt x="356" y="62"/>
                    </a:lnTo>
                    <a:lnTo>
                      <a:pt x="356" y="63"/>
                    </a:lnTo>
                    <a:lnTo>
                      <a:pt x="356" y="63"/>
                    </a:lnTo>
                    <a:lnTo>
                      <a:pt x="357" y="64"/>
                    </a:lnTo>
                    <a:lnTo>
                      <a:pt x="357" y="65"/>
                    </a:lnTo>
                    <a:lnTo>
                      <a:pt x="358" y="66"/>
                    </a:lnTo>
                    <a:lnTo>
                      <a:pt x="358" y="67"/>
                    </a:lnTo>
                    <a:lnTo>
                      <a:pt x="358" y="68"/>
                    </a:lnTo>
                    <a:lnTo>
                      <a:pt x="359" y="67"/>
                    </a:lnTo>
                    <a:lnTo>
                      <a:pt x="360" y="65"/>
                    </a:lnTo>
                    <a:lnTo>
                      <a:pt x="361" y="64"/>
                    </a:lnTo>
                    <a:lnTo>
                      <a:pt x="363" y="62"/>
                    </a:lnTo>
                    <a:lnTo>
                      <a:pt x="364" y="61"/>
                    </a:lnTo>
                    <a:lnTo>
                      <a:pt x="365" y="60"/>
                    </a:lnTo>
                    <a:lnTo>
                      <a:pt x="366" y="59"/>
                    </a:lnTo>
                    <a:lnTo>
                      <a:pt x="367" y="58"/>
                    </a:lnTo>
                    <a:lnTo>
                      <a:pt x="368" y="58"/>
                    </a:lnTo>
                    <a:lnTo>
                      <a:pt x="368" y="57"/>
                    </a:lnTo>
                    <a:lnTo>
                      <a:pt x="369" y="56"/>
                    </a:lnTo>
                    <a:lnTo>
                      <a:pt x="370" y="55"/>
                    </a:lnTo>
                    <a:lnTo>
                      <a:pt x="372" y="54"/>
                    </a:lnTo>
                    <a:lnTo>
                      <a:pt x="372" y="52"/>
                    </a:lnTo>
                    <a:lnTo>
                      <a:pt x="373" y="51"/>
                    </a:lnTo>
                    <a:lnTo>
                      <a:pt x="373" y="50"/>
                    </a:lnTo>
                    <a:lnTo>
                      <a:pt x="376" y="50"/>
                    </a:lnTo>
                    <a:lnTo>
                      <a:pt x="378" y="50"/>
                    </a:lnTo>
                    <a:lnTo>
                      <a:pt x="380" y="46"/>
                    </a:lnTo>
                    <a:lnTo>
                      <a:pt x="383" y="46"/>
                    </a:lnTo>
                    <a:lnTo>
                      <a:pt x="385" y="46"/>
                    </a:lnTo>
                    <a:lnTo>
                      <a:pt x="386" y="44"/>
                    </a:lnTo>
                    <a:lnTo>
                      <a:pt x="391" y="41"/>
                    </a:lnTo>
                    <a:lnTo>
                      <a:pt x="396" y="39"/>
                    </a:lnTo>
                    <a:lnTo>
                      <a:pt x="402" y="36"/>
                    </a:lnTo>
                    <a:lnTo>
                      <a:pt x="409" y="33"/>
                    </a:lnTo>
                    <a:lnTo>
                      <a:pt x="415" y="31"/>
                    </a:lnTo>
                    <a:lnTo>
                      <a:pt x="420" y="29"/>
                    </a:lnTo>
                    <a:lnTo>
                      <a:pt x="422" y="28"/>
                    </a:lnTo>
                    <a:lnTo>
                      <a:pt x="422" y="26"/>
                    </a:lnTo>
                    <a:lnTo>
                      <a:pt x="437" y="20"/>
                    </a:lnTo>
                    <a:lnTo>
                      <a:pt x="453" y="14"/>
                    </a:lnTo>
                    <a:lnTo>
                      <a:pt x="469" y="10"/>
                    </a:lnTo>
                    <a:lnTo>
                      <a:pt x="486" y="6"/>
                    </a:lnTo>
                    <a:lnTo>
                      <a:pt x="503" y="4"/>
                    </a:lnTo>
                    <a:lnTo>
                      <a:pt x="520" y="2"/>
                    </a:lnTo>
                    <a:lnTo>
                      <a:pt x="537" y="1"/>
                    </a:lnTo>
                    <a:lnTo>
                      <a:pt x="552" y="0"/>
                    </a:lnTo>
                    <a:lnTo>
                      <a:pt x="582" y="0"/>
                    </a:lnTo>
                    <a:lnTo>
                      <a:pt x="607" y="2"/>
                    </a:lnTo>
                    <a:lnTo>
                      <a:pt x="617" y="3"/>
                    </a:lnTo>
                    <a:lnTo>
                      <a:pt x="625" y="5"/>
                    </a:lnTo>
                    <a:lnTo>
                      <a:pt x="632" y="6"/>
                    </a:lnTo>
                    <a:lnTo>
                      <a:pt x="635" y="8"/>
                    </a:lnTo>
                    <a:lnTo>
                      <a:pt x="636" y="13"/>
                    </a:lnTo>
                    <a:lnTo>
                      <a:pt x="637" y="20"/>
                    </a:lnTo>
                    <a:lnTo>
                      <a:pt x="638" y="27"/>
                    </a:lnTo>
                    <a:lnTo>
                      <a:pt x="640" y="36"/>
                    </a:lnTo>
                    <a:lnTo>
                      <a:pt x="642" y="42"/>
                    </a:lnTo>
                    <a:lnTo>
                      <a:pt x="645" y="49"/>
                    </a:lnTo>
                    <a:lnTo>
                      <a:pt x="648" y="55"/>
                    </a:lnTo>
                    <a:lnTo>
                      <a:pt x="651" y="58"/>
                    </a:lnTo>
                    <a:lnTo>
                      <a:pt x="652" y="58"/>
                    </a:lnTo>
                    <a:lnTo>
                      <a:pt x="653" y="58"/>
                    </a:lnTo>
                    <a:lnTo>
                      <a:pt x="654" y="57"/>
                    </a:lnTo>
                    <a:lnTo>
                      <a:pt x="655" y="56"/>
                    </a:lnTo>
                    <a:lnTo>
                      <a:pt x="656" y="55"/>
                    </a:lnTo>
                    <a:lnTo>
                      <a:pt x="656" y="54"/>
                    </a:lnTo>
                    <a:lnTo>
                      <a:pt x="657" y="54"/>
                    </a:lnTo>
                    <a:lnTo>
                      <a:pt x="658" y="54"/>
                    </a:lnTo>
                    <a:lnTo>
                      <a:pt x="660" y="129"/>
                    </a:lnTo>
                    <a:lnTo>
                      <a:pt x="663" y="129"/>
                    </a:lnTo>
                    <a:lnTo>
                      <a:pt x="666" y="129"/>
                    </a:lnTo>
                    <a:lnTo>
                      <a:pt x="667" y="128"/>
                    </a:lnTo>
                    <a:lnTo>
                      <a:pt x="668" y="125"/>
                    </a:lnTo>
                    <a:lnTo>
                      <a:pt x="668" y="124"/>
                    </a:lnTo>
                    <a:lnTo>
                      <a:pt x="669" y="122"/>
                    </a:lnTo>
                    <a:lnTo>
                      <a:pt x="670" y="121"/>
                    </a:lnTo>
                    <a:lnTo>
                      <a:pt x="671" y="119"/>
                    </a:lnTo>
                    <a:lnTo>
                      <a:pt x="672" y="118"/>
                    </a:lnTo>
                    <a:lnTo>
                      <a:pt x="673" y="118"/>
                    </a:lnTo>
                    <a:lnTo>
                      <a:pt x="673" y="235"/>
                    </a:lnTo>
                    <a:lnTo>
                      <a:pt x="673" y="235"/>
                    </a:lnTo>
                    <a:lnTo>
                      <a:pt x="674" y="233"/>
                    </a:lnTo>
                    <a:lnTo>
                      <a:pt x="675" y="230"/>
                    </a:lnTo>
                    <a:lnTo>
                      <a:pt x="676" y="227"/>
                    </a:lnTo>
                    <a:lnTo>
                      <a:pt x="678" y="223"/>
                    </a:lnTo>
                    <a:lnTo>
                      <a:pt x="679" y="220"/>
                    </a:lnTo>
                    <a:lnTo>
                      <a:pt x="680" y="217"/>
                    </a:lnTo>
                    <a:lnTo>
                      <a:pt x="680" y="215"/>
                    </a:lnTo>
                    <a:lnTo>
                      <a:pt x="683" y="219"/>
                    </a:lnTo>
                    <a:lnTo>
                      <a:pt x="684" y="223"/>
                    </a:lnTo>
                    <a:lnTo>
                      <a:pt x="686" y="229"/>
                    </a:lnTo>
                    <a:lnTo>
                      <a:pt x="686" y="235"/>
                    </a:lnTo>
                    <a:lnTo>
                      <a:pt x="687" y="251"/>
                    </a:lnTo>
                    <a:lnTo>
                      <a:pt x="687" y="268"/>
                    </a:lnTo>
                    <a:lnTo>
                      <a:pt x="687" y="286"/>
                    </a:lnTo>
                    <a:lnTo>
                      <a:pt x="687" y="303"/>
                    </a:lnTo>
                    <a:lnTo>
                      <a:pt x="687" y="318"/>
                    </a:lnTo>
                    <a:lnTo>
                      <a:pt x="688" y="329"/>
                    </a:lnTo>
                    <a:lnTo>
                      <a:pt x="690" y="326"/>
                    </a:lnTo>
                    <a:lnTo>
                      <a:pt x="691" y="324"/>
                    </a:lnTo>
                    <a:lnTo>
                      <a:pt x="693" y="321"/>
                    </a:lnTo>
                    <a:lnTo>
                      <a:pt x="694" y="317"/>
                    </a:lnTo>
                    <a:lnTo>
                      <a:pt x="696" y="314"/>
                    </a:lnTo>
                    <a:lnTo>
                      <a:pt x="698" y="310"/>
                    </a:lnTo>
                    <a:lnTo>
                      <a:pt x="701" y="307"/>
                    </a:lnTo>
                    <a:lnTo>
                      <a:pt x="703" y="305"/>
                    </a:lnTo>
                    <a:lnTo>
                      <a:pt x="704" y="314"/>
                    </a:lnTo>
                    <a:lnTo>
                      <a:pt x="705" y="321"/>
                    </a:lnTo>
                    <a:lnTo>
                      <a:pt x="706" y="330"/>
                    </a:lnTo>
                    <a:lnTo>
                      <a:pt x="708" y="338"/>
                    </a:lnTo>
                    <a:lnTo>
                      <a:pt x="710" y="347"/>
                    </a:lnTo>
                    <a:lnTo>
                      <a:pt x="711" y="355"/>
                    </a:lnTo>
                    <a:lnTo>
                      <a:pt x="712" y="363"/>
                    </a:lnTo>
                    <a:lnTo>
                      <a:pt x="713" y="371"/>
                    </a:lnTo>
                    <a:lnTo>
                      <a:pt x="714" y="370"/>
                    </a:lnTo>
                    <a:lnTo>
                      <a:pt x="715" y="369"/>
                    </a:lnTo>
                    <a:lnTo>
                      <a:pt x="718" y="366"/>
                    </a:lnTo>
                    <a:lnTo>
                      <a:pt x="720" y="363"/>
                    </a:lnTo>
                    <a:lnTo>
                      <a:pt x="721" y="360"/>
                    </a:lnTo>
                    <a:lnTo>
                      <a:pt x="723" y="358"/>
                    </a:lnTo>
                    <a:lnTo>
                      <a:pt x="724" y="356"/>
                    </a:lnTo>
                    <a:lnTo>
                      <a:pt x="726" y="356"/>
                    </a:lnTo>
                    <a:lnTo>
                      <a:pt x="725" y="358"/>
                    </a:lnTo>
                    <a:lnTo>
                      <a:pt x="725" y="361"/>
                    </a:lnTo>
                    <a:lnTo>
                      <a:pt x="725" y="366"/>
                    </a:lnTo>
                    <a:lnTo>
                      <a:pt x="725" y="370"/>
                    </a:lnTo>
                    <a:lnTo>
                      <a:pt x="724" y="374"/>
                    </a:lnTo>
                    <a:lnTo>
                      <a:pt x="724" y="378"/>
                    </a:lnTo>
                    <a:lnTo>
                      <a:pt x="723" y="384"/>
                    </a:lnTo>
                    <a:lnTo>
                      <a:pt x="722" y="388"/>
                    </a:lnTo>
                    <a:lnTo>
                      <a:pt x="719" y="391"/>
                    </a:lnTo>
                    <a:lnTo>
                      <a:pt x="714" y="395"/>
                    </a:lnTo>
                    <a:lnTo>
                      <a:pt x="711" y="398"/>
                    </a:lnTo>
                    <a:lnTo>
                      <a:pt x="707" y="402"/>
                    </a:lnTo>
                    <a:lnTo>
                      <a:pt x="704" y="405"/>
                    </a:lnTo>
                    <a:lnTo>
                      <a:pt x="701" y="408"/>
                    </a:lnTo>
                    <a:lnTo>
                      <a:pt x="698" y="412"/>
                    </a:lnTo>
                    <a:lnTo>
                      <a:pt x="695" y="415"/>
                    </a:lnTo>
                    <a:lnTo>
                      <a:pt x="698" y="417"/>
                    </a:lnTo>
                    <a:lnTo>
                      <a:pt x="701" y="417"/>
                    </a:lnTo>
                    <a:lnTo>
                      <a:pt x="703" y="416"/>
                    </a:lnTo>
                    <a:lnTo>
                      <a:pt x="705" y="415"/>
                    </a:lnTo>
                    <a:lnTo>
                      <a:pt x="707" y="414"/>
                    </a:lnTo>
                    <a:lnTo>
                      <a:pt x="709" y="412"/>
                    </a:lnTo>
                    <a:lnTo>
                      <a:pt x="711" y="410"/>
                    </a:lnTo>
                    <a:lnTo>
                      <a:pt x="713" y="409"/>
                    </a:lnTo>
                    <a:lnTo>
                      <a:pt x="709" y="418"/>
                    </a:lnTo>
                    <a:lnTo>
                      <a:pt x="704" y="427"/>
                    </a:lnTo>
                    <a:lnTo>
                      <a:pt x="697" y="434"/>
                    </a:lnTo>
                    <a:lnTo>
                      <a:pt x="691" y="442"/>
                    </a:lnTo>
                    <a:lnTo>
                      <a:pt x="685" y="449"/>
                    </a:lnTo>
                    <a:lnTo>
                      <a:pt x="677" y="457"/>
                    </a:lnTo>
                    <a:lnTo>
                      <a:pt x="670" y="464"/>
                    </a:lnTo>
                    <a:lnTo>
                      <a:pt x="661" y="472"/>
                    </a:lnTo>
                    <a:lnTo>
                      <a:pt x="658" y="469"/>
                    </a:lnTo>
                    <a:lnTo>
                      <a:pt x="657" y="466"/>
                    </a:lnTo>
                    <a:lnTo>
                      <a:pt x="655" y="463"/>
                    </a:lnTo>
                    <a:lnTo>
                      <a:pt x="655" y="460"/>
                    </a:lnTo>
                    <a:lnTo>
                      <a:pt x="656" y="452"/>
                    </a:lnTo>
                    <a:lnTo>
                      <a:pt x="658" y="445"/>
                    </a:lnTo>
                    <a:lnTo>
                      <a:pt x="661" y="437"/>
                    </a:lnTo>
                    <a:lnTo>
                      <a:pt x="665" y="430"/>
                    </a:lnTo>
                    <a:lnTo>
                      <a:pt x="668" y="423"/>
                    </a:lnTo>
                    <a:lnTo>
                      <a:pt x="670" y="415"/>
                    </a:lnTo>
                    <a:lnTo>
                      <a:pt x="665" y="413"/>
                    </a:lnTo>
                    <a:lnTo>
                      <a:pt x="661" y="409"/>
                    </a:lnTo>
                    <a:lnTo>
                      <a:pt x="659" y="405"/>
                    </a:lnTo>
                    <a:lnTo>
                      <a:pt x="659" y="399"/>
                    </a:lnTo>
                    <a:lnTo>
                      <a:pt x="659" y="394"/>
                    </a:lnTo>
                    <a:lnTo>
                      <a:pt x="659" y="389"/>
                    </a:lnTo>
                    <a:lnTo>
                      <a:pt x="660" y="384"/>
                    </a:lnTo>
                    <a:lnTo>
                      <a:pt x="661" y="379"/>
                    </a:lnTo>
                    <a:lnTo>
                      <a:pt x="663" y="378"/>
                    </a:lnTo>
                    <a:lnTo>
                      <a:pt x="663" y="376"/>
                    </a:lnTo>
                    <a:lnTo>
                      <a:pt x="664" y="375"/>
                    </a:lnTo>
                    <a:lnTo>
                      <a:pt x="664" y="373"/>
                    </a:lnTo>
                    <a:lnTo>
                      <a:pt x="664" y="372"/>
                    </a:lnTo>
                    <a:lnTo>
                      <a:pt x="664" y="370"/>
                    </a:lnTo>
                    <a:lnTo>
                      <a:pt x="664" y="369"/>
                    </a:lnTo>
                    <a:lnTo>
                      <a:pt x="664" y="367"/>
                    </a:lnTo>
                    <a:lnTo>
                      <a:pt x="659" y="367"/>
                    </a:lnTo>
                    <a:lnTo>
                      <a:pt x="657" y="366"/>
                    </a:lnTo>
                    <a:lnTo>
                      <a:pt x="655" y="365"/>
                    </a:lnTo>
                    <a:lnTo>
                      <a:pt x="654" y="362"/>
                    </a:lnTo>
                    <a:lnTo>
                      <a:pt x="653" y="358"/>
                    </a:lnTo>
                    <a:lnTo>
                      <a:pt x="654" y="353"/>
                    </a:lnTo>
                    <a:lnTo>
                      <a:pt x="655" y="348"/>
                    </a:lnTo>
                    <a:lnTo>
                      <a:pt x="656" y="343"/>
                    </a:lnTo>
                    <a:lnTo>
                      <a:pt x="656" y="340"/>
                    </a:lnTo>
                    <a:lnTo>
                      <a:pt x="655" y="338"/>
                    </a:lnTo>
                    <a:lnTo>
                      <a:pt x="655" y="336"/>
                    </a:lnTo>
                    <a:lnTo>
                      <a:pt x="653" y="335"/>
                    </a:lnTo>
                    <a:lnTo>
                      <a:pt x="652" y="337"/>
                    </a:lnTo>
                    <a:lnTo>
                      <a:pt x="650" y="333"/>
                    </a:lnTo>
                    <a:lnTo>
                      <a:pt x="649" y="330"/>
                    </a:lnTo>
                    <a:lnTo>
                      <a:pt x="650" y="325"/>
                    </a:lnTo>
                    <a:lnTo>
                      <a:pt x="650" y="321"/>
                    </a:lnTo>
                    <a:lnTo>
                      <a:pt x="651" y="317"/>
                    </a:lnTo>
                    <a:lnTo>
                      <a:pt x="652" y="313"/>
                    </a:lnTo>
                    <a:lnTo>
                      <a:pt x="652" y="308"/>
                    </a:lnTo>
                    <a:lnTo>
                      <a:pt x="652" y="304"/>
                    </a:lnTo>
                    <a:lnTo>
                      <a:pt x="641" y="318"/>
                    </a:lnTo>
                    <a:lnTo>
                      <a:pt x="640" y="311"/>
                    </a:lnTo>
                    <a:lnTo>
                      <a:pt x="639" y="303"/>
                    </a:lnTo>
                    <a:lnTo>
                      <a:pt x="639" y="295"/>
                    </a:lnTo>
                    <a:lnTo>
                      <a:pt x="640" y="285"/>
                    </a:lnTo>
                    <a:lnTo>
                      <a:pt x="641" y="277"/>
                    </a:lnTo>
                    <a:lnTo>
                      <a:pt x="642" y="267"/>
                    </a:lnTo>
                    <a:lnTo>
                      <a:pt x="643" y="259"/>
                    </a:lnTo>
                    <a:lnTo>
                      <a:pt x="646" y="250"/>
                    </a:lnTo>
                    <a:lnTo>
                      <a:pt x="647" y="242"/>
                    </a:lnTo>
                    <a:lnTo>
                      <a:pt x="649" y="234"/>
                    </a:lnTo>
                    <a:lnTo>
                      <a:pt x="651" y="226"/>
                    </a:lnTo>
                    <a:lnTo>
                      <a:pt x="653" y="217"/>
                    </a:lnTo>
                    <a:lnTo>
                      <a:pt x="655" y="210"/>
                    </a:lnTo>
                    <a:lnTo>
                      <a:pt x="656" y="202"/>
                    </a:lnTo>
                    <a:lnTo>
                      <a:pt x="655" y="193"/>
                    </a:lnTo>
                    <a:lnTo>
                      <a:pt x="653" y="186"/>
                    </a:lnTo>
                    <a:lnTo>
                      <a:pt x="643" y="186"/>
                    </a:lnTo>
                    <a:lnTo>
                      <a:pt x="643" y="177"/>
                    </a:lnTo>
                    <a:lnTo>
                      <a:pt x="646" y="168"/>
                    </a:lnTo>
                    <a:lnTo>
                      <a:pt x="648" y="158"/>
                    </a:lnTo>
                    <a:lnTo>
                      <a:pt x="651" y="149"/>
                    </a:lnTo>
                    <a:lnTo>
                      <a:pt x="651" y="143"/>
                    </a:lnTo>
                    <a:lnTo>
                      <a:pt x="652" y="139"/>
                    </a:lnTo>
                    <a:lnTo>
                      <a:pt x="651" y="135"/>
                    </a:lnTo>
                    <a:lnTo>
                      <a:pt x="650" y="132"/>
                    </a:lnTo>
                    <a:lnTo>
                      <a:pt x="649" y="128"/>
                    </a:lnTo>
                    <a:lnTo>
                      <a:pt x="646" y="125"/>
                    </a:lnTo>
                    <a:lnTo>
                      <a:pt x="642" y="122"/>
                    </a:lnTo>
                    <a:lnTo>
                      <a:pt x="637" y="121"/>
                    </a:lnTo>
                    <a:lnTo>
                      <a:pt x="638" y="107"/>
                    </a:lnTo>
                    <a:lnTo>
                      <a:pt x="637" y="94"/>
                    </a:lnTo>
                    <a:lnTo>
                      <a:pt x="634" y="80"/>
                    </a:lnTo>
                    <a:lnTo>
                      <a:pt x="630" y="67"/>
                    </a:lnTo>
                    <a:lnTo>
                      <a:pt x="623" y="56"/>
                    </a:lnTo>
                    <a:lnTo>
                      <a:pt x="615" y="44"/>
                    </a:lnTo>
                    <a:lnTo>
                      <a:pt x="610" y="40"/>
                    </a:lnTo>
                    <a:lnTo>
                      <a:pt x="604" y="35"/>
                    </a:lnTo>
                    <a:lnTo>
                      <a:pt x="599" y="30"/>
                    </a:lnTo>
                    <a:lnTo>
                      <a:pt x="593" y="26"/>
                    </a:lnTo>
                    <a:lnTo>
                      <a:pt x="587" y="23"/>
                    </a:lnTo>
                    <a:lnTo>
                      <a:pt x="583" y="21"/>
                    </a:lnTo>
                    <a:lnTo>
                      <a:pt x="578" y="19"/>
                    </a:lnTo>
                    <a:lnTo>
                      <a:pt x="573" y="18"/>
                    </a:lnTo>
                    <a:lnTo>
                      <a:pt x="568" y="17"/>
                    </a:lnTo>
                    <a:lnTo>
                      <a:pt x="563" y="15"/>
                    </a:lnTo>
                    <a:lnTo>
                      <a:pt x="558" y="14"/>
                    </a:lnTo>
                    <a:lnTo>
                      <a:pt x="552" y="14"/>
                    </a:lnTo>
                    <a:lnTo>
                      <a:pt x="533" y="17"/>
                    </a:lnTo>
                    <a:lnTo>
                      <a:pt x="513" y="21"/>
                    </a:lnTo>
                    <a:lnTo>
                      <a:pt x="494" y="26"/>
                    </a:lnTo>
                    <a:lnTo>
                      <a:pt x="476" y="32"/>
                    </a:lnTo>
                    <a:lnTo>
                      <a:pt x="457" y="40"/>
                    </a:lnTo>
                    <a:lnTo>
                      <a:pt x="439" y="48"/>
                    </a:lnTo>
                    <a:lnTo>
                      <a:pt x="422" y="58"/>
                    </a:lnTo>
                    <a:lnTo>
                      <a:pt x="405" y="67"/>
                    </a:lnTo>
                    <a:lnTo>
                      <a:pt x="390" y="79"/>
                    </a:lnTo>
                    <a:lnTo>
                      <a:pt x="373" y="91"/>
                    </a:lnTo>
                    <a:lnTo>
                      <a:pt x="358" y="103"/>
                    </a:lnTo>
                    <a:lnTo>
                      <a:pt x="343" y="116"/>
                    </a:lnTo>
                    <a:lnTo>
                      <a:pt x="328" y="130"/>
                    </a:lnTo>
                    <a:lnTo>
                      <a:pt x="314" y="145"/>
                    </a:lnTo>
                    <a:lnTo>
                      <a:pt x="301" y="158"/>
                    </a:lnTo>
                    <a:lnTo>
                      <a:pt x="288" y="173"/>
                    </a:lnTo>
                    <a:lnTo>
                      <a:pt x="285" y="174"/>
                    </a:lnTo>
                    <a:lnTo>
                      <a:pt x="282" y="175"/>
                    </a:lnTo>
                    <a:lnTo>
                      <a:pt x="278" y="177"/>
                    </a:lnTo>
                    <a:lnTo>
                      <a:pt x="275" y="179"/>
                    </a:lnTo>
                    <a:lnTo>
                      <a:pt x="273" y="183"/>
                    </a:lnTo>
                    <a:lnTo>
                      <a:pt x="271" y="185"/>
                    </a:lnTo>
                    <a:lnTo>
                      <a:pt x="270" y="188"/>
                    </a:lnTo>
                    <a:lnTo>
                      <a:pt x="268" y="191"/>
                    </a:lnTo>
                    <a:lnTo>
                      <a:pt x="261" y="201"/>
                    </a:lnTo>
                    <a:lnTo>
                      <a:pt x="256" y="210"/>
                    </a:lnTo>
                    <a:lnTo>
                      <a:pt x="250" y="219"/>
                    </a:lnTo>
                    <a:lnTo>
                      <a:pt x="244" y="228"/>
                    </a:lnTo>
                    <a:lnTo>
                      <a:pt x="238" y="237"/>
                    </a:lnTo>
                    <a:lnTo>
                      <a:pt x="232" y="246"/>
                    </a:lnTo>
                    <a:lnTo>
                      <a:pt x="224" y="255"/>
                    </a:lnTo>
                    <a:lnTo>
                      <a:pt x="218" y="262"/>
                    </a:lnTo>
                    <a:lnTo>
                      <a:pt x="220" y="256"/>
                    </a:lnTo>
                    <a:lnTo>
                      <a:pt x="223" y="249"/>
                    </a:lnTo>
                    <a:lnTo>
                      <a:pt x="227" y="243"/>
                    </a:lnTo>
                    <a:lnTo>
                      <a:pt x="230" y="237"/>
                    </a:lnTo>
                    <a:lnTo>
                      <a:pt x="233" y="230"/>
                    </a:lnTo>
                    <a:lnTo>
                      <a:pt x="235" y="224"/>
                    </a:lnTo>
                    <a:lnTo>
                      <a:pt x="236" y="217"/>
                    </a:lnTo>
                    <a:lnTo>
                      <a:pt x="237" y="212"/>
                    </a:lnTo>
                    <a:lnTo>
                      <a:pt x="228" y="223"/>
                    </a:lnTo>
                    <a:lnTo>
                      <a:pt x="218" y="234"/>
                    </a:lnTo>
                    <a:lnTo>
                      <a:pt x="210" y="247"/>
                    </a:lnTo>
                    <a:lnTo>
                      <a:pt x="202" y="260"/>
                    </a:lnTo>
                    <a:lnTo>
                      <a:pt x="195" y="272"/>
                    </a:lnTo>
                    <a:lnTo>
                      <a:pt x="187" y="285"/>
                    </a:lnTo>
                    <a:lnTo>
                      <a:pt x="180" y="298"/>
                    </a:lnTo>
                    <a:lnTo>
                      <a:pt x="171" y="311"/>
                    </a:lnTo>
                    <a:lnTo>
                      <a:pt x="172" y="305"/>
                    </a:lnTo>
                    <a:lnTo>
                      <a:pt x="173" y="301"/>
                    </a:lnTo>
                    <a:lnTo>
                      <a:pt x="175" y="297"/>
                    </a:lnTo>
                    <a:lnTo>
                      <a:pt x="177" y="292"/>
                    </a:lnTo>
                    <a:lnTo>
                      <a:pt x="180" y="287"/>
                    </a:lnTo>
                    <a:lnTo>
                      <a:pt x="183" y="282"/>
                    </a:lnTo>
                    <a:lnTo>
                      <a:pt x="185" y="277"/>
                    </a:lnTo>
                    <a:lnTo>
                      <a:pt x="187" y="272"/>
                    </a:lnTo>
                    <a:lnTo>
                      <a:pt x="186" y="271"/>
                    </a:lnTo>
                    <a:lnTo>
                      <a:pt x="185" y="270"/>
                    </a:lnTo>
                    <a:lnTo>
                      <a:pt x="184" y="269"/>
                    </a:lnTo>
                    <a:lnTo>
                      <a:pt x="183" y="268"/>
                    </a:lnTo>
                    <a:lnTo>
                      <a:pt x="182" y="267"/>
                    </a:lnTo>
                    <a:lnTo>
                      <a:pt x="180" y="266"/>
                    </a:lnTo>
                    <a:lnTo>
                      <a:pt x="179" y="266"/>
                    </a:lnTo>
                    <a:lnTo>
                      <a:pt x="177" y="266"/>
                    </a:lnTo>
                    <a:lnTo>
                      <a:pt x="128" y="349"/>
                    </a:lnTo>
                    <a:lnTo>
                      <a:pt x="139" y="321"/>
                    </a:lnTo>
                    <a:lnTo>
                      <a:pt x="138" y="319"/>
                    </a:lnTo>
                    <a:lnTo>
                      <a:pt x="137" y="318"/>
                    </a:lnTo>
                    <a:lnTo>
                      <a:pt x="136" y="318"/>
                    </a:lnTo>
                    <a:lnTo>
                      <a:pt x="135" y="317"/>
                    </a:lnTo>
                    <a:lnTo>
                      <a:pt x="133" y="317"/>
                    </a:lnTo>
                    <a:lnTo>
                      <a:pt x="131" y="317"/>
                    </a:lnTo>
                    <a:lnTo>
                      <a:pt x="130" y="317"/>
                    </a:lnTo>
                    <a:lnTo>
                      <a:pt x="128" y="317"/>
                    </a:lnTo>
                    <a:lnTo>
                      <a:pt x="123" y="329"/>
                    </a:lnTo>
                    <a:lnTo>
                      <a:pt x="117" y="339"/>
                    </a:lnTo>
                    <a:lnTo>
                      <a:pt x="110" y="351"/>
                    </a:lnTo>
                    <a:lnTo>
                      <a:pt x="104" y="362"/>
                    </a:lnTo>
                    <a:lnTo>
                      <a:pt x="97" y="374"/>
                    </a:lnTo>
                    <a:lnTo>
                      <a:pt x="92" y="386"/>
                    </a:lnTo>
                    <a:lnTo>
                      <a:pt x="87" y="397"/>
                    </a:lnTo>
                    <a:lnTo>
                      <a:pt x="83" y="409"/>
                    </a:lnTo>
                    <a:lnTo>
                      <a:pt x="84" y="393"/>
                    </a:lnTo>
                    <a:lnTo>
                      <a:pt x="87" y="378"/>
                    </a:lnTo>
                    <a:lnTo>
                      <a:pt x="89" y="365"/>
                    </a:lnTo>
                    <a:lnTo>
                      <a:pt x="93" y="350"/>
                    </a:lnTo>
                    <a:lnTo>
                      <a:pt x="97" y="336"/>
                    </a:lnTo>
                    <a:lnTo>
                      <a:pt x="102" y="322"/>
                    </a:lnTo>
                    <a:lnTo>
                      <a:pt x="107" y="308"/>
                    </a:lnTo>
                    <a:lnTo>
                      <a:pt x="112" y="295"/>
                    </a:lnTo>
                    <a:lnTo>
                      <a:pt x="109" y="290"/>
                    </a:lnTo>
                    <a:lnTo>
                      <a:pt x="101" y="299"/>
                    </a:lnTo>
                    <a:lnTo>
                      <a:pt x="93" y="310"/>
                    </a:lnTo>
                    <a:lnTo>
                      <a:pt x="87" y="320"/>
                    </a:lnTo>
                    <a:lnTo>
                      <a:pt x="82" y="331"/>
                    </a:lnTo>
                    <a:lnTo>
                      <a:pt x="76" y="342"/>
                    </a:lnTo>
                    <a:lnTo>
                      <a:pt x="71" y="354"/>
                    </a:lnTo>
                    <a:lnTo>
                      <a:pt x="67" y="366"/>
                    </a:lnTo>
                    <a:lnTo>
                      <a:pt x="63" y="377"/>
                    </a:lnTo>
                    <a:lnTo>
                      <a:pt x="62" y="369"/>
                    </a:lnTo>
                    <a:lnTo>
                      <a:pt x="62" y="360"/>
                    </a:lnTo>
                    <a:lnTo>
                      <a:pt x="63" y="350"/>
                    </a:lnTo>
                    <a:lnTo>
                      <a:pt x="64" y="340"/>
                    </a:lnTo>
                    <a:lnTo>
                      <a:pt x="66" y="331"/>
                    </a:lnTo>
                    <a:lnTo>
                      <a:pt x="68" y="320"/>
                    </a:lnTo>
                    <a:lnTo>
                      <a:pt x="71" y="312"/>
                    </a:lnTo>
                    <a:lnTo>
                      <a:pt x="74" y="302"/>
                    </a:lnTo>
                    <a:lnTo>
                      <a:pt x="73" y="301"/>
                    </a:lnTo>
                    <a:lnTo>
                      <a:pt x="72" y="300"/>
                    </a:lnTo>
                    <a:lnTo>
                      <a:pt x="71" y="300"/>
                    </a:lnTo>
                    <a:lnTo>
                      <a:pt x="70" y="299"/>
                    </a:lnTo>
                    <a:lnTo>
                      <a:pt x="69" y="299"/>
                    </a:lnTo>
                    <a:lnTo>
                      <a:pt x="67" y="299"/>
                    </a:lnTo>
                    <a:lnTo>
                      <a:pt x="66" y="299"/>
                    </a:lnTo>
                    <a:lnTo>
                      <a:pt x="65" y="299"/>
                    </a:lnTo>
                    <a:lnTo>
                      <a:pt x="58" y="311"/>
                    </a:lnTo>
                    <a:lnTo>
                      <a:pt x="53" y="322"/>
                    </a:lnTo>
                    <a:lnTo>
                      <a:pt x="49" y="335"/>
                    </a:lnTo>
                    <a:lnTo>
                      <a:pt x="44" y="347"/>
                    </a:lnTo>
                    <a:lnTo>
                      <a:pt x="39" y="359"/>
                    </a:lnTo>
                    <a:lnTo>
                      <a:pt x="35" y="372"/>
                    </a:lnTo>
                    <a:lnTo>
                      <a:pt x="32" y="385"/>
                    </a:lnTo>
                    <a:lnTo>
                      <a:pt x="30" y="397"/>
                    </a:lnTo>
                    <a:lnTo>
                      <a:pt x="27" y="386"/>
                    </a:lnTo>
                    <a:lnTo>
                      <a:pt x="26" y="374"/>
                    </a:lnTo>
                    <a:lnTo>
                      <a:pt x="27" y="362"/>
                    </a:lnTo>
                    <a:lnTo>
                      <a:pt x="28" y="351"/>
                    </a:lnTo>
                    <a:lnTo>
                      <a:pt x="30" y="339"/>
                    </a:lnTo>
                    <a:lnTo>
                      <a:pt x="32" y="327"/>
                    </a:lnTo>
                    <a:lnTo>
                      <a:pt x="34" y="316"/>
                    </a:lnTo>
                    <a:lnTo>
                      <a:pt x="36" y="304"/>
                    </a:lnTo>
                    <a:lnTo>
                      <a:pt x="30" y="299"/>
                    </a:lnTo>
                    <a:lnTo>
                      <a:pt x="26" y="302"/>
                    </a:lnTo>
                    <a:lnTo>
                      <a:pt x="23" y="305"/>
                    </a:lnTo>
                    <a:lnTo>
                      <a:pt x="21" y="310"/>
                    </a:lnTo>
                    <a:lnTo>
                      <a:pt x="19" y="314"/>
                    </a:lnTo>
                    <a:lnTo>
                      <a:pt x="18" y="319"/>
                    </a:lnTo>
                    <a:lnTo>
                      <a:pt x="17" y="323"/>
                    </a:lnTo>
                    <a:lnTo>
                      <a:pt x="16" y="329"/>
                    </a:lnTo>
                    <a:lnTo>
                      <a:pt x="14" y="333"/>
                    </a:lnTo>
                    <a:lnTo>
                      <a:pt x="12" y="317"/>
                    </a:lnTo>
                    <a:lnTo>
                      <a:pt x="12" y="302"/>
                    </a:lnTo>
                    <a:lnTo>
                      <a:pt x="13" y="288"/>
                    </a:lnTo>
                    <a:lnTo>
                      <a:pt x="14" y="274"/>
                    </a:lnTo>
                    <a:lnTo>
                      <a:pt x="17" y="259"/>
                    </a:lnTo>
                    <a:lnTo>
                      <a:pt x="20" y="245"/>
                    </a:lnTo>
                    <a:lnTo>
                      <a:pt x="24" y="231"/>
                    </a:lnTo>
                    <a:lnTo>
                      <a:pt x="28" y="217"/>
                    </a:lnTo>
                    <a:lnTo>
                      <a:pt x="28" y="216"/>
                    </a:lnTo>
                    <a:lnTo>
                      <a:pt x="27" y="215"/>
                    </a:lnTo>
                    <a:lnTo>
                      <a:pt x="26" y="214"/>
                    </a:lnTo>
                    <a:lnTo>
                      <a:pt x="24" y="213"/>
                    </a:lnTo>
                    <a:lnTo>
                      <a:pt x="23" y="212"/>
                    </a:lnTo>
                    <a:lnTo>
                      <a:pt x="21" y="211"/>
                    </a:lnTo>
                    <a:lnTo>
                      <a:pt x="19" y="211"/>
                    </a:lnTo>
                    <a:lnTo>
                      <a:pt x="18" y="212"/>
                    </a:lnTo>
                    <a:lnTo>
                      <a:pt x="0" y="244"/>
                    </a:lnTo>
                    <a:lnTo>
                      <a:pt x="0" y="230"/>
                    </a:lnTo>
                    <a:lnTo>
                      <a:pt x="2" y="216"/>
                    </a:lnTo>
                    <a:lnTo>
                      <a:pt x="4" y="204"/>
                    </a:lnTo>
                    <a:lnTo>
                      <a:pt x="9" y="190"/>
                    </a:lnTo>
                    <a:lnTo>
                      <a:pt x="13" y="177"/>
                    </a:lnTo>
                    <a:lnTo>
                      <a:pt x="18" y="165"/>
                    </a:lnTo>
                    <a:lnTo>
                      <a:pt x="22" y="152"/>
                    </a:lnTo>
                    <a:lnTo>
                      <a:pt x="28" y="139"/>
                    </a:lnTo>
                    <a:lnTo>
                      <a:pt x="27" y="138"/>
                    </a:lnTo>
                    <a:lnTo>
                      <a:pt x="26" y="137"/>
                    </a:lnTo>
                    <a:lnTo>
                      <a:pt x="24" y="135"/>
                    </a:lnTo>
                    <a:lnTo>
                      <a:pt x="22" y="134"/>
                    </a:lnTo>
                    <a:lnTo>
                      <a:pt x="21" y="133"/>
                    </a:lnTo>
                    <a:lnTo>
                      <a:pt x="19" y="133"/>
                    </a:lnTo>
                    <a:lnTo>
                      <a:pt x="18" y="133"/>
                    </a:lnTo>
                    <a:lnTo>
                      <a:pt x="16" y="133"/>
                    </a:lnTo>
                    <a:lnTo>
                      <a:pt x="16" y="131"/>
                    </a:lnTo>
                    <a:lnTo>
                      <a:pt x="16" y="128"/>
                    </a:lnTo>
                    <a:lnTo>
                      <a:pt x="16" y="124"/>
                    </a:lnTo>
                    <a:lnTo>
                      <a:pt x="16" y="122"/>
                    </a:lnTo>
                    <a:lnTo>
                      <a:pt x="16" y="119"/>
                    </a:lnTo>
                    <a:lnTo>
                      <a:pt x="17" y="117"/>
                    </a:lnTo>
                    <a:lnTo>
                      <a:pt x="19" y="115"/>
                    </a:lnTo>
                    <a:lnTo>
                      <a:pt x="22" y="113"/>
                    </a:lnTo>
                    <a:lnTo>
                      <a:pt x="23" y="106"/>
                    </a:lnTo>
                    <a:lnTo>
                      <a:pt x="24" y="100"/>
                    </a:lnTo>
                    <a:lnTo>
                      <a:pt x="27" y="94"/>
                    </a:lnTo>
                    <a:lnTo>
                      <a:pt x="28" y="87"/>
                    </a:lnTo>
                    <a:lnTo>
                      <a:pt x="30" y="81"/>
                    </a:lnTo>
                    <a:lnTo>
                      <a:pt x="31" y="75"/>
                    </a:lnTo>
                    <a:lnTo>
                      <a:pt x="33" y="68"/>
                    </a:lnTo>
                    <a:lnTo>
                      <a:pt x="34" y="62"/>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0" name=""/>
              <p:cNvSpPr/>
              <p:nvPr/>
            </p:nvSpPr>
            <p:spPr>
              <a:xfrm>
                <a:off x="6373440" y="5924520"/>
                <a:ext cx="462240" cy="451080"/>
              </a:xfrm>
              <a:custGeom>
                <a:avLst/>
                <a:gdLst/>
                <a:ahLst/>
                <a:rect l="l" t="t" r="r" b="b"/>
                <a:pathLst>
                  <a:path w="871" h="851">
                    <a:moveTo>
                      <a:pt x="223" y="0"/>
                    </a:moveTo>
                    <a:lnTo>
                      <a:pt x="223" y="1"/>
                    </a:lnTo>
                    <a:lnTo>
                      <a:pt x="223" y="1"/>
                    </a:lnTo>
                    <a:lnTo>
                      <a:pt x="223" y="1"/>
                    </a:lnTo>
                    <a:lnTo>
                      <a:pt x="223" y="1"/>
                    </a:lnTo>
                    <a:lnTo>
                      <a:pt x="223" y="1"/>
                    </a:lnTo>
                    <a:lnTo>
                      <a:pt x="223" y="1"/>
                    </a:lnTo>
                    <a:lnTo>
                      <a:pt x="223" y="1"/>
                    </a:lnTo>
                    <a:lnTo>
                      <a:pt x="223" y="1"/>
                    </a:lnTo>
                    <a:lnTo>
                      <a:pt x="220" y="7"/>
                    </a:lnTo>
                    <a:lnTo>
                      <a:pt x="216" y="13"/>
                    </a:lnTo>
                    <a:lnTo>
                      <a:pt x="213" y="19"/>
                    </a:lnTo>
                    <a:lnTo>
                      <a:pt x="208" y="24"/>
                    </a:lnTo>
                    <a:lnTo>
                      <a:pt x="205" y="28"/>
                    </a:lnTo>
                    <a:lnTo>
                      <a:pt x="201" y="34"/>
                    </a:lnTo>
                    <a:lnTo>
                      <a:pt x="196" y="39"/>
                    </a:lnTo>
                    <a:lnTo>
                      <a:pt x="192" y="43"/>
                    </a:lnTo>
                    <a:lnTo>
                      <a:pt x="194" y="41"/>
                    </a:lnTo>
                    <a:lnTo>
                      <a:pt x="196" y="38"/>
                    </a:lnTo>
                    <a:lnTo>
                      <a:pt x="198" y="35"/>
                    </a:lnTo>
                    <a:lnTo>
                      <a:pt x="200" y="32"/>
                    </a:lnTo>
                    <a:lnTo>
                      <a:pt x="201" y="28"/>
                    </a:lnTo>
                    <a:lnTo>
                      <a:pt x="203" y="26"/>
                    </a:lnTo>
                    <a:lnTo>
                      <a:pt x="204" y="23"/>
                    </a:lnTo>
                    <a:lnTo>
                      <a:pt x="205" y="20"/>
                    </a:lnTo>
                    <a:lnTo>
                      <a:pt x="207" y="19"/>
                    </a:lnTo>
                    <a:lnTo>
                      <a:pt x="210" y="18"/>
                    </a:lnTo>
                    <a:lnTo>
                      <a:pt x="212" y="16"/>
                    </a:lnTo>
                    <a:lnTo>
                      <a:pt x="214" y="14"/>
                    </a:lnTo>
                    <a:lnTo>
                      <a:pt x="217" y="11"/>
                    </a:lnTo>
                    <a:lnTo>
                      <a:pt x="219" y="7"/>
                    </a:lnTo>
                    <a:lnTo>
                      <a:pt x="221" y="4"/>
                    </a:lnTo>
                    <a:lnTo>
                      <a:pt x="223" y="1"/>
                    </a:lnTo>
                    <a:lnTo>
                      <a:pt x="223" y="1"/>
                    </a:lnTo>
                    <a:lnTo>
                      <a:pt x="223" y="1"/>
                    </a:lnTo>
                    <a:lnTo>
                      <a:pt x="223" y="1"/>
                    </a:lnTo>
                    <a:lnTo>
                      <a:pt x="223" y="1"/>
                    </a:lnTo>
                    <a:lnTo>
                      <a:pt x="223" y="1"/>
                    </a:lnTo>
                    <a:lnTo>
                      <a:pt x="223" y="1"/>
                    </a:lnTo>
                    <a:lnTo>
                      <a:pt x="223" y="1"/>
                    </a:lnTo>
                    <a:lnTo>
                      <a:pt x="223" y="0"/>
                    </a:lnTo>
                    <a:close/>
                    <a:moveTo>
                      <a:pt x="217" y="30"/>
                    </a:moveTo>
                    <a:lnTo>
                      <a:pt x="215" y="36"/>
                    </a:lnTo>
                    <a:lnTo>
                      <a:pt x="214" y="42"/>
                    </a:lnTo>
                    <a:lnTo>
                      <a:pt x="213" y="49"/>
                    </a:lnTo>
                    <a:lnTo>
                      <a:pt x="212" y="56"/>
                    </a:lnTo>
                    <a:lnTo>
                      <a:pt x="212" y="62"/>
                    </a:lnTo>
                    <a:lnTo>
                      <a:pt x="211" y="69"/>
                    </a:lnTo>
                    <a:lnTo>
                      <a:pt x="211" y="76"/>
                    </a:lnTo>
                    <a:lnTo>
                      <a:pt x="211" y="83"/>
                    </a:lnTo>
                    <a:lnTo>
                      <a:pt x="213" y="78"/>
                    </a:lnTo>
                    <a:lnTo>
                      <a:pt x="213" y="83"/>
                    </a:lnTo>
                    <a:lnTo>
                      <a:pt x="212" y="91"/>
                    </a:lnTo>
                    <a:lnTo>
                      <a:pt x="210" y="99"/>
                    </a:lnTo>
                    <a:lnTo>
                      <a:pt x="208" y="108"/>
                    </a:lnTo>
                    <a:lnTo>
                      <a:pt x="207" y="116"/>
                    </a:lnTo>
                    <a:lnTo>
                      <a:pt x="207" y="125"/>
                    </a:lnTo>
                    <a:lnTo>
                      <a:pt x="208" y="128"/>
                    </a:lnTo>
                    <a:lnTo>
                      <a:pt x="210" y="131"/>
                    </a:lnTo>
                    <a:lnTo>
                      <a:pt x="211" y="133"/>
                    </a:lnTo>
                    <a:lnTo>
                      <a:pt x="213" y="134"/>
                    </a:lnTo>
                    <a:lnTo>
                      <a:pt x="211" y="192"/>
                    </a:lnTo>
                    <a:lnTo>
                      <a:pt x="212" y="192"/>
                    </a:lnTo>
                    <a:lnTo>
                      <a:pt x="213" y="191"/>
                    </a:lnTo>
                    <a:lnTo>
                      <a:pt x="214" y="190"/>
                    </a:lnTo>
                    <a:lnTo>
                      <a:pt x="215" y="189"/>
                    </a:lnTo>
                    <a:lnTo>
                      <a:pt x="216" y="188"/>
                    </a:lnTo>
                    <a:lnTo>
                      <a:pt x="217" y="187"/>
                    </a:lnTo>
                    <a:lnTo>
                      <a:pt x="218" y="186"/>
                    </a:lnTo>
                    <a:lnTo>
                      <a:pt x="218" y="185"/>
                    </a:lnTo>
                    <a:lnTo>
                      <a:pt x="218" y="191"/>
                    </a:lnTo>
                    <a:lnTo>
                      <a:pt x="218" y="197"/>
                    </a:lnTo>
                    <a:lnTo>
                      <a:pt x="219" y="202"/>
                    </a:lnTo>
                    <a:lnTo>
                      <a:pt x="220" y="207"/>
                    </a:lnTo>
                    <a:lnTo>
                      <a:pt x="222" y="210"/>
                    </a:lnTo>
                    <a:lnTo>
                      <a:pt x="224" y="214"/>
                    </a:lnTo>
                    <a:lnTo>
                      <a:pt x="228" y="215"/>
                    </a:lnTo>
                    <a:lnTo>
                      <a:pt x="231" y="216"/>
                    </a:lnTo>
                    <a:lnTo>
                      <a:pt x="231" y="220"/>
                    </a:lnTo>
                    <a:lnTo>
                      <a:pt x="232" y="226"/>
                    </a:lnTo>
                    <a:lnTo>
                      <a:pt x="233" y="235"/>
                    </a:lnTo>
                    <a:lnTo>
                      <a:pt x="234" y="243"/>
                    </a:lnTo>
                    <a:lnTo>
                      <a:pt x="235" y="252"/>
                    </a:lnTo>
                    <a:lnTo>
                      <a:pt x="236" y="259"/>
                    </a:lnTo>
                    <a:lnTo>
                      <a:pt x="236" y="264"/>
                    </a:lnTo>
                    <a:lnTo>
                      <a:pt x="236" y="266"/>
                    </a:lnTo>
                    <a:lnTo>
                      <a:pt x="236" y="266"/>
                    </a:lnTo>
                    <a:lnTo>
                      <a:pt x="237" y="266"/>
                    </a:lnTo>
                    <a:lnTo>
                      <a:pt x="237" y="268"/>
                    </a:lnTo>
                    <a:lnTo>
                      <a:pt x="238" y="269"/>
                    </a:lnTo>
                    <a:lnTo>
                      <a:pt x="238" y="271"/>
                    </a:lnTo>
                    <a:lnTo>
                      <a:pt x="238" y="272"/>
                    </a:lnTo>
                    <a:lnTo>
                      <a:pt x="238" y="273"/>
                    </a:lnTo>
                    <a:lnTo>
                      <a:pt x="238" y="274"/>
                    </a:lnTo>
                    <a:lnTo>
                      <a:pt x="236" y="274"/>
                    </a:lnTo>
                    <a:lnTo>
                      <a:pt x="236" y="283"/>
                    </a:lnTo>
                    <a:lnTo>
                      <a:pt x="237" y="284"/>
                    </a:lnTo>
                    <a:lnTo>
                      <a:pt x="238" y="284"/>
                    </a:lnTo>
                    <a:lnTo>
                      <a:pt x="238" y="284"/>
                    </a:lnTo>
                    <a:lnTo>
                      <a:pt x="238" y="285"/>
                    </a:lnTo>
                    <a:lnTo>
                      <a:pt x="238" y="285"/>
                    </a:lnTo>
                    <a:lnTo>
                      <a:pt x="238" y="287"/>
                    </a:lnTo>
                    <a:lnTo>
                      <a:pt x="239" y="287"/>
                    </a:lnTo>
                    <a:lnTo>
                      <a:pt x="240" y="287"/>
                    </a:lnTo>
                    <a:lnTo>
                      <a:pt x="240" y="289"/>
                    </a:lnTo>
                    <a:lnTo>
                      <a:pt x="240" y="292"/>
                    </a:lnTo>
                    <a:lnTo>
                      <a:pt x="241" y="293"/>
                    </a:lnTo>
                    <a:lnTo>
                      <a:pt x="242" y="294"/>
                    </a:lnTo>
                    <a:lnTo>
                      <a:pt x="244" y="296"/>
                    </a:lnTo>
                    <a:lnTo>
                      <a:pt x="246" y="297"/>
                    </a:lnTo>
                    <a:lnTo>
                      <a:pt x="247" y="299"/>
                    </a:lnTo>
                    <a:lnTo>
                      <a:pt x="248" y="300"/>
                    </a:lnTo>
                    <a:lnTo>
                      <a:pt x="248" y="301"/>
                    </a:lnTo>
                    <a:lnTo>
                      <a:pt x="248" y="301"/>
                    </a:lnTo>
                    <a:lnTo>
                      <a:pt x="248" y="302"/>
                    </a:lnTo>
                    <a:lnTo>
                      <a:pt x="248" y="303"/>
                    </a:lnTo>
                    <a:lnTo>
                      <a:pt x="248" y="303"/>
                    </a:lnTo>
                    <a:lnTo>
                      <a:pt x="248" y="305"/>
                    </a:lnTo>
                    <a:lnTo>
                      <a:pt x="248" y="306"/>
                    </a:lnTo>
                    <a:lnTo>
                      <a:pt x="248" y="307"/>
                    </a:lnTo>
                    <a:lnTo>
                      <a:pt x="248" y="307"/>
                    </a:lnTo>
                    <a:lnTo>
                      <a:pt x="248" y="308"/>
                    </a:lnTo>
                    <a:lnTo>
                      <a:pt x="248" y="310"/>
                    </a:lnTo>
                    <a:lnTo>
                      <a:pt x="247" y="312"/>
                    </a:lnTo>
                    <a:lnTo>
                      <a:pt x="246" y="314"/>
                    </a:lnTo>
                    <a:lnTo>
                      <a:pt x="243" y="315"/>
                    </a:lnTo>
                    <a:lnTo>
                      <a:pt x="242" y="316"/>
                    </a:lnTo>
                    <a:lnTo>
                      <a:pt x="240" y="317"/>
                    </a:lnTo>
                    <a:lnTo>
                      <a:pt x="238" y="317"/>
                    </a:lnTo>
                    <a:lnTo>
                      <a:pt x="236" y="317"/>
                    </a:lnTo>
                    <a:lnTo>
                      <a:pt x="232" y="315"/>
                    </a:lnTo>
                    <a:lnTo>
                      <a:pt x="230" y="313"/>
                    </a:lnTo>
                    <a:lnTo>
                      <a:pt x="226" y="311"/>
                    </a:lnTo>
                    <a:lnTo>
                      <a:pt x="225" y="308"/>
                    </a:lnTo>
                    <a:lnTo>
                      <a:pt x="223" y="301"/>
                    </a:lnTo>
                    <a:lnTo>
                      <a:pt x="222" y="293"/>
                    </a:lnTo>
                    <a:lnTo>
                      <a:pt x="222" y="285"/>
                    </a:lnTo>
                    <a:lnTo>
                      <a:pt x="221" y="278"/>
                    </a:lnTo>
                    <a:lnTo>
                      <a:pt x="220" y="275"/>
                    </a:lnTo>
                    <a:lnTo>
                      <a:pt x="218" y="272"/>
                    </a:lnTo>
                    <a:lnTo>
                      <a:pt x="216" y="269"/>
                    </a:lnTo>
                    <a:lnTo>
                      <a:pt x="214" y="266"/>
                    </a:lnTo>
                    <a:lnTo>
                      <a:pt x="207" y="259"/>
                    </a:lnTo>
                    <a:lnTo>
                      <a:pt x="203" y="250"/>
                    </a:lnTo>
                    <a:lnTo>
                      <a:pt x="199" y="240"/>
                    </a:lnTo>
                    <a:lnTo>
                      <a:pt x="196" y="229"/>
                    </a:lnTo>
                    <a:lnTo>
                      <a:pt x="193" y="220"/>
                    </a:lnTo>
                    <a:lnTo>
                      <a:pt x="188" y="210"/>
                    </a:lnTo>
                    <a:lnTo>
                      <a:pt x="186" y="205"/>
                    </a:lnTo>
                    <a:lnTo>
                      <a:pt x="183" y="201"/>
                    </a:lnTo>
                    <a:lnTo>
                      <a:pt x="180" y="198"/>
                    </a:lnTo>
                    <a:lnTo>
                      <a:pt x="176" y="193"/>
                    </a:lnTo>
                    <a:lnTo>
                      <a:pt x="176" y="184"/>
                    </a:lnTo>
                    <a:lnTo>
                      <a:pt x="176" y="173"/>
                    </a:lnTo>
                    <a:lnTo>
                      <a:pt x="176" y="163"/>
                    </a:lnTo>
                    <a:lnTo>
                      <a:pt x="175" y="152"/>
                    </a:lnTo>
                    <a:lnTo>
                      <a:pt x="175" y="142"/>
                    </a:lnTo>
                    <a:lnTo>
                      <a:pt x="176" y="131"/>
                    </a:lnTo>
                    <a:lnTo>
                      <a:pt x="178" y="122"/>
                    </a:lnTo>
                    <a:lnTo>
                      <a:pt x="181" y="111"/>
                    </a:lnTo>
                    <a:lnTo>
                      <a:pt x="180" y="107"/>
                    </a:lnTo>
                    <a:lnTo>
                      <a:pt x="179" y="103"/>
                    </a:lnTo>
                    <a:lnTo>
                      <a:pt x="180" y="97"/>
                    </a:lnTo>
                    <a:lnTo>
                      <a:pt x="181" y="93"/>
                    </a:lnTo>
                    <a:lnTo>
                      <a:pt x="182" y="88"/>
                    </a:lnTo>
                    <a:lnTo>
                      <a:pt x="184" y="82"/>
                    </a:lnTo>
                    <a:lnTo>
                      <a:pt x="186" y="78"/>
                    </a:lnTo>
                    <a:lnTo>
                      <a:pt x="187" y="73"/>
                    </a:lnTo>
                    <a:lnTo>
                      <a:pt x="190" y="68"/>
                    </a:lnTo>
                    <a:lnTo>
                      <a:pt x="194" y="61"/>
                    </a:lnTo>
                    <a:lnTo>
                      <a:pt x="197" y="56"/>
                    </a:lnTo>
                    <a:lnTo>
                      <a:pt x="201" y="51"/>
                    </a:lnTo>
                    <a:lnTo>
                      <a:pt x="204" y="45"/>
                    </a:lnTo>
                    <a:lnTo>
                      <a:pt x="208" y="40"/>
                    </a:lnTo>
                    <a:lnTo>
                      <a:pt x="213" y="35"/>
                    </a:lnTo>
                    <a:lnTo>
                      <a:pt x="217" y="30"/>
                    </a:lnTo>
                    <a:close/>
                    <a:moveTo>
                      <a:pt x="174" y="660"/>
                    </a:moveTo>
                    <a:lnTo>
                      <a:pt x="174" y="660"/>
                    </a:lnTo>
                    <a:lnTo>
                      <a:pt x="174" y="660"/>
                    </a:lnTo>
                    <a:lnTo>
                      <a:pt x="175" y="660"/>
                    </a:lnTo>
                    <a:lnTo>
                      <a:pt x="175" y="660"/>
                    </a:lnTo>
                    <a:lnTo>
                      <a:pt x="175" y="660"/>
                    </a:lnTo>
                    <a:lnTo>
                      <a:pt x="175" y="660"/>
                    </a:lnTo>
                    <a:lnTo>
                      <a:pt x="176" y="660"/>
                    </a:lnTo>
                    <a:lnTo>
                      <a:pt x="176" y="660"/>
                    </a:lnTo>
                    <a:lnTo>
                      <a:pt x="170" y="664"/>
                    </a:lnTo>
                    <a:lnTo>
                      <a:pt x="164" y="668"/>
                    </a:lnTo>
                    <a:lnTo>
                      <a:pt x="158" y="673"/>
                    </a:lnTo>
                    <a:lnTo>
                      <a:pt x="150" y="675"/>
                    </a:lnTo>
                    <a:lnTo>
                      <a:pt x="143" y="678"/>
                    </a:lnTo>
                    <a:lnTo>
                      <a:pt x="135" y="681"/>
                    </a:lnTo>
                    <a:lnTo>
                      <a:pt x="128" y="683"/>
                    </a:lnTo>
                    <a:lnTo>
                      <a:pt x="121" y="686"/>
                    </a:lnTo>
                    <a:lnTo>
                      <a:pt x="114" y="682"/>
                    </a:lnTo>
                    <a:lnTo>
                      <a:pt x="122" y="679"/>
                    </a:lnTo>
                    <a:lnTo>
                      <a:pt x="129" y="676"/>
                    </a:lnTo>
                    <a:lnTo>
                      <a:pt x="138" y="674"/>
                    </a:lnTo>
                    <a:lnTo>
                      <a:pt x="145" y="672"/>
                    </a:lnTo>
                    <a:lnTo>
                      <a:pt x="153" y="669"/>
                    </a:lnTo>
                    <a:lnTo>
                      <a:pt x="161" y="667"/>
                    </a:lnTo>
                    <a:lnTo>
                      <a:pt x="167" y="664"/>
                    </a:lnTo>
                    <a:lnTo>
                      <a:pt x="174" y="660"/>
                    </a:lnTo>
                    <a:close/>
                    <a:moveTo>
                      <a:pt x="100" y="698"/>
                    </a:moveTo>
                    <a:lnTo>
                      <a:pt x="98" y="699"/>
                    </a:lnTo>
                    <a:lnTo>
                      <a:pt x="96" y="701"/>
                    </a:lnTo>
                    <a:lnTo>
                      <a:pt x="95" y="702"/>
                    </a:lnTo>
                    <a:lnTo>
                      <a:pt x="93" y="703"/>
                    </a:lnTo>
                    <a:lnTo>
                      <a:pt x="92" y="705"/>
                    </a:lnTo>
                    <a:lnTo>
                      <a:pt x="91" y="708"/>
                    </a:lnTo>
                    <a:lnTo>
                      <a:pt x="89" y="709"/>
                    </a:lnTo>
                    <a:lnTo>
                      <a:pt x="88" y="711"/>
                    </a:lnTo>
                    <a:lnTo>
                      <a:pt x="133" y="711"/>
                    </a:lnTo>
                    <a:lnTo>
                      <a:pt x="129" y="715"/>
                    </a:lnTo>
                    <a:lnTo>
                      <a:pt x="125" y="719"/>
                    </a:lnTo>
                    <a:lnTo>
                      <a:pt x="121" y="723"/>
                    </a:lnTo>
                    <a:lnTo>
                      <a:pt x="117" y="728"/>
                    </a:lnTo>
                    <a:lnTo>
                      <a:pt x="113" y="733"/>
                    </a:lnTo>
                    <a:lnTo>
                      <a:pt x="109" y="738"/>
                    </a:lnTo>
                    <a:lnTo>
                      <a:pt x="106" y="743"/>
                    </a:lnTo>
                    <a:lnTo>
                      <a:pt x="103" y="749"/>
                    </a:lnTo>
                    <a:lnTo>
                      <a:pt x="117" y="752"/>
                    </a:lnTo>
                    <a:lnTo>
                      <a:pt x="132" y="752"/>
                    </a:lnTo>
                    <a:lnTo>
                      <a:pt x="148" y="752"/>
                    </a:lnTo>
                    <a:lnTo>
                      <a:pt x="164" y="750"/>
                    </a:lnTo>
                    <a:lnTo>
                      <a:pt x="181" y="748"/>
                    </a:lnTo>
                    <a:lnTo>
                      <a:pt x="197" y="745"/>
                    </a:lnTo>
                    <a:lnTo>
                      <a:pt x="213" y="742"/>
                    </a:lnTo>
                    <a:lnTo>
                      <a:pt x="228" y="741"/>
                    </a:lnTo>
                    <a:lnTo>
                      <a:pt x="226" y="743"/>
                    </a:lnTo>
                    <a:lnTo>
                      <a:pt x="224" y="746"/>
                    </a:lnTo>
                    <a:lnTo>
                      <a:pt x="221" y="748"/>
                    </a:lnTo>
                    <a:lnTo>
                      <a:pt x="219" y="750"/>
                    </a:lnTo>
                    <a:lnTo>
                      <a:pt x="218" y="752"/>
                    </a:lnTo>
                    <a:lnTo>
                      <a:pt x="216" y="755"/>
                    </a:lnTo>
                    <a:lnTo>
                      <a:pt x="214" y="757"/>
                    </a:lnTo>
                    <a:lnTo>
                      <a:pt x="213" y="759"/>
                    </a:lnTo>
                    <a:lnTo>
                      <a:pt x="220" y="758"/>
                    </a:lnTo>
                    <a:lnTo>
                      <a:pt x="229" y="755"/>
                    </a:lnTo>
                    <a:lnTo>
                      <a:pt x="238" y="752"/>
                    </a:lnTo>
                    <a:lnTo>
                      <a:pt x="249" y="747"/>
                    </a:lnTo>
                    <a:lnTo>
                      <a:pt x="259" y="742"/>
                    </a:lnTo>
                    <a:lnTo>
                      <a:pt x="269" y="737"/>
                    </a:lnTo>
                    <a:lnTo>
                      <a:pt x="277" y="734"/>
                    </a:lnTo>
                    <a:lnTo>
                      <a:pt x="283" y="731"/>
                    </a:lnTo>
                    <a:lnTo>
                      <a:pt x="283" y="736"/>
                    </a:lnTo>
                    <a:lnTo>
                      <a:pt x="283" y="742"/>
                    </a:lnTo>
                    <a:lnTo>
                      <a:pt x="280" y="749"/>
                    </a:lnTo>
                    <a:lnTo>
                      <a:pt x="279" y="755"/>
                    </a:lnTo>
                    <a:lnTo>
                      <a:pt x="277" y="761"/>
                    </a:lnTo>
                    <a:lnTo>
                      <a:pt x="274" y="767"/>
                    </a:lnTo>
                    <a:lnTo>
                      <a:pt x="272" y="772"/>
                    </a:lnTo>
                    <a:lnTo>
                      <a:pt x="268" y="776"/>
                    </a:lnTo>
                    <a:lnTo>
                      <a:pt x="275" y="776"/>
                    </a:lnTo>
                    <a:lnTo>
                      <a:pt x="281" y="770"/>
                    </a:lnTo>
                    <a:lnTo>
                      <a:pt x="290" y="764"/>
                    </a:lnTo>
                    <a:lnTo>
                      <a:pt x="298" y="759"/>
                    </a:lnTo>
                    <a:lnTo>
                      <a:pt x="308" y="755"/>
                    </a:lnTo>
                    <a:lnTo>
                      <a:pt x="317" y="751"/>
                    </a:lnTo>
                    <a:lnTo>
                      <a:pt x="327" y="747"/>
                    </a:lnTo>
                    <a:lnTo>
                      <a:pt x="337" y="743"/>
                    </a:lnTo>
                    <a:lnTo>
                      <a:pt x="346" y="738"/>
                    </a:lnTo>
                    <a:lnTo>
                      <a:pt x="347" y="735"/>
                    </a:lnTo>
                    <a:lnTo>
                      <a:pt x="348" y="731"/>
                    </a:lnTo>
                    <a:lnTo>
                      <a:pt x="351" y="728"/>
                    </a:lnTo>
                    <a:lnTo>
                      <a:pt x="353" y="723"/>
                    </a:lnTo>
                    <a:lnTo>
                      <a:pt x="357" y="720"/>
                    </a:lnTo>
                    <a:lnTo>
                      <a:pt x="360" y="717"/>
                    </a:lnTo>
                    <a:lnTo>
                      <a:pt x="363" y="714"/>
                    </a:lnTo>
                    <a:lnTo>
                      <a:pt x="365" y="711"/>
                    </a:lnTo>
                    <a:lnTo>
                      <a:pt x="364" y="717"/>
                    </a:lnTo>
                    <a:lnTo>
                      <a:pt x="363" y="723"/>
                    </a:lnTo>
                    <a:lnTo>
                      <a:pt x="362" y="731"/>
                    </a:lnTo>
                    <a:lnTo>
                      <a:pt x="361" y="738"/>
                    </a:lnTo>
                    <a:lnTo>
                      <a:pt x="361" y="746"/>
                    </a:lnTo>
                    <a:lnTo>
                      <a:pt x="361" y="753"/>
                    </a:lnTo>
                    <a:lnTo>
                      <a:pt x="361" y="759"/>
                    </a:lnTo>
                    <a:lnTo>
                      <a:pt x="361" y="767"/>
                    </a:lnTo>
                    <a:lnTo>
                      <a:pt x="368" y="757"/>
                    </a:lnTo>
                    <a:lnTo>
                      <a:pt x="377" y="748"/>
                    </a:lnTo>
                    <a:lnTo>
                      <a:pt x="386" y="738"/>
                    </a:lnTo>
                    <a:lnTo>
                      <a:pt x="396" y="729"/>
                    </a:lnTo>
                    <a:lnTo>
                      <a:pt x="405" y="718"/>
                    </a:lnTo>
                    <a:lnTo>
                      <a:pt x="415" y="709"/>
                    </a:lnTo>
                    <a:lnTo>
                      <a:pt x="423" y="698"/>
                    </a:lnTo>
                    <a:lnTo>
                      <a:pt x="431" y="687"/>
                    </a:lnTo>
                    <a:lnTo>
                      <a:pt x="431" y="692"/>
                    </a:lnTo>
                    <a:lnTo>
                      <a:pt x="431" y="696"/>
                    </a:lnTo>
                    <a:lnTo>
                      <a:pt x="430" y="700"/>
                    </a:lnTo>
                    <a:lnTo>
                      <a:pt x="430" y="704"/>
                    </a:lnTo>
                    <a:lnTo>
                      <a:pt x="429" y="709"/>
                    </a:lnTo>
                    <a:lnTo>
                      <a:pt x="429" y="713"/>
                    </a:lnTo>
                    <a:lnTo>
                      <a:pt x="429" y="717"/>
                    </a:lnTo>
                    <a:lnTo>
                      <a:pt x="429" y="721"/>
                    </a:lnTo>
                    <a:lnTo>
                      <a:pt x="434" y="712"/>
                    </a:lnTo>
                    <a:lnTo>
                      <a:pt x="439" y="703"/>
                    </a:lnTo>
                    <a:lnTo>
                      <a:pt x="444" y="695"/>
                    </a:lnTo>
                    <a:lnTo>
                      <a:pt x="449" y="685"/>
                    </a:lnTo>
                    <a:lnTo>
                      <a:pt x="453" y="676"/>
                    </a:lnTo>
                    <a:lnTo>
                      <a:pt x="457" y="667"/>
                    </a:lnTo>
                    <a:lnTo>
                      <a:pt x="461" y="659"/>
                    </a:lnTo>
                    <a:lnTo>
                      <a:pt x="466" y="649"/>
                    </a:lnTo>
                    <a:lnTo>
                      <a:pt x="466" y="683"/>
                    </a:lnTo>
                    <a:lnTo>
                      <a:pt x="523" y="591"/>
                    </a:lnTo>
                    <a:lnTo>
                      <a:pt x="524" y="595"/>
                    </a:lnTo>
                    <a:lnTo>
                      <a:pt x="524" y="599"/>
                    </a:lnTo>
                    <a:lnTo>
                      <a:pt x="525" y="602"/>
                    </a:lnTo>
                    <a:lnTo>
                      <a:pt x="526" y="605"/>
                    </a:lnTo>
                    <a:lnTo>
                      <a:pt x="527" y="608"/>
                    </a:lnTo>
                    <a:lnTo>
                      <a:pt x="528" y="611"/>
                    </a:lnTo>
                    <a:lnTo>
                      <a:pt x="529" y="613"/>
                    </a:lnTo>
                    <a:lnTo>
                      <a:pt x="530" y="617"/>
                    </a:lnTo>
                    <a:lnTo>
                      <a:pt x="539" y="611"/>
                    </a:lnTo>
                    <a:lnTo>
                      <a:pt x="548" y="602"/>
                    </a:lnTo>
                    <a:lnTo>
                      <a:pt x="560" y="589"/>
                    </a:lnTo>
                    <a:lnTo>
                      <a:pt x="571" y="574"/>
                    </a:lnTo>
                    <a:lnTo>
                      <a:pt x="581" y="559"/>
                    </a:lnTo>
                    <a:lnTo>
                      <a:pt x="590" y="545"/>
                    </a:lnTo>
                    <a:lnTo>
                      <a:pt x="594" y="538"/>
                    </a:lnTo>
                    <a:lnTo>
                      <a:pt x="596" y="532"/>
                    </a:lnTo>
                    <a:lnTo>
                      <a:pt x="598" y="527"/>
                    </a:lnTo>
                    <a:lnTo>
                      <a:pt x="598" y="522"/>
                    </a:lnTo>
                    <a:lnTo>
                      <a:pt x="598" y="555"/>
                    </a:lnTo>
                    <a:lnTo>
                      <a:pt x="609" y="549"/>
                    </a:lnTo>
                    <a:lnTo>
                      <a:pt x="622" y="544"/>
                    </a:lnTo>
                    <a:lnTo>
                      <a:pt x="634" y="537"/>
                    </a:lnTo>
                    <a:lnTo>
                      <a:pt x="647" y="532"/>
                    </a:lnTo>
                    <a:lnTo>
                      <a:pt x="658" y="526"/>
                    </a:lnTo>
                    <a:lnTo>
                      <a:pt x="670" y="519"/>
                    </a:lnTo>
                    <a:lnTo>
                      <a:pt x="680" y="511"/>
                    </a:lnTo>
                    <a:lnTo>
                      <a:pt x="691" y="502"/>
                    </a:lnTo>
                    <a:lnTo>
                      <a:pt x="690" y="508"/>
                    </a:lnTo>
                    <a:lnTo>
                      <a:pt x="689" y="514"/>
                    </a:lnTo>
                    <a:lnTo>
                      <a:pt x="687" y="520"/>
                    </a:lnTo>
                    <a:lnTo>
                      <a:pt x="686" y="527"/>
                    </a:lnTo>
                    <a:lnTo>
                      <a:pt x="685" y="534"/>
                    </a:lnTo>
                    <a:lnTo>
                      <a:pt x="684" y="540"/>
                    </a:lnTo>
                    <a:lnTo>
                      <a:pt x="684" y="547"/>
                    </a:lnTo>
                    <a:lnTo>
                      <a:pt x="684" y="553"/>
                    </a:lnTo>
                    <a:lnTo>
                      <a:pt x="688" y="548"/>
                    </a:lnTo>
                    <a:lnTo>
                      <a:pt x="694" y="541"/>
                    </a:lnTo>
                    <a:lnTo>
                      <a:pt x="702" y="535"/>
                    </a:lnTo>
                    <a:lnTo>
                      <a:pt x="710" y="529"/>
                    </a:lnTo>
                    <a:lnTo>
                      <a:pt x="720" y="522"/>
                    </a:lnTo>
                    <a:lnTo>
                      <a:pt x="729" y="517"/>
                    </a:lnTo>
                    <a:lnTo>
                      <a:pt x="736" y="513"/>
                    </a:lnTo>
                    <a:lnTo>
                      <a:pt x="743" y="510"/>
                    </a:lnTo>
                    <a:lnTo>
                      <a:pt x="744" y="509"/>
                    </a:lnTo>
                    <a:lnTo>
                      <a:pt x="744" y="508"/>
                    </a:lnTo>
                    <a:lnTo>
                      <a:pt x="745" y="507"/>
                    </a:lnTo>
                    <a:lnTo>
                      <a:pt x="746" y="505"/>
                    </a:lnTo>
                    <a:lnTo>
                      <a:pt x="747" y="504"/>
                    </a:lnTo>
                    <a:lnTo>
                      <a:pt x="748" y="503"/>
                    </a:lnTo>
                    <a:lnTo>
                      <a:pt x="750" y="502"/>
                    </a:lnTo>
                    <a:lnTo>
                      <a:pt x="751" y="502"/>
                    </a:lnTo>
                    <a:lnTo>
                      <a:pt x="750" y="503"/>
                    </a:lnTo>
                    <a:lnTo>
                      <a:pt x="748" y="505"/>
                    </a:lnTo>
                    <a:lnTo>
                      <a:pt x="747" y="509"/>
                    </a:lnTo>
                    <a:lnTo>
                      <a:pt x="746" y="512"/>
                    </a:lnTo>
                    <a:lnTo>
                      <a:pt x="745" y="515"/>
                    </a:lnTo>
                    <a:lnTo>
                      <a:pt x="744" y="518"/>
                    </a:lnTo>
                    <a:lnTo>
                      <a:pt x="744" y="520"/>
                    </a:lnTo>
                    <a:lnTo>
                      <a:pt x="743" y="522"/>
                    </a:lnTo>
                    <a:lnTo>
                      <a:pt x="747" y="522"/>
                    </a:lnTo>
                    <a:lnTo>
                      <a:pt x="752" y="520"/>
                    </a:lnTo>
                    <a:lnTo>
                      <a:pt x="757" y="517"/>
                    </a:lnTo>
                    <a:lnTo>
                      <a:pt x="762" y="514"/>
                    </a:lnTo>
                    <a:lnTo>
                      <a:pt x="766" y="510"/>
                    </a:lnTo>
                    <a:lnTo>
                      <a:pt x="771" y="507"/>
                    </a:lnTo>
                    <a:lnTo>
                      <a:pt x="775" y="504"/>
                    </a:lnTo>
                    <a:lnTo>
                      <a:pt x="779" y="502"/>
                    </a:lnTo>
                    <a:lnTo>
                      <a:pt x="779" y="540"/>
                    </a:lnTo>
                    <a:lnTo>
                      <a:pt x="786" y="539"/>
                    </a:lnTo>
                    <a:lnTo>
                      <a:pt x="795" y="537"/>
                    </a:lnTo>
                    <a:lnTo>
                      <a:pt x="802" y="535"/>
                    </a:lnTo>
                    <a:lnTo>
                      <a:pt x="811" y="533"/>
                    </a:lnTo>
                    <a:lnTo>
                      <a:pt x="818" y="530"/>
                    </a:lnTo>
                    <a:lnTo>
                      <a:pt x="824" y="527"/>
                    </a:lnTo>
                    <a:lnTo>
                      <a:pt x="832" y="522"/>
                    </a:lnTo>
                    <a:lnTo>
                      <a:pt x="838" y="517"/>
                    </a:lnTo>
                    <a:lnTo>
                      <a:pt x="838" y="519"/>
                    </a:lnTo>
                    <a:lnTo>
                      <a:pt x="838" y="521"/>
                    </a:lnTo>
                    <a:lnTo>
                      <a:pt x="838" y="523"/>
                    </a:lnTo>
                    <a:lnTo>
                      <a:pt x="837" y="525"/>
                    </a:lnTo>
                    <a:lnTo>
                      <a:pt x="837" y="527"/>
                    </a:lnTo>
                    <a:lnTo>
                      <a:pt x="836" y="528"/>
                    </a:lnTo>
                    <a:lnTo>
                      <a:pt x="836" y="529"/>
                    </a:lnTo>
                    <a:lnTo>
                      <a:pt x="836" y="530"/>
                    </a:lnTo>
                    <a:lnTo>
                      <a:pt x="841" y="529"/>
                    </a:lnTo>
                    <a:lnTo>
                      <a:pt x="845" y="528"/>
                    </a:lnTo>
                    <a:lnTo>
                      <a:pt x="850" y="527"/>
                    </a:lnTo>
                    <a:lnTo>
                      <a:pt x="854" y="525"/>
                    </a:lnTo>
                    <a:lnTo>
                      <a:pt x="858" y="523"/>
                    </a:lnTo>
                    <a:lnTo>
                      <a:pt x="862" y="521"/>
                    </a:lnTo>
                    <a:lnTo>
                      <a:pt x="867" y="519"/>
                    </a:lnTo>
                    <a:lnTo>
                      <a:pt x="871" y="517"/>
                    </a:lnTo>
                    <a:lnTo>
                      <a:pt x="870" y="520"/>
                    </a:lnTo>
                    <a:lnTo>
                      <a:pt x="869" y="525"/>
                    </a:lnTo>
                    <a:lnTo>
                      <a:pt x="868" y="530"/>
                    </a:lnTo>
                    <a:lnTo>
                      <a:pt x="866" y="535"/>
                    </a:lnTo>
                    <a:lnTo>
                      <a:pt x="863" y="540"/>
                    </a:lnTo>
                    <a:lnTo>
                      <a:pt x="861" y="548"/>
                    </a:lnTo>
                    <a:lnTo>
                      <a:pt x="859" y="554"/>
                    </a:lnTo>
                    <a:lnTo>
                      <a:pt x="857" y="562"/>
                    </a:lnTo>
                    <a:lnTo>
                      <a:pt x="852" y="565"/>
                    </a:lnTo>
                    <a:lnTo>
                      <a:pt x="848" y="568"/>
                    </a:lnTo>
                    <a:lnTo>
                      <a:pt x="843" y="571"/>
                    </a:lnTo>
                    <a:lnTo>
                      <a:pt x="839" y="574"/>
                    </a:lnTo>
                    <a:lnTo>
                      <a:pt x="834" y="578"/>
                    </a:lnTo>
                    <a:lnTo>
                      <a:pt x="830" y="582"/>
                    </a:lnTo>
                    <a:lnTo>
                      <a:pt x="825" y="585"/>
                    </a:lnTo>
                    <a:lnTo>
                      <a:pt x="821" y="589"/>
                    </a:lnTo>
                    <a:lnTo>
                      <a:pt x="818" y="585"/>
                    </a:lnTo>
                    <a:lnTo>
                      <a:pt x="817" y="581"/>
                    </a:lnTo>
                    <a:lnTo>
                      <a:pt x="817" y="575"/>
                    </a:lnTo>
                    <a:lnTo>
                      <a:pt x="819" y="570"/>
                    </a:lnTo>
                    <a:lnTo>
                      <a:pt x="820" y="565"/>
                    </a:lnTo>
                    <a:lnTo>
                      <a:pt x="822" y="560"/>
                    </a:lnTo>
                    <a:lnTo>
                      <a:pt x="823" y="555"/>
                    </a:lnTo>
                    <a:lnTo>
                      <a:pt x="823" y="551"/>
                    </a:lnTo>
                    <a:lnTo>
                      <a:pt x="812" y="557"/>
                    </a:lnTo>
                    <a:lnTo>
                      <a:pt x="801" y="564"/>
                    </a:lnTo>
                    <a:lnTo>
                      <a:pt x="790" y="572"/>
                    </a:lnTo>
                    <a:lnTo>
                      <a:pt x="781" y="581"/>
                    </a:lnTo>
                    <a:lnTo>
                      <a:pt x="770" y="589"/>
                    </a:lnTo>
                    <a:lnTo>
                      <a:pt x="761" y="599"/>
                    </a:lnTo>
                    <a:lnTo>
                      <a:pt x="751" y="607"/>
                    </a:lnTo>
                    <a:lnTo>
                      <a:pt x="742" y="615"/>
                    </a:lnTo>
                    <a:lnTo>
                      <a:pt x="743" y="609"/>
                    </a:lnTo>
                    <a:lnTo>
                      <a:pt x="746" y="604"/>
                    </a:lnTo>
                    <a:lnTo>
                      <a:pt x="750" y="599"/>
                    </a:lnTo>
                    <a:lnTo>
                      <a:pt x="754" y="594"/>
                    </a:lnTo>
                    <a:lnTo>
                      <a:pt x="759" y="589"/>
                    </a:lnTo>
                    <a:lnTo>
                      <a:pt x="762" y="584"/>
                    </a:lnTo>
                    <a:lnTo>
                      <a:pt x="762" y="582"/>
                    </a:lnTo>
                    <a:lnTo>
                      <a:pt x="762" y="578"/>
                    </a:lnTo>
                    <a:lnTo>
                      <a:pt x="762" y="576"/>
                    </a:lnTo>
                    <a:lnTo>
                      <a:pt x="760" y="573"/>
                    </a:lnTo>
                    <a:lnTo>
                      <a:pt x="759" y="572"/>
                    </a:lnTo>
                    <a:lnTo>
                      <a:pt x="759" y="571"/>
                    </a:lnTo>
                    <a:lnTo>
                      <a:pt x="759" y="570"/>
                    </a:lnTo>
                    <a:lnTo>
                      <a:pt x="759" y="569"/>
                    </a:lnTo>
                    <a:lnTo>
                      <a:pt x="760" y="567"/>
                    </a:lnTo>
                    <a:lnTo>
                      <a:pt x="761" y="566"/>
                    </a:lnTo>
                    <a:lnTo>
                      <a:pt x="762" y="565"/>
                    </a:lnTo>
                    <a:lnTo>
                      <a:pt x="763" y="563"/>
                    </a:lnTo>
                    <a:lnTo>
                      <a:pt x="762" y="562"/>
                    </a:lnTo>
                    <a:lnTo>
                      <a:pt x="762" y="560"/>
                    </a:lnTo>
                    <a:lnTo>
                      <a:pt x="761" y="559"/>
                    </a:lnTo>
                    <a:lnTo>
                      <a:pt x="760" y="558"/>
                    </a:lnTo>
                    <a:lnTo>
                      <a:pt x="759" y="557"/>
                    </a:lnTo>
                    <a:lnTo>
                      <a:pt x="758" y="556"/>
                    </a:lnTo>
                    <a:lnTo>
                      <a:pt x="758" y="556"/>
                    </a:lnTo>
                    <a:lnTo>
                      <a:pt x="757" y="555"/>
                    </a:lnTo>
                    <a:lnTo>
                      <a:pt x="753" y="555"/>
                    </a:lnTo>
                    <a:lnTo>
                      <a:pt x="750" y="556"/>
                    </a:lnTo>
                    <a:lnTo>
                      <a:pt x="747" y="558"/>
                    </a:lnTo>
                    <a:lnTo>
                      <a:pt x="744" y="559"/>
                    </a:lnTo>
                    <a:lnTo>
                      <a:pt x="742" y="562"/>
                    </a:lnTo>
                    <a:lnTo>
                      <a:pt x="740" y="565"/>
                    </a:lnTo>
                    <a:lnTo>
                      <a:pt x="738" y="567"/>
                    </a:lnTo>
                    <a:lnTo>
                      <a:pt x="736" y="569"/>
                    </a:lnTo>
                    <a:lnTo>
                      <a:pt x="702" y="595"/>
                    </a:lnTo>
                    <a:lnTo>
                      <a:pt x="703" y="590"/>
                    </a:lnTo>
                    <a:lnTo>
                      <a:pt x="706" y="586"/>
                    </a:lnTo>
                    <a:lnTo>
                      <a:pt x="710" y="582"/>
                    </a:lnTo>
                    <a:lnTo>
                      <a:pt x="714" y="577"/>
                    </a:lnTo>
                    <a:lnTo>
                      <a:pt x="717" y="573"/>
                    </a:lnTo>
                    <a:lnTo>
                      <a:pt x="718" y="569"/>
                    </a:lnTo>
                    <a:lnTo>
                      <a:pt x="718" y="567"/>
                    </a:lnTo>
                    <a:lnTo>
                      <a:pt x="717" y="564"/>
                    </a:lnTo>
                    <a:lnTo>
                      <a:pt x="715" y="562"/>
                    </a:lnTo>
                    <a:lnTo>
                      <a:pt x="712" y="559"/>
                    </a:lnTo>
                    <a:lnTo>
                      <a:pt x="703" y="566"/>
                    </a:lnTo>
                    <a:lnTo>
                      <a:pt x="692" y="572"/>
                    </a:lnTo>
                    <a:lnTo>
                      <a:pt x="681" y="577"/>
                    </a:lnTo>
                    <a:lnTo>
                      <a:pt x="671" y="584"/>
                    </a:lnTo>
                    <a:lnTo>
                      <a:pt x="661" y="589"/>
                    </a:lnTo>
                    <a:lnTo>
                      <a:pt x="651" y="595"/>
                    </a:lnTo>
                    <a:lnTo>
                      <a:pt x="641" y="602"/>
                    </a:lnTo>
                    <a:lnTo>
                      <a:pt x="632" y="609"/>
                    </a:lnTo>
                    <a:lnTo>
                      <a:pt x="633" y="607"/>
                    </a:lnTo>
                    <a:lnTo>
                      <a:pt x="633" y="604"/>
                    </a:lnTo>
                    <a:lnTo>
                      <a:pt x="634" y="601"/>
                    </a:lnTo>
                    <a:lnTo>
                      <a:pt x="634" y="596"/>
                    </a:lnTo>
                    <a:lnTo>
                      <a:pt x="634" y="591"/>
                    </a:lnTo>
                    <a:lnTo>
                      <a:pt x="633" y="587"/>
                    </a:lnTo>
                    <a:lnTo>
                      <a:pt x="633" y="583"/>
                    </a:lnTo>
                    <a:lnTo>
                      <a:pt x="632" y="578"/>
                    </a:lnTo>
                    <a:lnTo>
                      <a:pt x="624" y="584"/>
                    </a:lnTo>
                    <a:lnTo>
                      <a:pt x="617" y="589"/>
                    </a:lnTo>
                    <a:lnTo>
                      <a:pt x="611" y="595"/>
                    </a:lnTo>
                    <a:lnTo>
                      <a:pt x="605" y="602"/>
                    </a:lnTo>
                    <a:lnTo>
                      <a:pt x="599" y="608"/>
                    </a:lnTo>
                    <a:lnTo>
                      <a:pt x="594" y="615"/>
                    </a:lnTo>
                    <a:lnTo>
                      <a:pt x="588" y="623"/>
                    </a:lnTo>
                    <a:lnTo>
                      <a:pt x="583" y="629"/>
                    </a:lnTo>
                    <a:lnTo>
                      <a:pt x="585" y="628"/>
                    </a:lnTo>
                    <a:lnTo>
                      <a:pt x="587" y="626"/>
                    </a:lnTo>
                    <a:lnTo>
                      <a:pt x="588" y="624"/>
                    </a:lnTo>
                    <a:lnTo>
                      <a:pt x="589" y="622"/>
                    </a:lnTo>
                    <a:lnTo>
                      <a:pt x="589" y="617"/>
                    </a:lnTo>
                    <a:lnTo>
                      <a:pt x="589" y="612"/>
                    </a:lnTo>
                    <a:lnTo>
                      <a:pt x="589" y="607"/>
                    </a:lnTo>
                    <a:lnTo>
                      <a:pt x="589" y="603"/>
                    </a:lnTo>
                    <a:lnTo>
                      <a:pt x="590" y="601"/>
                    </a:lnTo>
                    <a:lnTo>
                      <a:pt x="592" y="599"/>
                    </a:lnTo>
                    <a:lnTo>
                      <a:pt x="594" y="596"/>
                    </a:lnTo>
                    <a:lnTo>
                      <a:pt x="597" y="595"/>
                    </a:lnTo>
                    <a:lnTo>
                      <a:pt x="597" y="592"/>
                    </a:lnTo>
                    <a:lnTo>
                      <a:pt x="597" y="590"/>
                    </a:lnTo>
                    <a:lnTo>
                      <a:pt x="599" y="587"/>
                    </a:lnTo>
                    <a:lnTo>
                      <a:pt x="600" y="585"/>
                    </a:lnTo>
                    <a:lnTo>
                      <a:pt x="602" y="583"/>
                    </a:lnTo>
                    <a:lnTo>
                      <a:pt x="603" y="581"/>
                    </a:lnTo>
                    <a:lnTo>
                      <a:pt x="603" y="577"/>
                    </a:lnTo>
                    <a:lnTo>
                      <a:pt x="601" y="575"/>
                    </a:lnTo>
                    <a:lnTo>
                      <a:pt x="589" y="588"/>
                    </a:lnTo>
                    <a:lnTo>
                      <a:pt x="579" y="602"/>
                    </a:lnTo>
                    <a:lnTo>
                      <a:pt x="568" y="615"/>
                    </a:lnTo>
                    <a:lnTo>
                      <a:pt x="559" y="629"/>
                    </a:lnTo>
                    <a:lnTo>
                      <a:pt x="550" y="644"/>
                    </a:lnTo>
                    <a:lnTo>
                      <a:pt x="541" y="659"/>
                    </a:lnTo>
                    <a:lnTo>
                      <a:pt x="532" y="674"/>
                    </a:lnTo>
                    <a:lnTo>
                      <a:pt x="523" y="687"/>
                    </a:lnTo>
                    <a:lnTo>
                      <a:pt x="521" y="636"/>
                    </a:lnTo>
                    <a:lnTo>
                      <a:pt x="515" y="650"/>
                    </a:lnTo>
                    <a:lnTo>
                      <a:pt x="510" y="665"/>
                    </a:lnTo>
                    <a:lnTo>
                      <a:pt x="505" y="680"/>
                    </a:lnTo>
                    <a:lnTo>
                      <a:pt x="498" y="695"/>
                    </a:lnTo>
                    <a:lnTo>
                      <a:pt x="491" y="710"/>
                    </a:lnTo>
                    <a:lnTo>
                      <a:pt x="483" y="723"/>
                    </a:lnTo>
                    <a:lnTo>
                      <a:pt x="474" y="736"/>
                    </a:lnTo>
                    <a:lnTo>
                      <a:pt x="463" y="749"/>
                    </a:lnTo>
                    <a:lnTo>
                      <a:pt x="463" y="745"/>
                    </a:lnTo>
                    <a:lnTo>
                      <a:pt x="466" y="740"/>
                    </a:lnTo>
                    <a:lnTo>
                      <a:pt x="468" y="736"/>
                    </a:lnTo>
                    <a:lnTo>
                      <a:pt x="470" y="732"/>
                    </a:lnTo>
                    <a:lnTo>
                      <a:pt x="472" y="728"/>
                    </a:lnTo>
                    <a:lnTo>
                      <a:pt x="472" y="724"/>
                    </a:lnTo>
                    <a:lnTo>
                      <a:pt x="471" y="722"/>
                    </a:lnTo>
                    <a:lnTo>
                      <a:pt x="469" y="721"/>
                    </a:lnTo>
                    <a:lnTo>
                      <a:pt x="467" y="719"/>
                    </a:lnTo>
                    <a:lnTo>
                      <a:pt x="463" y="718"/>
                    </a:lnTo>
                    <a:lnTo>
                      <a:pt x="459" y="721"/>
                    </a:lnTo>
                    <a:lnTo>
                      <a:pt x="456" y="724"/>
                    </a:lnTo>
                    <a:lnTo>
                      <a:pt x="453" y="730"/>
                    </a:lnTo>
                    <a:lnTo>
                      <a:pt x="451" y="735"/>
                    </a:lnTo>
                    <a:lnTo>
                      <a:pt x="449" y="740"/>
                    </a:lnTo>
                    <a:lnTo>
                      <a:pt x="445" y="745"/>
                    </a:lnTo>
                    <a:lnTo>
                      <a:pt x="443" y="749"/>
                    </a:lnTo>
                    <a:lnTo>
                      <a:pt x="439" y="751"/>
                    </a:lnTo>
                    <a:lnTo>
                      <a:pt x="435" y="753"/>
                    </a:lnTo>
                    <a:lnTo>
                      <a:pt x="431" y="757"/>
                    </a:lnTo>
                    <a:lnTo>
                      <a:pt x="428" y="760"/>
                    </a:lnTo>
                    <a:lnTo>
                      <a:pt x="424" y="766"/>
                    </a:lnTo>
                    <a:lnTo>
                      <a:pt x="419" y="775"/>
                    </a:lnTo>
                    <a:lnTo>
                      <a:pt x="413" y="785"/>
                    </a:lnTo>
                    <a:lnTo>
                      <a:pt x="411" y="789"/>
                    </a:lnTo>
                    <a:lnTo>
                      <a:pt x="407" y="793"/>
                    </a:lnTo>
                    <a:lnTo>
                      <a:pt x="404" y="796"/>
                    </a:lnTo>
                    <a:lnTo>
                      <a:pt x="400" y="800"/>
                    </a:lnTo>
                    <a:lnTo>
                      <a:pt x="396" y="801"/>
                    </a:lnTo>
                    <a:lnTo>
                      <a:pt x="390" y="802"/>
                    </a:lnTo>
                    <a:lnTo>
                      <a:pt x="385" y="802"/>
                    </a:lnTo>
                    <a:lnTo>
                      <a:pt x="379" y="801"/>
                    </a:lnTo>
                    <a:lnTo>
                      <a:pt x="368" y="808"/>
                    </a:lnTo>
                    <a:lnTo>
                      <a:pt x="359" y="814"/>
                    </a:lnTo>
                    <a:lnTo>
                      <a:pt x="349" y="821"/>
                    </a:lnTo>
                    <a:lnTo>
                      <a:pt x="340" y="827"/>
                    </a:lnTo>
                    <a:lnTo>
                      <a:pt x="329" y="833"/>
                    </a:lnTo>
                    <a:lnTo>
                      <a:pt x="320" y="840"/>
                    </a:lnTo>
                    <a:lnTo>
                      <a:pt x="309" y="846"/>
                    </a:lnTo>
                    <a:lnTo>
                      <a:pt x="298" y="851"/>
                    </a:lnTo>
                    <a:lnTo>
                      <a:pt x="298" y="843"/>
                    </a:lnTo>
                    <a:lnTo>
                      <a:pt x="299" y="834"/>
                    </a:lnTo>
                    <a:lnTo>
                      <a:pt x="302" y="826"/>
                    </a:lnTo>
                    <a:lnTo>
                      <a:pt x="305" y="816"/>
                    </a:lnTo>
                    <a:lnTo>
                      <a:pt x="308" y="808"/>
                    </a:lnTo>
                    <a:lnTo>
                      <a:pt x="311" y="800"/>
                    </a:lnTo>
                    <a:lnTo>
                      <a:pt x="314" y="791"/>
                    </a:lnTo>
                    <a:lnTo>
                      <a:pt x="316" y="783"/>
                    </a:lnTo>
                    <a:lnTo>
                      <a:pt x="313" y="780"/>
                    </a:lnTo>
                    <a:lnTo>
                      <a:pt x="310" y="779"/>
                    </a:lnTo>
                    <a:lnTo>
                      <a:pt x="306" y="780"/>
                    </a:lnTo>
                    <a:lnTo>
                      <a:pt x="303" y="783"/>
                    </a:lnTo>
                    <a:lnTo>
                      <a:pt x="299" y="785"/>
                    </a:lnTo>
                    <a:lnTo>
                      <a:pt x="295" y="787"/>
                    </a:lnTo>
                    <a:lnTo>
                      <a:pt x="292" y="789"/>
                    </a:lnTo>
                    <a:lnTo>
                      <a:pt x="289" y="791"/>
                    </a:lnTo>
                    <a:lnTo>
                      <a:pt x="256" y="819"/>
                    </a:lnTo>
                    <a:lnTo>
                      <a:pt x="255" y="816"/>
                    </a:lnTo>
                    <a:lnTo>
                      <a:pt x="255" y="813"/>
                    </a:lnTo>
                    <a:lnTo>
                      <a:pt x="255" y="811"/>
                    </a:lnTo>
                    <a:lnTo>
                      <a:pt x="257" y="808"/>
                    </a:lnTo>
                    <a:lnTo>
                      <a:pt x="261" y="804"/>
                    </a:lnTo>
                    <a:lnTo>
                      <a:pt x="266" y="800"/>
                    </a:lnTo>
                    <a:lnTo>
                      <a:pt x="270" y="795"/>
                    </a:lnTo>
                    <a:lnTo>
                      <a:pt x="273" y="791"/>
                    </a:lnTo>
                    <a:lnTo>
                      <a:pt x="273" y="789"/>
                    </a:lnTo>
                    <a:lnTo>
                      <a:pt x="273" y="786"/>
                    </a:lnTo>
                    <a:lnTo>
                      <a:pt x="271" y="784"/>
                    </a:lnTo>
                    <a:lnTo>
                      <a:pt x="268" y="780"/>
                    </a:lnTo>
                    <a:lnTo>
                      <a:pt x="257" y="786"/>
                    </a:lnTo>
                    <a:lnTo>
                      <a:pt x="247" y="791"/>
                    </a:lnTo>
                    <a:lnTo>
                      <a:pt x="236" y="797"/>
                    </a:lnTo>
                    <a:lnTo>
                      <a:pt x="225" y="805"/>
                    </a:lnTo>
                    <a:lnTo>
                      <a:pt x="215" y="810"/>
                    </a:lnTo>
                    <a:lnTo>
                      <a:pt x="203" y="814"/>
                    </a:lnTo>
                    <a:lnTo>
                      <a:pt x="198" y="816"/>
                    </a:lnTo>
                    <a:lnTo>
                      <a:pt x="192" y="818"/>
                    </a:lnTo>
                    <a:lnTo>
                      <a:pt x="186" y="818"/>
                    </a:lnTo>
                    <a:lnTo>
                      <a:pt x="180" y="818"/>
                    </a:lnTo>
                    <a:lnTo>
                      <a:pt x="175" y="820"/>
                    </a:lnTo>
                    <a:lnTo>
                      <a:pt x="169" y="822"/>
                    </a:lnTo>
                    <a:lnTo>
                      <a:pt x="164" y="824"/>
                    </a:lnTo>
                    <a:lnTo>
                      <a:pt x="159" y="826"/>
                    </a:lnTo>
                    <a:lnTo>
                      <a:pt x="153" y="828"/>
                    </a:lnTo>
                    <a:lnTo>
                      <a:pt x="148" y="829"/>
                    </a:lnTo>
                    <a:lnTo>
                      <a:pt x="143" y="830"/>
                    </a:lnTo>
                    <a:lnTo>
                      <a:pt x="138" y="831"/>
                    </a:lnTo>
                    <a:lnTo>
                      <a:pt x="142" y="824"/>
                    </a:lnTo>
                    <a:lnTo>
                      <a:pt x="147" y="819"/>
                    </a:lnTo>
                    <a:lnTo>
                      <a:pt x="153" y="813"/>
                    </a:lnTo>
                    <a:lnTo>
                      <a:pt x="161" y="809"/>
                    </a:lnTo>
                    <a:lnTo>
                      <a:pt x="167" y="806"/>
                    </a:lnTo>
                    <a:lnTo>
                      <a:pt x="175" y="802"/>
                    </a:lnTo>
                    <a:lnTo>
                      <a:pt x="180" y="796"/>
                    </a:lnTo>
                    <a:lnTo>
                      <a:pt x="185" y="791"/>
                    </a:lnTo>
                    <a:lnTo>
                      <a:pt x="181" y="787"/>
                    </a:lnTo>
                    <a:lnTo>
                      <a:pt x="176" y="787"/>
                    </a:lnTo>
                    <a:lnTo>
                      <a:pt x="171" y="787"/>
                    </a:lnTo>
                    <a:lnTo>
                      <a:pt x="167" y="789"/>
                    </a:lnTo>
                    <a:lnTo>
                      <a:pt x="163" y="792"/>
                    </a:lnTo>
                    <a:lnTo>
                      <a:pt x="158" y="795"/>
                    </a:lnTo>
                    <a:lnTo>
                      <a:pt x="153" y="797"/>
                    </a:lnTo>
                    <a:lnTo>
                      <a:pt x="149" y="800"/>
                    </a:lnTo>
                    <a:lnTo>
                      <a:pt x="125" y="805"/>
                    </a:lnTo>
                    <a:lnTo>
                      <a:pt x="125" y="804"/>
                    </a:lnTo>
                    <a:lnTo>
                      <a:pt x="125" y="803"/>
                    </a:lnTo>
                    <a:lnTo>
                      <a:pt x="125" y="802"/>
                    </a:lnTo>
                    <a:lnTo>
                      <a:pt x="125" y="801"/>
                    </a:lnTo>
                    <a:lnTo>
                      <a:pt x="124" y="800"/>
                    </a:lnTo>
                    <a:lnTo>
                      <a:pt x="123" y="798"/>
                    </a:lnTo>
                    <a:lnTo>
                      <a:pt x="122" y="797"/>
                    </a:lnTo>
                    <a:lnTo>
                      <a:pt x="121" y="796"/>
                    </a:lnTo>
                    <a:lnTo>
                      <a:pt x="110" y="801"/>
                    </a:lnTo>
                    <a:lnTo>
                      <a:pt x="100" y="804"/>
                    </a:lnTo>
                    <a:lnTo>
                      <a:pt x="89" y="809"/>
                    </a:lnTo>
                    <a:lnTo>
                      <a:pt x="78" y="812"/>
                    </a:lnTo>
                    <a:lnTo>
                      <a:pt x="68" y="816"/>
                    </a:lnTo>
                    <a:lnTo>
                      <a:pt x="56" y="819"/>
                    </a:lnTo>
                    <a:lnTo>
                      <a:pt x="44" y="820"/>
                    </a:lnTo>
                    <a:lnTo>
                      <a:pt x="32" y="819"/>
                    </a:lnTo>
                    <a:lnTo>
                      <a:pt x="35" y="813"/>
                    </a:lnTo>
                    <a:lnTo>
                      <a:pt x="39" y="808"/>
                    </a:lnTo>
                    <a:lnTo>
                      <a:pt x="44" y="803"/>
                    </a:lnTo>
                    <a:lnTo>
                      <a:pt x="49" y="798"/>
                    </a:lnTo>
                    <a:lnTo>
                      <a:pt x="54" y="794"/>
                    </a:lnTo>
                    <a:lnTo>
                      <a:pt x="59" y="790"/>
                    </a:lnTo>
                    <a:lnTo>
                      <a:pt x="65" y="786"/>
                    </a:lnTo>
                    <a:lnTo>
                      <a:pt x="69" y="780"/>
                    </a:lnTo>
                    <a:lnTo>
                      <a:pt x="62" y="775"/>
                    </a:lnTo>
                    <a:lnTo>
                      <a:pt x="55" y="779"/>
                    </a:lnTo>
                    <a:lnTo>
                      <a:pt x="48" y="784"/>
                    </a:lnTo>
                    <a:lnTo>
                      <a:pt x="40" y="789"/>
                    </a:lnTo>
                    <a:lnTo>
                      <a:pt x="32" y="793"/>
                    </a:lnTo>
                    <a:lnTo>
                      <a:pt x="24" y="797"/>
                    </a:lnTo>
                    <a:lnTo>
                      <a:pt x="17" y="802"/>
                    </a:lnTo>
                    <a:lnTo>
                      <a:pt x="9" y="805"/>
                    </a:lnTo>
                    <a:lnTo>
                      <a:pt x="0" y="807"/>
                    </a:lnTo>
                    <a:lnTo>
                      <a:pt x="1" y="802"/>
                    </a:lnTo>
                    <a:lnTo>
                      <a:pt x="3" y="797"/>
                    </a:lnTo>
                    <a:lnTo>
                      <a:pt x="5" y="793"/>
                    </a:lnTo>
                    <a:lnTo>
                      <a:pt x="9" y="789"/>
                    </a:lnTo>
                    <a:lnTo>
                      <a:pt x="15" y="783"/>
                    </a:lnTo>
                    <a:lnTo>
                      <a:pt x="22" y="777"/>
                    </a:lnTo>
                    <a:lnTo>
                      <a:pt x="31" y="772"/>
                    </a:lnTo>
                    <a:lnTo>
                      <a:pt x="39" y="768"/>
                    </a:lnTo>
                    <a:lnTo>
                      <a:pt x="48" y="764"/>
                    </a:lnTo>
                    <a:lnTo>
                      <a:pt x="56" y="758"/>
                    </a:lnTo>
                    <a:lnTo>
                      <a:pt x="56" y="757"/>
                    </a:lnTo>
                    <a:lnTo>
                      <a:pt x="56" y="756"/>
                    </a:lnTo>
                    <a:lnTo>
                      <a:pt x="55" y="755"/>
                    </a:lnTo>
                    <a:lnTo>
                      <a:pt x="54" y="754"/>
                    </a:lnTo>
                    <a:lnTo>
                      <a:pt x="53" y="753"/>
                    </a:lnTo>
                    <a:lnTo>
                      <a:pt x="52" y="752"/>
                    </a:lnTo>
                    <a:lnTo>
                      <a:pt x="51" y="752"/>
                    </a:lnTo>
                    <a:lnTo>
                      <a:pt x="51" y="751"/>
                    </a:lnTo>
                    <a:lnTo>
                      <a:pt x="36" y="753"/>
                    </a:lnTo>
                    <a:lnTo>
                      <a:pt x="40" y="748"/>
                    </a:lnTo>
                    <a:lnTo>
                      <a:pt x="44" y="742"/>
                    </a:lnTo>
                    <a:lnTo>
                      <a:pt x="51" y="739"/>
                    </a:lnTo>
                    <a:lnTo>
                      <a:pt x="57" y="736"/>
                    </a:lnTo>
                    <a:lnTo>
                      <a:pt x="65" y="733"/>
                    </a:lnTo>
                    <a:lnTo>
                      <a:pt x="71" y="731"/>
                    </a:lnTo>
                    <a:lnTo>
                      <a:pt x="78" y="728"/>
                    </a:lnTo>
                    <a:lnTo>
                      <a:pt x="85" y="724"/>
                    </a:lnTo>
                    <a:lnTo>
                      <a:pt x="85" y="722"/>
                    </a:lnTo>
                    <a:lnTo>
                      <a:pt x="85" y="721"/>
                    </a:lnTo>
                    <a:lnTo>
                      <a:pt x="85" y="719"/>
                    </a:lnTo>
                    <a:lnTo>
                      <a:pt x="84" y="718"/>
                    </a:lnTo>
                    <a:lnTo>
                      <a:pt x="83" y="717"/>
                    </a:lnTo>
                    <a:lnTo>
                      <a:pt x="82" y="716"/>
                    </a:lnTo>
                    <a:lnTo>
                      <a:pt x="80" y="715"/>
                    </a:lnTo>
                    <a:lnTo>
                      <a:pt x="78" y="714"/>
                    </a:lnTo>
                    <a:lnTo>
                      <a:pt x="65" y="716"/>
                    </a:lnTo>
                    <a:lnTo>
                      <a:pt x="67" y="715"/>
                    </a:lnTo>
                    <a:lnTo>
                      <a:pt x="70" y="715"/>
                    </a:lnTo>
                    <a:lnTo>
                      <a:pt x="72" y="714"/>
                    </a:lnTo>
                    <a:lnTo>
                      <a:pt x="75" y="714"/>
                    </a:lnTo>
                    <a:lnTo>
                      <a:pt x="77" y="713"/>
                    </a:lnTo>
                    <a:lnTo>
                      <a:pt x="80" y="712"/>
                    </a:lnTo>
                    <a:lnTo>
                      <a:pt x="83" y="710"/>
                    </a:lnTo>
                    <a:lnTo>
                      <a:pt x="85" y="709"/>
                    </a:lnTo>
                    <a:lnTo>
                      <a:pt x="85" y="700"/>
                    </a:lnTo>
                    <a:lnTo>
                      <a:pt x="87" y="699"/>
                    </a:lnTo>
                    <a:lnTo>
                      <a:pt x="88" y="699"/>
                    </a:lnTo>
                    <a:lnTo>
                      <a:pt x="90" y="698"/>
                    </a:lnTo>
                    <a:lnTo>
                      <a:pt x="92" y="698"/>
                    </a:lnTo>
                    <a:lnTo>
                      <a:pt x="94" y="698"/>
                    </a:lnTo>
                    <a:lnTo>
                      <a:pt x="95" y="698"/>
                    </a:lnTo>
                    <a:lnTo>
                      <a:pt x="97" y="698"/>
                    </a:lnTo>
                    <a:lnTo>
                      <a:pt x="100" y="698"/>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
              <p:cNvSpPr/>
              <p:nvPr/>
            </p:nvSpPr>
            <p:spPr>
              <a:xfrm>
                <a:off x="6822720" y="6193080"/>
                <a:ext cx="406440" cy="199800"/>
              </a:xfrm>
              <a:custGeom>
                <a:avLst/>
                <a:gdLst/>
                <a:ahLst/>
                <a:rect l="l" t="t" r="r" b="b"/>
                <a:pathLst>
                  <a:path w="770" h="378">
                    <a:moveTo>
                      <a:pt x="6" y="30"/>
                    </a:moveTo>
                    <a:lnTo>
                      <a:pt x="11" y="26"/>
                    </a:lnTo>
                    <a:lnTo>
                      <a:pt x="15" y="23"/>
                    </a:lnTo>
                    <a:lnTo>
                      <a:pt x="20" y="19"/>
                    </a:lnTo>
                    <a:lnTo>
                      <a:pt x="24" y="15"/>
                    </a:lnTo>
                    <a:lnTo>
                      <a:pt x="29" y="11"/>
                    </a:lnTo>
                    <a:lnTo>
                      <a:pt x="33" y="8"/>
                    </a:lnTo>
                    <a:lnTo>
                      <a:pt x="39" y="5"/>
                    </a:lnTo>
                    <a:lnTo>
                      <a:pt x="44" y="3"/>
                    </a:lnTo>
                    <a:lnTo>
                      <a:pt x="44" y="27"/>
                    </a:lnTo>
                    <a:lnTo>
                      <a:pt x="50" y="26"/>
                    </a:lnTo>
                    <a:lnTo>
                      <a:pt x="58" y="24"/>
                    </a:lnTo>
                    <a:lnTo>
                      <a:pt x="66" y="22"/>
                    </a:lnTo>
                    <a:lnTo>
                      <a:pt x="74" y="20"/>
                    </a:lnTo>
                    <a:lnTo>
                      <a:pt x="82" y="16"/>
                    </a:lnTo>
                    <a:lnTo>
                      <a:pt x="89" y="14"/>
                    </a:lnTo>
                    <a:lnTo>
                      <a:pt x="97" y="12"/>
                    </a:lnTo>
                    <a:lnTo>
                      <a:pt x="104" y="10"/>
                    </a:lnTo>
                    <a:lnTo>
                      <a:pt x="104" y="12"/>
                    </a:lnTo>
                    <a:lnTo>
                      <a:pt x="103" y="14"/>
                    </a:lnTo>
                    <a:lnTo>
                      <a:pt x="103" y="16"/>
                    </a:lnTo>
                    <a:lnTo>
                      <a:pt x="102" y="19"/>
                    </a:lnTo>
                    <a:lnTo>
                      <a:pt x="102" y="21"/>
                    </a:lnTo>
                    <a:lnTo>
                      <a:pt x="102" y="23"/>
                    </a:lnTo>
                    <a:lnTo>
                      <a:pt x="101" y="25"/>
                    </a:lnTo>
                    <a:lnTo>
                      <a:pt x="101" y="27"/>
                    </a:lnTo>
                    <a:lnTo>
                      <a:pt x="164" y="0"/>
                    </a:lnTo>
                    <a:lnTo>
                      <a:pt x="164" y="4"/>
                    </a:lnTo>
                    <a:lnTo>
                      <a:pt x="164" y="7"/>
                    </a:lnTo>
                    <a:lnTo>
                      <a:pt x="164" y="11"/>
                    </a:lnTo>
                    <a:lnTo>
                      <a:pt x="162" y="14"/>
                    </a:lnTo>
                    <a:lnTo>
                      <a:pt x="162" y="19"/>
                    </a:lnTo>
                    <a:lnTo>
                      <a:pt x="161" y="23"/>
                    </a:lnTo>
                    <a:lnTo>
                      <a:pt x="161" y="26"/>
                    </a:lnTo>
                    <a:lnTo>
                      <a:pt x="161" y="30"/>
                    </a:lnTo>
                    <a:lnTo>
                      <a:pt x="168" y="27"/>
                    </a:lnTo>
                    <a:lnTo>
                      <a:pt x="174" y="24"/>
                    </a:lnTo>
                    <a:lnTo>
                      <a:pt x="180" y="21"/>
                    </a:lnTo>
                    <a:lnTo>
                      <a:pt x="188" y="18"/>
                    </a:lnTo>
                    <a:lnTo>
                      <a:pt x="195" y="14"/>
                    </a:lnTo>
                    <a:lnTo>
                      <a:pt x="203" y="12"/>
                    </a:lnTo>
                    <a:lnTo>
                      <a:pt x="210" y="10"/>
                    </a:lnTo>
                    <a:lnTo>
                      <a:pt x="216" y="10"/>
                    </a:lnTo>
                    <a:lnTo>
                      <a:pt x="214" y="12"/>
                    </a:lnTo>
                    <a:lnTo>
                      <a:pt x="213" y="16"/>
                    </a:lnTo>
                    <a:lnTo>
                      <a:pt x="213" y="21"/>
                    </a:lnTo>
                    <a:lnTo>
                      <a:pt x="211" y="24"/>
                    </a:lnTo>
                    <a:lnTo>
                      <a:pt x="210" y="28"/>
                    </a:lnTo>
                    <a:lnTo>
                      <a:pt x="209" y="32"/>
                    </a:lnTo>
                    <a:lnTo>
                      <a:pt x="208" y="37"/>
                    </a:lnTo>
                    <a:lnTo>
                      <a:pt x="207" y="41"/>
                    </a:lnTo>
                    <a:lnTo>
                      <a:pt x="207" y="45"/>
                    </a:lnTo>
                    <a:lnTo>
                      <a:pt x="212" y="42"/>
                    </a:lnTo>
                    <a:lnTo>
                      <a:pt x="219" y="39"/>
                    </a:lnTo>
                    <a:lnTo>
                      <a:pt x="226" y="34"/>
                    </a:lnTo>
                    <a:lnTo>
                      <a:pt x="232" y="30"/>
                    </a:lnTo>
                    <a:lnTo>
                      <a:pt x="239" y="26"/>
                    </a:lnTo>
                    <a:lnTo>
                      <a:pt x="245" y="22"/>
                    </a:lnTo>
                    <a:lnTo>
                      <a:pt x="251" y="18"/>
                    </a:lnTo>
                    <a:lnTo>
                      <a:pt x="257" y="12"/>
                    </a:lnTo>
                    <a:lnTo>
                      <a:pt x="257" y="32"/>
                    </a:lnTo>
                    <a:lnTo>
                      <a:pt x="263" y="33"/>
                    </a:lnTo>
                    <a:lnTo>
                      <a:pt x="270" y="31"/>
                    </a:lnTo>
                    <a:lnTo>
                      <a:pt x="278" y="28"/>
                    </a:lnTo>
                    <a:lnTo>
                      <a:pt x="287" y="25"/>
                    </a:lnTo>
                    <a:lnTo>
                      <a:pt x="296" y="20"/>
                    </a:lnTo>
                    <a:lnTo>
                      <a:pt x="304" y="15"/>
                    </a:lnTo>
                    <a:lnTo>
                      <a:pt x="312" y="11"/>
                    </a:lnTo>
                    <a:lnTo>
                      <a:pt x="319" y="7"/>
                    </a:lnTo>
                    <a:lnTo>
                      <a:pt x="317" y="16"/>
                    </a:lnTo>
                    <a:lnTo>
                      <a:pt x="315" y="26"/>
                    </a:lnTo>
                    <a:lnTo>
                      <a:pt x="314" y="36"/>
                    </a:lnTo>
                    <a:lnTo>
                      <a:pt x="312" y="45"/>
                    </a:lnTo>
                    <a:lnTo>
                      <a:pt x="311" y="55"/>
                    </a:lnTo>
                    <a:lnTo>
                      <a:pt x="310" y="65"/>
                    </a:lnTo>
                    <a:lnTo>
                      <a:pt x="310" y="75"/>
                    </a:lnTo>
                    <a:lnTo>
                      <a:pt x="308" y="85"/>
                    </a:lnTo>
                    <a:lnTo>
                      <a:pt x="311" y="84"/>
                    </a:lnTo>
                    <a:lnTo>
                      <a:pt x="312" y="82"/>
                    </a:lnTo>
                    <a:lnTo>
                      <a:pt x="314" y="80"/>
                    </a:lnTo>
                    <a:lnTo>
                      <a:pt x="315" y="78"/>
                    </a:lnTo>
                    <a:lnTo>
                      <a:pt x="317" y="76"/>
                    </a:lnTo>
                    <a:lnTo>
                      <a:pt x="319" y="74"/>
                    </a:lnTo>
                    <a:lnTo>
                      <a:pt x="320" y="71"/>
                    </a:lnTo>
                    <a:lnTo>
                      <a:pt x="321" y="69"/>
                    </a:lnTo>
                    <a:lnTo>
                      <a:pt x="321" y="120"/>
                    </a:lnTo>
                    <a:lnTo>
                      <a:pt x="328" y="118"/>
                    </a:lnTo>
                    <a:lnTo>
                      <a:pt x="333" y="115"/>
                    </a:lnTo>
                    <a:lnTo>
                      <a:pt x="338" y="112"/>
                    </a:lnTo>
                    <a:lnTo>
                      <a:pt x="343" y="107"/>
                    </a:lnTo>
                    <a:lnTo>
                      <a:pt x="349" y="103"/>
                    </a:lnTo>
                    <a:lnTo>
                      <a:pt x="354" y="99"/>
                    </a:lnTo>
                    <a:lnTo>
                      <a:pt x="359" y="95"/>
                    </a:lnTo>
                    <a:lnTo>
                      <a:pt x="363" y="89"/>
                    </a:lnTo>
                    <a:lnTo>
                      <a:pt x="363" y="160"/>
                    </a:lnTo>
                    <a:lnTo>
                      <a:pt x="366" y="158"/>
                    </a:lnTo>
                    <a:lnTo>
                      <a:pt x="368" y="156"/>
                    </a:lnTo>
                    <a:lnTo>
                      <a:pt x="371" y="154"/>
                    </a:lnTo>
                    <a:lnTo>
                      <a:pt x="373" y="153"/>
                    </a:lnTo>
                    <a:lnTo>
                      <a:pt x="376" y="152"/>
                    </a:lnTo>
                    <a:lnTo>
                      <a:pt x="379" y="151"/>
                    </a:lnTo>
                    <a:lnTo>
                      <a:pt x="383" y="150"/>
                    </a:lnTo>
                    <a:lnTo>
                      <a:pt x="387" y="150"/>
                    </a:lnTo>
                    <a:lnTo>
                      <a:pt x="387" y="157"/>
                    </a:lnTo>
                    <a:lnTo>
                      <a:pt x="386" y="165"/>
                    </a:lnTo>
                    <a:lnTo>
                      <a:pt x="385" y="172"/>
                    </a:lnTo>
                    <a:lnTo>
                      <a:pt x="385" y="179"/>
                    </a:lnTo>
                    <a:lnTo>
                      <a:pt x="384" y="187"/>
                    </a:lnTo>
                    <a:lnTo>
                      <a:pt x="384" y="193"/>
                    </a:lnTo>
                    <a:lnTo>
                      <a:pt x="384" y="199"/>
                    </a:lnTo>
                    <a:lnTo>
                      <a:pt x="384" y="205"/>
                    </a:lnTo>
                    <a:lnTo>
                      <a:pt x="386" y="205"/>
                    </a:lnTo>
                    <a:lnTo>
                      <a:pt x="388" y="204"/>
                    </a:lnTo>
                    <a:lnTo>
                      <a:pt x="390" y="204"/>
                    </a:lnTo>
                    <a:lnTo>
                      <a:pt x="393" y="203"/>
                    </a:lnTo>
                    <a:lnTo>
                      <a:pt x="395" y="202"/>
                    </a:lnTo>
                    <a:lnTo>
                      <a:pt x="397" y="201"/>
                    </a:lnTo>
                    <a:lnTo>
                      <a:pt x="399" y="201"/>
                    </a:lnTo>
                    <a:lnTo>
                      <a:pt x="402" y="199"/>
                    </a:lnTo>
                    <a:lnTo>
                      <a:pt x="402" y="209"/>
                    </a:lnTo>
                    <a:lnTo>
                      <a:pt x="401" y="218"/>
                    </a:lnTo>
                    <a:lnTo>
                      <a:pt x="398" y="228"/>
                    </a:lnTo>
                    <a:lnTo>
                      <a:pt x="396" y="238"/>
                    </a:lnTo>
                    <a:lnTo>
                      <a:pt x="393" y="247"/>
                    </a:lnTo>
                    <a:lnTo>
                      <a:pt x="390" y="257"/>
                    </a:lnTo>
                    <a:lnTo>
                      <a:pt x="386" y="265"/>
                    </a:lnTo>
                    <a:lnTo>
                      <a:pt x="381" y="272"/>
                    </a:lnTo>
                    <a:lnTo>
                      <a:pt x="384" y="271"/>
                    </a:lnTo>
                    <a:lnTo>
                      <a:pt x="387" y="270"/>
                    </a:lnTo>
                    <a:lnTo>
                      <a:pt x="390" y="268"/>
                    </a:lnTo>
                    <a:lnTo>
                      <a:pt x="394" y="266"/>
                    </a:lnTo>
                    <a:lnTo>
                      <a:pt x="397" y="263"/>
                    </a:lnTo>
                    <a:lnTo>
                      <a:pt x="401" y="261"/>
                    </a:lnTo>
                    <a:lnTo>
                      <a:pt x="403" y="259"/>
                    </a:lnTo>
                    <a:lnTo>
                      <a:pt x="404" y="258"/>
                    </a:lnTo>
                    <a:lnTo>
                      <a:pt x="403" y="265"/>
                    </a:lnTo>
                    <a:lnTo>
                      <a:pt x="401" y="272"/>
                    </a:lnTo>
                    <a:lnTo>
                      <a:pt x="397" y="279"/>
                    </a:lnTo>
                    <a:lnTo>
                      <a:pt x="394" y="286"/>
                    </a:lnTo>
                    <a:lnTo>
                      <a:pt x="391" y="293"/>
                    </a:lnTo>
                    <a:lnTo>
                      <a:pt x="387" y="299"/>
                    </a:lnTo>
                    <a:lnTo>
                      <a:pt x="383" y="306"/>
                    </a:lnTo>
                    <a:lnTo>
                      <a:pt x="379" y="313"/>
                    </a:lnTo>
                    <a:lnTo>
                      <a:pt x="384" y="312"/>
                    </a:lnTo>
                    <a:lnTo>
                      <a:pt x="388" y="311"/>
                    </a:lnTo>
                    <a:lnTo>
                      <a:pt x="393" y="308"/>
                    </a:lnTo>
                    <a:lnTo>
                      <a:pt x="398" y="305"/>
                    </a:lnTo>
                    <a:lnTo>
                      <a:pt x="409" y="297"/>
                    </a:lnTo>
                    <a:lnTo>
                      <a:pt x="421" y="287"/>
                    </a:lnTo>
                    <a:lnTo>
                      <a:pt x="431" y="278"/>
                    </a:lnTo>
                    <a:lnTo>
                      <a:pt x="442" y="267"/>
                    </a:lnTo>
                    <a:lnTo>
                      <a:pt x="450" y="258"/>
                    </a:lnTo>
                    <a:lnTo>
                      <a:pt x="457" y="250"/>
                    </a:lnTo>
                    <a:lnTo>
                      <a:pt x="439" y="318"/>
                    </a:lnTo>
                    <a:lnTo>
                      <a:pt x="444" y="317"/>
                    </a:lnTo>
                    <a:lnTo>
                      <a:pt x="448" y="315"/>
                    </a:lnTo>
                    <a:lnTo>
                      <a:pt x="451" y="313"/>
                    </a:lnTo>
                    <a:lnTo>
                      <a:pt x="456" y="309"/>
                    </a:lnTo>
                    <a:lnTo>
                      <a:pt x="459" y="307"/>
                    </a:lnTo>
                    <a:lnTo>
                      <a:pt x="463" y="305"/>
                    </a:lnTo>
                    <a:lnTo>
                      <a:pt x="467" y="303"/>
                    </a:lnTo>
                    <a:lnTo>
                      <a:pt x="471" y="302"/>
                    </a:lnTo>
                    <a:lnTo>
                      <a:pt x="471" y="304"/>
                    </a:lnTo>
                    <a:lnTo>
                      <a:pt x="471" y="306"/>
                    </a:lnTo>
                    <a:lnTo>
                      <a:pt x="470" y="308"/>
                    </a:lnTo>
                    <a:lnTo>
                      <a:pt x="470" y="309"/>
                    </a:lnTo>
                    <a:lnTo>
                      <a:pt x="470" y="312"/>
                    </a:lnTo>
                    <a:lnTo>
                      <a:pt x="469" y="314"/>
                    </a:lnTo>
                    <a:lnTo>
                      <a:pt x="469" y="316"/>
                    </a:lnTo>
                    <a:lnTo>
                      <a:pt x="469" y="318"/>
                    </a:lnTo>
                    <a:lnTo>
                      <a:pt x="478" y="317"/>
                    </a:lnTo>
                    <a:lnTo>
                      <a:pt x="487" y="316"/>
                    </a:lnTo>
                    <a:lnTo>
                      <a:pt x="497" y="314"/>
                    </a:lnTo>
                    <a:lnTo>
                      <a:pt x="507" y="312"/>
                    </a:lnTo>
                    <a:lnTo>
                      <a:pt x="516" y="308"/>
                    </a:lnTo>
                    <a:lnTo>
                      <a:pt x="525" y="306"/>
                    </a:lnTo>
                    <a:lnTo>
                      <a:pt x="533" y="303"/>
                    </a:lnTo>
                    <a:lnTo>
                      <a:pt x="539" y="300"/>
                    </a:lnTo>
                    <a:lnTo>
                      <a:pt x="539" y="301"/>
                    </a:lnTo>
                    <a:lnTo>
                      <a:pt x="539" y="302"/>
                    </a:lnTo>
                    <a:lnTo>
                      <a:pt x="538" y="304"/>
                    </a:lnTo>
                    <a:lnTo>
                      <a:pt x="538" y="306"/>
                    </a:lnTo>
                    <a:lnTo>
                      <a:pt x="537" y="308"/>
                    </a:lnTo>
                    <a:lnTo>
                      <a:pt x="537" y="309"/>
                    </a:lnTo>
                    <a:lnTo>
                      <a:pt x="537" y="312"/>
                    </a:lnTo>
                    <a:lnTo>
                      <a:pt x="537" y="313"/>
                    </a:lnTo>
                    <a:lnTo>
                      <a:pt x="543" y="312"/>
                    </a:lnTo>
                    <a:lnTo>
                      <a:pt x="550" y="309"/>
                    </a:lnTo>
                    <a:lnTo>
                      <a:pt x="558" y="308"/>
                    </a:lnTo>
                    <a:lnTo>
                      <a:pt x="567" y="306"/>
                    </a:lnTo>
                    <a:lnTo>
                      <a:pt x="574" y="305"/>
                    </a:lnTo>
                    <a:lnTo>
                      <a:pt x="581" y="304"/>
                    </a:lnTo>
                    <a:lnTo>
                      <a:pt x="589" y="304"/>
                    </a:lnTo>
                    <a:lnTo>
                      <a:pt x="594" y="305"/>
                    </a:lnTo>
                    <a:lnTo>
                      <a:pt x="594" y="306"/>
                    </a:lnTo>
                    <a:lnTo>
                      <a:pt x="594" y="307"/>
                    </a:lnTo>
                    <a:lnTo>
                      <a:pt x="593" y="308"/>
                    </a:lnTo>
                    <a:lnTo>
                      <a:pt x="593" y="309"/>
                    </a:lnTo>
                    <a:lnTo>
                      <a:pt x="592" y="312"/>
                    </a:lnTo>
                    <a:lnTo>
                      <a:pt x="592" y="313"/>
                    </a:lnTo>
                    <a:lnTo>
                      <a:pt x="592" y="314"/>
                    </a:lnTo>
                    <a:lnTo>
                      <a:pt x="592" y="315"/>
                    </a:lnTo>
                    <a:lnTo>
                      <a:pt x="598" y="311"/>
                    </a:lnTo>
                    <a:lnTo>
                      <a:pt x="607" y="304"/>
                    </a:lnTo>
                    <a:lnTo>
                      <a:pt x="615" y="298"/>
                    </a:lnTo>
                    <a:lnTo>
                      <a:pt x="624" y="291"/>
                    </a:lnTo>
                    <a:lnTo>
                      <a:pt x="633" y="285"/>
                    </a:lnTo>
                    <a:lnTo>
                      <a:pt x="642" y="279"/>
                    </a:lnTo>
                    <a:lnTo>
                      <a:pt x="649" y="273"/>
                    </a:lnTo>
                    <a:lnTo>
                      <a:pt x="657" y="270"/>
                    </a:lnTo>
                    <a:lnTo>
                      <a:pt x="654" y="273"/>
                    </a:lnTo>
                    <a:lnTo>
                      <a:pt x="653" y="278"/>
                    </a:lnTo>
                    <a:lnTo>
                      <a:pt x="652" y="283"/>
                    </a:lnTo>
                    <a:lnTo>
                      <a:pt x="650" y="287"/>
                    </a:lnTo>
                    <a:lnTo>
                      <a:pt x="649" y="293"/>
                    </a:lnTo>
                    <a:lnTo>
                      <a:pt x="648" y="297"/>
                    </a:lnTo>
                    <a:lnTo>
                      <a:pt x="648" y="301"/>
                    </a:lnTo>
                    <a:lnTo>
                      <a:pt x="647" y="305"/>
                    </a:lnTo>
                    <a:lnTo>
                      <a:pt x="651" y="303"/>
                    </a:lnTo>
                    <a:lnTo>
                      <a:pt x="658" y="299"/>
                    </a:lnTo>
                    <a:lnTo>
                      <a:pt x="665" y="294"/>
                    </a:lnTo>
                    <a:lnTo>
                      <a:pt x="672" y="286"/>
                    </a:lnTo>
                    <a:lnTo>
                      <a:pt x="681" y="279"/>
                    </a:lnTo>
                    <a:lnTo>
                      <a:pt x="688" y="272"/>
                    </a:lnTo>
                    <a:lnTo>
                      <a:pt x="695" y="266"/>
                    </a:lnTo>
                    <a:lnTo>
                      <a:pt x="699" y="262"/>
                    </a:lnTo>
                    <a:lnTo>
                      <a:pt x="699" y="287"/>
                    </a:lnTo>
                    <a:lnTo>
                      <a:pt x="701" y="283"/>
                    </a:lnTo>
                    <a:lnTo>
                      <a:pt x="704" y="276"/>
                    </a:lnTo>
                    <a:lnTo>
                      <a:pt x="708" y="266"/>
                    </a:lnTo>
                    <a:lnTo>
                      <a:pt x="713" y="256"/>
                    </a:lnTo>
                    <a:lnTo>
                      <a:pt x="718" y="246"/>
                    </a:lnTo>
                    <a:lnTo>
                      <a:pt x="722" y="238"/>
                    </a:lnTo>
                    <a:lnTo>
                      <a:pt x="725" y="232"/>
                    </a:lnTo>
                    <a:lnTo>
                      <a:pt x="726" y="230"/>
                    </a:lnTo>
                    <a:lnTo>
                      <a:pt x="726" y="232"/>
                    </a:lnTo>
                    <a:lnTo>
                      <a:pt x="727" y="234"/>
                    </a:lnTo>
                    <a:lnTo>
                      <a:pt x="727" y="236"/>
                    </a:lnTo>
                    <a:lnTo>
                      <a:pt x="727" y="239"/>
                    </a:lnTo>
                    <a:lnTo>
                      <a:pt x="729" y="241"/>
                    </a:lnTo>
                    <a:lnTo>
                      <a:pt x="729" y="243"/>
                    </a:lnTo>
                    <a:lnTo>
                      <a:pt x="730" y="245"/>
                    </a:lnTo>
                    <a:lnTo>
                      <a:pt x="730" y="247"/>
                    </a:lnTo>
                    <a:lnTo>
                      <a:pt x="729" y="245"/>
                    </a:lnTo>
                    <a:lnTo>
                      <a:pt x="729" y="242"/>
                    </a:lnTo>
                    <a:lnTo>
                      <a:pt x="730" y="236"/>
                    </a:lnTo>
                    <a:lnTo>
                      <a:pt x="731" y="230"/>
                    </a:lnTo>
                    <a:lnTo>
                      <a:pt x="732" y="225"/>
                    </a:lnTo>
                    <a:lnTo>
                      <a:pt x="733" y="218"/>
                    </a:lnTo>
                    <a:lnTo>
                      <a:pt x="734" y="213"/>
                    </a:lnTo>
                    <a:lnTo>
                      <a:pt x="734" y="210"/>
                    </a:lnTo>
                    <a:lnTo>
                      <a:pt x="737" y="210"/>
                    </a:lnTo>
                    <a:lnTo>
                      <a:pt x="739" y="210"/>
                    </a:lnTo>
                    <a:lnTo>
                      <a:pt x="739" y="211"/>
                    </a:lnTo>
                    <a:lnTo>
                      <a:pt x="740" y="212"/>
                    </a:lnTo>
                    <a:lnTo>
                      <a:pt x="741" y="214"/>
                    </a:lnTo>
                    <a:lnTo>
                      <a:pt x="741" y="216"/>
                    </a:lnTo>
                    <a:lnTo>
                      <a:pt x="742" y="218"/>
                    </a:lnTo>
                    <a:lnTo>
                      <a:pt x="743" y="221"/>
                    </a:lnTo>
                    <a:lnTo>
                      <a:pt x="744" y="223"/>
                    </a:lnTo>
                    <a:lnTo>
                      <a:pt x="744" y="225"/>
                    </a:lnTo>
                    <a:lnTo>
                      <a:pt x="747" y="227"/>
                    </a:lnTo>
                    <a:lnTo>
                      <a:pt x="745" y="229"/>
                    </a:lnTo>
                    <a:lnTo>
                      <a:pt x="745" y="232"/>
                    </a:lnTo>
                    <a:lnTo>
                      <a:pt x="745" y="234"/>
                    </a:lnTo>
                    <a:lnTo>
                      <a:pt x="745" y="238"/>
                    </a:lnTo>
                    <a:lnTo>
                      <a:pt x="744" y="240"/>
                    </a:lnTo>
                    <a:lnTo>
                      <a:pt x="744" y="242"/>
                    </a:lnTo>
                    <a:lnTo>
                      <a:pt x="744" y="245"/>
                    </a:lnTo>
                    <a:lnTo>
                      <a:pt x="744" y="247"/>
                    </a:lnTo>
                    <a:lnTo>
                      <a:pt x="747" y="251"/>
                    </a:lnTo>
                    <a:lnTo>
                      <a:pt x="749" y="256"/>
                    </a:lnTo>
                    <a:lnTo>
                      <a:pt x="750" y="260"/>
                    </a:lnTo>
                    <a:lnTo>
                      <a:pt x="751" y="265"/>
                    </a:lnTo>
                    <a:lnTo>
                      <a:pt x="752" y="269"/>
                    </a:lnTo>
                    <a:lnTo>
                      <a:pt x="752" y="273"/>
                    </a:lnTo>
                    <a:lnTo>
                      <a:pt x="752" y="278"/>
                    </a:lnTo>
                    <a:lnTo>
                      <a:pt x="753" y="282"/>
                    </a:lnTo>
                    <a:lnTo>
                      <a:pt x="750" y="280"/>
                    </a:lnTo>
                    <a:lnTo>
                      <a:pt x="748" y="278"/>
                    </a:lnTo>
                    <a:lnTo>
                      <a:pt x="745" y="275"/>
                    </a:lnTo>
                    <a:lnTo>
                      <a:pt x="744" y="272"/>
                    </a:lnTo>
                    <a:lnTo>
                      <a:pt x="742" y="269"/>
                    </a:lnTo>
                    <a:lnTo>
                      <a:pt x="740" y="267"/>
                    </a:lnTo>
                    <a:lnTo>
                      <a:pt x="738" y="266"/>
                    </a:lnTo>
                    <a:lnTo>
                      <a:pt x="734" y="265"/>
                    </a:lnTo>
                    <a:lnTo>
                      <a:pt x="731" y="269"/>
                    </a:lnTo>
                    <a:lnTo>
                      <a:pt x="733" y="276"/>
                    </a:lnTo>
                    <a:lnTo>
                      <a:pt x="735" y="282"/>
                    </a:lnTo>
                    <a:lnTo>
                      <a:pt x="737" y="288"/>
                    </a:lnTo>
                    <a:lnTo>
                      <a:pt x="738" y="295"/>
                    </a:lnTo>
                    <a:lnTo>
                      <a:pt x="740" y="301"/>
                    </a:lnTo>
                    <a:lnTo>
                      <a:pt x="741" y="307"/>
                    </a:lnTo>
                    <a:lnTo>
                      <a:pt x="743" y="314"/>
                    </a:lnTo>
                    <a:lnTo>
                      <a:pt x="747" y="320"/>
                    </a:lnTo>
                    <a:lnTo>
                      <a:pt x="743" y="318"/>
                    </a:lnTo>
                    <a:lnTo>
                      <a:pt x="740" y="316"/>
                    </a:lnTo>
                    <a:lnTo>
                      <a:pt x="736" y="313"/>
                    </a:lnTo>
                    <a:lnTo>
                      <a:pt x="733" y="311"/>
                    </a:lnTo>
                    <a:lnTo>
                      <a:pt x="730" y="307"/>
                    </a:lnTo>
                    <a:lnTo>
                      <a:pt x="726" y="304"/>
                    </a:lnTo>
                    <a:lnTo>
                      <a:pt x="723" y="301"/>
                    </a:lnTo>
                    <a:lnTo>
                      <a:pt x="720" y="298"/>
                    </a:lnTo>
                    <a:lnTo>
                      <a:pt x="719" y="299"/>
                    </a:lnTo>
                    <a:lnTo>
                      <a:pt x="719" y="300"/>
                    </a:lnTo>
                    <a:lnTo>
                      <a:pt x="718" y="301"/>
                    </a:lnTo>
                    <a:lnTo>
                      <a:pt x="718" y="302"/>
                    </a:lnTo>
                    <a:lnTo>
                      <a:pt x="718" y="303"/>
                    </a:lnTo>
                    <a:lnTo>
                      <a:pt x="718" y="304"/>
                    </a:lnTo>
                    <a:lnTo>
                      <a:pt x="718" y="305"/>
                    </a:lnTo>
                    <a:lnTo>
                      <a:pt x="718" y="306"/>
                    </a:lnTo>
                    <a:lnTo>
                      <a:pt x="717" y="304"/>
                    </a:lnTo>
                    <a:lnTo>
                      <a:pt x="715" y="302"/>
                    </a:lnTo>
                    <a:lnTo>
                      <a:pt x="714" y="300"/>
                    </a:lnTo>
                    <a:lnTo>
                      <a:pt x="713" y="297"/>
                    </a:lnTo>
                    <a:lnTo>
                      <a:pt x="711" y="295"/>
                    </a:lnTo>
                    <a:lnTo>
                      <a:pt x="708" y="293"/>
                    </a:lnTo>
                    <a:lnTo>
                      <a:pt x="705" y="291"/>
                    </a:lnTo>
                    <a:lnTo>
                      <a:pt x="702" y="293"/>
                    </a:lnTo>
                    <a:lnTo>
                      <a:pt x="700" y="299"/>
                    </a:lnTo>
                    <a:lnTo>
                      <a:pt x="697" y="305"/>
                    </a:lnTo>
                    <a:lnTo>
                      <a:pt x="695" y="313"/>
                    </a:lnTo>
                    <a:lnTo>
                      <a:pt x="693" y="320"/>
                    </a:lnTo>
                    <a:lnTo>
                      <a:pt x="690" y="326"/>
                    </a:lnTo>
                    <a:lnTo>
                      <a:pt x="687" y="333"/>
                    </a:lnTo>
                    <a:lnTo>
                      <a:pt x="684" y="339"/>
                    </a:lnTo>
                    <a:lnTo>
                      <a:pt x="680" y="344"/>
                    </a:lnTo>
                    <a:lnTo>
                      <a:pt x="679" y="339"/>
                    </a:lnTo>
                    <a:lnTo>
                      <a:pt x="680" y="333"/>
                    </a:lnTo>
                    <a:lnTo>
                      <a:pt x="680" y="327"/>
                    </a:lnTo>
                    <a:lnTo>
                      <a:pt x="682" y="321"/>
                    </a:lnTo>
                    <a:lnTo>
                      <a:pt x="683" y="316"/>
                    </a:lnTo>
                    <a:lnTo>
                      <a:pt x="685" y="309"/>
                    </a:lnTo>
                    <a:lnTo>
                      <a:pt x="686" y="304"/>
                    </a:lnTo>
                    <a:lnTo>
                      <a:pt x="688" y="298"/>
                    </a:lnTo>
                    <a:lnTo>
                      <a:pt x="687" y="297"/>
                    </a:lnTo>
                    <a:lnTo>
                      <a:pt x="686" y="296"/>
                    </a:lnTo>
                    <a:lnTo>
                      <a:pt x="685" y="296"/>
                    </a:lnTo>
                    <a:lnTo>
                      <a:pt x="683" y="296"/>
                    </a:lnTo>
                    <a:lnTo>
                      <a:pt x="682" y="296"/>
                    </a:lnTo>
                    <a:lnTo>
                      <a:pt x="681" y="296"/>
                    </a:lnTo>
                    <a:lnTo>
                      <a:pt x="679" y="296"/>
                    </a:lnTo>
                    <a:lnTo>
                      <a:pt x="678" y="296"/>
                    </a:lnTo>
                    <a:lnTo>
                      <a:pt x="635" y="340"/>
                    </a:lnTo>
                    <a:lnTo>
                      <a:pt x="631" y="324"/>
                    </a:lnTo>
                    <a:lnTo>
                      <a:pt x="621" y="330"/>
                    </a:lnTo>
                    <a:lnTo>
                      <a:pt x="609" y="336"/>
                    </a:lnTo>
                    <a:lnTo>
                      <a:pt x="598" y="342"/>
                    </a:lnTo>
                    <a:lnTo>
                      <a:pt x="587" y="350"/>
                    </a:lnTo>
                    <a:lnTo>
                      <a:pt x="576" y="356"/>
                    </a:lnTo>
                    <a:lnTo>
                      <a:pt x="566" y="363"/>
                    </a:lnTo>
                    <a:lnTo>
                      <a:pt x="555" y="371"/>
                    </a:lnTo>
                    <a:lnTo>
                      <a:pt x="544" y="378"/>
                    </a:lnTo>
                    <a:lnTo>
                      <a:pt x="548" y="371"/>
                    </a:lnTo>
                    <a:lnTo>
                      <a:pt x="552" y="363"/>
                    </a:lnTo>
                    <a:lnTo>
                      <a:pt x="558" y="357"/>
                    </a:lnTo>
                    <a:lnTo>
                      <a:pt x="566" y="352"/>
                    </a:lnTo>
                    <a:lnTo>
                      <a:pt x="573" y="346"/>
                    </a:lnTo>
                    <a:lnTo>
                      <a:pt x="580" y="341"/>
                    </a:lnTo>
                    <a:lnTo>
                      <a:pt x="588" y="336"/>
                    </a:lnTo>
                    <a:lnTo>
                      <a:pt x="595" y="331"/>
                    </a:lnTo>
                    <a:lnTo>
                      <a:pt x="595" y="330"/>
                    </a:lnTo>
                    <a:lnTo>
                      <a:pt x="595" y="327"/>
                    </a:lnTo>
                    <a:lnTo>
                      <a:pt x="595" y="326"/>
                    </a:lnTo>
                    <a:lnTo>
                      <a:pt x="594" y="326"/>
                    </a:lnTo>
                    <a:lnTo>
                      <a:pt x="594" y="325"/>
                    </a:lnTo>
                    <a:lnTo>
                      <a:pt x="593" y="324"/>
                    </a:lnTo>
                    <a:lnTo>
                      <a:pt x="592" y="323"/>
                    </a:lnTo>
                    <a:lnTo>
                      <a:pt x="591" y="322"/>
                    </a:lnTo>
                    <a:lnTo>
                      <a:pt x="580" y="323"/>
                    </a:lnTo>
                    <a:lnTo>
                      <a:pt x="571" y="325"/>
                    </a:lnTo>
                    <a:lnTo>
                      <a:pt x="561" y="330"/>
                    </a:lnTo>
                    <a:lnTo>
                      <a:pt x="552" y="335"/>
                    </a:lnTo>
                    <a:lnTo>
                      <a:pt x="543" y="340"/>
                    </a:lnTo>
                    <a:lnTo>
                      <a:pt x="534" y="346"/>
                    </a:lnTo>
                    <a:lnTo>
                      <a:pt x="525" y="352"/>
                    </a:lnTo>
                    <a:lnTo>
                      <a:pt x="516" y="356"/>
                    </a:lnTo>
                    <a:lnTo>
                      <a:pt x="500" y="354"/>
                    </a:lnTo>
                    <a:lnTo>
                      <a:pt x="505" y="350"/>
                    </a:lnTo>
                    <a:lnTo>
                      <a:pt x="511" y="346"/>
                    </a:lnTo>
                    <a:lnTo>
                      <a:pt x="517" y="343"/>
                    </a:lnTo>
                    <a:lnTo>
                      <a:pt x="523" y="341"/>
                    </a:lnTo>
                    <a:lnTo>
                      <a:pt x="530" y="339"/>
                    </a:lnTo>
                    <a:lnTo>
                      <a:pt x="536" y="337"/>
                    </a:lnTo>
                    <a:lnTo>
                      <a:pt x="542" y="335"/>
                    </a:lnTo>
                    <a:lnTo>
                      <a:pt x="547" y="331"/>
                    </a:lnTo>
                    <a:lnTo>
                      <a:pt x="543" y="326"/>
                    </a:lnTo>
                    <a:lnTo>
                      <a:pt x="540" y="324"/>
                    </a:lnTo>
                    <a:lnTo>
                      <a:pt x="536" y="324"/>
                    </a:lnTo>
                    <a:lnTo>
                      <a:pt x="532" y="324"/>
                    </a:lnTo>
                    <a:lnTo>
                      <a:pt x="526" y="325"/>
                    </a:lnTo>
                    <a:lnTo>
                      <a:pt x="522" y="327"/>
                    </a:lnTo>
                    <a:lnTo>
                      <a:pt x="518" y="328"/>
                    </a:lnTo>
                    <a:lnTo>
                      <a:pt x="515" y="331"/>
                    </a:lnTo>
                    <a:lnTo>
                      <a:pt x="505" y="336"/>
                    </a:lnTo>
                    <a:lnTo>
                      <a:pt x="496" y="340"/>
                    </a:lnTo>
                    <a:lnTo>
                      <a:pt x="486" y="345"/>
                    </a:lnTo>
                    <a:lnTo>
                      <a:pt x="476" y="350"/>
                    </a:lnTo>
                    <a:lnTo>
                      <a:pt x="466" y="353"/>
                    </a:lnTo>
                    <a:lnTo>
                      <a:pt x="456" y="356"/>
                    </a:lnTo>
                    <a:lnTo>
                      <a:pt x="445" y="359"/>
                    </a:lnTo>
                    <a:lnTo>
                      <a:pt x="433" y="360"/>
                    </a:lnTo>
                    <a:lnTo>
                      <a:pt x="436" y="355"/>
                    </a:lnTo>
                    <a:lnTo>
                      <a:pt x="440" y="352"/>
                    </a:lnTo>
                    <a:lnTo>
                      <a:pt x="444" y="349"/>
                    </a:lnTo>
                    <a:lnTo>
                      <a:pt x="449" y="346"/>
                    </a:lnTo>
                    <a:lnTo>
                      <a:pt x="454" y="343"/>
                    </a:lnTo>
                    <a:lnTo>
                      <a:pt x="459" y="340"/>
                    </a:lnTo>
                    <a:lnTo>
                      <a:pt x="462" y="336"/>
                    </a:lnTo>
                    <a:lnTo>
                      <a:pt x="464" y="331"/>
                    </a:lnTo>
                    <a:lnTo>
                      <a:pt x="454" y="332"/>
                    </a:lnTo>
                    <a:lnTo>
                      <a:pt x="444" y="334"/>
                    </a:lnTo>
                    <a:lnTo>
                      <a:pt x="433" y="336"/>
                    </a:lnTo>
                    <a:lnTo>
                      <a:pt x="424" y="340"/>
                    </a:lnTo>
                    <a:lnTo>
                      <a:pt x="413" y="344"/>
                    </a:lnTo>
                    <a:lnTo>
                      <a:pt x="404" y="350"/>
                    </a:lnTo>
                    <a:lnTo>
                      <a:pt x="394" y="356"/>
                    </a:lnTo>
                    <a:lnTo>
                      <a:pt x="386" y="362"/>
                    </a:lnTo>
                    <a:lnTo>
                      <a:pt x="383" y="362"/>
                    </a:lnTo>
                    <a:lnTo>
                      <a:pt x="379" y="362"/>
                    </a:lnTo>
                    <a:lnTo>
                      <a:pt x="376" y="362"/>
                    </a:lnTo>
                    <a:lnTo>
                      <a:pt x="374" y="363"/>
                    </a:lnTo>
                    <a:lnTo>
                      <a:pt x="372" y="363"/>
                    </a:lnTo>
                    <a:lnTo>
                      <a:pt x="370" y="363"/>
                    </a:lnTo>
                    <a:lnTo>
                      <a:pt x="369" y="361"/>
                    </a:lnTo>
                    <a:lnTo>
                      <a:pt x="368" y="358"/>
                    </a:lnTo>
                    <a:lnTo>
                      <a:pt x="369" y="358"/>
                    </a:lnTo>
                    <a:lnTo>
                      <a:pt x="371" y="357"/>
                    </a:lnTo>
                    <a:lnTo>
                      <a:pt x="373" y="355"/>
                    </a:lnTo>
                    <a:lnTo>
                      <a:pt x="374" y="354"/>
                    </a:lnTo>
                    <a:lnTo>
                      <a:pt x="375" y="352"/>
                    </a:lnTo>
                    <a:lnTo>
                      <a:pt x="376" y="351"/>
                    </a:lnTo>
                    <a:lnTo>
                      <a:pt x="377" y="349"/>
                    </a:lnTo>
                    <a:lnTo>
                      <a:pt x="377" y="346"/>
                    </a:lnTo>
                    <a:lnTo>
                      <a:pt x="373" y="345"/>
                    </a:lnTo>
                    <a:lnTo>
                      <a:pt x="368" y="344"/>
                    </a:lnTo>
                    <a:lnTo>
                      <a:pt x="362" y="344"/>
                    </a:lnTo>
                    <a:lnTo>
                      <a:pt x="358" y="345"/>
                    </a:lnTo>
                    <a:lnTo>
                      <a:pt x="353" y="345"/>
                    </a:lnTo>
                    <a:lnTo>
                      <a:pt x="348" y="348"/>
                    </a:lnTo>
                    <a:lnTo>
                      <a:pt x="343" y="349"/>
                    </a:lnTo>
                    <a:lnTo>
                      <a:pt x="339" y="351"/>
                    </a:lnTo>
                    <a:lnTo>
                      <a:pt x="340" y="349"/>
                    </a:lnTo>
                    <a:lnTo>
                      <a:pt x="343" y="348"/>
                    </a:lnTo>
                    <a:lnTo>
                      <a:pt x="348" y="345"/>
                    </a:lnTo>
                    <a:lnTo>
                      <a:pt x="353" y="343"/>
                    </a:lnTo>
                    <a:lnTo>
                      <a:pt x="356" y="341"/>
                    </a:lnTo>
                    <a:lnTo>
                      <a:pt x="358" y="338"/>
                    </a:lnTo>
                    <a:lnTo>
                      <a:pt x="357" y="337"/>
                    </a:lnTo>
                    <a:lnTo>
                      <a:pt x="356" y="335"/>
                    </a:lnTo>
                    <a:lnTo>
                      <a:pt x="355" y="333"/>
                    </a:lnTo>
                    <a:lnTo>
                      <a:pt x="352" y="331"/>
                    </a:lnTo>
                    <a:lnTo>
                      <a:pt x="315" y="340"/>
                    </a:lnTo>
                    <a:lnTo>
                      <a:pt x="314" y="339"/>
                    </a:lnTo>
                    <a:lnTo>
                      <a:pt x="314" y="337"/>
                    </a:lnTo>
                    <a:lnTo>
                      <a:pt x="314" y="334"/>
                    </a:lnTo>
                    <a:lnTo>
                      <a:pt x="314" y="332"/>
                    </a:lnTo>
                    <a:lnTo>
                      <a:pt x="314" y="330"/>
                    </a:lnTo>
                    <a:lnTo>
                      <a:pt x="312" y="326"/>
                    </a:lnTo>
                    <a:lnTo>
                      <a:pt x="310" y="325"/>
                    </a:lnTo>
                    <a:lnTo>
                      <a:pt x="306" y="324"/>
                    </a:lnTo>
                    <a:lnTo>
                      <a:pt x="305" y="325"/>
                    </a:lnTo>
                    <a:lnTo>
                      <a:pt x="304" y="325"/>
                    </a:lnTo>
                    <a:lnTo>
                      <a:pt x="303" y="326"/>
                    </a:lnTo>
                    <a:lnTo>
                      <a:pt x="301" y="326"/>
                    </a:lnTo>
                    <a:lnTo>
                      <a:pt x="300" y="326"/>
                    </a:lnTo>
                    <a:lnTo>
                      <a:pt x="298" y="326"/>
                    </a:lnTo>
                    <a:lnTo>
                      <a:pt x="297" y="326"/>
                    </a:lnTo>
                    <a:lnTo>
                      <a:pt x="295" y="326"/>
                    </a:lnTo>
                    <a:lnTo>
                      <a:pt x="300" y="323"/>
                    </a:lnTo>
                    <a:lnTo>
                      <a:pt x="305" y="320"/>
                    </a:lnTo>
                    <a:lnTo>
                      <a:pt x="310" y="317"/>
                    </a:lnTo>
                    <a:lnTo>
                      <a:pt x="315" y="314"/>
                    </a:lnTo>
                    <a:lnTo>
                      <a:pt x="319" y="309"/>
                    </a:lnTo>
                    <a:lnTo>
                      <a:pt x="323" y="305"/>
                    </a:lnTo>
                    <a:lnTo>
                      <a:pt x="328" y="301"/>
                    </a:lnTo>
                    <a:lnTo>
                      <a:pt x="331" y="296"/>
                    </a:lnTo>
                    <a:lnTo>
                      <a:pt x="329" y="295"/>
                    </a:lnTo>
                    <a:lnTo>
                      <a:pt x="326" y="296"/>
                    </a:lnTo>
                    <a:lnTo>
                      <a:pt x="324" y="296"/>
                    </a:lnTo>
                    <a:lnTo>
                      <a:pt x="322" y="298"/>
                    </a:lnTo>
                    <a:lnTo>
                      <a:pt x="320" y="299"/>
                    </a:lnTo>
                    <a:lnTo>
                      <a:pt x="318" y="300"/>
                    </a:lnTo>
                    <a:lnTo>
                      <a:pt x="316" y="301"/>
                    </a:lnTo>
                    <a:lnTo>
                      <a:pt x="313" y="300"/>
                    </a:lnTo>
                    <a:lnTo>
                      <a:pt x="316" y="295"/>
                    </a:lnTo>
                    <a:lnTo>
                      <a:pt x="319" y="290"/>
                    </a:lnTo>
                    <a:lnTo>
                      <a:pt x="323" y="286"/>
                    </a:lnTo>
                    <a:lnTo>
                      <a:pt x="328" y="283"/>
                    </a:lnTo>
                    <a:lnTo>
                      <a:pt x="338" y="277"/>
                    </a:lnTo>
                    <a:lnTo>
                      <a:pt x="348" y="270"/>
                    </a:lnTo>
                    <a:lnTo>
                      <a:pt x="357" y="263"/>
                    </a:lnTo>
                    <a:lnTo>
                      <a:pt x="366" y="254"/>
                    </a:lnTo>
                    <a:lnTo>
                      <a:pt x="369" y="250"/>
                    </a:lnTo>
                    <a:lnTo>
                      <a:pt x="372" y="245"/>
                    </a:lnTo>
                    <a:lnTo>
                      <a:pt x="374" y="239"/>
                    </a:lnTo>
                    <a:lnTo>
                      <a:pt x="375" y="231"/>
                    </a:lnTo>
                    <a:lnTo>
                      <a:pt x="373" y="228"/>
                    </a:lnTo>
                    <a:lnTo>
                      <a:pt x="371" y="227"/>
                    </a:lnTo>
                    <a:lnTo>
                      <a:pt x="369" y="226"/>
                    </a:lnTo>
                    <a:lnTo>
                      <a:pt x="367" y="226"/>
                    </a:lnTo>
                    <a:lnTo>
                      <a:pt x="365" y="227"/>
                    </a:lnTo>
                    <a:lnTo>
                      <a:pt x="361" y="228"/>
                    </a:lnTo>
                    <a:lnTo>
                      <a:pt x="359" y="230"/>
                    </a:lnTo>
                    <a:lnTo>
                      <a:pt x="357" y="231"/>
                    </a:lnTo>
                    <a:lnTo>
                      <a:pt x="355" y="225"/>
                    </a:lnTo>
                    <a:lnTo>
                      <a:pt x="355" y="218"/>
                    </a:lnTo>
                    <a:lnTo>
                      <a:pt x="355" y="212"/>
                    </a:lnTo>
                    <a:lnTo>
                      <a:pt x="356" y="205"/>
                    </a:lnTo>
                    <a:lnTo>
                      <a:pt x="357" y="198"/>
                    </a:lnTo>
                    <a:lnTo>
                      <a:pt x="357" y="192"/>
                    </a:lnTo>
                    <a:lnTo>
                      <a:pt x="357" y="187"/>
                    </a:lnTo>
                    <a:lnTo>
                      <a:pt x="355" y="180"/>
                    </a:lnTo>
                    <a:lnTo>
                      <a:pt x="351" y="183"/>
                    </a:lnTo>
                    <a:lnTo>
                      <a:pt x="348" y="186"/>
                    </a:lnTo>
                    <a:lnTo>
                      <a:pt x="344" y="189"/>
                    </a:lnTo>
                    <a:lnTo>
                      <a:pt x="341" y="193"/>
                    </a:lnTo>
                    <a:lnTo>
                      <a:pt x="339" y="198"/>
                    </a:lnTo>
                    <a:lnTo>
                      <a:pt x="338" y="203"/>
                    </a:lnTo>
                    <a:lnTo>
                      <a:pt x="336" y="207"/>
                    </a:lnTo>
                    <a:lnTo>
                      <a:pt x="335" y="211"/>
                    </a:lnTo>
                    <a:lnTo>
                      <a:pt x="333" y="205"/>
                    </a:lnTo>
                    <a:lnTo>
                      <a:pt x="331" y="197"/>
                    </a:lnTo>
                    <a:lnTo>
                      <a:pt x="331" y="190"/>
                    </a:lnTo>
                    <a:lnTo>
                      <a:pt x="332" y="183"/>
                    </a:lnTo>
                    <a:lnTo>
                      <a:pt x="333" y="174"/>
                    </a:lnTo>
                    <a:lnTo>
                      <a:pt x="334" y="167"/>
                    </a:lnTo>
                    <a:lnTo>
                      <a:pt x="335" y="158"/>
                    </a:lnTo>
                    <a:lnTo>
                      <a:pt x="335" y="151"/>
                    </a:lnTo>
                    <a:lnTo>
                      <a:pt x="329" y="144"/>
                    </a:lnTo>
                    <a:lnTo>
                      <a:pt x="324" y="150"/>
                    </a:lnTo>
                    <a:lnTo>
                      <a:pt x="320" y="155"/>
                    </a:lnTo>
                    <a:lnTo>
                      <a:pt x="316" y="160"/>
                    </a:lnTo>
                    <a:lnTo>
                      <a:pt x="313" y="166"/>
                    </a:lnTo>
                    <a:lnTo>
                      <a:pt x="310" y="172"/>
                    </a:lnTo>
                    <a:lnTo>
                      <a:pt x="306" y="178"/>
                    </a:lnTo>
                    <a:lnTo>
                      <a:pt x="303" y="184"/>
                    </a:lnTo>
                    <a:lnTo>
                      <a:pt x="299" y="189"/>
                    </a:lnTo>
                    <a:lnTo>
                      <a:pt x="299" y="179"/>
                    </a:lnTo>
                    <a:lnTo>
                      <a:pt x="299" y="170"/>
                    </a:lnTo>
                    <a:lnTo>
                      <a:pt x="300" y="161"/>
                    </a:lnTo>
                    <a:lnTo>
                      <a:pt x="301" y="153"/>
                    </a:lnTo>
                    <a:lnTo>
                      <a:pt x="301" y="144"/>
                    </a:lnTo>
                    <a:lnTo>
                      <a:pt x="300" y="136"/>
                    </a:lnTo>
                    <a:lnTo>
                      <a:pt x="299" y="128"/>
                    </a:lnTo>
                    <a:lnTo>
                      <a:pt x="295" y="119"/>
                    </a:lnTo>
                    <a:lnTo>
                      <a:pt x="292" y="121"/>
                    </a:lnTo>
                    <a:lnTo>
                      <a:pt x="288" y="124"/>
                    </a:lnTo>
                    <a:lnTo>
                      <a:pt x="285" y="128"/>
                    </a:lnTo>
                    <a:lnTo>
                      <a:pt x="283" y="132"/>
                    </a:lnTo>
                    <a:lnTo>
                      <a:pt x="281" y="136"/>
                    </a:lnTo>
                    <a:lnTo>
                      <a:pt x="279" y="140"/>
                    </a:lnTo>
                    <a:lnTo>
                      <a:pt x="277" y="144"/>
                    </a:lnTo>
                    <a:lnTo>
                      <a:pt x="275" y="149"/>
                    </a:lnTo>
                    <a:lnTo>
                      <a:pt x="279" y="78"/>
                    </a:lnTo>
                    <a:lnTo>
                      <a:pt x="272" y="71"/>
                    </a:lnTo>
                    <a:lnTo>
                      <a:pt x="267" y="77"/>
                    </a:lnTo>
                    <a:lnTo>
                      <a:pt x="262" y="83"/>
                    </a:lnTo>
                    <a:lnTo>
                      <a:pt x="259" y="89"/>
                    </a:lnTo>
                    <a:lnTo>
                      <a:pt x="255" y="96"/>
                    </a:lnTo>
                    <a:lnTo>
                      <a:pt x="251" y="103"/>
                    </a:lnTo>
                    <a:lnTo>
                      <a:pt x="248" y="110"/>
                    </a:lnTo>
                    <a:lnTo>
                      <a:pt x="244" y="116"/>
                    </a:lnTo>
                    <a:lnTo>
                      <a:pt x="240" y="122"/>
                    </a:lnTo>
                    <a:lnTo>
                      <a:pt x="238" y="114"/>
                    </a:lnTo>
                    <a:lnTo>
                      <a:pt x="237" y="105"/>
                    </a:lnTo>
                    <a:lnTo>
                      <a:pt x="237" y="96"/>
                    </a:lnTo>
                    <a:lnTo>
                      <a:pt x="238" y="87"/>
                    </a:lnTo>
                    <a:lnTo>
                      <a:pt x="239" y="78"/>
                    </a:lnTo>
                    <a:lnTo>
                      <a:pt x="242" y="68"/>
                    </a:lnTo>
                    <a:lnTo>
                      <a:pt x="245" y="60"/>
                    </a:lnTo>
                    <a:lnTo>
                      <a:pt x="248" y="52"/>
                    </a:lnTo>
                    <a:lnTo>
                      <a:pt x="246" y="49"/>
                    </a:lnTo>
                    <a:lnTo>
                      <a:pt x="244" y="48"/>
                    </a:lnTo>
                    <a:lnTo>
                      <a:pt x="241" y="48"/>
                    </a:lnTo>
                    <a:lnTo>
                      <a:pt x="239" y="49"/>
                    </a:lnTo>
                    <a:lnTo>
                      <a:pt x="237" y="50"/>
                    </a:lnTo>
                    <a:lnTo>
                      <a:pt x="233" y="52"/>
                    </a:lnTo>
                    <a:lnTo>
                      <a:pt x="231" y="53"/>
                    </a:lnTo>
                    <a:lnTo>
                      <a:pt x="228" y="53"/>
                    </a:lnTo>
                    <a:lnTo>
                      <a:pt x="220" y="60"/>
                    </a:lnTo>
                    <a:lnTo>
                      <a:pt x="212" y="67"/>
                    </a:lnTo>
                    <a:lnTo>
                      <a:pt x="206" y="75"/>
                    </a:lnTo>
                    <a:lnTo>
                      <a:pt x="199" y="82"/>
                    </a:lnTo>
                    <a:lnTo>
                      <a:pt x="193" y="89"/>
                    </a:lnTo>
                    <a:lnTo>
                      <a:pt x="188" y="98"/>
                    </a:lnTo>
                    <a:lnTo>
                      <a:pt x="183" y="106"/>
                    </a:lnTo>
                    <a:lnTo>
                      <a:pt x="177" y="114"/>
                    </a:lnTo>
                    <a:lnTo>
                      <a:pt x="176" y="110"/>
                    </a:lnTo>
                    <a:lnTo>
                      <a:pt x="177" y="103"/>
                    </a:lnTo>
                    <a:lnTo>
                      <a:pt x="178" y="98"/>
                    </a:lnTo>
                    <a:lnTo>
                      <a:pt x="179" y="93"/>
                    </a:lnTo>
                    <a:lnTo>
                      <a:pt x="181" y="86"/>
                    </a:lnTo>
                    <a:lnTo>
                      <a:pt x="183" y="80"/>
                    </a:lnTo>
                    <a:lnTo>
                      <a:pt x="185" y="74"/>
                    </a:lnTo>
                    <a:lnTo>
                      <a:pt x="186" y="68"/>
                    </a:lnTo>
                    <a:lnTo>
                      <a:pt x="185" y="67"/>
                    </a:lnTo>
                    <a:lnTo>
                      <a:pt x="183" y="66"/>
                    </a:lnTo>
                    <a:lnTo>
                      <a:pt x="181" y="66"/>
                    </a:lnTo>
                    <a:lnTo>
                      <a:pt x="179" y="65"/>
                    </a:lnTo>
                    <a:lnTo>
                      <a:pt x="178" y="64"/>
                    </a:lnTo>
                    <a:lnTo>
                      <a:pt x="176" y="64"/>
                    </a:lnTo>
                    <a:lnTo>
                      <a:pt x="175" y="65"/>
                    </a:lnTo>
                    <a:lnTo>
                      <a:pt x="173" y="66"/>
                    </a:lnTo>
                    <a:lnTo>
                      <a:pt x="146" y="96"/>
                    </a:lnTo>
                    <a:lnTo>
                      <a:pt x="144" y="89"/>
                    </a:lnTo>
                    <a:lnTo>
                      <a:pt x="146" y="83"/>
                    </a:lnTo>
                    <a:lnTo>
                      <a:pt x="148" y="76"/>
                    </a:lnTo>
                    <a:lnTo>
                      <a:pt x="151" y="69"/>
                    </a:lnTo>
                    <a:lnTo>
                      <a:pt x="153" y="62"/>
                    </a:lnTo>
                    <a:lnTo>
                      <a:pt x="154" y="56"/>
                    </a:lnTo>
                    <a:lnTo>
                      <a:pt x="154" y="52"/>
                    </a:lnTo>
                    <a:lnTo>
                      <a:pt x="154" y="49"/>
                    </a:lnTo>
                    <a:lnTo>
                      <a:pt x="153" y="47"/>
                    </a:lnTo>
                    <a:lnTo>
                      <a:pt x="152" y="44"/>
                    </a:lnTo>
                    <a:lnTo>
                      <a:pt x="146" y="46"/>
                    </a:lnTo>
                    <a:lnTo>
                      <a:pt x="140" y="49"/>
                    </a:lnTo>
                    <a:lnTo>
                      <a:pt x="135" y="53"/>
                    </a:lnTo>
                    <a:lnTo>
                      <a:pt x="131" y="58"/>
                    </a:lnTo>
                    <a:lnTo>
                      <a:pt x="125" y="62"/>
                    </a:lnTo>
                    <a:lnTo>
                      <a:pt x="120" y="66"/>
                    </a:lnTo>
                    <a:lnTo>
                      <a:pt x="116" y="71"/>
                    </a:lnTo>
                    <a:lnTo>
                      <a:pt x="111" y="77"/>
                    </a:lnTo>
                    <a:lnTo>
                      <a:pt x="113" y="75"/>
                    </a:lnTo>
                    <a:lnTo>
                      <a:pt x="113" y="73"/>
                    </a:lnTo>
                    <a:lnTo>
                      <a:pt x="113" y="68"/>
                    </a:lnTo>
                    <a:lnTo>
                      <a:pt x="113" y="64"/>
                    </a:lnTo>
                    <a:lnTo>
                      <a:pt x="113" y="60"/>
                    </a:lnTo>
                    <a:lnTo>
                      <a:pt x="114" y="56"/>
                    </a:lnTo>
                    <a:lnTo>
                      <a:pt x="116" y="51"/>
                    </a:lnTo>
                    <a:lnTo>
                      <a:pt x="119" y="48"/>
                    </a:lnTo>
                    <a:lnTo>
                      <a:pt x="119" y="46"/>
                    </a:lnTo>
                    <a:lnTo>
                      <a:pt x="119" y="45"/>
                    </a:lnTo>
                    <a:lnTo>
                      <a:pt x="119" y="44"/>
                    </a:lnTo>
                    <a:lnTo>
                      <a:pt x="118" y="42"/>
                    </a:lnTo>
                    <a:lnTo>
                      <a:pt x="117" y="42"/>
                    </a:lnTo>
                    <a:lnTo>
                      <a:pt x="115" y="41"/>
                    </a:lnTo>
                    <a:lnTo>
                      <a:pt x="114" y="39"/>
                    </a:lnTo>
                    <a:lnTo>
                      <a:pt x="113" y="38"/>
                    </a:lnTo>
                    <a:lnTo>
                      <a:pt x="105" y="43"/>
                    </a:lnTo>
                    <a:lnTo>
                      <a:pt x="98" y="48"/>
                    </a:lnTo>
                    <a:lnTo>
                      <a:pt x="91" y="53"/>
                    </a:lnTo>
                    <a:lnTo>
                      <a:pt x="84" y="60"/>
                    </a:lnTo>
                    <a:lnTo>
                      <a:pt x="77" y="66"/>
                    </a:lnTo>
                    <a:lnTo>
                      <a:pt x="70" y="73"/>
                    </a:lnTo>
                    <a:lnTo>
                      <a:pt x="64" y="79"/>
                    </a:lnTo>
                    <a:lnTo>
                      <a:pt x="59" y="86"/>
                    </a:lnTo>
                    <a:lnTo>
                      <a:pt x="61" y="80"/>
                    </a:lnTo>
                    <a:lnTo>
                      <a:pt x="63" y="75"/>
                    </a:lnTo>
                    <a:lnTo>
                      <a:pt x="65" y="68"/>
                    </a:lnTo>
                    <a:lnTo>
                      <a:pt x="67" y="62"/>
                    </a:lnTo>
                    <a:lnTo>
                      <a:pt x="68" y="56"/>
                    </a:lnTo>
                    <a:lnTo>
                      <a:pt x="69" y="49"/>
                    </a:lnTo>
                    <a:lnTo>
                      <a:pt x="68" y="44"/>
                    </a:lnTo>
                    <a:lnTo>
                      <a:pt x="67" y="38"/>
                    </a:lnTo>
                    <a:lnTo>
                      <a:pt x="60" y="39"/>
                    </a:lnTo>
                    <a:lnTo>
                      <a:pt x="55" y="42"/>
                    </a:lnTo>
                    <a:lnTo>
                      <a:pt x="48" y="46"/>
                    </a:lnTo>
                    <a:lnTo>
                      <a:pt x="43" y="51"/>
                    </a:lnTo>
                    <a:lnTo>
                      <a:pt x="38" y="58"/>
                    </a:lnTo>
                    <a:lnTo>
                      <a:pt x="31" y="63"/>
                    </a:lnTo>
                    <a:lnTo>
                      <a:pt x="26" y="69"/>
                    </a:lnTo>
                    <a:lnTo>
                      <a:pt x="21" y="75"/>
                    </a:lnTo>
                    <a:lnTo>
                      <a:pt x="21" y="71"/>
                    </a:lnTo>
                    <a:lnTo>
                      <a:pt x="22" y="68"/>
                    </a:lnTo>
                    <a:lnTo>
                      <a:pt x="23" y="64"/>
                    </a:lnTo>
                    <a:lnTo>
                      <a:pt x="24" y="61"/>
                    </a:lnTo>
                    <a:lnTo>
                      <a:pt x="25" y="58"/>
                    </a:lnTo>
                    <a:lnTo>
                      <a:pt x="24" y="55"/>
                    </a:lnTo>
                    <a:lnTo>
                      <a:pt x="22" y="52"/>
                    </a:lnTo>
                    <a:lnTo>
                      <a:pt x="19" y="50"/>
                    </a:lnTo>
                    <a:lnTo>
                      <a:pt x="15" y="51"/>
                    </a:lnTo>
                    <a:lnTo>
                      <a:pt x="13" y="52"/>
                    </a:lnTo>
                    <a:lnTo>
                      <a:pt x="11" y="55"/>
                    </a:lnTo>
                    <a:lnTo>
                      <a:pt x="9" y="56"/>
                    </a:lnTo>
                    <a:lnTo>
                      <a:pt x="6" y="57"/>
                    </a:lnTo>
                    <a:lnTo>
                      <a:pt x="4" y="59"/>
                    </a:lnTo>
                    <a:lnTo>
                      <a:pt x="2" y="60"/>
                    </a:lnTo>
                    <a:lnTo>
                      <a:pt x="0" y="62"/>
                    </a:lnTo>
                    <a:lnTo>
                      <a:pt x="1" y="56"/>
                    </a:lnTo>
                    <a:lnTo>
                      <a:pt x="1" y="49"/>
                    </a:lnTo>
                    <a:lnTo>
                      <a:pt x="2" y="44"/>
                    </a:lnTo>
                    <a:lnTo>
                      <a:pt x="3" y="39"/>
                    </a:lnTo>
                    <a:lnTo>
                      <a:pt x="4" y="33"/>
                    </a:lnTo>
                    <a:lnTo>
                      <a:pt x="5" y="30"/>
                    </a:lnTo>
                    <a:lnTo>
                      <a:pt x="5" y="27"/>
                    </a:lnTo>
                    <a:lnTo>
                      <a:pt x="6" y="25"/>
                    </a:lnTo>
                    <a:lnTo>
                      <a:pt x="9" y="25"/>
                    </a:lnTo>
                    <a:lnTo>
                      <a:pt x="6" y="30"/>
                    </a:lnTo>
                    <a:close/>
                    <a:moveTo>
                      <a:pt x="761" y="205"/>
                    </a:moveTo>
                    <a:lnTo>
                      <a:pt x="761" y="211"/>
                    </a:lnTo>
                    <a:lnTo>
                      <a:pt x="762" y="218"/>
                    </a:lnTo>
                    <a:lnTo>
                      <a:pt x="763" y="226"/>
                    </a:lnTo>
                    <a:lnTo>
                      <a:pt x="764" y="233"/>
                    </a:lnTo>
                    <a:lnTo>
                      <a:pt x="766" y="240"/>
                    </a:lnTo>
                    <a:lnTo>
                      <a:pt x="768" y="247"/>
                    </a:lnTo>
                    <a:lnTo>
                      <a:pt x="769" y="254"/>
                    </a:lnTo>
                    <a:lnTo>
                      <a:pt x="770" y="262"/>
                    </a:lnTo>
                    <a:lnTo>
                      <a:pt x="769" y="262"/>
                    </a:lnTo>
                    <a:lnTo>
                      <a:pt x="769" y="261"/>
                    </a:lnTo>
                    <a:lnTo>
                      <a:pt x="768" y="261"/>
                    </a:lnTo>
                    <a:lnTo>
                      <a:pt x="768" y="260"/>
                    </a:lnTo>
                    <a:lnTo>
                      <a:pt x="767" y="260"/>
                    </a:lnTo>
                    <a:lnTo>
                      <a:pt x="766" y="259"/>
                    </a:lnTo>
                    <a:lnTo>
                      <a:pt x="766" y="259"/>
                    </a:lnTo>
                    <a:lnTo>
                      <a:pt x="764" y="258"/>
                    </a:lnTo>
                    <a:lnTo>
                      <a:pt x="764" y="250"/>
                    </a:lnTo>
                    <a:lnTo>
                      <a:pt x="763" y="244"/>
                    </a:lnTo>
                    <a:lnTo>
                      <a:pt x="762" y="236"/>
                    </a:lnTo>
                    <a:lnTo>
                      <a:pt x="762" y="230"/>
                    </a:lnTo>
                    <a:lnTo>
                      <a:pt x="761" y="224"/>
                    </a:lnTo>
                    <a:lnTo>
                      <a:pt x="760" y="217"/>
                    </a:lnTo>
                    <a:lnTo>
                      <a:pt x="760" y="211"/>
                    </a:lnTo>
                    <a:lnTo>
                      <a:pt x="761" y="205"/>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27720" y="5810400"/>
                <a:ext cx="187200" cy="527040"/>
              </a:xfrm>
              <a:custGeom>
                <a:avLst/>
                <a:gdLst/>
                <a:ahLst/>
                <a:rect l="l" t="t" r="r" b="b"/>
                <a:pathLst>
                  <a:path w="354" h="996">
                    <a:moveTo>
                      <a:pt x="30" y="885"/>
                    </a:moveTo>
                    <a:lnTo>
                      <a:pt x="29" y="892"/>
                    </a:lnTo>
                    <a:lnTo>
                      <a:pt x="27" y="899"/>
                    </a:lnTo>
                    <a:lnTo>
                      <a:pt x="25" y="908"/>
                    </a:lnTo>
                    <a:lnTo>
                      <a:pt x="22" y="915"/>
                    </a:lnTo>
                    <a:lnTo>
                      <a:pt x="20" y="924"/>
                    </a:lnTo>
                    <a:lnTo>
                      <a:pt x="18" y="931"/>
                    </a:lnTo>
                    <a:lnTo>
                      <a:pt x="16" y="938"/>
                    </a:lnTo>
                    <a:lnTo>
                      <a:pt x="15" y="946"/>
                    </a:lnTo>
                    <a:lnTo>
                      <a:pt x="20" y="945"/>
                    </a:lnTo>
                    <a:lnTo>
                      <a:pt x="24" y="941"/>
                    </a:lnTo>
                    <a:lnTo>
                      <a:pt x="29" y="938"/>
                    </a:lnTo>
                    <a:lnTo>
                      <a:pt x="34" y="934"/>
                    </a:lnTo>
                    <a:lnTo>
                      <a:pt x="40" y="930"/>
                    </a:lnTo>
                    <a:lnTo>
                      <a:pt x="45" y="926"/>
                    </a:lnTo>
                    <a:lnTo>
                      <a:pt x="49" y="922"/>
                    </a:lnTo>
                    <a:lnTo>
                      <a:pt x="54" y="920"/>
                    </a:lnTo>
                    <a:lnTo>
                      <a:pt x="54" y="924"/>
                    </a:lnTo>
                    <a:lnTo>
                      <a:pt x="52" y="927"/>
                    </a:lnTo>
                    <a:lnTo>
                      <a:pt x="51" y="931"/>
                    </a:lnTo>
                    <a:lnTo>
                      <a:pt x="50" y="934"/>
                    </a:lnTo>
                    <a:lnTo>
                      <a:pt x="50" y="938"/>
                    </a:lnTo>
                    <a:lnTo>
                      <a:pt x="49" y="941"/>
                    </a:lnTo>
                    <a:lnTo>
                      <a:pt x="48" y="945"/>
                    </a:lnTo>
                    <a:lnTo>
                      <a:pt x="48" y="948"/>
                    </a:lnTo>
                    <a:lnTo>
                      <a:pt x="50" y="948"/>
                    </a:lnTo>
                    <a:lnTo>
                      <a:pt x="54" y="947"/>
                    </a:lnTo>
                    <a:lnTo>
                      <a:pt x="58" y="946"/>
                    </a:lnTo>
                    <a:lnTo>
                      <a:pt x="62" y="944"/>
                    </a:lnTo>
                    <a:lnTo>
                      <a:pt x="65" y="941"/>
                    </a:lnTo>
                    <a:lnTo>
                      <a:pt x="69" y="939"/>
                    </a:lnTo>
                    <a:lnTo>
                      <a:pt x="72" y="937"/>
                    </a:lnTo>
                    <a:lnTo>
                      <a:pt x="74" y="935"/>
                    </a:lnTo>
                    <a:lnTo>
                      <a:pt x="75" y="935"/>
                    </a:lnTo>
                    <a:lnTo>
                      <a:pt x="75" y="935"/>
                    </a:lnTo>
                    <a:lnTo>
                      <a:pt x="76" y="934"/>
                    </a:lnTo>
                    <a:lnTo>
                      <a:pt x="77" y="934"/>
                    </a:lnTo>
                    <a:lnTo>
                      <a:pt x="78" y="934"/>
                    </a:lnTo>
                    <a:lnTo>
                      <a:pt x="79" y="933"/>
                    </a:lnTo>
                    <a:lnTo>
                      <a:pt x="80" y="933"/>
                    </a:lnTo>
                    <a:lnTo>
                      <a:pt x="81" y="933"/>
                    </a:lnTo>
                    <a:lnTo>
                      <a:pt x="81" y="935"/>
                    </a:lnTo>
                    <a:lnTo>
                      <a:pt x="80" y="937"/>
                    </a:lnTo>
                    <a:lnTo>
                      <a:pt x="80" y="940"/>
                    </a:lnTo>
                    <a:lnTo>
                      <a:pt x="80" y="943"/>
                    </a:lnTo>
                    <a:lnTo>
                      <a:pt x="79" y="946"/>
                    </a:lnTo>
                    <a:lnTo>
                      <a:pt x="79" y="948"/>
                    </a:lnTo>
                    <a:lnTo>
                      <a:pt x="78" y="951"/>
                    </a:lnTo>
                    <a:lnTo>
                      <a:pt x="78" y="953"/>
                    </a:lnTo>
                    <a:lnTo>
                      <a:pt x="82" y="952"/>
                    </a:lnTo>
                    <a:lnTo>
                      <a:pt x="87" y="951"/>
                    </a:lnTo>
                    <a:lnTo>
                      <a:pt x="92" y="948"/>
                    </a:lnTo>
                    <a:lnTo>
                      <a:pt x="96" y="945"/>
                    </a:lnTo>
                    <a:lnTo>
                      <a:pt x="105" y="935"/>
                    </a:lnTo>
                    <a:lnTo>
                      <a:pt x="114" y="926"/>
                    </a:lnTo>
                    <a:lnTo>
                      <a:pt x="123" y="915"/>
                    </a:lnTo>
                    <a:lnTo>
                      <a:pt x="132" y="907"/>
                    </a:lnTo>
                    <a:lnTo>
                      <a:pt x="136" y="903"/>
                    </a:lnTo>
                    <a:lnTo>
                      <a:pt x="140" y="900"/>
                    </a:lnTo>
                    <a:lnTo>
                      <a:pt x="145" y="898"/>
                    </a:lnTo>
                    <a:lnTo>
                      <a:pt x="149" y="898"/>
                    </a:lnTo>
                    <a:lnTo>
                      <a:pt x="140" y="946"/>
                    </a:lnTo>
                    <a:lnTo>
                      <a:pt x="150" y="943"/>
                    </a:lnTo>
                    <a:lnTo>
                      <a:pt x="158" y="940"/>
                    </a:lnTo>
                    <a:lnTo>
                      <a:pt x="167" y="936"/>
                    </a:lnTo>
                    <a:lnTo>
                      <a:pt x="175" y="932"/>
                    </a:lnTo>
                    <a:lnTo>
                      <a:pt x="184" y="928"/>
                    </a:lnTo>
                    <a:lnTo>
                      <a:pt x="192" y="924"/>
                    </a:lnTo>
                    <a:lnTo>
                      <a:pt x="200" y="919"/>
                    </a:lnTo>
                    <a:lnTo>
                      <a:pt x="208" y="915"/>
                    </a:lnTo>
                    <a:lnTo>
                      <a:pt x="208" y="920"/>
                    </a:lnTo>
                    <a:lnTo>
                      <a:pt x="208" y="927"/>
                    </a:lnTo>
                    <a:lnTo>
                      <a:pt x="207" y="933"/>
                    </a:lnTo>
                    <a:lnTo>
                      <a:pt x="207" y="939"/>
                    </a:lnTo>
                    <a:lnTo>
                      <a:pt x="206" y="946"/>
                    </a:lnTo>
                    <a:lnTo>
                      <a:pt x="205" y="952"/>
                    </a:lnTo>
                    <a:lnTo>
                      <a:pt x="204" y="957"/>
                    </a:lnTo>
                    <a:lnTo>
                      <a:pt x="204" y="963"/>
                    </a:lnTo>
                    <a:lnTo>
                      <a:pt x="210" y="954"/>
                    </a:lnTo>
                    <a:lnTo>
                      <a:pt x="215" y="945"/>
                    </a:lnTo>
                    <a:lnTo>
                      <a:pt x="220" y="934"/>
                    </a:lnTo>
                    <a:lnTo>
                      <a:pt x="223" y="924"/>
                    </a:lnTo>
                    <a:lnTo>
                      <a:pt x="225" y="912"/>
                    </a:lnTo>
                    <a:lnTo>
                      <a:pt x="228" y="901"/>
                    </a:lnTo>
                    <a:lnTo>
                      <a:pt x="231" y="891"/>
                    </a:lnTo>
                    <a:lnTo>
                      <a:pt x="236" y="880"/>
                    </a:lnTo>
                    <a:lnTo>
                      <a:pt x="238" y="894"/>
                    </a:lnTo>
                    <a:lnTo>
                      <a:pt x="241" y="903"/>
                    </a:lnTo>
                    <a:lnTo>
                      <a:pt x="244" y="910"/>
                    </a:lnTo>
                    <a:lnTo>
                      <a:pt x="247" y="913"/>
                    </a:lnTo>
                    <a:lnTo>
                      <a:pt x="248" y="914"/>
                    </a:lnTo>
                    <a:lnTo>
                      <a:pt x="250" y="913"/>
                    </a:lnTo>
                    <a:lnTo>
                      <a:pt x="252" y="913"/>
                    </a:lnTo>
                    <a:lnTo>
                      <a:pt x="255" y="912"/>
                    </a:lnTo>
                    <a:lnTo>
                      <a:pt x="258" y="908"/>
                    </a:lnTo>
                    <a:lnTo>
                      <a:pt x="262" y="901"/>
                    </a:lnTo>
                    <a:lnTo>
                      <a:pt x="270" y="885"/>
                    </a:lnTo>
                    <a:lnTo>
                      <a:pt x="278" y="866"/>
                    </a:lnTo>
                    <a:lnTo>
                      <a:pt x="284" y="847"/>
                    </a:lnTo>
                    <a:lnTo>
                      <a:pt x="288" y="830"/>
                    </a:lnTo>
                    <a:lnTo>
                      <a:pt x="291" y="837"/>
                    </a:lnTo>
                    <a:lnTo>
                      <a:pt x="293" y="845"/>
                    </a:lnTo>
                    <a:lnTo>
                      <a:pt x="296" y="856"/>
                    </a:lnTo>
                    <a:lnTo>
                      <a:pt x="298" y="866"/>
                    </a:lnTo>
                    <a:lnTo>
                      <a:pt x="300" y="878"/>
                    </a:lnTo>
                    <a:lnTo>
                      <a:pt x="303" y="888"/>
                    </a:lnTo>
                    <a:lnTo>
                      <a:pt x="304" y="897"/>
                    </a:lnTo>
                    <a:lnTo>
                      <a:pt x="306" y="902"/>
                    </a:lnTo>
                    <a:lnTo>
                      <a:pt x="310" y="899"/>
                    </a:lnTo>
                    <a:lnTo>
                      <a:pt x="313" y="894"/>
                    </a:lnTo>
                    <a:lnTo>
                      <a:pt x="315" y="886"/>
                    </a:lnTo>
                    <a:lnTo>
                      <a:pt x="318" y="878"/>
                    </a:lnTo>
                    <a:lnTo>
                      <a:pt x="320" y="869"/>
                    </a:lnTo>
                    <a:lnTo>
                      <a:pt x="322" y="859"/>
                    </a:lnTo>
                    <a:lnTo>
                      <a:pt x="323" y="847"/>
                    </a:lnTo>
                    <a:lnTo>
                      <a:pt x="324" y="836"/>
                    </a:lnTo>
                    <a:lnTo>
                      <a:pt x="325" y="824"/>
                    </a:lnTo>
                    <a:lnTo>
                      <a:pt x="324" y="812"/>
                    </a:lnTo>
                    <a:lnTo>
                      <a:pt x="323" y="801"/>
                    </a:lnTo>
                    <a:lnTo>
                      <a:pt x="322" y="789"/>
                    </a:lnTo>
                    <a:lnTo>
                      <a:pt x="319" y="779"/>
                    </a:lnTo>
                    <a:lnTo>
                      <a:pt x="316" y="769"/>
                    </a:lnTo>
                    <a:lnTo>
                      <a:pt x="312" y="761"/>
                    </a:lnTo>
                    <a:lnTo>
                      <a:pt x="306" y="753"/>
                    </a:lnTo>
                    <a:lnTo>
                      <a:pt x="305" y="754"/>
                    </a:lnTo>
                    <a:lnTo>
                      <a:pt x="304" y="756"/>
                    </a:lnTo>
                    <a:lnTo>
                      <a:pt x="303" y="759"/>
                    </a:lnTo>
                    <a:lnTo>
                      <a:pt x="301" y="761"/>
                    </a:lnTo>
                    <a:lnTo>
                      <a:pt x="299" y="763"/>
                    </a:lnTo>
                    <a:lnTo>
                      <a:pt x="298" y="765"/>
                    </a:lnTo>
                    <a:lnTo>
                      <a:pt x="296" y="767"/>
                    </a:lnTo>
                    <a:lnTo>
                      <a:pt x="296" y="768"/>
                    </a:lnTo>
                    <a:lnTo>
                      <a:pt x="294" y="768"/>
                    </a:lnTo>
                    <a:lnTo>
                      <a:pt x="293" y="767"/>
                    </a:lnTo>
                    <a:lnTo>
                      <a:pt x="292" y="765"/>
                    </a:lnTo>
                    <a:lnTo>
                      <a:pt x="289" y="764"/>
                    </a:lnTo>
                    <a:lnTo>
                      <a:pt x="288" y="762"/>
                    </a:lnTo>
                    <a:lnTo>
                      <a:pt x="287" y="761"/>
                    </a:lnTo>
                    <a:lnTo>
                      <a:pt x="286" y="759"/>
                    </a:lnTo>
                    <a:lnTo>
                      <a:pt x="286" y="757"/>
                    </a:lnTo>
                    <a:lnTo>
                      <a:pt x="282" y="757"/>
                    </a:lnTo>
                    <a:lnTo>
                      <a:pt x="276" y="756"/>
                    </a:lnTo>
                    <a:lnTo>
                      <a:pt x="268" y="754"/>
                    </a:lnTo>
                    <a:lnTo>
                      <a:pt x="261" y="752"/>
                    </a:lnTo>
                    <a:lnTo>
                      <a:pt x="253" y="750"/>
                    </a:lnTo>
                    <a:lnTo>
                      <a:pt x="246" y="747"/>
                    </a:lnTo>
                    <a:lnTo>
                      <a:pt x="240" y="745"/>
                    </a:lnTo>
                    <a:lnTo>
                      <a:pt x="236" y="743"/>
                    </a:lnTo>
                    <a:lnTo>
                      <a:pt x="236" y="741"/>
                    </a:lnTo>
                    <a:lnTo>
                      <a:pt x="236" y="738"/>
                    </a:lnTo>
                    <a:lnTo>
                      <a:pt x="236" y="736"/>
                    </a:lnTo>
                    <a:lnTo>
                      <a:pt x="234" y="734"/>
                    </a:lnTo>
                    <a:lnTo>
                      <a:pt x="234" y="732"/>
                    </a:lnTo>
                    <a:lnTo>
                      <a:pt x="233" y="731"/>
                    </a:lnTo>
                    <a:lnTo>
                      <a:pt x="233" y="729"/>
                    </a:lnTo>
                    <a:lnTo>
                      <a:pt x="233" y="728"/>
                    </a:lnTo>
                    <a:lnTo>
                      <a:pt x="232" y="728"/>
                    </a:lnTo>
                    <a:lnTo>
                      <a:pt x="231" y="728"/>
                    </a:lnTo>
                    <a:lnTo>
                      <a:pt x="230" y="728"/>
                    </a:lnTo>
                    <a:lnTo>
                      <a:pt x="230" y="728"/>
                    </a:lnTo>
                    <a:lnTo>
                      <a:pt x="229" y="727"/>
                    </a:lnTo>
                    <a:lnTo>
                      <a:pt x="229" y="727"/>
                    </a:lnTo>
                    <a:lnTo>
                      <a:pt x="228" y="726"/>
                    </a:lnTo>
                    <a:lnTo>
                      <a:pt x="228" y="726"/>
                    </a:lnTo>
                    <a:lnTo>
                      <a:pt x="221" y="726"/>
                    </a:lnTo>
                    <a:lnTo>
                      <a:pt x="213" y="717"/>
                    </a:lnTo>
                    <a:lnTo>
                      <a:pt x="207" y="710"/>
                    </a:lnTo>
                    <a:lnTo>
                      <a:pt x="202" y="701"/>
                    </a:lnTo>
                    <a:lnTo>
                      <a:pt x="197" y="694"/>
                    </a:lnTo>
                    <a:lnTo>
                      <a:pt x="191" y="679"/>
                    </a:lnTo>
                    <a:lnTo>
                      <a:pt x="187" y="663"/>
                    </a:lnTo>
                    <a:lnTo>
                      <a:pt x="183" y="647"/>
                    </a:lnTo>
                    <a:lnTo>
                      <a:pt x="179" y="632"/>
                    </a:lnTo>
                    <a:lnTo>
                      <a:pt x="174" y="615"/>
                    </a:lnTo>
                    <a:lnTo>
                      <a:pt x="166" y="598"/>
                    </a:lnTo>
                    <a:lnTo>
                      <a:pt x="155" y="577"/>
                    </a:lnTo>
                    <a:lnTo>
                      <a:pt x="147" y="556"/>
                    </a:lnTo>
                    <a:lnTo>
                      <a:pt x="139" y="536"/>
                    </a:lnTo>
                    <a:lnTo>
                      <a:pt x="133" y="516"/>
                    </a:lnTo>
                    <a:lnTo>
                      <a:pt x="129" y="497"/>
                    </a:lnTo>
                    <a:lnTo>
                      <a:pt x="125" y="477"/>
                    </a:lnTo>
                    <a:lnTo>
                      <a:pt x="123" y="458"/>
                    </a:lnTo>
                    <a:lnTo>
                      <a:pt x="123" y="438"/>
                    </a:lnTo>
                    <a:lnTo>
                      <a:pt x="136" y="426"/>
                    </a:lnTo>
                    <a:lnTo>
                      <a:pt x="135" y="434"/>
                    </a:lnTo>
                    <a:lnTo>
                      <a:pt x="133" y="442"/>
                    </a:lnTo>
                    <a:lnTo>
                      <a:pt x="131" y="452"/>
                    </a:lnTo>
                    <a:lnTo>
                      <a:pt x="130" y="461"/>
                    </a:lnTo>
                    <a:lnTo>
                      <a:pt x="130" y="471"/>
                    </a:lnTo>
                    <a:lnTo>
                      <a:pt x="131" y="479"/>
                    </a:lnTo>
                    <a:lnTo>
                      <a:pt x="133" y="484"/>
                    </a:lnTo>
                    <a:lnTo>
                      <a:pt x="136" y="487"/>
                    </a:lnTo>
                    <a:lnTo>
                      <a:pt x="139" y="490"/>
                    </a:lnTo>
                    <a:lnTo>
                      <a:pt x="143" y="493"/>
                    </a:lnTo>
                    <a:lnTo>
                      <a:pt x="147" y="497"/>
                    </a:lnTo>
                    <a:lnTo>
                      <a:pt x="149" y="501"/>
                    </a:lnTo>
                    <a:lnTo>
                      <a:pt x="150" y="506"/>
                    </a:lnTo>
                    <a:lnTo>
                      <a:pt x="151" y="510"/>
                    </a:lnTo>
                    <a:lnTo>
                      <a:pt x="152" y="518"/>
                    </a:lnTo>
                    <a:lnTo>
                      <a:pt x="153" y="527"/>
                    </a:lnTo>
                    <a:lnTo>
                      <a:pt x="154" y="535"/>
                    </a:lnTo>
                    <a:lnTo>
                      <a:pt x="155" y="544"/>
                    </a:lnTo>
                    <a:lnTo>
                      <a:pt x="157" y="548"/>
                    </a:lnTo>
                    <a:lnTo>
                      <a:pt x="159" y="551"/>
                    </a:lnTo>
                    <a:lnTo>
                      <a:pt x="163" y="555"/>
                    </a:lnTo>
                    <a:lnTo>
                      <a:pt x="166" y="559"/>
                    </a:lnTo>
                    <a:lnTo>
                      <a:pt x="166" y="567"/>
                    </a:lnTo>
                    <a:lnTo>
                      <a:pt x="167" y="574"/>
                    </a:lnTo>
                    <a:lnTo>
                      <a:pt x="169" y="582"/>
                    </a:lnTo>
                    <a:lnTo>
                      <a:pt x="172" y="588"/>
                    </a:lnTo>
                    <a:lnTo>
                      <a:pt x="174" y="595"/>
                    </a:lnTo>
                    <a:lnTo>
                      <a:pt x="177" y="601"/>
                    </a:lnTo>
                    <a:lnTo>
                      <a:pt x="179" y="608"/>
                    </a:lnTo>
                    <a:lnTo>
                      <a:pt x="180" y="616"/>
                    </a:lnTo>
                    <a:lnTo>
                      <a:pt x="190" y="620"/>
                    </a:lnTo>
                    <a:lnTo>
                      <a:pt x="191" y="627"/>
                    </a:lnTo>
                    <a:lnTo>
                      <a:pt x="192" y="636"/>
                    </a:lnTo>
                    <a:lnTo>
                      <a:pt x="192" y="643"/>
                    </a:lnTo>
                    <a:lnTo>
                      <a:pt x="193" y="652"/>
                    </a:lnTo>
                    <a:lnTo>
                      <a:pt x="195" y="659"/>
                    </a:lnTo>
                    <a:lnTo>
                      <a:pt x="198" y="666"/>
                    </a:lnTo>
                    <a:lnTo>
                      <a:pt x="203" y="672"/>
                    </a:lnTo>
                    <a:lnTo>
                      <a:pt x="208" y="676"/>
                    </a:lnTo>
                    <a:lnTo>
                      <a:pt x="211" y="681"/>
                    </a:lnTo>
                    <a:lnTo>
                      <a:pt x="214" y="687"/>
                    </a:lnTo>
                    <a:lnTo>
                      <a:pt x="216" y="692"/>
                    </a:lnTo>
                    <a:lnTo>
                      <a:pt x="219" y="697"/>
                    </a:lnTo>
                    <a:lnTo>
                      <a:pt x="222" y="702"/>
                    </a:lnTo>
                    <a:lnTo>
                      <a:pt x="224" y="708"/>
                    </a:lnTo>
                    <a:lnTo>
                      <a:pt x="227" y="713"/>
                    </a:lnTo>
                    <a:lnTo>
                      <a:pt x="231" y="718"/>
                    </a:lnTo>
                    <a:lnTo>
                      <a:pt x="237" y="724"/>
                    </a:lnTo>
                    <a:lnTo>
                      <a:pt x="244" y="727"/>
                    </a:lnTo>
                    <a:lnTo>
                      <a:pt x="251" y="730"/>
                    </a:lnTo>
                    <a:lnTo>
                      <a:pt x="259" y="731"/>
                    </a:lnTo>
                    <a:lnTo>
                      <a:pt x="275" y="733"/>
                    </a:lnTo>
                    <a:lnTo>
                      <a:pt x="291" y="734"/>
                    </a:lnTo>
                    <a:lnTo>
                      <a:pt x="298" y="735"/>
                    </a:lnTo>
                    <a:lnTo>
                      <a:pt x="305" y="737"/>
                    </a:lnTo>
                    <a:lnTo>
                      <a:pt x="312" y="739"/>
                    </a:lnTo>
                    <a:lnTo>
                      <a:pt x="317" y="744"/>
                    </a:lnTo>
                    <a:lnTo>
                      <a:pt x="322" y="749"/>
                    </a:lnTo>
                    <a:lnTo>
                      <a:pt x="325" y="755"/>
                    </a:lnTo>
                    <a:lnTo>
                      <a:pt x="329" y="764"/>
                    </a:lnTo>
                    <a:lnTo>
                      <a:pt x="330" y="775"/>
                    </a:lnTo>
                    <a:lnTo>
                      <a:pt x="338" y="796"/>
                    </a:lnTo>
                    <a:lnTo>
                      <a:pt x="344" y="816"/>
                    </a:lnTo>
                    <a:lnTo>
                      <a:pt x="349" y="836"/>
                    </a:lnTo>
                    <a:lnTo>
                      <a:pt x="352" y="857"/>
                    </a:lnTo>
                    <a:lnTo>
                      <a:pt x="354" y="878"/>
                    </a:lnTo>
                    <a:lnTo>
                      <a:pt x="354" y="899"/>
                    </a:lnTo>
                    <a:lnTo>
                      <a:pt x="354" y="921"/>
                    </a:lnTo>
                    <a:lnTo>
                      <a:pt x="353" y="943"/>
                    </a:lnTo>
                    <a:lnTo>
                      <a:pt x="350" y="943"/>
                    </a:lnTo>
                    <a:lnTo>
                      <a:pt x="347" y="945"/>
                    </a:lnTo>
                    <a:lnTo>
                      <a:pt x="344" y="947"/>
                    </a:lnTo>
                    <a:lnTo>
                      <a:pt x="343" y="950"/>
                    </a:lnTo>
                    <a:lnTo>
                      <a:pt x="341" y="953"/>
                    </a:lnTo>
                    <a:lnTo>
                      <a:pt x="340" y="956"/>
                    </a:lnTo>
                    <a:lnTo>
                      <a:pt x="338" y="959"/>
                    </a:lnTo>
                    <a:lnTo>
                      <a:pt x="335" y="963"/>
                    </a:lnTo>
                    <a:lnTo>
                      <a:pt x="334" y="961"/>
                    </a:lnTo>
                    <a:lnTo>
                      <a:pt x="333" y="959"/>
                    </a:lnTo>
                    <a:lnTo>
                      <a:pt x="331" y="958"/>
                    </a:lnTo>
                    <a:lnTo>
                      <a:pt x="330" y="957"/>
                    </a:lnTo>
                    <a:lnTo>
                      <a:pt x="328" y="956"/>
                    </a:lnTo>
                    <a:lnTo>
                      <a:pt x="325" y="956"/>
                    </a:lnTo>
                    <a:lnTo>
                      <a:pt x="323" y="956"/>
                    </a:lnTo>
                    <a:lnTo>
                      <a:pt x="321" y="956"/>
                    </a:lnTo>
                    <a:lnTo>
                      <a:pt x="310" y="972"/>
                    </a:lnTo>
                    <a:lnTo>
                      <a:pt x="303" y="972"/>
                    </a:lnTo>
                    <a:lnTo>
                      <a:pt x="297" y="972"/>
                    </a:lnTo>
                    <a:lnTo>
                      <a:pt x="292" y="973"/>
                    </a:lnTo>
                    <a:lnTo>
                      <a:pt x="287" y="974"/>
                    </a:lnTo>
                    <a:lnTo>
                      <a:pt x="282" y="976"/>
                    </a:lnTo>
                    <a:lnTo>
                      <a:pt x="277" y="979"/>
                    </a:lnTo>
                    <a:lnTo>
                      <a:pt x="273" y="981"/>
                    </a:lnTo>
                    <a:lnTo>
                      <a:pt x="267" y="983"/>
                    </a:lnTo>
                    <a:lnTo>
                      <a:pt x="266" y="982"/>
                    </a:lnTo>
                    <a:lnTo>
                      <a:pt x="266" y="981"/>
                    </a:lnTo>
                    <a:lnTo>
                      <a:pt x="267" y="980"/>
                    </a:lnTo>
                    <a:lnTo>
                      <a:pt x="268" y="979"/>
                    </a:lnTo>
                    <a:lnTo>
                      <a:pt x="268" y="976"/>
                    </a:lnTo>
                    <a:lnTo>
                      <a:pt x="269" y="974"/>
                    </a:lnTo>
                    <a:lnTo>
                      <a:pt x="269" y="972"/>
                    </a:lnTo>
                    <a:lnTo>
                      <a:pt x="268" y="970"/>
                    </a:lnTo>
                    <a:lnTo>
                      <a:pt x="263" y="968"/>
                    </a:lnTo>
                    <a:lnTo>
                      <a:pt x="258" y="967"/>
                    </a:lnTo>
                    <a:lnTo>
                      <a:pt x="252" y="966"/>
                    </a:lnTo>
                    <a:lnTo>
                      <a:pt x="247" y="967"/>
                    </a:lnTo>
                    <a:lnTo>
                      <a:pt x="236" y="970"/>
                    </a:lnTo>
                    <a:lnTo>
                      <a:pt x="225" y="974"/>
                    </a:lnTo>
                    <a:lnTo>
                      <a:pt x="214" y="979"/>
                    </a:lnTo>
                    <a:lnTo>
                      <a:pt x="204" y="983"/>
                    </a:lnTo>
                    <a:lnTo>
                      <a:pt x="198" y="985"/>
                    </a:lnTo>
                    <a:lnTo>
                      <a:pt x="193" y="986"/>
                    </a:lnTo>
                    <a:lnTo>
                      <a:pt x="188" y="986"/>
                    </a:lnTo>
                    <a:lnTo>
                      <a:pt x="183" y="985"/>
                    </a:lnTo>
                    <a:lnTo>
                      <a:pt x="180" y="986"/>
                    </a:lnTo>
                    <a:lnTo>
                      <a:pt x="178" y="986"/>
                    </a:lnTo>
                    <a:lnTo>
                      <a:pt x="176" y="987"/>
                    </a:lnTo>
                    <a:lnTo>
                      <a:pt x="174" y="987"/>
                    </a:lnTo>
                    <a:lnTo>
                      <a:pt x="172" y="988"/>
                    </a:lnTo>
                    <a:lnTo>
                      <a:pt x="170" y="988"/>
                    </a:lnTo>
                    <a:lnTo>
                      <a:pt x="168" y="988"/>
                    </a:lnTo>
                    <a:lnTo>
                      <a:pt x="166" y="988"/>
                    </a:lnTo>
                    <a:lnTo>
                      <a:pt x="147" y="996"/>
                    </a:lnTo>
                    <a:lnTo>
                      <a:pt x="143" y="983"/>
                    </a:lnTo>
                    <a:lnTo>
                      <a:pt x="140" y="982"/>
                    </a:lnTo>
                    <a:lnTo>
                      <a:pt x="136" y="981"/>
                    </a:lnTo>
                    <a:lnTo>
                      <a:pt x="133" y="981"/>
                    </a:lnTo>
                    <a:lnTo>
                      <a:pt x="129" y="982"/>
                    </a:lnTo>
                    <a:lnTo>
                      <a:pt x="121" y="984"/>
                    </a:lnTo>
                    <a:lnTo>
                      <a:pt x="114" y="986"/>
                    </a:lnTo>
                    <a:lnTo>
                      <a:pt x="106" y="988"/>
                    </a:lnTo>
                    <a:lnTo>
                      <a:pt x="99" y="988"/>
                    </a:lnTo>
                    <a:lnTo>
                      <a:pt x="96" y="988"/>
                    </a:lnTo>
                    <a:lnTo>
                      <a:pt x="93" y="987"/>
                    </a:lnTo>
                    <a:lnTo>
                      <a:pt x="88" y="985"/>
                    </a:lnTo>
                    <a:lnTo>
                      <a:pt x="85" y="983"/>
                    </a:lnTo>
                    <a:lnTo>
                      <a:pt x="83" y="984"/>
                    </a:lnTo>
                    <a:lnTo>
                      <a:pt x="82" y="985"/>
                    </a:lnTo>
                    <a:lnTo>
                      <a:pt x="80" y="985"/>
                    </a:lnTo>
                    <a:lnTo>
                      <a:pt x="78" y="985"/>
                    </a:lnTo>
                    <a:lnTo>
                      <a:pt x="76" y="985"/>
                    </a:lnTo>
                    <a:lnTo>
                      <a:pt x="74" y="985"/>
                    </a:lnTo>
                    <a:lnTo>
                      <a:pt x="72" y="985"/>
                    </a:lnTo>
                    <a:lnTo>
                      <a:pt x="69" y="985"/>
                    </a:lnTo>
                    <a:lnTo>
                      <a:pt x="69" y="984"/>
                    </a:lnTo>
                    <a:lnTo>
                      <a:pt x="69" y="983"/>
                    </a:lnTo>
                    <a:lnTo>
                      <a:pt x="68" y="982"/>
                    </a:lnTo>
                    <a:lnTo>
                      <a:pt x="68" y="982"/>
                    </a:lnTo>
                    <a:lnTo>
                      <a:pt x="67" y="981"/>
                    </a:lnTo>
                    <a:lnTo>
                      <a:pt x="66" y="980"/>
                    </a:lnTo>
                    <a:lnTo>
                      <a:pt x="66" y="980"/>
                    </a:lnTo>
                    <a:lnTo>
                      <a:pt x="65" y="979"/>
                    </a:lnTo>
                    <a:lnTo>
                      <a:pt x="58" y="981"/>
                    </a:lnTo>
                    <a:lnTo>
                      <a:pt x="50" y="984"/>
                    </a:lnTo>
                    <a:lnTo>
                      <a:pt x="42" y="987"/>
                    </a:lnTo>
                    <a:lnTo>
                      <a:pt x="34" y="989"/>
                    </a:lnTo>
                    <a:lnTo>
                      <a:pt x="26" y="990"/>
                    </a:lnTo>
                    <a:lnTo>
                      <a:pt x="18" y="990"/>
                    </a:lnTo>
                    <a:lnTo>
                      <a:pt x="14" y="990"/>
                    </a:lnTo>
                    <a:lnTo>
                      <a:pt x="10" y="989"/>
                    </a:lnTo>
                    <a:lnTo>
                      <a:pt x="6" y="987"/>
                    </a:lnTo>
                    <a:lnTo>
                      <a:pt x="3" y="985"/>
                    </a:lnTo>
                    <a:lnTo>
                      <a:pt x="0" y="916"/>
                    </a:lnTo>
                    <a:lnTo>
                      <a:pt x="4" y="913"/>
                    </a:lnTo>
                    <a:lnTo>
                      <a:pt x="7" y="910"/>
                    </a:lnTo>
                    <a:lnTo>
                      <a:pt x="11" y="907"/>
                    </a:lnTo>
                    <a:lnTo>
                      <a:pt x="14" y="902"/>
                    </a:lnTo>
                    <a:lnTo>
                      <a:pt x="18" y="898"/>
                    </a:lnTo>
                    <a:lnTo>
                      <a:pt x="21" y="894"/>
                    </a:lnTo>
                    <a:lnTo>
                      <a:pt x="24" y="890"/>
                    </a:lnTo>
                    <a:lnTo>
                      <a:pt x="27" y="884"/>
                    </a:lnTo>
                    <a:lnTo>
                      <a:pt x="30" y="885"/>
                    </a:lnTo>
                    <a:close/>
                    <a:moveTo>
                      <a:pt x="124" y="421"/>
                    </a:moveTo>
                    <a:lnTo>
                      <a:pt x="125" y="408"/>
                    </a:lnTo>
                    <a:lnTo>
                      <a:pt x="128" y="395"/>
                    </a:lnTo>
                    <a:lnTo>
                      <a:pt x="130" y="381"/>
                    </a:lnTo>
                    <a:lnTo>
                      <a:pt x="133" y="367"/>
                    </a:lnTo>
                    <a:lnTo>
                      <a:pt x="136" y="353"/>
                    </a:lnTo>
                    <a:lnTo>
                      <a:pt x="140" y="339"/>
                    </a:lnTo>
                    <a:lnTo>
                      <a:pt x="146" y="325"/>
                    </a:lnTo>
                    <a:lnTo>
                      <a:pt x="151" y="310"/>
                    </a:lnTo>
                    <a:lnTo>
                      <a:pt x="151" y="305"/>
                    </a:lnTo>
                    <a:lnTo>
                      <a:pt x="154" y="302"/>
                    </a:lnTo>
                    <a:lnTo>
                      <a:pt x="157" y="297"/>
                    </a:lnTo>
                    <a:lnTo>
                      <a:pt x="160" y="294"/>
                    </a:lnTo>
                    <a:lnTo>
                      <a:pt x="163" y="289"/>
                    </a:lnTo>
                    <a:lnTo>
                      <a:pt x="166" y="285"/>
                    </a:lnTo>
                    <a:lnTo>
                      <a:pt x="168" y="279"/>
                    </a:lnTo>
                    <a:lnTo>
                      <a:pt x="170" y="274"/>
                    </a:lnTo>
                    <a:lnTo>
                      <a:pt x="172" y="269"/>
                    </a:lnTo>
                    <a:lnTo>
                      <a:pt x="183" y="279"/>
                    </a:lnTo>
                    <a:lnTo>
                      <a:pt x="177" y="292"/>
                    </a:lnTo>
                    <a:lnTo>
                      <a:pt x="171" y="305"/>
                    </a:lnTo>
                    <a:lnTo>
                      <a:pt x="164" y="319"/>
                    </a:lnTo>
                    <a:lnTo>
                      <a:pt x="157" y="331"/>
                    </a:lnTo>
                    <a:lnTo>
                      <a:pt x="151" y="344"/>
                    </a:lnTo>
                    <a:lnTo>
                      <a:pt x="146" y="357"/>
                    </a:lnTo>
                    <a:lnTo>
                      <a:pt x="143" y="364"/>
                    </a:lnTo>
                    <a:lnTo>
                      <a:pt x="142" y="370"/>
                    </a:lnTo>
                    <a:lnTo>
                      <a:pt x="141" y="377"/>
                    </a:lnTo>
                    <a:lnTo>
                      <a:pt x="141" y="384"/>
                    </a:lnTo>
                    <a:lnTo>
                      <a:pt x="139" y="388"/>
                    </a:lnTo>
                    <a:lnTo>
                      <a:pt x="137" y="394"/>
                    </a:lnTo>
                    <a:lnTo>
                      <a:pt x="135" y="398"/>
                    </a:lnTo>
                    <a:lnTo>
                      <a:pt x="133" y="402"/>
                    </a:lnTo>
                    <a:lnTo>
                      <a:pt x="131" y="407"/>
                    </a:lnTo>
                    <a:lnTo>
                      <a:pt x="129" y="412"/>
                    </a:lnTo>
                    <a:lnTo>
                      <a:pt x="125" y="417"/>
                    </a:lnTo>
                    <a:lnTo>
                      <a:pt x="124" y="421"/>
                    </a:lnTo>
                    <a:close/>
                    <a:moveTo>
                      <a:pt x="174" y="261"/>
                    </a:moveTo>
                    <a:lnTo>
                      <a:pt x="180" y="238"/>
                    </a:lnTo>
                    <a:lnTo>
                      <a:pt x="186" y="213"/>
                    </a:lnTo>
                    <a:lnTo>
                      <a:pt x="190" y="185"/>
                    </a:lnTo>
                    <a:lnTo>
                      <a:pt x="193" y="159"/>
                    </a:lnTo>
                    <a:lnTo>
                      <a:pt x="196" y="132"/>
                    </a:lnTo>
                    <a:lnTo>
                      <a:pt x="201" y="107"/>
                    </a:lnTo>
                    <a:lnTo>
                      <a:pt x="205" y="85"/>
                    </a:lnTo>
                    <a:lnTo>
                      <a:pt x="211" y="66"/>
                    </a:lnTo>
                    <a:lnTo>
                      <a:pt x="212" y="59"/>
                    </a:lnTo>
                    <a:lnTo>
                      <a:pt x="214" y="52"/>
                    </a:lnTo>
                    <a:lnTo>
                      <a:pt x="216" y="44"/>
                    </a:lnTo>
                    <a:lnTo>
                      <a:pt x="219" y="35"/>
                    </a:lnTo>
                    <a:lnTo>
                      <a:pt x="220" y="27"/>
                    </a:lnTo>
                    <a:lnTo>
                      <a:pt x="221" y="17"/>
                    </a:lnTo>
                    <a:lnTo>
                      <a:pt x="223" y="9"/>
                    </a:lnTo>
                    <a:lnTo>
                      <a:pt x="224" y="0"/>
                    </a:lnTo>
                    <a:lnTo>
                      <a:pt x="227" y="16"/>
                    </a:lnTo>
                    <a:lnTo>
                      <a:pt x="229" y="32"/>
                    </a:lnTo>
                    <a:lnTo>
                      <a:pt x="230" y="49"/>
                    </a:lnTo>
                    <a:lnTo>
                      <a:pt x="230" y="65"/>
                    </a:lnTo>
                    <a:lnTo>
                      <a:pt x="229" y="82"/>
                    </a:lnTo>
                    <a:lnTo>
                      <a:pt x="227" y="99"/>
                    </a:lnTo>
                    <a:lnTo>
                      <a:pt x="223" y="114"/>
                    </a:lnTo>
                    <a:lnTo>
                      <a:pt x="219" y="130"/>
                    </a:lnTo>
                    <a:lnTo>
                      <a:pt x="216" y="140"/>
                    </a:lnTo>
                    <a:lnTo>
                      <a:pt x="214" y="149"/>
                    </a:lnTo>
                    <a:lnTo>
                      <a:pt x="211" y="160"/>
                    </a:lnTo>
                    <a:lnTo>
                      <a:pt x="208" y="169"/>
                    </a:lnTo>
                    <a:lnTo>
                      <a:pt x="204" y="179"/>
                    </a:lnTo>
                    <a:lnTo>
                      <a:pt x="200" y="189"/>
                    </a:lnTo>
                    <a:lnTo>
                      <a:pt x="195" y="199"/>
                    </a:lnTo>
                    <a:lnTo>
                      <a:pt x="190" y="209"/>
                    </a:lnTo>
                    <a:lnTo>
                      <a:pt x="191" y="215"/>
                    </a:lnTo>
                    <a:lnTo>
                      <a:pt x="190" y="222"/>
                    </a:lnTo>
                    <a:lnTo>
                      <a:pt x="188" y="229"/>
                    </a:lnTo>
                    <a:lnTo>
                      <a:pt x="186" y="235"/>
                    </a:lnTo>
                    <a:lnTo>
                      <a:pt x="184" y="242"/>
                    </a:lnTo>
                    <a:lnTo>
                      <a:pt x="180" y="249"/>
                    </a:lnTo>
                    <a:lnTo>
                      <a:pt x="177" y="255"/>
                    </a:lnTo>
                    <a:lnTo>
                      <a:pt x="174" y="261"/>
                    </a:lnTo>
                    <a:close/>
                  </a:path>
                </a:pathLst>
              </a:custGeom>
              <a:gradFill rotWithShape="0">
                <a:gsLst>
                  <a:gs pos="0">
                    <a:srgbClr val="333399"/>
                  </a:gs>
                  <a:gs pos="100000">
                    <a:srgbClr val="12123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80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ccffff"/>
                </a:solidFill>
                <a:latin typeface="Verdana"/>
              </a:rPr>
              <a:t>Click to edit the title text format</a:t>
            </a:r>
            <a:endParaRPr b="1" lang="en-US" sz="4100" spc="-1" strike="noStrike">
              <a:solidFill>
                <a:srgbClr val="ccffff"/>
              </a:solidFill>
              <a:latin typeface="Verdana"/>
            </a:endParaRPr>
          </a:p>
        </p:txBody>
      </p:sp>
      <p:sp>
        <p:nvSpPr>
          <p:cNvPr id="804" name="PlaceHolder 2"/>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lt;date/time&gt;</a:t>
            </a:r>
            <a:endParaRPr b="0" lang="en-US" sz="1400" spc="-1" strike="noStrike">
              <a:solidFill>
                <a:srgbClr val="ffffff"/>
              </a:solidFill>
              <a:latin typeface="Times New Roman"/>
            </a:endParaRPr>
          </a:p>
        </p:txBody>
      </p:sp>
      <p:sp>
        <p:nvSpPr>
          <p:cNvPr id="805" name="PlaceHolder 3"/>
          <p:cNvSpPr>
            <a:spLocks noGrp="1"/>
          </p:cNvSpPr>
          <p:nvPr>
            <p:ph type="ftr" idx="2"/>
          </p:nvPr>
        </p:nvSpPr>
        <p:spPr>
          <a:xfrm>
            <a:off x="3352680" y="639144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lt;footer&gt;</a:t>
            </a:r>
            <a:endParaRPr b="0" lang="en-US" sz="1400" spc="-1" strike="noStrike">
              <a:solidFill>
                <a:srgbClr val="ffffff"/>
              </a:solidFill>
              <a:latin typeface="Times New Roman"/>
            </a:endParaRPr>
          </a:p>
        </p:txBody>
      </p:sp>
      <p:sp>
        <p:nvSpPr>
          <p:cNvPr id="806" name="PlaceHolder 4"/>
          <p:cNvSpPr>
            <a:spLocks noGrp="1"/>
          </p:cNvSpPr>
          <p:nvPr>
            <p:ph type="sldNum" idx="3"/>
          </p:nvPr>
        </p:nvSpPr>
        <p:spPr>
          <a:xfrm>
            <a:off x="6857640" y="6391440"/>
            <a:ext cx="16002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2A6A-1AE1-48E1-80CC-14230CEE245B}" type="slidenum">
              <a:rPr b="0" lang="es-MX" sz="1400" spc="-1" strike="noStrike">
                <a:solidFill>
                  <a:srgbClr val="ffffff"/>
                </a:solidFill>
                <a:latin typeface="Verdana"/>
              </a:rPr>
              <a:t>&lt;number&gt;</a:t>
            </a:fld>
            <a:endParaRPr b="0" lang="en-US" sz="1400" spc="-1" strike="noStrike">
              <a:solidFill>
                <a:srgbClr val="ffffff"/>
              </a:solidFill>
              <a:latin typeface="Times New Roman"/>
            </a:endParaRPr>
          </a:p>
        </p:txBody>
      </p:sp>
      <p:pic>
        <p:nvPicPr>
          <p:cNvPr id="807" name="" descr=""/>
          <p:cNvPicPr/>
          <p:nvPr/>
        </p:nvPicPr>
        <p:blipFill>
          <a:blip r:embed="rId2">
            <a:lum bright="70000" contrast="-70000"/>
          </a:blip>
          <a:stretch/>
        </p:blipFill>
        <p:spPr>
          <a:xfrm>
            <a:off x="7848720" y="0"/>
            <a:ext cx="1295280" cy="1052640"/>
          </a:xfrm>
          <a:prstGeom prst="rect">
            <a:avLst/>
          </a:prstGeom>
          <a:ln w="0">
            <a:noFill/>
          </a:ln>
        </p:spPr>
      </p:pic>
      <p:sp>
        <p:nvSpPr>
          <p:cNvPr id="80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cc"/>
                </a:solidFill>
                <a:latin typeface="Verdana"/>
              </a:rPr>
              <a:t>Click to edit the outline text format</a:t>
            </a:r>
            <a:endParaRPr b="0" lang="en-US" sz="3300" spc="-1" strike="noStrike">
              <a:solidFill>
                <a:srgbClr val="ffffcc"/>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ccff"/>
                </a:solidFill>
                <a:latin typeface="Verdana"/>
              </a:rPr>
              <a:t>Second Outline Level</a:t>
            </a:r>
            <a:endParaRPr b="0" lang="en-US" sz="2600" spc="-1" strike="noStrike">
              <a:solidFill>
                <a:srgbClr val="ccccff"/>
              </a:solidFill>
              <a:latin typeface="Verdana"/>
            </a:endParaRPr>
          </a:p>
          <a:p>
            <a:pPr lvl="2" marL="914400" algn="ctr">
              <a:spcBef>
                <a:spcPts val="550"/>
              </a:spcBef>
              <a:buClr>
                <a:srgbClr val="33cccc"/>
              </a:buClr>
              <a:buSzPct val="1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ffff"/>
                </a:solidFill>
                <a:latin typeface="Verdana"/>
              </a:rPr>
              <a:t>Third Outline Level</a:t>
            </a:r>
            <a:endParaRPr b="0" lang="en-US" sz="2200" spc="-1" strike="noStrike">
              <a:solidFill>
                <a:srgbClr val="ccffff"/>
              </a:solidFill>
              <a:latin typeface="Verdana"/>
            </a:endParaRPr>
          </a:p>
          <a:p>
            <a:pPr lvl="3" marL="1371600" algn="ctr">
              <a:spcBef>
                <a:spcPts val="499"/>
              </a:spcBef>
              <a:buClr>
                <a:srgbClr val="33cccc"/>
              </a:buClr>
              <a:buSzPct val="15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33cccc"/>
              </a:buClr>
              <a:buSzPct val="150000"/>
              <a:buFont typeface="Wingdings 3"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Fifth Outline Level</a:t>
            </a:r>
            <a:endParaRPr b="0" lang="en-US" sz="2000" spc="-1" strike="noStrike">
              <a:solidFill>
                <a:srgbClr val="33cccc"/>
              </a:solidFill>
              <a:latin typeface="Verdana"/>
            </a:endParaRPr>
          </a:p>
          <a:p>
            <a:pPr lvl="5" marL="1828800">
              <a:spcBef>
                <a:spcPts val="499"/>
              </a:spcBef>
              <a:buClr>
                <a:srgbClr val="ffffff"/>
              </a:buClr>
              <a:buSzPct val="15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Sixth Outline Level</a:t>
            </a:r>
            <a:endParaRPr b="0" lang="en-US" sz="2000" spc="-1" strike="noStrike">
              <a:solidFill>
                <a:srgbClr val="33cccc"/>
              </a:solidFill>
              <a:latin typeface="Verdana"/>
            </a:endParaRPr>
          </a:p>
          <a:p>
            <a:pPr lvl="6" marL="1828800">
              <a:spcBef>
                <a:spcPts val="499"/>
              </a:spcBef>
              <a:buClr>
                <a:srgbClr val="ffffff"/>
              </a:buClr>
              <a:buSzPct val="15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Seventh Outline Level</a:t>
            </a:r>
            <a:endParaRPr b="0" lang="en-US" sz="2000" spc="-1" strike="noStrike">
              <a:solidFill>
                <a:srgbClr val="33cccc"/>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ccffff"/>
                </a:solidFill>
                <a:latin typeface="Verdana"/>
              </a:rPr>
              <a:t>Runway Incursions in the CAR/SAM Regions and Prevention Measures</a:t>
            </a:r>
            <a:br>
              <a:rPr sz="3700"/>
            </a:br>
            <a:r>
              <a:rPr b="1" lang="en-GB" sz="3700" spc="-1" strike="noStrike">
                <a:solidFill>
                  <a:srgbClr val="ccffff"/>
                </a:solidFill>
                <a:latin typeface="Verdana"/>
              </a:rPr>
              <a:t>at Aerodromes</a:t>
            </a:r>
            <a:endParaRPr b="1" lang="en-US" sz="3700" spc="-1" strike="noStrike">
              <a:solidFill>
                <a:srgbClr val="ccffff"/>
              </a:solidFill>
              <a:latin typeface="Verdana"/>
            </a:endParaRPr>
          </a:p>
        </p:txBody>
      </p:sp>
      <p:sp>
        <p:nvSpPr>
          <p:cNvPr id="853" name="PlaceHolder 2"/>
          <p:cNvSpPr>
            <a:spLocks noGrp="1"/>
          </p:cNvSpPr>
          <p:nvPr>
            <p:ph type="subTitle"/>
          </p:nvPr>
        </p:nvSpPr>
        <p:spPr>
          <a:xfrm>
            <a:off x="0" y="4038480"/>
            <a:ext cx="9144000" cy="1905120"/>
          </a:xfrm>
          <a:prstGeom prst="rect">
            <a:avLst/>
          </a:prstGeom>
          <a:noFill/>
          <a:ln w="0">
            <a:noFill/>
          </a:ln>
        </p:spPr>
        <p:txBody>
          <a:bodyPr lIns="90000" rIns="90000" tIns="46800" bIns="46800" anchor="ctr">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Verdana"/>
              </a:rPr>
              <a:t>ICAO NAM/CAR/SAM Runway Safety/Incursion Conference</a:t>
            </a:r>
            <a:endParaRPr b="0" lang="en-US" sz="2000" spc="-1" strike="noStrike">
              <a:solidFill>
                <a:srgbClr val="ffffcc"/>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Verdana"/>
              </a:rPr>
              <a:t>22 – 25 October 2002</a:t>
            </a:r>
            <a:endParaRPr b="0" lang="en-US" sz="1800" spc="-1" strike="noStrike">
              <a:solidFill>
                <a:srgbClr val="ffffcc"/>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ff"/>
                </a:solidFill>
                <a:latin typeface="Verdana"/>
              </a:rPr>
              <a:t>Michiel Vreedenburgh</a:t>
            </a:r>
            <a:endParaRPr b="0" lang="en-US" sz="1800" spc="-1" strike="noStrike">
              <a:solidFill>
                <a:srgbClr val="ffffcc"/>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ff"/>
                </a:solidFill>
                <a:latin typeface="Verdana"/>
              </a:rPr>
              <a:t>Regional Officer, Aerodromes</a:t>
            </a:r>
            <a:endParaRPr b="0" lang="en-US" sz="1800" spc="-1" strike="noStrike">
              <a:solidFill>
                <a:srgbClr val="ffffcc"/>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ff"/>
                </a:solidFill>
                <a:latin typeface="Verdana"/>
              </a:rPr>
              <a:t>International Civil Aviation Organization</a:t>
            </a:r>
            <a:endParaRPr b="0" lang="en-US" sz="1800" spc="-1" strike="noStrike">
              <a:solidFill>
                <a:srgbClr val="ffffcc"/>
              </a:solidFill>
              <a:latin typeface="Verdan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ff"/>
                </a:solidFill>
                <a:latin typeface="Verdana"/>
              </a:rPr>
              <a:t>North American, Central American and Caribbean Office</a:t>
            </a:r>
            <a:endParaRPr b="0" lang="en-US" sz="1800" spc="-1" strike="noStrike">
              <a:solidFill>
                <a:srgbClr val="ffffcc"/>
              </a:solidFill>
              <a:latin typeface="Verdana"/>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Relevant GREPECAS AGA/AOP/SG Conclusions</a:t>
            </a:r>
            <a:endParaRPr b="1" lang="en-US" sz="3300" spc="-1" strike="noStrike">
              <a:solidFill>
                <a:srgbClr val="ccffff"/>
              </a:solidFill>
              <a:latin typeface="Verdana"/>
            </a:endParaRPr>
          </a:p>
        </p:txBody>
      </p:sp>
      <p:sp>
        <p:nvSpPr>
          <p:cNvPr id="871"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Verdana"/>
              </a:rPr>
              <a:t>DRAFT </a:t>
            </a:r>
            <a:endParaRPr b="0" lang="en-US" sz="2000" spc="-1" strike="noStrike">
              <a:solidFill>
                <a:srgbClr val="ffff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Verdana"/>
              </a:rPr>
              <a:t>CONCLUSION 2/16</a:t>
            </a:r>
            <a:r>
              <a:rPr b="1" lang="en-GB" sz="2000" spc="-1" strike="noStrike">
                <a:solidFill>
                  <a:srgbClr val="ffffcc"/>
                </a:solidFill>
                <a:latin typeface="Verdana"/>
              </a:rPr>
              <a:t>	</a:t>
            </a:r>
            <a:r>
              <a:rPr b="1" lang="en-GB" sz="2000" spc="-1" strike="noStrike">
                <a:solidFill>
                  <a:srgbClr val="ffffcc"/>
                </a:solidFill>
                <a:latin typeface="Verdana"/>
              </a:rPr>
              <a:t>	</a:t>
            </a:r>
            <a:r>
              <a:rPr b="1" lang="en-GB" sz="2000" spc="-1" strike="noStrike">
                <a:solidFill>
                  <a:srgbClr val="ffffcc"/>
                </a:solidFill>
                <a:latin typeface="Verdana"/>
              </a:rPr>
              <a:t>AIRFIELD MAINTENANCE </a:t>
            </a:r>
            <a:r>
              <a:rPr b="1" lang="en-GB" sz="2000" spc="-1" strike="noStrike">
                <a:solidFill>
                  <a:srgbClr val="ffffcc"/>
                </a:solidFill>
                <a:latin typeface="Verdana"/>
              </a:rPr>
              <a:t>	</a:t>
            </a:r>
            <a:r>
              <a:rPr b="1" lang="en-GB" sz="2000" spc="-1" strike="noStrike">
                <a:solidFill>
                  <a:srgbClr val="ffffcc"/>
                </a:solidFill>
                <a:latin typeface="Verdana"/>
              </a:rPr>
              <a:t>	</a:t>
            </a:r>
            <a:r>
              <a:rPr b="1" lang="en-GB" sz="2000" spc="-1" strike="noStrike">
                <a:solidFill>
                  <a:srgbClr val="ffffcc"/>
                </a:solidFill>
                <a:latin typeface="Verdana"/>
              </a:rPr>
              <a:t>	</a:t>
            </a:r>
            <a:r>
              <a:rPr b="1" lang="en-GB" sz="2000" spc="-1" strike="noStrike">
                <a:solidFill>
                  <a:srgbClr val="ffffcc"/>
                </a:solidFill>
                <a:latin typeface="Verdana"/>
              </a:rPr>
              <a:t>	</a:t>
            </a:r>
            <a:r>
              <a:rPr b="1" lang="en-GB" sz="2000" spc="-1" strike="noStrike">
                <a:solidFill>
                  <a:srgbClr val="ffffcc"/>
                </a:solidFill>
                <a:latin typeface="Verdana"/>
              </a:rPr>
              <a:t>	</a:t>
            </a:r>
            <a:r>
              <a:rPr b="1" lang="en-GB" sz="2000" spc="-1" strike="noStrike">
                <a:solidFill>
                  <a:srgbClr val="ffffcc"/>
                </a:solidFill>
                <a:latin typeface="Verdana"/>
              </a:rPr>
              <a:t>PROGRAMMES</a:t>
            </a:r>
            <a:endParaRPr b="0" lang="en-US" sz="2000" spc="-1" strike="noStrike">
              <a:solidFill>
                <a:srgbClr val="ffff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Verdana"/>
              </a:rPr>
              <a:t>That:</a:t>
            </a:r>
            <a:endParaRPr b="0" lang="en-US" sz="2000" spc="-1" strike="noStrike">
              <a:solidFill>
                <a:srgbClr val="ffff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Verdana"/>
              </a:rPr>
              <a:t>a)</a:t>
            </a:r>
            <a:r>
              <a:rPr b="0" lang="en-GB" sz="2000" spc="-1" strike="noStrike">
                <a:solidFill>
                  <a:srgbClr val="ffffcc"/>
                </a:solidFill>
                <a:latin typeface="Verdana"/>
              </a:rPr>
              <a:t>	</a:t>
            </a:r>
            <a:r>
              <a:rPr b="0" lang="en-GB" sz="2000" spc="-1" strike="noStrike">
                <a:solidFill>
                  <a:srgbClr val="ffffcc"/>
                </a:solidFill>
                <a:latin typeface="Verdana"/>
              </a:rPr>
              <a:t>States ensure that aerodrome operators implement and maintain adequate airfield maintenance programmes to eliminate and prevent the future existence of urgent deficiencies in existing runway markings, lighting, signs and pavement surface conditions, and perimeter barriers which have a direct impact on the safety of aircraft runway operations; and</a:t>
            </a:r>
            <a:endParaRPr b="0" lang="en-US" sz="2000" spc="-1" strike="noStrike">
              <a:solidFill>
                <a:srgbClr val="ffff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Verdana"/>
              </a:rPr>
              <a:t>b)</a:t>
            </a:r>
            <a:r>
              <a:rPr b="0" lang="en-GB" sz="2000" spc="-1" strike="noStrike">
                <a:solidFill>
                  <a:srgbClr val="ffffcc"/>
                </a:solidFill>
                <a:latin typeface="Verdana"/>
              </a:rPr>
              <a:t>	</a:t>
            </a:r>
            <a:r>
              <a:rPr b="0" lang="en-GB" sz="2000" spc="-1" strike="noStrike">
                <a:solidFill>
                  <a:srgbClr val="ffffcc"/>
                </a:solidFill>
                <a:latin typeface="Verdana"/>
              </a:rPr>
              <a:t>the AGA/AOP/SG review implementation of this conclusion at its third Meeting in September 2003 by reviewing the list of shortcomings and deficiencies.</a:t>
            </a:r>
            <a:r>
              <a:rPr b="0" lang="es-MX" sz="2000" spc="-1" strike="noStrike">
                <a:solidFill>
                  <a:srgbClr val="ffffcc"/>
                </a:solidFill>
                <a:latin typeface="Verdana"/>
              </a:rPr>
              <a:t> </a:t>
            </a:r>
            <a:endParaRPr b="0" lang="en-US" sz="2000" spc="-1" strike="noStrike">
              <a:solidFill>
                <a:srgbClr val="ffffcc"/>
              </a:solidFill>
              <a:latin typeface="Verdana"/>
            </a:endParaRPr>
          </a:p>
        </p:txBody>
      </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Relevant GREPECAS AGA/AOP/SG Conclusions</a:t>
            </a:r>
            <a:endParaRPr b="1" lang="en-US" sz="3300" spc="-1" strike="noStrike">
              <a:solidFill>
                <a:srgbClr val="ccffff"/>
              </a:solidFill>
              <a:latin typeface="Verdana"/>
            </a:endParaRPr>
          </a:p>
        </p:txBody>
      </p:sp>
      <p:sp>
        <p:nvSpPr>
          <p:cNvPr id="873"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Verdana"/>
              </a:rPr>
              <a:t>DRAFT</a:t>
            </a: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Verdana"/>
              </a:rPr>
              <a:t>CONCLUSION 2/18</a:t>
            </a:r>
            <a:r>
              <a:rPr b="1" lang="en-GB" sz="2200" spc="-1" strike="noStrike">
                <a:solidFill>
                  <a:srgbClr val="ffffcc"/>
                </a:solidFill>
                <a:latin typeface="Verdana"/>
              </a:rPr>
              <a:t>	</a:t>
            </a:r>
            <a:r>
              <a:rPr b="1" lang="en-GB" sz="2200" spc="-1" strike="noStrike">
                <a:solidFill>
                  <a:srgbClr val="ffffcc"/>
                </a:solidFill>
                <a:latin typeface="Verdana"/>
              </a:rPr>
              <a:t>AERODROME CERTIFICATION </a:t>
            </a:r>
            <a:r>
              <a:rPr b="1" lang="en-GB" sz="2200" spc="-1" strike="noStrike">
                <a:solidFill>
                  <a:srgbClr val="ffffcc"/>
                </a:solidFill>
                <a:latin typeface="Verdana"/>
              </a:rPr>
              <a:t>	</a:t>
            </a:r>
            <a:r>
              <a:rPr b="1" lang="en-GB" sz="2200" spc="-1" strike="noStrike">
                <a:solidFill>
                  <a:srgbClr val="ffffcc"/>
                </a:solidFill>
                <a:latin typeface="Verdana"/>
              </a:rPr>
              <a:t>	</a:t>
            </a:r>
            <a:r>
              <a:rPr b="1" lang="en-GB" sz="2200" spc="-1" strike="noStrike">
                <a:solidFill>
                  <a:srgbClr val="ffffcc"/>
                </a:solidFill>
                <a:latin typeface="Verdana"/>
              </a:rPr>
              <a:t>	</a:t>
            </a:r>
            <a:r>
              <a:rPr b="1" lang="en-GB" sz="2200" spc="-1" strike="noStrike">
                <a:solidFill>
                  <a:srgbClr val="ffffcc"/>
                </a:solidFill>
                <a:latin typeface="Verdana"/>
              </a:rPr>
              <a:t>	</a:t>
            </a:r>
            <a:r>
              <a:rPr b="1" lang="en-GB" sz="2200" spc="-1" strike="noStrike">
                <a:solidFill>
                  <a:srgbClr val="ffffcc"/>
                </a:solidFill>
                <a:latin typeface="Verdana"/>
              </a:rPr>
              <a:t>IMPLEMENTATION</a:t>
            </a: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Verdana"/>
              </a:rPr>
              <a:t>That States,</a:t>
            </a: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Verdana"/>
              </a:rPr>
              <a:t>a)</a:t>
            </a:r>
            <a:r>
              <a:rPr b="0" lang="en-GB" sz="2200" spc="-1" strike="noStrike">
                <a:solidFill>
                  <a:srgbClr val="ffffcc"/>
                </a:solidFill>
                <a:latin typeface="Verdana"/>
              </a:rPr>
              <a:t>	</a:t>
            </a:r>
            <a:r>
              <a:rPr b="0" lang="en-GB" sz="2200" spc="-1" strike="noStrike">
                <a:solidFill>
                  <a:srgbClr val="ffffcc"/>
                </a:solidFill>
                <a:latin typeface="Verdana"/>
              </a:rPr>
              <a:t>should urgently implement the aerodrome certification process in order to be compliant with the new standard by 27 November 2003; and</a:t>
            </a: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cc"/>
                </a:solidFill>
                <a:latin typeface="Verdana"/>
              </a:rPr>
              <a:t>b)</a:t>
            </a:r>
            <a:r>
              <a:rPr b="0" lang="en-GB" sz="2200" spc="-1" strike="noStrike">
                <a:solidFill>
                  <a:srgbClr val="ffffcc"/>
                </a:solidFill>
                <a:latin typeface="Verdana"/>
              </a:rPr>
              <a:t>	</a:t>
            </a:r>
            <a:r>
              <a:rPr b="0" lang="en-GB" sz="2200" spc="-1" strike="noStrike">
                <a:solidFill>
                  <a:srgbClr val="ffffcc"/>
                </a:solidFill>
                <a:latin typeface="Verdana"/>
              </a:rPr>
              <a:t>provide an implementation status report to the AGA/AOP/SG/3 Meeting in September 2003.</a:t>
            </a:r>
            <a:endParaRPr b="0" lang="en-US" sz="2200" spc="-1" strike="noStrike">
              <a:solidFill>
                <a:srgbClr val="ffffcc"/>
              </a:solidFill>
              <a:latin typeface="Verdana"/>
            </a:endParaRPr>
          </a:p>
        </p:txBody>
      </p:sp>
    </p:spTree>
  </p:cSld>
  <p:transition>
    <p:cover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Runway Incursion Data Collected and Reviewed</a:t>
            </a:r>
            <a:endParaRPr b="1" lang="en-US" sz="3300" spc="-1" strike="noStrike">
              <a:solidFill>
                <a:srgbClr val="ccffff"/>
              </a:solidFill>
              <a:latin typeface="Verdana"/>
            </a:endParaRPr>
          </a:p>
        </p:txBody>
      </p:sp>
      <p:sp>
        <p:nvSpPr>
          <p:cNvPr id="875"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Data requested twice – 2001 and 2002</a:t>
            </a:r>
            <a:endParaRPr b="0" lang="en-US" sz="3100" spc="-1" strike="noStrike">
              <a:solidFill>
                <a:srgbClr val="ffffcc"/>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Received from 12 of 36 CAR/SAM States (33%)</a:t>
            </a:r>
            <a:endParaRPr b="0" lang="en-US" sz="3100" spc="-1" strike="noStrike">
              <a:solidFill>
                <a:srgbClr val="ffffcc"/>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227 Incident reports</a:t>
            </a:r>
            <a:endParaRPr b="0" lang="en-US" sz="3100" spc="-1" strike="noStrike">
              <a:solidFill>
                <a:srgbClr val="ffffcc"/>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Period 1996 – mid-2002</a:t>
            </a:r>
            <a:endParaRPr b="0" lang="en-US" sz="3100" spc="-1" strike="noStrike">
              <a:solidFill>
                <a:srgbClr val="ffffcc"/>
              </a:solidFill>
              <a:latin typeface="Verdana"/>
            </a:endParaRPr>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Summary of Types of Runway Incursions in CAR/SAM Regions</a:t>
            </a:r>
            <a:endParaRPr b="1" lang="en-US" sz="2900" spc="-1" strike="noStrike">
              <a:solidFill>
                <a:srgbClr val="ccffff"/>
              </a:solidFill>
              <a:latin typeface="Verdana"/>
            </a:endParaRPr>
          </a:p>
        </p:txBody>
      </p:sp>
      <p:sp>
        <p:nvSpPr>
          <p:cNvPr id="877"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Wildlife – animals and birds (65%)</a:t>
            </a: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Public – pedestrians, bicycles, horses, vehicles (16%)</a:t>
            </a: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Aerodrome vehicles and personnel (13%)</a:t>
            </a: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Aircraft (6%)</a:t>
            </a:r>
            <a:endParaRPr b="0" lang="en-US" sz="3100" spc="-1" strike="noStrike">
              <a:solidFill>
                <a:srgbClr val="ffffcc"/>
              </a:solidFill>
              <a:latin typeface="Verdana"/>
            </a:endParaRPr>
          </a:p>
        </p:txBody>
      </p:sp>
    </p:spTree>
  </p:cSld>
  <p:transition>
    <p:cover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878" name="" descr=""/>
          <p:cNvPicPr/>
          <p:nvPr/>
        </p:nvPicPr>
        <p:blipFill>
          <a:blip r:embed="rId1"/>
          <a:stretch/>
        </p:blipFill>
        <p:spPr>
          <a:xfrm>
            <a:off x="0" y="192240"/>
            <a:ext cx="9144000" cy="647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879" name="" descr=""/>
          <p:cNvPicPr/>
          <p:nvPr/>
        </p:nvPicPr>
        <p:blipFill>
          <a:blip r:embed="rId1"/>
          <a:stretch/>
        </p:blipFill>
        <p:spPr>
          <a:xfrm>
            <a:off x="-228600" y="-17640"/>
            <a:ext cx="9677520" cy="6875640"/>
          </a:xfrm>
          <a:prstGeom prst="rect">
            <a:avLst/>
          </a:prstGeom>
          <a:ln w="0">
            <a:noFill/>
          </a:ln>
        </p:spPr>
      </p:pic>
      <p:sp>
        <p:nvSpPr>
          <p:cNvPr id="880" name=""/>
          <p:cNvSpPr/>
          <p:nvPr/>
        </p:nvSpPr>
        <p:spPr>
          <a:xfrm>
            <a:off x="971640" y="1442880"/>
            <a:ext cx="1220760" cy="40176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way</a:t>
            </a:r>
            <a:endParaRPr b="0" lang="en-US" sz="1800" spc="-1" strike="noStrike">
              <a:solidFill>
                <a:srgbClr val="ffffff"/>
              </a:solidFill>
              <a:latin typeface="Arial"/>
            </a:endParaRPr>
          </a:p>
        </p:txBody>
      </p:sp>
      <p:sp>
        <p:nvSpPr>
          <p:cNvPr id="881" name=""/>
          <p:cNvSpPr/>
          <p:nvPr/>
        </p:nvSpPr>
        <p:spPr>
          <a:xfrm>
            <a:off x="3780000" y="1370160"/>
            <a:ext cx="1939680" cy="97920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ircraft Parked within the Runway Strip</a:t>
            </a:r>
            <a:endParaRPr b="0" lang="en-US" sz="1800" spc="-1" strike="noStrike">
              <a:solidFill>
                <a:srgbClr val="ffffff"/>
              </a:solidFill>
              <a:latin typeface="Arial"/>
            </a:endParaRPr>
          </a:p>
        </p:txBody>
      </p:sp>
      <p:sp>
        <p:nvSpPr>
          <p:cNvPr id="882" name=""/>
          <p:cNvSpPr/>
          <p:nvPr/>
        </p:nvSpPr>
        <p:spPr>
          <a:xfrm>
            <a:off x="3851280" y="3573360"/>
            <a:ext cx="576360" cy="576360"/>
          </a:xfrm>
          <a:prstGeom prst="ellipse">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935600" y="2954160"/>
            <a:ext cx="914400" cy="33048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g</a:t>
            </a:r>
            <a:endParaRPr b="0" lang="en-US" sz="1800" spc="-1" strike="noStrike">
              <a:solidFill>
                <a:srgbClr val="ffffff"/>
              </a:solidFill>
              <a:latin typeface="Arial"/>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7000"/>
                                  </p:stCondLst>
                                  <p:childTnLst>
                                    <p:set>
                                      <p:cBhvr>
                                        <p:cTn id="6" dur="1" fill="hold">
                                          <p:stCondLst>
                                            <p:cond delay="0"/>
                                          </p:stCondLst>
                                        </p:cTn>
                                        <p:tgtEl>
                                          <p:spTgt spid="880"/>
                                        </p:tgtEl>
                                        <p:attrNameLst>
                                          <p:attrName>style.visibility</p:attrName>
                                        </p:attrNameLst>
                                      </p:cBhvr>
                                      <p:to>
                                        <p:strVal val="visible"/>
                                      </p:to>
                                    </p:set>
                                    <p:animEffect filter="checkerboard(across)" transition="in">
                                      <p:cBhvr additive="repl">
                                        <p:cTn id="7" dur="500"/>
                                        <p:tgtEl>
                                          <p:spTgt spid="880"/>
                                        </p:tgtEl>
                                      </p:cBhvr>
                                    </p:animEffect>
                                  </p:childTnLst>
                                </p:cTn>
                              </p:par>
                            </p:childTnLst>
                          </p:cTn>
                        </p:par>
                        <p:par>
                          <p:cTn id="8" fill="hold">
                            <p:stCondLst>
                              <p:cond delay="7500"/>
                            </p:stCondLst>
                            <p:childTnLst>
                              <p:par>
                                <p:cTn id="9" nodeType="afterEffect" fill="hold" presetClass="entr" presetID="5" presetSubtype="10">
                                  <p:stCondLst>
                                    <p:cond delay="5000"/>
                                  </p:stCondLst>
                                  <p:childTnLst>
                                    <p:set>
                                      <p:cBhvr>
                                        <p:cTn id="10" dur="1" fill="hold">
                                          <p:stCondLst>
                                            <p:cond delay="0"/>
                                          </p:stCondLst>
                                        </p:cTn>
                                        <p:tgtEl>
                                          <p:spTgt spid="881"/>
                                        </p:tgtEl>
                                        <p:attrNameLst>
                                          <p:attrName>style.visibility</p:attrName>
                                        </p:attrNameLst>
                                      </p:cBhvr>
                                      <p:to>
                                        <p:strVal val="visible"/>
                                      </p:to>
                                    </p:set>
                                    <p:animEffect filter="checkerboard(across)" transition="in">
                                      <p:cBhvr additive="repl">
                                        <p:cTn id="11" dur="500"/>
                                        <p:tgtEl>
                                          <p:spTgt spid="881"/>
                                        </p:tgtEl>
                                      </p:cBhvr>
                                    </p:animEffect>
                                  </p:childTnLst>
                                </p:cTn>
                              </p:par>
                            </p:childTnLst>
                          </p:cTn>
                        </p:par>
                        <p:par>
                          <p:cTn id="12" fill="hold">
                            <p:stCondLst>
                              <p:cond delay="13000"/>
                            </p:stCondLst>
                            <p:childTnLst>
                              <p:par>
                                <p:cTn id="13" nodeType="afterEffect" fill="hold" presetClass="entr" presetID="1">
                                  <p:stCondLst>
                                    <p:cond delay="3000"/>
                                  </p:stCondLst>
                                  <p:childTnLst>
                                    <p:set>
                                      <p:cBhvr>
                                        <p:cTn id="14" dur="1" fill="hold">
                                          <p:stCondLst>
                                            <p:cond delay="499"/>
                                          </p:stCondLst>
                                        </p:cTn>
                                        <p:tgtEl>
                                          <p:spTgt spid="882"/>
                                        </p:tgtEl>
                                        <p:attrNameLst>
                                          <p:attrName>style.visibility</p:attrName>
                                        </p:attrNameLst>
                                      </p:cBhvr>
                                      <p:to>
                                        <p:strVal val="visible"/>
                                      </p:to>
                                    </p:set>
                                  </p:childTnLst>
                                </p:cTn>
                              </p:par>
                            </p:childTnLst>
                          </p:cTn>
                        </p:par>
                        <p:par>
                          <p:cTn id="15" fill="hold">
                            <p:stCondLst>
                              <p:cond delay="16500"/>
                            </p:stCondLst>
                            <p:childTnLst>
                              <p:par>
                                <p:cTn id="16" nodeType="afterEffect" fill="hold" presetClass="entr" presetID="5" presetSubtype="10">
                                  <p:stCondLst>
                                    <p:cond delay="0"/>
                                  </p:stCondLst>
                                  <p:childTnLst>
                                    <p:set>
                                      <p:cBhvr>
                                        <p:cTn id="17" dur="1" fill="hold">
                                          <p:stCondLst>
                                            <p:cond delay="0"/>
                                          </p:stCondLst>
                                        </p:cTn>
                                        <p:tgtEl>
                                          <p:spTgt spid="883"/>
                                        </p:tgtEl>
                                        <p:attrNameLst>
                                          <p:attrName>style.visibility</p:attrName>
                                        </p:attrNameLst>
                                      </p:cBhvr>
                                      <p:to>
                                        <p:strVal val="visible"/>
                                      </p:to>
                                    </p:set>
                                    <p:animEffect filter="checkerboard(across)" transition="in">
                                      <p:cBhvr additive="repl">
                                        <p:cTn id="18"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884" name="" descr=""/>
          <p:cNvPicPr/>
          <p:nvPr/>
        </p:nvPicPr>
        <p:blipFill>
          <a:blip r:embed="rId1"/>
          <a:stretch/>
        </p:blipFill>
        <p:spPr>
          <a:xfrm>
            <a:off x="0" y="260280"/>
            <a:ext cx="9144000" cy="633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885" name="" descr=""/>
          <p:cNvPicPr/>
          <p:nvPr/>
        </p:nvPicPr>
        <p:blipFill>
          <a:blip r:embed="rId1"/>
          <a:stretch/>
        </p:blipFill>
        <p:spPr>
          <a:xfrm>
            <a:off x="0" y="7920"/>
            <a:ext cx="9753480" cy="6850080"/>
          </a:xfrm>
          <a:prstGeom prst="rect">
            <a:avLst/>
          </a:prstGeom>
          <a:ln w="0">
            <a:noFill/>
          </a:ln>
        </p:spPr>
      </p:pic>
      <p:sp>
        <p:nvSpPr>
          <p:cNvPr id="886" name=""/>
          <p:cNvSpPr/>
          <p:nvPr/>
        </p:nvSpPr>
        <p:spPr>
          <a:xfrm>
            <a:off x="5435640" y="3357720"/>
            <a:ext cx="718920" cy="720720"/>
          </a:xfrm>
          <a:prstGeom prst="ellipse">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6948360" y="1773360"/>
            <a:ext cx="1944720" cy="100800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ldren watching the aeroplanes land</a:t>
            </a:r>
            <a:endParaRPr b="0" lang="en-US" sz="1800" spc="-1" strike="noStrike">
              <a:solidFill>
                <a:srgbClr val="ffffff"/>
              </a:solidFill>
              <a:latin typeface="Arial"/>
            </a:endParaRPr>
          </a:p>
        </p:txBody>
      </p:sp>
      <p:sp>
        <p:nvSpPr>
          <p:cNvPr id="888" name=""/>
          <p:cNvSpPr/>
          <p:nvPr/>
        </p:nvSpPr>
        <p:spPr>
          <a:xfrm>
            <a:off x="6516720" y="4653000"/>
            <a:ext cx="2305080" cy="60948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 Graded Area or Strip Protection</a:t>
            </a:r>
            <a:endParaRPr b="0" lang="en-US" sz="1800" spc="-1" strike="noStrike">
              <a:solidFill>
                <a:srgbClr val="ffffff"/>
              </a:solidFill>
              <a:latin typeface="Arial"/>
            </a:endParaRPr>
          </a:p>
        </p:txBody>
      </p:sp>
    </p:spTree>
  </p:cSld>
  <p:transition>
    <p:zoom dir="in"/>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 presetSubtype="10">
                                  <p:stCondLst>
                                    <p:cond delay="15000"/>
                                  </p:stCondLst>
                                  <p:childTnLst>
                                    <p:set>
                                      <p:cBhvr>
                                        <p:cTn id="24" dur="1" fill="hold">
                                          <p:stCondLst>
                                            <p:cond delay="0"/>
                                          </p:stCondLst>
                                        </p:cTn>
                                        <p:tgtEl>
                                          <p:spTgt spid="888"/>
                                        </p:tgtEl>
                                        <p:attrNameLst>
                                          <p:attrName>style.visibility</p:attrName>
                                        </p:attrNameLst>
                                      </p:cBhvr>
                                      <p:to>
                                        <p:strVal val="visible"/>
                                      </p:to>
                                    </p:set>
                                    <p:animEffect filter="checkerboard(across)" transition="in">
                                      <p:cBhvr additive="repl">
                                        <p:cTn id="25" dur="500"/>
                                        <p:tgtEl>
                                          <p:spTgt spid="888"/>
                                        </p:tgtEl>
                                      </p:cBhvr>
                                    </p:animEffect>
                                  </p:childTnLst>
                                </p:cTn>
                              </p:par>
                            </p:childTnLst>
                          </p:cTn>
                        </p:par>
                        <p:par>
                          <p:cTn id="26" fill="hold">
                            <p:stCondLst>
                              <p:cond delay="15500"/>
                            </p:stCondLst>
                            <p:childTnLst>
                              <p:par>
                                <p:cTn id="27" nodeType="afterEffect" fill="hold" presetClass="entr" presetID="1">
                                  <p:stCondLst>
                                    <p:cond delay="5000"/>
                                  </p:stCondLst>
                                  <p:childTnLst>
                                    <p:set>
                                      <p:cBhvr>
                                        <p:cTn id="28" dur="1" fill="hold">
                                          <p:stCondLst>
                                            <p:cond delay="499"/>
                                          </p:stCondLst>
                                        </p:cTn>
                                        <p:tgtEl>
                                          <p:spTgt spid="886"/>
                                        </p:tgtEl>
                                        <p:attrNameLst>
                                          <p:attrName>style.visibility</p:attrName>
                                        </p:attrNameLst>
                                      </p:cBhvr>
                                      <p:to>
                                        <p:strVal val="visible"/>
                                      </p:to>
                                    </p:set>
                                  </p:childTnLst>
                                </p:cTn>
                              </p:par>
                            </p:childTnLst>
                          </p:cTn>
                        </p:par>
                        <p:par>
                          <p:cTn id="29" fill="hold">
                            <p:stCondLst>
                              <p:cond delay="21000"/>
                            </p:stCondLst>
                            <p:childTnLst>
                              <p:par>
                                <p:cTn id="30" nodeType="afterEffect" fill="hold" presetClass="entr" presetID="5" presetSubtype="10">
                                  <p:stCondLst>
                                    <p:cond delay="0"/>
                                  </p:stCondLst>
                                  <p:childTnLst>
                                    <p:set>
                                      <p:cBhvr>
                                        <p:cTn id="31" dur="1" fill="hold">
                                          <p:stCondLst>
                                            <p:cond delay="0"/>
                                          </p:stCondLst>
                                        </p:cTn>
                                        <p:tgtEl>
                                          <p:spTgt spid="887"/>
                                        </p:tgtEl>
                                        <p:attrNameLst>
                                          <p:attrName>style.visibility</p:attrName>
                                        </p:attrNameLst>
                                      </p:cBhvr>
                                      <p:to>
                                        <p:strVal val="visible"/>
                                      </p:to>
                                    </p:set>
                                    <p:animEffect filter="checkerboard(across)" transition="in">
                                      <p:cBhvr additive="repl">
                                        <p:cTn id="32"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889" name="" descr=""/>
          <p:cNvPicPr/>
          <p:nvPr/>
        </p:nvPicPr>
        <p:blipFill>
          <a:blip r:embed="rId1"/>
          <a:stretch/>
        </p:blipFill>
        <p:spPr>
          <a:xfrm>
            <a:off x="0" y="241200"/>
            <a:ext cx="9144000" cy="637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324000" y="0"/>
            <a:ext cx="9753840" cy="6881760"/>
          </a:xfrm>
          <a:prstGeom prst="rect">
            <a:avLst/>
          </a:prstGeom>
          <a:ln w="0">
            <a:noFill/>
          </a:ln>
        </p:spPr>
      </p:pic>
      <p:sp>
        <p:nvSpPr>
          <p:cNvPr id="891" name=""/>
          <p:cNvSpPr/>
          <p:nvPr/>
        </p:nvSpPr>
        <p:spPr>
          <a:xfrm>
            <a:off x="3780000" y="2924280"/>
            <a:ext cx="718920" cy="720720"/>
          </a:xfrm>
          <a:prstGeom prst="ellipse">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2" name=""/>
          <p:cNvSpPr/>
          <p:nvPr/>
        </p:nvSpPr>
        <p:spPr>
          <a:xfrm>
            <a:off x="5508720" y="2924280"/>
            <a:ext cx="718920" cy="720720"/>
          </a:xfrm>
          <a:prstGeom prst="ellipse">
            <a:avLst/>
          </a:prstGeom>
          <a:noFill/>
          <a:ln w="7632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3" name=""/>
          <p:cNvSpPr/>
          <p:nvPr/>
        </p:nvSpPr>
        <p:spPr>
          <a:xfrm flipV="1">
            <a:off x="-324000" y="3284280"/>
            <a:ext cx="5759640" cy="64908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flipV="1">
            <a:off x="5435640" y="3068640"/>
            <a:ext cx="504720" cy="216000"/>
          </a:xfrm>
          <a:prstGeom prst="line">
            <a:avLst/>
          </a:prstGeom>
          <a:ln cap="rnd" w="7632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1476360" y="1082520"/>
            <a:ext cx="1290600" cy="60984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ublic Vehicles</a:t>
            </a:r>
            <a:endParaRPr b="0" lang="en-US" sz="1800" spc="-1" strike="noStrike">
              <a:solidFill>
                <a:srgbClr val="ffffff"/>
              </a:solidFill>
              <a:latin typeface="Arial"/>
            </a:endParaRPr>
          </a:p>
        </p:txBody>
      </p:sp>
      <p:sp>
        <p:nvSpPr>
          <p:cNvPr id="896" name=""/>
          <p:cNvSpPr/>
          <p:nvPr/>
        </p:nvSpPr>
        <p:spPr>
          <a:xfrm>
            <a:off x="3419640" y="1197000"/>
            <a:ext cx="2160360" cy="1800360"/>
          </a:xfrm>
          <a:prstGeom prst="line">
            <a:avLst/>
          </a:prstGeom>
          <a:ln w="76320">
            <a:solidFill>
              <a:srgbClr val="009999"/>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7" name=""/>
          <p:cNvSpPr/>
          <p:nvPr/>
        </p:nvSpPr>
        <p:spPr>
          <a:xfrm>
            <a:off x="3568680" y="4467240"/>
            <a:ext cx="1650960" cy="609480"/>
          </a:xfrm>
          <a:solidFill>
            <a:srgbClr val="1b1b53"/>
          </a:solidFill>
          <a:ln w="76320">
            <a:solidFill>
              <a:srgbClr val="009999"/>
            </a:solidFill>
            <a:miter/>
            <a:headEnd len="lg"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way Centreline</a:t>
            </a:r>
            <a:endParaRPr b="0" lang="en-US" sz="1800" spc="-1" strike="noStrike">
              <a:solidFill>
                <a:srgbClr val="ffffff"/>
              </a:solidFill>
              <a:latin typeface="Arial"/>
            </a:endParaRPr>
          </a:p>
        </p:txBody>
      </p:sp>
    </p:spTree>
  </p:cSld>
  <p:transition>
    <p:zoom dir="out"/>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4">
                                  <p:stCondLst>
                                    <p:cond delay="5000"/>
                                  </p:stCondLst>
                                  <p:childTnLst>
                                    <p:set>
                                      <p:cBhvr>
                                        <p:cTn id="38" dur="1" fill="hold">
                                          <p:stCondLst>
                                            <p:cond delay="0"/>
                                          </p:stCondLst>
                                        </p:cTn>
                                        <p:tgtEl>
                                          <p:spTgt spid="893"/>
                                        </p:tgtEl>
                                        <p:attrNameLst>
                                          <p:attrName>style.visibility</p:attrName>
                                        </p:attrNameLst>
                                      </p:cBhvr>
                                      <p:to>
                                        <p:strVal val="visible"/>
                                      </p:to>
                                    </p:set>
                                    <p:animEffect filter="wipe(down)" transition="in">
                                      <p:cBhvr additive="repl">
                                        <p:cTn id="39" dur="500"/>
                                        <p:tgtEl>
                                          <p:spTgt spid="893"/>
                                        </p:tgtEl>
                                      </p:cBhvr>
                                    </p:animEffect>
                                  </p:childTnLst>
                                </p:cTn>
                              </p:par>
                            </p:childTnLst>
                          </p:cTn>
                        </p:par>
                        <p:par>
                          <p:cTn id="40" fill="hold">
                            <p:stCondLst>
                              <p:cond delay="5500"/>
                            </p:stCondLst>
                            <p:childTnLst>
                              <p:par>
                                <p:cTn id="41" nodeType="afterEffect" fill="hold" presetClass="entr" presetID="22" presetSubtype="4">
                                  <p:stCondLst>
                                    <p:cond delay="0"/>
                                  </p:stCondLst>
                                  <p:childTnLst>
                                    <p:set>
                                      <p:cBhvr>
                                        <p:cTn id="42" dur="1" fill="hold">
                                          <p:stCondLst>
                                            <p:cond delay="0"/>
                                          </p:stCondLst>
                                        </p:cTn>
                                        <p:tgtEl>
                                          <p:spTgt spid="894"/>
                                        </p:tgtEl>
                                        <p:attrNameLst>
                                          <p:attrName>style.visibility</p:attrName>
                                        </p:attrNameLst>
                                      </p:cBhvr>
                                      <p:to>
                                        <p:strVal val="visible"/>
                                      </p:to>
                                    </p:set>
                                    <p:animEffect filter="wipe(down)" transition="in">
                                      <p:cBhvr additive="repl">
                                        <p:cTn id="43" dur="500"/>
                                        <p:tgtEl>
                                          <p:spTgt spid="894"/>
                                        </p:tgtEl>
                                      </p:cBhvr>
                                    </p:animEffect>
                                  </p:childTnLst>
                                </p:cTn>
                              </p:par>
                            </p:childTnLst>
                          </p:cTn>
                        </p:par>
                        <p:par>
                          <p:cTn id="44" fill="hold">
                            <p:stCondLst>
                              <p:cond delay="6000"/>
                            </p:stCondLst>
                            <p:childTnLst>
                              <p:par>
                                <p:cTn id="45" nodeType="afterEffect" fill="hold" presetClass="entr" presetID="5" presetSubtype="10">
                                  <p:stCondLst>
                                    <p:cond delay="0"/>
                                  </p:stCondLst>
                                  <p:childTnLst>
                                    <p:set>
                                      <p:cBhvr>
                                        <p:cTn id="46" dur="1" fill="hold">
                                          <p:stCondLst>
                                            <p:cond delay="0"/>
                                          </p:stCondLst>
                                        </p:cTn>
                                        <p:tgtEl>
                                          <p:spTgt spid="897"/>
                                        </p:tgtEl>
                                        <p:attrNameLst>
                                          <p:attrName>style.visibility</p:attrName>
                                        </p:attrNameLst>
                                      </p:cBhvr>
                                      <p:to>
                                        <p:strVal val="visible"/>
                                      </p:to>
                                    </p:set>
                                    <p:animEffect filter="checkerboard(across)" transition="in">
                                      <p:cBhvr additive="repl">
                                        <p:cTn id="47" dur="500"/>
                                        <p:tgtEl>
                                          <p:spTgt spid="897"/>
                                        </p:tgtEl>
                                      </p:cBhvr>
                                    </p:animEffect>
                                  </p:childTnLst>
                                </p:cTn>
                              </p:par>
                            </p:childTnLst>
                          </p:cTn>
                        </p:par>
                        <p:par>
                          <p:cTn id="48" fill="hold">
                            <p:stCondLst>
                              <p:cond delay="6500"/>
                            </p:stCondLst>
                            <p:childTnLst>
                              <p:par>
                                <p:cTn id="49" nodeType="afterEffect" fill="hold" presetClass="entr" presetID="1">
                                  <p:stCondLst>
                                    <p:cond delay="2000"/>
                                  </p:stCondLst>
                                  <p:childTnLst>
                                    <p:set>
                                      <p:cBhvr>
                                        <p:cTn id="50" dur="1" fill="hold">
                                          <p:stCondLst>
                                            <p:cond delay="499"/>
                                          </p:stCondLst>
                                        </p:cTn>
                                        <p:tgtEl>
                                          <p:spTgt spid="891"/>
                                        </p:tgtEl>
                                        <p:attrNameLst>
                                          <p:attrName>style.visibility</p:attrName>
                                        </p:attrNameLst>
                                      </p:cBhvr>
                                      <p:to>
                                        <p:strVal val="visible"/>
                                      </p:to>
                                    </p:set>
                                  </p:childTnLst>
                                </p:cTn>
                              </p:par>
                            </p:childTnLst>
                          </p:cTn>
                        </p:par>
                        <p:par>
                          <p:cTn id="51" fill="hold">
                            <p:stCondLst>
                              <p:cond delay="9000"/>
                            </p:stCondLst>
                            <p:childTnLst>
                              <p:par>
                                <p:cTn id="52" nodeType="afterEffect" fill="hold" presetClass="entr" presetID="1">
                                  <p:stCondLst>
                                    <p:cond delay="2000"/>
                                  </p:stCondLst>
                                  <p:childTnLst>
                                    <p:set>
                                      <p:cBhvr>
                                        <p:cTn id="53" dur="1" fill="hold">
                                          <p:stCondLst>
                                            <p:cond delay="499"/>
                                          </p:stCondLst>
                                        </p:cTn>
                                        <p:tgtEl>
                                          <p:spTgt spid="892"/>
                                        </p:tgtEl>
                                        <p:attrNameLst>
                                          <p:attrName>style.visibility</p:attrName>
                                        </p:attrNameLst>
                                      </p:cBhvr>
                                      <p:to>
                                        <p:strVal val="visible"/>
                                      </p:to>
                                    </p:set>
                                  </p:childTnLst>
                                </p:cTn>
                              </p:par>
                            </p:childTnLst>
                          </p:cTn>
                        </p:par>
                        <p:par>
                          <p:cTn id="54" fill="hold">
                            <p:stCondLst>
                              <p:cond delay="11500"/>
                            </p:stCondLst>
                            <p:childTnLst>
                              <p:par>
                                <p:cTn id="55" nodeType="afterEffect" fill="hold" presetClass="entr" presetID="5" presetSubtype="10">
                                  <p:stCondLst>
                                    <p:cond delay="0"/>
                                  </p:stCondLst>
                                  <p:childTnLst>
                                    <p:set>
                                      <p:cBhvr>
                                        <p:cTn id="56" dur="1" fill="hold">
                                          <p:stCondLst>
                                            <p:cond delay="0"/>
                                          </p:stCondLst>
                                        </p:cTn>
                                        <p:tgtEl>
                                          <p:spTgt spid="896"/>
                                        </p:tgtEl>
                                        <p:attrNameLst>
                                          <p:attrName>style.visibility</p:attrName>
                                        </p:attrNameLst>
                                      </p:cBhvr>
                                      <p:to>
                                        <p:strVal val="visible"/>
                                      </p:to>
                                    </p:set>
                                    <p:animEffect filter="checkerboard(across)" transition="in">
                                      <p:cBhvr additive="repl">
                                        <p:cTn id="57" dur="500"/>
                                        <p:tgtEl>
                                          <p:spTgt spid="896"/>
                                        </p:tgtEl>
                                      </p:cBhvr>
                                    </p:animEffect>
                                  </p:childTnLst>
                                </p:cTn>
                              </p:par>
                            </p:childTnLst>
                          </p:cTn>
                        </p:par>
                        <p:par>
                          <p:cTn id="58" fill="hold">
                            <p:stCondLst>
                              <p:cond delay="12000"/>
                            </p:stCondLst>
                            <p:childTnLst>
                              <p:par>
                                <p:cTn id="59" nodeType="afterEffect" fill="hold" presetClass="entr" presetID="5" presetSubtype="10">
                                  <p:stCondLst>
                                    <p:cond delay="0"/>
                                  </p:stCondLst>
                                  <p:childTnLst>
                                    <p:set>
                                      <p:cBhvr>
                                        <p:cTn id="60" dur="1" fill="hold">
                                          <p:stCondLst>
                                            <p:cond delay="0"/>
                                          </p:stCondLst>
                                        </p:cTn>
                                        <p:tgtEl>
                                          <p:spTgt spid="895"/>
                                        </p:tgtEl>
                                        <p:attrNameLst>
                                          <p:attrName>style.visibility</p:attrName>
                                        </p:attrNameLst>
                                      </p:cBhvr>
                                      <p:to>
                                        <p:strVal val="visible"/>
                                      </p:to>
                                    </p:set>
                                    <p:animEffect filter="checkerboard(across)" transition="in">
                                      <p:cBhvr additive="repl">
                                        <p:cTn id="61" dur="500"/>
                                        <p:tgtEl>
                                          <p:spTgt spid="8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Outline</a:t>
            </a:r>
            <a:endParaRPr b="1" lang="en-US" sz="3300" spc="-1" strike="noStrike">
              <a:solidFill>
                <a:srgbClr val="ccffff"/>
              </a:solidFill>
              <a:latin typeface="Verdana"/>
            </a:endParaRPr>
          </a:p>
        </p:txBody>
      </p:sp>
      <p:sp>
        <p:nvSpPr>
          <p:cNvPr id="855"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Regional activities and developments on runway incursions</a:t>
            </a:r>
            <a:endParaRPr b="0" lang="en-US" sz="3100" spc="-1" strike="noStrike">
              <a:solidFill>
                <a:srgbClr val="ffffcc"/>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Regional runway incursion types, causes and contributory factors</a:t>
            </a:r>
            <a:endParaRPr b="0" lang="en-US" sz="3100" spc="-1" strike="noStrike">
              <a:solidFill>
                <a:srgbClr val="ffffcc"/>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Runway incursion prevention measures at aerodromes</a:t>
            </a:r>
            <a:endParaRPr b="0" lang="en-US" sz="3100" spc="-1" strike="noStrike">
              <a:solidFill>
                <a:srgbClr val="ffffcc"/>
              </a:solidFill>
              <a:latin typeface="Verdana"/>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Summary of Deficiencies which Cause Runway Incursions in CAR/SAM Regions</a:t>
            </a:r>
            <a:endParaRPr b="1" lang="en-US" sz="2900" spc="-1" strike="noStrike">
              <a:solidFill>
                <a:srgbClr val="ccffff"/>
              </a:solidFill>
              <a:latin typeface="Verdana"/>
            </a:endParaRPr>
          </a:p>
        </p:txBody>
      </p:sp>
      <p:sp>
        <p:nvSpPr>
          <p:cNvPr id="899"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Wildlife</a:t>
            </a:r>
            <a:endParaRPr b="0" lang="en-US" sz="3100" spc="-1" strike="noStrike">
              <a:solidFill>
                <a:srgbClr val="ffffcc"/>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Perimeter barriers</a:t>
            </a:r>
            <a:endParaRPr b="0" lang="en-US" sz="2600" spc="-1" strike="noStrike">
              <a:solidFill>
                <a:srgbClr val="ccccff"/>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Wildlife and bird control and management</a:t>
            </a:r>
            <a:endParaRPr b="0" lang="en-US" sz="2600" spc="-1" strike="noStrike">
              <a:solidFill>
                <a:srgbClr val="ccccff"/>
              </a:solidFill>
              <a:latin typeface="Verdana"/>
            </a:endParaRPr>
          </a:p>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Public</a:t>
            </a:r>
            <a:endParaRPr b="0" lang="en-US" sz="3100" spc="-1" strike="noStrike">
              <a:solidFill>
                <a:srgbClr val="ffffcc"/>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Perimeter barriers</a:t>
            </a:r>
            <a:endParaRPr b="0" lang="en-US" sz="2600" spc="-1" strike="noStrike">
              <a:solidFill>
                <a:srgbClr val="ccccff"/>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VSEC control</a:t>
            </a:r>
            <a:endParaRPr b="0" lang="en-US" sz="2600" spc="-1" strike="noStrike">
              <a:solidFill>
                <a:srgbClr val="ccccff"/>
              </a:solidFill>
              <a:latin typeface="Verdana"/>
            </a:endParaRPr>
          </a:p>
        </p:txBody>
      </p:sp>
    </p:spTree>
  </p:cSld>
  <p:transition>
    <p:cover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Summary of Deficiencies which Cause Runway Incursions in CAR/SAM Regions</a:t>
            </a:r>
            <a:endParaRPr b="1" lang="en-US" sz="2900" spc="-1" strike="noStrike">
              <a:solidFill>
                <a:srgbClr val="ccffff"/>
              </a:solidFill>
              <a:latin typeface="Verdana"/>
            </a:endParaRPr>
          </a:p>
        </p:txBody>
      </p:sp>
      <p:sp>
        <p:nvSpPr>
          <p:cNvPr id="901"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Aerodrome vehicles and personnel</a:t>
            </a:r>
            <a:endParaRPr b="0" lang="en-US" sz="3100" spc="-1" strike="noStrike">
              <a:solidFill>
                <a:srgbClr val="ffffcc"/>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Runway and Road holding positions</a:t>
            </a:r>
            <a:endParaRPr b="0" lang="en-US" sz="2600" spc="-1" strike="noStrike">
              <a:solidFill>
                <a:srgbClr val="ccccff"/>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erodrome data and charts – AIS</a:t>
            </a:r>
            <a:endParaRPr b="0" lang="en-US" sz="2600" spc="-1" strike="noStrike">
              <a:solidFill>
                <a:srgbClr val="ccccff"/>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irfield Visual Aids – markings, lights, signs</a:t>
            </a:r>
            <a:endParaRPr b="0" lang="en-US" sz="2600" spc="-1" strike="noStrike">
              <a:solidFill>
                <a:srgbClr val="ccccff"/>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erodrome Procedures &amp; Personnel Training</a:t>
            </a:r>
            <a:endParaRPr b="0" lang="en-US" sz="2600" spc="-1" strike="noStrike">
              <a:solidFill>
                <a:srgbClr val="ccccff"/>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Ground Control – Procedures, Training, Communications, Phraseology, Language Proficiency, SMGCS, SMR, tower visibility</a:t>
            </a:r>
            <a:endParaRPr b="0" lang="en-US" sz="2600" spc="-1" strike="noStrike">
              <a:solidFill>
                <a:srgbClr val="ccccff"/>
              </a:solidFill>
              <a:latin typeface="Verdana"/>
            </a:endParaRPr>
          </a:p>
        </p:txBody>
      </p:sp>
    </p:spTree>
  </p:cSld>
  <p:transition>
    <p:cover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Summary of Deficiencies which Cause Runway Incursions in CAR/SAM Regions</a:t>
            </a:r>
            <a:endParaRPr b="1" lang="en-US" sz="2900" spc="-1" strike="noStrike">
              <a:solidFill>
                <a:srgbClr val="ccffff"/>
              </a:solidFill>
              <a:latin typeface="Verdana"/>
            </a:endParaRPr>
          </a:p>
        </p:txBody>
      </p:sp>
      <p:sp>
        <p:nvSpPr>
          <p:cNvPr id="903"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Aircraft</a:t>
            </a:r>
            <a:endParaRPr b="0" lang="en-US" sz="3100" spc="-1" strike="noStrike">
              <a:solidFill>
                <a:srgbClr val="ffffcc"/>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Runway holding position on taxiway</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erodrome data and charts – AIS</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irfield Visual Aids – markings, lights, signs</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erodrome Procedures &amp; Personnel Training</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Ground Control – Procedures, Training, Communications, Phraseology, Language Proficiency, SMGCS, SMR, tower visibility</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Pilots – Procedures, Training, Communications, Phraseology, Language Proficiency</a:t>
            </a:r>
            <a:endParaRPr b="0" lang="en-US" sz="2600" spc="-1" strike="noStrike">
              <a:solidFill>
                <a:srgbClr val="ccccff"/>
              </a:solidFill>
              <a:latin typeface="Verdana"/>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0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05" name="" descr=""/>
          <p:cNvPicPr/>
          <p:nvPr/>
        </p:nvPicPr>
        <p:blipFill>
          <a:blip r:embed="rId1"/>
          <a:stretch/>
        </p:blipFill>
        <p:spPr>
          <a:xfrm>
            <a:off x="-1476360" y="0"/>
            <a:ext cx="12160080" cy="6927840"/>
          </a:xfrm>
          <a:prstGeom prst="rect">
            <a:avLst/>
          </a:prstGeom>
          <a:ln w="0">
            <a:noFill/>
          </a:ln>
        </p:spPr>
      </p:pic>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0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Contributory Factors if deficiencies exist but not direct causes of Runway Incursions</a:t>
            </a:r>
            <a:endParaRPr b="1" lang="en-US" sz="2900" spc="-1" strike="noStrike">
              <a:solidFill>
                <a:srgbClr val="ccffff"/>
              </a:solidFill>
              <a:latin typeface="Verdana"/>
            </a:endParaRPr>
          </a:p>
        </p:txBody>
      </p:sp>
      <p:sp>
        <p:nvSpPr>
          <p:cNvPr id="908"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lnSpc>
                <a:spcPct val="90000"/>
              </a:lnSpc>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High traffic volume – aircraft and vehicles</a:t>
            </a:r>
            <a:endParaRPr b="0" lang="en-US" sz="2700" spc="-1" strike="noStrike">
              <a:solidFill>
                <a:srgbClr val="ffffcc"/>
              </a:solidFill>
              <a:latin typeface="Verdan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343080">
              <a:lnSpc>
                <a:spcPct val="90000"/>
              </a:lnSpc>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Low visibility conditions</a:t>
            </a:r>
            <a:endParaRPr b="0" lang="en-US" sz="2700" spc="-1" strike="noStrike">
              <a:solidFill>
                <a:srgbClr val="ffffcc"/>
              </a:solidFill>
              <a:latin typeface="Verdan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343080">
              <a:lnSpc>
                <a:spcPct val="90000"/>
              </a:lnSpc>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Poorly designed, confusing and/or complex airfield configuration, routings and procedures</a:t>
            </a:r>
            <a:endParaRPr b="0" lang="en-US" sz="2700" spc="-1" strike="noStrike">
              <a:solidFill>
                <a:srgbClr val="ffffcc"/>
              </a:solidFill>
              <a:latin typeface="Verdan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343080">
              <a:lnSpc>
                <a:spcPct val="90000"/>
              </a:lnSpc>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Traffic mix range</a:t>
            </a:r>
            <a:endParaRPr b="0" lang="en-US" sz="2700" spc="-1" strike="noStrike">
              <a:solidFill>
                <a:srgbClr val="ffffcc"/>
              </a:solidFill>
              <a:latin typeface="Verdan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343080">
              <a:lnSpc>
                <a:spcPct val="90000"/>
              </a:lnSpc>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Language mix in ATC communications</a:t>
            </a:r>
            <a:endParaRPr b="0" lang="en-US" sz="2700" spc="-1" strike="noStrike">
              <a:solidFill>
                <a:srgbClr val="ffffcc"/>
              </a:solidFill>
              <a:latin typeface="Verdana"/>
            </a:endParaRPr>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09"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Runway Incursion Prevention Measures at Aerodromes</a:t>
            </a:r>
            <a:endParaRPr b="1" lang="en-US" sz="3300" spc="-1" strike="noStrike">
              <a:solidFill>
                <a:srgbClr val="ccffff"/>
              </a:solidFill>
              <a:latin typeface="Verdana"/>
            </a:endParaRPr>
          </a:p>
        </p:txBody>
      </p:sp>
      <p:sp>
        <p:nvSpPr>
          <p:cNvPr id="911"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Compliance with Annex 14 Volume I SARPs</a:t>
            </a:r>
            <a:endParaRPr b="0" lang="en-US" sz="3100" spc="-1" strike="noStrike">
              <a:solidFill>
                <a:srgbClr val="ffffcc"/>
              </a:solidFill>
              <a:latin typeface="Verdana"/>
            </a:endParaRPr>
          </a:p>
          <a:p>
            <a:pPr lvl="1" marL="743040" indent="-285840">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provision and maintenance of facilities and services at aerodromes</a:t>
            </a:r>
            <a:endParaRPr b="0" lang="en-US" sz="2600" spc="-1" strike="noStrike">
              <a:solidFill>
                <a:srgbClr val="ccccff"/>
              </a:solidFill>
              <a:latin typeface="Verdana"/>
            </a:endParaRPr>
          </a:p>
          <a:p>
            <a:pPr lvl="2" marL="1143000" indent="-228600">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Perimeter barriers</a:t>
            </a:r>
            <a:endParaRPr b="0" lang="en-US" sz="2200" spc="-1" strike="noStrike">
              <a:solidFill>
                <a:srgbClr val="ccffff"/>
              </a:solidFill>
              <a:latin typeface="Verdana"/>
            </a:endParaRPr>
          </a:p>
          <a:p>
            <a:pPr lvl="2" marL="1143000" indent="-228600">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Runway and Road holding positions</a:t>
            </a:r>
            <a:endParaRPr b="0" lang="en-US" sz="2200" spc="-1" strike="noStrike">
              <a:solidFill>
                <a:srgbClr val="ccffff"/>
              </a:solidFill>
              <a:latin typeface="Verdana"/>
            </a:endParaRPr>
          </a:p>
          <a:p>
            <a:pPr lvl="2" marL="1143000" indent="-228600">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Airfield Visual Aids – markings, lights, signs</a:t>
            </a:r>
            <a:endParaRPr b="0" lang="en-US" sz="2200" spc="-1" strike="noStrike">
              <a:solidFill>
                <a:srgbClr val="ccffff"/>
              </a:solidFill>
              <a:latin typeface="Verdana"/>
            </a:endParaRPr>
          </a:p>
          <a:p>
            <a:pPr lvl="2" marL="1143000" indent="-228600">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Aerodrome control – Wildlife, AVSEC, Ground movement</a:t>
            </a:r>
            <a:endParaRPr b="0" lang="en-US" sz="2200" spc="-1" strike="noStrike">
              <a:solidFill>
                <a:srgbClr val="ccffff"/>
              </a:solidFill>
              <a:latin typeface="Verdana"/>
            </a:endParaRPr>
          </a:p>
          <a:p>
            <a:pPr lvl="2" marL="1143000" indent="-228600">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Aerodrome data and charts</a:t>
            </a:r>
            <a:endParaRPr b="0" lang="en-US" sz="2200" spc="-1" strike="noStrike">
              <a:solidFill>
                <a:srgbClr val="ccffff"/>
              </a:solidFill>
              <a:latin typeface="Verdana"/>
            </a:endParaRPr>
          </a:p>
          <a:p>
            <a:pPr lvl="2" marL="1143000" indent="-228600">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Aerodrome Procedures &amp; Personnel Training</a:t>
            </a:r>
            <a:endParaRPr b="0" lang="en-US" sz="2200" spc="-1" strike="noStrike">
              <a:solidFill>
                <a:srgbClr val="ccffff"/>
              </a:solidFill>
              <a:latin typeface="Verdana"/>
            </a:endParaRPr>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Runway Incursion Prevention Measures at Aerodromes</a:t>
            </a:r>
            <a:endParaRPr b="1" lang="en-US" sz="2900" spc="-1" strike="noStrike">
              <a:solidFill>
                <a:srgbClr val="ccffff"/>
              </a:solidFill>
              <a:latin typeface="Verdana"/>
            </a:endParaRPr>
          </a:p>
        </p:txBody>
      </p:sp>
      <p:sp>
        <p:nvSpPr>
          <p:cNvPr id="913"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Compliance with Annex 14 Volume I SARPs (cont’d)</a:t>
            </a:r>
            <a:endParaRPr b="0" lang="en-US" sz="2700" spc="-1" strike="noStrike">
              <a:solidFill>
                <a:srgbClr val="ffffcc"/>
              </a:solidFill>
              <a:latin typeface="Verdana"/>
            </a:endParaRPr>
          </a:p>
          <a:p>
            <a:pPr lvl="1" marL="743040" indent="-285840">
              <a:spcBef>
                <a:spcPts val="601"/>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ccff"/>
                </a:solidFill>
                <a:latin typeface="Verdana"/>
              </a:rPr>
              <a:t>Aerodrome data – aeronautical information</a:t>
            </a:r>
            <a:endParaRPr b="0" lang="en-US" sz="2400" spc="-1" strike="noStrike">
              <a:solidFill>
                <a:srgbClr val="ccccff"/>
              </a:solidFill>
              <a:latin typeface="Verdana"/>
            </a:endParaRPr>
          </a:p>
          <a:p>
            <a:pPr lvl="1" marL="743040" indent="-285840">
              <a:spcBef>
                <a:spcPts val="601"/>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ccff"/>
                </a:solidFill>
                <a:latin typeface="Verdana"/>
              </a:rPr>
              <a:t>Safety management systems at aerodromes</a:t>
            </a:r>
            <a:endParaRPr b="0" lang="en-US" sz="2400" spc="-1" strike="noStrike">
              <a:solidFill>
                <a:srgbClr val="ccccff"/>
              </a:solidFill>
              <a:latin typeface="Verdana"/>
            </a:endParaRPr>
          </a:p>
          <a:p>
            <a:pPr lvl="1" marL="743040" indent="-285840">
              <a:spcBef>
                <a:spcPts val="601"/>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ccff"/>
                </a:solidFill>
                <a:latin typeface="Verdana"/>
              </a:rPr>
              <a:t>State safety oversight through certification of aerodromes</a:t>
            </a:r>
            <a:endParaRPr b="0" lang="en-US" sz="2400" spc="-1" strike="noStrike">
              <a:solidFill>
                <a:srgbClr val="ccccff"/>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Training</a:t>
            </a: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Human Factors – situational awareness, errors</a:t>
            </a: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Institutional Factors – Organisation and Personnel</a:t>
            </a:r>
            <a:endParaRPr b="0" lang="en-US" sz="2700" spc="-1" strike="noStrike">
              <a:solidFill>
                <a:srgbClr val="ffffcc"/>
              </a:solidFill>
              <a:latin typeface="Verdana"/>
            </a:endParaRPr>
          </a:p>
        </p:txBody>
      </p:sp>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Introduction</a:t>
            </a:r>
            <a:endParaRPr b="1" lang="en-US" sz="3300" spc="-1" strike="noStrike">
              <a:solidFill>
                <a:srgbClr val="ccffff"/>
              </a:solidFill>
              <a:latin typeface="Verdana"/>
            </a:endParaRPr>
          </a:p>
        </p:txBody>
      </p:sp>
      <p:sp>
        <p:nvSpPr>
          <p:cNvPr id="857"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Recent runway Incursions in the CAR/SAM Regions </a:t>
            </a:r>
            <a:endParaRPr b="0" lang="en-US" sz="3100" spc="-1" strike="noStrike">
              <a:solidFill>
                <a:srgbClr val="ffffcc"/>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CAR/SAM = Latin America &amp; the Caribbean)</a:t>
            </a:r>
            <a:endParaRPr b="0" lang="en-US" sz="2600" spc="-1" strike="noStrike">
              <a:solidFill>
                <a:srgbClr val="ccccff"/>
              </a:solidFill>
              <a:latin typeface="Verdana"/>
            </a:endParaRPr>
          </a:p>
          <a:p>
            <a:pPr lvl="2" marL="1143000" indent="0">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ccffff"/>
              </a:solidFill>
              <a:latin typeface="Verdana"/>
            </a:endParaRPr>
          </a:p>
          <a:p>
            <a:pPr lvl="2" marL="1143000" indent="-228600">
              <a:lnSpc>
                <a:spcPct val="90000"/>
              </a:lnSpc>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Accidents – None</a:t>
            </a:r>
            <a:endParaRPr b="0" lang="en-US" sz="2200" spc="-1" strike="noStrike">
              <a:solidFill>
                <a:srgbClr val="ccffff"/>
              </a:solidFill>
              <a:latin typeface="Verdana"/>
            </a:endParaRPr>
          </a:p>
          <a:p>
            <a:pPr lvl="2" marL="1143000" indent="-228600">
              <a:lnSpc>
                <a:spcPct val="90000"/>
              </a:lnSpc>
              <a:spcBef>
                <a:spcPts val="550"/>
              </a:spcBef>
              <a:buClr>
                <a:srgbClr val="33cccc"/>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ffff"/>
                </a:solidFill>
                <a:latin typeface="Verdana"/>
              </a:rPr>
              <a:t>Incidents – Many</a:t>
            </a:r>
            <a:endParaRPr b="0" lang="en-US" sz="2200" spc="-1" strike="noStrike">
              <a:solidFill>
                <a:srgbClr val="ccffff"/>
              </a:solidFill>
              <a:latin typeface="Verdana"/>
            </a:endParaRPr>
          </a:p>
          <a:p>
            <a:pPr marL="343080" indent="0">
              <a:lnSpc>
                <a:spcPct val="9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cc"/>
              </a:solidFill>
              <a:latin typeface="Verdana"/>
            </a:endParaRPr>
          </a:p>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100" spc="-1" strike="noStrike">
                <a:solidFill>
                  <a:srgbClr val="ffffcc"/>
                </a:solidFill>
                <a:latin typeface="Verdana"/>
              </a:rPr>
              <a:t>Concern with runway incursions highlighted at regional air navigation meetings of States</a:t>
            </a:r>
            <a:endParaRPr b="0" lang="en-US" sz="3100" spc="-1" strike="noStrike">
              <a:solidFill>
                <a:srgbClr val="ffffcc"/>
              </a:solidFill>
              <a:latin typeface="Verdana"/>
            </a:endParaRPr>
          </a:p>
        </p:txBody>
      </p:sp>
    </p:spTree>
  </p:cSld>
  <p:transition>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0" y="1109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915" name="" descr=""/>
          <p:cNvPicPr/>
          <p:nvPr/>
        </p:nvPicPr>
        <p:blipFill>
          <a:blip r:embed="rId1"/>
          <a:stretch/>
        </p:blipFill>
        <p:spPr>
          <a:xfrm>
            <a:off x="485640" y="76320"/>
            <a:ext cx="8077320" cy="6794280"/>
          </a:xfrm>
          <a:prstGeom prst="rect">
            <a:avLst/>
          </a:prstGeom>
          <a:ln w="0">
            <a:noFill/>
          </a:ln>
        </p:spPr>
      </p:pic>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16" name="" descr=""/>
          <p:cNvPicPr/>
          <p:nvPr/>
        </p:nvPicPr>
        <p:blipFill>
          <a:blip r:embed="rId1"/>
          <a:stretch/>
        </p:blipFill>
        <p:spPr>
          <a:xfrm>
            <a:off x="0" y="1203480"/>
            <a:ext cx="9144000" cy="4511520"/>
          </a:xfrm>
          <a:prstGeom prst="rect">
            <a:avLst/>
          </a:prstGeom>
          <a:ln w="0">
            <a:noFill/>
          </a:ln>
        </p:spPr>
      </p:pic>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17" name="" descr=""/>
          <p:cNvPicPr/>
          <p:nvPr/>
        </p:nvPicPr>
        <p:blipFill>
          <a:blip r:embed="rId1"/>
          <a:stretch/>
        </p:blipFill>
        <p:spPr>
          <a:xfrm>
            <a:off x="0" y="2057400"/>
            <a:ext cx="9144000" cy="2727360"/>
          </a:xfrm>
          <a:prstGeom prst="rect">
            <a:avLst/>
          </a:prstGeom>
          <a:ln w="0">
            <a:noFill/>
          </a:ln>
        </p:spPr>
      </p:pic>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18" name="" descr=""/>
          <p:cNvPicPr/>
          <p:nvPr/>
        </p:nvPicPr>
        <p:blipFill>
          <a:blip r:embed="rId1"/>
          <a:stretch/>
        </p:blipFill>
        <p:spPr>
          <a:xfrm>
            <a:off x="0" y="1905120"/>
            <a:ext cx="9144000" cy="302400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0" y="685800"/>
            <a:ext cx="9144000" cy="5359320"/>
          </a:xfrm>
          <a:prstGeom prst="rect">
            <a:avLst/>
          </a:prstGeom>
          <a:ln w="0">
            <a:noFill/>
          </a:ln>
        </p:spPr>
      </p:pic>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20" name="" descr=""/>
          <p:cNvPicPr/>
          <p:nvPr/>
        </p:nvPicPr>
        <p:blipFill>
          <a:blip r:embed="rId1"/>
          <a:stretch/>
        </p:blipFill>
        <p:spPr>
          <a:xfrm>
            <a:off x="762120" y="0"/>
            <a:ext cx="7772400" cy="6800760"/>
          </a:xfrm>
          <a:prstGeom prst="rect">
            <a:avLst/>
          </a:prstGeom>
          <a:ln w="0">
            <a:noFill/>
          </a:ln>
        </p:spPr>
      </p:pic>
    </p:spTree>
  </p:cSld>
  <p:transition>
    <p:checke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0" y="380880"/>
            <a:ext cx="9144000" cy="6096240"/>
          </a:xfrm>
          <a:prstGeom prst="rect">
            <a:avLst/>
          </a:prstGeom>
          <a:ln w="0">
            <a:noFill/>
          </a:ln>
        </p:spPr>
      </p:pic>
    </p:spTree>
  </p:cSld>
  <p:transition>
    <p:dissolv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b1b53"/>
        </a:solidFill>
      </p:bgPr>
    </p:bg>
    <p:spTree>
      <p:nvGrpSpPr>
        <p:cNvPr id="1" name=""/>
        <p:cNvGrpSpPr/>
        <p:nvPr/>
      </p:nvGrpSpPr>
      <p:grpSpPr>
        <a:xfrm>
          <a:off x="0" y="0"/>
          <a:ext cx="0" cy="0"/>
          <a:chOff x="0" y="0"/>
          <a:chExt cx="0" cy="0"/>
        </a:xfrm>
      </p:grpSpPr>
      <p:pic>
        <p:nvPicPr>
          <p:cNvPr id="922" name="" descr=""/>
          <p:cNvPicPr/>
          <p:nvPr/>
        </p:nvPicPr>
        <p:blipFill>
          <a:blip r:embed="rId1"/>
          <a:stretch/>
        </p:blipFill>
        <p:spPr>
          <a:xfrm>
            <a:off x="0" y="0"/>
            <a:ext cx="9144000" cy="6858000"/>
          </a:xfrm>
          <a:prstGeom prst="rect">
            <a:avLst/>
          </a:prstGeom>
          <a:ln w="0">
            <a:noFill/>
          </a:ln>
        </p:spPr>
      </p:pic>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FINAL THOUGHT</a:t>
            </a:r>
            <a:endParaRPr b="1" lang="en-US" sz="3300" spc="-1" strike="noStrike">
              <a:solidFill>
                <a:srgbClr val="ccffff"/>
              </a:solidFill>
              <a:latin typeface="Verdana"/>
            </a:endParaRPr>
          </a:p>
        </p:txBody>
      </p:sp>
      <p:sp>
        <p:nvSpPr>
          <p:cNvPr id="924"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Verdana"/>
              </a:rPr>
              <a:t>Runway Incursions</a:t>
            </a:r>
            <a:endParaRPr b="0" lang="en-US" sz="3200" spc="-1" strike="noStrike">
              <a:solidFill>
                <a:srgbClr val="ffff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Verdana"/>
            </a:endParaRPr>
          </a:p>
          <a:p>
            <a:pPr marL="343080" indent="-343080">
              <a:spcBef>
                <a:spcPts val="799"/>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Verdana"/>
              </a:rPr>
              <a:t>Serious safety situation with simple solutions</a:t>
            </a:r>
            <a:endParaRPr b="0" lang="en-US" sz="3200" spc="-1" strike="noStrike">
              <a:solidFill>
                <a:srgbClr val="ffffcc"/>
              </a:solidFill>
              <a:latin typeface="Verdana"/>
            </a:endParaRPr>
          </a:p>
        </p:txBody>
      </p:sp>
      <p:sp>
        <p:nvSpPr>
          <p:cNvPr id="925" name=""/>
          <p:cNvSpPr/>
          <p:nvPr/>
        </p:nvSpPr>
        <p:spPr>
          <a:xfrm>
            <a:off x="3167640" y="5179680"/>
            <a:ext cx="5238720" cy="11912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Verdana"/>
              </a:rPr>
              <a:t>THANK YOU</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Verdana"/>
              </a:rPr>
              <a:t>www.icao.int</a:t>
            </a:r>
            <a:endParaRPr b="0" lang="en-US" sz="24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9900"/>
                </a:solidFill>
                <a:latin typeface="Verdana"/>
              </a:rPr>
              <a:t>mvreedenburgh@mexico.icao.int</a:t>
            </a:r>
            <a:endParaRPr b="0" lang="en-US" sz="2400" spc="-1" strike="noStrike">
              <a:solidFill>
                <a:srgbClr val="ffffff"/>
              </a:solidFill>
              <a:latin typeface="Arial"/>
            </a:endParaRPr>
          </a:p>
        </p:txBody>
      </p:sp>
    </p:spTree>
  </p:cSld>
  <p:transition>
    <p:randomBar dir="vert"/>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2" presetSubtype="12">
                                  <p:stCondLst>
                                    <p:cond delay="0"/>
                                  </p:stCondLst>
                                  <p:iterate type="lt">
                                    <p:tmAbs val="75"/>
                                  </p:iterate>
                                  <p:childTnLst>
                                    <p:set>
                                      <p:cBhvr>
                                        <p:cTn id="67" dur="1" fill="hold">
                                          <p:stCondLst>
                                            <p:cond delay="0"/>
                                          </p:stCondLst>
                                        </p:cTn>
                                        <p:tgtEl>
                                          <p:spTgt spid="925"/>
                                        </p:tgtEl>
                                        <p:attrNameLst>
                                          <p:attrName>style.visibility</p:attrName>
                                        </p:attrNameLst>
                                      </p:cBhvr>
                                      <p:to>
                                        <p:strVal val="visible"/>
                                      </p:to>
                                    </p:set>
                                    <p:anim calcmode="lin" valueType="num">
                                      <p:cBhvr additive="base">
                                        <p:cTn id="68" dur="75" fill="hold"/>
                                        <p:tgtEl>
                                          <p:spTgt spid="925"/>
                                        </p:tgtEl>
                                        <p:attrNameLst>
                                          <p:attrName>ppt_x</p:attrName>
                                        </p:attrNameLst>
                                      </p:cBhvr>
                                      <p:tavLst>
                                        <p:tav tm="0">
                                          <p:val>
                                            <p:strVal val="0-#ppt_w/2"/>
                                          </p:val>
                                        </p:tav>
                                        <p:tav tm="100000">
                                          <p:val>
                                            <p:strVal val="#ppt_x"/>
                                          </p:val>
                                        </p:tav>
                                      </p:tavLst>
                                    </p:anim>
                                    <p:anim calcmode="lin" valueType="num">
                                      <p:cBhvr additive="base">
                                        <p:cTn id="69" dur="75" fill="hold"/>
                                        <p:tgtEl>
                                          <p:spTgt spid="9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Air Navigation System Components Involved</a:t>
            </a:r>
            <a:endParaRPr b="1" lang="en-US" sz="3300" spc="-1" strike="noStrike">
              <a:solidFill>
                <a:srgbClr val="ccffff"/>
              </a:solidFill>
              <a:latin typeface="Verdana"/>
            </a:endParaRPr>
          </a:p>
        </p:txBody>
      </p:sp>
      <p:sp>
        <p:nvSpPr>
          <p:cNvPr id="859"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ccff"/>
                </a:solidFill>
                <a:latin typeface="Verdana"/>
              </a:rPr>
              <a:t>Aerodrome Operators</a:t>
            </a:r>
            <a:r>
              <a:rPr b="0" lang="en-GB" sz="2700" spc="-1" strike="noStrike">
                <a:solidFill>
                  <a:srgbClr val="ffffcc"/>
                </a:solidFill>
                <a:latin typeface="Verdana"/>
              </a:rPr>
              <a:t> – Management &amp; Personnel</a:t>
            </a:r>
            <a:endParaRPr b="0" lang="en-US" sz="2700" spc="-1" strike="noStrike">
              <a:solidFill>
                <a:srgbClr val="ffffcc"/>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ccff"/>
                </a:solidFill>
                <a:latin typeface="Verdana"/>
              </a:rPr>
              <a:t>Aircraft Operators</a:t>
            </a:r>
            <a:r>
              <a:rPr b="0" lang="en-GB" sz="2700" spc="-1" strike="noStrike">
                <a:solidFill>
                  <a:srgbClr val="ffffcc"/>
                </a:solidFill>
                <a:latin typeface="Verdana"/>
              </a:rPr>
              <a:t> – Airlines and Flight Crew</a:t>
            </a:r>
            <a:endParaRPr b="0" lang="en-US" sz="2700" spc="-1" strike="noStrike">
              <a:solidFill>
                <a:srgbClr val="ffffcc"/>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ccccff"/>
                </a:solidFill>
                <a:latin typeface="Verdana"/>
              </a:rPr>
              <a:t>Air Traffic Services Providers</a:t>
            </a:r>
            <a:r>
              <a:rPr b="0" lang="en-GB" sz="2700" spc="-1" strike="noStrike">
                <a:solidFill>
                  <a:srgbClr val="ffffcc"/>
                </a:solidFill>
                <a:latin typeface="Verdana"/>
              </a:rPr>
              <a:t> – Air Traffic Controllers</a:t>
            </a:r>
            <a:endParaRPr b="0" lang="en-US" sz="2700" spc="-1" strike="noStrike">
              <a:solidFill>
                <a:srgbClr val="ffffcc"/>
              </a:solidFill>
              <a:latin typeface="Verdana"/>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cc"/>
              </a:solidFill>
              <a:latin typeface="Verdan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ffffcc"/>
                </a:solidFill>
                <a:latin typeface="Verdana"/>
              </a:rPr>
              <a:t>All regulated by State Civil Aviation Authorities</a:t>
            </a:r>
            <a:endParaRPr b="0" lang="en-US" sz="2700" spc="-1" strike="noStrike">
              <a:solidFill>
                <a:srgbClr val="ffffcc"/>
              </a:solidFill>
              <a:latin typeface="Verdan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ccffff"/>
                </a:solidFill>
                <a:latin typeface="Verdana"/>
              </a:rPr>
              <a:t>CAR/SAM Regions Air Navigation Planning and Implementation Mechanism</a:t>
            </a:r>
            <a:endParaRPr b="1" lang="en-US" sz="2900" spc="-1" strike="noStrike">
              <a:solidFill>
                <a:srgbClr val="ccffff"/>
              </a:solidFill>
              <a:latin typeface="Verdana"/>
            </a:endParaRPr>
          </a:p>
        </p:txBody>
      </p:sp>
      <p:sp>
        <p:nvSpPr>
          <p:cNvPr id="861"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ccccff"/>
                </a:solidFill>
                <a:latin typeface="Verdana"/>
              </a:rPr>
              <a:t>GREPECAS</a:t>
            </a:r>
            <a:r>
              <a:rPr b="0" lang="en-GB" sz="3100" spc="-1" strike="noStrike">
                <a:solidFill>
                  <a:srgbClr val="ffffcc"/>
                </a:solidFill>
                <a:latin typeface="Verdana"/>
              </a:rPr>
              <a:t> – ICAO, States &amp; International Organisations – Providers &amp; Users</a:t>
            </a:r>
            <a:endParaRPr b="0" lang="en-US" sz="3100" spc="-1" strike="noStrike">
              <a:solidFill>
                <a:srgbClr val="ffffcc"/>
              </a:solidFill>
              <a:latin typeface="Verdana"/>
            </a:endParaRPr>
          </a:p>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ccccff"/>
                </a:solidFill>
                <a:latin typeface="Verdana"/>
              </a:rPr>
              <a:t>AGA/AOP/SG</a:t>
            </a:r>
            <a:r>
              <a:rPr b="0" lang="en-GB" sz="3100" spc="-1" strike="noStrike">
                <a:solidFill>
                  <a:srgbClr val="ffffcc"/>
                </a:solidFill>
                <a:latin typeface="Verdana"/>
              </a:rPr>
              <a:t> – forum with participation of all Stakeholders</a:t>
            </a:r>
            <a:endParaRPr b="0" lang="en-US" sz="3100" spc="-1" strike="noStrike">
              <a:solidFill>
                <a:srgbClr val="ffffcc"/>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CAAs – ICAO</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irports – ACI</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irlines – IATA</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Pilots – IFALPA</a:t>
            </a:r>
            <a:endParaRPr b="0" lang="en-US" sz="2600" spc="-1" strike="noStrike">
              <a:solidFill>
                <a:srgbClr val="ccccff"/>
              </a:solidFill>
              <a:latin typeface="Verdana"/>
            </a:endParaRPr>
          </a:p>
          <a:p>
            <a:pPr lvl="1" marL="743040" indent="-285840">
              <a:lnSpc>
                <a:spcPct val="90000"/>
              </a:lnSpc>
              <a:spcBef>
                <a:spcPts val="64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ccff"/>
                </a:solidFill>
                <a:latin typeface="Verdana"/>
              </a:rPr>
              <a:t>Air Traffic Controllers – IFATCA</a:t>
            </a:r>
            <a:endParaRPr b="0" lang="en-US" sz="2600" spc="-1" strike="noStrike">
              <a:solidFill>
                <a:srgbClr val="ccccff"/>
              </a:solidFill>
              <a:latin typeface="Verdana"/>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AGA/AOP/SG Runway Incursion Activities to date</a:t>
            </a:r>
            <a:endParaRPr b="1" lang="en-US" sz="3300" spc="-1" strike="noStrike">
              <a:solidFill>
                <a:srgbClr val="ccffff"/>
              </a:solidFill>
              <a:latin typeface="Verdana"/>
            </a:endParaRPr>
          </a:p>
        </p:txBody>
      </p:sp>
      <p:sp>
        <p:nvSpPr>
          <p:cNvPr id="863"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Collection of runway incursion incident data from States</a:t>
            </a: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Review of data collected</a:t>
            </a: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Identification of runway incursion types, causes and prevention measures</a:t>
            </a:r>
            <a:endParaRPr b="0" lang="en-US" sz="2700" spc="-1" strike="noStrike">
              <a:solidFill>
                <a:srgbClr val="ffffcc"/>
              </a:solidFill>
              <a:latin typeface="Verdana"/>
            </a:endParaRPr>
          </a:p>
          <a:p>
            <a:pPr marL="343080" indent="-343080">
              <a:spcBef>
                <a:spcPts val="6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ffffcc"/>
                </a:solidFill>
                <a:latin typeface="Verdana"/>
              </a:rPr>
              <a:t>Developed runway incursion definition reflecting regional characteristics of runway incursions for regional application until ICAO adopts an internationally approved definition for global application</a:t>
            </a:r>
            <a:endParaRPr b="0" lang="en-US" sz="2700" spc="-1" strike="noStrike">
              <a:solidFill>
                <a:srgbClr val="ffffcc"/>
              </a:solidFill>
              <a:latin typeface="Verdana"/>
            </a:endParaRPr>
          </a:p>
        </p:txBody>
      </p:sp>
    </p:spTree>
  </p:cSld>
  <p:transition>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AGA/AOP/SG Runway Incursion Activities to date</a:t>
            </a:r>
            <a:endParaRPr b="1" lang="en-US" sz="3300" spc="-1" strike="noStrike">
              <a:solidFill>
                <a:srgbClr val="ccffff"/>
              </a:solidFill>
              <a:latin typeface="Verdana"/>
            </a:endParaRPr>
          </a:p>
        </p:txBody>
      </p:sp>
      <p:sp>
        <p:nvSpPr>
          <p:cNvPr id="865"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spcBef>
                <a:spcPts val="5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cc"/>
                </a:solidFill>
                <a:latin typeface="Verdana"/>
              </a:rPr>
              <a:t>Primary action – reduce and eliminate aerodrome deficiencies through compliance with Annex 14 Volume I SARPs</a:t>
            </a:r>
            <a:endParaRPr b="0" lang="en-US" sz="2300" spc="-1" strike="noStrike">
              <a:solidFill>
                <a:srgbClr val="ffffcc"/>
              </a:solidFill>
              <a:latin typeface="Verdana"/>
            </a:endParaRPr>
          </a:p>
          <a:p>
            <a:pPr lvl="1" marL="743040" indent="-285840">
              <a:spcBef>
                <a:spcPts val="49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ccff"/>
                </a:solidFill>
                <a:latin typeface="Verdana"/>
              </a:rPr>
              <a:t>provision and maintenance of facilities and services at aerodromes</a:t>
            </a:r>
            <a:endParaRPr b="0" lang="en-US" sz="2000" spc="-1" strike="noStrike">
              <a:solidFill>
                <a:srgbClr val="ccccff"/>
              </a:solidFill>
              <a:latin typeface="Verdana"/>
            </a:endParaRPr>
          </a:p>
          <a:p>
            <a:pPr lvl="1" marL="743040" indent="-285840">
              <a:spcBef>
                <a:spcPts val="49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ccff"/>
                </a:solidFill>
                <a:latin typeface="Verdana"/>
              </a:rPr>
              <a:t>implementation of safety management systems at aerodromes</a:t>
            </a:r>
            <a:endParaRPr b="0" lang="en-US" sz="2000" spc="-1" strike="noStrike">
              <a:solidFill>
                <a:srgbClr val="ccccff"/>
              </a:solidFill>
              <a:latin typeface="Verdana"/>
            </a:endParaRPr>
          </a:p>
          <a:p>
            <a:pPr lvl="1" marL="743040" indent="-285840">
              <a:spcBef>
                <a:spcPts val="49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ccff"/>
                </a:solidFill>
                <a:latin typeface="Verdana"/>
              </a:rPr>
              <a:t>State safety oversight through certification of aerodromes</a:t>
            </a:r>
            <a:endParaRPr b="0" lang="en-US" sz="2000" spc="-1" strike="noStrike">
              <a:solidFill>
                <a:srgbClr val="ccccff"/>
              </a:solidFill>
              <a:latin typeface="Verdana"/>
            </a:endParaRPr>
          </a:p>
          <a:p>
            <a:pPr lvl="1" marL="743040" indent="-285840">
              <a:spcBef>
                <a:spcPts val="499"/>
              </a:spcBef>
              <a:buClr>
                <a:srgbClr val="33cccc"/>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ccff"/>
                </a:solidFill>
                <a:latin typeface="Verdana"/>
              </a:rPr>
              <a:t>ICAO aerodromes audits (USOAP)</a:t>
            </a:r>
            <a:endParaRPr b="0" lang="en-US" sz="2000" spc="-1" strike="noStrike">
              <a:solidFill>
                <a:srgbClr val="ccccff"/>
              </a:solidFill>
              <a:latin typeface="Verdana"/>
            </a:endParaRPr>
          </a:p>
          <a:p>
            <a:pPr marL="343080" indent="-343080">
              <a:spcBef>
                <a:spcPts val="575"/>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ffcc"/>
                </a:solidFill>
                <a:latin typeface="Verdana"/>
              </a:rPr>
              <a:t>Developed Annex 14 Volume I Aerodrome Runway Incursion Prevention Measures Checklist</a:t>
            </a:r>
            <a:endParaRPr b="0" lang="en-US" sz="2300" spc="-1" strike="noStrike">
              <a:solidFill>
                <a:srgbClr val="ffffcc"/>
              </a:solidFill>
              <a:latin typeface="Verdana"/>
            </a:endParaRPr>
          </a:p>
        </p:txBody>
      </p:sp>
    </p:spTree>
  </p:cSld>
  <p:transition>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Future AGA/AOP/SG Runway Incursion Activities</a:t>
            </a:r>
            <a:endParaRPr b="1" lang="en-US" sz="3300" spc="-1" strike="noStrike">
              <a:solidFill>
                <a:srgbClr val="ccffff"/>
              </a:solidFill>
              <a:latin typeface="Verdana"/>
            </a:endParaRPr>
          </a:p>
        </p:txBody>
      </p:sp>
      <p:sp>
        <p:nvSpPr>
          <p:cNvPr id="867"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Continue to collect and review runway incursion data</a:t>
            </a:r>
            <a:endParaRPr b="0" lang="en-US" sz="3100" spc="-1" strike="noStrike">
              <a:solidFill>
                <a:srgbClr val="ffffcc"/>
              </a:solidFill>
              <a:latin typeface="Verdana"/>
            </a:endParaRPr>
          </a:p>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Monitor worldwide developments on runway incursion prevention programmes, measures, techniques, methodology, technology, training, education and awareness</a:t>
            </a:r>
            <a:endParaRPr b="0" lang="en-US" sz="3100" spc="-1" strike="noStrike">
              <a:solidFill>
                <a:srgbClr val="ffffcc"/>
              </a:solidFill>
              <a:latin typeface="Verdana"/>
            </a:endParaRPr>
          </a:p>
          <a:p>
            <a:pPr marL="343080" indent="-343080">
              <a:lnSpc>
                <a:spcPct val="90000"/>
              </a:lnSpc>
              <a:spcBef>
                <a:spcPts val="774"/>
              </a:spcBef>
              <a:buClr>
                <a:srgbClr val="ff9966"/>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cc"/>
                </a:solidFill>
                <a:latin typeface="Verdana"/>
              </a:rPr>
              <a:t>Identify and promote regional application of runway incursion prevention measures</a:t>
            </a:r>
            <a:endParaRPr b="0" lang="en-US" sz="3100" spc="-1" strike="noStrike">
              <a:solidFill>
                <a:srgbClr val="ffffcc"/>
              </a:solidFill>
              <a:latin typeface="Verdana"/>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b1b53"/>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80520" y="3045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ccffff"/>
                </a:solidFill>
                <a:latin typeface="Verdana"/>
              </a:rPr>
              <a:t>Relevant GREPECAS AGA/AOP/SG Conclusions</a:t>
            </a:r>
            <a:endParaRPr b="1" lang="en-US" sz="3300" spc="-1" strike="noStrike">
              <a:solidFill>
                <a:srgbClr val="ccffff"/>
              </a:solidFill>
              <a:latin typeface="Verdana"/>
            </a:endParaRPr>
          </a:p>
        </p:txBody>
      </p:sp>
      <p:sp>
        <p:nvSpPr>
          <p:cNvPr id="869" name="PlaceHolder 2"/>
          <p:cNvSpPr>
            <a:spLocks noGrp="1"/>
          </p:cNvSpPr>
          <p:nvPr>
            <p:ph/>
          </p:nvPr>
        </p:nvSpPr>
        <p:spPr>
          <a:xfrm>
            <a:off x="380880" y="1904760"/>
            <a:ext cx="86868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Verdana"/>
              </a:rPr>
              <a:t>DRAFT</a:t>
            </a: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Verdana"/>
              </a:rPr>
              <a:t>CONCLUSION 2/15</a:t>
            </a:r>
            <a:r>
              <a:rPr b="0" lang="en-GB" sz="1800" spc="-1" strike="noStrike">
                <a:solidFill>
                  <a:srgbClr val="ffffcc"/>
                </a:solidFill>
                <a:latin typeface="Verdana"/>
              </a:rPr>
              <a:t>	</a:t>
            </a:r>
            <a:r>
              <a:rPr b="1" lang="en-GB" sz="1800" spc="-1" strike="noStrike">
                <a:solidFill>
                  <a:srgbClr val="ffffcc"/>
                </a:solidFill>
                <a:latin typeface="Verdana"/>
              </a:rPr>
              <a:t>RUNWAY INCURSIONS</a:t>
            </a: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Verdana"/>
              </a:rPr>
              <a:t>That,</a:t>
            </a: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Verdana"/>
              </a:rPr>
              <a:t>a)</a:t>
            </a:r>
            <a:r>
              <a:rPr b="0" lang="en-GB" sz="1800" spc="-1" strike="noStrike">
                <a:solidFill>
                  <a:srgbClr val="ffffcc"/>
                </a:solidFill>
                <a:latin typeface="Verdana"/>
              </a:rPr>
              <a:t>	</a:t>
            </a:r>
            <a:r>
              <a:rPr b="0" lang="en-GB" sz="1800" spc="-1" strike="noStrike">
                <a:solidFill>
                  <a:srgbClr val="ffffcc"/>
                </a:solidFill>
                <a:latin typeface="Verdana"/>
              </a:rPr>
              <a:t>States adopt the definition of a runway incursion as “An unauthorised or unintended presence of an aircraft, vehicle, person, wildlife or object on a runway, within the graded portion of a runway strip or infringing on the obstacle free zone and in the area controlled on the ground by runway-holding and road-holding positions”;</a:t>
            </a: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Verdana"/>
              </a:rPr>
              <a:t>b)</a:t>
            </a:r>
            <a:r>
              <a:rPr b="0" lang="en-GB" sz="1800" spc="-1" strike="noStrike">
                <a:solidFill>
                  <a:srgbClr val="ffffcc"/>
                </a:solidFill>
                <a:latin typeface="Verdana"/>
              </a:rPr>
              <a:t>	</a:t>
            </a:r>
            <a:r>
              <a:rPr b="0" lang="en-GB" sz="1800" spc="-1" strike="noStrike">
                <a:solidFill>
                  <a:srgbClr val="ffffcc"/>
                </a:solidFill>
                <a:latin typeface="Verdana"/>
              </a:rPr>
              <a:t>States continuously collect and compile runway incursion incident reports from aerodrome operators, air traffic services providers and aircraft operators and periodically submit these to the ICAO Regional Offices; and</a:t>
            </a: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Verdana"/>
              </a:rPr>
              <a:t>c)</a:t>
            </a:r>
            <a:r>
              <a:rPr b="0" lang="en-GB" sz="1800" spc="-1" strike="noStrike">
                <a:solidFill>
                  <a:srgbClr val="ffffcc"/>
                </a:solidFill>
                <a:latin typeface="Verdana"/>
              </a:rPr>
              <a:t>	</a:t>
            </a:r>
            <a:r>
              <a:rPr b="0" lang="en-GB" sz="1800" spc="-1" strike="noStrike">
                <a:solidFill>
                  <a:srgbClr val="ffffcc"/>
                </a:solidFill>
                <a:latin typeface="Verdana"/>
              </a:rPr>
              <a:t>the information referred to in b) above be presented and reviewed at the AGA/AOP/SG/3 Meeting.</a:t>
            </a:r>
            <a:endParaRPr b="0" lang="en-US" sz="1800" spc="-1" strike="noStrike">
              <a:solidFill>
                <a:srgbClr val="ffffcc"/>
              </a:solidFill>
              <a:latin typeface="Verdana"/>
            </a:endParaRPr>
          </a:p>
        </p:txBody>
      </p:sp>
    </p:spTree>
  </p:cSld>
  <p:transition>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8T19:08:34Z</dcterms:created>
  <dc:creator>Claudia Lopez</dc:creator>
  <dc:description/>
  <dc:language>en-US</dc:language>
  <cp:lastModifiedBy>Claudia Lopez</cp:lastModifiedBy>
  <dcterms:modified xsi:type="dcterms:W3CDTF">2002-10-15T19:19:45Z</dcterms:modified>
  <cp:revision>20</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6200.00000000</vt:lpwstr>
  </property>
  <property fmtid="{D5CDD505-2E9C-101B-9397-08002B2CF9AE}" pid="5" name="Year">
    <vt:lpwstr>2002</vt:lpwstr>
  </property>
</Properties>
</file>