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F56-3CE8-41E4-A550-324F84214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F47-EA26-4426-8261-841BEADE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A188-71B2-4D12-9BD9-56A24031E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6A2-B4A0-4A6B-88B5-570B1CF0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F2AA-893C-4D93-B26C-E475A868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0EEE-C244-4408-8EA1-E9A84CC0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2FB7-58DD-4751-9F92-A837A3D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9025-D22A-4AFE-AA02-4FE81E16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411A-7CFA-4882-8530-239A4A14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C4F8-F79F-481D-8A2E-EC28FA5F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BECB-F430-4D52-AB8E-B9C197EB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A7D-2150-454B-A8A4-5CF09A1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ACEC-FD06-4BDA-BD19-1034D87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A0A17-B8E6-4E89-9CCA-5535312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036E-FFF9-4596-94E3-F974FA1D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A7FE-5B70-4A77-B341-3082B4E5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5048-E884-4156-972B-299321B7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1CB-B56E-49DC-B95E-5096D93B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C10-D1A3-453D-AF11-95534678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E99-59A0-4A16-B8F8-8E26A730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8E-1C86-444B-A531-FFA9F8CD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43B-5B68-4D2E-824E-71728CFF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A56-A242-41E1-AC1C-1D7F30FF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BD89-9C04-4BAF-9022-BEC4376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BDCD-B7D2-4254-92A5-A9D7A76A23C7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CA39-6033-49B6-B7D3-4B6AF609CA4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83808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 PREVENTION MEAS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T PARIS-CHARLES DE GAULLE AIR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CAO NAM/CAR/SAM Runway Safety / Runway Incursion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Mexico City, 22 to 25 October 200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-----------------------------------------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 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r Gerard BATISTELLA, studies and development Air Traffic Oper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     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r Jean JEZEQUEL, Air Traffic Manager for Towers and TRACON, Charles de Gaulle Air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B3B-FA8C-4D71-B2DE-E8C2B88B9A2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FAC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OUTH AIR TRAFFIC CONTROL TOWER (cost : 15 millions Eu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visibility on arrivals, holdings and crossings (in westerly and easterly flow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visibility on departures sequences (in westerly and easterly flow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PRON TOWER LOCATED IN SOUTH TOWE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able to manage traffic around all CDG2 terminal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lleviate traffic load of ground control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 TRAFFIC CONTROL TOWER SIMULATOR ( cost : 4 millions Eu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provide training of all controllers working the south pair of RWYS from south ATCT before ope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ote :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his simulator is now adapted for north pair of RWYS, central and north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TCT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80D-0A7F-41F4-B3EC-F72927392DD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7A36-56E8-4A40-AC3D-1D87A36CA2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E9D0-3263-4B04-9DC4-340021923B9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EQUIP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 LOCATED ON SOUTH ATCT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tter ground radar coverage of south side of air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BELS (data blocks) ON GROUND AND LOCAL CONTROL POS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easier management of traff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better discrimination for LOCAL and GROUND controllers, of the different positions of airplanes (more specially inbounds holding between the two RWYS…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EHICLES RADIO LOCATION MONITORING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prevent drivers of incursions on RW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8615-A92B-4517-BFFD-F6A828B9797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TAXIWAY DESIG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ACE PROVIDED to decelerate AFTER VACATING RWY, hold BEFORE CROSSING, CROSS AND TAXI QUICKLY away from departure RW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84m between rwy center lines,</a:t>
            </a:r>
            <a:r>
              <a:rPr b="1" i="1" lang="en-US" sz="2000" spc="-1" strike="noStrike">
                <a:solidFill>
                  <a:srgbClr val="ff0000"/>
                </a:solidFill>
                <a:latin typeface="Arial Narrow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exits (West and East rwy configura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ENTRAL PARALLEL TWY between rwys to collect several arrivals, hold and prepare sequ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TWYs PERPENDICULAR (West and East rwy configurations) to departure RWY for HOLDING AND CROSSING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ood surveillance of departing traffic (West and East configurations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apid and non confusing crossing of inner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ighting system strictly ICAO ANNEX 14 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91C4-5C95-4624-8496-E2D5E7FA5F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279-1F00-45B0-8C6F-1ECB74458D6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CED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ON OUTER RWY/DEPARTURES ON INNER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crossing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LS and Approach lighting on inner RWY to be OFF (to prevent landings on the inner RW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OCUS ON READ BACK procedures (clearances and documentations) specially for ARRIVALS (ie: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“HOLD SHORT OF RUNWAY 26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 taxiway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ERRA TWO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”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LOCAL FREQUENCY FOR ARRIVALS AND DEPART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change to Ground Control frequency only after the crossing of departure RWY permitting to the LOCAL controller to call them if necessary. Pilots can monitor the sequenc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L VEHICL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ll vehicles having to operate on RWYS are equipped with Local Control frequencies and drivers are in contact with Local Control posi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DIAGR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 Westerly and Easterly flows,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can see how to taxi immediately after departure RWY crossing if no immediate contact with ground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D2C-3A80-45A2-AF4F-2A5C5B17529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CONTROL POS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WO GROUND CONTROL POSITIONS working on south side of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working mostly arrivals (GSW in West flow, GSE in East flow), available to speak immediately to the arrivals after the crossing, and to give taxi-clear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rrivals exit quickly the departure RWY ar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ne working mostly departures (GSE in West flow, GSW in East flow) to prepare the departure sequ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WO APRON TOWER POSITIONS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with a possible extension to three)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to alleviate Ground Control traffic load on south side of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7360-53EA-4CE4-AF8F-8963C9CB337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8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B6E3-0CC0-430D-A973-748C042BD83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BEFORE OPENING SOUTH PAIR OF RUNWAYS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E-OPERATIONAL MEAS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SIMULATOR « SIMULOC »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 operation two months before opening the pair of RWYS, to train all the controll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S with airline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explain the new proced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VERY LARGE DISTRIBUTION OF A VIDE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monstrating the new procedures of the south pair of RWYS, highlighting specificities, namely  holding before crossing and crossing of departure RW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RGANIZATION OF TWO MEETING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allow pilots / controllers to acquire and mutually understand  new proced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ATION IN CONJUNCTION WITH IATA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 a leaflet named HIRO and subsequent large distrib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AUTION MESSAGE on the ATIS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,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uring the first month of operations (March 1999),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for the arrivals vacating the outer RWY of the pair of RWY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"After vacating RWY 26L hold short of runway 26R"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A81-DC6F-4A47-80E4-65DCA4913D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OUTLINE OF THIS PRES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Traffic (2001 d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Layout (Runways/taxi-ways/terminals – Air Traffic Control Tow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DG Airport Basic Oper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 Prevention Measures before opening south pair of RWYS (before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ditional Runway Incursion Prevention Measures, since 2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unway Incursions statis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Further Runway Incursion Prevention Measures for 2003/2004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B440-FDCD-46F0-A34D-645FDD67094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AFTER OPENING SOUTH PAIR OF RUNWAYS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FIRST DEBRIEFING AND CORRECTIONS (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SK FORCE TO MONITOR OPERATIONS AND ANALYZE INCIDENTS (one meeting per month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IFICATIONS of procedures and documentatio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CONTROL TAXI PROCEDURES :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give PRIORITY to arriving traffic over taxiing traffic on parallel TWY (to expedite crossing of inner RWY and avoid a holding of second arrival for a ground clearance close to (or on) the departure RWY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IRPORT DOCUMENTATION  DIAGRAMS : to integrate taxiing PRIOR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DDITIONAL GROUND MARKING ON THE HOLDING POINTS to REINFORCE their meaning (STO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IMULTANEOUS CAMPAIGN WITH AIR FRANCE for heightening pilot and controller awareness OF PHRASEOLOGY AND READ BACK SENSITIVIT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2B58-C2CA-408F-92EA-0A6EA99342C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467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2070000"/>
            <a:ext cx="9144000" cy="394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E20-435B-4B21-BCC0-6F16F444E3C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INFORMATION AND DOCUMEN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RMANENT (since 11/28/00) CAUTION MESSAGE on the ATIS, for inbounds  vacating the OUTER RW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 WITH AIRLINES (12/15/00) for discussion and awaren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UBLICATION (Feb 2001) OF AN AIC pertaining to this problem with special distribution to airlines operating on air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UPDATING (2001) OF HIRO LEAFLET with special focus on this problem, promotion and large distribu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ETING WITH AIRLINES (1/18/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REINFORCEMENT OF THE JEPPESEN caution bo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AE0-CD9E-4C22-B973-8A96193472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6480" y="457200"/>
            <a:ext cx="7331040" cy="14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SINCE 2000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42920"/>
            <a:ext cx="83818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</a:rPr>
              <a:t>ENHANCED CAT 1 HOLDING POINT AND OTHER 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IMPLEMENTATION OF TWIN WIG-WAG: 4 orange flashing lights on each side of 90m holding points, differentiating those at 150m (single Wig-Wag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REINFORCING HOLDING POINT : painting of ground with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"RWY AHEAD"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 ground inscrip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DUPLICATION OF HOLDING POINT SIGNS (90m) : on either side of the taxiway &amp; erection of additional CAT1 sig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H24 WIG – WAG at 90m holding point commuted with 150m WIG – WAG in LVP op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REINFORCING SIGNS, MARKINGS AND RED LIGHTS on TWY with only one way :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“NO ENTRY / RWY AHEAD ”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 painting of ground and specific signs for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driver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Arial"/>
              </a:rPr>
              <a:t>, located at 90m from the runway centerlin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1226-8811-44DE-B918-48A49105FDA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6480" y="43920"/>
            <a:ext cx="7331040" cy="140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371600" y="1600200"/>
          <a:ext cx="655308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55308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15A-C763-4420-822C-FF746871A4D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0600" y="22824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652760"/>
            <a:ext cx="9144000" cy="5128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D74-BCF0-441E-A5D6-10F17C252D0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20600" y="759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B1B-C1F8-41B9-A342-82F55291158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NEW EQUI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rd 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nd 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GROUND RADARS (ASD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rd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, located South/East of airport, in service since early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SDE, located North/West of airport, in service since spring 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E "S" multi-lateration (installation finished October 2002, on test end of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SHORT TERM CONFLICT ALERT SYSTEM (on test autumn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C08-2FAA-4984-AF54-3BAD66381EF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482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C7B-2A54-4892-9C09-F6F87D3EFE4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br>
              <a:rPr sz="1900"/>
            </a:b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PROCEDURES / HUMAN ERROR PREV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W PHRASEOLOGY (January 2001) for arrivals holding short of the inner runway of the pair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"DUPLICATING HOLDING INSTRUCTION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"…, Hold short of runway 26R,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holding point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SIERRA TWO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instead of "…, Hold short of runway 26R, on taxi way SIERRA TW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PECIFICALLY FAMILIARIZE PILOTS with CDG airport complex layout and read back procedu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istribution of a specific CD-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MPLEMENTATION of a 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Safety Management System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(early July 200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A82-9D84-4DBB-9E53-A32BEBF57E3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IRPORT TRAFFIC CONDITIONS (2001 dat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525,000 ops/year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ORLD RANK for ops : 6 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 Narrow"/>
                <a:ea typeface="Times New Roman"/>
              </a:rPr>
              <a:t>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 day : 1,689 op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eak hour : 125 ops (3 RWY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AJOR HUB FOR AIR-FR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ver 150 foreign airlines operating at CD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WEATHER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ow visibility Procedures :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5 % of ti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A few snowy day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C91-93FA-443F-8DD1-7EF6DD331E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SINCE 2000 ) </a:t>
            </a:r>
            <a:br>
              <a:rPr sz="1400"/>
            </a:br>
            <a:br>
              <a:rPr sz="19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« 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In case of any doubt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  </a:t>
            </a:r>
            <a:r>
              <a:rPr b="1" lang="en-GB" sz="2400" spc="-1" strike="noStrike">
                <a:solidFill>
                  <a:srgbClr val="ffffff"/>
                </a:solidFill>
                <a:latin typeface="Arial Narrow"/>
              </a:rPr>
              <a:t>HOLD SHORT OF the inner RWY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 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The basic principle is the arrival traffic must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HOLD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SHORT</a:t>
            </a: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 Narrow"/>
              </a:rPr>
              <a:t>OF</a:t>
            </a: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 the inner RWY and wait for a crossing clearance and acknowledge i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81080" y="3276720"/>
          <a:ext cx="54864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76720"/>
                    <a:ext cx="5486400" cy="228600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451080" y="4876920"/>
            <a:ext cx="6741720" cy="1359360"/>
            <a:chOff x="451080" y="4876920"/>
            <a:chExt cx="6741720" cy="1359360"/>
          </a:xfrm>
        </p:grpSpPr>
        <p:sp>
          <p:nvSpPr>
            <p:cNvPr id="161" name=""/>
            <p:cNvSpPr/>
            <p:nvPr/>
          </p:nvSpPr>
          <p:spPr>
            <a:xfrm>
              <a:off x="451080" y="5837400"/>
              <a:ext cx="6741720" cy="398880"/>
            </a:xfrm>
            <a:prstGeom prst="rect">
              <a:avLst/>
            </a:prstGeom>
            <a:noFill/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Arrival traffic on outer RWY must stop and wait on holding point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048120" y="4876920"/>
              <a:ext cx="1066680" cy="9144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18148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4800600"/>
            <a:ext cx="228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007760" y="4492080"/>
            <a:ext cx="1621800" cy="320040"/>
            <a:chOff x="7007760" y="4492080"/>
            <a:chExt cx="1621800" cy="320040"/>
          </a:xfrm>
        </p:grpSpPr>
        <p:sp>
          <p:nvSpPr>
            <p:cNvPr id="167" name=""/>
            <p:cNvSpPr/>
            <p:nvPr/>
          </p:nvSpPr>
          <p:spPr>
            <a:xfrm rot="10857600">
              <a:off x="7010280" y="4495680"/>
              <a:ext cx="457200" cy="3045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450560" y="4505040"/>
              <a:ext cx="117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DEPARTUR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312680" y="4949280"/>
            <a:ext cx="1347120" cy="320040"/>
            <a:chOff x="7312680" y="4949280"/>
            <a:chExt cx="1347120" cy="320040"/>
          </a:xfrm>
        </p:grpSpPr>
        <p:sp>
          <p:nvSpPr>
            <p:cNvPr id="170" name=""/>
            <p:cNvSpPr/>
            <p:nvPr/>
          </p:nvSpPr>
          <p:spPr>
            <a:xfrm rot="10857600">
              <a:off x="7315200" y="4952880"/>
              <a:ext cx="457200" cy="304560"/>
            </a:xfrm>
            <a:custGeom>
              <a:avLst/>
              <a:gdLst>
                <a:gd name="textAreaLeft" fmla="*/ 71280 w 457200"/>
                <a:gd name="textAreaRight" fmla="*/ 400320 w 45720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56560" y="496224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ffff"/>
                  </a:solidFill>
                  <a:latin typeface="Arial Narrow"/>
                </a:rPr>
                <a:t>ARRIV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653-DC9A-44A3-95A8-5B74AA4CB7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2000"/>
            </a:b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TISTICS 2000 &amp; 2001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) 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ffic 2000: 518,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ursions: 13 (0 in LVP conditions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Traffic 2001: 525,000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ncursions: 3 (0 in LVP condi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ote: for 2001 and 2002 (up to august) 0 arrival crossing incursion, compare to 7 incursions in 2000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E730-7CB0-4232-9496-9BB4D923AB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r>
              <a:rPr b="1" i="1" lang="en-US" sz="19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  <a:ea typeface="Times New Roman"/>
              </a:rPr>
              <a:t>( FOR 2003 – 2004)</a:t>
            </a:r>
            <a:br>
              <a:rPr sz="1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ODE S MULTI-LATERATION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be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integrated in ground radar display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early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GROUND SHORT TERM CONFLICT ALERT SYSTEM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be integrated in ground radar displays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Runway Incursion Monitoring and Conflict Alert System)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early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A-SMGCS</a:t>
            </a:r>
            <a:r>
              <a:rPr b="1" i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 = 4 ASDEs, mode S multi-lateration, GSTCAS, alternated WIG-WA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 Narrow"/>
                <a:ea typeface="Times New Roman"/>
              </a:rPr>
              <a:t>90m /150m, stop bars 150m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LARGE DISTRIBUTION OF A NEW VIDEO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demonstrating procedures for north pair of RWYS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first quarter of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INING ON TOWER SIMULATOR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of the controllers for the north pair of rwys procedures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first quarter of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NEW NORTH AIR TRAFFIC CONTROL TOWER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lose to north pair of rwys</a:t>
            </a: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spring 200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PROVISION OF ASSISTANT LOCAL CONTROLLERS 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o help monitoring operations 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(scanning the runway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3EE-C373-418E-ADFC-229BE6FABB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458200" cy="5943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291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63F-EE02-4606-BBB0-A3E1F1792406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 Narrow"/>
                <a:ea typeface="Times New Roman"/>
              </a:rPr>
              <a:t>AIRPORT LAY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3200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4 PARALLEL RUN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th pair of runways in use since March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A mixed-mode runway on the north side of the airport (north pair of RWYS will go into operating spring 2003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AXIWAYS  ≈ 70Kms in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2 AIR TRAFFIC CONTROL TOW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South ATCT close to south pair of RWYS (including an apron tow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entral AT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New north ATCT (2004) close to north pair of RWYS (including an apron tow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CE49-1F08-46C2-AD7A-E4FD3664A1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798560"/>
            <a:ext cx="9144000" cy="4983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1748-567C-4DB4-B4E3-2B1A326BC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5E2B-83CA-4A05-9EF0-670AF24982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3FBD-063C-4703-8C20-C7E071EFC34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830240"/>
            <a:ext cx="9144000" cy="4875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0D0-063C-494A-946A-B4F1E750B08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20600" y="533160"/>
            <a:ext cx="7102800" cy="1174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NWAY INCURSION PREVENTION MEASUR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T PARIS-CHARLES DE GAULLE AIRPORT</a:t>
            </a:r>
            <a:br>
              <a:rPr sz="1900"/>
            </a:b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010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ff0000"/>
              </a:solidFill>
              <a:latin typeface="Arial Narrow"/>
              <a:ea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06560"/>
            <a:ext cx="9144000" cy="487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EROPORTS DE PAR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F871-A27F-410B-9A76-EAC6983E147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CAO Conference MEXICO City - october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6:54:53Z</dcterms:created>
  <dc:creator>Aéroports de Paris</dc:creator>
  <dc:description/>
  <dc:language>en-US</dc:language>
  <cp:lastModifiedBy>ICAO</cp:lastModifiedBy>
  <dcterms:modified xsi:type="dcterms:W3CDTF">2002-10-24T13:47:05Z</dcterms:modified>
  <cp:revision>92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5500.00000000</vt:lpwstr>
  </property>
  <property fmtid="{D5CDD505-2E9C-101B-9397-08002B2CF9AE}" pid="5" name="Year">
    <vt:lpwstr>2002</vt:lpwstr>
  </property>
</Properties>
</file>