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85C7-E7BB-4FFD-8D71-91626C1A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8D6-B430-42B2-9ECD-9D575987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3BE-D61D-42F8-A0F2-C4C906F4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EBFF-A6E1-4356-AB59-83AEF4D9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8D53-861F-4160-BA7A-EF4889E9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3FE7-4436-4809-9521-81B43F4F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7950-496A-4ADA-BCEE-ACD735BB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04056-5552-4877-AAC5-9F2D7CFB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9FB-0F55-42F2-B285-E56B2436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3B19-C940-46C5-A9EB-39ADE38B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7D18-34F0-4B6E-867F-A1EB7BCE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768-21D5-4293-9605-77195C6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2B93-6236-44F0-8342-19CC57A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F40B-CCFE-4514-8983-C0A22914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78CD-74DD-408D-BFFB-644517C4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393B-0600-413E-A33B-3B7826B89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FE64F-57AD-4F83-A47E-4B3EA3249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81B-939F-4BB2-B8AB-9F6FE0BC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5F0-1346-495C-870B-6474229E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800-8B3D-4CE1-8E88-D9A2CF04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56C5-E3A3-4881-BDD2-076F57C9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F2C-84F9-49BD-87A2-30B9E607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55B-773B-4379-AB8A-FC262577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5C9C-8055-49FC-87FE-86F5D226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1F10-23D5-4798-9AD6-32C1B5286751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311B-3C8A-4886-AB60-D6EB203F23C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 PREVENTION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T PARIS-CHARLES DE GAULLE AIR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CAO NAM/CAR/SAM Runway Safety / Runway Incursion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Mexico City, 22 to 25 October 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r Gerard BATISTELLA, studies and development Air Traffic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r Jean JEZEQUEL, Air Traffic Manager for Towers and TRACON, Charles de Gaulle Air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BEBE-B626-4BED-9C41-8584B3E6050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FAC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OUTH AIR TRAFFIC CONTROL TOWER (cost : 15 millions Eu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visibility on arrivals, holdings and crossings (in westerly and easterly flow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visibility on departures sequences (in westerly and easterly flow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PRON TOWER LOCATED IN SOUTH TOWE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able to manage traffic around all CDG2 termin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lleviate traffic load of ground control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 TRAFFIC CONTROL TOWER SIMULATOR ( cost : 4 millions Eu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provide training of all controllers working the south pair of RWYS from south ATCT before op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ote :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is simulator is now adapted for north pair of RWYS, central and north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TC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3DDF-CF6C-492D-B8EA-5E4ABA8EF2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A714-36AA-4B87-80CE-40FD30DA7B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60EF-3036-47FE-8A1D-AFD9AF0283E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 LOCATED ON SOUTH ATC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tter ground radar coverage of south side of air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BELS (data blocks) ON GROUND AND LOCAL CONTROL POS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asier management of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tter discrimination for LOCAL and GROUND controllers, of the different positions of airplanes (more specially inbounds holding between the two RWYS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EHICLES RADIO LOCATION MONITO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prevent drivers of incursions on RW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C19D-689B-42B9-A58E-642F2D8482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TAXIWAY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ACE PROVIDED to decelerate AFTER VACATING RWY, hold BEFORE CROSSING, CROSS AND TAXI QUICKLY away from departure RW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84m between rwy center lines,</a:t>
            </a:r>
            <a:r>
              <a:rPr b="1" i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exits (West and East rwy configura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TRAL PARALLEL TWY between rwys to collect several arrivals, hold and prepare sequ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TWYs PERPENDICULAR (West and East rwy configurations) to departure RWY for HOLDING AND CROSSING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surveillance of departing traffic (West and East configuration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apid and non confusing crossing of inner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ghting system strictly ICAO ANNEX 14 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B11-68AA-46BA-BD68-4CC4A5ED5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B0C-0634-4EFE-A2A9-9F684E863E2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ON OUTER RWY/DEPARTURES ON INNER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cross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S and Approach lighting on inner RWY to be OFF (to prevent landings on the inner RW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OCUS ON READ BACK procedures (clearances and documentations) specially for ARRIVALS (ie: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HOLD SHORT OF RUNWAY 26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 taxiway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ERRA TWO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LOCAL FREQUENCY FOR ARRIVALS AND DEPAR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change to Ground Control frequency only after the crossing of departure RWY permitting to the LOCAL controller to call them if necessary. Pilots can monitor the sequen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L VEHIC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l vehicles having to operate on RWYS are equipped with Local Control frequencies and drivers are in contact with Local Control 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DIAGR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 Westerly and Easterly flows,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can see how to taxi immediately after departure RWY crossing if no immediate contact with ground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4E0E-4E0C-42B7-9085-93C225E749F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CONTROL POS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WO GROUND CONTROL POSITIONS working on south side of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working mostly arrivals (GSW in West flow, GSE in East flow), available to speak immediately to the arrivals after the crossing, and to give taxi-clear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exit quickly the departure RWY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working mostly departures (GSE in West flow, GSW in East flow) to prepare the departure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WO APRON TOWER POSITIONS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with a possible extension to three)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to alleviate Ground Control traffic load on south side of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053-DE8D-4BEA-BEA9-2EA1AE05F55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8660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51F4-9ACF-4148-B500-B82CB06ABF4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E-OPERATIONAL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SIMULATOR « SIMULOC »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 operation two months before opening the pair of RWYS, to train all the control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S with airline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explain the new proced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ERY LARGE DISTRIBUTION OF A VIDE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monstrating the new procedures of the south pair of RWYS, highlighting specificities, namely  holding before crossing and crossing of departure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RGANIZATION OF TWO MEETING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llow pilots / controllers to acquire and mutually understand  new proced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ATION IN CONJUNCTION WITH IATA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 a leaflet named HIRO and subsequent large 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UTION MESSAGE on the ATI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uring the first month of operations (March 1999),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or the arrivals vacating the outer RWY of the pair of RWY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"After vacating RWY 26L hold short of runway 26R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0D31-F08C-48A8-8B03-6B20BAE29D5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OUTLINE OF THIS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Traffic (2001 d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Layout (Runways/taxi-ways/terminals – Air Traffic Control Tow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Basic Op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 Prevention Measures before opening south pair of RWYS (before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ditional Runway Incursion Prevention Measures, since 2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s 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urther Runway Incursion Prevention Measures for 2003/2004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AF6D-C6F7-42A2-B79A-DC11556125E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AFTER OPENING SOUTH PAIR OF RUNWAYS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FIRST DEBRIEFING AND CORRECTIONS (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SK FORCE TO MONITOR OPERATIONS AND ANALYZE INCIDENTS (one meeting per month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IFICATIONS of procedures and document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CONTROL TAXI PROCEDURES :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give PRIORITY to arriving traffic over taxiing traffic on parallel TWY (to expedite crossing of inner RWY and avoid a holding of second arrival for a ground clearance close to (or on) the departure RWY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DOCUMENTATION  DIAGRAMS : to integrate taxiing PRIO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DITIONAL GROUND MARKING ON THE HOLDING POINTS to REINFORCE their meaning (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MULTANEOUS CAMPAIGN WITH AIR FRANCE for heightening pilot and controller awareness OF PHRASEOLOGY AND READ BACK SENSITIV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5239-C94F-4DF0-B644-88979663951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467840" cy="322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2DAC-3D1E-4C06-A6EB-C5846839DB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INFORMATION AND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MANENT (since 11/28/00) CAUTION MESSAGE on the ATIS, for inbounds  vacating the OUTER RW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 WITH AIRLINES (12/15/00) for discussion and awar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ATION (Feb 2001) OF AN AIC pertaining to this problem with special distribution to airlines operating on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PDATING (2001) OF HIRO LEAFLET with special focus on this problem, promotion and large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 WITH AIRLINES (1/18/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INFORCEMENT OF THE JEPPESEN caution 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90E9-F7F3-4235-948B-6EB406FE087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06480" y="457200"/>
            <a:ext cx="7331040" cy="14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SINCE 2000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942920"/>
            <a:ext cx="83818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ENHANCED CAT 1 HOLDING POINT AND OTHER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IMPLEMENTATION OF TWIN WIG-WAG: 4 orange flashing lights on each side of 90m holding points, differentiating those at 150m (single Wig-Wa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REINFORCING HOLDING POINT : painting of ground with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"RWY AHEAD"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 ground in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DUPLICATION OF HOLDING POINT SIGNS (90m) : on either side of the taxiway &amp; erection of additional CAT1 sig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H24 WIG – WAG at 90m holding point commuted with 150m WIG – WAG in LVP 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REINFORCING SIGNS, MARKINGS AND RED LIGHTS on TWY with only one way :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“NO ENTRY / RWY AHEAD ”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painting of ground and specific signs for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driver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, located at 90m from the runway center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FF8-1FE7-44B2-A5D3-4031F367C9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6480" y="457200"/>
            <a:ext cx="7331040" cy="14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905120" y="1981080"/>
          <a:ext cx="56196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619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614-A339-480B-89FA-478107DE1D0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7010640" cy="393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EE2C-9CEC-4577-BD89-B77A3C871C9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6553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20840" y="1981080"/>
            <a:ext cx="650232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957-503D-48E2-9790-87718140E2B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rd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n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GROUND RADARS (AS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, located South/East of airport, in service since early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, located North/West of airport, in service since spring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E "S" multi-lateration (installation finished October 2002, on test end of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SHORT TERM CONFLICT ALERT SYSTEM (on test autumn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002-8E92-4AE9-AAAD-1F58B0C1419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2073240"/>
            <a:ext cx="7010640" cy="36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B2A1-3273-410D-B8D7-20F5F1939AB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CEDURES / HUMAN ERROR PREV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W PHRASEOLOGY (January 2001) for arrivals holding short of the inner runway of the pair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"DUPLICATING HOLDING INSTRUCTION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"…, Hold short of runway 26R,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holding point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IERRA TWO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instead of "…, Hold short of runway 26R, on taxi way SIERRA TW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ECIFICALLY FAMILIARIZE PILOTS with CDG airport complex layout and read back proced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stribution of a specific CD-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LEMENTATION of a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afety Management System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(early July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84F3-77B4-4889-937C-3015E0A6E8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IRPORT TRAFFIC CONDITIONS (2001 d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25,000 ops/yea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ORLD RANK for ops : 6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 day : 1,689 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 hour : 125 ops (3 RWY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JOR HUB FOR AIR-F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ver 150 foreign airlines operating at CD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EATH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ow visibility Procedures 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5 % of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few snowy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12A-2E20-42B5-9CEB-C3F17034CF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« 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In case of any doubt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OLD SHORT OF the inner RWY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basic principle is the arrival traffic must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HOLD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SHORT</a:t>
            </a: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the inner RWY and wait for a crossing clearance and acknowledge i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981080" y="3276720"/>
          <a:ext cx="5486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5486400" cy="228600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2" name=""/>
          <p:cNvGrpSpPr/>
          <p:nvPr/>
        </p:nvGrpSpPr>
        <p:grpSpPr>
          <a:xfrm>
            <a:off x="451080" y="4876920"/>
            <a:ext cx="6741720" cy="1359360"/>
            <a:chOff x="451080" y="4876920"/>
            <a:chExt cx="6741720" cy="1359360"/>
          </a:xfrm>
        </p:grpSpPr>
        <p:sp>
          <p:nvSpPr>
            <p:cNvPr id="163" name=""/>
            <p:cNvSpPr/>
            <p:nvPr/>
          </p:nvSpPr>
          <p:spPr>
            <a:xfrm>
              <a:off x="451080" y="5837400"/>
              <a:ext cx="6741720" cy="3988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Arrival traffic on outer RWY must stop and wait on holding point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048120" y="487692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18148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007760" y="4492080"/>
            <a:ext cx="1621800" cy="320040"/>
            <a:chOff x="7007760" y="4492080"/>
            <a:chExt cx="1621800" cy="320040"/>
          </a:xfrm>
        </p:grpSpPr>
        <p:sp>
          <p:nvSpPr>
            <p:cNvPr id="169" name=""/>
            <p:cNvSpPr/>
            <p:nvPr/>
          </p:nvSpPr>
          <p:spPr>
            <a:xfrm rot="10857600">
              <a:off x="7010280" y="4495680"/>
              <a:ext cx="457200" cy="3045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50560" y="4505040"/>
              <a:ext cx="117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DEPARTU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312680" y="4949280"/>
            <a:ext cx="1347120" cy="320040"/>
            <a:chOff x="7312680" y="4949280"/>
            <a:chExt cx="1347120" cy="320040"/>
          </a:xfrm>
        </p:grpSpPr>
        <p:sp>
          <p:nvSpPr>
            <p:cNvPr id="172" name=""/>
            <p:cNvSpPr/>
            <p:nvPr/>
          </p:nvSpPr>
          <p:spPr>
            <a:xfrm rot="10857600">
              <a:off x="7315200" y="4952880"/>
              <a:ext cx="457200" cy="3045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56560" y="496224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ARRIV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2D0A-AF6F-4433-AE1D-ADE3F1164A1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TISTICS 2000 &amp; 2001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) 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ffic 2000: 518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ursions: 13 (0 in LVP conditions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ffic 2001: 525,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ursions: 3 (0 in LVP condi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te: for 2001 and 2002 (up to august) 0 arrival crossing incursion, compare to 7 incursions in 2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AF4-2B16-4D1B-9C33-1D1E9D0B03A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r>
              <a:rPr b="1" i="1" lang="en-U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FOR 2003 – 2004)</a:t>
            </a:r>
            <a:br>
              <a:rPr sz="1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E S MULTI-LATERATIO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tegrated in ground radar display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early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SHORT TERM CONFLICT ALERT SYSTEM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be integrated in ground radar display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Runway Incursion Monitoring and Conflict Alert System)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early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-SMGCS</a:t>
            </a:r>
            <a:r>
              <a:rPr b="1" i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= 4 ASDEs, mode S multi-lateration, GSTCAS, alternated WIG-WA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90m /150m, stop bars 150m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RGE DISTRIBUTION OF A NEW VIDE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monstrating procedures for north pair of RWYS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first quarter of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INING ON TOWER SIMULATO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 the controllers for the north pair of rwys procedures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first quarter of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W NORTH AIR TRAFFIC CONTROL TOWE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lose to north pair of rwy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spring 200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VISION OF ASSISTANT LOCAL CONTROLLER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help monitoring operations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scanning the runw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EBA4-A218-4883-8416-78D88FFBDE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3E45-992A-4613-9247-4BEA0C4A31F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IRPOR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200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PARALLEL RUN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th pair of runways in use since March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 mixed-mode runway on the north side of the airport (north pair of RWYS will go into operating spring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XIWAYS  ≈ 70Kms in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 AIR TRAFFIC CONTROL TOW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th ATCT close to south pair of RWYS (including an apron tow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entral AT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w north ATCT (2004) close to north pair of RWYS (including an apron tow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C762-E445-41F8-A239-59CC34845D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378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546-EEB6-4822-8502-CFBBB53DEC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AE20-4DFE-4A4C-91DA-145FD308F8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369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E61-1991-43CD-B3D7-98B5599F0BA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066680" y="2093760"/>
            <a:ext cx="701064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722-7222-4479-A6E1-0255C63698D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1064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2E9-E564-4ACF-8168-0C269C031F8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6:54:53Z</dcterms:created>
  <dc:creator>Aéroports de Paris</dc:creator>
  <dc:description/>
  <dc:language>en-US</dc:language>
  <cp:lastModifiedBy>Claudia Lopez</cp:lastModifiedBy>
  <dcterms:modified xsi:type="dcterms:W3CDTF">2002-10-16T16:15:55Z</dcterms:modified>
  <cp:revision>91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5400.00000000</vt:lpwstr>
  </property>
  <property fmtid="{D5CDD505-2E9C-101B-9397-08002B2CF9AE}" pid="5" name="Year">
    <vt:lpwstr>2002</vt:lpwstr>
  </property>
</Properties>
</file>