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AAB9-44AC-470B-A9D8-33824DA7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812-BA33-4851-9345-81E6D57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DD8-6265-46D0-82DF-D9B263AE5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3C2E-3F52-4705-835B-13206A1E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5530-5BCC-41A0-BA4E-C79050C1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DAC8-8733-42E2-9B11-BC5EE0FC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9AF-F163-4928-8859-CB3881CE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9773-8367-41AF-A6EF-5C80897A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5D04-9753-45DC-8D4C-D39CD8C4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3C9B-EDD2-41FB-B181-D44903B1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34BB-21A1-4335-80E3-4640F830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B8ED-AE30-4A65-90D0-70E6B08D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E33F-2945-40D9-997E-A81812D0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D43E-7AB0-4540-9445-B1D152EB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5D4B-0734-4005-97A2-87112069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C7A-4A15-42B4-8CB3-936B8CD36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11E0-135B-4280-88E0-73FDC060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E90-FF50-4889-B73E-099E04A1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2B8-0885-4B8B-BCF5-49C434A7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9B0-2509-4735-BD07-06CAF5AB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1E5-C6D9-4593-B3E9-8FDDEAA6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AF6-3B46-4711-A2AE-8B568F6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C99D-D968-4787-86CD-5ED739C3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E3B2-FE2A-421A-A442-6FECABBA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E664-A05A-48CE-A0A6-1099366DCD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ffff99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A249-E489-406C-B846-8FF58DFF2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14400" algn="ctr">
              <a:spcBef>
                <a:spcPts val="649"/>
              </a:spcBef>
              <a:buClr>
                <a:srgbClr val="33cccc"/>
              </a:buClr>
              <a:buFont typeface="Webding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1828800" algn="ctr">
              <a:spcBef>
                <a:spcPts val="55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76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f1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cc"/>
                </a:solidFill>
                <a:latin typeface="Tahoma"/>
              </a:rPr>
              <a:t>Status of the ICAO Universal Safety  Oversight  Audit Programme</a:t>
            </a:r>
            <a:endParaRPr b="1" lang="en-US" sz="2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8088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09840" y="609480"/>
            <a:ext cx="1250280" cy="5347800"/>
            <a:chOff x="609840" y="609480"/>
            <a:chExt cx="1250280" cy="5347800"/>
          </a:xfrm>
        </p:grpSpPr>
        <p:sp>
          <p:nvSpPr>
            <p:cNvPr id="103" name=""/>
            <p:cNvSpPr/>
            <p:nvPr/>
          </p:nvSpPr>
          <p:spPr>
            <a:xfrm>
              <a:off x="609840" y="5298840"/>
              <a:ext cx="12502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udi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le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58440" y="609480"/>
              <a:ext cx="1153440" cy="4612680"/>
              <a:chOff x="658440" y="609480"/>
              <a:chExt cx="1153440" cy="4612680"/>
            </a:xfrm>
          </p:grpSpPr>
          <p:sp>
            <p:nvSpPr>
              <p:cNvPr id="105" name=""/>
              <p:cNvSpPr/>
              <p:nvPr/>
            </p:nvSpPr>
            <p:spPr>
              <a:xfrm>
                <a:off x="855720" y="609480"/>
                <a:ext cx="956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9 *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658440" y="1171080"/>
                <a:ext cx="934920" cy="4051080"/>
                <a:chOff x="658440" y="1171080"/>
                <a:chExt cx="934920" cy="405108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372680" y="1171080"/>
                  <a:ext cx="220680" cy="4051080"/>
                </a:xfrm>
                <a:custGeom>
                  <a:avLst/>
                  <a:gdLst/>
                  <a:ahLst/>
                  <a:rect l="l" t="t" r="r" b="b"/>
                  <a:pathLst>
                    <a:path w="63" h="1544">
                      <a:moveTo>
                        <a:pt x="0" y="1544"/>
                      </a:moveTo>
                      <a:lnTo>
                        <a:pt x="0" y="62"/>
                      </a:lnTo>
                      <a:lnTo>
                        <a:pt x="63" y="0"/>
                      </a:lnTo>
                      <a:lnTo>
                        <a:pt x="63" y="1474"/>
                      </a:lnTo>
                      <a:lnTo>
                        <a:pt x="0" y="154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58440" y="1332720"/>
                  <a:ext cx="714240" cy="38890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58440" y="1171080"/>
                  <a:ext cx="934920" cy="16164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4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4" y="6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2577960" y="609480"/>
            <a:ext cx="934920" cy="5351040"/>
            <a:chOff x="2577960" y="609480"/>
            <a:chExt cx="934920" cy="5351040"/>
          </a:xfrm>
        </p:grpSpPr>
        <p:sp>
          <p:nvSpPr>
            <p:cNvPr id="111" name=""/>
            <p:cNvSpPr/>
            <p:nvPr/>
          </p:nvSpPr>
          <p:spPr>
            <a:xfrm>
              <a:off x="2613960" y="5302080"/>
              <a:ext cx="861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Interi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po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577960" y="609480"/>
              <a:ext cx="934920" cy="4615560"/>
              <a:chOff x="2577960" y="609480"/>
              <a:chExt cx="934920" cy="4615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710800" y="60948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8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577960" y="1206720"/>
                <a:ext cx="934920" cy="4018320"/>
                <a:chOff x="2577960" y="1206720"/>
                <a:chExt cx="934920" cy="401832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88960" y="1206720"/>
                  <a:ext cx="223560" cy="4018320"/>
                </a:xfrm>
                <a:custGeom>
                  <a:avLst/>
                  <a:gdLst/>
                  <a:ahLst/>
                  <a:rect l="l" t="t" r="r" b="b"/>
                  <a:pathLst>
                    <a:path w="64" h="1429">
                      <a:moveTo>
                        <a:pt x="0" y="1429"/>
                      </a:move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64" y="1359"/>
                      </a:lnTo>
                      <a:lnTo>
                        <a:pt x="0" y="1429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77960" y="1381680"/>
                  <a:ext cx="711000" cy="38433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77960" y="1206720"/>
                  <a:ext cx="934920" cy="17496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3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3" y="6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4332240" y="1285920"/>
            <a:ext cx="934920" cy="4674600"/>
            <a:chOff x="4332240" y="1285920"/>
            <a:chExt cx="934920" cy="4674600"/>
          </a:xfrm>
        </p:grpSpPr>
        <p:sp>
          <p:nvSpPr>
            <p:cNvPr id="119" name=""/>
            <p:cNvSpPr/>
            <p:nvPr/>
          </p:nvSpPr>
          <p:spPr>
            <a:xfrm>
              <a:off x="4410000" y="5302080"/>
              <a:ext cx="777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pla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332240" y="1285920"/>
              <a:ext cx="934920" cy="3939120"/>
              <a:chOff x="4332240" y="1285920"/>
              <a:chExt cx="934920" cy="3939120"/>
            </a:xfrm>
          </p:grpSpPr>
          <p:sp>
            <p:nvSpPr>
              <p:cNvPr id="121" name=""/>
              <p:cNvSpPr/>
              <p:nvPr/>
            </p:nvSpPr>
            <p:spPr>
              <a:xfrm>
                <a:off x="4448160" y="12859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3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332240" y="1816920"/>
                <a:ext cx="934920" cy="3408120"/>
                <a:chOff x="4332240" y="1816920"/>
                <a:chExt cx="934920" cy="3408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021280" y="1816920"/>
                  <a:ext cx="245880" cy="3408120"/>
                </a:xfrm>
                <a:custGeom>
                  <a:avLst/>
                  <a:gdLst/>
                  <a:ahLst/>
                  <a:rect l="l" t="t" r="r" b="b"/>
                  <a:pathLst>
                    <a:path w="70" h="1270">
                      <a:moveTo>
                        <a:pt x="0" y="1270"/>
                      </a:moveTo>
                      <a:lnTo>
                        <a:pt x="0" y="61"/>
                      </a:lnTo>
                      <a:lnTo>
                        <a:pt x="70" y="0"/>
                      </a:lnTo>
                      <a:lnTo>
                        <a:pt x="70" y="1200"/>
                      </a:lnTo>
                      <a:lnTo>
                        <a:pt x="0" y="127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332240" y="1980720"/>
                  <a:ext cx="689040" cy="324432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32240" y="1816920"/>
                  <a:ext cx="934920" cy="163800"/>
                </a:xfrm>
                <a:custGeom>
                  <a:avLst/>
                  <a:gdLst/>
                  <a:ahLst/>
                  <a:rect l="l" t="t" r="r" b="b"/>
                  <a:pathLst>
                    <a:path w="267" h="61">
                      <a:moveTo>
                        <a:pt x="197" y="61"/>
                      </a:moveTo>
                      <a:lnTo>
                        <a:pt x="267" y="0"/>
                      </a:lnTo>
                      <a:lnTo>
                        <a:pt x="64" y="0"/>
                      </a:lnTo>
                      <a:lnTo>
                        <a:pt x="0" y="61"/>
                      </a:lnTo>
                      <a:lnTo>
                        <a:pt x="197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5966280" y="1676520"/>
            <a:ext cx="1139040" cy="4284000"/>
            <a:chOff x="5966280" y="1676520"/>
            <a:chExt cx="1139040" cy="4284000"/>
          </a:xfrm>
        </p:grpSpPr>
        <p:sp>
          <p:nvSpPr>
            <p:cNvPr id="127" name=""/>
            <p:cNvSpPr/>
            <p:nvPr/>
          </p:nvSpPr>
          <p:spPr>
            <a:xfrm>
              <a:off x="5966280" y="5302080"/>
              <a:ext cx="11390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Summa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po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149880" y="1676520"/>
              <a:ext cx="934560" cy="3548520"/>
              <a:chOff x="6149880" y="1676520"/>
              <a:chExt cx="934560" cy="3548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249240" y="16765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69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149880" y="2209680"/>
                <a:ext cx="934560" cy="3015360"/>
                <a:chOff x="6149880" y="2209680"/>
                <a:chExt cx="934560" cy="30153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6840000" y="2209680"/>
                  <a:ext cx="244080" cy="301536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149880" y="2423880"/>
                  <a:ext cx="690120" cy="280116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149880" y="2209680"/>
                  <a:ext cx="934560" cy="21420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7459920" y="3860640"/>
            <a:ext cx="1252080" cy="2099880"/>
            <a:chOff x="7459920" y="3860640"/>
            <a:chExt cx="1252080" cy="2099880"/>
          </a:xfrm>
        </p:grpSpPr>
        <p:sp>
          <p:nvSpPr>
            <p:cNvPr id="135" name=""/>
            <p:cNvSpPr/>
            <p:nvPr/>
          </p:nvSpPr>
          <p:spPr>
            <a:xfrm>
              <a:off x="7459920" y="5302080"/>
              <a:ext cx="12520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ud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follow-up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618320" y="3860640"/>
              <a:ext cx="934560" cy="1364760"/>
              <a:chOff x="7618320" y="3860640"/>
              <a:chExt cx="934560" cy="136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7770240" y="3860640"/>
                <a:ext cx="552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52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618320" y="4419360"/>
                <a:ext cx="934560" cy="806040"/>
                <a:chOff x="7618320" y="4419360"/>
                <a:chExt cx="934560" cy="8060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308440" y="4419360"/>
                  <a:ext cx="244080" cy="80604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18320" y="4475880"/>
                  <a:ext cx="690120" cy="74916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618320" y="4419360"/>
                  <a:ext cx="934560" cy="565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" name=""/>
          <p:cNvSpPr/>
          <p:nvPr/>
        </p:nvSpPr>
        <p:spPr>
          <a:xfrm>
            <a:off x="576360" y="6086520"/>
            <a:ext cx="83005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*In addition, five territories have been audited under the auspices of Contracting Sta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Total – 188 Contracting Sta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1480" y="15228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295280"/>
            <a:ext cx="9144000" cy="54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findings and analysis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964120" y="5040360"/>
            <a:ext cx="459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3760" y="3843360"/>
            <a:ext cx="4586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430880"/>
            <a:ext cx="463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3490920"/>
            <a:ext cx="463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8160" y="5802480"/>
            <a:ext cx="7750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Pri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Av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Legis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342800" y="5802480"/>
            <a:ext cx="8388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pera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Regul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13720" y="5802480"/>
            <a:ext cx="11620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AA Structure &am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afety Overs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00800" y="5802480"/>
            <a:ext cx="67572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Guid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5240" y="5802480"/>
            <a:ext cx="7077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Qualif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88160" y="5802480"/>
            <a:ext cx="8542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Licensing &amp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er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4600" y="5802480"/>
            <a:ext cx="86184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Continu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Surve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2080" y="5802480"/>
            <a:ext cx="7581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Re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of Safe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 Narrow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6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639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880" y="4192560"/>
            <a:ext cx="163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398952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38600" y="4659480"/>
            <a:ext cx="163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0440" y="42465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3565440"/>
            <a:ext cx="1620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6720" y="4503600"/>
            <a:ext cx="1666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81800" y="3666960"/>
            <a:ext cx="1634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15440" y="37227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1200" y="1974960"/>
            <a:ext cx="186480" cy="3891600"/>
            <a:chOff x="151200" y="1974960"/>
            <a:chExt cx="186480" cy="3891600"/>
          </a:xfrm>
        </p:grpSpPr>
        <p:sp>
          <p:nvSpPr>
            <p:cNvPr id="169" name=""/>
            <p:cNvSpPr/>
            <p:nvPr/>
          </p:nvSpPr>
          <p:spPr>
            <a:xfrm>
              <a:off x="216000" y="56228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200" y="5096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200" y="45846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1200" y="4058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200" y="3533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200" y="3011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200" y="24944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200" y="19749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3720" y="20210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9400" y="2021040"/>
            <a:ext cx="32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9800" y="20318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120" y="2031840"/>
            <a:ext cx="1440" cy="37195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9600" y="2021040"/>
            <a:ext cx="14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052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745240"/>
            <a:ext cx="838368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20829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680" y="36543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680" y="52164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680" y="41832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80" y="470052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680" y="313704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680" y="2620800"/>
            <a:ext cx="8383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0520" y="1486080"/>
            <a:ext cx="8355960" cy="4254120"/>
            <a:chOff x="290520" y="1486080"/>
            <a:chExt cx="8355960" cy="4254120"/>
          </a:xfrm>
        </p:grpSpPr>
        <p:sp>
          <p:nvSpPr>
            <p:cNvPr id="193" name=""/>
            <p:cNvSpPr/>
            <p:nvPr/>
          </p:nvSpPr>
          <p:spPr>
            <a:xfrm>
              <a:off x="642960" y="4412520"/>
              <a:ext cx="133920" cy="12780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0"/>
                  </a:moveTo>
                  <a:lnTo>
                    <a:pt x="76" y="47"/>
                  </a:lnTo>
                  <a:lnTo>
                    <a:pt x="38" y="95"/>
                  </a:lnTo>
                  <a:lnTo>
                    <a:pt x="0" y="4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90520" y="1486080"/>
              <a:ext cx="8355960" cy="4254120"/>
              <a:chOff x="290520" y="1486080"/>
              <a:chExt cx="8355960" cy="4254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90520" y="1486080"/>
                <a:ext cx="2381040" cy="228600"/>
                <a:chOff x="290520" y="1486080"/>
                <a:chExt cx="23810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39800" y="1486080"/>
                  <a:ext cx="19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7200"/>
                      <a:tab algn="l" pos="1454040"/>
                      <a:tab algn="l" pos="2181240"/>
                      <a:tab algn="l" pos="2908440"/>
                      <a:tab algn="l" pos="3635280"/>
                      <a:tab algn="l" pos="4362480"/>
                      <a:tab algn="l" pos="5089680"/>
                      <a:tab algn="l" pos="5816520"/>
                      <a:tab algn="l" pos="6543720"/>
                      <a:tab algn="l" pos="7270920"/>
                      <a:tab algn="l" pos="7997760"/>
                      <a:tab algn="l" pos="8724960"/>
                      <a:tab algn="l" pos="9451800"/>
                      <a:tab algn="l" pos="10179000"/>
                      <a:tab algn="l" pos="10906200"/>
                    </a:tabLst>
                  </a:pPr>
                  <a:r>
                    <a:rPr b="1" lang="en-US" sz="1500" spc="-1" strike="noStrike">
                      <a:solidFill>
                        <a:srgbClr val="ff3300"/>
                      </a:solidFill>
                      <a:latin typeface="Arial"/>
                    </a:rPr>
                    <a:t>GLOBAL/178 – 28.5%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90520" y="1504080"/>
                  <a:ext cx="327240" cy="123840"/>
                  <a:chOff x="290520" y="1504080"/>
                  <a:chExt cx="327240" cy="12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90520" y="1567080"/>
                    <a:ext cx="327240" cy="144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99600" y="1504080"/>
                    <a:ext cx="1090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27" y="0"/>
                        </a:moveTo>
                        <a:lnTo>
                          <a:pt x="54" y="34"/>
                        </a:lnTo>
                        <a:lnTo>
                          <a:pt x="27" y="67"/>
                        </a:lnTo>
                        <a:lnTo>
                          <a:pt x="0" y="34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35040" y="2020320"/>
                <a:ext cx="8011440" cy="3719880"/>
                <a:chOff x="635040" y="2020320"/>
                <a:chExt cx="8011440" cy="371988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635040" y="4277880"/>
                  <a:ext cx="1134000" cy="213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9040" y="4277880"/>
                  <a:ext cx="1132560" cy="314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901960" y="4233240"/>
                  <a:ext cx="1133640" cy="358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035960" y="3967200"/>
                  <a:ext cx="1141920" cy="2660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178240" y="3967560"/>
                  <a:ext cx="113400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312600" y="3967560"/>
                  <a:ext cx="113256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45520" y="3967560"/>
                  <a:ext cx="1134000" cy="54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00640" y="4214520"/>
                  <a:ext cx="135720" cy="13032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6440" y="452880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0800" y="416916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11280" y="3901680"/>
                  <a:ext cx="13716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45640" y="4483440"/>
                  <a:ext cx="13392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79640" y="3901680"/>
                  <a:ext cx="1342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4000" y="395712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4560" y="2020320"/>
                  <a:ext cx="1080" cy="371988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598320" y="1469880"/>
            <a:ext cx="8030880" cy="3409200"/>
            <a:chOff x="598320" y="1469880"/>
            <a:chExt cx="8030880" cy="3409200"/>
          </a:xfrm>
        </p:grpSpPr>
        <p:grpSp>
          <p:nvGrpSpPr>
            <p:cNvPr id="217" name=""/>
            <p:cNvGrpSpPr/>
            <p:nvPr/>
          </p:nvGrpSpPr>
          <p:grpSpPr>
            <a:xfrm>
              <a:off x="2673360" y="1469880"/>
              <a:ext cx="1728720" cy="228600"/>
              <a:chOff x="2673360" y="1469880"/>
              <a:chExt cx="17287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122640" y="1469880"/>
                <a:ext cx="1279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00cc"/>
                    </a:solidFill>
                    <a:latin typeface="Arial Narrow"/>
                  </a:rPr>
                  <a:t>APAC/33 – 24.9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673360" y="1500840"/>
                <a:ext cx="388080" cy="123480"/>
                <a:chOff x="2673360" y="1500840"/>
                <a:chExt cx="388080" cy="12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73360" y="1569600"/>
                  <a:ext cx="388080" cy="1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02600" y="1500840"/>
                  <a:ext cx="117360" cy="12348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98320" y="4061520"/>
              <a:ext cx="8030880" cy="817560"/>
              <a:chOff x="598320" y="4061520"/>
              <a:chExt cx="8030880" cy="8175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46200" y="4107600"/>
                <a:ext cx="7943760" cy="735120"/>
                <a:chOff x="646200" y="4107600"/>
                <a:chExt cx="7943760" cy="73512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646200" y="4317840"/>
                  <a:ext cx="1132920" cy="3668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79120" y="4318200"/>
                  <a:ext cx="1134360" cy="4690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913480" y="4107600"/>
                  <a:ext cx="1132560" cy="6796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46400" y="4107600"/>
                  <a:ext cx="1143360" cy="14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89760" y="4107600"/>
                  <a:ext cx="1132920" cy="73512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323040" y="4262040"/>
                  <a:ext cx="1134360" cy="57996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7400" y="4262400"/>
                  <a:ext cx="1132560" cy="1112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98320" y="4061520"/>
                <a:ext cx="8030880" cy="817560"/>
                <a:chOff x="598320" y="4061520"/>
                <a:chExt cx="8030880" cy="817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74800" y="47966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8320" y="4641480"/>
                  <a:ext cx="85320" cy="810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30880" y="427320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5240" y="4740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996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4224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09160" y="4218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43880" y="4328640"/>
                  <a:ext cx="85320" cy="828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590400" y="1471680"/>
            <a:ext cx="8049600" cy="2682360"/>
            <a:chOff x="590400" y="1471680"/>
            <a:chExt cx="8049600" cy="2682360"/>
          </a:xfrm>
        </p:grpSpPr>
        <p:grpSp>
          <p:nvGrpSpPr>
            <p:cNvPr id="241" name=""/>
            <p:cNvGrpSpPr/>
            <p:nvPr/>
          </p:nvGrpSpPr>
          <p:grpSpPr>
            <a:xfrm>
              <a:off x="4952880" y="1471680"/>
              <a:ext cx="1738440" cy="228600"/>
              <a:chOff x="4952880" y="1471680"/>
              <a:chExt cx="1738440" cy="228600"/>
            </a:xfrm>
          </p:grpSpPr>
          <p:sp>
            <p:nvSpPr>
              <p:cNvPr id="242" name=""/>
              <p:cNvSpPr/>
              <p:nvPr/>
            </p:nvSpPr>
            <p:spPr>
              <a:xfrm>
                <a:off x="5437800" y="1471680"/>
                <a:ext cx="1253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ff9900"/>
                    </a:solidFill>
                    <a:latin typeface="Arial Narrow"/>
                  </a:rPr>
                  <a:t>ESAF/21 – 40.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4952880" y="1503360"/>
                <a:ext cx="366480" cy="123480"/>
                <a:chOff x="4952880" y="1503360"/>
                <a:chExt cx="366480" cy="123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952880" y="1572120"/>
                  <a:ext cx="366480" cy="1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73480" y="1503360"/>
                  <a:ext cx="111240" cy="1234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90400" y="2859120"/>
              <a:ext cx="8049600" cy="1294920"/>
              <a:chOff x="590400" y="2859120"/>
              <a:chExt cx="8049600" cy="12949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47280" y="2913480"/>
                <a:ext cx="7943400" cy="1193760"/>
                <a:chOff x="647280" y="2913480"/>
                <a:chExt cx="7943400" cy="119376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47280" y="3740040"/>
                  <a:ext cx="1132920" cy="36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0200" y="3740040"/>
                  <a:ext cx="1133280" cy="320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2913840" y="3638880"/>
                  <a:ext cx="1132920" cy="421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4047120" y="3583440"/>
                  <a:ext cx="1143360" cy="55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190840" y="3583440"/>
                  <a:ext cx="1133280" cy="321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324480" y="3014280"/>
                  <a:ext cx="1132920" cy="891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457400" y="2913480"/>
                  <a:ext cx="1133280" cy="100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90400" y="2859120"/>
                <a:ext cx="8049600" cy="1294920"/>
                <a:chOff x="590400" y="2859120"/>
                <a:chExt cx="8049600" cy="1294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90400" y="40518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23320" y="3684600"/>
                  <a:ext cx="10584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70280" y="4006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990240" y="3583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33960" y="3529440"/>
                  <a:ext cx="105840" cy="9936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267600" y="38502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01240" y="2958840"/>
                  <a:ext cx="10512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34160" y="2859120"/>
                  <a:ext cx="105840" cy="9972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320" y="1471680"/>
            <a:ext cx="8346600" cy="3674520"/>
            <a:chOff x="598320" y="1471680"/>
            <a:chExt cx="8346600" cy="3674520"/>
          </a:xfrm>
        </p:grpSpPr>
        <p:grpSp>
          <p:nvGrpSpPr>
            <p:cNvPr id="265" name=""/>
            <p:cNvGrpSpPr/>
            <p:nvPr/>
          </p:nvGrpSpPr>
          <p:grpSpPr>
            <a:xfrm>
              <a:off x="6869880" y="1471680"/>
              <a:ext cx="2075040" cy="228600"/>
              <a:chOff x="6869880" y="1471680"/>
              <a:chExt cx="2075040" cy="2286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25640" y="1471680"/>
                <a:ext cx="1619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3300"/>
                    </a:solidFill>
                    <a:latin typeface="Arial Narrow"/>
                  </a:rPr>
                  <a:t>EUR/NAT/51 – 19.65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869880" y="1520640"/>
                <a:ext cx="374040" cy="86040"/>
                <a:chOff x="6869880" y="1520640"/>
                <a:chExt cx="374040" cy="86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69880" y="1564200"/>
                  <a:ext cx="374040" cy="10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94440" y="1520640"/>
                  <a:ext cx="124560" cy="86040"/>
                </a:xfrm>
                <a:custGeom>
                  <a:avLst/>
                  <a:gdLst/>
                  <a:ahLst/>
                  <a:rect l="l" t="t" r="r" b="b"/>
                  <a:pathLst>
                    <a:path w="54" h="67">
                      <a:moveTo>
                        <a:pt x="27" y="0"/>
                      </a:moveTo>
                      <a:lnTo>
                        <a:pt x="54" y="67"/>
                      </a:lnTo>
                      <a:lnTo>
                        <a:pt x="0" y="6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598320" y="4015440"/>
              <a:ext cx="8042040" cy="1130760"/>
              <a:chOff x="598320" y="4015440"/>
              <a:chExt cx="8042040" cy="11307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646920" y="4060080"/>
                <a:ext cx="7944840" cy="1040760"/>
                <a:chOff x="646920" y="4060080"/>
                <a:chExt cx="7944840" cy="104076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646920" y="4731840"/>
                  <a:ext cx="1133280" cy="1108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80200" y="4731840"/>
                  <a:ext cx="1133640" cy="210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913840" y="4786920"/>
                  <a:ext cx="1133280" cy="155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4047480" y="4060080"/>
                  <a:ext cx="1143360" cy="72684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190840" y="4060440"/>
                  <a:ext cx="1133640" cy="104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324840" y="4420080"/>
                  <a:ext cx="1133280" cy="68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58120" y="4420080"/>
                  <a:ext cx="1133640" cy="264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98320" y="4015440"/>
                <a:ext cx="8042040" cy="1130760"/>
                <a:chOff x="598320" y="4015440"/>
                <a:chExt cx="8042040" cy="1130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98320" y="47966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31600" y="4685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65240" y="4897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000320" y="4741200"/>
                  <a:ext cx="95400" cy="91800"/>
                </a:xfrm>
                <a:custGeom>
                  <a:avLst/>
                  <a:gdLst/>
                  <a:ahLst/>
                  <a:rect l="l" t="t" r="r" b="b"/>
                  <a:pathLst>
                    <a:path w="53" h="68">
                      <a:moveTo>
                        <a:pt x="26" y="0"/>
                      </a:moveTo>
                      <a:lnTo>
                        <a:pt x="53" y="68"/>
                      </a:lnTo>
                      <a:lnTo>
                        <a:pt x="0" y="6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42240" y="4015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75880" y="5054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409520" y="4373640"/>
                  <a:ext cx="96840" cy="9324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44960" y="4641480"/>
                  <a:ext cx="95400" cy="90360"/>
                </a:xfrm>
                <a:custGeom>
                  <a:avLst/>
                  <a:gdLst/>
                  <a:ahLst/>
                  <a:rect l="l" t="t" r="r" b="b"/>
                  <a:pathLst>
                    <a:path w="53" h="67">
                      <a:moveTo>
                        <a:pt x="26" y="0"/>
                      </a:moveTo>
                      <a:lnTo>
                        <a:pt x="53" y="67"/>
                      </a:lnTo>
                      <a:lnTo>
                        <a:pt x="0" y="6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8" name=""/>
          <p:cNvGrpSpPr/>
          <p:nvPr/>
        </p:nvGrpSpPr>
        <p:grpSpPr>
          <a:xfrm>
            <a:off x="227160" y="1768320"/>
            <a:ext cx="8414280" cy="2995200"/>
            <a:chOff x="227160" y="1768320"/>
            <a:chExt cx="8414280" cy="2995200"/>
          </a:xfrm>
        </p:grpSpPr>
        <p:grpSp>
          <p:nvGrpSpPr>
            <p:cNvPr id="289" name=""/>
            <p:cNvGrpSpPr/>
            <p:nvPr/>
          </p:nvGrpSpPr>
          <p:grpSpPr>
            <a:xfrm>
              <a:off x="227160" y="1768320"/>
              <a:ext cx="1914120" cy="228600"/>
              <a:chOff x="227160" y="1768320"/>
              <a:chExt cx="1914120" cy="2286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7160" y="1805760"/>
                <a:ext cx="353880" cy="85680"/>
                <a:chOff x="227160" y="1805760"/>
                <a:chExt cx="353880" cy="85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7160" y="1846440"/>
                  <a:ext cx="35388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62880" y="1805760"/>
                  <a:ext cx="78120" cy="8568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62400" y="1768320"/>
                <a:ext cx="1478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6600"/>
                    </a:solidFill>
                    <a:latin typeface="Arial"/>
                  </a:rPr>
                  <a:t>MID/17 – 30.5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95440" y="3607560"/>
              <a:ext cx="8046000" cy="1155960"/>
              <a:chOff x="595440" y="3607560"/>
              <a:chExt cx="8046000" cy="1155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47280" y="3638520"/>
                <a:ext cx="7943400" cy="1092600"/>
                <a:chOff x="647280" y="3638520"/>
                <a:chExt cx="7943400" cy="109260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647280" y="4059720"/>
                  <a:ext cx="1132920" cy="2016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80200" y="4059720"/>
                  <a:ext cx="1133280" cy="671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913840" y="4317120"/>
                  <a:ext cx="1132920" cy="413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047120" y="3638520"/>
                  <a:ext cx="1143360" cy="6789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90840" y="3638520"/>
                  <a:ext cx="1133280" cy="9363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324480" y="3739320"/>
                  <a:ext cx="1132920" cy="83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57400" y="373932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95440" y="3607560"/>
                <a:ext cx="8046000" cy="1155960"/>
                <a:chOff x="595440" y="3607560"/>
                <a:chExt cx="8046000" cy="1155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0240" y="4028760"/>
                  <a:ext cx="8388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95440" y="423324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68840" y="4701600"/>
                  <a:ext cx="9396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03920" y="428508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45480" y="360756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80920" y="454140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5920" y="370296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57920" y="3752280"/>
                  <a:ext cx="8352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" name=""/>
          <p:cNvGrpSpPr/>
          <p:nvPr/>
        </p:nvGrpSpPr>
        <p:grpSpPr>
          <a:xfrm>
            <a:off x="579600" y="1768320"/>
            <a:ext cx="8079480" cy="3184200"/>
            <a:chOff x="579600" y="1768320"/>
            <a:chExt cx="8079480" cy="3184200"/>
          </a:xfrm>
        </p:grpSpPr>
        <p:grpSp>
          <p:nvGrpSpPr>
            <p:cNvPr id="313" name=""/>
            <p:cNvGrpSpPr/>
            <p:nvPr/>
          </p:nvGrpSpPr>
          <p:grpSpPr>
            <a:xfrm>
              <a:off x="579600" y="4200120"/>
              <a:ext cx="8079480" cy="752400"/>
              <a:chOff x="579600" y="4200120"/>
              <a:chExt cx="8079480" cy="7524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46920" y="4262760"/>
                <a:ext cx="7945200" cy="625680"/>
                <a:chOff x="646920" y="4262760"/>
                <a:chExt cx="7945200" cy="62568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646920" y="442080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80200" y="4420800"/>
                  <a:ext cx="1133640" cy="4676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913840" y="4318200"/>
                  <a:ext cx="1133280" cy="5698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4047480" y="4263120"/>
                  <a:ext cx="1143720" cy="554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200" y="4263120"/>
                  <a:ext cx="113364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6324840" y="4262760"/>
                  <a:ext cx="113328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8480" y="4263120"/>
                  <a:ext cx="1133640" cy="1576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79600" y="4200120"/>
                <a:ext cx="8079480" cy="752400"/>
                <a:chOff x="579600" y="4200120"/>
                <a:chExt cx="8079480" cy="752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9600" y="441180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3240" y="435636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48680" y="482472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81960" y="425556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24240" y="4200120"/>
                  <a:ext cx="1357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57880" y="4512960"/>
                  <a:ext cx="1339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392960" y="420012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526600" y="435636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698560" y="1768320"/>
              <a:ext cx="1810080" cy="228600"/>
              <a:chOff x="2698560" y="1768320"/>
              <a:chExt cx="181008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3133440" y="1768320"/>
                <a:ext cx="137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669900"/>
                    </a:solidFill>
                    <a:latin typeface="Arial Narrow"/>
                  </a:rPr>
                  <a:t>NACC/21 – 24.0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698560" y="1804320"/>
                <a:ext cx="363240" cy="113400"/>
                <a:chOff x="2698560" y="1804320"/>
                <a:chExt cx="363240" cy="113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698560" y="1860840"/>
                  <a:ext cx="363240" cy="18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520" y="1804320"/>
                  <a:ext cx="120960" cy="1134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34"/>
                      </a:lnTo>
                      <a:lnTo>
                        <a:pt x="27" y="68"/>
                      </a:lnTo>
                      <a:lnTo>
                        <a:pt x="0" y="3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598320" y="1770120"/>
            <a:ext cx="8051760" cy="3320280"/>
            <a:chOff x="598320" y="1770120"/>
            <a:chExt cx="8051760" cy="3320280"/>
          </a:xfrm>
        </p:grpSpPr>
        <p:grpSp>
          <p:nvGrpSpPr>
            <p:cNvPr id="337" name=""/>
            <p:cNvGrpSpPr/>
            <p:nvPr/>
          </p:nvGrpSpPr>
          <p:grpSpPr>
            <a:xfrm>
              <a:off x="598320" y="3731400"/>
              <a:ext cx="8051760" cy="1359000"/>
              <a:chOff x="598320" y="3731400"/>
              <a:chExt cx="8051760" cy="1359000"/>
            </a:xfrm>
          </p:grpSpPr>
          <p:sp>
            <p:nvSpPr>
              <p:cNvPr id="338" name=""/>
              <p:cNvSpPr/>
              <p:nvPr/>
            </p:nvSpPr>
            <p:spPr>
              <a:xfrm>
                <a:off x="646200" y="4824720"/>
                <a:ext cx="1134360" cy="15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98320" y="3731400"/>
                <a:ext cx="8051760" cy="1359000"/>
                <a:chOff x="598320" y="3731400"/>
                <a:chExt cx="8051760" cy="1359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80920" y="4979520"/>
                  <a:ext cx="1132920" cy="5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913840" y="4566960"/>
                  <a:ext cx="1134000" cy="467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4048200" y="3941640"/>
                  <a:ext cx="1142280" cy="625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90480" y="3942000"/>
                  <a:ext cx="1134360" cy="937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324840" y="4457160"/>
                  <a:ext cx="1132920" cy="422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458120" y="3776760"/>
                  <a:ext cx="1134360" cy="680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8320" y="4777920"/>
                  <a:ext cx="1054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30880" y="4934520"/>
                  <a:ext cx="10584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865600" y="4988520"/>
                  <a:ext cx="1072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999960" y="4520880"/>
                  <a:ext cx="10584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2240" y="3895200"/>
                  <a:ext cx="105480" cy="10224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76600" y="4833720"/>
                  <a:ext cx="10440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09520" y="4411080"/>
                  <a:ext cx="10728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45680" y="3731400"/>
                  <a:ext cx="104400" cy="9936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08760" y="4824720"/>
                  <a:ext cx="37440" cy="1080"/>
                </a:xfrm>
                <a:prstGeom prst="line">
                  <a:avLst/>
                </a:prstGeom>
                <a:ln w="792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4993920" y="1770120"/>
              <a:ext cx="1609200" cy="228600"/>
              <a:chOff x="4993920" y="1770120"/>
              <a:chExt cx="160920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5333040" y="1770120"/>
                <a:ext cx="1270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00ff"/>
                    </a:solidFill>
                    <a:latin typeface="Arial Narrow"/>
                  </a:rPr>
                  <a:t>SAM/13 – 23.2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993920" y="1815120"/>
                <a:ext cx="250920" cy="95400"/>
                <a:chOff x="4993920" y="1815120"/>
                <a:chExt cx="250920" cy="954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993920" y="1858680"/>
                  <a:ext cx="250920" cy="1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76360" y="1815120"/>
                  <a:ext cx="93240" cy="954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"/>
          <p:cNvGrpSpPr/>
          <p:nvPr/>
        </p:nvGrpSpPr>
        <p:grpSpPr>
          <a:xfrm>
            <a:off x="560520" y="1770120"/>
            <a:ext cx="8321760" cy="1869120"/>
            <a:chOff x="560520" y="1770120"/>
            <a:chExt cx="8321760" cy="1869120"/>
          </a:xfrm>
        </p:grpSpPr>
        <p:grpSp>
          <p:nvGrpSpPr>
            <p:cNvPr id="361" name=""/>
            <p:cNvGrpSpPr/>
            <p:nvPr/>
          </p:nvGrpSpPr>
          <p:grpSpPr>
            <a:xfrm>
              <a:off x="560520" y="2428200"/>
              <a:ext cx="8090280" cy="1211040"/>
              <a:chOff x="560520" y="2428200"/>
              <a:chExt cx="8090280" cy="121104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27480" y="3115440"/>
                <a:ext cx="1134360" cy="4676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61840" y="3115800"/>
                <a:ext cx="1132560" cy="1094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4760" y="3225600"/>
                <a:ext cx="1134360" cy="1022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9120" y="3327840"/>
                <a:ext cx="114192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191560" y="3181320"/>
                <a:ext cx="1103040" cy="35676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325920" y="2491200"/>
                <a:ext cx="1132920" cy="6796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58840" y="2491200"/>
                <a:ext cx="113436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0520" y="3520440"/>
                <a:ext cx="12456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694880" y="3051000"/>
                <a:ext cx="12348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29240" y="3161160"/>
                <a:ext cx="12456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3600" y="3263040"/>
                <a:ext cx="12312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24600" y="3474000"/>
                <a:ext cx="12420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58960" y="3106800"/>
                <a:ext cx="12312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2960" y="2428200"/>
                <a:ext cx="12456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27320" y="2638440"/>
                <a:ext cx="12348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42520" y="1770120"/>
              <a:ext cx="2039760" cy="228600"/>
              <a:chOff x="6842520" y="1770120"/>
              <a:chExt cx="2039760" cy="228600"/>
            </a:xfrm>
          </p:grpSpPr>
          <p:sp>
            <p:nvSpPr>
              <p:cNvPr id="378" name=""/>
              <p:cNvSpPr/>
              <p:nvPr/>
            </p:nvSpPr>
            <p:spPr>
              <a:xfrm>
                <a:off x="7375680" y="1770120"/>
                <a:ext cx="150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8080"/>
                    </a:solidFill>
                    <a:latin typeface="Arial Narrow"/>
                  </a:rPr>
                  <a:t>WACAF/21 – 49.37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842520" y="1801080"/>
                <a:ext cx="448920" cy="123840"/>
                <a:chOff x="6842520" y="1801080"/>
                <a:chExt cx="448920" cy="123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42520" y="1869480"/>
                  <a:ext cx="448920" cy="216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991920" y="1801080"/>
                  <a:ext cx="135720" cy="123840"/>
                </a:xfrm>
                <a:prstGeom prst="ellipse">
                  <a:avLst/>
                </a:prstGeom>
                <a:solidFill>
                  <a:srgbClr val="006699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791720" y="87012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effective implementation of the critical element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40" y="152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172720" y="6297480"/>
            <a:ext cx="59364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Resolu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f Safe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Issu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360" y="60357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0360" y="546588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881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3084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37242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152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568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199872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4130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87160" y="6294600"/>
            <a:ext cx="607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Primar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Avi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Legisl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644480" y="6294600"/>
            <a:ext cx="6577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Specif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pera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Regul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694960" y="6294600"/>
            <a:ext cx="78876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AA Structu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and Oversigh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Func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68640" y="6294600"/>
            <a:ext cx="5310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Guid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83480" y="6294600"/>
            <a:ext cx="555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Qualifi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Personn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90400" y="6294600"/>
            <a:ext cx="8053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Licensing  an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ertific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198920" y="6294600"/>
            <a:ext cx="677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Continue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Surveillanc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3120" y="1330200"/>
            <a:ext cx="8499600" cy="487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440" y="62006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440" y="55022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440" y="48150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440" y="41148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440" y="3416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440" y="27162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440" y="2030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3960" y="1160640"/>
            <a:ext cx="84996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428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6712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78160" y="1330200"/>
            <a:ext cx="32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0216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1500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2784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04068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44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0040" y="5502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0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040" y="41148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040" y="3416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0040" y="2716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0040" y="203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2920" y="11606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7720" y="3747960"/>
            <a:ext cx="8665920" cy="1004760"/>
            <a:chOff x="477720" y="3747960"/>
            <a:chExt cx="8665920" cy="1004760"/>
          </a:xfrm>
        </p:grpSpPr>
        <p:sp>
          <p:nvSpPr>
            <p:cNvPr id="426" name=""/>
            <p:cNvSpPr/>
            <p:nvPr/>
          </p:nvSpPr>
          <p:spPr>
            <a:xfrm>
              <a:off x="5433840" y="3822480"/>
              <a:ext cx="1212840" cy="771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77720" y="3747960"/>
              <a:ext cx="8665920" cy="1004760"/>
              <a:chOff x="477720" y="3747960"/>
              <a:chExt cx="8665920" cy="100476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72760" y="4249080"/>
                <a:ext cx="1212840" cy="282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85600" y="4249440"/>
                <a:ext cx="1212840" cy="417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998440" y="4188960"/>
                <a:ext cx="1211400" cy="477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209840" y="3833640"/>
                <a:ext cx="1224000" cy="3556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646680" y="3833280"/>
                <a:ext cx="1212840" cy="7714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59520" y="3833640"/>
                <a:ext cx="1212840" cy="730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77720" y="3747960"/>
                <a:ext cx="8665920" cy="1004760"/>
                <a:chOff x="477720" y="3747960"/>
                <a:chExt cx="8665920" cy="10047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77720" y="445752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712520" y="41637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925360" y="45813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38200" y="410364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6076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73600" y="4519440"/>
                  <a:ext cx="144360" cy="173160"/>
                </a:xfrm>
                <a:custGeom>
                  <a:avLst/>
                  <a:gdLst/>
                  <a:ahLst/>
                  <a:rect l="l" t="t" r="r" b="b"/>
                  <a:pathLst>
                    <a:path w="84" h="109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9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8644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999280" y="382104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3" name=""/>
          <p:cNvGrpSpPr/>
          <p:nvPr/>
        </p:nvGrpSpPr>
        <p:grpSpPr>
          <a:xfrm>
            <a:off x="488880" y="3048120"/>
            <a:ext cx="8602560" cy="1411200"/>
            <a:chOff x="488880" y="3048120"/>
            <a:chExt cx="8602560" cy="1411200"/>
          </a:xfrm>
        </p:grpSpPr>
        <p:sp>
          <p:nvSpPr>
            <p:cNvPr id="444" name=""/>
            <p:cNvSpPr/>
            <p:nvPr/>
          </p:nvSpPr>
          <p:spPr>
            <a:xfrm flipV="1">
              <a:off x="541080" y="3133800"/>
              <a:ext cx="1212840" cy="147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53920" y="3133800"/>
              <a:ext cx="121284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66760" y="3133800"/>
              <a:ext cx="121140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178160" y="3110040"/>
              <a:ext cx="1224000" cy="237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02160" y="3110040"/>
              <a:ext cx="1212840" cy="5889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615000" y="3133800"/>
              <a:ext cx="1212840" cy="5652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7840" y="3133800"/>
              <a:ext cx="1212840" cy="367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80" y="3219480"/>
              <a:ext cx="10296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0172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4560" y="43354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9600" y="304812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2440" y="363708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280" y="3071880"/>
              <a:ext cx="10332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88120" y="311004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671480" y="4924440"/>
            <a:ext cx="174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4320" y="5305320"/>
            <a:ext cx="1749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1972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32560" y="4888080"/>
            <a:ext cx="174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540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58240" y="4740120"/>
            <a:ext cx="1746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280" y="1020600"/>
            <a:ext cx="8839440" cy="281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cecfe"/>
              </a:gs>
              <a:gs pos="100000">
                <a:srgbClr val="ccccff"/>
              </a:gs>
            </a:gsLst>
            <a:lin ang="5400000"/>
          </a:gra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080" y="1038240"/>
            <a:ext cx="21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OBAL: 178 (28.51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25800" y="1160640"/>
            <a:ext cx="285840" cy="1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1200" y="1098720"/>
            <a:ext cx="95040" cy="123480"/>
          </a:xfrm>
          <a:custGeom>
            <a:avLst/>
            <a:gdLst/>
            <a:ahLst/>
            <a:rect l="l" t="t" r="r" b="b"/>
            <a:pathLst>
              <a:path w="60" h="78">
                <a:moveTo>
                  <a:pt x="30" y="0"/>
                </a:moveTo>
                <a:lnTo>
                  <a:pt x="60" y="78"/>
                </a:lnTo>
                <a:lnTo>
                  <a:pt x="0" y="78"/>
                </a:lnTo>
                <a:lnTo>
                  <a:pt x="3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31240" y="1038240"/>
            <a:ext cx="306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ENTRAL AMERICA : 6 (40.3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4760" y="1082520"/>
            <a:ext cx="122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6560" y="1160640"/>
            <a:ext cx="284040" cy="1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02240" y="1038240"/>
            <a:ext cx="16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: 11 (18.2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9440" y="4508280"/>
            <a:ext cx="8637840" cy="990000"/>
            <a:chOff x="469440" y="4508280"/>
            <a:chExt cx="8637840" cy="990000"/>
          </a:xfrm>
        </p:grpSpPr>
        <p:grpSp>
          <p:nvGrpSpPr>
            <p:cNvPr id="474" name=""/>
            <p:cNvGrpSpPr/>
            <p:nvPr/>
          </p:nvGrpSpPr>
          <p:grpSpPr>
            <a:xfrm>
              <a:off x="4112640" y="4766760"/>
              <a:ext cx="144720" cy="172440"/>
              <a:chOff x="4112640" y="4766760"/>
              <a:chExt cx="144720" cy="1724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112640" y="4766760"/>
                <a:ext cx="144720" cy="172440"/>
                <a:chOff x="4112640" y="4766760"/>
                <a:chExt cx="144720" cy="17244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flipV="1">
                  <a:off x="4112640" y="4766760"/>
                  <a:ext cx="730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186080" y="4852440"/>
                  <a:ext cx="712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112640" y="4852440"/>
                  <a:ext cx="730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186080" y="4766760"/>
                  <a:ext cx="712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186080" y="4766760"/>
                  <a:ext cx="144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4186080" y="4852440"/>
                <a:ext cx="1440" cy="867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69440" y="4508280"/>
              <a:ext cx="8637840" cy="990000"/>
              <a:chOff x="469440" y="4508280"/>
              <a:chExt cx="8637840" cy="9900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541080" y="5022360"/>
                <a:ext cx="1212840" cy="2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53920" y="50227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178160" y="4604760"/>
                <a:ext cx="122400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2966760" y="4838040"/>
                <a:ext cx="1211400" cy="56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02160" y="46051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615000" y="460476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27840" y="4605120"/>
                <a:ext cx="121284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97160" y="4740120"/>
                <a:ext cx="17460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328720" y="4519080"/>
                <a:ext cx="144720" cy="172800"/>
                <a:chOff x="5328720" y="4519080"/>
                <a:chExt cx="144720" cy="1728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328720" y="4519080"/>
                  <a:ext cx="144720" cy="172800"/>
                  <a:chOff x="5328720" y="4519080"/>
                  <a:chExt cx="144720" cy="172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5328720" y="45190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402160" y="46047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328720" y="46047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>
                    <a:off x="5402160" y="45190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402160" y="45190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5402160" y="46047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540120" y="4885920"/>
                <a:ext cx="144720" cy="172440"/>
                <a:chOff x="6540120" y="4885920"/>
                <a:chExt cx="144720" cy="17244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6540120" y="4885920"/>
                  <a:ext cx="144720" cy="172440"/>
                  <a:chOff x="6540120" y="4885920"/>
                  <a:chExt cx="144720" cy="17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6540120" y="48859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613560" y="4971600"/>
                    <a:ext cx="712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6540120" y="4971600"/>
                    <a:ext cx="730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613560" y="48859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6613560" y="48859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6613560" y="4971600"/>
                  <a:ext cx="144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751160" y="4508280"/>
                <a:ext cx="144720" cy="172800"/>
                <a:chOff x="7751160" y="4508280"/>
                <a:chExt cx="144720" cy="1728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7751160" y="4508280"/>
                  <a:ext cx="144720" cy="172800"/>
                  <a:chOff x="7751160" y="4508280"/>
                  <a:chExt cx="144720" cy="172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7751160" y="45082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824600" y="45939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7751160" y="45939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7824600" y="45082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824600" y="45082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824600" y="45939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962560" y="4736520"/>
                <a:ext cx="144720" cy="172800"/>
                <a:chOff x="8962560" y="4736520"/>
                <a:chExt cx="144720" cy="1728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8962560" y="4736520"/>
                  <a:ext cx="144720" cy="172800"/>
                  <a:chOff x="8962560" y="4736520"/>
                  <a:chExt cx="144720" cy="1728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8962560" y="47365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9036000" y="48222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8962560" y="48222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9036000" y="47365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9036000" y="47365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9036000" y="48222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898360" y="5325480"/>
                <a:ext cx="144720" cy="172800"/>
                <a:chOff x="2898360" y="5325480"/>
                <a:chExt cx="144720" cy="17280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898360" y="5325480"/>
                  <a:ext cx="144720" cy="172800"/>
                  <a:chOff x="2898360" y="5325480"/>
                  <a:chExt cx="144720" cy="172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898360" y="53254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971800" y="54111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2898360" y="54111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2971800" y="53254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2971800" y="53254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2971800" y="54111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683720" y="4950720"/>
                <a:ext cx="144720" cy="172800"/>
                <a:chOff x="1683720" y="4950720"/>
                <a:chExt cx="144720" cy="1728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683720" y="4950720"/>
                  <a:ext cx="144720" cy="172800"/>
                  <a:chOff x="1683720" y="4950720"/>
                  <a:chExt cx="144720" cy="172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1683720" y="49507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757160" y="50364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1683720" y="50364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1757160" y="49507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1757160" y="49507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1757160" y="50364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69440" y="4953960"/>
                <a:ext cx="144720" cy="172800"/>
                <a:chOff x="469440" y="4953960"/>
                <a:chExt cx="144720" cy="1728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69440" y="4953960"/>
                  <a:ext cx="144720" cy="172800"/>
                  <a:chOff x="469440" y="4953960"/>
                  <a:chExt cx="144720" cy="172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469440" y="495396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42880" y="503964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69440" y="503964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542880" y="495396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42880" y="495396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542880" y="503964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7" name=""/>
          <p:cNvGrpSpPr/>
          <p:nvPr/>
        </p:nvGrpSpPr>
        <p:grpSpPr>
          <a:xfrm>
            <a:off x="6924240" y="1074600"/>
            <a:ext cx="144720" cy="173160"/>
            <a:chOff x="6924240" y="1074600"/>
            <a:chExt cx="144720" cy="173160"/>
          </a:xfrm>
        </p:grpSpPr>
        <p:grpSp>
          <p:nvGrpSpPr>
            <p:cNvPr id="548" name=""/>
            <p:cNvGrpSpPr/>
            <p:nvPr/>
          </p:nvGrpSpPr>
          <p:grpSpPr>
            <a:xfrm>
              <a:off x="6924240" y="1074600"/>
              <a:ext cx="144720" cy="173160"/>
              <a:chOff x="6924240" y="1074600"/>
              <a:chExt cx="144720" cy="173160"/>
            </a:xfrm>
          </p:grpSpPr>
          <p:sp>
            <p:nvSpPr>
              <p:cNvPr id="549" name=""/>
              <p:cNvSpPr/>
              <p:nvPr/>
            </p:nvSpPr>
            <p:spPr>
              <a:xfrm flipH="1" flipV="1">
                <a:off x="6924240" y="1074600"/>
                <a:ext cx="730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97680" y="1160280"/>
                <a:ext cx="712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924240" y="1160280"/>
                <a:ext cx="730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997680" y="1074600"/>
                <a:ext cx="712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997680" y="1074600"/>
                <a:ext cx="144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997680" y="1160280"/>
              <a:ext cx="1440" cy="874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0666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findings and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91720" y="609480"/>
            <a:ext cx="70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Lack of effective implementation of the critical elements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40" y="15228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838080"/>
            <a:ext cx="9144000" cy="6019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Tahoma"/>
              </a:rPr>
              <a:t>Association between findings and regional accident rates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042920" y="5996160"/>
            <a:ext cx="77169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280" y="5786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880" y="52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8880" y="460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8880" y="3963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8880" y="2060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8880" y="335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8880" y="2703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8880" y="140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8880" y="833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0520" y="869760"/>
            <a:ext cx="0" cy="5127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57320" y="5991120"/>
            <a:ext cx="766116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4100400"/>
            <a:ext cx="764856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81080" y="347184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1080" y="44100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81080" y="90180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1080" y="12096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1080" y="155412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81080" y="18684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1080" y="248616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81080" y="3135240"/>
            <a:ext cx="7650000" cy="3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81080" y="378468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1080" y="569592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81080" y="4761000"/>
            <a:ext cx="7650000" cy="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03400" y="2171880"/>
            <a:ext cx="765000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90440" y="2819520"/>
            <a:ext cx="765036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81080" y="506556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29080" y="838080"/>
            <a:ext cx="46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838080"/>
            <a:ext cx="612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91040" y="838080"/>
            <a:ext cx="64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7220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144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215200" y="851040"/>
            <a:ext cx="3240" cy="51559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8760" y="6070680"/>
            <a:ext cx="1122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sia and Pa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6070680"/>
            <a:ext cx="665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Souther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meri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41320" y="6070680"/>
            <a:ext cx="12290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Easter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Southern Afri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13200" y="6070680"/>
            <a:ext cx="101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Europea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. Atlantic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325040" y="6072120"/>
            <a:ext cx="814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Middle E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34120" y="6070680"/>
            <a:ext cx="1122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N. / C. Americ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nd Caribbe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686720" y="6070680"/>
            <a:ext cx="1089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Western 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Central Africa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081080" y="1081080"/>
            <a:ext cx="7650000" cy="4809960"/>
            <a:chOff x="1081080" y="1081080"/>
            <a:chExt cx="7650000" cy="4809960"/>
          </a:xfrm>
        </p:grpSpPr>
        <p:grpSp>
          <p:nvGrpSpPr>
            <p:cNvPr id="601" name=""/>
            <p:cNvGrpSpPr/>
            <p:nvPr/>
          </p:nvGrpSpPr>
          <p:grpSpPr>
            <a:xfrm>
              <a:off x="1139760" y="1081080"/>
              <a:ext cx="7129440" cy="4809960"/>
              <a:chOff x="1139760" y="1081080"/>
              <a:chExt cx="7129440" cy="4809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1177920" y="4722840"/>
                <a:ext cx="1170000" cy="1092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73480" y="4724280"/>
                <a:ext cx="1147680" cy="112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556080" y="5640480"/>
                <a:ext cx="1155600" cy="210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21400" y="5637240"/>
                <a:ext cx="1157040" cy="230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91040" y="5503680"/>
                <a:ext cx="1170000" cy="3711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7093080" y="1147680"/>
                <a:ext cx="1133280" cy="4338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39760" y="57484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301840" y="46576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87680" y="58053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78200" y="559116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45320" y="5810400"/>
                <a:ext cx="99720" cy="8064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21440" y="543384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69120" y="10810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081080" y="1231920"/>
              <a:ext cx="7650000" cy="4151160"/>
              <a:chOff x="1081080" y="1231920"/>
              <a:chExt cx="7650000" cy="4151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081080" y="5381640"/>
                <a:ext cx="76500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1230480" y="1231920"/>
                <a:ext cx="6705360" cy="304920"/>
                <a:chOff x="1230480" y="1231920"/>
                <a:chExt cx="6705360" cy="3049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575000" y="1231920"/>
                  <a:ext cx="6360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6600"/>
                      </a:solidFill>
                      <a:latin typeface="Arial Narrow"/>
                    </a:rPr>
                    <a:t>Accident rates per 1 000 000 departures - scheduled (International and Domestic, 199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1230480" y="1343160"/>
                  <a:ext cx="360360" cy="81000"/>
                  <a:chOff x="1230480" y="1343160"/>
                  <a:chExt cx="360360" cy="810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230480" y="1386000"/>
                    <a:ext cx="360360" cy="180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362240" y="1343160"/>
                    <a:ext cx="997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67">
                        <a:moveTo>
                          <a:pt x="40" y="0"/>
                        </a:moveTo>
                        <a:lnTo>
                          <a:pt x="81" y="67"/>
                        </a:lnTo>
                        <a:lnTo>
                          <a:pt x="0" y="6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84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2" name=""/>
          <p:cNvGrpSpPr/>
          <p:nvPr/>
        </p:nvGrpSpPr>
        <p:grpSpPr>
          <a:xfrm>
            <a:off x="1147680" y="896760"/>
            <a:ext cx="7128000" cy="3967200"/>
            <a:chOff x="1147680" y="896760"/>
            <a:chExt cx="7128000" cy="3967200"/>
          </a:xfrm>
        </p:grpSpPr>
        <p:grpSp>
          <p:nvGrpSpPr>
            <p:cNvPr id="623" name=""/>
            <p:cNvGrpSpPr/>
            <p:nvPr/>
          </p:nvGrpSpPr>
          <p:grpSpPr>
            <a:xfrm>
              <a:off x="1147680" y="2789280"/>
              <a:ext cx="7128000" cy="2074680"/>
              <a:chOff x="1147680" y="2789280"/>
              <a:chExt cx="7128000" cy="20746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70240" y="3521160"/>
                <a:ext cx="1157040" cy="1312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195560" y="3521160"/>
                <a:ext cx="1139760" cy="8604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533760" y="4191120"/>
                <a:ext cx="1201680" cy="635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35440" y="4191120"/>
                <a:ext cx="1174680" cy="357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7054920" y="2838600"/>
                <a:ext cx="1192320" cy="1643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7680" y="435276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09760" y="3473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90920" y="478800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84680" y="414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96120" y="2789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50000" y="448956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18200" y="441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4" idx="3"/>
                <a:endCxn id="635" idx="1"/>
              </p:cNvCxnSpPr>
              <p:nvPr/>
            </p:nvCxnSpPr>
            <p:spPr>
              <a:xfrm flipV="1">
                <a:off x="5943600" y="4453920"/>
                <a:ext cx="1061280" cy="73800"/>
              </a:xfrm>
              <a:prstGeom prst="straightConnector1">
                <a:avLst/>
              </a:prstGeom>
              <a:ln w="38160">
                <a:solidFill>
                  <a:srgbClr val="0000cc"/>
                </a:solidFill>
                <a:miter/>
              </a:ln>
            </p:spPr>
          </p:cxnSp>
        </p:grpSp>
        <p:grpSp>
          <p:nvGrpSpPr>
            <p:cNvPr id="637" name=""/>
            <p:cNvGrpSpPr/>
            <p:nvPr/>
          </p:nvGrpSpPr>
          <p:grpSpPr>
            <a:xfrm>
              <a:off x="1230480" y="896760"/>
              <a:ext cx="6696000" cy="304920"/>
              <a:chOff x="1230480" y="896760"/>
              <a:chExt cx="6696000" cy="30492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5280" y="896760"/>
                <a:ext cx="6361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cc"/>
                    </a:solidFill>
                    <a:latin typeface="Arial Narrow"/>
                  </a:rPr>
                  <a:t>Audit Findings – Lack of Effective Implementation of SARPs, (178 audit report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230480" y="1019160"/>
                <a:ext cx="360360" cy="75960"/>
                <a:chOff x="1230480" y="1019160"/>
                <a:chExt cx="360360" cy="75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230480" y="10555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368720" y="1019160"/>
                  <a:ext cx="79200" cy="75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"/>
          <p:cNvGrpSpPr/>
          <p:nvPr/>
        </p:nvGrpSpPr>
        <p:grpSpPr>
          <a:xfrm>
            <a:off x="1149480" y="1562040"/>
            <a:ext cx="7127640" cy="4467240"/>
            <a:chOff x="1149480" y="1562040"/>
            <a:chExt cx="7127640" cy="4467240"/>
          </a:xfrm>
        </p:grpSpPr>
        <p:grpSp>
          <p:nvGrpSpPr>
            <p:cNvPr id="643" name=""/>
            <p:cNvGrpSpPr/>
            <p:nvPr/>
          </p:nvGrpSpPr>
          <p:grpSpPr>
            <a:xfrm>
              <a:off x="1149480" y="2109960"/>
              <a:ext cx="7127640" cy="3919320"/>
              <a:chOff x="1149480" y="2109960"/>
              <a:chExt cx="7127640" cy="391932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192320" y="2139480"/>
                <a:ext cx="7038720" cy="3829320"/>
                <a:chOff x="1192320" y="2139480"/>
                <a:chExt cx="7038720" cy="3829320"/>
              </a:xfrm>
            </p:grpSpPr>
            <p:sp>
              <p:nvSpPr>
                <p:cNvPr id="645" name=""/>
                <p:cNvSpPr/>
                <p:nvPr/>
              </p:nvSpPr>
              <p:spPr>
                <a:xfrm flipV="1">
                  <a:off x="1192320" y="5346360"/>
                  <a:ext cx="1170360" cy="46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362680" y="5346360"/>
                  <a:ext cx="1169280" cy="62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3532320" y="5595120"/>
                  <a:ext cx="1188000" cy="373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720320" y="5595120"/>
                  <a:ext cx="1170360" cy="310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5891040" y="5813280"/>
                  <a:ext cx="1170720" cy="9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061760" y="2139480"/>
                  <a:ext cx="1169280" cy="3673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149480" y="5776920"/>
                <a:ext cx="8388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316240" y="531036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487680" y="59342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193240" y="210996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021440" y="5776920"/>
                <a:ext cx="8424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45320" y="587232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680000" y="552456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249200" y="1562040"/>
              <a:ext cx="6676920" cy="304920"/>
              <a:chOff x="1249200" y="1562040"/>
              <a:chExt cx="6676920" cy="304920"/>
            </a:xfrm>
          </p:grpSpPr>
          <p:sp>
            <p:nvSpPr>
              <p:cNvPr id="659" name=""/>
              <p:cNvSpPr/>
              <p:nvPr/>
            </p:nvSpPr>
            <p:spPr>
              <a:xfrm>
                <a:off x="1572840" y="1562040"/>
                <a:ext cx="6353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0000"/>
                    </a:solidFill>
                    <a:latin typeface="Arial Narrow"/>
                  </a:rPr>
                  <a:t>Accident rates per 1 000 000 departures - scheduled (International and Domestic, 2000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1249200" y="1666800"/>
                <a:ext cx="360360" cy="95040"/>
                <a:chOff x="1249200" y="1666800"/>
                <a:chExt cx="360360" cy="95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249200" y="170964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377720" y="1666800"/>
                  <a:ext cx="83880" cy="9504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231480" y="-763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pendix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713160"/>
          </a:xfrm>
          <a:prstGeom prst="rect">
            <a:avLst/>
          </a:prstGeom>
          <a:gradFill rotWithShape="0">
            <a:gsLst>
              <a:gs pos="0">
                <a:srgbClr val="afafdb"/>
              </a:gs>
              <a:gs pos="50000">
                <a:srgbClr val="ccccff"/>
              </a:gs>
              <a:gs pos="100000">
                <a:srgbClr val="af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Benefits of maintaining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Universal, Regular and Mandatory Aud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91000" y="6039000"/>
            <a:ext cx="758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sol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f Safe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Issu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9320" y="1263600"/>
            <a:ext cx="7981920" cy="464184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720" y="472932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6720" y="415908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6720" y="357192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6720" y="300204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6720" y="241920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720" y="184788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" y="126360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1116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52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95720" y="1263600"/>
            <a:ext cx="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4664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88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31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67240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6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8560" y="5884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8560" y="53132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8560" y="47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8560" y="4159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8560" y="35719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560" y="30020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8560" y="241920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8560" y="1847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8560" y="1263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6720" y="5897520"/>
            <a:ext cx="800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66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1116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52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095720" y="588492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24664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88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531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867240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0360" y="577692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0360" y="520704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4622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40496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4653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28940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2309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" y="1739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11541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02920" y="6035760"/>
            <a:ext cx="775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Prim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Avi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Legisl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55560" y="6035760"/>
            <a:ext cx="838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Specif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pera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gul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86960" y="6035760"/>
            <a:ext cx="10065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AA Stru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and Oversig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97000" y="6035760"/>
            <a:ext cx="675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Guid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07160" y="6035760"/>
            <a:ext cx="7077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Qualif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Techn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Personn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79160" y="6035760"/>
            <a:ext cx="1027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Licensing 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ertif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06400" y="6035760"/>
            <a:ext cx="8618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Continu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Surveill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Oblig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720" y="531324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622440" y="914400"/>
            <a:ext cx="8064360" cy="3657240"/>
            <a:chOff x="622440" y="914400"/>
            <a:chExt cx="8064360" cy="3657240"/>
          </a:xfrm>
        </p:grpSpPr>
        <p:sp>
          <p:nvSpPr>
            <p:cNvPr id="718" name=""/>
            <p:cNvSpPr/>
            <p:nvPr/>
          </p:nvSpPr>
          <p:spPr>
            <a:xfrm>
              <a:off x="2895480" y="1062000"/>
              <a:ext cx="381240" cy="11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22440" y="914400"/>
              <a:ext cx="8064360" cy="3657240"/>
              <a:chOff x="622440" y="914400"/>
              <a:chExt cx="8064360" cy="3657240"/>
            </a:xfrm>
          </p:grpSpPr>
          <p:sp>
            <p:nvSpPr>
              <p:cNvPr id="720" name=""/>
              <p:cNvSpPr/>
              <p:nvPr/>
            </p:nvSpPr>
            <p:spPr>
              <a:xfrm>
                <a:off x="3228120" y="914400"/>
                <a:ext cx="24879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Initial Audit: 22 States (21.82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71800" y="992880"/>
                <a:ext cx="109440" cy="1494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622440" y="1999800"/>
                <a:ext cx="8064360" cy="2571840"/>
                <a:chOff x="622440" y="1999800"/>
                <a:chExt cx="8064360" cy="2571840"/>
              </a:xfrm>
            </p:grpSpPr>
            <p:cxnSp>
              <p:nvCxnSpPr>
                <p:cNvPr id="723" name=""/>
                <p:cNvCxnSpPr/>
                <p:nvPr/>
              </p:nvCxnSpPr>
              <p:spPr>
                <a:xfrm flipV="1">
                  <a:off x="2987640" y="3854160"/>
                  <a:ext cx="1070640" cy="4579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4" name=""/>
                <p:cNvCxnSpPr/>
                <p:nvPr/>
              </p:nvCxnSpPr>
              <p:spPr>
                <a:xfrm>
                  <a:off x="1836720" y="3398760"/>
                  <a:ext cx="1086480" cy="8676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5" name=""/>
                <p:cNvCxnSpPr/>
                <p:nvPr/>
              </p:nvCxnSpPr>
              <p:spPr>
                <a:xfrm flipV="1">
                  <a:off x="4122720" y="2455560"/>
                  <a:ext cx="1099440" cy="13723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6" name=""/>
                <p:cNvCxnSpPr/>
                <p:nvPr/>
              </p:nvCxnSpPr>
              <p:spPr>
                <a:xfrm>
                  <a:off x="5275080" y="2455560"/>
                  <a:ext cx="1084680" cy="20275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7" name=""/>
                <p:cNvCxnSpPr/>
                <p:nvPr/>
              </p:nvCxnSpPr>
              <p:spPr>
                <a:xfrm flipV="1">
                  <a:off x="6413400" y="2917440"/>
                  <a:ext cx="1085040" cy="15660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8" name=""/>
                <p:cNvCxnSpPr/>
                <p:nvPr/>
              </p:nvCxnSpPr>
              <p:spPr>
                <a:xfrm flipV="1">
                  <a:off x="7551720" y="2004480"/>
                  <a:ext cx="1078200" cy="85968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9" name=""/>
                <p:cNvCxnSpPr/>
                <p:nvPr/>
              </p:nvCxnSpPr>
              <p:spPr>
                <a:xfrm flipV="1">
                  <a:off x="704520" y="3352320"/>
                  <a:ext cx="1067400" cy="3391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730" name=""/>
                <p:cNvSpPr/>
                <p:nvPr/>
              </p:nvSpPr>
              <p:spPr>
                <a:xfrm flipV="1">
                  <a:off x="622440" y="364824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741320" y="3289320"/>
                  <a:ext cx="10980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2900520" y="4231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4037040" y="378468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5186520" y="238140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6335640" y="442188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8577360" y="1999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446960" y="289800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8" name=""/>
          <p:cNvGrpSpPr/>
          <p:nvPr/>
        </p:nvGrpSpPr>
        <p:grpSpPr>
          <a:xfrm>
            <a:off x="609480" y="942840"/>
            <a:ext cx="8307000" cy="4619880"/>
            <a:chOff x="609480" y="942840"/>
            <a:chExt cx="8307000" cy="4619880"/>
          </a:xfrm>
        </p:grpSpPr>
        <p:sp>
          <p:nvSpPr>
            <p:cNvPr id="739" name=""/>
            <p:cNvSpPr/>
            <p:nvPr/>
          </p:nvSpPr>
          <p:spPr>
            <a:xfrm>
              <a:off x="5796000" y="1044720"/>
              <a:ext cx="312840" cy="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09480" y="942840"/>
              <a:ext cx="8307000" cy="4619880"/>
              <a:chOff x="609480" y="942840"/>
              <a:chExt cx="8307000" cy="4619880"/>
            </a:xfrm>
          </p:grpSpPr>
          <p:sp>
            <p:nvSpPr>
              <p:cNvPr id="741" name=""/>
              <p:cNvSpPr/>
              <p:nvPr/>
            </p:nvSpPr>
            <p:spPr>
              <a:xfrm>
                <a:off x="6171120" y="942840"/>
                <a:ext cx="274536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Audit Follow-up: 22 States (7.20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42080" y="960480"/>
                <a:ext cx="218880" cy="222120"/>
              </a:xfrm>
              <a:prstGeom prst="sun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609480" y="4514760"/>
                <a:ext cx="8115480" cy="1047960"/>
                <a:chOff x="609480" y="4514760"/>
                <a:chExt cx="8115480" cy="104796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684360" y="4851360"/>
                  <a:ext cx="1144440" cy="23184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28800" y="4851360"/>
                  <a:ext cx="1141560" cy="5032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2952720" y="5312880"/>
                  <a:ext cx="1143000" cy="414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4095720" y="4851000"/>
                  <a:ext cx="1150920" cy="4618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6640" y="4851360"/>
                  <a:ext cx="1141560" cy="6127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6388200" y="4811760"/>
                  <a:ext cx="1143000" cy="6523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7531200" y="4622400"/>
                  <a:ext cx="1141200" cy="1890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80" y="493380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01720" y="47433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505720" y="45147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91520" y="471168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84480" y="5187960"/>
                  <a:ext cx="21924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828880" y="52005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286680" y="5340240"/>
                  <a:ext cx="21888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37200" y="475632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"/>
          <p:cNvGrpSpPr/>
          <p:nvPr/>
        </p:nvGrpSpPr>
        <p:grpSpPr>
          <a:xfrm>
            <a:off x="380880" y="914400"/>
            <a:ext cx="8337600" cy="2487600"/>
            <a:chOff x="380880" y="914400"/>
            <a:chExt cx="8337600" cy="2487600"/>
          </a:xfrm>
        </p:grpSpPr>
        <p:grpSp>
          <p:nvGrpSpPr>
            <p:cNvPr id="760" name=""/>
            <p:cNvGrpSpPr/>
            <p:nvPr/>
          </p:nvGrpSpPr>
          <p:grpSpPr>
            <a:xfrm>
              <a:off x="380880" y="914400"/>
              <a:ext cx="2446560" cy="259560"/>
              <a:chOff x="380880" y="914400"/>
              <a:chExt cx="2446560" cy="259560"/>
            </a:xfrm>
          </p:grpSpPr>
          <p:sp>
            <p:nvSpPr>
              <p:cNvPr id="761" name=""/>
              <p:cNvSpPr/>
              <p:nvPr/>
            </p:nvSpPr>
            <p:spPr>
              <a:xfrm>
                <a:off x="380880" y="1042920"/>
                <a:ext cx="235080" cy="1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2960" y="914400"/>
                <a:ext cx="218448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Global: 17</a:t>
                </a:r>
                <a:r>
                  <a:rPr b="0" lang="fr-CA" sz="1700" spc="-1" strike="noStrike">
                    <a:solidFill>
                      <a:srgbClr val="0000ff"/>
                    </a:solidFill>
                    <a:latin typeface="Arial Narrow"/>
                  </a:rPr>
                  <a:t>8</a:t>
                </a:r>
                <a:r>
                  <a:rPr b="0" lang="en-US" sz="1700" spc="-1" strike="noStrike">
                    <a:solidFill>
                      <a:srgbClr val="0000ff"/>
                    </a:solidFill>
                    <a:latin typeface="Arial Narrow"/>
                  </a:rPr>
                  <a:t> States(28.79%)</a:t>
                </a:r>
                <a:endParaRPr b="0" lang="en-US" sz="1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8760" y="985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9480" y="1733400"/>
              <a:ext cx="8109000" cy="1668600"/>
              <a:chOff x="609480" y="1733400"/>
              <a:chExt cx="8109000" cy="16686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2952720" y="2623680"/>
                <a:ext cx="11430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095720" y="1849320"/>
                <a:ext cx="1150920" cy="7747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46640" y="1849320"/>
                <a:ext cx="1143000" cy="14940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389640" y="1780920"/>
                <a:ext cx="1141560" cy="1562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31200" y="1781280"/>
                <a:ext cx="1141200" cy="1746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6720" y="2624040"/>
                <a:ext cx="1146240" cy="488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12960" y="2624040"/>
                <a:ext cx="11412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9480" y="305280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38440" y="25718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76400" y="328788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577360" y="18860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459560" y="173340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10440" y="3244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7440" y="179712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19400" y="258444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231120" y="152280"/>
            <a:ext cx="17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f1e"/>
                </a:solidFill>
                <a:latin typeface="Times New Roman"/>
              </a:rPr>
              <a:t>Appendix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Claudia Lopez</dc:creator>
  <dc:description/>
  <dc:language>en-US</dc:language>
  <cp:lastModifiedBy>Guadalupe Zubieta</cp:lastModifiedBy>
  <cp:lastPrinted>1999-01-07T20:35:36Z</cp:lastPrinted>
  <dcterms:modified xsi:type="dcterms:W3CDTF">2002-08-22T17:54:45Z</dcterms:modified>
  <cp:revision>304</cp:revision>
  <dc:subject>Safety oversight seminar presentation</dc:subject>
  <dc:title>First Meeting of Directors of Civil Aviation of the Caribbean Region (DCA/CAR/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79900.00000000</vt:lpwstr>
  </property>
  <property fmtid="{D5CDD505-2E9C-101B-9397-08002B2CF9AE}" pid="5" name="Year">
    <vt:lpwstr>2002</vt:lpwstr>
  </property>
</Properties>
</file>