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441-102E-4726-A02D-C4A23AF3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332-045C-4BF9-A605-1A09B538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B82B-3DA9-4805-B7AF-19BAAA79D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38F3-E39E-40B1-9FDC-3F375AA0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BFEC-B06C-42B6-B85B-EBFD38D2D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031A-76CB-4693-8B03-45997324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75C7-D6DB-445A-9A01-BAC8D6A7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E569-0CE0-4358-BE36-6B79912B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9EF-95FB-421F-A56E-1935910F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17C4-68C7-4835-B367-C2B2EF80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6C8B-5316-4583-830B-8561AB1A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BB94-A493-4927-84DB-3125315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B994E-0DA0-4748-A5B1-D2B5A782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C758-4BB7-44EC-B688-D36F2717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27B9-16AD-45AB-84C5-A4E0E7D5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5404-02B9-42AD-B583-4DC73A78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6584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02720" y="198108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6584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02720" y="413064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87FC-B90E-40EC-A667-65A302C3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E6DE-406B-4A24-B52C-20FAD1E9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FB8-1EEF-44D4-A6B6-C76C74CC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16A-95BE-4995-9539-13A007A6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58A-09E9-4308-BB48-A7FA0257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103F-D603-4EE5-8F37-855B5ED6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0000" y="413064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4B1B-71E6-4ECE-96E2-0A084084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98108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74D-65EE-4E45-9B63-84A0B5CC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991F-9647-4686-A54A-A30561CD8F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ffff99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33cc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912C-FFFA-4EAA-9426-D7EACE174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14400" algn="ctr">
              <a:spcBef>
                <a:spcPts val="649"/>
              </a:spcBef>
              <a:buClr>
                <a:srgbClr val="33cccc"/>
              </a:buClr>
              <a:buFont typeface="Webdings" charset="2"/>
              <a:buChar char="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1828800" algn="ctr">
              <a:spcBef>
                <a:spcPts val="550"/>
              </a:spcBef>
              <a:buClr>
                <a:srgbClr val="33cccc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429320" cy="7621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f1e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cccc"/>
                </a:solidFill>
                <a:latin typeface="Tahoma"/>
              </a:rPr>
              <a:t>Estado del Programa Universal OACI de              Auditoría de Vigilancia Operacional</a:t>
            </a:r>
            <a:endParaRPr b="1" lang="en-US" sz="2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380880"/>
            <a:ext cx="79246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34960" y="896760"/>
            <a:ext cx="1527480" cy="4911840"/>
            <a:chOff x="534960" y="896760"/>
            <a:chExt cx="1527480" cy="4911840"/>
          </a:xfrm>
        </p:grpSpPr>
        <p:sp>
          <p:nvSpPr>
            <p:cNvPr id="103" name=""/>
            <p:cNvSpPr/>
            <p:nvPr/>
          </p:nvSpPr>
          <p:spPr>
            <a:xfrm>
              <a:off x="534960" y="5150160"/>
              <a:ext cx="152748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Auditorí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complet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d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722160" y="896760"/>
              <a:ext cx="1153440" cy="4183920"/>
              <a:chOff x="722160" y="896760"/>
              <a:chExt cx="1153440" cy="4183920"/>
            </a:xfrm>
          </p:grpSpPr>
          <p:sp>
            <p:nvSpPr>
              <p:cNvPr id="105" name=""/>
              <p:cNvSpPr/>
              <p:nvPr/>
            </p:nvSpPr>
            <p:spPr>
              <a:xfrm>
                <a:off x="919440" y="896760"/>
                <a:ext cx="956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9 *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722160" y="1406160"/>
                <a:ext cx="934920" cy="3674520"/>
                <a:chOff x="722160" y="1406160"/>
                <a:chExt cx="934920" cy="36745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436400" y="1406160"/>
                  <a:ext cx="220680" cy="3674520"/>
                </a:xfrm>
                <a:custGeom>
                  <a:avLst/>
                  <a:gdLst/>
                  <a:ahLst/>
                  <a:rect l="l" t="t" r="r" b="b"/>
                  <a:pathLst>
                    <a:path w="63" h="1544">
                      <a:moveTo>
                        <a:pt x="0" y="1544"/>
                      </a:moveTo>
                      <a:lnTo>
                        <a:pt x="0" y="62"/>
                      </a:lnTo>
                      <a:lnTo>
                        <a:pt x="63" y="0"/>
                      </a:lnTo>
                      <a:lnTo>
                        <a:pt x="63" y="1474"/>
                      </a:lnTo>
                      <a:lnTo>
                        <a:pt x="0" y="1544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722160" y="1553040"/>
                  <a:ext cx="714240" cy="35272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22160" y="1406160"/>
                  <a:ext cx="934920" cy="14688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4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4" y="6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" name=""/>
          <p:cNvGrpSpPr/>
          <p:nvPr/>
        </p:nvGrpSpPr>
        <p:grpSpPr>
          <a:xfrm>
            <a:off x="2211120" y="1219320"/>
            <a:ext cx="1611720" cy="4574520"/>
            <a:chOff x="2211120" y="1219320"/>
            <a:chExt cx="1611720" cy="4574520"/>
          </a:xfrm>
        </p:grpSpPr>
        <p:sp>
          <p:nvSpPr>
            <p:cNvPr id="111" name=""/>
            <p:cNvSpPr/>
            <p:nvPr/>
          </p:nvSpPr>
          <p:spPr>
            <a:xfrm>
              <a:off x="2211120" y="5135400"/>
              <a:ext cx="16117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Inform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provision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549520" y="1219320"/>
              <a:ext cx="934920" cy="3852000"/>
              <a:chOff x="2549520" y="1219320"/>
              <a:chExt cx="934920" cy="3852000"/>
            </a:xfrm>
          </p:grpSpPr>
          <p:sp>
            <p:nvSpPr>
              <p:cNvPr id="113" name=""/>
              <p:cNvSpPr/>
              <p:nvPr/>
            </p:nvSpPr>
            <p:spPr>
              <a:xfrm>
                <a:off x="2682360" y="12193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8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2549520" y="1717560"/>
                <a:ext cx="934920" cy="3353760"/>
                <a:chOff x="2549520" y="1717560"/>
                <a:chExt cx="934920" cy="33537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260520" y="1717560"/>
                  <a:ext cx="223560" cy="3353760"/>
                </a:xfrm>
                <a:custGeom>
                  <a:avLst/>
                  <a:gdLst/>
                  <a:ahLst/>
                  <a:rect l="l" t="t" r="r" b="b"/>
                  <a:pathLst>
                    <a:path w="64" h="1429">
                      <a:moveTo>
                        <a:pt x="0" y="1429"/>
                      </a:moveTo>
                      <a:lnTo>
                        <a:pt x="0" y="62"/>
                      </a:lnTo>
                      <a:lnTo>
                        <a:pt x="64" y="0"/>
                      </a:lnTo>
                      <a:lnTo>
                        <a:pt x="64" y="1359"/>
                      </a:lnTo>
                      <a:lnTo>
                        <a:pt x="0" y="1429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549520" y="1863720"/>
                  <a:ext cx="711000" cy="32076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549520" y="1717560"/>
                  <a:ext cx="934920" cy="146160"/>
                </a:xfrm>
                <a:custGeom>
                  <a:avLst/>
                  <a:gdLst/>
                  <a:ahLst/>
                  <a:rect l="l" t="t" r="r" b="b"/>
                  <a:pathLst>
                    <a:path w="267" h="62">
                      <a:moveTo>
                        <a:pt x="203" y="62"/>
                      </a:moveTo>
                      <a:lnTo>
                        <a:pt x="267" y="0"/>
                      </a:lnTo>
                      <a:lnTo>
                        <a:pt x="70" y="0"/>
                      </a:lnTo>
                      <a:lnTo>
                        <a:pt x="0" y="62"/>
                      </a:lnTo>
                      <a:lnTo>
                        <a:pt x="203" y="6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8" name=""/>
          <p:cNvGrpSpPr/>
          <p:nvPr/>
        </p:nvGrpSpPr>
        <p:grpSpPr>
          <a:xfrm>
            <a:off x="4267080" y="1447920"/>
            <a:ext cx="1240560" cy="4224600"/>
            <a:chOff x="4267080" y="1447920"/>
            <a:chExt cx="1240560" cy="4224600"/>
          </a:xfrm>
        </p:grpSpPr>
        <p:sp>
          <p:nvSpPr>
            <p:cNvPr id="119" name=""/>
            <p:cNvSpPr/>
            <p:nvPr/>
          </p:nvSpPr>
          <p:spPr>
            <a:xfrm>
              <a:off x="4291200" y="5014080"/>
              <a:ext cx="119412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Pla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de Acció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4267080" y="1447920"/>
              <a:ext cx="1240560" cy="3496320"/>
              <a:chOff x="4267080" y="1447920"/>
              <a:chExt cx="1240560" cy="3496320"/>
            </a:xfrm>
          </p:grpSpPr>
          <p:sp>
            <p:nvSpPr>
              <p:cNvPr id="121" name=""/>
              <p:cNvSpPr/>
              <p:nvPr/>
            </p:nvSpPr>
            <p:spPr>
              <a:xfrm>
                <a:off x="4420800" y="144792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73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4267080" y="1919160"/>
                <a:ext cx="1240560" cy="3025080"/>
                <a:chOff x="4267080" y="1919160"/>
                <a:chExt cx="1240560" cy="3025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181480" y="1919160"/>
                  <a:ext cx="326160" cy="3025080"/>
                </a:xfrm>
                <a:custGeom>
                  <a:avLst/>
                  <a:gdLst/>
                  <a:ahLst/>
                  <a:rect l="l" t="t" r="r" b="b"/>
                  <a:pathLst>
                    <a:path w="70" h="1270">
                      <a:moveTo>
                        <a:pt x="0" y="1270"/>
                      </a:moveTo>
                      <a:lnTo>
                        <a:pt x="0" y="61"/>
                      </a:lnTo>
                      <a:lnTo>
                        <a:pt x="70" y="0"/>
                      </a:lnTo>
                      <a:lnTo>
                        <a:pt x="70" y="1200"/>
                      </a:lnTo>
                      <a:lnTo>
                        <a:pt x="0" y="127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267080" y="2064240"/>
                  <a:ext cx="914400" cy="287964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67080" y="1919160"/>
                  <a:ext cx="1240560" cy="145080"/>
                </a:xfrm>
                <a:custGeom>
                  <a:avLst/>
                  <a:gdLst/>
                  <a:ahLst/>
                  <a:rect l="l" t="t" r="r" b="b"/>
                  <a:pathLst>
                    <a:path w="267" h="61">
                      <a:moveTo>
                        <a:pt x="197" y="61"/>
                      </a:moveTo>
                      <a:lnTo>
                        <a:pt x="267" y="0"/>
                      </a:lnTo>
                      <a:lnTo>
                        <a:pt x="64" y="0"/>
                      </a:lnTo>
                      <a:lnTo>
                        <a:pt x="0" y="61"/>
                      </a:lnTo>
                      <a:lnTo>
                        <a:pt x="197" y="6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6" name=""/>
          <p:cNvGrpSpPr/>
          <p:nvPr/>
        </p:nvGrpSpPr>
        <p:grpSpPr>
          <a:xfrm>
            <a:off x="6096600" y="1828800"/>
            <a:ext cx="1263960" cy="3962160"/>
            <a:chOff x="6096600" y="1828800"/>
            <a:chExt cx="1263960" cy="3962160"/>
          </a:xfrm>
        </p:grpSpPr>
        <p:sp>
          <p:nvSpPr>
            <p:cNvPr id="127" name=""/>
            <p:cNvSpPr/>
            <p:nvPr/>
          </p:nvSpPr>
          <p:spPr>
            <a:xfrm>
              <a:off x="6096600" y="5132520"/>
              <a:ext cx="1263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Inform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re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sumid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342120" y="1828800"/>
              <a:ext cx="934920" cy="3233520"/>
              <a:chOff x="6342120" y="1828800"/>
              <a:chExt cx="934920" cy="3233520"/>
            </a:xfrm>
          </p:grpSpPr>
          <p:sp>
            <p:nvSpPr>
              <p:cNvPr id="129" name=""/>
              <p:cNvSpPr/>
              <p:nvPr/>
            </p:nvSpPr>
            <p:spPr>
              <a:xfrm>
                <a:off x="6442200" y="1828800"/>
                <a:ext cx="7369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169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6342120" y="2314800"/>
                <a:ext cx="934920" cy="2747520"/>
                <a:chOff x="6342120" y="2314800"/>
                <a:chExt cx="934920" cy="274752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032600" y="2314800"/>
                  <a:ext cx="244080" cy="274752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6342120" y="2509920"/>
                  <a:ext cx="690480" cy="2552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342120" y="2314800"/>
                  <a:ext cx="934920" cy="19512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ccff99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4" name=""/>
          <p:cNvGrpSpPr/>
          <p:nvPr/>
        </p:nvGrpSpPr>
        <p:grpSpPr>
          <a:xfrm>
            <a:off x="7601040" y="3581280"/>
            <a:ext cx="1542960" cy="2099880"/>
            <a:chOff x="7601040" y="3581280"/>
            <a:chExt cx="1542960" cy="2099880"/>
          </a:xfrm>
        </p:grpSpPr>
        <p:sp>
          <p:nvSpPr>
            <p:cNvPr id="135" name=""/>
            <p:cNvSpPr/>
            <p:nvPr/>
          </p:nvSpPr>
          <p:spPr>
            <a:xfrm>
              <a:off x="7601040" y="5022720"/>
              <a:ext cx="1542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Misiones 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s-MX" sz="2400" spc="-1" strike="noStrike">
                  <a:solidFill>
                    <a:srgbClr val="ffffff"/>
                  </a:solidFill>
                  <a:latin typeface="Arial Narrow"/>
                </a:rPr>
                <a:t>seguimi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7904160" y="3581280"/>
              <a:ext cx="934920" cy="1364760"/>
              <a:chOff x="7904160" y="3581280"/>
              <a:chExt cx="934920" cy="1364760"/>
            </a:xfrm>
          </p:grpSpPr>
          <p:sp>
            <p:nvSpPr>
              <p:cNvPr id="137" name=""/>
              <p:cNvSpPr/>
              <p:nvPr/>
            </p:nvSpPr>
            <p:spPr>
              <a:xfrm>
                <a:off x="8056440" y="3581280"/>
                <a:ext cx="552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ffffff"/>
                    </a:solidFill>
                    <a:latin typeface="Arial"/>
                  </a:rPr>
                  <a:t>52</a:t>
                </a:r>
                <a:endParaRPr b="0" lang="en-US" sz="2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904160" y="4140000"/>
                <a:ext cx="934920" cy="806040"/>
                <a:chOff x="7904160" y="4140000"/>
                <a:chExt cx="934920" cy="8060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594640" y="4140000"/>
                  <a:ext cx="244080" cy="806040"/>
                </a:xfrm>
                <a:custGeom>
                  <a:avLst/>
                  <a:gdLst/>
                  <a:ahLst/>
                  <a:rect l="l" t="t" r="r" b="b"/>
                  <a:pathLst>
                    <a:path w="70" h="1006">
                      <a:moveTo>
                        <a:pt x="0" y="1006"/>
                      </a:moveTo>
                      <a:lnTo>
                        <a:pt x="0" y="71"/>
                      </a:lnTo>
                      <a:lnTo>
                        <a:pt x="70" y="0"/>
                      </a:lnTo>
                      <a:lnTo>
                        <a:pt x="70" y="936"/>
                      </a:lnTo>
                      <a:lnTo>
                        <a:pt x="0" y="1006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04160" y="4196520"/>
                  <a:ext cx="690480" cy="749160"/>
                </a:xfrm>
                <a:prstGeom prst="rect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904160" y="4140000"/>
                  <a:ext cx="934920" cy="56520"/>
                </a:xfrm>
                <a:custGeom>
                  <a:avLst/>
                  <a:gdLst/>
                  <a:ahLst/>
                  <a:rect l="l" t="t" r="r" b="b"/>
                  <a:pathLst>
                    <a:path w="267" h="71">
                      <a:moveTo>
                        <a:pt x="197" y="71"/>
                      </a:moveTo>
                      <a:lnTo>
                        <a:pt x="267" y="0"/>
                      </a:lnTo>
                      <a:lnTo>
                        <a:pt x="63" y="0"/>
                      </a:lnTo>
                      <a:lnTo>
                        <a:pt x="0" y="71"/>
                      </a:lnTo>
                      <a:lnTo>
                        <a:pt x="197" y="7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2" name=""/>
          <p:cNvSpPr/>
          <p:nvPr/>
        </p:nvSpPr>
        <p:spPr>
          <a:xfrm>
            <a:off x="578520" y="6086520"/>
            <a:ext cx="7645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080" rIns="6408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*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Además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cinco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 territori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o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s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han sido auditados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bajo los auspicios de los Esta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9720"/>
                <a:tab algn="l" pos="1279440"/>
                <a:tab algn="l" pos="1919160"/>
                <a:tab algn="l" pos="2558880"/>
                <a:tab algn="l" pos="3198960"/>
                <a:tab algn="l" pos="3838680"/>
                <a:tab algn="l" pos="4478400"/>
                <a:tab algn="l" pos="5118120"/>
                <a:tab algn="l" pos="5757840"/>
                <a:tab algn="l" pos="6397560"/>
                <a:tab algn="l" pos="7037280"/>
                <a:tab algn="l" pos="7677000"/>
                <a:tab algn="l" pos="8317080"/>
                <a:tab algn="l" pos="8956800"/>
                <a:tab algn="l" pos="9596520"/>
                <a:tab algn="l" pos="10236240"/>
                <a:tab algn="l" pos="1087596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Contratantes.  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Total – 18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7</a:t>
            </a:r>
            <a:r>
              <a:rPr b="1" lang="en-US" sz="19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 Narrow"/>
              </a:rPr>
              <a:t>Estados Contratant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63160" y="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éndice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blinds dir="horz"/>
      </p:transition>
    </mc:Choice>
    <mc:Fallback>
      <p:transition spd="slow">
        <p:blinds dir="horz"/>
      </p:transition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solidFill>
            <a:srgbClr val="cc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</a:t>
            </a: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lusiones y análisi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964120" y="5040360"/>
            <a:ext cx="459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43760" y="3843360"/>
            <a:ext cx="4586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430880"/>
            <a:ext cx="46368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3490920"/>
            <a:ext cx="46368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9960" y="5872320"/>
            <a:ext cx="81936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Legi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Aeronáutica bá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6019920"/>
            <a:ext cx="126072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Reglamen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5943600"/>
            <a:ext cx="88416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Composicón de la ACC y funciones de 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5943600"/>
            <a:ext cx="1066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Orien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técn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5867280"/>
            <a:ext cx="11430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Téc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Arial Narrow"/>
              </a:rPr>
              <a:t>capaci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57920" y="5802480"/>
            <a:ext cx="9241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Otorg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De licenc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certific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53480" y="5802480"/>
            <a:ext cx="7948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Perman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48440" y="5802480"/>
            <a:ext cx="8665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Resolu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Cuest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7200"/>
                <a:tab algn="l" pos="1454040"/>
                <a:tab algn="l" pos="2181240"/>
                <a:tab algn="l" pos="2908440"/>
                <a:tab algn="l" pos="3635280"/>
                <a:tab algn="l" pos="4362480"/>
                <a:tab algn="l" pos="5089680"/>
                <a:tab algn="l" pos="5816520"/>
                <a:tab algn="l" pos="6543720"/>
                <a:tab algn="l" pos="7270920"/>
                <a:tab algn="l" pos="7997760"/>
                <a:tab algn="l" pos="8724960"/>
                <a:tab algn="l" pos="9451800"/>
                <a:tab algn="l" pos="10179000"/>
                <a:tab algn="l" pos="10906200"/>
              </a:tabLst>
            </a:pPr>
            <a:r>
              <a:rPr b="0" lang="es-MX" sz="1400" spc="-1" strike="noStrike">
                <a:solidFill>
                  <a:srgbClr val="003366"/>
                </a:solidFill>
                <a:latin typeface="Arial Narrow"/>
              </a:rPr>
              <a:t>De segur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4164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3639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9880" y="4192560"/>
            <a:ext cx="16344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03520" y="398952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38600" y="4659480"/>
            <a:ext cx="163440" cy="1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70440" y="42465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3565440"/>
            <a:ext cx="16200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6720" y="4503600"/>
            <a:ext cx="16668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81800" y="3666960"/>
            <a:ext cx="163440" cy="1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515440" y="3722760"/>
            <a:ext cx="16488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51200" y="1974960"/>
            <a:ext cx="186480" cy="3891600"/>
            <a:chOff x="151200" y="1974960"/>
            <a:chExt cx="186480" cy="3891600"/>
          </a:xfrm>
        </p:grpSpPr>
        <p:sp>
          <p:nvSpPr>
            <p:cNvPr id="169" name=""/>
            <p:cNvSpPr/>
            <p:nvPr/>
          </p:nvSpPr>
          <p:spPr>
            <a:xfrm>
              <a:off x="216000" y="5622840"/>
              <a:ext cx="9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200" y="509688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1200" y="458460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2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1200" y="40586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200" y="3533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4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200" y="30117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1200" y="249444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6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1200" y="1974960"/>
              <a:ext cx="18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 Narrow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7443720" y="20210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9400" y="2021040"/>
            <a:ext cx="32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19800" y="2031840"/>
            <a:ext cx="180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27120" y="2031840"/>
            <a:ext cx="1440" cy="371952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49600" y="2021040"/>
            <a:ext cx="144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0052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25880" y="2031840"/>
            <a:ext cx="4680" cy="37195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680" y="5745240"/>
            <a:ext cx="8383680" cy="0"/>
          </a:xfrm>
          <a:prstGeom prst="line">
            <a:avLst/>
          </a:prstGeom>
          <a:ln w="1908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1680" y="20829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1680" y="365436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1680" y="52164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1680" y="418320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1680" y="470052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680" y="3137040"/>
            <a:ext cx="838368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2680" y="2620800"/>
            <a:ext cx="8383320" cy="0"/>
          </a:xfrm>
          <a:prstGeom prst="line">
            <a:avLst/>
          </a:prstGeom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90520" y="1486080"/>
            <a:ext cx="8355960" cy="4254120"/>
            <a:chOff x="290520" y="1486080"/>
            <a:chExt cx="8355960" cy="4254120"/>
          </a:xfrm>
        </p:grpSpPr>
        <p:sp>
          <p:nvSpPr>
            <p:cNvPr id="193" name=""/>
            <p:cNvSpPr/>
            <p:nvPr/>
          </p:nvSpPr>
          <p:spPr>
            <a:xfrm>
              <a:off x="642960" y="4412520"/>
              <a:ext cx="133920" cy="127800"/>
            </a:xfrm>
            <a:custGeom>
              <a:avLst/>
              <a:gdLst/>
              <a:ahLst/>
              <a:rect l="l" t="t" r="r" b="b"/>
              <a:pathLst>
                <a:path w="76" h="95">
                  <a:moveTo>
                    <a:pt x="38" y="0"/>
                  </a:moveTo>
                  <a:lnTo>
                    <a:pt x="76" y="47"/>
                  </a:lnTo>
                  <a:lnTo>
                    <a:pt x="38" y="95"/>
                  </a:lnTo>
                  <a:lnTo>
                    <a:pt x="0" y="47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80"/>
            </a:solidFill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90520" y="1486080"/>
              <a:ext cx="8355960" cy="4254120"/>
              <a:chOff x="290520" y="1486080"/>
              <a:chExt cx="8355960" cy="4254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290520" y="1486080"/>
                <a:ext cx="2381040" cy="228600"/>
                <a:chOff x="290520" y="1486080"/>
                <a:chExt cx="2381040" cy="2286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39800" y="1486080"/>
                  <a:ext cx="19317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27200"/>
                      <a:tab algn="l" pos="1454040"/>
                      <a:tab algn="l" pos="2181240"/>
                      <a:tab algn="l" pos="2908440"/>
                      <a:tab algn="l" pos="3635280"/>
                      <a:tab algn="l" pos="4362480"/>
                      <a:tab algn="l" pos="5089680"/>
                      <a:tab algn="l" pos="5816520"/>
                      <a:tab algn="l" pos="6543720"/>
                      <a:tab algn="l" pos="7270920"/>
                      <a:tab algn="l" pos="7997760"/>
                      <a:tab algn="l" pos="8724960"/>
                      <a:tab algn="l" pos="9451800"/>
                      <a:tab algn="l" pos="10179000"/>
                      <a:tab algn="l" pos="10906200"/>
                    </a:tabLst>
                  </a:pPr>
                  <a:r>
                    <a:rPr b="1" lang="en-US" sz="1500" spc="-1" strike="noStrike">
                      <a:solidFill>
                        <a:srgbClr val="ff3300"/>
                      </a:solidFill>
                      <a:latin typeface="Arial"/>
                    </a:rPr>
                    <a:t>GLOBAL/178 – 28.5%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" name=""/>
                <p:cNvGrpSpPr/>
                <p:nvPr/>
              </p:nvGrpSpPr>
              <p:grpSpPr>
                <a:xfrm>
                  <a:off x="290520" y="1504080"/>
                  <a:ext cx="327240" cy="123840"/>
                  <a:chOff x="290520" y="1504080"/>
                  <a:chExt cx="327240" cy="123840"/>
                </a:xfrm>
              </p:grpSpPr>
              <p:sp>
                <p:nvSpPr>
                  <p:cNvPr id="198" name=""/>
                  <p:cNvSpPr/>
                  <p:nvPr/>
                </p:nvSpPr>
                <p:spPr>
                  <a:xfrm>
                    <a:off x="290520" y="1567080"/>
                    <a:ext cx="327240" cy="1440"/>
                  </a:xfrm>
                  <a:prstGeom prst="line">
                    <a:avLst/>
                  </a:prstGeom>
                  <a:ln w="572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399600" y="1504080"/>
                    <a:ext cx="1090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67">
                        <a:moveTo>
                          <a:pt x="27" y="0"/>
                        </a:moveTo>
                        <a:lnTo>
                          <a:pt x="54" y="34"/>
                        </a:lnTo>
                        <a:lnTo>
                          <a:pt x="27" y="67"/>
                        </a:lnTo>
                        <a:lnTo>
                          <a:pt x="0" y="34"/>
                        </a:lnTo>
                        <a:lnTo>
                          <a:pt x="27" y="0"/>
                        </a:lnTo>
                        <a:close/>
                      </a:path>
                    </a:pathLst>
                  </a:custGeom>
                  <a:solidFill>
                    <a:srgbClr val="000080"/>
                  </a:solidFill>
                  <a:ln w="38160">
                    <a:solidFill>
                      <a:srgbClr val="ff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635040" y="2020320"/>
                <a:ext cx="8011440" cy="3719880"/>
                <a:chOff x="635040" y="2020320"/>
                <a:chExt cx="8011440" cy="3719880"/>
              </a:xfrm>
            </p:grpSpPr>
            <p:sp>
              <p:nvSpPr>
                <p:cNvPr id="201" name=""/>
                <p:cNvSpPr/>
                <p:nvPr/>
              </p:nvSpPr>
              <p:spPr>
                <a:xfrm flipV="1">
                  <a:off x="635040" y="4277880"/>
                  <a:ext cx="1134000" cy="21312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769040" y="4277880"/>
                  <a:ext cx="1132560" cy="3142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2901960" y="4233240"/>
                  <a:ext cx="1133640" cy="3582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4035960" y="3967200"/>
                  <a:ext cx="1141920" cy="26604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178240" y="3967560"/>
                  <a:ext cx="113400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312600" y="3967560"/>
                  <a:ext cx="1132560" cy="57888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445520" y="3967560"/>
                  <a:ext cx="1134000" cy="54000"/>
                </a:xfrm>
                <a:prstGeom prst="line">
                  <a:avLst/>
                </a:prstGeom>
                <a:ln w="572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700640" y="4214520"/>
                  <a:ext cx="135720" cy="13032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36440" y="452880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0800" y="416916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11280" y="3901680"/>
                  <a:ext cx="13716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245640" y="4483440"/>
                  <a:ext cx="13392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379640" y="3901680"/>
                  <a:ext cx="1342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514000" y="3957120"/>
                  <a:ext cx="13248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38160">
                  <a:solidFill>
                    <a:srgbClr val="ff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584560" y="2020320"/>
                  <a:ext cx="1080" cy="3719880"/>
                </a:xfrm>
                <a:prstGeom prst="line">
                  <a:avLst/>
                </a:prstGeom>
                <a:ln w="12600">
                  <a:solidFill>
                    <a:srgbClr val="0099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6" name=""/>
          <p:cNvGrpSpPr/>
          <p:nvPr/>
        </p:nvGrpSpPr>
        <p:grpSpPr>
          <a:xfrm>
            <a:off x="598320" y="1469880"/>
            <a:ext cx="8030880" cy="3409200"/>
            <a:chOff x="598320" y="1469880"/>
            <a:chExt cx="8030880" cy="3409200"/>
          </a:xfrm>
        </p:grpSpPr>
        <p:grpSp>
          <p:nvGrpSpPr>
            <p:cNvPr id="217" name=""/>
            <p:cNvGrpSpPr/>
            <p:nvPr/>
          </p:nvGrpSpPr>
          <p:grpSpPr>
            <a:xfrm>
              <a:off x="2673360" y="1469880"/>
              <a:ext cx="1728720" cy="228600"/>
              <a:chOff x="2673360" y="1469880"/>
              <a:chExt cx="17287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3122640" y="1469880"/>
                <a:ext cx="12794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00cc"/>
                    </a:solidFill>
                    <a:latin typeface="Arial Narrow"/>
                  </a:rPr>
                  <a:t>APAC/33 – 24.9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2673360" y="1500840"/>
                <a:ext cx="388080" cy="123480"/>
                <a:chOff x="2673360" y="1500840"/>
                <a:chExt cx="388080" cy="1234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2673360" y="1569600"/>
                  <a:ext cx="388080" cy="180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02600" y="1500840"/>
                  <a:ext cx="117360" cy="12348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98320" y="4061520"/>
              <a:ext cx="8030880" cy="817560"/>
              <a:chOff x="598320" y="4061520"/>
              <a:chExt cx="8030880" cy="81756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646200" y="4107600"/>
                <a:ext cx="7943760" cy="735120"/>
                <a:chOff x="646200" y="4107600"/>
                <a:chExt cx="7943760" cy="735120"/>
              </a:xfrm>
            </p:grpSpPr>
            <p:sp>
              <p:nvSpPr>
                <p:cNvPr id="224" name=""/>
                <p:cNvSpPr/>
                <p:nvPr/>
              </p:nvSpPr>
              <p:spPr>
                <a:xfrm flipV="1">
                  <a:off x="646200" y="4317840"/>
                  <a:ext cx="1132920" cy="3668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779120" y="4318200"/>
                  <a:ext cx="1134360" cy="4690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2913480" y="4107600"/>
                  <a:ext cx="1132560" cy="67968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046400" y="4107600"/>
                  <a:ext cx="1143360" cy="14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189760" y="4107600"/>
                  <a:ext cx="1132920" cy="73512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6323040" y="4262040"/>
                  <a:ext cx="1134360" cy="57996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7457400" y="4262400"/>
                  <a:ext cx="1132560" cy="111240"/>
                </a:xfrm>
                <a:prstGeom prst="line">
                  <a:avLst/>
                </a:prstGeom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98320" y="4061520"/>
                <a:ext cx="8030880" cy="817560"/>
                <a:chOff x="598320" y="4061520"/>
                <a:chExt cx="8030880" cy="817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274800" y="47966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98320" y="4641480"/>
                  <a:ext cx="85320" cy="810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730880" y="427320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5240" y="4740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99996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142240" y="4061520"/>
                  <a:ext cx="853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09160" y="4218840"/>
                  <a:ext cx="87120" cy="8244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543880" y="4328640"/>
                  <a:ext cx="85320" cy="82800"/>
                </a:xfrm>
                <a:prstGeom prst="rect">
                  <a:avLst/>
                </a:prstGeom>
                <a:solidFill>
                  <a:srgbClr val="ffcc99"/>
                </a:solidFill>
                <a:ln w="38160">
                  <a:solidFill>
                    <a:srgbClr val="cc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0" name=""/>
          <p:cNvGrpSpPr/>
          <p:nvPr/>
        </p:nvGrpSpPr>
        <p:grpSpPr>
          <a:xfrm>
            <a:off x="590400" y="1471680"/>
            <a:ext cx="8049600" cy="2682360"/>
            <a:chOff x="590400" y="1471680"/>
            <a:chExt cx="8049600" cy="2682360"/>
          </a:xfrm>
        </p:grpSpPr>
        <p:grpSp>
          <p:nvGrpSpPr>
            <p:cNvPr id="241" name=""/>
            <p:cNvGrpSpPr/>
            <p:nvPr/>
          </p:nvGrpSpPr>
          <p:grpSpPr>
            <a:xfrm>
              <a:off x="4952880" y="1471680"/>
              <a:ext cx="1738440" cy="228600"/>
              <a:chOff x="4952880" y="1471680"/>
              <a:chExt cx="1738440" cy="228600"/>
            </a:xfrm>
          </p:grpSpPr>
          <p:sp>
            <p:nvSpPr>
              <p:cNvPr id="242" name=""/>
              <p:cNvSpPr/>
              <p:nvPr/>
            </p:nvSpPr>
            <p:spPr>
              <a:xfrm>
                <a:off x="5437800" y="1471680"/>
                <a:ext cx="125352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ff9900"/>
                    </a:solidFill>
                    <a:latin typeface="Arial Narrow"/>
                  </a:rPr>
                  <a:t>ESAF/21 – 40.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3" name=""/>
              <p:cNvGrpSpPr/>
              <p:nvPr/>
            </p:nvGrpSpPr>
            <p:grpSpPr>
              <a:xfrm>
                <a:off x="4952880" y="1503360"/>
                <a:ext cx="366480" cy="123480"/>
                <a:chOff x="4952880" y="1503360"/>
                <a:chExt cx="366480" cy="1234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952880" y="1572120"/>
                  <a:ext cx="366480" cy="1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073480" y="1503360"/>
                  <a:ext cx="111240" cy="1234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" name=""/>
            <p:cNvGrpSpPr/>
            <p:nvPr/>
          </p:nvGrpSpPr>
          <p:grpSpPr>
            <a:xfrm>
              <a:off x="590400" y="2859120"/>
              <a:ext cx="8049600" cy="1294920"/>
              <a:chOff x="590400" y="2859120"/>
              <a:chExt cx="8049600" cy="12949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647280" y="2913480"/>
                <a:ext cx="7943400" cy="1193760"/>
                <a:chOff x="647280" y="2913480"/>
                <a:chExt cx="7943400" cy="1193760"/>
              </a:xfrm>
            </p:grpSpPr>
            <p:sp>
              <p:nvSpPr>
                <p:cNvPr id="248" name=""/>
                <p:cNvSpPr/>
                <p:nvPr/>
              </p:nvSpPr>
              <p:spPr>
                <a:xfrm flipV="1">
                  <a:off x="647280" y="3740040"/>
                  <a:ext cx="1132920" cy="3672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780200" y="3740040"/>
                  <a:ext cx="1133280" cy="3204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V="1">
                  <a:off x="2913840" y="3638880"/>
                  <a:ext cx="1132920" cy="4215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 flipV="1">
                  <a:off x="4047120" y="3583440"/>
                  <a:ext cx="1143360" cy="554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190840" y="3583440"/>
                  <a:ext cx="1133280" cy="32184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6324480" y="3014280"/>
                  <a:ext cx="1132920" cy="89136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7457400" y="2913480"/>
                  <a:ext cx="1133280" cy="100800"/>
                </a:xfrm>
                <a:prstGeom prst="line">
                  <a:avLst/>
                </a:prstGeom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590400" y="2859120"/>
                <a:ext cx="8049600" cy="1294920"/>
                <a:chOff x="590400" y="2859120"/>
                <a:chExt cx="8049600" cy="129492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90400" y="40518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723320" y="3684600"/>
                  <a:ext cx="10584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70280" y="4006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990240" y="3583800"/>
                  <a:ext cx="105840" cy="10080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33960" y="3529440"/>
                  <a:ext cx="105840" cy="9936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267600" y="3850200"/>
                  <a:ext cx="105840" cy="10224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401240" y="2958840"/>
                  <a:ext cx="105120" cy="10188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534160" y="2859120"/>
                  <a:ext cx="105840" cy="99720"/>
                </a:xfrm>
                <a:prstGeom prst="ellipse">
                  <a:avLst/>
                </a:prstGeom>
                <a:solidFill>
                  <a:srgbClr val="0000ff"/>
                </a:solidFill>
                <a:ln w="3816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4" name=""/>
          <p:cNvGrpSpPr/>
          <p:nvPr/>
        </p:nvGrpSpPr>
        <p:grpSpPr>
          <a:xfrm>
            <a:off x="598320" y="1471680"/>
            <a:ext cx="8346600" cy="3674520"/>
            <a:chOff x="598320" y="1471680"/>
            <a:chExt cx="8346600" cy="3674520"/>
          </a:xfrm>
        </p:grpSpPr>
        <p:grpSp>
          <p:nvGrpSpPr>
            <p:cNvPr id="265" name=""/>
            <p:cNvGrpSpPr/>
            <p:nvPr/>
          </p:nvGrpSpPr>
          <p:grpSpPr>
            <a:xfrm>
              <a:off x="6869880" y="1471680"/>
              <a:ext cx="2075040" cy="228600"/>
              <a:chOff x="6869880" y="1471680"/>
              <a:chExt cx="2075040" cy="228600"/>
            </a:xfrm>
          </p:grpSpPr>
          <p:sp>
            <p:nvSpPr>
              <p:cNvPr id="266" name=""/>
              <p:cNvSpPr/>
              <p:nvPr/>
            </p:nvSpPr>
            <p:spPr>
              <a:xfrm>
                <a:off x="7325640" y="1471680"/>
                <a:ext cx="1619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cc3300"/>
                    </a:solidFill>
                    <a:latin typeface="Arial Narrow"/>
                  </a:rPr>
                  <a:t>EUR/NAT/51 – 19.65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6869880" y="1520640"/>
                <a:ext cx="374040" cy="86040"/>
                <a:chOff x="6869880" y="1520640"/>
                <a:chExt cx="374040" cy="860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869880" y="1564200"/>
                  <a:ext cx="374040" cy="10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994440" y="1520640"/>
                  <a:ext cx="124560" cy="86040"/>
                </a:xfrm>
                <a:custGeom>
                  <a:avLst/>
                  <a:gdLst/>
                  <a:ahLst/>
                  <a:rect l="l" t="t" r="r" b="b"/>
                  <a:pathLst>
                    <a:path w="54" h="67">
                      <a:moveTo>
                        <a:pt x="27" y="0"/>
                      </a:moveTo>
                      <a:lnTo>
                        <a:pt x="54" y="67"/>
                      </a:lnTo>
                      <a:lnTo>
                        <a:pt x="0" y="67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0" name=""/>
            <p:cNvGrpSpPr/>
            <p:nvPr/>
          </p:nvGrpSpPr>
          <p:grpSpPr>
            <a:xfrm>
              <a:off x="598320" y="4015440"/>
              <a:ext cx="8042040" cy="1130760"/>
              <a:chOff x="598320" y="4015440"/>
              <a:chExt cx="8042040" cy="113076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646920" y="4060080"/>
                <a:ext cx="7944840" cy="1040760"/>
                <a:chOff x="646920" y="4060080"/>
                <a:chExt cx="7944840" cy="1040760"/>
              </a:xfrm>
            </p:grpSpPr>
            <p:sp>
              <p:nvSpPr>
                <p:cNvPr id="272" name=""/>
                <p:cNvSpPr/>
                <p:nvPr/>
              </p:nvSpPr>
              <p:spPr>
                <a:xfrm flipV="1">
                  <a:off x="646920" y="4731840"/>
                  <a:ext cx="1133280" cy="1108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780200" y="4731840"/>
                  <a:ext cx="1133640" cy="210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2913840" y="4786920"/>
                  <a:ext cx="1133280" cy="1551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4047480" y="4060080"/>
                  <a:ext cx="1143360" cy="72684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190840" y="4060440"/>
                  <a:ext cx="1133640" cy="104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V="1">
                  <a:off x="6324840" y="4420080"/>
                  <a:ext cx="1133280" cy="68040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58120" y="4420080"/>
                  <a:ext cx="1133640" cy="26496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98320" y="4015440"/>
                <a:ext cx="8042040" cy="1130760"/>
                <a:chOff x="598320" y="4015440"/>
                <a:chExt cx="8042040" cy="11307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98320" y="47966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1731600" y="4685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65240" y="4897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000320" y="4741200"/>
                  <a:ext cx="95400" cy="91800"/>
                </a:xfrm>
                <a:custGeom>
                  <a:avLst/>
                  <a:gdLst/>
                  <a:ahLst/>
                  <a:rect l="l" t="t" r="r" b="b"/>
                  <a:pathLst>
                    <a:path w="53" h="68">
                      <a:moveTo>
                        <a:pt x="26" y="0"/>
                      </a:moveTo>
                      <a:lnTo>
                        <a:pt x="53" y="68"/>
                      </a:lnTo>
                      <a:lnTo>
                        <a:pt x="0" y="68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142240" y="401544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75880" y="5054400"/>
                  <a:ext cx="97200" cy="918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409520" y="4373640"/>
                  <a:ext cx="96840" cy="9324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68"/>
                      </a:lnTo>
                      <a:lnTo>
                        <a:pt x="0" y="68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544960" y="4641480"/>
                  <a:ext cx="95400" cy="90360"/>
                </a:xfrm>
                <a:custGeom>
                  <a:avLst/>
                  <a:gdLst/>
                  <a:ahLst/>
                  <a:rect l="l" t="t" r="r" b="b"/>
                  <a:pathLst>
                    <a:path w="53" h="67">
                      <a:moveTo>
                        <a:pt x="26" y="0"/>
                      </a:moveTo>
                      <a:lnTo>
                        <a:pt x="53" y="67"/>
                      </a:lnTo>
                      <a:lnTo>
                        <a:pt x="0" y="67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66ff33"/>
                </a:solidFill>
                <a:ln w="38160">
                  <a:solidFill>
                    <a:srgbClr val="cc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8" name=""/>
          <p:cNvGrpSpPr/>
          <p:nvPr/>
        </p:nvGrpSpPr>
        <p:grpSpPr>
          <a:xfrm>
            <a:off x="227160" y="1768320"/>
            <a:ext cx="8414280" cy="2995200"/>
            <a:chOff x="227160" y="1768320"/>
            <a:chExt cx="8414280" cy="2995200"/>
          </a:xfrm>
        </p:grpSpPr>
        <p:grpSp>
          <p:nvGrpSpPr>
            <p:cNvPr id="289" name=""/>
            <p:cNvGrpSpPr/>
            <p:nvPr/>
          </p:nvGrpSpPr>
          <p:grpSpPr>
            <a:xfrm>
              <a:off x="227160" y="1768320"/>
              <a:ext cx="1914120" cy="228600"/>
              <a:chOff x="227160" y="1768320"/>
              <a:chExt cx="1914120" cy="22860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227160" y="1805760"/>
                <a:ext cx="353880" cy="85680"/>
                <a:chOff x="227160" y="1805760"/>
                <a:chExt cx="353880" cy="856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227160" y="1846440"/>
                  <a:ext cx="353880" cy="18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62880" y="1805760"/>
                  <a:ext cx="78120" cy="8568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662400" y="1768320"/>
                <a:ext cx="1478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6600"/>
                    </a:solidFill>
                    <a:latin typeface="Arial"/>
                  </a:rPr>
                  <a:t>MID/17 – 30.52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595440" y="3607560"/>
              <a:ext cx="8046000" cy="1155960"/>
              <a:chOff x="595440" y="3607560"/>
              <a:chExt cx="8046000" cy="115596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47280" y="3638520"/>
                <a:ext cx="7943400" cy="1092600"/>
                <a:chOff x="647280" y="3638520"/>
                <a:chExt cx="7943400" cy="109260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647280" y="4059720"/>
                  <a:ext cx="1132920" cy="2016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80200" y="4059720"/>
                  <a:ext cx="1133280" cy="6714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2913840" y="4317120"/>
                  <a:ext cx="1132920" cy="41364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V="1">
                  <a:off x="4047120" y="3638520"/>
                  <a:ext cx="1143360" cy="6789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90840" y="3638520"/>
                  <a:ext cx="1133280" cy="93636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324480" y="3739320"/>
                  <a:ext cx="1132920" cy="8352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57400" y="373932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595440" y="3607560"/>
                <a:ext cx="8046000" cy="1155960"/>
                <a:chOff x="595440" y="3607560"/>
                <a:chExt cx="8046000" cy="1155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1740240" y="4028760"/>
                  <a:ext cx="8388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595440" y="423324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868840" y="4701600"/>
                  <a:ext cx="9396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003920" y="428508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5145480" y="360756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280920" y="4541400"/>
                  <a:ext cx="8388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405920" y="3702960"/>
                  <a:ext cx="83520" cy="6192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557920" y="3752280"/>
                  <a:ext cx="83520" cy="61560"/>
                </a:xfrm>
                <a:prstGeom prst="rect">
                  <a:avLst/>
                </a:prstGeom>
                <a:solidFill>
                  <a:srgbClr val="ff0000"/>
                </a:solidFill>
                <a:ln w="3816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2" name=""/>
          <p:cNvGrpSpPr/>
          <p:nvPr/>
        </p:nvGrpSpPr>
        <p:grpSpPr>
          <a:xfrm>
            <a:off x="579600" y="1768320"/>
            <a:ext cx="8079480" cy="3184200"/>
            <a:chOff x="579600" y="1768320"/>
            <a:chExt cx="8079480" cy="3184200"/>
          </a:xfrm>
        </p:grpSpPr>
        <p:grpSp>
          <p:nvGrpSpPr>
            <p:cNvPr id="313" name=""/>
            <p:cNvGrpSpPr/>
            <p:nvPr/>
          </p:nvGrpSpPr>
          <p:grpSpPr>
            <a:xfrm>
              <a:off x="579600" y="4200120"/>
              <a:ext cx="8079480" cy="752400"/>
              <a:chOff x="579600" y="4200120"/>
              <a:chExt cx="8079480" cy="752400"/>
            </a:xfrm>
          </p:grpSpPr>
          <p:grpSp>
            <p:nvGrpSpPr>
              <p:cNvPr id="314" name=""/>
              <p:cNvGrpSpPr/>
              <p:nvPr/>
            </p:nvGrpSpPr>
            <p:grpSpPr>
              <a:xfrm>
                <a:off x="646920" y="4262760"/>
                <a:ext cx="7945200" cy="625680"/>
                <a:chOff x="646920" y="4262760"/>
                <a:chExt cx="7945200" cy="625680"/>
              </a:xfrm>
            </p:grpSpPr>
            <p:sp>
              <p:nvSpPr>
                <p:cNvPr id="315" name=""/>
                <p:cNvSpPr/>
                <p:nvPr/>
              </p:nvSpPr>
              <p:spPr>
                <a:xfrm flipV="1">
                  <a:off x="646920" y="4420800"/>
                  <a:ext cx="1133280" cy="540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780200" y="4420800"/>
                  <a:ext cx="1133640" cy="4676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913840" y="4318200"/>
                  <a:ext cx="1133280" cy="5698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4047480" y="4263120"/>
                  <a:ext cx="1143720" cy="554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191200" y="4263120"/>
                  <a:ext cx="113364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6324840" y="4262760"/>
                  <a:ext cx="1133280" cy="31284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458480" y="4263120"/>
                  <a:ext cx="1133640" cy="15768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79600" y="4200120"/>
                <a:ext cx="8079480" cy="752400"/>
                <a:chOff x="579600" y="4200120"/>
                <a:chExt cx="8079480" cy="752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79600" y="441180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713240" y="4356360"/>
                  <a:ext cx="134280" cy="12780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8"/>
                      </a:lnTo>
                      <a:lnTo>
                        <a:pt x="38" y="95"/>
                      </a:lnTo>
                      <a:lnTo>
                        <a:pt x="0" y="48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2848680" y="482472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981960" y="425556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124240" y="4200120"/>
                  <a:ext cx="1357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257880" y="4512960"/>
                  <a:ext cx="133920" cy="129240"/>
                </a:xfrm>
                <a:custGeom>
                  <a:avLst/>
                  <a:gdLst/>
                  <a:ahLst/>
                  <a:rect l="l" t="t" r="r" b="b"/>
                  <a:pathLst>
                    <a:path w="76" h="95">
                      <a:moveTo>
                        <a:pt x="38" y="0"/>
                      </a:moveTo>
                      <a:lnTo>
                        <a:pt x="76" y="47"/>
                      </a:lnTo>
                      <a:lnTo>
                        <a:pt x="38" y="95"/>
                      </a:lnTo>
                      <a:lnTo>
                        <a:pt x="0" y="47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392960" y="4200120"/>
                  <a:ext cx="132840" cy="12924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7"/>
                      </a:lnTo>
                      <a:lnTo>
                        <a:pt x="37" y="95"/>
                      </a:lnTo>
                      <a:lnTo>
                        <a:pt x="0" y="47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526600" y="4356360"/>
                  <a:ext cx="132480" cy="127800"/>
                </a:xfrm>
                <a:custGeom>
                  <a:avLst/>
                  <a:gdLst/>
                  <a:ahLst/>
                  <a:rect l="l" t="t" r="r" b="b"/>
                  <a:pathLst>
                    <a:path w="75" h="95">
                      <a:moveTo>
                        <a:pt x="37" y="0"/>
                      </a:moveTo>
                      <a:lnTo>
                        <a:pt x="75" y="48"/>
                      </a:lnTo>
                      <a:lnTo>
                        <a:pt x="37" y="95"/>
                      </a:lnTo>
                      <a:lnTo>
                        <a:pt x="0" y="48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1" name=""/>
            <p:cNvGrpSpPr/>
            <p:nvPr/>
          </p:nvGrpSpPr>
          <p:grpSpPr>
            <a:xfrm>
              <a:off x="2698560" y="1768320"/>
              <a:ext cx="1810080" cy="228600"/>
              <a:chOff x="2698560" y="1768320"/>
              <a:chExt cx="1810080" cy="228600"/>
            </a:xfrm>
          </p:grpSpPr>
          <p:sp>
            <p:nvSpPr>
              <p:cNvPr id="332" name=""/>
              <p:cNvSpPr/>
              <p:nvPr/>
            </p:nvSpPr>
            <p:spPr>
              <a:xfrm>
                <a:off x="3133440" y="1768320"/>
                <a:ext cx="13752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669900"/>
                    </a:solidFill>
                    <a:latin typeface="Arial Narrow"/>
                  </a:rPr>
                  <a:t>NACC/21 – 24.0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3" name=""/>
              <p:cNvGrpSpPr/>
              <p:nvPr/>
            </p:nvGrpSpPr>
            <p:grpSpPr>
              <a:xfrm>
                <a:off x="2698560" y="1804320"/>
                <a:ext cx="363240" cy="113400"/>
                <a:chOff x="2698560" y="1804320"/>
                <a:chExt cx="363240" cy="1134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698560" y="1860840"/>
                  <a:ext cx="363240" cy="1800"/>
                </a:xfrm>
                <a:prstGeom prst="line">
                  <a:avLst/>
                </a:prstGeom>
                <a:ln w="3816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819520" y="1804320"/>
                  <a:ext cx="120960" cy="113400"/>
                </a:xfrm>
                <a:custGeom>
                  <a:avLst/>
                  <a:gdLst/>
                  <a:ahLst/>
                  <a:rect l="l" t="t" r="r" b="b"/>
                  <a:pathLst>
                    <a:path w="54" h="68">
                      <a:moveTo>
                        <a:pt x="27" y="0"/>
                      </a:moveTo>
                      <a:lnTo>
                        <a:pt x="54" y="34"/>
                      </a:lnTo>
                      <a:lnTo>
                        <a:pt x="27" y="68"/>
                      </a:lnTo>
                      <a:lnTo>
                        <a:pt x="0" y="34"/>
                      </a:lnTo>
                      <a:lnTo>
                        <a:pt x="27" y="0"/>
                      </a:lnTo>
                      <a:close/>
                    </a:path>
                  </a:pathLst>
                </a:custGeom>
                <a:solidFill>
                  <a:srgbClr val="ff3300"/>
                </a:solidFill>
                <a:ln w="3816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6" name=""/>
          <p:cNvGrpSpPr/>
          <p:nvPr/>
        </p:nvGrpSpPr>
        <p:grpSpPr>
          <a:xfrm>
            <a:off x="598320" y="1770120"/>
            <a:ext cx="8051760" cy="3320280"/>
            <a:chOff x="598320" y="1770120"/>
            <a:chExt cx="8051760" cy="3320280"/>
          </a:xfrm>
        </p:grpSpPr>
        <p:grpSp>
          <p:nvGrpSpPr>
            <p:cNvPr id="337" name=""/>
            <p:cNvGrpSpPr/>
            <p:nvPr/>
          </p:nvGrpSpPr>
          <p:grpSpPr>
            <a:xfrm>
              <a:off x="598320" y="3731400"/>
              <a:ext cx="8051760" cy="1359000"/>
              <a:chOff x="598320" y="3731400"/>
              <a:chExt cx="8051760" cy="1359000"/>
            </a:xfrm>
          </p:grpSpPr>
          <p:sp>
            <p:nvSpPr>
              <p:cNvPr id="338" name=""/>
              <p:cNvSpPr/>
              <p:nvPr/>
            </p:nvSpPr>
            <p:spPr>
              <a:xfrm>
                <a:off x="646200" y="4824720"/>
                <a:ext cx="1134360" cy="1548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9" name=""/>
              <p:cNvGrpSpPr/>
              <p:nvPr/>
            </p:nvGrpSpPr>
            <p:grpSpPr>
              <a:xfrm>
                <a:off x="598320" y="3731400"/>
                <a:ext cx="8051760" cy="1359000"/>
                <a:chOff x="598320" y="3731400"/>
                <a:chExt cx="8051760" cy="1359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1780920" y="4979520"/>
                  <a:ext cx="1132920" cy="55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V="1">
                  <a:off x="2913840" y="4566960"/>
                  <a:ext cx="1134000" cy="4676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4048200" y="3941640"/>
                  <a:ext cx="1142280" cy="6253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190480" y="3942000"/>
                  <a:ext cx="1134360" cy="9378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6324840" y="4457160"/>
                  <a:ext cx="1132920" cy="4222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7458120" y="3776760"/>
                  <a:ext cx="1134360" cy="6804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98320" y="4777920"/>
                  <a:ext cx="1054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1730880" y="4934520"/>
                  <a:ext cx="10584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2865600" y="4988520"/>
                  <a:ext cx="10728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999960" y="4520880"/>
                  <a:ext cx="105840" cy="10188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42240" y="3895200"/>
                  <a:ext cx="105480" cy="10224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276600" y="4833720"/>
                  <a:ext cx="10440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409520" y="4411080"/>
                  <a:ext cx="107280" cy="1008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8545680" y="3731400"/>
                  <a:ext cx="104400" cy="9936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H="1">
                  <a:off x="608760" y="4824720"/>
                  <a:ext cx="37440" cy="1080"/>
                </a:xfrm>
                <a:prstGeom prst="line">
                  <a:avLst/>
                </a:prstGeom>
                <a:ln w="792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" name=""/>
            <p:cNvGrpSpPr/>
            <p:nvPr/>
          </p:nvGrpSpPr>
          <p:grpSpPr>
            <a:xfrm>
              <a:off x="4993920" y="1770120"/>
              <a:ext cx="1609200" cy="228600"/>
              <a:chOff x="4993920" y="1770120"/>
              <a:chExt cx="1609200" cy="228600"/>
            </a:xfrm>
          </p:grpSpPr>
          <p:sp>
            <p:nvSpPr>
              <p:cNvPr id="356" name=""/>
              <p:cNvSpPr/>
              <p:nvPr/>
            </p:nvSpPr>
            <p:spPr>
              <a:xfrm>
                <a:off x="5333040" y="1770120"/>
                <a:ext cx="12700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00ff"/>
                    </a:solidFill>
                    <a:latin typeface="Arial Narrow"/>
                  </a:rPr>
                  <a:t>SAM/13 – 23.24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4993920" y="1815120"/>
                <a:ext cx="250920" cy="95400"/>
                <a:chOff x="4993920" y="1815120"/>
                <a:chExt cx="250920" cy="954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4993920" y="1858680"/>
                  <a:ext cx="250920" cy="14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076360" y="1815120"/>
                  <a:ext cx="93240" cy="95400"/>
                </a:xfrm>
                <a:prstGeom prst="rect">
                  <a:avLst/>
                </a:prstGeom>
                <a:solidFill>
                  <a:srgbClr val="800080"/>
                </a:solidFill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0" name=""/>
          <p:cNvGrpSpPr/>
          <p:nvPr/>
        </p:nvGrpSpPr>
        <p:grpSpPr>
          <a:xfrm>
            <a:off x="560520" y="1770120"/>
            <a:ext cx="8321760" cy="1869120"/>
            <a:chOff x="560520" y="1770120"/>
            <a:chExt cx="8321760" cy="1869120"/>
          </a:xfrm>
        </p:grpSpPr>
        <p:grpSp>
          <p:nvGrpSpPr>
            <p:cNvPr id="361" name=""/>
            <p:cNvGrpSpPr/>
            <p:nvPr/>
          </p:nvGrpSpPr>
          <p:grpSpPr>
            <a:xfrm>
              <a:off x="560520" y="2428200"/>
              <a:ext cx="8090280" cy="1211040"/>
              <a:chOff x="560520" y="2428200"/>
              <a:chExt cx="8090280" cy="121104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627480" y="3115440"/>
                <a:ext cx="1134360" cy="4676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61840" y="3115800"/>
                <a:ext cx="1132560" cy="1094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894760" y="3225600"/>
                <a:ext cx="1134360" cy="1022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029120" y="3327840"/>
                <a:ext cx="114192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191560" y="3181320"/>
                <a:ext cx="1103040" cy="35676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6325920" y="2491200"/>
                <a:ext cx="1132920" cy="6796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58840" y="2491200"/>
                <a:ext cx="1134360" cy="21060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60520" y="3520440"/>
                <a:ext cx="12456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694880" y="3051000"/>
                <a:ext cx="12348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2829240" y="3161160"/>
                <a:ext cx="124560" cy="11988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963600" y="3263040"/>
                <a:ext cx="12312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24600" y="3474000"/>
                <a:ext cx="12420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58960" y="3106800"/>
                <a:ext cx="12312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392960" y="2428200"/>
                <a:ext cx="124560" cy="11844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527320" y="2638440"/>
                <a:ext cx="123480" cy="118800"/>
              </a:xfrm>
              <a:prstGeom prst="ellipse">
                <a:avLst/>
              </a:prstGeom>
              <a:solidFill>
                <a:srgbClr val="006699"/>
              </a:solidFill>
              <a:ln w="3816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6842520" y="1770120"/>
              <a:ext cx="2039760" cy="228600"/>
              <a:chOff x="6842520" y="1770120"/>
              <a:chExt cx="2039760" cy="228600"/>
            </a:xfrm>
          </p:grpSpPr>
          <p:sp>
            <p:nvSpPr>
              <p:cNvPr id="378" name=""/>
              <p:cNvSpPr/>
              <p:nvPr/>
            </p:nvSpPr>
            <p:spPr>
              <a:xfrm>
                <a:off x="7375680" y="1770120"/>
                <a:ext cx="1506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27200"/>
                    <a:tab algn="l" pos="1454040"/>
                    <a:tab algn="l" pos="2181240"/>
                    <a:tab algn="l" pos="2908440"/>
                    <a:tab algn="l" pos="3635280"/>
                    <a:tab algn="l" pos="4362480"/>
                    <a:tab algn="l" pos="5089680"/>
                    <a:tab algn="l" pos="5816520"/>
                    <a:tab algn="l" pos="6543720"/>
                    <a:tab algn="l" pos="7270920"/>
                    <a:tab algn="l" pos="7997760"/>
                    <a:tab algn="l" pos="8724960"/>
                    <a:tab algn="l" pos="9451800"/>
                    <a:tab algn="l" pos="10179000"/>
                    <a:tab algn="l" pos="10906200"/>
                  </a:tabLst>
                </a:pPr>
                <a:r>
                  <a:rPr b="1" lang="en-US" sz="1500" spc="-1" strike="noStrike">
                    <a:solidFill>
                      <a:srgbClr val="008080"/>
                    </a:solidFill>
                    <a:latin typeface="Arial Narrow"/>
                  </a:rPr>
                  <a:t>WACAF/21 – 49.37%</a:t>
                </a:r>
                <a:endParaRPr b="0" lang="en-US" sz="15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9" name=""/>
              <p:cNvGrpSpPr/>
              <p:nvPr/>
            </p:nvGrpSpPr>
            <p:grpSpPr>
              <a:xfrm>
                <a:off x="6842520" y="1801080"/>
                <a:ext cx="448920" cy="123840"/>
                <a:chOff x="6842520" y="1801080"/>
                <a:chExt cx="448920" cy="123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842520" y="1869480"/>
                  <a:ext cx="448920" cy="216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991920" y="1801080"/>
                  <a:ext cx="135720" cy="123840"/>
                </a:xfrm>
                <a:prstGeom prst="ellipse">
                  <a:avLst/>
                </a:prstGeom>
                <a:solidFill>
                  <a:srgbClr val="006699"/>
                </a:solidFill>
                <a:ln w="38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2" name=""/>
          <p:cNvSpPr/>
          <p:nvPr/>
        </p:nvSpPr>
        <p:spPr>
          <a:xfrm>
            <a:off x="1805400" y="870120"/>
            <a:ext cx="69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alta de implantación efectiva de los elementos crítico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60" y="1522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éndice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076600" y="6297480"/>
            <a:ext cx="7855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Resolución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Cuestiones 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segurida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0360" y="603576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0360" y="546588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28600" y="4881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600" y="43084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37242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28600" y="3152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25686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28600" y="199872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28600" y="141300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8080" y="6294600"/>
            <a:ext cx="645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Legisl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aeronáutic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básic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9280" y="6294600"/>
            <a:ext cx="88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Reglamen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24600" y="6294600"/>
            <a:ext cx="13294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Composi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de la ACC 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Funciones de vigilancia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841200" y="6294600"/>
            <a:ext cx="78552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Materi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técnic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de orient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60440" y="6294600"/>
            <a:ext cx="60120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Person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técnic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capacit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06240" y="6294600"/>
            <a:ext cx="773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Otorgamient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de licenci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y certificació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11880" y="6294600"/>
            <a:ext cx="651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Vigilanci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ccccff"/>
                </a:solidFill>
                <a:latin typeface="Arial Narrow"/>
              </a:rPr>
              <a:t>perman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3120" y="1330200"/>
            <a:ext cx="8499600" cy="4870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1440" y="62006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1440" y="5502240"/>
            <a:ext cx="84992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1440" y="48150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41440" y="41148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41440" y="3416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1440" y="27162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440" y="2030400"/>
            <a:ext cx="84992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3960" y="1160640"/>
            <a:ext cx="84996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5428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6712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78160" y="1330200"/>
            <a:ext cx="324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0216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1500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2784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040680" y="1330200"/>
            <a:ext cx="1800" cy="4870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1440" y="1330200"/>
            <a:ext cx="1440" cy="4870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00040" y="550224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0040" y="4815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0040" y="41148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00040" y="3416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0040" y="27162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0040" y="20304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2920" y="1160640"/>
            <a:ext cx="41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77720" y="3747960"/>
            <a:ext cx="8665920" cy="1004760"/>
            <a:chOff x="477720" y="3747960"/>
            <a:chExt cx="8665920" cy="1004760"/>
          </a:xfrm>
        </p:grpSpPr>
        <p:sp>
          <p:nvSpPr>
            <p:cNvPr id="426" name=""/>
            <p:cNvSpPr/>
            <p:nvPr/>
          </p:nvSpPr>
          <p:spPr>
            <a:xfrm>
              <a:off x="5433840" y="3822480"/>
              <a:ext cx="1212840" cy="7714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77720" y="3747960"/>
              <a:ext cx="8665920" cy="1004760"/>
              <a:chOff x="477720" y="3747960"/>
              <a:chExt cx="8665920" cy="1004760"/>
            </a:xfrm>
          </p:grpSpPr>
          <p:sp>
            <p:nvSpPr>
              <p:cNvPr id="428" name=""/>
              <p:cNvSpPr/>
              <p:nvPr/>
            </p:nvSpPr>
            <p:spPr>
              <a:xfrm flipV="1">
                <a:off x="572760" y="4249080"/>
                <a:ext cx="1212840" cy="282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785600" y="4249440"/>
                <a:ext cx="1212840" cy="417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998440" y="4188960"/>
                <a:ext cx="1211400" cy="4777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209840" y="3833640"/>
                <a:ext cx="1224000" cy="3556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6646680" y="3833280"/>
                <a:ext cx="1212840" cy="7714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59520" y="3833640"/>
                <a:ext cx="1212840" cy="7308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477720" y="3747960"/>
                <a:ext cx="8665920" cy="1004760"/>
                <a:chOff x="477720" y="3747960"/>
                <a:chExt cx="8665920" cy="10047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477720" y="445752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712520" y="41637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925360" y="458136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138200" y="4103640"/>
                  <a:ext cx="14472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36076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73600" y="4519440"/>
                  <a:ext cx="144360" cy="173160"/>
                </a:xfrm>
                <a:custGeom>
                  <a:avLst/>
                  <a:gdLst/>
                  <a:ahLst/>
                  <a:rect l="l" t="t" r="r" b="b"/>
                  <a:pathLst>
                    <a:path w="84" h="109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9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786440" y="374796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8999280" y="3821040"/>
                  <a:ext cx="144360" cy="171360"/>
                </a:xfrm>
                <a:custGeom>
                  <a:avLst/>
                  <a:gdLst/>
                  <a:ahLst/>
                  <a:rect l="l" t="t" r="r" b="b"/>
                  <a:pathLst>
                    <a:path w="84" h="108">
                      <a:moveTo>
                        <a:pt x="42" y="0"/>
                      </a:moveTo>
                      <a:lnTo>
                        <a:pt x="84" y="54"/>
                      </a:lnTo>
                      <a:lnTo>
                        <a:pt x="42" y="108"/>
                      </a:lnTo>
                      <a:lnTo>
                        <a:pt x="0" y="54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3" name=""/>
          <p:cNvGrpSpPr/>
          <p:nvPr/>
        </p:nvGrpSpPr>
        <p:grpSpPr>
          <a:xfrm>
            <a:off x="488880" y="3048120"/>
            <a:ext cx="8602560" cy="1411200"/>
            <a:chOff x="488880" y="3048120"/>
            <a:chExt cx="8602560" cy="1411200"/>
          </a:xfrm>
        </p:grpSpPr>
        <p:sp>
          <p:nvSpPr>
            <p:cNvPr id="444" name=""/>
            <p:cNvSpPr/>
            <p:nvPr/>
          </p:nvSpPr>
          <p:spPr>
            <a:xfrm flipV="1">
              <a:off x="541080" y="3133800"/>
              <a:ext cx="1212840" cy="147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53920" y="3133800"/>
              <a:ext cx="121284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966760" y="3133800"/>
              <a:ext cx="1211400" cy="12636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178160" y="3110040"/>
              <a:ext cx="1224000" cy="237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02160" y="3110040"/>
              <a:ext cx="1212840" cy="58896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615000" y="3133800"/>
              <a:ext cx="1212840" cy="56520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827840" y="3133800"/>
              <a:ext cx="1212840" cy="36720"/>
            </a:xfrm>
            <a:prstGeom prst="line">
              <a:avLst/>
            </a:prstGeom>
            <a:ln w="57240">
              <a:solidFill>
                <a:srgbClr val="00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8880" y="3219480"/>
              <a:ext cx="10296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0172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14560" y="43354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127400" y="3071880"/>
              <a:ext cx="10296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349600" y="304812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62440" y="363708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5280" y="3071880"/>
              <a:ext cx="103320" cy="12384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0" y="0"/>
                  </a:moveTo>
                  <a:lnTo>
                    <a:pt x="60" y="78"/>
                  </a:lnTo>
                  <a:lnTo>
                    <a:pt x="0" y="7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88120" y="3110040"/>
              <a:ext cx="103320" cy="122400"/>
            </a:xfrm>
            <a:custGeom>
              <a:avLst/>
              <a:gdLst/>
              <a:ahLst/>
              <a:rect l="l" t="t" r="r" b="b"/>
              <a:pathLst>
                <a:path w="60" h="77">
                  <a:moveTo>
                    <a:pt x="30" y="0"/>
                  </a:moveTo>
                  <a:lnTo>
                    <a:pt x="60" y="77"/>
                  </a:lnTo>
                  <a:lnTo>
                    <a:pt x="0" y="77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1671480" y="4924440"/>
            <a:ext cx="1749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84320" y="5305320"/>
            <a:ext cx="1749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1972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532560" y="4888080"/>
            <a:ext cx="1746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745400" y="4508640"/>
            <a:ext cx="17460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958240" y="4740120"/>
            <a:ext cx="174600" cy="2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06280" y="1020600"/>
            <a:ext cx="8839440" cy="281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cecfe"/>
              </a:gs>
              <a:gs pos="100000">
                <a:srgbClr val="ccccff"/>
              </a:gs>
            </a:gsLst>
            <a:lin ang="5400000"/>
          </a:gradFill>
          <a:ln w="0">
            <a:solidFill>
              <a:srgbClr val="cccc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12080" y="1038240"/>
            <a:ext cx="21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LOBAL: 178 (28.51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25800" y="1160640"/>
            <a:ext cx="285840" cy="14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21200" y="1098720"/>
            <a:ext cx="95040" cy="123480"/>
          </a:xfrm>
          <a:custGeom>
            <a:avLst/>
            <a:gdLst/>
            <a:ahLst/>
            <a:rect l="l" t="t" r="r" b="b"/>
            <a:pathLst>
              <a:path w="60" h="78">
                <a:moveTo>
                  <a:pt x="30" y="0"/>
                </a:moveTo>
                <a:lnTo>
                  <a:pt x="60" y="78"/>
                </a:lnTo>
                <a:lnTo>
                  <a:pt x="0" y="78"/>
                </a:lnTo>
                <a:lnTo>
                  <a:pt x="30" y="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528000" y="1038240"/>
            <a:ext cx="3015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ahoma"/>
              </a:rPr>
              <a:t>AMERICA CENTRAL :6 (40.3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124760" y="1082520"/>
            <a:ext cx="1220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856560" y="1160640"/>
            <a:ext cx="284040" cy="144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302240" y="1038240"/>
            <a:ext cx="164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: 11 (18.23%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69440" y="4508280"/>
            <a:ext cx="8637840" cy="990000"/>
            <a:chOff x="469440" y="4508280"/>
            <a:chExt cx="8637840" cy="990000"/>
          </a:xfrm>
        </p:grpSpPr>
        <p:grpSp>
          <p:nvGrpSpPr>
            <p:cNvPr id="474" name=""/>
            <p:cNvGrpSpPr/>
            <p:nvPr/>
          </p:nvGrpSpPr>
          <p:grpSpPr>
            <a:xfrm>
              <a:off x="4112640" y="4766760"/>
              <a:ext cx="144720" cy="172440"/>
              <a:chOff x="4112640" y="4766760"/>
              <a:chExt cx="144720" cy="172440"/>
            </a:xfrm>
          </p:grpSpPr>
          <p:grpSp>
            <p:nvGrpSpPr>
              <p:cNvPr id="475" name=""/>
              <p:cNvGrpSpPr/>
              <p:nvPr/>
            </p:nvGrpSpPr>
            <p:grpSpPr>
              <a:xfrm>
                <a:off x="4112640" y="4766760"/>
                <a:ext cx="144720" cy="172440"/>
                <a:chOff x="4112640" y="4766760"/>
                <a:chExt cx="144720" cy="172440"/>
              </a:xfrm>
            </p:grpSpPr>
            <p:sp>
              <p:nvSpPr>
                <p:cNvPr id="476" name=""/>
                <p:cNvSpPr/>
                <p:nvPr/>
              </p:nvSpPr>
              <p:spPr>
                <a:xfrm flipH="1" flipV="1">
                  <a:off x="4112640" y="4766760"/>
                  <a:ext cx="730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186080" y="4852440"/>
                  <a:ext cx="712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>
                  <a:off x="4112640" y="4852440"/>
                  <a:ext cx="7308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4186080" y="4766760"/>
                  <a:ext cx="7128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4186080" y="4766760"/>
                  <a:ext cx="1440" cy="853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>
                <a:off x="4186080" y="4852440"/>
                <a:ext cx="1440" cy="8676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469440" y="4508280"/>
              <a:ext cx="8637840" cy="990000"/>
              <a:chOff x="469440" y="4508280"/>
              <a:chExt cx="8637840" cy="990000"/>
            </a:xfrm>
          </p:grpSpPr>
          <p:sp>
            <p:nvSpPr>
              <p:cNvPr id="483" name=""/>
              <p:cNvSpPr/>
              <p:nvPr/>
            </p:nvSpPr>
            <p:spPr>
              <a:xfrm flipV="1">
                <a:off x="541080" y="5022360"/>
                <a:ext cx="1212840" cy="2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53920" y="50227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4178160" y="4604760"/>
                <a:ext cx="122400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2966760" y="4838040"/>
                <a:ext cx="1211400" cy="5648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02160" y="460512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615000" y="4604760"/>
                <a:ext cx="1212840" cy="380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827840" y="4605120"/>
                <a:ext cx="1212840" cy="2329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97160" y="4740120"/>
                <a:ext cx="174600" cy="20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1" name=""/>
              <p:cNvGrpSpPr/>
              <p:nvPr/>
            </p:nvGrpSpPr>
            <p:grpSpPr>
              <a:xfrm>
                <a:off x="5328720" y="4519080"/>
                <a:ext cx="144720" cy="172800"/>
                <a:chOff x="5328720" y="4519080"/>
                <a:chExt cx="144720" cy="172800"/>
              </a:xfrm>
            </p:grpSpPr>
            <p:grpSp>
              <p:nvGrpSpPr>
                <p:cNvPr id="492" name=""/>
                <p:cNvGrpSpPr/>
                <p:nvPr/>
              </p:nvGrpSpPr>
              <p:grpSpPr>
                <a:xfrm>
                  <a:off x="5328720" y="4519080"/>
                  <a:ext cx="144720" cy="172800"/>
                  <a:chOff x="5328720" y="4519080"/>
                  <a:chExt cx="144720" cy="172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 flipH="1" flipV="1">
                    <a:off x="5328720" y="45190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402160" y="46047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flipH="1">
                    <a:off x="5328720" y="46047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 flipV="1">
                    <a:off x="5402160" y="45190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 flipV="1">
                    <a:off x="5402160" y="45190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8" name=""/>
                <p:cNvSpPr/>
                <p:nvPr/>
              </p:nvSpPr>
              <p:spPr>
                <a:xfrm>
                  <a:off x="5402160" y="46047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6540120" y="4885920"/>
                <a:ext cx="144720" cy="172440"/>
                <a:chOff x="6540120" y="4885920"/>
                <a:chExt cx="144720" cy="172440"/>
              </a:xfrm>
            </p:grpSpPr>
            <p:grpSp>
              <p:nvGrpSpPr>
                <p:cNvPr id="500" name=""/>
                <p:cNvGrpSpPr/>
                <p:nvPr/>
              </p:nvGrpSpPr>
              <p:grpSpPr>
                <a:xfrm>
                  <a:off x="6540120" y="4885920"/>
                  <a:ext cx="144720" cy="172440"/>
                  <a:chOff x="6540120" y="4885920"/>
                  <a:chExt cx="144720" cy="172440"/>
                </a:xfrm>
              </p:grpSpPr>
              <p:sp>
                <p:nvSpPr>
                  <p:cNvPr id="501" name=""/>
                  <p:cNvSpPr/>
                  <p:nvPr/>
                </p:nvSpPr>
                <p:spPr>
                  <a:xfrm flipH="1" flipV="1">
                    <a:off x="6540120" y="48859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6613560" y="4971600"/>
                    <a:ext cx="712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H="1">
                    <a:off x="6540120" y="4971600"/>
                    <a:ext cx="73080" cy="8676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960" bIns="399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V="1">
                    <a:off x="6613560" y="48859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V="1">
                    <a:off x="6613560" y="48859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" name=""/>
                <p:cNvSpPr/>
                <p:nvPr/>
              </p:nvSpPr>
              <p:spPr>
                <a:xfrm>
                  <a:off x="6613560" y="4971600"/>
                  <a:ext cx="1440" cy="8676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7751160" y="4508280"/>
                <a:ext cx="144720" cy="172800"/>
                <a:chOff x="7751160" y="4508280"/>
                <a:chExt cx="144720" cy="17280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7751160" y="4508280"/>
                  <a:ext cx="144720" cy="172800"/>
                  <a:chOff x="7751160" y="4508280"/>
                  <a:chExt cx="144720" cy="1728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flipV="1">
                    <a:off x="7751160" y="45082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7824600" y="45939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 flipH="1">
                    <a:off x="7751160" y="45939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V="1">
                    <a:off x="7824600" y="45082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V="1">
                    <a:off x="7824600" y="45082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" name=""/>
                <p:cNvSpPr/>
                <p:nvPr/>
              </p:nvSpPr>
              <p:spPr>
                <a:xfrm>
                  <a:off x="7824600" y="45939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962560" y="4736520"/>
                <a:ext cx="144720" cy="172800"/>
                <a:chOff x="8962560" y="4736520"/>
                <a:chExt cx="144720" cy="172800"/>
              </a:xfrm>
            </p:grpSpPr>
            <p:grpSp>
              <p:nvGrpSpPr>
                <p:cNvPr id="516" name=""/>
                <p:cNvGrpSpPr/>
                <p:nvPr/>
              </p:nvGrpSpPr>
              <p:grpSpPr>
                <a:xfrm>
                  <a:off x="8962560" y="4736520"/>
                  <a:ext cx="144720" cy="172800"/>
                  <a:chOff x="8962560" y="4736520"/>
                  <a:chExt cx="144720" cy="17280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flipV="1">
                    <a:off x="8962560" y="47365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9036000" y="48222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>
                    <a:off x="8962560" y="48222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V="1">
                    <a:off x="9036000" y="47365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V="1">
                    <a:off x="9036000" y="47365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2" name=""/>
                <p:cNvSpPr/>
                <p:nvPr/>
              </p:nvSpPr>
              <p:spPr>
                <a:xfrm>
                  <a:off x="9036000" y="48222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2898360" y="5325480"/>
                <a:ext cx="144720" cy="172800"/>
                <a:chOff x="2898360" y="5325480"/>
                <a:chExt cx="144720" cy="172800"/>
              </a:xfrm>
            </p:grpSpPr>
            <p:grpSp>
              <p:nvGrpSpPr>
                <p:cNvPr id="524" name=""/>
                <p:cNvGrpSpPr/>
                <p:nvPr/>
              </p:nvGrpSpPr>
              <p:grpSpPr>
                <a:xfrm>
                  <a:off x="2898360" y="5325480"/>
                  <a:ext cx="144720" cy="172800"/>
                  <a:chOff x="2898360" y="5325480"/>
                  <a:chExt cx="144720" cy="172800"/>
                </a:xfrm>
              </p:grpSpPr>
              <p:sp>
                <p:nvSpPr>
                  <p:cNvPr id="525" name=""/>
                  <p:cNvSpPr/>
                  <p:nvPr/>
                </p:nvSpPr>
                <p:spPr>
                  <a:xfrm flipH="1" flipV="1">
                    <a:off x="2898360" y="532548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2971800" y="541116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 flipH="1">
                    <a:off x="2898360" y="541116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V="1">
                    <a:off x="2971800" y="532548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2971800" y="532548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2971800" y="541116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1683720" y="4950720"/>
                <a:ext cx="144720" cy="172800"/>
                <a:chOff x="1683720" y="4950720"/>
                <a:chExt cx="144720" cy="172800"/>
              </a:xfrm>
            </p:grpSpPr>
            <p:grpSp>
              <p:nvGrpSpPr>
                <p:cNvPr id="532" name=""/>
                <p:cNvGrpSpPr/>
                <p:nvPr/>
              </p:nvGrpSpPr>
              <p:grpSpPr>
                <a:xfrm>
                  <a:off x="1683720" y="4950720"/>
                  <a:ext cx="144720" cy="172800"/>
                  <a:chOff x="1683720" y="4950720"/>
                  <a:chExt cx="144720" cy="17280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flipV="1">
                    <a:off x="1683720" y="495072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1757160" y="503640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>
                    <a:off x="1683720" y="503640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V="1">
                    <a:off x="1757160" y="495072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1757160" y="495072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38" name=""/>
                <p:cNvSpPr/>
                <p:nvPr/>
              </p:nvSpPr>
              <p:spPr>
                <a:xfrm>
                  <a:off x="1757160" y="503640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469440" y="4953960"/>
                <a:ext cx="144720" cy="172800"/>
                <a:chOff x="469440" y="4953960"/>
                <a:chExt cx="144720" cy="1728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69440" y="4953960"/>
                  <a:ext cx="144720" cy="172800"/>
                  <a:chOff x="469440" y="4953960"/>
                  <a:chExt cx="144720" cy="1728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469440" y="4953960"/>
                    <a:ext cx="730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42880" y="5039640"/>
                    <a:ext cx="712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flipH="1">
                    <a:off x="469440" y="5039640"/>
                    <a:ext cx="73080" cy="871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542880" y="4953960"/>
                    <a:ext cx="7128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>
                    <a:off x="542880" y="4953960"/>
                    <a:ext cx="1440" cy="85320"/>
                  </a:xfrm>
                  <a:prstGeom prst="line">
                    <a:avLst/>
                  </a:prstGeom>
                  <a:ln w="28440">
                    <a:solidFill>
                      <a:srgbClr val="0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6" name=""/>
                <p:cNvSpPr/>
                <p:nvPr/>
              </p:nvSpPr>
              <p:spPr>
                <a:xfrm>
                  <a:off x="542880" y="5039640"/>
                  <a:ext cx="1440" cy="87120"/>
                </a:xfrm>
                <a:prstGeom prst="line">
                  <a:avLst/>
                </a:prstGeom>
                <a:ln w="284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47" name=""/>
          <p:cNvGrpSpPr/>
          <p:nvPr/>
        </p:nvGrpSpPr>
        <p:grpSpPr>
          <a:xfrm>
            <a:off x="6924240" y="1074600"/>
            <a:ext cx="144720" cy="173160"/>
            <a:chOff x="6924240" y="1074600"/>
            <a:chExt cx="144720" cy="173160"/>
          </a:xfrm>
        </p:grpSpPr>
        <p:grpSp>
          <p:nvGrpSpPr>
            <p:cNvPr id="548" name=""/>
            <p:cNvGrpSpPr/>
            <p:nvPr/>
          </p:nvGrpSpPr>
          <p:grpSpPr>
            <a:xfrm>
              <a:off x="6924240" y="1074600"/>
              <a:ext cx="144720" cy="173160"/>
              <a:chOff x="6924240" y="1074600"/>
              <a:chExt cx="144720" cy="173160"/>
            </a:xfrm>
          </p:grpSpPr>
          <p:sp>
            <p:nvSpPr>
              <p:cNvPr id="549" name=""/>
              <p:cNvSpPr/>
              <p:nvPr/>
            </p:nvSpPr>
            <p:spPr>
              <a:xfrm flipH="1" flipV="1">
                <a:off x="6924240" y="1074600"/>
                <a:ext cx="730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997680" y="1160280"/>
                <a:ext cx="712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6924240" y="1160280"/>
                <a:ext cx="73080" cy="874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6997680" y="1074600"/>
                <a:ext cx="7128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6997680" y="1074600"/>
                <a:ext cx="1440" cy="85680"/>
              </a:xfrm>
              <a:prstGeom prst="line">
                <a:avLst/>
              </a:prstGeom>
              <a:ln w="2844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997680" y="1160280"/>
              <a:ext cx="1440" cy="8748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10666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USOAP</a:t>
            </a: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 – </a:t>
            </a: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lusiones y análi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805400" y="609480"/>
            <a:ext cx="694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Falta de implantación efectiva de los elementos crítico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160" y="152280"/>
            <a:ext cx="169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péndice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1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cccc"/>
                </a:solidFill>
                <a:latin typeface="Tahoma"/>
              </a:rPr>
              <a:t>A</a:t>
            </a:r>
            <a:r>
              <a:rPr b="1" i="1" lang="es-MX" sz="2400" spc="-1" strike="noStrike">
                <a:solidFill>
                  <a:srgbClr val="33cccc"/>
                </a:solidFill>
                <a:latin typeface="Tahoma"/>
              </a:rPr>
              <a:t>sociación entre el índice de accidentes a nivel regional </a:t>
            </a:r>
            <a:br>
              <a:rPr sz="2400"/>
            </a:br>
            <a:r>
              <a:rPr b="1" i="1" lang="es-MX" sz="2400" spc="-1" strike="noStrike">
                <a:solidFill>
                  <a:srgbClr val="33cccc"/>
                </a:solidFill>
                <a:latin typeface="Tahoma"/>
              </a:rPr>
              <a:t>y las constataciones de las auditorias</a:t>
            </a:r>
            <a:endParaRPr b="1" lang="en-US" sz="24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042920" y="5996160"/>
            <a:ext cx="771696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45280" y="57862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58880" y="523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58880" y="46022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58880" y="39639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58880" y="2060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58880" y="335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58880" y="2703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58880" y="1405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58880" y="8334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0520" y="869760"/>
            <a:ext cx="0" cy="512748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57320" y="5991120"/>
            <a:ext cx="7661160" cy="0"/>
          </a:xfrm>
          <a:prstGeom prst="line">
            <a:avLst/>
          </a:prstGeom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73160" y="4100400"/>
            <a:ext cx="764856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081080" y="347184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081080" y="44100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81080" y="90180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81080" y="12096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081080" y="155412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081080" y="186840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081080" y="248616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81080" y="3135240"/>
            <a:ext cx="7650000" cy="32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081080" y="378468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081080" y="5695920"/>
            <a:ext cx="7650000" cy="144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081080" y="4761000"/>
            <a:ext cx="7650000" cy="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103400" y="2171880"/>
            <a:ext cx="765000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90440" y="2819520"/>
            <a:ext cx="7650360" cy="28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081080" y="5065560"/>
            <a:ext cx="7650000" cy="180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529080" y="838080"/>
            <a:ext cx="46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710240" y="838080"/>
            <a:ext cx="612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91040" y="838080"/>
            <a:ext cx="648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07220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341440" y="838080"/>
            <a:ext cx="3240" cy="515628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215200" y="851040"/>
            <a:ext cx="3240" cy="5155920"/>
          </a:xfrm>
          <a:prstGeom prst="line">
            <a:avLst/>
          </a:prstGeom>
          <a:ln w="1260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53760" y="6070680"/>
            <a:ext cx="103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Asia</a:t>
            </a:r>
            <a:r>
              <a:rPr b="1" lang="es-MX" sz="1400" spc="-1" strike="noStrike">
                <a:solidFill>
                  <a:srgbClr val="0000ff"/>
                </a:solidFill>
                <a:latin typeface="Arial Narrow"/>
              </a:rPr>
              <a:t> y</a:t>
            </a:r>
            <a:r>
              <a:rPr b="1" lang="en-US" sz="1400" spc="-1" strike="noStrike">
                <a:solidFill>
                  <a:srgbClr val="0000ff"/>
                </a:solidFill>
                <a:latin typeface="Arial Narrow"/>
              </a:rPr>
              <a:t> Pa</a:t>
            </a:r>
            <a:r>
              <a:rPr b="1" lang="es-MX" sz="1400" spc="-1" strike="noStrike">
                <a:solidFill>
                  <a:srgbClr val="0000ff"/>
                </a:solidFill>
                <a:latin typeface="Arial Narrow"/>
              </a:rPr>
              <a:t>cíf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63600" y="6070680"/>
            <a:ext cx="82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Sudamér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2480" y="6019920"/>
            <a:ext cx="1295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Africa orien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merid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66120" y="6070680"/>
            <a:ext cx="9198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Europa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Atlánt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septentri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477680" y="6072120"/>
            <a:ext cx="512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Ori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med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21600" y="6070680"/>
            <a:ext cx="95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N./C. Amér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Y el Ca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810920" y="6070680"/>
            <a:ext cx="846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Afr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occidental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400" spc="-1" strike="noStrike">
                <a:solidFill>
                  <a:srgbClr val="0000ff"/>
                </a:solidFill>
                <a:latin typeface="Arial Narrow"/>
              </a:rPr>
              <a:t>centr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066680" y="1219320"/>
            <a:ext cx="7650000" cy="4809960"/>
            <a:chOff x="1066680" y="1219320"/>
            <a:chExt cx="7650000" cy="4809960"/>
          </a:xfrm>
        </p:grpSpPr>
        <p:grpSp>
          <p:nvGrpSpPr>
            <p:cNvPr id="601" name=""/>
            <p:cNvGrpSpPr/>
            <p:nvPr/>
          </p:nvGrpSpPr>
          <p:grpSpPr>
            <a:xfrm>
              <a:off x="1125360" y="1219320"/>
              <a:ext cx="7129440" cy="4809960"/>
              <a:chOff x="1125360" y="1219320"/>
              <a:chExt cx="7129440" cy="4809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1163520" y="4861080"/>
                <a:ext cx="1170000" cy="10922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359080" y="4862520"/>
                <a:ext cx="1147680" cy="1128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3541680" y="5778720"/>
                <a:ext cx="1155600" cy="2109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07000" y="5775480"/>
                <a:ext cx="1157040" cy="23004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5876640" y="5641920"/>
                <a:ext cx="1170000" cy="37116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7078680" y="1285920"/>
                <a:ext cx="1133280" cy="43387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125360" y="58867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287440" y="47959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3473280" y="594360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63800" y="572940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30920" y="5948640"/>
                <a:ext cx="99720" cy="8064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007040" y="557208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8154720" y="1219320"/>
                <a:ext cx="100080" cy="810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6699"/>
              </a:solidFill>
              <a:ln w="284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1066680" y="1370160"/>
              <a:ext cx="7650000" cy="4151160"/>
              <a:chOff x="1066680" y="1370160"/>
              <a:chExt cx="7650000" cy="4151160"/>
            </a:xfrm>
          </p:grpSpPr>
          <p:sp>
            <p:nvSpPr>
              <p:cNvPr id="616" name=""/>
              <p:cNvSpPr/>
              <p:nvPr/>
            </p:nvSpPr>
            <p:spPr>
              <a:xfrm>
                <a:off x="1066680" y="5519880"/>
                <a:ext cx="7650000" cy="1440"/>
              </a:xfrm>
              <a:prstGeom prst="line">
                <a:avLst/>
              </a:prstGeom>
              <a:ln w="12600">
                <a:solidFill>
                  <a:srgbClr val="0099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17" name=""/>
              <p:cNvGrpSpPr/>
              <p:nvPr/>
            </p:nvGrpSpPr>
            <p:grpSpPr>
              <a:xfrm>
                <a:off x="1216080" y="1370160"/>
                <a:ext cx="6705360" cy="304920"/>
                <a:chOff x="1216080" y="1370160"/>
                <a:chExt cx="6705360" cy="30492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1560600" y="1370160"/>
                  <a:ext cx="6360840" cy="30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400" spc="-1" strike="noStrike">
                      <a:solidFill>
                        <a:srgbClr val="006600"/>
                      </a:solidFill>
                      <a:latin typeface="Arial Narrow"/>
                    </a:rPr>
                    <a:t>Indice de accidentes por millón de  salidas – (Servicios regulares, 1996)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19" name=""/>
                <p:cNvGrpSpPr/>
                <p:nvPr/>
              </p:nvGrpSpPr>
              <p:grpSpPr>
                <a:xfrm>
                  <a:off x="1216080" y="1481400"/>
                  <a:ext cx="360360" cy="81000"/>
                  <a:chOff x="1216080" y="1481400"/>
                  <a:chExt cx="360360" cy="81000"/>
                </a:xfrm>
              </p:grpSpPr>
              <p:sp>
                <p:nvSpPr>
                  <p:cNvPr id="620" name=""/>
                  <p:cNvSpPr/>
                  <p:nvPr/>
                </p:nvSpPr>
                <p:spPr>
                  <a:xfrm>
                    <a:off x="1216080" y="1524240"/>
                    <a:ext cx="360360" cy="1800"/>
                  </a:xfrm>
                  <a:prstGeom prst="line">
                    <a:avLst/>
                  </a:prstGeom>
                  <a:ln w="2844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1347840" y="1481400"/>
                    <a:ext cx="997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67">
                        <a:moveTo>
                          <a:pt x="40" y="0"/>
                        </a:moveTo>
                        <a:lnTo>
                          <a:pt x="81" y="67"/>
                        </a:lnTo>
                        <a:lnTo>
                          <a:pt x="0" y="67"/>
                        </a:lnTo>
                        <a:lnTo>
                          <a:pt x="40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2844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22" name=""/>
          <p:cNvGrpSpPr/>
          <p:nvPr/>
        </p:nvGrpSpPr>
        <p:grpSpPr>
          <a:xfrm>
            <a:off x="1147680" y="896760"/>
            <a:ext cx="7128000" cy="3967200"/>
            <a:chOff x="1147680" y="896760"/>
            <a:chExt cx="7128000" cy="3967200"/>
          </a:xfrm>
        </p:grpSpPr>
        <p:grpSp>
          <p:nvGrpSpPr>
            <p:cNvPr id="623" name=""/>
            <p:cNvGrpSpPr/>
            <p:nvPr/>
          </p:nvGrpSpPr>
          <p:grpSpPr>
            <a:xfrm>
              <a:off x="1147680" y="2789280"/>
              <a:ext cx="7128000" cy="2074680"/>
              <a:chOff x="1147680" y="2789280"/>
              <a:chExt cx="7128000" cy="20746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70240" y="3521160"/>
                <a:ext cx="1157040" cy="13129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195560" y="3521160"/>
                <a:ext cx="1139760" cy="8604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533760" y="4191120"/>
                <a:ext cx="1201680" cy="635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35440" y="4191120"/>
                <a:ext cx="1174680" cy="35712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7054920" y="2838600"/>
                <a:ext cx="1192320" cy="164304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47680" y="435276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309760" y="3473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490920" y="478800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684680" y="414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196120" y="27892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50000" y="4489560"/>
                <a:ext cx="79200" cy="7596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018200" y="4416480"/>
                <a:ext cx="79560" cy="76320"/>
              </a:xfrm>
              <a:prstGeom prst="rect">
                <a:avLst/>
              </a:prstGeom>
              <a:solidFill>
                <a:srgbClr val="0000ff"/>
              </a:solidFill>
              <a:ln w="284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36" name=""/>
              <p:cNvCxnSpPr>
                <a:stCxn id="634" idx="3"/>
                <a:endCxn id="635" idx="1"/>
              </p:cNvCxnSpPr>
              <p:nvPr/>
            </p:nvCxnSpPr>
            <p:spPr>
              <a:xfrm flipV="1">
                <a:off x="5943600" y="4453920"/>
                <a:ext cx="1061280" cy="73800"/>
              </a:xfrm>
              <a:prstGeom prst="straightConnector1">
                <a:avLst/>
              </a:prstGeom>
              <a:ln w="38160">
                <a:solidFill>
                  <a:srgbClr val="0000cc"/>
                </a:solidFill>
                <a:miter/>
              </a:ln>
            </p:spPr>
          </p:cxnSp>
        </p:grpSp>
        <p:grpSp>
          <p:nvGrpSpPr>
            <p:cNvPr id="637" name=""/>
            <p:cNvGrpSpPr/>
            <p:nvPr/>
          </p:nvGrpSpPr>
          <p:grpSpPr>
            <a:xfrm>
              <a:off x="1230480" y="896760"/>
              <a:ext cx="6696000" cy="304920"/>
              <a:chOff x="1230480" y="896760"/>
              <a:chExt cx="6696000" cy="304920"/>
            </a:xfrm>
          </p:grpSpPr>
          <p:sp>
            <p:nvSpPr>
              <p:cNvPr id="638" name=""/>
              <p:cNvSpPr/>
              <p:nvPr/>
            </p:nvSpPr>
            <p:spPr>
              <a:xfrm>
                <a:off x="1565280" y="896760"/>
                <a:ext cx="63612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0000cc"/>
                    </a:solidFill>
                    <a:latin typeface="Arial Narrow"/>
                  </a:rPr>
                  <a:t>Constataciones – Falta de implantación de los SARPs (178 informes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39" name=""/>
              <p:cNvGrpSpPr/>
              <p:nvPr/>
            </p:nvGrpSpPr>
            <p:grpSpPr>
              <a:xfrm>
                <a:off x="1230480" y="1019160"/>
                <a:ext cx="360360" cy="75960"/>
                <a:chOff x="1230480" y="1019160"/>
                <a:chExt cx="360360" cy="7596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1230480" y="105552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368720" y="1019160"/>
                  <a:ext cx="79200" cy="75960"/>
                </a:xfrm>
                <a:prstGeom prst="rect">
                  <a:avLst/>
                </a:prstGeom>
                <a:solidFill>
                  <a:srgbClr val="0000ff"/>
                </a:solidFill>
                <a:ln w="284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2" name=""/>
          <p:cNvGrpSpPr/>
          <p:nvPr/>
        </p:nvGrpSpPr>
        <p:grpSpPr>
          <a:xfrm>
            <a:off x="1008000" y="1676520"/>
            <a:ext cx="7127640" cy="4467240"/>
            <a:chOff x="1008000" y="1676520"/>
            <a:chExt cx="7127640" cy="4467240"/>
          </a:xfrm>
        </p:grpSpPr>
        <p:grpSp>
          <p:nvGrpSpPr>
            <p:cNvPr id="643" name=""/>
            <p:cNvGrpSpPr/>
            <p:nvPr/>
          </p:nvGrpSpPr>
          <p:grpSpPr>
            <a:xfrm>
              <a:off x="1008000" y="2224440"/>
              <a:ext cx="7127640" cy="3919320"/>
              <a:chOff x="1008000" y="2224440"/>
              <a:chExt cx="7127640" cy="3919320"/>
            </a:xfrm>
          </p:grpSpPr>
          <p:grpSp>
            <p:nvGrpSpPr>
              <p:cNvPr id="644" name=""/>
              <p:cNvGrpSpPr/>
              <p:nvPr/>
            </p:nvGrpSpPr>
            <p:grpSpPr>
              <a:xfrm>
                <a:off x="1050840" y="2253960"/>
                <a:ext cx="7038720" cy="3829320"/>
                <a:chOff x="1050840" y="2253960"/>
                <a:chExt cx="7038720" cy="3829320"/>
              </a:xfrm>
            </p:grpSpPr>
            <p:sp>
              <p:nvSpPr>
                <p:cNvPr id="645" name=""/>
                <p:cNvSpPr/>
                <p:nvPr/>
              </p:nvSpPr>
              <p:spPr>
                <a:xfrm flipV="1">
                  <a:off x="1050840" y="5460840"/>
                  <a:ext cx="1170360" cy="467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221200" y="5460840"/>
                  <a:ext cx="1169280" cy="62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 flipV="1">
                  <a:off x="3390840" y="5709600"/>
                  <a:ext cx="1188000" cy="373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4578840" y="5709600"/>
                  <a:ext cx="1170360" cy="3106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5749560" y="5927760"/>
                  <a:ext cx="1170720" cy="91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6920280" y="2253960"/>
                  <a:ext cx="1169280" cy="3673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1008000" y="5891400"/>
                <a:ext cx="8388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174760" y="542484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46200" y="604872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051760" y="222444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879960" y="5891400"/>
                <a:ext cx="84240" cy="9540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03840" y="5986800"/>
                <a:ext cx="8388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38520" y="5639040"/>
                <a:ext cx="84240" cy="9504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107720" y="1676520"/>
              <a:ext cx="6676920" cy="304920"/>
              <a:chOff x="1107720" y="1676520"/>
              <a:chExt cx="6676920" cy="304920"/>
            </a:xfrm>
          </p:grpSpPr>
          <p:sp>
            <p:nvSpPr>
              <p:cNvPr id="659" name=""/>
              <p:cNvSpPr/>
              <p:nvPr/>
            </p:nvSpPr>
            <p:spPr>
              <a:xfrm>
                <a:off x="1431360" y="1676520"/>
                <a:ext cx="63532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ff0000"/>
                    </a:solidFill>
                    <a:latin typeface="Arial Narrow"/>
                  </a:rPr>
                  <a:t>Índice de accidentes por millón de salidas -  (Servicios regulares, 2000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0" name=""/>
              <p:cNvGrpSpPr/>
              <p:nvPr/>
            </p:nvGrpSpPr>
            <p:grpSpPr>
              <a:xfrm>
                <a:off x="1107720" y="1781280"/>
                <a:ext cx="360360" cy="95040"/>
                <a:chOff x="1107720" y="1781280"/>
                <a:chExt cx="360360" cy="950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1107720" y="1824120"/>
                  <a:ext cx="360360" cy="144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1236240" y="1781280"/>
                  <a:ext cx="83880" cy="9504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63" name=""/>
          <p:cNvSpPr/>
          <p:nvPr/>
        </p:nvSpPr>
        <p:spPr>
          <a:xfrm>
            <a:off x="0" y="380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Apéndice 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0" y="0"/>
            <a:ext cx="9144000" cy="713160"/>
          </a:xfrm>
          <a:prstGeom prst="rect">
            <a:avLst/>
          </a:prstGeom>
          <a:gradFill rotWithShape="0">
            <a:gsLst>
              <a:gs pos="0">
                <a:srgbClr val="afafdb"/>
              </a:gs>
              <a:gs pos="50000">
                <a:srgbClr val="ccccff"/>
              </a:gs>
              <a:gs pos="100000">
                <a:srgbClr val="afa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Benefi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cios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de mantener auditorí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Universal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es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, 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Obligatorias y 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Regular</a:t>
            </a:r>
            <a:r>
              <a:rPr b="1" lang="es-MX" sz="2600" spc="-1" strike="noStrike">
                <a:solidFill>
                  <a:srgbClr val="003366"/>
                </a:solidFill>
                <a:latin typeface="Arial Narrow"/>
              </a:rPr>
              <a:t>es</a:t>
            </a:r>
            <a:r>
              <a:rPr b="1" lang="en-US" sz="26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983720" y="6039000"/>
            <a:ext cx="975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Resolu</a:t>
            </a: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</a:t>
            </a: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i</a:t>
            </a: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ó</a:t>
            </a: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cuest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segur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79320" y="1530360"/>
            <a:ext cx="7981920" cy="464184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720" y="472932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6720" y="415908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66720" y="357192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6720" y="300204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66720" y="2419200"/>
            <a:ext cx="8005680" cy="32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66720" y="1847880"/>
            <a:ext cx="800568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66720" y="126360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81116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952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95720" y="1263600"/>
            <a:ext cx="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24664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388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53120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672400" y="1263600"/>
            <a:ext cx="1800" cy="462132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66720" y="1263600"/>
            <a:ext cx="1440" cy="4621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28560" y="5884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8560" y="531324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8560" y="472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8560" y="415908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8560" y="357192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28560" y="300204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28560" y="2419200"/>
            <a:ext cx="381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28560" y="184788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28560" y="126360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66720" y="5897520"/>
            <a:ext cx="800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666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181116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95272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095720" y="5884920"/>
            <a:ext cx="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524664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6388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7531200" y="5884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8672400" y="5884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0360" y="577692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60360" y="5207040"/>
            <a:ext cx="18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8600" y="4622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40496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28600" y="34653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28600" y="289404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23097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28600" y="173988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3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28600" y="1154160"/>
            <a:ext cx="36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69080" y="6035760"/>
            <a:ext cx="8449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Legisl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Aeronáu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bás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583640" y="6035760"/>
            <a:ext cx="788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Reglamen-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t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98840" y="6019920"/>
            <a:ext cx="981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omposi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la ACC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 Narrow"/>
              </a:rPr>
              <a:t>Funcion</a:t>
            </a: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es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748320" y="6035760"/>
            <a:ext cx="9759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Orien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tén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878720" y="6035760"/>
            <a:ext cx="764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Técnic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apacit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81680" y="6035760"/>
            <a:ext cx="10234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Otorgamien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de licencias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certific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125840" y="6035760"/>
            <a:ext cx="828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Vigilanc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ccccff"/>
                </a:solidFill>
                <a:latin typeface="Arial Narrow"/>
              </a:rPr>
              <a:t>permanen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66720" y="5313240"/>
            <a:ext cx="800568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622440" y="914400"/>
            <a:ext cx="8064360" cy="3657240"/>
            <a:chOff x="622440" y="914400"/>
            <a:chExt cx="8064360" cy="3657240"/>
          </a:xfrm>
        </p:grpSpPr>
        <p:sp>
          <p:nvSpPr>
            <p:cNvPr id="718" name=""/>
            <p:cNvSpPr/>
            <p:nvPr/>
          </p:nvSpPr>
          <p:spPr>
            <a:xfrm>
              <a:off x="2895480" y="1062000"/>
              <a:ext cx="381240" cy="11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622440" y="914400"/>
              <a:ext cx="8064360" cy="3657240"/>
              <a:chOff x="622440" y="914400"/>
              <a:chExt cx="8064360" cy="3657240"/>
            </a:xfrm>
          </p:grpSpPr>
          <p:sp>
            <p:nvSpPr>
              <p:cNvPr id="720" name=""/>
              <p:cNvSpPr/>
              <p:nvPr/>
            </p:nvSpPr>
            <p:spPr>
              <a:xfrm>
                <a:off x="3233160" y="914400"/>
                <a:ext cx="232956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Audit</a:t>
                </a:r>
                <a:r>
                  <a:rPr b="0" lang="es-MX" sz="1400" spc="-1" strike="noStrike">
                    <a:solidFill>
                      <a:srgbClr val="0000ff"/>
                    </a:solidFill>
                    <a:latin typeface="Arial Narrow"/>
                  </a:rPr>
                  <a:t>oría Inicial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: 22 States (21.82%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2971800" y="992880"/>
                <a:ext cx="109440" cy="149400"/>
              </a:xfrm>
              <a:custGeom>
                <a:avLst/>
                <a:gdLst/>
                <a:ahLst/>
                <a:rect l="l" t="t" r="r" b="b"/>
                <a:pathLst>
                  <a:path w="81" h="67">
                    <a:moveTo>
                      <a:pt x="40" y="0"/>
                    </a:moveTo>
                    <a:lnTo>
                      <a:pt x="81" y="67"/>
                    </a:lnTo>
                    <a:lnTo>
                      <a:pt x="0" y="6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00"/>
              </a:solidFill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22" name=""/>
              <p:cNvGrpSpPr/>
              <p:nvPr/>
            </p:nvGrpSpPr>
            <p:grpSpPr>
              <a:xfrm>
                <a:off x="622440" y="1999800"/>
                <a:ext cx="8064360" cy="2571840"/>
                <a:chOff x="622440" y="1999800"/>
                <a:chExt cx="8064360" cy="2571840"/>
              </a:xfrm>
            </p:grpSpPr>
            <p:cxnSp>
              <p:nvCxnSpPr>
                <p:cNvPr id="723" name=""/>
                <p:cNvCxnSpPr/>
                <p:nvPr/>
              </p:nvCxnSpPr>
              <p:spPr>
                <a:xfrm flipV="1">
                  <a:off x="2987640" y="3854160"/>
                  <a:ext cx="1070640" cy="4579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4" name=""/>
                <p:cNvCxnSpPr/>
                <p:nvPr/>
              </p:nvCxnSpPr>
              <p:spPr>
                <a:xfrm>
                  <a:off x="1836720" y="3398760"/>
                  <a:ext cx="1086480" cy="8676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5" name=""/>
                <p:cNvCxnSpPr/>
                <p:nvPr/>
              </p:nvCxnSpPr>
              <p:spPr>
                <a:xfrm flipV="1">
                  <a:off x="4122720" y="2455560"/>
                  <a:ext cx="1099440" cy="13723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6" name=""/>
                <p:cNvCxnSpPr/>
                <p:nvPr/>
              </p:nvCxnSpPr>
              <p:spPr>
                <a:xfrm>
                  <a:off x="5275080" y="2455560"/>
                  <a:ext cx="1084680" cy="20275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7" name=""/>
                <p:cNvCxnSpPr/>
                <p:nvPr/>
              </p:nvCxnSpPr>
              <p:spPr>
                <a:xfrm flipV="1">
                  <a:off x="6413400" y="2917440"/>
                  <a:ext cx="1085040" cy="156600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8" name=""/>
                <p:cNvCxnSpPr/>
                <p:nvPr/>
              </p:nvCxnSpPr>
              <p:spPr>
                <a:xfrm flipV="1">
                  <a:off x="7551720" y="2004480"/>
                  <a:ext cx="1078200" cy="85968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cxnSp>
              <p:nvCxnSpPr>
                <p:cNvPr id="729" name=""/>
                <p:cNvCxnSpPr/>
                <p:nvPr/>
              </p:nvCxnSpPr>
              <p:spPr>
                <a:xfrm flipV="1">
                  <a:off x="704520" y="3352320"/>
                  <a:ext cx="1067400" cy="339120"/>
                </a:xfrm>
                <a:prstGeom prst="straightConnector1">
                  <a:avLst/>
                </a:prstGeom>
                <a:ln w="38160">
                  <a:solidFill>
                    <a:srgbClr val="ff0000"/>
                  </a:solidFill>
                  <a:prstDash val="dash"/>
                  <a:miter/>
                </a:ln>
              </p:spPr>
            </p:cxnSp>
            <p:sp>
              <p:nvSpPr>
                <p:cNvPr id="730" name=""/>
                <p:cNvSpPr/>
                <p:nvPr/>
              </p:nvSpPr>
              <p:spPr>
                <a:xfrm flipV="1">
                  <a:off x="622440" y="364824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1741320" y="3289320"/>
                  <a:ext cx="10980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2900520" y="4231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V="1">
                  <a:off x="4037040" y="378468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V="1">
                  <a:off x="5186520" y="2381400"/>
                  <a:ext cx="109440" cy="14904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flipV="1">
                  <a:off x="6335640" y="442188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8577360" y="199944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7446960" y="2898000"/>
                  <a:ext cx="109440" cy="149400"/>
                </a:xfrm>
                <a:custGeom>
                  <a:avLst/>
                  <a:gdLst/>
                  <a:ahLst/>
                  <a:rect l="l" t="t" r="r" b="b"/>
                  <a:pathLst>
                    <a:path w="81" h="67">
                      <a:moveTo>
                        <a:pt x="40" y="0"/>
                      </a:moveTo>
                      <a:lnTo>
                        <a:pt x="81" y="67"/>
                      </a:lnTo>
                      <a:lnTo>
                        <a:pt x="0" y="67"/>
                      </a:lnTo>
                      <a:lnTo>
                        <a:pt x="40" y="0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38" name=""/>
          <p:cNvGrpSpPr/>
          <p:nvPr/>
        </p:nvGrpSpPr>
        <p:grpSpPr>
          <a:xfrm>
            <a:off x="609480" y="942840"/>
            <a:ext cx="8115480" cy="4619880"/>
            <a:chOff x="609480" y="942840"/>
            <a:chExt cx="8115480" cy="4619880"/>
          </a:xfrm>
        </p:grpSpPr>
        <p:sp>
          <p:nvSpPr>
            <p:cNvPr id="739" name=""/>
            <p:cNvSpPr/>
            <p:nvPr/>
          </p:nvSpPr>
          <p:spPr>
            <a:xfrm>
              <a:off x="5796000" y="1044720"/>
              <a:ext cx="312840" cy="0"/>
            </a:xfrm>
            <a:prstGeom prst="line">
              <a:avLst/>
            </a:prstGeom>
            <a:ln w="38160">
              <a:solidFill>
                <a:srgbClr val="0099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609480" y="942840"/>
              <a:ext cx="8115480" cy="4619880"/>
              <a:chOff x="609480" y="942840"/>
              <a:chExt cx="8115480" cy="4619880"/>
            </a:xfrm>
          </p:grpSpPr>
          <p:sp>
            <p:nvSpPr>
              <p:cNvPr id="741" name=""/>
              <p:cNvSpPr/>
              <p:nvPr/>
            </p:nvSpPr>
            <p:spPr>
              <a:xfrm>
                <a:off x="6177960" y="942840"/>
                <a:ext cx="206136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400" spc="-1" strike="noStrike">
                    <a:solidFill>
                      <a:srgbClr val="0000ff"/>
                    </a:solidFill>
                    <a:latin typeface="Arial Narrow"/>
                  </a:rPr>
                  <a:t>Seguimiento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: 22 States (7.20%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42080" y="960480"/>
                <a:ext cx="218880" cy="222120"/>
              </a:xfrm>
              <a:prstGeom prst="sun">
                <a:avLst>
                  <a:gd name="adj" fmla="val 25000"/>
                </a:avLst>
              </a:prstGeom>
              <a:solidFill>
                <a:srgbClr val="669900"/>
              </a:solidFill>
              <a:ln w="9360">
                <a:solidFill>
                  <a:srgbClr val="00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609480" y="4514760"/>
                <a:ext cx="8115480" cy="1047960"/>
                <a:chOff x="609480" y="4514760"/>
                <a:chExt cx="8115480" cy="104796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684360" y="4851360"/>
                  <a:ext cx="1144440" cy="23184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1828800" y="4851360"/>
                  <a:ext cx="1141560" cy="5032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2952720" y="5312880"/>
                  <a:ext cx="1143000" cy="414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4095720" y="4851000"/>
                  <a:ext cx="1150920" cy="46188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246640" y="4851360"/>
                  <a:ext cx="1141560" cy="6127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flipV="1">
                  <a:off x="6388200" y="4811760"/>
                  <a:ext cx="1143000" cy="65232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7531200" y="4622400"/>
                  <a:ext cx="1141200" cy="189000"/>
                </a:xfrm>
                <a:prstGeom prst="line">
                  <a:avLst/>
                </a:prstGeom>
                <a:ln w="38160">
                  <a:solidFill>
                    <a:srgbClr val="00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609480" y="493380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701720" y="47433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8505720" y="45147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7391520" y="471168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984480" y="5187960"/>
                  <a:ext cx="21924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2828880" y="5200560"/>
                  <a:ext cx="21924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6286680" y="5340240"/>
                  <a:ext cx="218880" cy="22248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137200" y="4756320"/>
                  <a:ext cx="218880" cy="222120"/>
                </a:xfrm>
                <a:prstGeom prst="sun">
                  <a:avLst>
                    <a:gd name="adj" fmla="val 25000"/>
                  </a:avLst>
                </a:prstGeom>
                <a:solidFill>
                  <a:srgbClr val="669900"/>
                </a:solidFill>
                <a:ln w="936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59" name=""/>
          <p:cNvGrpSpPr/>
          <p:nvPr/>
        </p:nvGrpSpPr>
        <p:grpSpPr>
          <a:xfrm>
            <a:off x="380880" y="914400"/>
            <a:ext cx="8337600" cy="2487600"/>
            <a:chOff x="380880" y="914400"/>
            <a:chExt cx="8337600" cy="2487600"/>
          </a:xfrm>
        </p:grpSpPr>
        <p:grpSp>
          <p:nvGrpSpPr>
            <p:cNvPr id="760" name=""/>
            <p:cNvGrpSpPr/>
            <p:nvPr/>
          </p:nvGrpSpPr>
          <p:grpSpPr>
            <a:xfrm>
              <a:off x="380880" y="914400"/>
              <a:ext cx="2214000" cy="213480"/>
              <a:chOff x="380880" y="914400"/>
              <a:chExt cx="2214000" cy="213480"/>
            </a:xfrm>
          </p:grpSpPr>
          <p:sp>
            <p:nvSpPr>
              <p:cNvPr id="761" name=""/>
              <p:cNvSpPr/>
              <p:nvPr/>
            </p:nvSpPr>
            <p:spPr>
              <a:xfrm>
                <a:off x="380880" y="1042920"/>
                <a:ext cx="235080" cy="1800"/>
              </a:xfrm>
              <a:prstGeom prst="line">
                <a:avLst/>
              </a:prstGeom>
              <a:ln w="381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48000" y="914400"/>
                <a:ext cx="1946880" cy="213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Global: 17</a:t>
                </a:r>
                <a:r>
                  <a:rPr b="0" lang="fr-CA" sz="1400" spc="-1" strike="noStrike">
                    <a:solidFill>
                      <a:srgbClr val="0000ff"/>
                    </a:solidFill>
                    <a:latin typeface="Arial Narrow"/>
                  </a:rPr>
                  <a:t>8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 </a:t>
                </a:r>
                <a:r>
                  <a:rPr b="0" lang="es-MX" sz="1400" spc="-1" strike="noStrike">
                    <a:solidFill>
                      <a:srgbClr val="0000ff"/>
                    </a:solidFill>
                    <a:latin typeface="Arial Narrow"/>
                  </a:rPr>
                  <a:t>Estados </a:t>
                </a:r>
                <a:r>
                  <a:rPr b="0" lang="en-US" sz="1400" spc="-1" strike="noStrike">
                    <a:solidFill>
                      <a:srgbClr val="0000ff"/>
                    </a:solidFill>
                    <a:latin typeface="Arial Narrow"/>
                  </a:rPr>
                  <a:t>(28.79%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28760" y="985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609480" y="1733400"/>
              <a:ext cx="8109000" cy="1668600"/>
              <a:chOff x="609480" y="1733400"/>
              <a:chExt cx="8109000" cy="1668600"/>
            </a:xfrm>
          </p:grpSpPr>
          <p:sp>
            <p:nvSpPr>
              <p:cNvPr id="765" name=""/>
              <p:cNvSpPr/>
              <p:nvPr/>
            </p:nvSpPr>
            <p:spPr>
              <a:xfrm flipV="1">
                <a:off x="2952720" y="2623680"/>
                <a:ext cx="11430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4095720" y="1849320"/>
                <a:ext cx="1150920" cy="77472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46640" y="1849320"/>
                <a:ext cx="1143000" cy="14940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389640" y="1780920"/>
                <a:ext cx="1141560" cy="156204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531200" y="1781280"/>
                <a:ext cx="1141200" cy="17460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66720" y="2624040"/>
                <a:ext cx="1146240" cy="4888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1812960" y="2624040"/>
                <a:ext cx="1141200" cy="746280"/>
              </a:xfrm>
              <a:prstGeom prst="line">
                <a:avLst/>
              </a:prstGeom>
              <a:ln w="3816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09480" y="305280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1738440" y="25718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2876400" y="3287880"/>
                <a:ext cx="14148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577360" y="188604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459560" y="173340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310440" y="3244680"/>
                <a:ext cx="14112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167440" y="1797120"/>
                <a:ext cx="141120" cy="114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019400" y="2584440"/>
                <a:ext cx="141480" cy="11448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0" name=""/>
          <p:cNvSpPr/>
          <p:nvPr/>
        </p:nvSpPr>
        <p:spPr>
          <a:xfrm>
            <a:off x="230040" y="152280"/>
            <a:ext cx="16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f1e"/>
                </a:solidFill>
                <a:latin typeface="Times New Roman"/>
              </a:rPr>
              <a:t>Apéndice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Claudia Lopez</dc:creator>
  <dc:description/>
  <dc:language>en-US</dc:language>
  <cp:lastModifiedBy>Guadalupe Zubieta</cp:lastModifiedBy>
  <cp:lastPrinted>1999-01-07T20:35:36Z</cp:lastPrinted>
  <dcterms:modified xsi:type="dcterms:W3CDTF">2002-08-22T17:51:31Z</dcterms:modified>
  <cp:revision>319</cp:revision>
  <dc:subject>Safety oversight seminar presentation</dc:subject>
  <dc:title>First Meeting of Directors of Civil Aviation of the Caribbean Region (DCA/CAR/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73800.00000000</vt:lpwstr>
  </property>
  <property fmtid="{D5CDD505-2E9C-101B-9397-08002B2CF9AE}" pid="5" name="Year">
    <vt:lpwstr>2002</vt:lpwstr>
  </property>
</Properties>
</file>