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1066680" cy="68245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228600" y="539640"/>
            <a:ext cx="1307160" cy="677880"/>
            <a:chOff x="228600" y="539640"/>
            <a:chExt cx="1307160" cy="677880"/>
          </a:xfrm>
        </p:grpSpPr>
        <p:graphicFrame>
          <p:nvGraphicFramePr>
            <p:cNvPr id="40" name=""/>
            <p:cNvGraphicFramePr/>
            <p:nvPr/>
          </p:nvGraphicFramePr>
          <p:xfrm>
            <a:off x="311040" y="585720"/>
            <a:ext cx="1212840" cy="63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1040" y="585720"/>
                      <a:ext cx="121284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" name=""/>
            <p:cNvSpPr/>
            <p:nvPr/>
          </p:nvSpPr>
          <p:spPr>
            <a:xfrm rot="1680000">
              <a:off x="1355400" y="795240"/>
              <a:ext cx="88920" cy="41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539640"/>
              <a:ext cx="676440" cy="9216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523880" y="12193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62485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608320" y="6248520"/>
            <a:ext cx="100188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ril 9-11, 2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54360" y="293760"/>
            <a:ext cx="7670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sv-SE" sz="2400" spc="-1" strike="noStrike">
                <a:solidFill>
                  <a:srgbClr val="00279f"/>
                </a:solidFill>
                <a:latin typeface="Britannic Bold"/>
              </a:rPr>
              <a:t>Colloquium on Environmental Aspects of A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16765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17600"/>
            <a:ext cx="9906120" cy="24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Times New Roman"/>
              </a:rPr>
              <a:t>A European Perspec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Times New Roman"/>
              </a:rPr>
              <a:t>on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Ingemar Skog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5715000"/>
          <a:ext cx="106668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715000"/>
                    <a:ext cx="106668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8763120" y="0"/>
          <a:ext cx="1143000" cy="914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763120" y="0"/>
                    <a:ext cx="1143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0"/>
            <a:ext cx="1535760" cy="6824520"/>
            <a:chOff x="0" y="0"/>
            <a:chExt cx="1535760" cy="6824520"/>
          </a:xfrm>
        </p:grpSpPr>
        <p:sp>
          <p:nvSpPr>
            <p:cNvPr id="169" name=""/>
            <p:cNvSpPr/>
            <p:nvPr/>
          </p:nvSpPr>
          <p:spPr>
            <a:xfrm>
              <a:off x="0" y="0"/>
              <a:ext cx="1066680" cy="682452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28600" y="539640"/>
              <a:ext cx="1307160" cy="677880"/>
              <a:chOff x="228600" y="539640"/>
              <a:chExt cx="1307160" cy="677880"/>
            </a:xfrm>
          </p:grpSpPr>
          <p:graphicFrame>
            <p:nvGraphicFramePr>
              <p:cNvPr id="171" name=""/>
              <p:cNvGraphicFramePr/>
              <p:nvPr/>
            </p:nvGraphicFramePr>
            <p:xfrm>
              <a:off x="311040" y="585720"/>
              <a:ext cx="1212840" cy="631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7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1040" y="585720"/>
                        <a:ext cx="1212840" cy="631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3" name=""/>
              <p:cNvSpPr/>
              <p:nvPr/>
            </p:nvSpPr>
            <p:spPr>
              <a:xfrm rot="1680000">
                <a:off x="1355400" y="795240"/>
                <a:ext cx="88920" cy="411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8600" y="539640"/>
                <a:ext cx="676440" cy="92160"/>
              </a:xfrm>
              <a:prstGeom prst="rect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5" name="" descr=""/>
            <p:cNvPicPr/>
            <p:nvPr/>
          </p:nvPicPr>
          <p:blipFill>
            <a:blip r:embed="rId3"/>
            <a:stretch/>
          </p:blipFill>
          <p:spPr>
            <a:xfrm>
              <a:off x="58680" y="6248520"/>
              <a:ext cx="976320" cy="44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"/>
          <p:cNvSpPr/>
          <p:nvPr/>
        </p:nvSpPr>
        <p:spPr>
          <a:xfrm>
            <a:off x="1523880" y="12193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62485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760600" y="6248520"/>
            <a:ext cx="100188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ril 9-11, 2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54360" y="293760"/>
            <a:ext cx="7670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sv-SE" sz="2400" spc="-1" strike="noStrike">
                <a:solidFill>
                  <a:srgbClr val="00279f"/>
                </a:solidFill>
                <a:latin typeface="Britannic Bold"/>
              </a:rPr>
              <a:t>Colloquium on Environmental Aspects of A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16765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457200" y="1676520"/>
            <a:ext cx="10363320" cy="29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y forwar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llenge after 2002 - welcome CAEP/5                             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recommendation, but it will not even stabilise the 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position at major airpor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1535760" cy="6824520"/>
            <a:chOff x="0" y="0"/>
            <a:chExt cx="1535760" cy="6824520"/>
          </a:xfrm>
        </p:grpSpPr>
        <p:sp>
          <p:nvSpPr>
            <p:cNvPr id="183" name=""/>
            <p:cNvSpPr/>
            <p:nvPr/>
          </p:nvSpPr>
          <p:spPr>
            <a:xfrm>
              <a:off x="0" y="0"/>
              <a:ext cx="1066680" cy="682452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28600" y="539640"/>
              <a:ext cx="1307160" cy="677880"/>
              <a:chOff x="228600" y="539640"/>
              <a:chExt cx="1307160" cy="677880"/>
            </a:xfrm>
          </p:grpSpPr>
          <p:graphicFrame>
            <p:nvGraphicFramePr>
              <p:cNvPr id="185" name=""/>
              <p:cNvGraphicFramePr/>
              <p:nvPr/>
            </p:nvGraphicFramePr>
            <p:xfrm>
              <a:off x="311040" y="585720"/>
              <a:ext cx="1212840" cy="631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8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1040" y="585720"/>
                        <a:ext cx="1212840" cy="631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7" name=""/>
              <p:cNvSpPr/>
              <p:nvPr/>
            </p:nvSpPr>
            <p:spPr>
              <a:xfrm rot="1680000">
                <a:off x="1355400" y="795240"/>
                <a:ext cx="88920" cy="411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8600" y="539640"/>
                <a:ext cx="676440" cy="92160"/>
              </a:xfrm>
              <a:prstGeom prst="rect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58680" y="6248520"/>
              <a:ext cx="976320" cy="44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1523880" y="12193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62485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0600" y="6324480"/>
            <a:ext cx="10018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ril 9-11, 2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54360" y="293760"/>
            <a:ext cx="7670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sv-SE" sz="2400" spc="-1" strike="noStrike">
                <a:solidFill>
                  <a:srgbClr val="00279f"/>
                </a:solidFill>
                <a:latin typeface="Britannic Bold"/>
              </a:rPr>
              <a:t>Colloquium on Environmental Aspects of A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6765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295280"/>
            <a:ext cx="9906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y forwar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ICAO can help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to tackle growth of contours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eed operating restrictions against marginal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hapter 3 aircraf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rmonised arrangements preferred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lternative of proliferation of local rules would b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unwelcome to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strengthen the influence of standards on desig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cognise these will be longer  term benefit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ut can our industry needs quiet evolution an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wait another 20-30 years f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1066680" cy="68245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28600" y="539640"/>
            <a:ext cx="1307160" cy="677880"/>
            <a:chOff x="228600" y="539640"/>
            <a:chExt cx="1307160" cy="677880"/>
          </a:xfrm>
        </p:grpSpPr>
        <p:graphicFrame>
          <p:nvGraphicFramePr>
            <p:cNvPr id="198" name=""/>
            <p:cNvGraphicFramePr/>
            <p:nvPr/>
          </p:nvGraphicFramePr>
          <p:xfrm>
            <a:off x="311040" y="585720"/>
            <a:ext cx="1212840" cy="63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1040" y="585720"/>
                      <a:ext cx="121284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 rot="1680000">
              <a:off x="1355400" y="795240"/>
              <a:ext cx="88920" cy="41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8600" y="539640"/>
              <a:ext cx="676440" cy="9216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8680" y="6248520"/>
            <a:ext cx="976320" cy="4474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523880" y="12193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62485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686800" y="6248520"/>
            <a:ext cx="996840" cy="4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ril 9-11, 2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54360" y="293760"/>
            <a:ext cx="7670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sv-SE" sz="2400" spc="-1" strike="noStrike">
                <a:solidFill>
                  <a:srgbClr val="00279f"/>
                </a:solidFill>
                <a:latin typeface="Britannic Bold"/>
              </a:rPr>
              <a:t>Colloquium on Environmental Aspects of A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16765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600200"/>
            <a:ext cx="9906120" cy="30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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llective probl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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ainability key to the development of avia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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 of the industry demands continuing effort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on noi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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 ready to play its part through negotiations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and technical work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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AO has important potential contributions: on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tandards and operating restri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0"/>
            <a:ext cx="1535760" cy="6824520"/>
            <a:chOff x="0" y="0"/>
            <a:chExt cx="1535760" cy="6824520"/>
          </a:xfrm>
        </p:grpSpPr>
        <p:sp>
          <p:nvSpPr>
            <p:cNvPr id="55" name=""/>
            <p:cNvSpPr/>
            <p:nvPr/>
          </p:nvSpPr>
          <p:spPr>
            <a:xfrm>
              <a:off x="0" y="0"/>
              <a:ext cx="1066680" cy="682452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28600" y="539640"/>
              <a:ext cx="1307160" cy="677880"/>
              <a:chOff x="228600" y="539640"/>
              <a:chExt cx="1307160" cy="677880"/>
            </a:xfrm>
          </p:grpSpPr>
          <p:graphicFrame>
            <p:nvGraphicFramePr>
              <p:cNvPr id="57" name=""/>
              <p:cNvGraphicFramePr/>
              <p:nvPr/>
            </p:nvGraphicFramePr>
            <p:xfrm>
              <a:off x="311040" y="585720"/>
              <a:ext cx="1212840" cy="631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1040" y="585720"/>
                        <a:ext cx="1212840" cy="631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9" name=""/>
              <p:cNvSpPr/>
              <p:nvPr/>
            </p:nvSpPr>
            <p:spPr>
              <a:xfrm rot="1680000">
                <a:off x="1355400" y="795240"/>
                <a:ext cx="88920" cy="411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600" y="539640"/>
                <a:ext cx="676440" cy="92160"/>
              </a:xfrm>
              <a:prstGeom prst="rect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8680" y="6248520"/>
              <a:ext cx="976320" cy="44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1523880" y="12193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62485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760600" y="6248520"/>
            <a:ext cx="99756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ril 9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1, 2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54360" y="293760"/>
            <a:ext cx="7670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sv-SE" sz="2400" spc="-1" strike="noStrike">
                <a:solidFill>
                  <a:srgbClr val="00279f"/>
                </a:solidFill>
                <a:latin typeface="Britannic Bold"/>
              </a:rPr>
              <a:t>Colloquium on Environmental Aspects of A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16765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217600"/>
            <a:ext cx="990612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Environmental context in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Current policy and impact at our airpor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Challenge for the fu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Way forwar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0"/>
            <a:ext cx="1535760" cy="6824520"/>
            <a:chOff x="0" y="0"/>
            <a:chExt cx="1535760" cy="682452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1066680" cy="682452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28600" y="539640"/>
              <a:ext cx="1307160" cy="677880"/>
              <a:chOff x="228600" y="539640"/>
              <a:chExt cx="1307160" cy="677880"/>
            </a:xfrm>
          </p:grpSpPr>
          <p:graphicFrame>
            <p:nvGraphicFramePr>
              <p:cNvPr id="71" name=""/>
              <p:cNvGraphicFramePr/>
              <p:nvPr/>
            </p:nvGraphicFramePr>
            <p:xfrm>
              <a:off x="311040" y="585720"/>
              <a:ext cx="1212840" cy="631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1040" y="585720"/>
                        <a:ext cx="1212840" cy="631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" name=""/>
              <p:cNvSpPr/>
              <p:nvPr/>
            </p:nvSpPr>
            <p:spPr>
              <a:xfrm rot="1680000">
                <a:off x="1355400" y="795240"/>
                <a:ext cx="88920" cy="411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28600" y="539640"/>
                <a:ext cx="676440" cy="92160"/>
              </a:xfrm>
              <a:prstGeom prst="rect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58680" y="6248160"/>
              <a:ext cx="976320" cy="44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1523880" y="12193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62485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760600" y="6248520"/>
            <a:ext cx="100188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ril 9-11, 2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4360" y="293760"/>
            <a:ext cx="7670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sv-SE" sz="2400" spc="-1" strike="noStrike">
                <a:solidFill>
                  <a:srgbClr val="00279f"/>
                </a:solidFill>
                <a:latin typeface="Britannic Bold"/>
              </a:rPr>
              <a:t>Colloquium on Environmental Aspects of A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16765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217600"/>
            <a:ext cx="990612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Environmental context in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26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Population densi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Symbol"/>
                <a:ea typeface="Symbol"/>
              </a:rPr>
              <a:t>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Demands for air traffic and environmental prot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Symbol"/>
                <a:ea typeface="Symbol"/>
              </a:rPr>
              <a:t>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Sustainable development of transpor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Symbol"/>
                <a:ea typeface="Symbol"/>
              </a:rPr>
              <a:t>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Action to tackle noise from all mod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Symbol"/>
                <a:ea typeface="Symbol"/>
              </a:rPr>
              <a:t>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Measures on aircraft noi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1535760" cy="6824520"/>
            <a:chOff x="0" y="0"/>
            <a:chExt cx="1535760" cy="682452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1066680" cy="682452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228600" y="539640"/>
              <a:ext cx="1307160" cy="677880"/>
              <a:chOff x="228600" y="539640"/>
              <a:chExt cx="1307160" cy="677880"/>
            </a:xfrm>
          </p:grpSpPr>
          <p:graphicFrame>
            <p:nvGraphicFramePr>
              <p:cNvPr id="85" name=""/>
              <p:cNvGraphicFramePr/>
              <p:nvPr/>
            </p:nvGraphicFramePr>
            <p:xfrm>
              <a:off x="311040" y="585720"/>
              <a:ext cx="1212840" cy="631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1040" y="585720"/>
                        <a:ext cx="1212840" cy="631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7" name=""/>
              <p:cNvSpPr/>
              <p:nvPr/>
            </p:nvSpPr>
            <p:spPr>
              <a:xfrm rot="1680000">
                <a:off x="1355400" y="795240"/>
                <a:ext cx="88920" cy="411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8600" y="539640"/>
                <a:ext cx="676440" cy="92160"/>
              </a:xfrm>
              <a:prstGeom prst="rect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58680" y="6248520"/>
              <a:ext cx="976320" cy="44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1523880" y="12193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62485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760600" y="6248520"/>
            <a:ext cx="100188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ril 9-11, 2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54360" y="293760"/>
            <a:ext cx="7670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sv-SE" sz="2400" spc="-1" strike="noStrike">
                <a:solidFill>
                  <a:srgbClr val="00279f"/>
                </a:solidFill>
                <a:latin typeface="Britannic Bold"/>
              </a:rPr>
              <a:t>Colloquium on Environmental Aspects of A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16765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219320"/>
            <a:ext cx="9906120" cy="67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Current policy and impact at our airports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Symbol"/>
                <a:ea typeface="Symbol"/>
              </a:rPr>
              <a:t>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ECAC goal stabilise or reduce numbers of people affec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Symbol"/>
                <a:ea typeface="Symbol"/>
              </a:rPr>
              <a:t>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Measures from the “balanced programme” already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- follow ICAO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- noise abatement procedures widely appl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- land-use planning measures highly develo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- led to successfully negotiating agreement for Chapter 2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 operating restrictions, and European industry has invested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 wisely in its future to deliver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v-SE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harging to provide additional incentives with common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    European framework developed, based on certifica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1535760" cy="6824520"/>
            <a:chOff x="0" y="0"/>
            <a:chExt cx="1535760" cy="6824520"/>
          </a:xfrm>
        </p:grpSpPr>
        <p:sp>
          <p:nvSpPr>
            <p:cNvPr id="97" name=""/>
            <p:cNvSpPr/>
            <p:nvPr/>
          </p:nvSpPr>
          <p:spPr>
            <a:xfrm>
              <a:off x="0" y="0"/>
              <a:ext cx="1066680" cy="682452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228600" y="539640"/>
              <a:ext cx="1307160" cy="677880"/>
              <a:chOff x="228600" y="539640"/>
              <a:chExt cx="1307160" cy="677880"/>
            </a:xfrm>
          </p:grpSpPr>
          <p:graphicFrame>
            <p:nvGraphicFramePr>
              <p:cNvPr id="99" name=""/>
              <p:cNvGraphicFramePr/>
              <p:nvPr/>
            </p:nvGraphicFramePr>
            <p:xfrm>
              <a:off x="311040" y="585720"/>
              <a:ext cx="1212840" cy="631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1040" y="585720"/>
                        <a:ext cx="1212840" cy="631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1" name=""/>
              <p:cNvSpPr/>
              <p:nvPr/>
            </p:nvSpPr>
            <p:spPr>
              <a:xfrm rot="1680000">
                <a:off x="1355400" y="795240"/>
                <a:ext cx="88920" cy="411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600" y="539640"/>
                <a:ext cx="676440" cy="92160"/>
              </a:xfrm>
              <a:prstGeom prst="rect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58680" y="6248520"/>
              <a:ext cx="976320" cy="44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1523880" y="12193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62485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684280" y="6248520"/>
            <a:ext cx="100188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ril 9-11, 2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54360" y="293760"/>
            <a:ext cx="7670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sv-SE" sz="2400" spc="-1" strike="noStrike">
                <a:solidFill>
                  <a:srgbClr val="00279f"/>
                </a:solidFill>
                <a:latin typeface="Britannic Bold"/>
              </a:rPr>
              <a:t>Colloquium on Environmental Aspects of A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16765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752480"/>
            <a:ext cx="990612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policy and impact at our airport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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ed major reductions in size of noise contours an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number of people aff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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improvements expected through to 200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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owth in numbers of flights and number of passenger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lready difficult to accommodat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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ing demand for maintaining and improving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environmental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1535760" cy="6824520"/>
            <a:chOff x="0" y="0"/>
            <a:chExt cx="1535760" cy="682452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1066680" cy="682452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28600" y="539640"/>
              <a:ext cx="1307160" cy="677880"/>
              <a:chOff x="228600" y="539640"/>
              <a:chExt cx="1307160" cy="677880"/>
            </a:xfrm>
          </p:grpSpPr>
          <p:graphicFrame>
            <p:nvGraphicFramePr>
              <p:cNvPr id="113" name=""/>
              <p:cNvGraphicFramePr/>
              <p:nvPr/>
            </p:nvGraphicFramePr>
            <p:xfrm>
              <a:off x="311040" y="585720"/>
              <a:ext cx="1212840" cy="631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1040" y="585720"/>
                        <a:ext cx="1212840" cy="631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5" name=""/>
              <p:cNvSpPr/>
              <p:nvPr/>
            </p:nvSpPr>
            <p:spPr>
              <a:xfrm rot="1680000">
                <a:off x="1355400" y="795240"/>
                <a:ext cx="88920" cy="411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600" y="539640"/>
                <a:ext cx="676440" cy="92160"/>
              </a:xfrm>
              <a:prstGeom prst="rect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58680" y="6248520"/>
              <a:ext cx="976320" cy="44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1523880" y="12193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62485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08320" y="6248520"/>
            <a:ext cx="100188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ril 9-11, 2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54360" y="293760"/>
            <a:ext cx="7670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sv-SE" sz="2400" spc="-1" strike="noStrike">
                <a:solidFill>
                  <a:srgbClr val="00279f"/>
                </a:solidFill>
                <a:latin typeface="Britannic Bold"/>
              </a:rPr>
              <a:t>Colloquium on Environmental Aspects of A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16765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217600"/>
            <a:ext cx="9906120" cy="24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 for the futur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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 set to grow at 4% per annum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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“Constraints to growth” study (2001) confirms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ritical position over airport capac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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of Chapter 2 phase-out likely to be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heavily erod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1535760" cy="6824520"/>
            <a:chOff x="0" y="0"/>
            <a:chExt cx="1535760" cy="682452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1066680" cy="682452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228600" y="539640"/>
              <a:ext cx="1307160" cy="677880"/>
              <a:chOff x="228600" y="539640"/>
              <a:chExt cx="1307160" cy="677880"/>
            </a:xfrm>
          </p:grpSpPr>
          <p:graphicFrame>
            <p:nvGraphicFramePr>
              <p:cNvPr id="127" name=""/>
              <p:cNvGraphicFramePr/>
              <p:nvPr/>
            </p:nvGraphicFramePr>
            <p:xfrm>
              <a:off x="311040" y="585720"/>
              <a:ext cx="1212840" cy="631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1040" y="585720"/>
                        <a:ext cx="1212840" cy="631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9" name=""/>
              <p:cNvSpPr/>
              <p:nvPr/>
            </p:nvSpPr>
            <p:spPr>
              <a:xfrm rot="1680000">
                <a:off x="1355400" y="795240"/>
                <a:ext cx="88920" cy="411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28600" y="539640"/>
                <a:ext cx="676440" cy="92160"/>
              </a:xfrm>
              <a:prstGeom prst="rect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58680" y="6248520"/>
              <a:ext cx="976320" cy="44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1523880" y="12193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62485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760600" y="6248520"/>
            <a:ext cx="100188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ril 9-11, 2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304920"/>
            <a:ext cx="7670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sv-SE" sz="2400" spc="-1" strike="noStrike">
                <a:solidFill>
                  <a:srgbClr val="00279f"/>
                </a:solidFill>
                <a:latin typeface="Britannic Bold"/>
              </a:rPr>
              <a:t>Colloquium on Environmental Aspects of A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6765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217600"/>
            <a:ext cx="990612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990720" y="1295280"/>
            <a:ext cx="891540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1535760" cy="6824520"/>
            <a:chOff x="0" y="0"/>
            <a:chExt cx="1535760" cy="682452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1066680" cy="682452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28600" y="539640"/>
              <a:ext cx="1307160" cy="677880"/>
              <a:chOff x="228600" y="539640"/>
              <a:chExt cx="1307160" cy="677880"/>
            </a:xfrm>
          </p:grpSpPr>
          <p:graphicFrame>
            <p:nvGraphicFramePr>
              <p:cNvPr id="142" name=""/>
              <p:cNvGraphicFramePr/>
              <p:nvPr/>
            </p:nvGraphicFramePr>
            <p:xfrm>
              <a:off x="311040" y="585720"/>
              <a:ext cx="1212840" cy="631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4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1040" y="585720"/>
                        <a:ext cx="1212840" cy="631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4" name=""/>
              <p:cNvSpPr/>
              <p:nvPr/>
            </p:nvSpPr>
            <p:spPr>
              <a:xfrm rot="1680000">
                <a:off x="1355400" y="795240"/>
                <a:ext cx="88920" cy="411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8600" y="539640"/>
                <a:ext cx="676440" cy="92160"/>
              </a:xfrm>
              <a:prstGeom prst="rect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58680" y="6248520"/>
              <a:ext cx="976320" cy="44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"/>
          <p:cNvSpPr/>
          <p:nvPr/>
        </p:nvSpPr>
        <p:spPr>
          <a:xfrm>
            <a:off x="1523880" y="12193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62485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684280" y="6248520"/>
            <a:ext cx="100188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ril 9-11, 2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54360" y="293760"/>
            <a:ext cx="7670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sv-SE" sz="2400" spc="-1" strike="noStrike">
                <a:solidFill>
                  <a:srgbClr val="00279f"/>
                </a:solidFill>
                <a:latin typeface="Britannic Bold"/>
              </a:rPr>
              <a:t>Colloquium on Environmental Aspects of A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16765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217600"/>
            <a:ext cx="990612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143000" y="1143000"/>
            <a:ext cx="85345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0"/>
            <a:ext cx="1535760" cy="6824520"/>
            <a:chOff x="0" y="0"/>
            <a:chExt cx="1535760" cy="6824520"/>
          </a:xfrm>
        </p:grpSpPr>
        <p:sp>
          <p:nvSpPr>
            <p:cNvPr id="155" name=""/>
            <p:cNvSpPr/>
            <p:nvPr/>
          </p:nvSpPr>
          <p:spPr>
            <a:xfrm>
              <a:off x="0" y="0"/>
              <a:ext cx="1066680" cy="682452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228600" y="539640"/>
              <a:ext cx="1307160" cy="677880"/>
              <a:chOff x="228600" y="539640"/>
              <a:chExt cx="1307160" cy="677880"/>
            </a:xfrm>
          </p:grpSpPr>
          <p:graphicFrame>
            <p:nvGraphicFramePr>
              <p:cNvPr id="157" name=""/>
              <p:cNvGraphicFramePr/>
              <p:nvPr/>
            </p:nvGraphicFramePr>
            <p:xfrm>
              <a:off x="311040" y="585720"/>
              <a:ext cx="1212840" cy="631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1040" y="585720"/>
                        <a:ext cx="1212840" cy="631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9" name=""/>
              <p:cNvSpPr/>
              <p:nvPr/>
            </p:nvSpPr>
            <p:spPr>
              <a:xfrm rot="1680000">
                <a:off x="1355400" y="795240"/>
                <a:ext cx="88920" cy="411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8600" y="539640"/>
                <a:ext cx="676440" cy="92160"/>
              </a:xfrm>
              <a:prstGeom prst="rect">
                <a:avLst/>
              </a:prstGeom>
              <a:solidFill>
                <a:srgbClr val="00279f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>
              <a:off x="58680" y="6248520"/>
              <a:ext cx="976320" cy="44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/>
          <p:nvPr/>
        </p:nvSpPr>
        <p:spPr>
          <a:xfrm>
            <a:off x="1523880" y="12193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6248520"/>
            <a:ext cx="8077320" cy="0"/>
          </a:xfrm>
          <a:prstGeom prst="line">
            <a:avLst/>
          </a:prstGeom>
          <a:ln w="25560">
            <a:solidFill>
              <a:srgbClr val="860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608320" y="6248520"/>
            <a:ext cx="10018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ril 9-11, 2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54360" y="293760"/>
            <a:ext cx="7670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r>
              <a:rPr b="0" lang="sv-SE" sz="2400" spc="-1" strike="noStrike">
                <a:solidFill>
                  <a:srgbClr val="00279f"/>
                </a:solidFill>
                <a:latin typeface="Britannic Bold"/>
              </a:rPr>
              <a:t>Colloquium on Environmental Aspects of A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5120"/>
                <a:tab algn="l" pos="1469880"/>
                <a:tab algn="l" pos="2205000"/>
                <a:tab algn="l" pos="2940120"/>
                <a:tab algn="l" pos="3675240"/>
                <a:tab algn="l" pos="4410000"/>
                <a:tab algn="l" pos="5145120"/>
                <a:tab algn="l" pos="5880240"/>
                <a:tab algn="l" pos="6615000"/>
                <a:tab algn="l" pos="7350120"/>
                <a:tab algn="l" pos="8085240"/>
                <a:tab algn="l" pos="8820000"/>
                <a:tab algn="l" pos="9555120"/>
                <a:tab algn="l" pos="10290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16765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217600"/>
            <a:ext cx="9906120" cy="24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 for the futur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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ise, a key issue in developing new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infrastruc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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osts and strong opposition from local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popul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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depends on continuing progress on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noi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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cations for all carri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0:37:10Z</dcterms:created>
  <dc:creator> </dc:creator>
  <dc:description/>
  <dc:language>en-US</dc:language>
  <cp:lastModifiedBy>Susan Joseph</cp:lastModifiedBy>
  <cp:lastPrinted>2001-04-05T17:45:44Z</cp:lastPrinted>
  <dcterms:modified xsi:type="dcterms:W3CDTF">2001-04-05T17:46:01Z</dcterms:modified>
  <cp:revision>13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7200.00000000</vt:lpwstr>
  </property>
  <property fmtid="{D5CDD505-2E9C-101B-9397-08002B2CF9AE}" pid="5" name="Year">
    <vt:lpwstr>2001</vt:lpwstr>
  </property>
</Properties>
</file>