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78A1-F036-49CD-BCAE-5CB5320C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6B2E-E1C5-4E6B-B5DF-1879B2D4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9372-658C-4D2A-A6B0-BB10D1B0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123-0AA3-4074-9476-CEF3B369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377F-F2AA-4BE7-8275-7DB1B30C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1B85-C582-48CA-B526-9F36289C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5B03-0941-43C1-AFED-4F5EE5BD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4728-CA5B-4F2C-96E6-32207FCE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9DF1-1A9F-49B5-8134-4FFC49DA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B548-5C5F-416A-BB95-63DAAE59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D074-9BEE-45AA-9F0E-08CF15BD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ECE2-7B6B-4BB4-BC38-7E791F56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372A-5119-4976-88B3-01B4CE02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2CA7-33B4-4B59-8E5D-BDD0994A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BDB0-CC0E-474D-8C2D-64A9E51F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FE6F-743E-4CCE-8EAE-54660F99F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117B-6B83-40B3-88C2-5605E6AB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8280-8873-461A-A06D-0754B04D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4BD9-3DBA-45F2-A53D-0018B23C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B7F4-B534-447E-9B27-8EAE5D7F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7754-722B-4AE8-A410-E439E37E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90F7-A4B6-4008-97CC-8D9B5192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4581-2F1C-411C-A47D-D8508C03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98D5-26FC-4643-927C-B45B58A9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8D63-4029-4994-B14C-17C8592320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26D6-235E-4629-B438-64AF7B8A5F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AEP Working Group 3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Emissions Technical Issue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bert J. Shu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pporteur WG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LTO Cycl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anding, take-off cycle includes four phases of fligh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od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i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r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e-of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.7 minu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m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2 minu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a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0 minu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xi/ground id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6.0 minu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Alternative Emissions Methodology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ress requirements for calculating emissions for cruise and climb phases of f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performance based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to define “worst case” certification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method to estimate actual emi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Noise Stringenc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G3 was asked to examine the impact of noise stringency on emissions from air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ly more modern aircraft are more efficient (High bypass rati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gressive noise reduction could lead to increased emi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nclusions Presented to CAEP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to review the validity of the existing LTO emissions certification reg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 progress has been made on alternate emissions methodology and long term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and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changes to Annex 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G3 Future Work Program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 current LTO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AEM ta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long term technology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s technology adv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tor atmospheric 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estigate new NOx stand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pose production cut-off for CAEP/4 st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G 3 Responsibilitie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standards for aircraft engine emi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 the methodology for these stand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 measurement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 changes to Annex 16,Volume II to the Convention on International Aviation, Aircraft Engine Emi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New Standard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ICAO principles for new standards 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al ne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ically achiev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Environmental Problem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nd level pol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obal climate change (Kyoto Protoco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wth of av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Determining the Environmental Need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arch Focal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al Point on Liai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rport Air Quality Stu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PCC Re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yoto Acc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Aviation Technolog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ufacturer’s brief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% improvement in aircraft efficiency between 1997 and 20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x reductions 30-50% below CAEP/2 limits by 20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issions reductions from advanced engine technology are not sufficient to counteract the projected growth of av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Long Term Emissions Technology Goal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ask group has initiated work towards longer term framework of technology goals to reduce emi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ing the relationship between ICAO standards and technology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lieve that the development of emissions forecasting tools for aviation is ICAO’s respons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Regulated Emission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eous emis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burned hydrocarbons (H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on monoxide (C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xides of nitrogen (NO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arbon Dioxide (CO</a:t>
            </a:r>
            <a:r>
              <a:rPr b="0" lang="en-US" sz="4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)Standard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G3 was asked to consider a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and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missions are directly related to fuel bu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el efficiency is already high as a result of market economic press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int certification for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uld drive manufacturers to meet compliance for this point at the expense of the overall missions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Lamanns</dc:creator>
  <dc:description/>
  <dc:language>en-US</dc:language>
  <cp:lastModifiedBy>PC0314 ICAO</cp:lastModifiedBy>
  <dcterms:modified xsi:type="dcterms:W3CDTF">2001-04-09T12:45:21Z</dcterms:modified>
  <cp:revision>4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96900.00000000</vt:lpwstr>
  </property>
  <property fmtid="{D5CDD505-2E9C-101B-9397-08002B2CF9AE}" pid="5" name="Year">
    <vt:lpwstr>2001</vt:lpwstr>
  </property>
</Properties>
</file>