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75A-5644-4B1D-9F82-8906E4DD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B4FE-1517-4F30-BB9A-73E3B5BC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3AB-893C-4EC9-B729-EACCF185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834-2E2D-43DB-862F-03D85815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D19-01CD-432B-804F-67F8E5B1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92C-1F97-498F-9C8B-A5AF4BCC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2DB-A882-4EB9-9702-A52D40D0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DB6-EB0F-46E7-92C3-519808F1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553-06C3-4ECB-8029-DD0E6E8F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93E-1550-454F-8A62-DB161660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E10-EDFA-466B-A673-28982DFB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75C-321D-4C07-ADE3-4D042463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91AB-AE60-4DAA-8333-9EB41C600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-Based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 WG 5 Co-Rapporteu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hen Se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hael Ross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AO Environmental Colloqu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9-11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EP 5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emissions trading -- cost effective solution in the long term tied to Kyoto entry into fo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 work needed to develop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ntary mechanisms -- could be a first step to encourage near-term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delines should be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ies -- further studies and guidance should be developed for consideration in shorter te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EP 5 Conclus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s on developing countries of market-based measures needs to be fully consi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work looked at: global application; developed countries only; and flights to and from developed 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 analys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er developing country participation encourag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Elements of an Assembly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continued work by Council to develop policy direction for States and to develop concrete propos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Voluntary Mechanism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short-term actions to limit or reduce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cil to facilitate action by developing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Elements of Resol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Emissions-Related lev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 existing ICAO guidance (9 Dec 19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ge Council to carry out further studies and develop further gui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ges should be based on cost of mitigating environmental impacts of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Assembly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missions Tr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an open emissions trading regime would aim for first commitment period (2008-2012) subject to entry into force of Kyo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Council to develop urgently the guidelines for open emissions tr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emissions from aviation need to be addres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market-based measures and why are they attract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key conclusions from CAEP’s work to d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next steps?-- draft elements of a resolution on next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s for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viation and the Global At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PCC, 1999)  assesses aviation’s contribution to climate chan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iation currently 2% of global CO2 emissions and 3.5% of radiative fo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ed emissions growth of 3% annua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ssions growth exceeds likely progress in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missions (Nox, contrails and cirrus cloud formation) could also play a significant role but science more uncerta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FCCC and Kyoto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work Convention agreed to in 1992 and entered into force on 21 March 199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ion of greenhouse gas concentrations at a level that would prevent dangerous anthropogenic interference with the climate system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yoto Protocol -- agreed to in 1997, but has not entered into for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nations to reduce ghg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iation bunker fuels to be limited or reduced through IC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nds to A-32 Man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s on the Council “….to maintain the initiative in developing policy guidance on all aviation matters related to the environment…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s for the Council through CAEP “...to study policy options to limit or reduce the greenhouse gas emissions from civil aviation…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s the Council to refine the guidance on emission-related lev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rket-Based Meas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le than traditional certification standards -- lets the marke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price signals -- internalizes environmental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incentive for technological in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to minimize costs of achieving re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ted into Kyoto Protocol to reduce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-Based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axes and Char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y could be placed on amount of fuel or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x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venue goes to national treas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venue used to defray the costs of providing facilities and services for civil a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costs provide incentive to reduce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esigned to be “revenue-neutr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at airports in Sweden and Switzerland for local air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-Based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EMISSIONS TR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s cap for total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ms can reduce emissions beyond what is required and sell “excess reductions”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less than required and buy excess reductions from oth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hieves reductions at lowest possible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ted into Kyoto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US to control acid rain at much lower cost than traditional stand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 across sectors (open) v. trading within aviation (clo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-Based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Voluntary Initi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untary agreements to reduce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set either emissions or efficiency target and/or identify menu of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legally enforceable, but typically requires periodic reporting of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duce ghg emissions in some sectors in US, Netherlands, Canada, UK, EU and Austral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16:01:59Z</dcterms:created>
  <dc:creator>EPA</dc:creator>
  <dc:description/>
  <dc:language>en-US</dc:language>
  <cp:lastModifiedBy>Susan Joseph</cp:lastModifiedBy>
  <dcterms:modified xsi:type="dcterms:W3CDTF">2001-03-28T16:26:44Z</dcterms:modified>
  <cp:revision>11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6600.00000000</vt:lpwstr>
  </property>
  <property fmtid="{D5CDD505-2E9C-101B-9397-08002B2CF9AE}" pid="5" name="Year">
    <vt:lpwstr>2001</vt:lpwstr>
  </property>
</Properties>
</file>