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0F7-EA6B-4B2E-BC35-454A6A62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C6BB-6B15-477C-94E8-92691129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489-8F5B-49F1-A361-AB3D8130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CF95-29DF-4684-866D-62310110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4D7-7EFE-4B3C-B9AE-60064823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BE9-6591-4D6B-B101-FFFA681D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66B-76A6-4FAB-BF3D-3E7437A1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6331-4A81-447B-BAF1-CEFC9E9C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1446-8A29-4A27-B8F9-13BA8A9A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C38-9035-44B5-A3C2-C8E21FDF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2E63-78F3-4240-89E6-9D1FE075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3B5-AD06-4D6F-A27D-7B971FFC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BE18-0DBD-4B0A-AF1E-F0F006502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-Based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WG 5 Co-Rapporteu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hen Sei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hael Ross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AO Environmental Colloqu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il 9-11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EP 5 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emissions trading -- cost effective solution in the long term tied to Kyoto entry into fo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 work needed to develop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ary mechanisms -- could be a first step to encourage near-term 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delines should be develo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ies -- further studies and guidance should be developed for consideration in shorter ter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EP 5 Conclus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s on developing countries of market-based measures needs to be fully consid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work looked at: global application; developed countries only; and flights to and from developed  count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rther analys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er developing country participation encourag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Elements of an Assembly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continued work by Council to develop policy direction for States and to develop concrete propos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Voluntary Mechanism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short-term actions to limit or reduce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cil to facilitate action by developing guidel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-2124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Elements of Resolu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missions-Related lev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rm existing ICAO guidance (9 Dec 199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ge Council to carry out further studies and develop further gu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ges should be based on cost of mitigating environmental impacts of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ft Assembly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Emissions Tr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of an open emissions trading regime would aim for first commitment period (2008-2012) subject to entry into force of Kyo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Council to develop urgently the guidelines for open emissions tr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emissions from aviation need to be addres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market-based measures and why are they attractiv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key conclusions from CAEP’s work to d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next steps?-- draft elements of a resolution on next st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s for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viation and the Global Atmosphe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PCC, 1999)  assesses aviation’s contribution to climate chang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iation currently 2% of global CO2 emissions and 3.5% of radiative fo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ed emissions growth of 3% annual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ssions growth exceeds likely progress in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missions (Nox, contrails and cirrus cloud formation) could also play a significant role but science more uncerta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FCCC and Kyoto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mework Convention agreed to in 1992 and entered into force on 21 March 199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ilization of greenhouse gas concentrations at a level that would prevent dangerous anthropogenic interference with the climate system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oto Protocol -- agreed to in 1997, but has not entered into for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nations to reduce ghg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iation bunker fuels to be limited or reduced through IC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nds to A-32 Mand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on the Council “….to maintain the initiative in developing policy guidance on all aviation matters related to the environment…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for the Council through CAEP “...to study policy options to limit or reduce the greenhouse gas emissions from civil aviation…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s the Council to refine the guidance on emission-related lev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rket-Based Meas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lexible than traditional certification standards -- lets the marke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price signals -- internalizes environmental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incentive for technological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to minimize costs of achieving redu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ted into Kyoto Protocol to reduce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-Based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axes and Char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y could be placed on amount of fuel or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venue goes to national treasu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ar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revenue used to defray the costs of providing facilities and services for civil a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costs provide incentive to reduce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esigned to be “revenue-neutr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at airports in Sweden and Switzerland for local air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-Based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MISSIONS TR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s cap for total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ms can reduce emissions beyond what is required and sell “excess reductions” 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less than required and buy excess reductions from oth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es reductions at lowest possible c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rporated into Kyoto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in US to control acid rain at much lower cost than traditional 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ing across sectors (open) v. trading within aviation (clo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-Based Meas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Voluntary Initi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ntary agreements to reduce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set either emissions or efficiency target and/or identify menu of 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legally enforceable, but typically requires periodic reporting of 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duce ghg emissions in some sectors in US, Netherlands, Canada, UK, EU and Austral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16:01:59Z</dcterms:created>
  <dc:creator>EPA</dc:creator>
  <dc:description/>
  <dc:language>en-US</dc:language>
  <cp:lastModifiedBy>Susan Joseph</cp:lastModifiedBy>
  <dcterms:modified xsi:type="dcterms:W3CDTF">2001-03-28T16:26:44Z</dcterms:modified>
  <cp:revision>11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6600.00000000</vt:lpwstr>
  </property>
  <property fmtid="{D5CDD505-2E9C-101B-9397-08002B2CF9AE}" pid="5" name="Year">
    <vt:lpwstr>2001</vt:lpwstr>
  </property>
</Properties>
</file>